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B631-28AA-44EA-B259-A83E8B7C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3F77-6554-4E75-A97C-1F710481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3694F-3444-4733-A331-2CA0FBB0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5A506-7E86-49BB-8464-81B5300B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75510-359E-487E-B0BE-B75B57CD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14E51-FB14-4550-969E-A6441906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B1555-C328-4D41-9BB5-1378A764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FBABA-A57C-46D7-8B34-50347F83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29E43-941A-4499-8248-FE5BF90E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0B1D7-350D-4928-849B-D956C346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AB074-803F-40A7-BC7C-27619931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B33A2-02D0-40F2-878F-18FFAB69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016-EB60-4413-9566-A0E274BA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ABCB7-81C5-47B3-9AF6-55FF52B6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04415-16F0-4E14-9EAC-4ED2CA73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84C84-E50C-4E49-90F5-299F86AE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D7112-6327-41C5-A0B4-ED02821C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67815-FD12-45C0-A21F-015296C8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12F34-1DFE-4616-B7C0-953EB1D2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5D777-DF86-450F-8DAE-CEF50431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8C2F2-E18F-4FD5-8F6B-934B9F11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72237-AAFE-466D-B7C6-B9DF5105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8C676-471C-4441-BBF0-D271AE31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1ED-DB43-4ABC-94E4-CB5F5F65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160D7-75B2-4FF9-8D18-2834A8DB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9E312-AA13-425D-88E5-105CE568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CE4CC-6E71-4752-A140-AD1E30D1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D4984-1724-4749-B494-6DF4B5AB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A4695-6C1B-4FD2-B0B9-017B4329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9C10D-1D52-4D4A-BC94-18330E5B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EFBD0-7AFC-493C-8B98-AC427513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78789-6E94-47D5-90AB-BBBD7239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76367-D42A-4FB5-B01B-16BFCDB4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967A2-96FB-4AA0-B9D9-0976B72A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AF12-562D-47D1-A946-DFECE669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FAEF8-61E4-480D-85F4-8F7ED05A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D9080-528D-4E14-9B34-B8923828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1A16B-A4B3-4EE7-8029-8C9AE013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E8B41-0864-4FE1-8893-4A876F16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CC07A-A1CD-4896-8F82-E7F295E0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67D4D-A526-4740-91C1-489A7493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ACBDA-2B71-433A-8FD3-9D3903DE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E2549-0963-4BFC-9440-0C8E9B56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E8A58-15DB-4839-8388-9B4D35D2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1BA56-A69A-4578-9A67-7FE9ABAD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DCF1-B2EC-4971-9C8D-34CA6D57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C42D6-C789-4F1B-BEE3-C50677AB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B29FE-D14F-4602-84DB-3962B92E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41032-5194-4FFF-B372-75569EA5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0C697-0ACD-4A4E-B4BE-28EDD2A3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09FE9-8F7C-4952-A977-B3FDA66B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5E14D-722D-4000-9768-EB8A49E2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FCFCA-4E48-43DA-AE40-21B9C04E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E53D9-0AB3-4ECD-9490-ABAC945B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D0F42-8CC0-48BB-922E-80B18796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10800-DDF4-481C-92A2-217869EA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7DC3-C3D8-48DD-9935-9DD49C8C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B85A8-07A5-426B-9099-B2766026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BFB18-0142-48BC-9148-F21A239B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07B01-0300-448B-925A-50118A34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74DEC-AC02-4381-893A-B67C6792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D5298-9D41-42D4-A001-3722EB5B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96F63-3F84-4090-B73D-68ED0D58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949FE-170B-4BDE-BD86-C71E4D49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A817D-C931-4E84-9AB2-80072267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3666C-7AB8-42F0-AACD-E807EC22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A6EAE-4209-4409-B0A3-8913FA32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58F0-7F10-460D-AEE8-290A73A6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FC954-29AE-4F78-AC5F-DB92295F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CF5EC-B484-4EC7-9761-59DA7A94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AA98F-D4FA-4FEB-9815-08068B9D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F9296-E812-40EB-B1C0-6684B6EB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7B6A6-8B55-486D-A438-64295148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144A0-5CF5-4BB2-BE7F-F8BB7C9B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712F7-FD03-476E-AFA8-3BEBAC80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D606D-999D-4A79-B1A7-ADC42407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EF426-373C-4C1E-9861-6246B01A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1EDFBF-6DF0-4661-8863-CD68B8C3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40CD-1161-42ED-9EAB-163EF0C1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53DA2-F78C-40FE-ABA5-AD3021F7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364611-96C8-4692-BEAB-646C56FA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48ABE3-20BE-41DE-AEF3-B49D34CF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02B345-005E-4523-A319-44CD426B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D1AFD-4775-499C-8D69-399214E0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64B09-B672-47A1-9F56-1A090639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C2D40F-FC16-4B46-8F5B-70B33552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9C641-5BA3-4BE1-BC1E-9281A428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9D7C1-662E-41D6-B910-7E4400B1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798534-531A-4F1A-ACFD-F66140BD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71ED-8CCA-4D68-BB42-39EFED54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95141C-275A-4787-A2CC-830DD7A9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2BA97-5856-4850-8FF7-7F145063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BCE56E-B735-4A13-988F-4E48C103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897BD-C1FC-4D76-8BCA-60F153C8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23A64-4F0B-487C-9A1D-A91B09A9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73EB0-FFCB-4816-B540-ADD95E57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6C1BF-520A-41CA-8345-FE5992A3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2AD1C-1F80-4DFA-858C-B5DC011E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B4781-8290-4FC2-A614-7523A5DC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19D4A-9A83-49EE-AE4F-CACDF791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D9C5-BEA5-4A87-8A88-E87D7C99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6BE17F-B9C8-44F9-A5F2-DCC43E99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61AE39-DFAD-47BC-8F20-1A1D7E7A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A114EF-C200-45B9-BC91-8F1E1D07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E014E-F20C-422E-B93B-1AF1B2D3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D48C39-D237-4418-8186-191ADE98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1E6A0-9932-468E-999F-EA8FD5AF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10CFF1-C882-4CF1-B24F-2B3F6A7F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D3F51-437E-47F3-B4B0-DA9E19D9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547C66-88B3-4EE8-8519-19806725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05C50A-7C1E-4309-A867-B96347C9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B1D-CAFD-4669-BBD6-E15B2CE0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C6EE-FAEC-4413-9A3B-B5CBEDCB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5E33A-E50E-48E1-AA5B-BF235AD2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C122A9-14C7-48E3-A549-83003302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5E805-32ED-4B5C-BED3-E5B90712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BB297-7EA6-4707-9794-EFF27639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BE80EC-DBD3-43E9-8FFC-74804E22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2BC5B6-B12E-44AF-962F-B416C3D3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987534-3BDD-401F-9DC6-8D1617A0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82FD16-2F20-4668-B092-4C40F19D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B61FA-D334-48EB-9713-ACA59194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A8172F-C2B5-4E9B-8BE3-4683518D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4C8E-59B2-4C4D-958E-B3D3081C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AEE407-01EC-42FE-86DB-98E520E1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99938E-F39B-43BB-9AD2-A564D926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199108-B23F-48EE-A76C-F8C4995B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BB1A3B-B419-455E-93EC-1143D6CB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491E1C-0727-4DD1-A35A-9D9BCCF0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DCAE19-62F1-4E8B-91B8-B733030E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783235-BCF6-4ACA-ACEA-103C5F67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33B6F9-6E36-4A35-84AC-3B796581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BC1474-ED11-40E8-B546-5909EC25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861EF8-B1E9-4103-A023-9DA7E7E7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5277-41A0-4914-9517-47A6DA08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F5822-02C7-4226-8828-32A8063A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B53DC6-287B-4AC0-8CE5-F5240C2E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A62E03-B454-4F21-83DD-867F0B32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040A96-F728-4805-AF86-98630EC2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6245EC-8F6B-4603-9DD0-34D6DC7D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B4500-7D8B-46D7-A043-1DE437CC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D098D3-8468-49CB-A0B6-872FE526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31CE8E-50C4-451F-BF26-5C251939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0CD542-2BC2-4658-9D4B-804528F3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32D7B2-26B4-422B-96B4-4E06AEF1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D7D5-31EF-4E03-8E69-FE3806F9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C5DDF4-9CAF-4365-A2EF-19861759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F87ACD-FCAA-4009-A541-F9E61629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CD783-2ED2-4269-B63C-653F3743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54E44C-6010-4175-B74C-CCC91630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93E60E-8115-49A5-B86B-6DBAA3A0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329E2E-2EA3-4D89-929A-189F7689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ACC8AC-0014-4FD6-BCF8-FEC3FA07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8DC3F3-5BB6-4843-856A-AE9C317B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A11C75-9802-46CC-8F1F-D67D52BB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DCA488-EB63-48FB-B2BC-7BE069BD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53E2-5228-4349-8F89-BF6F874D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20D12A-95AB-404D-BF4B-F21DCFDD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4A9400-0D1B-4E7E-8B16-914019EC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43BBB1-D0F4-4001-877D-1BB353FE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63E1E-CDDD-4220-8D03-52E04A3E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4AB17D-EBDE-47B8-A876-B5B39796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747010-E804-46B4-A60E-92745BFA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55714D-1E1F-448C-A778-92D8202F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6B759D-BCAF-477F-92DA-B6CCC10F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93C383-CC57-445C-85BC-4163FF04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E5D180-5F32-4B4D-AA2D-1BDE6875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8E4C-764E-42D6-AA9A-493BA6CB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32ED79-8CF2-4153-8C7C-46522905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5C53F1-8BFF-416B-819A-DF26C3FC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F4CFF5-28FF-46B9-9D79-F66DC98F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0AF3E8-A9D0-41A3-94B8-896F46F6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52CCDC-B2C3-4262-847C-025522E9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3CE2B5-8265-4960-BF3E-8C5A3B19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1A44D5-F43F-46DA-AE34-79463DC9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129CC8-B2FF-4325-B543-8DC99540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09D1FF-F9DD-4EE9-881F-69CB9B5E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9C1B0F-C498-4982-BF0C-39DE45A8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F1502-20AF-4213-BD87-46D88DC6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740666-CA74-4A7C-BBAB-E8230359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323D51-6EED-4A11-B475-A96DF824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5E0BBA-3EF9-4ACE-840E-2F4ACB47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E9508F-8E1E-4046-BEDE-1AEB3AA7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113F23-75D2-41D2-9098-9798E460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7CC165-57BB-49AD-B0D5-C2C19987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8740D3-5DED-4F58-B175-93F291D5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501ED7-0F37-4542-AA5C-E3113214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970F99-DA7C-4281-9988-DC3647C6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F9B9F2-6096-4030-8B7F-342D1BB2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6D27-6091-42C1-9EC3-A65D1E3B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4334BC-E444-485F-B38C-121DF106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4B107C-2366-40BC-9632-3137F597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752761-D573-4FA5-A07F-C2EE369E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3A7AC1-E0AC-4DCF-83B1-3E34D531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04F012-84C3-44C8-9903-1B21073E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3ABDB6-97B3-41A0-A2DA-991C989D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DA1D6E-6C7A-4F46-BEB7-1AEB1C7E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9B388B-B6F8-4B9E-986C-45CB436A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640E35-7559-468B-AA5E-E8A21D65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7C18DE-BF30-474F-9EEC-DF021A72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5333C-5071-4AA1-8346-C7541178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B03F44-3204-45B1-A7F0-774C6B11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558335-0744-488B-A272-0ED2E5B9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564A1E-6713-4FCD-ADE6-14E1F2E5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5C8BD8-2D29-42B9-AAFC-43B15E98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5AFFE3-5FC1-41F0-B291-E31C7E0A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5B46B1-C150-406B-BE0B-246C1AC9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16D9AF-2942-42C0-A07F-59C2D609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88BDB9-97C3-4C3D-9C73-B4026CDE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F6BB97-E6E4-4F08-931E-0BDC5FFA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4F782B-7014-42C0-870C-7474D111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20C1F-75F6-40B5-AF7D-4FA24DC4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7270DD-DC8E-4D20-8572-F4D6984C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B016F0-E377-42A6-A93A-B7F4FAF2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A7A88A-3621-436B-BEB7-55B670C8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06BDA5-3C6F-46B1-A300-BA7196F4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854A2E-97AC-4789-8D42-B8AF6D19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7E6967-E9E5-4A1D-A041-6264BFDB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0FEDD7-B6EE-43C6-9967-1ADDC786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5CDFAE-C38F-4187-8333-E25319C2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6A8C60-03A8-4434-9C5C-40E8C450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80DC07-ACC1-4728-9076-36240813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543-B7D6-4668-BA46-C07FD055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9DD0-5B9A-484D-B6AD-305E8B18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E46378-5701-4CCA-AA85-6E18E69A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217F9-1796-4CA2-9C96-3A748612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B77C-CBF0-430A-AE48-5BC528A0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BFE81-C93D-4F56-8D26-7BA9FD2C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FD4E2-4A94-4840-8877-3D850BC0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E16F4-6EE5-4F44-94DE-941E840C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DACAC-426C-4685-9DF2-DFA048BC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87FF-F1D8-45DD-AC10-17C5A8B2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3BC58-7470-48E0-8C32-FFFC30F1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A3D3B-AA3C-44FB-844A-82E20A4D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119-4754-4556-AC13-5835B4D9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29427-5533-4C7C-8AA8-27B7ABBD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A27A1-C379-4765-85CE-DDB10020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D7EBA-23A5-4DA0-8541-6DE321D4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7D3D8-609F-48A8-9C83-F2ADB9B9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D5549-A1CD-48A1-BD23-3806796E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8A04C-786B-435E-82B6-730724B6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ABD07-A848-49A7-BC72-62761139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20B97-ABB7-4FF4-B042-81818C80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53A2A-6C35-4E88-9790-4030DC2E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40606-946C-4C80-98AF-4C9F8E00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A15-D5EF-447A-9F62-3F5798A5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77B64-D8A0-4F74-9E17-F86FF101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57A4E-CA21-454B-8347-0CB286EC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13F19-B0FC-47D9-952F-90EDCACE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795D6-40F0-49F2-9CC0-003AE3F4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DD284-A8D7-4073-A2B5-9F6D2A04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F5DD8-C87C-44E3-9F36-72A2C063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6D64A-3809-4E36-BAE2-645C4D14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EC04B-7A0E-43DC-A33F-F886AB99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3477F-F576-4505-B540-2F4EA0ED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D6A10-3C63-4A9B-B7DC-60557C98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F2A-3422-4585-AC84-FA2C8347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A0E21-4E2F-45FC-847C-53CBFC2B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CB412-4819-4EA7-8526-5806AA63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8ABC0-511D-4376-B9B6-6A935752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DB5EB-084B-4A8E-80A8-6CB2E5F5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2204A-9BD9-4966-8916-5DD91FAA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E83A6-AE38-48EC-AAD1-B9E547C1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65C1B-5197-467E-846B-D3D4624B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A19B6-41C5-4D82-A84C-8A86A054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42808-B18B-4D51-AB77-8565298C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29DEC-24B3-42DF-9243-F52DC11D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CFF-C23E-46C9-B1FC-01CE1CBA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9D5D7-2D58-41EE-8F78-FFD6187F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CD0DF-B590-4230-88D0-6B2A3359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33912-9BE8-4541-B464-8E33F5AC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A12D4-60B1-4FAC-928A-6922153D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336AF-F18E-4352-9F0E-49A753A4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66441-37BF-4109-BA12-F4721807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C3A47-69F2-4DA7-AEFE-4D63D32F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D1EE7-3D82-42BD-8591-5BC93074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11A3E-14DB-48B3-BF3F-22C28DB9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83AE1-E744-476A-BF1F-1719DF76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454-AA86-48FC-8110-8024A0A7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DE859-6451-48BA-BB80-7666B9D1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6A9A9-8C78-4C53-89C9-3FD3EBDC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9BC5C-1BBD-49E4-B1C7-34C97A79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8B3BE-B99C-4084-8AA6-E4E44CDE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C7846-3960-47CE-A786-75328644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6A4B7-8A79-4A75-865A-A1345D27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C0CE2-DB5C-4A56-9804-E3BCF53E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542C3-141B-49BB-99D1-A10EAC7D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5E853-5309-40DA-B71B-E7CF76D2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14548-D664-4F03-A839-B95B73BC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BD1-6837-43E7-8786-95AD6716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BFD46-7320-407F-8612-332C7BAF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C7FEC-1D02-446F-865E-BF0EF38B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9E16E-13A1-46AB-89F1-ADB6429A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B405F-3D88-43B4-82A8-7FA8BDB5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736AD-0496-43D4-B524-270176E8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9091F-7A5C-4DA7-A283-2911BFA6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13EA2-EEBB-49C1-8DC3-D21BE22A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F8B50-7C35-459B-BD57-E60A947B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BB0DA-93ED-4C2F-A3A9-C8D8A43A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AA468-9DD5-4EEF-A4B3-D98A70CA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A256-C557-4E6A-85B6-7DC45DA29F5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F615-0242-4059-9A5F-792134B337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9EC3-FE77-4188-90E3-63BCA6ABC57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C4E6-DD8A-4808-9E83-DF64094B63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4A15-BDE3-4E42-9733-4B6943BF91A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2456-4576-4DE6-98CC-50A665D3DE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672D-0DA3-4291-8930-B517C205AC8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E294-6E3E-4771-8553-7BCF355B7B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4ED3-BE01-4AAC-80CC-E7B559FFD83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14FB-3302-4673-A93F-A7D44B13FA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DD99-A41A-4221-90F1-A66E3850431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47FD-72FA-499F-AE03-22E151ADC2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DF8C-02BA-4FB6-9CBD-B8C7A9605AD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EF17-A5B8-4554-BA24-D205F22B99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DDF0-61CE-48EE-8149-8F59D51761F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6954-D18D-400B-BD4B-8C61307DCC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FD43-57A0-48BB-BE0F-BA006239635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587A-41C6-4C67-8F60-3FC04BA1DC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7264-F56B-434C-B2D6-F03A970992F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CA1D-E814-40B3-8BF9-8D98C72E27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69A5-AB8E-4F78-A209-FB7829FD1A0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2D5F-0C3A-425C-A8CB-DC7438B770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8C23-B666-4D1B-93ED-70E0F13D7FA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FD23-2A08-48B0-9316-E833F00639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E4E3-21E4-4CF9-B1C0-C04744D9D47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A6D6-E8FA-448B-89A3-4ACDE7780F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6225-C5DB-4E30-8A77-9534F2A7F82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BD81-74B1-44FA-A436-4393D4052E6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7247-0A75-432A-A130-44DB26F8A7A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59AC-1017-4367-9621-10775705E07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5839-EE20-40D8-9741-83633F3B3BB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AA57-95D0-4603-815B-3863A6CD4A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3616-9C3C-4A7B-890B-D210D71590D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2D7F-5790-4932-BAF3-F63DB530F12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7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CACA-4CD1-4AB5-9856-3104A3CDEB6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7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C285-D66E-440D-B95C-37F650611A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1690-D730-4D91-A0D1-165A4F6A936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BF95-0E79-4855-ABB6-283DB47C44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05F2-68CD-4842-9832-613B42D7143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2C6A-A221-474B-833A-2B6AD03133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2A58-296F-436D-8136-C8B103418C8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7278-B2C2-4FA7-B57A-76469116DB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787E-A7F6-4D12-A953-44E183E1723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6622-A197-4595-AF13-BC864E76BE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D4AE-1401-4B6E-A852-12409BEBA7E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7475-3819-4A2E-AA6E-1AA3B709F4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FA1A-F154-4833-BE0A-94CC7560121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8DE7-72A8-4D1A-AC16-5A73AB8055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E3D5-B300-487C-9C32-C1C7D1CF462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E0E7-8201-4126-AD6C-03136256A4A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任意多边形 17"/>
          <p:cNvSpPr/>
          <p:nvPr/>
        </p:nvSpPr>
        <p:spPr>
          <a:xfrm rot="19488600">
            <a:off x="3338280" y="2676240"/>
            <a:ext cx="2930400" cy="553068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任意多边形 25"/>
          <p:cNvSpPr/>
          <p:nvPr/>
        </p:nvSpPr>
        <p:spPr>
          <a:xfrm rot="19488600">
            <a:off x="9272520" y="2766960"/>
            <a:ext cx="2928960" cy="460224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任意多边形 19"/>
          <p:cNvSpPr/>
          <p:nvPr/>
        </p:nvSpPr>
        <p:spPr>
          <a:xfrm rot="19488600">
            <a:off x="6051240" y="2766960"/>
            <a:ext cx="3081240" cy="547848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任意多边形 9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X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4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215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1216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8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任意多边形 2"/>
          <p:cNvSpPr/>
          <p:nvPr/>
        </p:nvSpPr>
        <p:spPr>
          <a:xfrm flipH="1">
            <a:off x="82224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任意多边形 4"/>
          <p:cNvSpPr/>
          <p:nvPr/>
        </p:nvSpPr>
        <p:spPr>
          <a:xfrm flipH="1">
            <a:off x="3628440" y="2246400"/>
            <a:ext cx="10969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任意多边形 6"/>
          <p:cNvSpPr/>
          <p:nvPr/>
        </p:nvSpPr>
        <p:spPr>
          <a:xfrm flipH="1">
            <a:off x="643248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任意多边形 8"/>
          <p:cNvSpPr/>
          <p:nvPr/>
        </p:nvSpPr>
        <p:spPr>
          <a:xfrm flipH="1">
            <a:off x="9238680" y="2247840"/>
            <a:ext cx="1096920" cy="221616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1234" name="Freeform 19"/>
            <p:cNvSpPr/>
            <p:nvPr/>
          </p:nvSpPr>
          <p:spPr>
            <a:xfrm>
              <a:off x="10089720" y="2627280"/>
              <a:ext cx="255240" cy="256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0"/>
            <p:cNvSpPr/>
            <p:nvPr/>
          </p:nvSpPr>
          <p:spPr>
            <a:xfrm>
              <a:off x="10318680" y="2568600"/>
              <a:ext cx="180720" cy="1814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3"/>
            <p:cNvSpPr/>
            <p:nvPr/>
          </p:nvSpPr>
          <p:spPr>
            <a:xfrm>
              <a:off x="9745560" y="2883960"/>
              <a:ext cx="1071720" cy="10627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5"/>
            <p:cNvSpPr/>
            <p:nvPr/>
          </p:nvSpPr>
          <p:spPr>
            <a:xfrm>
              <a:off x="10282680" y="2741040"/>
              <a:ext cx="353880" cy="142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1" name="Freeform 18"/>
          <p:cNvSpPr/>
          <p:nvPr/>
        </p:nvSpPr>
        <p:spPr>
          <a:xfrm>
            <a:off x="4211640" y="2873520"/>
            <a:ext cx="1052640" cy="96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22"/>
          <p:cNvSpPr/>
          <p:nvPr/>
        </p:nvSpPr>
        <p:spPr>
          <a:xfrm>
            <a:off x="1382760" y="2797200"/>
            <a:ext cx="1074600" cy="114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1244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任意多边形 23"/>
          <p:cNvSpPr/>
          <p:nvPr/>
        </p:nvSpPr>
        <p:spPr>
          <a:xfrm>
            <a:off x="3157560" y="2741760"/>
            <a:ext cx="2181240" cy="167292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文本框 14"/>
          <p:cNvSpPr/>
          <p:nvPr/>
        </p:nvSpPr>
        <p:spPr>
          <a:xfrm>
            <a:off x="6865920" y="246204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7"/>
          <p:cNvSpPr/>
          <p:nvPr/>
        </p:nvSpPr>
        <p:spPr>
          <a:xfrm>
            <a:off x="3044880" y="2494080"/>
            <a:ext cx="2041560" cy="1089000"/>
          </a:xfrm>
          <a:prstGeom prst="pie">
            <a:avLst/>
          </a:pr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1259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1261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1265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1266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1267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1269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1271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1272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文本框 17"/>
          <p:cNvSpPr/>
          <p:nvPr/>
        </p:nvSpPr>
        <p:spPr>
          <a:xfrm>
            <a:off x="89388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文本框 19"/>
          <p:cNvSpPr/>
          <p:nvPr/>
        </p:nvSpPr>
        <p:spPr>
          <a:xfrm>
            <a:off x="454824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文本框 21"/>
          <p:cNvSpPr/>
          <p:nvPr/>
        </p:nvSpPr>
        <p:spPr>
          <a:xfrm>
            <a:off x="820116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1" name=""/>
          <p:cNvGrpSpPr/>
          <p:nvPr/>
        </p:nvGrpSpPr>
        <p:grpSpPr>
          <a:xfrm>
            <a:off x="725040" y="3929040"/>
            <a:ext cx="9565200" cy="8280"/>
            <a:chOff x="725040" y="3929040"/>
            <a:chExt cx="9565200" cy="8280"/>
          </a:xfrm>
        </p:grpSpPr>
        <p:cxnSp>
          <p:nvCxnSpPr>
            <p:cNvPr id="1282" name="直接箭头连接符 6"/>
            <p:cNvCxnSpPr/>
            <p:nvPr/>
          </p:nvCxnSpPr>
          <p:spPr>
            <a:xfrm>
              <a:off x="725040" y="3929040"/>
              <a:ext cx="9565560" cy="8640"/>
            </a:xfrm>
            <a:prstGeom prst="straightConnector1">
              <a:avLst/>
            </a:prstGeom>
            <a:ln w="25560">
              <a:solidFill>
                <a:srgbClr val="3a87c5"/>
              </a:solidFill>
              <a:bevel/>
              <a:tailEnd len="med" type="triangle" w="med"/>
            </a:ln>
          </p:spPr>
        </p:cxnSp>
        <p:sp>
          <p:nvSpPr>
            <p:cNvPr id="1283" name=""/>
            <p:cNvSpPr txBox="1"/>
            <p:nvPr/>
          </p:nvSpPr>
          <p:spPr>
            <a:xfrm>
              <a:off x="725040" y="3929040"/>
              <a:ext cx="956484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任意多边形 9"/>
          <p:cNvSpPr/>
          <p:nvPr/>
        </p:nvSpPr>
        <p:spPr>
          <a:xfrm flipH="1">
            <a:off x="1433520" y="340524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任意多边形 12"/>
          <p:cNvSpPr/>
          <p:nvPr/>
        </p:nvSpPr>
        <p:spPr>
          <a:xfrm flipH="1">
            <a:off x="4111560" y="341460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任意多边形 14"/>
          <p:cNvSpPr/>
          <p:nvPr/>
        </p:nvSpPr>
        <p:spPr>
          <a:xfrm flipH="1">
            <a:off x="6778080" y="3414600"/>
            <a:ext cx="51732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任意多边形 16"/>
          <p:cNvSpPr/>
          <p:nvPr/>
        </p:nvSpPr>
        <p:spPr>
          <a:xfrm flipH="1">
            <a:off x="9597960" y="3409920"/>
            <a:ext cx="517680" cy="104472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8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1299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1302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1305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1308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10851840" y="3927600"/>
            <a:ext cx="670320" cy="1800"/>
            <a:chOff x="10851840" y="3927600"/>
            <a:chExt cx="670320" cy="1800"/>
          </a:xfrm>
        </p:grpSpPr>
        <p:cxnSp>
          <p:nvCxnSpPr>
            <p:cNvPr id="1315" name="直接箭头连接符 50"/>
            <p:cNvCxnSpPr/>
            <p:nvPr/>
          </p:nvCxnSpPr>
          <p:spPr>
            <a:xfrm>
              <a:off x="10851840" y="3927600"/>
              <a:ext cx="670680" cy="2160"/>
            </a:xfrm>
            <a:prstGeom prst="straightConnector1">
              <a:avLst/>
            </a:prstGeom>
            <a:ln w="25560">
              <a:solidFill>
                <a:srgbClr val="e1992f"/>
              </a:solidFill>
              <a:bevel/>
              <a:tailEnd len="med" type="triangle" w="med"/>
            </a:ln>
          </p:spPr>
        </p:cxnSp>
        <p:sp>
          <p:nvSpPr>
            <p:cNvPr id="1316" name=""/>
            <p:cNvSpPr txBox="1"/>
            <p:nvPr/>
          </p:nvSpPr>
          <p:spPr>
            <a:xfrm>
              <a:off x="10851840" y="3927600"/>
              <a:ext cx="669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任意多边形 2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14"/>
          <p:cNvSpPr/>
          <p:nvPr/>
        </p:nvSpPr>
        <p:spPr>
          <a:xfrm>
            <a:off x="6926400" y="2462040"/>
            <a:ext cx="13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1052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095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晚上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，听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得还是不错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任意多边形 17"/>
          <p:cNvSpPr/>
          <p:nvPr/>
        </p:nvSpPr>
        <p:spPr>
          <a:xfrm flipH="1">
            <a:off x="4669560" y="1488960"/>
            <a:ext cx="1629000" cy="325908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任意多边形 23"/>
          <p:cNvSpPr/>
          <p:nvPr/>
        </p:nvSpPr>
        <p:spPr>
          <a:xfrm flipH="1">
            <a:off x="1459080" y="1968480"/>
            <a:ext cx="114120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任意多边形 24"/>
          <p:cNvSpPr/>
          <p:nvPr/>
        </p:nvSpPr>
        <p:spPr>
          <a:xfrm flipH="1">
            <a:off x="8776440" y="1965240"/>
            <a:ext cx="114156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109" name="Freeform 86"/>
          <p:cNvSpPr/>
          <p:nvPr/>
        </p:nvSpPr>
        <p:spPr>
          <a:xfrm>
            <a:off x="2108160" y="2836800"/>
            <a:ext cx="663480" cy="668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88"/>
          <p:cNvSpPr/>
          <p:nvPr/>
        </p:nvSpPr>
        <p:spPr>
          <a:xfrm>
            <a:off x="2724120" y="2709720"/>
            <a:ext cx="39384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112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任意多边形 2"/>
          <p:cNvSpPr/>
          <p:nvPr/>
        </p:nvSpPr>
        <p:spPr>
          <a:xfrm flipH="1">
            <a:off x="3958560" y="1622520"/>
            <a:ext cx="1989000" cy="39812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144" name="Freeform 18"/>
          <p:cNvSpPr/>
          <p:nvPr/>
        </p:nvSpPr>
        <p:spPr>
          <a:xfrm>
            <a:off x="8956800" y="3171960"/>
            <a:ext cx="574560" cy="69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146" name="Freeform 79"/>
            <p:cNvSpPr/>
            <p:nvPr/>
          </p:nvSpPr>
          <p:spPr>
            <a:xfrm>
              <a:off x="2327400" y="4940640"/>
              <a:ext cx="930240" cy="32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0"/>
            <p:cNvSpPr/>
            <p:nvPr/>
          </p:nvSpPr>
          <p:spPr>
            <a:xfrm>
              <a:off x="2327400" y="4589640"/>
              <a:ext cx="93024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8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149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14"/>
          <p:cNvSpPr/>
          <p:nvPr/>
        </p:nvSpPr>
        <p:spPr>
          <a:xfrm>
            <a:off x="6794640" y="2486160"/>
            <a:ext cx="141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1157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任意多边形 30"/>
            <p:cNvSpPr/>
            <p:nvPr/>
          </p:nvSpPr>
          <p:spPr>
            <a:xfrm>
              <a:off x="3095640" y="2534760"/>
              <a:ext cx="2171520" cy="1905480"/>
            </a:xfrm>
            <a:prstGeom prst="pie">
              <a:avLst/>
            </a:pr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1160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1163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5"/>
            <p:cNvSpPr/>
            <p:nvPr/>
          </p:nvSpPr>
          <p:spPr>
            <a:xfrm>
              <a:off x="5536440" y="3004560"/>
              <a:ext cx="1252800" cy="128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1167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ounded Rectangle 29"/>
            <p:cNvSpPr/>
            <p:nvPr/>
          </p:nvSpPr>
          <p:spPr>
            <a:xfrm>
              <a:off x="2326320" y="2903040"/>
              <a:ext cx="682560" cy="1389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1171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prstGeom prst="pie">
              <a:avLst/>
            </a:pr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3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4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1184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1187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1190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1193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5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1197" name="Freeform 15"/>
          <p:cNvSpPr/>
          <p:nvPr/>
        </p:nvSpPr>
        <p:spPr>
          <a:xfrm>
            <a:off x="6959520" y="3241800"/>
            <a:ext cx="965160" cy="95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54720" bIns="54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1199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Nee</dc:creator>
  <dc:description/>
  <cp:keywords/>
  <dc:language>en-US</dc:language>
  <cp:lastModifiedBy>USER-</cp:lastModifiedBy>
  <dcterms:modified xsi:type="dcterms:W3CDTF">2016-05-31T01:49:04Z</dcterms:modified>
  <cp:revision>8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