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772-ECC7-4FF9-9E3D-DDEBDD51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9F1-4D33-4133-A906-8D3BB0A7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8A582-D25B-4D36-B790-3FF996BF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1D930-FA15-48FF-BC13-0E5750BD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14CC-B473-472D-8C9C-8944CBE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395B-8870-42CA-AC55-7267336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0B15-89AB-4320-AA7D-28DCCC62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0D7B7-7CE9-4CFE-88B8-44942D5A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29C44-5DA5-47D7-A0C8-7772430F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4372-FB2A-4DA9-AA8B-B92B57D5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7A44C-E123-4824-B5ED-A6EAE0C3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EF82-AC83-4A7B-8164-FE9DCEC9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2CA-F534-4226-8E88-5FBFA3DE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B09DA-00F8-42CE-87D5-3CAB9E4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18988-F1B1-4996-B11B-833DD03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8E183-A452-436B-9710-54431A9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843C0-8E06-435F-BC36-813DC0E6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C4EB-7567-452F-A92F-A79CF86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8C0E-B171-4D96-B026-40D211F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109F1-7AE1-481E-8D6A-C5C027B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AC124-7B76-4414-B97A-FE824BA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667A8-8607-45BC-9CA9-C9D94FD1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4BC3D-1F96-4DB2-827C-A8892554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4E4-83E6-4650-9409-174BD6EE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4E06D-57D4-4522-9696-C426D2D4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B825-73E6-4878-8174-1D678B6E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79383-B0F9-4553-AF9B-6060B93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E6F6-42DE-41F0-B0AD-F6099FD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DB2F1-9F90-4386-9A67-CA11D71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CF8B-FE60-484B-AD61-BFF79EC7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E5838-7229-4935-9106-0AF0253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62D38-50EC-4275-9076-953522F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91C8F-79CE-4D9F-8C0D-25569DE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167B-E542-48E8-B00F-7F4D49C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D77A-7499-470A-A515-438C9365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C0D3-0FD1-4CEB-B430-FE6A508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89A99-EA77-4C2F-8A01-7234FF1D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4F0AF-9F41-4282-816A-0AEDD83C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02F-175A-47E2-A346-CEE1F297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F594-137F-411C-8CA7-735CC42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DC27-A4F2-4AB9-859C-F60A66A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3F9D-4E7D-42AB-A5B3-662F27C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80A9-6974-4008-A2D6-0B54BA2D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3931-6C4D-4B5D-A7A5-9E54B9B1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193-9AEE-42A6-9B8C-CA50B15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57CD-D94B-4B05-B52F-69D86F81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457-6097-499F-AE8B-AC58CB2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0A9-DA9B-49F3-BBD9-7441403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6F1B-F07B-455E-877F-320E2872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67E3-01D7-4317-A489-5CC7B891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F174-5BBE-4815-9015-7FE5564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DF80-5D41-457E-A4E5-B013620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573B-F9CC-44E8-BE3B-E49C7A9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505E-3D2D-4D85-A92C-2051B11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82F6-0412-4B42-9144-D46A40A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F1B-0F30-4787-A6A9-88A834B4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3EDE-52E7-4D5D-BB7C-8A897F0B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CCDE-036D-4175-ACA4-4A5F95D7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0DF6-6F67-4A36-B300-D456472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0C51-D73D-42E0-80D6-47A8708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1205-53CB-41CE-BBFB-DB83560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0618-39C7-4F38-A038-FB5972A0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4D3B-1493-4B82-9150-56D7418D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AAA6-034D-4D41-A2B5-6AE8B1FE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5CFE-8EDA-4B80-A72C-6F90D19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8E4D-77F7-4025-A1B0-56777CE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A08-3791-4F77-9C95-33869230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3FFD-B1F4-41B4-8429-08C3AFAA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E406-8F6D-47F3-BA10-714FF2A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FA9E-C354-48F2-ABEE-3EBB2E73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8FD2-8D4E-4610-8C86-A780E36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10E0-7E4B-4035-B3CA-39002DA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A01A-BC36-4E90-82F9-61D5578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841B-FDED-4C2B-99B6-0D5721DA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58D0-1D31-4324-9C23-7B07FD7B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89F7-72D3-48B6-A0E5-BB05ED76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2601-731F-4E05-8FCE-157CB962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8BD-D462-43CE-85C8-BD84642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C0F3-2952-4307-813C-9E77B0B5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B27A-BDC0-4CF8-9304-88BC7DF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397A-E6E8-4F04-B0A9-20D4D77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69F7-6330-4DE5-BC6B-B33C30B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7AE7-4C47-401C-AD2C-02896D0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83F5-9432-483E-91BD-DA86301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9039-D600-4623-A020-86D38DD8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4E68-FB07-42DD-BA84-AAA0F60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226C-5098-4A07-99C3-A8B25E5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9682-29E3-4009-A52A-E8FBB8B7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ACA-FF1C-4220-9B68-5934104A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413D-A5B6-4D8E-8942-BDCF6364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E754-D90E-4293-BEAB-44908F54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D9AB-6CCB-4D54-BBC0-7E6D67F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BAA4-7142-48B2-81B3-D484AEF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D6483-15A9-4F23-89E0-97BFB20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324DF-A6BD-4A87-B2FE-B4C70B51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78323-A3FA-47B0-9279-834B6F4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7EBBE-554D-4B39-9B8D-CEF1D64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2C01F-5D04-41C5-B53C-E943571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6BDD-88FA-40FF-90C0-884F708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89F-594A-43C6-ABA0-1919096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03BB-4B2F-479A-AA65-9BD00580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C000-5D9B-4207-801A-DBDD8FA2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6270-461A-49D8-98AB-8E6E5895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3029-E230-4992-BCB1-0E809F49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995C7-D67F-4568-BEF1-75AADD7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9408B-E9CB-4DAD-BB4C-5BC307A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7DC8-DAD6-4EE7-B094-4BE34606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82074-6CD0-478C-A4CC-4B668F4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2F442-26A1-4CD2-AB43-4779CC8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F872-3587-442A-80C8-2691702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597-AE8C-4BEB-B11E-BCED689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6313-36E0-4680-AB7C-6E8D967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EDBD9-4FF0-42F0-A3BE-DB5F5FE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400F8-E5BE-4F3A-AE01-85EA6AA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2D13C-2E54-470E-9829-05BF1BB8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F62E-D81C-45C2-970A-6EA94755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0E06F-ECA9-40D6-8C66-FB08C75B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65788-EE1F-46B4-83F8-CB768658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4CD4-BD47-443D-B347-5D8F4BB4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3463-6054-4BD0-ADB2-5669ABC6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41BF-92E8-45E0-8403-25C9EDF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6E3-7536-43F4-A1B4-AEB0189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8F2FE-82B9-492A-84E7-177B7E3F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38B78-A6FC-4F7E-A0FB-DA9BF84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2FE4C-D4B8-4604-A634-640A8FF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07752-9A67-4EF8-B65E-0216F5D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BAD9-F303-4902-9A9A-C35C4ED1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76D9-41B1-4A69-A0AF-F64C1370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3A0FF-C691-4773-AB60-418A1E0C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D4311-4CD1-40DC-A948-DC4AF477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33731-AEA4-4E46-9958-78C5B091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0623-D8C3-4C90-BC29-498899F6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E31-7508-45FB-96E9-9470D9501649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325E-C708-480F-9B48-CAF692F2785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DF6-5FE2-4632-8333-23268498210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3E6-D435-4B7F-B93E-BF7E79C4583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7EE-59A7-4167-91E6-4363D8CC77B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F1B1-7EB6-49CC-9BB4-7D945190D91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C6B-EDCA-4F16-A727-7F984939E4A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0D09-A11E-4C7E-97A0-950DBAC50DA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5599-2B25-47C2-B5E3-F7F5F1F6D6C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E1B-15F7-49FA-BA9A-E03FC4A86FA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781B-5CDA-4738-8C61-11C5F32AF89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DE9C-A878-458C-BDD7-4D1DFACE694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image" Target="../media/image4.wmf"/><Relationship Id="rId5" Type="http://schemas.openxmlformats.org/officeDocument/2006/relationships/image" Target="../media/image22.png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135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3114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15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6F5D-3AD1-48BE-B02B-8AF2C85894D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B6F-6865-4678-B48E-77371B9B6CF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1"/>
          <p:cNvSpPr/>
          <p:nvPr/>
        </p:nvSpPr>
        <p:spPr>
          <a:xfrm>
            <a:off x="1609560" y="6211800"/>
            <a:ext cx="70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6454-41B8-4339-A029-193BB95D32C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771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800-2233-4BFA-BA99-0BAE9808CD8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774" name="组合 15363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775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15365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777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文本框 15367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15373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785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15375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787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文本框 15377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15382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794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组合 15384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796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文本框 15386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5392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804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组合 15394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806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文本框 15396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组合 15400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812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2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89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9105-F054-43AF-A8BC-0D4F412DD59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16386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826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12"/>
          <p:cNvCxnSpPr>
            <a:stCxn id="841" idx="0"/>
            <a:endCxn id="842" idx="0"/>
          </p:cNvCxnSpPr>
          <p:nvPr/>
        </p:nvCxnSpPr>
        <p:spPr>
          <a:xfrm>
            <a:off x="1639440" y="4435920"/>
            <a:ext cx="593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843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860" name="文本框 1"/>
          <p:cNvSpPr/>
          <p:nvPr/>
        </p:nvSpPr>
        <p:spPr>
          <a:xfrm>
            <a:off x="385920" y="579132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18446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875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18449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878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18452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881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8455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884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8458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887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8461"/>
          <p:cNvGrpSpPr/>
          <p:nvPr/>
        </p:nvGrpSpPr>
        <p:grpSpPr>
          <a:xfrm>
            <a:off x="4307760" y="1875960"/>
            <a:ext cx="426960" cy="426600"/>
            <a:chOff x="4307760" y="1875960"/>
            <a:chExt cx="426960" cy="426600"/>
          </a:xfrm>
        </p:grpSpPr>
        <p:sp>
          <p:nvSpPr>
            <p:cNvPr id="890" name="AutoShape 31"/>
            <p:cNvSpPr/>
            <p:nvPr/>
          </p:nvSpPr>
          <p:spPr>
            <a:xfrm rot="13500000">
              <a:off x="4370400" y="1938240"/>
              <a:ext cx="3016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32"/>
            <p:cNvSpPr/>
            <p:nvPr/>
          </p:nvSpPr>
          <p:spPr>
            <a:xfrm rot="13500000">
              <a:off x="4408560" y="1984320"/>
              <a:ext cx="21024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3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4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5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6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7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898" name="组合 18470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899" name="组合 18471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900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未知"/>
            <p:cNvSpPr/>
            <p:nvPr/>
          </p:nvSpPr>
          <p:spPr>
            <a:xfrm rot="16200000">
              <a:off x="3857400" y="305352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 rot="5400000">
              <a:off x="419508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5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06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4967-B5FA-4337-BE73-B75FB4F1A90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7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AutoShape 22"/>
          <p:cNvCxnSpPr>
            <a:stCxn id="919" idx="1"/>
            <a:endCxn id="917" idx="1"/>
          </p:cNvCxnSpPr>
          <p:nvPr/>
        </p:nvCxnSpPr>
        <p:spPr>
          <a:xfrm flipV="1">
            <a:off x="3346920" y="1878840"/>
            <a:ext cx="252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33" name="AutoShape 23"/>
          <p:cNvCxnSpPr>
            <a:stCxn id="913" idx="0"/>
            <a:endCxn id="917" idx="1"/>
          </p:cNvCxnSpPr>
          <p:nvPr/>
        </p:nvCxnSpPr>
        <p:spPr>
          <a:xfrm flipV="1">
            <a:off x="1595160" y="2066400"/>
            <a:ext cx="1516680" cy="681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4" name="AutoShape 24"/>
          <p:cNvCxnSpPr>
            <a:stCxn id="919" idx="2"/>
            <a:endCxn id="921" idx="0"/>
          </p:cNvCxnSpPr>
          <p:nvPr/>
        </p:nvCxnSpPr>
        <p:spPr>
          <a:xfrm flipH="1">
            <a:off x="4889160" y="2573280"/>
            <a:ext cx="2160" cy="1389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5" name="AutoShape 25"/>
          <p:cNvCxnSpPr>
            <a:stCxn id="923" idx="2"/>
            <a:endCxn id="925" idx="0"/>
          </p:cNvCxnSpPr>
          <p:nvPr/>
        </p:nvCxnSpPr>
        <p:spPr>
          <a:xfrm flipH="1">
            <a:off x="4889160" y="3544560"/>
            <a:ext cx="2160" cy="1371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6" name="AutoShape 26"/>
          <p:cNvCxnSpPr>
            <a:stCxn id="927" idx="2"/>
            <a:endCxn id="929" idx="0"/>
          </p:cNvCxnSpPr>
          <p:nvPr/>
        </p:nvCxnSpPr>
        <p:spPr>
          <a:xfrm flipH="1">
            <a:off x="4889160" y="4514760"/>
            <a:ext cx="2160" cy="14832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937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9"/>
          <p:cNvCxnSpPr>
            <a:stCxn id="927" idx="2"/>
            <a:endCxn id="929" idx="0"/>
          </p:cNvCxnSpPr>
          <p:nvPr/>
        </p:nvCxnSpPr>
        <p:spPr>
          <a:xfrm>
            <a:off x="6402240" y="3857760"/>
            <a:ext cx="5760" cy="42912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40" name="AutoShape 30"/>
          <p:cNvCxnSpPr>
            <a:stCxn id="927" idx="2"/>
            <a:endCxn id="929" idx="0"/>
          </p:cNvCxnSpPr>
          <p:nvPr/>
        </p:nvCxnSpPr>
        <p:spPr>
          <a:xfrm flipH="1" flipV="1">
            <a:off x="6401880" y="4828320"/>
            <a:ext cx="57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sp>
        <p:nvSpPr>
          <p:cNvPr id="941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E4B-0A3D-4C6C-BDFA-1B5BB34861D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ACD-BC6C-46E3-AEC4-243A4CD0505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6D9A-3E31-491F-B411-14905409671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34819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57" name="组合 34820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5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4828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466" name="组合 34829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46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组合 34837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475" name="组合 34838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47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34846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484" name="组合 34847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48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AA3-4BF8-4904-B5AF-5299A889BB0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F2EF-BCE2-480B-B7CD-21E639D0B90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13"/>
          <p:cNvSpPr/>
          <p:nvPr/>
        </p:nvSpPr>
        <p:spPr>
          <a:xfrm flipV="1" rot="16200000">
            <a:off x="4152240" y="3584520"/>
            <a:ext cx="2524320" cy="6793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"/>
          <p:cNvSpPr/>
          <p:nvPr/>
        </p:nvSpPr>
        <p:spPr>
          <a:xfrm>
            <a:off x="1928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0"/>
          <p:cNvSpPr/>
          <p:nvPr/>
        </p:nvSpPr>
        <p:spPr>
          <a:xfrm>
            <a:off x="2936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3944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4952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603216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AD31-1DCD-4B89-BA50-A4FEE43754F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"/>
          <p:cNvSpPr/>
          <p:nvPr/>
        </p:nvSpPr>
        <p:spPr>
          <a:xfrm>
            <a:off x="2135160" y="2928960"/>
            <a:ext cx="21146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4890240" y="2928960"/>
            <a:ext cx="2116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round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1052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1055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056" name="文本框 1"/>
          <p:cNvSpPr/>
          <p:nvPr/>
        </p:nvSpPr>
        <p:spPr>
          <a:xfrm>
            <a:off x="701640" y="5540400"/>
            <a:ext cx="80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369-4934-404E-8961-17B26567ACA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26627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1060" name="组合 26628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1061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3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组合 26632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1065" name="组合 26633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1066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26637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1070" name="组合 26638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1071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WordArt 20" descr=""/>
          <p:cNvPicPr/>
          <p:nvPr/>
        </p:nvPicPr>
        <p:blipFill>
          <a:blip r:embed="rId7"/>
          <a:stretch/>
        </p:blipFill>
        <p:spPr>
          <a:xfrm>
            <a:off x="3986280" y="3211560"/>
            <a:ext cx="752400" cy="525240"/>
          </a:xfrm>
          <a:prstGeom prst="rect">
            <a:avLst/>
          </a:prstGeom>
          <a:ln w="0">
            <a:noFill/>
          </a:ln>
        </p:spPr>
      </p:pic>
      <p:pic>
        <p:nvPicPr>
          <p:cNvPr id="1077" name="WordArt 21" descr=""/>
          <p:cNvPicPr/>
          <p:nvPr/>
        </p:nvPicPr>
        <p:blipFill>
          <a:blip r:embed="rId8"/>
          <a:stretch/>
        </p:blipFill>
        <p:spPr>
          <a:xfrm>
            <a:off x="6558120" y="3211560"/>
            <a:ext cx="753840" cy="525240"/>
          </a:xfrm>
          <a:prstGeom prst="rect">
            <a:avLst/>
          </a:prstGeom>
          <a:ln w="0">
            <a:noFill/>
          </a:ln>
        </p:spPr>
      </p:pic>
      <p:pic>
        <p:nvPicPr>
          <p:cNvPr id="1078" name="WordArt 22" descr=""/>
          <p:cNvPicPr/>
          <p:nvPr/>
        </p:nvPicPr>
        <p:blipFill>
          <a:blip r:embed="rId9"/>
          <a:stretch/>
        </p:blipFill>
        <p:spPr>
          <a:xfrm>
            <a:off x="1427040" y="3211560"/>
            <a:ext cx="754200" cy="525240"/>
          </a:xfrm>
          <a:prstGeom prst="rect">
            <a:avLst/>
          </a:prstGeom>
          <a:ln w="0">
            <a:noFill/>
          </a:ln>
        </p:spPr>
      </p:pic>
      <p:sp>
        <p:nvSpPr>
          <p:cNvPr id="1079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WordArt 26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66F-8C4F-44DD-BB36-82A26C91E3F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9"/>
          <p:cNvSpPr/>
          <p:nvPr/>
        </p:nvSpPr>
        <p:spPr>
          <a:xfrm rot="7527600">
            <a:off x="1663920" y="3624480"/>
            <a:ext cx="158904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7653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108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组合 27656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1091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7659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1094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27662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1097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7666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1101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7670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1105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112" name="文本框 1"/>
          <p:cNvSpPr/>
          <p:nvPr/>
        </p:nvSpPr>
        <p:spPr>
          <a:xfrm>
            <a:off x="1231920" y="574848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9C27-FDA6-484B-BCB6-F0FD532E2BA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8683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1124" name="组合 28684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1125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0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847-E42F-4039-A0D2-3175E31A79F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357-CD76-46E9-8CAD-78BB87AA983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0729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1161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30733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1165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30737"/>
          <p:cNvGrpSpPr/>
          <p:nvPr/>
        </p:nvGrpSpPr>
        <p:grpSpPr>
          <a:xfrm>
            <a:off x="2556000" y="3143160"/>
            <a:ext cx="745560" cy="758880"/>
            <a:chOff x="2556000" y="3143160"/>
            <a:chExt cx="745560" cy="758880"/>
          </a:xfrm>
        </p:grpSpPr>
        <p:pic>
          <p:nvPicPr>
            <p:cNvPr id="1169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0" name="组合 30739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1171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3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组合 30743"/>
            <p:cNvGrpSpPr/>
            <p:nvPr/>
          </p:nvGrpSpPr>
          <p:grpSpPr>
            <a:xfrm>
              <a:off x="2611080" y="3643200"/>
              <a:ext cx="651960" cy="258840"/>
              <a:chOff x="2611080" y="3643200"/>
              <a:chExt cx="651960" cy="258840"/>
            </a:xfrm>
          </p:grpSpPr>
          <p:grpSp>
            <p:nvGrpSpPr>
              <p:cNvPr id="1175" name="组合 30744"/>
              <p:cNvGrpSpPr/>
              <p:nvPr/>
            </p:nvGrpSpPr>
            <p:grpSpPr>
              <a:xfrm>
                <a:off x="2724480" y="3643200"/>
                <a:ext cx="538560" cy="243720"/>
                <a:chOff x="2724480" y="3643200"/>
                <a:chExt cx="538560" cy="243720"/>
              </a:xfrm>
            </p:grpSpPr>
            <p:sp>
              <p:nvSpPr>
                <p:cNvPr id="1176" name="AutoShape 17"/>
                <p:cNvSpPr/>
                <p:nvPr/>
              </p:nvSpPr>
              <p:spPr>
                <a:xfrm flipH="1" flipV="1" rot="3964800">
                  <a:off x="3017880" y="356868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8"/>
                <p:cNvSpPr/>
                <p:nvPr/>
              </p:nvSpPr>
              <p:spPr>
                <a:xfrm flipH="1" flipV="1" rot="4780200">
                  <a:off x="2957400" y="35920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9"/>
                <p:cNvSpPr/>
                <p:nvPr/>
              </p:nvSpPr>
              <p:spPr>
                <a:xfrm flipH="1" flipV="1" rot="5076000">
                  <a:off x="2919600" y="35974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20"/>
                <p:cNvSpPr/>
                <p:nvPr/>
              </p:nvSpPr>
              <p:spPr>
                <a:xfrm flipH="1" flipV="1" rot="5608200">
                  <a:off x="2875680" y="3601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组合 30749"/>
              <p:cNvGrpSpPr/>
              <p:nvPr/>
            </p:nvGrpSpPr>
            <p:grpSpPr>
              <a:xfrm>
                <a:off x="2611080" y="3646440"/>
                <a:ext cx="537840" cy="255600"/>
                <a:chOff x="2611080" y="3646440"/>
                <a:chExt cx="537840" cy="255600"/>
              </a:xfrm>
            </p:grpSpPr>
            <p:sp>
              <p:nvSpPr>
                <p:cNvPr id="1181" name="AutoShape 22"/>
                <p:cNvSpPr/>
                <p:nvPr/>
              </p:nvSpPr>
              <p:spPr>
                <a:xfrm flipH="1" flipV="1" rot="5317800">
                  <a:off x="2904840" y="36025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AutoShape 23"/>
                <p:cNvSpPr/>
                <p:nvPr/>
              </p:nvSpPr>
              <p:spPr>
                <a:xfrm flipH="1" flipV="1" rot="6133800">
                  <a:off x="2840040" y="360072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AutoShape 24"/>
                <p:cNvSpPr/>
                <p:nvPr/>
              </p:nvSpPr>
              <p:spPr>
                <a:xfrm flipH="1" flipV="1" rot="6429000">
                  <a:off x="2802960" y="359136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25"/>
                <p:cNvSpPr/>
                <p:nvPr/>
              </p:nvSpPr>
              <p:spPr>
                <a:xfrm flipH="1" flipV="1" rot="6961200">
                  <a:off x="2760840" y="357804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5" name="组合 30754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1186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30756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1188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0760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1192" name="组合 30761"/>
              <p:cNvGrpSpPr/>
              <p:nvPr/>
            </p:nvGrpSpPr>
            <p:grpSpPr>
              <a:xfrm>
                <a:off x="3767760" y="2382480"/>
                <a:ext cx="424080" cy="192960"/>
                <a:chOff x="3767760" y="2382480"/>
                <a:chExt cx="424080" cy="192960"/>
              </a:xfrm>
            </p:grpSpPr>
            <p:sp>
              <p:nvSpPr>
                <p:cNvPr id="1193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19"/>
                <p:cNvSpPr/>
                <p:nvPr/>
              </p:nvSpPr>
              <p:spPr>
                <a:xfrm flipH="1" flipV="1" rot="5076000">
                  <a:off x="3922560" y="234720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20"/>
                <p:cNvSpPr/>
                <p:nvPr/>
              </p:nvSpPr>
              <p:spPr>
                <a:xfrm flipH="1" flipV="1" rot="5608200">
                  <a:off x="388764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组合 30766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1198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24"/>
                <p:cNvSpPr/>
                <p:nvPr/>
              </p:nvSpPr>
              <p:spPr>
                <a:xfrm flipH="1" flipV="1" rot="6429000">
                  <a:off x="3829680" y="2341800"/>
                  <a:ext cx="7380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2" name="组合 30771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1203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30773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1205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组合 30777"/>
            <p:cNvGrpSpPr/>
            <p:nvPr/>
          </p:nvGrpSpPr>
          <p:grpSpPr>
            <a:xfrm>
              <a:off x="5448600" y="2721240"/>
              <a:ext cx="395280" cy="158400"/>
              <a:chOff x="5448600" y="2721240"/>
              <a:chExt cx="395280" cy="158400"/>
            </a:xfrm>
          </p:grpSpPr>
          <p:grpSp>
            <p:nvGrpSpPr>
              <p:cNvPr id="1209" name="组合 30778"/>
              <p:cNvGrpSpPr/>
              <p:nvPr/>
            </p:nvGrpSpPr>
            <p:grpSpPr>
              <a:xfrm>
                <a:off x="5517000" y="2721240"/>
                <a:ext cx="326880" cy="148680"/>
                <a:chOff x="5517000" y="2721240"/>
                <a:chExt cx="326880" cy="148680"/>
              </a:xfrm>
            </p:grpSpPr>
            <p:sp>
              <p:nvSpPr>
                <p:cNvPr id="1210" name="AutoShape 17"/>
                <p:cNvSpPr/>
                <p:nvPr/>
              </p:nvSpPr>
              <p:spPr>
                <a:xfrm flipH="1" flipV="1" rot="3964800">
                  <a:off x="5694480" y="2675880"/>
                  <a:ext cx="56880" cy="23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18"/>
                <p:cNvSpPr/>
                <p:nvPr/>
              </p:nvSpPr>
              <p:spPr>
                <a:xfrm flipH="1" flipV="1" rot="4780200">
                  <a:off x="5658480" y="26906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AutoShape 20"/>
                <p:cNvSpPr/>
                <p:nvPr/>
              </p:nvSpPr>
              <p:spPr>
                <a:xfrm flipH="1" flipV="1" rot="5608200">
                  <a:off x="5608800" y="26971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组合 30783"/>
              <p:cNvGrpSpPr/>
              <p:nvPr/>
            </p:nvGrpSpPr>
            <p:grpSpPr>
              <a:xfrm>
                <a:off x="5448600" y="2724480"/>
                <a:ext cx="325800" cy="155160"/>
                <a:chOff x="5448600" y="2724480"/>
                <a:chExt cx="325800" cy="155160"/>
              </a:xfrm>
            </p:grpSpPr>
            <p:sp>
              <p:nvSpPr>
                <p:cNvPr id="1215" name="AutoShape 22"/>
                <p:cNvSpPr/>
                <p:nvPr/>
              </p:nvSpPr>
              <p:spPr>
                <a:xfrm flipH="1" flipV="1" rot="5317800">
                  <a:off x="5625720" y="269676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23"/>
                <p:cNvSpPr/>
                <p:nvPr/>
              </p:nvSpPr>
              <p:spPr>
                <a:xfrm flipH="1" flipV="1" rot="6133800">
                  <a:off x="5586840" y="269676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24"/>
                <p:cNvSpPr/>
                <p:nvPr/>
              </p:nvSpPr>
              <p:spPr>
                <a:xfrm flipH="1" flipV="1" rot="6429000">
                  <a:off x="5564880" y="26913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AutoShape 25"/>
                <p:cNvSpPr/>
                <p:nvPr/>
              </p:nvSpPr>
              <p:spPr>
                <a:xfrm flipH="1" flipV="1" rot="6961200">
                  <a:off x="553968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组合 30788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1220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30790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1222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组合 30794"/>
            <p:cNvGrpSpPr/>
            <p:nvPr/>
          </p:nvGrpSpPr>
          <p:grpSpPr>
            <a:xfrm>
              <a:off x="5621760" y="4390920"/>
              <a:ext cx="504360" cy="200520"/>
              <a:chOff x="5621760" y="4390920"/>
              <a:chExt cx="504360" cy="200520"/>
            </a:xfrm>
          </p:grpSpPr>
          <p:grpSp>
            <p:nvGrpSpPr>
              <p:cNvPr id="1226" name="组合 30795"/>
              <p:cNvGrpSpPr/>
              <p:nvPr/>
            </p:nvGrpSpPr>
            <p:grpSpPr>
              <a:xfrm>
                <a:off x="5709600" y="4390920"/>
                <a:ext cx="416520" cy="188640"/>
                <a:chOff x="5709600" y="4390920"/>
                <a:chExt cx="416520" cy="188640"/>
              </a:xfrm>
            </p:grpSpPr>
            <p:sp>
              <p:nvSpPr>
                <p:cNvPr id="1227" name="AutoShape 17"/>
                <p:cNvSpPr/>
                <p:nvPr/>
              </p:nvSpPr>
              <p:spPr>
                <a:xfrm flipH="1" flipV="1" rot="3964800">
                  <a:off x="5936400" y="433332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18"/>
                <p:cNvSpPr/>
                <p:nvPr/>
              </p:nvSpPr>
              <p:spPr>
                <a:xfrm flipH="1" flipV="1" rot="4780200">
                  <a:off x="588996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AutoShape 19"/>
                <p:cNvSpPr/>
                <p:nvPr/>
              </p:nvSpPr>
              <p:spPr>
                <a:xfrm flipH="1" flipV="1" rot="5076000">
                  <a:off x="5861160" y="43552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AutoShape 20"/>
                <p:cNvSpPr/>
                <p:nvPr/>
              </p:nvSpPr>
              <p:spPr>
                <a:xfrm flipH="1" flipV="1" rot="5608200">
                  <a:off x="5826600" y="4359240"/>
                  <a:ext cx="720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30800"/>
              <p:cNvGrpSpPr/>
              <p:nvPr/>
            </p:nvGrpSpPr>
            <p:grpSpPr>
              <a:xfrm>
                <a:off x="5621760" y="4393440"/>
                <a:ext cx="415800" cy="198000"/>
                <a:chOff x="5621760" y="4393440"/>
                <a:chExt cx="415800" cy="198000"/>
              </a:xfrm>
            </p:grpSpPr>
            <p:sp>
              <p:nvSpPr>
                <p:cNvPr id="1232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23"/>
                <p:cNvSpPr/>
                <p:nvPr/>
              </p:nvSpPr>
              <p:spPr>
                <a:xfrm flipH="1" flipV="1" rot="6133800">
                  <a:off x="5798880" y="435888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4"/>
                <p:cNvSpPr/>
                <p:nvPr/>
              </p:nvSpPr>
              <p:spPr>
                <a:xfrm flipH="1" flipV="1" rot="6429000">
                  <a:off x="5771520" y="4350960"/>
                  <a:ext cx="7236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25"/>
                <p:cNvSpPr/>
                <p:nvPr/>
              </p:nvSpPr>
              <p:spPr>
                <a:xfrm flipH="1" flipV="1" rot="6961200">
                  <a:off x="573768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6" name="组合 30805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1237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D45-A894-4037-9E20-DB0434D6440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68" name="文本框 1"/>
          <p:cNvSpPr/>
          <p:nvPr/>
        </p:nvSpPr>
        <p:spPr>
          <a:xfrm>
            <a:off x="2254320" y="6186600"/>
            <a:ext cx="59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380-0923-46CC-B7F8-02AB4B5A3F3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88" name="文本框 1"/>
          <p:cNvSpPr/>
          <p:nvPr/>
        </p:nvSpPr>
        <p:spPr>
          <a:xfrm>
            <a:off x="873000" y="5278320"/>
            <a:ext cx="62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083-CD7A-46D2-AFB7-230154A6B53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 flipV="1">
            <a:off x="3557520" y="165240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V="1">
            <a:off x="3557520" y="30938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 flipV="1">
            <a:off x="3557520" y="45320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4B53-EEB5-42AA-9F15-A910153361E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5122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517" name="组合 5123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51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5145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54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167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562" name="组合 5168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56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组合 5173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56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5184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579" name="组合 5185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58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文本框 5187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5188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58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/>
                <a:ahLst/>
                <a:rect l="l" t="t" r="r" b="b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/>
                <a:ahLst/>
                <a:rect l="l" t="t" r="r" b="b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/>
                <a:ahLst/>
                <a:rect l="l" t="t" r="r" b="b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/>
                <a:ahLst/>
                <a:rect l="l" t="t" r="r" b="b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CEE-903A-4D01-A834-4069C86FE98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AutoShape 8"/>
          <p:cNvCxnSpPr/>
          <p:nvPr/>
        </p:nvCxnSpPr>
        <p:spPr>
          <a:xfrm flipV="1">
            <a:off x="2195640" y="2296800"/>
            <a:ext cx="1823040" cy="4262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7" name="AutoShape 9"/>
          <p:cNvCxnSpPr/>
          <p:nvPr/>
        </p:nvCxnSpPr>
        <p:spPr>
          <a:xfrm>
            <a:off x="2195640" y="4361040"/>
            <a:ext cx="1823040" cy="7466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8" name="AutoShape 10"/>
          <p:cNvCxnSpPr>
            <a:endCxn id="60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round/>
            <a:tailEnd len="med" type="triangle" w="med"/>
          </a:ln>
        </p:spPr>
      </p:cxnSp>
      <p:grpSp>
        <p:nvGrpSpPr>
          <p:cNvPr id="609" name="组合 6155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610" name="组合 6156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61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WordArt 16" descr=""/>
          <p:cNvPicPr/>
          <p:nvPr/>
        </p:nvPicPr>
        <p:blipFill>
          <a:blip r:embed="rId3"/>
          <a:stretch/>
        </p:blipFill>
        <p:spPr>
          <a:xfrm>
            <a:off x="1660680" y="3362400"/>
            <a:ext cx="1076040" cy="542880"/>
          </a:xfrm>
          <a:prstGeom prst="rect">
            <a:avLst/>
          </a:prstGeom>
          <a:ln w="0">
            <a:noFill/>
          </a:ln>
        </p:spPr>
      </p:pic>
      <p:pic>
        <p:nvPicPr>
          <p:cNvPr id="61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401-7860-4672-98B7-7F042502473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F51B-6303-4013-AA34-E3F5D6016EC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185D-88BF-4A0D-8098-0F0D13118C6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1"/>
          <p:cNvSpPr/>
          <p:nvPr/>
        </p:nvSpPr>
        <p:spPr>
          <a:xfrm>
            <a:off x="609480" y="5975280"/>
            <a:ext cx="66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40C3-8462-4E07-A951-8ABC5F8FF15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11268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664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文本框 11270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11271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667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文本框 11273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1274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670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276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77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673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文本框 11279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11280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676" name="组合 11281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677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未知"/>
            <p:cNvSpPr/>
            <p:nvPr/>
          </p:nvSpPr>
          <p:spPr>
            <a:xfrm rot="16200000">
              <a:off x="116208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 rot="5400000">
              <a:off x="13100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1286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682" name="组合 11287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683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未知"/>
            <p:cNvSpPr/>
            <p:nvPr/>
          </p:nvSpPr>
          <p:spPr>
            <a:xfrm rot="16200000">
              <a:off x="4150800" y="326232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 rot="5400000">
              <a:off x="434880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92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688" name="组合 11293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689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未知"/>
            <p:cNvSpPr/>
            <p:nvPr/>
          </p:nvSpPr>
          <p:spPr>
            <a:xfrm rot="16200000">
              <a:off x="735336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 rot="5400000">
              <a:off x="7501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2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3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4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5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708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dministrator</cp:lastModifiedBy>
  <dcterms:modified xsi:type="dcterms:W3CDTF">2017-07-07T17:42:18Z</dcterms:modified>
  <cp:revision>2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