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68A-696D-4EBE-B0EF-94294371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D47-E20B-4599-A225-AF6166B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A38-9028-4C9D-8EBC-652F4065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F7B-F115-45BB-8BF8-9999E9FD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7D45-6B11-46A7-98CB-56ECDE65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61ED-2029-4C43-9583-0025F24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FAF-ABB8-478B-B822-6298D6A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D73-81F0-49F5-8B1A-B93EE2B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E82-B874-40FC-BF64-330C4A67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54E3-D918-4605-A92F-52B90AC5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0BE-108F-4103-A070-2FCD958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B7-3D9D-4C20-882D-16499618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8FBB-82F0-454E-ADF6-9632605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2408-548F-48FD-BEA9-CD18E70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FB34-7456-4E19-A3C8-65431D9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B47B-24E3-49EE-94D0-E9675921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5910-6CDF-433E-938B-8E42AE49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344-23F1-4985-AC34-58AD58F3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D0E-38EE-406B-A70B-E726992C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C75-3671-4FED-B019-E19DF814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D56-F029-44C9-B3BF-68D78D0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4E8-BE2B-4DE6-B302-448A7E3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845-8D0B-42BE-993B-8135B7E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E04-D279-411E-9F17-6F46DA0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4EF-5C43-4DC7-88BC-20F77E3B90A8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C4A0-981E-4B83-8DEB-3F89A0B063CB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3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sp>
          <p:nvSpPr>
            <p:cNvPr id="84" name="Line 5"/>
            <p:cNvSpPr/>
            <p:nvPr/>
          </p:nvSpPr>
          <p:spPr>
            <a:xfrm flipV="1">
              <a:off x="1648800" y="1709280"/>
              <a:ext cx="0" cy="4653000"/>
            </a:xfrm>
            <a:prstGeom prst="line">
              <a:avLst/>
            </a:prstGeom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1577880" y="1700280"/>
              <a:ext cx="139680" cy="116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36" h="199">
                  <a:moveTo>
                    <a:pt x="0" y="193"/>
                  </a:moveTo>
                  <a:lnTo>
                    <a:pt x="122" y="0"/>
                  </a:lnTo>
                  <a:lnTo>
                    <a:pt x="236" y="199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sp>
          <p:nvSpPr>
            <p:cNvPr id="87" name="Line 6"/>
            <p:cNvSpPr/>
            <p:nvPr/>
          </p:nvSpPr>
          <p:spPr>
            <a:xfrm>
              <a:off x="1649520" y="6363000"/>
              <a:ext cx="6234120" cy="0"/>
            </a:xfrm>
            <a:prstGeom prst="line">
              <a:avLst/>
            </a:prstGeom>
            <a:ln w="302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736760" y="6249960"/>
              <a:ext cx="146880" cy="2034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248" h="347">
                  <a:moveTo>
                    <a:pt x="32" y="0"/>
                  </a:moveTo>
                  <a:lnTo>
                    <a:pt x="248" y="195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100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24922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69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7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7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69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59452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60280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3027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3644640" y="1876320"/>
              <a:ext cx="763920" cy="7632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7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7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374796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4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3756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4180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47980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3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5" y="901"/>
                  </a:lnTo>
                  <a:lnTo>
                    <a:pt x="1233" y="930"/>
                  </a:lnTo>
                  <a:lnTo>
                    <a:pt x="1218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8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6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8" y="1283"/>
                  </a:lnTo>
                  <a:lnTo>
                    <a:pt x="748" y="1291"/>
                  </a:lnTo>
                  <a:lnTo>
                    <a:pt x="715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4" y="1296"/>
                  </a:lnTo>
                  <a:lnTo>
                    <a:pt x="582" y="1294"/>
                  </a:lnTo>
                  <a:lnTo>
                    <a:pt x="549" y="1291"/>
                  </a:lnTo>
                  <a:lnTo>
                    <a:pt x="517" y="1283"/>
                  </a:lnTo>
                  <a:lnTo>
                    <a:pt x="486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7" y="1233"/>
                  </a:lnTo>
                  <a:lnTo>
                    <a:pt x="339" y="1218"/>
                  </a:lnTo>
                  <a:lnTo>
                    <a:pt x="311" y="1204"/>
                  </a:lnTo>
                  <a:lnTo>
                    <a:pt x="284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2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7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3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8" y="842"/>
                  </a:lnTo>
                  <a:lnTo>
                    <a:pt x="19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19" y="486"/>
                  </a:lnTo>
                  <a:lnTo>
                    <a:pt x="28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3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7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2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4" y="110"/>
                  </a:lnTo>
                  <a:lnTo>
                    <a:pt x="311" y="93"/>
                  </a:lnTo>
                  <a:lnTo>
                    <a:pt x="339" y="77"/>
                  </a:lnTo>
                  <a:lnTo>
                    <a:pt x="367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6" y="19"/>
                  </a:lnTo>
                  <a:lnTo>
                    <a:pt x="517" y="12"/>
                  </a:lnTo>
                  <a:lnTo>
                    <a:pt x="549" y="7"/>
                  </a:lnTo>
                  <a:lnTo>
                    <a:pt x="582" y="1"/>
                  </a:lnTo>
                  <a:lnTo>
                    <a:pt x="614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5" y="1"/>
                  </a:lnTo>
                  <a:lnTo>
                    <a:pt x="748" y="7"/>
                  </a:lnTo>
                  <a:lnTo>
                    <a:pt x="778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6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8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8" y="339"/>
                  </a:lnTo>
                  <a:lnTo>
                    <a:pt x="1233" y="367"/>
                  </a:lnTo>
                  <a:lnTo>
                    <a:pt x="1245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3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490140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2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4909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533412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595116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9" h="1298">
                  <a:moveTo>
                    <a:pt x="1299" y="649"/>
                  </a:moveTo>
                  <a:lnTo>
                    <a:pt x="1299" y="649"/>
                  </a:lnTo>
                  <a:lnTo>
                    <a:pt x="1297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70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4" y="930"/>
                  </a:lnTo>
                  <a:lnTo>
                    <a:pt x="1219" y="957"/>
                  </a:lnTo>
                  <a:lnTo>
                    <a:pt x="1205" y="984"/>
                  </a:lnTo>
                  <a:lnTo>
                    <a:pt x="1187" y="1011"/>
                  </a:lnTo>
                  <a:lnTo>
                    <a:pt x="1169" y="1036"/>
                  </a:lnTo>
                  <a:lnTo>
                    <a:pt x="1151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6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8" y="1218"/>
                  </a:lnTo>
                  <a:lnTo>
                    <a:pt x="931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2" y="1276"/>
                  </a:lnTo>
                  <a:lnTo>
                    <a:pt x="779" y="1283"/>
                  </a:lnTo>
                  <a:lnTo>
                    <a:pt x="749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3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7" y="1148"/>
                  </a:lnTo>
                  <a:lnTo>
                    <a:pt x="213" y="1128"/>
                  </a:lnTo>
                  <a:lnTo>
                    <a:pt x="190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8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8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90" y="189"/>
                  </a:lnTo>
                  <a:lnTo>
                    <a:pt x="213" y="167"/>
                  </a:lnTo>
                  <a:lnTo>
                    <a:pt x="237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3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9" y="7"/>
                  </a:lnTo>
                  <a:lnTo>
                    <a:pt x="779" y="12"/>
                  </a:lnTo>
                  <a:lnTo>
                    <a:pt x="812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1" y="63"/>
                  </a:lnTo>
                  <a:lnTo>
                    <a:pt x="958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6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1" y="236"/>
                  </a:lnTo>
                  <a:lnTo>
                    <a:pt x="1169" y="259"/>
                  </a:lnTo>
                  <a:lnTo>
                    <a:pt x="1187" y="284"/>
                  </a:lnTo>
                  <a:lnTo>
                    <a:pt x="1205" y="311"/>
                  </a:lnTo>
                  <a:lnTo>
                    <a:pt x="1219" y="339"/>
                  </a:lnTo>
                  <a:lnTo>
                    <a:pt x="1234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70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7" y="614"/>
                  </a:lnTo>
                  <a:lnTo>
                    <a:pt x="1299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05484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606276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648612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118" name="Freeform 36"/>
            <p:cNvSpPr/>
            <p:nvPr/>
          </p:nvSpPr>
          <p:spPr>
            <a:xfrm>
              <a:off x="251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8" y="726"/>
                  </a:lnTo>
                  <a:lnTo>
                    <a:pt x="1324" y="288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124" name="Freeform 40"/>
            <p:cNvSpPr/>
            <p:nvPr/>
          </p:nvSpPr>
          <p:spPr>
            <a:xfrm>
              <a:off x="3681720" y="3366720"/>
              <a:ext cx="777240" cy="42768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7" y="726"/>
                  </a:lnTo>
                  <a:lnTo>
                    <a:pt x="1324" y="290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130" name="Freeform 44"/>
            <p:cNvSpPr/>
            <p:nvPr/>
          </p:nvSpPr>
          <p:spPr>
            <a:xfrm>
              <a:off x="485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1" h="726">
                  <a:moveTo>
                    <a:pt x="0" y="0"/>
                  </a:moveTo>
                  <a:lnTo>
                    <a:pt x="0" y="283"/>
                  </a:lnTo>
                  <a:lnTo>
                    <a:pt x="441" y="726"/>
                  </a:lnTo>
                  <a:lnTo>
                    <a:pt x="885" y="726"/>
                  </a:lnTo>
                  <a:lnTo>
                    <a:pt x="1321" y="288"/>
                  </a:lnTo>
                  <a:lnTo>
                    <a:pt x="1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136" name="Freeform 48"/>
            <p:cNvSpPr/>
            <p:nvPr/>
          </p:nvSpPr>
          <p:spPr>
            <a:xfrm>
              <a:off x="5958000" y="4611240"/>
              <a:ext cx="776160" cy="4280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322" h="727">
                  <a:moveTo>
                    <a:pt x="0" y="0"/>
                  </a:moveTo>
                  <a:lnTo>
                    <a:pt x="0" y="285"/>
                  </a:lnTo>
                  <a:lnTo>
                    <a:pt x="442" y="727"/>
                  </a:lnTo>
                  <a:lnTo>
                    <a:pt x="885" y="727"/>
                  </a:lnTo>
                  <a:lnTo>
                    <a:pt x="1322" y="290"/>
                  </a:lnTo>
                  <a:lnTo>
                    <a:pt x="13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2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143" name="Freeform 368"/>
            <p:cNvSpPr/>
            <p:nvPr/>
          </p:nvSpPr>
          <p:spPr>
            <a:xfrm>
              <a:off x="2828880" y="1689120"/>
              <a:ext cx="3230640" cy="222552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2225520"/>
                <a:gd name="textAreaBottom" fmla="*/ 2225880 h 2225520"/>
              </a:gdLst>
              <a:ahLst/>
              <a:rect l="textAreaLeft" t="textAreaTop" r="textAreaRight" b="textAreaBottom"/>
              <a:pathLst>
                <a:path w="4069" h="2804">
                  <a:moveTo>
                    <a:pt x="0" y="2804"/>
                  </a:moveTo>
                  <a:lnTo>
                    <a:pt x="0" y="1202"/>
                  </a:lnTo>
                  <a:lnTo>
                    <a:pt x="646" y="1202"/>
                  </a:lnTo>
                  <a:lnTo>
                    <a:pt x="646" y="583"/>
                  </a:lnTo>
                  <a:lnTo>
                    <a:pt x="965" y="583"/>
                  </a:lnTo>
                  <a:lnTo>
                    <a:pt x="965" y="0"/>
                  </a:lnTo>
                  <a:lnTo>
                    <a:pt x="1630" y="0"/>
                  </a:lnTo>
                  <a:lnTo>
                    <a:pt x="1630" y="319"/>
                  </a:lnTo>
                  <a:lnTo>
                    <a:pt x="2649" y="319"/>
                  </a:lnTo>
                  <a:lnTo>
                    <a:pt x="2649" y="637"/>
                  </a:lnTo>
                  <a:lnTo>
                    <a:pt x="3114" y="637"/>
                  </a:lnTo>
                  <a:lnTo>
                    <a:pt x="3114" y="674"/>
                  </a:lnTo>
                  <a:lnTo>
                    <a:pt x="3114" y="1074"/>
                  </a:lnTo>
                  <a:lnTo>
                    <a:pt x="3733" y="1074"/>
                  </a:lnTo>
                  <a:lnTo>
                    <a:pt x="3733" y="1666"/>
                  </a:lnTo>
                  <a:lnTo>
                    <a:pt x="4069" y="1666"/>
                  </a:lnTo>
                  <a:lnTo>
                    <a:pt x="4069" y="2786"/>
                  </a:lnTo>
                  <a:lnTo>
                    <a:pt x="0" y="2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182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507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743"/>
            <p:cNvSpPr/>
            <p:nvPr/>
          </p:nvSpPr>
          <p:spPr>
            <a:xfrm>
              <a:off x="2022120" y="35301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744"/>
            <p:cNvSpPr/>
            <p:nvPr/>
          </p:nvSpPr>
          <p:spPr>
            <a:xfrm>
              <a:off x="2022120" y="36748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45"/>
            <p:cNvSpPr/>
            <p:nvPr/>
          </p:nvSpPr>
          <p:spPr>
            <a:xfrm>
              <a:off x="2022120" y="38192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746"/>
            <p:cNvSpPr/>
            <p:nvPr/>
          </p:nvSpPr>
          <p:spPr>
            <a:xfrm>
              <a:off x="2022120" y="39636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747"/>
            <p:cNvSpPr/>
            <p:nvPr/>
          </p:nvSpPr>
          <p:spPr>
            <a:xfrm>
              <a:off x="2022120" y="410832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748"/>
            <p:cNvSpPr/>
            <p:nvPr/>
          </p:nvSpPr>
          <p:spPr>
            <a:xfrm>
              <a:off x="20952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49"/>
            <p:cNvSpPr/>
            <p:nvPr/>
          </p:nvSpPr>
          <p:spPr>
            <a:xfrm>
              <a:off x="2239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50"/>
            <p:cNvSpPr/>
            <p:nvPr/>
          </p:nvSpPr>
          <p:spPr>
            <a:xfrm>
              <a:off x="23842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751"/>
            <p:cNvSpPr/>
            <p:nvPr/>
          </p:nvSpPr>
          <p:spPr>
            <a:xfrm>
              <a:off x="25286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752"/>
            <p:cNvSpPr/>
            <p:nvPr/>
          </p:nvSpPr>
          <p:spPr>
            <a:xfrm>
              <a:off x="26730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53"/>
            <p:cNvSpPr/>
            <p:nvPr/>
          </p:nvSpPr>
          <p:spPr>
            <a:xfrm>
              <a:off x="28177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54"/>
            <p:cNvSpPr/>
            <p:nvPr/>
          </p:nvSpPr>
          <p:spPr>
            <a:xfrm>
              <a:off x="29620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755"/>
            <p:cNvSpPr/>
            <p:nvPr/>
          </p:nvSpPr>
          <p:spPr>
            <a:xfrm>
              <a:off x="31064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56"/>
            <p:cNvSpPr/>
            <p:nvPr/>
          </p:nvSpPr>
          <p:spPr>
            <a:xfrm>
              <a:off x="32511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57"/>
            <p:cNvSpPr/>
            <p:nvPr/>
          </p:nvSpPr>
          <p:spPr>
            <a:xfrm>
              <a:off x="33955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58"/>
            <p:cNvSpPr/>
            <p:nvPr/>
          </p:nvSpPr>
          <p:spPr>
            <a:xfrm>
              <a:off x="35398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759"/>
            <p:cNvSpPr/>
            <p:nvPr/>
          </p:nvSpPr>
          <p:spPr>
            <a:xfrm>
              <a:off x="36846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60"/>
            <p:cNvSpPr/>
            <p:nvPr/>
          </p:nvSpPr>
          <p:spPr>
            <a:xfrm>
              <a:off x="38289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61"/>
            <p:cNvSpPr/>
            <p:nvPr/>
          </p:nvSpPr>
          <p:spPr>
            <a:xfrm>
              <a:off x="39733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762"/>
            <p:cNvSpPr/>
            <p:nvPr/>
          </p:nvSpPr>
          <p:spPr>
            <a:xfrm>
              <a:off x="41180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63"/>
            <p:cNvSpPr/>
            <p:nvPr/>
          </p:nvSpPr>
          <p:spPr>
            <a:xfrm>
              <a:off x="42638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764"/>
            <p:cNvSpPr/>
            <p:nvPr/>
          </p:nvSpPr>
          <p:spPr>
            <a:xfrm>
              <a:off x="4408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65"/>
            <p:cNvSpPr/>
            <p:nvPr/>
          </p:nvSpPr>
          <p:spPr>
            <a:xfrm>
              <a:off x="45529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66"/>
            <p:cNvSpPr/>
            <p:nvPr/>
          </p:nvSpPr>
          <p:spPr>
            <a:xfrm>
              <a:off x="46972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767"/>
            <p:cNvSpPr/>
            <p:nvPr/>
          </p:nvSpPr>
          <p:spPr>
            <a:xfrm>
              <a:off x="48420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768"/>
            <p:cNvSpPr/>
            <p:nvPr/>
          </p:nvSpPr>
          <p:spPr>
            <a:xfrm>
              <a:off x="49863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69"/>
            <p:cNvSpPr/>
            <p:nvPr/>
          </p:nvSpPr>
          <p:spPr>
            <a:xfrm>
              <a:off x="51307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70"/>
            <p:cNvSpPr/>
            <p:nvPr/>
          </p:nvSpPr>
          <p:spPr>
            <a:xfrm>
              <a:off x="52754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71"/>
            <p:cNvSpPr/>
            <p:nvPr/>
          </p:nvSpPr>
          <p:spPr>
            <a:xfrm>
              <a:off x="54198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772"/>
            <p:cNvSpPr/>
            <p:nvPr/>
          </p:nvSpPr>
          <p:spPr>
            <a:xfrm>
              <a:off x="55641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73"/>
            <p:cNvSpPr/>
            <p:nvPr/>
          </p:nvSpPr>
          <p:spPr>
            <a:xfrm>
              <a:off x="57088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74"/>
            <p:cNvSpPr/>
            <p:nvPr/>
          </p:nvSpPr>
          <p:spPr>
            <a:xfrm>
              <a:off x="58532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75"/>
            <p:cNvSpPr/>
            <p:nvPr/>
          </p:nvSpPr>
          <p:spPr>
            <a:xfrm>
              <a:off x="5958000" y="4221000"/>
              <a:ext cx="0" cy="7128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76"/>
            <p:cNvSpPr/>
            <p:nvPr/>
          </p:nvSpPr>
          <p:spPr>
            <a:xfrm>
              <a:off x="5958000" y="43653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777"/>
            <p:cNvSpPr/>
            <p:nvPr/>
          </p:nvSpPr>
          <p:spPr>
            <a:xfrm>
              <a:off x="5958000" y="45100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78"/>
            <p:cNvSpPr/>
            <p:nvPr/>
          </p:nvSpPr>
          <p:spPr>
            <a:xfrm>
              <a:off x="5958000" y="46544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79"/>
            <p:cNvSpPr/>
            <p:nvPr/>
          </p:nvSpPr>
          <p:spPr>
            <a:xfrm>
              <a:off x="5958000" y="47988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549" name="Freeform 741"/>
            <p:cNvSpPr/>
            <p:nvPr/>
          </p:nvSpPr>
          <p:spPr>
            <a:xfrm>
              <a:off x="5351400" y="5016600"/>
              <a:ext cx="1225440" cy="122400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1544" y="772"/>
                  </a:moveTo>
                  <a:lnTo>
                    <a:pt x="1544" y="772"/>
                  </a:lnTo>
                  <a:lnTo>
                    <a:pt x="1543" y="812"/>
                  </a:lnTo>
                  <a:lnTo>
                    <a:pt x="1540" y="852"/>
                  </a:lnTo>
                  <a:lnTo>
                    <a:pt x="1535" y="890"/>
                  </a:lnTo>
                  <a:lnTo>
                    <a:pt x="1528" y="928"/>
                  </a:lnTo>
                  <a:lnTo>
                    <a:pt x="1519" y="965"/>
                  </a:lnTo>
                  <a:lnTo>
                    <a:pt x="1509" y="1002"/>
                  </a:lnTo>
                  <a:lnTo>
                    <a:pt x="1497" y="1037"/>
                  </a:lnTo>
                  <a:lnTo>
                    <a:pt x="1483" y="1072"/>
                  </a:lnTo>
                  <a:lnTo>
                    <a:pt x="1468" y="1107"/>
                  </a:lnTo>
                  <a:lnTo>
                    <a:pt x="1451" y="1140"/>
                  </a:lnTo>
                  <a:lnTo>
                    <a:pt x="1432" y="1173"/>
                  </a:lnTo>
                  <a:lnTo>
                    <a:pt x="1412" y="1203"/>
                  </a:lnTo>
                  <a:lnTo>
                    <a:pt x="1391" y="1234"/>
                  </a:lnTo>
                  <a:lnTo>
                    <a:pt x="1368" y="1264"/>
                  </a:lnTo>
                  <a:lnTo>
                    <a:pt x="1343" y="1291"/>
                  </a:lnTo>
                  <a:lnTo>
                    <a:pt x="1318" y="1318"/>
                  </a:lnTo>
                  <a:lnTo>
                    <a:pt x="1291" y="1343"/>
                  </a:lnTo>
                  <a:lnTo>
                    <a:pt x="1263" y="1367"/>
                  </a:lnTo>
                  <a:lnTo>
                    <a:pt x="1234" y="1391"/>
                  </a:lnTo>
                  <a:lnTo>
                    <a:pt x="1204" y="1413"/>
                  </a:lnTo>
                  <a:lnTo>
                    <a:pt x="1172" y="1432"/>
                  </a:lnTo>
                  <a:lnTo>
                    <a:pt x="1140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8" y="1497"/>
                  </a:lnTo>
                  <a:lnTo>
                    <a:pt x="1002" y="1509"/>
                  </a:lnTo>
                  <a:lnTo>
                    <a:pt x="965" y="1520"/>
                  </a:lnTo>
                  <a:lnTo>
                    <a:pt x="928" y="1529"/>
                  </a:lnTo>
                  <a:lnTo>
                    <a:pt x="890" y="1534"/>
                  </a:lnTo>
                  <a:lnTo>
                    <a:pt x="851" y="1540"/>
                  </a:lnTo>
                  <a:lnTo>
                    <a:pt x="812" y="1542"/>
                  </a:lnTo>
                  <a:lnTo>
                    <a:pt x="772" y="1544"/>
                  </a:lnTo>
                  <a:lnTo>
                    <a:pt x="733" y="1542"/>
                  </a:lnTo>
                  <a:lnTo>
                    <a:pt x="693" y="1540"/>
                  </a:lnTo>
                  <a:lnTo>
                    <a:pt x="655" y="1534"/>
                  </a:lnTo>
                  <a:lnTo>
                    <a:pt x="617" y="1529"/>
                  </a:lnTo>
                  <a:lnTo>
                    <a:pt x="579" y="1520"/>
                  </a:lnTo>
                  <a:lnTo>
                    <a:pt x="543" y="1509"/>
                  </a:lnTo>
                  <a:lnTo>
                    <a:pt x="507" y="1497"/>
                  </a:lnTo>
                  <a:lnTo>
                    <a:pt x="472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2" y="1432"/>
                  </a:lnTo>
                  <a:lnTo>
                    <a:pt x="340" y="1413"/>
                  </a:lnTo>
                  <a:lnTo>
                    <a:pt x="311" y="1391"/>
                  </a:lnTo>
                  <a:lnTo>
                    <a:pt x="281" y="1367"/>
                  </a:lnTo>
                  <a:lnTo>
                    <a:pt x="254" y="1343"/>
                  </a:lnTo>
                  <a:lnTo>
                    <a:pt x="227" y="1318"/>
                  </a:lnTo>
                  <a:lnTo>
                    <a:pt x="202" y="1291"/>
                  </a:lnTo>
                  <a:lnTo>
                    <a:pt x="177" y="1264"/>
                  </a:lnTo>
                  <a:lnTo>
                    <a:pt x="154" y="1234"/>
                  </a:lnTo>
                  <a:lnTo>
                    <a:pt x="132" y="1203"/>
                  </a:lnTo>
                  <a:lnTo>
                    <a:pt x="113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2" y="1072"/>
                  </a:lnTo>
                  <a:lnTo>
                    <a:pt x="48" y="1037"/>
                  </a:lnTo>
                  <a:lnTo>
                    <a:pt x="35" y="1002"/>
                  </a:lnTo>
                  <a:lnTo>
                    <a:pt x="25" y="965"/>
                  </a:lnTo>
                  <a:lnTo>
                    <a:pt x="16" y="928"/>
                  </a:lnTo>
                  <a:lnTo>
                    <a:pt x="9" y="890"/>
                  </a:lnTo>
                  <a:lnTo>
                    <a:pt x="5" y="852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3"/>
                  </a:lnTo>
                  <a:lnTo>
                    <a:pt x="9" y="655"/>
                  </a:lnTo>
                  <a:lnTo>
                    <a:pt x="16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8" y="507"/>
                  </a:lnTo>
                  <a:lnTo>
                    <a:pt x="62" y="472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3" y="373"/>
                  </a:lnTo>
                  <a:lnTo>
                    <a:pt x="132" y="341"/>
                  </a:lnTo>
                  <a:lnTo>
                    <a:pt x="154" y="311"/>
                  </a:lnTo>
                  <a:lnTo>
                    <a:pt x="177" y="281"/>
                  </a:lnTo>
                  <a:lnTo>
                    <a:pt x="202" y="253"/>
                  </a:lnTo>
                  <a:lnTo>
                    <a:pt x="227" y="227"/>
                  </a:lnTo>
                  <a:lnTo>
                    <a:pt x="254" y="201"/>
                  </a:lnTo>
                  <a:lnTo>
                    <a:pt x="281" y="177"/>
                  </a:lnTo>
                  <a:lnTo>
                    <a:pt x="311" y="154"/>
                  </a:lnTo>
                  <a:lnTo>
                    <a:pt x="340" y="132"/>
                  </a:lnTo>
                  <a:lnTo>
                    <a:pt x="372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2" y="61"/>
                  </a:lnTo>
                  <a:lnTo>
                    <a:pt x="507" y="47"/>
                  </a:lnTo>
                  <a:lnTo>
                    <a:pt x="543" y="36"/>
                  </a:lnTo>
                  <a:lnTo>
                    <a:pt x="579" y="25"/>
                  </a:lnTo>
                  <a:lnTo>
                    <a:pt x="617" y="16"/>
                  </a:lnTo>
                  <a:lnTo>
                    <a:pt x="655" y="9"/>
                  </a:lnTo>
                  <a:lnTo>
                    <a:pt x="693" y="5"/>
                  </a:lnTo>
                  <a:lnTo>
                    <a:pt x="733" y="2"/>
                  </a:lnTo>
                  <a:lnTo>
                    <a:pt x="772" y="0"/>
                  </a:lnTo>
                  <a:lnTo>
                    <a:pt x="812" y="2"/>
                  </a:lnTo>
                  <a:lnTo>
                    <a:pt x="851" y="5"/>
                  </a:lnTo>
                  <a:lnTo>
                    <a:pt x="890" y="9"/>
                  </a:lnTo>
                  <a:lnTo>
                    <a:pt x="928" y="16"/>
                  </a:lnTo>
                  <a:lnTo>
                    <a:pt x="965" y="25"/>
                  </a:lnTo>
                  <a:lnTo>
                    <a:pt x="1002" y="36"/>
                  </a:lnTo>
                  <a:lnTo>
                    <a:pt x="1038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40" y="94"/>
                  </a:lnTo>
                  <a:lnTo>
                    <a:pt x="1172" y="112"/>
                  </a:lnTo>
                  <a:lnTo>
                    <a:pt x="1204" y="132"/>
                  </a:lnTo>
                  <a:lnTo>
                    <a:pt x="1234" y="154"/>
                  </a:lnTo>
                  <a:lnTo>
                    <a:pt x="1263" y="177"/>
                  </a:lnTo>
                  <a:lnTo>
                    <a:pt x="1291" y="201"/>
                  </a:lnTo>
                  <a:lnTo>
                    <a:pt x="1318" y="227"/>
                  </a:lnTo>
                  <a:lnTo>
                    <a:pt x="1343" y="253"/>
                  </a:lnTo>
                  <a:lnTo>
                    <a:pt x="1368" y="281"/>
                  </a:lnTo>
                  <a:lnTo>
                    <a:pt x="1391" y="311"/>
                  </a:lnTo>
                  <a:lnTo>
                    <a:pt x="1412" y="341"/>
                  </a:lnTo>
                  <a:lnTo>
                    <a:pt x="1432" y="373"/>
                  </a:lnTo>
                  <a:lnTo>
                    <a:pt x="1451" y="404"/>
                  </a:lnTo>
                  <a:lnTo>
                    <a:pt x="1468" y="437"/>
                  </a:lnTo>
                  <a:lnTo>
                    <a:pt x="1483" y="472"/>
                  </a:lnTo>
                  <a:lnTo>
                    <a:pt x="1497" y="507"/>
                  </a:lnTo>
                  <a:lnTo>
                    <a:pt x="1509" y="543"/>
                  </a:lnTo>
                  <a:lnTo>
                    <a:pt x="1519" y="580"/>
                  </a:lnTo>
                  <a:lnTo>
                    <a:pt x="1528" y="617"/>
                  </a:lnTo>
                  <a:lnTo>
                    <a:pt x="1535" y="655"/>
                  </a:lnTo>
                  <a:lnTo>
                    <a:pt x="1540" y="693"/>
                  </a:lnTo>
                  <a:lnTo>
                    <a:pt x="1543" y="732"/>
                  </a:lnTo>
                  <a:lnTo>
                    <a:pt x="1544" y="772"/>
                  </a:lnTo>
                  <a:close/>
                </a:path>
              </a:pathLst>
            </a:custGeom>
            <a:solidFill>
              <a:srgbClr val="ffffff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80"/>
            <p:cNvSpPr/>
            <p:nvPr/>
          </p:nvSpPr>
          <p:spPr>
            <a:xfrm>
              <a:off x="5686200" y="5335560"/>
              <a:ext cx="573120" cy="56664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723" h="715">
                  <a:moveTo>
                    <a:pt x="29" y="705"/>
                  </a:moveTo>
                  <a:lnTo>
                    <a:pt x="29" y="705"/>
                  </a:lnTo>
                  <a:lnTo>
                    <a:pt x="27" y="695"/>
                  </a:lnTo>
                  <a:lnTo>
                    <a:pt x="21" y="672"/>
                  </a:lnTo>
                  <a:lnTo>
                    <a:pt x="13" y="633"/>
                  </a:lnTo>
                  <a:lnTo>
                    <a:pt x="8" y="609"/>
                  </a:lnTo>
                  <a:lnTo>
                    <a:pt x="5" y="583"/>
                  </a:lnTo>
                  <a:lnTo>
                    <a:pt x="3" y="554"/>
                  </a:lnTo>
                  <a:lnTo>
                    <a:pt x="0" y="524"/>
                  </a:lnTo>
                  <a:lnTo>
                    <a:pt x="0" y="492"/>
                  </a:lnTo>
                  <a:lnTo>
                    <a:pt x="0" y="459"/>
                  </a:lnTo>
                  <a:lnTo>
                    <a:pt x="3" y="426"/>
                  </a:lnTo>
                  <a:lnTo>
                    <a:pt x="7" y="390"/>
                  </a:lnTo>
                  <a:lnTo>
                    <a:pt x="14" y="355"/>
                  </a:lnTo>
                  <a:lnTo>
                    <a:pt x="22" y="321"/>
                  </a:lnTo>
                  <a:lnTo>
                    <a:pt x="28" y="303"/>
                  </a:lnTo>
                  <a:lnTo>
                    <a:pt x="35" y="286"/>
                  </a:lnTo>
                  <a:lnTo>
                    <a:pt x="41" y="269"/>
                  </a:lnTo>
                  <a:lnTo>
                    <a:pt x="49" y="252"/>
                  </a:lnTo>
                  <a:lnTo>
                    <a:pt x="57" y="236"/>
                  </a:lnTo>
                  <a:lnTo>
                    <a:pt x="66" y="219"/>
                  </a:lnTo>
                  <a:lnTo>
                    <a:pt x="77" y="203"/>
                  </a:lnTo>
                  <a:lnTo>
                    <a:pt x="88" y="187"/>
                  </a:lnTo>
                  <a:lnTo>
                    <a:pt x="101" y="171"/>
                  </a:lnTo>
                  <a:lnTo>
                    <a:pt x="113" y="156"/>
                  </a:lnTo>
                  <a:lnTo>
                    <a:pt x="127" y="141"/>
                  </a:lnTo>
                  <a:lnTo>
                    <a:pt x="143" y="128"/>
                  </a:lnTo>
                  <a:lnTo>
                    <a:pt x="159" y="114"/>
                  </a:lnTo>
                  <a:lnTo>
                    <a:pt x="176" y="101"/>
                  </a:lnTo>
                  <a:lnTo>
                    <a:pt x="194" y="89"/>
                  </a:lnTo>
                  <a:lnTo>
                    <a:pt x="213" y="76"/>
                  </a:lnTo>
                  <a:lnTo>
                    <a:pt x="235" y="66"/>
                  </a:lnTo>
                  <a:lnTo>
                    <a:pt x="256" y="56"/>
                  </a:lnTo>
                  <a:lnTo>
                    <a:pt x="279" y="46"/>
                  </a:lnTo>
                  <a:lnTo>
                    <a:pt x="304" y="37"/>
                  </a:lnTo>
                  <a:lnTo>
                    <a:pt x="330" y="30"/>
                  </a:lnTo>
                  <a:lnTo>
                    <a:pt x="358" y="22"/>
                  </a:lnTo>
                  <a:lnTo>
                    <a:pt x="386" y="16"/>
                  </a:lnTo>
                  <a:lnTo>
                    <a:pt x="416" y="10"/>
                  </a:lnTo>
                  <a:lnTo>
                    <a:pt x="448" y="7"/>
                  </a:lnTo>
                  <a:lnTo>
                    <a:pt x="481" y="4"/>
                  </a:lnTo>
                  <a:lnTo>
                    <a:pt x="516" y="1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9" y="2"/>
                  </a:lnTo>
                  <a:lnTo>
                    <a:pt x="670" y="5"/>
                  </a:lnTo>
                  <a:lnTo>
                    <a:pt x="713" y="8"/>
                  </a:lnTo>
                  <a:lnTo>
                    <a:pt x="714" y="17"/>
                  </a:lnTo>
                  <a:lnTo>
                    <a:pt x="717" y="42"/>
                  </a:lnTo>
                  <a:lnTo>
                    <a:pt x="721" y="82"/>
                  </a:lnTo>
                  <a:lnTo>
                    <a:pt x="722" y="106"/>
                  </a:lnTo>
                  <a:lnTo>
                    <a:pt x="723" y="132"/>
                  </a:lnTo>
                  <a:lnTo>
                    <a:pt x="723" y="162"/>
                  </a:lnTo>
                  <a:lnTo>
                    <a:pt x="722" y="191"/>
                  </a:lnTo>
                  <a:lnTo>
                    <a:pt x="720" y="224"/>
                  </a:lnTo>
                  <a:lnTo>
                    <a:pt x="716" y="257"/>
                  </a:lnTo>
                  <a:lnTo>
                    <a:pt x="710" y="291"/>
                  </a:lnTo>
                  <a:lnTo>
                    <a:pt x="704" y="327"/>
                  </a:lnTo>
                  <a:lnTo>
                    <a:pt x="695" y="362"/>
                  </a:lnTo>
                  <a:lnTo>
                    <a:pt x="683" y="397"/>
                  </a:lnTo>
                  <a:lnTo>
                    <a:pt x="670" y="433"/>
                  </a:lnTo>
                  <a:lnTo>
                    <a:pt x="662" y="450"/>
                  </a:lnTo>
                  <a:lnTo>
                    <a:pt x="654" y="467"/>
                  </a:lnTo>
                  <a:lnTo>
                    <a:pt x="643" y="484"/>
                  </a:lnTo>
                  <a:lnTo>
                    <a:pt x="634" y="501"/>
                  </a:lnTo>
                  <a:lnTo>
                    <a:pt x="623" y="517"/>
                  </a:lnTo>
                  <a:lnTo>
                    <a:pt x="611" y="533"/>
                  </a:lnTo>
                  <a:lnTo>
                    <a:pt x="599" y="548"/>
                  </a:lnTo>
                  <a:lnTo>
                    <a:pt x="586" y="563"/>
                  </a:lnTo>
                  <a:lnTo>
                    <a:pt x="572" y="577"/>
                  </a:lnTo>
                  <a:lnTo>
                    <a:pt x="557" y="592"/>
                  </a:lnTo>
                  <a:lnTo>
                    <a:pt x="541" y="606"/>
                  </a:lnTo>
                  <a:lnTo>
                    <a:pt x="524" y="618"/>
                  </a:lnTo>
                  <a:lnTo>
                    <a:pt x="507" y="631"/>
                  </a:lnTo>
                  <a:lnTo>
                    <a:pt x="487" y="642"/>
                  </a:lnTo>
                  <a:lnTo>
                    <a:pt x="468" y="653"/>
                  </a:lnTo>
                  <a:lnTo>
                    <a:pt x="446" y="664"/>
                  </a:lnTo>
                  <a:lnTo>
                    <a:pt x="425" y="673"/>
                  </a:lnTo>
                  <a:lnTo>
                    <a:pt x="402" y="681"/>
                  </a:lnTo>
                  <a:lnTo>
                    <a:pt x="377" y="689"/>
                  </a:lnTo>
                  <a:lnTo>
                    <a:pt x="352" y="695"/>
                  </a:lnTo>
                  <a:lnTo>
                    <a:pt x="326" y="701"/>
                  </a:lnTo>
                  <a:lnTo>
                    <a:pt x="297" y="707"/>
                  </a:lnTo>
                  <a:lnTo>
                    <a:pt x="269" y="710"/>
                  </a:lnTo>
                  <a:lnTo>
                    <a:pt x="238" y="713"/>
                  </a:lnTo>
                  <a:lnTo>
                    <a:pt x="207" y="715"/>
                  </a:lnTo>
                  <a:lnTo>
                    <a:pt x="174" y="715"/>
                  </a:lnTo>
                  <a:lnTo>
                    <a:pt x="140" y="715"/>
                  </a:lnTo>
                  <a:lnTo>
                    <a:pt x="105" y="713"/>
                  </a:lnTo>
                  <a:lnTo>
                    <a:pt x="68" y="709"/>
                  </a:lnTo>
                  <a:lnTo>
                    <a:pt x="29" y="7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1"/>
            <p:cNvSpPr/>
            <p:nvPr/>
          </p:nvSpPr>
          <p:spPr>
            <a:xfrm>
              <a:off x="5708520" y="5427720"/>
              <a:ext cx="466560" cy="4665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87" h="588">
                  <a:moveTo>
                    <a:pt x="0" y="588"/>
                  </a:moveTo>
                  <a:lnTo>
                    <a:pt x="0" y="588"/>
                  </a:lnTo>
                  <a:lnTo>
                    <a:pt x="19" y="564"/>
                  </a:lnTo>
                  <a:lnTo>
                    <a:pt x="69" y="500"/>
                  </a:lnTo>
                  <a:lnTo>
                    <a:pt x="143" y="409"/>
                  </a:lnTo>
                  <a:lnTo>
                    <a:pt x="186" y="358"/>
                  </a:lnTo>
                  <a:lnTo>
                    <a:pt x="232" y="304"/>
                  </a:lnTo>
                  <a:lnTo>
                    <a:pt x="281" y="251"/>
                  </a:lnTo>
                  <a:lnTo>
                    <a:pt x="330" y="198"/>
                  </a:lnTo>
                  <a:lnTo>
                    <a:pt x="379" y="149"/>
                  </a:lnTo>
                  <a:lnTo>
                    <a:pt x="403" y="126"/>
                  </a:lnTo>
                  <a:lnTo>
                    <a:pt x="427" y="104"/>
                  </a:lnTo>
                  <a:lnTo>
                    <a:pt x="450" y="83"/>
                  </a:lnTo>
                  <a:lnTo>
                    <a:pt x="472" y="65"/>
                  </a:lnTo>
                  <a:lnTo>
                    <a:pt x="495" y="48"/>
                  </a:lnTo>
                  <a:lnTo>
                    <a:pt x="515" y="33"/>
                  </a:lnTo>
                  <a:lnTo>
                    <a:pt x="535" y="22"/>
                  </a:lnTo>
                  <a:lnTo>
                    <a:pt x="554" y="12"/>
                  </a:lnTo>
                  <a:lnTo>
                    <a:pt x="571" y="5"/>
                  </a:lnTo>
                  <a:lnTo>
                    <a:pt x="587" y="0"/>
                  </a:lnTo>
                </a:path>
              </a:pathLst>
            </a:custGeom>
            <a:noFill/>
            <a:ln w="36360">
              <a:solidFill>
                <a:srgbClr val="b9d06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553" name="Freeform 742"/>
            <p:cNvSpPr/>
            <p:nvPr/>
          </p:nvSpPr>
          <p:spPr>
            <a:xfrm>
              <a:off x="1393920" y="2241720"/>
              <a:ext cx="1225440" cy="122364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223640"/>
                <a:gd name="textAreaBottom" fmla="*/ 1223640 h 1223640"/>
              </a:gdLst>
              <a:ahLst/>
              <a:rect l="textAreaLeft" t="textAreaTop" r="textAreaRight" b="textAreaBottom"/>
              <a:pathLst>
                <a:path w="1543" h="1544">
                  <a:moveTo>
                    <a:pt x="1543" y="772"/>
                  </a:moveTo>
                  <a:lnTo>
                    <a:pt x="1543" y="772"/>
                  </a:lnTo>
                  <a:lnTo>
                    <a:pt x="1542" y="812"/>
                  </a:lnTo>
                  <a:lnTo>
                    <a:pt x="1539" y="850"/>
                  </a:lnTo>
                  <a:lnTo>
                    <a:pt x="1534" y="889"/>
                  </a:lnTo>
                  <a:lnTo>
                    <a:pt x="1527" y="928"/>
                  </a:lnTo>
                  <a:lnTo>
                    <a:pt x="1519" y="964"/>
                  </a:lnTo>
                  <a:lnTo>
                    <a:pt x="1509" y="1002"/>
                  </a:lnTo>
                  <a:lnTo>
                    <a:pt x="1496" y="1037"/>
                  </a:lnTo>
                  <a:lnTo>
                    <a:pt x="1483" y="1072"/>
                  </a:lnTo>
                  <a:lnTo>
                    <a:pt x="1467" y="1107"/>
                  </a:lnTo>
                  <a:lnTo>
                    <a:pt x="1450" y="1140"/>
                  </a:lnTo>
                  <a:lnTo>
                    <a:pt x="1431" y="1173"/>
                  </a:lnTo>
                  <a:lnTo>
                    <a:pt x="1411" y="1203"/>
                  </a:lnTo>
                  <a:lnTo>
                    <a:pt x="1389" y="1234"/>
                  </a:lnTo>
                  <a:lnTo>
                    <a:pt x="1366" y="1262"/>
                  </a:lnTo>
                  <a:lnTo>
                    <a:pt x="1343" y="1291"/>
                  </a:lnTo>
                  <a:lnTo>
                    <a:pt x="1316" y="1317"/>
                  </a:lnTo>
                  <a:lnTo>
                    <a:pt x="1290" y="1343"/>
                  </a:lnTo>
                  <a:lnTo>
                    <a:pt x="1262" y="1367"/>
                  </a:lnTo>
                  <a:lnTo>
                    <a:pt x="1233" y="1390"/>
                  </a:lnTo>
                  <a:lnTo>
                    <a:pt x="1203" y="1412"/>
                  </a:lnTo>
                  <a:lnTo>
                    <a:pt x="1172" y="1432"/>
                  </a:lnTo>
                  <a:lnTo>
                    <a:pt x="1139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6" y="1497"/>
                  </a:lnTo>
                  <a:lnTo>
                    <a:pt x="1001" y="1509"/>
                  </a:lnTo>
                  <a:lnTo>
                    <a:pt x="964" y="1520"/>
                  </a:lnTo>
                  <a:lnTo>
                    <a:pt x="927" y="1528"/>
                  </a:lnTo>
                  <a:lnTo>
                    <a:pt x="888" y="1534"/>
                  </a:lnTo>
                  <a:lnTo>
                    <a:pt x="850" y="1540"/>
                  </a:lnTo>
                  <a:lnTo>
                    <a:pt x="811" y="1542"/>
                  </a:lnTo>
                  <a:lnTo>
                    <a:pt x="771" y="1544"/>
                  </a:lnTo>
                  <a:lnTo>
                    <a:pt x="731" y="1542"/>
                  </a:lnTo>
                  <a:lnTo>
                    <a:pt x="693" y="1540"/>
                  </a:lnTo>
                  <a:lnTo>
                    <a:pt x="654" y="1534"/>
                  </a:lnTo>
                  <a:lnTo>
                    <a:pt x="615" y="1528"/>
                  </a:lnTo>
                  <a:lnTo>
                    <a:pt x="579" y="1520"/>
                  </a:lnTo>
                  <a:lnTo>
                    <a:pt x="541" y="1509"/>
                  </a:lnTo>
                  <a:lnTo>
                    <a:pt x="506" y="1497"/>
                  </a:lnTo>
                  <a:lnTo>
                    <a:pt x="471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1" y="1432"/>
                  </a:lnTo>
                  <a:lnTo>
                    <a:pt x="340" y="1412"/>
                  </a:lnTo>
                  <a:lnTo>
                    <a:pt x="309" y="1390"/>
                  </a:lnTo>
                  <a:lnTo>
                    <a:pt x="281" y="1367"/>
                  </a:lnTo>
                  <a:lnTo>
                    <a:pt x="252" y="1343"/>
                  </a:lnTo>
                  <a:lnTo>
                    <a:pt x="226" y="1317"/>
                  </a:lnTo>
                  <a:lnTo>
                    <a:pt x="200" y="1291"/>
                  </a:lnTo>
                  <a:lnTo>
                    <a:pt x="176" y="1262"/>
                  </a:lnTo>
                  <a:lnTo>
                    <a:pt x="153" y="1234"/>
                  </a:lnTo>
                  <a:lnTo>
                    <a:pt x="132" y="1203"/>
                  </a:lnTo>
                  <a:lnTo>
                    <a:pt x="111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0" y="1072"/>
                  </a:lnTo>
                  <a:lnTo>
                    <a:pt x="46" y="1037"/>
                  </a:lnTo>
                  <a:lnTo>
                    <a:pt x="34" y="1002"/>
                  </a:lnTo>
                  <a:lnTo>
                    <a:pt x="24" y="964"/>
                  </a:lnTo>
                  <a:lnTo>
                    <a:pt x="16" y="928"/>
                  </a:lnTo>
                  <a:lnTo>
                    <a:pt x="9" y="889"/>
                  </a:lnTo>
                  <a:lnTo>
                    <a:pt x="3" y="850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3" y="693"/>
                  </a:lnTo>
                  <a:lnTo>
                    <a:pt x="9" y="655"/>
                  </a:lnTo>
                  <a:lnTo>
                    <a:pt x="16" y="616"/>
                  </a:lnTo>
                  <a:lnTo>
                    <a:pt x="24" y="578"/>
                  </a:lnTo>
                  <a:lnTo>
                    <a:pt x="34" y="542"/>
                  </a:lnTo>
                  <a:lnTo>
                    <a:pt x="46" y="507"/>
                  </a:lnTo>
                  <a:lnTo>
                    <a:pt x="60" y="471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1" y="371"/>
                  </a:lnTo>
                  <a:lnTo>
                    <a:pt x="132" y="341"/>
                  </a:lnTo>
                  <a:lnTo>
                    <a:pt x="153" y="310"/>
                  </a:lnTo>
                  <a:lnTo>
                    <a:pt x="176" y="281"/>
                  </a:lnTo>
                  <a:lnTo>
                    <a:pt x="200" y="253"/>
                  </a:lnTo>
                  <a:lnTo>
                    <a:pt x="226" y="226"/>
                  </a:lnTo>
                  <a:lnTo>
                    <a:pt x="252" y="201"/>
                  </a:lnTo>
                  <a:lnTo>
                    <a:pt x="281" y="177"/>
                  </a:lnTo>
                  <a:lnTo>
                    <a:pt x="309" y="154"/>
                  </a:lnTo>
                  <a:lnTo>
                    <a:pt x="340" y="132"/>
                  </a:lnTo>
                  <a:lnTo>
                    <a:pt x="371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1" y="61"/>
                  </a:lnTo>
                  <a:lnTo>
                    <a:pt x="506" y="47"/>
                  </a:lnTo>
                  <a:lnTo>
                    <a:pt x="541" y="34"/>
                  </a:lnTo>
                  <a:lnTo>
                    <a:pt x="579" y="24"/>
                  </a:lnTo>
                  <a:lnTo>
                    <a:pt x="615" y="16"/>
                  </a:lnTo>
                  <a:lnTo>
                    <a:pt x="654" y="9"/>
                  </a:lnTo>
                  <a:lnTo>
                    <a:pt x="693" y="4"/>
                  </a:lnTo>
                  <a:lnTo>
                    <a:pt x="731" y="1"/>
                  </a:lnTo>
                  <a:lnTo>
                    <a:pt x="771" y="0"/>
                  </a:lnTo>
                  <a:lnTo>
                    <a:pt x="811" y="1"/>
                  </a:lnTo>
                  <a:lnTo>
                    <a:pt x="850" y="4"/>
                  </a:lnTo>
                  <a:lnTo>
                    <a:pt x="888" y="9"/>
                  </a:lnTo>
                  <a:lnTo>
                    <a:pt x="927" y="16"/>
                  </a:lnTo>
                  <a:lnTo>
                    <a:pt x="964" y="24"/>
                  </a:lnTo>
                  <a:lnTo>
                    <a:pt x="1001" y="34"/>
                  </a:lnTo>
                  <a:lnTo>
                    <a:pt x="1036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39" y="94"/>
                  </a:lnTo>
                  <a:lnTo>
                    <a:pt x="1172" y="112"/>
                  </a:lnTo>
                  <a:lnTo>
                    <a:pt x="1203" y="132"/>
                  </a:lnTo>
                  <a:lnTo>
                    <a:pt x="1233" y="154"/>
                  </a:lnTo>
                  <a:lnTo>
                    <a:pt x="1262" y="177"/>
                  </a:lnTo>
                  <a:lnTo>
                    <a:pt x="1290" y="201"/>
                  </a:lnTo>
                  <a:lnTo>
                    <a:pt x="1316" y="226"/>
                  </a:lnTo>
                  <a:lnTo>
                    <a:pt x="1343" y="253"/>
                  </a:lnTo>
                  <a:lnTo>
                    <a:pt x="1366" y="281"/>
                  </a:lnTo>
                  <a:lnTo>
                    <a:pt x="1389" y="310"/>
                  </a:lnTo>
                  <a:lnTo>
                    <a:pt x="1411" y="341"/>
                  </a:lnTo>
                  <a:lnTo>
                    <a:pt x="1431" y="371"/>
                  </a:lnTo>
                  <a:lnTo>
                    <a:pt x="1450" y="404"/>
                  </a:lnTo>
                  <a:lnTo>
                    <a:pt x="1467" y="437"/>
                  </a:lnTo>
                  <a:lnTo>
                    <a:pt x="1483" y="471"/>
                  </a:lnTo>
                  <a:lnTo>
                    <a:pt x="1496" y="507"/>
                  </a:lnTo>
                  <a:lnTo>
                    <a:pt x="1509" y="542"/>
                  </a:lnTo>
                  <a:lnTo>
                    <a:pt x="1519" y="578"/>
                  </a:lnTo>
                  <a:lnTo>
                    <a:pt x="1527" y="616"/>
                  </a:lnTo>
                  <a:lnTo>
                    <a:pt x="1534" y="655"/>
                  </a:lnTo>
                  <a:lnTo>
                    <a:pt x="1539" y="693"/>
                  </a:lnTo>
                  <a:lnTo>
                    <a:pt x="1542" y="732"/>
                  </a:lnTo>
                  <a:lnTo>
                    <a:pt x="1543" y="772"/>
                  </a:lnTo>
                  <a:close/>
                </a:path>
              </a:pathLst>
            </a:custGeom>
            <a:solidFill>
              <a:srgbClr val="f5c720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82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83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557" name="Freeform 5"/>
            <p:cNvSpPr/>
            <p:nvPr/>
          </p:nvSpPr>
          <p:spPr>
            <a:xfrm>
              <a:off x="1850760" y="4471920"/>
              <a:ext cx="3229200" cy="2197080"/>
            </a:xfrm>
            <a:custGeom>
              <a:avLst/>
              <a:gdLst>
                <a:gd name="textAreaLeft" fmla="*/ 0 w 3229200"/>
                <a:gd name="textAreaRight" fmla="*/ 3229560 w 32292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4070" h="2768">
                  <a:moveTo>
                    <a:pt x="0" y="0"/>
                  </a:moveTo>
                  <a:lnTo>
                    <a:pt x="0" y="1582"/>
                  </a:lnTo>
                  <a:lnTo>
                    <a:pt x="647" y="1582"/>
                  </a:lnTo>
                  <a:lnTo>
                    <a:pt x="647" y="2193"/>
                  </a:lnTo>
                  <a:lnTo>
                    <a:pt x="965" y="2193"/>
                  </a:lnTo>
                  <a:lnTo>
                    <a:pt x="965" y="2768"/>
                  </a:lnTo>
                  <a:lnTo>
                    <a:pt x="1630" y="2768"/>
                  </a:lnTo>
                  <a:lnTo>
                    <a:pt x="1630" y="2454"/>
                  </a:lnTo>
                  <a:lnTo>
                    <a:pt x="2650" y="2454"/>
                  </a:lnTo>
                  <a:lnTo>
                    <a:pt x="2650" y="2139"/>
                  </a:lnTo>
                  <a:lnTo>
                    <a:pt x="3114" y="2139"/>
                  </a:lnTo>
                  <a:lnTo>
                    <a:pt x="3114" y="2103"/>
                  </a:lnTo>
                  <a:lnTo>
                    <a:pt x="3114" y="1707"/>
                  </a:lnTo>
                  <a:lnTo>
                    <a:pt x="3733" y="1707"/>
                  </a:lnTo>
                  <a:lnTo>
                    <a:pt x="3733" y="1124"/>
                  </a:lnTo>
                  <a:lnTo>
                    <a:pt x="4070" y="1124"/>
                  </a:lnTo>
                  <a:lnTo>
                    <a:pt x="4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84"/>
            <p:cNvSpPr/>
            <p:nvPr/>
          </p:nvSpPr>
          <p:spPr>
            <a:xfrm>
              <a:off x="1735200" y="4701960"/>
              <a:ext cx="209520" cy="347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3" y="176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1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1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8" y="5"/>
                  </a:lnTo>
                  <a:lnTo>
                    <a:pt x="171" y="11"/>
                  </a:lnTo>
                  <a:lnTo>
                    <a:pt x="182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2" y="421"/>
                  </a:lnTo>
                  <a:lnTo>
                    <a:pt x="171" y="428"/>
                  </a:lnTo>
                  <a:lnTo>
                    <a:pt x="158" y="434"/>
                  </a:lnTo>
                  <a:lnTo>
                    <a:pt x="144" y="437"/>
                  </a:lnTo>
                  <a:lnTo>
                    <a:pt x="132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1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1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7" y="285"/>
                  </a:lnTo>
                  <a:lnTo>
                    <a:pt x="3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86"/>
            <p:cNvSpPr/>
            <p:nvPr/>
          </p:nvSpPr>
          <p:spPr>
            <a:xfrm>
              <a:off x="25257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2" y="97"/>
                  </a:lnTo>
                  <a:lnTo>
                    <a:pt x="30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9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8" y="5"/>
                  </a:lnTo>
                  <a:lnTo>
                    <a:pt x="170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4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6" y="115"/>
                  </a:lnTo>
                  <a:lnTo>
                    <a:pt x="252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2" y="304"/>
                  </a:lnTo>
                  <a:lnTo>
                    <a:pt x="246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4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0" y="428"/>
                  </a:lnTo>
                  <a:lnTo>
                    <a:pt x="158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9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30" y="359"/>
                  </a:lnTo>
                  <a:lnTo>
                    <a:pt x="22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88"/>
            <p:cNvSpPr/>
            <p:nvPr/>
          </p:nvSpPr>
          <p:spPr>
            <a:xfrm>
              <a:off x="34941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2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0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9" y="5"/>
                  </a:lnTo>
                  <a:lnTo>
                    <a:pt x="171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6" y="50"/>
                  </a:lnTo>
                  <a:lnTo>
                    <a:pt x="225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6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6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5" y="374"/>
                  </a:lnTo>
                  <a:lnTo>
                    <a:pt x="216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1" y="428"/>
                  </a:lnTo>
                  <a:lnTo>
                    <a:pt x="159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9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0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2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90"/>
            <p:cNvSpPr/>
            <p:nvPr/>
          </p:nvSpPr>
          <p:spPr>
            <a:xfrm>
              <a:off x="452304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1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2" y="176"/>
                  </a:lnTo>
                  <a:lnTo>
                    <a:pt x="5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1" y="197"/>
                  </a:lnTo>
                  <a:lnTo>
                    <a:pt x="261" y="219"/>
                  </a:lnTo>
                  <a:lnTo>
                    <a:pt x="261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4" y="434"/>
                  </a:lnTo>
                  <a:lnTo>
                    <a:pt x="92" y="428"/>
                  </a:lnTo>
                  <a:lnTo>
                    <a:pt x="79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5" y="285"/>
                  </a:lnTo>
                  <a:lnTo>
                    <a:pt x="2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92"/>
            <p:cNvSpPr/>
            <p:nvPr/>
          </p:nvSpPr>
          <p:spPr>
            <a:xfrm>
              <a:off x="521208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2" y="176"/>
                  </a:lnTo>
                  <a:lnTo>
                    <a:pt x="6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80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0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6" y="285"/>
                  </a:lnTo>
                  <a:lnTo>
                    <a:pt x="2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929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974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06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007" name="Freeform 19"/>
            <p:cNvSpPr/>
            <p:nvPr/>
          </p:nvSpPr>
          <p:spPr>
            <a:xfrm>
              <a:off x="5365800" y="1960560"/>
              <a:ext cx="741240" cy="74124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935" h="935">
                  <a:moveTo>
                    <a:pt x="935" y="467"/>
                  </a:moveTo>
                  <a:lnTo>
                    <a:pt x="935" y="467"/>
                  </a:lnTo>
                  <a:lnTo>
                    <a:pt x="935" y="492"/>
                  </a:lnTo>
                  <a:lnTo>
                    <a:pt x="934" y="516"/>
                  </a:lnTo>
                  <a:lnTo>
                    <a:pt x="930" y="539"/>
                  </a:lnTo>
                  <a:lnTo>
                    <a:pt x="927" y="561"/>
                  </a:lnTo>
                  <a:lnTo>
                    <a:pt x="921" y="584"/>
                  </a:lnTo>
                  <a:lnTo>
                    <a:pt x="914" y="607"/>
                  </a:lnTo>
                  <a:lnTo>
                    <a:pt x="908" y="628"/>
                  </a:lnTo>
                  <a:lnTo>
                    <a:pt x="900" y="649"/>
                  </a:lnTo>
                  <a:lnTo>
                    <a:pt x="890" y="670"/>
                  </a:lnTo>
                  <a:lnTo>
                    <a:pt x="880" y="691"/>
                  </a:lnTo>
                  <a:lnTo>
                    <a:pt x="869" y="711"/>
                  </a:lnTo>
                  <a:lnTo>
                    <a:pt x="856" y="729"/>
                  </a:lnTo>
                  <a:lnTo>
                    <a:pt x="843" y="748"/>
                  </a:lnTo>
                  <a:lnTo>
                    <a:pt x="830" y="766"/>
                  </a:lnTo>
                  <a:lnTo>
                    <a:pt x="815" y="782"/>
                  </a:lnTo>
                  <a:lnTo>
                    <a:pt x="799" y="798"/>
                  </a:lnTo>
                  <a:lnTo>
                    <a:pt x="783" y="815"/>
                  </a:lnTo>
                  <a:lnTo>
                    <a:pt x="766" y="829"/>
                  </a:lnTo>
                  <a:lnTo>
                    <a:pt x="749" y="842"/>
                  </a:lnTo>
                  <a:lnTo>
                    <a:pt x="729" y="855"/>
                  </a:lnTo>
                  <a:lnTo>
                    <a:pt x="711" y="868"/>
                  </a:lnTo>
                  <a:lnTo>
                    <a:pt x="692" y="879"/>
                  </a:lnTo>
                  <a:lnTo>
                    <a:pt x="671" y="889"/>
                  </a:lnTo>
                  <a:lnTo>
                    <a:pt x="650" y="899"/>
                  </a:lnTo>
                  <a:lnTo>
                    <a:pt x="629" y="907"/>
                  </a:lnTo>
                  <a:lnTo>
                    <a:pt x="607" y="914"/>
                  </a:lnTo>
                  <a:lnTo>
                    <a:pt x="585" y="920"/>
                  </a:lnTo>
                  <a:lnTo>
                    <a:pt x="562" y="927"/>
                  </a:lnTo>
                  <a:lnTo>
                    <a:pt x="539" y="930"/>
                  </a:lnTo>
                  <a:lnTo>
                    <a:pt x="517" y="933"/>
                  </a:lnTo>
                  <a:lnTo>
                    <a:pt x="492" y="935"/>
                  </a:lnTo>
                  <a:lnTo>
                    <a:pt x="468" y="935"/>
                  </a:lnTo>
                  <a:lnTo>
                    <a:pt x="445" y="935"/>
                  </a:lnTo>
                  <a:lnTo>
                    <a:pt x="421" y="933"/>
                  </a:lnTo>
                  <a:lnTo>
                    <a:pt x="396" y="930"/>
                  </a:lnTo>
                  <a:lnTo>
                    <a:pt x="374" y="927"/>
                  </a:lnTo>
                  <a:lnTo>
                    <a:pt x="351" y="920"/>
                  </a:lnTo>
                  <a:lnTo>
                    <a:pt x="330" y="914"/>
                  </a:lnTo>
                  <a:lnTo>
                    <a:pt x="307" y="907"/>
                  </a:lnTo>
                  <a:lnTo>
                    <a:pt x="286" y="899"/>
                  </a:lnTo>
                  <a:lnTo>
                    <a:pt x="265" y="889"/>
                  </a:lnTo>
                  <a:lnTo>
                    <a:pt x="245" y="879"/>
                  </a:lnTo>
                  <a:lnTo>
                    <a:pt x="226" y="868"/>
                  </a:lnTo>
                  <a:lnTo>
                    <a:pt x="207" y="855"/>
                  </a:lnTo>
                  <a:lnTo>
                    <a:pt x="189" y="842"/>
                  </a:lnTo>
                  <a:lnTo>
                    <a:pt x="171" y="829"/>
                  </a:lnTo>
                  <a:lnTo>
                    <a:pt x="155" y="815"/>
                  </a:lnTo>
                  <a:lnTo>
                    <a:pt x="138" y="798"/>
                  </a:lnTo>
                  <a:lnTo>
                    <a:pt x="122" y="782"/>
                  </a:lnTo>
                  <a:lnTo>
                    <a:pt x="108" y="766"/>
                  </a:lnTo>
                  <a:lnTo>
                    <a:pt x="95" y="748"/>
                  </a:lnTo>
                  <a:lnTo>
                    <a:pt x="82" y="729"/>
                  </a:lnTo>
                  <a:lnTo>
                    <a:pt x="69" y="711"/>
                  </a:lnTo>
                  <a:lnTo>
                    <a:pt x="57" y="691"/>
                  </a:lnTo>
                  <a:lnTo>
                    <a:pt x="48" y="670"/>
                  </a:lnTo>
                  <a:lnTo>
                    <a:pt x="38" y="649"/>
                  </a:lnTo>
                  <a:lnTo>
                    <a:pt x="30" y="628"/>
                  </a:lnTo>
                  <a:lnTo>
                    <a:pt x="22" y="607"/>
                  </a:lnTo>
                  <a:lnTo>
                    <a:pt x="15" y="584"/>
                  </a:lnTo>
                  <a:lnTo>
                    <a:pt x="10" y="561"/>
                  </a:lnTo>
                  <a:lnTo>
                    <a:pt x="7" y="539"/>
                  </a:lnTo>
                  <a:lnTo>
                    <a:pt x="4" y="516"/>
                  </a:lnTo>
                  <a:lnTo>
                    <a:pt x="2" y="492"/>
                  </a:lnTo>
                  <a:lnTo>
                    <a:pt x="0" y="467"/>
                  </a:lnTo>
                  <a:lnTo>
                    <a:pt x="2" y="445"/>
                  </a:lnTo>
                  <a:lnTo>
                    <a:pt x="4" y="420"/>
                  </a:lnTo>
                  <a:lnTo>
                    <a:pt x="7" y="396"/>
                  </a:lnTo>
                  <a:lnTo>
                    <a:pt x="10" y="373"/>
                  </a:lnTo>
                  <a:lnTo>
                    <a:pt x="15" y="350"/>
                  </a:lnTo>
                  <a:lnTo>
                    <a:pt x="22" y="329"/>
                  </a:lnTo>
                  <a:lnTo>
                    <a:pt x="30" y="307"/>
                  </a:lnTo>
                  <a:lnTo>
                    <a:pt x="38" y="285"/>
                  </a:lnTo>
                  <a:lnTo>
                    <a:pt x="48" y="264"/>
                  </a:lnTo>
                  <a:lnTo>
                    <a:pt x="57" y="245"/>
                  </a:lnTo>
                  <a:lnTo>
                    <a:pt x="69" y="225"/>
                  </a:lnTo>
                  <a:lnTo>
                    <a:pt x="82" y="206"/>
                  </a:lnTo>
                  <a:lnTo>
                    <a:pt x="95" y="188"/>
                  </a:lnTo>
                  <a:lnTo>
                    <a:pt x="108" y="170"/>
                  </a:lnTo>
                  <a:lnTo>
                    <a:pt x="122" y="154"/>
                  </a:lnTo>
                  <a:lnTo>
                    <a:pt x="138" y="138"/>
                  </a:lnTo>
                  <a:lnTo>
                    <a:pt x="155" y="122"/>
                  </a:lnTo>
                  <a:lnTo>
                    <a:pt x="171" y="107"/>
                  </a:lnTo>
                  <a:lnTo>
                    <a:pt x="189" y="94"/>
                  </a:lnTo>
                  <a:lnTo>
                    <a:pt x="207" y="79"/>
                  </a:lnTo>
                  <a:lnTo>
                    <a:pt x="226" y="68"/>
                  </a:lnTo>
                  <a:lnTo>
                    <a:pt x="245" y="57"/>
                  </a:lnTo>
                  <a:lnTo>
                    <a:pt x="265" y="47"/>
                  </a:lnTo>
                  <a:lnTo>
                    <a:pt x="286" y="37"/>
                  </a:lnTo>
                  <a:lnTo>
                    <a:pt x="307" y="29"/>
                  </a:lnTo>
                  <a:lnTo>
                    <a:pt x="330" y="21"/>
                  </a:lnTo>
                  <a:lnTo>
                    <a:pt x="351" y="14"/>
                  </a:lnTo>
                  <a:lnTo>
                    <a:pt x="374" y="10"/>
                  </a:lnTo>
                  <a:lnTo>
                    <a:pt x="396" y="6"/>
                  </a:lnTo>
                  <a:lnTo>
                    <a:pt x="421" y="3"/>
                  </a:lnTo>
                  <a:lnTo>
                    <a:pt x="445" y="1"/>
                  </a:lnTo>
                  <a:lnTo>
                    <a:pt x="468" y="0"/>
                  </a:lnTo>
                  <a:lnTo>
                    <a:pt x="492" y="1"/>
                  </a:lnTo>
                  <a:lnTo>
                    <a:pt x="517" y="3"/>
                  </a:lnTo>
                  <a:lnTo>
                    <a:pt x="539" y="6"/>
                  </a:lnTo>
                  <a:lnTo>
                    <a:pt x="562" y="10"/>
                  </a:lnTo>
                  <a:lnTo>
                    <a:pt x="585" y="14"/>
                  </a:lnTo>
                  <a:lnTo>
                    <a:pt x="607" y="21"/>
                  </a:lnTo>
                  <a:lnTo>
                    <a:pt x="629" y="29"/>
                  </a:lnTo>
                  <a:lnTo>
                    <a:pt x="650" y="37"/>
                  </a:lnTo>
                  <a:lnTo>
                    <a:pt x="671" y="47"/>
                  </a:lnTo>
                  <a:lnTo>
                    <a:pt x="692" y="57"/>
                  </a:lnTo>
                  <a:lnTo>
                    <a:pt x="711" y="68"/>
                  </a:lnTo>
                  <a:lnTo>
                    <a:pt x="729" y="79"/>
                  </a:lnTo>
                  <a:lnTo>
                    <a:pt x="749" y="94"/>
                  </a:lnTo>
                  <a:lnTo>
                    <a:pt x="766" y="107"/>
                  </a:lnTo>
                  <a:lnTo>
                    <a:pt x="783" y="122"/>
                  </a:lnTo>
                  <a:lnTo>
                    <a:pt x="799" y="138"/>
                  </a:lnTo>
                  <a:lnTo>
                    <a:pt x="815" y="154"/>
                  </a:lnTo>
                  <a:lnTo>
                    <a:pt x="830" y="170"/>
                  </a:lnTo>
                  <a:lnTo>
                    <a:pt x="843" y="188"/>
                  </a:lnTo>
                  <a:lnTo>
                    <a:pt x="856" y="206"/>
                  </a:lnTo>
                  <a:lnTo>
                    <a:pt x="869" y="225"/>
                  </a:lnTo>
                  <a:lnTo>
                    <a:pt x="880" y="245"/>
                  </a:lnTo>
                  <a:lnTo>
                    <a:pt x="890" y="264"/>
                  </a:lnTo>
                  <a:lnTo>
                    <a:pt x="900" y="285"/>
                  </a:lnTo>
                  <a:lnTo>
                    <a:pt x="908" y="307"/>
                  </a:lnTo>
                  <a:lnTo>
                    <a:pt x="914" y="329"/>
                  </a:lnTo>
                  <a:lnTo>
                    <a:pt x="921" y="350"/>
                  </a:lnTo>
                  <a:lnTo>
                    <a:pt x="927" y="373"/>
                  </a:lnTo>
                  <a:lnTo>
                    <a:pt x="930" y="396"/>
                  </a:lnTo>
                  <a:lnTo>
                    <a:pt x="934" y="420"/>
                  </a:lnTo>
                  <a:lnTo>
                    <a:pt x="935" y="445"/>
                  </a:lnTo>
                  <a:lnTo>
                    <a:pt x="935" y="46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0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1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2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  <a:lnTo>
                    <a:pt x="788" y="1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3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4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5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6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  <a:lnTo>
                    <a:pt x="331" y="60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7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8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9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0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1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2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  <a:lnTo>
                    <a:pt x="594" y="40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4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5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6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7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8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9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0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1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031" name="Freeform 5"/>
            <p:cNvSpPr/>
            <p:nvPr/>
          </p:nvSpPr>
          <p:spPr>
            <a:xfrm>
              <a:off x="539640" y="3492360"/>
              <a:ext cx="4962600" cy="3338640"/>
            </a:xfrm>
            <a:custGeom>
              <a:avLst/>
              <a:gdLst>
                <a:gd name="textAreaLeft" fmla="*/ 0 w 4962600"/>
                <a:gd name="textAreaRight" fmla="*/ 4962960 w 4962600"/>
                <a:gd name="textAreaTop" fmla="*/ 0 h 3338640"/>
                <a:gd name="textAreaBottom" fmla="*/ 3339000 h 3338640"/>
              </a:gdLst>
              <a:ahLst/>
              <a:rect l="textAreaLeft" t="textAreaTop" r="textAreaRight" b="textAreaBottom"/>
              <a:pathLst>
                <a:path w="6251" h="4207">
                  <a:moveTo>
                    <a:pt x="1194" y="0"/>
                  </a:moveTo>
                  <a:lnTo>
                    <a:pt x="6" y="1812"/>
                  </a:lnTo>
                  <a:lnTo>
                    <a:pt x="0" y="4207"/>
                  </a:lnTo>
                  <a:lnTo>
                    <a:pt x="6251" y="4207"/>
                  </a:lnTo>
                  <a:lnTo>
                    <a:pt x="6251" y="1948"/>
                  </a:lnTo>
                  <a:lnTo>
                    <a:pt x="2207" y="1948"/>
                  </a:lnTo>
                  <a:lnTo>
                    <a:pt x="119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1549080" y="3460680"/>
              <a:ext cx="3937320" cy="1515960"/>
            </a:xfrm>
            <a:custGeom>
              <a:avLst/>
              <a:gdLst>
                <a:gd name="textAreaLeft" fmla="*/ 0 w 3937320"/>
                <a:gd name="textAreaRight" fmla="*/ 3937680 w 393732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4960" h="1908">
                  <a:moveTo>
                    <a:pt x="0" y="0"/>
                  </a:moveTo>
                  <a:lnTo>
                    <a:pt x="994" y="1908"/>
                  </a:lnTo>
                  <a:lnTo>
                    <a:pt x="4960" y="1908"/>
                  </a:lnTo>
                  <a:lnTo>
                    <a:pt x="394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1714320" y="3554280"/>
              <a:ext cx="3587760" cy="132876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1328760"/>
                <a:gd name="textAreaBottom" fmla="*/ 1328760 h 1328760"/>
              </a:gdLst>
              <a:ahLst/>
              <a:rect l="textAreaLeft" t="textAreaTop" r="textAreaRight" b="textAreaBottom"/>
              <a:pathLst>
                <a:path w="4520" h="1675">
                  <a:moveTo>
                    <a:pt x="0" y="0"/>
                  </a:moveTo>
                  <a:lnTo>
                    <a:pt x="847" y="1675"/>
                  </a:lnTo>
                  <a:lnTo>
                    <a:pt x="4520" y="1675"/>
                  </a:lnTo>
                  <a:lnTo>
                    <a:pt x="36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180000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213984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"/>
            <p:cNvSpPr/>
            <p:nvPr/>
          </p:nvSpPr>
          <p:spPr>
            <a:xfrm>
              <a:off x="283536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1"/>
            <p:cNvSpPr/>
            <p:nvPr/>
          </p:nvSpPr>
          <p:spPr>
            <a:xfrm>
              <a:off x="353052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9" h="702">
                  <a:moveTo>
                    <a:pt x="0" y="0"/>
                  </a:moveTo>
                  <a:lnTo>
                    <a:pt x="370" y="702"/>
                  </a:lnTo>
                  <a:lnTo>
                    <a:pt x="1179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4226040" y="425736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251136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3220920" y="360828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393228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42"/>
            <p:cNvSpPr/>
            <p:nvPr/>
          </p:nvSpPr>
          <p:spPr>
            <a:xfrm>
              <a:off x="1842840" y="372420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43"/>
            <p:cNvSpPr/>
            <p:nvPr/>
          </p:nvSpPr>
          <p:spPr>
            <a:xfrm>
              <a:off x="1936440" y="387648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44"/>
            <p:cNvSpPr/>
            <p:nvPr/>
          </p:nvSpPr>
          <p:spPr>
            <a:xfrm>
              <a:off x="1998360" y="4030560"/>
              <a:ext cx="27939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45"/>
            <p:cNvSpPr/>
            <p:nvPr/>
          </p:nvSpPr>
          <p:spPr>
            <a:xfrm>
              <a:off x="2152440" y="436536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46"/>
            <p:cNvSpPr/>
            <p:nvPr/>
          </p:nvSpPr>
          <p:spPr>
            <a:xfrm>
              <a:off x="2246040" y="451800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47"/>
            <p:cNvSpPr/>
            <p:nvPr/>
          </p:nvSpPr>
          <p:spPr>
            <a:xfrm>
              <a:off x="2307960" y="4672080"/>
              <a:ext cx="279252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48"/>
            <p:cNvSpPr/>
            <p:nvPr/>
          </p:nvSpPr>
          <p:spPr>
            <a:xfrm>
              <a:off x="19382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49"/>
            <p:cNvSpPr/>
            <p:nvPr/>
          </p:nvSpPr>
          <p:spPr>
            <a:xfrm>
              <a:off x="210816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50"/>
            <p:cNvSpPr/>
            <p:nvPr/>
          </p:nvSpPr>
          <p:spPr>
            <a:xfrm>
              <a:off x="227808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51"/>
            <p:cNvSpPr/>
            <p:nvPr/>
          </p:nvSpPr>
          <p:spPr>
            <a:xfrm>
              <a:off x="264132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52"/>
            <p:cNvSpPr/>
            <p:nvPr/>
          </p:nvSpPr>
          <p:spPr>
            <a:xfrm>
              <a:off x="281124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53"/>
            <p:cNvSpPr/>
            <p:nvPr/>
          </p:nvSpPr>
          <p:spPr>
            <a:xfrm>
              <a:off x="29829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54"/>
            <p:cNvSpPr/>
            <p:nvPr/>
          </p:nvSpPr>
          <p:spPr>
            <a:xfrm>
              <a:off x="33685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55"/>
            <p:cNvSpPr/>
            <p:nvPr/>
          </p:nvSpPr>
          <p:spPr>
            <a:xfrm>
              <a:off x="35384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56"/>
            <p:cNvSpPr/>
            <p:nvPr/>
          </p:nvSpPr>
          <p:spPr>
            <a:xfrm>
              <a:off x="37083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57"/>
            <p:cNvSpPr/>
            <p:nvPr/>
          </p:nvSpPr>
          <p:spPr>
            <a:xfrm>
              <a:off x="407988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58"/>
            <p:cNvSpPr/>
            <p:nvPr/>
          </p:nvSpPr>
          <p:spPr>
            <a:xfrm>
              <a:off x="424980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59"/>
            <p:cNvSpPr/>
            <p:nvPr/>
          </p:nvSpPr>
          <p:spPr>
            <a:xfrm>
              <a:off x="44197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sp>
          <p:nvSpPr>
            <p:cNvPr id="1064" name="Line 60"/>
            <p:cNvSpPr/>
            <p:nvPr/>
          </p:nvSpPr>
          <p:spPr>
            <a:xfrm flipV="1">
              <a:off x="3591000" y="3503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1"/>
            <p:cNvSpPr/>
            <p:nvPr/>
          </p:nvSpPr>
          <p:spPr>
            <a:xfrm flipV="1">
              <a:off x="3657600" y="3343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"/>
            <p:cNvSpPr/>
            <p:nvPr/>
          </p:nvSpPr>
          <p:spPr>
            <a:xfrm flipV="1">
              <a:off x="3725640" y="3179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63"/>
            <p:cNvSpPr/>
            <p:nvPr/>
          </p:nvSpPr>
          <p:spPr>
            <a:xfrm flipV="1">
              <a:off x="3792600" y="3019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64"/>
            <p:cNvSpPr/>
            <p:nvPr/>
          </p:nvSpPr>
          <p:spPr>
            <a:xfrm flipV="1">
              <a:off x="3860640" y="2857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65"/>
            <p:cNvSpPr/>
            <p:nvPr/>
          </p:nvSpPr>
          <p:spPr>
            <a:xfrm flipV="1">
              <a:off x="3927600" y="2695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6"/>
            <p:cNvSpPr/>
            <p:nvPr/>
          </p:nvSpPr>
          <p:spPr>
            <a:xfrm>
              <a:off x="3994200" y="2549520"/>
              <a:ext cx="44280" cy="64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5" h="83">
                  <a:moveTo>
                    <a:pt x="0" y="83"/>
                  </a:moveTo>
                  <a:lnTo>
                    <a:pt x="35" y="0"/>
                  </a:lnTo>
                  <a:lnTo>
                    <a:pt x="55" y="0"/>
                  </a:lnTo>
                </a:path>
              </a:pathLst>
            </a:custGeom>
            <a:noFill/>
            <a:ln w="363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67"/>
            <p:cNvSpPr/>
            <p:nvPr/>
          </p:nvSpPr>
          <p:spPr>
            <a:xfrm>
              <a:off x="4125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68"/>
            <p:cNvSpPr/>
            <p:nvPr/>
          </p:nvSpPr>
          <p:spPr>
            <a:xfrm>
              <a:off x="4300560" y="2549520"/>
              <a:ext cx="889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9"/>
            <p:cNvSpPr/>
            <p:nvPr/>
          </p:nvSpPr>
          <p:spPr>
            <a:xfrm>
              <a:off x="4476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70"/>
            <p:cNvSpPr/>
            <p:nvPr/>
          </p:nvSpPr>
          <p:spPr>
            <a:xfrm>
              <a:off x="46515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71"/>
            <p:cNvSpPr/>
            <p:nvPr/>
          </p:nvSpPr>
          <p:spPr>
            <a:xfrm>
              <a:off x="4827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0" name="Freeform 8"/>
          <p:cNvSpPr/>
          <p:nvPr/>
        </p:nvSpPr>
        <p:spPr>
          <a:xfrm>
            <a:off x="3305160" y="3559320"/>
            <a:ext cx="434880" cy="434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94" h="694">
                <a:moveTo>
                  <a:pt x="694" y="347"/>
                </a:moveTo>
                <a:lnTo>
                  <a:pt x="694" y="347"/>
                </a:lnTo>
                <a:lnTo>
                  <a:pt x="692" y="382"/>
                </a:lnTo>
                <a:lnTo>
                  <a:pt x="687" y="417"/>
                </a:lnTo>
                <a:lnTo>
                  <a:pt x="677" y="450"/>
                </a:lnTo>
                <a:lnTo>
                  <a:pt x="666" y="483"/>
                </a:lnTo>
                <a:lnTo>
                  <a:pt x="652" y="512"/>
                </a:lnTo>
                <a:lnTo>
                  <a:pt x="633" y="542"/>
                </a:lnTo>
                <a:lnTo>
                  <a:pt x="615" y="568"/>
                </a:lnTo>
                <a:lnTo>
                  <a:pt x="591" y="593"/>
                </a:lnTo>
                <a:lnTo>
                  <a:pt x="567" y="615"/>
                </a:lnTo>
                <a:lnTo>
                  <a:pt x="540" y="636"/>
                </a:lnTo>
                <a:lnTo>
                  <a:pt x="512" y="652"/>
                </a:lnTo>
                <a:lnTo>
                  <a:pt x="481" y="667"/>
                </a:lnTo>
                <a:lnTo>
                  <a:pt x="450" y="680"/>
                </a:lnTo>
                <a:lnTo>
                  <a:pt x="417" y="687"/>
                </a:lnTo>
                <a:lnTo>
                  <a:pt x="382" y="692"/>
                </a:lnTo>
                <a:lnTo>
                  <a:pt x="347" y="694"/>
                </a:lnTo>
                <a:lnTo>
                  <a:pt x="310" y="692"/>
                </a:lnTo>
                <a:lnTo>
                  <a:pt x="277" y="687"/>
                </a:lnTo>
                <a:lnTo>
                  <a:pt x="242" y="680"/>
                </a:lnTo>
                <a:lnTo>
                  <a:pt x="211" y="667"/>
                </a:lnTo>
                <a:lnTo>
                  <a:pt x="181" y="652"/>
                </a:lnTo>
                <a:lnTo>
                  <a:pt x="152" y="636"/>
                </a:lnTo>
                <a:lnTo>
                  <a:pt x="125" y="615"/>
                </a:lnTo>
                <a:lnTo>
                  <a:pt x="101" y="593"/>
                </a:lnTo>
                <a:lnTo>
                  <a:pt x="79" y="568"/>
                </a:lnTo>
                <a:lnTo>
                  <a:pt x="58" y="542"/>
                </a:lnTo>
                <a:lnTo>
                  <a:pt x="40" y="512"/>
                </a:lnTo>
                <a:lnTo>
                  <a:pt x="25" y="483"/>
                </a:lnTo>
                <a:lnTo>
                  <a:pt x="14" y="450"/>
                </a:lnTo>
                <a:lnTo>
                  <a:pt x="5" y="417"/>
                </a:lnTo>
                <a:lnTo>
                  <a:pt x="2" y="382"/>
                </a:lnTo>
                <a:lnTo>
                  <a:pt x="0" y="347"/>
                </a:lnTo>
                <a:lnTo>
                  <a:pt x="2" y="312"/>
                </a:lnTo>
                <a:lnTo>
                  <a:pt x="5" y="277"/>
                </a:lnTo>
                <a:lnTo>
                  <a:pt x="14" y="244"/>
                </a:lnTo>
                <a:lnTo>
                  <a:pt x="25" y="213"/>
                </a:lnTo>
                <a:lnTo>
                  <a:pt x="40" y="182"/>
                </a:lnTo>
                <a:lnTo>
                  <a:pt x="58" y="153"/>
                </a:lnTo>
                <a:lnTo>
                  <a:pt x="79" y="127"/>
                </a:lnTo>
                <a:lnTo>
                  <a:pt x="101" y="101"/>
                </a:lnTo>
                <a:lnTo>
                  <a:pt x="125" y="79"/>
                </a:lnTo>
                <a:lnTo>
                  <a:pt x="152" y="59"/>
                </a:lnTo>
                <a:lnTo>
                  <a:pt x="181" y="42"/>
                </a:lnTo>
                <a:lnTo>
                  <a:pt x="211" y="28"/>
                </a:lnTo>
                <a:lnTo>
                  <a:pt x="242" y="17"/>
                </a:lnTo>
                <a:lnTo>
                  <a:pt x="277" y="7"/>
                </a:lnTo>
                <a:lnTo>
                  <a:pt x="310" y="2"/>
                </a:lnTo>
                <a:lnTo>
                  <a:pt x="347" y="0"/>
                </a:lnTo>
                <a:lnTo>
                  <a:pt x="382" y="2"/>
                </a:lnTo>
                <a:lnTo>
                  <a:pt x="417" y="7"/>
                </a:lnTo>
                <a:lnTo>
                  <a:pt x="450" y="17"/>
                </a:lnTo>
                <a:lnTo>
                  <a:pt x="481" y="28"/>
                </a:lnTo>
                <a:lnTo>
                  <a:pt x="512" y="42"/>
                </a:lnTo>
                <a:lnTo>
                  <a:pt x="540" y="59"/>
                </a:lnTo>
                <a:lnTo>
                  <a:pt x="567" y="79"/>
                </a:lnTo>
                <a:lnTo>
                  <a:pt x="591" y="101"/>
                </a:lnTo>
                <a:lnTo>
                  <a:pt x="615" y="127"/>
                </a:lnTo>
                <a:lnTo>
                  <a:pt x="633" y="153"/>
                </a:lnTo>
                <a:lnTo>
                  <a:pt x="652" y="182"/>
                </a:lnTo>
                <a:lnTo>
                  <a:pt x="666" y="213"/>
                </a:lnTo>
                <a:lnTo>
                  <a:pt x="677" y="244"/>
                </a:lnTo>
                <a:lnTo>
                  <a:pt x="687" y="277"/>
                </a:lnTo>
                <a:lnTo>
                  <a:pt x="692" y="312"/>
                </a:lnTo>
                <a:lnTo>
                  <a:pt x="694" y="347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082" name="Freeform 6"/>
            <p:cNvSpPr/>
            <p:nvPr/>
          </p:nvSpPr>
          <p:spPr>
            <a:xfrm>
              <a:off x="2738520" y="4425840"/>
              <a:ext cx="552240" cy="55296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82" h="881">
                  <a:moveTo>
                    <a:pt x="882" y="440"/>
                  </a:moveTo>
                  <a:lnTo>
                    <a:pt x="882" y="440"/>
                  </a:lnTo>
                  <a:lnTo>
                    <a:pt x="880" y="464"/>
                  </a:lnTo>
                  <a:lnTo>
                    <a:pt x="878" y="486"/>
                  </a:lnTo>
                  <a:lnTo>
                    <a:pt x="876" y="508"/>
                  </a:lnTo>
                  <a:lnTo>
                    <a:pt x="872" y="530"/>
                  </a:lnTo>
                  <a:lnTo>
                    <a:pt x="861" y="573"/>
                  </a:lnTo>
                  <a:lnTo>
                    <a:pt x="847" y="613"/>
                  </a:lnTo>
                  <a:lnTo>
                    <a:pt x="828" y="652"/>
                  </a:lnTo>
                  <a:lnTo>
                    <a:pt x="806" y="687"/>
                  </a:lnTo>
                  <a:lnTo>
                    <a:pt x="781" y="721"/>
                  </a:lnTo>
                  <a:lnTo>
                    <a:pt x="751" y="753"/>
                  </a:lnTo>
                  <a:lnTo>
                    <a:pt x="720" y="780"/>
                  </a:lnTo>
                  <a:lnTo>
                    <a:pt x="687" y="806"/>
                  </a:lnTo>
                  <a:lnTo>
                    <a:pt x="650" y="828"/>
                  </a:lnTo>
                  <a:lnTo>
                    <a:pt x="612" y="846"/>
                  </a:lnTo>
                  <a:lnTo>
                    <a:pt x="571" y="861"/>
                  </a:lnTo>
                  <a:lnTo>
                    <a:pt x="529" y="872"/>
                  </a:lnTo>
                  <a:lnTo>
                    <a:pt x="507" y="876"/>
                  </a:lnTo>
                  <a:lnTo>
                    <a:pt x="485" y="879"/>
                  </a:lnTo>
                  <a:lnTo>
                    <a:pt x="463" y="881"/>
                  </a:lnTo>
                  <a:lnTo>
                    <a:pt x="441" y="881"/>
                  </a:lnTo>
                  <a:lnTo>
                    <a:pt x="417" y="881"/>
                  </a:lnTo>
                  <a:lnTo>
                    <a:pt x="395" y="879"/>
                  </a:lnTo>
                  <a:lnTo>
                    <a:pt x="373" y="876"/>
                  </a:lnTo>
                  <a:lnTo>
                    <a:pt x="351" y="872"/>
                  </a:lnTo>
                  <a:lnTo>
                    <a:pt x="309" y="861"/>
                  </a:lnTo>
                  <a:lnTo>
                    <a:pt x="268" y="846"/>
                  </a:lnTo>
                  <a:lnTo>
                    <a:pt x="230" y="828"/>
                  </a:lnTo>
                  <a:lnTo>
                    <a:pt x="193" y="806"/>
                  </a:lnTo>
                  <a:lnTo>
                    <a:pt x="160" y="780"/>
                  </a:lnTo>
                  <a:lnTo>
                    <a:pt x="129" y="753"/>
                  </a:lnTo>
                  <a:lnTo>
                    <a:pt x="99" y="721"/>
                  </a:lnTo>
                  <a:lnTo>
                    <a:pt x="75" y="687"/>
                  </a:lnTo>
                  <a:lnTo>
                    <a:pt x="53" y="652"/>
                  </a:lnTo>
                  <a:lnTo>
                    <a:pt x="33" y="613"/>
                  </a:lnTo>
                  <a:lnTo>
                    <a:pt x="18" y="573"/>
                  </a:lnTo>
                  <a:lnTo>
                    <a:pt x="7" y="530"/>
                  </a:lnTo>
                  <a:lnTo>
                    <a:pt x="4" y="508"/>
                  </a:lnTo>
                  <a:lnTo>
                    <a:pt x="2" y="486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18"/>
                  </a:lnTo>
                  <a:lnTo>
                    <a:pt x="2" y="396"/>
                  </a:lnTo>
                  <a:lnTo>
                    <a:pt x="4" y="374"/>
                  </a:lnTo>
                  <a:lnTo>
                    <a:pt x="7" y="352"/>
                  </a:lnTo>
                  <a:lnTo>
                    <a:pt x="18" y="310"/>
                  </a:lnTo>
                  <a:lnTo>
                    <a:pt x="33" y="270"/>
                  </a:lnTo>
                  <a:lnTo>
                    <a:pt x="53" y="231"/>
                  </a:lnTo>
                  <a:lnTo>
                    <a:pt x="75" y="194"/>
                  </a:lnTo>
                  <a:lnTo>
                    <a:pt x="99" y="161"/>
                  </a:lnTo>
                  <a:lnTo>
                    <a:pt x="129" y="130"/>
                  </a:lnTo>
                  <a:lnTo>
                    <a:pt x="160" y="101"/>
                  </a:lnTo>
                  <a:lnTo>
                    <a:pt x="193" y="75"/>
                  </a:lnTo>
                  <a:lnTo>
                    <a:pt x="230" y="53"/>
                  </a:lnTo>
                  <a:lnTo>
                    <a:pt x="268" y="35"/>
                  </a:lnTo>
                  <a:lnTo>
                    <a:pt x="309" y="20"/>
                  </a:lnTo>
                  <a:lnTo>
                    <a:pt x="351" y="9"/>
                  </a:lnTo>
                  <a:lnTo>
                    <a:pt x="373" y="5"/>
                  </a:lnTo>
                  <a:lnTo>
                    <a:pt x="395" y="2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3" y="2"/>
                  </a:lnTo>
                  <a:lnTo>
                    <a:pt x="485" y="2"/>
                  </a:lnTo>
                  <a:lnTo>
                    <a:pt x="507" y="5"/>
                  </a:lnTo>
                  <a:lnTo>
                    <a:pt x="529" y="9"/>
                  </a:lnTo>
                  <a:lnTo>
                    <a:pt x="571" y="20"/>
                  </a:lnTo>
                  <a:lnTo>
                    <a:pt x="612" y="35"/>
                  </a:lnTo>
                  <a:lnTo>
                    <a:pt x="650" y="53"/>
                  </a:lnTo>
                  <a:lnTo>
                    <a:pt x="687" y="75"/>
                  </a:lnTo>
                  <a:lnTo>
                    <a:pt x="720" y="101"/>
                  </a:lnTo>
                  <a:lnTo>
                    <a:pt x="751" y="130"/>
                  </a:lnTo>
                  <a:lnTo>
                    <a:pt x="781" y="161"/>
                  </a:lnTo>
                  <a:lnTo>
                    <a:pt x="806" y="194"/>
                  </a:lnTo>
                  <a:lnTo>
                    <a:pt x="828" y="231"/>
                  </a:lnTo>
                  <a:lnTo>
                    <a:pt x="847" y="270"/>
                  </a:lnTo>
                  <a:lnTo>
                    <a:pt x="861" y="310"/>
                  </a:lnTo>
                  <a:lnTo>
                    <a:pt x="872" y="352"/>
                  </a:lnTo>
                  <a:lnTo>
                    <a:pt x="876" y="374"/>
                  </a:lnTo>
                  <a:lnTo>
                    <a:pt x="878" y="396"/>
                  </a:lnTo>
                  <a:lnTo>
                    <a:pt x="880" y="418"/>
                  </a:lnTo>
                  <a:lnTo>
                    <a:pt x="882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2794680" y="4482000"/>
              <a:ext cx="438480" cy="4399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700" h="701">
                  <a:moveTo>
                    <a:pt x="700" y="350"/>
                  </a:moveTo>
                  <a:lnTo>
                    <a:pt x="700" y="350"/>
                  </a:lnTo>
                  <a:lnTo>
                    <a:pt x="698" y="387"/>
                  </a:lnTo>
                  <a:lnTo>
                    <a:pt x="694" y="422"/>
                  </a:lnTo>
                  <a:lnTo>
                    <a:pt x="685" y="455"/>
                  </a:lnTo>
                  <a:lnTo>
                    <a:pt x="672" y="488"/>
                  </a:lnTo>
                  <a:lnTo>
                    <a:pt x="658" y="518"/>
                  </a:lnTo>
                  <a:lnTo>
                    <a:pt x="641" y="547"/>
                  </a:lnTo>
                  <a:lnTo>
                    <a:pt x="621" y="574"/>
                  </a:lnTo>
                  <a:lnTo>
                    <a:pt x="599" y="598"/>
                  </a:lnTo>
                  <a:lnTo>
                    <a:pt x="573" y="622"/>
                  </a:lnTo>
                  <a:lnTo>
                    <a:pt x="546" y="642"/>
                  </a:lnTo>
                  <a:lnTo>
                    <a:pt x="518" y="659"/>
                  </a:lnTo>
                  <a:lnTo>
                    <a:pt x="487" y="674"/>
                  </a:lnTo>
                  <a:lnTo>
                    <a:pt x="454" y="687"/>
                  </a:lnTo>
                  <a:lnTo>
                    <a:pt x="421" y="694"/>
                  </a:lnTo>
                  <a:lnTo>
                    <a:pt x="386" y="699"/>
                  </a:lnTo>
                  <a:lnTo>
                    <a:pt x="351" y="701"/>
                  </a:lnTo>
                  <a:lnTo>
                    <a:pt x="314" y="699"/>
                  </a:lnTo>
                  <a:lnTo>
                    <a:pt x="279" y="694"/>
                  </a:lnTo>
                  <a:lnTo>
                    <a:pt x="246" y="687"/>
                  </a:lnTo>
                  <a:lnTo>
                    <a:pt x="213" y="674"/>
                  </a:lnTo>
                  <a:lnTo>
                    <a:pt x="184" y="659"/>
                  </a:lnTo>
                  <a:lnTo>
                    <a:pt x="154" y="642"/>
                  </a:lnTo>
                  <a:lnTo>
                    <a:pt x="127" y="622"/>
                  </a:lnTo>
                  <a:lnTo>
                    <a:pt x="103" y="598"/>
                  </a:lnTo>
                  <a:lnTo>
                    <a:pt x="79" y="574"/>
                  </a:lnTo>
                  <a:lnTo>
                    <a:pt x="59" y="547"/>
                  </a:lnTo>
                  <a:lnTo>
                    <a:pt x="42" y="518"/>
                  </a:lnTo>
                  <a:lnTo>
                    <a:pt x="28" y="488"/>
                  </a:lnTo>
                  <a:lnTo>
                    <a:pt x="15" y="455"/>
                  </a:lnTo>
                  <a:lnTo>
                    <a:pt x="7" y="422"/>
                  </a:lnTo>
                  <a:lnTo>
                    <a:pt x="2" y="387"/>
                  </a:lnTo>
                  <a:lnTo>
                    <a:pt x="0" y="350"/>
                  </a:lnTo>
                  <a:lnTo>
                    <a:pt x="2" y="316"/>
                  </a:lnTo>
                  <a:lnTo>
                    <a:pt x="7" y="281"/>
                  </a:lnTo>
                  <a:lnTo>
                    <a:pt x="15" y="246"/>
                  </a:lnTo>
                  <a:lnTo>
                    <a:pt x="28" y="215"/>
                  </a:lnTo>
                  <a:lnTo>
                    <a:pt x="42" y="183"/>
                  </a:lnTo>
                  <a:lnTo>
                    <a:pt x="59" y="156"/>
                  </a:lnTo>
                  <a:lnTo>
                    <a:pt x="79" y="128"/>
                  </a:lnTo>
                  <a:lnTo>
                    <a:pt x="103" y="103"/>
                  </a:lnTo>
                  <a:lnTo>
                    <a:pt x="127" y="81"/>
                  </a:lnTo>
                  <a:lnTo>
                    <a:pt x="154" y="60"/>
                  </a:lnTo>
                  <a:lnTo>
                    <a:pt x="184" y="42"/>
                  </a:lnTo>
                  <a:lnTo>
                    <a:pt x="213" y="27"/>
                  </a:lnTo>
                  <a:lnTo>
                    <a:pt x="246" y="16"/>
                  </a:lnTo>
                  <a:lnTo>
                    <a:pt x="279" y="7"/>
                  </a:lnTo>
                  <a:lnTo>
                    <a:pt x="314" y="2"/>
                  </a:lnTo>
                  <a:lnTo>
                    <a:pt x="351" y="0"/>
                  </a:lnTo>
                  <a:lnTo>
                    <a:pt x="386" y="2"/>
                  </a:lnTo>
                  <a:lnTo>
                    <a:pt x="421" y="7"/>
                  </a:lnTo>
                  <a:lnTo>
                    <a:pt x="454" y="16"/>
                  </a:lnTo>
                  <a:lnTo>
                    <a:pt x="487" y="27"/>
                  </a:lnTo>
                  <a:lnTo>
                    <a:pt x="518" y="42"/>
                  </a:lnTo>
                  <a:lnTo>
                    <a:pt x="546" y="60"/>
                  </a:lnTo>
                  <a:lnTo>
                    <a:pt x="573" y="81"/>
                  </a:lnTo>
                  <a:lnTo>
                    <a:pt x="599" y="103"/>
                  </a:lnTo>
                  <a:lnTo>
                    <a:pt x="621" y="128"/>
                  </a:lnTo>
                  <a:lnTo>
                    <a:pt x="641" y="156"/>
                  </a:lnTo>
                  <a:lnTo>
                    <a:pt x="658" y="183"/>
                  </a:lnTo>
                  <a:lnTo>
                    <a:pt x="672" y="215"/>
                  </a:lnTo>
                  <a:lnTo>
                    <a:pt x="685" y="246"/>
                  </a:lnTo>
                  <a:lnTo>
                    <a:pt x="694" y="281"/>
                  </a:lnTo>
                  <a:lnTo>
                    <a:pt x="698" y="316"/>
                  </a:lnTo>
                  <a:lnTo>
                    <a:pt x="70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6"/>
            <p:cNvSpPr/>
            <p:nvPr/>
          </p:nvSpPr>
          <p:spPr>
            <a:xfrm>
              <a:off x="2917440" y="6665400"/>
              <a:ext cx="200160" cy="7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9" h="122">
                  <a:moveTo>
                    <a:pt x="55" y="0"/>
                  </a:moveTo>
                  <a:lnTo>
                    <a:pt x="253" y="0"/>
                  </a:lnTo>
                  <a:lnTo>
                    <a:pt x="319" y="122"/>
                  </a:lnTo>
                  <a:lnTo>
                    <a:pt x="0" y="12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7"/>
            <p:cNvSpPr/>
            <p:nvPr/>
          </p:nvSpPr>
          <p:spPr>
            <a:xfrm>
              <a:off x="2917440" y="4951080"/>
              <a:ext cx="194040" cy="1530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8" h="242">
                  <a:moveTo>
                    <a:pt x="0" y="0"/>
                  </a:moveTo>
                  <a:lnTo>
                    <a:pt x="132" y="242"/>
                  </a:lnTo>
                  <a:lnTo>
                    <a:pt x="308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Freeform 19"/>
          <p:cNvSpPr/>
          <p:nvPr/>
        </p:nvSpPr>
        <p:spPr>
          <a:xfrm>
            <a:off x="3438360" y="5407200"/>
            <a:ext cx="166680" cy="64800"/>
          </a:xfrm>
          <a:custGeom>
            <a:avLst/>
            <a:gdLst>
              <a:gd name="textAreaLeft" fmla="*/ 0 w 166680"/>
              <a:gd name="textAreaRight" fmla="*/ 166680 w 1666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68" h="103">
                <a:moveTo>
                  <a:pt x="46" y="0"/>
                </a:moveTo>
                <a:lnTo>
                  <a:pt x="213" y="0"/>
                </a:lnTo>
                <a:lnTo>
                  <a:pt x="268" y="103"/>
                </a:lnTo>
                <a:lnTo>
                  <a:pt x="0" y="103"/>
                </a:lnTo>
                <a:lnTo>
                  <a:pt x="46" y="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089" name="Freeform 10"/>
            <p:cNvSpPr/>
            <p:nvPr/>
          </p:nvSpPr>
          <p:spPr>
            <a:xfrm>
              <a:off x="3789360" y="2741760"/>
              <a:ext cx="339840" cy="3394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4" h="544">
                  <a:moveTo>
                    <a:pt x="544" y="272"/>
                  </a:moveTo>
                  <a:lnTo>
                    <a:pt x="544" y="272"/>
                  </a:lnTo>
                  <a:lnTo>
                    <a:pt x="542" y="300"/>
                  </a:lnTo>
                  <a:lnTo>
                    <a:pt x="538" y="327"/>
                  </a:lnTo>
                  <a:lnTo>
                    <a:pt x="531" y="353"/>
                  </a:lnTo>
                  <a:lnTo>
                    <a:pt x="522" y="379"/>
                  </a:lnTo>
                  <a:lnTo>
                    <a:pt x="511" y="402"/>
                  </a:lnTo>
                  <a:lnTo>
                    <a:pt x="496" y="425"/>
                  </a:lnTo>
                  <a:lnTo>
                    <a:pt x="481" y="445"/>
                  </a:lnTo>
                  <a:lnTo>
                    <a:pt x="463" y="465"/>
                  </a:lnTo>
                  <a:lnTo>
                    <a:pt x="444" y="481"/>
                  </a:lnTo>
                  <a:lnTo>
                    <a:pt x="422" y="498"/>
                  </a:lnTo>
                  <a:lnTo>
                    <a:pt x="400" y="511"/>
                  </a:lnTo>
                  <a:lnTo>
                    <a:pt x="377" y="524"/>
                  </a:lnTo>
                  <a:lnTo>
                    <a:pt x="353" y="533"/>
                  </a:lnTo>
                  <a:lnTo>
                    <a:pt x="325" y="538"/>
                  </a:lnTo>
                  <a:lnTo>
                    <a:pt x="299" y="542"/>
                  </a:lnTo>
                  <a:lnTo>
                    <a:pt x="272" y="544"/>
                  </a:lnTo>
                  <a:lnTo>
                    <a:pt x="242" y="542"/>
                  </a:lnTo>
                  <a:lnTo>
                    <a:pt x="217" y="538"/>
                  </a:lnTo>
                  <a:lnTo>
                    <a:pt x="191" y="533"/>
                  </a:lnTo>
                  <a:lnTo>
                    <a:pt x="165" y="524"/>
                  </a:lnTo>
                  <a:lnTo>
                    <a:pt x="141" y="511"/>
                  </a:lnTo>
                  <a:lnTo>
                    <a:pt x="119" y="498"/>
                  </a:lnTo>
                  <a:lnTo>
                    <a:pt x="97" y="481"/>
                  </a:lnTo>
                  <a:lnTo>
                    <a:pt x="79" y="465"/>
                  </a:lnTo>
                  <a:lnTo>
                    <a:pt x="61" y="445"/>
                  </a:lnTo>
                  <a:lnTo>
                    <a:pt x="46" y="425"/>
                  </a:lnTo>
                  <a:lnTo>
                    <a:pt x="31" y="402"/>
                  </a:lnTo>
                  <a:lnTo>
                    <a:pt x="20" y="379"/>
                  </a:lnTo>
                  <a:lnTo>
                    <a:pt x="11" y="353"/>
                  </a:lnTo>
                  <a:lnTo>
                    <a:pt x="6" y="327"/>
                  </a:lnTo>
                  <a:lnTo>
                    <a:pt x="0" y="300"/>
                  </a:lnTo>
                  <a:lnTo>
                    <a:pt x="0" y="272"/>
                  </a:lnTo>
                  <a:lnTo>
                    <a:pt x="0" y="245"/>
                  </a:lnTo>
                  <a:lnTo>
                    <a:pt x="6" y="217"/>
                  </a:lnTo>
                  <a:lnTo>
                    <a:pt x="11" y="191"/>
                  </a:lnTo>
                  <a:lnTo>
                    <a:pt x="20" y="167"/>
                  </a:lnTo>
                  <a:lnTo>
                    <a:pt x="31" y="144"/>
                  </a:lnTo>
                  <a:lnTo>
                    <a:pt x="46" y="120"/>
                  </a:lnTo>
                  <a:lnTo>
                    <a:pt x="61" y="99"/>
                  </a:lnTo>
                  <a:lnTo>
                    <a:pt x="79" y="79"/>
                  </a:lnTo>
                  <a:lnTo>
                    <a:pt x="97" y="63"/>
                  </a:lnTo>
                  <a:lnTo>
                    <a:pt x="119" y="46"/>
                  </a:lnTo>
                  <a:lnTo>
                    <a:pt x="141" y="33"/>
                  </a:lnTo>
                  <a:lnTo>
                    <a:pt x="165" y="22"/>
                  </a:lnTo>
                  <a:lnTo>
                    <a:pt x="191" y="13"/>
                  </a:lnTo>
                  <a:lnTo>
                    <a:pt x="217" y="6"/>
                  </a:lnTo>
                  <a:lnTo>
                    <a:pt x="242" y="2"/>
                  </a:lnTo>
                  <a:lnTo>
                    <a:pt x="272" y="0"/>
                  </a:lnTo>
                  <a:lnTo>
                    <a:pt x="299" y="2"/>
                  </a:lnTo>
                  <a:lnTo>
                    <a:pt x="325" y="6"/>
                  </a:lnTo>
                  <a:lnTo>
                    <a:pt x="353" y="13"/>
                  </a:lnTo>
                  <a:lnTo>
                    <a:pt x="377" y="22"/>
                  </a:lnTo>
                  <a:lnTo>
                    <a:pt x="400" y="33"/>
                  </a:lnTo>
                  <a:lnTo>
                    <a:pt x="422" y="46"/>
                  </a:lnTo>
                  <a:lnTo>
                    <a:pt x="444" y="63"/>
                  </a:lnTo>
                  <a:lnTo>
                    <a:pt x="463" y="79"/>
                  </a:lnTo>
                  <a:lnTo>
                    <a:pt x="481" y="99"/>
                  </a:lnTo>
                  <a:lnTo>
                    <a:pt x="496" y="120"/>
                  </a:lnTo>
                  <a:lnTo>
                    <a:pt x="511" y="144"/>
                  </a:lnTo>
                  <a:lnTo>
                    <a:pt x="522" y="167"/>
                  </a:lnTo>
                  <a:lnTo>
                    <a:pt x="531" y="191"/>
                  </a:lnTo>
                  <a:lnTo>
                    <a:pt x="538" y="217"/>
                  </a:lnTo>
                  <a:lnTo>
                    <a:pt x="542" y="245"/>
                  </a:lnTo>
                  <a:lnTo>
                    <a:pt x="544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1"/>
            <p:cNvSpPr/>
            <p:nvPr/>
          </p:nvSpPr>
          <p:spPr>
            <a:xfrm>
              <a:off x="3823200" y="2775600"/>
              <a:ext cx="271080" cy="27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32" h="434">
                  <a:moveTo>
                    <a:pt x="432" y="217"/>
                  </a:moveTo>
                  <a:lnTo>
                    <a:pt x="432" y="217"/>
                  </a:lnTo>
                  <a:lnTo>
                    <a:pt x="432" y="239"/>
                  </a:lnTo>
                  <a:lnTo>
                    <a:pt x="428" y="261"/>
                  </a:lnTo>
                  <a:lnTo>
                    <a:pt x="423" y="281"/>
                  </a:lnTo>
                  <a:lnTo>
                    <a:pt x="415" y="302"/>
                  </a:lnTo>
                  <a:lnTo>
                    <a:pt x="406" y="320"/>
                  </a:lnTo>
                  <a:lnTo>
                    <a:pt x="395" y="338"/>
                  </a:lnTo>
                  <a:lnTo>
                    <a:pt x="382" y="355"/>
                  </a:lnTo>
                  <a:lnTo>
                    <a:pt x="369" y="370"/>
                  </a:lnTo>
                  <a:lnTo>
                    <a:pt x="355" y="384"/>
                  </a:lnTo>
                  <a:lnTo>
                    <a:pt x="336" y="397"/>
                  </a:lnTo>
                  <a:lnTo>
                    <a:pt x="320" y="408"/>
                  </a:lnTo>
                  <a:lnTo>
                    <a:pt x="299" y="417"/>
                  </a:lnTo>
                  <a:lnTo>
                    <a:pt x="281" y="425"/>
                  </a:lnTo>
                  <a:lnTo>
                    <a:pt x="259" y="430"/>
                  </a:lnTo>
                  <a:lnTo>
                    <a:pt x="239" y="432"/>
                  </a:lnTo>
                  <a:lnTo>
                    <a:pt x="217" y="434"/>
                  </a:lnTo>
                  <a:lnTo>
                    <a:pt x="195" y="432"/>
                  </a:lnTo>
                  <a:lnTo>
                    <a:pt x="173" y="430"/>
                  </a:lnTo>
                  <a:lnTo>
                    <a:pt x="153" y="425"/>
                  </a:lnTo>
                  <a:lnTo>
                    <a:pt x="132" y="417"/>
                  </a:lnTo>
                  <a:lnTo>
                    <a:pt x="112" y="408"/>
                  </a:lnTo>
                  <a:lnTo>
                    <a:pt x="96" y="397"/>
                  </a:lnTo>
                  <a:lnTo>
                    <a:pt x="79" y="384"/>
                  </a:lnTo>
                  <a:lnTo>
                    <a:pt x="63" y="370"/>
                  </a:lnTo>
                  <a:lnTo>
                    <a:pt x="50" y="355"/>
                  </a:lnTo>
                  <a:lnTo>
                    <a:pt x="37" y="338"/>
                  </a:lnTo>
                  <a:lnTo>
                    <a:pt x="26" y="320"/>
                  </a:lnTo>
                  <a:lnTo>
                    <a:pt x="17" y="302"/>
                  </a:lnTo>
                  <a:lnTo>
                    <a:pt x="9" y="281"/>
                  </a:lnTo>
                  <a:lnTo>
                    <a:pt x="4" y="261"/>
                  </a:lnTo>
                  <a:lnTo>
                    <a:pt x="0" y="239"/>
                  </a:lnTo>
                  <a:lnTo>
                    <a:pt x="0" y="217"/>
                  </a:lnTo>
                  <a:lnTo>
                    <a:pt x="0" y="195"/>
                  </a:lnTo>
                  <a:lnTo>
                    <a:pt x="4" y="173"/>
                  </a:lnTo>
                  <a:lnTo>
                    <a:pt x="9" y="153"/>
                  </a:lnTo>
                  <a:lnTo>
                    <a:pt x="17" y="133"/>
                  </a:lnTo>
                  <a:lnTo>
                    <a:pt x="26" y="114"/>
                  </a:lnTo>
                  <a:lnTo>
                    <a:pt x="37" y="96"/>
                  </a:lnTo>
                  <a:lnTo>
                    <a:pt x="50" y="79"/>
                  </a:lnTo>
                  <a:lnTo>
                    <a:pt x="63" y="65"/>
                  </a:lnTo>
                  <a:lnTo>
                    <a:pt x="79" y="50"/>
                  </a:lnTo>
                  <a:lnTo>
                    <a:pt x="96" y="39"/>
                  </a:lnTo>
                  <a:lnTo>
                    <a:pt x="112" y="28"/>
                  </a:lnTo>
                  <a:lnTo>
                    <a:pt x="132" y="19"/>
                  </a:lnTo>
                  <a:lnTo>
                    <a:pt x="153" y="11"/>
                  </a:lnTo>
                  <a:lnTo>
                    <a:pt x="173" y="6"/>
                  </a:lnTo>
                  <a:lnTo>
                    <a:pt x="195" y="2"/>
                  </a:lnTo>
                  <a:lnTo>
                    <a:pt x="217" y="0"/>
                  </a:lnTo>
                  <a:lnTo>
                    <a:pt x="239" y="2"/>
                  </a:lnTo>
                  <a:lnTo>
                    <a:pt x="259" y="6"/>
                  </a:lnTo>
                  <a:lnTo>
                    <a:pt x="281" y="11"/>
                  </a:lnTo>
                  <a:lnTo>
                    <a:pt x="299" y="19"/>
                  </a:lnTo>
                  <a:lnTo>
                    <a:pt x="320" y="28"/>
                  </a:lnTo>
                  <a:lnTo>
                    <a:pt x="336" y="39"/>
                  </a:lnTo>
                  <a:lnTo>
                    <a:pt x="355" y="50"/>
                  </a:lnTo>
                  <a:lnTo>
                    <a:pt x="369" y="65"/>
                  </a:lnTo>
                  <a:lnTo>
                    <a:pt x="382" y="79"/>
                  </a:lnTo>
                  <a:lnTo>
                    <a:pt x="395" y="96"/>
                  </a:lnTo>
                  <a:lnTo>
                    <a:pt x="406" y="114"/>
                  </a:lnTo>
                  <a:lnTo>
                    <a:pt x="415" y="133"/>
                  </a:lnTo>
                  <a:lnTo>
                    <a:pt x="423" y="153"/>
                  </a:lnTo>
                  <a:lnTo>
                    <a:pt x="428" y="173"/>
                  </a:lnTo>
                  <a:lnTo>
                    <a:pt x="432" y="195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3889440" y="4088880"/>
              <a:ext cx="119160" cy="450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9" h="71">
                  <a:moveTo>
                    <a:pt x="33" y="0"/>
                  </a:moveTo>
                  <a:lnTo>
                    <a:pt x="150" y="0"/>
                  </a:lnTo>
                  <a:lnTo>
                    <a:pt x="189" y="71"/>
                  </a:lnTo>
                  <a:lnTo>
                    <a:pt x="0" y="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3889440" y="3068640"/>
              <a:ext cx="115200" cy="914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83" h="145">
                  <a:moveTo>
                    <a:pt x="0" y="0"/>
                  </a:moveTo>
                  <a:lnTo>
                    <a:pt x="79" y="145"/>
                  </a:lnTo>
                  <a:lnTo>
                    <a:pt x="183" y="7"/>
                  </a:lnTo>
                </a:path>
              </a:pathLst>
            </a:custGeom>
            <a:noFill/>
            <a:ln w="349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095" name="Freeform 27"/>
            <p:cNvSpPr/>
            <p:nvPr/>
          </p:nvSpPr>
          <p:spPr>
            <a:xfrm>
              <a:off x="6400800" y="4425840"/>
              <a:ext cx="549360" cy="55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78" h="881">
                  <a:moveTo>
                    <a:pt x="0" y="440"/>
                  </a:moveTo>
                  <a:lnTo>
                    <a:pt x="0" y="440"/>
                  </a:lnTo>
                  <a:lnTo>
                    <a:pt x="2" y="464"/>
                  </a:lnTo>
                  <a:lnTo>
                    <a:pt x="4" y="486"/>
                  </a:lnTo>
                  <a:lnTo>
                    <a:pt x="5" y="508"/>
                  </a:lnTo>
                  <a:lnTo>
                    <a:pt x="9" y="530"/>
                  </a:lnTo>
                  <a:lnTo>
                    <a:pt x="20" y="573"/>
                  </a:lnTo>
                  <a:lnTo>
                    <a:pt x="35" y="613"/>
                  </a:lnTo>
                  <a:lnTo>
                    <a:pt x="53" y="652"/>
                  </a:lnTo>
                  <a:lnTo>
                    <a:pt x="75" y="687"/>
                  </a:lnTo>
                  <a:lnTo>
                    <a:pt x="101" y="721"/>
                  </a:lnTo>
                  <a:lnTo>
                    <a:pt x="129" y="753"/>
                  </a:lnTo>
                  <a:lnTo>
                    <a:pt x="160" y="780"/>
                  </a:lnTo>
                  <a:lnTo>
                    <a:pt x="195" y="806"/>
                  </a:lnTo>
                  <a:lnTo>
                    <a:pt x="230" y="828"/>
                  </a:lnTo>
                  <a:lnTo>
                    <a:pt x="268" y="846"/>
                  </a:lnTo>
                  <a:lnTo>
                    <a:pt x="308" y="861"/>
                  </a:lnTo>
                  <a:lnTo>
                    <a:pt x="351" y="872"/>
                  </a:lnTo>
                  <a:lnTo>
                    <a:pt x="373" y="876"/>
                  </a:lnTo>
                  <a:lnTo>
                    <a:pt x="395" y="879"/>
                  </a:lnTo>
                  <a:lnTo>
                    <a:pt x="417" y="881"/>
                  </a:lnTo>
                  <a:lnTo>
                    <a:pt x="439" y="881"/>
                  </a:lnTo>
                  <a:lnTo>
                    <a:pt x="461" y="881"/>
                  </a:lnTo>
                  <a:lnTo>
                    <a:pt x="485" y="879"/>
                  </a:lnTo>
                  <a:lnTo>
                    <a:pt x="505" y="876"/>
                  </a:lnTo>
                  <a:lnTo>
                    <a:pt x="527" y="872"/>
                  </a:lnTo>
                  <a:lnTo>
                    <a:pt x="569" y="861"/>
                  </a:lnTo>
                  <a:lnTo>
                    <a:pt x="610" y="846"/>
                  </a:lnTo>
                  <a:lnTo>
                    <a:pt x="648" y="828"/>
                  </a:lnTo>
                  <a:lnTo>
                    <a:pt x="685" y="806"/>
                  </a:lnTo>
                  <a:lnTo>
                    <a:pt x="718" y="780"/>
                  </a:lnTo>
                  <a:lnTo>
                    <a:pt x="749" y="753"/>
                  </a:lnTo>
                  <a:lnTo>
                    <a:pt x="777" y="721"/>
                  </a:lnTo>
                  <a:lnTo>
                    <a:pt x="803" y="687"/>
                  </a:lnTo>
                  <a:lnTo>
                    <a:pt x="825" y="652"/>
                  </a:lnTo>
                  <a:lnTo>
                    <a:pt x="843" y="613"/>
                  </a:lnTo>
                  <a:lnTo>
                    <a:pt x="858" y="573"/>
                  </a:lnTo>
                  <a:lnTo>
                    <a:pt x="869" y="530"/>
                  </a:lnTo>
                  <a:lnTo>
                    <a:pt x="872" y="508"/>
                  </a:lnTo>
                  <a:lnTo>
                    <a:pt x="876" y="486"/>
                  </a:lnTo>
                  <a:lnTo>
                    <a:pt x="878" y="464"/>
                  </a:lnTo>
                  <a:lnTo>
                    <a:pt x="878" y="440"/>
                  </a:lnTo>
                  <a:lnTo>
                    <a:pt x="878" y="418"/>
                  </a:lnTo>
                  <a:lnTo>
                    <a:pt x="876" y="396"/>
                  </a:lnTo>
                  <a:lnTo>
                    <a:pt x="872" y="374"/>
                  </a:lnTo>
                  <a:lnTo>
                    <a:pt x="869" y="352"/>
                  </a:lnTo>
                  <a:lnTo>
                    <a:pt x="858" y="310"/>
                  </a:lnTo>
                  <a:lnTo>
                    <a:pt x="843" y="270"/>
                  </a:lnTo>
                  <a:lnTo>
                    <a:pt x="825" y="231"/>
                  </a:lnTo>
                  <a:lnTo>
                    <a:pt x="803" y="194"/>
                  </a:lnTo>
                  <a:lnTo>
                    <a:pt x="777" y="161"/>
                  </a:lnTo>
                  <a:lnTo>
                    <a:pt x="749" y="130"/>
                  </a:lnTo>
                  <a:lnTo>
                    <a:pt x="718" y="101"/>
                  </a:lnTo>
                  <a:lnTo>
                    <a:pt x="685" y="75"/>
                  </a:lnTo>
                  <a:lnTo>
                    <a:pt x="648" y="53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7" y="9"/>
                  </a:lnTo>
                  <a:lnTo>
                    <a:pt x="505" y="5"/>
                  </a:lnTo>
                  <a:lnTo>
                    <a:pt x="485" y="2"/>
                  </a:lnTo>
                  <a:lnTo>
                    <a:pt x="461" y="2"/>
                  </a:lnTo>
                  <a:lnTo>
                    <a:pt x="439" y="0"/>
                  </a:lnTo>
                  <a:lnTo>
                    <a:pt x="417" y="2"/>
                  </a:lnTo>
                  <a:lnTo>
                    <a:pt x="395" y="2"/>
                  </a:lnTo>
                  <a:lnTo>
                    <a:pt x="373" y="5"/>
                  </a:lnTo>
                  <a:lnTo>
                    <a:pt x="351" y="9"/>
                  </a:lnTo>
                  <a:lnTo>
                    <a:pt x="308" y="20"/>
                  </a:lnTo>
                  <a:lnTo>
                    <a:pt x="268" y="35"/>
                  </a:lnTo>
                  <a:lnTo>
                    <a:pt x="230" y="53"/>
                  </a:lnTo>
                  <a:lnTo>
                    <a:pt x="195" y="75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1" y="161"/>
                  </a:lnTo>
                  <a:lnTo>
                    <a:pt x="75" y="194"/>
                  </a:lnTo>
                  <a:lnTo>
                    <a:pt x="53" y="231"/>
                  </a:lnTo>
                  <a:lnTo>
                    <a:pt x="35" y="270"/>
                  </a:lnTo>
                  <a:lnTo>
                    <a:pt x="20" y="310"/>
                  </a:lnTo>
                  <a:lnTo>
                    <a:pt x="9" y="352"/>
                  </a:lnTo>
                  <a:lnTo>
                    <a:pt x="5" y="374"/>
                  </a:lnTo>
                  <a:lnTo>
                    <a:pt x="4" y="396"/>
                  </a:lnTo>
                  <a:lnTo>
                    <a:pt x="2" y="418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8"/>
            <p:cNvSpPr/>
            <p:nvPr/>
          </p:nvSpPr>
          <p:spPr>
            <a:xfrm>
              <a:off x="6456960" y="4482000"/>
              <a:ext cx="436680" cy="4399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698" h="701">
                  <a:moveTo>
                    <a:pt x="0" y="350"/>
                  </a:moveTo>
                  <a:lnTo>
                    <a:pt x="0" y="350"/>
                  </a:lnTo>
                  <a:lnTo>
                    <a:pt x="2" y="387"/>
                  </a:lnTo>
                  <a:lnTo>
                    <a:pt x="7" y="422"/>
                  </a:lnTo>
                  <a:lnTo>
                    <a:pt x="16" y="455"/>
                  </a:lnTo>
                  <a:lnTo>
                    <a:pt x="27" y="488"/>
                  </a:lnTo>
                  <a:lnTo>
                    <a:pt x="42" y="518"/>
                  </a:lnTo>
                  <a:lnTo>
                    <a:pt x="61" y="547"/>
                  </a:lnTo>
                  <a:lnTo>
                    <a:pt x="81" y="574"/>
                  </a:lnTo>
                  <a:lnTo>
                    <a:pt x="103" y="598"/>
                  </a:lnTo>
                  <a:lnTo>
                    <a:pt x="127" y="622"/>
                  </a:lnTo>
                  <a:lnTo>
                    <a:pt x="154" y="642"/>
                  </a:lnTo>
                  <a:lnTo>
                    <a:pt x="184" y="659"/>
                  </a:lnTo>
                  <a:lnTo>
                    <a:pt x="213" y="674"/>
                  </a:lnTo>
                  <a:lnTo>
                    <a:pt x="246" y="687"/>
                  </a:lnTo>
                  <a:lnTo>
                    <a:pt x="279" y="694"/>
                  </a:lnTo>
                  <a:lnTo>
                    <a:pt x="314" y="699"/>
                  </a:lnTo>
                  <a:lnTo>
                    <a:pt x="349" y="701"/>
                  </a:lnTo>
                  <a:lnTo>
                    <a:pt x="386" y="699"/>
                  </a:lnTo>
                  <a:lnTo>
                    <a:pt x="419" y="694"/>
                  </a:lnTo>
                  <a:lnTo>
                    <a:pt x="454" y="687"/>
                  </a:lnTo>
                  <a:lnTo>
                    <a:pt x="485" y="674"/>
                  </a:lnTo>
                  <a:lnTo>
                    <a:pt x="516" y="659"/>
                  </a:lnTo>
                  <a:lnTo>
                    <a:pt x="544" y="642"/>
                  </a:lnTo>
                  <a:lnTo>
                    <a:pt x="571" y="622"/>
                  </a:lnTo>
                  <a:lnTo>
                    <a:pt x="595" y="598"/>
                  </a:lnTo>
                  <a:lnTo>
                    <a:pt x="619" y="574"/>
                  </a:lnTo>
                  <a:lnTo>
                    <a:pt x="639" y="547"/>
                  </a:lnTo>
                  <a:lnTo>
                    <a:pt x="656" y="518"/>
                  </a:lnTo>
                  <a:lnTo>
                    <a:pt x="670" y="488"/>
                  </a:lnTo>
                  <a:lnTo>
                    <a:pt x="683" y="455"/>
                  </a:lnTo>
                  <a:lnTo>
                    <a:pt x="690" y="422"/>
                  </a:lnTo>
                  <a:lnTo>
                    <a:pt x="696" y="387"/>
                  </a:lnTo>
                  <a:lnTo>
                    <a:pt x="698" y="350"/>
                  </a:lnTo>
                  <a:lnTo>
                    <a:pt x="696" y="316"/>
                  </a:lnTo>
                  <a:lnTo>
                    <a:pt x="690" y="281"/>
                  </a:lnTo>
                  <a:lnTo>
                    <a:pt x="683" y="246"/>
                  </a:lnTo>
                  <a:lnTo>
                    <a:pt x="670" y="215"/>
                  </a:lnTo>
                  <a:lnTo>
                    <a:pt x="656" y="183"/>
                  </a:lnTo>
                  <a:lnTo>
                    <a:pt x="639" y="156"/>
                  </a:lnTo>
                  <a:lnTo>
                    <a:pt x="619" y="128"/>
                  </a:lnTo>
                  <a:lnTo>
                    <a:pt x="595" y="103"/>
                  </a:lnTo>
                  <a:lnTo>
                    <a:pt x="571" y="81"/>
                  </a:lnTo>
                  <a:lnTo>
                    <a:pt x="544" y="60"/>
                  </a:lnTo>
                  <a:lnTo>
                    <a:pt x="516" y="42"/>
                  </a:lnTo>
                  <a:lnTo>
                    <a:pt x="485" y="27"/>
                  </a:lnTo>
                  <a:lnTo>
                    <a:pt x="454" y="16"/>
                  </a:lnTo>
                  <a:lnTo>
                    <a:pt x="419" y="7"/>
                  </a:lnTo>
                  <a:lnTo>
                    <a:pt x="386" y="2"/>
                  </a:lnTo>
                  <a:lnTo>
                    <a:pt x="349" y="0"/>
                  </a:lnTo>
                  <a:lnTo>
                    <a:pt x="314" y="2"/>
                  </a:lnTo>
                  <a:lnTo>
                    <a:pt x="279" y="7"/>
                  </a:lnTo>
                  <a:lnTo>
                    <a:pt x="246" y="16"/>
                  </a:lnTo>
                  <a:lnTo>
                    <a:pt x="213" y="27"/>
                  </a:lnTo>
                  <a:lnTo>
                    <a:pt x="184" y="42"/>
                  </a:lnTo>
                  <a:lnTo>
                    <a:pt x="154" y="60"/>
                  </a:lnTo>
                  <a:lnTo>
                    <a:pt x="127" y="81"/>
                  </a:lnTo>
                  <a:lnTo>
                    <a:pt x="103" y="103"/>
                  </a:lnTo>
                  <a:lnTo>
                    <a:pt x="81" y="128"/>
                  </a:lnTo>
                  <a:lnTo>
                    <a:pt x="61" y="156"/>
                  </a:lnTo>
                  <a:lnTo>
                    <a:pt x="42" y="183"/>
                  </a:lnTo>
                  <a:lnTo>
                    <a:pt x="27" y="215"/>
                  </a:lnTo>
                  <a:lnTo>
                    <a:pt x="16" y="246"/>
                  </a:lnTo>
                  <a:lnTo>
                    <a:pt x="7" y="281"/>
                  </a:lnTo>
                  <a:lnTo>
                    <a:pt x="2" y="316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6"/>
            <p:cNvSpPr/>
            <p:nvPr/>
          </p:nvSpPr>
          <p:spPr>
            <a:xfrm>
              <a:off x="6572160" y="6665400"/>
              <a:ext cx="199080" cy="752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7" h="122">
                  <a:moveTo>
                    <a:pt x="264" y="0"/>
                  </a:moveTo>
                  <a:lnTo>
                    <a:pt x="66" y="0"/>
                  </a:lnTo>
                  <a:lnTo>
                    <a:pt x="0" y="122"/>
                  </a:lnTo>
                  <a:lnTo>
                    <a:pt x="317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7"/>
            <p:cNvSpPr/>
            <p:nvPr/>
          </p:nvSpPr>
          <p:spPr>
            <a:xfrm>
              <a:off x="6578280" y="4951080"/>
              <a:ext cx="192600" cy="1530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6" h="242">
                  <a:moveTo>
                    <a:pt x="306" y="0"/>
                  </a:moveTo>
                  <a:lnTo>
                    <a:pt x="176" y="242"/>
                  </a:lnTo>
                  <a:lnTo>
                    <a:pt x="0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101" name="Freeform 31"/>
            <p:cNvSpPr/>
            <p:nvPr/>
          </p:nvSpPr>
          <p:spPr>
            <a:xfrm>
              <a:off x="5567400" y="2741760"/>
              <a:ext cx="338040" cy="339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0" h="544">
                  <a:moveTo>
                    <a:pt x="0" y="272"/>
                  </a:moveTo>
                  <a:lnTo>
                    <a:pt x="0" y="272"/>
                  </a:lnTo>
                  <a:lnTo>
                    <a:pt x="0" y="300"/>
                  </a:lnTo>
                  <a:lnTo>
                    <a:pt x="6" y="327"/>
                  </a:lnTo>
                  <a:lnTo>
                    <a:pt x="11" y="353"/>
                  </a:lnTo>
                  <a:lnTo>
                    <a:pt x="21" y="379"/>
                  </a:lnTo>
                  <a:lnTo>
                    <a:pt x="33" y="402"/>
                  </a:lnTo>
                  <a:lnTo>
                    <a:pt x="46" y="425"/>
                  </a:lnTo>
                  <a:lnTo>
                    <a:pt x="61" y="445"/>
                  </a:lnTo>
                  <a:lnTo>
                    <a:pt x="79" y="465"/>
                  </a:lnTo>
                  <a:lnTo>
                    <a:pt x="98" y="481"/>
                  </a:lnTo>
                  <a:lnTo>
                    <a:pt x="120" y="498"/>
                  </a:lnTo>
                  <a:lnTo>
                    <a:pt x="142" y="511"/>
                  </a:lnTo>
                  <a:lnTo>
                    <a:pt x="166" y="524"/>
                  </a:lnTo>
                  <a:lnTo>
                    <a:pt x="189" y="533"/>
                  </a:lnTo>
                  <a:lnTo>
                    <a:pt x="215" y="538"/>
                  </a:lnTo>
                  <a:lnTo>
                    <a:pt x="243" y="542"/>
                  </a:lnTo>
                  <a:lnTo>
                    <a:pt x="270" y="544"/>
                  </a:lnTo>
                  <a:lnTo>
                    <a:pt x="298" y="542"/>
                  </a:lnTo>
                  <a:lnTo>
                    <a:pt x="325" y="538"/>
                  </a:lnTo>
                  <a:lnTo>
                    <a:pt x="351" y="533"/>
                  </a:lnTo>
                  <a:lnTo>
                    <a:pt x="375" y="524"/>
                  </a:lnTo>
                  <a:lnTo>
                    <a:pt x="399" y="511"/>
                  </a:lnTo>
                  <a:lnTo>
                    <a:pt x="421" y="498"/>
                  </a:lnTo>
                  <a:lnTo>
                    <a:pt x="443" y="481"/>
                  </a:lnTo>
                  <a:lnTo>
                    <a:pt x="461" y="465"/>
                  </a:lnTo>
                  <a:lnTo>
                    <a:pt x="480" y="445"/>
                  </a:lnTo>
                  <a:lnTo>
                    <a:pt x="494" y="425"/>
                  </a:lnTo>
                  <a:lnTo>
                    <a:pt x="509" y="402"/>
                  </a:lnTo>
                  <a:lnTo>
                    <a:pt x="520" y="379"/>
                  </a:lnTo>
                  <a:lnTo>
                    <a:pt x="529" y="353"/>
                  </a:lnTo>
                  <a:lnTo>
                    <a:pt x="535" y="327"/>
                  </a:lnTo>
                  <a:lnTo>
                    <a:pt x="540" y="300"/>
                  </a:lnTo>
                  <a:lnTo>
                    <a:pt x="540" y="272"/>
                  </a:lnTo>
                  <a:lnTo>
                    <a:pt x="540" y="245"/>
                  </a:lnTo>
                  <a:lnTo>
                    <a:pt x="535" y="217"/>
                  </a:lnTo>
                  <a:lnTo>
                    <a:pt x="529" y="191"/>
                  </a:lnTo>
                  <a:lnTo>
                    <a:pt x="520" y="167"/>
                  </a:lnTo>
                  <a:lnTo>
                    <a:pt x="509" y="144"/>
                  </a:lnTo>
                  <a:lnTo>
                    <a:pt x="494" y="120"/>
                  </a:lnTo>
                  <a:lnTo>
                    <a:pt x="480" y="99"/>
                  </a:lnTo>
                  <a:lnTo>
                    <a:pt x="461" y="79"/>
                  </a:lnTo>
                  <a:lnTo>
                    <a:pt x="443" y="63"/>
                  </a:lnTo>
                  <a:lnTo>
                    <a:pt x="421" y="46"/>
                  </a:lnTo>
                  <a:lnTo>
                    <a:pt x="399" y="33"/>
                  </a:lnTo>
                  <a:lnTo>
                    <a:pt x="375" y="22"/>
                  </a:lnTo>
                  <a:lnTo>
                    <a:pt x="351" y="13"/>
                  </a:lnTo>
                  <a:lnTo>
                    <a:pt x="325" y="6"/>
                  </a:lnTo>
                  <a:lnTo>
                    <a:pt x="298" y="2"/>
                  </a:lnTo>
                  <a:lnTo>
                    <a:pt x="270" y="0"/>
                  </a:lnTo>
                  <a:lnTo>
                    <a:pt x="243" y="2"/>
                  </a:lnTo>
                  <a:lnTo>
                    <a:pt x="215" y="6"/>
                  </a:lnTo>
                  <a:lnTo>
                    <a:pt x="189" y="13"/>
                  </a:lnTo>
                  <a:lnTo>
                    <a:pt x="166" y="22"/>
                  </a:lnTo>
                  <a:lnTo>
                    <a:pt x="142" y="33"/>
                  </a:lnTo>
                  <a:lnTo>
                    <a:pt x="120" y="46"/>
                  </a:lnTo>
                  <a:lnTo>
                    <a:pt x="98" y="63"/>
                  </a:lnTo>
                  <a:lnTo>
                    <a:pt x="79" y="79"/>
                  </a:lnTo>
                  <a:lnTo>
                    <a:pt x="61" y="99"/>
                  </a:lnTo>
                  <a:lnTo>
                    <a:pt x="46" y="120"/>
                  </a:lnTo>
                  <a:lnTo>
                    <a:pt x="33" y="144"/>
                  </a:lnTo>
                  <a:lnTo>
                    <a:pt x="21" y="167"/>
                  </a:lnTo>
                  <a:lnTo>
                    <a:pt x="11" y="191"/>
                  </a:lnTo>
                  <a:lnTo>
                    <a:pt x="6" y="217"/>
                  </a:lnTo>
                  <a:lnTo>
                    <a:pt x="0" y="245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103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30" h="434">
                    <a:moveTo>
                      <a:pt x="0" y="217"/>
                    </a:moveTo>
                    <a:lnTo>
                      <a:pt x="0" y="217"/>
                    </a:lnTo>
                    <a:lnTo>
                      <a:pt x="0" y="239"/>
                    </a:lnTo>
                    <a:lnTo>
                      <a:pt x="4" y="261"/>
                    </a:lnTo>
                    <a:lnTo>
                      <a:pt x="10" y="281"/>
                    </a:lnTo>
                    <a:lnTo>
                      <a:pt x="17" y="302"/>
                    </a:lnTo>
                    <a:lnTo>
                      <a:pt x="26" y="320"/>
                    </a:lnTo>
                    <a:lnTo>
                      <a:pt x="37" y="338"/>
                    </a:lnTo>
                    <a:lnTo>
                      <a:pt x="50" y="355"/>
                    </a:lnTo>
                    <a:lnTo>
                      <a:pt x="63" y="370"/>
                    </a:lnTo>
                    <a:lnTo>
                      <a:pt x="79" y="384"/>
                    </a:lnTo>
                    <a:lnTo>
                      <a:pt x="96" y="397"/>
                    </a:lnTo>
                    <a:lnTo>
                      <a:pt x="112" y="408"/>
                    </a:lnTo>
                    <a:lnTo>
                      <a:pt x="131" y="417"/>
                    </a:lnTo>
                    <a:lnTo>
                      <a:pt x="151" y="425"/>
                    </a:lnTo>
                    <a:lnTo>
                      <a:pt x="171" y="430"/>
                    </a:lnTo>
                    <a:lnTo>
                      <a:pt x="193" y="432"/>
                    </a:lnTo>
                    <a:lnTo>
                      <a:pt x="215" y="434"/>
                    </a:lnTo>
                    <a:lnTo>
                      <a:pt x="237" y="432"/>
                    </a:lnTo>
                    <a:lnTo>
                      <a:pt x="259" y="430"/>
                    </a:lnTo>
                    <a:lnTo>
                      <a:pt x="280" y="425"/>
                    </a:lnTo>
                    <a:lnTo>
                      <a:pt x="300" y="417"/>
                    </a:lnTo>
                    <a:lnTo>
                      <a:pt x="318" y="408"/>
                    </a:lnTo>
                    <a:lnTo>
                      <a:pt x="336" y="397"/>
                    </a:lnTo>
                    <a:lnTo>
                      <a:pt x="353" y="384"/>
                    </a:lnTo>
                    <a:lnTo>
                      <a:pt x="368" y="370"/>
                    </a:lnTo>
                    <a:lnTo>
                      <a:pt x="381" y="355"/>
                    </a:lnTo>
                    <a:lnTo>
                      <a:pt x="393" y="338"/>
                    </a:lnTo>
                    <a:lnTo>
                      <a:pt x="404" y="320"/>
                    </a:lnTo>
                    <a:lnTo>
                      <a:pt x="414" y="302"/>
                    </a:lnTo>
                    <a:lnTo>
                      <a:pt x="421" y="281"/>
                    </a:lnTo>
                    <a:lnTo>
                      <a:pt x="426" y="261"/>
                    </a:lnTo>
                    <a:lnTo>
                      <a:pt x="430" y="239"/>
                    </a:lnTo>
                    <a:lnTo>
                      <a:pt x="430" y="217"/>
                    </a:lnTo>
                    <a:lnTo>
                      <a:pt x="430" y="195"/>
                    </a:lnTo>
                    <a:lnTo>
                      <a:pt x="426" y="173"/>
                    </a:lnTo>
                    <a:lnTo>
                      <a:pt x="421" y="153"/>
                    </a:lnTo>
                    <a:lnTo>
                      <a:pt x="414" y="133"/>
                    </a:lnTo>
                    <a:lnTo>
                      <a:pt x="404" y="114"/>
                    </a:lnTo>
                    <a:lnTo>
                      <a:pt x="393" y="96"/>
                    </a:lnTo>
                    <a:lnTo>
                      <a:pt x="381" y="79"/>
                    </a:lnTo>
                    <a:lnTo>
                      <a:pt x="368" y="65"/>
                    </a:lnTo>
                    <a:lnTo>
                      <a:pt x="353" y="50"/>
                    </a:lnTo>
                    <a:lnTo>
                      <a:pt x="336" y="39"/>
                    </a:lnTo>
                    <a:lnTo>
                      <a:pt x="318" y="28"/>
                    </a:lnTo>
                    <a:lnTo>
                      <a:pt x="300" y="19"/>
                    </a:lnTo>
                    <a:lnTo>
                      <a:pt x="280" y="11"/>
                    </a:lnTo>
                    <a:lnTo>
                      <a:pt x="259" y="6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3" y="2"/>
                    </a:lnTo>
                    <a:lnTo>
                      <a:pt x="171" y="6"/>
                    </a:lnTo>
                    <a:lnTo>
                      <a:pt x="151" y="11"/>
                    </a:lnTo>
                    <a:lnTo>
                      <a:pt x="131" y="19"/>
                    </a:lnTo>
                    <a:lnTo>
                      <a:pt x="112" y="28"/>
                    </a:lnTo>
                    <a:lnTo>
                      <a:pt x="96" y="39"/>
                    </a:lnTo>
                    <a:lnTo>
                      <a:pt x="79" y="50"/>
                    </a:lnTo>
                    <a:lnTo>
                      <a:pt x="63" y="65"/>
                    </a:lnTo>
                    <a:lnTo>
                      <a:pt x="50" y="79"/>
                    </a:lnTo>
                    <a:lnTo>
                      <a:pt x="37" y="96"/>
                    </a:lnTo>
                    <a:lnTo>
                      <a:pt x="26" y="114"/>
                    </a:lnTo>
                    <a:lnTo>
                      <a:pt x="17" y="133"/>
                    </a:lnTo>
                    <a:lnTo>
                      <a:pt x="10" y="153"/>
                    </a:lnTo>
                    <a:lnTo>
                      <a:pt x="4" y="173"/>
                    </a:lnTo>
                    <a:lnTo>
                      <a:pt x="0" y="19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89" h="71">
                    <a:moveTo>
                      <a:pt x="156" y="0"/>
                    </a:moveTo>
                    <a:lnTo>
                      <a:pt x="39" y="0"/>
                    </a:lnTo>
                    <a:lnTo>
                      <a:pt x="0" y="71"/>
                    </a:lnTo>
                    <a:lnTo>
                      <a:pt x="189" y="71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83" h="145">
                    <a:moveTo>
                      <a:pt x="183" y="0"/>
                    </a:moveTo>
                    <a:lnTo>
                      <a:pt x="104" y="145"/>
                    </a:lnTo>
                    <a:lnTo>
                      <a:pt x="0" y="7"/>
                    </a:lnTo>
                  </a:path>
                </a:pathLst>
              </a:custGeom>
              <a:noFill/>
              <a:ln w="3492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108" name="Freeform 14"/>
            <p:cNvSpPr/>
            <p:nvPr/>
          </p:nvSpPr>
          <p:spPr>
            <a:xfrm>
              <a:off x="3129120" y="2430360"/>
              <a:ext cx="3350880" cy="4454640"/>
            </a:xfrm>
            <a:custGeom>
              <a:avLst/>
              <a:gdLst>
                <a:gd name="textAreaLeft" fmla="*/ 0 w 3350880"/>
                <a:gd name="textAreaRight" fmla="*/ 3351240 w 3350880"/>
                <a:gd name="textAreaTop" fmla="*/ 0 h 4454640"/>
                <a:gd name="textAreaBottom" fmla="*/ 4455000 h 4454640"/>
              </a:gdLst>
              <a:ahLst/>
              <a:rect l="textAreaLeft" t="textAreaTop" r="textAreaRight" b="textAreaBottom"/>
              <a:pathLst>
                <a:path w="5348" h="7110">
                  <a:moveTo>
                    <a:pt x="2321" y="29"/>
                  </a:moveTo>
                  <a:lnTo>
                    <a:pt x="0" y="7110"/>
                  </a:lnTo>
                  <a:lnTo>
                    <a:pt x="5348" y="7044"/>
                  </a:lnTo>
                  <a:lnTo>
                    <a:pt x="3144" y="0"/>
                  </a:lnTo>
                  <a:lnTo>
                    <a:pt x="2321" y="29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7"/>
            <p:cNvSpPr/>
            <p:nvPr/>
          </p:nvSpPr>
          <p:spPr>
            <a:xfrm>
              <a:off x="4537440" y="2435040"/>
              <a:ext cx="387000" cy="44272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4427280"/>
                <a:gd name="textAreaBottom" fmla="*/ 4427640 h 4427280"/>
              </a:gdLst>
              <a:ahLst/>
              <a:rect l="textAreaLeft" t="textAreaTop" r="textAreaRight" b="textAreaBottom"/>
              <a:pathLst>
                <a:path w="617" h="7064">
                  <a:moveTo>
                    <a:pt x="407" y="9"/>
                  </a:moveTo>
                  <a:lnTo>
                    <a:pt x="0" y="7064"/>
                  </a:lnTo>
                  <a:lnTo>
                    <a:pt x="617" y="7064"/>
                  </a:lnTo>
                  <a:lnTo>
                    <a:pt x="552" y="0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111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4230000" y="1977480"/>
              <a:ext cx="294480" cy="2948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70" h="470">
                  <a:moveTo>
                    <a:pt x="470" y="235"/>
                  </a:moveTo>
                  <a:lnTo>
                    <a:pt x="470" y="235"/>
                  </a:lnTo>
                  <a:lnTo>
                    <a:pt x="469" y="259"/>
                  </a:lnTo>
                  <a:lnTo>
                    <a:pt x="465" y="283"/>
                  </a:lnTo>
                  <a:lnTo>
                    <a:pt x="459" y="305"/>
                  </a:lnTo>
                  <a:lnTo>
                    <a:pt x="450" y="327"/>
                  </a:lnTo>
                  <a:lnTo>
                    <a:pt x="441" y="347"/>
                  </a:lnTo>
                  <a:lnTo>
                    <a:pt x="430" y="367"/>
                  </a:lnTo>
                  <a:lnTo>
                    <a:pt x="415" y="386"/>
                  </a:lnTo>
                  <a:lnTo>
                    <a:pt x="401" y="402"/>
                  </a:lnTo>
                  <a:lnTo>
                    <a:pt x="384" y="417"/>
                  </a:lnTo>
                  <a:lnTo>
                    <a:pt x="366" y="430"/>
                  </a:lnTo>
                  <a:lnTo>
                    <a:pt x="347" y="443"/>
                  </a:lnTo>
                  <a:lnTo>
                    <a:pt x="325" y="452"/>
                  </a:lnTo>
                  <a:lnTo>
                    <a:pt x="305" y="459"/>
                  </a:lnTo>
                  <a:lnTo>
                    <a:pt x="281" y="466"/>
                  </a:lnTo>
                  <a:lnTo>
                    <a:pt x="259" y="470"/>
                  </a:lnTo>
                  <a:lnTo>
                    <a:pt x="235" y="470"/>
                  </a:lnTo>
                  <a:lnTo>
                    <a:pt x="210" y="470"/>
                  </a:lnTo>
                  <a:lnTo>
                    <a:pt x="188" y="466"/>
                  </a:lnTo>
                  <a:lnTo>
                    <a:pt x="164" y="459"/>
                  </a:lnTo>
                  <a:lnTo>
                    <a:pt x="144" y="452"/>
                  </a:lnTo>
                  <a:lnTo>
                    <a:pt x="123" y="443"/>
                  </a:lnTo>
                  <a:lnTo>
                    <a:pt x="103" y="430"/>
                  </a:lnTo>
                  <a:lnTo>
                    <a:pt x="85" y="417"/>
                  </a:lnTo>
                  <a:lnTo>
                    <a:pt x="68" y="402"/>
                  </a:lnTo>
                  <a:lnTo>
                    <a:pt x="54" y="386"/>
                  </a:lnTo>
                  <a:lnTo>
                    <a:pt x="39" y="367"/>
                  </a:lnTo>
                  <a:lnTo>
                    <a:pt x="28" y="347"/>
                  </a:lnTo>
                  <a:lnTo>
                    <a:pt x="19" y="327"/>
                  </a:lnTo>
                  <a:lnTo>
                    <a:pt x="9" y="305"/>
                  </a:lnTo>
                  <a:lnTo>
                    <a:pt x="4" y="283"/>
                  </a:lnTo>
                  <a:lnTo>
                    <a:pt x="0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4" y="187"/>
                  </a:lnTo>
                  <a:lnTo>
                    <a:pt x="9" y="165"/>
                  </a:lnTo>
                  <a:lnTo>
                    <a:pt x="19" y="143"/>
                  </a:lnTo>
                  <a:lnTo>
                    <a:pt x="28" y="123"/>
                  </a:lnTo>
                  <a:lnTo>
                    <a:pt x="39" y="105"/>
                  </a:lnTo>
                  <a:lnTo>
                    <a:pt x="54" y="86"/>
                  </a:lnTo>
                  <a:lnTo>
                    <a:pt x="68" y="70"/>
                  </a:lnTo>
                  <a:lnTo>
                    <a:pt x="85" y="53"/>
                  </a:lnTo>
                  <a:lnTo>
                    <a:pt x="103" y="40"/>
                  </a:lnTo>
                  <a:lnTo>
                    <a:pt x="123" y="29"/>
                  </a:lnTo>
                  <a:lnTo>
                    <a:pt x="144" y="18"/>
                  </a:lnTo>
                  <a:lnTo>
                    <a:pt x="164" y="11"/>
                  </a:lnTo>
                  <a:lnTo>
                    <a:pt x="188" y="6"/>
                  </a:lnTo>
                  <a:lnTo>
                    <a:pt x="210" y="2"/>
                  </a:lnTo>
                  <a:lnTo>
                    <a:pt x="235" y="0"/>
                  </a:lnTo>
                  <a:lnTo>
                    <a:pt x="259" y="2"/>
                  </a:lnTo>
                  <a:lnTo>
                    <a:pt x="281" y="6"/>
                  </a:lnTo>
                  <a:lnTo>
                    <a:pt x="305" y="11"/>
                  </a:lnTo>
                  <a:lnTo>
                    <a:pt x="325" y="18"/>
                  </a:lnTo>
                  <a:lnTo>
                    <a:pt x="347" y="29"/>
                  </a:lnTo>
                  <a:lnTo>
                    <a:pt x="366" y="40"/>
                  </a:lnTo>
                  <a:lnTo>
                    <a:pt x="384" y="53"/>
                  </a:lnTo>
                  <a:lnTo>
                    <a:pt x="401" y="70"/>
                  </a:lnTo>
                  <a:lnTo>
                    <a:pt x="415" y="86"/>
                  </a:lnTo>
                  <a:lnTo>
                    <a:pt x="430" y="105"/>
                  </a:lnTo>
                  <a:lnTo>
                    <a:pt x="441" y="123"/>
                  </a:lnTo>
                  <a:lnTo>
                    <a:pt x="450" y="143"/>
                  </a:lnTo>
                  <a:lnTo>
                    <a:pt x="459" y="165"/>
                  </a:lnTo>
                  <a:lnTo>
                    <a:pt x="465" y="187"/>
                  </a:lnTo>
                  <a:lnTo>
                    <a:pt x="469" y="211"/>
                  </a:lnTo>
                  <a:lnTo>
                    <a:pt x="47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4260240" y="2007720"/>
              <a:ext cx="232920" cy="234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3" h="374">
                  <a:moveTo>
                    <a:pt x="373" y="187"/>
                  </a:moveTo>
                  <a:lnTo>
                    <a:pt x="373" y="187"/>
                  </a:lnTo>
                  <a:lnTo>
                    <a:pt x="373" y="207"/>
                  </a:lnTo>
                  <a:lnTo>
                    <a:pt x="369" y="226"/>
                  </a:lnTo>
                  <a:lnTo>
                    <a:pt x="365" y="244"/>
                  </a:lnTo>
                  <a:lnTo>
                    <a:pt x="358" y="260"/>
                  </a:lnTo>
                  <a:lnTo>
                    <a:pt x="351" y="277"/>
                  </a:lnTo>
                  <a:lnTo>
                    <a:pt x="342" y="292"/>
                  </a:lnTo>
                  <a:lnTo>
                    <a:pt x="331" y="306"/>
                  </a:lnTo>
                  <a:lnTo>
                    <a:pt x="320" y="319"/>
                  </a:lnTo>
                  <a:lnTo>
                    <a:pt x="305" y="332"/>
                  </a:lnTo>
                  <a:lnTo>
                    <a:pt x="290" y="343"/>
                  </a:lnTo>
                  <a:lnTo>
                    <a:pt x="275" y="352"/>
                  </a:lnTo>
                  <a:lnTo>
                    <a:pt x="259" y="360"/>
                  </a:lnTo>
                  <a:lnTo>
                    <a:pt x="242" y="365"/>
                  </a:lnTo>
                  <a:lnTo>
                    <a:pt x="224" y="371"/>
                  </a:lnTo>
                  <a:lnTo>
                    <a:pt x="206" y="373"/>
                  </a:lnTo>
                  <a:lnTo>
                    <a:pt x="187" y="374"/>
                  </a:lnTo>
                  <a:lnTo>
                    <a:pt x="167" y="373"/>
                  </a:lnTo>
                  <a:lnTo>
                    <a:pt x="149" y="371"/>
                  </a:lnTo>
                  <a:lnTo>
                    <a:pt x="130" y="365"/>
                  </a:lnTo>
                  <a:lnTo>
                    <a:pt x="114" y="360"/>
                  </a:lnTo>
                  <a:lnTo>
                    <a:pt x="97" y="352"/>
                  </a:lnTo>
                  <a:lnTo>
                    <a:pt x="83" y="343"/>
                  </a:lnTo>
                  <a:lnTo>
                    <a:pt x="68" y="332"/>
                  </a:lnTo>
                  <a:lnTo>
                    <a:pt x="55" y="319"/>
                  </a:lnTo>
                  <a:lnTo>
                    <a:pt x="42" y="306"/>
                  </a:lnTo>
                  <a:lnTo>
                    <a:pt x="31" y="292"/>
                  </a:lnTo>
                  <a:lnTo>
                    <a:pt x="22" y="277"/>
                  </a:lnTo>
                  <a:lnTo>
                    <a:pt x="15" y="260"/>
                  </a:lnTo>
                  <a:lnTo>
                    <a:pt x="7" y="244"/>
                  </a:lnTo>
                  <a:lnTo>
                    <a:pt x="4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5" y="115"/>
                  </a:lnTo>
                  <a:lnTo>
                    <a:pt x="22" y="99"/>
                  </a:lnTo>
                  <a:lnTo>
                    <a:pt x="31" y="82"/>
                  </a:lnTo>
                  <a:lnTo>
                    <a:pt x="42" y="68"/>
                  </a:lnTo>
                  <a:lnTo>
                    <a:pt x="55" y="55"/>
                  </a:lnTo>
                  <a:lnTo>
                    <a:pt x="68" y="44"/>
                  </a:lnTo>
                  <a:lnTo>
                    <a:pt x="83" y="33"/>
                  </a:lnTo>
                  <a:lnTo>
                    <a:pt x="97" y="24"/>
                  </a:lnTo>
                  <a:lnTo>
                    <a:pt x="114" y="14"/>
                  </a:lnTo>
                  <a:lnTo>
                    <a:pt x="130" y="9"/>
                  </a:lnTo>
                  <a:lnTo>
                    <a:pt x="149" y="5"/>
                  </a:lnTo>
                  <a:lnTo>
                    <a:pt x="167" y="2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4" y="5"/>
                  </a:lnTo>
                  <a:lnTo>
                    <a:pt x="242" y="9"/>
                  </a:lnTo>
                  <a:lnTo>
                    <a:pt x="259" y="14"/>
                  </a:lnTo>
                  <a:lnTo>
                    <a:pt x="275" y="24"/>
                  </a:lnTo>
                  <a:lnTo>
                    <a:pt x="290" y="33"/>
                  </a:lnTo>
                  <a:lnTo>
                    <a:pt x="305" y="44"/>
                  </a:lnTo>
                  <a:lnTo>
                    <a:pt x="320" y="55"/>
                  </a:lnTo>
                  <a:lnTo>
                    <a:pt x="331" y="68"/>
                  </a:lnTo>
                  <a:lnTo>
                    <a:pt x="342" y="82"/>
                  </a:lnTo>
                  <a:lnTo>
                    <a:pt x="351" y="99"/>
                  </a:lnTo>
                  <a:lnTo>
                    <a:pt x="358" y="115"/>
                  </a:lnTo>
                  <a:lnTo>
                    <a:pt x="365" y="132"/>
                  </a:lnTo>
                  <a:lnTo>
                    <a:pt x="369" y="150"/>
                  </a:lnTo>
                  <a:lnTo>
                    <a:pt x="373" y="169"/>
                  </a:lnTo>
                  <a:lnTo>
                    <a:pt x="373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434052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3" h="48">
                  <a:moveTo>
                    <a:pt x="20" y="0"/>
                  </a:moveTo>
                  <a:lnTo>
                    <a:pt x="97" y="0"/>
                  </a:lnTo>
                  <a:lnTo>
                    <a:pt x="123" y="48"/>
                  </a:lnTo>
                  <a:lnTo>
                    <a:pt x="0" y="4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"/>
            <p:cNvSpPr/>
            <p:nvPr/>
          </p:nvSpPr>
          <p:spPr>
            <a:xfrm>
              <a:off x="434052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0" y="0"/>
                  </a:moveTo>
                  <a:lnTo>
                    <a:pt x="51" y="94"/>
                  </a:lnTo>
                  <a:lnTo>
                    <a:pt x="119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2"/>
            <p:cNvSpPr/>
            <p:nvPr/>
          </p:nvSpPr>
          <p:spPr>
            <a:xfrm flipH="1" flipV="1">
              <a:off x="4293720" y="193212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3"/>
            <p:cNvSpPr/>
            <p:nvPr/>
          </p:nvSpPr>
          <p:spPr>
            <a:xfrm flipH="1" flipV="1">
              <a:off x="4203360" y="180396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4"/>
            <p:cNvSpPr/>
            <p:nvPr/>
          </p:nvSpPr>
          <p:spPr>
            <a:xfrm flipH="1" flipV="1">
              <a:off x="4112280" y="1676160"/>
              <a:ext cx="4608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5"/>
            <p:cNvSpPr/>
            <p:nvPr/>
          </p:nvSpPr>
          <p:spPr>
            <a:xfrm flipH="1">
              <a:off x="396288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6"/>
            <p:cNvSpPr/>
            <p:nvPr/>
          </p:nvSpPr>
          <p:spPr>
            <a:xfrm flipH="1">
              <a:off x="38059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7"/>
            <p:cNvSpPr/>
            <p:nvPr/>
          </p:nvSpPr>
          <p:spPr>
            <a:xfrm flipH="1">
              <a:off x="3649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8"/>
            <p:cNvSpPr/>
            <p:nvPr/>
          </p:nvSpPr>
          <p:spPr>
            <a:xfrm flipH="1">
              <a:off x="34927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9"/>
            <p:cNvSpPr/>
            <p:nvPr/>
          </p:nvSpPr>
          <p:spPr>
            <a:xfrm flipH="1">
              <a:off x="3413880" y="1663920"/>
              <a:ext cx="108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0"/>
            <p:cNvSpPr/>
            <p:nvPr/>
          </p:nvSpPr>
          <p:spPr>
            <a:xfrm>
              <a:off x="314460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3" h="419">
                  <a:moveTo>
                    <a:pt x="13" y="419"/>
                  </a:moveTo>
                  <a:lnTo>
                    <a:pt x="13" y="419"/>
                  </a:lnTo>
                  <a:lnTo>
                    <a:pt x="9" y="404"/>
                  </a:lnTo>
                  <a:lnTo>
                    <a:pt x="5" y="388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6" y="228"/>
                  </a:lnTo>
                  <a:lnTo>
                    <a:pt x="22" y="209"/>
                  </a:lnTo>
                  <a:lnTo>
                    <a:pt x="31" y="191"/>
                  </a:lnTo>
                  <a:lnTo>
                    <a:pt x="40" y="175"/>
                  </a:lnTo>
                  <a:lnTo>
                    <a:pt x="51" y="156"/>
                  </a:lnTo>
                  <a:lnTo>
                    <a:pt x="64" y="138"/>
                  </a:lnTo>
                  <a:lnTo>
                    <a:pt x="81" y="121"/>
                  </a:lnTo>
                  <a:lnTo>
                    <a:pt x="97" y="105"/>
                  </a:lnTo>
                  <a:lnTo>
                    <a:pt x="117" y="88"/>
                  </a:lnTo>
                  <a:lnTo>
                    <a:pt x="138" y="74"/>
                  </a:lnTo>
                  <a:lnTo>
                    <a:pt x="162" y="59"/>
                  </a:lnTo>
                  <a:lnTo>
                    <a:pt x="189" y="44"/>
                  </a:lnTo>
                  <a:lnTo>
                    <a:pt x="218" y="31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23" y="17"/>
                  </a:lnTo>
                  <a:lnTo>
                    <a:pt x="321" y="61"/>
                  </a:lnTo>
                  <a:lnTo>
                    <a:pt x="319" y="92"/>
                  </a:lnTo>
                  <a:lnTo>
                    <a:pt x="314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48" y="290"/>
                  </a:lnTo>
                  <a:lnTo>
                    <a:pt x="235" y="309"/>
                  </a:lnTo>
                  <a:lnTo>
                    <a:pt x="220" y="325"/>
                  </a:lnTo>
                  <a:lnTo>
                    <a:pt x="206" y="340"/>
                  </a:lnTo>
                  <a:lnTo>
                    <a:pt x="187" y="354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1"/>
                  </a:lnTo>
                  <a:lnTo>
                    <a:pt x="99" y="402"/>
                  </a:lnTo>
                  <a:lnTo>
                    <a:pt x="72" y="410"/>
                  </a:lnTo>
                  <a:lnTo>
                    <a:pt x="44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127" name="Freeform 9"/>
            <p:cNvSpPr/>
            <p:nvPr/>
          </p:nvSpPr>
          <p:spPr>
            <a:xfrm>
              <a:off x="3348360" y="3602520"/>
              <a:ext cx="345600" cy="3470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53" h="552">
                  <a:moveTo>
                    <a:pt x="553" y="275"/>
                  </a:moveTo>
                  <a:lnTo>
                    <a:pt x="553" y="275"/>
                  </a:lnTo>
                  <a:lnTo>
                    <a:pt x="551" y="303"/>
                  </a:lnTo>
                  <a:lnTo>
                    <a:pt x="548" y="330"/>
                  </a:lnTo>
                  <a:lnTo>
                    <a:pt x="540" y="358"/>
                  </a:lnTo>
                  <a:lnTo>
                    <a:pt x="531" y="384"/>
                  </a:lnTo>
                  <a:lnTo>
                    <a:pt x="520" y="407"/>
                  </a:lnTo>
                  <a:lnTo>
                    <a:pt x="506" y="429"/>
                  </a:lnTo>
                  <a:lnTo>
                    <a:pt x="491" y="451"/>
                  </a:lnTo>
                  <a:lnTo>
                    <a:pt x="472" y="470"/>
                  </a:lnTo>
                  <a:lnTo>
                    <a:pt x="452" y="488"/>
                  </a:lnTo>
                  <a:lnTo>
                    <a:pt x="432" y="505"/>
                  </a:lnTo>
                  <a:lnTo>
                    <a:pt x="408" y="518"/>
                  </a:lnTo>
                  <a:lnTo>
                    <a:pt x="384" y="530"/>
                  </a:lnTo>
                  <a:lnTo>
                    <a:pt x="359" y="540"/>
                  </a:lnTo>
                  <a:lnTo>
                    <a:pt x="333" y="545"/>
                  </a:lnTo>
                  <a:lnTo>
                    <a:pt x="305" y="551"/>
                  </a:lnTo>
                  <a:lnTo>
                    <a:pt x="278" y="552"/>
                  </a:lnTo>
                  <a:lnTo>
                    <a:pt x="248" y="551"/>
                  </a:lnTo>
                  <a:lnTo>
                    <a:pt x="221" y="545"/>
                  </a:lnTo>
                  <a:lnTo>
                    <a:pt x="195" y="540"/>
                  </a:lnTo>
                  <a:lnTo>
                    <a:pt x="169" y="530"/>
                  </a:lnTo>
                  <a:lnTo>
                    <a:pt x="146" y="518"/>
                  </a:lnTo>
                  <a:lnTo>
                    <a:pt x="124" y="505"/>
                  </a:lnTo>
                  <a:lnTo>
                    <a:pt x="101" y="488"/>
                  </a:lnTo>
                  <a:lnTo>
                    <a:pt x="81" y="470"/>
                  </a:lnTo>
                  <a:lnTo>
                    <a:pt x="65" y="451"/>
                  </a:lnTo>
                  <a:lnTo>
                    <a:pt x="48" y="429"/>
                  </a:lnTo>
                  <a:lnTo>
                    <a:pt x="34" y="407"/>
                  </a:lnTo>
                  <a:lnTo>
                    <a:pt x="23" y="384"/>
                  </a:lnTo>
                  <a:lnTo>
                    <a:pt x="13" y="358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5"/>
                  </a:lnTo>
                  <a:lnTo>
                    <a:pt x="2" y="248"/>
                  </a:lnTo>
                  <a:lnTo>
                    <a:pt x="6" y="220"/>
                  </a:lnTo>
                  <a:lnTo>
                    <a:pt x="13" y="193"/>
                  </a:lnTo>
                  <a:lnTo>
                    <a:pt x="23" y="169"/>
                  </a:lnTo>
                  <a:lnTo>
                    <a:pt x="34" y="143"/>
                  </a:lnTo>
                  <a:lnTo>
                    <a:pt x="48" y="121"/>
                  </a:lnTo>
                  <a:lnTo>
                    <a:pt x="65" y="99"/>
                  </a:lnTo>
                  <a:lnTo>
                    <a:pt x="81" y="81"/>
                  </a:lnTo>
                  <a:lnTo>
                    <a:pt x="101" y="62"/>
                  </a:lnTo>
                  <a:lnTo>
                    <a:pt x="124" y="46"/>
                  </a:lnTo>
                  <a:lnTo>
                    <a:pt x="146" y="33"/>
                  </a:lnTo>
                  <a:lnTo>
                    <a:pt x="169" y="22"/>
                  </a:lnTo>
                  <a:lnTo>
                    <a:pt x="195" y="11"/>
                  </a:lnTo>
                  <a:lnTo>
                    <a:pt x="221" y="5"/>
                  </a:lnTo>
                  <a:lnTo>
                    <a:pt x="248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33" y="5"/>
                  </a:lnTo>
                  <a:lnTo>
                    <a:pt x="359" y="11"/>
                  </a:lnTo>
                  <a:lnTo>
                    <a:pt x="384" y="22"/>
                  </a:lnTo>
                  <a:lnTo>
                    <a:pt x="408" y="33"/>
                  </a:lnTo>
                  <a:lnTo>
                    <a:pt x="432" y="46"/>
                  </a:lnTo>
                  <a:lnTo>
                    <a:pt x="452" y="62"/>
                  </a:lnTo>
                  <a:lnTo>
                    <a:pt x="472" y="81"/>
                  </a:lnTo>
                  <a:lnTo>
                    <a:pt x="491" y="99"/>
                  </a:lnTo>
                  <a:lnTo>
                    <a:pt x="506" y="121"/>
                  </a:lnTo>
                  <a:lnTo>
                    <a:pt x="520" y="143"/>
                  </a:lnTo>
                  <a:lnTo>
                    <a:pt x="531" y="169"/>
                  </a:lnTo>
                  <a:lnTo>
                    <a:pt x="540" y="193"/>
                  </a:lnTo>
                  <a:lnTo>
                    <a:pt x="548" y="220"/>
                  </a:lnTo>
                  <a:lnTo>
                    <a:pt x="551" y="248"/>
                  </a:lnTo>
                  <a:lnTo>
                    <a:pt x="553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0"/>
            <p:cNvSpPr/>
            <p:nvPr/>
          </p:nvSpPr>
          <p:spPr>
            <a:xfrm>
              <a:off x="3437280" y="3971160"/>
              <a:ext cx="162720" cy="1278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0" y="0"/>
                  </a:moveTo>
                  <a:lnTo>
                    <a:pt x="110" y="204"/>
                  </a:lnTo>
                  <a:lnTo>
                    <a:pt x="259" y="10"/>
                  </a:lnTo>
                </a:path>
              </a:pathLst>
            </a:custGeom>
            <a:noFill/>
            <a:ln w="493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3"/>
            <p:cNvSpPr/>
            <p:nvPr/>
          </p:nvSpPr>
          <p:spPr>
            <a:xfrm flipH="1" flipV="1">
              <a:off x="3490920" y="3485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64"/>
            <p:cNvSpPr/>
            <p:nvPr/>
          </p:nvSpPr>
          <p:spPr>
            <a:xfrm flipH="1" flipV="1">
              <a:off x="3430800" y="3341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5"/>
            <p:cNvSpPr/>
            <p:nvPr/>
          </p:nvSpPr>
          <p:spPr>
            <a:xfrm flipH="1" flipV="1">
              <a:off x="3370680" y="319608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66"/>
            <p:cNvSpPr/>
            <p:nvPr/>
          </p:nvSpPr>
          <p:spPr>
            <a:xfrm>
              <a:off x="3279600" y="3099960"/>
              <a:ext cx="61200" cy="237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9" h="39">
                  <a:moveTo>
                    <a:pt x="99" y="39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7"/>
            <p:cNvSpPr/>
            <p:nvPr/>
          </p:nvSpPr>
          <p:spPr>
            <a:xfrm flipH="1">
              <a:off x="31226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8"/>
            <p:cNvSpPr/>
            <p:nvPr/>
          </p:nvSpPr>
          <p:spPr>
            <a:xfrm flipH="1">
              <a:off x="29660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9"/>
            <p:cNvSpPr/>
            <p:nvPr/>
          </p:nvSpPr>
          <p:spPr>
            <a:xfrm flipH="1">
              <a:off x="28094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70"/>
            <p:cNvSpPr/>
            <p:nvPr/>
          </p:nvSpPr>
          <p:spPr>
            <a:xfrm flipH="1">
              <a:off x="2652840" y="309996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1"/>
            <p:cNvSpPr/>
            <p:nvPr/>
          </p:nvSpPr>
          <p:spPr>
            <a:xfrm flipH="1">
              <a:off x="2502360" y="3099960"/>
              <a:ext cx="723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2219760" y="2992320"/>
              <a:ext cx="202680" cy="2617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6"/>
                  </a:lnTo>
                  <a:lnTo>
                    <a:pt x="6" y="389"/>
                  </a:lnTo>
                  <a:lnTo>
                    <a:pt x="2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2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2" y="156"/>
                  </a:lnTo>
                  <a:lnTo>
                    <a:pt x="65" y="139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38" y="73"/>
                  </a:lnTo>
                  <a:lnTo>
                    <a:pt x="162" y="59"/>
                  </a:lnTo>
                  <a:lnTo>
                    <a:pt x="189" y="46"/>
                  </a:lnTo>
                  <a:lnTo>
                    <a:pt x="219" y="33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6"/>
                  </a:lnTo>
                  <a:lnTo>
                    <a:pt x="322" y="60"/>
                  </a:lnTo>
                  <a:lnTo>
                    <a:pt x="320" y="92"/>
                  </a:lnTo>
                  <a:lnTo>
                    <a:pt x="314" y="125"/>
                  </a:lnTo>
                  <a:lnTo>
                    <a:pt x="307" y="161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0" y="255"/>
                  </a:lnTo>
                  <a:lnTo>
                    <a:pt x="261" y="273"/>
                  </a:lnTo>
                  <a:lnTo>
                    <a:pt x="248" y="290"/>
                  </a:lnTo>
                  <a:lnTo>
                    <a:pt x="235" y="308"/>
                  </a:lnTo>
                  <a:lnTo>
                    <a:pt x="221" y="325"/>
                  </a:lnTo>
                  <a:lnTo>
                    <a:pt x="204" y="340"/>
                  </a:lnTo>
                  <a:lnTo>
                    <a:pt x="188" y="356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3"/>
                  </a:lnTo>
                  <a:lnTo>
                    <a:pt x="99" y="402"/>
                  </a:lnTo>
                  <a:lnTo>
                    <a:pt x="72" y="409"/>
                  </a:lnTo>
                  <a:lnTo>
                    <a:pt x="43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142" name="Freeform 33"/>
            <p:cNvSpPr/>
            <p:nvPr/>
          </p:nvSpPr>
          <p:spPr>
            <a:xfrm>
              <a:off x="5173560" y="1977480"/>
              <a:ext cx="291960" cy="2948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67" h="470">
                  <a:moveTo>
                    <a:pt x="0" y="235"/>
                  </a:moveTo>
                  <a:lnTo>
                    <a:pt x="0" y="235"/>
                  </a:lnTo>
                  <a:lnTo>
                    <a:pt x="0" y="259"/>
                  </a:lnTo>
                  <a:lnTo>
                    <a:pt x="4" y="283"/>
                  </a:lnTo>
                  <a:lnTo>
                    <a:pt x="9" y="305"/>
                  </a:lnTo>
                  <a:lnTo>
                    <a:pt x="19" y="327"/>
                  </a:lnTo>
                  <a:lnTo>
                    <a:pt x="28" y="347"/>
                  </a:lnTo>
                  <a:lnTo>
                    <a:pt x="39" y="367"/>
                  </a:lnTo>
                  <a:lnTo>
                    <a:pt x="53" y="386"/>
                  </a:lnTo>
                  <a:lnTo>
                    <a:pt x="68" y="402"/>
                  </a:lnTo>
                  <a:lnTo>
                    <a:pt x="85" y="417"/>
                  </a:lnTo>
                  <a:lnTo>
                    <a:pt x="103" y="430"/>
                  </a:lnTo>
                  <a:lnTo>
                    <a:pt x="121" y="443"/>
                  </a:lnTo>
                  <a:lnTo>
                    <a:pt x="142" y="452"/>
                  </a:lnTo>
                  <a:lnTo>
                    <a:pt x="164" y="459"/>
                  </a:lnTo>
                  <a:lnTo>
                    <a:pt x="186" y="466"/>
                  </a:lnTo>
                  <a:lnTo>
                    <a:pt x="210" y="470"/>
                  </a:lnTo>
                  <a:lnTo>
                    <a:pt x="233" y="470"/>
                  </a:lnTo>
                  <a:lnTo>
                    <a:pt x="257" y="470"/>
                  </a:lnTo>
                  <a:lnTo>
                    <a:pt x="281" y="466"/>
                  </a:lnTo>
                  <a:lnTo>
                    <a:pt x="303" y="459"/>
                  </a:lnTo>
                  <a:lnTo>
                    <a:pt x="325" y="452"/>
                  </a:lnTo>
                  <a:lnTo>
                    <a:pt x="345" y="443"/>
                  </a:lnTo>
                  <a:lnTo>
                    <a:pt x="364" y="430"/>
                  </a:lnTo>
                  <a:lnTo>
                    <a:pt x="382" y="417"/>
                  </a:lnTo>
                  <a:lnTo>
                    <a:pt x="399" y="402"/>
                  </a:lnTo>
                  <a:lnTo>
                    <a:pt x="413" y="386"/>
                  </a:lnTo>
                  <a:lnTo>
                    <a:pt x="428" y="367"/>
                  </a:lnTo>
                  <a:lnTo>
                    <a:pt x="439" y="347"/>
                  </a:lnTo>
                  <a:lnTo>
                    <a:pt x="448" y="327"/>
                  </a:lnTo>
                  <a:lnTo>
                    <a:pt x="458" y="305"/>
                  </a:lnTo>
                  <a:lnTo>
                    <a:pt x="463" y="283"/>
                  </a:lnTo>
                  <a:lnTo>
                    <a:pt x="467" y="259"/>
                  </a:lnTo>
                  <a:lnTo>
                    <a:pt x="467" y="235"/>
                  </a:lnTo>
                  <a:lnTo>
                    <a:pt x="467" y="211"/>
                  </a:lnTo>
                  <a:lnTo>
                    <a:pt x="463" y="187"/>
                  </a:lnTo>
                  <a:lnTo>
                    <a:pt x="458" y="165"/>
                  </a:lnTo>
                  <a:lnTo>
                    <a:pt x="448" y="143"/>
                  </a:lnTo>
                  <a:lnTo>
                    <a:pt x="439" y="123"/>
                  </a:lnTo>
                  <a:lnTo>
                    <a:pt x="428" y="105"/>
                  </a:lnTo>
                  <a:lnTo>
                    <a:pt x="413" y="86"/>
                  </a:lnTo>
                  <a:lnTo>
                    <a:pt x="399" y="70"/>
                  </a:lnTo>
                  <a:lnTo>
                    <a:pt x="382" y="53"/>
                  </a:lnTo>
                  <a:lnTo>
                    <a:pt x="364" y="40"/>
                  </a:lnTo>
                  <a:lnTo>
                    <a:pt x="345" y="29"/>
                  </a:lnTo>
                  <a:lnTo>
                    <a:pt x="325" y="18"/>
                  </a:lnTo>
                  <a:lnTo>
                    <a:pt x="303" y="11"/>
                  </a:lnTo>
                  <a:lnTo>
                    <a:pt x="281" y="6"/>
                  </a:lnTo>
                  <a:lnTo>
                    <a:pt x="257" y="2"/>
                  </a:lnTo>
                  <a:lnTo>
                    <a:pt x="233" y="0"/>
                  </a:lnTo>
                  <a:lnTo>
                    <a:pt x="210" y="2"/>
                  </a:lnTo>
                  <a:lnTo>
                    <a:pt x="186" y="6"/>
                  </a:lnTo>
                  <a:lnTo>
                    <a:pt x="164" y="11"/>
                  </a:lnTo>
                  <a:lnTo>
                    <a:pt x="142" y="18"/>
                  </a:lnTo>
                  <a:lnTo>
                    <a:pt x="121" y="29"/>
                  </a:lnTo>
                  <a:lnTo>
                    <a:pt x="103" y="40"/>
                  </a:lnTo>
                  <a:lnTo>
                    <a:pt x="85" y="53"/>
                  </a:lnTo>
                  <a:lnTo>
                    <a:pt x="68" y="70"/>
                  </a:lnTo>
                  <a:lnTo>
                    <a:pt x="53" y="86"/>
                  </a:lnTo>
                  <a:lnTo>
                    <a:pt x="39" y="105"/>
                  </a:lnTo>
                  <a:lnTo>
                    <a:pt x="28" y="123"/>
                  </a:lnTo>
                  <a:lnTo>
                    <a:pt x="19" y="143"/>
                  </a:lnTo>
                  <a:lnTo>
                    <a:pt x="9" y="165"/>
                  </a:lnTo>
                  <a:lnTo>
                    <a:pt x="4" y="187"/>
                  </a:lnTo>
                  <a:lnTo>
                    <a:pt x="0" y="211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4"/>
            <p:cNvSpPr/>
            <p:nvPr/>
          </p:nvSpPr>
          <p:spPr>
            <a:xfrm>
              <a:off x="5203440" y="2007720"/>
              <a:ext cx="231840" cy="2343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1" h="374">
                  <a:moveTo>
                    <a:pt x="0" y="187"/>
                  </a:moveTo>
                  <a:lnTo>
                    <a:pt x="0" y="187"/>
                  </a:lnTo>
                  <a:lnTo>
                    <a:pt x="0" y="207"/>
                  </a:lnTo>
                  <a:lnTo>
                    <a:pt x="4" y="226"/>
                  </a:lnTo>
                  <a:lnTo>
                    <a:pt x="7" y="244"/>
                  </a:lnTo>
                  <a:lnTo>
                    <a:pt x="15" y="260"/>
                  </a:lnTo>
                  <a:lnTo>
                    <a:pt x="22" y="277"/>
                  </a:lnTo>
                  <a:lnTo>
                    <a:pt x="31" y="292"/>
                  </a:lnTo>
                  <a:lnTo>
                    <a:pt x="42" y="306"/>
                  </a:lnTo>
                  <a:lnTo>
                    <a:pt x="53" y="319"/>
                  </a:lnTo>
                  <a:lnTo>
                    <a:pt x="66" y="332"/>
                  </a:lnTo>
                  <a:lnTo>
                    <a:pt x="81" y="343"/>
                  </a:lnTo>
                  <a:lnTo>
                    <a:pt x="97" y="352"/>
                  </a:lnTo>
                  <a:lnTo>
                    <a:pt x="114" y="360"/>
                  </a:lnTo>
                  <a:lnTo>
                    <a:pt x="130" y="365"/>
                  </a:lnTo>
                  <a:lnTo>
                    <a:pt x="149" y="371"/>
                  </a:lnTo>
                  <a:lnTo>
                    <a:pt x="167" y="373"/>
                  </a:lnTo>
                  <a:lnTo>
                    <a:pt x="185" y="374"/>
                  </a:lnTo>
                  <a:lnTo>
                    <a:pt x="204" y="373"/>
                  </a:lnTo>
                  <a:lnTo>
                    <a:pt x="222" y="371"/>
                  </a:lnTo>
                  <a:lnTo>
                    <a:pt x="241" y="365"/>
                  </a:lnTo>
                  <a:lnTo>
                    <a:pt x="257" y="360"/>
                  </a:lnTo>
                  <a:lnTo>
                    <a:pt x="274" y="352"/>
                  </a:lnTo>
                  <a:lnTo>
                    <a:pt x="290" y="343"/>
                  </a:lnTo>
                  <a:lnTo>
                    <a:pt x="303" y="332"/>
                  </a:lnTo>
                  <a:lnTo>
                    <a:pt x="318" y="319"/>
                  </a:lnTo>
                  <a:lnTo>
                    <a:pt x="329" y="306"/>
                  </a:lnTo>
                  <a:lnTo>
                    <a:pt x="340" y="292"/>
                  </a:lnTo>
                  <a:lnTo>
                    <a:pt x="349" y="277"/>
                  </a:lnTo>
                  <a:lnTo>
                    <a:pt x="356" y="260"/>
                  </a:lnTo>
                  <a:lnTo>
                    <a:pt x="364" y="244"/>
                  </a:lnTo>
                  <a:lnTo>
                    <a:pt x="367" y="226"/>
                  </a:lnTo>
                  <a:lnTo>
                    <a:pt x="371" y="207"/>
                  </a:lnTo>
                  <a:lnTo>
                    <a:pt x="371" y="187"/>
                  </a:lnTo>
                  <a:lnTo>
                    <a:pt x="371" y="169"/>
                  </a:lnTo>
                  <a:lnTo>
                    <a:pt x="367" y="150"/>
                  </a:lnTo>
                  <a:lnTo>
                    <a:pt x="364" y="132"/>
                  </a:lnTo>
                  <a:lnTo>
                    <a:pt x="356" y="115"/>
                  </a:lnTo>
                  <a:lnTo>
                    <a:pt x="349" y="99"/>
                  </a:lnTo>
                  <a:lnTo>
                    <a:pt x="340" y="82"/>
                  </a:lnTo>
                  <a:lnTo>
                    <a:pt x="329" y="68"/>
                  </a:lnTo>
                  <a:lnTo>
                    <a:pt x="318" y="55"/>
                  </a:lnTo>
                  <a:lnTo>
                    <a:pt x="303" y="44"/>
                  </a:lnTo>
                  <a:lnTo>
                    <a:pt x="290" y="33"/>
                  </a:lnTo>
                  <a:lnTo>
                    <a:pt x="274" y="24"/>
                  </a:lnTo>
                  <a:lnTo>
                    <a:pt x="257" y="14"/>
                  </a:lnTo>
                  <a:lnTo>
                    <a:pt x="241" y="9"/>
                  </a:lnTo>
                  <a:lnTo>
                    <a:pt x="222" y="5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67" y="2"/>
                  </a:lnTo>
                  <a:lnTo>
                    <a:pt x="149" y="5"/>
                  </a:lnTo>
                  <a:lnTo>
                    <a:pt x="130" y="9"/>
                  </a:lnTo>
                  <a:lnTo>
                    <a:pt x="114" y="14"/>
                  </a:lnTo>
                  <a:lnTo>
                    <a:pt x="97" y="24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53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9"/>
                  </a:lnTo>
                  <a:lnTo>
                    <a:pt x="15" y="115"/>
                  </a:lnTo>
                  <a:lnTo>
                    <a:pt x="7" y="132"/>
                  </a:lnTo>
                  <a:lnTo>
                    <a:pt x="4" y="150"/>
                  </a:lnTo>
                  <a:lnTo>
                    <a:pt x="0" y="1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5"/>
            <p:cNvSpPr/>
            <p:nvPr/>
          </p:nvSpPr>
          <p:spPr>
            <a:xfrm>
              <a:off x="527868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48">
                  <a:moveTo>
                    <a:pt x="103" y="0"/>
                  </a:moveTo>
                  <a:lnTo>
                    <a:pt x="26" y="0"/>
                  </a:lnTo>
                  <a:lnTo>
                    <a:pt x="0" y="48"/>
                  </a:lnTo>
                  <a:lnTo>
                    <a:pt x="125" y="4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6"/>
            <p:cNvSpPr/>
            <p:nvPr/>
          </p:nvSpPr>
          <p:spPr>
            <a:xfrm>
              <a:off x="528120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119" y="0"/>
                  </a:moveTo>
                  <a:lnTo>
                    <a:pt x="68" y="94"/>
                  </a:lnTo>
                  <a:lnTo>
                    <a:pt x="0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56"/>
            <p:cNvSpPr/>
            <p:nvPr/>
          </p:nvSpPr>
          <p:spPr>
            <a:xfrm flipV="1">
              <a:off x="5388840" y="192708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7"/>
            <p:cNvSpPr/>
            <p:nvPr/>
          </p:nvSpPr>
          <p:spPr>
            <a:xfrm flipV="1">
              <a:off x="5499360" y="1815480"/>
              <a:ext cx="55080" cy="561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58"/>
            <p:cNvSpPr/>
            <p:nvPr/>
          </p:nvSpPr>
          <p:spPr>
            <a:xfrm flipV="1">
              <a:off x="5609520" y="170496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59"/>
            <p:cNvSpPr/>
            <p:nvPr/>
          </p:nvSpPr>
          <p:spPr>
            <a:xfrm>
              <a:off x="572724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0"/>
            <p:cNvSpPr/>
            <p:nvPr/>
          </p:nvSpPr>
          <p:spPr>
            <a:xfrm>
              <a:off x="58842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61"/>
            <p:cNvSpPr/>
            <p:nvPr/>
          </p:nvSpPr>
          <p:spPr>
            <a:xfrm>
              <a:off x="60408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62"/>
            <p:cNvSpPr/>
            <p:nvPr/>
          </p:nvSpPr>
          <p:spPr>
            <a:xfrm>
              <a:off x="6196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84"/>
            <p:cNvSpPr/>
            <p:nvPr/>
          </p:nvSpPr>
          <p:spPr>
            <a:xfrm>
              <a:off x="750096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4"/>
                  </a:lnTo>
                  <a:lnTo>
                    <a:pt x="6" y="387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4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4" y="156"/>
                  </a:lnTo>
                  <a:lnTo>
                    <a:pt x="67" y="138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40" y="73"/>
                  </a:lnTo>
                  <a:lnTo>
                    <a:pt x="164" y="59"/>
                  </a:lnTo>
                  <a:lnTo>
                    <a:pt x="190" y="44"/>
                  </a:lnTo>
                  <a:lnTo>
                    <a:pt x="219" y="31"/>
                  </a:lnTo>
                  <a:lnTo>
                    <a:pt x="252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7"/>
                  </a:lnTo>
                  <a:lnTo>
                    <a:pt x="324" y="61"/>
                  </a:lnTo>
                  <a:lnTo>
                    <a:pt x="320" y="92"/>
                  </a:lnTo>
                  <a:lnTo>
                    <a:pt x="316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50" y="290"/>
                  </a:lnTo>
                  <a:lnTo>
                    <a:pt x="237" y="309"/>
                  </a:lnTo>
                  <a:lnTo>
                    <a:pt x="223" y="325"/>
                  </a:lnTo>
                  <a:lnTo>
                    <a:pt x="206" y="340"/>
                  </a:lnTo>
                  <a:lnTo>
                    <a:pt x="188" y="354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1"/>
                  </a:lnTo>
                  <a:lnTo>
                    <a:pt x="100" y="402"/>
                  </a:lnTo>
                  <a:lnTo>
                    <a:pt x="74" y="410"/>
                  </a:lnTo>
                  <a:lnTo>
                    <a:pt x="45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157" name="Freeform 29"/>
            <p:cNvSpPr/>
            <p:nvPr/>
          </p:nvSpPr>
          <p:spPr>
            <a:xfrm>
              <a:off x="5954760" y="3558960"/>
              <a:ext cx="432360" cy="43488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91" h="694">
                  <a:moveTo>
                    <a:pt x="0" y="347"/>
                  </a:moveTo>
                  <a:lnTo>
                    <a:pt x="0" y="347"/>
                  </a:lnTo>
                  <a:lnTo>
                    <a:pt x="2" y="382"/>
                  </a:lnTo>
                  <a:lnTo>
                    <a:pt x="8" y="417"/>
                  </a:lnTo>
                  <a:lnTo>
                    <a:pt x="15" y="450"/>
                  </a:lnTo>
                  <a:lnTo>
                    <a:pt x="28" y="483"/>
                  </a:lnTo>
                  <a:lnTo>
                    <a:pt x="43" y="512"/>
                  </a:lnTo>
                  <a:lnTo>
                    <a:pt x="59" y="542"/>
                  </a:lnTo>
                  <a:lnTo>
                    <a:pt x="79" y="568"/>
                  </a:lnTo>
                  <a:lnTo>
                    <a:pt x="101" y="593"/>
                  </a:lnTo>
                  <a:lnTo>
                    <a:pt x="125" y="615"/>
                  </a:lnTo>
                  <a:lnTo>
                    <a:pt x="153" y="636"/>
                  </a:lnTo>
                  <a:lnTo>
                    <a:pt x="180" y="652"/>
                  </a:lnTo>
                  <a:lnTo>
                    <a:pt x="212" y="667"/>
                  </a:lnTo>
                  <a:lnTo>
                    <a:pt x="243" y="680"/>
                  </a:lnTo>
                  <a:lnTo>
                    <a:pt x="276" y="687"/>
                  </a:lnTo>
                  <a:lnTo>
                    <a:pt x="311" y="692"/>
                  </a:lnTo>
                  <a:lnTo>
                    <a:pt x="346" y="694"/>
                  </a:lnTo>
                  <a:lnTo>
                    <a:pt x="381" y="692"/>
                  </a:lnTo>
                  <a:lnTo>
                    <a:pt x="415" y="687"/>
                  </a:lnTo>
                  <a:lnTo>
                    <a:pt x="448" y="680"/>
                  </a:lnTo>
                  <a:lnTo>
                    <a:pt x="480" y="667"/>
                  </a:lnTo>
                  <a:lnTo>
                    <a:pt x="511" y="652"/>
                  </a:lnTo>
                  <a:lnTo>
                    <a:pt x="538" y="636"/>
                  </a:lnTo>
                  <a:lnTo>
                    <a:pt x="566" y="615"/>
                  </a:lnTo>
                  <a:lnTo>
                    <a:pt x="590" y="593"/>
                  </a:lnTo>
                  <a:lnTo>
                    <a:pt x="612" y="568"/>
                  </a:lnTo>
                  <a:lnTo>
                    <a:pt x="632" y="542"/>
                  </a:lnTo>
                  <a:lnTo>
                    <a:pt x="651" y="512"/>
                  </a:lnTo>
                  <a:lnTo>
                    <a:pt x="665" y="483"/>
                  </a:lnTo>
                  <a:lnTo>
                    <a:pt x="676" y="450"/>
                  </a:lnTo>
                  <a:lnTo>
                    <a:pt x="685" y="417"/>
                  </a:lnTo>
                  <a:lnTo>
                    <a:pt x="689" y="382"/>
                  </a:lnTo>
                  <a:lnTo>
                    <a:pt x="691" y="347"/>
                  </a:lnTo>
                  <a:lnTo>
                    <a:pt x="689" y="312"/>
                  </a:lnTo>
                  <a:lnTo>
                    <a:pt x="685" y="277"/>
                  </a:lnTo>
                  <a:lnTo>
                    <a:pt x="676" y="244"/>
                  </a:lnTo>
                  <a:lnTo>
                    <a:pt x="665" y="213"/>
                  </a:lnTo>
                  <a:lnTo>
                    <a:pt x="651" y="182"/>
                  </a:lnTo>
                  <a:lnTo>
                    <a:pt x="632" y="153"/>
                  </a:lnTo>
                  <a:lnTo>
                    <a:pt x="612" y="127"/>
                  </a:lnTo>
                  <a:lnTo>
                    <a:pt x="590" y="101"/>
                  </a:lnTo>
                  <a:lnTo>
                    <a:pt x="566" y="79"/>
                  </a:lnTo>
                  <a:lnTo>
                    <a:pt x="538" y="59"/>
                  </a:lnTo>
                  <a:lnTo>
                    <a:pt x="511" y="42"/>
                  </a:lnTo>
                  <a:lnTo>
                    <a:pt x="480" y="28"/>
                  </a:lnTo>
                  <a:lnTo>
                    <a:pt x="448" y="17"/>
                  </a:lnTo>
                  <a:lnTo>
                    <a:pt x="415" y="7"/>
                  </a:lnTo>
                  <a:lnTo>
                    <a:pt x="381" y="2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6" y="7"/>
                  </a:lnTo>
                  <a:lnTo>
                    <a:pt x="243" y="17"/>
                  </a:lnTo>
                  <a:lnTo>
                    <a:pt x="212" y="28"/>
                  </a:lnTo>
                  <a:lnTo>
                    <a:pt x="180" y="42"/>
                  </a:lnTo>
                  <a:lnTo>
                    <a:pt x="153" y="59"/>
                  </a:lnTo>
                  <a:lnTo>
                    <a:pt x="125" y="79"/>
                  </a:lnTo>
                  <a:lnTo>
                    <a:pt x="101" y="101"/>
                  </a:lnTo>
                  <a:lnTo>
                    <a:pt x="79" y="127"/>
                  </a:lnTo>
                  <a:lnTo>
                    <a:pt x="59" y="153"/>
                  </a:lnTo>
                  <a:lnTo>
                    <a:pt x="43" y="182"/>
                  </a:lnTo>
                  <a:lnTo>
                    <a:pt x="28" y="213"/>
                  </a:lnTo>
                  <a:lnTo>
                    <a:pt x="15" y="244"/>
                  </a:lnTo>
                  <a:lnTo>
                    <a:pt x="8" y="277"/>
                  </a:lnTo>
                  <a:lnTo>
                    <a:pt x="2" y="31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5999760" y="3602880"/>
              <a:ext cx="343080" cy="3470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49" h="552">
                  <a:moveTo>
                    <a:pt x="0" y="275"/>
                  </a:moveTo>
                  <a:lnTo>
                    <a:pt x="0" y="275"/>
                  </a:lnTo>
                  <a:lnTo>
                    <a:pt x="0" y="303"/>
                  </a:lnTo>
                  <a:lnTo>
                    <a:pt x="6" y="330"/>
                  </a:lnTo>
                  <a:lnTo>
                    <a:pt x="11" y="358"/>
                  </a:lnTo>
                  <a:lnTo>
                    <a:pt x="20" y="384"/>
                  </a:lnTo>
                  <a:lnTo>
                    <a:pt x="33" y="407"/>
                  </a:lnTo>
                  <a:lnTo>
                    <a:pt x="46" y="429"/>
                  </a:lnTo>
                  <a:lnTo>
                    <a:pt x="62" y="451"/>
                  </a:lnTo>
                  <a:lnTo>
                    <a:pt x="79" y="470"/>
                  </a:lnTo>
                  <a:lnTo>
                    <a:pt x="99" y="488"/>
                  </a:lnTo>
                  <a:lnTo>
                    <a:pt x="119" y="505"/>
                  </a:lnTo>
                  <a:lnTo>
                    <a:pt x="143" y="518"/>
                  </a:lnTo>
                  <a:lnTo>
                    <a:pt x="167" y="530"/>
                  </a:lnTo>
                  <a:lnTo>
                    <a:pt x="193" y="540"/>
                  </a:lnTo>
                  <a:lnTo>
                    <a:pt x="219" y="545"/>
                  </a:lnTo>
                  <a:lnTo>
                    <a:pt x="246" y="551"/>
                  </a:lnTo>
                  <a:lnTo>
                    <a:pt x="274" y="552"/>
                  </a:lnTo>
                  <a:lnTo>
                    <a:pt x="301" y="551"/>
                  </a:lnTo>
                  <a:lnTo>
                    <a:pt x="329" y="545"/>
                  </a:lnTo>
                  <a:lnTo>
                    <a:pt x="356" y="540"/>
                  </a:lnTo>
                  <a:lnTo>
                    <a:pt x="380" y="530"/>
                  </a:lnTo>
                  <a:lnTo>
                    <a:pt x="406" y="518"/>
                  </a:lnTo>
                  <a:lnTo>
                    <a:pt x="428" y="505"/>
                  </a:lnTo>
                  <a:lnTo>
                    <a:pt x="448" y="488"/>
                  </a:lnTo>
                  <a:lnTo>
                    <a:pt x="468" y="470"/>
                  </a:lnTo>
                  <a:lnTo>
                    <a:pt x="487" y="451"/>
                  </a:lnTo>
                  <a:lnTo>
                    <a:pt x="501" y="429"/>
                  </a:lnTo>
                  <a:lnTo>
                    <a:pt x="516" y="407"/>
                  </a:lnTo>
                  <a:lnTo>
                    <a:pt x="527" y="384"/>
                  </a:lnTo>
                  <a:lnTo>
                    <a:pt x="536" y="358"/>
                  </a:lnTo>
                  <a:lnTo>
                    <a:pt x="544" y="330"/>
                  </a:lnTo>
                  <a:lnTo>
                    <a:pt x="547" y="303"/>
                  </a:lnTo>
                  <a:lnTo>
                    <a:pt x="549" y="275"/>
                  </a:lnTo>
                  <a:lnTo>
                    <a:pt x="547" y="248"/>
                  </a:lnTo>
                  <a:lnTo>
                    <a:pt x="544" y="220"/>
                  </a:lnTo>
                  <a:lnTo>
                    <a:pt x="536" y="193"/>
                  </a:lnTo>
                  <a:lnTo>
                    <a:pt x="527" y="169"/>
                  </a:lnTo>
                  <a:lnTo>
                    <a:pt x="516" y="143"/>
                  </a:lnTo>
                  <a:lnTo>
                    <a:pt x="501" y="121"/>
                  </a:lnTo>
                  <a:lnTo>
                    <a:pt x="487" y="99"/>
                  </a:lnTo>
                  <a:lnTo>
                    <a:pt x="468" y="81"/>
                  </a:lnTo>
                  <a:lnTo>
                    <a:pt x="448" y="62"/>
                  </a:lnTo>
                  <a:lnTo>
                    <a:pt x="428" y="46"/>
                  </a:lnTo>
                  <a:lnTo>
                    <a:pt x="406" y="33"/>
                  </a:lnTo>
                  <a:lnTo>
                    <a:pt x="380" y="22"/>
                  </a:lnTo>
                  <a:lnTo>
                    <a:pt x="356" y="11"/>
                  </a:lnTo>
                  <a:lnTo>
                    <a:pt x="329" y="5"/>
                  </a:lnTo>
                  <a:lnTo>
                    <a:pt x="301" y="0"/>
                  </a:lnTo>
                  <a:lnTo>
                    <a:pt x="274" y="0"/>
                  </a:lnTo>
                  <a:lnTo>
                    <a:pt x="246" y="0"/>
                  </a:lnTo>
                  <a:lnTo>
                    <a:pt x="219" y="5"/>
                  </a:lnTo>
                  <a:lnTo>
                    <a:pt x="193" y="11"/>
                  </a:lnTo>
                  <a:lnTo>
                    <a:pt x="167" y="22"/>
                  </a:lnTo>
                  <a:lnTo>
                    <a:pt x="143" y="33"/>
                  </a:lnTo>
                  <a:lnTo>
                    <a:pt x="119" y="46"/>
                  </a:lnTo>
                  <a:lnTo>
                    <a:pt x="99" y="62"/>
                  </a:lnTo>
                  <a:lnTo>
                    <a:pt x="79" y="81"/>
                  </a:lnTo>
                  <a:lnTo>
                    <a:pt x="62" y="99"/>
                  </a:lnTo>
                  <a:lnTo>
                    <a:pt x="46" y="121"/>
                  </a:lnTo>
                  <a:lnTo>
                    <a:pt x="33" y="143"/>
                  </a:lnTo>
                  <a:lnTo>
                    <a:pt x="20" y="169"/>
                  </a:lnTo>
                  <a:lnTo>
                    <a:pt x="11" y="193"/>
                  </a:lnTo>
                  <a:lnTo>
                    <a:pt x="6" y="220"/>
                  </a:lnTo>
                  <a:lnTo>
                    <a:pt x="0" y="248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9"/>
            <p:cNvSpPr/>
            <p:nvPr/>
          </p:nvSpPr>
          <p:spPr>
            <a:xfrm>
              <a:off x="6086160" y="5408280"/>
              <a:ext cx="167760" cy="6372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8" h="103">
                  <a:moveTo>
                    <a:pt x="222" y="0"/>
                  </a:moveTo>
                  <a:lnTo>
                    <a:pt x="55" y="0"/>
                  </a:lnTo>
                  <a:lnTo>
                    <a:pt x="0" y="103"/>
                  </a:lnTo>
                  <a:lnTo>
                    <a:pt x="268" y="10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0"/>
            <p:cNvSpPr/>
            <p:nvPr/>
          </p:nvSpPr>
          <p:spPr>
            <a:xfrm>
              <a:off x="6092280" y="3971520"/>
              <a:ext cx="161640" cy="127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259" y="0"/>
                  </a:moveTo>
                  <a:lnTo>
                    <a:pt x="149" y="204"/>
                  </a:lnTo>
                  <a:lnTo>
                    <a:pt x="0" y="10"/>
                  </a:lnTo>
                </a:path>
              </a:pathLst>
            </a:custGeom>
            <a:noFill/>
            <a:ln w="475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48"/>
            <p:cNvSpPr/>
            <p:nvPr/>
          </p:nvSpPr>
          <p:spPr>
            <a:xfrm flipV="1">
              <a:off x="6273000" y="3514680"/>
              <a:ext cx="3600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49"/>
            <p:cNvSpPr/>
            <p:nvPr/>
          </p:nvSpPr>
          <p:spPr>
            <a:xfrm flipV="1">
              <a:off x="6344280" y="337572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50"/>
            <p:cNvSpPr/>
            <p:nvPr/>
          </p:nvSpPr>
          <p:spPr>
            <a:xfrm flipV="1">
              <a:off x="6415920" y="3235320"/>
              <a:ext cx="34920" cy="7020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51"/>
            <p:cNvSpPr/>
            <p:nvPr/>
          </p:nvSpPr>
          <p:spPr>
            <a:xfrm flipV="1">
              <a:off x="6487200" y="309600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"/>
            <p:cNvSpPr/>
            <p:nvPr/>
          </p:nvSpPr>
          <p:spPr>
            <a:xfrm>
              <a:off x="6558840" y="3017520"/>
              <a:ext cx="72360" cy="86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5" h="15">
                  <a:moveTo>
                    <a:pt x="0" y="15"/>
                  </a:moveTo>
                  <a:lnTo>
                    <a:pt x="7" y="0"/>
                  </a:lnTo>
                  <a:lnTo>
                    <a:pt x="115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3"/>
            <p:cNvSpPr/>
            <p:nvPr/>
          </p:nvSpPr>
          <p:spPr>
            <a:xfrm>
              <a:off x="6709320" y="30175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4"/>
            <p:cNvSpPr/>
            <p:nvPr/>
          </p:nvSpPr>
          <p:spPr>
            <a:xfrm>
              <a:off x="68659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55"/>
            <p:cNvSpPr/>
            <p:nvPr/>
          </p:nvSpPr>
          <p:spPr>
            <a:xfrm>
              <a:off x="70225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6"/>
            <p:cNvSpPr/>
            <p:nvPr/>
          </p:nvSpPr>
          <p:spPr>
            <a:xfrm>
              <a:off x="8329680" y="2909880"/>
              <a:ext cx="203040" cy="261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3" h="418">
                  <a:moveTo>
                    <a:pt x="13" y="418"/>
                  </a:moveTo>
                  <a:lnTo>
                    <a:pt x="13" y="418"/>
                  </a:lnTo>
                  <a:lnTo>
                    <a:pt x="9" y="405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3" y="279"/>
                  </a:lnTo>
                  <a:lnTo>
                    <a:pt x="11" y="244"/>
                  </a:lnTo>
                  <a:lnTo>
                    <a:pt x="16" y="227"/>
                  </a:lnTo>
                  <a:lnTo>
                    <a:pt x="24" y="209"/>
                  </a:lnTo>
                  <a:lnTo>
                    <a:pt x="31" y="191"/>
                  </a:lnTo>
                  <a:lnTo>
                    <a:pt x="40" y="174"/>
                  </a:lnTo>
                  <a:lnTo>
                    <a:pt x="53" y="156"/>
                  </a:lnTo>
                  <a:lnTo>
                    <a:pt x="66" y="139"/>
                  </a:lnTo>
                  <a:lnTo>
                    <a:pt x="81" y="121"/>
                  </a:lnTo>
                  <a:lnTo>
                    <a:pt x="97" y="104"/>
                  </a:lnTo>
                  <a:lnTo>
                    <a:pt x="117" y="88"/>
                  </a:lnTo>
                  <a:lnTo>
                    <a:pt x="139" y="73"/>
                  </a:lnTo>
                  <a:lnTo>
                    <a:pt x="163" y="58"/>
                  </a:lnTo>
                  <a:lnTo>
                    <a:pt x="189" y="45"/>
                  </a:lnTo>
                  <a:lnTo>
                    <a:pt x="218" y="33"/>
                  </a:lnTo>
                  <a:lnTo>
                    <a:pt x="251" y="20"/>
                  </a:lnTo>
                  <a:lnTo>
                    <a:pt x="286" y="9"/>
                  </a:lnTo>
                  <a:lnTo>
                    <a:pt x="323" y="0"/>
                  </a:lnTo>
                  <a:lnTo>
                    <a:pt x="323" y="16"/>
                  </a:lnTo>
                  <a:lnTo>
                    <a:pt x="323" y="60"/>
                  </a:lnTo>
                  <a:lnTo>
                    <a:pt x="319" y="91"/>
                  </a:lnTo>
                  <a:lnTo>
                    <a:pt x="316" y="124"/>
                  </a:lnTo>
                  <a:lnTo>
                    <a:pt x="306" y="161"/>
                  </a:lnTo>
                  <a:lnTo>
                    <a:pt x="295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3"/>
                  </a:lnTo>
                  <a:lnTo>
                    <a:pt x="250" y="290"/>
                  </a:lnTo>
                  <a:lnTo>
                    <a:pt x="237" y="308"/>
                  </a:lnTo>
                  <a:lnTo>
                    <a:pt x="222" y="325"/>
                  </a:lnTo>
                  <a:lnTo>
                    <a:pt x="205" y="339"/>
                  </a:lnTo>
                  <a:lnTo>
                    <a:pt x="187" y="356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3"/>
                  </a:lnTo>
                  <a:lnTo>
                    <a:pt x="99" y="402"/>
                  </a:lnTo>
                  <a:lnTo>
                    <a:pt x="73" y="409"/>
                  </a:lnTo>
                  <a:lnTo>
                    <a:pt x="44" y="415"/>
                  </a:lnTo>
                  <a:lnTo>
                    <a:pt x="13" y="418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73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174" name="Freeform 6"/>
            <p:cNvSpPr/>
            <p:nvPr/>
          </p:nvSpPr>
          <p:spPr>
            <a:xfrm>
              <a:off x="291960" y="504972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7"/>
                  </a:lnTo>
                  <a:lnTo>
                    <a:pt x="1600" y="927"/>
                  </a:lnTo>
                  <a:lnTo>
                    <a:pt x="1592" y="966"/>
                  </a:lnTo>
                  <a:lnTo>
                    <a:pt x="1582" y="1005"/>
                  </a:lnTo>
                  <a:lnTo>
                    <a:pt x="1572" y="1044"/>
                  </a:lnTo>
                  <a:lnTo>
                    <a:pt x="1559" y="1081"/>
                  </a:lnTo>
                  <a:lnTo>
                    <a:pt x="1545" y="1117"/>
                  </a:lnTo>
                  <a:lnTo>
                    <a:pt x="1529" y="1153"/>
                  </a:lnTo>
                  <a:lnTo>
                    <a:pt x="1512" y="1187"/>
                  </a:lnTo>
                  <a:lnTo>
                    <a:pt x="1492" y="1222"/>
                  </a:lnTo>
                  <a:lnTo>
                    <a:pt x="1470" y="1255"/>
                  </a:lnTo>
                  <a:lnTo>
                    <a:pt x="1449" y="1285"/>
                  </a:lnTo>
                  <a:lnTo>
                    <a:pt x="1424" y="1316"/>
                  </a:lnTo>
                  <a:lnTo>
                    <a:pt x="1400" y="1345"/>
                  </a:lnTo>
                  <a:lnTo>
                    <a:pt x="1373" y="1372"/>
                  </a:lnTo>
                  <a:lnTo>
                    <a:pt x="1345" y="1400"/>
                  </a:lnTo>
                  <a:lnTo>
                    <a:pt x="1315" y="1426"/>
                  </a:lnTo>
                  <a:lnTo>
                    <a:pt x="1285" y="1449"/>
                  </a:lnTo>
                  <a:lnTo>
                    <a:pt x="1254" y="1472"/>
                  </a:lnTo>
                  <a:lnTo>
                    <a:pt x="1222" y="1492"/>
                  </a:lnTo>
                  <a:lnTo>
                    <a:pt x="1187" y="1512"/>
                  </a:lnTo>
                  <a:lnTo>
                    <a:pt x="1153" y="1529"/>
                  </a:lnTo>
                  <a:lnTo>
                    <a:pt x="1117" y="1545"/>
                  </a:lnTo>
                  <a:lnTo>
                    <a:pt x="1081" y="1559"/>
                  </a:lnTo>
                  <a:lnTo>
                    <a:pt x="1044" y="1572"/>
                  </a:lnTo>
                  <a:lnTo>
                    <a:pt x="1005" y="1583"/>
                  </a:lnTo>
                  <a:lnTo>
                    <a:pt x="966" y="1592"/>
                  </a:lnTo>
                  <a:lnTo>
                    <a:pt x="926" y="1599"/>
                  </a:lnTo>
                  <a:lnTo>
                    <a:pt x="886" y="1605"/>
                  </a:lnTo>
                  <a:lnTo>
                    <a:pt x="846" y="1608"/>
                  </a:lnTo>
                  <a:lnTo>
                    <a:pt x="804" y="1608"/>
                  </a:lnTo>
                  <a:lnTo>
                    <a:pt x="762" y="1608"/>
                  </a:lnTo>
                  <a:lnTo>
                    <a:pt x="722" y="1605"/>
                  </a:lnTo>
                  <a:lnTo>
                    <a:pt x="682" y="1599"/>
                  </a:lnTo>
                  <a:lnTo>
                    <a:pt x="642" y="1592"/>
                  </a:lnTo>
                  <a:lnTo>
                    <a:pt x="603" y="1583"/>
                  </a:lnTo>
                  <a:lnTo>
                    <a:pt x="566" y="1572"/>
                  </a:lnTo>
                  <a:lnTo>
                    <a:pt x="528" y="1559"/>
                  </a:lnTo>
                  <a:lnTo>
                    <a:pt x="491" y="1545"/>
                  </a:lnTo>
                  <a:lnTo>
                    <a:pt x="455" y="1529"/>
                  </a:lnTo>
                  <a:lnTo>
                    <a:pt x="421" y="1512"/>
                  </a:lnTo>
                  <a:lnTo>
                    <a:pt x="388" y="1492"/>
                  </a:lnTo>
                  <a:lnTo>
                    <a:pt x="355" y="1472"/>
                  </a:lnTo>
                  <a:lnTo>
                    <a:pt x="323" y="1449"/>
                  </a:lnTo>
                  <a:lnTo>
                    <a:pt x="293" y="1426"/>
                  </a:lnTo>
                  <a:lnTo>
                    <a:pt x="264" y="1400"/>
                  </a:lnTo>
                  <a:lnTo>
                    <a:pt x="235" y="1372"/>
                  </a:lnTo>
                  <a:lnTo>
                    <a:pt x="210" y="1345"/>
                  </a:lnTo>
                  <a:lnTo>
                    <a:pt x="184" y="1316"/>
                  </a:lnTo>
                  <a:lnTo>
                    <a:pt x="159" y="1285"/>
                  </a:lnTo>
                  <a:lnTo>
                    <a:pt x="138" y="1255"/>
                  </a:lnTo>
                  <a:lnTo>
                    <a:pt x="116" y="1222"/>
                  </a:lnTo>
                  <a:lnTo>
                    <a:pt x="98" y="1187"/>
                  </a:lnTo>
                  <a:lnTo>
                    <a:pt x="79" y="1153"/>
                  </a:lnTo>
                  <a:lnTo>
                    <a:pt x="63" y="1117"/>
                  </a:lnTo>
                  <a:lnTo>
                    <a:pt x="49" y="1081"/>
                  </a:lnTo>
                  <a:lnTo>
                    <a:pt x="36" y="1044"/>
                  </a:lnTo>
                  <a:lnTo>
                    <a:pt x="26" y="1005"/>
                  </a:lnTo>
                  <a:lnTo>
                    <a:pt x="17" y="966"/>
                  </a:lnTo>
                  <a:lnTo>
                    <a:pt x="10" y="927"/>
                  </a:lnTo>
                  <a:lnTo>
                    <a:pt x="4" y="887"/>
                  </a:lnTo>
                  <a:lnTo>
                    <a:pt x="1" y="846"/>
                  </a:lnTo>
                  <a:lnTo>
                    <a:pt x="0" y="804"/>
                  </a:lnTo>
                  <a:lnTo>
                    <a:pt x="1" y="764"/>
                  </a:lnTo>
                  <a:lnTo>
                    <a:pt x="4" y="722"/>
                  </a:lnTo>
                  <a:lnTo>
                    <a:pt x="10" y="682"/>
                  </a:lnTo>
                  <a:lnTo>
                    <a:pt x="17" y="643"/>
                  </a:lnTo>
                  <a:lnTo>
                    <a:pt x="26" y="603"/>
                  </a:lnTo>
                  <a:lnTo>
                    <a:pt x="36" y="566"/>
                  </a:lnTo>
                  <a:lnTo>
                    <a:pt x="49" y="528"/>
                  </a:lnTo>
                  <a:lnTo>
                    <a:pt x="63" y="491"/>
                  </a:lnTo>
                  <a:lnTo>
                    <a:pt x="79" y="457"/>
                  </a:lnTo>
                  <a:lnTo>
                    <a:pt x="98" y="422"/>
                  </a:lnTo>
                  <a:lnTo>
                    <a:pt x="116" y="388"/>
                  </a:lnTo>
                  <a:lnTo>
                    <a:pt x="138" y="355"/>
                  </a:lnTo>
                  <a:lnTo>
                    <a:pt x="159" y="323"/>
                  </a:lnTo>
                  <a:lnTo>
                    <a:pt x="184" y="293"/>
                  </a:lnTo>
                  <a:lnTo>
                    <a:pt x="210" y="264"/>
                  </a:lnTo>
                  <a:lnTo>
                    <a:pt x="235" y="236"/>
                  </a:lnTo>
                  <a:lnTo>
                    <a:pt x="264" y="210"/>
                  </a:lnTo>
                  <a:lnTo>
                    <a:pt x="293" y="184"/>
                  </a:lnTo>
                  <a:lnTo>
                    <a:pt x="323" y="161"/>
                  </a:lnTo>
                  <a:lnTo>
                    <a:pt x="355" y="138"/>
                  </a:lnTo>
                  <a:lnTo>
                    <a:pt x="388" y="118"/>
                  </a:lnTo>
                  <a:lnTo>
                    <a:pt x="421" y="98"/>
                  </a:lnTo>
                  <a:lnTo>
                    <a:pt x="455" y="81"/>
                  </a:lnTo>
                  <a:lnTo>
                    <a:pt x="491" y="63"/>
                  </a:lnTo>
                  <a:lnTo>
                    <a:pt x="528" y="49"/>
                  </a:lnTo>
                  <a:lnTo>
                    <a:pt x="566" y="37"/>
                  </a:lnTo>
                  <a:lnTo>
                    <a:pt x="603" y="26"/>
                  </a:lnTo>
                  <a:lnTo>
                    <a:pt x="642" y="17"/>
                  </a:lnTo>
                  <a:lnTo>
                    <a:pt x="682" y="10"/>
                  </a:lnTo>
                  <a:lnTo>
                    <a:pt x="722" y="4"/>
                  </a:lnTo>
                  <a:lnTo>
                    <a:pt x="762" y="2"/>
                  </a:lnTo>
                  <a:lnTo>
                    <a:pt x="804" y="0"/>
                  </a:lnTo>
                  <a:lnTo>
                    <a:pt x="846" y="2"/>
                  </a:lnTo>
                  <a:lnTo>
                    <a:pt x="886" y="4"/>
                  </a:lnTo>
                  <a:lnTo>
                    <a:pt x="926" y="10"/>
                  </a:lnTo>
                  <a:lnTo>
                    <a:pt x="966" y="17"/>
                  </a:lnTo>
                  <a:lnTo>
                    <a:pt x="1005" y="26"/>
                  </a:lnTo>
                  <a:lnTo>
                    <a:pt x="1044" y="37"/>
                  </a:lnTo>
                  <a:lnTo>
                    <a:pt x="1081" y="49"/>
                  </a:lnTo>
                  <a:lnTo>
                    <a:pt x="1117" y="63"/>
                  </a:lnTo>
                  <a:lnTo>
                    <a:pt x="1153" y="81"/>
                  </a:lnTo>
                  <a:lnTo>
                    <a:pt x="1187" y="98"/>
                  </a:lnTo>
                  <a:lnTo>
                    <a:pt x="1222" y="118"/>
                  </a:lnTo>
                  <a:lnTo>
                    <a:pt x="1254" y="138"/>
                  </a:lnTo>
                  <a:lnTo>
                    <a:pt x="1285" y="161"/>
                  </a:lnTo>
                  <a:lnTo>
                    <a:pt x="1315" y="184"/>
                  </a:lnTo>
                  <a:lnTo>
                    <a:pt x="1345" y="210"/>
                  </a:lnTo>
                  <a:lnTo>
                    <a:pt x="1373" y="236"/>
                  </a:lnTo>
                  <a:lnTo>
                    <a:pt x="1400" y="264"/>
                  </a:lnTo>
                  <a:lnTo>
                    <a:pt x="1424" y="293"/>
                  </a:lnTo>
                  <a:lnTo>
                    <a:pt x="1449" y="323"/>
                  </a:lnTo>
                  <a:lnTo>
                    <a:pt x="1470" y="355"/>
                  </a:lnTo>
                  <a:lnTo>
                    <a:pt x="1492" y="388"/>
                  </a:lnTo>
                  <a:lnTo>
                    <a:pt x="1512" y="422"/>
                  </a:lnTo>
                  <a:lnTo>
                    <a:pt x="1529" y="457"/>
                  </a:lnTo>
                  <a:lnTo>
                    <a:pt x="1545" y="491"/>
                  </a:lnTo>
                  <a:lnTo>
                    <a:pt x="1559" y="528"/>
                  </a:lnTo>
                  <a:lnTo>
                    <a:pt x="1572" y="566"/>
                  </a:lnTo>
                  <a:lnTo>
                    <a:pt x="1582" y="603"/>
                  </a:lnTo>
                  <a:lnTo>
                    <a:pt x="1592" y="643"/>
                  </a:lnTo>
                  <a:lnTo>
                    <a:pt x="1600" y="682"/>
                  </a:lnTo>
                  <a:lnTo>
                    <a:pt x="1604" y="722"/>
                  </a:lnTo>
                  <a:lnTo>
                    <a:pt x="1607" y="76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"/>
            <p:cNvSpPr/>
            <p:nvPr/>
          </p:nvSpPr>
          <p:spPr>
            <a:xfrm>
              <a:off x="422640" y="518148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39"/>
                  </a:moveTo>
                  <a:lnTo>
                    <a:pt x="1280" y="639"/>
                  </a:lnTo>
                  <a:lnTo>
                    <a:pt x="1278" y="672"/>
                  </a:lnTo>
                  <a:lnTo>
                    <a:pt x="1275" y="705"/>
                  </a:lnTo>
                  <a:lnTo>
                    <a:pt x="1271" y="737"/>
                  </a:lnTo>
                  <a:lnTo>
                    <a:pt x="1265" y="768"/>
                  </a:lnTo>
                  <a:lnTo>
                    <a:pt x="1258" y="800"/>
                  </a:lnTo>
                  <a:lnTo>
                    <a:pt x="1249" y="830"/>
                  </a:lnTo>
                  <a:lnTo>
                    <a:pt x="1239" y="860"/>
                  </a:lnTo>
                  <a:lnTo>
                    <a:pt x="1229" y="889"/>
                  </a:lnTo>
                  <a:lnTo>
                    <a:pt x="1216" y="917"/>
                  </a:lnTo>
                  <a:lnTo>
                    <a:pt x="1202" y="945"/>
                  </a:lnTo>
                  <a:lnTo>
                    <a:pt x="1186" y="971"/>
                  </a:lnTo>
                  <a:lnTo>
                    <a:pt x="1169" y="996"/>
                  </a:lnTo>
                  <a:lnTo>
                    <a:pt x="1152" y="1022"/>
                  </a:lnTo>
                  <a:lnTo>
                    <a:pt x="1133" y="1047"/>
                  </a:lnTo>
                  <a:lnTo>
                    <a:pt x="1113" y="1070"/>
                  </a:lnTo>
                  <a:lnTo>
                    <a:pt x="1091" y="1091"/>
                  </a:lnTo>
                  <a:lnTo>
                    <a:pt x="1070" y="1113"/>
                  </a:lnTo>
                  <a:lnTo>
                    <a:pt x="1045" y="1133"/>
                  </a:lnTo>
                  <a:lnTo>
                    <a:pt x="1022" y="1151"/>
                  </a:lnTo>
                  <a:lnTo>
                    <a:pt x="997" y="1170"/>
                  </a:lnTo>
                  <a:lnTo>
                    <a:pt x="971" y="1186"/>
                  </a:lnTo>
                  <a:lnTo>
                    <a:pt x="944" y="1202"/>
                  </a:lnTo>
                  <a:lnTo>
                    <a:pt x="916" y="1216"/>
                  </a:lnTo>
                  <a:lnTo>
                    <a:pt x="888" y="1229"/>
                  </a:lnTo>
                  <a:lnTo>
                    <a:pt x="859" y="1240"/>
                  </a:lnTo>
                  <a:lnTo>
                    <a:pt x="830" y="1251"/>
                  </a:lnTo>
                  <a:lnTo>
                    <a:pt x="798" y="1259"/>
                  </a:lnTo>
                  <a:lnTo>
                    <a:pt x="768" y="1266"/>
                  </a:lnTo>
                  <a:lnTo>
                    <a:pt x="737" y="1272"/>
                  </a:lnTo>
                  <a:lnTo>
                    <a:pt x="705" y="1275"/>
                  </a:lnTo>
                  <a:lnTo>
                    <a:pt x="672" y="1278"/>
                  </a:lnTo>
                  <a:lnTo>
                    <a:pt x="639" y="1279"/>
                  </a:lnTo>
                  <a:lnTo>
                    <a:pt x="606" y="1278"/>
                  </a:lnTo>
                  <a:lnTo>
                    <a:pt x="574" y="1275"/>
                  </a:lnTo>
                  <a:lnTo>
                    <a:pt x="541" y="1272"/>
                  </a:lnTo>
                  <a:lnTo>
                    <a:pt x="510" y="1266"/>
                  </a:lnTo>
                  <a:lnTo>
                    <a:pt x="480" y="1259"/>
                  </a:lnTo>
                  <a:lnTo>
                    <a:pt x="450" y="1251"/>
                  </a:lnTo>
                  <a:lnTo>
                    <a:pt x="419" y="1240"/>
                  </a:lnTo>
                  <a:lnTo>
                    <a:pt x="391" y="1229"/>
                  </a:lnTo>
                  <a:lnTo>
                    <a:pt x="362" y="1216"/>
                  </a:lnTo>
                  <a:lnTo>
                    <a:pt x="335" y="1202"/>
                  </a:lnTo>
                  <a:lnTo>
                    <a:pt x="307" y="1186"/>
                  </a:lnTo>
                  <a:lnTo>
                    <a:pt x="282" y="1170"/>
                  </a:lnTo>
                  <a:lnTo>
                    <a:pt x="257" y="1151"/>
                  </a:lnTo>
                  <a:lnTo>
                    <a:pt x="233" y="1133"/>
                  </a:lnTo>
                  <a:lnTo>
                    <a:pt x="210" y="1113"/>
                  </a:lnTo>
                  <a:lnTo>
                    <a:pt x="187" y="1091"/>
                  </a:lnTo>
                  <a:lnTo>
                    <a:pt x="165" y="1070"/>
                  </a:lnTo>
                  <a:lnTo>
                    <a:pt x="145" y="1047"/>
                  </a:lnTo>
                  <a:lnTo>
                    <a:pt x="126" y="1022"/>
                  </a:lnTo>
                  <a:lnTo>
                    <a:pt x="109" y="996"/>
                  </a:lnTo>
                  <a:lnTo>
                    <a:pt x="92" y="971"/>
                  </a:lnTo>
                  <a:lnTo>
                    <a:pt x="78" y="945"/>
                  </a:lnTo>
                  <a:lnTo>
                    <a:pt x="63" y="917"/>
                  </a:lnTo>
                  <a:lnTo>
                    <a:pt x="50" y="889"/>
                  </a:lnTo>
                  <a:lnTo>
                    <a:pt x="39" y="860"/>
                  </a:lnTo>
                  <a:lnTo>
                    <a:pt x="29" y="830"/>
                  </a:lnTo>
                  <a:lnTo>
                    <a:pt x="20" y="800"/>
                  </a:lnTo>
                  <a:lnTo>
                    <a:pt x="13" y="768"/>
                  </a:lnTo>
                  <a:lnTo>
                    <a:pt x="7" y="737"/>
                  </a:lnTo>
                  <a:lnTo>
                    <a:pt x="3" y="705"/>
                  </a:lnTo>
                  <a:lnTo>
                    <a:pt x="0" y="672"/>
                  </a:lnTo>
                  <a:lnTo>
                    <a:pt x="0" y="639"/>
                  </a:lnTo>
                  <a:lnTo>
                    <a:pt x="0" y="607"/>
                  </a:lnTo>
                  <a:lnTo>
                    <a:pt x="3" y="574"/>
                  </a:lnTo>
                  <a:lnTo>
                    <a:pt x="7" y="543"/>
                  </a:lnTo>
                  <a:lnTo>
                    <a:pt x="13" y="511"/>
                  </a:lnTo>
                  <a:lnTo>
                    <a:pt x="20" y="480"/>
                  </a:lnTo>
                  <a:lnTo>
                    <a:pt x="29" y="450"/>
                  </a:lnTo>
                  <a:lnTo>
                    <a:pt x="39" y="419"/>
                  </a:lnTo>
                  <a:lnTo>
                    <a:pt x="50" y="391"/>
                  </a:lnTo>
                  <a:lnTo>
                    <a:pt x="63" y="362"/>
                  </a:lnTo>
                  <a:lnTo>
                    <a:pt x="78" y="335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6" y="257"/>
                  </a:lnTo>
                  <a:lnTo>
                    <a:pt x="145" y="233"/>
                  </a:lnTo>
                  <a:lnTo>
                    <a:pt x="165" y="210"/>
                  </a:lnTo>
                  <a:lnTo>
                    <a:pt x="187" y="188"/>
                  </a:lnTo>
                  <a:lnTo>
                    <a:pt x="210" y="167"/>
                  </a:lnTo>
                  <a:lnTo>
                    <a:pt x="233" y="147"/>
                  </a:lnTo>
                  <a:lnTo>
                    <a:pt x="257" y="128"/>
                  </a:lnTo>
                  <a:lnTo>
                    <a:pt x="282" y="109"/>
                  </a:lnTo>
                  <a:lnTo>
                    <a:pt x="307" y="94"/>
                  </a:lnTo>
                  <a:lnTo>
                    <a:pt x="335" y="78"/>
                  </a:lnTo>
                  <a:lnTo>
                    <a:pt x="362" y="63"/>
                  </a:lnTo>
                  <a:lnTo>
                    <a:pt x="391" y="50"/>
                  </a:lnTo>
                  <a:lnTo>
                    <a:pt x="419" y="39"/>
                  </a:lnTo>
                  <a:lnTo>
                    <a:pt x="450" y="29"/>
                  </a:lnTo>
                  <a:lnTo>
                    <a:pt x="480" y="20"/>
                  </a:lnTo>
                  <a:lnTo>
                    <a:pt x="510" y="13"/>
                  </a:lnTo>
                  <a:lnTo>
                    <a:pt x="541" y="7"/>
                  </a:lnTo>
                  <a:lnTo>
                    <a:pt x="574" y="3"/>
                  </a:lnTo>
                  <a:lnTo>
                    <a:pt x="606" y="2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705" y="3"/>
                  </a:lnTo>
                  <a:lnTo>
                    <a:pt x="737" y="7"/>
                  </a:lnTo>
                  <a:lnTo>
                    <a:pt x="768" y="13"/>
                  </a:lnTo>
                  <a:lnTo>
                    <a:pt x="798" y="20"/>
                  </a:lnTo>
                  <a:lnTo>
                    <a:pt x="830" y="29"/>
                  </a:lnTo>
                  <a:lnTo>
                    <a:pt x="859" y="39"/>
                  </a:lnTo>
                  <a:lnTo>
                    <a:pt x="888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71" y="94"/>
                  </a:lnTo>
                  <a:lnTo>
                    <a:pt x="997" y="109"/>
                  </a:lnTo>
                  <a:lnTo>
                    <a:pt x="1022" y="128"/>
                  </a:lnTo>
                  <a:lnTo>
                    <a:pt x="1045" y="147"/>
                  </a:lnTo>
                  <a:lnTo>
                    <a:pt x="1070" y="167"/>
                  </a:lnTo>
                  <a:lnTo>
                    <a:pt x="1091" y="188"/>
                  </a:lnTo>
                  <a:lnTo>
                    <a:pt x="1113" y="210"/>
                  </a:lnTo>
                  <a:lnTo>
                    <a:pt x="1133" y="233"/>
                  </a:lnTo>
                  <a:lnTo>
                    <a:pt x="1152" y="257"/>
                  </a:lnTo>
                  <a:lnTo>
                    <a:pt x="1169" y="282"/>
                  </a:lnTo>
                  <a:lnTo>
                    <a:pt x="1186" y="307"/>
                  </a:lnTo>
                  <a:lnTo>
                    <a:pt x="1202" y="335"/>
                  </a:lnTo>
                  <a:lnTo>
                    <a:pt x="1216" y="362"/>
                  </a:lnTo>
                  <a:lnTo>
                    <a:pt x="1229" y="391"/>
                  </a:lnTo>
                  <a:lnTo>
                    <a:pt x="1239" y="419"/>
                  </a:lnTo>
                  <a:lnTo>
                    <a:pt x="1249" y="450"/>
                  </a:lnTo>
                  <a:lnTo>
                    <a:pt x="1258" y="480"/>
                  </a:lnTo>
                  <a:lnTo>
                    <a:pt x="1265" y="511"/>
                  </a:lnTo>
                  <a:lnTo>
                    <a:pt x="1271" y="543"/>
                  </a:lnTo>
                  <a:lnTo>
                    <a:pt x="1275" y="574"/>
                  </a:lnTo>
                  <a:lnTo>
                    <a:pt x="1278" y="607"/>
                  </a:lnTo>
                  <a:lnTo>
                    <a:pt x="1280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178" name="Freeform 9"/>
            <p:cNvSpPr/>
            <p:nvPr/>
          </p:nvSpPr>
          <p:spPr>
            <a:xfrm>
              <a:off x="3282840" y="504180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6"/>
                  </a:lnTo>
                  <a:lnTo>
                    <a:pt x="1598" y="926"/>
                  </a:lnTo>
                  <a:lnTo>
                    <a:pt x="1591" y="966"/>
                  </a:lnTo>
                  <a:lnTo>
                    <a:pt x="1582" y="1005"/>
                  </a:lnTo>
                  <a:lnTo>
                    <a:pt x="1571" y="1042"/>
                  </a:lnTo>
                  <a:lnTo>
                    <a:pt x="1559" y="1080"/>
                  </a:lnTo>
                  <a:lnTo>
                    <a:pt x="1545" y="1117"/>
                  </a:lnTo>
                  <a:lnTo>
                    <a:pt x="1528" y="1151"/>
                  </a:lnTo>
                  <a:lnTo>
                    <a:pt x="1510" y="1187"/>
                  </a:lnTo>
                  <a:lnTo>
                    <a:pt x="1492" y="1220"/>
                  </a:lnTo>
                  <a:lnTo>
                    <a:pt x="1470" y="1253"/>
                  </a:lnTo>
                  <a:lnTo>
                    <a:pt x="1447" y="1285"/>
                  </a:lnTo>
                  <a:lnTo>
                    <a:pt x="1424" y="1315"/>
                  </a:lnTo>
                  <a:lnTo>
                    <a:pt x="1398" y="1344"/>
                  </a:lnTo>
                  <a:lnTo>
                    <a:pt x="1373" y="1372"/>
                  </a:lnTo>
                  <a:lnTo>
                    <a:pt x="1344" y="1398"/>
                  </a:lnTo>
                  <a:lnTo>
                    <a:pt x="1315" y="1424"/>
                  </a:lnTo>
                  <a:lnTo>
                    <a:pt x="1285" y="1447"/>
                  </a:lnTo>
                  <a:lnTo>
                    <a:pt x="1253" y="1470"/>
                  </a:lnTo>
                  <a:lnTo>
                    <a:pt x="1220" y="1492"/>
                  </a:lnTo>
                  <a:lnTo>
                    <a:pt x="1187" y="1510"/>
                  </a:lnTo>
                  <a:lnTo>
                    <a:pt x="1151" y="1527"/>
                  </a:lnTo>
                  <a:lnTo>
                    <a:pt x="1117" y="1545"/>
                  </a:lnTo>
                  <a:lnTo>
                    <a:pt x="1080" y="1559"/>
                  </a:lnTo>
                  <a:lnTo>
                    <a:pt x="1042" y="1570"/>
                  </a:lnTo>
                  <a:lnTo>
                    <a:pt x="1005" y="1582"/>
                  </a:lnTo>
                  <a:lnTo>
                    <a:pt x="966" y="1591"/>
                  </a:lnTo>
                  <a:lnTo>
                    <a:pt x="926" y="1598"/>
                  </a:lnTo>
                  <a:lnTo>
                    <a:pt x="886" y="1604"/>
                  </a:lnTo>
                  <a:lnTo>
                    <a:pt x="844" y="1606"/>
                  </a:lnTo>
                  <a:lnTo>
                    <a:pt x="804" y="1608"/>
                  </a:lnTo>
                  <a:lnTo>
                    <a:pt x="762" y="1606"/>
                  </a:lnTo>
                  <a:lnTo>
                    <a:pt x="721" y="1604"/>
                  </a:lnTo>
                  <a:lnTo>
                    <a:pt x="680" y="1598"/>
                  </a:lnTo>
                  <a:lnTo>
                    <a:pt x="642" y="1591"/>
                  </a:lnTo>
                  <a:lnTo>
                    <a:pt x="603" y="1582"/>
                  </a:lnTo>
                  <a:lnTo>
                    <a:pt x="564" y="1570"/>
                  </a:lnTo>
                  <a:lnTo>
                    <a:pt x="527" y="1559"/>
                  </a:lnTo>
                  <a:lnTo>
                    <a:pt x="491" y="1545"/>
                  </a:lnTo>
                  <a:lnTo>
                    <a:pt x="455" y="1527"/>
                  </a:lnTo>
                  <a:lnTo>
                    <a:pt x="421" y="1510"/>
                  </a:lnTo>
                  <a:lnTo>
                    <a:pt x="386" y="1492"/>
                  </a:lnTo>
                  <a:lnTo>
                    <a:pt x="354" y="1470"/>
                  </a:lnTo>
                  <a:lnTo>
                    <a:pt x="323" y="1447"/>
                  </a:lnTo>
                  <a:lnTo>
                    <a:pt x="291" y="1424"/>
                  </a:lnTo>
                  <a:lnTo>
                    <a:pt x="263" y="1398"/>
                  </a:lnTo>
                  <a:lnTo>
                    <a:pt x="235" y="1372"/>
                  </a:lnTo>
                  <a:lnTo>
                    <a:pt x="208" y="1344"/>
                  </a:lnTo>
                  <a:lnTo>
                    <a:pt x="184" y="1315"/>
                  </a:lnTo>
                  <a:lnTo>
                    <a:pt x="159" y="1285"/>
                  </a:lnTo>
                  <a:lnTo>
                    <a:pt x="136" y="1253"/>
                  </a:lnTo>
                  <a:lnTo>
                    <a:pt x="116" y="1220"/>
                  </a:lnTo>
                  <a:lnTo>
                    <a:pt x="96" y="1187"/>
                  </a:lnTo>
                  <a:lnTo>
                    <a:pt x="79" y="1151"/>
                  </a:lnTo>
                  <a:lnTo>
                    <a:pt x="63" y="1117"/>
                  </a:lnTo>
                  <a:lnTo>
                    <a:pt x="49" y="1080"/>
                  </a:lnTo>
                  <a:lnTo>
                    <a:pt x="36" y="1042"/>
                  </a:lnTo>
                  <a:lnTo>
                    <a:pt x="24" y="1005"/>
                  </a:lnTo>
                  <a:lnTo>
                    <a:pt x="16" y="966"/>
                  </a:lnTo>
                  <a:lnTo>
                    <a:pt x="8" y="926"/>
                  </a:lnTo>
                  <a:lnTo>
                    <a:pt x="4" y="886"/>
                  </a:lnTo>
                  <a:lnTo>
                    <a:pt x="0" y="846"/>
                  </a:lnTo>
                  <a:lnTo>
                    <a:pt x="0" y="804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8" y="681"/>
                  </a:lnTo>
                  <a:lnTo>
                    <a:pt x="16" y="642"/>
                  </a:lnTo>
                  <a:lnTo>
                    <a:pt x="24" y="603"/>
                  </a:lnTo>
                  <a:lnTo>
                    <a:pt x="36" y="564"/>
                  </a:lnTo>
                  <a:lnTo>
                    <a:pt x="49" y="527"/>
                  </a:lnTo>
                  <a:lnTo>
                    <a:pt x="63" y="491"/>
                  </a:lnTo>
                  <a:lnTo>
                    <a:pt x="79" y="455"/>
                  </a:lnTo>
                  <a:lnTo>
                    <a:pt x="96" y="421"/>
                  </a:lnTo>
                  <a:lnTo>
                    <a:pt x="116" y="386"/>
                  </a:lnTo>
                  <a:lnTo>
                    <a:pt x="136" y="355"/>
                  </a:lnTo>
                  <a:lnTo>
                    <a:pt x="159" y="323"/>
                  </a:lnTo>
                  <a:lnTo>
                    <a:pt x="184" y="292"/>
                  </a:lnTo>
                  <a:lnTo>
                    <a:pt x="208" y="263"/>
                  </a:lnTo>
                  <a:lnTo>
                    <a:pt x="235" y="236"/>
                  </a:lnTo>
                  <a:lnTo>
                    <a:pt x="263" y="208"/>
                  </a:lnTo>
                  <a:lnTo>
                    <a:pt x="291" y="184"/>
                  </a:lnTo>
                  <a:lnTo>
                    <a:pt x="323" y="159"/>
                  </a:lnTo>
                  <a:lnTo>
                    <a:pt x="354" y="136"/>
                  </a:lnTo>
                  <a:lnTo>
                    <a:pt x="386" y="116"/>
                  </a:lnTo>
                  <a:lnTo>
                    <a:pt x="421" y="96"/>
                  </a:lnTo>
                  <a:lnTo>
                    <a:pt x="455" y="79"/>
                  </a:lnTo>
                  <a:lnTo>
                    <a:pt x="491" y="63"/>
                  </a:lnTo>
                  <a:lnTo>
                    <a:pt x="527" y="49"/>
                  </a:lnTo>
                  <a:lnTo>
                    <a:pt x="564" y="36"/>
                  </a:lnTo>
                  <a:lnTo>
                    <a:pt x="603" y="25"/>
                  </a:lnTo>
                  <a:lnTo>
                    <a:pt x="642" y="16"/>
                  </a:lnTo>
                  <a:lnTo>
                    <a:pt x="680" y="9"/>
                  </a:lnTo>
                  <a:lnTo>
                    <a:pt x="721" y="4"/>
                  </a:lnTo>
                  <a:lnTo>
                    <a:pt x="762" y="0"/>
                  </a:lnTo>
                  <a:lnTo>
                    <a:pt x="804" y="0"/>
                  </a:lnTo>
                  <a:lnTo>
                    <a:pt x="844" y="0"/>
                  </a:lnTo>
                  <a:lnTo>
                    <a:pt x="886" y="4"/>
                  </a:lnTo>
                  <a:lnTo>
                    <a:pt x="926" y="9"/>
                  </a:lnTo>
                  <a:lnTo>
                    <a:pt x="966" y="16"/>
                  </a:lnTo>
                  <a:lnTo>
                    <a:pt x="1005" y="25"/>
                  </a:lnTo>
                  <a:lnTo>
                    <a:pt x="1042" y="36"/>
                  </a:lnTo>
                  <a:lnTo>
                    <a:pt x="1080" y="49"/>
                  </a:lnTo>
                  <a:lnTo>
                    <a:pt x="1117" y="63"/>
                  </a:lnTo>
                  <a:lnTo>
                    <a:pt x="1151" y="79"/>
                  </a:lnTo>
                  <a:lnTo>
                    <a:pt x="1187" y="96"/>
                  </a:lnTo>
                  <a:lnTo>
                    <a:pt x="1220" y="116"/>
                  </a:lnTo>
                  <a:lnTo>
                    <a:pt x="1253" y="136"/>
                  </a:lnTo>
                  <a:lnTo>
                    <a:pt x="1285" y="159"/>
                  </a:lnTo>
                  <a:lnTo>
                    <a:pt x="1315" y="184"/>
                  </a:lnTo>
                  <a:lnTo>
                    <a:pt x="1344" y="208"/>
                  </a:lnTo>
                  <a:lnTo>
                    <a:pt x="1373" y="236"/>
                  </a:lnTo>
                  <a:lnTo>
                    <a:pt x="1398" y="263"/>
                  </a:lnTo>
                  <a:lnTo>
                    <a:pt x="1424" y="292"/>
                  </a:lnTo>
                  <a:lnTo>
                    <a:pt x="1447" y="323"/>
                  </a:lnTo>
                  <a:lnTo>
                    <a:pt x="1470" y="355"/>
                  </a:lnTo>
                  <a:lnTo>
                    <a:pt x="1492" y="386"/>
                  </a:lnTo>
                  <a:lnTo>
                    <a:pt x="1510" y="421"/>
                  </a:lnTo>
                  <a:lnTo>
                    <a:pt x="1528" y="455"/>
                  </a:lnTo>
                  <a:lnTo>
                    <a:pt x="1545" y="491"/>
                  </a:lnTo>
                  <a:lnTo>
                    <a:pt x="1559" y="527"/>
                  </a:lnTo>
                  <a:lnTo>
                    <a:pt x="1571" y="564"/>
                  </a:lnTo>
                  <a:lnTo>
                    <a:pt x="1582" y="603"/>
                  </a:lnTo>
                  <a:lnTo>
                    <a:pt x="1591" y="642"/>
                  </a:lnTo>
                  <a:lnTo>
                    <a:pt x="1598" y="681"/>
                  </a:lnTo>
                  <a:lnTo>
                    <a:pt x="1604" y="721"/>
                  </a:lnTo>
                  <a:lnTo>
                    <a:pt x="1607" y="762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"/>
            <p:cNvSpPr/>
            <p:nvPr/>
          </p:nvSpPr>
          <p:spPr>
            <a:xfrm>
              <a:off x="3413520" y="517176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40"/>
                  </a:moveTo>
                  <a:lnTo>
                    <a:pt x="1280" y="640"/>
                  </a:lnTo>
                  <a:lnTo>
                    <a:pt x="1278" y="673"/>
                  </a:lnTo>
                  <a:lnTo>
                    <a:pt x="1277" y="705"/>
                  </a:lnTo>
                  <a:lnTo>
                    <a:pt x="1273" y="738"/>
                  </a:lnTo>
                  <a:lnTo>
                    <a:pt x="1267" y="768"/>
                  </a:lnTo>
                  <a:lnTo>
                    <a:pt x="1260" y="799"/>
                  </a:lnTo>
                  <a:lnTo>
                    <a:pt x="1251" y="829"/>
                  </a:lnTo>
                  <a:lnTo>
                    <a:pt x="1241" y="860"/>
                  </a:lnTo>
                  <a:lnTo>
                    <a:pt x="1230" y="888"/>
                  </a:lnTo>
                  <a:lnTo>
                    <a:pt x="1217" y="917"/>
                  </a:lnTo>
                  <a:lnTo>
                    <a:pt x="1202" y="944"/>
                  </a:lnTo>
                  <a:lnTo>
                    <a:pt x="1188" y="972"/>
                  </a:lnTo>
                  <a:lnTo>
                    <a:pt x="1171" y="997"/>
                  </a:lnTo>
                  <a:lnTo>
                    <a:pt x="1154" y="1022"/>
                  </a:lnTo>
                  <a:lnTo>
                    <a:pt x="1133" y="1046"/>
                  </a:lnTo>
                  <a:lnTo>
                    <a:pt x="1113" y="1069"/>
                  </a:lnTo>
                  <a:lnTo>
                    <a:pt x="1093" y="1092"/>
                  </a:lnTo>
                  <a:lnTo>
                    <a:pt x="1070" y="1112"/>
                  </a:lnTo>
                  <a:lnTo>
                    <a:pt x="1047" y="1132"/>
                  </a:lnTo>
                  <a:lnTo>
                    <a:pt x="1023" y="1152"/>
                  </a:lnTo>
                  <a:lnTo>
                    <a:pt x="998" y="1170"/>
                  </a:lnTo>
                  <a:lnTo>
                    <a:pt x="973" y="1187"/>
                  </a:lnTo>
                  <a:lnTo>
                    <a:pt x="945" y="1201"/>
                  </a:lnTo>
                  <a:lnTo>
                    <a:pt x="918" y="1216"/>
                  </a:lnTo>
                  <a:lnTo>
                    <a:pt x="889" y="1229"/>
                  </a:lnTo>
                  <a:lnTo>
                    <a:pt x="861" y="1240"/>
                  </a:lnTo>
                  <a:lnTo>
                    <a:pt x="830" y="1250"/>
                  </a:lnTo>
                  <a:lnTo>
                    <a:pt x="800" y="1259"/>
                  </a:lnTo>
                  <a:lnTo>
                    <a:pt x="769" y="1266"/>
                  </a:lnTo>
                  <a:lnTo>
                    <a:pt x="737" y="1272"/>
                  </a:lnTo>
                  <a:lnTo>
                    <a:pt x="706" y="1276"/>
                  </a:lnTo>
                  <a:lnTo>
                    <a:pt x="674" y="1277"/>
                  </a:lnTo>
                  <a:lnTo>
                    <a:pt x="641" y="1279"/>
                  </a:lnTo>
                  <a:lnTo>
                    <a:pt x="608" y="1277"/>
                  </a:lnTo>
                  <a:lnTo>
                    <a:pt x="575" y="1276"/>
                  </a:lnTo>
                  <a:lnTo>
                    <a:pt x="543" y="1272"/>
                  </a:lnTo>
                  <a:lnTo>
                    <a:pt x="512" y="1266"/>
                  </a:lnTo>
                  <a:lnTo>
                    <a:pt x="480" y="1259"/>
                  </a:lnTo>
                  <a:lnTo>
                    <a:pt x="450" y="1250"/>
                  </a:lnTo>
                  <a:lnTo>
                    <a:pt x="421" y="1240"/>
                  </a:lnTo>
                  <a:lnTo>
                    <a:pt x="391" y="1229"/>
                  </a:lnTo>
                  <a:lnTo>
                    <a:pt x="364" y="1216"/>
                  </a:lnTo>
                  <a:lnTo>
                    <a:pt x="335" y="1201"/>
                  </a:lnTo>
                  <a:lnTo>
                    <a:pt x="309" y="1187"/>
                  </a:lnTo>
                  <a:lnTo>
                    <a:pt x="283" y="1170"/>
                  </a:lnTo>
                  <a:lnTo>
                    <a:pt x="258" y="1152"/>
                  </a:lnTo>
                  <a:lnTo>
                    <a:pt x="233" y="1132"/>
                  </a:lnTo>
                  <a:lnTo>
                    <a:pt x="210" y="1112"/>
                  </a:lnTo>
                  <a:lnTo>
                    <a:pt x="189" y="1092"/>
                  </a:lnTo>
                  <a:lnTo>
                    <a:pt x="167" y="1069"/>
                  </a:lnTo>
                  <a:lnTo>
                    <a:pt x="147" y="1046"/>
                  </a:lnTo>
                  <a:lnTo>
                    <a:pt x="128" y="1022"/>
                  </a:lnTo>
                  <a:lnTo>
                    <a:pt x="110" y="997"/>
                  </a:lnTo>
                  <a:lnTo>
                    <a:pt x="94" y="972"/>
                  </a:lnTo>
                  <a:lnTo>
                    <a:pt x="78" y="944"/>
                  </a:lnTo>
                  <a:lnTo>
                    <a:pt x="64" y="917"/>
                  </a:lnTo>
                  <a:lnTo>
                    <a:pt x="51" y="888"/>
                  </a:lnTo>
                  <a:lnTo>
                    <a:pt x="39" y="860"/>
                  </a:lnTo>
                  <a:lnTo>
                    <a:pt x="29" y="829"/>
                  </a:lnTo>
                  <a:lnTo>
                    <a:pt x="21" y="799"/>
                  </a:lnTo>
                  <a:lnTo>
                    <a:pt x="13" y="768"/>
                  </a:lnTo>
                  <a:lnTo>
                    <a:pt x="8" y="738"/>
                  </a:lnTo>
                  <a:lnTo>
                    <a:pt x="5" y="705"/>
                  </a:lnTo>
                  <a:lnTo>
                    <a:pt x="2" y="673"/>
                  </a:lnTo>
                  <a:lnTo>
                    <a:pt x="0" y="640"/>
                  </a:lnTo>
                  <a:lnTo>
                    <a:pt x="2" y="607"/>
                  </a:lnTo>
                  <a:lnTo>
                    <a:pt x="5" y="574"/>
                  </a:lnTo>
                  <a:lnTo>
                    <a:pt x="8" y="542"/>
                  </a:lnTo>
                  <a:lnTo>
                    <a:pt x="13" y="511"/>
                  </a:lnTo>
                  <a:lnTo>
                    <a:pt x="21" y="479"/>
                  </a:lnTo>
                  <a:lnTo>
                    <a:pt x="29" y="449"/>
                  </a:lnTo>
                  <a:lnTo>
                    <a:pt x="39" y="420"/>
                  </a:lnTo>
                  <a:lnTo>
                    <a:pt x="51" y="390"/>
                  </a:lnTo>
                  <a:lnTo>
                    <a:pt x="64" y="363"/>
                  </a:lnTo>
                  <a:lnTo>
                    <a:pt x="78" y="334"/>
                  </a:lnTo>
                  <a:lnTo>
                    <a:pt x="94" y="308"/>
                  </a:lnTo>
                  <a:lnTo>
                    <a:pt x="110" y="283"/>
                  </a:lnTo>
                  <a:lnTo>
                    <a:pt x="128" y="257"/>
                  </a:lnTo>
                  <a:lnTo>
                    <a:pt x="147" y="232"/>
                  </a:lnTo>
                  <a:lnTo>
                    <a:pt x="167" y="209"/>
                  </a:lnTo>
                  <a:lnTo>
                    <a:pt x="189" y="188"/>
                  </a:lnTo>
                  <a:lnTo>
                    <a:pt x="210" y="166"/>
                  </a:lnTo>
                  <a:lnTo>
                    <a:pt x="233" y="146"/>
                  </a:lnTo>
                  <a:lnTo>
                    <a:pt x="258" y="128"/>
                  </a:lnTo>
                  <a:lnTo>
                    <a:pt x="283" y="109"/>
                  </a:lnTo>
                  <a:lnTo>
                    <a:pt x="309" y="93"/>
                  </a:lnTo>
                  <a:lnTo>
                    <a:pt x="335" y="77"/>
                  </a:lnTo>
                  <a:lnTo>
                    <a:pt x="364" y="63"/>
                  </a:lnTo>
                  <a:lnTo>
                    <a:pt x="391" y="50"/>
                  </a:lnTo>
                  <a:lnTo>
                    <a:pt x="421" y="39"/>
                  </a:lnTo>
                  <a:lnTo>
                    <a:pt x="450" y="28"/>
                  </a:lnTo>
                  <a:lnTo>
                    <a:pt x="480" y="20"/>
                  </a:lnTo>
                  <a:lnTo>
                    <a:pt x="512" y="13"/>
                  </a:lnTo>
                  <a:lnTo>
                    <a:pt x="543" y="7"/>
                  </a:lnTo>
                  <a:lnTo>
                    <a:pt x="575" y="4"/>
                  </a:lnTo>
                  <a:lnTo>
                    <a:pt x="608" y="1"/>
                  </a:lnTo>
                  <a:lnTo>
                    <a:pt x="641" y="0"/>
                  </a:lnTo>
                  <a:lnTo>
                    <a:pt x="674" y="1"/>
                  </a:lnTo>
                  <a:lnTo>
                    <a:pt x="706" y="4"/>
                  </a:lnTo>
                  <a:lnTo>
                    <a:pt x="737" y="7"/>
                  </a:lnTo>
                  <a:lnTo>
                    <a:pt x="769" y="13"/>
                  </a:lnTo>
                  <a:lnTo>
                    <a:pt x="800" y="20"/>
                  </a:lnTo>
                  <a:lnTo>
                    <a:pt x="830" y="28"/>
                  </a:lnTo>
                  <a:lnTo>
                    <a:pt x="861" y="39"/>
                  </a:lnTo>
                  <a:lnTo>
                    <a:pt x="889" y="50"/>
                  </a:lnTo>
                  <a:lnTo>
                    <a:pt x="918" y="63"/>
                  </a:lnTo>
                  <a:lnTo>
                    <a:pt x="945" y="77"/>
                  </a:lnTo>
                  <a:lnTo>
                    <a:pt x="973" y="93"/>
                  </a:lnTo>
                  <a:lnTo>
                    <a:pt x="998" y="109"/>
                  </a:lnTo>
                  <a:lnTo>
                    <a:pt x="1023" y="128"/>
                  </a:lnTo>
                  <a:lnTo>
                    <a:pt x="1047" y="146"/>
                  </a:lnTo>
                  <a:lnTo>
                    <a:pt x="1070" y="166"/>
                  </a:lnTo>
                  <a:lnTo>
                    <a:pt x="1093" y="188"/>
                  </a:lnTo>
                  <a:lnTo>
                    <a:pt x="1113" y="209"/>
                  </a:lnTo>
                  <a:lnTo>
                    <a:pt x="1133" y="232"/>
                  </a:lnTo>
                  <a:lnTo>
                    <a:pt x="1154" y="257"/>
                  </a:lnTo>
                  <a:lnTo>
                    <a:pt x="1171" y="283"/>
                  </a:lnTo>
                  <a:lnTo>
                    <a:pt x="1188" y="308"/>
                  </a:lnTo>
                  <a:lnTo>
                    <a:pt x="1202" y="334"/>
                  </a:lnTo>
                  <a:lnTo>
                    <a:pt x="1217" y="363"/>
                  </a:lnTo>
                  <a:lnTo>
                    <a:pt x="1230" y="390"/>
                  </a:lnTo>
                  <a:lnTo>
                    <a:pt x="1241" y="420"/>
                  </a:lnTo>
                  <a:lnTo>
                    <a:pt x="1251" y="449"/>
                  </a:lnTo>
                  <a:lnTo>
                    <a:pt x="1260" y="479"/>
                  </a:lnTo>
                  <a:lnTo>
                    <a:pt x="1267" y="511"/>
                  </a:lnTo>
                  <a:lnTo>
                    <a:pt x="1273" y="542"/>
                  </a:lnTo>
                  <a:lnTo>
                    <a:pt x="1277" y="574"/>
                  </a:lnTo>
                  <a:lnTo>
                    <a:pt x="1278" y="607"/>
                  </a:lnTo>
                  <a:lnTo>
                    <a:pt x="1280" y="64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182" name="Freeform 12"/>
            <p:cNvSpPr/>
            <p:nvPr/>
          </p:nvSpPr>
          <p:spPr>
            <a:xfrm>
              <a:off x="7053120" y="4948200"/>
              <a:ext cx="222120" cy="220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78" h="279">
                  <a:moveTo>
                    <a:pt x="278" y="140"/>
                  </a:moveTo>
                  <a:lnTo>
                    <a:pt x="278" y="140"/>
                  </a:lnTo>
                  <a:lnTo>
                    <a:pt x="277" y="154"/>
                  </a:lnTo>
                  <a:lnTo>
                    <a:pt x="275" y="168"/>
                  </a:lnTo>
                  <a:lnTo>
                    <a:pt x="272" y="181"/>
                  </a:lnTo>
                  <a:lnTo>
                    <a:pt x="267" y="194"/>
                  </a:lnTo>
                  <a:lnTo>
                    <a:pt x="261" y="206"/>
                  </a:lnTo>
                  <a:lnTo>
                    <a:pt x="254" y="217"/>
                  </a:lnTo>
                  <a:lnTo>
                    <a:pt x="247" y="229"/>
                  </a:lnTo>
                  <a:lnTo>
                    <a:pt x="238" y="239"/>
                  </a:lnTo>
                  <a:lnTo>
                    <a:pt x="228" y="247"/>
                  </a:lnTo>
                  <a:lnTo>
                    <a:pt x="216" y="254"/>
                  </a:lnTo>
                  <a:lnTo>
                    <a:pt x="205" y="262"/>
                  </a:lnTo>
                  <a:lnTo>
                    <a:pt x="193" y="267"/>
                  </a:lnTo>
                  <a:lnTo>
                    <a:pt x="180" y="273"/>
                  </a:lnTo>
                  <a:lnTo>
                    <a:pt x="168" y="276"/>
                  </a:lnTo>
                  <a:lnTo>
                    <a:pt x="153" y="277"/>
                  </a:lnTo>
                  <a:lnTo>
                    <a:pt x="139" y="279"/>
                  </a:lnTo>
                  <a:lnTo>
                    <a:pt x="124" y="277"/>
                  </a:lnTo>
                  <a:lnTo>
                    <a:pt x="112" y="276"/>
                  </a:lnTo>
                  <a:lnTo>
                    <a:pt x="97" y="273"/>
                  </a:lnTo>
                  <a:lnTo>
                    <a:pt x="84" y="267"/>
                  </a:lnTo>
                  <a:lnTo>
                    <a:pt x="73" y="262"/>
                  </a:lnTo>
                  <a:lnTo>
                    <a:pt x="61" y="254"/>
                  </a:lnTo>
                  <a:lnTo>
                    <a:pt x="51" y="247"/>
                  </a:lnTo>
                  <a:lnTo>
                    <a:pt x="41" y="239"/>
                  </a:lnTo>
                  <a:lnTo>
                    <a:pt x="31" y="229"/>
                  </a:lnTo>
                  <a:lnTo>
                    <a:pt x="24" y="217"/>
                  </a:lnTo>
                  <a:lnTo>
                    <a:pt x="17" y="206"/>
                  </a:lnTo>
                  <a:lnTo>
                    <a:pt x="11" y="194"/>
                  </a:lnTo>
                  <a:lnTo>
                    <a:pt x="7" y="181"/>
                  </a:lnTo>
                  <a:lnTo>
                    <a:pt x="2" y="168"/>
                  </a:lnTo>
                  <a:lnTo>
                    <a:pt x="1" y="154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2" y="112"/>
                  </a:lnTo>
                  <a:lnTo>
                    <a:pt x="7" y="98"/>
                  </a:lnTo>
                  <a:lnTo>
                    <a:pt x="11" y="85"/>
                  </a:lnTo>
                  <a:lnTo>
                    <a:pt x="17" y="74"/>
                  </a:lnTo>
                  <a:lnTo>
                    <a:pt x="24" y="62"/>
                  </a:lnTo>
                  <a:lnTo>
                    <a:pt x="31" y="52"/>
                  </a:lnTo>
                  <a:lnTo>
                    <a:pt x="41" y="42"/>
                  </a:lnTo>
                  <a:lnTo>
                    <a:pt x="51" y="32"/>
                  </a:lnTo>
                  <a:lnTo>
                    <a:pt x="61" y="25"/>
                  </a:lnTo>
                  <a:lnTo>
                    <a:pt x="73" y="18"/>
                  </a:lnTo>
                  <a:lnTo>
                    <a:pt x="84" y="12"/>
                  </a:lnTo>
                  <a:lnTo>
                    <a:pt x="97" y="7"/>
                  </a:lnTo>
                  <a:lnTo>
                    <a:pt x="112" y="3"/>
                  </a:lnTo>
                  <a:lnTo>
                    <a:pt x="124" y="2"/>
                  </a:lnTo>
                  <a:lnTo>
                    <a:pt x="139" y="0"/>
                  </a:lnTo>
                  <a:lnTo>
                    <a:pt x="153" y="2"/>
                  </a:lnTo>
                  <a:lnTo>
                    <a:pt x="168" y="3"/>
                  </a:lnTo>
                  <a:lnTo>
                    <a:pt x="180" y="7"/>
                  </a:lnTo>
                  <a:lnTo>
                    <a:pt x="193" y="12"/>
                  </a:lnTo>
                  <a:lnTo>
                    <a:pt x="205" y="18"/>
                  </a:lnTo>
                  <a:lnTo>
                    <a:pt x="216" y="25"/>
                  </a:lnTo>
                  <a:lnTo>
                    <a:pt x="228" y="32"/>
                  </a:lnTo>
                  <a:lnTo>
                    <a:pt x="238" y="42"/>
                  </a:lnTo>
                  <a:lnTo>
                    <a:pt x="247" y="52"/>
                  </a:lnTo>
                  <a:lnTo>
                    <a:pt x="254" y="62"/>
                  </a:lnTo>
                  <a:lnTo>
                    <a:pt x="261" y="74"/>
                  </a:lnTo>
                  <a:lnTo>
                    <a:pt x="267" y="85"/>
                  </a:lnTo>
                  <a:lnTo>
                    <a:pt x="272" y="98"/>
                  </a:lnTo>
                  <a:lnTo>
                    <a:pt x="275" y="112"/>
                  </a:lnTo>
                  <a:lnTo>
                    <a:pt x="277" y="125"/>
                  </a:lnTo>
                  <a:lnTo>
                    <a:pt x="278" y="14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6"/>
            <p:cNvSpPr/>
            <p:nvPr/>
          </p:nvSpPr>
          <p:spPr>
            <a:xfrm>
              <a:off x="6761160" y="4898880"/>
              <a:ext cx="299880" cy="3492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78" h="440">
                  <a:moveTo>
                    <a:pt x="0" y="50"/>
                  </a:moveTo>
                  <a:lnTo>
                    <a:pt x="62" y="0"/>
                  </a:lnTo>
                  <a:lnTo>
                    <a:pt x="378" y="391"/>
                  </a:lnTo>
                  <a:lnTo>
                    <a:pt x="316" y="44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7"/>
            <p:cNvSpPr/>
            <p:nvPr/>
          </p:nvSpPr>
          <p:spPr>
            <a:xfrm>
              <a:off x="7275600" y="4896000"/>
              <a:ext cx="290520" cy="35532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64" h="450">
                  <a:moveTo>
                    <a:pt x="301" y="0"/>
                  </a:moveTo>
                  <a:lnTo>
                    <a:pt x="364" y="48"/>
                  </a:lnTo>
                  <a:lnTo>
                    <a:pt x="63" y="450"/>
                  </a:lnTo>
                  <a:lnTo>
                    <a:pt x="0" y="40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189" name="Freeform 5"/>
            <p:cNvSpPr/>
            <p:nvPr/>
          </p:nvSpPr>
          <p:spPr>
            <a:xfrm>
              <a:off x="1133280" y="2298240"/>
              <a:ext cx="2466720" cy="2406600"/>
            </a:xfrm>
            <a:custGeom>
              <a:avLst/>
              <a:gdLst>
                <a:gd name="textAreaLeft" fmla="*/ 0 w 2466720"/>
                <a:gd name="textAreaRight" fmla="*/ 2467080 w 2466720"/>
                <a:gd name="textAreaTop" fmla="*/ 0 h 2406600"/>
                <a:gd name="textAreaBottom" fmla="*/ 2406960 h 2406600"/>
              </a:gdLst>
              <a:ahLst/>
              <a:rect l="textAreaLeft" t="textAreaTop" r="textAreaRight" b="textAreaBottom"/>
              <a:pathLst>
                <a:path w="3108" h="3031">
                  <a:moveTo>
                    <a:pt x="3108" y="1515"/>
                  </a:moveTo>
                  <a:lnTo>
                    <a:pt x="3108" y="1515"/>
                  </a:lnTo>
                  <a:lnTo>
                    <a:pt x="3108" y="1554"/>
                  </a:lnTo>
                  <a:lnTo>
                    <a:pt x="3107" y="1593"/>
                  </a:lnTo>
                  <a:lnTo>
                    <a:pt x="3104" y="1632"/>
                  </a:lnTo>
                  <a:lnTo>
                    <a:pt x="3100" y="1670"/>
                  </a:lnTo>
                  <a:lnTo>
                    <a:pt x="3095" y="1708"/>
                  </a:lnTo>
                  <a:lnTo>
                    <a:pt x="3091" y="1746"/>
                  </a:lnTo>
                  <a:lnTo>
                    <a:pt x="3084" y="1784"/>
                  </a:lnTo>
                  <a:lnTo>
                    <a:pt x="3077" y="1821"/>
                  </a:lnTo>
                  <a:lnTo>
                    <a:pt x="3068" y="1857"/>
                  </a:lnTo>
                  <a:lnTo>
                    <a:pt x="3060" y="1894"/>
                  </a:lnTo>
                  <a:lnTo>
                    <a:pt x="3050" y="1930"/>
                  </a:lnTo>
                  <a:lnTo>
                    <a:pt x="3038" y="1966"/>
                  </a:lnTo>
                  <a:lnTo>
                    <a:pt x="3027" y="2002"/>
                  </a:lnTo>
                  <a:lnTo>
                    <a:pt x="3014" y="2036"/>
                  </a:lnTo>
                  <a:lnTo>
                    <a:pt x="3001" y="2071"/>
                  </a:lnTo>
                  <a:lnTo>
                    <a:pt x="2986" y="2105"/>
                  </a:lnTo>
                  <a:lnTo>
                    <a:pt x="2971" y="2138"/>
                  </a:lnTo>
                  <a:lnTo>
                    <a:pt x="2955" y="2173"/>
                  </a:lnTo>
                  <a:lnTo>
                    <a:pt x="2939" y="2206"/>
                  </a:lnTo>
                  <a:lnTo>
                    <a:pt x="2920" y="2237"/>
                  </a:lnTo>
                  <a:lnTo>
                    <a:pt x="2903" y="2269"/>
                  </a:lnTo>
                  <a:lnTo>
                    <a:pt x="2883" y="2301"/>
                  </a:lnTo>
                  <a:lnTo>
                    <a:pt x="2864" y="2332"/>
                  </a:lnTo>
                  <a:lnTo>
                    <a:pt x="2843" y="2362"/>
                  </a:lnTo>
                  <a:lnTo>
                    <a:pt x="2821" y="2392"/>
                  </a:lnTo>
                  <a:lnTo>
                    <a:pt x="2800" y="2423"/>
                  </a:lnTo>
                  <a:lnTo>
                    <a:pt x="2777" y="2451"/>
                  </a:lnTo>
                  <a:lnTo>
                    <a:pt x="2754" y="2480"/>
                  </a:lnTo>
                  <a:lnTo>
                    <a:pt x="2729" y="2507"/>
                  </a:lnTo>
                  <a:lnTo>
                    <a:pt x="2705" y="2535"/>
                  </a:lnTo>
                  <a:lnTo>
                    <a:pt x="2679" y="2560"/>
                  </a:lnTo>
                  <a:lnTo>
                    <a:pt x="2653" y="2588"/>
                  </a:lnTo>
                  <a:lnTo>
                    <a:pt x="2626" y="2612"/>
                  </a:lnTo>
                  <a:lnTo>
                    <a:pt x="2599" y="2638"/>
                  </a:lnTo>
                  <a:lnTo>
                    <a:pt x="2571" y="2661"/>
                  </a:lnTo>
                  <a:lnTo>
                    <a:pt x="2543" y="2685"/>
                  </a:lnTo>
                  <a:lnTo>
                    <a:pt x="2514" y="2708"/>
                  </a:lnTo>
                  <a:lnTo>
                    <a:pt x="2484" y="2730"/>
                  </a:lnTo>
                  <a:lnTo>
                    <a:pt x="2454" y="2751"/>
                  </a:lnTo>
                  <a:lnTo>
                    <a:pt x="2423" y="2771"/>
                  </a:lnTo>
                  <a:lnTo>
                    <a:pt x="2392" y="2791"/>
                  </a:lnTo>
                  <a:lnTo>
                    <a:pt x="2360" y="2812"/>
                  </a:lnTo>
                  <a:lnTo>
                    <a:pt x="2327" y="2830"/>
                  </a:lnTo>
                  <a:lnTo>
                    <a:pt x="2294" y="2847"/>
                  </a:lnTo>
                  <a:lnTo>
                    <a:pt x="2261" y="2865"/>
                  </a:lnTo>
                  <a:lnTo>
                    <a:pt x="2228" y="2882"/>
                  </a:lnTo>
                  <a:lnTo>
                    <a:pt x="2194" y="2898"/>
                  </a:lnTo>
                  <a:lnTo>
                    <a:pt x="2159" y="2912"/>
                  </a:lnTo>
                  <a:lnTo>
                    <a:pt x="2123" y="2926"/>
                  </a:lnTo>
                  <a:lnTo>
                    <a:pt x="2089" y="2939"/>
                  </a:lnTo>
                  <a:lnTo>
                    <a:pt x="2053" y="2951"/>
                  </a:lnTo>
                  <a:lnTo>
                    <a:pt x="2016" y="2962"/>
                  </a:lnTo>
                  <a:lnTo>
                    <a:pt x="1980" y="2974"/>
                  </a:lnTo>
                  <a:lnTo>
                    <a:pt x="1942" y="2984"/>
                  </a:lnTo>
                  <a:lnTo>
                    <a:pt x="1905" y="2992"/>
                  </a:lnTo>
                  <a:lnTo>
                    <a:pt x="1868" y="3000"/>
                  </a:lnTo>
                  <a:lnTo>
                    <a:pt x="1829" y="3007"/>
                  </a:lnTo>
                  <a:lnTo>
                    <a:pt x="1790" y="3014"/>
                  </a:lnTo>
                  <a:lnTo>
                    <a:pt x="1751" y="3018"/>
                  </a:lnTo>
                  <a:lnTo>
                    <a:pt x="1713" y="3023"/>
                  </a:lnTo>
                  <a:lnTo>
                    <a:pt x="1674" y="3027"/>
                  </a:lnTo>
                  <a:lnTo>
                    <a:pt x="1634" y="3028"/>
                  </a:lnTo>
                  <a:lnTo>
                    <a:pt x="1594" y="3031"/>
                  </a:lnTo>
                  <a:lnTo>
                    <a:pt x="1553" y="3031"/>
                  </a:lnTo>
                  <a:lnTo>
                    <a:pt x="1515" y="3031"/>
                  </a:lnTo>
                  <a:lnTo>
                    <a:pt x="1474" y="3028"/>
                  </a:lnTo>
                  <a:lnTo>
                    <a:pt x="1434" y="3027"/>
                  </a:lnTo>
                  <a:lnTo>
                    <a:pt x="1395" y="3023"/>
                  </a:lnTo>
                  <a:lnTo>
                    <a:pt x="1357" y="3018"/>
                  </a:lnTo>
                  <a:lnTo>
                    <a:pt x="1318" y="3014"/>
                  </a:lnTo>
                  <a:lnTo>
                    <a:pt x="1279" y="3007"/>
                  </a:lnTo>
                  <a:lnTo>
                    <a:pt x="1240" y="3000"/>
                  </a:lnTo>
                  <a:lnTo>
                    <a:pt x="1203" y="2992"/>
                  </a:lnTo>
                  <a:lnTo>
                    <a:pt x="1166" y="2984"/>
                  </a:lnTo>
                  <a:lnTo>
                    <a:pt x="1128" y="2974"/>
                  </a:lnTo>
                  <a:lnTo>
                    <a:pt x="1092" y="2962"/>
                  </a:lnTo>
                  <a:lnTo>
                    <a:pt x="1055" y="2951"/>
                  </a:lnTo>
                  <a:lnTo>
                    <a:pt x="1019" y="2939"/>
                  </a:lnTo>
                  <a:lnTo>
                    <a:pt x="983" y="2926"/>
                  </a:lnTo>
                  <a:lnTo>
                    <a:pt x="949" y="2912"/>
                  </a:lnTo>
                  <a:lnTo>
                    <a:pt x="914" y="2898"/>
                  </a:lnTo>
                  <a:lnTo>
                    <a:pt x="880" y="2882"/>
                  </a:lnTo>
                  <a:lnTo>
                    <a:pt x="847" y="2865"/>
                  </a:lnTo>
                  <a:lnTo>
                    <a:pt x="812" y="2847"/>
                  </a:lnTo>
                  <a:lnTo>
                    <a:pt x="781" y="2830"/>
                  </a:lnTo>
                  <a:lnTo>
                    <a:pt x="748" y="2812"/>
                  </a:lnTo>
                  <a:lnTo>
                    <a:pt x="716" y="2791"/>
                  </a:lnTo>
                  <a:lnTo>
                    <a:pt x="685" y="2771"/>
                  </a:lnTo>
                  <a:lnTo>
                    <a:pt x="654" y="2751"/>
                  </a:lnTo>
                  <a:lnTo>
                    <a:pt x="624" y="2730"/>
                  </a:lnTo>
                  <a:lnTo>
                    <a:pt x="594" y="2708"/>
                  </a:lnTo>
                  <a:lnTo>
                    <a:pt x="565" y="2685"/>
                  </a:lnTo>
                  <a:lnTo>
                    <a:pt x="537" y="2661"/>
                  </a:lnTo>
                  <a:lnTo>
                    <a:pt x="509" y="2638"/>
                  </a:lnTo>
                  <a:lnTo>
                    <a:pt x="482" y="2612"/>
                  </a:lnTo>
                  <a:lnTo>
                    <a:pt x="455" y="2588"/>
                  </a:lnTo>
                  <a:lnTo>
                    <a:pt x="429" y="2560"/>
                  </a:lnTo>
                  <a:lnTo>
                    <a:pt x="403" y="2535"/>
                  </a:lnTo>
                  <a:lnTo>
                    <a:pt x="379" y="2507"/>
                  </a:lnTo>
                  <a:lnTo>
                    <a:pt x="354" y="2480"/>
                  </a:lnTo>
                  <a:lnTo>
                    <a:pt x="331" y="2451"/>
                  </a:lnTo>
                  <a:lnTo>
                    <a:pt x="308" y="2423"/>
                  </a:lnTo>
                  <a:lnTo>
                    <a:pt x="287" y="2392"/>
                  </a:lnTo>
                  <a:lnTo>
                    <a:pt x="265" y="2362"/>
                  </a:lnTo>
                  <a:lnTo>
                    <a:pt x="244" y="2332"/>
                  </a:lnTo>
                  <a:lnTo>
                    <a:pt x="225" y="2301"/>
                  </a:lnTo>
                  <a:lnTo>
                    <a:pt x="205" y="2269"/>
                  </a:lnTo>
                  <a:lnTo>
                    <a:pt x="186" y="2237"/>
                  </a:lnTo>
                  <a:lnTo>
                    <a:pt x="169" y="2206"/>
                  </a:lnTo>
                  <a:lnTo>
                    <a:pt x="153" y="2173"/>
                  </a:lnTo>
                  <a:lnTo>
                    <a:pt x="136" y="2138"/>
                  </a:lnTo>
                  <a:lnTo>
                    <a:pt x="122" y="2105"/>
                  </a:lnTo>
                  <a:lnTo>
                    <a:pt x="107" y="2071"/>
                  </a:lnTo>
                  <a:lnTo>
                    <a:pt x="94" y="2036"/>
                  </a:lnTo>
                  <a:lnTo>
                    <a:pt x="82" y="2002"/>
                  </a:lnTo>
                  <a:lnTo>
                    <a:pt x="70" y="1966"/>
                  </a:lnTo>
                  <a:lnTo>
                    <a:pt x="59" y="1930"/>
                  </a:lnTo>
                  <a:lnTo>
                    <a:pt x="49" y="1894"/>
                  </a:lnTo>
                  <a:lnTo>
                    <a:pt x="40" y="1857"/>
                  </a:lnTo>
                  <a:lnTo>
                    <a:pt x="31" y="1821"/>
                  </a:lnTo>
                  <a:lnTo>
                    <a:pt x="24" y="1784"/>
                  </a:lnTo>
                  <a:lnTo>
                    <a:pt x="17" y="1746"/>
                  </a:lnTo>
                  <a:lnTo>
                    <a:pt x="13" y="1708"/>
                  </a:lnTo>
                  <a:lnTo>
                    <a:pt x="7" y="1670"/>
                  </a:lnTo>
                  <a:lnTo>
                    <a:pt x="4" y="1632"/>
                  </a:lnTo>
                  <a:lnTo>
                    <a:pt x="1" y="1593"/>
                  </a:lnTo>
                  <a:lnTo>
                    <a:pt x="0" y="1554"/>
                  </a:lnTo>
                  <a:lnTo>
                    <a:pt x="0" y="1515"/>
                  </a:lnTo>
                  <a:lnTo>
                    <a:pt x="0" y="1477"/>
                  </a:lnTo>
                  <a:lnTo>
                    <a:pt x="1" y="1438"/>
                  </a:lnTo>
                  <a:lnTo>
                    <a:pt x="4" y="1399"/>
                  </a:lnTo>
                  <a:lnTo>
                    <a:pt x="7" y="1360"/>
                  </a:lnTo>
                  <a:lnTo>
                    <a:pt x="13" y="1322"/>
                  </a:lnTo>
                  <a:lnTo>
                    <a:pt x="17" y="1284"/>
                  </a:lnTo>
                  <a:lnTo>
                    <a:pt x="24" y="1247"/>
                  </a:lnTo>
                  <a:lnTo>
                    <a:pt x="31" y="1210"/>
                  </a:lnTo>
                  <a:lnTo>
                    <a:pt x="40" y="1172"/>
                  </a:lnTo>
                  <a:lnTo>
                    <a:pt x="49" y="1136"/>
                  </a:lnTo>
                  <a:lnTo>
                    <a:pt x="59" y="1101"/>
                  </a:lnTo>
                  <a:lnTo>
                    <a:pt x="70" y="1065"/>
                  </a:lnTo>
                  <a:lnTo>
                    <a:pt x="82" y="1029"/>
                  </a:lnTo>
                  <a:lnTo>
                    <a:pt x="94" y="994"/>
                  </a:lnTo>
                  <a:lnTo>
                    <a:pt x="107" y="960"/>
                  </a:lnTo>
                  <a:lnTo>
                    <a:pt x="122" y="925"/>
                  </a:lnTo>
                  <a:lnTo>
                    <a:pt x="136" y="891"/>
                  </a:lnTo>
                  <a:lnTo>
                    <a:pt x="153" y="858"/>
                  </a:lnTo>
                  <a:lnTo>
                    <a:pt x="169" y="825"/>
                  </a:lnTo>
                  <a:lnTo>
                    <a:pt x="186" y="792"/>
                  </a:lnTo>
                  <a:lnTo>
                    <a:pt x="205" y="760"/>
                  </a:lnTo>
                  <a:lnTo>
                    <a:pt x="225" y="729"/>
                  </a:lnTo>
                  <a:lnTo>
                    <a:pt x="244" y="699"/>
                  </a:lnTo>
                  <a:lnTo>
                    <a:pt x="265" y="667"/>
                  </a:lnTo>
                  <a:lnTo>
                    <a:pt x="287" y="638"/>
                  </a:lnTo>
                  <a:lnTo>
                    <a:pt x="308" y="608"/>
                  </a:lnTo>
                  <a:lnTo>
                    <a:pt x="331" y="579"/>
                  </a:lnTo>
                  <a:lnTo>
                    <a:pt x="354" y="551"/>
                  </a:lnTo>
                  <a:lnTo>
                    <a:pt x="379" y="523"/>
                  </a:lnTo>
                  <a:lnTo>
                    <a:pt x="403" y="496"/>
                  </a:lnTo>
                  <a:lnTo>
                    <a:pt x="429" y="469"/>
                  </a:lnTo>
                  <a:lnTo>
                    <a:pt x="455" y="443"/>
                  </a:lnTo>
                  <a:lnTo>
                    <a:pt x="482" y="417"/>
                  </a:lnTo>
                  <a:lnTo>
                    <a:pt x="509" y="393"/>
                  </a:lnTo>
                  <a:lnTo>
                    <a:pt x="537" y="368"/>
                  </a:lnTo>
                  <a:lnTo>
                    <a:pt x="565" y="345"/>
                  </a:lnTo>
                  <a:lnTo>
                    <a:pt x="594" y="323"/>
                  </a:lnTo>
                  <a:lnTo>
                    <a:pt x="624" y="301"/>
                  </a:lnTo>
                  <a:lnTo>
                    <a:pt x="654" y="279"/>
                  </a:lnTo>
                  <a:lnTo>
                    <a:pt x="685" y="258"/>
                  </a:lnTo>
                  <a:lnTo>
                    <a:pt x="716" y="238"/>
                  </a:lnTo>
                  <a:lnTo>
                    <a:pt x="748" y="219"/>
                  </a:lnTo>
                  <a:lnTo>
                    <a:pt x="781" y="201"/>
                  </a:lnTo>
                  <a:lnTo>
                    <a:pt x="812" y="182"/>
                  </a:lnTo>
                  <a:lnTo>
                    <a:pt x="847" y="165"/>
                  </a:lnTo>
                  <a:lnTo>
                    <a:pt x="880" y="149"/>
                  </a:lnTo>
                  <a:lnTo>
                    <a:pt x="914" y="133"/>
                  </a:lnTo>
                  <a:lnTo>
                    <a:pt x="949" y="119"/>
                  </a:lnTo>
                  <a:lnTo>
                    <a:pt x="983" y="104"/>
                  </a:lnTo>
                  <a:lnTo>
                    <a:pt x="1019" y="91"/>
                  </a:lnTo>
                  <a:lnTo>
                    <a:pt x="1055" y="78"/>
                  </a:lnTo>
                  <a:lnTo>
                    <a:pt x="1092" y="67"/>
                  </a:lnTo>
                  <a:lnTo>
                    <a:pt x="1128" y="57"/>
                  </a:lnTo>
                  <a:lnTo>
                    <a:pt x="1166" y="47"/>
                  </a:lnTo>
                  <a:lnTo>
                    <a:pt x="1203" y="38"/>
                  </a:lnTo>
                  <a:lnTo>
                    <a:pt x="1240" y="30"/>
                  </a:lnTo>
                  <a:lnTo>
                    <a:pt x="1279" y="23"/>
                  </a:lnTo>
                  <a:lnTo>
                    <a:pt x="1318" y="17"/>
                  </a:lnTo>
                  <a:lnTo>
                    <a:pt x="1357" y="11"/>
                  </a:lnTo>
                  <a:lnTo>
                    <a:pt x="1395" y="7"/>
                  </a:lnTo>
                  <a:lnTo>
                    <a:pt x="1434" y="4"/>
                  </a:lnTo>
                  <a:lnTo>
                    <a:pt x="1474" y="1"/>
                  </a:lnTo>
                  <a:lnTo>
                    <a:pt x="1515" y="0"/>
                  </a:lnTo>
                  <a:lnTo>
                    <a:pt x="1553" y="0"/>
                  </a:lnTo>
                  <a:lnTo>
                    <a:pt x="1594" y="0"/>
                  </a:lnTo>
                  <a:lnTo>
                    <a:pt x="1634" y="1"/>
                  </a:lnTo>
                  <a:lnTo>
                    <a:pt x="1674" y="4"/>
                  </a:lnTo>
                  <a:lnTo>
                    <a:pt x="1713" y="7"/>
                  </a:lnTo>
                  <a:lnTo>
                    <a:pt x="1751" y="11"/>
                  </a:lnTo>
                  <a:lnTo>
                    <a:pt x="1790" y="17"/>
                  </a:lnTo>
                  <a:lnTo>
                    <a:pt x="1829" y="23"/>
                  </a:lnTo>
                  <a:lnTo>
                    <a:pt x="1868" y="30"/>
                  </a:lnTo>
                  <a:lnTo>
                    <a:pt x="1905" y="38"/>
                  </a:lnTo>
                  <a:lnTo>
                    <a:pt x="1942" y="47"/>
                  </a:lnTo>
                  <a:lnTo>
                    <a:pt x="1980" y="57"/>
                  </a:lnTo>
                  <a:lnTo>
                    <a:pt x="2016" y="67"/>
                  </a:lnTo>
                  <a:lnTo>
                    <a:pt x="2053" y="78"/>
                  </a:lnTo>
                  <a:lnTo>
                    <a:pt x="2089" y="91"/>
                  </a:lnTo>
                  <a:lnTo>
                    <a:pt x="2123" y="104"/>
                  </a:lnTo>
                  <a:lnTo>
                    <a:pt x="2159" y="119"/>
                  </a:lnTo>
                  <a:lnTo>
                    <a:pt x="2194" y="133"/>
                  </a:lnTo>
                  <a:lnTo>
                    <a:pt x="2228" y="149"/>
                  </a:lnTo>
                  <a:lnTo>
                    <a:pt x="2261" y="165"/>
                  </a:lnTo>
                  <a:lnTo>
                    <a:pt x="2294" y="182"/>
                  </a:lnTo>
                  <a:lnTo>
                    <a:pt x="2327" y="201"/>
                  </a:lnTo>
                  <a:lnTo>
                    <a:pt x="2360" y="219"/>
                  </a:lnTo>
                  <a:lnTo>
                    <a:pt x="2392" y="238"/>
                  </a:lnTo>
                  <a:lnTo>
                    <a:pt x="2423" y="258"/>
                  </a:lnTo>
                  <a:lnTo>
                    <a:pt x="2454" y="279"/>
                  </a:lnTo>
                  <a:lnTo>
                    <a:pt x="2484" y="301"/>
                  </a:lnTo>
                  <a:lnTo>
                    <a:pt x="2514" y="323"/>
                  </a:lnTo>
                  <a:lnTo>
                    <a:pt x="2543" y="345"/>
                  </a:lnTo>
                  <a:lnTo>
                    <a:pt x="2571" y="368"/>
                  </a:lnTo>
                  <a:lnTo>
                    <a:pt x="2599" y="393"/>
                  </a:lnTo>
                  <a:lnTo>
                    <a:pt x="2626" y="417"/>
                  </a:lnTo>
                  <a:lnTo>
                    <a:pt x="2653" y="443"/>
                  </a:lnTo>
                  <a:lnTo>
                    <a:pt x="2679" y="469"/>
                  </a:lnTo>
                  <a:lnTo>
                    <a:pt x="2705" y="496"/>
                  </a:lnTo>
                  <a:lnTo>
                    <a:pt x="2729" y="523"/>
                  </a:lnTo>
                  <a:lnTo>
                    <a:pt x="2754" y="551"/>
                  </a:lnTo>
                  <a:lnTo>
                    <a:pt x="2777" y="579"/>
                  </a:lnTo>
                  <a:lnTo>
                    <a:pt x="2800" y="608"/>
                  </a:lnTo>
                  <a:lnTo>
                    <a:pt x="2821" y="638"/>
                  </a:lnTo>
                  <a:lnTo>
                    <a:pt x="2843" y="667"/>
                  </a:lnTo>
                  <a:lnTo>
                    <a:pt x="2864" y="699"/>
                  </a:lnTo>
                  <a:lnTo>
                    <a:pt x="2883" y="729"/>
                  </a:lnTo>
                  <a:lnTo>
                    <a:pt x="2903" y="760"/>
                  </a:lnTo>
                  <a:lnTo>
                    <a:pt x="2920" y="792"/>
                  </a:lnTo>
                  <a:lnTo>
                    <a:pt x="2939" y="825"/>
                  </a:lnTo>
                  <a:lnTo>
                    <a:pt x="2955" y="858"/>
                  </a:lnTo>
                  <a:lnTo>
                    <a:pt x="2971" y="891"/>
                  </a:lnTo>
                  <a:lnTo>
                    <a:pt x="2986" y="925"/>
                  </a:lnTo>
                  <a:lnTo>
                    <a:pt x="3001" y="960"/>
                  </a:lnTo>
                  <a:lnTo>
                    <a:pt x="3014" y="994"/>
                  </a:lnTo>
                  <a:lnTo>
                    <a:pt x="3027" y="1029"/>
                  </a:lnTo>
                  <a:lnTo>
                    <a:pt x="3038" y="1065"/>
                  </a:lnTo>
                  <a:lnTo>
                    <a:pt x="3050" y="1101"/>
                  </a:lnTo>
                  <a:lnTo>
                    <a:pt x="3060" y="1136"/>
                  </a:lnTo>
                  <a:lnTo>
                    <a:pt x="3068" y="1172"/>
                  </a:lnTo>
                  <a:lnTo>
                    <a:pt x="3077" y="1210"/>
                  </a:lnTo>
                  <a:lnTo>
                    <a:pt x="3084" y="1247"/>
                  </a:lnTo>
                  <a:lnTo>
                    <a:pt x="3091" y="1284"/>
                  </a:lnTo>
                  <a:lnTo>
                    <a:pt x="3095" y="1322"/>
                  </a:lnTo>
                  <a:lnTo>
                    <a:pt x="3100" y="1360"/>
                  </a:lnTo>
                  <a:lnTo>
                    <a:pt x="3104" y="1399"/>
                  </a:lnTo>
                  <a:lnTo>
                    <a:pt x="3107" y="1438"/>
                  </a:lnTo>
                  <a:lnTo>
                    <a:pt x="3108" y="1477"/>
                  </a:lnTo>
                  <a:lnTo>
                    <a:pt x="3108" y="1515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8"/>
            <p:cNvSpPr/>
            <p:nvPr/>
          </p:nvSpPr>
          <p:spPr>
            <a:xfrm>
              <a:off x="824040" y="1969920"/>
              <a:ext cx="3044520" cy="3311640"/>
            </a:xfrm>
            <a:custGeom>
              <a:avLst/>
              <a:gdLst>
                <a:gd name="textAreaLeft" fmla="*/ 0 w 3044520"/>
                <a:gd name="textAreaRight" fmla="*/ 3044880 w 3044520"/>
                <a:gd name="textAreaTop" fmla="*/ 0 h 3311640"/>
                <a:gd name="textAreaBottom" fmla="*/ 3312000 h 3311640"/>
              </a:gdLst>
              <a:ahLst/>
              <a:rect l="textAreaLeft" t="textAreaTop" r="textAreaRight" b="textAreaBottom"/>
              <a:pathLst>
                <a:path w="3837" h="4173">
                  <a:moveTo>
                    <a:pt x="3837" y="1918"/>
                  </a:moveTo>
                  <a:lnTo>
                    <a:pt x="3837" y="1918"/>
                  </a:lnTo>
                  <a:lnTo>
                    <a:pt x="3835" y="1868"/>
                  </a:lnTo>
                  <a:lnTo>
                    <a:pt x="3834" y="1819"/>
                  </a:lnTo>
                  <a:lnTo>
                    <a:pt x="3831" y="1770"/>
                  </a:lnTo>
                  <a:lnTo>
                    <a:pt x="3827" y="1721"/>
                  </a:lnTo>
                  <a:lnTo>
                    <a:pt x="3821" y="1674"/>
                  </a:lnTo>
                  <a:lnTo>
                    <a:pt x="3814" y="1625"/>
                  </a:lnTo>
                  <a:lnTo>
                    <a:pt x="3807" y="1578"/>
                  </a:lnTo>
                  <a:lnTo>
                    <a:pt x="3798" y="1532"/>
                  </a:lnTo>
                  <a:lnTo>
                    <a:pt x="3788" y="1484"/>
                  </a:lnTo>
                  <a:lnTo>
                    <a:pt x="3777" y="1438"/>
                  </a:lnTo>
                  <a:lnTo>
                    <a:pt x="3764" y="1393"/>
                  </a:lnTo>
                  <a:lnTo>
                    <a:pt x="3751" y="1348"/>
                  </a:lnTo>
                  <a:lnTo>
                    <a:pt x="3736" y="1302"/>
                  </a:lnTo>
                  <a:lnTo>
                    <a:pt x="3721" y="1258"/>
                  </a:lnTo>
                  <a:lnTo>
                    <a:pt x="3703" y="1215"/>
                  </a:lnTo>
                  <a:lnTo>
                    <a:pt x="3686" y="1171"/>
                  </a:lnTo>
                  <a:lnTo>
                    <a:pt x="3667" y="1128"/>
                  </a:lnTo>
                  <a:lnTo>
                    <a:pt x="3647" y="1087"/>
                  </a:lnTo>
                  <a:lnTo>
                    <a:pt x="3627" y="1045"/>
                  </a:lnTo>
                  <a:lnTo>
                    <a:pt x="3606" y="1004"/>
                  </a:lnTo>
                  <a:lnTo>
                    <a:pt x="3583" y="963"/>
                  </a:lnTo>
                  <a:lnTo>
                    <a:pt x="3558" y="923"/>
                  </a:lnTo>
                  <a:lnTo>
                    <a:pt x="3534" y="884"/>
                  </a:lnTo>
                  <a:lnTo>
                    <a:pt x="3509" y="846"/>
                  </a:lnTo>
                  <a:lnTo>
                    <a:pt x="3482" y="807"/>
                  </a:lnTo>
                  <a:lnTo>
                    <a:pt x="3455" y="770"/>
                  </a:lnTo>
                  <a:lnTo>
                    <a:pt x="3428" y="734"/>
                  </a:lnTo>
                  <a:lnTo>
                    <a:pt x="3399" y="698"/>
                  </a:lnTo>
                  <a:lnTo>
                    <a:pt x="3369" y="663"/>
                  </a:lnTo>
                  <a:lnTo>
                    <a:pt x="3339" y="629"/>
                  </a:lnTo>
                  <a:lnTo>
                    <a:pt x="3307" y="594"/>
                  </a:lnTo>
                  <a:lnTo>
                    <a:pt x="3275" y="561"/>
                  </a:lnTo>
                  <a:lnTo>
                    <a:pt x="3242" y="530"/>
                  </a:lnTo>
                  <a:lnTo>
                    <a:pt x="3208" y="498"/>
                  </a:lnTo>
                  <a:lnTo>
                    <a:pt x="3173" y="468"/>
                  </a:lnTo>
                  <a:lnTo>
                    <a:pt x="3139" y="438"/>
                  </a:lnTo>
                  <a:lnTo>
                    <a:pt x="3103" y="409"/>
                  </a:lnTo>
                  <a:lnTo>
                    <a:pt x="3066" y="381"/>
                  </a:lnTo>
                  <a:lnTo>
                    <a:pt x="3028" y="353"/>
                  </a:lnTo>
                  <a:lnTo>
                    <a:pt x="2991" y="327"/>
                  </a:lnTo>
                  <a:lnTo>
                    <a:pt x="2952" y="302"/>
                  </a:lnTo>
                  <a:lnTo>
                    <a:pt x="2914" y="277"/>
                  </a:lnTo>
                  <a:lnTo>
                    <a:pt x="2873" y="254"/>
                  </a:lnTo>
                  <a:lnTo>
                    <a:pt x="2833" y="231"/>
                  </a:lnTo>
                  <a:lnTo>
                    <a:pt x="2792" y="210"/>
                  </a:lnTo>
                  <a:lnTo>
                    <a:pt x="2750" y="190"/>
                  </a:lnTo>
                  <a:lnTo>
                    <a:pt x="2708" y="170"/>
                  </a:lnTo>
                  <a:lnTo>
                    <a:pt x="2665" y="151"/>
                  </a:lnTo>
                  <a:lnTo>
                    <a:pt x="2622" y="134"/>
                  </a:lnTo>
                  <a:lnTo>
                    <a:pt x="2578" y="116"/>
                  </a:lnTo>
                  <a:lnTo>
                    <a:pt x="2533" y="101"/>
                  </a:lnTo>
                  <a:lnTo>
                    <a:pt x="2489" y="86"/>
                  </a:lnTo>
                  <a:lnTo>
                    <a:pt x="2444" y="73"/>
                  </a:lnTo>
                  <a:lnTo>
                    <a:pt x="2398" y="60"/>
                  </a:lnTo>
                  <a:lnTo>
                    <a:pt x="2352" y="49"/>
                  </a:lnTo>
                  <a:lnTo>
                    <a:pt x="2305" y="39"/>
                  </a:lnTo>
                  <a:lnTo>
                    <a:pt x="2257" y="30"/>
                  </a:lnTo>
                  <a:lnTo>
                    <a:pt x="2210" y="22"/>
                  </a:lnTo>
                  <a:lnTo>
                    <a:pt x="2163" y="16"/>
                  </a:lnTo>
                  <a:lnTo>
                    <a:pt x="2114" y="10"/>
                  </a:lnTo>
                  <a:lnTo>
                    <a:pt x="2066" y="6"/>
                  </a:lnTo>
                  <a:lnTo>
                    <a:pt x="2018" y="3"/>
                  </a:lnTo>
                  <a:lnTo>
                    <a:pt x="1967" y="0"/>
                  </a:lnTo>
                  <a:lnTo>
                    <a:pt x="1918" y="0"/>
                  </a:lnTo>
                  <a:lnTo>
                    <a:pt x="1868" y="0"/>
                  </a:lnTo>
                  <a:lnTo>
                    <a:pt x="1819" y="3"/>
                  </a:lnTo>
                  <a:lnTo>
                    <a:pt x="1771" y="6"/>
                  </a:lnTo>
                  <a:lnTo>
                    <a:pt x="1722" y="10"/>
                  </a:lnTo>
                  <a:lnTo>
                    <a:pt x="1674" y="16"/>
                  </a:lnTo>
                  <a:lnTo>
                    <a:pt x="1626" y="22"/>
                  </a:lnTo>
                  <a:lnTo>
                    <a:pt x="1578" y="30"/>
                  </a:lnTo>
                  <a:lnTo>
                    <a:pt x="1532" y="39"/>
                  </a:lnTo>
                  <a:lnTo>
                    <a:pt x="1485" y="49"/>
                  </a:lnTo>
                  <a:lnTo>
                    <a:pt x="1439" y="60"/>
                  </a:lnTo>
                  <a:lnTo>
                    <a:pt x="1393" y="73"/>
                  </a:lnTo>
                  <a:lnTo>
                    <a:pt x="1348" y="86"/>
                  </a:lnTo>
                  <a:lnTo>
                    <a:pt x="1302" y="101"/>
                  </a:lnTo>
                  <a:lnTo>
                    <a:pt x="1258" y="116"/>
                  </a:lnTo>
                  <a:lnTo>
                    <a:pt x="1215" y="134"/>
                  </a:lnTo>
                  <a:lnTo>
                    <a:pt x="1172" y="151"/>
                  </a:lnTo>
                  <a:lnTo>
                    <a:pt x="1129" y="170"/>
                  </a:lnTo>
                  <a:lnTo>
                    <a:pt x="1087" y="190"/>
                  </a:lnTo>
                  <a:lnTo>
                    <a:pt x="1045" y="210"/>
                  </a:lnTo>
                  <a:lnTo>
                    <a:pt x="1004" y="231"/>
                  </a:lnTo>
                  <a:lnTo>
                    <a:pt x="964" y="254"/>
                  </a:lnTo>
                  <a:lnTo>
                    <a:pt x="923" y="277"/>
                  </a:lnTo>
                  <a:lnTo>
                    <a:pt x="885" y="302"/>
                  </a:lnTo>
                  <a:lnTo>
                    <a:pt x="846" y="327"/>
                  </a:lnTo>
                  <a:lnTo>
                    <a:pt x="807" y="353"/>
                  </a:lnTo>
                  <a:lnTo>
                    <a:pt x="770" y="381"/>
                  </a:lnTo>
                  <a:lnTo>
                    <a:pt x="734" y="409"/>
                  </a:lnTo>
                  <a:lnTo>
                    <a:pt x="698" y="438"/>
                  </a:lnTo>
                  <a:lnTo>
                    <a:pt x="664" y="468"/>
                  </a:lnTo>
                  <a:lnTo>
                    <a:pt x="629" y="498"/>
                  </a:lnTo>
                  <a:lnTo>
                    <a:pt x="595" y="530"/>
                  </a:lnTo>
                  <a:lnTo>
                    <a:pt x="562" y="561"/>
                  </a:lnTo>
                  <a:lnTo>
                    <a:pt x="530" y="594"/>
                  </a:lnTo>
                  <a:lnTo>
                    <a:pt x="498" y="629"/>
                  </a:lnTo>
                  <a:lnTo>
                    <a:pt x="468" y="663"/>
                  </a:lnTo>
                  <a:lnTo>
                    <a:pt x="438" y="698"/>
                  </a:lnTo>
                  <a:lnTo>
                    <a:pt x="409" y="734"/>
                  </a:lnTo>
                  <a:lnTo>
                    <a:pt x="381" y="770"/>
                  </a:lnTo>
                  <a:lnTo>
                    <a:pt x="353" y="807"/>
                  </a:lnTo>
                  <a:lnTo>
                    <a:pt x="328" y="846"/>
                  </a:lnTo>
                  <a:lnTo>
                    <a:pt x="302" y="884"/>
                  </a:lnTo>
                  <a:lnTo>
                    <a:pt x="277" y="923"/>
                  </a:lnTo>
                  <a:lnTo>
                    <a:pt x="254" y="963"/>
                  </a:lnTo>
                  <a:lnTo>
                    <a:pt x="231" y="1004"/>
                  </a:lnTo>
                  <a:lnTo>
                    <a:pt x="210" y="1045"/>
                  </a:lnTo>
                  <a:lnTo>
                    <a:pt x="190" y="1087"/>
                  </a:lnTo>
                  <a:lnTo>
                    <a:pt x="170" y="1128"/>
                  </a:lnTo>
                  <a:lnTo>
                    <a:pt x="151" y="1171"/>
                  </a:lnTo>
                  <a:lnTo>
                    <a:pt x="132" y="1215"/>
                  </a:lnTo>
                  <a:lnTo>
                    <a:pt x="116" y="1258"/>
                  </a:lnTo>
                  <a:lnTo>
                    <a:pt x="101" y="1302"/>
                  </a:lnTo>
                  <a:lnTo>
                    <a:pt x="86" y="1348"/>
                  </a:lnTo>
                  <a:lnTo>
                    <a:pt x="73" y="1393"/>
                  </a:lnTo>
                  <a:lnTo>
                    <a:pt x="60" y="1438"/>
                  </a:lnTo>
                  <a:lnTo>
                    <a:pt x="49" y="1484"/>
                  </a:lnTo>
                  <a:lnTo>
                    <a:pt x="39" y="1532"/>
                  </a:lnTo>
                  <a:lnTo>
                    <a:pt x="30" y="1578"/>
                  </a:lnTo>
                  <a:lnTo>
                    <a:pt x="22" y="1625"/>
                  </a:lnTo>
                  <a:lnTo>
                    <a:pt x="16" y="1674"/>
                  </a:lnTo>
                  <a:lnTo>
                    <a:pt x="10" y="1721"/>
                  </a:lnTo>
                  <a:lnTo>
                    <a:pt x="6" y="1770"/>
                  </a:lnTo>
                  <a:lnTo>
                    <a:pt x="3" y="1819"/>
                  </a:lnTo>
                  <a:lnTo>
                    <a:pt x="0" y="1868"/>
                  </a:lnTo>
                  <a:lnTo>
                    <a:pt x="0" y="1918"/>
                  </a:lnTo>
                  <a:lnTo>
                    <a:pt x="2" y="1997"/>
                  </a:lnTo>
                  <a:lnTo>
                    <a:pt x="6" y="2074"/>
                  </a:lnTo>
                  <a:lnTo>
                    <a:pt x="14" y="2152"/>
                  </a:lnTo>
                  <a:lnTo>
                    <a:pt x="25" y="2228"/>
                  </a:lnTo>
                  <a:lnTo>
                    <a:pt x="39" y="2304"/>
                  </a:lnTo>
                  <a:lnTo>
                    <a:pt x="56" y="2379"/>
                  </a:lnTo>
                  <a:lnTo>
                    <a:pt x="75" y="2452"/>
                  </a:lnTo>
                  <a:lnTo>
                    <a:pt x="98" y="2524"/>
                  </a:lnTo>
                  <a:lnTo>
                    <a:pt x="122" y="2594"/>
                  </a:lnTo>
                  <a:lnTo>
                    <a:pt x="151" y="2663"/>
                  </a:lnTo>
                  <a:lnTo>
                    <a:pt x="181" y="2732"/>
                  </a:lnTo>
                  <a:lnTo>
                    <a:pt x="214" y="2798"/>
                  </a:lnTo>
                  <a:lnTo>
                    <a:pt x="249" y="2864"/>
                  </a:lnTo>
                  <a:lnTo>
                    <a:pt x="287" y="2927"/>
                  </a:lnTo>
                  <a:lnTo>
                    <a:pt x="328" y="2989"/>
                  </a:lnTo>
                  <a:lnTo>
                    <a:pt x="369" y="3049"/>
                  </a:lnTo>
                  <a:lnTo>
                    <a:pt x="414" y="3108"/>
                  </a:lnTo>
                  <a:lnTo>
                    <a:pt x="461" y="3165"/>
                  </a:lnTo>
                  <a:lnTo>
                    <a:pt x="510" y="3220"/>
                  </a:lnTo>
                  <a:lnTo>
                    <a:pt x="560" y="3273"/>
                  </a:lnTo>
                  <a:lnTo>
                    <a:pt x="613" y="3323"/>
                  </a:lnTo>
                  <a:lnTo>
                    <a:pt x="668" y="3372"/>
                  </a:lnTo>
                  <a:lnTo>
                    <a:pt x="725" y="3419"/>
                  </a:lnTo>
                  <a:lnTo>
                    <a:pt x="784" y="3464"/>
                  </a:lnTo>
                  <a:lnTo>
                    <a:pt x="844" y="3507"/>
                  </a:lnTo>
                  <a:lnTo>
                    <a:pt x="906" y="3547"/>
                  </a:lnTo>
                  <a:lnTo>
                    <a:pt x="969" y="3584"/>
                  </a:lnTo>
                  <a:lnTo>
                    <a:pt x="1034" y="3620"/>
                  </a:lnTo>
                  <a:lnTo>
                    <a:pt x="1101" y="3653"/>
                  </a:lnTo>
                  <a:lnTo>
                    <a:pt x="1169" y="3684"/>
                  </a:lnTo>
                  <a:lnTo>
                    <a:pt x="1239" y="3712"/>
                  </a:lnTo>
                  <a:lnTo>
                    <a:pt x="1310" y="3737"/>
                  </a:lnTo>
                  <a:lnTo>
                    <a:pt x="1310" y="4173"/>
                  </a:lnTo>
                  <a:lnTo>
                    <a:pt x="2550" y="4173"/>
                  </a:lnTo>
                  <a:lnTo>
                    <a:pt x="2550" y="3729"/>
                  </a:lnTo>
                  <a:lnTo>
                    <a:pt x="2619" y="3704"/>
                  </a:lnTo>
                  <a:lnTo>
                    <a:pt x="2688" y="3675"/>
                  </a:lnTo>
                  <a:lnTo>
                    <a:pt x="2754" y="3643"/>
                  </a:lnTo>
                  <a:lnTo>
                    <a:pt x="2820" y="3610"/>
                  </a:lnTo>
                  <a:lnTo>
                    <a:pt x="2885" y="3574"/>
                  </a:lnTo>
                  <a:lnTo>
                    <a:pt x="2947" y="3537"/>
                  </a:lnTo>
                  <a:lnTo>
                    <a:pt x="3008" y="3495"/>
                  </a:lnTo>
                  <a:lnTo>
                    <a:pt x="3067" y="3454"/>
                  </a:lnTo>
                  <a:lnTo>
                    <a:pt x="3125" y="3409"/>
                  </a:lnTo>
                  <a:lnTo>
                    <a:pt x="3181" y="3362"/>
                  </a:lnTo>
                  <a:lnTo>
                    <a:pt x="3234" y="3313"/>
                  </a:lnTo>
                  <a:lnTo>
                    <a:pt x="3287" y="3261"/>
                  </a:lnTo>
                  <a:lnTo>
                    <a:pt x="3336" y="3210"/>
                  </a:lnTo>
                  <a:lnTo>
                    <a:pt x="3385" y="3154"/>
                  </a:lnTo>
                  <a:lnTo>
                    <a:pt x="3430" y="3098"/>
                  </a:lnTo>
                  <a:lnTo>
                    <a:pt x="3474" y="3039"/>
                  </a:lnTo>
                  <a:lnTo>
                    <a:pt x="3515" y="2980"/>
                  </a:lnTo>
                  <a:lnTo>
                    <a:pt x="3555" y="2918"/>
                  </a:lnTo>
                  <a:lnTo>
                    <a:pt x="3593" y="2855"/>
                  </a:lnTo>
                  <a:lnTo>
                    <a:pt x="3627" y="2791"/>
                  </a:lnTo>
                  <a:lnTo>
                    <a:pt x="3659" y="2725"/>
                  </a:lnTo>
                  <a:lnTo>
                    <a:pt x="3689" y="2656"/>
                  </a:lnTo>
                  <a:lnTo>
                    <a:pt x="3716" y="2588"/>
                  </a:lnTo>
                  <a:lnTo>
                    <a:pt x="3741" y="2518"/>
                  </a:lnTo>
                  <a:lnTo>
                    <a:pt x="3762" y="2446"/>
                  </a:lnTo>
                  <a:lnTo>
                    <a:pt x="3782" y="2373"/>
                  </a:lnTo>
                  <a:lnTo>
                    <a:pt x="3798" y="2300"/>
                  </a:lnTo>
                  <a:lnTo>
                    <a:pt x="3812" y="2225"/>
                  </a:lnTo>
                  <a:lnTo>
                    <a:pt x="3822" y="2150"/>
                  </a:lnTo>
                  <a:lnTo>
                    <a:pt x="3830" y="2073"/>
                  </a:lnTo>
                  <a:lnTo>
                    <a:pt x="3835" y="1995"/>
                  </a:lnTo>
                  <a:lnTo>
                    <a:pt x="3837" y="1918"/>
                  </a:lnTo>
                  <a:close/>
                </a:path>
              </a:pathLst>
            </a:custGeom>
            <a:noFill/>
            <a:ln w="136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2"/>
            <p:cNvSpPr/>
            <p:nvPr/>
          </p:nvSpPr>
          <p:spPr>
            <a:xfrm flipV="1">
              <a:off x="2047680" y="431964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3"/>
            <p:cNvSpPr/>
            <p:nvPr/>
          </p:nvSpPr>
          <p:spPr>
            <a:xfrm flipV="1">
              <a:off x="2631960" y="429732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4"/>
            <p:cNvSpPr/>
            <p:nvPr/>
          </p:nvSpPr>
          <p:spPr>
            <a:xfrm>
              <a:off x="1854000" y="4235400"/>
              <a:ext cx="946080" cy="2854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193" h="360">
                  <a:moveTo>
                    <a:pt x="0" y="267"/>
                  </a:moveTo>
                  <a:lnTo>
                    <a:pt x="0" y="267"/>
                  </a:lnTo>
                  <a:lnTo>
                    <a:pt x="7" y="283"/>
                  </a:lnTo>
                  <a:lnTo>
                    <a:pt x="17" y="297"/>
                  </a:lnTo>
                  <a:lnTo>
                    <a:pt x="30" y="310"/>
                  </a:lnTo>
                  <a:lnTo>
                    <a:pt x="43" y="321"/>
                  </a:lnTo>
                  <a:lnTo>
                    <a:pt x="59" y="330"/>
                  </a:lnTo>
                  <a:lnTo>
                    <a:pt x="75" y="339"/>
                  </a:lnTo>
                  <a:lnTo>
                    <a:pt x="94" y="344"/>
                  </a:lnTo>
                  <a:lnTo>
                    <a:pt x="111" y="350"/>
                  </a:lnTo>
                  <a:lnTo>
                    <a:pt x="129" y="354"/>
                  </a:lnTo>
                  <a:lnTo>
                    <a:pt x="150" y="357"/>
                  </a:lnTo>
                  <a:lnTo>
                    <a:pt x="168" y="359"/>
                  </a:lnTo>
                  <a:lnTo>
                    <a:pt x="187" y="360"/>
                  </a:lnTo>
                  <a:lnTo>
                    <a:pt x="223" y="360"/>
                  </a:lnTo>
                  <a:lnTo>
                    <a:pt x="254" y="357"/>
                  </a:lnTo>
                  <a:lnTo>
                    <a:pt x="296" y="350"/>
                  </a:lnTo>
                  <a:lnTo>
                    <a:pt x="318" y="344"/>
                  </a:lnTo>
                  <a:lnTo>
                    <a:pt x="338" y="339"/>
                  </a:lnTo>
                  <a:lnTo>
                    <a:pt x="358" y="333"/>
                  </a:lnTo>
                  <a:lnTo>
                    <a:pt x="378" y="324"/>
                  </a:lnTo>
                  <a:lnTo>
                    <a:pt x="396" y="316"/>
                  </a:lnTo>
                  <a:lnTo>
                    <a:pt x="415" y="306"/>
                  </a:lnTo>
                  <a:lnTo>
                    <a:pt x="432" y="294"/>
                  </a:lnTo>
                  <a:lnTo>
                    <a:pt x="448" y="281"/>
                  </a:lnTo>
                  <a:lnTo>
                    <a:pt x="463" y="268"/>
                  </a:lnTo>
                  <a:lnTo>
                    <a:pt x="477" y="252"/>
                  </a:lnTo>
                  <a:lnTo>
                    <a:pt x="488" y="237"/>
                  </a:lnTo>
                  <a:lnTo>
                    <a:pt x="500" y="218"/>
                  </a:lnTo>
                  <a:lnTo>
                    <a:pt x="508" y="198"/>
                  </a:lnTo>
                  <a:lnTo>
                    <a:pt x="514" y="176"/>
                  </a:lnTo>
                  <a:lnTo>
                    <a:pt x="520" y="151"/>
                  </a:lnTo>
                  <a:lnTo>
                    <a:pt x="526" y="118"/>
                  </a:lnTo>
                  <a:lnTo>
                    <a:pt x="527" y="100"/>
                  </a:lnTo>
                  <a:lnTo>
                    <a:pt x="527" y="83"/>
                  </a:lnTo>
                  <a:lnTo>
                    <a:pt x="527" y="67"/>
                  </a:lnTo>
                  <a:lnTo>
                    <a:pt x="526" y="51"/>
                  </a:lnTo>
                  <a:lnTo>
                    <a:pt x="523" y="37"/>
                  </a:lnTo>
                  <a:lnTo>
                    <a:pt x="517" y="24"/>
                  </a:lnTo>
                  <a:lnTo>
                    <a:pt x="510" y="14"/>
                  </a:lnTo>
                  <a:lnTo>
                    <a:pt x="506" y="10"/>
                  </a:lnTo>
                  <a:lnTo>
                    <a:pt x="501" y="6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4" y="0"/>
                  </a:lnTo>
                  <a:lnTo>
                    <a:pt x="477" y="0"/>
                  </a:lnTo>
                  <a:lnTo>
                    <a:pt x="468" y="1"/>
                  </a:lnTo>
                  <a:lnTo>
                    <a:pt x="460" y="3"/>
                  </a:lnTo>
                  <a:lnTo>
                    <a:pt x="441" y="11"/>
                  </a:lnTo>
                  <a:lnTo>
                    <a:pt x="432" y="16"/>
                  </a:lnTo>
                  <a:lnTo>
                    <a:pt x="425" y="20"/>
                  </a:lnTo>
                  <a:lnTo>
                    <a:pt x="414" y="30"/>
                  </a:lnTo>
                  <a:lnTo>
                    <a:pt x="404" y="43"/>
                  </a:lnTo>
                  <a:lnTo>
                    <a:pt x="396" y="57"/>
                  </a:lnTo>
                  <a:lnTo>
                    <a:pt x="392" y="73"/>
                  </a:lnTo>
                  <a:lnTo>
                    <a:pt x="389" y="90"/>
                  </a:lnTo>
                  <a:lnTo>
                    <a:pt x="388" y="107"/>
                  </a:lnTo>
                  <a:lnTo>
                    <a:pt x="389" y="125"/>
                  </a:lnTo>
                  <a:lnTo>
                    <a:pt x="392" y="143"/>
                  </a:lnTo>
                  <a:lnTo>
                    <a:pt x="396" y="161"/>
                  </a:lnTo>
                  <a:lnTo>
                    <a:pt x="402" y="179"/>
                  </a:lnTo>
                  <a:lnTo>
                    <a:pt x="408" y="195"/>
                  </a:lnTo>
                  <a:lnTo>
                    <a:pt x="415" y="212"/>
                  </a:lnTo>
                  <a:lnTo>
                    <a:pt x="424" y="227"/>
                  </a:lnTo>
                  <a:lnTo>
                    <a:pt x="431" y="240"/>
                  </a:lnTo>
                  <a:lnTo>
                    <a:pt x="441" y="251"/>
                  </a:lnTo>
                  <a:lnTo>
                    <a:pt x="454" y="265"/>
                  </a:lnTo>
                  <a:lnTo>
                    <a:pt x="467" y="278"/>
                  </a:lnTo>
                  <a:lnTo>
                    <a:pt x="480" y="288"/>
                  </a:lnTo>
                  <a:lnTo>
                    <a:pt x="494" y="298"/>
                  </a:lnTo>
                  <a:lnTo>
                    <a:pt x="508" y="306"/>
                  </a:lnTo>
                  <a:lnTo>
                    <a:pt x="523" y="311"/>
                  </a:lnTo>
                  <a:lnTo>
                    <a:pt x="537" y="317"/>
                  </a:lnTo>
                  <a:lnTo>
                    <a:pt x="553" y="320"/>
                  </a:lnTo>
                  <a:lnTo>
                    <a:pt x="569" y="321"/>
                  </a:lnTo>
                  <a:lnTo>
                    <a:pt x="585" y="321"/>
                  </a:lnTo>
                  <a:lnTo>
                    <a:pt x="600" y="321"/>
                  </a:lnTo>
                  <a:lnTo>
                    <a:pt x="616" y="318"/>
                  </a:lnTo>
                  <a:lnTo>
                    <a:pt x="632" y="316"/>
                  </a:lnTo>
                  <a:lnTo>
                    <a:pt x="649" y="310"/>
                  </a:lnTo>
                  <a:lnTo>
                    <a:pt x="666" y="304"/>
                  </a:lnTo>
                  <a:lnTo>
                    <a:pt x="682" y="297"/>
                  </a:lnTo>
                  <a:lnTo>
                    <a:pt x="698" y="288"/>
                  </a:lnTo>
                  <a:lnTo>
                    <a:pt x="712" y="280"/>
                  </a:lnTo>
                  <a:lnTo>
                    <a:pt x="725" y="271"/>
                  </a:lnTo>
                  <a:lnTo>
                    <a:pt x="737" y="262"/>
                  </a:lnTo>
                  <a:lnTo>
                    <a:pt x="747" y="251"/>
                  </a:lnTo>
                  <a:lnTo>
                    <a:pt x="755" y="241"/>
                  </a:lnTo>
                  <a:lnTo>
                    <a:pt x="764" y="229"/>
                  </a:lnTo>
                  <a:lnTo>
                    <a:pt x="771" y="218"/>
                  </a:lnTo>
                  <a:lnTo>
                    <a:pt x="776" y="205"/>
                  </a:lnTo>
                  <a:lnTo>
                    <a:pt x="781" y="192"/>
                  </a:lnTo>
                  <a:lnTo>
                    <a:pt x="784" y="178"/>
                  </a:lnTo>
                  <a:lnTo>
                    <a:pt x="787" y="163"/>
                  </a:lnTo>
                  <a:lnTo>
                    <a:pt x="791" y="133"/>
                  </a:lnTo>
                  <a:lnTo>
                    <a:pt x="793" y="99"/>
                  </a:lnTo>
                  <a:lnTo>
                    <a:pt x="793" y="73"/>
                  </a:lnTo>
                  <a:lnTo>
                    <a:pt x="793" y="62"/>
                  </a:lnTo>
                  <a:lnTo>
                    <a:pt x="791" y="50"/>
                  </a:lnTo>
                  <a:lnTo>
                    <a:pt x="788" y="40"/>
                  </a:lnTo>
                  <a:lnTo>
                    <a:pt x="783" y="31"/>
                  </a:lnTo>
                  <a:lnTo>
                    <a:pt x="778" y="27"/>
                  </a:lnTo>
                  <a:lnTo>
                    <a:pt x="773" y="24"/>
                  </a:lnTo>
                  <a:lnTo>
                    <a:pt x="761" y="18"/>
                  </a:lnTo>
                  <a:lnTo>
                    <a:pt x="753" y="17"/>
                  </a:lnTo>
                  <a:lnTo>
                    <a:pt x="745" y="16"/>
                  </a:lnTo>
                  <a:lnTo>
                    <a:pt x="738" y="16"/>
                  </a:lnTo>
                  <a:lnTo>
                    <a:pt x="732" y="17"/>
                  </a:lnTo>
                  <a:lnTo>
                    <a:pt x="725" y="18"/>
                  </a:lnTo>
                  <a:lnTo>
                    <a:pt x="720" y="21"/>
                  </a:lnTo>
                  <a:lnTo>
                    <a:pt x="710" y="29"/>
                  </a:lnTo>
                  <a:lnTo>
                    <a:pt x="699" y="39"/>
                  </a:lnTo>
                  <a:lnTo>
                    <a:pt x="692" y="50"/>
                  </a:lnTo>
                  <a:lnTo>
                    <a:pt x="685" y="63"/>
                  </a:lnTo>
                  <a:lnTo>
                    <a:pt x="681" y="74"/>
                  </a:lnTo>
                  <a:lnTo>
                    <a:pt x="676" y="92"/>
                  </a:lnTo>
                  <a:lnTo>
                    <a:pt x="674" y="107"/>
                  </a:lnTo>
                  <a:lnTo>
                    <a:pt x="672" y="123"/>
                  </a:lnTo>
                  <a:lnTo>
                    <a:pt x="672" y="140"/>
                  </a:lnTo>
                  <a:lnTo>
                    <a:pt x="674" y="156"/>
                  </a:lnTo>
                  <a:lnTo>
                    <a:pt x="676" y="172"/>
                  </a:lnTo>
                  <a:lnTo>
                    <a:pt x="681" y="188"/>
                  </a:lnTo>
                  <a:lnTo>
                    <a:pt x="687" y="204"/>
                  </a:lnTo>
                  <a:lnTo>
                    <a:pt x="694" y="218"/>
                  </a:lnTo>
                  <a:lnTo>
                    <a:pt x="701" y="232"/>
                  </a:lnTo>
                  <a:lnTo>
                    <a:pt x="711" y="245"/>
                  </a:lnTo>
                  <a:lnTo>
                    <a:pt x="721" y="258"/>
                  </a:lnTo>
                  <a:lnTo>
                    <a:pt x="731" y="270"/>
                  </a:lnTo>
                  <a:lnTo>
                    <a:pt x="744" y="281"/>
                  </a:lnTo>
                  <a:lnTo>
                    <a:pt x="757" y="291"/>
                  </a:lnTo>
                  <a:lnTo>
                    <a:pt x="770" y="301"/>
                  </a:lnTo>
                  <a:lnTo>
                    <a:pt x="786" y="310"/>
                  </a:lnTo>
                  <a:lnTo>
                    <a:pt x="803" y="317"/>
                  </a:lnTo>
                  <a:lnTo>
                    <a:pt x="820" y="323"/>
                  </a:lnTo>
                  <a:lnTo>
                    <a:pt x="839" y="329"/>
                  </a:lnTo>
                  <a:lnTo>
                    <a:pt x="857" y="333"/>
                  </a:lnTo>
                  <a:lnTo>
                    <a:pt x="876" y="336"/>
                  </a:lnTo>
                  <a:lnTo>
                    <a:pt x="915" y="340"/>
                  </a:lnTo>
                  <a:lnTo>
                    <a:pt x="955" y="340"/>
                  </a:lnTo>
                  <a:lnTo>
                    <a:pt x="994" y="340"/>
                  </a:lnTo>
                  <a:lnTo>
                    <a:pt x="1031" y="337"/>
                  </a:lnTo>
                  <a:lnTo>
                    <a:pt x="1067" y="333"/>
                  </a:lnTo>
                  <a:lnTo>
                    <a:pt x="1096" y="326"/>
                  </a:lnTo>
                  <a:lnTo>
                    <a:pt x="1139" y="314"/>
                  </a:lnTo>
                  <a:lnTo>
                    <a:pt x="1179" y="300"/>
                  </a:lnTo>
                  <a:lnTo>
                    <a:pt x="1191" y="294"/>
                  </a:lnTo>
                  <a:lnTo>
                    <a:pt x="1193" y="293"/>
                  </a:lnTo>
                  <a:lnTo>
                    <a:pt x="1193" y="291"/>
                  </a:lnTo>
                </a:path>
              </a:pathLst>
            </a:custGeom>
            <a:noFill/>
            <a:ln w="460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198" name="Freeform 25"/>
            <p:cNvSpPr/>
            <p:nvPr/>
          </p:nvSpPr>
          <p:spPr>
            <a:xfrm>
              <a:off x="8136000" y="3876840"/>
              <a:ext cx="420480" cy="3283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8"/>
                  </a:lnTo>
                  <a:lnTo>
                    <a:pt x="342" y="70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9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8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6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2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1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6"/>
            <p:cNvSpPr/>
            <p:nvPr/>
          </p:nvSpPr>
          <p:spPr>
            <a:xfrm>
              <a:off x="8556480" y="3897360"/>
              <a:ext cx="301680" cy="2998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8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2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6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6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5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1"/>
                  </a:lnTo>
                  <a:lnTo>
                    <a:pt x="377" y="178"/>
                  </a:lnTo>
                  <a:lnTo>
                    <a:pt x="373" y="194"/>
                  </a:lnTo>
                  <a:lnTo>
                    <a:pt x="367" y="209"/>
                  </a:lnTo>
                  <a:lnTo>
                    <a:pt x="360" y="227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3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7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8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203" name="Freeform 29"/>
            <p:cNvSpPr/>
            <p:nvPr/>
          </p:nvSpPr>
          <p:spPr>
            <a:xfrm>
              <a:off x="8136000" y="446400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49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4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1"/>
                  </a:lnTo>
                  <a:lnTo>
                    <a:pt x="17" y="87"/>
                  </a:lnTo>
                  <a:lnTo>
                    <a:pt x="9" y="104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3"/>
                  </a:lnTo>
                  <a:lnTo>
                    <a:pt x="16" y="212"/>
                  </a:lnTo>
                  <a:lnTo>
                    <a:pt x="25" y="229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2"/>
                  </a:lnTo>
                  <a:lnTo>
                    <a:pt x="86" y="300"/>
                  </a:lnTo>
                  <a:lnTo>
                    <a:pt x="105" y="315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4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8556480" y="4484520"/>
              <a:ext cx="301680" cy="301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79" h="378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5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5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4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6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5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8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208" name="Freeform 33"/>
            <p:cNvSpPr/>
            <p:nvPr/>
          </p:nvSpPr>
          <p:spPr>
            <a:xfrm>
              <a:off x="8136000" y="503712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5">
                  <a:moveTo>
                    <a:pt x="532" y="405"/>
                  </a:moveTo>
                  <a:lnTo>
                    <a:pt x="532" y="405"/>
                  </a:lnTo>
                  <a:lnTo>
                    <a:pt x="524" y="384"/>
                  </a:lnTo>
                  <a:lnTo>
                    <a:pt x="516" y="359"/>
                  </a:lnTo>
                  <a:lnTo>
                    <a:pt x="503" y="328"/>
                  </a:lnTo>
                  <a:lnTo>
                    <a:pt x="487" y="292"/>
                  </a:lnTo>
                  <a:lnTo>
                    <a:pt x="468" y="251"/>
                  </a:lnTo>
                  <a:lnTo>
                    <a:pt x="445" y="208"/>
                  </a:lnTo>
                  <a:lnTo>
                    <a:pt x="421" y="167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6"/>
                  </a:lnTo>
                  <a:lnTo>
                    <a:pt x="359" y="88"/>
                  </a:lnTo>
                  <a:lnTo>
                    <a:pt x="342" y="71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9"/>
                  </a:lnTo>
                  <a:lnTo>
                    <a:pt x="266" y="17"/>
                  </a:lnTo>
                  <a:lnTo>
                    <a:pt x="246" y="10"/>
                  </a:lnTo>
                  <a:lnTo>
                    <a:pt x="224" y="5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9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17" y="89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3" y="177"/>
                  </a:lnTo>
                  <a:lnTo>
                    <a:pt x="9" y="194"/>
                  </a:lnTo>
                  <a:lnTo>
                    <a:pt x="16" y="213"/>
                  </a:lnTo>
                  <a:lnTo>
                    <a:pt x="25" y="231"/>
                  </a:lnTo>
                  <a:lnTo>
                    <a:pt x="38" y="250"/>
                  </a:lnTo>
                  <a:lnTo>
                    <a:pt x="52" y="267"/>
                  </a:lnTo>
                  <a:lnTo>
                    <a:pt x="68" y="284"/>
                  </a:lnTo>
                  <a:lnTo>
                    <a:pt x="86" y="300"/>
                  </a:lnTo>
                  <a:lnTo>
                    <a:pt x="105" y="318"/>
                  </a:lnTo>
                  <a:lnTo>
                    <a:pt x="128" y="332"/>
                  </a:lnTo>
                  <a:lnTo>
                    <a:pt x="151" y="346"/>
                  </a:lnTo>
                  <a:lnTo>
                    <a:pt x="175" y="359"/>
                  </a:lnTo>
                  <a:lnTo>
                    <a:pt x="203" y="372"/>
                  </a:lnTo>
                  <a:lnTo>
                    <a:pt x="230" y="382"/>
                  </a:lnTo>
                  <a:lnTo>
                    <a:pt x="260" y="392"/>
                  </a:lnTo>
                  <a:lnTo>
                    <a:pt x="290" y="399"/>
                  </a:lnTo>
                  <a:lnTo>
                    <a:pt x="322" y="407"/>
                  </a:lnTo>
                  <a:lnTo>
                    <a:pt x="355" y="411"/>
                  </a:lnTo>
                  <a:lnTo>
                    <a:pt x="388" y="414"/>
                  </a:lnTo>
                  <a:lnTo>
                    <a:pt x="422" y="415"/>
                  </a:lnTo>
                  <a:lnTo>
                    <a:pt x="458" y="414"/>
                  </a:lnTo>
                  <a:lnTo>
                    <a:pt x="494" y="411"/>
                  </a:lnTo>
                  <a:lnTo>
                    <a:pt x="532" y="4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4"/>
            <p:cNvSpPr/>
            <p:nvPr/>
          </p:nvSpPr>
          <p:spPr>
            <a:xfrm>
              <a:off x="8556480" y="505764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7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08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5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6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62" y="7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7"/>
                  </a:lnTo>
                  <a:lnTo>
                    <a:pt x="277" y="14"/>
                  </a:lnTo>
                  <a:lnTo>
                    <a:pt x="295" y="24"/>
                  </a:lnTo>
                  <a:lnTo>
                    <a:pt x="313" y="33"/>
                  </a:lnTo>
                  <a:lnTo>
                    <a:pt x="328" y="44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3"/>
                  </a:lnTo>
                  <a:lnTo>
                    <a:pt x="369" y="97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6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5"/>
                  </a:lnTo>
                  <a:lnTo>
                    <a:pt x="350" y="241"/>
                  </a:lnTo>
                  <a:lnTo>
                    <a:pt x="340" y="256"/>
                  </a:lnTo>
                  <a:lnTo>
                    <a:pt x="325" y="271"/>
                  </a:lnTo>
                  <a:lnTo>
                    <a:pt x="311" y="287"/>
                  </a:lnTo>
                  <a:lnTo>
                    <a:pt x="295" y="300"/>
                  </a:lnTo>
                  <a:lnTo>
                    <a:pt x="277" y="312"/>
                  </a:lnTo>
                  <a:lnTo>
                    <a:pt x="257" y="325"/>
                  </a:lnTo>
                  <a:lnTo>
                    <a:pt x="235" y="335"/>
                  </a:lnTo>
                  <a:lnTo>
                    <a:pt x="211" y="345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3"/>
                  </a:lnTo>
                  <a:lnTo>
                    <a:pt x="68" y="376"/>
                  </a:lnTo>
                  <a:lnTo>
                    <a:pt x="34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6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213" name="Freeform 37"/>
            <p:cNvSpPr/>
            <p:nvPr/>
          </p:nvSpPr>
          <p:spPr>
            <a:xfrm>
              <a:off x="8136000" y="562608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7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8556480" y="564660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218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222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226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230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34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235" name="Freeform 5"/>
            <p:cNvSpPr/>
            <p:nvPr/>
          </p:nvSpPr>
          <p:spPr>
            <a:xfrm>
              <a:off x="1522440" y="4049640"/>
              <a:ext cx="3232080" cy="1781640"/>
            </a:xfrm>
            <a:custGeom>
              <a:avLst/>
              <a:gdLst>
                <a:gd name="textAreaLeft" fmla="*/ 0 w 3232080"/>
                <a:gd name="textAreaRight" fmla="*/ 3232440 w 3232080"/>
                <a:gd name="textAreaTop" fmla="*/ 0 h 1781640"/>
                <a:gd name="textAreaBottom" fmla="*/ 1782000 h 1781640"/>
              </a:gdLst>
              <a:ahLst/>
              <a:rect l="textAreaLeft" t="textAreaTop" r="textAreaRight" b="textAreaBottom"/>
              <a:pathLst>
                <a:path w="4072" h="2246">
                  <a:moveTo>
                    <a:pt x="0" y="2246"/>
                  </a:moveTo>
                  <a:lnTo>
                    <a:pt x="1966" y="2246"/>
                  </a:lnTo>
                  <a:lnTo>
                    <a:pt x="4072" y="1428"/>
                  </a:lnTo>
                  <a:lnTo>
                    <a:pt x="3671" y="0"/>
                  </a:lnTo>
                  <a:lnTo>
                    <a:pt x="1914" y="818"/>
                  </a:lnTo>
                  <a:lnTo>
                    <a:pt x="382" y="818"/>
                  </a:lnTo>
                  <a:lnTo>
                    <a:pt x="0" y="2246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9"/>
            <p:cNvSpPr/>
            <p:nvPr/>
          </p:nvSpPr>
          <p:spPr>
            <a:xfrm>
              <a:off x="3041640" y="46990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3048120" y="4854600"/>
              <a:ext cx="144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11"/>
            <p:cNvSpPr/>
            <p:nvPr/>
          </p:nvSpPr>
          <p:spPr>
            <a:xfrm>
              <a:off x="3054240" y="5011920"/>
              <a:ext cx="144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2"/>
            <p:cNvSpPr/>
            <p:nvPr/>
          </p:nvSpPr>
          <p:spPr>
            <a:xfrm>
              <a:off x="3058920" y="51688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13"/>
            <p:cNvSpPr/>
            <p:nvPr/>
          </p:nvSpPr>
          <p:spPr>
            <a:xfrm>
              <a:off x="3063960" y="5324760"/>
              <a:ext cx="288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4"/>
            <p:cNvSpPr/>
            <p:nvPr/>
          </p:nvSpPr>
          <p:spPr>
            <a:xfrm>
              <a:off x="3070080" y="548172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5"/>
            <p:cNvSpPr/>
            <p:nvPr/>
          </p:nvSpPr>
          <p:spPr>
            <a:xfrm>
              <a:off x="3075120" y="5639040"/>
              <a:ext cx="46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6"/>
            <p:cNvSpPr/>
            <p:nvPr/>
          </p:nvSpPr>
          <p:spPr>
            <a:xfrm>
              <a:off x="3081240" y="5794560"/>
              <a:ext cx="2880" cy="6012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248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9"/>
            <p:cNvSpPr/>
            <p:nvPr/>
          </p:nvSpPr>
          <p:spPr>
            <a:xfrm>
              <a:off x="44928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0"/>
            <p:cNvSpPr/>
            <p:nvPr/>
          </p:nvSpPr>
          <p:spPr>
            <a:xfrm>
              <a:off x="464976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1"/>
            <p:cNvSpPr/>
            <p:nvPr/>
          </p:nvSpPr>
          <p:spPr>
            <a:xfrm>
              <a:off x="480564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22"/>
            <p:cNvSpPr/>
            <p:nvPr/>
          </p:nvSpPr>
          <p:spPr>
            <a:xfrm>
              <a:off x="49626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23"/>
            <p:cNvSpPr/>
            <p:nvPr/>
          </p:nvSpPr>
          <p:spPr>
            <a:xfrm>
              <a:off x="511848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4"/>
            <p:cNvSpPr/>
            <p:nvPr/>
          </p:nvSpPr>
          <p:spPr>
            <a:xfrm>
              <a:off x="5275440" y="5043240"/>
              <a:ext cx="3168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256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25"/>
            <p:cNvSpPr/>
            <p:nvPr/>
          </p:nvSpPr>
          <p:spPr>
            <a:xfrm flipH="1" flipV="1">
              <a:off x="1714680" y="5637960"/>
              <a:ext cx="56880" cy="536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26"/>
            <p:cNvSpPr/>
            <p:nvPr/>
          </p:nvSpPr>
          <p:spPr>
            <a:xfrm flipH="1" flipV="1">
              <a:off x="1604880" y="552744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27"/>
            <p:cNvSpPr/>
            <p:nvPr/>
          </p:nvSpPr>
          <p:spPr>
            <a:xfrm flipH="1" flipV="1">
              <a:off x="1494000" y="541620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28"/>
            <p:cNvSpPr/>
            <p:nvPr/>
          </p:nvSpPr>
          <p:spPr>
            <a:xfrm flipH="1">
              <a:off x="1339920" y="541008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29"/>
            <p:cNvSpPr/>
            <p:nvPr/>
          </p:nvSpPr>
          <p:spPr>
            <a:xfrm flipH="1">
              <a:off x="1182600" y="541008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0"/>
            <p:cNvSpPr/>
            <p:nvPr/>
          </p:nvSpPr>
          <p:spPr>
            <a:xfrm flipH="1">
              <a:off x="1095480" y="5410080"/>
              <a:ext cx="93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264" name="Freeform 31"/>
            <p:cNvSpPr/>
            <p:nvPr/>
          </p:nvSpPr>
          <p:spPr>
            <a:xfrm>
              <a:off x="1454040" y="2349360"/>
              <a:ext cx="2016360" cy="20181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2018160"/>
                <a:gd name="textAreaBottom" fmla="*/ 2018520 h 2018160"/>
              </a:gdLst>
              <a:ahLst/>
              <a:rect l="textAreaLeft" t="textAreaTop" r="textAreaRight" b="textAreaBottom"/>
              <a:pathLst>
                <a:path w="2540" h="2542">
                  <a:moveTo>
                    <a:pt x="2540" y="1271"/>
                  </a:moveTo>
                  <a:lnTo>
                    <a:pt x="2540" y="1271"/>
                  </a:lnTo>
                  <a:lnTo>
                    <a:pt x="2539" y="1336"/>
                  </a:lnTo>
                  <a:lnTo>
                    <a:pt x="2533" y="1401"/>
                  </a:lnTo>
                  <a:lnTo>
                    <a:pt x="2526" y="1465"/>
                  </a:lnTo>
                  <a:lnTo>
                    <a:pt x="2514" y="1528"/>
                  </a:lnTo>
                  <a:lnTo>
                    <a:pt x="2500" y="1588"/>
                  </a:lnTo>
                  <a:lnTo>
                    <a:pt x="2482" y="1649"/>
                  </a:lnTo>
                  <a:lnTo>
                    <a:pt x="2463" y="1707"/>
                  </a:lnTo>
                  <a:lnTo>
                    <a:pt x="2440" y="1765"/>
                  </a:lnTo>
                  <a:lnTo>
                    <a:pt x="2414" y="1822"/>
                  </a:lnTo>
                  <a:lnTo>
                    <a:pt x="2387" y="1877"/>
                  </a:lnTo>
                  <a:lnTo>
                    <a:pt x="2356" y="1931"/>
                  </a:lnTo>
                  <a:lnTo>
                    <a:pt x="2323" y="1982"/>
                  </a:lnTo>
                  <a:lnTo>
                    <a:pt x="2288" y="2031"/>
                  </a:lnTo>
                  <a:lnTo>
                    <a:pt x="2250" y="2080"/>
                  </a:lnTo>
                  <a:lnTo>
                    <a:pt x="2210" y="2125"/>
                  </a:lnTo>
                  <a:lnTo>
                    <a:pt x="2168" y="2170"/>
                  </a:lnTo>
                  <a:lnTo>
                    <a:pt x="2124" y="2212"/>
                  </a:lnTo>
                  <a:lnTo>
                    <a:pt x="2078" y="2251"/>
                  </a:lnTo>
                  <a:lnTo>
                    <a:pt x="2030" y="2289"/>
                  </a:lnTo>
                  <a:lnTo>
                    <a:pt x="1979" y="2325"/>
                  </a:lnTo>
                  <a:lnTo>
                    <a:pt x="1928" y="2359"/>
                  </a:lnTo>
                  <a:lnTo>
                    <a:pt x="1875" y="2389"/>
                  </a:lnTo>
                  <a:lnTo>
                    <a:pt x="1820" y="2417"/>
                  </a:lnTo>
                  <a:lnTo>
                    <a:pt x="1764" y="2441"/>
                  </a:lnTo>
                  <a:lnTo>
                    <a:pt x="1706" y="2465"/>
                  </a:lnTo>
                  <a:lnTo>
                    <a:pt x="1647" y="2485"/>
                  </a:lnTo>
                  <a:lnTo>
                    <a:pt x="1588" y="2502"/>
                  </a:lnTo>
                  <a:lnTo>
                    <a:pt x="1525" y="2517"/>
                  </a:lnTo>
                  <a:lnTo>
                    <a:pt x="1463" y="2527"/>
                  </a:lnTo>
                  <a:lnTo>
                    <a:pt x="1399" y="2536"/>
                  </a:lnTo>
                  <a:lnTo>
                    <a:pt x="1335" y="2540"/>
                  </a:lnTo>
                  <a:lnTo>
                    <a:pt x="1270" y="2542"/>
                  </a:lnTo>
                  <a:lnTo>
                    <a:pt x="1205" y="2540"/>
                  </a:lnTo>
                  <a:lnTo>
                    <a:pt x="1139" y="2536"/>
                  </a:lnTo>
                  <a:lnTo>
                    <a:pt x="1076" y="2527"/>
                  </a:lnTo>
                  <a:lnTo>
                    <a:pt x="1013" y="2517"/>
                  </a:lnTo>
                  <a:lnTo>
                    <a:pt x="952" y="2502"/>
                  </a:lnTo>
                  <a:lnTo>
                    <a:pt x="891" y="2485"/>
                  </a:lnTo>
                  <a:lnTo>
                    <a:pt x="832" y="2465"/>
                  </a:lnTo>
                  <a:lnTo>
                    <a:pt x="775" y="2441"/>
                  </a:lnTo>
                  <a:lnTo>
                    <a:pt x="719" y="2417"/>
                  </a:lnTo>
                  <a:lnTo>
                    <a:pt x="664" y="2389"/>
                  </a:lnTo>
                  <a:lnTo>
                    <a:pt x="610" y="2359"/>
                  </a:lnTo>
                  <a:lnTo>
                    <a:pt x="559" y="2325"/>
                  </a:lnTo>
                  <a:lnTo>
                    <a:pt x="509" y="2289"/>
                  </a:lnTo>
                  <a:lnTo>
                    <a:pt x="461" y="2251"/>
                  </a:lnTo>
                  <a:lnTo>
                    <a:pt x="416" y="2212"/>
                  </a:lnTo>
                  <a:lnTo>
                    <a:pt x="371" y="2170"/>
                  </a:lnTo>
                  <a:lnTo>
                    <a:pt x="329" y="2125"/>
                  </a:lnTo>
                  <a:lnTo>
                    <a:pt x="290" y="2080"/>
                  </a:lnTo>
                  <a:lnTo>
                    <a:pt x="252" y="2031"/>
                  </a:lnTo>
                  <a:lnTo>
                    <a:pt x="216" y="1982"/>
                  </a:lnTo>
                  <a:lnTo>
                    <a:pt x="182" y="1931"/>
                  </a:lnTo>
                  <a:lnTo>
                    <a:pt x="152" y="1877"/>
                  </a:lnTo>
                  <a:lnTo>
                    <a:pt x="124" y="1822"/>
                  </a:lnTo>
                  <a:lnTo>
                    <a:pt x="98" y="1765"/>
                  </a:lnTo>
                  <a:lnTo>
                    <a:pt x="76" y="1707"/>
                  </a:lnTo>
                  <a:lnTo>
                    <a:pt x="56" y="1649"/>
                  </a:lnTo>
                  <a:lnTo>
                    <a:pt x="39" y="1588"/>
                  </a:lnTo>
                  <a:lnTo>
                    <a:pt x="24" y="1528"/>
                  </a:lnTo>
                  <a:lnTo>
                    <a:pt x="14" y="1465"/>
                  </a:lnTo>
                  <a:lnTo>
                    <a:pt x="5" y="1401"/>
                  </a:lnTo>
                  <a:lnTo>
                    <a:pt x="1" y="1336"/>
                  </a:lnTo>
                  <a:lnTo>
                    <a:pt x="0" y="1271"/>
                  </a:lnTo>
                  <a:lnTo>
                    <a:pt x="1" y="1205"/>
                  </a:lnTo>
                  <a:lnTo>
                    <a:pt x="5" y="1142"/>
                  </a:lnTo>
                  <a:lnTo>
                    <a:pt x="14" y="1078"/>
                  </a:lnTo>
                  <a:lnTo>
                    <a:pt x="24" y="1015"/>
                  </a:lnTo>
                  <a:lnTo>
                    <a:pt x="39" y="953"/>
                  </a:lnTo>
                  <a:lnTo>
                    <a:pt x="56" y="894"/>
                  </a:lnTo>
                  <a:lnTo>
                    <a:pt x="76" y="834"/>
                  </a:lnTo>
                  <a:lnTo>
                    <a:pt x="98" y="776"/>
                  </a:lnTo>
                  <a:lnTo>
                    <a:pt x="124" y="720"/>
                  </a:lnTo>
                  <a:lnTo>
                    <a:pt x="152" y="666"/>
                  </a:lnTo>
                  <a:lnTo>
                    <a:pt x="182" y="612"/>
                  </a:lnTo>
                  <a:lnTo>
                    <a:pt x="216" y="560"/>
                  </a:lnTo>
                  <a:lnTo>
                    <a:pt x="252" y="511"/>
                  </a:lnTo>
                  <a:lnTo>
                    <a:pt x="290" y="463"/>
                  </a:lnTo>
                  <a:lnTo>
                    <a:pt x="329" y="416"/>
                  </a:lnTo>
                  <a:lnTo>
                    <a:pt x="371" y="373"/>
                  </a:lnTo>
                  <a:lnTo>
                    <a:pt x="416" y="331"/>
                  </a:lnTo>
                  <a:lnTo>
                    <a:pt x="461" y="290"/>
                  </a:lnTo>
                  <a:lnTo>
                    <a:pt x="509" y="252"/>
                  </a:lnTo>
                  <a:lnTo>
                    <a:pt x="559" y="218"/>
                  </a:lnTo>
                  <a:lnTo>
                    <a:pt x="610" y="184"/>
                  </a:lnTo>
                  <a:lnTo>
                    <a:pt x="664" y="154"/>
                  </a:lnTo>
                  <a:lnTo>
                    <a:pt x="719" y="126"/>
                  </a:lnTo>
                  <a:lnTo>
                    <a:pt x="775" y="100"/>
                  </a:lnTo>
                  <a:lnTo>
                    <a:pt x="832" y="77"/>
                  </a:lnTo>
                  <a:lnTo>
                    <a:pt x="891" y="58"/>
                  </a:lnTo>
                  <a:lnTo>
                    <a:pt x="952" y="41"/>
                  </a:lnTo>
                  <a:lnTo>
                    <a:pt x="1013" y="26"/>
                  </a:lnTo>
                  <a:lnTo>
                    <a:pt x="1076" y="15"/>
                  </a:lnTo>
                  <a:lnTo>
                    <a:pt x="1139" y="7"/>
                  </a:lnTo>
                  <a:lnTo>
                    <a:pt x="1205" y="1"/>
                  </a:lnTo>
                  <a:lnTo>
                    <a:pt x="1270" y="0"/>
                  </a:lnTo>
                  <a:lnTo>
                    <a:pt x="1335" y="1"/>
                  </a:lnTo>
                  <a:lnTo>
                    <a:pt x="1399" y="7"/>
                  </a:lnTo>
                  <a:lnTo>
                    <a:pt x="1463" y="15"/>
                  </a:lnTo>
                  <a:lnTo>
                    <a:pt x="1525" y="26"/>
                  </a:lnTo>
                  <a:lnTo>
                    <a:pt x="1588" y="41"/>
                  </a:lnTo>
                  <a:lnTo>
                    <a:pt x="1647" y="58"/>
                  </a:lnTo>
                  <a:lnTo>
                    <a:pt x="1706" y="77"/>
                  </a:lnTo>
                  <a:lnTo>
                    <a:pt x="1764" y="100"/>
                  </a:lnTo>
                  <a:lnTo>
                    <a:pt x="1820" y="126"/>
                  </a:lnTo>
                  <a:lnTo>
                    <a:pt x="1875" y="154"/>
                  </a:lnTo>
                  <a:lnTo>
                    <a:pt x="1928" y="184"/>
                  </a:lnTo>
                  <a:lnTo>
                    <a:pt x="1979" y="218"/>
                  </a:lnTo>
                  <a:lnTo>
                    <a:pt x="2030" y="252"/>
                  </a:lnTo>
                  <a:lnTo>
                    <a:pt x="2078" y="290"/>
                  </a:lnTo>
                  <a:lnTo>
                    <a:pt x="2124" y="331"/>
                  </a:lnTo>
                  <a:lnTo>
                    <a:pt x="2168" y="373"/>
                  </a:lnTo>
                  <a:lnTo>
                    <a:pt x="2210" y="416"/>
                  </a:lnTo>
                  <a:lnTo>
                    <a:pt x="2250" y="463"/>
                  </a:lnTo>
                  <a:lnTo>
                    <a:pt x="2288" y="511"/>
                  </a:lnTo>
                  <a:lnTo>
                    <a:pt x="2323" y="560"/>
                  </a:lnTo>
                  <a:lnTo>
                    <a:pt x="2356" y="612"/>
                  </a:lnTo>
                  <a:lnTo>
                    <a:pt x="2387" y="666"/>
                  </a:lnTo>
                  <a:lnTo>
                    <a:pt x="2414" y="720"/>
                  </a:lnTo>
                  <a:lnTo>
                    <a:pt x="2440" y="776"/>
                  </a:lnTo>
                  <a:lnTo>
                    <a:pt x="2463" y="834"/>
                  </a:lnTo>
                  <a:lnTo>
                    <a:pt x="2482" y="894"/>
                  </a:lnTo>
                  <a:lnTo>
                    <a:pt x="2500" y="953"/>
                  </a:lnTo>
                  <a:lnTo>
                    <a:pt x="2514" y="1015"/>
                  </a:lnTo>
                  <a:lnTo>
                    <a:pt x="2526" y="1078"/>
                  </a:lnTo>
                  <a:lnTo>
                    <a:pt x="2533" y="1142"/>
                  </a:lnTo>
                  <a:lnTo>
                    <a:pt x="2539" y="1205"/>
                  </a:lnTo>
                  <a:lnTo>
                    <a:pt x="2540" y="1271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2"/>
            <p:cNvSpPr/>
            <p:nvPr/>
          </p:nvSpPr>
          <p:spPr>
            <a:xfrm>
              <a:off x="2158920" y="3351240"/>
              <a:ext cx="600120" cy="15955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757" h="2011">
                  <a:moveTo>
                    <a:pt x="0" y="2011"/>
                  </a:moveTo>
                  <a:lnTo>
                    <a:pt x="0" y="26"/>
                  </a:lnTo>
                  <a:lnTo>
                    <a:pt x="209" y="235"/>
                  </a:lnTo>
                  <a:lnTo>
                    <a:pt x="409" y="35"/>
                  </a:lnTo>
                  <a:lnTo>
                    <a:pt x="566" y="192"/>
                  </a:lnTo>
                  <a:lnTo>
                    <a:pt x="757" y="0"/>
                  </a:lnTo>
                  <a:lnTo>
                    <a:pt x="757" y="1993"/>
                  </a:lnTo>
                  <a:lnTo>
                    <a:pt x="0" y="201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267" name="Freeform 33"/>
            <p:cNvSpPr/>
            <p:nvPr/>
          </p:nvSpPr>
          <p:spPr>
            <a:xfrm>
              <a:off x="1915920" y="4370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7"/>
                  </a:moveTo>
                  <a:lnTo>
                    <a:pt x="191" y="97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79" y="142"/>
                  </a:lnTo>
                  <a:lnTo>
                    <a:pt x="175" y="151"/>
                  </a:lnTo>
                  <a:lnTo>
                    <a:pt x="169" y="158"/>
                  </a:lnTo>
                  <a:lnTo>
                    <a:pt x="163" y="164"/>
                  </a:lnTo>
                  <a:lnTo>
                    <a:pt x="156" y="171"/>
                  </a:lnTo>
                  <a:lnTo>
                    <a:pt x="149" y="177"/>
                  </a:lnTo>
                  <a:lnTo>
                    <a:pt x="140" y="181"/>
                  </a:lnTo>
                  <a:lnTo>
                    <a:pt x="133" y="186"/>
                  </a:lnTo>
                  <a:lnTo>
                    <a:pt x="124" y="188"/>
                  </a:lnTo>
                  <a:lnTo>
                    <a:pt x="114" y="190"/>
                  </a:lnTo>
                  <a:lnTo>
                    <a:pt x="105" y="191"/>
                  </a:lnTo>
                  <a:lnTo>
                    <a:pt x="95" y="193"/>
                  </a:lnTo>
                  <a:lnTo>
                    <a:pt x="85" y="191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8" y="186"/>
                  </a:lnTo>
                  <a:lnTo>
                    <a:pt x="49" y="181"/>
                  </a:lnTo>
                  <a:lnTo>
                    <a:pt x="42" y="177"/>
                  </a:lnTo>
                  <a:lnTo>
                    <a:pt x="34" y="171"/>
                  </a:lnTo>
                  <a:lnTo>
                    <a:pt x="27" y="164"/>
                  </a:lnTo>
                  <a:lnTo>
                    <a:pt x="21" y="158"/>
                  </a:lnTo>
                  <a:lnTo>
                    <a:pt x="16" y="151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9"/>
                  </a:lnTo>
                  <a:lnTo>
                    <a:pt x="66" y="4"/>
                  </a:lnTo>
                  <a:lnTo>
                    <a:pt x="76" y="3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4" y="4"/>
                  </a:lnTo>
                  <a:lnTo>
                    <a:pt x="133" y="9"/>
                  </a:lnTo>
                  <a:lnTo>
                    <a:pt x="140" y="11"/>
                  </a:lnTo>
                  <a:lnTo>
                    <a:pt x="149" y="17"/>
                  </a:lnTo>
                  <a:lnTo>
                    <a:pt x="156" y="23"/>
                  </a:lnTo>
                  <a:lnTo>
                    <a:pt x="163" y="29"/>
                  </a:lnTo>
                  <a:lnTo>
                    <a:pt x="169" y="36"/>
                  </a:lnTo>
                  <a:lnTo>
                    <a:pt x="175" y="43"/>
                  </a:lnTo>
                  <a:lnTo>
                    <a:pt x="179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9"/>
            <p:cNvSpPr/>
            <p:nvPr/>
          </p:nvSpPr>
          <p:spPr>
            <a:xfrm>
              <a:off x="2334960" y="437040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3" y="106"/>
                  </a:lnTo>
                  <a:lnTo>
                    <a:pt x="192" y="116"/>
                  </a:lnTo>
                  <a:lnTo>
                    <a:pt x="189" y="125"/>
                  </a:lnTo>
                  <a:lnTo>
                    <a:pt x="186" y="133"/>
                  </a:lnTo>
                  <a:lnTo>
                    <a:pt x="182" y="142"/>
                  </a:lnTo>
                  <a:lnTo>
                    <a:pt x="177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1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8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4" y="177"/>
                  </a:lnTo>
                  <a:lnTo>
                    <a:pt x="37" y="171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4" y="36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1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7" y="43"/>
                  </a:lnTo>
                  <a:lnTo>
                    <a:pt x="182" y="51"/>
                  </a:lnTo>
                  <a:lnTo>
                    <a:pt x="186" y="59"/>
                  </a:lnTo>
                  <a:lnTo>
                    <a:pt x="189" y="68"/>
                  </a:lnTo>
                  <a:lnTo>
                    <a:pt x="192" y="77"/>
                  </a:lnTo>
                  <a:lnTo>
                    <a:pt x="193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278604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2" y="106"/>
                  </a:lnTo>
                  <a:lnTo>
                    <a:pt x="190" y="116"/>
                  </a:lnTo>
                  <a:lnTo>
                    <a:pt x="189" y="125"/>
                  </a:lnTo>
                  <a:lnTo>
                    <a:pt x="185" y="133"/>
                  </a:lnTo>
                  <a:lnTo>
                    <a:pt x="182" y="142"/>
                  </a:lnTo>
                  <a:lnTo>
                    <a:pt x="176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0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2" y="177"/>
                  </a:lnTo>
                  <a:lnTo>
                    <a:pt x="35" y="171"/>
                  </a:lnTo>
                  <a:lnTo>
                    <a:pt x="29" y="164"/>
                  </a:lnTo>
                  <a:lnTo>
                    <a:pt x="22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8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8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0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6" y="43"/>
                  </a:lnTo>
                  <a:lnTo>
                    <a:pt x="182" y="51"/>
                  </a:lnTo>
                  <a:lnTo>
                    <a:pt x="185" y="59"/>
                  </a:lnTo>
                  <a:lnTo>
                    <a:pt x="189" y="68"/>
                  </a:lnTo>
                  <a:lnTo>
                    <a:pt x="190" y="77"/>
                  </a:lnTo>
                  <a:lnTo>
                    <a:pt x="192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1"/>
            <p:cNvSpPr/>
            <p:nvPr/>
          </p:nvSpPr>
          <p:spPr>
            <a:xfrm>
              <a:off x="210636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3" y="184"/>
                  </a:lnTo>
                  <a:lnTo>
                    <a:pt x="125" y="188"/>
                  </a:lnTo>
                  <a:lnTo>
                    <a:pt x="114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7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7"/>
            <p:cNvSpPr/>
            <p:nvPr/>
          </p:nvSpPr>
          <p:spPr>
            <a:xfrm>
              <a:off x="255564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2" y="184"/>
                  </a:lnTo>
                  <a:lnTo>
                    <a:pt x="123" y="188"/>
                  </a:lnTo>
                  <a:lnTo>
                    <a:pt x="114" y="190"/>
                  </a:lnTo>
                  <a:lnTo>
                    <a:pt x="104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5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5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298" name="Freeform 63"/>
            <p:cNvSpPr/>
            <p:nvPr/>
          </p:nvSpPr>
          <p:spPr>
            <a:xfrm>
              <a:off x="6391440" y="3944880"/>
              <a:ext cx="1182600" cy="15382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w="1490" h="1938">
                  <a:moveTo>
                    <a:pt x="528" y="1866"/>
                  </a:moveTo>
                  <a:lnTo>
                    <a:pt x="528" y="1866"/>
                  </a:lnTo>
                  <a:lnTo>
                    <a:pt x="531" y="1864"/>
                  </a:lnTo>
                  <a:lnTo>
                    <a:pt x="534" y="1864"/>
                  </a:lnTo>
                  <a:lnTo>
                    <a:pt x="544" y="1866"/>
                  </a:lnTo>
                  <a:lnTo>
                    <a:pt x="553" y="1867"/>
                  </a:lnTo>
                  <a:lnTo>
                    <a:pt x="559" y="1867"/>
                  </a:lnTo>
                  <a:lnTo>
                    <a:pt x="563" y="1866"/>
                  </a:lnTo>
                  <a:lnTo>
                    <a:pt x="563" y="1848"/>
                  </a:lnTo>
                  <a:lnTo>
                    <a:pt x="567" y="1847"/>
                  </a:lnTo>
                  <a:lnTo>
                    <a:pt x="573" y="1847"/>
                  </a:lnTo>
                  <a:lnTo>
                    <a:pt x="583" y="1848"/>
                  </a:lnTo>
                  <a:lnTo>
                    <a:pt x="592" y="1850"/>
                  </a:lnTo>
                  <a:lnTo>
                    <a:pt x="595" y="1850"/>
                  </a:lnTo>
                  <a:lnTo>
                    <a:pt x="598" y="1848"/>
                  </a:lnTo>
                  <a:lnTo>
                    <a:pt x="618" y="1828"/>
                  </a:lnTo>
                  <a:lnTo>
                    <a:pt x="639" y="1808"/>
                  </a:lnTo>
                  <a:lnTo>
                    <a:pt x="679" y="1771"/>
                  </a:lnTo>
                  <a:lnTo>
                    <a:pt x="698" y="1754"/>
                  </a:lnTo>
                  <a:lnTo>
                    <a:pt x="718" y="1735"/>
                  </a:lnTo>
                  <a:lnTo>
                    <a:pt x="737" y="1715"/>
                  </a:lnTo>
                  <a:lnTo>
                    <a:pt x="755" y="1692"/>
                  </a:lnTo>
                  <a:lnTo>
                    <a:pt x="757" y="1677"/>
                  </a:lnTo>
                  <a:lnTo>
                    <a:pt x="759" y="1661"/>
                  </a:lnTo>
                  <a:lnTo>
                    <a:pt x="757" y="1649"/>
                  </a:lnTo>
                  <a:lnTo>
                    <a:pt x="756" y="1647"/>
                  </a:lnTo>
                  <a:lnTo>
                    <a:pt x="755" y="1645"/>
                  </a:lnTo>
                  <a:lnTo>
                    <a:pt x="710" y="1623"/>
                  </a:lnTo>
                  <a:lnTo>
                    <a:pt x="688" y="1612"/>
                  </a:lnTo>
                  <a:lnTo>
                    <a:pt x="669" y="1599"/>
                  </a:lnTo>
                  <a:lnTo>
                    <a:pt x="650" y="1586"/>
                  </a:lnTo>
                  <a:lnTo>
                    <a:pt x="633" y="1570"/>
                  </a:lnTo>
                  <a:lnTo>
                    <a:pt x="618" y="1554"/>
                  </a:lnTo>
                  <a:lnTo>
                    <a:pt x="604" y="1535"/>
                  </a:lnTo>
                  <a:lnTo>
                    <a:pt x="599" y="1528"/>
                  </a:lnTo>
                  <a:lnTo>
                    <a:pt x="598" y="1520"/>
                  </a:lnTo>
                  <a:lnTo>
                    <a:pt x="595" y="1512"/>
                  </a:lnTo>
                  <a:lnTo>
                    <a:pt x="595" y="1502"/>
                  </a:lnTo>
                  <a:lnTo>
                    <a:pt x="595" y="1493"/>
                  </a:lnTo>
                  <a:lnTo>
                    <a:pt x="598" y="1484"/>
                  </a:lnTo>
                  <a:lnTo>
                    <a:pt x="599" y="1474"/>
                  </a:lnTo>
                  <a:lnTo>
                    <a:pt x="604" y="1465"/>
                  </a:lnTo>
                  <a:lnTo>
                    <a:pt x="605" y="1464"/>
                  </a:lnTo>
                  <a:lnTo>
                    <a:pt x="607" y="1464"/>
                  </a:lnTo>
                  <a:lnTo>
                    <a:pt x="614" y="1465"/>
                  </a:lnTo>
                  <a:lnTo>
                    <a:pt x="624" y="1467"/>
                  </a:lnTo>
                  <a:lnTo>
                    <a:pt x="628" y="1467"/>
                  </a:lnTo>
                  <a:lnTo>
                    <a:pt x="633" y="1465"/>
                  </a:lnTo>
                  <a:lnTo>
                    <a:pt x="633" y="1448"/>
                  </a:lnTo>
                  <a:lnTo>
                    <a:pt x="637" y="1446"/>
                  </a:lnTo>
                  <a:lnTo>
                    <a:pt x="643" y="1446"/>
                  </a:lnTo>
                  <a:lnTo>
                    <a:pt x="653" y="1448"/>
                  </a:lnTo>
                  <a:lnTo>
                    <a:pt x="662" y="1449"/>
                  </a:lnTo>
                  <a:lnTo>
                    <a:pt x="665" y="1449"/>
                  </a:lnTo>
                  <a:lnTo>
                    <a:pt x="668" y="1448"/>
                  </a:lnTo>
                  <a:lnTo>
                    <a:pt x="669" y="1445"/>
                  </a:lnTo>
                  <a:lnTo>
                    <a:pt x="669" y="1441"/>
                  </a:lnTo>
                  <a:lnTo>
                    <a:pt x="668" y="1430"/>
                  </a:lnTo>
                  <a:lnTo>
                    <a:pt x="666" y="1420"/>
                  </a:lnTo>
                  <a:lnTo>
                    <a:pt x="666" y="1416"/>
                  </a:lnTo>
                  <a:lnTo>
                    <a:pt x="668" y="1413"/>
                  </a:lnTo>
                  <a:lnTo>
                    <a:pt x="675" y="1404"/>
                  </a:lnTo>
                  <a:lnTo>
                    <a:pt x="679" y="1397"/>
                  </a:lnTo>
                  <a:lnTo>
                    <a:pt x="682" y="1391"/>
                  </a:lnTo>
                  <a:lnTo>
                    <a:pt x="683" y="1384"/>
                  </a:lnTo>
                  <a:lnTo>
                    <a:pt x="683" y="1372"/>
                  </a:lnTo>
                  <a:lnTo>
                    <a:pt x="683" y="1367"/>
                  </a:lnTo>
                  <a:lnTo>
                    <a:pt x="685" y="1361"/>
                  </a:lnTo>
                  <a:lnTo>
                    <a:pt x="702" y="1361"/>
                  </a:lnTo>
                  <a:lnTo>
                    <a:pt x="701" y="1356"/>
                  </a:lnTo>
                  <a:lnTo>
                    <a:pt x="701" y="1354"/>
                  </a:lnTo>
                  <a:lnTo>
                    <a:pt x="702" y="1346"/>
                  </a:lnTo>
                  <a:lnTo>
                    <a:pt x="705" y="1341"/>
                  </a:lnTo>
                  <a:lnTo>
                    <a:pt x="711" y="1335"/>
                  </a:lnTo>
                  <a:lnTo>
                    <a:pt x="717" y="1329"/>
                  </a:lnTo>
                  <a:lnTo>
                    <a:pt x="720" y="1323"/>
                  </a:lnTo>
                  <a:lnTo>
                    <a:pt x="721" y="1316"/>
                  </a:lnTo>
                  <a:lnTo>
                    <a:pt x="721" y="1313"/>
                  </a:lnTo>
                  <a:lnTo>
                    <a:pt x="720" y="1309"/>
                  </a:lnTo>
                  <a:lnTo>
                    <a:pt x="737" y="1309"/>
                  </a:lnTo>
                  <a:lnTo>
                    <a:pt x="737" y="1291"/>
                  </a:lnTo>
                  <a:lnTo>
                    <a:pt x="741" y="1290"/>
                  </a:lnTo>
                  <a:lnTo>
                    <a:pt x="746" y="1290"/>
                  </a:lnTo>
                  <a:lnTo>
                    <a:pt x="755" y="1291"/>
                  </a:lnTo>
                  <a:lnTo>
                    <a:pt x="763" y="1293"/>
                  </a:lnTo>
                  <a:lnTo>
                    <a:pt x="768" y="1293"/>
                  </a:lnTo>
                  <a:lnTo>
                    <a:pt x="772" y="1291"/>
                  </a:lnTo>
                  <a:lnTo>
                    <a:pt x="772" y="1274"/>
                  </a:lnTo>
                  <a:lnTo>
                    <a:pt x="801" y="1272"/>
                  </a:lnTo>
                  <a:lnTo>
                    <a:pt x="829" y="1274"/>
                  </a:lnTo>
                  <a:lnTo>
                    <a:pt x="858" y="1278"/>
                  </a:lnTo>
                  <a:lnTo>
                    <a:pt x="872" y="1282"/>
                  </a:lnTo>
                  <a:lnTo>
                    <a:pt x="887" y="1285"/>
                  </a:lnTo>
                  <a:lnTo>
                    <a:pt x="900" y="1291"/>
                  </a:lnTo>
                  <a:lnTo>
                    <a:pt x="913" y="1297"/>
                  </a:lnTo>
                  <a:lnTo>
                    <a:pt x="926" y="1304"/>
                  </a:lnTo>
                  <a:lnTo>
                    <a:pt x="939" y="1311"/>
                  </a:lnTo>
                  <a:lnTo>
                    <a:pt x="952" y="1322"/>
                  </a:lnTo>
                  <a:lnTo>
                    <a:pt x="963" y="1332"/>
                  </a:lnTo>
                  <a:lnTo>
                    <a:pt x="975" y="1342"/>
                  </a:lnTo>
                  <a:lnTo>
                    <a:pt x="987" y="1355"/>
                  </a:lnTo>
                  <a:lnTo>
                    <a:pt x="992" y="1361"/>
                  </a:lnTo>
                  <a:lnTo>
                    <a:pt x="1004" y="1370"/>
                  </a:lnTo>
                  <a:lnTo>
                    <a:pt x="1017" y="1378"/>
                  </a:lnTo>
                  <a:lnTo>
                    <a:pt x="1024" y="1381"/>
                  </a:lnTo>
                  <a:lnTo>
                    <a:pt x="1033" y="1384"/>
                  </a:lnTo>
                  <a:lnTo>
                    <a:pt x="1037" y="1385"/>
                  </a:lnTo>
                  <a:lnTo>
                    <a:pt x="1042" y="1388"/>
                  </a:lnTo>
                  <a:lnTo>
                    <a:pt x="1050" y="1396"/>
                  </a:lnTo>
                  <a:lnTo>
                    <a:pt x="1059" y="1406"/>
                  </a:lnTo>
                  <a:lnTo>
                    <a:pt x="1063" y="1410"/>
                  </a:lnTo>
                  <a:lnTo>
                    <a:pt x="1068" y="1413"/>
                  </a:lnTo>
                  <a:lnTo>
                    <a:pt x="1081" y="1417"/>
                  </a:lnTo>
                  <a:lnTo>
                    <a:pt x="1094" y="1419"/>
                  </a:lnTo>
                  <a:lnTo>
                    <a:pt x="1105" y="1419"/>
                  </a:lnTo>
                  <a:lnTo>
                    <a:pt x="1117" y="1417"/>
                  </a:lnTo>
                  <a:lnTo>
                    <a:pt x="1127" y="1413"/>
                  </a:lnTo>
                  <a:lnTo>
                    <a:pt x="1137" y="1409"/>
                  </a:lnTo>
                  <a:lnTo>
                    <a:pt x="1146" y="1401"/>
                  </a:lnTo>
                  <a:lnTo>
                    <a:pt x="1155" y="1393"/>
                  </a:lnTo>
                  <a:lnTo>
                    <a:pt x="1162" y="1384"/>
                  </a:lnTo>
                  <a:lnTo>
                    <a:pt x="1169" y="1375"/>
                  </a:lnTo>
                  <a:lnTo>
                    <a:pt x="1181" y="1354"/>
                  </a:lnTo>
                  <a:lnTo>
                    <a:pt x="1192" y="1330"/>
                  </a:lnTo>
                  <a:lnTo>
                    <a:pt x="1201" y="1309"/>
                  </a:lnTo>
                  <a:lnTo>
                    <a:pt x="1206" y="1290"/>
                  </a:lnTo>
                  <a:lnTo>
                    <a:pt x="1211" y="1272"/>
                  </a:lnTo>
                  <a:lnTo>
                    <a:pt x="1214" y="1264"/>
                  </a:lnTo>
                  <a:lnTo>
                    <a:pt x="1219" y="1256"/>
                  </a:lnTo>
                  <a:lnTo>
                    <a:pt x="1224" y="1251"/>
                  </a:lnTo>
                  <a:lnTo>
                    <a:pt x="1230" y="1245"/>
                  </a:lnTo>
                  <a:lnTo>
                    <a:pt x="1245" y="1233"/>
                  </a:lnTo>
                  <a:lnTo>
                    <a:pt x="1259" y="1223"/>
                  </a:lnTo>
                  <a:lnTo>
                    <a:pt x="1291" y="1204"/>
                  </a:lnTo>
                  <a:lnTo>
                    <a:pt x="1324" y="1187"/>
                  </a:lnTo>
                  <a:lnTo>
                    <a:pt x="1358" y="1171"/>
                  </a:lnTo>
                  <a:lnTo>
                    <a:pt x="1390" y="1155"/>
                  </a:lnTo>
                  <a:lnTo>
                    <a:pt x="1422" y="1137"/>
                  </a:lnTo>
                  <a:lnTo>
                    <a:pt x="1438" y="1129"/>
                  </a:lnTo>
                  <a:lnTo>
                    <a:pt x="1452" y="1117"/>
                  </a:lnTo>
                  <a:lnTo>
                    <a:pt x="1467" y="1107"/>
                  </a:lnTo>
                  <a:lnTo>
                    <a:pt x="1480" y="1094"/>
                  </a:lnTo>
                  <a:lnTo>
                    <a:pt x="1484" y="1088"/>
                  </a:lnTo>
                  <a:lnTo>
                    <a:pt x="1487" y="1082"/>
                  </a:lnTo>
                  <a:lnTo>
                    <a:pt x="1488" y="1075"/>
                  </a:lnTo>
                  <a:lnTo>
                    <a:pt x="1490" y="1066"/>
                  </a:lnTo>
                  <a:lnTo>
                    <a:pt x="1488" y="1047"/>
                  </a:lnTo>
                  <a:lnTo>
                    <a:pt x="1485" y="1030"/>
                  </a:lnTo>
                  <a:lnTo>
                    <a:pt x="1468" y="1013"/>
                  </a:lnTo>
                  <a:lnTo>
                    <a:pt x="1469" y="1003"/>
                  </a:lnTo>
                  <a:lnTo>
                    <a:pt x="1471" y="992"/>
                  </a:lnTo>
                  <a:lnTo>
                    <a:pt x="1471" y="984"/>
                  </a:lnTo>
                  <a:lnTo>
                    <a:pt x="1469" y="981"/>
                  </a:lnTo>
                  <a:lnTo>
                    <a:pt x="1468" y="978"/>
                  </a:lnTo>
                  <a:lnTo>
                    <a:pt x="1461" y="969"/>
                  </a:lnTo>
                  <a:lnTo>
                    <a:pt x="1456" y="962"/>
                  </a:lnTo>
                  <a:lnTo>
                    <a:pt x="1454" y="956"/>
                  </a:lnTo>
                  <a:lnTo>
                    <a:pt x="1454" y="949"/>
                  </a:lnTo>
                  <a:lnTo>
                    <a:pt x="1452" y="937"/>
                  </a:lnTo>
                  <a:lnTo>
                    <a:pt x="1452" y="931"/>
                  </a:lnTo>
                  <a:lnTo>
                    <a:pt x="1451" y="926"/>
                  </a:lnTo>
                  <a:lnTo>
                    <a:pt x="1433" y="926"/>
                  </a:lnTo>
                  <a:lnTo>
                    <a:pt x="1436" y="915"/>
                  </a:lnTo>
                  <a:lnTo>
                    <a:pt x="1436" y="907"/>
                  </a:lnTo>
                  <a:lnTo>
                    <a:pt x="1433" y="898"/>
                  </a:lnTo>
                  <a:lnTo>
                    <a:pt x="1429" y="891"/>
                  </a:lnTo>
                  <a:lnTo>
                    <a:pt x="1420" y="875"/>
                  </a:lnTo>
                  <a:lnTo>
                    <a:pt x="1417" y="866"/>
                  </a:lnTo>
                  <a:lnTo>
                    <a:pt x="1416" y="856"/>
                  </a:lnTo>
                  <a:lnTo>
                    <a:pt x="1398" y="856"/>
                  </a:lnTo>
                  <a:lnTo>
                    <a:pt x="1398" y="839"/>
                  </a:lnTo>
                  <a:lnTo>
                    <a:pt x="1394" y="837"/>
                  </a:lnTo>
                  <a:lnTo>
                    <a:pt x="1390" y="836"/>
                  </a:lnTo>
                  <a:lnTo>
                    <a:pt x="1380" y="836"/>
                  </a:lnTo>
                  <a:lnTo>
                    <a:pt x="1369" y="839"/>
                  </a:lnTo>
                  <a:lnTo>
                    <a:pt x="1362" y="811"/>
                  </a:lnTo>
                  <a:lnTo>
                    <a:pt x="1359" y="798"/>
                  </a:lnTo>
                  <a:lnTo>
                    <a:pt x="1359" y="783"/>
                  </a:lnTo>
                  <a:lnTo>
                    <a:pt x="1359" y="770"/>
                  </a:lnTo>
                  <a:lnTo>
                    <a:pt x="1361" y="757"/>
                  </a:lnTo>
                  <a:lnTo>
                    <a:pt x="1364" y="746"/>
                  </a:lnTo>
                  <a:lnTo>
                    <a:pt x="1369" y="734"/>
                  </a:lnTo>
                  <a:lnTo>
                    <a:pt x="1372" y="725"/>
                  </a:lnTo>
                  <a:lnTo>
                    <a:pt x="1375" y="718"/>
                  </a:lnTo>
                  <a:lnTo>
                    <a:pt x="1378" y="705"/>
                  </a:lnTo>
                  <a:lnTo>
                    <a:pt x="1378" y="694"/>
                  </a:lnTo>
                  <a:lnTo>
                    <a:pt x="1381" y="682"/>
                  </a:lnTo>
                  <a:lnTo>
                    <a:pt x="1398" y="682"/>
                  </a:lnTo>
                  <a:lnTo>
                    <a:pt x="1401" y="669"/>
                  </a:lnTo>
                  <a:lnTo>
                    <a:pt x="1403" y="656"/>
                  </a:lnTo>
                  <a:lnTo>
                    <a:pt x="1401" y="643"/>
                  </a:lnTo>
                  <a:lnTo>
                    <a:pt x="1398" y="630"/>
                  </a:lnTo>
                  <a:lnTo>
                    <a:pt x="1381" y="630"/>
                  </a:lnTo>
                  <a:lnTo>
                    <a:pt x="1381" y="612"/>
                  </a:lnTo>
                  <a:lnTo>
                    <a:pt x="1365" y="611"/>
                  </a:lnTo>
                  <a:lnTo>
                    <a:pt x="1351" y="611"/>
                  </a:lnTo>
                  <a:lnTo>
                    <a:pt x="1319" y="614"/>
                  </a:lnTo>
                  <a:lnTo>
                    <a:pt x="1304" y="614"/>
                  </a:lnTo>
                  <a:lnTo>
                    <a:pt x="1290" y="614"/>
                  </a:lnTo>
                  <a:lnTo>
                    <a:pt x="1277" y="611"/>
                  </a:lnTo>
                  <a:lnTo>
                    <a:pt x="1265" y="606"/>
                  </a:lnTo>
                  <a:lnTo>
                    <a:pt x="1262" y="604"/>
                  </a:lnTo>
                  <a:lnTo>
                    <a:pt x="1261" y="601"/>
                  </a:lnTo>
                  <a:lnTo>
                    <a:pt x="1258" y="592"/>
                  </a:lnTo>
                  <a:lnTo>
                    <a:pt x="1258" y="580"/>
                  </a:lnTo>
                  <a:lnTo>
                    <a:pt x="1259" y="569"/>
                  </a:lnTo>
                  <a:lnTo>
                    <a:pt x="1261" y="557"/>
                  </a:lnTo>
                  <a:lnTo>
                    <a:pt x="1261" y="546"/>
                  </a:lnTo>
                  <a:lnTo>
                    <a:pt x="1258" y="537"/>
                  </a:lnTo>
                  <a:lnTo>
                    <a:pt x="1256" y="534"/>
                  </a:lnTo>
                  <a:lnTo>
                    <a:pt x="1253" y="531"/>
                  </a:lnTo>
                  <a:lnTo>
                    <a:pt x="1243" y="521"/>
                  </a:lnTo>
                  <a:lnTo>
                    <a:pt x="1232" y="511"/>
                  </a:lnTo>
                  <a:lnTo>
                    <a:pt x="1221" y="499"/>
                  </a:lnTo>
                  <a:lnTo>
                    <a:pt x="1211" y="489"/>
                  </a:lnTo>
                  <a:lnTo>
                    <a:pt x="1198" y="480"/>
                  </a:lnTo>
                  <a:lnTo>
                    <a:pt x="1192" y="477"/>
                  </a:lnTo>
                  <a:lnTo>
                    <a:pt x="1185" y="474"/>
                  </a:lnTo>
                  <a:lnTo>
                    <a:pt x="1178" y="472"/>
                  </a:lnTo>
                  <a:lnTo>
                    <a:pt x="1171" y="472"/>
                  </a:lnTo>
                  <a:lnTo>
                    <a:pt x="1163" y="472"/>
                  </a:lnTo>
                  <a:lnTo>
                    <a:pt x="1155" y="473"/>
                  </a:lnTo>
                  <a:lnTo>
                    <a:pt x="1155" y="456"/>
                  </a:lnTo>
                  <a:lnTo>
                    <a:pt x="1137" y="453"/>
                  </a:lnTo>
                  <a:lnTo>
                    <a:pt x="1120" y="453"/>
                  </a:lnTo>
                  <a:lnTo>
                    <a:pt x="1104" y="456"/>
                  </a:lnTo>
                  <a:lnTo>
                    <a:pt x="1091" y="461"/>
                  </a:lnTo>
                  <a:lnTo>
                    <a:pt x="1078" y="470"/>
                  </a:lnTo>
                  <a:lnTo>
                    <a:pt x="1068" y="480"/>
                  </a:lnTo>
                  <a:lnTo>
                    <a:pt x="1063" y="488"/>
                  </a:lnTo>
                  <a:lnTo>
                    <a:pt x="1061" y="493"/>
                  </a:lnTo>
                  <a:lnTo>
                    <a:pt x="1058" y="501"/>
                  </a:lnTo>
                  <a:lnTo>
                    <a:pt x="1056" y="508"/>
                  </a:lnTo>
                  <a:lnTo>
                    <a:pt x="1052" y="540"/>
                  </a:lnTo>
                  <a:lnTo>
                    <a:pt x="1049" y="573"/>
                  </a:lnTo>
                  <a:lnTo>
                    <a:pt x="1049" y="605"/>
                  </a:lnTo>
                  <a:lnTo>
                    <a:pt x="1049" y="638"/>
                  </a:lnTo>
                  <a:lnTo>
                    <a:pt x="1052" y="704"/>
                  </a:lnTo>
                  <a:lnTo>
                    <a:pt x="1052" y="736"/>
                  </a:lnTo>
                  <a:lnTo>
                    <a:pt x="1050" y="769"/>
                  </a:lnTo>
                  <a:lnTo>
                    <a:pt x="1033" y="769"/>
                  </a:lnTo>
                  <a:lnTo>
                    <a:pt x="1034" y="779"/>
                  </a:lnTo>
                  <a:lnTo>
                    <a:pt x="1034" y="788"/>
                  </a:lnTo>
                  <a:lnTo>
                    <a:pt x="1034" y="797"/>
                  </a:lnTo>
                  <a:lnTo>
                    <a:pt x="1032" y="805"/>
                  </a:lnTo>
                  <a:lnTo>
                    <a:pt x="1029" y="814"/>
                  </a:lnTo>
                  <a:lnTo>
                    <a:pt x="1026" y="821"/>
                  </a:lnTo>
                  <a:lnTo>
                    <a:pt x="1016" y="836"/>
                  </a:lnTo>
                  <a:lnTo>
                    <a:pt x="1004" y="850"/>
                  </a:lnTo>
                  <a:lnTo>
                    <a:pt x="991" y="865"/>
                  </a:lnTo>
                  <a:lnTo>
                    <a:pt x="963" y="891"/>
                  </a:lnTo>
                  <a:lnTo>
                    <a:pt x="960" y="892"/>
                  </a:lnTo>
                  <a:lnTo>
                    <a:pt x="958" y="892"/>
                  </a:lnTo>
                  <a:lnTo>
                    <a:pt x="949" y="891"/>
                  </a:lnTo>
                  <a:lnTo>
                    <a:pt x="939" y="889"/>
                  </a:lnTo>
                  <a:lnTo>
                    <a:pt x="933" y="889"/>
                  </a:lnTo>
                  <a:lnTo>
                    <a:pt x="929" y="891"/>
                  </a:lnTo>
                  <a:lnTo>
                    <a:pt x="929" y="908"/>
                  </a:lnTo>
                  <a:lnTo>
                    <a:pt x="916" y="911"/>
                  </a:lnTo>
                  <a:lnTo>
                    <a:pt x="901" y="913"/>
                  </a:lnTo>
                  <a:lnTo>
                    <a:pt x="875" y="914"/>
                  </a:lnTo>
                  <a:lnTo>
                    <a:pt x="847" y="914"/>
                  </a:lnTo>
                  <a:lnTo>
                    <a:pt x="836" y="917"/>
                  </a:lnTo>
                  <a:lnTo>
                    <a:pt x="824" y="920"/>
                  </a:lnTo>
                  <a:lnTo>
                    <a:pt x="795" y="927"/>
                  </a:lnTo>
                  <a:lnTo>
                    <a:pt x="766" y="931"/>
                  </a:lnTo>
                  <a:lnTo>
                    <a:pt x="736" y="934"/>
                  </a:lnTo>
                  <a:lnTo>
                    <a:pt x="705" y="934"/>
                  </a:lnTo>
                  <a:lnTo>
                    <a:pt x="673" y="933"/>
                  </a:lnTo>
                  <a:lnTo>
                    <a:pt x="643" y="930"/>
                  </a:lnTo>
                  <a:lnTo>
                    <a:pt x="611" y="926"/>
                  </a:lnTo>
                  <a:lnTo>
                    <a:pt x="581" y="920"/>
                  </a:lnTo>
                  <a:lnTo>
                    <a:pt x="563" y="915"/>
                  </a:lnTo>
                  <a:lnTo>
                    <a:pt x="553" y="913"/>
                  </a:lnTo>
                  <a:lnTo>
                    <a:pt x="544" y="910"/>
                  </a:lnTo>
                  <a:lnTo>
                    <a:pt x="536" y="904"/>
                  </a:lnTo>
                  <a:lnTo>
                    <a:pt x="531" y="901"/>
                  </a:lnTo>
                  <a:lnTo>
                    <a:pt x="530" y="897"/>
                  </a:lnTo>
                  <a:lnTo>
                    <a:pt x="527" y="892"/>
                  </a:lnTo>
                  <a:lnTo>
                    <a:pt x="527" y="886"/>
                  </a:lnTo>
                  <a:lnTo>
                    <a:pt x="527" y="881"/>
                  </a:lnTo>
                  <a:lnTo>
                    <a:pt x="528" y="873"/>
                  </a:lnTo>
                  <a:lnTo>
                    <a:pt x="531" y="868"/>
                  </a:lnTo>
                  <a:lnTo>
                    <a:pt x="537" y="862"/>
                  </a:lnTo>
                  <a:lnTo>
                    <a:pt x="550" y="852"/>
                  </a:lnTo>
                  <a:lnTo>
                    <a:pt x="556" y="846"/>
                  </a:lnTo>
                  <a:lnTo>
                    <a:pt x="562" y="839"/>
                  </a:lnTo>
                  <a:lnTo>
                    <a:pt x="563" y="831"/>
                  </a:lnTo>
                  <a:lnTo>
                    <a:pt x="563" y="821"/>
                  </a:lnTo>
                  <a:lnTo>
                    <a:pt x="578" y="820"/>
                  </a:lnTo>
                  <a:lnTo>
                    <a:pt x="591" y="815"/>
                  </a:lnTo>
                  <a:lnTo>
                    <a:pt x="602" y="810"/>
                  </a:lnTo>
                  <a:lnTo>
                    <a:pt x="614" y="802"/>
                  </a:lnTo>
                  <a:lnTo>
                    <a:pt x="625" y="794"/>
                  </a:lnTo>
                  <a:lnTo>
                    <a:pt x="636" y="785"/>
                  </a:lnTo>
                  <a:lnTo>
                    <a:pt x="646" y="773"/>
                  </a:lnTo>
                  <a:lnTo>
                    <a:pt x="656" y="762"/>
                  </a:lnTo>
                  <a:lnTo>
                    <a:pt x="673" y="738"/>
                  </a:lnTo>
                  <a:lnTo>
                    <a:pt x="689" y="712"/>
                  </a:lnTo>
                  <a:lnTo>
                    <a:pt x="702" y="688"/>
                  </a:lnTo>
                  <a:lnTo>
                    <a:pt x="714" y="665"/>
                  </a:lnTo>
                  <a:lnTo>
                    <a:pt x="720" y="647"/>
                  </a:lnTo>
                  <a:lnTo>
                    <a:pt x="724" y="627"/>
                  </a:lnTo>
                  <a:lnTo>
                    <a:pt x="726" y="608"/>
                  </a:lnTo>
                  <a:lnTo>
                    <a:pt x="726" y="589"/>
                  </a:lnTo>
                  <a:lnTo>
                    <a:pt x="723" y="572"/>
                  </a:lnTo>
                  <a:lnTo>
                    <a:pt x="717" y="556"/>
                  </a:lnTo>
                  <a:lnTo>
                    <a:pt x="712" y="548"/>
                  </a:lnTo>
                  <a:lnTo>
                    <a:pt x="708" y="541"/>
                  </a:lnTo>
                  <a:lnTo>
                    <a:pt x="702" y="535"/>
                  </a:lnTo>
                  <a:lnTo>
                    <a:pt x="697" y="531"/>
                  </a:lnTo>
                  <a:lnTo>
                    <a:pt x="688" y="527"/>
                  </a:lnTo>
                  <a:lnTo>
                    <a:pt x="678" y="524"/>
                  </a:lnTo>
                  <a:lnTo>
                    <a:pt x="659" y="521"/>
                  </a:lnTo>
                  <a:lnTo>
                    <a:pt x="639" y="521"/>
                  </a:lnTo>
                  <a:lnTo>
                    <a:pt x="617" y="521"/>
                  </a:lnTo>
                  <a:lnTo>
                    <a:pt x="573" y="525"/>
                  </a:lnTo>
                  <a:lnTo>
                    <a:pt x="550" y="527"/>
                  </a:lnTo>
                  <a:lnTo>
                    <a:pt x="528" y="525"/>
                  </a:lnTo>
                  <a:lnTo>
                    <a:pt x="528" y="508"/>
                  </a:lnTo>
                  <a:lnTo>
                    <a:pt x="511" y="508"/>
                  </a:lnTo>
                  <a:lnTo>
                    <a:pt x="505" y="493"/>
                  </a:lnTo>
                  <a:lnTo>
                    <a:pt x="499" y="479"/>
                  </a:lnTo>
                  <a:lnTo>
                    <a:pt x="492" y="450"/>
                  </a:lnTo>
                  <a:lnTo>
                    <a:pt x="488" y="419"/>
                  </a:lnTo>
                  <a:lnTo>
                    <a:pt x="486" y="387"/>
                  </a:lnTo>
                  <a:lnTo>
                    <a:pt x="486" y="357"/>
                  </a:lnTo>
                  <a:lnTo>
                    <a:pt x="489" y="327"/>
                  </a:lnTo>
                  <a:lnTo>
                    <a:pt x="494" y="295"/>
                  </a:lnTo>
                  <a:lnTo>
                    <a:pt x="499" y="264"/>
                  </a:lnTo>
                  <a:lnTo>
                    <a:pt x="505" y="250"/>
                  </a:lnTo>
                  <a:lnTo>
                    <a:pt x="514" y="232"/>
                  </a:lnTo>
                  <a:lnTo>
                    <a:pt x="518" y="225"/>
                  </a:lnTo>
                  <a:lnTo>
                    <a:pt x="524" y="218"/>
                  </a:lnTo>
                  <a:lnTo>
                    <a:pt x="531" y="212"/>
                  </a:lnTo>
                  <a:lnTo>
                    <a:pt x="540" y="206"/>
                  </a:lnTo>
                  <a:lnTo>
                    <a:pt x="552" y="196"/>
                  </a:lnTo>
                  <a:lnTo>
                    <a:pt x="562" y="184"/>
                  </a:lnTo>
                  <a:lnTo>
                    <a:pt x="572" y="171"/>
                  </a:lnTo>
                  <a:lnTo>
                    <a:pt x="579" y="157"/>
                  </a:lnTo>
                  <a:lnTo>
                    <a:pt x="583" y="142"/>
                  </a:lnTo>
                  <a:lnTo>
                    <a:pt x="585" y="135"/>
                  </a:lnTo>
                  <a:lnTo>
                    <a:pt x="586" y="126"/>
                  </a:lnTo>
                  <a:lnTo>
                    <a:pt x="585" y="119"/>
                  </a:lnTo>
                  <a:lnTo>
                    <a:pt x="583" y="112"/>
                  </a:lnTo>
                  <a:lnTo>
                    <a:pt x="579" y="103"/>
                  </a:lnTo>
                  <a:lnTo>
                    <a:pt x="575" y="96"/>
                  </a:lnTo>
                  <a:lnTo>
                    <a:pt x="565" y="81"/>
                  </a:lnTo>
                  <a:lnTo>
                    <a:pt x="553" y="68"/>
                  </a:lnTo>
                  <a:lnTo>
                    <a:pt x="541" y="55"/>
                  </a:lnTo>
                  <a:lnTo>
                    <a:pt x="530" y="44"/>
                  </a:lnTo>
                  <a:lnTo>
                    <a:pt x="504" y="20"/>
                  </a:lnTo>
                  <a:lnTo>
                    <a:pt x="476" y="0"/>
                  </a:lnTo>
                  <a:lnTo>
                    <a:pt x="449" y="26"/>
                  </a:lnTo>
                  <a:lnTo>
                    <a:pt x="422" y="54"/>
                  </a:lnTo>
                  <a:lnTo>
                    <a:pt x="396" y="83"/>
                  </a:lnTo>
                  <a:lnTo>
                    <a:pt x="372" y="112"/>
                  </a:lnTo>
                  <a:lnTo>
                    <a:pt x="347" y="142"/>
                  </a:lnTo>
                  <a:lnTo>
                    <a:pt x="324" y="173"/>
                  </a:lnTo>
                  <a:lnTo>
                    <a:pt x="301" y="203"/>
                  </a:lnTo>
                  <a:lnTo>
                    <a:pt x="277" y="235"/>
                  </a:lnTo>
                  <a:lnTo>
                    <a:pt x="257" y="267"/>
                  </a:lnTo>
                  <a:lnTo>
                    <a:pt x="235" y="299"/>
                  </a:lnTo>
                  <a:lnTo>
                    <a:pt x="217" y="332"/>
                  </a:lnTo>
                  <a:lnTo>
                    <a:pt x="196" y="366"/>
                  </a:lnTo>
                  <a:lnTo>
                    <a:pt x="179" y="400"/>
                  </a:lnTo>
                  <a:lnTo>
                    <a:pt x="161" y="435"/>
                  </a:lnTo>
                  <a:lnTo>
                    <a:pt x="144" y="470"/>
                  </a:lnTo>
                  <a:lnTo>
                    <a:pt x="128" y="505"/>
                  </a:lnTo>
                  <a:lnTo>
                    <a:pt x="114" y="541"/>
                  </a:lnTo>
                  <a:lnTo>
                    <a:pt x="99" y="577"/>
                  </a:lnTo>
                  <a:lnTo>
                    <a:pt x="86" y="615"/>
                  </a:lnTo>
                  <a:lnTo>
                    <a:pt x="73" y="653"/>
                  </a:lnTo>
                  <a:lnTo>
                    <a:pt x="63" y="691"/>
                  </a:lnTo>
                  <a:lnTo>
                    <a:pt x="51" y="728"/>
                  </a:lnTo>
                  <a:lnTo>
                    <a:pt x="43" y="768"/>
                  </a:lnTo>
                  <a:lnTo>
                    <a:pt x="34" y="805"/>
                  </a:lnTo>
                  <a:lnTo>
                    <a:pt x="27" y="844"/>
                  </a:lnTo>
                  <a:lnTo>
                    <a:pt x="19" y="885"/>
                  </a:lnTo>
                  <a:lnTo>
                    <a:pt x="14" y="924"/>
                  </a:lnTo>
                  <a:lnTo>
                    <a:pt x="9" y="965"/>
                  </a:lnTo>
                  <a:lnTo>
                    <a:pt x="5" y="1005"/>
                  </a:lnTo>
                  <a:lnTo>
                    <a:pt x="2" y="1046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2" y="1178"/>
                  </a:lnTo>
                  <a:lnTo>
                    <a:pt x="3" y="1229"/>
                  </a:lnTo>
                  <a:lnTo>
                    <a:pt x="8" y="1278"/>
                  </a:lnTo>
                  <a:lnTo>
                    <a:pt x="12" y="1326"/>
                  </a:lnTo>
                  <a:lnTo>
                    <a:pt x="19" y="1375"/>
                  </a:lnTo>
                  <a:lnTo>
                    <a:pt x="28" y="1423"/>
                  </a:lnTo>
                  <a:lnTo>
                    <a:pt x="38" y="1470"/>
                  </a:lnTo>
                  <a:lnTo>
                    <a:pt x="48" y="1516"/>
                  </a:lnTo>
                  <a:lnTo>
                    <a:pt x="61" y="1562"/>
                  </a:lnTo>
                  <a:lnTo>
                    <a:pt x="74" y="1609"/>
                  </a:lnTo>
                  <a:lnTo>
                    <a:pt x="90" y="1654"/>
                  </a:lnTo>
                  <a:lnTo>
                    <a:pt x="106" y="1699"/>
                  </a:lnTo>
                  <a:lnTo>
                    <a:pt x="124" y="1742"/>
                  </a:lnTo>
                  <a:lnTo>
                    <a:pt x="143" y="1786"/>
                  </a:lnTo>
                  <a:lnTo>
                    <a:pt x="163" y="1828"/>
                  </a:lnTo>
                  <a:lnTo>
                    <a:pt x="185" y="1870"/>
                  </a:lnTo>
                  <a:lnTo>
                    <a:pt x="205" y="1883"/>
                  </a:lnTo>
                  <a:lnTo>
                    <a:pt x="227" y="1895"/>
                  </a:lnTo>
                  <a:lnTo>
                    <a:pt x="248" y="1906"/>
                  </a:lnTo>
                  <a:lnTo>
                    <a:pt x="272" y="1916"/>
                  </a:lnTo>
                  <a:lnTo>
                    <a:pt x="295" y="1924"/>
                  </a:lnTo>
                  <a:lnTo>
                    <a:pt x="317" y="1931"/>
                  </a:lnTo>
                  <a:lnTo>
                    <a:pt x="340" y="1935"/>
                  </a:lnTo>
                  <a:lnTo>
                    <a:pt x="363" y="1938"/>
                  </a:lnTo>
                  <a:lnTo>
                    <a:pt x="386" y="1938"/>
                  </a:lnTo>
                  <a:lnTo>
                    <a:pt x="408" y="1937"/>
                  </a:lnTo>
                  <a:lnTo>
                    <a:pt x="430" y="1932"/>
                  </a:lnTo>
                  <a:lnTo>
                    <a:pt x="451" y="1925"/>
                  </a:lnTo>
                  <a:lnTo>
                    <a:pt x="472" y="1915"/>
                  </a:lnTo>
                  <a:lnTo>
                    <a:pt x="492" y="1902"/>
                  </a:lnTo>
                  <a:lnTo>
                    <a:pt x="511" y="1884"/>
                  </a:lnTo>
                  <a:lnTo>
                    <a:pt x="528" y="186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4"/>
            <p:cNvSpPr/>
            <p:nvPr/>
          </p:nvSpPr>
          <p:spPr>
            <a:xfrm>
              <a:off x="6537240" y="3587760"/>
              <a:ext cx="2143080" cy="25052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2505240"/>
                <a:gd name="textAreaBottom" fmla="*/ 2505600 h 2505240"/>
              </a:gdLst>
              <a:ahLst/>
              <a:rect l="textAreaLeft" t="textAreaTop" r="textAreaRight" b="textAreaBottom"/>
              <a:pathLst>
                <a:path w="2700" h="3157">
                  <a:moveTo>
                    <a:pt x="2530" y="2530"/>
                  </a:moveTo>
                  <a:lnTo>
                    <a:pt x="2530" y="2530"/>
                  </a:lnTo>
                  <a:lnTo>
                    <a:pt x="2524" y="2526"/>
                  </a:lnTo>
                  <a:lnTo>
                    <a:pt x="2519" y="2523"/>
                  </a:lnTo>
                  <a:lnTo>
                    <a:pt x="2511" y="2522"/>
                  </a:lnTo>
                  <a:lnTo>
                    <a:pt x="2504" y="2520"/>
                  </a:lnTo>
                  <a:lnTo>
                    <a:pt x="2488" y="2520"/>
                  </a:lnTo>
                  <a:lnTo>
                    <a:pt x="2471" y="2520"/>
                  </a:lnTo>
                  <a:lnTo>
                    <a:pt x="2433" y="2525"/>
                  </a:lnTo>
                  <a:lnTo>
                    <a:pt x="2414" y="2526"/>
                  </a:lnTo>
                  <a:lnTo>
                    <a:pt x="2397" y="2525"/>
                  </a:lnTo>
                  <a:lnTo>
                    <a:pt x="2397" y="2507"/>
                  </a:lnTo>
                  <a:lnTo>
                    <a:pt x="2379" y="2507"/>
                  </a:lnTo>
                  <a:lnTo>
                    <a:pt x="2376" y="2494"/>
                  </a:lnTo>
                  <a:lnTo>
                    <a:pt x="2375" y="2482"/>
                  </a:lnTo>
                  <a:lnTo>
                    <a:pt x="2376" y="2472"/>
                  </a:lnTo>
                  <a:lnTo>
                    <a:pt x="2379" y="2461"/>
                  </a:lnTo>
                  <a:lnTo>
                    <a:pt x="2388" y="2440"/>
                  </a:lnTo>
                  <a:lnTo>
                    <a:pt x="2397" y="2420"/>
                  </a:lnTo>
                  <a:lnTo>
                    <a:pt x="2414" y="2420"/>
                  </a:lnTo>
                  <a:lnTo>
                    <a:pt x="2414" y="2403"/>
                  </a:lnTo>
                  <a:lnTo>
                    <a:pt x="2432" y="2403"/>
                  </a:lnTo>
                  <a:lnTo>
                    <a:pt x="2440" y="2397"/>
                  </a:lnTo>
                  <a:lnTo>
                    <a:pt x="2447" y="2390"/>
                  </a:lnTo>
                  <a:lnTo>
                    <a:pt x="2449" y="2385"/>
                  </a:lnTo>
                  <a:lnTo>
                    <a:pt x="2450" y="2379"/>
                  </a:lnTo>
                  <a:lnTo>
                    <a:pt x="2450" y="2374"/>
                  </a:lnTo>
                  <a:lnTo>
                    <a:pt x="2449" y="2368"/>
                  </a:lnTo>
                  <a:lnTo>
                    <a:pt x="2432" y="2368"/>
                  </a:lnTo>
                  <a:lnTo>
                    <a:pt x="2430" y="2359"/>
                  </a:lnTo>
                  <a:lnTo>
                    <a:pt x="2430" y="2350"/>
                  </a:lnTo>
                  <a:lnTo>
                    <a:pt x="2432" y="2333"/>
                  </a:lnTo>
                  <a:lnTo>
                    <a:pt x="2433" y="2316"/>
                  </a:lnTo>
                  <a:lnTo>
                    <a:pt x="2433" y="2307"/>
                  </a:lnTo>
                  <a:lnTo>
                    <a:pt x="2432" y="2298"/>
                  </a:lnTo>
                  <a:lnTo>
                    <a:pt x="2414" y="2298"/>
                  </a:lnTo>
                  <a:lnTo>
                    <a:pt x="2414" y="2281"/>
                  </a:lnTo>
                  <a:lnTo>
                    <a:pt x="2397" y="2281"/>
                  </a:lnTo>
                  <a:lnTo>
                    <a:pt x="2398" y="2276"/>
                  </a:lnTo>
                  <a:lnTo>
                    <a:pt x="2398" y="2274"/>
                  </a:lnTo>
                  <a:lnTo>
                    <a:pt x="2397" y="2266"/>
                  </a:lnTo>
                  <a:lnTo>
                    <a:pt x="2394" y="2261"/>
                  </a:lnTo>
                  <a:lnTo>
                    <a:pt x="2388" y="2255"/>
                  </a:lnTo>
                  <a:lnTo>
                    <a:pt x="2382" y="2249"/>
                  </a:lnTo>
                  <a:lnTo>
                    <a:pt x="2379" y="2243"/>
                  </a:lnTo>
                  <a:lnTo>
                    <a:pt x="2378" y="2236"/>
                  </a:lnTo>
                  <a:lnTo>
                    <a:pt x="2378" y="2233"/>
                  </a:lnTo>
                  <a:lnTo>
                    <a:pt x="2379" y="2229"/>
                  </a:lnTo>
                  <a:lnTo>
                    <a:pt x="2362" y="2229"/>
                  </a:lnTo>
                  <a:lnTo>
                    <a:pt x="2362" y="2211"/>
                  </a:lnTo>
                  <a:lnTo>
                    <a:pt x="2352" y="2208"/>
                  </a:lnTo>
                  <a:lnTo>
                    <a:pt x="2343" y="2207"/>
                  </a:lnTo>
                  <a:lnTo>
                    <a:pt x="2333" y="2208"/>
                  </a:lnTo>
                  <a:lnTo>
                    <a:pt x="2330" y="2210"/>
                  </a:lnTo>
                  <a:lnTo>
                    <a:pt x="2327" y="2211"/>
                  </a:lnTo>
                  <a:lnTo>
                    <a:pt x="2311" y="2234"/>
                  </a:lnTo>
                  <a:lnTo>
                    <a:pt x="2297" y="2259"/>
                  </a:lnTo>
                  <a:lnTo>
                    <a:pt x="2282" y="2284"/>
                  </a:lnTo>
                  <a:lnTo>
                    <a:pt x="2269" y="2308"/>
                  </a:lnTo>
                  <a:lnTo>
                    <a:pt x="2253" y="2333"/>
                  </a:lnTo>
                  <a:lnTo>
                    <a:pt x="2244" y="2343"/>
                  </a:lnTo>
                  <a:lnTo>
                    <a:pt x="2234" y="2353"/>
                  </a:lnTo>
                  <a:lnTo>
                    <a:pt x="2224" y="2364"/>
                  </a:lnTo>
                  <a:lnTo>
                    <a:pt x="2214" y="2372"/>
                  </a:lnTo>
                  <a:lnTo>
                    <a:pt x="2201" y="2379"/>
                  </a:lnTo>
                  <a:lnTo>
                    <a:pt x="2188" y="2385"/>
                  </a:lnTo>
                  <a:lnTo>
                    <a:pt x="2188" y="2368"/>
                  </a:lnTo>
                  <a:lnTo>
                    <a:pt x="2184" y="2366"/>
                  </a:lnTo>
                  <a:lnTo>
                    <a:pt x="2178" y="2366"/>
                  </a:lnTo>
                  <a:lnTo>
                    <a:pt x="2169" y="2368"/>
                  </a:lnTo>
                  <a:lnTo>
                    <a:pt x="2159" y="2369"/>
                  </a:lnTo>
                  <a:lnTo>
                    <a:pt x="2156" y="2369"/>
                  </a:lnTo>
                  <a:lnTo>
                    <a:pt x="2153" y="2368"/>
                  </a:lnTo>
                  <a:lnTo>
                    <a:pt x="2136" y="2339"/>
                  </a:lnTo>
                  <a:lnTo>
                    <a:pt x="2128" y="2326"/>
                  </a:lnTo>
                  <a:lnTo>
                    <a:pt x="2123" y="2311"/>
                  </a:lnTo>
                  <a:lnTo>
                    <a:pt x="2118" y="2297"/>
                  </a:lnTo>
                  <a:lnTo>
                    <a:pt x="2115" y="2281"/>
                  </a:lnTo>
                  <a:lnTo>
                    <a:pt x="2115" y="2265"/>
                  </a:lnTo>
                  <a:lnTo>
                    <a:pt x="2118" y="2246"/>
                  </a:lnTo>
                  <a:lnTo>
                    <a:pt x="2118" y="2243"/>
                  </a:lnTo>
                  <a:lnTo>
                    <a:pt x="2117" y="2242"/>
                  </a:lnTo>
                  <a:lnTo>
                    <a:pt x="2113" y="2237"/>
                  </a:lnTo>
                  <a:lnTo>
                    <a:pt x="2101" y="2229"/>
                  </a:lnTo>
                  <a:lnTo>
                    <a:pt x="2086" y="2261"/>
                  </a:lnTo>
                  <a:lnTo>
                    <a:pt x="2072" y="2292"/>
                  </a:lnTo>
                  <a:lnTo>
                    <a:pt x="2053" y="2323"/>
                  </a:lnTo>
                  <a:lnTo>
                    <a:pt x="2034" y="2350"/>
                  </a:lnTo>
                  <a:lnTo>
                    <a:pt x="2023" y="2364"/>
                  </a:lnTo>
                  <a:lnTo>
                    <a:pt x="2011" y="2377"/>
                  </a:lnTo>
                  <a:lnTo>
                    <a:pt x="1999" y="2388"/>
                  </a:lnTo>
                  <a:lnTo>
                    <a:pt x="1986" y="2400"/>
                  </a:lnTo>
                  <a:lnTo>
                    <a:pt x="1972" y="2410"/>
                  </a:lnTo>
                  <a:lnTo>
                    <a:pt x="1957" y="2420"/>
                  </a:lnTo>
                  <a:lnTo>
                    <a:pt x="1943" y="2429"/>
                  </a:lnTo>
                  <a:lnTo>
                    <a:pt x="1927" y="2437"/>
                  </a:lnTo>
                  <a:lnTo>
                    <a:pt x="1914" y="2440"/>
                  </a:lnTo>
                  <a:lnTo>
                    <a:pt x="1901" y="2440"/>
                  </a:lnTo>
                  <a:lnTo>
                    <a:pt x="1888" y="2443"/>
                  </a:lnTo>
                  <a:lnTo>
                    <a:pt x="1882" y="2446"/>
                  </a:lnTo>
                  <a:lnTo>
                    <a:pt x="1875" y="2449"/>
                  </a:lnTo>
                  <a:lnTo>
                    <a:pt x="1865" y="2453"/>
                  </a:lnTo>
                  <a:lnTo>
                    <a:pt x="1854" y="2456"/>
                  </a:lnTo>
                  <a:lnTo>
                    <a:pt x="1843" y="2458"/>
                  </a:lnTo>
                  <a:lnTo>
                    <a:pt x="1831" y="2456"/>
                  </a:lnTo>
                  <a:lnTo>
                    <a:pt x="1808" y="2456"/>
                  </a:lnTo>
                  <a:lnTo>
                    <a:pt x="1798" y="2458"/>
                  </a:lnTo>
                  <a:lnTo>
                    <a:pt x="1788" y="2461"/>
                  </a:lnTo>
                  <a:lnTo>
                    <a:pt x="1772" y="2468"/>
                  </a:lnTo>
                  <a:lnTo>
                    <a:pt x="1756" y="2477"/>
                  </a:lnTo>
                  <a:lnTo>
                    <a:pt x="1725" y="2497"/>
                  </a:lnTo>
                  <a:lnTo>
                    <a:pt x="1695" y="2520"/>
                  </a:lnTo>
                  <a:lnTo>
                    <a:pt x="1664" y="2542"/>
                  </a:lnTo>
                  <a:lnTo>
                    <a:pt x="1648" y="2552"/>
                  </a:lnTo>
                  <a:lnTo>
                    <a:pt x="1633" y="2561"/>
                  </a:lnTo>
                  <a:lnTo>
                    <a:pt x="1617" y="2568"/>
                  </a:lnTo>
                  <a:lnTo>
                    <a:pt x="1599" y="2574"/>
                  </a:lnTo>
                  <a:lnTo>
                    <a:pt x="1582" y="2577"/>
                  </a:lnTo>
                  <a:lnTo>
                    <a:pt x="1564" y="2578"/>
                  </a:lnTo>
                  <a:lnTo>
                    <a:pt x="1546" y="2575"/>
                  </a:lnTo>
                  <a:lnTo>
                    <a:pt x="1527" y="2571"/>
                  </a:lnTo>
                  <a:lnTo>
                    <a:pt x="1512" y="2565"/>
                  </a:lnTo>
                  <a:lnTo>
                    <a:pt x="1496" y="2558"/>
                  </a:lnTo>
                  <a:lnTo>
                    <a:pt x="1482" y="2549"/>
                  </a:lnTo>
                  <a:lnTo>
                    <a:pt x="1469" y="2539"/>
                  </a:lnTo>
                  <a:lnTo>
                    <a:pt x="1456" y="2527"/>
                  </a:lnTo>
                  <a:lnTo>
                    <a:pt x="1445" y="2516"/>
                  </a:lnTo>
                  <a:lnTo>
                    <a:pt x="1435" y="2503"/>
                  </a:lnTo>
                  <a:lnTo>
                    <a:pt x="1428" y="2490"/>
                  </a:lnTo>
                  <a:lnTo>
                    <a:pt x="1414" y="2459"/>
                  </a:lnTo>
                  <a:lnTo>
                    <a:pt x="1406" y="2442"/>
                  </a:lnTo>
                  <a:lnTo>
                    <a:pt x="1402" y="2424"/>
                  </a:lnTo>
                  <a:lnTo>
                    <a:pt x="1399" y="2417"/>
                  </a:lnTo>
                  <a:lnTo>
                    <a:pt x="1399" y="2408"/>
                  </a:lnTo>
                  <a:lnTo>
                    <a:pt x="1399" y="2401"/>
                  </a:lnTo>
                  <a:lnTo>
                    <a:pt x="1400" y="2394"/>
                  </a:lnTo>
                  <a:lnTo>
                    <a:pt x="1403" y="2388"/>
                  </a:lnTo>
                  <a:lnTo>
                    <a:pt x="1408" y="2382"/>
                  </a:lnTo>
                  <a:lnTo>
                    <a:pt x="1415" y="2378"/>
                  </a:lnTo>
                  <a:lnTo>
                    <a:pt x="1422" y="2374"/>
                  </a:lnTo>
                  <a:lnTo>
                    <a:pt x="1427" y="2372"/>
                  </a:lnTo>
                  <a:lnTo>
                    <a:pt x="1431" y="2374"/>
                  </a:lnTo>
                  <a:lnTo>
                    <a:pt x="1434" y="2375"/>
                  </a:lnTo>
                  <a:lnTo>
                    <a:pt x="1438" y="2379"/>
                  </a:lnTo>
                  <a:lnTo>
                    <a:pt x="1440" y="2384"/>
                  </a:lnTo>
                  <a:lnTo>
                    <a:pt x="1441" y="2390"/>
                  </a:lnTo>
                  <a:lnTo>
                    <a:pt x="1441" y="2397"/>
                  </a:lnTo>
                  <a:lnTo>
                    <a:pt x="1440" y="2403"/>
                  </a:lnTo>
                  <a:lnTo>
                    <a:pt x="1457" y="2403"/>
                  </a:lnTo>
                  <a:lnTo>
                    <a:pt x="1457" y="2420"/>
                  </a:lnTo>
                  <a:lnTo>
                    <a:pt x="1480" y="2424"/>
                  </a:lnTo>
                  <a:lnTo>
                    <a:pt x="1490" y="2426"/>
                  </a:lnTo>
                  <a:lnTo>
                    <a:pt x="1501" y="2426"/>
                  </a:lnTo>
                  <a:lnTo>
                    <a:pt x="1511" y="2424"/>
                  </a:lnTo>
                  <a:lnTo>
                    <a:pt x="1519" y="2423"/>
                  </a:lnTo>
                  <a:lnTo>
                    <a:pt x="1535" y="2417"/>
                  </a:lnTo>
                  <a:lnTo>
                    <a:pt x="1551" y="2408"/>
                  </a:lnTo>
                  <a:lnTo>
                    <a:pt x="1564" y="2398"/>
                  </a:lnTo>
                  <a:lnTo>
                    <a:pt x="1576" y="2385"/>
                  </a:lnTo>
                  <a:lnTo>
                    <a:pt x="1588" y="2369"/>
                  </a:lnTo>
                  <a:lnTo>
                    <a:pt x="1598" y="2353"/>
                  </a:lnTo>
                  <a:lnTo>
                    <a:pt x="1606" y="2336"/>
                  </a:lnTo>
                  <a:lnTo>
                    <a:pt x="1622" y="2300"/>
                  </a:lnTo>
                  <a:lnTo>
                    <a:pt x="1648" y="2229"/>
                  </a:lnTo>
                  <a:lnTo>
                    <a:pt x="1631" y="2229"/>
                  </a:lnTo>
                  <a:lnTo>
                    <a:pt x="1631" y="2246"/>
                  </a:lnTo>
                  <a:lnTo>
                    <a:pt x="1614" y="2246"/>
                  </a:lnTo>
                  <a:lnTo>
                    <a:pt x="1614" y="2263"/>
                  </a:lnTo>
                  <a:lnTo>
                    <a:pt x="1593" y="2272"/>
                  </a:lnTo>
                  <a:lnTo>
                    <a:pt x="1573" y="2281"/>
                  </a:lnTo>
                  <a:lnTo>
                    <a:pt x="1561" y="2284"/>
                  </a:lnTo>
                  <a:lnTo>
                    <a:pt x="1551" y="2285"/>
                  </a:lnTo>
                  <a:lnTo>
                    <a:pt x="1540" y="2284"/>
                  </a:lnTo>
                  <a:lnTo>
                    <a:pt x="1527" y="2281"/>
                  </a:lnTo>
                  <a:lnTo>
                    <a:pt x="1527" y="2263"/>
                  </a:lnTo>
                  <a:lnTo>
                    <a:pt x="1509" y="2263"/>
                  </a:lnTo>
                  <a:lnTo>
                    <a:pt x="1506" y="2250"/>
                  </a:lnTo>
                  <a:lnTo>
                    <a:pt x="1506" y="2237"/>
                  </a:lnTo>
                  <a:lnTo>
                    <a:pt x="1503" y="2224"/>
                  </a:lnTo>
                  <a:lnTo>
                    <a:pt x="1501" y="2217"/>
                  </a:lnTo>
                  <a:lnTo>
                    <a:pt x="1498" y="2211"/>
                  </a:lnTo>
                  <a:lnTo>
                    <a:pt x="1495" y="2207"/>
                  </a:lnTo>
                  <a:lnTo>
                    <a:pt x="1493" y="2201"/>
                  </a:lnTo>
                  <a:lnTo>
                    <a:pt x="1492" y="2194"/>
                  </a:lnTo>
                  <a:lnTo>
                    <a:pt x="1493" y="2187"/>
                  </a:lnTo>
                  <a:lnTo>
                    <a:pt x="1493" y="2173"/>
                  </a:lnTo>
                  <a:lnTo>
                    <a:pt x="1493" y="2166"/>
                  </a:lnTo>
                  <a:lnTo>
                    <a:pt x="1492" y="2159"/>
                  </a:lnTo>
                  <a:lnTo>
                    <a:pt x="1489" y="2158"/>
                  </a:lnTo>
                  <a:lnTo>
                    <a:pt x="1486" y="2158"/>
                  </a:lnTo>
                  <a:lnTo>
                    <a:pt x="1477" y="2159"/>
                  </a:lnTo>
                  <a:lnTo>
                    <a:pt x="1467" y="2160"/>
                  </a:lnTo>
                  <a:lnTo>
                    <a:pt x="1461" y="2160"/>
                  </a:lnTo>
                  <a:lnTo>
                    <a:pt x="1457" y="2159"/>
                  </a:lnTo>
                  <a:lnTo>
                    <a:pt x="1457" y="2142"/>
                  </a:lnTo>
                  <a:lnTo>
                    <a:pt x="1437" y="2133"/>
                  </a:lnTo>
                  <a:lnTo>
                    <a:pt x="1425" y="2129"/>
                  </a:lnTo>
                  <a:lnTo>
                    <a:pt x="1414" y="2124"/>
                  </a:lnTo>
                  <a:lnTo>
                    <a:pt x="1403" y="2118"/>
                  </a:lnTo>
                  <a:lnTo>
                    <a:pt x="1395" y="2111"/>
                  </a:lnTo>
                  <a:lnTo>
                    <a:pt x="1392" y="2107"/>
                  </a:lnTo>
                  <a:lnTo>
                    <a:pt x="1389" y="2101"/>
                  </a:lnTo>
                  <a:lnTo>
                    <a:pt x="1387" y="2095"/>
                  </a:lnTo>
                  <a:lnTo>
                    <a:pt x="1387" y="2089"/>
                  </a:lnTo>
                  <a:lnTo>
                    <a:pt x="1376" y="2089"/>
                  </a:lnTo>
                  <a:lnTo>
                    <a:pt x="1371" y="2089"/>
                  </a:lnTo>
                  <a:lnTo>
                    <a:pt x="1369" y="2088"/>
                  </a:lnTo>
                  <a:lnTo>
                    <a:pt x="1366" y="2086"/>
                  </a:lnTo>
                  <a:lnTo>
                    <a:pt x="1366" y="2084"/>
                  </a:lnTo>
                  <a:lnTo>
                    <a:pt x="1364" y="2078"/>
                  </a:lnTo>
                  <a:lnTo>
                    <a:pt x="1364" y="2063"/>
                  </a:lnTo>
                  <a:lnTo>
                    <a:pt x="1363" y="2056"/>
                  </a:lnTo>
                  <a:lnTo>
                    <a:pt x="1361" y="2052"/>
                  </a:lnTo>
                  <a:lnTo>
                    <a:pt x="1358" y="2049"/>
                  </a:lnTo>
                  <a:lnTo>
                    <a:pt x="1354" y="2041"/>
                  </a:lnTo>
                  <a:lnTo>
                    <a:pt x="1350" y="2034"/>
                  </a:lnTo>
                  <a:lnTo>
                    <a:pt x="1348" y="2026"/>
                  </a:lnTo>
                  <a:lnTo>
                    <a:pt x="1347" y="2017"/>
                  </a:lnTo>
                  <a:lnTo>
                    <a:pt x="1347" y="2007"/>
                  </a:lnTo>
                  <a:lnTo>
                    <a:pt x="1348" y="1998"/>
                  </a:lnTo>
                  <a:lnTo>
                    <a:pt x="1350" y="1988"/>
                  </a:lnTo>
                  <a:lnTo>
                    <a:pt x="1354" y="1978"/>
                  </a:lnTo>
                  <a:lnTo>
                    <a:pt x="1357" y="1969"/>
                  </a:lnTo>
                  <a:lnTo>
                    <a:pt x="1363" y="1960"/>
                  </a:lnTo>
                  <a:lnTo>
                    <a:pt x="1367" y="1952"/>
                  </a:lnTo>
                  <a:lnTo>
                    <a:pt x="1374" y="1943"/>
                  </a:lnTo>
                  <a:lnTo>
                    <a:pt x="1380" y="1937"/>
                  </a:lnTo>
                  <a:lnTo>
                    <a:pt x="1389" y="1930"/>
                  </a:lnTo>
                  <a:lnTo>
                    <a:pt x="1396" y="1925"/>
                  </a:lnTo>
                  <a:lnTo>
                    <a:pt x="1405" y="1921"/>
                  </a:lnTo>
                  <a:lnTo>
                    <a:pt x="1419" y="1917"/>
                  </a:lnTo>
                  <a:lnTo>
                    <a:pt x="1432" y="1914"/>
                  </a:lnTo>
                  <a:lnTo>
                    <a:pt x="1445" y="1912"/>
                  </a:lnTo>
                  <a:lnTo>
                    <a:pt x="1457" y="1912"/>
                  </a:lnTo>
                  <a:lnTo>
                    <a:pt x="1470" y="1914"/>
                  </a:lnTo>
                  <a:lnTo>
                    <a:pt x="1482" y="1917"/>
                  </a:lnTo>
                  <a:lnTo>
                    <a:pt x="1493" y="1920"/>
                  </a:lnTo>
                  <a:lnTo>
                    <a:pt x="1505" y="1924"/>
                  </a:lnTo>
                  <a:lnTo>
                    <a:pt x="1528" y="1937"/>
                  </a:lnTo>
                  <a:lnTo>
                    <a:pt x="1550" y="1952"/>
                  </a:lnTo>
                  <a:lnTo>
                    <a:pt x="1596" y="1985"/>
                  </a:lnTo>
                  <a:lnTo>
                    <a:pt x="1601" y="1986"/>
                  </a:lnTo>
                  <a:lnTo>
                    <a:pt x="1606" y="1988"/>
                  </a:lnTo>
                  <a:lnTo>
                    <a:pt x="1615" y="1986"/>
                  </a:lnTo>
                  <a:lnTo>
                    <a:pt x="1625" y="1985"/>
                  </a:lnTo>
                  <a:lnTo>
                    <a:pt x="1628" y="1969"/>
                  </a:lnTo>
                  <a:lnTo>
                    <a:pt x="1631" y="1954"/>
                  </a:lnTo>
                  <a:lnTo>
                    <a:pt x="1631" y="1924"/>
                  </a:lnTo>
                  <a:lnTo>
                    <a:pt x="1633" y="1894"/>
                  </a:lnTo>
                  <a:lnTo>
                    <a:pt x="1634" y="1878"/>
                  </a:lnTo>
                  <a:lnTo>
                    <a:pt x="1637" y="1863"/>
                  </a:lnTo>
                  <a:lnTo>
                    <a:pt x="1640" y="1846"/>
                  </a:lnTo>
                  <a:lnTo>
                    <a:pt x="1644" y="1828"/>
                  </a:lnTo>
                  <a:lnTo>
                    <a:pt x="1647" y="1811"/>
                  </a:lnTo>
                  <a:lnTo>
                    <a:pt x="1650" y="1802"/>
                  </a:lnTo>
                  <a:lnTo>
                    <a:pt x="1654" y="1793"/>
                  </a:lnTo>
                  <a:lnTo>
                    <a:pt x="1657" y="1785"/>
                  </a:lnTo>
                  <a:lnTo>
                    <a:pt x="1663" y="1776"/>
                  </a:lnTo>
                  <a:lnTo>
                    <a:pt x="1669" y="1767"/>
                  </a:lnTo>
                  <a:lnTo>
                    <a:pt x="1677" y="1761"/>
                  </a:lnTo>
                  <a:lnTo>
                    <a:pt x="1686" y="1757"/>
                  </a:lnTo>
                  <a:lnTo>
                    <a:pt x="1696" y="1756"/>
                  </a:lnTo>
                  <a:lnTo>
                    <a:pt x="1702" y="1757"/>
                  </a:lnTo>
                  <a:lnTo>
                    <a:pt x="1708" y="1759"/>
                  </a:lnTo>
                  <a:lnTo>
                    <a:pt x="1712" y="1760"/>
                  </a:lnTo>
                  <a:lnTo>
                    <a:pt x="1718" y="1764"/>
                  </a:lnTo>
                  <a:lnTo>
                    <a:pt x="1734" y="1775"/>
                  </a:lnTo>
                  <a:lnTo>
                    <a:pt x="1750" y="1788"/>
                  </a:lnTo>
                  <a:lnTo>
                    <a:pt x="1780" y="1812"/>
                  </a:lnTo>
                  <a:lnTo>
                    <a:pt x="1795" y="1822"/>
                  </a:lnTo>
                  <a:lnTo>
                    <a:pt x="1802" y="1827"/>
                  </a:lnTo>
                  <a:lnTo>
                    <a:pt x="1809" y="1828"/>
                  </a:lnTo>
                  <a:lnTo>
                    <a:pt x="1817" y="1830"/>
                  </a:lnTo>
                  <a:lnTo>
                    <a:pt x="1822" y="1830"/>
                  </a:lnTo>
                  <a:lnTo>
                    <a:pt x="1828" y="1827"/>
                  </a:lnTo>
                  <a:lnTo>
                    <a:pt x="1834" y="1822"/>
                  </a:lnTo>
                  <a:lnTo>
                    <a:pt x="1850" y="1806"/>
                  </a:lnTo>
                  <a:lnTo>
                    <a:pt x="1867" y="1792"/>
                  </a:lnTo>
                  <a:lnTo>
                    <a:pt x="1885" y="1779"/>
                  </a:lnTo>
                  <a:lnTo>
                    <a:pt x="1904" y="1769"/>
                  </a:lnTo>
                  <a:lnTo>
                    <a:pt x="1921" y="1759"/>
                  </a:lnTo>
                  <a:lnTo>
                    <a:pt x="1940" y="1751"/>
                  </a:lnTo>
                  <a:lnTo>
                    <a:pt x="1959" y="1746"/>
                  </a:lnTo>
                  <a:lnTo>
                    <a:pt x="1979" y="1741"/>
                  </a:lnTo>
                  <a:lnTo>
                    <a:pt x="1998" y="1738"/>
                  </a:lnTo>
                  <a:lnTo>
                    <a:pt x="2017" y="1737"/>
                  </a:lnTo>
                  <a:lnTo>
                    <a:pt x="2037" y="1735"/>
                  </a:lnTo>
                  <a:lnTo>
                    <a:pt x="2057" y="1735"/>
                  </a:lnTo>
                  <a:lnTo>
                    <a:pt x="2076" y="1737"/>
                  </a:lnTo>
                  <a:lnTo>
                    <a:pt x="2097" y="1740"/>
                  </a:lnTo>
                  <a:lnTo>
                    <a:pt x="2136" y="1747"/>
                  </a:lnTo>
                  <a:lnTo>
                    <a:pt x="2165" y="1754"/>
                  </a:lnTo>
                  <a:lnTo>
                    <a:pt x="2176" y="1757"/>
                  </a:lnTo>
                  <a:lnTo>
                    <a:pt x="2188" y="1759"/>
                  </a:lnTo>
                  <a:lnTo>
                    <a:pt x="2198" y="1753"/>
                  </a:lnTo>
                  <a:lnTo>
                    <a:pt x="2207" y="1743"/>
                  </a:lnTo>
                  <a:lnTo>
                    <a:pt x="2214" y="1734"/>
                  </a:lnTo>
                  <a:lnTo>
                    <a:pt x="2215" y="1728"/>
                  </a:lnTo>
                  <a:lnTo>
                    <a:pt x="2217" y="1724"/>
                  </a:lnTo>
                  <a:lnTo>
                    <a:pt x="2220" y="1699"/>
                  </a:lnTo>
                  <a:lnTo>
                    <a:pt x="2223" y="1676"/>
                  </a:lnTo>
                  <a:lnTo>
                    <a:pt x="2224" y="1651"/>
                  </a:lnTo>
                  <a:lnTo>
                    <a:pt x="2224" y="1628"/>
                  </a:lnTo>
                  <a:lnTo>
                    <a:pt x="2223" y="1532"/>
                  </a:lnTo>
                  <a:lnTo>
                    <a:pt x="2223" y="1550"/>
                  </a:lnTo>
                  <a:lnTo>
                    <a:pt x="2197" y="1553"/>
                  </a:lnTo>
                  <a:lnTo>
                    <a:pt x="2171" y="1554"/>
                  </a:lnTo>
                  <a:lnTo>
                    <a:pt x="2144" y="1553"/>
                  </a:lnTo>
                  <a:lnTo>
                    <a:pt x="2118" y="1550"/>
                  </a:lnTo>
                  <a:lnTo>
                    <a:pt x="2117" y="1548"/>
                  </a:lnTo>
                  <a:lnTo>
                    <a:pt x="2114" y="1547"/>
                  </a:lnTo>
                  <a:lnTo>
                    <a:pt x="2110" y="1541"/>
                  </a:lnTo>
                  <a:lnTo>
                    <a:pt x="2105" y="1535"/>
                  </a:lnTo>
                  <a:lnTo>
                    <a:pt x="2104" y="1534"/>
                  </a:lnTo>
                  <a:lnTo>
                    <a:pt x="2101" y="1532"/>
                  </a:lnTo>
                  <a:lnTo>
                    <a:pt x="2091" y="1534"/>
                  </a:lnTo>
                  <a:lnTo>
                    <a:pt x="2082" y="1532"/>
                  </a:lnTo>
                  <a:lnTo>
                    <a:pt x="2073" y="1529"/>
                  </a:lnTo>
                  <a:lnTo>
                    <a:pt x="2066" y="1525"/>
                  </a:lnTo>
                  <a:lnTo>
                    <a:pt x="2050" y="1518"/>
                  </a:lnTo>
                  <a:lnTo>
                    <a:pt x="2041" y="1516"/>
                  </a:lnTo>
                  <a:lnTo>
                    <a:pt x="2031" y="1515"/>
                  </a:lnTo>
                  <a:lnTo>
                    <a:pt x="2031" y="1497"/>
                  </a:lnTo>
                  <a:lnTo>
                    <a:pt x="2014" y="1497"/>
                  </a:lnTo>
                  <a:lnTo>
                    <a:pt x="2005" y="1492"/>
                  </a:lnTo>
                  <a:lnTo>
                    <a:pt x="1999" y="1484"/>
                  </a:lnTo>
                  <a:lnTo>
                    <a:pt x="1996" y="1480"/>
                  </a:lnTo>
                  <a:lnTo>
                    <a:pt x="1995" y="1474"/>
                  </a:lnTo>
                  <a:lnTo>
                    <a:pt x="1995" y="1468"/>
                  </a:lnTo>
                  <a:lnTo>
                    <a:pt x="1996" y="1463"/>
                  </a:lnTo>
                  <a:lnTo>
                    <a:pt x="1979" y="1463"/>
                  </a:lnTo>
                  <a:lnTo>
                    <a:pt x="1979" y="1445"/>
                  </a:lnTo>
                  <a:lnTo>
                    <a:pt x="1962" y="1445"/>
                  </a:lnTo>
                  <a:lnTo>
                    <a:pt x="1962" y="1428"/>
                  </a:lnTo>
                  <a:lnTo>
                    <a:pt x="1956" y="1419"/>
                  </a:lnTo>
                  <a:lnTo>
                    <a:pt x="1949" y="1412"/>
                  </a:lnTo>
                  <a:lnTo>
                    <a:pt x="1944" y="1410"/>
                  </a:lnTo>
                  <a:lnTo>
                    <a:pt x="1938" y="1409"/>
                  </a:lnTo>
                  <a:lnTo>
                    <a:pt x="1933" y="1409"/>
                  </a:lnTo>
                  <a:lnTo>
                    <a:pt x="1927" y="1410"/>
                  </a:lnTo>
                  <a:lnTo>
                    <a:pt x="1927" y="1393"/>
                  </a:lnTo>
                  <a:lnTo>
                    <a:pt x="1921" y="1396"/>
                  </a:lnTo>
                  <a:lnTo>
                    <a:pt x="1915" y="1399"/>
                  </a:lnTo>
                  <a:lnTo>
                    <a:pt x="1909" y="1399"/>
                  </a:lnTo>
                  <a:lnTo>
                    <a:pt x="1905" y="1399"/>
                  </a:lnTo>
                  <a:lnTo>
                    <a:pt x="1898" y="1396"/>
                  </a:lnTo>
                  <a:lnTo>
                    <a:pt x="1891" y="1390"/>
                  </a:lnTo>
                  <a:lnTo>
                    <a:pt x="1883" y="1384"/>
                  </a:lnTo>
                  <a:lnTo>
                    <a:pt x="1876" y="1379"/>
                  </a:lnTo>
                  <a:lnTo>
                    <a:pt x="1867" y="1376"/>
                  </a:lnTo>
                  <a:lnTo>
                    <a:pt x="1863" y="1376"/>
                  </a:lnTo>
                  <a:lnTo>
                    <a:pt x="1857" y="1376"/>
                  </a:lnTo>
                  <a:lnTo>
                    <a:pt x="1857" y="1358"/>
                  </a:lnTo>
                  <a:lnTo>
                    <a:pt x="1841" y="1347"/>
                  </a:lnTo>
                  <a:lnTo>
                    <a:pt x="1825" y="1335"/>
                  </a:lnTo>
                  <a:lnTo>
                    <a:pt x="1812" y="1322"/>
                  </a:lnTo>
                  <a:lnTo>
                    <a:pt x="1799" y="1307"/>
                  </a:lnTo>
                  <a:lnTo>
                    <a:pt x="1789" y="1293"/>
                  </a:lnTo>
                  <a:lnTo>
                    <a:pt x="1779" y="1277"/>
                  </a:lnTo>
                  <a:lnTo>
                    <a:pt x="1770" y="1261"/>
                  </a:lnTo>
                  <a:lnTo>
                    <a:pt x="1764" y="1245"/>
                  </a:lnTo>
                  <a:lnTo>
                    <a:pt x="1759" y="1228"/>
                  </a:lnTo>
                  <a:lnTo>
                    <a:pt x="1754" y="1210"/>
                  </a:lnTo>
                  <a:lnTo>
                    <a:pt x="1750" y="1193"/>
                  </a:lnTo>
                  <a:lnTo>
                    <a:pt x="1749" y="1174"/>
                  </a:lnTo>
                  <a:lnTo>
                    <a:pt x="1749" y="1155"/>
                  </a:lnTo>
                  <a:lnTo>
                    <a:pt x="1749" y="1136"/>
                  </a:lnTo>
                  <a:lnTo>
                    <a:pt x="1750" y="1116"/>
                  </a:lnTo>
                  <a:lnTo>
                    <a:pt x="1753" y="1097"/>
                  </a:lnTo>
                  <a:lnTo>
                    <a:pt x="1770" y="1097"/>
                  </a:lnTo>
                  <a:lnTo>
                    <a:pt x="1770" y="1080"/>
                  </a:lnTo>
                  <a:lnTo>
                    <a:pt x="1780" y="1077"/>
                  </a:lnTo>
                  <a:lnTo>
                    <a:pt x="1791" y="1075"/>
                  </a:lnTo>
                  <a:lnTo>
                    <a:pt x="1801" y="1077"/>
                  </a:lnTo>
                  <a:lnTo>
                    <a:pt x="1809" y="1080"/>
                  </a:lnTo>
                  <a:lnTo>
                    <a:pt x="1817" y="1085"/>
                  </a:lnTo>
                  <a:lnTo>
                    <a:pt x="1824" y="1090"/>
                  </a:lnTo>
                  <a:lnTo>
                    <a:pt x="1830" y="1097"/>
                  </a:lnTo>
                  <a:lnTo>
                    <a:pt x="1834" y="1103"/>
                  </a:lnTo>
                  <a:lnTo>
                    <a:pt x="1859" y="1126"/>
                  </a:lnTo>
                  <a:lnTo>
                    <a:pt x="1883" y="1146"/>
                  </a:lnTo>
                  <a:lnTo>
                    <a:pt x="1908" y="1164"/>
                  </a:lnTo>
                  <a:lnTo>
                    <a:pt x="1921" y="1171"/>
                  </a:lnTo>
                  <a:lnTo>
                    <a:pt x="1934" y="1177"/>
                  </a:lnTo>
                  <a:lnTo>
                    <a:pt x="1947" y="1183"/>
                  </a:lnTo>
                  <a:lnTo>
                    <a:pt x="1960" y="1187"/>
                  </a:lnTo>
                  <a:lnTo>
                    <a:pt x="1973" y="1188"/>
                  </a:lnTo>
                  <a:lnTo>
                    <a:pt x="1988" y="1190"/>
                  </a:lnTo>
                  <a:lnTo>
                    <a:pt x="2001" y="1190"/>
                  </a:lnTo>
                  <a:lnTo>
                    <a:pt x="2015" y="1187"/>
                  </a:lnTo>
                  <a:lnTo>
                    <a:pt x="2028" y="1184"/>
                  </a:lnTo>
                  <a:lnTo>
                    <a:pt x="2043" y="1178"/>
                  </a:lnTo>
                  <a:lnTo>
                    <a:pt x="2059" y="1170"/>
                  </a:lnTo>
                  <a:lnTo>
                    <a:pt x="2076" y="1161"/>
                  </a:lnTo>
                  <a:lnTo>
                    <a:pt x="2085" y="1157"/>
                  </a:lnTo>
                  <a:lnTo>
                    <a:pt x="2092" y="1149"/>
                  </a:lnTo>
                  <a:lnTo>
                    <a:pt x="2098" y="1142"/>
                  </a:lnTo>
                  <a:lnTo>
                    <a:pt x="2101" y="1132"/>
                  </a:lnTo>
                  <a:lnTo>
                    <a:pt x="2104" y="1106"/>
                  </a:lnTo>
                  <a:lnTo>
                    <a:pt x="2105" y="1080"/>
                  </a:lnTo>
                  <a:lnTo>
                    <a:pt x="2104" y="1054"/>
                  </a:lnTo>
                  <a:lnTo>
                    <a:pt x="2101" y="1027"/>
                  </a:lnTo>
                  <a:lnTo>
                    <a:pt x="2095" y="1019"/>
                  </a:lnTo>
                  <a:lnTo>
                    <a:pt x="2088" y="1012"/>
                  </a:lnTo>
                  <a:lnTo>
                    <a:pt x="2084" y="1010"/>
                  </a:lnTo>
                  <a:lnTo>
                    <a:pt x="2078" y="1009"/>
                  </a:lnTo>
                  <a:lnTo>
                    <a:pt x="2072" y="1009"/>
                  </a:lnTo>
                  <a:lnTo>
                    <a:pt x="2066" y="1010"/>
                  </a:lnTo>
                  <a:lnTo>
                    <a:pt x="2066" y="993"/>
                  </a:lnTo>
                  <a:lnTo>
                    <a:pt x="2049" y="993"/>
                  </a:lnTo>
                  <a:lnTo>
                    <a:pt x="2049" y="975"/>
                  </a:lnTo>
                  <a:lnTo>
                    <a:pt x="2033" y="972"/>
                  </a:lnTo>
                  <a:lnTo>
                    <a:pt x="2026" y="969"/>
                  </a:lnTo>
                  <a:lnTo>
                    <a:pt x="2021" y="967"/>
                  </a:lnTo>
                  <a:lnTo>
                    <a:pt x="2017" y="964"/>
                  </a:lnTo>
                  <a:lnTo>
                    <a:pt x="2014" y="961"/>
                  </a:lnTo>
                  <a:lnTo>
                    <a:pt x="2011" y="952"/>
                  </a:lnTo>
                  <a:lnTo>
                    <a:pt x="2008" y="945"/>
                  </a:lnTo>
                  <a:lnTo>
                    <a:pt x="2007" y="935"/>
                  </a:lnTo>
                  <a:lnTo>
                    <a:pt x="2005" y="926"/>
                  </a:lnTo>
                  <a:lnTo>
                    <a:pt x="2002" y="917"/>
                  </a:lnTo>
                  <a:lnTo>
                    <a:pt x="1995" y="898"/>
                  </a:lnTo>
                  <a:lnTo>
                    <a:pt x="1991" y="878"/>
                  </a:lnTo>
                  <a:lnTo>
                    <a:pt x="1989" y="858"/>
                  </a:lnTo>
                  <a:lnTo>
                    <a:pt x="1989" y="848"/>
                  </a:lnTo>
                  <a:lnTo>
                    <a:pt x="1992" y="836"/>
                  </a:lnTo>
                  <a:lnTo>
                    <a:pt x="1994" y="827"/>
                  </a:lnTo>
                  <a:lnTo>
                    <a:pt x="1996" y="817"/>
                  </a:lnTo>
                  <a:lnTo>
                    <a:pt x="2001" y="808"/>
                  </a:lnTo>
                  <a:lnTo>
                    <a:pt x="2007" y="801"/>
                  </a:lnTo>
                  <a:lnTo>
                    <a:pt x="2012" y="794"/>
                  </a:lnTo>
                  <a:lnTo>
                    <a:pt x="2020" y="787"/>
                  </a:lnTo>
                  <a:lnTo>
                    <a:pt x="2028" y="782"/>
                  </a:lnTo>
                  <a:lnTo>
                    <a:pt x="2037" y="778"/>
                  </a:lnTo>
                  <a:lnTo>
                    <a:pt x="2049" y="774"/>
                  </a:lnTo>
                  <a:lnTo>
                    <a:pt x="2060" y="769"/>
                  </a:lnTo>
                  <a:lnTo>
                    <a:pt x="2084" y="763"/>
                  </a:lnTo>
                  <a:lnTo>
                    <a:pt x="2108" y="761"/>
                  </a:lnTo>
                  <a:lnTo>
                    <a:pt x="2134" y="759"/>
                  </a:lnTo>
                  <a:lnTo>
                    <a:pt x="2160" y="759"/>
                  </a:lnTo>
                  <a:lnTo>
                    <a:pt x="2188" y="762"/>
                  </a:lnTo>
                  <a:lnTo>
                    <a:pt x="2240" y="766"/>
                  </a:lnTo>
                  <a:lnTo>
                    <a:pt x="2243" y="766"/>
                  </a:lnTo>
                  <a:lnTo>
                    <a:pt x="2244" y="768"/>
                  </a:lnTo>
                  <a:lnTo>
                    <a:pt x="2249" y="772"/>
                  </a:lnTo>
                  <a:lnTo>
                    <a:pt x="2258" y="784"/>
                  </a:lnTo>
                  <a:lnTo>
                    <a:pt x="2292" y="784"/>
                  </a:lnTo>
                  <a:lnTo>
                    <a:pt x="2310" y="801"/>
                  </a:lnTo>
                  <a:lnTo>
                    <a:pt x="2345" y="801"/>
                  </a:lnTo>
                  <a:lnTo>
                    <a:pt x="2343" y="807"/>
                  </a:lnTo>
                  <a:lnTo>
                    <a:pt x="2343" y="813"/>
                  </a:lnTo>
                  <a:lnTo>
                    <a:pt x="2345" y="819"/>
                  </a:lnTo>
                  <a:lnTo>
                    <a:pt x="2347" y="823"/>
                  </a:lnTo>
                  <a:lnTo>
                    <a:pt x="2353" y="830"/>
                  </a:lnTo>
                  <a:lnTo>
                    <a:pt x="2362" y="836"/>
                  </a:lnTo>
                  <a:lnTo>
                    <a:pt x="2378" y="837"/>
                  </a:lnTo>
                  <a:lnTo>
                    <a:pt x="2392" y="840"/>
                  </a:lnTo>
                  <a:lnTo>
                    <a:pt x="2397" y="843"/>
                  </a:lnTo>
                  <a:lnTo>
                    <a:pt x="2403" y="846"/>
                  </a:lnTo>
                  <a:lnTo>
                    <a:pt x="2405" y="849"/>
                  </a:lnTo>
                  <a:lnTo>
                    <a:pt x="2408" y="853"/>
                  </a:lnTo>
                  <a:lnTo>
                    <a:pt x="2414" y="862"/>
                  </a:lnTo>
                  <a:lnTo>
                    <a:pt x="2421" y="871"/>
                  </a:lnTo>
                  <a:lnTo>
                    <a:pt x="2439" y="887"/>
                  </a:lnTo>
                  <a:lnTo>
                    <a:pt x="2458" y="900"/>
                  </a:lnTo>
                  <a:lnTo>
                    <a:pt x="2478" y="911"/>
                  </a:lnTo>
                  <a:lnTo>
                    <a:pt x="2498" y="920"/>
                  </a:lnTo>
                  <a:lnTo>
                    <a:pt x="2508" y="922"/>
                  </a:lnTo>
                  <a:lnTo>
                    <a:pt x="2517" y="923"/>
                  </a:lnTo>
                  <a:lnTo>
                    <a:pt x="2526" y="924"/>
                  </a:lnTo>
                  <a:lnTo>
                    <a:pt x="2535" y="923"/>
                  </a:lnTo>
                  <a:lnTo>
                    <a:pt x="2542" y="920"/>
                  </a:lnTo>
                  <a:lnTo>
                    <a:pt x="2548" y="917"/>
                  </a:lnTo>
                  <a:lnTo>
                    <a:pt x="2550" y="913"/>
                  </a:lnTo>
                  <a:lnTo>
                    <a:pt x="2552" y="909"/>
                  </a:lnTo>
                  <a:lnTo>
                    <a:pt x="2555" y="897"/>
                  </a:lnTo>
                  <a:lnTo>
                    <a:pt x="2556" y="884"/>
                  </a:lnTo>
                  <a:lnTo>
                    <a:pt x="2556" y="868"/>
                  </a:lnTo>
                  <a:lnTo>
                    <a:pt x="2555" y="835"/>
                  </a:lnTo>
                  <a:lnTo>
                    <a:pt x="2556" y="817"/>
                  </a:lnTo>
                  <a:lnTo>
                    <a:pt x="2559" y="801"/>
                  </a:lnTo>
                  <a:lnTo>
                    <a:pt x="2565" y="784"/>
                  </a:lnTo>
                  <a:lnTo>
                    <a:pt x="2572" y="769"/>
                  </a:lnTo>
                  <a:lnTo>
                    <a:pt x="2581" y="755"/>
                  </a:lnTo>
                  <a:lnTo>
                    <a:pt x="2591" y="740"/>
                  </a:lnTo>
                  <a:lnTo>
                    <a:pt x="2603" y="729"/>
                  </a:lnTo>
                  <a:lnTo>
                    <a:pt x="2614" y="718"/>
                  </a:lnTo>
                  <a:lnTo>
                    <a:pt x="2627" y="710"/>
                  </a:lnTo>
                  <a:lnTo>
                    <a:pt x="2640" y="703"/>
                  </a:lnTo>
                  <a:lnTo>
                    <a:pt x="2655" y="697"/>
                  </a:lnTo>
                  <a:lnTo>
                    <a:pt x="2671" y="694"/>
                  </a:lnTo>
                  <a:lnTo>
                    <a:pt x="2685" y="694"/>
                  </a:lnTo>
                  <a:lnTo>
                    <a:pt x="2700" y="694"/>
                  </a:lnTo>
                  <a:lnTo>
                    <a:pt x="2672" y="655"/>
                  </a:lnTo>
                  <a:lnTo>
                    <a:pt x="2645" y="617"/>
                  </a:lnTo>
                  <a:lnTo>
                    <a:pt x="2616" y="581"/>
                  </a:lnTo>
                  <a:lnTo>
                    <a:pt x="2585" y="544"/>
                  </a:lnTo>
                  <a:lnTo>
                    <a:pt x="2553" y="510"/>
                  </a:lnTo>
                  <a:lnTo>
                    <a:pt x="2520" y="475"/>
                  </a:lnTo>
                  <a:lnTo>
                    <a:pt x="2487" y="441"/>
                  </a:lnTo>
                  <a:lnTo>
                    <a:pt x="2453" y="410"/>
                  </a:lnTo>
                  <a:lnTo>
                    <a:pt x="2417" y="378"/>
                  </a:lnTo>
                  <a:lnTo>
                    <a:pt x="2381" y="347"/>
                  </a:lnTo>
                  <a:lnTo>
                    <a:pt x="2343" y="318"/>
                  </a:lnTo>
                  <a:lnTo>
                    <a:pt x="2305" y="291"/>
                  </a:lnTo>
                  <a:lnTo>
                    <a:pt x="2266" y="264"/>
                  </a:lnTo>
                  <a:lnTo>
                    <a:pt x="2226" y="238"/>
                  </a:lnTo>
                  <a:lnTo>
                    <a:pt x="2185" y="214"/>
                  </a:lnTo>
                  <a:lnTo>
                    <a:pt x="2144" y="190"/>
                  </a:lnTo>
                  <a:lnTo>
                    <a:pt x="2102" y="169"/>
                  </a:lnTo>
                  <a:lnTo>
                    <a:pt x="2059" y="147"/>
                  </a:lnTo>
                  <a:lnTo>
                    <a:pt x="2015" y="128"/>
                  </a:lnTo>
                  <a:lnTo>
                    <a:pt x="1970" y="109"/>
                  </a:lnTo>
                  <a:lnTo>
                    <a:pt x="1925" y="93"/>
                  </a:lnTo>
                  <a:lnTo>
                    <a:pt x="1880" y="77"/>
                  </a:lnTo>
                  <a:lnTo>
                    <a:pt x="1834" y="63"/>
                  </a:lnTo>
                  <a:lnTo>
                    <a:pt x="1786" y="50"/>
                  </a:lnTo>
                  <a:lnTo>
                    <a:pt x="1740" y="38"/>
                  </a:lnTo>
                  <a:lnTo>
                    <a:pt x="1692" y="28"/>
                  </a:lnTo>
                  <a:lnTo>
                    <a:pt x="1643" y="21"/>
                  </a:lnTo>
                  <a:lnTo>
                    <a:pt x="1593" y="13"/>
                  </a:lnTo>
                  <a:lnTo>
                    <a:pt x="1544" y="8"/>
                  </a:lnTo>
                  <a:lnTo>
                    <a:pt x="1495" y="3"/>
                  </a:lnTo>
                  <a:lnTo>
                    <a:pt x="1444" y="2"/>
                  </a:lnTo>
                  <a:lnTo>
                    <a:pt x="1393" y="0"/>
                  </a:lnTo>
                  <a:lnTo>
                    <a:pt x="1353" y="0"/>
                  </a:lnTo>
                  <a:lnTo>
                    <a:pt x="1313" y="2"/>
                  </a:lnTo>
                  <a:lnTo>
                    <a:pt x="1274" y="5"/>
                  </a:lnTo>
                  <a:lnTo>
                    <a:pt x="1234" y="8"/>
                  </a:lnTo>
                  <a:lnTo>
                    <a:pt x="1196" y="12"/>
                  </a:lnTo>
                  <a:lnTo>
                    <a:pt x="1157" y="18"/>
                  </a:lnTo>
                  <a:lnTo>
                    <a:pt x="1118" y="24"/>
                  </a:lnTo>
                  <a:lnTo>
                    <a:pt x="1080" y="31"/>
                  </a:lnTo>
                  <a:lnTo>
                    <a:pt x="1042" y="40"/>
                  </a:lnTo>
                  <a:lnTo>
                    <a:pt x="1005" y="48"/>
                  </a:lnTo>
                  <a:lnTo>
                    <a:pt x="968" y="58"/>
                  </a:lnTo>
                  <a:lnTo>
                    <a:pt x="931" y="69"/>
                  </a:lnTo>
                  <a:lnTo>
                    <a:pt x="894" y="80"/>
                  </a:lnTo>
                  <a:lnTo>
                    <a:pt x="858" y="93"/>
                  </a:lnTo>
                  <a:lnTo>
                    <a:pt x="823" y="106"/>
                  </a:lnTo>
                  <a:lnTo>
                    <a:pt x="789" y="121"/>
                  </a:lnTo>
                  <a:lnTo>
                    <a:pt x="754" y="135"/>
                  </a:lnTo>
                  <a:lnTo>
                    <a:pt x="719" y="151"/>
                  </a:lnTo>
                  <a:lnTo>
                    <a:pt x="686" y="169"/>
                  </a:lnTo>
                  <a:lnTo>
                    <a:pt x="652" y="185"/>
                  </a:lnTo>
                  <a:lnTo>
                    <a:pt x="619" y="204"/>
                  </a:lnTo>
                  <a:lnTo>
                    <a:pt x="587" y="222"/>
                  </a:lnTo>
                  <a:lnTo>
                    <a:pt x="555" y="241"/>
                  </a:lnTo>
                  <a:lnTo>
                    <a:pt x="523" y="262"/>
                  </a:lnTo>
                  <a:lnTo>
                    <a:pt x="493" y="283"/>
                  </a:lnTo>
                  <a:lnTo>
                    <a:pt x="462" y="305"/>
                  </a:lnTo>
                  <a:lnTo>
                    <a:pt x="432" y="327"/>
                  </a:lnTo>
                  <a:lnTo>
                    <a:pt x="403" y="350"/>
                  </a:lnTo>
                  <a:lnTo>
                    <a:pt x="374" y="375"/>
                  </a:lnTo>
                  <a:lnTo>
                    <a:pt x="346" y="399"/>
                  </a:lnTo>
                  <a:lnTo>
                    <a:pt x="319" y="424"/>
                  </a:lnTo>
                  <a:lnTo>
                    <a:pt x="291" y="450"/>
                  </a:lnTo>
                  <a:lnTo>
                    <a:pt x="319" y="470"/>
                  </a:lnTo>
                  <a:lnTo>
                    <a:pt x="345" y="494"/>
                  </a:lnTo>
                  <a:lnTo>
                    <a:pt x="356" y="505"/>
                  </a:lnTo>
                  <a:lnTo>
                    <a:pt x="368" y="518"/>
                  </a:lnTo>
                  <a:lnTo>
                    <a:pt x="380" y="531"/>
                  </a:lnTo>
                  <a:lnTo>
                    <a:pt x="390" y="546"/>
                  </a:lnTo>
                  <a:lnTo>
                    <a:pt x="394" y="553"/>
                  </a:lnTo>
                  <a:lnTo>
                    <a:pt x="398" y="562"/>
                  </a:lnTo>
                  <a:lnTo>
                    <a:pt x="400" y="569"/>
                  </a:lnTo>
                  <a:lnTo>
                    <a:pt x="401" y="576"/>
                  </a:lnTo>
                  <a:lnTo>
                    <a:pt x="400" y="585"/>
                  </a:lnTo>
                  <a:lnTo>
                    <a:pt x="398" y="592"/>
                  </a:lnTo>
                  <a:lnTo>
                    <a:pt x="394" y="607"/>
                  </a:lnTo>
                  <a:lnTo>
                    <a:pt x="387" y="621"/>
                  </a:lnTo>
                  <a:lnTo>
                    <a:pt x="377" y="634"/>
                  </a:lnTo>
                  <a:lnTo>
                    <a:pt x="367" y="646"/>
                  </a:lnTo>
                  <a:lnTo>
                    <a:pt x="355" y="656"/>
                  </a:lnTo>
                  <a:lnTo>
                    <a:pt x="346" y="662"/>
                  </a:lnTo>
                  <a:lnTo>
                    <a:pt x="339" y="668"/>
                  </a:lnTo>
                  <a:lnTo>
                    <a:pt x="333" y="675"/>
                  </a:lnTo>
                  <a:lnTo>
                    <a:pt x="329" y="682"/>
                  </a:lnTo>
                  <a:lnTo>
                    <a:pt x="320" y="700"/>
                  </a:lnTo>
                  <a:lnTo>
                    <a:pt x="314" y="714"/>
                  </a:lnTo>
                  <a:lnTo>
                    <a:pt x="309" y="745"/>
                  </a:lnTo>
                  <a:lnTo>
                    <a:pt x="304" y="777"/>
                  </a:lnTo>
                  <a:lnTo>
                    <a:pt x="301" y="807"/>
                  </a:lnTo>
                  <a:lnTo>
                    <a:pt x="301" y="837"/>
                  </a:lnTo>
                  <a:lnTo>
                    <a:pt x="303" y="869"/>
                  </a:lnTo>
                  <a:lnTo>
                    <a:pt x="307" y="900"/>
                  </a:lnTo>
                  <a:lnTo>
                    <a:pt x="314" y="929"/>
                  </a:lnTo>
                  <a:lnTo>
                    <a:pt x="320" y="943"/>
                  </a:lnTo>
                  <a:lnTo>
                    <a:pt x="326" y="958"/>
                  </a:lnTo>
                  <a:lnTo>
                    <a:pt x="343" y="958"/>
                  </a:lnTo>
                  <a:lnTo>
                    <a:pt x="343" y="975"/>
                  </a:lnTo>
                  <a:lnTo>
                    <a:pt x="365" y="977"/>
                  </a:lnTo>
                  <a:lnTo>
                    <a:pt x="388" y="975"/>
                  </a:lnTo>
                  <a:lnTo>
                    <a:pt x="432" y="971"/>
                  </a:lnTo>
                  <a:lnTo>
                    <a:pt x="454" y="971"/>
                  </a:lnTo>
                  <a:lnTo>
                    <a:pt x="474" y="971"/>
                  </a:lnTo>
                  <a:lnTo>
                    <a:pt x="493" y="974"/>
                  </a:lnTo>
                  <a:lnTo>
                    <a:pt x="503" y="977"/>
                  </a:lnTo>
                  <a:lnTo>
                    <a:pt x="512" y="981"/>
                  </a:lnTo>
                  <a:lnTo>
                    <a:pt x="517" y="985"/>
                  </a:lnTo>
                  <a:lnTo>
                    <a:pt x="523" y="991"/>
                  </a:lnTo>
                  <a:lnTo>
                    <a:pt x="527" y="998"/>
                  </a:lnTo>
                  <a:lnTo>
                    <a:pt x="532" y="1006"/>
                  </a:lnTo>
                  <a:lnTo>
                    <a:pt x="538" y="1022"/>
                  </a:lnTo>
                  <a:lnTo>
                    <a:pt x="541" y="1039"/>
                  </a:lnTo>
                  <a:lnTo>
                    <a:pt x="541" y="1058"/>
                  </a:lnTo>
                  <a:lnTo>
                    <a:pt x="539" y="1077"/>
                  </a:lnTo>
                  <a:lnTo>
                    <a:pt x="535" y="1097"/>
                  </a:lnTo>
                  <a:lnTo>
                    <a:pt x="529" y="1115"/>
                  </a:lnTo>
                  <a:lnTo>
                    <a:pt x="517" y="1138"/>
                  </a:lnTo>
                  <a:lnTo>
                    <a:pt x="504" y="1162"/>
                  </a:lnTo>
                  <a:lnTo>
                    <a:pt x="488" y="1188"/>
                  </a:lnTo>
                  <a:lnTo>
                    <a:pt x="471" y="1212"/>
                  </a:lnTo>
                  <a:lnTo>
                    <a:pt x="461" y="1223"/>
                  </a:lnTo>
                  <a:lnTo>
                    <a:pt x="451" y="1235"/>
                  </a:lnTo>
                  <a:lnTo>
                    <a:pt x="440" y="1244"/>
                  </a:lnTo>
                  <a:lnTo>
                    <a:pt x="429" y="1252"/>
                  </a:lnTo>
                  <a:lnTo>
                    <a:pt x="417" y="1260"/>
                  </a:lnTo>
                  <a:lnTo>
                    <a:pt x="406" y="1265"/>
                  </a:lnTo>
                  <a:lnTo>
                    <a:pt x="393" y="1270"/>
                  </a:lnTo>
                  <a:lnTo>
                    <a:pt x="378" y="1271"/>
                  </a:lnTo>
                  <a:lnTo>
                    <a:pt x="378" y="1281"/>
                  </a:lnTo>
                  <a:lnTo>
                    <a:pt x="377" y="1289"/>
                  </a:lnTo>
                  <a:lnTo>
                    <a:pt x="371" y="1296"/>
                  </a:lnTo>
                  <a:lnTo>
                    <a:pt x="365" y="1302"/>
                  </a:lnTo>
                  <a:lnTo>
                    <a:pt x="352" y="1312"/>
                  </a:lnTo>
                  <a:lnTo>
                    <a:pt x="346" y="1318"/>
                  </a:lnTo>
                  <a:lnTo>
                    <a:pt x="343" y="1323"/>
                  </a:lnTo>
                  <a:lnTo>
                    <a:pt x="342" y="1331"/>
                  </a:lnTo>
                  <a:lnTo>
                    <a:pt x="342" y="1336"/>
                  </a:lnTo>
                  <a:lnTo>
                    <a:pt x="342" y="1342"/>
                  </a:lnTo>
                  <a:lnTo>
                    <a:pt x="345" y="1347"/>
                  </a:lnTo>
                  <a:lnTo>
                    <a:pt x="346" y="1351"/>
                  </a:lnTo>
                  <a:lnTo>
                    <a:pt x="351" y="1354"/>
                  </a:lnTo>
                  <a:lnTo>
                    <a:pt x="359" y="1360"/>
                  </a:lnTo>
                  <a:lnTo>
                    <a:pt x="368" y="1363"/>
                  </a:lnTo>
                  <a:lnTo>
                    <a:pt x="378" y="1365"/>
                  </a:lnTo>
                  <a:lnTo>
                    <a:pt x="396" y="1370"/>
                  </a:lnTo>
                  <a:lnTo>
                    <a:pt x="426" y="1376"/>
                  </a:lnTo>
                  <a:lnTo>
                    <a:pt x="458" y="1380"/>
                  </a:lnTo>
                  <a:lnTo>
                    <a:pt x="488" y="1383"/>
                  </a:lnTo>
                  <a:lnTo>
                    <a:pt x="520" y="1384"/>
                  </a:lnTo>
                  <a:lnTo>
                    <a:pt x="551" y="1384"/>
                  </a:lnTo>
                  <a:lnTo>
                    <a:pt x="581" y="1381"/>
                  </a:lnTo>
                  <a:lnTo>
                    <a:pt x="610" y="1377"/>
                  </a:lnTo>
                  <a:lnTo>
                    <a:pt x="639" y="1370"/>
                  </a:lnTo>
                  <a:lnTo>
                    <a:pt x="651" y="1367"/>
                  </a:lnTo>
                  <a:lnTo>
                    <a:pt x="662" y="1364"/>
                  </a:lnTo>
                  <a:lnTo>
                    <a:pt x="690" y="1364"/>
                  </a:lnTo>
                  <a:lnTo>
                    <a:pt x="716" y="1363"/>
                  </a:lnTo>
                  <a:lnTo>
                    <a:pt x="731" y="1361"/>
                  </a:lnTo>
                  <a:lnTo>
                    <a:pt x="744" y="1358"/>
                  </a:lnTo>
                  <a:lnTo>
                    <a:pt x="744" y="1341"/>
                  </a:lnTo>
                  <a:lnTo>
                    <a:pt x="748" y="1339"/>
                  </a:lnTo>
                  <a:lnTo>
                    <a:pt x="754" y="1339"/>
                  </a:lnTo>
                  <a:lnTo>
                    <a:pt x="764" y="1341"/>
                  </a:lnTo>
                  <a:lnTo>
                    <a:pt x="773" y="1342"/>
                  </a:lnTo>
                  <a:lnTo>
                    <a:pt x="775" y="1342"/>
                  </a:lnTo>
                  <a:lnTo>
                    <a:pt x="778" y="1341"/>
                  </a:lnTo>
                  <a:lnTo>
                    <a:pt x="806" y="1315"/>
                  </a:lnTo>
                  <a:lnTo>
                    <a:pt x="819" y="1300"/>
                  </a:lnTo>
                  <a:lnTo>
                    <a:pt x="831" y="1286"/>
                  </a:lnTo>
                  <a:lnTo>
                    <a:pt x="841" y="1271"/>
                  </a:lnTo>
                  <a:lnTo>
                    <a:pt x="844" y="1264"/>
                  </a:lnTo>
                  <a:lnTo>
                    <a:pt x="847" y="1255"/>
                  </a:lnTo>
                  <a:lnTo>
                    <a:pt x="849" y="1247"/>
                  </a:lnTo>
                  <a:lnTo>
                    <a:pt x="849" y="1238"/>
                  </a:lnTo>
                  <a:lnTo>
                    <a:pt x="849" y="1229"/>
                  </a:lnTo>
                  <a:lnTo>
                    <a:pt x="848" y="1219"/>
                  </a:lnTo>
                  <a:lnTo>
                    <a:pt x="865" y="1219"/>
                  </a:lnTo>
                  <a:lnTo>
                    <a:pt x="867" y="1186"/>
                  </a:lnTo>
                  <a:lnTo>
                    <a:pt x="867" y="1154"/>
                  </a:lnTo>
                  <a:lnTo>
                    <a:pt x="864" y="1088"/>
                  </a:lnTo>
                  <a:lnTo>
                    <a:pt x="864" y="1055"/>
                  </a:lnTo>
                  <a:lnTo>
                    <a:pt x="864" y="1023"/>
                  </a:lnTo>
                  <a:lnTo>
                    <a:pt x="867" y="990"/>
                  </a:lnTo>
                  <a:lnTo>
                    <a:pt x="871" y="958"/>
                  </a:lnTo>
                  <a:lnTo>
                    <a:pt x="873" y="951"/>
                  </a:lnTo>
                  <a:lnTo>
                    <a:pt x="876" y="943"/>
                  </a:lnTo>
                  <a:lnTo>
                    <a:pt x="878" y="938"/>
                  </a:lnTo>
                  <a:lnTo>
                    <a:pt x="883" y="930"/>
                  </a:lnTo>
                  <a:lnTo>
                    <a:pt x="893" y="920"/>
                  </a:lnTo>
                  <a:lnTo>
                    <a:pt x="906" y="911"/>
                  </a:lnTo>
                  <a:lnTo>
                    <a:pt x="919" y="906"/>
                  </a:lnTo>
                  <a:lnTo>
                    <a:pt x="935" y="903"/>
                  </a:lnTo>
                  <a:lnTo>
                    <a:pt x="952" y="903"/>
                  </a:lnTo>
                  <a:lnTo>
                    <a:pt x="970" y="906"/>
                  </a:lnTo>
                  <a:lnTo>
                    <a:pt x="970" y="923"/>
                  </a:lnTo>
                  <a:lnTo>
                    <a:pt x="978" y="922"/>
                  </a:lnTo>
                  <a:lnTo>
                    <a:pt x="986" y="922"/>
                  </a:lnTo>
                  <a:lnTo>
                    <a:pt x="993" y="922"/>
                  </a:lnTo>
                  <a:lnTo>
                    <a:pt x="1000" y="924"/>
                  </a:lnTo>
                  <a:lnTo>
                    <a:pt x="1007" y="927"/>
                  </a:lnTo>
                  <a:lnTo>
                    <a:pt x="1013" y="930"/>
                  </a:lnTo>
                  <a:lnTo>
                    <a:pt x="1026" y="939"/>
                  </a:lnTo>
                  <a:lnTo>
                    <a:pt x="1036" y="949"/>
                  </a:lnTo>
                  <a:lnTo>
                    <a:pt x="1047" y="961"/>
                  </a:lnTo>
                  <a:lnTo>
                    <a:pt x="1058" y="971"/>
                  </a:lnTo>
                  <a:lnTo>
                    <a:pt x="1068" y="981"/>
                  </a:lnTo>
                  <a:lnTo>
                    <a:pt x="1071" y="984"/>
                  </a:lnTo>
                  <a:lnTo>
                    <a:pt x="1073" y="987"/>
                  </a:lnTo>
                  <a:lnTo>
                    <a:pt x="1076" y="996"/>
                  </a:lnTo>
                  <a:lnTo>
                    <a:pt x="1076" y="1007"/>
                  </a:lnTo>
                  <a:lnTo>
                    <a:pt x="1074" y="1019"/>
                  </a:lnTo>
                  <a:lnTo>
                    <a:pt x="1073" y="1030"/>
                  </a:lnTo>
                  <a:lnTo>
                    <a:pt x="1073" y="1042"/>
                  </a:lnTo>
                  <a:lnTo>
                    <a:pt x="1076" y="1051"/>
                  </a:lnTo>
                  <a:lnTo>
                    <a:pt x="1077" y="1054"/>
                  </a:lnTo>
                  <a:lnTo>
                    <a:pt x="1080" y="1056"/>
                  </a:lnTo>
                  <a:lnTo>
                    <a:pt x="1092" y="1061"/>
                  </a:lnTo>
                  <a:lnTo>
                    <a:pt x="1105" y="1064"/>
                  </a:lnTo>
                  <a:lnTo>
                    <a:pt x="1119" y="1064"/>
                  </a:lnTo>
                  <a:lnTo>
                    <a:pt x="1134" y="1064"/>
                  </a:lnTo>
                  <a:lnTo>
                    <a:pt x="1166" y="1061"/>
                  </a:lnTo>
                  <a:lnTo>
                    <a:pt x="1180" y="1061"/>
                  </a:lnTo>
                  <a:lnTo>
                    <a:pt x="1196" y="1062"/>
                  </a:lnTo>
                  <a:lnTo>
                    <a:pt x="1196" y="1080"/>
                  </a:lnTo>
                  <a:lnTo>
                    <a:pt x="1213" y="1080"/>
                  </a:lnTo>
                  <a:lnTo>
                    <a:pt x="1216" y="1093"/>
                  </a:lnTo>
                  <a:lnTo>
                    <a:pt x="1218" y="1106"/>
                  </a:lnTo>
                  <a:lnTo>
                    <a:pt x="1216" y="1119"/>
                  </a:lnTo>
                  <a:lnTo>
                    <a:pt x="1213" y="1132"/>
                  </a:lnTo>
                  <a:lnTo>
                    <a:pt x="1196" y="1132"/>
                  </a:lnTo>
                  <a:lnTo>
                    <a:pt x="1193" y="1144"/>
                  </a:lnTo>
                  <a:lnTo>
                    <a:pt x="1193" y="1155"/>
                  </a:lnTo>
                  <a:lnTo>
                    <a:pt x="1190" y="1168"/>
                  </a:lnTo>
                  <a:lnTo>
                    <a:pt x="1187" y="1175"/>
                  </a:lnTo>
                  <a:lnTo>
                    <a:pt x="1184" y="1184"/>
                  </a:lnTo>
                  <a:lnTo>
                    <a:pt x="1179" y="1196"/>
                  </a:lnTo>
                  <a:lnTo>
                    <a:pt x="1176" y="1207"/>
                  </a:lnTo>
                  <a:lnTo>
                    <a:pt x="1174" y="1220"/>
                  </a:lnTo>
                  <a:lnTo>
                    <a:pt x="1174" y="1233"/>
                  </a:lnTo>
                  <a:lnTo>
                    <a:pt x="1174" y="1248"/>
                  </a:lnTo>
                  <a:lnTo>
                    <a:pt x="1177" y="1261"/>
                  </a:lnTo>
                  <a:lnTo>
                    <a:pt x="1184" y="1289"/>
                  </a:lnTo>
                  <a:lnTo>
                    <a:pt x="1195" y="1286"/>
                  </a:lnTo>
                  <a:lnTo>
                    <a:pt x="1205" y="1286"/>
                  </a:lnTo>
                  <a:lnTo>
                    <a:pt x="1209" y="1287"/>
                  </a:lnTo>
                  <a:lnTo>
                    <a:pt x="1213" y="1289"/>
                  </a:lnTo>
                  <a:lnTo>
                    <a:pt x="1213" y="1306"/>
                  </a:lnTo>
                  <a:lnTo>
                    <a:pt x="1231" y="1306"/>
                  </a:lnTo>
                  <a:lnTo>
                    <a:pt x="1232" y="1316"/>
                  </a:lnTo>
                  <a:lnTo>
                    <a:pt x="1235" y="1325"/>
                  </a:lnTo>
                  <a:lnTo>
                    <a:pt x="1244" y="1341"/>
                  </a:lnTo>
                  <a:lnTo>
                    <a:pt x="1248" y="1348"/>
                  </a:lnTo>
                  <a:lnTo>
                    <a:pt x="1251" y="1357"/>
                  </a:lnTo>
                  <a:lnTo>
                    <a:pt x="1251" y="1365"/>
                  </a:lnTo>
                  <a:lnTo>
                    <a:pt x="1248" y="1376"/>
                  </a:lnTo>
                  <a:lnTo>
                    <a:pt x="1266" y="1376"/>
                  </a:lnTo>
                  <a:lnTo>
                    <a:pt x="1267" y="1381"/>
                  </a:lnTo>
                  <a:lnTo>
                    <a:pt x="1267" y="1387"/>
                  </a:lnTo>
                  <a:lnTo>
                    <a:pt x="1269" y="1399"/>
                  </a:lnTo>
                  <a:lnTo>
                    <a:pt x="1269" y="1406"/>
                  </a:lnTo>
                  <a:lnTo>
                    <a:pt x="1271" y="1412"/>
                  </a:lnTo>
                  <a:lnTo>
                    <a:pt x="1276" y="1419"/>
                  </a:lnTo>
                  <a:lnTo>
                    <a:pt x="1283" y="1428"/>
                  </a:lnTo>
                  <a:lnTo>
                    <a:pt x="1284" y="1431"/>
                  </a:lnTo>
                  <a:lnTo>
                    <a:pt x="1286" y="1434"/>
                  </a:lnTo>
                  <a:lnTo>
                    <a:pt x="1286" y="1442"/>
                  </a:lnTo>
                  <a:lnTo>
                    <a:pt x="1284" y="1453"/>
                  </a:lnTo>
                  <a:lnTo>
                    <a:pt x="1283" y="1463"/>
                  </a:lnTo>
                  <a:lnTo>
                    <a:pt x="1300" y="1480"/>
                  </a:lnTo>
                  <a:lnTo>
                    <a:pt x="1303" y="1497"/>
                  </a:lnTo>
                  <a:lnTo>
                    <a:pt x="1305" y="1516"/>
                  </a:lnTo>
                  <a:lnTo>
                    <a:pt x="1303" y="1525"/>
                  </a:lnTo>
                  <a:lnTo>
                    <a:pt x="1302" y="1532"/>
                  </a:lnTo>
                  <a:lnTo>
                    <a:pt x="1299" y="1538"/>
                  </a:lnTo>
                  <a:lnTo>
                    <a:pt x="1295" y="1544"/>
                  </a:lnTo>
                  <a:lnTo>
                    <a:pt x="1282" y="1557"/>
                  </a:lnTo>
                  <a:lnTo>
                    <a:pt x="1267" y="1567"/>
                  </a:lnTo>
                  <a:lnTo>
                    <a:pt x="1253" y="1579"/>
                  </a:lnTo>
                  <a:lnTo>
                    <a:pt x="1237" y="1587"/>
                  </a:lnTo>
                  <a:lnTo>
                    <a:pt x="1205" y="1605"/>
                  </a:lnTo>
                  <a:lnTo>
                    <a:pt x="1173" y="1621"/>
                  </a:lnTo>
                  <a:lnTo>
                    <a:pt x="1139" y="1637"/>
                  </a:lnTo>
                  <a:lnTo>
                    <a:pt x="1106" y="1654"/>
                  </a:lnTo>
                  <a:lnTo>
                    <a:pt x="1074" y="1673"/>
                  </a:lnTo>
                  <a:lnTo>
                    <a:pt x="1060" y="1683"/>
                  </a:lnTo>
                  <a:lnTo>
                    <a:pt x="1045" y="1695"/>
                  </a:lnTo>
                  <a:lnTo>
                    <a:pt x="1039" y="1701"/>
                  </a:lnTo>
                  <a:lnTo>
                    <a:pt x="1034" y="1706"/>
                  </a:lnTo>
                  <a:lnTo>
                    <a:pt x="1029" y="1714"/>
                  </a:lnTo>
                  <a:lnTo>
                    <a:pt x="1026" y="1722"/>
                  </a:lnTo>
                  <a:lnTo>
                    <a:pt x="1021" y="1740"/>
                  </a:lnTo>
                  <a:lnTo>
                    <a:pt x="1016" y="1759"/>
                  </a:lnTo>
                  <a:lnTo>
                    <a:pt x="1007" y="1780"/>
                  </a:lnTo>
                  <a:lnTo>
                    <a:pt x="996" y="1804"/>
                  </a:lnTo>
                  <a:lnTo>
                    <a:pt x="984" y="1825"/>
                  </a:lnTo>
                  <a:lnTo>
                    <a:pt x="977" y="1834"/>
                  </a:lnTo>
                  <a:lnTo>
                    <a:pt x="970" y="1843"/>
                  </a:lnTo>
                  <a:lnTo>
                    <a:pt x="961" y="1851"/>
                  </a:lnTo>
                  <a:lnTo>
                    <a:pt x="952" y="1859"/>
                  </a:lnTo>
                  <a:lnTo>
                    <a:pt x="942" y="1863"/>
                  </a:lnTo>
                  <a:lnTo>
                    <a:pt x="932" y="1867"/>
                  </a:lnTo>
                  <a:lnTo>
                    <a:pt x="920" y="1869"/>
                  </a:lnTo>
                  <a:lnTo>
                    <a:pt x="909" y="1869"/>
                  </a:lnTo>
                  <a:lnTo>
                    <a:pt x="896" y="1867"/>
                  </a:lnTo>
                  <a:lnTo>
                    <a:pt x="883" y="1863"/>
                  </a:lnTo>
                  <a:lnTo>
                    <a:pt x="878" y="1860"/>
                  </a:lnTo>
                  <a:lnTo>
                    <a:pt x="874" y="1856"/>
                  </a:lnTo>
                  <a:lnTo>
                    <a:pt x="865" y="1846"/>
                  </a:lnTo>
                  <a:lnTo>
                    <a:pt x="857" y="1838"/>
                  </a:lnTo>
                  <a:lnTo>
                    <a:pt x="852" y="1835"/>
                  </a:lnTo>
                  <a:lnTo>
                    <a:pt x="848" y="1834"/>
                  </a:lnTo>
                  <a:lnTo>
                    <a:pt x="839" y="1831"/>
                  </a:lnTo>
                  <a:lnTo>
                    <a:pt x="832" y="1828"/>
                  </a:lnTo>
                  <a:lnTo>
                    <a:pt x="819" y="1820"/>
                  </a:lnTo>
                  <a:lnTo>
                    <a:pt x="807" y="1811"/>
                  </a:lnTo>
                  <a:lnTo>
                    <a:pt x="802" y="1805"/>
                  </a:lnTo>
                  <a:lnTo>
                    <a:pt x="790" y="1792"/>
                  </a:lnTo>
                  <a:lnTo>
                    <a:pt x="778" y="1782"/>
                  </a:lnTo>
                  <a:lnTo>
                    <a:pt x="767" y="1772"/>
                  </a:lnTo>
                  <a:lnTo>
                    <a:pt x="754" y="1761"/>
                  </a:lnTo>
                  <a:lnTo>
                    <a:pt x="741" y="1754"/>
                  </a:lnTo>
                  <a:lnTo>
                    <a:pt x="728" y="1747"/>
                  </a:lnTo>
                  <a:lnTo>
                    <a:pt x="715" y="1741"/>
                  </a:lnTo>
                  <a:lnTo>
                    <a:pt x="702" y="1735"/>
                  </a:lnTo>
                  <a:lnTo>
                    <a:pt x="687" y="1732"/>
                  </a:lnTo>
                  <a:lnTo>
                    <a:pt x="673" y="1728"/>
                  </a:lnTo>
                  <a:lnTo>
                    <a:pt x="644" y="1724"/>
                  </a:lnTo>
                  <a:lnTo>
                    <a:pt x="616" y="1722"/>
                  </a:lnTo>
                  <a:lnTo>
                    <a:pt x="587" y="1724"/>
                  </a:lnTo>
                  <a:lnTo>
                    <a:pt x="587" y="1741"/>
                  </a:lnTo>
                  <a:lnTo>
                    <a:pt x="583" y="1743"/>
                  </a:lnTo>
                  <a:lnTo>
                    <a:pt x="578" y="1743"/>
                  </a:lnTo>
                  <a:lnTo>
                    <a:pt x="570" y="1741"/>
                  </a:lnTo>
                  <a:lnTo>
                    <a:pt x="561" y="1740"/>
                  </a:lnTo>
                  <a:lnTo>
                    <a:pt x="556" y="1740"/>
                  </a:lnTo>
                  <a:lnTo>
                    <a:pt x="552" y="1741"/>
                  </a:lnTo>
                  <a:lnTo>
                    <a:pt x="552" y="1759"/>
                  </a:lnTo>
                  <a:lnTo>
                    <a:pt x="535" y="1759"/>
                  </a:lnTo>
                  <a:lnTo>
                    <a:pt x="536" y="1763"/>
                  </a:lnTo>
                  <a:lnTo>
                    <a:pt x="536" y="1766"/>
                  </a:lnTo>
                  <a:lnTo>
                    <a:pt x="535" y="1773"/>
                  </a:lnTo>
                  <a:lnTo>
                    <a:pt x="532" y="1779"/>
                  </a:lnTo>
                  <a:lnTo>
                    <a:pt x="526" y="1785"/>
                  </a:lnTo>
                  <a:lnTo>
                    <a:pt x="520" y="1791"/>
                  </a:lnTo>
                  <a:lnTo>
                    <a:pt x="517" y="1796"/>
                  </a:lnTo>
                  <a:lnTo>
                    <a:pt x="516" y="1804"/>
                  </a:lnTo>
                  <a:lnTo>
                    <a:pt x="516" y="1806"/>
                  </a:lnTo>
                  <a:lnTo>
                    <a:pt x="517" y="1811"/>
                  </a:lnTo>
                  <a:lnTo>
                    <a:pt x="500" y="1811"/>
                  </a:lnTo>
                  <a:lnTo>
                    <a:pt x="498" y="1817"/>
                  </a:lnTo>
                  <a:lnTo>
                    <a:pt x="498" y="1822"/>
                  </a:lnTo>
                  <a:lnTo>
                    <a:pt x="498" y="1834"/>
                  </a:lnTo>
                  <a:lnTo>
                    <a:pt x="497" y="1841"/>
                  </a:lnTo>
                  <a:lnTo>
                    <a:pt x="494" y="1847"/>
                  </a:lnTo>
                  <a:lnTo>
                    <a:pt x="490" y="1854"/>
                  </a:lnTo>
                  <a:lnTo>
                    <a:pt x="483" y="1863"/>
                  </a:lnTo>
                  <a:lnTo>
                    <a:pt x="481" y="1866"/>
                  </a:lnTo>
                  <a:lnTo>
                    <a:pt x="481" y="1870"/>
                  </a:lnTo>
                  <a:lnTo>
                    <a:pt x="483" y="1880"/>
                  </a:lnTo>
                  <a:lnTo>
                    <a:pt x="484" y="1891"/>
                  </a:lnTo>
                  <a:lnTo>
                    <a:pt x="484" y="1895"/>
                  </a:lnTo>
                  <a:lnTo>
                    <a:pt x="483" y="1898"/>
                  </a:lnTo>
                  <a:lnTo>
                    <a:pt x="480" y="1899"/>
                  </a:lnTo>
                  <a:lnTo>
                    <a:pt x="477" y="1899"/>
                  </a:lnTo>
                  <a:lnTo>
                    <a:pt x="468" y="1898"/>
                  </a:lnTo>
                  <a:lnTo>
                    <a:pt x="458" y="1896"/>
                  </a:lnTo>
                  <a:lnTo>
                    <a:pt x="452" y="1896"/>
                  </a:lnTo>
                  <a:lnTo>
                    <a:pt x="448" y="1898"/>
                  </a:lnTo>
                  <a:lnTo>
                    <a:pt x="448" y="1915"/>
                  </a:lnTo>
                  <a:lnTo>
                    <a:pt x="443" y="1917"/>
                  </a:lnTo>
                  <a:lnTo>
                    <a:pt x="439" y="1917"/>
                  </a:lnTo>
                  <a:lnTo>
                    <a:pt x="429" y="1915"/>
                  </a:lnTo>
                  <a:lnTo>
                    <a:pt x="422" y="1914"/>
                  </a:lnTo>
                  <a:lnTo>
                    <a:pt x="420" y="1914"/>
                  </a:lnTo>
                  <a:lnTo>
                    <a:pt x="419" y="1915"/>
                  </a:lnTo>
                  <a:lnTo>
                    <a:pt x="414" y="1924"/>
                  </a:lnTo>
                  <a:lnTo>
                    <a:pt x="413" y="1934"/>
                  </a:lnTo>
                  <a:lnTo>
                    <a:pt x="410" y="1943"/>
                  </a:lnTo>
                  <a:lnTo>
                    <a:pt x="410" y="1952"/>
                  </a:lnTo>
                  <a:lnTo>
                    <a:pt x="410" y="1962"/>
                  </a:lnTo>
                  <a:lnTo>
                    <a:pt x="413" y="1970"/>
                  </a:lnTo>
                  <a:lnTo>
                    <a:pt x="414" y="1978"/>
                  </a:lnTo>
                  <a:lnTo>
                    <a:pt x="419" y="1985"/>
                  </a:lnTo>
                  <a:lnTo>
                    <a:pt x="433" y="2004"/>
                  </a:lnTo>
                  <a:lnTo>
                    <a:pt x="448" y="2020"/>
                  </a:lnTo>
                  <a:lnTo>
                    <a:pt x="465" y="2036"/>
                  </a:lnTo>
                  <a:lnTo>
                    <a:pt x="484" y="2049"/>
                  </a:lnTo>
                  <a:lnTo>
                    <a:pt x="503" y="2062"/>
                  </a:lnTo>
                  <a:lnTo>
                    <a:pt x="525" y="2073"/>
                  </a:lnTo>
                  <a:lnTo>
                    <a:pt x="570" y="2095"/>
                  </a:lnTo>
                  <a:lnTo>
                    <a:pt x="571" y="2097"/>
                  </a:lnTo>
                  <a:lnTo>
                    <a:pt x="572" y="2099"/>
                  </a:lnTo>
                  <a:lnTo>
                    <a:pt x="574" y="2111"/>
                  </a:lnTo>
                  <a:lnTo>
                    <a:pt x="572" y="2127"/>
                  </a:lnTo>
                  <a:lnTo>
                    <a:pt x="570" y="2142"/>
                  </a:lnTo>
                  <a:lnTo>
                    <a:pt x="552" y="2165"/>
                  </a:lnTo>
                  <a:lnTo>
                    <a:pt x="533" y="2185"/>
                  </a:lnTo>
                  <a:lnTo>
                    <a:pt x="513" y="2204"/>
                  </a:lnTo>
                  <a:lnTo>
                    <a:pt x="494" y="2221"/>
                  </a:lnTo>
                  <a:lnTo>
                    <a:pt x="454" y="2258"/>
                  </a:lnTo>
                  <a:lnTo>
                    <a:pt x="433" y="2278"/>
                  </a:lnTo>
                  <a:lnTo>
                    <a:pt x="413" y="2298"/>
                  </a:lnTo>
                  <a:lnTo>
                    <a:pt x="410" y="2300"/>
                  </a:lnTo>
                  <a:lnTo>
                    <a:pt x="407" y="2300"/>
                  </a:lnTo>
                  <a:lnTo>
                    <a:pt x="398" y="2298"/>
                  </a:lnTo>
                  <a:lnTo>
                    <a:pt x="388" y="2297"/>
                  </a:lnTo>
                  <a:lnTo>
                    <a:pt x="382" y="2297"/>
                  </a:lnTo>
                  <a:lnTo>
                    <a:pt x="378" y="2298"/>
                  </a:lnTo>
                  <a:lnTo>
                    <a:pt x="378" y="2316"/>
                  </a:lnTo>
                  <a:lnTo>
                    <a:pt x="374" y="2317"/>
                  </a:lnTo>
                  <a:lnTo>
                    <a:pt x="368" y="2317"/>
                  </a:lnTo>
                  <a:lnTo>
                    <a:pt x="359" y="2316"/>
                  </a:lnTo>
                  <a:lnTo>
                    <a:pt x="349" y="2314"/>
                  </a:lnTo>
                  <a:lnTo>
                    <a:pt x="346" y="2314"/>
                  </a:lnTo>
                  <a:lnTo>
                    <a:pt x="343" y="2316"/>
                  </a:lnTo>
                  <a:lnTo>
                    <a:pt x="326" y="2334"/>
                  </a:lnTo>
                  <a:lnTo>
                    <a:pt x="307" y="2352"/>
                  </a:lnTo>
                  <a:lnTo>
                    <a:pt x="287" y="2365"/>
                  </a:lnTo>
                  <a:lnTo>
                    <a:pt x="266" y="2375"/>
                  </a:lnTo>
                  <a:lnTo>
                    <a:pt x="245" y="2382"/>
                  </a:lnTo>
                  <a:lnTo>
                    <a:pt x="223" y="2387"/>
                  </a:lnTo>
                  <a:lnTo>
                    <a:pt x="201" y="2388"/>
                  </a:lnTo>
                  <a:lnTo>
                    <a:pt x="178" y="2388"/>
                  </a:lnTo>
                  <a:lnTo>
                    <a:pt x="155" y="2385"/>
                  </a:lnTo>
                  <a:lnTo>
                    <a:pt x="132" y="2381"/>
                  </a:lnTo>
                  <a:lnTo>
                    <a:pt x="110" y="2374"/>
                  </a:lnTo>
                  <a:lnTo>
                    <a:pt x="87" y="2366"/>
                  </a:lnTo>
                  <a:lnTo>
                    <a:pt x="63" y="2356"/>
                  </a:lnTo>
                  <a:lnTo>
                    <a:pt x="42" y="2345"/>
                  </a:lnTo>
                  <a:lnTo>
                    <a:pt x="20" y="2333"/>
                  </a:lnTo>
                  <a:lnTo>
                    <a:pt x="0" y="2320"/>
                  </a:lnTo>
                  <a:lnTo>
                    <a:pt x="26" y="2366"/>
                  </a:lnTo>
                  <a:lnTo>
                    <a:pt x="52" y="2411"/>
                  </a:lnTo>
                  <a:lnTo>
                    <a:pt x="81" y="2455"/>
                  </a:lnTo>
                  <a:lnTo>
                    <a:pt x="111" y="2498"/>
                  </a:lnTo>
                  <a:lnTo>
                    <a:pt x="142" y="2540"/>
                  </a:lnTo>
                  <a:lnTo>
                    <a:pt x="175" y="2583"/>
                  </a:lnTo>
                  <a:lnTo>
                    <a:pt x="210" y="2622"/>
                  </a:lnTo>
                  <a:lnTo>
                    <a:pt x="245" y="2661"/>
                  </a:lnTo>
                  <a:lnTo>
                    <a:pt x="281" y="2699"/>
                  </a:lnTo>
                  <a:lnTo>
                    <a:pt x="319" y="2735"/>
                  </a:lnTo>
                  <a:lnTo>
                    <a:pt x="358" y="2770"/>
                  </a:lnTo>
                  <a:lnTo>
                    <a:pt x="398" y="2803"/>
                  </a:lnTo>
                  <a:lnTo>
                    <a:pt x="439" y="2836"/>
                  </a:lnTo>
                  <a:lnTo>
                    <a:pt x="481" y="2867"/>
                  </a:lnTo>
                  <a:lnTo>
                    <a:pt x="525" y="2897"/>
                  </a:lnTo>
                  <a:lnTo>
                    <a:pt x="570" y="2925"/>
                  </a:lnTo>
                  <a:lnTo>
                    <a:pt x="615" y="2952"/>
                  </a:lnTo>
                  <a:lnTo>
                    <a:pt x="661" y="2977"/>
                  </a:lnTo>
                  <a:lnTo>
                    <a:pt x="709" y="3002"/>
                  </a:lnTo>
                  <a:lnTo>
                    <a:pt x="757" y="3024"/>
                  </a:lnTo>
                  <a:lnTo>
                    <a:pt x="806" y="3044"/>
                  </a:lnTo>
                  <a:lnTo>
                    <a:pt x="857" y="3063"/>
                  </a:lnTo>
                  <a:lnTo>
                    <a:pt x="906" y="3080"/>
                  </a:lnTo>
                  <a:lnTo>
                    <a:pt x="958" y="3096"/>
                  </a:lnTo>
                  <a:lnTo>
                    <a:pt x="1010" y="3111"/>
                  </a:lnTo>
                  <a:lnTo>
                    <a:pt x="1063" y="3122"/>
                  </a:lnTo>
                  <a:lnTo>
                    <a:pt x="1116" y="3132"/>
                  </a:lnTo>
                  <a:lnTo>
                    <a:pt x="1171" y="3141"/>
                  </a:lnTo>
                  <a:lnTo>
                    <a:pt x="1225" y="3148"/>
                  </a:lnTo>
                  <a:lnTo>
                    <a:pt x="1282" y="3153"/>
                  </a:lnTo>
                  <a:lnTo>
                    <a:pt x="1337" y="3156"/>
                  </a:lnTo>
                  <a:lnTo>
                    <a:pt x="1393" y="3157"/>
                  </a:lnTo>
                  <a:lnTo>
                    <a:pt x="1438" y="3157"/>
                  </a:lnTo>
                  <a:lnTo>
                    <a:pt x="1482" y="3154"/>
                  </a:lnTo>
                  <a:lnTo>
                    <a:pt x="1525" y="3151"/>
                  </a:lnTo>
                  <a:lnTo>
                    <a:pt x="1569" y="3147"/>
                  </a:lnTo>
                  <a:lnTo>
                    <a:pt x="1612" y="3142"/>
                  </a:lnTo>
                  <a:lnTo>
                    <a:pt x="1656" y="3135"/>
                  </a:lnTo>
                  <a:lnTo>
                    <a:pt x="1698" y="3128"/>
                  </a:lnTo>
                  <a:lnTo>
                    <a:pt x="1740" y="3119"/>
                  </a:lnTo>
                  <a:lnTo>
                    <a:pt x="1782" y="3109"/>
                  </a:lnTo>
                  <a:lnTo>
                    <a:pt x="1822" y="3098"/>
                  </a:lnTo>
                  <a:lnTo>
                    <a:pt x="1863" y="3086"/>
                  </a:lnTo>
                  <a:lnTo>
                    <a:pt x="1904" y="3073"/>
                  </a:lnTo>
                  <a:lnTo>
                    <a:pt x="1943" y="3058"/>
                  </a:lnTo>
                  <a:lnTo>
                    <a:pt x="1982" y="3044"/>
                  </a:lnTo>
                  <a:lnTo>
                    <a:pt x="2021" y="3026"/>
                  </a:lnTo>
                  <a:lnTo>
                    <a:pt x="2060" y="3009"/>
                  </a:lnTo>
                  <a:lnTo>
                    <a:pt x="2097" y="2992"/>
                  </a:lnTo>
                  <a:lnTo>
                    <a:pt x="2134" y="2973"/>
                  </a:lnTo>
                  <a:lnTo>
                    <a:pt x="2171" y="2952"/>
                  </a:lnTo>
                  <a:lnTo>
                    <a:pt x="2207" y="2931"/>
                  </a:lnTo>
                  <a:lnTo>
                    <a:pt x="2242" y="2909"/>
                  </a:lnTo>
                  <a:lnTo>
                    <a:pt x="2276" y="2886"/>
                  </a:lnTo>
                  <a:lnTo>
                    <a:pt x="2311" y="2863"/>
                  </a:lnTo>
                  <a:lnTo>
                    <a:pt x="2345" y="2838"/>
                  </a:lnTo>
                  <a:lnTo>
                    <a:pt x="2376" y="2813"/>
                  </a:lnTo>
                  <a:lnTo>
                    <a:pt x="2410" y="2787"/>
                  </a:lnTo>
                  <a:lnTo>
                    <a:pt x="2440" y="2760"/>
                  </a:lnTo>
                  <a:lnTo>
                    <a:pt x="2471" y="2732"/>
                  </a:lnTo>
                  <a:lnTo>
                    <a:pt x="2501" y="2703"/>
                  </a:lnTo>
                  <a:lnTo>
                    <a:pt x="2530" y="2674"/>
                  </a:lnTo>
                  <a:lnTo>
                    <a:pt x="2558" y="2643"/>
                  </a:lnTo>
                  <a:lnTo>
                    <a:pt x="2585" y="2612"/>
                  </a:lnTo>
                  <a:lnTo>
                    <a:pt x="2574" y="2590"/>
                  </a:lnTo>
                  <a:lnTo>
                    <a:pt x="2562" y="2568"/>
                  </a:lnTo>
                  <a:lnTo>
                    <a:pt x="2548" y="2548"/>
                  </a:lnTo>
                  <a:lnTo>
                    <a:pt x="2539" y="2539"/>
                  </a:lnTo>
                  <a:lnTo>
                    <a:pt x="2530" y="253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5"/>
            <p:cNvSpPr/>
            <p:nvPr/>
          </p:nvSpPr>
          <p:spPr>
            <a:xfrm>
              <a:off x="7607520" y="4137120"/>
              <a:ext cx="1288800" cy="15224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22440"/>
                <a:gd name="textAreaBottom" fmla="*/ 1522800 h 1522440"/>
              </a:gdLst>
              <a:ahLst/>
              <a:rect l="textAreaLeft" t="textAreaTop" r="textAreaRight" b="textAreaBottom"/>
              <a:pathLst>
                <a:path w="1624" h="1918">
                  <a:moveTo>
                    <a:pt x="1353" y="0"/>
                  </a:moveTo>
                  <a:lnTo>
                    <a:pt x="1353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08" y="3"/>
                  </a:lnTo>
                  <a:lnTo>
                    <a:pt x="1293" y="9"/>
                  </a:lnTo>
                  <a:lnTo>
                    <a:pt x="1280" y="16"/>
                  </a:lnTo>
                  <a:lnTo>
                    <a:pt x="1267" y="24"/>
                  </a:lnTo>
                  <a:lnTo>
                    <a:pt x="1256" y="35"/>
                  </a:lnTo>
                  <a:lnTo>
                    <a:pt x="1244" y="46"/>
                  </a:lnTo>
                  <a:lnTo>
                    <a:pt x="1234" y="61"/>
                  </a:lnTo>
                  <a:lnTo>
                    <a:pt x="1225" y="75"/>
                  </a:lnTo>
                  <a:lnTo>
                    <a:pt x="1218" y="90"/>
                  </a:lnTo>
                  <a:lnTo>
                    <a:pt x="1212" y="107"/>
                  </a:lnTo>
                  <a:lnTo>
                    <a:pt x="1209" y="123"/>
                  </a:lnTo>
                  <a:lnTo>
                    <a:pt x="1208" y="141"/>
                  </a:lnTo>
                  <a:lnTo>
                    <a:pt x="1209" y="174"/>
                  </a:lnTo>
                  <a:lnTo>
                    <a:pt x="1209" y="190"/>
                  </a:lnTo>
                  <a:lnTo>
                    <a:pt x="1208" y="203"/>
                  </a:lnTo>
                  <a:lnTo>
                    <a:pt x="1205" y="215"/>
                  </a:lnTo>
                  <a:lnTo>
                    <a:pt x="1203" y="219"/>
                  </a:lnTo>
                  <a:lnTo>
                    <a:pt x="1201" y="223"/>
                  </a:lnTo>
                  <a:lnTo>
                    <a:pt x="1195" y="226"/>
                  </a:lnTo>
                  <a:lnTo>
                    <a:pt x="1188" y="229"/>
                  </a:lnTo>
                  <a:lnTo>
                    <a:pt x="1179" y="230"/>
                  </a:lnTo>
                  <a:lnTo>
                    <a:pt x="1170" y="229"/>
                  </a:lnTo>
                  <a:lnTo>
                    <a:pt x="1161" y="228"/>
                  </a:lnTo>
                  <a:lnTo>
                    <a:pt x="1151" y="226"/>
                  </a:lnTo>
                  <a:lnTo>
                    <a:pt x="1131" y="217"/>
                  </a:lnTo>
                  <a:lnTo>
                    <a:pt x="1111" y="206"/>
                  </a:lnTo>
                  <a:lnTo>
                    <a:pt x="1092" y="193"/>
                  </a:lnTo>
                  <a:lnTo>
                    <a:pt x="1074" y="177"/>
                  </a:lnTo>
                  <a:lnTo>
                    <a:pt x="1067" y="168"/>
                  </a:lnTo>
                  <a:lnTo>
                    <a:pt x="1061" y="159"/>
                  </a:lnTo>
                  <a:lnTo>
                    <a:pt x="1058" y="155"/>
                  </a:lnTo>
                  <a:lnTo>
                    <a:pt x="1056" y="152"/>
                  </a:lnTo>
                  <a:lnTo>
                    <a:pt x="1050" y="149"/>
                  </a:lnTo>
                  <a:lnTo>
                    <a:pt x="1045" y="146"/>
                  </a:lnTo>
                  <a:lnTo>
                    <a:pt x="1031" y="143"/>
                  </a:lnTo>
                  <a:lnTo>
                    <a:pt x="1015" y="142"/>
                  </a:lnTo>
                  <a:lnTo>
                    <a:pt x="1006" y="136"/>
                  </a:lnTo>
                  <a:lnTo>
                    <a:pt x="1000" y="129"/>
                  </a:lnTo>
                  <a:lnTo>
                    <a:pt x="998" y="125"/>
                  </a:lnTo>
                  <a:lnTo>
                    <a:pt x="996" y="119"/>
                  </a:lnTo>
                  <a:lnTo>
                    <a:pt x="996" y="113"/>
                  </a:lnTo>
                  <a:lnTo>
                    <a:pt x="998" y="107"/>
                  </a:lnTo>
                  <a:lnTo>
                    <a:pt x="963" y="107"/>
                  </a:lnTo>
                  <a:lnTo>
                    <a:pt x="945" y="90"/>
                  </a:lnTo>
                  <a:lnTo>
                    <a:pt x="911" y="90"/>
                  </a:lnTo>
                  <a:lnTo>
                    <a:pt x="902" y="78"/>
                  </a:lnTo>
                  <a:lnTo>
                    <a:pt x="897" y="74"/>
                  </a:lnTo>
                  <a:lnTo>
                    <a:pt x="896" y="72"/>
                  </a:lnTo>
                  <a:lnTo>
                    <a:pt x="893" y="72"/>
                  </a:lnTo>
                  <a:lnTo>
                    <a:pt x="841" y="68"/>
                  </a:lnTo>
                  <a:lnTo>
                    <a:pt x="813" y="65"/>
                  </a:lnTo>
                  <a:lnTo>
                    <a:pt x="787" y="65"/>
                  </a:lnTo>
                  <a:lnTo>
                    <a:pt x="761" y="67"/>
                  </a:lnTo>
                  <a:lnTo>
                    <a:pt x="737" y="69"/>
                  </a:lnTo>
                  <a:lnTo>
                    <a:pt x="713" y="75"/>
                  </a:lnTo>
                  <a:lnTo>
                    <a:pt x="702" y="80"/>
                  </a:lnTo>
                  <a:lnTo>
                    <a:pt x="690" y="84"/>
                  </a:lnTo>
                  <a:lnTo>
                    <a:pt x="681" y="88"/>
                  </a:lnTo>
                  <a:lnTo>
                    <a:pt x="673" y="93"/>
                  </a:lnTo>
                  <a:lnTo>
                    <a:pt x="665" y="100"/>
                  </a:lnTo>
                  <a:lnTo>
                    <a:pt x="660" y="107"/>
                  </a:lnTo>
                  <a:lnTo>
                    <a:pt x="654" y="114"/>
                  </a:lnTo>
                  <a:lnTo>
                    <a:pt x="649" y="123"/>
                  </a:lnTo>
                  <a:lnTo>
                    <a:pt x="647" y="133"/>
                  </a:lnTo>
                  <a:lnTo>
                    <a:pt x="645" y="142"/>
                  </a:lnTo>
                  <a:lnTo>
                    <a:pt x="642" y="154"/>
                  </a:lnTo>
                  <a:lnTo>
                    <a:pt x="642" y="164"/>
                  </a:lnTo>
                  <a:lnTo>
                    <a:pt x="644" y="184"/>
                  </a:lnTo>
                  <a:lnTo>
                    <a:pt x="648" y="204"/>
                  </a:lnTo>
                  <a:lnTo>
                    <a:pt x="655" y="223"/>
                  </a:lnTo>
                  <a:lnTo>
                    <a:pt x="658" y="232"/>
                  </a:lnTo>
                  <a:lnTo>
                    <a:pt x="660" y="241"/>
                  </a:lnTo>
                  <a:lnTo>
                    <a:pt x="661" y="251"/>
                  </a:lnTo>
                  <a:lnTo>
                    <a:pt x="664" y="258"/>
                  </a:lnTo>
                  <a:lnTo>
                    <a:pt x="667" y="267"/>
                  </a:lnTo>
                  <a:lnTo>
                    <a:pt x="670" y="270"/>
                  </a:lnTo>
                  <a:lnTo>
                    <a:pt x="674" y="273"/>
                  </a:lnTo>
                  <a:lnTo>
                    <a:pt x="679" y="275"/>
                  </a:lnTo>
                  <a:lnTo>
                    <a:pt x="686" y="278"/>
                  </a:lnTo>
                  <a:lnTo>
                    <a:pt x="702" y="281"/>
                  </a:lnTo>
                  <a:lnTo>
                    <a:pt x="702" y="299"/>
                  </a:lnTo>
                  <a:lnTo>
                    <a:pt x="719" y="299"/>
                  </a:lnTo>
                  <a:lnTo>
                    <a:pt x="719" y="316"/>
                  </a:lnTo>
                  <a:lnTo>
                    <a:pt x="725" y="315"/>
                  </a:lnTo>
                  <a:lnTo>
                    <a:pt x="731" y="315"/>
                  </a:lnTo>
                  <a:lnTo>
                    <a:pt x="737" y="316"/>
                  </a:lnTo>
                  <a:lnTo>
                    <a:pt x="741" y="318"/>
                  </a:lnTo>
                  <a:lnTo>
                    <a:pt x="748" y="325"/>
                  </a:lnTo>
                  <a:lnTo>
                    <a:pt x="754" y="333"/>
                  </a:lnTo>
                  <a:lnTo>
                    <a:pt x="757" y="360"/>
                  </a:lnTo>
                  <a:lnTo>
                    <a:pt x="758" y="386"/>
                  </a:lnTo>
                  <a:lnTo>
                    <a:pt x="757" y="412"/>
                  </a:lnTo>
                  <a:lnTo>
                    <a:pt x="754" y="438"/>
                  </a:lnTo>
                  <a:lnTo>
                    <a:pt x="751" y="448"/>
                  </a:lnTo>
                  <a:lnTo>
                    <a:pt x="745" y="455"/>
                  </a:lnTo>
                  <a:lnTo>
                    <a:pt x="738" y="463"/>
                  </a:lnTo>
                  <a:lnTo>
                    <a:pt x="729" y="467"/>
                  </a:lnTo>
                  <a:lnTo>
                    <a:pt x="712" y="476"/>
                  </a:lnTo>
                  <a:lnTo>
                    <a:pt x="696" y="484"/>
                  </a:lnTo>
                  <a:lnTo>
                    <a:pt x="681" y="490"/>
                  </a:lnTo>
                  <a:lnTo>
                    <a:pt x="668" y="493"/>
                  </a:lnTo>
                  <a:lnTo>
                    <a:pt x="654" y="496"/>
                  </a:lnTo>
                  <a:lnTo>
                    <a:pt x="641" y="496"/>
                  </a:lnTo>
                  <a:lnTo>
                    <a:pt x="626" y="494"/>
                  </a:lnTo>
                  <a:lnTo>
                    <a:pt x="613" y="493"/>
                  </a:lnTo>
                  <a:lnTo>
                    <a:pt x="600" y="489"/>
                  </a:lnTo>
                  <a:lnTo>
                    <a:pt x="587" y="483"/>
                  </a:lnTo>
                  <a:lnTo>
                    <a:pt x="574" y="477"/>
                  </a:lnTo>
                  <a:lnTo>
                    <a:pt x="561" y="470"/>
                  </a:lnTo>
                  <a:lnTo>
                    <a:pt x="536" y="452"/>
                  </a:lnTo>
                  <a:lnTo>
                    <a:pt x="512" y="432"/>
                  </a:lnTo>
                  <a:lnTo>
                    <a:pt x="487" y="409"/>
                  </a:lnTo>
                  <a:lnTo>
                    <a:pt x="483" y="403"/>
                  </a:lnTo>
                  <a:lnTo>
                    <a:pt x="477" y="396"/>
                  </a:lnTo>
                  <a:lnTo>
                    <a:pt x="470" y="391"/>
                  </a:lnTo>
                  <a:lnTo>
                    <a:pt x="462" y="386"/>
                  </a:lnTo>
                  <a:lnTo>
                    <a:pt x="454" y="383"/>
                  </a:lnTo>
                  <a:lnTo>
                    <a:pt x="444" y="381"/>
                  </a:lnTo>
                  <a:lnTo>
                    <a:pt x="433" y="383"/>
                  </a:lnTo>
                  <a:lnTo>
                    <a:pt x="423" y="386"/>
                  </a:lnTo>
                  <a:lnTo>
                    <a:pt x="423" y="403"/>
                  </a:lnTo>
                  <a:lnTo>
                    <a:pt x="406" y="403"/>
                  </a:lnTo>
                  <a:lnTo>
                    <a:pt x="403" y="422"/>
                  </a:lnTo>
                  <a:lnTo>
                    <a:pt x="402" y="442"/>
                  </a:lnTo>
                  <a:lnTo>
                    <a:pt x="402" y="461"/>
                  </a:lnTo>
                  <a:lnTo>
                    <a:pt x="402" y="480"/>
                  </a:lnTo>
                  <a:lnTo>
                    <a:pt x="403" y="499"/>
                  </a:lnTo>
                  <a:lnTo>
                    <a:pt x="407" y="516"/>
                  </a:lnTo>
                  <a:lnTo>
                    <a:pt x="412" y="534"/>
                  </a:lnTo>
                  <a:lnTo>
                    <a:pt x="417" y="551"/>
                  </a:lnTo>
                  <a:lnTo>
                    <a:pt x="423" y="567"/>
                  </a:lnTo>
                  <a:lnTo>
                    <a:pt x="432" y="583"/>
                  </a:lnTo>
                  <a:lnTo>
                    <a:pt x="442" y="599"/>
                  </a:lnTo>
                  <a:lnTo>
                    <a:pt x="452" y="613"/>
                  </a:lnTo>
                  <a:lnTo>
                    <a:pt x="465" y="628"/>
                  </a:lnTo>
                  <a:lnTo>
                    <a:pt x="478" y="641"/>
                  </a:lnTo>
                  <a:lnTo>
                    <a:pt x="494" y="653"/>
                  </a:lnTo>
                  <a:lnTo>
                    <a:pt x="510" y="664"/>
                  </a:lnTo>
                  <a:lnTo>
                    <a:pt x="510" y="682"/>
                  </a:lnTo>
                  <a:lnTo>
                    <a:pt x="516" y="682"/>
                  </a:lnTo>
                  <a:lnTo>
                    <a:pt x="520" y="682"/>
                  </a:lnTo>
                  <a:lnTo>
                    <a:pt x="529" y="685"/>
                  </a:lnTo>
                  <a:lnTo>
                    <a:pt x="536" y="690"/>
                  </a:lnTo>
                  <a:lnTo>
                    <a:pt x="544" y="696"/>
                  </a:lnTo>
                  <a:lnTo>
                    <a:pt x="551" y="702"/>
                  </a:lnTo>
                  <a:lnTo>
                    <a:pt x="558" y="705"/>
                  </a:lnTo>
                  <a:lnTo>
                    <a:pt x="562" y="705"/>
                  </a:lnTo>
                  <a:lnTo>
                    <a:pt x="568" y="705"/>
                  </a:lnTo>
                  <a:lnTo>
                    <a:pt x="574" y="702"/>
                  </a:lnTo>
                  <a:lnTo>
                    <a:pt x="580" y="699"/>
                  </a:lnTo>
                  <a:lnTo>
                    <a:pt x="580" y="716"/>
                  </a:lnTo>
                  <a:lnTo>
                    <a:pt x="586" y="715"/>
                  </a:lnTo>
                  <a:lnTo>
                    <a:pt x="591" y="715"/>
                  </a:lnTo>
                  <a:lnTo>
                    <a:pt x="597" y="716"/>
                  </a:lnTo>
                  <a:lnTo>
                    <a:pt x="602" y="718"/>
                  </a:lnTo>
                  <a:lnTo>
                    <a:pt x="609" y="725"/>
                  </a:lnTo>
                  <a:lnTo>
                    <a:pt x="615" y="734"/>
                  </a:lnTo>
                  <a:lnTo>
                    <a:pt x="615" y="751"/>
                  </a:lnTo>
                  <a:lnTo>
                    <a:pt x="632" y="751"/>
                  </a:lnTo>
                  <a:lnTo>
                    <a:pt x="632" y="769"/>
                  </a:lnTo>
                  <a:lnTo>
                    <a:pt x="649" y="769"/>
                  </a:lnTo>
                  <a:lnTo>
                    <a:pt x="648" y="774"/>
                  </a:lnTo>
                  <a:lnTo>
                    <a:pt x="648" y="780"/>
                  </a:lnTo>
                  <a:lnTo>
                    <a:pt x="649" y="786"/>
                  </a:lnTo>
                  <a:lnTo>
                    <a:pt x="652" y="790"/>
                  </a:lnTo>
                  <a:lnTo>
                    <a:pt x="658" y="798"/>
                  </a:lnTo>
                  <a:lnTo>
                    <a:pt x="667" y="803"/>
                  </a:lnTo>
                  <a:lnTo>
                    <a:pt x="684" y="803"/>
                  </a:lnTo>
                  <a:lnTo>
                    <a:pt x="684" y="821"/>
                  </a:lnTo>
                  <a:lnTo>
                    <a:pt x="694" y="822"/>
                  </a:lnTo>
                  <a:lnTo>
                    <a:pt x="703" y="824"/>
                  </a:lnTo>
                  <a:lnTo>
                    <a:pt x="719" y="831"/>
                  </a:lnTo>
                  <a:lnTo>
                    <a:pt x="726" y="835"/>
                  </a:lnTo>
                  <a:lnTo>
                    <a:pt x="735" y="838"/>
                  </a:lnTo>
                  <a:lnTo>
                    <a:pt x="744" y="840"/>
                  </a:lnTo>
                  <a:lnTo>
                    <a:pt x="754" y="838"/>
                  </a:lnTo>
                  <a:lnTo>
                    <a:pt x="757" y="840"/>
                  </a:lnTo>
                  <a:lnTo>
                    <a:pt x="758" y="841"/>
                  </a:lnTo>
                  <a:lnTo>
                    <a:pt x="763" y="847"/>
                  </a:lnTo>
                  <a:lnTo>
                    <a:pt x="767" y="853"/>
                  </a:lnTo>
                  <a:lnTo>
                    <a:pt x="770" y="854"/>
                  </a:lnTo>
                  <a:lnTo>
                    <a:pt x="771" y="856"/>
                  </a:lnTo>
                  <a:lnTo>
                    <a:pt x="797" y="859"/>
                  </a:lnTo>
                  <a:lnTo>
                    <a:pt x="824" y="860"/>
                  </a:lnTo>
                  <a:lnTo>
                    <a:pt x="850" y="859"/>
                  </a:lnTo>
                  <a:lnTo>
                    <a:pt x="876" y="856"/>
                  </a:lnTo>
                  <a:lnTo>
                    <a:pt x="876" y="838"/>
                  </a:lnTo>
                  <a:lnTo>
                    <a:pt x="877" y="934"/>
                  </a:lnTo>
                  <a:lnTo>
                    <a:pt x="877" y="957"/>
                  </a:lnTo>
                  <a:lnTo>
                    <a:pt x="876" y="982"/>
                  </a:lnTo>
                  <a:lnTo>
                    <a:pt x="873" y="1005"/>
                  </a:lnTo>
                  <a:lnTo>
                    <a:pt x="870" y="1030"/>
                  </a:lnTo>
                  <a:lnTo>
                    <a:pt x="868" y="1034"/>
                  </a:lnTo>
                  <a:lnTo>
                    <a:pt x="867" y="1040"/>
                  </a:lnTo>
                  <a:lnTo>
                    <a:pt x="860" y="1049"/>
                  </a:lnTo>
                  <a:lnTo>
                    <a:pt x="851" y="1059"/>
                  </a:lnTo>
                  <a:lnTo>
                    <a:pt x="841" y="1065"/>
                  </a:lnTo>
                  <a:lnTo>
                    <a:pt x="829" y="1063"/>
                  </a:lnTo>
                  <a:lnTo>
                    <a:pt x="818" y="1060"/>
                  </a:lnTo>
                  <a:lnTo>
                    <a:pt x="789" y="1053"/>
                  </a:lnTo>
                  <a:lnTo>
                    <a:pt x="750" y="1046"/>
                  </a:lnTo>
                  <a:lnTo>
                    <a:pt x="729" y="1043"/>
                  </a:lnTo>
                  <a:lnTo>
                    <a:pt x="710" y="1041"/>
                  </a:lnTo>
                  <a:lnTo>
                    <a:pt x="690" y="1041"/>
                  </a:lnTo>
                  <a:lnTo>
                    <a:pt x="670" y="1043"/>
                  </a:lnTo>
                  <a:lnTo>
                    <a:pt x="651" y="1044"/>
                  </a:lnTo>
                  <a:lnTo>
                    <a:pt x="632" y="1047"/>
                  </a:lnTo>
                  <a:lnTo>
                    <a:pt x="612" y="1052"/>
                  </a:lnTo>
                  <a:lnTo>
                    <a:pt x="593" y="1057"/>
                  </a:lnTo>
                  <a:lnTo>
                    <a:pt x="574" y="1065"/>
                  </a:lnTo>
                  <a:lnTo>
                    <a:pt x="557" y="1075"/>
                  </a:lnTo>
                  <a:lnTo>
                    <a:pt x="538" y="1085"/>
                  </a:lnTo>
                  <a:lnTo>
                    <a:pt x="520" y="1098"/>
                  </a:lnTo>
                  <a:lnTo>
                    <a:pt x="503" y="1112"/>
                  </a:lnTo>
                  <a:lnTo>
                    <a:pt x="487" y="1128"/>
                  </a:lnTo>
                  <a:lnTo>
                    <a:pt x="481" y="1133"/>
                  </a:lnTo>
                  <a:lnTo>
                    <a:pt x="475" y="1136"/>
                  </a:lnTo>
                  <a:lnTo>
                    <a:pt x="470" y="1136"/>
                  </a:lnTo>
                  <a:lnTo>
                    <a:pt x="462" y="1134"/>
                  </a:lnTo>
                  <a:lnTo>
                    <a:pt x="455" y="1133"/>
                  </a:lnTo>
                  <a:lnTo>
                    <a:pt x="448" y="1128"/>
                  </a:lnTo>
                  <a:lnTo>
                    <a:pt x="433" y="1118"/>
                  </a:lnTo>
                  <a:lnTo>
                    <a:pt x="403" y="1094"/>
                  </a:lnTo>
                  <a:lnTo>
                    <a:pt x="387" y="1081"/>
                  </a:lnTo>
                  <a:lnTo>
                    <a:pt x="371" y="1070"/>
                  </a:lnTo>
                  <a:lnTo>
                    <a:pt x="365" y="1066"/>
                  </a:lnTo>
                  <a:lnTo>
                    <a:pt x="361" y="1065"/>
                  </a:lnTo>
                  <a:lnTo>
                    <a:pt x="355" y="1063"/>
                  </a:lnTo>
                  <a:lnTo>
                    <a:pt x="349" y="1062"/>
                  </a:lnTo>
                  <a:lnTo>
                    <a:pt x="339" y="1063"/>
                  </a:lnTo>
                  <a:lnTo>
                    <a:pt x="330" y="1067"/>
                  </a:lnTo>
                  <a:lnTo>
                    <a:pt x="322" y="1073"/>
                  </a:lnTo>
                  <a:lnTo>
                    <a:pt x="316" y="1082"/>
                  </a:lnTo>
                  <a:lnTo>
                    <a:pt x="310" y="1091"/>
                  </a:lnTo>
                  <a:lnTo>
                    <a:pt x="307" y="1099"/>
                  </a:lnTo>
                  <a:lnTo>
                    <a:pt x="303" y="1108"/>
                  </a:lnTo>
                  <a:lnTo>
                    <a:pt x="300" y="1117"/>
                  </a:lnTo>
                  <a:lnTo>
                    <a:pt x="297" y="1134"/>
                  </a:lnTo>
                  <a:lnTo>
                    <a:pt x="293" y="1152"/>
                  </a:lnTo>
                  <a:lnTo>
                    <a:pt x="290" y="1169"/>
                  </a:lnTo>
                  <a:lnTo>
                    <a:pt x="287" y="1184"/>
                  </a:lnTo>
                  <a:lnTo>
                    <a:pt x="286" y="1200"/>
                  </a:lnTo>
                  <a:lnTo>
                    <a:pt x="284" y="1230"/>
                  </a:lnTo>
                  <a:lnTo>
                    <a:pt x="284" y="1260"/>
                  </a:lnTo>
                  <a:lnTo>
                    <a:pt x="281" y="1275"/>
                  </a:lnTo>
                  <a:lnTo>
                    <a:pt x="278" y="1291"/>
                  </a:lnTo>
                  <a:lnTo>
                    <a:pt x="268" y="1292"/>
                  </a:lnTo>
                  <a:lnTo>
                    <a:pt x="259" y="1294"/>
                  </a:lnTo>
                  <a:lnTo>
                    <a:pt x="254" y="1292"/>
                  </a:lnTo>
                  <a:lnTo>
                    <a:pt x="249" y="1291"/>
                  </a:lnTo>
                  <a:lnTo>
                    <a:pt x="203" y="1258"/>
                  </a:lnTo>
                  <a:lnTo>
                    <a:pt x="181" y="1243"/>
                  </a:lnTo>
                  <a:lnTo>
                    <a:pt x="158" y="1230"/>
                  </a:lnTo>
                  <a:lnTo>
                    <a:pt x="146" y="1226"/>
                  </a:lnTo>
                  <a:lnTo>
                    <a:pt x="135" y="1223"/>
                  </a:lnTo>
                  <a:lnTo>
                    <a:pt x="123" y="1220"/>
                  </a:lnTo>
                  <a:lnTo>
                    <a:pt x="110" y="1218"/>
                  </a:lnTo>
                  <a:lnTo>
                    <a:pt x="98" y="1218"/>
                  </a:lnTo>
                  <a:lnTo>
                    <a:pt x="85" y="1220"/>
                  </a:lnTo>
                  <a:lnTo>
                    <a:pt x="72" y="1223"/>
                  </a:lnTo>
                  <a:lnTo>
                    <a:pt x="58" y="1227"/>
                  </a:lnTo>
                  <a:lnTo>
                    <a:pt x="49" y="1231"/>
                  </a:lnTo>
                  <a:lnTo>
                    <a:pt x="42" y="1236"/>
                  </a:lnTo>
                  <a:lnTo>
                    <a:pt x="33" y="1243"/>
                  </a:lnTo>
                  <a:lnTo>
                    <a:pt x="27" y="1249"/>
                  </a:lnTo>
                  <a:lnTo>
                    <a:pt x="20" y="1258"/>
                  </a:lnTo>
                  <a:lnTo>
                    <a:pt x="16" y="1266"/>
                  </a:lnTo>
                  <a:lnTo>
                    <a:pt x="10" y="1275"/>
                  </a:lnTo>
                  <a:lnTo>
                    <a:pt x="7" y="1284"/>
                  </a:lnTo>
                  <a:lnTo>
                    <a:pt x="3" y="1294"/>
                  </a:lnTo>
                  <a:lnTo>
                    <a:pt x="1" y="1304"/>
                  </a:lnTo>
                  <a:lnTo>
                    <a:pt x="0" y="1313"/>
                  </a:lnTo>
                  <a:lnTo>
                    <a:pt x="0" y="1323"/>
                  </a:lnTo>
                  <a:lnTo>
                    <a:pt x="1" y="1332"/>
                  </a:lnTo>
                  <a:lnTo>
                    <a:pt x="3" y="1340"/>
                  </a:lnTo>
                  <a:lnTo>
                    <a:pt x="7" y="1347"/>
                  </a:lnTo>
                  <a:lnTo>
                    <a:pt x="11" y="1355"/>
                  </a:lnTo>
                  <a:lnTo>
                    <a:pt x="14" y="1358"/>
                  </a:lnTo>
                  <a:lnTo>
                    <a:pt x="16" y="1362"/>
                  </a:lnTo>
                  <a:lnTo>
                    <a:pt x="17" y="1369"/>
                  </a:lnTo>
                  <a:lnTo>
                    <a:pt x="17" y="1384"/>
                  </a:lnTo>
                  <a:lnTo>
                    <a:pt x="19" y="1390"/>
                  </a:lnTo>
                  <a:lnTo>
                    <a:pt x="19" y="1392"/>
                  </a:lnTo>
                  <a:lnTo>
                    <a:pt x="22" y="1394"/>
                  </a:lnTo>
                  <a:lnTo>
                    <a:pt x="24" y="1395"/>
                  </a:lnTo>
                  <a:lnTo>
                    <a:pt x="29" y="1395"/>
                  </a:lnTo>
                  <a:lnTo>
                    <a:pt x="40" y="1395"/>
                  </a:lnTo>
                  <a:lnTo>
                    <a:pt x="40" y="1401"/>
                  </a:lnTo>
                  <a:lnTo>
                    <a:pt x="42" y="1407"/>
                  </a:lnTo>
                  <a:lnTo>
                    <a:pt x="45" y="1413"/>
                  </a:lnTo>
                  <a:lnTo>
                    <a:pt x="48" y="1417"/>
                  </a:lnTo>
                  <a:lnTo>
                    <a:pt x="56" y="1424"/>
                  </a:lnTo>
                  <a:lnTo>
                    <a:pt x="67" y="1430"/>
                  </a:lnTo>
                  <a:lnTo>
                    <a:pt x="78" y="1435"/>
                  </a:lnTo>
                  <a:lnTo>
                    <a:pt x="90" y="1439"/>
                  </a:lnTo>
                  <a:lnTo>
                    <a:pt x="110" y="1448"/>
                  </a:lnTo>
                  <a:lnTo>
                    <a:pt x="110" y="1465"/>
                  </a:lnTo>
                  <a:lnTo>
                    <a:pt x="114" y="1466"/>
                  </a:lnTo>
                  <a:lnTo>
                    <a:pt x="120" y="1466"/>
                  </a:lnTo>
                  <a:lnTo>
                    <a:pt x="130" y="1465"/>
                  </a:lnTo>
                  <a:lnTo>
                    <a:pt x="139" y="1464"/>
                  </a:lnTo>
                  <a:lnTo>
                    <a:pt x="142" y="1464"/>
                  </a:lnTo>
                  <a:lnTo>
                    <a:pt x="145" y="1465"/>
                  </a:lnTo>
                  <a:lnTo>
                    <a:pt x="146" y="1472"/>
                  </a:lnTo>
                  <a:lnTo>
                    <a:pt x="146" y="1479"/>
                  </a:lnTo>
                  <a:lnTo>
                    <a:pt x="146" y="1493"/>
                  </a:lnTo>
                  <a:lnTo>
                    <a:pt x="145" y="1500"/>
                  </a:lnTo>
                  <a:lnTo>
                    <a:pt x="146" y="1507"/>
                  </a:lnTo>
                  <a:lnTo>
                    <a:pt x="148" y="1513"/>
                  </a:lnTo>
                  <a:lnTo>
                    <a:pt x="151" y="1517"/>
                  </a:lnTo>
                  <a:lnTo>
                    <a:pt x="154" y="1523"/>
                  </a:lnTo>
                  <a:lnTo>
                    <a:pt x="156" y="1530"/>
                  </a:lnTo>
                  <a:lnTo>
                    <a:pt x="159" y="1543"/>
                  </a:lnTo>
                  <a:lnTo>
                    <a:pt x="159" y="1556"/>
                  </a:lnTo>
                  <a:lnTo>
                    <a:pt x="162" y="1569"/>
                  </a:lnTo>
                  <a:lnTo>
                    <a:pt x="180" y="1569"/>
                  </a:lnTo>
                  <a:lnTo>
                    <a:pt x="180" y="1587"/>
                  </a:lnTo>
                  <a:lnTo>
                    <a:pt x="193" y="1590"/>
                  </a:lnTo>
                  <a:lnTo>
                    <a:pt x="204" y="1591"/>
                  </a:lnTo>
                  <a:lnTo>
                    <a:pt x="214" y="1590"/>
                  </a:lnTo>
                  <a:lnTo>
                    <a:pt x="226" y="1587"/>
                  </a:lnTo>
                  <a:lnTo>
                    <a:pt x="246" y="1578"/>
                  </a:lnTo>
                  <a:lnTo>
                    <a:pt x="267" y="1569"/>
                  </a:lnTo>
                  <a:lnTo>
                    <a:pt x="267" y="1552"/>
                  </a:lnTo>
                  <a:lnTo>
                    <a:pt x="284" y="1552"/>
                  </a:lnTo>
                  <a:lnTo>
                    <a:pt x="284" y="1535"/>
                  </a:lnTo>
                  <a:lnTo>
                    <a:pt x="301" y="1535"/>
                  </a:lnTo>
                  <a:lnTo>
                    <a:pt x="275" y="1606"/>
                  </a:lnTo>
                  <a:lnTo>
                    <a:pt x="259" y="1642"/>
                  </a:lnTo>
                  <a:lnTo>
                    <a:pt x="251" y="1659"/>
                  </a:lnTo>
                  <a:lnTo>
                    <a:pt x="241" y="1675"/>
                  </a:lnTo>
                  <a:lnTo>
                    <a:pt x="229" y="1691"/>
                  </a:lnTo>
                  <a:lnTo>
                    <a:pt x="217" y="1704"/>
                  </a:lnTo>
                  <a:lnTo>
                    <a:pt x="204" y="1714"/>
                  </a:lnTo>
                  <a:lnTo>
                    <a:pt x="188" y="1723"/>
                  </a:lnTo>
                  <a:lnTo>
                    <a:pt x="172" y="1729"/>
                  </a:lnTo>
                  <a:lnTo>
                    <a:pt x="164" y="1730"/>
                  </a:lnTo>
                  <a:lnTo>
                    <a:pt x="154" y="1732"/>
                  </a:lnTo>
                  <a:lnTo>
                    <a:pt x="143" y="1732"/>
                  </a:lnTo>
                  <a:lnTo>
                    <a:pt x="133" y="1730"/>
                  </a:lnTo>
                  <a:lnTo>
                    <a:pt x="110" y="1726"/>
                  </a:lnTo>
                  <a:lnTo>
                    <a:pt x="110" y="1709"/>
                  </a:lnTo>
                  <a:lnTo>
                    <a:pt x="93" y="1709"/>
                  </a:lnTo>
                  <a:lnTo>
                    <a:pt x="94" y="1703"/>
                  </a:lnTo>
                  <a:lnTo>
                    <a:pt x="94" y="1696"/>
                  </a:lnTo>
                  <a:lnTo>
                    <a:pt x="93" y="1690"/>
                  </a:lnTo>
                  <a:lnTo>
                    <a:pt x="91" y="1685"/>
                  </a:lnTo>
                  <a:lnTo>
                    <a:pt x="87" y="1681"/>
                  </a:lnTo>
                  <a:lnTo>
                    <a:pt x="84" y="1680"/>
                  </a:lnTo>
                  <a:lnTo>
                    <a:pt x="80" y="1678"/>
                  </a:lnTo>
                  <a:lnTo>
                    <a:pt x="75" y="1680"/>
                  </a:lnTo>
                  <a:lnTo>
                    <a:pt x="68" y="1684"/>
                  </a:lnTo>
                  <a:lnTo>
                    <a:pt x="61" y="1688"/>
                  </a:lnTo>
                  <a:lnTo>
                    <a:pt x="56" y="1694"/>
                  </a:lnTo>
                  <a:lnTo>
                    <a:pt x="53" y="1700"/>
                  </a:lnTo>
                  <a:lnTo>
                    <a:pt x="52" y="1707"/>
                  </a:lnTo>
                  <a:lnTo>
                    <a:pt x="52" y="1714"/>
                  </a:lnTo>
                  <a:lnTo>
                    <a:pt x="52" y="1723"/>
                  </a:lnTo>
                  <a:lnTo>
                    <a:pt x="55" y="1730"/>
                  </a:lnTo>
                  <a:lnTo>
                    <a:pt x="59" y="1748"/>
                  </a:lnTo>
                  <a:lnTo>
                    <a:pt x="67" y="1765"/>
                  </a:lnTo>
                  <a:lnTo>
                    <a:pt x="81" y="1796"/>
                  </a:lnTo>
                  <a:lnTo>
                    <a:pt x="88" y="1809"/>
                  </a:lnTo>
                  <a:lnTo>
                    <a:pt x="98" y="1822"/>
                  </a:lnTo>
                  <a:lnTo>
                    <a:pt x="109" y="1833"/>
                  </a:lnTo>
                  <a:lnTo>
                    <a:pt x="122" y="1845"/>
                  </a:lnTo>
                  <a:lnTo>
                    <a:pt x="135" y="1855"/>
                  </a:lnTo>
                  <a:lnTo>
                    <a:pt x="149" y="1864"/>
                  </a:lnTo>
                  <a:lnTo>
                    <a:pt x="165" y="1871"/>
                  </a:lnTo>
                  <a:lnTo>
                    <a:pt x="180" y="1877"/>
                  </a:lnTo>
                  <a:lnTo>
                    <a:pt x="199" y="1881"/>
                  </a:lnTo>
                  <a:lnTo>
                    <a:pt x="217" y="1884"/>
                  </a:lnTo>
                  <a:lnTo>
                    <a:pt x="235" y="1883"/>
                  </a:lnTo>
                  <a:lnTo>
                    <a:pt x="252" y="1880"/>
                  </a:lnTo>
                  <a:lnTo>
                    <a:pt x="270" y="1874"/>
                  </a:lnTo>
                  <a:lnTo>
                    <a:pt x="286" y="1867"/>
                  </a:lnTo>
                  <a:lnTo>
                    <a:pt x="301" y="1858"/>
                  </a:lnTo>
                  <a:lnTo>
                    <a:pt x="317" y="1848"/>
                  </a:lnTo>
                  <a:lnTo>
                    <a:pt x="348" y="1826"/>
                  </a:lnTo>
                  <a:lnTo>
                    <a:pt x="378" y="1803"/>
                  </a:lnTo>
                  <a:lnTo>
                    <a:pt x="409" y="1783"/>
                  </a:lnTo>
                  <a:lnTo>
                    <a:pt x="425" y="1774"/>
                  </a:lnTo>
                  <a:lnTo>
                    <a:pt x="441" y="1767"/>
                  </a:lnTo>
                  <a:lnTo>
                    <a:pt x="451" y="1764"/>
                  </a:lnTo>
                  <a:lnTo>
                    <a:pt x="461" y="1762"/>
                  </a:lnTo>
                  <a:lnTo>
                    <a:pt x="484" y="1762"/>
                  </a:lnTo>
                  <a:lnTo>
                    <a:pt x="496" y="1764"/>
                  </a:lnTo>
                  <a:lnTo>
                    <a:pt x="507" y="1762"/>
                  </a:lnTo>
                  <a:lnTo>
                    <a:pt x="518" y="1759"/>
                  </a:lnTo>
                  <a:lnTo>
                    <a:pt x="528" y="1755"/>
                  </a:lnTo>
                  <a:lnTo>
                    <a:pt x="535" y="1752"/>
                  </a:lnTo>
                  <a:lnTo>
                    <a:pt x="541" y="1749"/>
                  </a:lnTo>
                  <a:lnTo>
                    <a:pt x="554" y="1746"/>
                  </a:lnTo>
                  <a:lnTo>
                    <a:pt x="567" y="1746"/>
                  </a:lnTo>
                  <a:lnTo>
                    <a:pt x="580" y="1743"/>
                  </a:lnTo>
                  <a:lnTo>
                    <a:pt x="596" y="1735"/>
                  </a:lnTo>
                  <a:lnTo>
                    <a:pt x="610" y="1726"/>
                  </a:lnTo>
                  <a:lnTo>
                    <a:pt x="625" y="1716"/>
                  </a:lnTo>
                  <a:lnTo>
                    <a:pt x="639" y="1706"/>
                  </a:lnTo>
                  <a:lnTo>
                    <a:pt x="652" y="1694"/>
                  </a:lnTo>
                  <a:lnTo>
                    <a:pt x="664" y="1683"/>
                  </a:lnTo>
                  <a:lnTo>
                    <a:pt x="676" y="1670"/>
                  </a:lnTo>
                  <a:lnTo>
                    <a:pt x="687" y="1656"/>
                  </a:lnTo>
                  <a:lnTo>
                    <a:pt x="706" y="1629"/>
                  </a:lnTo>
                  <a:lnTo>
                    <a:pt x="725" y="1598"/>
                  </a:lnTo>
                  <a:lnTo>
                    <a:pt x="739" y="1567"/>
                  </a:lnTo>
                  <a:lnTo>
                    <a:pt x="754" y="1535"/>
                  </a:lnTo>
                  <a:lnTo>
                    <a:pt x="766" y="1543"/>
                  </a:lnTo>
                  <a:lnTo>
                    <a:pt x="770" y="1548"/>
                  </a:lnTo>
                  <a:lnTo>
                    <a:pt x="771" y="1549"/>
                  </a:lnTo>
                  <a:lnTo>
                    <a:pt x="771" y="1552"/>
                  </a:lnTo>
                  <a:lnTo>
                    <a:pt x="768" y="1571"/>
                  </a:lnTo>
                  <a:lnTo>
                    <a:pt x="768" y="1587"/>
                  </a:lnTo>
                  <a:lnTo>
                    <a:pt x="771" y="1603"/>
                  </a:lnTo>
                  <a:lnTo>
                    <a:pt x="776" y="1617"/>
                  </a:lnTo>
                  <a:lnTo>
                    <a:pt x="781" y="1632"/>
                  </a:lnTo>
                  <a:lnTo>
                    <a:pt x="789" y="1645"/>
                  </a:lnTo>
                  <a:lnTo>
                    <a:pt x="806" y="1674"/>
                  </a:lnTo>
                  <a:lnTo>
                    <a:pt x="809" y="1675"/>
                  </a:lnTo>
                  <a:lnTo>
                    <a:pt x="812" y="1675"/>
                  </a:lnTo>
                  <a:lnTo>
                    <a:pt x="822" y="1674"/>
                  </a:lnTo>
                  <a:lnTo>
                    <a:pt x="831" y="1672"/>
                  </a:lnTo>
                  <a:lnTo>
                    <a:pt x="837" y="1672"/>
                  </a:lnTo>
                  <a:lnTo>
                    <a:pt x="841" y="1674"/>
                  </a:lnTo>
                  <a:lnTo>
                    <a:pt x="841" y="1691"/>
                  </a:lnTo>
                  <a:lnTo>
                    <a:pt x="854" y="1685"/>
                  </a:lnTo>
                  <a:lnTo>
                    <a:pt x="867" y="1678"/>
                  </a:lnTo>
                  <a:lnTo>
                    <a:pt x="877" y="1670"/>
                  </a:lnTo>
                  <a:lnTo>
                    <a:pt x="887" y="1659"/>
                  </a:lnTo>
                  <a:lnTo>
                    <a:pt x="897" y="1649"/>
                  </a:lnTo>
                  <a:lnTo>
                    <a:pt x="906" y="1639"/>
                  </a:lnTo>
                  <a:lnTo>
                    <a:pt x="922" y="1614"/>
                  </a:lnTo>
                  <a:lnTo>
                    <a:pt x="935" y="1590"/>
                  </a:lnTo>
                  <a:lnTo>
                    <a:pt x="950" y="1565"/>
                  </a:lnTo>
                  <a:lnTo>
                    <a:pt x="964" y="1540"/>
                  </a:lnTo>
                  <a:lnTo>
                    <a:pt x="980" y="1517"/>
                  </a:lnTo>
                  <a:lnTo>
                    <a:pt x="983" y="1516"/>
                  </a:lnTo>
                  <a:lnTo>
                    <a:pt x="986" y="1514"/>
                  </a:lnTo>
                  <a:lnTo>
                    <a:pt x="996" y="1513"/>
                  </a:lnTo>
                  <a:lnTo>
                    <a:pt x="1005" y="1514"/>
                  </a:lnTo>
                  <a:lnTo>
                    <a:pt x="1015" y="1517"/>
                  </a:lnTo>
                  <a:lnTo>
                    <a:pt x="1015" y="1535"/>
                  </a:lnTo>
                  <a:lnTo>
                    <a:pt x="1032" y="1535"/>
                  </a:lnTo>
                  <a:lnTo>
                    <a:pt x="1031" y="1539"/>
                  </a:lnTo>
                  <a:lnTo>
                    <a:pt x="1031" y="1542"/>
                  </a:lnTo>
                  <a:lnTo>
                    <a:pt x="1032" y="1549"/>
                  </a:lnTo>
                  <a:lnTo>
                    <a:pt x="1035" y="1555"/>
                  </a:lnTo>
                  <a:lnTo>
                    <a:pt x="1041" y="1561"/>
                  </a:lnTo>
                  <a:lnTo>
                    <a:pt x="1047" y="1567"/>
                  </a:lnTo>
                  <a:lnTo>
                    <a:pt x="1050" y="1572"/>
                  </a:lnTo>
                  <a:lnTo>
                    <a:pt x="1051" y="1580"/>
                  </a:lnTo>
                  <a:lnTo>
                    <a:pt x="1051" y="1582"/>
                  </a:lnTo>
                  <a:lnTo>
                    <a:pt x="1050" y="1587"/>
                  </a:lnTo>
                  <a:lnTo>
                    <a:pt x="1067" y="1587"/>
                  </a:lnTo>
                  <a:lnTo>
                    <a:pt x="1067" y="1604"/>
                  </a:lnTo>
                  <a:lnTo>
                    <a:pt x="1085" y="1604"/>
                  </a:lnTo>
                  <a:lnTo>
                    <a:pt x="1086" y="1613"/>
                  </a:lnTo>
                  <a:lnTo>
                    <a:pt x="1086" y="1622"/>
                  </a:lnTo>
                  <a:lnTo>
                    <a:pt x="1085" y="1639"/>
                  </a:lnTo>
                  <a:lnTo>
                    <a:pt x="1083" y="1656"/>
                  </a:lnTo>
                  <a:lnTo>
                    <a:pt x="1083" y="1665"/>
                  </a:lnTo>
                  <a:lnTo>
                    <a:pt x="1085" y="1674"/>
                  </a:lnTo>
                  <a:lnTo>
                    <a:pt x="1102" y="1674"/>
                  </a:lnTo>
                  <a:lnTo>
                    <a:pt x="1103" y="1680"/>
                  </a:lnTo>
                  <a:lnTo>
                    <a:pt x="1103" y="1685"/>
                  </a:lnTo>
                  <a:lnTo>
                    <a:pt x="1102" y="1691"/>
                  </a:lnTo>
                  <a:lnTo>
                    <a:pt x="1100" y="1696"/>
                  </a:lnTo>
                  <a:lnTo>
                    <a:pt x="1093" y="1703"/>
                  </a:lnTo>
                  <a:lnTo>
                    <a:pt x="1085" y="1709"/>
                  </a:lnTo>
                  <a:lnTo>
                    <a:pt x="1067" y="1709"/>
                  </a:lnTo>
                  <a:lnTo>
                    <a:pt x="1067" y="1726"/>
                  </a:lnTo>
                  <a:lnTo>
                    <a:pt x="1050" y="1726"/>
                  </a:lnTo>
                  <a:lnTo>
                    <a:pt x="1041" y="1746"/>
                  </a:lnTo>
                  <a:lnTo>
                    <a:pt x="1032" y="1767"/>
                  </a:lnTo>
                  <a:lnTo>
                    <a:pt x="1029" y="1778"/>
                  </a:lnTo>
                  <a:lnTo>
                    <a:pt x="1028" y="1788"/>
                  </a:lnTo>
                  <a:lnTo>
                    <a:pt x="1029" y="1800"/>
                  </a:lnTo>
                  <a:lnTo>
                    <a:pt x="1032" y="1813"/>
                  </a:lnTo>
                  <a:lnTo>
                    <a:pt x="1050" y="1813"/>
                  </a:lnTo>
                  <a:lnTo>
                    <a:pt x="1050" y="1831"/>
                  </a:lnTo>
                  <a:lnTo>
                    <a:pt x="1067" y="1832"/>
                  </a:lnTo>
                  <a:lnTo>
                    <a:pt x="1086" y="1831"/>
                  </a:lnTo>
                  <a:lnTo>
                    <a:pt x="1124" y="1826"/>
                  </a:lnTo>
                  <a:lnTo>
                    <a:pt x="1141" y="1826"/>
                  </a:lnTo>
                  <a:lnTo>
                    <a:pt x="1157" y="1826"/>
                  </a:lnTo>
                  <a:lnTo>
                    <a:pt x="1164" y="1828"/>
                  </a:lnTo>
                  <a:lnTo>
                    <a:pt x="1172" y="1829"/>
                  </a:lnTo>
                  <a:lnTo>
                    <a:pt x="1177" y="1832"/>
                  </a:lnTo>
                  <a:lnTo>
                    <a:pt x="1183" y="1836"/>
                  </a:lnTo>
                  <a:lnTo>
                    <a:pt x="1192" y="1845"/>
                  </a:lnTo>
                  <a:lnTo>
                    <a:pt x="1201" y="1854"/>
                  </a:lnTo>
                  <a:lnTo>
                    <a:pt x="1215" y="1874"/>
                  </a:lnTo>
                  <a:lnTo>
                    <a:pt x="1227" y="1896"/>
                  </a:lnTo>
                  <a:lnTo>
                    <a:pt x="1238" y="1918"/>
                  </a:lnTo>
                  <a:lnTo>
                    <a:pt x="1283" y="1865"/>
                  </a:lnTo>
                  <a:lnTo>
                    <a:pt x="1324" y="1810"/>
                  </a:lnTo>
                  <a:lnTo>
                    <a:pt x="1363" y="1754"/>
                  </a:lnTo>
                  <a:lnTo>
                    <a:pt x="1401" y="1696"/>
                  </a:lnTo>
                  <a:lnTo>
                    <a:pt x="1434" y="1635"/>
                  </a:lnTo>
                  <a:lnTo>
                    <a:pt x="1466" y="1574"/>
                  </a:lnTo>
                  <a:lnTo>
                    <a:pt x="1495" y="1510"/>
                  </a:lnTo>
                  <a:lnTo>
                    <a:pt x="1521" y="1446"/>
                  </a:lnTo>
                  <a:lnTo>
                    <a:pt x="1544" y="1379"/>
                  </a:lnTo>
                  <a:lnTo>
                    <a:pt x="1566" y="1313"/>
                  </a:lnTo>
                  <a:lnTo>
                    <a:pt x="1583" y="1244"/>
                  </a:lnTo>
                  <a:lnTo>
                    <a:pt x="1598" y="1173"/>
                  </a:lnTo>
                  <a:lnTo>
                    <a:pt x="1609" y="1104"/>
                  </a:lnTo>
                  <a:lnTo>
                    <a:pt x="1617" y="1031"/>
                  </a:lnTo>
                  <a:lnTo>
                    <a:pt x="1623" y="959"/>
                  </a:lnTo>
                  <a:lnTo>
                    <a:pt x="1624" y="885"/>
                  </a:lnTo>
                  <a:lnTo>
                    <a:pt x="1623" y="824"/>
                  </a:lnTo>
                  <a:lnTo>
                    <a:pt x="1620" y="763"/>
                  </a:lnTo>
                  <a:lnTo>
                    <a:pt x="1614" y="703"/>
                  </a:lnTo>
                  <a:lnTo>
                    <a:pt x="1605" y="644"/>
                  </a:lnTo>
                  <a:lnTo>
                    <a:pt x="1595" y="584"/>
                  </a:lnTo>
                  <a:lnTo>
                    <a:pt x="1583" y="528"/>
                  </a:lnTo>
                  <a:lnTo>
                    <a:pt x="1569" y="470"/>
                  </a:lnTo>
                  <a:lnTo>
                    <a:pt x="1553" y="415"/>
                  </a:lnTo>
                  <a:lnTo>
                    <a:pt x="1534" y="358"/>
                  </a:lnTo>
                  <a:lnTo>
                    <a:pt x="1514" y="304"/>
                  </a:lnTo>
                  <a:lnTo>
                    <a:pt x="1492" y="251"/>
                  </a:lnTo>
                  <a:lnTo>
                    <a:pt x="1467" y="199"/>
                  </a:lnTo>
                  <a:lnTo>
                    <a:pt x="1441" y="148"/>
                  </a:lnTo>
                  <a:lnTo>
                    <a:pt x="1414" y="97"/>
                  </a:lnTo>
                  <a:lnTo>
                    <a:pt x="1385" y="48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304" name="Freeform 9"/>
            <p:cNvSpPr/>
            <p:nvPr/>
          </p:nvSpPr>
          <p:spPr>
            <a:xfrm>
              <a:off x="4960800" y="2793960"/>
              <a:ext cx="717840" cy="6685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668520"/>
                <a:gd name="textAreaBottom" fmla="*/ 668520 h 668520"/>
              </a:gdLst>
              <a:ahLst/>
              <a:rect l="textAreaLeft" t="textAreaTop" r="textAreaRight" b="textAreaBottom"/>
              <a:pathLst>
                <a:path w="902" h="843">
                  <a:moveTo>
                    <a:pt x="815" y="476"/>
                  </a:moveTo>
                  <a:lnTo>
                    <a:pt x="815" y="476"/>
                  </a:lnTo>
                  <a:lnTo>
                    <a:pt x="830" y="461"/>
                  </a:lnTo>
                  <a:lnTo>
                    <a:pt x="843" y="446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6"/>
                  </a:lnTo>
                  <a:lnTo>
                    <a:pt x="901" y="279"/>
                  </a:lnTo>
                  <a:lnTo>
                    <a:pt x="900" y="252"/>
                  </a:lnTo>
                  <a:lnTo>
                    <a:pt x="896" y="226"/>
                  </a:lnTo>
                  <a:lnTo>
                    <a:pt x="890" y="199"/>
                  </a:lnTo>
                  <a:lnTo>
                    <a:pt x="881" y="174"/>
                  </a:lnTo>
                  <a:lnTo>
                    <a:pt x="870" y="150"/>
                  </a:lnTo>
                  <a:lnTo>
                    <a:pt x="857" y="127"/>
                  </a:lnTo>
                  <a:lnTo>
                    <a:pt x="841" y="106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5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599" y="1"/>
                  </a:lnTo>
                  <a:lnTo>
                    <a:pt x="572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4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4"/>
                  </a:lnTo>
                  <a:lnTo>
                    <a:pt x="374" y="157"/>
                  </a:lnTo>
                  <a:lnTo>
                    <a:pt x="367" y="172"/>
                  </a:lnTo>
                  <a:lnTo>
                    <a:pt x="363" y="187"/>
                  </a:lnTo>
                  <a:lnTo>
                    <a:pt x="358" y="203"/>
                  </a:lnTo>
                  <a:lnTo>
                    <a:pt x="345" y="189"/>
                  </a:lnTo>
                  <a:lnTo>
                    <a:pt x="332" y="178"/>
                  </a:lnTo>
                  <a:lnTo>
                    <a:pt x="318" y="168"/>
                  </a:lnTo>
                  <a:lnTo>
                    <a:pt x="302" y="158"/>
                  </a:lnTo>
                  <a:lnTo>
                    <a:pt x="284" y="150"/>
                  </a:lnTo>
                  <a:lnTo>
                    <a:pt x="264" y="142"/>
                  </a:lnTo>
                  <a:lnTo>
                    <a:pt x="245" y="138"/>
                  </a:lnTo>
                  <a:lnTo>
                    <a:pt x="225" y="134"/>
                  </a:lnTo>
                  <a:lnTo>
                    <a:pt x="206" y="133"/>
                  </a:lnTo>
                  <a:lnTo>
                    <a:pt x="186" y="134"/>
                  </a:lnTo>
                  <a:lnTo>
                    <a:pt x="166" y="136"/>
                  </a:lnTo>
                  <a:lnTo>
                    <a:pt x="147" y="141"/>
                  </a:lnTo>
                  <a:lnTo>
                    <a:pt x="128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5" y="258"/>
                  </a:lnTo>
                  <a:lnTo>
                    <a:pt x="8" y="277"/>
                  </a:lnTo>
                  <a:lnTo>
                    <a:pt x="3" y="297"/>
                  </a:lnTo>
                  <a:lnTo>
                    <a:pt x="0" y="317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3" y="376"/>
                  </a:lnTo>
                  <a:lnTo>
                    <a:pt x="7" y="395"/>
                  </a:lnTo>
                  <a:lnTo>
                    <a:pt x="13" y="414"/>
                  </a:lnTo>
                  <a:lnTo>
                    <a:pt x="22" y="432"/>
                  </a:lnTo>
                  <a:lnTo>
                    <a:pt x="31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5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8" y="524"/>
                  </a:lnTo>
                  <a:lnTo>
                    <a:pt x="131" y="530"/>
                  </a:lnTo>
                  <a:lnTo>
                    <a:pt x="144" y="534"/>
                  </a:lnTo>
                  <a:lnTo>
                    <a:pt x="158" y="538"/>
                  </a:lnTo>
                  <a:lnTo>
                    <a:pt x="154" y="557"/>
                  </a:lnTo>
                  <a:lnTo>
                    <a:pt x="152" y="576"/>
                  </a:lnTo>
                  <a:lnTo>
                    <a:pt x="150" y="594"/>
                  </a:lnTo>
                  <a:lnTo>
                    <a:pt x="152" y="614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7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09" y="750"/>
                  </a:lnTo>
                  <a:lnTo>
                    <a:pt x="223" y="765"/>
                  </a:lnTo>
                  <a:lnTo>
                    <a:pt x="237" y="777"/>
                  </a:lnTo>
                  <a:lnTo>
                    <a:pt x="253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3" y="820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7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1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3" y="787"/>
                  </a:lnTo>
                  <a:lnTo>
                    <a:pt x="528" y="776"/>
                  </a:lnTo>
                  <a:lnTo>
                    <a:pt x="543" y="765"/>
                  </a:lnTo>
                  <a:lnTo>
                    <a:pt x="555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5" y="818"/>
                  </a:lnTo>
                  <a:lnTo>
                    <a:pt x="624" y="827"/>
                  </a:lnTo>
                  <a:lnTo>
                    <a:pt x="643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39" y="839"/>
                  </a:lnTo>
                  <a:lnTo>
                    <a:pt x="758" y="836"/>
                  </a:lnTo>
                  <a:lnTo>
                    <a:pt x="776" y="830"/>
                  </a:lnTo>
                  <a:lnTo>
                    <a:pt x="794" y="821"/>
                  </a:lnTo>
                  <a:lnTo>
                    <a:pt x="810" y="811"/>
                  </a:lnTo>
                  <a:lnTo>
                    <a:pt x="826" y="800"/>
                  </a:lnTo>
                  <a:lnTo>
                    <a:pt x="841" y="787"/>
                  </a:lnTo>
                  <a:lnTo>
                    <a:pt x="854" y="773"/>
                  </a:lnTo>
                  <a:lnTo>
                    <a:pt x="867" y="757"/>
                  </a:lnTo>
                  <a:lnTo>
                    <a:pt x="878" y="739"/>
                  </a:lnTo>
                  <a:lnTo>
                    <a:pt x="886" y="722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8"/>
                  </a:lnTo>
                  <a:lnTo>
                    <a:pt x="902" y="649"/>
                  </a:lnTo>
                  <a:lnTo>
                    <a:pt x="902" y="631"/>
                  </a:lnTo>
                  <a:lnTo>
                    <a:pt x="901" y="612"/>
                  </a:lnTo>
                  <a:lnTo>
                    <a:pt x="897" y="595"/>
                  </a:lnTo>
                  <a:lnTo>
                    <a:pt x="892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1"/>
                  </a:lnTo>
                  <a:lnTo>
                    <a:pt x="830" y="488"/>
                  </a:lnTo>
                  <a:lnTo>
                    <a:pt x="815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2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309" name="Freeform 5"/>
            <p:cNvSpPr/>
            <p:nvPr/>
          </p:nvSpPr>
          <p:spPr>
            <a:xfrm>
              <a:off x="4659120" y="370044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0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2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4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4211640" y="400824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3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09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6392880" y="401004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5">
                  <a:moveTo>
                    <a:pt x="2450" y="215"/>
                  </a:moveTo>
                  <a:lnTo>
                    <a:pt x="0" y="215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3"/>
            <p:cNvSpPr/>
            <p:nvPr/>
          </p:nvSpPr>
          <p:spPr>
            <a:xfrm>
              <a:off x="7373880" y="3978360"/>
              <a:ext cx="988920" cy="21744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246" h="275">
                  <a:moveTo>
                    <a:pt x="1246" y="177"/>
                  </a:moveTo>
                  <a:lnTo>
                    <a:pt x="1246" y="177"/>
                  </a:lnTo>
                  <a:lnTo>
                    <a:pt x="1246" y="187"/>
                  </a:lnTo>
                  <a:lnTo>
                    <a:pt x="1244" y="196"/>
                  </a:lnTo>
                  <a:lnTo>
                    <a:pt x="1241" y="206"/>
                  </a:lnTo>
                  <a:lnTo>
                    <a:pt x="1239" y="215"/>
                  </a:lnTo>
                  <a:lnTo>
                    <a:pt x="1234" y="223"/>
                  </a:lnTo>
                  <a:lnTo>
                    <a:pt x="1229" y="232"/>
                  </a:lnTo>
                  <a:lnTo>
                    <a:pt x="1224" y="239"/>
                  </a:lnTo>
                  <a:lnTo>
                    <a:pt x="1218" y="247"/>
                  </a:lnTo>
                  <a:lnTo>
                    <a:pt x="1211" y="253"/>
                  </a:lnTo>
                  <a:lnTo>
                    <a:pt x="1203" y="258"/>
                  </a:lnTo>
                  <a:lnTo>
                    <a:pt x="1195" y="263"/>
                  </a:lnTo>
                  <a:lnTo>
                    <a:pt x="1186" y="268"/>
                  </a:lnTo>
                  <a:lnTo>
                    <a:pt x="1178" y="270"/>
                  </a:lnTo>
                  <a:lnTo>
                    <a:pt x="1168" y="272"/>
                  </a:lnTo>
                  <a:lnTo>
                    <a:pt x="1158" y="275"/>
                  </a:lnTo>
                  <a:lnTo>
                    <a:pt x="1148" y="275"/>
                  </a:lnTo>
                  <a:lnTo>
                    <a:pt x="98" y="275"/>
                  </a:lnTo>
                  <a:lnTo>
                    <a:pt x="88" y="275"/>
                  </a:lnTo>
                  <a:lnTo>
                    <a:pt x="79" y="272"/>
                  </a:lnTo>
                  <a:lnTo>
                    <a:pt x="69" y="270"/>
                  </a:lnTo>
                  <a:lnTo>
                    <a:pt x="60" y="268"/>
                  </a:lnTo>
                  <a:lnTo>
                    <a:pt x="52" y="263"/>
                  </a:lnTo>
                  <a:lnTo>
                    <a:pt x="43" y="258"/>
                  </a:lnTo>
                  <a:lnTo>
                    <a:pt x="36" y="253"/>
                  </a:lnTo>
                  <a:lnTo>
                    <a:pt x="28" y="247"/>
                  </a:lnTo>
                  <a:lnTo>
                    <a:pt x="22" y="239"/>
                  </a:lnTo>
                  <a:lnTo>
                    <a:pt x="17" y="232"/>
                  </a:lnTo>
                  <a:lnTo>
                    <a:pt x="12" y="223"/>
                  </a:lnTo>
                  <a:lnTo>
                    <a:pt x="7" y="215"/>
                  </a:lnTo>
                  <a:lnTo>
                    <a:pt x="5" y="206"/>
                  </a:lnTo>
                  <a:lnTo>
                    <a:pt x="3" y="196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12" y="52"/>
                  </a:lnTo>
                  <a:lnTo>
                    <a:pt x="17" y="43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3" y="17"/>
                  </a:lnTo>
                  <a:lnTo>
                    <a:pt x="52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48" y="0"/>
                  </a:lnTo>
                  <a:lnTo>
                    <a:pt x="1158" y="0"/>
                  </a:lnTo>
                  <a:lnTo>
                    <a:pt x="1168" y="3"/>
                  </a:lnTo>
                  <a:lnTo>
                    <a:pt x="1178" y="5"/>
                  </a:lnTo>
                  <a:lnTo>
                    <a:pt x="1186" y="7"/>
                  </a:lnTo>
                  <a:lnTo>
                    <a:pt x="1195" y="12"/>
                  </a:lnTo>
                  <a:lnTo>
                    <a:pt x="1203" y="17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4" y="36"/>
                  </a:lnTo>
                  <a:lnTo>
                    <a:pt x="1229" y="43"/>
                  </a:lnTo>
                  <a:lnTo>
                    <a:pt x="1234" y="52"/>
                  </a:lnTo>
                  <a:lnTo>
                    <a:pt x="1239" y="60"/>
                  </a:lnTo>
                  <a:lnTo>
                    <a:pt x="1241" y="69"/>
                  </a:lnTo>
                  <a:lnTo>
                    <a:pt x="1244" y="79"/>
                  </a:lnTo>
                  <a:lnTo>
                    <a:pt x="1246" y="88"/>
                  </a:lnTo>
                  <a:lnTo>
                    <a:pt x="1246" y="98"/>
                  </a:lnTo>
                  <a:lnTo>
                    <a:pt x="1246" y="17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组合 108"/>
          <p:cNvGrpSpPr/>
          <p:nvPr/>
        </p:nvGrpSpPr>
        <p:grpSpPr>
          <a:xfrm>
            <a:off x="5972040" y="3400560"/>
            <a:ext cx="927360" cy="623880"/>
            <a:chOff x="5972040" y="3400560"/>
            <a:chExt cx="927360" cy="623880"/>
          </a:xfrm>
        </p:grpSpPr>
        <p:sp>
          <p:nvSpPr>
            <p:cNvPr id="1314" name="Line 14"/>
            <p:cNvSpPr/>
            <p:nvPr/>
          </p:nvSpPr>
          <p:spPr>
            <a:xfrm flipV="1">
              <a:off x="5972040" y="397044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5"/>
            <p:cNvSpPr/>
            <p:nvPr/>
          </p:nvSpPr>
          <p:spPr>
            <a:xfrm flipV="1">
              <a:off x="6044760" y="385956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6"/>
            <p:cNvSpPr/>
            <p:nvPr/>
          </p:nvSpPr>
          <p:spPr>
            <a:xfrm flipV="1">
              <a:off x="6119640" y="37497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"/>
            <p:cNvSpPr/>
            <p:nvPr/>
          </p:nvSpPr>
          <p:spPr>
            <a:xfrm flipV="1">
              <a:off x="6194160" y="364032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8"/>
            <p:cNvSpPr/>
            <p:nvPr/>
          </p:nvSpPr>
          <p:spPr>
            <a:xfrm flipV="1">
              <a:off x="6267240" y="353052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9"/>
            <p:cNvSpPr/>
            <p:nvPr/>
          </p:nvSpPr>
          <p:spPr>
            <a:xfrm flipV="1">
              <a:off x="6342120" y="34210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0"/>
            <p:cNvSpPr/>
            <p:nvPr/>
          </p:nvSpPr>
          <p:spPr>
            <a:xfrm>
              <a:off x="643572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"/>
            <p:cNvSpPr/>
            <p:nvPr/>
          </p:nvSpPr>
          <p:spPr>
            <a:xfrm>
              <a:off x="656748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2"/>
            <p:cNvSpPr/>
            <p:nvPr/>
          </p:nvSpPr>
          <p:spPr>
            <a:xfrm>
              <a:off x="6701040" y="34005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3"/>
            <p:cNvSpPr/>
            <p:nvPr/>
          </p:nvSpPr>
          <p:spPr>
            <a:xfrm>
              <a:off x="683280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325" name="Freeform 24"/>
            <p:cNvSpPr/>
            <p:nvPr/>
          </p:nvSpPr>
          <p:spPr>
            <a:xfrm>
              <a:off x="4659120" y="597528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1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3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5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4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6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5"/>
            <p:cNvSpPr/>
            <p:nvPr/>
          </p:nvSpPr>
          <p:spPr>
            <a:xfrm>
              <a:off x="4211640" y="628308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4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5"/>
                  </a:lnTo>
                  <a:lnTo>
                    <a:pt x="1428" y="245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6"/>
            <p:cNvSpPr/>
            <p:nvPr/>
          </p:nvSpPr>
          <p:spPr>
            <a:xfrm>
              <a:off x="6392880" y="628488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329" name="Freeform 27"/>
            <p:cNvSpPr/>
            <p:nvPr/>
          </p:nvSpPr>
          <p:spPr>
            <a:xfrm>
              <a:off x="457200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0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5"/>
                  </a:lnTo>
                  <a:lnTo>
                    <a:pt x="901" y="278"/>
                  </a:lnTo>
                  <a:lnTo>
                    <a:pt x="900" y="251"/>
                  </a:lnTo>
                  <a:lnTo>
                    <a:pt x="897" y="226"/>
                  </a:lnTo>
                  <a:lnTo>
                    <a:pt x="890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7" y="126"/>
                  </a:lnTo>
                  <a:lnTo>
                    <a:pt x="841" y="105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2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4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6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6" y="258"/>
                  </a:lnTo>
                  <a:lnTo>
                    <a:pt x="8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7" y="395"/>
                  </a:lnTo>
                  <a:lnTo>
                    <a:pt x="13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4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3" y="764"/>
                  </a:lnTo>
                  <a:lnTo>
                    <a:pt x="556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6" y="818"/>
                  </a:lnTo>
                  <a:lnTo>
                    <a:pt x="624" y="827"/>
                  </a:lnTo>
                  <a:lnTo>
                    <a:pt x="644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6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1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1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0"/>
                  </a:lnTo>
                  <a:lnTo>
                    <a:pt x="830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332" name="Freeform 29"/>
            <p:cNvSpPr/>
            <p:nvPr/>
          </p:nvSpPr>
          <p:spPr>
            <a:xfrm>
              <a:off x="547524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1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80" y="384"/>
                  </a:lnTo>
                  <a:lnTo>
                    <a:pt x="888" y="358"/>
                  </a:lnTo>
                  <a:lnTo>
                    <a:pt x="896" y="331"/>
                  </a:lnTo>
                  <a:lnTo>
                    <a:pt x="899" y="305"/>
                  </a:lnTo>
                  <a:lnTo>
                    <a:pt x="902" y="278"/>
                  </a:lnTo>
                  <a:lnTo>
                    <a:pt x="901" y="251"/>
                  </a:lnTo>
                  <a:lnTo>
                    <a:pt x="897" y="226"/>
                  </a:lnTo>
                  <a:lnTo>
                    <a:pt x="891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8" y="126"/>
                  </a:lnTo>
                  <a:lnTo>
                    <a:pt x="842" y="105"/>
                  </a:lnTo>
                  <a:lnTo>
                    <a:pt x="824" y="85"/>
                  </a:lnTo>
                  <a:lnTo>
                    <a:pt x="804" y="66"/>
                  </a:lnTo>
                  <a:lnTo>
                    <a:pt x="782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7" y="12"/>
                  </a:lnTo>
                  <a:lnTo>
                    <a:pt x="680" y="5"/>
                  </a:lnTo>
                  <a:lnTo>
                    <a:pt x="653" y="1"/>
                  </a:lnTo>
                  <a:lnTo>
                    <a:pt x="626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3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3" y="59"/>
                  </a:lnTo>
                  <a:lnTo>
                    <a:pt x="433" y="77"/>
                  </a:lnTo>
                  <a:lnTo>
                    <a:pt x="414" y="97"/>
                  </a:lnTo>
                  <a:lnTo>
                    <a:pt x="396" y="119"/>
                  </a:lnTo>
                  <a:lnTo>
                    <a:pt x="382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3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5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7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1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3" y="190"/>
                  </a:lnTo>
                  <a:lnTo>
                    <a:pt x="49" y="205"/>
                  </a:lnTo>
                  <a:lnTo>
                    <a:pt x="36" y="221"/>
                  </a:lnTo>
                  <a:lnTo>
                    <a:pt x="25" y="239"/>
                  </a:lnTo>
                  <a:lnTo>
                    <a:pt x="16" y="258"/>
                  </a:lnTo>
                  <a:lnTo>
                    <a:pt x="9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8" y="395"/>
                  </a:lnTo>
                  <a:lnTo>
                    <a:pt x="14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7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6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5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7" y="719"/>
                  </a:lnTo>
                  <a:lnTo>
                    <a:pt x="198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6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1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5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4" y="764"/>
                  </a:lnTo>
                  <a:lnTo>
                    <a:pt x="556" y="779"/>
                  </a:lnTo>
                  <a:lnTo>
                    <a:pt x="572" y="794"/>
                  </a:lnTo>
                  <a:lnTo>
                    <a:pt x="588" y="807"/>
                  </a:lnTo>
                  <a:lnTo>
                    <a:pt x="606" y="818"/>
                  </a:lnTo>
                  <a:lnTo>
                    <a:pt x="625" y="827"/>
                  </a:lnTo>
                  <a:lnTo>
                    <a:pt x="644" y="834"/>
                  </a:lnTo>
                  <a:lnTo>
                    <a:pt x="663" y="839"/>
                  </a:lnTo>
                  <a:lnTo>
                    <a:pt x="682" y="842"/>
                  </a:lnTo>
                  <a:lnTo>
                    <a:pt x="702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7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2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2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2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6" y="561"/>
                  </a:lnTo>
                  <a:lnTo>
                    <a:pt x="878" y="545"/>
                  </a:lnTo>
                  <a:lnTo>
                    <a:pt x="869" y="529"/>
                  </a:lnTo>
                  <a:lnTo>
                    <a:pt x="858" y="514"/>
                  </a:lnTo>
                  <a:lnTo>
                    <a:pt x="845" y="500"/>
                  </a:lnTo>
                  <a:lnTo>
                    <a:pt x="831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Freeform 31"/>
          <p:cNvSpPr/>
          <p:nvPr/>
        </p:nvSpPr>
        <p:spPr>
          <a:xfrm>
            <a:off x="7373880" y="625320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7"/>
                </a:moveTo>
                <a:lnTo>
                  <a:pt x="1246" y="177"/>
                </a:lnTo>
                <a:lnTo>
                  <a:pt x="1246" y="187"/>
                </a:lnTo>
                <a:lnTo>
                  <a:pt x="1244" y="196"/>
                </a:lnTo>
                <a:lnTo>
                  <a:pt x="1241" y="206"/>
                </a:lnTo>
                <a:lnTo>
                  <a:pt x="1239" y="215"/>
                </a:lnTo>
                <a:lnTo>
                  <a:pt x="1234" y="223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7"/>
                </a:lnTo>
                <a:lnTo>
                  <a:pt x="1211" y="253"/>
                </a:lnTo>
                <a:lnTo>
                  <a:pt x="1203" y="258"/>
                </a:lnTo>
                <a:lnTo>
                  <a:pt x="1195" y="263"/>
                </a:lnTo>
                <a:lnTo>
                  <a:pt x="1186" y="268"/>
                </a:lnTo>
                <a:lnTo>
                  <a:pt x="1178" y="270"/>
                </a:lnTo>
                <a:lnTo>
                  <a:pt x="1168" y="272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2"/>
                </a:lnTo>
                <a:lnTo>
                  <a:pt x="69" y="270"/>
                </a:lnTo>
                <a:lnTo>
                  <a:pt x="60" y="268"/>
                </a:lnTo>
                <a:lnTo>
                  <a:pt x="52" y="263"/>
                </a:lnTo>
                <a:lnTo>
                  <a:pt x="43" y="258"/>
                </a:lnTo>
                <a:lnTo>
                  <a:pt x="36" y="253"/>
                </a:lnTo>
                <a:lnTo>
                  <a:pt x="28" y="247"/>
                </a:lnTo>
                <a:lnTo>
                  <a:pt x="22" y="239"/>
                </a:lnTo>
                <a:lnTo>
                  <a:pt x="17" y="232"/>
                </a:lnTo>
                <a:lnTo>
                  <a:pt x="12" y="223"/>
                </a:lnTo>
                <a:lnTo>
                  <a:pt x="7" y="215"/>
                </a:lnTo>
                <a:lnTo>
                  <a:pt x="5" y="206"/>
                </a:lnTo>
                <a:lnTo>
                  <a:pt x="3" y="196"/>
                </a:lnTo>
                <a:lnTo>
                  <a:pt x="0" y="187"/>
                </a:lnTo>
                <a:lnTo>
                  <a:pt x="0" y="177"/>
                </a:lnTo>
                <a:lnTo>
                  <a:pt x="0" y="98"/>
                </a:lnTo>
                <a:lnTo>
                  <a:pt x="0" y="88"/>
                </a:lnTo>
                <a:lnTo>
                  <a:pt x="3" y="79"/>
                </a:lnTo>
                <a:lnTo>
                  <a:pt x="5" y="69"/>
                </a:lnTo>
                <a:lnTo>
                  <a:pt x="7" y="60"/>
                </a:lnTo>
                <a:lnTo>
                  <a:pt x="12" y="52"/>
                </a:lnTo>
                <a:lnTo>
                  <a:pt x="17" y="43"/>
                </a:lnTo>
                <a:lnTo>
                  <a:pt x="22" y="36"/>
                </a:lnTo>
                <a:lnTo>
                  <a:pt x="28" y="28"/>
                </a:lnTo>
                <a:lnTo>
                  <a:pt x="36" y="22"/>
                </a:lnTo>
                <a:lnTo>
                  <a:pt x="43" y="17"/>
                </a:lnTo>
                <a:lnTo>
                  <a:pt x="52" y="12"/>
                </a:lnTo>
                <a:lnTo>
                  <a:pt x="60" y="7"/>
                </a:lnTo>
                <a:lnTo>
                  <a:pt x="69" y="5"/>
                </a:lnTo>
                <a:lnTo>
                  <a:pt x="79" y="3"/>
                </a:lnTo>
                <a:lnTo>
                  <a:pt x="88" y="0"/>
                </a:lnTo>
                <a:lnTo>
                  <a:pt x="98" y="0"/>
                </a:lnTo>
                <a:lnTo>
                  <a:pt x="1148" y="0"/>
                </a:lnTo>
                <a:lnTo>
                  <a:pt x="1158" y="0"/>
                </a:lnTo>
                <a:lnTo>
                  <a:pt x="1168" y="3"/>
                </a:lnTo>
                <a:lnTo>
                  <a:pt x="1178" y="5"/>
                </a:lnTo>
                <a:lnTo>
                  <a:pt x="1186" y="7"/>
                </a:lnTo>
                <a:lnTo>
                  <a:pt x="1195" y="12"/>
                </a:lnTo>
                <a:lnTo>
                  <a:pt x="1203" y="17"/>
                </a:lnTo>
                <a:lnTo>
                  <a:pt x="1211" y="22"/>
                </a:lnTo>
                <a:lnTo>
                  <a:pt x="1218" y="28"/>
                </a:lnTo>
                <a:lnTo>
                  <a:pt x="1224" y="36"/>
                </a:lnTo>
                <a:lnTo>
                  <a:pt x="1229" y="43"/>
                </a:lnTo>
                <a:lnTo>
                  <a:pt x="1234" y="52"/>
                </a:lnTo>
                <a:lnTo>
                  <a:pt x="1239" y="60"/>
                </a:lnTo>
                <a:lnTo>
                  <a:pt x="1241" y="69"/>
                </a:lnTo>
                <a:lnTo>
                  <a:pt x="1244" y="79"/>
                </a:lnTo>
                <a:lnTo>
                  <a:pt x="1246" y="88"/>
                </a:lnTo>
                <a:lnTo>
                  <a:pt x="1246" y="98"/>
                </a:lnTo>
                <a:lnTo>
                  <a:pt x="1246" y="177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组合 109"/>
          <p:cNvGrpSpPr/>
          <p:nvPr/>
        </p:nvGrpSpPr>
        <p:grpSpPr>
          <a:xfrm>
            <a:off x="5972040" y="5675400"/>
            <a:ext cx="927360" cy="623880"/>
            <a:chOff x="5972040" y="5675400"/>
            <a:chExt cx="927360" cy="623880"/>
          </a:xfrm>
        </p:grpSpPr>
        <p:sp>
          <p:nvSpPr>
            <p:cNvPr id="1336" name="Line 32"/>
            <p:cNvSpPr/>
            <p:nvPr/>
          </p:nvSpPr>
          <p:spPr>
            <a:xfrm flipV="1">
              <a:off x="5972040" y="62452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33"/>
            <p:cNvSpPr/>
            <p:nvPr/>
          </p:nvSpPr>
          <p:spPr>
            <a:xfrm flipV="1">
              <a:off x="6044760" y="61344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34"/>
            <p:cNvSpPr/>
            <p:nvPr/>
          </p:nvSpPr>
          <p:spPr>
            <a:xfrm flipV="1">
              <a:off x="6119640" y="602460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35"/>
            <p:cNvSpPr/>
            <p:nvPr/>
          </p:nvSpPr>
          <p:spPr>
            <a:xfrm flipV="1">
              <a:off x="6194160" y="59151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36"/>
            <p:cNvSpPr/>
            <p:nvPr/>
          </p:nvSpPr>
          <p:spPr>
            <a:xfrm flipV="1">
              <a:off x="6267240" y="580536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37"/>
            <p:cNvSpPr/>
            <p:nvPr/>
          </p:nvSpPr>
          <p:spPr>
            <a:xfrm flipV="1">
              <a:off x="6342120" y="569592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38"/>
            <p:cNvSpPr/>
            <p:nvPr/>
          </p:nvSpPr>
          <p:spPr>
            <a:xfrm>
              <a:off x="643572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39"/>
            <p:cNvSpPr/>
            <p:nvPr/>
          </p:nvSpPr>
          <p:spPr>
            <a:xfrm>
              <a:off x="656748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40"/>
            <p:cNvSpPr/>
            <p:nvPr/>
          </p:nvSpPr>
          <p:spPr>
            <a:xfrm>
              <a:off x="6701040" y="567540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41"/>
            <p:cNvSpPr/>
            <p:nvPr/>
          </p:nvSpPr>
          <p:spPr>
            <a:xfrm>
              <a:off x="683280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349" name="Freeform 43"/>
            <p:cNvSpPr/>
            <p:nvPr/>
          </p:nvSpPr>
          <p:spPr>
            <a:xfrm>
              <a:off x="4659120" y="147960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1">
                  <a:moveTo>
                    <a:pt x="0" y="604"/>
                  </a:moveTo>
                  <a:lnTo>
                    <a:pt x="0" y="604"/>
                  </a:lnTo>
                  <a:lnTo>
                    <a:pt x="27" y="578"/>
                  </a:lnTo>
                  <a:lnTo>
                    <a:pt x="102" y="508"/>
                  </a:lnTo>
                  <a:lnTo>
                    <a:pt x="153" y="461"/>
                  </a:lnTo>
                  <a:lnTo>
                    <a:pt x="212" y="410"/>
                  </a:lnTo>
                  <a:lnTo>
                    <a:pt x="277" y="353"/>
                  </a:lnTo>
                  <a:lnTo>
                    <a:pt x="348" y="297"/>
                  </a:lnTo>
                  <a:lnTo>
                    <a:pt x="422" y="239"/>
                  </a:lnTo>
                  <a:lnTo>
                    <a:pt x="460" y="212"/>
                  </a:lnTo>
                  <a:lnTo>
                    <a:pt x="498" y="185"/>
                  </a:lnTo>
                  <a:lnTo>
                    <a:pt x="537" y="158"/>
                  </a:lnTo>
                  <a:lnTo>
                    <a:pt x="575" y="134"/>
                  </a:lnTo>
                  <a:lnTo>
                    <a:pt x="615" y="110"/>
                  </a:lnTo>
                  <a:lnTo>
                    <a:pt x="653" y="88"/>
                  </a:lnTo>
                  <a:lnTo>
                    <a:pt x="691" y="69"/>
                  </a:lnTo>
                  <a:lnTo>
                    <a:pt x="727" y="50"/>
                  </a:lnTo>
                  <a:lnTo>
                    <a:pt x="763" y="36"/>
                  </a:lnTo>
                  <a:lnTo>
                    <a:pt x="799" y="22"/>
                  </a:lnTo>
                  <a:lnTo>
                    <a:pt x="833" y="12"/>
                  </a:lnTo>
                  <a:lnTo>
                    <a:pt x="866" y="5"/>
                  </a:lnTo>
                  <a:lnTo>
                    <a:pt x="882" y="3"/>
                  </a:lnTo>
                  <a:lnTo>
                    <a:pt x="898" y="1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4"/>
                  </a:lnTo>
                  <a:lnTo>
                    <a:pt x="991" y="9"/>
                  </a:lnTo>
                  <a:lnTo>
                    <a:pt x="1027" y="17"/>
                  </a:lnTo>
                  <a:lnTo>
                    <a:pt x="1065" y="28"/>
                  </a:lnTo>
                  <a:lnTo>
                    <a:pt x="1105" y="42"/>
                  </a:lnTo>
                  <a:lnTo>
                    <a:pt x="1147" y="58"/>
                  </a:lnTo>
                  <a:lnTo>
                    <a:pt x="1190" y="75"/>
                  </a:lnTo>
                  <a:lnTo>
                    <a:pt x="1235" y="95"/>
                  </a:lnTo>
                  <a:lnTo>
                    <a:pt x="1281" y="114"/>
                  </a:lnTo>
                  <a:lnTo>
                    <a:pt x="1327" y="136"/>
                  </a:lnTo>
                  <a:lnTo>
                    <a:pt x="1422" y="184"/>
                  </a:lnTo>
                  <a:lnTo>
                    <a:pt x="1517" y="234"/>
                  </a:lnTo>
                  <a:lnTo>
                    <a:pt x="1611" y="286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5"/>
                  </a:lnTo>
                  <a:lnTo>
                    <a:pt x="2025" y="536"/>
                  </a:lnTo>
                  <a:lnTo>
                    <a:pt x="2061" y="560"/>
                  </a:lnTo>
                  <a:lnTo>
                    <a:pt x="2014" y="577"/>
                  </a:lnTo>
                  <a:lnTo>
                    <a:pt x="1958" y="594"/>
                  </a:lnTo>
                  <a:lnTo>
                    <a:pt x="1882" y="617"/>
                  </a:lnTo>
                  <a:lnTo>
                    <a:pt x="1838" y="628"/>
                  </a:lnTo>
                  <a:lnTo>
                    <a:pt x="1787" y="642"/>
                  </a:lnTo>
                  <a:lnTo>
                    <a:pt x="1734" y="654"/>
                  </a:lnTo>
                  <a:lnTo>
                    <a:pt x="1677" y="668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4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6"/>
                  </a:lnTo>
                  <a:lnTo>
                    <a:pt x="1014" y="748"/>
                  </a:lnTo>
                  <a:lnTo>
                    <a:pt x="929" y="751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6"/>
                  </a:lnTo>
                  <a:lnTo>
                    <a:pt x="568" y="731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4"/>
                  </a:lnTo>
                  <a:lnTo>
                    <a:pt x="334" y="694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1"/>
                  </a:lnTo>
                  <a:lnTo>
                    <a:pt x="144" y="649"/>
                  </a:lnTo>
                  <a:lnTo>
                    <a:pt x="96" y="636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5"/>
            <p:cNvSpPr/>
            <p:nvPr/>
          </p:nvSpPr>
          <p:spPr>
            <a:xfrm>
              <a:off x="4211640" y="178740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34" y="29"/>
                  </a:lnTo>
                  <a:lnTo>
                    <a:pt x="61" y="52"/>
                  </a:lnTo>
                  <a:lnTo>
                    <a:pt x="96" y="77"/>
                  </a:lnTo>
                  <a:lnTo>
                    <a:pt x="136" y="107"/>
                  </a:lnTo>
                  <a:lnTo>
                    <a:pt x="184" y="139"/>
                  </a:lnTo>
                  <a:lnTo>
                    <a:pt x="239" y="174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8"/>
                  </a:lnTo>
                  <a:lnTo>
                    <a:pt x="480" y="308"/>
                  </a:lnTo>
                  <a:lnTo>
                    <a:pt x="520" y="326"/>
                  </a:lnTo>
                  <a:lnTo>
                    <a:pt x="563" y="346"/>
                  </a:lnTo>
                  <a:lnTo>
                    <a:pt x="606" y="364"/>
                  </a:lnTo>
                  <a:lnTo>
                    <a:pt x="651" y="383"/>
                  </a:lnTo>
                  <a:lnTo>
                    <a:pt x="697" y="400"/>
                  </a:lnTo>
                  <a:lnTo>
                    <a:pt x="745" y="417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4"/>
                  </a:lnTo>
                  <a:lnTo>
                    <a:pt x="1230" y="531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7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8"/>
                  </a:lnTo>
                  <a:lnTo>
                    <a:pt x="1674" y="545"/>
                  </a:lnTo>
                  <a:lnTo>
                    <a:pt x="1742" y="540"/>
                  </a:lnTo>
                  <a:lnTo>
                    <a:pt x="1811" y="532"/>
                  </a:lnTo>
                  <a:lnTo>
                    <a:pt x="1879" y="523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8"/>
                  </a:lnTo>
                  <a:lnTo>
                    <a:pt x="2166" y="460"/>
                  </a:lnTo>
                  <a:lnTo>
                    <a:pt x="2240" y="438"/>
                  </a:lnTo>
                  <a:lnTo>
                    <a:pt x="2315" y="413"/>
                  </a:lnTo>
                  <a:lnTo>
                    <a:pt x="2389" y="385"/>
                  </a:lnTo>
                  <a:lnTo>
                    <a:pt x="2467" y="356"/>
                  </a:lnTo>
                  <a:lnTo>
                    <a:pt x="2543" y="323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5"/>
                  </a:lnTo>
                  <a:lnTo>
                    <a:pt x="2858" y="158"/>
                  </a:lnTo>
                  <a:lnTo>
                    <a:pt x="2938" y="109"/>
                  </a:lnTo>
                  <a:lnTo>
                    <a:pt x="3019" y="56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3"/>
                  </a:lnTo>
                  <a:lnTo>
                    <a:pt x="2939" y="48"/>
                  </a:lnTo>
                  <a:lnTo>
                    <a:pt x="2884" y="63"/>
                  </a:lnTo>
                  <a:lnTo>
                    <a:pt x="2820" y="77"/>
                  </a:lnTo>
                  <a:lnTo>
                    <a:pt x="2750" y="94"/>
                  </a:lnTo>
                  <a:lnTo>
                    <a:pt x="2674" y="112"/>
                  </a:lnTo>
                  <a:lnTo>
                    <a:pt x="2592" y="129"/>
                  </a:lnTo>
                  <a:lnTo>
                    <a:pt x="2502" y="146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8"/>
                  </a:lnTo>
                  <a:lnTo>
                    <a:pt x="1864" y="228"/>
                  </a:lnTo>
                  <a:lnTo>
                    <a:pt x="1743" y="237"/>
                  </a:lnTo>
                  <a:lnTo>
                    <a:pt x="1619" y="242"/>
                  </a:lnTo>
                  <a:lnTo>
                    <a:pt x="1557" y="244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4"/>
                  </a:lnTo>
                  <a:lnTo>
                    <a:pt x="1297" y="243"/>
                  </a:lnTo>
                  <a:lnTo>
                    <a:pt x="1230" y="240"/>
                  </a:lnTo>
                  <a:lnTo>
                    <a:pt x="1164" y="237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1"/>
                  </a:lnTo>
                  <a:lnTo>
                    <a:pt x="894" y="213"/>
                  </a:lnTo>
                  <a:lnTo>
                    <a:pt x="826" y="205"/>
                  </a:lnTo>
                  <a:lnTo>
                    <a:pt x="757" y="195"/>
                  </a:lnTo>
                  <a:lnTo>
                    <a:pt x="688" y="184"/>
                  </a:lnTo>
                  <a:lnTo>
                    <a:pt x="619" y="172"/>
                  </a:lnTo>
                  <a:lnTo>
                    <a:pt x="551" y="158"/>
                  </a:lnTo>
                  <a:lnTo>
                    <a:pt x="481" y="144"/>
                  </a:lnTo>
                  <a:lnTo>
                    <a:pt x="412" y="128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1"/>
                  </a:lnTo>
                  <a:lnTo>
                    <a:pt x="136" y="49"/>
                  </a:lnTo>
                  <a:lnTo>
                    <a:pt x="69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46"/>
            <p:cNvSpPr/>
            <p:nvPr/>
          </p:nvSpPr>
          <p:spPr>
            <a:xfrm>
              <a:off x="6392880" y="178920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47"/>
          <p:cNvSpPr/>
          <p:nvPr/>
        </p:nvSpPr>
        <p:spPr>
          <a:xfrm>
            <a:off x="7373880" y="175752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6"/>
                </a:moveTo>
                <a:lnTo>
                  <a:pt x="1246" y="176"/>
                </a:lnTo>
                <a:lnTo>
                  <a:pt x="1246" y="187"/>
                </a:lnTo>
                <a:lnTo>
                  <a:pt x="1244" y="197"/>
                </a:lnTo>
                <a:lnTo>
                  <a:pt x="1241" y="206"/>
                </a:lnTo>
                <a:lnTo>
                  <a:pt x="1239" y="216"/>
                </a:lnTo>
                <a:lnTo>
                  <a:pt x="1234" y="224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6"/>
                </a:lnTo>
                <a:lnTo>
                  <a:pt x="1211" y="252"/>
                </a:lnTo>
                <a:lnTo>
                  <a:pt x="1203" y="259"/>
                </a:lnTo>
                <a:lnTo>
                  <a:pt x="1195" y="264"/>
                </a:lnTo>
                <a:lnTo>
                  <a:pt x="1186" y="267"/>
                </a:lnTo>
                <a:lnTo>
                  <a:pt x="1178" y="271"/>
                </a:lnTo>
                <a:lnTo>
                  <a:pt x="1168" y="273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3"/>
                </a:lnTo>
                <a:lnTo>
                  <a:pt x="69" y="271"/>
                </a:lnTo>
                <a:lnTo>
                  <a:pt x="60" y="267"/>
                </a:lnTo>
                <a:lnTo>
                  <a:pt x="52" y="264"/>
                </a:lnTo>
                <a:lnTo>
                  <a:pt x="43" y="259"/>
                </a:lnTo>
                <a:lnTo>
                  <a:pt x="36" y="252"/>
                </a:lnTo>
                <a:lnTo>
                  <a:pt x="28" y="246"/>
                </a:lnTo>
                <a:lnTo>
                  <a:pt x="22" y="239"/>
                </a:lnTo>
                <a:lnTo>
                  <a:pt x="17" y="232"/>
                </a:lnTo>
                <a:lnTo>
                  <a:pt x="12" y="224"/>
                </a:lnTo>
                <a:lnTo>
                  <a:pt x="7" y="216"/>
                </a:lnTo>
                <a:lnTo>
                  <a:pt x="5" y="206"/>
                </a:lnTo>
                <a:lnTo>
                  <a:pt x="3" y="197"/>
                </a:lnTo>
                <a:lnTo>
                  <a:pt x="0" y="187"/>
                </a:lnTo>
                <a:lnTo>
                  <a:pt x="0" y="176"/>
                </a:lnTo>
                <a:lnTo>
                  <a:pt x="0" y="98"/>
                </a:lnTo>
                <a:lnTo>
                  <a:pt x="0" y="88"/>
                </a:lnTo>
                <a:lnTo>
                  <a:pt x="3" y="78"/>
                </a:lnTo>
                <a:lnTo>
                  <a:pt x="5" y="70"/>
                </a:lnTo>
                <a:lnTo>
                  <a:pt x="7" y="60"/>
                </a:lnTo>
                <a:lnTo>
                  <a:pt x="12" y="51"/>
                </a:lnTo>
                <a:lnTo>
                  <a:pt x="17" y="44"/>
                </a:lnTo>
                <a:lnTo>
                  <a:pt x="22" y="37"/>
                </a:lnTo>
                <a:lnTo>
                  <a:pt x="28" y="29"/>
                </a:lnTo>
                <a:lnTo>
                  <a:pt x="36" y="23"/>
                </a:lnTo>
                <a:lnTo>
                  <a:pt x="43" y="17"/>
                </a:lnTo>
                <a:lnTo>
                  <a:pt x="52" y="12"/>
                </a:lnTo>
                <a:lnTo>
                  <a:pt x="60" y="8"/>
                </a:lnTo>
                <a:lnTo>
                  <a:pt x="69" y="5"/>
                </a:lnTo>
                <a:lnTo>
                  <a:pt x="79" y="2"/>
                </a:lnTo>
                <a:lnTo>
                  <a:pt x="88" y="1"/>
                </a:lnTo>
                <a:lnTo>
                  <a:pt x="98" y="0"/>
                </a:lnTo>
                <a:lnTo>
                  <a:pt x="1148" y="0"/>
                </a:lnTo>
                <a:lnTo>
                  <a:pt x="1158" y="1"/>
                </a:lnTo>
                <a:lnTo>
                  <a:pt x="1168" y="2"/>
                </a:lnTo>
                <a:lnTo>
                  <a:pt x="1178" y="5"/>
                </a:lnTo>
                <a:lnTo>
                  <a:pt x="1186" y="8"/>
                </a:lnTo>
                <a:lnTo>
                  <a:pt x="1195" y="12"/>
                </a:lnTo>
                <a:lnTo>
                  <a:pt x="1203" y="17"/>
                </a:lnTo>
                <a:lnTo>
                  <a:pt x="1211" y="23"/>
                </a:lnTo>
                <a:lnTo>
                  <a:pt x="1218" y="29"/>
                </a:lnTo>
                <a:lnTo>
                  <a:pt x="1224" y="37"/>
                </a:lnTo>
                <a:lnTo>
                  <a:pt x="1229" y="44"/>
                </a:lnTo>
                <a:lnTo>
                  <a:pt x="1234" y="51"/>
                </a:lnTo>
                <a:lnTo>
                  <a:pt x="1239" y="60"/>
                </a:lnTo>
                <a:lnTo>
                  <a:pt x="1241" y="70"/>
                </a:lnTo>
                <a:lnTo>
                  <a:pt x="1244" y="78"/>
                </a:lnTo>
                <a:lnTo>
                  <a:pt x="1246" y="88"/>
                </a:lnTo>
                <a:lnTo>
                  <a:pt x="1246" y="98"/>
                </a:lnTo>
                <a:lnTo>
                  <a:pt x="1246" y="176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组合 107"/>
          <p:cNvGrpSpPr/>
          <p:nvPr/>
        </p:nvGrpSpPr>
        <p:grpSpPr>
          <a:xfrm>
            <a:off x="5972040" y="1181160"/>
            <a:ext cx="927360" cy="621720"/>
            <a:chOff x="5972040" y="1181160"/>
            <a:chExt cx="927360" cy="621720"/>
          </a:xfrm>
        </p:grpSpPr>
        <p:sp>
          <p:nvSpPr>
            <p:cNvPr id="1354" name="Line 48"/>
            <p:cNvSpPr/>
            <p:nvPr/>
          </p:nvSpPr>
          <p:spPr>
            <a:xfrm flipV="1">
              <a:off x="5972040" y="174924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49"/>
            <p:cNvSpPr/>
            <p:nvPr/>
          </p:nvSpPr>
          <p:spPr>
            <a:xfrm flipV="1">
              <a:off x="6044760" y="16398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50"/>
            <p:cNvSpPr/>
            <p:nvPr/>
          </p:nvSpPr>
          <p:spPr>
            <a:xfrm flipV="1">
              <a:off x="6119640" y="153000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51"/>
            <p:cNvSpPr/>
            <p:nvPr/>
          </p:nvSpPr>
          <p:spPr>
            <a:xfrm flipV="1">
              <a:off x="6194160" y="142056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52"/>
            <p:cNvSpPr/>
            <p:nvPr/>
          </p:nvSpPr>
          <p:spPr>
            <a:xfrm flipV="1">
              <a:off x="6267240" y="130968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53"/>
            <p:cNvSpPr/>
            <p:nvPr/>
          </p:nvSpPr>
          <p:spPr>
            <a:xfrm flipV="1">
              <a:off x="6342120" y="119988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54"/>
            <p:cNvSpPr/>
            <p:nvPr/>
          </p:nvSpPr>
          <p:spPr>
            <a:xfrm>
              <a:off x="643572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55"/>
            <p:cNvSpPr/>
            <p:nvPr/>
          </p:nvSpPr>
          <p:spPr>
            <a:xfrm>
              <a:off x="656748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56"/>
            <p:cNvSpPr/>
            <p:nvPr/>
          </p:nvSpPr>
          <p:spPr>
            <a:xfrm>
              <a:off x="6701040" y="11811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57"/>
            <p:cNvSpPr/>
            <p:nvPr/>
          </p:nvSpPr>
          <p:spPr>
            <a:xfrm>
              <a:off x="683280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368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09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410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"/>
            <p:cNvSpPr/>
            <p:nvPr/>
          </p:nvSpPr>
          <p:spPr>
            <a:xfrm>
              <a:off x="1594080" y="578952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"/>
            <p:cNvSpPr/>
            <p:nvPr/>
          </p:nvSpPr>
          <p:spPr>
            <a:xfrm>
              <a:off x="544320" y="578484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"/>
            <p:cNvSpPr/>
            <p:nvPr/>
          </p:nvSpPr>
          <p:spPr>
            <a:xfrm>
              <a:off x="709560" y="624204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4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1"/>
                  </a:lnTo>
                  <a:lnTo>
                    <a:pt x="135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9" y="471"/>
                  </a:lnTo>
                  <a:lnTo>
                    <a:pt x="688" y="472"/>
                  </a:lnTo>
                  <a:lnTo>
                    <a:pt x="707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5" y="371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415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0"/>
            <p:cNvSpPr/>
            <p:nvPr/>
          </p:nvSpPr>
          <p:spPr>
            <a:xfrm>
              <a:off x="1594080" y="495288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"/>
            <p:cNvSpPr/>
            <p:nvPr/>
          </p:nvSpPr>
          <p:spPr>
            <a:xfrm>
              <a:off x="544320" y="494820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2"/>
            <p:cNvSpPr/>
            <p:nvPr/>
          </p:nvSpPr>
          <p:spPr>
            <a:xfrm>
              <a:off x="709560" y="540540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3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2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2" y="2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9" y="471"/>
                  </a:lnTo>
                  <a:lnTo>
                    <a:pt x="688" y="471"/>
                  </a:lnTo>
                  <a:lnTo>
                    <a:pt x="707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5" y="370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2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420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1594080" y="411444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544320" y="411156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6"/>
            <p:cNvSpPr/>
            <p:nvPr/>
          </p:nvSpPr>
          <p:spPr>
            <a:xfrm>
              <a:off x="709560" y="456732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1"/>
                  </a:lnTo>
                  <a:lnTo>
                    <a:pt x="307" y="57"/>
                  </a:lnTo>
                  <a:lnTo>
                    <a:pt x="286" y="42"/>
                  </a:lnTo>
                  <a:lnTo>
                    <a:pt x="262" y="30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8" y="329"/>
                  </a:lnTo>
                  <a:lnTo>
                    <a:pt x="174" y="345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7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5" y="369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1" y="176"/>
                  </a:lnTo>
                  <a:lnTo>
                    <a:pt x="885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2"/>
                  </a:lnTo>
                  <a:lnTo>
                    <a:pt x="706" y="200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425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1594080" y="327816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0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0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544320" y="327348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90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09560" y="373068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4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8"/>
                  </a:lnTo>
                  <a:lnTo>
                    <a:pt x="327" y="72"/>
                  </a:lnTo>
                  <a:lnTo>
                    <a:pt x="307" y="56"/>
                  </a:lnTo>
                  <a:lnTo>
                    <a:pt x="286" y="42"/>
                  </a:lnTo>
                  <a:lnTo>
                    <a:pt x="262" y="29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4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7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0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1"/>
                  </a:lnTo>
                  <a:lnTo>
                    <a:pt x="102" y="297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6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8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3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1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0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8"/>
                  </a:lnTo>
                  <a:lnTo>
                    <a:pt x="925" y="370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1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4"/>
                  </a:lnTo>
                  <a:lnTo>
                    <a:pt x="956" y="188"/>
                  </a:lnTo>
                  <a:lnTo>
                    <a:pt x="931" y="181"/>
                  </a:lnTo>
                  <a:lnTo>
                    <a:pt x="901" y="177"/>
                  </a:lnTo>
                  <a:lnTo>
                    <a:pt x="885" y="174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430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38973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2846160" y="5846760"/>
              <a:ext cx="1230120" cy="3128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3012840" y="630396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435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6"/>
            <p:cNvSpPr/>
            <p:nvPr/>
          </p:nvSpPr>
          <p:spPr>
            <a:xfrm>
              <a:off x="38973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27"/>
            <p:cNvSpPr/>
            <p:nvPr/>
          </p:nvSpPr>
          <p:spPr>
            <a:xfrm>
              <a:off x="2846160" y="501012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28"/>
            <p:cNvSpPr/>
            <p:nvPr/>
          </p:nvSpPr>
          <p:spPr>
            <a:xfrm>
              <a:off x="3012840" y="5467320"/>
              <a:ext cx="796680" cy="4888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9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440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3897360" y="417636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2846160" y="417348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3012840" y="462924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8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3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1"/>
                  </a:lnTo>
                  <a:lnTo>
                    <a:pt x="307" y="57"/>
                  </a:lnTo>
                  <a:lnTo>
                    <a:pt x="285" y="42"/>
                  </a:lnTo>
                  <a:lnTo>
                    <a:pt x="262" y="30"/>
                  </a:lnTo>
                  <a:lnTo>
                    <a:pt x="237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8" y="3"/>
                  </a:lnTo>
                  <a:lnTo>
                    <a:pt x="152" y="1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2"/>
                  </a:lnTo>
                  <a:lnTo>
                    <a:pt x="66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0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5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3" y="191"/>
                  </a:lnTo>
                  <a:lnTo>
                    <a:pt x="31" y="210"/>
                  </a:lnTo>
                  <a:lnTo>
                    <a:pt x="41" y="227"/>
                  </a:lnTo>
                  <a:lnTo>
                    <a:pt x="53" y="245"/>
                  </a:lnTo>
                  <a:lnTo>
                    <a:pt x="67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7" y="329"/>
                  </a:lnTo>
                  <a:lnTo>
                    <a:pt x="173" y="345"/>
                  </a:lnTo>
                  <a:lnTo>
                    <a:pt x="203" y="359"/>
                  </a:lnTo>
                  <a:lnTo>
                    <a:pt x="235" y="373"/>
                  </a:lnTo>
                  <a:lnTo>
                    <a:pt x="270" y="387"/>
                  </a:lnTo>
                  <a:lnTo>
                    <a:pt x="309" y="398"/>
                  </a:lnTo>
                  <a:lnTo>
                    <a:pt x="351" y="408"/>
                  </a:lnTo>
                  <a:lnTo>
                    <a:pt x="397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8" y="470"/>
                  </a:lnTo>
                  <a:lnTo>
                    <a:pt x="687" y="470"/>
                  </a:lnTo>
                  <a:lnTo>
                    <a:pt x="708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0" y="456"/>
                  </a:lnTo>
                  <a:lnTo>
                    <a:pt x="810" y="449"/>
                  </a:lnTo>
                  <a:lnTo>
                    <a:pt x="831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6" y="369"/>
                  </a:lnTo>
                  <a:lnTo>
                    <a:pt x="942" y="349"/>
                  </a:lnTo>
                  <a:lnTo>
                    <a:pt x="958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6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2" y="176"/>
                  </a:lnTo>
                  <a:lnTo>
                    <a:pt x="886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3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8" y="192"/>
                  </a:lnTo>
                  <a:lnTo>
                    <a:pt x="706" y="200"/>
                  </a:lnTo>
                  <a:lnTo>
                    <a:pt x="684" y="210"/>
                  </a:lnTo>
                  <a:lnTo>
                    <a:pt x="661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445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4"/>
            <p:cNvSpPr/>
            <p:nvPr/>
          </p:nvSpPr>
          <p:spPr>
            <a:xfrm>
              <a:off x="61311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5"/>
            <p:cNvSpPr/>
            <p:nvPr/>
          </p:nvSpPr>
          <p:spPr>
            <a:xfrm>
              <a:off x="5079600" y="5846760"/>
              <a:ext cx="1230480" cy="3128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6"/>
            <p:cNvSpPr/>
            <p:nvPr/>
          </p:nvSpPr>
          <p:spPr>
            <a:xfrm>
              <a:off x="524664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6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7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450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8"/>
            <p:cNvSpPr/>
            <p:nvPr/>
          </p:nvSpPr>
          <p:spPr>
            <a:xfrm>
              <a:off x="61311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9"/>
            <p:cNvSpPr/>
            <p:nvPr/>
          </p:nvSpPr>
          <p:spPr>
            <a:xfrm>
              <a:off x="5079600" y="5010120"/>
              <a:ext cx="1230480" cy="3110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0"/>
            <p:cNvSpPr/>
            <p:nvPr/>
          </p:nvSpPr>
          <p:spPr>
            <a:xfrm>
              <a:off x="5246640" y="5467320"/>
              <a:ext cx="797040" cy="4888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6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7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7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6"/>
                  </a:lnTo>
                  <a:lnTo>
                    <a:pt x="907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6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7" y="287"/>
                  </a:lnTo>
                  <a:lnTo>
                    <a:pt x="544" y="309"/>
                  </a:lnTo>
                  <a:lnTo>
                    <a:pt x="520" y="333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455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2"/>
            <p:cNvSpPr/>
            <p:nvPr/>
          </p:nvSpPr>
          <p:spPr>
            <a:xfrm>
              <a:off x="821880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3"/>
            <p:cNvSpPr/>
            <p:nvPr/>
          </p:nvSpPr>
          <p:spPr>
            <a:xfrm>
              <a:off x="7169040" y="584676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4"/>
            <p:cNvSpPr/>
            <p:nvPr/>
          </p:nvSpPr>
          <p:spPr>
            <a:xfrm>
              <a:off x="733572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1" y="316"/>
                  </a:lnTo>
                  <a:lnTo>
                    <a:pt x="452" y="282"/>
                  </a:lnTo>
                  <a:lnTo>
                    <a:pt x="446" y="264"/>
                  </a:lnTo>
                  <a:lnTo>
                    <a:pt x="439" y="245"/>
                  </a:lnTo>
                  <a:lnTo>
                    <a:pt x="431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89" y="144"/>
                  </a:lnTo>
                  <a:lnTo>
                    <a:pt x="375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6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0" y="12"/>
                  </a:lnTo>
                  <a:lnTo>
                    <a:pt x="181" y="6"/>
                  </a:lnTo>
                  <a:lnTo>
                    <a:pt x="167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7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0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9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2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2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2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6" y="455"/>
                  </a:lnTo>
                  <a:lnTo>
                    <a:pt x="582" y="460"/>
                  </a:lnTo>
                  <a:lnTo>
                    <a:pt x="613" y="466"/>
                  </a:lnTo>
                  <a:lnTo>
                    <a:pt x="648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7" y="471"/>
                  </a:lnTo>
                  <a:lnTo>
                    <a:pt x="727" y="469"/>
                  </a:lnTo>
                  <a:lnTo>
                    <a:pt x="748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0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5" y="371"/>
                  </a:lnTo>
                  <a:lnTo>
                    <a:pt x="942" y="350"/>
                  </a:lnTo>
                  <a:lnTo>
                    <a:pt x="957" y="327"/>
                  </a:lnTo>
                  <a:lnTo>
                    <a:pt x="970" y="300"/>
                  </a:lnTo>
                  <a:lnTo>
                    <a:pt x="983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7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4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460" name="Freeform 46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5"/>
            <p:cNvSpPr/>
            <p:nvPr/>
          </p:nvSpPr>
          <p:spPr>
            <a:xfrm>
              <a:off x="1263600" y="2162160"/>
              <a:ext cx="1146240" cy="101448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443" h="1278">
                  <a:moveTo>
                    <a:pt x="1443" y="639"/>
                  </a:moveTo>
                  <a:lnTo>
                    <a:pt x="1443" y="639"/>
                  </a:lnTo>
                  <a:lnTo>
                    <a:pt x="1443" y="672"/>
                  </a:lnTo>
                  <a:lnTo>
                    <a:pt x="1440" y="704"/>
                  </a:lnTo>
                  <a:lnTo>
                    <a:pt x="1435" y="736"/>
                  </a:lnTo>
                  <a:lnTo>
                    <a:pt x="1429" y="768"/>
                  </a:lnTo>
                  <a:lnTo>
                    <a:pt x="1421" y="799"/>
                  </a:lnTo>
                  <a:lnTo>
                    <a:pt x="1411" y="828"/>
                  </a:lnTo>
                  <a:lnTo>
                    <a:pt x="1400" y="858"/>
                  </a:lnTo>
                  <a:lnTo>
                    <a:pt x="1387" y="888"/>
                  </a:lnTo>
                  <a:lnTo>
                    <a:pt x="1372" y="916"/>
                  </a:lnTo>
                  <a:lnTo>
                    <a:pt x="1356" y="944"/>
                  </a:lnTo>
                  <a:lnTo>
                    <a:pt x="1339" y="970"/>
                  </a:lnTo>
                  <a:lnTo>
                    <a:pt x="1320" y="996"/>
                  </a:lnTo>
                  <a:lnTo>
                    <a:pt x="1300" y="1021"/>
                  </a:lnTo>
                  <a:lnTo>
                    <a:pt x="1279" y="1045"/>
                  </a:lnTo>
                  <a:lnTo>
                    <a:pt x="1256" y="1068"/>
                  </a:lnTo>
                  <a:lnTo>
                    <a:pt x="1232" y="1091"/>
                  </a:lnTo>
                  <a:lnTo>
                    <a:pt x="1207" y="1111"/>
                  </a:lnTo>
                  <a:lnTo>
                    <a:pt x="1181" y="1132"/>
                  </a:lnTo>
                  <a:lnTo>
                    <a:pt x="1154" y="1151"/>
                  </a:lnTo>
                  <a:lnTo>
                    <a:pt x="1126" y="1169"/>
                  </a:lnTo>
                  <a:lnTo>
                    <a:pt x="1096" y="1186"/>
                  </a:lnTo>
                  <a:lnTo>
                    <a:pt x="1066" y="1201"/>
                  </a:lnTo>
                  <a:lnTo>
                    <a:pt x="1034" y="1215"/>
                  </a:lnTo>
                  <a:lnTo>
                    <a:pt x="1002" y="1228"/>
                  </a:lnTo>
                  <a:lnTo>
                    <a:pt x="970" y="1239"/>
                  </a:lnTo>
                  <a:lnTo>
                    <a:pt x="936" y="1250"/>
                  </a:lnTo>
                  <a:lnTo>
                    <a:pt x="902" y="1258"/>
                  </a:lnTo>
                  <a:lnTo>
                    <a:pt x="868" y="1264"/>
                  </a:lnTo>
                  <a:lnTo>
                    <a:pt x="832" y="1270"/>
                  </a:lnTo>
                  <a:lnTo>
                    <a:pt x="796" y="1275"/>
                  </a:lnTo>
                  <a:lnTo>
                    <a:pt x="759" y="1277"/>
                  </a:lnTo>
                  <a:lnTo>
                    <a:pt x="722" y="1278"/>
                  </a:lnTo>
                  <a:lnTo>
                    <a:pt x="685" y="1277"/>
                  </a:lnTo>
                  <a:lnTo>
                    <a:pt x="649" y="1275"/>
                  </a:lnTo>
                  <a:lnTo>
                    <a:pt x="612" y="1270"/>
                  </a:lnTo>
                  <a:lnTo>
                    <a:pt x="577" y="1264"/>
                  </a:lnTo>
                  <a:lnTo>
                    <a:pt x="541" y="1258"/>
                  </a:lnTo>
                  <a:lnTo>
                    <a:pt x="507" y="1250"/>
                  </a:lnTo>
                  <a:lnTo>
                    <a:pt x="474" y="1239"/>
                  </a:lnTo>
                  <a:lnTo>
                    <a:pt x="441" y="1228"/>
                  </a:lnTo>
                  <a:lnTo>
                    <a:pt x="409" y="1215"/>
                  </a:lnTo>
                  <a:lnTo>
                    <a:pt x="378" y="1201"/>
                  </a:lnTo>
                  <a:lnTo>
                    <a:pt x="348" y="1186"/>
                  </a:lnTo>
                  <a:lnTo>
                    <a:pt x="319" y="1169"/>
                  </a:lnTo>
                  <a:lnTo>
                    <a:pt x="290" y="1151"/>
                  </a:lnTo>
                  <a:lnTo>
                    <a:pt x="263" y="1132"/>
                  </a:lnTo>
                  <a:lnTo>
                    <a:pt x="236" y="1111"/>
                  </a:lnTo>
                  <a:lnTo>
                    <a:pt x="212" y="1091"/>
                  </a:lnTo>
                  <a:lnTo>
                    <a:pt x="188" y="1068"/>
                  </a:lnTo>
                  <a:lnTo>
                    <a:pt x="166" y="1045"/>
                  </a:lnTo>
                  <a:lnTo>
                    <a:pt x="144" y="1021"/>
                  </a:lnTo>
                  <a:lnTo>
                    <a:pt x="123" y="996"/>
                  </a:lnTo>
                  <a:lnTo>
                    <a:pt x="105" y="970"/>
                  </a:lnTo>
                  <a:lnTo>
                    <a:pt x="88" y="944"/>
                  </a:lnTo>
                  <a:lnTo>
                    <a:pt x="72" y="916"/>
                  </a:lnTo>
                  <a:lnTo>
                    <a:pt x="57" y="888"/>
                  </a:lnTo>
                  <a:lnTo>
                    <a:pt x="45" y="858"/>
                  </a:lnTo>
                  <a:lnTo>
                    <a:pt x="33" y="828"/>
                  </a:lnTo>
                  <a:lnTo>
                    <a:pt x="23" y="799"/>
                  </a:lnTo>
                  <a:lnTo>
                    <a:pt x="15" y="768"/>
                  </a:lnTo>
                  <a:lnTo>
                    <a:pt x="9" y="736"/>
                  </a:lnTo>
                  <a:lnTo>
                    <a:pt x="5" y="704"/>
                  </a:lnTo>
                  <a:lnTo>
                    <a:pt x="1" y="672"/>
                  </a:lnTo>
                  <a:lnTo>
                    <a:pt x="0" y="639"/>
                  </a:lnTo>
                  <a:lnTo>
                    <a:pt x="1" y="606"/>
                  </a:lnTo>
                  <a:lnTo>
                    <a:pt x="5" y="573"/>
                  </a:lnTo>
                  <a:lnTo>
                    <a:pt x="9" y="541"/>
                  </a:lnTo>
                  <a:lnTo>
                    <a:pt x="15" y="510"/>
                  </a:lnTo>
                  <a:lnTo>
                    <a:pt x="23" y="479"/>
                  </a:lnTo>
                  <a:lnTo>
                    <a:pt x="33" y="448"/>
                  </a:lnTo>
                  <a:lnTo>
                    <a:pt x="45" y="419"/>
                  </a:lnTo>
                  <a:lnTo>
                    <a:pt x="57" y="390"/>
                  </a:lnTo>
                  <a:lnTo>
                    <a:pt x="72" y="361"/>
                  </a:lnTo>
                  <a:lnTo>
                    <a:pt x="88" y="334"/>
                  </a:lnTo>
                  <a:lnTo>
                    <a:pt x="105" y="307"/>
                  </a:lnTo>
                  <a:lnTo>
                    <a:pt x="123" y="282"/>
                  </a:lnTo>
                  <a:lnTo>
                    <a:pt x="144" y="256"/>
                  </a:lnTo>
                  <a:lnTo>
                    <a:pt x="166" y="232"/>
                  </a:lnTo>
                  <a:lnTo>
                    <a:pt x="188" y="208"/>
                  </a:lnTo>
                  <a:lnTo>
                    <a:pt x="212" y="187"/>
                  </a:lnTo>
                  <a:lnTo>
                    <a:pt x="236" y="165"/>
                  </a:lnTo>
                  <a:lnTo>
                    <a:pt x="263" y="146"/>
                  </a:lnTo>
                  <a:lnTo>
                    <a:pt x="290" y="126"/>
                  </a:lnTo>
                  <a:lnTo>
                    <a:pt x="319" y="108"/>
                  </a:lnTo>
                  <a:lnTo>
                    <a:pt x="348" y="92"/>
                  </a:lnTo>
                  <a:lnTo>
                    <a:pt x="378" y="76"/>
                  </a:lnTo>
                  <a:lnTo>
                    <a:pt x="409" y="62"/>
                  </a:lnTo>
                  <a:lnTo>
                    <a:pt x="441" y="50"/>
                  </a:lnTo>
                  <a:lnTo>
                    <a:pt x="474" y="38"/>
                  </a:lnTo>
                  <a:lnTo>
                    <a:pt x="507" y="28"/>
                  </a:lnTo>
                  <a:lnTo>
                    <a:pt x="541" y="19"/>
                  </a:lnTo>
                  <a:lnTo>
                    <a:pt x="577" y="12"/>
                  </a:lnTo>
                  <a:lnTo>
                    <a:pt x="612" y="6"/>
                  </a:lnTo>
                  <a:lnTo>
                    <a:pt x="649" y="3"/>
                  </a:lnTo>
                  <a:lnTo>
                    <a:pt x="685" y="0"/>
                  </a:lnTo>
                  <a:lnTo>
                    <a:pt x="722" y="0"/>
                  </a:lnTo>
                  <a:lnTo>
                    <a:pt x="759" y="0"/>
                  </a:lnTo>
                  <a:lnTo>
                    <a:pt x="796" y="3"/>
                  </a:lnTo>
                  <a:lnTo>
                    <a:pt x="832" y="6"/>
                  </a:lnTo>
                  <a:lnTo>
                    <a:pt x="868" y="12"/>
                  </a:lnTo>
                  <a:lnTo>
                    <a:pt x="902" y="19"/>
                  </a:lnTo>
                  <a:lnTo>
                    <a:pt x="936" y="28"/>
                  </a:lnTo>
                  <a:lnTo>
                    <a:pt x="970" y="38"/>
                  </a:lnTo>
                  <a:lnTo>
                    <a:pt x="1002" y="50"/>
                  </a:lnTo>
                  <a:lnTo>
                    <a:pt x="1034" y="62"/>
                  </a:lnTo>
                  <a:lnTo>
                    <a:pt x="1066" y="76"/>
                  </a:lnTo>
                  <a:lnTo>
                    <a:pt x="1096" y="92"/>
                  </a:lnTo>
                  <a:lnTo>
                    <a:pt x="1126" y="108"/>
                  </a:lnTo>
                  <a:lnTo>
                    <a:pt x="1154" y="126"/>
                  </a:lnTo>
                  <a:lnTo>
                    <a:pt x="1181" y="146"/>
                  </a:lnTo>
                  <a:lnTo>
                    <a:pt x="1207" y="165"/>
                  </a:lnTo>
                  <a:lnTo>
                    <a:pt x="1232" y="187"/>
                  </a:lnTo>
                  <a:lnTo>
                    <a:pt x="1256" y="208"/>
                  </a:lnTo>
                  <a:lnTo>
                    <a:pt x="1279" y="232"/>
                  </a:lnTo>
                  <a:lnTo>
                    <a:pt x="1300" y="256"/>
                  </a:lnTo>
                  <a:lnTo>
                    <a:pt x="1320" y="282"/>
                  </a:lnTo>
                  <a:lnTo>
                    <a:pt x="1339" y="307"/>
                  </a:lnTo>
                  <a:lnTo>
                    <a:pt x="1356" y="334"/>
                  </a:lnTo>
                  <a:lnTo>
                    <a:pt x="1372" y="361"/>
                  </a:lnTo>
                  <a:lnTo>
                    <a:pt x="1387" y="390"/>
                  </a:lnTo>
                  <a:lnTo>
                    <a:pt x="1400" y="419"/>
                  </a:lnTo>
                  <a:lnTo>
                    <a:pt x="1411" y="448"/>
                  </a:lnTo>
                  <a:lnTo>
                    <a:pt x="1421" y="479"/>
                  </a:lnTo>
                  <a:lnTo>
                    <a:pt x="1429" y="510"/>
                  </a:lnTo>
                  <a:lnTo>
                    <a:pt x="1435" y="541"/>
                  </a:lnTo>
                  <a:lnTo>
                    <a:pt x="1440" y="573"/>
                  </a:lnTo>
                  <a:lnTo>
                    <a:pt x="1443" y="606"/>
                  </a:lnTo>
                  <a:lnTo>
                    <a:pt x="1443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7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464" name="Freeform 49"/>
            <p:cNvSpPr/>
            <p:nvPr/>
          </p:nvSpPr>
          <p:spPr>
            <a:xfrm>
              <a:off x="3508200" y="377496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2" y="0"/>
                  </a:moveTo>
                  <a:lnTo>
                    <a:pt x="0" y="639"/>
                  </a:lnTo>
                  <a:lnTo>
                    <a:pt x="548" y="311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466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39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399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8" y="1046"/>
                    </a:lnTo>
                    <a:lnTo>
                      <a:pt x="1256" y="1069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2" y="1228"/>
                    </a:lnTo>
                    <a:lnTo>
                      <a:pt x="970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1" y="1279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1"/>
                    </a:lnTo>
                    <a:lnTo>
                      <a:pt x="576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8" y="1169"/>
                    </a:lnTo>
                    <a:lnTo>
                      <a:pt x="290" y="1152"/>
                    </a:lnTo>
                    <a:lnTo>
                      <a:pt x="262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9"/>
                    </a:lnTo>
                    <a:lnTo>
                      <a:pt x="165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4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4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4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4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5" y="233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6"/>
                    </a:lnTo>
                    <a:lnTo>
                      <a:pt x="262" y="146"/>
                    </a:lnTo>
                    <a:lnTo>
                      <a:pt x="290" y="127"/>
                    </a:lnTo>
                    <a:lnTo>
                      <a:pt x="318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9"/>
                    </a:lnTo>
                    <a:lnTo>
                      <a:pt x="541" y="19"/>
                    </a:lnTo>
                    <a:lnTo>
                      <a:pt x="576" y="13"/>
                    </a:lnTo>
                    <a:lnTo>
                      <a:pt x="612" y="7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1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3"/>
                    </a:lnTo>
                    <a:lnTo>
                      <a:pt x="902" y="19"/>
                    </a:lnTo>
                    <a:lnTo>
                      <a:pt x="936" y="29"/>
                    </a:lnTo>
                    <a:lnTo>
                      <a:pt x="970" y="39"/>
                    </a:lnTo>
                    <a:lnTo>
                      <a:pt x="1002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0" y="146"/>
                    </a:lnTo>
                    <a:lnTo>
                      <a:pt x="1207" y="166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8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399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39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2" y="0"/>
                    </a:moveTo>
                    <a:lnTo>
                      <a:pt x="0" y="639"/>
                    </a:lnTo>
                    <a:lnTo>
                      <a:pt x="548" y="3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8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469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470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9" y="1046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1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3" y="1228"/>
                    </a:lnTo>
                    <a:lnTo>
                      <a:pt x="971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9"/>
                    </a:lnTo>
                    <a:lnTo>
                      <a:pt x="685" y="1277"/>
                    </a:lnTo>
                    <a:lnTo>
                      <a:pt x="649" y="1275"/>
                    </a:lnTo>
                    <a:lnTo>
                      <a:pt x="612" y="1271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2"/>
                    </a:lnTo>
                    <a:lnTo>
                      <a:pt x="263" y="1132"/>
                    </a:lnTo>
                    <a:lnTo>
                      <a:pt x="237" y="1112"/>
                    </a:lnTo>
                    <a:lnTo>
                      <a:pt x="213" y="1091"/>
                    </a:lnTo>
                    <a:lnTo>
                      <a:pt x="189" y="1068"/>
                    </a:lnTo>
                    <a:lnTo>
                      <a:pt x="166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6" y="233"/>
                    </a:lnTo>
                    <a:lnTo>
                      <a:pt x="189" y="209"/>
                    </a:lnTo>
                    <a:lnTo>
                      <a:pt x="213" y="187"/>
                    </a:lnTo>
                    <a:lnTo>
                      <a:pt x="237" y="165"/>
                    </a:lnTo>
                    <a:lnTo>
                      <a:pt x="263" y="146"/>
                    </a:lnTo>
                    <a:lnTo>
                      <a:pt x="290" y="127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7"/>
                    </a:lnTo>
                    <a:lnTo>
                      <a:pt x="649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1" y="39"/>
                    </a:lnTo>
                    <a:lnTo>
                      <a:pt x="1003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1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Freeform 53"/>
            <p:cNvSpPr/>
            <p:nvPr/>
          </p:nvSpPr>
          <p:spPr>
            <a:xfrm>
              <a:off x="5698800" y="464508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474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475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5920 h 1015920"/>
                </a:gdLst>
                <a:ahLst/>
                <a:rect l="textAreaLeft" t="textAreaTop" r="textAreaRight" b="textAreaBottom"/>
                <a:pathLst>
                  <a:path w="1443" h="1278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8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6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6"/>
                    </a:lnTo>
                    <a:lnTo>
                      <a:pt x="1300" y="1021"/>
                    </a:lnTo>
                    <a:lnTo>
                      <a:pt x="1279" y="1045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1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5"/>
                    </a:lnTo>
                    <a:lnTo>
                      <a:pt x="1002" y="1228"/>
                    </a:lnTo>
                    <a:lnTo>
                      <a:pt x="970" y="1239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0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8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0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39"/>
                    </a:lnTo>
                    <a:lnTo>
                      <a:pt x="441" y="1228"/>
                    </a:lnTo>
                    <a:lnTo>
                      <a:pt x="409" y="1215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1"/>
                    </a:lnTo>
                    <a:lnTo>
                      <a:pt x="263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8"/>
                    </a:lnTo>
                    <a:lnTo>
                      <a:pt x="166" y="1045"/>
                    </a:lnTo>
                    <a:lnTo>
                      <a:pt x="144" y="1021"/>
                    </a:lnTo>
                    <a:lnTo>
                      <a:pt x="123" y="996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6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8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8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1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6"/>
                    </a:lnTo>
                    <a:lnTo>
                      <a:pt x="166" y="232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5"/>
                    </a:lnTo>
                    <a:lnTo>
                      <a:pt x="263" y="146"/>
                    </a:lnTo>
                    <a:lnTo>
                      <a:pt x="290" y="126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2"/>
                    </a:lnTo>
                    <a:lnTo>
                      <a:pt x="441" y="50"/>
                    </a:lnTo>
                    <a:lnTo>
                      <a:pt x="474" y="38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6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6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0" y="38"/>
                    </a:lnTo>
                    <a:lnTo>
                      <a:pt x="1002" y="50"/>
                    </a:lnTo>
                    <a:lnTo>
                      <a:pt x="1034" y="62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6"/>
                    </a:lnTo>
                    <a:lnTo>
                      <a:pt x="1180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2"/>
                    </a:lnTo>
                    <a:lnTo>
                      <a:pt x="1300" y="256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1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8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Freeform 56"/>
            <p:cNvSpPr/>
            <p:nvPr/>
          </p:nvSpPr>
          <p:spPr>
            <a:xfrm>
              <a:off x="7773840" y="5500440"/>
              <a:ext cx="434880" cy="5065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479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553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1579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1590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66"/>
            <p:cNvSpPr/>
            <p:nvPr/>
          </p:nvSpPr>
          <p:spPr>
            <a:xfrm>
              <a:off x="826920" y="1955880"/>
              <a:ext cx="760680" cy="14436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59" h="182">
                  <a:moveTo>
                    <a:pt x="0" y="0"/>
                  </a:moveTo>
                  <a:lnTo>
                    <a:pt x="959" y="0"/>
                  </a:lnTo>
                  <a:lnTo>
                    <a:pt x="722" y="182"/>
                  </a:lnTo>
                  <a:lnTo>
                    <a:pt x="183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02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1603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1645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1790" name="Freeform 190"/>
            <p:cNvSpPr/>
            <p:nvPr/>
          </p:nvSpPr>
          <p:spPr>
            <a:xfrm>
              <a:off x="896760" y="4054320"/>
              <a:ext cx="484200" cy="4842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611" h="610">
                  <a:moveTo>
                    <a:pt x="611" y="305"/>
                  </a:moveTo>
                  <a:lnTo>
                    <a:pt x="611" y="305"/>
                  </a:lnTo>
                  <a:lnTo>
                    <a:pt x="609" y="337"/>
                  </a:lnTo>
                  <a:lnTo>
                    <a:pt x="603" y="366"/>
                  </a:lnTo>
                  <a:lnTo>
                    <a:pt x="596" y="397"/>
                  </a:lnTo>
                  <a:lnTo>
                    <a:pt x="586" y="424"/>
                  </a:lnTo>
                  <a:lnTo>
                    <a:pt x="573" y="451"/>
                  </a:lnTo>
                  <a:lnTo>
                    <a:pt x="558" y="475"/>
                  </a:lnTo>
                  <a:lnTo>
                    <a:pt x="541" y="500"/>
                  </a:lnTo>
                  <a:lnTo>
                    <a:pt x="520" y="522"/>
                  </a:lnTo>
                  <a:lnTo>
                    <a:pt x="499" y="541"/>
                  </a:lnTo>
                  <a:lnTo>
                    <a:pt x="475" y="558"/>
                  </a:lnTo>
                  <a:lnTo>
                    <a:pt x="451" y="574"/>
                  </a:lnTo>
                  <a:lnTo>
                    <a:pt x="423" y="587"/>
                  </a:lnTo>
                  <a:lnTo>
                    <a:pt x="396" y="597"/>
                  </a:lnTo>
                  <a:lnTo>
                    <a:pt x="366" y="604"/>
                  </a:lnTo>
                  <a:lnTo>
                    <a:pt x="336" y="609"/>
                  </a:lnTo>
                  <a:lnTo>
                    <a:pt x="305" y="610"/>
                  </a:lnTo>
                  <a:lnTo>
                    <a:pt x="273" y="609"/>
                  </a:lnTo>
                  <a:lnTo>
                    <a:pt x="243" y="604"/>
                  </a:lnTo>
                  <a:lnTo>
                    <a:pt x="214" y="597"/>
                  </a:lnTo>
                  <a:lnTo>
                    <a:pt x="186" y="587"/>
                  </a:lnTo>
                  <a:lnTo>
                    <a:pt x="160" y="574"/>
                  </a:lnTo>
                  <a:lnTo>
                    <a:pt x="134" y="558"/>
                  </a:lnTo>
                  <a:lnTo>
                    <a:pt x="111" y="541"/>
                  </a:lnTo>
                  <a:lnTo>
                    <a:pt x="89" y="522"/>
                  </a:lnTo>
                  <a:lnTo>
                    <a:pt x="70" y="500"/>
                  </a:lnTo>
                  <a:lnTo>
                    <a:pt x="53" y="475"/>
                  </a:lnTo>
                  <a:lnTo>
                    <a:pt x="37" y="451"/>
                  </a:lnTo>
                  <a:lnTo>
                    <a:pt x="24" y="424"/>
                  </a:lnTo>
                  <a:lnTo>
                    <a:pt x="13" y="397"/>
                  </a:lnTo>
                  <a:lnTo>
                    <a:pt x="6" y="366"/>
                  </a:lnTo>
                  <a:lnTo>
                    <a:pt x="2" y="337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4"/>
                  </a:lnTo>
                  <a:lnTo>
                    <a:pt x="13" y="215"/>
                  </a:lnTo>
                  <a:lnTo>
                    <a:pt x="24" y="186"/>
                  </a:lnTo>
                  <a:lnTo>
                    <a:pt x="37" y="160"/>
                  </a:lnTo>
                  <a:lnTo>
                    <a:pt x="53" y="135"/>
                  </a:lnTo>
                  <a:lnTo>
                    <a:pt x="70" y="111"/>
                  </a:lnTo>
                  <a:lnTo>
                    <a:pt x="89" y="90"/>
                  </a:lnTo>
                  <a:lnTo>
                    <a:pt x="111" y="70"/>
                  </a:lnTo>
                  <a:lnTo>
                    <a:pt x="134" y="53"/>
                  </a:lnTo>
                  <a:lnTo>
                    <a:pt x="160" y="37"/>
                  </a:lnTo>
                  <a:lnTo>
                    <a:pt x="186" y="25"/>
                  </a:lnTo>
                  <a:lnTo>
                    <a:pt x="214" y="15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lnTo>
                    <a:pt x="336" y="2"/>
                  </a:lnTo>
                  <a:lnTo>
                    <a:pt x="366" y="6"/>
                  </a:lnTo>
                  <a:lnTo>
                    <a:pt x="396" y="15"/>
                  </a:lnTo>
                  <a:lnTo>
                    <a:pt x="423" y="25"/>
                  </a:lnTo>
                  <a:lnTo>
                    <a:pt x="451" y="37"/>
                  </a:lnTo>
                  <a:lnTo>
                    <a:pt x="475" y="53"/>
                  </a:lnTo>
                  <a:lnTo>
                    <a:pt x="499" y="70"/>
                  </a:lnTo>
                  <a:lnTo>
                    <a:pt x="520" y="90"/>
                  </a:lnTo>
                  <a:lnTo>
                    <a:pt x="541" y="111"/>
                  </a:lnTo>
                  <a:lnTo>
                    <a:pt x="558" y="135"/>
                  </a:lnTo>
                  <a:lnTo>
                    <a:pt x="573" y="160"/>
                  </a:lnTo>
                  <a:lnTo>
                    <a:pt x="586" y="186"/>
                  </a:lnTo>
                  <a:lnTo>
                    <a:pt x="596" y="215"/>
                  </a:lnTo>
                  <a:lnTo>
                    <a:pt x="603" y="244"/>
                  </a:lnTo>
                  <a:lnTo>
                    <a:pt x="609" y="275"/>
                  </a:lnTo>
                  <a:lnTo>
                    <a:pt x="611" y="30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10"/>
            <p:cNvSpPr/>
            <p:nvPr/>
          </p:nvSpPr>
          <p:spPr>
            <a:xfrm>
              <a:off x="1074600" y="4013280"/>
              <a:ext cx="125280" cy="918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7" h="116">
                  <a:moveTo>
                    <a:pt x="157" y="58"/>
                  </a:moveTo>
                  <a:lnTo>
                    <a:pt x="157" y="58"/>
                  </a:lnTo>
                  <a:lnTo>
                    <a:pt x="156" y="70"/>
                  </a:lnTo>
                  <a:lnTo>
                    <a:pt x="150" y="81"/>
                  </a:lnTo>
                  <a:lnTo>
                    <a:pt x="142" y="90"/>
                  </a:lnTo>
                  <a:lnTo>
                    <a:pt x="134" y="99"/>
                  </a:lnTo>
                  <a:lnTo>
                    <a:pt x="122" y="106"/>
                  </a:lnTo>
                  <a:lnTo>
                    <a:pt x="109" y="112"/>
                  </a:lnTo>
                  <a:lnTo>
                    <a:pt x="95" y="115"/>
                  </a:lnTo>
                  <a:lnTo>
                    <a:pt x="79" y="116"/>
                  </a:lnTo>
                  <a:lnTo>
                    <a:pt x="63" y="115"/>
                  </a:lnTo>
                  <a:lnTo>
                    <a:pt x="48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90"/>
                  </a:lnTo>
                  <a:lnTo>
                    <a:pt x="6" y="81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4" y="10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09" y="4"/>
                  </a:lnTo>
                  <a:lnTo>
                    <a:pt x="122" y="10"/>
                  </a:lnTo>
                  <a:lnTo>
                    <a:pt x="134" y="17"/>
                  </a:lnTo>
                  <a:lnTo>
                    <a:pt x="142" y="26"/>
                  </a:lnTo>
                  <a:lnTo>
                    <a:pt x="150" y="35"/>
                  </a:lnTo>
                  <a:lnTo>
                    <a:pt x="156" y="46"/>
                  </a:lnTo>
                  <a:lnTo>
                    <a:pt x="157" y="5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211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212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13"/>
            <p:cNvSpPr/>
            <p:nvPr/>
          </p:nvSpPr>
          <p:spPr>
            <a:xfrm>
              <a:off x="1101600" y="352908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0">
                  <a:moveTo>
                    <a:pt x="70" y="35"/>
                  </a:moveTo>
                  <a:lnTo>
                    <a:pt x="70" y="35"/>
                  </a:lnTo>
                  <a:lnTo>
                    <a:pt x="70" y="42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7"/>
                  </a:lnTo>
                  <a:lnTo>
                    <a:pt x="42" y="70"/>
                  </a:lnTo>
                  <a:lnTo>
                    <a:pt x="35" y="70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6" y="64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7" y="22"/>
                  </a:lnTo>
                  <a:lnTo>
                    <a:pt x="70" y="29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Freeform 214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  <a:lnTo>
                  <a:pt x="27" y="628"/>
                </a:lnTo>
                <a:close/>
              </a:path>
            </a:pathLst>
          </a:cu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215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1815" name="Freeform 216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  <a:lnTo>
                    <a:pt x="418" y="767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17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18"/>
            <p:cNvSpPr/>
            <p:nvPr/>
          </p:nvSpPr>
          <p:spPr>
            <a:xfrm>
              <a:off x="4532400" y="5456160"/>
              <a:ext cx="309600" cy="5716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389" h="720">
                  <a:moveTo>
                    <a:pt x="6" y="720"/>
                  </a:moveTo>
                  <a:lnTo>
                    <a:pt x="6" y="720"/>
                  </a:lnTo>
                  <a:lnTo>
                    <a:pt x="3" y="693"/>
                  </a:lnTo>
                  <a:lnTo>
                    <a:pt x="1" y="662"/>
                  </a:lnTo>
                  <a:lnTo>
                    <a:pt x="0" y="622"/>
                  </a:lnTo>
                  <a:lnTo>
                    <a:pt x="1" y="572"/>
                  </a:lnTo>
                  <a:lnTo>
                    <a:pt x="4" y="517"/>
                  </a:lnTo>
                  <a:lnTo>
                    <a:pt x="7" y="488"/>
                  </a:lnTo>
                  <a:lnTo>
                    <a:pt x="10" y="458"/>
                  </a:lnTo>
                  <a:lnTo>
                    <a:pt x="16" y="427"/>
                  </a:lnTo>
                  <a:lnTo>
                    <a:pt x="22" y="395"/>
                  </a:lnTo>
                  <a:lnTo>
                    <a:pt x="29" y="363"/>
                  </a:lnTo>
                  <a:lnTo>
                    <a:pt x="38" y="331"/>
                  </a:lnTo>
                  <a:lnTo>
                    <a:pt x="49" y="301"/>
                  </a:lnTo>
                  <a:lnTo>
                    <a:pt x="61" y="269"/>
                  </a:lnTo>
                  <a:lnTo>
                    <a:pt x="74" y="238"/>
                  </a:lnTo>
                  <a:lnTo>
                    <a:pt x="90" y="208"/>
                  </a:lnTo>
                  <a:lnTo>
                    <a:pt x="109" y="180"/>
                  </a:lnTo>
                  <a:lnTo>
                    <a:pt x="128" y="151"/>
                  </a:lnTo>
                  <a:lnTo>
                    <a:pt x="151" y="125"/>
                  </a:lnTo>
                  <a:lnTo>
                    <a:pt x="176" y="102"/>
                  </a:lnTo>
                  <a:lnTo>
                    <a:pt x="202" y="78"/>
                  </a:lnTo>
                  <a:lnTo>
                    <a:pt x="231" y="58"/>
                  </a:lnTo>
                  <a:lnTo>
                    <a:pt x="264" y="39"/>
                  </a:lnTo>
                  <a:lnTo>
                    <a:pt x="280" y="31"/>
                  </a:lnTo>
                  <a:lnTo>
                    <a:pt x="299" y="23"/>
                  </a:lnTo>
                  <a:lnTo>
                    <a:pt x="318" y="16"/>
                  </a:lnTo>
                  <a:lnTo>
                    <a:pt x="337" y="10"/>
                  </a:lnTo>
                  <a:lnTo>
                    <a:pt x="357" y="4"/>
                  </a:lnTo>
                  <a:lnTo>
                    <a:pt x="378" y="0"/>
                  </a:lnTo>
                  <a:lnTo>
                    <a:pt x="382" y="26"/>
                  </a:lnTo>
                  <a:lnTo>
                    <a:pt x="385" y="57"/>
                  </a:lnTo>
                  <a:lnTo>
                    <a:pt x="388" y="96"/>
                  </a:lnTo>
                  <a:lnTo>
                    <a:pt x="389" y="144"/>
                  </a:lnTo>
                  <a:lnTo>
                    <a:pt x="389" y="198"/>
                  </a:lnTo>
                  <a:lnTo>
                    <a:pt x="386" y="227"/>
                  </a:lnTo>
                  <a:lnTo>
                    <a:pt x="383" y="256"/>
                  </a:lnTo>
                  <a:lnTo>
                    <a:pt x="381" y="286"/>
                  </a:lnTo>
                  <a:lnTo>
                    <a:pt x="375" y="317"/>
                  </a:lnTo>
                  <a:lnTo>
                    <a:pt x="367" y="347"/>
                  </a:lnTo>
                  <a:lnTo>
                    <a:pt x="360" y="379"/>
                  </a:lnTo>
                  <a:lnTo>
                    <a:pt x="350" y="411"/>
                  </a:lnTo>
                  <a:lnTo>
                    <a:pt x="338" y="442"/>
                  </a:lnTo>
                  <a:lnTo>
                    <a:pt x="324" y="472"/>
                  </a:lnTo>
                  <a:lnTo>
                    <a:pt x="308" y="503"/>
                  </a:lnTo>
                  <a:lnTo>
                    <a:pt x="290" y="530"/>
                  </a:lnTo>
                  <a:lnTo>
                    <a:pt x="270" y="559"/>
                  </a:lnTo>
                  <a:lnTo>
                    <a:pt x="247" y="585"/>
                  </a:lnTo>
                  <a:lnTo>
                    <a:pt x="221" y="612"/>
                  </a:lnTo>
                  <a:lnTo>
                    <a:pt x="193" y="635"/>
                  </a:lnTo>
                  <a:lnTo>
                    <a:pt x="161" y="657"/>
                  </a:lnTo>
                  <a:lnTo>
                    <a:pt x="128" y="675"/>
                  </a:lnTo>
                  <a:lnTo>
                    <a:pt x="109" y="684"/>
                  </a:lnTo>
                  <a:lnTo>
                    <a:pt x="90" y="693"/>
                  </a:lnTo>
                  <a:lnTo>
                    <a:pt x="71" y="702"/>
                  </a:lnTo>
                  <a:lnTo>
                    <a:pt x="49" y="709"/>
                  </a:lnTo>
                  <a:lnTo>
                    <a:pt x="27" y="715"/>
                  </a:lnTo>
                  <a:lnTo>
                    <a:pt x="6" y="720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1819" name="Freeform 5"/>
            <p:cNvSpPr/>
            <p:nvPr/>
          </p:nvSpPr>
          <p:spPr>
            <a:xfrm>
              <a:off x="7543800" y="5418000"/>
              <a:ext cx="766800" cy="7653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5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4" y="579"/>
                  </a:lnTo>
                  <a:lnTo>
                    <a:pt x="950" y="602"/>
                  </a:lnTo>
                  <a:lnTo>
                    <a:pt x="943" y="626"/>
                  </a:lnTo>
                  <a:lnTo>
                    <a:pt x="935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6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4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6" y="839"/>
                  </a:lnTo>
                  <a:lnTo>
                    <a:pt x="789" y="854"/>
                  </a:lnTo>
                  <a:lnTo>
                    <a:pt x="771" y="868"/>
                  </a:lnTo>
                  <a:lnTo>
                    <a:pt x="752" y="881"/>
                  </a:lnTo>
                  <a:lnTo>
                    <a:pt x="732" y="894"/>
                  </a:lnTo>
                  <a:lnTo>
                    <a:pt x="712" y="906"/>
                  </a:lnTo>
                  <a:lnTo>
                    <a:pt x="691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6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6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2" y="964"/>
                  </a:lnTo>
                  <a:lnTo>
                    <a:pt x="457" y="964"/>
                  </a:lnTo>
                  <a:lnTo>
                    <a:pt x="433" y="961"/>
                  </a:lnTo>
                  <a:lnTo>
                    <a:pt x="408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8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3" y="906"/>
                  </a:lnTo>
                  <a:lnTo>
                    <a:pt x="232" y="894"/>
                  </a:lnTo>
                  <a:lnTo>
                    <a:pt x="212" y="881"/>
                  </a:lnTo>
                  <a:lnTo>
                    <a:pt x="193" y="868"/>
                  </a:lnTo>
                  <a:lnTo>
                    <a:pt x="176" y="854"/>
                  </a:lnTo>
                  <a:lnTo>
                    <a:pt x="158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0" y="788"/>
                  </a:lnTo>
                  <a:lnTo>
                    <a:pt x="96" y="771"/>
                  </a:lnTo>
                  <a:lnTo>
                    <a:pt x="83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8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4" y="602"/>
                  </a:lnTo>
                  <a:lnTo>
                    <a:pt x="10" y="579"/>
                  </a:lnTo>
                  <a:lnTo>
                    <a:pt x="6" y="556"/>
                  </a:lnTo>
                  <a:lnTo>
                    <a:pt x="3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8"/>
                  </a:lnTo>
                  <a:lnTo>
                    <a:pt x="10" y="384"/>
                  </a:lnTo>
                  <a:lnTo>
                    <a:pt x="14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8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3" y="212"/>
                  </a:lnTo>
                  <a:lnTo>
                    <a:pt x="96" y="193"/>
                  </a:lnTo>
                  <a:lnTo>
                    <a:pt x="110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8" y="124"/>
                  </a:lnTo>
                  <a:lnTo>
                    <a:pt x="176" y="110"/>
                  </a:lnTo>
                  <a:lnTo>
                    <a:pt x="193" y="95"/>
                  </a:lnTo>
                  <a:lnTo>
                    <a:pt x="212" y="82"/>
                  </a:lnTo>
                  <a:lnTo>
                    <a:pt x="232" y="69"/>
                  </a:lnTo>
                  <a:lnTo>
                    <a:pt x="253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8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8" y="5"/>
                  </a:lnTo>
                  <a:lnTo>
                    <a:pt x="433" y="2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6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6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1" y="47"/>
                  </a:lnTo>
                  <a:lnTo>
                    <a:pt x="712" y="58"/>
                  </a:lnTo>
                  <a:lnTo>
                    <a:pt x="732" y="69"/>
                  </a:lnTo>
                  <a:lnTo>
                    <a:pt x="752" y="82"/>
                  </a:lnTo>
                  <a:lnTo>
                    <a:pt x="771" y="95"/>
                  </a:lnTo>
                  <a:lnTo>
                    <a:pt x="789" y="110"/>
                  </a:lnTo>
                  <a:lnTo>
                    <a:pt x="806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4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6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5" y="316"/>
                  </a:lnTo>
                  <a:lnTo>
                    <a:pt x="943" y="338"/>
                  </a:lnTo>
                  <a:lnTo>
                    <a:pt x="950" y="361"/>
                  </a:lnTo>
                  <a:lnTo>
                    <a:pt x="954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5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20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  <a:lnTo>
                    <a:pt x="248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21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22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23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24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25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26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27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28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  <a:lnTo>
                    <a:pt x="128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29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1832" name="Freeform 230"/>
            <p:cNvSpPr/>
            <p:nvPr/>
          </p:nvSpPr>
          <p:spPr>
            <a:xfrm>
              <a:off x="8379000" y="5418000"/>
              <a:ext cx="765000" cy="765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4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5" y="579"/>
                  </a:lnTo>
                  <a:lnTo>
                    <a:pt x="949" y="602"/>
                  </a:lnTo>
                  <a:lnTo>
                    <a:pt x="943" y="626"/>
                  </a:lnTo>
                  <a:lnTo>
                    <a:pt x="936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7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5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7" y="839"/>
                  </a:lnTo>
                  <a:lnTo>
                    <a:pt x="789" y="854"/>
                  </a:lnTo>
                  <a:lnTo>
                    <a:pt x="770" y="868"/>
                  </a:lnTo>
                  <a:lnTo>
                    <a:pt x="751" y="881"/>
                  </a:lnTo>
                  <a:lnTo>
                    <a:pt x="733" y="894"/>
                  </a:lnTo>
                  <a:lnTo>
                    <a:pt x="712" y="906"/>
                  </a:lnTo>
                  <a:lnTo>
                    <a:pt x="692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5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5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3" y="964"/>
                  </a:lnTo>
                  <a:lnTo>
                    <a:pt x="458" y="964"/>
                  </a:lnTo>
                  <a:lnTo>
                    <a:pt x="433" y="961"/>
                  </a:lnTo>
                  <a:lnTo>
                    <a:pt x="409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9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2" y="906"/>
                  </a:lnTo>
                  <a:lnTo>
                    <a:pt x="233" y="894"/>
                  </a:lnTo>
                  <a:lnTo>
                    <a:pt x="212" y="881"/>
                  </a:lnTo>
                  <a:lnTo>
                    <a:pt x="194" y="868"/>
                  </a:lnTo>
                  <a:lnTo>
                    <a:pt x="176" y="854"/>
                  </a:lnTo>
                  <a:lnTo>
                    <a:pt x="159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1" y="788"/>
                  </a:lnTo>
                  <a:lnTo>
                    <a:pt x="96" y="771"/>
                  </a:lnTo>
                  <a:lnTo>
                    <a:pt x="82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7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5" y="602"/>
                  </a:lnTo>
                  <a:lnTo>
                    <a:pt x="9" y="579"/>
                  </a:lnTo>
                  <a:lnTo>
                    <a:pt x="6" y="556"/>
                  </a:lnTo>
                  <a:lnTo>
                    <a:pt x="2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6" y="408"/>
                  </a:lnTo>
                  <a:lnTo>
                    <a:pt x="9" y="384"/>
                  </a:lnTo>
                  <a:lnTo>
                    <a:pt x="15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7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2" y="212"/>
                  </a:lnTo>
                  <a:lnTo>
                    <a:pt x="96" y="193"/>
                  </a:lnTo>
                  <a:lnTo>
                    <a:pt x="111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9" y="124"/>
                  </a:lnTo>
                  <a:lnTo>
                    <a:pt x="176" y="110"/>
                  </a:lnTo>
                  <a:lnTo>
                    <a:pt x="194" y="95"/>
                  </a:lnTo>
                  <a:lnTo>
                    <a:pt x="212" y="82"/>
                  </a:lnTo>
                  <a:lnTo>
                    <a:pt x="233" y="69"/>
                  </a:lnTo>
                  <a:lnTo>
                    <a:pt x="252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9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9" y="5"/>
                  </a:lnTo>
                  <a:lnTo>
                    <a:pt x="433" y="2"/>
                  </a:lnTo>
                  <a:lnTo>
                    <a:pt x="458" y="0"/>
                  </a:lnTo>
                  <a:lnTo>
                    <a:pt x="483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5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5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2" y="47"/>
                  </a:lnTo>
                  <a:lnTo>
                    <a:pt x="712" y="58"/>
                  </a:lnTo>
                  <a:lnTo>
                    <a:pt x="733" y="69"/>
                  </a:lnTo>
                  <a:lnTo>
                    <a:pt x="751" y="82"/>
                  </a:lnTo>
                  <a:lnTo>
                    <a:pt x="770" y="95"/>
                  </a:lnTo>
                  <a:lnTo>
                    <a:pt x="789" y="110"/>
                  </a:lnTo>
                  <a:lnTo>
                    <a:pt x="807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5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7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6" y="316"/>
                  </a:lnTo>
                  <a:lnTo>
                    <a:pt x="943" y="338"/>
                  </a:lnTo>
                  <a:lnTo>
                    <a:pt x="949" y="361"/>
                  </a:lnTo>
                  <a:lnTo>
                    <a:pt x="955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4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32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  <a:lnTo>
                    <a:pt x="247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33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34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35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36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37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38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39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40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41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1845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1862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1879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330"/>
          <p:cNvSpPr/>
          <p:nvPr/>
        </p:nvSpPr>
        <p:spPr>
          <a:xfrm>
            <a:off x="2060640" y="1844640"/>
            <a:ext cx="7920" cy="0"/>
          </a:xfrm>
          <a:prstGeom prst="line">
            <a:avLst/>
          </a:prstGeom>
          <a:ln w="31680">
            <a:solidFill>
              <a:srgbClr val="675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1898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sp>
            <p:nvSpPr>
              <p:cNvPr id="1899" name="Line 291"/>
              <p:cNvSpPr/>
              <p:nvPr/>
            </p:nvSpPr>
            <p:spPr>
              <a:xfrm flipV="1">
                <a:off x="2068560" y="410508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Line 292"/>
              <p:cNvSpPr/>
              <p:nvPr/>
            </p:nvSpPr>
            <p:spPr>
              <a:xfrm flipV="1">
                <a:off x="2147760" y="3971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Line 293"/>
              <p:cNvSpPr/>
              <p:nvPr/>
            </p:nvSpPr>
            <p:spPr>
              <a:xfrm flipV="1">
                <a:off x="2228760" y="3836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294"/>
              <p:cNvSpPr/>
              <p:nvPr/>
            </p:nvSpPr>
            <p:spPr>
              <a:xfrm flipV="1">
                <a:off x="2309760" y="370152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0" y="21"/>
                    </a:moveTo>
                    <a:lnTo>
                      <a:pt x="11" y="0"/>
                    </a:lnTo>
                    <a:lnTo>
                      <a:pt x="87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Line 296"/>
              <p:cNvSpPr/>
              <p:nvPr/>
            </p:nvSpPr>
            <p:spPr>
              <a:xfrm>
                <a:off x="253836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297"/>
              <p:cNvSpPr/>
              <p:nvPr/>
            </p:nvSpPr>
            <p:spPr>
              <a:xfrm>
                <a:off x="269568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298"/>
              <p:cNvSpPr/>
              <p:nvPr/>
            </p:nvSpPr>
            <p:spPr>
              <a:xfrm>
                <a:off x="28530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299"/>
              <p:cNvSpPr/>
              <p:nvPr/>
            </p:nvSpPr>
            <p:spPr>
              <a:xfrm>
                <a:off x="3008520" y="36194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00"/>
              <p:cNvSpPr/>
              <p:nvPr/>
            </p:nvSpPr>
            <p:spPr>
              <a:xfrm>
                <a:off x="316584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Line 301"/>
              <p:cNvSpPr/>
              <p:nvPr/>
            </p:nvSpPr>
            <p:spPr>
              <a:xfrm>
                <a:off x="33228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1913" name="Freeform 343"/>
            <p:cNvSpPr/>
            <p:nvPr/>
          </p:nvSpPr>
          <p:spPr>
            <a:xfrm>
              <a:off x="4295880" y="4713120"/>
              <a:ext cx="442800" cy="443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558" h="557">
                  <a:moveTo>
                    <a:pt x="558" y="278"/>
                  </a:moveTo>
                  <a:lnTo>
                    <a:pt x="558" y="278"/>
                  </a:lnTo>
                  <a:lnTo>
                    <a:pt x="556" y="306"/>
                  </a:lnTo>
                  <a:lnTo>
                    <a:pt x="552" y="334"/>
                  </a:lnTo>
                  <a:lnTo>
                    <a:pt x="545" y="361"/>
                  </a:lnTo>
                  <a:lnTo>
                    <a:pt x="536" y="386"/>
                  </a:lnTo>
                  <a:lnTo>
                    <a:pt x="525" y="411"/>
                  </a:lnTo>
                  <a:lnTo>
                    <a:pt x="510" y="434"/>
                  </a:lnTo>
                  <a:lnTo>
                    <a:pt x="494" y="456"/>
                  </a:lnTo>
                  <a:lnTo>
                    <a:pt x="477" y="475"/>
                  </a:lnTo>
                  <a:lnTo>
                    <a:pt x="456" y="493"/>
                  </a:lnTo>
                  <a:lnTo>
                    <a:pt x="434" y="509"/>
                  </a:lnTo>
                  <a:lnTo>
                    <a:pt x="411" y="523"/>
                  </a:lnTo>
                  <a:lnTo>
                    <a:pt x="388" y="536"/>
                  </a:lnTo>
                  <a:lnTo>
                    <a:pt x="362" y="544"/>
                  </a:lnTo>
                  <a:lnTo>
                    <a:pt x="336" y="552"/>
                  </a:lnTo>
                  <a:lnTo>
                    <a:pt x="307" y="556"/>
                  </a:lnTo>
                  <a:lnTo>
                    <a:pt x="279" y="557"/>
                  </a:lnTo>
                  <a:lnTo>
                    <a:pt x="250" y="556"/>
                  </a:lnTo>
                  <a:lnTo>
                    <a:pt x="222" y="552"/>
                  </a:lnTo>
                  <a:lnTo>
                    <a:pt x="196" y="544"/>
                  </a:lnTo>
                  <a:lnTo>
                    <a:pt x="170" y="536"/>
                  </a:lnTo>
                  <a:lnTo>
                    <a:pt x="145" y="523"/>
                  </a:lnTo>
                  <a:lnTo>
                    <a:pt x="124" y="509"/>
                  </a:lnTo>
                  <a:lnTo>
                    <a:pt x="102" y="493"/>
                  </a:lnTo>
                  <a:lnTo>
                    <a:pt x="81" y="475"/>
                  </a:lnTo>
                  <a:lnTo>
                    <a:pt x="64" y="456"/>
                  </a:lnTo>
                  <a:lnTo>
                    <a:pt x="48" y="434"/>
                  </a:lnTo>
                  <a:lnTo>
                    <a:pt x="33" y="411"/>
                  </a:lnTo>
                  <a:lnTo>
                    <a:pt x="22" y="386"/>
                  </a:lnTo>
                  <a:lnTo>
                    <a:pt x="12" y="361"/>
                  </a:lnTo>
                  <a:lnTo>
                    <a:pt x="6" y="334"/>
                  </a:lnTo>
                  <a:lnTo>
                    <a:pt x="1" y="306"/>
                  </a:lnTo>
                  <a:lnTo>
                    <a:pt x="0" y="278"/>
                  </a:lnTo>
                  <a:lnTo>
                    <a:pt x="1" y="249"/>
                  </a:lnTo>
                  <a:lnTo>
                    <a:pt x="6" y="222"/>
                  </a:lnTo>
                  <a:lnTo>
                    <a:pt x="12" y="194"/>
                  </a:lnTo>
                  <a:lnTo>
                    <a:pt x="22" y="170"/>
                  </a:lnTo>
                  <a:lnTo>
                    <a:pt x="33" y="145"/>
                  </a:lnTo>
                  <a:lnTo>
                    <a:pt x="48" y="122"/>
                  </a:lnTo>
                  <a:lnTo>
                    <a:pt x="64" y="100"/>
                  </a:lnTo>
                  <a:lnTo>
                    <a:pt x="81" y="81"/>
                  </a:lnTo>
                  <a:lnTo>
                    <a:pt x="102" y="62"/>
                  </a:lnTo>
                  <a:lnTo>
                    <a:pt x="124" y="46"/>
                  </a:lnTo>
                  <a:lnTo>
                    <a:pt x="145" y="33"/>
                  </a:lnTo>
                  <a:lnTo>
                    <a:pt x="170" y="21"/>
                  </a:lnTo>
                  <a:lnTo>
                    <a:pt x="196" y="11"/>
                  </a:lnTo>
                  <a:lnTo>
                    <a:pt x="222" y="4"/>
                  </a:lnTo>
                  <a:lnTo>
                    <a:pt x="250" y="1"/>
                  </a:lnTo>
                  <a:lnTo>
                    <a:pt x="279" y="0"/>
                  </a:lnTo>
                  <a:lnTo>
                    <a:pt x="307" y="1"/>
                  </a:lnTo>
                  <a:lnTo>
                    <a:pt x="336" y="4"/>
                  </a:lnTo>
                  <a:lnTo>
                    <a:pt x="362" y="11"/>
                  </a:lnTo>
                  <a:lnTo>
                    <a:pt x="388" y="21"/>
                  </a:lnTo>
                  <a:lnTo>
                    <a:pt x="411" y="33"/>
                  </a:lnTo>
                  <a:lnTo>
                    <a:pt x="434" y="46"/>
                  </a:lnTo>
                  <a:lnTo>
                    <a:pt x="456" y="62"/>
                  </a:lnTo>
                  <a:lnTo>
                    <a:pt x="477" y="81"/>
                  </a:lnTo>
                  <a:lnTo>
                    <a:pt x="494" y="100"/>
                  </a:lnTo>
                  <a:lnTo>
                    <a:pt x="510" y="122"/>
                  </a:lnTo>
                  <a:lnTo>
                    <a:pt x="525" y="145"/>
                  </a:lnTo>
                  <a:lnTo>
                    <a:pt x="536" y="170"/>
                  </a:lnTo>
                  <a:lnTo>
                    <a:pt x="545" y="194"/>
                  </a:lnTo>
                  <a:lnTo>
                    <a:pt x="552" y="222"/>
                  </a:lnTo>
                  <a:lnTo>
                    <a:pt x="556" y="249"/>
                  </a:lnTo>
                  <a:lnTo>
                    <a:pt x="558" y="278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48"/>
            <p:cNvSpPr/>
            <p:nvPr/>
          </p:nvSpPr>
          <p:spPr>
            <a:xfrm>
              <a:off x="4091040" y="5110200"/>
              <a:ext cx="209520" cy="210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65" h="264">
                  <a:moveTo>
                    <a:pt x="0" y="197"/>
                  </a:moveTo>
                  <a:lnTo>
                    <a:pt x="198" y="0"/>
                  </a:lnTo>
                  <a:lnTo>
                    <a:pt x="265" y="67"/>
                  </a:lnTo>
                  <a:lnTo>
                    <a:pt x="67" y="264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49"/>
            <p:cNvSpPr/>
            <p:nvPr/>
          </p:nvSpPr>
          <p:spPr>
            <a:xfrm>
              <a:off x="4721400" y="509904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6" h="270">
                  <a:moveTo>
                    <a:pt x="186" y="270"/>
                  </a:moveTo>
                  <a:lnTo>
                    <a:pt x="0" y="61"/>
                  </a:lnTo>
                  <a:lnTo>
                    <a:pt x="70" y="0"/>
                  </a:lnTo>
                  <a:lnTo>
                    <a:pt x="256" y="209"/>
                  </a:lnTo>
                  <a:lnTo>
                    <a:pt x="186" y="27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50"/>
            <p:cNvSpPr/>
            <p:nvPr/>
          </p:nvSpPr>
          <p:spPr>
            <a:xfrm>
              <a:off x="4120920" y="453672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5" h="271">
                  <a:moveTo>
                    <a:pt x="186" y="271"/>
                  </a:moveTo>
                  <a:lnTo>
                    <a:pt x="0" y="61"/>
                  </a:lnTo>
                  <a:lnTo>
                    <a:pt x="69" y="0"/>
                  </a:lnTo>
                  <a:lnTo>
                    <a:pt x="255" y="210"/>
                  </a:lnTo>
                  <a:lnTo>
                    <a:pt x="186" y="27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51"/>
            <p:cNvSpPr/>
            <p:nvPr/>
          </p:nvSpPr>
          <p:spPr>
            <a:xfrm>
              <a:off x="4714920" y="4570200"/>
              <a:ext cx="215640" cy="203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70" h="255">
                  <a:moveTo>
                    <a:pt x="0" y="185"/>
                  </a:moveTo>
                  <a:lnTo>
                    <a:pt x="209" y="0"/>
                  </a:lnTo>
                  <a:lnTo>
                    <a:pt x="270" y="69"/>
                  </a:lnTo>
                  <a:lnTo>
                    <a:pt x="61" y="25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组合 368"/>
          <p:cNvGrpSpPr/>
          <p:nvPr/>
        </p:nvGrpSpPr>
        <p:grpSpPr>
          <a:xfrm>
            <a:off x="1444680" y="2263680"/>
            <a:ext cx="2855880" cy="704520"/>
            <a:chOff x="1444680" y="2263680"/>
            <a:chExt cx="2855880" cy="704520"/>
          </a:xfrm>
        </p:grpSpPr>
        <p:grpSp>
          <p:nvGrpSpPr>
            <p:cNvPr id="1923" name="组合 362"/>
            <p:cNvGrpSpPr/>
            <p:nvPr/>
          </p:nvGrpSpPr>
          <p:grpSpPr>
            <a:xfrm>
              <a:off x="1444680" y="2457360"/>
              <a:ext cx="1328760" cy="510840"/>
              <a:chOff x="1444680" y="2457360"/>
              <a:chExt cx="1328760" cy="510840"/>
            </a:xfrm>
          </p:grpSpPr>
          <p:sp>
            <p:nvSpPr>
              <p:cNvPr id="1924" name="Line 302"/>
              <p:cNvSpPr/>
              <p:nvPr/>
            </p:nvSpPr>
            <p:spPr>
              <a:xfrm flipV="1">
                <a:off x="1444680" y="290016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303"/>
              <p:cNvSpPr/>
              <p:nvPr/>
            </p:nvSpPr>
            <p:spPr>
              <a:xfrm flipV="1">
                <a:off x="1519200" y="2762280"/>
                <a:ext cx="37800" cy="698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304"/>
              <p:cNvSpPr/>
              <p:nvPr/>
            </p:nvSpPr>
            <p:spPr>
              <a:xfrm flipV="1">
                <a:off x="1593720" y="262368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Line 305"/>
              <p:cNvSpPr/>
              <p:nvPr/>
            </p:nvSpPr>
            <p:spPr>
              <a:xfrm flipV="1">
                <a:off x="1668240" y="248544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Line 306"/>
              <p:cNvSpPr/>
              <p:nvPr/>
            </p:nvSpPr>
            <p:spPr>
              <a:xfrm>
                <a:off x="176688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Line 307"/>
              <p:cNvSpPr/>
              <p:nvPr/>
            </p:nvSpPr>
            <p:spPr>
              <a:xfrm>
                <a:off x="192420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Line 308"/>
              <p:cNvSpPr/>
              <p:nvPr/>
            </p:nvSpPr>
            <p:spPr>
              <a:xfrm>
                <a:off x="208116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309"/>
              <p:cNvSpPr/>
              <p:nvPr/>
            </p:nvSpPr>
            <p:spPr>
              <a:xfrm>
                <a:off x="223704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310"/>
              <p:cNvSpPr/>
              <p:nvPr/>
            </p:nvSpPr>
            <p:spPr>
              <a:xfrm>
                <a:off x="239400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311"/>
              <p:cNvSpPr/>
              <p:nvPr/>
            </p:nvSpPr>
            <p:spPr>
              <a:xfrm>
                <a:off x="255132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Line 312"/>
              <p:cNvSpPr/>
              <p:nvPr/>
            </p:nvSpPr>
            <p:spPr>
              <a:xfrm>
                <a:off x="2708640" y="2457360"/>
                <a:ext cx="648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5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组合 367"/>
          <p:cNvGrpSpPr/>
          <p:nvPr/>
        </p:nvGrpSpPr>
        <p:grpSpPr>
          <a:xfrm>
            <a:off x="365040" y="1646280"/>
            <a:ext cx="3270240" cy="1654200"/>
            <a:chOff x="365040" y="1646280"/>
            <a:chExt cx="3270240" cy="1654200"/>
          </a:xfrm>
        </p:grpSpPr>
        <p:grpSp>
          <p:nvGrpSpPr>
            <p:cNvPr id="1938" name="组合 363"/>
            <p:cNvGrpSpPr/>
            <p:nvPr/>
          </p:nvGrpSpPr>
          <p:grpSpPr>
            <a:xfrm>
              <a:off x="365040" y="1833480"/>
              <a:ext cx="1617480" cy="1467000"/>
              <a:chOff x="365040" y="1833480"/>
              <a:chExt cx="1617480" cy="1467000"/>
            </a:xfrm>
          </p:grpSpPr>
          <p:sp>
            <p:nvSpPr>
              <p:cNvPr id="1939" name="Line 313"/>
              <p:cNvSpPr/>
              <p:nvPr/>
            </p:nvSpPr>
            <p:spPr>
              <a:xfrm flipV="1">
                <a:off x="365040" y="322920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314"/>
              <p:cNvSpPr/>
              <p:nvPr/>
            </p:nvSpPr>
            <p:spPr>
              <a:xfrm flipV="1">
                <a:off x="426600" y="308484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315"/>
              <p:cNvSpPr/>
              <p:nvPr/>
            </p:nvSpPr>
            <p:spPr>
              <a:xfrm flipV="1">
                <a:off x="487080" y="294012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316"/>
              <p:cNvSpPr/>
              <p:nvPr/>
            </p:nvSpPr>
            <p:spPr>
              <a:xfrm flipV="1">
                <a:off x="549000" y="279576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17"/>
              <p:cNvSpPr/>
              <p:nvPr/>
            </p:nvSpPr>
            <p:spPr>
              <a:xfrm flipV="1">
                <a:off x="609480" y="2651040"/>
                <a:ext cx="316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18"/>
              <p:cNvSpPr/>
              <p:nvPr/>
            </p:nvSpPr>
            <p:spPr>
              <a:xfrm flipV="1">
                <a:off x="671400" y="250812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19"/>
              <p:cNvSpPr/>
              <p:nvPr/>
            </p:nvSpPr>
            <p:spPr>
              <a:xfrm flipV="1">
                <a:off x="731520" y="2363760"/>
                <a:ext cx="316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20"/>
              <p:cNvSpPr/>
              <p:nvPr/>
            </p:nvSpPr>
            <p:spPr>
              <a:xfrm flipV="1">
                <a:off x="795240" y="221904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21"/>
              <p:cNvSpPr/>
              <p:nvPr/>
            </p:nvSpPr>
            <p:spPr>
              <a:xfrm flipV="1">
                <a:off x="855360" y="207324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322"/>
              <p:cNvSpPr/>
              <p:nvPr/>
            </p:nvSpPr>
            <p:spPr>
              <a:xfrm flipV="1">
                <a:off x="917280" y="193032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323"/>
              <p:cNvSpPr/>
              <p:nvPr/>
            </p:nvSpPr>
            <p:spPr>
              <a:xfrm>
                <a:off x="977760" y="1833480"/>
                <a:ext cx="63360" cy="25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0" h="30">
                    <a:moveTo>
                      <a:pt x="0" y="30"/>
                    </a:moveTo>
                    <a:lnTo>
                      <a:pt x="13" y="0"/>
                    </a:lnTo>
                    <a:lnTo>
                      <a:pt x="80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324"/>
              <p:cNvSpPr/>
              <p:nvPr/>
            </p:nvSpPr>
            <p:spPr>
              <a:xfrm>
                <a:off x="111888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325"/>
              <p:cNvSpPr/>
              <p:nvPr/>
            </p:nvSpPr>
            <p:spPr>
              <a:xfrm>
                <a:off x="127620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Line 326"/>
              <p:cNvSpPr/>
              <p:nvPr/>
            </p:nvSpPr>
            <p:spPr>
              <a:xfrm>
                <a:off x="143352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327"/>
              <p:cNvSpPr/>
              <p:nvPr/>
            </p:nvSpPr>
            <p:spPr>
              <a:xfrm>
                <a:off x="159048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328"/>
              <p:cNvSpPr/>
              <p:nvPr/>
            </p:nvSpPr>
            <p:spPr>
              <a:xfrm>
                <a:off x="174780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329"/>
              <p:cNvSpPr/>
              <p:nvPr/>
            </p:nvSpPr>
            <p:spPr>
              <a:xfrm>
                <a:off x="190332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6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4:07:49Z</dcterms:created>
  <dc:creator>joyce</dc:creator>
  <dc:description/>
  <cp:keywords/>
  <dc:language>en-US</dc:language>
  <cp:lastModifiedBy>zzf</cp:lastModifiedBy>
  <dcterms:modified xsi:type="dcterms:W3CDTF">2016-03-11T08:44:06Z</dcterms:modified>
  <cp:revision>1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