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FBA5-8C1F-4502-9E32-06903844659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F77A-7C04-4F59-A4AB-4FADDF809C3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D408-2D1B-42F4-8C67-CF661540C7E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BAD3-8CA8-49C9-ADF6-B02161E723E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5713-979F-4B2A-BA2E-E4370597A9E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C7A4-D33D-4094-BB90-3F058489C52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3419-D07D-479C-ABDD-16EFBF13FD8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B6AC-7340-422B-8C55-1DE56151E25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69F1-39C8-4DD5-831C-50D51E6443D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ABBA-450B-40F6-A5B3-238946777BD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ED6C-60B3-4D32-AB9F-278C42C6391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7456-3FD7-4EC4-8004-CA72961594B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89B9-3423-4DF1-9F6F-891C17A02AB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95E1-9AA8-448A-A019-E05F42736D0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480960" y="1279440"/>
            <a:ext cx="6140520" cy="34545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1646-A22E-4867-B843-6A511F2ABFB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E3A4-30BA-4F7A-94CF-A290D82173F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F793-8270-4F38-B886-5CD57191C78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6EE3-4502-44FE-A570-C7D7F41272C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62FB-B3B7-459C-A475-731370C635D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14BB-2E11-4692-BEED-60BFB2F991A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2905-945D-422A-8514-C2AE7E151A1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1F8A-5449-4FB9-9158-A7ED2FF5826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86E6-0AD1-4459-8497-1116D9854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7202-45C4-44BF-B06B-2FD0D233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A2D895-14FB-49DD-B32C-4FC48B5E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894361-57E7-4D67-9071-F53BF1ED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4BDC82-C011-4D19-99DE-2FA84045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1832EF-F723-4CD3-A89C-8365890D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436E68-40E6-4ABC-8A53-490DD646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89A1CA-700C-4EB5-B5E7-FE03DA1F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0806D-6861-430A-A605-B9E991CA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25387-6045-46E5-9C09-7C47F1760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DD99FE-5A2A-4A26-8C1A-D26FE71E9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BD8D42-4574-4B94-A8D1-FB4F515EE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0579-C020-4A0F-8A05-97D952020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59CC62-208B-4438-B0B4-8516F5B9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F14EC7-45FF-4C82-B295-CB90B3E0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A54388-35BB-4096-A8D5-07C70A44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09DC71-059B-435B-BFE1-BC17F892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A9EEAE-D99E-4BDB-BCD8-F6279697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AB0A18-7FBE-49BD-951C-833CEC1B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AEB94B-0083-4373-AC97-57F11F40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DE6CE1-6BB0-4853-97ED-4F1380BC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9A5EEB-BF9D-4829-B586-9DF22FB4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10EA31-60D0-444C-926B-2D0F135D0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0EAC-B567-48A8-A10E-629147CE6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BB4318-FD44-4BE2-A5B4-EB8359EBB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94A2D3-30DA-4288-BEB6-80FD66636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DD3160-60ED-41CA-9E33-337DE732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C20AF-FAF8-4B75-A1A6-175DE3E3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DD550-3068-4AEE-B74C-E8B5B6D8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C1DD2-4708-4D6F-BC92-68888B16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8C513-280B-47DD-8A14-703F385D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477D2-75EA-4D7E-8915-AFE3E368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FF120-0C35-4185-ACAD-1BC43AFC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F6427-96C3-43B6-A421-9F6DF50F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B3D5-3C08-4027-86B3-6EAA8AE1F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A1DE5-CE38-4B33-A31A-6185D57A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BDF4BE-2060-45BE-BBF3-06E0FAF64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A9D686-038F-4D3C-8165-C2102D76C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CD7A-BEA6-4627-ABF6-83389607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B6D4-95F8-4DA4-8E6B-6CDC36B0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6946-4D5B-4408-BF24-C7393165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92A0-C534-4212-AAED-7EE0FCC2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5FF9-59DA-4A44-B357-2AE32604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7B3D-D813-4C0B-87F8-BFB2CEA7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F9D4-C3F3-4DB2-AD12-A2E626E7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8DA5-0E5E-4F60-B7F2-C9395B9B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A1AE-9AAF-490A-AB8C-B6BF9961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D6D0-652B-49E4-9378-8F431783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C9B3-0A4D-453A-A2D5-0E81778DD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A5878-365A-4788-902B-6BD167724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F507D-8353-4FA6-B08E-C7F1005CF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6C0CF-3667-4706-BE58-AD30205C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E9127-D2D6-4260-96BE-A6887534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D613A-1890-4F78-8A49-19FB435B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C94F4-454D-4362-A096-E1409013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B0B6-4057-46BC-B21E-5F4413ED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1807D-162E-42D4-8BB4-B9259B10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D37A0-F634-4B90-977D-3F3DB246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EEE46-56B2-48C0-BC19-8D44F7BE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8149C-C0FF-43E1-841A-13A10BF0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BFF27-7F0A-49EE-B278-88514141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992FF-4935-4C4E-9078-32AD1E040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B9482-EB46-4FD9-9B08-4560785FF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8AC35-268E-4613-81CD-73064FC10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ED086-8E6B-40D1-95FB-522D7C1D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AAE28-8C9B-446F-BD0F-D76AF124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AFD0-1EBF-4ACB-B817-D98D10B9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21980-33D4-4A48-A46F-E4461808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BD0F0-322E-4E05-B590-B03232D6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11DFC-FCC6-4F3F-B397-973FAB6D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62C13-C6D7-4119-A7C6-04837B0E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C1B62-ACB8-46E5-BB2B-659B66B2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C4926-D6FE-4308-AE42-5CBB32E3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24D2C-F8A9-4664-8A29-AD1F9C94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3AEFA-D538-49FD-8166-3BE8B718D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65244-813C-477F-816E-B3AE4DB76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055A7-F481-4C0D-8042-D0B69B960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4F53-4A1C-4DAC-B7B8-DB06B34D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04C23-6243-46EC-809B-EC8868EE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BEBE6-CE9F-43CB-9ADA-A3556544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19F56-6410-4FD1-8A05-B0308750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C3F76-D945-4BC8-A5B2-3131C929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E30E1-F596-485E-9480-EA95C1E8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C0C15-2492-4F72-943A-76DAA550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5BAD1-E7A4-41CF-87D5-F7BD0D5B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2C939-828F-48CD-9DA7-6017A238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F0A58-F51A-4954-87C2-80C326A9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B4120-AB3C-4383-86CF-55099786F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48A9-B8C9-42A2-AD1E-6DD05249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AA6FD-4276-4481-9ACA-DD29A4F0B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05858-9D69-4784-98E7-0E9D4E494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5A65B-5A0D-4888-B6B0-5373AB85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73B61-647A-4D82-8F62-18E3BC75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A5048-9354-40EE-A63B-5B39870F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B4386-D656-40B4-8086-B62C5F12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81FF9-8166-4379-BE98-23E3F1C6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537E2-C645-4284-9DF9-349A955B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5F6EE-83BA-41A9-B95D-170B6E7F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57F3B-02E7-4C2D-A8A4-354D2A3A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E9FD-F2A7-4573-BD0F-D8975D1E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4979C-DFE8-414A-BDB1-7A612BA8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51BF8-DF85-4673-966A-34A170F37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3D68E-0DBE-4E98-ACCF-AC45C6537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9A6C6-14D7-48DA-8F88-4AC1DB26A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C4B52-0640-4633-9B75-90FC9D22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B4D59-A500-4991-84F0-36E69537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B3B96-2B3B-4F99-9E47-65D6F5B8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BBCA0-FF02-4B5D-9FC5-2DF55BA8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6D923-AA03-4B12-B2B2-F4595E50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9E0E0-E815-4A87-8827-38813CBE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F48D-4A4D-4396-B763-0687AF76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2BBDF-3C81-4485-BA40-0AF32B1A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BB6C3-0ABB-43FF-867B-A2BB63AC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9AEF0-1E25-4CDE-89F8-B3AA7887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C1503-FFBE-44B1-AB73-3E5A18C89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EEB35-D53E-42E7-9D21-3B5184009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0FD6E-B7FD-4C3C-98B9-81B5FC831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50567-16F3-494B-9026-1135BFEF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91DF4-F0C4-4C32-A6CE-0BAD206F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122DA-A49E-4199-B6D3-6CB511CD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73F4C-30AE-44C8-82ED-03342F73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4FEA-392C-4655-B55F-898D4028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736EB-A3B6-49D3-A65F-0D59DEB0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4FE7A-7623-40B6-B5F0-593B6466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05448-F5EA-41B6-9D20-0284AF9E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766FB-B5DD-4AC0-AD98-5D8E32B2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95035-BF29-47B5-98B1-C8770C13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8B32D-0FDE-494E-9D35-D13AE163D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434DD-9BCB-4574-8AE3-DE8962304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700D58-B1BF-4434-A401-279188466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70DFE1-08FA-441A-9931-55141184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B392BF-98BB-43B0-9CA3-D0A69352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8111-007F-4C48-BA90-4189766FE9E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80E2-5D26-401E-8FFC-B303F8B7900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942E-7030-4E30-A18B-2A5C8B000D6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A3B2-52B1-4D2B-909E-279613EC026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77F1-79AD-4FCA-BF3C-9424B312ADD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7C7B-D1D3-4B66-B2BE-8D0DAE43C4E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EAD7-2E33-43FE-A9D6-83B2334FD80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1057-ED5A-4370-97A6-59904693C19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CB9C-31B5-4DBA-BDB6-DA728413FB7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C6ED-14F1-4675-9CCD-D58BC9FC39B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BF41-A6A5-4FBE-8C99-921F748E215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任意多边形 50"/>
          <p:cNvSpPr/>
          <p:nvPr/>
        </p:nvSpPr>
        <p:spPr>
          <a:xfrm>
            <a:off x="5456160" y="2419200"/>
            <a:ext cx="4492800" cy="2922840"/>
          </a:xfrm>
          <a:custGeom>
            <a:avLst/>
            <a:gdLst/>
            <a:ahLst/>
            <a:rect l="l" t="t" r="r" b="b"/>
            <a:pathLst>
              <a:path w="5057776" h="3290711">
                <a:moveTo>
                  <a:pt x="117284" y="0"/>
                </a:moveTo>
                <a:lnTo>
                  <a:pt x="4940492" y="0"/>
                </a:lnTo>
                <a:lnTo>
                  <a:pt x="4944082" y="9809"/>
                </a:lnTo>
                <a:cubicBezTo>
                  <a:pt x="5017972" y="247370"/>
                  <a:pt x="5057776" y="499948"/>
                  <a:pt x="5057776" y="761823"/>
                </a:cubicBezTo>
                <a:cubicBezTo>
                  <a:pt x="5057776" y="2158489"/>
                  <a:pt x="3925554" y="3290711"/>
                  <a:pt x="2528888" y="3290711"/>
                </a:cubicBezTo>
                <a:cubicBezTo>
                  <a:pt x="1132222" y="3290711"/>
                  <a:pt x="0" y="2158489"/>
                  <a:pt x="0" y="761823"/>
                </a:cubicBezTo>
                <a:cubicBezTo>
                  <a:pt x="0" y="499948"/>
                  <a:pt x="39805" y="247370"/>
                  <a:pt x="113694" y="9809"/>
                </a:cubicBezTo>
                <a:lnTo>
                  <a:pt x="117284" y="0"/>
                </a:lnTo>
                <a:close/>
              </a:path>
            </a:pathLst>
          </a:cu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直接连接符 8"/>
          <p:cNvSpPr/>
          <p:nvPr/>
        </p:nvSpPr>
        <p:spPr>
          <a:xfrm flipH="1">
            <a:off x="1314000" y="0"/>
            <a:ext cx="1752840" cy="1752480"/>
          </a:xfrm>
          <a:prstGeom prst="line">
            <a:avLst/>
          </a:prstGeom>
          <a:ln w="648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直接连接符 9"/>
          <p:cNvSpPr/>
          <p:nvPr/>
        </p:nvSpPr>
        <p:spPr>
          <a:xfrm flipH="1">
            <a:off x="1509840" y="-19080"/>
            <a:ext cx="1752480" cy="1752480"/>
          </a:xfrm>
          <a:prstGeom prst="line">
            <a:avLst/>
          </a:prstGeom>
          <a:ln w="6480">
            <a:solidFill>
              <a:srgbClr val="9ad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直接连接符 10"/>
          <p:cNvSpPr/>
          <p:nvPr/>
        </p:nvSpPr>
        <p:spPr>
          <a:xfrm flipH="1">
            <a:off x="914400" y="-57240"/>
            <a:ext cx="2720880" cy="2743200"/>
          </a:xfrm>
          <a:prstGeom prst="line">
            <a:avLst/>
          </a:prstGeom>
          <a:ln w="76320">
            <a:solidFill>
              <a:srgbClr val="9dc3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直接连接符 12"/>
          <p:cNvSpPr/>
          <p:nvPr/>
        </p:nvSpPr>
        <p:spPr>
          <a:xfrm flipH="1">
            <a:off x="2336760" y="-57240"/>
            <a:ext cx="1581120" cy="1581120"/>
          </a:xfrm>
          <a:prstGeom prst="line">
            <a:avLst/>
          </a:prstGeom>
          <a:ln w="38160">
            <a:solidFill>
              <a:srgbClr val="12b1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直接连接符 17"/>
          <p:cNvSpPr/>
          <p:nvPr/>
        </p:nvSpPr>
        <p:spPr>
          <a:xfrm flipH="1">
            <a:off x="3742920" y="-28440"/>
            <a:ext cx="2678040" cy="2754000"/>
          </a:xfrm>
          <a:prstGeom prst="line">
            <a:avLst/>
          </a:prstGeom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椭圆 19"/>
          <p:cNvSpPr/>
          <p:nvPr/>
        </p:nvSpPr>
        <p:spPr>
          <a:xfrm>
            <a:off x="1138320" y="2743200"/>
            <a:ext cx="743040" cy="743040"/>
          </a:xfrm>
          <a:prstGeom prst="ellipse">
            <a:avLst/>
          </a:prstGeom>
          <a:solidFill>
            <a:srgbClr val="45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椭圆 20"/>
          <p:cNvSpPr/>
          <p:nvPr/>
        </p:nvSpPr>
        <p:spPr>
          <a:xfrm>
            <a:off x="600120" y="3287880"/>
            <a:ext cx="371520" cy="371160"/>
          </a:xfrm>
          <a:prstGeom prst="ellipse">
            <a:avLst/>
          </a:prstGeom>
          <a:solidFill>
            <a:srgbClr val="3d0c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直接连接符 23"/>
          <p:cNvSpPr/>
          <p:nvPr/>
        </p:nvSpPr>
        <p:spPr>
          <a:xfrm flipH="1">
            <a:off x="0" y="5246640"/>
            <a:ext cx="735120" cy="628560"/>
          </a:xfrm>
          <a:prstGeom prst="line">
            <a:avLst/>
          </a:prstGeom>
          <a:ln w="64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直接连接符 25"/>
          <p:cNvSpPr/>
          <p:nvPr/>
        </p:nvSpPr>
        <p:spPr>
          <a:xfrm flipH="1">
            <a:off x="-86040" y="4672080"/>
            <a:ext cx="1041480" cy="88416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直接连接符 26"/>
          <p:cNvSpPr/>
          <p:nvPr/>
        </p:nvSpPr>
        <p:spPr>
          <a:xfrm flipH="1">
            <a:off x="450720" y="5661000"/>
            <a:ext cx="1446480" cy="1254240"/>
          </a:xfrm>
          <a:prstGeom prst="line">
            <a:avLst/>
          </a:prstGeom>
          <a:ln w="76320">
            <a:solidFill>
              <a:srgbClr val="adb9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直角三角形 28"/>
          <p:cNvSpPr/>
          <p:nvPr/>
        </p:nvSpPr>
        <p:spPr>
          <a:xfrm flipH="1" rot="1223400">
            <a:off x="2452320" y="5208480"/>
            <a:ext cx="364680" cy="447840"/>
          </a:xfrm>
          <a:prstGeom prst="rtTriangle">
            <a:avLst/>
          </a:prstGeom>
          <a:solidFill>
            <a:srgbClr val="333f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直角三角形 29"/>
          <p:cNvSpPr/>
          <p:nvPr/>
        </p:nvSpPr>
        <p:spPr>
          <a:xfrm rot="3958800">
            <a:off x="3271320" y="4135320"/>
            <a:ext cx="218880" cy="345960"/>
          </a:xfrm>
          <a:prstGeom prst="rtTriangl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直接连接符 32"/>
          <p:cNvSpPr/>
          <p:nvPr/>
        </p:nvSpPr>
        <p:spPr>
          <a:xfrm flipH="1">
            <a:off x="10526760" y="-71280"/>
            <a:ext cx="1125360" cy="1114200"/>
          </a:xfrm>
          <a:prstGeom prst="line">
            <a:avLst/>
          </a:prstGeom>
          <a:ln w="76320">
            <a:solidFill>
              <a:srgbClr val="adb9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直接连接符 34"/>
          <p:cNvSpPr/>
          <p:nvPr/>
        </p:nvSpPr>
        <p:spPr>
          <a:xfrm flipH="1">
            <a:off x="9890280" y="-28440"/>
            <a:ext cx="2063520" cy="2141280"/>
          </a:xfrm>
          <a:prstGeom prst="line">
            <a:avLst/>
          </a:prstGeom>
          <a:ln w="6480">
            <a:solidFill>
              <a:srgbClr val="9ad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直接连接符 36"/>
          <p:cNvSpPr/>
          <p:nvPr/>
        </p:nvSpPr>
        <p:spPr>
          <a:xfrm flipH="1">
            <a:off x="11552040" y="0"/>
            <a:ext cx="655560" cy="669960"/>
          </a:xfrm>
          <a:prstGeom prst="line">
            <a:avLst/>
          </a:prstGeom>
          <a:ln w="6480">
            <a:solidFill>
              <a:srgbClr val="9dc3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直接连接符 38"/>
          <p:cNvSpPr/>
          <p:nvPr/>
        </p:nvSpPr>
        <p:spPr>
          <a:xfrm flipH="1">
            <a:off x="11174040" y="206280"/>
            <a:ext cx="1033560" cy="1032120"/>
          </a:xfrm>
          <a:prstGeom prst="line">
            <a:avLst/>
          </a:prstGeom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3" name="组合 42"/>
          <p:cNvGrpSpPr/>
          <p:nvPr/>
        </p:nvGrpSpPr>
        <p:grpSpPr>
          <a:xfrm>
            <a:off x="1834920" y="4383000"/>
            <a:ext cx="1028880" cy="905400"/>
            <a:chOff x="1834920" y="4383000"/>
            <a:chExt cx="1028880" cy="905400"/>
          </a:xfrm>
        </p:grpSpPr>
        <p:sp>
          <p:nvSpPr>
            <p:cNvPr id="514" name="直角三角形 40"/>
            <p:cNvSpPr/>
            <p:nvPr/>
          </p:nvSpPr>
          <p:spPr>
            <a:xfrm rot="4251600">
              <a:off x="2235600" y="4558320"/>
              <a:ext cx="331200" cy="863640"/>
            </a:xfrm>
            <a:prstGeom prst="rtTriangle">
              <a:avLst/>
            </a:prstGeom>
            <a:solidFill>
              <a:srgbClr val="dee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直角三角形 41"/>
            <p:cNvSpPr/>
            <p:nvPr/>
          </p:nvSpPr>
          <p:spPr>
            <a:xfrm flipH="1" rot="4251600">
              <a:off x="2131560" y="4249080"/>
              <a:ext cx="331200" cy="863640"/>
            </a:xfrm>
            <a:prstGeom prst="rtTriangle">
              <a:avLst/>
            </a:prstGeom>
            <a:solidFill>
              <a:srgbClr val="bdd7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6" name="组合 43"/>
          <p:cNvGrpSpPr/>
          <p:nvPr/>
        </p:nvGrpSpPr>
        <p:grpSpPr>
          <a:xfrm>
            <a:off x="9539640" y="533520"/>
            <a:ext cx="826560" cy="781920"/>
            <a:chOff x="9539640" y="533520"/>
            <a:chExt cx="826560" cy="781920"/>
          </a:xfrm>
        </p:grpSpPr>
        <p:sp>
          <p:nvSpPr>
            <p:cNvPr id="517" name="直角三角形 44"/>
            <p:cNvSpPr/>
            <p:nvPr/>
          </p:nvSpPr>
          <p:spPr>
            <a:xfrm rot="3506400">
              <a:off x="9892440" y="703080"/>
              <a:ext cx="250560" cy="663480"/>
            </a:xfrm>
            <a:prstGeom prst="rtTriangle">
              <a:avLst/>
            </a:prstGeom>
            <a:solidFill>
              <a:srgbClr val="dee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直角三角形 45"/>
            <p:cNvSpPr/>
            <p:nvPr/>
          </p:nvSpPr>
          <p:spPr>
            <a:xfrm flipH="1" rot="3506400">
              <a:off x="9761760" y="482760"/>
              <a:ext cx="252360" cy="663480"/>
            </a:xfrm>
            <a:prstGeom prst="rtTriangle">
              <a:avLst/>
            </a:prstGeom>
            <a:solidFill>
              <a:srgbClr val="bdd7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9" name="组合 60"/>
          <p:cNvGrpSpPr/>
          <p:nvPr/>
        </p:nvGrpSpPr>
        <p:grpSpPr>
          <a:xfrm>
            <a:off x="4681440" y="3543480"/>
            <a:ext cx="6335640" cy="2212560"/>
            <a:chOff x="4681440" y="3543480"/>
            <a:chExt cx="6335640" cy="2212560"/>
          </a:xfrm>
        </p:grpSpPr>
        <p:sp>
          <p:nvSpPr>
            <p:cNvPr id="520" name="文本框 61"/>
            <p:cNvSpPr/>
            <p:nvPr/>
          </p:nvSpPr>
          <p:spPr>
            <a:xfrm>
              <a:off x="4681440" y="3543480"/>
              <a:ext cx="63356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ed7d31"/>
                  </a:solidFill>
                  <a:latin typeface="微软雅黑"/>
                  <a:ea typeface="微软雅黑"/>
                </a:rPr>
                <a:t>简约商务风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文本框 62"/>
            <p:cNvSpPr/>
            <p:nvPr/>
          </p:nvSpPr>
          <p:spPr>
            <a:xfrm>
              <a:off x="4705920" y="4839120"/>
              <a:ext cx="6166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实用</a:t>
              </a:r>
              <a:r>
                <a:rPr b="1" lang="en-US" sz="54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54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模板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2" name="文本框 62"/>
          <p:cNvSpPr/>
          <p:nvPr/>
        </p:nvSpPr>
        <p:spPr>
          <a:xfrm>
            <a:off x="6978600" y="1733400"/>
            <a:ext cx="1316160" cy="52056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000"/>
                </a:solidFill>
                <a:latin typeface="微软雅黑 Light"/>
                <a:ea typeface="微软雅黑 Light"/>
              </a:rPr>
              <a:t>千库网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文本框 62"/>
          <p:cNvSpPr/>
          <p:nvPr/>
        </p:nvSpPr>
        <p:spPr>
          <a:xfrm>
            <a:off x="6605640" y="2639880"/>
            <a:ext cx="208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X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85" name="矩形 29"/>
          <p:cNvSpPr/>
          <p:nvPr/>
        </p:nvSpPr>
        <p:spPr>
          <a:xfrm>
            <a:off x="-9360" y="209520"/>
            <a:ext cx="142560" cy="49536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文本框 30"/>
          <p:cNvSpPr/>
          <p:nvPr/>
        </p:nvSpPr>
        <p:spPr>
          <a:xfrm>
            <a:off x="227160" y="227160"/>
            <a:ext cx="30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Shape 4096"/>
          <p:cNvSpPr/>
          <p:nvPr/>
        </p:nvSpPr>
        <p:spPr>
          <a:xfrm>
            <a:off x="4114800" y="2127240"/>
            <a:ext cx="1692360" cy="1728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f28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Shape 4113"/>
          <p:cNvSpPr/>
          <p:nvPr/>
        </p:nvSpPr>
        <p:spPr>
          <a:xfrm>
            <a:off x="1835280" y="2127240"/>
            <a:ext cx="1690560" cy="1728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9ad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hape 4114"/>
          <p:cNvSpPr/>
          <p:nvPr/>
        </p:nvSpPr>
        <p:spPr>
          <a:xfrm>
            <a:off x="8618400" y="2127240"/>
            <a:ext cx="1690920" cy="1728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fadb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Shape 4115"/>
          <p:cNvSpPr/>
          <p:nvPr/>
        </p:nvSpPr>
        <p:spPr>
          <a:xfrm>
            <a:off x="6353280" y="2127240"/>
            <a:ext cx="1692000" cy="1728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b6d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TextBox 24"/>
          <p:cNvSpPr/>
          <p:nvPr/>
        </p:nvSpPr>
        <p:spPr>
          <a:xfrm>
            <a:off x="2230560" y="2546280"/>
            <a:ext cx="90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GB" sz="2800" spc="-1" strike="noStrike">
                <a:solidFill>
                  <a:srgbClr val="7f7f7f"/>
                </a:solidFill>
                <a:latin typeface="Arial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TextBox 25"/>
          <p:cNvSpPr/>
          <p:nvPr/>
        </p:nvSpPr>
        <p:spPr>
          <a:xfrm>
            <a:off x="4510080" y="2546280"/>
            <a:ext cx="90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TextBox 26"/>
          <p:cNvSpPr/>
          <p:nvPr/>
        </p:nvSpPr>
        <p:spPr>
          <a:xfrm>
            <a:off x="6740640" y="2546280"/>
            <a:ext cx="90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TextBox 27"/>
          <p:cNvSpPr/>
          <p:nvPr/>
        </p:nvSpPr>
        <p:spPr>
          <a:xfrm>
            <a:off x="9021600" y="2546280"/>
            <a:ext cx="90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GB" sz="2800" spc="-1" strike="noStrike">
                <a:solidFill>
                  <a:srgbClr val="7f7f7f"/>
                </a:solidFill>
                <a:latin typeface="Arial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5" name="组合 11"/>
          <p:cNvGrpSpPr/>
          <p:nvPr/>
        </p:nvGrpSpPr>
        <p:grpSpPr>
          <a:xfrm>
            <a:off x="1511280" y="4164120"/>
            <a:ext cx="2338560" cy="714600"/>
            <a:chOff x="1511280" y="4164120"/>
            <a:chExt cx="2338560" cy="714600"/>
          </a:xfrm>
        </p:grpSpPr>
        <p:sp>
          <p:nvSpPr>
            <p:cNvPr id="696" name="TextBox 13@|17FFC:16777215|FBC:16777215|LFC:16777215|LBC:16777215"/>
            <p:cNvSpPr/>
            <p:nvPr/>
          </p:nvSpPr>
          <p:spPr>
            <a:xfrm>
              <a:off x="1511280" y="4164120"/>
              <a:ext cx="233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关键词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TextBox 13@|17FFC:16777215|FBC:16777215|LFC:16777215|LBC:16777215"/>
            <p:cNvSpPr/>
            <p:nvPr/>
          </p:nvSpPr>
          <p:spPr>
            <a:xfrm>
              <a:off x="2062080" y="4513320"/>
              <a:ext cx="13845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8" name="组合 14"/>
          <p:cNvGrpSpPr/>
          <p:nvPr/>
        </p:nvGrpSpPr>
        <p:grpSpPr>
          <a:xfrm>
            <a:off x="3792600" y="4164120"/>
            <a:ext cx="2338200" cy="714600"/>
            <a:chOff x="3792600" y="4164120"/>
            <a:chExt cx="2338200" cy="714600"/>
          </a:xfrm>
        </p:grpSpPr>
        <p:sp>
          <p:nvSpPr>
            <p:cNvPr id="699" name="TextBox 13@|17FFC:16777215|FBC:16777215|LFC:16777215|LBC:16777215"/>
            <p:cNvSpPr/>
            <p:nvPr/>
          </p:nvSpPr>
          <p:spPr>
            <a:xfrm>
              <a:off x="3792600" y="4164120"/>
              <a:ext cx="2338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关键词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TextBox 13@|17FFC:16777215|FBC:16777215|LFC:16777215|LBC:16777215"/>
            <p:cNvSpPr/>
            <p:nvPr/>
          </p:nvSpPr>
          <p:spPr>
            <a:xfrm>
              <a:off x="4343400" y="4513320"/>
              <a:ext cx="13842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1" name="组合 17"/>
          <p:cNvGrpSpPr/>
          <p:nvPr/>
        </p:nvGrpSpPr>
        <p:grpSpPr>
          <a:xfrm>
            <a:off x="6022800" y="4164120"/>
            <a:ext cx="2337120" cy="714600"/>
            <a:chOff x="6022800" y="4164120"/>
            <a:chExt cx="2337120" cy="714600"/>
          </a:xfrm>
        </p:grpSpPr>
        <p:sp>
          <p:nvSpPr>
            <p:cNvPr id="702" name="TextBox 13@|17FFC:16777215|FBC:16777215|LFC:16777215|LBC:16777215"/>
            <p:cNvSpPr/>
            <p:nvPr/>
          </p:nvSpPr>
          <p:spPr>
            <a:xfrm>
              <a:off x="6022800" y="4164120"/>
              <a:ext cx="2337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关键词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TextBox 13@|17FFC:16777215|FBC:16777215|LFC:16777215|LBC:16777215"/>
            <p:cNvSpPr/>
            <p:nvPr/>
          </p:nvSpPr>
          <p:spPr>
            <a:xfrm>
              <a:off x="6572160" y="4513320"/>
              <a:ext cx="13845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4" name="组合 20"/>
          <p:cNvGrpSpPr/>
          <p:nvPr/>
        </p:nvGrpSpPr>
        <p:grpSpPr>
          <a:xfrm>
            <a:off x="8302680" y="4164120"/>
            <a:ext cx="2338200" cy="714600"/>
            <a:chOff x="8302680" y="4164120"/>
            <a:chExt cx="2338200" cy="714600"/>
          </a:xfrm>
        </p:grpSpPr>
        <p:sp>
          <p:nvSpPr>
            <p:cNvPr id="705" name="TextBox 13@|17FFC:16777215|FBC:16777215|LFC:16777215|LBC:16777215"/>
            <p:cNvSpPr/>
            <p:nvPr/>
          </p:nvSpPr>
          <p:spPr>
            <a:xfrm>
              <a:off x="8302680" y="4164120"/>
              <a:ext cx="2338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关键词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TextBox 13@|17FFC:16777215|FBC:16777215|LFC:16777215|LBC:16777215"/>
            <p:cNvSpPr/>
            <p:nvPr/>
          </p:nvSpPr>
          <p:spPr>
            <a:xfrm>
              <a:off x="8853480" y="4513320"/>
              <a:ext cx="13842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random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22"/>
          <p:cNvSpPr/>
          <p:nvPr/>
        </p:nvSpPr>
        <p:spPr>
          <a:xfrm>
            <a:off x="0" y="3130560"/>
            <a:ext cx="12179160" cy="2903400"/>
          </a:xfrm>
          <a:prstGeom prst="rect">
            <a:avLst/>
          </a:prstGeom>
          <a:solidFill>
            <a:srgbClr val="00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Hexagon 43"/>
          <p:cNvSpPr/>
          <p:nvPr/>
        </p:nvSpPr>
        <p:spPr>
          <a:xfrm>
            <a:off x="619200" y="3575160"/>
            <a:ext cx="1319040" cy="1136520"/>
          </a:xfrm>
          <a:prstGeom prst="hexagon">
            <a:avLst>
              <a:gd name="adj" fmla="val 25001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Freeform 13"/>
          <p:cNvSpPr/>
          <p:nvPr/>
        </p:nvSpPr>
        <p:spPr>
          <a:xfrm>
            <a:off x="927000" y="3917880"/>
            <a:ext cx="703440" cy="420840"/>
          </a:xfrm>
          <a:custGeom>
            <a:avLst/>
            <a:gdLst/>
            <a:ahLst/>
            <a:rect l="l" t="t" r="r" b="b"/>
            <a:pathLst>
              <a:path w="256" h="154">
                <a:moveTo>
                  <a:pt x="226" y="131"/>
                </a:moveTo>
                <a:cubicBezTo>
                  <a:pt x="226" y="131"/>
                  <a:pt x="226" y="131"/>
                  <a:pt x="226" y="130"/>
                </a:cubicBezTo>
                <a:cubicBezTo>
                  <a:pt x="226" y="10"/>
                  <a:pt x="226" y="10"/>
                  <a:pt x="226" y="10"/>
                </a:cubicBezTo>
                <a:cubicBezTo>
                  <a:pt x="226" y="5"/>
                  <a:pt x="222" y="0"/>
                  <a:pt x="217" y="0"/>
                </a:cubicBezTo>
                <a:cubicBezTo>
                  <a:pt x="38" y="0"/>
                  <a:pt x="38" y="0"/>
                  <a:pt x="38" y="0"/>
                </a:cubicBezTo>
                <a:cubicBezTo>
                  <a:pt x="33" y="0"/>
                  <a:pt x="29" y="5"/>
                  <a:pt x="29" y="10"/>
                </a:cubicBezTo>
                <a:cubicBezTo>
                  <a:pt x="29" y="130"/>
                  <a:pt x="29" y="130"/>
                  <a:pt x="29" y="130"/>
                </a:cubicBezTo>
                <a:cubicBezTo>
                  <a:pt x="29" y="131"/>
                  <a:pt x="29" y="131"/>
                  <a:pt x="29" y="131"/>
                </a:cubicBezTo>
                <a:cubicBezTo>
                  <a:pt x="0" y="138"/>
                  <a:pt x="0" y="138"/>
                  <a:pt x="0" y="138"/>
                </a:cubicBezTo>
                <a:cubicBezTo>
                  <a:pt x="3" y="154"/>
                  <a:pt x="3" y="154"/>
                  <a:pt x="3" y="154"/>
                </a:cubicBezTo>
                <a:cubicBezTo>
                  <a:pt x="253" y="154"/>
                  <a:pt x="253" y="154"/>
                  <a:pt x="253" y="154"/>
                </a:cubicBezTo>
                <a:cubicBezTo>
                  <a:pt x="256" y="138"/>
                  <a:pt x="256" y="138"/>
                  <a:pt x="256" y="138"/>
                </a:cubicBezTo>
                <a:lnTo>
                  <a:pt x="226" y="131"/>
                </a:lnTo>
                <a:close/>
                <a:moveTo>
                  <a:pt x="207" y="119"/>
                </a:moveTo>
                <a:cubicBezTo>
                  <a:pt x="48" y="119"/>
                  <a:pt x="48" y="119"/>
                  <a:pt x="48" y="119"/>
                </a:cubicBezTo>
                <a:cubicBezTo>
                  <a:pt x="48" y="20"/>
                  <a:pt x="48" y="20"/>
                  <a:pt x="48" y="20"/>
                </a:cubicBezTo>
                <a:cubicBezTo>
                  <a:pt x="207" y="20"/>
                  <a:pt x="207" y="20"/>
                  <a:pt x="207" y="20"/>
                </a:cubicBezTo>
                <a:lnTo>
                  <a:pt x="207" y="1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Hexagon 46"/>
          <p:cNvSpPr/>
          <p:nvPr/>
        </p:nvSpPr>
        <p:spPr>
          <a:xfrm>
            <a:off x="2984400" y="3575160"/>
            <a:ext cx="1317600" cy="1136520"/>
          </a:xfrm>
          <a:prstGeom prst="hexagon">
            <a:avLst>
              <a:gd name="adj" fmla="val 25001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Freeform 76"/>
          <p:cNvSpPr/>
          <p:nvPr/>
        </p:nvSpPr>
        <p:spPr>
          <a:xfrm>
            <a:off x="3446640" y="3811680"/>
            <a:ext cx="393480" cy="527040"/>
          </a:xfrm>
          <a:custGeom>
            <a:avLst/>
            <a:gdLst/>
            <a:ahLst/>
            <a:rect l="l" t="t" r="r" b="b"/>
            <a:pathLst>
              <a:path w="199" h="268">
                <a:moveTo>
                  <a:pt x="166" y="135"/>
                </a:moveTo>
                <a:cubicBezTo>
                  <a:pt x="166" y="65"/>
                  <a:pt x="166" y="65"/>
                  <a:pt x="166" y="65"/>
                </a:cubicBezTo>
                <a:cubicBezTo>
                  <a:pt x="166" y="33"/>
                  <a:pt x="143" y="0"/>
                  <a:pt x="99" y="0"/>
                </a:cubicBezTo>
                <a:cubicBezTo>
                  <a:pt x="55" y="0"/>
                  <a:pt x="32" y="33"/>
                  <a:pt x="32" y="65"/>
                </a:cubicBezTo>
                <a:cubicBezTo>
                  <a:pt x="32" y="108"/>
                  <a:pt x="32" y="108"/>
                  <a:pt x="32" y="108"/>
                </a:cubicBezTo>
                <a:cubicBezTo>
                  <a:pt x="60" y="108"/>
                  <a:pt x="60" y="108"/>
                  <a:pt x="60" y="108"/>
                </a:cubicBezTo>
                <a:cubicBezTo>
                  <a:pt x="60" y="65"/>
                  <a:pt x="60" y="65"/>
                  <a:pt x="60" y="65"/>
                </a:cubicBezTo>
                <a:cubicBezTo>
                  <a:pt x="60" y="47"/>
                  <a:pt x="73" y="28"/>
                  <a:pt x="99" y="28"/>
                </a:cubicBezTo>
                <a:cubicBezTo>
                  <a:pt x="125" y="28"/>
                  <a:pt x="138" y="47"/>
                  <a:pt x="138" y="65"/>
                </a:cubicBezTo>
                <a:cubicBezTo>
                  <a:pt x="138" y="135"/>
                  <a:pt x="138" y="135"/>
                  <a:pt x="138" y="135"/>
                </a:cubicBezTo>
                <a:cubicBezTo>
                  <a:pt x="0" y="135"/>
                  <a:pt x="0" y="135"/>
                  <a:pt x="0" y="135"/>
                </a:cubicBezTo>
                <a:cubicBezTo>
                  <a:pt x="0" y="268"/>
                  <a:pt x="0" y="268"/>
                  <a:pt x="0" y="268"/>
                </a:cubicBezTo>
                <a:cubicBezTo>
                  <a:pt x="199" y="268"/>
                  <a:pt x="199" y="268"/>
                  <a:pt x="199" y="268"/>
                </a:cubicBezTo>
                <a:cubicBezTo>
                  <a:pt x="199" y="135"/>
                  <a:pt x="199" y="135"/>
                  <a:pt x="199" y="135"/>
                </a:cubicBezTo>
                <a:lnTo>
                  <a:pt x="166" y="1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Hexagon 49"/>
          <p:cNvSpPr/>
          <p:nvPr/>
        </p:nvSpPr>
        <p:spPr>
          <a:xfrm>
            <a:off x="5348160" y="3575160"/>
            <a:ext cx="1317600" cy="1136520"/>
          </a:xfrm>
          <a:prstGeom prst="hexagon">
            <a:avLst>
              <a:gd name="adj" fmla="val 25001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Freeform 14"/>
          <p:cNvSpPr/>
          <p:nvPr/>
        </p:nvSpPr>
        <p:spPr>
          <a:xfrm>
            <a:off x="5872320" y="3851280"/>
            <a:ext cx="303120" cy="585720"/>
          </a:xfrm>
          <a:custGeom>
            <a:avLst/>
            <a:gdLst/>
            <a:ahLst/>
            <a:rect l="l" t="t" r="r" b="b"/>
            <a:pathLst>
              <a:path w="132" h="256">
                <a:moveTo>
                  <a:pt x="132" y="33"/>
                </a:moveTo>
                <a:cubicBezTo>
                  <a:pt x="132" y="33"/>
                  <a:pt x="131" y="16"/>
                  <a:pt x="127" y="11"/>
                </a:cubicBezTo>
                <a:cubicBezTo>
                  <a:pt x="122" y="6"/>
                  <a:pt x="116" y="5"/>
                  <a:pt x="112" y="4"/>
                </a:cubicBezTo>
                <a:cubicBezTo>
                  <a:pt x="107" y="3"/>
                  <a:pt x="98" y="1"/>
                  <a:pt x="83" y="1"/>
                </a:cubicBezTo>
                <a:cubicBezTo>
                  <a:pt x="76" y="0"/>
                  <a:pt x="71" y="0"/>
                  <a:pt x="65" y="0"/>
                </a:cubicBezTo>
                <a:cubicBezTo>
                  <a:pt x="61" y="0"/>
                  <a:pt x="56" y="0"/>
                  <a:pt x="5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38" y="1"/>
                  <a:pt x="30" y="1"/>
                  <a:pt x="27" y="2"/>
                </a:cubicBezTo>
                <a:cubicBezTo>
                  <a:pt x="26" y="2"/>
                  <a:pt x="25" y="2"/>
                  <a:pt x="25" y="2"/>
                </a:cubicBezTo>
                <a:cubicBezTo>
                  <a:pt x="25" y="2"/>
                  <a:pt x="24" y="2"/>
                  <a:pt x="23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17" y="4"/>
                  <a:pt x="14" y="5"/>
                </a:cubicBezTo>
                <a:cubicBezTo>
                  <a:pt x="9" y="7"/>
                  <a:pt x="6" y="9"/>
                  <a:pt x="3" y="13"/>
                </a:cubicBezTo>
                <a:cubicBezTo>
                  <a:pt x="1" y="17"/>
                  <a:pt x="1" y="23"/>
                  <a:pt x="0" y="25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08"/>
                  <a:pt x="0" y="208"/>
                  <a:pt x="0" y="208"/>
                </a:cubicBezTo>
                <a:cubicBezTo>
                  <a:pt x="1" y="225"/>
                  <a:pt x="1" y="225"/>
                  <a:pt x="1" y="225"/>
                </a:cubicBezTo>
                <a:cubicBezTo>
                  <a:pt x="1" y="225"/>
                  <a:pt x="4" y="242"/>
                  <a:pt x="7" y="246"/>
                </a:cubicBezTo>
                <a:cubicBezTo>
                  <a:pt x="10" y="249"/>
                  <a:pt x="14" y="251"/>
                  <a:pt x="20" y="253"/>
                </a:cubicBezTo>
                <a:cubicBezTo>
                  <a:pt x="21" y="253"/>
                  <a:pt x="22" y="253"/>
                  <a:pt x="22" y="253"/>
                </a:cubicBezTo>
                <a:cubicBezTo>
                  <a:pt x="27" y="254"/>
                  <a:pt x="30" y="255"/>
                  <a:pt x="43" y="255"/>
                </a:cubicBezTo>
                <a:cubicBezTo>
                  <a:pt x="44" y="255"/>
                  <a:pt x="45" y="255"/>
                  <a:pt x="46" y="255"/>
                </a:cubicBezTo>
                <a:cubicBezTo>
                  <a:pt x="52" y="256"/>
                  <a:pt x="57" y="256"/>
                  <a:pt x="64" y="256"/>
                </a:cubicBezTo>
                <a:cubicBezTo>
                  <a:pt x="69" y="256"/>
                  <a:pt x="75" y="256"/>
                  <a:pt x="81" y="256"/>
                </a:cubicBezTo>
                <a:cubicBezTo>
                  <a:pt x="104" y="254"/>
                  <a:pt x="115" y="253"/>
                  <a:pt x="122" y="248"/>
                </a:cubicBezTo>
                <a:cubicBezTo>
                  <a:pt x="128" y="244"/>
                  <a:pt x="130" y="237"/>
                  <a:pt x="131" y="232"/>
                </a:cubicBezTo>
                <a:cubicBezTo>
                  <a:pt x="131" y="232"/>
                  <a:pt x="131" y="232"/>
                  <a:pt x="131" y="232"/>
                </a:cubicBezTo>
                <a:cubicBezTo>
                  <a:pt x="132" y="226"/>
                  <a:pt x="132" y="211"/>
                  <a:pt x="132" y="211"/>
                </a:cubicBezTo>
                <a:lnTo>
                  <a:pt x="132" y="33"/>
                </a:lnTo>
                <a:close/>
                <a:moveTo>
                  <a:pt x="66" y="243"/>
                </a:moveTo>
                <a:cubicBezTo>
                  <a:pt x="62" y="243"/>
                  <a:pt x="59" y="240"/>
                  <a:pt x="59" y="236"/>
                </a:cubicBezTo>
                <a:cubicBezTo>
                  <a:pt x="59" y="232"/>
                  <a:pt x="62" y="229"/>
                  <a:pt x="66" y="229"/>
                </a:cubicBezTo>
                <a:cubicBezTo>
                  <a:pt x="70" y="229"/>
                  <a:pt x="73" y="232"/>
                  <a:pt x="73" y="236"/>
                </a:cubicBezTo>
                <a:cubicBezTo>
                  <a:pt x="73" y="240"/>
                  <a:pt x="70" y="243"/>
                  <a:pt x="66" y="243"/>
                </a:cubicBezTo>
                <a:close/>
                <a:moveTo>
                  <a:pt x="121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11" y="30"/>
                  <a:pt x="11" y="30"/>
                  <a:pt x="11" y="30"/>
                </a:cubicBezTo>
                <a:cubicBezTo>
                  <a:pt x="121" y="30"/>
                  <a:pt x="121" y="30"/>
                  <a:pt x="121" y="30"/>
                </a:cubicBezTo>
                <a:lnTo>
                  <a:pt x="121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Hexagon 50"/>
          <p:cNvSpPr/>
          <p:nvPr/>
        </p:nvSpPr>
        <p:spPr>
          <a:xfrm>
            <a:off x="7711920" y="3575160"/>
            <a:ext cx="1317960" cy="1136520"/>
          </a:xfrm>
          <a:prstGeom prst="hexagon">
            <a:avLst>
              <a:gd name="adj" fmla="val 25007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Freeform 84"/>
          <p:cNvSpPr/>
          <p:nvPr/>
        </p:nvSpPr>
        <p:spPr>
          <a:xfrm>
            <a:off x="8124840" y="3882960"/>
            <a:ext cx="492120" cy="490680"/>
          </a:xfrm>
          <a:custGeom>
            <a:avLst/>
            <a:gdLst/>
            <a:ahLst/>
            <a:rect l="l" t="t" r="r" b="b"/>
            <a:pathLst>
              <a:path w="276" h="276">
                <a:moveTo>
                  <a:pt x="273" y="223"/>
                </a:moveTo>
                <a:cubicBezTo>
                  <a:pt x="276" y="219"/>
                  <a:pt x="275" y="213"/>
                  <a:pt x="272" y="209"/>
                </a:cubicBezTo>
                <a:cubicBezTo>
                  <a:pt x="271" y="209"/>
                  <a:pt x="271" y="209"/>
                  <a:pt x="270" y="208"/>
                </a:cubicBezTo>
                <a:cubicBezTo>
                  <a:pt x="270" y="208"/>
                  <a:pt x="270" y="208"/>
                  <a:pt x="270" y="208"/>
                </a:cubicBezTo>
                <a:cubicBezTo>
                  <a:pt x="212" y="167"/>
                  <a:pt x="212" y="167"/>
                  <a:pt x="212" y="167"/>
                </a:cubicBezTo>
                <a:cubicBezTo>
                  <a:pt x="212" y="167"/>
                  <a:pt x="212" y="167"/>
                  <a:pt x="212" y="167"/>
                </a:cubicBezTo>
                <a:cubicBezTo>
                  <a:pt x="208" y="164"/>
                  <a:pt x="203" y="164"/>
                  <a:pt x="199" y="168"/>
                </a:cubicBezTo>
                <a:cubicBezTo>
                  <a:pt x="199" y="168"/>
                  <a:pt x="199" y="168"/>
                  <a:pt x="198" y="169"/>
                </a:cubicBezTo>
                <a:cubicBezTo>
                  <a:pt x="198" y="169"/>
                  <a:pt x="198" y="169"/>
                  <a:pt x="198" y="169"/>
                </a:cubicBezTo>
                <a:cubicBezTo>
                  <a:pt x="198" y="169"/>
                  <a:pt x="198" y="169"/>
                  <a:pt x="198" y="170"/>
                </a:cubicBezTo>
                <a:cubicBezTo>
                  <a:pt x="194" y="175"/>
                  <a:pt x="194" y="176"/>
                  <a:pt x="191" y="181"/>
                </a:cubicBezTo>
                <a:cubicBezTo>
                  <a:pt x="186" y="188"/>
                  <a:pt x="181" y="199"/>
                  <a:pt x="176" y="211"/>
                </a:cubicBezTo>
                <a:cubicBezTo>
                  <a:pt x="160" y="208"/>
                  <a:pt x="135" y="194"/>
                  <a:pt x="108" y="168"/>
                </a:cubicBezTo>
                <a:cubicBezTo>
                  <a:pt x="82" y="141"/>
                  <a:pt x="68" y="116"/>
                  <a:pt x="65" y="100"/>
                </a:cubicBezTo>
                <a:cubicBezTo>
                  <a:pt x="77" y="95"/>
                  <a:pt x="88" y="90"/>
                  <a:pt x="95" y="85"/>
                </a:cubicBezTo>
                <a:cubicBezTo>
                  <a:pt x="100" y="82"/>
                  <a:pt x="101" y="82"/>
                  <a:pt x="107" y="78"/>
                </a:cubicBezTo>
                <a:cubicBezTo>
                  <a:pt x="107" y="78"/>
                  <a:pt x="107" y="78"/>
                  <a:pt x="107" y="78"/>
                </a:cubicBezTo>
                <a:cubicBezTo>
                  <a:pt x="107" y="78"/>
                  <a:pt x="107" y="78"/>
                  <a:pt x="107" y="78"/>
                </a:cubicBezTo>
                <a:cubicBezTo>
                  <a:pt x="108" y="77"/>
                  <a:pt x="108" y="77"/>
                  <a:pt x="108" y="77"/>
                </a:cubicBezTo>
                <a:cubicBezTo>
                  <a:pt x="112" y="73"/>
                  <a:pt x="112" y="68"/>
                  <a:pt x="109" y="64"/>
                </a:cubicBezTo>
                <a:cubicBezTo>
                  <a:pt x="109" y="64"/>
                  <a:pt x="109" y="64"/>
                  <a:pt x="109" y="64"/>
                </a:cubicBezTo>
                <a:cubicBezTo>
                  <a:pt x="68" y="6"/>
                  <a:pt x="68" y="6"/>
                  <a:pt x="68" y="6"/>
                </a:cubicBezTo>
                <a:cubicBezTo>
                  <a:pt x="68" y="6"/>
                  <a:pt x="68" y="6"/>
                  <a:pt x="68" y="6"/>
                </a:cubicBezTo>
                <a:cubicBezTo>
                  <a:pt x="67" y="5"/>
                  <a:pt x="67" y="5"/>
                  <a:pt x="67" y="4"/>
                </a:cubicBezTo>
                <a:cubicBezTo>
                  <a:pt x="63" y="1"/>
                  <a:pt x="57" y="0"/>
                  <a:pt x="53" y="3"/>
                </a:cubicBezTo>
                <a:cubicBezTo>
                  <a:pt x="26" y="23"/>
                  <a:pt x="0" y="44"/>
                  <a:pt x="4" y="68"/>
                </a:cubicBezTo>
                <a:cubicBezTo>
                  <a:pt x="7" y="95"/>
                  <a:pt x="39" y="154"/>
                  <a:pt x="81" y="195"/>
                </a:cubicBezTo>
                <a:cubicBezTo>
                  <a:pt x="122" y="237"/>
                  <a:pt x="181" y="269"/>
                  <a:pt x="208" y="272"/>
                </a:cubicBezTo>
                <a:cubicBezTo>
                  <a:pt x="233" y="276"/>
                  <a:pt x="254" y="250"/>
                  <a:pt x="273" y="22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Hexagon 51"/>
          <p:cNvSpPr/>
          <p:nvPr/>
        </p:nvSpPr>
        <p:spPr>
          <a:xfrm>
            <a:off x="10152000" y="3643200"/>
            <a:ext cx="1317600" cy="1136880"/>
          </a:xfrm>
          <a:prstGeom prst="hexagon">
            <a:avLst>
              <a:gd name="adj" fmla="val 24993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Freeform 229"/>
          <p:cNvSpPr/>
          <p:nvPr/>
        </p:nvSpPr>
        <p:spPr>
          <a:xfrm flipV="1">
            <a:off x="10601280" y="4005360"/>
            <a:ext cx="417600" cy="412560"/>
          </a:xfrm>
          <a:custGeom>
            <a:avLst/>
            <a:gdLst/>
            <a:ahLst/>
            <a:rect l="l" t="t" r="r" b="b"/>
            <a:pathLst>
              <a:path w="215" h="213">
                <a:moveTo>
                  <a:pt x="207" y="24"/>
                </a:moveTo>
                <a:cubicBezTo>
                  <a:pt x="186" y="24"/>
                  <a:pt x="169" y="23"/>
                  <a:pt x="157" y="20"/>
                </a:cubicBezTo>
                <a:cubicBezTo>
                  <a:pt x="139" y="12"/>
                  <a:pt x="115" y="7"/>
                  <a:pt x="97" y="5"/>
                </a:cubicBezTo>
                <a:cubicBezTo>
                  <a:pt x="64" y="0"/>
                  <a:pt x="50" y="2"/>
                  <a:pt x="40" y="4"/>
                </a:cubicBezTo>
                <a:cubicBezTo>
                  <a:pt x="39" y="5"/>
                  <a:pt x="39" y="5"/>
                  <a:pt x="39" y="5"/>
                </a:cubicBezTo>
                <a:cubicBezTo>
                  <a:pt x="34" y="6"/>
                  <a:pt x="30" y="10"/>
                  <a:pt x="28" y="17"/>
                </a:cubicBezTo>
                <a:cubicBezTo>
                  <a:pt x="26" y="23"/>
                  <a:pt x="27" y="27"/>
                  <a:pt x="31" y="29"/>
                </a:cubicBezTo>
                <a:cubicBezTo>
                  <a:pt x="28" y="30"/>
                  <a:pt x="28" y="30"/>
                  <a:pt x="28" y="30"/>
                </a:cubicBezTo>
                <a:cubicBezTo>
                  <a:pt x="19" y="31"/>
                  <a:pt x="13" y="36"/>
                  <a:pt x="12" y="46"/>
                </a:cubicBezTo>
                <a:cubicBezTo>
                  <a:pt x="11" y="54"/>
                  <a:pt x="13" y="59"/>
                  <a:pt x="18" y="61"/>
                </a:cubicBezTo>
                <a:cubicBezTo>
                  <a:pt x="9" y="61"/>
                  <a:pt x="2" y="65"/>
                  <a:pt x="1" y="76"/>
                </a:cubicBezTo>
                <a:cubicBezTo>
                  <a:pt x="0" y="86"/>
                  <a:pt x="6" y="93"/>
                  <a:pt x="15" y="94"/>
                </a:cubicBezTo>
                <a:cubicBezTo>
                  <a:pt x="7" y="95"/>
                  <a:pt x="1" y="100"/>
                  <a:pt x="1" y="110"/>
                </a:cubicBezTo>
                <a:cubicBezTo>
                  <a:pt x="1" y="121"/>
                  <a:pt x="9" y="128"/>
                  <a:pt x="19" y="129"/>
                </a:cubicBezTo>
                <a:cubicBezTo>
                  <a:pt x="19" y="128"/>
                  <a:pt x="19" y="128"/>
                  <a:pt x="19" y="128"/>
                </a:cubicBezTo>
                <a:cubicBezTo>
                  <a:pt x="32" y="130"/>
                  <a:pt x="53" y="131"/>
                  <a:pt x="66" y="132"/>
                </a:cubicBezTo>
                <a:cubicBezTo>
                  <a:pt x="68" y="140"/>
                  <a:pt x="67" y="143"/>
                  <a:pt x="64" y="151"/>
                </a:cubicBezTo>
                <a:cubicBezTo>
                  <a:pt x="52" y="164"/>
                  <a:pt x="46" y="177"/>
                  <a:pt x="48" y="195"/>
                </a:cubicBezTo>
                <a:cubicBezTo>
                  <a:pt x="48" y="201"/>
                  <a:pt x="54" y="211"/>
                  <a:pt x="59" y="212"/>
                </a:cubicBezTo>
                <a:cubicBezTo>
                  <a:pt x="67" y="213"/>
                  <a:pt x="69" y="207"/>
                  <a:pt x="75" y="198"/>
                </a:cubicBezTo>
                <a:cubicBezTo>
                  <a:pt x="81" y="188"/>
                  <a:pt x="83" y="185"/>
                  <a:pt x="90" y="173"/>
                </a:cubicBezTo>
                <a:cubicBezTo>
                  <a:pt x="97" y="162"/>
                  <a:pt x="98" y="159"/>
                  <a:pt x="123" y="141"/>
                </a:cubicBezTo>
                <a:cubicBezTo>
                  <a:pt x="146" y="125"/>
                  <a:pt x="143" y="119"/>
                  <a:pt x="169" y="114"/>
                </a:cubicBezTo>
                <a:cubicBezTo>
                  <a:pt x="174" y="114"/>
                  <a:pt x="188" y="111"/>
                  <a:pt x="207" y="111"/>
                </a:cubicBezTo>
                <a:cubicBezTo>
                  <a:pt x="211" y="111"/>
                  <a:pt x="215" y="101"/>
                  <a:pt x="215" y="68"/>
                </a:cubicBezTo>
                <a:cubicBezTo>
                  <a:pt x="215" y="34"/>
                  <a:pt x="211" y="24"/>
                  <a:pt x="207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TextBox 13"/>
          <p:cNvSpPr/>
          <p:nvPr/>
        </p:nvSpPr>
        <p:spPr>
          <a:xfrm>
            <a:off x="109440" y="496080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TextBox 13"/>
          <p:cNvSpPr/>
          <p:nvPr/>
        </p:nvSpPr>
        <p:spPr>
          <a:xfrm>
            <a:off x="285840" y="5264280"/>
            <a:ext cx="1987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TextBox 13"/>
          <p:cNvSpPr/>
          <p:nvPr/>
        </p:nvSpPr>
        <p:spPr>
          <a:xfrm>
            <a:off x="2473200" y="496080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TextBox 13"/>
          <p:cNvSpPr/>
          <p:nvPr/>
        </p:nvSpPr>
        <p:spPr>
          <a:xfrm>
            <a:off x="2649600" y="5264280"/>
            <a:ext cx="1987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extBox 13"/>
          <p:cNvSpPr/>
          <p:nvPr/>
        </p:nvSpPr>
        <p:spPr>
          <a:xfrm>
            <a:off x="4834080" y="496080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TextBox 13"/>
          <p:cNvSpPr/>
          <p:nvPr/>
        </p:nvSpPr>
        <p:spPr>
          <a:xfrm>
            <a:off x="5010120" y="5264280"/>
            <a:ext cx="1987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TextBox 13"/>
          <p:cNvSpPr/>
          <p:nvPr/>
        </p:nvSpPr>
        <p:spPr>
          <a:xfrm>
            <a:off x="7197840" y="496080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TextBox 13"/>
          <p:cNvSpPr/>
          <p:nvPr/>
        </p:nvSpPr>
        <p:spPr>
          <a:xfrm>
            <a:off x="7373880" y="5264280"/>
            <a:ext cx="1987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TextBox 13"/>
          <p:cNvSpPr/>
          <p:nvPr/>
        </p:nvSpPr>
        <p:spPr>
          <a:xfrm>
            <a:off x="9642600" y="496080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TextBox 13"/>
          <p:cNvSpPr/>
          <p:nvPr/>
        </p:nvSpPr>
        <p:spPr>
          <a:xfrm>
            <a:off x="9817200" y="5264280"/>
            <a:ext cx="1987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矩形 25"/>
          <p:cNvSpPr/>
          <p:nvPr/>
        </p:nvSpPr>
        <p:spPr>
          <a:xfrm>
            <a:off x="-9360" y="209520"/>
            <a:ext cx="142560" cy="49536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文本框 30"/>
          <p:cNvSpPr/>
          <p:nvPr/>
        </p:nvSpPr>
        <p:spPr>
          <a:xfrm>
            <a:off x="227160" y="227160"/>
            <a:ext cx="30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矩形 14"/>
          <p:cNvSpPr/>
          <p:nvPr/>
        </p:nvSpPr>
        <p:spPr>
          <a:xfrm>
            <a:off x="2216160" y="1787400"/>
            <a:ext cx="79358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5469"/>
                </a:solidFill>
                <a:latin typeface="微软雅黑"/>
                <a:ea typeface="微软雅黑"/>
              </a:rPr>
              <a:t>          </a:t>
            </a:r>
            <a:r>
              <a:rPr b="0" lang="en-US" sz="1600" spc="-1" strike="noStrike">
                <a:solidFill>
                  <a:srgbClr val="445469"/>
                </a:solidFill>
                <a:latin typeface="微软雅黑"/>
                <a:ea typeface="微软雅黑"/>
              </a:rPr>
              <a:t>We have many PowerPoint template that specially designed to help you. We have many PowerPoint template that specially designed to help you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矩形 15"/>
          <p:cNvSpPr/>
          <p:nvPr/>
        </p:nvSpPr>
        <p:spPr>
          <a:xfrm>
            <a:off x="5425920" y="13129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random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33" name="矩形 29"/>
          <p:cNvSpPr/>
          <p:nvPr/>
        </p:nvSpPr>
        <p:spPr>
          <a:xfrm>
            <a:off x="-9360" y="209520"/>
            <a:ext cx="142560" cy="495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文本框 30"/>
          <p:cNvSpPr/>
          <p:nvPr/>
        </p:nvSpPr>
        <p:spPr>
          <a:xfrm>
            <a:off x="227160" y="227160"/>
            <a:ext cx="30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Content Placeholder 2"/>
          <p:cNvSpPr/>
          <p:nvPr/>
        </p:nvSpPr>
        <p:spPr>
          <a:xfrm>
            <a:off x="1027080" y="5334120"/>
            <a:ext cx="101458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               </a:t>
            </a:r>
            <a:r>
              <a:rPr b="0" lang="en-US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We have many PowerPoint template that specially designed to help you. We have many PowerPoint template that specially designed to help you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6" name="组合 50"/>
          <p:cNvGrpSpPr/>
          <p:nvPr/>
        </p:nvGrpSpPr>
        <p:grpSpPr>
          <a:xfrm>
            <a:off x="1006560" y="1695600"/>
            <a:ext cx="10088640" cy="3283920"/>
            <a:chOff x="1006560" y="1695600"/>
            <a:chExt cx="10088640" cy="3283920"/>
          </a:xfrm>
        </p:grpSpPr>
        <p:grpSp>
          <p:nvGrpSpPr>
            <p:cNvPr id="737" name="组合 51"/>
            <p:cNvGrpSpPr/>
            <p:nvPr/>
          </p:nvGrpSpPr>
          <p:grpSpPr>
            <a:xfrm>
              <a:off x="1114920" y="1695600"/>
              <a:ext cx="9857520" cy="1583280"/>
              <a:chOff x="1114920" y="1695600"/>
              <a:chExt cx="9857520" cy="1583280"/>
            </a:xfrm>
          </p:grpSpPr>
          <p:sp>
            <p:nvSpPr>
              <p:cNvPr id="738" name="任意多边形 76"/>
              <p:cNvSpPr/>
              <p:nvPr/>
            </p:nvSpPr>
            <p:spPr>
              <a:xfrm>
                <a:off x="1114920" y="1695600"/>
                <a:ext cx="1582560" cy="1583280"/>
              </a:xfrm>
              <a:custGeom>
                <a:avLst/>
                <a:gdLst/>
                <a:ahLst/>
                <a:rect l="l" t="t" r="r" b="b"/>
                <a:pathLst>
                  <a:path w="1583117" h="1583117">
                    <a:moveTo>
                      <a:pt x="0" y="791559"/>
                    </a:moveTo>
                    <a:cubicBezTo>
                      <a:pt x="0" y="354393"/>
                      <a:pt x="354393" y="0"/>
                      <a:pt x="791559" y="0"/>
                    </a:cubicBezTo>
                    <a:cubicBezTo>
                      <a:pt x="1228725" y="0"/>
                      <a:pt x="1583118" y="354393"/>
                      <a:pt x="1583118" y="791559"/>
                    </a:cubicBezTo>
                    <a:cubicBezTo>
                      <a:pt x="1583118" y="1228725"/>
                      <a:pt x="1228725" y="1583118"/>
                      <a:pt x="791559" y="1583118"/>
                    </a:cubicBezTo>
                    <a:cubicBezTo>
                      <a:pt x="354393" y="1583118"/>
                      <a:pt x="0" y="1228725"/>
                      <a:pt x="0" y="791559"/>
                    </a:cubicBezTo>
                    <a:close/>
                  </a:path>
                </a:pathLst>
              </a:custGeom>
              <a:solidFill>
                <a:srgbClr val="9ad3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3440" rIns="241920" tIns="241920" bIns="241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9" name="任意多边形 77"/>
              <p:cNvSpPr/>
              <p:nvPr/>
            </p:nvSpPr>
            <p:spPr>
              <a:xfrm>
                <a:off x="2826000" y="2027520"/>
                <a:ext cx="919080" cy="919440"/>
              </a:xfrm>
              <a:custGeom>
                <a:avLst/>
                <a:gdLst/>
                <a:ahLst/>
                <a:rect l="l" t="t" r="r" b="b"/>
                <a:pathLst>
                  <a:path w="918207" h="918207">
                    <a:moveTo>
                      <a:pt x="121708" y="351122"/>
                    </a:moveTo>
                    <a:lnTo>
                      <a:pt x="351122" y="351122"/>
                    </a:lnTo>
                    <a:lnTo>
                      <a:pt x="351122" y="121708"/>
                    </a:lnTo>
                    <a:lnTo>
                      <a:pt x="567085" y="121708"/>
                    </a:lnTo>
                    <a:lnTo>
                      <a:pt x="567085" y="351122"/>
                    </a:lnTo>
                    <a:lnTo>
                      <a:pt x="796499" y="351122"/>
                    </a:lnTo>
                    <a:lnTo>
                      <a:pt x="796499" y="567085"/>
                    </a:lnTo>
                    <a:lnTo>
                      <a:pt x="567085" y="567085"/>
                    </a:lnTo>
                    <a:lnTo>
                      <a:pt x="567085" y="796499"/>
                    </a:lnTo>
                    <a:lnTo>
                      <a:pt x="351122" y="796499"/>
                    </a:lnTo>
                    <a:lnTo>
                      <a:pt x="351122" y="567085"/>
                    </a:lnTo>
                    <a:lnTo>
                      <a:pt x="121708" y="567085"/>
                    </a:lnTo>
                    <a:lnTo>
                      <a:pt x="121708" y="351122"/>
                    </a:lnTo>
                    <a:close/>
                  </a:path>
                </a:pathLst>
              </a:custGeom>
              <a:solidFill>
                <a:srgbClr val="84cb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351000" bIns="351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0" name="任意多边形 78"/>
              <p:cNvSpPr/>
              <p:nvPr/>
            </p:nvSpPr>
            <p:spPr>
              <a:xfrm>
                <a:off x="3873600" y="1695600"/>
                <a:ext cx="1582560" cy="1583280"/>
              </a:xfrm>
              <a:prstGeom prst="pie">
                <a:avLst/>
              </a:prstGeom>
              <a:solidFill>
                <a:srgbClr val="fadb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3440" rIns="241920" tIns="241920" bIns="241920" anchor="ctr">
                <a:normAutofit/>
              </a:bodyPr>
              <a:p>
                <a:pPr algn="ctr">
                  <a:lnSpc>
                    <a:spcPct val="90000"/>
                  </a:lnSpc>
                  <a:spcAft>
                    <a:spcPts val="349"/>
                  </a:spcAft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622760"/>
                    <a:tab algn="l" pos="4978440"/>
                    <a:tab algn="l" pos="5334120"/>
                    <a:tab algn="l" pos="5689440"/>
                    <a:tab algn="l" pos="6045120"/>
                    <a:tab algn="l" pos="6400800"/>
                    <a:tab algn="l" pos="6756480"/>
                    <a:tab algn="l" pos="711216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90000"/>
                  </a:lnSpc>
                  <a:spcAft>
                    <a:spcPts val="349"/>
                  </a:spcAft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622760"/>
                    <a:tab algn="l" pos="4978440"/>
                    <a:tab algn="l" pos="5334120"/>
                    <a:tab algn="l" pos="5689440"/>
                    <a:tab algn="l" pos="6045120"/>
                    <a:tab algn="l" pos="6400800"/>
                    <a:tab algn="l" pos="6756480"/>
                    <a:tab algn="l" pos="711216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1" name="任意多边形 79"/>
              <p:cNvSpPr/>
              <p:nvPr/>
            </p:nvSpPr>
            <p:spPr>
              <a:xfrm>
                <a:off x="5585040" y="2027520"/>
                <a:ext cx="917280" cy="919440"/>
              </a:xfrm>
              <a:custGeom>
                <a:avLst/>
                <a:gdLst/>
                <a:ahLst/>
                <a:rect l="l" t="t" r="r" b="b"/>
                <a:pathLst>
                  <a:path w="918207" h="918207">
                    <a:moveTo>
                      <a:pt x="121708" y="351122"/>
                    </a:moveTo>
                    <a:lnTo>
                      <a:pt x="351122" y="351122"/>
                    </a:lnTo>
                    <a:lnTo>
                      <a:pt x="351122" y="121708"/>
                    </a:lnTo>
                    <a:lnTo>
                      <a:pt x="567085" y="121708"/>
                    </a:lnTo>
                    <a:lnTo>
                      <a:pt x="567085" y="351122"/>
                    </a:lnTo>
                    <a:lnTo>
                      <a:pt x="796499" y="351122"/>
                    </a:lnTo>
                    <a:lnTo>
                      <a:pt x="796499" y="567085"/>
                    </a:lnTo>
                    <a:lnTo>
                      <a:pt x="567085" y="567085"/>
                    </a:lnTo>
                    <a:lnTo>
                      <a:pt x="567085" y="796499"/>
                    </a:lnTo>
                    <a:lnTo>
                      <a:pt x="351122" y="796499"/>
                    </a:lnTo>
                    <a:lnTo>
                      <a:pt x="351122" y="567085"/>
                    </a:lnTo>
                    <a:lnTo>
                      <a:pt x="121708" y="567085"/>
                    </a:lnTo>
                    <a:lnTo>
                      <a:pt x="121708" y="351122"/>
                    </a:lnTo>
                    <a:close/>
                  </a:path>
                </a:pathLst>
              </a:custGeom>
              <a:solidFill>
                <a:srgbClr val="f8d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351000" bIns="351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2" name="任意多边形 80"/>
              <p:cNvSpPr/>
              <p:nvPr/>
            </p:nvSpPr>
            <p:spPr>
              <a:xfrm>
                <a:off x="6631200" y="1695600"/>
                <a:ext cx="1582560" cy="1583280"/>
              </a:xfrm>
              <a:prstGeom prst="pie">
                <a:avLst/>
              </a:prstGeom>
              <a:solidFill>
                <a:srgbClr val="f28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3440" rIns="241920" tIns="241920" bIns="241920" anchor="ctr">
                <a:normAutofit/>
              </a:bodyPr>
              <a:p>
                <a:pPr algn="ctr">
                  <a:lnSpc>
                    <a:spcPct val="90000"/>
                  </a:lnSpc>
                  <a:spcAft>
                    <a:spcPts val="349"/>
                  </a:spcAft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622760"/>
                    <a:tab algn="l" pos="4978440"/>
                    <a:tab algn="l" pos="5334120"/>
                    <a:tab algn="l" pos="5689440"/>
                    <a:tab algn="l" pos="6045120"/>
                    <a:tab algn="l" pos="6400800"/>
                    <a:tab algn="l" pos="6756480"/>
                    <a:tab algn="l" pos="711216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90000"/>
                  </a:lnSpc>
                  <a:spcAft>
                    <a:spcPts val="349"/>
                  </a:spcAft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622760"/>
                    <a:tab algn="l" pos="4978440"/>
                    <a:tab algn="l" pos="5334120"/>
                    <a:tab algn="l" pos="5689440"/>
                    <a:tab algn="l" pos="6045120"/>
                    <a:tab algn="l" pos="6400800"/>
                    <a:tab algn="l" pos="6756480"/>
                    <a:tab algn="l" pos="711216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3" name="任意多边形 81"/>
              <p:cNvSpPr/>
              <p:nvPr/>
            </p:nvSpPr>
            <p:spPr>
              <a:xfrm>
                <a:off x="8342280" y="2027520"/>
                <a:ext cx="919080" cy="919440"/>
              </a:xfrm>
              <a:custGeom>
                <a:avLst/>
                <a:gdLst/>
                <a:ahLst/>
                <a:rect l="l" t="t" r="r" b="b"/>
                <a:pathLst>
                  <a:path w="918207" h="918207">
                    <a:moveTo>
                      <a:pt x="121708" y="189151"/>
                    </a:moveTo>
                    <a:lnTo>
                      <a:pt x="796499" y="189151"/>
                    </a:lnTo>
                    <a:lnTo>
                      <a:pt x="796499" y="405113"/>
                    </a:lnTo>
                    <a:lnTo>
                      <a:pt x="121708" y="405113"/>
                    </a:lnTo>
                    <a:lnTo>
                      <a:pt x="121708" y="189151"/>
                    </a:lnTo>
                    <a:close/>
                    <a:moveTo>
                      <a:pt x="121708" y="513094"/>
                    </a:moveTo>
                    <a:lnTo>
                      <a:pt x="796499" y="513094"/>
                    </a:lnTo>
                    <a:lnTo>
                      <a:pt x="796499" y="729056"/>
                    </a:lnTo>
                    <a:lnTo>
                      <a:pt x="121708" y="729056"/>
                    </a:lnTo>
                    <a:lnTo>
                      <a:pt x="121708" y="513094"/>
                    </a:lnTo>
                    <a:close/>
                  </a:path>
                </a:pathLst>
              </a:custGeom>
              <a:solidFill>
                <a:srgbClr val="f28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189000" bIns="18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4" name="任意多边形 82"/>
              <p:cNvSpPr/>
              <p:nvPr/>
            </p:nvSpPr>
            <p:spPr>
              <a:xfrm>
                <a:off x="9389880" y="1695600"/>
                <a:ext cx="1582560" cy="1583280"/>
              </a:xfrm>
              <a:prstGeom prst="pie">
                <a:avLst/>
              </a:prstGeom>
              <a:solidFill>
                <a:srgbClr val="b6db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3440" rIns="241920" tIns="241920" bIns="241920" anchor="ctr">
                <a:normAutofit/>
              </a:bodyPr>
              <a:p>
                <a:pPr algn="ctr">
                  <a:lnSpc>
                    <a:spcPct val="90000"/>
                  </a:lnSpc>
                  <a:spcAft>
                    <a:spcPts val="349"/>
                  </a:spcAft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622760"/>
                    <a:tab algn="l" pos="4978440"/>
                    <a:tab algn="l" pos="5334120"/>
                    <a:tab algn="l" pos="5689440"/>
                    <a:tab algn="l" pos="6045120"/>
                    <a:tab algn="l" pos="6400800"/>
                    <a:tab algn="l" pos="6756480"/>
                    <a:tab algn="l" pos="711216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90000"/>
                  </a:lnSpc>
                  <a:spcAft>
                    <a:spcPts val="349"/>
                  </a:spcAft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622760"/>
                    <a:tab algn="l" pos="4978440"/>
                    <a:tab algn="l" pos="5334120"/>
                    <a:tab algn="l" pos="5689440"/>
                    <a:tab algn="l" pos="6045120"/>
                    <a:tab algn="l" pos="6400800"/>
                    <a:tab algn="l" pos="6756480"/>
                    <a:tab algn="l" pos="711216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5" name="Freeform 6"/>
            <p:cNvSpPr/>
            <p:nvPr/>
          </p:nvSpPr>
          <p:spPr>
            <a:xfrm>
              <a:off x="1709640" y="2139840"/>
              <a:ext cx="352440" cy="376200"/>
            </a:xfrm>
            <a:custGeom>
              <a:avLst/>
              <a:gdLst/>
              <a:ahLst/>
              <a:rect l="l" t="t" r="r" b="b"/>
              <a:pathLst>
                <a:path w="376" h="401">
                  <a:moveTo>
                    <a:pt x="67" y="3"/>
                  </a:moveTo>
                  <a:cubicBezTo>
                    <a:pt x="67" y="0"/>
                    <a:pt x="62" y="0"/>
                    <a:pt x="62" y="3"/>
                  </a:cubicBezTo>
                  <a:cubicBezTo>
                    <a:pt x="52" y="85"/>
                    <a:pt x="0" y="102"/>
                    <a:pt x="0" y="159"/>
                  </a:cubicBezTo>
                  <a:cubicBezTo>
                    <a:pt x="0" y="195"/>
                    <a:pt x="29" y="223"/>
                    <a:pt x="65" y="223"/>
                  </a:cubicBezTo>
                  <a:cubicBezTo>
                    <a:pt x="100" y="223"/>
                    <a:pt x="129" y="195"/>
                    <a:pt x="129" y="159"/>
                  </a:cubicBezTo>
                  <a:cubicBezTo>
                    <a:pt x="129" y="102"/>
                    <a:pt x="77" y="85"/>
                    <a:pt x="67" y="3"/>
                  </a:cubicBezTo>
                  <a:close/>
                  <a:moveTo>
                    <a:pt x="313" y="3"/>
                  </a:moveTo>
                  <a:cubicBezTo>
                    <a:pt x="313" y="0"/>
                    <a:pt x="309" y="0"/>
                    <a:pt x="309" y="3"/>
                  </a:cubicBezTo>
                  <a:cubicBezTo>
                    <a:pt x="298" y="85"/>
                    <a:pt x="246" y="102"/>
                    <a:pt x="246" y="159"/>
                  </a:cubicBezTo>
                  <a:cubicBezTo>
                    <a:pt x="246" y="195"/>
                    <a:pt x="276" y="223"/>
                    <a:pt x="311" y="223"/>
                  </a:cubicBezTo>
                  <a:cubicBezTo>
                    <a:pt x="346" y="223"/>
                    <a:pt x="376" y="195"/>
                    <a:pt x="376" y="159"/>
                  </a:cubicBezTo>
                  <a:cubicBezTo>
                    <a:pt x="376" y="102"/>
                    <a:pt x="324" y="85"/>
                    <a:pt x="313" y="3"/>
                  </a:cubicBezTo>
                  <a:close/>
                  <a:moveTo>
                    <a:pt x="185" y="180"/>
                  </a:moveTo>
                  <a:cubicBezTo>
                    <a:pt x="175" y="263"/>
                    <a:pt x="123" y="280"/>
                    <a:pt x="123" y="337"/>
                  </a:cubicBezTo>
                  <a:cubicBezTo>
                    <a:pt x="123" y="372"/>
                    <a:pt x="153" y="401"/>
                    <a:pt x="188" y="401"/>
                  </a:cubicBezTo>
                  <a:cubicBezTo>
                    <a:pt x="223" y="401"/>
                    <a:pt x="253" y="372"/>
                    <a:pt x="253" y="337"/>
                  </a:cubicBezTo>
                  <a:cubicBezTo>
                    <a:pt x="253" y="280"/>
                    <a:pt x="200" y="263"/>
                    <a:pt x="190" y="180"/>
                  </a:cubicBezTo>
                  <a:cubicBezTo>
                    <a:pt x="190" y="178"/>
                    <a:pt x="186" y="178"/>
                    <a:pt x="185" y="1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reeform 11"/>
            <p:cNvSpPr/>
            <p:nvPr/>
          </p:nvSpPr>
          <p:spPr>
            <a:xfrm>
              <a:off x="4438800" y="2063880"/>
              <a:ext cx="455400" cy="455400"/>
            </a:xfrm>
            <a:custGeom>
              <a:avLst/>
              <a:gdLst/>
              <a:ahLst/>
              <a:rect l="l" t="t" r="r" b="b"/>
              <a:pathLst>
                <a:path w="400" h="400">
                  <a:moveTo>
                    <a:pt x="380" y="184"/>
                  </a:moveTo>
                  <a:cubicBezTo>
                    <a:pt x="376" y="184"/>
                    <a:pt x="364" y="184"/>
                    <a:pt x="360" y="184"/>
                  </a:cubicBezTo>
                  <a:cubicBezTo>
                    <a:pt x="349" y="184"/>
                    <a:pt x="340" y="191"/>
                    <a:pt x="340" y="200"/>
                  </a:cubicBezTo>
                  <a:cubicBezTo>
                    <a:pt x="340" y="209"/>
                    <a:pt x="349" y="216"/>
                    <a:pt x="360" y="216"/>
                  </a:cubicBezTo>
                  <a:cubicBezTo>
                    <a:pt x="364" y="216"/>
                    <a:pt x="376" y="216"/>
                    <a:pt x="380" y="216"/>
                  </a:cubicBezTo>
                  <a:cubicBezTo>
                    <a:pt x="391" y="216"/>
                    <a:pt x="400" y="209"/>
                    <a:pt x="400" y="200"/>
                  </a:cubicBezTo>
                  <a:cubicBezTo>
                    <a:pt x="400" y="191"/>
                    <a:pt x="391" y="184"/>
                    <a:pt x="380" y="184"/>
                  </a:cubicBezTo>
                  <a:close/>
                  <a:moveTo>
                    <a:pt x="200" y="90"/>
                  </a:moveTo>
                  <a:cubicBezTo>
                    <a:pt x="139" y="90"/>
                    <a:pt x="90" y="139"/>
                    <a:pt x="90" y="200"/>
                  </a:cubicBezTo>
                  <a:cubicBezTo>
                    <a:pt x="90" y="261"/>
                    <a:pt x="139" y="310"/>
                    <a:pt x="200" y="310"/>
                  </a:cubicBezTo>
                  <a:cubicBezTo>
                    <a:pt x="261" y="310"/>
                    <a:pt x="310" y="261"/>
                    <a:pt x="310" y="200"/>
                  </a:cubicBezTo>
                  <a:cubicBezTo>
                    <a:pt x="310" y="139"/>
                    <a:pt x="261" y="90"/>
                    <a:pt x="200" y="90"/>
                  </a:cubicBezTo>
                  <a:close/>
                  <a:moveTo>
                    <a:pt x="200" y="280"/>
                  </a:moveTo>
                  <a:cubicBezTo>
                    <a:pt x="156" y="280"/>
                    <a:pt x="120" y="244"/>
                    <a:pt x="120" y="200"/>
                  </a:cubicBezTo>
                  <a:cubicBezTo>
                    <a:pt x="120" y="156"/>
                    <a:pt x="156" y="120"/>
                    <a:pt x="200" y="120"/>
                  </a:cubicBezTo>
                  <a:cubicBezTo>
                    <a:pt x="244" y="120"/>
                    <a:pt x="280" y="156"/>
                    <a:pt x="280" y="200"/>
                  </a:cubicBezTo>
                  <a:cubicBezTo>
                    <a:pt x="280" y="244"/>
                    <a:pt x="244" y="280"/>
                    <a:pt x="200" y="280"/>
                  </a:cubicBezTo>
                  <a:close/>
                  <a:moveTo>
                    <a:pt x="59" y="200"/>
                  </a:moveTo>
                  <a:cubicBezTo>
                    <a:pt x="59" y="191"/>
                    <a:pt x="51" y="184"/>
                    <a:pt x="40" y="184"/>
                  </a:cubicBezTo>
                  <a:cubicBezTo>
                    <a:pt x="36" y="184"/>
                    <a:pt x="23" y="184"/>
                    <a:pt x="20" y="184"/>
                  </a:cubicBezTo>
                  <a:cubicBezTo>
                    <a:pt x="9" y="184"/>
                    <a:pt x="0" y="191"/>
                    <a:pt x="0" y="200"/>
                  </a:cubicBezTo>
                  <a:cubicBezTo>
                    <a:pt x="0" y="209"/>
                    <a:pt x="9" y="216"/>
                    <a:pt x="20" y="216"/>
                  </a:cubicBezTo>
                  <a:cubicBezTo>
                    <a:pt x="23" y="216"/>
                    <a:pt x="36" y="216"/>
                    <a:pt x="40" y="216"/>
                  </a:cubicBezTo>
                  <a:cubicBezTo>
                    <a:pt x="51" y="216"/>
                    <a:pt x="59" y="209"/>
                    <a:pt x="59" y="200"/>
                  </a:cubicBezTo>
                  <a:close/>
                  <a:moveTo>
                    <a:pt x="200" y="60"/>
                  </a:moveTo>
                  <a:cubicBezTo>
                    <a:pt x="209" y="60"/>
                    <a:pt x="216" y="51"/>
                    <a:pt x="216" y="40"/>
                  </a:cubicBezTo>
                  <a:cubicBezTo>
                    <a:pt x="216" y="36"/>
                    <a:pt x="216" y="24"/>
                    <a:pt x="216" y="20"/>
                  </a:cubicBezTo>
                  <a:cubicBezTo>
                    <a:pt x="216" y="9"/>
                    <a:pt x="209" y="0"/>
                    <a:pt x="200" y="0"/>
                  </a:cubicBezTo>
                  <a:cubicBezTo>
                    <a:pt x="191" y="0"/>
                    <a:pt x="184" y="9"/>
                    <a:pt x="184" y="20"/>
                  </a:cubicBezTo>
                  <a:cubicBezTo>
                    <a:pt x="184" y="24"/>
                    <a:pt x="184" y="36"/>
                    <a:pt x="184" y="40"/>
                  </a:cubicBezTo>
                  <a:cubicBezTo>
                    <a:pt x="184" y="51"/>
                    <a:pt x="191" y="60"/>
                    <a:pt x="200" y="60"/>
                  </a:cubicBezTo>
                  <a:close/>
                  <a:moveTo>
                    <a:pt x="200" y="340"/>
                  </a:moveTo>
                  <a:cubicBezTo>
                    <a:pt x="191" y="340"/>
                    <a:pt x="184" y="349"/>
                    <a:pt x="184" y="360"/>
                  </a:cubicBezTo>
                  <a:cubicBezTo>
                    <a:pt x="184" y="364"/>
                    <a:pt x="184" y="376"/>
                    <a:pt x="184" y="380"/>
                  </a:cubicBezTo>
                  <a:cubicBezTo>
                    <a:pt x="184" y="391"/>
                    <a:pt x="191" y="400"/>
                    <a:pt x="200" y="400"/>
                  </a:cubicBezTo>
                  <a:cubicBezTo>
                    <a:pt x="209" y="400"/>
                    <a:pt x="216" y="391"/>
                    <a:pt x="216" y="380"/>
                  </a:cubicBezTo>
                  <a:cubicBezTo>
                    <a:pt x="216" y="376"/>
                    <a:pt x="216" y="364"/>
                    <a:pt x="216" y="360"/>
                  </a:cubicBezTo>
                  <a:cubicBezTo>
                    <a:pt x="216" y="349"/>
                    <a:pt x="209" y="340"/>
                    <a:pt x="200" y="340"/>
                  </a:cubicBezTo>
                  <a:close/>
                  <a:moveTo>
                    <a:pt x="347" y="75"/>
                  </a:moveTo>
                  <a:cubicBezTo>
                    <a:pt x="355" y="67"/>
                    <a:pt x="356" y="56"/>
                    <a:pt x="350" y="50"/>
                  </a:cubicBezTo>
                  <a:cubicBezTo>
                    <a:pt x="344" y="44"/>
                    <a:pt x="332" y="45"/>
                    <a:pt x="324" y="53"/>
                  </a:cubicBezTo>
                  <a:cubicBezTo>
                    <a:pt x="322" y="55"/>
                    <a:pt x="313" y="64"/>
                    <a:pt x="310" y="67"/>
                  </a:cubicBezTo>
                  <a:cubicBezTo>
                    <a:pt x="303" y="74"/>
                    <a:pt x="301" y="86"/>
                    <a:pt x="308" y="92"/>
                  </a:cubicBezTo>
                  <a:cubicBezTo>
                    <a:pt x="314" y="98"/>
                    <a:pt x="325" y="97"/>
                    <a:pt x="333" y="89"/>
                  </a:cubicBezTo>
                  <a:cubicBezTo>
                    <a:pt x="335" y="87"/>
                    <a:pt x="345" y="77"/>
                    <a:pt x="347" y="75"/>
                  </a:cubicBezTo>
                  <a:close/>
                  <a:moveTo>
                    <a:pt x="66" y="311"/>
                  </a:moveTo>
                  <a:cubicBezTo>
                    <a:pt x="64" y="313"/>
                    <a:pt x="55" y="322"/>
                    <a:pt x="52" y="325"/>
                  </a:cubicBezTo>
                  <a:cubicBezTo>
                    <a:pt x="45" y="332"/>
                    <a:pt x="43" y="344"/>
                    <a:pt x="50" y="350"/>
                  </a:cubicBezTo>
                  <a:cubicBezTo>
                    <a:pt x="56" y="356"/>
                    <a:pt x="67" y="355"/>
                    <a:pt x="75" y="347"/>
                  </a:cubicBezTo>
                  <a:cubicBezTo>
                    <a:pt x="77" y="345"/>
                    <a:pt x="87" y="335"/>
                    <a:pt x="89" y="333"/>
                  </a:cubicBezTo>
                  <a:cubicBezTo>
                    <a:pt x="97" y="325"/>
                    <a:pt x="98" y="314"/>
                    <a:pt x="92" y="308"/>
                  </a:cubicBezTo>
                  <a:cubicBezTo>
                    <a:pt x="86" y="302"/>
                    <a:pt x="74" y="303"/>
                    <a:pt x="66" y="311"/>
                  </a:cubicBezTo>
                  <a:close/>
                  <a:moveTo>
                    <a:pt x="75" y="53"/>
                  </a:moveTo>
                  <a:cubicBezTo>
                    <a:pt x="67" y="45"/>
                    <a:pt x="56" y="44"/>
                    <a:pt x="50" y="50"/>
                  </a:cubicBezTo>
                  <a:cubicBezTo>
                    <a:pt x="43" y="56"/>
                    <a:pt x="45" y="67"/>
                    <a:pt x="52" y="75"/>
                  </a:cubicBezTo>
                  <a:cubicBezTo>
                    <a:pt x="55" y="77"/>
                    <a:pt x="64" y="87"/>
                    <a:pt x="66" y="89"/>
                  </a:cubicBezTo>
                  <a:cubicBezTo>
                    <a:pt x="74" y="97"/>
                    <a:pt x="86" y="98"/>
                    <a:pt x="92" y="92"/>
                  </a:cubicBezTo>
                  <a:cubicBezTo>
                    <a:pt x="98" y="86"/>
                    <a:pt x="97" y="74"/>
                    <a:pt x="89" y="67"/>
                  </a:cubicBezTo>
                  <a:cubicBezTo>
                    <a:pt x="87" y="64"/>
                    <a:pt x="77" y="55"/>
                    <a:pt x="75" y="53"/>
                  </a:cubicBezTo>
                  <a:close/>
                  <a:moveTo>
                    <a:pt x="310" y="333"/>
                  </a:moveTo>
                  <a:cubicBezTo>
                    <a:pt x="313" y="335"/>
                    <a:pt x="322" y="345"/>
                    <a:pt x="324" y="347"/>
                  </a:cubicBezTo>
                  <a:cubicBezTo>
                    <a:pt x="332" y="355"/>
                    <a:pt x="344" y="356"/>
                    <a:pt x="350" y="350"/>
                  </a:cubicBezTo>
                  <a:cubicBezTo>
                    <a:pt x="356" y="344"/>
                    <a:pt x="355" y="332"/>
                    <a:pt x="347" y="325"/>
                  </a:cubicBezTo>
                  <a:cubicBezTo>
                    <a:pt x="345" y="322"/>
                    <a:pt x="335" y="313"/>
                    <a:pt x="333" y="311"/>
                  </a:cubicBezTo>
                  <a:cubicBezTo>
                    <a:pt x="325" y="303"/>
                    <a:pt x="314" y="302"/>
                    <a:pt x="308" y="308"/>
                  </a:cubicBezTo>
                  <a:cubicBezTo>
                    <a:pt x="301" y="314"/>
                    <a:pt x="303" y="325"/>
                    <a:pt x="310" y="3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reeform 21"/>
            <p:cNvSpPr/>
            <p:nvPr/>
          </p:nvSpPr>
          <p:spPr>
            <a:xfrm>
              <a:off x="7194600" y="2077920"/>
              <a:ext cx="425160" cy="426960"/>
            </a:xfrm>
            <a:custGeom>
              <a:avLst/>
              <a:gdLst/>
              <a:ahLst/>
              <a:rect l="l" t="t" r="r" b="b"/>
              <a:pathLst>
                <a:path w="403" h="404">
                  <a:moveTo>
                    <a:pt x="390" y="150"/>
                  </a:moveTo>
                  <a:cubicBezTo>
                    <a:pt x="241" y="110"/>
                    <a:pt x="241" y="110"/>
                    <a:pt x="241" y="110"/>
                  </a:cubicBezTo>
                  <a:cubicBezTo>
                    <a:pt x="215" y="13"/>
                    <a:pt x="215" y="13"/>
                    <a:pt x="215" y="13"/>
                  </a:cubicBezTo>
                  <a:cubicBezTo>
                    <a:pt x="213" y="5"/>
                    <a:pt x="204" y="0"/>
                    <a:pt x="195" y="2"/>
                  </a:cubicBezTo>
                  <a:cubicBezTo>
                    <a:pt x="14" y="51"/>
                    <a:pt x="14" y="51"/>
                    <a:pt x="14" y="51"/>
                  </a:cubicBezTo>
                  <a:cubicBezTo>
                    <a:pt x="5" y="53"/>
                    <a:pt x="0" y="62"/>
                    <a:pt x="2" y="70"/>
                  </a:cubicBezTo>
                  <a:cubicBezTo>
                    <a:pt x="67" y="311"/>
                    <a:pt x="67" y="311"/>
                    <a:pt x="67" y="311"/>
                  </a:cubicBezTo>
                  <a:cubicBezTo>
                    <a:pt x="69" y="319"/>
                    <a:pt x="78" y="324"/>
                    <a:pt x="86" y="322"/>
                  </a:cubicBezTo>
                  <a:cubicBezTo>
                    <a:pt x="159" y="302"/>
                    <a:pt x="159" y="302"/>
                    <a:pt x="159" y="302"/>
                  </a:cubicBezTo>
                  <a:cubicBezTo>
                    <a:pt x="149" y="339"/>
                    <a:pt x="149" y="339"/>
                    <a:pt x="149" y="339"/>
                  </a:cubicBezTo>
                  <a:cubicBezTo>
                    <a:pt x="147" y="347"/>
                    <a:pt x="152" y="356"/>
                    <a:pt x="160" y="358"/>
                  </a:cubicBezTo>
                  <a:cubicBezTo>
                    <a:pt x="322" y="401"/>
                    <a:pt x="322" y="401"/>
                    <a:pt x="322" y="401"/>
                  </a:cubicBezTo>
                  <a:cubicBezTo>
                    <a:pt x="331" y="404"/>
                    <a:pt x="340" y="399"/>
                    <a:pt x="342" y="391"/>
                  </a:cubicBezTo>
                  <a:cubicBezTo>
                    <a:pt x="401" y="169"/>
                    <a:pt x="401" y="169"/>
                    <a:pt x="401" y="169"/>
                  </a:cubicBezTo>
                  <a:cubicBezTo>
                    <a:pt x="403" y="161"/>
                    <a:pt x="398" y="152"/>
                    <a:pt x="390" y="150"/>
                  </a:cubicBezTo>
                  <a:close/>
                  <a:moveTo>
                    <a:pt x="34" y="75"/>
                  </a:moveTo>
                  <a:cubicBezTo>
                    <a:pt x="191" y="33"/>
                    <a:pt x="191" y="33"/>
                    <a:pt x="191" y="33"/>
                  </a:cubicBezTo>
                  <a:cubicBezTo>
                    <a:pt x="249" y="249"/>
                    <a:pt x="249" y="249"/>
                    <a:pt x="249" y="249"/>
                  </a:cubicBezTo>
                  <a:cubicBezTo>
                    <a:pt x="92" y="291"/>
                    <a:pt x="92" y="291"/>
                    <a:pt x="92" y="291"/>
                  </a:cubicBezTo>
                  <a:lnTo>
                    <a:pt x="34" y="75"/>
                  </a:lnTo>
                  <a:close/>
                  <a:moveTo>
                    <a:pt x="315" y="371"/>
                  </a:moveTo>
                  <a:cubicBezTo>
                    <a:pt x="179" y="334"/>
                    <a:pt x="179" y="334"/>
                    <a:pt x="179" y="334"/>
                  </a:cubicBezTo>
                  <a:cubicBezTo>
                    <a:pt x="190" y="294"/>
                    <a:pt x="190" y="294"/>
                    <a:pt x="190" y="294"/>
                  </a:cubicBezTo>
                  <a:cubicBezTo>
                    <a:pt x="268" y="273"/>
                    <a:pt x="268" y="273"/>
                    <a:pt x="268" y="273"/>
                  </a:cubicBezTo>
                  <a:cubicBezTo>
                    <a:pt x="276" y="271"/>
                    <a:pt x="282" y="262"/>
                    <a:pt x="279" y="254"/>
                  </a:cubicBezTo>
                  <a:cubicBezTo>
                    <a:pt x="249" y="142"/>
                    <a:pt x="249" y="142"/>
                    <a:pt x="249" y="142"/>
                  </a:cubicBezTo>
                  <a:cubicBezTo>
                    <a:pt x="368" y="174"/>
                    <a:pt x="368" y="174"/>
                    <a:pt x="368" y="174"/>
                  </a:cubicBezTo>
                  <a:lnTo>
                    <a:pt x="315" y="3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reeform 26"/>
            <p:cNvSpPr/>
            <p:nvPr/>
          </p:nvSpPr>
          <p:spPr>
            <a:xfrm>
              <a:off x="10025280" y="2162160"/>
              <a:ext cx="318960" cy="330120"/>
            </a:xfrm>
            <a:custGeom>
              <a:avLst/>
              <a:gdLst/>
              <a:ahLst/>
              <a:rect l="l" t="t" r="r" b="b"/>
              <a:pathLst>
                <a:path w="274" h="284">
                  <a:moveTo>
                    <a:pt x="103" y="284"/>
                  </a:moveTo>
                  <a:cubicBezTo>
                    <a:pt x="94" y="284"/>
                    <a:pt x="86" y="280"/>
                    <a:pt x="80" y="273"/>
                  </a:cubicBezTo>
                  <a:cubicBezTo>
                    <a:pt x="9" y="178"/>
                    <a:pt x="9" y="178"/>
                    <a:pt x="9" y="178"/>
                  </a:cubicBezTo>
                  <a:cubicBezTo>
                    <a:pt x="0" y="166"/>
                    <a:pt x="2" y="149"/>
                    <a:pt x="14" y="139"/>
                  </a:cubicBezTo>
                  <a:cubicBezTo>
                    <a:pt x="27" y="130"/>
                    <a:pt x="44" y="133"/>
                    <a:pt x="53" y="145"/>
                  </a:cubicBezTo>
                  <a:cubicBezTo>
                    <a:pt x="100" y="207"/>
                    <a:pt x="100" y="207"/>
                    <a:pt x="100" y="207"/>
                  </a:cubicBezTo>
                  <a:cubicBezTo>
                    <a:pt x="219" y="17"/>
                    <a:pt x="219" y="17"/>
                    <a:pt x="219" y="17"/>
                  </a:cubicBezTo>
                  <a:cubicBezTo>
                    <a:pt x="227" y="4"/>
                    <a:pt x="244" y="0"/>
                    <a:pt x="257" y="8"/>
                  </a:cubicBezTo>
                  <a:cubicBezTo>
                    <a:pt x="270" y="16"/>
                    <a:pt x="274" y="33"/>
                    <a:pt x="266" y="47"/>
                  </a:cubicBezTo>
                  <a:cubicBezTo>
                    <a:pt x="126" y="271"/>
                    <a:pt x="126" y="271"/>
                    <a:pt x="126" y="271"/>
                  </a:cubicBezTo>
                  <a:cubicBezTo>
                    <a:pt x="121" y="279"/>
                    <a:pt x="113" y="283"/>
                    <a:pt x="104" y="284"/>
                  </a:cubicBezTo>
                  <a:cubicBezTo>
                    <a:pt x="104" y="284"/>
                    <a:pt x="103" y="284"/>
                    <a:pt x="103" y="2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Content Placeholder 2"/>
            <p:cNvSpPr/>
            <p:nvPr/>
          </p:nvSpPr>
          <p:spPr>
            <a:xfrm>
              <a:off x="1006560" y="3414960"/>
              <a:ext cx="18208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rmAutofit/>
            </a:bodyPr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84cbc5"/>
                  </a:solidFill>
                  <a:latin typeface="Source Sans Pro Black"/>
                </a:rPr>
                <a:t>$96,453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Content Placeholder 2"/>
            <p:cNvSpPr/>
            <p:nvPr/>
          </p:nvSpPr>
          <p:spPr>
            <a:xfrm>
              <a:off x="3755880" y="3414960"/>
              <a:ext cx="18208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rmAutofit/>
            </a:bodyPr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8d35e"/>
                  </a:solidFill>
                  <a:latin typeface="Source Sans Pro Black"/>
                </a:rPr>
                <a:t>$96,453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Content Placeholder 2"/>
            <p:cNvSpPr/>
            <p:nvPr/>
          </p:nvSpPr>
          <p:spPr>
            <a:xfrm>
              <a:off x="6540480" y="3414960"/>
              <a:ext cx="18223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rmAutofit/>
            </a:bodyPr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47264"/>
                  </a:solidFill>
                  <a:latin typeface="Source Sans Pro Black"/>
                </a:rPr>
                <a:t>$30,000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Content Placeholder 2"/>
            <p:cNvSpPr/>
            <p:nvPr/>
          </p:nvSpPr>
          <p:spPr>
            <a:xfrm>
              <a:off x="9274320" y="3414960"/>
              <a:ext cx="18208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rmAutofit/>
            </a:bodyPr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b6db86"/>
                  </a:solidFill>
                  <a:latin typeface="Source Sans Pro Black"/>
                </a:rPr>
                <a:t>$100,000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文本框 60"/>
            <p:cNvSpPr/>
            <p:nvPr/>
          </p:nvSpPr>
          <p:spPr>
            <a:xfrm>
              <a:off x="1416600" y="2662920"/>
              <a:ext cx="1000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前期筹划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文本框 61"/>
            <p:cNvSpPr/>
            <p:nvPr/>
          </p:nvSpPr>
          <p:spPr>
            <a:xfrm>
              <a:off x="4164120" y="2662920"/>
              <a:ext cx="1000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活动执行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文本框 62"/>
            <p:cNvSpPr/>
            <p:nvPr/>
          </p:nvSpPr>
          <p:spPr>
            <a:xfrm>
              <a:off x="6951240" y="2662920"/>
              <a:ext cx="1000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效果评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文本框 63"/>
            <p:cNvSpPr/>
            <p:nvPr/>
          </p:nvSpPr>
          <p:spPr>
            <a:xfrm>
              <a:off x="9680760" y="2662920"/>
              <a:ext cx="1000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客户评价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57" name="组合 64"/>
            <p:cNvGrpSpPr/>
            <p:nvPr/>
          </p:nvGrpSpPr>
          <p:grpSpPr>
            <a:xfrm>
              <a:off x="1375920" y="4089240"/>
              <a:ext cx="1097280" cy="890280"/>
              <a:chOff x="1375920" y="4089240"/>
              <a:chExt cx="1097280" cy="890280"/>
            </a:xfrm>
          </p:grpSpPr>
          <p:sp>
            <p:nvSpPr>
              <p:cNvPr id="758" name="文本框 74"/>
              <p:cNvSpPr/>
              <p:nvPr/>
            </p:nvSpPr>
            <p:spPr>
              <a:xfrm>
                <a:off x="1443960" y="4089240"/>
                <a:ext cx="946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关键词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9" name="文本框 75"/>
              <p:cNvSpPr/>
              <p:nvPr/>
            </p:nvSpPr>
            <p:spPr>
              <a:xfrm>
                <a:off x="1375920" y="4459320"/>
                <a:ext cx="1097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单击此处添加简要描述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60" name="组合 65"/>
            <p:cNvGrpSpPr/>
            <p:nvPr/>
          </p:nvGrpSpPr>
          <p:grpSpPr>
            <a:xfrm>
              <a:off x="4115880" y="4089240"/>
              <a:ext cx="1097280" cy="890280"/>
              <a:chOff x="4115880" y="4089240"/>
              <a:chExt cx="1097280" cy="890280"/>
            </a:xfrm>
          </p:grpSpPr>
          <p:sp>
            <p:nvSpPr>
              <p:cNvPr id="761" name="文本框 72"/>
              <p:cNvSpPr/>
              <p:nvPr/>
            </p:nvSpPr>
            <p:spPr>
              <a:xfrm>
                <a:off x="4183920" y="4089240"/>
                <a:ext cx="946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关键词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2" name="文本框 73"/>
              <p:cNvSpPr/>
              <p:nvPr/>
            </p:nvSpPr>
            <p:spPr>
              <a:xfrm>
                <a:off x="4115880" y="4459320"/>
                <a:ext cx="1097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单击此处添加简要描述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63" name="组合 66"/>
            <p:cNvGrpSpPr/>
            <p:nvPr/>
          </p:nvGrpSpPr>
          <p:grpSpPr>
            <a:xfrm>
              <a:off x="6951240" y="4089240"/>
              <a:ext cx="1097280" cy="890280"/>
              <a:chOff x="6951240" y="4089240"/>
              <a:chExt cx="1097280" cy="890280"/>
            </a:xfrm>
          </p:grpSpPr>
          <p:sp>
            <p:nvSpPr>
              <p:cNvPr id="764" name="文本框 70"/>
              <p:cNvSpPr/>
              <p:nvPr/>
            </p:nvSpPr>
            <p:spPr>
              <a:xfrm>
                <a:off x="7019280" y="4089240"/>
                <a:ext cx="946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关键词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5" name="文本框 71"/>
              <p:cNvSpPr/>
              <p:nvPr/>
            </p:nvSpPr>
            <p:spPr>
              <a:xfrm>
                <a:off x="6951240" y="4459320"/>
                <a:ext cx="1097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单击此处添加简要描述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66" name="组合 67"/>
            <p:cNvGrpSpPr/>
            <p:nvPr/>
          </p:nvGrpSpPr>
          <p:grpSpPr>
            <a:xfrm>
              <a:off x="9691200" y="4089240"/>
              <a:ext cx="1097280" cy="890280"/>
              <a:chOff x="9691200" y="4089240"/>
              <a:chExt cx="1097280" cy="890280"/>
            </a:xfrm>
          </p:grpSpPr>
          <p:sp>
            <p:nvSpPr>
              <p:cNvPr id="767" name="文本框 68"/>
              <p:cNvSpPr/>
              <p:nvPr/>
            </p:nvSpPr>
            <p:spPr>
              <a:xfrm>
                <a:off x="9759240" y="4089240"/>
                <a:ext cx="946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关键词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8" name="文本框 69"/>
              <p:cNvSpPr/>
              <p:nvPr/>
            </p:nvSpPr>
            <p:spPr>
              <a:xfrm>
                <a:off x="9691200" y="4459320"/>
                <a:ext cx="1097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单击此处添加简要描述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 advTm="2000">
    <p:random/>
  </p:transition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矩形 3"/>
          <p:cNvSpPr/>
          <p:nvPr/>
        </p:nvSpPr>
        <p:spPr>
          <a:xfrm>
            <a:off x="4932360" y="2249640"/>
            <a:ext cx="7259760" cy="2582640"/>
          </a:xfrm>
          <a:prstGeom prst="rect">
            <a:avLst/>
          </a:prstGeom>
          <a:solidFill>
            <a:srgbClr val="dce4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椭圆 1"/>
          <p:cNvSpPr/>
          <p:nvPr/>
        </p:nvSpPr>
        <p:spPr>
          <a:xfrm>
            <a:off x="2030400" y="1773360"/>
            <a:ext cx="3781440" cy="378288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1" name="组合 11"/>
          <p:cNvGrpSpPr/>
          <p:nvPr/>
        </p:nvGrpSpPr>
        <p:grpSpPr>
          <a:xfrm>
            <a:off x="5916600" y="2579760"/>
            <a:ext cx="6647040" cy="1667160"/>
            <a:chOff x="5916600" y="2579760"/>
            <a:chExt cx="6647040" cy="1667160"/>
          </a:xfrm>
        </p:grpSpPr>
        <p:sp>
          <p:nvSpPr>
            <p:cNvPr id="772" name="文本框 8"/>
            <p:cNvSpPr/>
            <p:nvPr/>
          </p:nvSpPr>
          <p:spPr>
            <a:xfrm>
              <a:off x="5916600" y="2579760"/>
              <a:ext cx="6136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ed7d31"/>
                  </a:solidFill>
                  <a:latin typeface="微软雅黑"/>
                  <a:ea typeface="微软雅黑"/>
                </a:rPr>
                <a:t>03 </a:t>
              </a:r>
              <a:r>
                <a:rPr b="1" lang="zh-CN" sz="5400" spc="-1" strike="noStrike">
                  <a:solidFill>
                    <a:srgbClr val="ed7d31"/>
                  </a:solidFill>
                  <a:latin typeface="微软雅黑"/>
                  <a:ea typeface="微软雅黑"/>
                </a:rPr>
                <a:t>请添加文本标题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文本框 9"/>
            <p:cNvSpPr/>
            <p:nvPr/>
          </p:nvSpPr>
          <p:spPr>
            <a:xfrm>
              <a:off x="7154640" y="3665520"/>
              <a:ext cx="540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67171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直接连接符 10"/>
            <p:cNvSpPr/>
            <p:nvPr/>
          </p:nvSpPr>
          <p:spPr>
            <a:xfrm>
              <a:off x="6095880" y="3567240"/>
              <a:ext cx="5858280" cy="0"/>
            </a:xfrm>
            <a:prstGeom prst="line">
              <a:avLst/>
            </a:prstGeom>
            <a:ln w="648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75" name="图片 4" descr=""/>
          <p:cNvPicPr/>
          <p:nvPr/>
        </p:nvPicPr>
        <p:blipFill>
          <a:blip r:embed="rId1"/>
          <a:stretch/>
        </p:blipFill>
        <p:spPr>
          <a:xfrm>
            <a:off x="2128680" y="2287440"/>
            <a:ext cx="3575160" cy="27543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random/>
  </p:transition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77" name="矩形 29"/>
          <p:cNvSpPr/>
          <p:nvPr/>
        </p:nvSpPr>
        <p:spPr>
          <a:xfrm>
            <a:off x="-9360" y="209520"/>
            <a:ext cx="142560" cy="49536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文本框 30"/>
          <p:cNvSpPr/>
          <p:nvPr/>
        </p:nvSpPr>
        <p:spPr>
          <a:xfrm>
            <a:off x="227160" y="227160"/>
            <a:ext cx="30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Oval 9"/>
          <p:cNvSpPr/>
          <p:nvPr/>
        </p:nvSpPr>
        <p:spPr>
          <a:xfrm>
            <a:off x="6357960" y="1946160"/>
            <a:ext cx="3759120" cy="375948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Oval 10"/>
          <p:cNvSpPr/>
          <p:nvPr/>
        </p:nvSpPr>
        <p:spPr>
          <a:xfrm>
            <a:off x="8593200" y="3432240"/>
            <a:ext cx="2741400" cy="274140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Oval 15"/>
          <p:cNvSpPr/>
          <p:nvPr/>
        </p:nvSpPr>
        <p:spPr>
          <a:xfrm>
            <a:off x="6357960" y="1946160"/>
            <a:ext cx="3759120" cy="3759480"/>
          </a:xfrm>
          <a:prstGeom prst="ellipse">
            <a:avLst/>
          </a:prstGeom>
          <a:solidFill>
            <a:srgbClr val="b6d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Oval 16"/>
          <p:cNvSpPr/>
          <p:nvPr/>
        </p:nvSpPr>
        <p:spPr>
          <a:xfrm>
            <a:off x="8593200" y="3432240"/>
            <a:ext cx="2741400" cy="274140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Oval 17"/>
          <p:cNvSpPr/>
          <p:nvPr/>
        </p:nvSpPr>
        <p:spPr>
          <a:xfrm>
            <a:off x="10044000" y="2004840"/>
            <a:ext cx="1395360" cy="1393920"/>
          </a:xfrm>
          <a:prstGeom prst="ellipse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Oval 18"/>
          <p:cNvSpPr/>
          <p:nvPr/>
        </p:nvSpPr>
        <p:spPr>
          <a:xfrm>
            <a:off x="6989760" y="5127480"/>
            <a:ext cx="865080" cy="865440"/>
          </a:xfrm>
          <a:prstGeom prst="ellipse">
            <a:avLst/>
          </a:prstGeom>
          <a:solidFill>
            <a:srgbClr val="ffd96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Oval 19"/>
          <p:cNvSpPr/>
          <p:nvPr/>
        </p:nvSpPr>
        <p:spPr>
          <a:xfrm>
            <a:off x="5659560" y="687240"/>
            <a:ext cx="2995560" cy="2997360"/>
          </a:xfrm>
          <a:prstGeom prst="ellipse">
            <a:avLst/>
          </a:prstGeom>
          <a:solidFill>
            <a:srgbClr val="ffd96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椭圆 10"/>
          <p:cNvSpPr/>
          <p:nvPr/>
        </p:nvSpPr>
        <p:spPr>
          <a:xfrm>
            <a:off x="1309680" y="2468520"/>
            <a:ext cx="1469880" cy="1470240"/>
          </a:xfrm>
          <a:prstGeom prst="ellipse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7" name="组合 11" descr=""/>
          <p:cNvPicPr/>
          <p:nvPr/>
        </p:nvPicPr>
        <p:blipFill>
          <a:blip r:embed="rId2"/>
          <a:stretch/>
        </p:blipFill>
        <p:spPr>
          <a:xfrm>
            <a:off x="1646280" y="2852640"/>
            <a:ext cx="798480" cy="701640"/>
          </a:xfrm>
          <a:prstGeom prst="rect">
            <a:avLst/>
          </a:prstGeom>
          <a:ln w="0">
            <a:noFill/>
          </a:ln>
        </p:spPr>
      </p:pic>
      <p:sp>
        <p:nvSpPr>
          <p:cNvPr id="788" name="矩形 15"/>
          <p:cNvSpPr/>
          <p:nvPr/>
        </p:nvSpPr>
        <p:spPr>
          <a:xfrm>
            <a:off x="1495440" y="4745160"/>
            <a:ext cx="36432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TextBox 13"/>
          <p:cNvSpPr/>
          <p:nvPr/>
        </p:nvSpPr>
        <p:spPr>
          <a:xfrm>
            <a:off x="1495440" y="442260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random/>
  </p:transition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91" name="矩形 29"/>
          <p:cNvSpPr/>
          <p:nvPr/>
        </p:nvSpPr>
        <p:spPr>
          <a:xfrm>
            <a:off x="-9360" y="209520"/>
            <a:ext cx="142560" cy="49536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文本框 30"/>
          <p:cNvSpPr/>
          <p:nvPr/>
        </p:nvSpPr>
        <p:spPr>
          <a:xfrm>
            <a:off x="227160" y="227160"/>
            <a:ext cx="30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Oval 6"/>
          <p:cNvSpPr/>
          <p:nvPr/>
        </p:nvSpPr>
        <p:spPr>
          <a:xfrm>
            <a:off x="1805040" y="1897200"/>
            <a:ext cx="1377720" cy="1379520"/>
          </a:xfrm>
          <a:prstGeom prst="ellipse">
            <a:avLst/>
          </a:prstGeom>
          <a:solidFill>
            <a:srgbClr val="9ad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Oval 30"/>
          <p:cNvSpPr/>
          <p:nvPr/>
        </p:nvSpPr>
        <p:spPr>
          <a:xfrm>
            <a:off x="1812960" y="4156200"/>
            <a:ext cx="1374840" cy="13762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Straight Connector 38"/>
          <p:cNvSpPr/>
          <p:nvPr/>
        </p:nvSpPr>
        <p:spPr>
          <a:xfrm>
            <a:off x="1812960" y="3692520"/>
            <a:ext cx="882972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Freeform 171"/>
          <p:cNvSpPr/>
          <p:nvPr/>
        </p:nvSpPr>
        <p:spPr>
          <a:xfrm>
            <a:off x="2244600" y="2340000"/>
            <a:ext cx="498600" cy="477720"/>
          </a:xfrm>
          <a:custGeom>
            <a:avLst/>
            <a:gdLst/>
            <a:ahLst/>
            <a:rect l="l" t="t" r="r" b="b"/>
            <a:pathLst>
              <a:path w="308" h="296">
                <a:moveTo>
                  <a:pt x="228" y="218"/>
                </a:moveTo>
                <a:cubicBezTo>
                  <a:pt x="224" y="215"/>
                  <a:pt x="224" y="215"/>
                  <a:pt x="224" y="215"/>
                </a:cubicBezTo>
                <a:cubicBezTo>
                  <a:pt x="228" y="212"/>
                  <a:pt x="228" y="212"/>
                  <a:pt x="228" y="212"/>
                </a:cubicBezTo>
                <a:cubicBezTo>
                  <a:pt x="230" y="212"/>
                  <a:pt x="230" y="212"/>
                  <a:pt x="230" y="212"/>
                </a:cubicBezTo>
                <a:cubicBezTo>
                  <a:pt x="232" y="212"/>
                  <a:pt x="263" y="210"/>
                  <a:pt x="278" y="209"/>
                </a:cubicBezTo>
                <a:cubicBezTo>
                  <a:pt x="295" y="197"/>
                  <a:pt x="292" y="183"/>
                  <a:pt x="288" y="176"/>
                </a:cubicBezTo>
                <a:cubicBezTo>
                  <a:pt x="287" y="176"/>
                  <a:pt x="285" y="176"/>
                  <a:pt x="284" y="176"/>
                </a:cubicBezTo>
                <a:cubicBezTo>
                  <a:pt x="283" y="176"/>
                  <a:pt x="283" y="176"/>
                  <a:pt x="283" y="176"/>
                </a:cubicBezTo>
                <a:cubicBezTo>
                  <a:pt x="283" y="176"/>
                  <a:pt x="283" y="176"/>
                  <a:pt x="283" y="176"/>
                </a:cubicBezTo>
                <a:cubicBezTo>
                  <a:pt x="278" y="176"/>
                  <a:pt x="231" y="174"/>
                  <a:pt x="229" y="174"/>
                </a:cubicBezTo>
                <a:cubicBezTo>
                  <a:pt x="226" y="174"/>
                  <a:pt x="226" y="174"/>
                  <a:pt x="226" y="174"/>
                </a:cubicBezTo>
                <a:cubicBezTo>
                  <a:pt x="222" y="171"/>
                  <a:pt x="222" y="171"/>
                  <a:pt x="222" y="171"/>
                </a:cubicBezTo>
                <a:cubicBezTo>
                  <a:pt x="226" y="168"/>
                  <a:pt x="226" y="168"/>
                  <a:pt x="226" y="168"/>
                </a:cubicBezTo>
                <a:cubicBezTo>
                  <a:pt x="228" y="168"/>
                  <a:pt x="228" y="168"/>
                  <a:pt x="228" y="168"/>
                </a:cubicBezTo>
                <a:cubicBezTo>
                  <a:pt x="231" y="168"/>
                  <a:pt x="280" y="164"/>
                  <a:pt x="284" y="164"/>
                </a:cubicBezTo>
                <a:cubicBezTo>
                  <a:pt x="290" y="164"/>
                  <a:pt x="292" y="164"/>
                  <a:pt x="292" y="164"/>
                </a:cubicBezTo>
                <a:cubicBezTo>
                  <a:pt x="292" y="164"/>
                  <a:pt x="292" y="164"/>
                  <a:pt x="292" y="164"/>
                </a:cubicBezTo>
                <a:cubicBezTo>
                  <a:pt x="302" y="155"/>
                  <a:pt x="308" y="144"/>
                  <a:pt x="296" y="133"/>
                </a:cubicBezTo>
                <a:cubicBezTo>
                  <a:pt x="285" y="123"/>
                  <a:pt x="243" y="125"/>
                  <a:pt x="214" y="124"/>
                </a:cubicBezTo>
                <a:cubicBezTo>
                  <a:pt x="213" y="124"/>
                  <a:pt x="213" y="124"/>
                  <a:pt x="213" y="124"/>
                </a:cubicBezTo>
                <a:cubicBezTo>
                  <a:pt x="212" y="124"/>
                  <a:pt x="212" y="124"/>
                  <a:pt x="212" y="124"/>
                </a:cubicBezTo>
                <a:cubicBezTo>
                  <a:pt x="212" y="124"/>
                  <a:pt x="219" y="124"/>
                  <a:pt x="217" y="124"/>
                </a:cubicBezTo>
                <a:cubicBezTo>
                  <a:pt x="213" y="124"/>
                  <a:pt x="209" y="124"/>
                  <a:pt x="206" y="124"/>
                </a:cubicBezTo>
                <a:cubicBezTo>
                  <a:pt x="192" y="123"/>
                  <a:pt x="167" y="123"/>
                  <a:pt x="165" y="123"/>
                </a:cubicBezTo>
                <a:cubicBezTo>
                  <a:pt x="165" y="123"/>
                  <a:pt x="165" y="123"/>
                  <a:pt x="165" y="123"/>
                </a:cubicBezTo>
                <a:cubicBezTo>
                  <a:pt x="160" y="121"/>
                  <a:pt x="160" y="121"/>
                  <a:pt x="160" y="121"/>
                </a:cubicBezTo>
                <a:cubicBezTo>
                  <a:pt x="165" y="120"/>
                  <a:pt x="165" y="120"/>
                  <a:pt x="165" y="120"/>
                </a:cubicBezTo>
                <a:cubicBezTo>
                  <a:pt x="165" y="120"/>
                  <a:pt x="165" y="120"/>
                  <a:pt x="165" y="120"/>
                </a:cubicBezTo>
                <a:cubicBezTo>
                  <a:pt x="166" y="120"/>
                  <a:pt x="169" y="120"/>
                  <a:pt x="179" y="119"/>
                </a:cubicBezTo>
                <a:cubicBezTo>
                  <a:pt x="165" y="90"/>
                  <a:pt x="188" y="73"/>
                  <a:pt x="192" y="58"/>
                </a:cubicBezTo>
                <a:cubicBezTo>
                  <a:pt x="206" y="5"/>
                  <a:pt x="178" y="0"/>
                  <a:pt x="178" y="0"/>
                </a:cubicBezTo>
                <a:cubicBezTo>
                  <a:pt x="178" y="0"/>
                  <a:pt x="108" y="96"/>
                  <a:pt x="101" y="126"/>
                </a:cubicBezTo>
                <a:cubicBezTo>
                  <a:pt x="96" y="148"/>
                  <a:pt x="67" y="146"/>
                  <a:pt x="58" y="146"/>
                </a:cubicBezTo>
                <a:cubicBezTo>
                  <a:pt x="10" y="144"/>
                  <a:pt x="0" y="264"/>
                  <a:pt x="53" y="275"/>
                </a:cubicBezTo>
                <a:cubicBezTo>
                  <a:pt x="64" y="277"/>
                  <a:pt x="76" y="265"/>
                  <a:pt x="99" y="275"/>
                </a:cubicBezTo>
                <a:cubicBezTo>
                  <a:pt x="149" y="296"/>
                  <a:pt x="192" y="287"/>
                  <a:pt x="232" y="286"/>
                </a:cubicBezTo>
                <a:cubicBezTo>
                  <a:pt x="259" y="285"/>
                  <a:pt x="257" y="266"/>
                  <a:pt x="255" y="256"/>
                </a:cubicBezTo>
                <a:cubicBezTo>
                  <a:pt x="242" y="256"/>
                  <a:pt x="229" y="255"/>
                  <a:pt x="227" y="255"/>
                </a:cubicBezTo>
                <a:cubicBezTo>
                  <a:pt x="225" y="255"/>
                  <a:pt x="225" y="255"/>
                  <a:pt x="225" y="255"/>
                </a:cubicBezTo>
                <a:cubicBezTo>
                  <a:pt x="221" y="252"/>
                  <a:pt x="221" y="252"/>
                  <a:pt x="221" y="252"/>
                </a:cubicBezTo>
                <a:cubicBezTo>
                  <a:pt x="225" y="249"/>
                  <a:pt x="225" y="249"/>
                  <a:pt x="225" y="249"/>
                </a:cubicBezTo>
                <a:cubicBezTo>
                  <a:pt x="227" y="249"/>
                  <a:pt x="227" y="249"/>
                  <a:pt x="227" y="249"/>
                </a:cubicBezTo>
                <a:cubicBezTo>
                  <a:pt x="229" y="249"/>
                  <a:pt x="247" y="248"/>
                  <a:pt x="262" y="247"/>
                </a:cubicBezTo>
                <a:cubicBezTo>
                  <a:pt x="275" y="237"/>
                  <a:pt x="272" y="227"/>
                  <a:pt x="269" y="220"/>
                </a:cubicBezTo>
                <a:cubicBezTo>
                  <a:pt x="253" y="219"/>
                  <a:pt x="232" y="218"/>
                  <a:pt x="230" y="218"/>
                </a:cubicBezTo>
                <a:lnTo>
                  <a:pt x="228" y="2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Freeform 173"/>
          <p:cNvSpPr/>
          <p:nvPr/>
        </p:nvSpPr>
        <p:spPr>
          <a:xfrm>
            <a:off x="2252520" y="4605480"/>
            <a:ext cx="497160" cy="477720"/>
          </a:xfrm>
          <a:custGeom>
            <a:avLst/>
            <a:gdLst/>
            <a:ahLst/>
            <a:rect l="l" t="t" r="r" b="b"/>
            <a:pathLst>
              <a:path w="308" h="296">
                <a:moveTo>
                  <a:pt x="80" y="78"/>
                </a:moveTo>
                <a:cubicBezTo>
                  <a:pt x="84" y="81"/>
                  <a:pt x="84" y="81"/>
                  <a:pt x="84" y="81"/>
                </a:cubicBezTo>
                <a:cubicBezTo>
                  <a:pt x="80" y="84"/>
                  <a:pt x="80" y="84"/>
                  <a:pt x="80" y="84"/>
                </a:cubicBezTo>
                <a:cubicBezTo>
                  <a:pt x="78" y="84"/>
                  <a:pt x="78" y="84"/>
                  <a:pt x="78" y="84"/>
                </a:cubicBezTo>
                <a:cubicBezTo>
                  <a:pt x="76" y="84"/>
                  <a:pt x="45" y="86"/>
                  <a:pt x="30" y="87"/>
                </a:cubicBezTo>
                <a:cubicBezTo>
                  <a:pt x="12" y="99"/>
                  <a:pt x="16" y="112"/>
                  <a:pt x="20" y="120"/>
                </a:cubicBezTo>
                <a:cubicBezTo>
                  <a:pt x="21" y="120"/>
                  <a:pt x="23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30" y="120"/>
                  <a:pt x="77" y="122"/>
                  <a:pt x="79" y="122"/>
                </a:cubicBezTo>
                <a:cubicBezTo>
                  <a:pt x="81" y="122"/>
                  <a:pt x="81" y="122"/>
                  <a:pt x="81" y="122"/>
                </a:cubicBezTo>
                <a:cubicBezTo>
                  <a:pt x="86" y="125"/>
                  <a:pt x="86" y="125"/>
                  <a:pt x="86" y="125"/>
                </a:cubicBezTo>
                <a:cubicBezTo>
                  <a:pt x="82" y="128"/>
                  <a:pt x="82" y="128"/>
                  <a:pt x="82" y="128"/>
                </a:cubicBezTo>
                <a:cubicBezTo>
                  <a:pt x="79" y="128"/>
                  <a:pt x="79" y="128"/>
                  <a:pt x="79" y="128"/>
                </a:cubicBezTo>
                <a:cubicBezTo>
                  <a:pt x="77" y="128"/>
                  <a:pt x="28" y="132"/>
                  <a:pt x="24" y="132"/>
                </a:cubicBezTo>
                <a:cubicBezTo>
                  <a:pt x="18" y="132"/>
                  <a:pt x="16" y="132"/>
                  <a:pt x="15" y="132"/>
                </a:cubicBezTo>
                <a:cubicBezTo>
                  <a:pt x="15" y="132"/>
                  <a:pt x="15" y="132"/>
                  <a:pt x="15" y="132"/>
                </a:cubicBezTo>
                <a:cubicBezTo>
                  <a:pt x="6" y="141"/>
                  <a:pt x="0" y="152"/>
                  <a:pt x="12" y="163"/>
                </a:cubicBezTo>
                <a:cubicBezTo>
                  <a:pt x="23" y="173"/>
                  <a:pt x="65" y="171"/>
                  <a:pt x="94" y="172"/>
                </a:cubicBezTo>
                <a:cubicBezTo>
                  <a:pt x="95" y="172"/>
                  <a:pt x="95" y="172"/>
                  <a:pt x="95" y="172"/>
                </a:cubicBezTo>
                <a:cubicBezTo>
                  <a:pt x="95" y="172"/>
                  <a:pt x="95" y="172"/>
                  <a:pt x="95" y="172"/>
                </a:cubicBezTo>
                <a:cubicBezTo>
                  <a:pt x="96" y="172"/>
                  <a:pt x="89" y="172"/>
                  <a:pt x="91" y="172"/>
                </a:cubicBezTo>
                <a:cubicBezTo>
                  <a:pt x="95" y="172"/>
                  <a:pt x="99" y="172"/>
                  <a:pt x="102" y="172"/>
                </a:cubicBezTo>
                <a:cubicBezTo>
                  <a:pt x="116" y="173"/>
                  <a:pt x="141" y="173"/>
                  <a:pt x="142" y="173"/>
                </a:cubicBezTo>
                <a:cubicBezTo>
                  <a:pt x="143" y="173"/>
                  <a:pt x="143" y="173"/>
                  <a:pt x="143" y="173"/>
                </a:cubicBezTo>
                <a:cubicBezTo>
                  <a:pt x="148" y="175"/>
                  <a:pt x="148" y="175"/>
                  <a:pt x="148" y="175"/>
                </a:cubicBezTo>
                <a:cubicBezTo>
                  <a:pt x="143" y="176"/>
                  <a:pt x="143" y="176"/>
                  <a:pt x="143" y="176"/>
                </a:cubicBezTo>
                <a:cubicBezTo>
                  <a:pt x="142" y="176"/>
                  <a:pt x="142" y="176"/>
                  <a:pt x="142" y="176"/>
                </a:cubicBezTo>
                <a:cubicBezTo>
                  <a:pt x="142" y="176"/>
                  <a:pt x="139" y="176"/>
                  <a:pt x="129" y="177"/>
                </a:cubicBezTo>
                <a:cubicBezTo>
                  <a:pt x="143" y="206"/>
                  <a:pt x="119" y="223"/>
                  <a:pt x="115" y="238"/>
                </a:cubicBezTo>
                <a:cubicBezTo>
                  <a:pt x="101" y="291"/>
                  <a:pt x="129" y="296"/>
                  <a:pt x="129" y="296"/>
                </a:cubicBezTo>
                <a:cubicBezTo>
                  <a:pt x="129" y="296"/>
                  <a:pt x="200" y="200"/>
                  <a:pt x="207" y="169"/>
                </a:cubicBezTo>
                <a:cubicBezTo>
                  <a:pt x="212" y="148"/>
                  <a:pt x="240" y="150"/>
                  <a:pt x="250" y="150"/>
                </a:cubicBezTo>
                <a:cubicBezTo>
                  <a:pt x="298" y="152"/>
                  <a:pt x="308" y="31"/>
                  <a:pt x="255" y="21"/>
                </a:cubicBezTo>
                <a:cubicBezTo>
                  <a:pt x="244" y="19"/>
                  <a:pt x="232" y="31"/>
                  <a:pt x="209" y="21"/>
                </a:cubicBezTo>
                <a:cubicBezTo>
                  <a:pt x="159" y="0"/>
                  <a:pt x="116" y="9"/>
                  <a:pt x="76" y="10"/>
                </a:cubicBezTo>
                <a:cubicBezTo>
                  <a:pt x="49" y="11"/>
                  <a:pt x="51" y="30"/>
                  <a:pt x="53" y="40"/>
                </a:cubicBezTo>
                <a:cubicBezTo>
                  <a:pt x="66" y="40"/>
                  <a:pt x="79" y="41"/>
                  <a:pt x="80" y="41"/>
                </a:cubicBezTo>
                <a:cubicBezTo>
                  <a:pt x="83" y="41"/>
                  <a:pt x="83" y="41"/>
                  <a:pt x="83" y="41"/>
                </a:cubicBezTo>
                <a:cubicBezTo>
                  <a:pt x="87" y="44"/>
                  <a:pt x="87" y="44"/>
                  <a:pt x="87" y="44"/>
                </a:cubicBezTo>
                <a:cubicBezTo>
                  <a:pt x="83" y="47"/>
                  <a:pt x="83" y="47"/>
                  <a:pt x="83" y="47"/>
                </a:cubicBezTo>
                <a:cubicBezTo>
                  <a:pt x="81" y="47"/>
                  <a:pt x="81" y="47"/>
                  <a:pt x="81" y="47"/>
                </a:cubicBezTo>
                <a:cubicBezTo>
                  <a:pt x="79" y="47"/>
                  <a:pt x="61" y="48"/>
                  <a:pt x="46" y="49"/>
                </a:cubicBezTo>
                <a:cubicBezTo>
                  <a:pt x="32" y="59"/>
                  <a:pt x="36" y="69"/>
                  <a:pt x="39" y="76"/>
                </a:cubicBezTo>
                <a:cubicBezTo>
                  <a:pt x="55" y="77"/>
                  <a:pt x="76" y="78"/>
                  <a:pt x="77" y="78"/>
                </a:cubicBezTo>
                <a:lnTo>
                  <a:pt x="80" y="7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矩形 34"/>
          <p:cNvSpPr/>
          <p:nvPr/>
        </p:nvSpPr>
        <p:spPr>
          <a:xfrm>
            <a:off x="3492360" y="2428920"/>
            <a:ext cx="73915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TextBox 13"/>
          <p:cNvSpPr/>
          <p:nvPr/>
        </p:nvSpPr>
        <p:spPr>
          <a:xfrm>
            <a:off x="3492360" y="21495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矩形 36"/>
          <p:cNvSpPr/>
          <p:nvPr/>
        </p:nvSpPr>
        <p:spPr>
          <a:xfrm>
            <a:off x="3492360" y="4718160"/>
            <a:ext cx="73915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TextBox 13"/>
          <p:cNvSpPr/>
          <p:nvPr/>
        </p:nvSpPr>
        <p:spPr>
          <a:xfrm>
            <a:off x="3492360" y="443880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random/>
  </p:transition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矩形 3"/>
          <p:cNvSpPr/>
          <p:nvPr/>
        </p:nvSpPr>
        <p:spPr>
          <a:xfrm>
            <a:off x="4932360" y="2249640"/>
            <a:ext cx="7259760" cy="2582640"/>
          </a:xfrm>
          <a:prstGeom prst="rect">
            <a:avLst/>
          </a:prstGeom>
          <a:solidFill>
            <a:srgbClr val="dce4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椭圆 1"/>
          <p:cNvSpPr/>
          <p:nvPr/>
        </p:nvSpPr>
        <p:spPr>
          <a:xfrm>
            <a:off x="2660760" y="1982880"/>
            <a:ext cx="3116160" cy="311616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4" name="组合 11"/>
          <p:cNvGrpSpPr/>
          <p:nvPr/>
        </p:nvGrpSpPr>
        <p:grpSpPr>
          <a:xfrm>
            <a:off x="5916600" y="2579760"/>
            <a:ext cx="6647040" cy="1667160"/>
            <a:chOff x="5916600" y="2579760"/>
            <a:chExt cx="6647040" cy="1667160"/>
          </a:xfrm>
        </p:grpSpPr>
        <p:sp>
          <p:nvSpPr>
            <p:cNvPr id="805" name="文本框 8"/>
            <p:cNvSpPr/>
            <p:nvPr/>
          </p:nvSpPr>
          <p:spPr>
            <a:xfrm>
              <a:off x="5916600" y="2579760"/>
              <a:ext cx="6136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ed7d31"/>
                  </a:solidFill>
                  <a:latin typeface="微软雅黑"/>
                  <a:ea typeface="微软雅黑"/>
                </a:rPr>
                <a:t>04 </a:t>
              </a:r>
              <a:r>
                <a:rPr b="1" lang="zh-CN" sz="5400" spc="-1" strike="noStrike">
                  <a:solidFill>
                    <a:srgbClr val="ed7d31"/>
                  </a:solidFill>
                  <a:latin typeface="微软雅黑"/>
                  <a:ea typeface="微软雅黑"/>
                </a:rPr>
                <a:t>请添加文本标题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文本框 9"/>
            <p:cNvSpPr/>
            <p:nvPr/>
          </p:nvSpPr>
          <p:spPr>
            <a:xfrm>
              <a:off x="7154640" y="3665520"/>
              <a:ext cx="540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67171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直接连接符 10"/>
            <p:cNvSpPr/>
            <p:nvPr/>
          </p:nvSpPr>
          <p:spPr>
            <a:xfrm>
              <a:off x="6095880" y="3567240"/>
              <a:ext cx="5858280" cy="0"/>
            </a:xfrm>
            <a:prstGeom prst="line">
              <a:avLst/>
            </a:prstGeom>
            <a:ln w="648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08" name="图片 2" descr=""/>
          <p:cNvPicPr/>
          <p:nvPr/>
        </p:nvPicPr>
        <p:blipFill>
          <a:blip r:embed="rId1"/>
          <a:stretch/>
        </p:blipFill>
        <p:spPr>
          <a:xfrm>
            <a:off x="3306600" y="1623960"/>
            <a:ext cx="1824120" cy="31878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10" name="矩形 29"/>
          <p:cNvSpPr/>
          <p:nvPr/>
        </p:nvSpPr>
        <p:spPr>
          <a:xfrm>
            <a:off x="-9360" y="209520"/>
            <a:ext cx="142560" cy="49536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文本框 30"/>
          <p:cNvSpPr/>
          <p:nvPr/>
        </p:nvSpPr>
        <p:spPr>
          <a:xfrm>
            <a:off x="227160" y="227160"/>
            <a:ext cx="30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2" name="Group 10" descr=""/>
          <p:cNvPicPr/>
          <p:nvPr/>
        </p:nvPicPr>
        <p:blipFill>
          <a:blip r:embed="rId2"/>
          <a:stretch/>
        </p:blipFill>
        <p:spPr>
          <a:xfrm>
            <a:off x="1920960" y="2992320"/>
            <a:ext cx="1230120" cy="542880"/>
          </a:xfrm>
          <a:prstGeom prst="rect">
            <a:avLst/>
          </a:prstGeom>
          <a:ln w="0">
            <a:noFill/>
          </a:ln>
        </p:spPr>
      </p:pic>
      <p:pic>
        <p:nvPicPr>
          <p:cNvPr id="813" name="Group 11" descr=""/>
          <p:cNvPicPr/>
          <p:nvPr/>
        </p:nvPicPr>
        <p:blipFill>
          <a:blip r:embed="rId3"/>
          <a:stretch/>
        </p:blipFill>
        <p:spPr>
          <a:xfrm>
            <a:off x="2517840" y="3578400"/>
            <a:ext cx="1225440" cy="542880"/>
          </a:xfrm>
          <a:prstGeom prst="rect">
            <a:avLst/>
          </a:prstGeom>
          <a:ln w="0">
            <a:noFill/>
          </a:ln>
        </p:spPr>
      </p:pic>
      <p:pic>
        <p:nvPicPr>
          <p:cNvPr id="814" name="Group 18" descr=""/>
          <p:cNvPicPr/>
          <p:nvPr/>
        </p:nvPicPr>
        <p:blipFill>
          <a:blip r:embed="rId4"/>
          <a:stretch/>
        </p:blipFill>
        <p:spPr>
          <a:xfrm>
            <a:off x="3790800" y="2998800"/>
            <a:ext cx="1341720" cy="592200"/>
          </a:xfrm>
          <a:prstGeom prst="rect">
            <a:avLst/>
          </a:prstGeom>
          <a:ln w="0">
            <a:noFill/>
          </a:ln>
        </p:spPr>
      </p:pic>
      <p:pic>
        <p:nvPicPr>
          <p:cNvPr id="815" name="Group 25" descr=""/>
          <p:cNvPicPr/>
          <p:nvPr/>
        </p:nvPicPr>
        <p:blipFill>
          <a:blip r:embed="rId5"/>
          <a:stretch/>
        </p:blipFill>
        <p:spPr>
          <a:xfrm>
            <a:off x="4383000" y="3554280"/>
            <a:ext cx="1341360" cy="590760"/>
          </a:xfrm>
          <a:prstGeom prst="rect">
            <a:avLst/>
          </a:prstGeom>
          <a:ln w="0">
            <a:noFill/>
          </a:ln>
        </p:spPr>
      </p:pic>
      <p:pic>
        <p:nvPicPr>
          <p:cNvPr id="816" name="Group 32" descr=""/>
          <p:cNvPicPr/>
          <p:nvPr/>
        </p:nvPicPr>
        <p:blipFill>
          <a:blip r:embed="rId6"/>
          <a:stretch/>
        </p:blipFill>
        <p:spPr>
          <a:xfrm>
            <a:off x="5510160" y="2846520"/>
            <a:ext cx="1500120" cy="658800"/>
          </a:xfrm>
          <a:prstGeom prst="rect">
            <a:avLst/>
          </a:prstGeom>
          <a:ln w="0">
            <a:noFill/>
          </a:ln>
        </p:spPr>
      </p:pic>
      <p:pic>
        <p:nvPicPr>
          <p:cNvPr id="817" name="Group 39" descr=""/>
          <p:cNvPicPr/>
          <p:nvPr/>
        </p:nvPicPr>
        <p:blipFill>
          <a:blip r:embed="rId7"/>
          <a:stretch/>
        </p:blipFill>
        <p:spPr>
          <a:xfrm>
            <a:off x="6235560" y="3560760"/>
            <a:ext cx="1500480" cy="663480"/>
          </a:xfrm>
          <a:prstGeom prst="rect">
            <a:avLst/>
          </a:prstGeom>
          <a:ln w="0">
            <a:noFill/>
          </a:ln>
        </p:spPr>
      </p:pic>
      <p:pic>
        <p:nvPicPr>
          <p:cNvPr id="818" name="Group 46" descr=""/>
          <p:cNvPicPr/>
          <p:nvPr/>
        </p:nvPicPr>
        <p:blipFill>
          <a:blip r:embed="rId8"/>
          <a:stretch/>
        </p:blipFill>
        <p:spPr>
          <a:xfrm>
            <a:off x="7534440" y="2779560"/>
            <a:ext cx="1688760" cy="749520"/>
          </a:xfrm>
          <a:prstGeom prst="rect">
            <a:avLst/>
          </a:prstGeom>
          <a:ln w="0">
            <a:noFill/>
          </a:ln>
        </p:spPr>
      </p:pic>
      <p:pic>
        <p:nvPicPr>
          <p:cNvPr id="819" name="Group 53" descr=""/>
          <p:cNvPicPr/>
          <p:nvPr/>
        </p:nvPicPr>
        <p:blipFill>
          <a:blip r:embed="rId9"/>
          <a:stretch/>
        </p:blipFill>
        <p:spPr>
          <a:xfrm>
            <a:off x="8352000" y="3591000"/>
            <a:ext cx="1693800" cy="749160"/>
          </a:xfrm>
          <a:prstGeom prst="rect">
            <a:avLst/>
          </a:prstGeom>
          <a:ln w="0">
            <a:noFill/>
          </a:ln>
        </p:spPr>
      </p:pic>
      <p:sp>
        <p:nvSpPr>
          <p:cNvPr id="820" name="Straight Connector 61"/>
          <p:cNvSpPr/>
          <p:nvPr/>
        </p:nvSpPr>
        <p:spPr>
          <a:xfrm>
            <a:off x="3192480" y="4145040"/>
            <a:ext cx="0" cy="609480"/>
          </a:xfrm>
          <a:prstGeom prst="line">
            <a:avLst/>
          </a:prstGeom>
          <a:ln w="12600">
            <a:solidFill>
              <a:srgbClr val="adbaca"/>
            </a:solidFill>
            <a:prstDash val="sys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Straight Connector 64"/>
          <p:cNvSpPr/>
          <p:nvPr/>
        </p:nvSpPr>
        <p:spPr>
          <a:xfrm flipV="1">
            <a:off x="2664000" y="2420640"/>
            <a:ext cx="0" cy="509400"/>
          </a:xfrm>
          <a:prstGeom prst="line">
            <a:avLst/>
          </a:prstGeom>
          <a:ln w="12600">
            <a:solidFill>
              <a:srgbClr val="adbaca"/>
            </a:solidFill>
            <a:prstDash val="sys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Straight Connector 67"/>
          <p:cNvSpPr/>
          <p:nvPr/>
        </p:nvSpPr>
        <p:spPr>
          <a:xfrm>
            <a:off x="5089680" y="4227480"/>
            <a:ext cx="0" cy="541440"/>
          </a:xfrm>
          <a:prstGeom prst="line">
            <a:avLst/>
          </a:prstGeom>
          <a:ln w="12600">
            <a:solidFill>
              <a:srgbClr val="adbaca"/>
            </a:solidFill>
            <a:prstDash val="sys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Straight Connector 70"/>
          <p:cNvSpPr/>
          <p:nvPr/>
        </p:nvSpPr>
        <p:spPr>
          <a:xfrm flipV="1">
            <a:off x="4560840" y="2420640"/>
            <a:ext cx="0" cy="507960"/>
          </a:xfrm>
          <a:prstGeom prst="line">
            <a:avLst/>
          </a:prstGeom>
          <a:ln w="12600">
            <a:solidFill>
              <a:srgbClr val="adbaca"/>
            </a:solidFill>
            <a:prstDash val="sys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Straight Connector 73"/>
          <p:cNvSpPr/>
          <p:nvPr/>
        </p:nvSpPr>
        <p:spPr>
          <a:xfrm>
            <a:off x="6875640" y="4255920"/>
            <a:ext cx="0" cy="505080"/>
          </a:xfrm>
          <a:prstGeom prst="line">
            <a:avLst/>
          </a:prstGeom>
          <a:ln w="12600">
            <a:solidFill>
              <a:srgbClr val="adbaca"/>
            </a:solidFill>
            <a:prstDash val="sys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Straight Connector 76"/>
          <p:cNvSpPr/>
          <p:nvPr/>
        </p:nvSpPr>
        <p:spPr>
          <a:xfrm flipV="1">
            <a:off x="6346800" y="2406600"/>
            <a:ext cx="0" cy="395280"/>
          </a:xfrm>
          <a:prstGeom prst="line">
            <a:avLst/>
          </a:prstGeom>
          <a:ln w="12600">
            <a:solidFill>
              <a:srgbClr val="adbaca"/>
            </a:solidFill>
            <a:prstDash val="sys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Straight Connector 79"/>
          <p:cNvSpPr/>
          <p:nvPr/>
        </p:nvSpPr>
        <p:spPr>
          <a:xfrm>
            <a:off x="9028080" y="4354560"/>
            <a:ext cx="0" cy="396720"/>
          </a:xfrm>
          <a:prstGeom prst="line">
            <a:avLst/>
          </a:prstGeom>
          <a:ln w="12600">
            <a:solidFill>
              <a:srgbClr val="adbaca"/>
            </a:solidFill>
            <a:prstDash val="sys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Straight Connector 82"/>
          <p:cNvSpPr/>
          <p:nvPr/>
        </p:nvSpPr>
        <p:spPr>
          <a:xfrm flipV="1">
            <a:off x="8499600" y="2420640"/>
            <a:ext cx="0" cy="323640"/>
          </a:xfrm>
          <a:prstGeom prst="line">
            <a:avLst/>
          </a:prstGeom>
          <a:ln w="12600">
            <a:solidFill>
              <a:srgbClr val="adbaca"/>
            </a:solidFill>
            <a:prstDash val="sys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TextBox 61"/>
          <p:cNvSpPr/>
          <p:nvPr/>
        </p:nvSpPr>
        <p:spPr>
          <a:xfrm>
            <a:off x="1724040" y="2004840"/>
            <a:ext cx="198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TextBox 61"/>
          <p:cNvSpPr/>
          <p:nvPr/>
        </p:nvSpPr>
        <p:spPr>
          <a:xfrm>
            <a:off x="3552840" y="1995480"/>
            <a:ext cx="198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TextBox 61"/>
          <p:cNvSpPr/>
          <p:nvPr/>
        </p:nvSpPr>
        <p:spPr>
          <a:xfrm>
            <a:off x="5353200" y="1986120"/>
            <a:ext cx="198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TextBox 61"/>
          <p:cNvSpPr/>
          <p:nvPr/>
        </p:nvSpPr>
        <p:spPr>
          <a:xfrm>
            <a:off x="7500960" y="1986120"/>
            <a:ext cx="199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TextBox 61"/>
          <p:cNvSpPr/>
          <p:nvPr/>
        </p:nvSpPr>
        <p:spPr>
          <a:xfrm>
            <a:off x="2198520" y="4946760"/>
            <a:ext cx="198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TextBox 61"/>
          <p:cNvSpPr/>
          <p:nvPr/>
        </p:nvSpPr>
        <p:spPr>
          <a:xfrm>
            <a:off x="4094280" y="4946760"/>
            <a:ext cx="199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TextBox 61"/>
          <p:cNvSpPr/>
          <p:nvPr/>
        </p:nvSpPr>
        <p:spPr>
          <a:xfrm>
            <a:off x="5881680" y="4946760"/>
            <a:ext cx="198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TextBox 61"/>
          <p:cNvSpPr/>
          <p:nvPr/>
        </p:nvSpPr>
        <p:spPr>
          <a:xfrm>
            <a:off x="8029440" y="4935600"/>
            <a:ext cx="199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random/>
  </p:transition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Picture 2" descr="E:\Work\Private\Image Bank\IMG_5778.jpg"/>
          <p:cNvPicPr/>
          <p:nvPr/>
        </p:nvPicPr>
        <p:blipFill>
          <a:blip r:embed="rId1"/>
          <a:stretch/>
        </p:blipFill>
        <p:spPr>
          <a:xfrm>
            <a:off x="0" y="6480"/>
            <a:ext cx="12192120" cy="6845040"/>
          </a:xfrm>
          <a:prstGeom prst="rect">
            <a:avLst/>
          </a:prstGeom>
          <a:ln w="0">
            <a:noFill/>
          </a:ln>
        </p:spPr>
      </p:pic>
      <p:sp>
        <p:nvSpPr>
          <p:cNvPr id="837" name="矩形 1"/>
          <p:cNvSpPr/>
          <p:nvPr/>
        </p:nvSpPr>
        <p:spPr>
          <a:xfrm>
            <a:off x="-9360" y="0"/>
            <a:ext cx="12201480" cy="6858000"/>
          </a:xfrm>
          <a:prstGeom prst="rect">
            <a:avLst/>
          </a:prstGeom>
          <a:solidFill>
            <a:srgbClr val="7f7f7f">
              <a:alpha val="50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矩形 29"/>
          <p:cNvSpPr/>
          <p:nvPr/>
        </p:nvSpPr>
        <p:spPr>
          <a:xfrm>
            <a:off x="-9360" y="209520"/>
            <a:ext cx="142560" cy="49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文本框 30"/>
          <p:cNvSpPr/>
          <p:nvPr/>
        </p:nvSpPr>
        <p:spPr>
          <a:xfrm>
            <a:off x="227160" y="227160"/>
            <a:ext cx="30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Freeform 12"/>
          <p:cNvSpPr/>
          <p:nvPr/>
        </p:nvSpPr>
        <p:spPr>
          <a:xfrm>
            <a:off x="7839000" y="2432160"/>
            <a:ext cx="811440" cy="654120"/>
          </a:xfrm>
          <a:custGeom>
            <a:avLst/>
            <a:gdLst/>
            <a:ahLst/>
            <a:rect l="l" t="t" r="r" b="b"/>
            <a:pathLst>
              <a:path w="174" h="140">
                <a:moveTo>
                  <a:pt x="44" y="121"/>
                </a:moveTo>
                <a:lnTo>
                  <a:pt x="31" y="140"/>
                </a:lnTo>
                <a:lnTo>
                  <a:pt x="141" y="140"/>
                </a:lnTo>
                <a:lnTo>
                  <a:pt x="128" y="121"/>
                </a:lnTo>
                <a:lnTo>
                  <a:pt x="44" y="121"/>
                </a:lnTo>
                <a:close/>
                <a:moveTo>
                  <a:pt x="0" y="0"/>
                </a:moveTo>
                <a:lnTo>
                  <a:pt x="0" y="106"/>
                </a:lnTo>
                <a:lnTo>
                  <a:pt x="174" y="106"/>
                </a:lnTo>
                <a:lnTo>
                  <a:pt x="174" y="0"/>
                </a:lnTo>
                <a:lnTo>
                  <a:pt x="0" y="0"/>
                </a:lnTo>
                <a:close/>
                <a:moveTo>
                  <a:pt x="162" y="95"/>
                </a:moveTo>
                <a:lnTo>
                  <a:pt x="11" y="95"/>
                </a:lnTo>
                <a:lnTo>
                  <a:pt x="11" y="11"/>
                </a:lnTo>
                <a:lnTo>
                  <a:pt x="162" y="11"/>
                </a:lnTo>
                <a:lnTo>
                  <a:pt x="162" y="9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矩形 5"/>
          <p:cNvSpPr/>
          <p:nvPr/>
        </p:nvSpPr>
        <p:spPr>
          <a:xfrm>
            <a:off x="6431040" y="3914640"/>
            <a:ext cx="36367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TextBox 13"/>
          <p:cNvSpPr/>
          <p:nvPr/>
        </p:nvSpPr>
        <p:spPr>
          <a:xfrm>
            <a:off x="7080120" y="351000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Freeform 12"/>
          <p:cNvSpPr/>
          <p:nvPr/>
        </p:nvSpPr>
        <p:spPr>
          <a:xfrm>
            <a:off x="3392640" y="2432160"/>
            <a:ext cx="811080" cy="654120"/>
          </a:xfrm>
          <a:custGeom>
            <a:avLst/>
            <a:gdLst/>
            <a:ahLst/>
            <a:rect l="l" t="t" r="r" b="b"/>
            <a:pathLst>
              <a:path w="174" h="140">
                <a:moveTo>
                  <a:pt x="44" y="121"/>
                </a:moveTo>
                <a:lnTo>
                  <a:pt x="31" y="140"/>
                </a:lnTo>
                <a:lnTo>
                  <a:pt x="141" y="140"/>
                </a:lnTo>
                <a:lnTo>
                  <a:pt x="128" y="121"/>
                </a:lnTo>
                <a:lnTo>
                  <a:pt x="44" y="121"/>
                </a:lnTo>
                <a:close/>
                <a:moveTo>
                  <a:pt x="0" y="0"/>
                </a:moveTo>
                <a:lnTo>
                  <a:pt x="0" y="106"/>
                </a:lnTo>
                <a:lnTo>
                  <a:pt x="174" y="106"/>
                </a:lnTo>
                <a:lnTo>
                  <a:pt x="174" y="0"/>
                </a:lnTo>
                <a:lnTo>
                  <a:pt x="0" y="0"/>
                </a:lnTo>
                <a:close/>
                <a:moveTo>
                  <a:pt x="162" y="95"/>
                </a:moveTo>
                <a:lnTo>
                  <a:pt x="11" y="95"/>
                </a:lnTo>
                <a:lnTo>
                  <a:pt x="11" y="11"/>
                </a:lnTo>
                <a:lnTo>
                  <a:pt x="162" y="11"/>
                </a:lnTo>
                <a:lnTo>
                  <a:pt x="162" y="9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矩形 5"/>
          <p:cNvSpPr/>
          <p:nvPr/>
        </p:nvSpPr>
        <p:spPr>
          <a:xfrm>
            <a:off x="1984320" y="3914640"/>
            <a:ext cx="36370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TextBox 13"/>
          <p:cNvSpPr/>
          <p:nvPr/>
        </p:nvSpPr>
        <p:spPr>
          <a:xfrm>
            <a:off x="2633760" y="351000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47" name="Oval 32"/>
          <p:cNvSpPr/>
          <p:nvPr/>
        </p:nvSpPr>
        <p:spPr>
          <a:xfrm>
            <a:off x="3795840" y="2084400"/>
            <a:ext cx="2014560" cy="2014560"/>
          </a:xfrm>
          <a:prstGeom prst="ellipse">
            <a:avLst/>
          </a:prstGeom>
          <a:solidFill>
            <a:srgbClr val="b6d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Oval 33"/>
          <p:cNvSpPr/>
          <p:nvPr/>
        </p:nvSpPr>
        <p:spPr>
          <a:xfrm>
            <a:off x="6335640" y="2084400"/>
            <a:ext cx="2014560" cy="2014560"/>
          </a:xfrm>
          <a:prstGeom prst="ellipse">
            <a:avLst/>
          </a:prstGeom>
          <a:solidFill>
            <a:srgbClr val="f28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Oval 34"/>
          <p:cNvSpPr/>
          <p:nvPr/>
        </p:nvSpPr>
        <p:spPr>
          <a:xfrm>
            <a:off x="8877240" y="2084400"/>
            <a:ext cx="2014560" cy="2014560"/>
          </a:xfrm>
          <a:prstGeom prst="ellipse">
            <a:avLst/>
          </a:prstGeom>
          <a:solidFill>
            <a:srgbClr val="9ad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Oval 31"/>
          <p:cNvSpPr/>
          <p:nvPr/>
        </p:nvSpPr>
        <p:spPr>
          <a:xfrm>
            <a:off x="1257480" y="2084400"/>
            <a:ext cx="2014200" cy="2014560"/>
          </a:xfrm>
          <a:prstGeom prst="ellipse">
            <a:avLst/>
          </a:prstGeom>
          <a:solidFill>
            <a:srgbClr val="fadb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椭圆 7"/>
          <p:cNvSpPr/>
          <p:nvPr/>
        </p:nvSpPr>
        <p:spPr>
          <a:xfrm>
            <a:off x="1847880" y="3618000"/>
            <a:ext cx="831960" cy="833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椭圆 8"/>
          <p:cNvSpPr/>
          <p:nvPr/>
        </p:nvSpPr>
        <p:spPr>
          <a:xfrm>
            <a:off x="4383000" y="3618000"/>
            <a:ext cx="833400" cy="833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椭圆 9"/>
          <p:cNvSpPr/>
          <p:nvPr/>
        </p:nvSpPr>
        <p:spPr>
          <a:xfrm>
            <a:off x="6926400" y="3618000"/>
            <a:ext cx="833400" cy="833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椭圆 10"/>
          <p:cNvSpPr/>
          <p:nvPr/>
        </p:nvSpPr>
        <p:spPr>
          <a:xfrm>
            <a:off x="9464760" y="3639960"/>
            <a:ext cx="833400" cy="831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文本框 11"/>
          <p:cNvSpPr/>
          <p:nvPr/>
        </p:nvSpPr>
        <p:spPr>
          <a:xfrm>
            <a:off x="1967040" y="3860640"/>
            <a:ext cx="55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Arial"/>
                <a:ea typeface="微软雅黑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文本框 12"/>
          <p:cNvSpPr/>
          <p:nvPr/>
        </p:nvSpPr>
        <p:spPr>
          <a:xfrm>
            <a:off x="4519440" y="3876840"/>
            <a:ext cx="5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Arial"/>
                <a:ea typeface="微软雅黑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文本框 13"/>
          <p:cNvSpPr/>
          <p:nvPr/>
        </p:nvSpPr>
        <p:spPr>
          <a:xfrm>
            <a:off x="7064280" y="3875040"/>
            <a:ext cx="5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Arial"/>
                <a:ea typeface="微软雅黑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文本框 14"/>
          <p:cNvSpPr/>
          <p:nvPr/>
        </p:nvSpPr>
        <p:spPr>
          <a:xfrm>
            <a:off x="9590040" y="3884760"/>
            <a:ext cx="5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Arial"/>
                <a:ea typeface="微软雅黑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Freeform 91"/>
          <p:cNvSpPr/>
          <p:nvPr/>
        </p:nvSpPr>
        <p:spPr>
          <a:xfrm>
            <a:off x="7209000" y="2673360"/>
            <a:ext cx="264960" cy="527040"/>
          </a:xfrm>
          <a:custGeom>
            <a:avLst/>
            <a:gdLst/>
            <a:ahLst/>
            <a:rect l="l" t="t" r="r" b="b"/>
            <a:pathLst>
              <a:path w="144" h="288">
                <a:moveTo>
                  <a:pt x="144" y="72"/>
                </a:moveTo>
                <a:cubicBezTo>
                  <a:pt x="144" y="32"/>
                  <a:pt x="112" y="0"/>
                  <a:pt x="72" y="0"/>
                </a:cubicBezTo>
                <a:cubicBezTo>
                  <a:pt x="33" y="0"/>
                  <a:pt x="0" y="32"/>
                  <a:pt x="0" y="72"/>
                </a:cubicBezTo>
                <a:cubicBezTo>
                  <a:pt x="0" y="98"/>
                  <a:pt x="14" y="121"/>
                  <a:pt x="36" y="134"/>
                </a:cubicBezTo>
                <a:cubicBezTo>
                  <a:pt x="0" y="288"/>
                  <a:pt x="0" y="288"/>
                  <a:pt x="0" y="288"/>
                </a:cubicBezTo>
                <a:cubicBezTo>
                  <a:pt x="144" y="288"/>
                  <a:pt x="144" y="288"/>
                  <a:pt x="144" y="288"/>
                </a:cubicBezTo>
                <a:cubicBezTo>
                  <a:pt x="109" y="134"/>
                  <a:pt x="109" y="134"/>
                  <a:pt x="109" y="134"/>
                </a:cubicBezTo>
                <a:cubicBezTo>
                  <a:pt x="130" y="121"/>
                  <a:pt x="144" y="98"/>
                  <a:pt x="144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Freeform 93"/>
          <p:cNvSpPr/>
          <p:nvPr/>
        </p:nvSpPr>
        <p:spPr>
          <a:xfrm>
            <a:off x="2041560" y="2673360"/>
            <a:ext cx="395280" cy="53028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88" y="126"/>
                </a:moveTo>
                <a:cubicBezTo>
                  <a:pt x="188" y="79"/>
                  <a:pt x="188" y="79"/>
                  <a:pt x="188" y="79"/>
                </a:cubicBezTo>
                <a:cubicBezTo>
                  <a:pt x="188" y="36"/>
                  <a:pt x="152" y="0"/>
                  <a:pt x="109" y="0"/>
                </a:cubicBezTo>
                <a:cubicBezTo>
                  <a:pt x="109" y="0"/>
                  <a:pt x="108" y="0"/>
                  <a:pt x="108" y="0"/>
                </a:cubicBezTo>
                <a:cubicBezTo>
                  <a:pt x="107" y="0"/>
                  <a:pt x="107" y="0"/>
                  <a:pt x="106" y="0"/>
                </a:cubicBezTo>
                <a:cubicBezTo>
                  <a:pt x="63" y="0"/>
                  <a:pt x="28" y="36"/>
                  <a:pt x="28" y="79"/>
                </a:cubicBezTo>
                <a:cubicBezTo>
                  <a:pt x="28" y="126"/>
                  <a:pt x="28" y="126"/>
                  <a:pt x="2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288"/>
                  <a:pt x="0" y="288"/>
                  <a:pt x="0" y="288"/>
                </a:cubicBezTo>
                <a:cubicBezTo>
                  <a:pt x="216" y="288"/>
                  <a:pt x="216" y="288"/>
                  <a:pt x="216" y="288"/>
                </a:cubicBezTo>
                <a:cubicBezTo>
                  <a:pt x="216" y="126"/>
                  <a:pt x="216" y="126"/>
                  <a:pt x="216" y="126"/>
                </a:cubicBezTo>
                <a:lnTo>
                  <a:pt x="188" y="126"/>
                </a:lnTo>
                <a:close/>
                <a:moveTo>
                  <a:pt x="133" y="259"/>
                </a:moveTo>
                <a:cubicBezTo>
                  <a:pt x="84" y="259"/>
                  <a:pt x="84" y="259"/>
                  <a:pt x="84" y="259"/>
                </a:cubicBezTo>
                <a:cubicBezTo>
                  <a:pt x="96" y="206"/>
                  <a:pt x="96" y="206"/>
                  <a:pt x="96" y="206"/>
                </a:cubicBezTo>
                <a:cubicBezTo>
                  <a:pt x="88" y="202"/>
                  <a:pt x="84" y="194"/>
                  <a:pt x="84" y="185"/>
                </a:cubicBezTo>
                <a:cubicBezTo>
                  <a:pt x="84" y="172"/>
                  <a:pt x="95" y="161"/>
                  <a:pt x="108" y="161"/>
                </a:cubicBezTo>
                <a:cubicBezTo>
                  <a:pt x="122" y="161"/>
                  <a:pt x="133" y="172"/>
                  <a:pt x="133" y="185"/>
                </a:cubicBezTo>
                <a:cubicBezTo>
                  <a:pt x="133" y="194"/>
                  <a:pt x="128" y="202"/>
                  <a:pt x="120" y="206"/>
                </a:cubicBezTo>
                <a:lnTo>
                  <a:pt x="133" y="259"/>
                </a:lnTo>
                <a:close/>
                <a:moveTo>
                  <a:pt x="148" y="126"/>
                </a:moveTo>
                <a:cubicBezTo>
                  <a:pt x="67" y="126"/>
                  <a:pt x="67" y="126"/>
                  <a:pt x="67" y="126"/>
                </a:cubicBezTo>
                <a:cubicBezTo>
                  <a:pt x="67" y="79"/>
                  <a:pt x="67" y="79"/>
                  <a:pt x="67" y="79"/>
                </a:cubicBezTo>
                <a:cubicBezTo>
                  <a:pt x="67" y="57"/>
                  <a:pt x="85" y="40"/>
                  <a:pt x="106" y="40"/>
                </a:cubicBezTo>
                <a:cubicBezTo>
                  <a:pt x="107" y="40"/>
                  <a:pt x="108" y="40"/>
                  <a:pt x="108" y="40"/>
                </a:cubicBezTo>
                <a:cubicBezTo>
                  <a:pt x="108" y="40"/>
                  <a:pt x="109" y="40"/>
                  <a:pt x="109" y="40"/>
                </a:cubicBezTo>
                <a:cubicBezTo>
                  <a:pt x="131" y="40"/>
                  <a:pt x="148" y="57"/>
                  <a:pt x="148" y="79"/>
                </a:cubicBezTo>
                <a:lnTo>
                  <a:pt x="148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Freeform 94"/>
          <p:cNvSpPr/>
          <p:nvPr/>
        </p:nvSpPr>
        <p:spPr>
          <a:xfrm>
            <a:off x="4619520" y="2690640"/>
            <a:ext cx="527040" cy="492120"/>
          </a:xfrm>
          <a:custGeom>
            <a:avLst/>
            <a:gdLst/>
            <a:ahLst/>
            <a:rect l="l" t="t" r="r" b="b"/>
            <a:pathLst>
              <a:path w="288" h="269">
                <a:moveTo>
                  <a:pt x="215" y="0"/>
                </a:moveTo>
                <a:cubicBezTo>
                  <a:pt x="214" y="0"/>
                  <a:pt x="214" y="0"/>
                  <a:pt x="213" y="0"/>
                </a:cubicBezTo>
                <a:cubicBezTo>
                  <a:pt x="213" y="0"/>
                  <a:pt x="212" y="0"/>
                  <a:pt x="212" y="0"/>
                </a:cubicBezTo>
                <a:cubicBezTo>
                  <a:pt x="172" y="0"/>
                  <a:pt x="139" y="33"/>
                  <a:pt x="139" y="73"/>
                </a:cubicBezTo>
                <a:cubicBezTo>
                  <a:pt x="139" y="73"/>
                  <a:pt x="139" y="99"/>
                  <a:pt x="139" y="117"/>
                </a:cubicBezTo>
                <a:cubicBezTo>
                  <a:pt x="0" y="117"/>
                  <a:pt x="0" y="117"/>
                  <a:pt x="0" y="117"/>
                </a:cubicBezTo>
                <a:cubicBezTo>
                  <a:pt x="0" y="269"/>
                  <a:pt x="0" y="269"/>
                  <a:pt x="0" y="269"/>
                </a:cubicBezTo>
                <a:cubicBezTo>
                  <a:pt x="202" y="269"/>
                  <a:pt x="202" y="269"/>
                  <a:pt x="202" y="269"/>
                </a:cubicBezTo>
                <a:cubicBezTo>
                  <a:pt x="202" y="117"/>
                  <a:pt x="202" y="117"/>
                  <a:pt x="202" y="117"/>
                </a:cubicBezTo>
                <a:cubicBezTo>
                  <a:pt x="175" y="117"/>
                  <a:pt x="175" y="117"/>
                  <a:pt x="175" y="117"/>
                </a:cubicBezTo>
                <a:cubicBezTo>
                  <a:pt x="175" y="99"/>
                  <a:pt x="175" y="73"/>
                  <a:pt x="175" y="73"/>
                </a:cubicBezTo>
                <a:cubicBezTo>
                  <a:pt x="175" y="53"/>
                  <a:pt x="192" y="36"/>
                  <a:pt x="212" y="36"/>
                </a:cubicBezTo>
                <a:cubicBezTo>
                  <a:pt x="213" y="36"/>
                  <a:pt x="214" y="36"/>
                  <a:pt x="214" y="36"/>
                </a:cubicBezTo>
                <a:cubicBezTo>
                  <a:pt x="214" y="36"/>
                  <a:pt x="214" y="36"/>
                  <a:pt x="215" y="36"/>
                </a:cubicBezTo>
                <a:cubicBezTo>
                  <a:pt x="235" y="36"/>
                  <a:pt x="251" y="53"/>
                  <a:pt x="251" y="73"/>
                </a:cubicBezTo>
                <a:cubicBezTo>
                  <a:pt x="251" y="73"/>
                  <a:pt x="251" y="81"/>
                  <a:pt x="251" y="91"/>
                </a:cubicBezTo>
                <a:cubicBezTo>
                  <a:pt x="264" y="91"/>
                  <a:pt x="264" y="91"/>
                  <a:pt x="264" y="91"/>
                </a:cubicBezTo>
                <a:cubicBezTo>
                  <a:pt x="264" y="95"/>
                  <a:pt x="264" y="95"/>
                  <a:pt x="264" y="95"/>
                </a:cubicBezTo>
                <a:cubicBezTo>
                  <a:pt x="251" y="107"/>
                  <a:pt x="251" y="107"/>
                  <a:pt x="251" y="107"/>
                </a:cubicBezTo>
                <a:cubicBezTo>
                  <a:pt x="251" y="111"/>
                  <a:pt x="251" y="114"/>
                  <a:pt x="251" y="117"/>
                </a:cubicBezTo>
                <a:cubicBezTo>
                  <a:pt x="288" y="117"/>
                  <a:pt x="288" y="117"/>
                  <a:pt x="288" y="117"/>
                </a:cubicBezTo>
                <a:cubicBezTo>
                  <a:pt x="288" y="99"/>
                  <a:pt x="288" y="73"/>
                  <a:pt x="288" y="73"/>
                </a:cubicBezTo>
                <a:cubicBezTo>
                  <a:pt x="288" y="33"/>
                  <a:pt x="255" y="0"/>
                  <a:pt x="215" y="0"/>
                </a:cubicBezTo>
                <a:close/>
                <a:moveTo>
                  <a:pt x="124" y="241"/>
                </a:moveTo>
                <a:cubicBezTo>
                  <a:pt x="78" y="241"/>
                  <a:pt x="78" y="241"/>
                  <a:pt x="78" y="241"/>
                </a:cubicBezTo>
                <a:cubicBezTo>
                  <a:pt x="89" y="192"/>
                  <a:pt x="89" y="192"/>
                  <a:pt x="89" y="192"/>
                </a:cubicBezTo>
                <a:cubicBezTo>
                  <a:pt x="82" y="188"/>
                  <a:pt x="78" y="181"/>
                  <a:pt x="78" y="172"/>
                </a:cubicBezTo>
                <a:cubicBezTo>
                  <a:pt x="78" y="160"/>
                  <a:pt x="88" y="149"/>
                  <a:pt x="101" y="149"/>
                </a:cubicBezTo>
                <a:cubicBezTo>
                  <a:pt x="113" y="149"/>
                  <a:pt x="124" y="160"/>
                  <a:pt x="124" y="172"/>
                </a:cubicBezTo>
                <a:cubicBezTo>
                  <a:pt x="124" y="181"/>
                  <a:pt x="119" y="188"/>
                  <a:pt x="112" y="192"/>
                </a:cubicBezTo>
                <a:lnTo>
                  <a:pt x="124" y="2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Freeform 112"/>
          <p:cNvSpPr/>
          <p:nvPr/>
        </p:nvSpPr>
        <p:spPr>
          <a:xfrm>
            <a:off x="9618840" y="2743200"/>
            <a:ext cx="527040" cy="5302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79" y="120"/>
                </a:moveTo>
                <a:cubicBezTo>
                  <a:pt x="182" y="111"/>
                  <a:pt x="183" y="102"/>
                  <a:pt x="183" y="92"/>
                </a:cubicBezTo>
                <a:cubicBezTo>
                  <a:pt x="183" y="41"/>
                  <a:pt x="142" y="0"/>
                  <a:pt x="92" y="0"/>
                </a:cubicBezTo>
                <a:cubicBezTo>
                  <a:pt x="41" y="0"/>
                  <a:pt x="0" y="41"/>
                  <a:pt x="0" y="92"/>
                </a:cubicBezTo>
                <a:cubicBezTo>
                  <a:pt x="0" y="142"/>
                  <a:pt x="41" y="183"/>
                  <a:pt x="92" y="183"/>
                </a:cubicBezTo>
                <a:cubicBezTo>
                  <a:pt x="102" y="183"/>
                  <a:pt x="112" y="181"/>
                  <a:pt x="121" y="178"/>
                </a:cubicBezTo>
                <a:cubicBezTo>
                  <a:pt x="142" y="199"/>
                  <a:pt x="142" y="199"/>
                  <a:pt x="142" y="199"/>
                </a:cubicBezTo>
                <a:cubicBezTo>
                  <a:pt x="186" y="199"/>
                  <a:pt x="186" y="199"/>
                  <a:pt x="186" y="199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230" y="244"/>
                  <a:pt x="230" y="244"/>
                  <a:pt x="230" y="244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30"/>
                  <a:pt x="288" y="230"/>
                  <a:pt x="288" y="230"/>
                </a:cubicBezTo>
                <a:lnTo>
                  <a:pt x="179" y="120"/>
                </a:lnTo>
                <a:close/>
                <a:moveTo>
                  <a:pt x="73" y="103"/>
                </a:moveTo>
                <a:cubicBezTo>
                  <a:pt x="56" y="103"/>
                  <a:pt x="42" y="89"/>
                  <a:pt x="42" y="72"/>
                </a:cubicBezTo>
                <a:cubicBezTo>
                  <a:pt x="42" y="55"/>
                  <a:pt x="56" y="41"/>
                  <a:pt x="73" y="41"/>
                </a:cubicBezTo>
                <a:cubicBezTo>
                  <a:pt x="90" y="41"/>
                  <a:pt x="104" y="55"/>
                  <a:pt x="104" y="72"/>
                </a:cubicBezTo>
                <a:cubicBezTo>
                  <a:pt x="104" y="89"/>
                  <a:pt x="90" y="103"/>
                  <a:pt x="73" y="1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TextBox 13"/>
          <p:cNvSpPr/>
          <p:nvPr/>
        </p:nvSpPr>
        <p:spPr>
          <a:xfrm>
            <a:off x="1604880" y="4670280"/>
            <a:ext cx="12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TextBox 13"/>
          <p:cNvSpPr/>
          <p:nvPr/>
        </p:nvSpPr>
        <p:spPr>
          <a:xfrm>
            <a:off x="1608120" y="4956120"/>
            <a:ext cx="1452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TextBox 13"/>
          <p:cNvSpPr/>
          <p:nvPr/>
        </p:nvSpPr>
        <p:spPr>
          <a:xfrm>
            <a:off x="4145040" y="4670280"/>
            <a:ext cx="12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TextBox 13"/>
          <p:cNvSpPr/>
          <p:nvPr/>
        </p:nvSpPr>
        <p:spPr>
          <a:xfrm>
            <a:off x="4148280" y="4956120"/>
            <a:ext cx="1452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TextBox 13"/>
          <p:cNvSpPr/>
          <p:nvPr/>
        </p:nvSpPr>
        <p:spPr>
          <a:xfrm>
            <a:off x="6684840" y="4670280"/>
            <a:ext cx="12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TextBox 13"/>
          <p:cNvSpPr/>
          <p:nvPr/>
        </p:nvSpPr>
        <p:spPr>
          <a:xfrm>
            <a:off x="6688080" y="4956120"/>
            <a:ext cx="1452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TextBox 13"/>
          <p:cNvSpPr/>
          <p:nvPr/>
        </p:nvSpPr>
        <p:spPr>
          <a:xfrm>
            <a:off x="9220320" y="4670280"/>
            <a:ext cx="12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TextBox 13"/>
          <p:cNvSpPr/>
          <p:nvPr/>
        </p:nvSpPr>
        <p:spPr>
          <a:xfrm>
            <a:off x="9225000" y="4956120"/>
            <a:ext cx="14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矩形 29"/>
          <p:cNvSpPr/>
          <p:nvPr/>
        </p:nvSpPr>
        <p:spPr>
          <a:xfrm>
            <a:off x="-9360" y="209520"/>
            <a:ext cx="142560" cy="49536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文本框 30"/>
          <p:cNvSpPr/>
          <p:nvPr/>
        </p:nvSpPr>
        <p:spPr>
          <a:xfrm>
            <a:off x="227160" y="227160"/>
            <a:ext cx="30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任意多边形 44"/>
          <p:cNvSpPr/>
          <p:nvPr/>
        </p:nvSpPr>
        <p:spPr>
          <a:xfrm>
            <a:off x="0" y="744480"/>
            <a:ext cx="3692520" cy="5438880"/>
          </a:xfrm>
          <a:custGeom>
            <a:avLst/>
            <a:gdLst/>
            <a:ahLst/>
            <a:rect l="l" t="t" r="r" b="b"/>
            <a:pathLst>
              <a:path w="3693107" h="5439190">
                <a:moveTo>
                  <a:pt x="973512" y="0"/>
                </a:moveTo>
                <a:cubicBezTo>
                  <a:pt x="2475503" y="0"/>
                  <a:pt x="3693107" y="1217604"/>
                  <a:pt x="3693107" y="2719595"/>
                </a:cubicBezTo>
                <a:cubicBezTo>
                  <a:pt x="3693107" y="4221586"/>
                  <a:pt x="2475503" y="5439190"/>
                  <a:pt x="973512" y="5439190"/>
                </a:cubicBezTo>
                <a:cubicBezTo>
                  <a:pt x="691889" y="5439190"/>
                  <a:pt x="420264" y="5396384"/>
                  <a:pt x="164788" y="5316923"/>
                </a:cubicBezTo>
                <a:lnTo>
                  <a:pt x="0" y="5256610"/>
                </a:lnTo>
                <a:lnTo>
                  <a:pt x="0" y="182581"/>
                </a:lnTo>
                <a:lnTo>
                  <a:pt x="164788" y="122268"/>
                </a:lnTo>
                <a:cubicBezTo>
                  <a:pt x="420264" y="42807"/>
                  <a:pt x="691889" y="0"/>
                  <a:pt x="973512" y="0"/>
                </a:cubicBezTo>
                <a:close/>
              </a:path>
            </a:pathLst>
          </a:cu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直角三角形 4"/>
          <p:cNvSpPr/>
          <p:nvPr/>
        </p:nvSpPr>
        <p:spPr>
          <a:xfrm flipH="1" rot="1223400">
            <a:off x="2090520" y="5237280"/>
            <a:ext cx="364680" cy="447480"/>
          </a:xfrm>
          <a:prstGeom prst="rtTriangl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直角三角形 5"/>
          <p:cNvSpPr/>
          <p:nvPr/>
        </p:nvSpPr>
        <p:spPr>
          <a:xfrm rot="3958800">
            <a:off x="2665440" y="1468440"/>
            <a:ext cx="217800" cy="344160"/>
          </a:xfrm>
          <a:prstGeom prst="rtTriangl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直接连接符 9"/>
          <p:cNvSpPr/>
          <p:nvPr/>
        </p:nvSpPr>
        <p:spPr>
          <a:xfrm flipH="1">
            <a:off x="-39600" y="2044800"/>
            <a:ext cx="1249200" cy="1068120"/>
          </a:xfrm>
          <a:prstGeom prst="line">
            <a:avLst/>
          </a:prstGeom>
          <a:ln w="64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直接连接符 10"/>
          <p:cNvSpPr/>
          <p:nvPr/>
        </p:nvSpPr>
        <p:spPr>
          <a:xfrm flipH="1">
            <a:off x="-39600" y="1400040"/>
            <a:ext cx="1598400" cy="135900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直接连接符 11"/>
          <p:cNvSpPr/>
          <p:nvPr/>
        </p:nvSpPr>
        <p:spPr>
          <a:xfrm flipH="1">
            <a:off x="-28440" y="744480"/>
            <a:ext cx="3092400" cy="2681280"/>
          </a:xfrm>
          <a:prstGeom prst="line">
            <a:avLst/>
          </a:prstGeom>
          <a:ln w="7632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文本框 13"/>
          <p:cNvSpPr/>
          <p:nvPr/>
        </p:nvSpPr>
        <p:spPr>
          <a:xfrm>
            <a:off x="693720" y="3057480"/>
            <a:ext cx="237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ONT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文本框 14"/>
          <p:cNvSpPr/>
          <p:nvPr/>
        </p:nvSpPr>
        <p:spPr>
          <a:xfrm>
            <a:off x="693720" y="3736800"/>
            <a:ext cx="146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椭圆 19"/>
          <p:cNvSpPr/>
          <p:nvPr/>
        </p:nvSpPr>
        <p:spPr>
          <a:xfrm>
            <a:off x="5327640" y="2044800"/>
            <a:ext cx="442800" cy="461880"/>
          </a:xfrm>
          <a:prstGeom prst="ellipse">
            <a:avLst/>
          </a:prstGeom>
          <a:noFill/>
          <a:ln w="1908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文本框 20"/>
          <p:cNvSpPr/>
          <p:nvPr/>
        </p:nvSpPr>
        <p:spPr>
          <a:xfrm>
            <a:off x="5272200" y="2075040"/>
            <a:ext cx="79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直接连接符 17"/>
          <p:cNvSpPr/>
          <p:nvPr/>
        </p:nvSpPr>
        <p:spPr>
          <a:xfrm flipH="1">
            <a:off x="5874840" y="2114640"/>
            <a:ext cx="117720" cy="323640"/>
          </a:xfrm>
          <a:prstGeom prst="line">
            <a:avLst/>
          </a:prstGeom>
          <a:ln w="648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文本框 18"/>
          <p:cNvSpPr/>
          <p:nvPr/>
        </p:nvSpPr>
        <p:spPr>
          <a:xfrm>
            <a:off x="5973840" y="2066760"/>
            <a:ext cx="383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此处添加标题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椭圆 25"/>
          <p:cNvSpPr/>
          <p:nvPr/>
        </p:nvSpPr>
        <p:spPr>
          <a:xfrm>
            <a:off x="5327640" y="2849400"/>
            <a:ext cx="442800" cy="462240"/>
          </a:xfrm>
          <a:prstGeom prst="ellipse">
            <a:avLst/>
          </a:prstGeom>
          <a:noFill/>
          <a:ln w="1908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文本框 26"/>
          <p:cNvSpPr/>
          <p:nvPr/>
        </p:nvSpPr>
        <p:spPr>
          <a:xfrm>
            <a:off x="5272200" y="2879640"/>
            <a:ext cx="79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直接连接符 23"/>
          <p:cNvSpPr/>
          <p:nvPr/>
        </p:nvSpPr>
        <p:spPr>
          <a:xfrm flipH="1">
            <a:off x="5874840" y="2919240"/>
            <a:ext cx="117720" cy="324000"/>
          </a:xfrm>
          <a:prstGeom prst="line">
            <a:avLst/>
          </a:prstGeom>
          <a:ln w="648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文本框 24"/>
          <p:cNvSpPr/>
          <p:nvPr/>
        </p:nvSpPr>
        <p:spPr>
          <a:xfrm>
            <a:off x="5973840" y="2871720"/>
            <a:ext cx="369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此处添加标题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椭圆 31"/>
          <p:cNvSpPr/>
          <p:nvPr/>
        </p:nvSpPr>
        <p:spPr>
          <a:xfrm>
            <a:off x="5327640" y="3632040"/>
            <a:ext cx="442800" cy="460440"/>
          </a:xfrm>
          <a:prstGeom prst="ellipse">
            <a:avLst/>
          </a:prstGeom>
          <a:noFill/>
          <a:ln w="1908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文本框 32"/>
          <p:cNvSpPr/>
          <p:nvPr/>
        </p:nvSpPr>
        <p:spPr>
          <a:xfrm>
            <a:off x="5272200" y="3662280"/>
            <a:ext cx="79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直接连接符 29"/>
          <p:cNvSpPr/>
          <p:nvPr/>
        </p:nvSpPr>
        <p:spPr>
          <a:xfrm flipH="1">
            <a:off x="5874840" y="3701880"/>
            <a:ext cx="117720" cy="324000"/>
          </a:xfrm>
          <a:prstGeom prst="line">
            <a:avLst/>
          </a:prstGeom>
          <a:ln w="648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文本框 30"/>
          <p:cNvSpPr/>
          <p:nvPr/>
        </p:nvSpPr>
        <p:spPr>
          <a:xfrm>
            <a:off x="5973840" y="3654360"/>
            <a:ext cx="383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此处添加标题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椭圆 37"/>
          <p:cNvSpPr/>
          <p:nvPr/>
        </p:nvSpPr>
        <p:spPr>
          <a:xfrm>
            <a:off x="5327640" y="4443480"/>
            <a:ext cx="442800" cy="461880"/>
          </a:xfrm>
          <a:prstGeom prst="ellipse">
            <a:avLst/>
          </a:prstGeom>
          <a:noFill/>
          <a:ln w="1908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文本框 38"/>
          <p:cNvSpPr/>
          <p:nvPr/>
        </p:nvSpPr>
        <p:spPr>
          <a:xfrm>
            <a:off x="5272200" y="4473720"/>
            <a:ext cx="79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直接连接符 35"/>
          <p:cNvSpPr/>
          <p:nvPr/>
        </p:nvSpPr>
        <p:spPr>
          <a:xfrm flipH="1">
            <a:off x="5874840" y="4513320"/>
            <a:ext cx="117720" cy="323640"/>
          </a:xfrm>
          <a:prstGeom prst="line">
            <a:avLst/>
          </a:prstGeom>
          <a:ln w="648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文本框 36"/>
          <p:cNvSpPr/>
          <p:nvPr/>
        </p:nvSpPr>
        <p:spPr>
          <a:xfrm>
            <a:off x="5973840" y="4465800"/>
            <a:ext cx="383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此处添加标题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直接连接符 48"/>
          <p:cNvSpPr/>
          <p:nvPr/>
        </p:nvSpPr>
        <p:spPr>
          <a:xfrm flipH="1">
            <a:off x="-28800" y="5803920"/>
            <a:ext cx="479160" cy="409680"/>
          </a:xfrm>
          <a:prstGeom prst="line">
            <a:avLst/>
          </a:prstGeom>
          <a:ln w="64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直接连接符 50"/>
          <p:cNvSpPr/>
          <p:nvPr/>
        </p:nvSpPr>
        <p:spPr>
          <a:xfrm flipH="1">
            <a:off x="-19440" y="5560920"/>
            <a:ext cx="871560" cy="746280"/>
          </a:xfrm>
          <a:prstGeom prst="line">
            <a:avLst/>
          </a:prstGeom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0" name="组合 42"/>
          <p:cNvGrpSpPr/>
          <p:nvPr/>
        </p:nvGrpSpPr>
        <p:grpSpPr>
          <a:xfrm>
            <a:off x="2842200" y="1621800"/>
            <a:ext cx="1062360" cy="1083960"/>
            <a:chOff x="2842200" y="1621800"/>
            <a:chExt cx="1062360" cy="1083960"/>
          </a:xfrm>
        </p:grpSpPr>
        <p:sp>
          <p:nvSpPr>
            <p:cNvPr id="551" name="直角三角形 49"/>
            <p:cNvSpPr/>
            <p:nvPr/>
          </p:nvSpPr>
          <p:spPr>
            <a:xfrm rot="2505600">
              <a:off x="3328560" y="1842480"/>
              <a:ext cx="330480" cy="862920"/>
            </a:xfrm>
            <a:prstGeom prst="rtTriangle">
              <a:avLst/>
            </a:prstGeom>
            <a:solidFill>
              <a:srgbClr val="dee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直角三角形 51"/>
            <p:cNvSpPr/>
            <p:nvPr/>
          </p:nvSpPr>
          <p:spPr>
            <a:xfrm flipH="1" rot="2505000">
              <a:off x="3087000" y="1621800"/>
              <a:ext cx="330480" cy="862920"/>
            </a:xfrm>
            <a:prstGeom prst="rtTriangle">
              <a:avLst/>
            </a:prstGeom>
            <a:solidFill>
              <a:srgbClr val="bdd7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任意多边形 50"/>
          <p:cNvSpPr/>
          <p:nvPr/>
        </p:nvSpPr>
        <p:spPr>
          <a:xfrm>
            <a:off x="5416560" y="3033720"/>
            <a:ext cx="4492440" cy="2922480"/>
          </a:xfrm>
          <a:custGeom>
            <a:avLst/>
            <a:gdLst/>
            <a:ahLst/>
            <a:rect l="l" t="t" r="r" b="b"/>
            <a:pathLst>
              <a:path w="5057776" h="3290711">
                <a:moveTo>
                  <a:pt x="117284" y="0"/>
                </a:moveTo>
                <a:lnTo>
                  <a:pt x="4940492" y="0"/>
                </a:lnTo>
                <a:lnTo>
                  <a:pt x="4944082" y="9809"/>
                </a:lnTo>
                <a:cubicBezTo>
                  <a:pt x="5017972" y="247370"/>
                  <a:pt x="5057776" y="499948"/>
                  <a:pt x="5057776" y="761823"/>
                </a:cubicBezTo>
                <a:cubicBezTo>
                  <a:pt x="5057776" y="2158489"/>
                  <a:pt x="3925554" y="3290711"/>
                  <a:pt x="2528888" y="3290711"/>
                </a:cubicBezTo>
                <a:cubicBezTo>
                  <a:pt x="1132222" y="3290711"/>
                  <a:pt x="0" y="2158489"/>
                  <a:pt x="0" y="761823"/>
                </a:cubicBezTo>
                <a:cubicBezTo>
                  <a:pt x="0" y="499948"/>
                  <a:pt x="39805" y="247370"/>
                  <a:pt x="113694" y="9809"/>
                </a:cubicBezTo>
                <a:lnTo>
                  <a:pt x="117284" y="0"/>
                </a:lnTo>
                <a:close/>
              </a:path>
            </a:pathLst>
          </a:cu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直接连接符 8"/>
          <p:cNvSpPr/>
          <p:nvPr/>
        </p:nvSpPr>
        <p:spPr>
          <a:xfrm flipH="1">
            <a:off x="1314000" y="0"/>
            <a:ext cx="1752840" cy="1752480"/>
          </a:xfrm>
          <a:prstGeom prst="line">
            <a:avLst/>
          </a:prstGeom>
          <a:ln w="648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直接连接符 9"/>
          <p:cNvSpPr/>
          <p:nvPr/>
        </p:nvSpPr>
        <p:spPr>
          <a:xfrm flipH="1">
            <a:off x="1509840" y="-19080"/>
            <a:ext cx="1752480" cy="1752480"/>
          </a:xfrm>
          <a:prstGeom prst="line">
            <a:avLst/>
          </a:prstGeom>
          <a:ln w="6480">
            <a:solidFill>
              <a:srgbClr val="9ad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直接连接符 10"/>
          <p:cNvSpPr/>
          <p:nvPr/>
        </p:nvSpPr>
        <p:spPr>
          <a:xfrm flipH="1">
            <a:off x="914400" y="-57240"/>
            <a:ext cx="2720880" cy="2743200"/>
          </a:xfrm>
          <a:prstGeom prst="line">
            <a:avLst/>
          </a:prstGeom>
          <a:ln w="76320">
            <a:solidFill>
              <a:srgbClr val="9dc3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直接连接符 12"/>
          <p:cNvSpPr/>
          <p:nvPr/>
        </p:nvSpPr>
        <p:spPr>
          <a:xfrm flipH="1">
            <a:off x="2336760" y="-57240"/>
            <a:ext cx="1581120" cy="1581120"/>
          </a:xfrm>
          <a:prstGeom prst="line">
            <a:avLst/>
          </a:prstGeom>
          <a:ln w="38160">
            <a:solidFill>
              <a:srgbClr val="12b1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直接连接符 17"/>
          <p:cNvSpPr/>
          <p:nvPr/>
        </p:nvSpPr>
        <p:spPr>
          <a:xfrm flipH="1">
            <a:off x="3742920" y="-28440"/>
            <a:ext cx="2678040" cy="2754000"/>
          </a:xfrm>
          <a:prstGeom prst="line">
            <a:avLst/>
          </a:prstGeom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椭圆 19"/>
          <p:cNvSpPr/>
          <p:nvPr/>
        </p:nvSpPr>
        <p:spPr>
          <a:xfrm>
            <a:off x="1138320" y="2743200"/>
            <a:ext cx="743040" cy="743040"/>
          </a:xfrm>
          <a:prstGeom prst="ellipse">
            <a:avLst/>
          </a:prstGeom>
          <a:solidFill>
            <a:srgbClr val="45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椭圆 20"/>
          <p:cNvSpPr/>
          <p:nvPr/>
        </p:nvSpPr>
        <p:spPr>
          <a:xfrm>
            <a:off x="600120" y="3287880"/>
            <a:ext cx="371520" cy="371160"/>
          </a:xfrm>
          <a:prstGeom prst="ellipse">
            <a:avLst/>
          </a:prstGeom>
          <a:solidFill>
            <a:srgbClr val="3d0c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直接连接符 23"/>
          <p:cNvSpPr/>
          <p:nvPr/>
        </p:nvSpPr>
        <p:spPr>
          <a:xfrm flipH="1">
            <a:off x="0" y="5246640"/>
            <a:ext cx="735120" cy="628560"/>
          </a:xfrm>
          <a:prstGeom prst="line">
            <a:avLst/>
          </a:prstGeom>
          <a:ln w="64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直接连接符 25"/>
          <p:cNvSpPr/>
          <p:nvPr/>
        </p:nvSpPr>
        <p:spPr>
          <a:xfrm flipH="1">
            <a:off x="-86040" y="4672080"/>
            <a:ext cx="1041480" cy="88416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直接连接符 26"/>
          <p:cNvSpPr/>
          <p:nvPr/>
        </p:nvSpPr>
        <p:spPr>
          <a:xfrm flipH="1">
            <a:off x="450720" y="5661000"/>
            <a:ext cx="1446480" cy="1254240"/>
          </a:xfrm>
          <a:prstGeom prst="line">
            <a:avLst/>
          </a:prstGeom>
          <a:ln w="76320">
            <a:solidFill>
              <a:srgbClr val="adb9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直角三角形 28"/>
          <p:cNvSpPr/>
          <p:nvPr/>
        </p:nvSpPr>
        <p:spPr>
          <a:xfrm flipH="1" rot="1223400">
            <a:off x="2452320" y="5208480"/>
            <a:ext cx="364680" cy="447840"/>
          </a:xfrm>
          <a:prstGeom prst="rtTriangle">
            <a:avLst/>
          </a:prstGeom>
          <a:solidFill>
            <a:srgbClr val="333f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直角三角形 29"/>
          <p:cNvSpPr/>
          <p:nvPr/>
        </p:nvSpPr>
        <p:spPr>
          <a:xfrm rot="3958800">
            <a:off x="3271320" y="4135320"/>
            <a:ext cx="218880" cy="345960"/>
          </a:xfrm>
          <a:prstGeom prst="rtTriangl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直接连接符 32"/>
          <p:cNvSpPr/>
          <p:nvPr/>
        </p:nvSpPr>
        <p:spPr>
          <a:xfrm flipH="1">
            <a:off x="10526760" y="-71280"/>
            <a:ext cx="1125360" cy="1114200"/>
          </a:xfrm>
          <a:prstGeom prst="line">
            <a:avLst/>
          </a:prstGeom>
          <a:ln w="76320">
            <a:solidFill>
              <a:srgbClr val="adb9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直接连接符 34"/>
          <p:cNvSpPr/>
          <p:nvPr/>
        </p:nvSpPr>
        <p:spPr>
          <a:xfrm flipH="1">
            <a:off x="9890280" y="-28440"/>
            <a:ext cx="2063520" cy="2141280"/>
          </a:xfrm>
          <a:prstGeom prst="line">
            <a:avLst/>
          </a:prstGeom>
          <a:ln w="6480">
            <a:solidFill>
              <a:srgbClr val="9ad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直接连接符 36"/>
          <p:cNvSpPr/>
          <p:nvPr/>
        </p:nvSpPr>
        <p:spPr>
          <a:xfrm flipH="1">
            <a:off x="11552040" y="0"/>
            <a:ext cx="655560" cy="669960"/>
          </a:xfrm>
          <a:prstGeom prst="line">
            <a:avLst/>
          </a:prstGeom>
          <a:ln w="6480">
            <a:solidFill>
              <a:srgbClr val="9dc3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直接连接符 38"/>
          <p:cNvSpPr/>
          <p:nvPr/>
        </p:nvSpPr>
        <p:spPr>
          <a:xfrm flipH="1">
            <a:off x="11174040" y="206280"/>
            <a:ext cx="1033560" cy="1032120"/>
          </a:xfrm>
          <a:prstGeom prst="line">
            <a:avLst/>
          </a:prstGeom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0" name="组合 42"/>
          <p:cNvGrpSpPr/>
          <p:nvPr/>
        </p:nvGrpSpPr>
        <p:grpSpPr>
          <a:xfrm>
            <a:off x="1834920" y="4383000"/>
            <a:ext cx="1028880" cy="905400"/>
            <a:chOff x="1834920" y="4383000"/>
            <a:chExt cx="1028880" cy="905400"/>
          </a:xfrm>
        </p:grpSpPr>
        <p:sp>
          <p:nvSpPr>
            <p:cNvPr id="891" name="直角三角形 40"/>
            <p:cNvSpPr/>
            <p:nvPr/>
          </p:nvSpPr>
          <p:spPr>
            <a:xfrm rot="4251600">
              <a:off x="2235600" y="4558320"/>
              <a:ext cx="331200" cy="863640"/>
            </a:xfrm>
            <a:prstGeom prst="rtTriangle">
              <a:avLst/>
            </a:prstGeom>
            <a:solidFill>
              <a:srgbClr val="dee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直角三角形 41"/>
            <p:cNvSpPr/>
            <p:nvPr/>
          </p:nvSpPr>
          <p:spPr>
            <a:xfrm flipH="1" rot="4251600">
              <a:off x="2131560" y="4249080"/>
              <a:ext cx="331200" cy="863640"/>
            </a:xfrm>
            <a:prstGeom prst="rtTriangle">
              <a:avLst/>
            </a:prstGeom>
            <a:solidFill>
              <a:srgbClr val="bdd7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3" name="组合 43"/>
          <p:cNvGrpSpPr/>
          <p:nvPr/>
        </p:nvGrpSpPr>
        <p:grpSpPr>
          <a:xfrm>
            <a:off x="9539640" y="533520"/>
            <a:ext cx="826560" cy="781920"/>
            <a:chOff x="9539640" y="533520"/>
            <a:chExt cx="826560" cy="781920"/>
          </a:xfrm>
        </p:grpSpPr>
        <p:sp>
          <p:nvSpPr>
            <p:cNvPr id="894" name="直角三角形 44"/>
            <p:cNvSpPr/>
            <p:nvPr/>
          </p:nvSpPr>
          <p:spPr>
            <a:xfrm rot="3506400">
              <a:off x="9892440" y="703080"/>
              <a:ext cx="250560" cy="663480"/>
            </a:xfrm>
            <a:prstGeom prst="rtTriangle">
              <a:avLst/>
            </a:prstGeom>
            <a:solidFill>
              <a:srgbClr val="dee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直角三角形 45"/>
            <p:cNvSpPr/>
            <p:nvPr/>
          </p:nvSpPr>
          <p:spPr>
            <a:xfrm flipH="1" rot="3506400">
              <a:off x="9761760" y="482760"/>
              <a:ext cx="252360" cy="663480"/>
            </a:xfrm>
            <a:prstGeom prst="rtTriangle">
              <a:avLst/>
            </a:prstGeom>
            <a:solidFill>
              <a:srgbClr val="bdd7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6" name="文本框 62"/>
          <p:cNvSpPr/>
          <p:nvPr/>
        </p:nvSpPr>
        <p:spPr>
          <a:xfrm>
            <a:off x="6939000" y="2346480"/>
            <a:ext cx="1316160" cy="52056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000"/>
                </a:solidFill>
                <a:latin typeface="微软雅黑 Light"/>
                <a:ea typeface="微软雅黑 Light"/>
              </a:rPr>
              <a:t>千库网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文本框 61"/>
          <p:cNvSpPr/>
          <p:nvPr/>
        </p:nvSpPr>
        <p:spPr>
          <a:xfrm>
            <a:off x="4799160" y="3425760"/>
            <a:ext cx="572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d7d31"/>
                </a:solidFill>
                <a:latin typeface="Impact"/>
                <a:ea typeface="微软雅黑"/>
              </a:rPr>
              <a:t>THANK</a:t>
            </a:r>
            <a:r>
              <a:rPr b="0" lang="en-US" sz="9600" spc="-1" strike="noStrike">
                <a:solidFill>
                  <a:srgbClr val="00b0f0"/>
                </a:solidFill>
                <a:latin typeface="Impact"/>
                <a:ea typeface="微软雅黑"/>
              </a:rPr>
              <a:t> </a:t>
            </a:r>
            <a:r>
              <a:rPr b="0" lang="en-US" sz="9600" spc="-1" strike="noStrike">
                <a:solidFill>
                  <a:srgbClr val="ffc000"/>
                </a:solidFill>
                <a:latin typeface="Impact"/>
                <a:ea typeface="微软雅黑"/>
              </a:rPr>
              <a:t>YO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random/>
  </p:transition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nodeType="clickEffect" fill="hold">
                      <p:stCondLst>
                        <p:cond delay="indefinite"/>
                      </p:stCondLst>
                      <p:childTnLst>
                        <p:par>
                          <p:cTn id="1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文本框 3"/>
          <p:cNvSpPr/>
          <p:nvPr/>
        </p:nvSpPr>
        <p:spPr>
          <a:xfrm>
            <a:off x="1654200" y="1170000"/>
            <a:ext cx="9021600" cy="23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83e6"/>
                </a:solidFill>
                <a:latin typeface="微软雅黑"/>
                <a:ea typeface="微软雅黑"/>
              </a:rPr>
              <a:t>版权声明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83e6"/>
                </a:solidFill>
                <a:latin typeface="微软雅黑"/>
                <a:ea typeface="微软雅黑"/>
              </a:rPr>
              <a:t>感谢您下载千库网平台上提供的</a:t>
            </a:r>
            <a:r>
              <a:rPr b="0" lang="en-US" sz="1200" spc="-1" strike="noStrike">
                <a:solidFill>
                  <a:srgbClr val="0083e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83e6"/>
                </a:solidFill>
                <a:latin typeface="微软雅黑"/>
                <a:ea typeface="微软雅黑"/>
              </a:rPr>
              <a:t>作品，为了您和千库网以及原创作者的利益，请勿复制、传播、销售，否则将承担法律责任！千库网将对作品进行维权，按照传播下载次数进行十倍的索取赔偿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3e6"/>
                </a:solidFill>
                <a:latin typeface="微软雅黑"/>
                <a:ea typeface="微软雅黑"/>
              </a:rPr>
              <a:t>1.</a:t>
            </a:r>
            <a:r>
              <a:rPr b="0" lang="zh-CN" sz="1200" spc="-1" strike="noStrike">
                <a:solidFill>
                  <a:srgbClr val="0083e6"/>
                </a:solidFill>
                <a:latin typeface="微软雅黑"/>
                <a:ea typeface="微软雅黑"/>
              </a:rPr>
              <a:t>在千库网出售的</a:t>
            </a:r>
            <a:r>
              <a:rPr b="0" lang="en-US" sz="1200" spc="-1" strike="noStrike">
                <a:solidFill>
                  <a:srgbClr val="0083e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83e6"/>
                </a:solidFill>
                <a:latin typeface="微软雅黑"/>
                <a:ea typeface="微软雅黑"/>
              </a:rPr>
              <a:t>模板是免版税类（</a:t>
            </a:r>
            <a:r>
              <a:rPr b="0" lang="en-US" sz="1200" spc="-1" strike="noStrike">
                <a:solidFill>
                  <a:srgbClr val="0083e6"/>
                </a:solidFill>
                <a:latin typeface="微软雅黑"/>
                <a:ea typeface="微软雅黑"/>
              </a:rPr>
              <a:t>RF</a:t>
            </a:r>
            <a:r>
              <a:rPr b="0" lang="zh-CN" sz="1200" spc="-1" strike="noStrike">
                <a:solidFill>
                  <a:srgbClr val="0083e6"/>
                </a:solidFill>
                <a:latin typeface="微软雅黑"/>
                <a:ea typeface="微软雅黑"/>
              </a:rPr>
              <a:t>：</a:t>
            </a:r>
            <a:r>
              <a:rPr b="0" lang="en-US" sz="1200" spc="-1" strike="noStrike">
                <a:solidFill>
                  <a:srgbClr val="0083e6"/>
                </a:solidFill>
                <a:latin typeface="微软雅黑"/>
                <a:ea typeface="微软雅黑"/>
              </a:rPr>
              <a:t>Royalty-Free</a:t>
            </a:r>
            <a:r>
              <a:rPr b="0" lang="zh-CN" sz="1200" spc="-1" strike="noStrike">
                <a:solidFill>
                  <a:srgbClr val="0083e6"/>
                </a:solidFill>
                <a:latin typeface="微软雅黑"/>
                <a:ea typeface="微软雅黑"/>
              </a:rPr>
              <a:t>）正版受</a:t>
            </a:r>
            <a:r>
              <a:rPr b="0" lang="en-US" sz="1200" spc="-1" strike="noStrike">
                <a:solidFill>
                  <a:srgbClr val="0083e6"/>
                </a:solidFill>
                <a:latin typeface="微软雅黑"/>
                <a:ea typeface="微软雅黑"/>
              </a:rPr>
              <a:t>《</a:t>
            </a:r>
            <a:r>
              <a:rPr b="0" lang="zh-CN" sz="1200" spc="-1" strike="noStrike">
                <a:solidFill>
                  <a:srgbClr val="0083e6"/>
                </a:solidFill>
                <a:latin typeface="微软雅黑"/>
                <a:ea typeface="微软雅黑"/>
              </a:rPr>
              <a:t>中国人民共和国著作法</a:t>
            </a:r>
            <a:r>
              <a:rPr b="0" lang="en-US" sz="1200" spc="-1" strike="noStrike">
                <a:solidFill>
                  <a:srgbClr val="0083e6"/>
                </a:solidFill>
                <a:latin typeface="微软雅黑"/>
                <a:ea typeface="微软雅黑"/>
              </a:rPr>
              <a:t>》</a:t>
            </a:r>
            <a:r>
              <a:rPr b="0" lang="zh-CN" sz="1200" spc="-1" strike="noStrike">
                <a:solidFill>
                  <a:srgbClr val="0083e6"/>
                </a:solidFill>
                <a:latin typeface="微软雅黑"/>
                <a:ea typeface="微软雅黑"/>
              </a:rPr>
              <a:t>和</a:t>
            </a:r>
            <a:r>
              <a:rPr b="0" lang="en-US" sz="1200" spc="-1" strike="noStrike">
                <a:solidFill>
                  <a:srgbClr val="0083e6"/>
                </a:solidFill>
                <a:latin typeface="微软雅黑"/>
                <a:ea typeface="微软雅黑"/>
              </a:rPr>
              <a:t>《</a:t>
            </a:r>
            <a:r>
              <a:rPr b="0" lang="zh-CN" sz="1200" spc="-1" strike="noStrike">
                <a:solidFill>
                  <a:srgbClr val="0083e6"/>
                </a:solidFill>
                <a:latin typeface="微软雅黑"/>
                <a:ea typeface="微软雅黑"/>
              </a:rPr>
              <a:t>世界版权公约</a:t>
            </a:r>
            <a:r>
              <a:rPr b="0" lang="en-US" sz="1200" spc="-1" strike="noStrike">
                <a:solidFill>
                  <a:srgbClr val="0083e6"/>
                </a:solidFill>
                <a:latin typeface="微软雅黑"/>
                <a:ea typeface="微软雅黑"/>
              </a:rPr>
              <a:t>》</a:t>
            </a:r>
            <a:r>
              <a:rPr b="0" lang="zh-CN" sz="1200" spc="-1" strike="noStrike">
                <a:solidFill>
                  <a:srgbClr val="0083e6"/>
                </a:solidFill>
                <a:latin typeface="微软雅黑"/>
                <a:ea typeface="微软雅黑"/>
              </a:rPr>
              <a:t>的保护，作品的所有权、版权和著作权归千库网所有，您下载的是</a:t>
            </a:r>
            <a:r>
              <a:rPr b="0" lang="en-US" sz="1200" spc="-1" strike="noStrike">
                <a:solidFill>
                  <a:srgbClr val="0083e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83e6"/>
                </a:solidFill>
                <a:latin typeface="微软雅黑"/>
                <a:ea typeface="微软雅黑"/>
              </a:rPr>
              <a:t>模板素材的使用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3e6"/>
                </a:solidFill>
                <a:latin typeface="微软雅黑"/>
                <a:ea typeface="微软雅黑"/>
              </a:rPr>
              <a:t>2.</a:t>
            </a:r>
            <a:r>
              <a:rPr b="0" lang="zh-CN" sz="1200" spc="-1" strike="noStrike">
                <a:solidFill>
                  <a:srgbClr val="0083e6"/>
                </a:solidFill>
                <a:latin typeface="微软雅黑"/>
                <a:ea typeface="微软雅黑"/>
              </a:rPr>
              <a:t>不得将千库网的</a:t>
            </a:r>
            <a:r>
              <a:rPr b="0" lang="en-US" sz="1200" spc="-1" strike="noStrike">
                <a:solidFill>
                  <a:srgbClr val="0083e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83e6"/>
                </a:solidFill>
                <a:latin typeface="微软雅黑"/>
                <a:ea typeface="微软雅黑"/>
              </a:rPr>
              <a:t>模板、</a:t>
            </a:r>
            <a:r>
              <a:rPr b="0" lang="en-US" sz="1200" spc="-1" strike="noStrike">
                <a:solidFill>
                  <a:srgbClr val="0083e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83e6"/>
                </a:solidFill>
                <a:latin typeface="微软雅黑"/>
                <a:ea typeface="微软雅黑"/>
              </a:rPr>
              <a:t>素材，本身用于再出售，或者出租、出借、转让、分销、发布或者作为礼物供他人使用，不得转授权、出卖、转让本协议或者本协议中的权利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文本框 8"/>
          <p:cNvSpPr/>
          <p:nvPr/>
        </p:nvSpPr>
        <p:spPr>
          <a:xfrm>
            <a:off x="1654200" y="4719600"/>
            <a:ext cx="72946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83e6"/>
                </a:solidFill>
                <a:latin typeface="Calibri"/>
              </a:rPr>
              <a:t>更多精品</a:t>
            </a:r>
            <a:r>
              <a:rPr b="1" lang="en-US" sz="2300" spc="-1" strike="noStrike">
                <a:solidFill>
                  <a:srgbClr val="0083e6"/>
                </a:solidFill>
                <a:latin typeface="Calibri"/>
              </a:rPr>
              <a:t>PPT</a:t>
            </a:r>
            <a:r>
              <a:rPr b="1" lang="zh-CN" sz="2300" spc="-1" strike="noStrike">
                <a:solidFill>
                  <a:srgbClr val="0083e6"/>
                </a:solidFill>
                <a:latin typeface="Calibri"/>
              </a:rPr>
              <a:t>模板：</a:t>
            </a:r>
            <a:r>
              <a:rPr b="1" lang="en-US" sz="2300" spc="-1" strike="noStrike">
                <a:solidFill>
                  <a:srgbClr val="0083e6"/>
                </a:solidFill>
                <a:latin typeface="Calibri"/>
              </a:rPr>
              <a:t>http://588ku.com/ppt/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矩形 3"/>
          <p:cNvSpPr/>
          <p:nvPr/>
        </p:nvSpPr>
        <p:spPr>
          <a:xfrm>
            <a:off x="4932360" y="2249640"/>
            <a:ext cx="7259760" cy="2582640"/>
          </a:xfrm>
          <a:prstGeom prst="rect">
            <a:avLst/>
          </a:prstGeom>
          <a:solidFill>
            <a:srgbClr val="dce4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4" name="图片 7" descr=""/>
          <p:cNvPicPr/>
          <p:nvPr/>
        </p:nvPicPr>
        <p:blipFill>
          <a:blip r:embed="rId1"/>
          <a:stretch/>
        </p:blipFill>
        <p:spPr>
          <a:xfrm>
            <a:off x="947880" y="1414440"/>
            <a:ext cx="4829040" cy="4500720"/>
          </a:xfrm>
          <a:prstGeom prst="rect">
            <a:avLst/>
          </a:prstGeom>
          <a:ln w="0">
            <a:noFill/>
          </a:ln>
        </p:spPr>
      </p:pic>
      <p:grpSp>
        <p:nvGrpSpPr>
          <p:cNvPr id="555" name="组合 11"/>
          <p:cNvGrpSpPr/>
          <p:nvPr/>
        </p:nvGrpSpPr>
        <p:grpSpPr>
          <a:xfrm>
            <a:off x="5916600" y="2579760"/>
            <a:ext cx="6647040" cy="1667160"/>
            <a:chOff x="5916600" y="2579760"/>
            <a:chExt cx="6647040" cy="1667160"/>
          </a:xfrm>
        </p:grpSpPr>
        <p:sp>
          <p:nvSpPr>
            <p:cNvPr id="556" name="文本框 8"/>
            <p:cNvSpPr/>
            <p:nvPr/>
          </p:nvSpPr>
          <p:spPr>
            <a:xfrm>
              <a:off x="5916600" y="2579760"/>
              <a:ext cx="6136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ed7d31"/>
                  </a:solidFill>
                  <a:latin typeface="微软雅黑"/>
                  <a:ea typeface="微软雅黑"/>
                </a:rPr>
                <a:t>01 </a:t>
              </a:r>
              <a:r>
                <a:rPr b="1" lang="zh-CN" sz="5400" spc="-1" strike="noStrike">
                  <a:solidFill>
                    <a:srgbClr val="ed7d31"/>
                  </a:solidFill>
                  <a:latin typeface="微软雅黑"/>
                  <a:ea typeface="微软雅黑"/>
                </a:rPr>
                <a:t>请添加文本标题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文本框 9"/>
            <p:cNvSpPr/>
            <p:nvPr/>
          </p:nvSpPr>
          <p:spPr>
            <a:xfrm>
              <a:off x="7154640" y="3665520"/>
              <a:ext cx="540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67171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直接连接符 10"/>
            <p:cNvSpPr/>
            <p:nvPr/>
          </p:nvSpPr>
          <p:spPr>
            <a:xfrm>
              <a:off x="6095880" y="3567240"/>
              <a:ext cx="5858280" cy="0"/>
            </a:xfrm>
            <a:prstGeom prst="line">
              <a:avLst/>
            </a:prstGeom>
            <a:ln w="648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random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12168360" cy="685152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1" descr=""/>
          <p:cNvPicPr/>
          <p:nvPr/>
        </p:nvPicPr>
        <p:blipFill>
          <a:blip r:embed="rId2"/>
          <a:stretch/>
        </p:blipFill>
        <p:spPr>
          <a:xfrm>
            <a:off x="3381480" y="1081080"/>
            <a:ext cx="2490840" cy="2760840"/>
          </a:xfrm>
          <a:prstGeom prst="rect">
            <a:avLst/>
          </a:prstGeom>
          <a:ln w="0">
            <a:noFill/>
          </a:ln>
        </p:spPr>
      </p:pic>
      <p:sp>
        <p:nvSpPr>
          <p:cNvPr id="561" name="矩形 10"/>
          <p:cNvSpPr/>
          <p:nvPr/>
        </p:nvSpPr>
        <p:spPr>
          <a:xfrm>
            <a:off x="-33480" y="6480"/>
            <a:ext cx="12201840" cy="6858000"/>
          </a:xfrm>
          <a:prstGeom prst="rect">
            <a:avLst/>
          </a:prstGeom>
          <a:solidFill>
            <a:srgbClr val="7f7f7f">
              <a:alpha val="50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矩形 29"/>
          <p:cNvSpPr/>
          <p:nvPr/>
        </p:nvSpPr>
        <p:spPr>
          <a:xfrm>
            <a:off x="-9360" y="209520"/>
            <a:ext cx="142560" cy="49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文本框 30"/>
          <p:cNvSpPr/>
          <p:nvPr/>
        </p:nvSpPr>
        <p:spPr>
          <a:xfrm>
            <a:off x="227160" y="227160"/>
            <a:ext cx="30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4" name="Picture 7" descr=""/>
          <p:cNvPicPr/>
          <p:nvPr/>
        </p:nvPicPr>
        <p:blipFill>
          <a:blip r:embed="rId3"/>
          <a:stretch/>
        </p:blipFill>
        <p:spPr>
          <a:xfrm>
            <a:off x="5641920" y="452520"/>
            <a:ext cx="6526440" cy="6405480"/>
          </a:xfrm>
          <a:prstGeom prst="rect">
            <a:avLst/>
          </a:prstGeom>
          <a:ln w="0">
            <a:noFill/>
          </a:ln>
        </p:spPr>
      </p:pic>
      <p:grpSp>
        <p:nvGrpSpPr>
          <p:cNvPr id="565" name="组合 1"/>
          <p:cNvGrpSpPr/>
          <p:nvPr/>
        </p:nvGrpSpPr>
        <p:grpSpPr>
          <a:xfrm>
            <a:off x="7332840" y="2244600"/>
            <a:ext cx="4314600" cy="3463920"/>
            <a:chOff x="7332840" y="2244600"/>
            <a:chExt cx="4314600" cy="3463920"/>
          </a:xfrm>
        </p:grpSpPr>
        <p:sp>
          <p:nvSpPr>
            <p:cNvPr id="566" name="矩形 6"/>
            <p:cNvSpPr/>
            <p:nvPr/>
          </p:nvSpPr>
          <p:spPr>
            <a:xfrm>
              <a:off x="7332840" y="3948480"/>
              <a:ext cx="4314600" cy="17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20000"/>
                </a:lnSpc>
                <a:spcBef>
                  <a:spcPts val="451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en-US" sz="1800" spc="-1" strike="noStrike">
                  <a:solidFill>
                    <a:srgbClr val="445469"/>
                  </a:solidFill>
                  <a:latin typeface="微软雅黑"/>
                  <a:ea typeface="微软雅黑"/>
                </a:rPr>
                <a:t>We have many PowerPoint template that specially designed to help you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spcBef>
                  <a:spcPts val="451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spcBef>
                  <a:spcPts val="451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en-US" sz="1800" spc="-1" strike="noStrike">
                  <a:solidFill>
                    <a:srgbClr val="445469"/>
                  </a:solidFill>
                  <a:latin typeface="微软雅黑"/>
                  <a:ea typeface="微软雅黑"/>
                </a:rPr>
                <a:t>We have many PowerPoint template that specially designed to help you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TextBox 13"/>
            <p:cNvSpPr/>
            <p:nvPr/>
          </p:nvSpPr>
          <p:spPr>
            <a:xfrm>
              <a:off x="7565040" y="3413880"/>
              <a:ext cx="3374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2000" spc="-1" strike="noStrike">
                  <a:solidFill>
                    <a:srgbClr val="445469"/>
                  </a:solidFill>
                  <a:latin typeface="Arial"/>
                  <a:ea typeface="微软雅黑"/>
                </a:rPr>
                <a:t>单击编辑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12"/>
            <p:cNvSpPr/>
            <p:nvPr/>
          </p:nvSpPr>
          <p:spPr>
            <a:xfrm>
              <a:off x="8736840" y="2244600"/>
              <a:ext cx="1171440" cy="942120"/>
            </a:xfrm>
            <a:custGeom>
              <a:avLst/>
              <a:gdLst/>
              <a:ahLst/>
              <a:rect l="l" t="t" r="r" b="b"/>
              <a:pathLst>
                <a:path w="174" h="140">
                  <a:moveTo>
                    <a:pt x="44" y="121"/>
                  </a:moveTo>
                  <a:lnTo>
                    <a:pt x="31" y="140"/>
                  </a:lnTo>
                  <a:lnTo>
                    <a:pt x="141" y="140"/>
                  </a:lnTo>
                  <a:lnTo>
                    <a:pt x="128" y="121"/>
                  </a:lnTo>
                  <a:lnTo>
                    <a:pt x="44" y="121"/>
                  </a:lnTo>
                  <a:close/>
                  <a:moveTo>
                    <a:pt x="0" y="0"/>
                  </a:moveTo>
                  <a:lnTo>
                    <a:pt x="0" y="106"/>
                  </a:lnTo>
                  <a:lnTo>
                    <a:pt x="174" y="106"/>
                  </a:lnTo>
                  <a:lnTo>
                    <a:pt x="174" y="0"/>
                  </a:lnTo>
                  <a:lnTo>
                    <a:pt x="0" y="0"/>
                  </a:lnTo>
                  <a:close/>
                  <a:moveTo>
                    <a:pt x="162" y="95"/>
                  </a:moveTo>
                  <a:lnTo>
                    <a:pt x="11" y="95"/>
                  </a:lnTo>
                  <a:lnTo>
                    <a:pt x="11" y="11"/>
                  </a:lnTo>
                  <a:lnTo>
                    <a:pt x="162" y="11"/>
                  </a:lnTo>
                  <a:lnTo>
                    <a:pt x="162" y="95"/>
                  </a:lnTo>
                  <a:close/>
                </a:path>
              </a:pathLst>
            </a:custGeom>
            <a:solidFill>
              <a:srgbClr val="4454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矩形 29"/>
          <p:cNvSpPr/>
          <p:nvPr/>
        </p:nvSpPr>
        <p:spPr>
          <a:xfrm>
            <a:off x="-9360" y="209520"/>
            <a:ext cx="142560" cy="49536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文本框 30"/>
          <p:cNvSpPr/>
          <p:nvPr/>
        </p:nvSpPr>
        <p:spPr>
          <a:xfrm>
            <a:off x="227160" y="227160"/>
            <a:ext cx="30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traight Connector 15"/>
          <p:cNvSpPr/>
          <p:nvPr/>
        </p:nvSpPr>
        <p:spPr>
          <a:xfrm>
            <a:off x="974880" y="3692520"/>
            <a:ext cx="9928080" cy="0"/>
          </a:xfrm>
          <a:prstGeom prst="line">
            <a:avLst/>
          </a:prstGeom>
          <a:ln w="2844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Oval 20"/>
          <p:cNvSpPr/>
          <p:nvPr/>
        </p:nvSpPr>
        <p:spPr>
          <a:xfrm flipV="1">
            <a:off x="3741840" y="4254480"/>
            <a:ext cx="1123920" cy="1123920"/>
          </a:xfrm>
          <a:prstGeom prst="ellipse">
            <a:avLst/>
          </a:prstGeom>
          <a:solidFill>
            <a:srgbClr val="9ad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Isosceles Triangle 21"/>
          <p:cNvSpPr/>
          <p:nvPr/>
        </p:nvSpPr>
        <p:spPr>
          <a:xfrm>
            <a:off x="4181400" y="4100400"/>
            <a:ext cx="243000" cy="231840"/>
          </a:xfrm>
          <a:prstGeom prst="triangle">
            <a:avLst>
              <a:gd name="adj" fmla="val 50000"/>
            </a:avLst>
          </a:prstGeom>
          <a:solidFill>
            <a:srgbClr val="9ad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traight Connector 22"/>
          <p:cNvSpPr/>
          <p:nvPr/>
        </p:nvSpPr>
        <p:spPr>
          <a:xfrm flipV="1">
            <a:off x="4303800" y="3686040"/>
            <a:ext cx="0" cy="471600"/>
          </a:xfrm>
          <a:prstGeom prst="line">
            <a:avLst/>
          </a:prstGeom>
          <a:ln w="6480">
            <a:solidFill>
              <a:srgbClr val="9ad3dc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Freeform 16"/>
          <p:cNvSpPr/>
          <p:nvPr/>
        </p:nvSpPr>
        <p:spPr>
          <a:xfrm>
            <a:off x="4084560" y="4597560"/>
            <a:ext cx="436680" cy="436320"/>
          </a:xfrm>
          <a:custGeom>
            <a:avLst/>
            <a:gdLst/>
            <a:ahLst/>
            <a:rect l="l" t="t" r="r" b="b"/>
            <a:pathLst>
              <a:path w="371" h="370">
                <a:moveTo>
                  <a:pt x="183" y="1"/>
                </a:moveTo>
                <a:cubicBezTo>
                  <a:pt x="82" y="2"/>
                  <a:pt x="0" y="86"/>
                  <a:pt x="2" y="187"/>
                </a:cubicBezTo>
                <a:cubicBezTo>
                  <a:pt x="3" y="289"/>
                  <a:pt x="87" y="370"/>
                  <a:pt x="188" y="369"/>
                </a:cubicBezTo>
                <a:cubicBezTo>
                  <a:pt x="290" y="368"/>
                  <a:pt x="371" y="284"/>
                  <a:pt x="370" y="182"/>
                </a:cubicBezTo>
                <a:cubicBezTo>
                  <a:pt x="368" y="81"/>
                  <a:pt x="285" y="0"/>
                  <a:pt x="183" y="1"/>
                </a:cubicBezTo>
                <a:close/>
                <a:moveTo>
                  <a:pt x="184" y="25"/>
                </a:moveTo>
                <a:cubicBezTo>
                  <a:pt x="211" y="25"/>
                  <a:pt x="237" y="31"/>
                  <a:pt x="260" y="43"/>
                </a:cubicBezTo>
                <a:cubicBezTo>
                  <a:pt x="235" y="84"/>
                  <a:pt x="235" y="84"/>
                  <a:pt x="235" y="84"/>
                </a:cubicBezTo>
                <a:cubicBezTo>
                  <a:pt x="220" y="77"/>
                  <a:pt x="203" y="73"/>
                  <a:pt x="186" y="73"/>
                </a:cubicBezTo>
                <a:cubicBezTo>
                  <a:pt x="168" y="73"/>
                  <a:pt x="151" y="77"/>
                  <a:pt x="137" y="84"/>
                </a:cubicBezTo>
                <a:cubicBezTo>
                  <a:pt x="112" y="43"/>
                  <a:pt x="112" y="43"/>
                  <a:pt x="112" y="43"/>
                </a:cubicBezTo>
                <a:cubicBezTo>
                  <a:pt x="133" y="32"/>
                  <a:pt x="158" y="25"/>
                  <a:pt x="184" y="25"/>
                </a:cubicBezTo>
                <a:close/>
                <a:moveTo>
                  <a:pt x="85" y="234"/>
                </a:moveTo>
                <a:cubicBezTo>
                  <a:pt x="44" y="259"/>
                  <a:pt x="44" y="259"/>
                  <a:pt x="44" y="259"/>
                </a:cubicBezTo>
                <a:cubicBezTo>
                  <a:pt x="33" y="237"/>
                  <a:pt x="26" y="213"/>
                  <a:pt x="26" y="187"/>
                </a:cubicBezTo>
                <a:cubicBezTo>
                  <a:pt x="25" y="160"/>
                  <a:pt x="32" y="134"/>
                  <a:pt x="44" y="111"/>
                </a:cubicBezTo>
                <a:cubicBezTo>
                  <a:pt x="85" y="136"/>
                  <a:pt x="85" y="136"/>
                  <a:pt x="85" y="136"/>
                </a:cubicBezTo>
                <a:cubicBezTo>
                  <a:pt x="78" y="151"/>
                  <a:pt x="74" y="167"/>
                  <a:pt x="74" y="185"/>
                </a:cubicBezTo>
                <a:cubicBezTo>
                  <a:pt x="74" y="203"/>
                  <a:pt x="78" y="219"/>
                  <a:pt x="85" y="234"/>
                </a:cubicBezTo>
                <a:close/>
                <a:moveTo>
                  <a:pt x="188" y="345"/>
                </a:moveTo>
                <a:cubicBezTo>
                  <a:pt x="161" y="345"/>
                  <a:pt x="135" y="339"/>
                  <a:pt x="112" y="327"/>
                </a:cubicBezTo>
                <a:cubicBezTo>
                  <a:pt x="137" y="286"/>
                  <a:pt x="137" y="286"/>
                  <a:pt x="137" y="286"/>
                </a:cubicBezTo>
                <a:cubicBezTo>
                  <a:pt x="151" y="293"/>
                  <a:pt x="168" y="297"/>
                  <a:pt x="186" y="297"/>
                </a:cubicBezTo>
                <a:cubicBezTo>
                  <a:pt x="203" y="297"/>
                  <a:pt x="220" y="293"/>
                  <a:pt x="235" y="286"/>
                </a:cubicBezTo>
                <a:cubicBezTo>
                  <a:pt x="260" y="327"/>
                  <a:pt x="260" y="327"/>
                  <a:pt x="260" y="327"/>
                </a:cubicBezTo>
                <a:cubicBezTo>
                  <a:pt x="238" y="338"/>
                  <a:pt x="214" y="345"/>
                  <a:pt x="188" y="345"/>
                </a:cubicBezTo>
                <a:close/>
                <a:moveTo>
                  <a:pt x="186" y="273"/>
                </a:moveTo>
                <a:cubicBezTo>
                  <a:pt x="137" y="273"/>
                  <a:pt x="98" y="233"/>
                  <a:pt x="98" y="185"/>
                </a:cubicBezTo>
                <a:cubicBezTo>
                  <a:pt x="98" y="136"/>
                  <a:pt x="137" y="97"/>
                  <a:pt x="186" y="97"/>
                </a:cubicBezTo>
                <a:cubicBezTo>
                  <a:pt x="234" y="97"/>
                  <a:pt x="274" y="136"/>
                  <a:pt x="274" y="185"/>
                </a:cubicBezTo>
                <a:cubicBezTo>
                  <a:pt x="274" y="233"/>
                  <a:pt x="234" y="273"/>
                  <a:pt x="186" y="273"/>
                </a:cubicBezTo>
                <a:close/>
                <a:moveTo>
                  <a:pt x="286" y="234"/>
                </a:moveTo>
                <a:cubicBezTo>
                  <a:pt x="294" y="219"/>
                  <a:pt x="298" y="203"/>
                  <a:pt x="298" y="185"/>
                </a:cubicBezTo>
                <a:cubicBezTo>
                  <a:pt x="298" y="167"/>
                  <a:pt x="294" y="151"/>
                  <a:pt x="286" y="136"/>
                </a:cubicBezTo>
                <a:cubicBezTo>
                  <a:pt x="328" y="111"/>
                  <a:pt x="328" y="111"/>
                  <a:pt x="328" y="111"/>
                </a:cubicBezTo>
                <a:cubicBezTo>
                  <a:pt x="339" y="133"/>
                  <a:pt x="345" y="157"/>
                  <a:pt x="346" y="183"/>
                </a:cubicBezTo>
                <a:cubicBezTo>
                  <a:pt x="346" y="210"/>
                  <a:pt x="340" y="236"/>
                  <a:pt x="328" y="259"/>
                </a:cubicBezTo>
                <a:lnTo>
                  <a:pt x="286" y="2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Oval 27"/>
          <p:cNvSpPr/>
          <p:nvPr/>
        </p:nvSpPr>
        <p:spPr>
          <a:xfrm flipV="1">
            <a:off x="7149960" y="4254480"/>
            <a:ext cx="1123920" cy="1123920"/>
          </a:xfrm>
          <a:prstGeom prst="ellipse">
            <a:avLst/>
          </a:prstGeom>
          <a:solidFill>
            <a:srgbClr val="b6d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Isosceles Triangle 29"/>
          <p:cNvSpPr/>
          <p:nvPr/>
        </p:nvSpPr>
        <p:spPr>
          <a:xfrm>
            <a:off x="7591320" y="4100400"/>
            <a:ext cx="243000" cy="231840"/>
          </a:xfrm>
          <a:prstGeom prst="triangle">
            <a:avLst>
              <a:gd name="adj" fmla="val 50000"/>
            </a:avLst>
          </a:prstGeom>
          <a:solidFill>
            <a:srgbClr val="b6d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traight Connector 30"/>
          <p:cNvSpPr/>
          <p:nvPr/>
        </p:nvSpPr>
        <p:spPr>
          <a:xfrm flipV="1">
            <a:off x="7711920" y="3686040"/>
            <a:ext cx="0" cy="471600"/>
          </a:xfrm>
          <a:prstGeom prst="line">
            <a:avLst/>
          </a:prstGeom>
          <a:ln w="6480">
            <a:solidFill>
              <a:srgbClr val="a5ca36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Freeform 26"/>
          <p:cNvSpPr/>
          <p:nvPr/>
        </p:nvSpPr>
        <p:spPr>
          <a:xfrm>
            <a:off x="7551720" y="4626000"/>
            <a:ext cx="320760" cy="401760"/>
          </a:xfrm>
          <a:custGeom>
            <a:avLst/>
            <a:gdLst/>
            <a:ahLst/>
            <a:rect l="l" t="t" r="r" b="b"/>
            <a:pathLst>
              <a:path w="321" h="402">
                <a:moveTo>
                  <a:pt x="311" y="99"/>
                </a:moveTo>
                <a:cubicBezTo>
                  <a:pt x="301" y="40"/>
                  <a:pt x="246" y="0"/>
                  <a:pt x="189" y="11"/>
                </a:cubicBezTo>
                <a:cubicBezTo>
                  <a:pt x="132" y="21"/>
                  <a:pt x="84" y="67"/>
                  <a:pt x="94" y="126"/>
                </a:cubicBezTo>
                <a:cubicBezTo>
                  <a:pt x="96" y="139"/>
                  <a:pt x="102" y="159"/>
                  <a:pt x="109" y="174"/>
                </a:cubicBezTo>
                <a:cubicBezTo>
                  <a:pt x="6" y="328"/>
                  <a:pt x="6" y="328"/>
                  <a:pt x="6" y="328"/>
                </a:cubicBezTo>
                <a:cubicBezTo>
                  <a:pt x="2" y="334"/>
                  <a:pt x="0" y="344"/>
                  <a:pt x="1" y="351"/>
                </a:cubicBezTo>
                <a:cubicBezTo>
                  <a:pt x="8" y="390"/>
                  <a:pt x="8" y="390"/>
                  <a:pt x="8" y="390"/>
                </a:cubicBezTo>
                <a:cubicBezTo>
                  <a:pt x="9" y="397"/>
                  <a:pt x="15" y="402"/>
                  <a:pt x="22" y="401"/>
                </a:cubicBezTo>
                <a:cubicBezTo>
                  <a:pt x="52" y="395"/>
                  <a:pt x="52" y="395"/>
                  <a:pt x="52" y="395"/>
                </a:cubicBezTo>
                <a:cubicBezTo>
                  <a:pt x="59" y="394"/>
                  <a:pt x="67" y="388"/>
                  <a:pt x="71" y="382"/>
                </a:cubicBezTo>
                <a:cubicBezTo>
                  <a:pt x="111" y="316"/>
                  <a:pt x="111" y="316"/>
                  <a:pt x="111" y="316"/>
                </a:cubicBezTo>
                <a:cubicBezTo>
                  <a:pt x="112" y="316"/>
                  <a:pt x="112" y="316"/>
                  <a:pt x="112" y="316"/>
                </a:cubicBezTo>
                <a:cubicBezTo>
                  <a:pt x="140" y="311"/>
                  <a:pt x="140" y="311"/>
                  <a:pt x="140" y="311"/>
                </a:cubicBezTo>
                <a:cubicBezTo>
                  <a:pt x="187" y="233"/>
                  <a:pt x="187" y="233"/>
                  <a:pt x="187" y="233"/>
                </a:cubicBezTo>
                <a:cubicBezTo>
                  <a:pt x="203" y="236"/>
                  <a:pt x="226" y="235"/>
                  <a:pt x="239" y="232"/>
                </a:cubicBezTo>
                <a:cubicBezTo>
                  <a:pt x="296" y="222"/>
                  <a:pt x="321" y="159"/>
                  <a:pt x="311" y="99"/>
                </a:cubicBezTo>
                <a:close/>
                <a:moveTo>
                  <a:pt x="260" y="130"/>
                </a:moveTo>
                <a:cubicBezTo>
                  <a:pt x="244" y="153"/>
                  <a:pt x="228" y="137"/>
                  <a:pt x="206" y="120"/>
                </a:cubicBezTo>
                <a:cubicBezTo>
                  <a:pt x="184" y="104"/>
                  <a:pt x="163" y="94"/>
                  <a:pt x="179" y="71"/>
                </a:cubicBezTo>
                <a:cubicBezTo>
                  <a:pt x="195" y="47"/>
                  <a:pt x="226" y="42"/>
                  <a:pt x="248" y="58"/>
                </a:cubicBezTo>
                <a:cubicBezTo>
                  <a:pt x="270" y="74"/>
                  <a:pt x="276" y="107"/>
                  <a:pt x="260" y="1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Oval 35"/>
          <p:cNvSpPr/>
          <p:nvPr/>
        </p:nvSpPr>
        <p:spPr>
          <a:xfrm>
            <a:off x="1987560" y="1998720"/>
            <a:ext cx="1123920" cy="11239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Isosceles Triangle 36"/>
          <p:cNvSpPr/>
          <p:nvPr/>
        </p:nvSpPr>
        <p:spPr>
          <a:xfrm flipV="1">
            <a:off x="2414520" y="3044880"/>
            <a:ext cx="243000" cy="23184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traight Connector 37"/>
          <p:cNvSpPr/>
          <p:nvPr/>
        </p:nvSpPr>
        <p:spPr>
          <a:xfrm>
            <a:off x="2535120" y="3219480"/>
            <a:ext cx="0" cy="471600"/>
          </a:xfrm>
          <a:prstGeom prst="line">
            <a:avLst/>
          </a:prstGeom>
          <a:ln w="6480">
            <a:solidFill>
              <a:srgbClr val="ffc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Freeform 6"/>
          <p:cNvSpPr/>
          <p:nvPr/>
        </p:nvSpPr>
        <p:spPr>
          <a:xfrm>
            <a:off x="2354400" y="2351160"/>
            <a:ext cx="384120" cy="420480"/>
          </a:xfrm>
          <a:custGeom>
            <a:avLst/>
            <a:gdLst/>
            <a:ahLst/>
            <a:rect l="l" t="t" r="r" b="b"/>
            <a:pathLst>
              <a:path w="376" h="376">
                <a:moveTo>
                  <a:pt x="347" y="284"/>
                </a:moveTo>
                <a:cubicBezTo>
                  <a:pt x="347" y="238"/>
                  <a:pt x="347" y="238"/>
                  <a:pt x="347" y="238"/>
                </a:cubicBezTo>
                <a:cubicBezTo>
                  <a:pt x="347" y="210"/>
                  <a:pt x="328" y="169"/>
                  <a:pt x="278" y="169"/>
                </a:cubicBezTo>
                <a:cubicBezTo>
                  <a:pt x="238" y="169"/>
                  <a:pt x="238" y="169"/>
                  <a:pt x="238" y="169"/>
                </a:cubicBezTo>
                <a:cubicBezTo>
                  <a:pt x="210" y="169"/>
                  <a:pt x="207" y="155"/>
                  <a:pt x="207" y="148"/>
                </a:cubicBezTo>
                <a:cubicBezTo>
                  <a:pt x="207" y="92"/>
                  <a:pt x="207" y="92"/>
                  <a:pt x="207" y="92"/>
                </a:cubicBezTo>
                <a:cubicBezTo>
                  <a:pt x="224" y="85"/>
                  <a:pt x="236" y="68"/>
                  <a:pt x="236" y="48"/>
                </a:cubicBezTo>
                <a:cubicBezTo>
                  <a:pt x="236" y="21"/>
                  <a:pt x="214" y="0"/>
                  <a:pt x="188" y="0"/>
                </a:cubicBezTo>
                <a:cubicBezTo>
                  <a:pt x="161" y="0"/>
                  <a:pt x="140" y="21"/>
                  <a:pt x="140" y="48"/>
                </a:cubicBezTo>
                <a:cubicBezTo>
                  <a:pt x="140" y="68"/>
                  <a:pt x="152" y="85"/>
                  <a:pt x="169" y="92"/>
                </a:cubicBezTo>
                <a:cubicBezTo>
                  <a:pt x="169" y="148"/>
                  <a:pt x="169" y="148"/>
                  <a:pt x="169" y="148"/>
                </a:cubicBezTo>
                <a:cubicBezTo>
                  <a:pt x="169" y="153"/>
                  <a:pt x="167" y="169"/>
                  <a:pt x="138" y="169"/>
                </a:cubicBezTo>
                <a:cubicBezTo>
                  <a:pt x="98" y="169"/>
                  <a:pt x="98" y="169"/>
                  <a:pt x="98" y="169"/>
                </a:cubicBezTo>
                <a:cubicBezTo>
                  <a:pt x="47" y="169"/>
                  <a:pt x="29" y="210"/>
                  <a:pt x="29" y="238"/>
                </a:cubicBezTo>
                <a:cubicBezTo>
                  <a:pt x="29" y="284"/>
                  <a:pt x="29" y="284"/>
                  <a:pt x="29" y="284"/>
                </a:cubicBezTo>
                <a:cubicBezTo>
                  <a:pt x="12" y="291"/>
                  <a:pt x="0" y="308"/>
                  <a:pt x="0" y="328"/>
                </a:cubicBezTo>
                <a:cubicBezTo>
                  <a:pt x="0" y="354"/>
                  <a:pt x="21" y="376"/>
                  <a:pt x="48" y="376"/>
                </a:cubicBezTo>
                <a:cubicBezTo>
                  <a:pt x="74" y="376"/>
                  <a:pt x="96" y="354"/>
                  <a:pt x="96" y="328"/>
                </a:cubicBezTo>
                <a:cubicBezTo>
                  <a:pt x="96" y="308"/>
                  <a:pt x="84" y="291"/>
                  <a:pt x="67" y="284"/>
                </a:cubicBezTo>
                <a:cubicBezTo>
                  <a:pt x="67" y="238"/>
                  <a:pt x="67" y="238"/>
                  <a:pt x="67" y="238"/>
                </a:cubicBezTo>
                <a:cubicBezTo>
                  <a:pt x="67" y="233"/>
                  <a:pt x="68" y="207"/>
                  <a:pt x="98" y="207"/>
                </a:cubicBezTo>
                <a:cubicBezTo>
                  <a:pt x="138" y="207"/>
                  <a:pt x="138" y="207"/>
                  <a:pt x="138" y="207"/>
                </a:cubicBezTo>
                <a:cubicBezTo>
                  <a:pt x="150" y="207"/>
                  <a:pt x="160" y="205"/>
                  <a:pt x="169" y="202"/>
                </a:cubicBezTo>
                <a:cubicBezTo>
                  <a:pt x="169" y="284"/>
                  <a:pt x="169" y="284"/>
                  <a:pt x="169" y="284"/>
                </a:cubicBezTo>
                <a:cubicBezTo>
                  <a:pt x="152" y="291"/>
                  <a:pt x="140" y="308"/>
                  <a:pt x="140" y="328"/>
                </a:cubicBezTo>
                <a:cubicBezTo>
                  <a:pt x="140" y="354"/>
                  <a:pt x="161" y="376"/>
                  <a:pt x="188" y="376"/>
                </a:cubicBezTo>
                <a:cubicBezTo>
                  <a:pt x="214" y="376"/>
                  <a:pt x="236" y="354"/>
                  <a:pt x="236" y="328"/>
                </a:cubicBezTo>
                <a:cubicBezTo>
                  <a:pt x="236" y="308"/>
                  <a:pt x="224" y="291"/>
                  <a:pt x="207" y="284"/>
                </a:cubicBezTo>
                <a:cubicBezTo>
                  <a:pt x="207" y="202"/>
                  <a:pt x="207" y="202"/>
                  <a:pt x="207" y="202"/>
                </a:cubicBezTo>
                <a:cubicBezTo>
                  <a:pt x="215" y="205"/>
                  <a:pt x="226" y="207"/>
                  <a:pt x="238" y="207"/>
                </a:cubicBezTo>
                <a:cubicBezTo>
                  <a:pt x="278" y="207"/>
                  <a:pt x="278" y="207"/>
                  <a:pt x="278" y="207"/>
                </a:cubicBezTo>
                <a:cubicBezTo>
                  <a:pt x="306" y="207"/>
                  <a:pt x="309" y="231"/>
                  <a:pt x="309" y="238"/>
                </a:cubicBezTo>
                <a:cubicBezTo>
                  <a:pt x="309" y="284"/>
                  <a:pt x="309" y="284"/>
                  <a:pt x="309" y="284"/>
                </a:cubicBezTo>
                <a:cubicBezTo>
                  <a:pt x="292" y="291"/>
                  <a:pt x="280" y="308"/>
                  <a:pt x="280" y="328"/>
                </a:cubicBezTo>
                <a:cubicBezTo>
                  <a:pt x="280" y="354"/>
                  <a:pt x="301" y="376"/>
                  <a:pt x="328" y="376"/>
                </a:cubicBezTo>
                <a:cubicBezTo>
                  <a:pt x="354" y="376"/>
                  <a:pt x="376" y="354"/>
                  <a:pt x="376" y="328"/>
                </a:cubicBezTo>
                <a:cubicBezTo>
                  <a:pt x="376" y="308"/>
                  <a:pt x="364" y="291"/>
                  <a:pt x="347" y="284"/>
                </a:cubicBezTo>
                <a:close/>
                <a:moveTo>
                  <a:pt x="75" y="328"/>
                </a:moveTo>
                <a:cubicBezTo>
                  <a:pt x="75" y="343"/>
                  <a:pt x="63" y="356"/>
                  <a:pt x="48" y="356"/>
                </a:cubicBezTo>
                <a:cubicBezTo>
                  <a:pt x="32" y="356"/>
                  <a:pt x="20" y="343"/>
                  <a:pt x="20" y="328"/>
                </a:cubicBezTo>
                <a:cubicBezTo>
                  <a:pt x="20" y="313"/>
                  <a:pt x="32" y="300"/>
                  <a:pt x="48" y="300"/>
                </a:cubicBezTo>
                <a:cubicBezTo>
                  <a:pt x="63" y="300"/>
                  <a:pt x="75" y="313"/>
                  <a:pt x="75" y="328"/>
                </a:cubicBezTo>
                <a:close/>
                <a:moveTo>
                  <a:pt x="160" y="48"/>
                </a:moveTo>
                <a:cubicBezTo>
                  <a:pt x="160" y="33"/>
                  <a:pt x="172" y="20"/>
                  <a:pt x="188" y="20"/>
                </a:cubicBezTo>
                <a:cubicBezTo>
                  <a:pt x="203" y="20"/>
                  <a:pt x="215" y="33"/>
                  <a:pt x="215" y="48"/>
                </a:cubicBezTo>
                <a:cubicBezTo>
                  <a:pt x="215" y="63"/>
                  <a:pt x="203" y="76"/>
                  <a:pt x="188" y="76"/>
                </a:cubicBezTo>
                <a:cubicBezTo>
                  <a:pt x="172" y="76"/>
                  <a:pt x="160" y="63"/>
                  <a:pt x="160" y="48"/>
                </a:cubicBezTo>
                <a:close/>
                <a:moveTo>
                  <a:pt x="215" y="328"/>
                </a:moveTo>
                <a:cubicBezTo>
                  <a:pt x="215" y="343"/>
                  <a:pt x="203" y="356"/>
                  <a:pt x="188" y="356"/>
                </a:cubicBezTo>
                <a:cubicBezTo>
                  <a:pt x="172" y="356"/>
                  <a:pt x="160" y="343"/>
                  <a:pt x="160" y="328"/>
                </a:cubicBezTo>
                <a:cubicBezTo>
                  <a:pt x="160" y="313"/>
                  <a:pt x="172" y="300"/>
                  <a:pt x="188" y="300"/>
                </a:cubicBezTo>
                <a:cubicBezTo>
                  <a:pt x="203" y="300"/>
                  <a:pt x="215" y="313"/>
                  <a:pt x="215" y="328"/>
                </a:cubicBezTo>
                <a:close/>
                <a:moveTo>
                  <a:pt x="328" y="356"/>
                </a:moveTo>
                <a:cubicBezTo>
                  <a:pt x="312" y="356"/>
                  <a:pt x="300" y="343"/>
                  <a:pt x="300" y="328"/>
                </a:cubicBezTo>
                <a:cubicBezTo>
                  <a:pt x="300" y="313"/>
                  <a:pt x="312" y="300"/>
                  <a:pt x="328" y="300"/>
                </a:cubicBezTo>
                <a:cubicBezTo>
                  <a:pt x="343" y="300"/>
                  <a:pt x="355" y="313"/>
                  <a:pt x="355" y="328"/>
                </a:cubicBezTo>
                <a:cubicBezTo>
                  <a:pt x="355" y="343"/>
                  <a:pt x="343" y="356"/>
                  <a:pt x="328" y="3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Oval 43"/>
          <p:cNvSpPr/>
          <p:nvPr/>
        </p:nvSpPr>
        <p:spPr>
          <a:xfrm>
            <a:off x="5472000" y="1998720"/>
            <a:ext cx="1123920" cy="1123920"/>
          </a:xfrm>
          <a:prstGeom prst="ellipse">
            <a:avLst/>
          </a:prstGeom>
          <a:solidFill>
            <a:srgbClr val="f28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Isosceles Triangle 44"/>
          <p:cNvSpPr/>
          <p:nvPr/>
        </p:nvSpPr>
        <p:spPr>
          <a:xfrm flipV="1">
            <a:off x="5911920" y="3044880"/>
            <a:ext cx="244440" cy="231840"/>
          </a:xfrm>
          <a:prstGeom prst="triangle">
            <a:avLst>
              <a:gd name="adj" fmla="val 50000"/>
            </a:avLst>
          </a:prstGeom>
          <a:solidFill>
            <a:srgbClr val="f28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traight Connector 45"/>
          <p:cNvSpPr/>
          <p:nvPr/>
        </p:nvSpPr>
        <p:spPr>
          <a:xfrm>
            <a:off x="6033960" y="3219480"/>
            <a:ext cx="0" cy="471600"/>
          </a:xfrm>
          <a:prstGeom prst="line">
            <a:avLst/>
          </a:prstGeom>
          <a:ln w="6480">
            <a:solidFill>
              <a:srgbClr val="f2895c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Freeform 11"/>
          <p:cNvSpPr/>
          <p:nvPr/>
        </p:nvSpPr>
        <p:spPr>
          <a:xfrm>
            <a:off x="5803920" y="2408400"/>
            <a:ext cx="473040" cy="306360"/>
          </a:xfrm>
          <a:custGeom>
            <a:avLst/>
            <a:gdLst/>
            <a:ahLst/>
            <a:rect l="l" t="t" r="r" b="b"/>
            <a:pathLst>
              <a:path w="400" h="260">
                <a:moveTo>
                  <a:pt x="304" y="73"/>
                </a:moveTo>
                <a:cubicBezTo>
                  <a:pt x="298" y="73"/>
                  <a:pt x="293" y="73"/>
                  <a:pt x="288" y="74"/>
                </a:cubicBezTo>
                <a:cubicBezTo>
                  <a:pt x="275" y="31"/>
                  <a:pt x="234" y="0"/>
                  <a:pt x="186" y="0"/>
                </a:cubicBezTo>
                <a:cubicBezTo>
                  <a:pt x="127" y="0"/>
                  <a:pt x="80" y="46"/>
                  <a:pt x="80" y="104"/>
                </a:cubicBezTo>
                <a:cubicBezTo>
                  <a:pt x="80" y="109"/>
                  <a:pt x="80" y="114"/>
                  <a:pt x="81" y="119"/>
                </a:cubicBezTo>
                <a:cubicBezTo>
                  <a:pt x="78" y="119"/>
                  <a:pt x="75" y="118"/>
                  <a:pt x="72" y="118"/>
                </a:cubicBezTo>
                <a:cubicBezTo>
                  <a:pt x="32" y="118"/>
                  <a:pt x="0" y="150"/>
                  <a:pt x="0" y="189"/>
                </a:cubicBezTo>
                <a:cubicBezTo>
                  <a:pt x="0" y="228"/>
                  <a:pt x="32" y="260"/>
                  <a:pt x="72" y="260"/>
                </a:cubicBezTo>
                <a:cubicBezTo>
                  <a:pt x="172" y="260"/>
                  <a:pt x="172" y="260"/>
                  <a:pt x="172" y="260"/>
                </a:cubicBezTo>
                <a:cubicBezTo>
                  <a:pt x="172" y="184"/>
                  <a:pt x="172" y="184"/>
                  <a:pt x="172" y="184"/>
                </a:cubicBezTo>
                <a:cubicBezTo>
                  <a:pt x="130" y="184"/>
                  <a:pt x="130" y="184"/>
                  <a:pt x="130" y="184"/>
                </a:cubicBezTo>
                <a:cubicBezTo>
                  <a:pt x="200" y="92"/>
                  <a:pt x="200" y="92"/>
                  <a:pt x="200" y="92"/>
                </a:cubicBezTo>
                <a:cubicBezTo>
                  <a:pt x="270" y="184"/>
                  <a:pt x="270" y="184"/>
                  <a:pt x="270" y="184"/>
                </a:cubicBezTo>
                <a:cubicBezTo>
                  <a:pt x="228" y="184"/>
                  <a:pt x="228" y="184"/>
                  <a:pt x="228" y="184"/>
                </a:cubicBezTo>
                <a:cubicBezTo>
                  <a:pt x="228" y="260"/>
                  <a:pt x="228" y="260"/>
                  <a:pt x="228" y="260"/>
                </a:cubicBezTo>
                <a:cubicBezTo>
                  <a:pt x="304" y="260"/>
                  <a:pt x="304" y="260"/>
                  <a:pt x="304" y="260"/>
                </a:cubicBezTo>
                <a:cubicBezTo>
                  <a:pt x="357" y="260"/>
                  <a:pt x="400" y="218"/>
                  <a:pt x="400" y="166"/>
                </a:cubicBezTo>
                <a:cubicBezTo>
                  <a:pt x="400" y="115"/>
                  <a:pt x="357" y="73"/>
                  <a:pt x="304" y="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Oval 50"/>
          <p:cNvSpPr/>
          <p:nvPr/>
        </p:nvSpPr>
        <p:spPr>
          <a:xfrm>
            <a:off x="8818560" y="1998720"/>
            <a:ext cx="1123920" cy="1123920"/>
          </a:xfrm>
          <a:prstGeom prst="ellipse">
            <a:avLst/>
          </a:prstGeom>
          <a:solidFill>
            <a:srgbClr val="9ad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Isosceles Triangle 51"/>
          <p:cNvSpPr/>
          <p:nvPr/>
        </p:nvSpPr>
        <p:spPr>
          <a:xfrm flipV="1">
            <a:off x="9258480" y="3044880"/>
            <a:ext cx="244440" cy="231840"/>
          </a:xfrm>
          <a:prstGeom prst="triangle">
            <a:avLst>
              <a:gd name="adj" fmla="val 50000"/>
            </a:avLst>
          </a:prstGeom>
          <a:solidFill>
            <a:srgbClr val="9ad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traight Connector 52"/>
          <p:cNvSpPr/>
          <p:nvPr/>
        </p:nvSpPr>
        <p:spPr>
          <a:xfrm>
            <a:off x="9380520" y="3219480"/>
            <a:ext cx="0" cy="471600"/>
          </a:xfrm>
          <a:prstGeom prst="line">
            <a:avLst/>
          </a:prstGeom>
          <a:ln w="6480">
            <a:solidFill>
              <a:srgbClr val="9ad3dc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Freeform 21"/>
          <p:cNvSpPr/>
          <p:nvPr/>
        </p:nvSpPr>
        <p:spPr>
          <a:xfrm>
            <a:off x="9167760" y="2378160"/>
            <a:ext cx="434880" cy="387360"/>
          </a:xfrm>
          <a:custGeom>
            <a:avLst/>
            <a:gdLst/>
            <a:ahLst/>
            <a:rect l="l" t="t" r="r" b="b"/>
            <a:pathLst>
              <a:path w="401" h="357">
                <a:moveTo>
                  <a:pt x="62" y="116"/>
                </a:moveTo>
                <a:cubicBezTo>
                  <a:pt x="81" y="101"/>
                  <a:pt x="97" y="111"/>
                  <a:pt x="117" y="135"/>
                </a:cubicBezTo>
                <a:cubicBezTo>
                  <a:pt x="120" y="138"/>
                  <a:pt x="123" y="135"/>
                  <a:pt x="124" y="133"/>
                </a:cubicBezTo>
                <a:cubicBezTo>
                  <a:pt x="126" y="132"/>
                  <a:pt x="154" y="107"/>
                  <a:pt x="155" y="106"/>
                </a:cubicBezTo>
                <a:cubicBezTo>
                  <a:pt x="156" y="105"/>
                  <a:pt x="158" y="102"/>
                  <a:pt x="156" y="100"/>
                </a:cubicBezTo>
                <a:cubicBezTo>
                  <a:pt x="154" y="98"/>
                  <a:pt x="146" y="88"/>
                  <a:pt x="141" y="81"/>
                </a:cubicBezTo>
                <a:cubicBezTo>
                  <a:pt x="105" y="34"/>
                  <a:pt x="240" y="2"/>
                  <a:pt x="219" y="1"/>
                </a:cubicBezTo>
                <a:cubicBezTo>
                  <a:pt x="208" y="1"/>
                  <a:pt x="166" y="0"/>
                  <a:pt x="160" y="1"/>
                </a:cubicBezTo>
                <a:cubicBezTo>
                  <a:pt x="134" y="4"/>
                  <a:pt x="102" y="28"/>
                  <a:pt x="86" y="39"/>
                </a:cubicBezTo>
                <a:cubicBezTo>
                  <a:pt x="64" y="53"/>
                  <a:pt x="57" y="62"/>
                  <a:pt x="55" y="63"/>
                </a:cubicBezTo>
                <a:cubicBezTo>
                  <a:pt x="49" y="68"/>
                  <a:pt x="54" y="80"/>
                  <a:pt x="43" y="90"/>
                </a:cubicBezTo>
                <a:cubicBezTo>
                  <a:pt x="32" y="100"/>
                  <a:pt x="25" y="92"/>
                  <a:pt x="18" y="98"/>
                </a:cubicBezTo>
                <a:cubicBezTo>
                  <a:pt x="15" y="101"/>
                  <a:pt x="5" y="108"/>
                  <a:pt x="3" y="110"/>
                </a:cubicBezTo>
                <a:cubicBezTo>
                  <a:pt x="0" y="113"/>
                  <a:pt x="0" y="117"/>
                  <a:pt x="2" y="120"/>
                </a:cubicBezTo>
                <a:cubicBezTo>
                  <a:pt x="2" y="120"/>
                  <a:pt x="28" y="148"/>
                  <a:pt x="30" y="150"/>
                </a:cubicBezTo>
                <a:cubicBezTo>
                  <a:pt x="32" y="153"/>
                  <a:pt x="38" y="155"/>
                  <a:pt x="41" y="152"/>
                </a:cubicBezTo>
                <a:cubicBezTo>
                  <a:pt x="45" y="149"/>
                  <a:pt x="54" y="141"/>
                  <a:pt x="55" y="139"/>
                </a:cubicBezTo>
                <a:cubicBezTo>
                  <a:pt x="57" y="138"/>
                  <a:pt x="54" y="122"/>
                  <a:pt x="62" y="116"/>
                </a:cubicBezTo>
                <a:close/>
                <a:moveTo>
                  <a:pt x="177" y="126"/>
                </a:moveTo>
                <a:cubicBezTo>
                  <a:pt x="174" y="123"/>
                  <a:pt x="171" y="123"/>
                  <a:pt x="169" y="125"/>
                </a:cubicBezTo>
                <a:cubicBezTo>
                  <a:pt x="140" y="150"/>
                  <a:pt x="140" y="150"/>
                  <a:pt x="140" y="150"/>
                </a:cubicBezTo>
                <a:cubicBezTo>
                  <a:pt x="138" y="152"/>
                  <a:pt x="137" y="156"/>
                  <a:pt x="139" y="158"/>
                </a:cubicBezTo>
                <a:cubicBezTo>
                  <a:pt x="305" y="347"/>
                  <a:pt x="305" y="347"/>
                  <a:pt x="305" y="347"/>
                </a:cubicBezTo>
                <a:cubicBezTo>
                  <a:pt x="309" y="352"/>
                  <a:pt x="316" y="352"/>
                  <a:pt x="320" y="348"/>
                </a:cubicBezTo>
                <a:cubicBezTo>
                  <a:pt x="340" y="332"/>
                  <a:pt x="340" y="332"/>
                  <a:pt x="340" y="332"/>
                </a:cubicBezTo>
                <a:cubicBezTo>
                  <a:pt x="344" y="328"/>
                  <a:pt x="345" y="321"/>
                  <a:pt x="341" y="317"/>
                </a:cubicBezTo>
                <a:lnTo>
                  <a:pt x="177" y="126"/>
                </a:lnTo>
                <a:close/>
                <a:moveTo>
                  <a:pt x="398" y="46"/>
                </a:moveTo>
                <a:cubicBezTo>
                  <a:pt x="396" y="36"/>
                  <a:pt x="391" y="38"/>
                  <a:pt x="389" y="42"/>
                </a:cubicBezTo>
                <a:cubicBezTo>
                  <a:pt x="386" y="46"/>
                  <a:pt x="374" y="64"/>
                  <a:pt x="369" y="72"/>
                </a:cubicBezTo>
                <a:cubicBezTo>
                  <a:pt x="364" y="80"/>
                  <a:pt x="353" y="96"/>
                  <a:pt x="331" y="80"/>
                </a:cubicBezTo>
                <a:cubicBezTo>
                  <a:pt x="308" y="64"/>
                  <a:pt x="316" y="53"/>
                  <a:pt x="320" y="45"/>
                </a:cubicBezTo>
                <a:cubicBezTo>
                  <a:pt x="324" y="38"/>
                  <a:pt x="336" y="16"/>
                  <a:pt x="338" y="13"/>
                </a:cubicBezTo>
                <a:cubicBezTo>
                  <a:pt x="340" y="11"/>
                  <a:pt x="338" y="3"/>
                  <a:pt x="330" y="6"/>
                </a:cubicBezTo>
                <a:cubicBezTo>
                  <a:pt x="323" y="9"/>
                  <a:pt x="280" y="27"/>
                  <a:pt x="274" y="51"/>
                </a:cubicBezTo>
                <a:cubicBezTo>
                  <a:pt x="268" y="76"/>
                  <a:pt x="279" y="99"/>
                  <a:pt x="257" y="121"/>
                </a:cubicBezTo>
                <a:cubicBezTo>
                  <a:pt x="230" y="149"/>
                  <a:pt x="230" y="149"/>
                  <a:pt x="230" y="149"/>
                </a:cubicBezTo>
                <a:cubicBezTo>
                  <a:pt x="257" y="181"/>
                  <a:pt x="257" y="181"/>
                  <a:pt x="257" y="181"/>
                </a:cubicBezTo>
                <a:cubicBezTo>
                  <a:pt x="290" y="149"/>
                  <a:pt x="290" y="149"/>
                  <a:pt x="290" y="149"/>
                </a:cubicBezTo>
                <a:cubicBezTo>
                  <a:pt x="298" y="141"/>
                  <a:pt x="315" y="134"/>
                  <a:pt x="330" y="137"/>
                </a:cubicBezTo>
                <a:cubicBezTo>
                  <a:pt x="363" y="144"/>
                  <a:pt x="381" y="132"/>
                  <a:pt x="391" y="112"/>
                </a:cubicBezTo>
                <a:cubicBezTo>
                  <a:pt x="401" y="94"/>
                  <a:pt x="399" y="56"/>
                  <a:pt x="398" y="46"/>
                </a:cubicBezTo>
                <a:close/>
                <a:moveTo>
                  <a:pt x="55" y="319"/>
                </a:moveTo>
                <a:cubicBezTo>
                  <a:pt x="50" y="323"/>
                  <a:pt x="50" y="330"/>
                  <a:pt x="55" y="334"/>
                </a:cubicBezTo>
                <a:cubicBezTo>
                  <a:pt x="74" y="353"/>
                  <a:pt x="74" y="353"/>
                  <a:pt x="74" y="353"/>
                </a:cubicBezTo>
                <a:cubicBezTo>
                  <a:pt x="78" y="357"/>
                  <a:pt x="84" y="355"/>
                  <a:pt x="89" y="351"/>
                </a:cubicBezTo>
                <a:cubicBezTo>
                  <a:pt x="187" y="254"/>
                  <a:pt x="187" y="254"/>
                  <a:pt x="187" y="254"/>
                </a:cubicBezTo>
                <a:cubicBezTo>
                  <a:pt x="157" y="220"/>
                  <a:pt x="157" y="220"/>
                  <a:pt x="157" y="220"/>
                </a:cubicBezTo>
                <a:lnTo>
                  <a:pt x="55" y="3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TextBox 13"/>
          <p:cNvSpPr/>
          <p:nvPr/>
        </p:nvSpPr>
        <p:spPr>
          <a:xfrm>
            <a:off x="3173400" y="2540160"/>
            <a:ext cx="2336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Arial"/>
                <a:ea typeface="微软雅黑"/>
              </a:rPr>
              <a:t>单击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TextBox 13"/>
          <p:cNvSpPr/>
          <p:nvPr/>
        </p:nvSpPr>
        <p:spPr>
          <a:xfrm>
            <a:off x="3176640" y="2825640"/>
            <a:ext cx="23335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xtBox 13"/>
          <p:cNvSpPr/>
          <p:nvPr/>
        </p:nvSpPr>
        <p:spPr>
          <a:xfrm>
            <a:off x="1465200" y="4022640"/>
            <a:ext cx="233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Arial"/>
                <a:ea typeface="微软雅黑"/>
              </a:rPr>
              <a:t>单击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TextBox 13"/>
          <p:cNvSpPr/>
          <p:nvPr/>
        </p:nvSpPr>
        <p:spPr>
          <a:xfrm>
            <a:off x="1469880" y="4309920"/>
            <a:ext cx="23338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Box 13"/>
          <p:cNvSpPr/>
          <p:nvPr/>
        </p:nvSpPr>
        <p:spPr>
          <a:xfrm>
            <a:off x="4956120" y="4022640"/>
            <a:ext cx="233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Arial"/>
                <a:ea typeface="微软雅黑"/>
              </a:rPr>
              <a:t>单击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TextBox 13"/>
          <p:cNvSpPr/>
          <p:nvPr/>
        </p:nvSpPr>
        <p:spPr>
          <a:xfrm>
            <a:off x="4960800" y="4309920"/>
            <a:ext cx="23338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TextBox 13"/>
          <p:cNvSpPr/>
          <p:nvPr/>
        </p:nvSpPr>
        <p:spPr>
          <a:xfrm>
            <a:off x="8271000" y="4022640"/>
            <a:ext cx="233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Arial"/>
                <a:ea typeface="微软雅黑"/>
              </a:rPr>
              <a:t>单击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TextBox 13"/>
          <p:cNvSpPr/>
          <p:nvPr/>
        </p:nvSpPr>
        <p:spPr>
          <a:xfrm>
            <a:off x="8273880" y="4309920"/>
            <a:ext cx="23353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Box 13"/>
          <p:cNvSpPr/>
          <p:nvPr/>
        </p:nvSpPr>
        <p:spPr>
          <a:xfrm>
            <a:off x="6537240" y="2540160"/>
            <a:ext cx="233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Arial"/>
                <a:ea typeface="微软雅黑"/>
              </a:rPr>
              <a:t>单击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TextBox 13"/>
          <p:cNvSpPr/>
          <p:nvPr/>
        </p:nvSpPr>
        <p:spPr>
          <a:xfrm>
            <a:off x="6541920" y="2825640"/>
            <a:ext cx="23338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random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4" name="矩形 29"/>
          <p:cNvSpPr/>
          <p:nvPr/>
        </p:nvSpPr>
        <p:spPr>
          <a:xfrm>
            <a:off x="-9360" y="209520"/>
            <a:ext cx="142560" cy="49536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文本框 30"/>
          <p:cNvSpPr/>
          <p:nvPr/>
        </p:nvSpPr>
        <p:spPr>
          <a:xfrm>
            <a:off x="227160" y="227160"/>
            <a:ext cx="30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6" name="Picture 8" descr=""/>
          <p:cNvPicPr/>
          <p:nvPr/>
        </p:nvPicPr>
        <p:blipFill>
          <a:blip r:embed="rId2"/>
          <a:stretch/>
        </p:blipFill>
        <p:spPr>
          <a:xfrm>
            <a:off x="4834080" y="4164120"/>
            <a:ext cx="6748200" cy="3571920"/>
          </a:xfrm>
          <a:prstGeom prst="rect">
            <a:avLst/>
          </a:prstGeom>
          <a:ln w="0">
            <a:noFill/>
          </a:ln>
        </p:spPr>
      </p:pic>
      <p:sp>
        <p:nvSpPr>
          <p:cNvPr id="607" name="Rectangle 9"/>
          <p:cNvSpPr/>
          <p:nvPr/>
        </p:nvSpPr>
        <p:spPr>
          <a:xfrm>
            <a:off x="5405400" y="4240080"/>
            <a:ext cx="5670720" cy="1455840"/>
          </a:xfrm>
          <a:custGeom>
            <a:avLst/>
            <a:gdLst/>
            <a:ahLst/>
            <a:rect l="l" t="t" r="r" b="b"/>
            <a:pathLst>
              <a:path w="4991100" h="1740693">
                <a:moveTo>
                  <a:pt x="0" y="869156"/>
                </a:moveTo>
                <a:lnTo>
                  <a:pt x="2747963" y="0"/>
                </a:lnTo>
                <a:lnTo>
                  <a:pt x="4991100" y="557211"/>
                </a:lnTo>
                <a:lnTo>
                  <a:pt x="2333626" y="1740693"/>
                </a:lnTo>
                <a:lnTo>
                  <a:pt x="0" y="869156"/>
                </a:lnTo>
                <a:close/>
              </a:path>
            </a:pathLst>
          </a:cu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Oval Callout 31"/>
          <p:cNvSpPr/>
          <p:nvPr/>
        </p:nvSpPr>
        <p:spPr>
          <a:xfrm flipH="1">
            <a:off x="6822360" y="3672000"/>
            <a:ext cx="1182600" cy="11095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b6db86"/>
          </a:solidFill>
          <a:ln w="0">
            <a:noFill/>
          </a:ln>
          <a:effectLst>
            <a:outerShdw dist="317588" dir="718336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Oval Callout 32"/>
          <p:cNvSpPr/>
          <p:nvPr/>
        </p:nvSpPr>
        <p:spPr>
          <a:xfrm>
            <a:off x="8080200" y="3139920"/>
            <a:ext cx="1746360" cy="15591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2895c"/>
          </a:solidFill>
          <a:ln w="0">
            <a:noFill/>
          </a:ln>
          <a:effectLst>
            <a:outerShdw dist="317588" dir="718336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Oval Callout 33"/>
          <p:cNvSpPr/>
          <p:nvPr/>
        </p:nvSpPr>
        <p:spPr>
          <a:xfrm>
            <a:off x="9953640" y="3646440"/>
            <a:ext cx="1147680" cy="9064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7fbc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Oval Callout 35"/>
          <p:cNvSpPr/>
          <p:nvPr/>
        </p:nvSpPr>
        <p:spPr>
          <a:xfrm flipH="1">
            <a:off x="6822360" y="2246400"/>
            <a:ext cx="1700280" cy="13176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adb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Oval Callout 36"/>
          <p:cNvSpPr/>
          <p:nvPr/>
        </p:nvSpPr>
        <p:spPr>
          <a:xfrm>
            <a:off x="8350200" y="1922400"/>
            <a:ext cx="1206720" cy="9525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9ad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Oval Callout 37"/>
          <p:cNvSpPr/>
          <p:nvPr/>
        </p:nvSpPr>
        <p:spPr>
          <a:xfrm>
            <a:off x="9443880" y="2235240"/>
            <a:ext cx="1454400" cy="13795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adb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Oval Callout 38"/>
          <p:cNvSpPr/>
          <p:nvPr/>
        </p:nvSpPr>
        <p:spPr>
          <a:xfrm flipH="1">
            <a:off x="5417280" y="2909880"/>
            <a:ext cx="1489320" cy="1197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9ad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Oval Callout 39"/>
          <p:cNvSpPr/>
          <p:nvPr/>
        </p:nvSpPr>
        <p:spPr>
          <a:xfrm flipH="1">
            <a:off x="5700600" y="1922400"/>
            <a:ext cx="1206720" cy="9525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b6d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Freeform 11"/>
          <p:cNvSpPr/>
          <p:nvPr/>
        </p:nvSpPr>
        <p:spPr>
          <a:xfrm>
            <a:off x="10449000" y="3941640"/>
            <a:ext cx="155520" cy="408240"/>
          </a:xfrm>
          <a:custGeom>
            <a:avLst/>
            <a:gdLst/>
            <a:ahLst/>
            <a:rect l="l" t="t" r="r" b="b"/>
            <a:pathLst>
              <a:path w="443" h="954">
                <a:moveTo>
                  <a:pt x="295" y="0"/>
                </a:moveTo>
                <a:lnTo>
                  <a:pt x="441" y="1"/>
                </a:lnTo>
                <a:lnTo>
                  <a:pt x="441" y="164"/>
                </a:lnTo>
                <a:lnTo>
                  <a:pt x="403" y="164"/>
                </a:lnTo>
                <a:lnTo>
                  <a:pt x="386" y="164"/>
                </a:lnTo>
                <a:lnTo>
                  <a:pt x="370" y="164"/>
                </a:lnTo>
                <a:lnTo>
                  <a:pt x="334" y="164"/>
                </a:lnTo>
                <a:lnTo>
                  <a:pt x="327" y="165"/>
                </a:lnTo>
                <a:lnTo>
                  <a:pt x="319" y="167"/>
                </a:lnTo>
                <a:lnTo>
                  <a:pt x="311" y="170"/>
                </a:lnTo>
                <a:lnTo>
                  <a:pt x="304" y="176"/>
                </a:lnTo>
                <a:lnTo>
                  <a:pt x="298" y="185"/>
                </a:lnTo>
                <a:lnTo>
                  <a:pt x="294" y="196"/>
                </a:lnTo>
                <a:lnTo>
                  <a:pt x="293" y="210"/>
                </a:lnTo>
                <a:lnTo>
                  <a:pt x="293" y="309"/>
                </a:lnTo>
                <a:lnTo>
                  <a:pt x="443" y="309"/>
                </a:lnTo>
                <a:lnTo>
                  <a:pt x="426" y="478"/>
                </a:lnTo>
                <a:lnTo>
                  <a:pt x="293" y="478"/>
                </a:lnTo>
                <a:lnTo>
                  <a:pt x="293" y="618"/>
                </a:lnTo>
                <a:lnTo>
                  <a:pt x="293" y="665"/>
                </a:lnTo>
                <a:lnTo>
                  <a:pt x="293" y="711"/>
                </a:lnTo>
                <a:lnTo>
                  <a:pt x="293" y="897"/>
                </a:lnTo>
                <a:lnTo>
                  <a:pt x="293" y="921"/>
                </a:lnTo>
                <a:lnTo>
                  <a:pt x="293" y="939"/>
                </a:lnTo>
                <a:lnTo>
                  <a:pt x="293" y="954"/>
                </a:lnTo>
                <a:lnTo>
                  <a:pt x="94" y="954"/>
                </a:lnTo>
                <a:lnTo>
                  <a:pt x="94" y="922"/>
                </a:lnTo>
                <a:lnTo>
                  <a:pt x="94" y="897"/>
                </a:lnTo>
                <a:lnTo>
                  <a:pt x="94" y="869"/>
                </a:lnTo>
                <a:lnTo>
                  <a:pt x="94" y="478"/>
                </a:lnTo>
                <a:lnTo>
                  <a:pt x="0" y="478"/>
                </a:lnTo>
                <a:lnTo>
                  <a:pt x="0" y="309"/>
                </a:lnTo>
                <a:lnTo>
                  <a:pt x="94" y="309"/>
                </a:lnTo>
                <a:lnTo>
                  <a:pt x="94" y="200"/>
                </a:lnTo>
                <a:lnTo>
                  <a:pt x="95" y="183"/>
                </a:lnTo>
                <a:lnTo>
                  <a:pt x="97" y="164"/>
                </a:lnTo>
                <a:lnTo>
                  <a:pt x="100" y="146"/>
                </a:lnTo>
                <a:lnTo>
                  <a:pt x="105" y="127"/>
                </a:lnTo>
                <a:lnTo>
                  <a:pt x="112" y="107"/>
                </a:lnTo>
                <a:lnTo>
                  <a:pt x="121" y="89"/>
                </a:lnTo>
                <a:lnTo>
                  <a:pt x="134" y="71"/>
                </a:lnTo>
                <a:lnTo>
                  <a:pt x="147" y="54"/>
                </a:lnTo>
                <a:lnTo>
                  <a:pt x="164" y="39"/>
                </a:lnTo>
                <a:lnTo>
                  <a:pt x="184" y="27"/>
                </a:lnTo>
                <a:lnTo>
                  <a:pt x="206" y="16"/>
                </a:lnTo>
                <a:lnTo>
                  <a:pt x="231" y="7"/>
                </a:lnTo>
                <a:lnTo>
                  <a:pt x="261" y="2"/>
                </a:lnTo>
                <a:lnTo>
                  <a:pt x="29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Freeform 13"/>
          <p:cNvSpPr/>
          <p:nvPr/>
        </p:nvSpPr>
        <p:spPr>
          <a:xfrm>
            <a:off x="8707320" y="3686040"/>
            <a:ext cx="490680" cy="603360"/>
          </a:xfrm>
          <a:custGeom>
            <a:avLst/>
            <a:gdLst/>
            <a:ahLst/>
            <a:rect l="l" t="t" r="r" b="b"/>
            <a:pathLst>
              <a:path w="825" h="830">
                <a:moveTo>
                  <a:pt x="127" y="320"/>
                </a:moveTo>
                <a:lnTo>
                  <a:pt x="127" y="695"/>
                </a:lnTo>
                <a:lnTo>
                  <a:pt x="250" y="695"/>
                </a:lnTo>
                <a:lnTo>
                  <a:pt x="250" y="320"/>
                </a:lnTo>
                <a:lnTo>
                  <a:pt x="127" y="320"/>
                </a:lnTo>
                <a:close/>
                <a:moveTo>
                  <a:pt x="552" y="312"/>
                </a:moveTo>
                <a:lnTo>
                  <a:pt x="527" y="314"/>
                </a:lnTo>
                <a:lnTo>
                  <a:pt x="503" y="321"/>
                </a:lnTo>
                <a:lnTo>
                  <a:pt x="481" y="333"/>
                </a:lnTo>
                <a:lnTo>
                  <a:pt x="461" y="351"/>
                </a:lnTo>
                <a:lnTo>
                  <a:pt x="444" y="372"/>
                </a:lnTo>
                <a:lnTo>
                  <a:pt x="442" y="372"/>
                </a:lnTo>
                <a:lnTo>
                  <a:pt x="442" y="320"/>
                </a:lnTo>
                <a:lnTo>
                  <a:pt x="319" y="320"/>
                </a:lnTo>
                <a:lnTo>
                  <a:pt x="319" y="695"/>
                </a:lnTo>
                <a:lnTo>
                  <a:pt x="442" y="695"/>
                </a:lnTo>
                <a:lnTo>
                  <a:pt x="442" y="501"/>
                </a:lnTo>
                <a:lnTo>
                  <a:pt x="443" y="477"/>
                </a:lnTo>
                <a:lnTo>
                  <a:pt x="446" y="457"/>
                </a:lnTo>
                <a:lnTo>
                  <a:pt x="452" y="443"/>
                </a:lnTo>
                <a:lnTo>
                  <a:pt x="459" y="435"/>
                </a:lnTo>
                <a:lnTo>
                  <a:pt x="474" y="421"/>
                </a:lnTo>
                <a:lnTo>
                  <a:pt x="490" y="413"/>
                </a:lnTo>
                <a:lnTo>
                  <a:pt x="506" y="410"/>
                </a:lnTo>
                <a:lnTo>
                  <a:pt x="515" y="410"/>
                </a:lnTo>
                <a:lnTo>
                  <a:pt x="531" y="412"/>
                </a:lnTo>
                <a:lnTo>
                  <a:pt x="544" y="418"/>
                </a:lnTo>
                <a:lnTo>
                  <a:pt x="555" y="427"/>
                </a:lnTo>
                <a:lnTo>
                  <a:pt x="564" y="441"/>
                </a:lnTo>
                <a:lnTo>
                  <a:pt x="571" y="460"/>
                </a:lnTo>
                <a:lnTo>
                  <a:pt x="573" y="478"/>
                </a:lnTo>
                <a:lnTo>
                  <a:pt x="575" y="493"/>
                </a:lnTo>
                <a:lnTo>
                  <a:pt x="575" y="695"/>
                </a:lnTo>
                <a:lnTo>
                  <a:pt x="699" y="695"/>
                </a:lnTo>
                <a:lnTo>
                  <a:pt x="699" y="489"/>
                </a:lnTo>
                <a:lnTo>
                  <a:pt x="697" y="452"/>
                </a:lnTo>
                <a:lnTo>
                  <a:pt x="692" y="420"/>
                </a:lnTo>
                <a:lnTo>
                  <a:pt x="682" y="391"/>
                </a:lnTo>
                <a:lnTo>
                  <a:pt x="669" y="368"/>
                </a:lnTo>
                <a:lnTo>
                  <a:pt x="653" y="348"/>
                </a:lnTo>
                <a:lnTo>
                  <a:pt x="633" y="331"/>
                </a:lnTo>
                <a:lnTo>
                  <a:pt x="608" y="320"/>
                </a:lnTo>
                <a:lnTo>
                  <a:pt x="580" y="314"/>
                </a:lnTo>
                <a:lnTo>
                  <a:pt x="552" y="312"/>
                </a:lnTo>
                <a:close/>
                <a:moveTo>
                  <a:pt x="187" y="140"/>
                </a:moveTo>
                <a:lnTo>
                  <a:pt x="168" y="142"/>
                </a:lnTo>
                <a:lnTo>
                  <a:pt x="153" y="147"/>
                </a:lnTo>
                <a:lnTo>
                  <a:pt x="140" y="156"/>
                </a:lnTo>
                <a:lnTo>
                  <a:pt x="129" y="169"/>
                </a:lnTo>
                <a:lnTo>
                  <a:pt x="120" y="187"/>
                </a:lnTo>
                <a:lnTo>
                  <a:pt x="118" y="202"/>
                </a:lnTo>
                <a:lnTo>
                  <a:pt x="118" y="204"/>
                </a:lnTo>
                <a:lnTo>
                  <a:pt x="120" y="221"/>
                </a:lnTo>
                <a:lnTo>
                  <a:pt x="127" y="236"/>
                </a:lnTo>
                <a:lnTo>
                  <a:pt x="136" y="249"/>
                </a:lnTo>
                <a:lnTo>
                  <a:pt x="149" y="258"/>
                </a:lnTo>
                <a:lnTo>
                  <a:pt x="165" y="266"/>
                </a:lnTo>
                <a:lnTo>
                  <a:pt x="181" y="268"/>
                </a:lnTo>
                <a:lnTo>
                  <a:pt x="194" y="268"/>
                </a:lnTo>
                <a:lnTo>
                  <a:pt x="211" y="266"/>
                </a:lnTo>
                <a:lnTo>
                  <a:pt x="226" y="260"/>
                </a:lnTo>
                <a:lnTo>
                  <a:pt x="239" y="251"/>
                </a:lnTo>
                <a:lnTo>
                  <a:pt x="249" y="237"/>
                </a:lnTo>
                <a:lnTo>
                  <a:pt x="257" y="218"/>
                </a:lnTo>
                <a:lnTo>
                  <a:pt x="258" y="204"/>
                </a:lnTo>
                <a:lnTo>
                  <a:pt x="256" y="187"/>
                </a:lnTo>
                <a:lnTo>
                  <a:pt x="250" y="172"/>
                </a:lnTo>
                <a:lnTo>
                  <a:pt x="241" y="159"/>
                </a:lnTo>
                <a:lnTo>
                  <a:pt x="226" y="150"/>
                </a:lnTo>
                <a:lnTo>
                  <a:pt x="209" y="142"/>
                </a:lnTo>
                <a:lnTo>
                  <a:pt x="187" y="140"/>
                </a:lnTo>
                <a:close/>
                <a:moveTo>
                  <a:pt x="57" y="0"/>
                </a:moveTo>
                <a:lnTo>
                  <a:pt x="768" y="0"/>
                </a:lnTo>
                <a:lnTo>
                  <a:pt x="785" y="3"/>
                </a:lnTo>
                <a:lnTo>
                  <a:pt x="800" y="11"/>
                </a:lnTo>
                <a:lnTo>
                  <a:pt x="812" y="25"/>
                </a:lnTo>
                <a:lnTo>
                  <a:pt x="822" y="44"/>
                </a:lnTo>
                <a:lnTo>
                  <a:pt x="825" y="63"/>
                </a:lnTo>
                <a:lnTo>
                  <a:pt x="825" y="767"/>
                </a:lnTo>
                <a:lnTo>
                  <a:pt x="823" y="783"/>
                </a:lnTo>
                <a:lnTo>
                  <a:pt x="818" y="798"/>
                </a:lnTo>
                <a:lnTo>
                  <a:pt x="811" y="809"/>
                </a:lnTo>
                <a:lnTo>
                  <a:pt x="800" y="819"/>
                </a:lnTo>
                <a:lnTo>
                  <a:pt x="785" y="826"/>
                </a:lnTo>
                <a:lnTo>
                  <a:pt x="776" y="829"/>
                </a:lnTo>
                <a:lnTo>
                  <a:pt x="768" y="830"/>
                </a:lnTo>
                <a:lnTo>
                  <a:pt x="57" y="830"/>
                </a:lnTo>
                <a:lnTo>
                  <a:pt x="40" y="827"/>
                </a:lnTo>
                <a:lnTo>
                  <a:pt x="25" y="819"/>
                </a:lnTo>
                <a:lnTo>
                  <a:pt x="11" y="805"/>
                </a:lnTo>
                <a:lnTo>
                  <a:pt x="1" y="785"/>
                </a:lnTo>
                <a:lnTo>
                  <a:pt x="0" y="772"/>
                </a:lnTo>
                <a:lnTo>
                  <a:pt x="0" y="57"/>
                </a:lnTo>
                <a:lnTo>
                  <a:pt x="1" y="43"/>
                </a:lnTo>
                <a:lnTo>
                  <a:pt x="7" y="30"/>
                </a:lnTo>
                <a:lnTo>
                  <a:pt x="17" y="19"/>
                </a:lnTo>
                <a:lnTo>
                  <a:pt x="30" y="8"/>
                </a:lnTo>
                <a:lnTo>
                  <a:pt x="46" y="1"/>
                </a:lnTo>
                <a:lnTo>
                  <a:pt x="5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Freeform 14"/>
          <p:cNvSpPr/>
          <p:nvPr/>
        </p:nvSpPr>
        <p:spPr>
          <a:xfrm>
            <a:off x="7151760" y="4067280"/>
            <a:ext cx="523800" cy="441360"/>
          </a:xfrm>
          <a:custGeom>
            <a:avLst/>
            <a:gdLst/>
            <a:ahLst/>
            <a:rect l="l" t="t" r="r" b="b"/>
            <a:pathLst>
              <a:path w="1201" h="829">
                <a:moveTo>
                  <a:pt x="921" y="230"/>
                </a:moveTo>
                <a:lnTo>
                  <a:pt x="910" y="232"/>
                </a:lnTo>
                <a:lnTo>
                  <a:pt x="901" y="239"/>
                </a:lnTo>
                <a:lnTo>
                  <a:pt x="895" y="248"/>
                </a:lnTo>
                <a:lnTo>
                  <a:pt x="893" y="259"/>
                </a:lnTo>
                <a:lnTo>
                  <a:pt x="895" y="270"/>
                </a:lnTo>
                <a:lnTo>
                  <a:pt x="901" y="279"/>
                </a:lnTo>
                <a:lnTo>
                  <a:pt x="910" y="285"/>
                </a:lnTo>
                <a:lnTo>
                  <a:pt x="921" y="287"/>
                </a:lnTo>
                <a:lnTo>
                  <a:pt x="933" y="285"/>
                </a:lnTo>
                <a:lnTo>
                  <a:pt x="942" y="279"/>
                </a:lnTo>
                <a:lnTo>
                  <a:pt x="948" y="270"/>
                </a:lnTo>
                <a:lnTo>
                  <a:pt x="950" y="259"/>
                </a:lnTo>
                <a:lnTo>
                  <a:pt x="948" y="248"/>
                </a:lnTo>
                <a:lnTo>
                  <a:pt x="942" y="239"/>
                </a:lnTo>
                <a:lnTo>
                  <a:pt x="933" y="232"/>
                </a:lnTo>
                <a:lnTo>
                  <a:pt x="921" y="230"/>
                </a:lnTo>
                <a:close/>
                <a:moveTo>
                  <a:pt x="842" y="0"/>
                </a:moveTo>
                <a:lnTo>
                  <a:pt x="842" y="2"/>
                </a:lnTo>
                <a:lnTo>
                  <a:pt x="838" y="11"/>
                </a:lnTo>
                <a:lnTo>
                  <a:pt x="828" y="23"/>
                </a:lnTo>
                <a:lnTo>
                  <a:pt x="811" y="35"/>
                </a:lnTo>
                <a:lnTo>
                  <a:pt x="812" y="35"/>
                </a:lnTo>
                <a:lnTo>
                  <a:pt x="834" y="28"/>
                </a:lnTo>
                <a:lnTo>
                  <a:pt x="852" y="22"/>
                </a:lnTo>
                <a:lnTo>
                  <a:pt x="867" y="19"/>
                </a:lnTo>
                <a:lnTo>
                  <a:pt x="881" y="18"/>
                </a:lnTo>
                <a:lnTo>
                  <a:pt x="890" y="20"/>
                </a:lnTo>
                <a:lnTo>
                  <a:pt x="895" y="24"/>
                </a:lnTo>
                <a:lnTo>
                  <a:pt x="897" y="30"/>
                </a:lnTo>
                <a:lnTo>
                  <a:pt x="897" y="35"/>
                </a:lnTo>
                <a:lnTo>
                  <a:pt x="892" y="42"/>
                </a:lnTo>
                <a:lnTo>
                  <a:pt x="881" y="49"/>
                </a:lnTo>
                <a:lnTo>
                  <a:pt x="865" y="56"/>
                </a:lnTo>
                <a:lnTo>
                  <a:pt x="840" y="63"/>
                </a:lnTo>
                <a:lnTo>
                  <a:pt x="818" y="71"/>
                </a:lnTo>
                <a:lnTo>
                  <a:pt x="800" y="76"/>
                </a:lnTo>
                <a:lnTo>
                  <a:pt x="800" y="78"/>
                </a:lnTo>
                <a:lnTo>
                  <a:pt x="813" y="78"/>
                </a:lnTo>
                <a:lnTo>
                  <a:pt x="849" y="81"/>
                </a:lnTo>
                <a:lnTo>
                  <a:pt x="885" y="91"/>
                </a:lnTo>
                <a:lnTo>
                  <a:pt x="918" y="107"/>
                </a:lnTo>
                <a:lnTo>
                  <a:pt x="950" y="130"/>
                </a:lnTo>
                <a:lnTo>
                  <a:pt x="981" y="159"/>
                </a:lnTo>
                <a:lnTo>
                  <a:pt x="1011" y="195"/>
                </a:lnTo>
                <a:lnTo>
                  <a:pt x="1027" y="226"/>
                </a:lnTo>
                <a:lnTo>
                  <a:pt x="1040" y="254"/>
                </a:lnTo>
                <a:lnTo>
                  <a:pt x="1049" y="279"/>
                </a:lnTo>
                <a:lnTo>
                  <a:pt x="1053" y="302"/>
                </a:lnTo>
                <a:lnTo>
                  <a:pt x="1058" y="306"/>
                </a:lnTo>
                <a:lnTo>
                  <a:pt x="1066" y="309"/>
                </a:lnTo>
                <a:lnTo>
                  <a:pt x="1078" y="311"/>
                </a:lnTo>
                <a:lnTo>
                  <a:pt x="1094" y="312"/>
                </a:lnTo>
                <a:lnTo>
                  <a:pt x="1099" y="312"/>
                </a:lnTo>
                <a:lnTo>
                  <a:pt x="1131" y="309"/>
                </a:lnTo>
                <a:lnTo>
                  <a:pt x="1164" y="302"/>
                </a:lnTo>
                <a:lnTo>
                  <a:pt x="1195" y="289"/>
                </a:lnTo>
                <a:lnTo>
                  <a:pt x="1195" y="291"/>
                </a:lnTo>
                <a:lnTo>
                  <a:pt x="1185" y="311"/>
                </a:lnTo>
                <a:lnTo>
                  <a:pt x="1171" y="327"/>
                </a:lnTo>
                <a:lnTo>
                  <a:pt x="1151" y="341"/>
                </a:lnTo>
                <a:lnTo>
                  <a:pt x="1129" y="354"/>
                </a:lnTo>
                <a:lnTo>
                  <a:pt x="1107" y="362"/>
                </a:lnTo>
                <a:lnTo>
                  <a:pt x="1086" y="366"/>
                </a:lnTo>
                <a:lnTo>
                  <a:pt x="1070" y="368"/>
                </a:lnTo>
                <a:lnTo>
                  <a:pt x="1073" y="371"/>
                </a:lnTo>
                <a:lnTo>
                  <a:pt x="1083" y="374"/>
                </a:lnTo>
                <a:lnTo>
                  <a:pt x="1102" y="378"/>
                </a:lnTo>
                <a:lnTo>
                  <a:pt x="1126" y="382"/>
                </a:lnTo>
                <a:lnTo>
                  <a:pt x="1163" y="384"/>
                </a:lnTo>
                <a:lnTo>
                  <a:pt x="1172" y="384"/>
                </a:lnTo>
                <a:lnTo>
                  <a:pt x="1200" y="382"/>
                </a:lnTo>
                <a:lnTo>
                  <a:pt x="1201" y="383"/>
                </a:lnTo>
                <a:lnTo>
                  <a:pt x="1201" y="384"/>
                </a:lnTo>
                <a:lnTo>
                  <a:pt x="1179" y="404"/>
                </a:lnTo>
                <a:lnTo>
                  <a:pt x="1154" y="418"/>
                </a:lnTo>
                <a:lnTo>
                  <a:pt x="1125" y="428"/>
                </a:lnTo>
                <a:lnTo>
                  <a:pt x="1092" y="435"/>
                </a:lnTo>
                <a:lnTo>
                  <a:pt x="1058" y="437"/>
                </a:lnTo>
                <a:lnTo>
                  <a:pt x="1058" y="438"/>
                </a:lnTo>
                <a:lnTo>
                  <a:pt x="1046" y="478"/>
                </a:lnTo>
                <a:lnTo>
                  <a:pt x="1030" y="516"/>
                </a:lnTo>
                <a:lnTo>
                  <a:pt x="1011" y="552"/>
                </a:lnTo>
                <a:lnTo>
                  <a:pt x="988" y="588"/>
                </a:lnTo>
                <a:lnTo>
                  <a:pt x="959" y="622"/>
                </a:lnTo>
                <a:lnTo>
                  <a:pt x="934" y="651"/>
                </a:lnTo>
                <a:lnTo>
                  <a:pt x="910" y="673"/>
                </a:lnTo>
                <a:lnTo>
                  <a:pt x="889" y="691"/>
                </a:lnTo>
                <a:lnTo>
                  <a:pt x="855" y="715"/>
                </a:lnTo>
                <a:lnTo>
                  <a:pt x="820" y="739"/>
                </a:lnTo>
                <a:lnTo>
                  <a:pt x="783" y="758"/>
                </a:lnTo>
                <a:lnTo>
                  <a:pt x="724" y="783"/>
                </a:lnTo>
                <a:lnTo>
                  <a:pt x="666" y="804"/>
                </a:lnTo>
                <a:lnTo>
                  <a:pt x="608" y="818"/>
                </a:lnTo>
                <a:lnTo>
                  <a:pt x="551" y="826"/>
                </a:lnTo>
                <a:lnTo>
                  <a:pt x="493" y="829"/>
                </a:lnTo>
                <a:lnTo>
                  <a:pt x="465" y="829"/>
                </a:lnTo>
                <a:lnTo>
                  <a:pt x="409" y="826"/>
                </a:lnTo>
                <a:lnTo>
                  <a:pt x="354" y="818"/>
                </a:lnTo>
                <a:lnTo>
                  <a:pt x="299" y="804"/>
                </a:lnTo>
                <a:lnTo>
                  <a:pt x="245" y="784"/>
                </a:lnTo>
                <a:lnTo>
                  <a:pt x="192" y="759"/>
                </a:lnTo>
                <a:lnTo>
                  <a:pt x="139" y="728"/>
                </a:lnTo>
                <a:lnTo>
                  <a:pt x="125" y="718"/>
                </a:lnTo>
                <a:lnTo>
                  <a:pt x="108" y="705"/>
                </a:lnTo>
                <a:lnTo>
                  <a:pt x="87" y="688"/>
                </a:lnTo>
                <a:lnTo>
                  <a:pt x="65" y="666"/>
                </a:lnTo>
                <a:lnTo>
                  <a:pt x="40" y="641"/>
                </a:lnTo>
                <a:lnTo>
                  <a:pt x="25" y="624"/>
                </a:lnTo>
                <a:lnTo>
                  <a:pt x="14" y="610"/>
                </a:lnTo>
                <a:lnTo>
                  <a:pt x="6" y="600"/>
                </a:lnTo>
                <a:lnTo>
                  <a:pt x="1" y="593"/>
                </a:lnTo>
                <a:lnTo>
                  <a:pt x="0" y="590"/>
                </a:lnTo>
                <a:lnTo>
                  <a:pt x="31" y="615"/>
                </a:lnTo>
                <a:lnTo>
                  <a:pt x="66" y="637"/>
                </a:lnTo>
                <a:lnTo>
                  <a:pt x="102" y="653"/>
                </a:lnTo>
                <a:lnTo>
                  <a:pt x="139" y="665"/>
                </a:lnTo>
                <a:lnTo>
                  <a:pt x="178" y="671"/>
                </a:lnTo>
                <a:lnTo>
                  <a:pt x="219" y="674"/>
                </a:lnTo>
                <a:lnTo>
                  <a:pt x="258" y="671"/>
                </a:lnTo>
                <a:lnTo>
                  <a:pt x="295" y="665"/>
                </a:lnTo>
                <a:lnTo>
                  <a:pt x="332" y="653"/>
                </a:lnTo>
                <a:lnTo>
                  <a:pt x="366" y="637"/>
                </a:lnTo>
                <a:lnTo>
                  <a:pt x="400" y="615"/>
                </a:lnTo>
                <a:lnTo>
                  <a:pt x="433" y="589"/>
                </a:lnTo>
                <a:lnTo>
                  <a:pt x="436" y="585"/>
                </a:lnTo>
                <a:lnTo>
                  <a:pt x="439" y="582"/>
                </a:lnTo>
                <a:lnTo>
                  <a:pt x="442" y="580"/>
                </a:lnTo>
                <a:lnTo>
                  <a:pt x="444" y="580"/>
                </a:lnTo>
                <a:lnTo>
                  <a:pt x="444" y="579"/>
                </a:lnTo>
                <a:lnTo>
                  <a:pt x="436" y="580"/>
                </a:lnTo>
                <a:lnTo>
                  <a:pt x="424" y="580"/>
                </a:lnTo>
                <a:lnTo>
                  <a:pt x="408" y="578"/>
                </a:lnTo>
                <a:lnTo>
                  <a:pt x="392" y="572"/>
                </a:lnTo>
                <a:lnTo>
                  <a:pt x="379" y="563"/>
                </a:lnTo>
                <a:lnTo>
                  <a:pt x="365" y="550"/>
                </a:lnTo>
                <a:lnTo>
                  <a:pt x="360" y="539"/>
                </a:lnTo>
                <a:lnTo>
                  <a:pt x="358" y="528"/>
                </a:lnTo>
                <a:lnTo>
                  <a:pt x="360" y="513"/>
                </a:lnTo>
                <a:lnTo>
                  <a:pt x="368" y="501"/>
                </a:lnTo>
                <a:lnTo>
                  <a:pt x="382" y="489"/>
                </a:lnTo>
                <a:lnTo>
                  <a:pt x="401" y="478"/>
                </a:lnTo>
                <a:lnTo>
                  <a:pt x="401" y="477"/>
                </a:lnTo>
                <a:lnTo>
                  <a:pt x="384" y="477"/>
                </a:lnTo>
                <a:lnTo>
                  <a:pt x="356" y="475"/>
                </a:lnTo>
                <a:lnTo>
                  <a:pt x="332" y="469"/>
                </a:lnTo>
                <a:lnTo>
                  <a:pt x="310" y="458"/>
                </a:lnTo>
                <a:lnTo>
                  <a:pt x="290" y="443"/>
                </a:lnTo>
                <a:lnTo>
                  <a:pt x="273" y="425"/>
                </a:lnTo>
                <a:lnTo>
                  <a:pt x="259" y="402"/>
                </a:lnTo>
                <a:lnTo>
                  <a:pt x="278" y="386"/>
                </a:lnTo>
                <a:lnTo>
                  <a:pt x="298" y="376"/>
                </a:lnTo>
                <a:lnTo>
                  <a:pt x="319" y="372"/>
                </a:lnTo>
                <a:lnTo>
                  <a:pt x="336" y="370"/>
                </a:lnTo>
                <a:lnTo>
                  <a:pt x="336" y="369"/>
                </a:lnTo>
                <a:lnTo>
                  <a:pt x="302" y="359"/>
                </a:lnTo>
                <a:lnTo>
                  <a:pt x="274" y="345"/>
                </a:lnTo>
                <a:lnTo>
                  <a:pt x="250" y="329"/>
                </a:lnTo>
                <a:lnTo>
                  <a:pt x="232" y="311"/>
                </a:lnTo>
                <a:lnTo>
                  <a:pt x="219" y="288"/>
                </a:lnTo>
                <a:lnTo>
                  <a:pt x="211" y="268"/>
                </a:lnTo>
                <a:lnTo>
                  <a:pt x="207" y="251"/>
                </a:lnTo>
                <a:lnTo>
                  <a:pt x="243" y="243"/>
                </a:lnTo>
                <a:lnTo>
                  <a:pt x="277" y="241"/>
                </a:lnTo>
                <a:lnTo>
                  <a:pt x="277" y="240"/>
                </a:lnTo>
                <a:lnTo>
                  <a:pt x="264" y="232"/>
                </a:lnTo>
                <a:lnTo>
                  <a:pt x="247" y="221"/>
                </a:lnTo>
                <a:lnTo>
                  <a:pt x="229" y="205"/>
                </a:lnTo>
                <a:lnTo>
                  <a:pt x="209" y="184"/>
                </a:lnTo>
                <a:lnTo>
                  <a:pt x="195" y="163"/>
                </a:lnTo>
                <a:lnTo>
                  <a:pt x="185" y="143"/>
                </a:lnTo>
                <a:lnTo>
                  <a:pt x="180" y="123"/>
                </a:lnTo>
                <a:lnTo>
                  <a:pt x="178" y="105"/>
                </a:lnTo>
                <a:lnTo>
                  <a:pt x="178" y="91"/>
                </a:lnTo>
                <a:lnTo>
                  <a:pt x="203" y="99"/>
                </a:lnTo>
                <a:lnTo>
                  <a:pt x="231" y="109"/>
                </a:lnTo>
                <a:lnTo>
                  <a:pt x="264" y="122"/>
                </a:lnTo>
                <a:lnTo>
                  <a:pt x="301" y="138"/>
                </a:lnTo>
                <a:lnTo>
                  <a:pt x="343" y="155"/>
                </a:lnTo>
                <a:lnTo>
                  <a:pt x="383" y="173"/>
                </a:lnTo>
                <a:lnTo>
                  <a:pt x="418" y="191"/>
                </a:lnTo>
                <a:lnTo>
                  <a:pt x="450" y="206"/>
                </a:lnTo>
                <a:lnTo>
                  <a:pt x="476" y="220"/>
                </a:lnTo>
                <a:lnTo>
                  <a:pt x="498" y="232"/>
                </a:lnTo>
                <a:lnTo>
                  <a:pt x="515" y="244"/>
                </a:lnTo>
                <a:lnTo>
                  <a:pt x="547" y="270"/>
                </a:lnTo>
                <a:lnTo>
                  <a:pt x="577" y="298"/>
                </a:lnTo>
                <a:lnTo>
                  <a:pt x="578" y="298"/>
                </a:lnTo>
                <a:lnTo>
                  <a:pt x="598" y="247"/>
                </a:lnTo>
                <a:lnTo>
                  <a:pt x="619" y="199"/>
                </a:lnTo>
                <a:lnTo>
                  <a:pt x="640" y="155"/>
                </a:lnTo>
                <a:lnTo>
                  <a:pt x="664" y="115"/>
                </a:lnTo>
                <a:lnTo>
                  <a:pt x="676" y="96"/>
                </a:lnTo>
                <a:lnTo>
                  <a:pt x="691" y="77"/>
                </a:lnTo>
                <a:lnTo>
                  <a:pt x="712" y="54"/>
                </a:lnTo>
                <a:lnTo>
                  <a:pt x="735" y="31"/>
                </a:lnTo>
                <a:lnTo>
                  <a:pt x="766" y="8"/>
                </a:lnTo>
                <a:lnTo>
                  <a:pt x="766" y="9"/>
                </a:lnTo>
                <a:lnTo>
                  <a:pt x="766" y="10"/>
                </a:lnTo>
                <a:lnTo>
                  <a:pt x="763" y="23"/>
                </a:lnTo>
                <a:lnTo>
                  <a:pt x="756" y="34"/>
                </a:lnTo>
                <a:lnTo>
                  <a:pt x="756" y="35"/>
                </a:lnTo>
                <a:lnTo>
                  <a:pt x="757" y="35"/>
                </a:lnTo>
                <a:lnTo>
                  <a:pt x="782" y="20"/>
                </a:lnTo>
                <a:lnTo>
                  <a:pt x="804" y="8"/>
                </a:lnTo>
                <a:lnTo>
                  <a:pt x="824" y="2"/>
                </a:lnTo>
                <a:lnTo>
                  <a:pt x="84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Freeform 12"/>
          <p:cNvSpPr/>
          <p:nvPr/>
        </p:nvSpPr>
        <p:spPr>
          <a:xfrm>
            <a:off x="5843520" y="3433680"/>
            <a:ext cx="638280" cy="311400"/>
          </a:xfrm>
          <a:custGeom>
            <a:avLst/>
            <a:gdLst/>
            <a:ahLst/>
            <a:rect l="l" t="t" r="r" b="b"/>
            <a:pathLst>
              <a:path w="2070" h="829">
                <a:moveTo>
                  <a:pt x="1861" y="343"/>
                </a:moveTo>
                <a:lnTo>
                  <a:pt x="1872" y="345"/>
                </a:lnTo>
                <a:lnTo>
                  <a:pt x="1882" y="350"/>
                </a:lnTo>
                <a:lnTo>
                  <a:pt x="1888" y="360"/>
                </a:lnTo>
                <a:lnTo>
                  <a:pt x="1892" y="372"/>
                </a:lnTo>
                <a:lnTo>
                  <a:pt x="1894" y="387"/>
                </a:lnTo>
                <a:lnTo>
                  <a:pt x="1894" y="430"/>
                </a:lnTo>
                <a:lnTo>
                  <a:pt x="1891" y="432"/>
                </a:lnTo>
                <a:lnTo>
                  <a:pt x="1829" y="432"/>
                </a:lnTo>
                <a:lnTo>
                  <a:pt x="1827" y="430"/>
                </a:lnTo>
                <a:lnTo>
                  <a:pt x="1827" y="413"/>
                </a:lnTo>
                <a:lnTo>
                  <a:pt x="1827" y="389"/>
                </a:lnTo>
                <a:lnTo>
                  <a:pt x="1829" y="372"/>
                </a:lnTo>
                <a:lnTo>
                  <a:pt x="1832" y="360"/>
                </a:lnTo>
                <a:lnTo>
                  <a:pt x="1837" y="352"/>
                </a:lnTo>
                <a:lnTo>
                  <a:pt x="1848" y="345"/>
                </a:lnTo>
                <a:lnTo>
                  <a:pt x="1861" y="343"/>
                </a:lnTo>
                <a:close/>
                <a:moveTo>
                  <a:pt x="1588" y="342"/>
                </a:moveTo>
                <a:lnTo>
                  <a:pt x="1600" y="344"/>
                </a:lnTo>
                <a:lnTo>
                  <a:pt x="1609" y="351"/>
                </a:lnTo>
                <a:lnTo>
                  <a:pt x="1614" y="364"/>
                </a:lnTo>
                <a:lnTo>
                  <a:pt x="1617" y="380"/>
                </a:lnTo>
                <a:lnTo>
                  <a:pt x="1617" y="593"/>
                </a:lnTo>
                <a:lnTo>
                  <a:pt x="1616" y="607"/>
                </a:lnTo>
                <a:lnTo>
                  <a:pt x="1612" y="618"/>
                </a:lnTo>
                <a:lnTo>
                  <a:pt x="1605" y="624"/>
                </a:lnTo>
                <a:lnTo>
                  <a:pt x="1594" y="627"/>
                </a:lnTo>
                <a:lnTo>
                  <a:pt x="1588" y="627"/>
                </a:lnTo>
                <a:lnTo>
                  <a:pt x="1577" y="625"/>
                </a:lnTo>
                <a:lnTo>
                  <a:pt x="1566" y="619"/>
                </a:lnTo>
                <a:lnTo>
                  <a:pt x="1555" y="609"/>
                </a:lnTo>
                <a:lnTo>
                  <a:pt x="1555" y="360"/>
                </a:lnTo>
                <a:lnTo>
                  <a:pt x="1565" y="349"/>
                </a:lnTo>
                <a:lnTo>
                  <a:pt x="1576" y="344"/>
                </a:lnTo>
                <a:lnTo>
                  <a:pt x="1588" y="342"/>
                </a:lnTo>
                <a:close/>
                <a:moveTo>
                  <a:pt x="386" y="337"/>
                </a:moveTo>
                <a:lnTo>
                  <a:pt x="373" y="340"/>
                </a:lnTo>
                <a:lnTo>
                  <a:pt x="363" y="346"/>
                </a:lnTo>
                <a:lnTo>
                  <a:pt x="358" y="354"/>
                </a:lnTo>
                <a:lnTo>
                  <a:pt x="356" y="366"/>
                </a:lnTo>
                <a:lnTo>
                  <a:pt x="356" y="588"/>
                </a:lnTo>
                <a:lnTo>
                  <a:pt x="358" y="602"/>
                </a:lnTo>
                <a:lnTo>
                  <a:pt x="363" y="612"/>
                </a:lnTo>
                <a:lnTo>
                  <a:pt x="373" y="617"/>
                </a:lnTo>
                <a:lnTo>
                  <a:pt x="386" y="619"/>
                </a:lnTo>
                <a:lnTo>
                  <a:pt x="387" y="619"/>
                </a:lnTo>
                <a:lnTo>
                  <a:pt x="398" y="618"/>
                </a:lnTo>
                <a:lnTo>
                  <a:pt x="407" y="613"/>
                </a:lnTo>
                <a:lnTo>
                  <a:pt x="413" y="605"/>
                </a:lnTo>
                <a:lnTo>
                  <a:pt x="417" y="594"/>
                </a:lnTo>
                <a:lnTo>
                  <a:pt x="418" y="580"/>
                </a:lnTo>
                <a:lnTo>
                  <a:pt x="418" y="372"/>
                </a:lnTo>
                <a:lnTo>
                  <a:pt x="416" y="358"/>
                </a:lnTo>
                <a:lnTo>
                  <a:pt x="410" y="346"/>
                </a:lnTo>
                <a:lnTo>
                  <a:pt x="399" y="340"/>
                </a:lnTo>
                <a:lnTo>
                  <a:pt x="386" y="337"/>
                </a:lnTo>
                <a:close/>
                <a:moveTo>
                  <a:pt x="1193" y="283"/>
                </a:moveTo>
                <a:lnTo>
                  <a:pt x="1193" y="593"/>
                </a:lnTo>
                <a:lnTo>
                  <a:pt x="1193" y="617"/>
                </a:lnTo>
                <a:lnTo>
                  <a:pt x="1195" y="637"/>
                </a:lnTo>
                <a:lnTo>
                  <a:pt x="1197" y="653"/>
                </a:lnTo>
                <a:lnTo>
                  <a:pt x="1201" y="665"/>
                </a:lnTo>
                <a:lnTo>
                  <a:pt x="1207" y="672"/>
                </a:lnTo>
                <a:lnTo>
                  <a:pt x="1217" y="682"/>
                </a:lnTo>
                <a:lnTo>
                  <a:pt x="1229" y="688"/>
                </a:lnTo>
                <a:lnTo>
                  <a:pt x="1243" y="691"/>
                </a:lnTo>
                <a:lnTo>
                  <a:pt x="1245" y="691"/>
                </a:lnTo>
                <a:lnTo>
                  <a:pt x="1266" y="687"/>
                </a:lnTo>
                <a:lnTo>
                  <a:pt x="1287" y="678"/>
                </a:lnTo>
                <a:lnTo>
                  <a:pt x="1309" y="663"/>
                </a:lnTo>
                <a:lnTo>
                  <a:pt x="1332" y="642"/>
                </a:lnTo>
                <a:lnTo>
                  <a:pt x="1332" y="642"/>
                </a:lnTo>
                <a:lnTo>
                  <a:pt x="1332" y="685"/>
                </a:lnTo>
                <a:lnTo>
                  <a:pt x="1407" y="685"/>
                </a:lnTo>
                <a:lnTo>
                  <a:pt x="1407" y="283"/>
                </a:lnTo>
                <a:lnTo>
                  <a:pt x="1332" y="283"/>
                </a:lnTo>
                <a:lnTo>
                  <a:pt x="1332" y="588"/>
                </a:lnTo>
                <a:lnTo>
                  <a:pt x="1320" y="601"/>
                </a:lnTo>
                <a:lnTo>
                  <a:pt x="1308" y="611"/>
                </a:lnTo>
                <a:lnTo>
                  <a:pt x="1298" y="616"/>
                </a:lnTo>
                <a:lnTo>
                  <a:pt x="1289" y="618"/>
                </a:lnTo>
                <a:lnTo>
                  <a:pt x="1284" y="618"/>
                </a:lnTo>
                <a:lnTo>
                  <a:pt x="1277" y="616"/>
                </a:lnTo>
                <a:lnTo>
                  <a:pt x="1272" y="612"/>
                </a:lnTo>
                <a:lnTo>
                  <a:pt x="1269" y="603"/>
                </a:lnTo>
                <a:lnTo>
                  <a:pt x="1268" y="592"/>
                </a:lnTo>
                <a:lnTo>
                  <a:pt x="1268" y="283"/>
                </a:lnTo>
                <a:lnTo>
                  <a:pt x="1193" y="283"/>
                </a:lnTo>
                <a:close/>
                <a:moveTo>
                  <a:pt x="561" y="277"/>
                </a:moveTo>
                <a:lnTo>
                  <a:pt x="632" y="277"/>
                </a:lnTo>
                <a:lnTo>
                  <a:pt x="634" y="279"/>
                </a:lnTo>
                <a:lnTo>
                  <a:pt x="634" y="580"/>
                </a:lnTo>
                <a:lnTo>
                  <a:pt x="635" y="594"/>
                </a:lnTo>
                <a:lnTo>
                  <a:pt x="638" y="604"/>
                </a:lnTo>
                <a:lnTo>
                  <a:pt x="643" y="610"/>
                </a:lnTo>
                <a:lnTo>
                  <a:pt x="652" y="612"/>
                </a:lnTo>
                <a:lnTo>
                  <a:pt x="654" y="612"/>
                </a:lnTo>
                <a:lnTo>
                  <a:pt x="663" y="610"/>
                </a:lnTo>
                <a:lnTo>
                  <a:pt x="673" y="605"/>
                </a:lnTo>
                <a:lnTo>
                  <a:pt x="684" y="596"/>
                </a:lnTo>
                <a:lnTo>
                  <a:pt x="696" y="583"/>
                </a:lnTo>
                <a:lnTo>
                  <a:pt x="696" y="279"/>
                </a:lnTo>
                <a:lnTo>
                  <a:pt x="698" y="277"/>
                </a:lnTo>
                <a:lnTo>
                  <a:pt x="771" y="277"/>
                </a:lnTo>
                <a:lnTo>
                  <a:pt x="773" y="279"/>
                </a:lnTo>
                <a:lnTo>
                  <a:pt x="773" y="678"/>
                </a:lnTo>
                <a:lnTo>
                  <a:pt x="771" y="680"/>
                </a:lnTo>
                <a:lnTo>
                  <a:pt x="698" y="680"/>
                </a:lnTo>
                <a:lnTo>
                  <a:pt x="696" y="678"/>
                </a:lnTo>
                <a:lnTo>
                  <a:pt x="696" y="638"/>
                </a:lnTo>
                <a:lnTo>
                  <a:pt x="674" y="659"/>
                </a:lnTo>
                <a:lnTo>
                  <a:pt x="653" y="674"/>
                </a:lnTo>
                <a:lnTo>
                  <a:pt x="631" y="683"/>
                </a:lnTo>
                <a:lnTo>
                  <a:pt x="611" y="686"/>
                </a:lnTo>
                <a:lnTo>
                  <a:pt x="595" y="684"/>
                </a:lnTo>
                <a:lnTo>
                  <a:pt x="580" y="677"/>
                </a:lnTo>
                <a:lnTo>
                  <a:pt x="570" y="666"/>
                </a:lnTo>
                <a:lnTo>
                  <a:pt x="563" y="650"/>
                </a:lnTo>
                <a:lnTo>
                  <a:pt x="560" y="629"/>
                </a:lnTo>
                <a:lnTo>
                  <a:pt x="558" y="607"/>
                </a:lnTo>
                <a:lnTo>
                  <a:pt x="558" y="279"/>
                </a:lnTo>
                <a:lnTo>
                  <a:pt x="561" y="277"/>
                </a:lnTo>
                <a:close/>
                <a:moveTo>
                  <a:pt x="1859" y="274"/>
                </a:moveTo>
                <a:lnTo>
                  <a:pt x="1834" y="277"/>
                </a:lnTo>
                <a:lnTo>
                  <a:pt x="1810" y="285"/>
                </a:lnTo>
                <a:lnTo>
                  <a:pt x="1791" y="298"/>
                </a:lnTo>
                <a:lnTo>
                  <a:pt x="1774" y="317"/>
                </a:lnTo>
                <a:lnTo>
                  <a:pt x="1759" y="341"/>
                </a:lnTo>
                <a:lnTo>
                  <a:pt x="1753" y="365"/>
                </a:lnTo>
                <a:lnTo>
                  <a:pt x="1751" y="389"/>
                </a:lnTo>
                <a:lnTo>
                  <a:pt x="1751" y="576"/>
                </a:lnTo>
                <a:lnTo>
                  <a:pt x="1752" y="602"/>
                </a:lnTo>
                <a:lnTo>
                  <a:pt x="1757" y="625"/>
                </a:lnTo>
                <a:lnTo>
                  <a:pt x="1767" y="646"/>
                </a:lnTo>
                <a:lnTo>
                  <a:pt x="1779" y="662"/>
                </a:lnTo>
                <a:lnTo>
                  <a:pt x="1794" y="676"/>
                </a:lnTo>
                <a:lnTo>
                  <a:pt x="1813" y="687"/>
                </a:lnTo>
                <a:lnTo>
                  <a:pt x="1835" y="694"/>
                </a:lnTo>
                <a:lnTo>
                  <a:pt x="1859" y="696"/>
                </a:lnTo>
                <a:lnTo>
                  <a:pt x="1884" y="695"/>
                </a:lnTo>
                <a:lnTo>
                  <a:pt x="1905" y="688"/>
                </a:lnTo>
                <a:lnTo>
                  <a:pt x="1924" y="679"/>
                </a:lnTo>
                <a:lnTo>
                  <a:pt x="1940" y="667"/>
                </a:lnTo>
                <a:lnTo>
                  <a:pt x="1952" y="651"/>
                </a:lnTo>
                <a:lnTo>
                  <a:pt x="1962" y="630"/>
                </a:lnTo>
                <a:lnTo>
                  <a:pt x="1966" y="612"/>
                </a:lnTo>
                <a:lnTo>
                  <a:pt x="1969" y="589"/>
                </a:lnTo>
                <a:lnTo>
                  <a:pt x="1970" y="559"/>
                </a:lnTo>
                <a:lnTo>
                  <a:pt x="1970" y="542"/>
                </a:lnTo>
                <a:lnTo>
                  <a:pt x="1894" y="542"/>
                </a:lnTo>
                <a:lnTo>
                  <a:pt x="1894" y="573"/>
                </a:lnTo>
                <a:lnTo>
                  <a:pt x="1893" y="591"/>
                </a:lnTo>
                <a:lnTo>
                  <a:pt x="1891" y="604"/>
                </a:lnTo>
                <a:lnTo>
                  <a:pt x="1887" y="614"/>
                </a:lnTo>
                <a:lnTo>
                  <a:pt x="1882" y="620"/>
                </a:lnTo>
                <a:lnTo>
                  <a:pt x="1871" y="624"/>
                </a:lnTo>
                <a:lnTo>
                  <a:pt x="1862" y="626"/>
                </a:lnTo>
                <a:lnTo>
                  <a:pt x="1856" y="626"/>
                </a:lnTo>
                <a:lnTo>
                  <a:pt x="1845" y="623"/>
                </a:lnTo>
                <a:lnTo>
                  <a:pt x="1837" y="616"/>
                </a:lnTo>
                <a:lnTo>
                  <a:pt x="1831" y="604"/>
                </a:lnTo>
                <a:lnTo>
                  <a:pt x="1828" y="587"/>
                </a:lnTo>
                <a:lnTo>
                  <a:pt x="1827" y="564"/>
                </a:lnTo>
                <a:lnTo>
                  <a:pt x="1827" y="495"/>
                </a:lnTo>
                <a:lnTo>
                  <a:pt x="1829" y="493"/>
                </a:lnTo>
                <a:lnTo>
                  <a:pt x="1970" y="493"/>
                </a:lnTo>
                <a:lnTo>
                  <a:pt x="1970" y="400"/>
                </a:lnTo>
                <a:lnTo>
                  <a:pt x="1969" y="371"/>
                </a:lnTo>
                <a:lnTo>
                  <a:pt x="1964" y="345"/>
                </a:lnTo>
                <a:lnTo>
                  <a:pt x="1956" y="324"/>
                </a:lnTo>
                <a:lnTo>
                  <a:pt x="1945" y="306"/>
                </a:lnTo>
                <a:lnTo>
                  <a:pt x="1929" y="292"/>
                </a:lnTo>
                <a:lnTo>
                  <a:pt x="1912" y="282"/>
                </a:lnTo>
                <a:lnTo>
                  <a:pt x="1891" y="276"/>
                </a:lnTo>
                <a:lnTo>
                  <a:pt x="1866" y="274"/>
                </a:lnTo>
                <a:lnTo>
                  <a:pt x="1859" y="274"/>
                </a:lnTo>
                <a:close/>
                <a:moveTo>
                  <a:pt x="386" y="268"/>
                </a:moveTo>
                <a:lnTo>
                  <a:pt x="392" y="268"/>
                </a:lnTo>
                <a:lnTo>
                  <a:pt x="414" y="270"/>
                </a:lnTo>
                <a:lnTo>
                  <a:pt x="434" y="275"/>
                </a:lnTo>
                <a:lnTo>
                  <a:pt x="451" y="284"/>
                </a:lnTo>
                <a:lnTo>
                  <a:pt x="466" y="296"/>
                </a:lnTo>
                <a:lnTo>
                  <a:pt x="480" y="313"/>
                </a:lnTo>
                <a:lnTo>
                  <a:pt x="490" y="332"/>
                </a:lnTo>
                <a:lnTo>
                  <a:pt x="494" y="349"/>
                </a:lnTo>
                <a:lnTo>
                  <a:pt x="496" y="368"/>
                </a:lnTo>
                <a:lnTo>
                  <a:pt x="496" y="583"/>
                </a:lnTo>
                <a:lnTo>
                  <a:pt x="494" y="608"/>
                </a:lnTo>
                <a:lnTo>
                  <a:pt x="488" y="630"/>
                </a:lnTo>
                <a:lnTo>
                  <a:pt x="478" y="649"/>
                </a:lnTo>
                <a:lnTo>
                  <a:pt x="463" y="665"/>
                </a:lnTo>
                <a:lnTo>
                  <a:pt x="445" y="677"/>
                </a:lnTo>
                <a:lnTo>
                  <a:pt x="423" y="686"/>
                </a:lnTo>
                <a:lnTo>
                  <a:pt x="387" y="691"/>
                </a:lnTo>
                <a:lnTo>
                  <a:pt x="360" y="688"/>
                </a:lnTo>
                <a:lnTo>
                  <a:pt x="338" y="681"/>
                </a:lnTo>
                <a:lnTo>
                  <a:pt x="319" y="670"/>
                </a:lnTo>
                <a:lnTo>
                  <a:pt x="302" y="655"/>
                </a:lnTo>
                <a:lnTo>
                  <a:pt x="290" y="633"/>
                </a:lnTo>
                <a:lnTo>
                  <a:pt x="281" y="609"/>
                </a:lnTo>
                <a:lnTo>
                  <a:pt x="279" y="587"/>
                </a:lnTo>
                <a:lnTo>
                  <a:pt x="278" y="559"/>
                </a:lnTo>
                <a:lnTo>
                  <a:pt x="278" y="386"/>
                </a:lnTo>
                <a:lnTo>
                  <a:pt x="279" y="360"/>
                </a:lnTo>
                <a:lnTo>
                  <a:pt x="283" y="336"/>
                </a:lnTo>
                <a:lnTo>
                  <a:pt x="290" y="318"/>
                </a:lnTo>
                <a:lnTo>
                  <a:pt x="300" y="303"/>
                </a:lnTo>
                <a:lnTo>
                  <a:pt x="313" y="291"/>
                </a:lnTo>
                <a:lnTo>
                  <a:pt x="328" y="281"/>
                </a:lnTo>
                <a:lnTo>
                  <a:pt x="345" y="274"/>
                </a:lnTo>
                <a:lnTo>
                  <a:pt x="365" y="269"/>
                </a:lnTo>
                <a:lnTo>
                  <a:pt x="386" y="268"/>
                </a:lnTo>
                <a:close/>
                <a:moveTo>
                  <a:pt x="1480" y="141"/>
                </a:moveTo>
                <a:lnTo>
                  <a:pt x="1480" y="685"/>
                </a:lnTo>
                <a:lnTo>
                  <a:pt x="1555" y="685"/>
                </a:lnTo>
                <a:lnTo>
                  <a:pt x="1555" y="657"/>
                </a:lnTo>
                <a:lnTo>
                  <a:pt x="1556" y="657"/>
                </a:lnTo>
                <a:lnTo>
                  <a:pt x="1571" y="671"/>
                </a:lnTo>
                <a:lnTo>
                  <a:pt x="1587" y="681"/>
                </a:lnTo>
                <a:lnTo>
                  <a:pt x="1604" y="687"/>
                </a:lnTo>
                <a:lnTo>
                  <a:pt x="1621" y="689"/>
                </a:lnTo>
                <a:lnTo>
                  <a:pt x="1631" y="689"/>
                </a:lnTo>
                <a:lnTo>
                  <a:pt x="1647" y="687"/>
                </a:lnTo>
                <a:lnTo>
                  <a:pt x="1661" y="681"/>
                </a:lnTo>
                <a:lnTo>
                  <a:pt x="1673" y="672"/>
                </a:lnTo>
                <a:lnTo>
                  <a:pt x="1682" y="659"/>
                </a:lnTo>
                <a:lnTo>
                  <a:pt x="1689" y="642"/>
                </a:lnTo>
                <a:lnTo>
                  <a:pt x="1693" y="621"/>
                </a:lnTo>
                <a:lnTo>
                  <a:pt x="1694" y="603"/>
                </a:lnTo>
                <a:lnTo>
                  <a:pt x="1694" y="382"/>
                </a:lnTo>
                <a:lnTo>
                  <a:pt x="1692" y="354"/>
                </a:lnTo>
                <a:lnTo>
                  <a:pt x="1688" y="331"/>
                </a:lnTo>
                <a:lnTo>
                  <a:pt x="1681" y="313"/>
                </a:lnTo>
                <a:lnTo>
                  <a:pt x="1670" y="297"/>
                </a:lnTo>
                <a:lnTo>
                  <a:pt x="1657" y="287"/>
                </a:lnTo>
                <a:lnTo>
                  <a:pt x="1640" y="281"/>
                </a:lnTo>
                <a:lnTo>
                  <a:pt x="1621" y="278"/>
                </a:lnTo>
                <a:lnTo>
                  <a:pt x="1605" y="281"/>
                </a:lnTo>
                <a:lnTo>
                  <a:pt x="1588" y="287"/>
                </a:lnTo>
                <a:lnTo>
                  <a:pt x="1572" y="299"/>
                </a:lnTo>
                <a:lnTo>
                  <a:pt x="1556" y="316"/>
                </a:lnTo>
                <a:lnTo>
                  <a:pt x="1555" y="316"/>
                </a:lnTo>
                <a:lnTo>
                  <a:pt x="1555" y="141"/>
                </a:lnTo>
                <a:lnTo>
                  <a:pt x="1480" y="141"/>
                </a:lnTo>
                <a:close/>
                <a:moveTo>
                  <a:pt x="937" y="141"/>
                </a:moveTo>
                <a:lnTo>
                  <a:pt x="937" y="219"/>
                </a:lnTo>
                <a:lnTo>
                  <a:pt x="1021" y="219"/>
                </a:lnTo>
                <a:lnTo>
                  <a:pt x="1023" y="221"/>
                </a:lnTo>
                <a:lnTo>
                  <a:pt x="1023" y="685"/>
                </a:lnTo>
                <a:lnTo>
                  <a:pt x="1107" y="685"/>
                </a:lnTo>
                <a:lnTo>
                  <a:pt x="1107" y="221"/>
                </a:lnTo>
                <a:lnTo>
                  <a:pt x="1109" y="219"/>
                </a:lnTo>
                <a:lnTo>
                  <a:pt x="1194" y="219"/>
                </a:lnTo>
                <a:lnTo>
                  <a:pt x="1194" y="141"/>
                </a:lnTo>
                <a:lnTo>
                  <a:pt x="937" y="141"/>
                </a:lnTo>
                <a:close/>
                <a:moveTo>
                  <a:pt x="1" y="135"/>
                </a:moveTo>
                <a:lnTo>
                  <a:pt x="83" y="135"/>
                </a:lnTo>
                <a:lnTo>
                  <a:pt x="86" y="138"/>
                </a:lnTo>
                <a:lnTo>
                  <a:pt x="89" y="147"/>
                </a:lnTo>
                <a:lnTo>
                  <a:pt x="93" y="163"/>
                </a:lnTo>
                <a:lnTo>
                  <a:pt x="97" y="184"/>
                </a:lnTo>
                <a:lnTo>
                  <a:pt x="107" y="220"/>
                </a:lnTo>
                <a:lnTo>
                  <a:pt x="117" y="260"/>
                </a:lnTo>
                <a:lnTo>
                  <a:pt x="128" y="304"/>
                </a:lnTo>
                <a:lnTo>
                  <a:pt x="139" y="352"/>
                </a:lnTo>
                <a:lnTo>
                  <a:pt x="145" y="352"/>
                </a:lnTo>
                <a:lnTo>
                  <a:pt x="197" y="135"/>
                </a:lnTo>
                <a:lnTo>
                  <a:pt x="281" y="135"/>
                </a:lnTo>
                <a:lnTo>
                  <a:pt x="282" y="137"/>
                </a:lnTo>
                <a:lnTo>
                  <a:pt x="283" y="137"/>
                </a:lnTo>
                <a:lnTo>
                  <a:pt x="266" y="191"/>
                </a:lnTo>
                <a:lnTo>
                  <a:pt x="250" y="240"/>
                </a:lnTo>
                <a:lnTo>
                  <a:pt x="236" y="285"/>
                </a:lnTo>
                <a:lnTo>
                  <a:pt x="225" y="325"/>
                </a:lnTo>
                <a:lnTo>
                  <a:pt x="214" y="360"/>
                </a:lnTo>
                <a:lnTo>
                  <a:pt x="206" y="389"/>
                </a:lnTo>
                <a:lnTo>
                  <a:pt x="198" y="413"/>
                </a:lnTo>
                <a:lnTo>
                  <a:pt x="192" y="432"/>
                </a:lnTo>
                <a:lnTo>
                  <a:pt x="188" y="446"/>
                </a:lnTo>
                <a:lnTo>
                  <a:pt x="185" y="454"/>
                </a:lnTo>
                <a:lnTo>
                  <a:pt x="185" y="458"/>
                </a:lnTo>
                <a:lnTo>
                  <a:pt x="185" y="678"/>
                </a:lnTo>
                <a:lnTo>
                  <a:pt x="183" y="680"/>
                </a:lnTo>
                <a:lnTo>
                  <a:pt x="102" y="680"/>
                </a:lnTo>
                <a:lnTo>
                  <a:pt x="100" y="678"/>
                </a:lnTo>
                <a:lnTo>
                  <a:pt x="100" y="469"/>
                </a:lnTo>
                <a:lnTo>
                  <a:pt x="99" y="463"/>
                </a:lnTo>
                <a:lnTo>
                  <a:pt x="96" y="453"/>
                </a:lnTo>
                <a:lnTo>
                  <a:pt x="92" y="438"/>
                </a:lnTo>
                <a:lnTo>
                  <a:pt x="86" y="418"/>
                </a:lnTo>
                <a:lnTo>
                  <a:pt x="77" y="391"/>
                </a:lnTo>
                <a:lnTo>
                  <a:pt x="68" y="360"/>
                </a:lnTo>
                <a:lnTo>
                  <a:pt x="57" y="322"/>
                </a:lnTo>
                <a:lnTo>
                  <a:pt x="44" y="279"/>
                </a:lnTo>
                <a:lnTo>
                  <a:pt x="29" y="231"/>
                </a:lnTo>
                <a:lnTo>
                  <a:pt x="12" y="178"/>
                </a:lnTo>
                <a:lnTo>
                  <a:pt x="0" y="137"/>
                </a:lnTo>
                <a:lnTo>
                  <a:pt x="1" y="135"/>
                </a:lnTo>
                <a:close/>
                <a:moveTo>
                  <a:pt x="1395" y="0"/>
                </a:moveTo>
                <a:lnTo>
                  <a:pt x="1513" y="0"/>
                </a:lnTo>
                <a:lnTo>
                  <a:pt x="1624" y="1"/>
                </a:lnTo>
                <a:lnTo>
                  <a:pt x="1728" y="2"/>
                </a:lnTo>
                <a:lnTo>
                  <a:pt x="1825" y="5"/>
                </a:lnTo>
                <a:lnTo>
                  <a:pt x="1914" y="9"/>
                </a:lnTo>
                <a:lnTo>
                  <a:pt x="1946" y="18"/>
                </a:lnTo>
                <a:lnTo>
                  <a:pt x="1972" y="30"/>
                </a:lnTo>
                <a:lnTo>
                  <a:pt x="1995" y="44"/>
                </a:lnTo>
                <a:lnTo>
                  <a:pt x="2012" y="61"/>
                </a:lnTo>
                <a:lnTo>
                  <a:pt x="2028" y="79"/>
                </a:lnTo>
                <a:lnTo>
                  <a:pt x="2040" y="99"/>
                </a:lnTo>
                <a:lnTo>
                  <a:pt x="2051" y="122"/>
                </a:lnTo>
                <a:lnTo>
                  <a:pt x="2058" y="149"/>
                </a:lnTo>
                <a:lnTo>
                  <a:pt x="2063" y="178"/>
                </a:lnTo>
                <a:lnTo>
                  <a:pt x="2064" y="212"/>
                </a:lnTo>
                <a:lnTo>
                  <a:pt x="2067" y="249"/>
                </a:lnTo>
                <a:lnTo>
                  <a:pt x="2069" y="290"/>
                </a:lnTo>
                <a:lnTo>
                  <a:pt x="2070" y="336"/>
                </a:lnTo>
                <a:lnTo>
                  <a:pt x="2070" y="386"/>
                </a:lnTo>
                <a:lnTo>
                  <a:pt x="2070" y="443"/>
                </a:lnTo>
                <a:lnTo>
                  <a:pt x="2069" y="499"/>
                </a:lnTo>
                <a:lnTo>
                  <a:pt x="2068" y="548"/>
                </a:lnTo>
                <a:lnTo>
                  <a:pt x="2066" y="590"/>
                </a:lnTo>
                <a:lnTo>
                  <a:pt x="2064" y="625"/>
                </a:lnTo>
                <a:lnTo>
                  <a:pt x="2062" y="655"/>
                </a:lnTo>
                <a:lnTo>
                  <a:pt x="2060" y="676"/>
                </a:lnTo>
                <a:lnTo>
                  <a:pt x="2058" y="692"/>
                </a:lnTo>
                <a:lnTo>
                  <a:pt x="2055" y="700"/>
                </a:lnTo>
                <a:lnTo>
                  <a:pt x="2043" y="726"/>
                </a:lnTo>
                <a:lnTo>
                  <a:pt x="2028" y="750"/>
                </a:lnTo>
                <a:lnTo>
                  <a:pt x="2010" y="770"/>
                </a:lnTo>
                <a:lnTo>
                  <a:pt x="1987" y="788"/>
                </a:lnTo>
                <a:lnTo>
                  <a:pt x="1962" y="804"/>
                </a:lnTo>
                <a:lnTo>
                  <a:pt x="1947" y="811"/>
                </a:lnTo>
                <a:lnTo>
                  <a:pt x="1926" y="816"/>
                </a:lnTo>
                <a:lnTo>
                  <a:pt x="1903" y="820"/>
                </a:lnTo>
                <a:lnTo>
                  <a:pt x="1875" y="822"/>
                </a:lnTo>
                <a:lnTo>
                  <a:pt x="1844" y="823"/>
                </a:lnTo>
                <a:lnTo>
                  <a:pt x="1770" y="826"/>
                </a:lnTo>
                <a:lnTo>
                  <a:pt x="1689" y="828"/>
                </a:lnTo>
                <a:lnTo>
                  <a:pt x="1604" y="829"/>
                </a:lnTo>
                <a:lnTo>
                  <a:pt x="1513" y="829"/>
                </a:lnTo>
                <a:lnTo>
                  <a:pt x="1397" y="829"/>
                </a:lnTo>
                <a:lnTo>
                  <a:pt x="1286" y="829"/>
                </a:lnTo>
                <a:lnTo>
                  <a:pt x="1183" y="827"/>
                </a:lnTo>
                <a:lnTo>
                  <a:pt x="1085" y="824"/>
                </a:lnTo>
                <a:lnTo>
                  <a:pt x="995" y="819"/>
                </a:lnTo>
                <a:lnTo>
                  <a:pt x="964" y="811"/>
                </a:lnTo>
                <a:lnTo>
                  <a:pt x="933" y="795"/>
                </a:lnTo>
                <a:lnTo>
                  <a:pt x="902" y="772"/>
                </a:lnTo>
                <a:lnTo>
                  <a:pt x="885" y="754"/>
                </a:lnTo>
                <a:lnTo>
                  <a:pt x="871" y="733"/>
                </a:lnTo>
                <a:lnTo>
                  <a:pt x="859" y="710"/>
                </a:lnTo>
                <a:lnTo>
                  <a:pt x="852" y="682"/>
                </a:lnTo>
                <a:lnTo>
                  <a:pt x="847" y="653"/>
                </a:lnTo>
                <a:lnTo>
                  <a:pt x="845" y="619"/>
                </a:lnTo>
                <a:lnTo>
                  <a:pt x="842" y="564"/>
                </a:lnTo>
                <a:lnTo>
                  <a:pt x="840" y="503"/>
                </a:lnTo>
                <a:lnTo>
                  <a:pt x="839" y="435"/>
                </a:lnTo>
                <a:lnTo>
                  <a:pt x="839" y="394"/>
                </a:lnTo>
                <a:lnTo>
                  <a:pt x="840" y="310"/>
                </a:lnTo>
                <a:lnTo>
                  <a:pt x="844" y="228"/>
                </a:lnTo>
                <a:lnTo>
                  <a:pt x="850" y="149"/>
                </a:lnTo>
                <a:lnTo>
                  <a:pt x="852" y="140"/>
                </a:lnTo>
                <a:lnTo>
                  <a:pt x="857" y="126"/>
                </a:lnTo>
                <a:lnTo>
                  <a:pt x="864" y="110"/>
                </a:lnTo>
                <a:lnTo>
                  <a:pt x="874" y="91"/>
                </a:lnTo>
                <a:lnTo>
                  <a:pt x="888" y="71"/>
                </a:lnTo>
                <a:lnTo>
                  <a:pt x="904" y="54"/>
                </a:lnTo>
                <a:lnTo>
                  <a:pt x="925" y="39"/>
                </a:lnTo>
                <a:lnTo>
                  <a:pt x="947" y="26"/>
                </a:lnTo>
                <a:lnTo>
                  <a:pt x="973" y="15"/>
                </a:lnTo>
                <a:lnTo>
                  <a:pt x="981" y="12"/>
                </a:lnTo>
                <a:lnTo>
                  <a:pt x="995" y="10"/>
                </a:lnTo>
                <a:lnTo>
                  <a:pt x="1017" y="8"/>
                </a:lnTo>
                <a:lnTo>
                  <a:pt x="1047" y="7"/>
                </a:lnTo>
                <a:lnTo>
                  <a:pt x="1083" y="5"/>
                </a:lnTo>
                <a:lnTo>
                  <a:pt x="1127" y="4"/>
                </a:lnTo>
                <a:lnTo>
                  <a:pt x="1185" y="2"/>
                </a:lnTo>
                <a:lnTo>
                  <a:pt x="1249" y="1"/>
                </a:lnTo>
                <a:lnTo>
                  <a:pt x="1319" y="0"/>
                </a:lnTo>
                <a:lnTo>
                  <a:pt x="1395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Freeform 6"/>
          <p:cNvSpPr/>
          <p:nvPr/>
        </p:nvSpPr>
        <p:spPr>
          <a:xfrm>
            <a:off x="7192800" y="2698920"/>
            <a:ext cx="960480" cy="525240"/>
          </a:xfrm>
          <a:custGeom>
            <a:avLst/>
            <a:gdLst/>
            <a:ahLst/>
            <a:rect l="l" t="t" r="r" b="b"/>
            <a:pathLst>
              <a:path w="3678" h="1647">
                <a:moveTo>
                  <a:pt x="2388" y="605"/>
                </a:moveTo>
                <a:lnTo>
                  <a:pt x="2397" y="605"/>
                </a:lnTo>
                <a:lnTo>
                  <a:pt x="2426" y="609"/>
                </a:lnTo>
                <a:lnTo>
                  <a:pt x="2452" y="617"/>
                </a:lnTo>
                <a:lnTo>
                  <a:pt x="2475" y="630"/>
                </a:lnTo>
                <a:lnTo>
                  <a:pt x="2495" y="651"/>
                </a:lnTo>
                <a:lnTo>
                  <a:pt x="2512" y="676"/>
                </a:lnTo>
                <a:lnTo>
                  <a:pt x="2527" y="706"/>
                </a:lnTo>
                <a:lnTo>
                  <a:pt x="2538" y="743"/>
                </a:lnTo>
                <a:lnTo>
                  <a:pt x="2546" y="785"/>
                </a:lnTo>
                <a:lnTo>
                  <a:pt x="2546" y="802"/>
                </a:lnTo>
                <a:lnTo>
                  <a:pt x="2544" y="838"/>
                </a:lnTo>
                <a:lnTo>
                  <a:pt x="2536" y="871"/>
                </a:lnTo>
                <a:lnTo>
                  <a:pt x="2523" y="902"/>
                </a:lnTo>
                <a:lnTo>
                  <a:pt x="2505" y="930"/>
                </a:lnTo>
                <a:lnTo>
                  <a:pt x="2483" y="955"/>
                </a:lnTo>
                <a:lnTo>
                  <a:pt x="2456" y="978"/>
                </a:lnTo>
                <a:lnTo>
                  <a:pt x="2424" y="987"/>
                </a:lnTo>
                <a:lnTo>
                  <a:pt x="2393" y="990"/>
                </a:lnTo>
                <a:lnTo>
                  <a:pt x="2365" y="988"/>
                </a:lnTo>
                <a:lnTo>
                  <a:pt x="2340" y="980"/>
                </a:lnTo>
                <a:lnTo>
                  <a:pt x="2316" y="967"/>
                </a:lnTo>
                <a:lnTo>
                  <a:pt x="2296" y="948"/>
                </a:lnTo>
                <a:lnTo>
                  <a:pt x="2279" y="923"/>
                </a:lnTo>
                <a:lnTo>
                  <a:pt x="2265" y="895"/>
                </a:lnTo>
                <a:lnTo>
                  <a:pt x="2253" y="860"/>
                </a:lnTo>
                <a:lnTo>
                  <a:pt x="2244" y="820"/>
                </a:lnTo>
                <a:lnTo>
                  <a:pt x="2244" y="785"/>
                </a:lnTo>
                <a:lnTo>
                  <a:pt x="2247" y="752"/>
                </a:lnTo>
                <a:lnTo>
                  <a:pt x="2252" y="721"/>
                </a:lnTo>
                <a:lnTo>
                  <a:pt x="2262" y="694"/>
                </a:lnTo>
                <a:lnTo>
                  <a:pt x="2276" y="670"/>
                </a:lnTo>
                <a:lnTo>
                  <a:pt x="2295" y="649"/>
                </a:lnTo>
                <a:lnTo>
                  <a:pt x="2316" y="630"/>
                </a:lnTo>
                <a:lnTo>
                  <a:pt x="2343" y="614"/>
                </a:lnTo>
                <a:lnTo>
                  <a:pt x="2367" y="608"/>
                </a:lnTo>
                <a:lnTo>
                  <a:pt x="2388" y="605"/>
                </a:lnTo>
                <a:close/>
                <a:moveTo>
                  <a:pt x="3058" y="592"/>
                </a:moveTo>
                <a:lnTo>
                  <a:pt x="3078" y="592"/>
                </a:lnTo>
                <a:lnTo>
                  <a:pt x="3105" y="594"/>
                </a:lnTo>
                <a:lnTo>
                  <a:pt x="3130" y="601"/>
                </a:lnTo>
                <a:lnTo>
                  <a:pt x="3153" y="613"/>
                </a:lnTo>
                <a:lnTo>
                  <a:pt x="3173" y="629"/>
                </a:lnTo>
                <a:lnTo>
                  <a:pt x="3191" y="651"/>
                </a:lnTo>
                <a:lnTo>
                  <a:pt x="3205" y="677"/>
                </a:lnTo>
                <a:lnTo>
                  <a:pt x="3218" y="708"/>
                </a:lnTo>
                <a:lnTo>
                  <a:pt x="3222" y="733"/>
                </a:lnTo>
                <a:lnTo>
                  <a:pt x="3221" y="735"/>
                </a:lnTo>
                <a:lnTo>
                  <a:pt x="2921" y="735"/>
                </a:lnTo>
                <a:lnTo>
                  <a:pt x="2916" y="730"/>
                </a:lnTo>
                <a:lnTo>
                  <a:pt x="2920" y="710"/>
                </a:lnTo>
                <a:lnTo>
                  <a:pt x="2929" y="686"/>
                </a:lnTo>
                <a:lnTo>
                  <a:pt x="2943" y="660"/>
                </a:lnTo>
                <a:lnTo>
                  <a:pt x="2965" y="630"/>
                </a:lnTo>
                <a:lnTo>
                  <a:pt x="2989" y="613"/>
                </a:lnTo>
                <a:lnTo>
                  <a:pt x="3013" y="601"/>
                </a:lnTo>
                <a:lnTo>
                  <a:pt x="3035" y="594"/>
                </a:lnTo>
                <a:lnTo>
                  <a:pt x="3058" y="592"/>
                </a:lnTo>
                <a:close/>
                <a:moveTo>
                  <a:pt x="592" y="447"/>
                </a:moveTo>
                <a:lnTo>
                  <a:pt x="542" y="449"/>
                </a:lnTo>
                <a:lnTo>
                  <a:pt x="496" y="455"/>
                </a:lnTo>
                <a:lnTo>
                  <a:pt x="455" y="465"/>
                </a:lnTo>
                <a:lnTo>
                  <a:pt x="417" y="478"/>
                </a:lnTo>
                <a:lnTo>
                  <a:pt x="383" y="495"/>
                </a:lnTo>
                <a:lnTo>
                  <a:pt x="354" y="517"/>
                </a:lnTo>
                <a:lnTo>
                  <a:pt x="328" y="542"/>
                </a:lnTo>
                <a:lnTo>
                  <a:pt x="308" y="571"/>
                </a:lnTo>
                <a:lnTo>
                  <a:pt x="290" y="604"/>
                </a:lnTo>
                <a:lnTo>
                  <a:pt x="282" y="660"/>
                </a:lnTo>
                <a:lnTo>
                  <a:pt x="286" y="692"/>
                </a:lnTo>
                <a:lnTo>
                  <a:pt x="295" y="720"/>
                </a:lnTo>
                <a:lnTo>
                  <a:pt x="310" y="747"/>
                </a:lnTo>
                <a:lnTo>
                  <a:pt x="332" y="771"/>
                </a:lnTo>
                <a:lnTo>
                  <a:pt x="360" y="794"/>
                </a:lnTo>
                <a:lnTo>
                  <a:pt x="394" y="814"/>
                </a:lnTo>
                <a:lnTo>
                  <a:pt x="435" y="833"/>
                </a:lnTo>
                <a:lnTo>
                  <a:pt x="480" y="848"/>
                </a:lnTo>
                <a:lnTo>
                  <a:pt x="528" y="864"/>
                </a:lnTo>
                <a:lnTo>
                  <a:pt x="568" y="879"/>
                </a:lnTo>
                <a:lnTo>
                  <a:pt x="600" y="892"/>
                </a:lnTo>
                <a:lnTo>
                  <a:pt x="627" y="903"/>
                </a:lnTo>
                <a:lnTo>
                  <a:pt x="647" y="912"/>
                </a:lnTo>
                <a:lnTo>
                  <a:pt x="661" y="921"/>
                </a:lnTo>
                <a:lnTo>
                  <a:pt x="669" y="928"/>
                </a:lnTo>
                <a:lnTo>
                  <a:pt x="672" y="940"/>
                </a:lnTo>
                <a:lnTo>
                  <a:pt x="672" y="948"/>
                </a:lnTo>
                <a:lnTo>
                  <a:pt x="670" y="963"/>
                </a:lnTo>
                <a:lnTo>
                  <a:pt x="663" y="976"/>
                </a:lnTo>
                <a:lnTo>
                  <a:pt x="651" y="985"/>
                </a:lnTo>
                <a:lnTo>
                  <a:pt x="635" y="990"/>
                </a:lnTo>
                <a:lnTo>
                  <a:pt x="614" y="995"/>
                </a:lnTo>
                <a:lnTo>
                  <a:pt x="588" y="996"/>
                </a:lnTo>
                <a:lnTo>
                  <a:pt x="559" y="994"/>
                </a:lnTo>
                <a:lnTo>
                  <a:pt x="526" y="988"/>
                </a:lnTo>
                <a:lnTo>
                  <a:pt x="491" y="977"/>
                </a:lnTo>
                <a:lnTo>
                  <a:pt x="452" y="962"/>
                </a:lnTo>
                <a:lnTo>
                  <a:pt x="410" y="943"/>
                </a:lnTo>
                <a:lnTo>
                  <a:pt x="392" y="938"/>
                </a:lnTo>
                <a:lnTo>
                  <a:pt x="376" y="936"/>
                </a:lnTo>
                <a:lnTo>
                  <a:pt x="364" y="935"/>
                </a:lnTo>
                <a:lnTo>
                  <a:pt x="347" y="935"/>
                </a:lnTo>
                <a:lnTo>
                  <a:pt x="323" y="937"/>
                </a:lnTo>
                <a:lnTo>
                  <a:pt x="302" y="946"/>
                </a:lnTo>
                <a:lnTo>
                  <a:pt x="283" y="960"/>
                </a:lnTo>
                <a:lnTo>
                  <a:pt x="269" y="979"/>
                </a:lnTo>
                <a:lnTo>
                  <a:pt x="256" y="1003"/>
                </a:lnTo>
                <a:lnTo>
                  <a:pt x="254" y="1013"/>
                </a:lnTo>
                <a:lnTo>
                  <a:pt x="256" y="1035"/>
                </a:lnTo>
                <a:lnTo>
                  <a:pt x="267" y="1054"/>
                </a:lnTo>
                <a:lnTo>
                  <a:pt x="282" y="1072"/>
                </a:lnTo>
                <a:lnTo>
                  <a:pt x="305" y="1089"/>
                </a:lnTo>
                <a:lnTo>
                  <a:pt x="334" y="1105"/>
                </a:lnTo>
                <a:lnTo>
                  <a:pt x="368" y="1120"/>
                </a:lnTo>
                <a:lnTo>
                  <a:pt x="410" y="1132"/>
                </a:lnTo>
                <a:lnTo>
                  <a:pt x="458" y="1144"/>
                </a:lnTo>
                <a:lnTo>
                  <a:pt x="512" y="1155"/>
                </a:lnTo>
                <a:lnTo>
                  <a:pt x="562" y="1157"/>
                </a:lnTo>
                <a:lnTo>
                  <a:pt x="576" y="1157"/>
                </a:lnTo>
                <a:lnTo>
                  <a:pt x="623" y="1155"/>
                </a:lnTo>
                <a:lnTo>
                  <a:pt x="668" y="1149"/>
                </a:lnTo>
                <a:lnTo>
                  <a:pt x="709" y="1139"/>
                </a:lnTo>
                <a:lnTo>
                  <a:pt x="747" y="1126"/>
                </a:lnTo>
                <a:lnTo>
                  <a:pt x="782" y="1107"/>
                </a:lnTo>
                <a:lnTo>
                  <a:pt x="813" y="1085"/>
                </a:lnTo>
                <a:lnTo>
                  <a:pt x="841" y="1059"/>
                </a:lnTo>
                <a:lnTo>
                  <a:pt x="866" y="1029"/>
                </a:lnTo>
                <a:lnTo>
                  <a:pt x="878" y="998"/>
                </a:lnTo>
                <a:lnTo>
                  <a:pt x="886" y="969"/>
                </a:lnTo>
                <a:lnTo>
                  <a:pt x="888" y="939"/>
                </a:lnTo>
                <a:lnTo>
                  <a:pt x="885" y="909"/>
                </a:lnTo>
                <a:lnTo>
                  <a:pt x="876" y="880"/>
                </a:lnTo>
                <a:lnTo>
                  <a:pt x="860" y="854"/>
                </a:lnTo>
                <a:lnTo>
                  <a:pt x="838" y="830"/>
                </a:lnTo>
                <a:lnTo>
                  <a:pt x="810" y="809"/>
                </a:lnTo>
                <a:lnTo>
                  <a:pt x="775" y="788"/>
                </a:lnTo>
                <a:lnTo>
                  <a:pt x="735" y="770"/>
                </a:lnTo>
                <a:lnTo>
                  <a:pt x="688" y="754"/>
                </a:lnTo>
                <a:lnTo>
                  <a:pt x="643" y="739"/>
                </a:lnTo>
                <a:lnTo>
                  <a:pt x="605" y="726"/>
                </a:lnTo>
                <a:lnTo>
                  <a:pt x="572" y="713"/>
                </a:lnTo>
                <a:lnTo>
                  <a:pt x="545" y="702"/>
                </a:lnTo>
                <a:lnTo>
                  <a:pt x="525" y="693"/>
                </a:lnTo>
                <a:lnTo>
                  <a:pt x="511" y="684"/>
                </a:lnTo>
                <a:lnTo>
                  <a:pt x="503" y="677"/>
                </a:lnTo>
                <a:lnTo>
                  <a:pt x="497" y="660"/>
                </a:lnTo>
                <a:lnTo>
                  <a:pt x="497" y="653"/>
                </a:lnTo>
                <a:lnTo>
                  <a:pt x="504" y="637"/>
                </a:lnTo>
                <a:lnTo>
                  <a:pt x="513" y="625"/>
                </a:lnTo>
                <a:lnTo>
                  <a:pt x="528" y="616"/>
                </a:lnTo>
                <a:lnTo>
                  <a:pt x="545" y="610"/>
                </a:lnTo>
                <a:lnTo>
                  <a:pt x="567" y="609"/>
                </a:lnTo>
                <a:lnTo>
                  <a:pt x="579" y="609"/>
                </a:lnTo>
                <a:lnTo>
                  <a:pt x="595" y="610"/>
                </a:lnTo>
                <a:lnTo>
                  <a:pt x="615" y="613"/>
                </a:lnTo>
                <a:lnTo>
                  <a:pt x="638" y="619"/>
                </a:lnTo>
                <a:lnTo>
                  <a:pt x="668" y="628"/>
                </a:lnTo>
                <a:lnTo>
                  <a:pt x="699" y="638"/>
                </a:lnTo>
                <a:lnTo>
                  <a:pt x="736" y="652"/>
                </a:lnTo>
                <a:lnTo>
                  <a:pt x="756" y="658"/>
                </a:lnTo>
                <a:lnTo>
                  <a:pt x="774" y="660"/>
                </a:lnTo>
                <a:lnTo>
                  <a:pt x="785" y="660"/>
                </a:lnTo>
                <a:lnTo>
                  <a:pt x="805" y="658"/>
                </a:lnTo>
                <a:lnTo>
                  <a:pt x="823" y="651"/>
                </a:lnTo>
                <a:lnTo>
                  <a:pt x="838" y="639"/>
                </a:lnTo>
                <a:lnTo>
                  <a:pt x="851" y="622"/>
                </a:lnTo>
                <a:lnTo>
                  <a:pt x="862" y="602"/>
                </a:lnTo>
                <a:lnTo>
                  <a:pt x="867" y="585"/>
                </a:lnTo>
                <a:lnTo>
                  <a:pt x="867" y="580"/>
                </a:lnTo>
                <a:lnTo>
                  <a:pt x="864" y="559"/>
                </a:lnTo>
                <a:lnTo>
                  <a:pt x="856" y="539"/>
                </a:lnTo>
                <a:lnTo>
                  <a:pt x="841" y="521"/>
                </a:lnTo>
                <a:lnTo>
                  <a:pt x="821" y="505"/>
                </a:lnTo>
                <a:lnTo>
                  <a:pt x="795" y="492"/>
                </a:lnTo>
                <a:lnTo>
                  <a:pt x="763" y="478"/>
                </a:lnTo>
                <a:lnTo>
                  <a:pt x="726" y="467"/>
                </a:lnTo>
                <a:lnTo>
                  <a:pt x="682" y="458"/>
                </a:lnTo>
                <a:lnTo>
                  <a:pt x="633" y="450"/>
                </a:lnTo>
                <a:lnTo>
                  <a:pt x="592" y="447"/>
                </a:lnTo>
                <a:close/>
                <a:moveTo>
                  <a:pt x="3496" y="433"/>
                </a:moveTo>
                <a:lnTo>
                  <a:pt x="3496" y="525"/>
                </a:lnTo>
                <a:lnTo>
                  <a:pt x="3500" y="528"/>
                </a:lnTo>
                <a:lnTo>
                  <a:pt x="3515" y="528"/>
                </a:lnTo>
                <a:lnTo>
                  <a:pt x="3515" y="459"/>
                </a:lnTo>
                <a:lnTo>
                  <a:pt x="3519" y="459"/>
                </a:lnTo>
                <a:lnTo>
                  <a:pt x="3524" y="484"/>
                </a:lnTo>
                <a:lnTo>
                  <a:pt x="3527" y="503"/>
                </a:lnTo>
                <a:lnTo>
                  <a:pt x="3530" y="518"/>
                </a:lnTo>
                <a:lnTo>
                  <a:pt x="3534" y="526"/>
                </a:lnTo>
                <a:lnTo>
                  <a:pt x="3536" y="528"/>
                </a:lnTo>
                <a:lnTo>
                  <a:pt x="3553" y="528"/>
                </a:lnTo>
                <a:lnTo>
                  <a:pt x="3568" y="454"/>
                </a:lnTo>
                <a:lnTo>
                  <a:pt x="3572" y="454"/>
                </a:lnTo>
                <a:lnTo>
                  <a:pt x="3572" y="528"/>
                </a:lnTo>
                <a:lnTo>
                  <a:pt x="3588" y="528"/>
                </a:lnTo>
                <a:lnTo>
                  <a:pt x="3588" y="433"/>
                </a:lnTo>
                <a:lnTo>
                  <a:pt x="3564" y="433"/>
                </a:lnTo>
                <a:lnTo>
                  <a:pt x="3562" y="436"/>
                </a:lnTo>
                <a:lnTo>
                  <a:pt x="3558" y="444"/>
                </a:lnTo>
                <a:lnTo>
                  <a:pt x="3555" y="458"/>
                </a:lnTo>
                <a:lnTo>
                  <a:pt x="3549" y="478"/>
                </a:lnTo>
                <a:lnTo>
                  <a:pt x="3544" y="503"/>
                </a:lnTo>
                <a:lnTo>
                  <a:pt x="3539" y="503"/>
                </a:lnTo>
                <a:lnTo>
                  <a:pt x="3526" y="433"/>
                </a:lnTo>
                <a:lnTo>
                  <a:pt x="3496" y="433"/>
                </a:lnTo>
                <a:close/>
                <a:moveTo>
                  <a:pt x="3407" y="433"/>
                </a:moveTo>
                <a:lnTo>
                  <a:pt x="3407" y="447"/>
                </a:lnTo>
                <a:lnTo>
                  <a:pt x="3433" y="447"/>
                </a:lnTo>
                <a:lnTo>
                  <a:pt x="3437" y="451"/>
                </a:lnTo>
                <a:lnTo>
                  <a:pt x="3437" y="528"/>
                </a:lnTo>
                <a:lnTo>
                  <a:pt x="3455" y="528"/>
                </a:lnTo>
                <a:lnTo>
                  <a:pt x="3455" y="451"/>
                </a:lnTo>
                <a:lnTo>
                  <a:pt x="3460" y="447"/>
                </a:lnTo>
                <a:lnTo>
                  <a:pt x="3484" y="447"/>
                </a:lnTo>
                <a:lnTo>
                  <a:pt x="3484" y="433"/>
                </a:lnTo>
                <a:lnTo>
                  <a:pt x="3407" y="433"/>
                </a:lnTo>
                <a:close/>
                <a:moveTo>
                  <a:pt x="988" y="176"/>
                </a:moveTo>
                <a:lnTo>
                  <a:pt x="964" y="178"/>
                </a:lnTo>
                <a:lnTo>
                  <a:pt x="943" y="185"/>
                </a:lnTo>
                <a:lnTo>
                  <a:pt x="926" y="198"/>
                </a:lnTo>
                <a:lnTo>
                  <a:pt x="911" y="215"/>
                </a:lnTo>
                <a:lnTo>
                  <a:pt x="899" y="237"/>
                </a:lnTo>
                <a:lnTo>
                  <a:pt x="894" y="253"/>
                </a:lnTo>
                <a:lnTo>
                  <a:pt x="893" y="270"/>
                </a:lnTo>
                <a:lnTo>
                  <a:pt x="893" y="1073"/>
                </a:lnTo>
                <a:lnTo>
                  <a:pt x="898" y="1102"/>
                </a:lnTo>
                <a:lnTo>
                  <a:pt x="908" y="1124"/>
                </a:lnTo>
                <a:lnTo>
                  <a:pt x="921" y="1143"/>
                </a:lnTo>
                <a:lnTo>
                  <a:pt x="937" y="1156"/>
                </a:lnTo>
                <a:lnTo>
                  <a:pt x="958" y="1163"/>
                </a:lnTo>
                <a:lnTo>
                  <a:pt x="981" y="1167"/>
                </a:lnTo>
                <a:lnTo>
                  <a:pt x="990" y="1168"/>
                </a:lnTo>
                <a:lnTo>
                  <a:pt x="1015" y="1165"/>
                </a:lnTo>
                <a:lnTo>
                  <a:pt x="1037" y="1157"/>
                </a:lnTo>
                <a:lnTo>
                  <a:pt x="1055" y="1144"/>
                </a:lnTo>
                <a:lnTo>
                  <a:pt x="1070" y="1126"/>
                </a:lnTo>
                <a:lnTo>
                  <a:pt x="1081" y="1102"/>
                </a:lnTo>
                <a:lnTo>
                  <a:pt x="1084" y="1092"/>
                </a:lnTo>
                <a:lnTo>
                  <a:pt x="1086" y="1078"/>
                </a:lnTo>
                <a:lnTo>
                  <a:pt x="1086" y="1061"/>
                </a:lnTo>
                <a:lnTo>
                  <a:pt x="1086" y="918"/>
                </a:lnTo>
                <a:lnTo>
                  <a:pt x="1092" y="913"/>
                </a:lnTo>
                <a:lnTo>
                  <a:pt x="1101" y="905"/>
                </a:lnTo>
                <a:lnTo>
                  <a:pt x="1114" y="895"/>
                </a:lnTo>
                <a:lnTo>
                  <a:pt x="1131" y="881"/>
                </a:lnTo>
                <a:lnTo>
                  <a:pt x="1154" y="865"/>
                </a:lnTo>
                <a:lnTo>
                  <a:pt x="1332" y="1123"/>
                </a:lnTo>
                <a:lnTo>
                  <a:pt x="1356" y="1146"/>
                </a:lnTo>
                <a:lnTo>
                  <a:pt x="1379" y="1162"/>
                </a:lnTo>
                <a:lnTo>
                  <a:pt x="1400" y="1171"/>
                </a:lnTo>
                <a:lnTo>
                  <a:pt x="1419" y="1174"/>
                </a:lnTo>
                <a:lnTo>
                  <a:pt x="1429" y="1174"/>
                </a:lnTo>
                <a:lnTo>
                  <a:pt x="1449" y="1173"/>
                </a:lnTo>
                <a:lnTo>
                  <a:pt x="1467" y="1167"/>
                </a:lnTo>
                <a:lnTo>
                  <a:pt x="1482" y="1156"/>
                </a:lnTo>
                <a:lnTo>
                  <a:pt x="1495" y="1143"/>
                </a:lnTo>
                <a:lnTo>
                  <a:pt x="1505" y="1124"/>
                </a:lnTo>
                <a:lnTo>
                  <a:pt x="1514" y="1102"/>
                </a:lnTo>
                <a:lnTo>
                  <a:pt x="1516" y="1089"/>
                </a:lnTo>
                <a:lnTo>
                  <a:pt x="1514" y="1072"/>
                </a:lnTo>
                <a:lnTo>
                  <a:pt x="1506" y="1053"/>
                </a:lnTo>
                <a:lnTo>
                  <a:pt x="1494" y="1030"/>
                </a:lnTo>
                <a:lnTo>
                  <a:pt x="1477" y="1005"/>
                </a:lnTo>
                <a:lnTo>
                  <a:pt x="1455" y="978"/>
                </a:lnTo>
                <a:lnTo>
                  <a:pt x="1297" y="743"/>
                </a:lnTo>
                <a:lnTo>
                  <a:pt x="1327" y="705"/>
                </a:lnTo>
                <a:lnTo>
                  <a:pt x="1355" y="672"/>
                </a:lnTo>
                <a:lnTo>
                  <a:pt x="1379" y="644"/>
                </a:lnTo>
                <a:lnTo>
                  <a:pt x="1399" y="620"/>
                </a:lnTo>
                <a:lnTo>
                  <a:pt x="1415" y="602"/>
                </a:lnTo>
                <a:lnTo>
                  <a:pt x="1427" y="587"/>
                </a:lnTo>
                <a:lnTo>
                  <a:pt x="1437" y="578"/>
                </a:lnTo>
                <a:lnTo>
                  <a:pt x="1440" y="578"/>
                </a:lnTo>
                <a:lnTo>
                  <a:pt x="1670" y="1209"/>
                </a:lnTo>
                <a:lnTo>
                  <a:pt x="1670" y="1215"/>
                </a:lnTo>
                <a:lnTo>
                  <a:pt x="1668" y="1229"/>
                </a:lnTo>
                <a:lnTo>
                  <a:pt x="1659" y="1241"/>
                </a:lnTo>
                <a:lnTo>
                  <a:pt x="1643" y="1254"/>
                </a:lnTo>
                <a:lnTo>
                  <a:pt x="1623" y="1265"/>
                </a:lnTo>
                <a:lnTo>
                  <a:pt x="1597" y="1262"/>
                </a:lnTo>
                <a:lnTo>
                  <a:pt x="1569" y="1262"/>
                </a:lnTo>
                <a:lnTo>
                  <a:pt x="1547" y="1264"/>
                </a:lnTo>
                <a:lnTo>
                  <a:pt x="1529" y="1272"/>
                </a:lnTo>
                <a:lnTo>
                  <a:pt x="1513" y="1284"/>
                </a:lnTo>
                <a:lnTo>
                  <a:pt x="1501" y="1301"/>
                </a:lnTo>
                <a:lnTo>
                  <a:pt x="1493" y="1322"/>
                </a:lnTo>
                <a:lnTo>
                  <a:pt x="1493" y="1351"/>
                </a:lnTo>
                <a:lnTo>
                  <a:pt x="1495" y="1372"/>
                </a:lnTo>
                <a:lnTo>
                  <a:pt x="1503" y="1390"/>
                </a:lnTo>
                <a:lnTo>
                  <a:pt x="1515" y="1406"/>
                </a:lnTo>
                <a:lnTo>
                  <a:pt x="1532" y="1419"/>
                </a:lnTo>
                <a:lnTo>
                  <a:pt x="1555" y="1429"/>
                </a:lnTo>
                <a:lnTo>
                  <a:pt x="1598" y="1437"/>
                </a:lnTo>
                <a:lnTo>
                  <a:pt x="1637" y="1435"/>
                </a:lnTo>
                <a:lnTo>
                  <a:pt x="1673" y="1427"/>
                </a:lnTo>
                <a:lnTo>
                  <a:pt x="1705" y="1415"/>
                </a:lnTo>
                <a:lnTo>
                  <a:pt x="1733" y="1399"/>
                </a:lnTo>
                <a:lnTo>
                  <a:pt x="1756" y="1378"/>
                </a:lnTo>
                <a:lnTo>
                  <a:pt x="1776" y="1353"/>
                </a:lnTo>
                <a:lnTo>
                  <a:pt x="1793" y="1322"/>
                </a:lnTo>
                <a:lnTo>
                  <a:pt x="2047" y="635"/>
                </a:lnTo>
                <a:lnTo>
                  <a:pt x="2051" y="635"/>
                </a:lnTo>
                <a:lnTo>
                  <a:pt x="2051" y="1327"/>
                </a:lnTo>
                <a:lnTo>
                  <a:pt x="2053" y="1352"/>
                </a:lnTo>
                <a:lnTo>
                  <a:pt x="2059" y="1373"/>
                </a:lnTo>
                <a:lnTo>
                  <a:pt x="2068" y="1391"/>
                </a:lnTo>
                <a:lnTo>
                  <a:pt x="2080" y="1407"/>
                </a:lnTo>
                <a:lnTo>
                  <a:pt x="2096" y="1419"/>
                </a:lnTo>
                <a:lnTo>
                  <a:pt x="2116" y="1428"/>
                </a:lnTo>
                <a:lnTo>
                  <a:pt x="2138" y="1433"/>
                </a:lnTo>
                <a:lnTo>
                  <a:pt x="2148" y="1433"/>
                </a:lnTo>
                <a:lnTo>
                  <a:pt x="2172" y="1431"/>
                </a:lnTo>
                <a:lnTo>
                  <a:pt x="2192" y="1423"/>
                </a:lnTo>
                <a:lnTo>
                  <a:pt x="2210" y="1411"/>
                </a:lnTo>
                <a:lnTo>
                  <a:pt x="2225" y="1393"/>
                </a:lnTo>
                <a:lnTo>
                  <a:pt x="2237" y="1370"/>
                </a:lnTo>
                <a:lnTo>
                  <a:pt x="2242" y="1341"/>
                </a:lnTo>
                <a:lnTo>
                  <a:pt x="2244" y="1307"/>
                </a:lnTo>
                <a:lnTo>
                  <a:pt x="2244" y="1103"/>
                </a:lnTo>
                <a:lnTo>
                  <a:pt x="2248" y="1099"/>
                </a:lnTo>
                <a:lnTo>
                  <a:pt x="2280" y="1122"/>
                </a:lnTo>
                <a:lnTo>
                  <a:pt x="2313" y="1140"/>
                </a:lnTo>
                <a:lnTo>
                  <a:pt x="2348" y="1153"/>
                </a:lnTo>
                <a:lnTo>
                  <a:pt x="2384" y="1161"/>
                </a:lnTo>
                <a:lnTo>
                  <a:pt x="2421" y="1163"/>
                </a:lnTo>
                <a:lnTo>
                  <a:pt x="2466" y="1161"/>
                </a:lnTo>
                <a:lnTo>
                  <a:pt x="2509" y="1152"/>
                </a:lnTo>
                <a:lnTo>
                  <a:pt x="2548" y="1136"/>
                </a:lnTo>
                <a:lnTo>
                  <a:pt x="2584" y="1114"/>
                </a:lnTo>
                <a:lnTo>
                  <a:pt x="2619" y="1087"/>
                </a:lnTo>
                <a:lnTo>
                  <a:pt x="2650" y="1054"/>
                </a:lnTo>
                <a:lnTo>
                  <a:pt x="2679" y="1014"/>
                </a:lnTo>
                <a:lnTo>
                  <a:pt x="2705" y="969"/>
                </a:lnTo>
                <a:lnTo>
                  <a:pt x="2731" y="887"/>
                </a:lnTo>
                <a:lnTo>
                  <a:pt x="2732" y="887"/>
                </a:lnTo>
                <a:lnTo>
                  <a:pt x="2746" y="931"/>
                </a:lnTo>
                <a:lnTo>
                  <a:pt x="2762" y="971"/>
                </a:lnTo>
                <a:lnTo>
                  <a:pt x="2782" y="1006"/>
                </a:lnTo>
                <a:lnTo>
                  <a:pt x="2803" y="1037"/>
                </a:lnTo>
                <a:lnTo>
                  <a:pt x="2828" y="1064"/>
                </a:lnTo>
                <a:lnTo>
                  <a:pt x="2855" y="1086"/>
                </a:lnTo>
                <a:lnTo>
                  <a:pt x="2887" y="1110"/>
                </a:lnTo>
                <a:lnTo>
                  <a:pt x="2923" y="1129"/>
                </a:lnTo>
                <a:lnTo>
                  <a:pt x="2960" y="1144"/>
                </a:lnTo>
                <a:lnTo>
                  <a:pt x="3000" y="1155"/>
                </a:lnTo>
                <a:lnTo>
                  <a:pt x="3042" y="1161"/>
                </a:lnTo>
                <a:lnTo>
                  <a:pt x="3086" y="1163"/>
                </a:lnTo>
                <a:lnTo>
                  <a:pt x="3142" y="1160"/>
                </a:lnTo>
                <a:lnTo>
                  <a:pt x="3196" y="1149"/>
                </a:lnTo>
                <a:lnTo>
                  <a:pt x="3251" y="1132"/>
                </a:lnTo>
                <a:lnTo>
                  <a:pt x="3304" y="1109"/>
                </a:lnTo>
                <a:lnTo>
                  <a:pt x="3357" y="1078"/>
                </a:lnTo>
                <a:lnTo>
                  <a:pt x="3376" y="1057"/>
                </a:lnTo>
                <a:lnTo>
                  <a:pt x="3389" y="1039"/>
                </a:lnTo>
                <a:lnTo>
                  <a:pt x="3397" y="1021"/>
                </a:lnTo>
                <a:lnTo>
                  <a:pt x="3400" y="1003"/>
                </a:lnTo>
                <a:lnTo>
                  <a:pt x="3397" y="982"/>
                </a:lnTo>
                <a:lnTo>
                  <a:pt x="3390" y="964"/>
                </a:lnTo>
                <a:lnTo>
                  <a:pt x="3377" y="948"/>
                </a:lnTo>
                <a:lnTo>
                  <a:pt x="3359" y="935"/>
                </a:lnTo>
                <a:lnTo>
                  <a:pt x="3335" y="923"/>
                </a:lnTo>
                <a:lnTo>
                  <a:pt x="3323" y="922"/>
                </a:lnTo>
                <a:lnTo>
                  <a:pt x="3314" y="923"/>
                </a:lnTo>
                <a:lnTo>
                  <a:pt x="3302" y="927"/>
                </a:lnTo>
                <a:lnTo>
                  <a:pt x="3285" y="934"/>
                </a:lnTo>
                <a:lnTo>
                  <a:pt x="3263" y="943"/>
                </a:lnTo>
                <a:lnTo>
                  <a:pt x="3237" y="954"/>
                </a:lnTo>
                <a:lnTo>
                  <a:pt x="3207" y="969"/>
                </a:lnTo>
                <a:lnTo>
                  <a:pt x="3172" y="986"/>
                </a:lnTo>
                <a:lnTo>
                  <a:pt x="3163" y="990"/>
                </a:lnTo>
                <a:lnTo>
                  <a:pt x="3148" y="994"/>
                </a:lnTo>
                <a:lnTo>
                  <a:pt x="3128" y="996"/>
                </a:lnTo>
                <a:lnTo>
                  <a:pt x="3102" y="1000"/>
                </a:lnTo>
                <a:lnTo>
                  <a:pt x="3095" y="996"/>
                </a:lnTo>
                <a:lnTo>
                  <a:pt x="3086" y="996"/>
                </a:lnTo>
                <a:lnTo>
                  <a:pt x="3053" y="994"/>
                </a:lnTo>
                <a:lnTo>
                  <a:pt x="3023" y="986"/>
                </a:lnTo>
                <a:lnTo>
                  <a:pt x="2995" y="972"/>
                </a:lnTo>
                <a:lnTo>
                  <a:pt x="2969" y="954"/>
                </a:lnTo>
                <a:lnTo>
                  <a:pt x="2947" y="930"/>
                </a:lnTo>
                <a:lnTo>
                  <a:pt x="2936" y="911"/>
                </a:lnTo>
                <a:lnTo>
                  <a:pt x="2928" y="893"/>
                </a:lnTo>
                <a:lnTo>
                  <a:pt x="2922" y="877"/>
                </a:lnTo>
                <a:lnTo>
                  <a:pt x="2921" y="863"/>
                </a:lnTo>
                <a:lnTo>
                  <a:pt x="2922" y="862"/>
                </a:lnTo>
                <a:lnTo>
                  <a:pt x="3323" y="862"/>
                </a:lnTo>
                <a:lnTo>
                  <a:pt x="3348" y="860"/>
                </a:lnTo>
                <a:lnTo>
                  <a:pt x="3368" y="855"/>
                </a:lnTo>
                <a:lnTo>
                  <a:pt x="3386" y="847"/>
                </a:lnTo>
                <a:lnTo>
                  <a:pt x="3398" y="835"/>
                </a:lnTo>
                <a:lnTo>
                  <a:pt x="3408" y="820"/>
                </a:lnTo>
                <a:lnTo>
                  <a:pt x="3414" y="802"/>
                </a:lnTo>
                <a:lnTo>
                  <a:pt x="3416" y="780"/>
                </a:lnTo>
                <a:lnTo>
                  <a:pt x="3416" y="777"/>
                </a:lnTo>
                <a:lnTo>
                  <a:pt x="3413" y="734"/>
                </a:lnTo>
                <a:lnTo>
                  <a:pt x="3404" y="691"/>
                </a:lnTo>
                <a:lnTo>
                  <a:pt x="3389" y="650"/>
                </a:lnTo>
                <a:lnTo>
                  <a:pt x="3368" y="610"/>
                </a:lnTo>
                <a:lnTo>
                  <a:pt x="3341" y="571"/>
                </a:lnTo>
                <a:lnTo>
                  <a:pt x="3307" y="534"/>
                </a:lnTo>
                <a:lnTo>
                  <a:pt x="3269" y="499"/>
                </a:lnTo>
                <a:lnTo>
                  <a:pt x="3231" y="476"/>
                </a:lnTo>
                <a:lnTo>
                  <a:pt x="3193" y="458"/>
                </a:lnTo>
                <a:lnTo>
                  <a:pt x="3158" y="444"/>
                </a:lnTo>
                <a:lnTo>
                  <a:pt x="3124" y="437"/>
                </a:lnTo>
                <a:lnTo>
                  <a:pt x="3090" y="434"/>
                </a:lnTo>
                <a:lnTo>
                  <a:pt x="3078" y="434"/>
                </a:lnTo>
                <a:lnTo>
                  <a:pt x="3069" y="433"/>
                </a:lnTo>
                <a:lnTo>
                  <a:pt x="3060" y="434"/>
                </a:lnTo>
                <a:lnTo>
                  <a:pt x="3049" y="434"/>
                </a:lnTo>
                <a:lnTo>
                  <a:pt x="3004" y="438"/>
                </a:lnTo>
                <a:lnTo>
                  <a:pt x="2958" y="451"/>
                </a:lnTo>
                <a:lnTo>
                  <a:pt x="2913" y="472"/>
                </a:lnTo>
                <a:lnTo>
                  <a:pt x="2868" y="502"/>
                </a:lnTo>
                <a:lnTo>
                  <a:pt x="2824" y="539"/>
                </a:lnTo>
                <a:lnTo>
                  <a:pt x="2791" y="582"/>
                </a:lnTo>
                <a:lnTo>
                  <a:pt x="2765" y="625"/>
                </a:lnTo>
                <a:lnTo>
                  <a:pt x="2745" y="669"/>
                </a:lnTo>
                <a:lnTo>
                  <a:pt x="2732" y="716"/>
                </a:lnTo>
                <a:lnTo>
                  <a:pt x="2731" y="716"/>
                </a:lnTo>
                <a:lnTo>
                  <a:pt x="2716" y="664"/>
                </a:lnTo>
                <a:lnTo>
                  <a:pt x="2698" y="618"/>
                </a:lnTo>
                <a:lnTo>
                  <a:pt x="2677" y="577"/>
                </a:lnTo>
                <a:lnTo>
                  <a:pt x="2652" y="541"/>
                </a:lnTo>
                <a:lnTo>
                  <a:pt x="2625" y="510"/>
                </a:lnTo>
                <a:lnTo>
                  <a:pt x="2591" y="483"/>
                </a:lnTo>
                <a:lnTo>
                  <a:pt x="2555" y="461"/>
                </a:lnTo>
                <a:lnTo>
                  <a:pt x="2518" y="446"/>
                </a:lnTo>
                <a:lnTo>
                  <a:pt x="2479" y="437"/>
                </a:lnTo>
                <a:lnTo>
                  <a:pt x="2438" y="434"/>
                </a:lnTo>
                <a:lnTo>
                  <a:pt x="2430" y="434"/>
                </a:lnTo>
                <a:lnTo>
                  <a:pt x="2427" y="433"/>
                </a:lnTo>
                <a:lnTo>
                  <a:pt x="2426" y="434"/>
                </a:lnTo>
                <a:lnTo>
                  <a:pt x="2415" y="434"/>
                </a:lnTo>
                <a:lnTo>
                  <a:pt x="2381" y="436"/>
                </a:lnTo>
                <a:lnTo>
                  <a:pt x="2349" y="444"/>
                </a:lnTo>
                <a:lnTo>
                  <a:pt x="2320" y="455"/>
                </a:lnTo>
                <a:lnTo>
                  <a:pt x="2292" y="471"/>
                </a:lnTo>
                <a:lnTo>
                  <a:pt x="2267" y="493"/>
                </a:lnTo>
                <a:lnTo>
                  <a:pt x="2244" y="519"/>
                </a:lnTo>
                <a:lnTo>
                  <a:pt x="2234" y="495"/>
                </a:lnTo>
                <a:lnTo>
                  <a:pt x="2223" y="476"/>
                </a:lnTo>
                <a:lnTo>
                  <a:pt x="2210" y="461"/>
                </a:lnTo>
                <a:lnTo>
                  <a:pt x="2195" y="451"/>
                </a:lnTo>
                <a:lnTo>
                  <a:pt x="2172" y="444"/>
                </a:lnTo>
                <a:lnTo>
                  <a:pt x="2147" y="442"/>
                </a:lnTo>
                <a:lnTo>
                  <a:pt x="2122" y="445"/>
                </a:lnTo>
                <a:lnTo>
                  <a:pt x="2098" y="454"/>
                </a:lnTo>
                <a:lnTo>
                  <a:pt x="2075" y="471"/>
                </a:lnTo>
                <a:lnTo>
                  <a:pt x="2072" y="471"/>
                </a:lnTo>
                <a:lnTo>
                  <a:pt x="2054" y="453"/>
                </a:lnTo>
                <a:lnTo>
                  <a:pt x="2035" y="440"/>
                </a:lnTo>
                <a:lnTo>
                  <a:pt x="2016" y="432"/>
                </a:lnTo>
                <a:lnTo>
                  <a:pt x="1996" y="428"/>
                </a:lnTo>
                <a:lnTo>
                  <a:pt x="1984" y="428"/>
                </a:lnTo>
                <a:lnTo>
                  <a:pt x="1961" y="430"/>
                </a:lnTo>
                <a:lnTo>
                  <a:pt x="1942" y="438"/>
                </a:lnTo>
                <a:lnTo>
                  <a:pt x="1925" y="451"/>
                </a:lnTo>
                <a:lnTo>
                  <a:pt x="1911" y="468"/>
                </a:lnTo>
                <a:lnTo>
                  <a:pt x="1898" y="490"/>
                </a:lnTo>
                <a:lnTo>
                  <a:pt x="1888" y="517"/>
                </a:lnTo>
                <a:lnTo>
                  <a:pt x="1880" y="549"/>
                </a:lnTo>
                <a:lnTo>
                  <a:pt x="1775" y="958"/>
                </a:lnTo>
                <a:lnTo>
                  <a:pt x="1771" y="958"/>
                </a:lnTo>
                <a:lnTo>
                  <a:pt x="1746" y="884"/>
                </a:lnTo>
                <a:lnTo>
                  <a:pt x="1724" y="817"/>
                </a:lnTo>
                <a:lnTo>
                  <a:pt x="1702" y="755"/>
                </a:lnTo>
                <a:lnTo>
                  <a:pt x="1684" y="700"/>
                </a:lnTo>
                <a:lnTo>
                  <a:pt x="1668" y="650"/>
                </a:lnTo>
                <a:lnTo>
                  <a:pt x="1652" y="605"/>
                </a:lnTo>
                <a:lnTo>
                  <a:pt x="1640" y="568"/>
                </a:lnTo>
                <a:lnTo>
                  <a:pt x="1628" y="536"/>
                </a:lnTo>
                <a:lnTo>
                  <a:pt x="1618" y="510"/>
                </a:lnTo>
                <a:lnTo>
                  <a:pt x="1612" y="490"/>
                </a:lnTo>
                <a:lnTo>
                  <a:pt x="1606" y="476"/>
                </a:lnTo>
                <a:lnTo>
                  <a:pt x="1588" y="455"/>
                </a:lnTo>
                <a:lnTo>
                  <a:pt x="1569" y="441"/>
                </a:lnTo>
                <a:lnTo>
                  <a:pt x="1547" y="432"/>
                </a:lnTo>
                <a:lnTo>
                  <a:pt x="1522" y="428"/>
                </a:lnTo>
                <a:lnTo>
                  <a:pt x="1509" y="428"/>
                </a:lnTo>
                <a:lnTo>
                  <a:pt x="1491" y="432"/>
                </a:lnTo>
                <a:lnTo>
                  <a:pt x="1474" y="440"/>
                </a:lnTo>
                <a:lnTo>
                  <a:pt x="1455" y="453"/>
                </a:lnTo>
                <a:lnTo>
                  <a:pt x="1437" y="471"/>
                </a:lnTo>
                <a:lnTo>
                  <a:pt x="1434" y="471"/>
                </a:lnTo>
                <a:lnTo>
                  <a:pt x="1416" y="455"/>
                </a:lnTo>
                <a:lnTo>
                  <a:pt x="1396" y="446"/>
                </a:lnTo>
                <a:lnTo>
                  <a:pt x="1374" y="443"/>
                </a:lnTo>
                <a:lnTo>
                  <a:pt x="1370" y="443"/>
                </a:lnTo>
                <a:lnTo>
                  <a:pt x="1344" y="446"/>
                </a:lnTo>
                <a:lnTo>
                  <a:pt x="1318" y="457"/>
                </a:lnTo>
                <a:lnTo>
                  <a:pt x="1292" y="475"/>
                </a:lnTo>
                <a:lnTo>
                  <a:pt x="1268" y="500"/>
                </a:lnTo>
                <a:lnTo>
                  <a:pt x="1242" y="532"/>
                </a:lnTo>
                <a:lnTo>
                  <a:pt x="1090" y="704"/>
                </a:lnTo>
                <a:lnTo>
                  <a:pt x="1086" y="704"/>
                </a:lnTo>
                <a:lnTo>
                  <a:pt x="1086" y="283"/>
                </a:lnTo>
                <a:lnTo>
                  <a:pt x="1084" y="256"/>
                </a:lnTo>
                <a:lnTo>
                  <a:pt x="1079" y="233"/>
                </a:lnTo>
                <a:lnTo>
                  <a:pt x="1067" y="212"/>
                </a:lnTo>
                <a:lnTo>
                  <a:pt x="1052" y="196"/>
                </a:lnTo>
                <a:lnTo>
                  <a:pt x="1032" y="184"/>
                </a:lnTo>
                <a:lnTo>
                  <a:pt x="1011" y="177"/>
                </a:lnTo>
                <a:lnTo>
                  <a:pt x="988" y="176"/>
                </a:lnTo>
                <a:close/>
                <a:moveTo>
                  <a:pt x="988" y="0"/>
                </a:moveTo>
                <a:lnTo>
                  <a:pt x="1021" y="3"/>
                </a:lnTo>
                <a:lnTo>
                  <a:pt x="1054" y="15"/>
                </a:lnTo>
                <a:lnTo>
                  <a:pt x="1084" y="34"/>
                </a:lnTo>
                <a:lnTo>
                  <a:pt x="1113" y="60"/>
                </a:lnTo>
                <a:lnTo>
                  <a:pt x="1142" y="94"/>
                </a:lnTo>
                <a:lnTo>
                  <a:pt x="1159" y="121"/>
                </a:lnTo>
                <a:lnTo>
                  <a:pt x="1174" y="156"/>
                </a:lnTo>
                <a:lnTo>
                  <a:pt x="1186" y="195"/>
                </a:lnTo>
                <a:lnTo>
                  <a:pt x="1195" y="241"/>
                </a:lnTo>
                <a:lnTo>
                  <a:pt x="1243" y="227"/>
                </a:lnTo>
                <a:lnTo>
                  <a:pt x="1289" y="217"/>
                </a:lnTo>
                <a:lnTo>
                  <a:pt x="1332" y="209"/>
                </a:lnTo>
                <a:lnTo>
                  <a:pt x="1371" y="204"/>
                </a:lnTo>
                <a:lnTo>
                  <a:pt x="1408" y="202"/>
                </a:lnTo>
                <a:lnTo>
                  <a:pt x="1453" y="204"/>
                </a:lnTo>
                <a:lnTo>
                  <a:pt x="1494" y="210"/>
                </a:lnTo>
                <a:lnTo>
                  <a:pt x="1531" y="219"/>
                </a:lnTo>
                <a:lnTo>
                  <a:pt x="1565" y="232"/>
                </a:lnTo>
                <a:lnTo>
                  <a:pt x="1596" y="248"/>
                </a:lnTo>
                <a:lnTo>
                  <a:pt x="1623" y="268"/>
                </a:lnTo>
                <a:lnTo>
                  <a:pt x="1646" y="291"/>
                </a:lnTo>
                <a:lnTo>
                  <a:pt x="1667" y="318"/>
                </a:lnTo>
                <a:lnTo>
                  <a:pt x="1669" y="318"/>
                </a:lnTo>
                <a:lnTo>
                  <a:pt x="1696" y="278"/>
                </a:lnTo>
                <a:lnTo>
                  <a:pt x="1726" y="243"/>
                </a:lnTo>
                <a:lnTo>
                  <a:pt x="1760" y="211"/>
                </a:lnTo>
                <a:lnTo>
                  <a:pt x="1796" y="184"/>
                </a:lnTo>
                <a:lnTo>
                  <a:pt x="1836" y="161"/>
                </a:lnTo>
                <a:lnTo>
                  <a:pt x="1879" y="142"/>
                </a:lnTo>
                <a:lnTo>
                  <a:pt x="1925" y="127"/>
                </a:lnTo>
                <a:lnTo>
                  <a:pt x="1975" y="117"/>
                </a:lnTo>
                <a:lnTo>
                  <a:pt x="2027" y="110"/>
                </a:lnTo>
                <a:lnTo>
                  <a:pt x="2083" y="108"/>
                </a:lnTo>
                <a:lnTo>
                  <a:pt x="2134" y="111"/>
                </a:lnTo>
                <a:lnTo>
                  <a:pt x="2182" y="119"/>
                </a:lnTo>
                <a:lnTo>
                  <a:pt x="2228" y="133"/>
                </a:lnTo>
                <a:lnTo>
                  <a:pt x="2271" y="153"/>
                </a:lnTo>
                <a:lnTo>
                  <a:pt x="2312" y="178"/>
                </a:lnTo>
                <a:lnTo>
                  <a:pt x="2350" y="209"/>
                </a:lnTo>
                <a:lnTo>
                  <a:pt x="2386" y="245"/>
                </a:lnTo>
                <a:lnTo>
                  <a:pt x="2419" y="287"/>
                </a:lnTo>
                <a:lnTo>
                  <a:pt x="2448" y="338"/>
                </a:lnTo>
                <a:lnTo>
                  <a:pt x="2486" y="327"/>
                </a:lnTo>
                <a:lnTo>
                  <a:pt x="2523" y="319"/>
                </a:lnTo>
                <a:lnTo>
                  <a:pt x="2558" y="317"/>
                </a:lnTo>
                <a:lnTo>
                  <a:pt x="2576" y="317"/>
                </a:lnTo>
                <a:lnTo>
                  <a:pt x="2607" y="319"/>
                </a:lnTo>
                <a:lnTo>
                  <a:pt x="2636" y="326"/>
                </a:lnTo>
                <a:lnTo>
                  <a:pt x="2666" y="337"/>
                </a:lnTo>
                <a:lnTo>
                  <a:pt x="2694" y="353"/>
                </a:lnTo>
                <a:lnTo>
                  <a:pt x="2719" y="375"/>
                </a:lnTo>
                <a:lnTo>
                  <a:pt x="2722" y="375"/>
                </a:lnTo>
                <a:lnTo>
                  <a:pt x="2787" y="342"/>
                </a:lnTo>
                <a:lnTo>
                  <a:pt x="2850" y="317"/>
                </a:lnTo>
                <a:lnTo>
                  <a:pt x="2912" y="299"/>
                </a:lnTo>
                <a:lnTo>
                  <a:pt x="2975" y="287"/>
                </a:lnTo>
                <a:lnTo>
                  <a:pt x="3035" y="284"/>
                </a:lnTo>
                <a:lnTo>
                  <a:pt x="3067" y="284"/>
                </a:lnTo>
                <a:lnTo>
                  <a:pt x="3119" y="287"/>
                </a:lnTo>
                <a:lnTo>
                  <a:pt x="3173" y="299"/>
                </a:lnTo>
                <a:lnTo>
                  <a:pt x="3226" y="317"/>
                </a:lnTo>
                <a:lnTo>
                  <a:pt x="3278" y="342"/>
                </a:lnTo>
                <a:lnTo>
                  <a:pt x="3331" y="375"/>
                </a:lnTo>
                <a:lnTo>
                  <a:pt x="3332" y="375"/>
                </a:lnTo>
                <a:lnTo>
                  <a:pt x="3376" y="346"/>
                </a:lnTo>
                <a:lnTo>
                  <a:pt x="3420" y="326"/>
                </a:lnTo>
                <a:lnTo>
                  <a:pt x="3464" y="313"/>
                </a:lnTo>
                <a:lnTo>
                  <a:pt x="3509" y="310"/>
                </a:lnTo>
                <a:lnTo>
                  <a:pt x="3538" y="312"/>
                </a:lnTo>
                <a:lnTo>
                  <a:pt x="3566" y="321"/>
                </a:lnTo>
                <a:lnTo>
                  <a:pt x="3592" y="335"/>
                </a:lnTo>
                <a:lnTo>
                  <a:pt x="3615" y="355"/>
                </a:lnTo>
                <a:lnTo>
                  <a:pt x="3638" y="382"/>
                </a:lnTo>
                <a:lnTo>
                  <a:pt x="3657" y="412"/>
                </a:lnTo>
                <a:lnTo>
                  <a:pt x="3668" y="446"/>
                </a:lnTo>
                <a:lnTo>
                  <a:pt x="3676" y="478"/>
                </a:lnTo>
                <a:lnTo>
                  <a:pt x="3678" y="510"/>
                </a:lnTo>
                <a:lnTo>
                  <a:pt x="3678" y="527"/>
                </a:lnTo>
                <a:lnTo>
                  <a:pt x="3676" y="557"/>
                </a:lnTo>
                <a:lnTo>
                  <a:pt x="3668" y="585"/>
                </a:lnTo>
                <a:lnTo>
                  <a:pt x="3656" y="610"/>
                </a:lnTo>
                <a:lnTo>
                  <a:pt x="3639" y="634"/>
                </a:lnTo>
                <a:lnTo>
                  <a:pt x="3618" y="654"/>
                </a:lnTo>
                <a:lnTo>
                  <a:pt x="3591" y="674"/>
                </a:lnTo>
                <a:lnTo>
                  <a:pt x="3559" y="691"/>
                </a:lnTo>
                <a:lnTo>
                  <a:pt x="3560" y="726"/>
                </a:lnTo>
                <a:lnTo>
                  <a:pt x="3560" y="760"/>
                </a:lnTo>
                <a:lnTo>
                  <a:pt x="3558" y="828"/>
                </a:lnTo>
                <a:lnTo>
                  <a:pt x="3550" y="892"/>
                </a:lnTo>
                <a:lnTo>
                  <a:pt x="3538" y="952"/>
                </a:lnTo>
                <a:lnTo>
                  <a:pt x="3520" y="1009"/>
                </a:lnTo>
                <a:lnTo>
                  <a:pt x="3497" y="1061"/>
                </a:lnTo>
                <a:lnTo>
                  <a:pt x="3469" y="1111"/>
                </a:lnTo>
                <a:lnTo>
                  <a:pt x="3435" y="1156"/>
                </a:lnTo>
                <a:lnTo>
                  <a:pt x="3397" y="1198"/>
                </a:lnTo>
                <a:lnTo>
                  <a:pt x="3353" y="1236"/>
                </a:lnTo>
                <a:lnTo>
                  <a:pt x="3314" y="1263"/>
                </a:lnTo>
                <a:lnTo>
                  <a:pt x="3269" y="1287"/>
                </a:lnTo>
                <a:lnTo>
                  <a:pt x="3221" y="1307"/>
                </a:lnTo>
                <a:lnTo>
                  <a:pt x="3168" y="1323"/>
                </a:lnTo>
                <a:lnTo>
                  <a:pt x="3118" y="1335"/>
                </a:lnTo>
                <a:lnTo>
                  <a:pt x="3071" y="1341"/>
                </a:lnTo>
                <a:lnTo>
                  <a:pt x="3026" y="1344"/>
                </a:lnTo>
                <a:lnTo>
                  <a:pt x="2967" y="1340"/>
                </a:lnTo>
                <a:lnTo>
                  <a:pt x="2908" y="1330"/>
                </a:lnTo>
                <a:lnTo>
                  <a:pt x="2848" y="1313"/>
                </a:lnTo>
                <a:lnTo>
                  <a:pt x="2790" y="1289"/>
                </a:lnTo>
                <a:lnTo>
                  <a:pt x="2732" y="1257"/>
                </a:lnTo>
                <a:lnTo>
                  <a:pt x="2697" y="1287"/>
                </a:lnTo>
                <a:lnTo>
                  <a:pt x="2660" y="1312"/>
                </a:lnTo>
                <a:lnTo>
                  <a:pt x="2619" y="1332"/>
                </a:lnTo>
                <a:lnTo>
                  <a:pt x="2574" y="1347"/>
                </a:lnTo>
                <a:lnTo>
                  <a:pt x="2527" y="1358"/>
                </a:lnTo>
                <a:lnTo>
                  <a:pt x="2476" y="1365"/>
                </a:lnTo>
                <a:lnTo>
                  <a:pt x="2421" y="1368"/>
                </a:lnTo>
                <a:lnTo>
                  <a:pt x="2392" y="1365"/>
                </a:lnTo>
                <a:lnTo>
                  <a:pt x="2381" y="1397"/>
                </a:lnTo>
                <a:lnTo>
                  <a:pt x="2365" y="1429"/>
                </a:lnTo>
                <a:lnTo>
                  <a:pt x="2344" y="1461"/>
                </a:lnTo>
                <a:lnTo>
                  <a:pt x="2317" y="1494"/>
                </a:lnTo>
                <a:lnTo>
                  <a:pt x="2292" y="1519"/>
                </a:lnTo>
                <a:lnTo>
                  <a:pt x="2262" y="1539"/>
                </a:lnTo>
                <a:lnTo>
                  <a:pt x="2229" y="1555"/>
                </a:lnTo>
                <a:lnTo>
                  <a:pt x="2193" y="1566"/>
                </a:lnTo>
                <a:lnTo>
                  <a:pt x="2154" y="1573"/>
                </a:lnTo>
                <a:lnTo>
                  <a:pt x="2110" y="1575"/>
                </a:lnTo>
                <a:lnTo>
                  <a:pt x="2092" y="1578"/>
                </a:lnTo>
                <a:lnTo>
                  <a:pt x="2059" y="1575"/>
                </a:lnTo>
                <a:lnTo>
                  <a:pt x="2027" y="1566"/>
                </a:lnTo>
                <a:lnTo>
                  <a:pt x="1997" y="1553"/>
                </a:lnTo>
                <a:lnTo>
                  <a:pt x="1968" y="1532"/>
                </a:lnTo>
                <a:lnTo>
                  <a:pt x="1941" y="1506"/>
                </a:lnTo>
                <a:lnTo>
                  <a:pt x="1915" y="1475"/>
                </a:lnTo>
                <a:lnTo>
                  <a:pt x="1891" y="1438"/>
                </a:lnTo>
                <a:lnTo>
                  <a:pt x="1889" y="1438"/>
                </a:lnTo>
                <a:lnTo>
                  <a:pt x="1879" y="1457"/>
                </a:lnTo>
                <a:lnTo>
                  <a:pt x="1866" y="1480"/>
                </a:lnTo>
                <a:lnTo>
                  <a:pt x="1848" y="1504"/>
                </a:lnTo>
                <a:lnTo>
                  <a:pt x="1827" y="1530"/>
                </a:lnTo>
                <a:lnTo>
                  <a:pt x="1802" y="1558"/>
                </a:lnTo>
                <a:lnTo>
                  <a:pt x="1773" y="1585"/>
                </a:lnTo>
                <a:lnTo>
                  <a:pt x="1740" y="1607"/>
                </a:lnTo>
                <a:lnTo>
                  <a:pt x="1706" y="1624"/>
                </a:lnTo>
                <a:lnTo>
                  <a:pt x="1667" y="1637"/>
                </a:lnTo>
                <a:lnTo>
                  <a:pt x="1625" y="1644"/>
                </a:lnTo>
                <a:lnTo>
                  <a:pt x="1580" y="1647"/>
                </a:lnTo>
                <a:lnTo>
                  <a:pt x="1559" y="1647"/>
                </a:lnTo>
                <a:lnTo>
                  <a:pt x="1522" y="1644"/>
                </a:lnTo>
                <a:lnTo>
                  <a:pt x="1485" y="1632"/>
                </a:lnTo>
                <a:lnTo>
                  <a:pt x="1450" y="1615"/>
                </a:lnTo>
                <a:lnTo>
                  <a:pt x="1417" y="1591"/>
                </a:lnTo>
                <a:lnTo>
                  <a:pt x="1383" y="1561"/>
                </a:lnTo>
                <a:lnTo>
                  <a:pt x="1352" y="1522"/>
                </a:lnTo>
                <a:lnTo>
                  <a:pt x="1335" y="1493"/>
                </a:lnTo>
                <a:lnTo>
                  <a:pt x="1320" y="1464"/>
                </a:lnTo>
                <a:lnTo>
                  <a:pt x="1309" y="1437"/>
                </a:lnTo>
                <a:lnTo>
                  <a:pt x="1307" y="1438"/>
                </a:lnTo>
                <a:lnTo>
                  <a:pt x="1305" y="1438"/>
                </a:lnTo>
                <a:lnTo>
                  <a:pt x="1248" y="1435"/>
                </a:lnTo>
                <a:lnTo>
                  <a:pt x="1194" y="1427"/>
                </a:lnTo>
                <a:lnTo>
                  <a:pt x="1144" y="1413"/>
                </a:lnTo>
                <a:lnTo>
                  <a:pt x="1095" y="1393"/>
                </a:lnTo>
                <a:lnTo>
                  <a:pt x="1052" y="1368"/>
                </a:lnTo>
                <a:lnTo>
                  <a:pt x="1010" y="1337"/>
                </a:lnTo>
                <a:lnTo>
                  <a:pt x="972" y="1299"/>
                </a:lnTo>
                <a:lnTo>
                  <a:pt x="937" y="1257"/>
                </a:lnTo>
                <a:lnTo>
                  <a:pt x="883" y="1291"/>
                </a:lnTo>
                <a:lnTo>
                  <a:pt x="827" y="1318"/>
                </a:lnTo>
                <a:lnTo>
                  <a:pt x="772" y="1337"/>
                </a:lnTo>
                <a:lnTo>
                  <a:pt x="716" y="1348"/>
                </a:lnTo>
                <a:lnTo>
                  <a:pt x="660" y="1352"/>
                </a:lnTo>
                <a:lnTo>
                  <a:pt x="600" y="1351"/>
                </a:lnTo>
                <a:lnTo>
                  <a:pt x="545" y="1346"/>
                </a:lnTo>
                <a:lnTo>
                  <a:pt x="494" y="1338"/>
                </a:lnTo>
                <a:lnTo>
                  <a:pt x="446" y="1327"/>
                </a:lnTo>
                <a:lnTo>
                  <a:pt x="403" y="1312"/>
                </a:lnTo>
                <a:lnTo>
                  <a:pt x="363" y="1294"/>
                </a:lnTo>
                <a:lnTo>
                  <a:pt x="328" y="1273"/>
                </a:lnTo>
                <a:lnTo>
                  <a:pt x="296" y="1249"/>
                </a:lnTo>
                <a:lnTo>
                  <a:pt x="270" y="1230"/>
                </a:lnTo>
                <a:lnTo>
                  <a:pt x="242" y="1203"/>
                </a:lnTo>
                <a:lnTo>
                  <a:pt x="213" y="1170"/>
                </a:lnTo>
                <a:lnTo>
                  <a:pt x="181" y="1129"/>
                </a:lnTo>
                <a:lnTo>
                  <a:pt x="156" y="1081"/>
                </a:lnTo>
                <a:lnTo>
                  <a:pt x="132" y="1030"/>
                </a:lnTo>
                <a:lnTo>
                  <a:pt x="113" y="978"/>
                </a:lnTo>
                <a:lnTo>
                  <a:pt x="102" y="935"/>
                </a:lnTo>
                <a:lnTo>
                  <a:pt x="92" y="886"/>
                </a:lnTo>
                <a:lnTo>
                  <a:pt x="83" y="831"/>
                </a:lnTo>
                <a:lnTo>
                  <a:pt x="75" y="771"/>
                </a:lnTo>
                <a:lnTo>
                  <a:pt x="48" y="727"/>
                </a:lnTo>
                <a:lnTo>
                  <a:pt x="27" y="683"/>
                </a:lnTo>
                <a:lnTo>
                  <a:pt x="12" y="637"/>
                </a:lnTo>
                <a:lnTo>
                  <a:pt x="3" y="591"/>
                </a:lnTo>
                <a:lnTo>
                  <a:pt x="0" y="544"/>
                </a:lnTo>
                <a:lnTo>
                  <a:pt x="0" y="510"/>
                </a:lnTo>
                <a:lnTo>
                  <a:pt x="2" y="477"/>
                </a:lnTo>
                <a:lnTo>
                  <a:pt x="10" y="445"/>
                </a:lnTo>
                <a:lnTo>
                  <a:pt x="22" y="415"/>
                </a:lnTo>
                <a:lnTo>
                  <a:pt x="39" y="387"/>
                </a:lnTo>
                <a:lnTo>
                  <a:pt x="62" y="360"/>
                </a:lnTo>
                <a:lnTo>
                  <a:pt x="90" y="336"/>
                </a:lnTo>
                <a:lnTo>
                  <a:pt x="121" y="312"/>
                </a:lnTo>
                <a:lnTo>
                  <a:pt x="161" y="296"/>
                </a:lnTo>
                <a:lnTo>
                  <a:pt x="204" y="286"/>
                </a:lnTo>
                <a:lnTo>
                  <a:pt x="249" y="283"/>
                </a:lnTo>
                <a:lnTo>
                  <a:pt x="286" y="285"/>
                </a:lnTo>
                <a:lnTo>
                  <a:pt x="326" y="291"/>
                </a:lnTo>
                <a:lnTo>
                  <a:pt x="368" y="301"/>
                </a:lnTo>
                <a:lnTo>
                  <a:pt x="430" y="284"/>
                </a:lnTo>
                <a:lnTo>
                  <a:pt x="491" y="271"/>
                </a:lnTo>
                <a:lnTo>
                  <a:pt x="549" y="263"/>
                </a:lnTo>
                <a:lnTo>
                  <a:pt x="605" y="261"/>
                </a:lnTo>
                <a:lnTo>
                  <a:pt x="614" y="261"/>
                </a:lnTo>
                <a:lnTo>
                  <a:pt x="653" y="263"/>
                </a:lnTo>
                <a:lnTo>
                  <a:pt x="689" y="269"/>
                </a:lnTo>
                <a:lnTo>
                  <a:pt x="721" y="279"/>
                </a:lnTo>
                <a:lnTo>
                  <a:pt x="719" y="263"/>
                </a:lnTo>
                <a:lnTo>
                  <a:pt x="718" y="245"/>
                </a:lnTo>
                <a:lnTo>
                  <a:pt x="718" y="223"/>
                </a:lnTo>
                <a:lnTo>
                  <a:pt x="719" y="186"/>
                </a:lnTo>
                <a:lnTo>
                  <a:pt x="726" y="152"/>
                </a:lnTo>
                <a:lnTo>
                  <a:pt x="735" y="121"/>
                </a:lnTo>
                <a:lnTo>
                  <a:pt x="748" y="94"/>
                </a:lnTo>
                <a:lnTo>
                  <a:pt x="766" y="70"/>
                </a:lnTo>
                <a:lnTo>
                  <a:pt x="787" y="49"/>
                </a:lnTo>
                <a:lnTo>
                  <a:pt x="812" y="32"/>
                </a:lnTo>
                <a:lnTo>
                  <a:pt x="841" y="17"/>
                </a:lnTo>
                <a:lnTo>
                  <a:pt x="861" y="10"/>
                </a:lnTo>
                <a:lnTo>
                  <a:pt x="885" y="6"/>
                </a:lnTo>
                <a:lnTo>
                  <a:pt x="915" y="2"/>
                </a:lnTo>
                <a:lnTo>
                  <a:pt x="949" y="0"/>
                </a:lnTo>
                <a:lnTo>
                  <a:pt x="9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Freeform 14"/>
          <p:cNvSpPr/>
          <p:nvPr/>
        </p:nvSpPr>
        <p:spPr>
          <a:xfrm>
            <a:off x="6093000" y="2273400"/>
            <a:ext cx="422280" cy="357120"/>
          </a:xfrm>
          <a:custGeom>
            <a:avLst/>
            <a:gdLst/>
            <a:ahLst/>
            <a:rect l="l" t="t" r="r" b="b"/>
            <a:pathLst>
              <a:path w="1201" h="829">
                <a:moveTo>
                  <a:pt x="921" y="230"/>
                </a:moveTo>
                <a:lnTo>
                  <a:pt x="910" y="232"/>
                </a:lnTo>
                <a:lnTo>
                  <a:pt x="901" y="239"/>
                </a:lnTo>
                <a:lnTo>
                  <a:pt x="895" y="248"/>
                </a:lnTo>
                <a:lnTo>
                  <a:pt x="893" y="259"/>
                </a:lnTo>
                <a:lnTo>
                  <a:pt x="895" y="270"/>
                </a:lnTo>
                <a:lnTo>
                  <a:pt x="901" y="279"/>
                </a:lnTo>
                <a:lnTo>
                  <a:pt x="910" y="285"/>
                </a:lnTo>
                <a:lnTo>
                  <a:pt x="921" y="287"/>
                </a:lnTo>
                <a:lnTo>
                  <a:pt x="933" y="285"/>
                </a:lnTo>
                <a:lnTo>
                  <a:pt x="942" y="279"/>
                </a:lnTo>
                <a:lnTo>
                  <a:pt x="948" y="270"/>
                </a:lnTo>
                <a:lnTo>
                  <a:pt x="950" y="259"/>
                </a:lnTo>
                <a:lnTo>
                  <a:pt x="948" y="248"/>
                </a:lnTo>
                <a:lnTo>
                  <a:pt x="942" y="239"/>
                </a:lnTo>
                <a:lnTo>
                  <a:pt x="933" y="232"/>
                </a:lnTo>
                <a:lnTo>
                  <a:pt x="921" y="230"/>
                </a:lnTo>
                <a:close/>
                <a:moveTo>
                  <a:pt x="842" y="0"/>
                </a:moveTo>
                <a:lnTo>
                  <a:pt x="842" y="2"/>
                </a:lnTo>
                <a:lnTo>
                  <a:pt x="838" y="11"/>
                </a:lnTo>
                <a:lnTo>
                  <a:pt x="828" y="23"/>
                </a:lnTo>
                <a:lnTo>
                  <a:pt x="811" y="35"/>
                </a:lnTo>
                <a:lnTo>
                  <a:pt x="812" y="35"/>
                </a:lnTo>
                <a:lnTo>
                  <a:pt x="834" y="28"/>
                </a:lnTo>
                <a:lnTo>
                  <a:pt x="852" y="22"/>
                </a:lnTo>
                <a:lnTo>
                  <a:pt x="867" y="19"/>
                </a:lnTo>
                <a:lnTo>
                  <a:pt x="881" y="18"/>
                </a:lnTo>
                <a:lnTo>
                  <a:pt x="890" y="20"/>
                </a:lnTo>
                <a:lnTo>
                  <a:pt x="895" y="24"/>
                </a:lnTo>
                <a:lnTo>
                  <a:pt x="897" y="30"/>
                </a:lnTo>
                <a:lnTo>
                  <a:pt x="897" y="35"/>
                </a:lnTo>
                <a:lnTo>
                  <a:pt x="892" y="42"/>
                </a:lnTo>
                <a:lnTo>
                  <a:pt x="881" y="49"/>
                </a:lnTo>
                <a:lnTo>
                  <a:pt x="865" y="56"/>
                </a:lnTo>
                <a:lnTo>
                  <a:pt x="840" y="63"/>
                </a:lnTo>
                <a:lnTo>
                  <a:pt x="818" y="71"/>
                </a:lnTo>
                <a:lnTo>
                  <a:pt x="800" y="76"/>
                </a:lnTo>
                <a:lnTo>
                  <a:pt x="800" y="78"/>
                </a:lnTo>
                <a:lnTo>
                  <a:pt x="813" y="78"/>
                </a:lnTo>
                <a:lnTo>
                  <a:pt x="849" y="81"/>
                </a:lnTo>
                <a:lnTo>
                  <a:pt x="885" y="91"/>
                </a:lnTo>
                <a:lnTo>
                  <a:pt x="918" y="107"/>
                </a:lnTo>
                <a:lnTo>
                  <a:pt x="950" y="130"/>
                </a:lnTo>
                <a:lnTo>
                  <a:pt x="981" y="159"/>
                </a:lnTo>
                <a:lnTo>
                  <a:pt x="1011" y="195"/>
                </a:lnTo>
                <a:lnTo>
                  <a:pt x="1027" y="226"/>
                </a:lnTo>
                <a:lnTo>
                  <a:pt x="1040" y="254"/>
                </a:lnTo>
                <a:lnTo>
                  <a:pt x="1049" y="279"/>
                </a:lnTo>
                <a:lnTo>
                  <a:pt x="1053" y="302"/>
                </a:lnTo>
                <a:lnTo>
                  <a:pt x="1058" y="306"/>
                </a:lnTo>
                <a:lnTo>
                  <a:pt x="1066" y="309"/>
                </a:lnTo>
                <a:lnTo>
                  <a:pt x="1078" y="311"/>
                </a:lnTo>
                <a:lnTo>
                  <a:pt x="1094" y="312"/>
                </a:lnTo>
                <a:lnTo>
                  <a:pt x="1099" y="312"/>
                </a:lnTo>
                <a:lnTo>
                  <a:pt x="1131" y="309"/>
                </a:lnTo>
                <a:lnTo>
                  <a:pt x="1164" y="302"/>
                </a:lnTo>
                <a:lnTo>
                  <a:pt x="1195" y="289"/>
                </a:lnTo>
                <a:lnTo>
                  <a:pt x="1195" y="291"/>
                </a:lnTo>
                <a:lnTo>
                  <a:pt x="1185" y="311"/>
                </a:lnTo>
                <a:lnTo>
                  <a:pt x="1171" y="327"/>
                </a:lnTo>
                <a:lnTo>
                  <a:pt x="1151" y="341"/>
                </a:lnTo>
                <a:lnTo>
                  <a:pt x="1129" y="354"/>
                </a:lnTo>
                <a:lnTo>
                  <a:pt x="1107" y="362"/>
                </a:lnTo>
                <a:lnTo>
                  <a:pt x="1086" y="366"/>
                </a:lnTo>
                <a:lnTo>
                  <a:pt x="1070" y="368"/>
                </a:lnTo>
                <a:lnTo>
                  <a:pt x="1073" y="371"/>
                </a:lnTo>
                <a:lnTo>
                  <a:pt x="1083" y="374"/>
                </a:lnTo>
                <a:lnTo>
                  <a:pt x="1102" y="378"/>
                </a:lnTo>
                <a:lnTo>
                  <a:pt x="1126" y="382"/>
                </a:lnTo>
                <a:lnTo>
                  <a:pt x="1163" y="384"/>
                </a:lnTo>
                <a:lnTo>
                  <a:pt x="1172" y="384"/>
                </a:lnTo>
                <a:lnTo>
                  <a:pt x="1200" y="382"/>
                </a:lnTo>
                <a:lnTo>
                  <a:pt x="1201" y="383"/>
                </a:lnTo>
                <a:lnTo>
                  <a:pt x="1201" y="384"/>
                </a:lnTo>
                <a:lnTo>
                  <a:pt x="1179" y="404"/>
                </a:lnTo>
                <a:lnTo>
                  <a:pt x="1154" y="418"/>
                </a:lnTo>
                <a:lnTo>
                  <a:pt x="1125" y="428"/>
                </a:lnTo>
                <a:lnTo>
                  <a:pt x="1092" y="435"/>
                </a:lnTo>
                <a:lnTo>
                  <a:pt x="1058" y="437"/>
                </a:lnTo>
                <a:lnTo>
                  <a:pt x="1058" y="438"/>
                </a:lnTo>
                <a:lnTo>
                  <a:pt x="1046" y="478"/>
                </a:lnTo>
                <a:lnTo>
                  <a:pt x="1030" y="516"/>
                </a:lnTo>
                <a:lnTo>
                  <a:pt x="1011" y="552"/>
                </a:lnTo>
                <a:lnTo>
                  <a:pt x="988" y="588"/>
                </a:lnTo>
                <a:lnTo>
                  <a:pt x="959" y="622"/>
                </a:lnTo>
                <a:lnTo>
                  <a:pt x="934" y="651"/>
                </a:lnTo>
                <a:lnTo>
                  <a:pt x="910" y="673"/>
                </a:lnTo>
                <a:lnTo>
                  <a:pt x="889" y="691"/>
                </a:lnTo>
                <a:lnTo>
                  <a:pt x="855" y="715"/>
                </a:lnTo>
                <a:lnTo>
                  <a:pt x="820" y="739"/>
                </a:lnTo>
                <a:lnTo>
                  <a:pt x="783" y="758"/>
                </a:lnTo>
                <a:lnTo>
                  <a:pt x="724" y="783"/>
                </a:lnTo>
                <a:lnTo>
                  <a:pt x="666" y="804"/>
                </a:lnTo>
                <a:lnTo>
                  <a:pt x="608" y="818"/>
                </a:lnTo>
                <a:lnTo>
                  <a:pt x="551" y="826"/>
                </a:lnTo>
                <a:lnTo>
                  <a:pt x="493" y="829"/>
                </a:lnTo>
                <a:lnTo>
                  <a:pt x="465" y="829"/>
                </a:lnTo>
                <a:lnTo>
                  <a:pt x="409" y="826"/>
                </a:lnTo>
                <a:lnTo>
                  <a:pt x="354" y="818"/>
                </a:lnTo>
                <a:lnTo>
                  <a:pt x="299" y="804"/>
                </a:lnTo>
                <a:lnTo>
                  <a:pt x="245" y="784"/>
                </a:lnTo>
                <a:lnTo>
                  <a:pt x="192" y="759"/>
                </a:lnTo>
                <a:lnTo>
                  <a:pt x="139" y="728"/>
                </a:lnTo>
                <a:lnTo>
                  <a:pt x="125" y="718"/>
                </a:lnTo>
                <a:lnTo>
                  <a:pt x="108" y="705"/>
                </a:lnTo>
                <a:lnTo>
                  <a:pt x="87" y="688"/>
                </a:lnTo>
                <a:lnTo>
                  <a:pt x="65" y="666"/>
                </a:lnTo>
                <a:lnTo>
                  <a:pt x="40" y="641"/>
                </a:lnTo>
                <a:lnTo>
                  <a:pt x="25" y="624"/>
                </a:lnTo>
                <a:lnTo>
                  <a:pt x="14" y="610"/>
                </a:lnTo>
                <a:lnTo>
                  <a:pt x="6" y="600"/>
                </a:lnTo>
                <a:lnTo>
                  <a:pt x="1" y="593"/>
                </a:lnTo>
                <a:lnTo>
                  <a:pt x="0" y="590"/>
                </a:lnTo>
                <a:lnTo>
                  <a:pt x="31" y="615"/>
                </a:lnTo>
                <a:lnTo>
                  <a:pt x="66" y="637"/>
                </a:lnTo>
                <a:lnTo>
                  <a:pt x="102" y="653"/>
                </a:lnTo>
                <a:lnTo>
                  <a:pt x="139" y="665"/>
                </a:lnTo>
                <a:lnTo>
                  <a:pt x="178" y="671"/>
                </a:lnTo>
                <a:lnTo>
                  <a:pt x="219" y="674"/>
                </a:lnTo>
                <a:lnTo>
                  <a:pt x="258" y="671"/>
                </a:lnTo>
                <a:lnTo>
                  <a:pt x="295" y="665"/>
                </a:lnTo>
                <a:lnTo>
                  <a:pt x="332" y="653"/>
                </a:lnTo>
                <a:lnTo>
                  <a:pt x="366" y="637"/>
                </a:lnTo>
                <a:lnTo>
                  <a:pt x="400" y="615"/>
                </a:lnTo>
                <a:lnTo>
                  <a:pt x="433" y="589"/>
                </a:lnTo>
                <a:lnTo>
                  <a:pt x="436" y="585"/>
                </a:lnTo>
                <a:lnTo>
                  <a:pt x="439" y="582"/>
                </a:lnTo>
                <a:lnTo>
                  <a:pt x="442" y="580"/>
                </a:lnTo>
                <a:lnTo>
                  <a:pt x="444" y="580"/>
                </a:lnTo>
                <a:lnTo>
                  <a:pt x="444" y="579"/>
                </a:lnTo>
                <a:lnTo>
                  <a:pt x="436" y="580"/>
                </a:lnTo>
                <a:lnTo>
                  <a:pt x="424" y="580"/>
                </a:lnTo>
                <a:lnTo>
                  <a:pt x="408" y="578"/>
                </a:lnTo>
                <a:lnTo>
                  <a:pt x="392" y="572"/>
                </a:lnTo>
                <a:lnTo>
                  <a:pt x="379" y="563"/>
                </a:lnTo>
                <a:lnTo>
                  <a:pt x="365" y="550"/>
                </a:lnTo>
                <a:lnTo>
                  <a:pt x="360" y="539"/>
                </a:lnTo>
                <a:lnTo>
                  <a:pt x="358" y="528"/>
                </a:lnTo>
                <a:lnTo>
                  <a:pt x="360" y="513"/>
                </a:lnTo>
                <a:lnTo>
                  <a:pt x="368" y="501"/>
                </a:lnTo>
                <a:lnTo>
                  <a:pt x="382" y="489"/>
                </a:lnTo>
                <a:lnTo>
                  <a:pt x="401" y="478"/>
                </a:lnTo>
                <a:lnTo>
                  <a:pt x="401" y="477"/>
                </a:lnTo>
                <a:lnTo>
                  <a:pt x="384" y="477"/>
                </a:lnTo>
                <a:lnTo>
                  <a:pt x="356" y="475"/>
                </a:lnTo>
                <a:lnTo>
                  <a:pt x="332" y="469"/>
                </a:lnTo>
                <a:lnTo>
                  <a:pt x="310" y="458"/>
                </a:lnTo>
                <a:lnTo>
                  <a:pt x="290" y="443"/>
                </a:lnTo>
                <a:lnTo>
                  <a:pt x="273" y="425"/>
                </a:lnTo>
                <a:lnTo>
                  <a:pt x="259" y="402"/>
                </a:lnTo>
                <a:lnTo>
                  <a:pt x="278" y="386"/>
                </a:lnTo>
                <a:lnTo>
                  <a:pt x="298" y="376"/>
                </a:lnTo>
                <a:lnTo>
                  <a:pt x="319" y="372"/>
                </a:lnTo>
                <a:lnTo>
                  <a:pt x="336" y="370"/>
                </a:lnTo>
                <a:lnTo>
                  <a:pt x="336" y="369"/>
                </a:lnTo>
                <a:lnTo>
                  <a:pt x="302" y="359"/>
                </a:lnTo>
                <a:lnTo>
                  <a:pt x="274" y="345"/>
                </a:lnTo>
                <a:lnTo>
                  <a:pt x="250" y="329"/>
                </a:lnTo>
                <a:lnTo>
                  <a:pt x="232" y="311"/>
                </a:lnTo>
                <a:lnTo>
                  <a:pt x="219" y="288"/>
                </a:lnTo>
                <a:lnTo>
                  <a:pt x="211" y="268"/>
                </a:lnTo>
                <a:lnTo>
                  <a:pt x="207" y="251"/>
                </a:lnTo>
                <a:lnTo>
                  <a:pt x="243" y="243"/>
                </a:lnTo>
                <a:lnTo>
                  <a:pt x="277" y="241"/>
                </a:lnTo>
                <a:lnTo>
                  <a:pt x="277" y="240"/>
                </a:lnTo>
                <a:lnTo>
                  <a:pt x="264" y="232"/>
                </a:lnTo>
                <a:lnTo>
                  <a:pt x="247" y="221"/>
                </a:lnTo>
                <a:lnTo>
                  <a:pt x="229" y="205"/>
                </a:lnTo>
                <a:lnTo>
                  <a:pt x="209" y="184"/>
                </a:lnTo>
                <a:lnTo>
                  <a:pt x="195" y="163"/>
                </a:lnTo>
                <a:lnTo>
                  <a:pt x="185" y="143"/>
                </a:lnTo>
                <a:lnTo>
                  <a:pt x="180" y="123"/>
                </a:lnTo>
                <a:lnTo>
                  <a:pt x="178" y="105"/>
                </a:lnTo>
                <a:lnTo>
                  <a:pt x="178" y="91"/>
                </a:lnTo>
                <a:lnTo>
                  <a:pt x="203" y="99"/>
                </a:lnTo>
                <a:lnTo>
                  <a:pt x="231" y="109"/>
                </a:lnTo>
                <a:lnTo>
                  <a:pt x="264" y="122"/>
                </a:lnTo>
                <a:lnTo>
                  <a:pt x="301" y="138"/>
                </a:lnTo>
                <a:lnTo>
                  <a:pt x="343" y="155"/>
                </a:lnTo>
                <a:lnTo>
                  <a:pt x="383" y="173"/>
                </a:lnTo>
                <a:lnTo>
                  <a:pt x="418" y="191"/>
                </a:lnTo>
                <a:lnTo>
                  <a:pt x="450" y="206"/>
                </a:lnTo>
                <a:lnTo>
                  <a:pt x="476" y="220"/>
                </a:lnTo>
                <a:lnTo>
                  <a:pt x="498" y="232"/>
                </a:lnTo>
                <a:lnTo>
                  <a:pt x="515" y="244"/>
                </a:lnTo>
                <a:lnTo>
                  <a:pt x="547" y="270"/>
                </a:lnTo>
                <a:lnTo>
                  <a:pt x="577" y="298"/>
                </a:lnTo>
                <a:lnTo>
                  <a:pt x="578" y="298"/>
                </a:lnTo>
                <a:lnTo>
                  <a:pt x="598" y="247"/>
                </a:lnTo>
                <a:lnTo>
                  <a:pt x="619" y="199"/>
                </a:lnTo>
                <a:lnTo>
                  <a:pt x="640" y="155"/>
                </a:lnTo>
                <a:lnTo>
                  <a:pt x="664" y="115"/>
                </a:lnTo>
                <a:lnTo>
                  <a:pt x="676" y="96"/>
                </a:lnTo>
                <a:lnTo>
                  <a:pt x="691" y="77"/>
                </a:lnTo>
                <a:lnTo>
                  <a:pt x="712" y="54"/>
                </a:lnTo>
                <a:lnTo>
                  <a:pt x="735" y="31"/>
                </a:lnTo>
                <a:lnTo>
                  <a:pt x="766" y="8"/>
                </a:lnTo>
                <a:lnTo>
                  <a:pt x="766" y="9"/>
                </a:lnTo>
                <a:lnTo>
                  <a:pt x="766" y="10"/>
                </a:lnTo>
                <a:lnTo>
                  <a:pt x="763" y="23"/>
                </a:lnTo>
                <a:lnTo>
                  <a:pt x="756" y="34"/>
                </a:lnTo>
                <a:lnTo>
                  <a:pt x="756" y="35"/>
                </a:lnTo>
                <a:lnTo>
                  <a:pt x="757" y="35"/>
                </a:lnTo>
                <a:lnTo>
                  <a:pt x="782" y="20"/>
                </a:lnTo>
                <a:lnTo>
                  <a:pt x="804" y="8"/>
                </a:lnTo>
                <a:lnTo>
                  <a:pt x="824" y="2"/>
                </a:lnTo>
                <a:lnTo>
                  <a:pt x="84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Freeform 12"/>
          <p:cNvSpPr/>
          <p:nvPr/>
        </p:nvSpPr>
        <p:spPr>
          <a:xfrm>
            <a:off x="9761400" y="2825640"/>
            <a:ext cx="819360" cy="398520"/>
          </a:xfrm>
          <a:custGeom>
            <a:avLst/>
            <a:gdLst/>
            <a:ahLst/>
            <a:rect l="l" t="t" r="r" b="b"/>
            <a:pathLst>
              <a:path w="2070" h="829">
                <a:moveTo>
                  <a:pt x="1861" y="343"/>
                </a:moveTo>
                <a:lnTo>
                  <a:pt x="1872" y="345"/>
                </a:lnTo>
                <a:lnTo>
                  <a:pt x="1882" y="350"/>
                </a:lnTo>
                <a:lnTo>
                  <a:pt x="1888" y="360"/>
                </a:lnTo>
                <a:lnTo>
                  <a:pt x="1892" y="372"/>
                </a:lnTo>
                <a:lnTo>
                  <a:pt x="1894" y="387"/>
                </a:lnTo>
                <a:lnTo>
                  <a:pt x="1894" y="430"/>
                </a:lnTo>
                <a:lnTo>
                  <a:pt x="1891" y="432"/>
                </a:lnTo>
                <a:lnTo>
                  <a:pt x="1829" y="432"/>
                </a:lnTo>
                <a:lnTo>
                  <a:pt x="1827" y="430"/>
                </a:lnTo>
                <a:lnTo>
                  <a:pt x="1827" y="413"/>
                </a:lnTo>
                <a:lnTo>
                  <a:pt x="1827" y="389"/>
                </a:lnTo>
                <a:lnTo>
                  <a:pt x="1829" y="372"/>
                </a:lnTo>
                <a:lnTo>
                  <a:pt x="1832" y="360"/>
                </a:lnTo>
                <a:lnTo>
                  <a:pt x="1837" y="352"/>
                </a:lnTo>
                <a:lnTo>
                  <a:pt x="1848" y="345"/>
                </a:lnTo>
                <a:lnTo>
                  <a:pt x="1861" y="343"/>
                </a:lnTo>
                <a:close/>
                <a:moveTo>
                  <a:pt x="1588" y="342"/>
                </a:moveTo>
                <a:lnTo>
                  <a:pt x="1600" y="344"/>
                </a:lnTo>
                <a:lnTo>
                  <a:pt x="1609" y="351"/>
                </a:lnTo>
                <a:lnTo>
                  <a:pt x="1614" y="364"/>
                </a:lnTo>
                <a:lnTo>
                  <a:pt x="1617" y="380"/>
                </a:lnTo>
                <a:lnTo>
                  <a:pt x="1617" y="593"/>
                </a:lnTo>
                <a:lnTo>
                  <a:pt x="1616" y="607"/>
                </a:lnTo>
                <a:lnTo>
                  <a:pt x="1612" y="618"/>
                </a:lnTo>
                <a:lnTo>
                  <a:pt x="1605" y="624"/>
                </a:lnTo>
                <a:lnTo>
                  <a:pt x="1594" y="627"/>
                </a:lnTo>
                <a:lnTo>
                  <a:pt x="1588" y="627"/>
                </a:lnTo>
                <a:lnTo>
                  <a:pt x="1577" y="625"/>
                </a:lnTo>
                <a:lnTo>
                  <a:pt x="1566" y="619"/>
                </a:lnTo>
                <a:lnTo>
                  <a:pt x="1555" y="609"/>
                </a:lnTo>
                <a:lnTo>
                  <a:pt x="1555" y="360"/>
                </a:lnTo>
                <a:lnTo>
                  <a:pt x="1565" y="349"/>
                </a:lnTo>
                <a:lnTo>
                  <a:pt x="1576" y="344"/>
                </a:lnTo>
                <a:lnTo>
                  <a:pt x="1588" y="342"/>
                </a:lnTo>
                <a:close/>
                <a:moveTo>
                  <a:pt x="386" y="337"/>
                </a:moveTo>
                <a:lnTo>
                  <a:pt x="373" y="340"/>
                </a:lnTo>
                <a:lnTo>
                  <a:pt x="363" y="346"/>
                </a:lnTo>
                <a:lnTo>
                  <a:pt x="358" y="354"/>
                </a:lnTo>
                <a:lnTo>
                  <a:pt x="356" y="366"/>
                </a:lnTo>
                <a:lnTo>
                  <a:pt x="356" y="588"/>
                </a:lnTo>
                <a:lnTo>
                  <a:pt x="358" y="602"/>
                </a:lnTo>
                <a:lnTo>
                  <a:pt x="363" y="612"/>
                </a:lnTo>
                <a:lnTo>
                  <a:pt x="373" y="617"/>
                </a:lnTo>
                <a:lnTo>
                  <a:pt x="386" y="619"/>
                </a:lnTo>
                <a:lnTo>
                  <a:pt x="387" y="619"/>
                </a:lnTo>
                <a:lnTo>
                  <a:pt x="398" y="618"/>
                </a:lnTo>
                <a:lnTo>
                  <a:pt x="407" y="613"/>
                </a:lnTo>
                <a:lnTo>
                  <a:pt x="413" y="605"/>
                </a:lnTo>
                <a:lnTo>
                  <a:pt x="417" y="594"/>
                </a:lnTo>
                <a:lnTo>
                  <a:pt x="418" y="580"/>
                </a:lnTo>
                <a:lnTo>
                  <a:pt x="418" y="372"/>
                </a:lnTo>
                <a:lnTo>
                  <a:pt x="416" y="358"/>
                </a:lnTo>
                <a:lnTo>
                  <a:pt x="410" y="346"/>
                </a:lnTo>
                <a:lnTo>
                  <a:pt x="399" y="340"/>
                </a:lnTo>
                <a:lnTo>
                  <a:pt x="386" y="337"/>
                </a:lnTo>
                <a:close/>
                <a:moveTo>
                  <a:pt x="1193" y="283"/>
                </a:moveTo>
                <a:lnTo>
                  <a:pt x="1193" y="593"/>
                </a:lnTo>
                <a:lnTo>
                  <a:pt x="1193" y="617"/>
                </a:lnTo>
                <a:lnTo>
                  <a:pt x="1195" y="637"/>
                </a:lnTo>
                <a:lnTo>
                  <a:pt x="1197" y="653"/>
                </a:lnTo>
                <a:lnTo>
                  <a:pt x="1201" y="665"/>
                </a:lnTo>
                <a:lnTo>
                  <a:pt x="1207" y="672"/>
                </a:lnTo>
                <a:lnTo>
                  <a:pt x="1217" y="682"/>
                </a:lnTo>
                <a:lnTo>
                  <a:pt x="1229" y="688"/>
                </a:lnTo>
                <a:lnTo>
                  <a:pt x="1243" y="691"/>
                </a:lnTo>
                <a:lnTo>
                  <a:pt x="1245" y="691"/>
                </a:lnTo>
                <a:lnTo>
                  <a:pt x="1266" y="687"/>
                </a:lnTo>
                <a:lnTo>
                  <a:pt x="1287" y="678"/>
                </a:lnTo>
                <a:lnTo>
                  <a:pt x="1309" y="663"/>
                </a:lnTo>
                <a:lnTo>
                  <a:pt x="1332" y="642"/>
                </a:lnTo>
                <a:lnTo>
                  <a:pt x="1332" y="642"/>
                </a:lnTo>
                <a:lnTo>
                  <a:pt x="1332" y="685"/>
                </a:lnTo>
                <a:lnTo>
                  <a:pt x="1407" y="685"/>
                </a:lnTo>
                <a:lnTo>
                  <a:pt x="1407" y="283"/>
                </a:lnTo>
                <a:lnTo>
                  <a:pt x="1332" y="283"/>
                </a:lnTo>
                <a:lnTo>
                  <a:pt x="1332" y="588"/>
                </a:lnTo>
                <a:lnTo>
                  <a:pt x="1320" y="601"/>
                </a:lnTo>
                <a:lnTo>
                  <a:pt x="1308" y="611"/>
                </a:lnTo>
                <a:lnTo>
                  <a:pt x="1298" y="616"/>
                </a:lnTo>
                <a:lnTo>
                  <a:pt x="1289" y="618"/>
                </a:lnTo>
                <a:lnTo>
                  <a:pt x="1284" y="618"/>
                </a:lnTo>
                <a:lnTo>
                  <a:pt x="1277" y="616"/>
                </a:lnTo>
                <a:lnTo>
                  <a:pt x="1272" y="612"/>
                </a:lnTo>
                <a:lnTo>
                  <a:pt x="1269" y="603"/>
                </a:lnTo>
                <a:lnTo>
                  <a:pt x="1268" y="592"/>
                </a:lnTo>
                <a:lnTo>
                  <a:pt x="1268" y="283"/>
                </a:lnTo>
                <a:lnTo>
                  <a:pt x="1193" y="283"/>
                </a:lnTo>
                <a:close/>
                <a:moveTo>
                  <a:pt x="561" y="277"/>
                </a:moveTo>
                <a:lnTo>
                  <a:pt x="632" y="277"/>
                </a:lnTo>
                <a:lnTo>
                  <a:pt x="634" y="279"/>
                </a:lnTo>
                <a:lnTo>
                  <a:pt x="634" y="580"/>
                </a:lnTo>
                <a:lnTo>
                  <a:pt x="635" y="594"/>
                </a:lnTo>
                <a:lnTo>
                  <a:pt x="638" y="604"/>
                </a:lnTo>
                <a:lnTo>
                  <a:pt x="643" y="610"/>
                </a:lnTo>
                <a:lnTo>
                  <a:pt x="652" y="612"/>
                </a:lnTo>
                <a:lnTo>
                  <a:pt x="654" y="612"/>
                </a:lnTo>
                <a:lnTo>
                  <a:pt x="663" y="610"/>
                </a:lnTo>
                <a:lnTo>
                  <a:pt x="673" y="605"/>
                </a:lnTo>
                <a:lnTo>
                  <a:pt x="684" y="596"/>
                </a:lnTo>
                <a:lnTo>
                  <a:pt x="696" y="583"/>
                </a:lnTo>
                <a:lnTo>
                  <a:pt x="696" y="279"/>
                </a:lnTo>
                <a:lnTo>
                  <a:pt x="698" y="277"/>
                </a:lnTo>
                <a:lnTo>
                  <a:pt x="771" y="277"/>
                </a:lnTo>
                <a:lnTo>
                  <a:pt x="773" y="279"/>
                </a:lnTo>
                <a:lnTo>
                  <a:pt x="773" y="678"/>
                </a:lnTo>
                <a:lnTo>
                  <a:pt x="771" y="680"/>
                </a:lnTo>
                <a:lnTo>
                  <a:pt x="698" y="680"/>
                </a:lnTo>
                <a:lnTo>
                  <a:pt x="696" y="678"/>
                </a:lnTo>
                <a:lnTo>
                  <a:pt x="696" y="638"/>
                </a:lnTo>
                <a:lnTo>
                  <a:pt x="674" y="659"/>
                </a:lnTo>
                <a:lnTo>
                  <a:pt x="653" y="674"/>
                </a:lnTo>
                <a:lnTo>
                  <a:pt x="631" y="683"/>
                </a:lnTo>
                <a:lnTo>
                  <a:pt x="611" y="686"/>
                </a:lnTo>
                <a:lnTo>
                  <a:pt x="595" y="684"/>
                </a:lnTo>
                <a:lnTo>
                  <a:pt x="580" y="677"/>
                </a:lnTo>
                <a:lnTo>
                  <a:pt x="570" y="666"/>
                </a:lnTo>
                <a:lnTo>
                  <a:pt x="563" y="650"/>
                </a:lnTo>
                <a:lnTo>
                  <a:pt x="560" y="629"/>
                </a:lnTo>
                <a:lnTo>
                  <a:pt x="558" y="607"/>
                </a:lnTo>
                <a:lnTo>
                  <a:pt x="558" y="279"/>
                </a:lnTo>
                <a:lnTo>
                  <a:pt x="561" y="277"/>
                </a:lnTo>
                <a:close/>
                <a:moveTo>
                  <a:pt x="1859" y="274"/>
                </a:moveTo>
                <a:lnTo>
                  <a:pt x="1834" y="277"/>
                </a:lnTo>
                <a:lnTo>
                  <a:pt x="1810" y="285"/>
                </a:lnTo>
                <a:lnTo>
                  <a:pt x="1791" y="298"/>
                </a:lnTo>
                <a:lnTo>
                  <a:pt x="1774" y="317"/>
                </a:lnTo>
                <a:lnTo>
                  <a:pt x="1759" y="341"/>
                </a:lnTo>
                <a:lnTo>
                  <a:pt x="1753" y="365"/>
                </a:lnTo>
                <a:lnTo>
                  <a:pt x="1751" y="389"/>
                </a:lnTo>
                <a:lnTo>
                  <a:pt x="1751" y="576"/>
                </a:lnTo>
                <a:lnTo>
                  <a:pt x="1752" y="602"/>
                </a:lnTo>
                <a:lnTo>
                  <a:pt x="1757" y="625"/>
                </a:lnTo>
                <a:lnTo>
                  <a:pt x="1767" y="646"/>
                </a:lnTo>
                <a:lnTo>
                  <a:pt x="1779" y="662"/>
                </a:lnTo>
                <a:lnTo>
                  <a:pt x="1794" y="676"/>
                </a:lnTo>
                <a:lnTo>
                  <a:pt x="1813" y="687"/>
                </a:lnTo>
                <a:lnTo>
                  <a:pt x="1835" y="694"/>
                </a:lnTo>
                <a:lnTo>
                  <a:pt x="1859" y="696"/>
                </a:lnTo>
                <a:lnTo>
                  <a:pt x="1884" y="695"/>
                </a:lnTo>
                <a:lnTo>
                  <a:pt x="1905" y="688"/>
                </a:lnTo>
                <a:lnTo>
                  <a:pt x="1924" y="679"/>
                </a:lnTo>
                <a:lnTo>
                  <a:pt x="1940" y="667"/>
                </a:lnTo>
                <a:lnTo>
                  <a:pt x="1952" y="651"/>
                </a:lnTo>
                <a:lnTo>
                  <a:pt x="1962" y="630"/>
                </a:lnTo>
                <a:lnTo>
                  <a:pt x="1966" y="612"/>
                </a:lnTo>
                <a:lnTo>
                  <a:pt x="1969" y="589"/>
                </a:lnTo>
                <a:lnTo>
                  <a:pt x="1970" y="559"/>
                </a:lnTo>
                <a:lnTo>
                  <a:pt x="1970" y="542"/>
                </a:lnTo>
                <a:lnTo>
                  <a:pt x="1894" y="542"/>
                </a:lnTo>
                <a:lnTo>
                  <a:pt x="1894" y="573"/>
                </a:lnTo>
                <a:lnTo>
                  <a:pt x="1893" y="591"/>
                </a:lnTo>
                <a:lnTo>
                  <a:pt x="1891" y="604"/>
                </a:lnTo>
                <a:lnTo>
                  <a:pt x="1887" y="614"/>
                </a:lnTo>
                <a:lnTo>
                  <a:pt x="1882" y="620"/>
                </a:lnTo>
                <a:lnTo>
                  <a:pt x="1871" y="624"/>
                </a:lnTo>
                <a:lnTo>
                  <a:pt x="1862" y="626"/>
                </a:lnTo>
                <a:lnTo>
                  <a:pt x="1856" y="626"/>
                </a:lnTo>
                <a:lnTo>
                  <a:pt x="1845" y="623"/>
                </a:lnTo>
                <a:lnTo>
                  <a:pt x="1837" y="616"/>
                </a:lnTo>
                <a:lnTo>
                  <a:pt x="1831" y="604"/>
                </a:lnTo>
                <a:lnTo>
                  <a:pt x="1828" y="587"/>
                </a:lnTo>
                <a:lnTo>
                  <a:pt x="1827" y="564"/>
                </a:lnTo>
                <a:lnTo>
                  <a:pt x="1827" y="495"/>
                </a:lnTo>
                <a:lnTo>
                  <a:pt x="1829" y="493"/>
                </a:lnTo>
                <a:lnTo>
                  <a:pt x="1970" y="493"/>
                </a:lnTo>
                <a:lnTo>
                  <a:pt x="1970" y="400"/>
                </a:lnTo>
                <a:lnTo>
                  <a:pt x="1969" y="371"/>
                </a:lnTo>
                <a:lnTo>
                  <a:pt x="1964" y="345"/>
                </a:lnTo>
                <a:lnTo>
                  <a:pt x="1956" y="324"/>
                </a:lnTo>
                <a:lnTo>
                  <a:pt x="1945" y="306"/>
                </a:lnTo>
                <a:lnTo>
                  <a:pt x="1929" y="292"/>
                </a:lnTo>
                <a:lnTo>
                  <a:pt x="1912" y="282"/>
                </a:lnTo>
                <a:lnTo>
                  <a:pt x="1891" y="276"/>
                </a:lnTo>
                <a:lnTo>
                  <a:pt x="1866" y="274"/>
                </a:lnTo>
                <a:lnTo>
                  <a:pt x="1859" y="274"/>
                </a:lnTo>
                <a:close/>
                <a:moveTo>
                  <a:pt x="386" y="268"/>
                </a:moveTo>
                <a:lnTo>
                  <a:pt x="392" y="268"/>
                </a:lnTo>
                <a:lnTo>
                  <a:pt x="414" y="270"/>
                </a:lnTo>
                <a:lnTo>
                  <a:pt x="434" y="275"/>
                </a:lnTo>
                <a:lnTo>
                  <a:pt x="451" y="284"/>
                </a:lnTo>
                <a:lnTo>
                  <a:pt x="466" y="296"/>
                </a:lnTo>
                <a:lnTo>
                  <a:pt x="480" y="313"/>
                </a:lnTo>
                <a:lnTo>
                  <a:pt x="490" y="332"/>
                </a:lnTo>
                <a:lnTo>
                  <a:pt x="494" y="349"/>
                </a:lnTo>
                <a:lnTo>
                  <a:pt x="496" y="368"/>
                </a:lnTo>
                <a:lnTo>
                  <a:pt x="496" y="583"/>
                </a:lnTo>
                <a:lnTo>
                  <a:pt x="494" y="608"/>
                </a:lnTo>
                <a:lnTo>
                  <a:pt x="488" y="630"/>
                </a:lnTo>
                <a:lnTo>
                  <a:pt x="478" y="649"/>
                </a:lnTo>
                <a:lnTo>
                  <a:pt x="463" y="665"/>
                </a:lnTo>
                <a:lnTo>
                  <a:pt x="445" y="677"/>
                </a:lnTo>
                <a:lnTo>
                  <a:pt x="423" y="686"/>
                </a:lnTo>
                <a:lnTo>
                  <a:pt x="387" y="691"/>
                </a:lnTo>
                <a:lnTo>
                  <a:pt x="360" y="688"/>
                </a:lnTo>
                <a:lnTo>
                  <a:pt x="338" y="681"/>
                </a:lnTo>
                <a:lnTo>
                  <a:pt x="319" y="670"/>
                </a:lnTo>
                <a:lnTo>
                  <a:pt x="302" y="655"/>
                </a:lnTo>
                <a:lnTo>
                  <a:pt x="290" y="633"/>
                </a:lnTo>
                <a:lnTo>
                  <a:pt x="281" y="609"/>
                </a:lnTo>
                <a:lnTo>
                  <a:pt x="279" y="587"/>
                </a:lnTo>
                <a:lnTo>
                  <a:pt x="278" y="559"/>
                </a:lnTo>
                <a:lnTo>
                  <a:pt x="278" y="386"/>
                </a:lnTo>
                <a:lnTo>
                  <a:pt x="279" y="360"/>
                </a:lnTo>
                <a:lnTo>
                  <a:pt x="283" y="336"/>
                </a:lnTo>
                <a:lnTo>
                  <a:pt x="290" y="318"/>
                </a:lnTo>
                <a:lnTo>
                  <a:pt x="300" y="303"/>
                </a:lnTo>
                <a:lnTo>
                  <a:pt x="313" y="291"/>
                </a:lnTo>
                <a:lnTo>
                  <a:pt x="328" y="281"/>
                </a:lnTo>
                <a:lnTo>
                  <a:pt x="345" y="274"/>
                </a:lnTo>
                <a:lnTo>
                  <a:pt x="365" y="269"/>
                </a:lnTo>
                <a:lnTo>
                  <a:pt x="386" y="268"/>
                </a:lnTo>
                <a:close/>
                <a:moveTo>
                  <a:pt x="1480" y="141"/>
                </a:moveTo>
                <a:lnTo>
                  <a:pt x="1480" y="685"/>
                </a:lnTo>
                <a:lnTo>
                  <a:pt x="1555" y="685"/>
                </a:lnTo>
                <a:lnTo>
                  <a:pt x="1555" y="657"/>
                </a:lnTo>
                <a:lnTo>
                  <a:pt x="1556" y="657"/>
                </a:lnTo>
                <a:lnTo>
                  <a:pt x="1571" y="671"/>
                </a:lnTo>
                <a:lnTo>
                  <a:pt x="1587" y="681"/>
                </a:lnTo>
                <a:lnTo>
                  <a:pt x="1604" y="687"/>
                </a:lnTo>
                <a:lnTo>
                  <a:pt x="1621" y="689"/>
                </a:lnTo>
                <a:lnTo>
                  <a:pt x="1631" y="689"/>
                </a:lnTo>
                <a:lnTo>
                  <a:pt x="1647" y="687"/>
                </a:lnTo>
                <a:lnTo>
                  <a:pt x="1661" y="681"/>
                </a:lnTo>
                <a:lnTo>
                  <a:pt x="1673" y="672"/>
                </a:lnTo>
                <a:lnTo>
                  <a:pt x="1682" y="659"/>
                </a:lnTo>
                <a:lnTo>
                  <a:pt x="1689" y="642"/>
                </a:lnTo>
                <a:lnTo>
                  <a:pt x="1693" y="621"/>
                </a:lnTo>
                <a:lnTo>
                  <a:pt x="1694" y="603"/>
                </a:lnTo>
                <a:lnTo>
                  <a:pt x="1694" y="382"/>
                </a:lnTo>
                <a:lnTo>
                  <a:pt x="1692" y="354"/>
                </a:lnTo>
                <a:lnTo>
                  <a:pt x="1688" y="331"/>
                </a:lnTo>
                <a:lnTo>
                  <a:pt x="1681" y="313"/>
                </a:lnTo>
                <a:lnTo>
                  <a:pt x="1670" y="297"/>
                </a:lnTo>
                <a:lnTo>
                  <a:pt x="1657" y="287"/>
                </a:lnTo>
                <a:lnTo>
                  <a:pt x="1640" y="281"/>
                </a:lnTo>
                <a:lnTo>
                  <a:pt x="1621" y="278"/>
                </a:lnTo>
                <a:lnTo>
                  <a:pt x="1605" y="281"/>
                </a:lnTo>
                <a:lnTo>
                  <a:pt x="1588" y="287"/>
                </a:lnTo>
                <a:lnTo>
                  <a:pt x="1572" y="299"/>
                </a:lnTo>
                <a:lnTo>
                  <a:pt x="1556" y="316"/>
                </a:lnTo>
                <a:lnTo>
                  <a:pt x="1555" y="316"/>
                </a:lnTo>
                <a:lnTo>
                  <a:pt x="1555" y="141"/>
                </a:lnTo>
                <a:lnTo>
                  <a:pt x="1480" y="141"/>
                </a:lnTo>
                <a:close/>
                <a:moveTo>
                  <a:pt x="937" y="141"/>
                </a:moveTo>
                <a:lnTo>
                  <a:pt x="937" y="219"/>
                </a:lnTo>
                <a:lnTo>
                  <a:pt x="1021" y="219"/>
                </a:lnTo>
                <a:lnTo>
                  <a:pt x="1023" y="221"/>
                </a:lnTo>
                <a:lnTo>
                  <a:pt x="1023" y="685"/>
                </a:lnTo>
                <a:lnTo>
                  <a:pt x="1107" y="685"/>
                </a:lnTo>
                <a:lnTo>
                  <a:pt x="1107" y="221"/>
                </a:lnTo>
                <a:lnTo>
                  <a:pt x="1109" y="219"/>
                </a:lnTo>
                <a:lnTo>
                  <a:pt x="1194" y="219"/>
                </a:lnTo>
                <a:lnTo>
                  <a:pt x="1194" y="141"/>
                </a:lnTo>
                <a:lnTo>
                  <a:pt x="937" y="141"/>
                </a:lnTo>
                <a:close/>
                <a:moveTo>
                  <a:pt x="1" y="135"/>
                </a:moveTo>
                <a:lnTo>
                  <a:pt x="83" y="135"/>
                </a:lnTo>
                <a:lnTo>
                  <a:pt x="86" y="138"/>
                </a:lnTo>
                <a:lnTo>
                  <a:pt x="89" y="147"/>
                </a:lnTo>
                <a:lnTo>
                  <a:pt x="93" y="163"/>
                </a:lnTo>
                <a:lnTo>
                  <a:pt x="97" y="184"/>
                </a:lnTo>
                <a:lnTo>
                  <a:pt x="107" y="220"/>
                </a:lnTo>
                <a:lnTo>
                  <a:pt x="117" y="260"/>
                </a:lnTo>
                <a:lnTo>
                  <a:pt x="128" y="304"/>
                </a:lnTo>
                <a:lnTo>
                  <a:pt x="139" y="352"/>
                </a:lnTo>
                <a:lnTo>
                  <a:pt x="145" y="352"/>
                </a:lnTo>
                <a:lnTo>
                  <a:pt x="197" y="135"/>
                </a:lnTo>
                <a:lnTo>
                  <a:pt x="281" y="135"/>
                </a:lnTo>
                <a:lnTo>
                  <a:pt x="282" y="137"/>
                </a:lnTo>
                <a:lnTo>
                  <a:pt x="283" y="137"/>
                </a:lnTo>
                <a:lnTo>
                  <a:pt x="266" y="191"/>
                </a:lnTo>
                <a:lnTo>
                  <a:pt x="250" y="240"/>
                </a:lnTo>
                <a:lnTo>
                  <a:pt x="236" y="285"/>
                </a:lnTo>
                <a:lnTo>
                  <a:pt x="225" y="325"/>
                </a:lnTo>
                <a:lnTo>
                  <a:pt x="214" y="360"/>
                </a:lnTo>
                <a:lnTo>
                  <a:pt x="206" y="389"/>
                </a:lnTo>
                <a:lnTo>
                  <a:pt x="198" y="413"/>
                </a:lnTo>
                <a:lnTo>
                  <a:pt x="192" y="432"/>
                </a:lnTo>
                <a:lnTo>
                  <a:pt x="188" y="446"/>
                </a:lnTo>
                <a:lnTo>
                  <a:pt x="185" y="454"/>
                </a:lnTo>
                <a:lnTo>
                  <a:pt x="185" y="458"/>
                </a:lnTo>
                <a:lnTo>
                  <a:pt x="185" y="678"/>
                </a:lnTo>
                <a:lnTo>
                  <a:pt x="183" y="680"/>
                </a:lnTo>
                <a:lnTo>
                  <a:pt x="102" y="680"/>
                </a:lnTo>
                <a:lnTo>
                  <a:pt x="100" y="678"/>
                </a:lnTo>
                <a:lnTo>
                  <a:pt x="100" y="469"/>
                </a:lnTo>
                <a:lnTo>
                  <a:pt x="99" y="463"/>
                </a:lnTo>
                <a:lnTo>
                  <a:pt x="96" y="453"/>
                </a:lnTo>
                <a:lnTo>
                  <a:pt x="92" y="438"/>
                </a:lnTo>
                <a:lnTo>
                  <a:pt x="86" y="418"/>
                </a:lnTo>
                <a:lnTo>
                  <a:pt x="77" y="391"/>
                </a:lnTo>
                <a:lnTo>
                  <a:pt x="68" y="360"/>
                </a:lnTo>
                <a:lnTo>
                  <a:pt x="57" y="322"/>
                </a:lnTo>
                <a:lnTo>
                  <a:pt x="44" y="279"/>
                </a:lnTo>
                <a:lnTo>
                  <a:pt x="29" y="231"/>
                </a:lnTo>
                <a:lnTo>
                  <a:pt x="12" y="178"/>
                </a:lnTo>
                <a:lnTo>
                  <a:pt x="0" y="137"/>
                </a:lnTo>
                <a:lnTo>
                  <a:pt x="1" y="135"/>
                </a:lnTo>
                <a:close/>
                <a:moveTo>
                  <a:pt x="1395" y="0"/>
                </a:moveTo>
                <a:lnTo>
                  <a:pt x="1513" y="0"/>
                </a:lnTo>
                <a:lnTo>
                  <a:pt x="1624" y="1"/>
                </a:lnTo>
                <a:lnTo>
                  <a:pt x="1728" y="2"/>
                </a:lnTo>
                <a:lnTo>
                  <a:pt x="1825" y="5"/>
                </a:lnTo>
                <a:lnTo>
                  <a:pt x="1914" y="9"/>
                </a:lnTo>
                <a:lnTo>
                  <a:pt x="1946" y="18"/>
                </a:lnTo>
                <a:lnTo>
                  <a:pt x="1972" y="30"/>
                </a:lnTo>
                <a:lnTo>
                  <a:pt x="1995" y="44"/>
                </a:lnTo>
                <a:lnTo>
                  <a:pt x="2012" y="61"/>
                </a:lnTo>
                <a:lnTo>
                  <a:pt x="2028" y="79"/>
                </a:lnTo>
                <a:lnTo>
                  <a:pt x="2040" y="99"/>
                </a:lnTo>
                <a:lnTo>
                  <a:pt x="2051" y="122"/>
                </a:lnTo>
                <a:lnTo>
                  <a:pt x="2058" y="149"/>
                </a:lnTo>
                <a:lnTo>
                  <a:pt x="2063" y="178"/>
                </a:lnTo>
                <a:lnTo>
                  <a:pt x="2064" y="212"/>
                </a:lnTo>
                <a:lnTo>
                  <a:pt x="2067" y="249"/>
                </a:lnTo>
                <a:lnTo>
                  <a:pt x="2069" y="290"/>
                </a:lnTo>
                <a:lnTo>
                  <a:pt x="2070" y="336"/>
                </a:lnTo>
                <a:lnTo>
                  <a:pt x="2070" y="386"/>
                </a:lnTo>
                <a:lnTo>
                  <a:pt x="2070" y="443"/>
                </a:lnTo>
                <a:lnTo>
                  <a:pt x="2069" y="499"/>
                </a:lnTo>
                <a:lnTo>
                  <a:pt x="2068" y="548"/>
                </a:lnTo>
                <a:lnTo>
                  <a:pt x="2066" y="590"/>
                </a:lnTo>
                <a:lnTo>
                  <a:pt x="2064" y="625"/>
                </a:lnTo>
                <a:lnTo>
                  <a:pt x="2062" y="655"/>
                </a:lnTo>
                <a:lnTo>
                  <a:pt x="2060" y="676"/>
                </a:lnTo>
                <a:lnTo>
                  <a:pt x="2058" y="692"/>
                </a:lnTo>
                <a:lnTo>
                  <a:pt x="2055" y="700"/>
                </a:lnTo>
                <a:lnTo>
                  <a:pt x="2043" y="726"/>
                </a:lnTo>
                <a:lnTo>
                  <a:pt x="2028" y="750"/>
                </a:lnTo>
                <a:lnTo>
                  <a:pt x="2010" y="770"/>
                </a:lnTo>
                <a:lnTo>
                  <a:pt x="1987" y="788"/>
                </a:lnTo>
                <a:lnTo>
                  <a:pt x="1962" y="804"/>
                </a:lnTo>
                <a:lnTo>
                  <a:pt x="1947" y="811"/>
                </a:lnTo>
                <a:lnTo>
                  <a:pt x="1926" y="816"/>
                </a:lnTo>
                <a:lnTo>
                  <a:pt x="1903" y="820"/>
                </a:lnTo>
                <a:lnTo>
                  <a:pt x="1875" y="822"/>
                </a:lnTo>
                <a:lnTo>
                  <a:pt x="1844" y="823"/>
                </a:lnTo>
                <a:lnTo>
                  <a:pt x="1770" y="826"/>
                </a:lnTo>
                <a:lnTo>
                  <a:pt x="1689" y="828"/>
                </a:lnTo>
                <a:lnTo>
                  <a:pt x="1604" y="829"/>
                </a:lnTo>
                <a:lnTo>
                  <a:pt x="1513" y="829"/>
                </a:lnTo>
                <a:lnTo>
                  <a:pt x="1397" y="829"/>
                </a:lnTo>
                <a:lnTo>
                  <a:pt x="1286" y="829"/>
                </a:lnTo>
                <a:lnTo>
                  <a:pt x="1183" y="827"/>
                </a:lnTo>
                <a:lnTo>
                  <a:pt x="1085" y="824"/>
                </a:lnTo>
                <a:lnTo>
                  <a:pt x="995" y="819"/>
                </a:lnTo>
                <a:lnTo>
                  <a:pt x="964" y="811"/>
                </a:lnTo>
                <a:lnTo>
                  <a:pt x="933" y="795"/>
                </a:lnTo>
                <a:lnTo>
                  <a:pt x="902" y="772"/>
                </a:lnTo>
                <a:lnTo>
                  <a:pt x="885" y="754"/>
                </a:lnTo>
                <a:lnTo>
                  <a:pt x="871" y="733"/>
                </a:lnTo>
                <a:lnTo>
                  <a:pt x="859" y="710"/>
                </a:lnTo>
                <a:lnTo>
                  <a:pt x="852" y="682"/>
                </a:lnTo>
                <a:lnTo>
                  <a:pt x="847" y="653"/>
                </a:lnTo>
                <a:lnTo>
                  <a:pt x="845" y="619"/>
                </a:lnTo>
                <a:lnTo>
                  <a:pt x="842" y="564"/>
                </a:lnTo>
                <a:lnTo>
                  <a:pt x="840" y="503"/>
                </a:lnTo>
                <a:lnTo>
                  <a:pt x="839" y="435"/>
                </a:lnTo>
                <a:lnTo>
                  <a:pt x="839" y="394"/>
                </a:lnTo>
                <a:lnTo>
                  <a:pt x="840" y="310"/>
                </a:lnTo>
                <a:lnTo>
                  <a:pt x="844" y="228"/>
                </a:lnTo>
                <a:lnTo>
                  <a:pt x="850" y="149"/>
                </a:lnTo>
                <a:lnTo>
                  <a:pt x="852" y="140"/>
                </a:lnTo>
                <a:lnTo>
                  <a:pt x="857" y="126"/>
                </a:lnTo>
                <a:lnTo>
                  <a:pt x="864" y="110"/>
                </a:lnTo>
                <a:lnTo>
                  <a:pt x="874" y="91"/>
                </a:lnTo>
                <a:lnTo>
                  <a:pt x="888" y="71"/>
                </a:lnTo>
                <a:lnTo>
                  <a:pt x="904" y="54"/>
                </a:lnTo>
                <a:lnTo>
                  <a:pt x="925" y="39"/>
                </a:lnTo>
                <a:lnTo>
                  <a:pt x="947" y="26"/>
                </a:lnTo>
                <a:lnTo>
                  <a:pt x="973" y="15"/>
                </a:lnTo>
                <a:lnTo>
                  <a:pt x="981" y="12"/>
                </a:lnTo>
                <a:lnTo>
                  <a:pt x="995" y="10"/>
                </a:lnTo>
                <a:lnTo>
                  <a:pt x="1017" y="8"/>
                </a:lnTo>
                <a:lnTo>
                  <a:pt x="1047" y="7"/>
                </a:lnTo>
                <a:lnTo>
                  <a:pt x="1083" y="5"/>
                </a:lnTo>
                <a:lnTo>
                  <a:pt x="1127" y="4"/>
                </a:lnTo>
                <a:lnTo>
                  <a:pt x="1185" y="2"/>
                </a:lnTo>
                <a:lnTo>
                  <a:pt x="1249" y="1"/>
                </a:lnTo>
                <a:lnTo>
                  <a:pt x="1319" y="0"/>
                </a:lnTo>
                <a:lnTo>
                  <a:pt x="139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Freeform 13"/>
          <p:cNvSpPr/>
          <p:nvPr/>
        </p:nvSpPr>
        <p:spPr>
          <a:xfrm>
            <a:off x="8807400" y="2273400"/>
            <a:ext cx="290520" cy="357120"/>
          </a:xfrm>
          <a:custGeom>
            <a:avLst/>
            <a:gdLst/>
            <a:ahLst/>
            <a:rect l="l" t="t" r="r" b="b"/>
            <a:pathLst>
              <a:path w="825" h="830">
                <a:moveTo>
                  <a:pt x="127" y="320"/>
                </a:moveTo>
                <a:lnTo>
                  <a:pt x="127" y="695"/>
                </a:lnTo>
                <a:lnTo>
                  <a:pt x="250" y="695"/>
                </a:lnTo>
                <a:lnTo>
                  <a:pt x="250" y="320"/>
                </a:lnTo>
                <a:lnTo>
                  <a:pt x="127" y="320"/>
                </a:lnTo>
                <a:close/>
                <a:moveTo>
                  <a:pt x="552" y="312"/>
                </a:moveTo>
                <a:lnTo>
                  <a:pt x="527" y="314"/>
                </a:lnTo>
                <a:lnTo>
                  <a:pt x="503" y="321"/>
                </a:lnTo>
                <a:lnTo>
                  <a:pt x="481" y="333"/>
                </a:lnTo>
                <a:lnTo>
                  <a:pt x="461" y="351"/>
                </a:lnTo>
                <a:lnTo>
                  <a:pt x="444" y="372"/>
                </a:lnTo>
                <a:lnTo>
                  <a:pt x="442" y="372"/>
                </a:lnTo>
                <a:lnTo>
                  <a:pt x="442" y="320"/>
                </a:lnTo>
                <a:lnTo>
                  <a:pt x="319" y="320"/>
                </a:lnTo>
                <a:lnTo>
                  <a:pt x="319" y="695"/>
                </a:lnTo>
                <a:lnTo>
                  <a:pt x="442" y="695"/>
                </a:lnTo>
                <a:lnTo>
                  <a:pt x="442" y="501"/>
                </a:lnTo>
                <a:lnTo>
                  <a:pt x="443" y="477"/>
                </a:lnTo>
                <a:lnTo>
                  <a:pt x="446" y="457"/>
                </a:lnTo>
                <a:lnTo>
                  <a:pt x="452" y="443"/>
                </a:lnTo>
                <a:lnTo>
                  <a:pt x="459" y="435"/>
                </a:lnTo>
                <a:lnTo>
                  <a:pt x="474" y="421"/>
                </a:lnTo>
                <a:lnTo>
                  <a:pt x="490" y="413"/>
                </a:lnTo>
                <a:lnTo>
                  <a:pt x="506" y="410"/>
                </a:lnTo>
                <a:lnTo>
                  <a:pt x="515" y="410"/>
                </a:lnTo>
                <a:lnTo>
                  <a:pt x="531" y="412"/>
                </a:lnTo>
                <a:lnTo>
                  <a:pt x="544" y="418"/>
                </a:lnTo>
                <a:lnTo>
                  <a:pt x="555" y="427"/>
                </a:lnTo>
                <a:lnTo>
                  <a:pt x="564" y="441"/>
                </a:lnTo>
                <a:lnTo>
                  <a:pt x="571" y="460"/>
                </a:lnTo>
                <a:lnTo>
                  <a:pt x="573" y="478"/>
                </a:lnTo>
                <a:lnTo>
                  <a:pt x="575" y="493"/>
                </a:lnTo>
                <a:lnTo>
                  <a:pt x="575" y="695"/>
                </a:lnTo>
                <a:lnTo>
                  <a:pt x="699" y="695"/>
                </a:lnTo>
                <a:lnTo>
                  <a:pt x="699" y="489"/>
                </a:lnTo>
                <a:lnTo>
                  <a:pt x="697" y="452"/>
                </a:lnTo>
                <a:lnTo>
                  <a:pt x="692" y="420"/>
                </a:lnTo>
                <a:lnTo>
                  <a:pt x="682" y="391"/>
                </a:lnTo>
                <a:lnTo>
                  <a:pt x="669" y="368"/>
                </a:lnTo>
                <a:lnTo>
                  <a:pt x="653" y="348"/>
                </a:lnTo>
                <a:lnTo>
                  <a:pt x="633" y="331"/>
                </a:lnTo>
                <a:lnTo>
                  <a:pt x="608" y="320"/>
                </a:lnTo>
                <a:lnTo>
                  <a:pt x="580" y="314"/>
                </a:lnTo>
                <a:lnTo>
                  <a:pt x="552" y="312"/>
                </a:lnTo>
                <a:close/>
                <a:moveTo>
                  <a:pt x="187" y="140"/>
                </a:moveTo>
                <a:lnTo>
                  <a:pt x="168" y="142"/>
                </a:lnTo>
                <a:lnTo>
                  <a:pt x="153" y="147"/>
                </a:lnTo>
                <a:lnTo>
                  <a:pt x="140" y="156"/>
                </a:lnTo>
                <a:lnTo>
                  <a:pt x="129" y="169"/>
                </a:lnTo>
                <a:lnTo>
                  <a:pt x="120" y="187"/>
                </a:lnTo>
                <a:lnTo>
                  <a:pt x="118" y="202"/>
                </a:lnTo>
                <a:lnTo>
                  <a:pt x="118" y="204"/>
                </a:lnTo>
                <a:lnTo>
                  <a:pt x="120" y="221"/>
                </a:lnTo>
                <a:lnTo>
                  <a:pt x="127" y="236"/>
                </a:lnTo>
                <a:lnTo>
                  <a:pt x="136" y="249"/>
                </a:lnTo>
                <a:lnTo>
                  <a:pt x="149" y="258"/>
                </a:lnTo>
                <a:lnTo>
                  <a:pt x="165" y="266"/>
                </a:lnTo>
                <a:lnTo>
                  <a:pt x="181" y="268"/>
                </a:lnTo>
                <a:lnTo>
                  <a:pt x="194" y="268"/>
                </a:lnTo>
                <a:lnTo>
                  <a:pt x="211" y="266"/>
                </a:lnTo>
                <a:lnTo>
                  <a:pt x="226" y="260"/>
                </a:lnTo>
                <a:lnTo>
                  <a:pt x="239" y="251"/>
                </a:lnTo>
                <a:lnTo>
                  <a:pt x="249" y="237"/>
                </a:lnTo>
                <a:lnTo>
                  <a:pt x="257" y="218"/>
                </a:lnTo>
                <a:lnTo>
                  <a:pt x="258" y="204"/>
                </a:lnTo>
                <a:lnTo>
                  <a:pt x="256" y="187"/>
                </a:lnTo>
                <a:lnTo>
                  <a:pt x="250" y="172"/>
                </a:lnTo>
                <a:lnTo>
                  <a:pt x="241" y="159"/>
                </a:lnTo>
                <a:lnTo>
                  <a:pt x="226" y="150"/>
                </a:lnTo>
                <a:lnTo>
                  <a:pt x="209" y="142"/>
                </a:lnTo>
                <a:lnTo>
                  <a:pt x="187" y="140"/>
                </a:lnTo>
                <a:close/>
                <a:moveTo>
                  <a:pt x="57" y="0"/>
                </a:moveTo>
                <a:lnTo>
                  <a:pt x="768" y="0"/>
                </a:lnTo>
                <a:lnTo>
                  <a:pt x="785" y="3"/>
                </a:lnTo>
                <a:lnTo>
                  <a:pt x="800" y="11"/>
                </a:lnTo>
                <a:lnTo>
                  <a:pt x="812" y="25"/>
                </a:lnTo>
                <a:lnTo>
                  <a:pt x="822" y="44"/>
                </a:lnTo>
                <a:lnTo>
                  <a:pt x="825" y="63"/>
                </a:lnTo>
                <a:lnTo>
                  <a:pt x="825" y="767"/>
                </a:lnTo>
                <a:lnTo>
                  <a:pt x="823" y="783"/>
                </a:lnTo>
                <a:lnTo>
                  <a:pt x="818" y="798"/>
                </a:lnTo>
                <a:lnTo>
                  <a:pt x="811" y="809"/>
                </a:lnTo>
                <a:lnTo>
                  <a:pt x="800" y="819"/>
                </a:lnTo>
                <a:lnTo>
                  <a:pt x="785" y="826"/>
                </a:lnTo>
                <a:lnTo>
                  <a:pt x="776" y="829"/>
                </a:lnTo>
                <a:lnTo>
                  <a:pt x="768" y="830"/>
                </a:lnTo>
                <a:lnTo>
                  <a:pt x="57" y="830"/>
                </a:lnTo>
                <a:lnTo>
                  <a:pt x="40" y="827"/>
                </a:lnTo>
                <a:lnTo>
                  <a:pt x="25" y="819"/>
                </a:lnTo>
                <a:lnTo>
                  <a:pt x="11" y="805"/>
                </a:lnTo>
                <a:lnTo>
                  <a:pt x="1" y="785"/>
                </a:lnTo>
                <a:lnTo>
                  <a:pt x="0" y="772"/>
                </a:lnTo>
                <a:lnTo>
                  <a:pt x="0" y="57"/>
                </a:lnTo>
                <a:lnTo>
                  <a:pt x="1" y="43"/>
                </a:lnTo>
                <a:lnTo>
                  <a:pt x="7" y="30"/>
                </a:lnTo>
                <a:lnTo>
                  <a:pt x="17" y="19"/>
                </a:lnTo>
                <a:lnTo>
                  <a:pt x="30" y="8"/>
                </a:lnTo>
                <a:lnTo>
                  <a:pt x="46" y="1"/>
                </a:lnTo>
                <a:lnTo>
                  <a:pt x="5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Oval Callout 52"/>
          <p:cNvSpPr/>
          <p:nvPr/>
        </p:nvSpPr>
        <p:spPr>
          <a:xfrm flipH="1">
            <a:off x="7449480" y="1817640"/>
            <a:ext cx="711000" cy="5619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28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Freeform 11"/>
          <p:cNvSpPr/>
          <p:nvPr/>
        </p:nvSpPr>
        <p:spPr>
          <a:xfrm>
            <a:off x="7738920" y="1982880"/>
            <a:ext cx="133560" cy="282600"/>
          </a:xfrm>
          <a:custGeom>
            <a:avLst/>
            <a:gdLst/>
            <a:ahLst/>
            <a:rect l="l" t="t" r="r" b="b"/>
            <a:pathLst>
              <a:path w="443" h="954">
                <a:moveTo>
                  <a:pt x="295" y="0"/>
                </a:moveTo>
                <a:lnTo>
                  <a:pt x="441" y="1"/>
                </a:lnTo>
                <a:lnTo>
                  <a:pt x="441" y="164"/>
                </a:lnTo>
                <a:lnTo>
                  <a:pt x="403" y="164"/>
                </a:lnTo>
                <a:lnTo>
                  <a:pt x="386" y="164"/>
                </a:lnTo>
                <a:lnTo>
                  <a:pt x="370" y="164"/>
                </a:lnTo>
                <a:lnTo>
                  <a:pt x="334" y="164"/>
                </a:lnTo>
                <a:lnTo>
                  <a:pt x="327" y="165"/>
                </a:lnTo>
                <a:lnTo>
                  <a:pt x="319" y="167"/>
                </a:lnTo>
                <a:lnTo>
                  <a:pt x="311" y="170"/>
                </a:lnTo>
                <a:lnTo>
                  <a:pt x="304" y="176"/>
                </a:lnTo>
                <a:lnTo>
                  <a:pt x="298" y="185"/>
                </a:lnTo>
                <a:lnTo>
                  <a:pt x="294" y="196"/>
                </a:lnTo>
                <a:lnTo>
                  <a:pt x="293" y="210"/>
                </a:lnTo>
                <a:lnTo>
                  <a:pt x="293" y="309"/>
                </a:lnTo>
                <a:lnTo>
                  <a:pt x="443" y="309"/>
                </a:lnTo>
                <a:lnTo>
                  <a:pt x="426" y="478"/>
                </a:lnTo>
                <a:lnTo>
                  <a:pt x="293" y="478"/>
                </a:lnTo>
                <a:lnTo>
                  <a:pt x="293" y="618"/>
                </a:lnTo>
                <a:lnTo>
                  <a:pt x="293" y="665"/>
                </a:lnTo>
                <a:lnTo>
                  <a:pt x="293" y="711"/>
                </a:lnTo>
                <a:lnTo>
                  <a:pt x="293" y="897"/>
                </a:lnTo>
                <a:lnTo>
                  <a:pt x="293" y="921"/>
                </a:lnTo>
                <a:lnTo>
                  <a:pt x="293" y="939"/>
                </a:lnTo>
                <a:lnTo>
                  <a:pt x="293" y="954"/>
                </a:lnTo>
                <a:lnTo>
                  <a:pt x="94" y="954"/>
                </a:lnTo>
                <a:lnTo>
                  <a:pt x="94" y="922"/>
                </a:lnTo>
                <a:lnTo>
                  <a:pt x="94" y="897"/>
                </a:lnTo>
                <a:lnTo>
                  <a:pt x="94" y="869"/>
                </a:lnTo>
                <a:lnTo>
                  <a:pt x="94" y="478"/>
                </a:lnTo>
                <a:lnTo>
                  <a:pt x="0" y="478"/>
                </a:lnTo>
                <a:lnTo>
                  <a:pt x="0" y="309"/>
                </a:lnTo>
                <a:lnTo>
                  <a:pt x="94" y="309"/>
                </a:lnTo>
                <a:lnTo>
                  <a:pt x="94" y="200"/>
                </a:lnTo>
                <a:lnTo>
                  <a:pt x="95" y="183"/>
                </a:lnTo>
                <a:lnTo>
                  <a:pt x="97" y="164"/>
                </a:lnTo>
                <a:lnTo>
                  <a:pt x="100" y="146"/>
                </a:lnTo>
                <a:lnTo>
                  <a:pt x="105" y="127"/>
                </a:lnTo>
                <a:lnTo>
                  <a:pt x="112" y="107"/>
                </a:lnTo>
                <a:lnTo>
                  <a:pt x="121" y="89"/>
                </a:lnTo>
                <a:lnTo>
                  <a:pt x="134" y="71"/>
                </a:lnTo>
                <a:lnTo>
                  <a:pt x="147" y="54"/>
                </a:lnTo>
                <a:lnTo>
                  <a:pt x="164" y="39"/>
                </a:lnTo>
                <a:lnTo>
                  <a:pt x="184" y="27"/>
                </a:lnTo>
                <a:lnTo>
                  <a:pt x="206" y="16"/>
                </a:lnTo>
                <a:lnTo>
                  <a:pt x="231" y="7"/>
                </a:lnTo>
                <a:lnTo>
                  <a:pt x="261" y="2"/>
                </a:lnTo>
                <a:lnTo>
                  <a:pt x="29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AutoShape 33"/>
          <p:cNvSpPr/>
          <p:nvPr/>
        </p:nvSpPr>
        <p:spPr>
          <a:xfrm>
            <a:off x="1276200" y="2128680"/>
            <a:ext cx="3089520" cy="1492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矩形 26"/>
          <p:cNvSpPr/>
          <p:nvPr/>
        </p:nvSpPr>
        <p:spPr>
          <a:xfrm>
            <a:off x="1290600" y="3884760"/>
            <a:ext cx="30909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random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29" name="矩形 29"/>
          <p:cNvSpPr/>
          <p:nvPr/>
        </p:nvSpPr>
        <p:spPr>
          <a:xfrm>
            <a:off x="-9360" y="209520"/>
            <a:ext cx="142560" cy="49536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文本框 30"/>
          <p:cNvSpPr/>
          <p:nvPr/>
        </p:nvSpPr>
        <p:spPr>
          <a:xfrm>
            <a:off x="227160" y="227160"/>
            <a:ext cx="30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1" name="图片 3" descr=""/>
          <p:cNvPicPr/>
          <p:nvPr/>
        </p:nvPicPr>
        <p:blipFill>
          <a:blip r:embed="rId2"/>
          <a:stretch/>
        </p:blipFill>
        <p:spPr>
          <a:xfrm>
            <a:off x="6173640" y="1587600"/>
            <a:ext cx="2065320" cy="4381560"/>
          </a:xfrm>
          <a:prstGeom prst="rect">
            <a:avLst/>
          </a:prstGeom>
          <a:ln w="0">
            <a:noFill/>
          </a:ln>
        </p:spPr>
      </p:pic>
      <p:sp>
        <p:nvSpPr>
          <p:cNvPr id="632" name="Rectangle 29"/>
          <p:cNvSpPr/>
          <p:nvPr/>
        </p:nvSpPr>
        <p:spPr>
          <a:xfrm>
            <a:off x="8310600" y="3808440"/>
            <a:ext cx="2185920" cy="2160720"/>
          </a:xfrm>
          <a:prstGeom prst="rect">
            <a:avLst/>
          </a:prstGeom>
          <a:solidFill>
            <a:srgbClr val="9ad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Text Placeholder 32"/>
          <p:cNvSpPr/>
          <p:nvPr/>
        </p:nvSpPr>
        <p:spPr>
          <a:xfrm>
            <a:off x="8604360" y="4064040"/>
            <a:ext cx="163836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5000"/>
          </a:bodyPr>
          <a:p>
            <a:pPr marL="162720" indent="-162720">
              <a:lnSpc>
                <a:spcPct val="150000"/>
              </a:lnSpc>
              <a:spcBef>
                <a:spcPts val="751"/>
              </a:spcBef>
              <a:buClr>
                <a:srgbClr val="7f7f7f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Lato Light"/>
              </a:rPr>
              <a:t>Lemon drops oat cake oat cake sugar plum sweet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62720" indent="-162720">
              <a:lnSpc>
                <a:spcPct val="150000"/>
              </a:lnSpc>
              <a:spcBef>
                <a:spcPts val="751"/>
              </a:spcBef>
              <a:buClr>
                <a:srgbClr val="7f7f7f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Lato Light"/>
              </a:rPr>
              <a:t>Chocolate cake sweet pastry candy canes chocolate cake sesame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62720" indent="-162720">
              <a:lnSpc>
                <a:spcPct val="150000"/>
              </a:lnSpc>
              <a:spcBef>
                <a:spcPts val="751"/>
              </a:spcBef>
              <a:buClr>
                <a:srgbClr val="7f7f7f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Lato Light"/>
              </a:rPr>
              <a:t>Oreo cake lollipop swee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13"/>
          <p:cNvSpPr/>
          <p:nvPr/>
        </p:nvSpPr>
        <p:spPr>
          <a:xfrm>
            <a:off x="8310600" y="1581120"/>
            <a:ext cx="2185920" cy="2158920"/>
          </a:xfrm>
          <a:prstGeom prst="rect">
            <a:avLst/>
          </a:prstGeom>
          <a:solidFill>
            <a:srgbClr val="f28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Oval 15"/>
          <p:cNvSpPr/>
          <p:nvPr/>
        </p:nvSpPr>
        <p:spPr>
          <a:xfrm>
            <a:off x="838080" y="2819520"/>
            <a:ext cx="586080" cy="585720"/>
          </a:xfrm>
          <a:prstGeom prst="ellipse">
            <a:avLst/>
          </a:prstGeom>
          <a:solidFill>
            <a:srgbClr val="9ad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Oval 18"/>
          <p:cNvSpPr/>
          <p:nvPr/>
        </p:nvSpPr>
        <p:spPr>
          <a:xfrm>
            <a:off x="838080" y="3679920"/>
            <a:ext cx="586080" cy="585720"/>
          </a:xfrm>
          <a:prstGeom prst="ellipse">
            <a:avLst/>
          </a:prstGeom>
          <a:solidFill>
            <a:srgbClr val="b6d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Oval 21"/>
          <p:cNvSpPr/>
          <p:nvPr/>
        </p:nvSpPr>
        <p:spPr>
          <a:xfrm>
            <a:off x="838080" y="4540320"/>
            <a:ext cx="586080" cy="585720"/>
          </a:xfrm>
          <a:prstGeom prst="ellipse">
            <a:avLst/>
          </a:prstGeom>
          <a:solidFill>
            <a:srgbClr val="fadb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Oval 27"/>
          <p:cNvSpPr/>
          <p:nvPr/>
        </p:nvSpPr>
        <p:spPr>
          <a:xfrm>
            <a:off x="838080" y="5383080"/>
            <a:ext cx="586080" cy="586080"/>
          </a:xfrm>
          <a:prstGeom prst="ellipse">
            <a:avLst/>
          </a:prstGeom>
          <a:solidFill>
            <a:srgbClr val="f28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Freeform 247"/>
          <p:cNvSpPr/>
          <p:nvPr/>
        </p:nvSpPr>
        <p:spPr>
          <a:xfrm>
            <a:off x="9475920" y="2711520"/>
            <a:ext cx="333360" cy="344520"/>
          </a:xfrm>
          <a:custGeom>
            <a:avLst/>
            <a:gdLst/>
            <a:ahLst/>
            <a:rect l="l" t="t" r="r" b="b"/>
            <a:pathLst>
              <a:path w="119" h="121">
                <a:moveTo>
                  <a:pt x="0" y="40"/>
                </a:moveTo>
                <a:cubicBezTo>
                  <a:pt x="46" y="85"/>
                  <a:pt x="46" y="85"/>
                  <a:pt x="46" y="85"/>
                </a:cubicBezTo>
                <a:cubicBezTo>
                  <a:pt x="70" y="118"/>
                  <a:pt x="70" y="118"/>
                  <a:pt x="70" y="118"/>
                </a:cubicBezTo>
                <a:cubicBezTo>
                  <a:pt x="83" y="121"/>
                  <a:pt x="83" y="121"/>
                  <a:pt x="83" y="121"/>
                </a:cubicBezTo>
                <a:cubicBezTo>
                  <a:pt x="119" y="85"/>
                  <a:pt x="119" y="85"/>
                  <a:pt x="119" y="85"/>
                </a:cubicBezTo>
                <a:cubicBezTo>
                  <a:pt x="116" y="72"/>
                  <a:pt x="116" y="72"/>
                  <a:pt x="116" y="72"/>
                </a:cubicBezTo>
                <a:cubicBezTo>
                  <a:pt x="83" y="48"/>
                  <a:pt x="83" y="48"/>
                  <a:pt x="83" y="48"/>
                </a:cubicBezTo>
                <a:cubicBezTo>
                  <a:pt x="35" y="0"/>
                  <a:pt x="35" y="0"/>
                  <a:pt x="35" y="0"/>
                </a:cubicBezTo>
                <a:cubicBezTo>
                  <a:pt x="1" y="34"/>
                  <a:pt x="1" y="34"/>
                  <a:pt x="1" y="34"/>
                </a:cubicBezTo>
                <a:cubicBezTo>
                  <a:pt x="1" y="36"/>
                  <a:pt x="1" y="38"/>
                  <a:pt x="0" y="40"/>
                </a:cubicBezTo>
                <a:close/>
                <a:moveTo>
                  <a:pt x="80" y="67"/>
                </a:moveTo>
                <a:cubicBezTo>
                  <a:pt x="88" y="67"/>
                  <a:pt x="95" y="73"/>
                  <a:pt x="95" y="82"/>
                </a:cubicBezTo>
                <a:cubicBezTo>
                  <a:pt x="95" y="90"/>
                  <a:pt x="88" y="97"/>
                  <a:pt x="80" y="97"/>
                </a:cubicBezTo>
                <a:cubicBezTo>
                  <a:pt x="71" y="97"/>
                  <a:pt x="65" y="90"/>
                  <a:pt x="65" y="82"/>
                </a:cubicBezTo>
                <a:cubicBezTo>
                  <a:pt x="65" y="73"/>
                  <a:pt x="71" y="67"/>
                  <a:pt x="80" y="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Freeform 248"/>
          <p:cNvSpPr/>
          <p:nvPr/>
        </p:nvSpPr>
        <p:spPr>
          <a:xfrm>
            <a:off x="8991720" y="2236680"/>
            <a:ext cx="428400" cy="425520"/>
          </a:xfrm>
          <a:custGeom>
            <a:avLst/>
            <a:gdLst/>
            <a:ahLst/>
            <a:rect l="l" t="t" r="r" b="b"/>
            <a:pathLst>
              <a:path w="151" h="149">
                <a:moveTo>
                  <a:pt x="151" y="114"/>
                </a:moveTo>
                <a:cubicBezTo>
                  <a:pt x="124" y="87"/>
                  <a:pt x="124" y="87"/>
                  <a:pt x="124" y="87"/>
                </a:cubicBezTo>
                <a:cubicBezTo>
                  <a:pt x="128" y="80"/>
                  <a:pt x="130" y="74"/>
                  <a:pt x="130" y="67"/>
                </a:cubicBezTo>
                <a:cubicBezTo>
                  <a:pt x="130" y="33"/>
                  <a:pt x="97" y="0"/>
                  <a:pt x="62" y="0"/>
                </a:cubicBezTo>
                <a:cubicBezTo>
                  <a:pt x="62" y="0"/>
                  <a:pt x="58" y="4"/>
                  <a:pt x="56" y="6"/>
                </a:cubicBezTo>
                <a:cubicBezTo>
                  <a:pt x="84" y="34"/>
                  <a:pt x="82" y="29"/>
                  <a:pt x="82" y="46"/>
                </a:cubicBezTo>
                <a:cubicBezTo>
                  <a:pt x="82" y="60"/>
                  <a:pt x="60" y="81"/>
                  <a:pt x="46" y="81"/>
                </a:cubicBezTo>
                <a:cubicBezTo>
                  <a:pt x="29" y="81"/>
                  <a:pt x="34" y="84"/>
                  <a:pt x="6" y="56"/>
                </a:cubicBezTo>
                <a:cubicBezTo>
                  <a:pt x="4" y="58"/>
                  <a:pt x="0" y="62"/>
                  <a:pt x="0" y="62"/>
                </a:cubicBezTo>
                <a:cubicBezTo>
                  <a:pt x="1" y="97"/>
                  <a:pt x="33" y="130"/>
                  <a:pt x="67" y="130"/>
                </a:cubicBezTo>
                <a:cubicBezTo>
                  <a:pt x="74" y="130"/>
                  <a:pt x="80" y="128"/>
                  <a:pt x="87" y="124"/>
                </a:cubicBezTo>
                <a:cubicBezTo>
                  <a:pt x="111" y="149"/>
                  <a:pt x="111" y="149"/>
                  <a:pt x="111" y="149"/>
                </a:cubicBezTo>
                <a:cubicBezTo>
                  <a:pt x="113" y="148"/>
                  <a:pt x="115" y="148"/>
                  <a:pt x="117" y="148"/>
                </a:cubicBezTo>
                <a:lnTo>
                  <a:pt x="151" y="1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Freeform 249"/>
          <p:cNvSpPr/>
          <p:nvPr/>
        </p:nvSpPr>
        <p:spPr>
          <a:xfrm>
            <a:off x="9045720" y="2236680"/>
            <a:ext cx="809640" cy="819360"/>
          </a:xfrm>
          <a:custGeom>
            <a:avLst/>
            <a:gdLst/>
            <a:ahLst/>
            <a:rect l="l" t="t" r="r" b="b"/>
            <a:pathLst>
              <a:path w="285" h="289">
                <a:moveTo>
                  <a:pt x="240" y="172"/>
                </a:moveTo>
                <a:cubicBezTo>
                  <a:pt x="259" y="190"/>
                  <a:pt x="259" y="190"/>
                  <a:pt x="259" y="190"/>
                </a:cubicBezTo>
                <a:cubicBezTo>
                  <a:pt x="259" y="190"/>
                  <a:pt x="285" y="117"/>
                  <a:pt x="254" y="86"/>
                </a:cubicBezTo>
                <a:cubicBezTo>
                  <a:pt x="242" y="74"/>
                  <a:pt x="226" y="58"/>
                  <a:pt x="213" y="45"/>
                </a:cubicBezTo>
                <a:cubicBezTo>
                  <a:pt x="210" y="42"/>
                  <a:pt x="202" y="44"/>
                  <a:pt x="200" y="42"/>
                </a:cubicBezTo>
                <a:cubicBezTo>
                  <a:pt x="194" y="34"/>
                  <a:pt x="192" y="27"/>
                  <a:pt x="191" y="26"/>
                </a:cubicBezTo>
                <a:cubicBezTo>
                  <a:pt x="190" y="20"/>
                  <a:pt x="184" y="14"/>
                  <a:pt x="178" y="9"/>
                </a:cubicBezTo>
                <a:cubicBezTo>
                  <a:pt x="177" y="7"/>
                  <a:pt x="177" y="7"/>
                  <a:pt x="177" y="7"/>
                </a:cubicBezTo>
                <a:cubicBezTo>
                  <a:pt x="172" y="2"/>
                  <a:pt x="170" y="0"/>
                  <a:pt x="167" y="0"/>
                </a:cubicBezTo>
                <a:cubicBezTo>
                  <a:pt x="165" y="0"/>
                  <a:pt x="163" y="2"/>
                  <a:pt x="159" y="6"/>
                </a:cubicBezTo>
                <a:cubicBezTo>
                  <a:pt x="133" y="31"/>
                  <a:pt x="133" y="31"/>
                  <a:pt x="133" y="31"/>
                </a:cubicBezTo>
                <a:cubicBezTo>
                  <a:pt x="124" y="40"/>
                  <a:pt x="126" y="41"/>
                  <a:pt x="134" y="49"/>
                </a:cubicBezTo>
                <a:cubicBezTo>
                  <a:pt x="136" y="51"/>
                  <a:pt x="136" y="51"/>
                  <a:pt x="136" y="51"/>
                </a:cubicBezTo>
                <a:cubicBezTo>
                  <a:pt x="142" y="57"/>
                  <a:pt x="149" y="64"/>
                  <a:pt x="155" y="64"/>
                </a:cubicBezTo>
                <a:cubicBezTo>
                  <a:pt x="156" y="64"/>
                  <a:pt x="156" y="64"/>
                  <a:pt x="156" y="64"/>
                </a:cubicBezTo>
                <a:cubicBezTo>
                  <a:pt x="161" y="65"/>
                  <a:pt x="172" y="68"/>
                  <a:pt x="177" y="77"/>
                </a:cubicBezTo>
                <a:cubicBezTo>
                  <a:pt x="182" y="89"/>
                  <a:pt x="174" y="97"/>
                  <a:pt x="171" y="102"/>
                </a:cubicBezTo>
                <a:cubicBezTo>
                  <a:pt x="104" y="169"/>
                  <a:pt x="104" y="169"/>
                  <a:pt x="104" y="169"/>
                </a:cubicBezTo>
                <a:cubicBezTo>
                  <a:pt x="102" y="168"/>
                  <a:pt x="100" y="168"/>
                  <a:pt x="98" y="168"/>
                </a:cubicBezTo>
                <a:cubicBezTo>
                  <a:pt x="94" y="168"/>
                  <a:pt x="91" y="169"/>
                  <a:pt x="88" y="172"/>
                </a:cubicBezTo>
                <a:cubicBezTo>
                  <a:pt x="87" y="172"/>
                  <a:pt x="87" y="173"/>
                  <a:pt x="86" y="174"/>
                </a:cubicBezTo>
                <a:cubicBezTo>
                  <a:pt x="86" y="174"/>
                  <a:pt x="30" y="229"/>
                  <a:pt x="16" y="244"/>
                </a:cubicBezTo>
                <a:cubicBezTo>
                  <a:pt x="15" y="245"/>
                  <a:pt x="14" y="245"/>
                  <a:pt x="14" y="246"/>
                </a:cubicBezTo>
                <a:cubicBezTo>
                  <a:pt x="0" y="259"/>
                  <a:pt x="25" y="289"/>
                  <a:pt x="43" y="289"/>
                </a:cubicBezTo>
                <a:cubicBezTo>
                  <a:pt x="47" y="289"/>
                  <a:pt x="50" y="288"/>
                  <a:pt x="53" y="285"/>
                </a:cubicBezTo>
                <a:cubicBezTo>
                  <a:pt x="54" y="285"/>
                  <a:pt x="54" y="284"/>
                  <a:pt x="55" y="283"/>
                </a:cubicBezTo>
                <a:cubicBezTo>
                  <a:pt x="70" y="268"/>
                  <a:pt x="125" y="213"/>
                  <a:pt x="125" y="213"/>
                </a:cubicBezTo>
                <a:cubicBezTo>
                  <a:pt x="126" y="212"/>
                  <a:pt x="127" y="212"/>
                  <a:pt x="127" y="211"/>
                </a:cubicBezTo>
                <a:cubicBezTo>
                  <a:pt x="131" y="207"/>
                  <a:pt x="132" y="201"/>
                  <a:pt x="130" y="195"/>
                </a:cubicBezTo>
                <a:cubicBezTo>
                  <a:pt x="205" y="120"/>
                  <a:pt x="205" y="120"/>
                  <a:pt x="205" y="120"/>
                </a:cubicBezTo>
                <a:cubicBezTo>
                  <a:pt x="210" y="116"/>
                  <a:pt x="215" y="112"/>
                  <a:pt x="217" y="112"/>
                </a:cubicBezTo>
                <a:cubicBezTo>
                  <a:pt x="218" y="112"/>
                  <a:pt x="218" y="112"/>
                  <a:pt x="218" y="112"/>
                </a:cubicBezTo>
                <a:cubicBezTo>
                  <a:pt x="246" y="128"/>
                  <a:pt x="240" y="172"/>
                  <a:pt x="240" y="1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Freeform 115"/>
          <p:cNvSpPr/>
          <p:nvPr/>
        </p:nvSpPr>
        <p:spPr>
          <a:xfrm>
            <a:off x="1055520" y="4694400"/>
            <a:ext cx="150840" cy="276120"/>
          </a:xfrm>
          <a:custGeom>
            <a:avLst/>
            <a:gdLst/>
            <a:ahLst/>
            <a:rect l="l" t="t" r="r" b="b"/>
            <a:pathLst>
              <a:path w="159" h="287">
                <a:moveTo>
                  <a:pt x="159" y="80"/>
                </a:moveTo>
                <a:cubicBezTo>
                  <a:pt x="159" y="80"/>
                  <a:pt x="159" y="80"/>
                  <a:pt x="159" y="80"/>
                </a:cubicBezTo>
                <a:cubicBezTo>
                  <a:pt x="159" y="80"/>
                  <a:pt x="159" y="80"/>
                  <a:pt x="159" y="80"/>
                </a:cubicBezTo>
                <a:cubicBezTo>
                  <a:pt x="143" y="79"/>
                  <a:pt x="143" y="79"/>
                  <a:pt x="143" y="79"/>
                </a:cubicBezTo>
                <a:cubicBezTo>
                  <a:pt x="143" y="80"/>
                  <a:pt x="143" y="80"/>
                  <a:pt x="143" y="80"/>
                </a:cubicBezTo>
                <a:cubicBezTo>
                  <a:pt x="143" y="208"/>
                  <a:pt x="143" y="208"/>
                  <a:pt x="143" y="208"/>
                </a:cubicBezTo>
                <a:cubicBezTo>
                  <a:pt x="143" y="208"/>
                  <a:pt x="143" y="208"/>
                  <a:pt x="143" y="208"/>
                </a:cubicBezTo>
                <a:cubicBezTo>
                  <a:pt x="143" y="208"/>
                  <a:pt x="143" y="208"/>
                  <a:pt x="143" y="208"/>
                </a:cubicBezTo>
                <a:cubicBezTo>
                  <a:pt x="143" y="243"/>
                  <a:pt x="114" y="271"/>
                  <a:pt x="79" y="271"/>
                </a:cubicBezTo>
                <a:cubicBezTo>
                  <a:pt x="45" y="271"/>
                  <a:pt x="16" y="243"/>
                  <a:pt x="16" y="208"/>
                </a:cubicBezTo>
                <a:cubicBezTo>
                  <a:pt x="16" y="208"/>
                  <a:pt x="16" y="208"/>
                  <a:pt x="16" y="208"/>
                </a:cubicBezTo>
                <a:cubicBezTo>
                  <a:pt x="16" y="62"/>
                  <a:pt x="16" y="62"/>
                  <a:pt x="16" y="62"/>
                </a:cubicBezTo>
                <a:cubicBezTo>
                  <a:pt x="16" y="37"/>
                  <a:pt x="37" y="16"/>
                  <a:pt x="62" y="16"/>
                </a:cubicBezTo>
                <a:cubicBezTo>
                  <a:pt x="88" y="16"/>
                  <a:pt x="109" y="37"/>
                  <a:pt x="109" y="62"/>
                </a:cubicBezTo>
                <a:cubicBezTo>
                  <a:pt x="109" y="101"/>
                  <a:pt x="109" y="101"/>
                  <a:pt x="109" y="101"/>
                </a:cubicBezTo>
                <a:cubicBezTo>
                  <a:pt x="109" y="101"/>
                  <a:pt x="109" y="101"/>
                  <a:pt x="109" y="101"/>
                </a:cubicBezTo>
                <a:cubicBezTo>
                  <a:pt x="109" y="101"/>
                  <a:pt x="109" y="207"/>
                  <a:pt x="109" y="207"/>
                </a:cubicBezTo>
                <a:cubicBezTo>
                  <a:pt x="109" y="207"/>
                  <a:pt x="109" y="207"/>
                  <a:pt x="109" y="207"/>
                </a:cubicBezTo>
                <a:cubicBezTo>
                  <a:pt x="109" y="207"/>
                  <a:pt x="109" y="207"/>
                  <a:pt x="109" y="207"/>
                </a:cubicBezTo>
                <a:cubicBezTo>
                  <a:pt x="109" y="207"/>
                  <a:pt x="109" y="207"/>
                  <a:pt x="109" y="208"/>
                </a:cubicBezTo>
                <a:cubicBezTo>
                  <a:pt x="109" y="208"/>
                  <a:pt x="109" y="208"/>
                  <a:pt x="109" y="208"/>
                </a:cubicBezTo>
                <a:cubicBezTo>
                  <a:pt x="109" y="209"/>
                  <a:pt x="109" y="209"/>
                  <a:pt x="109" y="209"/>
                </a:cubicBezTo>
                <a:cubicBezTo>
                  <a:pt x="109" y="209"/>
                  <a:pt x="109" y="209"/>
                  <a:pt x="109" y="209"/>
                </a:cubicBezTo>
                <a:cubicBezTo>
                  <a:pt x="109" y="210"/>
                  <a:pt x="109" y="210"/>
                  <a:pt x="109" y="210"/>
                </a:cubicBezTo>
                <a:cubicBezTo>
                  <a:pt x="109" y="209"/>
                  <a:pt x="109" y="209"/>
                  <a:pt x="109" y="209"/>
                </a:cubicBezTo>
                <a:cubicBezTo>
                  <a:pt x="108" y="224"/>
                  <a:pt x="96" y="236"/>
                  <a:pt x="80" y="236"/>
                </a:cubicBezTo>
                <a:cubicBezTo>
                  <a:pt x="65" y="236"/>
                  <a:pt x="53" y="224"/>
                  <a:pt x="52" y="209"/>
                </a:cubicBezTo>
                <a:cubicBezTo>
                  <a:pt x="52" y="209"/>
                  <a:pt x="52" y="209"/>
                  <a:pt x="52" y="210"/>
                </a:cubicBezTo>
                <a:cubicBezTo>
                  <a:pt x="52" y="208"/>
                  <a:pt x="52" y="208"/>
                  <a:pt x="52" y="208"/>
                </a:cubicBezTo>
                <a:cubicBezTo>
                  <a:pt x="52" y="208"/>
                  <a:pt x="52" y="208"/>
                  <a:pt x="52" y="208"/>
                </a:cubicBezTo>
                <a:cubicBezTo>
                  <a:pt x="52" y="208"/>
                  <a:pt x="52" y="208"/>
                  <a:pt x="52" y="208"/>
                </a:cubicBezTo>
                <a:cubicBezTo>
                  <a:pt x="52" y="207"/>
                  <a:pt x="52" y="207"/>
                  <a:pt x="52" y="207"/>
                </a:cubicBezTo>
                <a:cubicBezTo>
                  <a:pt x="52" y="80"/>
                  <a:pt x="52" y="80"/>
                  <a:pt x="52" y="80"/>
                </a:cubicBezTo>
                <a:cubicBezTo>
                  <a:pt x="36" y="80"/>
                  <a:pt x="36" y="80"/>
                  <a:pt x="36" y="80"/>
                </a:cubicBezTo>
                <a:cubicBezTo>
                  <a:pt x="36" y="207"/>
                  <a:pt x="36" y="207"/>
                  <a:pt x="36" y="207"/>
                </a:cubicBezTo>
                <a:cubicBezTo>
                  <a:pt x="36" y="207"/>
                  <a:pt x="36" y="208"/>
                  <a:pt x="36" y="208"/>
                </a:cubicBezTo>
                <a:cubicBezTo>
                  <a:pt x="36" y="208"/>
                  <a:pt x="36" y="208"/>
                  <a:pt x="36" y="208"/>
                </a:cubicBezTo>
                <a:cubicBezTo>
                  <a:pt x="36" y="210"/>
                  <a:pt x="36" y="210"/>
                  <a:pt x="36" y="210"/>
                </a:cubicBezTo>
                <a:cubicBezTo>
                  <a:pt x="36" y="210"/>
                  <a:pt x="36" y="210"/>
                  <a:pt x="36" y="210"/>
                </a:cubicBezTo>
                <a:cubicBezTo>
                  <a:pt x="37" y="233"/>
                  <a:pt x="57" y="252"/>
                  <a:pt x="80" y="252"/>
                </a:cubicBezTo>
                <a:cubicBezTo>
                  <a:pt x="104" y="252"/>
                  <a:pt x="124" y="233"/>
                  <a:pt x="125" y="210"/>
                </a:cubicBezTo>
                <a:cubicBezTo>
                  <a:pt x="125" y="210"/>
                  <a:pt x="125" y="210"/>
                  <a:pt x="125" y="210"/>
                </a:cubicBezTo>
                <a:cubicBezTo>
                  <a:pt x="125" y="209"/>
                  <a:pt x="125" y="209"/>
                  <a:pt x="125" y="209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125" y="207"/>
                  <a:pt x="125" y="207"/>
                  <a:pt x="125" y="207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5" y="62"/>
                  <a:pt x="125" y="62"/>
                  <a:pt x="125" y="62"/>
                </a:cubicBezTo>
                <a:cubicBezTo>
                  <a:pt x="125" y="62"/>
                  <a:pt x="125" y="62"/>
                  <a:pt x="125" y="62"/>
                </a:cubicBezTo>
                <a:cubicBezTo>
                  <a:pt x="125" y="62"/>
                  <a:pt x="125" y="62"/>
                  <a:pt x="125" y="62"/>
                </a:cubicBezTo>
                <a:cubicBezTo>
                  <a:pt x="125" y="28"/>
                  <a:pt x="97" y="0"/>
                  <a:pt x="62" y="0"/>
                </a:cubicBezTo>
                <a:cubicBezTo>
                  <a:pt x="28" y="0"/>
                  <a:pt x="0" y="28"/>
                  <a:pt x="0" y="62"/>
                </a:cubicBezTo>
                <a:cubicBezTo>
                  <a:pt x="0" y="62"/>
                  <a:pt x="0" y="62"/>
                  <a:pt x="0" y="62"/>
                </a:cubicBezTo>
                <a:cubicBezTo>
                  <a:pt x="0" y="62"/>
                  <a:pt x="0" y="62"/>
                  <a:pt x="0" y="62"/>
                </a:cubicBezTo>
                <a:cubicBezTo>
                  <a:pt x="0" y="208"/>
                  <a:pt x="0" y="208"/>
                  <a:pt x="0" y="208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10"/>
                  <a:pt x="0" y="210"/>
                  <a:pt x="0" y="210"/>
                </a:cubicBezTo>
                <a:cubicBezTo>
                  <a:pt x="1" y="253"/>
                  <a:pt x="36" y="287"/>
                  <a:pt x="79" y="287"/>
                </a:cubicBezTo>
                <a:cubicBezTo>
                  <a:pt x="123" y="287"/>
                  <a:pt x="158" y="252"/>
                  <a:pt x="159" y="208"/>
                </a:cubicBezTo>
                <a:cubicBezTo>
                  <a:pt x="159" y="208"/>
                  <a:pt x="159" y="208"/>
                  <a:pt x="159" y="208"/>
                </a:cubicBezTo>
                <a:cubicBezTo>
                  <a:pt x="159" y="208"/>
                  <a:pt x="159" y="208"/>
                  <a:pt x="159" y="208"/>
                </a:cubicBezTo>
                <a:cubicBezTo>
                  <a:pt x="159" y="207"/>
                  <a:pt x="159" y="207"/>
                  <a:pt x="159" y="207"/>
                </a:cubicBezTo>
                <a:cubicBezTo>
                  <a:pt x="159" y="207"/>
                  <a:pt x="159" y="207"/>
                  <a:pt x="159" y="207"/>
                </a:cubicBezTo>
                <a:lnTo>
                  <a:pt x="159" y="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Freeform 304"/>
          <p:cNvSpPr/>
          <p:nvPr/>
        </p:nvSpPr>
        <p:spPr>
          <a:xfrm>
            <a:off x="1003320" y="3824280"/>
            <a:ext cx="285840" cy="287280"/>
          </a:xfrm>
          <a:custGeom>
            <a:avLst/>
            <a:gdLst/>
            <a:ahLst/>
            <a:rect l="l" t="t" r="r" b="b"/>
            <a:pathLst>
              <a:path w="297" h="297">
                <a:moveTo>
                  <a:pt x="293" y="232"/>
                </a:moveTo>
                <a:cubicBezTo>
                  <a:pt x="230" y="195"/>
                  <a:pt x="230" y="195"/>
                  <a:pt x="230" y="195"/>
                </a:cubicBezTo>
                <a:cubicBezTo>
                  <a:pt x="227" y="193"/>
                  <a:pt x="222" y="194"/>
                  <a:pt x="220" y="196"/>
                </a:cubicBezTo>
                <a:cubicBezTo>
                  <a:pt x="201" y="215"/>
                  <a:pt x="201" y="215"/>
                  <a:pt x="201" y="215"/>
                </a:cubicBezTo>
                <a:cubicBezTo>
                  <a:pt x="198" y="217"/>
                  <a:pt x="193" y="220"/>
                  <a:pt x="190" y="220"/>
                </a:cubicBezTo>
                <a:cubicBezTo>
                  <a:pt x="190" y="220"/>
                  <a:pt x="166" y="220"/>
                  <a:pt x="122" y="176"/>
                </a:cubicBezTo>
                <a:cubicBezTo>
                  <a:pt x="77" y="132"/>
                  <a:pt x="78" y="108"/>
                  <a:pt x="78" y="108"/>
                </a:cubicBezTo>
                <a:cubicBezTo>
                  <a:pt x="78" y="104"/>
                  <a:pt x="80" y="99"/>
                  <a:pt x="82" y="96"/>
                </a:cubicBezTo>
                <a:cubicBezTo>
                  <a:pt x="98" y="80"/>
                  <a:pt x="98" y="80"/>
                  <a:pt x="98" y="80"/>
                </a:cubicBezTo>
                <a:cubicBezTo>
                  <a:pt x="101" y="78"/>
                  <a:pt x="102" y="73"/>
                  <a:pt x="100" y="70"/>
                </a:cubicBezTo>
                <a:cubicBezTo>
                  <a:pt x="65" y="4"/>
                  <a:pt x="65" y="4"/>
                  <a:pt x="65" y="4"/>
                </a:cubicBezTo>
                <a:cubicBezTo>
                  <a:pt x="64" y="1"/>
                  <a:pt x="60" y="0"/>
                  <a:pt x="58" y="3"/>
                </a:cubicBezTo>
                <a:cubicBezTo>
                  <a:pt x="14" y="46"/>
                  <a:pt x="14" y="46"/>
                  <a:pt x="14" y="46"/>
                </a:cubicBezTo>
                <a:cubicBezTo>
                  <a:pt x="12" y="48"/>
                  <a:pt x="9" y="53"/>
                  <a:pt x="9" y="57"/>
                </a:cubicBezTo>
                <a:cubicBezTo>
                  <a:pt x="9" y="57"/>
                  <a:pt x="0" y="120"/>
                  <a:pt x="89" y="209"/>
                </a:cubicBezTo>
                <a:cubicBezTo>
                  <a:pt x="177" y="297"/>
                  <a:pt x="240" y="288"/>
                  <a:pt x="240" y="288"/>
                </a:cubicBezTo>
                <a:cubicBezTo>
                  <a:pt x="244" y="288"/>
                  <a:pt x="249" y="285"/>
                  <a:pt x="252" y="283"/>
                </a:cubicBezTo>
                <a:cubicBezTo>
                  <a:pt x="295" y="240"/>
                  <a:pt x="295" y="240"/>
                  <a:pt x="295" y="240"/>
                </a:cubicBezTo>
                <a:cubicBezTo>
                  <a:pt x="297" y="237"/>
                  <a:pt x="297" y="233"/>
                  <a:pt x="293" y="2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Freeform 389"/>
          <p:cNvSpPr/>
          <p:nvPr/>
        </p:nvSpPr>
        <p:spPr>
          <a:xfrm>
            <a:off x="993600" y="5559480"/>
            <a:ext cx="276480" cy="241200"/>
          </a:xfrm>
          <a:custGeom>
            <a:avLst/>
            <a:gdLst/>
            <a:ahLst/>
            <a:rect l="l" t="t" r="r" b="b"/>
            <a:pathLst>
              <a:path w="128" h="112">
                <a:moveTo>
                  <a:pt x="103" y="61"/>
                </a:moveTo>
                <a:lnTo>
                  <a:pt x="128" y="61"/>
                </a:lnTo>
                <a:lnTo>
                  <a:pt x="103" y="37"/>
                </a:lnTo>
                <a:lnTo>
                  <a:pt x="103" y="0"/>
                </a:lnTo>
                <a:lnTo>
                  <a:pt x="84" y="0"/>
                </a:lnTo>
                <a:lnTo>
                  <a:pt x="84" y="19"/>
                </a:lnTo>
                <a:lnTo>
                  <a:pt x="64" y="0"/>
                </a:lnTo>
                <a:lnTo>
                  <a:pt x="0" y="61"/>
                </a:lnTo>
                <a:lnTo>
                  <a:pt x="23" y="61"/>
                </a:lnTo>
                <a:lnTo>
                  <a:pt x="23" y="112"/>
                </a:lnTo>
                <a:lnTo>
                  <a:pt x="52" y="112"/>
                </a:lnTo>
                <a:lnTo>
                  <a:pt x="52" y="76"/>
                </a:lnTo>
                <a:lnTo>
                  <a:pt x="76" y="76"/>
                </a:lnTo>
                <a:lnTo>
                  <a:pt x="76" y="112"/>
                </a:lnTo>
                <a:lnTo>
                  <a:pt x="103" y="112"/>
                </a:lnTo>
                <a:lnTo>
                  <a:pt x="103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Freeform 451"/>
          <p:cNvSpPr/>
          <p:nvPr/>
        </p:nvSpPr>
        <p:spPr>
          <a:xfrm>
            <a:off x="1003320" y="2975040"/>
            <a:ext cx="276120" cy="276120"/>
          </a:xfrm>
          <a:custGeom>
            <a:avLst/>
            <a:gdLst/>
            <a:ahLst/>
            <a:rect l="l" t="t" r="r" b="b"/>
            <a:pathLst>
              <a:path w="287" h="288">
                <a:moveTo>
                  <a:pt x="283" y="234"/>
                </a:moveTo>
                <a:cubicBezTo>
                  <a:pt x="247" y="208"/>
                  <a:pt x="247" y="208"/>
                  <a:pt x="247" y="208"/>
                </a:cubicBezTo>
                <a:cubicBezTo>
                  <a:pt x="136" y="96"/>
                  <a:pt x="136" y="96"/>
                  <a:pt x="136" y="96"/>
                </a:cubicBezTo>
                <a:cubicBezTo>
                  <a:pt x="140" y="89"/>
                  <a:pt x="142" y="81"/>
                  <a:pt x="142" y="74"/>
                </a:cubicBezTo>
                <a:cubicBezTo>
                  <a:pt x="142" y="37"/>
                  <a:pt x="106" y="0"/>
                  <a:pt x="68" y="0"/>
                </a:cubicBezTo>
                <a:cubicBezTo>
                  <a:pt x="68" y="0"/>
                  <a:pt x="64" y="5"/>
                  <a:pt x="61" y="7"/>
                </a:cubicBezTo>
                <a:cubicBezTo>
                  <a:pt x="92" y="37"/>
                  <a:pt x="89" y="32"/>
                  <a:pt x="89" y="51"/>
                </a:cubicBezTo>
                <a:cubicBezTo>
                  <a:pt x="89" y="66"/>
                  <a:pt x="65" y="90"/>
                  <a:pt x="50" y="90"/>
                </a:cubicBezTo>
                <a:cubicBezTo>
                  <a:pt x="31" y="90"/>
                  <a:pt x="37" y="93"/>
                  <a:pt x="6" y="62"/>
                </a:cubicBezTo>
                <a:cubicBezTo>
                  <a:pt x="4" y="65"/>
                  <a:pt x="0" y="69"/>
                  <a:pt x="0" y="69"/>
                </a:cubicBezTo>
                <a:cubicBezTo>
                  <a:pt x="0" y="107"/>
                  <a:pt x="36" y="143"/>
                  <a:pt x="74" y="143"/>
                </a:cubicBezTo>
                <a:cubicBezTo>
                  <a:pt x="80" y="143"/>
                  <a:pt x="88" y="141"/>
                  <a:pt x="95" y="137"/>
                </a:cubicBezTo>
                <a:cubicBezTo>
                  <a:pt x="207" y="249"/>
                  <a:pt x="207" y="249"/>
                  <a:pt x="207" y="249"/>
                </a:cubicBezTo>
                <a:cubicBezTo>
                  <a:pt x="233" y="284"/>
                  <a:pt x="233" y="284"/>
                  <a:pt x="233" y="284"/>
                </a:cubicBezTo>
                <a:cubicBezTo>
                  <a:pt x="247" y="288"/>
                  <a:pt x="247" y="288"/>
                  <a:pt x="247" y="288"/>
                </a:cubicBezTo>
                <a:cubicBezTo>
                  <a:pt x="287" y="249"/>
                  <a:pt x="287" y="249"/>
                  <a:pt x="287" y="249"/>
                </a:cubicBezTo>
                <a:lnTo>
                  <a:pt x="283" y="234"/>
                </a:lnTo>
                <a:close/>
                <a:moveTo>
                  <a:pt x="244" y="261"/>
                </a:moveTo>
                <a:cubicBezTo>
                  <a:pt x="234" y="261"/>
                  <a:pt x="227" y="254"/>
                  <a:pt x="227" y="244"/>
                </a:cubicBezTo>
                <a:cubicBezTo>
                  <a:pt x="227" y="235"/>
                  <a:pt x="234" y="228"/>
                  <a:pt x="244" y="228"/>
                </a:cubicBezTo>
                <a:cubicBezTo>
                  <a:pt x="253" y="228"/>
                  <a:pt x="260" y="235"/>
                  <a:pt x="260" y="244"/>
                </a:cubicBezTo>
                <a:cubicBezTo>
                  <a:pt x="260" y="254"/>
                  <a:pt x="253" y="261"/>
                  <a:pt x="244" y="26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TextBox 13"/>
          <p:cNvSpPr/>
          <p:nvPr/>
        </p:nvSpPr>
        <p:spPr>
          <a:xfrm>
            <a:off x="1589040" y="28814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TextBox 13"/>
          <p:cNvSpPr/>
          <p:nvPr/>
        </p:nvSpPr>
        <p:spPr>
          <a:xfrm>
            <a:off x="1592280" y="3166920"/>
            <a:ext cx="3938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TextBox 13"/>
          <p:cNvSpPr/>
          <p:nvPr/>
        </p:nvSpPr>
        <p:spPr>
          <a:xfrm>
            <a:off x="1589040" y="36910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TextBox 13"/>
          <p:cNvSpPr/>
          <p:nvPr/>
        </p:nvSpPr>
        <p:spPr>
          <a:xfrm>
            <a:off x="1592280" y="3978360"/>
            <a:ext cx="3938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TextBox 13"/>
          <p:cNvSpPr/>
          <p:nvPr/>
        </p:nvSpPr>
        <p:spPr>
          <a:xfrm>
            <a:off x="1589040" y="4599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TextBox 13"/>
          <p:cNvSpPr/>
          <p:nvPr/>
        </p:nvSpPr>
        <p:spPr>
          <a:xfrm>
            <a:off x="1592280" y="4884840"/>
            <a:ext cx="3938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TextBox 13"/>
          <p:cNvSpPr/>
          <p:nvPr/>
        </p:nvSpPr>
        <p:spPr>
          <a:xfrm>
            <a:off x="1589040" y="54291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TextBox 13"/>
          <p:cNvSpPr/>
          <p:nvPr/>
        </p:nvSpPr>
        <p:spPr>
          <a:xfrm>
            <a:off x="1592280" y="5715000"/>
            <a:ext cx="3938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random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55" name="矩形 29"/>
          <p:cNvSpPr/>
          <p:nvPr/>
        </p:nvSpPr>
        <p:spPr>
          <a:xfrm>
            <a:off x="-9360" y="209520"/>
            <a:ext cx="142560" cy="49536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文本框 30"/>
          <p:cNvSpPr/>
          <p:nvPr/>
        </p:nvSpPr>
        <p:spPr>
          <a:xfrm>
            <a:off x="227160" y="227160"/>
            <a:ext cx="30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Teardrop 12"/>
          <p:cNvSpPr/>
          <p:nvPr/>
        </p:nvSpPr>
        <p:spPr>
          <a:xfrm rot="16200000">
            <a:off x="6010200" y="3806280"/>
            <a:ext cx="1609560" cy="1644480"/>
          </a:xfrm>
          <a:custGeom>
            <a:avLst/>
            <a:gdLst/>
            <a:ahLst/>
            <a:rect l="l" t="t" r="r" b="b"/>
            <a:pathLst>
              <a:path w="1609725" h="1644650">
                <a:moveTo>
                  <a:pt x="0" y="822325"/>
                </a:moveTo>
                <a:cubicBezTo>
                  <a:pt x="0" y="368167"/>
                  <a:pt x="360349" y="0"/>
                  <a:pt x="804863" y="0"/>
                </a:cubicBezTo>
                <a:lnTo>
                  <a:pt x="1609725" y="0"/>
                </a:lnTo>
                <a:lnTo>
                  <a:pt x="1609725" y="822325"/>
                </a:lnTo>
                <a:cubicBezTo>
                  <a:pt x="1609725" y="1276483"/>
                  <a:pt x="1249376" y="1644650"/>
                  <a:pt x="804862" y="1644650"/>
                </a:cubicBezTo>
                <a:cubicBezTo>
                  <a:pt x="360348" y="1644650"/>
                  <a:pt x="-1" y="1276483"/>
                  <a:pt x="-1" y="822325"/>
                </a:cubicBezTo>
                <a:lnTo>
                  <a:pt x="0" y="822325"/>
                </a:lnTo>
                <a:close/>
              </a:path>
            </a:pathLst>
          </a:custGeom>
          <a:solidFill>
            <a:srgbClr val="fadb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Teardrop 13"/>
          <p:cNvSpPr/>
          <p:nvPr/>
        </p:nvSpPr>
        <p:spPr>
          <a:xfrm rot="10800000">
            <a:off x="5992920" y="2135160"/>
            <a:ext cx="1644480" cy="1609920"/>
          </a:xfrm>
          <a:custGeom>
            <a:avLst/>
            <a:gdLst/>
            <a:ahLst/>
            <a:rect l="l" t="t" r="r" b="b"/>
            <a:pathLst>
              <a:path w="1644650" h="1609725">
                <a:moveTo>
                  <a:pt x="0" y="804863"/>
                </a:moveTo>
                <a:cubicBezTo>
                  <a:pt x="0" y="360349"/>
                  <a:pt x="368167" y="0"/>
                  <a:pt x="822325" y="0"/>
                </a:cubicBezTo>
                <a:lnTo>
                  <a:pt x="1644650" y="0"/>
                </a:lnTo>
                <a:lnTo>
                  <a:pt x="1644650" y="804863"/>
                </a:lnTo>
                <a:cubicBezTo>
                  <a:pt x="1644650" y="1249377"/>
                  <a:pt x="1276483" y="1609726"/>
                  <a:pt x="822325" y="1609726"/>
                </a:cubicBezTo>
                <a:cubicBezTo>
                  <a:pt x="368167" y="1609726"/>
                  <a:pt x="0" y="1249377"/>
                  <a:pt x="0" y="804863"/>
                </a:cubicBezTo>
                <a:close/>
              </a:path>
            </a:pathLst>
          </a:custGeom>
          <a:solidFill>
            <a:srgbClr val="b6d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Teardrop 14"/>
          <p:cNvSpPr/>
          <p:nvPr/>
        </p:nvSpPr>
        <p:spPr>
          <a:xfrm>
            <a:off x="4248000" y="3824280"/>
            <a:ext cx="1644840" cy="1609560"/>
          </a:xfrm>
          <a:custGeom>
            <a:avLst/>
            <a:gdLst/>
            <a:ahLst/>
            <a:rect l="l" t="t" r="r" b="b"/>
            <a:pathLst>
              <a:path w="1644650" h="1609725">
                <a:moveTo>
                  <a:pt x="0" y="804863"/>
                </a:moveTo>
                <a:cubicBezTo>
                  <a:pt x="0" y="360349"/>
                  <a:pt x="368167" y="0"/>
                  <a:pt x="822325" y="0"/>
                </a:cubicBezTo>
                <a:lnTo>
                  <a:pt x="1644650" y="0"/>
                </a:lnTo>
                <a:lnTo>
                  <a:pt x="1644650" y="804863"/>
                </a:lnTo>
                <a:cubicBezTo>
                  <a:pt x="1644650" y="1249377"/>
                  <a:pt x="1276483" y="1609726"/>
                  <a:pt x="822325" y="1609726"/>
                </a:cubicBezTo>
                <a:cubicBezTo>
                  <a:pt x="368167" y="1609726"/>
                  <a:pt x="0" y="1249377"/>
                  <a:pt x="0" y="804863"/>
                </a:cubicBezTo>
                <a:close/>
              </a:path>
            </a:pathLst>
          </a:custGeom>
          <a:solidFill>
            <a:srgbClr val="f28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Teardrop 17"/>
          <p:cNvSpPr/>
          <p:nvPr/>
        </p:nvSpPr>
        <p:spPr>
          <a:xfrm rot="5400000">
            <a:off x="4260240" y="2117520"/>
            <a:ext cx="1609920" cy="1644840"/>
          </a:xfrm>
          <a:custGeom>
            <a:avLst/>
            <a:gdLst/>
            <a:ahLst/>
            <a:rect l="l" t="t" r="r" b="b"/>
            <a:pathLst>
              <a:path w="1609725" h="1644650">
                <a:moveTo>
                  <a:pt x="0" y="822325"/>
                </a:moveTo>
                <a:cubicBezTo>
                  <a:pt x="0" y="368167"/>
                  <a:pt x="360349" y="0"/>
                  <a:pt x="804863" y="0"/>
                </a:cubicBezTo>
                <a:lnTo>
                  <a:pt x="1609725" y="0"/>
                </a:lnTo>
                <a:lnTo>
                  <a:pt x="1609725" y="822325"/>
                </a:lnTo>
                <a:cubicBezTo>
                  <a:pt x="1609725" y="1276483"/>
                  <a:pt x="1249376" y="1644650"/>
                  <a:pt x="804862" y="1644650"/>
                </a:cubicBezTo>
                <a:cubicBezTo>
                  <a:pt x="360348" y="1644650"/>
                  <a:pt x="-1" y="1276483"/>
                  <a:pt x="-1" y="822325"/>
                </a:cubicBezTo>
                <a:lnTo>
                  <a:pt x="0" y="822325"/>
                </a:lnTo>
                <a:close/>
              </a:path>
            </a:pathLst>
          </a:custGeom>
          <a:solidFill>
            <a:srgbClr val="9ad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Isosceles Triangle 20"/>
          <p:cNvSpPr/>
          <p:nvPr/>
        </p:nvSpPr>
        <p:spPr>
          <a:xfrm rot="16200000">
            <a:off x="3983040" y="2901600"/>
            <a:ext cx="196920" cy="75960"/>
          </a:xfrm>
          <a:prstGeom prst="triangle">
            <a:avLst>
              <a:gd name="adj" fmla="val 50000"/>
            </a:avLst>
          </a:prstGeom>
          <a:solidFill>
            <a:srgbClr val="9ad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Isosceles Triangle 21"/>
          <p:cNvSpPr/>
          <p:nvPr/>
        </p:nvSpPr>
        <p:spPr>
          <a:xfrm rot="5400000">
            <a:off x="7713360" y="2901600"/>
            <a:ext cx="196920" cy="76320"/>
          </a:xfrm>
          <a:prstGeom prst="triangle">
            <a:avLst>
              <a:gd name="adj" fmla="val 50000"/>
            </a:avLst>
          </a:prstGeom>
          <a:solidFill>
            <a:srgbClr val="b6d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Isosceles Triangle 22"/>
          <p:cNvSpPr/>
          <p:nvPr/>
        </p:nvSpPr>
        <p:spPr>
          <a:xfrm rot="16200000">
            <a:off x="3983040" y="4603680"/>
            <a:ext cx="196560" cy="75960"/>
          </a:xfrm>
          <a:prstGeom prst="triangle">
            <a:avLst>
              <a:gd name="adj" fmla="val 50000"/>
            </a:avLst>
          </a:prstGeom>
          <a:solidFill>
            <a:srgbClr val="f28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Isosceles Triangle 23"/>
          <p:cNvSpPr/>
          <p:nvPr/>
        </p:nvSpPr>
        <p:spPr>
          <a:xfrm rot="5400000">
            <a:off x="7713720" y="4603680"/>
            <a:ext cx="196560" cy="76320"/>
          </a:xfrm>
          <a:prstGeom prst="triangle">
            <a:avLst>
              <a:gd name="adj" fmla="val 50000"/>
            </a:avLst>
          </a:prstGeom>
          <a:solidFill>
            <a:srgbClr val="fadb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文本框 11"/>
          <p:cNvSpPr/>
          <p:nvPr/>
        </p:nvSpPr>
        <p:spPr>
          <a:xfrm>
            <a:off x="5168880" y="2841480"/>
            <a:ext cx="70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7f7f7f"/>
                </a:solidFill>
                <a:latin typeface="Arial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文本框 12"/>
          <p:cNvSpPr/>
          <p:nvPr/>
        </p:nvSpPr>
        <p:spPr>
          <a:xfrm>
            <a:off x="5925960" y="2835360"/>
            <a:ext cx="70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7f7f7f"/>
                </a:solidFill>
                <a:latin typeface="Arial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文本框 13"/>
          <p:cNvSpPr/>
          <p:nvPr/>
        </p:nvSpPr>
        <p:spPr>
          <a:xfrm>
            <a:off x="5135400" y="3782880"/>
            <a:ext cx="704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7f7f7f"/>
                </a:solidFill>
                <a:latin typeface="Arial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文本框 14"/>
          <p:cNvSpPr/>
          <p:nvPr/>
        </p:nvSpPr>
        <p:spPr>
          <a:xfrm>
            <a:off x="5888160" y="3817800"/>
            <a:ext cx="70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7f7f7f"/>
                </a:solidFill>
                <a:latin typeface="Arial"/>
                <a:ea typeface="微软雅黑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13@|17FFC:16777215|FBC:16777215|LFC:16777215|LBC:16777215"/>
          <p:cNvSpPr/>
          <p:nvPr/>
        </p:nvSpPr>
        <p:spPr>
          <a:xfrm>
            <a:off x="1722600" y="25938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TextBox 13@|17FFC:16777215|FBC:16777215|LFC:16777215|LBC:16777215"/>
          <p:cNvSpPr/>
          <p:nvPr/>
        </p:nvSpPr>
        <p:spPr>
          <a:xfrm>
            <a:off x="1727280" y="291636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Box 13@|17FFC:16777215|FBC:16777215|LFC:16777215|LBC:16777215"/>
          <p:cNvSpPr/>
          <p:nvPr/>
        </p:nvSpPr>
        <p:spPr>
          <a:xfrm>
            <a:off x="1722600" y="44244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Box 13@|17FFC:16777215|FBC:16777215|LFC:16777215|LBC:16777215"/>
          <p:cNvSpPr/>
          <p:nvPr/>
        </p:nvSpPr>
        <p:spPr>
          <a:xfrm>
            <a:off x="1727280" y="474660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13@|17FFC:16777215|FBC:16777215|LFC:16777215|LBC:16777215"/>
          <p:cNvSpPr/>
          <p:nvPr/>
        </p:nvSpPr>
        <p:spPr>
          <a:xfrm>
            <a:off x="8236080" y="25938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Box 13@|17FFC:16777215|FBC:16777215|LFC:16777215|LBC:16777215"/>
          <p:cNvSpPr/>
          <p:nvPr/>
        </p:nvSpPr>
        <p:spPr>
          <a:xfrm>
            <a:off x="8240760" y="291636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TextBox 13@|17FFC:16777215|FBC:16777215|LFC:16777215|LBC:16777215"/>
          <p:cNvSpPr/>
          <p:nvPr/>
        </p:nvSpPr>
        <p:spPr>
          <a:xfrm>
            <a:off x="8236080" y="44244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TextBox 13@|17FFC:16777215|FBC:16777215|LFC:16777215|LBC:16777215"/>
          <p:cNvSpPr/>
          <p:nvPr/>
        </p:nvSpPr>
        <p:spPr>
          <a:xfrm>
            <a:off x="8240760" y="474660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random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矩形 3"/>
          <p:cNvSpPr/>
          <p:nvPr/>
        </p:nvSpPr>
        <p:spPr>
          <a:xfrm>
            <a:off x="4932360" y="2249640"/>
            <a:ext cx="7259760" cy="2582640"/>
          </a:xfrm>
          <a:prstGeom prst="rect">
            <a:avLst/>
          </a:prstGeom>
          <a:solidFill>
            <a:srgbClr val="dce4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椭圆 8"/>
          <p:cNvSpPr/>
          <p:nvPr/>
        </p:nvSpPr>
        <p:spPr>
          <a:xfrm>
            <a:off x="2092320" y="1752480"/>
            <a:ext cx="3824280" cy="382428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9" name="组合 11"/>
          <p:cNvGrpSpPr/>
          <p:nvPr/>
        </p:nvGrpSpPr>
        <p:grpSpPr>
          <a:xfrm>
            <a:off x="5916600" y="2579760"/>
            <a:ext cx="6647040" cy="1667160"/>
            <a:chOff x="5916600" y="2579760"/>
            <a:chExt cx="6647040" cy="1667160"/>
          </a:xfrm>
        </p:grpSpPr>
        <p:sp>
          <p:nvSpPr>
            <p:cNvPr id="680" name="文本框 8"/>
            <p:cNvSpPr/>
            <p:nvPr/>
          </p:nvSpPr>
          <p:spPr>
            <a:xfrm>
              <a:off x="5916600" y="2579760"/>
              <a:ext cx="6136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ed7d31"/>
                  </a:solidFill>
                  <a:latin typeface="微软雅黑"/>
                  <a:ea typeface="微软雅黑"/>
                </a:rPr>
                <a:t>02 </a:t>
              </a:r>
              <a:r>
                <a:rPr b="1" lang="zh-CN" sz="5400" spc="-1" strike="noStrike">
                  <a:solidFill>
                    <a:srgbClr val="ed7d31"/>
                  </a:solidFill>
                  <a:latin typeface="微软雅黑"/>
                  <a:ea typeface="微软雅黑"/>
                </a:rPr>
                <a:t>请添加文本标题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文本框 9"/>
            <p:cNvSpPr/>
            <p:nvPr/>
          </p:nvSpPr>
          <p:spPr>
            <a:xfrm>
              <a:off x="7154640" y="3665520"/>
              <a:ext cx="540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67171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直接连接符 10"/>
            <p:cNvSpPr/>
            <p:nvPr/>
          </p:nvSpPr>
          <p:spPr>
            <a:xfrm>
              <a:off x="6095880" y="3567240"/>
              <a:ext cx="5858280" cy="0"/>
            </a:xfrm>
            <a:prstGeom prst="line">
              <a:avLst/>
            </a:prstGeom>
            <a:ln w="648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83" name="图片 2" descr=""/>
          <p:cNvPicPr/>
          <p:nvPr/>
        </p:nvPicPr>
        <p:blipFill>
          <a:blip r:embed="rId1"/>
          <a:stretch/>
        </p:blipFill>
        <p:spPr>
          <a:xfrm>
            <a:off x="2271600" y="2538360"/>
            <a:ext cx="3824280" cy="26654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22T03:32:16Z</dcterms:created>
  <dc:creator/>
  <dc:description>www.33ppt.com</dc:description>
  <cp:keywords>588</cp:keywords>
  <dc:language>en-US</dc:language>
  <cp:lastModifiedBy/>
  <dcterms:modified xsi:type="dcterms:W3CDTF">2018-06-07T06:29:33Z</dcterms:modified>
  <cp:revision>1</cp:revision>
  <dc:subject>www.33ppt.com</dc:subject>
  <dc:title>588</dc:title>
</cp:coreProperties>
</file>