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A75-4C1A-43D4-B5FE-31FF225A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3FF-AD6F-4A04-B379-CC4B7255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63E-1EB4-43D7-B6D1-73E38633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AD0-90C1-45FF-8D45-AC3222F9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9D8-51A7-4B35-866D-4447CED7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E69-F17E-4612-97B8-6E03A047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956-6E3C-47BE-9560-75496B7F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B94-C080-4134-99E5-521E61FE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7B5-ADB4-4FC1-AD49-88981721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B12-510B-435D-8A6B-C5246A3F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431-80C3-47C9-A66E-4DEF5DAA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18E-49C8-48E6-942A-E7206B91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0D65-9210-4FCB-89CF-24BF24615DA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268E-DB0C-45A8-8D6C-C2279F5575D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560520"/>
            <a:chOff x="2916360" y="1522440"/>
            <a:chExt cx="1206360" cy="56052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60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85184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104472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务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曹阳</cp:lastModifiedBy>
  <dcterms:modified xsi:type="dcterms:W3CDTF">2016-09-28T09:19:59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