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AAC-278C-45C1-BC47-7E58E8A3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62A-E0FD-4331-B7D5-4AE402B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0A2-A848-4E23-AA98-156E9AB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8FF-0791-4A70-A62B-D39F2EFB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24B-30D7-4E66-A885-C8FF40E6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ADD-1CB0-4385-8F20-2153406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15E-FF82-41F0-A533-421FAADD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F5E-2A52-48D8-8B82-788C3FED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515-6CE4-4EC7-B3A4-A4CC100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C09-8C59-477F-A6C7-EBBCA56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033-3383-4F1A-80BD-2B058F6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612-04B9-4712-9018-F1022CF9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1AA6-BA84-44DE-B873-528007B55D8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D448-1AFA-46E1-9675-AE982E3ABE4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560520"/>
            <a:chOff x="2916360" y="1522440"/>
            <a:chExt cx="1206360" cy="56052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85184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104472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曹阳</cp:lastModifiedBy>
  <dcterms:modified xsi:type="dcterms:W3CDTF">2016-09-28T09:19:59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