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A6D-5B16-4A0A-8627-3FEFC312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411-9894-4C9F-A83F-91890BE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F07-4F76-48D3-921E-5780D250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F16-87C1-456D-943B-67881E94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1B6-72F5-470E-9D3A-3E31435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E14-2C94-480A-A117-4948F13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228-F59D-4F65-AB55-2C7BD00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07F-6DA1-49D8-ADB0-2889E72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F1F-F52B-46B5-B3AE-61CC1326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984-746E-45D0-84F3-E2E5C360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952-796E-4F52-9F2F-492E3DA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7AF-451B-439A-93BB-32B5BEB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AC79-0728-4BAD-9520-20BE582C5C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lnTo>
                  <a:pt x="583791" y="1043690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lnTo>
                  <a:pt x="7658981" y="0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1450217" y="667947"/>
                </a:moveTo>
                <a:cubicBezTo>
                  <a:pt x="1482424" y="1067644"/>
                  <a:pt x="1184609" y="1417812"/>
                  <a:pt x="784925" y="1450190"/>
                </a:cubicBezTo>
                <a:cubicBezTo>
                  <a:pt x="385241" y="1482568"/>
                  <a:pt x="34945" y="1184903"/>
                  <a:pt x="2396" y="785234"/>
                </a:cubicBezTo>
                <a:cubicBezTo>
                  <a:pt x="-30153" y="385565"/>
                  <a:pt x="267362" y="35142"/>
                  <a:pt x="667018" y="2422"/>
                </a:cubicBezTo>
                <a:cubicBezTo>
                  <a:pt x="1066674" y="-30298"/>
                  <a:pt x="1417224" y="267067"/>
                  <a:pt x="1450116" y="666708"/>
                </a:cubicBezTo>
                <a:lnTo>
                  <a:pt x="1381670" y="672341"/>
                </a:lnTo>
                <a:cubicBezTo>
                  <a:pt x="1351889" y="310490"/>
                  <a:pt x="1034487" y="41243"/>
                  <a:pt x="672623" y="70870"/>
                </a:cubicBezTo>
                <a:cubicBezTo>
                  <a:pt x="310759" y="100496"/>
                  <a:pt x="41377" y="417783"/>
                  <a:pt x="70848" y="779660"/>
                </a:cubicBezTo>
                <a:cubicBezTo>
                  <a:pt x="100319" y="1141537"/>
                  <a:pt x="417491" y="1411055"/>
                  <a:pt x="779380" y="1381738"/>
                </a:cubicBezTo>
                <a:cubicBezTo>
                  <a:pt x="1141269" y="1352422"/>
                  <a:pt x="1410923" y="1035365"/>
                  <a:pt x="1381761" y="673464"/>
                </a:cubicBezTo>
                <a:lnTo>
                  <a:pt x="1450217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357" y="703519"/>
                </a:moveTo>
                <a:cubicBezTo>
                  <a:pt x="12806" y="306487"/>
                  <a:pt x="341915" y="-6887"/>
                  <a:pt x="739081" y="113"/>
                </a:cubicBezTo>
                <a:cubicBezTo>
                  <a:pt x="1136247" y="7113"/>
                  <a:pt x="1454108" y="331890"/>
                  <a:pt x="1452559" y="729115"/>
                </a:cubicBezTo>
                <a:lnTo>
                  <a:pt x="1381673" y="728838"/>
                </a:lnTo>
                <a:cubicBezTo>
                  <a:pt x="1383071" y="370383"/>
                  <a:pt x="1096234" y="77304"/>
                  <a:pt x="737832" y="70987"/>
                </a:cubicBezTo>
                <a:cubicBezTo>
                  <a:pt x="379430" y="64670"/>
                  <a:pt x="82443" y="347459"/>
                  <a:pt x="71208" y="705741"/>
                </a:cubicBezTo>
                <a:lnTo>
                  <a:pt x="357" y="703519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82456" y="1066461"/>
                  <a:pt x="1184596" y="1416300"/>
                  <a:pt x="784860" y="1448611"/>
                </a:cubicBezTo>
                <a:cubicBezTo>
                  <a:pt x="385224" y="1480915"/>
                  <a:pt x="34981" y="1183620"/>
                  <a:pt x="2401" y="784439"/>
                </a:cubicBezTo>
                <a:cubicBezTo>
                  <a:pt x="-30188" y="385159"/>
                  <a:pt x="267373" y="35065"/>
                  <a:pt x="667081" y="2412"/>
                </a:cubicBezTo>
                <a:cubicBezTo>
                  <a:pt x="1066689" y="-30233"/>
                  <a:pt x="1417185" y="266762"/>
                  <a:pt x="1450108" y="665914"/>
                </a:cubicBezTo>
                <a:lnTo>
                  <a:pt x="1381738" y="671542"/>
                </a:lnTo>
                <a:cubicBezTo>
                  <a:pt x="1351922" y="310140"/>
                  <a:pt x="1034537" y="41233"/>
                  <a:pt x="672679" y="70788"/>
                </a:cubicBezTo>
                <a:cubicBezTo>
                  <a:pt x="310721" y="100350"/>
                  <a:pt x="41262" y="417344"/>
                  <a:pt x="70776" y="778872"/>
                </a:cubicBezTo>
                <a:cubicBezTo>
                  <a:pt x="100282" y="1140300"/>
                  <a:pt x="417437" y="1409478"/>
                  <a:pt x="779320" y="1380233"/>
                </a:cubicBezTo>
                <a:cubicBezTo>
                  <a:pt x="1141303" y="1350980"/>
                  <a:pt x="1411033" y="1034217"/>
                  <a:pt x="1381829" y="672665"/>
                </a:cubicBezTo>
                <a:lnTo>
                  <a:pt x="1450210" y="667154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8"/>
                </a:moveTo>
                <a:cubicBezTo>
                  <a:pt x="302135" y="1436080"/>
                  <a:pt x="-9926" y="1104473"/>
                  <a:pt x="237" y="706965"/>
                </a:cubicBezTo>
                <a:cubicBezTo>
                  <a:pt x="10399" y="309488"/>
                  <a:pt x="338950" y="-5762"/>
                  <a:pt x="736948" y="78"/>
                </a:cubicBezTo>
                <a:cubicBezTo>
                  <a:pt x="1134964" y="5918"/>
                  <a:pt x="1454111" y="330699"/>
                  <a:pt x="1452557" y="728321"/>
                </a:cubicBezTo>
                <a:lnTo>
                  <a:pt x="1381749" y="728045"/>
                </a:lnTo>
                <a:cubicBezTo>
                  <a:pt x="1383152" y="369231"/>
                  <a:pt x="1095119" y="76148"/>
                  <a:pt x="735907" y="70879"/>
                </a:cubicBezTo>
                <a:cubicBezTo>
                  <a:pt x="376712" y="65610"/>
                  <a:pt x="80195" y="350090"/>
                  <a:pt x="71022" y="708772"/>
                </a:cubicBezTo>
                <a:cubicBezTo>
                  <a:pt x="61849" y="1067485"/>
                  <a:pt x="343488" y="1366728"/>
                  <a:pt x="702516" y="1379738"/>
                </a:cubicBezTo>
                <a:cubicBezTo>
                  <a:pt x="701659" y="1403325"/>
                  <a:pt x="700803" y="1426911"/>
                  <a:pt x="699946" y="1450498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82423" y="1067644"/>
                  <a:pt x="1184608" y="1417812"/>
                  <a:pt x="784925" y="1450190"/>
                </a:cubicBezTo>
                <a:cubicBezTo>
                  <a:pt x="385242" y="1482568"/>
                  <a:pt x="34946" y="1184903"/>
                  <a:pt x="2397" y="785233"/>
                </a:cubicBezTo>
                <a:cubicBezTo>
                  <a:pt x="-30152" y="385564"/>
                  <a:pt x="267363" y="35141"/>
                  <a:pt x="667018" y="2421"/>
                </a:cubicBezTo>
                <a:cubicBezTo>
                  <a:pt x="1066673" y="-30299"/>
                  <a:pt x="1417224" y="267066"/>
                  <a:pt x="1450115" y="666707"/>
                </a:cubicBezTo>
                <a:lnTo>
                  <a:pt x="1381669" y="672341"/>
                </a:lnTo>
                <a:cubicBezTo>
                  <a:pt x="1351888" y="310490"/>
                  <a:pt x="1034486" y="41243"/>
                  <a:pt x="672622" y="70870"/>
                </a:cubicBezTo>
                <a:cubicBezTo>
                  <a:pt x="310758" y="100496"/>
                  <a:pt x="41376" y="417783"/>
                  <a:pt x="70847" y="779660"/>
                </a:cubicBezTo>
                <a:cubicBezTo>
                  <a:pt x="100318" y="1141537"/>
                  <a:pt x="417490" y="1411055"/>
                  <a:pt x="779379" y="1381738"/>
                </a:cubicBezTo>
                <a:cubicBezTo>
                  <a:pt x="1141268" y="1352422"/>
                  <a:pt x="1410922" y="1035365"/>
                  <a:pt x="1381760" y="673464"/>
                </a:cubicBezTo>
                <a:lnTo>
                  <a:pt x="1450216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6"/>
                </a:moveTo>
                <a:cubicBezTo>
                  <a:pt x="1386169" y="1221024"/>
                  <a:pt x="1032538" y="1492068"/>
                  <a:pt x="644223" y="1447912"/>
                </a:cubicBezTo>
                <a:cubicBezTo>
                  <a:pt x="255909" y="1403756"/>
                  <a:pt x="-27839" y="1060235"/>
                  <a:pt x="2140" y="670569"/>
                </a:cubicBezTo>
                <a:cubicBezTo>
                  <a:pt x="32119" y="280904"/>
                  <a:pt x="365075" y="-15171"/>
                  <a:pt x="755573" y="591"/>
                </a:cubicBezTo>
                <a:cubicBezTo>
                  <a:pt x="1146072" y="16353"/>
                  <a:pt x="1454081" y="338301"/>
                  <a:pt x="1452556" y="729114"/>
                </a:cubicBezTo>
                <a:lnTo>
                  <a:pt x="1381672" y="728838"/>
                </a:lnTo>
                <a:cubicBezTo>
                  <a:pt x="1383048" y="376168"/>
                  <a:pt x="1105100" y="85642"/>
                  <a:pt x="752714" y="71418"/>
                </a:cubicBezTo>
                <a:cubicBezTo>
                  <a:pt x="400328" y="57194"/>
                  <a:pt x="99869" y="324373"/>
                  <a:pt x="72816" y="676006"/>
                </a:cubicBezTo>
                <a:cubicBezTo>
                  <a:pt x="45763" y="1027640"/>
                  <a:pt x="301817" y="1337634"/>
                  <a:pt x="652232" y="1377480"/>
                </a:cubicBezTo>
                <a:cubicBezTo>
                  <a:pt x="1002647" y="1417326"/>
                  <a:pt x="1321764" y="1172736"/>
                  <a:pt x="1374350" y="824006"/>
                </a:cubicBezTo>
                <a:lnTo>
                  <a:pt x="1444443" y="834576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7920" y="2530440"/>
            <a:ext cx="828720" cy="9986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1520" y="2664000"/>
            <a:ext cx="82260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</cp:lastModifiedBy>
  <dcterms:modified xsi:type="dcterms:W3CDTF">2017-05-29T10:27:0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