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53B4-EA2A-4D58-8815-E6D38B0C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1E1-3327-49B4-A147-F1971B81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56C0F-B8DB-490C-B404-8220BE36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B2338-41EC-4BAE-BF9B-E76C97BB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26654-7D78-441C-B315-9BD4C0B1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5B1F5-5241-43E7-A168-E9B90D5F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CC717-8930-499B-8F5D-DA4B04EF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2C37D-02B1-462F-9A3A-B85B5AAB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1700B-38D6-494E-9449-F7365B2F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3761A-4E55-437C-B39E-D6DCC0B9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631ED-111C-4025-9B97-B5C6FB4DE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8F3B5-73B4-4995-85D9-CE9D5249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A507-126D-41B6-912E-BBFC6E9C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3D596-5EA3-47B9-9AC3-6F46DCB5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BCF86-96DB-40AF-806F-A7B50A9C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A837B-ED39-4C1F-8B4D-43F8693E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B4FF5-124A-40C7-A9C9-7EE426B8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F9767-912C-4B3A-88AF-7CFBA3A9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2CFFB-CD05-4446-8D80-4BC1F59C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8B9A1-E8FD-4E41-9AE1-7C3FD707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40B52-454F-4A39-808B-97032B80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4BDD8-4744-49C9-A180-D1846A77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8A871-1446-49D9-8AAA-A97F0DA5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CDBD-E97E-4D27-93D0-29B5A996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65D49-E6E5-4FE3-B33C-7463B4B8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C2010-65D3-4C5D-BFB6-02253DC6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C6DF3-F1D7-4AEC-A02B-9E0C39E2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FC59B-034B-4231-BB19-52C4F4F2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9FE9D-3955-47E9-8103-BCFC48E9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33227-B368-4475-8228-F0B4558D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769F6-4251-4063-9E11-5E506BEF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0327E-3B1A-4C79-BB3E-11221719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C9CA7-58AA-45E8-BEFE-56AA4DC4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D31E0-4DA1-48B9-87E5-C597BE75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B909-7428-4BF4-B112-7A5F5615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3AD41-DD40-4501-838A-644AAB14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2A6E4-CB81-40B6-984D-A0E8FB5A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B9B35-EDEB-46CA-8EFC-F326558F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932B6-000B-4823-8166-4A43E8A4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38FCA-EE75-4EE4-8CDD-606C7D6E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8F389-BEE5-4BD7-A346-9C4449D8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07B86-A762-4160-8D8F-AEAA90CC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2997B-4DDA-4E92-878A-48A8EE44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D57AB-7BFA-4593-8A75-F1CE67D4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C79EF-AD9A-47C0-8498-694288E6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BD99-3F7C-4CD2-A58E-7FDE7D95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3638B-3BF8-4333-B893-14ADB314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2D713-B1D2-49A2-B6EA-BA7EC342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7CACC-D2C4-49A4-BB4E-01ECDA61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F2C8C-F1E3-48DD-9B09-78B92435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56C8F-7918-4511-B3E9-631A76E2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F067-C740-44EA-BD7F-CE839161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8036-EA6B-430B-8F81-1C9D7F97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CC6B-56CA-4144-9DD5-778F4997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DFC9-A126-447A-9579-BA12CAC9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EB15-CD93-4FCB-9EFB-CCD19B30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506C-EE79-445A-9DA4-F07EE48A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7822-A21B-433A-AA88-2A20A2A2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368B-847B-4E23-AFA9-1124A760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6D30-9DDA-4CAE-98FA-2C49E5D4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8B3E-84B4-4CC2-B9BA-57B68F5B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0EF9-DC26-47C4-BA02-236B6652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36BDC-A2BC-4331-B024-E58D08C6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3A4A9-9E40-4129-892D-E9915075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A8662-631B-4709-87D8-0F26B933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D0BA7-3C15-445A-85F9-4B29EBE8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4AD21-9816-4FC7-AB95-A144E65A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658E-D69D-4737-AA10-1F9A455C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5A89E-0C77-4859-8937-8079783E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123F7-D3D3-45BD-9544-98B33BE0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30FB1-E04B-414B-883A-BF9FDE29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6BE44-701B-402C-8D3E-1F79B44F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04FB1-8E37-471B-9963-FB10E090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B815C-C32B-44B1-8CE4-315AEC20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2C6F1-0D90-4F61-B33E-291D1181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26340-B991-45D7-8A88-B37A2B44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14D5E-5076-477D-B860-56A0048A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9FECC-826C-4425-AB3E-F126B8EC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E7BD-6449-4D4C-AFBD-7C64EBBE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18789-6027-475F-9937-1BEBD6D9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FED8E-CD5B-43C3-A324-623D6699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3426C-7A9C-48EA-9839-C26B24EE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31D0D-486F-4A86-844E-DC144C6E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E83BB-A4C9-4A81-B249-95B9A90D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17883-CE7A-4004-AEA8-C757EF6C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7AFDF-22DE-43E7-B5F8-CFB7F368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F918E-93A4-4D9D-84AC-A324E1DC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209FA-5834-480F-BF61-9EA39D3B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BD40B-B595-4BCB-B93C-4FDE5B7E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3615-5425-4409-ACF5-42858C85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5C599-D466-4203-9110-05C8648D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8F620-FEED-4B86-8521-A99C64C0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4FB73-DEA9-479E-B831-E3DEC493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99322-9084-49ED-B1E8-1C028AD2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B7845-E3EA-49AE-8320-CB02D1E0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DD382-AEA1-4E78-95E5-23CAD54C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7A059-2804-42CB-85B1-FC50178C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422A3-8C36-4122-B6C5-986CE9F3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6B84B-DF4F-4659-A3B1-6B9A5672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796FF-1AD2-46DB-9F2C-B0C0676B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64F1-8800-401C-93F6-D02C25D3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302E7-E403-42BB-9B8F-BFB6A45D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9BD41-2B3C-4595-AF30-0247A6B1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37A5E-3330-4709-8964-E69B2564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210F3-33E9-4CB8-B488-4FD654A0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85DFE-7FDE-4C87-99A2-10A332E4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2B04C-B618-401A-ADC0-3D18EDDB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C8A4F-7735-40CB-B21B-ECFBCBDD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ED011-3EC5-40E5-BCDD-C0F6F8EC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F7C03-89B4-4C0E-B638-2F69A0C2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6E33E-8BD3-48D0-B5F4-95C23F14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7933-D9D6-48DF-8ED1-5D6C2968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3CF96-C505-4D0D-B723-13271E11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36767-C9C5-4AD4-9428-A34B3932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4BBC5-9B89-4244-8057-D39BC113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59530-65E0-400C-9C74-26CBDC5E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1A767-D047-48CB-8DBC-DB5F670F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61ACF-FCB0-4F90-9649-A4465949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89DFD-A472-4B39-B3E1-1F418410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FB780-F9B7-4E70-8FBD-7908F3B8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D8E60-A61F-4A9A-90F3-F1A60876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9E4AB-524B-433C-86FC-3045D2F7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211-ECC5-487E-9F04-BD6CE0B7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2EB22-CEBA-4821-98F0-20BF0187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5DE9C-FC8C-4E54-AE13-0F9F79D9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A6501-C9E7-489A-82AC-72C4FA0A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3A619-E698-4462-BCEE-F410480D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87A72-9BB5-443D-9F9C-490973FA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4B769-7EBA-497C-B0DC-23B38106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07C77-87B0-481B-B874-1C5460FB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D2AB8-C9F0-4BB0-9406-26935926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B4530-339E-4407-9BF2-926484CA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910AB-3E9B-416E-96FC-1E32171F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8DA3-85AB-4AAD-A570-F5E44A30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8C323-7B38-449F-AFE1-C9613814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8A412-E409-47F2-B20E-4F88162C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C106B-1312-459C-B73C-8565EED4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D82AC-01C9-424A-8196-EE12D132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627B5-646C-4A62-AB66-7EC4EF65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CA5DB-F3E5-4D40-83EA-B64EC0AF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E21B9-079B-41A9-99B9-BAD16AF0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4725A-F73F-4EAD-A4D5-E6477ADC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16E7D-DBB1-4D55-8893-39E47259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5B313-E02B-4D1B-A0DF-114D6777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lo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olo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ansatio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ansatio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7F3C-5419-456C-8029-7A818DD7926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FEB7-1605-4C5F-BE30-7825579347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B758-33CA-4F2F-A6B9-975E0472DE8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C139-337A-448B-8F6E-8EE31A9864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BF75-4801-4432-B3FE-1A18BBF759C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9491-FDB4-43D8-AE1A-5274EAD9D9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0341-CD0B-4FC8-8A66-EFDFEC00206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5B5E-3577-46C0-9D61-C0580E93D0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4263-6EBE-4596-8EB5-CB50ACC074AF}" type="datetime">
              <a:rPr b="0" lang="zh-CN" sz="1200" spc="-1" strike="noStrike">
                <a:solidFill>
                  <a:srgbClr val="898989"/>
                </a:solidFill>
                <a:latin typeface="方正兰亭黑_GB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CC9E-2466-407F-B68B-119572B2B174}" type="slidenum">
              <a:rPr b="0" lang="zh-CN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832A-A6E2-419E-A5F4-A6D323CEA1B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1488-ABD9-4CF0-BEFD-51E9E6E2D17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77CF-4787-4F53-958E-4BFEDE93F7B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4AA1-58E4-4A73-B70A-F02CA5E3738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9E1B-AA70-45BE-A113-A2723BF68C5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CAF5-B9A1-4833-B5AA-82B338B4BC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A934-207F-48DC-BA1A-68BBE763869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1AE5-90FF-4A16-9FBE-82EF9419E6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4F32-FFAB-4453-9BBD-30246E8E49D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E6FB-2185-4298-836C-5238FFA62B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6F6F-A07E-48BB-A34D-E08CB7B59F0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03B3-8398-4519-A912-4BCE23DF92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9C9E-D189-431B-889A-3BD2CF4EE1F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A9C2-89F3-4EE8-B451-E7E07327E9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daxue101.100get.c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5" descr="01_Main-Background.jpg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0" y="4565520"/>
            <a:ext cx="4343400" cy="1219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4406760" y="4565520"/>
            <a:ext cx="1143000" cy="12193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7"/>
          <p:cNvSpPr/>
          <p:nvPr/>
        </p:nvSpPr>
        <p:spPr>
          <a:xfrm>
            <a:off x="838080" y="3632040"/>
            <a:ext cx="3613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Windows </a:t>
            </a:r>
            <a:r>
              <a:rPr b="0" lang="en-US" sz="4500" spc="-1" strike="noStrike">
                <a:solidFill>
                  <a:srgbClr val="0099ff"/>
                </a:solidFill>
                <a:latin typeface="方正兰亭黑_GBK"/>
                <a:ea typeface="宋体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6"/>
          <p:cNvSpPr/>
          <p:nvPr/>
        </p:nvSpPr>
        <p:spPr>
          <a:xfrm>
            <a:off x="4570560" y="-144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第一</a:t>
            </a:r>
            <a:r>
              <a:rPr b="0" lang="en-US" sz="2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：</a:t>
            </a:r>
            <a:r>
              <a:rPr b="0" lang="en-US" sz="2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3"/>
          <p:cNvSpPr/>
          <p:nvPr/>
        </p:nvSpPr>
        <p:spPr>
          <a:xfrm>
            <a:off x="0" y="3124080"/>
            <a:ext cx="4343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4406760" y="3124080"/>
            <a:ext cx="2743200" cy="193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7"/>
          <p:cNvSpPr/>
          <p:nvPr/>
        </p:nvSpPr>
        <p:spPr>
          <a:xfrm>
            <a:off x="577800" y="3240000"/>
            <a:ext cx="361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PRESENT</a:t>
            </a:r>
            <a:r>
              <a:rPr b="0" lang="en-US" sz="2500" spc="-1" strike="noStrike">
                <a:solidFill>
                  <a:srgbClr val="0099ff"/>
                </a:solidFill>
                <a:latin typeface="方正兰亭黑_GBK"/>
                <a:ea typeface="宋体"/>
              </a:rPr>
              <a:t>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3429000" y="412740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2435400" y="412740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1450800" y="412740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0" y="4127400"/>
            <a:ext cx="137160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4"/>
          <p:cNvSpPr/>
          <p:nvPr/>
        </p:nvSpPr>
        <p:spPr>
          <a:xfrm>
            <a:off x="342900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5"/>
          <p:cNvSpPr/>
          <p:nvPr/>
        </p:nvSpPr>
        <p:spPr>
          <a:xfrm>
            <a:off x="243540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1450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4419720" y="5141880"/>
            <a:ext cx="472428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8"/>
          <p:cNvSpPr/>
          <p:nvPr/>
        </p:nvSpPr>
        <p:spPr>
          <a:xfrm>
            <a:off x="162072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方正兰亭黑_GBK"/>
                <a:ea typeface="宋体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9"/>
          <p:cNvSpPr/>
          <p:nvPr/>
        </p:nvSpPr>
        <p:spPr>
          <a:xfrm>
            <a:off x="265428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方正兰亭黑_GBK"/>
                <a:ea typeface="宋体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0"/>
          <p:cNvSpPr/>
          <p:nvPr/>
        </p:nvSpPr>
        <p:spPr>
          <a:xfrm>
            <a:off x="3632040" y="4282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方正兰亭黑_GBK"/>
                <a:ea typeface="宋体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21"/>
          <p:cNvSpPr/>
          <p:nvPr/>
        </p:nvSpPr>
        <p:spPr>
          <a:xfrm>
            <a:off x="162072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5d8f1"/>
                </a:solidFill>
                <a:latin typeface="方正兰亭黑_GBK"/>
                <a:ea typeface="宋体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22"/>
          <p:cNvSpPr/>
          <p:nvPr/>
        </p:nvSpPr>
        <p:spPr>
          <a:xfrm>
            <a:off x="265428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a5a5"/>
                </a:solidFill>
                <a:latin typeface="方正兰亭黑_GBK"/>
                <a:ea typeface="宋体"/>
              </a:rPr>
              <a:t>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23"/>
          <p:cNvSpPr/>
          <p:nvPr/>
        </p:nvSpPr>
        <p:spPr>
          <a:xfrm>
            <a:off x="3632040" y="5321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8d8d8"/>
                </a:solidFill>
                <a:latin typeface="方正兰亭黑_GBK"/>
                <a:ea typeface="宋体"/>
              </a:rPr>
              <a:t>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5" descr="01_Main-Background.jpg"/>
          <p:cNvPicPr/>
          <p:nvPr/>
        </p:nvPicPr>
        <p:blipFill>
          <a:blip r:embed="rId1"/>
          <a:stretch/>
        </p:blipFill>
        <p:spPr>
          <a:xfrm>
            <a:off x="-91296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3"/>
          <p:cNvSpPr/>
          <p:nvPr/>
        </p:nvSpPr>
        <p:spPr>
          <a:xfrm>
            <a:off x="0" y="3530520"/>
            <a:ext cx="289548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7"/>
          <p:cNvSpPr/>
          <p:nvPr/>
        </p:nvSpPr>
        <p:spPr>
          <a:xfrm>
            <a:off x="762120" y="366084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ABOUT 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971800" y="3530520"/>
            <a:ext cx="107784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2133720" y="4533840"/>
            <a:ext cx="1915920" cy="133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6"/>
          <p:cNvSpPr/>
          <p:nvPr/>
        </p:nvSpPr>
        <p:spPr>
          <a:xfrm>
            <a:off x="4343400" y="353052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玩转大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r>
              <a:rPr b="0" lang="zh-CN" sz="1000" spc="-1" strike="noStrike">
                <a:solidFill>
                  <a:srgbClr val="ffffff"/>
                </a:solidFill>
                <a:latin typeface="方正兰亭黑_GBK"/>
                <a:ea typeface="宋体"/>
              </a:rPr>
              <a:t>：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 http://daxue101.100get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9"/>
          <p:cNvGrpSpPr/>
          <p:nvPr/>
        </p:nvGrpSpPr>
        <p:grpSpPr>
          <a:xfrm>
            <a:off x="4290840" y="2160720"/>
            <a:ext cx="3003840" cy="1542240"/>
            <a:chOff x="4290840" y="2160720"/>
            <a:chExt cx="3003840" cy="1542240"/>
          </a:xfrm>
        </p:grpSpPr>
        <p:sp>
          <p:nvSpPr>
            <p:cNvPr id="522" name="TextBox 29"/>
            <p:cNvSpPr/>
            <p:nvPr/>
          </p:nvSpPr>
          <p:spPr>
            <a:xfrm>
              <a:off x="4290840" y="2268360"/>
              <a:ext cx="29487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HEADILIN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30"/>
            <p:cNvSpPr/>
            <p:nvPr/>
          </p:nvSpPr>
          <p:spPr>
            <a:xfrm>
              <a:off x="4322160" y="2917080"/>
              <a:ext cx="29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8"/>
            <p:cNvSpPr/>
            <p:nvPr/>
          </p:nvSpPr>
          <p:spPr>
            <a:xfrm>
              <a:off x="4311720" y="2160720"/>
              <a:ext cx="221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AN 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"/>
          <p:cNvSpPr/>
          <p:nvPr/>
        </p:nvSpPr>
        <p:spPr>
          <a:xfrm>
            <a:off x="0" y="3530520"/>
            <a:ext cx="289548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7"/>
          <p:cNvSpPr/>
          <p:nvPr/>
        </p:nvSpPr>
        <p:spPr>
          <a:xfrm>
            <a:off x="762120" y="364644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BULLET TE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4"/>
          <p:cNvSpPr/>
          <p:nvPr/>
        </p:nvSpPr>
        <p:spPr>
          <a:xfrm>
            <a:off x="2971800" y="3530520"/>
            <a:ext cx="107784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5"/>
          <p:cNvSpPr/>
          <p:nvPr/>
        </p:nvSpPr>
        <p:spPr>
          <a:xfrm>
            <a:off x="2133720" y="4533840"/>
            <a:ext cx="1915920" cy="133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8"/>
          <p:cNvGrpSpPr/>
          <p:nvPr/>
        </p:nvGrpSpPr>
        <p:grpSpPr>
          <a:xfrm>
            <a:off x="4290840" y="1946160"/>
            <a:ext cx="3003840" cy="1542240"/>
            <a:chOff x="4290840" y="1946160"/>
            <a:chExt cx="3003840" cy="1542240"/>
          </a:xfrm>
        </p:grpSpPr>
        <p:sp>
          <p:nvSpPr>
            <p:cNvPr id="531" name="TextBox 29"/>
            <p:cNvSpPr/>
            <p:nvPr/>
          </p:nvSpPr>
          <p:spPr>
            <a:xfrm>
              <a:off x="4290840" y="2053800"/>
              <a:ext cx="2643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HEADILIN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30"/>
            <p:cNvSpPr/>
            <p:nvPr/>
          </p:nvSpPr>
          <p:spPr>
            <a:xfrm>
              <a:off x="4322160" y="2703600"/>
              <a:ext cx="297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TEXT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"/>
            <p:cNvSpPr/>
            <p:nvPr/>
          </p:nvSpPr>
          <p:spPr>
            <a:xfrm>
              <a:off x="4311720" y="1946160"/>
              <a:ext cx="221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AN EX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Group 12"/>
          <p:cNvGrpSpPr/>
          <p:nvPr/>
        </p:nvGrpSpPr>
        <p:grpSpPr>
          <a:xfrm>
            <a:off x="4383000" y="3376440"/>
            <a:ext cx="3490920" cy="398520"/>
            <a:chOff x="4383000" y="3376440"/>
            <a:chExt cx="3490920" cy="398520"/>
          </a:xfrm>
        </p:grpSpPr>
        <p:sp>
          <p:nvSpPr>
            <p:cNvPr id="535" name="TextBox 26"/>
            <p:cNvSpPr/>
            <p:nvPr/>
          </p:nvSpPr>
          <p:spPr>
            <a:xfrm>
              <a:off x="4674240" y="337644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12"/>
            <p:cNvSpPr/>
            <p:nvPr/>
          </p:nvSpPr>
          <p:spPr>
            <a:xfrm>
              <a:off x="4383000" y="337644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15"/>
          <p:cNvGrpSpPr/>
          <p:nvPr/>
        </p:nvGrpSpPr>
        <p:grpSpPr>
          <a:xfrm>
            <a:off x="4383000" y="3911760"/>
            <a:ext cx="3490920" cy="307080"/>
            <a:chOff x="4383000" y="3911760"/>
            <a:chExt cx="3490920" cy="307080"/>
          </a:xfrm>
        </p:grpSpPr>
        <p:sp>
          <p:nvSpPr>
            <p:cNvPr id="538" name="TextBox 15"/>
            <p:cNvSpPr/>
            <p:nvPr/>
          </p:nvSpPr>
          <p:spPr>
            <a:xfrm>
              <a:off x="4674240" y="391176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16"/>
            <p:cNvSpPr/>
            <p:nvPr/>
          </p:nvSpPr>
          <p:spPr>
            <a:xfrm>
              <a:off x="4383000" y="391176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Group 18"/>
          <p:cNvGrpSpPr/>
          <p:nvPr/>
        </p:nvGrpSpPr>
        <p:grpSpPr>
          <a:xfrm>
            <a:off x="4383000" y="4235400"/>
            <a:ext cx="3490920" cy="398520"/>
            <a:chOff x="4383000" y="4235400"/>
            <a:chExt cx="3490920" cy="398520"/>
          </a:xfrm>
        </p:grpSpPr>
        <p:sp>
          <p:nvSpPr>
            <p:cNvPr id="541" name="TextBox 21"/>
            <p:cNvSpPr/>
            <p:nvPr/>
          </p:nvSpPr>
          <p:spPr>
            <a:xfrm>
              <a:off x="4674240" y="423540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2"/>
            <p:cNvSpPr/>
            <p:nvPr/>
          </p:nvSpPr>
          <p:spPr>
            <a:xfrm>
              <a:off x="4383000" y="423540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21"/>
          <p:cNvGrpSpPr/>
          <p:nvPr/>
        </p:nvGrpSpPr>
        <p:grpSpPr>
          <a:xfrm>
            <a:off x="4383000" y="4784760"/>
            <a:ext cx="3490920" cy="307080"/>
            <a:chOff x="4383000" y="4784760"/>
            <a:chExt cx="3490920" cy="307080"/>
          </a:xfrm>
        </p:grpSpPr>
        <p:sp>
          <p:nvSpPr>
            <p:cNvPr id="544" name="TextBox 27"/>
            <p:cNvSpPr/>
            <p:nvPr/>
          </p:nvSpPr>
          <p:spPr>
            <a:xfrm>
              <a:off x="4674240" y="478476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31"/>
            <p:cNvSpPr/>
            <p:nvPr/>
          </p:nvSpPr>
          <p:spPr>
            <a:xfrm>
              <a:off x="4383000" y="478476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4"/>
          <p:cNvGrpSpPr/>
          <p:nvPr/>
        </p:nvGrpSpPr>
        <p:grpSpPr>
          <a:xfrm>
            <a:off x="4383000" y="5108400"/>
            <a:ext cx="3490920" cy="398520"/>
            <a:chOff x="4383000" y="5108400"/>
            <a:chExt cx="3490920" cy="398520"/>
          </a:xfrm>
        </p:grpSpPr>
        <p:sp>
          <p:nvSpPr>
            <p:cNvPr id="547" name="TextBox 33"/>
            <p:cNvSpPr/>
            <p:nvPr/>
          </p:nvSpPr>
          <p:spPr>
            <a:xfrm>
              <a:off x="4674240" y="5108400"/>
              <a:ext cx="3199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 Some text about WELCOME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34"/>
            <p:cNvSpPr/>
            <p:nvPr/>
          </p:nvSpPr>
          <p:spPr>
            <a:xfrm>
              <a:off x="4383000" y="510840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27"/>
          <p:cNvGrpSpPr/>
          <p:nvPr/>
        </p:nvGrpSpPr>
        <p:grpSpPr>
          <a:xfrm>
            <a:off x="4383000" y="5654520"/>
            <a:ext cx="3490920" cy="307080"/>
            <a:chOff x="4383000" y="5654520"/>
            <a:chExt cx="3490920" cy="307080"/>
          </a:xfrm>
        </p:grpSpPr>
        <p:sp>
          <p:nvSpPr>
            <p:cNvPr id="550" name="TextBox 37"/>
            <p:cNvSpPr/>
            <p:nvPr/>
          </p:nvSpPr>
          <p:spPr>
            <a:xfrm>
              <a:off x="4674240" y="5654520"/>
              <a:ext cx="319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方正兰亭黑_GBK"/>
                  <a:ea typeface="宋体"/>
                </a:rPr>
                <a:t>Some text about ABOUT US related goes her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38"/>
            <p:cNvSpPr/>
            <p:nvPr/>
          </p:nvSpPr>
          <p:spPr>
            <a:xfrm>
              <a:off x="4383000" y="5654520"/>
              <a:ext cx="43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ff"/>
                  </a:solidFill>
                  <a:latin typeface="方正兰亭黑_GBK"/>
                  <a:ea typeface="宋体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3"/>
          <p:cNvSpPr/>
          <p:nvPr/>
        </p:nvSpPr>
        <p:spPr>
          <a:xfrm>
            <a:off x="0" y="1905120"/>
            <a:ext cx="2666880" cy="925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"/>
          <p:cNvSpPr/>
          <p:nvPr/>
        </p:nvSpPr>
        <p:spPr>
          <a:xfrm>
            <a:off x="457200" y="20764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方正兰亭黑_GBK"/>
                <a:ea typeface="宋体"/>
              </a:rPr>
              <a:t>MEET THE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7"/>
          <p:cNvSpPr/>
          <p:nvPr/>
        </p:nvSpPr>
        <p:spPr>
          <a:xfrm>
            <a:off x="2735280" y="1905120"/>
            <a:ext cx="2398680" cy="26413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9"/>
          <p:cNvSpPr/>
          <p:nvPr/>
        </p:nvSpPr>
        <p:spPr>
          <a:xfrm>
            <a:off x="1503360" y="4638600"/>
            <a:ext cx="1170000" cy="16257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1"/>
          <p:cNvSpPr/>
          <p:nvPr/>
        </p:nvSpPr>
        <p:spPr>
          <a:xfrm>
            <a:off x="3973680" y="4638600"/>
            <a:ext cx="1170000" cy="16257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46"/>
          <p:cNvSpPr/>
          <p:nvPr/>
        </p:nvSpPr>
        <p:spPr>
          <a:xfrm>
            <a:off x="6440400" y="4638600"/>
            <a:ext cx="1170000" cy="16257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7"/>
          <p:cNvSpPr/>
          <p:nvPr/>
        </p:nvSpPr>
        <p:spPr>
          <a:xfrm>
            <a:off x="6456240" y="2921040"/>
            <a:ext cx="1170000" cy="1625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48"/>
          <p:cNvSpPr/>
          <p:nvPr/>
        </p:nvSpPr>
        <p:spPr>
          <a:xfrm>
            <a:off x="3241800" y="2486160"/>
            <a:ext cx="13716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MEET THE TEAM related goes here. Some text about WELCOME related goes he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9" descr="07_Team-Picture-Image.jpg"/>
          <p:cNvPicPr/>
          <p:nvPr/>
        </p:nvPicPr>
        <p:blipFill>
          <a:blip r:embed="rId2"/>
          <a:stretch/>
        </p:blipFill>
        <p:spPr>
          <a:xfrm>
            <a:off x="1503360" y="2921040"/>
            <a:ext cx="1170000" cy="16225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0" descr="07_Team-Picture-Image.jpg"/>
          <p:cNvPicPr/>
          <p:nvPr/>
        </p:nvPicPr>
        <p:blipFill>
          <a:blip r:embed="rId3"/>
          <a:stretch/>
        </p:blipFill>
        <p:spPr>
          <a:xfrm>
            <a:off x="2735280" y="4641840"/>
            <a:ext cx="1170000" cy="1622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1" descr="07_Team-Picture-Image.jpg"/>
          <p:cNvPicPr/>
          <p:nvPr/>
        </p:nvPicPr>
        <p:blipFill>
          <a:blip r:embed="rId4"/>
          <a:stretch/>
        </p:blipFill>
        <p:spPr>
          <a:xfrm>
            <a:off x="5211720" y="2927520"/>
            <a:ext cx="1170000" cy="16221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2" descr="07_Team-Picture-Image.jpg"/>
          <p:cNvPicPr/>
          <p:nvPr/>
        </p:nvPicPr>
        <p:blipFill>
          <a:blip r:embed="rId5"/>
          <a:stretch/>
        </p:blipFill>
        <p:spPr>
          <a:xfrm>
            <a:off x="5211720" y="4638600"/>
            <a:ext cx="1170000" cy="162252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53"/>
          <p:cNvSpPr/>
          <p:nvPr/>
        </p:nvSpPr>
        <p:spPr>
          <a:xfrm>
            <a:off x="1527120" y="5364000"/>
            <a:ext cx="11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方正兰亭黑_GBK"/>
                <a:ea typeface="宋体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方正兰亭黑_GBK"/>
                <a:ea typeface="宋体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4"/>
          <p:cNvSpPr/>
          <p:nvPr/>
        </p:nvSpPr>
        <p:spPr>
          <a:xfrm>
            <a:off x="1527120" y="4776840"/>
            <a:ext cx="11206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方正兰亭黑_GBK"/>
                <a:ea typeface="宋体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方正兰亭黑_GBK"/>
                <a:ea typeface="宋体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5"/>
          <p:cNvSpPr/>
          <p:nvPr/>
        </p:nvSpPr>
        <p:spPr>
          <a:xfrm>
            <a:off x="3994200" y="5364000"/>
            <a:ext cx="11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99ff"/>
                </a:solidFill>
                <a:latin typeface="方正兰亭黑_GBK"/>
                <a:ea typeface="宋体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99ff"/>
                </a:solidFill>
                <a:latin typeface="方正兰亭黑_GBK"/>
                <a:ea typeface="宋体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6"/>
          <p:cNvSpPr/>
          <p:nvPr/>
        </p:nvSpPr>
        <p:spPr>
          <a:xfrm>
            <a:off x="3994200" y="4776840"/>
            <a:ext cx="11206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ff"/>
                </a:solidFill>
                <a:latin typeface="方正兰亭黑_GBK"/>
                <a:ea typeface="宋体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7"/>
          <p:cNvSpPr/>
          <p:nvPr/>
        </p:nvSpPr>
        <p:spPr>
          <a:xfrm>
            <a:off x="6480000" y="3637080"/>
            <a:ext cx="112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8"/>
          <p:cNvSpPr/>
          <p:nvPr/>
        </p:nvSpPr>
        <p:spPr>
          <a:xfrm>
            <a:off x="6480000" y="3049560"/>
            <a:ext cx="11210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方正兰亭黑_GBK"/>
                <a:ea typeface="宋体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9"/>
          <p:cNvSpPr/>
          <p:nvPr/>
        </p:nvSpPr>
        <p:spPr>
          <a:xfrm>
            <a:off x="6480000" y="5376960"/>
            <a:ext cx="112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方正兰亭黑_GBK"/>
                <a:ea typeface="宋体"/>
              </a:rPr>
              <a:t>Expertness/Skills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方正兰亭黑_GBK"/>
                <a:ea typeface="宋体"/>
              </a:rPr>
              <a:t>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0"/>
          <p:cNvSpPr/>
          <p:nvPr/>
        </p:nvSpPr>
        <p:spPr>
          <a:xfrm>
            <a:off x="6480000" y="4789440"/>
            <a:ext cx="112104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方正兰亭黑_GBK"/>
                <a:ea typeface="宋体"/>
              </a:rPr>
              <a:t>John Har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方正兰亭黑_GBK"/>
                <a:ea typeface="宋体"/>
              </a:rPr>
              <a:t>Post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5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5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50" autoRev="1" fill="hold"/>
                                        <p:tgtEl>
                                          <p:spTgt spid="5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5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5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250" autoRev="1" fill="hold"/>
                                        <p:tgtEl>
                                          <p:spTgt spid="5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250" autoRev="1" fill="hold"/>
                                        <p:tgtEl>
                                          <p:spTgt spid="5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250" autoRev="1" fill="hold"/>
                                        <p:tgtEl>
                                          <p:spTgt spid="5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5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5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5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5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5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5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5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3"/>
          <p:cNvSpPr/>
          <p:nvPr/>
        </p:nvSpPr>
        <p:spPr>
          <a:xfrm>
            <a:off x="0" y="3124080"/>
            <a:ext cx="4343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4406760" y="3124080"/>
            <a:ext cx="2908440" cy="193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577800" y="3240000"/>
            <a:ext cx="3613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OUR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3429000" y="412740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2435400" y="4127400"/>
            <a:ext cx="914400" cy="914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1450800" y="412740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3"/>
          <p:cNvSpPr/>
          <p:nvPr/>
        </p:nvSpPr>
        <p:spPr>
          <a:xfrm>
            <a:off x="0" y="4127400"/>
            <a:ext cx="137160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342900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5"/>
          <p:cNvSpPr/>
          <p:nvPr/>
        </p:nvSpPr>
        <p:spPr>
          <a:xfrm>
            <a:off x="243540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6"/>
          <p:cNvSpPr/>
          <p:nvPr/>
        </p:nvSpPr>
        <p:spPr>
          <a:xfrm>
            <a:off x="1450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8"/>
          <p:cNvSpPr/>
          <p:nvPr/>
        </p:nvSpPr>
        <p:spPr>
          <a:xfrm>
            <a:off x="1523880" y="4222800"/>
            <a:ext cx="7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99ff"/>
                </a:solidFill>
                <a:latin typeface="方正兰亭黑_GBK"/>
                <a:ea typeface="宋体"/>
              </a:rPr>
              <a:t>Service 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9"/>
          <p:cNvSpPr/>
          <p:nvPr/>
        </p:nvSpPr>
        <p:spPr>
          <a:xfrm>
            <a:off x="2476440" y="4282920"/>
            <a:ext cx="83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c0c0c"/>
                </a:solidFill>
                <a:latin typeface="方正兰亭黑_GBK"/>
                <a:ea typeface="宋体"/>
              </a:rPr>
              <a:t>Service Tw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20"/>
          <p:cNvSpPr/>
          <p:nvPr/>
        </p:nvSpPr>
        <p:spPr>
          <a:xfrm>
            <a:off x="3489480" y="428292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  <a:ea typeface="宋体"/>
              </a:rPr>
              <a:t>Service Thre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21"/>
          <p:cNvSpPr/>
          <p:nvPr/>
        </p:nvSpPr>
        <p:spPr>
          <a:xfrm>
            <a:off x="1498680" y="5229360"/>
            <a:ext cx="81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0e0f4"/>
                </a:solidFill>
                <a:latin typeface="方正兰亭黑_GBK"/>
                <a:ea typeface="宋体"/>
              </a:rPr>
              <a:t>Service Fou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22"/>
          <p:cNvSpPr/>
          <p:nvPr/>
        </p:nvSpPr>
        <p:spPr>
          <a:xfrm>
            <a:off x="2484360" y="5321160"/>
            <a:ext cx="830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5a5a5"/>
                </a:solidFill>
                <a:latin typeface="方正兰亭黑_GBK"/>
                <a:ea typeface="宋体"/>
              </a:rPr>
              <a:t>Service Fi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23"/>
          <p:cNvSpPr/>
          <p:nvPr/>
        </p:nvSpPr>
        <p:spPr>
          <a:xfrm>
            <a:off x="3489480" y="532116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  <a:ea typeface="宋体"/>
              </a:rPr>
              <a:t>Service Si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4"/>
          <p:cNvSpPr/>
          <p:nvPr/>
        </p:nvSpPr>
        <p:spPr>
          <a:xfrm>
            <a:off x="6389640" y="5143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5"/>
          <p:cNvSpPr/>
          <p:nvPr/>
        </p:nvSpPr>
        <p:spPr>
          <a:xfrm>
            <a:off x="5397480" y="51436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6"/>
          <p:cNvSpPr/>
          <p:nvPr/>
        </p:nvSpPr>
        <p:spPr>
          <a:xfrm>
            <a:off x="4411800" y="514368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7"/>
          <p:cNvSpPr/>
          <p:nvPr/>
        </p:nvSpPr>
        <p:spPr>
          <a:xfrm>
            <a:off x="7388280" y="3119400"/>
            <a:ext cx="914400" cy="914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8"/>
          <p:cNvSpPr/>
          <p:nvPr/>
        </p:nvSpPr>
        <p:spPr>
          <a:xfrm>
            <a:off x="7388280" y="4135320"/>
            <a:ext cx="914400" cy="914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9"/>
          <p:cNvSpPr/>
          <p:nvPr/>
        </p:nvSpPr>
        <p:spPr>
          <a:xfrm>
            <a:off x="7388280" y="5141880"/>
            <a:ext cx="175572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0"/>
          <p:cNvSpPr/>
          <p:nvPr/>
        </p:nvSpPr>
        <p:spPr>
          <a:xfrm>
            <a:off x="6389640" y="2128680"/>
            <a:ext cx="914400" cy="9144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3"/>
          <p:cNvSpPr/>
          <p:nvPr/>
        </p:nvSpPr>
        <p:spPr>
          <a:xfrm>
            <a:off x="7388280" y="2127240"/>
            <a:ext cx="9144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34"/>
          <p:cNvSpPr/>
          <p:nvPr/>
        </p:nvSpPr>
        <p:spPr>
          <a:xfrm>
            <a:off x="4465800" y="5321160"/>
            <a:ext cx="79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ervice Sev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35"/>
          <p:cNvSpPr/>
          <p:nvPr/>
        </p:nvSpPr>
        <p:spPr>
          <a:xfrm>
            <a:off x="5456160" y="5321160"/>
            <a:ext cx="7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99ff"/>
                </a:solidFill>
                <a:latin typeface="方正兰亭黑_GBK"/>
                <a:ea typeface="宋体"/>
              </a:rPr>
              <a:t>Service E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36"/>
          <p:cNvSpPr/>
          <p:nvPr/>
        </p:nvSpPr>
        <p:spPr>
          <a:xfrm>
            <a:off x="6454800" y="5321160"/>
            <a:ext cx="776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8d8d8"/>
                </a:solidFill>
                <a:latin typeface="方正兰亭黑_GBK"/>
                <a:ea typeface="宋体"/>
              </a:rPr>
              <a:t>Service N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37"/>
          <p:cNvSpPr/>
          <p:nvPr/>
        </p:nvSpPr>
        <p:spPr>
          <a:xfrm>
            <a:off x="6431040" y="2305080"/>
            <a:ext cx="8301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ccff"/>
                </a:solidFill>
                <a:latin typeface="方正兰亭黑_GBK"/>
                <a:ea typeface="宋体"/>
              </a:rPr>
              <a:t>Service Thirte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38"/>
          <p:cNvSpPr/>
          <p:nvPr/>
        </p:nvSpPr>
        <p:spPr>
          <a:xfrm>
            <a:off x="7459560" y="2311560"/>
            <a:ext cx="77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c0c0c"/>
                </a:solidFill>
                <a:latin typeface="方正兰亭黑_GBK"/>
                <a:ea typeface="宋体"/>
              </a:rPr>
              <a:t>Service Twel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39"/>
          <p:cNvSpPr/>
          <p:nvPr/>
        </p:nvSpPr>
        <p:spPr>
          <a:xfrm>
            <a:off x="7467480" y="3279600"/>
            <a:ext cx="78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95959"/>
                </a:solidFill>
                <a:latin typeface="方正兰亭黑_GBK"/>
                <a:ea typeface="宋体"/>
              </a:rPr>
              <a:t>Service Elev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40"/>
          <p:cNvSpPr/>
          <p:nvPr/>
        </p:nvSpPr>
        <p:spPr>
          <a:xfrm>
            <a:off x="7459560" y="4297320"/>
            <a:ext cx="77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方正兰亭黑_GBK"/>
                <a:ea typeface="宋体"/>
              </a:rPr>
              <a:t>Service T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5" descr="01_Main-Background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0" y="1590840"/>
            <a:ext cx="3384720" cy="731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7"/>
          <p:cNvSpPr/>
          <p:nvPr/>
        </p:nvSpPr>
        <p:spPr>
          <a:xfrm>
            <a:off x="533520" y="1650960"/>
            <a:ext cx="2698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方正兰亭黑_GBK"/>
                <a:ea typeface="宋体"/>
              </a:rPr>
              <a:t>GRAPHIC CH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1"/>
          <p:cNvSpPr/>
          <p:nvPr/>
        </p:nvSpPr>
        <p:spPr>
          <a:xfrm>
            <a:off x="3444840" y="1590840"/>
            <a:ext cx="1050840" cy="7315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22"/>
          <p:cNvSpPr/>
          <p:nvPr/>
        </p:nvSpPr>
        <p:spPr>
          <a:xfrm>
            <a:off x="1066680" y="2382840"/>
            <a:ext cx="3429000" cy="2763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42"/>
          <p:cNvSpPr/>
          <p:nvPr/>
        </p:nvSpPr>
        <p:spPr>
          <a:xfrm>
            <a:off x="1187280" y="2454120"/>
            <a:ext cx="3232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About This Graphic Ch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0"/>
          <p:cNvSpPr/>
          <p:nvPr/>
        </p:nvSpPr>
        <p:spPr>
          <a:xfrm>
            <a:off x="4730760" y="1952640"/>
            <a:ext cx="235080" cy="31939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3"/>
          <p:cNvSpPr/>
          <p:nvPr/>
        </p:nvSpPr>
        <p:spPr>
          <a:xfrm>
            <a:off x="4495680" y="4079880"/>
            <a:ext cx="235080" cy="1066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4"/>
          <p:cNvSpPr/>
          <p:nvPr/>
        </p:nvSpPr>
        <p:spPr>
          <a:xfrm>
            <a:off x="4965840" y="3013200"/>
            <a:ext cx="23652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3"/>
          <p:cNvSpPr/>
          <p:nvPr/>
        </p:nvSpPr>
        <p:spPr>
          <a:xfrm>
            <a:off x="5600880" y="3013200"/>
            <a:ext cx="234720" cy="2133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4"/>
          <p:cNvSpPr/>
          <p:nvPr/>
        </p:nvSpPr>
        <p:spPr>
          <a:xfrm>
            <a:off x="5365800" y="4435560"/>
            <a:ext cx="235080" cy="711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5"/>
          <p:cNvSpPr/>
          <p:nvPr/>
        </p:nvSpPr>
        <p:spPr>
          <a:xfrm>
            <a:off x="5835600" y="3368520"/>
            <a:ext cx="236520" cy="177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7"/>
          <p:cNvSpPr/>
          <p:nvPr/>
        </p:nvSpPr>
        <p:spPr>
          <a:xfrm>
            <a:off x="6496200" y="1590840"/>
            <a:ext cx="234720" cy="3555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8"/>
          <p:cNvSpPr/>
          <p:nvPr/>
        </p:nvSpPr>
        <p:spPr>
          <a:xfrm>
            <a:off x="6261120" y="3724200"/>
            <a:ext cx="235080" cy="14223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9"/>
          <p:cNvSpPr/>
          <p:nvPr/>
        </p:nvSpPr>
        <p:spPr>
          <a:xfrm>
            <a:off x="6730920" y="2649600"/>
            <a:ext cx="235080" cy="249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41"/>
          <p:cNvSpPr/>
          <p:nvPr/>
        </p:nvSpPr>
        <p:spPr>
          <a:xfrm>
            <a:off x="7377120" y="3368520"/>
            <a:ext cx="236520" cy="17780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43"/>
          <p:cNvSpPr/>
          <p:nvPr/>
        </p:nvSpPr>
        <p:spPr>
          <a:xfrm>
            <a:off x="7142040" y="4079880"/>
            <a:ext cx="236520" cy="1066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4"/>
          <p:cNvSpPr/>
          <p:nvPr/>
        </p:nvSpPr>
        <p:spPr>
          <a:xfrm>
            <a:off x="7613640" y="4435560"/>
            <a:ext cx="235080" cy="71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21"/>
          <p:cNvGrpSpPr/>
          <p:nvPr/>
        </p:nvGrpSpPr>
        <p:grpSpPr>
          <a:xfrm>
            <a:off x="4495680" y="1590840"/>
            <a:ext cx="3353040" cy="3555720"/>
            <a:chOff x="4495680" y="1590840"/>
            <a:chExt cx="3353040" cy="3555720"/>
          </a:xfrm>
        </p:grpSpPr>
        <p:sp>
          <p:nvSpPr>
            <p:cNvPr id="624" name="Straight Connector 49"/>
            <p:cNvSpPr/>
            <p:nvPr/>
          </p:nvSpPr>
          <p:spPr>
            <a:xfrm>
              <a:off x="4495680" y="15908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Straight Connector 53"/>
            <p:cNvSpPr/>
            <p:nvPr/>
          </p:nvSpPr>
          <p:spPr>
            <a:xfrm>
              <a:off x="4495680" y="19486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Straight Connector 55"/>
            <p:cNvSpPr/>
            <p:nvPr/>
          </p:nvSpPr>
          <p:spPr>
            <a:xfrm>
              <a:off x="4495680" y="23014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Straight Connector 57"/>
            <p:cNvSpPr/>
            <p:nvPr/>
          </p:nvSpPr>
          <p:spPr>
            <a:xfrm>
              <a:off x="4495680" y="265896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Straight Connector 58"/>
            <p:cNvSpPr/>
            <p:nvPr/>
          </p:nvSpPr>
          <p:spPr>
            <a:xfrm>
              <a:off x="4495680" y="301212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Straight Connector 60"/>
            <p:cNvSpPr/>
            <p:nvPr/>
          </p:nvSpPr>
          <p:spPr>
            <a:xfrm>
              <a:off x="4495680" y="336960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Straight Connector 61"/>
            <p:cNvSpPr/>
            <p:nvPr/>
          </p:nvSpPr>
          <p:spPr>
            <a:xfrm>
              <a:off x="4495680" y="372276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Straight Connector 62"/>
            <p:cNvSpPr/>
            <p:nvPr/>
          </p:nvSpPr>
          <p:spPr>
            <a:xfrm>
              <a:off x="4495680" y="40802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Straight Connector 63"/>
            <p:cNvSpPr/>
            <p:nvPr/>
          </p:nvSpPr>
          <p:spPr>
            <a:xfrm>
              <a:off x="4495680" y="443304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Straight Connector 65"/>
            <p:cNvSpPr/>
            <p:nvPr/>
          </p:nvSpPr>
          <p:spPr>
            <a:xfrm>
              <a:off x="4495680" y="47908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Straight Connector 66"/>
            <p:cNvSpPr/>
            <p:nvPr/>
          </p:nvSpPr>
          <p:spPr>
            <a:xfrm>
              <a:off x="4495680" y="5143680"/>
              <a:ext cx="3353040" cy="2880"/>
            </a:xfrm>
            <a:prstGeom prst="line">
              <a:avLst/>
            </a:prstGeom>
            <a:ln w="324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Box 68"/>
          <p:cNvSpPr/>
          <p:nvPr/>
        </p:nvSpPr>
        <p:spPr>
          <a:xfrm>
            <a:off x="7861320" y="1476360"/>
            <a:ext cx="444600" cy="36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方正兰亭黑_GBK"/>
                <a:ea typeface="宋体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74"/>
          <p:cNvSpPr/>
          <p:nvPr/>
        </p:nvSpPr>
        <p:spPr>
          <a:xfrm>
            <a:off x="4438800" y="382572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  <a:ea typeface="宋体"/>
              </a:rPr>
              <a:t>3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75"/>
          <p:cNvSpPr/>
          <p:nvPr/>
        </p:nvSpPr>
        <p:spPr>
          <a:xfrm>
            <a:off x="4667400" y="166680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9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76"/>
          <p:cNvSpPr/>
          <p:nvPr/>
        </p:nvSpPr>
        <p:spPr>
          <a:xfrm>
            <a:off x="4902120" y="27511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7"/>
          <p:cNvSpPr/>
          <p:nvPr/>
        </p:nvSpPr>
        <p:spPr>
          <a:xfrm>
            <a:off x="5302080" y="4148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  <a:ea typeface="宋体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78"/>
          <p:cNvSpPr/>
          <p:nvPr/>
        </p:nvSpPr>
        <p:spPr>
          <a:xfrm>
            <a:off x="5530680" y="27511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79"/>
          <p:cNvSpPr/>
          <p:nvPr/>
        </p:nvSpPr>
        <p:spPr>
          <a:xfrm>
            <a:off x="5784840" y="308916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80"/>
          <p:cNvSpPr/>
          <p:nvPr/>
        </p:nvSpPr>
        <p:spPr>
          <a:xfrm>
            <a:off x="6191280" y="3436920"/>
            <a:ext cx="3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  <a:ea typeface="宋体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1"/>
          <p:cNvSpPr/>
          <p:nvPr/>
        </p:nvSpPr>
        <p:spPr>
          <a:xfrm>
            <a:off x="6375240" y="1295280"/>
            <a:ext cx="47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82"/>
          <p:cNvSpPr/>
          <p:nvPr/>
        </p:nvSpPr>
        <p:spPr>
          <a:xfrm>
            <a:off x="6680160" y="23526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7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83"/>
          <p:cNvSpPr/>
          <p:nvPr/>
        </p:nvSpPr>
        <p:spPr>
          <a:xfrm>
            <a:off x="7067520" y="3800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方正兰亭黑_GBK"/>
                <a:ea typeface="宋体"/>
              </a:rPr>
              <a:t>3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84"/>
          <p:cNvSpPr/>
          <p:nvPr/>
        </p:nvSpPr>
        <p:spPr>
          <a:xfrm>
            <a:off x="7251840" y="3114720"/>
            <a:ext cx="46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85"/>
          <p:cNvSpPr/>
          <p:nvPr/>
        </p:nvSpPr>
        <p:spPr>
          <a:xfrm>
            <a:off x="7556400" y="41482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6"/>
          <p:cNvSpPr/>
          <p:nvPr/>
        </p:nvSpPr>
        <p:spPr>
          <a:xfrm>
            <a:off x="4495680" y="5689440"/>
            <a:ext cx="182520" cy="243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7"/>
          <p:cNvSpPr/>
          <p:nvPr/>
        </p:nvSpPr>
        <p:spPr>
          <a:xfrm>
            <a:off x="5638680" y="5689440"/>
            <a:ext cx="182520" cy="24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88"/>
          <p:cNvSpPr/>
          <p:nvPr/>
        </p:nvSpPr>
        <p:spPr>
          <a:xfrm>
            <a:off x="6753240" y="5689440"/>
            <a:ext cx="182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91"/>
          <p:cNvSpPr/>
          <p:nvPr/>
        </p:nvSpPr>
        <p:spPr>
          <a:xfrm>
            <a:off x="466740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95959"/>
                </a:solidFill>
                <a:latin typeface="方正兰亭黑_GBK"/>
                <a:ea typeface="宋体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92"/>
          <p:cNvSpPr/>
          <p:nvPr/>
        </p:nvSpPr>
        <p:spPr>
          <a:xfrm>
            <a:off x="581652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9ff"/>
                </a:solidFill>
                <a:latin typeface="方正兰亭黑_GBK"/>
                <a:ea typeface="宋体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ff"/>
                </a:solidFill>
                <a:latin typeface="方正兰亭黑_GBK"/>
                <a:ea typeface="宋体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93"/>
          <p:cNvSpPr/>
          <p:nvPr/>
        </p:nvSpPr>
        <p:spPr>
          <a:xfrm>
            <a:off x="6927840" y="5616720"/>
            <a:ext cx="89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方正兰亭黑_GBK"/>
                <a:ea typeface="宋体"/>
              </a:rPr>
              <a:t>Ash color mean this and description for this and thi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94"/>
          <p:cNvSpPr/>
          <p:nvPr/>
        </p:nvSpPr>
        <p:spPr>
          <a:xfrm>
            <a:off x="4413240" y="5156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95"/>
          <p:cNvSpPr/>
          <p:nvPr/>
        </p:nvSpPr>
        <p:spPr>
          <a:xfrm>
            <a:off x="5302080" y="5156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96"/>
          <p:cNvSpPr/>
          <p:nvPr/>
        </p:nvSpPr>
        <p:spPr>
          <a:xfrm>
            <a:off x="6197760" y="5156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97"/>
          <p:cNvSpPr/>
          <p:nvPr/>
        </p:nvSpPr>
        <p:spPr>
          <a:xfrm>
            <a:off x="7067520" y="51735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兰亭黑_GBK"/>
                <a:ea typeface="宋体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98"/>
          <p:cNvSpPr/>
          <p:nvPr/>
        </p:nvSpPr>
        <p:spPr>
          <a:xfrm>
            <a:off x="1187280" y="3173400"/>
            <a:ext cx="14796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99"/>
          <p:cNvSpPr/>
          <p:nvPr/>
        </p:nvSpPr>
        <p:spPr>
          <a:xfrm>
            <a:off x="1187280" y="4103640"/>
            <a:ext cx="147960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00"/>
          <p:cNvSpPr/>
          <p:nvPr/>
        </p:nvSpPr>
        <p:spPr>
          <a:xfrm>
            <a:off x="2857680" y="3173400"/>
            <a:ext cx="147924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01"/>
          <p:cNvSpPr/>
          <p:nvPr/>
        </p:nvSpPr>
        <p:spPr>
          <a:xfrm>
            <a:off x="2857680" y="4103640"/>
            <a:ext cx="147924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方正兰亭黑_GBK"/>
                <a:ea typeface="宋体"/>
              </a:rPr>
              <a:t>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方正兰亭黑_GBK"/>
                <a:ea typeface="宋体"/>
              </a:rPr>
              <a:t>Some text about SKILLS related goes here Some text about. Some text about SKILLS related goes here Some text about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矩形 2"/>
          <p:cNvSpPr/>
          <p:nvPr/>
        </p:nvSpPr>
        <p:spPr>
          <a:xfrm>
            <a:off x="2971080" y="3259080"/>
            <a:ext cx="3558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方正兰亭黑_GBK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方正兰亭黑_GBK"/>
                <a:ea typeface="宋体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方正兰亭黑_GBK"/>
                <a:ea typeface="宋体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方正兰亭黑_GBK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5" descr="01_Main-Background.jpg"/>
          <p:cNvPicPr/>
          <p:nvPr/>
        </p:nvPicPr>
        <p:blipFill>
          <a:blip r:embed="rId2"/>
          <a:stretch/>
        </p:blipFill>
        <p:spPr>
          <a:xfrm>
            <a:off x="3240" y="144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664" name="TextBox 7"/>
          <p:cNvSpPr/>
          <p:nvPr/>
        </p:nvSpPr>
        <p:spPr>
          <a:xfrm>
            <a:off x="4363920" y="3632040"/>
            <a:ext cx="295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ff"/>
                </a:solidFill>
                <a:latin typeface="方正兰亭黑_GBK"/>
                <a:ea typeface="宋体"/>
              </a:rPr>
              <a:t>THANK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0"/>
          <p:cNvSpPr/>
          <p:nvPr/>
        </p:nvSpPr>
        <p:spPr>
          <a:xfrm>
            <a:off x="4091040" y="42609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_GBK"/>
                <a:ea typeface="宋体"/>
              </a:rPr>
              <a:t>For Your Potential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7315200" y="3840120"/>
            <a:ext cx="1828800" cy="91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1752480" y="4819680"/>
            <a:ext cx="5467320" cy="914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9"/>
          <p:cNvSpPr/>
          <p:nvPr/>
        </p:nvSpPr>
        <p:spPr>
          <a:xfrm>
            <a:off x="0" y="4819680"/>
            <a:ext cx="1701720" cy="914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250" autoRev="1" fill="hold"/>
                                        <p:tgtEl>
                                          <p:spTgt spid="6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7" dur="250" autoRev="1" fill="hold"/>
                                        <p:tgtEl>
                                          <p:spTgt spid="6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23:44:00Z</dcterms:created>
  <dc:creator>Abdur Razzak</dc:creator>
  <dc:description/>
  <cp:keywords/>
  <dc:language>en-US</dc:language>
  <cp:lastModifiedBy>BST-WLZ</cp:lastModifiedBy>
  <dcterms:modified xsi:type="dcterms:W3CDTF">2015-05-14T06:33:12Z</dcterms:modified>
  <cp:revision>367</cp:revision>
  <dc:subject/>
  <dc:title>Slide 2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