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E3E-818D-4018-9F08-7FD871EF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A6F-4F14-4E43-B2DB-404E6B1C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2C4C4-2148-4B14-A62C-05642976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70106-4088-4CFC-A9E4-01EAEB6C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D2DB5-03DF-4F6E-A8DC-1C9A810A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AC208-482D-49BB-8890-CF097948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B6303-C1E7-4BE1-89D5-0A4FA62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2AE52-9A4D-49B1-988C-A8C71DA2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204B1-913A-45D7-8090-F7C1C116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D673D-D3AA-4638-AD4B-85597619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5C5BE-2851-4202-9D2D-A51AA766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03781-F0A9-4F3F-95D9-1BE857FC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2B2-0ECB-48B4-81FC-46F3AFA1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EAE95-9942-467C-A254-B3EB83A3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0318E-6A99-4064-A031-A25D27D1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A8D1A-E3D0-415E-955C-AA178DEB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56FB9-A5DA-4267-82FB-7A20059C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42379-E423-49B8-A809-BC55067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1FDDC-7ED7-4BC5-9BD8-E48F531B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80CF2-B817-4937-B80F-DC3F33EC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8800E-E5B6-43E7-87EB-5FFEB51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0D50F-30AE-4C03-B38A-F59BDEB1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08C82-678D-42BB-B213-9C906693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111-8570-4740-B974-F53E09FE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0E9A5-3C82-4A67-8830-82B00177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B6BAC-4D3E-4933-8D2A-4652B08C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52C1E-5FA5-4AFE-8B3F-A183A038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48B83-6FB1-4D86-AFD7-558183FC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55E28-3962-492C-B147-ACBFC552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9FFEC-D294-4513-9EF7-1D47755E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3196A-043E-454B-9451-D9D2B691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0A0F3-F1C1-4283-97EA-4CFBE46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ED66F-A31E-4AE9-84DF-19ED0ABC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4322D-23B1-492A-B6B4-B20779AA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6C1B-48A1-4792-83CE-84150AE6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E9BC-B905-4B40-BC69-DEE33CC6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852D-7133-4F7A-A966-9DB16870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CC17C-E1DD-45DA-AAD8-44572F7A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3282B-FD93-4D9A-A37A-880EC57F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E16F1-654C-4193-8D64-823B6BEE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6C730-3D26-40C0-979D-44E4A16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D9C9A-560D-4674-8D8F-05F415B6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DBD1B-AF0A-41CF-8B75-5F60CBEA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695A6-56AC-4CA7-B237-78317EE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F5276-0B75-4032-8C30-10726A2B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2422-1411-464E-9740-44615F1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6C713-E435-41A2-877B-6E9ABDC2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8027B-ECC2-4E28-B285-43DB713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A4CB0-CD09-4DA1-B2B6-66233E14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8057C-2862-4C4A-A2BD-CF69C7D4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72C7F-E277-4DDF-90DD-C0E134EB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238-81FA-4511-9183-2B1F297E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B5C-EB31-4682-89DB-644851A5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9BDA-8143-48EA-AEEA-897D0A22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7C5E-6110-4AC2-9647-64618997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F50-62B6-485A-AEDE-819BEE9F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288C-8914-4A9C-AF07-B7E36C05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E085-AB9A-4141-9E7E-8D40A8C0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23EB-6E07-4E67-9DD5-C686B0E0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095E-456D-4C71-B44C-5E33863F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6206-6C25-423D-ADE3-14A1DF5E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7D10-9106-491F-B803-FDD07F41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5F6E-E828-4500-8792-FBAFD06A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2BD6-54FE-4722-AD3A-71503B6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905B-A54E-4EE7-BC27-6386336D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F0579-D1B7-4223-8F3B-C548F749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D237-1B1B-4D36-AB9E-224608A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6FD-6868-45E6-80F8-1D70E46D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A01F6-BC2F-48F8-B7C5-C010C3C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7278F-E2F9-47A3-A2E1-A1BBAB81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F116-247A-4C3A-8FFE-9CD30458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7DE0E-4D02-4AB6-B2D8-CE54A655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1875D-AA7C-4F6C-8914-2C66AADD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B743D-A604-482D-BDFA-E11E41AF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537C-7931-4AE8-815A-B09D1AFA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90BC-84E0-4473-B9BF-742F9C59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D6CC8-1DFB-4399-A0F9-E8851B53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CCD3B-54C8-4D7A-B1A5-08A1976F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8DB-B133-4AB7-9EFC-777E9FDB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5F8E4-895F-462A-9509-BD319BB1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86D95-F8B1-4FDB-A321-CE92CCD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F1020-0025-43AD-99EF-933214BB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9A11-38B9-4ECF-B121-C3BAAF46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B974-4942-4F18-9440-43AEA561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1D9E4-D72B-4C58-8A01-0A5B069E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68EA-B827-475A-96B6-99F2F424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125E-13A5-4E8E-B9E9-D0E0DF2C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B79E-FA3B-415F-96D0-A2A3A747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6845-5FDE-4660-8DBB-19066D8B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AAB-210F-47BF-9F23-13EDD3C0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51FD-7F73-462C-BC77-1386932B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90701-8450-485D-9C90-E191C51C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84CC6-F22F-4F0C-BEEB-C21646A6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8EF8-8E84-4678-9771-86761F59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9B064-313E-4F13-9ED3-159A7CF0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68A0-AE84-4E7B-8E88-0E8C97C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7331F-2E7C-4EF3-BA63-49533C05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A8B4-938C-489B-8B60-80B9B77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382A7-565A-45F2-81EC-755D0F4E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64889-8B00-4DF6-9219-7C7940C3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559-1C24-46FB-81CC-FADE3DEA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6107A-D26E-4D9E-B7DF-9F1DBFAA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2D15A-CA18-47DA-A179-B001CBCA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32AE-F0C0-4E51-97E9-02CAC26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E356B-A47B-4353-92E1-C9DE5E7C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BC94-71D0-4187-85D4-B280763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256E1-ECB4-4A25-898D-946EFDAD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7CEE9-EEDB-46ED-A945-9A261A67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2F02-C971-4297-8EE6-7A7FF652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73C38-8824-4A81-8310-31B28BC2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A462-A4D9-4B1C-A83C-F897E18B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420-F81B-45D4-95D4-7D17AB7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2F857-DE77-424B-AB08-B6A79D70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8FD6-099C-4BEC-8C62-0C61D6CD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390BF-EF55-4B03-AE93-FA262CBB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3824B-E6C4-487B-AC14-E04CED4D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295FA-F834-4D8C-B498-72C66CFF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5309-E36C-49E4-A2E3-00932464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52F14-FAC2-4C02-9D5E-D75DC88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49CDF-8E35-4FE8-B57C-2E525F3E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310B7-E265-481E-8390-7EC33C0D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481E8-BB90-4369-A1C6-BF647DE8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CCC-B308-4029-AF24-AD9C757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DE24A-0ED9-4ADF-BFB7-26A0668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5FE3-2976-41F0-B8EF-6429D3C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8028-BF0B-4F5B-A85B-D73AE88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1FE1B-ADC6-4C70-AD93-E01134B9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FD27-E4E2-4EC8-89AB-A58A961E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FF5D0-2352-4846-99EC-96B2FF7A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F9D33-86AC-415D-847A-8A4945AF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16365-3144-43CA-BBFA-3E8A14FC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2F27C-C350-4A86-AA0B-D6536C1D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0D22-75EF-46E9-8050-DDE52929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6AF-6703-4D65-AA42-80F56F0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24C38-3351-439A-BF51-D3D5922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3C471-8C51-470F-BAF9-B7AE7B0F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CECD9-82DD-4DC8-96E8-0E1D99D0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39DF1-0ED2-471A-AA95-746B07F0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E7741-0341-4B1C-8A06-99F79CB9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978A5-83D0-4CE4-9370-9DEC8E3B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44CA9-16FE-40A7-B1DE-6E2DED02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FBEEF-8087-4339-A9E5-7FA9233E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95838-E8FE-4854-A674-5CF6864F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0E6FF-969C-4A42-84A6-D8647F17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5403-705A-424C-9FBF-FFD26B02A2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4C1-E717-443D-AB37-8092408E2A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C87A-25B7-4D8B-9A89-D27892AFFEC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9BC9-5B35-4745-A40F-90E645549B1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98EE-FCA3-4E9B-9FE8-D51A857BAA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369F-6270-4C9F-B3A5-1ADEDBCFBA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D20-57F7-4A6F-9D81-1DD7AF23EB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993F-ED96-4CDD-BD66-7228B04394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176-0365-4842-BB0C-8AFEAE4344A0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DCB6-F2E7-46BC-916C-FADE25CC8024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5C77-B5D4-44EC-BFE3-66B9A0035B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F71F-E13D-4B4B-80C5-CC54EBAC8A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2BEF-EE38-4C5B-BCC0-3475C59CE9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6A9B-5E49-4A92-B976-E8381C851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9683-77F4-48F1-8D48-B6DE24D0304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818-CB67-4D2B-A133-A0ADA3BE59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669-92C4-4D12-B987-7DCC500C03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7CA-295C-40F7-AA42-D01AF03CFC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ED62-497A-48AB-953F-18EB905F0DF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8114-F809-40DC-B95C-29F5351F38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C18-FBDB-4C15-81A5-9935F54A70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8086-AE32-4D5E-BCD0-7347B5C615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210-071E-437F-A373-DE0FB125D5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9CA0-AA9C-4C9B-B39C-4D7AEA2450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daxue101.100get.c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  <a:ea typeface="宋体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  <a:ea typeface="宋体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  <a:ea typeface="宋体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-91296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玩转大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 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  <a:ea typeface="宋体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  <a:ea typeface="宋体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  <a:ea typeface="宋体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  <a:ea typeface="宋体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cp:keywords/>
  <dc:language>en-US</dc:language>
  <cp:lastModifiedBy>BST-WLZ</cp:lastModifiedBy>
  <dcterms:modified xsi:type="dcterms:W3CDTF">2015-05-14T06:33:12Z</dcterms:modified>
  <cp:revision>367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