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379B-117F-42FD-A6FD-EADF26404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E925-F3D4-45B6-B5ED-59C88187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7DDD-929A-48E3-9129-DB7803BC4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D0B5-DED1-469D-9636-8897FF699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8E52-7BF8-4887-ACC4-8095DA8C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88F5-8733-41C2-8D58-1FB3CC7C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4E71-BFF3-44E9-99BA-483C8FCE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AAAC-7349-460B-97F2-95C328DA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C991-C076-4719-A5C7-90C384BE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FF5B-89F9-462B-8186-A26C8581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D7DA-8F54-47C0-8B2D-81E60C53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A22A-FFB4-4652-BDB7-FF808D76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665F-3D78-48C1-B861-33AE993E48F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星空7"/>
          <p:cNvPicPr/>
          <p:nvPr/>
        </p:nvPicPr>
        <p:blipFill>
          <a:blip r:embed="rId1"/>
          <a:stretch/>
        </p:blipFill>
        <p:spPr>
          <a:xfrm>
            <a:off x="0" y="-1116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等腰三角形 8"/>
          <p:cNvSpPr/>
          <p:nvPr/>
        </p:nvSpPr>
        <p:spPr>
          <a:xfrm rot="16200000">
            <a:off x="3423240" y="3683160"/>
            <a:ext cx="839880" cy="6796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等腰三角形 3"/>
          <p:cNvSpPr/>
          <p:nvPr/>
        </p:nvSpPr>
        <p:spPr>
          <a:xfrm rot="10800000">
            <a:off x="1351080" y="2059920"/>
            <a:ext cx="3071520" cy="26478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"/>
          <p:cNvSpPr/>
          <p:nvPr/>
        </p:nvSpPr>
        <p:spPr>
          <a:xfrm>
            <a:off x="1271520" y="2467080"/>
            <a:ext cx="3672000" cy="13129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Arial"/>
              </a:rPr>
              <a:t>POWERPOINT</a:t>
            </a:r>
            <a:r>
              <a:rPr b="1" lang="zh-CN" sz="4000" spc="-1" strike="noStrike">
                <a:solidFill>
                  <a:srgbClr val="f2f2f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2f2f2"/>
                </a:solidFill>
                <a:latin typeface="Arial"/>
              </a:rPr>
              <a:t>TEMP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4"/>
          <p:cNvSpPr/>
          <p:nvPr/>
        </p:nvSpPr>
        <p:spPr>
          <a:xfrm>
            <a:off x="515880" y="5322960"/>
            <a:ext cx="518472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3095640" y="4513320"/>
            <a:ext cx="100656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SPEAKER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5"/>
          <p:cNvSpPr/>
          <p:nvPr/>
        </p:nvSpPr>
        <p:spPr>
          <a:xfrm>
            <a:off x="1060560" y="6012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6089760" y="21337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Arial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7"/>
          <p:cNvSpPr/>
          <p:nvPr/>
        </p:nvSpPr>
        <p:spPr>
          <a:xfrm>
            <a:off x="6959520" y="3024360"/>
            <a:ext cx="47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"/>
          <p:cNvSpPr/>
          <p:nvPr/>
        </p:nvSpPr>
        <p:spPr>
          <a:xfrm>
            <a:off x="1865160" y="2301840"/>
            <a:ext cx="360360" cy="244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3"/>
          <p:cNvSpPr/>
          <p:nvPr/>
        </p:nvSpPr>
        <p:spPr>
          <a:xfrm>
            <a:off x="1631880" y="4778280"/>
            <a:ext cx="3456000" cy="0"/>
          </a:xfrm>
          <a:prstGeom prst="line">
            <a:avLst/>
          </a:prstGeom>
          <a:ln w="64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6"/>
          <p:cNvSpPr/>
          <p:nvPr/>
        </p:nvSpPr>
        <p:spPr>
          <a:xfrm>
            <a:off x="2960640" y="2921040"/>
            <a:ext cx="327240" cy="1851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37"/>
          <p:cNvSpPr/>
          <p:nvPr/>
        </p:nvSpPr>
        <p:spPr>
          <a:xfrm>
            <a:off x="3852720" y="3525840"/>
            <a:ext cx="298440" cy="1230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"/>
          <p:cNvSpPr/>
          <p:nvPr/>
        </p:nvSpPr>
        <p:spPr>
          <a:xfrm>
            <a:off x="1871640" y="4849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38"/>
          <p:cNvSpPr/>
          <p:nvPr/>
        </p:nvSpPr>
        <p:spPr>
          <a:xfrm>
            <a:off x="2961720" y="4805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39"/>
          <p:cNvSpPr/>
          <p:nvPr/>
        </p:nvSpPr>
        <p:spPr>
          <a:xfrm>
            <a:off x="3866760" y="4818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8"/>
          <p:cNvSpPr/>
          <p:nvPr/>
        </p:nvSpPr>
        <p:spPr>
          <a:xfrm>
            <a:off x="6089760" y="2060640"/>
            <a:ext cx="6102360" cy="3386160"/>
          </a:xfrm>
          <a:prstGeom prst="rect">
            <a:avLst/>
          </a:prstGeom>
          <a:solidFill>
            <a:srgbClr val="2626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25"/>
          <p:cNvSpPr/>
          <p:nvPr/>
        </p:nvSpPr>
        <p:spPr>
          <a:xfrm>
            <a:off x="1060560" y="6012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6288120" y="23544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Arial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7"/>
          <p:cNvSpPr/>
          <p:nvPr/>
        </p:nvSpPr>
        <p:spPr>
          <a:xfrm>
            <a:off x="6959520" y="3024360"/>
            <a:ext cx="47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7" descr=""/>
          <p:cNvPicPr/>
          <p:nvPr/>
        </p:nvPicPr>
        <p:blipFill>
          <a:blip r:embed="rId1"/>
          <a:stretch/>
        </p:blipFill>
        <p:spPr>
          <a:xfrm>
            <a:off x="20520" y="2060640"/>
            <a:ext cx="6069240" cy="3386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星空7"/>
          <p:cNvPicPr/>
          <p:nvPr/>
        </p:nvPicPr>
        <p:blipFill>
          <a:blip r:embed="rId1"/>
          <a:stretch/>
        </p:blipFill>
        <p:spPr>
          <a:xfrm>
            <a:off x="0" y="-1116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159" name="矩形 1"/>
          <p:cNvSpPr/>
          <p:nvPr/>
        </p:nvSpPr>
        <p:spPr>
          <a:xfrm>
            <a:off x="766800" y="3429000"/>
            <a:ext cx="5113440" cy="100836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2f2f2"/>
                </a:solidFill>
                <a:latin typeface="Arial"/>
              </a:rPr>
              <a:t>THANK YOU</a:t>
            </a:r>
            <a:r>
              <a:rPr b="1" lang="zh-CN" sz="6000" spc="-1" strike="noStrike">
                <a:solidFill>
                  <a:srgbClr val="f2f2f2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985680" y="5153040"/>
            <a:ext cx="51832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5"/>
          <p:cNvSpPr/>
          <p:nvPr/>
        </p:nvSpPr>
        <p:spPr>
          <a:xfrm>
            <a:off x="982800" y="4444920"/>
            <a:ext cx="100800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SPEAKER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星空1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矩形 7"/>
          <p:cNvSpPr/>
          <p:nvPr/>
        </p:nvSpPr>
        <p:spPr>
          <a:xfrm>
            <a:off x="0" y="1197000"/>
            <a:ext cx="10775880" cy="4753080"/>
          </a:xfrm>
          <a:prstGeom prst="rect">
            <a:avLst/>
          </a:prstGeom>
          <a:solidFill>
            <a:srgbClr val="2626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等腰三角形 10"/>
          <p:cNvSpPr/>
          <p:nvPr/>
        </p:nvSpPr>
        <p:spPr>
          <a:xfrm rot="16200000">
            <a:off x="174708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等腰三角形 11"/>
          <p:cNvSpPr/>
          <p:nvPr/>
        </p:nvSpPr>
        <p:spPr>
          <a:xfrm rot="10800000">
            <a:off x="880560" y="619920"/>
            <a:ext cx="1357560" cy="11718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479520" y="944640"/>
            <a:ext cx="2160360" cy="52056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3"/>
          <p:cNvSpPr/>
          <p:nvPr/>
        </p:nvSpPr>
        <p:spPr>
          <a:xfrm>
            <a:off x="5303880" y="234936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4"/>
          <p:cNvSpPr/>
          <p:nvPr/>
        </p:nvSpPr>
        <p:spPr>
          <a:xfrm>
            <a:off x="5303880" y="3179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5"/>
          <p:cNvSpPr/>
          <p:nvPr/>
        </p:nvSpPr>
        <p:spPr>
          <a:xfrm>
            <a:off x="5303880" y="40132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6"/>
          <p:cNvSpPr/>
          <p:nvPr/>
        </p:nvSpPr>
        <p:spPr>
          <a:xfrm>
            <a:off x="5303880" y="47592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19"/>
          <p:cNvSpPr/>
          <p:nvPr/>
        </p:nvSpPr>
        <p:spPr>
          <a:xfrm rot="16200000">
            <a:off x="4896720" y="334692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20"/>
          <p:cNvSpPr/>
          <p:nvPr/>
        </p:nvSpPr>
        <p:spPr>
          <a:xfrm rot="16200000">
            <a:off x="4896720" y="253872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等腰三角形 21"/>
          <p:cNvSpPr/>
          <p:nvPr/>
        </p:nvSpPr>
        <p:spPr>
          <a:xfrm rot="16200000">
            <a:off x="4872600" y="4153320"/>
            <a:ext cx="344520" cy="250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等腰三角形 22"/>
          <p:cNvSpPr/>
          <p:nvPr/>
        </p:nvSpPr>
        <p:spPr>
          <a:xfrm rot="16200000">
            <a:off x="4896720" y="490248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星空5"/>
          <p:cNvPicPr/>
          <p:nvPr/>
        </p:nvPicPr>
        <p:blipFill>
          <a:blip r:embed="rId1"/>
          <a:stretch/>
        </p:blipFill>
        <p:spPr>
          <a:xfrm>
            <a:off x="-1764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等腰三角形 2"/>
          <p:cNvSpPr/>
          <p:nvPr/>
        </p:nvSpPr>
        <p:spPr>
          <a:xfrm rot="16200000">
            <a:off x="6270480" y="4694040"/>
            <a:ext cx="433440" cy="3510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等腰三角形 3"/>
          <p:cNvSpPr/>
          <p:nvPr/>
        </p:nvSpPr>
        <p:spPr>
          <a:xfrm rot="10800000">
            <a:off x="5448240" y="3933720"/>
            <a:ext cx="1357200" cy="11700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"/>
          <p:cNvSpPr/>
          <p:nvPr/>
        </p:nvSpPr>
        <p:spPr>
          <a:xfrm>
            <a:off x="5159520" y="4257720"/>
            <a:ext cx="2160360" cy="52056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PART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5"/>
          <p:cNvSpPr/>
          <p:nvPr/>
        </p:nvSpPr>
        <p:spPr>
          <a:xfrm>
            <a:off x="4424400" y="52657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蓝色地球"/>
          <p:cNvPicPr/>
          <p:nvPr/>
        </p:nvPicPr>
        <p:blipFill>
          <a:blip r:embed="rId1"/>
          <a:stretch/>
        </p:blipFill>
        <p:spPr>
          <a:xfrm>
            <a:off x="4680" y="-4680"/>
            <a:ext cx="12200040" cy="6862680"/>
          </a:xfrm>
          <a:prstGeom prst="rect">
            <a:avLst/>
          </a:prstGeom>
          <a:ln w="0">
            <a:noFill/>
          </a:ln>
        </p:spPr>
      </p:pic>
      <p:sp>
        <p:nvSpPr>
          <p:cNvPr id="66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23"/>
          <p:cNvSpPr/>
          <p:nvPr/>
        </p:nvSpPr>
        <p:spPr>
          <a:xfrm>
            <a:off x="22320" y="-4680"/>
            <a:ext cx="12182400" cy="6862680"/>
          </a:xfrm>
          <a:custGeom>
            <a:avLst/>
            <a:gdLst/>
            <a:ahLst/>
            <a:rect l="l" t="t" r="r" b="b"/>
            <a:pathLst>
              <a:path w="12182621" h="6862763">
                <a:moveTo>
                  <a:pt x="583791" y="1043690"/>
                </a:moveTo>
                <a:lnTo>
                  <a:pt x="0" y="1407557"/>
                </a:lnTo>
                <a:lnTo>
                  <a:pt x="0" y="1372553"/>
                </a:lnTo>
                <a:close/>
                <a:moveTo>
                  <a:pt x="7658981" y="0"/>
                </a:moveTo>
                <a:lnTo>
                  <a:pt x="12182621" y="0"/>
                </a:lnTo>
                <a:lnTo>
                  <a:pt x="12182621" y="6862763"/>
                </a:lnTo>
                <a:lnTo>
                  <a:pt x="0" y="6862763"/>
                </a:lnTo>
                <a:lnTo>
                  <a:pt x="0" y="4817744"/>
                </a:lnTo>
                <a:lnTo>
                  <a:pt x="7681989" y="29676"/>
                </a:lnTo>
                <a:close/>
              </a:path>
            </a:pathLst>
          </a:custGeom>
          <a:solidFill>
            <a:srgbClr val="262626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平行四边形 3"/>
          <p:cNvSpPr/>
          <p:nvPr/>
        </p:nvSpPr>
        <p:spPr>
          <a:xfrm rot="14109000">
            <a:off x="2715120" y="-2291760"/>
            <a:ext cx="1087560" cy="8531280"/>
          </a:xfrm>
          <a:custGeom>
            <a:avLst/>
            <a:gdLst/>
            <a:ahLst/>
            <a:rect l="l" t="t" r="r" b="b"/>
            <a:pathLst>
              <a:path w="1087319" h="8531283">
                <a:moveTo>
                  <a:pt x="0" y="8531283"/>
                </a:moveTo>
                <a:lnTo>
                  <a:pt x="176672" y="0"/>
                </a:lnTo>
                <a:lnTo>
                  <a:pt x="1087319" y="645604"/>
                </a:lnTo>
                <a:lnTo>
                  <a:pt x="869261" y="7345081"/>
                </a:lnTo>
                <a:lnTo>
                  <a:pt x="0" y="8531283"/>
                </a:lnTo>
                <a:close/>
              </a:path>
            </a:pathLst>
          </a:custGeom>
          <a:solidFill>
            <a:srgbClr val="262626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5"/>
          <p:cNvSpPr/>
          <p:nvPr/>
        </p:nvSpPr>
        <p:spPr>
          <a:xfrm>
            <a:off x="4656240" y="5967360"/>
            <a:ext cx="73389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"/>
          <p:cNvSpPr/>
          <p:nvPr/>
        </p:nvSpPr>
        <p:spPr>
          <a:xfrm>
            <a:off x="6105960" y="2092320"/>
            <a:ext cx="587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Arial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7"/>
          <p:cNvSpPr/>
          <p:nvPr/>
        </p:nvSpPr>
        <p:spPr>
          <a:xfrm>
            <a:off x="4079880" y="28764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8"/>
          <p:cNvSpPr/>
          <p:nvPr/>
        </p:nvSpPr>
        <p:spPr>
          <a:xfrm>
            <a:off x="4079880" y="416736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25"/>
          <p:cNvSpPr/>
          <p:nvPr/>
        </p:nvSpPr>
        <p:spPr>
          <a:xfrm>
            <a:off x="1060560" y="6012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>
            <a:off x="954000" y="223992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Arial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7"/>
          <p:cNvSpPr/>
          <p:nvPr/>
        </p:nvSpPr>
        <p:spPr>
          <a:xfrm>
            <a:off x="1060560" y="3421080"/>
            <a:ext cx="514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1" descr=""/>
          <p:cNvPicPr/>
          <p:nvPr/>
        </p:nvPicPr>
        <p:blipFill>
          <a:blip r:embed="rId1"/>
          <a:stretch/>
        </p:blipFill>
        <p:spPr>
          <a:xfrm>
            <a:off x="6789600" y="2282760"/>
            <a:ext cx="5402520" cy="3603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3"/>
          <p:cNvSpPr/>
          <p:nvPr/>
        </p:nvSpPr>
        <p:spPr>
          <a:xfrm>
            <a:off x="2613600" y="3141720"/>
            <a:ext cx="30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2403360" y="2201760"/>
            <a:ext cx="369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9"/>
          <p:cNvSpPr/>
          <p:nvPr/>
        </p:nvSpPr>
        <p:spPr>
          <a:xfrm>
            <a:off x="2649240" y="4467240"/>
            <a:ext cx="30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1"/>
          <p:cNvSpPr/>
          <p:nvPr/>
        </p:nvSpPr>
        <p:spPr>
          <a:xfrm>
            <a:off x="2305080" y="4844880"/>
            <a:ext cx="367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7323480" y="4343400"/>
            <a:ext cx="30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7061040" y="4813200"/>
            <a:ext cx="358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3"/>
          <p:cNvSpPr/>
          <p:nvPr/>
        </p:nvSpPr>
        <p:spPr>
          <a:xfrm>
            <a:off x="2320920" y="1969920"/>
            <a:ext cx="3733920" cy="1913040"/>
          </a:xfrm>
          <a:prstGeom prst="rect">
            <a:avLst/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4"/>
          <p:cNvSpPr/>
          <p:nvPr/>
        </p:nvSpPr>
        <p:spPr>
          <a:xfrm>
            <a:off x="7027920" y="1849320"/>
            <a:ext cx="3641760" cy="2033640"/>
          </a:xfrm>
          <a:prstGeom prst="rect">
            <a:avLst/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7"/>
          <p:cNvSpPr/>
          <p:nvPr/>
        </p:nvSpPr>
        <p:spPr>
          <a:xfrm>
            <a:off x="7031160" y="4245120"/>
            <a:ext cx="3643200" cy="1766880"/>
          </a:xfrm>
          <a:prstGeom prst="rect">
            <a:avLst/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8"/>
          <p:cNvSpPr/>
          <p:nvPr/>
        </p:nvSpPr>
        <p:spPr>
          <a:xfrm>
            <a:off x="2230560" y="4368960"/>
            <a:ext cx="3824280" cy="1643040"/>
          </a:xfrm>
          <a:prstGeom prst="rect">
            <a:avLst/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3"/>
          <p:cNvSpPr/>
          <p:nvPr/>
        </p:nvSpPr>
        <p:spPr>
          <a:xfrm>
            <a:off x="7418880" y="3173400"/>
            <a:ext cx="30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4"/>
          <p:cNvSpPr/>
          <p:nvPr/>
        </p:nvSpPr>
        <p:spPr>
          <a:xfrm>
            <a:off x="7121520" y="2016000"/>
            <a:ext cx="356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等腰三角形 38"/>
          <p:cNvSpPr/>
          <p:nvPr/>
        </p:nvSpPr>
        <p:spPr>
          <a:xfrm rot="7070400">
            <a:off x="3988440" y="3715560"/>
            <a:ext cx="522360" cy="4507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等腰三角形 21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等腰三角形 22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5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等腰三角形 26"/>
          <p:cNvSpPr/>
          <p:nvPr/>
        </p:nvSpPr>
        <p:spPr>
          <a:xfrm rot="7070400">
            <a:off x="8685720" y="3774240"/>
            <a:ext cx="522360" cy="4507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等腰三角形 29"/>
          <p:cNvSpPr/>
          <p:nvPr/>
        </p:nvSpPr>
        <p:spPr>
          <a:xfrm rot="7070400">
            <a:off x="8694720" y="5869440"/>
            <a:ext cx="522360" cy="4510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等腰三角形 30"/>
          <p:cNvSpPr/>
          <p:nvPr/>
        </p:nvSpPr>
        <p:spPr>
          <a:xfrm rot="7070400">
            <a:off x="3981960" y="5869800"/>
            <a:ext cx="522360" cy="4507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25"/>
          <p:cNvSpPr/>
          <p:nvPr/>
        </p:nvSpPr>
        <p:spPr>
          <a:xfrm>
            <a:off x="685800" y="5877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空心弧 35"/>
          <p:cNvSpPr/>
          <p:nvPr/>
        </p:nvSpPr>
        <p:spPr>
          <a:xfrm flipV="1" rot="16200000">
            <a:off x="2417400" y="2135880"/>
            <a:ext cx="1452600" cy="1452600"/>
          </a:xfrm>
          <a:custGeom>
            <a:avLst/>
            <a:gdLst/>
            <a:ahLst/>
            <a:rect l="l" t="t" r="r" b="b"/>
            <a:pathLst>
              <a:path w="1452562" h="1452562">
                <a:moveTo>
                  <a:pt x="1450216" y="667947"/>
                </a:moveTo>
                <a:cubicBezTo>
                  <a:pt x="1451782" y="687161"/>
                  <a:pt x="1452562" y="706630"/>
                  <a:pt x="1452562" y="726281"/>
                </a:cubicBezTo>
                <a:cubicBezTo>
                  <a:pt x="1452562" y="1127395"/>
                  <a:pt x="1127395" y="1452562"/>
                  <a:pt x="726281" y="1452562"/>
                </a:cubicBezTo>
                <a:cubicBezTo>
                  <a:pt x="325167" y="1452562"/>
                  <a:pt x="0" y="1127395"/>
                  <a:pt x="0" y="726281"/>
                </a:cubicBezTo>
                <a:cubicBezTo>
                  <a:pt x="0" y="325167"/>
                  <a:pt x="325167" y="0"/>
                  <a:pt x="726281" y="0"/>
                </a:cubicBezTo>
                <a:cubicBezTo>
                  <a:pt x="1107321" y="0"/>
                  <a:pt x="1419826" y="293436"/>
                  <a:pt x="1450134" y="666467"/>
                </a:cubicBezTo>
                <a:lnTo>
                  <a:pt x="1381669" y="672341"/>
                </a:lnTo>
                <a:cubicBezTo>
                  <a:pt x="1354146" y="334273"/>
                  <a:pt x="1071230" y="68677"/>
                  <a:pt x="726281" y="68677"/>
                </a:cubicBezTo>
                <a:cubicBezTo>
                  <a:pt x="363096" y="68677"/>
                  <a:pt x="68677" y="363096"/>
                  <a:pt x="68677" y="726281"/>
                </a:cubicBezTo>
                <a:cubicBezTo>
                  <a:pt x="68677" y="1089466"/>
                  <a:pt x="363096" y="1383885"/>
                  <a:pt x="726281" y="1383885"/>
                </a:cubicBezTo>
                <a:cubicBezTo>
                  <a:pt x="1089466" y="1383885"/>
                  <a:pt x="1383885" y="1089466"/>
                  <a:pt x="1383885" y="726281"/>
                </a:cubicBezTo>
                <a:cubicBezTo>
                  <a:pt x="1383885" y="708428"/>
                  <a:pt x="1383174" y="690742"/>
                  <a:pt x="1381778" y="673249"/>
                </a:cubicBezTo>
                <a:close/>
              </a:path>
            </a:pathLst>
          </a:custGeom>
          <a:solidFill>
            <a:srgbClr val="00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空心弧 36"/>
          <p:cNvSpPr/>
          <p:nvPr/>
        </p:nvSpPr>
        <p:spPr>
          <a:xfrm flipV="1" rot="16200000">
            <a:off x="2417400" y="2135880"/>
            <a:ext cx="1452600" cy="1452600"/>
          </a:xfrm>
          <a:custGeom>
            <a:avLst/>
            <a:gdLst/>
            <a:ahLst/>
            <a:rect l="l" t="t" r="r" b="b"/>
            <a:pathLst>
              <a:path w="1452562" h="1452562">
                <a:moveTo>
                  <a:pt x="356" y="703519"/>
                </a:moveTo>
                <a:cubicBezTo>
                  <a:pt x="12434" y="312878"/>
                  <a:pt x="332819" y="0"/>
                  <a:pt x="726280" y="0"/>
                </a:cubicBezTo>
                <a:cubicBezTo>
                  <a:pt x="1127394" y="0"/>
                  <a:pt x="1452561" y="325167"/>
                  <a:pt x="1452561" y="726281"/>
                </a:cubicBezTo>
                <a:cubicBezTo>
                  <a:pt x="1452561" y="727231"/>
                  <a:pt x="1452559" y="728180"/>
                  <a:pt x="1452556" y="729114"/>
                </a:cubicBezTo>
                <a:lnTo>
                  <a:pt x="1381672" y="728838"/>
                </a:lnTo>
                <a:cubicBezTo>
                  <a:pt x="1381675" y="727986"/>
                  <a:pt x="1381677" y="727134"/>
                  <a:pt x="1381677" y="726281"/>
                </a:cubicBezTo>
                <a:cubicBezTo>
                  <a:pt x="1381677" y="364316"/>
                  <a:pt x="1088246" y="70885"/>
                  <a:pt x="726281" y="70885"/>
                </a:cubicBezTo>
                <a:cubicBezTo>
                  <a:pt x="371190" y="70885"/>
                  <a:pt x="82056" y="353276"/>
                  <a:pt x="71201" y="705733"/>
                </a:cubicBezTo>
                <a:close/>
              </a:path>
            </a:pathLst>
          </a:custGeom>
          <a:solidFill>
            <a:srgbClr val="028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37"/>
          <p:cNvSpPr/>
          <p:nvPr/>
        </p:nvSpPr>
        <p:spPr>
          <a:xfrm>
            <a:off x="2544840" y="2325600"/>
            <a:ext cx="1388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egoe UI Light"/>
                <a:ea typeface="Segoe UI Light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Segoe UI Light"/>
                <a:ea typeface="Segoe UI Light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空心弧 44"/>
          <p:cNvSpPr/>
          <p:nvPr/>
        </p:nvSpPr>
        <p:spPr>
          <a:xfrm flipV="1" rot="16200000">
            <a:off x="5369400" y="2243160"/>
            <a:ext cx="1452600" cy="1451160"/>
          </a:xfrm>
          <a:custGeom>
            <a:avLst/>
            <a:gdLst/>
            <a:ahLst/>
            <a:rect l="l" t="t" r="r" b="b"/>
            <a:pathLst>
              <a:path w="1452562" h="1450975">
                <a:moveTo>
                  <a:pt x="1450210" y="667154"/>
                </a:moveTo>
                <a:cubicBezTo>
                  <a:pt x="1451780" y="686367"/>
                  <a:pt x="1452562" y="705836"/>
                  <a:pt x="1452562" y="725487"/>
                </a:cubicBezTo>
                <a:cubicBezTo>
                  <a:pt x="1452562" y="1126162"/>
                  <a:pt x="1127395" y="1450974"/>
                  <a:pt x="726281" y="1450974"/>
                </a:cubicBezTo>
                <a:cubicBezTo>
                  <a:pt x="325167" y="1450974"/>
                  <a:pt x="0" y="1126162"/>
                  <a:pt x="0" y="725487"/>
                </a:cubicBezTo>
                <a:cubicBezTo>
                  <a:pt x="0" y="324812"/>
                  <a:pt x="325167" y="0"/>
                  <a:pt x="726281" y="0"/>
                </a:cubicBezTo>
                <a:cubicBezTo>
                  <a:pt x="1107299" y="0"/>
                  <a:pt x="1419790" y="293081"/>
                  <a:pt x="1450129" y="665674"/>
                </a:cubicBezTo>
                <a:lnTo>
                  <a:pt x="1381738" y="671542"/>
                </a:lnTo>
                <a:cubicBezTo>
                  <a:pt x="1354181" y="333874"/>
                  <a:pt x="1071247" y="68602"/>
                  <a:pt x="726281" y="68602"/>
                </a:cubicBezTo>
                <a:cubicBezTo>
                  <a:pt x="363055" y="68602"/>
                  <a:pt x="68602" y="362699"/>
                  <a:pt x="68602" y="725487"/>
                </a:cubicBezTo>
                <a:cubicBezTo>
                  <a:pt x="68602" y="1088275"/>
                  <a:pt x="363055" y="1382372"/>
                  <a:pt x="726281" y="1382372"/>
                </a:cubicBezTo>
                <a:cubicBezTo>
                  <a:pt x="1089507" y="1382372"/>
                  <a:pt x="1383960" y="1088275"/>
                  <a:pt x="1383960" y="725487"/>
                </a:cubicBezTo>
                <a:cubicBezTo>
                  <a:pt x="1383960" y="707632"/>
                  <a:pt x="1383247" y="689944"/>
                  <a:pt x="1381847" y="672449"/>
                </a:cubicBezTo>
                <a:close/>
              </a:path>
            </a:pathLst>
          </a:custGeom>
          <a:solidFill>
            <a:srgbClr val="00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空心弧 45"/>
          <p:cNvSpPr/>
          <p:nvPr/>
        </p:nvSpPr>
        <p:spPr>
          <a:xfrm flipV="1" rot="16200000">
            <a:off x="5369400" y="2243160"/>
            <a:ext cx="1452600" cy="1451160"/>
          </a:xfrm>
          <a:custGeom>
            <a:avLst/>
            <a:gdLst/>
            <a:ahLst/>
            <a:rect l="l" t="t" r="r" b="b"/>
            <a:pathLst>
              <a:path w="1452562" h="1450975">
                <a:moveTo>
                  <a:pt x="699946" y="1450497"/>
                </a:moveTo>
                <a:cubicBezTo>
                  <a:pt x="310963" y="1436590"/>
                  <a:pt x="0" y="1117314"/>
                  <a:pt x="0" y="725487"/>
                </a:cubicBezTo>
                <a:cubicBezTo>
                  <a:pt x="0" y="324812"/>
                  <a:pt x="325167" y="0"/>
                  <a:pt x="726281" y="0"/>
                </a:cubicBezTo>
                <a:cubicBezTo>
                  <a:pt x="1127395" y="0"/>
                  <a:pt x="1452562" y="324812"/>
                  <a:pt x="1452562" y="725487"/>
                </a:cubicBezTo>
                <a:cubicBezTo>
                  <a:pt x="1452562" y="726437"/>
                  <a:pt x="1452560" y="727386"/>
                  <a:pt x="1452557" y="728320"/>
                </a:cubicBezTo>
                <a:lnTo>
                  <a:pt x="1381749" y="728044"/>
                </a:lnTo>
                <a:cubicBezTo>
                  <a:pt x="1381752" y="727192"/>
                  <a:pt x="1381754" y="726340"/>
                  <a:pt x="1381754" y="725487"/>
                </a:cubicBezTo>
                <a:cubicBezTo>
                  <a:pt x="1381754" y="363918"/>
                  <a:pt x="1088289" y="70808"/>
                  <a:pt x="726281" y="70808"/>
                </a:cubicBezTo>
                <a:cubicBezTo>
                  <a:pt x="364273" y="70808"/>
                  <a:pt x="70808" y="363918"/>
                  <a:pt x="70808" y="725487"/>
                </a:cubicBezTo>
                <a:cubicBezTo>
                  <a:pt x="70808" y="1079107"/>
                  <a:pt x="351511" y="1367245"/>
                  <a:pt x="702506" y="1379743"/>
                </a:cubicBezTo>
                <a:close/>
              </a:path>
            </a:pathLst>
          </a:custGeom>
          <a:solidFill>
            <a:srgbClr val="028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46"/>
          <p:cNvSpPr/>
          <p:nvPr/>
        </p:nvSpPr>
        <p:spPr>
          <a:xfrm>
            <a:off x="5497560" y="2432160"/>
            <a:ext cx="1388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egoe UI Light"/>
                <a:ea typeface="Segoe UI Light"/>
              </a:rPr>
              <a:t>75</a:t>
            </a:r>
            <a:r>
              <a:rPr b="0" lang="en-US" sz="2400" spc="-1" strike="noStrike">
                <a:solidFill>
                  <a:srgbClr val="000000"/>
                </a:solidFill>
                <a:latin typeface="Segoe UI Light"/>
                <a:ea typeface="Segoe UI Light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空心弧 47"/>
          <p:cNvSpPr/>
          <p:nvPr/>
        </p:nvSpPr>
        <p:spPr>
          <a:xfrm flipV="1" rot="16200000">
            <a:off x="8183160" y="2255040"/>
            <a:ext cx="1452600" cy="1452600"/>
          </a:xfrm>
          <a:custGeom>
            <a:avLst/>
            <a:gdLst/>
            <a:ahLst/>
            <a:rect l="l" t="t" r="r" b="b"/>
            <a:pathLst>
              <a:path w="1452562" h="1452562">
                <a:moveTo>
                  <a:pt x="1450216" y="667947"/>
                </a:moveTo>
                <a:cubicBezTo>
                  <a:pt x="1451782" y="687161"/>
                  <a:pt x="1452562" y="706630"/>
                  <a:pt x="1452562" y="726281"/>
                </a:cubicBezTo>
                <a:cubicBezTo>
                  <a:pt x="1452562" y="1127395"/>
                  <a:pt x="1127395" y="1452562"/>
                  <a:pt x="726281" y="1452562"/>
                </a:cubicBezTo>
                <a:cubicBezTo>
                  <a:pt x="325167" y="1452562"/>
                  <a:pt x="0" y="1127395"/>
                  <a:pt x="0" y="726281"/>
                </a:cubicBezTo>
                <a:cubicBezTo>
                  <a:pt x="0" y="325167"/>
                  <a:pt x="325167" y="0"/>
                  <a:pt x="726281" y="0"/>
                </a:cubicBezTo>
                <a:cubicBezTo>
                  <a:pt x="1107321" y="0"/>
                  <a:pt x="1419826" y="293436"/>
                  <a:pt x="1450134" y="666467"/>
                </a:cubicBezTo>
                <a:lnTo>
                  <a:pt x="1381669" y="672341"/>
                </a:lnTo>
                <a:cubicBezTo>
                  <a:pt x="1354146" y="334273"/>
                  <a:pt x="1071230" y="68677"/>
                  <a:pt x="726281" y="68677"/>
                </a:cubicBezTo>
                <a:cubicBezTo>
                  <a:pt x="363096" y="68677"/>
                  <a:pt x="68677" y="363096"/>
                  <a:pt x="68677" y="726281"/>
                </a:cubicBezTo>
                <a:cubicBezTo>
                  <a:pt x="68677" y="1089466"/>
                  <a:pt x="363096" y="1383885"/>
                  <a:pt x="726281" y="1383885"/>
                </a:cubicBezTo>
                <a:cubicBezTo>
                  <a:pt x="1089466" y="1383885"/>
                  <a:pt x="1383885" y="1089466"/>
                  <a:pt x="1383885" y="726281"/>
                </a:cubicBezTo>
                <a:cubicBezTo>
                  <a:pt x="1383885" y="708428"/>
                  <a:pt x="1383174" y="690742"/>
                  <a:pt x="1381778" y="673249"/>
                </a:cubicBezTo>
                <a:close/>
              </a:path>
            </a:pathLst>
          </a:custGeom>
          <a:solidFill>
            <a:srgbClr val="00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空心弧 48"/>
          <p:cNvSpPr/>
          <p:nvPr/>
        </p:nvSpPr>
        <p:spPr>
          <a:xfrm flipV="1" rot="16200000">
            <a:off x="8183160" y="2255040"/>
            <a:ext cx="1452600" cy="1452600"/>
          </a:xfrm>
          <a:custGeom>
            <a:avLst/>
            <a:gdLst/>
            <a:ahLst/>
            <a:rect l="l" t="t" r="r" b="b"/>
            <a:pathLst>
              <a:path w="1452562" h="1452562">
                <a:moveTo>
                  <a:pt x="1444443" y="834575"/>
                </a:moveTo>
                <a:cubicBezTo>
                  <a:pt x="1392063" y="1184495"/>
                  <a:pt x="1090477" y="1452561"/>
                  <a:pt x="726281" y="1452561"/>
                </a:cubicBezTo>
                <a:cubicBezTo>
                  <a:pt x="325167" y="1452561"/>
                  <a:pt x="0" y="1127394"/>
                  <a:pt x="0" y="726280"/>
                </a:cubicBezTo>
                <a:cubicBezTo>
                  <a:pt x="0" y="325166"/>
                  <a:pt x="325167" y="-1"/>
                  <a:pt x="726281" y="-1"/>
                </a:cubicBezTo>
                <a:cubicBezTo>
                  <a:pt x="1127395" y="-1"/>
                  <a:pt x="1452562" y="325166"/>
                  <a:pt x="1452562" y="726280"/>
                </a:cubicBezTo>
                <a:cubicBezTo>
                  <a:pt x="1452562" y="727230"/>
                  <a:pt x="1452560" y="728179"/>
                  <a:pt x="1452557" y="729113"/>
                </a:cubicBezTo>
                <a:lnTo>
                  <a:pt x="1381672" y="728838"/>
                </a:lnTo>
                <a:cubicBezTo>
                  <a:pt x="1381675" y="727986"/>
                  <a:pt x="1381677" y="727134"/>
                  <a:pt x="1381677" y="726281"/>
                </a:cubicBezTo>
                <a:cubicBezTo>
                  <a:pt x="1381677" y="364316"/>
                  <a:pt x="1088246" y="70885"/>
                  <a:pt x="726281" y="70885"/>
                </a:cubicBezTo>
                <a:cubicBezTo>
                  <a:pt x="364316" y="70885"/>
                  <a:pt x="70885" y="364316"/>
                  <a:pt x="70885" y="726281"/>
                </a:cubicBezTo>
                <a:cubicBezTo>
                  <a:pt x="70885" y="1088246"/>
                  <a:pt x="364316" y="1381677"/>
                  <a:pt x="726281" y="1381677"/>
                </a:cubicBezTo>
                <a:cubicBezTo>
                  <a:pt x="1055003" y="1381677"/>
                  <a:pt x="1327201" y="1139669"/>
                  <a:pt x="1374426" y="824101"/>
                </a:cubicBezTo>
                <a:close/>
              </a:path>
            </a:pathLst>
          </a:custGeom>
          <a:solidFill>
            <a:srgbClr val="028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49"/>
          <p:cNvSpPr/>
          <p:nvPr/>
        </p:nvSpPr>
        <p:spPr>
          <a:xfrm>
            <a:off x="8312040" y="2444760"/>
            <a:ext cx="13892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egoe UI Light"/>
                <a:ea typeface="Segoe UI Light"/>
              </a:rPr>
              <a:t>96</a:t>
            </a:r>
            <a:r>
              <a:rPr b="0" lang="en-US" sz="2400" spc="-1" strike="noStrike">
                <a:solidFill>
                  <a:srgbClr val="000000"/>
                </a:solidFill>
                <a:latin typeface="Segoe UI Light"/>
                <a:ea typeface="Segoe UI Light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"/>
          <p:cNvSpPr/>
          <p:nvPr/>
        </p:nvSpPr>
        <p:spPr>
          <a:xfrm>
            <a:off x="2017800" y="372276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4"/>
          <p:cNvSpPr/>
          <p:nvPr/>
        </p:nvSpPr>
        <p:spPr>
          <a:xfrm>
            <a:off x="2084400" y="4137120"/>
            <a:ext cx="245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"/>
          <p:cNvSpPr/>
          <p:nvPr/>
        </p:nvSpPr>
        <p:spPr>
          <a:xfrm>
            <a:off x="4973760" y="375912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4"/>
          <p:cNvSpPr/>
          <p:nvPr/>
        </p:nvSpPr>
        <p:spPr>
          <a:xfrm>
            <a:off x="5049720" y="4210200"/>
            <a:ext cx="2498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"/>
          <p:cNvSpPr/>
          <p:nvPr/>
        </p:nvSpPr>
        <p:spPr>
          <a:xfrm>
            <a:off x="7824240" y="373680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"/>
          <p:cNvSpPr/>
          <p:nvPr/>
        </p:nvSpPr>
        <p:spPr>
          <a:xfrm>
            <a:off x="8055000" y="4210200"/>
            <a:ext cx="2427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星空5"/>
          <p:cNvPicPr/>
          <p:nvPr/>
        </p:nvPicPr>
        <p:blipFill>
          <a:blip r:embed="rId1"/>
          <a:stretch/>
        </p:blipFill>
        <p:spPr>
          <a:xfrm>
            <a:off x="-1764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等腰三角形 2"/>
          <p:cNvSpPr/>
          <p:nvPr/>
        </p:nvSpPr>
        <p:spPr>
          <a:xfrm rot="16200000">
            <a:off x="6270480" y="4694040"/>
            <a:ext cx="433440" cy="3510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等腰三角形 3"/>
          <p:cNvSpPr/>
          <p:nvPr/>
        </p:nvSpPr>
        <p:spPr>
          <a:xfrm rot="10800000">
            <a:off x="5448240" y="3933720"/>
            <a:ext cx="1357200" cy="11700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4"/>
          <p:cNvSpPr/>
          <p:nvPr/>
        </p:nvSpPr>
        <p:spPr>
          <a:xfrm>
            <a:off x="5159520" y="4257720"/>
            <a:ext cx="2160360" cy="52056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PART 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5"/>
          <p:cNvSpPr/>
          <p:nvPr/>
        </p:nvSpPr>
        <p:spPr>
          <a:xfrm>
            <a:off x="4424400" y="52657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椭圆 33"/>
          <p:cNvSpPr/>
          <p:nvPr/>
        </p:nvSpPr>
        <p:spPr>
          <a:xfrm>
            <a:off x="5514840" y="2492280"/>
            <a:ext cx="1162080" cy="1163880"/>
          </a:xfrm>
          <a:prstGeom prst="ellipse">
            <a:avLst/>
          </a:prstGeom>
          <a:solidFill>
            <a:srgbClr val="a6a6a6"/>
          </a:solidFill>
          <a:ln w="12600">
            <a:solidFill>
              <a:srgbClr val="0646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34"/>
          <p:cNvSpPr/>
          <p:nvPr/>
        </p:nvSpPr>
        <p:spPr>
          <a:xfrm>
            <a:off x="3340080" y="2460600"/>
            <a:ext cx="1163520" cy="1162080"/>
          </a:xfrm>
          <a:prstGeom prst="ellipse">
            <a:avLst/>
          </a:prstGeom>
          <a:solidFill>
            <a:srgbClr val="a6a6a6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5"/>
          <p:cNvSpPr/>
          <p:nvPr/>
        </p:nvSpPr>
        <p:spPr>
          <a:xfrm>
            <a:off x="1060560" y="6012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"/>
          <p:cNvSpPr/>
          <p:nvPr/>
        </p:nvSpPr>
        <p:spPr>
          <a:xfrm>
            <a:off x="3287880" y="522936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Arial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7"/>
          <p:cNvSpPr/>
          <p:nvPr/>
        </p:nvSpPr>
        <p:spPr>
          <a:xfrm>
            <a:off x="2233440" y="4108320"/>
            <a:ext cx="831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13"/>
          <p:cNvSpPr/>
          <p:nvPr/>
        </p:nvSpPr>
        <p:spPr>
          <a:xfrm>
            <a:off x="7680240" y="2482920"/>
            <a:ext cx="1162080" cy="1162080"/>
          </a:xfrm>
          <a:prstGeom prst="ellipse">
            <a:avLst/>
          </a:prstGeom>
          <a:solidFill>
            <a:srgbClr val="a6a6a6"/>
          </a:solidFill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组 4" descr=""/>
          <p:cNvPicPr/>
          <p:nvPr/>
        </p:nvPicPr>
        <p:blipFill>
          <a:blip r:embed="rId1"/>
          <a:stretch/>
        </p:blipFill>
        <p:spPr>
          <a:xfrm>
            <a:off x="3514680" y="2530440"/>
            <a:ext cx="870120" cy="1244520"/>
          </a:xfrm>
          <a:prstGeom prst="rect">
            <a:avLst/>
          </a:prstGeom>
          <a:ln w="0">
            <a:noFill/>
          </a:ln>
        </p:spPr>
      </p:pic>
      <p:pic>
        <p:nvPicPr>
          <p:cNvPr id="135" name="组合 28" descr=""/>
          <p:cNvPicPr/>
          <p:nvPr/>
        </p:nvPicPr>
        <p:blipFill>
          <a:blip r:embed="rId2"/>
          <a:stretch/>
        </p:blipFill>
        <p:spPr>
          <a:xfrm>
            <a:off x="5683320" y="2664000"/>
            <a:ext cx="822240" cy="796680"/>
          </a:xfrm>
          <a:prstGeom prst="rect">
            <a:avLst/>
          </a:prstGeom>
          <a:ln w="0">
            <a:noFill/>
          </a:ln>
        </p:spPr>
      </p:pic>
      <p:sp>
        <p:nvSpPr>
          <p:cNvPr id="136" name="Freeform 183"/>
          <p:cNvSpPr/>
          <p:nvPr/>
        </p:nvSpPr>
        <p:spPr>
          <a:xfrm>
            <a:off x="8001000" y="2685960"/>
            <a:ext cx="746280" cy="743040"/>
          </a:xfrm>
          <a:custGeom>
            <a:avLst/>
            <a:gdLst/>
            <a:ahLst/>
            <a:rect l="l" t="t" r="r" b="b"/>
            <a:pathLst>
              <a:path w="470" h="468">
                <a:moveTo>
                  <a:pt x="0" y="0"/>
                </a:moveTo>
                <a:lnTo>
                  <a:pt x="20" y="468"/>
                </a:lnTo>
                <a:lnTo>
                  <a:pt x="192" y="374"/>
                </a:lnTo>
                <a:lnTo>
                  <a:pt x="232" y="442"/>
                </a:lnTo>
                <a:lnTo>
                  <a:pt x="294" y="330"/>
                </a:lnTo>
                <a:lnTo>
                  <a:pt x="470" y="284"/>
                </a:lnTo>
                <a:lnTo>
                  <a:pt x="0" y="0"/>
                </a:lnTo>
                <a:close/>
                <a:moveTo>
                  <a:pt x="232" y="396"/>
                </a:moveTo>
                <a:lnTo>
                  <a:pt x="54" y="80"/>
                </a:lnTo>
                <a:lnTo>
                  <a:pt x="272" y="324"/>
                </a:lnTo>
                <a:lnTo>
                  <a:pt x="232" y="3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4T08:38:43Z</dcterms:created>
  <dc:creator>Administrator</dc:creator>
  <dc:description/>
  <dc:language>en-US</dc:language>
  <cp:lastModifiedBy>Administrator</cp:lastModifiedBy>
  <dcterms:modified xsi:type="dcterms:W3CDTF">2016-11-17T06:26:26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