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EE5-5271-4DE1-8DBE-48BBB8BC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947-B910-4D44-840A-010EA366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D3F-618F-4E21-977C-8909A2BE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437-B530-4B80-BF33-1B19ED01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98B-359E-401E-A365-7367F836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C3A-5C6C-471A-BF4F-190BE150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3CF-9F56-4E6E-A7F8-BE254CA0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D29-C196-41BC-A6E7-C0DA0DC0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55E-ECD0-4925-9441-A28592E3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ECE-CC80-4099-800C-147FE021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1D0-D6A6-4E8F-8689-1FAEEFBB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934-43A4-438F-A458-72E4370C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3967-6269-4D42-85EA-14967C7E4A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D470-8C86-4ED7-AC94-D0B8AFAA9A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0"/>
          <p:cNvSpPr/>
          <p:nvPr/>
        </p:nvSpPr>
        <p:spPr>
          <a:xfrm>
            <a:off x="2238480" y="328788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46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6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9FDE-CAA0-4E3D-9C0D-26275311B5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237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AutoShape 10"/>
            <p:cNvCxnSpPr>
              <a:stCxn id="237" idx="0"/>
              <a:endCxn id="244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45" name="AutoShape 11"/>
            <p:cNvCxnSpPr>
              <a:stCxn id="237" idx="7"/>
              <a:endCxn id="241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46" name="AutoShape 12"/>
            <p:cNvCxnSpPr>
              <a:stCxn id="237" idx="5"/>
              <a:endCxn id="239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47" name="AutoShape 13"/>
            <p:cNvCxnSpPr>
              <a:stCxn id="241" idx="6"/>
              <a:endCxn id="248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49" name="AutoShape 14"/>
            <p:cNvCxnSpPr>
              <a:stCxn id="239" idx="6"/>
              <a:endCxn id="248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50" name="AutoShape 15"/>
            <p:cNvCxnSpPr>
              <a:stCxn id="239" idx="1"/>
              <a:endCxn id="244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51" name="AutoShape 16"/>
            <p:cNvCxnSpPr>
              <a:stCxn id="241" idx="1"/>
              <a:endCxn id="244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252" name="AutoShape 17"/>
            <p:cNvCxnSpPr>
              <a:stCxn id="253" idx="1"/>
              <a:endCxn id="244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miter/>
            </a:ln>
          </p:spPr>
        </p:cxnSp>
        <p:grpSp>
          <p:nvGrpSpPr>
            <p:cNvPr id="254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255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BE28-808A-49EA-ABD5-A71EC6223C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268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278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CF0B-A5C2-446B-9920-5D7BD84796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296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299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302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305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308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311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314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317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320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323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D3E9-02BE-438A-B6B8-FDA0FC491A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332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>
                <a:gd name="textAreaLeft" fmla="*/ 0 w 2313000"/>
                <a:gd name="textAreaRight" fmla="*/ 2313360 w 2313000"/>
                <a:gd name="textAreaTop" fmla="*/ 0 h 2876400"/>
                <a:gd name="textAreaBottom" fmla="*/ 2876760 h 28764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>
                <a:gd name="textAreaLeft" fmla="*/ 0 w 1271880"/>
                <a:gd name="textAreaRight" fmla="*/ 1272240 w 127188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735120"/>
                <a:gd name="textAreaBottom" fmla="*/ 735120 h 7351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>
                <a:gd name="textAreaLeft" fmla="*/ 0 w 3762360"/>
                <a:gd name="textAreaRight" fmla="*/ 3762720 w 3762360"/>
                <a:gd name="textAreaTop" fmla="*/ 0 h 2440080"/>
                <a:gd name="textAreaBottom" fmla="*/ 2440080 h 24400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447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450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453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7FA6-AEEC-4372-887C-BACA74557F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>
              <a:gd name="textAreaLeft" fmla="*/ 0 w 2020680"/>
              <a:gd name="textAreaRight" fmla="*/ 2021040 w 202068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>
              <a:gd name="textAreaLeft" fmla="*/ 360 w 1898640"/>
              <a:gd name="textAreaRight" fmla="*/ 1899360 w 18986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>
              <a:gd name="textAreaLeft" fmla="*/ 0 w 1516320"/>
              <a:gd name="textAreaRight" fmla="*/ 1516680 w 15163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>
              <a:gd name="textAreaLeft" fmla="*/ -360 w 1660680"/>
              <a:gd name="textAreaRight" fmla="*/ 1660680 w 1660680"/>
              <a:gd name="textAreaTop" fmla="*/ 0 h 2381400"/>
              <a:gd name="textAreaBottom" fmla="*/ 2381760 h 238140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8821-089D-4B66-BE5A-D33F9B506D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492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502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5474-F177-47CB-B0D5-A0EF3EC432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520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>
                <a:gd name="textAreaLeft" fmla="*/ 0 w 1233360"/>
                <a:gd name="textAreaRight" fmla="*/ 1233720 w 1233360"/>
                <a:gd name="textAreaTop" fmla="*/ 0 h 2397240"/>
                <a:gd name="textAreaBottom" fmla="*/ 2397600 h 2397240"/>
              </a:gdLst>
              <a:ahLst/>
              <a:rect l="textAreaLeft" t="textAreaTop" r="textAreaRight" b="textAreaBottom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523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>
                <a:gd name="textAreaLeft" fmla="*/ 0 w 1317600"/>
                <a:gd name="textAreaRight" fmla="*/ 1317600 w 1317600"/>
                <a:gd name="textAreaTop" fmla="*/ 0 h 2374920"/>
                <a:gd name="textAreaBottom" fmla="*/ 2375280 h 2374920"/>
              </a:gdLst>
              <a:ahLst/>
              <a:rect l="textAreaLeft" t="textAreaTop" r="textAreaRight" b="textAreaBottom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5191-60C2-4601-B307-1DB6CED44E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0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48AC-9996-4A5B-83A3-2B4F3B5FD4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551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554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557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gradFill rotWithShape="0">
              <a:gsLst>
                <a:gs pos="0">
                  <a:srgbClr val="ef95e4"/>
                </a:gs>
                <a:gs pos="100000">
                  <a:srgbClr val="f44a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"/>
          <p:cNvSpPr/>
          <p:nvPr/>
        </p:nvSpPr>
        <p:spPr>
          <a:xfrm>
            <a:off x="2543040" y="227340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5"/>
          <p:cNvSpPr/>
          <p:nvPr/>
        </p:nvSpPr>
        <p:spPr>
          <a:xfrm>
            <a:off x="5568840" y="228276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44a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"/>
          <p:cNvSpPr/>
          <p:nvPr/>
        </p:nvSpPr>
        <p:spPr>
          <a:xfrm>
            <a:off x="8594640" y="2292480"/>
            <a:ext cx="1517760" cy="59688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D78D-0931-4E6B-B560-74D2BE49DF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71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81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B4C8-F802-48E1-A65A-DB0F42B16B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等腰三角形 52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B17B-AA7B-4362-B04C-749ACB1B2D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90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00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3782-93B2-47EA-97C3-355564CFEE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113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116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3297-F090-4FFF-B593-EA79C2C153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126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>
                <a:gd name="textAreaLeft" fmla="*/ 0 w 2487240"/>
                <a:gd name="textAreaRight" fmla="*/ 2487600 w 2487240"/>
                <a:gd name="textAreaTop" fmla="*/ 0 h 2055960"/>
                <a:gd name="textAreaBottom" fmla="*/ 2056320 h 205596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2064960"/>
                <a:gd name="textAreaBottom" fmla="*/ 2065320 h 20649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>
                <a:gd name="textAreaLeft" fmla="*/ 0 w 2188440"/>
                <a:gd name="textAreaRight" fmla="*/ 2188800 w 2188440"/>
                <a:gd name="textAreaTop" fmla="*/ 0 h 2455920"/>
                <a:gd name="textAreaBottom" fmla="*/ 2456280 h 24559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>
                <a:gd name="textAreaLeft" fmla="*/ 0 w 2219040"/>
                <a:gd name="textAreaRight" fmla="*/ 2219400 w 2219040"/>
                <a:gd name="textAreaTop" fmla="*/ 0 h 2433240"/>
                <a:gd name="textAreaBottom" fmla="*/ 2433600 h 243324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1E3F-453B-4A2E-B00E-8E9EF75100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4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146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149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48B3-ED4E-4213-B3B9-4C519CF6EE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64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74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F07D-C9B4-49D6-A446-D23B63EF83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188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197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D6E2-09A0-420A-84CE-1458219AFE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>
              <a:gd name="textAreaLeft" fmla="*/ 0 w 2889000"/>
              <a:gd name="textAreaRight" fmla="*/ 2889360 w 28890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325960"/>
              <a:gd name="textAreaBottom" fmla="*/ 2326320 h 23259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218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221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224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227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cp:keywords/>
  <dc:language>en-US</dc:language>
  <cp:lastModifiedBy>Administrator</cp:lastModifiedBy>
  <dcterms:modified xsi:type="dcterms:W3CDTF">2016-07-25T10:57:46Z</dcterms:modified>
  <cp:revision>56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