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29.png" ContentType="image/png"/>
  <Override PartName="/ppt/media/image34.png" ContentType="image/png"/>
  <Override PartName="/ppt/media/image28.png" ContentType="image/png"/>
  <Override PartName="/ppt/media/image4.png" ContentType="image/png"/>
  <Override PartName="/ppt/media/image7.jpeg" ContentType="image/jpeg"/>
  <Override PartName="/ppt/media/image16.png" ContentType="image/png"/>
  <Override PartName="/ppt/media/image27.png" ContentType="image/png"/>
  <Override PartName="/ppt/media/image19.jpeg" ContentType="image/jpeg"/>
  <Override PartName="/ppt/media/image25.png" ContentType="image/png"/>
  <Override PartName="/ppt/media/image14.png" ContentType="image/png"/>
  <Override PartName="/ppt/media/image2.png" ContentType="image/png"/>
  <Override PartName="/ppt/media/image32.png" ContentType="image/png"/>
  <Override PartName="/ppt/media/image35.png" ContentType="image/png"/>
  <Override PartName="/ppt/media/image26.png" ContentType="image/png"/>
  <Override PartName="/ppt/media/image59.png" ContentType="image/png"/>
  <Override PartName="/ppt/media/image22.png" ContentType="image/png"/>
  <Override PartName="/ppt/media/image24.jpeg" ContentType="image/jpeg"/>
  <Override PartName="/ppt/media/image47.png" ContentType="image/png"/>
  <Override PartName="/ppt/media/image10.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1.jpeg" ContentType="image/jpeg"/>
  <Override PartName="/ppt/media/image21.png" ContentType="image/png"/>
  <Override PartName="/ppt/media/image30.png" ContentType="image/png"/>
  <Override PartName="/ppt/media/image5.png" ContentType="image/png"/>
  <Override PartName="/ppt/media/image17.png" ContentType="image/png"/>
  <Override PartName="/ppt/media/image20.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35F30-3A30-4E9C-933E-D3A933F50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E1611-0379-4549-A453-83D7EE230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01694-B328-4F8D-8316-2FB3E8935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B236E-F6BE-45D9-8A81-9770ACD99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928AC-4D97-4D32-ABDD-60F6545690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29436-F365-484F-B49A-F60AF46B3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BDC27-0E56-474F-9371-68706C29C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03D78-3591-4913-B98B-F63F07D32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2BE2E-1119-4A92-BA6A-90D75194F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16AAB-450B-44B5-8A4C-E7FA58A32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F27EE-8992-43DB-BD8D-B1CB3D9BC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CADD9-F2D0-44B3-8CA3-CE0C55601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FDC95-56BF-4BB4-9440-5BD90D5D0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7B2BB-ADBE-4A79-A5AF-C4F98422A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2B9AD-3893-423D-8454-441001BCC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7309C-3F9E-4B09-9EF1-F8E4404A6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5974A-9CDB-4677-984B-1920B08BE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8C9463-B888-4AFC-960B-CA1EA41E78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FA82FD-E0CD-415E-BC4B-F128004888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8355C0-BFFC-44FD-8130-D3EEDA52E8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5D39E6-E632-420A-9CA4-767A712CF8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FDF9EC-0F42-4BA6-8817-7827E21DA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F6E3A-F49D-4791-B602-03E3432FE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9E790E-5A77-41A4-A8AD-AF1432C77C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3AD62B-7FCE-4D50-A4B2-BC5FEC7A42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1EB08-1551-4697-B082-E4DECA365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7124C3-BD49-4BE4-8001-DDAA93705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132BA6-01E4-4F67-BF90-E15333488D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A21E11-BA6D-4FA9-B224-CF5162F667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AE1EC0-6258-4D3C-B4A0-6C49619816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BEF474-1B17-45B4-A9AB-FF87D5C7EE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6E2139-FFE3-401B-83C2-BA590EDFC5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406335-9591-448D-A049-7391B944AB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60B67-45EE-4CA3-B736-266B4B9F2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EC6219-C343-4267-86DA-6D3CF53724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D63438-56BD-4189-945D-826741B454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5382A8-F402-47E4-8748-74388CAC22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804F4F-9CDF-42C8-81BC-BD7EBF11D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2A2038-79E7-4B54-99A9-7A61C360CE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966D79-D242-4D47-98C9-09440BA6F0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186107-5D32-4D53-85DF-37092D0C2F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C22EAF-CF2A-4FC7-B272-E78F37B265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6EC61D-298A-4BB0-9621-6AF5F97028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730B51-8FC4-4860-A666-57B70CDD5C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FBFD7-205C-41CC-95A8-2C37FC3C7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4EA3A8-8991-471B-A11B-47BD9F01A4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FDCCE1-C940-44F3-AFE7-09B8229BBA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EA13A1-FB7B-425A-B1EB-950203BAA2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76FDC2-B1EC-462F-BECF-A06804F1FF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2F9875-8BA0-415D-8CA5-F4D593FE73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6912DC-4191-4540-9DC3-6DCE51F5AD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B6A11A-8D50-4E5B-9999-B5D7AED3D3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BDA79D-214C-4D91-BAF6-DCB25D18D3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52BAA3-8D4E-427E-9F38-A1A64F2FD5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53A407-4FD0-4C6C-8E8A-6AB28573AB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9C62F-E230-46F1-BDE5-BA3F56C21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4C4049-9F85-4E49-82CE-A5E3F7A401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EED86-276F-4272-9BEF-AA49DC5C6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2EF57-48A4-451D-AB8C-1E0B68D15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EAD03-C4E0-4560-94D1-600201414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FADC-8088-4A8A-95FC-3C89208EB97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149CA-728B-429D-B822-B34AC70BA63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F073-AE45-47B8-AFE8-BA9A0E36908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AD63-1E8A-4669-8926-8C4274603EA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8BB0-D767-45EE-8B0C-8A4F3407C4F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03520" y="219060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6" descr="12-2"/>
          <p:cNvPicPr/>
          <p:nvPr/>
        </p:nvPicPr>
        <p:blipFill>
          <a:blip r:embed="rId5"/>
          <a:stretch/>
        </p:blipFill>
        <p:spPr>
          <a:xfrm>
            <a:off x="4506840" y="3151080"/>
            <a:ext cx="1311480" cy="270000"/>
          </a:xfrm>
          <a:prstGeom prst="rect">
            <a:avLst/>
          </a:prstGeom>
          <a:ln w="0">
            <a:noFill/>
          </a:ln>
        </p:spPr>
      </p:pic>
      <p:pic>
        <p:nvPicPr>
          <p:cNvPr id="350" name="Picture 7" descr="12-3"/>
          <p:cNvPicPr/>
          <p:nvPr/>
        </p:nvPicPr>
        <p:blipFill>
          <a:blip r:embed="rId6"/>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000"/>
                            </p:stCondLst>
                            <p:childTnLst>
                              <p:par>
                                <p:cTn id="554" nodeType="afterEffect" fill="hold" presetClass="entr" presetID="12" presetSubtype="2">
                                  <p:stCondLst>
                                    <p:cond delay="0"/>
                                  </p:stCondLst>
                                  <p:childTnLst>
                                    <p:set>
                                      <p:cBhvr>
                                        <p:cTn id="555" dur="1" fill="hold">
                                          <p:stCondLst>
                                            <p:cond delay="0"/>
                                          </p:stCondLst>
                                        </p:cTn>
                                        <p:tgtEl>
                                          <p:spTgt spid="349"/>
                                        </p:tgtEl>
                                        <p:attrNameLst>
                                          <p:attrName>style.visibility</p:attrName>
                                        </p:attrNameLst>
                                      </p:cBhvr>
                                      <p:to>
                                        <p:strVal val="visible"/>
                                      </p:to>
                                    </p:set>
                                    <p:animEffect filter="slide(fromRight)" transition="in">
                                      <p:cBhvr additive="repl">
                                        <p:cTn id="556" dur="500"/>
                                        <p:tgtEl>
                                          <p:spTgt spid="349"/>
                                        </p:tgtEl>
                                      </p:cBhvr>
                                    </p:animEffect>
                                  </p:childTnLst>
                                </p:cTn>
                              </p:par>
                              <p:par>
                                <p:cTn id="557" nodeType="withEffect" fill="hold" presetClass="entr" presetID="12" presetSubtype="8">
                                  <p:stCondLst>
                                    <p:cond delay="0"/>
                                  </p:stCondLst>
                                  <p:childTnLst>
                                    <p:set>
                                      <p:cBhvr>
                                        <p:cTn id="558" dur="1" fill="hold">
                                          <p:stCondLst>
                                            <p:cond delay="0"/>
                                          </p:stCondLst>
                                        </p:cTn>
                                        <p:tgtEl>
                                          <p:spTgt spid="350"/>
                                        </p:tgtEl>
                                        <p:attrNameLst>
                                          <p:attrName>style.visibility</p:attrName>
                                        </p:attrNameLst>
                                      </p:cBhvr>
                                      <p:to>
                                        <p:strVal val="visible"/>
                                      </p:to>
                                    </p:set>
                                    <p:animEffect filter="slide(fromLeft)" transition="in">
                                      <p:cBhvr additive="repl">
                                        <p:cTn id="55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7920" y="-1116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职场懒人帮职场懒人帮职场懒人帮职场懒人帮职场懒人帮假字</a:t>
            </a:r>
            <a:endParaRPr b="0" lang="en-US" sz="2000" spc="-1" strike="noStrike">
              <a:solidFill>
                <a:srgbClr val="000000"/>
              </a:solidFill>
              <a:latin typeface="Calibri"/>
            </a:endParaRPr>
          </a:p>
        </p:txBody>
      </p:sp>
      <p:sp>
        <p:nvSpPr>
          <p:cNvPr id="239" name="Text Box 8"/>
          <p:cNvSpPr/>
          <p:nvPr/>
        </p:nvSpPr>
        <p:spPr>
          <a:xfrm>
            <a:off x="639720" y="1917720"/>
            <a:ext cx="10603080" cy="2849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572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3194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629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596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职场懒人帮</a:t>
            </a:r>
            <a:r>
              <a:rPr b="0" lang="zh-CN" sz="1000" spc="-1" strike="noStrike">
                <a:solidFill>
                  <a:srgbClr val="777777"/>
                </a:solidFill>
                <a:latin typeface="Calibri"/>
                <a:ea typeface="微软雅黑"/>
              </a:rPr>
              <a:t>职场懒人帮职场懒人帮职场懒人帮职场懒人帮职场懒人帮假字</a:t>
            </a:r>
            <a:endParaRPr b="0" lang="en-US" sz="1000" spc="-1" strike="noStrike">
              <a:solidFill>
                <a:srgbClr val="000000"/>
              </a:solidFill>
              <a:latin typeface="Calibri"/>
            </a:endParaRPr>
          </a:p>
        </p:txBody>
      </p:sp>
      <p:sp>
        <p:nvSpPr>
          <p:cNvPr id="296" name="Text Box 23"/>
          <p:cNvSpPr/>
          <p:nvPr/>
        </p:nvSpPr>
        <p:spPr>
          <a:xfrm>
            <a:off x="5362560" y="1376280"/>
            <a:ext cx="2770200" cy="596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职场懒人帮</a:t>
            </a:r>
            <a:r>
              <a:rPr b="0" lang="zh-CN" sz="1000" spc="-1" strike="noStrike">
                <a:solidFill>
                  <a:srgbClr val="777777"/>
                </a:solidFill>
                <a:latin typeface="Calibri"/>
                <a:ea typeface="微软雅黑"/>
              </a:rPr>
              <a:t>职场懒人帮职场懒人帮职场懒人帮职场懒人帮职场懒人帮假字</a:t>
            </a:r>
            <a:endParaRPr b="0" lang="en-US" sz="1000" spc="-1" strike="noStrike">
              <a:solidFill>
                <a:srgbClr val="000000"/>
              </a:solidFill>
              <a:latin typeface="Calibri"/>
            </a:endParaRPr>
          </a:p>
        </p:txBody>
      </p:sp>
      <p:sp>
        <p:nvSpPr>
          <p:cNvPr id="297" name="Text Box 24"/>
          <p:cNvSpPr/>
          <p:nvPr/>
        </p:nvSpPr>
        <p:spPr>
          <a:xfrm>
            <a:off x="9634680" y="1378080"/>
            <a:ext cx="2047680" cy="596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职场懒人帮</a:t>
            </a:r>
            <a:r>
              <a:rPr b="0" lang="zh-CN" sz="1000" spc="-1" strike="noStrike">
                <a:solidFill>
                  <a:srgbClr val="777777"/>
                </a:solidFill>
                <a:latin typeface="Calibri"/>
                <a:ea typeface="微软雅黑"/>
              </a:rPr>
              <a:t>职场懒人帮职场懒人帮职场懒人帮假字</a:t>
            </a:r>
            <a:endParaRPr b="0" lang="en-US" sz="1000" spc="-1" strike="noStrike">
              <a:solidFill>
                <a:srgbClr val="000000"/>
              </a:solidFill>
              <a:latin typeface="Calibri"/>
            </a:endParaRPr>
          </a:p>
        </p:txBody>
      </p:sp>
      <p:sp>
        <p:nvSpPr>
          <p:cNvPr id="298" name="Text Box 25"/>
          <p:cNvSpPr/>
          <p:nvPr/>
        </p:nvSpPr>
        <p:spPr>
          <a:xfrm>
            <a:off x="3394080" y="4857840"/>
            <a:ext cx="2770200" cy="71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职场懒人帮</a:t>
            </a:r>
            <a:r>
              <a:rPr b="0" lang="zh-CN" sz="1000" spc="-1" strike="noStrike">
                <a:solidFill>
                  <a:srgbClr val="777777"/>
                </a:solidFill>
                <a:latin typeface="Calibri"/>
                <a:ea typeface="微软雅黑"/>
              </a:rPr>
              <a:t>职场懒人帮职场懒人帮职场懒人帮职场懒人帮职场懒人帮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71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职场懒人帮</a:t>
            </a:r>
            <a:r>
              <a:rPr b="0" lang="zh-CN" sz="1000" spc="-1" strike="noStrike">
                <a:solidFill>
                  <a:srgbClr val="777777"/>
                </a:solidFill>
                <a:latin typeface="Calibri"/>
                <a:ea typeface="微软雅黑"/>
              </a:rPr>
              <a:t>职场懒人帮职场懒人帮职场懒人帮职场懒人帮职场懒人帮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职场懒人帮职场懒人帮</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职场懒人帮职场懒人帮职场懒人帮职场懒人帮</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职场懒人帮职场懒人帮职场懒人帮职场懒人帮</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职场懒人帮职场懒人帮</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职场懒人帮职场懒人帮职场懒人帮职场懒人帮</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职场懒人帮职场懒人帮职场懒人帮职场懒人帮</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许敏斌</cp:lastModifiedBy>
  <dcterms:modified xsi:type="dcterms:W3CDTF">2016-03-26T07:21:01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