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12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E77-AD49-413E-8C67-A5FEBCC9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ADD-FD9A-4ED1-AB1E-07C701A4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3F7-DDB5-4258-BF67-B3437016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A13-9487-456C-9DE9-AE237B71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6659-D45A-4EB3-B194-0897C13D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AFE7-49F9-4E61-9EB8-E831D8A4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D796-89A4-442A-BAE6-ECC67EBB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2D0D-BF3D-43B8-A700-65991BC4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B908-C04C-438E-990E-E46925AB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BB0D-CB60-44DF-9519-791F686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A8B-3AF6-482C-A917-5AF81706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C8E-78B6-4D01-AA8E-71ACFE9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6A9F-BE34-494E-8BF2-206C47D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723B-6935-437C-9672-E8FE3A9B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B68C-2CA6-4546-8EEF-498B72D5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8783-0A9B-43C2-B465-094F675E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E819-EB9E-4599-A0D2-2E583859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79D9-2A9D-42E4-BADE-1635D6C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70E-5F61-4B58-A16A-B7EFDD46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3AF-B2AE-4F96-BFCE-1E0E7538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065-00AE-435A-9C49-32C27157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A90-0E5F-4E27-BFCA-284ED680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B6E-A182-48D5-9F03-F1BACAE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637-C2E3-48F9-8FA5-4307804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17F-D3A5-42E5-A9E5-3D17986D20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F0B-345D-4BA3-ACAD-E3F4BFF54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png"/><Relationship Id="rId3" Type="http://schemas.openxmlformats.org/officeDocument/2006/relationships/image" Target="../media/image9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-修改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封面-修改"/>
          <p:cNvPicPr/>
          <p:nvPr/>
        </p:nvPicPr>
        <p:blipFill>
          <a:blip r:embed="rId2"/>
          <a:stretch/>
        </p:blipFill>
        <p:spPr>
          <a:xfrm>
            <a:off x="-71280" y="-55440"/>
            <a:ext cx="12452040" cy="699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未标题-1"/>
          <p:cNvPicPr/>
          <p:nvPr/>
        </p:nvPicPr>
        <p:blipFill>
          <a:blip r:embed="rId3"/>
          <a:stretch/>
        </p:blipFill>
        <p:spPr>
          <a:xfrm>
            <a:off x="2340000" y="158760"/>
            <a:ext cx="112680" cy="114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93600" y="-17640"/>
            <a:ext cx="64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封面-修改"/>
          <p:cNvPicPr/>
          <p:nvPr/>
        </p:nvPicPr>
        <p:blipFill>
          <a:blip r:embed="rId4"/>
          <a:stretch/>
        </p:blipFill>
        <p:spPr>
          <a:xfrm>
            <a:off x="7515360" y="1355760"/>
            <a:ext cx="44798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封面-修改"/>
          <p:cNvPicPr/>
          <p:nvPr/>
        </p:nvPicPr>
        <p:blipFill>
          <a:blip r:embed="rId1"/>
          <a:stretch/>
        </p:blipFill>
        <p:spPr>
          <a:xfrm>
            <a:off x="-4680" y="0"/>
            <a:ext cx="12287160" cy="689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目录"/>
          <p:cNvPicPr/>
          <p:nvPr/>
        </p:nvPicPr>
        <p:blipFill>
          <a:blip r:embed="rId2"/>
          <a:stretch/>
        </p:blipFill>
        <p:spPr>
          <a:xfrm>
            <a:off x="6759720" y="3286080"/>
            <a:ext cx="2760480" cy="113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目录"/>
          <p:cNvPicPr/>
          <p:nvPr/>
        </p:nvPicPr>
        <p:blipFill>
          <a:blip r:embed="rId3"/>
          <a:stretch/>
        </p:blipFill>
        <p:spPr>
          <a:xfrm>
            <a:off x="6861240" y="354636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目录"/>
          <p:cNvPicPr/>
          <p:nvPr/>
        </p:nvPicPr>
        <p:blipFill>
          <a:blip r:embed="rId4"/>
          <a:stretch/>
        </p:blipFill>
        <p:spPr>
          <a:xfrm>
            <a:off x="6854760" y="2381400"/>
            <a:ext cx="4576680" cy="1342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目录"/>
          <p:cNvPicPr/>
          <p:nvPr/>
        </p:nvPicPr>
        <p:blipFill>
          <a:blip r:embed="rId5"/>
          <a:stretch/>
        </p:blipFill>
        <p:spPr>
          <a:xfrm>
            <a:off x="6854760" y="2770200"/>
            <a:ext cx="4575240" cy="134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目录"/>
          <p:cNvPicPr/>
          <p:nvPr/>
        </p:nvPicPr>
        <p:blipFill>
          <a:blip r:embed="rId6"/>
          <a:stretch/>
        </p:blipFill>
        <p:spPr>
          <a:xfrm>
            <a:off x="28440" y="-11160"/>
            <a:ext cx="7378920" cy="5121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3919680" y="2857680"/>
            <a:ext cx="361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900" spc="-1" strike="noStrike">
                <a:solidFill>
                  <a:srgbClr val="ffffff"/>
                </a:solidFill>
                <a:latin typeface="Calibri"/>
                <a:ea typeface="文鼎火柴体"/>
              </a:rPr>
              <a:t>演 讲 目 录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169040" y="2789280"/>
            <a:ext cx="387036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压历山大的社会现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安安然，悠然愉悦的心情制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165800" y="3557520"/>
            <a:ext cx="452916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心自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择机所需，在工作中也如鱼得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未标题-1"/>
          <p:cNvPicPr/>
          <p:nvPr/>
        </p:nvPicPr>
        <p:blipFill>
          <a:blip r:embed="rId7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封面-修改"/>
          <p:cNvPicPr/>
          <p:nvPr/>
        </p:nvPicPr>
        <p:blipFill>
          <a:blip r:embed="rId1"/>
          <a:stretch/>
        </p:blipFill>
        <p:spPr>
          <a:xfrm>
            <a:off x="0" y="0"/>
            <a:ext cx="12192120" cy="692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过度页"/>
          <p:cNvPicPr/>
          <p:nvPr/>
        </p:nvPicPr>
        <p:blipFill>
          <a:blip r:embed="rId2"/>
          <a:stretch/>
        </p:blipFill>
        <p:spPr>
          <a:xfrm>
            <a:off x="7802640" y="1190520"/>
            <a:ext cx="4357440" cy="2262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过度页"/>
          <p:cNvPicPr/>
          <p:nvPr/>
        </p:nvPicPr>
        <p:blipFill>
          <a:blip r:embed="rId3"/>
          <a:stretch/>
        </p:blipFill>
        <p:spPr>
          <a:xfrm>
            <a:off x="3575160" y="1846440"/>
            <a:ext cx="5371920" cy="293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65160" y="-111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未标题-1"/>
          <p:cNvPicPr/>
          <p:nvPr/>
        </p:nvPicPr>
        <p:blipFill>
          <a:blip r:embed="rId4"/>
          <a:stretch/>
        </p:blipFill>
        <p:spPr>
          <a:xfrm>
            <a:off x="2333520" y="179280"/>
            <a:ext cx="120600" cy="119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4448160" y="1593720"/>
            <a:ext cx="46702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PA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13555"/>
                </a:solidFill>
                <a:latin typeface="浪漫雅圆"/>
              </a:rPr>
              <a:t>RT.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6355800" y="870120"/>
            <a:ext cx="181584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500" spc="-1" strike="noStrike">
                <a:solidFill>
                  <a:srgbClr val="013555"/>
                </a:solidFill>
                <a:latin typeface="浪漫雅圆"/>
              </a:rPr>
              <a:t>1</a:t>
            </a:r>
            <a:endParaRPr b="0" lang="en-US" sz="2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未标题-1"/>
          <p:cNvPicPr/>
          <p:nvPr/>
        </p:nvPicPr>
        <p:blipFill>
          <a:blip r:embed="rId5"/>
          <a:stretch/>
        </p:blipFill>
        <p:spPr>
          <a:xfrm>
            <a:off x="6727680" y="1746360"/>
            <a:ext cx="1376640" cy="27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过度页"/>
          <p:cNvPicPr/>
          <p:nvPr/>
        </p:nvPicPr>
        <p:blipFill>
          <a:blip r:embed="rId6"/>
          <a:stretch/>
        </p:blipFill>
        <p:spPr>
          <a:xfrm>
            <a:off x="36360" y="2981160"/>
            <a:ext cx="37386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封面-修改"/>
          <p:cNvPicPr/>
          <p:nvPr/>
        </p:nvPicPr>
        <p:blipFill>
          <a:blip r:embed="rId1"/>
          <a:stretch/>
        </p:blipFill>
        <p:spPr>
          <a:xfrm>
            <a:off x="-19080" y="-14400"/>
            <a:ext cx="1218096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未标题-1"/>
          <p:cNvPicPr/>
          <p:nvPr/>
        </p:nvPicPr>
        <p:blipFill>
          <a:blip r:embed="rId2"/>
          <a:stretch/>
        </p:blipFill>
        <p:spPr>
          <a:xfrm>
            <a:off x="2333520" y="150840"/>
            <a:ext cx="120600" cy="119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未标题-1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8854920" y="98568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何制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8982000" y="1824120"/>
            <a:ext cx="357192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姜太公垂钓的悠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陶渊明“采菊东篱下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悠然见南山”的闲散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当今社会已是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说。信息的极度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胀，与社会的浮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之气，已将人们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忍耐逼至死角。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何制造悠然自得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心情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标题二"/>
          <p:cNvPicPr/>
          <p:nvPr/>
        </p:nvPicPr>
        <p:blipFill>
          <a:blip r:embed="rId4"/>
          <a:stretch/>
        </p:blipFill>
        <p:spPr>
          <a:xfrm>
            <a:off x="-17640" y="1098720"/>
            <a:ext cx="889956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标题二"/>
          <p:cNvPicPr/>
          <p:nvPr/>
        </p:nvPicPr>
        <p:blipFill>
          <a:blip r:embed="rId5"/>
          <a:stretch/>
        </p:blipFill>
        <p:spPr>
          <a:xfrm>
            <a:off x="8740800" y="911160"/>
            <a:ext cx="2992320" cy="1050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标题二"/>
          <p:cNvPicPr/>
          <p:nvPr/>
        </p:nvPicPr>
        <p:blipFill>
          <a:blip r:embed="rId6"/>
          <a:stretch/>
        </p:blipFill>
        <p:spPr>
          <a:xfrm>
            <a:off x="10953720" y="1730520"/>
            <a:ext cx="8175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封面-修改"/>
          <p:cNvPicPr/>
          <p:nvPr/>
        </p:nvPicPr>
        <p:blipFill>
          <a:blip r:embed="rId1"/>
          <a:stretch/>
        </p:blipFill>
        <p:spPr>
          <a:xfrm>
            <a:off x="0" y="6480"/>
            <a:ext cx="12192120" cy="684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gh"/>
          <p:cNvPicPr/>
          <p:nvPr/>
        </p:nvPicPr>
        <p:blipFill>
          <a:blip r:embed="rId2"/>
          <a:stretch/>
        </p:blipFill>
        <p:spPr>
          <a:xfrm>
            <a:off x="4025880" y="555480"/>
            <a:ext cx="7743960" cy="521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954000" y="13143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愉悦体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397160" y="2124000"/>
            <a:ext cx="3571560" cy="33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轻松的方式有多种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论是哪种，让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脑停止思考，以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个愉悦的状态迎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体验，是最适宜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爱生活，爱工作，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不同状态的自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适时调整，重装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发。生活其实是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场修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994280" y="5222880"/>
            <a:ext cx="66769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音乐，电影，大海，访友，旅行，放松的不只是心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8" descr="未标题-1"/>
          <p:cNvPicPr/>
          <p:nvPr/>
        </p:nvPicPr>
        <p:blipFill>
          <a:blip r:embed="rId3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标题二"/>
          <p:cNvPicPr/>
          <p:nvPr/>
        </p:nvPicPr>
        <p:blipFill>
          <a:blip r:embed="rId4"/>
          <a:stretch/>
        </p:blipFill>
        <p:spPr>
          <a:xfrm>
            <a:off x="853920" y="1254240"/>
            <a:ext cx="294804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标题一"/>
          <p:cNvPicPr/>
          <p:nvPr/>
        </p:nvPicPr>
        <p:blipFill>
          <a:blip r:embed="rId5"/>
          <a:stretch/>
        </p:blipFill>
        <p:spPr>
          <a:xfrm>
            <a:off x="5143680" y="1028880"/>
            <a:ext cx="5160960" cy="412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标题一"/>
          <p:cNvPicPr/>
          <p:nvPr/>
        </p:nvPicPr>
        <p:blipFill>
          <a:blip r:embed="rId6"/>
          <a:stretch/>
        </p:blipFill>
        <p:spPr>
          <a:xfrm>
            <a:off x="692280" y="1938240"/>
            <a:ext cx="85716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封面-修改"/>
          <p:cNvPicPr/>
          <p:nvPr/>
        </p:nvPicPr>
        <p:blipFill>
          <a:blip r:embed="rId1"/>
          <a:stretch/>
        </p:blipFill>
        <p:spPr>
          <a:xfrm>
            <a:off x="-6480" y="-12600"/>
            <a:ext cx="12322440" cy="6906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未标题-1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8412120" y="884160"/>
            <a:ext cx="294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随心自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8837640" y="1857240"/>
            <a:ext cx="182556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没有人一直处于逆境或顺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将自己的身心收放自如，处惊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之不变。困闲世之蛰伏，佛曰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Calibri"/>
                <a:ea typeface="微软雅黑"/>
              </a:rPr>
              <a:t>心不动，人不妄动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标题二"/>
          <p:cNvPicPr/>
          <p:nvPr/>
        </p:nvPicPr>
        <p:blipFill>
          <a:blip r:embed="rId3"/>
          <a:stretch/>
        </p:blipFill>
        <p:spPr>
          <a:xfrm>
            <a:off x="8325000" y="809640"/>
            <a:ext cx="294768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标题二"/>
          <p:cNvPicPr/>
          <p:nvPr/>
        </p:nvPicPr>
        <p:blipFill>
          <a:blip r:embed="rId4"/>
          <a:stretch/>
        </p:blipFill>
        <p:spPr>
          <a:xfrm>
            <a:off x="10450440" y="1687680"/>
            <a:ext cx="817560" cy="36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标题三"/>
          <p:cNvPicPr/>
          <p:nvPr/>
        </p:nvPicPr>
        <p:blipFill>
          <a:blip r:embed="rId5"/>
          <a:stretch/>
        </p:blipFill>
        <p:spPr>
          <a:xfrm>
            <a:off x="-4680" y="1771560"/>
            <a:ext cx="12318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封面-修改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65160" y="-255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未标题-1"/>
          <p:cNvPicPr/>
          <p:nvPr/>
        </p:nvPicPr>
        <p:blipFill>
          <a:blip r:embed="rId2"/>
          <a:stretch/>
        </p:blipFill>
        <p:spPr>
          <a:xfrm>
            <a:off x="2335320" y="146160"/>
            <a:ext cx="118800" cy="120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197840" y="1285920"/>
            <a:ext cx="29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3555"/>
                </a:solidFill>
                <a:latin typeface="Calibri"/>
                <a:ea typeface="文鼎火柴体"/>
              </a:rPr>
              <a:t>如鱼得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170840" y="32418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自信在自卑之上，在自负之下。知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者智，自知者明，了解自己，完善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我，自信来源于你内心强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7156440" y="219708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如鱼得水，不是因为鱼儿的安安然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在适应环境的同时，有效的利用现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环境，在自己的原则内，扬马驰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183440" y="4275000"/>
            <a:ext cx="47401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藏锋守拙，却也要适时的张扬自我，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时务者为俊杰，创造时机，把握时机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13555"/>
                </a:solidFill>
                <a:latin typeface="微软雅黑"/>
                <a:ea typeface="微软雅黑"/>
              </a:rPr>
              <a:t>做个职场聪明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标题二"/>
          <p:cNvPicPr/>
          <p:nvPr/>
        </p:nvPicPr>
        <p:blipFill>
          <a:blip r:embed="rId3"/>
          <a:stretch/>
        </p:blipFill>
        <p:spPr>
          <a:xfrm>
            <a:off x="7081920" y="1222200"/>
            <a:ext cx="2948040" cy="1035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标题二"/>
          <p:cNvPicPr/>
          <p:nvPr/>
        </p:nvPicPr>
        <p:blipFill>
          <a:blip r:embed="rId4"/>
          <a:stretch/>
        </p:blipFill>
        <p:spPr>
          <a:xfrm>
            <a:off x="6380280" y="2019240"/>
            <a:ext cx="817560" cy="366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标题四"/>
          <p:cNvPicPr/>
          <p:nvPr/>
        </p:nvPicPr>
        <p:blipFill>
          <a:blip r:embed="rId5"/>
          <a:stretch/>
        </p:blipFill>
        <p:spPr>
          <a:xfrm>
            <a:off x="492120" y="1079640"/>
            <a:ext cx="116762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封面-修改"/>
          <p:cNvPicPr/>
          <p:nvPr/>
        </p:nvPicPr>
        <p:blipFill>
          <a:blip r:embed="rId1"/>
          <a:stretch/>
        </p:blipFill>
        <p:spPr>
          <a:xfrm>
            <a:off x="0" y="-14400"/>
            <a:ext cx="12192120" cy="689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内容一"/>
          <p:cNvPicPr/>
          <p:nvPr/>
        </p:nvPicPr>
        <p:blipFill>
          <a:blip r:embed="rId2"/>
          <a:stretch/>
        </p:blipFill>
        <p:spPr>
          <a:xfrm>
            <a:off x="-30240" y="-57240"/>
            <a:ext cx="12254040" cy="5154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65160" y="-237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未标题-1"/>
          <p:cNvPicPr/>
          <p:nvPr/>
        </p:nvPicPr>
        <p:blipFill>
          <a:blip r:embed="rId3"/>
          <a:stretch/>
        </p:blipFill>
        <p:spPr>
          <a:xfrm>
            <a:off x="2335320" y="160200"/>
            <a:ext cx="118800" cy="11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内容一"/>
          <p:cNvPicPr/>
          <p:nvPr/>
        </p:nvPicPr>
        <p:blipFill>
          <a:blip r:embed="rId4"/>
          <a:stretch/>
        </p:blipFill>
        <p:spPr>
          <a:xfrm>
            <a:off x="2855880" y="4238640"/>
            <a:ext cx="3570480" cy="164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内容一"/>
          <p:cNvPicPr/>
          <p:nvPr/>
        </p:nvPicPr>
        <p:blipFill>
          <a:blip r:embed="rId5"/>
          <a:stretch/>
        </p:blipFill>
        <p:spPr>
          <a:xfrm>
            <a:off x="1844640" y="1212840"/>
            <a:ext cx="94950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封面-修改"/>
          <p:cNvPicPr/>
          <p:nvPr/>
        </p:nvPicPr>
        <p:blipFill>
          <a:blip r:embed="rId1"/>
          <a:stretch/>
        </p:blipFill>
        <p:spPr>
          <a:xfrm>
            <a:off x="-20520" y="-17640"/>
            <a:ext cx="12266640" cy="6883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结束页"/>
          <p:cNvPicPr/>
          <p:nvPr/>
        </p:nvPicPr>
        <p:blipFill>
          <a:blip r:embed="rId2"/>
          <a:stretch/>
        </p:blipFill>
        <p:spPr>
          <a:xfrm>
            <a:off x="1176480" y="1228680"/>
            <a:ext cx="10171080" cy="42004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5160" y="-936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浪漫雅圆"/>
              </a:rPr>
              <a:t>DESIGN  I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浪漫雅圆"/>
              </a:rPr>
              <a:t>哎呀小小草素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未标题-1"/>
          <p:cNvPicPr/>
          <p:nvPr/>
        </p:nvPicPr>
        <p:blipFill>
          <a:blip r:embed="rId3"/>
          <a:stretch/>
        </p:blipFill>
        <p:spPr>
          <a:xfrm>
            <a:off x="2335320" y="189000"/>
            <a:ext cx="118800" cy="118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894120" y="133524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感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984920" y="133668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谢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5628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关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121520" y="1338120"/>
            <a:ext cx="13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文鼎火柴体"/>
              </a:rPr>
              <a:t>注</a:t>
            </a:r>
            <a:r>
              <a:rPr b="0" lang="zh-CN" sz="8000" spc="-1" strike="noStrike">
                <a:solidFill>
                  <a:srgbClr val="013555"/>
                </a:solidFill>
                <a:latin typeface="Calibri"/>
                <a:ea typeface="文鼎火柴体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637080" y="2505240"/>
            <a:ext cx="52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THANK YOU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4194000" y="304488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浪漫雅圆"/>
              </a:rPr>
              <a:t>YOUR ATTEN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04:11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9Z</dcterms:modified>
  <cp:revision>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