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440-8C75-43C9-A989-324740C8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8C4-A664-43AD-BDCB-352528BB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C52-0DBE-4C76-864F-4C7D6A35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F71-8B8E-40FE-B18D-72226BF6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458-7BEB-4B6A-A18E-C00F52C5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2B2-3009-4C8C-B594-55D005EC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1ED-FCD6-4497-8528-C79A9C10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CD2-9FFD-4DDC-9E10-53315C47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0C5-83FA-4DD0-B008-707C176B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CCD-AE67-406D-BAD8-BC3D3CCA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D6E-D025-4457-B3E2-D73BFEE2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1FF-9628-41FF-AFF4-081E4CB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0761-E680-4677-98BE-34CCF26C8F4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37F1-117B-4E09-BBC9-A28E9EEDAC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049"/>
          <p:cNvGrpSpPr/>
          <p:nvPr/>
        </p:nvGrpSpPr>
        <p:grpSpPr>
          <a:xfrm>
            <a:off x="-143280" y="5428800"/>
            <a:ext cx="1779120" cy="1596600"/>
            <a:chOff x="-143280" y="5428800"/>
            <a:chExt cx="1779120" cy="1596600"/>
          </a:xfrm>
        </p:grpSpPr>
        <p:sp>
          <p:nvSpPr>
            <p:cNvPr id="42" name="Freeform 1252"/>
            <p:cNvSpPr/>
            <p:nvPr/>
          </p:nvSpPr>
          <p:spPr>
            <a:xfrm rot="1572000">
              <a:off x="15840" y="5696640"/>
              <a:ext cx="1460880" cy="106056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 rot="1572000">
              <a:off x="228600" y="6520320"/>
              <a:ext cx="596880" cy="1792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 rot="1572000">
              <a:off x="494280" y="5730840"/>
              <a:ext cx="701640" cy="81144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 rot="1572000">
              <a:off x="819000" y="5730840"/>
              <a:ext cx="204840" cy="680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 rot="1572000">
              <a:off x="915480" y="5800320"/>
              <a:ext cx="309600" cy="85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 rot="1572000">
              <a:off x="988560" y="5931720"/>
              <a:ext cx="541440" cy="600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1258"/>
            <p:cNvSpPr/>
            <p:nvPr/>
          </p:nvSpPr>
          <p:spPr>
            <a:xfrm rot="1572000">
              <a:off x="995400" y="5869080"/>
              <a:ext cx="328680" cy="1886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1259"/>
            <p:cNvSpPr/>
            <p:nvPr/>
          </p:nvSpPr>
          <p:spPr>
            <a:xfrm rot="1572000">
              <a:off x="338760" y="6587280"/>
              <a:ext cx="328680" cy="10476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 rot="1572000">
              <a:off x="475560" y="6365160"/>
              <a:ext cx="341280" cy="1188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 rot="1572000">
              <a:off x="752040" y="594288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 rot="1572000">
              <a:off x="617400" y="6159960"/>
              <a:ext cx="350640" cy="16344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 rot="1572000">
              <a:off x="16560" y="6022800"/>
              <a:ext cx="568440" cy="35568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 rot="1572000">
              <a:off x="660960" y="658296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 rot="1572000">
              <a:off x="308880" y="6430680"/>
              <a:ext cx="600120" cy="2286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 rot="1572000">
              <a:off x="514080" y="6482160"/>
              <a:ext cx="271440" cy="586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 rot="1572000">
              <a:off x="474840" y="6577920"/>
              <a:ext cx="85680" cy="316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2066"/>
          <p:cNvGrpSpPr/>
          <p:nvPr/>
        </p:nvGrpSpPr>
        <p:grpSpPr>
          <a:xfrm>
            <a:off x="5857920" y="5786280"/>
            <a:ext cx="857160" cy="1071720"/>
            <a:chOff x="5857920" y="5786280"/>
            <a:chExt cx="857160" cy="1071720"/>
          </a:xfrm>
        </p:grpSpPr>
        <p:sp>
          <p:nvSpPr>
            <p:cNvPr id="59" name="Freeform 1220"/>
            <p:cNvSpPr/>
            <p:nvPr/>
          </p:nvSpPr>
          <p:spPr>
            <a:xfrm>
              <a:off x="5857920" y="5786280"/>
              <a:ext cx="857160" cy="10717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21"/>
            <p:cNvSpPr/>
            <p:nvPr/>
          </p:nvSpPr>
          <p:spPr>
            <a:xfrm>
              <a:off x="5983200" y="5967000"/>
              <a:ext cx="147600" cy="1566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222"/>
            <p:cNvSpPr/>
            <p:nvPr/>
          </p:nvSpPr>
          <p:spPr>
            <a:xfrm>
              <a:off x="5859720" y="6234840"/>
              <a:ext cx="86400" cy="19944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223"/>
            <p:cNvSpPr/>
            <p:nvPr/>
          </p:nvSpPr>
          <p:spPr>
            <a:xfrm>
              <a:off x="6179400" y="5786280"/>
              <a:ext cx="532440" cy="33444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224"/>
            <p:cNvSpPr/>
            <p:nvPr/>
          </p:nvSpPr>
          <p:spPr>
            <a:xfrm>
              <a:off x="5893560" y="6630840"/>
              <a:ext cx="403920" cy="19620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225"/>
            <p:cNvSpPr/>
            <p:nvPr/>
          </p:nvSpPr>
          <p:spPr>
            <a:xfrm>
              <a:off x="6143400" y="5996880"/>
              <a:ext cx="571320" cy="39888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226"/>
            <p:cNvSpPr/>
            <p:nvPr/>
          </p:nvSpPr>
          <p:spPr>
            <a:xfrm>
              <a:off x="6063480" y="6299280"/>
              <a:ext cx="496440" cy="34668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227"/>
            <p:cNvSpPr/>
            <p:nvPr/>
          </p:nvSpPr>
          <p:spPr>
            <a:xfrm>
              <a:off x="6560280" y="6395760"/>
              <a:ext cx="137880" cy="1630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228"/>
            <p:cNvSpPr/>
            <p:nvPr/>
          </p:nvSpPr>
          <p:spPr>
            <a:xfrm>
              <a:off x="6297480" y="6646320"/>
              <a:ext cx="302400" cy="167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1229"/>
            <p:cNvSpPr/>
            <p:nvPr/>
          </p:nvSpPr>
          <p:spPr>
            <a:xfrm>
              <a:off x="6091920" y="6754320"/>
              <a:ext cx="334080" cy="10368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1230"/>
            <p:cNvSpPr/>
            <p:nvPr/>
          </p:nvSpPr>
          <p:spPr>
            <a:xfrm>
              <a:off x="6662520" y="6307560"/>
              <a:ext cx="48240" cy="9324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31"/>
            <p:cNvSpPr/>
            <p:nvPr/>
          </p:nvSpPr>
          <p:spPr>
            <a:xfrm>
              <a:off x="6453720" y="6538320"/>
              <a:ext cx="195840" cy="17424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232"/>
            <p:cNvSpPr/>
            <p:nvPr/>
          </p:nvSpPr>
          <p:spPr>
            <a:xfrm>
              <a:off x="5946480" y="6123600"/>
              <a:ext cx="196920" cy="18144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233"/>
            <p:cNvSpPr/>
            <p:nvPr/>
          </p:nvSpPr>
          <p:spPr>
            <a:xfrm>
              <a:off x="5900040" y="6434280"/>
              <a:ext cx="163440" cy="5688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234"/>
            <p:cNvSpPr/>
            <p:nvPr/>
          </p:nvSpPr>
          <p:spPr>
            <a:xfrm>
              <a:off x="6130800" y="5899320"/>
              <a:ext cx="192960" cy="111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235"/>
            <p:cNvSpPr/>
            <p:nvPr/>
          </p:nvSpPr>
          <p:spPr>
            <a:xfrm>
              <a:off x="5904000" y="6283800"/>
              <a:ext cx="178200" cy="20880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236"/>
            <p:cNvSpPr/>
            <p:nvPr/>
          </p:nvSpPr>
          <p:spPr>
            <a:xfrm>
              <a:off x="6029640" y="6003360"/>
              <a:ext cx="200160" cy="13284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37"/>
            <p:cNvSpPr/>
            <p:nvPr/>
          </p:nvSpPr>
          <p:spPr>
            <a:xfrm>
              <a:off x="6256440" y="5803920"/>
              <a:ext cx="195840" cy="9972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组合 2085"/>
          <p:cNvGrpSpPr/>
          <p:nvPr/>
        </p:nvGrpSpPr>
        <p:grpSpPr>
          <a:xfrm>
            <a:off x="8001000" y="5425920"/>
            <a:ext cx="1035000" cy="1432080"/>
            <a:chOff x="8001000" y="5425920"/>
            <a:chExt cx="1035000" cy="1432080"/>
          </a:xfrm>
        </p:grpSpPr>
        <p:sp>
          <p:nvSpPr>
            <p:cNvPr id="78" name="Freeform 1167"/>
            <p:cNvSpPr/>
            <p:nvPr/>
          </p:nvSpPr>
          <p:spPr>
            <a:xfrm>
              <a:off x="8001000" y="54259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168"/>
            <p:cNvSpPr/>
            <p:nvPr/>
          </p:nvSpPr>
          <p:spPr>
            <a:xfrm>
              <a:off x="8067600" y="657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1169"/>
            <p:cNvSpPr/>
            <p:nvPr/>
          </p:nvSpPr>
          <p:spPr>
            <a:xfrm>
              <a:off x="8029440" y="6488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1170"/>
            <p:cNvSpPr/>
            <p:nvPr/>
          </p:nvSpPr>
          <p:spPr>
            <a:xfrm>
              <a:off x="8111880" y="66517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1171"/>
            <p:cNvSpPr/>
            <p:nvPr/>
          </p:nvSpPr>
          <p:spPr>
            <a:xfrm>
              <a:off x="8564400" y="54259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172"/>
            <p:cNvSpPr/>
            <p:nvPr/>
          </p:nvSpPr>
          <p:spPr>
            <a:xfrm>
              <a:off x="8458200" y="54432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173"/>
            <p:cNvSpPr/>
            <p:nvPr/>
          </p:nvSpPr>
          <p:spPr>
            <a:xfrm>
              <a:off x="8459640" y="54957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74"/>
            <p:cNvSpPr/>
            <p:nvPr/>
          </p:nvSpPr>
          <p:spPr>
            <a:xfrm>
              <a:off x="8245440" y="58546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175"/>
            <p:cNvSpPr/>
            <p:nvPr/>
          </p:nvSpPr>
          <p:spPr>
            <a:xfrm>
              <a:off x="8019720" y="57276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176"/>
            <p:cNvSpPr/>
            <p:nvPr/>
          </p:nvSpPr>
          <p:spPr>
            <a:xfrm>
              <a:off x="8494560" y="54590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177"/>
            <p:cNvSpPr/>
            <p:nvPr/>
          </p:nvSpPr>
          <p:spPr>
            <a:xfrm>
              <a:off x="8088120" y="55098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178"/>
            <p:cNvSpPr/>
            <p:nvPr/>
          </p:nvSpPr>
          <p:spPr>
            <a:xfrm>
              <a:off x="8067600" y="62578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179"/>
            <p:cNvSpPr/>
            <p:nvPr/>
          </p:nvSpPr>
          <p:spPr>
            <a:xfrm>
              <a:off x="8196120" y="57402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1180"/>
            <p:cNvSpPr/>
            <p:nvPr/>
          </p:nvSpPr>
          <p:spPr>
            <a:xfrm>
              <a:off x="8458200" y="54813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1181"/>
            <p:cNvSpPr/>
            <p:nvPr/>
          </p:nvSpPr>
          <p:spPr>
            <a:xfrm>
              <a:off x="8070840" y="61243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82"/>
            <p:cNvSpPr/>
            <p:nvPr/>
          </p:nvSpPr>
          <p:spPr>
            <a:xfrm>
              <a:off x="8189640" y="58845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83"/>
            <p:cNvSpPr/>
            <p:nvPr/>
          </p:nvSpPr>
          <p:spPr>
            <a:xfrm>
              <a:off x="8823240" y="57211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84"/>
            <p:cNvSpPr/>
            <p:nvPr/>
          </p:nvSpPr>
          <p:spPr>
            <a:xfrm>
              <a:off x="8982360" y="58798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1185"/>
            <p:cNvSpPr/>
            <p:nvPr/>
          </p:nvSpPr>
          <p:spPr>
            <a:xfrm>
              <a:off x="8667720" y="6618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186"/>
            <p:cNvSpPr/>
            <p:nvPr/>
          </p:nvSpPr>
          <p:spPr>
            <a:xfrm>
              <a:off x="8494560" y="64375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187"/>
            <p:cNvSpPr/>
            <p:nvPr/>
          </p:nvSpPr>
          <p:spPr>
            <a:xfrm>
              <a:off x="8440560" y="68151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188"/>
            <p:cNvSpPr/>
            <p:nvPr/>
          </p:nvSpPr>
          <p:spPr>
            <a:xfrm>
              <a:off x="8736120" y="64897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189"/>
            <p:cNvSpPr/>
            <p:nvPr/>
          </p:nvSpPr>
          <p:spPr>
            <a:xfrm>
              <a:off x="8856720" y="62355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90"/>
            <p:cNvSpPr/>
            <p:nvPr/>
          </p:nvSpPr>
          <p:spPr>
            <a:xfrm>
              <a:off x="8561520" y="66880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191"/>
            <p:cNvSpPr/>
            <p:nvPr/>
          </p:nvSpPr>
          <p:spPr>
            <a:xfrm>
              <a:off x="8704440" y="66675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192"/>
            <p:cNvSpPr/>
            <p:nvPr/>
          </p:nvSpPr>
          <p:spPr>
            <a:xfrm>
              <a:off x="8977320" y="60451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193"/>
            <p:cNvSpPr/>
            <p:nvPr/>
          </p:nvSpPr>
          <p:spPr>
            <a:xfrm>
              <a:off x="8950320" y="61610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94"/>
            <p:cNvSpPr/>
            <p:nvPr/>
          </p:nvSpPr>
          <p:spPr>
            <a:xfrm>
              <a:off x="8653320" y="65944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195"/>
            <p:cNvSpPr/>
            <p:nvPr/>
          </p:nvSpPr>
          <p:spPr>
            <a:xfrm>
              <a:off x="9007560" y="59976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96"/>
            <p:cNvSpPr/>
            <p:nvPr/>
          </p:nvSpPr>
          <p:spPr>
            <a:xfrm>
              <a:off x="8825040" y="64389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197"/>
            <p:cNvSpPr/>
            <p:nvPr/>
          </p:nvSpPr>
          <p:spPr>
            <a:xfrm>
              <a:off x="8508960" y="67802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2117"/>
          <p:cNvGrpSpPr/>
          <p:nvPr/>
        </p:nvGrpSpPr>
        <p:grpSpPr>
          <a:xfrm>
            <a:off x="7072200" y="5268960"/>
            <a:ext cx="1165320" cy="1589040"/>
            <a:chOff x="7072200" y="5268960"/>
            <a:chExt cx="1165320" cy="1589040"/>
          </a:xfrm>
        </p:grpSpPr>
        <p:sp>
          <p:nvSpPr>
            <p:cNvPr id="110" name="Freeform 1238"/>
            <p:cNvSpPr/>
            <p:nvPr/>
          </p:nvSpPr>
          <p:spPr>
            <a:xfrm>
              <a:off x="7072200" y="526896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39"/>
            <p:cNvSpPr/>
            <p:nvPr/>
          </p:nvSpPr>
          <p:spPr>
            <a:xfrm>
              <a:off x="7115040" y="5268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240"/>
            <p:cNvSpPr/>
            <p:nvPr/>
          </p:nvSpPr>
          <p:spPr>
            <a:xfrm>
              <a:off x="7267320" y="63849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241"/>
            <p:cNvSpPr/>
            <p:nvPr/>
          </p:nvSpPr>
          <p:spPr>
            <a:xfrm>
              <a:off x="7164000" y="534348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242"/>
            <p:cNvSpPr/>
            <p:nvPr/>
          </p:nvSpPr>
          <p:spPr>
            <a:xfrm>
              <a:off x="7124400" y="624384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1243"/>
            <p:cNvSpPr/>
            <p:nvPr/>
          </p:nvSpPr>
          <p:spPr>
            <a:xfrm>
              <a:off x="8053560" y="574344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244"/>
            <p:cNvSpPr/>
            <p:nvPr/>
          </p:nvSpPr>
          <p:spPr>
            <a:xfrm>
              <a:off x="7777080" y="621036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245"/>
            <p:cNvSpPr/>
            <p:nvPr/>
          </p:nvSpPr>
          <p:spPr>
            <a:xfrm>
              <a:off x="7148160" y="563868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246"/>
            <p:cNvSpPr/>
            <p:nvPr/>
          </p:nvSpPr>
          <p:spPr>
            <a:xfrm>
              <a:off x="7535880" y="598500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247"/>
            <p:cNvSpPr/>
            <p:nvPr/>
          </p:nvSpPr>
          <p:spPr>
            <a:xfrm>
              <a:off x="7746840" y="5916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248"/>
            <p:cNvSpPr/>
            <p:nvPr/>
          </p:nvSpPr>
          <p:spPr>
            <a:xfrm>
              <a:off x="7951680" y="580536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249"/>
            <p:cNvSpPr/>
            <p:nvPr/>
          </p:nvSpPr>
          <p:spPr>
            <a:xfrm>
              <a:off x="7316640" y="598968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1250"/>
            <p:cNvSpPr/>
            <p:nvPr/>
          </p:nvSpPr>
          <p:spPr>
            <a:xfrm>
              <a:off x="7090920" y="59878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251"/>
            <p:cNvSpPr/>
            <p:nvPr/>
          </p:nvSpPr>
          <p:spPr>
            <a:xfrm>
              <a:off x="7146720" y="59832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2132"/>
          <p:cNvGrpSpPr/>
          <p:nvPr/>
        </p:nvGrpSpPr>
        <p:grpSpPr>
          <a:xfrm>
            <a:off x="714240" y="5214240"/>
            <a:ext cx="1789200" cy="1788840"/>
            <a:chOff x="714240" y="5214240"/>
            <a:chExt cx="1789200" cy="1788840"/>
          </a:xfrm>
        </p:grpSpPr>
        <p:sp>
          <p:nvSpPr>
            <p:cNvPr id="125" name="Freeform 1198"/>
            <p:cNvSpPr/>
            <p:nvPr/>
          </p:nvSpPr>
          <p:spPr>
            <a:xfrm rot="2023800">
              <a:off x="963360" y="546372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99"/>
            <p:cNvSpPr/>
            <p:nvPr/>
          </p:nvSpPr>
          <p:spPr>
            <a:xfrm rot="2023800">
              <a:off x="1117080" y="562752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00"/>
            <p:cNvSpPr/>
            <p:nvPr/>
          </p:nvSpPr>
          <p:spPr>
            <a:xfrm rot="2023800">
              <a:off x="1055160" y="591624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201"/>
            <p:cNvSpPr/>
            <p:nvPr/>
          </p:nvSpPr>
          <p:spPr>
            <a:xfrm rot="2023800">
              <a:off x="1194120" y="541692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202"/>
            <p:cNvSpPr/>
            <p:nvPr/>
          </p:nvSpPr>
          <p:spPr>
            <a:xfrm rot="2023800">
              <a:off x="1296360" y="614160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203"/>
            <p:cNvSpPr/>
            <p:nvPr/>
          </p:nvSpPr>
          <p:spPr>
            <a:xfrm rot="2023800">
              <a:off x="1049040" y="616176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204"/>
            <p:cNvSpPr/>
            <p:nvPr/>
          </p:nvSpPr>
          <p:spPr>
            <a:xfrm rot="2023800">
              <a:off x="1774800" y="60433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205"/>
            <p:cNvSpPr/>
            <p:nvPr/>
          </p:nvSpPr>
          <p:spPr>
            <a:xfrm rot="2023800">
              <a:off x="1535400" y="60930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206"/>
            <p:cNvSpPr/>
            <p:nvPr/>
          </p:nvSpPr>
          <p:spPr>
            <a:xfrm rot="2023800">
              <a:off x="1069920" y="608292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207"/>
            <p:cNvSpPr/>
            <p:nvPr/>
          </p:nvSpPr>
          <p:spPr>
            <a:xfrm rot="2023800">
              <a:off x="1271880" y="618840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208"/>
            <p:cNvSpPr/>
            <p:nvPr/>
          </p:nvSpPr>
          <p:spPr>
            <a:xfrm rot="2023800">
              <a:off x="1113480" y="6178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09"/>
            <p:cNvSpPr/>
            <p:nvPr/>
          </p:nvSpPr>
          <p:spPr>
            <a:xfrm rot="2023800">
              <a:off x="1194840" y="633708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10"/>
            <p:cNvSpPr/>
            <p:nvPr/>
          </p:nvSpPr>
          <p:spPr>
            <a:xfrm rot="2023800">
              <a:off x="1127520" y="590400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211"/>
            <p:cNvSpPr/>
            <p:nvPr/>
          </p:nvSpPr>
          <p:spPr>
            <a:xfrm rot="2023800">
              <a:off x="1344960" y="557172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12"/>
            <p:cNvSpPr/>
            <p:nvPr/>
          </p:nvSpPr>
          <p:spPr>
            <a:xfrm rot="2023800">
              <a:off x="1222200" y="600768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213"/>
            <p:cNvSpPr/>
            <p:nvPr/>
          </p:nvSpPr>
          <p:spPr>
            <a:xfrm rot="2023800">
              <a:off x="1881000" y="627228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214"/>
            <p:cNvSpPr/>
            <p:nvPr/>
          </p:nvSpPr>
          <p:spPr>
            <a:xfrm rot="2023800">
              <a:off x="1994040" y="598536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215"/>
            <p:cNvSpPr/>
            <p:nvPr/>
          </p:nvSpPr>
          <p:spPr>
            <a:xfrm rot="2023800">
              <a:off x="2020680" y="588204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216"/>
            <p:cNvSpPr/>
            <p:nvPr/>
          </p:nvSpPr>
          <p:spPr>
            <a:xfrm rot="2023800">
              <a:off x="2017080" y="607968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217"/>
            <p:cNvSpPr/>
            <p:nvPr/>
          </p:nvSpPr>
          <p:spPr>
            <a:xfrm rot="2023800">
              <a:off x="2005920" y="596664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18"/>
            <p:cNvSpPr/>
            <p:nvPr/>
          </p:nvSpPr>
          <p:spPr>
            <a:xfrm rot="2023800">
              <a:off x="1994760" y="615168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219"/>
            <p:cNvSpPr/>
            <p:nvPr/>
          </p:nvSpPr>
          <p:spPr>
            <a:xfrm rot="2023800">
              <a:off x="1990800" y="578736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155"/>
          <p:cNvGrpSpPr/>
          <p:nvPr/>
        </p:nvGrpSpPr>
        <p:grpSpPr>
          <a:xfrm>
            <a:off x="3500280" y="5481720"/>
            <a:ext cx="1162080" cy="1376280"/>
            <a:chOff x="3500280" y="5481720"/>
            <a:chExt cx="1162080" cy="1376280"/>
          </a:xfrm>
        </p:grpSpPr>
        <p:sp>
          <p:nvSpPr>
            <p:cNvPr id="148" name="Freeform 1145"/>
            <p:cNvSpPr/>
            <p:nvPr/>
          </p:nvSpPr>
          <p:spPr>
            <a:xfrm>
              <a:off x="3500280" y="5481720"/>
              <a:ext cx="1162080" cy="137484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146"/>
            <p:cNvSpPr/>
            <p:nvPr/>
          </p:nvSpPr>
          <p:spPr>
            <a:xfrm>
              <a:off x="4384800" y="5495760"/>
              <a:ext cx="225360" cy="34128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147"/>
            <p:cNvSpPr/>
            <p:nvPr/>
          </p:nvSpPr>
          <p:spPr>
            <a:xfrm>
              <a:off x="3995640" y="5837040"/>
              <a:ext cx="504720" cy="5763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148"/>
            <p:cNvSpPr/>
            <p:nvPr/>
          </p:nvSpPr>
          <p:spPr>
            <a:xfrm>
              <a:off x="4194000" y="5586480"/>
              <a:ext cx="79200" cy="331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149"/>
            <p:cNvSpPr/>
            <p:nvPr/>
          </p:nvSpPr>
          <p:spPr>
            <a:xfrm>
              <a:off x="4059000" y="5697360"/>
              <a:ext cx="39600" cy="85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150"/>
            <p:cNvSpPr/>
            <p:nvPr/>
          </p:nvSpPr>
          <p:spPr>
            <a:xfrm>
              <a:off x="3916080" y="549900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151"/>
            <p:cNvSpPr/>
            <p:nvPr/>
          </p:nvSpPr>
          <p:spPr>
            <a:xfrm>
              <a:off x="3525480" y="5832360"/>
              <a:ext cx="279360" cy="43812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152"/>
            <p:cNvSpPr/>
            <p:nvPr/>
          </p:nvSpPr>
          <p:spPr>
            <a:xfrm>
              <a:off x="4098960" y="5619600"/>
              <a:ext cx="95040" cy="777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53"/>
            <p:cNvSpPr/>
            <p:nvPr/>
          </p:nvSpPr>
          <p:spPr>
            <a:xfrm>
              <a:off x="3722400" y="5646600"/>
              <a:ext cx="33660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154"/>
            <p:cNvSpPr/>
            <p:nvPr/>
          </p:nvSpPr>
          <p:spPr>
            <a:xfrm>
              <a:off x="3611160" y="6122880"/>
              <a:ext cx="199800" cy="2221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55"/>
            <p:cNvSpPr/>
            <p:nvPr/>
          </p:nvSpPr>
          <p:spPr>
            <a:xfrm>
              <a:off x="4200480" y="5508360"/>
              <a:ext cx="177840" cy="7776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56"/>
            <p:cNvSpPr/>
            <p:nvPr/>
          </p:nvSpPr>
          <p:spPr>
            <a:xfrm>
              <a:off x="4036680" y="5564160"/>
              <a:ext cx="204840" cy="1713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57"/>
            <p:cNvSpPr/>
            <p:nvPr/>
          </p:nvSpPr>
          <p:spPr>
            <a:xfrm>
              <a:off x="3560400" y="5805360"/>
              <a:ext cx="304560" cy="4842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58"/>
            <p:cNvSpPr/>
            <p:nvPr/>
          </p:nvSpPr>
          <p:spPr>
            <a:xfrm>
              <a:off x="4457520" y="6265800"/>
              <a:ext cx="88920" cy="75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59"/>
            <p:cNvSpPr/>
            <p:nvPr/>
          </p:nvSpPr>
          <p:spPr>
            <a:xfrm>
              <a:off x="3551040" y="6494400"/>
              <a:ext cx="258840" cy="28404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60"/>
            <p:cNvSpPr/>
            <p:nvPr/>
          </p:nvSpPr>
          <p:spPr>
            <a:xfrm>
              <a:off x="4087800" y="6483600"/>
              <a:ext cx="23004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1"/>
            <p:cNvSpPr/>
            <p:nvPr/>
          </p:nvSpPr>
          <p:spPr>
            <a:xfrm>
              <a:off x="3838320" y="65628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62"/>
            <p:cNvSpPr/>
            <p:nvPr/>
          </p:nvSpPr>
          <p:spPr>
            <a:xfrm>
              <a:off x="4546440" y="6205680"/>
              <a:ext cx="82440" cy="13968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63"/>
            <p:cNvSpPr/>
            <p:nvPr/>
          </p:nvSpPr>
          <p:spPr>
            <a:xfrm>
              <a:off x="4292640" y="6342120"/>
              <a:ext cx="280800" cy="42228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64"/>
            <p:cNvSpPr/>
            <p:nvPr/>
          </p:nvSpPr>
          <p:spPr>
            <a:xfrm>
              <a:off x="3750840" y="6734160"/>
              <a:ext cx="309600" cy="12384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165"/>
            <p:cNvSpPr/>
            <p:nvPr/>
          </p:nvSpPr>
          <p:spPr>
            <a:xfrm>
              <a:off x="4527720" y="632160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1166"/>
            <p:cNvSpPr/>
            <p:nvPr/>
          </p:nvSpPr>
          <p:spPr>
            <a:xfrm>
              <a:off x="3941640" y="6507360"/>
              <a:ext cx="450720" cy="35064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178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171" name="组合 2179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172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组合 2201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194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2223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68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组合 3073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277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092"/>
          <p:cNvGrpSpPr/>
          <p:nvPr/>
        </p:nvGrpSpPr>
        <p:grpSpPr>
          <a:xfrm>
            <a:off x="5906160" y="2212200"/>
            <a:ext cx="1591920" cy="1428840"/>
            <a:chOff x="5906160" y="2212200"/>
            <a:chExt cx="1591920" cy="1428840"/>
          </a:xfrm>
        </p:grpSpPr>
        <p:sp>
          <p:nvSpPr>
            <p:cNvPr id="296" name="Freeform 1252"/>
            <p:cNvSpPr/>
            <p:nvPr/>
          </p:nvSpPr>
          <p:spPr>
            <a:xfrm rot="1572000">
              <a:off x="6048360" y="2451960"/>
              <a:ext cx="1307160" cy="949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253"/>
            <p:cNvSpPr/>
            <p:nvPr/>
          </p:nvSpPr>
          <p:spPr>
            <a:xfrm rot="1572000">
              <a:off x="6238800" y="3189240"/>
              <a:ext cx="534240" cy="16056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254"/>
            <p:cNvSpPr/>
            <p:nvPr/>
          </p:nvSpPr>
          <p:spPr>
            <a:xfrm rot="1572000">
              <a:off x="6476400" y="2482920"/>
              <a:ext cx="627840" cy="72612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255"/>
            <p:cNvSpPr/>
            <p:nvPr/>
          </p:nvSpPr>
          <p:spPr>
            <a:xfrm rot="1572000">
              <a:off x="6766920" y="2482560"/>
              <a:ext cx="183240" cy="6084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256"/>
            <p:cNvSpPr/>
            <p:nvPr/>
          </p:nvSpPr>
          <p:spPr>
            <a:xfrm rot="1572000">
              <a:off x="6853320" y="2544480"/>
              <a:ext cx="276840" cy="7668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257"/>
            <p:cNvSpPr/>
            <p:nvPr/>
          </p:nvSpPr>
          <p:spPr>
            <a:xfrm rot="1572000">
              <a:off x="6919200" y="2662200"/>
              <a:ext cx="484200" cy="53712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258"/>
            <p:cNvSpPr/>
            <p:nvPr/>
          </p:nvSpPr>
          <p:spPr>
            <a:xfrm rot="1572000">
              <a:off x="6924600" y="2606760"/>
              <a:ext cx="293760" cy="1688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259"/>
            <p:cNvSpPr/>
            <p:nvPr/>
          </p:nvSpPr>
          <p:spPr>
            <a:xfrm rot="1572000">
              <a:off x="6337080" y="3249360"/>
              <a:ext cx="293760" cy="9360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260"/>
            <p:cNvSpPr/>
            <p:nvPr/>
          </p:nvSpPr>
          <p:spPr>
            <a:xfrm rot="1572000">
              <a:off x="6459840" y="3049920"/>
              <a:ext cx="305280" cy="10656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261"/>
            <p:cNvSpPr/>
            <p:nvPr/>
          </p:nvSpPr>
          <p:spPr>
            <a:xfrm rot="1572000">
              <a:off x="6707160" y="267228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262"/>
            <p:cNvSpPr/>
            <p:nvPr/>
          </p:nvSpPr>
          <p:spPr>
            <a:xfrm rot="1572000">
              <a:off x="6586200" y="2866320"/>
              <a:ext cx="313920" cy="14616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263"/>
            <p:cNvSpPr/>
            <p:nvPr/>
          </p:nvSpPr>
          <p:spPr>
            <a:xfrm rot="1572000">
              <a:off x="6048720" y="2743920"/>
              <a:ext cx="508320" cy="318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264"/>
            <p:cNvSpPr/>
            <p:nvPr/>
          </p:nvSpPr>
          <p:spPr>
            <a:xfrm rot="1572000">
              <a:off x="6625440" y="3245400"/>
              <a:ext cx="197280" cy="14328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265"/>
            <p:cNvSpPr/>
            <p:nvPr/>
          </p:nvSpPr>
          <p:spPr>
            <a:xfrm rot="1572000">
              <a:off x="6310800" y="3108960"/>
              <a:ext cx="536760" cy="20448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266"/>
            <p:cNvSpPr/>
            <p:nvPr/>
          </p:nvSpPr>
          <p:spPr>
            <a:xfrm rot="1572000">
              <a:off x="6493680" y="3154680"/>
              <a:ext cx="242640" cy="5256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267"/>
            <p:cNvSpPr/>
            <p:nvPr/>
          </p:nvSpPr>
          <p:spPr>
            <a:xfrm rot="1572000">
              <a:off x="6458760" y="3241080"/>
              <a:ext cx="76680" cy="2808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组合 3109"/>
          <p:cNvGrpSpPr/>
          <p:nvPr/>
        </p:nvGrpSpPr>
        <p:grpSpPr>
          <a:xfrm>
            <a:off x="6643440" y="3714120"/>
            <a:ext cx="1789200" cy="1788840"/>
            <a:chOff x="6643440" y="3714120"/>
            <a:chExt cx="1789200" cy="1788840"/>
          </a:xfrm>
        </p:grpSpPr>
        <p:sp>
          <p:nvSpPr>
            <p:cNvPr id="313" name="Freeform 1198"/>
            <p:cNvSpPr/>
            <p:nvPr/>
          </p:nvSpPr>
          <p:spPr>
            <a:xfrm rot="2023800">
              <a:off x="6892560" y="3963600"/>
              <a:ext cx="1290600" cy="12891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99"/>
            <p:cNvSpPr/>
            <p:nvPr/>
          </p:nvSpPr>
          <p:spPr>
            <a:xfrm rot="2023800">
              <a:off x="7046280" y="4127400"/>
              <a:ext cx="992160" cy="10116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00"/>
            <p:cNvSpPr/>
            <p:nvPr/>
          </p:nvSpPr>
          <p:spPr>
            <a:xfrm rot="2023800">
              <a:off x="6984360" y="4416120"/>
              <a:ext cx="128520" cy="15696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201"/>
            <p:cNvSpPr/>
            <p:nvPr/>
          </p:nvSpPr>
          <p:spPr>
            <a:xfrm rot="2023800">
              <a:off x="7123320" y="3916800"/>
              <a:ext cx="210960" cy="54756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202"/>
            <p:cNvSpPr/>
            <p:nvPr/>
          </p:nvSpPr>
          <p:spPr>
            <a:xfrm rot="2023800">
              <a:off x="7225560" y="4641480"/>
              <a:ext cx="171360" cy="15876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203"/>
            <p:cNvSpPr/>
            <p:nvPr/>
          </p:nvSpPr>
          <p:spPr>
            <a:xfrm rot="2023800">
              <a:off x="6978240" y="4661640"/>
              <a:ext cx="16020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204"/>
            <p:cNvSpPr/>
            <p:nvPr/>
          </p:nvSpPr>
          <p:spPr>
            <a:xfrm rot="2023800">
              <a:off x="7704000" y="45432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205"/>
            <p:cNvSpPr/>
            <p:nvPr/>
          </p:nvSpPr>
          <p:spPr>
            <a:xfrm rot="2023800">
              <a:off x="7464600" y="459288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206"/>
            <p:cNvSpPr/>
            <p:nvPr/>
          </p:nvSpPr>
          <p:spPr>
            <a:xfrm rot="2023800">
              <a:off x="6999120" y="4582800"/>
              <a:ext cx="393480" cy="32364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207"/>
            <p:cNvSpPr/>
            <p:nvPr/>
          </p:nvSpPr>
          <p:spPr>
            <a:xfrm rot="2023800">
              <a:off x="7201080" y="4688280"/>
              <a:ext cx="136440" cy="1094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208"/>
            <p:cNvSpPr/>
            <p:nvPr/>
          </p:nvSpPr>
          <p:spPr>
            <a:xfrm rot="2023800">
              <a:off x="7042680" y="467856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209"/>
            <p:cNvSpPr/>
            <p:nvPr/>
          </p:nvSpPr>
          <p:spPr>
            <a:xfrm rot="2023800">
              <a:off x="7124040" y="4836960"/>
              <a:ext cx="245880" cy="21420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210"/>
            <p:cNvSpPr/>
            <p:nvPr/>
          </p:nvSpPr>
          <p:spPr>
            <a:xfrm rot="2023800">
              <a:off x="7056720" y="4403880"/>
              <a:ext cx="187200" cy="19368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211"/>
            <p:cNvSpPr/>
            <p:nvPr/>
          </p:nvSpPr>
          <p:spPr>
            <a:xfrm rot="2023800">
              <a:off x="7274160" y="4071600"/>
              <a:ext cx="620640" cy="6699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212"/>
            <p:cNvSpPr/>
            <p:nvPr/>
          </p:nvSpPr>
          <p:spPr>
            <a:xfrm rot="2023800">
              <a:off x="7151400" y="4507560"/>
              <a:ext cx="711360" cy="71460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213"/>
            <p:cNvSpPr/>
            <p:nvPr/>
          </p:nvSpPr>
          <p:spPr>
            <a:xfrm rot="2023800">
              <a:off x="7810200" y="4772160"/>
              <a:ext cx="17280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214"/>
            <p:cNvSpPr/>
            <p:nvPr/>
          </p:nvSpPr>
          <p:spPr>
            <a:xfrm rot="2023800">
              <a:off x="7923240" y="44852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215"/>
            <p:cNvSpPr/>
            <p:nvPr/>
          </p:nvSpPr>
          <p:spPr>
            <a:xfrm rot="2023800">
              <a:off x="7949880" y="438192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216"/>
            <p:cNvSpPr/>
            <p:nvPr/>
          </p:nvSpPr>
          <p:spPr>
            <a:xfrm rot="2023800">
              <a:off x="7946280" y="4579560"/>
              <a:ext cx="131760" cy="1746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217"/>
            <p:cNvSpPr/>
            <p:nvPr/>
          </p:nvSpPr>
          <p:spPr>
            <a:xfrm rot="2023800">
              <a:off x="7935120" y="4466520"/>
              <a:ext cx="164880" cy="1699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218"/>
            <p:cNvSpPr/>
            <p:nvPr/>
          </p:nvSpPr>
          <p:spPr>
            <a:xfrm rot="2023800">
              <a:off x="7923960" y="4651560"/>
              <a:ext cx="171360" cy="29376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219"/>
            <p:cNvSpPr/>
            <p:nvPr/>
          </p:nvSpPr>
          <p:spPr>
            <a:xfrm rot="2023800">
              <a:off x="7920000" y="4287240"/>
              <a:ext cx="102960" cy="9828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3132"/>
          <p:cNvGrpSpPr/>
          <p:nvPr/>
        </p:nvGrpSpPr>
        <p:grpSpPr>
          <a:xfrm>
            <a:off x="6737400" y="142920"/>
            <a:ext cx="1049400" cy="1243080"/>
            <a:chOff x="6737400" y="142920"/>
            <a:chExt cx="1049400" cy="1243080"/>
          </a:xfrm>
        </p:grpSpPr>
        <p:sp>
          <p:nvSpPr>
            <p:cNvPr id="336" name="Freeform 1145"/>
            <p:cNvSpPr/>
            <p:nvPr/>
          </p:nvSpPr>
          <p:spPr>
            <a:xfrm>
              <a:off x="6737400" y="142920"/>
              <a:ext cx="1049400" cy="124200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146"/>
            <p:cNvSpPr/>
            <p:nvPr/>
          </p:nvSpPr>
          <p:spPr>
            <a:xfrm>
              <a:off x="7535880" y="155520"/>
              <a:ext cx="203400" cy="30816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147"/>
            <p:cNvSpPr/>
            <p:nvPr/>
          </p:nvSpPr>
          <p:spPr>
            <a:xfrm>
              <a:off x="7184520" y="464040"/>
              <a:ext cx="455760" cy="52056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1148"/>
            <p:cNvSpPr/>
            <p:nvPr/>
          </p:nvSpPr>
          <p:spPr>
            <a:xfrm>
              <a:off x="7363800" y="237240"/>
              <a:ext cx="71640" cy="298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1149"/>
            <p:cNvSpPr/>
            <p:nvPr/>
          </p:nvSpPr>
          <p:spPr>
            <a:xfrm>
              <a:off x="7242120" y="337680"/>
              <a:ext cx="35640" cy="77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150"/>
            <p:cNvSpPr/>
            <p:nvPr/>
          </p:nvSpPr>
          <p:spPr>
            <a:xfrm>
              <a:off x="7112880" y="158400"/>
              <a:ext cx="267840" cy="1332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151"/>
            <p:cNvSpPr/>
            <p:nvPr/>
          </p:nvSpPr>
          <p:spPr>
            <a:xfrm>
              <a:off x="6760080" y="459720"/>
              <a:ext cx="252360" cy="39564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52"/>
            <p:cNvSpPr/>
            <p:nvPr/>
          </p:nvSpPr>
          <p:spPr>
            <a:xfrm>
              <a:off x="7277760" y="267480"/>
              <a:ext cx="86040" cy="70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153"/>
            <p:cNvSpPr/>
            <p:nvPr/>
          </p:nvSpPr>
          <p:spPr>
            <a:xfrm>
              <a:off x="6937920" y="291960"/>
              <a:ext cx="303840" cy="3884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154"/>
            <p:cNvSpPr/>
            <p:nvPr/>
          </p:nvSpPr>
          <p:spPr>
            <a:xfrm>
              <a:off x="6837480" y="722160"/>
              <a:ext cx="180360" cy="2005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155"/>
            <p:cNvSpPr/>
            <p:nvPr/>
          </p:nvSpPr>
          <p:spPr>
            <a:xfrm>
              <a:off x="7369560" y="167040"/>
              <a:ext cx="160560" cy="7020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156"/>
            <p:cNvSpPr/>
            <p:nvPr/>
          </p:nvSpPr>
          <p:spPr>
            <a:xfrm>
              <a:off x="7221960" y="217440"/>
              <a:ext cx="184680" cy="15480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157"/>
            <p:cNvSpPr/>
            <p:nvPr/>
          </p:nvSpPr>
          <p:spPr>
            <a:xfrm>
              <a:off x="6791760" y="435240"/>
              <a:ext cx="275040" cy="437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158"/>
            <p:cNvSpPr/>
            <p:nvPr/>
          </p:nvSpPr>
          <p:spPr>
            <a:xfrm>
              <a:off x="7602120" y="851400"/>
              <a:ext cx="80280" cy="687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159"/>
            <p:cNvSpPr/>
            <p:nvPr/>
          </p:nvSpPr>
          <p:spPr>
            <a:xfrm>
              <a:off x="6783120" y="1057680"/>
              <a:ext cx="233640" cy="2566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160"/>
            <p:cNvSpPr/>
            <p:nvPr/>
          </p:nvSpPr>
          <p:spPr>
            <a:xfrm>
              <a:off x="7267680" y="1047600"/>
              <a:ext cx="207720" cy="19332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161"/>
            <p:cNvSpPr/>
            <p:nvPr/>
          </p:nvSpPr>
          <p:spPr>
            <a:xfrm>
              <a:off x="7042680" y="1119600"/>
              <a:ext cx="216360" cy="15480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162"/>
            <p:cNvSpPr/>
            <p:nvPr/>
          </p:nvSpPr>
          <p:spPr>
            <a:xfrm>
              <a:off x="7682400" y="796680"/>
              <a:ext cx="74520" cy="12600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1163"/>
            <p:cNvSpPr/>
            <p:nvPr/>
          </p:nvSpPr>
          <p:spPr>
            <a:xfrm>
              <a:off x="7452720" y="920160"/>
              <a:ext cx="253800" cy="38124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164"/>
            <p:cNvSpPr/>
            <p:nvPr/>
          </p:nvSpPr>
          <p:spPr>
            <a:xfrm>
              <a:off x="6963840" y="1274400"/>
              <a:ext cx="279360" cy="11160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165"/>
            <p:cNvSpPr/>
            <p:nvPr/>
          </p:nvSpPr>
          <p:spPr>
            <a:xfrm>
              <a:off x="7665120" y="901440"/>
              <a:ext cx="54360" cy="601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1166"/>
            <p:cNvSpPr/>
            <p:nvPr/>
          </p:nvSpPr>
          <p:spPr>
            <a:xfrm>
              <a:off x="7135920" y="1069200"/>
              <a:ext cx="407160" cy="31680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155"/>
          <p:cNvGrpSpPr/>
          <p:nvPr/>
        </p:nvGrpSpPr>
        <p:grpSpPr>
          <a:xfrm>
            <a:off x="7245720" y="5072400"/>
            <a:ext cx="1897920" cy="1969200"/>
            <a:chOff x="7245720" y="5072400"/>
            <a:chExt cx="1897920" cy="1969200"/>
          </a:xfrm>
        </p:grpSpPr>
        <p:sp>
          <p:nvSpPr>
            <p:cNvPr id="359" name="Freeform 1238"/>
            <p:cNvSpPr/>
            <p:nvPr/>
          </p:nvSpPr>
          <p:spPr>
            <a:xfrm rot="2290800">
              <a:off x="7611840" y="5262480"/>
              <a:ext cx="116496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239"/>
            <p:cNvSpPr/>
            <p:nvPr/>
          </p:nvSpPr>
          <p:spPr>
            <a:xfrm rot="2290800">
              <a:off x="7986600" y="529596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240"/>
            <p:cNvSpPr/>
            <p:nvPr/>
          </p:nvSpPr>
          <p:spPr>
            <a:xfrm rot="2290800">
              <a:off x="7625880" y="609192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41"/>
            <p:cNvSpPr/>
            <p:nvPr/>
          </p:nvSpPr>
          <p:spPr>
            <a:xfrm rot="2290800">
              <a:off x="8064360" y="520020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242"/>
            <p:cNvSpPr/>
            <p:nvPr/>
          </p:nvSpPr>
          <p:spPr>
            <a:xfrm rot="2290800">
              <a:off x="7376760" y="6091920"/>
              <a:ext cx="92844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243"/>
            <p:cNvSpPr/>
            <p:nvPr/>
          </p:nvSpPr>
          <p:spPr>
            <a:xfrm rot="2290800">
              <a:off x="8460000" y="60300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244"/>
            <p:cNvSpPr/>
            <p:nvPr/>
          </p:nvSpPr>
          <p:spPr>
            <a:xfrm rot="2290800">
              <a:off x="7953840" y="632088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245"/>
            <p:cNvSpPr/>
            <p:nvPr/>
          </p:nvSpPr>
          <p:spPr>
            <a:xfrm rot="2290800">
              <a:off x="7739640" y="541440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246"/>
            <p:cNvSpPr/>
            <p:nvPr/>
          </p:nvSpPr>
          <p:spPr>
            <a:xfrm rot="2290800">
              <a:off x="8076240" y="59522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247"/>
            <p:cNvSpPr/>
            <p:nvPr/>
          </p:nvSpPr>
          <p:spPr>
            <a:xfrm rot="2290800">
              <a:off x="8283960" y="602892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248"/>
            <p:cNvSpPr/>
            <p:nvPr/>
          </p:nvSpPr>
          <p:spPr>
            <a:xfrm rot="2290800">
              <a:off x="8514000" y="606744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1249"/>
            <p:cNvSpPr/>
            <p:nvPr/>
          </p:nvSpPr>
          <p:spPr>
            <a:xfrm rot="2290800">
              <a:off x="7901640" y="581940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1250"/>
            <p:cNvSpPr/>
            <p:nvPr/>
          </p:nvSpPr>
          <p:spPr>
            <a:xfrm rot="2290800">
              <a:off x="7738920" y="564804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1251"/>
            <p:cNvSpPr/>
            <p:nvPr/>
          </p:nvSpPr>
          <p:spPr>
            <a:xfrm rot="2290800">
              <a:off x="7777800" y="569340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170"/>
          <p:cNvGrpSpPr/>
          <p:nvPr/>
        </p:nvGrpSpPr>
        <p:grpSpPr>
          <a:xfrm>
            <a:off x="7680240" y="1500120"/>
            <a:ext cx="1035000" cy="1432080"/>
            <a:chOff x="7680240" y="1500120"/>
            <a:chExt cx="1035000" cy="1432080"/>
          </a:xfrm>
        </p:grpSpPr>
        <p:sp>
          <p:nvSpPr>
            <p:cNvPr id="374" name="Freeform 1167"/>
            <p:cNvSpPr/>
            <p:nvPr/>
          </p:nvSpPr>
          <p:spPr>
            <a:xfrm>
              <a:off x="7680240" y="1500120"/>
              <a:ext cx="1035000" cy="143208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1168"/>
            <p:cNvSpPr/>
            <p:nvPr/>
          </p:nvSpPr>
          <p:spPr>
            <a:xfrm>
              <a:off x="7746840" y="26514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1169"/>
            <p:cNvSpPr/>
            <p:nvPr/>
          </p:nvSpPr>
          <p:spPr>
            <a:xfrm>
              <a:off x="7708680" y="25624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170"/>
            <p:cNvSpPr/>
            <p:nvPr/>
          </p:nvSpPr>
          <p:spPr>
            <a:xfrm>
              <a:off x="7791120" y="2725920"/>
              <a:ext cx="72720" cy="871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171"/>
            <p:cNvSpPr/>
            <p:nvPr/>
          </p:nvSpPr>
          <p:spPr>
            <a:xfrm>
              <a:off x="8243640" y="1500120"/>
              <a:ext cx="195120" cy="20772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172"/>
            <p:cNvSpPr/>
            <p:nvPr/>
          </p:nvSpPr>
          <p:spPr>
            <a:xfrm>
              <a:off x="8137440" y="1517400"/>
              <a:ext cx="45720" cy="6660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173"/>
            <p:cNvSpPr/>
            <p:nvPr/>
          </p:nvSpPr>
          <p:spPr>
            <a:xfrm>
              <a:off x="8138880" y="1569960"/>
              <a:ext cx="392040" cy="2523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174"/>
            <p:cNvSpPr/>
            <p:nvPr/>
          </p:nvSpPr>
          <p:spPr>
            <a:xfrm>
              <a:off x="7924680" y="1928880"/>
              <a:ext cx="426960" cy="5875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175"/>
            <p:cNvSpPr/>
            <p:nvPr/>
          </p:nvSpPr>
          <p:spPr>
            <a:xfrm>
              <a:off x="7698960" y="1801800"/>
              <a:ext cx="230040" cy="53028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1176"/>
            <p:cNvSpPr/>
            <p:nvPr/>
          </p:nvSpPr>
          <p:spPr>
            <a:xfrm>
              <a:off x="8173800" y="153324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1177"/>
            <p:cNvSpPr/>
            <p:nvPr/>
          </p:nvSpPr>
          <p:spPr>
            <a:xfrm>
              <a:off x="7767360" y="1584000"/>
              <a:ext cx="371520" cy="82728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178"/>
            <p:cNvSpPr/>
            <p:nvPr/>
          </p:nvSpPr>
          <p:spPr>
            <a:xfrm>
              <a:off x="7746840" y="2332080"/>
              <a:ext cx="223560" cy="20160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179"/>
            <p:cNvSpPr/>
            <p:nvPr/>
          </p:nvSpPr>
          <p:spPr>
            <a:xfrm>
              <a:off x="7875360" y="1814400"/>
              <a:ext cx="5364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180"/>
            <p:cNvSpPr/>
            <p:nvPr/>
          </p:nvSpPr>
          <p:spPr>
            <a:xfrm>
              <a:off x="8137440" y="1555560"/>
              <a:ext cx="37800" cy="60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181"/>
            <p:cNvSpPr/>
            <p:nvPr/>
          </p:nvSpPr>
          <p:spPr>
            <a:xfrm>
              <a:off x="7750080" y="219852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182"/>
            <p:cNvSpPr/>
            <p:nvPr/>
          </p:nvSpPr>
          <p:spPr>
            <a:xfrm>
              <a:off x="7868880" y="1958760"/>
              <a:ext cx="96840" cy="30960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183"/>
            <p:cNvSpPr/>
            <p:nvPr/>
          </p:nvSpPr>
          <p:spPr>
            <a:xfrm>
              <a:off x="8502480" y="1795320"/>
              <a:ext cx="153720" cy="51444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184"/>
            <p:cNvSpPr/>
            <p:nvPr/>
          </p:nvSpPr>
          <p:spPr>
            <a:xfrm>
              <a:off x="8661600" y="1954080"/>
              <a:ext cx="34920" cy="16488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185"/>
            <p:cNvSpPr/>
            <p:nvPr/>
          </p:nvSpPr>
          <p:spPr>
            <a:xfrm>
              <a:off x="8346960" y="26924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186"/>
            <p:cNvSpPr/>
            <p:nvPr/>
          </p:nvSpPr>
          <p:spPr>
            <a:xfrm>
              <a:off x="8173800" y="2511720"/>
              <a:ext cx="361800" cy="37764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187"/>
            <p:cNvSpPr/>
            <p:nvPr/>
          </p:nvSpPr>
          <p:spPr>
            <a:xfrm>
              <a:off x="8119800" y="2889360"/>
              <a:ext cx="83880" cy="3960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88"/>
            <p:cNvSpPr/>
            <p:nvPr/>
          </p:nvSpPr>
          <p:spPr>
            <a:xfrm>
              <a:off x="8415360" y="256392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89"/>
            <p:cNvSpPr/>
            <p:nvPr/>
          </p:nvSpPr>
          <p:spPr>
            <a:xfrm>
              <a:off x="8535960" y="2309760"/>
              <a:ext cx="176040" cy="24912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90"/>
            <p:cNvSpPr/>
            <p:nvPr/>
          </p:nvSpPr>
          <p:spPr>
            <a:xfrm>
              <a:off x="8240760" y="2762280"/>
              <a:ext cx="129960" cy="16164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91"/>
            <p:cNvSpPr/>
            <p:nvPr/>
          </p:nvSpPr>
          <p:spPr>
            <a:xfrm>
              <a:off x="8383680" y="2741760"/>
              <a:ext cx="180720" cy="13968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92"/>
            <p:cNvSpPr/>
            <p:nvPr/>
          </p:nvSpPr>
          <p:spPr>
            <a:xfrm>
              <a:off x="8656560" y="2119320"/>
              <a:ext cx="58680" cy="1555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93"/>
            <p:cNvSpPr/>
            <p:nvPr/>
          </p:nvSpPr>
          <p:spPr>
            <a:xfrm>
              <a:off x="8629560" y="223524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94"/>
            <p:cNvSpPr/>
            <p:nvPr/>
          </p:nvSpPr>
          <p:spPr>
            <a:xfrm>
              <a:off x="8332560" y="2668680"/>
              <a:ext cx="271440" cy="23004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1195"/>
            <p:cNvSpPr/>
            <p:nvPr/>
          </p:nvSpPr>
          <p:spPr>
            <a:xfrm>
              <a:off x="8686800" y="2071800"/>
              <a:ext cx="20520" cy="712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1196"/>
            <p:cNvSpPr/>
            <p:nvPr/>
          </p:nvSpPr>
          <p:spPr>
            <a:xfrm>
              <a:off x="8504280" y="2513160"/>
              <a:ext cx="166680" cy="918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1197"/>
            <p:cNvSpPr/>
            <p:nvPr/>
          </p:nvSpPr>
          <p:spPr>
            <a:xfrm>
              <a:off x="8188200" y="285444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组合 3202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406" name="组合 3203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407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8" name="组合 3225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429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0" name="组合 3247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451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组合 4097"/>
          <p:cNvGrpSpPr/>
          <p:nvPr/>
        </p:nvGrpSpPr>
        <p:grpSpPr>
          <a:xfrm>
            <a:off x="-31320" y="5507280"/>
            <a:ext cx="1570680" cy="1486440"/>
            <a:chOff x="-31320" y="5507280"/>
            <a:chExt cx="1570680" cy="1486440"/>
          </a:xfrm>
        </p:grpSpPr>
        <p:sp>
          <p:nvSpPr>
            <p:cNvPr id="511" name="Freeform 1220"/>
            <p:cNvSpPr/>
            <p:nvPr/>
          </p:nvSpPr>
          <p:spPr>
            <a:xfrm rot="18148800">
              <a:off x="268920" y="5628240"/>
              <a:ext cx="969840" cy="1244520"/>
            </a:xfrm>
            <a:custGeom>
              <a:avLst/>
              <a:gdLst/>
              <a:ahLst/>
              <a:rect l="l" t="t" r="r" b="b"/>
              <a:pathLst>
                <a:path w="813" h="1032">
                  <a:moveTo>
                    <a:pt x="745" y="756"/>
                  </a:moveTo>
                  <a:lnTo>
                    <a:pt x="745" y="756"/>
                  </a:lnTo>
                  <a:lnTo>
                    <a:pt x="733" y="781"/>
                  </a:lnTo>
                  <a:lnTo>
                    <a:pt x="722" y="804"/>
                  </a:lnTo>
                  <a:lnTo>
                    <a:pt x="710" y="825"/>
                  </a:lnTo>
                  <a:lnTo>
                    <a:pt x="696" y="845"/>
                  </a:lnTo>
                  <a:lnTo>
                    <a:pt x="682" y="864"/>
                  </a:lnTo>
                  <a:lnTo>
                    <a:pt x="669" y="883"/>
                  </a:lnTo>
                  <a:lnTo>
                    <a:pt x="654" y="900"/>
                  </a:lnTo>
                  <a:lnTo>
                    <a:pt x="640" y="916"/>
                  </a:lnTo>
                  <a:lnTo>
                    <a:pt x="623" y="932"/>
                  </a:lnTo>
                  <a:lnTo>
                    <a:pt x="608" y="945"/>
                  </a:lnTo>
                  <a:lnTo>
                    <a:pt x="591" y="957"/>
                  </a:lnTo>
                  <a:lnTo>
                    <a:pt x="574" y="970"/>
                  </a:lnTo>
                  <a:lnTo>
                    <a:pt x="558" y="980"/>
                  </a:lnTo>
                  <a:lnTo>
                    <a:pt x="541" y="989"/>
                  </a:lnTo>
                  <a:lnTo>
                    <a:pt x="523" y="999"/>
                  </a:lnTo>
                  <a:lnTo>
                    <a:pt x="506" y="1006"/>
                  </a:lnTo>
                  <a:lnTo>
                    <a:pt x="487" y="1012"/>
                  </a:lnTo>
                  <a:lnTo>
                    <a:pt x="469" y="1018"/>
                  </a:lnTo>
                  <a:lnTo>
                    <a:pt x="451" y="1023"/>
                  </a:lnTo>
                  <a:lnTo>
                    <a:pt x="433" y="1028"/>
                  </a:lnTo>
                  <a:lnTo>
                    <a:pt x="414" y="1029"/>
                  </a:lnTo>
                  <a:lnTo>
                    <a:pt x="396" y="1031"/>
                  </a:lnTo>
                  <a:lnTo>
                    <a:pt x="378" y="1032"/>
                  </a:lnTo>
                  <a:lnTo>
                    <a:pt x="358" y="1032"/>
                  </a:lnTo>
                  <a:lnTo>
                    <a:pt x="340" y="1031"/>
                  </a:lnTo>
                  <a:lnTo>
                    <a:pt x="321" y="1029"/>
                  </a:lnTo>
                  <a:lnTo>
                    <a:pt x="285" y="1023"/>
                  </a:lnTo>
                  <a:lnTo>
                    <a:pt x="248" y="1012"/>
                  </a:lnTo>
                  <a:lnTo>
                    <a:pt x="213" y="999"/>
                  </a:lnTo>
                  <a:lnTo>
                    <a:pt x="213" y="999"/>
                  </a:lnTo>
                  <a:lnTo>
                    <a:pt x="197" y="991"/>
                  </a:lnTo>
                  <a:lnTo>
                    <a:pt x="180" y="982"/>
                  </a:lnTo>
                  <a:lnTo>
                    <a:pt x="163" y="971"/>
                  </a:lnTo>
                  <a:lnTo>
                    <a:pt x="148" y="960"/>
                  </a:lnTo>
                  <a:lnTo>
                    <a:pt x="134" y="950"/>
                  </a:lnTo>
                  <a:lnTo>
                    <a:pt x="119" y="938"/>
                  </a:lnTo>
                  <a:lnTo>
                    <a:pt x="107" y="924"/>
                  </a:lnTo>
                  <a:lnTo>
                    <a:pt x="93" y="910"/>
                  </a:lnTo>
                  <a:lnTo>
                    <a:pt x="81" y="896"/>
                  </a:lnTo>
                  <a:lnTo>
                    <a:pt x="70" y="881"/>
                  </a:lnTo>
                  <a:lnTo>
                    <a:pt x="59" y="864"/>
                  </a:lnTo>
                  <a:lnTo>
                    <a:pt x="50" y="849"/>
                  </a:lnTo>
                  <a:lnTo>
                    <a:pt x="41" y="831"/>
                  </a:lnTo>
                  <a:lnTo>
                    <a:pt x="32" y="814"/>
                  </a:lnTo>
                  <a:lnTo>
                    <a:pt x="26" y="796"/>
                  </a:lnTo>
                  <a:lnTo>
                    <a:pt x="18" y="778"/>
                  </a:lnTo>
                  <a:lnTo>
                    <a:pt x="14" y="758"/>
                  </a:lnTo>
                  <a:lnTo>
                    <a:pt x="9" y="738"/>
                  </a:lnTo>
                  <a:lnTo>
                    <a:pt x="5" y="718"/>
                  </a:lnTo>
                  <a:lnTo>
                    <a:pt x="2" y="697"/>
                  </a:lnTo>
                  <a:lnTo>
                    <a:pt x="0" y="677"/>
                  </a:lnTo>
                  <a:lnTo>
                    <a:pt x="0" y="656"/>
                  </a:lnTo>
                  <a:lnTo>
                    <a:pt x="0" y="633"/>
                  </a:lnTo>
                  <a:lnTo>
                    <a:pt x="2" y="612"/>
                  </a:lnTo>
                  <a:lnTo>
                    <a:pt x="3" y="589"/>
                  </a:lnTo>
                  <a:lnTo>
                    <a:pt x="6" y="566"/>
                  </a:lnTo>
                  <a:lnTo>
                    <a:pt x="11" y="543"/>
                  </a:lnTo>
                  <a:lnTo>
                    <a:pt x="17" y="519"/>
                  </a:lnTo>
                  <a:lnTo>
                    <a:pt x="23" y="496"/>
                  </a:lnTo>
                  <a:lnTo>
                    <a:pt x="31" y="471"/>
                  </a:lnTo>
                  <a:lnTo>
                    <a:pt x="40" y="447"/>
                  </a:lnTo>
                  <a:lnTo>
                    <a:pt x="50" y="423"/>
                  </a:lnTo>
                  <a:lnTo>
                    <a:pt x="50" y="423"/>
                  </a:lnTo>
                  <a:lnTo>
                    <a:pt x="62" y="398"/>
                  </a:lnTo>
                  <a:lnTo>
                    <a:pt x="75" y="375"/>
                  </a:lnTo>
                  <a:lnTo>
                    <a:pt x="87" y="351"/>
                  </a:lnTo>
                  <a:lnTo>
                    <a:pt x="102" y="328"/>
                  </a:lnTo>
                  <a:lnTo>
                    <a:pt x="133" y="282"/>
                  </a:lnTo>
                  <a:lnTo>
                    <a:pt x="166" y="238"/>
                  </a:lnTo>
                  <a:lnTo>
                    <a:pt x="203" y="197"/>
                  </a:lnTo>
                  <a:lnTo>
                    <a:pt x="242" y="159"/>
                  </a:lnTo>
                  <a:lnTo>
                    <a:pt x="282" y="124"/>
                  </a:lnTo>
                  <a:lnTo>
                    <a:pt x="302" y="107"/>
                  </a:lnTo>
                  <a:lnTo>
                    <a:pt x="323" y="92"/>
                  </a:lnTo>
                  <a:lnTo>
                    <a:pt x="344" y="78"/>
                  </a:lnTo>
                  <a:lnTo>
                    <a:pt x="366" y="64"/>
                  </a:lnTo>
                  <a:lnTo>
                    <a:pt x="387" y="52"/>
                  </a:lnTo>
                  <a:lnTo>
                    <a:pt x="408" y="42"/>
                  </a:lnTo>
                  <a:lnTo>
                    <a:pt x="430" y="31"/>
                  </a:lnTo>
                  <a:lnTo>
                    <a:pt x="451" y="23"/>
                  </a:lnTo>
                  <a:lnTo>
                    <a:pt x="472" y="16"/>
                  </a:lnTo>
                  <a:lnTo>
                    <a:pt x="494" y="10"/>
                  </a:lnTo>
                  <a:lnTo>
                    <a:pt x="513" y="5"/>
                  </a:lnTo>
                  <a:lnTo>
                    <a:pt x="535" y="2"/>
                  </a:lnTo>
                  <a:lnTo>
                    <a:pt x="555" y="0"/>
                  </a:lnTo>
                  <a:lnTo>
                    <a:pt x="574" y="0"/>
                  </a:lnTo>
                  <a:lnTo>
                    <a:pt x="594" y="2"/>
                  </a:lnTo>
                  <a:lnTo>
                    <a:pt x="612" y="7"/>
                  </a:lnTo>
                  <a:lnTo>
                    <a:pt x="631" y="11"/>
                  </a:lnTo>
                  <a:lnTo>
                    <a:pt x="649" y="17"/>
                  </a:lnTo>
                  <a:lnTo>
                    <a:pt x="649" y="17"/>
                  </a:lnTo>
                  <a:lnTo>
                    <a:pt x="666" y="26"/>
                  </a:lnTo>
                  <a:lnTo>
                    <a:pt x="682" y="37"/>
                  </a:lnTo>
                  <a:lnTo>
                    <a:pt x="698" y="49"/>
                  </a:lnTo>
                  <a:lnTo>
                    <a:pt x="711" y="63"/>
                  </a:lnTo>
                  <a:lnTo>
                    <a:pt x="725" y="78"/>
                  </a:lnTo>
                  <a:lnTo>
                    <a:pt x="737" y="95"/>
                  </a:lnTo>
                  <a:lnTo>
                    <a:pt x="748" y="112"/>
                  </a:lnTo>
                  <a:lnTo>
                    <a:pt x="759" y="132"/>
                  </a:lnTo>
                  <a:lnTo>
                    <a:pt x="768" y="151"/>
                  </a:lnTo>
                  <a:lnTo>
                    <a:pt x="777" y="174"/>
                  </a:lnTo>
                  <a:lnTo>
                    <a:pt x="785" y="196"/>
                  </a:lnTo>
                  <a:lnTo>
                    <a:pt x="791" y="220"/>
                  </a:lnTo>
                  <a:lnTo>
                    <a:pt x="797" y="244"/>
                  </a:lnTo>
                  <a:lnTo>
                    <a:pt x="803" y="269"/>
                  </a:lnTo>
                  <a:lnTo>
                    <a:pt x="806" y="295"/>
                  </a:lnTo>
                  <a:lnTo>
                    <a:pt x="810" y="320"/>
                  </a:lnTo>
                  <a:lnTo>
                    <a:pt x="813" y="375"/>
                  </a:lnTo>
                  <a:lnTo>
                    <a:pt x="813" y="430"/>
                  </a:lnTo>
                  <a:lnTo>
                    <a:pt x="810" y="487"/>
                  </a:lnTo>
                  <a:lnTo>
                    <a:pt x="804" y="543"/>
                  </a:lnTo>
                  <a:lnTo>
                    <a:pt x="795" y="599"/>
                  </a:lnTo>
                  <a:lnTo>
                    <a:pt x="789" y="627"/>
                  </a:lnTo>
                  <a:lnTo>
                    <a:pt x="781" y="654"/>
                  </a:lnTo>
                  <a:lnTo>
                    <a:pt x="774" y="680"/>
                  </a:lnTo>
                  <a:lnTo>
                    <a:pt x="765" y="706"/>
                  </a:lnTo>
                  <a:lnTo>
                    <a:pt x="756" y="732"/>
                  </a:lnTo>
                  <a:lnTo>
                    <a:pt x="745" y="756"/>
                  </a:lnTo>
                  <a:lnTo>
                    <a:pt x="745" y="756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1221"/>
            <p:cNvSpPr/>
            <p:nvPr/>
          </p:nvSpPr>
          <p:spPr>
            <a:xfrm rot="18148800">
              <a:off x="259560" y="6206040"/>
              <a:ext cx="167040" cy="18180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122" y="22"/>
                  </a:moveTo>
                  <a:lnTo>
                    <a:pt x="122" y="2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78" y="31"/>
                  </a:lnTo>
                  <a:lnTo>
                    <a:pt x="50" y="61"/>
                  </a:lnTo>
                  <a:lnTo>
                    <a:pt x="24" y="93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1" y="140"/>
                  </a:lnTo>
                  <a:lnTo>
                    <a:pt x="32" y="146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67" y="119"/>
                  </a:lnTo>
                  <a:lnTo>
                    <a:pt x="91" y="90"/>
                  </a:lnTo>
                  <a:lnTo>
                    <a:pt x="116" y="63"/>
                  </a:lnTo>
                  <a:lnTo>
                    <a:pt x="140" y="37"/>
                  </a:lnTo>
                  <a:lnTo>
                    <a:pt x="140" y="37"/>
                  </a:lnTo>
                  <a:lnTo>
                    <a:pt x="131" y="31"/>
                  </a:lnTo>
                  <a:lnTo>
                    <a:pt x="122" y="22"/>
                  </a:lnTo>
                  <a:lnTo>
                    <a:pt x="122" y="22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1222"/>
            <p:cNvSpPr/>
            <p:nvPr/>
          </p:nvSpPr>
          <p:spPr>
            <a:xfrm rot="18148800">
              <a:off x="484200" y="6508440"/>
              <a:ext cx="97560" cy="231480"/>
            </a:xfrm>
            <a:custGeom>
              <a:avLst/>
              <a:gdLst/>
              <a:ahLst/>
              <a:rect l="l" t="t" r="r" b="b"/>
              <a:pathLst>
                <a:path w="82" h="192">
                  <a:moveTo>
                    <a:pt x="70" y="33"/>
                  </a:moveTo>
                  <a:lnTo>
                    <a:pt x="70" y="3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9" y="44"/>
                  </a:lnTo>
                  <a:lnTo>
                    <a:pt x="15" y="88"/>
                  </a:lnTo>
                  <a:lnTo>
                    <a:pt x="6" y="13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13" y="181"/>
                  </a:lnTo>
                  <a:lnTo>
                    <a:pt x="29" y="187"/>
                  </a:lnTo>
                  <a:lnTo>
                    <a:pt x="29" y="187"/>
                  </a:lnTo>
                  <a:lnTo>
                    <a:pt x="42" y="192"/>
                  </a:lnTo>
                  <a:lnTo>
                    <a:pt x="42" y="192"/>
                  </a:lnTo>
                  <a:lnTo>
                    <a:pt x="50" y="154"/>
                  </a:lnTo>
                  <a:lnTo>
                    <a:pt x="59" y="116"/>
                  </a:lnTo>
                  <a:lnTo>
                    <a:pt x="70" y="80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76" y="41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1223"/>
            <p:cNvSpPr/>
            <p:nvPr/>
          </p:nvSpPr>
          <p:spPr>
            <a:xfrm rot="18148800">
              <a:off x="188280" y="5674320"/>
              <a:ext cx="602640" cy="388080"/>
            </a:xfrm>
            <a:custGeom>
              <a:avLst/>
              <a:gdLst/>
              <a:ahLst/>
              <a:rect l="l" t="t" r="r" b="b"/>
              <a:pathLst>
                <a:path w="505" h="322">
                  <a:moveTo>
                    <a:pt x="259" y="17"/>
                  </a:moveTo>
                  <a:lnTo>
                    <a:pt x="259" y="17"/>
                  </a:lnTo>
                  <a:lnTo>
                    <a:pt x="225" y="42"/>
                  </a:lnTo>
                  <a:lnTo>
                    <a:pt x="193" y="64"/>
                  </a:lnTo>
                  <a:lnTo>
                    <a:pt x="164" y="89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49" y="119"/>
                  </a:lnTo>
                  <a:lnTo>
                    <a:pt x="161" y="128"/>
                  </a:lnTo>
                  <a:lnTo>
                    <a:pt x="161" y="128"/>
                  </a:lnTo>
                  <a:lnTo>
                    <a:pt x="173" y="136"/>
                  </a:lnTo>
                  <a:lnTo>
                    <a:pt x="184" y="147"/>
                  </a:lnTo>
                  <a:lnTo>
                    <a:pt x="205" y="170"/>
                  </a:lnTo>
                  <a:lnTo>
                    <a:pt x="218" y="180"/>
                  </a:lnTo>
                  <a:lnTo>
                    <a:pt x="230" y="189"/>
                  </a:lnTo>
                  <a:lnTo>
                    <a:pt x="243" y="197"/>
                  </a:lnTo>
                  <a:lnTo>
                    <a:pt x="257" y="202"/>
                  </a:lnTo>
                  <a:lnTo>
                    <a:pt x="257" y="202"/>
                  </a:lnTo>
                  <a:lnTo>
                    <a:pt x="274" y="205"/>
                  </a:lnTo>
                  <a:lnTo>
                    <a:pt x="291" y="206"/>
                  </a:lnTo>
                  <a:lnTo>
                    <a:pt x="326" y="206"/>
                  </a:lnTo>
                  <a:lnTo>
                    <a:pt x="342" y="206"/>
                  </a:lnTo>
                  <a:lnTo>
                    <a:pt x="359" y="208"/>
                  </a:lnTo>
                  <a:lnTo>
                    <a:pt x="376" y="211"/>
                  </a:lnTo>
                  <a:lnTo>
                    <a:pt x="391" y="215"/>
                  </a:lnTo>
                  <a:lnTo>
                    <a:pt x="391" y="215"/>
                  </a:lnTo>
                  <a:lnTo>
                    <a:pt x="403" y="221"/>
                  </a:lnTo>
                  <a:lnTo>
                    <a:pt x="416" y="231"/>
                  </a:lnTo>
                  <a:lnTo>
                    <a:pt x="426" y="243"/>
                  </a:lnTo>
                  <a:lnTo>
                    <a:pt x="437" y="255"/>
                  </a:lnTo>
                  <a:lnTo>
                    <a:pt x="460" y="281"/>
                  </a:lnTo>
                  <a:lnTo>
                    <a:pt x="481" y="304"/>
                  </a:lnTo>
                  <a:lnTo>
                    <a:pt x="481" y="304"/>
                  </a:lnTo>
                  <a:lnTo>
                    <a:pt x="493" y="316"/>
                  </a:lnTo>
                  <a:lnTo>
                    <a:pt x="499" y="319"/>
                  </a:lnTo>
                  <a:lnTo>
                    <a:pt x="505" y="322"/>
                  </a:lnTo>
                  <a:lnTo>
                    <a:pt x="505" y="322"/>
                  </a:lnTo>
                  <a:lnTo>
                    <a:pt x="499" y="276"/>
                  </a:lnTo>
                  <a:lnTo>
                    <a:pt x="490" y="232"/>
                  </a:lnTo>
                  <a:lnTo>
                    <a:pt x="478" y="191"/>
                  </a:lnTo>
                  <a:lnTo>
                    <a:pt x="470" y="171"/>
                  </a:lnTo>
                  <a:lnTo>
                    <a:pt x="463" y="153"/>
                  </a:lnTo>
                  <a:lnTo>
                    <a:pt x="455" y="135"/>
                  </a:lnTo>
                  <a:lnTo>
                    <a:pt x="446" y="118"/>
                  </a:lnTo>
                  <a:lnTo>
                    <a:pt x="437" y="101"/>
                  </a:lnTo>
                  <a:lnTo>
                    <a:pt x="426" y="86"/>
                  </a:lnTo>
                  <a:lnTo>
                    <a:pt x="414" y="72"/>
                  </a:lnTo>
                  <a:lnTo>
                    <a:pt x="403" y="60"/>
                  </a:lnTo>
                  <a:lnTo>
                    <a:pt x="390" y="48"/>
                  </a:lnTo>
                  <a:lnTo>
                    <a:pt x="377" y="37"/>
                  </a:lnTo>
                  <a:lnTo>
                    <a:pt x="377" y="37"/>
                  </a:lnTo>
                  <a:lnTo>
                    <a:pt x="364" y="43"/>
                  </a:lnTo>
                  <a:lnTo>
                    <a:pt x="350" y="46"/>
                  </a:lnTo>
                  <a:lnTo>
                    <a:pt x="342" y="48"/>
                  </a:lnTo>
                  <a:lnTo>
                    <a:pt x="336" y="48"/>
                  </a:lnTo>
                  <a:lnTo>
                    <a:pt x="329" y="46"/>
                  </a:lnTo>
                  <a:lnTo>
                    <a:pt x="323" y="43"/>
                  </a:lnTo>
                  <a:lnTo>
                    <a:pt x="323" y="43"/>
                  </a:lnTo>
                  <a:lnTo>
                    <a:pt x="312" y="34"/>
                  </a:lnTo>
                  <a:lnTo>
                    <a:pt x="303" y="23"/>
                  </a:lnTo>
                  <a:lnTo>
                    <a:pt x="286" y="2"/>
                  </a:lnTo>
                  <a:lnTo>
                    <a:pt x="286" y="2"/>
                  </a:lnTo>
                  <a:lnTo>
                    <a:pt x="269" y="0"/>
                  </a:lnTo>
                  <a:lnTo>
                    <a:pt x="253" y="0"/>
                  </a:lnTo>
                  <a:lnTo>
                    <a:pt x="234" y="2"/>
                  </a:lnTo>
                  <a:lnTo>
                    <a:pt x="218" y="4"/>
                  </a:lnTo>
                  <a:lnTo>
                    <a:pt x="199" y="7"/>
                  </a:lnTo>
                  <a:lnTo>
                    <a:pt x="181" y="11"/>
                  </a:lnTo>
                  <a:lnTo>
                    <a:pt x="164" y="17"/>
                  </a:lnTo>
                  <a:lnTo>
                    <a:pt x="146" y="23"/>
                  </a:lnTo>
                  <a:lnTo>
                    <a:pt x="108" y="39"/>
                  </a:lnTo>
                  <a:lnTo>
                    <a:pt x="71" y="58"/>
                  </a:lnTo>
                  <a:lnTo>
                    <a:pt x="35" y="80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16" y="112"/>
                  </a:lnTo>
                  <a:lnTo>
                    <a:pt x="35" y="115"/>
                  </a:lnTo>
                  <a:lnTo>
                    <a:pt x="35" y="115"/>
                  </a:lnTo>
                  <a:lnTo>
                    <a:pt x="44" y="115"/>
                  </a:lnTo>
                  <a:lnTo>
                    <a:pt x="53" y="115"/>
                  </a:lnTo>
                  <a:lnTo>
                    <a:pt x="73" y="112"/>
                  </a:lnTo>
                  <a:lnTo>
                    <a:pt x="73" y="112"/>
                  </a:lnTo>
                  <a:lnTo>
                    <a:pt x="109" y="89"/>
                  </a:lnTo>
                  <a:lnTo>
                    <a:pt x="144" y="69"/>
                  </a:lnTo>
                  <a:lnTo>
                    <a:pt x="176" y="52"/>
                  </a:lnTo>
                  <a:lnTo>
                    <a:pt x="204" y="40"/>
                  </a:lnTo>
                  <a:lnTo>
                    <a:pt x="243" y="23"/>
                  </a:lnTo>
                  <a:lnTo>
                    <a:pt x="259" y="17"/>
                  </a:lnTo>
                  <a:lnTo>
                    <a:pt x="259" y="17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1224"/>
            <p:cNvSpPr/>
            <p:nvPr/>
          </p:nvSpPr>
          <p:spPr>
            <a:xfrm rot="18148800">
              <a:off x="807840" y="6572880"/>
              <a:ext cx="456840" cy="227880"/>
            </a:xfrm>
            <a:custGeom>
              <a:avLst/>
              <a:gdLst/>
              <a:ahLst/>
              <a:rect l="l" t="t" r="r" b="b"/>
              <a:pathLst>
                <a:path w="383" h="189">
                  <a:moveTo>
                    <a:pt x="383" y="119"/>
                  </a:moveTo>
                  <a:lnTo>
                    <a:pt x="383" y="119"/>
                  </a:lnTo>
                  <a:lnTo>
                    <a:pt x="367" y="120"/>
                  </a:lnTo>
                  <a:lnTo>
                    <a:pt x="350" y="123"/>
                  </a:lnTo>
                  <a:lnTo>
                    <a:pt x="318" y="129"/>
                  </a:lnTo>
                  <a:lnTo>
                    <a:pt x="303" y="131"/>
                  </a:lnTo>
                  <a:lnTo>
                    <a:pt x="286" y="129"/>
                  </a:lnTo>
                  <a:lnTo>
                    <a:pt x="271" y="126"/>
                  </a:lnTo>
                  <a:lnTo>
                    <a:pt x="254" y="119"/>
                  </a:lnTo>
                  <a:lnTo>
                    <a:pt x="254" y="119"/>
                  </a:lnTo>
                  <a:lnTo>
                    <a:pt x="239" y="109"/>
                  </a:lnTo>
                  <a:lnTo>
                    <a:pt x="223" y="97"/>
                  </a:lnTo>
                  <a:lnTo>
                    <a:pt x="195" y="70"/>
                  </a:lnTo>
                  <a:lnTo>
                    <a:pt x="166" y="42"/>
                  </a:lnTo>
                  <a:lnTo>
                    <a:pt x="152" y="29"/>
                  </a:lnTo>
                  <a:lnTo>
                    <a:pt x="135" y="16"/>
                  </a:lnTo>
                  <a:lnTo>
                    <a:pt x="135" y="16"/>
                  </a:lnTo>
                  <a:lnTo>
                    <a:pt x="128" y="12"/>
                  </a:lnTo>
                  <a:lnTo>
                    <a:pt x="118" y="7"/>
                  </a:lnTo>
                  <a:lnTo>
                    <a:pt x="111" y="4"/>
                  </a:lnTo>
                  <a:lnTo>
                    <a:pt x="102" y="3"/>
                  </a:lnTo>
                  <a:lnTo>
                    <a:pt x="85" y="0"/>
                  </a:lnTo>
                  <a:lnTo>
                    <a:pt x="68" y="1"/>
                  </a:lnTo>
                  <a:lnTo>
                    <a:pt x="35" y="4"/>
                  </a:lnTo>
                  <a:lnTo>
                    <a:pt x="18" y="4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3" y="32"/>
                  </a:lnTo>
                  <a:lnTo>
                    <a:pt x="32" y="61"/>
                  </a:lnTo>
                  <a:lnTo>
                    <a:pt x="50" y="87"/>
                  </a:lnTo>
                  <a:lnTo>
                    <a:pt x="73" y="111"/>
                  </a:lnTo>
                  <a:lnTo>
                    <a:pt x="96" y="134"/>
                  </a:lnTo>
                  <a:lnTo>
                    <a:pt x="121" y="154"/>
                  </a:lnTo>
                  <a:lnTo>
                    <a:pt x="150" y="170"/>
                  </a:lnTo>
                  <a:lnTo>
                    <a:pt x="179" y="186"/>
                  </a:lnTo>
                  <a:lnTo>
                    <a:pt x="179" y="186"/>
                  </a:lnTo>
                  <a:lnTo>
                    <a:pt x="188" y="189"/>
                  </a:lnTo>
                  <a:lnTo>
                    <a:pt x="188" y="189"/>
                  </a:lnTo>
                  <a:lnTo>
                    <a:pt x="216" y="184"/>
                  </a:lnTo>
                  <a:lnTo>
                    <a:pt x="242" y="176"/>
                  </a:lnTo>
                  <a:lnTo>
                    <a:pt x="266" y="169"/>
                  </a:lnTo>
                  <a:lnTo>
                    <a:pt x="290" y="161"/>
                  </a:lnTo>
                  <a:lnTo>
                    <a:pt x="315" y="151"/>
                  </a:lnTo>
                  <a:lnTo>
                    <a:pt x="338" y="141"/>
                  </a:lnTo>
                  <a:lnTo>
                    <a:pt x="383" y="119"/>
                  </a:lnTo>
                  <a:lnTo>
                    <a:pt x="383" y="119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225"/>
            <p:cNvSpPr/>
            <p:nvPr/>
          </p:nvSpPr>
          <p:spPr>
            <a:xfrm rot="18148800">
              <a:off x="394200" y="5804280"/>
              <a:ext cx="646560" cy="462960"/>
            </a:xfrm>
            <a:custGeom>
              <a:avLst/>
              <a:gdLst/>
              <a:ahLst/>
              <a:rect l="l" t="t" r="r" b="b"/>
              <a:pathLst>
                <a:path w="542" h="384">
                  <a:moveTo>
                    <a:pt x="542" y="220"/>
                  </a:moveTo>
                  <a:lnTo>
                    <a:pt x="542" y="220"/>
                  </a:lnTo>
                  <a:lnTo>
                    <a:pt x="524" y="223"/>
                  </a:lnTo>
                  <a:lnTo>
                    <a:pt x="514" y="223"/>
                  </a:lnTo>
                  <a:lnTo>
                    <a:pt x="501" y="221"/>
                  </a:lnTo>
                  <a:lnTo>
                    <a:pt x="501" y="221"/>
                  </a:lnTo>
                  <a:lnTo>
                    <a:pt x="495" y="218"/>
                  </a:lnTo>
                  <a:lnTo>
                    <a:pt x="488" y="215"/>
                  </a:lnTo>
                  <a:lnTo>
                    <a:pt x="475" y="206"/>
                  </a:lnTo>
                  <a:lnTo>
                    <a:pt x="465" y="195"/>
                  </a:lnTo>
                  <a:lnTo>
                    <a:pt x="454" y="180"/>
                  </a:lnTo>
                  <a:lnTo>
                    <a:pt x="454" y="180"/>
                  </a:lnTo>
                  <a:lnTo>
                    <a:pt x="434" y="153"/>
                  </a:lnTo>
                  <a:lnTo>
                    <a:pt x="413" y="124"/>
                  </a:lnTo>
                  <a:lnTo>
                    <a:pt x="401" y="110"/>
                  </a:lnTo>
                  <a:lnTo>
                    <a:pt x="389" y="99"/>
                  </a:lnTo>
                  <a:lnTo>
                    <a:pt x="376" y="90"/>
                  </a:lnTo>
                  <a:lnTo>
                    <a:pt x="369" y="87"/>
                  </a:lnTo>
                  <a:lnTo>
                    <a:pt x="363" y="85"/>
                  </a:lnTo>
                  <a:lnTo>
                    <a:pt x="363" y="85"/>
                  </a:lnTo>
                  <a:lnTo>
                    <a:pt x="355" y="84"/>
                  </a:lnTo>
                  <a:lnTo>
                    <a:pt x="347" y="84"/>
                  </a:lnTo>
                  <a:lnTo>
                    <a:pt x="334" y="85"/>
                  </a:lnTo>
                  <a:lnTo>
                    <a:pt x="303" y="92"/>
                  </a:lnTo>
                  <a:lnTo>
                    <a:pt x="288" y="95"/>
                  </a:lnTo>
                  <a:lnTo>
                    <a:pt x="273" y="96"/>
                  </a:lnTo>
                  <a:lnTo>
                    <a:pt x="265" y="96"/>
                  </a:lnTo>
                  <a:lnTo>
                    <a:pt x="258" y="95"/>
                  </a:lnTo>
                  <a:lnTo>
                    <a:pt x="250" y="92"/>
                  </a:lnTo>
                  <a:lnTo>
                    <a:pt x="242" y="87"/>
                  </a:lnTo>
                  <a:lnTo>
                    <a:pt x="242" y="87"/>
                  </a:lnTo>
                  <a:lnTo>
                    <a:pt x="230" y="79"/>
                  </a:lnTo>
                  <a:lnTo>
                    <a:pt x="218" y="69"/>
                  </a:lnTo>
                  <a:lnTo>
                    <a:pt x="197" y="47"/>
                  </a:lnTo>
                  <a:lnTo>
                    <a:pt x="175" y="26"/>
                  </a:lnTo>
                  <a:lnTo>
                    <a:pt x="165" y="17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45" y="5"/>
                  </a:lnTo>
                  <a:lnTo>
                    <a:pt x="136" y="2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1" y="2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58" y="38"/>
                  </a:lnTo>
                  <a:lnTo>
                    <a:pt x="37" y="70"/>
                  </a:lnTo>
                  <a:lnTo>
                    <a:pt x="17" y="10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15" y="139"/>
                  </a:lnTo>
                  <a:lnTo>
                    <a:pt x="31" y="145"/>
                  </a:lnTo>
                  <a:lnTo>
                    <a:pt x="43" y="153"/>
                  </a:lnTo>
                  <a:lnTo>
                    <a:pt x="57" y="162"/>
                  </a:lnTo>
                  <a:lnTo>
                    <a:pt x="57" y="162"/>
                  </a:lnTo>
                  <a:lnTo>
                    <a:pt x="72" y="172"/>
                  </a:lnTo>
                  <a:lnTo>
                    <a:pt x="85" y="185"/>
                  </a:lnTo>
                  <a:lnTo>
                    <a:pt x="114" y="212"/>
                  </a:lnTo>
                  <a:lnTo>
                    <a:pt x="130" y="226"/>
                  </a:lnTo>
                  <a:lnTo>
                    <a:pt x="145" y="236"/>
                  </a:lnTo>
                  <a:lnTo>
                    <a:pt x="162" y="247"/>
                  </a:lnTo>
                  <a:lnTo>
                    <a:pt x="178" y="253"/>
                  </a:lnTo>
                  <a:lnTo>
                    <a:pt x="178" y="253"/>
                  </a:lnTo>
                  <a:lnTo>
                    <a:pt x="200" y="258"/>
                  </a:lnTo>
                  <a:lnTo>
                    <a:pt x="220" y="261"/>
                  </a:lnTo>
                  <a:lnTo>
                    <a:pt x="264" y="264"/>
                  </a:lnTo>
                  <a:lnTo>
                    <a:pt x="285" y="265"/>
                  </a:lnTo>
                  <a:lnTo>
                    <a:pt x="305" y="267"/>
                  </a:lnTo>
                  <a:lnTo>
                    <a:pt x="326" y="270"/>
                  </a:lnTo>
                  <a:lnTo>
                    <a:pt x="346" y="276"/>
                  </a:lnTo>
                  <a:lnTo>
                    <a:pt x="346" y="276"/>
                  </a:lnTo>
                  <a:lnTo>
                    <a:pt x="361" y="284"/>
                  </a:lnTo>
                  <a:lnTo>
                    <a:pt x="376" y="293"/>
                  </a:lnTo>
                  <a:lnTo>
                    <a:pt x="392" y="305"/>
                  </a:lnTo>
                  <a:lnTo>
                    <a:pt x="407" y="317"/>
                  </a:lnTo>
                  <a:lnTo>
                    <a:pt x="436" y="343"/>
                  </a:lnTo>
                  <a:lnTo>
                    <a:pt x="450" y="355"/>
                  </a:lnTo>
                  <a:lnTo>
                    <a:pt x="463" y="366"/>
                  </a:lnTo>
                  <a:lnTo>
                    <a:pt x="463" y="366"/>
                  </a:lnTo>
                  <a:lnTo>
                    <a:pt x="477" y="377"/>
                  </a:lnTo>
                  <a:lnTo>
                    <a:pt x="492" y="384"/>
                  </a:lnTo>
                  <a:lnTo>
                    <a:pt x="492" y="384"/>
                  </a:lnTo>
                  <a:lnTo>
                    <a:pt x="520" y="337"/>
                  </a:lnTo>
                  <a:lnTo>
                    <a:pt x="538" y="299"/>
                  </a:lnTo>
                  <a:lnTo>
                    <a:pt x="538" y="299"/>
                  </a:lnTo>
                  <a:lnTo>
                    <a:pt x="542" y="259"/>
                  </a:lnTo>
                  <a:lnTo>
                    <a:pt x="542" y="220"/>
                  </a:lnTo>
                  <a:lnTo>
                    <a:pt x="542" y="22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1226"/>
            <p:cNvSpPr/>
            <p:nvPr/>
          </p:nvSpPr>
          <p:spPr>
            <a:xfrm rot="18148800">
              <a:off x="635760" y="6118920"/>
              <a:ext cx="561960" cy="402840"/>
            </a:xfrm>
            <a:custGeom>
              <a:avLst/>
              <a:gdLst/>
              <a:ahLst/>
              <a:rect l="l" t="t" r="r" b="b"/>
              <a:pathLst>
                <a:path w="471" h="334">
                  <a:moveTo>
                    <a:pt x="451" y="210"/>
                  </a:moveTo>
                  <a:lnTo>
                    <a:pt x="451" y="210"/>
                  </a:lnTo>
                  <a:lnTo>
                    <a:pt x="425" y="183"/>
                  </a:lnTo>
                  <a:lnTo>
                    <a:pt x="398" y="153"/>
                  </a:lnTo>
                  <a:lnTo>
                    <a:pt x="384" y="140"/>
                  </a:lnTo>
                  <a:lnTo>
                    <a:pt x="369" y="128"/>
                  </a:lnTo>
                  <a:lnTo>
                    <a:pt x="352" y="119"/>
                  </a:lnTo>
                  <a:lnTo>
                    <a:pt x="344" y="116"/>
                  </a:lnTo>
                  <a:lnTo>
                    <a:pt x="335" y="113"/>
                  </a:lnTo>
                  <a:lnTo>
                    <a:pt x="335" y="113"/>
                  </a:lnTo>
                  <a:lnTo>
                    <a:pt x="326" y="111"/>
                  </a:lnTo>
                  <a:lnTo>
                    <a:pt x="317" y="111"/>
                  </a:lnTo>
                  <a:lnTo>
                    <a:pt x="299" y="113"/>
                  </a:lnTo>
                  <a:lnTo>
                    <a:pt x="264" y="119"/>
                  </a:lnTo>
                  <a:lnTo>
                    <a:pt x="245" y="121"/>
                  </a:lnTo>
                  <a:lnTo>
                    <a:pt x="227" y="121"/>
                  </a:lnTo>
                  <a:lnTo>
                    <a:pt x="218" y="121"/>
                  </a:lnTo>
                  <a:lnTo>
                    <a:pt x="209" y="118"/>
                  </a:lnTo>
                  <a:lnTo>
                    <a:pt x="200" y="114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75" y="99"/>
                  </a:lnTo>
                  <a:lnTo>
                    <a:pt x="161" y="89"/>
                  </a:lnTo>
                  <a:lnTo>
                    <a:pt x="134" y="63"/>
                  </a:lnTo>
                  <a:lnTo>
                    <a:pt x="107" y="37"/>
                  </a:lnTo>
                  <a:lnTo>
                    <a:pt x="93" y="25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2" y="9"/>
                  </a:lnTo>
                  <a:lnTo>
                    <a:pt x="64" y="6"/>
                  </a:lnTo>
                  <a:lnTo>
                    <a:pt x="49" y="2"/>
                  </a:lnTo>
                  <a:lnTo>
                    <a:pt x="3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40"/>
                  </a:lnTo>
                  <a:lnTo>
                    <a:pt x="5" y="75"/>
                  </a:lnTo>
                  <a:lnTo>
                    <a:pt x="2" y="107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2" y="172"/>
                  </a:lnTo>
                  <a:lnTo>
                    <a:pt x="2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29" y="212"/>
                  </a:lnTo>
                  <a:lnTo>
                    <a:pt x="59" y="241"/>
                  </a:lnTo>
                  <a:lnTo>
                    <a:pt x="76" y="255"/>
                  </a:lnTo>
                  <a:lnTo>
                    <a:pt x="93" y="267"/>
                  </a:lnTo>
                  <a:lnTo>
                    <a:pt x="110" y="276"/>
                  </a:lnTo>
                  <a:lnTo>
                    <a:pt x="126" y="284"/>
                  </a:lnTo>
                  <a:lnTo>
                    <a:pt x="126" y="284"/>
                  </a:lnTo>
                  <a:lnTo>
                    <a:pt x="149" y="288"/>
                  </a:lnTo>
                  <a:lnTo>
                    <a:pt x="174" y="291"/>
                  </a:lnTo>
                  <a:lnTo>
                    <a:pt x="198" y="294"/>
                  </a:lnTo>
                  <a:lnTo>
                    <a:pt x="222" y="296"/>
                  </a:lnTo>
                  <a:lnTo>
                    <a:pt x="245" y="297"/>
                  </a:lnTo>
                  <a:lnTo>
                    <a:pt x="270" y="299"/>
                  </a:lnTo>
                  <a:lnTo>
                    <a:pt x="294" y="302"/>
                  </a:lnTo>
                  <a:lnTo>
                    <a:pt x="317" y="308"/>
                  </a:lnTo>
                  <a:lnTo>
                    <a:pt x="317" y="308"/>
                  </a:lnTo>
                  <a:lnTo>
                    <a:pt x="331" y="313"/>
                  </a:lnTo>
                  <a:lnTo>
                    <a:pt x="344" y="319"/>
                  </a:lnTo>
                  <a:lnTo>
                    <a:pt x="370" y="334"/>
                  </a:lnTo>
                  <a:lnTo>
                    <a:pt x="370" y="334"/>
                  </a:lnTo>
                  <a:lnTo>
                    <a:pt x="398" y="308"/>
                  </a:lnTo>
                  <a:lnTo>
                    <a:pt x="423" y="282"/>
                  </a:lnTo>
                  <a:lnTo>
                    <a:pt x="448" y="256"/>
                  </a:lnTo>
                  <a:lnTo>
                    <a:pt x="471" y="230"/>
                  </a:lnTo>
                  <a:lnTo>
                    <a:pt x="471" y="230"/>
                  </a:lnTo>
                  <a:lnTo>
                    <a:pt x="460" y="221"/>
                  </a:lnTo>
                  <a:lnTo>
                    <a:pt x="451" y="210"/>
                  </a:lnTo>
                  <a:lnTo>
                    <a:pt x="451" y="210"/>
                  </a:lnTo>
                  <a:close/>
                </a:path>
              </a:pathLst>
            </a:custGeom>
            <a:solidFill>
              <a:srgbClr val="ffc5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1227"/>
            <p:cNvSpPr/>
            <p:nvPr/>
          </p:nvSpPr>
          <p:spPr>
            <a:xfrm rot="18148800">
              <a:off x="1036080" y="5925600"/>
              <a:ext cx="156240" cy="18936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41" y="156"/>
                  </a:moveTo>
                  <a:lnTo>
                    <a:pt x="41" y="156"/>
                  </a:lnTo>
                  <a:lnTo>
                    <a:pt x="52" y="157"/>
                  </a:lnTo>
                  <a:lnTo>
                    <a:pt x="64" y="157"/>
                  </a:lnTo>
                  <a:lnTo>
                    <a:pt x="85" y="154"/>
                  </a:lnTo>
                  <a:lnTo>
                    <a:pt x="85" y="154"/>
                  </a:lnTo>
                  <a:lnTo>
                    <a:pt x="99" y="119"/>
                  </a:lnTo>
                  <a:lnTo>
                    <a:pt x="111" y="81"/>
                  </a:lnTo>
                  <a:lnTo>
                    <a:pt x="122" y="4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08" y="3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77" y="32"/>
                  </a:lnTo>
                  <a:lnTo>
                    <a:pt x="55" y="66"/>
                  </a:lnTo>
                  <a:lnTo>
                    <a:pt x="29" y="101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9" y="143"/>
                  </a:lnTo>
                  <a:lnTo>
                    <a:pt x="18" y="149"/>
                  </a:lnTo>
                  <a:lnTo>
                    <a:pt x="29" y="153"/>
                  </a:lnTo>
                  <a:lnTo>
                    <a:pt x="41" y="156"/>
                  </a:lnTo>
                  <a:lnTo>
                    <a:pt x="41" y="15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228"/>
            <p:cNvSpPr/>
            <p:nvPr/>
          </p:nvSpPr>
          <p:spPr>
            <a:xfrm rot="18148800">
              <a:off x="1080720" y="6252840"/>
              <a:ext cx="342360" cy="194040"/>
            </a:xfrm>
            <a:custGeom>
              <a:avLst/>
              <a:gdLst/>
              <a:ahLst/>
              <a:rect l="l" t="t" r="r" b="b"/>
              <a:pathLst>
                <a:path w="287" h="161">
                  <a:moveTo>
                    <a:pt x="122" y="161"/>
                  </a:moveTo>
                  <a:lnTo>
                    <a:pt x="122" y="161"/>
                  </a:lnTo>
                  <a:lnTo>
                    <a:pt x="145" y="149"/>
                  </a:lnTo>
                  <a:lnTo>
                    <a:pt x="168" y="134"/>
                  </a:lnTo>
                  <a:lnTo>
                    <a:pt x="189" y="117"/>
                  </a:lnTo>
                  <a:lnTo>
                    <a:pt x="211" y="99"/>
                  </a:lnTo>
                  <a:lnTo>
                    <a:pt x="230" y="79"/>
                  </a:lnTo>
                  <a:lnTo>
                    <a:pt x="250" y="56"/>
                  </a:lnTo>
                  <a:lnTo>
                    <a:pt x="269" y="33"/>
                  </a:lnTo>
                  <a:lnTo>
                    <a:pt x="287" y="6"/>
                  </a:lnTo>
                  <a:lnTo>
                    <a:pt x="287" y="6"/>
                  </a:lnTo>
                  <a:lnTo>
                    <a:pt x="265" y="36"/>
                  </a:lnTo>
                  <a:lnTo>
                    <a:pt x="244" y="64"/>
                  </a:lnTo>
                  <a:lnTo>
                    <a:pt x="244" y="64"/>
                  </a:lnTo>
                  <a:lnTo>
                    <a:pt x="230" y="58"/>
                  </a:lnTo>
                  <a:lnTo>
                    <a:pt x="230" y="58"/>
                  </a:lnTo>
                  <a:lnTo>
                    <a:pt x="211" y="44"/>
                  </a:lnTo>
                  <a:lnTo>
                    <a:pt x="191" y="30"/>
                  </a:lnTo>
                  <a:lnTo>
                    <a:pt x="170" y="15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15" y="27"/>
                  </a:lnTo>
                  <a:lnTo>
                    <a:pt x="78" y="55"/>
                  </a:lnTo>
                  <a:lnTo>
                    <a:pt x="40" y="81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04"/>
                  </a:lnTo>
                  <a:lnTo>
                    <a:pt x="28" y="105"/>
                  </a:lnTo>
                  <a:lnTo>
                    <a:pt x="28" y="105"/>
                  </a:lnTo>
                  <a:lnTo>
                    <a:pt x="42" y="108"/>
                  </a:lnTo>
                  <a:lnTo>
                    <a:pt x="54" y="113"/>
                  </a:lnTo>
                  <a:lnTo>
                    <a:pt x="67" y="119"/>
                  </a:lnTo>
                  <a:lnTo>
                    <a:pt x="78" y="126"/>
                  </a:lnTo>
                  <a:lnTo>
                    <a:pt x="101" y="143"/>
                  </a:lnTo>
                  <a:lnTo>
                    <a:pt x="122" y="161"/>
                  </a:lnTo>
                  <a:lnTo>
                    <a:pt x="122" y="161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1229"/>
            <p:cNvSpPr/>
            <p:nvPr/>
          </p:nvSpPr>
          <p:spPr>
            <a:xfrm rot="18148800">
              <a:off x="1022040" y="6518520"/>
              <a:ext cx="378000" cy="120600"/>
            </a:xfrm>
            <a:custGeom>
              <a:avLst/>
              <a:gdLst/>
              <a:ahLst/>
              <a:rect l="l" t="t" r="r" b="b"/>
              <a:pathLst>
                <a:path w="317" h="100">
                  <a:moveTo>
                    <a:pt x="302" y="67"/>
                  </a:moveTo>
                  <a:lnTo>
                    <a:pt x="302" y="67"/>
                  </a:lnTo>
                  <a:lnTo>
                    <a:pt x="313" y="60"/>
                  </a:lnTo>
                  <a:lnTo>
                    <a:pt x="313" y="60"/>
                  </a:lnTo>
                  <a:lnTo>
                    <a:pt x="317" y="57"/>
                  </a:lnTo>
                  <a:lnTo>
                    <a:pt x="317" y="57"/>
                  </a:lnTo>
                  <a:lnTo>
                    <a:pt x="296" y="39"/>
                  </a:lnTo>
                  <a:lnTo>
                    <a:pt x="273" y="22"/>
                  </a:lnTo>
                  <a:lnTo>
                    <a:pt x="262" y="15"/>
                  </a:lnTo>
                  <a:lnTo>
                    <a:pt x="249" y="9"/>
                  </a:lnTo>
                  <a:lnTo>
                    <a:pt x="237" y="4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09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50" y="22"/>
                  </a:lnTo>
                  <a:lnTo>
                    <a:pt x="127" y="32"/>
                  </a:lnTo>
                  <a:lnTo>
                    <a:pt x="102" y="42"/>
                  </a:lnTo>
                  <a:lnTo>
                    <a:pt x="78" y="50"/>
                  </a:lnTo>
                  <a:lnTo>
                    <a:pt x="54" y="57"/>
                  </a:lnTo>
                  <a:lnTo>
                    <a:pt x="28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40" y="85"/>
                  </a:lnTo>
                  <a:lnTo>
                    <a:pt x="63" y="91"/>
                  </a:lnTo>
                  <a:lnTo>
                    <a:pt x="84" y="94"/>
                  </a:lnTo>
                  <a:lnTo>
                    <a:pt x="107" y="99"/>
                  </a:lnTo>
                  <a:lnTo>
                    <a:pt x="107" y="99"/>
                  </a:lnTo>
                  <a:lnTo>
                    <a:pt x="109" y="99"/>
                  </a:lnTo>
                  <a:lnTo>
                    <a:pt x="109" y="99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7" y="100"/>
                  </a:lnTo>
                  <a:lnTo>
                    <a:pt x="127" y="100"/>
                  </a:lnTo>
                  <a:lnTo>
                    <a:pt x="142" y="100"/>
                  </a:lnTo>
                  <a:lnTo>
                    <a:pt x="142" y="100"/>
                  </a:lnTo>
                  <a:lnTo>
                    <a:pt x="147" y="100"/>
                  </a:lnTo>
                  <a:lnTo>
                    <a:pt x="147" y="100"/>
                  </a:lnTo>
                  <a:lnTo>
                    <a:pt x="160" y="100"/>
                  </a:lnTo>
                  <a:lnTo>
                    <a:pt x="160" y="100"/>
                  </a:lnTo>
                  <a:lnTo>
                    <a:pt x="166" y="100"/>
                  </a:lnTo>
                  <a:lnTo>
                    <a:pt x="166" y="100"/>
                  </a:lnTo>
                  <a:lnTo>
                    <a:pt x="180" y="99"/>
                  </a:lnTo>
                  <a:lnTo>
                    <a:pt x="180" y="99"/>
                  </a:lnTo>
                  <a:lnTo>
                    <a:pt x="185" y="99"/>
                  </a:lnTo>
                  <a:lnTo>
                    <a:pt x="185" y="99"/>
                  </a:lnTo>
                  <a:lnTo>
                    <a:pt x="198" y="97"/>
                  </a:lnTo>
                  <a:lnTo>
                    <a:pt x="198" y="97"/>
                  </a:lnTo>
                  <a:lnTo>
                    <a:pt x="202" y="96"/>
                  </a:lnTo>
                  <a:lnTo>
                    <a:pt x="202" y="96"/>
                  </a:lnTo>
                  <a:lnTo>
                    <a:pt x="230" y="91"/>
                  </a:lnTo>
                  <a:lnTo>
                    <a:pt x="230" y="91"/>
                  </a:lnTo>
                  <a:lnTo>
                    <a:pt x="235" y="89"/>
                  </a:lnTo>
                  <a:lnTo>
                    <a:pt x="235" y="89"/>
                  </a:lnTo>
                  <a:lnTo>
                    <a:pt x="246" y="86"/>
                  </a:lnTo>
                  <a:lnTo>
                    <a:pt x="246" y="86"/>
                  </a:lnTo>
                  <a:lnTo>
                    <a:pt x="255" y="83"/>
                  </a:lnTo>
                  <a:lnTo>
                    <a:pt x="255" y="83"/>
                  </a:lnTo>
                  <a:lnTo>
                    <a:pt x="264" y="80"/>
                  </a:lnTo>
                  <a:lnTo>
                    <a:pt x="264" y="80"/>
                  </a:lnTo>
                  <a:lnTo>
                    <a:pt x="275" y="77"/>
                  </a:lnTo>
                  <a:lnTo>
                    <a:pt x="275" y="77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93" y="70"/>
                  </a:lnTo>
                  <a:lnTo>
                    <a:pt x="293" y="70"/>
                  </a:lnTo>
                  <a:lnTo>
                    <a:pt x="302" y="67"/>
                  </a:lnTo>
                  <a:lnTo>
                    <a:pt x="302" y="67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1230"/>
            <p:cNvSpPr/>
            <p:nvPr/>
          </p:nvSpPr>
          <p:spPr>
            <a:xfrm rot="18148800">
              <a:off x="1001160" y="5834520"/>
              <a:ext cx="54720" cy="108360"/>
            </a:xfrm>
            <a:custGeom>
              <a:avLst/>
              <a:gdLst/>
              <a:ahLst/>
              <a:rect l="l" t="t" r="r" b="b"/>
              <a:pathLst>
                <a:path w="46" h="90">
                  <a:moveTo>
                    <a:pt x="34" y="88"/>
                  </a:moveTo>
                  <a:lnTo>
                    <a:pt x="34" y="88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43" y="30"/>
                  </a:lnTo>
                  <a:lnTo>
                    <a:pt x="43" y="3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8" y="3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1" y="88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1231"/>
            <p:cNvSpPr/>
            <p:nvPr/>
          </p:nvSpPr>
          <p:spPr>
            <a:xfrm rot="18148800">
              <a:off x="1100880" y="6085440"/>
              <a:ext cx="221760" cy="202320"/>
            </a:xfrm>
            <a:custGeom>
              <a:avLst/>
              <a:gdLst/>
              <a:ahLst/>
              <a:rect l="l" t="t" r="r" b="b"/>
              <a:pathLst>
                <a:path w="186" h="168">
                  <a:moveTo>
                    <a:pt x="96" y="168"/>
                  </a:moveTo>
                  <a:lnTo>
                    <a:pt x="96" y="168"/>
                  </a:lnTo>
                  <a:lnTo>
                    <a:pt x="117" y="140"/>
                  </a:lnTo>
                  <a:lnTo>
                    <a:pt x="139" y="110"/>
                  </a:lnTo>
                  <a:lnTo>
                    <a:pt x="139" y="110"/>
                  </a:lnTo>
                  <a:lnTo>
                    <a:pt x="142" y="104"/>
                  </a:lnTo>
                  <a:lnTo>
                    <a:pt x="142" y="10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9" y="75"/>
                  </a:lnTo>
                  <a:lnTo>
                    <a:pt x="159" y="75"/>
                  </a:lnTo>
                  <a:lnTo>
                    <a:pt x="166" y="63"/>
                  </a:lnTo>
                  <a:lnTo>
                    <a:pt x="166" y="63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80" y="32"/>
                  </a:lnTo>
                  <a:lnTo>
                    <a:pt x="180" y="32"/>
                  </a:lnTo>
                  <a:lnTo>
                    <a:pt x="186" y="17"/>
                  </a:lnTo>
                  <a:lnTo>
                    <a:pt x="186" y="17"/>
                  </a:lnTo>
                  <a:lnTo>
                    <a:pt x="165" y="20"/>
                  </a:lnTo>
                  <a:lnTo>
                    <a:pt x="153" y="20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30" y="16"/>
                  </a:lnTo>
                  <a:lnTo>
                    <a:pt x="119" y="12"/>
                  </a:lnTo>
                  <a:lnTo>
                    <a:pt x="110" y="6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78" y="26"/>
                  </a:lnTo>
                  <a:lnTo>
                    <a:pt x="53" y="52"/>
                  </a:lnTo>
                  <a:lnTo>
                    <a:pt x="28" y="7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2" y="119"/>
                  </a:lnTo>
                  <a:lnTo>
                    <a:pt x="43" y="134"/>
                  </a:lnTo>
                  <a:lnTo>
                    <a:pt x="63" y="148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96" y="168"/>
                  </a:lnTo>
                  <a:lnTo>
                    <a:pt x="96" y="168"/>
                  </a:lnTo>
                  <a:close/>
                </a:path>
              </a:pathLst>
            </a:custGeom>
            <a:solidFill>
              <a:srgbClr val="d4a4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1232"/>
            <p:cNvSpPr/>
            <p:nvPr/>
          </p:nvSpPr>
          <p:spPr>
            <a:xfrm rot="18148800">
              <a:off x="390240" y="6309000"/>
              <a:ext cx="222840" cy="21096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55" y="174"/>
                  </a:moveTo>
                  <a:lnTo>
                    <a:pt x="55" y="174"/>
                  </a:lnTo>
                  <a:lnTo>
                    <a:pt x="73" y="175"/>
                  </a:lnTo>
                  <a:lnTo>
                    <a:pt x="93" y="174"/>
                  </a:lnTo>
                  <a:lnTo>
                    <a:pt x="129" y="169"/>
                  </a:lnTo>
                  <a:lnTo>
                    <a:pt x="129" y="169"/>
                  </a:lnTo>
                  <a:lnTo>
                    <a:pt x="138" y="133"/>
                  </a:lnTo>
                  <a:lnTo>
                    <a:pt x="152" y="95"/>
                  </a:lnTo>
                  <a:lnTo>
                    <a:pt x="167" y="53"/>
                  </a:lnTo>
                  <a:lnTo>
                    <a:pt x="187" y="12"/>
                  </a:lnTo>
                  <a:lnTo>
                    <a:pt x="187" y="12"/>
                  </a:lnTo>
                  <a:lnTo>
                    <a:pt x="177" y="9"/>
                  </a:lnTo>
                  <a:lnTo>
                    <a:pt x="177" y="9"/>
                  </a:lnTo>
                  <a:lnTo>
                    <a:pt x="157" y="9"/>
                  </a:lnTo>
                  <a:lnTo>
                    <a:pt x="137" y="9"/>
                  </a:lnTo>
                  <a:lnTo>
                    <a:pt x="117" y="9"/>
                  </a:lnTo>
                  <a:lnTo>
                    <a:pt x="106" y="8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8" y="35"/>
                  </a:lnTo>
                  <a:lnTo>
                    <a:pt x="36" y="72"/>
                  </a:lnTo>
                  <a:lnTo>
                    <a:pt x="17" y="111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10" y="162"/>
                  </a:lnTo>
                  <a:lnTo>
                    <a:pt x="24" y="168"/>
                  </a:lnTo>
                  <a:lnTo>
                    <a:pt x="38" y="171"/>
                  </a:lnTo>
                  <a:lnTo>
                    <a:pt x="55" y="174"/>
                  </a:lnTo>
                  <a:lnTo>
                    <a:pt x="55" y="174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1233"/>
            <p:cNvSpPr/>
            <p:nvPr/>
          </p:nvSpPr>
          <p:spPr>
            <a:xfrm rot="18148800">
              <a:off x="613800" y="6596280"/>
              <a:ext cx="184680" cy="6624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71" y="9"/>
                  </a:moveTo>
                  <a:lnTo>
                    <a:pt x="71" y="9"/>
                  </a:lnTo>
                  <a:lnTo>
                    <a:pt x="54" y="6"/>
                  </a:lnTo>
                  <a:lnTo>
                    <a:pt x="38" y="4"/>
                  </a:lnTo>
                  <a:lnTo>
                    <a:pt x="21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55" y="55"/>
                  </a:lnTo>
                  <a:lnTo>
                    <a:pt x="155" y="55"/>
                  </a:lnTo>
                  <a:lnTo>
                    <a:pt x="146" y="47"/>
                  </a:lnTo>
                  <a:lnTo>
                    <a:pt x="146" y="47"/>
                  </a:lnTo>
                  <a:lnTo>
                    <a:pt x="128" y="35"/>
                  </a:lnTo>
                  <a:lnTo>
                    <a:pt x="111" y="24"/>
                  </a:lnTo>
                  <a:lnTo>
                    <a:pt x="93" y="15"/>
                  </a:lnTo>
                  <a:lnTo>
                    <a:pt x="71" y="9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1234"/>
            <p:cNvSpPr/>
            <p:nvPr/>
          </p:nvSpPr>
          <p:spPr>
            <a:xfrm rot="18148800">
              <a:off x="249480" y="6013440"/>
              <a:ext cx="218160" cy="12996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43" y="108"/>
                  </a:moveTo>
                  <a:lnTo>
                    <a:pt x="43" y="108"/>
                  </a:lnTo>
                  <a:lnTo>
                    <a:pt x="55" y="108"/>
                  </a:lnTo>
                  <a:lnTo>
                    <a:pt x="69" y="106"/>
                  </a:lnTo>
                  <a:lnTo>
                    <a:pt x="94" y="100"/>
                  </a:lnTo>
                  <a:lnTo>
                    <a:pt x="94" y="100"/>
                  </a:lnTo>
                  <a:lnTo>
                    <a:pt x="114" y="76"/>
                  </a:lnTo>
                  <a:lnTo>
                    <a:pt x="136" y="53"/>
                  </a:lnTo>
                  <a:lnTo>
                    <a:pt x="158" y="29"/>
                  </a:lnTo>
                  <a:lnTo>
                    <a:pt x="183" y="4"/>
                  </a:lnTo>
                  <a:lnTo>
                    <a:pt x="183" y="4"/>
                  </a:lnTo>
                  <a:lnTo>
                    <a:pt x="169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36" y="1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90" y="24"/>
                  </a:lnTo>
                  <a:lnTo>
                    <a:pt x="59" y="47"/>
                  </a:lnTo>
                  <a:lnTo>
                    <a:pt x="30" y="73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9" y="105"/>
                  </a:lnTo>
                  <a:lnTo>
                    <a:pt x="18" y="106"/>
                  </a:lnTo>
                  <a:lnTo>
                    <a:pt x="43" y="108"/>
                  </a:lnTo>
                  <a:lnTo>
                    <a:pt x="43" y="10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1235"/>
            <p:cNvSpPr/>
            <p:nvPr/>
          </p:nvSpPr>
          <p:spPr>
            <a:xfrm rot="18148800">
              <a:off x="539640" y="6450840"/>
              <a:ext cx="201600" cy="242280"/>
            </a:xfrm>
            <a:custGeom>
              <a:avLst/>
              <a:gdLst/>
              <a:ahLst/>
              <a:rect l="l" t="t" r="r" b="b"/>
              <a:pathLst>
                <a:path w="169" h="201">
                  <a:moveTo>
                    <a:pt x="169" y="15"/>
                  </a:moveTo>
                  <a:lnTo>
                    <a:pt x="169" y="15"/>
                  </a:lnTo>
                  <a:lnTo>
                    <a:pt x="133" y="20"/>
                  </a:lnTo>
                  <a:lnTo>
                    <a:pt x="113" y="21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78" y="17"/>
                  </a:lnTo>
                  <a:lnTo>
                    <a:pt x="64" y="14"/>
                  </a:lnTo>
                  <a:lnTo>
                    <a:pt x="50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8" y="33"/>
                  </a:lnTo>
                  <a:lnTo>
                    <a:pt x="17" y="69"/>
                  </a:lnTo>
                  <a:lnTo>
                    <a:pt x="8" y="107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7" y="148"/>
                  </a:lnTo>
                  <a:lnTo>
                    <a:pt x="34" y="149"/>
                  </a:lnTo>
                  <a:lnTo>
                    <a:pt x="50" y="151"/>
                  </a:lnTo>
                  <a:lnTo>
                    <a:pt x="67" y="154"/>
                  </a:lnTo>
                  <a:lnTo>
                    <a:pt x="67" y="154"/>
                  </a:lnTo>
                  <a:lnTo>
                    <a:pt x="89" y="160"/>
                  </a:lnTo>
                  <a:lnTo>
                    <a:pt x="107" y="169"/>
                  </a:lnTo>
                  <a:lnTo>
                    <a:pt x="124" y="180"/>
                  </a:lnTo>
                  <a:lnTo>
                    <a:pt x="142" y="192"/>
                  </a:lnTo>
                  <a:lnTo>
                    <a:pt x="142" y="192"/>
                  </a:lnTo>
                  <a:lnTo>
                    <a:pt x="151" y="200"/>
                  </a:lnTo>
                  <a:lnTo>
                    <a:pt x="153" y="201"/>
                  </a:lnTo>
                  <a:lnTo>
                    <a:pt x="153" y="201"/>
                  </a:lnTo>
                  <a:lnTo>
                    <a:pt x="153" y="187"/>
                  </a:lnTo>
                  <a:lnTo>
                    <a:pt x="151" y="171"/>
                  </a:lnTo>
                  <a:lnTo>
                    <a:pt x="151" y="149"/>
                  </a:lnTo>
                  <a:lnTo>
                    <a:pt x="153" y="122"/>
                  </a:lnTo>
                  <a:lnTo>
                    <a:pt x="156" y="90"/>
                  </a:lnTo>
                  <a:lnTo>
                    <a:pt x="162" y="55"/>
                  </a:lnTo>
                  <a:lnTo>
                    <a:pt x="169" y="15"/>
                  </a:lnTo>
                  <a:lnTo>
                    <a:pt x="169" y="1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236"/>
            <p:cNvSpPr/>
            <p:nvPr/>
          </p:nvSpPr>
          <p:spPr>
            <a:xfrm rot="18148800">
              <a:off x="297720" y="6165720"/>
              <a:ext cx="226440" cy="154080"/>
            </a:xfrm>
            <a:custGeom>
              <a:avLst/>
              <a:gdLst/>
              <a:ahLst/>
              <a:rect l="l" t="t" r="r" b="b"/>
              <a:pathLst>
                <a:path w="190" h="128">
                  <a:moveTo>
                    <a:pt x="98" y="125"/>
                  </a:moveTo>
                  <a:lnTo>
                    <a:pt x="98" y="125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25" y="96"/>
                  </a:lnTo>
                  <a:lnTo>
                    <a:pt x="145" y="64"/>
                  </a:lnTo>
                  <a:lnTo>
                    <a:pt x="166" y="3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65" y="6"/>
                  </a:lnTo>
                  <a:lnTo>
                    <a:pt x="151" y="8"/>
                  </a:lnTo>
                  <a:lnTo>
                    <a:pt x="139" y="8"/>
                  </a:lnTo>
                  <a:lnTo>
                    <a:pt x="139" y="8"/>
                  </a:lnTo>
                  <a:lnTo>
                    <a:pt x="114" y="6"/>
                  </a:lnTo>
                  <a:lnTo>
                    <a:pt x="105" y="5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72" y="28"/>
                  </a:lnTo>
                  <a:lnTo>
                    <a:pt x="47" y="55"/>
                  </a:lnTo>
                  <a:lnTo>
                    <a:pt x="23" y="8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27" y="124"/>
                  </a:lnTo>
                  <a:lnTo>
                    <a:pt x="38" y="125"/>
                  </a:lnTo>
                  <a:lnTo>
                    <a:pt x="58" y="125"/>
                  </a:lnTo>
                  <a:lnTo>
                    <a:pt x="78" y="125"/>
                  </a:lnTo>
                  <a:lnTo>
                    <a:pt x="98" y="125"/>
                  </a:lnTo>
                  <a:lnTo>
                    <a:pt x="98" y="125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237"/>
            <p:cNvSpPr/>
            <p:nvPr/>
          </p:nvSpPr>
          <p:spPr>
            <a:xfrm rot="18148800">
              <a:off x="225000" y="5835240"/>
              <a:ext cx="221760" cy="115560"/>
            </a:xfrm>
            <a:custGeom>
              <a:avLst/>
              <a:gdLst/>
              <a:ahLst/>
              <a:rect l="l" t="t" r="r" b="b"/>
              <a:pathLst>
                <a:path w="186" h="96">
                  <a:moveTo>
                    <a:pt x="64" y="96"/>
                  </a:moveTo>
                  <a:lnTo>
                    <a:pt x="64" y="96"/>
                  </a:lnTo>
                  <a:lnTo>
                    <a:pt x="91" y="72"/>
                  </a:lnTo>
                  <a:lnTo>
                    <a:pt x="120" y="47"/>
                  </a:lnTo>
                  <a:lnTo>
                    <a:pt x="152" y="25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70" y="6"/>
                  </a:lnTo>
                  <a:lnTo>
                    <a:pt x="131" y="23"/>
                  </a:lnTo>
                  <a:lnTo>
                    <a:pt x="103" y="35"/>
                  </a:lnTo>
                  <a:lnTo>
                    <a:pt x="71" y="52"/>
                  </a:lnTo>
                  <a:lnTo>
                    <a:pt x="36" y="72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7" y="93"/>
                  </a:lnTo>
                  <a:lnTo>
                    <a:pt x="33" y="92"/>
                  </a:lnTo>
                  <a:lnTo>
                    <a:pt x="33" y="92"/>
                  </a:lnTo>
                  <a:lnTo>
                    <a:pt x="50" y="93"/>
                  </a:lnTo>
                  <a:lnTo>
                    <a:pt x="64" y="96"/>
                  </a:lnTo>
                  <a:lnTo>
                    <a:pt x="64" y="96"/>
                  </a:lnTo>
                  <a:close/>
                </a:path>
              </a:pathLst>
            </a:custGeom>
            <a:solidFill>
              <a:srgbClr val="ffe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9" name="组合 4116"/>
          <p:cNvGrpSpPr/>
          <p:nvPr/>
        </p:nvGrpSpPr>
        <p:grpSpPr>
          <a:xfrm>
            <a:off x="6928560" y="2000520"/>
            <a:ext cx="1402920" cy="1374480"/>
            <a:chOff x="6928560" y="2000520"/>
            <a:chExt cx="1402920" cy="1374480"/>
          </a:xfrm>
        </p:grpSpPr>
        <p:sp>
          <p:nvSpPr>
            <p:cNvPr id="530" name="Freeform 1252"/>
            <p:cNvSpPr/>
            <p:nvPr/>
          </p:nvSpPr>
          <p:spPr>
            <a:xfrm rot="2406600">
              <a:off x="7078680" y="2253240"/>
              <a:ext cx="1102680" cy="868320"/>
            </a:xfrm>
            <a:custGeom>
              <a:avLst/>
              <a:gdLst/>
              <a:ahLst/>
              <a:rect l="l" t="t" r="r" b="b"/>
              <a:pathLst>
                <a:path w="920" h="668">
                  <a:moveTo>
                    <a:pt x="593" y="7"/>
                  </a:moveTo>
                  <a:lnTo>
                    <a:pt x="593" y="7"/>
                  </a:lnTo>
                  <a:lnTo>
                    <a:pt x="616" y="11"/>
                  </a:lnTo>
                  <a:lnTo>
                    <a:pt x="637" y="16"/>
                  </a:lnTo>
                  <a:lnTo>
                    <a:pt x="658" y="20"/>
                  </a:lnTo>
                  <a:lnTo>
                    <a:pt x="678" y="26"/>
                  </a:lnTo>
                  <a:lnTo>
                    <a:pt x="697" y="32"/>
                  </a:lnTo>
                  <a:lnTo>
                    <a:pt x="715" y="40"/>
                  </a:lnTo>
                  <a:lnTo>
                    <a:pt x="733" y="49"/>
                  </a:lnTo>
                  <a:lnTo>
                    <a:pt x="750" y="57"/>
                  </a:lnTo>
                  <a:lnTo>
                    <a:pt x="767" y="67"/>
                  </a:lnTo>
                  <a:lnTo>
                    <a:pt x="782" y="77"/>
                  </a:lnTo>
                  <a:lnTo>
                    <a:pt x="809" y="98"/>
                  </a:lnTo>
                  <a:lnTo>
                    <a:pt x="834" y="122"/>
                  </a:lnTo>
                  <a:lnTo>
                    <a:pt x="856" y="147"/>
                  </a:lnTo>
                  <a:lnTo>
                    <a:pt x="875" y="174"/>
                  </a:lnTo>
                  <a:lnTo>
                    <a:pt x="890" y="203"/>
                  </a:lnTo>
                  <a:lnTo>
                    <a:pt x="902" y="232"/>
                  </a:lnTo>
                  <a:lnTo>
                    <a:pt x="911" y="264"/>
                  </a:lnTo>
                  <a:lnTo>
                    <a:pt x="917" y="295"/>
                  </a:lnTo>
                  <a:lnTo>
                    <a:pt x="920" y="327"/>
                  </a:lnTo>
                  <a:lnTo>
                    <a:pt x="920" y="360"/>
                  </a:lnTo>
                  <a:lnTo>
                    <a:pt x="917" y="392"/>
                  </a:lnTo>
                  <a:lnTo>
                    <a:pt x="917" y="392"/>
                  </a:lnTo>
                  <a:lnTo>
                    <a:pt x="911" y="424"/>
                  </a:lnTo>
                  <a:lnTo>
                    <a:pt x="902" y="455"/>
                  </a:lnTo>
                  <a:lnTo>
                    <a:pt x="888" y="485"/>
                  </a:lnTo>
                  <a:lnTo>
                    <a:pt x="873" y="512"/>
                  </a:lnTo>
                  <a:lnTo>
                    <a:pt x="853" y="538"/>
                  </a:lnTo>
                  <a:lnTo>
                    <a:pt x="832" y="563"/>
                  </a:lnTo>
                  <a:lnTo>
                    <a:pt x="808" y="586"/>
                  </a:lnTo>
                  <a:lnTo>
                    <a:pt x="780" y="605"/>
                  </a:lnTo>
                  <a:lnTo>
                    <a:pt x="750" y="624"/>
                  </a:lnTo>
                  <a:lnTo>
                    <a:pt x="718" y="637"/>
                  </a:lnTo>
                  <a:lnTo>
                    <a:pt x="683" y="650"/>
                  </a:lnTo>
                  <a:lnTo>
                    <a:pt x="646" y="659"/>
                  </a:lnTo>
                  <a:lnTo>
                    <a:pt x="607" y="665"/>
                  </a:lnTo>
                  <a:lnTo>
                    <a:pt x="566" y="668"/>
                  </a:lnTo>
                  <a:lnTo>
                    <a:pt x="523" y="666"/>
                  </a:lnTo>
                  <a:lnTo>
                    <a:pt x="479" y="662"/>
                  </a:lnTo>
                  <a:lnTo>
                    <a:pt x="479" y="662"/>
                  </a:lnTo>
                  <a:lnTo>
                    <a:pt x="433" y="654"/>
                  </a:lnTo>
                  <a:lnTo>
                    <a:pt x="387" y="642"/>
                  </a:lnTo>
                  <a:lnTo>
                    <a:pt x="342" y="627"/>
                  </a:lnTo>
                  <a:lnTo>
                    <a:pt x="297" y="608"/>
                  </a:lnTo>
                  <a:lnTo>
                    <a:pt x="255" y="589"/>
                  </a:lnTo>
                  <a:lnTo>
                    <a:pt x="214" y="564"/>
                  </a:lnTo>
                  <a:lnTo>
                    <a:pt x="176" y="540"/>
                  </a:lnTo>
                  <a:lnTo>
                    <a:pt x="139" y="512"/>
                  </a:lnTo>
                  <a:lnTo>
                    <a:pt x="107" y="483"/>
                  </a:lnTo>
                  <a:lnTo>
                    <a:pt x="77" y="455"/>
                  </a:lnTo>
                  <a:lnTo>
                    <a:pt x="64" y="438"/>
                  </a:lnTo>
                  <a:lnTo>
                    <a:pt x="52" y="423"/>
                  </a:lnTo>
                  <a:lnTo>
                    <a:pt x="42" y="407"/>
                  </a:lnTo>
                  <a:lnTo>
                    <a:pt x="31" y="391"/>
                  </a:lnTo>
                  <a:lnTo>
                    <a:pt x="22" y="374"/>
                  </a:lnTo>
                  <a:lnTo>
                    <a:pt x="16" y="359"/>
                  </a:lnTo>
                  <a:lnTo>
                    <a:pt x="10" y="342"/>
                  </a:lnTo>
                  <a:lnTo>
                    <a:pt x="5" y="325"/>
                  </a:lnTo>
                  <a:lnTo>
                    <a:pt x="2" y="308"/>
                  </a:lnTo>
                  <a:lnTo>
                    <a:pt x="0" y="291"/>
                  </a:lnTo>
                  <a:lnTo>
                    <a:pt x="0" y="276"/>
                  </a:lnTo>
                  <a:lnTo>
                    <a:pt x="2" y="259"/>
                  </a:lnTo>
                  <a:lnTo>
                    <a:pt x="2" y="259"/>
                  </a:lnTo>
                  <a:lnTo>
                    <a:pt x="5" y="243"/>
                  </a:lnTo>
                  <a:lnTo>
                    <a:pt x="10" y="227"/>
                  </a:lnTo>
                  <a:lnTo>
                    <a:pt x="16" y="212"/>
                  </a:lnTo>
                  <a:lnTo>
                    <a:pt x="25" y="197"/>
                  </a:lnTo>
                  <a:lnTo>
                    <a:pt x="34" y="182"/>
                  </a:lnTo>
                  <a:lnTo>
                    <a:pt x="45" y="168"/>
                  </a:lnTo>
                  <a:lnTo>
                    <a:pt x="57" y="154"/>
                  </a:lnTo>
                  <a:lnTo>
                    <a:pt x="70" y="142"/>
                  </a:lnTo>
                  <a:lnTo>
                    <a:pt x="86" y="128"/>
                  </a:lnTo>
                  <a:lnTo>
                    <a:pt x="101" y="116"/>
                  </a:lnTo>
                  <a:lnTo>
                    <a:pt x="118" y="106"/>
                  </a:lnTo>
                  <a:lnTo>
                    <a:pt x="136" y="93"/>
                  </a:lnTo>
                  <a:lnTo>
                    <a:pt x="174" y="74"/>
                  </a:lnTo>
                  <a:lnTo>
                    <a:pt x="215" y="55"/>
                  </a:lnTo>
                  <a:lnTo>
                    <a:pt x="259" y="39"/>
                  </a:lnTo>
                  <a:lnTo>
                    <a:pt x="307" y="25"/>
                  </a:lnTo>
                  <a:lnTo>
                    <a:pt x="354" y="14"/>
                  </a:lnTo>
                  <a:lnTo>
                    <a:pt x="403" y="7"/>
                  </a:lnTo>
                  <a:lnTo>
                    <a:pt x="450" y="2"/>
                  </a:lnTo>
                  <a:lnTo>
                    <a:pt x="498" y="0"/>
                  </a:lnTo>
                  <a:lnTo>
                    <a:pt x="547" y="2"/>
                  </a:lnTo>
                  <a:lnTo>
                    <a:pt x="593" y="7"/>
                  </a:lnTo>
                  <a:lnTo>
                    <a:pt x="593" y="7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253"/>
            <p:cNvSpPr/>
            <p:nvPr/>
          </p:nvSpPr>
          <p:spPr>
            <a:xfrm rot="2406600">
              <a:off x="7156800" y="2876760"/>
              <a:ext cx="450360" cy="146880"/>
            </a:xfrm>
            <a:custGeom>
              <a:avLst/>
              <a:gdLst/>
              <a:ahLst/>
              <a:rect l="l" t="t" r="r" b="b"/>
              <a:pathLst>
                <a:path w="376" h="113">
                  <a:moveTo>
                    <a:pt x="27" y="0"/>
                  </a:moveTo>
                  <a:lnTo>
                    <a:pt x="27" y="0"/>
                  </a:lnTo>
                  <a:lnTo>
                    <a:pt x="17" y="5"/>
                  </a:lnTo>
                  <a:lnTo>
                    <a:pt x="7" y="11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27" y="46"/>
                  </a:lnTo>
                  <a:lnTo>
                    <a:pt x="53" y="58"/>
                  </a:lnTo>
                  <a:lnTo>
                    <a:pt x="80" y="69"/>
                  </a:lnTo>
                  <a:lnTo>
                    <a:pt x="109" y="79"/>
                  </a:lnTo>
                  <a:lnTo>
                    <a:pt x="137" y="88"/>
                  </a:lnTo>
                  <a:lnTo>
                    <a:pt x="166" y="96"/>
                  </a:lnTo>
                  <a:lnTo>
                    <a:pt x="193" y="102"/>
                  </a:lnTo>
                  <a:lnTo>
                    <a:pt x="222" y="107"/>
                  </a:lnTo>
                  <a:lnTo>
                    <a:pt x="222" y="107"/>
                  </a:lnTo>
                  <a:lnTo>
                    <a:pt x="263" y="111"/>
                  </a:lnTo>
                  <a:lnTo>
                    <a:pt x="303" y="113"/>
                  </a:lnTo>
                  <a:lnTo>
                    <a:pt x="339" y="111"/>
                  </a:lnTo>
                  <a:lnTo>
                    <a:pt x="376" y="107"/>
                  </a:lnTo>
                  <a:lnTo>
                    <a:pt x="376" y="107"/>
                  </a:lnTo>
                  <a:lnTo>
                    <a:pt x="373" y="98"/>
                  </a:lnTo>
                  <a:lnTo>
                    <a:pt x="367" y="87"/>
                  </a:lnTo>
                  <a:lnTo>
                    <a:pt x="359" y="78"/>
                  </a:lnTo>
                  <a:lnTo>
                    <a:pt x="349" y="69"/>
                  </a:lnTo>
                  <a:lnTo>
                    <a:pt x="349" y="69"/>
                  </a:lnTo>
                  <a:lnTo>
                    <a:pt x="303" y="69"/>
                  </a:lnTo>
                  <a:lnTo>
                    <a:pt x="257" y="66"/>
                  </a:lnTo>
                  <a:lnTo>
                    <a:pt x="215" y="61"/>
                  </a:lnTo>
                  <a:lnTo>
                    <a:pt x="173" y="52"/>
                  </a:lnTo>
                  <a:lnTo>
                    <a:pt x="134" y="41"/>
                  </a:lnTo>
                  <a:lnTo>
                    <a:pt x="96" y="29"/>
                  </a:lnTo>
                  <a:lnTo>
                    <a:pt x="61" y="1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1254"/>
            <p:cNvSpPr/>
            <p:nvPr/>
          </p:nvSpPr>
          <p:spPr>
            <a:xfrm rot="2406600">
              <a:off x="7459200" y="2301120"/>
              <a:ext cx="529560" cy="664200"/>
            </a:xfrm>
            <a:custGeom>
              <a:avLst/>
              <a:gdLst/>
              <a:ahLst/>
              <a:rect l="l" t="t" r="r" b="b"/>
              <a:pathLst>
                <a:path w="442" h="511">
                  <a:moveTo>
                    <a:pt x="209" y="0"/>
                  </a:moveTo>
                  <a:lnTo>
                    <a:pt x="209" y="0"/>
                  </a:lnTo>
                  <a:lnTo>
                    <a:pt x="174" y="2"/>
                  </a:lnTo>
                  <a:lnTo>
                    <a:pt x="137" y="7"/>
                  </a:lnTo>
                  <a:lnTo>
                    <a:pt x="102" y="11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9" y="23"/>
                  </a:lnTo>
                  <a:lnTo>
                    <a:pt x="70" y="28"/>
                  </a:lnTo>
                  <a:lnTo>
                    <a:pt x="76" y="35"/>
                  </a:lnTo>
                  <a:lnTo>
                    <a:pt x="87" y="45"/>
                  </a:lnTo>
                  <a:lnTo>
                    <a:pt x="101" y="52"/>
                  </a:lnTo>
                  <a:lnTo>
                    <a:pt x="116" y="58"/>
                  </a:lnTo>
                  <a:lnTo>
                    <a:pt x="136" y="64"/>
                  </a:lnTo>
                  <a:lnTo>
                    <a:pt x="155" y="71"/>
                  </a:lnTo>
                  <a:lnTo>
                    <a:pt x="178" y="75"/>
                  </a:lnTo>
                  <a:lnTo>
                    <a:pt x="178" y="75"/>
                  </a:lnTo>
                  <a:lnTo>
                    <a:pt x="151" y="80"/>
                  </a:lnTo>
                  <a:lnTo>
                    <a:pt x="126" y="87"/>
                  </a:lnTo>
                  <a:lnTo>
                    <a:pt x="104" y="96"/>
                  </a:lnTo>
                  <a:lnTo>
                    <a:pt x="84" y="106"/>
                  </a:lnTo>
                  <a:lnTo>
                    <a:pt x="67" y="116"/>
                  </a:lnTo>
                  <a:lnTo>
                    <a:pt x="53" y="128"/>
                  </a:lnTo>
                  <a:lnTo>
                    <a:pt x="44" y="139"/>
                  </a:lnTo>
                  <a:lnTo>
                    <a:pt x="43" y="145"/>
                  </a:lnTo>
                  <a:lnTo>
                    <a:pt x="40" y="151"/>
                  </a:lnTo>
                  <a:lnTo>
                    <a:pt x="40" y="151"/>
                  </a:lnTo>
                  <a:lnTo>
                    <a:pt x="40" y="157"/>
                  </a:lnTo>
                  <a:lnTo>
                    <a:pt x="41" y="163"/>
                  </a:lnTo>
                  <a:lnTo>
                    <a:pt x="43" y="168"/>
                  </a:lnTo>
                  <a:lnTo>
                    <a:pt x="46" y="174"/>
                  </a:lnTo>
                  <a:lnTo>
                    <a:pt x="55" y="186"/>
                  </a:lnTo>
                  <a:lnTo>
                    <a:pt x="69" y="197"/>
                  </a:lnTo>
                  <a:lnTo>
                    <a:pt x="85" y="206"/>
                  </a:lnTo>
                  <a:lnTo>
                    <a:pt x="105" y="217"/>
                  </a:lnTo>
                  <a:lnTo>
                    <a:pt x="128" y="226"/>
                  </a:lnTo>
                  <a:lnTo>
                    <a:pt x="154" y="234"/>
                  </a:lnTo>
                  <a:lnTo>
                    <a:pt x="154" y="234"/>
                  </a:lnTo>
                  <a:lnTo>
                    <a:pt x="126" y="237"/>
                  </a:lnTo>
                  <a:lnTo>
                    <a:pt x="102" y="241"/>
                  </a:lnTo>
                  <a:lnTo>
                    <a:pt x="79" y="247"/>
                  </a:lnTo>
                  <a:lnTo>
                    <a:pt x="59" y="255"/>
                  </a:lnTo>
                  <a:lnTo>
                    <a:pt x="43" y="263"/>
                  </a:lnTo>
                  <a:lnTo>
                    <a:pt x="30" y="273"/>
                  </a:lnTo>
                  <a:lnTo>
                    <a:pt x="26" y="278"/>
                  </a:lnTo>
                  <a:lnTo>
                    <a:pt x="21" y="284"/>
                  </a:lnTo>
                  <a:lnTo>
                    <a:pt x="20" y="288"/>
                  </a:lnTo>
                  <a:lnTo>
                    <a:pt x="18" y="295"/>
                  </a:lnTo>
                  <a:lnTo>
                    <a:pt x="18" y="295"/>
                  </a:lnTo>
                  <a:lnTo>
                    <a:pt x="18" y="301"/>
                  </a:lnTo>
                  <a:lnTo>
                    <a:pt x="18" y="307"/>
                  </a:lnTo>
                  <a:lnTo>
                    <a:pt x="21" y="313"/>
                  </a:lnTo>
                  <a:lnTo>
                    <a:pt x="24" y="319"/>
                  </a:lnTo>
                  <a:lnTo>
                    <a:pt x="34" y="333"/>
                  </a:lnTo>
                  <a:lnTo>
                    <a:pt x="46" y="345"/>
                  </a:lnTo>
                  <a:lnTo>
                    <a:pt x="62" y="359"/>
                  </a:lnTo>
                  <a:lnTo>
                    <a:pt x="82" y="371"/>
                  </a:lnTo>
                  <a:lnTo>
                    <a:pt x="105" y="381"/>
                  </a:lnTo>
                  <a:lnTo>
                    <a:pt x="131" y="392"/>
                  </a:lnTo>
                  <a:lnTo>
                    <a:pt x="131" y="392"/>
                  </a:lnTo>
                  <a:lnTo>
                    <a:pt x="104" y="392"/>
                  </a:lnTo>
                  <a:lnTo>
                    <a:pt x="79" y="395"/>
                  </a:lnTo>
                  <a:lnTo>
                    <a:pt x="58" y="398"/>
                  </a:lnTo>
                  <a:lnTo>
                    <a:pt x="38" y="403"/>
                  </a:lnTo>
                  <a:lnTo>
                    <a:pt x="23" y="410"/>
                  </a:lnTo>
                  <a:lnTo>
                    <a:pt x="11" y="418"/>
                  </a:lnTo>
                  <a:lnTo>
                    <a:pt x="6" y="423"/>
                  </a:lnTo>
                  <a:lnTo>
                    <a:pt x="3" y="427"/>
                  </a:lnTo>
                  <a:lnTo>
                    <a:pt x="0" y="433"/>
                  </a:lnTo>
                  <a:lnTo>
                    <a:pt x="0" y="438"/>
                  </a:lnTo>
                  <a:lnTo>
                    <a:pt x="0" y="438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9" y="470"/>
                  </a:lnTo>
                  <a:lnTo>
                    <a:pt x="17" y="480"/>
                  </a:lnTo>
                  <a:lnTo>
                    <a:pt x="17" y="480"/>
                  </a:lnTo>
                  <a:lnTo>
                    <a:pt x="52" y="491"/>
                  </a:lnTo>
                  <a:lnTo>
                    <a:pt x="87" y="499"/>
                  </a:lnTo>
                  <a:lnTo>
                    <a:pt x="120" y="505"/>
                  </a:lnTo>
                  <a:lnTo>
                    <a:pt x="152" y="508"/>
                  </a:lnTo>
                  <a:lnTo>
                    <a:pt x="181" y="509"/>
                  </a:lnTo>
                  <a:lnTo>
                    <a:pt x="210" y="511"/>
                  </a:lnTo>
                  <a:lnTo>
                    <a:pt x="238" y="509"/>
                  </a:lnTo>
                  <a:lnTo>
                    <a:pt x="264" y="508"/>
                  </a:lnTo>
                  <a:lnTo>
                    <a:pt x="286" y="505"/>
                  </a:lnTo>
                  <a:lnTo>
                    <a:pt x="308" y="502"/>
                  </a:lnTo>
                  <a:lnTo>
                    <a:pt x="343" y="494"/>
                  </a:lnTo>
                  <a:lnTo>
                    <a:pt x="369" y="487"/>
                  </a:lnTo>
                  <a:lnTo>
                    <a:pt x="384" y="482"/>
                  </a:lnTo>
                  <a:lnTo>
                    <a:pt x="384" y="482"/>
                  </a:lnTo>
                  <a:lnTo>
                    <a:pt x="376" y="473"/>
                  </a:lnTo>
                  <a:lnTo>
                    <a:pt x="367" y="464"/>
                  </a:lnTo>
                  <a:lnTo>
                    <a:pt x="356" y="455"/>
                  </a:lnTo>
                  <a:lnTo>
                    <a:pt x="344" y="447"/>
                  </a:lnTo>
                  <a:lnTo>
                    <a:pt x="331" y="439"/>
                  </a:lnTo>
                  <a:lnTo>
                    <a:pt x="315" y="432"/>
                  </a:lnTo>
                  <a:lnTo>
                    <a:pt x="282" y="418"/>
                  </a:lnTo>
                  <a:lnTo>
                    <a:pt x="282" y="418"/>
                  </a:lnTo>
                  <a:lnTo>
                    <a:pt x="309" y="416"/>
                  </a:lnTo>
                  <a:lnTo>
                    <a:pt x="334" y="412"/>
                  </a:lnTo>
                  <a:lnTo>
                    <a:pt x="356" y="406"/>
                  </a:lnTo>
                  <a:lnTo>
                    <a:pt x="376" y="398"/>
                  </a:lnTo>
                  <a:lnTo>
                    <a:pt x="393" y="389"/>
                  </a:lnTo>
                  <a:lnTo>
                    <a:pt x="405" y="378"/>
                  </a:lnTo>
                  <a:lnTo>
                    <a:pt x="411" y="372"/>
                  </a:lnTo>
                  <a:lnTo>
                    <a:pt x="414" y="366"/>
                  </a:lnTo>
                  <a:lnTo>
                    <a:pt x="417" y="360"/>
                  </a:lnTo>
                  <a:lnTo>
                    <a:pt x="419" y="354"/>
                  </a:lnTo>
                  <a:lnTo>
                    <a:pt x="419" y="354"/>
                  </a:lnTo>
                  <a:lnTo>
                    <a:pt x="419" y="346"/>
                  </a:lnTo>
                  <a:lnTo>
                    <a:pt x="419" y="340"/>
                  </a:lnTo>
                  <a:lnTo>
                    <a:pt x="417" y="333"/>
                  </a:lnTo>
                  <a:lnTo>
                    <a:pt x="414" y="327"/>
                  </a:lnTo>
                  <a:lnTo>
                    <a:pt x="405" y="313"/>
                  </a:lnTo>
                  <a:lnTo>
                    <a:pt x="391" y="299"/>
                  </a:lnTo>
                  <a:lnTo>
                    <a:pt x="375" y="285"/>
                  </a:lnTo>
                  <a:lnTo>
                    <a:pt x="355" y="273"/>
                  </a:lnTo>
                  <a:lnTo>
                    <a:pt x="332" y="263"/>
                  </a:lnTo>
                  <a:lnTo>
                    <a:pt x="306" y="252"/>
                  </a:lnTo>
                  <a:lnTo>
                    <a:pt x="306" y="252"/>
                  </a:lnTo>
                  <a:lnTo>
                    <a:pt x="334" y="250"/>
                  </a:lnTo>
                  <a:lnTo>
                    <a:pt x="359" y="247"/>
                  </a:lnTo>
                  <a:lnTo>
                    <a:pt x="381" y="241"/>
                  </a:lnTo>
                  <a:lnTo>
                    <a:pt x="401" y="235"/>
                  </a:lnTo>
                  <a:lnTo>
                    <a:pt x="416" y="226"/>
                  </a:lnTo>
                  <a:lnTo>
                    <a:pt x="430" y="217"/>
                  </a:lnTo>
                  <a:lnTo>
                    <a:pt x="434" y="211"/>
                  </a:lnTo>
                  <a:lnTo>
                    <a:pt x="437" y="205"/>
                  </a:lnTo>
                  <a:lnTo>
                    <a:pt x="440" y="199"/>
                  </a:lnTo>
                  <a:lnTo>
                    <a:pt x="442" y="192"/>
                  </a:lnTo>
                  <a:lnTo>
                    <a:pt x="442" y="192"/>
                  </a:lnTo>
                  <a:lnTo>
                    <a:pt x="442" y="185"/>
                  </a:lnTo>
                  <a:lnTo>
                    <a:pt x="440" y="177"/>
                  </a:lnTo>
                  <a:lnTo>
                    <a:pt x="437" y="170"/>
                  </a:lnTo>
                  <a:lnTo>
                    <a:pt x="434" y="162"/>
                  </a:lnTo>
                  <a:lnTo>
                    <a:pt x="430" y="153"/>
                  </a:lnTo>
                  <a:lnTo>
                    <a:pt x="423" y="145"/>
                  </a:lnTo>
                  <a:lnTo>
                    <a:pt x="408" y="130"/>
                  </a:lnTo>
                  <a:lnTo>
                    <a:pt x="408" y="130"/>
                  </a:lnTo>
                  <a:lnTo>
                    <a:pt x="384" y="116"/>
                  </a:lnTo>
                  <a:lnTo>
                    <a:pt x="361" y="103"/>
                  </a:lnTo>
                  <a:lnTo>
                    <a:pt x="314" y="81"/>
                  </a:lnTo>
                  <a:lnTo>
                    <a:pt x="270" y="61"/>
                  </a:lnTo>
                  <a:lnTo>
                    <a:pt x="225" y="46"/>
                  </a:lnTo>
                  <a:lnTo>
                    <a:pt x="186" y="34"/>
                  </a:lnTo>
                  <a:lnTo>
                    <a:pt x="151" y="25"/>
                  </a:lnTo>
                  <a:lnTo>
                    <a:pt x="120" y="17"/>
                  </a:lnTo>
                  <a:lnTo>
                    <a:pt x="96" y="13"/>
                  </a:lnTo>
                  <a:lnTo>
                    <a:pt x="96" y="13"/>
                  </a:lnTo>
                  <a:lnTo>
                    <a:pt x="123" y="8"/>
                  </a:lnTo>
                  <a:lnTo>
                    <a:pt x="152" y="5"/>
                  </a:lnTo>
                  <a:lnTo>
                    <a:pt x="180" y="2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ab4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255"/>
            <p:cNvSpPr/>
            <p:nvPr/>
          </p:nvSpPr>
          <p:spPr>
            <a:xfrm rot="2406600">
              <a:off x="7785000" y="2328840"/>
              <a:ext cx="154440" cy="558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0" y="10"/>
                  </a:moveTo>
                  <a:lnTo>
                    <a:pt x="0" y="10"/>
                  </a:lnTo>
                  <a:lnTo>
                    <a:pt x="24" y="14"/>
                  </a:lnTo>
                  <a:lnTo>
                    <a:pt x="55" y="22"/>
                  </a:lnTo>
                  <a:lnTo>
                    <a:pt x="90" y="31"/>
                  </a:lnTo>
                  <a:lnTo>
                    <a:pt x="129" y="4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37" y="4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1256"/>
            <p:cNvSpPr/>
            <p:nvPr/>
          </p:nvSpPr>
          <p:spPr>
            <a:xfrm rot="2406600">
              <a:off x="7840080" y="2406240"/>
              <a:ext cx="233640" cy="70200"/>
            </a:xfrm>
            <a:custGeom>
              <a:avLst/>
              <a:gdLst/>
              <a:ahLst/>
              <a:rect l="l" t="t" r="r" b="b"/>
              <a:pathLst>
                <a:path w="195" h="54">
                  <a:moveTo>
                    <a:pt x="142" y="5"/>
                  </a:moveTo>
                  <a:lnTo>
                    <a:pt x="142" y="5"/>
                  </a:lnTo>
                  <a:lnTo>
                    <a:pt x="139" y="5"/>
                  </a:lnTo>
                  <a:lnTo>
                    <a:pt x="139" y="5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0" y="3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8" y="54"/>
                  </a:lnTo>
                  <a:lnTo>
                    <a:pt x="195" y="22"/>
                  </a:lnTo>
                  <a:lnTo>
                    <a:pt x="177" y="11"/>
                  </a:lnTo>
                  <a:lnTo>
                    <a:pt x="177" y="11"/>
                  </a:lnTo>
                  <a:lnTo>
                    <a:pt x="155" y="7"/>
                  </a:lnTo>
                  <a:lnTo>
                    <a:pt x="155" y="7"/>
                  </a:lnTo>
                  <a:lnTo>
                    <a:pt x="142" y="5"/>
                  </a:lnTo>
                  <a:lnTo>
                    <a:pt x="142" y="5"/>
                  </a:lnTo>
                  <a:close/>
                </a:path>
              </a:pathLst>
            </a:custGeom>
            <a:solidFill>
              <a:srgbClr val="d4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1257"/>
            <p:cNvSpPr/>
            <p:nvPr/>
          </p:nvSpPr>
          <p:spPr>
            <a:xfrm rot="2406600">
              <a:off x="7809840" y="2527920"/>
              <a:ext cx="408600" cy="491400"/>
            </a:xfrm>
            <a:custGeom>
              <a:avLst/>
              <a:gdLst/>
              <a:ahLst/>
              <a:rect l="l" t="t" r="r" b="b"/>
              <a:pathLst>
                <a:path w="341" h="378">
                  <a:moveTo>
                    <a:pt x="0" y="0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48" y="9"/>
                  </a:lnTo>
                  <a:lnTo>
                    <a:pt x="82" y="17"/>
                  </a:lnTo>
                  <a:lnTo>
                    <a:pt x="114" y="27"/>
                  </a:lnTo>
                  <a:lnTo>
                    <a:pt x="143" y="40"/>
                  </a:lnTo>
                  <a:lnTo>
                    <a:pt x="143" y="40"/>
                  </a:lnTo>
                  <a:lnTo>
                    <a:pt x="135" y="49"/>
                  </a:lnTo>
                  <a:lnTo>
                    <a:pt x="126" y="56"/>
                  </a:lnTo>
                  <a:lnTo>
                    <a:pt x="114" y="64"/>
                  </a:lnTo>
                  <a:lnTo>
                    <a:pt x="99" y="69"/>
                  </a:lnTo>
                  <a:lnTo>
                    <a:pt x="82" y="73"/>
                  </a:lnTo>
                  <a:lnTo>
                    <a:pt x="62" y="78"/>
                  </a:lnTo>
                  <a:lnTo>
                    <a:pt x="41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42" y="90"/>
                  </a:lnTo>
                  <a:lnTo>
                    <a:pt x="62" y="101"/>
                  </a:lnTo>
                  <a:lnTo>
                    <a:pt x="80" y="113"/>
                  </a:lnTo>
                  <a:lnTo>
                    <a:pt x="97" y="125"/>
                  </a:lnTo>
                  <a:lnTo>
                    <a:pt x="97" y="125"/>
                  </a:lnTo>
                  <a:lnTo>
                    <a:pt x="131" y="148"/>
                  </a:lnTo>
                  <a:lnTo>
                    <a:pt x="166" y="172"/>
                  </a:lnTo>
                  <a:lnTo>
                    <a:pt x="198" y="200"/>
                  </a:lnTo>
                  <a:lnTo>
                    <a:pt x="230" y="229"/>
                  </a:lnTo>
                  <a:lnTo>
                    <a:pt x="260" y="262"/>
                  </a:lnTo>
                  <a:lnTo>
                    <a:pt x="288" y="297"/>
                  </a:lnTo>
                  <a:lnTo>
                    <a:pt x="301" y="317"/>
                  </a:lnTo>
                  <a:lnTo>
                    <a:pt x="315" y="337"/>
                  </a:lnTo>
                  <a:lnTo>
                    <a:pt x="327" y="357"/>
                  </a:lnTo>
                  <a:lnTo>
                    <a:pt x="338" y="378"/>
                  </a:lnTo>
                  <a:lnTo>
                    <a:pt x="338" y="378"/>
                  </a:lnTo>
                  <a:lnTo>
                    <a:pt x="341" y="346"/>
                  </a:lnTo>
                  <a:lnTo>
                    <a:pt x="339" y="314"/>
                  </a:lnTo>
                  <a:lnTo>
                    <a:pt x="336" y="283"/>
                  </a:lnTo>
                  <a:lnTo>
                    <a:pt x="329" y="251"/>
                  </a:lnTo>
                  <a:lnTo>
                    <a:pt x="320" y="222"/>
                  </a:lnTo>
                  <a:lnTo>
                    <a:pt x="307" y="194"/>
                  </a:lnTo>
                  <a:lnTo>
                    <a:pt x="291" y="165"/>
                  </a:lnTo>
                  <a:lnTo>
                    <a:pt x="272" y="139"/>
                  </a:lnTo>
                  <a:lnTo>
                    <a:pt x="251" y="114"/>
                  </a:lnTo>
                  <a:lnTo>
                    <a:pt x="225" y="91"/>
                  </a:lnTo>
                  <a:lnTo>
                    <a:pt x="198" y="70"/>
                  </a:lnTo>
                  <a:lnTo>
                    <a:pt x="167" y="52"/>
                  </a:lnTo>
                  <a:lnTo>
                    <a:pt x="132" y="35"/>
                  </a:lnTo>
                  <a:lnTo>
                    <a:pt x="96" y="21"/>
                  </a:lnTo>
                  <a:lnTo>
                    <a:pt x="55" y="9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6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258"/>
            <p:cNvSpPr/>
            <p:nvPr/>
          </p:nvSpPr>
          <p:spPr>
            <a:xfrm rot="2406600">
              <a:off x="7873920" y="2472120"/>
              <a:ext cx="248040" cy="154440"/>
            </a:xfrm>
            <a:custGeom>
              <a:avLst/>
              <a:gdLst/>
              <a:ahLst/>
              <a:rect l="l" t="t" r="r" b="b"/>
              <a:pathLst>
                <a:path w="207" h="119">
                  <a:moveTo>
                    <a:pt x="0" y="43"/>
                  </a:moveTo>
                  <a:lnTo>
                    <a:pt x="0" y="43"/>
                  </a:lnTo>
                  <a:lnTo>
                    <a:pt x="39" y="56"/>
                  </a:lnTo>
                  <a:lnTo>
                    <a:pt x="79" y="75"/>
                  </a:lnTo>
                  <a:lnTo>
                    <a:pt x="120" y="95"/>
                  </a:lnTo>
                  <a:lnTo>
                    <a:pt x="161" y="119"/>
                  </a:lnTo>
                  <a:lnTo>
                    <a:pt x="161" y="119"/>
                  </a:lnTo>
                  <a:lnTo>
                    <a:pt x="144" y="107"/>
                  </a:lnTo>
                  <a:lnTo>
                    <a:pt x="126" y="95"/>
                  </a:lnTo>
                  <a:lnTo>
                    <a:pt x="106" y="84"/>
                  </a:lnTo>
                  <a:lnTo>
                    <a:pt x="82" y="75"/>
                  </a:lnTo>
                  <a:lnTo>
                    <a:pt x="82" y="75"/>
                  </a:lnTo>
                  <a:lnTo>
                    <a:pt x="105" y="73"/>
                  </a:lnTo>
                  <a:lnTo>
                    <a:pt x="126" y="72"/>
                  </a:lnTo>
                  <a:lnTo>
                    <a:pt x="146" y="67"/>
                  </a:lnTo>
                  <a:lnTo>
                    <a:pt x="163" y="63"/>
                  </a:lnTo>
                  <a:lnTo>
                    <a:pt x="178" y="58"/>
                  </a:lnTo>
                  <a:lnTo>
                    <a:pt x="190" y="50"/>
                  </a:lnTo>
                  <a:lnTo>
                    <a:pt x="199" y="43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83" y="23"/>
                  </a:lnTo>
                  <a:lnTo>
                    <a:pt x="157" y="14"/>
                  </a:lnTo>
                  <a:lnTo>
                    <a:pt x="129" y="6"/>
                  </a:lnTo>
                  <a:lnTo>
                    <a:pt x="99" y="0"/>
                  </a:lnTo>
                  <a:lnTo>
                    <a:pt x="117" y="1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e3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1259"/>
            <p:cNvSpPr/>
            <p:nvPr/>
          </p:nvSpPr>
          <p:spPr>
            <a:xfrm rot="2406600">
              <a:off x="7233480" y="2926800"/>
              <a:ext cx="248040" cy="85680"/>
            </a:xfrm>
            <a:custGeom>
              <a:avLst/>
              <a:gdLst/>
              <a:ahLst/>
              <a:rect l="l" t="t" r="r" b="b"/>
              <a:pathLst>
                <a:path w="207" h="66">
                  <a:moveTo>
                    <a:pt x="0" y="22"/>
                  </a:moveTo>
                  <a:lnTo>
                    <a:pt x="0" y="22"/>
                  </a:lnTo>
                  <a:lnTo>
                    <a:pt x="35" y="34"/>
                  </a:lnTo>
                  <a:lnTo>
                    <a:pt x="72" y="45"/>
                  </a:lnTo>
                  <a:lnTo>
                    <a:pt x="108" y="54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72" y="63"/>
                  </a:lnTo>
                  <a:lnTo>
                    <a:pt x="201" y="66"/>
                  </a:lnTo>
                  <a:lnTo>
                    <a:pt x="207" y="63"/>
                  </a:lnTo>
                  <a:lnTo>
                    <a:pt x="126" y="13"/>
                  </a:lnTo>
                  <a:lnTo>
                    <a:pt x="126" y="13"/>
                  </a:lnTo>
                  <a:lnTo>
                    <a:pt x="99" y="6"/>
                  </a:lnTo>
                  <a:lnTo>
                    <a:pt x="7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1260"/>
            <p:cNvSpPr/>
            <p:nvPr/>
          </p:nvSpPr>
          <p:spPr>
            <a:xfrm rot="2406600">
              <a:off x="7383240" y="2776320"/>
              <a:ext cx="257400" cy="97200"/>
            </a:xfrm>
            <a:custGeom>
              <a:avLst/>
              <a:gdLst/>
              <a:ahLst/>
              <a:rect l="l" t="t" r="r" b="b"/>
              <a:pathLst>
                <a:path w="215" h="75">
                  <a:moveTo>
                    <a:pt x="0" y="34"/>
                  </a:moveTo>
                  <a:lnTo>
                    <a:pt x="48" y="70"/>
                  </a:lnTo>
                  <a:lnTo>
                    <a:pt x="48" y="70"/>
                  </a:lnTo>
                  <a:lnTo>
                    <a:pt x="71" y="72"/>
                  </a:lnTo>
                  <a:lnTo>
                    <a:pt x="96" y="73"/>
                  </a:lnTo>
                  <a:lnTo>
                    <a:pt x="140" y="75"/>
                  </a:lnTo>
                  <a:lnTo>
                    <a:pt x="179" y="72"/>
                  </a:lnTo>
                  <a:lnTo>
                    <a:pt x="215" y="67"/>
                  </a:lnTo>
                  <a:lnTo>
                    <a:pt x="10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261"/>
            <p:cNvSpPr/>
            <p:nvPr/>
          </p:nvSpPr>
          <p:spPr>
            <a:xfrm rot="2406600">
              <a:off x="7677720" y="249264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5" y="103"/>
                  </a:moveTo>
                  <a:lnTo>
                    <a:pt x="221" y="71"/>
                  </a:lnTo>
                  <a:lnTo>
                    <a:pt x="110" y="0"/>
                  </a:lnTo>
                  <a:lnTo>
                    <a:pt x="0" y="33"/>
                  </a:lnTo>
                  <a:lnTo>
                    <a:pt x="95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262"/>
            <p:cNvSpPr/>
            <p:nvPr/>
          </p:nvSpPr>
          <p:spPr>
            <a:xfrm rot="2406600">
              <a:off x="7529040" y="2639520"/>
              <a:ext cx="264600" cy="133920"/>
            </a:xfrm>
            <a:custGeom>
              <a:avLst/>
              <a:gdLst/>
              <a:ahLst/>
              <a:rect l="l" t="t" r="r" b="b"/>
              <a:pathLst>
                <a:path w="221" h="103">
                  <a:moveTo>
                    <a:pt x="94" y="103"/>
                  </a:moveTo>
                  <a:lnTo>
                    <a:pt x="221" y="71"/>
                  </a:lnTo>
                  <a:lnTo>
                    <a:pt x="108" y="0"/>
                  </a:lnTo>
                  <a:lnTo>
                    <a:pt x="0" y="33"/>
                  </a:lnTo>
                  <a:lnTo>
                    <a:pt x="94" y="10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263"/>
            <p:cNvSpPr/>
            <p:nvPr/>
          </p:nvSpPr>
          <p:spPr>
            <a:xfrm rot="2406600">
              <a:off x="7086960" y="2450520"/>
              <a:ext cx="429120" cy="291240"/>
            </a:xfrm>
            <a:custGeom>
              <a:avLst/>
              <a:gdLst/>
              <a:ahLst/>
              <a:rect l="l" t="t" r="r" b="b"/>
              <a:pathLst>
                <a:path w="358" h="224">
                  <a:moveTo>
                    <a:pt x="265" y="149"/>
                  </a:moveTo>
                  <a:lnTo>
                    <a:pt x="265" y="149"/>
                  </a:lnTo>
                  <a:lnTo>
                    <a:pt x="233" y="139"/>
                  </a:lnTo>
                  <a:lnTo>
                    <a:pt x="201" y="127"/>
                  </a:lnTo>
                  <a:lnTo>
                    <a:pt x="169" y="111"/>
                  </a:lnTo>
                  <a:lnTo>
                    <a:pt x="135" y="95"/>
                  </a:lnTo>
                  <a:lnTo>
                    <a:pt x="102" y="75"/>
                  </a:lnTo>
                  <a:lnTo>
                    <a:pt x="68" y="52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" y="23"/>
                  </a:lnTo>
                  <a:lnTo>
                    <a:pt x="36" y="47"/>
                  </a:lnTo>
                  <a:lnTo>
                    <a:pt x="65" y="79"/>
                  </a:lnTo>
                  <a:lnTo>
                    <a:pt x="82" y="96"/>
                  </a:lnTo>
                  <a:lnTo>
                    <a:pt x="102" y="114"/>
                  </a:lnTo>
                  <a:lnTo>
                    <a:pt x="123" y="133"/>
                  </a:lnTo>
                  <a:lnTo>
                    <a:pt x="147" y="152"/>
                  </a:lnTo>
                  <a:lnTo>
                    <a:pt x="172" y="171"/>
                  </a:lnTo>
                  <a:lnTo>
                    <a:pt x="199" y="189"/>
                  </a:lnTo>
                  <a:lnTo>
                    <a:pt x="230" y="207"/>
                  </a:lnTo>
                  <a:lnTo>
                    <a:pt x="260" y="224"/>
                  </a:lnTo>
                  <a:lnTo>
                    <a:pt x="260" y="224"/>
                  </a:lnTo>
                  <a:lnTo>
                    <a:pt x="280" y="220"/>
                  </a:lnTo>
                  <a:lnTo>
                    <a:pt x="303" y="218"/>
                  </a:lnTo>
                  <a:lnTo>
                    <a:pt x="329" y="218"/>
                  </a:lnTo>
                  <a:lnTo>
                    <a:pt x="358" y="221"/>
                  </a:lnTo>
                  <a:lnTo>
                    <a:pt x="358" y="221"/>
                  </a:lnTo>
                  <a:lnTo>
                    <a:pt x="327" y="204"/>
                  </a:lnTo>
                  <a:lnTo>
                    <a:pt x="303" y="188"/>
                  </a:lnTo>
                  <a:lnTo>
                    <a:pt x="282" y="169"/>
                  </a:lnTo>
                  <a:lnTo>
                    <a:pt x="265" y="149"/>
                  </a:lnTo>
                  <a:lnTo>
                    <a:pt x="265" y="149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264"/>
            <p:cNvSpPr/>
            <p:nvPr/>
          </p:nvSpPr>
          <p:spPr>
            <a:xfrm rot="2406600">
              <a:off x="7470360" y="2964960"/>
              <a:ext cx="166320" cy="13104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61"/>
                  </a:moveTo>
                  <a:lnTo>
                    <a:pt x="0" y="61"/>
                  </a:lnTo>
                  <a:lnTo>
                    <a:pt x="23" y="70"/>
                  </a:lnTo>
                  <a:lnTo>
                    <a:pt x="44" y="79"/>
                  </a:lnTo>
                  <a:lnTo>
                    <a:pt x="62" y="90"/>
                  </a:lnTo>
                  <a:lnTo>
                    <a:pt x="78" y="101"/>
                  </a:lnTo>
                  <a:lnTo>
                    <a:pt x="78" y="101"/>
                  </a:lnTo>
                  <a:lnTo>
                    <a:pt x="108" y="99"/>
                  </a:lnTo>
                  <a:lnTo>
                    <a:pt x="139" y="96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6" y="12"/>
                  </a:lnTo>
                  <a:lnTo>
                    <a:pt x="117" y="23"/>
                  </a:lnTo>
                  <a:lnTo>
                    <a:pt x="103" y="32"/>
                  </a:lnTo>
                  <a:lnTo>
                    <a:pt x="87" y="41"/>
                  </a:lnTo>
                  <a:lnTo>
                    <a:pt x="68" y="49"/>
                  </a:lnTo>
                  <a:lnTo>
                    <a:pt x="47" y="55"/>
                  </a:lnTo>
                  <a:lnTo>
                    <a:pt x="24" y="6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b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1265"/>
            <p:cNvSpPr/>
            <p:nvPr/>
          </p:nvSpPr>
          <p:spPr>
            <a:xfrm rot="2406600">
              <a:off x="7230960" y="2819160"/>
              <a:ext cx="452880" cy="187200"/>
            </a:xfrm>
            <a:custGeom>
              <a:avLst/>
              <a:gdLst/>
              <a:ahLst/>
              <a:rect l="l" t="t" r="r" b="b"/>
              <a:pathLst>
                <a:path w="378" h="144">
                  <a:moveTo>
                    <a:pt x="162" y="60"/>
                  </a:moveTo>
                  <a:lnTo>
                    <a:pt x="117" y="26"/>
                  </a:lnTo>
                  <a:lnTo>
                    <a:pt x="117" y="26"/>
                  </a:lnTo>
                  <a:lnTo>
                    <a:pt x="90" y="22"/>
                  </a:lnTo>
                  <a:lnTo>
                    <a:pt x="63" y="17"/>
                  </a:lnTo>
                  <a:lnTo>
                    <a:pt x="34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22" y="20"/>
                  </a:lnTo>
                  <a:lnTo>
                    <a:pt x="43" y="39"/>
                  </a:lnTo>
                  <a:lnTo>
                    <a:pt x="67" y="55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69" y="69"/>
                  </a:lnTo>
                  <a:lnTo>
                    <a:pt x="43" y="69"/>
                  </a:lnTo>
                  <a:lnTo>
                    <a:pt x="2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29" y="89"/>
                  </a:lnTo>
                  <a:lnTo>
                    <a:pt x="60" y="101"/>
                  </a:lnTo>
                  <a:lnTo>
                    <a:pt x="92" y="112"/>
                  </a:lnTo>
                  <a:lnTo>
                    <a:pt x="124" y="122"/>
                  </a:lnTo>
                  <a:lnTo>
                    <a:pt x="148" y="115"/>
                  </a:lnTo>
                  <a:lnTo>
                    <a:pt x="178" y="135"/>
                  </a:lnTo>
                  <a:lnTo>
                    <a:pt x="178" y="135"/>
                  </a:lnTo>
                  <a:lnTo>
                    <a:pt x="212" y="139"/>
                  </a:lnTo>
                  <a:lnTo>
                    <a:pt x="248" y="142"/>
                  </a:lnTo>
                  <a:lnTo>
                    <a:pt x="285" y="144"/>
                  </a:lnTo>
                  <a:lnTo>
                    <a:pt x="322" y="144"/>
                  </a:lnTo>
                  <a:lnTo>
                    <a:pt x="322" y="144"/>
                  </a:lnTo>
                  <a:lnTo>
                    <a:pt x="306" y="133"/>
                  </a:lnTo>
                  <a:lnTo>
                    <a:pt x="288" y="122"/>
                  </a:lnTo>
                  <a:lnTo>
                    <a:pt x="267" y="113"/>
                  </a:lnTo>
                  <a:lnTo>
                    <a:pt x="244" y="104"/>
                  </a:lnTo>
                  <a:lnTo>
                    <a:pt x="244" y="104"/>
                  </a:lnTo>
                  <a:lnTo>
                    <a:pt x="268" y="103"/>
                  </a:lnTo>
                  <a:lnTo>
                    <a:pt x="291" y="98"/>
                  </a:lnTo>
                  <a:lnTo>
                    <a:pt x="312" y="92"/>
                  </a:lnTo>
                  <a:lnTo>
                    <a:pt x="331" y="84"/>
                  </a:lnTo>
                  <a:lnTo>
                    <a:pt x="347" y="75"/>
                  </a:lnTo>
                  <a:lnTo>
                    <a:pt x="361" y="66"/>
                  </a:lnTo>
                  <a:lnTo>
                    <a:pt x="370" y="55"/>
                  </a:lnTo>
                  <a:lnTo>
                    <a:pt x="378" y="43"/>
                  </a:lnTo>
                  <a:lnTo>
                    <a:pt x="375" y="8"/>
                  </a:lnTo>
                  <a:lnTo>
                    <a:pt x="375" y="8"/>
                  </a:lnTo>
                  <a:lnTo>
                    <a:pt x="372" y="2"/>
                  </a:lnTo>
                  <a:lnTo>
                    <a:pt x="372" y="2"/>
                  </a:lnTo>
                  <a:lnTo>
                    <a:pt x="360" y="5"/>
                  </a:lnTo>
                  <a:lnTo>
                    <a:pt x="341" y="11"/>
                  </a:lnTo>
                  <a:lnTo>
                    <a:pt x="316" y="17"/>
                  </a:lnTo>
                  <a:lnTo>
                    <a:pt x="284" y="23"/>
                  </a:lnTo>
                  <a:lnTo>
                    <a:pt x="288" y="26"/>
                  </a:lnTo>
                  <a:lnTo>
                    <a:pt x="162" y="60"/>
                  </a:lnTo>
                  <a:close/>
                </a:path>
              </a:pathLst>
            </a:custGeom>
            <a:solidFill>
              <a:srgbClr val="d39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1266"/>
            <p:cNvSpPr/>
            <p:nvPr/>
          </p:nvSpPr>
          <p:spPr>
            <a:xfrm rot="2406600">
              <a:off x="7393320" y="2868840"/>
              <a:ext cx="204840" cy="4788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45" y="37"/>
                  </a:moveTo>
                  <a:lnTo>
                    <a:pt x="171" y="3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31" y="5"/>
                  </a:lnTo>
                  <a:lnTo>
                    <a:pt x="92" y="8"/>
                  </a:lnTo>
                  <a:lnTo>
                    <a:pt x="48" y="6"/>
                  </a:lnTo>
                  <a:lnTo>
                    <a:pt x="23" y="5"/>
                  </a:lnTo>
                  <a:lnTo>
                    <a:pt x="0" y="3"/>
                  </a:lnTo>
                  <a:lnTo>
                    <a:pt x="45" y="3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1267"/>
            <p:cNvSpPr/>
            <p:nvPr/>
          </p:nvSpPr>
          <p:spPr>
            <a:xfrm rot="2406600">
              <a:off x="7345800" y="2923200"/>
              <a:ext cx="64440" cy="25920"/>
            </a:xfrm>
            <a:custGeom>
              <a:avLst/>
              <a:gdLst/>
              <a:ahLst/>
              <a:rect l="l" t="t" r="r" b="b"/>
              <a:pathLst>
                <a:path w="54" h="20">
                  <a:moveTo>
                    <a:pt x="0" y="7"/>
                  </a:moveTo>
                  <a:lnTo>
                    <a:pt x="0" y="7"/>
                  </a:lnTo>
                  <a:lnTo>
                    <a:pt x="27" y="13"/>
                  </a:lnTo>
                  <a:lnTo>
                    <a:pt x="54" y="20"/>
                  </a:lnTo>
                  <a:lnTo>
                    <a:pt x="2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d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6" name="组合 4133"/>
          <p:cNvGrpSpPr/>
          <p:nvPr/>
        </p:nvGrpSpPr>
        <p:grpSpPr>
          <a:xfrm>
            <a:off x="7215120" y="3643200"/>
            <a:ext cx="1357560" cy="1330560"/>
            <a:chOff x="7215120" y="3643200"/>
            <a:chExt cx="1357560" cy="1330560"/>
          </a:xfrm>
        </p:grpSpPr>
        <p:sp>
          <p:nvSpPr>
            <p:cNvPr id="547" name="Freeform 1198"/>
            <p:cNvSpPr/>
            <p:nvPr/>
          </p:nvSpPr>
          <p:spPr>
            <a:xfrm>
              <a:off x="7215120" y="3643200"/>
              <a:ext cx="1357560" cy="1330560"/>
            </a:xfrm>
            <a:custGeom>
              <a:avLst/>
              <a:gdLst/>
              <a:ahLst/>
              <a:rect l="l" t="t" r="r" b="b"/>
              <a:pathLst>
                <a:path w="813" h="812">
                  <a:moveTo>
                    <a:pt x="690" y="216"/>
                  </a:moveTo>
                  <a:lnTo>
                    <a:pt x="690" y="216"/>
                  </a:lnTo>
                  <a:lnTo>
                    <a:pt x="705" y="233"/>
                  </a:lnTo>
                  <a:lnTo>
                    <a:pt x="721" y="251"/>
                  </a:lnTo>
                  <a:lnTo>
                    <a:pt x="734" y="268"/>
                  </a:lnTo>
                  <a:lnTo>
                    <a:pt x="746" y="285"/>
                  </a:lnTo>
                  <a:lnTo>
                    <a:pt x="757" y="302"/>
                  </a:lnTo>
                  <a:lnTo>
                    <a:pt x="768" y="320"/>
                  </a:lnTo>
                  <a:lnTo>
                    <a:pt x="777" y="337"/>
                  </a:lnTo>
                  <a:lnTo>
                    <a:pt x="784" y="355"/>
                  </a:lnTo>
                  <a:lnTo>
                    <a:pt x="792" y="372"/>
                  </a:lnTo>
                  <a:lnTo>
                    <a:pt x="798" y="389"/>
                  </a:lnTo>
                  <a:lnTo>
                    <a:pt x="803" y="407"/>
                  </a:lnTo>
                  <a:lnTo>
                    <a:pt x="807" y="424"/>
                  </a:lnTo>
                  <a:lnTo>
                    <a:pt x="812" y="459"/>
                  </a:lnTo>
                  <a:lnTo>
                    <a:pt x="813" y="492"/>
                  </a:lnTo>
                  <a:lnTo>
                    <a:pt x="812" y="526"/>
                  </a:lnTo>
                  <a:lnTo>
                    <a:pt x="807" y="558"/>
                  </a:lnTo>
                  <a:lnTo>
                    <a:pt x="798" y="590"/>
                  </a:lnTo>
                  <a:lnTo>
                    <a:pt x="786" y="619"/>
                  </a:lnTo>
                  <a:lnTo>
                    <a:pt x="772" y="648"/>
                  </a:lnTo>
                  <a:lnTo>
                    <a:pt x="756" y="677"/>
                  </a:lnTo>
                  <a:lnTo>
                    <a:pt x="734" y="702"/>
                  </a:lnTo>
                  <a:lnTo>
                    <a:pt x="713" y="725"/>
                  </a:lnTo>
                  <a:lnTo>
                    <a:pt x="713" y="725"/>
                  </a:lnTo>
                  <a:lnTo>
                    <a:pt x="687" y="748"/>
                  </a:lnTo>
                  <a:lnTo>
                    <a:pt x="661" y="766"/>
                  </a:lnTo>
                  <a:lnTo>
                    <a:pt x="632" y="782"/>
                  </a:lnTo>
                  <a:lnTo>
                    <a:pt x="602" y="794"/>
                  </a:lnTo>
                  <a:lnTo>
                    <a:pt x="570" y="803"/>
                  </a:lnTo>
                  <a:lnTo>
                    <a:pt x="538" y="809"/>
                  </a:lnTo>
                  <a:lnTo>
                    <a:pt x="504" y="812"/>
                  </a:lnTo>
                  <a:lnTo>
                    <a:pt x="469" y="811"/>
                  </a:lnTo>
                  <a:lnTo>
                    <a:pt x="436" y="806"/>
                  </a:lnTo>
                  <a:lnTo>
                    <a:pt x="401" y="798"/>
                  </a:lnTo>
                  <a:lnTo>
                    <a:pt x="364" y="786"/>
                  </a:lnTo>
                  <a:lnTo>
                    <a:pt x="329" y="771"/>
                  </a:lnTo>
                  <a:lnTo>
                    <a:pt x="294" y="751"/>
                  </a:lnTo>
                  <a:lnTo>
                    <a:pt x="260" y="728"/>
                  </a:lnTo>
                  <a:lnTo>
                    <a:pt x="227" y="701"/>
                  </a:lnTo>
                  <a:lnTo>
                    <a:pt x="210" y="686"/>
                  </a:lnTo>
                  <a:lnTo>
                    <a:pt x="193" y="670"/>
                  </a:lnTo>
                  <a:lnTo>
                    <a:pt x="193" y="670"/>
                  </a:lnTo>
                  <a:lnTo>
                    <a:pt x="163" y="635"/>
                  </a:lnTo>
                  <a:lnTo>
                    <a:pt x="134" y="597"/>
                  </a:lnTo>
                  <a:lnTo>
                    <a:pt x="107" y="558"/>
                  </a:lnTo>
                  <a:lnTo>
                    <a:pt x="82" y="515"/>
                  </a:lnTo>
                  <a:lnTo>
                    <a:pt x="61" y="472"/>
                  </a:lnTo>
                  <a:lnTo>
                    <a:pt x="43" y="430"/>
                  </a:lnTo>
                  <a:lnTo>
                    <a:pt x="27" y="386"/>
                  </a:lnTo>
                  <a:lnTo>
                    <a:pt x="15" y="341"/>
                  </a:lnTo>
                  <a:lnTo>
                    <a:pt x="6" y="297"/>
                  </a:lnTo>
                  <a:lnTo>
                    <a:pt x="2" y="256"/>
                  </a:lnTo>
                  <a:lnTo>
                    <a:pt x="0" y="235"/>
                  </a:lnTo>
                  <a:lnTo>
                    <a:pt x="2" y="215"/>
                  </a:lnTo>
                  <a:lnTo>
                    <a:pt x="2" y="195"/>
                  </a:lnTo>
                  <a:lnTo>
                    <a:pt x="5" y="177"/>
                  </a:lnTo>
                  <a:lnTo>
                    <a:pt x="8" y="158"/>
                  </a:lnTo>
                  <a:lnTo>
                    <a:pt x="11" y="140"/>
                  </a:lnTo>
                  <a:lnTo>
                    <a:pt x="17" y="123"/>
                  </a:lnTo>
                  <a:lnTo>
                    <a:pt x="23" y="108"/>
                  </a:lnTo>
                  <a:lnTo>
                    <a:pt x="30" y="93"/>
                  </a:lnTo>
                  <a:lnTo>
                    <a:pt x="40" y="79"/>
                  </a:lnTo>
                  <a:lnTo>
                    <a:pt x="50" y="66"/>
                  </a:lnTo>
                  <a:lnTo>
                    <a:pt x="61" y="53"/>
                  </a:lnTo>
                  <a:lnTo>
                    <a:pt x="61" y="53"/>
                  </a:lnTo>
                  <a:lnTo>
                    <a:pt x="73" y="43"/>
                  </a:lnTo>
                  <a:lnTo>
                    <a:pt x="87" y="34"/>
                  </a:lnTo>
                  <a:lnTo>
                    <a:pt x="102" y="24"/>
                  </a:lnTo>
                  <a:lnTo>
                    <a:pt x="117" y="18"/>
                  </a:lnTo>
                  <a:lnTo>
                    <a:pt x="134" y="12"/>
                  </a:lnTo>
                  <a:lnTo>
                    <a:pt x="152" y="8"/>
                  </a:lnTo>
                  <a:lnTo>
                    <a:pt x="171" y="5"/>
                  </a:lnTo>
                  <a:lnTo>
                    <a:pt x="189" y="2"/>
                  </a:lnTo>
                  <a:lnTo>
                    <a:pt x="209" y="0"/>
                  </a:lnTo>
                  <a:lnTo>
                    <a:pt x="228" y="0"/>
                  </a:lnTo>
                  <a:lnTo>
                    <a:pt x="250" y="2"/>
                  </a:lnTo>
                  <a:lnTo>
                    <a:pt x="271" y="5"/>
                  </a:lnTo>
                  <a:lnTo>
                    <a:pt x="314" y="11"/>
                  </a:lnTo>
                  <a:lnTo>
                    <a:pt x="359" y="23"/>
                  </a:lnTo>
                  <a:lnTo>
                    <a:pt x="404" y="37"/>
                  </a:lnTo>
                  <a:lnTo>
                    <a:pt x="449" y="55"/>
                  </a:lnTo>
                  <a:lnTo>
                    <a:pt x="494" y="75"/>
                  </a:lnTo>
                  <a:lnTo>
                    <a:pt x="538" y="99"/>
                  </a:lnTo>
                  <a:lnTo>
                    <a:pt x="579" y="125"/>
                  </a:lnTo>
                  <a:lnTo>
                    <a:pt x="618" y="154"/>
                  </a:lnTo>
                  <a:lnTo>
                    <a:pt x="657" y="184"/>
                  </a:lnTo>
                  <a:lnTo>
                    <a:pt x="690" y="216"/>
                  </a:lnTo>
                  <a:lnTo>
                    <a:pt x="690" y="216"/>
                  </a:lnTo>
                  <a:close/>
                </a:path>
              </a:pathLst>
            </a:custGeom>
            <a:solidFill>
              <a:srgbClr val="0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1199"/>
            <p:cNvSpPr/>
            <p:nvPr/>
          </p:nvSpPr>
          <p:spPr>
            <a:xfrm>
              <a:off x="7390440" y="3805200"/>
              <a:ext cx="1043640" cy="1044000"/>
            </a:xfrm>
            <a:custGeom>
              <a:avLst/>
              <a:gdLst/>
              <a:ahLst/>
              <a:rect l="l" t="t" r="r" b="b"/>
              <a:pathLst>
                <a:path w="625" h="637">
                  <a:moveTo>
                    <a:pt x="625" y="163"/>
                  </a:moveTo>
                  <a:lnTo>
                    <a:pt x="625" y="163"/>
                  </a:lnTo>
                  <a:lnTo>
                    <a:pt x="606" y="140"/>
                  </a:lnTo>
                  <a:lnTo>
                    <a:pt x="585" y="117"/>
                  </a:lnTo>
                  <a:lnTo>
                    <a:pt x="585" y="117"/>
                  </a:lnTo>
                  <a:lnTo>
                    <a:pt x="552" y="85"/>
                  </a:lnTo>
                  <a:lnTo>
                    <a:pt x="513" y="55"/>
                  </a:lnTo>
                  <a:lnTo>
                    <a:pt x="474" y="26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08" y="47"/>
                  </a:lnTo>
                  <a:lnTo>
                    <a:pt x="384" y="91"/>
                  </a:lnTo>
                  <a:lnTo>
                    <a:pt x="358" y="133"/>
                  </a:lnTo>
                  <a:lnTo>
                    <a:pt x="332" y="171"/>
                  </a:lnTo>
                  <a:lnTo>
                    <a:pt x="305" y="207"/>
                  </a:lnTo>
                  <a:lnTo>
                    <a:pt x="276" y="241"/>
                  </a:lnTo>
                  <a:lnTo>
                    <a:pt x="247" y="271"/>
                  </a:lnTo>
                  <a:lnTo>
                    <a:pt x="218" y="300"/>
                  </a:lnTo>
                  <a:lnTo>
                    <a:pt x="189" y="326"/>
                  </a:lnTo>
                  <a:lnTo>
                    <a:pt x="160" y="351"/>
                  </a:lnTo>
                  <a:lnTo>
                    <a:pt x="131" y="373"/>
                  </a:lnTo>
                  <a:lnTo>
                    <a:pt x="104" y="393"/>
                  </a:lnTo>
                  <a:lnTo>
                    <a:pt x="76" y="411"/>
                  </a:lnTo>
                  <a:lnTo>
                    <a:pt x="49" y="428"/>
                  </a:lnTo>
                  <a:lnTo>
                    <a:pt x="23" y="442"/>
                  </a:lnTo>
                  <a:lnTo>
                    <a:pt x="0" y="456"/>
                  </a:lnTo>
                  <a:lnTo>
                    <a:pt x="0" y="456"/>
                  </a:lnTo>
                  <a:lnTo>
                    <a:pt x="20" y="486"/>
                  </a:lnTo>
                  <a:lnTo>
                    <a:pt x="41" y="517"/>
                  </a:lnTo>
                  <a:lnTo>
                    <a:pt x="64" y="544"/>
                  </a:lnTo>
                  <a:lnTo>
                    <a:pt x="88" y="571"/>
                  </a:lnTo>
                  <a:lnTo>
                    <a:pt x="88" y="571"/>
                  </a:lnTo>
                  <a:lnTo>
                    <a:pt x="108" y="590"/>
                  </a:lnTo>
                  <a:lnTo>
                    <a:pt x="127" y="607"/>
                  </a:lnTo>
                  <a:lnTo>
                    <a:pt x="146" y="623"/>
                  </a:lnTo>
                  <a:lnTo>
                    <a:pt x="166" y="637"/>
                  </a:lnTo>
                  <a:lnTo>
                    <a:pt x="166" y="637"/>
                  </a:lnTo>
                  <a:lnTo>
                    <a:pt x="189" y="628"/>
                  </a:lnTo>
                  <a:lnTo>
                    <a:pt x="212" y="619"/>
                  </a:lnTo>
                  <a:lnTo>
                    <a:pt x="254" y="597"/>
                  </a:lnTo>
                  <a:lnTo>
                    <a:pt x="296" y="573"/>
                  </a:lnTo>
                  <a:lnTo>
                    <a:pt x="334" y="546"/>
                  </a:lnTo>
                  <a:lnTo>
                    <a:pt x="369" y="518"/>
                  </a:lnTo>
                  <a:lnTo>
                    <a:pt x="402" y="488"/>
                  </a:lnTo>
                  <a:lnTo>
                    <a:pt x="434" y="456"/>
                  </a:lnTo>
                  <a:lnTo>
                    <a:pt x="463" y="424"/>
                  </a:lnTo>
                  <a:lnTo>
                    <a:pt x="491" y="390"/>
                  </a:lnTo>
                  <a:lnTo>
                    <a:pt x="515" y="357"/>
                  </a:lnTo>
                  <a:lnTo>
                    <a:pt x="538" y="323"/>
                  </a:lnTo>
                  <a:lnTo>
                    <a:pt x="559" y="290"/>
                  </a:lnTo>
                  <a:lnTo>
                    <a:pt x="577" y="258"/>
                  </a:lnTo>
                  <a:lnTo>
                    <a:pt x="596" y="224"/>
                  </a:lnTo>
                  <a:lnTo>
                    <a:pt x="611" y="194"/>
                  </a:lnTo>
                  <a:lnTo>
                    <a:pt x="625" y="163"/>
                  </a:lnTo>
                  <a:lnTo>
                    <a:pt x="625" y="163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1200"/>
            <p:cNvSpPr/>
            <p:nvPr/>
          </p:nvSpPr>
          <p:spPr>
            <a:xfrm>
              <a:off x="7331760" y="4410000"/>
              <a:ext cx="135000" cy="16200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0" y="24"/>
                  </a:moveTo>
                  <a:lnTo>
                    <a:pt x="0" y="24"/>
                  </a:lnTo>
                  <a:lnTo>
                    <a:pt x="21" y="62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81" y="78"/>
                  </a:lnTo>
                  <a:lnTo>
                    <a:pt x="81" y="78"/>
                  </a:lnTo>
                  <a:lnTo>
                    <a:pt x="56" y="39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1201"/>
            <p:cNvSpPr/>
            <p:nvPr/>
          </p:nvSpPr>
          <p:spPr>
            <a:xfrm>
              <a:off x="7268400" y="3844800"/>
              <a:ext cx="222120" cy="565200"/>
            </a:xfrm>
            <a:custGeom>
              <a:avLst/>
              <a:gdLst/>
              <a:ahLst/>
              <a:rect l="l" t="t" r="r" b="b"/>
              <a:pathLst>
                <a:path w="133" h="345">
                  <a:moveTo>
                    <a:pt x="2" y="0"/>
                  </a:moveTo>
                  <a:lnTo>
                    <a:pt x="2" y="0"/>
                  </a:lnTo>
                  <a:lnTo>
                    <a:pt x="0" y="29"/>
                  </a:lnTo>
                  <a:lnTo>
                    <a:pt x="2" y="63"/>
                  </a:lnTo>
                  <a:lnTo>
                    <a:pt x="5" y="106"/>
                  </a:lnTo>
                  <a:lnTo>
                    <a:pt x="8" y="131"/>
                  </a:lnTo>
                  <a:lnTo>
                    <a:pt x="12" y="157"/>
                  </a:lnTo>
                  <a:lnTo>
                    <a:pt x="18" y="186"/>
                  </a:lnTo>
                  <a:lnTo>
                    <a:pt x="26" y="215"/>
                  </a:lnTo>
                  <a:lnTo>
                    <a:pt x="35" y="247"/>
                  </a:lnTo>
                  <a:lnTo>
                    <a:pt x="46" y="279"/>
                  </a:lnTo>
                  <a:lnTo>
                    <a:pt x="59" y="311"/>
                  </a:lnTo>
                  <a:lnTo>
                    <a:pt x="75" y="345"/>
                  </a:lnTo>
                  <a:lnTo>
                    <a:pt x="75" y="345"/>
                  </a:lnTo>
                  <a:lnTo>
                    <a:pt x="102" y="325"/>
                  </a:lnTo>
                  <a:lnTo>
                    <a:pt x="133" y="301"/>
                  </a:lnTo>
                  <a:lnTo>
                    <a:pt x="133" y="301"/>
                  </a:lnTo>
                  <a:lnTo>
                    <a:pt x="113" y="272"/>
                  </a:lnTo>
                  <a:lnTo>
                    <a:pt x="93" y="241"/>
                  </a:lnTo>
                  <a:lnTo>
                    <a:pt x="75" y="208"/>
                  </a:lnTo>
                  <a:lnTo>
                    <a:pt x="56" y="171"/>
                  </a:lnTo>
                  <a:lnTo>
                    <a:pt x="40" y="133"/>
                  </a:lnTo>
                  <a:lnTo>
                    <a:pt x="26" y="90"/>
                  </a:lnTo>
                  <a:lnTo>
                    <a:pt x="12" y="4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8d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1202"/>
            <p:cNvSpPr/>
            <p:nvPr/>
          </p:nvSpPr>
          <p:spPr>
            <a:xfrm>
              <a:off x="7670880" y="4452840"/>
              <a:ext cx="180360" cy="163800"/>
            </a:xfrm>
            <a:custGeom>
              <a:avLst/>
              <a:gdLst/>
              <a:ahLst/>
              <a:rect l="l" t="t" r="r" b="b"/>
              <a:pathLst>
                <a:path w="108" h="100">
                  <a:moveTo>
                    <a:pt x="15" y="16"/>
                  </a:moveTo>
                  <a:lnTo>
                    <a:pt x="15" y="16"/>
                  </a:lnTo>
                  <a:lnTo>
                    <a:pt x="9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1" y="59"/>
                  </a:lnTo>
                  <a:lnTo>
                    <a:pt x="42" y="74"/>
                  </a:lnTo>
                  <a:lnTo>
                    <a:pt x="64" y="88"/>
                  </a:lnTo>
                  <a:lnTo>
                    <a:pt x="83" y="100"/>
                  </a:lnTo>
                  <a:lnTo>
                    <a:pt x="83" y="100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7" y="85"/>
                  </a:lnTo>
                  <a:lnTo>
                    <a:pt x="103" y="76"/>
                  </a:lnTo>
                  <a:lnTo>
                    <a:pt x="106" y="65"/>
                  </a:lnTo>
                  <a:lnTo>
                    <a:pt x="108" y="55"/>
                  </a:lnTo>
                  <a:lnTo>
                    <a:pt x="106" y="45"/>
                  </a:lnTo>
                  <a:lnTo>
                    <a:pt x="103" y="35"/>
                  </a:lnTo>
                  <a:lnTo>
                    <a:pt x="99" y="26"/>
                  </a:lnTo>
                  <a:lnTo>
                    <a:pt x="93" y="16"/>
                  </a:lnTo>
                  <a:lnTo>
                    <a:pt x="93" y="16"/>
                  </a:lnTo>
                  <a:lnTo>
                    <a:pt x="83" y="9"/>
                  </a:lnTo>
                  <a:lnTo>
                    <a:pt x="74" y="4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5" y="16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1203"/>
            <p:cNvSpPr/>
            <p:nvPr/>
          </p:nvSpPr>
          <p:spPr>
            <a:xfrm>
              <a:off x="7468920" y="4614840"/>
              <a:ext cx="168480" cy="16848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34" y="0"/>
                  </a:moveTo>
                  <a:lnTo>
                    <a:pt x="34" y="0"/>
                  </a:lnTo>
                  <a:lnTo>
                    <a:pt x="23" y="4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6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0" y="55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0" y="97"/>
                  </a:lnTo>
                  <a:lnTo>
                    <a:pt x="89" y="91"/>
                  </a:lnTo>
                  <a:lnTo>
                    <a:pt x="89" y="91"/>
                  </a:lnTo>
                  <a:lnTo>
                    <a:pt x="96" y="82"/>
                  </a:lnTo>
                  <a:lnTo>
                    <a:pt x="101" y="71"/>
                  </a:lnTo>
                  <a:lnTo>
                    <a:pt x="101" y="71"/>
                  </a:lnTo>
                  <a:lnTo>
                    <a:pt x="83" y="55"/>
                  </a:lnTo>
                  <a:lnTo>
                    <a:pt x="66" y="3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04"/>
            <p:cNvSpPr/>
            <p:nvPr/>
          </p:nvSpPr>
          <p:spPr>
            <a:xfrm>
              <a:off x="8036640" y="409212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6"/>
                  </a:moveTo>
                  <a:lnTo>
                    <a:pt x="17" y="16"/>
                  </a:lnTo>
                  <a:lnTo>
                    <a:pt x="9" y="25"/>
                  </a:lnTo>
                  <a:lnTo>
                    <a:pt x="5" y="34"/>
                  </a:lnTo>
                  <a:lnTo>
                    <a:pt x="2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8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101"/>
                  </a:lnTo>
                  <a:lnTo>
                    <a:pt x="32" y="105"/>
                  </a:lnTo>
                  <a:lnTo>
                    <a:pt x="43" y="108"/>
                  </a:lnTo>
                  <a:lnTo>
                    <a:pt x="53" y="110"/>
                  </a:lnTo>
                  <a:lnTo>
                    <a:pt x="64" y="108"/>
                  </a:lnTo>
                  <a:lnTo>
                    <a:pt x="73" y="105"/>
                  </a:lnTo>
                  <a:lnTo>
                    <a:pt x="84" y="101"/>
                  </a:lnTo>
                  <a:lnTo>
                    <a:pt x="93" y="93"/>
                  </a:lnTo>
                  <a:lnTo>
                    <a:pt x="93" y="93"/>
                  </a:lnTo>
                  <a:lnTo>
                    <a:pt x="99" y="86"/>
                  </a:lnTo>
                  <a:lnTo>
                    <a:pt x="105" y="75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2" y="25"/>
                  </a:lnTo>
                  <a:lnTo>
                    <a:pt x="94" y="16"/>
                  </a:lnTo>
                  <a:lnTo>
                    <a:pt x="94" y="16"/>
                  </a:lnTo>
                  <a:lnTo>
                    <a:pt x="87" y="9"/>
                  </a:lnTo>
                  <a:lnTo>
                    <a:pt x="78" y="3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5" y="3"/>
                  </a:lnTo>
                  <a:lnTo>
                    <a:pt x="26" y="9"/>
                  </a:lnTo>
                  <a:lnTo>
                    <a:pt x="17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205"/>
            <p:cNvSpPr/>
            <p:nvPr/>
          </p:nvSpPr>
          <p:spPr>
            <a:xfrm>
              <a:off x="7856280" y="4272480"/>
              <a:ext cx="183600" cy="1800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7" y="17"/>
                  </a:moveTo>
                  <a:lnTo>
                    <a:pt x="17" y="17"/>
                  </a:lnTo>
                  <a:lnTo>
                    <a:pt x="9" y="24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5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23" y="102"/>
                  </a:lnTo>
                  <a:lnTo>
                    <a:pt x="32" y="107"/>
                  </a:lnTo>
                  <a:lnTo>
                    <a:pt x="43" y="110"/>
                  </a:lnTo>
                  <a:lnTo>
                    <a:pt x="53" y="110"/>
                  </a:lnTo>
                  <a:lnTo>
                    <a:pt x="64" y="110"/>
                  </a:lnTo>
                  <a:lnTo>
                    <a:pt x="75" y="107"/>
                  </a:lnTo>
                  <a:lnTo>
                    <a:pt x="84" y="101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100" y="85"/>
                  </a:lnTo>
                  <a:lnTo>
                    <a:pt x="105" y="76"/>
                  </a:lnTo>
                  <a:lnTo>
                    <a:pt x="108" y="66"/>
                  </a:lnTo>
                  <a:lnTo>
                    <a:pt x="110" y="55"/>
                  </a:lnTo>
                  <a:lnTo>
                    <a:pt x="110" y="44"/>
                  </a:lnTo>
                  <a:lnTo>
                    <a:pt x="107" y="35"/>
                  </a:lnTo>
                  <a:lnTo>
                    <a:pt x="102" y="24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7" y="2"/>
                  </a:lnTo>
                  <a:lnTo>
                    <a:pt x="56" y="0"/>
                  </a:lnTo>
                  <a:lnTo>
                    <a:pt x="46" y="2"/>
                  </a:lnTo>
                  <a:lnTo>
                    <a:pt x="36" y="5"/>
                  </a:lnTo>
                  <a:lnTo>
                    <a:pt x="26" y="9"/>
                  </a:lnTo>
                  <a:lnTo>
                    <a:pt x="17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206"/>
            <p:cNvSpPr/>
            <p:nvPr/>
          </p:nvSpPr>
          <p:spPr>
            <a:xfrm>
              <a:off x="7467120" y="4454280"/>
              <a:ext cx="414000" cy="334080"/>
            </a:xfrm>
            <a:custGeom>
              <a:avLst/>
              <a:gdLst/>
              <a:ahLst/>
              <a:rect l="l" t="t" r="r" b="b"/>
              <a:pathLst>
                <a:path w="248" h="204">
                  <a:moveTo>
                    <a:pt x="134" y="93"/>
                  </a:moveTo>
                  <a:lnTo>
                    <a:pt x="134" y="93"/>
                  </a:lnTo>
                  <a:lnTo>
                    <a:pt x="129" y="89"/>
                  </a:lnTo>
                  <a:lnTo>
                    <a:pt x="125" y="83"/>
                  </a:lnTo>
                  <a:lnTo>
                    <a:pt x="122" y="75"/>
                  </a:lnTo>
                  <a:lnTo>
                    <a:pt x="120" y="69"/>
                  </a:lnTo>
                  <a:lnTo>
                    <a:pt x="119" y="55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99" y="2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38" y="26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7" y="75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42" y="96"/>
                  </a:lnTo>
                  <a:lnTo>
                    <a:pt x="50" y="95"/>
                  </a:lnTo>
                  <a:lnTo>
                    <a:pt x="58" y="95"/>
                  </a:lnTo>
                  <a:lnTo>
                    <a:pt x="65" y="96"/>
                  </a:lnTo>
                  <a:lnTo>
                    <a:pt x="73" y="98"/>
                  </a:lnTo>
                  <a:lnTo>
                    <a:pt x="79" y="101"/>
                  </a:lnTo>
                  <a:lnTo>
                    <a:pt x="87" y="105"/>
                  </a:lnTo>
                  <a:lnTo>
                    <a:pt x="93" y="110"/>
                  </a:lnTo>
                  <a:lnTo>
                    <a:pt x="93" y="110"/>
                  </a:lnTo>
                  <a:lnTo>
                    <a:pt x="97" y="116"/>
                  </a:lnTo>
                  <a:lnTo>
                    <a:pt x="102" y="124"/>
                  </a:lnTo>
                  <a:lnTo>
                    <a:pt x="105" y="131"/>
                  </a:lnTo>
                  <a:lnTo>
                    <a:pt x="106" y="139"/>
                  </a:lnTo>
                  <a:lnTo>
                    <a:pt x="106" y="147"/>
                  </a:lnTo>
                  <a:lnTo>
                    <a:pt x="106" y="154"/>
                  </a:lnTo>
                  <a:lnTo>
                    <a:pt x="105" y="162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22" y="188"/>
                  </a:lnTo>
                  <a:lnTo>
                    <a:pt x="143" y="204"/>
                  </a:lnTo>
                  <a:lnTo>
                    <a:pt x="143" y="204"/>
                  </a:lnTo>
                  <a:lnTo>
                    <a:pt x="192" y="168"/>
                  </a:lnTo>
                  <a:lnTo>
                    <a:pt x="248" y="121"/>
                  </a:lnTo>
                  <a:lnTo>
                    <a:pt x="248" y="121"/>
                  </a:lnTo>
                  <a:lnTo>
                    <a:pt x="228" y="111"/>
                  </a:lnTo>
                  <a:lnTo>
                    <a:pt x="205" y="99"/>
                  </a:lnTo>
                  <a:lnTo>
                    <a:pt x="205" y="99"/>
                  </a:lnTo>
                  <a:lnTo>
                    <a:pt x="196" y="104"/>
                  </a:lnTo>
                  <a:lnTo>
                    <a:pt x="187" y="107"/>
                  </a:lnTo>
                  <a:lnTo>
                    <a:pt x="178" y="110"/>
                  </a:lnTo>
                  <a:lnTo>
                    <a:pt x="167" y="110"/>
                  </a:lnTo>
                  <a:lnTo>
                    <a:pt x="158" y="108"/>
                  </a:lnTo>
                  <a:lnTo>
                    <a:pt x="149" y="105"/>
                  </a:lnTo>
                  <a:lnTo>
                    <a:pt x="141" y="99"/>
                  </a:lnTo>
                  <a:lnTo>
                    <a:pt x="134" y="93"/>
                  </a:lnTo>
                  <a:lnTo>
                    <a:pt x="134" y="93"/>
                  </a:lnTo>
                  <a:close/>
                </a:path>
              </a:pathLst>
            </a:custGeom>
            <a:solidFill>
              <a:srgbClr val="fff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207"/>
            <p:cNvSpPr/>
            <p:nvPr/>
          </p:nvSpPr>
          <p:spPr>
            <a:xfrm>
              <a:off x="7665840" y="4521600"/>
              <a:ext cx="143640" cy="11304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15" y="52"/>
                  </a:moveTo>
                  <a:lnTo>
                    <a:pt x="15" y="52"/>
                  </a:lnTo>
                  <a:lnTo>
                    <a:pt x="22" y="58"/>
                  </a:lnTo>
                  <a:lnTo>
                    <a:pt x="30" y="64"/>
                  </a:lnTo>
                  <a:lnTo>
                    <a:pt x="39" y="67"/>
                  </a:lnTo>
                  <a:lnTo>
                    <a:pt x="48" y="69"/>
                  </a:lnTo>
                  <a:lnTo>
                    <a:pt x="59" y="69"/>
                  </a:lnTo>
                  <a:lnTo>
                    <a:pt x="68" y="66"/>
                  </a:lnTo>
                  <a:lnTo>
                    <a:pt x="77" y="63"/>
                  </a:lnTo>
                  <a:lnTo>
                    <a:pt x="86" y="58"/>
                  </a:lnTo>
                  <a:lnTo>
                    <a:pt x="86" y="58"/>
                  </a:lnTo>
                  <a:lnTo>
                    <a:pt x="67" y="46"/>
                  </a:lnTo>
                  <a:lnTo>
                    <a:pt x="45" y="32"/>
                  </a:lnTo>
                  <a:lnTo>
                    <a:pt x="24" y="17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14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5" y="52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208"/>
            <p:cNvSpPr/>
            <p:nvPr/>
          </p:nvSpPr>
          <p:spPr>
            <a:xfrm>
              <a:off x="7525440" y="4610160"/>
              <a:ext cx="118440" cy="1209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8" y="15"/>
                  </a:moveTo>
                  <a:lnTo>
                    <a:pt x="58" y="15"/>
                  </a:lnTo>
                  <a:lnTo>
                    <a:pt x="52" y="10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32" y="39"/>
                  </a:lnTo>
                  <a:lnTo>
                    <a:pt x="49" y="58"/>
                  </a:lnTo>
                  <a:lnTo>
                    <a:pt x="67" y="74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1" y="44"/>
                  </a:lnTo>
                  <a:lnTo>
                    <a:pt x="70" y="36"/>
                  </a:lnTo>
                  <a:lnTo>
                    <a:pt x="67" y="29"/>
                  </a:lnTo>
                  <a:lnTo>
                    <a:pt x="62" y="21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209"/>
            <p:cNvSpPr/>
            <p:nvPr/>
          </p:nvSpPr>
          <p:spPr>
            <a:xfrm>
              <a:off x="7706160" y="4652640"/>
              <a:ext cx="258840" cy="221040"/>
            </a:xfrm>
            <a:custGeom>
              <a:avLst/>
              <a:gdLst/>
              <a:ahLst/>
              <a:rect l="l" t="t" r="r" b="b"/>
              <a:pathLst>
                <a:path w="155" h="135">
                  <a:moveTo>
                    <a:pt x="155" y="19"/>
                  </a:moveTo>
                  <a:lnTo>
                    <a:pt x="155" y="19"/>
                  </a:lnTo>
                  <a:lnTo>
                    <a:pt x="142" y="15"/>
                  </a:lnTo>
                  <a:lnTo>
                    <a:pt x="126" y="9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49" y="4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7" y="109"/>
                  </a:lnTo>
                  <a:lnTo>
                    <a:pt x="76" y="135"/>
                  </a:lnTo>
                  <a:lnTo>
                    <a:pt x="155" y="19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210"/>
            <p:cNvSpPr/>
            <p:nvPr/>
          </p:nvSpPr>
          <p:spPr>
            <a:xfrm>
              <a:off x="7393680" y="4338000"/>
              <a:ext cx="196920" cy="199800"/>
            </a:xfrm>
            <a:custGeom>
              <a:avLst/>
              <a:gdLst/>
              <a:ahLst/>
              <a:rect l="l" t="t" r="r" b="b"/>
              <a:pathLst>
                <a:path w="118" h="122">
                  <a:moveTo>
                    <a:pt x="58" y="0"/>
                  </a:moveTo>
                  <a:lnTo>
                    <a:pt x="58" y="0"/>
                  </a:lnTo>
                  <a:lnTo>
                    <a:pt x="27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9" y="83"/>
                  </a:lnTo>
                  <a:lnTo>
                    <a:pt x="44" y="122"/>
                  </a:lnTo>
                  <a:lnTo>
                    <a:pt x="44" y="122"/>
                  </a:lnTo>
                  <a:lnTo>
                    <a:pt x="82" y="97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88" y="38"/>
                  </a:lnTo>
                  <a:lnTo>
                    <a:pt x="73" y="1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ccd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211"/>
            <p:cNvSpPr/>
            <p:nvPr/>
          </p:nvSpPr>
          <p:spPr>
            <a:xfrm>
              <a:off x="7490520" y="3762720"/>
              <a:ext cx="653040" cy="691560"/>
            </a:xfrm>
            <a:custGeom>
              <a:avLst/>
              <a:gdLst/>
              <a:ahLst/>
              <a:rect l="l" t="t" r="r" b="b"/>
              <a:pathLst>
                <a:path w="391" h="422">
                  <a:moveTo>
                    <a:pt x="324" y="0"/>
                  </a:moveTo>
                  <a:lnTo>
                    <a:pt x="324" y="0"/>
                  </a:lnTo>
                  <a:lnTo>
                    <a:pt x="283" y="58"/>
                  </a:lnTo>
                  <a:lnTo>
                    <a:pt x="240" y="113"/>
                  </a:lnTo>
                  <a:lnTo>
                    <a:pt x="198" y="162"/>
                  </a:lnTo>
                  <a:lnTo>
                    <a:pt x="156" y="207"/>
                  </a:lnTo>
                  <a:lnTo>
                    <a:pt x="114" y="250"/>
                  </a:lnTo>
                  <a:lnTo>
                    <a:pt x="74" y="288"/>
                  </a:lnTo>
                  <a:lnTo>
                    <a:pt x="36" y="322"/>
                  </a:lnTo>
                  <a:lnTo>
                    <a:pt x="0" y="351"/>
                  </a:lnTo>
                  <a:lnTo>
                    <a:pt x="0" y="351"/>
                  </a:lnTo>
                  <a:lnTo>
                    <a:pt x="15" y="370"/>
                  </a:lnTo>
                  <a:lnTo>
                    <a:pt x="30" y="389"/>
                  </a:lnTo>
                  <a:lnTo>
                    <a:pt x="60" y="422"/>
                  </a:lnTo>
                  <a:lnTo>
                    <a:pt x="60" y="422"/>
                  </a:lnTo>
                  <a:lnTo>
                    <a:pt x="89" y="401"/>
                  </a:lnTo>
                  <a:lnTo>
                    <a:pt x="115" y="378"/>
                  </a:lnTo>
                  <a:lnTo>
                    <a:pt x="143" y="357"/>
                  </a:lnTo>
                  <a:lnTo>
                    <a:pt x="167" y="332"/>
                  </a:lnTo>
                  <a:lnTo>
                    <a:pt x="214" y="287"/>
                  </a:lnTo>
                  <a:lnTo>
                    <a:pt x="258" y="239"/>
                  </a:lnTo>
                  <a:lnTo>
                    <a:pt x="298" y="192"/>
                  </a:lnTo>
                  <a:lnTo>
                    <a:pt x="333" y="148"/>
                  </a:lnTo>
                  <a:lnTo>
                    <a:pt x="365" y="107"/>
                  </a:lnTo>
                  <a:lnTo>
                    <a:pt x="391" y="70"/>
                  </a:lnTo>
                  <a:lnTo>
                    <a:pt x="391" y="70"/>
                  </a:lnTo>
                  <a:lnTo>
                    <a:pt x="364" y="35"/>
                  </a:lnTo>
                  <a:lnTo>
                    <a:pt x="341" y="8"/>
                  </a:lnTo>
                  <a:lnTo>
                    <a:pt x="341" y="8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1212"/>
            <p:cNvSpPr/>
            <p:nvPr/>
          </p:nvSpPr>
          <p:spPr>
            <a:xfrm>
              <a:off x="7642440" y="4177440"/>
              <a:ext cx="748080" cy="737280"/>
            </a:xfrm>
            <a:custGeom>
              <a:avLst/>
              <a:gdLst/>
              <a:ahLst/>
              <a:rect l="l" t="t" r="r" b="b"/>
              <a:pathLst>
                <a:path w="448" h="450">
                  <a:moveTo>
                    <a:pt x="143" y="290"/>
                  </a:moveTo>
                  <a:lnTo>
                    <a:pt x="143" y="290"/>
                  </a:lnTo>
                  <a:lnTo>
                    <a:pt x="164" y="299"/>
                  </a:lnTo>
                  <a:lnTo>
                    <a:pt x="180" y="305"/>
                  </a:lnTo>
                  <a:lnTo>
                    <a:pt x="193" y="309"/>
                  </a:lnTo>
                  <a:lnTo>
                    <a:pt x="114" y="425"/>
                  </a:lnTo>
                  <a:lnTo>
                    <a:pt x="114" y="425"/>
                  </a:lnTo>
                  <a:lnTo>
                    <a:pt x="75" y="399"/>
                  </a:lnTo>
                  <a:lnTo>
                    <a:pt x="38" y="373"/>
                  </a:lnTo>
                  <a:lnTo>
                    <a:pt x="38" y="373"/>
                  </a:lnTo>
                  <a:lnTo>
                    <a:pt x="0" y="399"/>
                  </a:lnTo>
                  <a:lnTo>
                    <a:pt x="0" y="399"/>
                  </a:lnTo>
                  <a:lnTo>
                    <a:pt x="21" y="415"/>
                  </a:lnTo>
                  <a:lnTo>
                    <a:pt x="41" y="427"/>
                  </a:lnTo>
                  <a:lnTo>
                    <a:pt x="62" y="439"/>
                  </a:lnTo>
                  <a:lnTo>
                    <a:pt x="84" y="450"/>
                  </a:lnTo>
                  <a:lnTo>
                    <a:pt x="84" y="450"/>
                  </a:lnTo>
                  <a:lnTo>
                    <a:pt x="113" y="431"/>
                  </a:lnTo>
                  <a:lnTo>
                    <a:pt x="142" y="413"/>
                  </a:lnTo>
                  <a:lnTo>
                    <a:pt x="169" y="393"/>
                  </a:lnTo>
                  <a:lnTo>
                    <a:pt x="195" y="372"/>
                  </a:lnTo>
                  <a:lnTo>
                    <a:pt x="221" y="351"/>
                  </a:lnTo>
                  <a:lnTo>
                    <a:pt x="247" y="329"/>
                  </a:lnTo>
                  <a:lnTo>
                    <a:pt x="294" y="284"/>
                  </a:lnTo>
                  <a:lnTo>
                    <a:pt x="338" y="238"/>
                  </a:lnTo>
                  <a:lnTo>
                    <a:pt x="379" y="194"/>
                  </a:lnTo>
                  <a:lnTo>
                    <a:pt x="416" y="149"/>
                  </a:lnTo>
                  <a:lnTo>
                    <a:pt x="448" y="107"/>
                  </a:lnTo>
                  <a:lnTo>
                    <a:pt x="448" y="107"/>
                  </a:lnTo>
                  <a:lnTo>
                    <a:pt x="440" y="79"/>
                  </a:lnTo>
                  <a:lnTo>
                    <a:pt x="429" y="52"/>
                  </a:lnTo>
                  <a:lnTo>
                    <a:pt x="420" y="26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376" y="46"/>
                  </a:lnTo>
                  <a:lnTo>
                    <a:pt x="341" y="88"/>
                  </a:lnTo>
                  <a:lnTo>
                    <a:pt x="308" y="128"/>
                  </a:lnTo>
                  <a:lnTo>
                    <a:pt x="274" y="166"/>
                  </a:lnTo>
                  <a:lnTo>
                    <a:pt x="239" y="201"/>
                  </a:lnTo>
                  <a:lnTo>
                    <a:pt x="207" y="233"/>
                  </a:lnTo>
                  <a:lnTo>
                    <a:pt x="175" y="264"/>
                  </a:lnTo>
                  <a:lnTo>
                    <a:pt x="143" y="290"/>
                  </a:lnTo>
                  <a:lnTo>
                    <a:pt x="143" y="290"/>
                  </a:lnTo>
                  <a:close/>
                </a:path>
              </a:pathLst>
            </a:custGeom>
            <a:solidFill>
              <a:srgbClr val="f9a0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1213"/>
            <p:cNvSpPr/>
            <p:nvPr/>
          </p:nvSpPr>
          <p:spPr>
            <a:xfrm>
              <a:off x="8390880" y="4190400"/>
              <a:ext cx="181800" cy="63072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5" y="385"/>
                  </a:moveTo>
                  <a:lnTo>
                    <a:pt x="15" y="385"/>
                  </a:lnTo>
                  <a:lnTo>
                    <a:pt x="32" y="367"/>
                  </a:lnTo>
                  <a:lnTo>
                    <a:pt x="47" y="347"/>
                  </a:lnTo>
                  <a:lnTo>
                    <a:pt x="61" y="326"/>
                  </a:lnTo>
                  <a:lnTo>
                    <a:pt x="74" y="304"/>
                  </a:lnTo>
                  <a:lnTo>
                    <a:pt x="84" y="282"/>
                  </a:lnTo>
                  <a:lnTo>
                    <a:pt x="93" y="259"/>
                  </a:lnTo>
                  <a:lnTo>
                    <a:pt x="100" y="234"/>
                  </a:lnTo>
                  <a:lnTo>
                    <a:pt x="105" y="210"/>
                  </a:lnTo>
                  <a:lnTo>
                    <a:pt x="108" y="184"/>
                  </a:lnTo>
                  <a:lnTo>
                    <a:pt x="109" y="158"/>
                  </a:lnTo>
                  <a:lnTo>
                    <a:pt x="108" y="132"/>
                  </a:lnTo>
                  <a:lnTo>
                    <a:pt x="105" y="106"/>
                  </a:lnTo>
                  <a:lnTo>
                    <a:pt x="100" y="80"/>
                  </a:lnTo>
                  <a:lnTo>
                    <a:pt x="93" y="53"/>
                  </a:lnTo>
                  <a:lnTo>
                    <a:pt x="82" y="2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39" y="4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9" y="132"/>
                  </a:lnTo>
                  <a:lnTo>
                    <a:pt x="15" y="166"/>
                  </a:lnTo>
                  <a:lnTo>
                    <a:pt x="20" y="201"/>
                  </a:lnTo>
                  <a:lnTo>
                    <a:pt x="24" y="236"/>
                  </a:lnTo>
                  <a:lnTo>
                    <a:pt x="24" y="272"/>
                  </a:lnTo>
                  <a:lnTo>
                    <a:pt x="24" y="309"/>
                  </a:lnTo>
                  <a:lnTo>
                    <a:pt x="21" y="347"/>
                  </a:lnTo>
                  <a:lnTo>
                    <a:pt x="15" y="385"/>
                  </a:lnTo>
                  <a:lnTo>
                    <a:pt x="15" y="385"/>
                  </a:lnTo>
                  <a:close/>
                </a:path>
              </a:pathLst>
            </a:custGeom>
            <a:solidFill>
              <a:srgbClr val="009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1214"/>
            <p:cNvSpPr/>
            <p:nvPr/>
          </p:nvSpPr>
          <p:spPr>
            <a:xfrm>
              <a:off x="8187120" y="3947760"/>
              <a:ext cx="86760" cy="1245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15" y="59"/>
                  </a:moveTo>
                  <a:lnTo>
                    <a:pt x="15" y="59"/>
                  </a:lnTo>
                  <a:lnTo>
                    <a:pt x="23" y="67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27" y="36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15" y="59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215"/>
            <p:cNvSpPr/>
            <p:nvPr/>
          </p:nvSpPr>
          <p:spPr>
            <a:xfrm>
              <a:off x="8143560" y="3839760"/>
              <a:ext cx="106560" cy="10800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4" y="35"/>
                  </a:moveTo>
                  <a:lnTo>
                    <a:pt x="64" y="35"/>
                  </a:lnTo>
                  <a:lnTo>
                    <a:pt x="40" y="17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7" y="57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3" y="40"/>
                  </a:lnTo>
                  <a:lnTo>
                    <a:pt x="64" y="35"/>
                  </a:lnTo>
                  <a:lnTo>
                    <a:pt x="64" y="35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1216"/>
            <p:cNvSpPr/>
            <p:nvPr/>
          </p:nvSpPr>
          <p:spPr>
            <a:xfrm>
              <a:off x="8273880" y="3997080"/>
              <a:ext cx="138600" cy="180000"/>
            </a:xfrm>
            <a:custGeom>
              <a:avLst/>
              <a:gdLst/>
              <a:ahLst/>
              <a:rect l="l" t="t" r="r" b="b"/>
              <a:pathLst>
                <a:path w="83" h="110">
                  <a:moveTo>
                    <a:pt x="56" y="2"/>
                  </a:moveTo>
                  <a:lnTo>
                    <a:pt x="56" y="2"/>
                  </a:lnTo>
                  <a:lnTo>
                    <a:pt x="55" y="10"/>
                  </a:lnTo>
                  <a:lnTo>
                    <a:pt x="51" y="17"/>
                  </a:lnTo>
                  <a:lnTo>
                    <a:pt x="47" y="23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2" y="37"/>
                  </a:lnTo>
                  <a:lnTo>
                    <a:pt x="21" y="42"/>
                  </a:lnTo>
                  <a:lnTo>
                    <a:pt x="10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77"/>
                  </a:lnTo>
                  <a:lnTo>
                    <a:pt x="32" y="110"/>
                  </a:lnTo>
                  <a:lnTo>
                    <a:pt x="32" y="110"/>
                  </a:lnTo>
                  <a:lnTo>
                    <a:pt x="58" y="72"/>
                  </a:lnTo>
                  <a:lnTo>
                    <a:pt x="83" y="32"/>
                  </a:lnTo>
                  <a:lnTo>
                    <a:pt x="83" y="3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d4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217"/>
            <p:cNvSpPr/>
            <p:nvPr/>
          </p:nvSpPr>
          <p:spPr>
            <a:xfrm>
              <a:off x="8193600" y="3897000"/>
              <a:ext cx="173520" cy="175320"/>
            </a:xfrm>
            <a:custGeom>
              <a:avLst/>
              <a:gdLst/>
              <a:ahLst/>
              <a:rect l="l" t="t" r="r" b="b"/>
              <a:pathLst>
                <a:path w="104" h="107">
                  <a:moveTo>
                    <a:pt x="89" y="90"/>
                  </a:moveTo>
                  <a:lnTo>
                    <a:pt x="89" y="90"/>
                  </a:lnTo>
                  <a:lnTo>
                    <a:pt x="95" y="84"/>
                  </a:lnTo>
                  <a:lnTo>
                    <a:pt x="99" y="78"/>
                  </a:lnTo>
                  <a:lnTo>
                    <a:pt x="103" y="71"/>
                  </a:lnTo>
                  <a:lnTo>
                    <a:pt x="104" y="63"/>
                  </a:lnTo>
                  <a:lnTo>
                    <a:pt x="104" y="63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5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3" y="67"/>
                  </a:lnTo>
                  <a:lnTo>
                    <a:pt x="48" y="107"/>
                  </a:lnTo>
                  <a:lnTo>
                    <a:pt x="48" y="107"/>
                  </a:lnTo>
                  <a:lnTo>
                    <a:pt x="58" y="106"/>
                  </a:lnTo>
                  <a:lnTo>
                    <a:pt x="69" y="103"/>
                  </a:lnTo>
                  <a:lnTo>
                    <a:pt x="80" y="98"/>
                  </a:lnTo>
                  <a:lnTo>
                    <a:pt x="89" y="90"/>
                  </a:lnTo>
                  <a:lnTo>
                    <a:pt x="89" y="90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1218"/>
            <p:cNvSpPr/>
            <p:nvPr/>
          </p:nvSpPr>
          <p:spPr>
            <a:xfrm>
              <a:off x="8327160" y="4049640"/>
              <a:ext cx="180360" cy="303120"/>
            </a:xfrm>
            <a:custGeom>
              <a:avLst/>
              <a:gdLst/>
              <a:ahLst/>
              <a:rect l="l" t="t" r="r" b="b"/>
              <a:pathLst>
                <a:path w="108" h="185">
                  <a:moveTo>
                    <a:pt x="53" y="2"/>
                  </a:moveTo>
                  <a:lnTo>
                    <a:pt x="53" y="2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6" y="4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0" y="104"/>
                  </a:lnTo>
                  <a:lnTo>
                    <a:pt x="19" y="130"/>
                  </a:lnTo>
                  <a:lnTo>
                    <a:pt x="30" y="15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77" y="130"/>
                  </a:lnTo>
                  <a:lnTo>
                    <a:pt x="108" y="86"/>
                  </a:lnTo>
                  <a:lnTo>
                    <a:pt x="108" y="86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1219"/>
            <p:cNvSpPr/>
            <p:nvPr/>
          </p:nvSpPr>
          <p:spPr>
            <a:xfrm>
              <a:off x="8060040" y="3775680"/>
              <a:ext cx="108360" cy="1015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56" y="33"/>
                  </a:moveTo>
                  <a:lnTo>
                    <a:pt x="56" y="33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" y="27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cf8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9" name="组合 4156"/>
          <p:cNvGrpSpPr/>
          <p:nvPr/>
        </p:nvGrpSpPr>
        <p:grpSpPr>
          <a:xfrm>
            <a:off x="7215120" y="571680"/>
            <a:ext cx="785880" cy="885600"/>
            <a:chOff x="7215120" y="571680"/>
            <a:chExt cx="785880" cy="885600"/>
          </a:xfrm>
        </p:grpSpPr>
        <p:sp>
          <p:nvSpPr>
            <p:cNvPr id="570" name="Freeform 1145"/>
            <p:cNvSpPr/>
            <p:nvPr/>
          </p:nvSpPr>
          <p:spPr>
            <a:xfrm>
              <a:off x="7215120" y="571680"/>
              <a:ext cx="785880" cy="884880"/>
            </a:xfrm>
            <a:custGeom>
              <a:avLst/>
              <a:gdLst/>
              <a:ahLst/>
              <a:rect l="l" t="t" r="r" b="b"/>
              <a:pathLst>
                <a:path w="732" h="866">
                  <a:moveTo>
                    <a:pt x="629" y="669"/>
                  </a:moveTo>
                  <a:lnTo>
                    <a:pt x="629" y="669"/>
                  </a:lnTo>
                  <a:lnTo>
                    <a:pt x="617" y="687"/>
                  </a:lnTo>
                  <a:lnTo>
                    <a:pt x="604" y="706"/>
                  </a:lnTo>
                  <a:lnTo>
                    <a:pt x="592" y="724"/>
                  </a:lnTo>
                  <a:lnTo>
                    <a:pt x="579" y="739"/>
                  </a:lnTo>
                  <a:lnTo>
                    <a:pt x="565" y="754"/>
                  </a:lnTo>
                  <a:lnTo>
                    <a:pt x="551" y="768"/>
                  </a:lnTo>
                  <a:lnTo>
                    <a:pt x="536" y="782"/>
                  </a:lnTo>
                  <a:lnTo>
                    <a:pt x="522" y="794"/>
                  </a:lnTo>
                  <a:lnTo>
                    <a:pt x="507" y="805"/>
                  </a:lnTo>
                  <a:lnTo>
                    <a:pt x="492" y="815"/>
                  </a:lnTo>
                  <a:lnTo>
                    <a:pt x="461" y="832"/>
                  </a:lnTo>
                  <a:lnTo>
                    <a:pt x="429" y="846"/>
                  </a:lnTo>
                  <a:lnTo>
                    <a:pt x="397" y="856"/>
                  </a:lnTo>
                  <a:lnTo>
                    <a:pt x="365" y="862"/>
                  </a:lnTo>
                  <a:lnTo>
                    <a:pt x="333" y="866"/>
                  </a:lnTo>
                  <a:lnTo>
                    <a:pt x="301" y="866"/>
                  </a:lnTo>
                  <a:lnTo>
                    <a:pt x="269" y="862"/>
                  </a:lnTo>
                  <a:lnTo>
                    <a:pt x="237" y="856"/>
                  </a:lnTo>
                  <a:lnTo>
                    <a:pt x="207" y="846"/>
                  </a:lnTo>
                  <a:lnTo>
                    <a:pt x="178" y="834"/>
                  </a:lnTo>
                  <a:lnTo>
                    <a:pt x="149" y="818"/>
                  </a:lnTo>
                  <a:lnTo>
                    <a:pt x="149" y="818"/>
                  </a:lnTo>
                  <a:lnTo>
                    <a:pt x="122" y="800"/>
                  </a:lnTo>
                  <a:lnTo>
                    <a:pt x="97" y="779"/>
                  </a:lnTo>
                  <a:lnTo>
                    <a:pt x="74" y="756"/>
                  </a:lnTo>
                  <a:lnTo>
                    <a:pt x="54" y="730"/>
                  </a:lnTo>
                  <a:lnTo>
                    <a:pt x="38" y="702"/>
                  </a:lnTo>
                  <a:lnTo>
                    <a:pt x="24" y="672"/>
                  </a:lnTo>
                  <a:lnTo>
                    <a:pt x="13" y="642"/>
                  </a:lnTo>
                  <a:lnTo>
                    <a:pt x="6" y="608"/>
                  </a:lnTo>
                  <a:lnTo>
                    <a:pt x="1" y="573"/>
                  </a:lnTo>
                  <a:lnTo>
                    <a:pt x="0" y="538"/>
                  </a:lnTo>
                  <a:lnTo>
                    <a:pt x="3" y="501"/>
                  </a:lnTo>
                  <a:lnTo>
                    <a:pt x="9" y="463"/>
                  </a:lnTo>
                  <a:lnTo>
                    <a:pt x="18" y="425"/>
                  </a:lnTo>
                  <a:lnTo>
                    <a:pt x="32" y="387"/>
                  </a:lnTo>
                  <a:lnTo>
                    <a:pt x="50" y="347"/>
                  </a:lnTo>
                  <a:lnTo>
                    <a:pt x="71" y="308"/>
                  </a:lnTo>
                  <a:lnTo>
                    <a:pt x="71" y="308"/>
                  </a:lnTo>
                  <a:lnTo>
                    <a:pt x="96" y="270"/>
                  </a:lnTo>
                  <a:lnTo>
                    <a:pt x="125" y="232"/>
                  </a:lnTo>
                  <a:lnTo>
                    <a:pt x="157" y="197"/>
                  </a:lnTo>
                  <a:lnTo>
                    <a:pt x="190" y="163"/>
                  </a:lnTo>
                  <a:lnTo>
                    <a:pt x="225" y="131"/>
                  </a:lnTo>
                  <a:lnTo>
                    <a:pt x="263" y="102"/>
                  </a:lnTo>
                  <a:lnTo>
                    <a:pt x="301" y="76"/>
                  </a:lnTo>
                  <a:lnTo>
                    <a:pt x="339" y="55"/>
                  </a:lnTo>
                  <a:lnTo>
                    <a:pt x="379" y="35"/>
                  </a:lnTo>
                  <a:lnTo>
                    <a:pt x="419" y="20"/>
                  </a:lnTo>
                  <a:lnTo>
                    <a:pt x="438" y="14"/>
                  </a:lnTo>
                  <a:lnTo>
                    <a:pt x="457" y="9"/>
                  </a:lnTo>
                  <a:lnTo>
                    <a:pt x="476" y="5"/>
                  </a:lnTo>
                  <a:lnTo>
                    <a:pt x="495" y="2"/>
                  </a:lnTo>
                  <a:lnTo>
                    <a:pt x="513" y="0"/>
                  </a:lnTo>
                  <a:lnTo>
                    <a:pt x="531" y="0"/>
                  </a:lnTo>
                  <a:lnTo>
                    <a:pt x="548" y="2"/>
                  </a:lnTo>
                  <a:lnTo>
                    <a:pt x="565" y="3"/>
                  </a:lnTo>
                  <a:lnTo>
                    <a:pt x="582" y="6"/>
                  </a:lnTo>
                  <a:lnTo>
                    <a:pt x="597" y="12"/>
                  </a:lnTo>
                  <a:lnTo>
                    <a:pt x="612" y="18"/>
                  </a:lnTo>
                  <a:lnTo>
                    <a:pt x="627" y="26"/>
                  </a:lnTo>
                  <a:lnTo>
                    <a:pt x="627" y="26"/>
                  </a:lnTo>
                  <a:lnTo>
                    <a:pt x="641" y="35"/>
                  </a:lnTo>
                  <a:lnTo>
                    <a:pt x="653" y="46"/>
                  </a:lnTo>
                  <a:lnTo>
                    <a:pt x="664" y="58"/>
                  </a:lnTo>
                  <a:lnTo>
                    <a:pt x="674" y="72"/>
                  </a:lnTo>
                  <a:lnTo>
                    <a:pt x="685" y="85"/>
                  </a:lnTo>
                  <a:lnTo>
                    <a:pt x="694" y="101"/>
                  </a:lnTo>
                  <a:lnTo>
                    <a:pt x="702" y="117"/>
                  </a:lnTo>
                  <a:lnTo>
                    <a:pt x="708" y="136"/>
                  </a:lnTo>
                  <a:lnTo>
                    <a:pt x="714" y="154"/>
                  </a:lnTo>
                  <a:lnTo>
                    <a:pt x="719" y="172"/>
                  </a:lnTo>
                  <a:lnTo>
                    <a:pt x="723" y="194"/>
                  </a:lnTo>
                  <a:lnTo>
                    <a:pt x="726" y="213"/>
                  </a:lnTo>
                  <a:lnTo>
                    <a:pt x="731" y="258"/>
                  </a:lnTo>
                  <a:lnTo>
                    <a:pt x="732" y="303"/>
                  </a:lnTo>
                  <a:lnTo>
                    <a:pt x="729" y="349"/>
                  </a:lnTo>
                  <a:lnTo>
                    <a:pt x="723" y="398"/>
                  </a:lnTo>
                  <a:lnTo>
                    <a:pt x="716" y="445"/>
                  </a:lnTo>
                  <a:lnTo>
                    <a:pt x="703" y="492"/>
                  </a:lnTo>
                  <a:lnTo>
                    <a:pt x="688" y="539"/>
                  </a:lnTo>
                  <a:lnTo>
                    <a:pt x="671" y="585"/>
                  </a:lnTo>
                  <a:lnTo>
                    <a:pt x="652" y="628"/>
                  </a:lnTo>
                  <a:lnTo>
                    <a:pt x="629" y="669"/>
                  </a:lnTo>
                  <a:lnTo>
                    <a:pt x="629" y="669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1146"/>
            <p:cNvSpPr/>
            <p:nvPr/>
          </p:nvSpPr>
          <p:spPr>
            <a:xfrm>
              <a:off x="7813080" y="580680"/>
              <a:ext cx="152280" cy="219600"/>
            </a:xfrm>
            <a:custGeom>
              <a:avLst/>
              <a:gdLst/>
              <a:ahLst/>
              <a:rect l="l" t="t" r="r" b="b"/>
              <a:pathLst>
                <a:path w="142" h="215">
                  <a:moveTo>
                    <a:pt x="61" y="75"/>
                  </a:moveTo>
                  <a:lnTo>
                    <a:pt x="61" y="75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70" y="113"/>
                  </a:lnTo>
                  <a:lnTo>
                    <a:pt x="70" y="113"/>
                  </a:lnTo>
                  <a:lnTo>
                    <a:pt x="82" y="163"/>
                  </a:lnTo>
                  <a:lnTo>
                    <a:pt x="98" y="215"/>
                  </a:lnTo>
                  <a:lnTo>
                    <a:pt x="98" y="215"/>
                  </a:lnTo>
                  <a:lnTo>
                    <a:pt x="116" y="110"/>
                  </a:lnTo>
                  <a:lnTo>
                    <a:pt x="116" y="110"/>
                  </a:lnTo>
                  <a:lnTo>
                    <a:pt x="142" y="102"/>
                  </a:lnTo>
                  <a:lnTo>
                    <a:pt x="142" y="102"/>
                  </a:lnTo>
                  <a:lnTo>
                    <a:pt x="130" y="79"/>
                  </a:lnTo>
                  <a:lnTo>
                    <a:pt x="116" y="60"/>
                  </a:lnTo>
                  <a:lnTo>
                    <a:pt x="101" y="41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1147"/>
            <p:cNvSpPr/>
            <p:nvPr/>
          </p:nvSpPr>
          <p:spPr>
            <a:xfrm>
              <a:off x="7549920" y="800280"/>
              <a:ext cx="341280" cy="370800"/>
            </a:xfrm>
            <a:custGeom>
              <a:avLst/>
              <a:gdLst/>
              <a:ahLst/>
              <a:rect l="l" t="t" r="r" b="b"/>
              <a:pathLst>
                <a:path w="318" h="363">
                  <a:moveTo>
                    <a:pt x="227" y="142"/>
                  </a:moveTo>
                  <a:lnTo>
                    <a:pt x="227" y="142"/>
                  </a:lnTo>
                  <a:lnTo>
                    <a:pt x="289" y="9"/>
                  </a:lnTo>
                  <a:lnTo>
                    <a:pt x="289" y="9"/>
                  </a:lnTo>
                  <a:lnTo>
                    <a:pt x="230" y="49"/>
                  </a:lnTo>
                  <a:lnTo>
                    <a:pt x="167" y="87"/>
                  </a:lnTo>
                  <a:lnTo>
                    <a:pt x="167" y="87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39" y="61"/>
                  </a:lnTo>
                  <a:lnTo>
                    <a:pt x="122" y="125"/>
                  </a:lnTo>
                  <a:lnTo>
                    <a:pt x="122" y="125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9" y="165"/>
                  </a:lnTo>
                  <a:lnTo>
                    <a:pt x="99" y="165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119" y="219"/>
                  </a:lnTo>
                  <a:lnTo>
                    <a:pt x="119" y="219"/>
                  </a:lnTo>
                  <a:lnTo>
                    <a:pt x="145" y="291"/>
                  </a:lnTo>
                  <a:lnTo>
                    <a:pt x="174" y="363"/>
                  </a:lnTo>
                  <a:lnTo>
                    <a:pt x="174" y="363"/>
                  </a:lnTo>
                  <a:lnTo>
                    <a:pt x="195" y="221"/>
                  </a:lnTo>
                  <a:lnTo>
                    <a:pt x="195" y="221"/>
                  </a:lnTo>
                  <a:lnTo>
                    <a:pt x="257" y="210"/>
                  </a:lnTo>
                  <a:lnTo>
                    <a:pt x="318" y="197"/>
                  </a:lnTo>
                  <a:lnTo>
                    <a:pt x="318" y="197"/>
                  </a:lnTo>
                  <a:lnTo>
                    <a:pt x="227" y="142"/>
                  </a:lnTo>
                  <a:lnTo>
                    <a:pt x="227" y="14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1148"/>
            <p:cNvSpPr/>
            <p:nvPr/>
          </p:nvSpPr>
          <p:spPr>
            <a:xfrm>
              <a:off x="7684200" y="639000"/>
              <a:ext cx="53640" cy="2124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10"/>
                  </a:moveTo>
                  <a:lnTo>
                    <a:pt x="5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0" y="10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1149"/>
            <p:cNvSpPr/>
            <p:nvPr/>
          </p:nvSpPr>
          <p:spPr>
            <a:xfrm>
              <a:off x="7593120" y="710640"/>
              <a:ext cx="26640" cy="550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7" y="54"/>
                  </a:moveTo>
                  <a:lnTo>
                    <a:pt x="7" y="5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54"/>
                  </a:lnTo>
                  <a:lnTo>
                    <a:pt x="7" y="54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1150"/>
            <p:cNvSpPr/>
            <p:nvPr/>
          </p:nvSpPr>
          <p:spPr>
            <a:xfrm>
              <a:off x="7496280" y="582840"/>
              <a:ext cx="200520" cy="9468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164" y="32"/>
                  </a:moveTo>
                  <a:lnTo>
                    <a:pt x="164" y="3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4" y="6"/>
                  </a:lnTo>
                  <a:lnTo>
                    <a:pt x="141" y="15"/>
                  </a:lnTo>
                  <a:lnTo>
                    <a:pt x="117" y="24"/>
                  </a:lnTo>
                  <a:lnTo>
                    <a:pt x="94" y="35"/>
                  </a:lnTo>
                  <a:lnTo>
                    <a:pt x="70" y="48"/>
                  </a:lnTo>
                  <a:lnTo>
                    <a:pt x="45" y="62"/>
                  </a:lnTo>
                  <a:lnTo>
                    <a:pt x="23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76" y="93"/>
                  </a:lnTo>
                  <a:lnTo>
                    <a:pt x="76" y="93"/>
                  </a:lnTo>
                  <a:lnTo>
                    <a:pt x="103" y="77"/>
                  </a:lnTo>
                  <a:lnTo>
                    <a:pt x="129" y="64"/>
                  </a:lnTo>
                  <a:lnTo>
                    <a:pt x="155" y="51"/>
                  </a:lnTo>
                  <a:lnTo>
                    <a:pt x="179" y="41"/>
                  </a:lnTo>
                  <a:lnTo>
                    <a:pt x="179" y="41"/>
                  </a:lnTo>
                  <a:lnTo>
                    <a:pt x="164" y="32"/>
                  </a:lnTo>
                  <a:lnTo>
                    <a:pt x="164" y="3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1151"/>
            <p:cNvSpPr/>
            <p:nvPr/>
          </p:nvSpPr>
          <p:spPr>
            <a:xfrm>
              <a:off x="7232040" y="797400"/>
              <a:ext cx="189000" cy="281880"/>
            </a:xfrm>
            <a:custGeom>
              <a:avLst/>
              <a:gdLst/>
              <a:ahLst/>
              <a:rect l="l" t="t" r="r" b="b"/>
              <a:pathLst>
                <a:path w="176" h="276">
                  <a:moveTo>
                    <a:pt x="176" y="0"/>
                  </a:moveTo>
                  <a:lnTo>
                    <a:pt x="176" y="0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72" y="61"/>
                  </a:lnTo>
                  <a:lnTo>
                    <a:pt x="55" y="87"/>
                  </a:lnTo>
                  <a:lnTo>
                    <a:pt x="55" y="87"/>
                  </a:lnTo>
                  <a:lnTo>
                    <a:pt x="37" y="117"/>
                  </a:lnTo>
                  <a:lnTo>
                    <a:pt x="23" y="148"/>
                  </a:lnTo>
                  <a:lnTo>
                    <a:pt x="11" y="178"/>
                  </a:lnTo>
                  <a:lnTo>
                    <a:pt x="0" y="209"/>
                  </a:lnTo>
                  <a:lnTo>
                    <a:pt x="0" y="209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35" y="233"/>
                  </a:lnTo>
                  <a:lnTo>
                    <a:pt x="52" y="193"/>
                  </a:lnTo>
                  <a:lnTo>
                    <a:pt x="69" y="155"/>
                  </a:lnTo>
                  <a:lnTo>
                    <a:pt x="87" y="119"/>
                  </a:lnTo>
                  <a:lnTo>
                    <a:pt x="109" y="87"/>
                  </a:lnTo>
                  <a:lnTo>
                    <a:pt x="130" y="55"/>
                  </a:lnTo>
                  <a:lnTo>
                    <a:pt x="153" y="2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1152"/>
            <p:cNvSpPr/>
            <p:nvPr/>
          </p:nvSpPr>
          <p:spPr>
            <a:xfrm>
              <a:off x="7619760" y="660240"/>
              <a:ext cx="64440" cy="500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49"/>
                  </a:moveTo>
                  <a:lnTo>
                    <a:pt x="0" y="49"/>
                  </a:lnTo>
                  <a:lnTo>
                    <a:pt x="29" y="2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1153"/>
            <p:cNvSpPr/>
            <p:nvPr/>
          </p:nvSpPr>
          <p:spPr>
            <a:xfrm>
              <a:off x="7365240" y="677880"/>
              <a:ext cx="227520" cy="27684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28"/>
                  </a:moveTo>
                  <a:lnTo>
                    <a:pt x="0" y="228"/>
                  </a:lnTo>
                  <a:lnTo>
                    <a:pt x="67" y="271"/>
                  </a:lnTo>
                  <a:lnTo>
                    <a:pt x="67" y="271"/>
                  </a:lnTo>
                  <a:lnTo>
                    <a:pt x="77" y="245"/>
                  </a:lnTo>
                  <a:lnTo>
                    <a:pt x="91" y="219"/>
                  </a:lnTo>
                  <a:lnTo>
                    <a:pt x="105" y="193"/>
                  </a:lnTo>
                  <a:lnTo>
                    <a:pt x="122" y="166"/>
                  </a:lnTo>
                  <a:lnTo>
                    <a:pt x="140" y="138"/>
                  </a:lnTo>
                  <a:lnTo>
                    <a:pt x="161" y="111"/>
                  </a:lnTo>
                  <a:lnTo>
                    <a:pt x="184" y="83"/>
                  </a:lnTo>
                  <a:lnTo>
                    <a:pt x="212" y="56"/>
                  </a:lnTo>
                  <a:lnTo>
                    <a:pt x="212" y="56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61" y="24"/>
                  </a:lnTo>
                  <a:lnTo>
                    <a:pt x="125" y="51"/>
                  </a:lnTo>
                  <a:lnTo>
                    <a:pt x="88" y="82"/>
                  </a:lnTo>
                  <a:lnTo>
                    <a:pt x="70" y="99"/>
                  </a:lnTo>
                  <a:lnTo>
                    <a:pt x="52" y="117"/>
                  </a:lnTo>
                  <a:lnTo>
                    <a:pt x="52" y="117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44" y="164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1154"/>
            <p:cNvSpPr/>
            <p:nvPr/>
          </p:nvSpPr>
          <p:spPr>
            <a:xfrm>
              <a:off x="7290000" y="984240"/>
              <a:ext cx="135000" cy="142920"/>
            </a:xfrm>
            <a:custGeom>
              <a:avLst/>
              <a:gdLst/>
              <a:ahLst/>
              <a:rect l="l" t="t" r="r" b="b"/>
              <a:pathLst>
                <a:path w="126" h="140">
                  <a:moveTo>
                    <a:pt x="0" y="105"/>
                  </a:moveTo>
                  <a:lnTo>
                    <a:pt x="99" y="140"/>
                  </a:lnTo>
                  <a:lnTo>
                    <a:pt x="99" y="140"/>
                  </a:lnTo>
                  <a:lnTo>
                    <a:pt x="99" y="129"/>
                  </a:lnTo>
                  <a:lnTo>
                    <a:pt x="102" y="100"/>
                  </a:lnTo>
                  <a:lnTo>
                    <a:pt x="105" y="81"/>
                  </a:lnTo>
                  <a:lnTo>
                    <a:pt x="111" y="56"/>
                  </a:lnTo>
                  <a:lnTo>
                    <a:pt x="117" y="3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76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1155"/>
            <p:cNvSpPr/>
            <p:nvPr/>
          </p:nvSpPr>
          <p:spPr>
            <a:xfrm>
              <a:off x="7688520" y="588960"/>
              <a:ext cx="120240" cy="50040"/>
            </a:xfrm>
            <a:custGeom>
              <a:avLst/>
              <a:gdLst/>
              <a:ahLst/>
              <a:rect l="l" t="t" r="r" b="b"/>
              <a:pathLst>
                <a:path w="112" h="49">
                  <a:moveTo>
                    <a:pt x="112" y="0"/>
                  </a:moveTo>
                  <a:lnTo>
                    <a:pt x="112" y="0"/>
                  </a:lnTo>
                  <a:lnTo>
                    <a:pt x="104" y="1"/>
                  </a:lnTo>
                  <a:lnTo>
                    <a:pt x="81" y="7"/>
                  </a:lnTo>
                  <a:lnTo>
                    <a:pt x="46" y="1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67" y="24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587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156"/>
            <p:cNvSpPr/>
            <p:nvPr/>
          </p:nvSpPr>
          <p:spPr>
            <a:xfrm>
              <a:off x="7578000" y="624600"/>
              <a:ext cx="138240" cy="11016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14" y="108"/>
                  </a:moveTo>
                  <a:lnTo>
                    <a:pt x="14" y="108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99" y="35"/>
                  </a:lnTo>
                  <a:lnTo>
                    <a:pt x="99" y="35"/>
                  </a:lnTo>
                  <a:lnTo>
                    <a:pt x="129" y="14"/>
                  </a:lnTo>
                  <a:lnTo>
                    <a:pt x="129" y="14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79" y="10"/>
                  </a:lnTo>
                  <a:lnTo>
                    <a:pt x="53" y="23"/>
                  </a:lnTo>
                  <a:lnTo>
                    <a:pt x="27" y="36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4" y="108"/>
                  </a:lnTo>
                  <a:lnTo>
                    <a:pt x="14" y="108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1157"/>
            <p:cNvSpPr/>
            <p:nvPr/>
          </p:nvSpPr>
          <p:spPr>
            <a:xfrm>
              <a:off x="7255800" y="780120"/>
              <a:ext cx="205920" cy="311400"/>
            </a:xfrm>
            <a:custGeom>
              <a:avLst/>
              <a:gdLst/>
              <a:ahLst/>
              <a:rect l="l" t="t" r="r" b="b"/>
              <a:pathLst>
                <a:path w="192" h="305">
                  <a:moveTo>
                    <a:pt x="56" y="207"/>
                  </a:moveTo>
                  <a:lnTo>
                    <a:pt x="56" y="207"/>
                  </a:lnTo>
                  <a:lnTo>
                    <a:pt x="108" y="204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02" y="128"/>
                  </a:lnTo>
                  <a:lnTo>
                    <a:pt x="102" y="128"/>
                  </a:lnTo>
                  <a:lnTo>
                    <a:pt x="146" y="6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17"/>
                  </a:lnTo>
                  <a:lnTo>
                    <a:pt x="154" y="17"/>
                  </a:lnTo>
                  <a:lnTo>
                    <a:pt x="131" y="44"/>
                  </a:lnTo>
                  <a:lnTo>
                    <a:pt x="108" y="72"/>
                  </a:lnTo>
                  <a:lnTo>
                    <a:pt x="87" y="104"/>
                  </a:lnTo>
                  <a:lnTo>
                    <a:pt x="65" y="136"/>
                  </a:lnTo>
                  <a:lnTo>
                    <a:pt x="47" y="172"/>
                  </a:lnTo>
                  <a:lnTo>
                    <a:pt x="30" y="210"/>
                  </a:lnTo>
                  <a:lnTo>
                    <a:pt x="13" y="250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32" y="305"/>
                  </a:lnTo>
                  <a:lnTo>
                    <a:pt x="32" y="305"/>
                  </a:lnTo>
                  <a:lnTo>
                    <a:pt x="56" y="207"/>
                  </a:lnTo>
                  <a:lnTo>
                    <a:pt x="56" y="207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1158"/>
            <p:cNvSpPr/>
            <p:nvPr/>
          </p:nvSpPr>
          <p:spPr>
            <a:xfrm>
              <a:off x="7862760" y="1076400"/>
              <a:ext cx="60120" cy="48960"/>
            </a:xfrm>
            <a:custGeom>
              <a:avLst/>
              <a:gdLst/>
              <a:ahLst/>
              <a:rect l="l" t="t" r="r" b="b"/>
              <a:pathLst>
                <a:path w="56" h="48">
                  <a:moveTo>
                    <a:pt x="0" y="0"/>
                  </a:moveTo>
                  <a:lnTo>
                    <a:pt x="0" y="0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1159"/>
            <p:cNvSpPr/>
            <p:nvPr/>
          </p:nvSpPr>
          <p:spPr>
            <a:xfrm>
              <a:off x="7249320" y="1223280"/>
              <a:ext cx="174960" cy="182880"/>
            </a:xfrm>
            <a:custGeom>
              <a:avLst/>
              <a:gdLst/>
              <a:ahLst/>
              <a:rect l="l" t="t" r="r" b="b"/>
              <a:pathLst>
                <a:path w="163" h="179">
                  <a:moveTo>
                    <a:pt x="79" y="122"/>
                  </a:moveTo>
                  <a:lnTo>
                    <a:pt x="79" y="1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71"/>
                  </a:lnTo>
                  <a:lnTo>
                    <a:pt x="21" y="89"/>
                  </a:lnTo>
                  <a:lnTo>
                    <a:pt x="33" y="107"/>
                  </a:lnTo>
                  <a:lnTo>
                    <a:pt x="47" y="122"/>
                  </a:lnTo>
                  <a:lnTo>
                    <a:pt x="62" y="139"/>
                  </a:lnTo>
                  <a:lnTo>
                    <a:pt x="77" y="153"/>
                  </a:lnTo>
                  <a:lnTo>
                    <a:pt x="94" y="167"/>
                  </a:lnTo>
                  <a:lnTo>
                    <a:pt x="112" y="179"/>
                  </a:lnTo>
                  <a:lnTo>
                    <a:pt x="112" y="179"/>
                  </a:lnTo>
                  <a:lnTo>
                    <a:pt x="163" y="173"/>
                  </a:lnTo>
                  <a:lnTo>
                    <a:pt x="163" y="173"/>
                  </a:lnTo>
                  <a:lnTo>
                    <a:pt x="79" y="122"/>
                  </a:lnTo>
                  <a:lnTo>
                    <a:pt x="79" y="122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1160"/>
            <p:cNvSpPr/>
            <p:nvPr/>
          </p:nvSpPr>
          <p:spPr>
            <a:xfrm>
              <a:off x="7612200" y="1216440"/>
              <a:ext cx="155520" cy="13788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50" y="99"/>
                  </a:moveTo>
                  <a:lnTo>
                    <a:pt x="50" y="9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39" y="116"/>
                  </a:lnTo>
                  <a:lnTo>
                    <a:pt x="77" y="93"/>
                  </a:lnTo>
                  <a:lnTo>
                    <a:pt x="113" y="68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50" y="99"/>
                  </a:lnTo>
                  <a:lnTo>
                    <a:pt x="50" y="99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1161"/>
            <p:cNvSpPr/>
            <p:nvPr/>
          </p:nvSpPr>
          <p:spPr>
            <a:xfrm>
              <a:off x="7443720" y="1267560"/>
              <a:ext cx="162000" cy="1101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0"/>
                  </a:moveTo>
                  <a:lnTo>
                    <a:pt x="0" y="0"/>
                  </a:lnTo>
                  <a:lnTo>
                    <a:pt x="52" y="53"/>
                  </a:lnTo>
                  <a:lnTo>
                    <a:pt x="103" y="108"/>
                  </a:lnTo>
                  <a:lnTo>
                    <a:pt x="103" y="108"/>
                  </a:lnTo>
                  <a:lnTo>
                    <a:pt x="128" y="98"/>
                  </a:lnTo>
                  <a:lnTo>
                    <a:pt x="151" y="89"/>
                  </a:lnTo>
                  <a:lnTo>
                    <a:pt x="151" y="89"/>
                  </a:lnTo>
                  <a:lnTo>
                    <a:pt x="75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1162"/>
            <p:cNvSpPr/>
            <p:nvPr/>
          </p:nvSpPr>
          <p:spPr>
            <a:xfrm>
              <a:off x="7922880" y="1037520"/>
              <a:ext cx="55800" cy="89640"/>
            </a:xfrm>
            <a:custGeom>
              <a:avLst/>
              <a:gdLst/>
              <a:ahLst/>
              <a:rect l="l" t="t" r="r" b="b"/>
              <a:pathLst>
                <a:path w="52" h="88">
                  <a:moveTo>
                    <a:pt x="52" y="0"/>
                  </a:moveTo>
                  <a:lnTo>
                    <a:pt x="52" y="0"/>
                  </a:lnTo>
                  <a:lnTo>
                    <a:pt x="31" y="3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26" y="88"/>
                  </a:lnTo>
                  <a:lnTo>
                    <a:pt x="26" y="88"/>
                  </a:lnTo>
                  <a:lnTo>
                    <a:pt x="41" y="44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1163"/>
            <p:cNvSpPr/>
            <p:nvPr/>
          </p:nvSpPr>
          <p:spPr>
            <a:xfrm>
              <a:off x="7750800" y="1125360"/>
              <a:ext cx="190080" cy="271800"/>
            </a:xfrm>
            <a:custGeom>
              <a:avLst/>
              <a:gdLst/>
              <a:ahLst/>
              <a:rect l="l" t="t" r="r" b="b"/>
              <a:pathLst>
                <a:path w="177" h="266">
                  <a:moveTo>
                    <a:pt x="0" y="247"/>
                  </a:moveTo>
                  <a:lnTo>
                    <a:pt x="0" y="247"/>
                  </a:lnTo>
                  <a:lnTo>
                    <a:pt x="17" y="256"/>
                  </a:lnTo>
                  <a:lnTo>
                    <a:pt x="17" y="256"/>
                  </a:lnTo>
                  <a:lnTo>
                    <a:pt x="3" y="266"/>
                  </a:lnTo>
                  <a:lnTo>
                    <a:pt x="3" y="266"/>
                  </a:lnTo>
                  <a:lnTo>
                    <a:pt x="20" y="253"/>
                  </a:lnTo>
                  <a:lnTo>
                    <a:pt x="37" y="240"/>
                  </a:lnTo>
                  <a:lnTo>
                    <a:pt x="54" y="223"/>
                  </a:lnTo>
                  <a:lnTo>
                    <a:pt x="70" y="206"/>
                  </a:lnTo>
                  <a:lnTo>
                    <a:pt x="86" y="188"/>
                  </a:lnTo>
                  <a:lnTo>
                    <a:pt x="101" y="168"/>
                  </a:lnTo>
                  <a:lnTo>
                    <a:pt x="116" y="148"/>
                  </a:lnTo>
                  <a:lnTo>
                    <a:pt x="130" y="125"/>
                  </a:lnTo>
                  <a:lnTo>
                    <a:pt x="130" y="125"/>
                  </a:lnTo>
                  <a:lnTo>
                    <a:pt x="143" y="103"/>
                  </a:lnTo>
                  <a:lnTo>
                    <a:pt x="156" y="80"/>
                  </a:lnTo>
                  <a:lnTo>
                    <a:pt x="166" y="55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21" y="32"/>
                  </a:lnTo>
                  <a:lnTo>
                    <a:pt x="90" y="66"/>
                  </a:lnTo>
                  <a:lnTo>
                    <a:pt x="55" y="100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63" y="104"/>
                  </a:lnTo>
                  <a:lnTo>
                    <a:pt x="63" y="104"/>
                  </a:lnTo>
                  <a:lnTo>
                    <a:pt x="32" y="176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1164"/>
            <p:cNvSpPr/>
            <p:nvPr/>
          </p:nvSpPr>
          <p:spPr>
            <a:xfrm>
              <a:off x="7384680" y="1377720"/>
              <a:ext cx="209160" cy="7956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186" y="26"/>
                  </a:moveTo>
                  <a:lnTo>
                    <a:pt x="186" y="26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2" y="13"/>
                  </a:lnTo>
                  <a:lnTo>
                    <a:pt x="82" y="23"/>
                  </a:lnTo>
                  <a:lnTo>
                    <a:pt x="41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70" y="64"/>
                  </a:lnTo>
                  <a:lnTo>
                    <a:pt x="95" y="70"/>
                  </a:lnTo>
                  <a:lnTo>
                    <a:pt x="119" y="75"/>
                  </a:lnTo>
                  <a:lnTo>
                    <a:pt x="145" y="78"/>
                  </a:lnTo>
                  <a:lnTo>
                    <a:pt x="169" y="78"/>
                  </a:lnTo>
                  <a:lnTo>
                    <a:pt x="195" y="75"/>
                  </a:lnTo>
                  <a:lnTo>
                    <a:pt x="195" y="75"/>
                  </a:lnTo>
                  <a:lnTo>
                    <a:pt x="177" y="77"/>
                  </a:lnTo>
                  <a:lnTo>
                    <a:pt x="157" y="78"/>
                  </a:lnTo>
                  <a:lnTo>
                    <a:pt x="139" y="77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86" y="26"/>
                  </a:lnTo>
                  <a:lnTo>
                    <a:pt x="186" y="26"/>
                  </a:lnTo>
                  <a:close/>
                </a:path>
              </a:pathLst>
            </a:custGeom>
            <a:solidFill>
              <a:srgbClr val="c51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1165"/>
            <p:cNvSpPr/>
            <p:nvPr/>
          </p:nvSpPr>
          <p:spPr>
            <a:xfrm>
              <a:off x="7909920" y="1112040"/>
              <a:ext cx="40680" cy="428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1" y="41"/>
                  </a:moveTo>
                  <a:lnTo>
                    <a:pt x="31" y="4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1" y="41"/>
                  </a:lnTo>
                  <a:lnTo>
                    <a:pt x="31" y="41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1166"/>
            <p:cNvSpPr/>
            <p:nvPr/>
          </p:nvSpPr>
          <p:spPr>
            <a:xfrm>
              <a:off x="7513560" y="1231560"/>
              <a:ext cx="304920" cy="225720"/>
            </a:xfrm>
            <a:custGeom>
              <a:avLst/>
              <a:gdLst/>
              <a:ahLst/>
              <a:rect l="l" t="t" r="r" b="b"/>
              <a:pathLst>
                <a:path w="284" h="221">
                  <a:moveTo>
                    <a:pt x="134" y="206"/>
                  </a:moveTo>
                  <a:lnTo>
                    <a:pt x="134" y="206"/>
                  </a:lnTo>
                  <a:lnTo>
                    <a:pt x="136" y="206"/>
                  </a:lnTo>
                  <a:lnTo>
                    <a:pt x="136" y="206"/>
                  </a:lnTo>
                  <a:lnTo>
                    <a:pt x="150" y="201"/>
                  </a:lnTo>
                  <a:lnTo>
                    <a:pt x="150" y="201"/>
                  </a:lnTo>
                  <a:lnTo>
                    <a:pt x="151" y="200"/>
                  </a:lnTo>
                  <a:lnTo>
                    <a:pt x="151" y="200"/>
                  </a:lnTo>
                  <a:lnTo>
                    <a:pt x="165" y="195"/>
                  </a:lnTo>
                  <a:lnTo>
                    <a:pt x="165" y="195"/>
                  </a:lnTo>
                  <a:lnTo>
                    <a:pt x="166" y="194"/>
                  </a:lnTo>
                  <a:lnTo>
                    <a:pt x="166" y="194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80" y="188"/>
                  </a:lnTo>
                  <a:lnTo>
                    <a:pt x="194" y="180"/>
                  </a:lnTo>
                  <a:lnTo>
                    <a:pt x="194" y="180"/>
                  </a:lnTo>
                  <a:lnTo>
                    <a:pt x="195" y="180"/>
                  </a:lnTo>
                  <a:lnTo>
                    <a:pt x="195" y="180"/>
                  </a:lnTo>
                  <a:lnTo>
                    <a:pt x="209" y="172"/>
                  </a:lnTo>
                  <a:lnTo>
                    <a:pt x="209" y="172"/>
                  </a:lnTo>
                  <a:lnTo>
                    <a:pt x="209" y="171"/>
                  </a:lnTo>
                  <a:lnTo>
                    <a:pt x="209" y="171"/>
                  </a:lnTo>
                  <a:lnTo>
                    <a:pt x="223" y="162"/>
                  </a:lnTo>
                  <a:lnTo>
                    <a:pt x="223" y="162"/>
                  </a:lnTo>
                  <a:lnTo>
                    <a:pt x="224" y="162"/>
                  </a:lnTo>
                  <a:lnTo>
                    <a:pt x="224" y="162"/>
                  </a:lnTo>
                  <a:lnTo>
                    <a:pt x="238" y="152"/>
                  </a:lnTo>
                  <a:lnTo>
                    <a:pt x="238" y="152"/>
                  </a:lnTo>
                  <a:lnTo>
                    <a:pt x="221" y="143"/>
                  </a:lnTo>
                  <a:lnTo>
                    <a:pt x="221" y="143"/>
                  </a:lnTo>
                  <a:lnTo>
                    <a:pt x="253" y="72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05" y="53"/>
                  </a:lnTo>
                  <a:lnTo>
                    <a:pt x="169" y="78"/>
                  </a:lnTo>
                  <a:lnTo>
                    <a:pt x="131" y="101"/>
                  </a:lnTo>
                  <a:lnTo>
                    <a:pt x="92" y="120"/>
                  </a:lnTo>
                  <a:lnTo>
                    <a:pt x="92" y="120"/>
                  </a:lnTo>
                  <a:lnTo>
                    <a:pt x="90" y="125"/>
                  </a:lnTo>
                  <a:lnTo>
                    <a:pt x="90" y="125"/>
                  </a:lnTo>
                  <a:lnTo>
                    <a:pt x="86" y="124"/>
                  </a:lnTo>
                  <a:lnTo>
                    <a:pt x="86" y="124"/>
                  </a:lnTo>
                  <a:lnTo>
                    <a:pt x="63" y="133"/>
                  </a:lnTo>
                  <a:lnTo>
                    <a:pt x="38" y="143"/>
                  </a:lnTo>
                  <a:lnTo>
                    <a:pt x="38" y="143"/>
                  </a:lnTo>
                  <a:lnTo>
                    <a:pt x="66" y="169"/>
                  </a:lnTo>
                  <a:lnTo>
                    <a:pt x="66" y="169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19" y="220"/>
                  </a:lnTo>
                  <a:lnTo>
                    <a:pt x="37" y="221"/>
                  </a:lnTo>
                  <a:lnTo>
                    <a:pt x="57" y="220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75" y="218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90" y="216"/>
                  </a:lnTo>
                  <a:lnTo>
                    <a:pt x="104" y="213"/>
                  </a:lnTo>
                  <a:lnTo>
                    <a:pt x="104" y="213"/>
                  </a:lnTo>
                  <a:lnTo>
                    <a:pt x="106" y="213"/>
                  </a:lnTo>
                  <a:lnTo>
                    <a:pt x="106" y="213"/>
                  </a:lnTo>
                  <a:lnTo>
                    <a:pt x="119" y="210"/>
                  </a:lnTo>
                  <a:lnTo>
                    <a:pt x="119" y="210"/>
                  </a:lnTo>
                  <a:lnTo>
                    <a:pt x="121" y="210"/>
                  </a:lnTo>
                  <a:lnTo>
                    <a:pt x="121" y="210"/>
                  </a:lnTo>
                  <a:lnTo>
                    <a:pt x="134" y="206"/>
                  </a:lnTo>
                  <a:lnTo>
                    <a:pt x="134" y="20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组合 4179"/>
          <p:cNvGrpSpPr/>
          <p:nvPr/>
        </p:nvGrpSpPr>
        <p:grpSpPr>
          <a:xfrm>
            <a:off x="7429680" y="5102640"/>
            <a:ext cx="1898280" cy="1969560"/>
            <a:chOff x="7429680" y="5102640"/>
            <a:chExt cx="1898280" cy="1969560"/>
          </a:xfrm>
        </p:grpSpPr>
        <p:sp>
          <p:nvSpPr>
            <p:cNvPr id="593" name="Freeform 1238"/>
            <p:cNvSpPr/>
            <p:nvPr/>
          </p:nvSpPr>
          <p:spPr>
            <a:xfrm rot="2290800">
              <a:off x="7795800" y="5292720"/>
              <a:ext cx="1165320" cy="1589040"/>
            </a:xfrm>
            <a:custGeom>
              <a:avLst/>
              <a:gdLst/>
              <a:ahLst/>
              <a:rect l="l" t="t" r="r" b="b"/>
              <a:pathLst>
                <a:path w="734" h="1001">
                  <a:moveTo>
                    <a:pt x="726" y="532"/>
                  </a:moveTo>
                  <a:lnTo>
                    <a:pt x="726" y="532"/>
                  </a:lnTo>
                  <a:lnTo>
                    <a:pt x="729" y="556"/>
                  </a:lnTo>
                  <a:lnTo>
                    <a:pt x="732" y="581"/>
                  </a:lnTo>
                  <a:lnTo>
                    <a:pt x="734" y="603"/>
                  </a:lnTo>
                  <a:lnTo>
                    <a:pt x="734" y="626"/>
                  </a:lnTo>
                  <a:lnTo>
                    <a:pt x="734" y="648"/>
                  </a:lnTo>
                  <a:lnTo>
                    <a:pt x="732" y="671"/>
                  </a:lnTo>
                  <a:lnTo>
                    <a:pt x="729" y="690"/>
                  </a:lnTo>
                  <a:lnTo>
                    <a:pt x="726" y="712"/>
                  </a:lnTo>
                  <a:lnTo>
                    <a:pt x="722" y="731"/>
                  </a:lnTo>
                  <a:lnTo>
                    <a:pt x="716" y="750"/>
                  </a:lnTo>
                  <a:lnTo>
                    <a:pt x="710" y="768"/>
                  </a:lnTo>
                  <a:lnTo>
                    <a:pt x="703" y="786"/>
                  </a:lnTo>
                  <a:lnTo>
                    <a:pt x="696" y="803"/>
                  </a:lnTo>
                  <a:lnTo>
                    <a:pt x="687" y="820"/>
                  </a:lnTo>
                  <a:lnTo>
                    <a:pt x="678" y="837"/>
                  </a:lnTo>
                  <a:lnTo>
                    <a:pt x="668" y="852"/>
                  </a:lnTo>
                  <a:lnTo>
                    <a:pt x="658" y="866"/>
                  </a:lnTo>
                  <a:lnTo>
                    <a:pt x="646" y="879"/>
                  </a:lnTo>
                  <a:lnTo>
                    <a:pt x="635" y="893"/>
                  </a:lnTo>
                  <a:lnTo>
                    <a:pt x="621" y="905"/>
                  </a:lnTo>
                  <a:lnTo>
                    <a:pt x="595" y="928"/>
                  </a:lnTo>
                  <a:lnTo>
                    <a:pt x="566" y="948"/>
                  </a:lnTo>
                  <a:lnTo>
                    <a:pt x="536" y="965"/>
                  </a:lnTo>
                  <a:lnTo>
                    <a:pt x="504" y="978"/>
                  </a:lnTo>
                  <a:lnTo>
                    <a:pt x="470" y="989"/>
                  </a:lnTo>
                  <a:lnTo>
                    <a:pt x="435" y="997"/>
                  </a:lnTo>
                  <a:lnTo>
                    <a:pt x="435" y="997"/>
                  </a:lnTo>
                  <a:lnTo>
                    <a:pt x="417" y="1000"/>
                  </a:lnTo>
                  <a:lnTo>
                    <a:pt x="400" y="1001"/>
                  </a:lnTo>
                  <a:lnTo>
                    <a:pt x="382" y="1001"/>
                  </a:lnTo>
                  <a:lnTo>
                    <a:pt x="365" y="1001"/>
                  </a:lnTo>
                  <a:lnTo>
                    <a:pt x="347" y="1000"/>
                  </a:lnTo>
                  <a:lnTo>
                    <a:pt x="330" y="998"/>
                  </a:lnTo>
                  <a:lnTo>
                    <a:pt x="312" y="995"/>
                  </a:lnTo>
                  <a:lnTo>
                    <a:pt x="295" y="991"/>
                  </a:lnTo>
                  <a:lnTo>
                    <a:pt x="278" y="986"/>
                  </a:lnTo>
                  <a:lnTo>
                    <a:pt x="262" y="980"/>
                  </a:lnTo>
                  <a:lnTo>
                    <a:pt x="245" y="972"/>
                  </a:lnTo>
                  <a:lnTo>
                    <a:pt x="230" y="965"/>
                  </a:lnTo>
                  <a:lnTo>
                    <a:pt x="213" y="955"/>
                  </a:lnTo>
                  <a:lnTo>
                    <a:pt x="198" y="946"/>
                  </a:lnTo>
                  <a:lnTo>
                    <a:pt x="182" y="936"/>
                  </a:lnTo>
                  <a:lnTo>
                    <a:pt x="167" y="925"/>
                  </a:lnTo>
                  <a:lnTo>
                    <a:pt x="154" y="913"/>
                  </a:lnTo>
                  <a:lnTo>
                    <a:pt x="140" y="899"/>
                  </a:lnTo>
                  <a:lnTo>
                    <a:pt x="126" y="885"/>
                  </a:lnTo>
                  <a:lnTo>
                    <a:pt x="114" y="872"/>
                  </a:lnTo>
                  <a:lnTo>
                    <a:pt x="102" y="855"/>
                  </a:lnTo>
                  <a:lnTo>
                    <a:pt x="90" y="840"/>
                  </a:lnTo>
                  <a:lnTo>
                    <a:pt x="79" y="821"/>
                  </a:lnTo>
                  <a:lnTo>
                    <a:pt x="68" y="803"/>
                  </a:lnTo>
                  <a:lnTo>
                    <a:pt x="58" y="785"/>
                  </a:lnTo>
                  <a:lnTo>
                    <a:pt x="48" y="765"/>
                  </a:lnTo>
                  <a:lnTo>
                    <a:pt x="39" y="745"/>
                  </a:lnTo>
                  <a:lnTo>
                    <a:pt x="32" y="724"/>
                  </a:lnTo>
                  <a:lnTo>
                    <a:pt x="26" y="701"/>
                  </a:lnTo>
                  <a:lnTo>
                    <a:pt x="19" y="678"/>
                  </a:lnTo>
                  <a:lnTo>
                    <a:pt x="13" y="655"/>
                  </a:lnTo>
                  <a:lnTo>
                    <a:pt x="9" y="631"/>
                  </a:lnTo>
                  <a:lnTo>
                    <a:pt x="9" y="631"/>
                  </a:lnTo>
                  <a:lnTo>
                    <a:pt x="6" y="607"/>
                  </a:lnTo>
                  <a:lnTo>
                    <a:pt x="3" y="581"/>
                  </a:lnTo>
                  <a:lnTo>
                    <a:pt x="0" y="529"/>
                  </a:lnTo>
                  <a:lnTo>
                    <a:pt x="0" y="479"/>
                  </a:lnTo>
                  <a:lnTo>
                    <a:pt x="4" y="427"/>
                  </a:lnTo>
                  <a:lnTo>
                    <a:pt x="12" y="375"/>
                  </a:lnTo>
                  <a:lnTo>
                    <a:pt x="21" y="325"/>
                  </a:lnTo>
                  <a:lnTo>
                    <a:pt x="35" y="276"/>
                  </a:lnTo>
                  <a:lnTo>
                    <a:pt x="51" y="230"/>
                  </a:lnTo>
                  <a:lnTo>
                    <a:pt x="70" y="186"/>
                  </a:lnTo>
                  <a:lnTo>
                    <a:pt x="80" y="166"/>
                  </a:lnTo>
                  <a:lnTo>
                    <a:pt x="91" y="146"/>
                  </a:lnTo>
                  <a:lnTo>
                    <a:pt x="103" y="127"/>
                  </a:lnTo>
                  <a:lnTo>
                    <a:pt x="115" y="110"/>
                  </a:lnTo>
                  <a:lnTo>
                    <a:pt x="128" y="93"/>
                  </a:lnTo>
                  <a:lnTo>
                    <a:pt x="141" y="76"/>
                  </a:lnTo>
                  <a:lnTo>
                    <a:pt x="155" y="63"/>
                  </a:lnTo>
                  <a:lnTo>
                    <a:pt x="170" y="50"/>
                  </a:lnTo>
                  <a:lnTo>
                    <a:pt x="185" y="38"/>
                  </a:lnTo>
                  <a:lnTo>
                    <a:pt x="201" y="27"/>
                  </a:lnTo>
                  <a:lnTo>
                    <a:pt x="216" y="18"/>
                  </a:lnTo>
                  <a:lnTo>
                    <a:pt x="233" y="12"/>
                  </a:lnTo>
                  <a:lnTo>
                    <a:pt x="249" y="6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85" y="0"/>
                  </a:lnTo>
                  <a:lnTo>
                    <a:pt x="303" y="0"/>
                  </a:lnTo>
                  <a:lnTo>
                    <a:pt x="321" y="2"/>
                  </a:lnTo>
                  <a:lnTo>
                    <a:pt x="339" y="5"/>
                  </a:lnTo>
                  <a:lnTo>
                    <a:pt x="358" y="11"/>
                  </a:lnTo>
                  <a:lnTo>
                    <a:pt x="376" y="17"/>
                  </a:lnTo>
                  <a:lnTo>
                    <a:pt x="394" y="24"/>
                  </a:lnTo>
                  <a:lnTo>
                    <a:pt x="412" y="35"/>
                  </a:lnTo>
                  <a:lnTo>
                    <a:pt x="431" y="46"/>
                  </a:lnTo>
                  <a:lnTo>
                    <a:pt x="449" y="58"/>
                  </a:lnTo>
                  <a:lnTo>
                    <a:pt x="466" y="72"/>
                  </a:lnTo>
                  <a:lnTo>
                    <a:pt x="484" y="87"/>
                  </a:lnTo>
                  <a:lnTo>
                    <a:pt x="501" y="102"/>
                  </a:lnTo>
                  <a:lnTo>
                    <a:pt x="518" y="119"/>
                  </a:lnTo>
                  <a:lnTo>
                    <a:pt x="551" y="157"/>
                  </a:lnTo>
                  <a:lnTo>
                    <a:pt x="582" y="197"/>
                  </a:lnTo>
                  <a:lnTo>
                    <a:pt x="610" y="241"/>
                  </a:lnTo>
                  <a:lnTo>
                    <a:pt x="638" y="287"/>
                  </a:lnTo>
                  <a:lnTo>
                    <a:pt x="662" y="334"/>
                  </a:lnTo>
                  <a:lnTo>
                    <a:pt x="684" y="383"/>
                  </a:lnTo>
                  <a:lnTo>
                    <a:pt x="702" y="433"/>
                  </a:lnTo>
                  <a:lnTo>
                    <a:pt x="716" y="482"/>
                  </a:lnTo>
                  <a:lnTo>
                    <a:pt x="722" y="507"/>
                  </a:lnTo>
                  <a:lnTo>
                    <a:pt x="726" y="532"/>
                  </a:lnTo>
                  <a:lnTo>
                    <a:pt x="726" y="532"/>
                  </a:lnTo>
                  <a:close/>
                </a:path>
              </a:pathLst>
            </a:custGeom>
            <a:solidFill>
              <a:srgbClr val="00a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1239"/>
            <p:cNvSpPr/>
            <p:nvPr/>
          </p:nvSpPr>
          <p:spPr>
            <a:xfrm rot="2290800">
              <a:off x="8170560" y="5326200"/>
              <a:ext cx="844560" cy="596880"/>
            </a:xfrm>
            <a:custGeom>
              <a:avLst/>
              <a:gdLst/>
              <a:ahLst/>
              <a:rect l="l" t="t" r="r" b="b"/>
              <a:pathLst>
                <a:path w="532" h="376">
                  <a:moveTo>
                    <a:pt x="174" y="47"/>
                  </a:moveTo>
                  <a:lnTo>
                    <a:pt x="174" y="47"/>
                  </a:lnTo>
                  <a:lnTo>
                    <a:pt x="160" y="79"/>
                  </a:lnTo>
                  <a:lnTo>
                    <a:pt x="149" y="111"/>
                  </a:lnTo>
                  <a:lnTo>
                    <a:pt x="139" y="142"/>
                  </a:lnTo>
                  <a:lnTo>
                    <a:pt x="131" y="172"/>
                  </a:lnTo>
                  <a:lnTo>
                    <a:pt x="123" y="203"/>
                  </a:lnTo>
                  <a:lnTo>
                    <a:pt x="117" y="232"/>
                  </a:lnTo>
                  <a:lnTo>
                    <a:pt x="113" y="261"/>
                  </a:lnTo>
                  <a:lnTo>
                    <a:pt x="110" y="288"/>
                  </a:lnTo>
                  <a:lnTo>
                    <a:pt x="110" y="288"/>
                  </a:lnTo>
                  <a:lnTo>
                    <a:pt x="151" y="363"/>
                  </a:lnTo>
                  <a:lnTo>
                    <a:pt x="151" y="363"/>
                  </a:lnTo>
                  <a:lnTo>
                    <a:pt x="165" y="285"/>
                  </a:lnTo>
                  <a:lnTo>
                    <a:pt x="177" y="206"/>
                  </a:lnTo>
                  <a:lnTo>
                    <a:pt x="177" y="206"/>
                  </a:lnTo>
                  <a:lnTo>
                    <a:pt x="209" y="276"/>
                  </a:lnTo>
                  <a:lnTo>
                    <a:pt x="241" y="347"/>
                  </a:lnTo>
                  <a:lnTo>
                    <a:pt x="241" y="347"/>
                  </a:lnTo>
                  <a:lnTo>
                    <a:pt x="258" y="264"/>
                  </a:lnTo>
                  <a:lnTo>
                    <a:pt x="273" y="181"/>
                  </a:lnTo>
                  <a:lnTo>
                    <a:pt x="273" y="181"/>
                  </a:lnTo>
                  <a:lnTo>
                    <a:pt x="317" y="250"/>
                  </a:lnTo>
                  <a:lnTo>
                    <a:pt x="364" y="319"/>
                  </a:lnTo>
                  <a:lnTo>
                    <a:pt x="364" y="319"/>
                  </a:lnTo>
                  <a:lnTo>
                    <a:pt x="349" y="160"/>
                  </a:lnTo>
                  <a:lnTo>
                    <a:pt x="349" y="160"/>
                  </a:lnTo>
                  <a:lnTo>
                    <a:pt x="398" y="226"/>
                  </a:lnTo>
                  <a:lnTo>
                    <a:pt x="449" y="290"/>
                  </a:lnTo>
                  <a:lnTo>
                    <a:pt x="449" y="290"/>
                  </a:lnTo>
                  <a:lnTo>
                    <a:pt x="452" y="221"/>
                  </a:lnTo>
                  <a:lnTo>
                    <a:pt x="454" y="152"/>
                  </a:lnTo>
                  <a:lnTo>
                    <a:pt x="454" y="152"/>
                  </a:lnTo>
                  <a:lnTo>
                    <a:pt x="492" y="215"/>
                  </a:lnTo>
                  <a:lnTo>
                    <a:pt x="532" y="276"/>
                  </a:lnTo>
                  <a:lnTo>
                    <a:pt x="532" y="276"/>
                  </a:lnTo>
                  <a:lnTo>
                    <a:pt x="530" y="235"/>
                  </a:lnTo>
                  <a:lnTo>
                    <a:pt x="527" y="160"/>
                  </a:lnTo>
                  <a:lnTo>
                    <a:pt x="527" y="160"/>
                  </a:lnTo>
                  <a:lnTo>
                    <a:pt x="510" y="140"/>
                  </a:lnTo>
                  <a:lnTo>
                    <a:pt x="494" y="122"/>
                  </a:lnTo>
                  <a:lnTo>
                    <a:pt x="477" y="105"/>
                  </a:lnTo>
                  <a:lnTo>
                    <a:pt x="459" y="88"/>
                  </a:lnTo>
                  <a:lnTo>
                    <a:pt x="442" y="73"/>
                  </a:lnTo>
                  <a:lnTo>
                    <a:pt x="424" y="59"/>
                  </a:lnTo>
                  <a:lnTo>
                    <a:pt x="405" y="47"/>
                  </a:lnTo>
                  <a:lnTo>
                    <a:pt x="387" y="35"/>
                  </a:lnTo>
                  <a:lnTo>
                    <a:pt x="369" y="26"/>
                  </a:lnTo>
                  <a:lnTo>
                    <a:pt x="350" y="17"/>
                  </a:lnTo>
                  <a:lnTo>
                    <a:pt x="332" y="11"/>
                  </a:lnTo>
                  <a:lnTo>
                    <a:pt x="314" y="6"/>
                  </a:lnTo>
                  <a:lnTo>
                    <a:pt x="296" y="2"/>
                  </a:lnTo>
                  <a:lnTo>
                    <a:pt x="277" y="0"/>
                  </a:lnTo>
                  <a:lnTo>
                    <a:pt x="259" y="0"/>
                  </a:lnTo>
                  <a:lnTo>
                    <a:pt x="241" y="3"/>
                  </a:lnTo>
                  <a:lnTo>
                    <a:pt x="241" y="3"/>
                  </a:lnTo>
                  <a:lnTo>
                    <a:pt x="219" y="8"/>
                  </a:lnTo>
                  <a:lnTo>
                    <a:pt x="200" y="14"/>
                  </a:lnTo>
                  <a:lnTo>
                    <a:pt x="180" y="24"/>
                  </a:lnTo>
                  <a:lnTo>
                    <a:pt x="162" y="35"/>
                  </a:lnTo>
                  <a:lnTo>
                    <a:pt x="143" y="49"/>
                  </a:lnTo>
                  <a:lnTo>
                    <a:pt x="125" y="66"/>
                  </a:lnTo>
                  <a:lnTo>
                    <a:pt x="110" y="82"/>
                  </a:lnTo>
                  <a:lnTo>
                    <a:pt x="93" y="102"/>
                  </a:lnTo>
                  <a:lnTo>
                    <a:pt x="78" y="123"/>
                  </a:lnTo>
                  <a:lnTo>
                    <a:pt x="64" y="145"/>
                  </a:lnTo>
                  <a:lnTo>
                    <a:pt x="52" y="169"/>
                  </a:lnTo>
                  <a:lnTo>
                    <a:pt x="40" y="194"/>
                  </a:lnTo>
                  <a:lnTo>
                    <a:pt x="27" y="219"/>
                  </a:lnTo>
                  <a:lnTo>
                    <a:pt x="17" y="247"/>
                  </a:lnTo>
                  <a:lnTo>
                    <a:pt x="8" y="274"/>
                  </a:lnTo>
                  <a:lnTo>
                    <a:pt x="0" y="303"/>
                  </a:lnTo>
                  <a:lnTo>
                    <a:pt x="0" y="303"/>
                  </a:lnTo>
                  <a:lnTo>
                    <a:pt x="31" y="376"/>
                  </a:lnTo>
                  <a:lnTo>
                    <a:pt x="31" y="376"/>
                  </a:lnTo>
                  <a:lnTo>
                    <a:pt x="38" y="340"/>
                  </a:lnTo>
                  <a:lnTo>
                    <a:pt x="47" y="305"/>
                  </a:lnTo>
                  <a:lnTo>
                    <a:pt x="56" y="271"/>
                  </a:lnTo>
                  <a:lnTo>
                    <a:pt x="69" y="241"/>
                  </a:lnTo>
                  <a:lnTo>
                    <a:pt x="79" y="212"/>
                  </a:lnTo>
                  <a:lnTo>
                    <a:pt x="91" y="184"/>
                  </a:lnTo>
                  <a:lnTo>
                    <a:pt x="104" y="160"/>
                  </a:lnTo>
                  <a:lnTo>
                    <a:pt x="116" y="137"/>
                  </a:lnTo>
                  <a:lnTo>
                    <a:pt x="137" y="99"/>
                  </a:lnTo>
                  <a:lnTo>
                    <a:pt x="155" y="70"/>
                  </a:lnTo>
                  <a:lnTo>
                    <a:pt x="174" y="47"/>
                  </a:lnTo>
                  <a:lnTo>
                    <a:pt x="174" y="47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1240"/>
            <p:cNvSpPr/>
            <p:nvPr/>
          </p:nvSpPr>
          <p:spPr>
            <a:xfrm rot="2290800">
              <a:off x="7809840" y="6122160"/>
              <a:ext cx="12852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21" y="0"/>
                  </a:moveTo>
                  <a:lnTo>
                    <a:pt x="21" y="0"/>
                  </a:lnTo>
                  <a:lnTo>
                    <a:pt x="0" y="105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1241"/>
            <p:cNvSpPr/>
            <p:nvPr/>
          </p:nvSpPr>
          <p:spPr>
            <a:xfrm rot="2290800">
              <a:off x="8248320" y="5230440"/>
              <a:ext cx="226800" cy="534960"/>
            </a:xfrm>
            <a:custGeom>
              <a:avLst/>
              <a:gdLst/>
              <a:ahLst/>
              <a:rect l="l" t="t" r="r" b="b"/>
              <a:pathLst>
                <a:path w="143" h="337">
                  <a:moveTo>
                    <a:pt x="50" y="186"/>
                  </a:moveTo>
                  <a:lnTo>
                    <a:pt x="50" y="186"/>
                  </a:lnTo>
                  <a:lnTo>
                    <a:pt x="79" y="241"/>
                  </a:lnTo>
                  <a:lnTo>
                    <a:pt x="79" y="241"/>
                  </a:lnTo>
                  <a:lnTo>
                    <a:pt x="82" y="214"/>
                  </a:lnTo>
                  <a:lnTo>
                    <a:pt x="86" y="185"/>
                  </a:lnTo>
                  <a:lnTo>
                    <a:pt x="92" y="156"/>
                  </a:lnTo>
                  <a:lnTo>
                    <a:pt x="100" y="125"/>
                  </a:lnTo>
                  <a:lnTo>
                    <a:pt x="108" y="95"/>
                  </a:lnTo>
                  <a:lnTo>
                    <a:pt x="118" y="64"/>
                  </a:lnTo>
                  <a:lnTo>
                    <a:pt x="129" y="32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24" y="23"/>
                  </a:lnTo>
                  <a:lnTo>
                    <a:pt x="106" y="52"/>
                  </a:lnTo>
                  <a:lnTo>
                    <a:pt x="85" y="90"/>
                  </a:lnTo>
                  <a:lnTo>
                    <a:pt x="73" y="113"/>
                  </a:lnTo>
                  <a:lnTo>
                    <a:pt x="60" y="137"/>
                  </a:lnTo>
                  <a:lnTo>
                    <a:pt x="48" y="165"/>
                  </a:lnTo>
                  <a:lnTo>
                    <a:pt x="38" y="194"/>
                  </a:lnTo>
                  <a:lnTo>
                    <a:pt x="25" y="224"/>
                  </a:lnTo>
                  <a:lnTo>
                    <a:pt x="16" y="258"/>
                  </a:lnTo>
                  <a:lnTo>
                    <a:pt x="7" y="293"/>
                  </a:lnTo>
                  <a:lnTo>
                    <a:pt x="0" y="329"/>
                  </a:lnTo>
                  <a:lnTo>
                    <a:pt x="0" y="329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27" y="262"/>
                  </a:lnTo>
                  <a:lnTo>
                    <a:pt x="50" y="186"/>
                  </a:lnTo>
                  <a:lnTo>
                    <a:pt x="50" y="186"/>
                  </a:lnTo>
                  <a:close/>
                </a:path>
              </a:pathLst>
            </a:custGeom>
            <a:solidFill>
              <a:srgbClr val="d7e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1242"/>
            <p:cNvSpPr/>
            <p:nvPr/>
          </p:nvSpPr>
          <p:spPr>
            <a:xfrm rot="2290800">
              <a:off x="7560720" y="6122160"/>
              <a:ext cx="928800" cy="614160"/>
            </a:xfrm>
            <a:custGeom>
              <a:avLst/>
              <a:gdLst/>
              <a:ahLst/>
              <a:rect l="l" t="t" r="r" b="b"/>
              <a:pathLst>
                <a:path w="585" h="387">
                  <a:moveTo>
                    <a:pt x="585" y="81"/>
                  </a:moveTo>
                  <a:lnTo>
                    <a:pt x="585" y="81"/>
                  </a:lnTo>
                  <a:lnTo>
                    <a:pt x="568" y="58"/>
                  </a:lnTo>
                  <a:lnTo>
                    <a:pt x="553" y="35"/>
                  </a:lnTo>
                  <a:lnTo>
                    <a:pt x="542" y="17"/>
                  </a:lnTo>
                  <a:lnTo>
                    <a:pt x="538" y="9"/>
                  </a:lnTo>
                  <a:lnTo>
                    <a:pt x="536" y="3"/>
                  </a:lnTo>
                  <a:lnTo>
                    <a:pt x="536" y="3"/>
                  </a:lnTo>
                  <a:lnTo>
                    <a:pt x="535" y="0"/>
                  </a:lnTo>
                  <a:lnTo>
                    <a:pt x="535" y="2"/>
                  </a:lnTo>
                  <a:lnTo>
                    <a:pt x="535" y="14"/>
                  </a:lnTo>
                  <a:lnTo>
                    <a:pt x="538" y="66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492" y="85"/>
                  </a:lnTo>
                  <a:lnTo>
                    <a:pt x="456" y="38"/>
                  </a:lnTo>
                  <a:lnTo>
                    <a:pt x="442" y="18"/>
                  </a:lnTo>
                  <a:lnTo>
                    <a:pt x="434" y="6"/>
                  </a:lnTo>
                  <a:lnTo>
                    <a:pt x="434" y="6"/>
                  </a:lnTo>
                  <a:lnTo>
                    <a:pt x="433" y="5"/>
                  </a:lnTo>
                  <a:lnTo>
                    <a:pt x="431" y="6"/>
                  </a:lnTo>
                  <a:lnTo>
                    <a:pt x="428" y="21"/>
                  </a:lnTo>
                  <a:lnTo>
                    <a:pt x="427" y="46"/>
                  </a:lnTo>
                  <a:lnTo>
                    <a:pt x="425" y="76"/>
                  </a:lnTo>
                  <a:lnTo>
                    <a:pt x="424" y="136"/>
                  </a:lnTo>
                  <a:lnTo>
                    <a:pt x="422" y="163"/>
                  </a:lnTo>
                  <a:lnTo>
                    <a:pt x="422" y="163"/>
                  </a:lnTo>
                  <a:lnTo>
                    <a:pt x="354" y="35"/>
                  </a:lnTo>
                  <a:lnTo>
                    <a:pt x="354" y="35"/>
                  </a:lnTo>
                  <a:lnTo>
                    <a:pt x="326" y="113"/>
                  </a:lnTo>
                  <a:lnTo>
                    <a:pt x="297" y="191"/>
                  </a:lnTo>
                  <a:lnTo>
                    <a:pt x="297" y="191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12" y="212"/>
                  </a:lnTo>
                  <a:lnTo>
                    <a:pt x="212" y="212"/>
                  </a:lnTo>
                  <a:lnTo>
                    <a:pt x="171" y="163"/>
                  </a:lnTo>
                  <a:lnTo>
                    <a:pt x="90" y="194"/>
                  </a:lnTo>
                  <a:lnTo>
                    <a:pt x="90" y="194"/>
                  </a:lnTo>
                  <a:lnTo>
                    <a:pt x="79" y="252"/>
                  </a:lnTo>
                  <a:lnTo>
                    <a:pt x="79" y="252"/>
                  </a:lnTo>
                  <a:lnTo>
                    <a:pt x="40" y="177"/>
                  </a:lnTo>
                  <a:lnTo>
                    <a:pt x="3" y="102"/>
                  </a:lnTo>
                  <a:lnTo>
                    <a:pt x="3" y="102"/>
                  </a:lnTo>
                  <a:lnTo>
                    <a:pt x="0" y="113"/>
                  </a:lnTo>
                  <a:lnTo>
                    <a:pt x="0" y="113"/>
                  </a:lnTo>
                  <a:lnTo>
                    <a:pt x="14" y="149"/>
                  </a:lnTo>
                  <a:lnTo>
                    <a:pt x="31" y="183"/>
                  </a:lnTo>
                  <a:lnTo>
                    <a:pt x="49" y="213"/>
                  </a:lnTo>
                  <a:lnTo>
                    <a:pt x="70" y="242"/>
                  </a:lnTo>
                  <a:lnTo>
                    <a:pt x="92" y="270"/>
                  </a:lnTo>
                  <a:lnTo>
                    <a:pt x="114" y="293"/>
                  </a:lnTo>
                  <a:lnTo>
                    <a:pt x="140" y="314"/>
                  </a:lnTo>
                  <a:lnTo>
                    <a:pt x="166" y="334"/>
                  </a:lnTo>
                  <a:lnTo>
                    <a:pt x="194" y="349"/>
                  </a:lnTo>
                  <a:lnTo>
                    <a:pt x="221" y="363"/>
                  </a:lnTo>
                  <a:lnTo>
                    <a:pt x="250" y="373"/>
                  </a:lnTo>
                  <a:lnTo>
                    <a:pt x="280" y="381"/>
                  </a:lnTo>
                  <a:lnTo>
                    <a:pt x="309" y="386"/>
                  </a:lnTo>
                  <a:lnTo>
                    <a:pt x="340" y="387"/>
                  </a:lnTo>
                  <a:lnTo>
                    <a:pt x="372" y="387"/>
                  </a:lnTo>
                  <a:lnTo>
                    <a:pt x="402" y="383"/>
                  </a:lnTo>
                  <a:lnTo>
                    <a:pt x="402" y="383"/>
                  </a:lnTo>
                  <a:lnTo>
                    <a:pt x="422" y="380"/>
                  </a:lnTo>
                  <a:lnTo>
                    <a:pt x="443" y="373"/>
                  </a:lnTo>
                  <a:lnTo>
                    <a:pt x="462" y="367"/>
                  </a:lnTo>
                  <a:lnTo>
                    <a:pt x="482" y="360"/>
                  </a:lnTo>
                  <a:lnTo>
                    <a:pt x="500" y="352"/>
                  </a:lnTo>
                  <a:lnTo>
                    <a:pt x="518" y="343"/>
                  </a:lnTo>
                  <a:lnTo>
                    <a:pt x="536" y="332"/>
                  </a:lnTo>
                  <a:lnTo>
                    <a:pt x="553" y="320"/>
                  </a:lnTo>
                  <a:lnTo>
                    <a:pt x="553" y="320"/>
                  </a:lnTo>
                  <a:lnTo>
                    <a:pt x="538" y="331"/>
                  </a:lnTo>
                  <a:lnTo>
                    <a:pt x="521" y="341"/>
                  </a:lnTo>
                  <a:lnTo>
                    <a:pt x="504" y="351"/>
                  </a:lnTo>
                  <a:lnTo>
                    <a:pt x="486" y="358"/>
                  </a:lnTo>
                  <a:lnTo>
                    <a:pt x="468" y="366"/>
                  </a:lnTo>
                  <a:lnTo>
                    <a:pt x="450" y="372"/>
                  </a:lnTo>
                  <a:lnTo>
                    <a:pt x="431" y="377"/>
                  </a:lnTo>
                  <a:lnTo>
                    <a:pt x="411" y="381"/>
                  </a:lnTo>
                  <a:lnTo>
                    <a:pt x="411" y="381"/>
                  </a:lnTo>
                  <a:lnTo>
                    <a:pt x="443" y="346"/>
                  </a:lnTo>
                  <a:lnTo>
                    <a:pt x="472" y="311"/>
                  </a:lnTo>
                  <a:lnTo>
                    <a:pt x="498" y="273"/>
                  </a:lnTo>
                  <a:lnTo>
                    <a:pt x="521" y="235"/>
                  </a:lnTo>
                  <a:lnTo>
                    <a:pt x="541" y="197"/>
                  </a:lnTo>
                  <a:lnTo>
                    <a:pt x="558" y="159"/>
                  </a:lnTo>
                  <a:lnTo>
                    <a:pt x="573" y="119"/>
                  </a:lnTo>
                  <a:lnTo>
                    <a:pt x="585" y="81"/>
                  </a:lnTo>
                  <a:lnTo>
                    <a:pt x="585" y="81"/>
                  </a:lnTo>
                  <a:close/>
                </a:path>
              </a:pathLst>
            </a:custGeom>
            <a:solidFill>
              <a:srgbClr val="b3d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1243"/>
            <p:cNvSpPr/>
            <p:nvPr/>
          </p:nvSpPr>
          <p:spPr>
            <a:xfrm rot="2290800">
              <a:off x="8643960" y="6060600"/>
              <a:ext cx="183960" cy="731880"/>
            </a:xfrm>
            <a:custGeom>
              <a:avLst/>
              <a:gdLst/>
              <a:ahLst/>
              <a:rect l="l" t="t" r="r" b="b"/>
              <a:pathLst>
                <a:path w="116" h="461">
                  <a:moveTo>
                    <a:pt x="41" y="294"/>
                  </a:moveTo>
                  <a:lnTo>
                    <a:pt x="41" y="294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3" y="378"/>
                  </a:lnTo>
                  <a:lnTo>
                    <a:pt x="113" y="378"/>
                  </a:lnTo>
                  <a:lnTo>
                    <a:pt x="116" y="344"/>
                  </a:lnTo>
                  <a:lnTo>
                    <a:pt x="116" y="308"/>
                  </a:lnTo>
                  <a:lnTo>
                    <a:pt x="113" y="271"/>
                  </a:lnTo>
                  <a:lnTo>
                    <a:pt x="108" y="233"/>
                  </a:lnTo>
                  <a:lnTo>
                    <a:pt x="108" y="233"/>
                  </a:lnTo>
                  <a:lnTo>
                    <a:pt x="102" y="204"/>
                  </a:lnTo>
                  <a:lnTo>
                    <a:pt x="96" y="173"/>
                  </a:lnTo>
                  <a:lnTo>
                    <a:pt x="87" y="144"/>
                  </a:lnTo>
                  <a:lnTo>
                    <a:pt x="78" y="116"/>
                  </a:lnTo>
                  <a:lnTo>
                    <a:pt x="66" y="85"/>
                  </a:lnTo>
                  <a:lnTo>
                    <a:pt x="53" y="56"/>
                  </a:lnTo>
                  <a:lnTo>
                    <a:pt x="41" y="2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29"/>
                  </a:lnTo>
                  <a:lnTo>
                    <a:pt x="34" y="65"/>
                  </a:lnTo>
                  <a:lnTo>
                    <a:pt x="35" y="109"/>
                  </a:lnTo>
                  <a:lnTo>
                    <a:pt x="35" y="158"/>
                  </a:lnTo>
                  <a:lnTo>
                    <a:pt x="32" y="213"/>
                  </a:lnTo>
                  <a:lnTo>
                    <a:pt x="26" y="271"/>
                  </a:lnTo>
                  <a:lnTo>
                    <a:pt x="21" y="301"/>
                  </a:lnTo>
                  <a:lnTo>
                    <a:pt x="15" y="332"/>
                  </a:lnTo>
                  <a:lnTo>
                    <a:pt x="9" y="364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37" y="442"/>
                  </a:lnTo>
                  <a:lnTo>
                    <a:pt x="55" y="461"/>
                  </a:lnTo>
                  <a:lnTo>
                    <a:pt x="55" y="461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8a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1244"/>
            <p:cNvSpPr/>
            <p:nvPr/>
          </p:nvSpPr>
          <p:spPr>
            <a:xfrm rot="2290800">
              <a:off x="8137800" y="635112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38" y="236"/>
                  </a:moveTo>
                  <a:lnTo>
                    <a:pt x="238" y="236"/>
                  </a:lnTo>
                  <a:lnTo>
                    <a:pt x="244" y="225"/>
                  </a:lnTo>
                  <a:lnTo>
                    <a:pt x="244" y="225"/>
                  </a:lnTo>
                  <a:lnTo>
                    <a:pt x="247" y="219"/>
                  </a:lnTo>
                  <a:lnTo>
                    <a:pt x="247" y="219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5" y="204"/>
                  </a:lnTo>
                  <a:lnTo>
                    <a:pt x="255" y="204"/>
                  </a:lnTo>
                  <a:lnTo>
                    <a:pt x="259" y="195"/>
                  </a:lnTo>
                  <a:lnTo>
                    <a:pt x="259" y="195"/>
                  </a:lnTo>
                  <a:lnTo>
                    <a:pt x="261" y="189"/>
                  </a:lnTo>
                  <a:lnTo>
                    <a:pt x="261" y="189"/>
                  </a:lnTo>
                  <a:lnTo>
                    <a:pt x="266" y="177"/>
                  </a:lnTo>
                  <a:lnTo>
                    <a:pt x="266" y="177"/>
                  </a:lnTo>
                  <a:lnTo>
                    <a:pt x="269" y="167"/>
                  </a:lnTo>
                  <a:lnTo>
                    <a:pt x="269" y="167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5" y="148"/>
                  </a:lnTo>
                  <a:lnTo>
                    <a:pt x="275" y="148"/>
                  </a:lnTo>
                  <a:lnTo>
                    <a:pt x="278" y="138"/>
                  </a:lnTo>
                  <a:lnTo>
                    <a:pt x="278" y="138"/>
                  </a:lnTo>
                  <a:lnTo>
                    <a:pt x="279" y="129"/>
                  </a:lnTo>
                  <a:lnTo>
                    <a:pt x="279" y="129"/>
                  </a:lnTo>
                  <a:lnTo>
                    <a:pt x="281" y="122"/>
                  </a:lnTo>
                  <a:lnTo>
                    <a:pt x="281" y="122"/>
                  </a:lnTo>
                  <a:lnTo>
                    <a:pt x="284" y="111"/>
                  </a:lnTo>
                  <a:lnTo>
                    <a:pt x="284" y="111"/>
                  </a:lnTo>
                  <a:lnTo>
                    <a:pt x="284" y="103"/>
                  </a:lnTo>
                  <a:lnTo>
                    <a:pt x="284" y="103"/>
                  </a:lnTo>
                  <a:lnTo>
                    <a:pt x="285" y="93"/>
                  </a:lnTo>
                  <a:lnTo>
                    <a:pt x="285" y="93"/>
                  </a:lnTo>
                  <a:lnTo>
                    <a:pt x="287" y="84"/>
                  </a:lnTo>
                  <a:lnTo>
                    <a:pt x="287" y="84"/>
                  </a:lnTo>
                  <a:lnTo>
                    <a:pt x="288" y="76"/>
                  </a:lnTo>
                  <a:lnTo>
                    <a:pt x="288" y="76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29" y="167"/>
                  </a:lnTo>
                  <a:lnTo>
                    <a:pt x="229" y="167"/>
                  </a:lnTo>
                  <a:lnTo>
                    <a:pt x="211" y="148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62" y="140"/>
                  </a:lnTo>
                  <a:lnTo>
                    <a:pt x="147" y="180"/>
                  </a:lnTo>
                  <a:lnTo>
                    <a:pt x="130" y="218"/>
                  </a:lnTo>
                  <a:lnTo>
                    <a:pt x="110" y="256"/>
                  </a:lnTo>
                  <a:lnTo>
                    <a:pt x="87" y="294"/>
                  </a:lnTo>
                  <a:lnTo>
                    <a:pt x="61" y="332"/>
                  </a:lnTo>
                  <a:lnTo>
                    <a:pt x="32" y="367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0" y="398"/>
                  </a:lnTo>
                  <a:lnTo>
                    <a:pt x="39" y="393"/>
                  </a:lnTo>
                  <a:lnTo>
                    <a:pt x="57" y="387"/>
                  </a:lnTo>
                  <a:lnTo>
                    <a:pt x="75" y="379"/>
                  </a:lnTo>
                  <a:lnTo>
                    <a:pt x="93" y="372"/>
                  </a:lnTo>
                  <a:lnTo>
                    <a:pt x="110" y="362"/>
                  </a:lnTo>
                  <a:lnTo>
                    <a:pt x="127" y="352"/>
                  </a:lnTo>
                  <a:lnTo>
                    <a:pt x="142" y="341"/>
                  </a:lnTo>
                  <a:lnTo>
                    <a:pt x="142" y="341"/>
                  </a:lnTo>
                  <a:lnTo>
                    <a:pt x="144" y="341"/>
                  </a:lnTo>
                  <a:lnTo>
                    <a:pt x="144" y="341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6" y="314"/>
                  </a:lnTo>
                  <a:lnTo>
                    <a:pt x="194" y="297"/>
                  </a:lnTo>
                  <a:lnTo>
                    <a:pt x="194" y="297"/>
                  </a:lnTo>
                  <a:lnTo>
                    <a:pt x="195" y="294"/>
                  </a:lnTo>
                  <a:lnTo>
                    <a:pt x="195" y="294"/>
                  </a:lnTo>
                  <a:lnTo>
                    <a:pt x="205" y="285"/>
                  </a:lnTo>
                  <a:lnTo>
                    <a:pt x="205" y="285"/>
                  </a:lnTo>
                  <a:lnTo>
                    <a:pt x="206" y="282"/>
                  </a:lnTo>
                  <a:lnTo>
                    <a:pt x="206" y="282"/>
                  </a:lnTo>
                  <a:lnTo>
                    <a:pt x="215" y="271"/>
                  </a:lnTo>
                  <a:lnTo>
                    <a:pt x="215" y="271"/>
                  </a:lnTo>
                  <a:lnTo>
                    <a:pt x="217" y="268"/>
                  </a:lnTo>
                  <a:lnTo>
                    <a:pt x="217" y="268"/>
                  </a:lnTo>
                  <a:lnTo>
                    <a:pt x="235" y="241"/>
                  </a:lnTo>
                  <a:lnTo>
                    <a:pt x="235" y="241"/>
                  </a:lnTo>
                  <a:lnTo>
                    <a:pt x="238" y="236"/>
                  </a:lnTo>
                  <a:lnTo>
                    <a:pt x="238" y="236"/>
                  </a:lnTo>
                  <a:close/>
                </a:path>
              </a:pathLst>
            </a:custGeom>
            <a:solidFill>
              <a:srgbClr val="95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1245"/>
            <p:cNvSpPr/>
            <p:nvPr/>
          </p:nvSpPr>
          <p:spPr>
            <a:xfrm rot="2290800">
              <a:off x="7923600" y="5444640"/>
              <a:ext cx="331560" cy="917640"/>
            </a:xfrm>
            <a:custGeom>
              <a:avLst/>
              <a:gdLst/>
              <a:ahLst/>
              <a:rect l="l" t="t" r="r" b="b"/>
              <a:pathLst>
                <a:path w="209" h="578">
                  <a:moveTo>
                    <a:pt x="89" y="55"/>
                  </a:moveTo>
                  <a:lnTo>
                    <a:pt x="89" y="5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37" y="76"/>
                  </a:lnTo>
                  <a:lnTo>
                    <a:pt x="14" y="151"/>
                  </a:lnTo>
                  <a:lnTo>
                    <a:pt x="14" y="151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3" y="180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16" y="217"/>
                  </a:lnTo>
                  <a:lnTo>
                    <a:pt x="26" y="220"/>
                  </a:lnTo>
                  <a:lnTo>
                    <a:pt x="35" y="223"/>
                  </a:lnTo>
                  <a:lnTo>
                    <a:pt x="43" y="229"/>
                  </a:lnTo>
                  <a:lnTo>
                    <a:pt x="51" y="236"/>
                  </a:lnTo>
                  <a:lnTo>
                    <a:pt x="57" y="244"/>
                  </a:lnTo>
                  <a:lnTo>
                    <a:pt x="63" y="255"/>
                  </a:lnTo>
                  <a:lnTo>
                    <a:pt x="64" y="265"/>
                  </a:lnTo>
                  <a:lnTo>
                    <a:pt x="64" y="265"/>
                  </a:lnTo>
                  <a:lnTo>
                    <a:pt x="66" y="278"/>
                  </a:lnTo>
                  <a:lnTo>
                    <a:pt x="64" y="288"/>
                  </a:lnTo>
                  <a:lnTo>
                    <a:pt x="61" y="299"/>
                  </a:lnTo>
                  <a:lnTo>
                    <a:pt x="57" y="308"/>
                  </a:lnTo>
                  <a:lnTo>
                    <a:pt x="51" y="317"/>
                  </a:lnTo>
                  <a:lnTo>
                    <a:pt x="43" y="323"/>
                  </a:lnTo>
                  <a:lnTo>
                    <a:pt x="34" y="328"/>
                  </a:lnTo>
                  <a:lnTo>
                    <a:pt x="25" y="331"/>
                  </a:lnTo>
                  <a:lnTo>
                    <a:pt x="25" y="331"/>
                  </a:lnTo>
                  <a:lnTo>
                    <a:pt x="13" y="331"/>
                  </a:lnTo>
                  <a:lnTo>
                    <a:pt x="0" y="328"/>
                  </a:lnTo>
                  <a:lnTo>
                    <a:pt x="0" y="328"/>
                  </a:lnTo>
                  <a:lnTo>
                    <a:pt x="3" y="358"/>
                  </a:lnTo>
                  <a:lnTo>
                    <a:pt x="8" y="387"/>
                  </a:lnTo>
                  <a:lnTo>
                    <a:pt x="14" y="418"/>
                  </a:lnTo>
                  <a:lnTo>
                    <a:pt x="22" y="450"/>
                  </a:lnTo>
                  <a:lnTo>
                    <a:pt x="31" y="480"/>
                  </a:lnTo>
                  <a:lnTo>
                    <a:pt x="42" y="512"/>
                  </a:lnTo>
                  <a:lnTo>
                    <a:pt x="54" y="544"/>
                  </a:lnTo>
                  <a:lnTo>
                    <a:pt x="69" y="578"/>
                  </a:lnTo>
                  <a:lnTo>
                    <a:pt x="75" y="575"/>
                  </a:lnTo>
                  <a:lnTo>
                    <a:pt x="75" y="575"/>
                  </a:lnTo>
                  <a:lnTo>
                    <a:pt x="96" y="470"/>
                  </a:lnTo>
                  <a:lnTo>
                    <a:pt x="96" y="470"/>
                  </a:lnTo>
                  <a:lnTo>
                    <a:pt x="156" y="544"/>
                  </a:lnTo>
                  <a:lnTo>
                    <a:pt x="209" y="523"/>
                  </a:lnTo>
                  <a:lnTo>
                    <a:pt x="209" y="523"/>
                  </a:lnTo>
                  <a:lnTo>
                    <a:pt x="203" y="515"/>
                  </a:lnTo>
                  <a:lnTo>
                    <a:pt x="186" y="491"/>
                  </a:lnTo>
                  <a:lnTo>
                    <a:pt x="176" y="473"/>
                  </a:lnTo>
                  <a:lnTo>
                    <a:pt x="163" y="451"/>
                  </a:lnTo>
                  <a:lnTo>
                    <a:pt x="150" y="427"/>
                  </a:lnTo>
                  <a:lnTo>
                    <a:pt x="137" y="398"/>
                  </a:lnTo>
                  <a:lnTo>
                    <a:pt x="125" y="366"/>
                  </a:lnTo>
                  <a:lnTo>
                    <a:pt x="113" y="331"/>
                  </a:lnTo>
                  <a:lnTo>
                    <a:pt x="102" y="293"/>
                  </a:lnTo>
                  <a:lnTo>
                    <a:pt x="95" y="252"/>
                  </a:lnTo>
                  <a:lnTo>
                    <a:pt x="89" y="206"/>
                  </a:lnTo>
                  <a:lnTo>
                    <a:pt x="84" y="159"/>
                  </a:lnTo>
                  <a:lnTo>
                    <a:pt x="84" y="108"/>
                  </a:lnTo>
                  <a:lnTo>
                    <a:pt x="86" y="82"/>
                  </a:lnTo>
                  <a:lnTo>
                    <a:pt x="89" y="55"/>
                  </a:lnTo>
                  <a:lnTo>
                    <a:pt x="89" y="55"/>
                  </a:lnTo>
                  <a:close/>
                </a:path>
              </a:pathLst>
            </a:custGeom>
            <a:solidFill>
              <a:srgbClr val="78d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1246"/>
            <p:cNvSpPr/>
            <p:nvPr/>
          </p:nvSpPr>
          <p:spPr>
            <a:xfrm rot="2290800">
              <a:off x="8260200" y="5982840"/>
              <a:ext cx="161640" cy="18072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3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5" y="32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5" y="76"/>
                  </a:lnTo>
                  <a:lnTo>
                    <a:pt x="9" y="87"/>
                  </a:lnTo>
                  <a:lnTo>
                    <a:pt x="15" y="96"/>
                  </a:lnTo>
                  <a:lnTo>
                    <a:pt x="23" y="102"/>
                  </a:lnTo>
                  <a:lnTo>
                    <a:pt x="31" y="108"/>
                  </a:lnTo>
                  <a:lnTo>
                    <a:pt x="41" y="113"/>
                  </a:lnTo>
                  <a:lnTo>
                    <a:pt x="50" y="114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7" y="99"/>
                  </a:lnTo>
                  <a:lnTo>
                    <a:pt x="93" y="92"/>
                  </a:lnTo>
                  <a:lnTo>
                    <a:pt x="98" y="81"/>
                  </a:lnTo>
                  <a:lnTo>
                    <a:pt x="101" y="72"/>
                  </a:lnTo>
                  <a:lnTo>
                    <a:pt x="102" y="60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7"/>
                  </a:lnTo>
                  <a:lnTo>
                    <a:pt x="93" y="28"/>
                  </a:lnTo>
                  <a:lnTo>
                    <a:pt x="87" y="18"/>
                  </a:lnTo>
                  <a:lnTo>
                    <a:pt x="79" y="11"/>
                  </a:lnTo>
                  <a:lnTo>
                    <a:pt x="72" y="5"/>
                  </a:lnTo>
                  <a:lnTo>
                    <a:pt x="63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1247"/>
            <p:cNvSpPr/>
            <p:nvPr/>
          </p:nvSpPr>
          <p:spPr>
            <a:xfrm rot="2290800">
              <a:off x="8467920" y="605916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1" y="0"/>
                  </a:moveTo>
                  <a:lnTo>
                    <a:pt x="41" y="0"/>
                  </a:lnTo>
                  <a:lnTo>
                    <a:pt x="32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3"/>
                  </a:lnTo>
                  <a:lnTo>
                    <a:pt x="4" y="32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9" y="87"/>
                  </a:lnTo>
                  <a:lnTo>
                    <a:pt x="15" y="95"/>
                  </a:lnTo>
                  <a:lnTo>
                    <a:pt x="22" y="103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0" y="115"/>
                  </a:lnTo>
                  <a:lnTo>
                    <a:pt x="61" y="113"/>
                  </a:lnTo>
                  <a:lnTo>
                    <a:pt x="61" y="113"/>
                  </a:lnTo>
                  <a:lnTo>
                    <a:pt x="70" y="110"/>
                  </a:lnTo>
                  <a:lnTo>
                    <a:pt x="79" y="106"/>
                  </a:lnTo>
                  <a:lnTo>
                    <a:pt x="86" y="99"/>
                  </a:lnTo>
                  <a:lnTo>
                    <a:pt x="93" y="90"/>
                  </a:lnTo>
                  <a:lnTo>
                    <a:pt x="97" y="81"/>
                  </a:lnTo>
                  <a:lnTo>
                    <a:pt x="100" y="71"/>
                  </a:lnTo>
                  <a:lnTo>
                    <a:pt x="102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9" y="37"/>
                  </a:lnTo>
                  <a:lnTo>
                    <a:pt x="93" y="28"/>
                  </a:lnTo>
                  <a:lnTo>
                    <a:pt x="86" y="19"/>
                  </a:lnTo>
                  <a:lnTo>
                    <a:pt x="79" y="11"/>
                  </a:lnTo>
                  <a:lnTo>
                    <a:pt x="71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1248"/>
            <p:cNvSpPr/>
            <p:nvPr/>
          </p:nvSpPr>
          <p:spPr>
            <a:xfrm rot="2290800">
              <a:off x="8697960" y="6097680"/>
              <a:ext cx="16020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41" y="2"/>
                  </a:moveTo>
                  <a:lnTo>
                    <a:pt x="41" y="2"/>
                  </a:lnTo>
                  <a:lnTo>
                    <a:pt x="31" y="3"/>
                  </a:lnTo>
                  <a:lnTo>
                    <a:pt x="21" y="9"/>
                  </a:lnTo>
                  <a:lnTo>
                    <a:pt x="14" y="16"/>
                  </a:lnTo>
                  <a:lnTo>
                    <a:pt x="8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7"/>
                  </a:lnTo>
                  <a:lnTo>
                    <a:pt x="8" y="87"/>
                  </a:lnTo>
                  <a:lnTo>
                    <a:pt x="14" y="96"/>
                  </a:lnTo>
                  <a:lnTo>
                    <a:pt x="21" y="104"/>
                  </a:lnTo>
                  <a:lnTo>
                    <a:pt x="31" y="109"/>
                  </a:lnTo>
                  <a:lnTo>
                    <a:pt x="40" y="113"/>
                  </a:lnTo>
                  <a:lnTo>
                    <a:pt x="49" y="115"/>
                  </a:lnTo>
                  <a:lnTo>
                    <a:pt x="60" y="115"/>
                  </a:lnTo>
                  <a:lnTo>
                    <a:pt x="60" y="115"/>
                  </a:lnTo>
                  <a:lnTo>
                    <a:pt x="70" y="112"/>
                  </a:lnTo>
                  <a:lnTo>
                    <a:pt x="78" y="107"/>
                  </a:lnTo>
                  <a:lnTo>
                    <a:pt x="85" y="99"/>
                  </a:lnTo>
                  <a:lnTo>
                    <a:pt x="92" y="92"/>
                  </a:lnTo>
                  <a:lnTo>
                    <a:pt x="98" y="83"/>
                  </a:lnTo>
                  <a:lnTo>
                    <a:pt x="99" y="72"/>
                  </a:lnTo>
                  <a:lnTo>
                    <a:pt x="101" y="61"/>
                  </a:lnTo>
                  <a:lnTo>
                    <a:pt x="101" y="49"/>
                  </a:lnTo>
                  <a:lnTo>
                    <a:pt x="101" y="49"/>
                  </a:lnTo>
                  <a:lnTo>
                    <a:pt x="98" y="38"/>
                  </a:lnTo>
                  <a:lnTo>
                    <a:pt x="93" y="28"/>
                  </a:lnTo>
                  <a:lnTo>
                    <a:pt x="87" y="19"/>
                  </a:lnTo>
                  <a:lnTo>
                    <a:pt x="79" y="11"/>
                  </a:lnTo>
                  <a:lnTo>
                    <a:pt x="70" y="6"/>
                  </a:lnTo>
                  <a:lnTo>
                    <a:pt x="61" y="2"/>
                  </a:lnTo>
                  <a:lnTo>
                    <a:pt x="50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1249"/>
            <p:cNvSpPr/>
            <p:nvPr/>
          </p:nvSpPr>
          <p:spPr>
            <a:xfrm rot="2290800">
              <a:off x="8085600" y="5849640"/>
              <a:ext cx="158760" cy="180720"/>
            </a:xfrm>
            <a:custGeom>
              <a:avLst/>
              <a:gdLst/>
              <a:ahLst/>
              <a:rect l="l" t="t" r="r" b="b"/>
              <a:pathLst>
                <a:path w="100" h="114">
                  <a:moveTo>
                    <a:pt x="41" y="0"/>
                  </a:moveTo>
                  <a:lnTo>
                    <a:pt x="41" y="0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5"/>
                  </a:lnTo>
                  <a:lnTo>
                    <a:pt x="9" y="23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3" y="76"/>
                  </a:lnTo>
                  <a:lnTo>
                    <a:pt x="7" y="87"/>
                  </a:lnTo>
                  <a:lnTo>
                    <a:pt x="13" y="96"/>
                  </a:lnTo>
                  <a:lnTo>
                    <a:pt x="21" y="102"/>
                  </a:lnTo>
                  <a:lnTo>
                    <a:pt x="30" y="108"/>
                  </a:lnTo>
                  <a:lnTo>
                    <a:pt x="39" y="113"/>
                  </a:lnTo>
                  <a:lnTo>
                    <a:pt x="50" y="114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70" y="110"/>
                  </a:lnTo>
                  <a:lnTo>
                    <a:pt x="79" y="105"/>
                  </a:lnTo>
                  <a:lnTo>
                    <a:pt x="86" y="99"/>
                  </a:lnTo>
                  <a:lnTo>
                    <a:pt x="92" y="92"/>
                  </a:lnTo>
                  <a:lnTo>
                    <a:pt x="97" y="81"/>
                  </a:lnTo>
                  <a:lnTo>
                    <a:pt x="100" y="72"/>
                  </a:lnTo>
                  <a:lnTo>
                    <a:pt x="100" y="60"/>
                  </a:lnTo>
                  <a:lnTo>
                    <a:pt x="100" y="49"/>
                  </a:lnTo>
                  <a:lnTo>
                    <a:pt x="100" y="49"/>
                  </a:lnTo>
                  <a:lnTo>
                    <a:pt x="97" y="37"/>
                  </a:lnTo>
                  <a:lnTo>
                    <a:pt x="92" y="28"/>
                  </a:lnTo>
                  <a:lnTo>
                    <a:pt x="86" y="18"/>
                  </a:lnTo>
                  <a:lnTo>
                    <a:pt x="79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1250"/>
            <p:cNvSpPr/>
            <p:nvPr/>
          </p:nvSpPr>
          <p:spPr>
            <a:xfrm rot="2290800">
              <a:off x="7922880" y="5678280"/>
              <a:ext cx="56880" cy="171360"/>
            </a:xfrm>
            <a:custGeom>
              <a:avLst/>
              <a:gdLst/>
              <a:ahLst/>
              <a:rect l="l" t="t" r="r" b="b"/>
              <a:pathLst>
                <a:path w="36" h="108">
                  <a:moveTo>
                    <a:pt x="1" y="62"/>
                  </a:moveTo>
                  <a:lnTo>
                    <a:pt x="1" y="62"/>
                  </a:lnTo>
                  <a:lnTo>
                    <a:pt x="3" y="71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4" y="91"/>
                  </a:lnTo>
                  <a:lnTo>
                    <a:pt x="20" y="97"/>
                  </a:lnTo>
                  <a:lnTo>
                    <a:pt x="24" y="102"/>
                  </a:lnTo>
                  <a:lnTo>
                    <a:pt x="30" y="105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5" y="80"/>
                  </a:lnTo>
                  <a:lnTo>
                    <a:pt x="35" y="53"/>
                  </a:lnTo>
                  <a:lnTo>
                    <a:pt x="35" y="2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7" y="3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7" y="22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1" y="62"/>
                  </a:lnTo>
                  <a:lnTo>
                    <a:pt x="1" y="62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1251"/>
            <p:cNvSpPr/>
            <p:nvPr/>
          </p:nvSpPr>
          <p:spPr>
            <a:xfrm rot="2290800">
              <a:off x="7961760" y="5723640"/>
              <a:ext cx="106200" cy="18072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5" y="48"/>
                  </a:moveTo>
                  <a:lnTo>
                    <a:pt x="65" y="48"/>
                  </a:lnTo>
                  <a:lnTo>
                    <a:pt x="64" y="38"/>
                  </a:lnTo>
                  <a:lnTo>
                    <a:pt x="58" y="27"/>
                  </a:lnTo>
                  <a:lnTo>
                    <a:pt x="52" y="19"/>
                  </a:lnTo>
                  <a:lnTo>
                    <a:pt x="44" y="12"/>
                  </a:lnTo>
                  <a:lnTo>
                    <a:pt x="36" y="6"/>
                  </a:lnTo>
                  <a:lnTo>
                    <a:pt x="27" y="3"/>
                  </a:lnTo>
                  <a:lnTo>
                    <a:pt x="1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9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14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35" y="111"/>
                  </a:lnTo>
                  <a:lnTo>
                    <a:pt x="44" y="106"/>
                  </a:lnTo>
                  <a:lnTo>
                    <a:pt x="52" y="100"/>
                  </a:lnTo>
                  <a:lnTo>
                    <a:pt x="58" y="91"/>
                  </a:lnTo>
                  <a:lnTo>
                    <a:pt x="62" y="82"/>
                  </a:lnTo>
                  <a:lnTo>
                    <a:pt x="65" y="71"/>
                  </a:lnTo>
                  <a:lnTo>
                    <a:pt x="67" y="61"/>
                  </a:lnTo>
                  <a:lnTo>
                    <a:pt x="65" y="48"/>
                  </a:lnTo>
                  <a:lnTo>
                    <a:pt x="65" y="48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组合 4194"/>
          <p:cNvGrpSpPr/>
          <p:nvPr/>
        </p:nvGrpSpPr>
        <p:grpSpPr>
          <a:xfrm>
            <a:off x="7858800" y="1500840"/>
            <a:ext cx="1068840" cy="1355760"/>
            <a:chOff x="7858800" y="1500840"/>
            <a:chExt cx="1068840" cy="1355760"/>
          </a:xfrm>
        </p:grpSpPr>
        <p:sp>
          <p:nvSpPr>
            <p:cNvPr id="608" name="Freeform 1167"/>
            <p:cNvSpPr/>
            <p:nvPr/>
          </p:nvSpPr>
          <p:spPr>
            <a:xfrm rot="642600">
              <a:off x="7964640" y="1569600"/>
              <a:ext cx="857160" cy="1217520"/>
            </a:xfrm>
            <a:custGeom>
              <a:avLst/>
              <a:gdLst/>
              <a:ahLst/>
              <a:rect l="l" t="t" r="r" b="b"/>
              <a:pathLst>
                <a:path w="652" h="902">
                  <a:moveTo>
                    <a:pt x="646" y="580"/>
                  </a:moveTo>
                  <a:lnTo>
                    <a:pt x="646" y="580"/>
                  </a:lnTo>
                  <a:lnTo>
                    <a:pt x="643" y="603"/>
                  </a:lnTo>
                  <a:lnTo>
                    <a:pt x="638" y="623"/>
                  </a:lnTo>
                  <a:lnTo>
                    <a:pt x="632" y="644"/>
                  </a:lnTo>
                  <a:lnTo>
                    <a:pt x="626" y="664"/>
                  </a:lnTo>
                  <a:lnTo>
                    <a:pt x="620" y="683"/>
                  </a:lnTo>
                  <a:lnTo>
                    <a:pt x="612" y="701"/>
                  </a:lnTo>
                  <a:lnTo>
                    <a:pt x="595" y="734"/>
                  </a:lnTo>
                  <a:lnTo>
                    <a:pt x="577" y="765"/>
                  </a:lnTo>
                  <a:lnTo>
                    <a:pt x="556" y="792"/>
                  </a:lnTo>
                  <a:lnTo>
                    <a:pt x="533" y="817"/>
                  </a:lnTo>
                  <a:lnTo>
                    <a:pt x="507" y="838"/>
                  </a:lnTo>
                  <a:lnTo>
                    <a:pt x="481" y="856"/>
                  </a:lnTo>
                  <a:lnTo>
                    <a:pt x="454" y="872"/>
                  </a:lnTo>
                  <a:lnTo>
                    <a:pt x="425" y="884"/>
                  </a:lnTo>
                  <a:lnTo>
                    <a:pt x="394" y="893"/>
                  </a:lnTo>
                  <a:lnTo>
                    <a:pt x="364" y="899"/>
                  </a:lnTo>
                  <a:lnTo>
                    <a:pt x="332" y="902"/>
                  </a:lnTo>
                  <a:lnTo>
                    <a:pt x="300" y="900"/>
                  </a:lnTo>
                  <a:lnTo>
                    <a:pt x="268" y="897"/>
                  </a:lnTo>
                  <a:lnTo>
                    <a:pt x="268" y="897"/>
                  </a:lnTo>
                  <a:lnTo>
                    <a:pt x="237" y="891"/>
                  </a:lnTo>
                  <a:lnTo>
                    <a:pt x="207" y="882"/>
                  </a:lnTo>
                  <a:lnTo>
                    <a:pt x="178" y="870"/>
                  </a:lnTo>
                  <a:lnTo>
                    <a:pt x="151" y="853"/>
                  </a:lnTo>
                  <a:lnTo>
                    <a:pt x="125" y="835"/>
                  </a:lnTo>
                  <a:lnTo>
                    <a:pt x="102" y="814"/>
                  </a:lnTo>
                  <a:lnTo>
                    <a:pt x="79" y="789"/>
                  </a:lnTo>
                  <a:lnTo>
                    <a:pt x="61" y="762"/>
                  </a:lnTo>
                  <a:lnTo>
                    <a:pt x="42" y="733"/>
                  </a:lnTo>
                  <a:lnTo>
                    <a:pt x="29" y="701"/>
                  </a:lnTo>
                  <a:lnTo>
                    <a:pt x="17" y="667"/>
                  </a:lnTo>
                  <a:lnTo>
                    <a:pt x="7" y="631"/>
                  </a:lnTo>
                  <a:lnTo>
                    <a:pt x="3" y="593"/>
                  </a:lnTo>
                  <a:lnTo>
                    <a:pt x="0" y="553"/>
                  </a:lnTo>
                  <a:lnTo>
                    <a:pt x="1" y="512"/>
                  </a:lnTo>
                  <a:lnTo>
                    <a:pt x="6" y="468"/>
                  </a:lnTo>
                  <a:lnTo>
                    <a:pt x="6" y="468"/>
                  </a:lnTo>
                  <a:lnTo>
                    <a:pt x="14" y="424"/>
                  </a:lnTo>
                  <a:lnTo>
                    <a:pt x="26" y="378"/>
                  </a:lnTo>
                  <a:lnTo>
                    <a:pt x="39" y="334"/>
                  </a:lnTo>
                  <a:lnTo>
                    <a:pt x="58" y="291"/>
                  </a:lnTo>
                  <a:lnTo>
                    <a:pt x="78" y="250"/>
                  </a:lnTo>
                  <a:lnTo>
                    <a:pt x="100" y="209"/>
                  </a:lnTo>
                  <a:lnTo>
                    <a:pt x="125" y="172"/>
                  </a:lnTo>
                  <a:lnTo>
                    <a:pt x="152" y="136"/>
                  </a:lnTo>
                  <a:lnTo>
                    <a:pt x="180" y="104"/>
                  </a:lnTo>
                  <a:lnTo>
                    <a:pt x="210" y="76"/>
                  </a:lnTo>
                  <a:lnTo>
                    <a:pt x="225" y="62"/>
                  </a:lnTo>
                  <a:lnTo>
                    <a:pt x="240" y="52"/>
                  </a:lnTo>
                  <a:lnTo>
                    <a:pt x="256" y="40"/>
                  </a:lnTo>
                  <a:lnTo>
                    <a:pt x="271" y="30"/>
                  </a:lnTo>
                  <a:lnTo>
                    <a:pt x="288" y="23"/>
                  </a:lnTo>
                  <a:lnTo>
                    <a:pt x="303" y="15"/>
                  </a:lnTo>
                  <a:lnTo>
                    <a:pt x="320" y="9"/>
                  </a:lnTo>
                  <a:lnTo>
                    <a:pt x="335" y="4"/>
                  </a:lnTo>
                  <a:lnTo>
                    <a:pt x="352" y="1"/>
                  </a:lnTo>
                  <a:lnTo>
                    <a:pt x="368" y="0"/>
                  </a:lnTo>
                  <a:lnTo>
                    <a:pt x="384" y="0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16" y="4"/>
                  </a:lnTo>
                  <a:lnTo>
                    <a:pt x="431" y="9"/>
                  </a:lnTo>
                  <a:lnTo>
                    <a:pt x="446" y="17"/>
                  </a:lnTo>
                  <a:lnTo>
                    <a:pt x="460" y="24"/>
                  </a:lnTo>
                  <a:lnTo>
                    <a:pt x="475" y="33"/>
                  </a:lnTo>
                  <a:lnTo>
                    <a:pt x="489" y="44"/>
                  </a:lnTo>
                  <a:lnTo>
                    <a:pt x="503" y="56"/>
                  </a:lnTo>
                  <a:lnTo>
                    <a:pt x="515" y="70"/>
                  </a:lnTo>
                  <a:lnTo>
                    <a:pt x="527" y="84"/>
                  </a:lnTo>
                  <a:lnTo>
                    <a:pt x="539" y="99"/>
                  </a:lnTo>
                  <a:lnTo>
                    <a:pt x="550" y="116"/>
                  </a:lnTo>
                  <a:lnTo>
                    <a:pt x="562" y="134"/>
                  </a:lnTo>
                  <a:lnTo>
                    <a:pt x="582" y="171"/>
                  </a:lnTo>
                  <a:lnTo>
                    <a:pt x="600" y="212"/>
                  </a:lnTo>
                  <a:lnTo>
                    <a:pt x="615" y="254"/>
                  </a:lnTo>
                  <a:lnTo>
                    <a:pt x="627" y="300"/>
                  </a:lnTo>
                  <a:lnTo>
                    <a:pt x="638" y="346"/>
                  </a:lnTo>
                  <a:lnTo>
                    <a:pt x="646" y="393"/>
                  </a:lnTo>
                  <a:lnTo>
                    <a:pt x="650" y="442"/>
                  </a:lnTo>
                  <a:lnTo>
                    <a:pt x="652" y="489"/>
                  </a:lnTo>
                  <a:lnTo>
                    <a:pt x="650" y="536"/>
                  </a:lnTo>
                  <a:lnTo>
                    <a:pt x="646" y="580"/>
                  </a:lnTo>
                  <a:lnTo>
                    <a:pt x="646" y="580"/>
                  </a:ln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1168"/>
            <p:cNvSpPr/>
            <p:nvPr/>
          </p:nvSpPr>
          <p:spPr>
            <a:xfrm rot="642600">
              <a:off x="7938360" y="2487240"/>
              <a:ext cx="174600" cy="18756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92" y="19"/>
                  </a:moveTo>
                  <a:lnTo>
                    <a:pt x="92" y="19"/>
                  </a:lnTo>
                  <a:lnTo>
                    <a:pt x="81" y="12"/>
                  </a:lnTo>
                  <a:lnTo>
                    <a:pt x="71" y="6"/>
                  </a:lnTo>
                  <a:lnTo>
                    <a:pt x="58" y="3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1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22" y="20"/>
                  </a:lnTo>
                  <a:lnTo>
                    <a:pt x="36" y="20"/>
                  </a:lnTo>
                  <a:lnTo>
                    <a:pt x="51" y="23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83" y="37"/>
                  </a:lnTo>
                  <a:lnTo>
                    <a:pt x="95" y="46"/>
                  </a:lnTo>
                  <a:lnTo>
                    <a:pt x="104" y="58"/>
                  </a:lnTo>
                  <a:lnTo>
                    <a:pt x="112" y="70"/>
                  </a:lnTo>
                  <a:lnTo>
                    <a:pt x="115" y="84"/>
                  </a:lnTo>
                  <a:lnTo>
                    <a:pt x="115" y="98"/>
                  </a:lnTo>
                  <a:lnTo>
                    <a:pt x="113" y="113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09" y="128"/>
                  </a:lnTo>
                  <a:lnTo>
                    <a:pt x="109" y="128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30" y="128"/>
                  </a:lnTo>
                  <a:lnTo>
                    <a:pt x="131" y="116"/>
                  </a:lnTo>
                  <a:lnTo>
                    <a:pt x="131" y="116"/>
                  </a:lnTo>
                  <a:lnTo>
                    <a:pt x="133" y="101"/>
                  </a:lnTo>
                  <a:lnTo>
                    <a:pt x="133" y="87"/>
                  </a:lnTo>
                  <a:lnTo>
                    <a:pt x="130" y="73"/>
                  </a:lnTo>
                  <a:lnTo>
                    <a:pt x="125" y="60"/>
                  </a:lnTo>
                  <a:lnTo>
                    <a:pt x="119" y="49"/>
                  </a:lnTo>
                  <a:lnTo>
                    <a:pt x="112" y="37"/>
                  </a:lnTo>
                  <a:lnTo>
                    <a:pt x="103" y="28"/>
                  </a:lnTo>
                  <a:lnTo>
                    <a:pt x="92" y="19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1169"/>
            <p:cNvSpPr/>
            <p:nvPr/>
          </p:nvSpPr>
          <p:spPr>
            <a:xfrm rot="642600">
              <a:off x="7937280" y="2394720"/>
              <a:ext cx="22320" cy="309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5" y="0"/>
                  </a:moveTo>
                  <a:lnTo>
                    <a:pt x="15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3"/>
                  </a:lnTo>
                  <a:lnTo>
                    <a:pt x="6" y="23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1170"/>
            <p:cNvSpPr/>
            <p:nvPr/>
          </p:nvSpPr>
          <p:spPr>
            <a:xfrm rot="642600">
              <a:off x="7974360" y="2546640"/>
              <a:ext cx="60480" cy="741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8" y="0"/>
                  </a:moveTo>
                  <a:lnTo>
                    <a:pt x="8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29" y="39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43"/>
                  </a:lnTo>
                  <a:lnTo>
                    <a:pt x="44" y="34"/>
                  </a:lnTo>
                  <a:lnTo>
                    <a:pt x="41" y="2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0" y="8"/>
                  </a:lnTo>
                  <a:lnTo>
                    <a:pt x="23" y="4"/>
                  </a:lnTo>
                  <a:lnTo>
                    <a:pt x="1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1171"/>
            <p:cNvSpPr/>
            <p:nvPr/>
          </p:nvSpPr>
          <p:spPr>
            <a:xfrm rot="642600">
              <a:off x="8525520" y="1600920"/>
              <a:ext cx="161640" cy="176760"/>
            </a:xfrm>
            <a:custGeom>
              <a:avLst/>
              <a:gdLst/>
              <a:ahLst/>
              <a:rect l="l" t="t" r="r" b="b"/>
              <a:pathLst>
                <a:path w="123" h="131">
                  <a:moveTo>
                    <a:pt x="53" y="128"/>
                  </a:moveTo>
                  <a:lnTo>
                    <a:pt x="53" y="128"/>
                  </a:lnTo>
                  <a:lnTo>
                    <a:pt x="62" y="129"/>
                  </a:lnTo>
                  <a:lnTo>
                    <a:pt x="71" y="131"/>
                  </a:lnTo>
                  <a:lnTo>
                    <a:pt x="80" y="129"/>
                  </a:lnTo>
                  <a:lnTo>
                    <a:pt x="88" y="126"/>
                  </a:lnTo>
                  <a:lnTo>
                    <a:pt x="96" y="122"/>
                  </a:lnTo>
                  <a:lnTo>
                    <a:pt x="103" y="117"/>
                  </a:lnTo>
                  <a:lnTo>
                    <a:pt x="109" y="110"/>
                  </a:lnTo>
                  <a:lnTo>
                    <a:pt x="116" y="102"/>
                  </a:lnTo>
                  <a:lnTo>
                    <a:pt x="116" y="102"/>
                  </a:lnTo>
                  <a:lnTo>
                    <a:pt x="119" y="94"/>
                  </a:lnTo>
                  <a:lnTo>
                    <a:pt x="122" y="85"/>
                  </a:lnTo>
                  <a:lnTo>
                    <a:pt x="123" y="78"/>
                  </a:lnTo>
                  <a:lnTo>
                    <a:pt x="123" y="70"/>
                  </a:lnTo>
                  <a:lnTo>
                    <a:pt x="122" y="62"/>
                  </a:lnTo>
                  <a:lnTo>
                    <a:pt x="119" y="56"/>
                  </a:lnTo>
                  <a:lnTo>
                    <a:pt x="112" y="44"/>
                  </a:lnTo>
                  <a:lnTo>
                    <a:pt x="112" y="44"/>
                  </a:lnTo>
                  <a:lnTo>
                    <a:pt x="106" y="36"/>
                  </a:lnTo>
                  <a:lnTo>
                    <a:pt x="99" y="32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77" y="30"/>
                  </a:lnTo>
                  <a:lnTo>
                    <a:pt x="73" y="35"/>
                  </a:lnTo>
                  <a:lnTo>
                    <a:pt x="70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50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0" y="55"/>
                  </a:lnTo>
                  <a:lnTo>
                    <a:pt x="73" y="55"/>
                  </a:lnTo>
                  <a:lnTo>
                    <a:pt x="73" y="55"/>
                  </a:lnTo>
                  <a:lnTo>
                    <a:pt x="79" y="50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91" y="55"/>
                  </a:lnTo>
                  <a:lnTo>
                    <a:pt x="91" y="55"/>
                  </a:lnTo>
                  <a:lnTo>
                    <a:pt x="94" y="64"/>
                  </a:lnTo>
                  <a:lnTo>
                    <a:pt x="99" y="75"/>
                  </a:lnTo>
                  <a:lnTo>
                    <a:pt x="100" y="85"/>
                  </a:lnTo>
                  <a:lnTo>
                    <a:pt x="100" y="90"/>
                  </a:lnTo>
                  <a:lnTo>
                    <a:pt x="100" y="94"/>
                  </a:lnTo>
                  <a:lnTo>
                    <a:pt x="100" y="94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96" y="102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79" y="107"/>
                  </a:lnTo>
                  <a:lnTo>
                    <a:pt x="71" y="107"/>
                  </a:lnTo>
                  <a:lnTo>
                    <a:pt x="64" y="107"/>
                  </a:lnTo>
                  <a:lnTo>
                    <a:pt x="56" y="104"/>
                  </a:lnTo>
                  <a:lnTo>
                    <a:pt x="52" y="100"/>
                  </a:lnTo>
                  <a:lnTo>
                    <a:pt x="47" y="97"/>
                  </a:lnTo>
                  <a:lnTo>
                    <a:pt x="39" y="90"/>
                  </a:lnTo>
                  <a:lnTo>
                    <a:pt x="39" y="90"/>
                  </a:lnTo>
                  <a:lnTo>
                    <a:pt x="35" y="81"/>
                  </a:lnTo>
                  <a:lnTo>
                    <a:pt x="32" y="72"/>
                  </a:lnTo>
                  <a:lnTo>
                    <a:pt x="29" y="62"/>
                  </a:lnTo>
                  <a:lnTo>
                    <a:pt x="29" y="53"/>
                  </a:lnTo>
                  <a:lnTo>
                    <a:pt x="29" y="44"/>
                  </a:lnTo>
                  <a:lnTo>
                    <a:pt x="32" y="35"/>
                  </a:lnTo>
                  <a:lnTo>
                    <a:pt x="35" y="26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8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6"/>
                  </a:lnTo>
                  <a:lnTo>
                    <a:pt x="13" y="12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10" y="97"/>
                  </a:lnTo>
                  <a:lnTo>
                    <a:pt x="17" y="107"/>
                  </a:lnTo>
                  <a:lnTo>
                    <a:pt x="26" y="114"/>
                  </a:lnTo>
                  <a:lnTo>
                    <a:pt x="33" y="120"/>
                  </a:lnTo>
                  <a:lnTo>
                    <a:pt x="44" y="125"/>
                  </a:lnTo>
                  <a:lnTo>
                    <a:pt x="53" y="128"/>
                  </a:lnTo>
                  <a:lnTo>
                    <a:pt x="53" y="128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1172"/>
            <p:cNvSpPr/>
            <p:nvPr/>
          </p:nvSpPr>
          <p:spPr>
            <a:xfrm rot="642600">
              <a:off x="8448840" y="1588680"/>
              <a:ext cx="37800" cy="5652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1"/>
                  </a:moveTo>
                  <a:lnTo>
                    <a:pt x="29" y="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12"/>
                  </a:lnTo>
                  <a:lnTo>
                    <a:pt x="29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1173"/>
            <p:cNvSpPr/>
            <p:nvPr/>
          </p:nvSpPr>
          <p:spPr>
            <a:xfrm rot="642600">
              <a:off x="8424360" y="1657800"/>
              <a:ext cx="324720" cy="214560"/>
            </a:xfrm>
            <a:custGeom>
              <a:avLst/>
              <a:gdLst/>
              <a:ahLst/>
              <a:rect l="l" t="t" r="r" b="b"/>
              <a:pathLst>
                <a:path w="247" h="159">
                  <a:moveTo>
                    <a:pt x="22" y="101"/>
                  </a:moveTo>
                  <a:lnTo>
                    <a:pt x="22" y="101"/>
                  </a:lnTo>
                  <a:lnTo>
                    <a:pt x="31" y="116"/>
                  </a:lnTo>
                  <a:lnTo>
                    <a:pt x="43" y="128"/>
                  </a:lnTo>
                  <a:lnTo>
                    <a:pt x="55" y="140"/>
                  </a:lnTo>
                  <a:lnTo>
                    <a:pt x="70" y="148"/>
                  </a:lnTo>
                  <a:lnTo>
                    <a:pt x="86" y="154"/>
                  </a:lnTo>
                  <a:lnTo>
                    <a:pt x="104" y="157"/>
                  </a:lnTo>
                  <a:lnTo>
                    <a:pt x="121" y="159"/>
                  </a:lnTo>
                  <a:lnTo>
                    <a:pt x="140" y="157"/>
                  </a:lnTo>
                  <a:lnTo>
                    <a:pt x="140" y="157"/>
                  </a:lnTo>
                  <a:lnTo>
                    <a:pt x="160" y="151"/>
                  </a:lnTo>
                  <a:lnTo>
                    <a:pt x="180" y="143"/>
                  </a:lnTo>
                  <a:lnTo>
                    <a:pt x="197" y="133"/>
                  </a:lnTo>
                  <a:lnTo>
                    <a:pt x="212" y="120"/>
                  </a:lnTo>
                  <a:lnTo>
                    <a:pt x="224" y="107"/>
                  </a:lnTo>
                  <a:lnTo>
                    <a:pt x="235" y="90"/>
                  </a:lnTo>
                  <a:lnTo>
                    <a:pt x="242" y="72"/>
                  </a:lnTo>
                  <a:lnTo>
                    <a:pt x="247" y="53"/>
                  </a:lnTo>
                  <a:lnTo>
                    <a:pt x="247" y="53"/>
                  </a:lnTo>
                  <a:lnTo>
                    <a:pt x="247" y="50"/>
                  </a:lnTo>
                  <a:lnTo>
                    <a:pt x="247" y="50"/>
                  </a:lnTo>
                  <a:lnTo>
                    <a:pt x="230" y="29"/>
                  </a:lnTo>
                  <a:lnTo>
                    <a:pt x="230" y="29"/>
                  </a:lnTo>
                  <a:lnTo>
                    <a:pt x="229" y="47"/>
                  </a:lnTo>
                  <a:lnTo>
                    <a:pt x="224" y="63"/>
                  </a:lnTo>
                  <a:lnTo>
                    <a:pt x="224" y="63"/>
                  </a:lnTo>
                  <a:lnTo>
                    <a:pt x="217" y="79"/>
                  </a:lnTo>
                  <a:lnTo>
                    <a:pt x="206" y="95"/>
                  </a:lnTo>
                  <a:lnTo>
                    <a:pt x="192" y="107"/>
                  </a:lnTo>
                  <a:lnTo>
                    <a:pt x="185" y="113"/>
                  </a:lnTo>
                  <a:lnTo>
                    <a:pt x="175" y="117"/>
                  </a:lnTo>
                  <a:lnTo>
                    <a:pt x="168" y="120"/>
                  </a:lnTo>
                  <a:lnTo>
                    <a:pt x="157" y="125"/>
                  </a:lnTo>
                  <a:lnTo>
                    <a:pt x="148" y="127"/>
                  </a:lnTo>
                  <a:lnTo>
                    <a:pt x="137" y="128"/>
                  </a:lnTo>
                  <a:lnTo>
                    <a:pt x="127" y="128"/>
                  </a:lnTo>
                  <a:lnTo>
                    <a:pt x="116" y="127"/>
                  </a:lnTo>
                  <a:lnTo>
                    <a:pt x="105" y="125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79" y="114"/>
                  </a:lnTo>
                  <a:lnTo>
                    <a:pt x="67" y="107"/>
                  </a:lnTo>
                  <a:lnTo>
                    <a:pt x="55" y="96"/>
                  </a:lnTo>
                  <a:lnTo>
                    <a:pt x="46" y="84"/>
                  </a:lnTo>
                  <a:lnTo>
                    <a:pt x="37" y="70"/>
                  </a:lnTo>
                  <a:lnTo>
                    <a:pt x="31" y="56"/>
                  </a:lnTo>
                  <a:lnTo>
                    <a:pt x="26" y="40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23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46"/>
                  </a:lnTo>
                  <a:lnTo>
                    <a:pt x="8" y="64"/>
                  </a:lnTo>
                  <a:lnTo>
                    <a:pt x="14" y="82"/>
                  </a:lnTo>
                  <a:lnTo>
                    <a:pt x="22" y="101"/>
                  </a:lnTo>
                  <a:lnTo>
                    <a:pt x="22" y="101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1174"/>
            <p:cNvSpPr/>
            <p:nvPr/>
          </p:nvSpPr>
          <p:spPr>
            <a:xfrm rot="642600">
              <a:off x="8166600" y="1924920"/>
              <a:ext cx="353520" cy="499320"/>
            </a:xfrm>
            <a:custGeom>
              <a:avLst/>
              <a:gdLst/>
              <a:ahLst/>
              <a:rect l="l" t="t" r="r" b="b"/>
              <a:pathLst>
                <a:path w="269" h="370">
                  <a:moveTo>
                    <a:pt x="269" y="166"/>
                  </a:moveTo>
                  <a:lnTo>
                    <a:pt x="269" y="166"/>
                  </a:lnTo>
                  <a:lnTo>
                    <a:pt x="268" y="141"/>
                  </a:lnTo>
                  <a:lnTo>
                    <a:pt x="263" y="118"/>
                  </a:lnTo>
                  <a:lnTo>
                    <a:pt x="256" y="97"/>
                  </a:lnTo>
                  <a:lnTo>
                    <a:pt x="245" y="77"/>
                  </a:lnTo>
                  <a:lnTo>
                    <a:pt x="233" y="59"/>
                  </a:lnTo>
                  <a:lnTo>
                    <a:pt x="218" y="42"/>
                  </a:lnTo>
                  <a:lnTo>
                    <a:pt x="201" y="29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61" y="9"/>
                  </a:lnTo>
                  <a:lnTo>
                    <a:pt x="141" y="4"/>
                  </a:lnTo>
                  <a:lnTo>
                    <a:pt x="122" y="0"/>
                  </a:lnTo>
                  <a:lnTo>
                    <a:pt x="100" y="0"/>
                  </a:lnTo>
                  <a:lnTo>
                    <a:pt x="80" y="1"/>
                  </a:lnTo>
                  <a:lnTo>
                    <a:pt x="62" y="4"/>
                  </a:lnTo>
                  <a:lnTo>
                    <a:pt x="42" y="1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18" y="47"/>
                  </a:lnTo>
                  <a:lnTo>
                    <a:pt x="12" y="73"/>
                  </a:lnTo>
                  <a:lnTo>
                    <a:pt x="7" y="99"/>
                  </a:lnTo>
                  <a:lnTo>
                    <a:pt x="4" y="123"/>
                  </a:lnTo>
                  <a:lnTo>
                    <a:pt x="1" y="147"/>
                  </a:lnTo>
                  <a:lnTo>
                    <a:pt x="0" y="170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16" y="227"/>
                  </a:lnTo>
                  <a:lnTo>
                    <a:pt x="33" y="237"/>
                  </a:lnTo>
                  <a:lnTo>
                    <a:pt x="51" y="243"/>
                  </a:lnTo>
                  <a:lnTo>
                    <a:pt x="70" y="246"/>
                  </a:lnTo>
                  <a:lnTo>
                    <a:pt x="70" y="246"/>
                  </a:lnTo>
                  <a:lnTo>
                    <a:pt x="85" y="248"/>
                  </a:lnTo>
                  <a:lnTo>
                    <a:pt x="100" y="246"/>
                  </a:lnTo>
                  <a:lnTo>
                    <a:pt x="114" y="242"/>
                  </a:lnTo>
                  <a:lnTo>
                    <a:pt x="128" y="236"/>
                  </a:lnTo>
                  <a:lnTo>
                    <a:pt x="138" y="227"/>
                  </a:lnTo>
                  <a:lnTo>
                    <a:pt x="149" y="216"/>
                  </a:lnTo>
                  <a:lnTo>
                    <a:pt x="158" y="204"/>
                  </a:lnTo>
                  <a:lnTo>
                    <a:pt x="164" y="190"/>
                  </a:lnTo>
                  <a:lnTo>
                    <a:pt x="164" y="190"/>
                  </a:lnTo>
                  <a:lnTo>
                    <a:pt x="169" y="175"/>
                  </a:lnTo>
                  <a:lnTo>
                    <a:pt x="170" y="161"/>
                  </a:lnTo>
                  <a:lnTo>
                    <a:pt x="170" y="149"/>
                  </a:lnTo>
                  <a:lnTo>
                    <a:pt x="169" y="135"/>
                  </a:lnTo>
                  <a:lnTo>
                    <a:pt x="164" y="125"/>
                  </a:lnTo>
                  <a:lnTo>
                    <a:pt x="160" y="114"/>
                  </a:lnTo>
                  <a:lnTo>
                    <a:pt x="154" y="105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0" y="91"/>
                  </a:lnTo>
                  <a:lnTo>
                    <a:pt x="134" y="85"/>
                  </a:lnTo>
                  <a:lnTo>
                    <a:pt x="128" y="82"/>
                  </a:lnTo>
                  <a:lnTo>
                    <a:pt x="120" y="79"/>
                  </a:lnTo>
                  <a:lnTo>
                    <a:pt x="114" y="77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6" y="77"/>
                  </a:lnTo>
                  <a:lnTo>
                    <a:pt x="86" y="82"/>
                  </a:lnTo>
                  <a:lnTo>
                    <a:pt x="80" y="91"/>
                  </a:lnTo>
                  <a:lnTo>
                    <a:pt x="76" y="100"/>
                  </a:lnTo>
                  <a:lnTo>
                    <a:pt x="73" y="114"/>
                  </a:lnTo>
                  <a:lnTo>
                    <a:pt x="73" y="114"/>
                  </a:lnTo>
                  <a:lnTo>
                    <a:pt x="73" y="118"/>
                  </a:lnTo>
                  <a:lnTo>
                    <a:pt x="74" y="120"/>
                  </a:lnTo>
                  <a:lnTo>
                    <a:pt x="76" y="123"/>
                  </a:lnTo>
                  <a:lnTo>
                    <a:pt x="76" y="123"/>
                  </a:lnTo>
                  <a:lnTo>
                    <a:pt x="79" y="123"/>
                  </a:lnTo>
                  <a:lnTo>
                    <a:pt x="83" y="123"/>
                  </a:lnTo>
                  <a:lnTo>
                    <a:pt x="83" y="123"/>
                  </a:lnTo>
                  <a:lnTo>
                    <a:pt x="88" y="120"/>
                  </a:lnTo>
                  <a:lnTo>
                    <a:pt x="94" y="114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14" y="118"/>
                  </a:lnTo>
                  <a:lnTo>
                    <a:pt x="114" y="118"/>
                  </a:lnTo>
                  <a:lnTo>
                    <a:pt x="122" y="132"/>
                  </a:lnTo>
                  <a:lnTo>
                    <a:pt x="131" y="149"/>
                  </a:lnTo>
                  <a:lnTo>
                    <a:pt x="137" y="166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7" y="181"/>
                  </a:lnTo>
                  <a:lnTo>
                    <a:pt x="137" y="184"/>
                  </a:lnTo>
                  <a:lnTo>
                    <a:pt x="137" y="184"/>
                  </a:lnTo>
                  <a:lnTo>
                    <a:pt x="135" y="189"/>
                  </a:lnTo>
                  <a:lnTo>
                    <a:pt x="132" y="193"/>
                  </a:lnTo>
                  <a:lnTo>
                    <a:pt x="128" y="196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08" y="205"/>
                  </a:lnTo>
                  <a:lnTo>
                    <a:pt x="94" y="208"/>
                  </a:lnTo>
                  <a:lnTo>
                    <a:pt x="80" y="208"/>
                  </a:lnTo>
                  <a:lnTo>
                    <a:pt x="70" y="207"/>
                  </a:lnTo>
                  <a:lnTo>
                    <a:pt x="59" y="202"/>
                  </a:lnTo>
                  <a:lnTo>
                    <a:pt x="51" y="198"/>
                  </a:lnTo>
                  <a:lnTo>
                    <a:pt x="44" y="193"/>
                  </a:lnTo>
                  <a:lnTo>
                    <a:pt x="38" y="187"/>
                  </a:lnTo>
                  <a:lnTo>
                    <a:pt x="38" y="187"/>
                  </a:lnTo>
                  <a:lnTo>
                    <a:pt x="29" y="175"/>
                  </a:lnTo>
                  <a:lnTo>
                    <a:pt x="21" y="161"/>
                  </a:lnTo>
                  <a:lnTo>
                    <a:pt x="15" y="146"/>
                  </a:lnTo>
                  <a:lnTo>
                    <a:pt x="12" y="131"/>
                  </a:lnTo>
                  <a:lnTo>
                    <a:pt x="10" y="115"/>
                  </a:lnTo>
                  <a:lnTo>
                    <a:pt x="12" y="100"/>
                  </a:lnTo>
                  <a:lnTo>
                    <a:pt x="15" y="85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30" y="59"/>
                  </a:lnTo>
                  <a:lnTo>
                    <a:pt x="41" y="50"/>
                  </a:lnTo>
                  <a:lnTo>
                    <a:pt x="53" y="42"/>
                  </a:lnTo>
                  <a:lnTo>
                    <a:pt x="67" y="38"/>
                  </a:lnTo>
                  <a:lnTo>
                    <a:pt x="83" y="35"/>
                  </a:lnTo>
                  <a:lnTo>
                    <a:pt x="102" y="33"/>
                  </a:lnTo>
                  <a:lnTo>
                    <a:pt x="120" y="35"/>
                  </a:lnTo>
                  <a:lnTo>
                    <a:pt x="141" y="39"/>
                  </a:lnTo>
                  <a:lnTo>
                    <a:pt x="141" y="39"/>
                  </a:lnTo>
                  <a:lnTo>
                    <a:pt x="157" y="42"/>
                  </a:lnTo>
                  <a:lnTo>
                    <a:pt x="170" y="48"/>
                  </a:lnTo>
                  <a:lnTo>
                    <a:pt x="182" y="54"/>
                  </a:lnTo>
                  <a:lnTo>
                    <a:pt x="193" y="62"/>
                  </a:lnTo>
                  <a:lnTo>
                    <a:pt x="202" y="70"/>
                  </a:lnTo>
                  <a:lnTo>
                    <a:pt x="211" y="77"/>
                  </a:lnTo>
                  <a:lnTo>
                    <a:pt x="219" y="88"/>
                  </a:lnTo>
                  <a:lnTo>
                    <a:pt x="224" y="97"/>
                  </a:lnTo>
                  <a:lnTo>
                    <a:pt x="230" y="108"/>
                  </a:lnTo>
                  <a:lnTo>
                    <a:pt x="233" y="118"/>
                  </a:lnTo>
                  <a:lnTo>
                    <a:pt x="236" y="129"/>
                  </a:lnTo>
                  <a:lnTo>
                    <a:pt x="237" y="141"/>
                  </a:lnTo>
                  <a:lnTo>
                    <a:pt x="239" y="152"/>
                  </a:lnTo>
                  <a:lnTo>
                    <a:pt x="239" y="164"/>
                  </a:lnTo>
                  <a:lnTo>
                    <a:pt x="236" y="187"/>
                  </a:lnTo>
                  <a:lnTo>
                    <a:pt x="236" y="187"/>
                  </a:lnTo>
                  <a:lnTo>
                    <a:pt x="231" y="202"/>
                  </a:lnTo>
                  <a:lnTo>
                    <a:pt x="227" y="216"/>
                  </a:lnTo>
                  <a:lnTo>
                    <a:pt x="221" y="230"/>
                  </a:lnTo>
                  <a:lnTo>
                    <a:pt x="213" y="242"/>
                  </a:lnTo>
                  <a:lnTo>
                    <a:pt x="204" y="254"/>
                  </a:lnTo>
                  <a:lnTo>
                    <a:pt x="193" y="266"/>
                  </a:lnTo>
                  <a:lnTo>
                    <a:pt x="182" y="277"/>
                  </a:lnTo>
                  <a:lnTo>
                    <a:pt x="170" y="288"/>
                  </a:lnTo>
                  <a:lnTo>
                    <a:pt x="157" y="295"/>
                  </a:lnTo>
                  <a:lnTo>
                    <a:pt x="143" y="303"/>
                  </a:lnTo>
                  <a:lnTo>
                    <a:pt x="128" y="309"/>
                  </a:lnTo>
                  <a:lnTo>
                    <a:pt x="111" y="314"/>
                  </a:lnTo>
                  <a:lnTo>
                    <a:pt x="94" y="317"/>
                  </a:lnTo>
                  <a:lnTo>
                    <a:pt x="76" y="317"/>
                  </a:lnTo>
                  <a:lnTo>
                    <a:pt x="58" y="317"/>
                  </a:lnTo>
                  <a:lnTo>
                    <a:pt x="38" y="314"/>
                  </a:lnTo>
                  <a:lnTo>
                    <a:pt x="38" y="314"/>
                  </a:lnTo>
                  <a:lnTo>
                    <a:pt x="24" y="309"/>
                  </a:lnTo>
                  <a:lnTo>
                    <a:pt x="10" y="304"/>
                  </a:lnTo>
                  <a:lnTo>
                    <a:pt x="10" y="304"/>
                  </a:lnTo>
                  <a:lnTo>
                    <a:pt x="15" y="327"/>
                  </a:lnTo>
                  <a:lnTo>
                    <a:pt x="19" y="344"/>
                  </a:lnTo>
                  <a:lnTo>
                    <a:pt x="27" y="368"/>
                  </a:lnTo>
                  <a:lnTo>
                    <a:pt x="27" y="368"/>
                  </a:lnTo>
                  <a:lnTo>
                    <a:pt x="50" y="370"/>
                  </a:lnTo>
                  <a:lnTo>
                    <a:pt x="73" y="370"/>
                  </a:lnTo>
                  <a:lnTo>
                    <a:pt x="97" y="367"/>
                  </a:lnTo>
                  <a:lnTo>
                    <a:pt x="122" y="359"/>
                  </a:lnTo>
                  <a:lnTo>
                    <a:pt x="122" y="359"/>
                  </a:lnTo>
                  <a:lnTo>
                    <a:pt x="138" y="353"/>
                  </a:lnTo>
                  <a:lnTo>
                    <a:pt x="154" y="347"/>
                  </a:lnTo>
                  <a:lnTo>
                    <a:pt x="169" y="338"/>
                  </a:lnTo>
                  <a:lnTo>
                    <a:pt x="182" y="329"/>
                  </a:lnTo>
                  <a:lnTo>
                    <a:pt x="196" y="320"/>
                  </a:lnTo>
                  <a:lnTo>
                    <a:pt x="208" y="307"/>
                  </a:lnTo>
                  <a:lnTo>
                    <a:pt x="219" y="297"/>
                  </a:lnTo>
                  <a:lnTo>
                    <a:pt x="230" y="285"/>
                  </a:lnTo>
                  <a:lnTo>
                    <a:pt x="239" y="271"/>
                  </a:lnTo>
                  <a:lnTo>
                    <a:pt x="246" y="257"/>
                  </a:lnTo>
                  <a:lnTo>
                    <a:pt x="254" y="243"/>
                  </a:lnTo>
                  <a:lnTo>
                    <a:pt x="260" y="228"/>
                  </a:lnTo>
                  <a:lnTo>
                    <a:pt x="265" y="213"/>
                  </a:lnTo>
                  <a:lnTo>
                    <a:pt x="268" y="198"/>
                  </a:lnTo>
                  <a:lnTo>
                    <a:pt x="269" y="182"/>
                  </a:lnTo>
                  <a:lnTo>
                    <a:pt x="269" y="166"/>
                  </a:lnTo>
                  <a:lnTo>
                    <a:pt x="269" y="166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1175"/>
            <p:cNvSpPr/>
            <p:nvPr/>
          </p:nvSpPr>
          <p:spPr>
            <a:xfrm rot="642600">
              <a:off x="8009280" y="1769400"/>
              <a:ext cx="190440" cy="45072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43" y="250"/>
                  </a:moveTo>
                  <a:lnTo>
                    <a:pt x="43" y="250"/>
                  </a:lnTo>
                  <a:lnTo>
                    <a:pt x="37" y="227"/>
                  </a:lnTo>
                  <a:lnTo>
                    <a:pt x="32" y="206"/>
                  </a:lnTo>
                  <a:lnTo>
                    <a:pt x="32" y="183"/>
                  </a:lnTo>
                  <a:lnTo>
                    <a:pt x="35" y="160"/>
                  </a:lnTo>
                  <a:lnTo>
                    <a:pt x="35" y="160"/>
                  </a:lnTo>
                  <a:lnTo>
                    <a:pt x="38" y="148"/>
                  </a:lnTo>
                  <a:lnTo>
                    <a:pt x="43" y="138"/>
                  </a:lnTo>
                  <a:lnTo>
                    <a:pt x="50" y="127"/>
                  </a:lnTo>
                  <a:lnTo>
                    <a:pt x="58" y="115"/>
                  </a:lnTo>
                  <a:lnTo>
                    <a:pt x="76" y="9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111" y="61"/>
                  </a:lnTo>
                  <a:lnTo>
                    <a:pt x="111" y="61"/>
                  </a:lnTo>
                  <a:lnTo>
                    <a:pt x="128" y="34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5" y="3"/>
                  </a:lnTo>
                  <a:lnTo>
                    <a:pt x="143" y="2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8" y="5"/>
                  </a:lnTo>
                  <a:lnTo>
                    <a:pt x="119" y="10"/>
                  </a:lnTo>
                  <a:lnTo>
                    <a:pt x="110" y="19"/>
                  </a:lnTo>
                  <a:lnTo>
                    <a:pt x="87" y="38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44" y="106"/>
                  </a:lnTo>
                  <a:lnTo>
                    <a:pt x="26" y="150"/>
                  </a:lnTo>
                  <a:lnTo>
                    <a:pt x="11" y="195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5" y="264"/>
                  </a:lnTo>
                  <a:lnTo>
                    <a:pt x="11" y="287"/>
                  </a:lnTo>
                  <a:lnTo>
                    <a:pt x="20" y="311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5" y="291"/>
                  </a:lnTo>
                  <a:lnTo>
                    <a:pt x="43" y="250"/>
                  </a:lnTo>
                  <a:lnTo>
                    <a:pt x="43" y="25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1176"/>
            <p:cNvSpPr/>
            <p:nvPr/>
          </p:nvSpPr>
          <p:spPr>
            <a:xfrm rot="642600">
              <a:off x="8478720" y="1606320"/>
              <a:ext cx="24840" cy="309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9" y="0"/>
                  </a:moveTo>
                  <a:lnTo>
                    <a:pt x="19" y="0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1177"/>
            <p:cNvSpPr/>
            <p:nvPr/>
          </p:nvSpPr>
          <p:spPr>
            <a:xfrm rot="642600">
              <a:off x="8074440" y="1606680"/>
              <a:ext cx="307440" cy="703440"/>
            </a:xfrm>
            <a:custGeom>
              <a:avLst/>
              <a:gdLst/>
              <a:ahLst/>
              <a:rect l="l" t="t" r="r" b="b"/>
              <a:pathLst>
                <a:path w="234" h="521">
                  <a:moveTo>
                    <a:pt x="68" y="198"/>
                  </a:moveTo>
                  <a:lnTo>
                    <a:pt x="68" y="198"/>
                  </a:lnTo>
                  <a:lnTo>
                    <a:pt x="47" y="241"/>
                  </a:lnTo>
                  <a:lnTo>
                    <a:pt x="38" y="262"/>
                  </a:lnTo>
                  <a:lnTo>
                    <a:pt x="29" y="285"/>
                  </a:lnTo>
                  <a:lnTo>
                    <a:pt x="19" y="310"/>
                  </a:lnTo>
                  <a:lnTo>
                    <a:pt x="12" y="335"/>
                  </a:lnTo>
                  <a:lnTo>
                    <a:pt x="6" y="360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0" y="389"/>
                  </a:lnTo>
                  <a:lnTo>
                    <a:pt x="6" y="412"/>
                  </a:lnTo>
                  <a:lnTo>
                    <a:pt x="15" y="433"/>
                  </a:lnTo>
                  <a:lnTo>
                    <a:pt x="27" y="453"/>
                  </a:lnTo>
                  <a:lnTo>
                    <a:pt x="39" y="471"/>
                  </a:lnTo>
                  <a:lnTo>
                    <a:pt x="54" y="486"/>
                  </a:lnTo>
                  <a:lnTo>
                    <a:pt x="71" y="502"/>
                  </a:lnTo>
                  <a:lnTo>
                    <a:pt x="90" y="512"/>
                  </a:lnTo>
                  <a:lnTo>
                    <a:pt x="109" y="521"/>
                  </a:lnTo>
                  <a:lnTo>
                    <a:pt x="109" y="521"/>
                  </a:lnTo>
                  <a:lnTo>
                    <a:pt x="103" y="480"/>
                  </a:lnTo>
                  <a:lnTo>
                    <a:pt x="100" y="457"/>
                  </a:lnTo>
                  <a:lnTo>
                    <a:pt x="99" y="431"/>
                  </a:lnTo>
                  <a:lnTo>
                    <a:pt x="99" y="431"/>
                  </a:lnTo>
                  <a:lnTo>
                    <a:pt x="88" y="419"/>
                  </a:lnTo>
                  <a:lnTo>
                    <a:pt x="77" y="406"/>
                  </a:lnTo>
                  <a:lnTo>
                    <a:pt x="71" y="389"/>
                  </a:lnTo>
                  <a:lnTo>
                    <a:pt x="67" y="372"/>
                  </a:lnTo>
                  <a:lnTo>
                    <a:pt x="67" y="372"/>
                  </a:lnTo>
                  <a:lnTo>
                    <a:pt x="64" y="352"/>
                  </a:lnTo>
                  <a:lnTo>
                    <a:pt x="64" y="332"/>
                  </a:lnTo>
                  <a:lnTo>
                    <a:pt x="67" y="316"/>
                  </a:lnTo>
                  <a:lnTo>
                    <a:pt x="71" y="299"/>
                  </a:lnTo>
                  <a:lnTo>
                    <a:pt x="77" y="284"/>
                  </a:lnTo>
                  <a:lnTo>
                    <a:pt x="86" y="268"/>
                  </a:lnTo>
                  <a:lnTo>
                    <a:pt x="99" y="256"/>
                  </a:lnTo>
                  <a:lnTo>
                    <a:pt x="111" y="244"/>
                  </a:lnTo>
                  <a:lnTo>
                    <a:pt x="111" y="244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32" y="211"/>
                  </a:lnTo>
                  <a:lnTo>
                    <a:pt x="143" y="185"/>
                  </a:lnTo>
                  <a:lnTo>
                    <a:pt x="154" y="157"/>
                  </a:lnTo>
                  <a:lnTo>
                    <a:pt x="166" y="131"/>
                  </a:lnTo>
                  <a:lnTo>
                    <a:pt x="181" y="104"/>
                  </a:lnTo>
                  <a:lnTo>
                    <a:pt x="196" y="76"/>
                  </a:lnTo>
                  <a:lnTo>
                    <a:pt x="214" y="49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05" y="25"/>
                  </a:lnTo>
                  <a:lnTo>
                    <a:pt x="172" y="58"/>
                  </a:lnTo>
                  <a:lnTo>
                    <a:pt x="155" y="76"/>
                  </a:lnTo>
                  <a:lnTo>
                    <a:pt x="137" y="98"/>
                  </a:lnTo>
                  <a:lnTo>
                    <a:pt x="120" y="121"/>
                  </a:lnTo>
                  <a:lnTo>
                    <a:pt x="102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100" y="159"/>
                  </a:lnTo>
                  <a:lnTo>
                    <a:pt x="97" y="165"/>
                  </a:lnTo>
                  <a:lnTo>
                    <a:pt x="93" y="171"/>
                  </a:lnTo>
                  <a:lnTo>
                    <a:pt x="82" y="185"/>
                  </a:lnTo>
                  <a:lnTo>
                    <a:pt x="68" y="198"/>
                  </a:lnTo>
                  <a:lnTo>
                    <a:pt x="68" y="198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1178"/>
            <p:cNvSpPr/>
            <p:nvPr/>
          </p:nvSpPr>
          <p:spPr>
            <a:xfrm rot="642600">
              <a:off x="7990200" y="2221920"/>
              <a:ext cx="185400" cy="171360"/>
            </a:xfrm>
            <a:custGeom>
              <a:avLst/>
              <a:gdLst/>
              <a:ahLst/>
              <a:rect l="l" t="t" r="r" b="b"/>
              <a:pathLst>
                <a:path w="141" h="127">
                  <a:moveTo>
                    <a:pt x="2" y="0"/>
                  </a:moveTo>
                  <a:lnTo>
                    <a:pt x="2" y="0"/>
                  </a:lnTo>
                  <a:lnTo>
                    <a:pt x="0" y="31"/>
                  </a:lnTo>
                  <a:lnTo>
                    <a:pt x="0" y="61"/>
                  </a:lnTo>
                  <a:lnTo>
                    <a:pt x="2" y="93"/>
                  </a:lnTo>
                  <a:lnTo>
                    <a:pt x="5" y="127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39" y="114"/>
                  </a:lnTo>
                  <a:lnTo>
                    <a:pt x="139" y="114"/>
                  </a:lnTo>
                  <a:lnTo>
                    <a:pt x="122" y="110"/>
                  </a:lnTo>
                  <a:lnTo>
                    <a:pt x="107" y="105"/>
                  </a:lnTo>
                  <a:lnTo>
                    <a:pt x="92" y="98"/>
                  </a:lnTo>
                  <a:lnTo>
                    <a:pt x="78" y="90"/>
                  </a:lnTo>
                  <a:lnTo>
                    <a:pt x="64" y="81"/>
                  </a:lnTo>
                  <a:lnTo>
                    <a:pt x="51" y="70"/>
                  </a:lnTo>
                  <a:lnTo>
                    <a:pt x="39" y="5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1179"/>
            <p:cNvSpPr/>
            <p:nvPr/>
          </p:nvSpPr>
          <p:spPr>
            <a:xfrm rot="642600">
              <a:off x="8187120" y="1796760"/>
              <a:ext cx="44640" cy="712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0"/>
                  </a:moveTo>
                  <a:lnTo>
                    <a:pt x="34" y="0"/>
                  </a:lnTo>
                  <a:lnTo>
                    <a:pt x="17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4" y="40"/>
                  </a:lnTo>
                  <a:lnTo>
                    <a:pt x="25" y="26"/>
                  </a:lnTo>
                  <a:lnTo>
                    <a:pt x="29" y="20"/>
                  </a:lnTo>
                  <a:lnTo>
                    <a:pt x="32" y="14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1180"/>
            <p:cNvSpPr/>
            <p:nvPr/>
          </p:nvSpPr>
          <p:spPr>
            <a:xfrm rot="642600">
              <a:off x="8443440" y="1620000"/>
              <a:ext cx="31320" cy="5112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3" y="9"/>
                  </a:moveTo>
                  <a:lnTo>
                    <a:pt x="23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" y="38"/>
                  </a:lnTo>
                  <a:lnTo>
                    <a:pt x="1" y="38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181"/>
            <p:cNvSpPr/>
            <p:nvPr/>
          </p:nvSpPr>
          <p:spPr>
            <a:xfrm rot="642600">
              <a:off x="8004960" y="2109240"/>
              <a:ext cx="180000" cy="26712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1" y="2"/>
                  </a:moveTo>
                  <a:lnTo>
                    <a:pt x="11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4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2" y="105"/>
                  </a:lnTo>
                  <a:lnTo>
                    <a:pt x="26" y="127"/>
                  </a:lnTo>
                  <a:lnTo>
                    <a:pt x="26" y="127"/>
                  </a:lnTo>
                  <a:lnTo>
                    <a:pt x="37" y="140"/>
                  </a:lnTo>
                  <a:lnTo>
                    <a:pt x="49" y="154"/>
                  </a:lnTo>
                  <a:lnTo>
                    <a:pt x="62" y="165"/>
                  </a:lnTo>
                  <a:lnTo>
                    <a:pt x="76" y="174"/>
                  </a:lnTo>
                  <a:lnTo>
                    <a:pt x="90" y="182"/>
                  </a:lnTo>
                  <a:lnTo>
                    <a:pt x="105" y="189"/>
                  </a:lnTo>
                  <a:lnTo>
                    <a:pt x="120" y="194"/>
                  </a:lnTo>
                  <a:lnTo>
                    <a:pt x="137" y="198"/>
                  </a:lnTo>
                  <a:lnTo>
                    <a:pt x="137" y="198"/>
                  </a:lnTo>
                  <a:lnTo>
                    <a:pt x="129" y="174"/>
                  </a:lnTo>
                  <a:lnTo>
                    <a:pt x="125" y="157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01" y="125"/>
                  </a:lnTo>
                  <a:lnTo>
                    <a:pt x="82" y="115"/>
                  </a:lnTo>
                  <a:lnTo>
                    <a:pt x="65" y="99"/>
                  </a:lnTo>
                  <a:lnTo>
                    <a:pt x="50" y="84"/>
                  </a:lnTo>
                  <a:lnTo>
                    <a:pt x="38" y="66"/>
                  </a:lnTo>
                  <a:lnTo>
                    <a:pt x="26" y="46"/>
                  </a:lnTo>
                  <a:lnTo>
                    <a:pt x="17" y="25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182"/>
            <p:cNvSpPr/>
            <p:nvPr/>
          </p:nvSpPr>
          <p:spPr>
            <a:xfrm rot="642600">
              <a:off x="8141040" y="1918080"/>
              <a:ext cx="79920" cy="263160"/>
            </a:xfrm>
            <a:custGeom>
              <a:avLst/>
              <a:gdLst/>
              <a:ahLst/>
              <a:rect l="l" t="t" r="r" b="b"/>
              <a:pathLst>
                <a:path w="61" h="195">
                  <a:moveTo>
                    <a:pt x="3" y="136"/>
                  </a:moveTo>
                  <a:lnTo>
                    <a:pt x="3" y="136"/>
                  </a:lnTo>
                  <a:lnTo>
                    <a:pt x="7" y="153"/>
                  </a:lnTo>
                  <a:lnTo>
                    <a:pt x="13" y="170"/>
                  </a:lnTo>
                  <a:lnTo>
                    <a:pt x="24" y="183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5" y="151"/>
                  </a:lnTo>
                  <a:lnTo>
                    <a:pt x="36" y="128"/>
                  </a:lnTo>
                  <a:lnTo>
                    <a:pt x="39" y="104"/>
                  </a:lnTo>
                  <a:lnTo>
                    <a:pt x="42" y="80"/>
                  </a:lnTo>
                  <a:lnTo>
                    <a:pt x="47" y="54"/>
                  </a:lnTo>
                  <a:lnTo>
                    <a:pt x="53" y="28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35" y="20"/>
                  </a:lnTo>
                  <a:lnTo>
                    <a:pt x="22" y="32"/>
                  </a:lnTo>
                  <a:lnTo>
                    <a:pt x="13" y="48"/>
                  </a:lnTo>
                  <a:lnTo>
                    <a:pt x="7" y="63"/>
                  </a:lnTo>
                  <a:lnTo>
                    <a:pt x="3" y="80"/>
                  </a:lnTo>
                  <a:lnTo>
                    <a:pt x="0" y="96"/>
                  </a:lnTo>
                  <a:lnTo>
                    <a:pt x="0" y="116"/>
                  </a:lnTo>
                  <a:lnTo>
                    <a:pt x="3" y="136"/>
                  </a:lnTo>
                  <a:lnTo>
                    <a:pt x="3" y="136"/>
                  </a:lnTo>
                  <a:close/>
                </a:path>
              </a:pathLst>
            </a:custGeom>
            <a:solidFill>
              <a:srgbClr val="ff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183"/>
            <p:cNvSpPr/>
            <p:nvPr/>
          </p:nvSpPr>
          <p:spPr>
            <a:xfrm rot="642600">
              <a:off x="8665920" y="1882080"/>
              <a:ext cx="127440" cy="437400"/>
            </a:xfrm>
            <a:custGeom>
              <a:avLst/>
              <a:gdLst/>
              <a:ahLst/>
              <a:rect l="l" t="t" r="r" b="b"/>
              <a:pathLst>
                <a:path w="97" h="324">
                  <a:moveTo>
                    <a:pt x="41" y="183"/>
                  </a:moveTo>
                  <a:lnTo>
                    <a:pt x="41" y="183"/>
                  </a:lnTo>
                  <a:lnTo>
                    <a:pt x="41" y="183"/>
                  </a:lnTo>
                  <a:lnTo>
                    <a:pt x="41" y="183"/>
                  </a:lnTo>
                  <a:lnTo>
                    <a:pt x="35" y="161"/>
                  </a:lnTo>
                  <a:lnTo>
                    <a:pt x="32" y="142"/>
                  </a:lnTo>
                  <a:lnTo>
                    <a:pt x="32" y="120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36" y="90"/>
                  </a:lnTo>
                  <a:lnTo>
                    <a:pt x="41" y="81"/>
                  </a:lnTo>
                  <a:lnTo>
                    <a:pt x="45" y="71"/>
                  </a:lnTo>
                  <a:lnTo>
                    <a:pt x="52" y="62"/>
                  </a:lnTo>
                  <a:lnTo>
                    <a:pt x="67" y="46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35" y="39"/>
                  </a:lnTo>
                  <a:lnTo>
                    <a:pt x="18" y="61"/>
                  </a:lnTo>
                  <a:lnTo>
                    <a:pt x="18" y="61"/>
                  </a:lnTo>
                  <a:lnTo>
                    <a:pt x="12" y="74"/>
                  </a:lnTo>
                  <a:lnTo>
                    <a:pt x="7" y="88"/>
                  </a:lnTo>
                  <a:lnTo>
                    <a:pt x="4" y="102"/>
                  </a:lnTo>
                  <a:lnTo>
                    <a:pt x="1" y="117"/>
                  </a:lnTo>
                  <a:lnTo>
                    <a:pt x="0" y="131"/>
                  </a:lnTo>
                  <a:lnTo>
                    <a:pt x="0" y="146"/>
                  </a:lnTo>
                  <a:lnTo>
                    <a:pt x="1" y="160"/>
                  </a:lnTo>
                  <a:lnTo>
                    <a:pt x="3" y="175"/>
                  </a:lnTo>
                  <a:lnTo>
                    <a:pt x="6" y="190"/>
                  </a:lnTo>
                  <a:lnTo>
                    <a:pt x="9" y="206"/>
                  </a:lnTo>
                  <a:lnTo>
                    <a:pt x="15" y="221"/>
                  </a:lnTo>
                  <a:lnTo>
                    <a:pt x="21" y="236"/>
                  </a:lnTo>
                  <a:lnTo>
                    <a:pt x="27" y="251"/>
                  </a:lnTo>
                  <a:lnTo>
                    <a:pt x="36" y="266"/>
                  </a:lnTo>
                  <a:lnTo>
                    <a:pt x="56" y="297"/>
                  </a:lnTo>
                  <a:lnTo>
                    <a:pt x="56" y="297"/>
                  </a:lnTo>
                  <a:lnTo>
                    <a:pt x="67" y="312"/>
                  </a:lnTo>
                  <a:lnTo>
                    <a:pt x="80" y="324"/>
                  </a:lnTo>
                  <a:lnTo>
                    <a:pt x="80" y="324"/>
                  </a:lnTo>
                  <a:lnTo>
                    <a:pt x="97" y="277"/>
                  </a:lnTo>
                  <a:lnTo>
                    <a:pt x="97" y="277"/>
                  </a:lnTo>
                  <a:lnTo>
                    <a:pt x="87" y="268"/>
                  </a:lnTo>
                  <a:lnTo>
                    <a:pt x="77" y="257"/>
                  </a:lnTo>
                  <a:lnTo>
                    <a:pt x="70" y="247"/>
                  </a:lnTo>
                  <a:lnTo>
                    <a:pt x="62" y="236"/>
                  </a:lnTo>
                  <a:lnTo>
                    <a:pt x="56" y="224"/>
                  </a:lnTo>
                  <a:lnTo>
                    <a:pt x="50" y="210"/>
                  </a:lnTo>
                  <a:lnTo>
                    <a:pt x="45" y="196"/>
                  </a:lnTo>
                  <a:lnTo>
                    <a:pt x="41" y="183"/>
                  </a:lnTo>
                  <a:lnTo>
                    <a:pt x="41" y="183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184"/>
            <p:cNvSpPr/>
            <p:nvPr/>
          </p:nvSpPr>
          <p:spPr>
            <a:xfrm rot="642600">
              <a:off x="8798400" y="2032560"/>
              <a:ext cx="28800" cy="140400"/>
            </a:xfrm>
            <a:custGeom>
              <a:avLst/>
              <a:gdLst/>
              <a:ahLst/>
              <a:rect l="l" t="t" r="r" b="b"/>
              <a:pathLst>
                <a:path w="22" h="104">
                  <a:moveTo>
                    <a:pt x="6" y="0"/>
                  </a:moveTo>
                  <a:lnTo>
                    <a:pt x="6" y="0"/>
                  </a:lnTo>
                  <a:lnTo>
                    <a:pt x="2" y="16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5" y="78"/>
                  </a:lnTo>
                  <a:lnTo>
                    <a:pt x="8" y="87"/>
                  </a:lnTo>
                  <a:lnTo>
                    <a:pt x="11" y="95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16" y="3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185"/>
            <p:cNvSpPr/>
            <p:nvPr/>
          </p:nvSpPr>
          <p:spPr>
            <a:xfrm rot="642600">
              <a:off x="8433360" y="2604240"/>
              <a:ext cx="56520" cy="5940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37"/>
                  </a:moveTo>
                  <a:lnTo>
                    <a:pt x="5" y="3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2" y="2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2" y="26"/>
                  </a:lnTo>
                  <a:lnTo>
                    <a:pt x="5" y="37"/>
                  </a:lnTo>
                  <a:lnTo>
                    <a:pt x="5" y="37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186"/>
            <p:cNvSpPr/>
            <p:nvPr/>
          </p:nvSpPr>
          <p:spPr>
            <a:xfrm rot="642600">
              <a:off x="8294400" y="2446920"/>
              <a:ext cx="299520" cy="321120"/>
            </a:xfrm>
            <a:custGeom>
              <a:avLst/>
              <a:gdLst/>
              <a:ahLst/>
              <a:rect l="l" t="t" r="r" b="b"/>
              <a:pathLst>
                <a:path w="228" h="238">
                  <a:moveTo>
                    <a:pt x="71" y="99"/>
                  </a:moveTo>
                  <a:lnTo>
                    <a:pt x="71" y="99"/>
                  </a:lnTo>
                  <a:lnTo>
                    <a:pt x="85" y="84"/>
                  </a:lnTo>
                  <a:lnTo>
                    <a:pt x="99" y="71"/>
                  </a:lnTo>
                  <a:lnTo>
                    <a:pt x="114" y="61"/>
                  </a:lnTo>
                  <a:lnTo>
                    <a:pt x="131" y="52"/>
                  </a:lnTo>
                  <a:lnTo>
                    <a:pt x="149" y="46"/>
                  </a:lnTo>
                  <a:lnTo>
                    <a:pt x="169" y="39"/>
                  </a:lnTo>
                  <a:lnTo>
                    <a:pt x="187" y="38"/>
                  </a:lnTo>
                  <a:lnTo>
                    <a:pt x="208" y="36"/>
                  </a:lnTo>
                  <a:lnTo>
                    <a:pt x="208" y="36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82" y="0"/>
                  </a:lnTo>
                  <a:lnTo>
                    <a:pt x="158" y="1"/>
                  </a:lnTo>
                  <a:lnTo>
                    <a:pt x="132" y="6"/>
                  </a:lnTo>
                  <a:lnTo>
                    <a:pt x="132" y="6"/>
                  </a:lnTo>
                  <a:lnTo>
                    <a:pt x="118" y="9"/>
                  </a:lnTo>
                  <a:lnTo>
                    <a:pt x="106" y="12"/>
                  </a:lnTo>
                  <a:lnTo>
                    <a:pt x="94" y="17"/>
                  </a:lnTo>
                  <a:lnTo>
                    <a:pt x="83" y="23"/>
                  </a:lnTo>
                  <a:lnTo>
                    <a:pt x="73" y="29"/>
                  </a:lnTo>
                  <a:lnTo>
                    <a:pt x="62" y="36"/>
                  </a:lnTo>
                  <a:lnTo>
                    <a:pt x="53" y="44"/>
                  </a:lnTo>
                  <a:lnTo>
                    <a:pt x="44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1" y="85"/>
                  </a:lnTo>
                  <a:lnTo>
                    <a:pt x="16" y="97"/>
                  </a:lnTo>
                  <a:lnTo>
                    <a:pt x="10" y="110"/>
                  </a:lnTo>
                  <a:lnTo>
                    <a:pt x="7" y="122"/>
                  </a:lnTo>
                  <a:lnTo>
                    <a:pt x="4" y="135"/>
                  </a:lnTo>
                  <a:lnTo>
                    <a:pt x="1" y="149"/>
                  </a:lnTo>
                  <a:lnTo>
                    <a:pt x="1" y="149"/>
                  </a:lnTo>
                  <a:lnTo>
                    <a:pt x="0" y="172"/>
                  </a:lnTo>
                  <a:lnTo>
                    <a:pt x="1" y="195"/>
                  </a:lnTo>
                  <a:lnTo>
                    <a:pt x="4" y="216"/>
                  </a:lnTo>
                  <a:lnTo>
                    <a:pt x="9" y="238"/>
                  </a:lnTo>
                  <a:lnTo>
                    <a:pt x="9" y="238"/>
                  </a:lnTo>
                  <a:lnTo>
                    <a:pt x="42" y="216"/>
                  </a:lnTo>
                  <a:lnTo>
                    <a:pt x="42" y="216"/>
                  </a:lnTo>
                  <a:lnTo>
                    <a:pt x="41" y="203"/>
                  </a:lnTo>
                  <a:lnTo>
                    <a:pt x="39" y="187"/>
                  </a:lnTo>
                  <a:lnTo>
                    <a:pt x="41" y="174"/>
                  </a:lnTo>
                  <a:lnTo>
                    <a:pt x="44" y="158"/>
                  </a:lnTo>
                  <a:lnTo>
                    <a:pt x="48" y="143"/>
                  </a:lnTo>
                  <a:lnTo>
                    <a:pt x="54" y="128"/>
                  </a:lnTo>
                  <a:lnTo>
                    <a:pt x="62" y="114"/>
                  </a:lnTo>
                  <a:lnTo>
                    <a:pt x="71" y="99"/>
                  </a:lnTo>
                  <a:lnTo>
                    <a:pt x="71" y="99"/>
                  </a:lnTo>
                  <a:close/>
                </a:path>
              </a:pathLst>
            </a:custGeom>
            <a:solidFill>
              <a:srgbClr val="ffcc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187"/>
            <p:cNvSpPr/>
            <p:nvPr/>
          </p:nvSpPr>
          <p:spPr>
            <a:xfrm rot="642600">
              <a:off x="8219520" y="2735280"/>
              <a:ext cx="69480" cy="33480"/>
            </a:xfrm>
            <a:custGeom>
              <a:avLst/>
              <a:gdLst/>
              <a:ahLst/>
              <a:rect l="l" t="t" r="r" b="b"/>
              <a:pathLst>
                <a:path w="53" h="25">
                  <a:moveTo>
                    <a:pt x="0" y="24"/>
                  </a:moveTo>
                  <a:lnTo>
                    <a:pt x="0" y="24"/>
                  </a:lnTo>
                  <a:lnTo>
                    <a:pt x="27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49" y="1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3" y="12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188"/>
            <p:cNvSpPr/>
            <p:nvPr/>
          </p:nvSpPr>
          <p:spPr>
            <a:xfrm rot="642600">
              <a:off x="8498160" y="2520720"/>
              <a:ext cx="211680" cy="1630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51" y="26"/>
                  </a:moveTo>
                  <a:lnTo>
                    <a:pt x="151" y="26"/>
                  </a:lnTo>
                  <a:lnTo>
                    <a:pt x="137" y="20"/>
                  </a:lnTo>
                  <a:lnTo>
                    <a:pt x="122" y="14"/>
                  </a:lnTo>
                  <a:lnTo>
                    <a:pt x="107" y="11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73" y="5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29" y="4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26" y="69"/>
                  </a:lnTo>
                  <a:lnTo>
                    <a:pt x="36" y="67"/>
                  </a:lnTo>
                  <a:lnTo>
                    <a:pt x="46" y="66"/>
                  </a:lnTo>
                  <a:lnTo>
                    <a:pt x="56" y="66"/>
                  </a:lnTo>
                  <a:lnTo>
                    <a:pt x="67" y="67"/>
                  </a:lnTo>
                  <a:lnTo>
                    <a:pt x="78" y="69"/>
                  </a:lnTo>
                  <a:lnTo>
                    <a:pt x="78" y="69"/>
                  </a:lnTo>
                  <a:lnTo>
                    <a:pt x="99" y="78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07" y="106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114" y="95"/>
                  </a:lnTo>
                  <a:lnTo>
                    <a:pt x="132" y="66"/>
                  </a:lnTo>
                  <a:lnTo>
                    <a:pt x="148" y="3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1" y="26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1189"/>
            <p:cNvSpPr/>
            <p:nvPr/>
          </p:nvSpPr>
          <p:spPr>
            <a:xfrm rot="642600">
              <a:off x="8632440" y="2320560"/>
              <a:ext cx="145800" cy="211680"/>
            </a:xfrm>
            <a:custGeom>
              <a:avLst/>
              <a:gdLst/>
              <a:ahLst/>
              <a:rect l="l" t="t" r="r" b="b"/>
              <a:pathLst>
                <a:path w="111" h="157">
                  <a:moveTo>
                    <a:pt x="85" y="157"/>
                  </a:moveTo>
                  <a:lnTo>
                    <a:pt x="85" y="157"/>
                  </a:lnTo>
                  <a:lnTo>
                    <a:pt x="93" y="138"/>
                  </a:lnTo>
                  <a:lnTo>
                    <a:pt x="98" y="116"/>
                  </a:lnTo>
                  <a:lnTo>
                    <a:pt x="102" y="93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11" y="31"/>
                  </a:lnTo>
                  <a:lnTo>
                    <a:pt x="111" y="31"/>
                  </a:lnTo>
                  <a:lnTo>
                    <a:pt x="98" y="25"/>
                  </a:lnTo>
                  <a:lnTo>
                    <a:pt x="84" y="19"/>
                  </a:lnTo>
                  <a:lnTo>
                    <a:pt x="72" y="1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32"/>
                  </a:lnTo>
                  <a:lnTo>
                    <a:pt x="34" y="63"/>
                  </a:lnTo>
                  <a:lnTo>
                    <a:pt x="18" y="9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4" y="133"/>
                  </a:lnTo>
                  <a:lnTo>
                    <a:pt x="46" y="139"/>
                  </a:lnTo>
                  <a:lnTo>
                    <a:pt x="67" y="148"/>
                  </a:lnTo>
                  <a:lnTo>
                    <a:pt x="85" y="157"/>
                  </a:lnTo>
                  <a:lnTo>
                    <a:pt x="85" y="157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1190"/>
            <p:cNvSpPr/>
            <p:nvPr/>
          </p:nvSpPr>
          <p:spPr>
            <a:xfrm rot="642600">
              <a:off x="8327880" y="2650320"/>
              <a:ext cx="107640" cy="13752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67" y="0"/>
                  </a:moveTo>
                  <a:lnTo>
                    <a:pt x="67" y="0"/>
                  </a:lnTo>
                  <a:lnTo>
                    <a:pt x="35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69"/>
                  </a:lnTo>
                  <a:lnTo>
                    <a:pt x="6" y="81"/>
                  </a:lnTo>
                  <a:lnTo>
                    <a:pt x="9" y="92"/>
                  </a:lnTo>
                  <a:lnTo>
                    <a:pt x="15" y="102"/>
                  </a:lnTo>
                  <a:lnTo>
                    <a:pt x="15" y="102"/>
                  </a:lnTo>
                  <a:lnTo>
                    <a:pt x="32" y="99"/>
                  </a:lnTo>
                  <a:lnTo>
                    <a:pt x="49" y="95"/>
                  </a:lnTo>
                  <a:lnTo>
                    <a:pt x="66" y="90"/>
                  </a:lnTo>
                  <a:lnTo>
                    <a:pt x="82" y="84"/>
                  </a:lnTo>
                  <a:lnTo>
                    <a:pt x="82" y="84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0" y="77"/>
                  </a:lnTo>
                  <a:lnTo>
                    <a:pt x="64" y="66"/>
                  </a:lnTo>
                  <a:lnTo>
                    <a:pt x="61" y="55"/>
                  </a:lnTo>
                  <a:lnTo>
                    <a:pt x="60" y="45"/>
                  </a:lnTo>
                  <a:lnTo>
                    <a:pt x="58" y="34"/>
                  </a:lnTo>
                  <a:lnTo>
                    <a:pt x="60" y="23"/>
                  </a:lnTo>
                  <a:lnTo>
                    <a:pt x="63" y="13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1191"/>
            <p:cNvSpPr/>
            <p:nvPr/>
          </p:nvSpPr>
          <p:spPr>
            <a:xfrm rot="642600">
              <a:off x="8448840" y="2658960"/>
              <a:ext cx="149760" cy="118800"/>
            </a:xfrm>
            <a:custGeom>
              <a:avLst/>
              <a:gdLst/>
              <a:ahLst/>
              <a:rect l="l" t="t" r="r" b="b"/>
              <a:pathLst>
                <a:path w="114" h="88">
                  <a:moveTo>
                    <a:pt x="43" y="3"/>
                  </a:moveTo>
                  <a:lnTo>
                    <a:pt x="43" y="3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9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2" y="88"/>
                  </a:lnTo>
                  <a:lnTo>
                    <a:pt x="12" y="88"/>
                  </a:lnTo>
                  <a:lnTo>
                    <a:pt x="40" y="73"/>
                  </a:lnTo>
                  <a:lnTo>
                    <a:pt x="66" y="54"/>
                  </a:lnTo>
                  <a:lnTo>
                    <a:pt x="91" y="33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98" y="3"/>
                  </a:lnTo>
                  <a:lnTo>
                    <a:pt x="79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1192"/>
            <p:cNvSpPr/>
            <p:nvPr/>
          </p:nvSpPr>
          <p:spPr>
            <a:xfrm rot="642600">
              <a:off x="8768880" y="2171520"/>
              <a:ext cx="48600" cy="132120"/>
            </a:xfrm>
            <a:custGeom>
              <a:avLst/>
              <a:gdLst/>
              <a:ahLst/>
              <a:rect l="l" t="t" r="r" b="b"/>
              <a:pathLst>
                <a:path w="37" h="98">
                  <a:moveTo>
                    <a:pt x="32" y="15"/>
                  </a:moveTo>
                  <a:lnTo>
                    <a:pt x="32" y="15"/>
                  </a:lnTo>
                  <a:lnTo>
                    <a:pt x="25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34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7" y="87"/>
                  </a:lnTo>
                  <a:lnTo>
                    <a:pt x="37" y="98"/>
                  </a:lnTo>
                  <a:lnTo>
                    <a:pt x="37" y="98"/>
                  </a:lnTo>
                  <a:lnTo>
                    <a:pt x="35" y="56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c4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1193"/>
            <p:cNvSpPr/>
            <p:nvPr/>
          </p:nvSpPr>
          <p:spPr>
            <a:xfrm rot="642600">
              <a:off x="8731080" y="2266560"/>
              <a:ext cx="70920" cy="10512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52" y="72"/>
                  </a:moveTo>
                  <a:lnTo>
                    <a:pt x="52" y="72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44"/>
                  </a:lnTo>
                  <a:lnTo>
                    <a:pt x="54" y="44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34" y="1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3" y="57"/>
                  </a:lnTo>
                  <a:lnTo>
                    <a:pt x="25" y="66"/>
                  </a:lnTo>
                  <a:lnTo>
                    <a:pt x="39" y="72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52" y="72"/>
                  </a:lnTo>
                  <a:lnTo>
                    <a:pt x="52" y="7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1194"/>
            <p:cNvSpPr/>
            <p:nvPr/>
          </p:nvSpPr>
          <p:spPr>
            <a:xfrm rot="642600">
              <a:off x="8411400" y="2596680"/>
              <a:ext cx="224640" cy="1954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130" y="3"/>
                  </a:moveTo>
                  <a:lnTo>
                    <a:pt x="130" y="3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8" y="3"/>
                  </a:lnTo>
                  <a:lnTo>
                    <a:pt x="69" y="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31" y="38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72"/>
                  </a:lnTo>
                  <a:lnTo>
                    <a:pt x="2" y="82"/>
                  </a:lnTo>
                  <a:lnTo>
                    <a:pt x="0" y="93"/>
                  </a:lnTo>
                  <a:lnTo>
                    <a:pt x="2" y="104"/>
                  </a:lnTo>
                  <a:lnTo>
                    <a:pt x="3" y="114"/>
                  </a:lnTo>
                  <a:lnTo>
                    <a:pt x="6" y="125"/>
                  </a:lnTo>
                  <a:lnTo>
                    <a:pt x="12" y="136"/>
                  </a:lnTo>
                  <a:lnTo>
                    <a:pt x="18" y="145"/>
                  </a:lnTo>
                  <a:lnTo>
                    <a:pt x="18" y="145"/>
                  </a:lnTo>
                  <a:lnTo>
                    <a:pt x="24" y="143"/>
                  </a:lnTo>
                  <a:lnTo>
                    <a:pt x="24" y="143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7" y="137"/>
                  </a:lnTo>
                  <a:lnTo>
                    <a:pt x="37" y="137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3" y="132"/>
                  </a:lnTo>
                  <a:lnTo>
                    <a:pt x="43" y="132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37" y="128"/>
                  </a:lnTo>
                  <a:lnTo>
                    <a:pt x="34" y="123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34" y="99"/>
                  </a:lnTo>
                  <a:lnTo>
                    <a:pt x="37" y="87"/>
                  </a:lnTo>
                  <a:lnTo>
                    <a:pt x="41" y="76"/>
                  </a:lnTo>
                  <a:lnTo>
                    <a:pt x="47" y="67"/>
                  </a:lnTo>
                  <a:lnTo>
                    <a:pt x="53" y="61"/>
                  </a:lnTo>
                  <a:lnTo>
                    <a:pt x="61" y="56"/>
                  </a:lnTo>
                  <a:lnTo>
                    <a:pt x="69" y="52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84" y="47"/>
                  </a:lnTo>
                  <a:lnTo>
                    <a:pt x="93" y="46"/>
                  </a:lnTo>
                  <a:lnTo>
                    <a:pt x="111" y="46"/>
                  </a:lnTo>
                  <a:lnTo>
                    <a:pt x="130" y="49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59" y="40"/>
                  </a:lnTo>
                  <a:lnTo>
                    <a:pt x="171" y="23"/>
                  </a:lnTo>
                  <a:lnTo>
                    <a:pt x="171" y="23"/>
                  </a:lnTo>
                  <a:lnTo>
                    <a:pt x="151" y="12"/>
                  </a:lnTo>
                  <a:lnTo>
                    <a:pt x="130" y="3"/>
                  </a:lnTo>
                  <a:lnTo>
                    <a:pt x="130" y="3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1195"/>
            <p:cNvSpPr/>
            <p:nvPr/>
          </p:nvSpPr>
          <p:spPr>
            <a:xfrm rot="642600">
              <a:off x="8808120" y="2134080"/>
              <a:ext cx="16920" cy="6048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5"/>
                  </a:moveTo>
                  <a:lnTo>
                    <a:pt x="13" y="45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1196"/>
            <p:cNvSpPr/>
            <p:nvPr/>
          </p:nvSpPr>
          <p:spPr>
            <a:xfrm rot="642600">
              <a:off x="8587080" y="2485800"/>
              <a:ext cx="137880" cy="7812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34" y="40"/>
                  </a:moveTo>
                  <a:lnTo>
                    <a:pt x="34" y="40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51" y="43"/>
                  </a:lnTo>
                  <a:lnTo>
                    <a:pt x="66" y="46"/>
                  </a:lnTo>
                  <a:lnTo>
                    <a:pt x="81" y="52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05" y="29"/>
                  </a:lnTo>
                  <a:lnTo>
                    <a:pt x="105" y="29"/>
                  </a:lnTo>
                  <a:lnTo>
                    <a:pt x="87" y="20"/>
                  </a:lnTo>
                  <a:lnTo>
                    <a:pt x="66" y="11"/>
                  </a:lnTo>
                  <a:lnTo>
                    <a:pt x="44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37"/>
                  </a:lnTo>
                  <a:lnTo>
                    <a:pt x="34" y="40"/>
                  </a:lnTo>
                  <a:lnTo>
                    <a:pt x="34" y="40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1197"/>
            <p:cNvSpPr/>
            <p:nvPr/>
          </p:nvSpPr>
          <p:spPr>
            <a:xfrm rot="642600">
              <a:off x="8278200" y="2715840"/>
              <a:ext cx="63000" cy="6336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22"/>
                  </a:moveTo>
                  <a:lnTo>
                    <a:pt x="0" y="22"/>
                  </a:lnTo>
                  <a:lnTo>
                    <a:pt x="6" y="35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2" y="34"/>
                  </a:lnTo>
                  <a:lnTo>
                    <a:pt x="39" y="23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4a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9" name="组合 4226"/>
          <p:cNvGrpSpPr/>
          <p:nvPr/>
        </p:nvGrpSpPr>
        <p:grpSpPr>
          <a:xfrm>
            <a:off x="0" y="5715000"/>
            <a:ext cx="9144000" cy="1143000"/>
            <a:chOff x="0" y="5715000"/>
            <a:chExt cx="9144000" cy="1143000"/>
          </a:xfrm>
        </p:grpSpPr>
        <p:grpSp>
          <p:nvGrpSpPr>
            <p:cNvPr id="640" name="组合 4227"/>
            <p:cNvGrpSpPr/>
            <p:nvPr/>
          </p:nvGrpSpPr>
          <p:grpSpPr>
            <a:xfrm>
              <a:off x="0" y="5715000"/>
              <a:ext cx="3499920" cy="1143000"/>
              <a:chOff x="0" y="5715000"/>
              <a:chExt cx="3499920" cy="1143000"/>
            </a:xfrm>
          </p:grpSpPr>
          <p:sp>
            <p:nvSpPr>
              <p:cNvPr id="641" name="Freeform 37"/>
              <p:cNvSpPr/>
              <p:nvPr/>
            </p:nvSpPr>
            <p:spPr>
              <a:xfrm>
                <a:off x="13608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38"/>
              <p:cNvSpPr/>
              <p:nvPr/>
            </p:nvSpPr>
            <p:spPr>
              <a:xfrm>
                <a:off x="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39"/>
              <p:cNvSpPr/>
              <p:nvPr/>
            </p:nvSpPr>
            <p:spPr>
              <a:xfrm>
                <a:off x="50004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40"/>
              <p:cNvSpPr/>
              <p:nvPr/>
            </p:nvSpPr>
            <p:spPr>
              <a:xfrm>
                <a:off x="217980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41"/>
              <p:cNvSpPr/>
              <p:nvPr/>
            </p:nvSpPr>
            <p:spPr>
              <a:xfrm>
                <a:off x="201168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42"/>
              <p:cNvSpPr/>
              <p:nvPr/>
            </p:nvSpPr>
            <p:spPr>
              <a:xfrm>
                <a:off x="151740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43"/>
              <p:cNvSpPr/>
              <p:nvPr/>
            </p:nvSpPr>
            <p:spPr>
              <a:xfrm>
                <a:off x="256536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44"/>
              <p:cNvSpPr/>
              <p:nvPr/>
            </p:nvSpPr>
            <p:spPr>
              <a:xfrm>
                <a:off x="210348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45"/>
              <p:cNvSpPr/>
              <p:nvPr/>
            </p:nvSpPr>
            <p:spPr>
              <a:xfrm>
                <a:off x="227484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46"/>
              <p:cNvSpPr/>
              <p:nvPr/>
            </p:nvSpPr>
            <p:spPr>
              <a:xfrm>
                <a:off x="171180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47"/>
              <p:cNvSpPr/>
              <p:nvPr/>
            </p:nvSpPr>
            <p:spPr>
              <a:xfrm>
                <a:off x="177444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48"/>
              <p:cNvSpPr/>
              <p:nvPr/>
            </p:nvSpPr>
            <p:spPr>
              <a:xfrm>
                <a:off x="295236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49"/>
              <p:cNvSpPr/>
              <p:nvPr/>
            </p:nvSpPr>
            <p:spPr>
              <a:xfrm>
                <a:off x="322632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50"/>
              <p:cNvSpPr/>
              <p:nvPr/>
            </p:nvSpPr>
            <p:spPr>
              <a:xfrm>
                <a:off x="269064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51"/>
              <p:cNvSpPr/>
              <p:nvPr/>
            </p:nvSpPr>
            <p:spPr>
              <a:xfrm>
                <a:off x="290484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52"/>
              <p:cNvSpPr/>
              <p:nvPr/>
            </p:nvSpPr>
            <p:spPr>
              <a:xfrm>
                <a:off x="342072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53"/>
              <p:cNvSpPr/>
              <p:nvPr/>
            </p:nvSpPr>
            <p:spPr>
              <a:xfrm>
                <a:off x="158940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54"/>
              <p:cNvSpPr/>
              <p:nvPr/>
            </p:nvSpPr>
            <p:spPr>
              <a:xfrm>
                <a:off x="52920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55"/>
              <p:cNvSpPr/>
              <p:nvPr/>
            </p:nvSpPr>
            <p:spPr>
              <a:xfrm>
                <a:off x="336996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56"/>
              <p:cNvSpPr/>
              <p:nvPr/>
            </p:nvSpPr>
            <p:spPr>
              <a:xfrm>
                <a:off x="293544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194256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2" name="组合 4249"/>
            <p:cNvGrpSpPr/>
            <p:nvPr/>
          </p:nvGrpSpPr>
          <p:grpSpPr>
            <a:xfrm>
              <a:off x="3500640" y="5715000"/>
              <a:ext cx="3499920" cy="1143000"/>
              <a:chOff x="3500640" y="5715000"/>
              <a:chExt cx="3499920" cy="1143000"/>
            </a:xfrm>
          </p:grpSpPr>
          <p:sp>
            <p:nvSpPr>
              <p:cNvPr id="663" name="Freeform 37"/>
              <p:cNvSpPr/>
              <p:nvPr/>
            </p:nvSpPr>
            <p:spPr>
              <a:xfrm>
                <a:off x="363672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38"/>
              <p:cNvSpPr/>
              <p:nvPr/>
            </p:nvSpPr>
            <p:spPr>
              <a:xfrm>
                <a:off x="350064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39"/>
              <p:cNvSpPr/>
              <p:nvPr/>
            </p:nvSpPr>
            <p:spPr>
              <a:xfrm>
                <a:off x="400068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40"/>
              <p:cNvSpPr/>
              <p:nvPr/>
            </p:nvSpPr>
            <p:spPr>
              <a:xfrm>
                <a:off x="568044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41"/>
              <p:cNvSpPr/>
              <p:nvPr/>
            </p:nvSpPr>
            <p:spPr>
              <a:xfrm>
                <a:off x="551232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42"/>
              <p:cNvSpPr/>
              <p:nvPr/>
            </p:nvSpPr>
            <p:spPr>
              <a:xfrm>
                <a:off x="501804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43"/>
              <p:cNvSpPr/>
              <p:nvPr/>
            </p:nvSpPr>
            <p:spPr>
              <a:xfrm>
                <a:off x="606600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44"/>
              <p:cNvSpPr/>
              <p:nvPr/>
            </p:nvSpPr>
            <p:spPr>
              <a:xfrm>
                <a:off x="560412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45"/>
              <p:cNvSpPr/>
              <p:nvPr/>
            </p:nvSpPr>
            <p:spPr>
              <a:xfrm>
                <a:off x="577548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46"/>
              <p:cNvSpPr/>
              <p:nvPr/>
            </p:nvSpPr>
            <p:spPr>
              <a:xfrm>
                <a:off x="521244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47"/>
              <p:cNvSpPr/>
              <p:nvPr/>
            </p:nvSpPr>
            <p:spPr>
              <a:xfrm>
                <a:off x="527508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48"/>
              <p:cNvSpPr/>
              <p:nvPr/>
            </p:nvSpPr>
            <p:spPr>
              <a:xfrm>
                <a:off x="645300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49"/>
              <p:cNvSpPr/>
              <p:nvPr/>
            </p:nvSpPr>
            <p:spPr>
              <a:xfrm>
                <a:off x="672696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50"/>
              <p:cNvSpPr/>
              <p:nvPr/>
            </p:nvSpPr>
            <p:spPr>
              <a:xfrm>
                <a:off x="619128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51"/>
              <p:cNvSpPr/>
              <p:nvPr/>
            </p:nvSpPr>
            <p:spPr>
              <a:xfrm>
                <a:off x="640548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52"/>
              <p:cNvSpPr/>
              <p:nvPr/>
            </p:nvSpPr>
            <p:spPr>
              <a:xfrm>
                <a:off x="692136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53"/>
              <p:cNvSpPr/>
              <p:nvPr/>
            </p:nvSpPr>
            <p:spPr>
              <a:xfrm>
                <a:off x="509004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54"/>
              <p:cNvSpPr/>
              <p:nvPr/>
            </p:nvSpPr>
            <p:spPr>
              <a:xfrm>
                <a:off x="402984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55"/>
              <p:cNvSpPr/>
              <p:nvPr/>
            </p:nvSpPr>
            <p:spPr>
              <a:xfrm>
                <a:off x="687060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56"/>
              <p:cNvSpPr/>
              <p:nvPr/>
            </p:nvSpPr>
            <p:spPr>
              <a:xfrm>
                <a:off x="643608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59"/>
              <p:cNvSpPr/>
              <p:nvPr/>
            </p:nvSpPr>
            <p:spPr>
              <a:xfrm>
                <a:off x="544320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4" name="组合 4271"/>
            <p:cNvGrpSpPr/>
            <p:nvPr/>
          </p:nvGrpSpPr>
          <p:grpSpPr>
            <a:xfrm>
              <a:off x="5644080" y="5715000"/>
              <a:ext cx="3499920" cy="1143000"/>
              <a:chOff x="5644080" y="5715000"/>
              <a:chExt cx="3499920" cy="1143000"/>
            </a:xfrm>
          </p:grpSpPr>
          <p:sp>
            <p:nvSpPr>
              <p:cNvPr id="685" name="Freeform 37"/>
              <p:cNvSpPr/>
              <p:nvPr/>
            </p:nvSpPr>
            <p:spPr>
              <a:xfrm>
                <a:off x="5780160" y="6629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38"/>
              <p:cNvSpPr/>
              <p:nvPr/>
            </p:nvSpPr>
            <p:spPr>
              <a:xfrm>
                <a:off x="5644080" y="5814720"/>
                <a:ext cx="540000" cy="1043280"/>
              </a:xfrm>
              <a:custGeom>
                <a:avLst/>
                <a:gdLst/>
                <a:ahLst/>
                <a:rect l="l" t="t" r="r" b="b"/>
                <a:pathLst>
                  <a:path w="706" h="1966">
                    <a:moveTo>
                      <a:pt x="597" y="1738"/>
                    </a:moveTo>
                    <a:lnTo>
                      <a:pt x="597" y="1738"/>
                    </a:lnTo>
                    <a:lnTo>
                      <a:pt x="605" y="1729"/>
                    </a:lnTo>
                    <a:lnTo>
                      <a:pt x="614" y="1720"/>
                    </a:lnTo>
                    <a:lnTo>
                      <a:pt x="622" y="1711"/>
                    </a:lnTo>
                    <a:lnTo>
                      <a:pt x="625" y="1706"/>
                    </a:lnTo>
                    <a:lnTo>
                      <a:pt x="627" y="1701"/>
                    </a:lnTo>
                    <a:lnTo>
                      <a:pt x="627" y="1701"/>
                    </a:lnTo>
                    <a:lnTo>
                      <a:pt x="612" y="1719"/>
                    </a:lnTo>
                    <a:lnTo>
                      <a:pt x="604" y="1726"/>
                    </a:lnTo>
                    <a:lnTo>
                      <a:pt x="596" y="1733"/>
                    </a:lnTo>
                    <a:lnTo>
                      <a:pt x="596" y="1733"/>
                    </a:lnTo>
                    <a:lnTo>
                      <a:pt x="592" y="1722"/>
                    </a:lnTo>
                    <a:lnTo>
                      <a:pt x="588" y="1712"/>
                    </a:lnTo>
                    <a:lnTo>
                      <a:pt x="581" y="1689"/>
                    </a:lnTo>
                    <a:lnTo>
                      <a:pt x="581" y="1689"/>
                    </a:lnTo>
                    <a:lnTo>
                      <a:pt x="577" y="1678"/>
                    </a:lnTo>
                    <a:lnTo>
                      <a:pt x="572" y="1666"/>
                    </a:lnTo>
                    <a:lnTo>
                      <a:pt x="569" y="1655"/>
                    </a:lnTo>
                    <a:lnTo>
                      <a:pt x="568" y="1650"/>
                    </a:lnTo>
                    <a:lnTo>
                      <a:pt x="568" y="1645"/>
                    </a:lnTo>
                    <a:lnTo>
                      <a:pt x="568" y="1645"/>
                    </a:lnTo>
                    <a:lnTo>
                      <a:pt x="570" y="1640"/>
                    </a:lnTo>
                    <a:lnTo>
                      <a:pt x="573" y="1635"/>
                    </a:lnTo>
                    <a:lnTo>
                      <a:pt x="583" y="1623"/>
                    </a:lnTo>
                    <a:lnTo>
                      <a:pt x="594" y="1612"/>
                    </a:lnTo>
                    <a:lnTo>
                      <a:pt x="603" y="1602"/>
                    </a:lnTo>
                    <a:lnTo>
                      <a:pt x="603" y="1602"/>
                    </a:lnTo>
                    <a:lnTo>
                      <a:pt x="657" y="1532"/>
                    </a:lnTo>
                    <a:lnTo>
                      <a:pt x="684" y="1499"/>
                    </a:lnTo>
                    <a:lnTo>
                      <a:pt x="695" y="1482"/>
                    </a:lnTo>
                    <a:lnTo>
                      <a:pt x="706" y="1467"/>
                    </a:lnTo>
                    <a:lnTo>
                      <a:pt x="706" y="1467"/>
                    </a:lnTo>
                    <a:lnTo>
                      <a:pt x="671" y="1507"/>
                    </a:lnTo>
                    <a:lnTo>
                      <a:pt x="636" y="1548"/>
                    </a:lnTo>
                    <a:lnTo>
                      <a:pt x="601" y="1590"/>
                    </a:lnTo>
                    <a:lnTo>
                      <a:pt x="563" y="1631"/>
                    </a:lnTo>
                    <a:lnTo>
                      <a:pt x="563" y="1631"/>
                    </a:lnTo>
                    <a:lnTo>
                      <a:pt x="559" y="1616"/>
                    </a:lnTo>
                    <a:lnTo>
                      <a:pt x="556" y="1608"/>
                    </a:lnTo>
                    <a:lnTo>
                      <a:pt x="554" y="1599"/>
                    </a:lnTo>
                    <a:lnTo>
                      <a:pt x="554" y="1599"/>
                    </a:lnTo>
                    <a:lnTo>
                      <a:pt x="554" y="1598"/>
                    </a:lnTo>
                    <a:lnTo>
                      <a:pt x="555" y="1596"/>
                    </a:lnTo>
                    <a:lnTo>
                      <a:pt x="559" y="1594"/>
                    </a:lnTo>
                    <a:lnTo>
                      <a:pt x="561" y="1591"/>
                    </a:lnTo>
                    <a:lnTo>
                      <a:pt x="562" y="1590"/>
                    </a:lnTo>
                    <a:lnTo>
                      <a:pt x="563" y="1588"/>
                    </a:lnTo>
                    <a:lnTo>
                      <a:pt x="563" y="1588"/>
                    </a:lnTo>
                    <a:lnTo>
                      <a:pt x="560" y="1565"/>
                    </a:lnTo>
                    <a:lnTo>
                      <a:pt x="556" y="1543"/>
                    </a:lnTo>
                    <a:lnTo>
                      <a:pt x="552" y="1521"/>
                    </a:lnTo>
                    <a:lnTo>
                      <a:pt x="547" y="1501"/>
                    </a:lnTo>
                    <a:lnTo>
                      <a:pt x="537" y="1459"/>
                    </a:lnTo>
                    <a:lnTo>
                      <a:pt x="527" y="1415"/>
                    </a:lnTo>
                    <a:lnTo>
                      <a:pt x="527" y="1415"/>
                    </a:lnTo>
                    <a:lnTo>
                      <a:pt x="546" y="1395"/>
                    </a:lnTo>
                    <a:lnTo>
                      <a:pt x="567" y="1375"/>
                    </a:lnTo>
                    <a:lnTo>
                      <a:pt x="586" y="1355"/>
                    </a:lnTo>
                    <a:lnTo>
                      <a:pt x="605" y="1335"/>
                    </a:lnTo>
                    <a:lnTo>
                      <a:pt x="605" y="1335"/>
                    </a:lnTo>
                    <a:lnTo>
                      <a:pt x="594" y="1344"/>
                    </a:lnTo>
                    <a:lnTo>
                      <a:pt x="584" y="1353"/>
                    </a:lnTo>
                    <a:lnTo>
                      <a:pt x="564" y="1372"/>
                    </a:lnTo>
                    <a:lnTo>
                      <a:pt x="545" y="1392"/>
                    </a:lnTo>
                    <a:lnTo>
                      <a:pt x="525" y="1412"/>
                    </a:lnTo>
                    <a:lnTo>
                      <a:pt x="525" y="1412"/>
                    </a:lnTo>
                    <a:lnTo>
                      <a:pt x="516" y="1370"/>
                    </a:lnTo>
                    <a:lnTo>
                      <a:pt x="508" y="1329"/>
                    </a:lnTo>
                    <a:lnTo>
                      <a:pt x="501" y="1288"/>
                    </a:lnTo>
                    <a:lnTo>
                      <a:pt x="495" y="1246"/>
                    </a:lnTo>
                    <a:lnTo>
                      <a:pt x="495" y="1246"/>
                    </a:lnTo>
                    <a:lnTo>
                      <a:pt x="494" y="1238"/>
                    </a:lnTo>
                    <a:lnTo>
                      <a:pt x="494" y="1230"/>
                    </a:lnTo>
                    <a:lnTo>
                      <a:pt x="495" y="1224"/>
                    </a:lnTo>
                    <a:lnTo>
                      <a:pt x="496" y="1216"/>
                    </a:lnTo>
                    <a:lnTo>
                      <a:pt x="501" y="1202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16" y="1153"/>
                    </a:lnTo>
                    <a:lnTo>
                      <a:pt x="527" y="1121"/>
                    </a:lnTo>
                    <a:lnTo>
                      <a:pt x="538" y="1091"/>
                    </a:lnTo>
                    <a:lnTo>
                      <a:pt x="543" y="1075"/>
                    </a:lnTo>
                    <a:lnTo>
                      <a:pt x="547" y="1060"/>
                    </a:lnTo>
                    <a:lnTo>
                      <a:pt x="547" y="1060"/>
                    </a:lnTo>
                    <a:lnTo>
                      <a:pt x="531" y="1098"/>
                    </a:lnTo>
                    <a:lnTo>
                      <a:pt x="517" y="1135"/>
                    </a:lnTo>
                    <a:lnTo>
                      <a:pt x="504" y="1174"/>
                    </a:lnTo>
                    <a:lnTo>
                      <a:pt x="491" y="1213"/>
                    </a:lnTo>
                    <a:lnTo>
                      <a:pt x="491" y="1213"/>
                    </a:lnTo>
                    <a:lnTo>
                      <a:pt x="468" y="1034"/>
                    </a:lnTo>
                    <a:lnTo>
                      <a:pt x="458" y="943"/>
                    </a:lnTo>
                    <a:lnTo>
                      <a:pt x="453" y="898"/>
                    </a:lnTo>
                    <a:lnTo>
                      <a:pt x="450" y="852"/>
                    </a:lnTo>
                    <a:lnTo>
                      <a:pt x="450" y="852"/>
                    </a:lnTo>
                    <a:lnTo>
                      <a:pt x="446" y="797"/>
                    </a:lnTo>
                    <a:lnTo>
                      <a:pt x="444" y="741"/>
                    </a:lnTo>
                    <a:lnTo>
                      <a:pt x="442" y="630"/>
                    </a:lnTo>
                    <a:lnTo>
                      <a:pt x="440" y="519"/>
                    </a:lnTo>
                    <a:lnTo>
                      <a:pt x="437" y="410"/>
                    </a:lnTo>
                    <a:lnTo>
                      <a:pt x="437" y="410"/>
                    </a:lnTo>
                    <a:lnTo>
                      <a:pt x="433" y="475"/>
                    </a:lnTo>
                    <a:lnTo>
                      <a:pt x="430" y="542"/>
                    </a:lnTo>
                    <a:lnTo>
                      <a:pt x="428" y="609"/>
                    </a:lnTo>
                    <a:lnTo>
                      <a:pt x="427" y="676"/>
                    </a:lnTo>
                    <a:lnTo>
                      <a:pt x="428" y="745"/>
                    </a:lnTo>
                    <a:lnTo>
                      <a:pt x="428" y="814"/>
                    </a:lnTo>
                    <a:lnTo>
                      <a:pt x="432" y="952"/>
                    </a:lnTo>
                    <a:lnTo>
                      <a:pt x="432" y="952"/>
                    </a:lnTo>
                    <a:lnTo>
                      <a:pt x="434" y="990"/>
                    </a:lnTo>
                    <a:lnTo>
                      <a:pt x="436" y="1031"/>
                    </a:lnTo>
                    <a:lnTo>
                      <a:pt x="444" y="1119"/>
                    </a:lnTo>
                    <a:lnTo>
                      <a:pt x="462" y="1293"/>
                    </a:lnTo>
                    <a:lnTo>
                      <a:pt x="462" y="1293"/>
                    </a:lnTo>
                    <a:lnTo>
                      <a:pt x="438" y="1219"/>
                    </a:lnTo>
                    <a:lnTo>
                      <a:pt x="416" y="1143"/>
                    </a:lnTo>
                    <a:lnTo>
                      <a:pt x="394" y="1067"/>
                    </a:lnTo>
                    <a:lnTo>
                      <a:pt x="375" y="990"/>
                    </a:lnTo>
                    <a:lnTo>
                      <a:pt x="338" y="834"/>
                    </a:lnTo>
                    <a:lnTo>
                      <a:pt x="302" y="680"/>
                    </a:lnTo>
                    <a:lnTo>
                      <a:pt x="302" y="680"/>
                    </a:lnTo>
                    <a:lnTo>
                      <a:pt x="303" y="678"/>
                    </a:lnTo>
                    <a:lnTo>
                      <a:pt x="306" y="676"/>
                    </a:lnTo>
                    <a:lnTo>
                      <a:pt x="308" y="674"/>
                    </a:lnTo>
                    <a:lnTo>
                      <a:pt x="309" y="672"/>
                    </a:lnTo>
                    <a:lnTo>
                      <a:pt x="309" y="672"/>
                    </a:lnTo>
                    <a:lnTo>
                      <a:pt x="310" y="647"/>
                    </a:lnTo>
                    <a:lnTo>
                      <a:pt x="309" y="621"/>
                    </a:lnTo>
                    <a:lnTo>
                      <a:pt x="308" y="595"/>
                    </a:lnTo>
                    <a:lnTo>
                      <a:pt x="306" y="569"/>
                    </a:lnTo>
                    <a:lnTo>
                      <a:pt x="306" y="569"/>
                    </a:lnTo>
                    <a:lnTo>
                      <a:pt x="303" y="532"/>
                    </a:lnTo>
                    <a:lnTo>
                      <a:pt x="302" y="495"/>
                    </a:lnTo>
                    <a:lnTo>
                      <a:pt x="302" y="458"/>
                    </a:lnTo>
                    <a:lnTo>
                      <a:pt x="302" y="423"/>
                    </a:lnTo>
                    <a:lnTo>
                      <a:pt x="302" y="423"/>
                    </a:lnTo>
                    <a:lnTo>
                      <a:pt x="304" y="371"/>
                    </a:lnTo>
                    <a:lnTo>
                      <a:pt x="307" y="318"/>
                    </a:lnTo>
                    <a:lnTo>
                      <a:pt x="314" y="212"/>
                    </a:lnTo>
                    <a:lnTo>
                      <a:pt x="316" y="159"/>
                    </a:lnTo>
                    <a:lnTo>
                      <a:pt x="318" y="105"/>
                    </a:lnTo>
                    <a:lnTo>
                      <a:pt x="318" y="52"/>
                    </a:lnTo>
                    <a:lnTo>
                      <a:pt x="317" y="0"/>
                    </a:lnTo>
                    <a:lnTo>
                      <a:pt x="317" y="0"/>
                    </a:lnTo>
                    <a:lnTo>
                      <a:pt x="307" y="142"/>
                    </a:lnTo>
                    <a:lnTo>
                      <a:pt x="295" y="285"/>
                    </a:lnTo>
                    <a:lnTo>
                      <a:pt x="284" y="428"/>
                    </a:lnTo>
                    <a:lnTo>
                      <a:pt x="279" y="500"/>
                    </a:lnTo>
                    <a:lnTo>
                      <a:pt x="276" y="574"/>
                    </a:lnTo>
                    <a:lnTo>
                      <a:pt x="276" y="574"/>
                    </a:lnTo>
                    <a:lnTo>
                      <a:pt x="273" y="554"/>
                    </a:lnTo>
                    <a:lnTo>
                      <a:pt x="268" y="535"/>
                    </a:lnTo>
                    <a:lnTo>
                      <a:pt x="258" y="494"/>
                    </a:lnTo>
                    <a:lnTo>
                      <a:pt x="247" y="453"/>
                    </a:lnTo>
                    <a:lnTo>
                      <a:pt x="242" y="432"/>
                    </a:lnTo>
                    <a:lnTo>
                      <a:pt x="240" y="411"/>
                    </a:lnTo>
                    <a:lnTo>
                      <a:pt x="240" y="411"/>
                    </a:lnTo>
                    <a:lnTo>
                      <a:pt x="239" y="389"/>
                    </a:lnTo>
                    <a:lnTo>
                      <a:pt x="239" y="368"/>
                    </a:lnTo>
                    <a:lnTo>
                      <a:pt x="240" y="323"/>
                    </a:lnTo>
                    <a:lnTo>
                      <a:pt x="240" y="323"/>
                    </a:lnTo>
                    <a:lnTo>
                      <a:pt x="242" y="263"/>
                    </a:lnTo>
                    <a:lnTo>
                      <a:pt x="245" y="203"/>
                    </a:lnTo>
                    <a:lnTo>
                      <a:pt x="248" y="144"/>
                    </a:lnTo>
                    <a:lnTo>
                      <a:pt x="249" y="86"/>
                    </a:lnTo>
                    <a:lnTo>
                      <a:pt x="249" y="86"/>
                    </a:lnTo>
                    <a:lnTo>
                      <a:pt x="244" y="121"/>
                    </a:lnTo>
                    <a:lnTo>
                      <a:pt x="242" y="158"/>
                    </a:lnTo>
                    <a:lnTo>
                      <a:pt x="237" y="230"/>
                    </a:lnTo>
                    <a:lnTo>
                      <a:pt x="234" y="303"/>
                    </a:lnTo>
                    <a:lnTo>
                      <a:pt x="230" y="374"/>
                    </a:lnTo>
                    <a:lnTo>
                      <a:pt x="230" y="374"/>
                    </a:lnTo>
                    <a:lnTo>
                      <a:pt x="222" y="330"/>
                    </a:lnTo>
                    <a:lnTo>
                      <a:pt x="212" y="286"/>
                    </a:lnTo>
                    <a:lnTo>
                      <a:pt x="202" y="243"/>
                    </a:lnTo>
                    <a:lnTo>
                      <a:pt x="191" y="202"/>
                    </a:lnTo>
                    <a:lnTo>
                      <a:pt x="191" y="202"/>
                    </a:lnTo>
                    <a:lnTo>
                      <a:pt x="203" y="268"/>
                    </a:lnTo>
                    <a:lnTo>
                      <a:pt x="216" y="335"/>
                    </a:lnTo>
                    <a:lnTo>
                      <a:pt x="242" y="466"/>
                    </a:lnTo>
                    <a:lnTo>
                      <a:pt x="242" y="466"/>
                    </a:lnTo>
                    <a:lnTo>
                      <a:pt x="242" y="469"/>
                    </a:lnTo>
                    <a:lnTo>
                      <a:pt x="242" y="470"/>
                    </a:lnTo>
                    <a:lnTo>
                      <a:pt x="241" y="470"/>
                    </a:lnTo>
                    <a:lnTo>
                      <a:pt x="241" y="466"/>
                    </a:lnTo>
                    <a:lnTo>
                      <a:pt x="241" y="466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9" y="111"/>
                    </a:lnTo>
                    <a:lnTo>
                      <a:pt x="128" y="149"/>
                    </a:lnTo>
                    <a:lnTo>
                      <a:pt x="138" y="185"/>
                    </a:lnTo>
                    <a:lnTo>
                      <a:pt x="149" y="220"/>
                    </a:lnTo>
                    <a:lnTo>
                      <a:pt x="173" y="290"/>
                    </a:lnTo>
                    <a:lnTo>
                      <a:pt x="195" y="362"/>
                    </a:lnTo>
                    <a:lnTo>
                      <a:pt x="195" y="362"/>
                    </a:lnTo>
                    <a:lnTo>
                      <a:pt x="214" y="414"/>
                    </a:lnTo>
                    <a:lnTo>
                      <a:pt x="232" y="468"/>
                    </a:lnTo>
                    <a:lnTo>
                      <a:pt x="241" y="495"/>
                    </a:lnTo>
                    <a:lnTo>
                      <a:pt x="250" y="522"/>
                    </a:lnTo>
                    <a:lnTo>
                      <a:pt x="257" y="550"/>
                    </a:lnTo>
                    <a:lnTo>
                      <a:pt x="264" y="579"/>
                    </a:lnTo>
                    <a:lnTo>
                      <a:pt x="264" y="579"/>
                    </a:lnTo>
                    <a:lnTo>
                      <a:pt x="274" y="620"/>
                    </a:lnTo>
                    <a:lnTo>
                      <a:pt x="277" y="639"/>
                    </a:lnTo>
                    <a:lnTo>
                      <a:pt x="281" y="659"/>
                    </a:lnTo>
                    <a:lnTo>
                      <a:pt x="281" y="659"/>
                    </a:lnTo>
                    <a:lnTo>
                      <a:pt x="281" y="665"/>
                    </a:lnTo>
                    <a:lnTo>
                      <a:pt x="281" y="671"/>
                    </a:lnTo>
                    <a:lnTo>
                      <a:pt x="281" y="671"/>
                    </a:lnTo>
                    <a:lnTo>
                      <a:pt x="293" y="717"/>
                    </a:lnTo>
                    <a:lnTo>
                      <a:pt x="306" y="765"/>
                    </a:lnTo>
                    <a:lnTo>
                      <a:pt x="317" y="813"/>
                    </a:lnTo>
                    <a:lnTo>
                      <a:pt x="321" y="836"/>
                    </a:lnTo>
                    <a:lnTo>
                      <a:pt x="326" y="860"/>
                    </a:lnTo>
                    <a:lnTo>
                      <a:pt x="326" y="860"/>
                    </a:lnTo>
                    <a:lnTo>
                      <a:pt x="294" y="788"/>
                    </a:lnTo>
                    <a:lnTo>
                      <a:pt x="261" y="717"/>
                    </a:lnTo>
                    <a:lnTo>
                      <a:pt x="227" y="649"/>
                    </a:lnTo>
                    <a:lnTo>
                      <a:pt x="192" y="582"/>
                    </a:lnTo>
                    <a:lnTo>
                      <a:pt x="124" y="451"/>
                    </a:lnTo>
                    <a:lnTo>
                      <a:pt x="91" y="386"/>
                    </a:lnTo>
                    <a:lnTo>
                      <a:pt x="59" y="320"/>
                    </a:lnTo>
                    <a:lnTo>
                      <a:pt x="59" y="320"/>
                    </a:lnTo>
                    <a:lnTo>
                      <a:pt x="61" y="331"/>
                    </a:lnTo>
                    <a:lnTo>
                      <a:pt x="64" y="342"/>
                    </a:lnTo>
                    <a:lnTo>
                      <a:pt x="68" y="352"/>
                    </a:lnTo>
                    <a:lnTo>
                      <a:pt x="72" y="362"/>
                    </a:lnTo>
                    <a:lnTo>
                      <a:pt x="92" y="401"/>
                    </a:lnTo>
                    <a:lnTo>
                      <a:pt x="92" y="401"/>
                    </a:lnTo>
                    <a:lnTo>
                      <a:pt x="159" y="546"/>
                    </a:lnTo>
                    <a:lnTo>
                      <a:pt x="193" y="620"/>
                    </a:lnTo>
                    <a:lnTo>
                      <a:pt x="227" y="696"/>
                    </a:lnTo>
                    <a:lnTo>
                      <a:pt x="260" y="773"/>
                    </a:lnTo>
                    <a:lnTo>
                      <a:pt x="293" y="851"/>
                    </a:lnTo>
                    <a:lnTo>
                      <a:pt x="324" y="932"/>
                    </a:lnTo>
                    <a:lnTo>
                      <a:pt x="354" y="1015"/>
                    </a:lnTo>
                    <a:lnTo>
                      <a:pt x="354" y="1015"/>
                    </a:lnTo>
                    <a:lnTo>
                      <a:pt x="357" y="1017"/>
                    </a:lnTo>
                    <a:lnTo>
                      <a:pt x="359" y="1018"/>
                    </a:lnTo>
                    <a:lnTo>
                      <a:pt x="365" y="1020"/>
                    </a:lnTo>
                    <a:lnTo>
                      <a:pt x="365" y="1020"/>
                    </a:lnTo>
                    <a:lnTo>
                      <a:pt x="376" y="1064"/>
                    </a:lnTo>
                    <a:lnTo>
                      <a:pt x="388" y="1109"/>
                    </a:lnTo>
                    <a:lnTo>
                      <a:pt x="413" y="1200"/>
                    </a:lnTo>
                    <a:lnTo>
                      <a:pt x="413" y="1200"/>
                    </a:lnTo>
                    <a:lnTo>
                      <a:pt x="418" y="1213"/>
                    </a:lnTo>
                    <a:lnTo>
                      <a:pt x="424" y="1229"/>
                    </a:lnTo>
                    <a:lnTo>
                      <a:pt x="428" y="1245"/>
                    </a:lnTo>
                    <a:lnTo>
                      <a:pt x="429" y="1253"/>
                    </a:lnTo>
                    <a:lnTo>
                      <a:pt x="429" y="1259"/>
                    </a:lnTo>
                    <a:lnTo>
                      <a:pt x="429" y="1259"/>
                    </a:lnTo>
                    <a:lnTo>
                      <a:pt x="427" y="1264"/>
                    </a:lnTo>
                    <a:lnTo>
                      <a:pt x="423" y="1271"/>
                    </a:lnTo>
                    <a:lnTo>
                      <a:pt x="413" y="1286"/>
                    </a:lnTo>
                    <a:lnTo>
                      <a:pt x="413" y="1286"/>
                    </a:lnTo>
                    <a:lnTo>
                      <a:pt x="390" y="1327"/>
                    </a:lnTo>
                    <a:lnTo>
                      <a:pt x="365" y="1365"/>
                    </a:lnTo>
                    <a:lnTo>
                      <a:pt x="365" y="1365"/>
                    </a:lnTo>
                    <a:lnTo>
                      <a:pt x="365" y="1361"/>
                    </a:lnTo>
                    <a:lnTo>
                      <a:pt x="365" y="1354"/>
                    </a:lnTo>
                    <a:lnTo>
                      <a:pt x="363" y="1350"/>
                    </a:lnTo>
                    <a:lnTo>
                      <a:pt x="362" y="1348"/>
                    </a:lnTo>
                    <a:lnTo>
                      <a:pt x="360" y="1347"/>
                    </a:lnTo>
                    <a:lnTo>
                      <a:pt x="360" y="1347"/>
                    </a:lnTo>
                    <a:lnTo>
                      <a:pt x="361" y="1367"/>
                    </a:lnTo>
                    <a:lnTo>
                      <a:pt x="360" y="1376"/>
                    </a:lnTo>
                    <a:lnTo>
                      <a:pt x="358" y="1383"/>
                    </a:lnTo>
                    <a:lnTo>
                      <a:pt x="358" y="1383"/>
                    </a:lnTo>
                    <a:lnTo>
                      <a:pt x="327" y="1439"/>
                    </a:lnTo>
                    <a:lnTo>
                      <a:pt x="295" y="1494"/>
                    </a:lnTo>
                    <a:lnTo>
                      <a:pt x="295" y="1494"/>
                    </a:lnTo>
                    <a:lnTo>
                      <a:pt x="286" y="1480"/>
                    </a:lnTo>
                    <a:lnTo>
                      <a:pt x="277" y="1465"/>
                    </a:lnTo>
                    <a:lnTo>
                      <a:pt x="259" y="1432"/>
                    </a:lnTo>
                    <a:lnTo>
                      <a:pt x="259" y="1432"/>
                    </a:lnTo>
                    <a:lnTo>
                      <a:pt x="249" y="1418"/>
                    </a:lnTo>
                    <a:lnTo>
                      <a:pt x="239" y="1402"/>
                    </a:lnTo>
                    <a:lnTo>
                      <a:pt x="228" y="1386"/>
                    </a:lnTo>
                    <a:lnTo>
                      <a:pt x="225" y="1378"/>
                    </a:lnTo>
                    <a:lnTo>
                      <a:pt x="223" y="1370"/>
                    </a:lnTo>
                    <a:lnTo>
                      <a:pt x="223" y="1370"/>
                    </a:lnTo>
                    <a:lnTo>
                      <a:pt x="222" y="1362"/>
                    </a:lnTo>
                    <a:lnTo>
                      <a:pt x="223" y="1353"/>
                    </a:lnTo>
                    <a:lnTo>
                      <a:pt x="224" y="1334"/>
                    </a:lnTo>
                    <a:lnTo>
                      <a:pt x="224" y="1334"/>
                    </a:lnTo>
                    <a:lnTo>
                      <a:pt x="224" y="1297"/>
                    </a:lnTo>
                    <a:lnTo>
                      <a:pt x="224" y="1259"/>
                    </a:lnTo>
                    <a:lnTo>
                      <a:pt x="223" y="1221"/>
                    </a:lnTo>
                    <a:lnTo>
                      <a:pt x="220" y="1183"/>
                    </a:lnTo>
                    <a:lnTo>
                      <a:pt x="214" y="1109"/>
                    </a:lnTo>
                    <a:lnTo>
                      <a:pt x="206" y="1041"/>
                    </a:lnTo>
                    <a:lnTo>
                      <a:pt x="206" y="1041"/>
                    </a:lnTo>
                    <a:lnTo>
                      <a:pt x="206" y="1077"/>
                    </a:lnTo>
                    <a:lnTo>
                      <a:pt x="207" y="1113"/>
                    </a:lnTo>
                    <a:lnTo>
                      <a:pt x="209" y="1188"/>
                    </a:lnTo>
                    <a:lnTo>
                      <a:pt x="209" y="1226"/>
                    </a:lnTo>
                    <a:lnTo>
                      <a:pt x="208" y="1262"/>
                    </a:lnTo>
                    <a:lnTo>
                      <a:pt x="206" y="1299"/>
                    </a:lnTo>
                    <a:lnTo>
                      <a:pt x="201" y="1334"/>
                    </a:lnTo>
                    <a:lnTo>
                      <a:pt x="201" y="1334"/>
                    </a:lnTo>
                    <a:lnTo>
                      <a:pt x="194" y="1321"/>
                    </a:lnTo>
                    <a:lnTo>
                      <a:pt x="191" y="1316"/>
                    </a:lnTo>
                    <a:lnTo>
                      <a:pt x="185" y="1311"/>
                    </a:lnTo>
                    <a:lnTo>
                      <a:pt x="185" y="1311"/>
                    </a:lnTo>
                    <a:lnTo>
                      <a:pt x="193" y="1326"/>
                    </a:lnTo>
                    <a:lnTo>
                      <a:pt x="197" y="1334"/>
                    </a:lnTo>
                    <a:lnTo>
                      <a:pt x="199" y="1342"/>
                    </a:lnTo>
                    <a:lnTo>
                      <a:pt x="201" y="1351"/>
                    </a:lnTo>
                    <a:lnTo>
                      <a:pt x="202" y="1360"/>
                    </a:lnTo>
                    <a:lnTo>
                      <a:pt x="202" y="1381"/>
                    </a:lnTo>
                    <a:lnTo>
                      <a:pt x="202" y="1381"/>
                    </a:lnTo>
                    <a:lnTo>
                      <a:pt x="200" y="1444"/>
                    </a:lnTo>
                    <a:lnTo>
                      <a:pt x="199" y="1506"/>
                    </a:lnTo>
                    <a:lnTo>
                      <a:pt x="199" y="1506"/>
                    </a:lnTo>
                    <a:lnTo>
                      <a:pt x="180" y="1454"/>
                    </a:lnTo>
                    <a:lnTo>
                      <a:pt x="170" y="1428"/>
                    </a:lnTo>
                    <a:lnTo>
                      <a:pt x="161" y="1401"/>
                    </a:lnTo>
                    <a:lnTo>
                      <a:pt x="161" y="1401"/>
                    </a:lnTo>
                    <a:lnTo>
                      <a:pt x="164" y="1396"/>
                    </a:lnTo>
                    <a:lnTo>
                      <a:pt x="165" y="1392"/>
                    </a:lnTo>
                    <a:lnTo>
                      <a:pt x="165" y="1381"/>
                    </a:lnTo>
                    <a:lnTo>
                      <a:pt x="164" y="1371"/>
                    </a:lnTo>
                    <a:lnTo>
                      <a:pt x="160" y="1360"/>
                    </a:lnTo>
                    <a:lnTo>
                      <a:pt x="151" y="1337"/>
                    </a:lnTo>
                    <a:lnTo>
                      <a:pt x="143" y="1317"/>
                    </a:lnTo>
                    <a:lnTo>
                      <a:pt x="143" y="1317"/>
                    </a:lnTo>
                    <a:lnTo>
                      <a:pt x="131" y="1278"/>
                    </a:lnTo>
                    <a:lnTo>
                      <a:pt x="119" y="1242"/>
                    </a:lnTo>
                    <a:lnTo>
                      <a:pt x="109" y="1207"/>
                    </a:lnTo>
                    <a:lnTo>
                      <a:pt x="97" y="1170"/>
                    </a:lnTo>
                    <a:lnTo>
                      <a:pt x="97" y="1170"/>
                    </a:lnTo>
                    <a:lnTo>
                      <a:pt x="84" y="1133"/>
                    </a:lnTo>
                    <a:lnTo>
                      <a:pt x="79" y="1113"/>
                    </a:lnTo>
                    <a:lnTo>
                      <a:pt x="75" y="1095"/>
                    </a:lnTo>
                    <a:lnTo>
                      <a:pt x="75" y="1095"/>
                    </a:lnTo>
                    <a:lnTo>
                      <a:pt x="75" y="1087"/>
                    </a:lnTo>
                    <a:lnTo>
                      <a:pt x="75" y="1081"/>
                    </a:lnTo>
                    <a:lnTo>
                      <a:pt x="77" y="1066"/>
                    </a:lnTo>
                    <a:lnTo>
                      <a:pt x="79" y="1059"/>
                    </a:lnTo>
                    <a:lnTo>
                      <a:pt x="79" y="1052"/>
                    </a:lnTo>
                    <a:lnTo>
                      <a:pt x="77" y="1044"/>
                    </a:lnTo>
                    <a:lnTo>
                      <a:pt x="75" y="1037"/>
                    </a:lnTo>
                    <a:lnTo>
                      <a:pt x="75" y="1037"/>
                    </a:lnTo>
                    <a:lnTo>
                      <a:pt x="73" y="1046"/>
                    </a:lnTo>
                    <a:lnTo>
                      <a:pt x="73" y="1057"/>
                    </a:lnTo>
                    <a:lnTo>
                      <a:pt x="72" y="1066"/>
                    </a:lnTo>
                    <a:lnTo>
                      <a:pt x="71" y="1070"/>
                    </a:lnTo>
                    <a:lnTo>
                      <a:pt x="68" y="1075"/>
                    </a:lnTo>
                    <a:lnTo>
                      <a:pt x="68" y="1075"/>
                    </a:lnTo>
                    <a:lnTo>
                      <a:pt x="51" y="1004"/>
                    </a:lnTo>
                    <a:lnTo>
                      <a:pt x="35" y="934"/>
                    </a:lnTo>
                    <a:lnTo>
                      <a:pt x="18" y="864"/>
                    </a:lnTo>
                    <a:lnTo>
                      <a:pt x="0" y="796"/>
                    </a:lnTo>
                    <a:lnTo>
                      <a:pt x="0" y="813"/>
                    </a:lnTo>
                    <a:lnTo>
                      <a:pt x="0" y="813"/>
                    </a:lnTo>
                    <a:lnTo>
                      <a:pt x="7" y="851"/>
                    </a:lnTo>
                    <a:lnTo>
                      <a:pt x="15" y="891"/>
                    </a:lnTo>
                    <a:lnTo>
                      <a:pt x="32" y="968"/>
                    </a:lnTo>
                    <a:lnTo>
                      <a:pt x="49" y="1046"/>
                    </a:lnTo>
                    <a:lnTo>
                      <a:pt x="56" y="1086"/>
                    </a:lnTo>
                    <a:lnTo>
                      <a:pt x="63" y="1126"/>
                    </a:lnTo>
                    <a:lnTo>
                      <a:pt x="63" y="1126"/>
                    </a:lnTo>
                    <a:lnTo>
                      <a:pt x="47" y="1084"/>
                    </a:lnTo>
                    <a:lnTo>
                      <a:pt x="32" y="1042"/>
                    </a:lnTo>
                    <a:lnTo>
                      <a:pt x="32" y="1042"/>
                    </a:lnTo>
                    <a:lnTo>
                      <a:pt x="24" y="1024"/>
                    </a:lnTo>
                    <a:lnTo>
                      <a:pt x="15" y="1006"/>
                    </a:lnTo>
                    <a:lnTo>
                      <a:pt x="7" y="987"/>
                    </a:lnTo>
                    <a:lnTo>
                      <a:pt x="4" y="978"/>
                    </a:lnTo>
                    <a:lnTo>
                      <a:pt x="0" y="969"/>
                    </a:lnTo>
                    <a:lnTo>
                      <a:pt x="0" y="1084"/>
                    </a:lnTo>
                    <a:lnTo>
                      <a:pt x="0" y="1084"/>
                    </a:lnTo>
                    <a:lnTo>
                      <a:pt x="6" y="1112"/>
                    </a:lnTo>
                    <a:lnTo>
                      <a:pt x="10" y="1142"/>
                    </a:lnTo>
                    <a:lnTo>
                      <a:pt x="10" y="1142"/>
                    </a:lnTo>
                    <a:lnTo>
                      <a:pt x="5" y="1136"/>
                    </a:lnTo>
                    <a:lnTo>
                      <a:pt x="0" y="1129"/>
                    </a:lnTo>
                    <a:lnTo>
                      <a:pt x="0" y="1170"/>
                    </a:lnTo>
                    <a:lnTo>
                      <a:pt x="0" y="1170"/>
                    </a:lnTo>
                    <a:lnTo>
                      <a:pt x="8" y="1184"/>
                    </a:lnTo>
                    <a:lnTo>
                      <a:pt x="18" y="1196"/>
                    </a:lnTo>
                    <a:lnTo>
                      <a:pt x="18" y="1196"/>
                    </a:lnTo>
                    <a:lnTo>
                      <a:pt x="19" y="1214"/>
                    </a:lnTo>
                    <a:lnTo>
                      <a:pt x="24" y="1234"/>
                    </a:lnTo>
                    <a:lnTo>
                      <a:pt x="33" y="1271"/>
                    </a:lnTo>
                    <a:lnTo>
                      <a:pt x="37" y="1291"/>
                    </a:lnTo>
                    <a:lnTo>
                      <a:pt x="38" y="1310"/>
                    </a:lnTo>
                    <a:lnTo>
                      <a:pt x="38" y="1319"/>
                    </a:lnTo>
                    <a:lnTo>
                      <a:pt x="37" y="1329"/>
                    </a:lnTo>
                    <a:lnTo>
                      <a:pt x="35" y="1339"/>
                    </a:lnTo>
                    <a:lnTo>
                      <a:pt x="32" y="1348"/>
                    </a:lnTo>
                    <a:lnTo>
                      <a:pt x="32" y="1348"/>
                    </a:lnTo>
                    <a:lnTo>
                      <a:pt x="23" y="1327"/>
                    </a:lnTo>
                    <a:lnTo>
                      <a:pt x="15" y="1304"/>
                    </a:lnTo>
                    <a:lnTo>
                      <a:pt x="0" y="1259"/>
                    </a:lnTo>
                    <a:lnTo>
                      <a:pt x="0" y="1296"/>
                    </a:lnTo>
                    <a:lnTo>
                      <a:pt x="0" y="1296"/>
                    </a:lnTo>
                    <a:lnTo>
                      <a:pt x="4" y="1310"/>
                    </a:lnTo>
                    <a:lnTo>
                      <a:pt x="4" y="1310"/>
                    </a:lnTo>
                    <a:lnTo>
                      <a:pt x="10" y="1327"/>
                    </a:lnTo>
                    <a:lnTo>
                      <a:pt x="18" y="1345"/>
                    </a:lnTo>
                    <a:lnTo>
                      <a:pt x="24" y="1362"/>
                    </a:lnTo>
                    <a:lnTo>
                      <a:pt x="26" y="1370"/>
                    </a:lnTo>
                    <a:lnTo>
                      <a:pt x="27" y="1378"/>
                    </a:lnTo>
                    <a:lnTo>
                      <a:pt x="27" y="1378"/>
                    </a:lnTo>
                    <a:lnTo>
                      <a:pt x="26" y="1386"/>
                    </a:lnTo>
                    <a:lnTo>
                      <a:pt x="23" y="1395"/>
                    </a:lnTo>
                    <a:lnTo>
                      <a:pt x="21" y="1403"/>
                    </a:lnTo>
                    <a:lnTo>
                      <a:pt x="18" y="1412"/>
                    </a:lnTo>
                    <a:lnTo>
                      <a:pt x="18" y="1412"/>
                    </a:lnTo>
                    <a:lnTo>
                      <a:pt x="0" y="1540"/>
                    </a:lnTo>
                    <a:lnTo>
                      <a:pt x="0" y="1599"/>
                    </a:lnTo>
                    <a:lnTo>
                      <a:pt x="0" y="1599"/>
                    </a:lnTo>
                    <a:lnTo>
                      <a:pt x="7" y="1547"/>
                    </a:lnTo>
                    <a:lnTo>
                      <a:pt x="14" y="1496"/>
                    </a:lnTo>
                    <a:lnTo>
                      <a:pt x="23" y="1446"/>
                    </a:lnTo>
                    <a:lnTo>
                      <a:pt x="27" y="1421"/>
                    </a:lnTo>
                    <a:lnTo>
                      <a:pt x="33" y="1397"/>
                    </a:lnTo>
                    <a:lnTo>
                      <a:pt x="33" y="1397"/>
                    </a:lnTo>
                    <a:lnTo>
                      <a:pt x="50" y="1446"/>
                    </a:lnTo>
                    <a:lnTo>
                      <a:pt x="58" y="1471"/>
                    </a:lnTo>
                    <a:lnTo>
                      <a:pt x="66" y="1496"/>
                    </a:lnTo>
                    <a:lnTo>
                      <a:pt x="66" y="1496"/>
                    </a:lnTo>
                    <a:lnTo>
                      <a:pt x="72" y="1514"/>
                    </a:lnTo>
                    <a:lnTo>
                      <a:pt x="74" y="1523"/>
                    </a:lnTo>
                    <a:lnTo>
                      <a:pt x="75" y="1528"/>
                    </a:lnTo>
                    <a:lnTo>
                      <a:pt x="74" y="1531"/>
                    </a:lnTo>
                    <a:lnTo>
                      <a:pt x="74" y="1531"/>
                    </a:lnTo>
                    <a:lnTo>
                      <a:pt x="72" y="1537"/>
                    </a:lnTo>
                    <a:lnTo>
                      <a:pt x="67" y="1545"/>
                    </a:lnTo>
                    <a:lnTo>
                      <a:pt x="56" y="1560"/>
                    </a:lnTo>
                    <a:lnTo>
                      <a:pt x="56" y="1560"/>
                    </a:lnTo>
                    <a:lnTo>
                      <a:pt x="0" y="1637"/>
                    </a:lnTo>
                    <a:lnTo>
                      <a:pt x="0" y="1650"/>
                    </a:lnTo>
                    <a:lnTo>
                      <a:pt x="0" y="1650"/>
                    </a:lnTo>
                    <a:lnTo>
                      <a:pt x="8" y="1639"/>
                    </a:lnTo>
                    <a:lnTo>
                      <a:pt x="8" y="1639"/>
                    </a:lnTo>
                    <a:lnTo>
                      <a:pt x="44" y="1585"/>
                    </a:lnTo>
                    <a:lnTo>
                      <a:pt x="61" y="1560"/>
                    </a:lnTo>
                    <a:lnTo>
                      <a:pt x="79" y="1538"/>
                    </a:lnTo>
                    <a:lnTo>
                      <a:pt x="79" y="1538"/>
                    </a:lnTo>
                    <a:lnTo>
                      <a:pt x="81" y="1544"/>
                    </a:lnTo>
                    <a:lnTo>
                      <a:pt x="82" y="1551"/>
                    </a:lnTo>
                    <a:lnTo>
                      <a:pt x="84" y="1565"/>
                    </a:lnTo>
                    <a:lnTo>
                      <a:pt x="84" y="1582"/>
                    </a:lnTo>
                    <a:lnTo>
                      <a:pt x="85" y="1598"/>
                    </a:lnTo>
                    <a:lnTo>
                      <a:pt x="85" y="1598"/>
                    </a:lnTo>
                    <a:lnTo>
                      <a:pt x="89" y="1621"/>
                    </a:lnTo>
                    <a:lnTo>
                      <a:pt x="94" y="1644"/>
                    </a:lnTo>
                    <a:lnTo>
                      <a:pt x="107" y="1689"/>
                    </a:lnTo>
                    <a:lnTo>
                      <a:pt x="113" y="1712"/>
                    </a:lnTo>
                    <a:lnTo>
                      <a:pt x="116" y="1733"/>
                    </a:lnTo>
                    <a:lnTo>
                      <a:pt x="117" y="1744"/>
                    </a:lnTo>
                    <a:lnTo>
                      <a:pt x="118" y="1755"/>
                    </a:lnTo>
                    <a:lnTo>
                      <a:pt x="117" y="1765"/>
                    </a:lnTo>
                    <a:lnTo>
                      <a:pt x="116" y="1775"/>
                    </a:lnTo>
                    <a:lnTo>
                      <a:pt x="116" y="1775"/>
                    </a:lnTo>
                    <a:lnTo>
                      <a:pt x="66" y="1739"/>
                    </a:lnTo>
                    <a:lnTo>
                      <a:pt x="17" y="1700"/>
                    </a:lnTo>
                    <a:lnTo>
                      <a:pt x="17" y="1700"/>
                    </a:lnTo>
                    <a:lnTo>
                      <a:pt x="0" y="1688"/>
                    </a:lnTo>
                    <a:lnTo>
                      <a:pt x="0" y="1694"/>
                    </a:lnTo>
                    <a:lnTo>
                      <a:pt x="0" y="1694"/>
                    </a:lnTo>
                    <a:lnTo>
                      <a:pt x="5" y="1698"/>
                    </a:lnTo>
                    <a:lnTo>
                      <a:pt x="8" y="1704"/>
                    </a:lnTo>
                    <a:lnTo>
                      <a:pt x="12" y="1711"/>
                    </a:lnTo>
                    <a:lnTo>
                      <a:pt x="14" y="1717"/>
                    </a:lnTo>
                    <a:lnTo>
                      <a:pt x="17" y="1734"/>
                    </a:lnTo>
                    <a:lnTo>
                      <a:pt x="21" y="1753"/>
                    </a:lnTo>
                    <a:lnTo>
                      <a:pt x="21" y="1753"/>
                    </a:lnTo>
                    <a:lnTo>
                      <a:pt x="27" y="1799"/>
                    </a:lnTo>
                    <a:lnTo>
                      <a:pt x="27" y="1799"/>
                    </a:lnTo>
                    <a:lnTo>
                      <a:pt x="30" y="1824"/>
                    </a:lnTo>
                    <a:lnTo>
                      <a:pt x="31" y="1849"/>
                    </a:lnTo>
                    <a:lnTo>
                      <a:pt x="33" y="1872"/>
                    </a:lnTo>
                    <a:lnTo>
                      <a:pt x="34" y="1883"/>
                    </a:lnTo>
                    <a:lnTo>
                      <a:pt x="38" y="1893"/>
                    </a:lnTo>
                    <a:lnTo>
                      <a:pt x="38" y="1893"/>
                    </a:lnTo>
                    <a:lnTo>
                      <a:pt x="40" y="1899"/>
                    </a:lnTo>
                    <a:lnTo>
                      <a:pt x="43" y="1905"/>
                    </a:lnTo>
                    <a:lnTo>
                      <a:pt x="46" y="1909"/>
                    </a:lnTo>
                    <a:lnTo>
                      <a:pt x="46" y="1913"/>
                    </a:lnTo>
                    <a:lnTo>
                      <a:pt x="44" y="1916"/>
                    </a:lnTo>
                    <a:lnTo>
                      <a:pt x="44" y="1916"/>
                    </a:lnTo>
                    <a:lnTo>
                      <a:pt x="37" y="1905"/>
                    </a:lnTo>
                    <a:lnTo>
                      <a:pt x="27" y="1893"/>
                    </a:lnTo>
                    <a:lnTo>
                      <a:pt x="19" y="1881"/>
                    </a:lnTo>
                    <a:lnTo>
                      <a:pt x="10" y="1867"/>
                    </a:lnTo>
                    <a:lnTo>
                      <a:pt x="10" y="1867"/>
                    </a:lnTo>
                    <a:lnTo>
                      <a:pt x="0" y="1849"/>
                    </a:lnTo>
                    <a:lnTo>
                      <a:pt x="0" y="1873"/>
                    </a:lnTo>
                    <a:lnTo>
                      <a:pt x="0" y="1873"/>
                    </a:lnTo>
                    <a:lnTo>
                      <a:pt x="25" y="1923"/>
                    </a:lnTo>
                    <a:lnTo>
                      <a:pt x="25" y="1923"/>
                    </a:lnTo>
                    <a:lnTo>
                      <a:pt x="35" y="1942"/>
                    </a:lnTo>
                    <a:lnTo>
                      <a:pt x="48" y="1966"/>
                    </a:lnTo>
                    <a:lnTo>
                      <a:pt x="125" y="1966"/>
                    </a:lnTo>
                    <a:lnTo>
                      <a:pt x="125" y="1966"/>
                    </a:lnTo>
                    <a:lnTo>
                      <a:pt x="131" y="1959"/>
                    </a:lnTo>
                    <a:lnTo>
                      <a:pt x="135" y="1952"/>
                    </a:lnTo>
                    <a:lnTo>
                      <a:pt x="135" y="1952"/>
                    </a:lnTo>
                    <a:lnTo>
                      <a:pt x="142" y="1959"/>
                    </a:lnTo>
                    <a:lnTo>
                      <a:pt x="151" y="1966"/>
                    </a:lnTo>
                    <a:lnTo>
                      <a:pt x="164" y="1966"/>
                    </a:lnTo>
                    <a:lnTo>
                      <a:pt x="164" y="1966"/>
                    </a:lnTo>
                    <a:lnTo>
                      <a:pt x="150" y="1957"/>
                    </a:lnTo>
                    <a:lnTo>
                      <a:pt x="135" y="1947"/>
                    </a:lnTo>
                    <a:lnTo>
                      <a:pt x="135" y="1947"/>
                    </a:lnTo>
                    <a:lnTo>
                      <a:pt x="144" y="1934"/>
                    </a:lnTo>
                    <a:lnTo>
                      <a:pt x="151" y="1922"/>
                    </a:lnTo>
                    <a:lnTo>
                      <a:pt x="159" y="1909"/>
                    </a:lnTo>
                    <a:lnTo>
                      <a:pt x="164" y="1904"/>
                    </a:lnTo>
                    <a:lnTo>
                      <a:pt x="169" y="1898"/>
                    </a:lnTo>
                    <a:lnTo>
                      <a:pt x="169" y="1898"/>
                    </a:lnTo>
                    <a:lnTo>
                      <a:pt x="186" y="1966"/>
                    </a:lnTo>
                    <a:lnTo>
                      <a:pt x="209" y="1966"/>
                    </a:lnTo>
                    <a:lnTo>
                      <a:pt x="209" y="1966"/>
                    </a:lnTo>
                    <a:lnTo>
                      <a:pt x="201" y="1935"/>
                    </a:lnTo>
                    <a:lnTo>
                      <a:pt x="201" y="1935"/>
                    </a:lnTo>
                    <a:lnTo>
                      <a:pt x="195" y="1916"/>
                    </a:lnTo>
                    <a:lnTo>
                      <a:pt x="190" y="1894"/>
                    </a:lnTo>
                    <a:lnTo>
                      <a:pt x="188" y="1883"/>
                    </a:lnTo>
                    <a:lnTo>
                      <a:pt x="188" y="1873"/>
                    </a:lnTo>
                    <a:lnTo>
                      <a:pt x="189" y="1868"/>
                    </a:lnTo>
                    <a:lnTo>
                      <a:pt x="190" y="1865"/>
                    </a:lnTo>
                    <a:lnTo>
                      <a:pt x="192" y="1862"/>
                    </a:lnTo>
                    <a:lnTo>
                      <a:pt x="194" y="1858"/>
                    </a:lnTo>
                    <a:lnTo>
                      <a:pt x="194" y="1858"/>
                    </a:lnTo>
                    <a:lnTo>
                      <a:pt x="197" y="1860"/>
                    </a:lnTo>
                    <a:lnTo>
                      <a:pt x="200" y="1864"/>
                    </a:lnTo>
                    <a:lnTo>
                      <a:pt x="207" y="1868"/>
                    </a:lnTo>
                    <a:lnTo>
                      <a:pt x="214" y="1874"/>
                    </a:lnTo>
                    <a:lnTo>
                      <a:pt x="217" y="1877"/>
                    </a:lnTo>
                    <a:lnTo>
                      <a:pt x="218" y="1881"/>
                    </a:lnTo>
                    <a:lnTo>
                      <a:pt x="218" y="1881"/>
                    </a:lnTo>
                    <a:lnTo>
                      <a:pt x="220" y="1890"/>
                    </a:lnTo>
                    <a:lnTo>
                      <a:pt x="223" y="1899"/>
                    </a:lnTo>
                    <a:lnTo>
                      <a:pt x="223" y="1910"/>
                    </a:lnTo>
                    <a:lnTo>
                      <a:pt x="223" y="1921"/>
                    </a:lnTo>
                    <a:lnTo>
                      <a:pt x="220" y="1943"/>
                    </a:lnTo>
                    <a:lnTo>
                      <a:pt x="219" y="1966"/>
                    </a:lnTo>
                    <a:lnTo>
                      <a:pt x="242" y="1966"/>
                    </a:lnTo>
                    <a:lnTo>
                      <a:pt x="242" y="1966"/>
                    </a:lnTo>
                    <a:lnTo>
                      <a:pt x="241" y="1954"/>
                    </a:lnTo>
                    <a:lnTo>
                      <a:pt x="240" y="1942"/>
                    </a:lnTo>
                    <a:lnTo>
                      <a:pt x="240" y="1942"/>
                    </a:lnTo>
                    <a:lnTo>
                      <a:pt x="237" y="1918"/>
                    </a:lnTo>
                    <a:lnTo>
                      <a:pt x="237" y="1906"/>
                    </a:lnTo>
                    <a:lnTo>
                      <a:pt x="237" y="1900"/>
                    </a:lnTo>
                    <a:lnTo>
                      <a:pt x="239" y="1897"/>
                    </a:lnTo>
                    <a:lnTo>
                      <a:pt x="239" y="1897"/>
                    </a:lnTo>
                    <a:lnTo>
                      <a:pt x="281" y="1931"/>
                    </a:lnTo>
                    <a:lnTo>
                      <a:pt x="321" y="1966"/>
                    </a:lnTo>
                    <a:lnTo>
                      <a:pt x="350" y="1966"/>
                    </a:lnTo>
                    <a:lnTo>
                      <a:pt x="350" y="1966"/>
                    </a:lnTo>
                    <a:lnTo>
                      <a:pt x="346" y="1963"/>
                    </a:lnTo>
                    <a:lnTo>
                      <a:pt x="346" y="1963"/>
                    </a:lnTo>
                    <a:lnTo>
                      <a:pt x="307" y="1930"/>
                    </a:lnTo>
                    <a:lnTo>
                      <a:pt x="267" y="1896"/>
                    </a:lnTo>
                    <a:lnTo>
                      <a:pt x="267" y="1896"/>
                    </a:lnTo>
                    <a:lnTo>
                      <a:pt x="248" y="1883"/>
                    </a:lnTo>
                    <a:lnTo>
                      <a:pt x="240" y="1876"/>
                    </a:lnTo>
                    <a:lnTo>
                      <a:pt x="236" y="1873"/>
                    </a:lnTo>
                    <a:lnTo>
                      <a:pt x="235" y="1870"/>
                    </a:lnTo>
                    <a:lnTo>
                      <a:pt x="235" y="1870"/>
                    </a:lnTo>
                    <a:lnTo>
                      <a:pt x="233" y="1863"/>
                    </a:lnTo>
                    <a:lnTo>
                      <a:pt x="232" y="1854"/>
                    </a:lnTo>
                    <a:lnTo>
                      <a:pt x="231" y="1833"/>
                    </a:lnTo>
                    <a:lnTo>
                      <a:pt x="232" y="1813"/>
                    </a:lnTo>
                    <a:lnTo>
                      <a:pt x="233" y="1798"/>
                    </a:lnTo>
                    <a:lnTo>
                      <a:pt x="233" y="1798"/>
                    </a:lnTo>
                    <a:lnTo>
                      <a:pt x="236" y="1790"/>
                    </a:lnTo>
                    <a:lnTo>
                      <a:pt x="241" y="1783"/>
                    </a:lnTo>
                    <a:lnTo>
                      <a:pt x="245" y="1775"/>
                    </a:lnTo>
                    <a:lnTo>
                      <a:pt x="252" y="1768"/>
                    </a:lnTo>
                    <a:lnTo>
                      <a:pt x="264" y="1755"/>
                    </a:lnTo>
                    <a:lnTo>
                      <a:pt x="269" y="1748"/>
                    </a:lnTo>
                    <a:lnTo>
                      <a:pt x="274" y="1742"/>
                    </a:lnTo>
                    <a:lnTo>
                      <a:pt x="274" y="1742"/>
                    </a:lnTo>
                    <a:lnTo>
                      <a:pt x="316" y="1855"/>
                    </a:lnTo>
                    <a:lnTo>
                      <a:pt x="337" y="1910"/>
                    </a:lnTo>
                    <a:lnTo>
                      <a:pt x="360" y="1966"/>
                    </a:lnTo>
                    <a:lnTo>
                      <a:pt x="378" y="1966"/>
                    </a:lnTo>
                    <a:lnTo>
                      <a:pt x="378" y="1966"/>
                    </a:lnTo>
                    <a:lnTo>
                      <a:pt x="358" y="1914"/>
                    </a:lnTo>
                    <a:lnTo>
                      <a:pt x="358" y="1914"/>
                    </a:lnTo>
                    <a:lnTo>
                      <a:pt x="359" y="1910"/>
                    </a:lnTo>
                    <a:lnTo>
                      <a:pt x="361" y="1908"/>
                    </a:lnTo>
                    <a:lnTo>
                      <a:pt x="365" y="1906"/>
                    </a:lnTo>
                    <a:lnTo>
                      <a:pt x="365" y="1904"/>
                    </a:lnTo>
                    <a:lnTo>
                      <a:pt x="365" y="1902"/>
                    </a:lnTo>
                    <a:lnTo>
                      <a:pt x="365" y="1902"/>
                    </a:lnTo>
                    <a:lnTo>
                      <a:pt x="370" y="1852"/>
                    </a:lnTo>
                    <a:lnTo>
                      <a:pt x="376" y="1803"/>
                    </a:lnTo>
                    <a:lnTo>
                      <a:pt x="379" y="1778"/>
                    </a:lnTo>
                    <a:lnTo>
                      <a:pt x="383" y="1754"/>
                    </a:lnTo>
                    <a:lnTo>
                      <a:pt x="388" y="1731"/>
                    </a:lnTo>
                    <a:lnTo>
                      <a:pt x="394" y="1708"/>
                    </a:lnTo>
                    <a:lnTo>
                      <a:pt x="394" y="1708"/>
                    </a:lnTo>
                    <a:lnTo>
                      <a:pt x="405" y="1801"/>
                    </a:lnTo>
                    <a:lnTo>
                      <a:pt x="419" y="1894"/>
                    </a:lnTo>
                    <a:lnTo>
                      <a:pt x="419" y="1894"/>
                    </a:lnTo>
                    <a:lnTo>
                      <a:pt x="423" y="1913"/>
                    </a:lnTo>
                    <a:lnTo>
                      <a:pt x="424" y="1922"/>
                    </a:lnTo>
                    <a:lnTo>
                      <a:pt x="425" y="1930"/>
                    </a:lnTo>
                    <a:lnTo>
                      <a:pt x="425" y="1938"/>
                    </a:lnTo>
                    <a:lnTo>
                      <a:pt x="424" y="1944"/>
                    </a:lnTo>
                    <a:lnTo>
                      <a:pt x="420" y="1950"/>
                    </a:lnTo>
                    <a:lnTo>
                      <a:pt x="417" y="1954"/>
                    </a:lnTo>
                    <a:lnTo>
                      <a:pt x="413" y="1956"/>
                    </a:lnTo>
                    <a:lnTo>
                      <a:pt x="413" y="1956"/>
                    </a:lnTo>
                    <a:lnTo>
                      <a:pt x="412" y="1951"/>
                    </a:lnTo>
                    <a:lnTo>
                      <a:pt x="411" y="1947"/>
                    </a:lnTo>
                    <a:lnTo>
                      <a:pt x="410" y="1942"/>
                    </a:lnTo>
                    <a:lnTo>
                      <a:pt x="409" y="1940"/>
                    </a:lnTo>
                    <a:lnTo>
                      <a:pt x="408" y="1939"/>
                    </a:lnTo>
                    <a:lnTo>
                      <a:pt x="408" y="1939"/>
                    </a:lnTo>
                    <a:lnTo>
                      <a:pt x="410" y="1947"/>
                    </a:lnTo>
                    <a:lnTo>
                      <a:pt x="410" y="1954"/>
                    </a:lnTo>
                    <a:lnTo>
                      <a:pt x="409" y="1960"/>
                    </a:lnTo>
                    <a:lnTo>
                      <a:pt x="407" y="1966"/>
                    </a:lnTo>
                    <a:lnTo>
                      <a:pt x="421" y="1966"/>
                    </a:lnTo>
                    <a:lnTo>
                      <a:pt x="421" y="1966"/>
                    </a:lnTo>
                    <a:lnTo>
                      <a:pt x="424" y="1963"/>
                    </a:lnTo>
                    <a:lnTo>
                      <a:pt x="429" y="1960"/>
                    </a:lnTo>
                    <a:lnTo>
                      <a:pt x="429" y="1960"/>
                    </a:lnTo>
                    <a:lnTo>
                      <a:pt x="428" y="1966"/>
                    </a:lnTo>
                    <a:lnTo>
                      <a:pt x="442" y="1966"/>
                    </a:lnTo>
                    <a:lnTo>
                      <a:pt x="442" y="1966"/>
                    </a:lnTo>
                    <a:lnTo>
                      <a:pt x="440" y="1942"/>
                    </a:lnTo>
                    <a:lnTo>
                      <a:pt x="440" y="1942"/>
                    </a:lnTo>
                    <a:lnTo>
                      <a:pt x="474" y="1894"/>
                    </a:lnTo>
                    <a:lnTo>
                      <a:pt x="508" y="1847"/>
                    </a:lnTo>
                    <a:lnTo>
                      <a:pt x="526" y="1824"/>
                    </a:lnTo>
                    <a:lnTo>
                      <a:pt x="544" y="1803"/>
                    </a:lnTo>
                    <a:lnTo>
                      <a:pt x="563" y="1780"/>
                    </a:lnTo>
                    <a:lnTo>
                      <a:pt x="583" y="1759"/>
                    </a:lnTo>
                    <a:lnTo>
                      <a:pt x="583" y="1759"/>
                    </a:lnTo>
                    <a:lnTo>
                      <a:pt x="596" y="1806"/>
                    </a:lnTo>
                    <a:lnTo>
                      <a:pt x="596" y="1806"/>
                    </a:lnTo>
                    <a:lnTo>
                      <a:pt x="601" y="1817"/>
                    </a:lnTo>
                    <a:lnTo>
                      <a:pt x="605" y="1829"/>
                    </a:lnTo>
                    <a:lnTo>
                      <a:pt x="610" y="1839"/>
                    </a:lnTo>
                    <a:lnTo>
                      <a:pt x="611" y="1845"/>
                    </a:lnTo>
                    <a:lnTo>
                      <a:pt x="611" y="1849"/>
                    </a:lnTo>
                    <a:lnTo>
                      <a:pt x="611" y="1849"/>
                    </a:lnTo>
                    <a:lnTo>
                      <a:pt x="610" y="1852"/>
                    </a:lnTo>
                    <a:lnTo>
                      <a:pt x="609" y="1856"/>
                    </a:lnTo>
                    <a:lnTo>
                      <a:pt x="604" y="1864"/>
                    </a:lnTo>
                    <a:lnTo>
                      <a:pt x="592" y="1882"/>
                    </a:lnTo>
                    <a:lnTo>
                      <a:pt x="592" y="1882"/>
                    </a:lnTo>
                    <a:lnTo>
                      <a:pt x="569" y="1924"/>
                    </a:lnTo>
                    <a:lnTo>
                      <a:pt x="546" y="1966"/>
                    </a:lnTo>
                    <a:lnTo>
                      <a:pt x="554" y="1966"/>
                    </a:lnTo>
                    <a:lnTo>
                      <a:pt x="554" y="1966"/>
                    </a:lnTo>
                    <a:lnTo>
                      <a:pt x="569" y="1939"/>
                    </a:lnTo>
                    <a:lnTo>
                      <a:pt x="584" y="1913"/>
                    </a:lnTo>
                    <a:lnTo>
                      <a:pt x="598" y="1887"/>
                    </a:lnTo>
                    <a:lnTo>
                      <a:pt x="615" y="1862"/>
                    </a:lnTo>
                    <a:lnTo>
                      <a:pt x="615" y="1862"/>
                    </a:lnTo>
                    <a:lnTo>
                      <a:pt x="633" y="1914"/>
                    </a:lnTo>
                    <a:lnTo>
                      <a:pt x="650" y="1966"/>
                    </a:lnTo>
                    <a:lnTo>
                      <a:pt x="672" y="1966"/>
                    </a:lnTo>
                    <a:lnTo>
                      <a:pt x="672" y="1966"/>
                    </a:lnTo>
                    <a:lnTo>
                      <a:pt x="634" y="1852"/>
                    </a:lnTo>
                    <a:lnTo>
                      <a:pt x="597" y="1738"/>
                    </a:lnTo>
                    <a:lnTo>
                      <a:pt x="597" y="1738"/>
                    </a:lnTo>
                    <a:close/>
                    <a:moveTo>
                      <a:pt x="462" y="1367"/>
                    </a:moveTo>
                    <a:lnTo>
                      <a:pt x="462" y="1367"/>
                    </a:lnTo>
                    <a:lnTo>
                      <a:pt x="476" y="1410"/>
                    </a:lnTo>
                    <a:lnTo>
                      <a:pt x="482" y="1431"/>
                    </a:lnTo>
                    <a:lnTo>
                      <a:pt x="484" y="1444"/>
                    </a:lnTo>
                    <a:lnTo>
                      <a:pt x="485" y="1456"/>
                    </a:lnTo>
                    <a:lnTo>
                      <a:pt x="485" y="1456"/>
                    </a:lnTo>
                    <a:lnTo>
                      <a:pt x="443" y="1504"/>
                    </a:lnTo>
                    <a:lnTo>
                      <a:pt x="443" y="1504"/>
                    </a:lnTo>
                    <a:lnTo>
                      <a:pt x="437" y="1512"/>
                    </a:lnTo>
                    <a:lnTo>
                      <a:pt x="434" y="1515"/>
                    </a:lnTo>
                    <a:lnTo>
                      <a:pt x="432" y="1515"/>
                    </a:lnTo>
                    <a:lnTo>
                      <a:pt x="429" y="1515"/>
                    </a:lnTo>
                    <a:lnTo>
                      <a:pt x="429" y="1515"/>
                    </a:lnTo>
                    <a:lnTo>
                      <a:pt x="445" y="1440"/>
                    </a:lnTo>
                    <a:lnTo>
                      <a:pt x="453" y="1403"/>
                    </a:lnTo>
                    <a:lnTo>
                      <a:pt x="462" y="1367"/>
                    </a:lnTo>
                    <a:lnTo>
                      <a:pt x="462" y="1367"/>
                    </a:lnTo>
                    <a:close/>
                    <a:moveTo>
                      <a:pt x="5" y="1009"/>
                    </a:moveTo>
                    <a:lnTo>
                      <a:pt x="5" y="1009"/>
                    </a:lnTo>
                    <a:lnTo>
                      <a:pt x="8" y="1024"/>
                    </a:lnTo>
                    <a:lnTo>
                      <a:pt x="13" y="1039"/>
                    </a:lnTo>
                    <a:lnTo>
                      <a:pt x="24" y="1068"/>
                    </a:lnTo>
                    <a:lnTo>
                      <a:pt x="35" y="1096"/>
                    </a:lnTo>
                    <a:lnTo>
                      <a:pt x="46" y="1125"/>
                    </a:lnTo>
                    <a:lnTo>
                      <a:pt x="46" y="1125"/>
                    </a:lnTo>
                    <a:lnTo>
                      <a:pt x="54" y="1145"/>
                    </a:lnTo>
                    <a:lnTo>
                      <a:pt x="57" y="1155"/>
                    </a:lnTo>
                    <a:lnTo>
                      <a:pt x="59" y="1166"/>
                    </a:lnTo>
                    <a:lnTo>
                      <a:pt x="59" y="1166"/>
                    </a:lnTo>
                    <a:lnTo>
                      <a:pt x="59" y="1177"/>
                    </a:lnTo>
                    <a:lnTo>
                      <a:pt x="58" y="1188"/>
                    </a:lnTo>
                    <a:lnTo>
                      <a:pt x="56" y="1201"/>
                    </a:lnTo>
                    <a:lnTo>
                      <a:pt x="52" y="1213"/>
                    </a:lnTo>
                    <a:lnTo>
                      <a:pt x="47" y="1238"/>
                    </a:lnTo>
                    <a:lnTo>
                      <a:pt x="44" y="1251"/>
                    </a:lnTo>
                    <a:lnTo>
                      <a:pt x="42" y="1263"/>
                    </a:lnTo>
                    <a:lnTo>
                      <a:pt x="42" y="1263"/>
                    </a:lnTo>
                    <a:lnTo>
                      <a:pt x="37" y="1232"/>
                    </a:lnTo>
                    <a:lnTo>
                      <a:pt x="30" y="1201"/>
                    </a:lnTo>
                    <a:lnTo>
                      <a:pt x="16" y="1138"/>
                    </a:lnTo>
                    <a:lnTo>
                      <a:pt x="10" y="1107"/>
                    </a:lnTo>
                    <a:lnTo>
                      <a:pt x="6" y="1075"/>
                    </a:lnTo>
                    <a:lnTo>
                      <a:pt x="5" y="1059"/>
                    </a:lnTo>
                    <a:lnTo>
                      <a:pt x="4" y="1042"/>
                    </a:lnTo>
                    <a:lnTo>
                      <a:pt x="4" y="1026"/>
                    </a:lnTo>
                    <a:lnTo>
                      <a:pt x="5" y="1009"/>
                    </a:lnTo>
                    <a:lnTo>
                      <a:pt x="5" y="1009"/>
                    </a:lnTo>
                    <a:close/>
                    <a:moveTo>
                      <a:pt x="74" y="1938"/>
                    </a:moveTo>
                    <a:lnTo>
                      <a:pt x="74" y="1938"/>
                    </a:lnTo>
                    <a:lnTo>
                      <a:pt x="77" y="1938"/>
                    </a:lnTo>
                    <a:lnTo>
                      <a:pt x="80" y="1939"/>
                    </a:lnTo>
                    <a:lnTo>
                      <a:pt x="80" y="1941"/>
                    </a:lnTo>
                    <a:lnTo>
                      <a:pt x="80" y="1943"/>
                    </a:lnTo>
                    <a:lnTo>
                      <a:pt x="77" y="1950"/>
                    </a:lnTo>
                    <a:lnTo>
                      <a:pt x="77" y="1952"/>
                    </a:lnTo>
                    <a:lnTo>
                      <a:pt x="77" y="1956"/>
                    </a:lnTo>
                    <a:lnTo>
                      <a:pt x="77" y="1956"/>
                    </a:lnTo>
                    <a:lnTo>
                      <a:pt x="72" y="1952"/>
                    </a:lnTo>
                    <a:lnTo>
                      <a:pt x="67" y="1949"/>
                    </a:lnTo>
                    <a:lnTo>
                      <a:pt x="60" y="1941"/>
                    </a:lnTo>
                    <a:lnTo>
                      <a:pt x="56" y="1932"/>
                    </a:lnTo>
                    <a:lnTo>
                      <a:pt x="52" y="1922"/>
                    </a:lnTo>
                    <a:lnTo>
                      <a:pt x="51" y="1910"/>
                    </a:lnTo>
                    <a:lnTo>
                      <a:pt x="49" y="1898"/>
                    </a:lnTo>
                    <a:lnTo>
                      <a:pt x="47" y="1872"/>
                    </a:lnTo>
                    <a:lnTo>
                      <a:pt x="47" y="1872"/>
                    </a:lnTo>
                    <a:lnTo>
                      <a:pt x="40" y="1831"/>
                    </a:lnTo>
                    <a:lnTo>
                      <a:pt x="33" y="1791"/>
                    </a:lnTo>
                    <a:lnTo>
                      <a:pt x="18" y="1714"/>
                    </a:lnTo>
                    <a:lnTo>
                      <a:pt x="18" y="1714"/>
                    </a:lnTo>
                    <a:lnTo>
                      <a:pt x="19" y="1713"/>
                    </a:lnTo>
                    <a:lnTo>
                      <a:pt x="22" y="1712"/>
                    </a:lnTo>
                    <a:lnTo>
                      <a:pt x="22" y="1712"/>
                    </a:lnTo>
                    <a:lnTo>
                      <a:pt x="67" y="1750"/>
                    </a:lnTo>
                    <a:lnTo>
                      <a:pt x="113" y="1788"/>
                    </a:lnTo>
                    <a:lnTo>
                      <a:pt x="113" y="1788"/>
                    </a:lnTo>
                    <a:lnTo>
                      <a:pt x="97" y="1859"/>
                    </a:lnTo>
                    <a:lnTo>
                      <a:pt x="83" y="1932"/>
                    </a:lnTo>
                    <a:lnTo>
                      <a:pt x="83" y="1932"/>
                    </a:lnTo>
                    <a:lnTo>
                      <a:pt x="82" y="1933"/>
                    </a:lnTo>
                    <a:lnTo>
                      <a:pt x="82" y="1934"/>
                    </a:lnTo>
                    <a:lnTo>
                      <a:pt x="79" y="1935"/>
                    </a:lnTo>
                    <a:lnTo>
                      <a:pt x="75" y="1935"/>
                    </a:lnTo>
                    <a:lnTo>
                      <a:pt x="74" y="1936"/>
                    </a:lnTo>
                    <a:lnTo>
                      <a:pt x="74" y="1938"/>
                    </a:lnTo>
                    <a:lnTo>
                      <a:pt x="74" y="1938"/>
                    </a:lnTo>
                    <a:close/>
                    <a:moveTo>
                      <a:pt x="123" y="1797"/>
                    </a:moveTo>
                    <a:lnTo>
                      <a:pt x="123" y="1797"/>
                    </a:lnTo>
                    <a:lnTo>
                      <a:pt x="127" y="1800"/>
                    </a:lnTo>
                    <a:lnTo>
                      <a:pt x="131" y="1805"/>
                    </a:lnTo>
                    <a:lnTo>
                      <a:pt x="133" y="1808"/>
                    </a:lnTo>
                    <a:lnTo>
                      <a:pt x="134" y="1814"/>
                    </a:lnTo>
                    <a:lnTo>
                      <a:pt x="134" y="1818"/>
                    </a:lnTo>
                    <a:lnTo>
                      <a:pt x="133" y="1823"/>
                    </a:lnTo>
                    <a:lnTo>
                      <a:pt x="130" y="1834"/>
                    </a:lnTo>
                    <a:lnTo>
                      <a:pt x="124" y="1846"/>
                    </a:lnTo>
                    <a:lnTo>
                      <a:pt x="117" y="1857"/>
                    </a:lnTo>
                    <a:lnTo>
                      <a:pt x="111" y="1867"/>
                    </a:lnTo>
                    <a:lnTo>
                      <a:pt x="108" y="1876"/>
                    </a:lnTo>
                    <a:lnTo>
                      <a:pt x="108" y="1876"/>
                    </a:lnTo>
                    <a:lnTo>
                      <a:pt x="111" y="1857"/>
                    </a:lnTo>
                    <a:lnTo>
                      <a:pt x="114" y="1837"/>
                    </a:lnTo>
                    <a:lnTo>
                      <a:pt x="118" y="1816"/>
                    </a:lnTo>
                    <a:lnTo>
                      <a:pt x="121" y="1807"/>
                    </a:lnTo>
                    <a:lnTo>
                      <a:pt x="123" y="1797"/>
                    </a:lnTo>
                    <a:lnTo>
                      <a:pt x="123" y="1797"/>
                    </a:lnTo>
                    <a:close/>
                    <a:moveTo>
                      <a:pt x="115" y="1934"/>
                    </a:moveTo>
                    <a:lnTo>
                      <a:pt x="115" y="1934"/>
                    </a:lnTo>
                    <a:lnTo>
                      <a:pt x="123" y="1913"/>
                    </a:lnTo>
                    <a:lnTo>
                      <a:pt x="132" y="1888"/>
                    </a:lnTo>
                    <a:lnTo>
                      <a:pt x="143" y="1863"/>
                    </a:lnTo>
                    <a:lnTo>
                      <a:pt x="150" y="1850"/>
                    </a:lnTo>
                    <a:lnTo>
                      <a:pt x="156" y="1840"/>
                    </a:lnTo>
                    <a:lnTo>
                      <a:pt x="156" y="1840"/>
                    </a:lnTo>
                    <a:lnTo>
                      <a:pt x="158" y="1847"/>
                    </a:lnTo>
                    <a:lnTo>
                      <a:pt x="158" y="1854"/>
                    </a:lnTo>
                    <a:lnTo>
                      <a:pt x="158" y="1860"/>
                    </a:lnTo>
                    <a:lnTo>
                      <a:pt x="157" y="1866"/>
                    </a:lnTo>
                    <a:lnTo>
                      <a:pt x="151" y="1877"/>
                    </a:lnTo>
                    <a:lnTo>
                      <a:pt x="146" y="1889"/>
                    </a:lnTo>
                    <a:lnTo>
                      <a:pt x="128" y="1912"/>
                    </a:lnTo>
                    <a:lnTo>
                      <a:pt x="122" y="1922"/>
                    </a:lnTo>
                    <a:lnTo>
                      <a:pt x="115" y="1934"/>
                    </a:lnTo>
                    <a:lnTo>
                      <a:pt x="115" y="1934"/>
                    </a:lnTo>
                    <a:close/>
                    <a:moveTo>
                      <a:pt x="156" y="1770"/>
                    </a:moveTo>
                    <a:lnTo>
                      <a:pt x="156" y="1770"/>
                    </a:lnTo>
                    <a:lnTo>
                      <a:pt x="149" y="1756"/>
                    </a:lnTo>
                    <a:lnTo>
                      <a:pt x="144" y="1742"/>
                    </a:lnTo>
                    <a:lnTo>
                      <a:pt x="142" y="1729"/>
                    </a:lnTo>
                    <a:lnTo>
                      <a:pt x="141" y="1715"/>
                    </a:lnTo>
                    <a:lnTo>
                      <a:pt x="142" y="1700"/>
                    </a:lnTo>
                    <a:lnTo>
                      <a:pt x="143" y="1686"/>
                    </a:lnTo>
                    <a:lnTo>
                      <a:pt x="147" y="1671"/>
                    </a:lnTo>
                    <a:lnTo>
                      <a:pt x="150" y="1656"/>
                    </a:lnTo>
                    <a:lnTo>
                      <a:pt x="158" y="1625"/>
                    </a:lnTo>
                    <a:lnTo>
                      <a:pt x="167" y="1596"/>
                    </a:lnTo>
                    <a:lnTo>
                      <a:pt x="174" y="1568"/>
                    </a:lnTo>
                    <a:lnTo>
                      <a:pt x="177" y="1553"/>
                    </a:lnTo>
                    <a:lnTo>
                      <a:pt x="178" y="1539"/>
                    </a:lnTo>
                    <a:lnTo>
                      <a:pt x="178" y="1539"/>
                    </a:lnTo>
                    <a:lnTo>
                      <a:pt x="177" y="1539"/>
                    </a:lnTo>
                    <a:lnTo>
                      <a:pt x="177" y="1539"/>
                    </a:lnTo>
                    <a:lnTo>
                      <a:pt x="174" y="1555"/>
                    </a:lnTo>
                    <a:lnTo>
                      <a:pt x="169" y="1571"/>
                    </a:lnTo>
                    <a:lnTo>
                      <a:pt x="159" y="1602"/>
                    </a:lnTo>
                    <a:lnTo>
                      <a:pt x="149" y="1633"/>
                    </a:lnTo>
                    <a:lnTo>
                      <a:pt x="146" y="1649"/>
                    </a:lnTo>
                    <a:lnTo>
                      <a:pt x="142" y="1665"/>
                    </a:lnTo>
                    <a:lnTo>
                      <a:pt x="142" y="1665"/>
                    </a:lnTo>
                    <a:lnTo>
                      <a:pt x="141" y="1672"/>
                    </a:lnTo>
                    <a:lnTo>
                      <a:pt x="141" y="1680"/>
                    </a:lnTo>
                    <a:lnTo>
                      <a:pt x="140" y="1683"/>
                    </a:lnTo>
                    <a:lnTo>
                      <a:pt x="139" y="1687"/>
                    </a:lnTo>
                    <a:lnTo>
                      <a:pt x="136" y="1691"/>
                    </a:lnTo>
                    <a:lnTo>
                      <a:pt x="133" y="1695"/>
                    </a:lnTo>
                    <a:lnTo>
                      <a:pt x="133" y="1695"/>
                    </a:lnTo>
                    <a:lnTo>
                      <a:pt x="126" y="1666"/>
                    </a:lnTo>
                    <a:lnTo>
                      <a:pt x="121" y="1638"/>
                    </a:lnTo>
                    <a:lnTo>
                      <a:pt x="109" y="1581"/>
                    </a:lnTo>
                    <a:lnTo>
                      <a:pt x="109" y="1581"/>
                    </a:lnTo>
                    <a:lnTo>
                      <a:pt x="107" y="1572"/>
                    </a:lnTo>
                    <a:lnTo>
                      <a:pt x="104" y="1562"/>
                    </a:lnTo>
                    <a:lnTo>
                      <a:pt x="101" y="1553"/>
                    </a:lnTo>
                    <a:lnTo>
                      <a:pt x="100" y="1544"/>
                    </a:lnTo>
                    <a:lnTo>
                      <a:pt x="100" y="1544"/>
                    </a:lnTo>
                    <a:lnTo>
                      <a:pt x="101" y="1540"/>
                    </a:lnTo>
                    <a:lnTo>
                      <a:pt x="102" y="1537"/>
                    </a:lnTo>
                    <a:lnTo>
                      <a:pt x="104" y="1533"/>
                    </a:lnTo>
                    <a:lnTo>
                      <a:pt x="104" y="1531"/>
                    </a:lnTo>
                    <a:lnTo>
                      <a:pt x="104" y="1531"/>
                    </a:lnTo>
                    <a:lnTo>
                      <a:pt x="104" y="1526"/>
                    </a:lnTo>
                    <a:lnTo>
                      <a:pt x="101" y="1520"/>
                    </a:lnTo>
                    <a:lnTo>
                      <a:pt x="97" y="1509"/>
                    </a:lnTo>
                    <a:lnTo>
                      <a:pt x="92" y="1496"/>
                    </a:lnTo>
                    <a:lnTo>
                      <a:pt x="88" y="1485"/>
                    </a:lnTo>
                    <a:lnTo>
                      <a:pt x="88" y="1485"/>
                    </a:lnTo>
                    <a:lnTo>
                      <a:pt x="80" y="1446"/>
                    </a:lnTo>
                    <a:lnTo>
                      <a:pt x="72" y="1407"/>
                    </a:lnTo>
                    <a:lnTo>
                      <a:pt x="64" y="1369"/>
                    </a:lnTo>
                    <a:lnTo>
                      <a:pt x="56" y="1331"/>
                    </a:lnTo>
                    <a:lnTo>
                      <a:pt x="56" y="1331"/>
                    </a:lnTo>
                    <a:lnTo>
                      <a:pt x="60" y="1323"/>
                    </a:lnTo>
                    <a:lnTo>
                      <a:pt x="63" y="1316"/>
                    </a:lnTo>
                    <a:lnTo>
                      <a:pt x="63" y="1316"/>
                    </a:lnTo>
                    <a:lnTo>
                      <a:pt x="64" y="1301"/>
                    </a:lnTo>
                    <a:lnTo>
                      <a:pt x="64" y="1285"/>
                    </a:lnTo>
                    <a:lnTo>
                      <a:pt x="63" y="1252"/>
                    </a:lnTo>
                    <a:lnTo>
                      <a:pt x="63" y="1235"/>
                    </a:lnTo>
                    <a:lnTo>
                      <a:pt x="64" y="1219"/>
                    </a:lnTo>
                    <a:lnTo>
                      <a:pt x="66" y="1203"/>
                    </a:lnTo>
                    <a:lnTo>
                      <a:pt x="69" y="1188"/>
                    </a:lnTo>
                    <a:lnTo>
                      <a:pt x="69" y="1188"/>
                    </a:lnTo>
                    <a:lnTo>
                      <a:pt x="74" y="1192"/>
                    </a:lnTo>
                    <a:lnTo>
                      <a:pt x="79" y="1195"/>
                    </a:lnTo>
                    <a:lnTo>
                      <a:pt x="82" y="1201"/>
                    </a:lnTo>
                    <a:lnTo>
                      <a:pt x="84" y="1207"/>
                    </a:lnTo>
                    <a:lnTo>
                      <a:pt x="89" y="1219"/>
                    </a:lnTo>
                    <a:lnTo>
                      <a:pt x="92" y="1233"/>
                    </a:lnTo>
                    <a:lnTo>
                      <a:pt x="92" y="1233"/>
                    </a:lnTo>
                    <a:lnTo>
                      <a:pt x="104" y="1275"/>
                    </a:lnTo>
                    <a:lnTo>
                      <a:pt x="115" y="1317"/>
                    </a:lnTo>
                    <a:lnTo>
                      <a:pt x="125" y="1359"/>
                    </a:lnTo>
                    <a:lnTo>
                      <a:pt x="138" y="1398"/>
                    </a:lnTo>
                    <a:lnTo>
                      <a:pt x="138" y="1398"/>
                    </a:lnTo>
                    <a:lnTo>
                      <a:pt x="139" y="1401"/>
                    </a:lnTo>
                    <a:lnTo>
                      <a:pt x="140" y="1401"/>
                    </a:lnTo>
                    <a:lnTo>
                      <a:pt x="144" y="1403"/>
                    </a:lnTo>
                    <a:lnTo>
                      <a:pt x="148" y="1404"/>
                    </a:lnTo>
                    <a:lnTo>
                      <a:pt x="149" y="1406"/>
                    </a:lnTo>
                    <a:lnTo>
                      <a:pt x="149" y="1407"/>
                    </a:lnTo>
                    <a:lnTo>
                      <a:pt x="149" y="1407"/>
                    </a:lnTo>
                    <a:lnTo>
                      <a:pt x="157" y="1430"/>
                    </a:lnTo>
                    <a:lnTo>
                      <a:pt x="166" y="1453"/>
                    </a:lnTo>
                    <a:lnTo>
                      <a:pt x="183" y="1497"/>
                    </a:lnTo>
                    <a:lnTo>
                      <a:pt x="191" y="1520"/>
                    </a:lnTo>
                    <a:lnTo>
                      <a:pt x="198" y="1543"/>
                    </a:lnTo>
                    <a:lnTo>
                      <a:pt x="205" y="1566"/>
                    </a:lnTo>
                    <a:lnTo>
                      <a:pt x="209" y="1593"/>
                    </a:lnTo>
                    <a:lnTo>
                      <a:pt x="209" y="1593"/>
                    </a:lnTo>
                    <a:lnTo>
                      <a:pt x="218" y="1600"/>
                    </a:lnTo>
                    <a:lnTo>
                      <a:pt x="222" y="1605"/>
                    </a:lnTo>
                    <a:lnTo>
                      <a:pt x="224" y="1608"/>
                    </a:lnTo>
                    <a:lnTo>
                      <a:pt x="226" y="1616"/>
                    </a:lnTo>
                    <a:lnTo>
                      <a:pt x="226" y="1625"/>
                    </a:lnTo>
                    <a:lnTo>
                      <a:pt x="224" y="1635"/>
                    </a:lnTo>
                    <a:lnTo>
                      <a:pt x="220" y="1644"/>
                    </a:lnTo>
                    <a:lnTo>
                      <a:pt x="211" y="1663"/>
                    </a:lnTo>
                    <a:lnTo>
                      <a:pt x="211" y="1663"/>
                    </a:lnTo>
                    <a:lnTo>
                      <a:pt x="183" y="1719"/>
                    </a:lnTo>
                    <a:lnTo>
                      <a:pt x="169" y="1746"/>
                    </a:lnTo>
                    <a:lnTo>
                      <a:pt x="156" y="1770"/>
                    </a:lnTo>
                    <a:lnTo>
                      <a:pt x="156" y="1770"/>
                    </a:lnTo>
                    <a:close/>
                    <a:moveTo>
                      <a:pt x="222" y="1776"/>
                    </a:moveTo>
                    <a:lnTo>
                      <a:pt x="222" y="1776"/>
                    </a:lnTo>
                    <a:lnTo>
                      <a:pt x="211" y="1789"/>
                    </a:lnTo>
                    <a:lnTo>
                      <a:pt x="202" y="1803"/>
                    </a:lnTo>
                    <a:lnTo>
                      <a:pt x="193" y="1816"/>
                    </a:lnTo>
                    <a:lnTo>
                      <a:pt x="188" y="1823"/>
                    </a:lnTo>
                    <a:lnTo>
                      <a:pt x="182" y="1829"/>
                    </a:lnTo>
                    <a:lnTo>
                      <a:pt x="182" y="1829"/>
                    </a:lnTo>
                    <a:lnTo>
                      <a:pt x="178" y="1826"/>
                    </a:lnTo>
                    <a:lnTo>
                      <a:pt x="176" y="1824"/>
                    </a:lnTo>
                    <a:lnTo>
                      <a:pt x="173" y="1817"/>
                    </a:lnTo>
                    <a:lnTo>
                      <a:pt x="170" y="1809"/>
                    </a:lnTo>
                    <a:lnTo>
                      <a:pt x="168" y="1801"/>
                    </a:lnTo>
                    <a:lnTo>
                      <a:pt x="168" y="1801"/>
                    </a:lnTo>
                    <a:lnTo>
                      <a:pt x="184" y="1767"/>
                    </a:lnTo>
                    <a:lnTo>
                      <a:pt x="199" y="1732"/>
                    </a:lnTo>
                    <a:lnTo>
                      <a:pt x="215" y="1697"/>
                    </a:lnTo>
                    <a:lnTo>
                      <a:pt x="231" y="1663"/>
                    </a:lnTo>
                    <a:lnTo>
                      <a:pt x="231" y="1663"/>
                    </a:lnTo>
                    <a:lnTo>
                      <a:pt x="225" y="1720"/>
                    </a:lnTo>
                    <a:lnTo>
                      <a:pt x="222" y="1776"/>
                    </a:lnTo>
                    <a:lnTo>
                      <a:pt x="222" y="1776"/>
                    </a:lnTo>
                    <a:close/>
                    <a:moveTo>
                      <a:pt x="225" y="1389"/>
                    </a:moveTo>
                    <a:lnTo>
                      <a:pt x="225" y="1389"/>
                    </a:lnTo>
                    <a:lnTo>
                      <a:pt x="241" y="1419"/>
                    </a:lnTo>
                    <a:lnTo>
                      <a:pt x="258" y="1448"/>
                    </a:lnTo>
                    <a:lnTo>
                      <a:pt x="275" y="1478"/>
                    </a:lnTo>
                    <a:lnTo>
                      <a:pt x="291" y="1509"/>
                    </a:lnTo>
                    <a:lnTo>
                      <a:pt x="291" y="1509"/>
                    </a:lnTo>
                    <a:lnTo>
                      <a:pt x="274" y="1540"/>
                    </a:lnTo>
                    <a:lnTo>
                      <a:pt x="257" y="1571"/>
                    </a:lnTo>
                    <a:lnTo>
                      <a:pt x="257" y="1571"/>
                    </a:lnTo>
                    <a:lnTo>
                      <a:pt x="252" y="1582"/>
                    </a:lnTo>
                    <a:lnTo>
                      <a:pt x="250" y="1587"/>
                    </a:lnTo>
                    <a:lnTo>
                      <a:pt x="248" y="1588"/>
                    </a:lnTo>
                    <a:lnTo>
                      <a:pt x="245" y="1590"/>
                    </a:lnTo>
                    <a:lnTo>
                      <a:pt x="245" y="1590"/>
                    </a:lnTo>
                    <a:lnTo>
                      <a:pt x="248" y="1577"/>
                    </a:lnTo>
                    <a:lnTo>
                      <a:pt x="250" y="1563"/>
                    </a:lnTo>
                    <a:lnTo>
                      <a:pt x="254" y="1536"/>
                    </a:lnTo>
                    <a:lnTo>
                      <a:pt x="254" y="1536"/>
                    </a:lnTo>
                    <a:lnTo>
                      <a:pt x="261" y="1510"/>
                    </a:lnTo>
                    <a:lnTo>
                      <a:pt x="264" y="1497"/>
                    </a:lnTo>
                    <a:lnTo>
                      <a:pt x="264" y="1487"/>
                    </a:lnTo>
                    <a:lnTo>
                      <a:pt x="264" y="1487"/>
                    </a:lnTo>
                    <a:lnTo>
                      <a:pt x="258" y="1509"/>
                    </a:lnTo>
                    <a:lnTo>
                      <a:pt x="252" y="1531"/>
                    </a:lnTo>
                    <a:lnTo>
                      <a:pt x="248" y="1554"/>
                    </a:lnTo>
                    <a:lnTo>
                      <a:pt x="244" y="1565"/>
                    </a:lnTo>
                    <a:lnTo>
                      <a:pt x="241" y="1575"/>
                    </a:lnTo>
                    <a:lnTo>
                      <a:pt x="241" y="1575"/>
                    </a:lnTo>
                    <a:lnTo>
                      <a:pt x="239" y="1553"/>
                    </a:lnTo>
                    <a:lnTo>
                      <a:pt x="236" y="1529"/>
                    </a:lnTo>
                    <a:lnTo>
                      <a:pt x="228" y="1485"/>
                    </a:lnTo>
                    <a:lnTo>
                      <a:pt x="226" y="1462"/>
                    </a:lnTo>
                    <a:lnTo>
                      <a:pt x="224" y="1438"/>
                    </a:lnTo>
                    <a:lnTo>
                      <a:pt x="224" y="1414"/>
                    </a:lnTo>
                    <a:lnTo>
                      <a:pt x="225" y="1389"/>
                    </a:lnTo>
                    <a:lnTo>
                      <a:pt x="225" y="1389"/>
                    </a:lnTo>
                    <a:close/>
                    <a:moveTo>
                      <a:pt x="234" y="1756"/>
                    </a:moveTo>
                    <a:lnTo>
                      <a:pt x="234" y="1756"/>
                    </a:lnTo>
                    <a:lnTo>
                      <a:pt x="235" y="1705"/>
                    </a:lnTo>
                    <a:lnTo>
                      <a:pt x="236" y="1680"/>
                    </a:lnTo>
                    <a:lnTo>
                      <a:pt x="239" y="1667"/>
                    </a:lnTo>
                    <a:lnTo>
                      <a:pt x="241" y="1656"/>
                    </a:lnTo>
                    <a:lnTo>
                      <a:pt x="241" y="1656"/>
                    </a:lnTo>
                    <a:lnTo>
                      <a:pt x="252" y="1689"/>
                    </a:lnTo>
                    <a:lnTo>
                      <a:pt x="265" y="1721"/>
                    </a:lnTo>
                    <a:lnTo>
                      <a:pt x="265" y="1721"/>
                    </a:lnTo>
                    <a:lnTo>
                      <a:pt x="250" y="1739"/>
                    </a:lnTo>
                    <a:lnTo>
                      <a:pt x="243" y="1748"/>
                    </a:lnTo>
                    <a:lnTo>
                      <a:pt x="234" y="1756"/>
                    </a:lnTo>
                    <a:lnTo>
                      <a:pt x="234" y="1756"/>
                    </a:lnTo>
                    <a:close/>
                    <a:moveTo>
                      <a:pt x="261" y="1664"/>
                    </a:moveTo>
                    <a:lnTo>
                      <a:pt x="261" y="1664"/>
                    </a:lnTo>
                    <a:lnTo>
                      <a:pt x="257" y="1654"/>
                    </a:lnTo>
                    <a:lnTo>
                      <a:pt x="251" y="1644"/>
                    </a:lnTo>
                    <a:lnTo>
                      <a:pt x="247" y="1633"/>
                    </a:lnTo>
                    <a:lnTo>
                      <a:pt x="245" y="1629"/>
                    </a:lnTo>
                    <a:lnTo>
                      <a:pt x="245" y="1623"/>
                    </a:lnTo>
                    <a:lnTo>
                      <a:pt x="245" y="1623"/>
                    </a:lnTo>
                    <a:lnTo>
                      <a:pt x="247" y="1619"/>
                    </a:lnTo>
                    <a:lnTo>
                      <a:pt x="249" y="1613"/>
                    </a:lnTo>
                    <a:lnTo>
                      <a:pt x="256" y="1600"/>
                    </a:lnTo>
                    <a:lnTo>
                      <a:pt x="264" y="1587"/>
                    </a:lnTo>
                    <a:lnTo>
                      <a:pt x="272" y="1572"/>
                    </a:lnTo>
                    <a:lnTo>
                      <a:pt x="272" y="1572"/>
                    </a:lnTo>
                    <a:lnTo>
                      <a:pt x="277" y="1556"/>
                    </a:lnTo>
                    <a:lnTo>
                      <a:pt x="284" y="1540"/>
                    </a:lnTo>
                    <a:lnTo>
                      <a:pt x="290" y="1528"/>
                    </a:lnTo>
                    <a:lnTo>
                      <a:pt x="294" y="1522"/>
                    </a:lnTo>
                    <a:lnTo>
                      <a:pt x="298" y="1519"/>
                    </a:lnTo>
                    <a:lnTo>
                      <a:pt x="298" y="1519"/>
                    </a:lnTo>
                    <a:lnTo>
                      <a:pt x="310" y="1543"/>
                    </a:lnTo>
                    <a:lnTo>
                      <a:pt x="324" y="1566"/>
                    </a:lnTo>
                    <a:lnTo>
                      <a:pt x="337" y="1590"/>
                    </a:lnTo>
                    <a:lnTo>
                      <a:pt x="351" y="1614"/>
                    </a:lnTo>
                    <a:lnTo>
                      <a:pt x="351" y="1614"/>
                    </a:lnTo>
                    <a:lnTo>
                      <a:pt x="332" y="1636"/>
                    </a:lnTo>
                    <a:lnTo>
                      <a:pt x="314" y="1658"/>
                    </a:lnTo>
                    <a:lnTo>
                      <a:pt x="276" y="1704"/>
                    </a:lnTo>
                    <a:lnTo>
                      <a:pt x="276" y="1704"/>
                    </a:lnTo>
                    <a:lnTo>
                      <a:pt x="272" y="1695"/>
                    </a:lnTo>
                    <a:lnTo>
                      <a:pt x="268" y="1684"/>
                    </a:lnTo>
                    <a:lnTo>
                      <a:pt x="261" y="1664"/>
                    </a:lnTo>
                    <a:lnTo>
                      <a:pt x="261" y="1664"/>
                    </a:lnTo>
                    <a:close/>
                    <a:moveTo>
                      <a:pt x="366" y="1711"/>
                    </a:moveTo>
                    <a:lnTo>
                      <a:pt x="366" y="1711"/>
                    </a:lnTo>
                    <a:lnTo>
                      <a:pt x="350" y="1784"/>
                    </a:lnTo>
                    <a:lnTo>
                      <a:pt x="343" y="1822"/>
                    </a:lnTo>
                    <a:lnTo>
                      <a:pt x="341" y="1841"/>
                    </a:lnTo>
                    <a:lnTo>
                      <a:pt x="340" y="1859"/>
                    </a:lnTo>
                    <a:lnTo>
                      <a:pt x="340" y="1859"/>
                    </a:lnTo>
                    <a:lnTo>
                      <a:pt x="334" y="1852"/>
                    </a:lnTo>
                    <a:lnTo>
                      <a:pt x="329" y="1843"/>
                    </a:lnTo>
                    <a:lnTo>
                      <a:pt x="327" y="1835"/>
                    </a:lnTo>
                    <a:lnTo>
                      <a:pt x="325" y="1826"/>
                    </a:lnTo>
                    <a:lnTo>
                      <a:pt x="320" y="1809"/>
                    </a:lnTo>
                    <a:lnTo>
                      <a:pt x="317" y="1800"/>
                    </a:lnTo>
                    <a:lnTo>
                      <a:pt x="314" y="1791"/>
                    </a:lnTo>
                    <a:lnTo>
                      <a:pt x="314" y="1791"/>
                    </a:lnTo>
                    <a:lnTo>
                      <a:pt x="304" y="1778"/>
                    </a:lnTo>
                    <a:lnTo>
                      <a:pt x="294" y="1759"/>
                    </a:lnTo>
                    <a:lnTo>
                      <a:pt x="290" y="1750"/>
                    </a:lnTo>
                    <a:lnTo>
                      <a:pt x="286" y="1741"/>
                    </a:lnTo>
                    <a:lnTo>
                      <a:pt x="284" y="1733"/>
                    </a:lnTo>
                    <a:lnTo>
                      <a:pt x="284" y="1725"/>
                    </a:lnTo>
                    <a:lnTo>
                      <a:pt x="284" y="1725"/>
                    </a:lnTo>
                    <a:lnTo>
                      <a:pt x="285" y="1721"/>
                    </a:lnTo>
                    <a:lnTo>
                      <a:pt x="289" y="1715"/>
                    </a:lnTo>
                    <a:lnTo>
                      <a:pt x="298" y="1703"/>
                    </a:lnTo>
                    <a:lnTo>
                      <a:pt x="317" y="1677"/>
                    </a:lnTo>
                    <a:lnTo>
                      <a:pt x="317" y="1677"/>
                    </a:lnTo>
                    <a:lnTo>
                      <a:pt x="328" y="1662"/>
                    </a:lnTo>
                    <a:lnTo>
                      <a:pt x="338" y="1648"/>
                    </a:lnTo>
                    <a:lnTo>
                      <a:pt x="359" y="1627"/>
                    </a:lnTo>
                    <a:lnTo>
                      <a:pt x="359" y="1627"/>
                    </a:lnTo>
                    <a:lnTo>
                      <a:pt x="365" y="1637"/>
                    </a:lnTo>
                    <a:lnTo>
                      <a:pt x="369" y="1646"/>
                    </a:lnTo>
                    <a:lnTo>
                      <a:pt x="371" y="1655"/>
                    </a:lnTo>
                    <a:lnTo>
                      <a:pt x="371" y="1665"/>
                    </a:lnTo>
                    <a:lnTo>
                      <a:pt x="371" y="1675"/>
                    </a:lnTo>
                    <a:lnTo>
                      <a:pt x="370" y="1687"/>
                    </a:lnTo>
                    <a:lnTo>
                      <a:pt x="366" y="1711"/>
                    </a:lnTo>
                    <a:lnTo>
                      <a:pt x="366" y="1711"/>
                    </a:lnTo>
                    <a:close/>
                    <a:moveTo>
                      <a:pt x="359" y="1602"/>
                    </a:moveTo>
                    <a:lnTo>
                      <a:pt x="359" y="1602"/>
                    </a:lnTo>
                    <a:lnTo>
                      <a:pt x="331" y="1553"/>
                    </a:lnTo>
                    <a:lnTo>
                      <a:pt x="301" y="1506"/>
                    </a:lnTo>
                    <a:lnTo>
                      <a:pt x="301" y="1506"/>
                    </a:lnTo>
                    <a:lnTo>
                      <a:pt x="315" y="1476"/>
                    </a:lnTo>
                    <a:lnTo>
                      <a:pt x="328" y="1446"/>
                    </a:lnTo>
                    <a:lnTo>
                      <a:pt x="344" y="1419"/>
                    </a:lnTo>
                    <a:lnTo>
                      <a:pt x="362" y="1392"/>
                    </a:lnTo>
                    <a:lnTo>
                      <a:pt x="362" y="1392"/>
                    </a:lnTo>
                    <a:lnTo>
                      <a:pt x="362" y="1409"/>
                    </a:lnTo>
                    <a:lnTo>
                      <a:pt x="363" y="1426"/>
                    </a:lnTo>
                    <a:lnTo>
                      <a:pt x="367" y="1462"/>
                    </a:lnTo>
                    <a:lnTo>
                      <a:pt x="375" y="1532"/>
                    </a:lnTo>
                    <a:lnTo>
                      <a:pt x="375" y="1532"/>
                    </a:lnTo>
                    <a:lnTo>
                      <a:pt x="377" y="1555"/>
                    </a:lnTo>
                    <a:lnTo>
                      <a:pt x="378" y="1565"/>
                    </a:lnTo>
                    <a:lnTo>
                      <a:pt x="378" y="1573"/>
                    </a:lnTo>
                    <a:lnTo>
                      <a:pt x="376" y="1581"/>
                    </a:lnTo>
                    <a:lnTo>
                      <a:pt x="374" y="1588"/>
                    </a:lnTo>
                    <a:lnTo>
                      <a:pt x="368" y="1595"/>
                    </a:lnTo>
                    <a:lnTo>
                      <a:pt x="359" y="1602"/>
                    </a:lnTo>
                    <a:lnTo>
                      <a:pt x="359" y="1602"/>
                    </a:lnTo>
                    <a:close/>
                    <a:moveTo>
                      <a:pt x="394" y="1560"/>
                    </a:moveTo>
                    <a:lnTo>
                      <a:pt x="394" y="1560"/>
                    </a:lnTo>
                    <a:lnTo>
                      <a:pt x="398" y="1529"/>
                    </a:lnTo>
                    <a:lnTo>
                      <a:pt x="402" y="1497"/>
                    </a:lnTo>
                    <a:lnTo>
                      <a:pt x="413" y="1437"/>
                    </a:lnTo>
                    <a:lnTo>
                      <a:pt x="424" y="1376"/>
                    </a:lnTo>
                    <a:lnTo>
                      <a:pt x="428" y="1346"/>
                    </a:lnTo>
                    <a:lnTo>
                      <a:pt x="430" y="1316"/>
                    </a:lnTo>
                    <a:lnTo>
                      <a:pt x="430" y="1316"/>
                    </a:lnTo>
                    <a:lnTo>
                      <a:pt x="419" y="1377"/>
                    </a:lnTo>
                    <a:lnTo>
                      <a:pt x="405" y="1436"/>
                    </a:lnTo>
                    <a:lnTo>
                      <a:pt x="394" y="1497"/>
                    </a:lnTo>
                    <a:lnTo>
                      <a:pt x="388" y="1529"/>
                    </a:lnTo>
                    <a:lnTo>
                      <a:pt x="385" y="1561"/>
                    </a:lnTo>
                    <a:lnTo>
                      <a:pt x="385" y="1561"/>
                    </a:lnTo>
                    <a:lnTo>
                      <a:pt x="380" y="1537"/>
                    </a:lnTo>
                    <a:lnTo>
                      <a:pt x="378" y="1514"/>
                    </a:lnTo>
                    <a:lnTo>
                      <a:pt x="376" y="1491"/>
                    </a:lnTo>
                    <a:lnTo>
                      <a:pt x="376" y="1472"/>
                    </a:lnTo>
                    <a:lnTo>
                      <a:pt x="376" y="1472"/>
                    </a:lnTo>
                    <a:lnTo>
                      <a:pt x="376" y="1460"/>
                    </a:lnTo>
                    <a:lnTo>
                      <a:pt x="374" y="1448"/>
                    </a:lnTo>
                    <a:lnTo>
                      <a:pt x="369" y="1425"/>
                    </a:lnTo>
                    <a:lnTo>
                      <a:pt x="367" y="1413"/>
                    </a:lnTo>
                    <a:lnTo>
                      <a:pt x="366" y="1402"/>
                    </a:lnTo>
                    <a:lnTo>
                      <a:pt x="366" y="1390"/>
                    </a:lnTo>
                    <a:lnTo>
                      <a:pt x="367" y="1379"/>
                    </a:lnTo>
                    <a:lnTo>
                      <a:pt x="367" y="1379"/>
                    </a:lnTo>
                    <a:lnTo>
                      <a:pt x="369" y="1372"/>
                    </a:lnTo>
                    <a:lnTo>
                      <a:pt x="374" y="1365"/>
                    </a:lnTo>
                    <a:lnTo>
                      <a:pt x="383" y="1351"/>
                    </a:lnTo>
                    <a:lnTo>
                      <a:pt x="383" y="1351"/>
                    </a:lnTo>
                    <a:lnTo>
                      <a:pt x="408" y="1306"/>
                    </a:lnTo>
                    <a:lnTo>
                      <a:pt x="419" y="1285"/>
                    </a:lnTo>
                    <a:lnTo>
                      <a:pt x="432" y="1266"/>
                    </a:lnTo>
                    <a:lnTo>
                      <a:pt x="432" y="1266"/>
                    </a:lnTo>
                    <a:lnTo>
                      <a:pt x="434" y="1276"/>
                    </a:lnTo>
                    <a:lnTo>
                      <a:pt x="436" y="1285"/>
                    </a:lnTo>
                    <a:lnTo>
                      <a:pt x="444" y="1304"/>
                    </a:lnTo>
                    <a:lnTo>
                      <a:pt x="447" y="1314"/>
                    </a:lnTo>
                    <a:lnTo>
                      <a:pt x="451" y="1323"/>
                    </a:lnTo>
                    <a:lnTo>
                      <a:pt x="453" y="1333"/>
                    </a:lnTo>
                    <a:lnTo>
                      <a:pt x="454" y="1343"/>
                    </a:lnTo>
                    <a:lnTo>
                      <a:pt x="454" y="1343"/>
                    </a:lnTo>
                    <a:lnTo>
                      <a:pt x="454" y="1350"/>
                    </a:lnTo>
                    <a:lnTo>
                      <a:pt x="453" y="1355"/>
                    </a:lnTo>
                    <a:lnTo>
                      <a:pt x="449" y="1369"/>
                    </a:lnTo>
                    <a:lnTo>
                      <a:pt x="444" y="1383"/>
                    </a:lnTo>
                    <a:lnTo>
                      <a:pt x="440" y="1396"/>
                    </a:lnTo>
                    <a:lnTo>
                      <a:pt x="440" y="1396"/>
                    </a:lnTo>
                    <a:lnTo>
                      <a:pt x="433" y="1425"/>
                    </a:lnTo>
                    <a:lnTo>
                      <a:pt x="426" y="1453"/>
                    </a:lnTo>
                    <a:lnTo>
                      <a:pt x="411" y="1506"/>
                    </a:lnTo>
                    <a:lnTo>
                      <a:pt x="411" y="1506"/>
                    </a:lnTo>
                    <a:lnTo>
                      <a:pt x="408" y="1520"/>
                    </a:lnTo>
                    <a:lnTo>
                      <a:pt x="405" y="1533"/>
                    </a:lnTo>
                    <a:lnTo>
                      <a:pt x="403" y="1540"/>
                    </a:lnTo>
                    <a:lnTo>
                      <a:pt x="401" y="1547"/>
                    </a:lnTo>
                    <a:lnTo>
                      <a:pt x="398" y="1554"/>
                    </a:lnTo>
                    <a:lnTo>
                      <a:pt x="394" y="1560"/>
                    </a:lnTo>
                    <a:lnTo>
                      <a:pt x="394" y="1560"/>
                    </a:lnTo>
                    <a:close/>
                    <a:moveTo>
                      <a:pt x="421" y="1832"/>
                    </a:moveTo>
                    <a:lnTo>
                      <a:pt x="421" y="1832"/>
                    </a:lnTo>
                    <a:lnTo>
                      <a:pt x="420" y="1812"/>
                    </a:lnTo>
                    <a:lnTo>
                      <a:pt x="418" y="1790"/>
                    </a:lnTo>
                    <a:lnTo>
                      <a:pt x="410" y="1748"/>
                    </a:lnTo>
                    <a:lnTo>
                      <a:pt x="405" y="1728"/>
                    </a:lnTo>
                    <a:lnTo>
                      <a:pt x="402" y="1707"/>
                    </a:lnTo>
                    <a:lnTo>
                      <a:pt x="400" y="1687"/>
                    </a:lnTo>
                    <a:lnTo>
                      <a:pt x="400" y="1666"/>
                    </a:lnTo>
                    <a:lnTo>
                      <a:pt x="400" y="1666"/>
                    </a:lnTo>
                    <a:lnTo>
                      <a:pt x="401" y="1650"/>
                    </a:lnTo>
                    <a:lnTo>
                      <a:pt x="404" y="1635"/>
                    </a:lnTo>
                    <a:lnTo>
                      <a:pt x="411" y="1603"/>
                    </a:lnTo>
                    <a:lnTo>
                      <a:pt x="411" y="1603"/>
                    </a:lnTo>
                    <a:lnTo>
                      <a:pt x="415" y="1587"/>
                    </a:lnTo>
                    <a:lnTo>
                      <a:pt x="417" y="1570"/>
                    </a:lnTo>
                    <a:lnTo>
                      <a:pt x="419" y="1554"/>
                    </a:lnTo>
                    <a:lnTo>
                      <a:pt x="424" y="1540"/>
                    </a:lnTo>
                    <a:lnTo>
                      <a:pt x="424" y="1540"/>
                    </a:lnTo>
                    <a:lnTo>
                      <a:pt x="428" y="1531"/>
                    </a:lnTo>
                    <a:lnTo>
                      <a:pt x="435" y="1521"/>
                    </a:lnTo>
                    <a:lnTo>
                      <a:pt x="454" y="1501"/>
                    </a:lnTo>
                    <a:lnTo>
                      <a:pt x="474" y="1480"/>
                    </a:lnTo>
                    <a:lnTo>
                      <a:pt x="482" y="1471"/>
                    </a:lnTo>
                    <a:lnTo>
                      <a:pt x="487" y="1464"/>
                    </a:lnTo>
                    <a:lnTo>
                      <a:pt x="487" y="1464"/>
                    </a:lnTo>
                    <a:lnTo>
                      <a:pt x="494" y="1502"/>
                    </a:lnTo>
                    <a:lnTo>
                      <a:pt x="499" y="1522"/>
                    </a:lnTo>
                    <a:lnTo>
                      <a:pt x="503" y="1543"/>
                    </a:lnTo>
                    <a:lnTo>
                      <a:pt x="508" y="1562"/>
                    </a:lnTo>
                    <a:lnTo>
                      <a:pt x="514" y="1580"/>
                    </a:lnTo>
                    <a:lnTo>
                      <a:pt x="519" y="1588"/>
                    </a:lnTo>
                    <a:lnTo>
                      <a:pt x="522" y="1595"/>
                    </a:lnTo>
                    <a:lnTo>
                      <a:pt x="528" y="1600"/>
                    </a:lnTo>
                    <a:lnTo>
                      <a:pt x="533" y="1605"/>
                    </a:lnTo>
                    <a:lnTo>
                      <a:pt x="533" y="1605"/>
                    </a:lnTo>
                    <a:lnTo>
                      <a:pt x="535" y="1611"/>
                    </a:lnTo>
                    <a:lnTo>
                      <a:pt x="537" y="1616"/>
                    </a:lnTo>
                    <a:lnTo>
                      <a:pt x="542" y="1628"/>
                    </a:lnTo>
                    <a:lnTo>
                      <a:pt x="546" y="1639"/>
                    </a:lnTo>
                    <a:lnTo>
                      <a:pt x="546" y="1645"/>
                    </a:lnTo>
                    <a:lnTo>
                      <a:pt x="546" y="1650"/>
                    </a:lnTo>
                    <a:lnTo>
                      <a:pt x="546" y="1650"/>
                    </a:lnTo>
                    <a:lnTo>
                      <a:pt x="545" y="1656"/>
                    </a:lnTo>
                    <a:lnTo>
                      <a:pt x="542" y="1661"/>
                    </a:lnTo>
                    <a:lnTo>
                      <a:pt x="533" y="1672"/>
                    </a:lnTo>
                    <a:lnTo>
                      <a:pt x="522" y="1683"/>
                    </a:lnTo>
                    <a:lnTo>
                      <a:pt x="514" y="1694"/>
                    </a:lnTo>
                    <a:lnTo>
                      <a:pt x="514" y="1694"/>
                    </a:lnTo>
                    <a:lnTo>
                      <a:pt x="488" y="1728"/>
                    </a:lnTo>
                    <a:lnTo>
                      <a:pt x="465" y="1763"/>
                    </a:lnTo>
                    <a:lnTo>
                      <a:pt x="442" y="1797"/>
                    </a:lnTo>
                    <a:lnTo>
                      <a:pt x="421" y="1832"/>
                    </a:lnTo>
                    <a:lnTo>
                      <a:pt x="421" y="1832"/>
                    </a:lnTo>
                    <a:close/>
                    <a:moveTo>
                      <a:pt x="578" y="1753"/>
                    </a:moveTo>
                    <a:lnTo>
                      <a:pt x="578" y="1753"/>
                    </a:lnTo>
                    <a:lnTo>
                      <a:pt x="577" y="1757"/>
                    </a:lnTo>
                    <a:lnTo>
                      <a:pt x="573" y="1762"/>
                    </a:lnTo>
                    <a:lnTo>
                      <a:pt x="564" y="1774"/>
                    </a:lnTo>
                    <a:lnTo>
                      <a:pt x="544" y="1796"/>
                    </a:lnTo>
                    <a:lnTo>
                      <a:pt x="544" y="1796"/>
                    </a:lnTo>
                    <a:lnTo>
                      <a:pt x="489" y="1862"/>
                    </a:lnTo>
                    <a:lnTo>
                      <a:pt x="437" y="1925"/>
                    </a:lnTo>
                    <a:lnTo>
                      <a:pt x="437" y="1925"/>
                    </a:lnTo>
                    <a:lnTo>
                      <a:pt x="436" y="1915"/>
                    </a:lnTo>
                    <a:lnTo>
                      <a:pt x="435" y="1906"/>
                    </a:lnTo>
                    <a:lnTo>
                      <a:pt x="430" y="1888"/>
                    </a:lnTo>
                    <a:lnTo>
                      <a:pt x="426" y="1870"/>
                    </a:lnTo>
                    <a:lnTo>
                      <a:pt x="426" y="1860"/>
                    </a:lnTo>
                    <a:lnTo>
                      <a:pt x="426" y="1850"/>
                    </a:lnTo>
                    <a:lnTo>
                      <a:pt x="426" y="1850"/>
                    </a:lnTo>
                    <a:lnTo>
                      <a:pt x="427" y="1846"/>
                    </a:lnTo>
                    <a:lnTo>
                      <a:pt x="430" y="1840"/>
                    </a:lnTo>
                    <a:lnTo>
                      <a:pt x="437" y="1828"/>
                    </a:lnTo>
                    <a:lnTo>
                      <a:pt x="447" y="1815"/>
                    </a:lnTo>
                    <a:lnTo>
                      <a:pt x="455" y="1803"/>
                    </a:lnTo>
                    <a:lnTo>
                      <a:pt x="455" y="1803"/>
                    </a:lnTo>
                    <a:lnTo>
                      <a:pt x="479" y="1767"/>
                    </a:lnTo>
                    <a:lnTo>
                      <a:pt x="503" y="1731"/>
                    </a:lnTo>
                    <a:lnTo>
                      <a:pt x="528" y="1696"/>
                    </a:lnTo>
                    <a:lnTo>
                      <a:pt x="541" y="1681"/>
                    </a:lnTo>
                    <a:lnTo>
                      <a:pt x="553" y="1667"/>
                    </a:lnTo>
                    <a:lnTo>
                      <a:pt x="553" y="1667"/>
                    </a:lnTo>
                    <a:lnTo>
                      <a:pt x="567" y="1711"/>
                    </a:lnTo>
                    <a:lnTo>
                      <a:pt x="567" y="1711"/>
                    </a:lnTo>
                    <a:lnTo>
                      <a:pt x="575" y="1733"/>
                    </a:lnTo>
                    <a:lnTo>
                      <a:pt x="578" y="1744"/>
                    </a:lnTo>
                    <a:lnTo>
                      <a:pt x="579" y="1748"/>
                    </a:lnTo>
                    <a:lnTo>
                      <a:pt x="578" y="1753"/>
                    </a:lnTo>
                    <a:lnTo>
                      <a:pt x="578" y="175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39"/>
              <p:cNvSpPr/>
              <p:nvPr/>
            </p:nvSpPr>
            <p:spPr>
              <a:xfrm>
                <a:off x="6144120" y="6762600"/>
                <a:ext cx="36360" cy="95400"/>
              </a:xfrm>
              <a:custGeom>
                <a:avLst/>
                <a:gdLst/>
                <a:ahLst/>
                <a:rect l="l" t="t" r="r" b="b"/>
                <a:pathLst>
                  <a:path w="48" h="179">
                    <a:moveTo>
                      <a:pt x="33" y="179"/>
                    </a:moveTo>
                    <a:lnTo>
                      <a:pt x="48" y="179"/>
                    </a:lnTo>
                    <a:lnTo>
                      <a:pt x="48" y="179"/>
                    </a:lnTo>
                    <a:lnTo>
                      <a:pt x="31" y="112"/>
                    </a:lnTo>
                    <a:lnTo>
                      <a:pt x="31" y="112"/>
                    </a:lnTo>
                    <a:lnTo>
                      <a:pt x="18" y="55"/>
                    </a:lnTo>
                    <a:lnTo>
                      <a:pt x="10" y="27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45"/>
                    </a:lnTo>
                    <a:lnTo>
                      <a:pt x="15" y="90"/>
                    </a:lnTo>
                    <a:lnTo>
                      <a:pt x="33" y="179"/>
                    </a:lnTo>
                    <a:lnTo>
                      <a:pt x="33" y="179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40"/>
              <p:cNvSpPr/>
              <p:nvPr/>
            </p:nvSpPr>
            <p:spPr>
              <a:xfrm>
                <a:off x="7823880" y="678384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62" h="141">
                    <a:moveTo>
                      <a:pt x="58" y="141"/>
                    </a:moveTo>
                    <a:lnTo>
                      <a:pt x="62" y="141"/>
                    </a:lnTo>
                    <a:lnTo>
                      <a:pt x="62" y="14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35"/>
                    </a:lnTo>
                    <a:lnTo>
                      <a:pt x="27" y="71"/>
                    </a:lnTo>
                    <a:lnTo>
                      <a:pt x="58" y="141"/>
                    </a:lnTo>
                    <a:lnTo>
                      <a:pt x="58" y="141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41"/>
              <p:cNvSpPr/>
              <p:nvPr/>
            </p:nvSpPr>
            <p:spPr>
              <a:xfrm>
                <a:off x="7655760" y="5745600"/>
                <a:ext cx="1488240" cy="1112400"/>
              </a:xfrm>
              <a:custGeom>
                <a:avLst/>
                <a:gdLst/>
                <a:ahLst/>
                <a:rect l="l" t="t" r="r" b="b"/>
                <a:pathLst>
                  <a:path w="1946" h="2096">
                    <a:moveTo>
                      <a:pt x="1584" y="1467"/>
                    </a:moveTo>
                    <a:lnTo>
                      <a:pt x="1584" y="1467"/>
                    </a:lnTo>
                    <a:lnTo>
                      <a:pt x="1623" y="1510"/>
                    </a:lnTo>
                    <a:lnTo>
                      <a:pt x="1663" y="1552"/>
                    </a:lnTo>
                    <a:lnTo>
                      <a:pt x="1702" y="1595"/>
                    </a:lnTo>
                    <a:lnTo>
                      <a:pt x="1743" y="1636"/>
                    </a:lnTo>
                    <a:lnTo>
                      <a:pt x="1825" y="1718"/>
                    </a:lnTo>
                    <a:lnTo>
                      <a:pt x="1907" y="1795"/>
                    </a:lnTo>
                    <a:lnTo>
                      <a:pt x="1907" y="1795"/>
                    </a:lnTo>
                    <a:lnTo>
                      <a:pt x="1874" y="1772"/>
                    </a:lnTo>
                    <a:lnTo>
                      <a:pt x="1842" y="1750"/>
                    </a:lnTo>
                    <a:lnTo>
                      <a:pt x="1778" y="1701"/>
                    </a:lnTo>
                    <a:lnTo>
                      <a:pt x="1715" y="1653"/>
                    </a:lnTo>
                    <a:lnTo>
                      <a:pt x="1682" y="1631"/>
                    </a:lnTo>
                    <a:lnTo>
                      <a:pt x="1650" y="1609"/>
                    </a:lnTo>
                    <a:lnTo>
                      <a:pt x="1650" y="1609"/>
                    </a:lnTo>
                    <a:lnTo>
                      <a:pt x="1648" y="1606"/>
                    </a:lnTo>
                    <a:lnTo>
                      <a:pt x="1648" y="1604"/>
                    </a:lnTo>
                    <a:lnTo>
                      <a:pt x="1648" y="1602"/>
                    </a:lnTo>
                    <a:lnTo>
                      <a:pt x="1646" y="1599"/>
                    </a:lnTo>
                    <a:lnTo>
                      <a:pt x="1646" y="1599"/>
                    </a:lnTo>
                    <a:lnTo>
                      <a:pt x="1531" y="1511"/>
                    </a:lnTo>
                    <a:lnTo>
                      <a:pt x="1474" y="1467"/>
                    </a:lnTo>
                    <a:lnTo>
                      <a:pt x="1419" y="1421"/>
                    </a:lnTo>
                    <a:lnTo>
                      <a:pt x="1419" y="1421"/>
                    </a:lnTo>
                    <a:lnTo>
                      <a:pt x="1421" y="1410"/>
                    </a:lnTo>
                    <a:lnTo>
                      <a:pt x="1424" y="1401"/>
                    </a:lnTo>
                    <a:lnTo>
                      <a:pt x="1432" y="1382"/>
                    </a:lnTo>
                    <a:lnTo>
                      <a:pt x="1441" y="1364"/>
                    </a:lnTo>
                    <a:lnTo>
                      <a:pt x="1451" y="1347"/>
                    </a:lnTo>
                    <a:lnTo>
                      <a:pt x="1474" y="1313"/>
                    </a:lnTo>
                    <a:lnTo>
                      <a:pt x="1484" y="1296"/>
                    </a:lnTo>
                    <a:lnTo>
                      <a:pt x="1495" y="1278"/>
                    </a:lnTo>
                    <a:lnTo>
                      <a:pt x="1495" y="1278"/>
                    </a:lnTo>
                    <a:lnTo>
                      <a:pt x="1481" y="1293"/>
                    </a:lnTo>
                    <a:lnTo>
                      <a:pt x="1469" y="1309"/>
                    </a:lnTo>
                    <a:lnTo>
                      <a:pt x="1456" y="1326"/>
                    </a:lnTo>
                    <a:lnTo>
                      <a:pt x="1446" y="1343"/>
                    </a:lnTo>
                    <a:lnTo>
                      <a:pt x="1436" y="1360"/>
                    </a:lnTo>
                    <a:lnTo>
                      <a:pt x="1427" y="1379"/>
                    </a:lnTo>
                    <a:lnTo>
                      <a:pt x="1419" y="1397"/>
                    </a:lnTo>
                    <a:lnTo>
                      <a:pt x="1411" y="1415"/>
                    </a:lnTo>
                    <a:lnTo>
                      <a:pt x="1411" y="1415"/>
                    </a:lnTo>
                    <a:lnTo>
                      <a:pt x="1395" y="1402"/>
                    </a:lnTo>
                    <a:lnTo>
                      <a:pt x="1387" y="1396"/>
                    </a:lnTo>
                    <a:lnTo>
                      <a:pt x="1381" y="1393"/>
                    </a:lnTo>
                    <a:lnTo>
                      <a:pt x="1381" y="1393"/>
                    </a:lnTo>
                    <a:lnTo>
                      <a:pt x="1388" y="1400"/>
                    </a:lnTo>
                    <a:lnTo>
                      <a:pt x="1396" y="1407"/>
                    </a:lnTo>
                    <a:lnTo>
                      <a:pt x="1404" y="1414"/>
                    </a:lnTo>
                    <a:lnTo>
                      <a:pt x="1406" y="1417"/>
                    </a:lnTo>
                    <a:lnTo>
                      <a:pt x="1408" y="1421"/>
                    </a:lnTo>
                    <a:lnTo>
                      <a:pt x="1408" y="1421"/>
                    </a:lnTo>
                    <a:lnTo>
                      <a:pt x="1398" y="1413"/>
                    </a:lnTo>
                    <a:lnTo>
                      <a:pt x="1389" y="1405"/>
                    </a:lnTo>
                    <a:lnTo>
                      <a:pt x="1379" y="1397"/>
                    </a:lnTo>
                    <a:lnTo>
                      <a:pt x="1367" y="1391"/>
                    </a:lnTo>
                    <a:lnTo>
                      <a:pt x="1367" y="1391"/>
                    </a:lnTo>
                    <a:lnTo>
                      <a:pt x="1373" y="1397"/>
                    </a:lnTo>
                    <a:lnTo>
                      <a:pt x="1381" y="1402"/>
                    </a:lnTo>
                    <a:lnTo>
                      <a:pt x="1396" y="1416"/>
                    </a:lnTo>
                    <a:lnTo>
                      <a:pt x="1403" y="1422"/>
                    </a:lnTo>
                    <a:lnTo>
                      <a:pt x="1407" y="1429"/>
                    </a:lnTo>
                    <a:lnTo>
                      <a:pt x="1407" y="1431"/>
                    </a:lnTo>
                    <a:lnTo>
                      <a:pt x="1407" y="1434"/>
                    </a:lnTo>
                    <a:lnTo>
                      <a:pt x="1406" y="1436"/>
                    </a:lnTo>
                    <a:lnTo>
                      <a:pt x="1404" y="1439"/>
                    </a:lnTo>
                    <a:lnTo>
                      <a:pt x="1404" y="1439"/>
                    </a:lnTo>
                    <a:lnTo>
                      <a:pt x="1389" y="1427"/>
                    </a:lnTo>
                    <a:lnTo>
                      <a:pt x="1382" y="1423"/>
                    </a:lnTo>
                    <a:lnTo>
                      <a:pt x="1379" y="1422"/>
                    </a:lnTo>
                    <a:lnTo>
                      <a:pt x="1377" y="1421"/>
                    </a:lnTo>
                    <a:lnTo>
                      <a:pt x="1377" y="1421"/>
                    </a:lnTo>
                    <a:lnTo>
                      <a:pt x="1391" y="1432"/>
                    </a:lnTo>
                    <a:lnTo>
                      <a:pt x="1398" y="1438"/>
                    </a:lnTo>
                    <a:lnTo>
                      <a:pt x="1405" y="1443"/>
                    </a:lnTo>
                    <a:lnTo>
                      <a:pt x="1405" y="1443"/>
                    </a:lnTo>
                    <a:lnTo>
                      <a:pt x="1392" y="1480"/>
                    </a:lnTo>
                    <a:lnTo>
                      <a:pt x="1382" y="1516"/>
                    </a:lnTo>
                    <a:lnTo>
                      <a:pt x="1372" y="1552"/>
                    </a:lnTo>
                    <a:lnTo>
                      <a:pt x="1364" y="1590"/>
                    </a:lnTo>
                    <a:lnTo>
                      <a:pt x="1356" y="1628"/>
                    </a:lnTo>
                    <a:lnTo>
                      <a:pt x="1348" y="1667"/>
                    </a:lnTo>
                    <a:lnTo>
                      <a:pt x="1336" y="1744"/>
                    </a:lnTo>
                    <a:lnTo>
                      <a:pt x="1336" y="1744"/>
                    </a:lnTo>
                    <a:lnTo>
                      <a:pt x="1307" y="1705"/>
                    </a:lnTo>
                    <a:lnTo>
                      <a:pt x="1279" y="1668"/>
                    </a:lnTo>
                    <a:lnTo>
                      <a:pt x="1248" y="1632"/>
                    </a:lnTo>
                    <a:lnTo>
                      <a:pt x="1232" y="1615"/>
                    </a:lnTo>
                    <a:lnTo>
                      <a:pt x="1216" y="1598"/>
                    </a:lnTo>
                    <a:lnTo>
                      <a:pt x="1216" y="1598"/>
                    </a:lnTo>
                    <a:lnTo>
                      <a:pt x="1248" y="1635"/>
                    </a:lnTo>
                    <a:lnTo>
                      <a:pt x="1264" y="1656"/>
                    </a:lnTo>
                    <a:lnTo>
                      <a:pt x="1280" y="1677"/>
                    </a:lnTo>
                    <a:lnTo>
                      <a:pt x="1280" y="1677"/>
                    </a:lnTo>
                    <a:lnTo>
                      <a:pt x="1312" y="1721"/>
                    </a:lnTo>
                    <a:lnTo>
                      <a:pt x="1321" y="1733"/>
                    </a:lnTo>
                    <a:lnTo>
                      <a:pt x="1328" y="1744"/>
                    </a:lnTo>
                    <a:lnTo>
                      <a:pt x="1333" y="1755"/>
                    </a:lnTo>
                    <a:lnTo>
                      <a:pt x="1337" y="1766"/>
                    </a:lnTo>
                    <a:lnTo>
                      <a:pt x="1337" y="1766"/>
                    </a:lnTo>
                    <a:lnTo>
                      <a:pt x="1339" y="1775"/>
                    </a:lnTo>
                    <a:lnTo>
                      <a:pt x="1338" y="1785"/>
                    </a:lnTo>
                    <a:lnTo>
                      <a:pt x="1338" y="1796"/>
                    </a:lnTo>
                    <a:lnTo>
                      <a:pt x="1338" y="1807"/>
                    </a:lnTo>
                    <a:lnTo>
                      <a:pt x="1338" y="1807"/>
                    </a:lnTo>
                    <a:lnTo>
                      <a:pt x="1340" y="1834"/>
                    </a:lnTo>
                    <a:lnTo>
                      <a:pt x="1340" y="1847"/>
                    </a:lnTo>
                    <a:lnTo>
                      <a:pt x="1339" y="1859"/>
                    </a:lnTo>
                    <a:lnTo>
                      <a:pt x="1339" y="1859"/>
                    </a:lnTo>
                    <a:lnTo>
                      <a:pt x="1327" y="1836"/>
                    </a:lnTo>
                    <a:lnTo>
                      <a:pt x="1315" y="1813"/>
                    </a:lnTo>
                    <a:lnTo>
                      <a:pt x="1293" y="1767"/>
                    </a:lnTo>
                    <a:lnTo>
                      <a:pt x="1271" y="1718"/>
                    </a:lnTo>
                    <a:lnTo>
                      <a:pt x="1260" y="1695"/>
                    </a:lnTo>
                    <a:lnTo>
                      <a:pt x="1247" y="1671"/>
                    </a:lnTo>
                    <a:lnTo>
                      <a:pt x="1247" y="1671"/>
                    </a:lnTo>
                    <a:lnTo>
                      <a:pt x="1237" y="1650"/>
                    </a:lnTo>
                    <a:lnTo>
                      <a:pt x="1228" y="1629"/>
                    </a:lnTo>
                    <a:lnTo>
                      <a:pt x="1220" y="1610"/>
                    </a:lnTo>
                    <a:lnTo>
                      <a:pt x="1212" y="1592"/>
                    </a:lnTo>
                    <a:lnTo>
                      <a:pt x="1212" y="1592"/>
                    </a:lnTo>
                    <a:lnTo>
                      <a:pt x="1205" y="1581"/>
                    </a:lnTo>
                    <a:lnTo>
                      <a:pt x="1197" y="1568"/>
                    </a:lnTo>
                    <a:lnTo>
                      <a:pt x="1181" y="1542"/>
                    </a:lnTo>
                    <a:lnTo>
                      <a:pt x="1173" y="1528"/>
                    </a:lnTo>
                    <a:lnTo>
                      <a:pt x="1167" y="1516"/>
                    </a:lnTo>
                    <a:lnTo>
                      <a:pt x="1162" y="1503"/>
                    </a:lnTo>
                    <a:lnTo>
                      <a:pt x="1159" y="1491"/>
                    </a:lnTo>
                    <a:lnTo>
                      <a:pt x="1159" y="1491"/>
                    </a:lnTo>
                    <a:lnTo>
                      <a:pt x="1159" y="1485"/>
                    </a:lnTo>
                    <a:lnTo>
                      <a:pt x="1160" y="1478"/>
                    </a:lnTo>
                    <a:lnTo>
                      <a:pt x="1163" y="1466"/>
                    </a:lnTo>
                    <a:lnTo>
                      <a:pt x="1168" y="1453"/>
                    </a:lnTo>
                    <a:lnTo>
                      <a:pt x="1171" y="1440"/>
                    </a:lnTo>
                    <a:lnTo>
                      <a:pt x="1171" y="1440"/>
                    </a:lnTo>
                    <a:lnTo>
                      <a:pt x="1178" y="1400"/>
                    </a:lnTo>
                    <a:lnTo>
                      <a:pt x="1186" y="1360"/>
                    </a:lnTo>
                    <a:lnTo>
                      <a:pt x="1195" y="1322"/>
                    </a:lnTo>
                    <a:lnTo>
                      <a:pt x="1205" y="1285"/>
                    </a:lnTo>
                    <a:lnTo>
                      <a:pt x="1205" y="1285"/>
                    </a:lnTo>
                    <a:lnTo>
                      <a:pt x="1219" y="1236"/>
                    </a:lnTo>
                    <a:lnTo>
                      <a:pt x="1226" y="1211"/>
                    </a:lnTo>
                    <a:lnTo>
                      <a:pt x="1234" y="1187"/>
                    </a:lnTo>
                    <a:lnTo>
                      <a:pt x="1234" y="1187"/>
                    </a:lnTo>
                    <a:lnTo>
                      <a:pt x="1254" y="1140"/>
                    </a:lnTo>
                    <a:lnTo>
                      <a:pt x="1258" y="1128"/>
                    </a:lnTo>
                    <a:lnTo>
                      <a:pt x="1262" y="1115"/>
                    </a:lnTo>
                    <a:lnTo>
                      <a:pt x="1265" y="1103"/>
                    </a:lnTo>
                    <a:lnTo>
                      <a:pt x="1268" y="1090"/>
                    </a:lnTo>
                    <a:lnTo>
                      <a:pt x="1268" y="1090"/>
                    </a:lnTo>
                    <a:lnTo>
                      <a:pt x="1256" y="1111"/>
                    </a:lnTo>
                    <a:lnTo>
                      <a:pt x="1247" y="1132"/>
                    </a:lnTo>
                    <a:lnTo>
                      <a:pt x="1238" y="1154"/>
                    </a:lnTo>
                    <a:lnTo>
                      <a:pt x="1229" y="1175"/>
                    </a:lnTo>
                    <a:lnTo>
                      <a:pt x="1214" y="1220"/>
                    </a:lnTo>
                    <a:lnTo>
                      <a:pt x="1199" y="1265"/>
                    </a:lnTo>
                    <a:lnTo>
                      <a:pt x="1173" y="1357"/>
                    </a:lnTo>
                    <a:lnTo>
                      <a:pt x="1160" y="1402"/>
                    </a:lnTo>
                    <a:lnTo>
                      <a:pt x="1145" y="1448"/>
                    </a:lnTo>
                    <a:lnTo>
                      <a:pt x="1145" y="1448"/>
                    </a:lnTo>
                    <a:lnTo>
                      <a:pt x="1121" y="1384"/>
                    </a:lnTo>
                    <a:lnTo>
                      <a:pt x="1098" y="1323"/>
                    </a:lnTo>
                    <a:lnTo>
                      <a:pt x="1078" y="1263"/>
                    </a:lnTo>
                    <a:lnTo>
                      <a:pt x="1060" y="1204"/>
                    </a:lnTo>
                    <a:lnTo>
                      <a:pt x="1060" y="1204"/>
                    </a:lnTo>
                    <a:lnTo>
                      <a:pt x="1054" y="1181"/>
                    </a:lnTo>
                    <a:lnTo>
                      <a:pt x="1051" y="1159"/>
                    </a:lnTo>
                    <a:lnTo>
                      <a:pt x="1045" y="1138"/>
                    </a:lnTo>
                    <a:lnTo>
                      <a:pt x="1041" y="1127"/>
                    </a:lnTo>
                    <a:lnTo>
                      <a:pt x="1036" y="1116"/>
                    </a:lnTo>
                    <a:lnTo>
                      <a:pt x="1036" y="1116"/>
                    </a:lnTo>
                    <a:lnTo>
                      <a:pt x="1052" y="1184"/>
                    </a:lnTo>
                    <a:lnTo>
                      <a:pt x="1070" y="1254"/>
                    </a:lnTo>
                    <a:lnTo>
                      <a:pt x="1089" y="1325"/>
                    </a:lnTo>
                    <a:lnTo>
                      <a:pt x="1100" y="1362"/>
                    </a:lnTo>
                    <a:lnTo>
                      <a:pt x="1112" y="1398"/>
                    </a:lnTo>
                    <a:lnTo>
                      <a:pt x="1112" y="1398"/>
                    </a:lnTo>
                    <a:lnTo>
                      <a:pt x="1093" y="1368"/>
                    </a:lnTo>
                    <a:lnTo>
                      <a:pt x="1073" y="1338"/>
                    </a:lnTo>
                    <a:lnTo>
                      <a:pt x="1038" y="1274"/>
                    </a:lnTo>
                    <a:lnTo>
                      <a:pt x="1004" y="1212"/>
                    </a:lnTo>
                    <a:lnTo>
                      <a:pt x="986" y="1181"/>
                    </a:lnTo>
                    <a:lnTo>
                      <a:pt x="968" y="1153"/>
                    </a:lnTo>
                    <a:lnTo>
                      <a:pt x="968" y="1153"/>
                    </a:lnTo>
                    <a:lnTo>
                      <a:pt x="985" y="1189"/>
                    </a:lnTo>
                    <a:lnTo>
                      <a:pt x="1004" y="1225"/>
                    </a:lnTo>
                    <a:lnTo>
                      <a:pt x="1043" y="1297"/>
                    </a:lnTo>
                    <a:lnTo>
                      <a:pt x="1080" y="1367"/>
                    </a:lnTo>
                    <a:lnTo>
                      <a:pt x="1097" y="1404"/>
                    </a:lnTo>
                    <a:lnTo>
                      <a:pt x="1114" y="1439"/>
                    </a:lnTo>
                    <a:lnTo>
                      <a:pt x="1114" y="1439"/>
                    </a:lnTo>
                    <a:lnTo>
                      <a:pt x="1087" y="1400"/>
                    </a:lnTo>
                    <a:lnTo>
                      <a:pt x="1059" y="1359"/>
                    </a:lnTo>
                    <a:lnTo>
                      <a:pt x="1059" y="1359"/>
                    </a:lnTo>
                    <a:lnTo>
                      <a:pt x="1044" y="1341"/>
                    </a:lnTo>
                    <a:lnTo>
                      <a:pt x="1029" y="1322"/>
                    </a:lnTo>
                    <a:lnTo>
                      <a:pt x="1014" y="1302"/>
                    </a:lnTo>
                    <a:lnTo>
                      <a:pt x="1008" y="1292"/>
                    </a:lnTo>
                    <a:lnTo>
                      <a:pt x="1002" y="1283"/>
                    </a:lnTo>
                    <a:lnTo>
                      <a:pt x="1002" y="1283"/>
                    </a:lnTo>
                    <a:lnTo>
                      <a:pt x="996" y="1271"/>
                    </a:lnTo>
                    <a:lnTo>
                      <a:pt x="992" y="1258"/>
                    </a:lnTo>
                    <a:lnTo>
                      <a:pt x="985" y="1231"/>
                    </a:lnTo>
                    <a:lnTo>
                      <a:pt x="985" y="1231"/>
                    </a:lnTo>
                    <a:lnTo>
                      <a:pt x="953" y="1132"/>
                    </a:lnTo>
                    <a:lnTo>
                      <a:pt x="938" y="1086"/>
                    </a:lnTo>
                    <a:lnTo>
                      <a:pt x="933" y="1062"/>
                    </a:lnTo>
                    <a:lnTo>
                      <a:pt x="927" y="1038"/>
                    </a:lnTo>
                    <a:lnTo>
                      <a:pt x="927" y="1038"/>
                    </a:lnTo>
                    <a:lnTo>
                      <a:pt x="924" y="1021"/>
                    </a:lnTo>
                    <a:lnTo>
                      <a:pt x="921" y="1005"/>
                    </a:lnTo>
                    <a:lnTo>
                      <a:pt x="917" y="972"/>
                    </a:lnTo>
                    <a:lnTo>
                      <a:pt x="911" y="942"/>
                    </a:lnTo>
                    <a:lnTo>
                      <a:pt x="908" y="926"/>
                    </a:lnTo>
                    <a:lnTo>
                      <a:pt x="903" y="911"/>
                    </a:lnTo>
                    <a:lnTo>
                      <a:pt x="903" y="911"/>
                    </a:lnTo>
                    <a:lnTo>
                      <a:pt x="904" y="929"/>
                    </a:lnTo>
                    <a:lnTo>
                      <a:pt x="905" y="948"/>
                    </a:lnTo>
                    <a:lnTo>
                      <a:pt x="911" y="988"/>
                    </a:lnTo>
                    <a:lnTo>
                      <a:pt x="919" y="1029"/>
                    </a:lnTo>
                    <a:lnTo>
                      <a:pt x="929" y="1071"/>
                    </a:lnTo>
                    <a:lnTo>
                      <a:pt x="951" y="1157"/>
                    </a:lnTo>
                    <a:lnTo>
                      <a:pt x="962" y="1201"/>
                    </a:lnTo>
                    <a:lnTo>
                      <a:pt x="972" y="1243"/>
                    </a:lnTo>
                    <a:lnTo>
                      <a:pt x="972" y="1243"/>
                    </a:lnTo>
                    <a:lnTo>
                      <a:pt x="947" y="1211"/>
                    </a:lnTo>
                    <a:lnTo>
                      <a:pt x="922" y="1178"/>
                    </a:lnTo>
                    <a:lnTo>
                      <a:pt x="910" y="1161"/>
                    </a:lnTo>
                    <a:lnTo>
                      <a:pt x="899" y="1142"/>
                    </a:lnTo>
                    <a:lnTo>
                      <a:pt x="887" y="1124"/>
                    </a:lnTo>
                    <a:lnTo>
                      <a:pt x="876" y="1105"/>
                    </a:lnTo>
                    <a:lnTo>
                      <a:pt x="876" y="1105"/>
                    </a:lnTo>
                    <a:lnTo>
                      <a:pt x="860" y="1072"/>
                    </a:lnTo>
                    <a:lnTo>
                      <a:pt x="845" y="1039"/>
                    </a:lnTo>
                    <a:lnTo>
                      <a:pt x="815" y="971"/>
                    </a:lnTo>
                    <a:lnTo>
                      <a:pt x="783" y="902"/>
                    </a:lnTo>
                    <a:lnTo>
                      <a:pt x="766" y="867"/>
                    </a:lnTo>
                    <a:lnTo>
                      <a:pt x="748" y="833"/>
                    </a:lnTo>
                    <a:lnTo>
                      <a:pt x="748" y="833"/>
                    </a:lnTo>
                    <a:lnTo>
                      <a:pt x="802" y="962"/>
                    </a:lnTo>
                    <a:lnTo>
                      <a:pt x="829" y="1027"/>
                    </a:lnTo>
                    <a:lnTo>
                      <a:pt x="859" y="1091"/>
                    </a:lnTo>
                    <a:lnTo>
                      <a:pt x="859" y="1091"/>
                    </a:lnTo>
                    <a:lnTo>
                      <a:pt x="849" y="1081"/>
                    </a:lnTo>
                    <a:lnTo>
                      <a:pt x="838" y="1070"/>
                    </a:lnTo>
                    <a:lnTo>
                      <a:pt x="820" y="1046"/>
                    </a:lnTo>
                    <a:lnTo>
                      <a:pt x="785" y="995"/>
                    </a:lnTo>
                    <a:lnTo>
                      <a:pt x="785" y="995"/>
                    </a:lnTo>
                    <a:lnTo>
                      <a:pt x="811" y="1043"/>
                    </a:lnTo>
                    <a:lnTo>
                      <a:pt x="838" y="1088"/>
                    </a:lnTo>
                    <a:lnTo>
                      <a:pt x="865" y="1134"/>
                    </a:lnTo>
                    <a:lnTo>
                      <a:pt x="892" y="1180"/>
                    </a:lnTo>
                    <a:lnTo>
                      <a:pt x="892" y="1180"/>
                    </a:lnTo>
                    <a:lnTo>
                      <a:pt x="916" y="1225"/>
                    </a:lnTo>
                    <a:lnTo>
                      <a:pt x="927" y="1247"/>
                    </a:lnTo>
                    <a:lnTo>
                      <a:pt x="936" y="1268"/>
                    </a:lnTo>
                    <a:lnTo>
                      <a:pt x="936" y="1268"/>
                    </a:lnTo>
                    <a:lnTo>
                      <a:pt x="878" y="1165"/>
                    </a:lnTo>
                    <a:lnTo>
                      <a:pt x="820" y="1064"/>
                    </a:lnTo>
                    <a:lnTo>
                      <a:pt x="791" y="1014"/>
                    </a:lnTo>
                    <a:lnTo>
                      <a:pt x="761" y="964"/>
                    </a:lnTo>
                    <a:lnTo>
                      <a:pt x="731" y="918"/>
                    </a:lnTo>
                    <a:lnTo>
                      <a:pt x="698" y="871"/>
                    </a:lnTo>
                    <a:lnTo>
                      <a:pt x="698" y="871"/>
                    </a:lnTo>
                    <a:lnTo>
                      <a:pt x="744" y="945"/>
                    </a:lnTo>
                    <a:lnTo>
                      <a:pt x="767" y="984"/>
                    </a:lnTo>
                    <a:lnTo>
                      <a:pt x="789" y="1022"/>
                    </a:lnTo>
                    <a:lnTo>
                      <a:pt x="809" y="1061"/>
                    </a:lnTo>
                    <a:lnTo>
                      <a:pt x="829" y="1099"/>
                    </a:lnTo>
                    <a:lnTo>
                      <a:pt x="848" y="1138"/>
                    </a:lnTo>
                    <a:lnTo>
                      <a:pt x="865" y="1175"/>
                    </a:lnTo>
                    <a:lnTo>
                      <a:pt x="865" y="1175"/>
                    </a:lnTo>
                    <a:lnTo>
                      <a:pt x="874" y="1191"/>
                    </a:lnTo>
                    <a:lnTo>
                      <a:pt x="874" y="1191"/>
                    </a:lnTo>
                    <a:lnTo>
                      <a:pt x="932" y="1296"/>
                    </a:lnTo>
                    <a:lnTo>
                      <a:pt x="989" y="1402"/>
                    </a:lnTo>
                    <a:lnTo>
                      <a:pt x="1046" y="1510"/>
                    </a:lnTo>
                    <a:lnTo>
                      <a:pt x="1103" y="1619"/>
                    </a:lnTo>
                    <a:lnTo>
                      <a:pt x="1103" y="1619"/>
                    </a:lnTo>
                    <a:lnTo>
                      <a:pt x="1100" y="1629"/>
                    </a:lnTo>
                    <a:lnTo>
                      <a:pt x="1098" y="1642"/>
                    </a:lnTo>
                    <a:lnTo>
                      <a:pt x="1095" y="1652"/>
                    </a:lnTo>
                    <a:lnTo>
                      <a:pt x="1092" y="1663"/>
                    </a:lnTo>
                    <a:lnTo>
                      <a:pt x="1092" y="1663"/>
                    </a:lnTo>
                    <a:lnTo>
                      <a:pt x="1073" y="1637"/>
                    </a:lnTo>
                    <a:lnTo>
                      <a:pt x="1054" y="1612"/>
                    </a:lnTo>
                    <a:lnTo>
                      <a:pt x="1014" y="1564"/>
                    </a:lnTo>
                    <a:lnTo>
                      <a:pt x="974" y="1516"/>
                    </a:lnTo>
                    <a:lnTo>
                      <a:pt x="934" y="1467"/>
                    </a:lnTo>
                    <a:lnTo>
                      <a:pt x="915" y="1442"/>
                    </a:lnTo>
                    <a:lnTo>
                      <a:pt x="896" y="1417"/>
                    </a:lnTo>
                    <a:lnTo>
                      <a:pt x="878" y="1391"/>
                    </a:lnTo>
                    <a:lnTo>
                      <a:pt x="860" y="1365"/>
                    </a:lnTo>
                    <a:lnTo>
                      <a:pt x="844" y="1338"/>
                    </a:lnTo>
                    <a:lnTo>
                      <a:pt x="828" y="1310"/>
                    </a:lnTo>
                    <a:lnTo>
                      <a:pt x="815" y="1282"/>
                    </a:lnTo>
                    <a:lnTo>
                      <a:pt x="802" y="1253"/>
                    </a:lnTo>
                    <a:lnTo>
                      <a:pt x="802" y="1253"/>
                    </a:lnTo>
                    <a:lnTo>
                      <a:pt x="813" y="1284"/>
                    </a:lnTo>
                    <a:lnTo>
                      <a:pt x="828" y="1314"/>
                    </a:lnTo>
                    <a:lnTo>
                      <a:pt x="843" y="1343"/>
                    </a:lnTo>
                    <a:lnTo>
                      <a:pt x="859" y="1372"/>
                    </a:lnTo>
                    <a:lnTo>
                      <a:pt x="876" y="1400"/>
                    </a:lnTo>
                    <a:lnTo>
                      <a:pt x="894" y="1427"/>
                    </a:lnTo>
                    <a:lnTo>
                      <a:pt x="912" y="1453"/>
                    </a:lnTo>
                    <a:lnTo>
                      <a:pt x="932" y="1480"/>
                    </a:lnTo>
                    <a:lnTo>
                      <a:pt x="971" y="1532"/>
                    </a:lnTo>
                    <a:lnTo>
                      <a:pt x="1011" y="1584"/>
                    </a:lnTo>
                    <a:lnTo>
                      <a:pt x="1051" y="1635"/>
                    </a:lnTo>
                    <a:lnTo>
                      <a:pt x="1070" y="1661"/>
                    </a:lnTo>
                    <a:lnTo>
                      <a:pt x="1089" y="1687"/>
                    </a:lnTo>
                    <a:lnTo>
                      <a:pt x="1089" y="1687"/>
                    </a:lnTo>
                    <a:lnTo>
                      <a:pt x="1085" y="1718"/>
                    </a:lnTo>
                    <a:lnTo>
                      <a:pt x="1079" y="1747"/>
                    </a:lnTo>
                    <a:lnTo>
                      <a:pt x="1068" y="1807"/>
                    </a:lnTo>
                    <a:lnTo>
                      <a:pt x="1062" y="1837"/>
                    </a:lnTo>
                    <a:lnTo>
                      <a:pt x="1058" y="1867"/>
                    </a:lnTo>
                    <a:lnTo>
                      <a:pt x="1054" y="1898"/>
                    </a:lnTo>
                    <a:lnTo>
                      <a:pt x="1053" y="1930"/>
                    </a:lnTo>
                    <a:lnTo>
                      <a:pt x="1053" y="1930"/>
                    </a:lnTo>
                    <a:lnTo>
                      <a:pt x="1053" y="1952"/>
                    </a:lnTo>
                    <a:lnTo>
                      <a:pt x="1055" y="1975"/>
                    </a:lnTo>
                    <a:lnTo>
                      <a:pt x="1055" y="1986"/>
                    </a:lnTo>
                    <a:lnTo>
                      <a:pt x="1055" y="1997"/>
                    </a:lnTo>
                    <a:lnTo>
                      <a:pt x="1054" y="2009"/>
                    </a:lnTo>
                    <a:lnTo>
                      <a:pt x="1052" y="2019"/>
                    </a:lnTo>
                    <a:lnTo>
                      <a:pt x="1052" y="2019"/>
                    </a:lnTo>
                    <a:lnTo>
                      <a:pt x="1004" y="1923"/>
                    </a:lnTo>
                    <a:lnTo>
                      <a:pt x="959" y="1829"/>
                    </a:lnTo>
                    <a:lnTo>
                      <a:pt x="913" y="1735"/>
                    </a:lnTo>
                    <a:lnTo>
                      <a:pt x="868" y="1643"/>
                    </a:lnTo>
                    <a:lnTo>
                      <a:pt x="868" y="1643"/>
                    </a:lnTo>
                    <a:lnTo>
                      <a:pt x="846" y="1600"/>
                    </a:lnTo>
                    <a:lnTo>
                      <a:pt x="824" y="1558"/>
                    </a:lnTo>
                    <a:lnTo>
                      <a:pt x="777" y="1473"/>
                    </a:lnTo>
                    <a:lnTo>
                      <a:pt x="731" y="1389"/>
                    </a:lnTo>
                    <a:lnTo>
                      <a:pt x="709" y="1347"/>
                    </a:lnTo>
                    <a:lnTo>
                      <a:pt x="689" y="1304"/>
                    </a:lnTo>
                    <a:lnTo>
                      <a:pt x="689" y="1304"/>
                    </a:lnTo>
                    <a:lnTo>
                      <a:pt x="691" y="1301"/>
                    </a:lnTo>
                    <a:lnTo>
                      <a:pt x="692" y="1299"/>
                    </a:lnTo>
                    <a:lnTo>
                      <a:pt x="692" y="1298"/>
                    </a:lnTo>
                    <a:lnTo>
                      <a:pt x="692" y="1298"/>
                    </a:lnTo>
                    <a:lnTo>
                      <a:pt x="681" y="1264"/>
                    </a:lnTo>
                    <a:lnTo>
                      <a:pt x="670" y="1231"/>
                    </a:lnTo>
                    <a:lnTo>
                      <a:pt x="652" y="1166"/>
                    </a:lnTo>
                    <a:lnTo>
                      <a:pt x="636" y="1104"/>
                    </a:lnTo>
                    <a:lnTo>
                      <a:pt x="622" y="1041"/>
                    </a:lnTo>
                    <a:lnTo>
                      <a:pt x="622" y="1041"/>
                    </a:lnTo>
                    <a:lnTo>
                      <a:pt x="599" y="939"/>
                    </a:lnTo>
                    <a:lnTo>
                      <a:pt x="589" y="890"/>
                    </a:lnTo>
                    <a:lnTo>
                      <a:pt x="581" y="842"/>
                    </a:lnTo>
                    <a:lnTo>
                      <a:pt x="574" y="794"/>
                    </a:lnTo>
                    <a:lnTo>
                      <a:pt x="569" y="749"/>
                    </a:lnTo>
                    <a:lnTo>
                      <a:pt x="567" y="705"/>
                    </a:lnTo>
                    <a:lnTo>
                      <a:pt x="567" y="684"/>
                    </a:lnTo>
                    <a:lnTo>
                      <a:pt x="567" y="665"/>
                    </a:lnTo>
                    <a:lnTo>
                      <a:pt x="567" y="665"/>
                    </a:lnTo>
                    <a:lnTo>
                      <a:pt x="569" y="649"/>
                    </a:lnTo>
                    <a:lnTo>
                      <a:pt x="571" y="633"/>
                    </a:lnTo>
                    <a:lnTo>
                      <a:pt x="569" y="616"/>
                    </a:lnTo>
                    <a:lnTo>
                      <a:pt x="568" y="608"/>
                    </a:lnTo>
                    <a:lnTo>
                      <a:pt x="566" y="599"/>
                    </a:lnTo>
                    <a:lnTo>
                      <a:pt x="566" y="599"/>
                    </a:lnTo>
                    <a:lnTo>
                      <a:pt x="561" y="629"/>
                    </a:lnTo>
                    <a:lnTo>
                      <a:pt x="558" y="662"/>
                    </a:lnTo>
                    <a:lnTo>
                      <a:pt x="558" y="695"/>
                    </a:lnTo>
                    <a:lnTo>
                      <a:pt x="558" y="729"/>
                    </a:lnTo>
                    <a:lnTo>
                      <a:pt x="560" y="764"/>
                    </a:lnTo>
                    <a:lnTo>
                      <a:pt x="563" y="800"/>
                    </a:lnTo>
                    <a:lnTo>
                      <a:pt x="571" y="872"/>
                    </a:lnTo>
                    <a:lnTo>
                      <a:pt x="571" y="872"/>
                    </a:lnTo>
                    <a:lnTo>
                      <a:pt x="574" y="911"/>
                    </a:lnTo>
                    <a:lnTo>
                      <a:pt x="580" y="948"/>
                    </a:lnTo>
                    <a:lnTo>
                      <a:pt x="586" y="987"/>
                    </a:lnTo>
                    <a:lnTo>
                      <a:pt x="594" y="1027"/>
                    </a:lnTo>
                    <a:lnTo>
                      <a:pt x="610" y="1106"/>
                    </a:lnTo>
                    <a:lnTo>
                      <a:pt x="625" y="1186"/>
                    </a:lnTo>
                    <a:lnTo>
                      <a:pt x="625" y="1186"/>
                    </a:lnTo>
                    <a:lnTo>
                      <a:pt x="620" y="1175"/>
                    </a:lnTo>
                    <a:lnTo>
                      <a:pt x="615" y="1161"/>
                    </a:lnTo>
                    <a:lnTo>
                      <a:pt x="615" y="1161"/>
                    </a:lnTo>
                    <a:lnTo>
                      <a:pt x="594" y="1122"/>
                    </a:lnTo>
                    <a:lnTo>
                      <a:pt x="583" y="1102"/>
                    </a:lnTo>
                    <a:lnTo>
                      <a:pt x="576" y="1090"/>
                    </a:lnTo>
                    <a:lnTo>
                      <a:pt x="576" y="1090"/>
                    </a:lnTo>
                    <a:lnTo>
                      <a:pt x="577" y="1094"/>
                    </a:lnTo>
                    <a:lnTo>
                      <a:pt x="576" y="1095"/>
                    </a:lnTo>
                    <a:lnTo>
                      <a:pt x="576" y="1095"/>
                    </a:lnTo>
                    <a:lnTo>
                      <a:pt x="571" y="1086"/>
                    </a:lnTo>
                    <a:lnTo>
                      <a:pt x="564" y="1074"/>
                    </a:lnTo>
                    <a:lnTo>
                      <a:pt x="548" y="1045"/>
                    </a:lnTo>
                    <a:lnTo>
                      <a:pt x="515" y="978"/>
                    </a:lnTo>
                    <a:lnTo>
                      <a:pt x="515" y="978"/>
                    </a:lnTo>
                    <a:lnTo>
                      <a:pt x="464" y="876"/>
                    </a:lnTo>
                    <a:lnTo>
                      <a:pt x="412" y="770"/>
                    </a:lnTo>
                    <a:lnTo>
                      <a:pt x="361" y="663"/>
                    </a:lnTo>
                    <a:lnTo>
                      <a:pt x="313" y="560"/>
                    </a:lnTo>
                    <a:lnTo>
                      <a:pt x="313" y="560"/>
                    </a:lnTo>
                    <a:lnTo>
                      <a:pt x="304" y="540"/>
                    </a:lnTo>
                    <a:lnTo>
                      <a:pt x="296" y="519"/>
                    </a:lnTo>
                    <a:lnTo>
                      <a:pt x="296" y="519"/>
                    </a:lnTo>
                    <a:lnTo>
                      <a:pt x="288" y="494"/>
                    </a:lnTo>
                    <a:lnTo>
                      <a:pt x="279" y="469"/>
                    </a:lnTo>
                    <a:lnTo>
                      <a:pt x="259" y="418"/>
                    </a:lnTo>
                    <a:lnTo>
                      <a:pt x="242" y="369"/>
                    </a:lnTo>
                    <a:lnTo>
                      <a:pt x="235" y="348"/>
                    </a:lnTo>
                    <a:lnTo>
                      <a:pt x="230" y="328"/>
                    </a:lnTo>
                    <a:lnTo>
                      <a:pt x="230" y="328"/>
                    </a:lnTo>
                    <a:lnTo>
                      <a:pt x="220" y="307"/>
                    </a:lnTo>
                    <a:lnTo>
                      <a:pt x="211" y="285"/>
                    </a:lnTo>
                    <a:lnTo>
                      <a:pt x="193" y="239"/>
                    </a:lnTo>
                    <a:lnTo>
                      <a:pt x="173" y="191"/>
                    </a:lnTo>
                    <a:lnTo>
                      <a:pt x="154" y="146"/>
                    </a:lnTo>
                    <a:lnTo>
                      <a:pt x="144" y="123"/>
                    </a:lnTo>
                    <a:lnTo>
                      <a:pt x="132" y="101"/>
                    </a:lnTo>
                    <a:lnTo>
                      <a:pt x="121" y="81"/>
                    </a:lnTo>
                    <a:lnTo>
                      <a:pt x="109" y="62"/>
                    </a:lnTo>
                    <a:lnTo>
                      <a:pt x="96" y="44"/>
                    </a:lnTo>
                    <a:lnTo>
                      <a:pt x="81" y="28"/>
                    </a:lnTo>
                    <a:lnTo>
                      <a:pt x="67" y="13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65" y="15"/>
                    </a:lnTo>
                    <a:lnTo>
                      <a:pt x="80" y="30"/>
                    </a:lnTo>
                    <a:lnTo>
                      <a:pt x="94" y="48"/>
                    </a:lnTo>
                    <a:lnTo>
                      <a:pt x="107" y="66"/>
                    </a:lnTo>
                    <a:lnTo>
                      <a:pt x="120" y="86"/>
                    </a:lnTo>
                    <a:lnTo>
                      <a:pt x="131" y="107"/>
                    </a:lnTo>
                    <a:lnTo>
                      <a:pt x="141" y="129"/>
                    </a:lnTo>
                    <a:lnTo>
                      <a:pt x="152" y="150"/>
                    </a:lnTo>
                    <a:lnTo>
                      <a:pt x="170" y="196"/>
                    </a:lnTo>
                    <a:lnTo>
                      <a:pt x="185" y="240"/>
                    </a:lnTo>
                    <a:lnTo>
                      <a:pt x="199" y="283"/>
                    </a:lnTo>
                    <a:lnTo>
                      <a:pt x="211" y="324"/>
                    </a:lnTo>
                    <a:lnTo>
                      <a:pt x="211" y="324"/>
                    </a:lnTo>
                    <a:lnTo>
                      <a:pt x="217" y="340"/>
                    </a:lnTo>
                    <a:lnTo>
                      <a:pt x="224" y="356"/>
                    </a:lnTo>
                    <a:lnTo>
                      <a:pt x="237" y="391"/>
                    </a:lnTo>
                    <a:lnTo>
                      <a:pt x="249" y="427"/>
                    </a:lnTo>
                    <a:lnTo>
                      <a:pt x="264" y="462"/>
                    </a:lnTo>
                    <a:lnTo>
                      <a:pt x="264" y="462"/>
                    </a:lnTo>
                    <a:lnTo>
                      <a:pt x="233" y="400"/>
                    </a:lnTo>
                    <a:lnTo>
                      <a:pt x="233" y="400"/>
                    </a:lnTo>
                    <a:lnTo>
                      <a:pt x="221" y="374"/>
                    </a:lnTo>
                    <a:lnTo>
                      <a:pt x="206" y="347"/>
                    </a:lnTo>
                    <a:lnTo>
                      <a:pt x="193" y="319"/>
                    </a:lnTo>
                    <a:lnTo>
                      <a:pt x="186" y="306"/>
                    </a:lnTo>
                    <a:lnTo>
                      <a:pt x="181" y="292"/>
                    </a:lnTo>
                    <a:lnTo>
                      <a:pt x="181" y="292"/>
                    </a:lnTo>
                    <a:lnTo>
                      <a:pt x="175" y="274"/>
                    </a:lnTo>
                    <a:lnTo>
                      <a:pt x="171" y="256"/>
                    </a:lnTo>
                    <a:lnTo>
                      <a:pt x="165" y="238"/>
                    </a:lnTo>
                    <a:lnTo>
                      <a:pt x="160" y="221"/>
                    </a:lnTo>
                    <a:lnTo>
                      <a:pt x="160" y="221"/>
                    </a:lnTo>
                    <a:lnTo>
                      <a:pt x="155" y="209"/>
                    </a:lnTo>
                    <a:lnTo>
                      <a:pt x="149" y="198"/>
                    </a:lnTo>
                    <a:lnTo>
                      <a:pt x="149" y="198"/>
                    </a:lnTo>
                    <a:lnTo>
                      <a:pt x="138" y="174"/>
                    </a:lnTo>
                    <a:lnTo>
                      <a:pt x="127" y="150"/>
                    </a:lnTo>
                    <a:lnTo>
                      <a:pt x="114" y="126"/>
                    </a:lnTo>
                    <a:lnTo>
                      <a:pt x="102" y="105"/>
                    </a:lnTo>
                    <a:lnTo>
                      <a:pt x="87" y="84"/>
                    </a:lnTo>
                    <a:lnTo>
                      <a:pt x="79" y="76"/>
                    </a:lnTo>
                    <a:lnTo>
                      <a:pt x="71" y="69"/>
                    </a:lnTo>
                    <a:lnTo>
                      <a:pt x="62" y="61"/>
                    </a:lnTo>
                    <a:lnTo>
                      <a:pt x="53" y="55"/>
                    </a:lnTo>
                    <a:lnTo>
                      <a:pt x="44" y="50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43" y="53"/>
                    </a:lnTo>
                    <a:lnTo>
                      <a:pt x="52" y="58"/>
                    </a:lnTo>
                    <a:lnTo>
                      <a:pt x="61" y="63"/>
                    </a:lnTo>
                    <a:lnTo>
                      <a:pt x="70" y="70"/>
                    </a:lnTo>
                    <a:lnTo>
                      <a:pt x="70" y="70"/>
                    </a:lnTo>
                    <a:lnTo>
                      <a:pt x="80" y="82"/>
                    </a:lnTo>
                    <a:lnTo>
                      <a:pt x="91" y="97"/>
                    </a:lnTo>
                    <a:lnTo>
                      <a:pt x="101" y="113"/>
                    </a:lnTo>
                    <a:lnTo>
                      <a:pt x="111" y="131"/>
                    </a:lnTo>
                    <a:lnTo>
                      <a:pt x="120" y="150"/>
                    </a:lnTo>
                    <a:lnTo>
                      <a:pt x="128" y="170"/>
                    </a:lnTo>
                    <a:lnTo>
                      <a:pt x="144" y="208"/>
                    </a:lnTo>
                    <a:lnTo>
                      <a:pt x="144" y="208"/>
                    </a:lnTo>
                    <a:lnTo>
                      <a:pt x="152" y="225"/>
                    </a:lnTo>
                    <a:lnTo>
                      <a:pt x="160" y="241"/>
                    </a:lnTo>
                    <a:lnTo>
                      <a:pt x="163" y="249"/>
                    </a:lnTo>
                    <a:lnTo>
                      <a:pt x="165" y="255"/>
                    </a:lnTo>
                    <a:lnTo>
                      <a:pt x="166" y="260"/>
                    </a:lnTo>
                    <a:lnTo>
                      <a:pt x="165" y="264"/>
                    </a:lnTo>
                    <a:lnTo>
                      <a:pt x="165" y="264"/>
                    </a:lnTo>
                    <a:lnTo>
                      <a:pt x="135" y="193"/>
                    </a:lnTo>
                    <a:lnTo>
                      <a:pt x="119" y="159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14" y="157"/>
                    </a:lnTo>
                    <a:lnTo>
                      <a:pt x="128" y="189"/>
                    </a:lnTo>
                    <a:lnTo>
                      <a:pt x="155" y="249"/>
                    </a:lnTo>
                    <a:lnTo>
                      <a:pt x="182" y="307"/>
                    </a:lnTo>
                    <a:lnTo>
                      <a:pt x="195" y="336"/>
                    </a:lnTo>
                    <a:lnTo>
                      <a:pt x="206" y="365"/>
                    </a:lnTo>
                    <a:lnTo>
                      <a:pt x="206" y="365"/>
                    </a:lnTo>
                    <a:lnTo>
                      <a:pt x="168" y="301"/>
                    </a:lnTo>
                    <a:lnTo>
                      <a:pt x="128" y="238"/>
                    </a:lnTo>
                    <a:lnTo>
                      <a:pt x="88" y="174"/>
                    </a:lnTo>
                    <a:lnTo>
                      <a:pt x="70" y="141"/>
                    </a:lnTo>
                    <a:lnTo>
                      <a:pt x="52" y="107"/>
                    </a:lnTo>
                    <a:lnTo>
                      <a:pt x="52" y="107"/>
                    </a:lnTo>
                    <a:lnTo>
                      <a:pt x="54" y="113"/>
                    </a:lnTo>
                    <a:lnTo>
                      <a:pt x="54" y="115"/>
                    </a:lnTo>
                    <a:lnTo>
                      <a:pt x="54" y="116"/>
                    </a:lnTo>
                    <a:lnTo>
                      <a:pt x="52" y="115"/>
                    </a:lnTo>
                    <a:lnTo>
                      <a:pt x="52" y="115"/>
                    </a:lnTo>
                    <a:lnTo>
                      <a:pt x="39" y="92"/>
                    </a:lnTo>
                    <a:lnTo>
                      <a:pt x="27" y="70"/>
                    </a:lnTo>
                    <a:lnTo>
                      <a:pt x="13" y="4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3" y="70"/>
                    </a:lnTo>
                    <a:lnTo>
                      <a:pt x="47" y="114"/>
                    </a:lnTo>
                    <a:lnTo>
                      <a:pt x="71" y="157"/>
                    </a:lnTo>
                    <a:lnTo>
                      <a:pt x="82" y="180"/>
                    </a:lnTo>
                    <a:lnTo>
                      <a:pt x="94" y="201"/>
                    </a:lnTo>
                    <a:lnTo>
                      <a:pt x="94" y="201"/>
                    </a:lnTo>
                    <a:lnTo>
                      <a:pt x="112" y="241"/>
                    </a:lnTo>
                    <a:lnTo>
                      <a:pt x="131" y="281"/>
                    </a:lnTo>
                    <a:lnTo>
                      <a:pt x="172" y="360"/>
                    </a:lnTo>
                    <a:lnTo>
                      <a:pt x="215" y="441"/>
                    </a:lnTo>
                    <a:lnTo>
                      <a:pt x="259" y="521"/>
                    </a:lnTo>
                    <a:lnTo>
                      <a:pt x="349" y="683"/>
                    </a:lnTo>
                    <a:lnTo>
                      <a:pt x="392" y="763"/>
                    </a:lnTo>
                    <a:lnTo>
                      <a:pt x="434" y="845"/>
                    </a:lnTo>
                    <a:lnTo>
                      <a:pt x="434" y="845"/>
                    </a:lnTo>
                    <a:lnTo>
                      <a:pt x="490" y="955"/>
                    </a:lnTo>
                    <a:lnTo>
                      <a:pt x="490" y="955"/>
                    </a:lnTo>
                    <a:lnTo>
                      <a:pt x="512" y="998"/>
                    </a:lnTo>
                    <a:lnTo>
                      <a:pt x="534" y="1041"/>
                    </a:lnTo>
                    <a:lnTo>
                      <a:pt x="581" y="1128"/>
                    </a:lnTo>
                    <a:lnTo>
                      <a:pt x="603" y="1171"/>
                    </a:lnTo>
                    <a:lnTo>
                      <a:pt x="626" y="1215"/>
                    </a:lnTo>
                    <a:lnTo>
                      <a:pt x="647" y="1258"/>
                    </a:lnTo>
                    <a:lnTo>
                      <a:pt x="666" y="1302"/>
                    </a:lnTo>
                    <a:lnTo>
                      <a:pt x="666" y="1302"/>
                    </a:lnTo>
                    <a:lnTo>
                      <a:pt x="672" y="1306"/>
                    </a:lnTo>
                    <a:lnTo>
                      <a:pt x="676" y="1312"/>
                    </a:lnTo>
                    <a:lnTo>
                      <a:pt x="676" y="1312"/>
                    </a:lnTo>
                    <a:lnTo>
                      <a:pt x="705" y="1367"/>
                    </a:lnTo>
                    <a:lnTo>
                      <a:pt x="735" y="1424"/>
                    </a:lnTo>
                    <a:lnTo>
                      <a:pt x="795" y="1537"/>
                    </a:lnTo>
                    <a:lnTo>
                      <a:pt x="855" y="1651"/>
                    </a:lnTo>
                    <a:lnTo>
                      <a:pt x="885" y="1708"/>
                    </a:lnTo>
                    <a:lnTo>
                      <a:pt x="913" y="1766"/>
                    </a:lnTo>
                    <a:lnTo>
                      <a:pt x="913" y="1766"/>
                    </a:lnTo>
                    <a:lnTo>
                      <a:pt x="979" y="1903"/>
                    </a:lnTo>
                    <a:lnTo>
                      <a:pt x="1012" y="1970"/>
                    </a:lnTo>
                    <a:lnTo>
                      <a:pt x="1045" y="2037"/>
                    </a:lnTo>
                    <a:lnTo>
                      <a:pt x="1045" y="2037"/>
                    </a:lnTo>
                    <a:lnTo>
                      <a:pt x="1036" y="2029"/>
                    </a:lnTo>
                    <a:lnTo>
                      <a:pt x="1027" y="2021"/>
                    </a:lnTo>
                    <a:lnTo>
                      <a:pt x="1019" y="2011"/>
                    </a:lnTo>
                    <a:lnTo>
                      <a:pt x="1012" y="2001"/>
                    </a:lnTo>
                    <a:lnTo>
                      <a:pt x="997" y="1980"/>
                    </a:lnTo>
                    <a:lnTo>
                      <a:pt x="989" y="1971"/>
                    </a:lnTo>
                    <a:lnTo>
                      <a:pt x="981" y="1962"/>
                    </a:lnTo>
                    <a:lnTo>
                      <a:pt x="981" y="1962"/>
                    </a:lnTo>
                    <a:lnTo>
                      <a:pt x="987" y="1971"/>
                    </a:lnTo>
                    <a:lnTo>
                      <a:pt x="994" y="1980"/>
                    </a:lnTo>
                    <a:lnTo>
                      <a:pt x="1000" y="1989"/>
                    </a:lnTo>
                    <a:lnTo>
                      <a:pt x="1002" y="1994"/>
                    </a:lnTo>
                    <a:lnTo>
                      <a:pt x="1003" y="1997"/>
                    </a:lnTo>
                    <a:lnTo>
                      <a:pt x="1003" y="1997"/>
                    </a:lnTo>
                    <a:lnTo>
                      <a:pt x="961" y="1953"/>
                    </a:lnTo>
                    <a:lnTo>
                      <a:pt x="918" y="1909"/>
                    </a:lnTo>
                    <a:lnTo>
                      <a:pt x="896" y="1888"/>
                    </a:lnTo>
                    <a:lnTo>
                      <a:pt x="874" y="1868"/>
                    </a:lnTo>
                    <a:lnTo>
                      <a:pt x="851" y="1847"/>
                    </a:lnTo>
                    <a:lnTo>
                      <a:pt x="829" y="1829"/>
                    </a:lnTo>
                    <a:lnTo>
                      <a:pt x="829" y="1829"/>
                    </a:lnTo>
                    <a:lnTo>
                      <a:pt x="861" y="1861"/>
                    </a:lnTo>
                    <a:lnTo>
                      <a:pt x="894" y="1892"/>
                    </a:lnTo>
                    <a:lnTo>
                      <a:pt x="927" y="1922"/>
                    </a:lnTo>
                    <a:lnTo>
                      <a:pt x="959" y="1954"/>
                    </a:lnTo>
                    <a:lnTo>
                      <a:pt x="991" y="1987"/>
                    </a:lnTo>
                    <a:lnTo>
                      <a:pt x="1006" y="2004"/>
                    </a:lnTo>
                    <a:lnTo>
                      <a:pt x="1020" y="2021"/>
                    </a:lnTo>
                    <a:lnTo>
                      <a:pt x="1035" y="2039"/>
                    </a:lnTo>
                    <a:lnTo>
                      <a:pt x="1048" y="2057"/>
                    </a:lnTo>
                    <a:lnTo>
                      <a:pt x="1061" y="2077"/>
                    </a:lnTo>
                    <a:lnTo>
                      <a:pt x="1073" y="2096"/>
                    </a:lnTo>
                    <a:lnTo>
                      <a:pt x="1097" y="2096"/>
                    </a:lnTo>
                    <a:lnTo>
                      <a:pt x="1097" y="2096"/>
                    </a:lnTo>
                    <a:lnTo>
                      <a:pt x="1092" y="2090"/>
                    </a:lnTo>
                    <a:lnTo>
                      <a:pt x="1087" y="2084"/>
                    </a:lnTo>
                    <a:lnTo>
                      <a:pt x="1087" y="2084"/>
                    </a:lnTo>
                    <a:lnTo>
                      <a:pt x="1077" y="2068"/>
                    </a:lnTo>
                    <a:lnTo>
                      <a:pt x="1071" y="2054"/>
                    </a:lnTo>
                    <a:lnTo>
                      <a:pt x="1068" y="2040"/>
                    </a:lnTo>
                    <a:lnTo>
                      <a:pt x="1067" y="2029"/>
                    </a:lnTo>
                    <a:lnTo>
                      <a:pt x="1067" y="2018"/>
                    </a:lnTo>
                    <a:lnTo>
                      <a:pt x="1068" y="2007"/>
                    </a:lnTo>
                    <a:lnTo>
                      <a:pt x="1071" y="1986"/>
                    </a:lnTo>
                    <a:lnTo>
                      <a:pt x="1071" y="1986"/>
                    </a:lnTo>
                    <a:lnTo>
                      <a:pt x="1076" y="1945"/>
                    </a:lnTo>
                    <a:lnTo>
                      <a:pt x="1081" y="1903"/>
                    </a:lnTo>
                    <a:lnTo>
                      <a:pt x="1088" y="1863"/>
                    </a:lnTo>
                    <a:lnTo>
                      <a:pt x="1096" y="1828"/>
                    </a:lnTo>
                    <a:lnTo>
                      <a:pt x="1096" y="1828"/>
                    </a:lnTo>
                    <a:lnTo>
                      <a:pt x="1136" y="1887"/>
                    </a:lnTo>
                    <a:lnTo>
                      <a:pt x="1155" y="1917"/>
                    </a:lnTo>
                    <a:lnTo>
                      <a:pt x="1174" y="1947"/>
                    </a:lnTo>
                    <a:lnTo>
                      <a:pt x="1193" y="1978"/>
                    </a:lnTo>
                    <a:lnTo>
                      <a:pt x="1210" y="2009"/>
                    </a:lnTo>
                    <a:lnTo>
                      <a:pt x="1224" y="2040"/>
                    </a:lnTo>
                    <a:lnTo>
                      <a:pt x="1231" y="2056"/>
                    </a:lnTo>
                    <a:lnTo>
                      <a:pt x="1237" y="2073"/>
                    </a:lnTo>
                    <a:lnTo>
                      <a:pt x="1237" y="2073"/>
                    </a:lnTo>
                    <a:lnTo>
                      <a:pt x="1245" y="2096"/>
                    </a:lnTo>
                    <a:lnTo>
                      <a:pt x="1249" y="2096"/>
                    </a:lnTo>
                    <a:lnTo>
                      <a:pt x="1249" y="2096"/>
                    </a:lnTo>
                    <a:lnTo>
                      <a:pt x="1229" y="2039"/>
                    </a:lnTo>
                    <a:lnTo>
                      <a:pt x="1229" y="2039"/>
                    </a:lnTo>
                    <a:lnTo>
                      <a:pt x="1265" y="2096"/>
                    </a:lnTo>
                    <a:lnTo>
                      <a:pt x="1277" y="2096"/>
                    </a:lnTo>
                    <a:lnTo>
                      <a:pt x="1277" y="2096"/>
                    </a:lnTo>
                    <a:lnTo>
                      <a:pt x="1266" y="2079"/>
                    </a:lnTo>
                    <a:lnTo>
                      <a:pt x="1255" y="2060"/>
                    </a:lnTo>
                    <a:lnTo>
                      <a:pt x="1255" y="2060"/>
                    </a:lnTo>
                    <a:lnTo>
                      <a:pt x="1236" y="2035"/>
                    </a:lnTo>
                    <a:lnTo>
                      <a:pt x="1228" y="2022"/>
                    </a:lnTo>
                    <a:lnTo>
                      <a:pt x="1220" y="2010"/>
                    </a:lnTo>
                    <a:lnTo>
                      <a:pt x="1220" y="2010"/>
                    </a:lnTo>
                    <a:lnTo>
                      <a:pt x="1214" y="1998"/>
                    </a:lnTo>
                    <a:lnTo>
                      <a:pt x="1209" y="1987"/>
                    </a:lnTo>
                    <a:lnTo>
                      <a:pt x="1201" y="1964"/>
                    </a:lnTo>
                    <a:lnTo>
                      <a:pt x="1193" y="1942"/>
                    </a:lnTo>
                    <a:lnTo>
                      <a:pt x="1187" y="1930"/>
                    </a:lnTo>
                    <a:lnTo>
                      <a:pt x="1180" y="1919"/>
                    </a:lnTo>
                    <a:lnTo>
                      <a:pt x="1180" y="1919"/>
                    </a:lnTo>
                    <a:lnTo>
                      <a:pt x="1192" y="1948"/>
                    </a:lnTo>
                    <a:lnTo>
                      <a:pt x="1196" y="1962"/>
                    </a:lnTo>
                    <a:lnTo>
                      <a:pt x="1199" y="1976"/>
                    </a:lnTo>
                    <a:lnTo>
                      <a:pt x="1199" y="1976"/>
                    </a:lnTo>
                    <a:lnTo>
                      <a:pt x="1179" y="1946"/>
                    </a:lnTo>
                    <a:lnTo>
                      <a:pt x="1160" y="1917"/>
                    </a:lnTo>
                    <a:lnTo>
                      <a:pt x="1122" y="1860"/>
                    </a:lnTo>
                    <a:lnTo>
                      <a:pt x="1122" y="1860"/>
                    </a:lnTo>
                    <a:lnTo>
                      <a:pt x="1108" y="1839"/>
                    </a:lnTo>
                    <a:lnTo>
                      <a:pt x="1101" y="1829"/>
                    </a:lnTo>
                    <a:lnTo>
                      <a:pt x="1096" y="1821"/>
                    </a:lnTo>
                    <a:lnTo>
                      <a:pt x="1096" y="1821"/>
                    </a:lnTo>
                    <a:lnTo>
                      <a:pt x="1095" y="1816"/>
                    </a:lnTo>
                    <a:lnTo>
                      <a:pt x="1095" y="1810"/>
                    </a:lnTo>
                    <a:lnTo>
                      <a:pt x="1098" y="1797"/>
                    </a:lnTo>
                    <a:lnTo>
                      <a:pt x="1102" y="1785"/>
                    </a:lnTo>
                    <a:lnTo>
                      <a:pt x="1105" y="1772"/>
                    </a:lnTo>
                    <a:lnTo>
                      <a:pt x="1105" y="1772"/>
                    </a:lnTo>
                    <a:lnTo>
                      <a:pt x="1110" y="1745"/>
                    </a:lnTo>
                    <a:lnTo>
                      <a:pt x="1112" y="1733"/>
                    </a:lnTo>
                    <a:lnTo>
                      <a:pt x="1115" y="1724"/>
                    </a:lnTo>
                    <a:lnTo>
                      <a:pt x="1115" y="1724"/>
                    </a:lnTo>
                    <a:lnTo>
                      <a:pt x="1140" y="1757"/>
                    </a:lnTo>
                    <a:lnTo>
                      <a:pt x="1164" y="1789"/>
                    </a:lnTo>
                    <a:lnTo>
                      <a:pt x="1213" y="1859"/>
                    </a:lnTo>
                    <a:lnTo>
                      <a:pt x="1213" y="1859"/>
                    </a:lnTo>
                    <a:lnTo>
                      <a:pt x="1245" y="1901"/>
                    </a:lnTo>
                    <a:lnTo>
                      <a:pt x="1276" y="1944"/>
                    </a:lnTo>
                    <a:lnTo>
                      <a:pt x="1290" y="1965"/>
                    </a:lnTo>
                    <a:lnTo>
                      <a:pt x="1304" y="1988"/>
                    </a:lnTo>
                    <a:lnTo>
                      <a:pt x="1316" y="2011"/>
                    </a:lnTo>
                    <a:lnTo>
                      <a:pt x="1327" y="2036"/>
                    </a:lnTo>
                    <a:lnTo>
                      <a:pt x="1327" y="2036"/>
                    </a:lnTo>
                    <a:lnTo>
                      <a:pt x="1311" y="2011"/>
                    </a:lnTo>
                    <a:lnTo>
                      <a:pt x="1296" y="1987"/>
                    </a:lnTo>
                    <a:lnTo>
                      <a:pt x="1281" y="1962"/>
                    </a:lnTo>
                    <a:lnTo>
                      <a:pt x="1264" y="1939"/>
                    </a:lnTo>
                    <a:lnTo>
                      <a:pt x="1264" y="1939"/>
                    </a:lnTo>
                    <a:lnTo>
                      <a:pt x="1308" y="2018"/>
                    </a:lnTo>
                    <a:lnTo>
                      <a:pt x="1352" y="2096"/>
                    </a:lnTo>
                    <a:lnTo>
                      <a:pt x="1436" y="2096"/>
                    </a:lnTo>
                    <a:lnTo>
                      <a:pt x="1436" y="2096"/>
                    </a:lnTo>
                    <a:lnTo>
                      <a:pt x="1424" y="2079"/>
                    </a:lnTo>
                    <a:lnTo>
                      <a:pt x="1420" y="2071"/>
                    </a:lnTo>
                    <a:lnTo>
                      <a:pt x="1415" y="2063"/>
                    </a:lnTo>
                    <a:lnTo>
                      <a:pt x="1413" y="2055"/>
                    </a:lnTo>
                    <a:lnTo>
                      <a:pt x="1412" y="2047"/>
                    </a:lnTo>
                    <a:lnTo>
                      <a:pt x="1412" y="2042"/>
                    </a:lnTo>
                    <a:lnTo>
                      <a:pt x="1414" y="2036"/>
                    </a:lnTo>
                    <a:lnTo>
                      <a:pt x="1414" y="2036"/>
                    </a:lnTo>
                    <a:lnTo>
                      <a:pt x="1442" y="2096"/>
                    </a:lnTo>
                    <a:lnTo>
                      <a:pt x="1461" y="2096"/>
                    </a:lnTo>
                    <a:lnTo>
                      <a:pt x="1461" y="2096"/>
                    </a:lnTo>
                    <a:lnTo>
                      <a:pt x="1459" y="2082"/>
                    </a:lnTo>
                    <a:lnTo>
                      <a:pt x="1459" y="2070"/>
                    </a:lnTo>
                    <a:lnTo>
                      <a:pt x="1459" y="2059"/>
                    </a:lnTo>
                    <a:lnTo>
                      <a:pt x="1459" y="2052"/>
                    </a:lnTo>
                    <a:lnTo>
                      <a:pt x="1458" y="2046"/>
                    </a:lnTo>
                    <a:lnTo>
                      <a:pt x="1458" y="2046"/>
                    </a:lnTo>
                    <a:lnTo>
                      <a:pt x="1457" y="2066"/>
                    </a:lnTo>
                    <a:lnTo>
                      <a:pt x="1456" y="2076"/>
                    </a:lnTo>
                    <a:lnTo>
                      <a:pt x="1455" y="2080"/>
                    </a:lnTo>
                    <a:lnTo>
                      <a:pt x="1453" y="2085"/>
                    </a:lnTo>
                    <a:lnTo>
                      <a:pt x="1453" y="2085"/>
                    </a:lnTo>
                    <a:lnTo>
                      <a:pt x="1448" y="2072"/>
                    </a:lnTo>
                    <a:lnTo>
                      <a:pt x="1442" y="2062"/>
                    </a:lnTo>
                    <a:lnTo>
                      <a:pt x="1430" y="2040"/>
                    </a:lnTo>
                    <a:lnTo>
                      <a:pt x="1419" y="2019"/>
                    </a:lnTo>
                    <a:lnTo>
                      <a:pt x="1414" y="2009"/>
                    </a:lnTo>
                    <a:lnTo>
                      <a:pt x="1411" y="1998"/>
                    </a:lnTo>
                    <a:lnTo>
                      <a:pt x="1411" y="1998"/>
                    </a:lnTo>
                    <a:lnTo>
                      <a:pt x="1408" y="1987"/>
                    </a:lnTo>
                    <a:lnTo>
                      <a:pt x="1409" y="1973"/>
                    </a:lnTo>
                    <a:lnTo>
                      <a:pt x="1412" y="1947"/>
                    </a:lnTo>
                    <a:lnTo>
                      <a:pt x="1412" y="1947"/>
                    </a:lnTo>
                    <a:lnTo>
                      <a:pt x="1413" y="1934"/>
                    </a:lnTo>
                    <a:lnTo>
                      <a:pt x="1415" y="1920"/>
                    </a:lnTo>
                    <a:lnTo>
                      <a:pt x="1419" y="1909"/>
                    </a:lnTo>
                    <a:lnTo>
                      <a:pt x="1422" y="1900"/>
                    </a:lnTo>
                    <a:lnTo>
                      <a:pt x="1422" y="1900"/>
                    </a:lnTo>
                    <a:lnTo>
                      <a:pt x="1470" y="1976"/>
                    </a:lnTo>
                    <a:lnTo>
                      <a:pt x="1492" y="2014"/>
                    </a:lnTo>
                    <a:lnTo>
                      <a:pt x="1515" y="2054"/>
                    </a:lnTo>
                    <a:lnTo>
                      <a:pt x="1515" y="2054"/>
                    </a:lnTo>
                    <a:lnTo>
                      <a:pt x="1511" y="2064"/>
                    </a:lnTo>
                    <a:lnTo>
                      <a:pt x="1506" y="2073"/>
                    </a:lnTo>
                    <a:lnTo>
                      <a:pt x="1496" y="2094"/>
                    </a:lnTo>
                    <a:lnTo>
                      <a:pt x="1496" y="2094"/>
                    </a:lnTo>
                    <a:lnTo>
                      <a:pt x="1495" y="2096"/>
                    </a:lnTo>
                    <a:lnTo>
                      <a:pt x="1529" y="2096"/>
                    </a:lnTo>
                    <a:lnTo>
                      <a:pt x="1529" y="2096"/>
                    </a:lnTo>
                    <a:lnTo>
                      <a:pt x="1534" y="2086"/>
                    </a:lnTo>
                    <a:lnTo>
                      <a:pt x="1534" y="2086"/>
                    </a:lnTo>
                    <a:lnTo>
                      <a:pt x="1540" y="2096"/>
                    </a:lnTo>
                    <a:lnTo>
                      <a:pt x="1588" y="2096"/>
                    </a:lnTo>
                    <a:lnTo>
                      <a:pt x="1588" y="2096"/>
                    </a:lnTo>
                    <a:lnTo>
                      <a:pt x="1584" y="2085"/>
                    </a:lnTo>
                    <a:lnTo>
                      <a:pt x="1584" y="2085"/>
                    </a:lnTo>
                    <a:lnTo>
                      <a:pt x="1583" y="2079"/>
                    </a:lnTo>
                    <a:lnTo>
                      <a:pt x="1583" y="2072"/>
                    </a:lnTo>
                    <a:lnTo>
                      <a:pt x="1583" y="2059"/>
                    </a:lnTo>
                    <a:lnTo>
                      <a:pt x="1584" y="2032"/>
                    </a:lnTo>
                    <a:lnTo>
                      <a:pt x="1584" y="2032"/>
                    </a:lnTo>
                    <a:lnTo>
                      <a:pt x="1584" y="2004"/>
                    </a:lnTo>
                    <a:lnTo>
                      <a:pt x="1584" y="1990"/>
                    </a:lnTo>
                    <a:lnTo>
                      <a:pt x="1585" y="1979"/>
                    </a:lnTo>
                    <a:lnTo>
                      <a:pt x="1585" y="1979"/>
                    </a:lnTo>
                    <a:lnTo>
                      <a:pt x="1587" y="1975"/>
                    </a:lnTo>
                    <a:lnTo>
                      <a:pt x="1589" y="1969"/>
                    </a:lnTo>
                    <a:lnTo>
                      <a:pt x="1595" y="1959"/>
                    </a:lnTo>
                    <a:lnTo>
                      <a:pt x="1607" y="1939"/>
                    </a:lnTo>
                    <a:lnTo>
                      <a:pt x="1607" y="1939"/>
                    </a:lnTo>
                    <a:lnTo>
                      <a:pt x="1618" y="1922"/>
                    </a:lnTo>
                    <a:lnTo>
                      <a:pt x="1629" y="1908"/>
                    </a:lnTo>
                    <a:lnTo>
                      <a:pt x="1649" y="1881"/>
                    </a:lnTo>
                    <a:lnTo>
                      <a:pt x="1649" y="1881"/>
                    </a:lnTo>
                    <a:lnTo>
                      <a:pt x="1640" y="1888"/>
                    </a:lnTo>
                    <a:lnTo>
                      <a:pt x="1631" y="1895"/>
                    </a:lnTo>
                    <a:lnTo>
                      <a:pt x="1616" y="1911"/>
                    </a:lnTo>
                    <a:lnTo>
                      <a:pt x="1601" y="1926"/>
                    </a:lnTo>
                    <a:lnTo>
                      <a:pt x="1593" y="1934"/>
                    </a:lnTo>
                    <a:lnTo>
                      <a:pt x="1584" y="1940"/>
                    </a:lnTo>
                    <a:lnTo>
                      <a:pt x="1584" y="1940"/>
                    </a:lnTo>
                    <a:lnTo>
                      <a:pt x="1580" y="1952"/>
                    </a:lnTo>
                    <a:lnTo>
                      <a:pt x="1573" y="1963"/>
                    </a:lnTo>
                    <a:lnTo>
                      <a:pt x="1557" y="1985"/>
                    </a:lnTo>
                    <a:lnTo>
                      <a:pt x="1557" y="1985"/>
                    </a:lnTo>
                    <a:lnTo>
                      <a:pt x="1555" y="1988"/>
                    </a:lnTo>
                    <a:lnTo>
                      <a:pt x="1553" y="1992"/>
                    </a:lnTo>
                    <a:lnTo>
                      <a:pt x="1549" y="1994"/>
                    </a:lnTo>
                    <a:lnTo>
                      <a:pt x="1546" y="1994"/>
                    </a:lnTo>
                    <a:lnTo>
                      <a:pt x="1543" y="1994"/>
                    </a:lnTo>
                    <a:lnTo>
                      <a:pt x="1543" y="1994"/>
                    </a:lnTo>
                    <a:lnTo>
                      <a:pt x="1517" y="1937"/>
                    </a:lnTo>
                    <a:lnTo>
                      <a:pt x="1491" y="1879"/>
                    </a:lnTo>
                    <a:lnTo>
                      <a:pt x="1476" y="1850"/>
                    </a:lnTo>
                    <a:lnTo>
                      <a:pt x="1462" y="1820"/>
                    </a:lnTo>
                    <a:lnTo>
                      <a:pt x="1445" y="1792"/>
                    </a:lnTo>
                    <a:lnTo>
                      <a:pt x="1428" y="1762"/>
                    </a:lnTo>
                    <a:lnTo>
                      <a:pt x="1428" y="1762"/>
                    </a:lnTo>
                    <a:lnTo>
                      <a:pt x="1457" y="1825"/>
                    </a:lnTo>
                    <a:lnTo>
                      <a:pt x="1486" y="1885"/>
                    </a:lnTo>
                    <a:lnTo>
                      <a:pt x="1498" y="1914"/>
                    </a:lnTo>
                    <a:lnTo>
                      <a:pt x="1509" y="1944"/>
                    </a:lnTo>
                    <a:lnTo>
                      <a:pt x="1520" y="1972"/>
                    </a:lnTo>
                    <a:lnTo>
                      <a:pt x="1529" y="2000"/>
                    </a:lnTo>
                    <a:lnTo>
                      <a:pt x="1529" y="2000"/>
                    </a:lnTo>
                    <a:lnTo>
                      <a:pt x="1495" y="1939"/>
                    </a:lnTo>
                    <a:lnTo>
                      <a:pt x="1461" y="1881"/>
                    </a:lnTo>
                    <a:lnTo>
                      <a:pt x="1425" y="1826"/>
                    </a:lnTo>
                    <a:lnTo>
                      <a:pt x="1408" y="1799"/>
                    </a:lnTo>
                    <a:lnTo>
                      <a:pt x="1390" y="1772"/>
                    </a:lnTo>
                    <a:lnTo>
                      <a:pt x="1390" y="1772"/>
                    </a:lnTo>
                    <a:lnTo>
                      <a:pt x="1374" y="1752"/>
                    </a:lnTo>
                    <a:lnTo>
                      <a:pt x="1367" y="1743"/>
                    </a:lnTo>
                    <a:lnTo>
                      <a:pt x="1363" y="1735"/>
                    </a:lnTo>
                    <a:lnTo>
                      <a:pt x="1363" y="1735"/>
                    </a:lnTo>
                    <a:lnTo>
                      <a:pt x="1363" y="1732"/>
                    </a:lnTo>
                    <a:lnTo>
                      <a:pt x="1362" y="1728"/>
                    </a:lnTo>
                    <a:lnTo>
                      <a:pt x="1363" y="1718"/>
                    </a:lnTo>
                    <a:lnTo>
                      <a:pt x="1366" y="1699"/>
                    </a:lnTo>
                    <a:lnTo>
                      <a:pt x="1366" y="1699"/>
                    </a:lnTo>
                    <a:lnTo>
                      <a:pt x="1375" y="1634"/>
                    </a:lnTo>
                    <a:lnTo>
                      <a:pt x="1387" y="1572"/>
                    </a:lnTo>
                    <a:lnTo>
                      <a:pt x="1398" y="1510"/>
                    </a:lnTo>
                    <a:lnTo>
                      <a:pt x="1412" y="1450"/>
                    </a:lnTo>
                    <a:lnTo>
                      <a:pt x="1412" y="1450"/>
                    </a:lnTo>
                    <a:lnTo>
                      <a:pt x="1478" y="1498"/>
                    </a:lnTo>
                    <a:lnTo>
                      <a:pt x="1543" y="1547"/>
                    </a:lnTo>
                    <a:lnTo>
                      <a:pt x="1677" y="1644"/>
                    </a:lnTo>
                    <a:lnTo>
                      <a:pt x="1677" y="1644"/>
                    </a:lnTo>
                    <a:lnTo>
                      <a:pt x="1704" y="1665"/>
                    </a:lnTo>
                    <a:lnTo>
                      <a:pt x="1730" y="1684"/>
                    </a:lnTo>
                    <a:lnTo>
                      <a:pt x="1742" y="1693"/>
                    </a:lnTo>
                    <a:lnTo>
                      <a:pt x="1756" y="1701"/>
                    </a:lnTo>
                    <a:lnTo>
                      <a:pt x="1768" y="1708"/>
                    </a:lnTo>
                    <a:lnTo>
                      <a:pt x="1782" y="1713"/>
                    </a:lnTo>
                    <a:lnTo>
                      <a:pt x="1782" y="1713"/>
                    </a:lnTo>
                    <a:lnTo>
                      <a:pt x="1823" y="1744"/>
                    </a:lnTo>
                    <a:lnTo>
                      <a:pt x="1864" y="1774"/>
                    </a:lnTo>
                    <a:lnTo>
                      <a:pt x="1946" y="1831"/>
                    </a:lnTo>
                    <a:lnTo>
                      <a:pt x="1946" y="1810"/>
                    </a:lnTo>
                    <a:lnTo>
                      <a:pt x="1946" y="1810"/>
                    </a:lnTo>
                    <a:lnTo>
                      <a:pt x="1914" y="1780"/>
                    </a:lnTo>
                    <a:lnTo>
                      <a:pt x="1914" y="1780"/>
                    </a:lnTo>
                    <a:lnTo>
                      <a:pt x="1827" y="1703"/>
                    </a:lnTo>
                    <a:lnTo>
                      <a:pt x="1744" y="1626"/>
                    </a:lnTo>
                    <a:lnTo>
                      <a:pt x="1664" y="1547"/>
                    </a:lnTo>
                    <a:lnTo>
                      <a:pt x="1584" y="1467"/>
                    </a:lnTo>
                    <a:lnTo>
                      <a:pt x="1584" y="1467"/>
                    </a:lnTo>
                    <a:close/>
                    <a:moveTo>
                      <a:pt x="992" y="1321"/>
                    </a:moveTo>
                    <a:lnTo>
                      <a:pt x="992" y="1321"/>
                    </a:lnTo>
                    <a:lnTo>
                      <a:pt x="951" y="1248"/>
                    </a:lnTo>
                    <a:lnTo>
                      <a:pt x="910" y="1175"/>
                    </a:lnTo>
                    <a:lnTo>
                      <a:pt x="910" y="1175"/>
                    </a:lnTo>
                    <a:lnTo>
                      <a:pt x="910" y="1174"/>
                    </a:lnTo>
                    <a:lnTo>
                      <a:pt x="912" y="1174"/>
                    </a:lnTo>
                    <a:lnTo>
                      <a:pt x="912" y="1174"/>
                    </a:lnTo>
                    <a:lnTo>
                      <a:pt x="926" y="1192"/>
                    </a:lnTo>
                    <a:lnTo>
                      <a:pt x="939" y="1211"/>
                    </a:lnTo>
                    <a:lnTo>
                      <a:pt x="953" y="1229"/>
                    </a:lnTo>
                    <a:lnTo>
                      <a:pt x="966" y="1248"/>
                    </a:lnTo>
                    <a:lnTo>
                      <a:pt x="977" y="1266"/>
                    </a:lnTo>
                    <a:lnTo>
                      <a:pt x="981" y="1275"/>
                    </a:lnTo>
                    <a:lnTo>
                      <a:pt x="985" y="1284"/>
                    </a:lnTo>
                    <a:lnTo>
                      <a:pt x="988" y="1293"/>
                    </a:lnTo>
                    <a:lnTo>
                      <a:pt x="991" y="1302"/>
                    </a:lnTo>
                    <a:lnTo>
                      <a:pt x="992" y="1312"/>
                    </a:lnTo>
                    <a:lnTo>
                      <a:pt x="992" y="1321"/>
                    </a:lnTo>
                    <a:lnTo>
                      <a:pt x="992" y="1321"/>
                    </a:lnTo>
                    <a:close/>
                    <a:moveTo>
                      <a:pt x="200" y="389"/>
                    </a:moveTo>
                    <a:lnTo>
                      <a:pt x="200" y="389"/>
                    </a:lnTo>
                    <a:lnTo>
                      <a:pt x="198" y="385"/>
                    </a:lnTo>
                    <a:lnTo>
                      <a:pt x="199" y="384"/>
                    </a:lnTo>
                    <a:lnTo>
                      <a:pt x="200" y="383"/>
                    </a:lnTo>
                    <a:lnTo>
                      <a:pt x="202" y="381"/>
                    </a:lnTo>
                    <a:lnTo>
                      <a:pt x="202" y="381"/>
                    </a:lnTo>
                    <a:lnTo>
                      <a:pt x="198" y="381"/>
                    </a:lnTo>
                    <a:lnTo>
                      <a:pt x="196" y="380"/>
                    </a:lnTo>
                    <a:lnTo>
                      <a:pt x="193" y="376"/>
                    </a:lnTo>
                    <a:lnTo>
                      <a:pt x="193" y="376"/>
                    </a:lnTo>
                    <a:lnTo>
                      <a:pt x="168" y="333"/>
                    </a:lnTo>
                    <a:lnTo>
                      <a:pt x="144" y="290"/>
                    </a:lnTo>
                    <a:lnTo>
                      <a:pt x="131" y="268"/>
                    </a:lnTo>
                    <a:lnTo>
                      <a:pt x="120" y="246"/>
                    </a:lnTo>
                    <a:lnTo>
                      <a:pt x="110" y="224"/>
                    </a:lnTo>
                    <a:lnTo>
                      <a:pt x="101" y="201"/>
                    </a:lnTo>
                    <a:lnTo>
                      <a:pt x="101" y="201"/>
                    </a:lnTo>
                    <a:lnTo>
                      <a:pt x="135" y="258"/>
                    </a:lnTo>
                    <a:lnTo>
                      <a:pt x="168" y="316"/>
                    </a:lnTo>
                    <a:lnTo>
                      <a:pt x="202" y="373"/>
                    </a:lnTo>
                    <a:lnTo>
                      <a:pt x="219" y="402"/>
                    </a:lnTo>
                    <a:lnTo>
                      <a:pt x="238" y="431"/>
                    </a:lnTo>
                    <a:lnTo>
                      <a:pt x="238" y="431"/>
                    </a:lnTo>
                    <a:lnTo>
                      <a:pt x="241" y="437"/>
                    </a:lnTo>
                    <a:lnTo>
                      <a:pt x="241" y="437"/>
                    </a:lnTo>
                    <a:lnTo>
                      <a:pt x="257" y="468"/>
                    </a:lnTo>
                    <a:lnTo>
                      <a:pt x="271" y="499"/>
                    </a:lnTo>
                    <a:lnTo>
                      <a:pt x="284" y="531"/>
                    </a:lnTo>
                    <a:lnTo>
                      <a:pt x="298" y="561"/>
                    </a:lnTo>
                    <a:lnTo>
                      <a:pt x="298" y="561"/>
                    </a:lnTo>
                    <a:lnTo>
                      <a:pt x="274" y="518"/>
                    </a:lnTo>
                    <a:lnTo>
                      <a:pt x="249" y="475"/>
                    </a:lnTo>
                    <a:lnTo>
                      <a:pt x="224" y="433"/>
                    </a:lnTo>
                    <a:lnTo>
                      <a:pt x="200" y="389"/>
                    </a:lnTo>
                    <a:lnTo>
                      <a:pt x="200" y="389"/>
                    </a:lnTo>
                    <a:close/>
                    <a:moveTo>
                      <a:pt x="1580" y="1996"/>
                    </a:moveTo>
                    <a:lnTo>
                      <a:pt x="1580" y="1996"/>
                    </a:lnTo>
                    <a:lnTo>
                      <a:pt x="1579" y="2012"/>
                    </a:lnTo>
                    <a:lnTo>
                      <a:pt x="1579" y="2029"/>
                    </a:lnTo>
                    <a:lnTo>
                      <a:pt x="1577" y="2045"/>
                    </a:lnTo>
                    <a:lnTo>
                      <a:pt x="1576" y="2053"/>
                    </a:lnTo>
                    <a:lnTo>
                      <a:pt x="1574" y="2060"/>
                    </a:lnTo>
                    <a:lnTo>
                      <a:pt x="1574" y="2060"/>
                    </a:lnTo>
                    <a:lnTo>
                      <a:pt x="1567" y="2047"/>
                    </a:lnTo>
                    <a:lnTo>
                      <a:pt x="1563" y="2037"/>
                    </a:lnTo>
                    <a:lnTo>
                      <a:pt x="1562" y="2027"/>
                    </a:lnTo>
                    <a:lnTo>
                      <a:pt x="1563" y="2019"/>
                    </a:lnTo>
                    <a:lnTo>
                      <a:pt x="1565" y="2012"/>
                    </a:lnTo>
                    <a:lnTo>
                      <a:pt x="1570" y="2005"/>
                    </a:lnTo>
                    <a:lnTo>
                      <a:pt x="1574" y="2001"/>
                    </a:lnTo>
                    <a:lnTo>
                      <a:pt x="1580" y="1996"/>
                    </a:lnTo>
                    <a:lnTo>
                      <a:pt x="1580" y="1996"/>
                    </a:lnTo>
                    <a:close/>
                    <a:moveTo>
                      <a:pt x="1111" y="1566"/>
                    </a:moveTo>
                    <a:lnTo>
                      <a:pt x="1111" y="1566"/>
                    </a:lnTo>
                    <a:lnTo>
                      <a:pt x="1100" y="1548"/>
                    </a:lnTo>
                    <a:lnTo>
                      <a:pt x="1089" y="1528"/>
                    </a:lnTo>
                    <a:lnTo>
                      <a:pt x="1070" y="1489"/>
                    </a:lnTo>
                    <a:lnTo>
                      <a:pt x="1070" y="1489"/>
                    </a:lnTo>
                    <a:lnTo>
                      <a:pt x="1072" y="1481"/>
                    </a:lnTo>
                    <a:lnTo>
                      <a:pt x="1072" y="1476"/>
                    </a:lnTo>
                    <a:lnTo>
                      <a:pt x="1072" y="1472"/>
                    </a:lnTo>
                    <a:lnTo>
                      <a:pt x="1072" y="1472"/>
                    </a:lnTo>
                    <a:lnTo>
                      <a:pt x="1068" y="1455"/>
                    </a:lnTo>
                    <a:lnTo>
                      <a:pt x="1061" y="1436"/>
                    </a:lnTo>
                    <a:lnTo>
                      <a:pt x="1043" y="1398"/>
                    </a:lnTo>
                    <a:lnTo>
                      <a:pt x="1035" y="1379"/>
                    </a:lnTo>
                    <a:lnTo>
                      <a:pt x="1027" y="1359"/>
                    </a:lnTo>
                    <a:lnTo>
                      <a:pt x="1021" y="1342"/>
                    </a:lnTo>
                    <a:lnTo>
                      <a:pt x="1019" y="1333"/>
                    </a:lnTo>
                    <a:lnTo>
                      <a:pt x="1018" y="1325"/>
                    </a:lnTo>
                    <a:lnTo>
                      <a:pt x="1018" y="1325"/>
                    </a:lnTo>
                    <a:lnTo>
                      <a:pt x="1047" y="1368"/>
                    </a:lnTo>
                    <a:lnTo>
                      <a:pt x="1076" y="1413"/>
                    </a:lnTo>
                    <a:lnTo>
                      <a:pt x="1132" y="1499"/>
                    </a:lnTo>
                    <a:lnTo>
                      <a:pt x="1132" y="1499"/>
                    </a:lnTo>
                    <a:lnTo>
                      <a:pt x="1128" y="1511"/>
                    </a:lnTo>
                    <a:lnTo>
                      <a:pt x="1125" y="1526"/>
                    </a:lnTo>
                    <a:lnTo>
                      <a:pt x="1119" y="1553"/>
                    </a:lnTo>
                    <a:lnTo>
                      <a:pt x="1119" y="1553"/>
                    </a:lnTo>
                    <a:lnTo>
                      <a:pt x="1117" y="1562"/>
                    </a:lnTo>
                    <a:lnTo>
                      <a:pt x="1114" y="1566"/>
                    </a:lnTo>
                    <a:lnTo>
                      <a:pt x="1113" y="1566"/>
                    </a:lnTo>
                    <a:lnTo>
                      <a:pt x="1111" y="1566"/>
                    </a:lnTo>
                    <a:lnTo>
                      <a:pt x="1111" y="1566"/>
                    </a:lnTo>
                    <a:close/>
                    <a:moveTo>
                      <a:pt x="1118" y="1699"/>
                    </a:moveTo>
                    <a:lnTo>
                      <a:pt x="1118" y="1699"/>
                    </a:lnTo>
                    <a:lnTo>
                      <a:pt x="1120" y="1690"/>
                    </a:lnTo>
                    <a:lnTo>
                      <a:pt x="1121" y="1681"/>
                    </a:lnTo>
                    <a:lnTo>
                      <a:pt x="1123" y="1673"/>
                    </a:lnTo>
                    <a:lnTo>
                      <a:pt x="1125" y="1669"/>
                    </a:lnTo>
                    <a:lnTo>
                      <a:pt x="1127" y="1666"/>
                    </a:lnTo>
                    <a:lnTo>
                      <a:pt x="1127" y="1666"/>
                    </a:lnTo>
                    <a:lnTo>
                      <a:pt x="1140" y="1690"/>
                    </a:lnTo>
                    <a:lnTo>
                      <a:pt x="1154" y="1715"/>
                    </a:lnTo>
                    <a:lnTo>
                      <a:pt x="1162" y="1726"/>
                    </a:lnTo>
                    <a:lnTo>
                      <a:pt x="1170" y="1736"/>
                    </a:lnTo>
                    <a:lnTo>
                      <a:pt x="1179" y="1745"/>
                    </a:lnTo>
                    <a:lnTo>
                      <a:pt x="1190" y="1753"/>
                    </a:lnTo>
                    <a:lnTo>
                      <a:pt x="1190" y="1753"/>
                    </a:lnTo>
                    <a:lnTo>
                      <a:pt x="1204" y="1782"/>
                    </a:lnTo>
                    <a:lnTo>
                      <a:pt x="1219" y="1809"/>
                    </a:lnTo>
                    <a:lnTo>
                      <a:pt x="1232" y="1837"/>
                    </a:lnTo>
                    <a:lnTo>
                      <a:pt x="1238" y="1851"/>
                    </a:lnTo>
                    <a:lnTo>
                      <a:pt x="1243" y="1864"/>
                    </a:lnTo>
                    <a:lnTo>
                      <a:pt x="1243" y="1864"/>
                    </a:lnTo>
                    <a:lnTo>
                      <a:pt x="1181" y="1782"/>
                    </a:lnTo>
                    <a:lnTo>
                      <a:pt x="1150" y="1740"/>
                    </a:lnTo>
                    <a:lnTo>
                      <a:pt x="1118" y="1699"/>
                    </a:lnTo>
                    <a:lnTo>
                      <a:pt x="1118" y="1699"/>
                    </a:lnTo>
                    <a:close/>
                    <a:moveTo>
                      <a:pt x="1397" y="2035"/>
                    </a:moveTo>
                    <a:lnTo>
                      <a:pt x="1397" y="2035"/>
                    </a:lnTo>
                    <a:lnTo>
                      <a:pt x="1378" y="2006"/>
                    </a:lnTo>
                    <a:lnTo>
                      <a:pt x="1367" y="1993"/>
                    </a:lnTo>
                    <a:lnTo>
                      <a:pt x="1357" y="1980"/>
                    </a:lnTo>
                    <a:lnTo>
                      <a:pt x="1357" y="1980"/>
                    </a:lnTo>
                    <a:lnTo>
                      <a:pt x="1363" y="1993"/>
                    </a:lnTo>
                    <a:lnTo>
                      <a:pt x="1371" y="2005"/>
                    </a:lnTo>
                    <a:lnTo>
                      <a:pt x="1388" y="2032"/>
                    </a:lnTo>
                    <a:lnTo>
                      <a:pt x="1394" y="2045"/>
                    </a:lnTo>
                    <a:lnTo>
                      <a:pt x="1398" y="2057"/>
                    </a:lnTo>
                    <a:lnTo>
                      <a:pt x="1399" y="2062"/>
                    </a:lnTo>
                    <a:lnTo>
                      <a:pt x="1398" y="2068"/>
                    </a:lnTo>
                    <a:lnTo>
                      <a:pt x="1397" y="2071"/>
                    </a:lnTo>
                    <a:lnTo>
                      <a:pt x="1394" y="2076"/>
                    </a:lnTo>
                    <a:lnTo>
                      <a:pt x="1394" y="2076"/>
                    </a:lnTo>
                    <a:lnTo>
                      <a:pt x="1386" y="2061"/>
                    </a:lnTo>
                    <a:lnTo>
                      <a:pt x="1374" y="2045"/>
                    </a:lnTo>
                    <a:lnTo>
                      <a:pt x="1349" y="2012"/>
                    </a:lnTo>
                    <a:lnTo>
                      <a:pt x="1323" y="1978"/>
                    </a:lnTo>
                    <a:lnTo>
                      <a:pt x="1310" y="1960"/>
                    </a:lnTo>
                    <a:lnTo>
                      <a:pt x="1297" y="1942"/>
                    </a:lnTo>
                    <a:lnTo>
                      <a:pt x="1297" y="1942"/>
                    </a:lnTo>
                    <a:lnTo>
                      <a:pt x="1286" y="1920"/>
                    </a:lnTo>
                    <a:lnTo>
                      <a:pt x="1273" y="1896"/>
                    </a:lnTo>
                    <a:lnTo>
                      <a:pt x="1252" y="1849"/>
                    </a:lnTo>
                    <a:lnTo>
                      <a:pt x="1252" y="1849"/>
                    </a:lnTo>
                    <a:lnTo>
                      <a:pt x="1238" y="1824"/>
                    </a:lnTo>
                    <a:lnTo>
                      <a:pt x="1226" y="1799"/>
                    </a:lnTo>
                    <a:lnTo>
                      <a:pt x="1213" y="1775"/>
                    </a:lnTo>
                    <a:lnTo>
                      <a:pt x="1209" y="1763"/>
                    </a:lnTo>
                    <a:lnTo>
                      <a:pt x="1205" y="1752"/>
                    </a:lnTo>
                    <a:lnTo>
                      <a:pt x="1205" y="1752"/>
                    </a:lnTo>
                    <a:lnTo>
                      <a:pt x="1205" y="1749"/>
                    </a:lnTo>
                    <a:lnTo>
                      <a:pt x="1205" y="1744"/>
                    </a:lnTo>
                    <a:lnTo>
                      <a:pt x="1205" y="1741"/>
                    </a:lnTo>
                    <a:lnTo>
                      <a:pt x="1205" y="1737"/>
                    </a:lnTo>
                    <a:lnTo>
                      <a:pt x="1205" y="1737"/>
                    </a:lnTo>
                    <a:lnTo>
                      <a:pt x="1201" y="1725"/>
                    </a:lnTo>
                    <a:lnTo>
                      <a:pt x="1196" y="1712"/>
                    </a:lnTo>
                    <a:lnTo>
                      <a:pt x="1189" y="1700"/>
                    </a:lnTo>
                    <a:lnTo>
                      <a:pt x="1182" y="1687"/>
                    </a:lnTo>
                    <a:lnTo>
                      <a:pt x="1167" y="1663"/>
                    </a:lnTo>
                    <a:lnTo>
                      <a:pt x="1154" y="1641"/>
                    </a:lnTo>
                    <a:lnTo>
                      <a:pt x="1154" y="1641"/>
                    </a:lnTo>
                    <a:lnTo>
                      <a:pt x="1144" y="1624"/>
                    </a:lnTo>
                    <a:lnTo>
                      <a:pt x="1138" y="1616"/>
                    </a:lnTo>
                    <a:lnTo>
                      <a:pt x="1136" y="1609"/>
                    </a:lnTo>
                    <a:lnTo>
                      <a:pt x="1136" y="1609"/>
                    </a:lnTo>
                    <a:lnTo>
                      <a:pt x="1135" y="1604"/>
                    </a:lnTo>
                    <a:lnTo>
                      <a:pt x="1135" y="1600"/>
                    </a:lnTo>
                    <a:lnTo>
                      <a:pt x="1137" y="1590"/>
                    </a:lnTo>
                    <a:lnTo>
                      <a:pt x="1142" y="1569"/>
                    </a:lnTo>
                    <a:lnTo>
                      <a:pt x="1142" y="1569"/>
                    </a:lnTo>
                    <a:lnTo>
                      <a:pt x="1147" y="1548"/>
                    </a:lnTo>
                    <a:lnTo>
                      <a:pt x="1153" y="1532"/>
                    </a:lnTo>
                    <a:lnTo>
                      <a:pt x="1153" y="1532"/>
                    </a:lnTo>
                    <a:lnTo>
                      <a:pt x="1162" y="1548"/>
                    </a:lnTo>
                    <a:lnTo>
                      <a:pt x="1171" y="1567"/>
                    </a:lnTo>
                    <a:lnTo>
                      <a:pt x="1181" y="1586"/>
                    </a:lnTo>
                    <a:lnTo>
                      <a:pt x="1187" y="1597"/>
                    </a:lnTo>
                    <a:lnTo>
                      <a:pt x="1194" y="1606"/>
                    </a:lnTo>
                    <a:lnTo>
                      <a:pt x="1194" y="1606"/>
                    </a:lnTo>
                    <a:lnTo>
                      <a:pt x="1201" y="1612"/>
                    </a:lnTo>
                    <a:lnTo>
                      <a:pt x="1207" y="1619"/>
                    </a:lnTo>
                    <a:lnTo>
                      <a:pt x="1207" y="1619"/>
                    </a:lnTo>
                    <a:lnTo>
                      <a:pt x="1214" y="1629"/>
                    </a:lnTo>
                    <a:lnTo>
                      <a:pt x="1220" y="1640"/>
                    </a:lnTo>
                    <a:lnTo>
                      <a:pt x="1231" y="1663"/>
                    </a:lnTo>
                    <a:lnTo>
                      <a:pt x="1241" y="1688"/>
                    </a:lnTo>
                    <a:lnTo>
                      <a:pt x="1253" y="1713"/>
                    </a:lnTo>
                    <a:lnTo>
                      <a:pt x="1253" y="1713"/>
                    </a:lnTo>
                    <a:lnTo>
                      <a:pt x="1288" y="1780"/>
                    </a:lnTo>
                    <a:lnTo>
                      <a:pt x="1322" y="1852"/>
                    </a:lnTo>
                    <a:lnTo>
                      <a:pt x="1355" y="1921"/>
                    </a:lnTo>
                    <a:lnTo>
                      <a:pt x="1388" y="1984"/>
                    </a:lnTo>
                    <a:lnTo>
                      <a:pt x="1388" y="1984"/>
                    </a:lnTo>
                    <a:lnTo>
                      <a:pt x="1396" y="2001"/>
                    </a:lnTo>
                    <a:lnTo>
                      <a:pt x="1399" y="2007"/>
                    </a:lnTo>
                    <a:lnTo>
                      <a:pt x="1402" y="2014"/>
                    </a:lnTo>
                    <a:lnTo>
                      <a:pt x="1403" y="2020"/>
                    </a:lnTo>
                    <a:lnTo>
                      <a:pt x="1403" y="2026"/>
                    </a:lnTo>
                    <a:lnTo>
                      <a:pt x="1400" y="2030"/>
                    </a:lnTo>
                    <a:lnTo>
                      <a:pt x="1397" y="2035"/>
                    </a:lnTo>
                    <a:lnTo>
                      <a:pt x="1397" y="2035"/>
                    </a:lnTo>
                    <a:close/>
                    <a:moveTo>
                      <a:pt x="1403" y="1982"/>
                    </a:moveTo>
                    <a:lnTo>
                      <a:pt x="1403" y="1982"/>
                    </a:lnTo>
                    <a:lnTo>
                      <a:pt x="1391" y="1958"/>
                    </a:lnTo>
                    <a:lnTo>
                      <a:pt x="1378" y="1934"/>
                    </a:lnTo>
                    <a:lnTo>
                      <a:pt x="1365" y="1911"/>
                    </a:lnTo>
                    <a:lnTo>
                      <a:pt x="1360" y="1900"/>
                    </a:lnTo>
                    <a:lnTo>
                      <a:pt x="1355" y="1888"/>
                    </a:lnTo>
                    <a:lnTo>
                      <a:pt x="1355" y="1888"/>
                    </a:lnTo>
                    <a:lnTo>
                      <a:pt x="1352" y="1876"/>
                    </a:lnTo>
                    <a:lnTo>
                      <a:pt x="1350" y="1863"/>
                    </a:lnTo>
                    <a:lnTo>
                      <a:pt x="1350" y="1852"/>
                    </a:lnTo>
                    <a:lnTo>
                      <a:pt x="1353" y="1841"/>
                    </a:lnTo>
                    <a:lnTo>
                      <a:pt x="1357" y="1819"/>
                    </a:lnTo>
                    <a:lnTo>
                      <a:pt x="1358" y="1809"/>
                    </a:lnTo>
                    <a:lnTo>
                      <a:pt x="1358" y="1797"/>
                    </a:lnTo>
                    <a:lnTo>
                      <a:pt x="1358" y="1797"/>
                    </a:lnTo>
                    <a:lnTo>
                      <a:pt x="1374" y="1821"/>
                    </a:lnTo>
                    <a:lnTo>
                      <a:pt x="1389" y="1846"/>
                    </a:lnTo>
                    <a:lnTo>
                      <a:pt x="1405" y="1871"/>
                    </a:lnTo>
                    <a:lnTo>
                      <a:pt x="1421" y="1895"/>
                    </a:lnTo>
                    <a:lnTo>
                      <a:pt x="1421" y="1895"/>
                    </a:lnTo>
                    <a:lnTo>
                      <a:pt x="1416" y="1905"/>
                    </a:lnTo>
                    <a:lnTo>
                      <a:pt x="1413" y="1916"/>
                    </a:lnTo>
                    <a:lnTo>
                      <a:pt x="1411" y="1926"/>
                    </a:lnTo>
                    <a:lnTo>
                      <a:pt x="1409" y="1937"/>
                    </a:lnTo>
                    <a:lnTo>
                      <a:pt x="1407" y="1961"/>
                    </a:lnTo>
                    <a:lnTo>
                      <a:pt x="1405" y="1972"/>
                    </a:lnTo>
                    <a:lnTo>
                      <a:pt x="1403" y="1982"/>
                    </a:lnTo>
                    <a:lnTo>
                      <a:pt x="1403" y="1982"/>
                    </a:lnTo>
                    <a:close/>
                    <a:moveTo>
                      <a:pt x="1365" y="1743"/>
                    </a:moveTo>
                    <a:lnTo>
                      <a:pt x="1365" y="1743"/>
                    </a:lnTo>
                    <a:lnTo>
                      <a:pt x="1386" y="1771"/>
                    </a:lnTo>
                    <a:lnTo>
                      <a:pt x="1406" y="1803"/>
                    </a:lnTo>
                    <a:lnTo>
                      <a:pt x="1425" y="1836"/>
                    </a:lnTo>
                    <a:lnTo>
                      <a:pt x="1444" y="1870"/>
                    </a:lnTo>
                    <a:lnTo>
                      <a:pt x="1462" y="1904"/>
                    </a:lnTo>
                    <a:lnTo>
                      <a:pt x="1479" y="1939"/>
                    </a:lnTo>
                    <a:lnTo>
                      <a:pt x="1509" y="2004"/>
                    </a:lnTo>
                    <a:lnTo>
                      <a:pt x="1509" y="2004"/>
                    </a:lnTo>
                    <a:lnTo>
                      <a:pt x="1496" y="1982"/>
                    </a:lnTo>
                    <a:lnTo>
                      <a:pt x="1483" y="1963"/>
                    </a:lnTo>
                    <a:lnTo>
                      <a:pt x="1456" y="1925"/>
                    </a:lnTo>
                    <a:lnTo>
                      <a:pt x="1456" y="1925"/>
                    </a:lnTo>
                    <a:lnTo>
                      <a:pt x="1444" y="1906"/>
                    </a:lnTo>
                    <a:lnTo>
                      <a:pt x="1433" y="1891"/>
                    </a:lnTo>
                    <a:lnTo>
                      <a:pt x="1430" y="1885"/>
                    </a:lnTo>
                    <a:lnTo>
                      <a:pt x="1429" y="1878"/>
                    </a:lnTo>
                    <a:lnTo>
                      <a:pt x="1429" y="1872"/>
                    </a:lnTo>
                    <a:lnTo>
                      <a:pt x="1431" y="1868"/>
                    </a:lnTo>
                    <a:lnTo>
                      <a:pt x="1431" y="1868"/>
                    </a:lnTo>
                    <a:lnTo>
                      <a:pt x="1428" y="1870"/>
                    </a:lnTo>
                    <a:lnTo>
                      <a:pt x="1428" y="1871"/>
                    </a:lnTo>
                    <a:lnTo>
                      <a:pt x="1428" y="1874"/>
                    </a:lnTo>
                    <a:lnTo>
                      <a:pt x="1428" y="1874"/>
                    </a:lnTo>
                    <a:lnTo>
                      <a:pt x="1424" y="1872"/>
                    </a:lnTo>
                    <a:lnTo>
                      <a:pt x="1422" y="1870"/>
                    </a:lnTo>
                    <a:lnTo>
                      <a:pt x="1416" y="1864"/>
                    </a:lnTo>
                    <a:lnTo>
                      <a:pt x="1409" y="1853"/>
                    </a:lnTo>
                    <a:lnTo>
                      <a:pt x="1409" y="1853"/>
                    </a:lnTo>
                    <a:lnTo>
                      <a:pt x="1388" y="1821"/>
                    </a:lnTo>
                    <a:lnTo>
                      <a:pt x="1377" y="1805"/>
                    </a:lnTo>
                    <a:lnTo>
                      <a:pt x="1369" y="1791"/>
                    </a:lnTo>
                    <a:lnTo>
                      <a:pt x="1362" y="1777"/>
                    </a:lnTo>
                    <a:lnTo>
                      <a:pt x="1360" y="1770"/>
                    </a:lnTo>
                    <a:lnTo>
                      <a:pt x="1358" y="1763"/>
                    </a:lnTo>
                    <a:lnTo>
                      <a:pt x="1358" y="1758"/>
                    </a:lnTo>
                    <a:lnTo>
                      <a:pt x="1360" y="1752"/>
                    </a:lnTo>
                    <a:lnTo>
                      <a:pt x="1362" y="1747"/>
                    </a:lnTo>
                    <a:lnTo>
                      <a:pt x="1365" y="1743"/>
                    </a:lnTo>
                    <a:lnTo>
                      <a:pt x="1365" y="1743"/>
                    </a:lnTo>
                    <a:close/>
                    <a:moveTo>
                      <a:pt x="1413" y="1443"/>
                    </a:moveTo>
                    <a:lnTo>
                      <a:pt x="1413" y="1443"/>
                    </a:lnTo>
                    <a:lnTo>
                      <a:pt x="1414" y="1441"/>
                    </a:lnTo>
                    <a:lnTo>
                      <a:pt x="1414" y="1439"/>
                    </a:lnTo>
                    <a:lnTo>
                      <a:pt x="1415" y="1435"/>
                    </a:lnTo>
                    <a:lnTo>
                      <a:pt x="1417" y="1434"/>
                    </a:lnTo>
                    <a:lnTo>
                      <a:pt x="1417" y="1434"/>
                    </a:lnTo>
                    <a:lnTo>
                      <a:pt x="1466" y="1474"/>
                    </a:lnTo>
                    <a:lnTo>
                      <a:pt x="1490" y="1494"/>
                    </a:lnTo>
                    <a:lnTo>
                      <a:pt x="1512" y="1515"/>
                    </a:lnTo>
                    <a:lnTo>
                      <a:pt x="1512" y="1515"/>
                    </a:lnTo>
                    <a:lnTo>
                      <a:pt x="1487" y="1497"/>
                    </a:lnTo>
                    <a:lnTo>
                      <a:pt x="1462" y="1480"/>
                    </a:lnTo>
                    <a:lnTo>
                      <a:pt x="1437" y="1461"/>
                    </a:lnTo>
                    <a:lnTo>
                      <a:pt x="1413" y="1443"/>
                    </a:lnTo>
                    <a:lnTo>
                      <a:pt x="1413" y="1443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42"/>
              <p:cNvSpPr/>
              <p:nvPr/>
            </p:nvSpPr>
            <p:spPr>
              <a:xfrm>
                <a:off x="7161480" y="5912280"/>
                <a:ext cx="804600" cy="945720"/>
              </a:xfrm>
              <a:custGeom>
                <a:avLst/>
                <a:gdLst/>
                <a:ahLst/>
                <a:rect l="l" t="t" r="r" b="b"/>
                <a:pathLst>
                  <a:path w="1052" h="1781">
                    <a:moveTo>
                      <a:pt x="747" y="1502"/>
                    </a:moveTo>
                    <a:lnTo>
                      <a:pt x="747" y="1502"/>
                    </a:lnTo>
                    <a:lnTo>
                      <a:pt x="748" y="1490"/>
                    </a:lnTo>
                    <a:lnTo>
                      <a:pt x="750" y="1480"/>
                    </a:lnTo>
                    <a:lnTo>
                      <a:pt x="753" y="1460"/>
                    </a:lnTo>
                    <a:lnTo>
                      <a:pt x="757" y="1440"/>
                    </a:lnTo>
                    <a:lnTo>
                      <a:pt x="758" y="1430"/>
                    </a:lnTo>
                    <a:lnTo>
                      <a:pt x="758" y="1420"/>
                    </a:lnTo>
                    <a:lnTo>
                      <a:pt x="758" y="1420"/>
                    </a:lnTo>
                    <a:lnTo>
                      <a:pt x="748" y="1456"/>
                    </a:lnTo>
                    <a:lnTo>
                      <a:pt x="743" y="1474"/>
                    </a:lnTo>
                    <a:lnTo>
                      <a:pt x="739" y="1494"/>
                    </a:lnTo>
                    <a:lnTo>
                      <a:pt x="739" y="1494"/>
                    </a:lnTo>
                    <a:lnTo>
                      <a:pt x="736" y="1494"/>
                    </a:lnTo>
                    <a:lnTo>
                      <a:pt x="733" y="1492"/>
                    </a:lnTo>
                    <a:lnTo>
                      <a:pt x="726" y="1487"/>
                    </a:lnTo>
                    <a:lnTo>
                      <a:pt x="718" y="1481"/>
                    </a:lnTo>
                    <a:lnTo>
                      <a:pt x="716" y="1479"/>
                    </a:lnTo>
                    <a:lnTo>
                      <a:pt x="714" y="1479"/>
                    </a:lnTo>
                    <a:lnTo>
                      <a:pt x="714" y="1479"/>
                    </a:lnTo>
                    <a:lnTo>
                      <a:pt x="726" y="1489"/>
                    </a:lnTo>
                    <a:lnTo>
                      <a:pt x="737" y="1499"/>
                    </a:lnTo>
                    <a:lnTo>
                      <a:pt x="737" y="1499"/>
                    </a:lnTo>
                    <a:lnTo>
                      <a:pt x="732" y="1523"/>
                    </a:lnTo>
                    <a:lnTo>
                      <a:pt x="727" y="1549"/>
                    </a:lnTo>
                    <a:lnTo>
                      <a:pt x="722" y="1573"/>
                    </a:lnTo>
                    <a:lnTo>
                      <a:pt x="719" y="1586"/>
                    </a:lnTo>
                    <a:lnTo>
                      <a:pt x="715" y="1597"/>
                    </a:lnTo>
                    <a:lnTo>
                      <a:pt x="715" y="1597"/>
                    </a:lnTo>
                    <a:lnTo>
                      <a:pt x="689" y="1535"/>
                    </a:lnTo>
                    <a:lnTo>
                      <a:pt x="675" y="1503"/>
                    </a:lnTo>
                    <a:lnTo>
                      <a:pt x="663" y="1471"/>
                    </a:lnTo>
                    <a:lnTo>
                      <a:pt x="663" y="1471"/>
                    </a:lnTo>
                    <a:lnTo>
                      <a:pt x="664" y="1470"/>
                    </a:lnTo>
                    <a:lnTo>
                      <a:pt x="666" y="1469"/>
                    </a:lnTo>
                    <a:lnTo>
                      <a:pt x="667" y="1469"/>
                    </a:lnTo>
                    <a:lnTo>
                      <a:pt x="666" y="1467"/>
                    </a:lnTo>
                    <a:lnTo>
                      <a:pt x="666" y="1467"/>
                    </a:lnTo>
                    <a:lnTo>
                      <a:pt x="657" y="1446"/>
                    </a:lnTo>
                    <a:lnTo>
                      <a:pt x="649" y="1428"/>
                    </a:lnTo>
                    <a:lnTo>
                      <a:pt x="642" y="1411"/>
                    </a:lnTo>
                    <a:lnTo>
                      <a:pt x="639" y="1393"/>
                    </a:lnTo>
                    <a:lnTo>
                      <a:pt x="639" y="1393"/>
                    </a:lnTo>
                    <a:lnTo>
                      <a:pt x="638" y="1395"/>
                    </a:lnTo>
                    <a:lnTo>
                      <a:pt x="638" y="1397"/>
                    </a:lnTo>
                    <a:lnTo>
                      <a:pt x="639" y="1402"/>
                    </a:lnTo>
                    <a:lnTo>
                      <a:pt x="639" y="1406"/>
                    </a:lnTo>
                    <a:lnTo>
                      <a:pt x="638" y="1408"/>
                    </a:lnTo>
                    <a:lnTo>
                      <a:pt x="636" y="1409"/>
                    </a:lnTo>
                    <a:lnTo>
                      <a:pt x="636" y="1409"/>
                    </a:lnTo>
                    <a:lnTo>
                      <a:pt x="549" y="1198"/>
                    </a:lnTo>
                    <a:lnTo>
                      <a:pt x="466" y="992"/>
                    </a:lnTo>
                    <a:lnTo>
                      <a:pt x="466" y="992"/>
                    </a:lnTo>
                    <a:lnTo>
                      <a:pt x="460" y="973"/>
                    </a:lnTo>
                    <a:lnTo>
                      <a:pt x="457" y="956"/>
                    </a:lnTo>
                    <a:lnTo>
                      <a:pt x="455" y="939"/>
                    </a:lnTo>
                    <a:lnTo>
                      <a:pt x="455" y="921"/>
                    </a:lnTo>
                    <a:lnTo>
                      <a:pt x="455" y="921"/>
                    </a:lnTo>
                    <a:lnTo>
                      <a:pt x="455" y="896"/>
                    </a:lnTo>
                    <a:lnTo>
                      <a:pt x="456" y="872"/>
                    </a:lnTo>
                    <a:lnTo>
                      <a:pt x="456" y="872"/>
                    </a:lnTo>
                    <a:lnTo>
                      <a:pt x="462" y="714"/>
                    </a:lnTo>
                    <a:lnTo>
                      <a:pt x="470" y="560"/>
                    </a:lnTo>
                    <a:lnTo>
                      <a:pt x="474" y="483"/>
                    </a:lnTo>
                    <a:lnTo>
                      <a:pt x="480" y="409"/>
                    </a:lnTo>
                    <a:lnTo>
                      <a:pt x="487" y="335"/>
                    </a:lnTo>
                    <a:lnTo>
                      <a:pt x="493" y="263"/>
                    </a:lnTo>
                    <a:lnTo>
                      <a:pt x="493" y="263"/>
                    </a:lnTo>
                    <a:lnTo>
                      <a:pt x="497" y="241"/>
                    </a:lnTo>
                    <a:lnTo>
                      <a:pt x="497" y="229"/>
                    </a:lnTo>
                    <a:lnTo>
                      <a:pt x="496" y="224"/>
                    </a:lnTo>
                    <a:lnTo>
                      <a:pt x="495" y="217"/>
                    </a:lnTo>
                    <a:lnTo>
                      <a:pt x="495" y="217"/>
                    </a:lnTo>
                    <a:lnTo>
                      <a:pt x="473" y="385"/>
                    </a:lnTo>
                    <a:lnTo>
                      <a:pt x="463" y="470"/>
                    </a:lnTo>
                    <a:lnTo>
                      <a:pt x="454" y="557"/>
                    </a:lnTo>
                    <a:lnTo>
                      <a:pt x="446" y="645"/>
                    </a:lnTo>
                    <a:lnTo>
                      <a:pt x="440" y="735"/>
                    </a:lnTo>
                    <a:lnTo>
                      <a:pt x="437" y="829"/>
                    </a:lnTo>
                    <a:lnTo>
                      <a:pt x="436" y="875"/>
                    </a:lnTo>
                    <a:lnTo>
                      <a:pt x="436" y="924"/>
                    </a:lnTo>
                    <a:lnTo>
                      <a:pt x="436" y="924"/>
                    </a:lnTo>
                    <a:lnTo>
                      <a:pt x="405" y="847"/>
                    </a:lnTo>
                    <a:lnTo>
                      <a:pt x="372" y="768"/>
                    </a:lnTo>
                    <a:lnTo>
                      <a:pt x="339" y="689"/>
                    </a:lnTo>
                    <a:lnTo>
                      <a:pt x="324" y="650"/>
                    </a:lnTo>
                    <a:lnTo>
                      <a:pt x="309" y="613"/>
                    </a:lnTo>
                    <a:lnTo>
                      <a:pt x="309" y="613"/>
                    </a:lnTo>
                    <a:lnTo>
                      <a:pt x="306" y="600"/>
                    </a:lnTo>
                    <a:lnTo>
                      <a:pt x="304" y="589"/>
                    </a:lnTo>
                    <a:lnTo>
                      <a:pt x="303" y="580"/>
                    </a:lnTo>
                    <a:lnTo>
                      <a:pt x="302" y="571"/>
                    </a:lnTo>
                    <a:lnTo>
                      <a:pt x="302" y="571"/>
                    </a:lnTo>
                    <a:lnTo>
                      <a:pt x="302" y="573"/>
                    </a:lnTo>
                    <a:lnTo>
                      <a:pt x="299" y="572"/>
                    </a:lnTo>
                    <a:lnTo>
                      <a:pt x="299" y="572"/>
                    </a:lnTo>
                    <a:lnTo>
                      <a:pt x="290" y="541"/>
                    </a:lnTo>
                    <a:lnTo>
                      <a:pt x="279" y="511"/>
                    </a:lnTo>
                    <a:lnTo>
                      <a:pt x="255" y="447"/>
                    </a:lnTo>
                    <a:lnTo>
                      <a:pt x="255" y="447"/>
                    </a:lnTo>
                    <a:lnTo>
                      <a:pt x="224" y="360"/>
                    </a:lnTo>
                    <a:lnTo>
                      <a:pt x="195" y="273"/>
                    </a:lnTo>
                    <a:lnTo>
                      <a:pt x="179" y="230"/>
                    </a:lnTo>
                    <a:lnTo>
                      <a:pt x="163" y="188"/>
                    </a:lnTo>
                    <a:lnTo>
                      <a:pt x="146" y="146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57" y="193"/>
                    </a:lnTo>
                    <a:lnTo>
                      <a:pt x="188" y="283"/>
                    </a:lnTo>
                    <a:lnTo>
                      <a:pt x="216" y="371"/>
                    </a:lnTo>
                    <a:lnTo>
                      <a:pt x="230" y="413"/>
                    </a:lnTo>
                    <a:lnTo>
                      <a:pt x="241" y="453"/>
                    </a:lnTo>
                    <a:lnTo>
                      <a:pt x="241" y="453"/>
                    </a:lnTo>
                    <a:lnTo>
                      <a:pt x="213" y="388"/>
                    </a:lnTo>
                    <a:lnTo>
                      <a:pt x="186" y="322"/>
                    </a:lnTo>
                    <a:lnTo>
                      <a:pt x="159" y="258"/>
                    </a:lnTo>
                    <a:lnTo>
                      <a:pt x="144" y="226"/>
                    </a:lnTo>
                    <a:lnTo>
                      <a:pt x="129" y="195"/>
                    </a:lnTo>
                    <a:lnTo>
                      <a:pt x="129" y="195"/>
                    </a:lnTo>
                    <a:lnTo>
                      <a:pt x="147" y="242"/>
                    </a:lnTo>
                    <a:lnTo>
                      <a:pt x="166" y="289"/>
                    </a:lnTo>
                    <a:lnTo>
                      <a:pt x="186" y="337"/>
                    </a:lnTo>
                    <a:lnTo>
                      <a:pt x="194" y="360"/>
                    </a:lnTo>
                    <a:lnTo>
                      <a:pt x="202" y="382"/>
                    </a:lnTo>
                    <a:lnTo>
                      <a:pt x="202" y="382"/>
                    </a:lnTo>
                    <a:lnTo>
                      <a:pt x="159" y="295"/>
                    </a:lnTo>
                    <a:lnTo>
                      <a:pt x="114" y="208"/>
                    </a:lnTo>
                    <a:lnTo>
                      <a:pt x="70" y="121"/>
                    </a:lnTo>
                    <a:lnTo>
                      <a:pt x="47" y="79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14" y="18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" y="57"/>
                    </a:lnTo>
                    <a:lnTo>
                      <a:pt x="62" y="116"/>
                    </a:lnTo>
                    <a:lnTo>
                      <a:pt x="93" y="177"/>
                    </a:lnTo>
                    <a:lnTo>
                      <a:pt x="123" y="238"/>
                    </a:lnTo>
                    <a:lnTo>
                      <a:pt x="152" y="301"/>
                    </a:lnTo>
                    <a:lnTo>
                      <a:pt x="180" y="364"/>
                    </a:lnTo>
                    <a:lnTo>
                      <a:pt x="236" y="491"/>
                    </a:lnTo>
                    <a:lnTo>
                      <a:pt x="236" y="491"/>
                    </a:lnTo>
                    <a:lnTo>
                      <a:pt x="252" y="529"/>
                    </a:lnTo>
                    <a:lnTo>
                      <a:pt x="270" y="566"/>
                    </a:lnTo>
                    <a:lnTo>
                      <a:pt x="287" y="604"/>
                    </a:lnTo>
                    <a:lnTo>
                      <a:pt x="303" y="641"/>
                    </a:lnTo>
                    <a:lnTo>
                      <a:pt x="303" y="641"/>
                    </a:lnTo>
                    <a:lnTo>
                      <a:pt x="306" y="653"/>
                    </a:lnTo>
                    <a:lnTo>
                      <a:pt x="308" y="663"/>
                    </a:lnTo>
                    <a:lnTo>
                      <a:pt x="308" y="673"/>
                    </a:lnTo>
                    <a:lnTo>
                      <a:pt x="308" y="683"/>
                    </a:lnTo>
                    <a:lnTo>
                      <a:pt x="308" y="703"/>
                    </a:lnTo>
                    <a:lnTo>
                      <a:pt x="307" y="722"/>
                    </a:lnTo>
                    <a:lnTo>
                      <a:pt x="307" y="722"/>
                    </a:lnTo>
                    <a:lnTo>
                      <a:pt x="311" y="779"/>
                    </a:lnTo>
                    <a:lnTo>
                      <a:pt x="316" y="835"/>
                    </a:lnTo>
                    <a:lnTo>
                      <a:pt x="322" y="892"/>
                    </a:lnTo>
                    <a:lnTo>
                      <a:pt x="327" y="949"/>
                    </a:lnTo>
                    <a:lnTo>
                      <a:pt x="327" y="949"/>
                    </a:lnTo>
                    <a:lnTo>
                      <a:pt x="320" y="939"/>
                    </a:lnTo>
                    <a:lnTo>
                      <a:pt x="312" y="927"/>
                    </a:lnTo>
                    <a:lnTo>
                      <a:pt x="294" y="905"/>
                    </a:lnTo>
                    <a:lnTo>
                      <a:pt x="285" y="893"/>
                    </a:lnTo>
                    <a:lnTo>
                      <a:pt x="277" y="882"/>
                    </a:lnTo>
                    <a:lnTo>
                      <a:pt x="270" y="871"/>
                    </a:lnTo>
                    <a:lnTo>
                      <a:pt x="264" y="858"/>
                    </a:lnTo>
                    <a:lnTo>
                      <a:pt x="264" y="858"/>
                    </a:lnTo>
                    <a:lnTo>
                      <a:pt x="260" y="846"/>
                    </a:lnTo>
                    <a:lnTo>
                      <a:pt x="255" y="833"/>
                    </a:lnTo>
                    <a:lnTo>
                      <a:pt x="248" y="808"/>
                    </a:lnTo>
                    <a:lnTo>
                      <a:pt x="238" y="757"/>
                    </a:lnTo>
                    <a:lnTo>
                      <a:pt x="238" y="757"/>
                    </a:lnTo>
                    <a:lnTo>
                      <a:pt x="215" y="659"/>
                    </a:lnTo>
                    <a:lnTo>
                      <a:pt x="205" y="612"/>
                    </a:lnTo>
                    <a:lnTo>
                      <a:pt x="194" y="567"/>
                    </a:lnTo>
                    <a:lnTo>
                      <a:pt x="194" y="567"/>
                    </a:lnTo>
                    <a:lnTo>
                      <a:pt x="204" y="629"/>
                    </a:lnTo>
                    <a:lnTo>
                      <a:pt x="216" y="693"/>
                    </a:lnTo>
                    <a:lnTo>
                      <a:pt x="230" y="758"/>
                    </a:lnTo>
                    <a:lnTo>
                      <a:pt x="244" y="825"/>
                    </a:lnTo>
                    <a:lnTo>
                      <a:pt x="244" y="825"/>
                    </a:lnTo>
                    <a:lnTo>
                      <a:pt x="216" y="766"/>
                    </a:lnTo>
                    <a:lnTo>
                      <a:pt x="188" y="706"/>
                    </a:lnTo>
                    <a:lnTo>
                      <a:pt x="135" y="587"/>
                    </a:lnTo>
                    <a:lnTo>
                      <a:pt x="135" y="587"/>
                    </a:lnTo>
                    <a:lnTo>
                      <a:pt x="143" y="613"/>
                    </a:lnTo>
                    <a:lnTo>
                      <a:pt x="152" y="638"/>
                    </a:lnTo>
                    <a:lnTo>
                      <a:pt x="161" y="663"/>
                    </a:lnTo>
                    <a:lnTo>
                      <a:pt x="172" y="688"/>
                    </a:lnTo>
                    <a:lnTo>
                      <a:pt x="193" y="735"/>
                    </a:lnTo>
                    <a:lnTo>
                      <a:pt x="202" y="759"/>
                    </a:lnTo>
                    <a:lnTo>
                      <a:pt x="211" y="782"/>
                    </a:lnTo>
                    <a:lnTo>
                      <a:pt x="211" y="782"/>
                    </a:lnTo>
                    <a:lnTo>
                      <a:pt x="190" y="755"/>
                    </a:lnTo>
                    <a:lnTo>
                      <a:pt x="171" y="726"/>
                    </a:lnTo>
                    <a:lnTo>
                      <a:pt x="135" y="669"/>
                    </a:lnTo>
                    <a:lnTo>
                      <a:pt x="98" y="611"/>
                    </a:lnTo>
                    <a:lnTo>
                      <a:pt x="61" y="554"/>
                    </a:lnTo>
                    <a:lnTo>
                      <a:pt x="61" y="554"/>
                    </a:lnTo>
                    <a:lnTo>
                      <a:pt x="81" y="592"/>
                    </a:lnTo>
                    <a:lnTo>
                      <a:pt x="104" y="632"/>
                    </a:lnTo>
                    <a:lnTo>
                      <a:pt x="152" y="714"/>
                    </a:lnTo>
                    <a:lnTo>
                      <a:pt x="152" y="714"/>
                    </a:lnTo>
                    <a:lnTo>
                      <a:pt x="176" y="754"/>
                    </a:lnTo>
                    <a:lnTo>
                      <a:pt x="201" y="793"/>
                    </a:lnTo>
                    <a:lnTo>
                      <a:pt x="225" y="832"/>
                    </a:lnTo>
                    <a:lnTo>
                      <a:pt x="249" y="871"/>
                    </a:lnTo>
                    <a:lnTo>
                      <a:pt x="249" y="871"/>
                    </a:lnTo>
                    <a:lnTo>
                      <a:pt x="255" y="883"/>
                    </a:lnTo>
                    <a:lnTo>
                      <a:pt x="260" y="896"/>
                    </a:lnTo>
                    <a:lnTo>
                      <a:pt x="260" y="896"/>
                    </a:lnTo>
                    <a:lnTo>
                      <a:pt x="269" y="919"/>
                    </a:lnTo>
                    <a:lnTo>
                      <a:pt x="279" y="943"/>
                    </a:lnTo>
                    <a:lnTo>
                      <a:pt x="302" y="989"/>
                    </a:lnTo>
                    <a:lnTo>
                      <a:pt x="324" y="1035"/>
                    </a:lnTo>
                    <a:lnTo>
                      <a:pt x="336" y="1058"/>
                    </a:lnTo>
                    <a:lnTo>
                      <a:pt x="345" y="1082"/>
                    </a:lnTo>
                    <a:lnTo>
                      <a:pt x="345" y="1082"/>
                    </a:lnTo>
                    <a:lnTo>
                      <a:pt x="363" y="1127"/>
                    </a:lnTo>
                    <a:lnTo>
                      <a:pt x="382" y="1171"/>
                    </a:lnTo>
                    <a:lnTo>
                      <a:pt x="400" y="1216"/>
                    </a:lnTo>
                    <a:lnTo>
                      <a:pt x="409" y="1237"/>
                    </a:lnTo>
                    <a:lnTo>
                      <a:pt x="417" y="1261"/>
                    </a:lnTo>
                    <a:lnTo>
                      <a:pt x="417" y="1261"/>
                    </a:lnTo>
                    <a:lnTo>
                      <a:pt x="436" y="1312"/>
                    </a:lnTo>
                    <a:lnTo>
                      <a:pt x="454" y="1364"/>
                    </a:lnTo>
                    <a:lnTo>
                      <a:pt x="470" y="1417"/>
                    </a:lnTo>
                    <a:lnTo>
                      <a:pt x="476" y="1443"/>
                    </a:lnTo>
                    <a:lnTo>
                      <a:pt x="482" y="1469"/>
                    </a:lnTo>
                    <a:lnTo>
                      <a:pt x="482" y="1469"/>
                    </a:lnTo>
                    <a:lnTo>
                      <a:pt x="437" y="1400"/>
                    </a:lnTo>
                    <a:lnTo>
                      <a:pt x="392" y="1330"/>
                    </a:lnTo>
                    <a:lnTo>
                      <a:pt x="305" y="1194"/>
                    </a:lnTo>
                    <a:lnTo>
                      <a:pt x="305" y="1194"/>
                    </a:lnTo>
                    <a:lnTo>
                      <a:pt x="323" y="1228"/>
                    </a:lnTo>
                    <a:lnTo>
                      <a:pt x="342" y="1262"/>
                    </a:lnTo>
                    <a:lnTo>
                      <a:pt x="384" y="1330"/>
                    </a:lnTo>
                    <a:lnTo>
                      <a:pt x="425" y="1397"/>
                    </a:lnTo>
                    <a:lnTo>
                      <a:pt x="445" y="1431"/>
                    </a:lnTo>
                    <a:lnTo>
                      <a:pt x="463" y="1464"/>
                    </a:lnTo>
                    <a:lnTo>
                      <a:pt x="463" y="1464"/>
                    </a:lnTo>
                    <a:lnTo>
                      <a:pt x="406" y="1397"/>
                    </a:lnTo>
                    <a:lnTo>
                      <a:pt x="378" y="1366"/>
                    </a:lnTo>
                    <a:lnTo>
                      <a:pt x="348" y="1333"/>
                    </a:lnTo>
                    <a:lnTo>
                      <a:pt x="317" y="1302"/>
                    </a:lnTo>
                    <a:lnTo>
                      <a:pt x="286" y="1271"/>
                    </a:lnTo>
                    <a:lnTo>
                      <a:pt x="253" y="1242"/>
                    </a:lnTo>
                    <a:lnTo>
                      <a:pt x="218" y="1215"/>
                    </a:lnTo>
                    <a:lnTo>
                      <a:pt x="218" y="1215"/>
                    </a:lnTo>
                    <a:lnTo>
                      <a:pt x="239" y="1233"/>
                    </a:lnTo>
                    <a:lnTo>
                      <a:pt x="260" y="1251"/>
                    </a:lnTo>
                    <a:lnTo>
                      <a:pt x="280" y="1270"/>
                    </a:lnTo>
                    <a:lnTo>
                      <a:pt x="299" y="1289"/>
                    </a:lnTo>
                    <a:lnTo>
                      <a:pt x="336" y="1330"/>
                    </a:lnTo>
                    <a:lnTo>
                      <a:pt x="372" y="1371"/>
                    </a:lnTo>
                    <a:lnTo>
                      <a:pt x="372" y="1371"/>
                    </a:lnTo>
                    <a:lnTo>
                      <a:pt x="404" y="1409"/>
                    </a:lnTo>
                    <a:lnTo>
                      <a:pt x="434" y="1446"/>
                    </a:lnTo>
                    <a:lnTo>
                      <a:pt x="464" y="1485"/>
                    </a:lnTo>
                    <a:lnTo>
                      <a:pt x="491" y="1524"/>
                    </a:lnTo>
                    <a:lnTo>
                      <a:pt x="491" y="1524"/>
                    </a:lnTo>
                    <a:lnTo>
                      <a:pt x="500" y="1536"/>
                    </a:lnTo>
                    <a:lnTo>
                      <a:pt x="505" y="1541"/>
                    </a:lnTo>
                    <a:lnTo>
                      <a:pt x="508" y="1547"/>
                    </a:lnTo>
                    <a:lnTo>
                      <a:pt x="508" y="1547"/>
                    </a:lnTo>
                    <a:lnTo>
                      <a:pt x="514" y="1557"/>
                    </a:lnTo>
                    <a:lnTo>
                      <a:pt x="517" y="1568"/>
                    </a:lnTo>
                    <a:lnTo>
                      <a:pt x="523" y="1587"/>
                    </a:lnTo>
                    <a:lnTo>
                      <a:pt x="527" y="1607"/>
                    </a:lnTo>
                    <a:lnTo>
                      <a:pt x="531" y="1618"/>
                    </a:lnTo>
                    <a:lnTo>
                      <a:pt x="535" y="1628"/>
                    </a:lnTo>
                    <a:lnTo>
                      <a:pt x="535" y="1628"/>
                    </a:lnTo>
                    <a:lnTo>
                      <a:pt x="478" y="1591"/>
                    </a:lnTo>
                    <a:lnTo>
                      <a:pt x="446" y="1572"/>
                    </a:lnTo>
                    <a:lnTo>
                      <a:pt x="413" y="1554"/>
                    </a:lnTo>
                    <a:lnTo>
                      <a:pt x="413" y="1554"/>
                    </a:lnTo>
                    <a:lnTo>
                      <a:pt x="380" y="1537"/>
                    </a:lnTo>
                    <a:lnTo>
                      <a:pt x="346" y="1521"/>
                    </a:lnTo>
                    <a:lnTo>
                      <a:pt x="311" y="1506"/>
                    </a:lnTo>
                    <a:lnTo>
                      <a:pt x="277" y="1493"/>
                    </a:lnTo>
                    <a:lnTo>
                      <a:pt x="277" y="1493"/>
                    </a:lnTo>
                    <a:lnTo>
                      <a:pt x="346" y="1524"/>
                    </a:lnTo>
                    <a:lnTo>
                      <a:pt x="380" y="1541"/>
                    </a:lnTo>
                    <a:lnTo>
                      <a:pt x="414" y="1559"/>
                    </a:lnTo>
                    <a:lnTo>
                      <a:pt x="447" y="1576"/>
                    </a:lnTo>
                    <a:lnTo>
                      <a:pt x="479" y="1595"/>
                    </a:lnTo>
                    <a:lnTo>
                      <a:pt x="509" y="1614"/>
                    </a:lnTo>
                    <a:lnTo>
                      <a:pt x="538" y="1635"/>
                    </a:lnTo>
                    <a:lnTo>
                      <a:pt x="538" y="1635"/>
                    </a:lnTo>
                    <a:lnTo>
                      <a:pt x="550" y="1672"/>
                    </a:lnTo>
                    <a:lnTo>
                      <a:pt x="564" y="1708"/>
                    </a:lnTo>
                    <a:lnTo>
                      <a:pt x="590" y="1781"/>
                    </a:lnTo>
                    <a:lnTo>
                      <a:pt x="609" y="1781"/>
                    </a:lnTo>
                    <a:lnTo>
                      <a:pt x="609" y="1781"/>
                    </a:lnTo>
                    <a:lnTo>
                      <a:pt x="602" y="1758"/>
                    </a:lnTo>
                    <a:lnTo>
                      <a:pt x="594" y="1734"/>
                    </a:lnTo>
                    <a:lnTo>
                      <a:pt x="585" y="1712"/>
                    </a:lnTo>
                    <a:lnTo>
                      <a:pt x="576" y="1689"/>
                    </a:lnTo>
                    <a:lnTo>
                      <a:pt x="576" y="1689"/>
                    </a:lnTo>
                    <a:lnTo>
                      <a:pt x="577" y="1699"/>
                    </a:lnTo>
                    <a:lnTo>
                      <a:pt x="581" y="1711"/>
                    </a:lnTo>
                    <a:lnTo>
                      <a:pt x="588" y="1733"/>
                    </a:lnTo>
                    <a:lnTo>
                      <a:pt x="594" y="1756"/>
                    </a:lnTo>
                    <a:lnTo>
                      <a:pt x="597" y="1767"/>
                    </a:lnTo>
                    <a:lnTo>
                      <a:pt x="598" y="1778"/>
                    </a:lnTo>
                    <a:lnTo>
                      <a:pt x="598" y="1778"/>
                    </a:lnTo>
                    <a:lnTo>
                      <a:pt x="585" y="1745"/>
                    </a:lnTo>
                    <a:lnTo>
                      <a:pt x="573" y="1709"/>
                    </a:lnTo>
                    <a:lnTo>
                      <a:pt x="562" y="1675"/>
                    </a:lnTo>
                    <a:lnTo>
                      <a:pt x="557" y="1661"/>
                    </a:lnTo>
                    <a:lnTo>
                      <a:pt x="555" y="1646"/>
                    </a:lnTo>
                    <a:lnTo>
                      <a:pt x="555" y="1646"/>
                    </a:lnTo>
                    <a:lnTo>
                      <a:pt x="562" y="1653"/>
                    </a:lnTo>
                    <a:lnTo>
                      <a:pt x="572" y="1660"/>
                    </a:lnTo>
                    <a:lnTo>
                      <a:pt x="581" y="1666"/>
                    </a:lnTo>
                    <a:lnTo>
                      <a:pt x="584" y="1670"/>
                    </a:lnTo>
                    <a:lnTo>
                      <a:pt x="588" y="1674"/>
                    </a:lnTo>
                    <a:lnTo>
                      <a:pt x="588" y="1674"/>
                    </a:lnTo>
                    <a:lnTo>
                      <a:pt x="593" y="1682"/>
                    </a:lnTo>
                    <a:lnTo>
                      <a:pt x="598" y="1691"/>
                    </a:lnTo>
                    <a:lnTo>
                      <a:pt x="606" y="1712"/>
                    </a:lnTo>
                    <a:lnTo>
                      <a:pt x="613" y="1732"/>
                    </a:lnTo>
                    <a:lnTo>
                      <a:pt x="621" y="1753"/>
                    </a:lnTo>
                    <a:lnTo>
                      <a:pt x="621" y="1753"/>
                    </a:lnTo>
                    <a:lnTo>
                      <a:pt x="633" y="1781"/>
                    </a:lnTo>
                    <a:lnTo>
                      <a:pt x="713" y="1781"/>
                    </a:lnTo>
                    <a:lnTo>
                      <a:pt x="713" y="1781"/>
                    </a:lnTo>
                    <a:lnTo>
                      <a:pt x="714" y="1780"/>
                    </a:lnTo>
                    <a:lnTo>
                      <a:pt x="716" y="1779"/>
                    </a:lnTo>
                    <a:lnTo>
                      <a:pt x="716" y="1779"/>
                    </a:lnTo>
                    <a:lnTo>
                      <a:pt x="717" y="1781"/>
                    </a:lnTo>
                    <a:lnTo>
                      <a:pt x="727" y="1781"/>
                    </a:lnTo>
                    <a:lnTo>
                      <a:pt x="727" y="1781"/>
                    </a:lnTo>
                    <a:lnTo>
                      <a:pt x="719" y="1775"/>
                    </a:lnTo>
                    <a:lnTo>
                      <a:pt x="713" y="1770"/>
                    </a:lnTo>
                    <a:lnTo>
                      <a:pt x="707" y="1764"/>
                    </a:lnTo>
                    <a:lnTo>
                      <a:pt x="703" y="1757"/>
                    </a:lnTo>
                    <a:lnTo>
                      <a:pt x="703" y="1757"/>
                    </a:lnTo>
                    <a:lnTo>
                      <a:pt x="701" y="1751"/>
                    </a:lnTo>
                    <a:lnTo>
                      <a:pt x="702" y="1745"/>
                    </a:lnTo>
                    <a:lnTo>
                      <a:pt x="703" y="1739"/>
                    </a:lnTo>
                    <a:lnTo>
                      <a:pt x="706" y="1732"/>
                    </a:lnTo>
                    <a:lnTo>
                      <a:pt x="711" y="1721"/>
                    </a:lnTo>
                    <a:lnTo>
                      <a:pt x="713" y="1714"/>
                    </a:lnTo>
                    <a:lnTo>
                      <a:pt x="714" y="1708"/>
                    </a:lnTo>
                    <a:lnTo>
                      <a:pt x="714" y="1708"/>
                    </a:lnTo>
                    <a:lnTo>
                      <a:pt x="719" y="1716"/>
                    </a:lnTo>
                    <a:lnTo>
                      <a:pt x="725" y="1724"/>
                    </a:lnTo>
                    <a:lnTo>
                      <a:pt x="734" y="1742"/>
                    </a:lnTo>
                    <a:lnTo>
                      <a:pt x="741" y="1762"/>
                    </a:lnTo>
                    <a:lnTo>
                      <a:pt x="748" y="1781"/>
                    </a:lnTo>
                    <a:lnTo>
                      <a:pt x="793" y="1781"/>
                    </a:lnTo>
                    <a:lnTo>
                      <a:pt x="793" y="1781"/>
                    </a:lnTo>
                    <a:lnTo>
                      <a:pt x="784" y="1763"/>
                    </a:lnTo>
                    <a:lnTo>
                      <a:pt x="777" y="1745"/>
                    </a:lnTo>
                    <a:lnTo>
                      <a:pt x="770" y="1727"/>
                    </a:lnTo>
                    <a:lnTo>
                      <a:pt x="762" y="1708"/>
                    </a:lnTo>
                    <a:lnTo>
                      <a:pt x="762" y="1708"/>
                    </a:lnTo>
                    <a:lnTo>
                      <a:pt x="753" y="1688"/>
                    </a:lnTo>
                    <a:lnTo>
                      <a:pt x="742" y="1665"/>
                    </a:lnTo>
                    <a:lnTo>
                      <a:pt x="732" y="1644"/>
                    </a:lnTo>
                    <a:lnTo>
                      <a:pt x="728" y="1633"/>
                    </a:lnTo>
                    <a:lnTo>
                      <a:pt x="727" y="1623"/>
                    </a:lnTo>
                    <a:lnTo>
                      <a:pt x="727" y="1623"/>
                    </a:lnTo>
                    <a:lnTo>
                      <a:pt x="726" y="1616"/>
                    </a:lnTo>
                    <a:lnTo>
                      <a:pt x="727" y="1608"/>
                    </a:lnTo>
                    <a:lnTo>
                      <a:pt x="731" y="1595"/>
                    </a:lnTo>
                    <a:lnTo>
                      <a:pt x="734" y="1581"/>
                    </a:lnTo>
                    <a:lnTo>
                      <a:pt x="737" y="1566"/>
                    </a:lnTo>
                    <a:lnTo>
                      <a:pt x="737" y="1566"/>
                    </a:lnTo>
                    <a:lnTo>
                      <a:pt x="742" y="1538"/>
                    </a:lnTo>
                    <a:lnTo>
                      <a:pt x="745" y="1507"/>
                    </a:lnTo>
                    <a:lnTo>
                      <a:pt x="745" y="1507"/>
                    </a:lnTo>
                    <a:lnTo>
                      <a:pt x="761" y="1518"/>
                    </a:lnTo>
                    <a:lnTo>
                      <a:pt x="776" y="1529"/>
                    </a:lnTo>
                    <a:lnTo>
                      <a:pt x="803" y="1554"/>
                    </a:lnTo>
                    <a:lnTo>
                      <a:pt x="803" y="1554"/>
                    </a:lnTo>
                    <a:lnTo>
                      <a:pt x="834" y="1580"/>
                    </a:lnTo>
                    <a:lnTo>
                      <a:pt x="863" y="1608"/>
                    </a:lnTo>
                    <a:lnTo>
                      <a:pt x="923" y="1665"/>
                    </a:lnTo>
                    <a:lnTo>
                      <a:pt x="980" y="1722"/>
                    </a:lnTo>
                    <a:lnTo>
                      <a:pt x="1037" y="1781"/>
                    </a:lnTo>
                    <a:lnTo>
                      <a:pt x="1052" y="1781"/>
                    </a:lnTo>
                    <a:lnTo>
                      <a:pt x="1052" y="1781"/>
                    </a:lnTo>
                    <a:lnTo>
                      <a:pt x="978" y="1709"/>
                    </a:lnTo>
                    <a:lnTo>
                      <a:pt x="902" y="1638"/>
                    </a:lnTo>
                    <a:lnTo>
                      <a:pt x="825" y="1569"/>
                    </a:lnTo>
                    <a:lnTo>
                      <a:pt x="747" y="1502"/>
                    </a:lnTo>
                    <a:lnTo>
                      <a:pt x="747" y="1502"/>
                    </a:lnTo>
                    <a:close/>
                    <a:moveTo>
                      <a:pt x="339" y="1048"/>
                    </a:moveTo>
                    <a:lnTo>
                      <a:pt x="339" y="1048"/>
                    </a:lnTo>
                    <a:lnTo>
                      <a:pt x="331" y="1028"/>
                    </a:lnTo>
                    <a:lnTo>
                      <a:pt x="322" y="1009"/>
                    </a:lnTo>
                    <a:lnTo>
                      <a:pt x="313" y="989"/>
                    </a:lnTo>
                    <a:lnTo>
                      <a:pt x="311" y="980"/>
                    </a:lnTo>
                    <a:lnTo>
                      <a:pt x="307" y="970"/>
                    </a:lnTo>
                    <a:lnTo>
                      <a:pt x="307" y="970"/>
                    </a:lnTo>
                    <a:lnTo>
                      <a:pt x="311" y="970"/>
                    </a:lnTo>
                    <a:lnTo>
                      <a:pt x="313" y="970"/>
                    </a:lnTo>
                    <a:lnTo>
                      <a:pt x="313" y="970"/>
                    </a:lnTo>
                    <a:lnTo>
                      <a:pt x="320" y="980"/>
                    </a:lnTo>
                    <a:lnTo>
                      <a:pt x="325" y="989"/>
                    </a:lnTo>
                    <a:lnTo>
                      <a:pt x="331" y="999"/>
                    </a:lnTo>
                    <a:lnTo>
                      <a:pt x="334" y="1009"/>
                    </a:lnTo>
                    <a:lnTo>
                      <a:pt x="338" y="1019"/>
                    </a:lnTo>
                    <a:lnTo>
                      <a:pt x="339" y="1029"/>
                    </a:lnTo>
                    <a:lnTo>
                      <a:pt x="339" y="1040"/>
                    </a:lnTo>
                    <a:lnTo>
                      <a:pt x="339" y="1048"/>
                    </a:lnTo>
                    <a:lnTo>
                      <a:pt x="339" y="1048"/>
                    </a:lnTo>
                    <a:close/>
                    <a:moveTo>
                      <a:pt x="431" y="1200"/>
                    </a:moveTo>
                    <a:lnTo>
                      <a:pt x="431" y="1200"/>
                    </a:lnTo>
                    <a:lnTo>
                      <a:pt x="428" y="1192"/>
                    </a:lnTo>
                    <a:lnTo>
                      <a:pt x="425" y="1183"/>
                    </a:lnTo>
                    <a:lnTo>
                      <a:pt x="423" y="1165"/>
                    </a:lnTo>
                    <a:lnTo>
                      <a:pt x="421" y="1148"/>
                    </a:lnTo>
                    <a:lnTo>
                      <a:pt x="420" y="1140"/>
                    </a:lnTo>
                    <a:lnTo>
                      <a:pt x="417" y="1133"/>
                    </a:lnTo>
                    <a:lnTo>
                      <a:pt x="417" y="1133"/>
                    </a:lnTo>
                    <a:lnTo>
                      <a:pt x="417" y="1146"/>
                    </a:lnTo>
                    <a:lnTo>
                      <a:pt x="420" y="1162"/>
                    </a:lnTo>
                    <a:lnTo>
                      <a:pt x="425" y="1195"/>
                    </a:lnTo>
                    <a:lnTo>
                      <a:pt x="428" y="1212"/>
                    </a:lnTo>
                    <a:lnTo>
                      <a:pt x="430" y="1228"/>
                    </a:lnTo>
                    <a:lnTo>
                      <a:pt x="431" y="1244"/>
                    </a:lnTo>
                    <a:lnTo>
                      <a:pt x="431" y="1258"/>
                    </a:lnTo>
                    <a:lnTo>
                      <a:pt x="431" y="1258"/>
                    </a:lnTo>
                    <a:lnTo>
                      <a:pt x="409" y="1209"/>
                    </a:lnTo>
                    <a:lnTo>
                      <a:pt x="400" y="1183"/>
                    </a:lnTo>
                    <a:lnTo>
                      <a:pt x="391" y="1157"/>
                    </a:lnTo>
                    <a:lnTo>
                      <a:pt x="384" y="1131"/>
                    </a:lnTo>
                    <a:lnTo>
                      <a:pt x="379" y="1107"/>
                    </a:lnTo>
                    <a:lnTo>
                      <a:pt x="375" y="1083"/>
                    </a:lnTo>
                    <a:lnTo>
                      <a:pt x="374" y="1073"/>
                    </a:lnTo>
                    <a:lnTo>
                      <a:pt x="375" y="1062"/>
                    </a:lnTo>
                    <a:lnTo>
                      <a:pt x="375" y="1062"/>
                    </a:lnTo>
                    <a:lnTo>
                      <a:pt x="387" y="1078"/>
                    </a:lnTo>
                    <a:lnTo>
                      <a:pt x="398" y="1095"/>
                    </a:lnTo>
                    <a:lnTo>
                      <a:pt x="408" y="1114"/>
                    </a:lnTo>
                    <a:lnTo>
                      <a:pt x="420" y="1132"/>
                    </a:lnTo>
                    <a:lnTo>
                      <a:pt x="420" y="1132"/>
                    </a:lnTo>
                    <a:lnTo>
                      <a:pt x="428" y="1142"/>
                    </a:lnTo>
                    <a:lnTo>
                      <a:pt x="431" y="1146"/>
                    </a:lnTo>
                    <a:lnTo>
                      <a:pt x="434" y="1152"/>
                    </a:lnTo>
                    <a:lnTo>
                      <a:pt x="434" y="1152"/>
                    </a:lnTo>
                    <a:lnTo>
                      <a:pt x="436" y="1159"/>
                    </a:lnTo>
                    <a:lnTo>
                      <a:pt x="436" y="1165"/>
                    </a:lnTo>
                    <a:lnTo>
                      <a:pt x="433" y="1176"/>
                    </a:lnTo>
                    <a:lnTo>
                      <a:pt x="431" y="1187"/>
                    </a:lnTo>
                    <a:lnTo>
                      <a:pt x="431" y="1194"/>
                    </a:lnTo>
                    <a:lnTo>
                      <a:pt x="431" y="1200"/>
                    </a:lnTo>
                    <a:lnTo>
                      <a:pt x="431" y="1200"/>
                    </a:lnTo>
                    <a:close/>
                    <a:moveTo>
                      <a:pt x="403" y="1066"/>
                    </a:moveTo>
                    <a:lnTo>
                      <a:pt x="403" y="1066"/>
                    </a:lnTo>
                    <a:lnTo>
                      <a:pt x="383" y="1036"/>
                    </a:lnTo>
                    <a:lnTo>
                      <a:pt x="374" y="1022"/>
                    </a:lnTo>
                    <a:lnTo>
                      <a:pt x="370" y="1015"/>
                    </a:lnTo>
                    <a:lnTo>
                      <a:pt x="367" y="1008"/>
                    </a:lnTo>
                    <a:lnTo>
                      <a:pt x="367" y="1008"/>
                    </a:lnTo>
                    <a:lnTo>
                      <a:pt x="366" y="1002"/>
                    </a:lnTo>
                    <a:lnTo>
                      <a:pt x="365" y="997"/>
                    </a:lnTo>
                    <a:lnTo>
                      <a:pt x="365" y="986"/>
                    </a:lnTo>
                    <a:lnTo>
                      <a:pt x="365" y="975"/>
                    </a:lnTo>
                    <a:lnTo>
                      <a:pt x="363" y="969"/>
                    </a:lnTo>
                    <a:lnTo>
                      <a:pt x="361" y="963"/>
                    </a:lnTo>
                    <a:lnTo>
                      <a:pt x="361" y="963"/>
                    </a:lnTo>
                    <a:lnTo>
                      <a:pt x="361" y="972"/>
                    </a:lnTo>
                    <a:lnTo>
                      <a:pt x="362" y="982"/>
                    </a:lnTo>
                    <a:lnTo>
                      <a:pt x="362" y="991"/>
                    </a:lnTo>
                    <a:lnTo>
                      <a:pt x="362" y="1001"/>
                    </a:lnTo>
                    <a:lnTo>
                      <a:pt x="362" y="1001"/>
                    </a:lnTo>
                    <a:lnTo>
                      <a:pt x="356" y="990"/>
                    </a:lnTo>
                    <a:lnTo>
                      <a:pt x="353" y="980"/>
                    </a:lnTo>
                    <a:lnTo>
                      <a:pt x="349" y="969"/>
                    </a:lnTo>
                    <a:lnTo>
                      <a:pt x="348" y="959"/>
                    </a:lnTo>
                    <a:lnTo>
                      <a:pt x="346" y="939"/>
                    </a:lnTo>
                    <a:lnTo>
                      <a:pt x="344" y="918"/>
                    </a:lnTo>
                    <a:lnTo>
                      <a:pt x="344" y="918"/>
                    </a:lnTo>
                    <a:lnTo>
                      <a:pt x="324" y="788"/>
                    </a:lnTo>
                    <a:lnTo>
                      <a:pt x="321" y="756"/>
                    </a:lnTo>
                    <a:lnTo>
                      <a:pt x="316" y="725"/>
                    </a:lnTo>
                    <a:lnTo>
                      <a:pt x="314" y="695"/>
                    </a:lnTo>
                    <a:lnTo>
                      <a:pt x="313" y="665"/>
                    </a:lnTo>
                    <a:lnTo>
                      <a:pt x="313" y="665"/>
                    </a:lnTo>
                    <a:lnTo>
                      <a:pt x="348" y="748"/>
                    </a:lnTo>
                    <a:lnTo>
                      <a:pt x="384" y="832"/>
                    </a:lnTo>
                    <a:lnTo>
                      <a:pt x="454" y="1002"/>
                    </a:lnTo>
                    <a:lnTo>
                      <a:pt x="523" y="1173"/>
                    </a:lnTo>
                    <a:lnTo>
                      <a:pt x="592" y="1341"/>
                    </a:lnTo>
                    <a:lnTo>
                      <a:pt x="592" y="1341"/>
                    </a:lnTo>
                    <a:lnTo>
                      <a:pt x="580" y="1324"/>
                    </a:lnTo>
                    <a:lnTo>
                      <a:pt x="567" y="1305"/>
                    </a:lnTo>
                    <a:lnTo>
                      <a:pt x="540" y="1269"/>
                    </a:lnTo>
                    <a:lnTo>
                      <a:pt x="540" y="1269"/>
                    </a:lnTo>
                    <a:lnTo>
                      <a:pt x="513" y="1233"/>
                    </a:lnTo>
                    <a:lnTo>
                      <a:pt x="500" y="1213"/>
                    </a:lnTo>
                    <a:lnTo>
                      <a:pt x="495" y="1204"/>
                    </a:lnTo>
                    <a:lnTo>
                      <a:pt x="490" y="1195"/>
                    </a:lnTo>
                    <a:lnTo>
                      <a:pt x="490" y="1195"/>
                    </a:lnTo>
                    <a:lnTo>
                      <a:pt x="488" y="1188"/>
                    </a:lnTo>
                    <a:lnTo>
                      <a:pt x="485" y="1182"/>
                    </a:lnTo>
                    <a:lnTo>
                      <a:pt x="482" y="1167"/>
                    </a:lnTo>
                    <a:lnTo>
                      <a:pt x="478" y="1152"/>
                    </a:lnTo>
                    <a:lnTo>
                      <a:pt x="474" y="1145"/>
                    </a:lnTo>
                    <a:lnTo>
                      <a:pt x="470" y="1138"/>
                    </a:lnTo>
                    <a:lnTo>
                      <a:pt x="470" y="1138"/>
                    </a:lnTo>
                    <a:lnTo>
                      <a:pt x="473" y="1150"/>
                    </a:lnTo>
                    <a:lnTo>
                      <a:pt x="476" y="1162"/>
                    </a:lnTo>
                    <a:lnTo>
                      <a:pt x="480" y="1174"/>
                    </a:lnTo>
                    <a:lnTo>
                      <a:pt x="481" y="1178"/>
                    </a:lnTo>
                    <a:lnTo>
                      <a:pt x="481" y="1184"/>
                    </a:lnTo>
                    <a:lnTo>
                      <a:pt x="481" y="1184"/>
                    </a:lnTo>
                    <a:lnTo>
                      <a:pt x="476" y="1173"/>
                    </a:lnTo>
                    <a:lnTo>
                      <a:pt x="472" y="1162"/>
                    </a:lnTo>
                    <a:lnTo>
                      <a:pt x="466" y="1141"/>
                    </a:lnTo>
                    <a:lnTo>
                      <a:pt x="463" y="1119"/>
                    </a:lnTo>
                    <a:lnTo>
                      <a:pt x="460" y="1099"/>
                    </a:lnTo>
                    <a:lnTo>
                      <a:pt x="459" y="1078"/>
                    </a:lnTo>
                    <a:lnTo>
                      <a:pt x="459" y="1058"/>
                    </a:lnTo>
                    <a:lnTo>
                      <a:pt x="458" y="1040"/>
                    </a:lnTo>
                    <a:lnTo>
                      <a:pt x="457" y="1022"/>
                    </a:lnTo>
                    <a:lnTo>
                      <a:pt x="457" y="1022"/>
                    </a:lnTo>
                    <a:lnTo>
                      <a:pt x="456" y="1022"/>
                    </a:lnTo>
                    <a:lnTo>
                      <a:pt x="455" y="1023"/>
                    </a:lnTo>
                    <a:lnTo>
                      <a:pt x="455" y="1023"/>
                    </a:lnTo>
                    <a:lnTo>
                      <a:pt x="451" y="1047"/>
                    </a:lnTo>
                    <a:lnTo>
                      <a:pt x="448" y="1070"/>
                    </a:lnTo>
                    <a:lnTo>
                      <a:pt x="443" y="1094"/>
                    </a:lnTo>
                    <a:lnTo>
                      <a:pt x="441" y="1119"/>
                    </a:lnTo>
                    <a:lnTo>
                      <a:pt x="441" y="1119"/>
                    </a:lnTo>
                    <a:lnTo>
                      <a:pt x="431" y="1107"/>
                    </a:lnTo>
                    <a:lnTo>
                      <a:pt x="421" y="1093"/>
                    </a:lnTo>
                    <a:lnTo>
                      <a:pt x="403" y="1066"/>
                    </a:lnTo>
                    <a:lnTo>
                      <a:pt x="403" y="1066"/>
                    </a:lnTo>
                    <a:close/>
                    <a:moveTo>
                      <a:pt x="448" y="1171"/>
                    </a:moveTo>
                    <a:lnTo>
                      <a:pt x="448" y="1171"/>
                    </a:lnTo>
                    <a:lnTo>
                      <a:pt x="454" y="1188"/>
                    </a:lnTo>
                    <a:lnTo>
                      <a:pt x="458" y="1207"/>
                    </a:lnTo>
                    <a:lnTo>
                      <a:pt x="462" y="1224"/>
                    </a:lnTo>
                    <a:lnTo>
                      <a:pt x="464" y="1242"/>
                    </a:lnTo>
                    <a:lnTo>
                      <a:pt x="466" y="1277"/>
                    </a:lnTo>
                    <a:lnTo>
                      <a:pt x="467" y="1309"/>
                    </a:lnTo>
                    <a:lnTo>
                      <a:pt x="467" y="1309"/>
                    </a:lnTo>
                    <a:lnTo>
                      <a:pt x="458" y="1288"/>
                    </a:lnTo>
                    <a:lnTo>
                      <a:pt x="451" y="1269"/>
                    </a:lnTo>
                    <a:lnTo>
                      <a:pt x="447" y="1250"/>
                    </a:lnTo>
                    <a:lnTo>
                      <a:pt x="445" y="1233"/>
                    </a:lnTo>
                    <a:lnTo>
                      <a:pt x="443" y="1216"/>
                    </a:lnTo>
                    <a:lnTo>
                      <a:pt x="445" y="1200"/>
                    </a:lnTo>
                    <a:lnTo>
                      <a:pt x="446" y="1185"/>
                    </a:lnTo>
                    <a:lnTo>
                      <a:pt x="448" y="1171"/>
                    </a:lnTo>
                    <a:lnTo>
                      <a:pt x="448" y="1171"/>
                    </a:lnTo>
                    <a:close/>
                    <a:moveTo>
                      <a:pt x="479" y="1414"/>
                    </a:moveTo>
                    <a:lnTo>
                      <a:pt x="479" y="1414"/>
                    </a:lnTo>
                    <a:lnTo>
                      <a:pt x="485" y="1431"/>
                    </a:lnTo>
                    <a:lnTo>
                      <a:pt x="493" y="1448"/>
                    </a:lnTo>
                    <a:lnTo>
                      <a:pt x="510" y="1484"/>
                    </a:lnTo>
                    <a:lnTo>
                      <a:pt x="526" y="1518"/>
                    </a:lnTo>
                    <a:lnTo>
                      <a:pt x="533" y="1534"/>
                    </a:lnTo>
                    <a:lnTo>
                      <a:pt x="539" y="1551"/>
                    </a:lnTo>
                    <a:lnTo>
                      <a:pt x="539" y="1551"/>
                    </a:lnTo>
                    <a:lnTo>
                      <a:pt x="526" y="1537"/>
                    </a:lnTo>
                    <a:lnTo>
                      <a:pt x="516" y="1521"/>
                    </a:lnTo>
                    <a:lnTo>
                      <a:pt x="508" y="1504"/>
                    </a:lnTo>
                    <a:lnTo>
                      <a:pt x="500" y="1486"/>
                    </a:lnTo>
                    <a:lnTo>
                      <a:pt x="493" y="1468"/>
                    </a:lnTo>
                    <a:lnTo>
                      <a:pt x="488" y="1450"/>
                    </a:lnTo>
                    <a:lnTo>
                      <a:pt x="479" y="1414"/>
                    </a:lnTo>
                    <a:lnTo>
                      <a:pt x="479" y="1414"/>
                    </a:lnTo>
                    <a:close/>
                    <a:moveTo>
                      <a:pt x="548" y="1636"/>
                    </a:moveTo>
                    <a:lnTo>
                      <a:pt x="548" y="1636"/>
                    </a:lnTo>
                    <a:lnTo>
                      <a:pt x="543" y="1628"/>
                    </a:lnTo>
                    <a:lnTo>
                      <a:pt x="540" y="1619"/>
                    </a:lnTo>
                    <a:lnTo>
                      <a:pt x="535" y="1599"/>
                    </a:lnTo>
                    <a:lnTo>
                      <a:pt x="531" y="1580"/>
                    </a:lnTo>
                    <a:lnTo>
                      <a:pt x="529" y="1571"/>
                    </a:lnTo>
                    <a:lnTo>
                      <a:pt x="526" y="1563"/>
                    </a:lnTo>
                    <a:lnTo>
                      <a:pt x="526" y="1563"/>
                    </a:lnTo>
                    <a:lnTo>
                      <a:pt x="541" y="1588"/>
                    </a:lnTo>
                    <a:lnTo>
                      <a:pt x="557" y="1612"/>
                    </a:lnTo>
                    <a:lnTo>
                      <a:pt x="572" y="1638"/>
                    </a:lnTo>
                    <a:lnTo>
                      <a:pt x="579" y="1650"/>
                    </a:lnTo>
                    <a:lnTo>
                      <a:pt x="585" y="1664"/>
                    </a:lnTo>
                    <a:lnTo>
                      <a:pt x="585" y="1664"/>
                    </a:lnTo>
                    <a:lnTo>
                      <a:pt x="565" y="1653"/>
                    </a:lnTo>
                    <a:lnTo>
                      <a:pt x="555" y="1645"/>
                    </a:lnTo>
                    <a:lnTo>
                      <a:pt x="551" y="1640"/>
                    </a:lnTo>
                    <a:lnTo>
                      <a:pt x="548" y="1636"/>
                    </a:lnTo>
                    <a:lnTo>
                      <a:pt x="548" y="1636"/>
                    </a:lnTo>
                    <a:close/>
                    <a:moveTo>
                      <a:pt x="634" y="1692"/>
                    </a:moveTo>
                    <a:lnTo>
                      <a:pt x="634" y="1692"/>
                    </a:lnTo>
                    <a:lnTo>
                      <a:pt x="622" y="1674"/>
                    </a:lnTo>
                    <a:lnTo>
                      <a:pt x="611" y="1656"/>
                    </a:lnTo>
                    <a:lnTo>
                      <a:pt x="600" y="1637"/>
                    </a:lnTo>
                    <a:lnTo>
                      <a:pt x="590" y="1616"/>
                    </a:lnTo>
                    <a:lnTo>
                      <a:pt x="572" y="1576"/>
                    </a:lnTo>
                    <a:lnTo>
                      <a:pt x="555" y="1534"/>
                    </a:lnTo>
                    <a:lnTo>
                      <a:pt x="555" y="1534"/>
                    </a:lnTo>
                    <a:lnTo>
                      <a:pt x="556" y="1532"/>
                    </a:lnTo>
                    <a:lnTo>
                      <a:pt x="557" y="1534"/>
                    </a:lnTo>
                    <a:lnTo>
                      <a:pt x="557" y="1534"/>
                    </a:lnTo>
                    <a:lnTo>
                      <a:pt x="550" y="1523"/>
                    </a:lnTo>
                    <a:lnTo>
                      <a:pt x="550" y="1523"/>
                    </a:lnTo>
                    <a:lnTo>
                      <a:pt x="539" y="1498"/>
                    </a:lnTo>
                    <a:lnTo>
                      <a:pt x="529" y="1474"/>
                    </a:lnTo>
                    <a:lnTo>
                      <a:pt x="522" y="1450"/>
                    </a:lnTo>
                    <a:lnTo>
                      <a:pt x="515" y="1426"/>
                    </a:lnTo>
                    <a:lnTo>
                      <a:pt x="510" y="1402"/>
                    </a:lnTo>
                    <a:lnTo>
                      <a:pt x="506" y="1378"/>
                    </a:lnTo>
                    <a:lnTo>
                      <a:pt x="498" y="1330"/>
                    </a:lnTo>
                    <a:lnTo>
                      <a:pt x="498" y="1330"/>
                    </a:lnTo>
                    <a:lnTo>
                      <a:pt x="493" y="1302"/>
                    </a:lnTo>
                    <a:lnTo>
                      <a:pt x="489" y="1275"/>
                    </a:lnTo>
                    <a:lnTo>
                      <a:pt x="483" y="1225"/>
                    </a:lnTo>
                    <a:lnTo>
                      <a:pt x="483" y="1225"/>
                    </a:lnTo>
                    <a:lnTo>
                      <a:pt x="489" y="1234"/>
                    </a:lnTo>
                    <a:lnTo>
                      <a:pt x="496" y="1244"/>
                    </a:lnTo>
                    <a:lnTo>
                      <a:pt x="502" y="1253"/>
                    </a:lnTo>
                    <a:lnTo>
                      <a:pt x="505" y="1258"/>
                    </a:lnTo>
                    <a:lnTo>
                      <a:pt x="507" y="1261"/>
                    </a:lnTo>
                    <a:lnTo>
                      <a:pt x="507" y="1261"/>
                    </a:lnTo>
                    <a:lnTo>
                      <a:pt x="517" y="1300"/>
                    </a:lnTo>
                    <a:lnTo>
                      <a:pt x="530" y="1341"/>
                    </a:lnTo>
                    <a:lnTo>
                      <a:pt x="558" y="1426"/>
                    </a:lnTo>
                    <a:lnTo>
                      <a:pt x="586" y="1512"/>
                    </a:lnTo>
                    <a:lnTo>
                      <a:pt x="611" y="1590"/>
                    </a:lnTo>
                    <a:lnTo>
                      <a:pt x="611" y="1590"/>
                    </a:lnTo>
                    <a:lnTo>
                      <a:pt x="607" y="1583"/>
                    </a:lnTo>
                    <a:lnTo>
                      <a:pt x="602" y="1578"/>
                    </a:lnTo>
                    <a:lnTo>
                      <a:pt x="589" y="1564"/>
                    </a:lnTo>
                    <a:lnTo>
                      <a:pt x="575" y="1552"/>
                    </a:lnTo>
                    <a:lnTo>
                      <a:pt x="562" y="1539"/>
                    </a:lnTo>
                    <a:lnTo>
                      <a:pt x="562" y="1539"/>
                    </a:lnTo>
                    <a:lnTo>
                      <a:pt x="568" y="1547"/>
                    </a:lnTo>
                    <a:lnTo>
                      <a:pt x="576" y="1556"/>
                    </a:lnTo>
                    <a:lnTo>
                      <a:pt x="594" y="1573"/>
                    </a:lnTo>
                    <a:lnTo>
                      <a:pt x="602" y="1583"/>
                    </a:lnTo>
                    <a:lnTo>
                      <a:pt x="610" y="1593"/>
                    </a:lnTo>
                    <a:lnTo>
                      <a:pt x="617" y="1602"/>
                    </a:lnTo>
                    <a:lnTo>
                      <a:pt x="622" y="1612"/>
                    </a:lnTo>
                    <a:lnTo>
                      <a:pt x="622" y="1612"/>
                    </a:lnTo>
                    <a:lnTo>
                      <a:pt x="632" y="1639"/>
                    </a:lnTo>
                    <a:lnTo>
                      <a:pt x="642" y="1667"/>
                    </a:lnTo>
                    <a:lnTo>
                      <a:pt x="652" y="1697"/>
                    </a:lnTo>
                    <a:lnTo>
                      <a:pt x="664" y="1727"/>
                    </a:lnTo>
                    <a:lnTo>
                      <a:pt x="664" y="1727"/>
                    </a:lnTo>
                    <a:lnTo>
                      <a:pt x="658" y="1723"/>
                    </a:lnTo>
                    <a:lnTo>
                      <a:pt x="653" y="1720"/>
                    </a:lnTo>
                    <a:lnTo>
                      <a:pt x="649" y="1715"/>
                    </a:lnTo>
                    <a:lnTo>
                      <a:pt x="646" y="1711"/>
                    </a:lnTo>
                    <a:lnTo>
                      <a:pt x="640" y="1702"/>
                    </a:lnTo>
                    <a:lnTo>
                      <a:pt x="634" y="1692"/>
                    </a:lnTo>
                    <a:lnTo>
                      <a:pt x="634" y="1692"/>
                    </a:lnTo>
                    <a:close/>
                    <a:moveTo>
                      <a:pt x="690" y="1725"/>
                    </a:moveTo>
                    <a:lnTo>
                      <a:pt x="690" y="1725"/>
                    </a:lnTo>
                    <a:lnTo>
                      <a:pt x="673" y="1687"/>
                    </a:lnTo>
                    <a:lnTo>
                      <a:pt x="666" y="1667"/>
                    </a:lnTo>
                    <a:lnTo>
                      <a:pt x="660" y="1649"/>
                    </a:lnTo>
                    <a:lnTo>
                      <a:pt x="660" y="1649"/>
                    </a:lnTo>
                    <a:lnTo>
                      <a:pt x="697" y="1689"/>
                    </a:lnTo>
                    <a:lnTo>
                      <a:pt x="697" y="1689"/>
                    </a:lnTo>
                    <a:lnTo>
                      <a:pt x="693" y="1707"/>
                    </a:lnTo>
                    <a:lnTo>
                      <a:pt x="692" y="1716"/>
                    </a:lnTo>
                    <a:lnTo>
                      <a:pt x="690" y="1725"/>
                    </a:lnTo>
                    <a:lnTo>
                      <a:pt x="690" y="1725"/>
                    </a:lnTo>
                    <a:close/>
                    <a:moveTo>
                      <a:pt x="700" y="1682"/>
                    </a:moveTo>
                    <a:lnTo>
                      <a:pt x="700" y="1682"/>
                    </a:lnTo>
                    <a:lnTo>
                      <a:pt x="691" y="1675"/>
                    </a:lnTo>
                    <a:lnTo>
                      <a:pt x="683" y="1669"/>
                    </a:lnTo>
                    <a:lnTo>
                      <a:pt x="675" y="1662"/>
                    </a:lnTo>
                    <a:lnTo>
                      <a:pt x="669" y="1654"/>
                    </a:lnTo>
                    <a:lnTo>
                      <a:pt x="658" y="1639"/>
                    </a:lnTo>
                    <a:lnTo>
                      <a:pt x="649" y="1622"/>
                    </a:lnTo>
                    <a:lnTo>
                      <a:pt x="641" y="1605"/>
                    </a:lnTo>
                    <a:lnTo>
                      <a:pt x="633" y="1587"/>
                    </a:lnTo>
                    <a:lnTo>
                      <a:pt x="618" y="1546"/>
                    </a:lnTo>
                    <a:lnTo>
                      <a:pt x="618" y="1546"/>
                    </a:lnTo>
                    <a:lnTo>
                      <a:pt x="566" y="1412"/>
                    </a:lnTo>
                    <a:lnTo>
                      <a:pt x="541" y="1345"/>
                    </a:lnTo>
                    <a:lnTo>
                      <a:pt x="530" y="1314"/>
                    </a:lnTo>
                    <a:lnTo>
                      <a:pt x="521" y="1286"/>
                    </a:lnTo>
                    <a:lnTo>
                      <a:pt x="521" y="1286"/>
                    </a:lnTo>
                    <a:lnTo>
                      <a:pt x="546" y="1328"/>
                    </a:lnTo>
                    <a:lnTo>
                      <a:pt x="573" y="1376"/>
                    </a:lnTo>
                    <a:lnTo>
                      <a:pt x="573" y="1376"/>
                    </a:lnTo>
                    <a:lnTo>
                      <a:pt x="597" y="1420"/>
                    </a:lnTo>
                    <a:lnTo>
                      <a:pt x="611" y="1442"/>
                    </a:lnTo>
                    <a:lnTo>
                      <a:pt x="618" y="1452"/>
                    </a:lnTo>
                    <a:lnTo>
                      <a:pt x="625" y="1460"/>
                    </a:lnTo>
                    <a:lnTo>
                      <a:pt x="625" y="1460"/>
                    </a:lnTo>
                    <a:lnTo>
                      <a:pt x="631" y="1464"/>
                    </a:lnTo>
                    <a:lnTo>
                      <a:pt x="638" y="1468"/>
                    </a:lnTo>
                    <a:lnTo>
                      <a:pt x="642" y="1471"/>
                    </a:lnTo>
                    <a:lnTo>
                      <a:pt x="647" y="1476"/>
                    </a:lnTo>
                    <a:lnTo>
                      <a:pt x="647" y="1476"/>
                    </a:lnTo>
                    <a:lnTo>
                      <a:pt x="649" y="1480"/>
                    </a:lnTo>
                    <a:lnTo>
                      <a:pt x="650" y="1485"/>
                    </a:lnTo>
                    <a:lnTo>
                      <a:pt x="652" y="1496"/>
                    </a:lnTo>
                    <a:lnTo>
                      <a:pt x="655" y="1509"/>
                    </a:lnTo>
                    <a:lnTo>
                      <a:pt x="657" y="1520"/>
                    </a:lnTo>
                    <a:lnTo>
                      <a:pt x="657" y="1520"/>
                    </a:lnTo>
                    <a:lnTo>
                      <a:pt x="663" y="1540"/>
                    </a:lnTo>
                    <a:lnTo>
                      <a:pt x="671" y="1563"/>
                    </a:lnTo>
                    <a:lnTo>
                      <a:pt x="688" y="1610"/>
                    </a:lnTo>
                    <a:lnTo>
                      <a:pt x="694" y="1631"/>
                    </a:lnTo>
                    <a:lnTo>
                      <a:pt x="699" y="1650"/>
                    </a:lnTo>
                    <a:lnTo>
                      <a:pt x="701" y="1660"/>
                    </a:lnTo>
                    <a:lnTo>
                      <a:pt x="701" y="1669"/>
                    </a:lnTo>
                    <a:lnTo>
                      <a:pt x="701" y="1675"/>
                    </a:lnTo>
                    <a:lnTo>
                      <a:pt x="700" y="1682"/>
                    </a:lnTo>
                    <a:lnTo>
                      <a:pt x="700" y="1682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43"/>
              <p:cNvSpPr/>
              <p:nvPr/>
            </p:nvSpPr>
            <p:spPr>
              <a:xfrm>
                <a:off x="8209440" y="6563160"/>
                <a:ext cx="145080" cy="294840"/>
              </a:xfrm>
              <a:custGeom>
                <a:avLst/>
                <a:gdLst/>
                <a:ahLst/>
                <a:rect l="l" t="t" r="r" b="b"/>
                <a:pathLst>
                  <a:path w="190" h="555">
                    <a:moveTo>
                      <a:pt x="57" y="446"/>
                    </a:moveTo>
                    <a:lnTo>
                      <a:pt x="57" y="446"/>
                    </a:lnTo>
                    <a:lnTo>
                      <a:pt x="59" y="453"/>
                    </a:lnTo>
                    <a:lnTo>
                      <a:pt x="61" y="460"/>
                    </a:lnTo>
                    <a:lnTo>
                      <a:pt x="64" y="476"/>
                    </a:lnTo>
                    <a:lnTo>
                      <a:pt x="65" y="491"/>
                    </a:lnTo>
                    <a:lnTo>
                      <a:pt x="66" y="507"/>
                    </a:lnTo>
                    <a:lnTo>
                      <a:pt x="66" y="507"/>
                    </a:lnTo>
                    <a:lnTo>
                      <a:pt x="71" y="531"/>
                    </a:lnTo>
                    <a:lnTo>
                      <a:pt x="78" y="555"/>
                    </a:lnTo>
                    <a:lnTo>
                      <a:pt x="100" y="555"/>
                    </a:lnTo>
                    <a:lnTo>
                      <a:pt x="100" y="555"/>
                    </a:lnTo>
                    <a:lnTo>
                      <a:pt x="90" y="511"/>
                    </a:lnTo>
                    <a:lnTo>
                      <a:pt x="86" y="489"/>
                    </a:lnTo>
                    <a:lnTo>
                      <a:pt x="83" y="469"/>
                    </a:lnTo>
                    <a:lnTo>
                      <a:pt x="83" y="469"/>
                    </a:lnTo>
                    <a:lnTo>
                      <a:pt x="132" y="512"/>
                    </a:lnTo>
                    <a:lnTo>
                      <a:pt x="180" y="555"/>
                    </a:lnTo>
                    <a:lnTo>
                      <a:pt x="190" y="555"/>
                    </a:lnTo>
                    <a:lnTo>
                      <a:pt x="190" y="555"/>
                    </a:lnTo>
                    <a:lnTo>
                      <a:pt x="126" y="501"/>
                    </a:lnTo>
                    <a:lnTo>
                      <a:pt x="126" y="501"/>
                    </a:lnTo>
                    <a:lnTo>
                      <a:pt x="99" y="478"/>
                    </a:lnTo>
                    <a:lnTo>
                      <a:pt x="86" y="468"/>
                    </a:lnTo>
                    <a:lnTo>
                      <a:pt x="82" y="462"/>
                    </a:lnTo>
                    <a:lnTo>
                      <a:pt x="78" y="457"/>
                    </a:lnTo>
                    <a:lnTo>
                      <a:pt x="78" y="457"/>
                    </a:lnTo>
                    <a:lnTo>
                      <a:pt x="77" y="452"/>
                    </a:lnTo>
                    <a:lnTo>
                      <a:pt x="76" y="445"/>
                    </a:lnTo>
                    <a:lnTo>
                      <a:pt x="76" y="437"/>
                    </a:lnTo>
                    <a:lnTo>
                      <a:pt x="75" y="429"/>
                    </a:lnTo>
                    <a:lnTo>
                      <a:pt x="75" y="429"/>
                    </a:lnTo>
                    <a:lnTo>
                      <a:pt x="53" y="314"/>
                    </a:lnTo>
                    <a:lnTo>
                      <a:pt x="43" y="258"/>
                    </a:lnTo>
                    <a:lnTo>
                      <a:pt x="34" y="202"/>
                    </a:lnTo>
                    <a:lnTo>
                      <a:pt x="27" y="147"/>
                    </a:lnTo>
                    <a:lnTo>
                      <a:pt x="23" y="95"/>
                    </a:lnTo>
                    <a:lnTo>
                      <a:pt x="20" y="45"/>
                    </a:lnTo>
                    <a:lnTo>
                      <a:pt x="20" y="23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25"/>
                    </a:lnTo>
                    <a:lnTo>
                      <a:pt x="18" y="50"/>
                    </a:lnTo>
                    <a:lnTo>
                      <a:pt x="18" y="76"/>
                    </a:lnTo>
                    <a:lnTo>
                      <a:pt x="18" y="102"/>
                    </a:lnTo>
                    <a:lnTo>
                      <a:pt x="22" y="155"/>
                    </a:lnTo>
                    <a:lnTo>
                      <a:pt x="26" y="211"/>
                    </a:lnTo>
                    <a:lnTo>
                      <a:pt x="33" y="267"/>
                    </a:lnTo>
                    <a:lnTo>
                      <a:pt x="40" y="323"/>
                    </a:lnTo>
                    <a:lnTo>
                      <a:pt x="53" y="438"/>
                    </a:lnTo>
                    <a:lnTo>
                      <a:pt x="53" y="438"/>
                    </a:lnTo>
                    <a:lnTo>
                      <a:pt x="26" y="413"/>
                    </a:lnTo>
                    <a:lnTo>
                      <a:pt x="12" y="402"/>
                    </a:lnTo>
                    <a:lnTo>
                      <a:pt x="0" y="393"/>
                    </a:lnTo>
                    <a:lnTo>
                      <a:pt x="0" y="393"/>
                    </a:lnTo>
                    <a:lnTo>
                      <a:pt x="6" y="399"/>
                    </a:lnTo>
                    <a:lnTo>
                      <a:pt x="12" y="406"/>
                    </a:lnTo>
                    <a:lnTo>
                      <a:pt x="29" y="420"/>
                    </a:lnTo>
                    <a:lnTo>
                      <a:pt x="45" y="432"/>
                    </a:lnTo>
                    <a:lnTo>
                      <a:pt x="51" y="439"/>
                    </a:lnTo>
                    <a:lnTo>
                      <a:pt x="57" y="446"/>
                    </a:lnTo>
                    <a:lnTo>
                      <a:pt x="57" y="44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44"/>
              <p:cNvSpPr/>
              <p:nvPr/>
            </p:nvSpPr>
            <p:spPr>
              <a:xfrm>
                <a:off x="7747560" y="6617160"/>
                <a:ext cx="261360" cy="240840"/>
              </a:xfrm>
              <a:custGeom>
                <a:avLst/>
                <a:gdLst/>
                <a:ahLst/>
                <a:rect l="l" t="t" r="r" b="b"/>
                <a:pathLst>
                  <a:path w="341" h="454">
                    <a:moveTo>
                      <a:pt x="0" y="0"/>
                    </a:moveTo>
                    <a:lnTo>
                      <a:pt x="0" y="0"/>
                    </a:lnTo>
                    <a:lnTo>
                      <a:pt x="27" y="31"/>
                    </a:lnTo>
                    <a:lnTo>
                      <a:pt x="54" y="63"/>
                    </a:lnTo>
                    <a:lnTo>
                      <a:pt x="81" y="96"/>
                    </a:lnTo>
                    <a:lnTo>
                      <a:pt x="107" y="129"/>
                    </a:lnTo>
                    <a:lnTo>
                      <a:pt x="131" y="163"/>
                    </a:lnTo>
                    <a:lnTo>
                      <a:pt x="156" y="199"/>
                    </a:lnTo>
                    <a:lnTo>
                      <a:pt x="202" y="269"/>
                    </a:lnTo>
                    <a:lnTo>
                      <a:pt x="202" y="269"/>
                    </a:lnTo>
                    <a:lnTo>
                      <a:pt x="263" y="361"/>
                    </a:lnTo>
                    <a:lnTo>
                      <a:pt x="294" y="407"/>
                    </a:lnTo>
                    <a:lnTo>
                      <a:pt x="324" y="454"/>
                    </a:lnTo>
                    <a:lnTo>
                      <a:pt x="341" y="454"/>
                    </a:lnTo>
                    <a:lnTo>
                      <a:pt x="341" y="454"/>
                    </a:lnTo>
                    <a:lnTo>
                      <a:pt x="303" y="397"/>
                    </a:lnTo>
                    <a:lnTo>
                      <a:pt x="265" y="342"/>
                    </a:lnTo>
                    <a:lnTo>
                      <a:pt x="225" y="286"/>
                    </a:lnTo>
                    <a:lnTo>
                      <a:pt x="185" y="230"/>
                    </a:lnTo>
                    <a:lnTo>
                      <a:pt x="185" y="230"/>
                    </a:lnTo>
                    <a:lnTo>
                      <a:pt x="142" y="170"/>
                    </a:lnTo>
                    <a:lnTo>
                      <a:pt x="98" y="111"/>
                    </a:lnTo>
                    <a:lnTo>
                      <a:pt x="75" y="83"/>
                    </a:lnTo>
                    <a:lnTo>
                      <a:pt x="51" y="54"/>
                    </a:lnTo>
                    <a:lnTo>
                      <a:pt x="26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45"/>
              <p:cNvSpPr/>
              <p:nvPr/>
            </p:nvSpPr>
            <p:spPr>
              <a:xfrm>
                <a:off x="7918920" y="6598080"/>
                <a:ext cx="344160" cy="259920"/>
              </a:xfrm>
              <a:custGeom>
                <a:avLst/>
                <a:gdLst/>
                <a:ahLst/>
                <a:rect l="l" t="t" r="r" b="b"/>
                <a:pathLst>
                  <a:path w="449" h="490">
                    <a:moveTo>
                      <a:pt x="255" y="490"/>
                    </a:moveTo>
                    <a:lnTo>
                      <a:pt x="279" y="490"/>
                    </a:lnTo>
                    <a:lnTo>
                      <a:pt x="279" y="490"/>
                    </a:lnTo>
                    <a:lnTo>
                      <a:pt x="280" y="431"/>
                    </a:lnTo>
                    <a:lnTo>
                      <a:pt x="283" y="373"/>
                    </a:lnTo>
                    <a:lnTo>
                      <a:pt x="287" y="317"/>
                    </a:lnTo>
                    <a:lnTo>
                      <a:pt x="291" y="264"/>
                    </a:lnTo>
                    <a:lnTo>
                      <a:pt x="291" y="264"/>
                    </a:lnTo>
                    <a:lnTo>
                      <a:pt x="318" y="302"/>
                    </a:lnTo>
                    <a:lnTo>
                      <a:pt x="344" y="340"/>
                    </a:lnTo>
                    <a:lnTo>
                      <a:pt x="356" y="359"/>
                    </a:lnTo>
                    <a:lnTo>
                      <a:pt x="369" y="379"/>
                    </a:lnTo>
                    <a:lnTo>
                      <a:pt x="380" y="398"/>
                    </a:lnTo>
                    <a:lnTo>
                      <a:pt x="390" y="417"/>
                    </a:lnTo>
                    <a:lnTo>
                      <a:pt x="390" y="417"/>
                    </a:lnTo>
                    <a:lnTo>
                      <a:pt x="370" y="394"/>
                    </a:lnTo>
                    <a:lnTo>
                      <a:pt x="349" y="370"/>
                    </a:lnTo>
                    <a:lnTo>
                      <a:pt x="338" y="358"/>
                    </a:lnTo>
                    <a:lnTo>
                      <a:pt x="325" y="347"/>
                    </a:lnTo>
                    <a:lnTo>
                      <a:pt x="313" y="338"/>
                    </a:lnTo>
                    <a:lnTo>
                      <a:pt x="298" y="329"/>
                    </a:lnTo>
                    <a:lnTo>
                      <a:pt x="298" y="329"/>
                    </a:lnTo>
                    <a:lnTo>
                      <a:pt x="319" y="345"/>
                    </a:lnTo>
                    <a:lnTo>
                      <a:pt x="337" y="363"/>
                    </a:lnTo>
                    <a:lnTo>
                      <a:pt x="355" y="381"/>
                    </a:lnTo>
                    <a:lnTo>
                      <a:pt x="372" y="401"/>
                    </a:lnTo>
                    <a:lnTo>
                      <a:pt x="388" y="423"/>
                    </a:lnTo>
                    <a:lnTo>
                      <a:pt x="404" y="445"/>
                    </a:lnTo>
                    <a:lnTo>
                      <a:pt x="419" y="467"/>
                    </a:lnTo>
                    <a:lnTo>
                      <a:pt x="433" y="490"/>
                    </a:lnTo>
                    <a:lnTo>
                      <a:pt x="449" y="490"/>
                    </a:lnTo>
                    <a:lnTo>
                      <a:pt x="449" y="490"/>
                    </a:lnTo>
                    <a:lnTo>
                      <a:pt x="444" y="481"/>
                    </a:lnTo>
                    <a:lnTo>
                      <a:pt x="439" y="471"/>
                    </a:lnTo>
                    <a:lnTo>
                      <a:pt x="437" y="463"/>
                    </a:lnTo>
                    <a:lnTo>
                      <a:pt x="437" y="459"/>
                    </a:lnTo>
                    <a:lnTo>
                      <a:pt x="438" y="456"/>
                    </a:lnTo>
                    <a:lnTo>
                      <a:pt x="438" y="456"/>
                    </a:lnTo>
                    <a:lnTo>
                      <a:pt x="429" y="445"/>
                    </a:lnTo>
                    <a:lnTo>
                      <a:pt x="421" y="433"/>
                    </a:lnTo>
                    <a:lnTo>
                      <a:pt x="413" y="421"/>
                    </a:lnTo>
                    <a:lnTo>
                      <a:pt x="406" y="408"/>
                    </a:lnTo>
                    <a:lnTo>
                      <a:pt x="395" y="381"/>
                    </a:lnTo>
                    <a:lnTo>
                      <a:pt x="384" y="353"/>
                    </a:lnTo>
                    <a:lnTo>
                      <a:pt x="384" y="353"/>
                    </a:lnTo>
                    <a:lnTo>
                      <a:pt x="367" y="306"/>
                    </a:lnTo>
                    <a:lnTo>
                      <a:pt x="349" y="258"/>
                    </a:lnTo>
                    <a:lnTo>
                      <a:pt x="332" y="213"/>
                    </a:lnTo>
                    <a:lnTo>
                      <a:pt x="319" y="172"/>
                    </a:lnTo>
                    <a:lnTo>
                      <a:pt x="319" y="172"/>
                    </a:lnTo>
                    <a:lnTo>
                      <a:pt x="323" y="193"/>
                    </a:lnTo>
                    <a:lnTo>
                      <a:pt x="330" y="213"/>
                    </a:lnTo>
                    <a:lnTo>
                      <a:pt x="344" y="255"/>
                    </a:lnTo>
                    <a:lnTo>
                      <a:pt x="358" y="298"/>
                    </a:lnTo>
                    <a:lnTo>
                      <a:pt x="371" y="340"/>
                    </a:lnTo>
                    <a:lnTo>
                      <a:pt x="371" y="340"/>
                    </a:lnTo>
                    <a:lnTo>
                      <a:pt x="352" y="298"/>
                    </a:lnTo>
                    <a:lnTo>
                      <a:pt x="342" y="278"/>
                    </a:lnTo>
                    <a:lnTo>
                      <a:pt x="331" y="258"/>
                    </a:lnTo>
                    <a:lnTo>
                      <a:pt x="331" y="258"/>
                    </a:lnTo>
                    <a:lnTo>
                      <a:pt x="344" y="288"/>
                    </a:lnTo>
                    <a:lnTo>
                      <a:pt x="357" y="317"/>
                    </a:lnTo>
                    <a:lnTo>
                      <a:pt x="371" y="347"/>
                    </a:lnTo>
                    <a:lnTo>
                      <a:pt x="382" y="375"/>
                    </a:lnTo>
                    <a:lnTo>
                      <a:pt x="382" y="375"/>
                    </a:lnTo>
                    <a:lnTo>
                      <a:pt x="361" y="342"/>
                    </a:lnTo>
                    <a:lnTo>
                      <a:pt x="338" y="311"/>
                    </a:lnTo>
                    <a:lnTo>
                      <a:pt x="338" y="311"/>
                    </a:lnTo>
                    <a:lnTo>
                      <a:pt x="325" y="295"/>
                    </a:lnTo>
                    <a:lnTo>
                      <a:pt x="312" y="279"/>
                    </a:lnTo>
                    <a:lnTo>
                      <a:pt x="299" y="262"/>
                    </a:lnTo>
                    <a:lnTo>
                      <a:pt x="295" y="254"/>
                    </a:lnTo>
                    <a:lnTo>
                      <a:pt x="291" y="247"/>
                    </a:lnTo>
                    <a:lnTo>
                      <a:pt x="291" y="247"/>
                    </a:lnTo>
                    <a:lnTo>
                      <a:pt x="290" y="243"/>
                    </a:lnTo>
                    <a:lnTo>
                      <a:pt x="290" y="238"/>
                    </a:lnTo>
                    <a:lnTo>
                      <a:pt x="290" y="229"/>
                    </a:lnTo>
                    <a:lnTo>
                      <a:pt x="293" y="210"/>
                    </a:lnTo>
                    <a:lnTo>
                      <a:pt x="293" y="210"/>
                    </a:lnTo>
                    <a:lnTo>
                      <a:pt x="298" y="132"/>
                    </a:lnTo>
                    <a:lnTo>
                      <a:pt x="299" y="96"/>
                    </a:lnTo>
                    <a:lnTo>
                      <a:pt x="300" y="77"/>
                    </a:lnTo>
                    <a:lnTo>
                      <a:pt x="299" y="59"/>
                    </a:lnTo>
                    <a:lnTo>
                      <a:pt x="299" y="59"/>
                    </a:lnTo>
                    <a:lnTo>
                      <a:pt x="290" y="145"/>
                    </a:lnTo>
                    <a:lnTo>
                      <a:pt x="286" y="188"/>
                    </a:lnTo>
                    <a:lnTo>
                      <a:pt x="282" y="232"/>
                    </a:lnTo>
                    <a:lnTo>
                      <a:pt x="282" y="232"/>
                    </a:lnTo>
                    <a:lnTo>
                      <a:pt x="275" y="225"/>
                    </a:lnTo>
                    <a:lnTo>
                      <a:pt x="269" y="219"/>
                    </a:lnTo>
                    <a:lnTo>
                      <a:pt x="257" y="204"/>
                    </a:lnTo>
                    <a:lnTo>
                      <a:pt x="236" y="173"/>
                    </a:lnTo>
                    <a:lnTo>
                      <a:pt x="236" y="173"/>
                    </a:lnTo>
                    <a:lnTo>
                      <a:pt x="223" y="159"/>
                    </a:lnTo>
                    <a:lnTo>
                      <a:pt x="211" y="143"/>
                    </a:lnTo>
                    <a:lnTo>
                      <a:pt x="198" y="127"/>
                    </a:lnTo>
                    <a:lnTo>
                      <a:pt x="194" y="119"/>
                    </a:lnTo>
                    <a:lnTo>
                      <a:pt x="190" y="112"/>
                    </a:lnTo>
                    <a:lnTo>
                      <a:pt x="190" y="112"/>
                    </a:lnTo>
                    <a:lnTo>
                      <a:pt x="189" y="105"/>
                    </a:lnTo>
                    <a:lnTo>
                      <a:pt x="189" y="98"/>
                    </a:lnTo>
                    <a:lnTo>
                      <a:pt x="189" y="84"/>
                    </a:lnTo>
                    <a:lnTo>
                      <a:pt x="189" y="84"/>
                    </a:lnTo>
                    <a:lnTo>
                      <a:pt x="186" y="42"/>
                    </a:lnTo>
                    <a:lnTo>
                      <a:pt x="185" y="20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48"/>
                    </a:lnTo>
                    <a:lnTo>
                      <a:pt x="182" y="72"/>
                    </a:lnTo>
                    <a:lnTo>
                      <a:pt x="184" y="97"/>
                    </a:lnTo>
                    <a:lnTo>
                      <a:pt x="184" y="97"/>
                    </a:lnTo>
                    <a:lnTo>
                      <a:pt x="178" y="93"/>
                    </a:lnTo>
                    <a:lnTo>
                      <a:pt x="172" y="86"/>
                    </a:lnTo>
                    <a:lnTo>
                      <a:pt x="162" y="73"/>
                    </a:lnTo>
                    <a:lnTo>
                      <a:pt x="153" y="60"/>
                    </a:lnTo>
                    <a:lnTo>
                      <a:pt x="147" y="53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6" y="55"/>
                    </a:lnTo>
                    <a:lnTo>
                      <a:pt x="151" y="62"/>
                    </a:lnTo>
                    <a:lnTo>
                      <a:pt x="163" y="78"/>
                    </a:lnTo>
                    <a:lnTo>
                      <a:pt x="174" y="94"/>
                    </a:lnTo>
                    <a:lnTo>
                      <a:pt x="180" y="102"/>
                    </a:lnTo>
                    <a:lnTo>
                      <a:pt x="184" y="110"/>
                    </a:lnTo>
                    <a:lnTo>
                      <a:pt x="184" y="110"/>
                    </a:lnTo>
                    <a:lnTo>
                      <a:pt x="185" y="120"/>
                    </a:lnTo>
                    <a:lnTo>
                      <a:pt x="185" y="130"/>
                    </a:lnTo>
                    <a:lnTo>
                      <a:pt x="185" y="154"/>
                    </a:lnTo>
                    <a:lnTo>
                      <a:pt x="185" y="154"/>
                    </a:lnTo>
                    <a:lnTo>
                      <a:pt x="184" y="230"/>
                    </a:lnTo>
                    <a:lnTo>
                      <a:pt x="182" y="308"/>
                    </a:lnTo>
                    <a:lnTo>
                      <a:pt x="182" y="387"/>
                    </a:lnTo>
                    <a:lnTo>
                      <a:pt x="184" y="425"/>
                    </a:lnTo>
                    <a:lnTo>
                      <a:pt x="186" y="464"/>
                    </a:lnTo>
                    <a:lnTo>
                      <a:pt x="186" y="464"/>
                    </a:lnTo>
                    <a:lnTo>
                      <a:pt x="176" y="430"/>
                    </a:lnTo>
                    <a:lnTo>
                      <a:pt x="168" y="396"/>
                    </a:lnTo>
                    <a:lnTo>
                      <a:pt x="161" y="362"/>
                    </a:lnTo>
                    <a:lnTo>
                      <a:pt x="155" y="329"/>
                    </a:lnTo>
                    <a:lnTo>
                      <a:pt x="149" y="295"/>
                    </a:lnTo>
                    <a:lnTo>
                      <a:pt x="143" y="262"/>
                    </a:lnTo>
                    <a:lnTo>
                      <a:pt x="136" y="228"/>
                    </a:lnTo>
                    <a:lnTo>
                      <a:pt x="126" y="195"/>
                    </a:lnTo>
                    <a:lnTo>
                      <a:pt x="126" y="195"/>
                    </a:lnTo>
                    <a:lnTo>
                      <a:pt x="130" y="224"/>
                    </a:lnTo>
                    <a:lnTo>
                      <a:pt x="136" y="254"/>
                    </a:lnTo>
                    <a:lnTo>
                      <a:pt x="148" y="317"/>
                    </a:lnTo>
                    <a:lnTo>
                      <a:pt x="161" y="380"/>
                    </a:lnTo>
                    <a:lnTo>
                      <a:pt x="165" y="409"/>
                    </a:lnTo>
                    <a:lnTo>
                      <a:pt x="170" y="439"/>
                    </a:lnTo>
                    <a:lnTo>
                      <a:pt x="170" y="439"/>
                    </a:lnTo>
                    <a:lnTo>
                      <a:pt x="156" y="405"/>
                    </a:lnTo>
                    <a:lnTo>
                      <a:pt x="142" y="372"/>
                    </a:lnTo>
                    <a:lnTo>
                      <a:pt x="126" y="339"/>
                    </a:lnTo>
                    <a:lnTo>
                      <a:pt x="110" y="306"/>
                    </a:lnTo>
                    <a:lnTo>
                      <a:pt x="93" y="275"/>
                    </a:lnTo>
                    <a:lnTo>
                      <a:pt x="75" y="244"/>
                    </a:lnTo>
                    <a:lnTo>
                      <a:pt x="56" y="214"/>
                    </a:lnTo>
                    <a:lnTo>
                      <a:pt x="38" y="183"/>
                    </a:lnTo>
                    <a:lnTo>
                      <a:pt x="38" y="183"/>
                    </a:lnTo>
                    <a:lnTo>
                      <a:pt x="75" y="253"/>
                    </a:lnTo>
                    <a:lnTo>
                      <a:pt x="111" y="325"/>
                    </a:lnTo>
                    <a:lnTo>
                      <a:pt x="145" y="397"/>
                    </a:lnTo>
                    <a:lnTo>
                      <a:pt x="177" y="468"/>
                    </a:lnTo>
                    <a:lnTo>
                      <a:pt x="177" y="468"/>
                    </a:lnTo>
                    <a:lnTo>
                      <a:pt x="149" y="434"/>
                    </a:lnTo>
                    <a:lnTo>
                      <a:pt x="135" y="416"/>
                    </a:lnTo>
                    <a:lnTo>
                      <a:pt x="120" y="398"/>
                    </a:lnTo>
                    <a:lnTo>
                      <a:pt x="120" y="398"/>
                    </a:lnTo>
                    <a:lnTo>
                      <a:pt x="93" y="361"/>
                    </a:lnTo>
                    <a:lnTo>
                      <a:pt x="79" y="341"/>
                    </a:lnTo>
                    <a:lnTo>
                      <a:pt x="69" y="323"/>
                    </a:lnTo>
                    <a:lnTo>
                      <a:pt x="69" y="323"/>
                    </a:lnTo>
                    <a:lnTo>
                      <a:pt x="58" y="300"/>
                    </a:lnTo>
                    <a:lnTo>
                      <a:pt x="50" y="277"/>
                    </a:lnTo>
                    <a:lnTo>
                      <a:pt x="35" y="231"/>
                    </a:lnTo>
                    <a:lnTo>
                      <a:pt x="27" y="208"/>
                    </a:lnTo>
                    <a:lnTo>
                      <a:pt x="19" y="186"/>
                    </a:lnTo>
                    <a:lnTo>
                      <a:pt x="10" y="162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2" y="208"/>
                    </a:lnTo>
                    <a:lnTo>
                      <a:pt x="47" y="278"/>
                    </a:lnTo>
                    <a:lnTo>
                      <a:pt x="71" y="346"/>
                    </a:lnTo>
                    <a:lnTo>
                      <a:pt x="83" y="380"/>
                    </a:lnTo>
                    <a:lnTo>
                      <a:pt x="92" y="414"/>
                    </a:lnTo>
                    <a:lnTo>
                      <a:pt x="92" y="414"/>
                    </a:lnTo>
                    <a:lnTo>
                      <a:pt x="90" y="412"/>
                    </a:lnTo>
                    <a:lnTo>
                      <a:pt x="90" y="408"/>
                    </a:lnTo>
                    <a:lnTo>
                      <a:pt x="89" y="406"/>
                    </a:lnTo>
                    <a:lnTo>
                      <a:pt x="87" y="404"/>
                    </a:lnTo>
                    <a:lnTo>
                      <a:pt x="87" y="404"/>
                    </a:lnTo>
                    <a:lnTo>
                      <a:pt x="95" y="425"/>
                    </a:lnTo>
                    <a:lnTo>
                      <a:pt x="104" y="448"/>
                    </a:lnTo>
                    <a:lnTo>
                      <a:pt x="122" y="490"/>
                    </a:lnTo>
                    <a:lnTo>
                      <a:pt x="136" y="490"/>
                    </a:lnTo>
                    <a:lnTo>
                      <a:pt x="136" y="490"/>
                    </a:lnTo>
                    <a:lnTo>
                      <a:pt x="106" y="417"/>
                    </a:lnTo>
                    <a:lnTo>
                      <a:pt x="93" y="381"/>
                    </a:lnTo>
                    <a:lnTo>
                      <a:pt x="80" y="346"/>
                    </a:lnTo>
                    <a:lnTo>
                      <a:pt x="80" y="346"/>
                    </a:lnTo>
                    <a:lnTo>
                      <a:pt x="103" y="383"/>
                    </a:lnTo>
                    <a:lnTo>
                      <a:pt x="128" y="420"/>
                    </a:lnTo>
                    <a:lnTo>
                      <a:pt x="178" y="490"/>
                    </a:lnTo>
                    <a:lnTo>
                      <a:pt x="213" y="490"/>
                    </a:lnTo>
                    <a:lnTo>
                      <a:pt x="213" y="490"/>
                    </a:lnTo>
                    <a:lnTo>
                      <a:pt x="211" y="473"/>
                    </a:lnTo>
                    <a:lnTo>
                      <a:pt x="211" y="473"/>
                    </a:lnTo>
                    <a:lnTo>
                      <a:pt x="211" y="460"/>
                    </a:lnTo>
                    <a:lnTo>
                      <a:pt x="211" y="447"/>
                    </a:lnTo>
                    <a:lnTo>
                      <a:pt x="213" y="434"/>
                    </a:lnTo>
                    <a:lnTo>
                      <a:pt x="215" y="422"/>
                    </a:lnTo>
                    <a:lnTo>
                      <a:pt x="221" y="397"/>
                    </a:lnTo>
                    <a:lnTo>
                      <a:pt x="226" y="371"/>
                    </a:lnTo>
                    <a:lnTo>
                      <a:pt x="226" y="371"/>
                    </a:lnTo>
                    <a:lnTo>
                      <a:pt x="229" y="345"/>
                    </a:lnTo>
                    <a:lnTo>
                      <a:pt x="231" y="319"/>
                    </a:lnTo>
                    <a:lnTo>
                      <a:pt x="232" y="292"/>
                    </a:lnTo>
                    <a:lnTo>
                      <a:pt x="232" y="279"/>
                    </a:lnTo>
                    <a:lnTo>
                      <a:pt x="232" y="266"/>
                    </a:lnTo>
                    <a:lnTo>
                      <a:pt x="232" y="266"/>
                    </a:lnTo>
                    <a:lnTo>
                      <a:pt x="222" y="350"/>
                    </a:lnTo>
                    <a:lnTo>
                      <a:pt x="215" y="390"/>
                    </a:lnTo>
                    <a:lnTo>
                      <a:pt x="211" y="411"/>
                    </a:lnTo>
                    <a:lnTo>
                      <a:pt x="206" y="430"/>
                    </a:lnTo>
                    <a:lnTo>
                      <a:pt x="206" y="430"/>
                    </a:lnTo>
                    <a:lnTo>
                      <a:pt x="202" y="390"/>
                    </a:lnTo>
                    <a:lnTo>
                      <a:pt x="199" y="350"/>
                    </a:lnTo>
                    <a:lnTo>
                      <a:pt x="196" y="273"/>
                    </a:lnTo>
                    <a:lnTo>
                      <a:pt x="194" y="197"/>
                    </a:lnTo>
                    <a:lnTo>
                      <a:pt x="194" y="123"/>
                    </a:lnTo>
                    <a:lnTo>
                      <a:pt x="194" y="123"/>
                    </a:lnTo>
                    <a:lnTo>
                      <a:pt x="238" y="186"/>
                    </a:lnTo>
                    <a:lnTo>
                      <a:pt x="238" y="186"/>
                    </a:lnTo>
                    <a:lnTo>
                      <a:pt x="262" y="218"/>
                    </a:lnTo>
                    <a:lnTo>
                      <a:pt x="273" y="233"/>
                    </a:lnTo>
                    <a:lnTo>
                      <a:pt x="277" y="240"/>
                    </a:lnTo>
                    <a:lnTo>
                      <a:pt x="279" y="247"/>
                    </a:lnTo>
                    <a:lnTo>
                      <a:pt x="279" y="247"/>
                    </a:lnTo>
                    <a:lnTo>
                      <a:pt x="280" y="250"/>
                    </a:lnTo>
                    <a:lnTo>
                      <a:pt x="280" y="255"/>
                    </a:lnTo>
                    <a:lnTo>
                      <a:pt x="279" y="265"/>
                    </a:lnTo>
                    <a:lnTo>
                      <a:pt x="277" y="275"/>
                    </a:lnTo>
                    <a:lnTo>
                      <a:pt x="274" y="285"/>
                    </a:lnTo>
                    <a:lnTo>
                      <a:pt x="274" y="285"/>
                    </a:lnTo>
                    <a:lnTo>
                      <a:pt x="264" y="388"/>
                    </a:lnTo>
                    <a:lnTo>
                      <a:pt x="255" y="490"/>
                    </a:lnTo>
                    <a:lnTo>
                      <a:pt x="255" y="49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46"/>
              <p:cNvSpPr/>
              <p:nvPr/>
            </p:nvSpPr>
            <p:spPr>
              <a:xfrm>
                <a:off x="7355880" y="6780600"/>
                <a:ext cx="34920" cy="77400"/>
              </a:xfrm>
              <a:custGeom>
                <a:avLst/>
                <a:gdLst/>
                <a:ahLst/>
                <a:rect l="l" t="t" r="r" b="b"/>
                <a:pathLst>
                  <a:path w="46" h="145">
                    <a:moveTo>
                      <a:pt x="0" y="0"/>
                    </a:moveTo>
                    <a:lnTo>
                      <a:pt x="0" y="0"/>
                    </a:lnTo>
                    <a:lnTo>
                      <a:pt x="8" y="35"/>
                    </a:lnTo>
                    <a:lnTo>
                      <a:pt x="17" y="71"/>
                    </a:lnTo>
                    <a:lnTo>
                      <a:pt x="37" y="145"/>
                    </a:lnTo>
                    <a:lnTo>
                      <a:pt x="46" y="145"/>
                    </a:lnTo>
                    <a:lnTo>
                      <a:pt x="46" y="145"/>
                    </a:lnTo>
                    <a:lnTo>
                      <a:pt x="24" y="71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47"/>
              <p:cNvSpPr/>
              <p:nvPr/>
            </p:nvSpPr>
            <p:spPr>
              <a:xfrm>
                <a:off x="7418520" y="68295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14" h="54">
                    <a:moveTo>
                      <a:pt x="0" y="0"/>
                    </a:moveTo>
                    <a:lnTo>
                      <a:pt x="0" y="0"/>
                    </a:lnTo>
                    <a:lnTo>
                      <a:pt x="4" y="27"/>
                    </a:lnTo>
                    <a:lnTo>
                      <a:pt x="10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2" y="42"/>
                    </a:lnTo>
                    <a:lnTo>
                      <a:pt x="9" y="28"/>
                    </a:lnTo>
                    <a:lnTo>
                      <a:pt x="5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48"/>
              <p:cNvSpPr/>
              <p:nvPr/>
            </p:nvSpPr>
            <p:spPr>
              <a:xfrm>
                <a:off x="8596440" y="6753240"/>
                <a:ext cx="53280" cy="104760"/>
              </a:xfrm>
              <a:custGeom>
                <a:avLst/>
                <a:gdLst/>
                <a:ahLst/>
                <a:rect l="l" t="t" r="r" b="b"/>
                <a:pathLst>
                  <a:path w="70" h="199">
                    <a:moveTo>
                      <a:pt x="0" y="0"/>
                    </a:moveTo>
                    <a:lnTo>
                      <a:pt x="0" y="0"/>
                    </a:lnTo>
                    <a:lnTo>
                      <a:pt x="14" y="50"/>
                    </a:lnTo>
                    <a:lnTo>
                      <a:pt x="30" y="100"/>
                    </a:lnTo>
                    <a:lnTo>
                      <a:pt x="46" y="150"/>
                    </a:lnTo>
                    <a:lnTo>
                      <a:pt x="60" y="199"/>
                    </a:lnTo>
                    <a:lnTo>
                      <a:pt x="70" y="199"/>
                    </a:lnTo>
                    <a:lnTo>
                      <a:pt x="70" y="199"/>
                    </a:lnTo>
                    <a:lnTo>
                      <a:pt x="38" y="99"/>
                    </a:lnTo>
                    <a:lnTo>
                      <a:pt x="19" y="50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49"/>
              <p:cNvSpPr/>
              <p:nvPr/>
            </p:nvSpPr>
            <p:spPr>
              <a:xfrm>
                <a:off x="8870400" y="6655320"/>
                <a:ext cx="273600" cy="100800"/>
              </a:xfrm>
              <a:custGeom>
                <a:avLst/>
                <a:gdLst/>
                <a:ahLst/>
                <a:rect l="l" t="t" r="r" b="b"/>
                <a:pathLst>
                  <a:path w="357" h="189">
                    <a:moveTo>
                      <a:pt x="0" y="0"/>
                    </a:moveTo>
                    <a:lnTo>
                      <a:pt x="0" y="0"/>
                    </a:lnTo>
                    <a:lnTo>
                      <a:pt x="90" y="48"/>
                    </a:lnTo>
                    <a:lnTo>
                      <a:pt x="179" y="95"/>
                    </a:lnTo>
                    <a:lnTo>
                      <a:pt x="357" y="189"/>
                    </a:lnTo>
                    <a:lnTo>
                      <a:pt x="357" y="178"/>
                    </a:lnTo>
                    <a:lnTo>
                      <a:pt x="357" y="178"/>
                    </a:lnTo>
                    <a:lnTo>
                      <a:pt x="178" y="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50"/>
              <p:cNvSpPr/>
              <p:nvPr/>
            </p:nvSpPr>
            <p:spPr>
              <a:xfrm>
                <a:off x="8334720" y="682416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0" y="0"/>
                    </a:moveTo>
                    <a:lnTo>
                      <a:pt x="0" y="0"/>
                    </a:lnTo>
                    <a:lnTo>
                      <a:pt x="25" y="33"/>
                    </a:lnTo>
                    <a:lnTo>
                      <a:pt x="53" y="65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29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51"/>
              <p:cNvSpPr/>
              <p:nvPr/>
            </p:nvSpPr>
            <p:spPr>
              <a:xfrm>
                <a:off x="8548920" y="6843240"/>
                <a:ext cx="30240" cy="1476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7" y="27"/>
                    </a:moveTo>
                    <a:lnTo>
                      <a:pt x="7" y="27"/>
                    </a:lnTo>
                    <a:lnTo>
                      <a:pt x="24" y="13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8" y="13"/>
                    </a:lnTo>
                    <a:lnTo>
                      <a:pt x="0" y="27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52"/>
              <p:cNvSpPr/>
              <p:nvPr/>
            </p:nvSpPr>
            <p:spPr>
              <a:xfrm>
                <a:off x="9064800" y="6811560"/>
                <a:ext cx="5760" cy="46440"/>
              </a:xfrm>
              <a:custGeom>
                <a:avLst/>
                <a:gdLst/>
                <a:ahLst/>
                <a:rect l="l" t="t" r="r" b="b"/>
                <a:pathLst>
                  <a:path w="8" h="87">
                    <a:moveTo>
                      <a:pt x="8" y="87"/>
                    </a:moveTo>
                    <a:lnTo>
                      <a:pt x="8" y="87"/>
                    </a:lnTo>
                    <a:lnTo>
                      <a:pt x="6" y="44"/>
                    </a:lnTo>
                    <a:lnTo>
                      <a:pt x="5" y="2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44"/>
                    </a:lnTo>
                    <a:lnTo>
                      <a:pt x="0" y="87"/>
                    </a:lnTo>
                    <a:lnTo>
                      <a:pt x="8" y="87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53"/>
              <p:cNvSpPr/>
              <p:nvPr/>
            </p:nvSpPr>
            <p:spPr>
              <a:xfrm>
                <a:off x="7233480" y="6832800"/>
                <a:ext cx="21240" cy="25200"/>
              </a:xfrm>
              <a:custGeom>
                <a:avLst/>
                <a:gdLst/>
                <a:ahLst/>
                <a:rect l="l" t="t" r="r" b="b"/>
                <a:pathLst>
                  <a:path w="26" h="49">
                    <a:moveTo>
                      <a:pt x="0" y="0"/>
                    </a:moveTo>
                    <a:lnTo>
                      <a:pt x="0" y="0"/>
                    </a:lnTo>
                    <a:lnTo>
                      <a:pt x="11" y="25"/>
                    </a:lnTo>
                    <a:lnTo>
                      <a:pt x="20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15" y="24"/>
                    </a:lnTo>
                    <a:lnTo>
                      <a:pt x="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54"/>
              <p:cNvSpPr/>
              <p:nvPr/>
            </p:nvSpPr>
            <p:spPr>
              <a:xfrm>
                <a:off x="6173280" y="5715000"/>
                <a:ext cx="1401120" cy="1143000"/>
              </a:xfrm>
              <a:custGeom>
                <a:avLst/>
                <a:gdLst/>
                <a:ahLst/>
                <a:rect l="l" t="t" r="r" b="b"/>
                <a:pathLst>
                  <a:path w="1831" h="2153">
                    <a:moveTo>
                      <a:pt x="1470" y="2153"/>
                    </a:moveTo>
                    <a:lnTo>
                      <a:pt x="1470" y="2153"/>
                    </a:lnTo>
                    <a:lnTo>
                      <a:pt x="1456" y="2139"/>
                    </a:lnTo>
                    <a:lnTo>
                      <a:pt x="1452" y="2134"/>
                    </a:lnTo>
                    <a:lnTo>
                      <a:pt x="1448" y="2129"/>
                    </a:lnTo>
                    <a:lnTo>
                      <a:pt x="1448" y="2129"/>
                    </a:lnTo>
                    <a:lnTo>
                      <a:pt x="1447" y="2123"/>
                    </a:lnTo>
                    <a:lnTo>
                      <a:pt x="1447" y="2117"/>
                    </a:lnTo>
                    <a:lnTo>
                      <a:pt x="1447" y="2103"/>
                    </a:lnTo>
                    <a:lnTo>
                      <a:pt x="1450" y="2088"/>
                    </a:lnTo>
                    <a:lnTo>
                      <a:pt x="1451" y="2075"/>
                    </a:lnTo>
                    <a:lnTo>
                      <a:pt x="1451" y="2075"/>
                    </a:lnTo>
                    <a:lnTo>
                      <a:pt x="1451" y="2033"/>
                    </a:lnTo>
                    <a:lnTo>
                      <a:pt x="1451" y="1988"/>
                    </a:lnTo>
                    <a:lnTo>
                      <a:pt x="1450" y="1945"/>
                    </a:lnTo>
                    <a:lnTo>
                      <a:pt x="1450" y="1906"/>
                    </a:lnTo>
                    <a:lnTo>
                      <a:pt x="1450" y="1906"/>
                    </a:lnTo>
                    <a:lnTo>
                      <a:pt x="1465" y="1918"/>
                    </a:lnTo>
                    <a:lnTo>
                      <a:pt x="1481" y="1932"/>
                    </a:lnTo>
                    <a:lnTo>
                      <a:pt x="1518" y="1965"/>
                    </a:lnTo>
                    <a:lnTo>
                      <a:pt x="1518" y="1965"/>
                    </a:lnTo>
                    <a:lnTo>
                      <a:pt x="1553" y="1995"/>
                    </a:lnTo>
                    <a:lnTo>
                      <a:pt x="1570" y="2010"/>
                    </a:lnTo>
                    <a:lnTo>
                      <a:pt x="1576" y="2017"/>
                    </a:lnTo>
                    <a:lnTo>
                      <a:pt x="1580" y="2022"/>
                    </a:lnTo>
                    <a:lnTo>
                      <a:pt x="1580" y="2022"/>
                    </a:lnTo>
                    <a:lnTo>
                      <a:pt x="1585" y="2033"/>
                    </a:lnTo>
                    <a:lnTo>
                      <a:pt x="1587" y="2043"/>
                    </a:lnTo>
                    <a:lnTo>
                      <a:pt x="1588" y="2053"/>
                    </a:lnTo>
                    <a:lnTo>
                      <a:pt x="1590" y="2062"/>
                    </a:lnTo>
                    <a:lnTo>
                      <a:pt x="1590" y="2062"/>
                    </a:lnTo>
                    <a:lnTo>
                      <a:pt x="1605" y="2108"/>
                    </a:lnTo>
                    <a:lnTo>
                      <a:pt x="1619" y="2153"/>
                    </a:lnTo>
                    <a:lnTo>
                      <a:pt x="1624" y="2153"/>
                    </a:lnTo>
                    <a:lnTo>
                      <a:pt x="1624" y="2153"/>
                    </a:lnTo>
                    <a:lnTo>
                      <a:pt x="1616" y="2121"/>
                    </a:lnTo>
                    <a:lnTo>
                      <a:pt x="1607" y="2089"/>
                    </a:lnTo>
                    <a:lnTo>
                      <a:pt x="1598" y="2058"/>
                    </a:lnTo>
                    <a:lnTo>
                      <a:pt x="1587" y="2028"/>
                    </a:lnTo>
                    <a:lnTo>
                      <a:pt x="1587" y="2028"/>
                    </a:lnTo>
                    <a:lnTo>
                      <a:pt x="1599" y="2039"/>
                    </a:lnTo>
                    <a:lnTo>
                      <a:pt x="1614" y="2051"/>
                    </a:lnTo>
                    <a:lnTo>
                      <a:pt x="1643" y="2074"/>
                    </a:lnTo>
                    <a:lnTo>
                      <a:pt x="1643" y="2074"/>
                    </a:lnTo>
                    <a:lnTo>
                      <a:pt x="1666" y="2096"/>
                    </a:lnTo>
                    <a:lnTo>
                      <a:pt x="1678" y="2109"/>
                    </a:lnTo>
                    <a:lnTo>
                      <a:pt x="1681" y="2113"/>
                    </a:lnTo>
                    <a:lnTo>
                      <a:pt x="1683" y="2118"/>
                    </a:lnTo>
                    <a:lnTo>
                      <a:pt x="1683" y="2118"/>
                    </a:lnTo>
                    <a:lnTo>
                      <a:pt x="1683" y="2120"/>
                    </a:lnTo>
                    <a:lnTo>
                      <a:pt x="1683" y="2122"/>
                    </a:lnTo>
                    <a:lnTo>
                      <a:pt x="1680" y="2127"/>
                    </a:lnTo>
                    <a:lnTo>
                      <a:pt x="1677" y="2133"/>
                    </a:lnTo>
                    <a:lnTo>
                      <a:pt x="1674" y="2137"/>
                    </a:lnTo>
                    <a:lnTo>
                      <a:pt x="1674" y="2137"/>
                    </a:lnTo>
                    <a:lnTo>
                      <a:pt x="1667" y="2153"/>
                    </a:lnTo>
                    <a:lnTo>
                      <a:pt x="1680" y="2153"/>
                    </a:lnTo>
                    <a:lnTo>
                      <a:pt x="1680" y="2153"/>
                    </a:lnTo>
                    <a:lnTo>
                      <a:pt x="1686" y="2138"/>
                    </a:lnTo>
                    <a:lnTo>
                      <a:pt x="1691" y="2126"/>
                    </a:lnTo>
                    <a:lnTo>
                      <a:pt x="1691" y="2126"/>
                    </a:lnTo>
                    <a:lnTo>
                      <a:pt x="1691" y="2125"/>
                    </a:lnTo>
                    <a:lnTo>
                      <a:pt x="1692" y="2125"/>
                    </a:lnTo>
                    <a:lnTo>
                      <a:pt x="1692" y="2125"/>
                    </a:lnTo>
                    <a:lnTo>
                      <a:pt x="1699" y="2131"/>
                    </a:lnTo>
                    <a:lnTo>
                      <a:pt x="1708" y="2138"/>
                    </a:lnTo>
                    <a:lnTo>
                      <a:pt x="1717" y="2145"/>
                    </a:lnTo>
                    <a:lnTo>
                      <a:pt x="1725" y="2153"/>
                    </a:lnTo>
                    <a:lnTo>
                      <a:pt x="1741" y="2153"/>
                    </a:lnTo>
                    <a:lnTo>
                      <a:pt x="1741" y="2153"/>
                    </a:lnTo>
                    <a:lnTo>
                      <a:pt x="1739" y="2151"/>
                    </a:lnTo>
                    <a:lnTo>
                      <a:pt x="1739" y="2151"/>
                    </a:lnTo>
                    <a:lnTo>
                      <a:pt x="1736" y="2142"/>
                    </a:lnTo>
                    <a:lnTo>
                      <a:pt x="1734" y="2133"/>
                    </a:lnTo>
                    <a:lnTo>
                      <a:pt x="1734" y="2123"/>
                    </a:lnTo>
                    <a:lnTo>
                      <a:pt x="1736" y="2116"/>
                    </a:lnTo>
                    <a:lnTo>
                      <a:pt x="1737" y="2106"/>
                    </a:lnTo>
                    <a:lnTo>
                      <a:pt x="1737" y="2099"/>
                    </a:lnTo>
                    <a:lnTo>
                      <a:pt x="1736" y="2091"/>
                    </a:lnTo>
                    <a:lnTo>
                      <a:pt x="1733" y="2083"/>
                    </a:lnTo>
                    <a:lnTo>
                      <a:pt x="1733" y="2083"/>
                    </a:lnTo>
                    <a:lnTo>
                      <a:pt x="1739" y="2084"/>
                    </a:lnTo>
                    <a:lnTo>
                      <a:pt x="1739" y="2084"/>
                    </a:lnTo>
                    <a:lnTo>
                      <a:pt x="1780" y="2119"/>
                    </a:lnTo>
                    <a:lnTo>
                      <a:pt x="1822" y="2153"/>
                    </a:lnTo>
                    <a:lnTo>
                      <a:pt x="1831" y="2153"/>
                    </a:lnTo>
                    <a:lnTo>
                      <a:pt x="1831" y="2153"/>
                    </a:lnTo>
                    <a:lnTo>
                      <a:pt x="1781" y="2113"/>
                    </a:lnTo>
                    <a:lnTo>
                      <a:pt x="1734" y="2072"/>
                    </a:lnTo>
                    <a:lnTo>
                      <a:pt x="1734" y="2072"/>
                    </a:lnTo>
                    <a:lnTo>
                      <a:pt x="1736" y="2068"/>
                    </a:lnTo>
                    <a:lnTo>
                      <a:pt x="1736" y="2063"/>
                    </a:lnTo>
                    <a:lnTo>
                      <a:pt x="1736" y="2058"/>
                    </a:lnTo>
                    <a:lnTo>
                      <a:pt x="1734" y="2054"/>
                    </a:lnTo>
                    <a:lnTo>
                      <a:pt x="1732" y="2052"/>
                    </a:lnTo>
                    <a:lnTo>
                      <a:pt x="1732" y="2052"/>
                    </a:lnTo>
                    <a:lnTo>
                      <a:pt x="1732" y="2062"/>
                    </a:lnTo>
                    <a:lnTo>
                      <a:pt x="1731" y="2067"/>
                    </a:lnTo>
                    <a:lnTo>
                      <a:pt x="1730" y="2069"/>
                    </a:lnTo>
                    <a:lnTo>
                      <a:pt x="1728" y="2070"/>
                    </a:lnTo>
                    <a:lnTo>
                      <a:pt x="1728" y="2070"/>
                    </a:lnTo>
                    <a:lnTo>
                      <a:pt x="1724" y="2067"/>
                    </a:lnTo>
                    <a:lnTo>
                      <a:pt x="1723" y="2062"/>
                    </a:lnTo>
                    <a:lnTo>
                      <a:pt x="1723" y="2059"/>
                    </a:lnTo>
                    <a:lnTo>
                      <a:pt x="1724" y="2057"/>
                    </a:lnTo>
                    <a:lnTo>
                      <a:pt x="1727" y="2053"/>
                    </a:lnTo>
                    <a:lnTo>
                      <a:pt x="1730" y="2051"/>
                    </a:lnTo>
                    <a:lnTo>
                      <a:pt x="1732" y="2050"/>
                    </a:lnTo>
                    <a:lnTo>
                      <a:pt x="1736" y="2050"/>
                    </a:lnTo>
                    <a:lnTo>
                      <a:pt x="1736" y="2050"/>
                    </a:lnTo>
                    <a:lnTo>
                      <a:pt x="1736" y="2044"/>
                    </a:lnTo>
                    <a:lnTo>
                      <a:pt x="1737" y="2039"/>
                    </a:lnTo>
                    <a:lnTo>
                      <a:pt x="1741" y="2030"/>
                    </a:lnTo>
                    <a:lnTo>
                      <a:pt x="1746" y="2021"/>
                    </a:lnTo>
                    <a:lnTo>
                      <a:pt x="1747" y="2017"/>
                    </a:lnTo>
                    <a:lnTo>
                      <a:pt x="1747" y="2012"/>
                    </a:lnTo>
                    <a:lnTo>
                      <a:pt x="1747" y="2012"/>
                    </a:lnTo>
                    <a:lnTo>
                      <a:pt x="1738" y="2024"/>
                    </a:lnTo>
                    <a:lnTo>
                      <a:pt x="1731" y="2036"/>
                    </a:lnTo>
                    <a:lnTo>
                      <a:pt x="1724" y="2049"/>
                    </a:lnTo>
                    <a:lnTo>
                      <a:pt x="1716" y="2060"/>
                    </a:lnTo>
                    <a:lnTo>
                      <a:pt x="1716" y="2060"/>
                    </a:lnTo>
                    <a:lnTo>
                      <a:pt x="1670" y="2024"/>
                    </a:lnTo>
                    <a:lnTo>
                      <a:pt x="1646" y="2005"/>
                    </a:lnTo>
                    <a:lnTo>
                      <a:pt x="1623" y="1991"/>
                    </a:lnTo>
                    <a:lnTo>
                      <a:pt x="1623" y="1991"/>
                    </a:lnTo>
                    <a:lnTo>
                      <a:pt x="1646" y="2009"/>
                    </a:lnTo>
                    <a:lnTo>
                      <a:pt x="1670" y="2027"/>
                    </a:lnTo>
                    <a:lnTo>
                      <a:pt x="1692" y="2045"/>
                    </a:lnTo>
                    <a:lnTo>
                      <a:pt x="1714" y="2064"/>
                    </a:lnTo>
                    <a:lnTo>
                      <a:pt x="1714" y="2064"/>
                    </a:lnTo>
                    <a:lnTo>
                      <a:pt x="1702" y="2086"/>
                    </a:lnTo>
                    <a:lnTo>
                      <a:pt x="1696" y="2096"/>
                    </a:lnTo>
                    <a:lnTo>
                      <a:pt x="1690" y="2106"/>
                    </a:lnTo>
                    <a:lnTo>
                      <a:pt x="1690" y="2106"/>
                    </a:lnTo>
                    <a:lnTo>
                      <a:pt x="1677" y="2096"/>
                    </a:lnTo>
                    <a:lnTo>
                      <a:pt x="1663" y="2085"/>
                    </a:lnTo>
                    <a:lnTo>
                      <a:pt x="1635" y="2061"/>
                    </a:lnTo>
                    <a:lnTo>
                      <a:pt x="1635" y="2061"/>
                    </a:lnTo>
                    <a:lnTo>
                      <a:pt x="1603" y="2035"/>
                    </a:lnTo>
                    <a:lnTo>
                      <a:pt x="1588" y="2022"/>
                    </a:lnTo>
                    <a:lnTo>
                      <a:pt x="1582" y="2017"/>
                    </a:lnTo>
                    <a:lnTo>
                      <a:pt x="1579" y="2012"/>
                    </a:lnTo>
                    <a:lnTo>
                      <a:pt x="1579" y="2012"/>
                    </a:lnTo>
                    <a:lnTo>
                      <a:pt x="1573" y="2000"/>
                    </a:lnTo>
                    <a:lnTo>
                      <a:pt x="1569" y="1987"/>
                    </a:lnTo>
                    <a:lnTo>
                      <a:pt x="1566" y="1974"/>
                    </a:lnTo>
                    <a:lnTo>
                      <a:pt x="1564" y="1961"/>
                    </a:lnTo>
                    <a:lnTo>
                      <a:pt x="1561" y="1949"/>
                    </a:lnTo>
                    <a:lnTo>
                      <a:pt x="1557" y="1935"/>
                    </a:lnTo>
                    <a:lnTo>
                      <a:pt x="1553" y="1923"/>
                    </a:lnTo>
                    <a:lnTo>
                      <a:pt x="1545" y="1909"/>
                    </a:lnTo>
                    <a:lnTo>
                      <a:pt x="1545" y="1909"/>
                    </a:lnTo>
                    <a:lnTo>
                      <a:pt x="1547" y="1923"/>
                    </a:lnTo>
                    <a:lnTo>
                      <a:pt x="1552" y="1935"/>
                    </a:lnTo>
                    <a:lnTo>
                      <a:pt x="1560" y="1960"/>
                    </a:lnTo>
                    <a:lnTo>
                      <a:pt x="1569" y="1985"/>
                    </a:lnTo>
                    <a:lnTo>
                      <a:pt x="1571" y="1996"/>
                    </a:lnTo>
                    <a:lnTo>
                      <a:pt x="1573" y="2009"/>
                    </a:lnTo>
                    <a:lnTo>
                      <a:pt x="1573" y="2009"/>
                    </a:lnTo>
                    <a:lnTo>
                      <a:pt x="1541" y="1980"/>
                    </a:lnTo>
                    <a:lnTo>
                      <a:pt x="1510" y="1953"/>
                    </a:lnTo>
                    <a:lnTo>
                      <a:pt x="1446" y="1900"/>
                    </a:lnTo>
                    <a:lnTo>
                      <a:pt x="1446" y="1900"/>
                    </a:lnTo>
                    <a:lnTo>
                      <a:pt x="1446" y="1893"/>
                    </a:lnTo>
                    <a:lnTo>
                      <a:pt x="1445" y="1885"/>
                    </a:lnTo>
                    <a:lnTo>
                      <a:pt x="1442" y="1870"/>
                    </a:lnTo>
                    <a:lnTo>
                      <a:pt x="1439" y="1857"/>
                    </a:lnTo>
                    <a:lnTo>
                      <a:pt x="1438" y="1851"/>
                    </a:lnTo>
                    <a:lnTo>
                      <a:pt x="1439" y="1845"/>
                    </a:lnTo>
                    <a:lnTo>
                      <a:pt x="1439" y="1845"/>
                    </a:lnTo>
                    <a:lnTo>
                      <a:pt x="1444" y="1837"/>
                    </a:lnTo>
                    <a:lnTo>
                      <a:pt x="1450" y="1831"/>
                    </a:lnTo>
                    <a:lnTo>
                      <a:pt x="1462" y="1815"/>
                    </a:lnTo>
                    <a:lnTo>
                      <a:pt x="1474" y="1800"/>
                    </a:lnTo>
                    <a:lnTo>
                      <a:pt x="1479" y="1792"/>
                    </a:lnTo>
                    <a:lnTo>
                      <a:pt x="1484" y="1783"/>
                    </a:lnTo>
                    <a:lnTo>
                      <a:pt x="1484" y="1783"/>
                    </a:lnTo>
                    <a:lnTo>
                      <a:pt x="1477" y="1789"/>
                    </a:lnTo>
                    <a:lnTo>
                      <a:pt x="1471" y="1795"/>
                    </a:lnTo>
                    <a:lnTo>
                      <a:pt x="1460" y="1808"/>
                    </a:lnTo>
                    <a:lnTo>
                      <a:pt x="1450" y="1822"/>
                    </a:lnTo>
                    <a:lnTo>
                      <a:pt x="1444" y="1827"/>
                    </a:lnTo>
                    <a:lnTo>
                      <a:pt x="1436" y="1832"/>
                    </a:lnTo>
                    <a:lnTo>
                      <a:pt x="1436" y="1832"/>
                    </a:lnTo>
                    <a:lnTo>
                      <a:pt x="1435" y="1828"/>
                    </a:lnTo>
                    <a:lnTo>
                      <a:pt x="1435" y="1825"/>
                    </a:lnTo>
                    <a:lnTo>
                      <a:pt x="1434" y="1820"/>
                    </a:lnTo>
                    <a:lnTo>
                      <a:pt x="1430" y="1818"/>
                    </a:lnTo>
                    <a:lnTo>
                      <a:pt x="1430" y="1818"/>
                    </a:lnTo>
                    <a:lnTo>
                      <a:pt x="1432" y="1828"/>
                    </a:lnTo>
                    <a:lnTo>
                      <a:pt x="1432" y="1836"/>
                    </a:lnTo>
                    <a:lnTo>
                      <a:pt x="1430" y="1842"/>
                    </a:lnTo>
                    <a:lnTo>
                      <a:pt x="1427" y="1848"/>
                    </a:lnTo>
                    <a:lnTo>
                      <a:pt x="1422" y="1852"/>
                    </a:lnTo>
                    <a:lnTo>
                      <a:pt x="1417" y="1857"/>
                    </a:lnTo>
                    <a:lnTo>
                      <a:pt x="1411" y="1861"/>
                    </a:lnTo>
                    <a:lnTo>
                      <a:pt x="1406" y="1866"/>
                    </a:lnTo>
                    <a:lnTo>
                      <a:pt x="1406" y="1866"/>
                    </a:lnTo>
                    <a:lnTo>
                      <a:pt x="1373" y="1840"/>
                    </a:lnTo>
                    <a:lnTo>
                      <a:pt x="1341" y="1814"/>
                    </a:lnTo>
                    <a:lnTo>
                      <a:pt x="1341" y="1814"/>
                    </a:lnTo>
                    <a:lnTo>
                      <a:pt x="1325" y="1802"/>
                    </a:lnTo>
                    <a:lnTo>
                      <a:pt x="1305" y="1790"/>
                    </a:lnTo>
                    <a:lnTo>
                      <a:pt x="1287" y="1776"/>
                    </a:lnTo>
                    <a:lnTo>
                      <a:pt x="1280" y="1770"/>
                    </a:lnTo>
                    <a:lnTo>
                      <a:pt x="1275" y="1764"/>
                    </a:lnTo>
                    <a:lnTo>
                      <a:pt x="1275" y="1764"/>
                    </a:lnTo>
                    <a:lnTo>
                      <a:pt x="1270" y="1755"/>
                    </a:lnTo>
                    <a:lnTo>
                      <a:pt x="1267" y="1743"/>
                    </a:lnTo>
                    <a:lnTo>
                      <a:pt x="1261" y="1720"/>
                    </a:lnTo>
                    <a:lnTo>
                      <a:pt x="1261" y="1720"/>
                    </a:lnTo>
                    <a:lnTo>
                      <a:pt x="1244" y="1658"/>
                    </a:lnTo>
                    <a:lnTo>
                      <a:pt x="1227" y="1594"/>
                    </a:lnTo>
                    <a:lnTo>
                      <a:pt x="1218" y="1563"/>
                    </a:lnTo>
                    <a:lnTo>
                      <a:pt x="1209" y="1531"/>
                    </a:lnTo>
                    <a:lnTo>
                      <a:pt x="1199" y="1501"/>
                    </a:lnTo>
                    <a:lnTo>
                      <a:pt x="1187" y="1474"/>
                    </a:lnTo>
                    <a:lnTo>
                      <a:pt x="1187" y="1474"/>
                    </a:lnTo>
                    <a:lnTo>
                      <a:pt x="1191" y="1489"/>
                    </a:lnTo>
                    <a:lnTo>
                      <a:pt x="1193" y="1503"/>
                    </a:lnTo>
                    <a:lnTo>
                      <a:pt x="1201" y="1531"/>
                    </a:lnTo>
                    <a:lnTo>
                      <a:pt x="1209" y="1558"/>
                    </a:lnTo>
                    <a:lnTo>
                      <a:pt x="1211" y="1572"/>
                    </a:lnTo>
                    <a:lnTo>
                      <a:pt x="1213" y="1584"/>
                    </a:lnTo>
                    <a:lnTo>
                      <a:pt x="1213" y="1584"/>
                    </a:lnTo>
                    <a:lnTo>
                      <a:pt x="1213" y="1598"/>
                    </a:lnTo>
                    <a:lnTo>
                      <a:pt x="1212" y="1610"/>
                    </a:lnTo>
                    <a:lnTo>
                      <a:pt x="1209" y="1623"/>
                    </a:lnTo>
                    <a:lnTo>
                      <a:pt x="1205" y="1635"/>
                    </a:lnTo>
                    <a:lnTo>
                      <a:pt x="1199" y="1658"/>
                    </a:lnTo>
                    <a:lnTo>
                      <a:pt x="1196" y="1671"/>
                    </a:lnTo>
                    <a:lnTo>
                      <a:pt x="1194" y="1682"/>
                    </a:lnTo>
                    <a:lnTo>
                      <a:pt x="1194" y="1682"/>
                    </a:lnTo>
                    <a:lnTo>
                      <a:pt x="1185" y="1656"/>
                    </a:lnTo>
                    <a:lnTo>
                      <a:pt x="1176" y="1629"/>
                    </a:lnTo>
                    <a:lnTo>
                      <a:pt x="1166" y="1602"/>
                    </a:lnTo>
                    <a:lnTo>
                      <a:pt x="1160" y="1590"/>
                    </a:lnTo>
                    <a:lnTo>
                      <a:pt x="1153" y="1577"/>
                    </a:lnTo>
                    <a:lnTo>
                      <a:pt x="1153" y="1577"/>
                    </a:lnTo>
                    <a:lnTo>
                      <a:pt x="1157" y="1592"/>
                    </a:lnTo>
                    <a:lnTo>
                      <a:pt x="1162" y="1608"/>
                    </a:lnTo>
                    <a:lnTo>
                      <a:pt x="1175" y="1640"/>
                    </a:lnTo>
                    <a:lnTo>
                      <a:pt x="1180" y="1655"/>
                    </a:lnTo>
                    <a:lnTo>
                      <a:pt x="1186" y="1671"/>
                    </a:lnTo>
                    <a:lnTo>
                      <a:pt x="1191" y="1686"/>
                    </a:lnTo>
                    <a:lnTo>
                      <a:pt x="1192" y="1702"/>
                    </a:lnTo>
                    <a:lnTo>
                      <a:pt x="1192" y="1702"/>
                    </a:lnTo>
                    <a:lnTo>
                      <a:pt x="1192" y="1715"/>
                    </a:lnTo>
                    <a:lnTo>
                      <a:pt x="1188" y="1727"/>
                    </a:lnTo>
                    <a:lnTo>
                      <a:pt x="1186" y="1740"/>
                    </a:lnTo>
                    <a:lnTo>
                      <a:pt x="1184" y="1752"/>
                    </a:lnTo>
                    <a:lnTo>
                      <a:pt x="1184" y="1752"/>
                    </a:lnTo>
                    <a:lnTo>
                      <a:pt x="1179" y="1778"/>
                    </a:lnTo>
                    <a:lnTo>
                      <a:pt x="1176" y="1791"/>
                    </a:lnTo>
                    <a:lnTo>
                      <a:pt x="1173" y="1802"/>
                    </a:lnTo>
                    <a:lnTo>
                      <a:pt x="1173" y="1802"/>
                    </a:lnTo>
                    <a:lnTo>
                      <a:pt x="1146" y="1744"/>
                    </a:lnTo>
                    <a:lnTo>
                      <a:pt x="1133" y="1716"/>
                    </a:lnTo>
                    <a:lnTo>
                      <a:pt x="1119" y="1689"/>
                    </a:lnTo>
                    <a:lnTo>
                      <a:pt x="1119" y="1689"/>
                    </a:lnTo>
                    <a:lnTo>
                      <a:pt x="1107" y="1668"/>
                    </a:lnTo>
                    <a:lnTo>
                      <a:pt x="1102" y="1658"/>
                    </a:lnTo>
                    <a:lnTo>
                      <a:pt x="1100" y="1654"/>
                    </a:lnTo>
                    <a:lnTo>
                      <a:pt x="1100" y="1650"/>
                    </a:lnTo>
                    <a:lnTo>
                      <a:pt x="1100" y="1650"/>
                    </a:lnTo>
                    <a:lnTo>
                      <a:pt x="1100" y="1647"/>
                    </a:lnTo>
                    <a:lnTo>
                      <a:pt x="1101" y="1643"/>
                    </a:lnTo>
                    <a:lnTo>
                      <a:pt x="1104" y="1636"/>
                    </a:lnTo>
                    <a:lnTo>
                      <a:pt x="1109" y="1630"/>
                    </a:lnTo>
                    <a:lnTo>
                      <a:pt x="1113" y="1623"/>
                    </a:lnTo>
                    <a:lnTo>
                      <a:pt x="1113" y="1623"/>
                    </a:lnTo>
                    <a:lnTo>
                      <a:pt x="1134" y="1581"/>
                    </a:lnTo>
                    <a:lnTo>
                      <a:pt x="1152" y="1540"/>
                    </a:lnTo>
                    <a:lnTo>
                      <a:pt x="1152" y="1540"/>
                    </a:lnTo>
                    <a:lnTo>
                      <a:pt x="1143" y="1552"/>
                    </a:lnTo>
                    <a:lnTo>
                      <a:pt x="1136" y="1565"/>
                    </a:lnTo>
                    <a:lnTo>
                      <a:pt x="1123" y="1591"/>
                    </a:lnTo>
                    <a:lnTo>
                      <a:pt x="1110" y="1618"/>
                    </a:lnTo>
                    <a:lnTo>
                      <a:pt x="1103" y="1632"/>
                    </a:lnTo>
                    <a:lnTo>
                      <a:pt x="1095" y="1643"/>
                    </a:lnTo>
                    <a:lnTo>
                      <a:pt x="1095" y="1643"/>
                    </a:lnTo>
                    <a:lnTo>
                      <a:pt x="1090" y="1634"/>
                    </a:lnTo>
                    <a:lnTo>
                      <a:pt x="1087" y="1625"/>
                    </a:lnTo>
                    <a:lnTo>
                      <a:pt x="1086" y="1616"/>
                    </a:lnTo>
                    <a:lnTo>
                      <a:pt x="1087" y="1608"/>
                    </a:lnTo>
                    <a:lnTo>
                      <a:pt x="1090" y="1600"/>
                    </a:lnTo>
                    <a:lnTo>
                      <a:pt x="1093" y="1593"/>
                    </a:lnTo>
                    <a:lnTo>
                      <a:pt x="1100" y="1577"/>
                    </a:lnTo>
                    <a:lnTo>
                      <a:pt x="1100" y="1577"/>
                    </a:lnTo>
                    <a:lnTo>
                      <a:pt x="1132" y="1503"/>
                    </a:lnTo>
                    <a:lnTo>
                      <a:pt x="1149" y="1465"/>
                    </a:lnTo>
                    <a:lnTo>
                      <a:pt x="1166" y="1430"/>
                    </a:lnTo>
                    <a:lnTo>
                      <a:pt x="1184" y="1395"/>
                    </a:lnTo>
                    <a:lnTo>
                      <a:pt x="1203" y="1361"/>
                    </a:lnTo>
                    <a:lnTo>
                      <a:pt x="1222" y="1329"/>
                    </a:lnTo>
                    <a:lnTo>
                      <a:pt x="1244" y="1298"/>
                    </a:lnTo>
                    <a:lnTo>
                      <a:pt x="1244" y="1298"/>
                    </a:lnTo>
                    <a:lnTo>
                      <a:pt x="1230" y="1314"/>
                    </a:lnTo>
                    <a:lnTo>
                      <a:pt x="1217" y="1330"/>
                    </a:lnTo>
                    <a:lnTo>
                      <a:pt x="1205" y="1347"/>
                    </a:lnTo>
                    <a:lnTo>
                      <a:pt x="1193" y="1364"/>
                    </a:lnTo>
                    <a:lnTo>
                      <a:pt x="1171" y="1400"/>
                    </a:lnTo>
                    <a:lnTo>
                      <a:pt x="1151" y="1438"/>
                    </a:lnTo>
                    <a:lnTo>
                      <a:pt x="1132" y="1476"/>
                    </a:lnTo>
                    <a:lnTo>
                      <a:pt x="1112" y="1515"/>
                    </a:lnTo>
                    <a:lnTo>
                      <a:pt x="1093" y="1555"/>
                    </a:lnTo>
                    <a:lnTo>
                      <a:pt x="1074" y="1593"/>
                    </a:lnTo>
                    <a:lnTo>
                      <a:pt x="1074" y="1593"/>
                    </a:lnTo>
                    <a:lnTo>
                      <a:pt x="1070" y="1592"/>
                    </a:lnTo>
                    <a:lnTo>
                      <a:pt x="1069" y="1590"/>
                    </a:lnTo>
                    <a:lnTo>
                      <a:pt x="1067" y="1587"/>
                    </a:lnTo>
                    <a:lnTo>
                      <a:pt x="1065" y="1582"/>
                    </a:lnTo>
                    <a:lnTo>
                      <a:pt x="1064" y="1581"/>
                    </a:lnTo>
                    <a:lnTo>
                      <a:pt x="1061" y="1580"/>
                    </a:lnTo>
                    <a:lnTo>
                      <a:pt x="1061" y="1580"/>
                    </a:lnTo>
                    <a:lnTo>
                      <a:pt x="1066" y="1590"/>
                    </a:lnTo>
                    <a:lnTo>
                      <a:pt x="1067" y="1600"/>
                    </a:lnTo>
                    <a:lnTo>
                      <a:pt x="1067" y="1608"/>
                    </a:lnTo>
                    <a:lnTo>
                      <a:pt x="1064" y="1616"/>
                    </a:lnTo>
                    <a:lnTo>
                      <a:pt x="1060" y="1624"/>
                    </a:lnTo>
                    <a:lnTo>
                      <a:pt x="1057" y="1631"/>
                    </a:lnTo>
                    <a:lnTo>
                      <a:pt x="1052" y="1639"/>
                    </a:lnTo>
                    <a:lnTo>
                      <a:pt x="1049" y="1647"/>
                    </a:lnTo>
                    <a:lnTo>
                      <a:pt x="1049" y="1647"/>
                    </a:lnTo>
                    <a:lnTo>
                      <a:pt x="1036" y="1678"/>
                    </a:lnTo>
                    <a:lnTo>
                      <a:pt x="1025" y="1713"/>
                    </a:lnTo>
                    <a:lnTo>
                      <a:pt x="1025" y="1713"/>
                    </a:lnTo>
                    <a:lnTo>
                      <a:pt x="1019" y="1731"/>
                    </a:lnTo>
                    <a:lnTo>
                      <a:pt x="1015" y="1748"/>
                    </a:lnTo>
                    <a:lnTo>
                      <a:pt x="1008" y="1764"/>
                    </a:lnTo>
                    <a:lnTo>
                      <a:pt x="1005" y="1772"/>
                    </a:lnTo>
                    <a:lnTo>
                      <a:pt x="1000" y="1780"/>
                    </a:lnTo>
                    <a:lnTo>
                      <a:pt x="1000" y="1780"/>
                    </a:lnTo>
                    <a:lnTo>
                      <a:pt x="995" y="1751"/>
                    </a:lnTo>
                    <a:lnTo>
                      <a:pt x="992" y="1724"/>
                    </a:lnTo>
                    <a:lnTo>
                      <a:pt x="990" y="1698"/>
                    </a:lnTo>
                    <a:lnTo>
                      <a:pt x="987" y="1672"/>
                    </a:lnTo>
                    <a:lnTo>
                      <a:pt x="987" y="1672"/>
                    </a:lnTo>
                    <a:lnTo>
                      <a:pt x="990" y="1669"/>
                    </a:lnTo>
                    <a:lnTo>
                      <a:pt x="993" y="1667"/>
                    </a:lnTo>
                    <a:lnTo>
                      <a:pt x="1000" y="1665"/>
                    </a:lnTo>
                    <a:lnTo>
                      <a:pt x="1006" y="1661"/>
                    </a:lnTo>
                    <a:lnTo>
                      <a:pt x="1008" y="1659"/>
                    </a:lnTo>
                    <a:lnTo>
                      <a:pt x="1008" y="1657"/>
                    </a:lnTo>
                    <a:lnTo>
                      <a:pt x="1008" y="1657"/>
                    </a:lnTo>
                    <a:lnTo>
                      <a:pt x="998" y="1661"/>
                    </a:lnTo>
                    <a:lnTo>
                      <a:pt x="986" y="1665"/>
                    </a:lnTo>
                    <a:lnTo>
                      <a:pt x="986" y="1665"/>
                    </a:lnTo>
                    <a:lnTo>
                      <a:pt x="981" y="1638"/>
                    </a:lnTo>
                    <a:lnTo>
                      <a:pt x="975" y="1612"/>
                    </a:lnTo>
                    <a:lnTo>
                      <a:pt x="968" y="1556"/>
                    </a:lnTo>
                    <a:lnTo>
                      <a:pt x="968" y="1556"/>
                    </a:lnTo>
                    <a:lnTo>
                      <a:pt x="985" y="1534"/>
                    </a:lnTo>
                    <a:lnTo>
                      <a:pt x="1003" y="1512"/>
                    </a:lnTo>
                    <a:lnTo>
                      <a:pt x="1042" y="1470"/>
                    </a:lnTo>
                    <a:lnTo>
                      <a:pt x="1042" y="1470"/>
                    </a:lnTo>
                    <a:lnTo>
                      <a:pt x="1051" y="1459"/>
                    </a:lnTo>
                    <a:lnTo>
                      <a:pt x="1062" y="1449"/>
                    </a:lnTo>
                    <a:lnTo>
                      <a:pt x="1084" y="1431"/>
                    </a:lnTo>
                    <a:lnTo>
                      <a:pt x="1108" y="1415"/>
                    </a:lnTo>
                    <a:lnTo>
                      <a:pt x="1133" y="1400"/>
                    </a:lnTo>
                    <a:lnTo>
                      <a:pt x="1133" y="1400"/>
                    </a:lnTo>
                    <a:lnTo>
                      <a:pt x="1119" y="1406"/>
                    </a:lnTo>
                    <a:lnTo>
                      <a:pt x="1106" y="1413"/>
                    </a:lnTo>
                    <a:lnTo>
                      <a:pt x="1094" y="1420"/>
                    </a:lnTo>
                    <a:lnTo>
                      <a:pt x="1083" y="1428"/>
                    </a:lnTo>
                    <a:lnTo>
                      <a:pt x="1071" y="1436"/>
                    </a:lnTo>
                    <a:lnTo>
                      <a:pt x="1061" y="1444"/>
                    </a:lnTo>
                    <a:lnTo>
                      <a:pt x="1042" y="1462"/>
                    </a:lnTo>
                    <a:lnTo>
                      <a:pt x="1006" y="1500"/>
                    </a:lnTo>
                    <a:lnTo>
                      <a:pt x="986" y="1518"/>
                    </a:lnTo>
                    <a:lnTo>
                      <a:pt x="966" y="1537"/>
                    </a:lnTo>
                    <a:lnTo>
                      <a:pt x="966" y="1537"/>
                    </a:lnTo>
                    <a:lnTo>
                      <a:pt x="961" y="1508"/>
                    </a:lnTo>
                    <a:lnTo>
                      <a:pt x="958" y="1481"/>
                    </a:lnTo>
                    <a:lnTo>
                      <a:pt x="952" y="1426"/>
                    </a:lnTo>
                    <a:lnTo>
                      <a:pt x="952" y="1426"/>
                    </a:lnTo>
                    <a:lnTo>
                      <a:pt x="948" y="1399"/>
                    </a:lnTo>
                    <a:lnTo>
                      <a:pt x="942" y="1371"/>
                    </a:lnTo>
                    <a:lnTo>
                      <a:pt x="938" y="1344"/>
                    </a:lnTo>
                    <a:lnTo>
                      <a:pt x="938" y="1330"/>
                    </a:lnTo>
                    <a:lnTo>
                      <a:pt x="938" y="1319"/>
                    </a:lnTo>
                    <a:lnTo>
                      <a:pt x="938" y="1319"/>
                    </a:lnTo>
                    <a:lnTo>
                      <a:pt x="939" y="1306"/>
                    </a:lnTo>
                    <a:lnTo>
                      <a:pt x="940" y="1294"/>
                    </a:lnTo>
                    <a:lnTo>
                      <a:pt x="942" y="1281"/>
                    </a:lnTo>
                    <a:lnTo>
                      <a:pt x="944" y="1269"/>
                    </a:lnTo>
                    <a:lnTo>
                      <a:pt x="944" y="1269"/>
                    </a:lnTo>
                    <a:lnTo>
                      <a:pt x="949" y="1224"/>
                    </a:lnTo>
                    <a:lnTo>
                      <a:pt x="953" y="1181"/>
                    </a:lnTo>
                    <a:lnTo>
                      <a:pt x="959" y="1138"/>
                    </a:lnTo>
                    <a:lnTo>
                      <a:pt x="966" y="1096"/>
                    </a:lnTo>
                    <a:lnTo>
                      <a:pt x="974" y="1055"/>
                    </a:lnTo>
                    <a:lnTo>
                      <a:pt x="982" y="1014"/>
                    </a:lnTo>
                    <a:lnTo>
                      <a:pt x="991" y="976"/>
                    </a:lnTo>
                    <a:lnTo>
                      <a:pt x="1000" y="937"/>
                    </a:lnTo>
                    <a:lnTo>
                      <a:pt x="1000" y="937"/>
                    </a:lnTo>
                    <a:lnTo>
                      <a:pt x="986" y="975"/>
                    </a:lnTo>
                    <a:lnTo>
                      <a:pt x="976" y="1013"/>
                    </a:lnTo>
                    <a:lnTo>
                      <a:pt x="966" y="1053"/>
                    </a:lnTo>
                    <a:lnTo>
                      <a:pt x="958" y="1095"/>
                    </a:lnTo>
                    <a:lnTo>
                      <a:pt x="942" y="1179"/>
                    </a:lnTo>
                    <a:lnTo>
                      <a:pt x="927" y="1264"/>
                    </a:lnTo>
                    <a:lnTo>
                      <a:pt x="927" y="1264"/>
                    </a:lnTo>
                    <a:lnTo>
                      <a:pt x="923" y="1231"/>
                    </a:lnTo>
                    <a:lnTo>
                      <a:pt x="918" y="1198"/>
                    </a:lnTo>
                    <a:lnTo>
                      <a:pt x="910" y="1132"/>
                    </a:lnTo>
                    <a:lnTo>
                      <a:pt x="907" y="1100"/>
                    </a:lnTo>
                    <a:lnTo>
                      <a:pt x="901" y="1067"/>
                    </a:lnTo>
                    <a:lnTo>
                      <a:pt x="896" y="1035"/>
                    </a:lnTo>
                    <a:lnTo>
                      <a:pt x="888" y="1002"/>
                    </a:lnTo>
                    <a:lnTo>
                      <a:pt x="888" y="1002"/>
                    </a:lnTo>
                    <a:lnTo>
                      <a:pt x="892" y="1043"/>
                    </a:lnTo>
                    <a:lnTo>
                      <a:pt x="898" y="1084"/>
                    </a:lnTo>
                    <a:lnTo>
                      <a:pt x="903" y="1125"/>
                    </a:lnTo>
                    <a:lnTo>
                      <a:pt x="907" y="1162"/>
                    </a:lnTo>
                    <a:lnTo>
                      <a:pt x="907" y="1162"/>
                    </a:lnTo>
                    <a:lnTo>
                      <a:pt x="896" y="1118"/>
                    </a:lnTo>
                    <a:lnTo>
                      <a:pt x="883" y="1076"/>
                    </a:lnTo>
                    <a:lnTo>
                      <a:pt x="856" y="991"/>
                    </a:lnTo>
                    <a:lnTo>
                      <a:pt x="856" y="991"/>
                    </a:lnTo>
                    <a:lnTo>
                      <a:pt x="868" y="984"/>
                    </a:lnTo>
                    <a:lnTo>
                      <a:pt x="875" y="980"/>
                    </a:lnTo>
                    <a:lnTo>
                      <a:pt x="882" y="978"/>
                    </a:lnTo>
                    <a:lnTo>
                      <a:pt x="882" y="978"/>
                    </a:lnTo>
                    <a:lnTo>
                      <a:pt x="884" y="980"/>
                    </a:lnTo>
                    <a:lnTo>
                      <a:pt x="885" y="983"/>
                    </a:lnTo>
                    <a:lnTo>
                      <a:pt x="886" y="988"/>
                    </a:lnTo>
                    <a:lnTo>
                      <a:pt x="886" y="994"/>
                    </a:lnTo>
                    <a:lnTo>
                      <a:pt x="888" y="996"/>
                    </a:lnTo>
                    <a:lnTo>
                      <a:pt x="889" y="999"/>
                    </a:lnTo>
                    <a:lnTo>
                      <a:pt x="889" y="999"/>
                    </a:lnTo>
                    <a:lnTo>
                      <a:pt x="889" y="996"/>
                    </a:lnTo>
                    <a:lnTo>
                      <a:pt x="889" y="994"/>
                    </a:lnTo>
                    <a:lnTo>
                      <a:pt x="888" y="988"/>
                    </a:lnTo>
                    <a:lnTo>
                      <a:pt x="886" y="983"/>
                    </a:lnTo>
                    <a:lnTo>
                      <a:pt x="885" y="977"/>
                    </a:lnTo>
                    <a:lnTo>
                      <a:pt x="885" y="977"/>
                    </a:lnTo>
                    <a:lnTo>
                      <a:pt x="890" y="974"/>
                    </a:lnTo>
                    <a:lnTo>
                      <a:pt x="896" y="971"/>
                    </a:lnTo>
                    <a:lnTo>
                      <a:pt x="907" y="967"/>
                    </a:lnTo>
                    <a:lnTo>
                      <a:pt x="919" y="963"/>
                    </a:lnTo>
                    <a:lnTo>
                      <a:pt x="923" y="961"/>
                    </a:lnTo>
                    <a:lnTo>
                      <a:pt x="926" y="958"/>
                    </a:lnTo>
                    <a:lnTo>
                      <a:pt x="926" y="958"/>
                    </a:lnTo>
                    <a:lnTo>
                      <a:pt x="916" y="960"/>
                    </a:lnTo>
                    <a:lnTo>
                      <a:pt x="907" y="963"/>
                    </a:lnTo>
                    <a:lnTo>
                      <a:pt x="889" y="971"/>
                    </a:lnTo>
                    <a:lnTo>
                      <a:pt x="871" y="978"/>
                    </a:lnTo>
                    <a:lnTo>
                      <a:pt x="861" y="980"/>
                    </a:lnTo>
                    <a:lnTo>
                      <a:pt x="852" y="983"/>
                    </a:lnTo>
                    <a:lnTo>
                      <a:pt x="852" y="983"/>
                    </a:lnTo>
                    <a:lnTo>
                      <a:pt x="843" y="953"/>
                    </a:lnTo>
                    <a:lnTo>
                      <a:pt x="838" y="939"/>
                    </a:lnTo>
                    <a:lnTo>
                      <a:pt x="831" y="927"/>
                    </a:lnTo>
                    <a:lnTo>
                      <a:pt x="831" y="927"/>
                    </a:lnTo>
                    <a:lnTo>
                      <a:pt x="840" y="957"/>
                    </a:lnTo>
                    <a:lnTo>
                      <a:pt x="844" y="971"/>
                    </a:lnTo>
                    <a:lnTo>
                      <a:pt x="848" y="987"/>
                    </a:lnTo>
                    <a:lnTo>
                      <a:pt x="848" y="987"/>
                    </a:lnTo>
                    <a:lnTo>
                      <a:pt x="832" y="993"/>
                    </a:lnTo>
                    <a:lnTo>
                      <a:pt x="817" y="1001"/>
                    </a:lnTo>
                    <a:lnTo>
                      <a:pt x="802" y="1008"/>
                    </a:lnTo>
                    <a:lnTo>
                      <a:pt x="793" y="1010"/>
                    </a:lnTo>
                    <a:lnTo>
                      <a:pt x="785" y="1013"/>
                    </a:lnTo>
                    <a:lnTo>
                      <a:pt x="785" y="1013"/>
                    </a:lnTo>
                    <a:lnTo>
                      <a:pt x="776" y="1019"/>
                    </a:lnTo>
                    <a:lnTo>
                      <a:pt x="767" y="1025"/>
                    </a:lnTo>
                    <a:lnTo>
                      <a:pt x="746" y="1035"/>
                    </a:lnTo>
                    <a:lnTo>
                      <a:pt x="746" y="1035"/>
                    </a:lnTo>
                    <a:lnTo>
                      <a:pt x="728" y="1047"/>
                    </a:lnTo>
                    <a:lnTo>
                      <a:pt x="717" y="1053"/>
                    </a:lnTo>
                    <a:lnTo>
                      <a:pt x="713" y="1054"/>
                    </a:lnTo>
                    <a:lnTo>
                      <a:pt x="706" y="1055"/>
                    </a:lnTo>
                    <a:lnTo>
                      <a:pt x="706" y="1055"/>
                    </a:lnTo>
                    <a:lnTo>
                      <a:pt x="747" y="941"/>
                    </a:lnTo>
                    <a:lnTo>
                      <a:pt x="768" y="885"/>
                    </a:lnTo>
                    <a:lnTo>
                      <a:pt x="780" y="858"/>
                    </a:lnTo>
                    <a:lnTo>
                      <a:pt x="792" y="832"/>
                    </a:lnTo>
                    <a:lnTo>
                      <a:pt x="792" y="832"/>
                    </a:lnTo>
                    <a:lnTo>
                      <a:pt x="788" y="835"/>
                    </a:lnTo>
                    <a:lnTo>
                      <a:pt x="784" y="840"/>
                    </a:lnTo>
                    <a:lnTo>
                      <a:pt x="780" y="849"/>
                    </a:lnTo>
                    <a:lnTo>
                      <a:pt x="777" y="853"/>
                    </a:lnTo>
                    <a:lnTo>
                      <a:pt x="774" y="858"/>
                    </a:lnTo>
                    <a:lnTo>
                      <a:pt x="771" y="862"/>
                    </a:lnTo>
                    <a:lnTo>
                      <a:pt x="765" y="865"/>
                    </a:lnTo>
                    <a:lnTo>
                      <a:pt x="765" y="865"/>
                    </a:lnTo>
                    <a:lnTo>
                      <a:pt x="757" y="884"/>
                    </a:lnTo>
                    <a:lnTo>
                      <a:pt x="750" y="905"/>
                    </a:lnTo>
                    <a:lnTo>
                      <a:pt x="743" y="925"/>
                    </a:lnTo>
                    <a:lnTo>
                      <a:pt x="739" y="935"/>
                    </a:lnTo>
                    <a:lnTo>
                      <a:pt x="734" y="944"/>
                    </a:lnTo>
                    <a:lnTo>
                      <a:pt x="734" y="944"/>
                    </a:lnTo>
                    <a:lnTo>
                      <a:pt x="739" y="909"/>
                    </a:lnTo>
                    <a:lnTo>
                      <a:pt x="743" y="874"/>
                    </a:lnTo>
                    <a:lnTo>
                      <a:pt x="745" y="855"/>
                    </a:lnTo>
                    <a:lnTo>
                      <a:pt x="746" y="837"/>
                    </a:lnTo>
                    <a:lnTo>
                      <a:pt x="746" y="818"/>
                    </a:lnTo>
                    <a:lnTo>
                      <a:pt x="745" y="800"/>
                    </a:lnTo>
                    <a:lnTo>
                      <a:pt x="745" y="800"/>
                    </a:lnTo>
                    <a:lnTo>
                      <a:pt x="738" y="866"/>
                    </a:lnTo>
                    <a:lnTo>
                      <a:pt x="734" y="899"/>
                    </a:lnTo>
                    <a:lnTo>
                      <a:pt x="730" y="932"/>
                    </a:lnTo>
                    <a:lnTo>
                      <a:pt x="725" y="963"/>
                    </a:lnTo>
                    <a:lnTo>
                      <a:pt x="718" y="994"/>
                    </a:lnTo>
                    <a:lnTo>
                      <a:pt x="714" y="1009"/>
                    </a:lnTo>
                    <a:lnTo>
                      <a:pt x="709" y="1023"/>
                    </a:lnTo>
                    <a:lnTo>
                      <a:pt x="704" y="1037"/>
                    </a:lnTo>
                    <a:lnTo>
                      <a:pt x="697" y="1050"/>
                    </a:lnTo>
                    <a:lnTo>
                      <a:pt x="697" y="1050"/>
                    </a:lnTo>
                    <a:lnTo>
                      <a:pt x="695" y="1045"/>
                    </a:lnTo>
                    <a:lnTo>
                      <a:pt x="690" y="1039"/>
                    </a:lnTo>
                    <a:lnTo>
                      <a:pt x="682" y="1029"/>
                    </a:lnTo>
                    <a:lnTo>
                      <a:pt x="675" y="1019"/>
                    </a:lnTo>
                    <a:lnTo>
                      <a:pt x="672" y="1013"/>
                    </a:lnTo>
                    <a:lnTo>
                      <a:pt x="670" y="1008"/>
                    </a:lnTo>
                    <a:lnTo>
                      <a:pt x="670" y="1008"/>
                    </a:lnTo>
                    <a:lnTo>
                      <a:pt x="668" y="1000"/>
                    </a:lnTo>
                    <a:lnTo>
                      <a:pt x="668" y="991"/>
                    </a:lnTo>
                    <a:lnTo>
                      <a:pt x="671" y="974"/>
                    </a:lnTo>
                    <a:lnTo>
                      <a:pt x="673" y="964"/>
                    </a:lnTo>
                    <a:lnTo>
                      <a:pt x="673" y="955"/>
                    </a:lnTo>
                    <a:lnTo>
                      <a:pt x="673" y="947"/>
                    </a:lnTo>
                    <a:lnTo>
                      <a:pt x="671" y="938"/>
                    </a:lnTo>
                    <a:lnTo>
                      <a:pt x="671" y="938"/>
                    </a:lnTo>
                    <a:lnTo>
                      <a:pt x="659" y="1038"/>
                    </a:lnTo>
                    <a:lnTo>
                      <a:pt x="654" y="1088"/>
                    </a:lnTo>
                    <a:lnTo>
                      <a:pt x="646" y="1138"/>
                    </a:lnTo>
                    <a:lnTo>
                      <a:pt x="637" y="1186"/>
                    </a:lnTo>
                    <a:lnTo>
                      <a:pt x="626" y="1232"/>
                    </a:lnTo>
                    <a:lnTo>
                      <a:pt x="620" y="1255"/>
                    </a:lnTo>
                    <a:lnTo>
                      <a:pt x="613" y="1278"/>
                    </a:lnTo>
                    <a:lnTo>
                      <a:pt x="605" y="1299"/>
                    </a:lnTo>
                    <a:lnTo>
                      <a:pt x="597" y="1321"/>
                    </a:lnTo>
                    <a:lnTo>
                      <a:pt x="597" y="1321"/>
                    </a:lnTo>
                    <a:lnTo>
                      <a:pt x="591" y="1306"/>
                    </a:lnTo>
                    <a:lnTo>
                      <a:pt x="588" y="1291"/>
                    </a:lnTo>
                    <a:lnTo>
                      <a:pt x="586" y="1278"/>
                    </a:lnTo>
                    <a:lnTo>
                      <a:pt x="584" y="1265"/>
                    </a:lnTo>
                    <a:lnTo>
                      <a:pt x="584" y="1252"/>
                    </a:lnTo>
                    <a:lnTo>
                      <a:pt x="586" y="1239"/>
                    </a:lnTo>
                    <a:lnTo>
                      <a:pt x="588" y="1214"/>
                    </a:lnTo>
                    <a:lnTo>
                      <a:pt x="588" y="1214"/>
                    </a:lnTo>
                    <a:lnTo>
                      <a:pt x="598" y="1109"/>
                    </a:lnTo>
                    <a:lnTo>
                      <a:pt x="603" y="1058"/>
                    </a:lnTo>
                    <a:lnTo>
                      <a:pt x="609" y="1006"/>
                    </a:lnTo>
                    <a:lnTo>
                      <a:pt x="617" y="958"/>
                    </a:lnTo>
                    <a:lnTo>
                      <a:pt x="625" y="909"/>
                    </a:lnTo>
                    <a:lnTo>
                      <a:pt x="636" y="863"/>
                    </a:lnTo>
                    <a:lnTo>
                      <a:pt x="648" y="818"/>
                    </a:lnTo>
                    <a:lnTo>
                      <a:pt x="648" y="818"/>
                    </a:lnTo>
                    <a:lnTo>
                      <a:pt x="640" y="842"/>
                    </a:lnTo>
                    <a:lnTo>
                      <a:pt x="632" y="865"/>
                    </a:lnTo>
                    <a:lnTo>
                      <a:pt x="620" y="913"/>
                    </a:lnTo>
                    <a:lnTo>
                      <a:pt x="608" y="963"/>
                    </a:lnTo>
                    <a:lnTo>
                      <a:pt x="599" y="1016"/>
                    </a:lnTo>
                    <a:lnTo>
                      <a:pt x="590" y="1068"/>
                    </a:lnTo>
                    <a:lnTo>
                      <a:pt x="582" y="1121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47" y="1162"/>
                    </a:lnTo>
                    <a:lnTo>
                      <a:pt x="539" y="1128"/>
                    </a:lnTo>
                    <a:lnTo>
                      <a:pt x="531" y="1093"/>
                    </a:lnTo>
                    <a:lnTo>
                      <a:pt x="531" y="1093"/>
                    </a:lnTo>
                    <a:lnTo>
                      <a:pt x="533" y="1090"/>
                    </a:lnTo>
                    <a:lnTo>
                      <a:pt x="536" y="1089"/>
                    </a:lnTo>
                    <a:lnTo>
                      <a:pt x="538" y="1088"/>
                    </a:lnTo>
                    <a:lnTo>
                      <a:pt x="539" y="1086"/>
                    </a:lnTo>
                    <a:lnTo>
                      <a:pt x="539" y="1086"/>
                    </a:lnTo>
                    <a:lnTo>
                      <a:pt x="533" y="1056"/>
                    </a:lnTo>
                    <a:lnTo>
                      <a:pt x="528" y="1028"/>
                    </a:lnTo>
                    <a:lnTo>
                      <a:pt x="514" y="972"/>
                    </a:lnTo>
                    <a:lnTo>
                      <a:pt x="500" y="917"/>
                    </a:lnTo>
                    <a:lnTo>
                      <a:pt x="495" y="887"/>
                    </a:lnTo>
                    <a:lnTo>
                      <a:pt x="490" y="859"/>
                    </a:lnTo>
                    <a:lnTo>
                      <a:pt x="490" y="859"/>
                    </a:lnTo>
                    <a:lnTo>
                      <a:pt x="508" y="826"/>
                    </a:lnTo>
                    <a:lnTo>
                      <a:pt x="527" y="793"/>
                    </a:lnTo>
                    <a:lnTo>
                      <a:pt x="562" y="728"/>
                    </a:lnTo>
                    <a:lnTo>
                      <a:pt x="579" y="697"/>
                    </a:lnTo>
                    <a:lnTo>
                      <a:pt x="597" y="666"/>
                    </a:lnTo>
                    <a:lnTo>
                      <a:pt x="616" y="635"/>
                    </a:lnTo>
                    <a:lnTo>
                      <a:pt x="637" y="605"/>
                    </a:lnTo>
                    <a:lnTo>
                      <a:pt x="637" y="605"/>
                    </a:lnTo>
                    <a:lnTo>
                      <a:pt x="679" y="548"/>
                    </a:lnTo>
                    <a:lnTo>
                      <a:pt x="721" y="492"/>
                    </a:lnTo>
                    <a:lnTo>
                      <a:pt x="740" y="464"/>
                    </a:lnTo>
                    <a:lnTo>
                      <a:pt x="759" y="435"/>
                    </a:lnTo>
                    <a:lnTo>
                      <a:pt x="777" y="406"/>
                    </a:lnTo>
                    <a:lnTo>
                      <a:pt x="793" y="376"/>
                    </a:lnTo>
                    <a:lnTo>
                      <a:pt x="793" y="376"/>
                    </a:lnTo>
                    <a:lnTo>
                      <a:pt x="754" y="429"/>
                    </a:lnTo>
                    <a:lnTo>
                      <a:pt x="714" y="481"/>
                    </a:lnTo>
                    <a:lnTo>
                      <a:pt x="674" y="534"/>
                    </a:lnTo>
                    <a:lnTo>
                      <a:pt x="633" y="589"/>
                    </a:lnTo>
                    <a:lnTo>
                      <a:pt x="594" y="644"/>
                    </a:lnTo>
                    <a:lnTo>
                      <a:pt x="555" y="701"/>
                    </a:lnTo>
                    <a:lnTo>
                      <a:pt x="537" y="731"/>
                    </a:lnTo>
                    <a:lnTo>
                      <a:pt x="517" y="760"/>
                    </a:lnTo>
                    <a:lnTo>
                      <a:pt x="500" y="791"/>
                    </a:lnTo>
                    <a:lnTo>
                      <a:pt x="482" y="821"/>
                    </a:lnTo>
                    <a:lnTo>
                      <a:pt x="482" y="821"/>
                    </a:lnTo>
                    <a:lnTo>
                      <a:pt x="475" y="787"/>
                    </a:lnTo>
                    <a:lnTo>
                      <a:pt x="470" y="756"/>
                    </a:lnTo>
                    <a:lnTo>
                      <a:pt x="466" y="724"/>
                    </a:lnTo>
                    <a:lnTo>
                      <a:pt x="464" y="693"/>
                    </a:lnTo>
                    <a:lnTo>
                      <a:pt x="463" y="664"/>
                    </a:lnTo>
                    <a:lnTo>
                      <a:pt x="464" y="634"/>
                    </a:lnTo>
                    <a:lnTo>
                      <a:pt x="465" y="606"/>
                    </a:lnTo>
                    <a:lnTo>
                      <a:pt x="468" y="578"/>
                    </a:lnTo>
                    <a:lnTo>
                      <a:pt x="472" y="524"/>
                    </a:lnTo>
                    <a:lnTo>
                      <a:pt x="478" y="469"/>
                    </a:lnTo>
                    <a:lnTo>
                      <a:pt x="483" y="415"/>
                    </a:lnTo>
                    <a:lnTo>
                      <a:pt x="485" y="388"/>
                    </a:lnTo>
                    <a:lnTo>
                      <a:pt x="486" y="359"/>
                    </a:lnTo>
                    <a:lnTo>
                      <a:pt x="486" y="359"/>
                    </a:lnTo>
                    <a:lnTo>
                      <a:pt x="489" y="358"/>
                    </a:lnTo>
                    <a:lnTo>
                      <a:pt x="491" y="358"/>
                    </a:lnTo>
                    <a:lnTo>
                      <a:pt x="493" y="357"/>
                    </a:lnTo>
                    <a:lnTo>
                      <a:pt x="493" y="357"/>
                    </a:lnTo>
                    <a:lnTo>
                      <a:pt x="503" y="312"/>
                    </a:lnTo>
                    <a:lnTo>
                      <a:pt x="512" y="267"/>
                    </a:lnTo>
                    <a:lnTo>
                      <a:pt x="522" y="223"/>
                    </a:lnTo>
                    <a:lnTo>
                      <a:pt x="528" y="202"/>
                    </a:lnTo>
                    <a:lnTo>
                      <a:pt x="533" y="180"/>
                    </a:lnTo>
                    <a:lnTo>
                      <a:pt x="533" y="180"/>
                    </a:lnTo>
                    <a:lnTo>
                      <a:pt x="540" y="158"/>
                    </a:lnTo>
                    <a:lnTo>
                      <a:pt x="546" y="138"/>
                    </a:lnTo>
                    <a:lnTo>
                      <a:pt x="555" y="94"/>
                    </a:lnTo>
                    <a:lnTo>
                      <a:pt x="555" y="94"/>
                    </a:lnTo>
                    <a:lnTo>
                      <a:pt x="559" y="71"/>
                    </a:lnTo>
                    <a:lnTo>
                      <a:pt x="563" y="48"/>
                    </a:lnTo>
                    <a:lnTo>
                      <a:pt x="565" y="25"/>
                    </a:lnTo>
                    <a:lnTo>
                      <a:pt x="565" y="12"/>
                    </a:lnTo>
                    <a:lnTo>
                      <a:pt x="565" y="0"/>
                    </a:lnTo>
                    <a:lnTo>
                      <a:pt x="565" y="0"/>
                    </a:lnTo>
                    <a:lnTo>
                      <a:pt x="557" y="44"/>
                    </a:lnTo>
                    <a:lnTo>
                      <a:pt x="548" y="88"/>
                    </a:lnTo>
                    <a:lnTo>
                      <a:pt x="537" y="130"/>
                    </a:lnTo>
                    <a:lnTo>
                      <a:pt x="525" y="171"/>
                    </a:lnTo>
                    <a:lnTo>
                      <a:pt x="525" y="171"/>
                    </a:lnTo>
                    <a:lnTo>
                      <a:pt x="524" y="172"/>
                    </a:lnTo>
                    <a:lnTo>
                      <a:pt x="524" y="172"/>
                    </a:lnTo>
                    <a:lnTo>
                      <a:pt x="522" y="171"/>
                    </a:lnTo>
                    <a:lnTo>
                      <a:pt x="520" y="170"/>
                    </a:lnTo>
                    <a:lnTo>
                      <a:pt x="520" y="170"/>
                    </a:lnTo>
                    <a:lnTo>
                      <a:pt x="519" y="171"/>
                    </a:lnTo>
                    <a:lnTo>
                      <a:pt x="519" y="171"/>
                    </a:lnTo>
                    <a:lnTo>
                      <a:pt x="522" y="177"/>
                    </a:lnTo>
                    <a:lnTo>
                      <a:pt x="523" y="179"/>
                    </a:lnTo>
                    <a:lnTo>
                      <a:pt x="522" y="181"/>
                    </a:lnTo>
                    <a:lnTo>
                      <a:pt x="522" y="181"/>
                    </a:lnTo>
                    <a:lnTo>
                      <a:pt x="521" y="182"/>
                    </a:lnTo>
                    <a:lnTo>
                      <a:pt x="520" y="182"/>
                    </a:lnTo>
                    <a:lnTo>
                      <a:pt x="520" y="180"/>
                    </a:lnTo>
                    <a:lnTo>
                      <a:pt x="517" y="178"/>
                    </a:lnTo>
                    <a:lnTo>
                      <a:pt x="516" y="178"/>
                    </a:lnTo>
                    <a:lnTo>
                      <a:pt x="514" y="178"/>
                    </a:lnTo>
                    <a:lnTo>
                      <a:pt x="514" y="178"/>
                    </a:lnTo>
                    <a:lnTo>
                      <a:pt x="514" y="180"/>
                    </a:lnTo>
                    <a:lnTo>
                      <a:pt x="513" y="183"/>
                    </a:lnTo>
                    <a:lnTo>
                      <a:pt x="513" y="187"/>
                    </a:lnTo>
                    <a:lnTo>
                      <a:pt x="512" y="189"/>
                    </a:lnTo>
                    <a:lnTo>
                      <a:pt x="512" y="189"/>
                    </a:lnTo>
                    <a:lnTo>
                      <a:pt x="514" y="189"/>
                    </a:lnTo>
                    <a:lnTo>
                      <a:pt x="516" y="189"/>
                    </a:lnTo>
                    <a:lnTo>
                      <a:pt x="517" y="189"/>
                    </a:lnTo>
                    <a:lnTo>
                      <a:pt x="519" y="189"/>
                    </a:lnTo>
                    <a:lnTo>
                      <a:pt x="519" y="189"/>
                    </a:lnTo>
                    <a:lnTo>
                      <a:pt x="515" y="205"/>
                    </a:lnTo>
                    <a:lnTo>
                      <a:pt x="511" y="221"/>
                    </a:lnTo>
                    <a:lnTo>
                      <a:pt x="508" y="228"/>
                    </a:lnTo>
                    <a:lnTo>
                      <a:pt x="505" y="235"/>
                    </a:lnTo>
                    <a:lnTo>
                      <a:pt x="502" y="240"/>
                    </a:lnTo>
                    <a:lnTo>
                      <a:pt x="497" y="244"/>
                    </a:lnTo>
                    <a:lnTo>
                      <a:pt x="497" y="244"/>
                    </a:lnTo>
                    <a:lnTo>
                      <a:pt x="499" y="248"/>
                    </a:lnTo>
                    <a:lnTo>
                      <a:pt x="499" y="253"/>
                    </a:lnTo>
                    <a:lnTo>
                      <a:pt x="498" y="256"/>
                    </a:lnTo>
                    <a:lnTo>
                      <a:pt x="497" y="261"/>
                    </a:lnTo>
                    <a:lnTo>
                      <a:pt x="494" y="267"/>
                    </a:lnTo>
                    <a:lnTo>
                      <a:pt x="490" y="274"/>
                    </a:lnTo>
                    <a:lnTo>
                      <a:pt x="490" y="274"/>
                    </a:lnTo>
                    <a:lnTo>
                      <a:pt x="493" y="262"/>
                    </a:lnTo>
                    <a:lnTo>
                      <a:pt x="494" y="249"/>
                    </a:lnTo>
                    <a:lnTo>
                      <a:pt x="494" y="224"/>
                    </a:lnTo>
                    <a:lnTo>
                      <a:pt x="494" y="198"/>
                    </a:lnTo>
                    <a:lnTo>
                      <a:pt x="494" y="186"/>
                    </a:lnTo>
                    <a:lnTo>
                      <a:pt x="496" y="174"/>
                    </a:lnTo>
                    <a:lnTo>
                      <a:pt x="496" y="174"/>
                    </a:lnTo>
                    <a:lnTo>
                      <a:pt x="497" y="170"/>
                    </a:lnTo>
                    <a:lnTo>
                      <a:pt x="499" y="166"/>
                    </a:lnTo>
                    <a:lnTo>
                      <a:pt x="502" y="162"/>
                    </a:lnTo>
                    <a:lnTo>
                      <a:pt x="504" y="157"/>
                    </a:lnTo>
                    <a:lnTo>
                      <a:pt x="504" y="157"/>
                    </a:lnTo>
                    <a:lnTo>
                      <a:pt x="521" y="89"/>
                    </a:lnTo>
                    <a:lnTo>
                      <a:pt x="528" y="56"/>
                    </a:lnTo>
                    <a:lnTo>
                      <a:pt x="535" y="22"/>
                    </a:lnTo>
                    <a:lnTo>
                      <a:pt x="535" y="22"/>
                    </a:lnTo>
                    <a:lnTo>
                      <a:pt x="528" y="40"/>
                    </a:lnTo>
                    <a:lnTo>
                      <a:pt x="522" y="60"/>
                    </a:lnTo>
                    <a:lnTo>
                      <a:pt x="516" y="80"/>
                    </a:lnTo>
                    <a:lnTo>
                      <a:pt x="511" y="97"/>
                    </a:lnTo>
                    <a:lnTo>
                      <a:pt x="511" y="97"/>
                    </a:lnTo>
                    <a:lnTo>
                      <a:pt x="510" y="102"/>
                    </a:lnTo>
                    <a:lnTo>
                      <a:pt x="508" y="104"/>
                    </a:lnTo>
                    <a:lnTo>
                      <a:pt x="506" y="104"/>
                    </a:lnTo>
                    <a:lnTo>
                      <a:pt x="506" y="104"/>
                    </a:lnTo>
                    <a:lnTo>
                      <a:pt x="504" y="116"/>
                    </a:lnTo>
                    <a:lnTo>
                      <a:pt x="499" y="128"/>
                    </a:lnTo>
                    <a:lnTo>
                      <a:pt x="495" y="140"/>
                    </a:lnTo>
                    <a:lnTo>
                      <a:pt x="491" y="154"/>
                    </a:lnTo>
                    <a:lnTo>
                      <a:pt x="491" y="154"/>
                    </a:lnTo>
                    <a:lnTo>
                      <a:pt x="493" y="136"/>
                    </a:lnTo>
                    <a:lnTo>
                      <a:pt x="495" y="119"/>
                    </a:lnTo>
                    <a:lnTo>
                      <a:pt x="502" y="86"/>
                    </a:lnTo>
                    <a:lnTo>
                      <a:pt x="508" y="55"/>
                    </a:lnTo>
                    <a:lnTo>
                      <a:pt x="516" y="27"/>
                    </a:lnTo>
                    <a:lnTo>
                      <a:pt x="516" y="27"/>
                    </a:lnTo>
                    <a:lnTo>
                      <a:pt x="507" y="47"/>
                    </a:lnTo>
                    <a:lnTo>
                      <a:pt x="499" y="70"/>
                    </a:lnTo>
                    <a:lnTo>
                      <a:pt x="494" y="95"/>
                    </a:lnTo>
                    <a:lnTo>
                      <a:pt x="489" y="122"/>
                    </a:lnTo>
                    <a:lnTo>
                      <a:pt x="489" y="122"/>
                    </a:lnTo>
                    <a:lnTo>
                      <a:pt x="483" y="153"/>
                    </a:lnTo>
                    <a:lnTo>
                      <a:pt x="477" y="183"/>
                    </a:lnTo>
                    <a:lnTo>
                      <a:pt x="475" y="199"/>
                    </a:lnTo>
                    <a:lnTo>
                      <a:pt x="474" y="215"/>
                    </a:lnTo>
                    <a:lnTo>
                      <a:pt x="475" y="232"/>
                    </a:lnTo>
                    <a:lnTo>
                      <a:pt x="479" y="249"/>
                    </a:lnTo>
                    <a:lnTo>
                      <a:pt x="479" y="249"/>
                    </a:lnTo>
                    <a:lnTo>
                      <a:pt x="481" y="263"/>
                    </a:lnTo>
                    <a:lnTo>
                      <a:pt x="481" y="278"/>
                    </a:lnTo>
                    <a:lnTo>
                      <a:pt x="479" y="305"/>
                    </a:lnTo>
                    <a:lnTo>
                      <a:pt x="479" y="305"/>
                    </a:lnTo>
                    <a:lnTo>
                      <a:pt x="475" y="346"/>
                    </a:lnTo>
                    <a:lnTo>
                      <a:pt x="473" y="365"/>
                    </a:lnTo>
                    <a:lnTo>
                      <a:pt x="471" y="385"/>
                    </a:lnTo>
                    <a:lnTo>
                      <a:pt x="471" y="385"/>
                    </a:lnTo>
                    <a:lnTo>
                      <a:pt x="468" y="350"/>
                    </a:lnTo>
                    <a:lnTo>
                      <a:pt x="465" y="315"/>
                    </a:lnTo>
                    <a:lnTo>
                      <a:pt x="461" y="248"/>
                    </a:lnTo>
                    <a:lnTo>
                      <a:pt x="458" y="215"/>
                    </a:lnTo>
                    <a:lnTo>
                      <a:pt x="455" y="181"/>
                    </a:lnTo>
                    <a:lnTo>
                      <a:pt x="451" y="147"/>
                    </a:lnTo>
                    <a:lnTo>
                      <a:pt x="444" y="111"/>
                    </a:lnTo>
                    <a:lnTo>
                      <a:pt x="444" y="111"/>
                    </a:lnTo>
                    <a:lnTo>
                      <a:pt x="449" y="183"/>
                    </a:lnTo>
                    <a:lnTo>
                      <a:pt x="454" y="255"/>
                    </a:lnTo>
                    <a:lnTo>
                      <a:pt x="456" y="325"/>
                    </a:lnTo>
                    <a:lnTo>
                      <a:pt x="457" y="395"/>
                    </a:lnTo>
                    <a:lnTo>
                      <a:pt x="457" y="463"/>
                    </a:lnTo>
                    <a:lnTo>
                      <a:pt x="456" y="531"/>
                    </a:lnTo>
                    <a:lnTo>
                      <a:pt x="454" y="597"/>
                    </a:lnTo>
                    <a:lnTo>
                      <a:pt x="451" y="662"/>
                    </a:lnTo>
                    <a:lnTo>
                      <a:pt x="451" y="662"/>
                    </a:lnTo>
                    <a:lnTo>
                      <a:pt x="438" y="610"/>
                    </a:lnTo>
                    <a:lnTo>
                      <a:pt x="423" y="559"/>
                    </a:lnTo>
                    <a:lnTo>
                      <a:pt x="409" y="510"/>
                    </a:lnTo>
                    <a:lnTo>
                      <a:pt x="401" y="487"/>
                    </a:lnTo>
                    <a:lnTo>
                      <a:pt x="391" y="464"/>
                    </a:lnTo>
                    <a:lnTo>
                      <a:pt x="391" y="464"/>
                    </a:lnTo>
                    <a:lnTo>
                      <a:pt x="385" y="446"/>
                    </a:lnTo>
                    <a:lnTo>
                      <a:pt x="378" y="429"/>
                    </a:lnTo>
                    <a:lnTo>
                      <a:pt x="373" y="420"/>
                    </a:lnTo>
                    <a:lnTo>
                      <a:pt x="369" y="412"/>
                    </a:lnTo>
                    <a:lnTo>
                      <a:pt x="363" y="405"/>
                    </a:lnTo>
                    <a:lnTo>
                      <a:pt x="357" y="398"/>
                    </a:lnTo>
                    <a:lnTo>
                      <a:pt x="357" y="398"/>
                    </a:lnTo>
                    <a:lnTo>
                      <a:pt x="365" y="413"/>
                    </a:lnTo>
                    <a:lnTo>
                      <a:pt x="374" y="429"/>
                    </a:lnTo>
                    <a:lnTo>
                      <a:pt x="381" y="445"/>
                    </a:lnTo>
                    <a:lnTo>
                      <a:pt x="388" y="462"/>
                    </a:lnTo>
                    <a:lnTo>
                      <a:pt x="401" y="497"/>
                    </a:lnTo>
                    <a:lnTo>
                      <a:pt x="411" y="533"/>
                    </a:lnTo>
                    <a:lnTo>
                      <a:pt x="419" y="571"/>
                    </a:lnTo>
                    <a:lnTo>
                      <a:pt x="427" y="609"/>
                    </a:lnTo>
                    <a:lnTo>
                      <a:pt x="443" y="686"/>
                    </a:lnTo>
                    <a:lnTo>
                      <a:pt x="443" y="686"/>
                    </a:lnTo>
                    <a:lnTo>
                      <a:pt x="445" y="703"/>
                    </a:lnTo>
                    <a:lnTo>
                      <a:pt x="447" y="720"/>
                    </a:lnTo>
                    <a:lnTo>
                      <a:pt x="447" y="737"/>
                    </a:lnTo>
                    <a:lnTo>
                      <a:pt x="446" y="753"/>
                    </a:lnTo>
                    <a:lnTo>
                      <a:pt x="445" y="785"/>
                    </a:lnTo>
                    <a:lnTo>
                      <a:pt x="443" y="816"/>
                    </a:lnTo>
                    <a:lnTo>
                      <a:pt x="443" y="816"/>
                    </a:lnTo>
                    <a:lnTo>
                      <a:pt x="429" y="783"/>
                    </a:lnTo>
                    <a:lnTo>
                      <a:pt x="416" y="750"/>
                    </a:lnTo>
                    <a:lnTo>
                      <a:pt x="404" y="715"/>
                    </a:lnTo>
                    <a:lnTo>
                      <a:pt x="394" y="680"/>
                    </a:lnTo>
                    <a:lnTo>
                      <a:pt x="394" y="680"/>
                    </a:lnTo>
                    <a:lnTo>
                      <a:pt x="394" y="685"/>
                    </a:lnTo>
                    <a:lnTo>
                      <a:pt x="395" y="691"/>
                    </a:lnTo>
                    <a:lnTo>
                      <a:pt x="396" y="695"/>
                    </a:lnTo>
                    <a:lnTo>
                      <a:pt x="396" y="698"/>
                    </a:lnTo>
                    <a:lnTo>
                      <a:pt x="395" y="700"/>
                    </a:lnTo>
                    <a:lnTo>
                      <a:pt x="395" y="700"/>
                    </a:lnTo>
                    <a:lnTo>
                      <a:pt x="372" y="647"/>
                    </a:lnTo>
                    <a:lnTo>
                      <a:pt x="352" y="592"/>
                    </a:lnTo>
                    <a:lnTo>
                      <a:pt x="330" y="539"/>
                    </a:lnTo>
                    <a:lnTo>
                      <a:pt x="319" y="512"/>
                    </a:lnTo>
                    <a:lnTo>
                      <a:pt x="306" y="487"/>
                    </a:lnTo>
                    <a:lnTo>
                      <a:pt x="306" y="487"/>
                    </a:lnTo>
                    <a:lnTo>
                      <a:pt x="313" y="508"/>
                    </a:lnTo>
                    <a:lnTo>
                      <a:pt x="320" y="529"/>
                    </a:lnTo>
                    <a:lnTo>
                      <a:pt x="336" y="571"/>
                    </a:lnTo>
                    <a:lnTo>
                      <a:pt x="369" y="651"/>
                    </a:lnTo>
                    <a:lnTo>
                      <a:pt x="386" y="692"/>
                    </a:lnTo>
                    <a:lnTo>
                      <a:pt x="393" y="714"/>
                    </a:lnTo>
                    <a:lnTo>
                      <a:pt x="399" y="735"/>
                    </a:lnTo>
                    <a:lnTo>
                      <a:pt x="405" y="757"/>
                    </a:lnTo>
                    <a:lnTo>
                      <a:pt x="411" y="781"/>
                    </a:lnTo>
                    <a:lnTo>
                      <a:pt x="415" y="804"/>
                    </a:lnTo>
                    <a:lnTo>
                      <a:pt x="419" y="828"/>
                    </a:lnTo>
                    <a:lnTo>
                      <a:pt x="419" y="828"/>
                    </a:lnTo>
                    <a:lnTo>
                      <a:pt x="407" y="809"/>
                    </a:lnTo>
                    <a:lnTo>
                      <a:pt x="398" y="788"/>
                    </a:lnTo>
                    <a:lnTo>
                      <a:pt x="390" y="767"/>
                    </a:lnTo>
                    <a:lnTo>
                      <a:pt x="384" y="745"/>
                    </a:lnTo>
                    <a:lnTo>
                      <a:pt x="370" y="700"/>
                    </a:lnTo>
                    <a:lnTo>
                      <a:pt x="363" y="677"/>
                    </a:lnTo>
                    <a:lnTo>
                      <a:pt x="356" y="655"/>
                    </a:lnTo>
                    <a:lnTo>
                      <a:pt x="356" y="655"/>
                    </a:lnTo>
                    <a:lnTo>
                      <a:pt x="361" y="680"/>
                    </a:lnTo>
                    <a:lnTo>
                      <a:pt x="368" y="704"/>
                    </a:lnTo>
                    <a:lnTo>
                      <a:pt x="372" y="728"/>
                    </a:lnTo>
                    <a:lnTo>
                      <a:pt x="377" y="751"/>
                    </a:lnTo>
                    <a:lnTo>
                      <a:pt x="377" y="751"/>
                    </a:lnTo>
                    <a:lnTo>
                      <a:pt x="369" y="741"/>
                    </a:lnTo>
                    <a:lnTo>
                      <a:pt x="362" y="729"/>
                    </a:lnTo>
                    <a:lnTo>
                      <a:pt x="354" y="720"/>
                    </a:lnTo>
                    <a:lnTo>
                      <a:pt x="351" y="716"/>
                    </a:lnTo>
                    <a:lnTo>
                      <a:pt x="346" y="714"/>
                    </a:lnTo>
                    <a:lnTo>
                      <a:pt x="346" y="714"/>
                    </a:lnTo>
                    <a:lnTo>
                      <a:pt x="353" y="720"/>
                    </a:lnTo>
                    <a:lnTo>
                      <a:pt x="359" y="728"/>
                    </a:lnTo>
                    <a:lnTo>
                      <a:pt x="369" y="743"/>
                    </a:lnTo>
                    <a:lnTo>
                      <a:pt x="378" y="760"/>
                    </a:lnTo>
                    <a:lnTo>
                      <a:pt x="385" y="778"/>
                    </a:lnTo>
                    <a:lnTo>
                      <a:pt x="390" y="798"/>
                    </a:lnTo>
                    <a:lnTo>
                      <a:pt x="396" y="817"/>
                    </a:lnTo>
                    <a:lnTo>
                      <a:pt x="407" y="861"/>
                    </a:lnTo>
                    <a:lnTo>
                      <a:pt x="407" y="861"/>
                    </a:lnTo>
                    <a:lnTo>
                      <a:pt x="419" y="901"/>
                    </a:lnTo>
                    <a:lnTo>
                      <a:pt x="424" y="921"/>
                    </a:lnTo>
                    <a:lnTo>
                      <a:pt x="429" y="942"/>
                    </a:lnTo>
                    <a:lnTo>
                      <a:pt x="433" y="962"/>
                    </a:lnTo>
                    <a:lnTo>
                      <a:pt x="436" y="981"/>
                    </a:lnTo>
                    <a:lnTo>
                      <a:pt x="437" y="1002"/>
                    </a:lnTo>
                    <a:lnTo>
                      <a:pt x="436" y="1011"/>
                    </a:lnTo>
                    <a:lnTo>
                      <a:pt x="435" y="1020"/>
                    </a:lnTo>
                    <a:lnTo>
                      <a:pt x="435" y="1020"/>
                    </a:lnTo>
                    <a:lnTo>
                      <a:pt x="374" y="927"/>
                    </a:lnTo>
                    <a:lnTo>
                      <a:pt x="343" y="882"/>
                    </a:lnTo>
                    <a:lnTo>
                      <a:pt x="311" y="836"/>
                    </a:lnTo>
                    <a:lnTo>
                      <a:pt x="311" y="836"/>
                    </a:lnTo>
                    <a:lnTo>
                      <a:pt x="278" y="792"/>
                    </a:lnTo>
                    <a:lnTo>
                      <a:pt x="247" y="748"/>
                    </a:lnTo>
                    <a:lnTo>
                      <a:pt x="231" y="726"/>
                    </a:lnTo>
                    <a:lnTo>
                      <a:pt x="216" y="704"/>
                    </a:lnTo>
                    <a:lnTo>
                      <a:pt x="198" y="684"/>
                    </a:lnTo>
                    <a:lnTo>
                      <a:pt x="181" y="665"/>
                    </a:lnTo>
                    <a:lnTo>
                      <a:pt x="181" y="665"/>
                    </a:lnTo>
                    <a:lnTo>
                      <a:pt x="210" y="703"/>
                    </a:lnTo>
                    <a:lnTo>
                      <a:pt x="238" y="743"/>
                    </a:lnTo>
                    <a:lnTo>
                      <a:pt x="267" y="783"/>
                    </a:lnTo>
                    <a:lnTo>
                      <a:pt x="295" y="825"/>
                    </a:lnTo>
                    <a:lnTo>
                      <a:pt x="349" y="911"/>
                    </a:lnTo>
                    <a:lnTo>
                      <a:pt x="403" y="997"/>
                    </a:lnTo>
                    <a:lnTo>
                      <a:pt x="403" y="997"/>
                    </a:lnTo>
                    <a:lnTo>
                      <a:pt x="421" y="1025"/>
                    </a:lnTo>
                    <a:lnTo>
                      <a:pt x="429" y="1037"/>
                    </a:lnTo>
                    <a:lnTo>
                      <a:pt x="432" y="1043"/>
                    </a:lnTo>
                    <a:lnTo>
                      <a:pt x="433" y="1048"/>
                    </a:lnTo>
                    <a:lnTo>
                      <a:pt x="433" y="1048"/>
                    </a:lnTo>
                    <a:lnTo>
                      <a:pt x="435" y="1056"/>
                    </a:lnTo>
                    <a:lnTo>
                      <a:pt x="433" y="1067"/>
                    </a:lnTo>
                    <a:lnTo>
                      <a:pt x="431" y="1089"/>
                    </a:lnTo>
                    <a:lnTo>
                      <a:pt x="431" y="1089"/>
                    </a:lnTo>
                    <a:lnTo>
                      <a:pt x="430" y="1120"/>
                    </a:lnTo>
                    <a:lnTo>
                      <a:pt x="430" y="1149"/>
                    </a:lnTo>
                    <a:lnTo>
                      <a:pt x="429" y="1179"/>
                    </a:lnTo>
                    <a:lnTo>
                      <a:pt x="428" y="1193"/>
                    </a:lnTo>
                    <a:lnTo>
                      <a:pt x="426" y="1206"/>
                    </a:lnTo>
                    <a:lnTo>
                      <a:pt x="426" y="1206"/>
                    </a:lnTo>
                    <a:lnTo>
                      <a:pt x="394" y="1138"/>
                    </a:lnTo>
                    <a:lnTo>
                      <a:pt x="362" y="1070"/>
                    </a:lnTo>
                    <a:lnTo>
                      <a:pt x="345" y="1036"/>
                    </a:lnTo>
                    <a:lnTo>
                      <a:pt x="328" y="1003"/>
                    </a:lnTo>
                    <a:lnTo>
                      <a:pt x="311" y="971"/>
                    </a:lnTo>
                    <a:lnTo>
                      <a:pt x="293" y="941"/>
                    </a:lnTo>
                    <a:lnTo>
                      <a:pt x="293" y="941"/>
                    </a:lnTo>
                    <a:lnTo>
                      <a:pt x="280" y="919"/>
                    </a:lnTo>
                    <a:lnTo>
                      <a:pt x="268" y="900"/>
                    </a:lnTo>
                    <a:lnTo>
                      <a:pt x="254" y="880"/>
                    </a:lnTo>
                    <a:lnTo>
                      <a:pt x="247" y="871"/>
                    </a:lnTo>
                    <a:lnTo>
                      <a:pt x="238" y="863"/>
                    </a:lnTo>
                    <a:lnTo>
                      <a:pt x="238" y="863"/>
                    </a:lnTo>
                    <a:lnTo>
                      <a:pt x="251" y="882"/>
                    </a:lnTo>
                    <a:lnTo>
                      <a:pt x="263" y="900"/>
                    </a:lnTo>
                    <a:lnTo>
                      <a:pt x="286" y="939"/>
                    </a:lnTo>
                    <a:lnTo>
                      <a:pt x="306" y="981"/>
                    </a:lnTo>
                    <a:lnTo>
                      <a:pt x="327" y="1026"/>
                    </a:lnTo>
                    <a:lnTo>
                      <a:pt x="346" y="1070"/>
                    </a:lnTo>
                    <a:lnTo>
                      <a:pt x="364" y="1114"/>
                    </a:lnTo>
                    <a:lnTo>
                      <a:pt x="402" y="1204"/>
                    </a:lnTo>
                    <a:lnTo>
                      <a:pt x="402" y="1204"/>
                    </a:lnTo>
                    <a:lnTo>
                      <a:pt x="407" y="1218"/>
                    </a:lnTo>
                    <a:lnTo>
                      <a:pt x="414" y="1231"/>
                    </a:lnTo>
                    <a:lnTo>
                      <a:pt x="421" y="1244"/>
                    </a:lnTo>
                    <a:lnTo>
                      <a:pt x="422" y="1249"/>
                    </a:lnTo>
                    <a:lnTo>
                      <a:pt x="424" y="1255"/>
                    </a:lnTo>
                    <a:lnTo>
                      <a:pt x="424" y="1255"/>
                    </a:lnTo>
                    <a:lnTo>
                      <a:pt x="424" y="1263"/>
                    </a:lnTo>
                    <a:lnTo>
                      <a:pt x="424" y="1270"/>
                    </a:lnTo>
                    <a:lnTo>
                      <a:pt x="422" y="1283"/>
                    </a:lnTo>
                    <a:lnTo>
                      <a:pt x="419" y="1297"/>
                    </a:lnTo>
                    <a:lnTo>
                      <a:pt x="416" y="1311"/>
                    </a:lnTo>
                    <a:lnTo>
                      <a:pt x="416" y="1311"/>
                    </a:lnTo>
                    <a:lnTo>
                      <a:pt x="414" y="1306"/>
                    </a:lnTo>
                    <a:lnTo>
                      <a:pt x="412" y="1302"/>
                    </a:lnTo>
                    <a:lnTo>
                      <a:pt x="411" y="1297"/>
                    </a:lnTo>
                    <a:lnTo>
                      <a:pt x="409" y="1294"/>
                    </a:lnTo>
                    <a:lnTo>
                      <a:pt x="409" y="1294"/>
                    </a:lnTo>
                    <a:lnTo>
                      <a:pt x="412" y="1308"/>
                    </a:lnTo>
                    <a:lnTo>
                      <a:pt x="414" y="1322"/>
                    </a:lnTo>
                    <a:lnTo>
                      <a:pt x="414" y="1337"/>
                    </a:lnTo>
                    <a:lnTo>
                      <a:pt x="414" y="1349"/>
                    </a:lnTo>
                    <a:lnTo>
                      <a:pt x="411" y="1375"/>
                    </a:lnTo>
                    <a:lnTo>
                      <a:pt x="407" y="1401"/>
                    </a:lnTo>
                    <a:lnTo>
                      <a:pt x="407" y="1401"/>
                    </a:lnTo>
                    <a:lnTo>
                      <a:pt x="401" y="1373"/>
                    </a:lnTo>
                    <a:lnTo>
                      <a:pt x="393" y="1345"/>
                    </a:lnTo>
                    <a:lnTo>
                      <a:pt x="384" y="1317"/>
                    </a:lnTo>
                    <a:lnTo>
                      <a:pt x="373" y="1290"/>
                    </a:lnTo>
                    <a:lnTo>
                      <a:pt x="363" y="1263"/>
                    </a:lnTo>
                    <a:lnTo>
                      <a:pt x="352" y="1237"/>
                    </a:lnTo>
                    <a:lnTo>
                      <a:pt x="327" y="1184"/>
                    </a:lnTo>
                    <a:lnTo>
                      <a:pt x="327" y="1184"/>
                    </a:lnTo>
                    <a:lnTo>
                      <a:pt x="292" y="1110"/>
                    </a:lnTo>
                    <a:lnTo>
                      <a:pt x="256" y="1038"/>
                    </a:lnTo>
                    <a:lnTo>
                      <a:pt x="220" y="968"/>
                    </a:lnTo>
                    <a:lnTo>
                      <a:pt x="201" y="934"/>
                    </a:lnTo>
                    <a:lnTo>
                      <a:pt x="181" y="900"/>
                    </a:lnTo>
                    <a:lnTo>
                      <a:pt x="162" y="867"/>
                    </a:lnTo>
                    <a:lnTo>
                      <a:pt x="142" y="834"/>
                    </a:lnTo>
                    <a:lnTo>
                      <a:pt x="120" y="803"/>
                    </a:lnTo>
                    <a:lnTo>
                      <a:pt x="97" y="773"/>
                    </a:lnTo>
                    <a:lnTo>
                      <a:pt x="75" y="743"/>
                    </a:lnTo>
                    <a:lnTo>
                      <a:pt x="51" y="715"/>
                    </a:lnTo>
                    <a:lnTo>
                      <a:pt x="26" y="687"/>
                    </a:lnTo>
                    <a:lnTo>
                      <a:pt x="0" y="661"/>
                    </a:lnTo>
                    <a:lnTo>
                      <a:pt x="0" y="661"/>
                    </a:lnTo>
                    <a:lnTo>
                      <a:pt x="34" y="701"/>
                    </a:lnTo>
                    <a:lnTo>
                      <a:pt x="67" y="741"/>
                    </a:lnTo>
                    <a:lnTo>
                      <a:pt x="84" y="761"/>
                    </a:lnTo>
                    <a:lnTo>
                      <a:pt x="100" y="783"/>
                    </a:lnTo>
                    <a:lnTo>
                      <a:pt x="114" y="806"/>
                    </a:lnTo>
                    <a:lnTo>
                      <a:pt x="129" y="828"/>
                    </a:lnTo>
                    <a:lnTo>
                      <a:pt x="129" y="828"/>
                    </a:lnTo>
                    <a:lnTo>
                      <a:pt x="162" y="887"/>
                    </a:lnTo>
                    <a:lnTo>
                      <a:pt x="194" y="949"/>
                    </a:lnTo>
                    <a:lnTo>
                      <a:pt x="226" y="1011"/>
                    </a:lnTo>
                    <a:lnTo>
                      <a:pt x="256" y="1073"/>
                    </a:lnTo>
                    <a:lnTo>
                      <a:pt x="286" y="1138"/>
                    </a:lnTo>
                    <a:lnTo>
                      <a:pt x="314" y="1204"/>
                    </a:lnTo>
                    <a:lnTo>
                      <a:pt x="343" y="1270"/>
                    </a:lnTo>
                    <a:lnTo>
                      <a:pt x="371" y="1338"/>
                    </a:lnTo>
                    <a:lnTo>
                      <a:pt x="371" y="1338"/>
                    </a:lnTo>
                    <a:lnTo>
                      <a:pt x="395" y="1395"/>
                    </a:lnTo>
                    <a:lnTo>
                      <a:pt x="405" y="1423"/>
                    </a:lnTo>
                    <a:lnTo>
                      <a:pt x="410" y="1436"/>
                    </a:lnTo>
                    <a:lnTo>
                      <a:pt x="412" y="1449"/>
                    </a:lnTo>
                    <a:lnTo>
                      <a:pt x="412" y="1449"/>
                    </a:lnTo>
                    <a:lnTo>
                      <a:pt x="413" y="1459"/>
                    </a:lnTo>
                    <a:lnTo>
                      <a:pt x="413" y="1470"/>
                    </a:lnTo>
                    <a:lnTo>
                      <a:pt x="412" y="1490"/>
                    </a:lnTo>
                    <a:lnTo>
                      <a:pt x="411" y="1510"/>
                    </a:lnTo>
                    <a:lnTo>
                      <a:pt x="411" y="1521"/>
                    </a:lnTo>
                    <a:lnTo>
                      <a:pt x="412" y="1530"/>
                    </a:lnTo>
                    <a:lnTo>
                      <a:pt x="412" y="1530"/>
                    </a:lnTo>
                    <a:lnTo>
                      <a:pt x="372" y="1504"/>
                    </a:lnTo>
                    <a:lnTo>
                      <a:pt x="353" y="1490"/>
                    </a:lnTo>
                    <a:lnTo>
                      <a:pt x="330" y="1479"/>
                    </a:lnTo>
                    <a:lnTo>
                      <a:pt x="330" y="1479"/>
                    </a:lnTo>
                    <a:lnTo>
                      <a:pt x="351" y="1492"/>
                    </a:lnTo>
                    <a:lnTo>
                      <a:pt x="371" y="1506"/>
                    </a:lnTo>
                    <a:lnTo>
                      <a:pt x="391" y="1521"/>
                    </a:lnTo>
                    <a:lnTo>
                      <a:pt x="411" y="1535"/>
                    </a:lnTo>
                    <a:lnTo>
                      <a:pt x="411" y="1535"/>
                    </a:lnTo>
                    <a:lnTo>
                      <a:pt x="413" y="1558"/>
                    </a:lnTo>
                    <a:lnTo>
                      <a:pt x="413" y="1582"/>
                    </a:lnTo>
                    <a:lnTo>
                      <a:pt x="413" y="1629"/>
                    </a:lnTo>
                    <a:lnTo>
                      <a:pt x="413" y="1675"/>
                    </a:lnTo>
                    <a:lnTo>
                      <a:pt x="413" y="1698"/>
                    </a:lnTo>
                    <a:lnTo>
                      <a:pt x="415" y="1722"/>
                    </a:lnTo>
                    <a:lnTo>
                      <a:pt x="415" y="1722"/>
                    </a:lnTo>
                    <a:lnTo>
                      <a:pt x="418" y="1739"/>
                    </a:lnTo>
                    <a:lnTo>
                      <a:pt x="420" y="1757"/>
                    </a:lnTo>
                    <a:lnTo>
                      <a:pt x="420" y="1766"/>
                    </a:lnTo>
                    <a:lnTo>
                      <a:pt x="420" y="1774"/>
                    </a:lnTo>
                    <a:lnTo>
                      <a:pt x="419" y="1781"/>
                    </a:lnTo>
                    <a:lnTo>
                      <a:pt x="416" y="1787"/>
                    </a:lnTo>
                    <a:lnTo>
                      <a:pt x="416" y="1787"/>
                    </a:lnTo>
                    <a:lnTo>
                      <a:pt x="418" y="1792"/>
                    </a:lnTo>
                    <a:lnTo>
                      <a:pt x="419" y="1798"/>
                    </a:lnTo>
                    <a:lnTo>
                      <a:pt x="418" y="1809"/>
                    </a:lnTo>
                    <a:lnTo>
                      <a:pt x="415" y="1819"/>
                    </a:lnTo>
                    <a:lnTo>
                      <a:pt x="412" y="1829"/>
                    </a:lnTo>
                    <a:lnTo>
                      <a:pt x="409" y="1840"/>
                    </a:lnTo>
                    <a:lnTo>
                      <a:pt x="405" y="1850"/>
                    </a:lnTo>
                    <a:lnTo>
                      <a:pt x="403" y="1860"/>
                    </a:lnTo>
                    <a:lnTo>
                      <a:pt x="403" y="1871"/>
                    </a:lnTo>
                    <a:lnTo>
                      <a:pt x="403" y="1871"/>
                    </a:lnTo>
                    <a:lnTo>
                      <a:pt x="403" y="1883"/>
                    </a:lnTo>
                    <a:lnTo>
                      <a:pt x="403" y="1888"/>
                    </a:lnTo>
                    <a:lnTo>
                      <a:pt x="401" y="1893"/>
                    </a:lnTo>
                    <a:lnTo>
                      <a:pt x="399" y="1898"/>
                    </a:lnTo>
                    <a:lnTo>
                      <a:pt x="396" y="1901"/>
                    </a:lnTo>
                    <a:lnTo>
                      <a:pt x="389" y="1909"/>
                    </a:lnTo>
                    <a:lnTo>
                      <a:pt x="389" y="1909"/>
                    </a:lnTo>
                    <a:lnTo>
                      <a:pt x="386" y="1884"/>
                    </a:lnTo>
                    <a:lnTo>
                      <a:pt x="381" y="1860"/>
                    </a:lnTo>
                    <a:lnTo>
                      <a:pt x="377" y="1836"/>
                    </a:lnTo>
                    <a:lnTo>
                      <a:pt x="371" y="1814"/>
                    </a:lnTo>
                    <a:lnTo>
                      <a:pt x="356" y="1770"/>
                    </a:lnTo>
                    <a:lnTo>
                      <a:pt x="340" y="1726"/>
                    </a:lnTo>
                    <a:lnTo>
                      <a:pt x="340" y="1726"/>
                    </a:lnTo>
                    <a:lnTo>
                      <a:pt x="323" y="1680"/>
                    </a:lnTo>
                    <a:lnTo>
                      <a:pt x="305" y="1632"/>
                    </a:lnTo>
                    <a:lnTo>
                      <a:pt x="287" y="1587"/>
                    </a:lnTo>
                    <a:lnTo>
                      <a:pt x="268" y="1540"/>
                    </a:lnTo>
                    <a:lnTo>
                      <a:pt x="247" y="1496"/>
                    </a:lnTo>
                    <a:lnTo>
                      <a:pt x="226" y="1451"/>
                    </a:lnTo>
                    <a:lnTo>
                      <a:pt x="204" y="1408"/>
                    </a:lnTo>
                    <a:lnTo>
                      <a:pt x="180" y="1366"/>
                    </a:lnTo>
                    <a:lnTo>
                      <a:pt x="180" y="1366"/>
                    </a:lnTo>
                    <a:lnTo>
                      <a:pt x="205" y="1422"/>
                    </a:lnTo>
                    <a:lnTo>
                      <a:pt x="229" y="1480"/>
                    </a:lnTo>
                    <a:lnTo>
                      <a:pt x="253" y="1539"/>
                    </a:lnTo>
                    <a:lnTo>
                      <a:pt x="276" y="1600"/>
                    </a:lnTo>
                    <a:lnTo>
                      <a:pt x="300" y="1663"/>
                    </a:lnTo>
                    <a:lnTo>
                      <a:pt x="321" y="1725"/>
                    </a:lnTo>
                    <a:lnTo>
                      <a:pt x="342" y="1789"/>
                    </a:lnTo>
                    <a:lnTo>
                      <a:pt x="362" y="1851"/>
                    </a:lnTo>
                    <a:lnTo>
                      <a:pt x="362" y="1851"/>
                    </a:lnTo>
                    <a:lnTo>
                      <a:pt x="368" y="1869"/>
                    </a:lnTo>
                    <a:lnTo>
                      <a:pt x="374" y="1890"/>
                    </a:lnTo>
                    <a:lnTo>
                      <a:pt x="380" y="1909"/>
                    </a:lnTo>
                    <a:lnTo>
                      <a:pt x="381" y="1918"/>
                    </a:lnTo>
                    <a:lnTo>
                      <a:pt x="381" y="1926"/>
                    </a:lnTo>
                    <a:lnTo>
                      <a:pt x="381" y="1926"/>
                    </a:lnTo>
                    <a:lnTo>
                      <a:pt x="380" y="1934"/>
                    </a:lnTo>
                    <a:lnTo>
                      <a:pt x="376" y="1942"/>
                    </a:lnTo>
                    <a:lnTo>
                      <a:pt x="365" y="1958"/>
                    </a:lnTo>
                    <a:lnTo>
                      <a:pt x="365" y="1958"/>
                    </a:lnTo>
                    <a:lnTo>
                      <a:pt x="314" y="2055"/>
                    </a:lnTo>
                    <a:lnTo>
                      <a:pt x="314" y="2055"/>
                    </a:lnTo>
                    <a:lnTo>
                      <a:pt x="293" y="2046"/>
                    </a:lnTo>
                    <a:lnTo>
                      <a:pt x="271" y="2037"/>
                    </a:lnTo>
                    <a:lnTo>
                      <a:pt x="251" y="2028"/>
                    </a:lnTo>
                    <a:lnTo>
                      <a:pt x="230" y="2019"/>
                    </a:lnTo>
                    <a:lnTo>
                      <a:pt x="230" y="2019"/>
                    </a:lnTo>
                    <a:lnTo>
                      <a:pt x="239" y="2025"/>
                    </a:lnTo>
                    <a:lnTo>
                      <a:pt x="250" y="2030"/>
                    </a:lnTo>
                    <a:lnTo>
                      <a:pt x="270" y="2041"/>
                    </a:lnTo>
                    <a:lnTo>
                      <a:pt x="292" y="2050"/>
                    </a:lnTo>
                    <a:lnTo>
                      <a:pt x="302" y="2055"/>
                    </a:lnTo>
                    <a:lnTo>
                      <a:pt x="311" y="2062"/>
                    </a:lnTo>
                    <a:lnTo>
                      <a:pt x="311" y="2062"/>
                    </a:lnTo>
                    <a:lnTo>
                      <a:pt x="301" y="2085"/>
                    </a:lnTo>
                    <a:lnTo>
                      <a:pt x="289" y="2108"/>
                    </a:lnTo>
                    <a:lnTo>
                      <a:pt x="267" y="2153"/>
                    </a:lnTo>
                    <a:lnTo>
                      <a:pt x="309" y="2153"/>
                    </a:lnTo>
                    <a:lnTo>
                      <a:pt x="309" y="2153"/>
                    </a:lnTo>
                    <a:lnTo>
                      <a:pt x="327" y="2114"/>
                    </a:lnTo>
                    <a:lnTo>
                      <a:pt x="336" y="2095"/>
                    </a:lnTo>
                    <a:lnTo>
                      <a:pt x="347" y="2077"/>
                    </a:lnTo>
                    <a:lnTo>
                      <a:pt x="347" y="2077"/>
                    </a:lnTo>
                    <a:lnTo>
                      <a:pt x="347" y="2083"/>
                    </a:lnTo>
                    <a:lnTo>
                      <a:pt x="347" y="2089"/>
                    </a:lnTo>
                    <a:lnTo>
                      <a:pt x="344" y="2102"/>
                    </a:lnTo>
                    <a:lnTo>
                      <a:pt x="340" y="2114"/>
                    </a:lnTo>
                    <a:lnTo>
                      <a:pt x="336" y="2129"/>
                    </a:lnTo>
                    <a:lnTo>
                      <a:pt x="336" y="2129"/>
                    </a:lnTo>
                    <a:lnTo>
                      <a:pt x="329" y="2153"/>
                    </a:lnTo>
                    <a:lnTo>
                      <a:pt x="347" y="2153"/>
                    </a:lnTo>
                    <a:lnTo>
                      <a:pt x="347" y="2153"/>
                    </a:lnTo>
                    <a:lnTo>
                      <a:pt x="357" y="2120"/>
                    </a:lnTo>
                    <a:lnTo>
                      <a:pt x="369" y="2088"/>
                    </a:lnTo>
                    <a:lnTo>
                      <a:pt x="369" y="2088"/>
                    </a:lnTo>
                    <a:lnTo>
                      <a:pt x="379" y="2094"/>
                    </a:lnTo>
                    <a:lnTo>
                      <a:pt x="388" y="2101"/>
                    </a:lnTo>
                    <a:lnTo>
                      <a:pt x="395" y="2108"/>
                    </a:lnTo>
                    <a:lnTo>
                      <a:pt x="403" y="2116"/>
                    </a:lnTo>
                    <a:lnTo>
                      <a:pt x="415" y="2133"/>
                    </a:lnTo>
                    <a:lnTo>
                      <a:pt x="428" y="2148"/>
                    </a:lnTo>
                    <a:lnTo>
                      <a:pt x="428" y="2148"/>
                    </a:lnTo>
                    <a:lnTo>
                      <a:pt x="426" y="2148"/>
                    </a:lnTo>
                    <a:lnTo>
                      <a:pt x="424" y="2147"/>
                    </a:lnTo>
                    <a:lnTo>
                      <a:pt x="421" y="2144"/>
                    </a:lnTo>
                    <a:lnTo>
                      <a:pt x="419" y="2143"/>
                    </a:lnTo>
                    <a:lnTo>
                      <a:pt x="418" y="2143"/>
                    </a:lnTo>
                    <a:lnTo>
                      <a:pt x="416" y="2145"/>
                    </a:lnTo>
                    <a:lnTo>
                      <a:pt x="416" y="2145"/>
                    </a:lnTo>
                    <a:lnTo>
                      <a:pt x="418" y="2147"/>
                    </a:lnTo>
                    <a:lnTo>
                      <a:pt x="420" y="2150"/>
                    </a:lnTo>
                    <a:lnTo>
                      <a:pt x="424" y="2153"/>
                    </a:lnTo>
                    <a:lnTo>
                      <a:pt x="458" y="2153"/>
                    </a:lnTo>
                    <a:lnTo>
                      <a:pt x="458" y="2153"/>
                    </a:lnTo>
                    <a:lnTo>
                      <a:pt x="458" y="2141"/>
                    </a:lnTo>
                    <a:lnTo>
                      <a:pt x="458" y="2141"/>
                    </a:lnTo>
                    <a:lnTo>
                      <a:pt x="482" y="2153"/>
                    </a:lnTo>
                    <a:lnTo>
                      <a:pt x="493" y="2153"/>
                    </a:lnTo>
                    <a:lnTo>
                      <a:pt x="493" y="2153"/>
                    </a:lnTo>
                    <a:lnTo>
                      <a:pt x="475" y="2143"/>
                    </a:lnTo>
                    <a:lnTo>
                      <a:pt x="458" y="2130"/>
                    </a:lnTo>
                    <a:lnTo>
                      <a:pt x="458" y="2130"/>
                    </a:lnTo>
                    <a:lnTo>
                      <a:pt x="468" y="2118"/>
                    </a:lnTo>
                    <a:lnTo>
                      <a:pt x="477" y="2105"/>
                    </a:lnTo>
                    <a:lnTo>
                      <a:pt x="487" y="2093"/>
                    </a:lnTo>
                    <a:lnTo>
                      <a:pt x="497" y="2081"/>
                    </a:lnTo>
                    <a:lnTo>
                      <a:pt x="519" y="2059"/>
                    </a:lnTo>
                    <a:lnTo>
                      <a:pt x="541" y="2037"/>
                    </a:lnTo>
                    <a:lnTo>
                      <a:pt x="541" y="2037"/>
                    </a:lnTo>
                    <a:lnTo>
                      <a:pt x="565" y="2081"/>
                    </a:lnTo>
                    <a:lnTo>
                      <a:pt x="575" y="2104"/>
                    </a:lnTo>
                    <a:lnTo>
                      <a:pt x="583" y="2126"/>
                    </a:lnTo>
                    <a:lnTo>
                      <a:pt x="583" y="2126"/>
                    </a:lnTo>
                    <a:lnTo>
                      <a:pt x="562" y="2101"/>
                    </a:lnTo>
                    <a:lnTo>
                      <a:pt x="552" y="2089"/>
                    </a:lnTo>
                    <a:lnTo>
                      <a:pt x="540" y="2077"/>
                    </a:lnTo>
                    <a:lnTo>
                      <a:pt x="540" y="2077"/>
                    </a:lnTo>
                    <a:lnTo>
                      <a:pt x="570" y="2114"/>
                    </a:lnTo>
                    <a:lnTo>
                      <a:pt x="583" y="2134"/>
                    </a:lnTo>
                    <a:lnTo>
                      <a:pt x="597" y="2153"/>
                    </a:lnTo>
                    <a:lnTo>
                      <a:pt x="625" y="2153"/>
                    </a:lnTo>
                    <a:lnTo>
                      <a:pt x="625" y="2153"/>
                    </a:lnTo>
                    <a:lnTo>
                      <a:pt x="619" y="2137"/>
                    </a:lnTo>
                    <a:lnTo>
                      <a:pt x="613" y="2121"/>
                    </a:lnTo>
                    <a:lnTo>
                      <a:pt x="607" y="2104"/>
                    </a:lnTo>
                    <a:lnTo>
                      <a:pt x="604" y="2087"/>
                    </a:lnTo>
                    <a:lnTo>
                      <a:pt x="599" y="2070"/>
                    </a:lnTo>
                    <a:lnTo>
                      <a:pt x="597" y="2052"/>
                    </a:lnTo>
                    <a:lnTo>
                      <a:pt x="595" y="2035"/>
                    </a:lnTo>
                    <a:lnTo>
                      <a:pt x="594" y="2017"/>
                    </a:lnTo>
                    <a:lnTo>
                      <a:pt x="594" y="2017"/>
                    </a:lnTo>
                    <a:lnTo>
                      <a:pt x="605" y="2051"/>
                    </a:lnTo>
                    <a:lnTo>
                      <a:pt x="616" y="2085"/>
                    </a:lnTo>
                    <a:lnTo>
                      <a:pt x="637" y="2153"/>
                    </a:lnTo>
                    <a:lnTo>
                      <a:pt x="648" y="2153"/>
                    </a:lnTo>
                    <a:lnTo>
                      <a:pt x="648" y="2153"/>
                    </a:lnTo>
                    <a:lnTo>
                      <a:pt x="615" y="2058"/>
                    </a:lnTo>
                    <a:lnTo>
                      <a:pt x="615" y="2058"/>
                    </a:lnTo>
                    <a:lnTo>
                      <a:pt x="601" y="2021"/>
                    </a:lnTo>
                    <a:lnTo>
                      <a:pt x="595" y="2002"/>
                    </a:lnTo>
                    <a:lnTo>
                      <a:pt x="594" y="1994"/>
                    </a:lnTo>
                    <a:lnTo>
                      <a:pt x="594" y="1988"/>
                    </a:lnTo>
                    <a:lnTo>
                      <a:pt x="594" y="1988"/>
                    </a:lnTo>
                    <a:lnTo>
                      <a:pt x="595" y="1985"/>
                    </a:lnTo>
                    <a:lnTo>
                      <a:pt x="597" y="1982"/>
                    </a:lnTo>
                    <a:lnTo>
                      <a:pt x="604" y="1975"/>
                    </a:lnTo>
                    <a:lnTo>
                      <a:pt x="622" y="1960"/>
                    </a:lnTo>
                    <a:lnTo>
                      <a:pt x="622" y="1960"/>
                    </a:lnTo>
                    <a:lnTo>
                      <a:pt x="640" y="1943"/>
                    </a:lnTo>
                    <a:lnTo>
                      <a:pt x="648" y="1936"/>
                    </a:lnTo>
                    <a:lnTo>
                      <a:pt x="657" y="1932"/>
                    </a:lnTo>
                    <a:lnTo>
                      <a:pt x="657" y="1932"/>
                    </a:lnTo>
                    <a:lnTo>
                      <a:pt x="688" y="2013"/>
                    </a:lnTo>
                    <a:lnTo>
                      <a:pt x="705" y="2058"/>
                    </a:lnTo>
                    <a:lnTo>
                      <a:pt x="718" y="2100"/>
                    </a:lnTo>
                    <a:lnTo>
                      <a:pt x="718" y="2100"/>
                    </a:lnTo>
                    <a:lnTo>
                      <a:pt x="729" y="2127"/>
                    </a:lnTo>
                    <a:lnTo>
                      <a:pt x="733" y="2142"/>
                    </a:lnTo>
                    <a:lnTo>
                      <a:pt x="735" y="2153"/>
                    </a:lnTo>
                    <a:lnTo>
                      <a:pt x="785" y="2153"/>
                    </a:lnTo>
                    <a:lnTo>
                      <a:pt x="785" y="2153"/>
                    </a:lnTo>
                    <a:lnTo>
                      <a:pt x="787" y="2138"/>
                    </a:lnTo>
                    <a:lnTo>
                      <a:pt x="790" y="2123"/>
                    </a:lnTo>
                    <a:lnTo>
                      <a:pt x="790" y="2123"/>
                    </a:lnTo>
                    <a:lnTo>
                      <a:pt x="799" y="2153"/>
                    </a:lnTo>
                    <a:lnTo>
                      <a:pt x="886" y="2153"/>
                    </a:lnTo>
                    <a:lnTo>
                      <a:pt x="886" y="2153"/>
                    </a:lnTo>
                    <a:lnTo>
                      <a:pt x="876" y="2138"/>
                    </a:lnTo>
                    <a:lnTo>
                      <a:pt x="867" y="2123"/>
                    </a:lnTo>
                    <a:lnTo>
                      <a:pt x="864" y="2116"/>
                    </a:lnTo>
                    <a:lnTo>
                      <a:pt x="861" y="2108"/>
                    </a:lnTo>
                    <a:lnTo>
                      <a:pt x="859" y="2100"/>
                    </a:lnTo>
                    <a:lnTo>
                      <a:pt x="859" y="2091"/>
                    </a:lnTo>
                    <a:lnTo>
                      <a:pt x="859" y="2091"/>
                    </a:lnTo>
                    <a:lnTo>
                      <a:pt x="869" y="2105"/>
                    </a:lnTo>
                    <a:lnTo>
                      <a:pt x="878" y="2120"/>
                    </a:lnTo>
                    <a:lnTo>
                      <a:pt x="888" y="2137"/>
                    </a:lnTo>
                    <a:lnTo>
                      <a:pt x="894" y="2153"/>
                    </a:lnTo>
                    <a:lnTo>
                      <a:pt x="924" y="2153"/>
                    </a:lnTo>
                    <a:lnTo>
                      <a:pt x="924" y="2153"/>
                    </a:lnTo>
                    <a:lnTo>
                      <a:pt x="905" y="2127"/>
                    </a:lnTo>
                    <a:lnTo>
                      <a:pt x="896" y="2114"/>
                    </a:lnTo>
                    <a:lnTo>
                      <a:pt x="888" y="2102"/>
                    </a:lnTo>
                    <a:lnTo>
                      <a:pt x="888" y="2102"/>
                    </a:lnTo>
                    <a:lnTo>
                      <a:pt x="883" y="2093"/>
                    </a:lnTo>
                    <a:lnTo>
                      <a:pt x="880" y="2081"/>
                    </a:lnTo>
                    <a:lnTo>
                      <a:pt x="876" y="2071"/>
                    </a:lnTo>
                    <a:lnTo>
                      <a:pt x="873" y="2061"/>
                    </a:lnTo>
                    <a:lnTo>
                      <a:pt x="873" y="2061"/>
                    </a:lnTo>
                    <a:lnTo>
                      <a:pt x="867" y="2050"/>
                    </a:lnTo>
                    <a:lnTo>
                      <a:pt x="863" y="2039"/>
                    </a:lnTo>
                    <a:lnTo>
                      <a:pt x="858" y="2028"/>
                    </a:lnTo>
                    <a:lnTo>
                      <a:pt x="856" y="2024"/>
                    </a:lnTo>
                    <a:lnTo>
                      <a:pt x="856" y="2019"/>
                    </a:lnTo>
                    <a:lnTo>
                      <a:pt x="856" y="2019"/>
                    </a:lnTo>
                    <a:lnTo>
                      <a:pt x="857" y="2012"/>
                    </a:lnTo>
                    <a:lnTo>
                      <a:pt x="860" y="2005"/>
                    </a:lnTo>
                    <a:lnTo>
                      <a:pt x="869" y="1991"/>
                    </a:lnTo>
                    <a:lnTo>
                      <a:pt x="869" y="1991"/>
                    </a:lnTo>
                    <a:lnTo>
                      <a:pt x="882" y="1969"/>
                    </a:lnTo>
                    <a:lnTo>
                      <a:pt x="896" y="1946"/>
                    </a:lnTo>
                    <a:lnTo>
                      <a:pt x="909" y="1926"/>
                    </a:lnTo>
                    <a:lnTo>
                      <a:pt x="922" y="1908"/>
                    </a:lnTo>
                    <a:lnTo>
                      <a:pt x="922" y="1908"/>
                    </a:lnTo>
                    <a:lnTo>
                      <a:pt x="934" y="1927"/>
                    </a:lnTo>
                    <a:lnTo>
                      <a:pt x="948" y="1946"/>
                    </a:lnTo>
                    <a:lnTo>
                      <a:pt x="948" y="1946"/>
                    </a:lnTo>
                    <a:lnTo>
                      <a:pt x="948" y="1958"/>
                    </a:lnTo>
                    <a:lnTo>
                      <a:pt x="949" y="1969"/>
                    </a:lnTo>
                    <a:lnTo>
                      <a:pt x="952" y="1992"/>
                    </a:lnTo>
                    <a:lnTo>
                      <a:pt x="958" y="2016"/>
                    </a:lnTo>
                    <a:lnTo>
                      <a:pt x="965" y="2039"/>
                    </a:lnTo>
                    <a:lnTo>
                      <a:pt x="972" y="2062"/>
                    </a:lnTo>
                    <a:lnTo>
                      <a:pt x="977" y="2086"/>
                    </a:lnTo>
                    <a:lnTo>
                      <a:pt x="982" y="2108"/>
                    </a:lnTo>
                    <a:lnTo>
                      <a:pt x="984" y="2119"/>
                    </a:lnTo>
                    <a:lnTo>
                      <a:pt x="984" y="2130"/>
                    </a:lnTo>
                    <a:lnTo>
                      <a:pt x="984" y="2130"/>
                    </a:lnTo>
                    <a:lnTo>
                      <a:pt x="984" y="2142"/>
                    </a:lnTo>
                    <a:lnTo>
                      <a:pt x="983" y="2153"/>
                    </a:lnTo>
                    <a:lnTo>
                      <a:pt x="1015" y="2153"/>
                    </a:lnTo>
                    <a:lnTo>
                      <a:pt x="1015" y="2153"/>
                    </a:lnTo>
                    <a:lnTo>
                      <a:pt x="1014" y="2131"/>
                    </a:lnTo>
                    <a:lnTo>
                      <a:pt x="1015" y="2111"/>
                    </a:lnTo>
                    <a:lnTo>
                      <a:pt x="1017" y="2092"/>
                    </a:lnTo>
                    <a:lnTo>
                      <a:pt x="1022" y="2074"/>
                    </a:lnTo>
                    <a:lnTo>
                      <a:pt x="1022" y="2074"/>
                    </a:lnTo>
                    <a:lnTo>
                      <a:pt x="1028" y="2094"/>
                    </a:lnTo>
                    <a:lnTo>
                      <a:pt x="1034" y="2113"/>
                    </a:lnTo>
                    <a:lnTo>
                      <a:pt x="1037" y="2134"/>
                    </a:lnTo>
                    <a:lnTo>
                      <a:pt x="1040" y="2153"/>
                    </a:lnTo>
                    <a:lnTo>
                      <a:pt x="1053" y="2153"/>
                    </a:lnTo>
                    <a:lnTo>
                      <a:pt x="1053" y="2153"/>
                    </a:lnTo>
                    <a:lnTo>
                      <a:pt x="1053" y="2148"/>
                    </a:lnTo>
                    <a:lnTo>
                      <a:pt x="1053" y="2148"/>
                    </a:lnTo>
                    <a:lnTo>
                      <a:pt x="1056" y="2153"/>
                    </a:lnTo>
                    <a:lnTo>
                      <a:pt x="1069" y="2153"/>
                    </a:lnTo>
                    <a:lnTo>
                      <a:pt x="1069" y="2153"/>
                    </a:lnTo>
                    <a:lnTo>
                      <a:pt x="1054" y="2120"/>
                    </a:lnTo>
                    <a:lnTo>
                      <a:pt x="1054" y="2120"/>
                    </a:lnTo>
                    <a:lnTo>
                      <a:pt x="1050" y="2108"/>
                    </a:lnTo>
                    <a:lnTo>
                      <a:pt x="1047" y="2094"/>
                    </a:lnTo>
                    <a:lnTo>
                      <a:pt x="1044" y="2080"/>
                    </a:lnTo>
                    <a:lnTo>
                      <a:pt x="1042" y="2067"/>
                    </a:lnTo>
                    <a:lnTo>
                      <a:pt x="1035" y="2010"/>
                    </a:lnTo>
                    <a:lnTo>
                      <a:pt x="1035" y="2010"/>
                    </a:lnTo>
                    <a:lnTo>
                      <a:pt x="1032" y="1996"/>
                    </a:lnTo>
                    <a:lnTo>
                      <a:pt x="1029" y="1983"/>
                    </a:lnTo>
                    <a:lnTo>
                      <a:pt x="1029" y="1983"/>
                    </a:lnTo>
                    <a:lnTo>
                      <a:pt x="1028" y="1966"/>
                    </a:lnTo>
                    <a:lnTo>
                      <a:pt x="1029" y="1949"/>
                    </a:lnTo>
                    <a:lnTo>
                      <a:pt x="1032" y="1931"/>
                    </a:lnTo>
                    <a:lnTo>
                      <a:pt x="1034" y="1912"/>
                    </a:lnTo>
                    <a:lnTo>
                      <a:pt x="1041" y="1876"/>
                    </a:lnTo>
                    <a:lnTo>
                      <a:pt x="1045" y="1841"/>
                    </a:lnTo>
                    <a:lnTo>
                      <a:pt x="1045" y="1841"/>
                    </a:lnTo>
                    <a:lnTo>
                      <a:pt x="1050" y="1803"/>
                    </a:lnTo>
                    <a:lnTo>
                      <a:pt x="1057" y="1768"/>
                    </a:lnTo>
                    <a:lnTo>
                      <a:pt x="1065" y="1736"/>
                    </a:lnTo>
                    <a:lnTo>
                      <a:pt x="1070" y="1723"/>
                    </a:lnTo>
                    <a:lnTo>
                      <a:pt x="1075" y="1709"/>
                    </a:lnTo>
                    <a:lnTo>
                      <a:pt x="1075" y="1709"/>
                    </a:lnTo>
                    <a:lnTo>
                      <a:pt x="1077" y="1706"/>
                    </a:lnTo>
                    <a:lnTo>
                      <a:pt x="1081" y="1702"/>
                    </a:lnTo>
                    <a:lnTo>
                      <a:pt x="1089" y="1697"/>
                    </a:lnTo>
                    <a:lnTo>
                      <a:pt x="1096" y="1691"/>
                    </a:lnTo>
                    <a:lnTo>
                      <a:pt x="1099" y="1688"/>
                    </a:lnTo>
                    <a:lnTo>
                      <a:pt x="1100" y="1684"/>
                    </a:lnTo>
                    <a:lnTo>
                      <a:pt x="1100" y="1684"/>
                    </a:lnTo>
                    <a:lnTo>
                      <a:pt x="1091" y="1692"/>
                    </a:lnTo>
                    <a:lnTo>
                      <a:pt x="1085" y="1696"/>
                    </a:lnTo>
                    <a:lnTo>
                      <a:pt x="1079" y="1698"/>
                    </a:lnTo>
                    <a:lnTo>
                      <a:pt x="1079" y="1698"/>
                    </a:lnTo>
                    <a:lnTo>
                      <a:pt x="1086" y="1678"/>
                    </a:lnTo>
                    <a:lnTo>
                      <a:pt x="1091" y="1669"/>
                    </a:lnTo>
                    <a:lnTo>
                      <a:pt x="1096" y="1661"/>
                    </a:lnTo>
                    <a:lnTo>
                      <a:pt x="1096" y="1661"/>
                    </a:lnTo>
                    <a:lnTo>
                      <a:pt x="1126" y="1728"/>
                    </a:lnTo>
                    <a:lnTo>
                      <a:pt x="1140" y="1762"/>
                    </a:lnTo>
                    <a:lnTo>
                      <a:pt x="1151" y="1797"/>
                    </a:lnTo>
                    <a:lnTo>
                      <a:pt x="1151" y="1797"/>
                    </a:lnTo>
                    <a:lnTo>
                      <a:pt x="1155" y="1808"/>
                    </a:lnTo>
                    <a:lnTo>
                      <a:pt x="1161" y="1819"/>
                    </a:lnTo>
                    <a:lnTo>
                      <a:pt x="1166" y="1832"/>
                    </a:lnTo>
                    <a:lnTo>
                      <a:pt x="1169" y="1842"/>
                    </a:lnTo>
                    <a:lnTo>
                      <a:pt x="1169" y="1842"/>
                    </a:lnTo>
                    <a:lnTo>
                      <a:pt x="1169" y="1851"/>
                    </a:lnTo>
                    <a:lnTo>
                      <a:pt x="1167" y="1860"/>
                    </a:lnTo>
                    <a:lnTo>
                      <a:pt x="1166" y="1868"/>
                    </a:lnTo>
                    <a:lnTo>
                      <a:pt x="1163" y="1877"/>
                    </a:lnTo>
                    <a:lnTo>
                      <a:pt x="1163" y="1877"/>
                    </a:lnTo>
                    <a:lnTo>
                      <a:pt x="1158" y="1933"/>
                    </a:lnTo>
                    <a:lnTo>
                      <a:pt x="1154" y="1960"/>
                    </a:lnTo>
                    <a:lnTo>
                      <a:pt x="1150" y="1986"/>
                    </a:lnTo>
                    <a:lnTo>
                      <a:pt x="1150" y="1986"/>
                    </a:lnTo>
                    <a:lnTo>
                      <a:pt x="1134" y="1958"/>
                    </a:lnTo>
                    <a:lnTo>
                      <a:pt x="1118" y="1929"/>
                    </a:lnTo>
                    <a:lnTo>
                      <a:pt x="1102" y="1902"/>
                    </a:lnTo>
                    <a:lnTo>
                      <a:pt x="1084" y="1876"/>
                    </a:lnTo>
                    <a:lnTo>
                      <a:pt x="1084" y="1876"/>
                    </a:lnTo>
                    <a:lnTo>
                      <a:pt x="1118" y="1938"/>
                    </a:lnTo>
                    <a:lnTo>
                      <a:pt x="1118" y="1938"/>
                    </a:lnTo>
                    <a:lnTo>
                      <a:pt x="1136" y="1971"/>
                    </a:lnTo>
                    <a:lnTo>
                      <a:pt x="1144" y="1987"/>
                    </a:lnTo>
                    <a:lnTo>
                      <a:pt x="1148" y="1995"/>
                    </a:lnTo>
                    <a:lnTo>
                      <a:pt x="1150" y="2003"/>
                    </a:lnTo>
                    <a:lnTo>
                      <a:pt x="1150" y="2003"/>
                    </a:lnTo>
                    <a:lnTo>
                      <a:pt x="1151" y="2011"/>
                    </a:lnTo>
                    <a:lnTo>
                      <a:pt x="1151" y="2020"/>
                    </a:lnTo>
                    <a:lnTo>
                      <a:pt x="1150" y="2038"/>
                    </a:lnTo>
                    <a:lnTo>
                      <a:pt x="1149" y="2058"/>
                    </a:lnTo>
                    <a:lnTo>
                      <a:pt x="1146" y="2076"/>
                    </a:lnTo>
                    <a:lnTo>
                      <a:pt x="1146" y="2076"/>
                    </a:lnTo>
                    <a:lnTo>
                      <a:pt x="1142" y="2153"/>
                    </a:lnTo>
                    <a:lnTo>
                      <a:pt x="1169" y="2153"/>
                    </a:lnTo>
                    <a:lnTo>
                      <a:pt x="1169" y="2153"/>
                    </a:lnTo>
                    <a:lnTo>
                      <a:pt x="1171" y="2109"/>
                    </a:lnTo>
                    <a:lnTo>
                      <a:pt x="1174" y="2087"/>
                    </a:lnTo>
                    <a:lnTo>
                      <a:pt x="1176" y="2067"/>
                    </a:lnTo>
                    <a:lnTo>
                      <a:pt x="1176" y="2067"/>
                    </a:lnTo>
                    <a:lnTo>
                      <a:pt x="1186" y="2086"/>
                    </a:lnTo>
                    <a:lnTo>
                      <a:pt x="1194" y="2105"/>
                    </a:lnTo>
                    <a:lnTo>
                      <a:pt x="1203" y="2125"/>
                    </a:lnTo>
                    <a:lnTo>
                      <a:pt x="1212" y="2144"/>
                    </a:lnTo>
                    <a:lnTo>
                      <a:pt x="1212" y="2144"/>
                    </a:lnTo>
                    <a:lnTo>
                      <a:pt x="1207" y="2153"/>
                    </a:lnTo>
                    <a:lnTo>
                      <a:pt x="1255" y="2153"/>
                    </a:lnTo>
                    <a:lnTo>
                      <a:pt x="1255" y="2153"/>
                    </a:lnTo>
                    <a:lnTo>
                      <a:pt x="1258" y="2146"/>
                    </a:lnTo>
                    <a:lnTo>
                      <a:pt x="1260" y="2138"/>
                    </a:lnTo>
                    <a:lnTo>
                      <a:pt x="1260" y="2138"/>
                    </a:lnTo>
                    <a:lnTo>
                      <a:pt x="1266" y="2153"/>
                    </a:lnTo>
                    <a:lnTo>
                      <a:pt x="1376" y="2153"/>
                    </a:lnTo>
                    <a:lnTo>
                      <a:pt x="1376" y="2153"/>
                    </a:lnTo>
                    <a:lnTo>
                      <a:pt x="1355" y="2088"/>
                    </a:lnTo>
                    <a:lnTo>
                      <a:pt x="1345" y="2057"/>
                    </a:lnTo>
                    <a:lnTo>
                      <a:pt x="1337" y="2024"/>
                    </a:lnTo>
                    <a:lnTo>
                      <a:pt x="1337" y="2024"/>
                    </a:lnTo>
                    <a:lnTo>
                      <a:pt x="1344" y="2032"/>
                    </a:lnTo>
                    <a:lnTo>
                      <a:pt x="1348" y="2038"/>
                    </a:lnTo>
                    <a:lnTo>
                      <a:pt x="1358" y="2054"/>
                    </a:lnTo>
                    <a:lnTo>
                      <a:pt x="1368" y="2070"/>
                    </a:lnTo>
                    <a:lnTo>
                      <a:pt x="1372" y="2077"/>
                    </a:lnTo>
                    <a:lnTo>
                      <a:pt x="1378" y="2085"/>
                    </a:lnTo>
                    <a:lnTo>
                      <a:pt x="1378" y="2085"/>
                    </a:lnTo>
                    <a:lnTo>
                      <a:pt x="1377" y="2079"/>
                    </a:lnTo>
                    <a:lnTo>
                      <a:pt x="1375" y="2074"/>
                    </a:lnTo>
                    <a:lnTo>
                      <a:pt x="1369" y="2064"/>
                    </a:lnTo>
                    <a:lnTo>
                      <a:pt x="1363" y="2054"/>
                    </a:lnTo>
                    <a:lnTo>
                      <a:pt x="1362" y="2051"/>
                    </a:lnTo>
                    <a:lnTo>
                      <a:pt x="1361" y="2046"/>
                    </a:lnTo>
                    <a:lnTo>
                      <a:pt x="1361" y="2046"/>
                    </a:lnTo>
                    <a:lnTo>
                      <a:pt x="1367" y="2054"/>
                    </a:lnTo>
                    <a:lnTo>
                      <a:pt x="1375" y="2063"/>
                    </a:lnTo>
                    <a:lnTo>
                      <a:pt x="1395" y="2081"/>
                    </a:lnTo>
                    <a:lnTo>
                      <a:pt x="1413" y="2101"/>
                    </a:lnTo>
                    <a:lnTo>
                      <a:pt x="1421" y="2109"/>
                    </a:lnTo>
                    <a:lnTo>
                      <a:pt x="1426" y="2117"/>
                    </a:lnTo>
                    <a:lnTo>
                      <a:pt x="1426" y="2117"/>
                    </a:lnTo>
                    <a:lnTo>
                      <a:pt x="1427" y="2121"/>
                    </a:lnTo>
                    <a:lnTo>
                      <a:pt x="1428" y="2126"/>
                    </a:lnTo>
                    <a:lnTo>
                      <a:pt x="1427" y="2135"/>
                    </a:lnTo>
                    <a:lnTo>
                      <a:pt x="1426" y="2144"/>
                    </a:lnTo>
                    <a:lnTo>
                      <a:pt x="1423" y="2153"/>
                    </a:lnTo>
                    <a:lnTo>
                      <a:pt x="1448" y="2153"/>
                    </a:lnTo>
                    <a:lnTo>
                      <a:pt x="1448" y="2153"/>
                    </a:lnTo>
                    <a:lnTo>
                      <a:pt x="1448" y="2143"/>
                    </a:lnTo>
                    <a:lnTo>
                      <a:pt x="1448" y="2143"/>
                    </a:lnTo>
                    <a:lnTo>
                      <a:pt x="1459" y="2153"/>
                    </a:lnTo>
                    <a:lnTo>
                      <a:pt x="1470" y="2153"/>
                    </a:lnTo>
                    <a:close/>
                    <a:moveTo>
                      <a:pt x="1720" y="2068"/>
                    </a:moveTo>
                    <a:lnTo>
                      <a:pt x="1720" y="2068"/>
                    </a:lnTo>
                    <a:lnTo>
                      <a:pt x="1727" y="2075"/>
                    </a:lnTo>
                    <a:lnTo>
                      <a:pt x="1730" y="2077"/>
                    </a:lnTo>
                    <a:lnTo>
                      <a:pt x="1733" y="2081"/>
                    </a:lnTo>
                    <a:lnTo>
                      <a:pt x="1733" y="2081"/>
                    </a:lnTo>
                    <a:lnTo>
                      <a:pt x="1731" y="2088"/>
                    </a:lnTo>
                    <a:lnTo>
                      <a:pt x="1731" y="2095"/>
                    </a:lnTo>
                    <a:lnTo>
                      <a:pt x="1731" y="2111"/>
                    </a:lnTo>
                    <a:lnTo>
                      <a:pt x="1732" y="2127"/>
                    </a:lnTo>
                    <a:lnTo>
                      <a:pt x="1731" y="2143"/>
                    </a:lnTo>
                    <a:lnTo>
                      <a:pt x="1731" y="2143"/>
                    </a:lnTo>
                    <a:lnTo>
                      <a:pt x="1711" y="2128"/>
                    </a:lnTo>
                    <a:lnTo>
                      <a:pt x="1703" y="2121"/>
                    </a:lnTo>
                    <a:lnTo>
                      <a:pt x="1699" y="2117"/>
                    </a:lnTo>
                    <a:lnTo>
                      <a:pt x="1697" y="2113"/>
                    </a:lnTo>
                    <a:lnTo>
                      <a:pt x="1697" y="2113"/>
                    </a:lnTo>
                    <a:lnTo>
                      <a:pt x="1697" y="2109"/>
                    </a:lnTo>
                    <a:lnTo>
                      <a:pt x="1699" y="2103"/>
                    </a:lnTo>
                    <a:lnTo>
                      <a:pt x="1706" y="2089"/>
                    </a:lnTo>
                    <a:lnTo>
                      <a:pt x="1715" y="2077"/>
                    </a:lnTo>
                    <a:lnTo>
                      <a:pt x="1720" y="2068"/>
                    </a:lnTo>
                    <a:lnTo>
                      <a:pt x="1720" y="2068"/>
                    </a:lnTo>
                    <a:close/>
                    <a:moveTo>
                      <a:pt x="972" y="1672"/>
                    </a:moveTo>
                    <a:lnTo>
                      <a:pt x="972" y="1672"/>
                    </a:lnTo>
                    <a:lnTo>
                      <a:pt x="964" y="1677"/>
                    </a:lnTo>
                    <a:lnTo>
                      <a:pt x="955" y="1682"/>
                    </a:lnTo>
                    <a:lnTo>
                      <a:pt x="938" y="1692"/>
                    </a:lnTo>
                    <a:lnTo>
                      <a:pt x="938" y="1692"/>
                    </a:lnTo>
                    <a:lnTo>
                      <a:pt x="920" y="1703"/>
                    </a:lnTo>
                    <a:lnTo>
                      <a:pt x="911" y="1707"/>
                    </a:lnTo>
                    <a:lnTo>
                      <a:pt x="906" y="1709"/>
                    </a:lnTo>
                    <a:lnTo>
                      <a:pt x="901" y="1709"/>
                    </a:lnTo>
                    <a:lnTo>
                      <a:pt x="901" y="1709"/>
                    </a:lnTo>
                    <a:lnTo>
                      <a:pt x="900" y="1705"/>
                    </a:lnTo>
                    <a:lnTo>
                      <a:pt x="899" y="1700"/>
                    </a:lnTo>
                    <a:lnTo>
                      <a:pt x="893" y="1690"/>
                    </a:lnTo>
                    <a:lnTo>
                      <a:pt x="890" y="1681"/>
                    </a:lnTo>
                    <a:lnTo>
                      <a:pt x="889" y="1676"/>
                    </a:lnTo>
                    <a:lnTo>
                      <a:pt x="888" y="1671"/>
                    </a:lnTo>
                    <a:lnTo>
                      <a:pt x="888" y="1671"/>
                    </a:lnTo>
                    <a:lnTo>
                      <a:pt x="889" y="1668"/>
                    </a:lnTo>
                    <a:lnTo>
                      <a:pt x="890" y="1665"/>
                    </a:lnTo>
                    <a:lnTo>
                      <a:pt x="894" y="1659"/>
                    </a:lnTo>
                    <a:lnTo>
                      <a:pt x="900" y="1654"/>
                    </a:lnTo>
                    <a:lnTo>
                      <a:pt x="905" y="1647"/>
                    </a:lnTo>
                    <a:lnTo>
                      <a:pt x="905" y="1647"/>
                    </a:lnTo>
                    <a:lnTo>
                      <a:pt x="931" y="1607"/>
                    </a:lnTo>
                    <a:lnTo>
                      <a:pt x="944" y="1589"/>
                    </a:lnTo>
                    <a:lnTo>
                      <a:pt x="957" y="1573"/>
                    </a:lnTo>
                    <a:lnTo>
                      <a:pt x="957" y="1573"/>
                    </a:lnTo>
                    <a:lnTo>
                      <a:pt x="961" y="1598"/>
                    </a:lnTo>
                    <a:lnTo>
                      <a:pt x="965" y="1623"/>
                    </a:lnTo>
                    <a:lnTo>
                      <a:pt x="972" y="1672"/>
                    </a:lnTo>
                    <a:lnTo>
                      <a:pt x="972" y="1672"/>
                    </a:lnTo>
                    <a:close/>
                    <a:moveTo>
                      <a:pt x="951" y="1525"/>
                    </a:moveTo>
                    <a:lnTo>
                      <a:pt x="951" y="1525"/>
                    </a:lnTo>
                    <a:lnTo>
                      <a:pt x="952" y="1542"/>
                    </a:lnTo>
                    <a:lnTo>
                      <a:pt x="952" y="1549"/>
                    </a:lnTo>
                    <a:lnTo>
                      <a:pt x="951" y="1554"/>
                    </a:lnTo>
                    <a:lnTo>
                      <a:pt x="949" y="1558"/>
                    </a:lnTo>
                    <a:lnTo>
                      <a:pt x="945" y="1563"/>
                    </a:lnTo>
                    <a:lnTo>
                      <a:pt x="938" y="1573"/>
                    </a:lnTo>
                    <a:lnTo>
                      <a:pt x="938" y="1573"/>
                    </a:lnTo>
                    <a:lnTo>
                      <a:pt x="917" y="1597"/>
                    </a:lnTo>
                    <a:lnTo>
                      <a:pt x="917" y="1597"/>
                    </a:lnTo>
                    <a:lnTo>
                      <a:pt x="897" y="1622"/>
                    </a:lnTo>
                    <a:lnTo>
                      <a:pt x="888" y="1633"/>
                    </a:lnTo>
                    <a:lnTo>
                      <a:pt x="876" y="1644"/>
                    </a:lnTo>
                    <a:lnTo>
                      <a:pt x="876" y="1644"/>
                    </a:lnTo>
                    <a:lnTo>
                      <a:pt x="865" y="1614"/>
                    </a:lnTo>
                    <a:lnTo>
                      <a:pt x="855" y="1583"/>
                    </a:lnTo>
                    <a:lnTo>
                      <a:pt x="836" y="1520"/>
                    </a:lnTo>
                    <a:lnTo>
                      <a:pt x="819" y="1457"/>
                    </a:lnTo>
                    <a:lnTo>
                      <a:pt x="809" y="1426"/>
                    </a:lnTo>
                    <a:lnTo>
                      <a:pt x="798" y="1397"/>
                    </a:lnTo>
                    <a:lnTo>
                      <a:pt x="798" y="1397"/>
                    </a:lnTo>
                    <a:lnTo>
                      <a:pt x="805" y="1423"/>
                    </a:lnTo>
                    <a:lnTo>
                      <a:pt x="812" y="1450"/>
                    </a:lnTo>
                    <a:lnTo>
                      <a:pt x="818" y="1476"/>
                    </a:lnTo>
                    <a:lnTo>
                      <a:pt x="821" y="1489"/>
                    </a:lnTo>
                    <a:lnTo>
                      <a:pt x="823" y="1503"/>
                    </a:lnTo>
                    <a:lnTo>
                      <a:pt x="823" y="1503"/>
                    </a:lnTo>
                    <a:lnTo>
                      <a:pt x="816" y="1486"/>
                    </a:lnTo>
                    <a:lnTo>
                      <a:pt x="809" y="1468"/>
                    </a:lnTo>
                    <a:lnTo>
                      <a:pt x="794" y="1437"/>
                    </a:lnTo>
                    <a:lnTo>
                      <a:pt x="788" y="1420"/>
                    </a:lnTo>
                    <a:lnTo>
                      <a:pt x="781" y="1404"/>
                    </a:lnTo>
                    <a:lnTo>
                      <a:pt x="776" y="1388"/>
                    </a:lnTo>
                    <a:lnTo>
                      <a:pt x="772" y="1371"/>
                    </a:lnTo>
                    <a:lnTo>
                      <a:pt x="772" y="1371"/>
                    </a:lnTo>
                    <a:lnTo>
                      <a:pt x="782" y="1365"/>
                    </a:lnTo>
                    <a:lnTo>
                      <a:pt x="791" y="1359"/>
                    </a:lnTo>
                    <a:lnTo>
                      <a:pt x="813" y="1350"/>
                    </a:lnTo>
                    <a:lnTo>
                      <a:pt x="834" y="1340"/>
                    </a:lnTo>
                    <a:lnTo>
                      <a:pt x="855" y="1330"/>
                    </a:lnTo>
                    <a:lnTo>
                      <a:pt x="855" y="1330"/>
                    </a:lnTo>
                    <a:lnTo>
                      <a:pt x="843" y="1333"/>
                    </a:lnTo>
                    <a:lnTo>
                      <a:pt x="832" y="1336"/>
                    </a:lnTo>
                    <a:lnTo>
                      <a:pt x="812" y="1344"/>
                    </a:lnTo>
                    <a:lnTo>
                      <a:pt x="792" y="1353"/>
                    </a:lnTo>
                    <a:lnTo>
                      <a:pt x="772" y="1362"/>
                    </a:lnTo>
                    <a:lnTo>
                      <a:pt x="772" y="1362"/>
                    </a:lnTo>
                    <a:lnTo>
                      <a:pt x="772" y="1338"/>
                    </a:lnTo>
                    <a:lnTo>
                      <a:pt x="771" y="1313"/>
                    </a:lnTo>
                    <a:lnTo>
                      <a:pt x="767" y="1262"/>
                    </a:lnTo>
                    <a:lnTo>
                      <a:pt x="763" y="1212"/>
                    </a:lnTo>
                    <a:lnTo>
                      <a:pt x="759" y="1162"/>
                    </a:lnTo>
                    <a:lnTo>
                      <a:pt x="759" y="1162"/>
                    </a:lnTo>
                    <a:lnTo>
                      <a:pt x="794" y="1218"/>
                    </a:lnTo>
                    <a:lnTo>
                      <a:pt x="831" y="1280"/>
                    </a:lnTo>
                    <a:lnTo>
                      <a:pt x="867" y="1345"/>
                    </a:lnTo>
                    <a:lnTo>
                      <a:pt x="901" y="1407"/>
                    </a:lnTo>
                    <a:lnTo>
                      <a:pt x="901" y="1407"/>
                    </a:lnTo>
                    <a:lnTo>
                      <a:pt x="914" y="1429"/>
                    </a:lnTo>
                    <a:lnTo>
                      <a:pt x="926" y="1450"/>
                    </a:lnTo>
                    <a:lnTo>
                      <a:pt x="938" y="1471"/>
                    </a:lnTo>
                    <a:lnTo>
                      <a:pt x="942" y="1480"/>
                    </a:lnTo>
                    <a:lnTo>
                      <a:pt x="945" y="1490"/>
                    </a:lnTo>
                    <a:lnTo>
                      <a:pt x="945" y="1490"/>
                    </a:lnTo>
                    <a:lnTo>
                      <a:pt x="948" y="1498"/>
                    </a:lnTo>
                    <a:lnTo>
                      <a:pt x="949" y="1507"/>
                    </a:lnTo>
                    <a:lnTo>
                      <a:pt x="951" y="1525"/>
                    </a:lnTo>
                    <a:lnTo>
                      <a:pt x="951" y="1525"/>
                    </a:lnTo>
                    <a:close/>
                    <a:moveTo>
                      <a:pt x="878" y="1730"/>
                    </a:moveTo>
                    <a:lnTo>
                      <a:pt x="878" y="1730"/>
                    </a:lnTo>
                    <a:lnTo>
                      <a:pt x="869" y="1738"/>
                    </a:lnTo>
                    <a:lnTo>
                      <a:pt x="858" y="1747"/>
                    </a:lnTo>
                    <a:lnTo>
                      <a:pt x="852" y="1750"/>
                    </a:lnTo>
                    <a:lnTo>
                      <a:pt x="847" y="1753"/>
                    </a:lnTo>
                    <a:lnTo>
                      <a:pt x="840" y="1756"/>
                    </a:lnTo>
                    <a:lnTo>
                      <a:pt x="833" y="1758"/>
                    </a:lnTo>
                    <a:lnTo>
                      <a:pt x="833" y="1758"/>
                    </a:lnTo>
                    <a:lnTo>
                      <a:pt x="840" y="1742"/>
                    </a:lnTo>
                    <a:lnTo>
                      <a:pt x="849" y="1727"/>
                    </a:lnTo>
                    <a:lnTo>
                      <a:pt x="859" y="1714"/>
                    </a:lnTo>
                    <a:lnTo>
                      <a:pt x="871" y="1700"/>
                    </a:lnTo>
                    <a:lnTo>
                      <a:pt x="871" y="1700"/>
                    </a:lnTo>
                    <a:lnTo>
                      <a:pt x="875" y="1715"/>
                    </a:lnTo>
                    <a:lnTo>
                      <a:pt x="878" y="1730"/>
                    </a:lnTo>
                    <a:lnTo>
                      <a:pt x="878" y="1730"/>
                    </a:lnTo>
                    <a:close/>
                    <a:moveTo>
                      <a:pt x="688" y="1505"/>
                    </a:moveTo>
                    <a:lnTo>
                      <a:pt x="688" y="1505"/>
                    </a:lnTo>
                    <a:lnTo>
                      <a:pt x="689" y="1499"/>
                    </a:lnTo>
                    <a:lnTo>
                      <a:pt x="692" y="1495"/>
                    </a:lnTo>
                    <a:lnTo>
                      <a:pt x="697" y="1490"/>
                    </a:lnTo>
                    <a:lnTo>
                      <a:pt x="703" y="1486"/>
                    </a:lnTo>
                    <a:lnTo>
                      <a:pt x="713" y="1479"/>
                    </a:lnTo>
                    <a:lnTo>
                      <a:pt x="717" y="1475"/>
                    </a:lnTo>
                    <a:lnTo>
                      <a:pt x="720" y="1472"/>
                    </a:lnTo>
                    <a:lnTo>
                      <a:pt x="720" y="1472"/>
                    </a:lnTo>
                    <a:lnTo>
                      <a:pt x="724" y="1497"/>
                    </a:lnTo>
                    <a:lnTo>
                      <a:pt x="726" y="1522"/>
                    </a:lnTo>
                    <a:lnTo>
                      <a:pt x="728" y="1545"/>
                    </a:lnTo>
                    <a:lnTo>
                      <a:pt x="730" y="1568"/>
                    </a:lnTo>
                    <a:lnTo>
                      <a:pt x="730" y="1568"/>
                    </a:lnTo>
                    <a:lnTo>
                      <a:pt x="730" y="1573"/>
                    </a:lnTo>
                    <a:lnTo>
                      <a:pt x="730" y="1573"/>
                    </a:lnTo>
                    <a:lnTo>
                      <a:pt x="729" y="1573"/>
                    </a:lnTo>
                    <a:lnTo>
                      <a:pt x="728" y="1570"/>
                    </a:lnTo>
                    <a:lnTo>
                      <a:pt x="726" y="1565"/>
                    </a:lnTo>
                    <a:lnTo>
                      <a:pt x="726" y="1565"/>
                    </a:lnTo>
                    <a:lnTo>
                      <a:pt x="725" y="1558"/>
                    </a:lnTo>
                    <a:lnTo>
                      <a:pt x="724" y="1551"/>
                    </a:lnTo>
                    <a:lnTo>
                      <a:pt x="723" y="1539"/>
                    </a:lnTo>
                    <a:lnTo>
                      <a:pt x="722" y="1526"/>
                    </a:lnTo>
                    <a:lnTo>
                      <a:pt x="720" y="1521"/>
                    </a:lnTo>
                    <a:lnTo>
                      <a:pt x="716" y="1515"/>
                    </a:lnTo>
                    <a:lnTo>
                      <a:pt x="716" y="1515"/>
                    </a:lnTo>
                    <a:lnTo>
                      <a:pt x="721" y="1563"/>
                    </a:lnTo>
                    <a:lnTo>
                      <a:pt x="725" y="1610"/>
                    </a:lnTo>
                    <a:lnTo>
                      <a:pt x="731" y="1658"/>
                    </a:lnTo>
                    <a:lnTo>
                      <a:pt x="734" y="1683"/>
                    </a:lnTo>
                    <a:lnTo>
                      <a:pt x="739" y="1709"/>
                    </a:lnTo>
                    <a:lnTo>
                      <a:pt x="739" y="1709"/>
                    </a:lnTo>
                    <a:lnTo>
                      <a:pt x="732" y="1699"/>
                    </a:lnTo>
                    <a:lnTo>
                      <a:pt x="728" y="1688"/>
                    </a:lnTo>
                    <a:lnTo>
                      <a:pt x="718" y="1663"/>
                    </a:lnTo>
                    <a:lnTo>
                      <a:pt x="718" y="1663"/>
                    </a:lnTo>
                    <a:lnTo>
                      <a:pt x="708" y="1638"/>
                    </a:lnTo>
                    <a:lnTo>
                      <a:pt x="704" y="1626"/>
                    </a:lnTo>
                    <a:lnTo>
                      <a:pt x="701" y="1614"/>
                    </a:lnTo>
                    <a:lnTo>
                      <a:pt x="701" y="1614"/>
                    </a:lnTo>
                    <a:lnTo>
                      <a:pt x="701" y="1609"/>
                    </a:lnTo>
                    <a:lnTo>
                      <a:pt x="703" y="1606"/>
                    </a:lnTo>
                    <a:lnTo>
                      <a:pt x="703" y="1600"/>
                    </a:lnTo>
                    <a:lnTo>
                      <a:pt x="704" y="1596"/>
                    </a:lnTo>
                    <a:lnTo>
                      <a:pt x="704" y="1596"/>
                    </a:lnTo>
                    <a:lnTo>
                      <a:pt x="703" y="1584"/>
                    </a:lnTo>
                    <a:lnTo>
                      <a:pt x="700" y="1573"/>
                    </a:lnTo>
                    <a:lnTo>
                      <a:pt x="695" y="1548"/>
                    </a:lnTo>
                    <a:lnTo>
                      <a:pt x="690" y="1525"/>
                    </a:lnTo>
                    <a:lnTo>
                      <a:pt x="689" y="1514"/>
                    </a:lnTo>
                    <a:lnTo>
                      <a:pt x="688" y="1505"/>
                    </a:lnTo>
                    <a:lnTo>
                      <a:pt x="688" y="1505"/>
                    </a:lnTo>
                    <a:close/>
                    <a:moveTo>
                      <a:pt x="680" y="1433"/>
                    </a:moveTo>
                    <a:lnTo>
                      <a:pt x="680" y="1433"/>
                    </a:lnTo>
                    <a:lnTo>
                      <a:pt x="695" y="1422"/>
                    </a:lnTo>
                    <a:lnTo>
                      <a:pt x="703" y="1416"/>
                    </a:lnTo>
                    <a:lnTo>
                      <a:pt x="712" y="1413"/>
                    </a:lnTo>
                    <a:lnTo>
                      <a:pt x="712" y="1413"/>
                    </a:lnTo>
                    <a:lnTo>
                      <a:pt x="716" y="1440"/>
                    </a:lnTo>
                    <a:lnTo>
                      <a:pt x="718" y="1466"/>
                    </a:lnTo>
                    <a:lnTo>
                      <a:pt x="718" y="1466"/>
                    </a:lnTo>
                    <a:lnTo>
                      <a:pt x="710" y="1473"/>
                    </a:lnTo>
                    <a:lnTo>
                      <a:pt x="704" y="1480"/>
                    </a:lnTo>
                    <a:lnTo>
                      <a:pt x="697" y="1487"/>
                    </a:lnTo>
                    <a:lnTo>
                      <a:pt x="688" y="1491"/>
                    </a:lnTo>
                    <a:lnTo>
                      <a:pt x="688" y="1491"/>
                    </a:lnTo>
                    <a:lnTo>
                      <a:pt x="686" y="1476"/>
                    </a:lnTo>
                    <a:lnTo>
                      <a:pt x="684" y="1463"/>
                    </a:lnTo>
                    <a:lnTo>
                      <a:pt x="682" y="1449"/>
                    </a:lnTo>
                    <a:lnTo>
                      <a:pt x="680" y="1433"/>
                    </a:lnTo>
                    <a:lnTo>
                      <a:pt x="680" y="1433"/>
                    </a:lnTo>
                    <a:close/>
                    <a:moveTo>
                      <a:pt x="689" y="1616"/>
                    </a:moveTo>
                    <a:lnTo>
                      <a:pt x="689" y="1616"/>
                    </a:lnTo>
                    <a:lnTo>
                      <a:pt x="683" y="1608"/>
                    </a:lnTo>
                    <a:lnTo>
                      <a:pt x="678" y="1599"/>
                    </a:lnTo>
                    <a:lnTo>
                      <a:pt x="668" y="1579"/>
                    </a:lnTo>
                    <a:lnTo>
                      <a:pt x="661" y="1559"/>
                    </a:lnTo>
                    <a:lnTo>
                      <a:pt x="651" y="1539"/>
                    </a:lnTo>
                    <a:lnTo>
                      <a:pt x="651" y="1539"/>
                    </a:lnTo>
                    <a:lnTo>
                      <a:pt x="655" y="1535"/>
                    </a:lnTo>
                    <a:lnTo>
                      <a:pt x="656" y="1534"/>
                    </a:lnTo>
                    <a:lnTo>
                      <a:pt x="659" y="1533"/>
                    </a:lnTo>
                    <a:lnTo>
                      <a:pt x="659" y="1533"/>
                    </a:lnTo>
                    <a:lnTo>
                      <a:pt x="668" y="1552"/>
                    </a:lnTo>
                    <a:lnTo>
                      <a:pt x="678" y="1573"/>
                    </a:lnTo>
                    <a:lnTo>
                      <a:pt x="682" y="1583"/>
                    </a:lnTo>
                    <a:lnTo>
                      <a:pt x="686" y="1593"/>
                    </a:lnTo>
                    <a:lnTo>
                      <a:pt x="688" y="1605"/>
                    </a:lnTo>
                    <a:lnTo>
                      <a:pt x="689" y="1616"/>
                    </a:lnTo>
                    <a:lnTo>
                      <a:pt x="689" y="1616"/>
                    </a:lnTo>
                    <a:close/>
                    <a:moveTo>
                      <a:pt x="676" y="1416"/>
                    </a:moveTo>
                    <a:lnTo>
                      <a:pt x="676" y="1416"/>
                    </a:lnTo>
                    <a:lnTo>
                      <a:pt x="671" y="1380"/>
                    </a:lnTo>
                    <a:lnTo>
                      <a:pt x="667" y="1346"/>
                    </a:lnTo>
                    <a:lnTo>
                      <a:pt x="664" y="1313"/>
                    </a:lnTo>
                    <a:lnTo>
                      <a:pt x="663" y="1279"/>
                    </a:lnTo>
                    <a:lnTo>
                      <a:pt x="663" y="1279"/>
                    </a:lnTo>
                    <a:lnTo>
                      <a:pt x="659" y="1240"/>
                    </a:lnTo>
                    <a:lnTo>
                      <a:pt x="659" y="1223"/>
                    </a:lnTo>
                    <a:lnTo>
                      <a:pt x="659" y="1206"/>
                    </a:lnTo>
                    <a:lnTo>
                      <a:pt x="661" y="1190"/>
                    </a:lnTo>
                    <a:lnTo>
                      <a:pt x="664" y="1177"/>
                    </a:lnTo>
                    <a:lnTo>
                      <a:pt x="668" y="1163"/>
                    </a:lnTo>
                    <a:lnTo>
                      <a:pt x="671" y="1157"/>
                    </a:lnTo>
                    <a:lnTo>
                      <a:pt x="675" y="1152"/>
                    </a:lnTo>
                    <a:lnTo>
                      <a:pt x="675" y="1152"/>
                    </a:lnTo>
                    <a:lnTo>
                      <a:pt x="692" y="1275"/>
                    </a:lnTo>
                    <a:lnTo>
                      <a:pt x="709" y="1399"/>
                    </a:lnTo>
                    <a:lnTo>
                      <a:pt x="709" y="1399"/>
                    </a:lnTo>
                    <a:lnTo>
                      <a:pt x="693" y="1409"/>
                    </a:lnTo>
                    <a:lnTo>
                      <a:pt x="686" y="1414"/>
                    </a:lnTo>
                    <a:lnTo>
                      <a:pt x="681" y="1415"/>
                    </a:lnTo>
                    <a:lnTo>
                      <a:pt x="676" y="1416"/>
                    </a:lnTo>
                    <a:lnTo>
                      <a:pt x="676" y="1416"/>
                    </a:lnTo>
                    <a:close/>
                    <a:moveTo>
                      <a:pt x="658" y="1518"/>
                    </a:moveTo>
                    <a:lnTo>
                      <a:pt x="658" y="1518"/>
                    </a:lnTo>
                    <a:lnTo>
                      <a:pt x="646" y="1493"/>
                    </a:lnTo>
                    <a:lnTo>
                      <a:pt x="634" y="1468"/>
                    </a:lnTo>
                    <a:lnTo>
                      <a:pt x="634" y="1468"/>
                    </a:lnTo>
                    <a:lnTo>
                      <a:pt x="649" y="1455"/>
                    </a:lnTo>
                    <a:lnTo>
                      <a:pt x="657" y="1449"/>
                    </a:lnTo>
                    <a:lnTo>
                      <a:pt x="667" y="1445"/>
                    </a:lnTo>
                    <a:lnTo>
                      <a:pt x="667" y="1445"/>
                    </a:lnTo>
                    <a:lnTo>
                      <a:pt x="667" y="1454"/>
                    </a:lnTo>
                    <a:lnTo>
                      <a:pt x="668" y="1465"/>
                    </a:lnTo>
                    <a:lnTo>
                      <a:pt x="672" y="1489"/>
                    </a:lnTo>
                    <a:lnTo>
                      <a:pt x="673" y="1499"/>
                    </a:lnTo>
                    <a:lnTo>
                      <a:pt x="672" y="1504"/>
                    </a:lnTo>
                    <a:lnTo>
                      <a:pt x="671" y="1508"/>
                    </a:lnTo>
                    <a:lnTo>
                      <a:pt x="670" y="1512"/>
                    </a:lnTo>
                    <a:lnTo>
                      <a:pt x="666" y="1515"/>
                    </a:lnTo>
                    <a:lnTo>
                      <a:pt x="663" y="1517"/>
                    </a:lnTo>
                    <a:lnTo>
                      <a:pt x="658" y="1518"/>
                    </a:lnTo>
                    <a:lnTo>
                      <a:pt x="658" y="1518"/>
                    </a:lnTo>
                    <a:close/>
                    <a:moveTo>
                      <a:pt x="646" y="1532"/>
                    </a:moveTo>
                    <a:lnTo>
                      <a:pt x="646" y="1532"/>
                    </a:lnTo>
                    <a:lnTo>
                      <a:pt x="639" y="1518"/>
                    </a:lnTo>
                    <a:lnTo>
                      <a:pt x="632" y="1503"/>
                    </a:lnTo>
                    <a:lnTo>
                      <a:pt x="630" y="1495"/>
                    </a:lnTo>
                    <a:lnTo>
                      <a:pt x="628" y="1487"/>
                    </a:lnTo>
                    <a:lnTo>
                      <a:pt x="628" y="1479"/>
                    </a:lnTo>
                    <a:lnTo>
                      <a:pt x="630" y="1472"/>
                    </a:lnTo>
                    <a:lnTo>
                      <a:pt x="630" y="1472"/>
                    </a:lnTo>
                    <a:lnTo>
                      <a:pt x="632" y="1479"/>
                    </a:lnTo>
                    <a:lnTo>
                      <a:pt x="637" y="1487"/>
                    </a:lnTo>
                    <a:lnTo>
                      <a:pt x="647" y="1505"/>
                    </a:lnTo>
                    <a:lnTo>
                      <a:pt x="650" y="1513"/>
                    </a:lnTo>
                    <a:lnTo>
                      <a:pt x="651" y="1521"/>
                    </a:lnTo>
                    <a:lnTo>
                      <a:pt x="651" y="1524"/>
                    </a:lnTo>
                    <a:lnTo>
                      <a:pt x="650" y="1528"/>
                    </a:lnTo>
                    <a:lnTo>
                      <a:pt x="649" y="1530"/>
                    </a:lnTo>
                    <a:lnTo>
                      <a:pt x="646" y="1532"/>
                    </a:lnTo>
                    <a:lnTo>
                      <a:pt x="646" y="1532"/>
                    </a:lnTo>
                    <a:close/>
                    <a:moveTo>
                      <a:pt x="654" y="1669"/>
                    </a:moveTo>
                    <a:lnTo>
                      <a:pt x="654" y="1669"/>
                    </a:lnTo>
                    <a:lnTo>
                      <a:pt x="647" y="1659"/>
                    </a:lnTo>
                    <a:lnTo>
                      <a:pt x="639" y="1646"/>
                    </a:lnTo>
                    <a:lnTo>
                      <a:pt x="630" y="1631"/>
                    </a:lnTo>
                    <a:lnTo>
                      <a:pt x="622" y="1617"/>
                    </a:lnTo>
                    <a:lnTo>
                      <a:pt x="615" y="1604"/>
                    </a:lnTo>
                    <a:lnTo>
                      <a:pt x="614" y="1597"/>
                    </a:lnTo>
                    <a:lnTo>
                      <a:pt x="614" y="1591"/>
                    </a:lnTo>
                    <a:lnTo>
                      <a:pt x="614" y="1585"/>
                    </a:lnTo>
                    <a:lnTo>
                      <a:pt x="616" y="1581"/>
                    </a:lnTo>
                    <a:lnTo>
                      <a:pt x="621" y="1577"/>
                    </a:lnTo>
                    <a:lnTo>
                      <a:pt x="626" y="1575"/>
                    </a:lnTo>
                    <a:lnTo>
                      <a:pt x="626" y="1575"/>
                    </a:lnTo>
                    <a:lnTo>
                      <a:pt x="640" y="1623"/>
                    </a:lnTo>
                    <a:lnTo>
                      <a:pt x="647" y="1647"/>
                    </a:lnTo>
                    <a:lnTo>
                      <a:pt x="654" y="1669"/>
                    </a:lnTo>
                    <a:lnTo>
                      <a:pt x="654" y="1669"/>
                    </a:lnTo>
                    <a:close/>
                    <a:moveTo>
                      <a:pt x="650" y="1567"/>
                    </a:moveTo>
                    <a:lnTo>
                      <a:pt x="650" y="1567"/>
                    </a:lnTo>
                    <a:lnTo>
                      <a:pt x="670" y="1602"/>
                    </a:lnTo>
                    <a:lnTo>
                      <a:pt x="689" y="1639"/>
                    </a:lnTo>
                    <a:lnTo>
                      <a:pt x="689" y="1639"/>
                    </a:lnTo>
                    <a:lnTo>
                      <a:pt x="689" y="1657"/>
                    </a:lnTo>
                    <a:lnTo>
                      <a:pt x="689" y="1676"/>
                    </a:lnTo>
                    <a:lnTo>
                      <a:pt x="690" y="1694"/>
                    </a:lnTo>
                    <a:lnTo>
                      <a:pt x="689" y="1702"/>
                    </a:lnTo>
                    <a:lnTo>
                      <a:pt x="688" y="1710"/>
                    </a:lnTo>
                    <a:lnTo>
                      <a:pt x="688" y="1710"/>
                    </a:lnTo>
                    <a:lnTo>
                      <a:pt x="679" y="1675"/>
                    </a:lnTo>
                    <a:lnTo>
                      <a:pt x="667" y="1638"/>
                    </a:lnTo>
                    <a:lnTo>
                      <a:pt x="658" y="1601"/>
                    </a:lnTo>
                    <a:lnTo>
                      <a:pt x="650" y="1567"/>
                    </a:lnTo>
                    <a:lnTo>
                      <a:pt x="650" y="1567"/>
                    </a:lnTo>
                    <a:close/>
                    <a:moveTo>
                      <a:pt x="704" y="1665"/>
                    </a:moveTo>
                    <a:lnTo>
                      <a:pt x="704" y="1665"/>
                    </a:lnTo>
                    <a:lnTo>
                      <a:pt x="729" y="1724"/>
                    </a:lnTo>
                    <a:lnTo>
                      <a:pt x="742" y="1757"/>
                    </a:lnTo>
                    <a:lnTo>
                      <a:pt x="748" y="1773"/>
                    </a:lnTo>
                    <a:lnTo>
                      <a:pt x="752" y="1787"/>
                    </a:lnTo>
                    <a:lnTo>
                      <a:pt x="752" y="1787"/>
                    </a:lnTo>
                    <a:lnTo>
                      <a:pt x="755" y="1797"/>
                    </a:lnTo>
                    <a:lnTo>
                      <a:pt x="756" y="1806"/>
                    </a:lnTo>
                    <a:lnTo>
                      <a:pt x="755" y="1812"/>
                    </a:lnTo>
                    <a:lnTo>
                      <a:pt x="754" y="1818"/>
                    </a:lnTo>
                    <a:lnTo>
                      <a:pt x="751" y="1823"/>
                    </a:lnTo>
                    <a:lnTo>
                      <a:pt x="747" y="1827"/>
                    </a:lnTo>
                    <a:lnTo>
                      <a:pt x="741" y="1831"/>
                    </a:lnTo>
                    <a:lnTo>
                      <a:pt x="734" y="1833"/>
                    </a:lnTo>
                    <a:lnTo>
                      <a:pt x="734" y="1833"/>
                    </a:lnTo>
                    <a:lnTo>
                      <a:pt x="729" y="1824"/>
                    </a:lnTo>
                    <a:lnTo>
                      <a:pt x="723" y="1814"/>
                    </a:lnTo>
                    <a:lnTo>
                      <a:pt x="715" y="1793"/>
                    </a:lnTo>
                    <a:lnTo>
                      <a:pt x="709" y="1772"/>
                    </a:lnTo>
                    <a:lnTo>
                      <a:pt x="706" y="1750"/>
                    </a:lnTo>
                    <a:lnTo>
                      <a:pt x="704" y="1727"/>
                    </a:lnTo>
                    <a:lnTo>
                      <a:pt x="703" y="1706"/>
                    </a:lnTo>
                    <a:lnTo>
                      <a:pt x="703" y="1684"/>
                    </a:lnTo>
                    <a:lnTo>
                      <a:pt x="704" y="1665"/>
                    </a:lnTo>
                    <a:lnTo>
                      <a:pt x="704" y="1665"/>
                    </a:lnTo>
                    <a:close/>
                    <a:moveTo>
                      <a:pt x="754" y="1414"/>
                    </a:moveTo>
                    <a:lnTo>
                      <a:pt x="754" y="1414"/>
                    </a:lnTo>
                    <a:lnTo>
                      <a:pt x="757" y="1429"/>
                    </a:lnTo>
                    <a:lnTo>
                      <a:pt x="758" y="1445"/>
                    </a:lnTo>
                    <a:lnTo>
                      <a:pt x="759" y="1459"/>
                    </a:lnTo>
                    <a:lnTo>
                      <a:pt x="759" y="1475"/>
                    </a:lnTo>
                    <a:lnTo>
                      <a:pt x="757" y="1506"/>
                    </a:lnTo>
                    <a:lnTo>
                      <a:pt x="754" y="1535"/>
                    </a:lnTo>
                    <a:lnTo>
                      <a:pt x="754" y="1535"/>
                    </a:lnTo>
                    <a:lnTo>
                      <a:pt x="752" y="1504"/>
                    </a:lnTo>
                    <a:lnTo>
                      <a:pt x="751" y="1473"/>
                    </a:lnTo>
                    <a:lnTo>
                      <a:pt x="752" y="1442"/>
                    </a:lnTo>
                    <a:lnTo>
                      <a:pt x="754" y="1414"/>
                    </a:lnTo>
                    <a:lnTo>
                      <a:pt x="754" y="1414"/>
                    </a:lnTo>
                    <a:close/>
                    <a:moveTo>
                      <a:pt x="759" y="1849"/>
                    </a:moveTo>
                    <a:lnTo>
                      <a:pt x="759" y="1849"/>
                    </a:lnTo>
                    <a:lnTo>
                      <a:pt x="759" y="1861"/>
                    </a:lnTo>
                    <a:lnTo>
                      <a:pt x="760" y="1873"/>
                    </a:lnTo>
                    <a:lnTo>
                      <a:pt x="763" y="1899"/>
                    </a:lnTo>
                    <a:lnTo>
                      <a:pt x="764" y="1910"/>
                    </a:lnTo>
                    <a:lnTo>
                      <a:pt x="764" y="1923"/>
                    </a:lnTo>
                    <a:lnTo>
                      <a:pt x="764" y="1934"/>
                    </a:lnTo>
                    <a:lnTo>
                      <a:pt x="762" y="1944"/>
                    </a:lnTo>
                    <a:lnTo>
                      <a:pt x="762" y="1944"/>
                    </a:lnTo>
                    <a:lnTo>
                      <a:pt x="749" y="1904"/>
                    </a:lnTo>
                    <a:lnTo>
                      <a:pt x="735" y="1865"/>
                    </a:lnTo>
                    <a:lnTo>
                      <a:pt x="735" y="1865"/>
                    </a:lnTo>
                    <a:lnTo>
                      <a:pt x="741" y="1861"/>
                    </a:lnTo>
                    <a:lnTo>
                      <a:pt x="746" y="1856"/>
                    </a:lnTo>
                    <a:lnTo>
                      <a:pt x="751" y="1852"/>
                    </a:lnTo>
                    <a:lnTo>
                      <a:pt x="755" y="1850"/>
                    </a:lnTo>
                    <a:lnTo>
                      <a:pt x="759" y="1849"/>
                    </a:lnTo>
                    <a:lnTo>
                      <a:pt x="759" y="1849"/>
                    </a:lnTo>
                    <a:close/>
                    <a:moveTo>
                      <a:pt x="851" y="994"/>
                    </a:moveTo>
                    <a:lnTo>
                      <a:pt x="851" y="994"/>
                    </a:lnTo>
                    <a:lnTo>
                      <a:pt x="861" y="1025"/>
                    </a:lnTo>
                    <a:lnTo>
                      <a:pt x="871" y="1054"/>
                    </a:lnTo>
                    <a:lnTo>
                      <a:pt x="888" y="1115"/>
                    </a:lnTo>
                    <a:lnTo>
                      <a:pt x="902" y="1177"/>
                    </a:lnTo>
                    <a:lnTo>
                      <a:pt x="915" y="1238"/>
                    </a:lnTo>
                    <a:lnTo>
                      <a:pt x="925" y="1299"/>
                    </a:lnTo>
                    <a:lnTo>
                      <a:pt x="933" y="1359"/>
                    </a:lnTo>
                    <a:lnTo>
                      <a:pt x="940" y="1419"/>
                    </a:lnTo>
                    <a:lnTo>
                      <a:pt x="944" y="1476"/>
                    </a:lnTo>
                    <a:lnTo>
                      <a:pt x="944" y="1476"/>
                    </a:lnTo>
                    <a:lnTo>
                      <a:pt x="930" y="1442"/>
                    </a:lnTo>
                    <a:lnTo>
                      <a:pt x="914" y="1409"/>
                    </a:lnTo>
                    <a:lnTo>
                      <a:pt x="898" y="1378"/>
                    </a:lnTo>
                    <a:lnTo>
                      <a:pt x="881" y="1346"/>
                    </a:lnTo>
                    <a:lnTo>
                      <a:pt x="844" y="1283"/>
                    </a:lnTo>
                    <a:lnTo>
                      <a:pt x="807" y="1223"/>
                    </a:lnTo>
                    <a:lnTo>
                      <a:pt x="807" y="1223"/>
                    </a:lnTo>
                    <a:lnTo>
                      <a:pt x="789" y="1196"/>
                    </a:lnTo>
                    <a:lnTo>
                      <a:pt x="772" y="1170"/>
                    </a:lnTo>
                    <a:lnTo>
                      <a:pt x="764" y="1156"/>
                    </a:lnTo>
                    <a:lnTo>
                      <a:pt x="758" y="1144"/>
                    </a:lnTo>
                    <a:lnTo>
                      <a:pt x="754" y="1129"/>
                    </a:lnTo>
                    <a:lnTo>
                      <a:pt x="751" y="1115"/>
                    </a:lnTo>
                    <a:lnTo>
                      <a:pt x="751" y="1115"/>
                    </a:lnTo>
                    <a:lnTo>
                      <a:pt x="750" y="1117"/>
                    </a:lnTo>
                    <a:lnTo>
                      <a:pt x="750" y="1119"/>
                    </a:lnTo>
                    <a:lnTo>
                      <a:pt x="750" y="1125"/>
                    </a:lnTo>
                    <a:lnTo>
                      <a:pt x="751" y="1129"/>
                    </a:lnTo>
                    <a:lnTo>
                      <a:pt x="750" y="1131"/>
                    </a:lnTo>
                    <a:lnTo>
                      <a:pt x="749" y="1132"/>
                    </a:lnTo>
                    <a:lnTo>
                      <a:pt x="749" y="1132"/>
                    </a:lnTo>
                    <a:lnTo>
                      <a:pt x="728" y="1100"/>
                    </a:lnTo>
                    <a:lnTo>
                      <a:pt x="707" y="1065"/>
                    </a:lnTo>
                    <a:lnTo>
                      <a:pt x="707" y="1065"/>
                    </a:lnTo>
                    <a:lnTo>
                      <a:pt x="743" y="1047"/>
                    </a:lnTo>
                    <a:lnTo>
                      <a:pt x="779" y="1028"/>
                    </a:lnTo>
                    <a:lnTo>
                      <a:pt x="815" y="1010"/>
                    </a:lnTo>
                    <a:lnTo>
                      <a:pt x="833" y="1001"/>
                    </a:lnTo>
                    <a:lnTo>
                      <a:pt x="851" y="994"/>
                    </a:lnTo>
                    <a:lnTo>
                      <a:pt x="851" y="994"/>
                    </a:lnTo>
                    <a:close/>
                    <a:moveTo>
                      <a:pt x="705" y="1072"/>
                    </a:moveTo>
                    <a:lnTo>
                      <a:pt x="705" y="1072"/>
                    </a:lnTo>
                    <a:lnTo>
                      <a:pt x="717" y="1092"/>
                    </a:lnTo>
                    <a:lnTo>
                      <a:pt x="730" y="1112"/>
                    </a:lnTo>
                    <a:lnTo>
                      <a:pt x="730" y="1112"/>
                    </a:lnTo>
                    <a:lnTo>
                      <a:pt x="743" y="1132"/>
                    </a:lnTo>
                    <a:lnTo>
                      <a:pt x="749" y="1143"/>
                    </a:lnTo>
                    <a:lnTo>
                      <a:pt x="752" y="1152"/>
                    </a:lnTo>
                    <a:lnTo>
                      <a:pt x="752" y="1152"/>
                    </a:lnTo>
                    <a:lnTo>
                      <a:pt x="755" y="1162"/>
                    </a:lnTo>
                    <a:lnTo>
                      <a:pt x="756" y="1173"/>
                    </a:lnTo>
                    <a:lnTo>
                      <a:pt x="756" y="1198"/>
                    </a:lnTo>
                    <a:lnTo>
                      <a:pt x="756" y="1198"/>
                    </a:lnTo>
                    <a:lnTo>
                      <a:pt x="757" y="1233"/>
                    </a:lnTo>
                    <a:lnTo>
                      <a:pt x="758" y="1268"/>
                    </a:lnTo>
                    <a:lnTo>
                      <a:pt x="757" y="1285"/>
                    </a:lnTo>
                    <a:lnTo>
                      <a:pt x="755" y="1300"/>
                    </a:lnTo>
                    <a:lnTo>
                      <a:pt x="752" y="1315"/>
                    </a:lnTo>
                    <a:lnTo>
                      <a:pt x="749" y="1328"/>
                    </a:lnTo>
                    <a:lnTo>
                      <a:pt x="749" y="1328"/>
                    </a:lnTo>
                    <a:lnTo>
                      <a:pt x="745" y="1321"/>
                    </a:lnTo>
                    <a:lnTo>
                      <a:pt x="741" y="1313"/>
                    </a:lnTo>
                    <a:lnTo>
                      <a:pt x="738" y="1305"/>
                    </a:lnTo>
                    <a:lnTo>
                      <a:pt x="733" y="1298"/>
                    </a:lnTo>
                    <a:lnTo>
                      <a:pt x="733" y="1298"/>
                    </a:lnTo>
                    <a:lnTo>
                      <a:pt x="738" y="1307"/>
                    </a:lnTo>
                    <a:lnTo>
                      <a:pt x="741" y="1315"/>
                    </a:lnTo>
                    <a:lnTo>
                      <a:pt x="743" y="1324"/>
                    </a:lnTo>
                    <a:lnTo>
                      <a:pt x="745" y="1332"/>
                    </a:lnTo>
                    <a:lnTo>
                      <a:pt x="746" y="1347"/>
                    </a:lnTo>
                    <a:lnTo>
                      <a:pt x="745" y="1362"/>
                    </a:lnTo>
                    <a:lnTo>
                      <a:pt x="745" y="1362"/>
                    </a:lnTo>
                    <a:lnTo>
                      <a:pt x="745" y="1369"/>
                    </a:lnTo>
                    <a:lnTo>
                      <a:pt x="743" y="1375"/>
                    </a:lnTo>
                    <a:lnTo>
                      <a:pt x="742" y="1379"/>
                    </a:lnTo>
                    <a:lnTo>
                      <a:pt x="741" y="1381"/>
                    </a:lnTo>
                    <a:lnTo>
                      <a:pt x="738" y="1382"/>
                    </a:lnTo>
                    <a:lnTo>
                      <a:pt x="734" y="1383"/>
                    </a:lnTo>
                    <a:lnTo>
                      <a:pt x="734" y="1383"/>
                    </a:lnTo>
                    <a:lnTo>
                      <a:pt x="732" y="1365"/>
                    </a:lnTo>
                    <a:lnTo>
                      <a:pt x="731" y="1345"/>
                    </a:lnTo>
                    <a:lnTo>
                      <a:pt x="729" y="1324"/>
                    </a:lnTo>
                    <a:lnTo>
                      <a:pt x="728" y="1315"/>
                    </a:lnTo>
                    <a:lnTo>
                      <a:pt x="724" y="1306"/>
                    </a:lnTo>
                    <a:lnTo>
                      <a:pt x="724" y="1306"/>
                    </a:lnTo>
                    <a:lnTo>
                      <a:pt x="726" y="1336"/>
                    </a:lnTo>
                    <a:lnTo>
                      <a:pt x="726" y="1349"/>
                    </a:lnTo>
                    <a:lnTo>
                      <a:pt x="725" y="1355"/>
                    </a:lnTo>
                    <a:lnTo>
                      <a:pt x="723" y="1361"/>
                    </a:lnTo>
                    <a:lnTo>
                      <a:pt x="723" y="1361"/>
                    </a:lnTo>
                    <a:lnTo>
                      <a:pt x="713" y="1313"/>
                    </a:lnTo>
                    <a:lnTo>
                      <a:pt x="705" y="1266"/>
                    </a:lnTo>
                    <a:lnTo>
                      <a:pt x="697" y="1219"/>
                    </a:lnTo>
                    <a:lnTo>
                      <a:pt x="687" y="1171"/>
                    </a:lnTo>
                    <a:lnTo>
                      <a:pt x="687" y="1171"/>
                    </a:lnTo>
                    <a:lnTo>
                      <a:pt x="682" y="1153"/>
                    </a:lnTo>
                    <a:lnTo>
                      <a:pt x="680" y="1145"/>
                    </a:lnTo>
                    <a:lnTo>
                      <a:pt x="679" y="1138"/>
                    </a:lnTo>
                    <a:lnTo>
                      <a:pt x="679" y="1138"/>
                    </a:lnTo>
                    <a:lnTo>
                      <a:pt x="680" y="1129"/>
                    </a:lnTo>
                    <a:lnTo>
                      <a:pt x="683" y="1120"/>
                    </a:lnTo>
                    <a:lnTo>
                      <a:pt x="687" y="1111"/>
                    </a:lnTo>
                    <a:lnTo>
                      <a:pt x="691" y="1103"/>
                    </a:lnTo>
                    <a:lnTo>
                      <a:pt x="699" y="1087"/>
                    </a:lnTo>
                    <a:lnTo>
                      <a:pt x="703" y="1080"/>
                    </a:lnTo>
                    <a:lnTo>
                      <a:pt x="705" y="1072"/>
                    </a:lnTo>
                    <a:lnTo>
                      <a:pt x="705" y="1072"/>
                    </a:lnTo>
                    <a:close/>
                    <a:moveTo>
                      <a:pt x="672" y="1018"/>
                    </a:moveTo>
                    <a:lnTo>
                      <a:pt x="672" y="1018"/>
                    </a:lnTo>
                    <a:lnTo>
                      <a:pt x="683" y="1037"/>
                    </a:lnTo>
                    <a:lnTo>
                      <a:pt x="696" y="1058"/>
                    </a:lnTo>
                    <a:lnTo>
                      <a:pt x="696" y="1058"/>
                    </a:lnTo>
                    <a:lnTo>
                      <a:pt x="687" y="1085"/>
                    </a:lnTo>
                    <a:lnTo>
                      <a:pt x="676" y="1111"/>
                    </a:lnTo>
                    <a:lnTo>
                      <a:pt x="676" y="1111"/>
                    </a:lnTo>
                    <a:lnTo>
                      <a:pt x="671" y="1085"/>
                    </a:lnTo>
                    <a:lnTo>
                      <a:pt x="668" y="1060"/>
                    </a:lnTo>
                    <a:lnTo>
                      <a:pt x="667" y="1048"/>
                    </a:lnTo>
                    <a:lnTo>
                      <a:pt x="668" y="1037"/>
                    </a:lnTo>
                    <a:lnTo>
                      <a:pt x="670" y="1027"/>
                    </a:lnTo>
                    <a:lnTo>
                      <a:pt x="672" y="1018"/>
                    </a:lnTo>
                    <a:lnTo>
                      <a:pt x="672" y="1018"/>
                    </a:lnTo>
                    <a:close/>
                    <a:moveTo>
                      <a:pt x="666" y="1084"/>
                    </a:moveTo>
                    <a:lnTo>
                      <a:pt x="666" y="1084"/>
                    </a:lnTo>
                    <a:lnTo>
                      <a:pt x="670" y="1097"/>
                    </a:lnTo>
                    <a:lnTo>
                      <a:pt x="671" y="1110"/>
                    </a:lnTo>
                    <a:lnTo>
                      <a:pt x="671" y="1121"/>
                    </a:lnTo>
                    <a:lnTo>
                      <a:pt x="670" y="1131"/>
                    </a:lnTo>
                    <a:lnTo>
                      <a:pt x="667" y="1142"/>
                    </a:lnTo>
                    <a:lnTo>
                      <a:pt x="664" y="1151"/>
                    </a:lnTo>
                    <a:lnTo>
                      <a:pt x="659" y="1159"/>
                    </a:lnTo>
                    <a:lnTo>
                      <a:pt x="655" y="1167"/>
                    </a:lnTo>
                    <a:lnTo>
                      <a:pt x="655" y="1167"/>
                    </a:lnTo>
                    <a:lnTo>
                      <a:pt x="657" y="1146"/>
                    </a:lnTo>
                    <a:lnTo>
                      <a:pt x="661" y="1125"/>
                    </a:lnTo>
                    <a:lnTo>
                      <a:pt x="666" y="1084"/>
                    </a:lnTo>
                    <a:lnTo>
                      <a:pt x="666" y="1084"/>
                    </a:lnTo>
                    <a:close/>
                    <a:moveTo>
                      <a:pt x="608" y="1322"/>
                    </a:moveTo>
                    <a:lnTo>
                      <a:pt x="608" y="1322"/>
                    </a:lnTo>
                    <a:lnTo>
                      <a:pt x="632" y="1261"/>
                    </a:lnTo>
                    <a:lnTo>
                      <a:pt x="643" y="1230"/>
                    </a:lnTo>
                    <a:lnTo>
                      <a:pt x="655" y="1205"/>
                    </a:lnTo>
                    <a:lnTo>
                      <a:pt x="655" y="1205"/>
                    </a:lnTo>
                    <a:lnTo>
                      <a:pt x="658" y="1261"/>
                    </a:lnTo>
                    <a:lnTo>
                      <a:pt x="661" y="1315"/>
                    </a:lnTo>
                    <a:lnTo>
                      <a:pt x="663" y="1370"/>
                    </a:lnTo>
                    <a:lnTo>
                      <a:pt x="666" y="1425"/>
                    </a:lnTo>
                    <a:lnTo>
                      <a:pt x="666" y="1425"/>
                    </a:lnTo>
                    <a:lnTo>
                      <a:pt x="662" y="1429"/>
                    </a:lnTo>
                    <a:lnTo>
                      <a:pt x="656" y="1432"/>
                    </a:lnTo>
                    <a:lnTo>
                      <a:pt x="646" y="1439"/>
                    </a:lnTo>
                    <a:lnTo>
                      <a:pt x="646" y="1439"/>
                    </a:lnTo>
                    <a:lnTo>
                      <a:pt x="637" y="1447"/>
                    </a:lnTo>
                    <a:lnTo>
                      <a:pt x="634" y="1449"/>
                    </a:lnTo>
                    <a:lnTo>
                      <a:pt x="631" y="1449"/>
                    </a:lnTo>
                    <a:lnTo>
                      <a:pt x="629" y="1450"/>
                    </a:lnTo>
                    <a:lnTo>
                      <a:pt x="625" y="1449"/>
                    </a:lnTo>
                    <a:lnTo>
                      <a:pt x="625" y="1449"/>
                    </a:lnTo>
                    <a:lnTo>
                      <a:pt x="616" y="1428"/>
                    </a:lnTo>
                    <a:lnTo>
                      <a:pt x="607" y="1406"/>
                    </a:lnTo>
                    <a:lnTo>
                      <a:pt x="604" y="1395"/>
                    </a:lnTo>
                    <a:lnTo>
                      <a:pt x="600" y="1384"/>
                    </a:lnTo>
                    <a:lnTo>
                      <a:pt x="599" y="1373"/>
                    </a:lnTo>
                    <a:lnTo>
                      <a:pt x="598" y="1363"/>
                    </a:lnTo>
                    <a:lnTo>
                      <a:pt x="598" y="1363"/>
                    </a:lnTo>
                    <a:lnTo>
                      <a:pt x="599" y="1354"/>
                    </a:lnTo>
                    <a:lnTo>
                      <a:pt x="601" y="1344"/>
                    </a:lnTo>
                    <a:lnTo>
                      <a:pt x="608" y="1322"/>
                    </a:lnTo>
                    <a:lnTo>
                      <a:pt x="608" y="1322"/>
                    </a:lnTo>
                    <a:close/>
                    <a:moveTo>
                      <a:pt x="600" y="1498"/>
                    </a:moveTo>
                    <a:lnTo>
                      <a:pt x="600" y="1498"/>
                    </a:lnTo>
                    <a:lnTo>
                      <a:pt x="604" y="1509"/>
                    </a:lnTo>
                    <a:lnTo>
                      <a:pt x="608" y="1521"/>
                    </a:lnTo>
                    <a:lnTo>
                      <a:pt x="613" y="1533"/>
                    </a:lnTo>
                    <a:lnTo>
                      <a:pt x="616" y="1546"/>
                    </a:lnTo>
                    <a:lnTo>
                      <a:pt x="619" y="1557"/>
                    </a:lnTo>
                    <a:lnTo>
                      <a:pt x="619" y="1562"/>
                    </a:lnTo>
                    <a:lnTo>
                      <a:pt x="617" y="1566"/>
                    </a:lnTo>
                    <a:lnTo>
                      <a:pt x="616" y="1571"/>
                    </a:lnTo>
                    <a:lnTo>
                      <a:pt x="614" y="1575"/>
                    </a:lnTo>
                    <a:lnTo>
                      <a:pt x="611" y="1577"/>
                    </a:lnTo>
                    <a:lnTo>
                      <a:pt x="606" y="1581"/>
                    </a:lnTo>
                    <a:lnTo>
                      <a:pt x="606" y="1581"/>
                    </a:lnTo>
                    <a:lnTo>
                      <a:pt x="603" y="1574"/>
                    </a:lnTo>
                    <a:lnTo>
                      <a:pt x="599" y="1566"/>
                    </a:lnTo>
                    <a:lnTo>
                      <a:pt x="588" y="1549"/>
                    </a:lnTo>
                    <a:lnTo>
                      <a:pt x="582" y="1541"/>
                    </a:lnTo>
                    <a:lnTo>
                      <a:pt x="579" y="1533"/>
                    </a:lnTo>
                    <a:lnTo>
                      <a:pt x="575" y="1525"/>
                    </a:lnTo>
                    <a:lnTo>
                      <a:pt x="574" y="1518"/>
                    </a:lnTo>
                    <a:lnTo>
                      <a:pt x="574" y="1518"/>
                    </a:lnTo>
                    <a:lnTo>
                      <a:pt x="575" y="1515"/>
                    </a:lnTo>
                    <a:lnTo>
                      <a:pt x="578" y="1512"/>
                    </a:lnTo>
                    <a:lnTo>
                      <a:pt x="581" y="1509"/>
                    </a:lnTo>
                    <a:lnTo>
                      <a:pt x="584" y="1507"/>
                    </a:lnTo>
                    <a:lnTo>
                      <a:pt x="592" y="1503"/>
                    </a:lnTo>
                    <a:lnTo>
                      <a:pt x="600" y="1498"/>
                    </a:lnTo>
                    <a:lnTo>
                      <a:pt x="600" y="1498"/>
                    </a:lnTo>
                    <a:close/>
                    <a:moveTo>
                      <a:pt x="594" y="1479"/>
                    </a:moveTo>
                    <a:lnTo>
                      <a:pt x="594" y="1479"/>
                    </a:lnTo>
                    <a:lnTo>
                      <a:pt x="591" y="1482"/>
                    </a:lnTo>
                    <a:lnTo>
                      <a:pt x="589" y="1486"/>
                    </a:lnTo>
                    <a:lnTo>
                      <a:pt x="586" y="1489"/>
                    </a:lnTo>
                    <a:lnTo>
                      <a:pt x="581" y="1491"/>
                    </a:lnTo>
                    <a:lnTo>
                      <a:pt x="572" y="1497"/>
                    </a:lnTo>
                    <a:lnTo>
                      <a:pt x="567" y="1499"/>
                    </a:lnTo>
                    <a:lnTo>
                      <a:pt x="565" y="1501"/>
                    </a:lnTo>
                    <a:lnTo>
                      <a:pt x="565" y="1501"/>
                    </a:lnTo>
                    <a:lnTo>
                      <a:pt x="562" y="1492"/>
                    </a:lnTo>
                    <a:lnTo>
                      <a:pt x="562" y="1482"/>
                    </a:lnTo>
                    <a:lnTo>
                      <a:pt x="563" y="1473"/>
                    </a:lnTo>
                    <a:lnTo>
                      <a:pt x="565" y="1464"/>
                    </a:lnTo>
                    <a:lnTo>
                      <a:pt x="572" y="1447"/>
                    </a:lnTo>
                    <a:lnTo>
                      <a:pt x="574" y="1439"/>
                    </a:lnTo>
                    <a:lnTo>
                      <a:pt x="577" y="1430"/>
                    </a:lnTo>
                    <a:lnTo>
                      <a:pt x="577" y="1430"/>
                    </a:lnTo>
                    <a:lnTo>
                      <a:pt x="579" y="1437"/>
                    </a:lnTo>
                    <a:lnTo>
                      <a:pt x="581" y="1442"/>
                    </a:lnTo>
                    <a:lnTo>
                      <a:pt x="587" y="1455"/>
                    </a:lnTo>
                    <a:lnTo>
                      <a:pt x="592" y="1467"/>
                    </a:lnTo>
                    <a:lnTo>
                      <a:pt x="594" y="1473"/>
                    </a:lnTo>
                    <a:lnTo>
                      <a:pt x="594" y="1479"/>
                    </a:lnTo>
                    <a:lnTo>
                      <a:pt x="594" y="1479"/>
                    </a:lnTo>
                    <a:close/>
                    <a:moveTo>
                      <a:pt x="532" y="1681"/>
                    </a:moveTo>
                    <a:lnTo>
                      <a:pt x="532" y="1681"/>
                    </a:lnTo>
                    <a:lnTo>
                      <a:pt x="531" y="1684"/>
                    </a:lnTo>
                    <a:lnTo>
                      <a:pt x="530" y="1688"/>
                    </a:lnTo>
                    <a:lnTo>
                      <a:pt x="524" y="1696"/>
                    </a:lnTo>
                    <a:lnTo>
                      <a:pt x="513" y="1711"/>
                    </a:lnTo>
                    <a:lnTo>
                      <a:pt x="513" y="1711"/>
                    </a:lnTo>
                    <a:lnTo>
                      <a:pt x="498" y="1735"/>
                    </a:lnTo>
                    <a:lnTo>
                      <a:pt x="483" y="1759"/>
                    </a:lnTo>
                    <a:lnTo>
                      <a:pt x="469" y="1783"/>
                    </a:lnTo>
                    <a:lnTo>
                      <a:pt x="461" y="1792"/>
                    </a:lnTo>
                    <a:lnTo>
                      <a:pt x="453" y="1801"/>
                    </a:lnTo>
                    <a:lnTo>
                      <a:pt x="453" y="1801"/>
                    </a:lnTo>
                    <a:lnTo>
                      <a:pt x="481" y="1724"/>
                    </a:lnTo>
                    <a:lnTo>
                      <a:pt x="494" y="1685"/>
                    </a:lnTo>
                    <a:lnTo>
                      <a:pt x="505" y="1646"/>
                    </a:lnTo>
                    <a:lnTo>
                      <a:pt x="505" y="1646"/>
                    </a:lnTo>
                    <a:lnTo>
                      <a:pt x="522" y="1663"/>
                    </a:lnTo>
                    <a:lnTo>
                      <a:pt x="529" y="1672"/>
                    </a:lnTo>
                    <a:lnTo>
                      <a:pt x="531" y="1676"/>
                    </a:lnTo>
                    <a:lnTo>
                      <a:pt x="532" y="1681"/>
                    </a:lnTo>
                    <a:lnTo>
                      <a:pt x="532" y="1681"/>
                    </a:lnTo>
                    <a:close/>
                    <a:moveTo>
                      <a:pt x="521" y="1604"/>
                    </a:moveTo>
                    <a:lnTo>
                      <a:pt x="521" y="1604"/>
                    </a:lnTo>
                    <a:lnTo>
                      <a:pt x="523" y="1613"/>
                    </a:lnTo>
                    <a:lnTo>
                      <a:pt x="528" y="1622"/>
                    </a:lnTo>
                    <a:lnTo>
                      <a:pt x="536" y="1640"/>
                    </a:lnTo>
                    <a:lnTo>
                      <a:pt x="539" y="1649"/>
                    </a:lnTo>
                    <a:lnTo>
                      <a:pt x="541" y="1657"/>
                    </a:lnTo>
                    <a:lnTo>
                      <a:pt x="542" y="1665"/>
                    </a:lnTo>
                    <a:lnTo>
                      <a:pt x="541" y="1668"/>
                    </a:lnTo>
                    <a:lnTo>
                      <a:pt x="540" y="1673"/>
                    </a:lnTo>
                    <a:lnTo>
                      <a:pt x="540" y="1673"/>
                    </a:lnTo>
                    <a:lnTo>
                      <a:pt x="530" y="1665"/>
                    </a:lnTo>
                    <a:lnTo>
                      <a:pt x="522" y="1657"/>
                    </a:lnTo>
                    <a:lnTo>
                      <a:pt x="516" y="1648"/>
                    </a:lnTo>
                    <a:lnTo>
                      <a:pt x="513" y="1639"/>
                    </a:lnTo>
                    <a:lnTo>
                      <a:pt x="512" y="1630"/>
                    </a:lnTo>
                    <a:lnTo>
                      <a:pt x="512" y="1621"/>
                    </a:lnTo>
                    <a:lnTo>
                      <a:pt x="515" y="1612"/>
                    </a:lnTo>
                    <a:lnTo>
                      <a:pt x="521" y="1604"/>
                    </a:lnTo>
                    <a:lnTo>
                      <a:pt x="521" y="1604"/>
                    </a:lnTo>
                    <a:close/>
                    <a:moveTo>
                      <a:pt x="548" y="1700"/>
                    </a:moveTo>
                    <a:lnTo>
                      <a:pt x="548" y="1700"/>
                    </a:lnTo>
                    <a:lnTo>
                      <a:pt x="558" y="1716"/>
                    </a:lnTo>
                    <a:lnTo>
                      <a:pt x="569" y="1731"/>
                    </a:lnTo>
                    <a:lnTo>
                      <a:pt x="579" y="1747"/>
                    </a:lnTo>
                    <a:lnTo>
                      <a:pt x="583" y="1756"/>
                    </a:lnTo>
                    <a:lnTo>
                      <a:pt x="587" y="1765"/>
                    </a:lnTo>
                    <a:lnTo>
                      <a:pt x="587" y="1765"/>
                    </a:lnTo>
                    <a:lnTo>
                      <a:pt x="579" y="1760"/>
                    </a:lnTo>
                    <a:lnTo>
                      <a:pt x="572" y="1756"/>
                    </a:lnTo>
                    <a:lnTo>
                      <a:pt x="558" y="1745"/>
                    </a:lnTo>
                    <a:lnTo>
                      <a:pt x="545" y="1735"/>
                    </a:lnTo>
                    <a:lnTo>
                      <a:pt x="537" y="1731"/>
                    </a:lnTo>
                    <a:lnTo>
                      <a:pt x="530" y="1726"/>
                    </a:lnTo>
                    <a:lnTo>
                      <a:pt x="530" y="1726"/>
                    </a:lnTo>
                    <a:lnTo>
                      <a:pt x="533" y="1718"/>
                    </a:lnTo>
                    <a:lnTo>
                      <a:pt x="537" y="1711"/>
                    </a:lnTo>
                    <a:lnTo>
                      <a:pt x="541" y="1705"/>
                    </a:lnTo>
                    <a:lnTo>
                      <a:pt x="544" y="1702"/>
                    </a:lnTo>
                    <a:lnTo>
                      <a:pt x="548" y="1700"/>
                    </a:lnTo>
                    <a:lnTo>
                      <a:pt x="548" y="1700"/>
                    </a:lnTo>
                    <a:close/>
                    <a:moveTo>
                      <a:pt x="558" y="1640"/>
                    </a:moveTo>
                    <a:lnTo>
                      <a:pt x="558" y="1640"/>
                    </a:lnTo>
                    <a:lnTo>
                      <a:pt x="555" y="1629"/>
                    </a:lnTo>
                    <a:lnTo>
                      <a:pt x="549" y="1617"/>
                    </a:lnTo>
                    <a:lnTo>
                      <a:pt x="538" y="1594"/>
                    </a:lnTo>
                    <a:lnTo>
                      <a:pt x="533" y="1583"/>
                    </a:lnTo>
                    <a:lnTo>
                      <a:pt x="531" y="1579"/>
                    </a:lnTo>
                    <a:lnTo>
                      <a:pt x="531" y="1573"/>
                    </a:lnTo>
                    <a:lnTo>
                      <a:pt x="531" y="1568"/>
                    </a:lnTo>
                    <a:lnTo>
                      <a:pt x="532" y="1564"/>
                    </a:lnTo>
                    <a:lnTo>
                      <a:pt x="533" y="1559"/>
                    </a:lnTo>
                    <a:lnTo>
                      <a:pt x="537" y="1555"/>
                    </a:lnTo>
                    <a:lnTo>
                      <a:pt x="537" y="1555"/>
                    </a:lnTo>
                    <a:lnTo>
                      <a:pt x="545" y="1566"/>
                    </a:lnTo>
                    <a:lnTo>
                      <a:pt x="553" y="1577"/>
                    </a:lnTo>
                    <a:lnTo>
                      <a:pt x="562" y="1590"/>
                    </a:lnTo>
                    <a:lnTo>
                      <a:pt x="569" y="1601"/>
                    </a:lnTo>
                    <a:lnTo>
                      <a:pt x="571" y="1607"/>
                    </a:lnTo>
                    <a:lnTo>
                      <a:pt x="573" y="1613"/>
                    </a:lnTo>
                    <a:lnTo>
                      <a:pt x="574" y="1618"/>
                    </a:lnTo>
                    <a:lnTo>
                      <a:pt x="574" y="1623"/>
                    </a:lnTo>
                    <a:lnTo>
                      <a:pt x="572" y="1629"/>
                    </a:lnTo>
                    <a:lnTo>
                      <a:pt x="570" y="1632"/>
                    </a:lnTo>
                    <a:lnTo>
                      <a:pt x="565" y="1636"/>
                    </a:lnTo>
                    <a:lnTo>
                      <a:pt x="558" y="1640"/>
                    </a:lnTo>
                    <a:lnTo>
                      <a:pt x="558" y="1640"/>
                    </a:lnTo>
                    <a:close/>
                    <a:moveTo>
                      <a:pt x="471" y="914"/>
                    </a:moveTo>
                    <a:lnTo>
                      <a:pt x="471" y="914"/>
                    </a:lnTo>
                    <a:lnTo>
                      <a:pt x="475" y="925"/>
                    </a:lnTo>
                    <a:lnTo>
                      <a:pt x="479" y="935"/>
                    </a:lnTo>
                    <a:lnTo>
                      <a:pt x="482" y="946"/>
                    </a:lnTo>
                    <a:lnTo>
                      <a:pt x="485" y="958"/>
                    </a:lnTo>
                    <a:lnTo>
                      <a:pt x="488" y="983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6" y="993"/>
                    </a:lnTo>
                    <a:lnTo>
                      <a:pt x="480" y="980"/>
                    </a:lnTo>
                    <a:lnTo>
                      <a:pt x="469" y="955"/>
                    </a:lnTo>
                    <a:lnTo>
                      <a:pt x="464" y="944"/>
                    </a:lnTo>
                    <a:lnTo>
                      <a:pt x="463" y="938"/>
                    </a:lnTo>
                    <a:lnTo>
                      <a:pt x="463" y="933"/>
                    </a:lnTo>
                    <a:lnTo>
                      <a:pt x="463" y="928"/>
                    </a:lnTo>
                    <a:lnTo>
                      <a:pt x="464" y="924"/>
                    </a:lnTo>
                    <a:lnTo>
                      <a:pt x="466" y="919"/>
                    </a:lnTo>
                    <a:lnTo>
                      <a:pt x="471" y="914"/>
                    </a:lnTo>
                    <a:lnTo>
                      <a:pt x="471" y="914"/>
                    </a:lnTo>
                    <a:close/>
                    <a:moveTo>
                      <a:pt x="462" y="974"/>
                    </a:moveTo>
                    <a:lnTo>
                      <a:pt x="462" y="974"/>
                    </a:lnTo>
                    <a:lnTo>
                      <a:pt x="489" y="1064"/>
                    </a:lnTo>
                    <a:lnTo>
                      <a:pt x="515" y="1157"/>
                    </a:lnTo>
                    <a:lnTo>
                      <a:pt x="539" y="1251"/>
                    </a:lnTo>
                    <a:lnTo>
                      <a:pt x="562" y="1344"/>
                    </a:lnTo>
                    <a:lnTo>
                      <a:pt x="562" y="1344"/>
                    </a:lnTo>
                    <a:lnTo>
                      <a:pt x="544" y="1286"/>
                    </a:lnTo>
                    <a:lnTo>
                      <a:pt x="524" y="1228"/>
                    </a:lnTo>
                    <a:lnTo>
                      <a:pt x="488" y="1110"/>
                    </a:lnTo>
                    <a:lnTo>
                      <a:pt x="488" y="1110"/>
                    </a:lnTo>
                    <a:lnTo>
                      <a:pt x="481" y="1089"/>
                    </a:lnTo>
                    <a:lnTo>
                      <a:pt x="473" y="1068"/>
                    </a:lnTo>
                    <a:lnTo>
                      <a:pt x="468" y="1048"/>
                    </a:lnTo>
                    <a:lnTo>
                      <a:pt x="465" y="1038"/>
                    </a:lnTo>
                    <a:lnTo>
                      <a:pt x="464" y="1030"/>
                    </a:lnTo>
                    <a:lnTo>
                      <a:pt x="464" y="1030"/>
                    </a:lnTo>
                    <a:lnTo>
                      <a:pt x="465" y="1026"/>
                    </a:lnTo>
                    <a:lnTo>
                      <a:pt x="466" y="1022"/>
                    </a:lnTo>
                    <a:lnTo>
                      <a:pt x="469" y="1019"/>
                    </a:lnTo>
                    <a:lnTo>
                      <a:pt x="469" y="1014"/>
                    </a:lnTo>
                    <a:lnTo>
                      <a:pt x="469" y="1014"/>
                    </a:lnTo>
                    <a:lnTo>
                      <a:pt x="469" y="1010"/>
                    </a:lnTo>
                    <a:lnTo>
                      <a:pt x="468" y="1004"/>
                    </a:lnTo>
                    <a:lnTo>
                      <a:pt x="464" y="994"/>
                    </a:lnTo>
                    <a:lnTo>
                      <a:pt x="461" y="984"/>
                    </a:lnTo>
                    <a:lnTo>
                      <a:pt x="461" y="979"/>
                    </a:lnTo>
                    <a:lnTo>
                      <a:pt x="462" y="974"/>
                    </a:lnTo>
                    <a:lnTo>
                      <a:pt x="462" y="974"/>
                    </a:lnTo>
                    <a:close/>
                    <a:moveTo>
                      <a:pt x="449" y="1073"/>
                    </a:moveTo>
                    <a:lnTo>
                      <a:pt x="449" y="1073"/>
                    </a:lnTo>
                    <a:lnTo>
                      <a:pt x="458" y="1086"/>
                    </a:lnTo>
                    <a:lnTo>
                      <a:pt x="466" y="1100"/>
                    </a:lnTo>
                    <a:lnTo>
                      <a:pt x="473" y="1112"/>
                    </a:lnTo>
                    <a:lnTo>
                      <a:pt x="479" y="1126"/>
                    </a:lnTo>
                    <a:lnTo>
                      <a:pt x="489" y="1155"/>
                    </a:lnTo>
                    <a:lnTo>
                      <a:pt x="499" y="1187"/>
                    </a:lnTo>
                    <a:lnTo>
                      <a:pt x="499" y="1187"/>
                    </a:lnTo>
                    <a:lnTo>
                      <a:pt x="531" y="1283"/>
                    </a:lnTo>
                    <a:lnTo>
                      <a:pt x="545" y="1331"/>
                    </a:lnTo>
                    <a:lnTo>
                      <a:pt x="558" y="1377"/>
                    </a:lnTo>
                    <a:lnTo>
                      <a:pt x="558" y="1377"/>
                    </a:lnTo>
                    <a:lnTo>
                      <a:pt x="532" y="1327"/>
                    </a:lnTo>
                    <a:lnTo>
                      <a:pt x="506" y="1278"/>
                    </a:lnTo>
                    <a:lnTo>
                      <a:pt x="453" y="1182"/>
                    </a:lnTo>
                    <a:lnTo>
                      <a:pt x="453" y="1182"/>
                    </a:lnTo>
                    <a:lnTo>
                      <a:pt x="457" y="1168"/>
                    </a:lnTo>
                    <a:lnTo>
                      <a:pt x="464" y="1153"/>
                    </a:lnTo>
                    <a:lnTo>
                      <a:pt x="470" y="1139"/>
                    </a:lnTo>
                    <a:lnTo>
                      <a:pt x="475" y="1126"/>
                    </a:lnTo>
                    <a:lnTo>
                      <a:pt x="475" y="1126"/>
                    </a:lnTo>
                    <a:lnTo>
                      <a:pt x="468" y="1137"/>
                    </a:lnTo>
                    <a:lnTo>
                      <a:pt x="461" y="1148"/>
                    </a:lnTo>
                    <a:lnTo>
                      <a:pt x="448" y="1173"/>
                    </a:lnTo>
                    <a:lnTo>
                      <a:pt x="448" y="1173"/>
                    </a:lnTo>
                    <a:lnTo>
                      <a:pt x="446" y="1162"/>
                    </a:lnTo>
                    <a:lnTo>
                      <a:pt x="445" y="1149"/>
                    </a:lnTo>
                    <a:lnTo>
                      <a:pt x="445" y="1137"/>
                    </a:lnTo>
                    <a:lnTo>
                      <a:pt x="445" y="1123"/>
                    </a:lnTo>
                    <a:lnTo>
                      <a:pt x="447" y="1097"/>
                    </a:lnTo>
                    <a:lnTo>
                      <a:pt x="449" y="1073"/>
                    </a:lnTo>
                    <a:lnTo>
                      <a:pt x="449" y="1073"/>
                    </a:lnTo>
                    <a:close/>
                    <a:moveTo>
                      <a:pt x="453" y="1193"/>
                    </a:moveTo>
                    <a:lnTo>
                      <a:pt x="453" y="1193"/>
                    </a:lnTo>
                    <a:lnTo>
                      <a:pt x="479" y="1244"/>
                    </a:lnTo>
                    <a:lnTo>
                      <a:pt x="511" y="1302"/>
                    </a:lnTo>
                    <a:lnTo>
                      <a:pt x="511" y="1302"/>
                    </a:lnTo>
                    <a:lnTo>
                      <a:pt x="539" y="1354"/>
                    </a:lnTo>
                    <a:lnTo>
                      <a:pt x="539" y="1354"/>
                    </a:lnTo>
                    <a:lnTo>
                      <a:pt x="556" y="1383"/>
                    </a:lnTo>
                    <a:lnTo>
                      <a:pt x="563" y="1396"/>
                    </a:lnTo>
                    <a:lnTo>
                      <a:pt x="565" y="1403"/>
                    </a:lnTo>
                    <a:lnTo>
                      <a:pt x="566" y="1407"/>
                    </a:lnTo>
                    <a:lnTo>
                      <a:pt x="566" y="1407"/>
                    </a:lnTo>
                    <a:lnTo>
                      <a:pt x="566" y="1416"/>
                    </a:lnTo>
                    <a:lnTo>
                      <a:pt x="565" y="1423"/>
                    </a:lnTo>
                    <a:lnTo>
                      <a:pt x="563" y="1431"/>
                    </a:lnTo>
                    <a:lnTo>
                      <a:pt x="559" y="1439"/>
                    </a:lnTo>
                    <a:lnTo>
                      <a:pt x="553" y="1454"/>
                    </a:lnTo>
                    <a:lnTo>
                      <a:pt x="549" y="1461"/>
                    </a:lnTo>
                    <a:lnTo>
                      <a:pt x="547" y="1468"/>
                    </a:lnTo>
                    <a:lnTo>
                      <a:pt x="547" y="1468"/>
                    </a:lnTo>
                    <a:lnTo>
                      <a:pt x="528" y="1426"/>
                    </a:lnTo>
                    <a:lnTo>
                      <a:pt x="507" y="1383"/>
                    </a:lnTo>
                    <a:lnTo>
                      <a:pt x="468" y="1297"/>
                    </a:lnTo>
                    <a:lnTo>
                      <a:pt x="468" y="1297"/>
                    </a:lnTo>
                    <a:lnTo>
                      <a:pt x="460" y="1282"/>
                    </a:lnTo>
                    <a:lnTo>
                      <a:pt x="452" y="1266"/>
                    </a:lnTo>
                    <a:lnTo>
                      <a:pt x="445" y="1253"/>
                    </a:lnTo>
                    <a:lnTo>
                      <a:pt x="443" y="1246"/>
                    </a:lnTo>
                    <a:lnTo>
                      <a:pt x="440" y="1239"/>
                    </a:lnTo>
                    <a:lnTo>
                      <a:pt x="440" y="1239"/>
                    </a:lnTo>
                    <a:lnTo>
                      <a:pt x="440" y="1233"/>
                    </a:lnTo>
                    <a:lnTo>
                      <a:pt x="441" y="1228"/>
                    </a:lnTo>
                    <a:lnTo>
                      <a:pt x="445" y="1215"/>
                    </a:lnTo>
                    <a:lnTo>
                      <a:pt x="449" y="1204"/>
                    </a:lnTo>
                    <a:lnTo>
                      <a:pt x="453" y="1193"/>
                    </a:lnTo>
                    <a:lnTo>
                      <a:pt x="453" y="1193"/>
                    </a:lnTo>
                    <a:close/>
                    <a:moveTo>
                      <a:pt x="418" y="776"/>
                    </a:moveTo>
                    <a:lnTo>
                      <a:pt x="418" y="776"/>
                    </a:lnTo>
                    <a:lnTo>
                      <a:pt x="428" y="802"/>
                    </a:lnTo>
                    <a:lnTo>
                      <a:pt x="432" y="816"/>
                    </a:lnTo>
                    <a:lnTo>
                      <a:pt x="437" y="828"/>
                    </a:lnTo>
                    <a:lnTo>
                      <a:pt x="440" y="842"/>
                    </a:lnTo>
                    <a:lnTo>
                      <a:pt x="443" y="854"/>
                    </a:lnTo>
                    <a:lnTo>
                      <a:pt x="441" y="868"/>
                    </a:lnTo>
                    <a:lnTo>
                      <a:pt x="441" y="874"/>
                    </a:lnTo>
                    <a:lnTo>
                      <a:pt x="439" y="879"/>
                    </a:lnTo>
                    <a:lnTo>
                      <a:pt x="439" y="879"/>
                    </a:lnTo>
                    <a:lnTo>
                      <a:pt x="432" y="854"/>
                    </a:lnTo>
                    <a:lnTo>
                      <a:pt x="427" y="827"/>
                    </a:lnTo>
                    <a:lnTo>
                      <a:pt x="421" y="801"/>
                    </a:lnTo>
                    <a:lnTo>
                      <a:pt x="418" y="776"/>
                    </a:lnTo>
                    <a:lnTo>
                      <a:pt x="418" y="776"/>
                    </a:lnTo>
                    <a:close/>
                    <a:moveTo>
                      <a:pt x="438" y="1286"/>
                    </a:moveTo>
                    <a:lnTo>
                      <a:pt x="438" y="1286"/>
                    </a:lnTo>
                    <a:lnTo>
                      <a:pt x="478" y="1377"/>
                    </a:lnTo>
                    <a:lnTo>
                      <a:pt x="516" y="1465"/>
                    </a:lnTo>
                    <a:lnTo>
                      <a:pt x="516" y="1465"/>
                    </a:lnTo>
                    <a:lnTo>
                      <a:pt x="524" y="1480"/>
                    </a:lnTo>
                    <a:lnTo>
                      <a:pt x="531" y="1493"/>
                    </a:lnTo>
                    <a:lnTo>
                      <a:pt x="533" y="1501"/>
                    </a:lnTo>
                    <a:lnTo>
                      <a:pt x="535" y="1508"/>
                    </a:lnTo>
                    <a:lnTo>
                      <a:pt x="533" y="1515"/>
                    </a:lnTo>
                    <a:lnTo>
                      <a:pt x="530" y="1521"/>
                    </a:lnTo>
                    <a:lnTo>
                      <a:pt x="530" y="1521"/>
                    </a:lnTo>
                    <a:lnTo>
                      <a:pt x="525" y="1514"/>
                    </a:lnTo>
                    <a:lnTo>
                      <a:pt x="519" y="1506"/>
                    </a:lnTo>
                    <a:lnTo>
                      <a:pt x="504" y="1490"/>
                    </a:lnTo>
                    <a:lnTo>
                      <a:pt x="488" y="1474"/>
                    </a:lnTo>
                    <a:lnTo>
                      <a:pt x="481" y="1466"/>
                    </a:lnTo>
                    <a:lnTo>
                      <a:pt x="475" y="1457"/>
                    </a:lnTo>
                    <a:lnTo>
                      <a:pt x="475" y="1457"/>
                    </a:lnTo>
                    <a:lnTo>
                      <a:pt x="469" y="1447"/>
                    </a:lnTo>
                    <a:lnTo>
                      <a:pt x="464" y="1434"/>
                    </a:lnTo>
                    <a:lnTo>
                      <a:pt x="454" y="1408"/>
                    </a:lnTo>
                    <a:lnTo>
                      <a:pt x="454" y="1408"/>
                    </a:lnTo>
                    <a:lnTo>
                      <a:pt x="448" y="1392"/>
                    </a:lnTo>
                    <a:lnTo>
                      <a:pt x="443" y="1377"/>
                    </a:lnTo>
                    <a:lnTo>
                      <a:pt x="438" y="1362"/>
                    </a:lnTo>
                    <a:lnTo>
                      <a:pt x="435" y="1346"/>
                    </a:lnTo>
                    <a:lnTo>
                      <a:pt x="433" y="1331"/>
                    </a:lnTo>
                    <a:lnTo>
                      <a:pt x="433" y="1316"/>
                    </a:lnTo>
                    <a:lnTo>
                      <a:pt x="435" y="1302"/>
                    </a:lnTo>
                    <a:lnTo>
                      <a:pt x="438" y="1286"/>
                    </a:lnTo>
                    <a:lnTo>
                      <a:pt x="438" y="1286"/>
                    </a:lnTo>
                    <a:close/>
                    <a:moveTo>
                      <a:pt x="436" y="1370"/>
                    </a:moveTo>
                    <a:lnTo>
                      <a:pt x="436" y="1370"/>
                    </a:lnTo>
                    <a:lnTo>
                      <a:pt x="441" y="1387"/>
                    </a:lnTo>
                    <a:lnTo>
                      <a:pt x="447" y="1403"/>
                    </a:lnTo>
                    <a:lnTo>
                      <a:pt x="452" y="1420"/>
                    </a:lnTo>
                    <a:lnTo>
                      <a:pt x="454" y="1428"/>
                    </a:lnTo>
                    <a:lnTo>
                      <a:pt x="454" y="1436"/>
                    </a:lnTo>
                    <a:lnTo>
                      <a:pt x="454" y="1436"/>
                    </a:lnTo>
                    <a:lnTo>
                      <a:pt x="446" y="1430"/>
                    </a:lnTo>
                    <a:lnTo>
                      <a:pt x="439" y="1422"/>
                    </a:lnTo>
                    <a:lnTo>
                      <a:pt x="435" y="1414"/>
                    </a:lnTo>
                    <a:lnTo>
                      <a:pt x="432" y="1405"/>
                    </a:lnTo>
                    <a:lnTo>
                      <a:pt x="431" y="1396"/>
                    </a:lnTo>
                    <a:lnTo>
                      <a:pt x="432" y="1387"/>
                    </a:lnTo>
                    <a:lnTo>
                      <a:pt x="433" y="1378"/>
                    </a:lnTo>
                    <a:lnTo>
                      <a:pt x="436" y="1370"/>
                    </a:lnTo>
                    <a:lnTo>
                      <a:pt x="436" y="1370"/>
                    </a:lnTo>
                    <a:close/>
                    <a:moveTo>
                      <a:pt x="431" y="1517"/>
                    </a:moveTo>
                    <a:lnTo>
                      <a:pt x="431" y="1517"/>
                    </a:lnTo>
                    <a:lnTo>
                      <a:pt x="431" y="1424"/>
                    </a:lnTo>
                    <a:lnTo>
                      <a:pt x="431" y="1424"/>
                    </a:lnTo>
                    <a:lnTo>
                      <a:pt x="443" y="1432"/>
                    </a:lnTo>
                    <a:lnTo>
                      <a:pt x="453" y="1442"/>
                    </a:lnTo>
                    <a:lnTo>
                      <a:pt x="460" y="1453"/>
                    </a:lnTo>
                    <a:lnTo>
                      <a:pt x="466" y="1465"/>
                    </a:lnTo>
                    <a:lnTo>
                      <a:pt x="472" y="1478"/>
                    </a:lnTo>
                    <a:lnTo>
                      <a:pt x="477" y="1491"/>
                    </a:lnTo>
                    <a:lnTo>
                      <a:pt x="487" y="1520"/>
                    </a:lnTo>
                    <a:lnTo>
                      <a:pt x="487" y="1520"/>
                    </a:lnTo>
                    <a:lnTo>
                      <a:pt x="495" y="1535"/>
                    </a:lnTo>
                    <a:lnTo>
                      <a:pt x="503" y="1552"/>
                    </a:lnTo>
                    <a:lnTo>
                      <a:pt x="510" y="1568"/>
                    </a:lnTo>
                    <a:lnTo>
                      <a:pt x="512" y="1575"/>
                    </a:lnTo>
                    <a:lnTo>
                      <a:pt x="512" y="1582"/>
                    </a:lnTo>
                    <a:lnTo>
                      <a:pt x="512" y="1582"/>
                    </a:lnTo>
                    <a:lnTo>
                      <a:pt x="512" y="1588"/>
                    </a:lnTo>
                    <a:lnTo>
                      <a:pt x="511" y="1592"/>
                    </a:lnTo>
                    <a:lnTo>
                      <a:pt x="506" y="1602"/>
                    </a:lnTo>
                    <a:lnTo>
                      <a:pt x="502" y="1613"/>
                    </a:lnTo>
                    <a:lnTo>
                      <a:pt x="500" y="1618"/>
                    </a:lnTo>
                    <a:lnTo>
                      <a:pt x="500" y="1623"/>
                    </a:lnTo>
                    <a:lnTo>
                      <a:pt x="500" y="1623"/>
                    </a:lnTo>
                    <a:lnTo>
                      <a:pt x="496" y="1622"/>
                    </a:lnTo>
                    <a:lnTo>
                      <a:pt x="493" y="1619"/>
                    </a:lnTo>
                    <a:lnTo>
                      <a:pt x="490" y="1616"/>
                    </a:lnTo>
                    <a:lnTo>
                      <a:pt x="489" y="1614"/>
                    </a:lnTo>
                    <a:lnTo>
                      <a:pt x="488" y="1608"/>
                    </a:lnTo>
                    <a:lnTo>
                      <a:pt x="489" y="1601"/>
                    </a:lnTo>
                    <a:lnTo>
                      <a:pt x="493" y="1589"/>
                    </a:lnTo>
                    <a:lnTo>
                      <a:pt x="494" y="1583"/>
                    </a:lnTo>
                    <a:lnTo>
                      <a:pt x="491" y="1577"/>
                    </a:lnTo>
                    <a:lnTo>
                      <a:pt x="491" y="1577"/>
                    </a:lnTo>
                    <a:lnTo>
                      <a:pt x="491" y="1581"/>
                    </a:lnTo>
                    <a:lnTo>
                      <a:pt x="490" y="1584"/>
                    </a:lnTo>
                    <a:lnTo>
                      <a:pt x="488" y="1591"/>
                    </a:lnTo>
                    <a:lnTo>
                      <a:pt x="486" y="1597"/>
                    </a:lnTo>
                    <a:lnTo>
                      <a:pt x="485" y="1600"/>
                    </a:lnTo>
                    <a:lnTo>
                      <a:pt x="485" y="1605"/>
                    </a:lnTo>
                    <a:lnTo>
                      <a:pt x="485" y="1605"/>
                    </a:lnTo>
                    <a:lnTo>
                      <a:pt x="477" y="1599"/>
                    </a:lnTo>
                    <a:lnTo>
                      <a:pt x="470" y="1591"/>
                    </a:lnTo>
                    <a:lnTo>
                      <a:pt x="464" y="1584"/>
                    </a:lnTo>
                    <a:lnTo>
                      <a:pt x="457" y="1575"/>
                    </a:lnTo>
                    <a:lnTo>
                      <a:pt x="457" y="1575"/>
                    </a:lnTo>
                    <a:lnTo>
                      <a:pt x="443" y="1562"/>
                    </a:lnTo>
                    <a:lnTo>
                      <a:pt x="435" y="1554"/>
                    </a:lnTo>
                    <a:lnTo>
                      <a:pt x="432" y="1550"/>
                    </a:lnTo>
                    <a:lnTo>
                      <a:pt x="430" y="1547"/>
                    </a:lnTo>
                    <a:lnTo>
                      <a:pt x="430" y="1547"/>
                    </a:lnTo>
                    <a:lnTo>
                      <a:pt x="429" y="1540"/>
                    </a:lnTo>
                    <a:lnTo>
                      <a:pt x="430" y="1533"/>
                    </a:lnTo>
                    <a:lnTo>
                      <a:pt x="431" y="1525"/>
                    </a:lnTo>
                    <a:lnTo>
                      <a:pt x="431" y="1517"/>
                    </a:lnTo>
                    <a:lnTo>
                      <a:pt x="431" y="1517"/>
                    </a:lnTo>
                    <a:close/>
                    <a:moveTo>
                      <a:pt x="431" y="1557"/>
                    </a:moveTo>
                    <a:lnTo>
                      <a:pt x="431" y="1557"/>
                    </a:lnTo>
                    <a:lnTo>
                      <a:pt x="432" y="1556"/>
                    </a:lnTo>
                    <a:lnTo>
                      <a:pt x="433" y="1556"/>
                    </a:lnTo>
                    <a:lnTo>
                      <a:pt x="433" y="1556"/>
                    </a:lnTo>
                    <a:lnTo>
                      <a:pt x="458" y="1582"/>
                    </a:lnTo>
                    <a:lnTo>
                      <a:pt x="471" y="1596"/>
                    </a:lnTo>
                    <a:lnTo>
                      <a:pt x="482" y="1609"/>
                    </a:lnTo>
                    <a:lnTo>
                      <a:pt x="482" y="1609"/>
                    </a:lnTo>
                    <a:lnTo>
                      <a:pt x="472" y="1646"/>
                    </a:lnTo>
                    <a:lnTo>
                      <a:pt x="462" y="1682"/>
                    </a:lnTo>
                    <a:lnTo>
                      <a:pt x="456" y="1699"/>
                    </a:lnTo>
                    <a:lnTo>
                      <a:pt x="449" y="1716"/>
                    </a:lnTo>
                    <a:lnTo>
                      <a:pt x="441" y="1733"/>
                    </a:lnTo>
                    <a:lnTo>
                      <a:pt x="433" y="1748"/>
                    </a:lnTo>
                    <a:lnTo>
                      <a:pt x="433" y="1748"/>
                    </a:lnTo>
                    <a:lnTo>
                      <a:pt x="436" y="1726"/>
                    </a:lnTo>
                    <a:lnTo>
                      <a:pt x="436" y="1702"/>
                    </a:lnTo>
                    <a:lnTo>
                      <a:pt x="435" y="1654"/>
                    </a:lnTo>
                    <a:lnTo>
                      <a:pt x="432" y="1605"/>
                    </a:lnTo>
                    <a:lnTo>
                      <a:pt x="431" y="1581"/>
                    </a:lnTo>
                    <a:lnTo>
                      <a:pt x="431" y="1557"/>
                    </a:lnTo>
                    <a:lnTo>
                      <a:pt x="431" y="1557"/>
                    </a:lnTo>
                    <a:close/>
                    <a:moveTo>
                      <a:pt x="368" y="2080"/>
                    </a:moveTo>
                    <a:lnTo>
                      <a:pt x="368" y="2080"/>
                    </a:lnTo>
                    <a:lnTo>
                      <a:pt x="374" y="2060"/>
                    </a:lnTo>
                    <a:lnTo>
                      <a:pt x="380" y="2038"/>
                    </a:lnTo>
                    <a:lnTo>
                      <a:pt x="391" y="1996"/>
                    </a:lnTo>
                    <a:lnTo>
                      <a:pt x="397" y="1976"/>
                    </a:lnTo>
                    <a:lnTo>
                      <a:pt x="405" y="1955"/>
                    </a:lnTo>
                    <a:lnTo>
                      <a:pt x="414" y="1937"/>
                    </a:lnTo>
                    <a:lnTo>
                      <a:pt x="424" y="1919"/>
                    </a:lnTo>
                    <a:lnTo>
                      <a:pt x="424" y="1919"/>
                    </a:lnTo>
                    <a:lnTo>
                      <a:pt x="430" y="2018"/>
                    </a:lnTo>
                    <a:lnTo>
                      <a:pt x="436" y="2117"/>
                    </a:lnTo>
                    <a:lnTo>
                      <a:pt x="436" y="2117"/>
                    </a:lnTo>
                    <a:lnTo>
                      <a:pt x="401" y="2100"/>
                    </a:lnTo>
                    <a:lnTo>
                      <a:pt x="384" y="2091"/>
                    </a:lnTo>
                    <a:lnTo>
                      <a:pt x="368" y="2080"/>
                    </a:lnTo>
                    <a:lnTo>
                      <a:pt x="368" y="2080"/>
                    </a:lnTo>
                    <a:close/>
                    <a:moveTo>
                      <a:pt x="487" y="1618"/>
                    </a:moveTo>
                    <a:lnTo>
                      <a:pt x="487" y="1618"/>
                    </a:lnTo>
                    <a:lnTo>
                      <a:pt x="490" y="1621"/>
                    </a:lnTo>
                    <a:lnTo>
                      <a:pt x="493" y="1624"/>
                    </a:lnTo>
                    <a:lnTo>
                      <a:pt x="494" y="1626"/>
                    </a:lnTo>
                    <a:lnTo>
                      <a:pt x="495" y="1630"/>
                    </a:lnTo>
                    <a:lnTo>
                      <a:pt x="495" y="1636"/>
                    </a:lnTo>
                    <a:lnTo>
                      <a:pt x="493" y="1644"/>
                    </a:lnTo>
                    <a:lnTo>
                      <a:pt x="487" y="1660"/>
                    </a:lnTo>
                    <a:lnTo>
                      <a:pt x="480" y="1675"/>
                    </a:lnTo>
                    <a:lnTo>
                      <a:pt x="480" y="1675"/>
                    </a:lnTo>
                    <a:lnTo>
                      <a:pt x="470" y="1711"/>
                    </a:lnTo>
                    <a:lnTo>
                      <a:pt x="461" y="1749"/>
                    </a:lnTo>
                    <a:lnTo>
                      <a:pt x="455" y="1767"/>
                    </a:lnTo>
                    <a:lnTo>
                      <a:pt x="451" y="1785"/>
                    </a:lnTo>
                    <a:lnTo>
                      <a:pt x="444" y="1801"/>
                    </a:lnTo>
                    <a:lnTo>
                      <a:pt x="437" y="1815"/>
                    </a:lnTo>
                    <a:lnTo>
                      <a:pt x="437" y="1815"/>
                    </a:lnTo>
                    <a:lnTo>
                      <a:pt x="445" y="1780"/>
                    </a:lnTo>
                    <a:lnTo>
                      <a:pt x="454" y="1745"/>
                    </a:lnTo>
                    <a:lnTo>
                      <a:pt x="464" y="1711"/>
                    </a:lnTo>
                    <a:lnTo>
                      <a:pt x="475" y="1678"/>
                    </a:lnTo>
                    <a:lnTo>
                      <a:pt x="475" y="1678"/>
                    </a:lnTo>
                    <a:lnTo>
                      <a:pt x="474" y="1672"/>
                    </a:lnTo>
                    <a:lnTo>
                      <a:pt x="474" y="1664"/>
                    </a:lnTo>
                    <a:lnTo>
                      <a:pt x="477" y="1648"/>
                    </a:lnTo>
                    <a:lnTo>
                      <a:pt x="481" y="1632"/>
                    </a:lnTo>
                    <a:lnTo>
                      <a:pt x="487" y="1618"/>
                    </a:lnTo>
                    <a:lnTo>
                      <a:pt x="487" y="1618"/>
                    </a:lnTo>
                    <a:close/>
                    <a:moveTo>
                      <a:pt x="453" y="2116"/>
                    </a:moveTo>
                    <a:lnTo>
                      <a:pt x="453" y="2116"/>
                    </a:lnTo>
                    <a:lnTo>
                      <a:pt x="448" y="2060"/>
                    </a:lnTo>
                    <a:lnTo>
                      <a:pt x="444" y="2001"/>
                    </a:lnTo>
                    <a:lnTo>
                      <a:pt x="444" y="2001"/>
                    </a:lnTo>
                    <a:lnTo>
                      <a:pt x="441" y="1965"/>
                    </a:lnTo>
                    <a:lnTo>
                      <a:pt x="440" y="1944"/>
                    </a:lnTo>
                    <a:lnTo>
                      <a:pt x="439" y="1925"/>
                    </a:lnTo>
                    <a:lnTo>
                      <a:pt x="440" y="1907"/>
                    </a:lnTo>
                    <a:lnTo>
                      <a:pt x="443" y="1890"/>
                    </a:lnTo>
                    <a:lnTo>
                      <a:pt x="445" y="1883"/>
                    </a:lnTo>
                    <a:lnTo>
                      <a:pt x="447" y="1876"/>
                    </a:lnTo>
                    <a:lnTo>
                      <a:pt x="451" y="1870"/>
                    </a:lnTo>
                    <a:lnTo>
                      <a:pt x="454" y="1865"/>
                    </a:lnTo>
                    <a:lnTo>
                      <a:pt x="454" y="1865"/>
                    </a:lnTo>
                    <a:lnTo>
                      <a:pt x="473" y="1902"/>
                    </a:lnTo>
                    <a:lnTo>
                      <a:pt x="491" y="1940"/>
                    </a:lnTo>
                    <a:lnTo>
                      <a:pt x="511" y="1977"/>
                    </a:lnTo>
                    <a:lnTo>
                      <a:pt x="520" y="1996"/>
                    </a:lnTo>
                    <a:lnTo>
                      <a:pt x="531" y="2015"/>
                    </a:lnTo>
                    <a:lnTo>
                      <a:pt x="531" y="2015"/>
                    </a:lnTo>
                    <a:lnTo>
                      <a:pt x="520" y="2026"/>
                    </a:lnTo>
                    <a:lnTo>
                      <a:pt x="511" y="2038"/>
                    </a:lnTo>
                    <a:lnTo>
                      <a:pt x="502" y="2052"/>
                    </a:lnTo>
                    <a:lnTo>
                      <a:pt x="493" y="2066"/>
                    </a:lnTo>
                    <a:lnTo>
                      <a:pt x="485" y="2079"/>
                    </a:lnTo>
                    <a:lnTo>
                      <a:pt x="475" y="2092"/>
                    </a:lnTo>
                    <a:lnTo>
                      <a:pt x="465" y="2104"/>
                    </a:lnTo>
                    <a:lnTo>
                      <a:pt x="453" y="2116"/>
                    </a:lnTo>
                    <a:lnTo>
                      <a:pt x="453" y="2116"/>
                    </a:lnTo>
                    <a:close/>
                    <a:moveTo>
                      <a:pt x="599" y="1948"/>
                    </a:moveTo>
                    <a:lnTo>
                      <a:pt x="599" y="1948"/>
                    </a:lnTo>
                    <a:lnTo>
                      <a:pt x="592" y="1954"/>
                    </a:lnTo>
                    <a:lnTo>
                      <a:pt x="588" y="1957"/>
                    </a:lnTo>
                    <a:lnTo>
                      <a:pt x="586" y="1957"/>
                    </a:lnTo>
                    <a:lnTo>
                      <a:pt x="583" y="1957"/>
                    </a:lnTo>
                    <a:lnTo>
                      <a:pt x="583" y="1957"/>
                    </a:lnTo>
                    <a:lnTo>
                      <a:pt x="577" y="1928"/>
                    </a:lnTo>
                    <a:lnTo>
                      <a:pt x="571" y="1900"/>
                    </a:lnTo>
                    <a:lnTo>
                      <a:pt x="564" y="1871"/>
                    </a:lnTo>
                    <a:lnTo>
                      <a:pt x="561" y="1858"/>
                    </a:lnTo>
                    <a:lnTo>
                      <a:pt x="556" y="1844"/>
                    </a:lnTo>
                    <a:lnTo>
                      <a:pt x="556" y="1844"/>
                    </a:lnTo>
                    <a:lnTo>
                      <a:pt x="561" y="1876"/>
                    </a:lnTo>
                    <a:lnTo>
                      <a:pt x="566" y="1908"/>
                    </a:lnTo>
                    <a:lnTo>
                      <a:pt x="572" y="1940"/>
                    </a:lnTo>
                    <a:lnTo>
                      <a:pt x="575" y="1969"/>
                    </a:lnTo>
                    <a:lnTo>
                      <a:pt x="575" y="1969"/>
                    </a:lnTo>
                    <a:lnTo>
                      <a:pt x="572" y="1973"/>
                    </a:lnTo>
                    <a:lnTo>
                      <a:pt x="569" y="1977"/>
                    </a:lnTo>
                    <a:lnTo>
                      <a:pt x="566" y="1979"/>
                    </a:lnTo>
                    <a:lnTo>
                      <a:pt x="564" y="1980"/>
                    </a:lnTo>
                    <a:lnTo>
                      <a:pt x="562" y="1982"/>
                    </a:lnTo>
                    <a:lnTo>
                      <a:pt x="558" y="1980"/>
                    </a:lnTo>
                    <a:lnTo>
                      <a:pt x="558" y="1980"/>
                    </a:lnTo>
                    <a:lnTo>
                      <a:pt x="533" y="1902"/>
                    </a:lnTo>
                    <a:lnTo>
                      <a:pt x="508" y="1825"/>
                    </a:lnTo>
                    <a:lnTo>
                      <a:pt x="508" y="1825"/>
                    </a:lnTo>
                    <a:lnTo>
                      <a:pt x="514" y="1852"/>
                    </a:lnTo>
                    <a:lnTo>
                      <a:pt x="521" y="1877"/>
                    </a:lnTo>
                    <a:lnTo>
                      <a:pt x="535" y="1929"/>
                    </a:lnTo>
                    <a:lnTo>
                      <a:pt x="535" y="1929"/>
                    </a:lnTo>
                    <a:lnTo>
                      <a:pt x="531" y="1927"/>
                    </a:lnTo>
                    <a:lnTo>
                      <a:pt x="530" y="1926"/>
                    </a:lnTo>
                    <a:lnTo>
                      <a:pt x="528" y="1920"/>
                    </a:lnTo>
                    <a:lnTo>
                      <a:pt x="525" y="1915"/>
                    </a:lnTo>
                    <a:lnTo>
                      <a:pt x="524" y="1912"/>
                    </a:lnTo>
                    <a:lnTo>
                      <a:pt x="522" y="1910"/>
                    </a:lnTo>
                    <a:lnTo>
                      <a:pt x="522" y="1910"/>
                    </a:lnTo>
                    <a:lnTo>
                      <a:pt x="537" y="1952"/>
                    </a:lnTo>
                    <a:lnTo>
                      <a:pt x="550" y="1993"/>
                    </a:lnTo>
                    <a:lnTo>
                      <a:pt x="550" y="1993"/>
                    </a:lnTo>
                    <a:lnTo>
                      <a:pt x="548" y="1996"/>
                    </a:lnTo>
                    <a:lnTo>
                      <a:pt x="545" y="2000"/>
                    </a:lnTo>
                    <a:lnTo>
                      <a:pt x="542" y="2002"/>
                    </a:lnTo>
                    <a:lnTo>
                      <a:pt x="537" y="2004"/>
                    </a:lnTo>
                    <a:lnTo>
                      <a:pt x="537" y="2004"/>
                    </a:lnTo>
                    <a:lnTo>
                      <a:pt x="506" y="1950"/>
                    </a:lnTo>
                    <a:lnTo>
                      <a:pt x="477" y="1894"/>
                    </a:lnTo>
                    <a:lnTo>
                      <a:pt x="477" y="1894"/>
                    </a:lnTo>
                    <a:lnTo>
                      <a:pt x="465" y="1875"/>
                    </a:lnTo>
                    <a:lnTo>
                      <a:pt x="460" y="1865"/>
                    </a:lnTo>
                    <a:lnTo>
                      <a:pt x="457" y="1860"/>
                    </a:lnTo>
                    <a:lnTo>
                      <a:pt x="457" y="1857"/>
                    </a:lnTo>
                    <a:lnTo>
                      <a:pt x="457" y="1857"/>
                    </a:lnTo>
                    <a:lnTo>
                      <a:pt x="457" y="1854"/>
                    </a:lnTo>
                    <a:lnTo>
                      <a:pt x="458" y="1851"/>
                    </a:lnTo>
                    <a:lnTo>
                      <a:pt x="463" y="1842"/>
                    </a:lnTo>
                    <a:lnTo>
                      <a:pt x="473" y="1825"/>
                    </a:lnTo>
                    <a:lnTo>
                      <a:pt x="473" y="1825"/>
                    </a:lnTo>
                    <a:lnTo>
                      <a:pt x="487" y="1800"/>
                    </a:lnTo>
                    <a:lnTo>
                      <a:pt x="502" y="1773"/>
                    </a:lnTo>
                    <a:lnTo>
                      <a:pt x="516" y="1748"/>
                    </a:lnTo>
                    <a:lnTo>
                      <a:pt x="523" y="1736"/>
                    </a:lnTo>
                    <a:lnTo>
                      <a:pt x="530" y="1727"/>
                    </a:lnTo>
                    <a:lnTo>
                      <a:pt x="530" y="1727"/>
                    </a:lnTo>
                    <a:lnTo>
                      <a:pt x="537" y="1734"/>
                    </a:lnTo>
                    <a:lnTo>
                      <a:pt x="544" y="1740"/>
                    </a:lnTo>
                    <a:lnTo>
                      <a:pt x="561" y="1751"/>
                    </a:lnTo>
                    <a:lnTo>
                      <a:pt x="578" y="1762"/>
                    </a:lnTo>
                    <a:lnTo>
                      <a:pt x="586" y="1769"/>
                    </a:lnTo>
                    <a:lnTo>
                      <a:pt x="592" y="1776"/>
                    </a:lnTo>
                    <a:lnTo>
                      <a:pt x="592" y="1776"/>
                    </a:lnTo>
                    <a:lnTo>
                      <a:pt x="597" y="1783"/>
                    </a:lnTo>
                    <a:lnTo>
                      <a:pt x="600" y="1790"/>
                    </a:lnTo>
                    <a:lnTo>
                      <a:pt x="607" y="1806"/>
                    </a:lnTo>
                    <a:lnTo>
                      <a:pt x="620" y="1839"/>
                    </a:lnTo>
                    <a:lnTo>
                      <a:pt x="620" y="1839"/>
                    </a:lnTo>
                    <a:lnTo>
                      <a:pt x="633" y="1873"/>
                    </a:lnTo>
                    <a:lnTo>
                      <a:pt x="645" y="1906"/>
                    </a:lnTo>
                    <a:lnTo>
                      <a:pt x="645" y="1906"/>
                    </a:lnTo>
                    <a:lnTo>
                      <a:pt x="634" y="1916"/>
                    </a:lnTo>
                    <a:lnTo>
                      <a:pt x="622" y="1926"/>
                    </a:lnTo>
                    <a:lnTo>
                      <a:pt x="599" y="1948"/>
                    </a:lnTo>
                    <a:lnTo>
                      <a:pt x="599" y="1948"/>
                    </a:lnTo>
                    <a:close/>
                    <a:moveTo>
                      <a:pt x="596" y="1719"/>
                    </a:moveTo>
                    <a:lnTo>
                      <a:pt x="596" y="1719"/>
                    </a:lnTo>
                    <a:lnTo>
                      <a:pt x="583" y="1692"/>
                    </a:lnTo>
                    <a:lnTo>
                      <a:pt x="578" y="1680"/>
                    </a:lnTo>
                    <a:lnTo>
                      <a:pt x="573" y="1667"/>
                    </a:lnTo>
                    <a:lnTo>
                      <a:pt x="571" y="1657"/>
                    </a:lnTo>
                    <a:lnTo>
                      <a:pt x="571" y="1651"/>
                    </a:lnTo>
                    <a:lnTo>
                      <a:pt x="572" y="1647"/>
                    </a:lnTo>
                    <a:lnTo>
                      <a:pt x="574" y="1642"/>
                    </a:lnTo>
                    <a:lnTo>
                      <a:pt x="577" y="1638"/>
                    </a:lnTo>
                    <a:lnTo>
                      <a:pt x="581" y="1634"/>
                    </a:lnTo>
                    <a:lnTo>
                      <a:pt x="587" y="1631"/>
                    </a:lnTo>
                    <a:lnTo>
                      <a:pt x="587" y="1631"/>
                    </a:lnTo>
                    <a:lnTo>
                      <a:pt x="630" y="1739"/>
                    </a:lnTo>
                    <a:lnTo>
                      <a:pt x="673" y="1843"/>
                    </a:lnTo>
                    <a:lnTo>
                      <a:pt x="673" y="1843"/>
                    </a:lnTo>
                    <a:lnTo>
                      <a:pt x="659" y="1832"/>
                    </a:lnTo>
                    <a:lnTo>
                      <a:pt x="647" y="1818"/>
                    </a:lnTo>
                    <a:lnTo>
                      <a:pt x="637" y="1803"/>
                    </a:lnTo>
                    <a:lnTo>
                      <a:pt x="628" y="1787"/>
                    </a:lnTo>
                    <a:lnTo>
                      <a:pt x="619" y="1770"/>
                    </a:lnTo>
                    <a:lnTo>
                      <a:pt x="612" y="1753"/>
                    </a:lnTo>
                    <a:lnTo>
                      <a:pt x="596" y="1719"/>
                    </a:lnTo>
                    <a:lnTo>
                      <a:pt x="596" y="1719"/>
                    </a:lnTo>
                    <a:close/>
                    <a:moveTo>
                      <a:pt x="768" y="2085"/>
                    </a:moveTo>
                    <a:lnTo>
                      <a:pt x="768" y="2085"/>
                    </a:lnTo>
                    <a:lnTo>
                      <a:pt x="767" y="2083"/>
                    </a:lnTo>
                    <a:lnTo>
                      <a:pt x="767" y="2081"/>
                    </a:lnTo>
                    <a:lnTo>
                      <a:pt x="767" y="2079"/>
                    </a:lnTo>
                    <a:lnTo>
                      <a:pt x="765" y="2078"/>
                    </a:lnTo>
                    <a:lnTo>
                      <a:pt x="765" y="2078"/>
                    </a:lnTo>
                    <a:lnTo>
                      <a:pt x="766" y="2087"/>
                    </a:lnTo>
                    <a:lnTo>
                      <a:pt x="766" y="2095"/>
                    </a:lnTo>
                    <a:lnTo>
                      <a:pt x="765" y="2103"/>
                    </a:lnTo>
                    <a:lnTo>
                      <a:pt x="763" y="2105"/>
                    </a:lnTo>
                    <a:lnTo>
                      <a:pt x="760" y="2108"/>
                    </a:lnTo>
                    <a:lnTo>
                      <a:pt x="760" y="2108"/>
                    </a:lnTo>
                    <a:lnTo>
                      <a:pt x="749" y="2083"/>
                    </a:lnTo>
                    <a:lnTo>
                      <a:pt x="739" y="2058"/>
                    </a:lnTo>
                    <a:lnTo>
                      <a:pt x="717" y="2007"/>
                    </a:lnTo>
                    <a:lnTo>
                      <a:pt x="717" y="2007"/>
                    </a:lnTo>
                    <a:lnTo>
                      <a:pt x="706" y="1980"/>
                    </a:lnTo>
                    <a:lnTo>
                      <a:pt x="695" y="1955"/>
                    </a:lnTo>
                    <a:lnTo>
                      <a:pt x="689" y="1943"/>
                    </a:lnTo>
                    <a:lnTo>
                      <a:pt x="686" y="1931"/>
                    </a:lnTo>
                    <a:lnTo>
                      <a:pt x="682" y="1918"/>
                    </a:lnTo>
                    <a:lnTo>
                      <a:pt x="681" y="1907"/>
                    </a:lnTo>
                    <a:lnTo>
                      <a:pt x="681" y="1907"/>
                    </a:lnTo>
                    <a:lnTo>
                      <a:pt x="683" y="1906"/>
                    </a:lnTo>
                    <a:lnTo>
                      <a:pt x="687" y="1906"/>
                    </a:lnTo>
                    <a:lnTo>
                      <a:pt x="687" y="1906"/>
                    </a:lnTo>
                    <a:lnTo>
                      <a:pt x="700" y="1926"/>
                    </a:lnTo>
                    <a:lnTo>
                      <a:pt x="714" y="1946"/>
                    </a:lnTo>
                    <a:lnTo>
                      <a:pt x="729" y="1968"/>
                    </a:lnTo>
                    <a:lnTo>
                      <a:pt x="742" y="1991"/>
                    </a:lnTo>
                    <a:lnTo>
                      <a:pt x="755" y="2013"/>
                    </a:lnTo>
                    <a:lnTo>
                      <a:pt x="759" y="2025"/>
                    </a:lnTo>
                    <a:lnTo>
                      <a:pt x="764" y="2037"/>
                    </a:lnTo>
                    <a:lnTo>
                      <a:pt x="766" y="2049"/>
                    </a:lnTo>
                    <a:lnTo>
                      <a:pt x="768" y="2061"/>
                    </a:lnTo>
                    <a:lnTo>
                      <a:pt x="768" y="2072"/>
                    </a:lnTo>
                    <a:lnTo>
                      <a:pt x="768" y="2085"/>
                    </a:lnTo>
                    <a:lnTo>
                      <a:pt x="768" y="2085"/>
                    </a:lnTo>
                    <a:close/>
                    <a:moveTo>
                      <a:pt x="774" y="1403"/>
                    </a:moveTo>
                    <a:lnTo>
                      <a:pt x="774" y="1403"/>
                    </a:lnTo>
                    <a:lnTo>
                      <a:pt x="784" y="1432"/>
                    </a:lnTo>
                    <a:lnTo>
                      <a:pt x="796" y="1461"/>
                    </a:lnTo>
                    <a:lnTo>
                      <a:pt x="805" y="1489"/>
                    </a:lnTo>
                    <a:lnTo>
                      <a:pt x="809" y="1504"/>
                    </a:lnTo>
                    <a:lnTo>
                      <a:pt x="812" y="1517"/>
                    </a:lnTo>
                    <a:lnTo>
                      <a:pt x="812" y="1517"/>
                    </a:lnTo>
                    <a:lnTo>
                      <a:pt x="805" y="1503"/>
                    </a:lnTo>
                    <a:lnTo>
                      <a:pt x="798" y="1488"/>
                    </a:lnTo>
                    <a:lnTo>
                      <a:pt x="782" y="1459"/>
                    </a:lnTo>
                    <a:lnTo>
                      <a:pt x="776" y="1446"/>
                    </a:lnTo>
                    <a:lnTo>
                      <a:pt x="774" y="1439"/>
                    </a:lnTo>
                    <a:lnTo>
                      <a:pt x="772" y="1431"/>
                    </a:lnTo>
                    <a:lnTo>
                      <a:pt x="772" y="1424"/>
                    </a:lnTo>
                    <a:lnTo>
                      <a:pt x="772" y="1417"/>
                    </a:lnTo>
                    <a:lnTo>
                      <a:pt x="772" y="1411"/>
                    </a:lnTo>
                    <a:lnTo>
                      <a:pt x="774" y="1403"/>
                    </a:lnTo>
                    <a:lnTo>
                      <a:pt x="774" y="1403"/>
                    </a:lnTo>
                    <a:close/>
                    <a:moveTo>
                      <a:pt x="783" y="1639"/>
                    </a:moveTo>
                    <a:lnTo>
                      <a:pt x="783" y="1639"/>
                    </a:lnTo>
                    <a:lnTo>
                      <a:pt x="779" y="1577"/>
                    </a:lnTo>
                    <a:lnTo>
                      <a:pt x="779" y="1577"/>
                    </a:lnTo>
                    <a:lnTo>
                      <a:pt x="777" y="1543"/>
                    </a:lnTo>
                    <a:lnTo>
                      <a:pt x="775" y="1512"/>
                    </a:lnTo>
                    <a:lnTo>
                      <a:pt x="773" y="1482"/>
                    </a:lnTo>
                    <a:lnTo>
                      <a:pt x="773" y="1470"/>
                    </a:lnTo>
                    <a:lnTo>
                      <a:pt x="774" y="1457"/>
                    </a:lnTo>
                    <a:lnTo>
                      <a:pt x="774" y="1457"/>
                    </a:lnTo>
                    <a:lnTo>
                      <a:pt x="774" y="1456"/>
                    </a:lnTo>
                    <a:lnTo>
                      <a:pt x="777" y="1456"/>
                    </a:lnTo>
                    <a:lnTo>
                      <a:pt x="777" y="1456"/>
                    </a:lnTo>
                    <a:lnTo>
                      <a:pt x="789" y="1481"/>
                    </a:lnTo>
                    <a:lnTo>
                      <a:pt x="800" y="1506"/>
                    </a:lnTo>
                    <a:lnTo>
                      <a:pt x="812" y="1534"/>
                    </a:lnTo>
                    <a:lnTo>
                      <a:pt x="822" y="1564"/>
                    </a:lnTo>
                    <a:lnTo>
                      <a:pt x="822" y="1564"/>
                    </a:lnTo>
                    <a:lnTo>
                      <a:pt x="830" y="1591"/>
                    </a:lnTo>
                    <a:lnTo>
                      <a:pt x="839" y="1619"/>
                    </a:lnTo>
                    <a:lnTo>
                      <a:pt x="839" y="1619"/>
                    </a:lnTo>
                    <a:lnTo>
                      <a:pt x="844" y="1634"/>
                    </a:lnTo>
                    <a:lnTo>
                      <a:pt x="851" y="1649"/>
                    </a:lnTo>
                    <a:lnTo>
                      <a:pt x="857" y="1663"/>
                    </a:lnTo>
                    <a:lnTo>
                      <a:pt x="859" y="1668"/>
                    </a:lnTo>
                    <a:lnTo>
                      <a:pt x="859" y="1674"/>
                    </a:lnTo>
                    <a:lnTo>
                      <a:pt x="859" y="1674"/>
                    </a:lnTo>
                    <a:lnTo>
                      <a:pt x="859" y="1677"/>
                    </a:lnTo>
                    <a:lnTo>
                      <a:pt x="857" y="1682"/>
                    </a:lnTo>
                    <a:lnTo>
                      <a:pt x="851" y="1691"/>
                    </a:lnTo>
                    <a:lnTo>
                      <a:pt x="844" y="1698"/>
                    </a:lnTo>
                    <a:lnTo>
                      <a:pt x="839" y="1706"/>
                    </a:lnTo>
                    <a:lnTo>
                      <a:pt x="839" y="1706"/>
                    </a:lnTo>
                    <a:lnTo>
                      <a:pt x="827" y="1723"/>
                    </a:lnTo>
                    <a:lnTo>
                      <a:pt x="822" y="1730"/>
                    </a:lnTo>
                    <a:lnTo>
                      <a:pt x="818" y="1733"/>
                    </a:lnTo>
                    <a:lnTo>
                      <a:pt x="815" y="1735"/>
                    </a:lnTo>
                    <a:lnTo>
                      <a:pt x="815" y="1735"/>
                    </a:lnTo>
                    <a:lnTo>
                      <a:pt x="812" y="1731"/>
                    </a:lnTo>
                    <a:lnTo>
                      <a:pt x="808" y="1726"/>
                    </a:lnTo>
                    <a:lnTo>
                      <a:pt x="800" y="1717"/>
                    </a:lnTo>
                    <a:lnTo>
                      <a:pt x="792" y="1708"/>
                    </a:lnTo>
                    <a:lnTo>
                      <a:pt x="789" y="1703"/>
                    </a:lnTo>
                    <a:lnTo>
                      <a:pt x="787" y="1699"/>
                    </a:lnTo>
                    <a:lnTo>
                      <a:pt x="787" y="1699"/>
                    </a:lnTo>
                    <a:lnTo>
                      <a:pt x="784" y="1692"/>
                    </a:lnTo>
                    <a:lnTo>
                      <a:pt x="783" y="1685"/>
                    </a:lnTo>
                    <a:lnTo>
                      <a:pt x="783" y="1671"/>
                    </a:lnTo>
                    <a:lnTo>
                      <a:pt x="783" y="1655"/>
                    </a:lnTo>
                    <a:lnTo>
                      <a:pt x="783" y="1639"/>
                    </a:lnTo>
                    <a:lnTo>
                      <a:pt x="783" y="1639"/>
                    </a:lnTo>
                    <a:close/>
                    <a:moveTo>
                      <a:pt x="798" y="1774"/>
                    </a:moveTo>
                    <a:lnTo>
                      <a:pt x="798" y="1774"/>
                    </a:lnTo>
                    <a:lnTo>
                      <a:pt x="793" y="1761"/>
                    </a:lnTo>
                    <a:lnTo>
                      <a:pt x="792" y="1748"/>
                    </a:lnTo>
                    <a:lnTo>
                      <a:pt x="790" y="1720"/>
                    </a:lnTo>
                    <a:lnTo>
                      <a:pt x="790" y="1720"/>
                    </a:lnTo>
                    <a:lnTo>
                      <a:pt x="797" y="1727"/>
                    </a:lnTo>
                    <a:lnTo>
                      <a:pt x="802" y="1734"/>
                    </a:lnTo>
                    <a:lnTo>
                      <a:pt x="806" y="1742"/>
                    </a:lnTo>
                    <a:lnTo>
                      <a:pt x="807" y="1749"/>
                    </a:lnTo>
                    <a:lnTo>
                      <a:pt x="807" y="1756"/>
                    </a:lnTo>
                    <a:lnTo>
                      <a:pt x="806" y="1762"/>
                    </a:lnTo>
                    <a:lnTo>
                      <a:pt x="802" y="1769"/>
                    </a:lnTo>
                    <a:lnTo>
                      <a:pt x="798" y="1774"/>
                    </a:lnTo>
                    <a:lnTo>
                      <a:pt x="798" y="1774"/>
                    </a:lnTo>
                    <a:close/>
                    <a:moveTo>
                      <a:pt x="842" y="1985"/>
                    </a:moveTo>
                    <a:lnTo>
                      <a:pt x="842" y="1985"/>
                    </a:lnTo>
                    <a:lnTo>
                      <a:pt x="801" y="1878"/>
                    </a:lnTo>
                    <a:lnTo>
                      <a:pt x="801" y="1878"/>
                    </a:lnTo>
                    <a:lnTo>
                      <a:pt x="805" y="1876"/>
                    </a:lnTo>
                    <a:lnTo>
                      <a:pt x="807" y="1874"/>
                    </a:lnTo>
                    <a:lnTo>
                      <a:pt x="808" y="1871"/>
                    </a:lnTo>
                    <a:lnTo>
                      <a:pt x="809" y="1868"/>
                    </a:lnTo>
                    <a:lnTo>
                      <a:pt x="810" y="1860"/>
                    </a:lnTo>
                    <a:lnTo>
                      <a:pt x="809" y="1851"/>
                    </a:lnTo>
                    <a:lnTo>
                      <a:pt x="806" y="1832"/>
                    </a:lnTo>
                    <a:lnTo>
                      <a:pt x="804" y="1823"/>
                    </a:lnTo>
                    <a:lnTo>
                      <a:pt x="802" y="1814"/>
                    </a:lnTo>
                    <a:lnTo>
                      <a:pt x="802" y="1814"/>
                    </a:lnTo>
                    <a:lnTo>
                      <a:pt x="819" y="1799"/>
                    </a:lnTo>
                    <a:lnTo>
                      <a:pt x="829" y="1793"/>
                    </a:lnTo>
                    <a:lnTo>
                      <a:pt x="839" y="1787"/>
                    </a:lnTo>
                    <a:lnTo>
                      <a:pt x="839" y="1787"/>
                    </a:lnTo>
                    <a:lnTo>
                      <a:pt x="856" y="1812"/>
                    </a:lnTo>
                    <a:lnTo>
                      <a:pt x="874" y="1837"/>
                    </a:lnTo>
                    <a:lnTo>
                      <a:pt x="892" y="1864"/>
                    </a:lnTo>
                    <a:lnTo>
                      <a:pt x="909" y="1890"/>
                    </a:lnTo>
                    <a:lnTo>
                      <a:pt x="909" y="1890"/>
                    </a:lnTo>
                    <a:lnTo>
                      <a:pt x="892" y="1912"/>
                    </a:lnTo>
                    <a:lnTo>
                      <a:pt x="875" y="1937"/>
                    </a:lnTo>
                    <a:lnTo>
                      <a:pt x="842" y="1985"/>
                    </a:lnTo>
                    <a:lnTo>
                      <a:pt x="842" y="1985"/>
                    </a:lnTo>
                    <a:close/>
                    <a:moveTo>
                      <a:pt x="922" y="1867"/>
                    </a:moveTo>
                    <a:lnTo>
                      <a:pt x="922" y="1867"/>
                    </a:lnTo>
                    <a:lnTo>
                      <a:pt x="907" y="1846"/>
                    </a:lnTo>
                    <a:lnTo>
                      <a:pt x="888" y="1822"/>
                    </a:lnTo>
                    <a:lnTo>
                      <a:pt x="888" y="1822"/>
                    </a:lnTo>
                    <a:lnTo>
                      <a:pt x="877" y="1810"/>
                    </a:lnTo>
                    <a:lnTo>
                      <a:pt x="865" y="1798"/>
                    </a:lnTo>
                    <a:lnTo>
                      <a:pt x="856" y="1786"/>
                    </a:lnTo>
                    <a:lnTo>
                      <a:pt x="852" y="1782"/>
                    </a:lnTo>
                    <a:lnTo>
                      <a:pt x="851" y="1777"/>
                    </a:lnTo>
                    <a:lnTo>
                      <a:pt x="851" y="1777"/>
                    </a:lnTo>
                    <a:lnTo>
                      <a:pt x="852" y="1773"/>
                    </a:lnTo>
                    <a:lnTo>
                      <a:pt x="856" y="1769"/>
                    </a:lnTo>
                    <a:lnTo>
                      <a:pt x="860" y="1766"/>
                    </a:lnTo>
                    <a:lnTo>
                      <a:pt x="866" y="1762"/>
                    </a:lnTo>
                    <a:lnTo>
                      <a:pt x="877" y="1757"/>
                    </a:lnTo>
                    <a:lnTo>
                      <a:pt x="883" y="1753"/>
                    </a:lnTo>
                    <a:lnTo>
                      <a:pt x="886" y="1750"/>
                    </a:lnTo>
                    <a:lnTo>
                      <a:pt x="886" y="1750"/>
                    </a:lnTo>
                    <a:lnTo>
                      <a:pt x="891" y="1762"/>
                    </a:lnTo>
                    <a:lnTo>
                      <a:pt x="897" y="1774"/>
                    </a:lnTo>
                    <a:lnTo>
                      <a:pt x="900" y="1780"/>
                    </a:lnTo>
                    <a:lnTo>
                      <a:pt x="903" y="1784"/>
                    </a:lnTo>
                    <a:lnTo>
                      <a:pt x="908" y="1790"/>
                    </a:lnTo>
                    <a:lnTo>
                      <a:pt x="913" y="1793"/>
                    </a:lnTo>
                    <a:lnTo>
                      <a:pt x="913" y="1793"/>
                    </a:lnTo>
                    <a:lnTo>
                      <a:pt x="916" y="1803"/>
                    </a:lnTo>
                    <a:lnTo>
                      <a:pt x="920" y="1815"/>
                    </a:lnTo>
                    <a:lnTo>
                      <a:pt x="926" y="1826"/>
                    </a:lnTo>
                    <a:lnTo>
                      <a:pt x="931" y="1836"/>
                    </a:lnTo>
                    <a:lnTo>
                      <a:pt x="933" y="1846"/>
                    </a:lnTo>
                    <a:lnTo>
                      <a:pt x="934" y="1852"/>
                    </a:lnTo>
                    <a:lnTo>
                      <a:pt x="933" y="1856"/>
                    </a:lnTo>
                    <a:lnTo>
                      <a:pt x="932" y="1860"/>
                    </a:lnTo>
                    <a:lnTo>
                      <a:pt x="930" y="1862"/>
                    </a:lnTo>
                    <a:lnTo>
                      <a:pt x="926" y="1866"/>
                    </a:lnTo>
                    <a:lnTo>
                      <a:pt x="922" y="1867"/>
                    </a:lnTo>
                    <a:lnTo>
                      <a:pt x="922" y="1867"/>
                    </a:lnTo>
                    <a:close/>
                    <a:moveTo>
                      <a:pt x="943" y="1844"/>
                    </a:moveTo>
                    <a:lnTo>
                      <a:pt x="943" y="1844"/>
                    </a:lnTo>
                    <a:lnTo>
                      <a:pt x="941" y="1837"/>
                    </a:lnTo>
                    <a:lnTo>
                      <a:pt x="939" y="1831"/>
                    </a:lnTo>
                    <a:lnTo>
                      <a:pt x="933" y="1818"/>
                    </a:lnTo>
                    <a:lnTo>
                      <a:pt x="926" y="1804"/>
                    </a:lnTo>
                    <a:lnTo>
                      <a:pt x="925" y="1799"/>
                    </a:lnTo>
                    <a:lnTo>
                      <a:pt x="924" y="1792"/>
                    </a:lnTo>
                    <a:lnTo>
                      <a:pt x="924" y="1792"/>
                    </a:lnTo>
                    <a:lnTo>
                      <a:pt x="924" y="1789"/>
                    </a:lnTo>
                    <a:lnTo>
                      <a:pt x="925" y="1786"/>
                    </a:lnTo>
                    <a:lnTo>
                      <a:pt x="926" y="1783"/>
                    </a:lnTo>
                    <a:lnTo>
                      <a:pt x="927" y="1780"/>
                    </a:lnTo>
                    <a:lnTo>
                      <a:pt x="927" y="1780"/>
                    </a:lnTo>
                    <a:lnTo>
                      <a:pt x="925" y="1774"/>
                    </a:lnTo>
                    <a:lnTo>
                      <a:pt x="923" y="1767"/>
                    </a:lnTo>
                    <a:lnTo>
                      <a:pt x="917" y="1755"/>
                    </a:lnTo>
                    <a:lnTo>
                      <a:pt x="911" y="1742"/>
                    </a:lnTo>
                    <a:lnTo>
                      <a:pt x="910" y="1736"/>
                    </a:lnTo>
                    <a:lnTo>
                      <a:pt x="910" y="1731"/>
                    </a:lnTo>
                    <a:lnTo>
                      <a:pt x="910" y="1731"/>
                    </a:lnTo>
                    <a:lnTo>
                      <a:pt x="911" y="1728"/>
                    </a:lnTo>
                    <a:lnTo>
                      <a:pt x="914" y="1725"/>
                    </a:lnTo>
                    <a:lnTo>
                      <a:pt x="922" y="1719"/>
                    </a:lnTo>
                    <a:lnTo>
                      <a:pt x="939" y="1707"/>
                    </a:lnTo>
                    <a:lnTo>
                      <a:pt x="939" y="1707"/>
                    </a:lnTo>
                    <a:lnTo>
                      <a:pt x="957" y="1692"/>
                    </a:lnTo>
                    <a:lnTo>
                      <a:pt x="966" y="1688"/>
                    </a:lnTo>
                    <a:lnTo>
                      <a:pt x="969" y="1685"/>
                    </a:lnTo>
                    <a:lnTo>
                      <a:pt x="974" y="1684"/>
                    </a:lnTo>
                    <a:lnTo>
                      <a:pt x="974" y="1684"/>
                    </a:lnTo>
                    <a:lnTo>
                      <a:pt x="975" y="1703"/>
                    </a:lnTo>
                    <a:lnTo>
                      <a:pt x="978" y="1724"/>
                    </a:lnTo>
                    <a:lnTo>
                      <a:pt x="978" y="1724"/>
                    </a:lnTo>
                    <a:lnTo>
                      <a:pt x="982" y="1742"/>
                    </a:lnTo>
                    <a:lnTo>
                      <a:pt x="986" y="1760"/>
                    </a:lnTo>
                    <a:lnTo>
                      <a:pt x="990" y="1777"/>
                    </a:lnTo>
                    <a:lnTo>
                      <a:pt x="990" y="1785"/>
                    </a:lnTo>
                    <a:lnTo>
                      <a:pt x="990" y="1792"/>
                    </a:lnTo>
                    <a:lnTo>
                      <a:pt x="990" y="1792"/>
                    </a:lnTo>
                    <a:lnTo>
                      <a:pt x="989" y="1795"/>
                    </a:lnTo>
                    <a:lnTo>
                      <a:pt x="986" y="1799"/>
                    </a:lnTo>
                    <a:lnTo>
                      <a:pt x="981" y="1806"/>
                    </a:lnTo>
                    <a:lnTo>
                      <a:pt x="974" y="1812"/>
                    </a:lnTo>
                    <a:lnTo>
                      <a:pt x="967" y="1818"/>
                    </a:lnTo>
                    <a:lnTo>
                      <a:pt x="967" y="1818"/>
                    </a:lnTo>
                    <a:lnTo>
                      <a:pt x="956" y="1833"/>
                    </a:lnTo>
                    <a:lnTo>
                      <a:pt x="950" y="1839"/>
                    </a:lnTo>
                    <a:lnTo>
                      <a:pt x="943" y="1844"/>
                    </a:lnTo>
                    <a:lnTo>
                      <a:pt x="943" y="1844"/>
                    </a:lnTo>
                    <a:close/>
                    <a:moveTo>
                      <a:pt x="986" y="2078"/>
                    </a:moveTo>
                    <a:lnTo>
                      <a:pt x="986" y="2078"/>
                    </a:lnTo>
                    <a:lnTo>
                      <a:pt x="983" y="2063"/>
                    </a:lnTo>
                    <a:lnTo>
                      <a:pt x="978" y="2049"/>
                    </a:lnTo>
                    <a:lnTo>
                      <a:pt x="969" y="2018"/>
                    </a:lnTo>
                    <a:lnTo>
                      <a:pt x="965" y="2002"/>
                    </a:lnTo>
                    <a:lnTo>
                      <a:pt x="961" y="1987"/>
                    </a:lnTo>
                    <a:lnTo>
                      <a:pt x="959" y="1974"/>
                    </a:lnTo>
                    <a:lnTo>
                      <a:pt x="958" y="1961"/>
                    </a:lnTo>
                    <a:lnTo>
                      <a:pt x="958" y="1961"/>
                    </a:lnTo>
                    <a:lnTo>
                      <a:pt x="964" y="1969"/>
                    </a:lnTo>
                    <a:lnTo>
                      <a:pt x="970" y="1976"/>
                    </a:lnTo>
                    <a:lnTo>
                      <a:pt x="978" y="1983"/>
                    </a:lnTo>
                    <a:lnTo>
                      <a:pt x="987" y="1988"/>
                    </a:lnTo>
                    <a:lnTo>
                      <a:pt x="987" y="1988"/>
                    </a:lnTo>
                    <a:lnTo>
                      <a:pt x="993" y="2001"/>
                    </a:lnTo>
                    <a:lnTo>
                      <a:pt x="995" y="2013"/>
                    </a:lnTo>
                    <a:lnTo>
                      <a:pt x="997" y="2025"/>
                    </a:lnTo>
                    <a:lnTo>
                      <a:pt x="995" y="2036"/>
                    </a:lnTo>
                    <a:lnTo>
                      <a:pt x="994" y="2047"/>
                    </a:lnTo>
                    <a:lnTo>
                      <a:pt x="992" y="2058"/>
                    </a:lnTo>
                    <a:lnTo>
                      <a:pt x="986" y="2078"/>
                    </a:lnTo>
                    <a:lnTo>
                      <a:pt x="986" y="2078"/>
                    </a:lnTo>
                    <a:close/>
                    <a:moveTo>
                      <a:pt x="1001" y="1982"/>
                    </a:moveTo>
                    <a:lnTo>
                      <a:pt x="1001" y="1982"/>
                    </a:lnTo>
                    <a:lnTo>
                      <a:pt x="993" y="1968"/>
                    </a:lnTo>
                    <a:lnTo>
                      <a:pt x="986" y="1953"/>
                    </a:lnTo>
                    <a:lnTo>
                      <a:pt x="974" y="1924"/>
                    </a:lnTo>
                    <a:lnTo>
                      <a:pt x="962" y="1893"/>
                    </a:lnTo>
                    <a:lnTo>
                      <a:pt x="950" y="1864"/>
                    </a:lnTo>
                    <a:lnTo>
                      <a:pt x="950" y="1864"/>
                    </a:lnTo>
                    <a:lnTo>
                      <a:pt x="960" y="1849"/>
                    </a:lnTo>
                    <a:lnTo>
                      <a:pt x="969" y="1834"/>
                    </a:lnTo>
                    <a:lnTo>
                      <a:pt x="981" y="1820"/>
                    </a:lnTo>
                    <a:lnTo>
                      <a:pt x="986" y="1815"/>
                    </a:lnTo>
                    <a:lnTo>
                      <a:pt x="993" y="1808"/>
                    </a:lnTo>
                    <a:lnTo>
                      <a:pt x="993" y="1808"/>
                    </a:lnTo>
                    <a:lnTo>
                      <a:pt x="994" y="1831"/>
                    </a:lnTo>
                    <a:lnTo>
                      <a:pt x="998" y="1853"/>
                    </a:lnTo>
                    <a:lnTo>
                      <a:pt x="1006" y="1901"/>
                    </a:lnTo>
                    <a:lnTo>
                      <a:pt x="1008" y="1924"/>
                    </a:lnTo>
                    <a:lnTo>
                      <a:pt x="1009" y="1945"/>
                    </a:lnTo>
                    <a:lnTo>
                      <a:pt x="1008" y="1955"/>
                    </a:lnTo>
                    <a:lnTo>
                      <a:pt x="1007" y="1965"/>
                    </a:lnTo>
                    <a:lnTo>
                      <a:pt x="1005" y="1974"/>
                    </a:lnTo>
                    <a:lnTo>
                      <a:pt x="1001" y="1982"/>
                    </a:lnTo>
                    <a:lnTo>
                      <a:pt x="1001" y="1982"/>
                    </a:lnTo>
                    <a:close/>
                    <a:moveTo>
                      <a:pt x="1018" y="1898"/>
                    </a:moveTo>
                    <a:lnTo>
                      <a:pt x="1018" y="1898"/>
                    </a:lnTo>
                    <a:lnTo>
                      <a:pt x="1014" y="1866"/>
                    </a:lnTo>
                    <a:lnTo>
                      <a:pt x="1009" y="1834"/>
                    </a:lnTo>
                    <a:lnTo>
                      <a:pt x="1009" y="1834"/>
                    </a:lnTo>
                    <a:lnTo>
                      <a:pt x="1016" y="1819"/>
                    </a:lnTo>
                    <a:lnTo>
                      <a:pt x="1020" y="1802"/>
                    </a:lnTo>
                    <a:lnTo>
                      <a:pt x="1029" y="1769"/>
                    </a:lnTo>
                    <a:lnTo>
                      <a:pt x="1036" y="1753"/>
                    </a:lnTo>
                    <a:lnTo>
                      <a:pt x="1040" y="1747"/>
                    </a:lnTo>
                    <a:lnTo>
                      <a:pt x="1043" y="1740"/>
                    </a:lnTo>
                    <a:lnTo>
                      <a:pt x="1048" y="1733"/>
                    </a:lnTo>
                    <a:lnTo>
                      <a:pt x="1053" y="1727"/>
                    </a:lnTo>
                    <a:lnTo>
                      <a:pt x="1060" y="1722"/>
                    </a:lnTo>
                    <a:lnTo>
                      <a:pt x="1067" y="1717"/>
                    </a:lnTo>
                    <a:lnTo>
                      <a:pt x="1067" y="1717"/>
                    </a:lnTo>
                    <a:lnTo>
                      <a:pt x="1045" y="1809"/>
                    </a:lnTo>
                    <a:lnTo>
                      <a:pt x="1033" y="1854"/>
                    </a:lnTo>
                    <a:lnTo>
                      <a:pt x="1026" y="1876"/>
                    </a:lnTo>
                    <a:lnTo>
                      <a:pt x="1018" y="1898"/>
                    </a:lnTo>
                    <a:lnTo>
                      <a:pt x="1018" y="1898"/>
                    </a:lnTo>
                    <a:close/>
                    <a:moveTo>
                      <a:pt x="1083" y="1681"/>
                    </a:moveTo>
                    <a:lnTo>
                      <a:pt x="1083" y="1681"/>
                    </a:lnTo>
                    <a:lnTo>
                      <a:pt x="1075" y="1697"/>
                    </a:lnTo>
                    <a:lnTo>
                      <a:pt x="1066" y="1711"/>
                    </a:lnTo>
                    <a:lnTo>
                      <a:pt x="1061" y="1718"/>
                    </a:lnTo>
                    <a:lnTo>
                      <a:pt x="1056" y="1724"/>
                    </a:lnTo>
                    <a:lnTo>
                      <a:pt x="1049" y="1730"/>
                    </a:lnTo>
                    <a:lnTo>
                      <a:pt x="1042" y="1735"/>
                    </a:lnTo>
                    <a:lnTo>
                      <a:pt x="1042" y="1735"/>
                    </a:lnTo>
                    <a:lnTo>
                      <a:pt x="1051" y="1707"/>
                    </a:lnTo>
                    <a:lnTo>
                      <a:pt x="1060" y="1680"/>
                    </a:lnTo>
                    <a:lnTo>
                      <a:pt x="1070" y="1654"/>
                    </a:lnTo>
                    <a:lnTo>
                      <a:pt x="1083" y="1627"/>
                    </a:lnTo>
                    <a:lnTo>
                      <a:pt x="1083" y="1627"/>
                    </a:lnTo>
                    <a:lnTo>
                      <a:pt x="1087" y="1636"/>
                    </a:lnTo>
                    <a:lnTo>
                      <a:pt x="1090" y="1643"/>
                    </a:lnTo>
                    <a:lnTo>
                      <a:pt x="1091" y="1650"/>
                    </a:lnTo>
                    <a:lnTo>
                      <a:pt x="1091" y="1657"/>
                    </a:lnTo>
                    <a:lnTo>
                      <a:pt x="1090" y="1663"/>
                    </a:lnTo>
                    <a:lnTo>
                      <a:pt x="1087" y="1668"/>
                    </a:lnTo>
                    <a:lnTo>
                      <a:pt x="1083" y="1681"/>
                    </a:lnTo>
                    <a:lnTo>
                      <a:pt x="1083" y="1681"/>
                    </a:lnTo>
                    <a:close/>
                    <a:moveTo>
                      <a:pt x="1218" y="1604"/>
                    </a:moveTo>
                    <a:lnTo>
                      <a:pt x="1218" y="1604"/>
                    </a:lnTo>
                    <a:lnTo>
                      <a:pt x="1225" y="1640"/>
                    </a:lnTo>
                    <a:lnTo>
                      <a:pt x="1233" y="1676"/>
                    </a:lnTo>
                    <a:lnTo>
                      <a:pt x="1250" y="1750"/>
                    </a:lnTo>
                    <a:lnTo>
                      <a:pt x="1258" y="1786"/>
                    </a:lnTo>
                    <a:lnTo>
                      <a:pt x="1264" y="1823"/>
                    </a:lnTo>
                    <a:lnTo>
                      <a:pt x="1270" y="1858"/>
                    </a:lnTo>
                    <a:lnTo>
                      <a:pt x="1274" y="1892"/>
                    </a:lnTo>
                    <a:lnTo>
                      <a:pt x="1274" y="1892"/>
                    </a:lnTo>
                    <a:lnTo>
                      <a:pt x="1260" y="1858"/>
                    </a:lnTo>
                    <a:lnTo>
                      <a:pt x="1247" y="1823"/>
                    </a:lnTo>
                    <a:lnTo>
                      <a:pt x="1221" y="1753"/>
                    </a:lnTo>
                    <a:lnTo>
                      <a:pt x="1221" y="1753"/>
                    </a:lnTo>
                    <a:lnTo>
                      <a:pt x="1212" y="1728"/>
                    </a:lnTo>
                    <a:lnTo>
                      <a:pt x="1208" y="1717"/>
                    </a:lnTo>
                    <a:lnTo>
                      <a:pt x="1205" y="1706"/>
                    </a:lnTo>
                    <a:lnTo>
                      <a:pt x="1205" y="1706"/>
                    </a:lnTo>
                    <a:lnTo>
                      <a:pt x="1204" y="1691"/>
                    </a:lnTo>
                    <a:lnTo>
                      <a:pt x="1205" y="1678"/>
                    </a:lnTo>
                    <a:lnTo>
                      <a:pt x="1207" y="1665"/>
                    </a:lnTo>
                    <a:lnTo>
                      <a:pt x="1210" y="1652"/>
                    </a:lnTo>
                    <a:lnTo>
                      <a:pt x="1216" y="1629"/>
                    </a:lnTo>
                    <a:lnTo>
                      <a:pt x="1217" y="1616"/>
                    </a:lnTo>
                    <a:lnTo>
                      <a:pt x="1218" y="1604"/>
                    </a:lnTo>
                    <a:lnTo>
                      <a:pt x="1218" y="1604"/>
                    </a:lnTo>
                    <a:close/>
                    <a:moveTo>
                      <a:pt x="1225" y="2122"/>
                    </a:moveTo>
                    <a:lnTo>
                      <a:pt x="1225" y="2122"/>
                    </a:lnTo>
                    <a:lnTo>
                      <a:pt x="1220" y="2111"/>
                    </a:lnTo>
                    <a:lnTo>
                      <a:pt x="1213" y="2100"/>
                    </a:lnTo>
                    <a:lnTo>
                      <a:pt x="1200" y="2078"/>
                    </a:lnTo>
                    <a:lnTo>
                      <a:pt x="1186" y="2055"/>
                    </a:lnTo>
                    <a:lnTo>
                      <a:pt x="1180" y="2044"/>
                    </a:lnTo>
                    <a:lnTo>
                      <a:pt x="1177" y="2034"/>
                    </a:lnTo>
                    <a:lnTo>
                      <a:pt x="1177" y="2034"/>
                    </a:lnTo>
                    <a:lnTo>
                      <a:pt x="1176" y="2026"/>
                    </a:lnTo>
                    <a:lnTo>
                      <a:pt x="1175" y="2018"/>
                    </a:lnTo>
                    <a:lnTo>
                      <a:pt x="1175" y="2000"/>
                    </a:lnTo>
                    <a:lnTo>
                      <a:pt x="1176" y="1980"/>
                    </a:lnTo>
                    <a:lnTo>
                      <a:pt x="1179" y="1962"/>
                    </a:lnTo>
                    <a:lnTo>
                      <a:pt x="1186" y="1926"/>
                    </a:lnTo>
                    <a:lnTo>
                      <a:pt x="1188" y="1910"/>
                    </a:lnTo>
                    <a:lnTo>
                      <a:pt x="1190" y="1896"/>
                    </a:lnTo>
                    <a:lnTo>
                      <a:pt x="1190" y="1896"/>
                    </a:lnTo>
                    <a:lnTo>
                      <a:pt x="1194" y="1911"/>
                    </a:lnTo>
                    <a:lnTo>
                      <a:pt x="1199" y="1927"/>
                    </a:lnTo>
                    <a:lnTo>
                      <a:pt x="1209" y="1959"/>
                    </a:lnTo>
                    <a:lnTo>
                      <a:pt x="1221" y="1991"/>
                    </a:lnTo>
                    <a:lnTo>
                      <a:pt x="1232" y="2022"/>
                    </a:lnTo>
                    <a:lnTo>
                      <a:pt x="1236" y="2037"/>
                    </a:lnTo>
                    <a:lnTo>
                      <a:pt x="1239" y="2052"/>
                    </a:lnTo>
                    <a:lnTo>
                      <a:pt x="1242" y="2067"/>
                    </a:lnTo>
                    <a:lnTo>
                      <a:pt x="1242" y="2079"/>
                    </a:lnTo>
                    <a:lnTo>
                      <a:pt x="1241" y="2092"/>
                    </a:lnTo>
                    <a:lnTo>
                      <a:pt x="1237" y="2103"/>
                    </a:lnTo>
                    <a:lnTo>
                      <a:pt x="1233" y="2113"/>
                    </a:lnTo>
                    <a:lnTo>
                      <a:pt x="1229" y="2118"/>
                    </a:lnTo>
                    <a:lnTo>
                      <a:pt x="1225" y="2122"/>
                    </a:lnTo>
                    <a:lnTo>
                      <a:pt x="1225" y="2122"/>
                    </a:lnTo>
                    <a:close/>
                    <a:moveTo>
                      <a:pt x="1259" y="2003"/>
                    </a:moveTo>
                    <a:lnTo>
                      <a:pt x="1259" y="2003"/>
                    </a:lnTo>
                    <a:lnTo>
                      <a:pt x="1251" y="1985"/>
                    </a:lnTo>
                    <a:lnTo>
                      <a:pt x="1243" y="1966"/>
                    </a:lnTo>
                    <a:lnTo>
                      <a:pt x="1226" y="1927"/>
                    </a:lnTo>
                    <a:lnTo>
                      <a:pt x="1209" y="1887"/>
                    </a:lnTo>
                    <a:lnTo>
                      <a:pt x="1201" y="1869"/>
                    </a:lnTo>
                    <a:lnTo>
                      <a:pt x="1194" y="1850"/>
                    </a:lnTo>
                    <a:lnTo>
                      <a:pt x="1194" y="1850"/>
                    </a:lnTo>
                    <a:lnTo>
                      <a:pt x="1192" y="1841"/>
                    </a:lnTo>
                    <a:lnTo>
                      <a:pt x="1191" y="1833"/>
                    </a:lnTo>
                    <a:lnTo>
                      <a:pt x="1191" y="1833"/>
                    </a:lnTo>
                    <a:lnTo>
                      <a:pt x="1190" y="1818"/>
                    </a:lnTo>
                    <a:lnTo>
                      <a:pt x="1191" y="1806"/>
                    </a:lnTo>
                    <a:lnTo>
                      <a:pt x="1193" y="1792"/>
                    </a:lnTo>
                    <a:lnTo>
                      <a:pt x="1195" y="1780"/>
                    </a:lnTo>
                    <a:lnTo>
                      <a:pt x="1201" y="1756"/>
                    </a:lnTo>
                    <a:lnTo>
                      <a:pt x="1203" y="1743"/>
                    </a:lnTo>
                    <a:lnTo>
                      <a:pt x="1204" y="1731"/>
                    </a:lnTo>
                    <a:lnTo>
                      <a:pt x="1204" y="1731"/>
                    </a:lnTo>
                    <a:lnTo>
                      <a:pt x="1221" y="1785"/>
                    </a:lnTo>
                    <a:lnTo>
                      <a:pt x="1238" y="1841"/>
                    </a:lnTo>
                    <a:lnTo>
                      <a:pt x="1255" y="1895"/>
                    </a:lnTo>
                    <a:lnTo>
                      <a:pt x="1272" y="1949"/>
                    </a:lnTo>
                    <a:lnTo>
                      <a:pt x="1272" y="1949"/>
                    </a:lnTo>
                    <a:lnTo>
                      <a:pt x="1269" y="1949"/>
                    </a:lnTo>
                    <a:lnTo>
                      <a:pt x="1267" y="1949"/>
                    </a:lnTo>
                    <a:lnTo>
                      <a:pt x="1263" y="1945"/>
                    </a:lnTo>
                    <a:lnTo>
                      <a:pt x="1261" y="1943"/>
                    </a:lnTo>
                    <a:lnTo>
                      <a:pt x="1261" y="1943"/>
                    </a:lnTo>
                    <a:lnTo>
                      <a:pt x="1260" y="1943"/>
                    </a:lnTo>
                    <a:lnTo>
                      <a:pt x="1260" y="1943"/>
                    </a:lnTo>
                    <a:lnTo>
                      <a:pt x="1269" y="1952"/>
                    </a:lnTo>
                    <a:lnTo>
                      <a:pt x="1275" y="1961"/>
                    </a:lnTo>
                    <a:lnTo>
                      <a:pt x="1278" y="1971"/>
                    </a:lnTo>
                    <a:lnTo>
                      <a:pt x="1278" y="1980"/>
                    </a:lnTo>
                    <a:lnTo>
                      <a:pt x="1276" y="1988"/>
                    </a:lnTo>
                    <a:lnTo>
                      <a:pt x="1272" y="1995"/>
                    </a:lnTo>
                    <a:lnTo>
                      <a:pt x="1266" y="2000"/>
                    </a:lnTo>
                    <a:lnTo>
                      <a:pt x="1259" y="2003"/>
                    </a:lnTo>
                    <a:lnTo>
                      <a:pt x="1259" y="2003"/>
                    </a:lnTo>
                    <a:close/>
                    <a:moveTo>
                      <a:pt x="1275" y="2042"/>
                    </a:moveTo>
                    <a:lnTo>
                      <a:pt x="1275" y="2042"/>
                    </a:lnTo>
                    <a:lnTo>
                      <a:pt x="1270" y="2033"/>
                    </a:lnTo>
                    <a:lnTo>
                      <a:pt x="1268" y="2025"/>
                    </a:lnTo>
                    <a:lnTo>
                      <a:pt x="1267" y="2018"/>
                    </a:lnTo>
                    <a:lnTo>
                      <a:pt x="1267" y="2011"/>
                    </a:lnTo>
                    <a:lnTo>
                      <a:pt x="1269" y="2004"/>
                    </a:lnTo>
                    <a:lnTo>
                      <a:pt x="1272" y="2000"/>
                    </a:lnTo>
                    <a:lnTo>
                      <a:pt x="1277" y="1995"/>
                    </a:lnTo>
                    <a:lnTo>
                      <a:pt x="1284" y="1993"/>
                    </a:lnTo>
                    <a:lnTo>
                      <a:pt x="1284" y="1993"/>
                    </a:lnTo>
                    <a:lnTo>
                      <a:pt x="1288" y="2010"/>
                    </a:lnTo>
                    <a:lnTo>
                      <a:pt x="1289" y="2018"/>
                    </a:lnTo>
                    <a:lnTo>
                      <a:pt x="1289" y="2025"/>
                    </a:lnTo>
                    <a:lnTo>
                      <a:pt x="1288" y="2030"/>
                    </a:lnTo>
                    <a:lnTo>
                      <a:pt x="1285" y="2036"/>
                    </a:lnTo>
                    <a:lnTo>
                      <a:pt x="1280" y="2039"/>
                    </a:lnTo>
                    <a:lnTo>
                      <a:pt x="1275" y="2042"/>
                    </a:lnTo>
                    <a:lnTo>
                      <a:pt x="1275" y="2042"/>
                    </a:lnTo>
                    <a:close/>
                    <a:moveTo>
                      <a:pt x="1275" y="1772"/>
                    </a:moveTo>
                    <a:lnTo>
                      <a:pt x="1275" y="1772"/>
                    </a:lnTo>
                    <a:lnTo>
                      <a:pt x="1278" y="1773"/>
                    </a:lnTo>
                    <a:lnTo>
                      <a:pt x="1278" y="1773"/>
                    </a:lnTo>
                    <a:lnTo>
                      <a:pt x="1344" y="1820"/>
                    </a:lnTo>
                    <a:lnTo>
                      <a:pt x="1376" y="1844"/>
                    </a:lnTo>
                    <a:lnTo>
                      <a:pt x="1390" y="1858"/>
                    </a:lnTo>
                    <a:lnTo>
                      <a:pt x="1405" y="1870"/>
                    </a:lnTo>
                    <a:lnTo>
                      <a:pt x="1405" y="1870"/>
                    </a:lnTo>
                    <a:lnTo>
                      <a:pt x="1394" y="1883"/>
                    </a:lnTo>
                    <a:lnTo>
                      <a:pt x="1384" y="1895"/>
                    </a:lnTo>
                    <a:lnTo>
                      <a:pt x="1363" y="1923"/>
                    </a:lnTo>
                    <a:lnTo>
                      <a:pt x="1344" y="1950"/>
                    </a:lnTo>
                    <a:lnTo>
                      <a:pt x="1333" y="1963"/>
                    </a:lnTo>
                    <a:lnTo>
                      <a:pt x="1320" y="1975"/>
                    </a:lnTo>
                    <a:lnTo>
                      <a:pt x="1320" y="1975"/>
                    </a:lnTo>
                    <a:lnTo>
                      <a:pt x="1308" y="1923"/>
                    </a:lnTo>
                    <a:lnTo>
                      <a:pt x="1296" y="1869"/>
                    </a:lnTo>
                    <a:lnTo>
                      <a:pt x="1285" y="1818"/>
                    </a:lnTo>
                    <a:lnTo>
                      <a:pt x="1275" y="1772"/>
                    </a:lnTo>
                    <a:lnTo>
                      <a:pt x="1275" y="1772"/>
                    </a:lnTo>
                    <a:close/>
                    <a:moveTo>
                      <a:pt x="1439" y="1926"/>
                    </a:moveTo>
                    <a:lnTo>
                      <a:pt x="1439" y="1926"/>
                    </a:lnTo>
                    <a:lnTo>
                      <a:pt x="1437" y="1971"/>
                    </a:lnTo>
                    <a:lnTo>
                      <a:pt x="1434" y="2018"/>
                    </a:lnTo>
                    <a:lnTo>
                      <a:pt x="1429" y="2062"/>
                    </a:lnTo>
                    <a:lnTo>
                      <a:pt x="1426" y="2105"/>
                    </a:lnTo>
                    <a:lnTo>
                      <a:pt x="1426" y="2105"/>
                    </a:lnTo>
                    <a:lnTo>
                      <a:pt x="1401" y="2081"/>
                    </a:lnTo>
                    <a:lnTo>
                      <a:pt x="1376" y="2057"/>
                    </a:lnTo>
                    <a:lnTo>
                      <a:pt x="1363" y="2043"/>
                    </a:lnTo>
                    <a:lnTo>
                      <a:pt x="1352" y="2030"/>
                    </a:lnTo>
                    <a:lnTo>
                      <a:pt x="1342" y="2017"/>
                    </a:lnTo>
                    <a:lnTo>
                      <a:pt x="1333" y="2002"/>
                    </a:lnTo>
                    <a:lnTo>
                      <a:pt x="1333" y="2002"/>
                    </a:lnTo>
                    <a:lnTo>
                      <a:pt x="1352" y="1969"/>
                    </a:lnTo>
                    <a:lnTo>
                      <a:pt x="1371" y="1937"/>
                    </a:lnTo>
                    <a:lnTo>
                      <a:pt x="1381" y="1921"/>
                    </a:lnTo>
                    <a:lnTo>
                      <a:pt x="1392" y="1906"/>
                    </a:lnTo>
                    <a:lnTo>
                      <a:pt x="1403" y="1891"/>
                    </a:lnTo>
                    <a:lnTo>
                      <a:pt x="1417" y="1877"/>
                    </a:lnTo>
                    <a:lnTo>
                      <a:pt x="1417" y="1877"/>
                    </a:lnTo>
                    <a:lnTo>
                      <a:pt x="1426" y="1883"/>
                    </a:lnTo>
                    <a:lnTo>
                      <a:pt x="1431" y="1888"/>
                    </a:lnTo>
                    <a:lnTo>
                      <a:pt x="1436" y="1894"/>
                    </a:lnTo>
                    <a:lnTo>
                      <a:pt x="1438" y="1900"/>
                    </a:lnTo>
                    <a:lnTo>
                      <a:pt x="1439" y="1906"/>
                    </a:lnTo>
                    <a:lnTo>
                      <a:pt x="1440" y="1911"/>
                    </a:lnTo>
                    <a:lnTo>
                      <a:pt x="1439" y="1926"/>
                    </a:lnTo>
                    <a:lnTo>
                      <a:pt x="1439" y="192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55"/>
              <p:cNvSpPr/>
              <p:nvPr/>
            </p:nvSpPr>
            <p:spPr>
              <a:xfrm>
                <a:off x="9014040" y="6806160"/>
                <a:ext cx="13680" cy="51840"/>
              </a:xfrm>
              <a:custGeom>
                <a:avLst/>
                <a:gdLst/>
                <a:ahLst/>
                <a:rect l="l" t="t" r="r" b="b"/>
                <a:pathLst>
                  <a:path w="18" h="98">
                    <a:moveTo>
                      <a:pt x="18" y="0"/>
                    </a:moveTo>
                    <a:lnTo>
                      <a:pt x="18" y="0"/>
                    </a:lnTo>
                    <a:lnTo>
                      <a:pt x="14" y="12"/>
                    </a:lnTo>
                    <a:lnTo>
                      <a:pt x="10" y="23"/>
                    </a:lnTo>
                    <a:lnTo>
                      <a:pt x="5" y="47"/>
                    </a:lnTo>
                    <a:lnTo>
                      <a:pt x="1" y="72"/>
                    </a:lnTo>
                    <a:lnTo>
                      <a:pt x="0" y="98"/>
                    </a:lnTo>
                    <a:lnTo>
                      <a:pt x="9" y="98"/>
                    </a:lnTo>
                    <a:lnTo>
                      <a:pt x="9" y="98"/>
                    </a:lnTo>
                    <a:lnTo>
                      <a:pt x="9" y="72"/>
                    </a:lnTo>
                    <a:lnTo>
                      <a:pt x="10" y="47"/>
                    </a:lnTo>
                    <a:lnTo>
                      <a:pt x="14" y="23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56"/>
              <p:cNvSpPr/>
              <p:nvPr/>
            </p:nvSpPr>
            <p:spPr>
              <a:xfrm>
                <a:off x="8579520" y="684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0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59"/>
              <p:cNvSpPr/>
              <p:nvPr/>
            </p:nvSpPr>
            <p:spPr>
              <a:xfrm>
                <a:off x="7586640" y="6726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6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文本占位符 5" descr=""/>
          <p:cNvPicPr/>
          <p:nvPr/>
        </p:nvPicPr>
        <p:blipFill>
          <a:blip r:embed="rId1"/>
          <a:stretch/>
        </p:blipFill>
        <p:spPr>
          <a:xfrm>
            <a:off x="-106200" y="993600"/>
            <a:ext cx="82436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示 140" descr=""/>
          <p:cNvPicPr/>
          <p:nvPr/>
        </p:nvPicPr>
        <p:blipFill>
          <a:blip r:embed="rId1"/>
          <a:stretch/>
        </p:blipFill>
        <p:spPr>
          <a:xfrm>
            <a:off x="1749600" y="920880"/>
            <a:ext cx="61196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714240" y="785880"/>
            <a:ext cx="7696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or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Image –CD: Medicine Today (PhotoDis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文本框 1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在此输入您的文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矩形 8"/>
          <p:cNvSpPr/>
          <p:nvPr/>
        </p:nvSpPr>
        <p:spPr>
          <a:xfrm>
            <a:off x="687240" y="930240"/>
            <a:ext cx="7769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7"/>
          <p:cNvSpPr/>
          <p:nvPr/>
        </p:nvSpPr>
        <p:spPr>
          <a:xfrm>
            <a:off x="1463760" y="2612880"/>
            <a:ext cx="2520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2" descr=""/>
          <p:cNvPicPr/>
          <p:nvPr/>
        </p:nvPicPr>
        <p:blipFill>
          <a:blip r:embed="rId1"/>
          <a:srcRect l="0" t="50891" r="0" b="0"/>
          <a:stretch/>
        </p:blipFill>
        <p:spPr>
          <a:xfrm flipH="1">
            <a:off x="1463760" y="26128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2" name="矩形 5"/>
          <p:cNvSpPr/>
          <p:nvPr/>
        </p:nvSpPr>
        <p:spPr>
          <a:xfrm>
            <a:off x="1463760" y="20700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6" descr=""/>
          <p:cNvPicPr/>
          <p:nvPr/>
        </p:nvPicPr>
        <p:blipFill>
          <a:blip r:embed="rId2"/>
          <a:srcRect l="0" t="50891" r="0" b="0"/>
          <a:stretch/>
        </p:blipFill>
        <p:spPr>
          <a:xfrm rot="10800000">
            <a:off x="1463760" y="196200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4" name="矩形 16"/>
          <p:cNvSpPr/>
          <p:nvPr/>
        </p:nvSpPr>
        <p:spPr>
          <a:xfrm>
            <a:off x="5159520" y="3824280"/>
            <a:ext cx="2520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rem ipsum dolor sit amet, consectetur adipisicing elit.Lo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图片 17" descr=""/>
          <p:cNvPicPr/>
          <p:nvPr/>
        </p:nvPicPr>
        <p:blipFill>
          <a:blip r:embed="rId3"/>
          <a:srcRect l="0" t="50891" r="0" b="0"/>
          <a:stretch/>
        </p:blipFill>
        <p:spPr>
          <a:xfrm flipH="1">
            <a:off x="5159520" y="3824280"/>
            <a:ext cx="2520720" cy="108000"/>
          </a:xfrm>
          <a:prstGeom prst="rect">
            <a:avLst/>
          </a:prstGeom>
          <a:ln w="0">
            <a:noFill/>
          </a:ln>
        </p:spPr>
      </p:pic>
      <p:sp>
        <p:nvSpPr>
          <p:cNvPr id="756" name="矩形 18"/>
          <p:cNvSpPr/>
          <p:nvPr/>
        </p:nvSpPr>
        <p:spPr>
          <a:xfrm>
            <a:off x="5159520" y="3281400"/>
            <a:ext cx="2520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Arial"/>
                <a:ea typeface="宋体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图片 19" descr=""/>
          <p:cNvPicPr/>
          <p:nvPr/>
        </p:nvPicPr>
        <p:blipFill>
          <a:blip r:embed="rId4"/>
          <a:srcRect l="0" t="50891" r="0" b="0"/>
          <a:stretch/>
        </p:blipFill>
        <p:spPr>
          <a:xfrm rot="10800000">
            <a:off x="5159520" y="3173400"/>
            <a:ext cx="25207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标题 3" descr=""/>
          <p:cNvPicPr/>
          <p:nvPr/>
        </p:nvPicPr>
        <p:blipFill>
          <a:blip r:embed="rId1"/>
          <a:stretch/>
        </p:blipFill>
        <p:spPr>
          <a:xfrm>
            <a:off x="-453960" y="1676520"/>
            <a:ext cx="778176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05:12:21Z</dcterms:created>
  <dc:creator>iis</dc:creator>
  <dc:description/>
  <dc:language>en-US</dc:language>
  <cp:lastModifiedBy>Administrator</cp:lastModifiedBy>
  <dcterms:modified xsi:type="dcterms:W3CDTF">2016-03-24T09:40:27Z</dcterms:modified>
  <cp:revision>4</cp:revision>
  <dc:subject/>
  <dc:title>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