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565-B421-49AE-9DCA-F7D69ABB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5CD-1933-4256-A8BF-E19EAC87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F84-48DF-486C-A7EC-7D3CCA8B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D15-8154-4AD3-BDC8-269D13B7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F2D-8A61-4859-85AE-6A2C3A6C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286-5CCC-401F-819C-22C42CE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479-F933-457D-8E16-DC222635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613-128E-4129-85F8-3E009431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9C3-142E-44E2-B2F6-744A7B3C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E3E-5B7D-4F98-BC9F-98D8B39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F9C-D04A-48E8-9620-757CD70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905-C265-4E6E-8B06-8CF569F7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0B99-D413-4E27-A779-6BC89B5062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0CCD-881E-45B7-A59B-B59EE8078A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rcRect l="792" t="0" r="-789" b="15351"/>
          <a:stretch/>
        </p:blipFill>
        <p:spPr>
          <a:xfrm>
            <a:off x="-12600" y="-27000"/>
            <a:ext cx="1241892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49280" y="4984920"/>
            <a:ext cx="504720" cy="720720"/>
            <a:chOff x="449280" y="4984920"/>
            <a:chExt cx="504720" cy="720720"/>
          </a:xfrm>
        </p:grpSpPr>
        <p:sp>
          <p:nvSpPr>
            <p:cNvPr id="45" name="直接连接符 7"/>
            <p:cNvSpPr/>
            <p:nvPr/>
          </p:nvSpPr>
          <p:spPr>
            <a:xfrm flipH="1">
              <a:off x="449280" y="498492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629640" y="527328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8"/>
          <p:cNvGrpSpPr/>
          <p:nvPr/>
        </p:nvGrpSpPr>
        <p:grpSpPr>
          <a:xfrm>
            <a:off x="10554840" y="938160"/>
            <a:ext cx="505080" cy="719280"/>
            <a:chOff x="10554840" y="938160"/>
            <a:chExt cx="505080" cy="719280"/>
          </a:xfrm>
        </p:grpSpPr>
        <p:sp>
          <p:nvSpPr>
            <p:cNvPr id="48" name="直接连接符 19"/>
            <p:cNvSpPr/>
            <p:nvPr/>
          </p:nvSpPr>
          <p:spPr>
            <a:xfrm flipH="1">
              <a:off x="10554840" y="938160"/>
              <a:ext cx="50508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0"/>
            <p:cNvSpPr/>
            <p:nvPr/>
          </p:nvSpPr>
          <p:spPr>
            <a:xfrm>
              <a:off x="10735560" y="1225800"/>
              <a:ext cx="14436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1"/>
          <p:cNvGrpSpPr/>
          <p:nvPr/>
        </p:nvGrpSpPr>
        <p:grpSpPr>
          <a:xfrm>
            <a:off x="10879200" y="-27000"/>
            <a:ext cx="504720" cy="720720"/>
            <a:chOff x="10879200" y="-27000"/>
            <a:chExt cx="504720" cy="720720"/>
          </a:xfrm>
        </p:grpSpPr>
        <p:sp>
          <p:nvSpPr>
            <p:cNvPr id="51" name="直接连接符 22"/>
            <p:cNvSpPr/>
            <p:nvPr/>
          </p:nvSpPr>
          <p:spPr>
            <a:xfrm flipH="1">
              <a:off x="10879200" y="-270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3"/>
            <p:cNvSpPr/>
            <p:nvPr/>
          </p:nvSpPr>
          <p:spPr>
            <a:xfrm>
              <a:off x="11059560" y="2613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55"/>
          <p:cNvGrpSpPr/>
          <p:nvPr/>
        </p:nvGrpSpPr>
        <p:grpSpPr>
          <a:xfrm>
            <a:off x="9723240" y="1293840"/>
            <a:ext cx="502920" cy="720720"/>
            <a:chOff x="9723240" y="1293840"/>
            <a:chExt cx="502920" cy="720720"/>
          </a:xfrm>
        </p:grpSpPr>
        <p:sp>
          <p:nvSpPr>
            <p:cNvPr id="54" name="直接连接符 56"/>
            <p:cNvSpPr/>
            <p:nvPr/>
          </p:nvSpPr>
          <p:spPr>
            <a:xfrm flipH="1">
              <a:off x="9723240" y="1293840"/>
              <a:ext cx="5029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57"/>
            <p:cNvSpPr/>
            <p:nvPr/>
          </p:nvSpPr>
          <p:spPr>
            <a:xfrm>
              <a:off x="9903240" y="1582200"/>
              <a:ext cx="14364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58"/>
          <p:cNvGrpSpPr/>
          <p:nvPr/>
        </p:nvGrpSpPr>
        <p:grpSpPr>
          <a:xfrm>
            <a:off x="1387440" y="4500720"/>
            <a:ext cx="504720" cy="718920"/>
            <a:chOff x="1387440" y="4500720"/>
            <a:chExt cx="504720" cy="718920"/>
          </a:xfrm>
        </p:grpSpPr>
        <p:sp>
          <p:nvSpPr>
            <p:cNvPr id="57" name="直接连接符 59"/>
            <p:cNvSpPr/>
            <p:nvPr/>
          </p:nvSpPr>
          <p:spPr>
            <a:xfrm flipH="1">
              <a:off x="1387440" y="4500720"/>
              <a:ext cx="504720" cy="7189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60"/>
            <p:cNvSpPr/>
            <p:nvPr/>
          </p:nvSpPr>
          <p:spPr>
            <a:xfrm>
              <a:off x="1567800" y="478836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1"/>
          <p:cNvGrpSpPr/>
          <p:nvPr/>
        </p:nvGrpSpPr>
        <p:grpSpPr>
          <a:xfrm>
            <a:off x="54000" y="6114960"/>
            <a:ext cx="504720" cy="719280"/>
            <a:chOff x="54000" y="6114960"/>
            <a:chExt cx="504720" cy="719280"/>
          </a:xfrm>
        </p:grpSpPr>
        <p:sp>
          <p:nvSpPr>
            <p:cNvPr id="60" name="直接连接符 62"/>
            <p:cNvSpPr/>
            <p:nvPr/>
          </p:nvSpPr>
          <p:spPr>
            <a:xfrm flipH="1">
              <a:off x="54000" y="6114960"/>
              <a:ext cx="50472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63"/>
            <p:cNvSpPr/>
            <p:nvPr/>
          </p:nvSpPr>
          <p:spPr>
            <a:xfrm>
              <a:off x="234360" y="640260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64"/>
          <p:cNvGrpSpPr/>
          <p:nvPr/>
        </p:nvGrpSpPr>
        <p:grpSpPr>
          <a:xfrm>
            <a:off x="4562640" y="3414600"/>
            <a:ext cx="504720" cy="720720"/>
            <a:chOff x="4562640" y="3414600"/>
            <a:chExt cx="504720" cy="720720"/>
          </a:xfrm>
        </p:grpSpPr>
        <p:sp>
          <p:nvSpPr>
            <p:cNvPr id="63" name="直接连接符 65"/>
            <p:cNvSpPr/>
            <p:nvPr/>
          </p:nvSpPr>
          <p:spPr>
            <a:xfrm flipH="1">
              <a:off x="4562640" y="34146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66"/>
            <p:cNvSpPr/>
            <p:nvPr/>
          </p:nvSpPr>
          <p:spPr>
            <a:xfrm>
              <a:off x="4743000" y="37029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74"/>
          <p:cNvSpPr/>
          <p:nvPr/>
        </p:nvSpPr>
        <p:spPr>
          <a:xfrm>
            <a:off x="2017800" y="2101680"/>
            <a:ext cx="8713800" cy="23274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67"/>
          <p:cNvSpPr/>
          <p:nvPr/>
        </p:nvSpPr>
        <p:spPr>
          <a:xfrm>
            <a:off x="11148840" y="5927760"/>
            <a:ext cx="1141560" cy="94932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68"/>
          <p:cNvSpPr/>
          <p:nvPr/>
        </p:nvSpPr>
        <p:spPr>
          <a:xfrm rot="10800000">
            <a:off x="3240" y="-360"/>
            <a:ext cx="1139760" cy="95076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6"/>
          <p:cNvSpPr/>
          <p:nvPr/>
        </p:nvSpPr>
        <p:spPr>
          <a:xfrm>
            <a:off x="2135160" y="2157480"/>
            <a:ext cx="8445600" cy="2214360"/>
          </a:xfrm>
          <a:prstGeom prst="rect">
            <a:avLst/>
          </a:prstGeom>
          <a:solidFill>
            <a:srgbClr val="50f1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"/>
          <p:cNvSpPr/>
          <p:nvPr/>
        </p:nvSpPr>
        <p:spPr>
          <a:xfrm>
            <a:off x="35164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2"/>
          <p:cNvSpPr/>
          <p:nvPr/>
        </p:nvSpPr>
        <p:spPr>
          <a:xfrm>
            <a:off x="73216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3"/>
          <p:cNvSpPr/>
          <p:nvPr/>
        </p:nvSpPr>
        <p:spPr>
          <a:xfrm>
            <a:off x="5249160" y="35337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4497120" y="247500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项目计划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5"/>
          <p:cNvSpPr/>
          <p:nvPr/>
        </p:nvSpPr>
        <p:spPr>
          <a:xfrm flipV="1">
            <a:off x="3392640" y="3068280"/>
            <a:ext cx="0" cy="1058760"/>
          </a:xfrm>
          <a:prstGeom prst="line">
            <a:avLst/>
          </a:prstGeom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3317760" y="3238560"/>
            <a:ext cx="135000" cy="141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451320" y="3595680"/>
            <a:ext cx="196920" cy="209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8"/>
          <p:cNvSpPr/>
          <p:nvPr/>
        </p:nvSpPr>
        <p:spPr>
          <a:xfrm flipH="1">
            <a:off x="2687040" y="2657520"/>
            <a:ext cx="765000" cy="839880"/>
          </a:xfrm>
          <a:custGeom>
            <a:avLst/>
            <a:gdLst>
              <a:gd name="textAreaLeft" fmla="*/ -360 w 765000"/>
              <a:gd name="textAreaRight" fmla="*/ 765000 w 765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422440" y="2806560"/>
            <a:ext cx="266760" cy="27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 flipH="1">
            <a:off x="2070000" y="3699000"/>
            <a:ext cx="1292400" cy="563400"/>
          </a:xfrm>
          <a:custGeom>
            <a:avLst/>
            <a:gdLst>
              <a:gd name="textAreaLeft" fmla="*/ 360 w 1292400"/>
              <a:gd name="textAreaRight" fmla="*/ 1293120 w 129240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2357280" y="3409920"/>
            <a:ext cx="309600" cy="287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 flipV="1">
            <a:off x="2357280" y="3698640"/>
            <a:ext cx="309600" cy="290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 flipH="1">
            <a:off x="1511280" y="4083120"/>
            <a:ext cx="45576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 flipH="1">
            <a:off x="1720440" y="4379760"/>
            <a:ext cx="282600" cy="30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 flipH="1">
            <a:off x="3560040" y="3416400"/>
            <a:ext cx="623880" cy="842760"/>
          </a:xfrm>
          <a:custGeom>
            <a:avLst/>
            <a:gdLst>
              <a:gd name="textAreaLeft" fmla="*/ -360 w 623880"/>
              <a:gd name="textAreaRight" fmla="*/ 623880 w 6238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V="1">
            <a:off x="4178160" y="2451240"/>
            <a:ext cx="11160" cy="466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 flipV="1">
            <a:off x="3827160" y="2811240"/>
            <a:ext cx="199800" cy="19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V="1">
            <a:off x="4362480" y="2811600"/>
            <a:ext cx="193680" cy="18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 flipH="1">
            <a:off x="3651120" y="3859200"/>
            <a:ext cx="849600" cy="398520"/>
          </a:xfrm>
          <a:custGeom>
            <a:avLst/>
            <a:gdLst>
              <a:gd name="textAreaLeft" fmla="*/ 360 w 849600"/>
              <a:gd name="textAreaRight" fmla="*/ 850320 w 8496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5022720" y="3865320"/>
            <a:ext cx="56196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 flipV="1">
            <a:off x="4778280" y="3300480"/>
            <a:ext cx="336600" cy="342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2"/>
          <p:cNvSpPr/>
          <p:nvPr/>
        </p:nvSpPr>
        <p:spPr>
          <a:xfrm>
            <a:off x="4781520" y="4102200"/>
            <a:ext cx="3142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3"/>
          <p:cNvSpPr/>
          <p:nvPr/>
        </p:nvSpPr>
        <p:spPr>
          <a:xfrm flipV="1">
            <a:off x="5407200" y="2746080"/>
            <a:ext cx="299880" cy="307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556160" y="2363760"/>
            <a:ext cx="466560" cy="380880"/>
          </a:xfrm>
          <a:custGeom>
            <a:avLst/>
            <a:gdLst>
              <a:gd name="textAreaLeft" fmla="*/ 0 w 466560"/>
              <a:gd name="textAreaRight" fmla="*/ 466920 w 4665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"/>
          <p:cNvSpPr/>
          <p:nvPr/>
        </p:nvSpPr>
        <p:spPr>
          <a:xfrm>
            <a:off x="4921200" y="2413080"/>
            <a:ext cx="46080" cy="93600"/>
          </a:xfrm>
          <a:custGeom>
            <a:avLst/>
            <a:gdLst>
              <a:gd name="textAreaLeft" fmla="*/ 0 w 46080"/>
              <a:gd name="textAreaRight" fmla="*/ 46440 w 46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4764240" y="2519280"/>
            <a:ext cx="47520" cy="507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8"/>
          <p:cNvSpPr/>
          <p:nvPr/>
        </p:nvSpPr>
        <p:spPr>
          <a:xfrm>
            <a:off x="5556240" y="4010040"/>
            <a:ext cx="106200" cy="104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5616720" y="375300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5653080" y="378936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5875200" y="3718080"/>
            <a:ext cx="81000" cy="80640"/>
          </a:xfrm>
          <a:custGeom>
            <a:avLst/>
            <a:gdLst>
              <a:gd name="textAreaLeft" fmla="*/ 0 w 81000"/>
              <a:gd name="textAreaRight" fmla="*/ 81000 w 810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2"/>
          <p:cNvSpPr/>
          <p:nvPr/>
        </p:nvSpPr>
        <p:spPr>
          <a:xfrm>
            <a:off x="2502000" y="2349360"/>
            <a:ext cx="428400" cy="247680"/>
          </a:xfrm>
          <a:custGeom>
            <a:avLst/>
            <a:gdLst>
              <a:gd name="textAreaLeft" fmla="*/ 0 w 428400"/>
              <a:gd name="textAreaRight" fmla="*/ 428760 w 4284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3"/>
          <p:cNvSpPr/>
          <p:nvPr/>
        </p:nvSpPr>
        <p:spPr>
          <a:xfrm>
            <a:off x="2502000" y="2292480"/>
            <a:ext cx="428400" cy="177840"/>
          </a:xfrm>
          <a:custGeom>
            <a:avLst/>
            <a:gdLst>
              <a:gd name="textAreaLeft" fmla="*/ 0 w 428400"/>
              <a:gd name="textAreaRight" fmla="*/ 428760 w 4284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5114880" y="4308480"/>
            <a:ext cx="414360" cy="366840"/>
          </a:xfrm>
          <a:custGeom>
            <a:avLst/>
            <a:gdLst>
              <a:gd name="textAreaLeft" fmla="*/ 0 w 414360"/>
              <a:gd name="textAreaRight" fmla="*/ 414720 w 4143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45"/>
          <p:cNvSpPr/>
          <p:nvPr/>
        </p:nvSpPr>
        <p:spPr>
          <a:xfrm>
            <a:off x="5783400" y="2382840"/>
            <a:ext cx="331560" cy="428760"/>
          </a:xfrm>
          <a:custGeom>
            <a:avLst/>
            <a:gdLst>
              <a:gd name="textAreaLeft" fmla="*/ 0 w 331560"/>
              <a:gd name="textAreaRight" fmla="*/ 331920 w 3315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7"/>
          <p:cNvSpPr/>
          <p:nvPr/>
        </p:nvSpPr>
        <p:spPr>
          <a:xfrm>
            <a:off x="2070000" y="3232080"/>
            <a:ext cx="182520" cy="257400"/>
          </a:xfrm>
          <a:custGeom>
            <a:avLst/>
            <a:gdLst>
              <a:gd name="textAreaLeft" fmla="*/ 0 w 182520"/>
              <a:gd name="textAreaRight" fmla="*/ 182880 w 1825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8"/>
          <p:cNvSpPr/>
          <p:nvPr/>
        </p:nvSpPr>
        <p:spPr>
          <a:xfrm>
            <a:off x="2170080" y="3078000"/>
            <a:ext cx="249120" cy="290520"/>
          </a:xfrm>
          <a:custGeom>
            <a:avLst/>
            <a:gdLst>
              <a:gd name="textAreaLeft" fmla="*/ 0 w 249120"/>
              <a:gd name="textAreaRight" fmla="*/ 249480 w 249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9"/>
          <p:cNvSpPr/>
          <p:nvPr/>
        </p:nvSpPr>
        <p:spPr>
          <a:xfrm>
            <a:off x="2384280" y="3133800"/>
            <a:ext cx="41400" cy="52200"/>
          </a:xfrm>
          <a:custGeom>
            <a:avLst/>
            <a:gdLst>
              <a:gd name="textAreaLeft" fmla="*/ 0 w 41400"/>
              <a:gd name="textAreaRight" fmla="*/ 41760 w 41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0"/>
          <p:cNvSpPr/>
          <p:nvPr/>
        </p:nvSpPr>
        <p:spPr>
          <a:xfrm>
            <a:off x="2403360" y="3249720"/>
            <a:ext cx="55800" cy="34920"/>
          </a:xfrm>
          <a:custGeom>
            <a:avLst/>
            <a:gdLst>
              <a:gd name="textAreaLeft" fmla="*/ 0 w 55800"/>
              <a:gd name="textAreaRight" fmla="*/ 56160 w 558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"/>
          <p:cNvSpPr/>
          <p:nvPr/>
        </p:nvSpPr>
        <p:spPr>
          <a:xfrm>
            <a:off x="2403360" y="3193920"/>
            <a:ext cx="55800" cy="25560"/>
          </a:xfrm>
          <a:custGeom>
            <a:avLst/>
            <a:gdLst>
              <a:gd name="textAreaLeft" fmla="*/ 0 w 55800"/>
              <a:gd name="textAreaRight" fmla="*/ 56160 w 55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9"/>
          <p:cNvSpPr/>
          <p:nvPr/>
        </p:nvSpPr>
        <p:spPr>
          <a:xfrm>
            <a:off x="4560840" y="3681360"/>
            <a:ext cx="384120" cy="378000"/>
          </a:xfrm>
          <a:custGeom>
            <a:avLst/>
            <a:gdLst>
              <a:gd name="textAreaLeft" fmla="*/ 0 w 384120"/>
              <a:gd name="textAreaRight" fmla="*/ 384480 w 3841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0"/>
          <p:cNvSpPr/>
          <p:nvPr/>
        </p:nvSpPr>
        <p:spPr>
          <a:xfrm>
            <a:off x="4713120" y="3830760"/>
            <a:ext cx="79560" cy="759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3"/>
          <p:cNvSpPr/>
          <p:nvPr/>
        </p:nvSpPr>
        <p:spPr>
          <a:xfrm>
            <a:off x="1728720" y="3506760"/>
            <a:ext cx="311040" cy="420840"/>
          </a:xfrm>
          <a:custGeom>
            <a:avLst/>
            <a:gdLst>
              <a:gd name="textAreaLeft" fmla="*/ 0 w 311040"/>
              <a:gd name="textAreaRight" fmla="*/ 311400 w 3110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80"/>
          <p:cNvSpPr/>
          <p:nvPr/>
        </p:nvSpPr>
        <p:spPr>
          <a:xfrm>
            <a:off x="4064040" y="2162160"/>
            <a:ext cx="298440" cy="123840"/>
          </a:xfrm>
          <a:custGeom>
            <a:avLst/>
            <a:gdLst>
              <a:gd name="textAreaLeft" fmla="*/ 0 w 298440"/>
              <a:gd name="textAreaRight" fmla="*/ 298800 w 2984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1"/>
          <p:cNvSpPr/>
          <p:nvPr/>
        </p:nvSpPr>
        <p:spPr>
          <a:xfrm>
            <a:off x="4064040" y="2259000"/>
            <a:ext cx="298440" cy="120600"/>
          </a:xfrm>
          <a:custGeom>
            <a:avLst/>
            <a:gdLst>
              <a:gd name="textAreaLeft" fmla="*/ 0 w 298440"/>
              <a:gd name="textAreaRight" fmla="*/ 298800 w 298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2"/>
          <p:cNvSpPr/>
          <p:nvPr/>
        </p:nvSpPr>
        <p:spPr>
          <a:xfrm>
            <a:off x="4064040" y="2070000"/>
            <a:ext cx="298440" cy="127080"/>
          </a:xfrm>
          <a:custGeom>
            <a:avLst/>
            <a:gdLst>
              <a:gd name="textAreaLeft" fmla="*/ 0 w 298440"/>
              <a:gd name="textAreaRight" fmla="*/ 298800 w 29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4068720" y="2006640"/>
            <a:ext cx="290520" cy="98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9"/>
          <p:cNvSpPr/>
          <p:nvPr/>
        </p:nvSpPr>
        <p:spPr>
          <a:xfrm>
            <a:off x="4083120" y="3016080"/>
            <a:ext cx="223920" cy="212760"/>
          </a:xfrm>
          <a:custGeom>
            <a:avLst/>
            <a:gdLst>
              <a:gd name="textAreaLeft" fmla="*/ 0 w 223920"/>
              <a:gd name="textAreaRight" fmla="*/ 224280 w 2239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90"/>
          <p:cNvSpPr/>
          <p:nvPr/>
        </p:nvSpPr>
        <p:spPr>
          <a:xfrm>
            <a:off x="4032360" y="2967120"/>
            <a:ext cx="323640" cy="315720"/>
          </a:xfrm>
          <a:custGeom>
            <a:avLst/>
            <a:gdLst>
              <a:gd name="textAreaLeft" fmla="*/ 0 w 323640"/>
              <a:gd name="textAreaRight" fmla="*/ 324000 w 3236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1"/>
          <p:cNvSpPr/>
          <p:nvPr/>
        </p:nvSpPr>
        <p:spPr>
          <a:xfrm>
            <a:off x="4148280" y="3095640"/>
            <a:ext cx="99720" cy="263520"/>
          </a:xfrm>
          <a:custGeom>
            <a:avLst/>
            <a:gdLst>
              <a:gd name="textAreaLeft" fmla="*/ 0 w 99720"/>
              <a:gd name="textAreaRight" fmla="*/ 100080 w 99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2"/>
          <p:cNvSpPr/>
          <p:nvPr/>
        </p:nvSpPr>
        <p:spPr>
          <a:xfrm>
            <a:off x="3392640" y="3052800"/>
            <a:ext cx="115560" cy="92160"/>
          </a:xfrm>
          <a:custGeom>
            <a:avLst/>
            <a:gdLst>
              <a:gd name="textAreaLeft" fmla="*/ 0 w 115560"/>
              <a:gd name="textAreaRight" fmla="*/ 115920 w 115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3"/>
          <p:cNvSpPr/>
          <p:nvPr/>
        </p:nvSpPr>
        <p:spPr>
          <a:xfrm>
            <a:off x="3316320" y="2949480"/>
            <a:ext cx="268200" cy="119160"/>
          </a:xfrm>
          <a:custGeom>
            <a:avLst/>
            <a:gdLst>
              <a:gd name="textAreaLeft" fmla="*/ 0 w 268200"/>
              <a:gd name="textAreaRight" fmla="*/ 268560 w 268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4"/>
          <p:cNvSpPr/>
          <p:nvPr/>
        </p:nvSpPr>
        <p:spPr>
          <a:xfrm>
            <a:off x="3247920" y="2847960"/>
            <a:ext cx="403200" cy="155520"/>
          </a:xfrm>
          <a:custGeom>
            <a:avLst/>
            <a:gdLst>
              <a:gd name="textAreaLeft" fmla="*/ 0 w 403200"/>
              <a:gd name="textAreaRight" fmla="*/ 403560 w 403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95"/>
          <p:cNvSpPr/>
          <p:nvPr/>
        </p:nvSpPr>
        <p:spPr>
          <a:xfrm>
            <a:off x="2865600" y="3081240"/>
            <a:ext cx="382320" cy="238320"/>
          </a:xfrm>
          <a:custGeom>
            <a:avLst/>
            <a:gdLst>
              <a:gd name="textAreaLeft" fmla="*/ 0 w 382320"/>
              <a:gd name="textAreaRight" fmla="*/ 382680 w 3823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6"/>
          <p:cNvSpPr/>
          <p:nvPr/>
        </p:nvSpPr>
        <p:spPr>
          <a:xfrm>
            <a:off x="2917800" y="3132000"/>
            <a:ext cx="7308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7"/>
          <p:cNvSpPr/>
          <p:nvPr/>
        </p:nvSpPr>
        <p:spPr>
          <a:xfrm>
            <a:off x="3003480" y="3132000"/>
            <a:ext cx="6984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03"/>
          <p:cNvSpPr/>
          <p:nvPr/>
        </p:nvSpPr>
        <p:spPr>
          <a:xfrm>
            <a:off x="5073480" y="2995560"/>
            <a:ext cx="346320" cy="341280"/>
          </a:xfrm>
          <a:custGeom>
            <a:avLst/>
            <a:gdLst>
              <a:gd name="textAreaLeft" fmla="*/ 0 w 346320"/>
              <a:gd name="textAreaRight" fmla="*/ 346680 w 3463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04"/>
          <p:cNvSpPr/>
          <p:nvPr/>
        </p:nvSpPr>
        <p:spPr>
          <a:xfrm>
            <a:off x="1390680" y="4575240"/>
            <a:ext cx="365040" cy="361800"/>
          </a:xfrm>
          <a:custGeom>
            <a:avLst/>
            <a:gdLst>
              <a:gd name="textAreaLeft" fmla="*/ 0 w 365040"/>
              <a:gd name="textAreaRight" fmla="*/ 365400 w 36504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5"/>
          <p:cNvSpPr/>
          <p:nvPr/>
        </p:nvSpPr>
        <p:spPr>
          <a:xfrm>
            <a:off x="2039760" y="4059360"/>
            <a:ext cx="317520" cy="279360"/>
          </a:xfrm>
          <a:custGeom>
            <a:avLst/>
            <a:gdLst>
              <a:gd name="textAreaLeft" fmla="*/ 0 w 317520"/>
              <a:gd name="textAreaRight" fmla="*/ 317880 w 317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6"/>
          <p:cNvSpPr/>
          <p:nvPr/>
        </p:nvSpPr>
        <p:spPr>
          <a:xfrm>
            <a:off x="1168560" y="3938760"/>
            <a:ext cx="245880" cy="330120"/>
          </a:xfrm>
          <a:custGeom>
            <a:avLst/>
            <a:gdLst>
              <a:gd name="textAreaLeft" fmla="*/ 0 w 245880"/>
              <a:gd name="textAreaRight" fmla="*/ 246240 w 2458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1"/>
          <p:cNvSpPr/>
          <p:nvPr/>
        </p:nvSpPr>
        <p:spPr>
          <a:xfrm>
            <a:off x="3552840" y="2419200"/>
            <a:ext cx="257040" cy="351000"/>
          </a:xfrm>
          <a:custGeom>
            <a:avLst/>
            <a:gdLst>
              <a:gd name="textAreaLeft" fmla="*/ 0 w 257040"/>
              <a:gd name="textAreaRight" fmla="*/ 257400 w 25704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2"/>
          <p:cNvSpPr/>
          <p:nvPr/>
        </p:nvSpPr>
        <p:spPr>
          <a:xfrm>
            <a:off x="3639960" y="2857680"/>
            <a:ext cx="88920" cy="7920"/>
          </a:xfrm>
          <a:custGeom>
            <a:avLst/>
            <a:gdLst>
              <a:gd name="textAreaLeft" fmla="*/ 0 w 88920"/>
              <a:gd name="textAreaRight" fmla="*/ 88920 w 88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23"/>
          <p:cNvSpPr/>
          <p:nvPr/>
        </p:nvSpPr>
        <p:spPr>
          <a:xfrm>
            <a:off x="3652920" y="2874960"/>
            <a:ext cx="65160" cy="11160"/>
          </a:xfrm>
          <a:custGeom>
            <a:avLst/>
            <a:gdLst>
              <a:gd name="textAreaLeft" fmla="*/ 0 w 65160"/>
              <a:gd name="textAreaRight" fmla="*/ 65520 w 65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24"/>
          <p:cNvSpPr/>
          <p:nvPr/>
        </p:nvSpPr>
        <p:spPr>
          <a:xfrm>
            <a:off x="3637080" y="2784600"/>
            <a:ext cx="93600" cy="63360"/>
          </a:xfrm>
          <a:custGeom>
            <a:avLst/>
            <a:gdLst>
              <a:gd name="textAreaLeft" fmla="*/ 0 w 93600"/>
              <a:gd name="textAreaRight" fmla="*/ 93960 w 936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25"/>
          <p:cNvSpPr/>
          <p:nvPr/>
        </p:nvSpPr>
        <p:spPr>
          <a:xfrm>
            <a:off x="3635280" y="2579760"/>
            <a:ext cx="95400" cy="190440"/>
          </a:xfrm>
          <a:custGeom>
            <a:avLst/>
            <a:gdLst>
              <a:gd name="textAreaLeft" fmla="*/ 0 w 95400"/>
              <a:gd name="textAreaRight" fmla="*/ 95760 w 95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29"/>
          <p:cNvSpPr/>
          <p:nvPr/>
        </p:nvSpPr>
        <p:spPr>
          <a:xfrm>
            <a:off x="3632040" y="341640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30"/>
          <p:cNvSpPr/>
          <p:nvPr/>
        </p:nvSpPr>
        <p:spPr>
          <a:xfrm>
            <a:off x="3632040" y="351144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1"/>
          <p:cNvSpPr/>
          <p:nvPr/>
        </p:nvSpPr>
        <p:spPr>
          <a:xfrm>
            <a:off x="3632040" y="3247920"/>
            <a:ext cx="390600" cy="222480"/>
          </a:xfrm>
          <a:custGeom>
            <a:avLst/>
            <a:gdLst>
              <a:gd name="textAreaLeft" fmla="*/ 0 w 390600"/>
              <a:gd name="textAreaRight" fmla="*/ 390960 w 390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41"/>
          <p:cNvSpPr/>
          <p:nvPr/>
        </p:nvSpPr>
        <p:spPr>
          <a:xfrm>
            <a:off x="2165400" y="2519280"/>
            <a:ext cx="257040" cy="2905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2"/>
          <p:cNvSpPr/>
          <p:nvPr/>
        </p:nvSpPr>
        <p:spPr>
          <a:xfrm>
            <a:off x="2241720" y="2819520"/>
            <a:ext cx="106200" cy="3816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43"/>
          <p:cNvSpPr/>
          <p:nvPr/>
        </p:nvSpPr>
        <p:spPr>
          <a:xfrm>
            <a:off x="2241720" y="2867040"/>
            <a:ext cx="106200" cy="34920"/>
          </a:xfrm>
          <a:custGeom>
            <a:avLst/>
            <a:gdLst>
              <a:gd name="textAreaLeft" fmla="*/ 0 w 106200"/>
              <a:gd name="textAreaRight" fmla="*/ 106560 w 1062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44"/>
          <p:cNvSpPr/>
          <p:nvPr/>
        </p:nvSpPr>
        <p:spPr>
          <a:xfrm>
            <a:off x="2257560" y="2602080"/>
            <a:ext cx="74520" cy="149040"/>
          </a:xfrm>
          <a:custGeom>
            <a:avLst/>
            <a:gdLst>
              <a:gd name="textAreaLeft" fmla="*/ 0 w 74520"/>
              <a:gd name="textAreaRight" fmla="*/ 74880 w 74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309760" y="4200480"/>
            <a:ext cx="24145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直角三角形 71"/>
          <p:cNvSpPr/>
          <p:nvPr/>
        </p:nvSpPr>
        <p:spPr>
          <a:xfrm>
            <a:off x="2673360" y="4356000"/>
            <a:ext cx="1654200" cy="106992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角三角形 72"/>
          <p:cNvSpPr/>
          <p:nvPr/>
        </p:nvSpPr>
        <p:spPr>
          <a:xfrm flipH="1" flipV="1">
            <a:off x="2682000" y="4361040"/>
            <a:ext cx="1644840" cy="10648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2"/>
          <p:cNvSpPr/>
          <p:nvPr/>
        </p:nvSpPr>
        <p:spPr>
          <a:xfrm>
            <a:off x="3530520" y="4924440"/>
            <a:ext cx="173160" cy="166680"/>
          </a:xfrm>
          <a:custGeom>
            <a:avLst/>
            <a:gdLst>
              <a:gd name="textAreaLeft" fmla="*/ 0 w 173160"/>
              <a:gd name="textAreaRight" fmla="*/ 17352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03"/>
          <p:cNvSpPr/>
          <p:nvPr/>
        </p:nvSpPr>
        <p:spPr>
          <a:xfrm>
            <a:off x="3543480" y="4707000"/>
            <a:ext cx="163440" cy="189000"/>
          </a:xfrm>
          <a:custGeom>
            <a:avLst/>
            <a:gdLst>
              <a:gd name="textAreaLeft" fmla="*/ 0 w 163440"/>
              <a:gd name="textAreaRight" fmla="*/ 163440 w 163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04"/>
          <p:cNvSpPr/>
          <p:nvPr/>
        </p:nvSpPr>
        <p:spPr>
          <a:xfrm>
            <a:off x="3335400" y="4707000"/>
            <a:ext cx="174600" cy="164880"/>
          </a:xfrm>
          <a:custGeom>
            <a:avLst/>
            <a:gdLst>
              <a:gd name="textAreaLeft" fmla="*/ 0 w 174600"/>
              <a:gd name="textAreaRight" fmla="*/ 174960 w 174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6"/>
          <p:cNvSpPr/>
          <p:nvPr/>
        </p:nvSpPr>
        <p:spPr>
          <a:xfrm>
            <a:off x="3335400" y="4898880"/>
            <a:ext cx="166680" cy="192240"/>
          </a:xfrm>
          <a:custGeom>
            <a:avLst/>
            <a:gdLst>
              <a:gd name="textAreaLeft" fmla="*/ 0 w 166680"/>
              <a:gd name="textAreaRight" fmla="*/ 167040 w 166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77"/>
          <p:cNvSpPr/>
          <p:nvPr/>
        </p:nvSpPr>
        <p:spPr>
          <a:xfrm>
            <a:off x="7286760" y="3616200"/>
            <a:ext cx="32511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7286760" y="32940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7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8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8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Bent Arrow 41"/>
          <p:cNvSpPr/>
          <p:nvPr/>
        </p:nvSpPr>
        <p:spPr>
          <a:xfrm>
            <a:off x="3363840" y="2523960"/>
            <a:ext cx="1044720" cy="20415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78360 h 2041560"/>
              <a:gd name="textAreaBottom" fmla="*/ 770760 h 2041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ent Arrow 42"/>
          <p:cNvSpPr/>
          <p:nvPr/>
        </p:nvSpPr>
        <p:spPr>
          <a:xfrm flipH="1">
            <a:off x="4408560" y="2523960"/>
            <a:ext cx="1046160" cy="14907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6120 h 1490760"/>
              <a:gd name="textAreaBottom" fmla="*/ 5626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ent Arrow 44"/>
          <p:cNvSpPr/>
          <p:nvPr/>
        </p:nvSpPr>
        <p:spPr>
          <a:xfrm flipH="1" rot="10800000">
            <a:off x="5181480" y="4014360"/>
            <a:ext cx="1044720" cy="148932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76120 h 1489320"/>
              <a:gd name="textAreaBottom" fmla="*/ 56232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Bent Arrow 46"/>
          <p:cNvSpPr/>
          <p:nvPr/>
        </p:nvSpPr>
        <p:spPr>
          <a:xfrm rot="10800000">
            <a:off x="6200640" y="4228920"/>
            <a:ext cx="1044720" cy="12747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236160 h 1274760"/>
              <a:gd name="textAreaBottom" fmla="*/ 481320 h 1274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Bent Arrow 47"/>
          <p:cNvSpPr/>
          <p:nvPr/>
        </p:nvSpPr>
        <p:spPr>
          <a:xfrm flipH="1" rot="16200000">
            <a:off x="7037280" y="3479760"/>
            <a:ext cx="1044720" cy="112104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07720 h 1121040"/>
              <a:gd name="textAreaBottom" fmla="*/ 423000 h 1121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ent Arrow 48"/>
          <p:cNvSpPr/>
          <p:nvPr/>
        </p:nvSpPr>
        <p:spPr>
          <a:xfrm flipH="1" rot="5400000">
            <a:off x="2165400" y="3618000"/>
            <a:ext cx="1046160" cy="189720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351720 h 1897200"/>
              <a:gd name="textAreaBottom" fmla="*/ 716040 h 1897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ent Arrow 49"/>
          <p:cNvSpPr/>
          <p:nvPr/>
        </p:nvSpPr>
        <p:spPr>
          <a:xfrm flipH="1">
            <a:off x="7997760" y="3517920"/>
            <a:ext cx="1046160" cy="14889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5760 h 1488960"/>
              <a:gd name="textAreaBottom" fmla="*/ 56196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ent Arrow 50"/>
          <p:cNvSpPr/>
          <p:nvPr/>
        </p:nvSpPr>
        <p:spPr>
          <a:xfrm rot="16200000">
            <a:off x="9079560" y="4475880"/>
            <a:ext cx="1044720" cy="16653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08520 h 1665360"/>
              <a:gd name="textAreaBottom" fmla="*/ 628560 h 166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1198440" y="38656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203480" y="4151160"/>
            <a:ext cx="157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3689280" y="193824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5599080" y="60040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5603760" y="628956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385040" y="2610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389720" y="2895480"/>
            <a:ext cx="157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9815400" y="4610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9818640" y="4896000"/>
            <a:ext cx="157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2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圆角矩形 2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B0F7-E8B3-4EA2-BF23-CCD488A96B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69"/>
          <p:cNvSpPr/>
          <p:nvPr/>
        </p:nvSpPr>
        <p:spPr>
          <a:xfrm>
            <a:off x="0" y="4149720"/>
            <a:ext cx="12192120" cy="270828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71" descr=""/>
          <p:cNvPicPr/>
          <p:nvPr/>
        </p:nvPicPr>
        <p:blipFill>
          <a:blip r:embed="rId1"/>
          <a:stretch/>
        </p:blipFill>
        <p:spPr>
          <a:xfrm>
            <a:off x="6094440" y="907920"/>
            <a:ext cx="6067440" cy="5123160"/>
          </a:xfrm>
          <a:prstGeom prst="rect">
            <a:avLst/>
          </a:prstGeom>
          <a:ln w="0">
            <a:noFill/>
          </a:ln>
        </p:spPr>
      </p:pic>
      <p:sp>
        <p:nvSpPr>
          <p:cNvPr id="405" name="Oval 71"/>
          <p:cNvSpPr/>
          <p:nvPr/>
        </p:nvSpPr>
        <p:spPr>
          <a:xfrm>
            <a:off x="1979640" y="3562200"/>
            <a:ext cx="4777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6"/>
          <p:cNvSpPr/>
          <p:nvPr/>
        </p:nvSpPr>
        <p:spPr>
          <a:xfrm>
            <a:off x="1986120" y="2870280"/>
            <a:ext cx="47916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9"/>
          <p:cNvSpPr/>
          <p:nvPr/>
        </p:nvSpPr>
        <p:spPr>
          <a:xfrm>
            <a:off x="1989000" y="4232160"/>
            <a:ext cx="4795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75"/>
          <p:cNvSpPr/>
          <p:nvPr/>
        </p:nvSpPr>
        <p:spPr>
          <a:xfrm>
            <a:off x="1438200" y="1806480"/>
            <a:ext cx="4638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1438200" y="14842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2698920" y="29192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703600" y="32050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2698920" y="357840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703600" y="38638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2698920" y="427032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2703600" y="45561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83"/>
          <p:cNvSpPr/>
          <p:nvPr/>
        </p:nvSpPr>
        <p:spPr>
          <a:xfrm>
            <a:off x="1171440" y="4978440"/>
            <a:ext cx="4905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8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角矩形 8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44280"/>
            <a:ext cx="12192120" cy="6813720"/>
          </a:xfrm>
          <a:prstGeom prst="rect">
            <a:avLst/>
          </a:prstGeom>
          <a:ln w="0">
            <a:noFill/>
          </a:ln>
        </p:spPr>
      </p:pic>
      <p:sp>
        <p:nvSpPr>
          <p:cNvPr id="421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平行四边形 5"/>
          <p:cNvSpPr/>
          <p:nvPr/>
        </p:nvSpPr>
        <p:spPr>
          <a:xfrm>
            <a:off x="4008600" y="0"/>
            <a:ext cx="7970760" cy="6858000"/>
          </a:xfrm>
          <a:prstGeom prst="parallelogram">
            <a:avLst>
              <a:gd name="adj" fmla="val -60021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0"/>
          <p:cNvSpPr/>
          <p:nvPr/>
        </p:nvSpPr>
        <p:spPr>
          <a:xfrm>
            <a:off x="6087960" y="340668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任意多边形 125974"/>
          <p:cNvSpPr/>
          <p:nvPr/>
        </p:nvSpPr>
        <p:spPr>
          <a:xfrm>
            <a:off x="4384800" y="1770120"/>
            <a:ext cx="2260440" cy="48096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915297" h="407773">
                <a:moveTo>
                  <a:pt x="0" y="185351"/>
                </a:moveTo>
                <a:lnTo>
                  <a:pt x="0" y="0"/>
                </a:lnTo>
                <a:lnTo>
                  <a:pt x="1161535" y="0"/>
                </a:lnTo>
                <a:lnTo>
                  <a:pt x="1161535" y="407773"/>
                </a:lnTo>
                <a:lnTo>
                  <a:pt x="1915297" y="40777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任意多边形 125975"/>
          <p:cNvSpPr/>
          <p:nvPr/>
        </p:nvSpPr>
        <p:spPr>
          <a:xfrm>
            <a:off x="5391000" y="3097080"/>
            <a:ext cx="1239840" cy="360"/>
          </a:xfrm>
          <a:custGeom>
            <a:avLst/>
            <a:gdLst/>
            <a:ahLst/>
            <a:rect l="l" t="t" r="r" b="b"/>
            <a:pathLst>
              <a:path w="1050325" h="635">
                <a:moveTo>
                  <a:pt x="0" y="0"/>
                </a:moveTo>
                <a:lnTo>
                  <a:pt x="1050325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任意多边形 125976"/>
          <p:cNvSpPr/>
          <p:nvPr/>
        </p:nvSpPr>
        <p:spPr>
          <a:xfrm>
            <a:off x="5216400" y="3925800"/>
            <a:ext cx="1430640" cy="57168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10962" h="483816">
                <a:moveTo>
                  <a:pt x="0" y="483816"/>
                </a:moveTo>
                <a:lnTo>
                  <a:pt x="465683" y="481910"/>
                </a:lnTo>
                <a:cubicBezTo>
                  <a:pt x="467111" y="325242"/>
                  <a:pt x="463778" y="156668"/>
                  <a:pt x="465206" y="0"/>
                </a:cubicBezTo>
                <a:lnTo>
                  <a:pt x="1210962" y="190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125977"/>
          <p:cNvSpPr/>
          <p:nvPr/>
        </p:nvSpPr>
        <p:spPr>
          <a:xfrm>
            <a:off x="3816360" y="4832280"/>
            <a:ext cx="2830680" cy="714600"/>
          </a:xfrm>
          <a:custGeom>
            <a:avLst/>
            <a:gdLst>
              <a:gd name="textAreaLeft" fmla="*/ 0 w 2830680"/>
              <a:gd name="textAreaRight" fmla="*/ 2831040 w 28306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397210" h="605481">
                <a:moveTo>
                  <a:pt x="0" y="395416"/>
                </a:moveTo>
                <a:lnTo>
                  <a:pt x="0" y="605481"/>
                </a:lnTo>
                <a:lnTo>
                  <a:pt x="1653402" y="605481"/>
                </a:lnTo>
                <a:cubicBezTo>
                  <a:pt x="1651285" y="403654"/>
                  <a:pt x="1649169" y="201827"/>
                  <a:pt x="1647052" y="0"/>
                </a:cubicBezTo>
                <a:lnTo>
                  <a:pt x="2397210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9"/>
          <p:cNvSpPr/>
          <p:nvPr/>
        </p:nvSpPr>
        <p:spPr>
          <a:xfrm>
            <a:off x="2452680" y="1836720"/>
            <a:ext cx="2938320" cy="3245040"/>
          </a:xfrm>
          <a:custGeom>
            <a:avLst/>
            <a:gdLst>
              <a:gd name="textAreaLeft" fmla="*/ 0 w 2938320"/>
              <a:gd name="textAreaRight" fmla="*/ 2938680 w 2938320"/>
              <a:gd name="textAreaTop" fmla="*/ 0 h 3245040"/>
              <a:gd name="textAreaBottom" fmla="*/ 3245400 h 3245040"/>
            </a:gdLst>
            <a:ahLst/>
            <a:rect l="textAreaLeft" t="textAreaTop" r="textAreaRight" b="textAreaBottom"/>
            <a:pathLst>
              <a:path w="1004" h="1109">
                <a:moveTo>
                  <a:pt x="141" y="319"/>
                </a:moveTo>
                <a:cubicBezTo>
                  <a:pt x="141" y="319"/>
                  <a:pt x="140" y="320"/>
                  <a:pt x="136" y="323"/>
                </a:cubicBezTo>
                <a:cubicBezTo>
                  <a:pt x="133" y="327"/>
                  <a:pt x="128" y="331"/>
                  <a:pt x="123" y="337"/>
                </a:cubicBezTo>
                <a:cubicBezTo>
                  <a:pt x="111" y="349"/>
                  <a:pt x="94" y="368"/>
                  <a:pt x="76" y="394"/>
                </a:cubicBezTo>
                <a:cubicBezTo>
                  <a:pt x="58" y="421"/>
                  <a:pt x="38" y="456"/>
                  <a:pt x="24" y="499"/>
                </a:cubicBezTo>
                <a:cubicBezTo>
                  <a:pt x="16" y="521"/>
                  <a:pt x="10" y="545"/>
                  <a:pt x="6" y="570"/>
                </a:cubicBezTo>
                <a:cubicBezTo>
                  <a:pt x="5" y="577"/>
                  <a:pt x="4" y="583"/>
                  <a:pt x="3" y="590"/>
                </a:cubicBezTo>
                <a:cubicBezTo>
                  <a:pt x="3" y="593"/>
                  <a:pt x="3" y="597"/>
                  <a:pt x="2" y="600"/>
                </a:cubicBezTo>
                <a:cubicBezTo>
                  <a:pt x="2" y="605"/>
                  <a:pt x="2" y="605"/>
                  <a:pt x="2" y="605"/>
                </a:cubicBezTo>
                <a:cubicBezTo>
                  <a:pt x="2" y="606"/>
                  <a:pt x="2" y="606"/>
                  <a:pt x="2" y="606"/>
                </a:cubicBezTo>
                <a:cubicBezTo>
                  <a:pt x="2" y="607"/>
                  <a:pt x="2" y="607"/>
                  <a:pt x="2" y="607"/>
                </a:cubicBezTo>
                <a:cubicBezTo>
                  <a:pt x="2" y="606"/>
                  <a:pt x="2" y="608"/>
                  <a:pt x="2" y="608"/>
                </a:cubicBezTo>
                <a:cubicBezTo>
                  <a:pt x="1" y="611"/>
                  <a:pt x="1" y="611"/>
                  <a:pt x="1" y="611"/>
                </a:cubicBezTo>
                <a:cubicBezTo>
                  <a:pt x="1" y="617"/>
                  <a:pt x="1" y="624"/>
                  <a:pt x="0" y="630"/>
                </a:cubicBezTo>
                <a:cubicBezTo>
                  <a:pt x="0" y="637"/>
                  <a:pt x="0" y="645"/>
                  <a:pt x="0" y="652"/>
                </a:cubicBezTo>
                <a:cubicBezTo>
                  <a:pt x="1" y="681"/>
                  <a:pt x="5" y="712"/>
                  <a:pt x="12" y="742"/>
                </a:cubicBezTo>
                <a:cubicBezTo>
                  <a:pt x="19" y="773"/>
                  <a:pt x="29" y="805"/>
                  <a:pt x="44" y="836"/>
                </a:cubicBezTo>
                <a:cubicBezTo>
                  <a:pt x="59" y="867"/>
                  <a:pt x="77" y="897"/>
                  <a:pt x="100" y="926"/>
                </a:cubicBezTo>
                <a:cubicBezTo>
                  <a:pt x="122" y="954"/>
                  <a:pt x="149" y="981"/>
                  <a:pt x="179" y="1005"/>
                </a:cubicBezTo>
                <a:cubicBezTo>
                  <a:pt x="210" y="1029"/>
                  <a:pt x="244" y="1049"/>
                  <a:pt x="280" y="1066"/>
                </a:cubicBezTo>
                <a:cubicBezTo>
                  <a:pt x="317" y="1082"/>
                  <a:pt x="357" y="1095"/>
                  <a:pt x="398" y="1102"/>
                </a:cubicBezTo>
                <a:cubicBezTo>
                  <a:pt x="419" y="1105"/>
                  <a:pt x="440" y="1108"/>
                  <a:pt x="461" y="1108"/>
                </a:cubicBezTo>
                <a:cubicBezTo>
                  <a:pt x="468" y="1109"/>
                  <a:pt x="468" y="1109"/>
                  <a:pt x="468" y="1109"/>
                </a:cubicBezTo>
                <a:cubicBezTo>
                  <a:pt x="470" y="1109"/>
                  <a:pt x="472" y="1109"/>
                  <a:pt x="475" y="1109"/>
                </a:cubicBezTo>
                <a:cubicBezTo>
                  <a:pt x="493" y="1109"/>
                  <a:pt x="493" y="1109"/>
                  <a:pt x="493" y="1109"/>
                </a:cubicBezTo>
                <a:cubicBezTo>
                  <a:pt x="495" y="1109"/>
                  <a:pt x="498" y="1109"/>
                  <a:pt x="501" y="1109"/>
                </a:cubicBezTo>
                <a:cubicBezTo>
                  <a:pt x="509" y="1108"/>
                  <a:pt x="509" y="1108"/>
                  <a:pt x="509" y="1108"/>
                </a:cubicBezTo>
                <a:cubicBezTo>
                  <a:pt x="525" y="1107"/>
                  <a:pt x="525" y="1107"/>
                  <a:pt x="525" y="1107"/>
                </a:cubicBezTo>
                <a:cubicBezTo>
                  <a:pt x="568" y="1103"/>
                  <a:pt x="611" y="1094"/>
                  <a:pt x="653" y="1079"/>
                </a:cubicBezTo>
                <a:cubicBezTo>
                  <a:pt x="736" y="1050"/>
                  <a:pt x="812" y="998"/>
                  <a:pt x="871" y="930"/>
                </a:cubicBezTo>
                <a:cubicBezTo>
                  <a:pt x="900" y="896"/>
                  <a:pt x="925" y="859"/>
                  <a:pt x="946" y="819"/>
                </a:cubicBezTo>
                <a:cubicBezTo>
                  <a:pt x="966" y="779"/>
                  <a:pt x="980" y="737"/>
                  <a:pt x="990" y="694"/>
                </a:cubicBezTo>
                <a:cubicBezTo>
                  <a:pt x="993" y="683"/>
                  <a:pt x="994" y="672"/>
                  <a:pt x="996" y="661"/>
                </a:cubicBezTo>
                <a:cubicBezTo>
                  <a:pt x="997" y="656"/>
                  <a:pt x="998" y="651"/>
                  <a:pt x="999" y="645"/>
                </a:cubicBezTo>
                <a:cubicBezTo>
                  <a:pt x="999" y="640"/>
                  <a:pt x="1000" y="634"/>
                  <a:pt x="1001" y="629"/>
                </a:cubicBezTo>
                <a:cubicBezTo>
                  <a:pt x="1001" y="624"/>
                  <a:pt x="1001" y="618"/>
                  <a:pt x="1002" y="613"/>
                </a:cubicBezTo>
                <a:cubicBezTo>
                  <a:pt x="1002" y="609"/>
                  <a:pt x="1002" y="609"/>
                  <a:pt x="1002" y="609"/>
                </a:cubicBezTo>
                <a:cubicBezTo>
                  <a:pt x="1002" y="608"/>
                  <a:pt x="1002" y="608"/>
                  <a:pt x="1002" y="608"/>
                </a:cubicBezTo>
                <a:cubicBezTo>
                  <a:pt x="1002" y="611"/>
                  <a:pt x="1002" y="603"/>
                  <a:pt x="1002" y="604"/>
                </a:cubicBezTo>
                <a:cubicBezTo>
                  <a:pt x="1002" y="602"/>
                  <a:pt x="1002" y="602"/>
                  <a:pt x="1002" y="602"/>
                </a:cubicBezTo>
                <a:cubicBezTo>
                  <a:pt x="1003" y="596"/>
                  <a:pt x="1003" y="596"/>
                  <a:pt x="1003" y="596"/>
                </a:cubicBezTo>
                <a:cubicBezTo>
                  <a:pt x="1003" y="592"/>
                  <a:pt x="1003" y="588"/>
                  <a:pt x="1003" y="584"/>
                </a:cubicBezTo>
                <a:cubicBezTo>
                  <a:pt x="1004" y="582"/>
                  <a:pt x="1004" y="582"/>
                  <a:pt x="1004" y="582"/>
                </a:cubicBezTo>
                <a:cubicBezTo>
                  <a:pt x="1004" y="580"/>
                  <a:pt x="1004" y="580"/>
                  <a:pt x="1004" y="580"/>
                </a:cubicBezTo>
                <a:cubicBezTo>
                  <a:pt x="1004" y="575"/>
                  <a:pt x="1004" y="575"/>
                  <a:pt x="1004" y="575"/>
                </a:cubicBezTo>
                <a:cubicBezTo>
                  <a:pt x="1003" y="566"/>
                  <a:pt x="1003" y="566"/>
                  <a:pt x="1003" y="566"/>
                </a:cubicBezTo>
                <a:cubicBezTo>
                  <a:pt x="1003" y="557"/>
                  <a:pt x="1003" y="557"/>
                  <a:pt x="1003" y="557"/>
                </a:cubicBezTo>
                <a:cubicBezTo>
                  <a:pt x="1003" y="553"/>
                  <a:pt x="1003" y="553"/>
                  <a:pt x="1003" y="553"/>
                </a:cubicBezTo>
                <a:cubicBezTo>
                  <a:pt x="1003" y="550"/>
                  <a:pt x="1003" y="550"/>
                  <a:pt x="1003" y="550"/>
                </a:cubicBezTo>
                <a:cubicBezTo>
                  <a:pt x="1003" y="548"/>
                  <a:pt x="1003" y="548"/>
                  <a:pt x="1003" y="548"/>
                </a:cubicBezTo>
                <a:cubicBezTo>
                  <a:pt x="1003" y="543"/>
                  <a:pt x="1002" y="538"/>
                  <a:pt x="1002" y="532"/>
                </a:cubicBezTo>
                <a:cubicBezTo>
                  <a:pt x="1001" y="522"/>
                  <a:pt x="1000" y="511"/>
                  <a:pt x="999" y="501"/>
                </a:cubicBezTo>
                <a:cubicBezTo>
                  <a:pt x="998" y="495"/>
                  <a:pt x="997" y="490"/>
                  <a:pt x="996" y="485"/>
                </a:cubicBezTo>
                <a:cubicBezTo>
                  <a:pt x="996" y="480"/>
                  <a:pt x="995" y="475"/>
                  <a:pt x="994" y="470"/>
                </a:cubicBezTo>
                <a:cubicBezTo>
                  <a:pt x="992" y="459"/>
                  <a:pt x="989" y="449"/>
                  <a:pt x="987" y="439"/>
                </a:cubicBezTo>
                <a:cubicBezTo>
                  <a:pt x="967" y="358"/>
                  <a:pt x="930" y="286"/>
                  <a:pt x="884" y="227"/>
                </a:cubicBezTo>
                <a:cubicBezTo>
                  <a:pt x="839" y="169"/>
                  <a:pt x="786" y="123"/>
                  <a:pt x="734" y="91"/>
                </a:cubicBezTo>
                <a:cubicBezTo>
                  <a:pt x="682" y="58"/>
                  <a:pt x="631" y="37"/>
                  <a:pt x="588" y="24"/>
                </a:cubicBezTo>
                <a:cubicBezTo>
                  <a:pt x="545" y="12"/>
                  <a:pt x="509" y="6"/>
                  <a:pt x="485" y="3"/>
                </a:cubicBezTo>
                <a:cubicBezTo>
                  <a:pt x="473" y="2"/>
                  <a:pt x="464" y="1"/>
                  <a:pt x="458" y="1"/>
                </a:cubicBezTo>
                <a:cubicBezTo>
                  <a:pt x="452" y="0"/>
                  <a:pt x="449" y="0"/>
                  <a:pt x="449" y="0"/>
                </a:cubicBezTo>
                <a:cubicBezTo>
                  <a:pt x="449" y="376"/>
                  <a:pt x="449" y="376"/>
                  <a:pt x="449" y="376"/>
                </a:cubicBezTo>
                <a:cubicBezTo>
                  <a:pt x="449" y="376"/>
                  <a:pt x="450" y="375"/>
                  <a:pt x="452" y="375"/>
                </a:cubicBezTo>
                <a:cubicBezTo>
                  <a:pt x="455" y="375"/>
                  <a:pt x="458" y="374"/>
                  <a:pt x="463" y="374"/>
                </a:cubicBezTo>
                <a:cubicBezTo>
                  <a:pt x="473" y="373"/>
                  <a:pt x="487" y="373"/>
                  <a:pt x="504" y="374"/>
                </a:cubicBezTo>
                <a:cubicBezTo>
                  <a:pt x="522" y="376"/>
                  <a:pt x="544" y="380"/>
                  <a:pt x="569" y="389"/>
                </a:cubicBezTo>
                <a:cubicBezTo>
                  <a:pt x="593" y="399"/>
                  <a:pt x="620" y="414"/>
                  <a:pt x="645" y="436"/>
                </a:cubicBezTo>
                <a:cubicBezTo>
                  <a:pt x="670" y="458"/>
                  <a:pt x="694" y="488"/>
                  <a:pt x="711" y="525"/>
                </a:cubicBezTo>
                <a:cubicBezTo>
                  <a:pt x="713" y="530"/>
                  <a:pt x="715" y="535"/>
                  <a:pt x="717" y="539"/>
                </a:cubicBezTo>
                <a:cubicBezTo>
                  <a:pt x="718" y="542"/>
                  <a:pt x="719" y="544"/>
                  <a:pt x="719" y="547"/>
                </a:cubicBezTo>
                <a:cubicBezTo>
                  <a:pt x="720" y="549"/>
                  <a:pt x="721" y="552"/>
                  <a:pt x="722" y="554"/>
                </a:cubicBezTo>
                <a:cubicBezTo>
                  <a:pt x="723" y="559"/>
                  <a:pt x="725" y="564"/>
                  <a:pt x="726" y="569"/>
                </a:cubicBezTo>
                <a:cubicBezTo>
                  <a:pt x="727" y="572"/>
                  <a:pt x="728" y="575"/>
                  <a:pt x="728" y="577"/>
                </a:cubicBezTo>
                <a:cubicBezTo>
                  <a:pt x="730" y="584"/>
                  <a:pt x="730" y="584"/>
                  <a:pt x="730" y="584"/>
                </a:cubicBezTo>
                <a:cubicBezTo>
                  <a:pt x="731" y="587"/>
                  <a:pt x="731" y="587"/>
                  <a:pt x="731" y="587"/>
                </a:cubicBezTo>
                <a:cubicBezTo>
                  <a:pt x="731" y="588"/>
                  <a:pt x="731" y="588"/>
                  <a:pt x="731" y="588"/>
                </a:cubicBezTo>
                <a:cubicBezTo>
                  <a:pt x="731" y="589"/>
                  <a:pt x="731" y="589"/>
                  <a:pt x="731" y="589"/>
                </a:cubicBezTo>
                <a:cubicBezTo>
                  <a:pt x="731" y="589"/>
                  <a:pt x="732" y="590"/>
                  <a:pt x="732" y="590"/>
                </a:cubicBezTo>
                <a:cubicBezTo>
                  <a:pt x="732" y="595"/>
                  <a:pt x="732" y="599"/>
                  <a:pt x="733" y="603"/>
                </a:cubicBezTo>
                <a:cubicBezTo>
                  <a:pt x="734" y="609"/>
                  <a:pt x="734" y="609"/>
                  <a:pt x="734" y="609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1"/>
                  <a:pt x="734" y="604"/>
                  <a:pt x="734" y="608"/>
                </a:cubicBezTo>
                <a:cubicBezTo>
                  <a:pt x="734" y="608"/>
                  <a:pt x="734" y="608"/>
                  <a:pt x="734" y="608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3"/>
                  <a:pt x="734" y="616"/>
                  <a:pt x="735" y="619"/>
                </a:cubicBezTo>
                <a:cubicBezTo>
                  <a:pt x="735" y="622"/>
                  <a:pt x="735" y="624"/>
                  <a:pt x="735" y="627"/>
                </a:cubicBezTo>
                <a:cubicBezTo>
                  <a:pt x="735" y="630"/>
                  <a:pt x="735" y="633"/>
                  <a:pt x="736" y="636"/>
                </a:cubicBezTo>
                <a:cubicBezTo>
                  <a:pt x="736" y="642"/>
                  <a:pt x="736" y="647"/>
                  <a:pt x="735" y="653"/>
                </a:cubicBezTo>
                <a:cubicBezTo>
                  <a:pt x="734" y="677"/>
                  <a:pt x="731" y="701"/>
                  <a:pt x="724" y="724"/>
                </a:cubicBezTo>
                <a:cubicBezTo>
                  <a:pt x="716" y="748"/>
                  <a:pt x="706" y="772"/>
                  <a:pt x="693" y="794"/>
                </a:cubicBezTo>
                <a:cubicBezTo>
                  <a:pt x="688" y="802"/>
                  <a:pt x="688" y="802"/>
                  <a:pt x="688" y="802"/>
                </a:cubicBezTo>
                <a:cubicBezTo>
                  <a:pt x="686" y="805"/>
                  <a:pt x="684" y="807"/>
                  <a:pt x="682" y="810"/>
                </a:cubicBezTo>
                <a:cubicBezTo>
                  <a:pt x="678" y="816"/>
                  <a:pt x="674" y="821"/>
                  <a:pt x="670" y="826"/>
                </a:cubicBezTo>
                <a:cubicBezTo>
                  <a:pt x="662" y="836"/>
                  <a:pt x="653" y="847"/>
                  <a:pt x="643" y="856"/>
                </a:cubicBezTo>
                <a:cubicBezTo>
                  <a:pt x="624" y="875"/>
                  <a:pt x="602" y="891"/>
                  <a:pt x="577" y="905"/>
                </a:cubicBezTo>
                <a:cubicBezTo>
                  <a:pt x="553" y="919"/>
                  <a:pt x="527" y="929"/>
                  <a:pt x="499" y="937"/>
                </a:cubicBezTo>
                <a:cubicBezTo>
                  <a:pt x="489" y="939"/>
                  <a:pt x="489" y="939"/>
                  <a:pt x="489" y="939"/>
                </a:cubicBezTo>
                <a:cubicBezTo>
                  <a:pt x="484" y="940"/>
                  <a:pt x="484" y="940"/>
                  <a:pt x="484" y="940"/>
                </a:cubicBezTo>
                <a:cubicBezTo>
                  <a:pt x="482" y="941"/>
                  <a:pt x="481" y="941"/>
                  <a:pt x="479" y="941"/>
                </a:cubicBezTo>
                <a:cubicBezTo>
                  <a:pt x="470" y="943"/>
                  <a:pt x="470" y="943"/>
                  <a:pt x="470" y="943"/>
                </a:cubicBezTo>
                <a:cubicBezTo>
                  <a:pt x="468" y="944"/>
                  <a:pt x="466" y="944"/>
                  <a:pt x="464" y="944"/>
                </a:cubicBezTo>
                <a:cubicBezTo>
                  <a:pt x="457" y="945"/>
                  <a:pt x="457" y="945"/>
                  <a:pt x="457" y="945"/>
                </a:cubicBezTo>
                <a:cubicBezTo>
                  <a:pt x="443" y="947"/>
                  <a:pt x="428" y="947"/>
                  <a:pt x="414" y="948"/>
                </a:cubicBezTo>
                <a:cubicBezTo>
                  <a:pt x="385" y="947"/>
                  <a:pt x="356" y="944"/>
                  <a:pt x="328" y="937"/>
                </a:cubicBezTo>
                <a:cubicBezTo>
                  <a:pt x="300" y="929"/>
                  <a:pt x="273" y="918"/>
                  <a:pt x="247" y="905"/>
                </a:cubicBezTo>
                <a:cubicBezTo>
                  <a:pt x="222" y="891"/>
                  <a:pt x="199" y="874"/>
                  <a:pt x="178" y="855"/>
                </a:cubicBezTo>
                <a:cubicBezTo>
                  <a:pt x="157" y="835"/>
                  <a:pt x="138" y="814"/>
                  <a:pt x="122" y="791"/>
                </a:cubicBezTo>
                <a:cubicBezTo>
                  <a:pt x="107" y="769"/>
                  <a:pt x="94" y="745"/>
                  <a:pt x="84" y="720"/>
                </a:cubicBezTo>
                <a:cubicBezTo>
                  <a:pt x="74" y="696"/>
                  <a:pt x="66" y="671"/>
                  <a:pt x="62" y="646"/>
                </a:cubicBezTo>
                <a:cubicBezTo>
                  <a:pt x="61" y="640"/>
                  <a:pt x="60" y="634"/>
                  <a:pt x="59" y="629"/>
                </a:cubicBezTo>
                <a:cubicBezTo>
                  <a:pt x="58" y="622"/>
                  <a:pt x="57" y="616"/>
                  <a:pt x="57" y="609"/>
                </a:cubicBezTo>
                <a:cubicBezTo>
                  <a:pt x="56" y="607"/>
                  <a:pt x="56" y="607"/>
                  <a:pt x="56" y="607"/>
                </a:cubicBezTo>
                <a:cubicBezTo>
                  <a:pt x="56" y="606"/>
                  <a:pt x="56" y="608"/>
                  <a:pt x="56" y="607"/>
                </a:cubicBezTo>
                <a:cubicBezTo>
                  <a:pt x="56" y="606"/>
                  <a:pt x="56" y="606"/>
                  <a:pt x="56" y="606"/>
                </a:cubicBezTo>
                <a:cubicBezTo>
                  <a:pt x="56" y="605"/>
                  <a:pt x="56" y="605"/>
                  <a:pt x="56" y="605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598"/>
                  <a:pt x="56" y="595"/>
                  <a:pt x="56" y="592"/>
                </a:cubicBezTo>
                <a:cubicBezTo>
                  <a:pt x="55" y="586"/>
                  <a:pt x="55" y="580"/>
                  <a:pt x="55" y="574"/>
                </a:cubicBezTo>
                <a:cubicBezTo>
                  <a:pt x="55" y="551"/>
                  <a:pt x="57" y="529"/>
                  <a:pt x="60" y="508"/>
                </a:cubicBezTo>
                <a:cubicBezTo>
                  <a:pt x="67" y="467"/>
                  <a:pt x="80" y="432"/>
                  <a:pt x="93" y="404"/>
                </a:cubicBezTo>
                <a:cubicBezTo>
                  <a:pt x="106" y="376"/>
                  <a:pt x="119" y="356"/>
                  <a:pt x="129" y="342"/>
                </a:cubicBezTo>
                <a:cubicBezTo>
                  <a:pt x="133" y="335"/>
                  <a:pt x="137" y="330"/>
                  <a:pt x="140" y="327"/>
                </a:cubicBezTo>
                <a:cubicBezTo>
                  <a:pt x="143" y="323"/>
                  <a:pt x="144" y="321"/>
                  <a:pt x="144" y="321"/>
                </a:cubicBezTo>
                <a:lnTo>
                  <a:pt x="141" y="3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0"/>
          <p:cNvSpPr/>
          <p:nvPr/>
        </p:nvSpPr>
        <p:spPr>
          <a:xfrm>
            <a:off x="2440080" y="2314440"/>
            <a:ext cx="3011400" cy="2805120"/>
          </a:xfrm>
          <a:custGeom>
            <a:avLst/>
            <a:gdLst>
              <a:gd name="textAreaLeft" fmla="*/ 0 w 3011400"/>
              <a:gd name="textAreaRight" fmla="*/ 3011760 w 3011400"/>
              <a:gd name="textAreaTop" fmla="*/ 0 h 2805120"/>
              <a:gd name="textAreaBottom" fmla="*/ 2805120 h 2805120"/>
            </a:gdLst>
            <a:ahLst/>
            <a:rect l="textAreaLeft" t="textAreaTop" r="textAreaRight" b="textAreaBottom"/>
            <a:pathLst>
              <a:path w="1029" h="959">
                <a:moveTo>
                  <a:pt x="145" y="156"/>
                </a:moveTo>
                <a:cubicBezTo>
                  <a:pt x="145" y="156"/>
                  <a:pt x="144" y="157"/>
                  <a:pt x="141" y="160"/>
                </a:cubicBezTo>
                <a:cubicBezTo>
                  <a:pt x="138" y="162"/>
                  <a:pt x="134" y="166"/>
                  <a:pt x="129" y="171"/>
                </a:cubicBezTo>
                <a:cubicBezTo>
                  <a:pt x="118" y="182"/>
                  <a:pt x="103" y="197"/>
                  <a:pt x="87" y="219"/>
                </a:cubicBezTo>
                <a:cubicBezTo>
                  <a:pt x="85" y="222"/>
                  <a:pt x="83" y="225"/>
                  <a:pt x="80" y="228"/>
                </a:cubicBezTo>
                <a:cubicBezTo>
                  <a:pt x="78" y="231"/>
                  <a:pt x="76" y="234"/>
                  <a:pt x="74" y="237"/>
                </a:cubicBezTo>
                <a:cubicBezTo>
                  <a:pt x="72" y="241"/>
                  <a:pt x="70" y="244"/>
                  <a:pt x="67" y="247"/>
                </a:cubicBezTo>
                <a:cubicBezTo>
                  <a:pt x="65" y="251"/>
                  <a:pt x="63" y="254"/>
                  <a:pt x="61" y="258"/>
                </a:cubicBezTo>
                <a:cubicBezTo>
                  <a:pt x="60" y="260"/>
                  <a:pt x="59" y="262"/>
                  <a:pt x="58" y="263"/>
                </a:cubicBezTo>
                <a:cubicBezTo>
                  <a:pt x="57" y="265"/>
                  <a:pt x="56" y="267"/>
                  <a:pt x="55" y="269"/>
                </a:cubicBezTo>
                <a:cubicBezTo>
                  <a:pt x="52" y="273"/>
                  <a:pt x="50" y="277"/>
                  <a:pt x="48" y="281"/>
                </a:cubicBezTo>
                <a:cubicBezTo>
                  <a:pt x="46" y="285"/>
                  <a:pt x="44" y="289"/>
                  <a:pt x="42" y="294"/>
                </a:cubicBezTo>
                <a:cubicBezTo>
                  <a:pt x="41" y="296"/>
                  <a:pt x="40" y="298"/>
                  <a:pt x="39" y="300"/>
                </a:cubicBezTo>
                <a:cubicBezTo>
                  <a:pt x="38" y="302"/>
                  <a:pt x="37" y="305"/>
                  <a:pt x="36" y="307"/>
                </a:cubicBezTo>
                <a:cubicBezTo>
                  <a:pt x="28" y="325"/>
                  <a:pt x="21" y="345"/>
                  <a:pt x="15" y="367"/>
                </a:cubicBezTo>
                <a:cubicBezTo>
                  <a:pt x="12" y="378"/>
                  <a:pt x="10" y="389"/>
                  <a:pt x="7" y="401"/>
                </a:cubicBezTo>
                <a:cubicBezTo>
                  <a:pt x="6" y="406"/>
                  <a:pt x="5" y="412"/>
                  <a:pt x="5" y="418"/>
                </a:cubicBezTo>
                <a:cubicBezTo>
                  <a:pt x="3" y="424"/>
                  <a:pt x="3" y="430"/>
                  <a:pt x="2" y="437"/>
                </a:cubicBezTo>
                <a:cubicBezTo>
                  <a:pt x="2" y="441"/>
                  <a:pt x="2" y="441"/>
                  <a:pt x="2" y="441"/>
                </a:cubicBezTo>
                <a:cubicBezTo>
                  <a:pt x="1" y="444"/>
                  <a:pt x="1" y="444"/>
                  <a:pt x="1" y="444"/>
                </a:cubicBezTo>
                <a:cubicBezTo>
                  <a:pt x="1" y="444"/>
                  <a:pt x="1" y="443"/>
                  <a:pt x="1" y="445"/>
                </a:cubicBezTo>
                <a:cubicBezTo>
                  <a:pt x="1" y="446"/>
                  <a:pt x="1" y="446"/>
                  <a:pt x="1" y="446"/>
                </a:cubicBezTo>
                <a:cubicBezTo>
                  <a:pt x="1" y="447"/>
                  <a:pt x="1" y="447"/>
                  <a:pt x="1" y="447"/>
                </a:cubicBezTo>
                <a:cubicBezTo>
                  <a:pt x="1" y="450"/>
                  <a:pt x="1" y="453"/>
                  <a:pt x="1" y="456"/>
                </a:cubicBezTo>
                <a:cubicBezTo>
                  <a:pt x="1" y="459"/>
                  <a:pt x="0" y="461"/>
                  <a:pt x="0" y="464"/>
                </a:cubicBezTo>
                <a:cubicBezTo>
                  <a:pt x="0" y="467"/>
                  <a:pt x="0" y="467"/>
                  <a:pt x="0" y="467"/>
                </a:cubicBezTo>
                <a:cubicBezTo>
                  <a:pt x="0" y="469"/>
                  <a:pt x="0" y="469"/>
                  <a:pt x="0" y="469"/>
                </a:cubicBezTo>
                <a:cubicBezTo>
                  <a:pt x="0" y="474"/>
                  <a:pt x="0" y="474"/>
                  <a:pt x="0" y="474"/>
                </a:cubicBezTo>
                <a:cubicBezTo>
                  <a:pt x="0" y="478"/>
                  <a:pt x="0" y="481"/>
                  <a:pt x="0" y="485"/>
                </a:cubicBezTo>
                <a:cubicBezTo>
                  <a:pt x="0" y="488"/>
                  <a:pt x="0" y="491"/>
                  <a:pt x="0" y="495"/>
                </a:cubicBezTo>
                <a:cubicBezTo>
                  <a:pt x="0" y="501"/>
                  <a:pt x="0" y="508"/>
                  <a:pt x="1" y="515"/>
                </a:cubicBezTo>
                <a:cubicBezTo>
                  <a:pt x="3" y="542"/>
                  <a:pt x="7" y="571"/>
                  <a:pt x="15" y="599"/>
                </a:cubicBezTo>
                <a:cubicBezTo>
                  <a:pt x="29" y="656"/>
                  <a:pt x="57" y="715"/>
                  <a:pt x="97" y="767"/>
                </a:cubicBezTo>
                <a:cubicBezTo>
                  <a:pt x="138" y="820"/>
                  <a:pt x="192" y="867"/>
                  <a:pt x="256" y="901"/>
                </a:cubicBezTo>
                <a:cubicBezTo>
                  <a:pt x="288" y="918"/>
                  <a:pt x="322" y="931"/>
                  <a:pt x="358" y="941"/>
                </a:cubicBezTo>
                <a:cubicBezTo>
                  <a:pt x="367" y="943"/>
                  <a:pt x="376" y="946"/>
                  <a:pt x="386" y="948"/>
                </a:cubicBezTo>
                <a:cubicBezTo>
                  <a:pt x="399" y="950"/>
                  <a:pt x="399" y="950"/>
                  <a:pt x="399" y="950"/>
                </a:cubicBezTo>
                <a:cubicBezTo>
                  <a:pt x="404" y="951"/>
                  <a:pt x="409" y="952"/>
                  <a:pt x="413" y="953"/>
                </a:cubicBezTo>
                <a:cubicBezTo>
                  <a:pt x="418" y="953"/>
                  <a:pt x="423" y="954"/>
                  <a:pt x="427" y="955"/>
                </a:cubicBezTo>
                <a:cubicBezTo>
                  <a:pt x="441" y="956"/>
                  <a:pt x="441" y="956"/>
                  <a:pt x="441" y="956"/>
                </a:cubicBezTo>
                <a:cubicBezTo>
                  <a:pt x="448" y="957"/>
                  <a:pt x="448" y="957"/>
                  <a:pt x="448" y="957"/>
                </a:cubicBezTo>
                <a:cubicBezTo>
                  <a:pt x="452" y="957"/>
                  <a:pt x="452" y="957"/>
                  <a:pt x="452" y="957"/>
                </a:cubicBezTo>
                <a:cubicBezTo>
                  <a:pt x="450" y="957"/>
                  <a:pt x="455" y="957"/>
                  <a:pt x="455" y="957"/>
                </a:cubicBezTo>
                <a:cubicBezTo>
                  <a:pt x="456" y="957"/>
                  <a:pt x="456" y="957"/>
                  <a:pt x="456" y="957"/>
                </a:cubicBezTo>
                <a:cubicBezTo>
                  <a:pt x="457" y="957"/>
                  <a:pt x="457" y="957"/>
                  <a:pt x="457" y="957"/>
                </a:cubicBezTo>
                <a:cubicBezTo>
                  <a:pt x="469" y="958"/>
                  <a:pt x="469" y="958"/>
                  <a:pt x="469" y="958"/>
                </a:cubicBezTo>
                <a:cubicBezTo>
                  <a:pt x="475" y="959"/>
                  <a:pt x="487" y="959"/>
                  <a:pt x="497" y="959"/>
                </a:cubicBezTo>
                <a:cubicBezTo>
                  <a:pt x="505" y="959"/>
                  <a:pt x="505" y="959"/>
                  <a:pt x="505" y="959"/>
                </a:cubicBezTo>
                <a:cubicBezTo>
                  <a:pt x="512" y="958"/>
                  <a:pt x="512" y="958"/>
                  <a:pt x="512" y="958"/>
                </a:cubicBezTo>
                <a:cubicBezTo>
                  <a:pt x="527" y="958"/>
                  <a:pt x="527" y="958"/>
                  <a:pt x="527" y="958"/>
                </a:cubicBezTo>
                <a:cubicBezTo>
                  <a:pt x="536" y="957"/>
                  <a:pt x="546" y="956"/>
                  <a:pt x="555" y="955"/>
                </a:cubicBezTo>
                <a:cubicBezTo>
                  <a:pt x="565" y="954"/>
                  <a:pt x="574" y="952"/>
                  <a:pt x="584" y="951"/>
                </a:cubicBezTo>
                <a:cubicBezTo>
                  <a:pt x="622" y="944"/>
                  <a:pt x="659" y="933"/>
                  <a:pt x="695" y="917"/>
                </a:cubicBezTo>
                <a:cubicBezTo>
                  <a:pt x="731" y="902"/>
                  <a:pt x="764" y="883"/>
                  <a:pt x="796" y="861"/>
                </a:cubicBezTo>
                <a:cubicBezTo>
                  <a:pt x="827" y="839"/>
                  <a:pt x="856" y="814"/>
                  <a:pt x="882" y="786"/>
                </a:cubicBezTo>
                <a:cubicBezTo>
                  <a:pt x="933" y="730"/>
                  <a:pt x="972" y="664"/>
                  <a:pt x="996" y="596"/>
                </a:cubicBezTo>
                <a:cubicBezTo>
                  <a:pt x="1008" y="563"/>
                  <a:pt x="1016" y="528"/>
                  <a:pt x="1022" y="495"/>
                </a:cubicBezTo>
                <a:cubicBezTo>
                  <a:pt x="1023" y="486"/>
                  <a:pt x="1024" y="478"/>
                  <a:pt x="1025" y="470"/>
                </a:cubicBezTo>
                <a:cubicBezTo>
                  <a:pt x="1026" y="461"/>
                  <a:pt x="1027" y="453"/>
                  <a:pt x="1027" y="445"/>
                </a:cubicBezTo>
                <a:cubicBezTo>
                  <a:pt x="1028" y="448"/>
                  <a:pt x="1027" y="439"/>
                  <a:pt x="1027" y="440"/>
                </a:cubicBezTo>
                <a:cubicBezTo>
                  <a:pt x="1028" y="439"/>
                  <a:pt x="1028" y="439"/>
                  <a:pt x="1028" y="439"/>
                </a:cubicBezTo>
                <a:cubicBezTo>
                  <a:pt x="1028" y="438"/>
                  <a:pt x="1028" y="438"/>
                  <a:pt x="1028" y="438"/>
                </a:cubicBezTo>
                <a:cubicBezTo>
                  <a:pt x="1028" y="436"/>
                  <a:pt x="1028" y="436"/>
                  <a:pt x="1028" y="436"/>
                </a:cubicBezTo>
                <a:cubicBezTo>
                  <a:pt x="1028" y="432"/>
                  <a:pt x="1028" y="432"/>
                  <a:pt x="1028" y="432"/>
                </a:cubicBezTo>
                <a:cubicBezTo>
                  <a:pt x="1028" y="429"/>
                  <a:pt x="1028" y="426"/>
                  <a:pt x="1029" y="423"/>
                </a:cubicBezTo>
                <a:cubicBezTo>
                  <a:pt x="1029" y="418"/>
                  <a:pt x="1029" y="418"/>
                  <a:pt x="1029" y="418"/>
                </a:cubicBezTo>
                <a:cubicBezTo>
                  <a:pt x="1029" y="418"/>
                  <a:pt x="1029" y="416"/>
                  <a:pt x="1029" y="415"/>
                </a:cubicBezTo>
                <a:cubicBezTo>
                  <a:pt x="1029" y="412"/>
                  <a:pt x="1029" y="412"/>
                  <a:pt x="1029" y="412"/>
                </a:cubicBezTo>
                <a:cubicBezTo>
                  <a:pt x="1029" y="407"/>
                  <a:pt x="1029" y="403"/>
                  <a:pt x="1029" y="398"/>
                </a:cubicBezTo>
                <a:cubicBezTo>
                  <a:pt x="1029" y="393"/>
                  <a:pt x="1029" y="389"/>
                  <a:pt x="1029" y="384"/>
                </a:cubicBezTo>
                <a:cubicBezTo>
                  <a:pt x="1028" y="382"/>
                  <a:pt x="1028" y="380"/>
                  <a:pt x="1028" y="378"/>
                </a:cubicBezTo>
                <a:cubicBezTo>
                  <a:pt x="1028" y="372"/>
                  <a:pt x="1028" y="372"/>
                  <a:pt x="1028" y="372"/>
                </a:cubicBezTo>
                <a:cubicBezTo>
                  <a:pt x="1027" y="365"/>
                  <a:pt x="1027" y="357"/>
                  <a:pt x="1026" y="349"/>
                </a:cubicBezTo>
                <a:cubicBezTo>
                  <a:pt x="1025" y="341"/>
                  <a:pt x="1024" y="334"/>
                  <a:pt x="1024" y="326"/>
                </a:cubicBezTo>
                <a:cubicBezTo>
                  <a:pt x="1023" y="319"/>
                  <a:pt x="1021" y="311"/>
                  <a:pt x="1020" y="304"/>
                </a:cubicBezTo>
                <a:cubicBezTo>
                  <a:pt x="1019" y="297"/>
                  <a:pt x="1017" y="290"/>
                  <a:pt x="1016" y="283"/>
                </a:cubicBezTo>
                <a:cubicBezTo>
                  <a:pt x="1014" y="276"/>
                  <a:pt x="1013" y="269"/>
                  <a:pt x="1011" y="262"/>
                </a:cubicBezTo>
                <a:cubicBezTo>
                  <a:pt x="1009" y="255"/>
                  <a:pt x="1007" y="248"/>
                  <a:pt x="1005" y="242"/>
                </a:cubicBezTo>
                <a:cubicBezTo>
                  <a:pt x="1004" y="238"/>
                  <a:pt x="1004" y="235"/>
                  <a:pt x="1003" y="232"/>
                </a:cubicBezTo>
                <a:cubicBezTo>
                  <a:pt x="1002" y="229"/>
                  <a:pt x="1000" y="226"/>
                  <a:pt x="999" y="222"/>
                </a:cubicBezTo>
                <a:cubicBezTo>
                  <a:pt x="983" y="172"/>
                  <a:pt x="961" y="130"/>
                  <a:pt x="941" y="97"/>
                </a:cubicBezTo>
                <a:cubicBezTo>
                  <a:pt x="921" y="64"/>
                  <a:pt x="901" y="40"/>
                  <a:pt x="888" y="24"/>
                </a:cubicBezTo>
                <a:cubicBezTo>
                  <a:pt x="881" y="16"/>
                  <a:pt x="876" y="10"/>
                  <a:pt x="872" y="6"/>
                </a:cubicBezTo>
                <a:cubicBezTo>
                  <a:pt x="869" y="2"/>
                  <a:pt x="867" y="0"/>
                  <a:pt x="867" y="0"/>
                </a:cubicBezTo>
                <a:cubicBezTo>
                  <a:pt x="610" y="275"/>
                  <a:pt x="610" y="275"/>
                  <a:pt x="610" y="275"/>
                </a:cubicBezTo>
                <a:cubicBezTo>
                  <a:pt x="610" y="275"/>
                  <a:pt x="614" y="277"/>
                  <a:pt x="621" y="282"/>
                </a:cubicBezTo>
                <a:cubicBezTo>
                  <a:pt x="627" y="287"/>
                  <a:pt x="637" y="294"/>
                  <a:pt x="648" y="306"/>
                </a:cubicBezTo>
                <a:cubicBezTo>
                  <a:pt x="659" y="317"/>
                  <a:pt x="671" y="332"/>
                  <a:pt x="683" y="351"/>
                </a:cubicBezTo>
                <a:cubicBezTo>
                  <a:pt x="684" y="352"/>
                  <a:pt x="685" y="353"/>
                  <a:pt x="685" y="354"/>
                </a:cubicBezTo>
                <a:cubicBezTo>
                  <a:pt x="686" y="356"/>
                  <a:pt x="687" y="357"/>
                  <a:pt x="687" y="358"/>
                </a:cubicBezTo>
                <a:cubicBezTo>
                  <a:pt x="689" y="361"/>
                  <a:pt x="690" y="363"/>
                  <a:pt x="692" y="366"/>
                </a:cubicBezTo>
                <a:cubicBezTo>
                  <a:pt x="693" y="369"/>
                  <a:pt x="694" y="372"/>
                  <a:pt x="696" y="374"/>
                </a:cubicBezTo>
                <a:cubicBezTo>
                  <a:pt x="697" y="377"/>
                  <a:pt x="698" y="380"/>
                  <a:pt x="700" y="383"/>
                </a:cubicBezTo>
                <a:cubicBezTo>
                  <a:pt x="701" y="386"/>
                  <a:pt x="702" y="389"/>
                  <a:pt x="703" y="392"/>
                </a:cubicBezTo>
                <a:cubicBezTo>
                  <a:pt x="704" y="395"/>
                  <a:pt x="705" y="399"/>
                  <a:pt x="707" y="402"/>
                </a:cubicBezTo>
                <a:cubicBezTo>
                  <a:pt x="708" y="408"/>
                  <a:pt x="710" y="414"/>
                  <a:pt x="712" y="420"/>
                </a:cubicBezTo>
                <a:cubicBezTo>
                  <a:pt x="713" y="422"/>
                  <a:pt x="713" y="423"/>
                  <a:pt x="713" y="424"/>
                </a:cubicBezTo>
                <a:cubicBezTo>
                  <a:pt x="714" y="425"/>
                  <a:pt x="714" y="425"/>
                  <a:pt x="714" y="425"/>
                </a:cubicBezTo>
                <a:cubicBezTo>
                  <a:pt x="714" y="426"/>
                  <a:pt x="714" y="426"/>
                  <a:pt x="714" y="427"/>
                </a:cubicBezTo>
                <a:cubicBezTo>
                  <a:pt x="715" y="431"/>
                  <a:pt x="715" y="431"/>
                  <a:pt x="715" y="431"/>
                </a:cubicBezTo>
                <a:cubicBezTo>
                  <a:pt x="715" y="434"/>
                  <a:pt x="715" y="437"/>
                  <a:pt x="716" y="440"/>
                </a:cubicBezTo>
                <a:cubicBezTo>
                  <a:pt x="716" y="444"/>
                  <a:pt x="716" y="444"/>
                  <a:pt x="716" y="444"/>
                </a:cubicBezTo>
                <a:cubicBezTo>
                  <a:pt x="716" y="447"/>
                  <a:pt x="716" y="447"/>
                  <a:pt x="716" y="447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9"/>
                  <a:pt x="717" y="441"/>
                  <a:pt x="717" y="445"/>
                </a:cubicBezTo>
                <a:cubicBezTo>
                  <a:pt x="717" y="448"/>
                  <a:pt x="718" y="452"/>
                  <a:pt x="718" y="456"/>
                </a:cubicBezTo>
                <a:cubicBezTo>
                  <a:pt x="719" y="460"/>
                  <a:pt x="719" y="464"/>
                  <a:pt x="719" y="468"/>
                </a:cubicBezTo>
                <a:cubicBezTo>
                  <a:pt x="720" y="484"/>
                  <a:pt x="719" y="501"/>
                  <a:pt x="717" y="519"/>
                </a:cubicBezTo>
                <a:cubicBezTo>
                  <a:pt x="713" y="553"/>
                  <a:pt x="701" y="590"/>
                  <a:pt x="680" y="625"/>
                </a:cubicBezTo>
                <a:cubicBezTo>
                  <a:pt x="670" y="642"/>
                  <a:pt x="657" y="659"/>
                  <a:pt x="642" y="675"/>
                </a:cubicBezTo>
                <a:cubicBezTo>
                  <a:pt x="628" y="691"/>
                  <a:pt x="611" y="705"/>
                  <a:pt x="592" y="718"/>
                </a:cubicBezTo>
                <a:cubicBezTo>
                  <a:pt x="574" y="731"/>
                  <a:pt x="554" y="742"/>
                  <a:pt x="532" y="750"/>
                </a:cubicBezTo>
                <a:cubicBezTo>
                  <a:pt x="527" y="752"/>
                  <a:pt x="521" y="754"/>
                  <a:pt x="516" y="756"/>
                </a:cubicBezTo>
                <a:cubicBezTo>
                  <a:pt x="510" y="758"/>
                  <a:pt x="504" y="760"/>
                  <a:pt x="499" y="761"/>
                </a:cubicBezTo>
                <a:cubicBezTo>
                  <a:pt x="490" y="763"/>
                  <a:pt x="490" y="763"/>
                  <a:pt x="490" y="763"/>
                </a:cubicBezTo>
                <a:cubicBezTo>
                  <a:pt x="486" y="765"/>
                  <a:pt x="486" y="765"/>
                  <a:pt x="486" y="765"/>
                </a:cubicBezTo>
                <a:cubicBezTo>
                  <a:pt x="482" y="765"/>
                  <a:pt x="482" y="765"/>
                  <a:pt x="482" y="765"/>
                </a:cubicBezTo>
                <a:cubicBezTo>
                  <a:pt x="476" y="766"/>
                  <a:pt x="473" y="768"/>
                  <a:pt x="464" y="769"/>
                </a:cubicBezTo>
                <a:cubicBezTo>
                  <a:pt x="453" y="770"/>
                  <a:pt x="453" y="770"/>
                  <a:pt x="453" y="770"/>
                </a:cubicBezTo>
                <a:cubicBezTo>
                  <a:pt x="451" y="770"/>
                  <a:pt x="451" y="770"/>
                  <a:pt x="451" y="770"/>
                </a:cubicBezTo>
                <a:cubicBezTo>
                  <a:pt x="450" y="770"/>
                  <a:pt x="450" y="770"/>
                  <a:pt x="450" y="770"/>
                </a:cubicBezTo>
                <a:cubicBezTo>
                  <a:pt x="450" y="770"/>
                  <a:pt x="454" y="770"/>
                  <a:pt x="452" y="770"/>
                </a:cubicBezTo>
                <a:cubicBezTo>
                  <a:pt x="450" y="771"/>
                  <a:pt x="450" y="771"/>
                  <a:pt x="450" y="771"/>
                </a:cubicBezTo>
                <a:cubicBezTo>
                  <a:pt x="445" y="771"/>
                  <a:pt x="445" y="771"/>
                  <a:pt x="445" y="771"/>
                </a:cubicBezTo>
                <a:cubicBezTo>
                  <a:pt x="436" y="772"/>
                  <a:pt x="436" y="772"/>
                  <a:pt x="436" y="772"/>
                </a:cubicBezTo>
                <a:cubicBezTo>
                  <a:pt x="427" y="772"/>
                  <a:pt x="427" y="772"/>
                  <a:pt x="427" y="772"/>
                </a:cubicBezTo>
                <a:cubicBezTo>
                  <a:pt x="424" y="772"/>
                  <a:pt x="421" y="773"/>
                  <a:pt x="418" y="773"/>
                </a:cubicBezTo>
                <a:cubicBezTo>
                  <a:pt x="409" y="773"/>
                  <a:pt x="409" y="773"/>
                  <a:pt x="409" y="773"/>
                </a:cubicBezTo>
                <a:cubicBezTo>
                  <a:pt x="403" y="773"/>
                  <a:pt x="396" y="772"/>
                  <a:pt x="390" y="772"/>
                </a:cubicBezTo>
                <a:cubicBezTo>
                  <a:pt x="366" y="770"/>
                  <a:pt x="341" y="766"/>
                  <a:pt x="317" y="758"/>
                </a:cubicBezTo>
                <a:cubicBezTo>
                  <a:pt x="270" y="744"/>
                  <a:pt x="225" y="719"/>
                  <a:pt x="187" y="686"/>
                </a:cubicBezTo>
                <a:cubicBezTo>
                  <a:pt x="150" y="653"/>
                  <a:pt x="120" y="612"/>
                  <a:pt x="99" y="569"/>
                </a:cubicBezTo>
                <a:cubicBezTo>
                  <a:pt x="89" y="548"/>
                  <a:pt x="81" y="526"/>
                  <a:pt x="75" y="503"/>
                </a:cubicBezTo>
                <a:cubicBezTo>
                  <a:pt x="74" y="498"/>
                  <a:pt x="73" y="492"/>
                  <a:pt x="71" y="487"/>
                </a:cubicBezTo>
                <a:cubicBezTo>
                  <a:pt x="71" y="484"/>
                  <a:pt x="70" y="481"/>
                  <a:pt x="70" y="479"/>
                </a:cubicBezTo>
                <a:cubicBezTo>
                  <a:pt x="69" y="476"/>
                  <a:pt x="69" y="474"/>
                  <a:pt x="68" y="471"/>
                </a:cubicBezTo>
                <a:cubicBezTo>
                  <a:pt x="67" y="467"/>
                  <a:pt x="67" y="467"/>
                  <a:pt x="67" y="467"/>
                </a:cubicBezTo>
                <a:cubicBezTo>
                  <a:pt x="67" y="465"/>
                  <a:pt x="67" y="465"/>
                  <a:pt x="67" y="465"/>
                </a:cubicBezTo>
                <a:cubicBezTo>
                  <a:pt x="67" y="463"/>
                  <a:pt x="67" y="463"/>
                  <a:pt x="67" y="463"/>
                </a:cubicBezTo>
                <a:cubicBezTo>
                  <a:pt x="66" y="460"/>
                  <a:pt x="66" y="457"/>
                  <a:pt x="66" y="454"/>
                </a:cubicBezTo>
                <a:cubicBezTo>
                  <a:pt x="65" y="451"/>
                  <a:pt x="65" y="448"/>
                  <a:pt x="65" y="445"/>
                </a:cubicBezTo>
                <a:cubicBezTo>
                  <a:pt x="65" y="444"/>
                  <a:pt x="65" y="444"/>
                  <a:pt x="65" y="444"/>
                </a:cubicBezTo>
                <a:cubicBezTo>
                  <a:pt x="65" y="443"/>
                  <a:pt x="65" y="443"/>
                  <a:pt x="65" y="443"/>
                </a:cubicBezTo>
                <a:cubicBezTo>
                  <a:pt x="65" y="445"/>
                  <a:pt x="65" y="444"/>
                  <a:pt x="64" y="444"/>
                </a:cubicBezTo>
                <a:cubicBezTo>
                  <a:pt x="64" y="442"/>
                  <a:pt x="64" y="442"/>
                  <a:pt x="64" y="442"/>
                </a:cubicBezTo>
                <a:cubicBezTo>
                  <a:pt x="64" y="438"/>
                  <a:pt x="64" y="438"/>
                  <a:pt x="64" y="438"/>
                </a:cubicBezTo>
                <a:cubicBezTo>
                  <a:pt x="64" y="432"/>
                  <a:pt x="63" y="427"/>
                  <a:pt x="63" y="422"/>
                </a:cubicBezTo>
                <a:cubicBezTo>
                  <a:pt x="63" y="416"/>
                  <a:pt x="63" y="411"/>
                  <a:pt x="63" y="406"/>
                </a:cubicBezTo>
                <a:cubicBezTo>
                  <a:pt x="63" y="395"/>
                  <a:pt x="63" y="385"/>
                  <a:pt x="64" y="375"/>
                </a:cubicBezTo>
                <a:cubicBezTo>
                  <a:pt x="65" y="355"/>
                  <a:pt x="68" y="336"/>
                  <a:pt x="72" y="319"/>
                </a:cubicBezTo>
                <a:cubicBezTo>
                  <a:pt x="73" y="317"/>
                  <a:pt x="73" y="314"/>
                  <a:pt x="74" y="312"/>
                </a:cubicBezTo>
                <a:cubicBezTo>
                  <a:pt x="74" y="310"/>
                  <a:pt x="75" y="308"/>
                  <a:pt x="75" y="306"/>
                </a:cubicBezTo>
                <a:cubicBezTo>
                  <a:pt x="76" y="302"/>
                  <a:pt x="78" y="297"/>
                  <a:pt x="79" y="293"/>
                </a:cubicBezTo>
                <a:cubicBezTo>
                  <a:pt x="80" y="289"/>
                  <a:pt x="81" y="285"/>
                  <a:pt x="82" y="281"/>
                </a:cubicBezTo>
                <a:cubicBezTo>
                  <a:pt x="83" y="279"/>
                  <a:pt x="84" y="277"/>
                  <a:pt x="84" y="276"/>
                </a:cubicBezTo>
                <a:cubicBezTo>
                  <a:pt x="85" y="274"/>
                  <a:pt x="86" y="272"/>
                  <a:pt x="86" y="270"/>
                </a:cubicBezTo>
                <a:cubicBezTo>
                  <a:pt x="88" y="266"/>
                  <a:pt x="89" y="263"/>
                  <a:pt x="90" y="259"/>
                </a:cubicBezTo>
                <a:cubicBezTo>
                  <a:pt x="92" y="255"/>
                  <a:pt x="93" y="252"/>
                  <a:pt x="95" y="249"/>
                </a:cubicBezTo>
                <a:cubicBezTo>
                  <a:pt x="96" y="245"/>
                  <a:pt x="98" y="242"/>
                  <a:pt x="99" y="239"/>
                </a:cubicBezTo>
                <a:cubicBezTo>
                  <a:pt x="101" y="236"/>
                  <a:pt x="102" y="233"/>
                  <a:pt x="103" y="230"/>
                </a:cubicBezTo>
                <a:cubicBezTo>
                  <a:pt x="115" y="206"/>
                  <a:pt x="127" y="188"/>
                  <a:pt x="135" y="176"/>
                </a:cubicBezTo>
                <a:cubicBezTo>
                  <a:pt x="139" y="170"/>
                  <a:pt x="142" y="166"/>
                  <a:pt x="145" y="163"/>
                </a:cubicBezTo>
                <a:cubicBezTo>
                  <a:pt x="147" y="160"/>
                  <a:pt x="148" y="158"/>
                  <a:pt x="148" y="158"/>
                </a:cubicBezTo>
                <a:lnTo>
                  <a:pt x="145" y="15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"/>
          <p:cNvSpPr/>
          <p:nvPr/>
        </p:nvSpPr>
        <p:spPr>
          <a:xfrm>
            <a:off x="2419200" y="2768760"/>
            <a:ext cx="3122640" cy="2408040"/>
          </a:xfrm>
          <a:custGeom>
            <a:avLst/>
            <a:gdLst>
              <a:gd name="textAreaLeft" fmla="*/ 0 w 3122640"/>
              <a:gd name="textAreaRight" fmla="*/ 3123000 w 3122640"/>
              <a:gd name="textAreaTop" fmla="*/ 0 h 2408040"/>
              <a:gd name="textAreaBottom" fmla="*/ 2408400 h 2408040"/>
            </a:gdLst>
            <a:ahLst/>
            <a:rect l="textAreaLeft" t="textAreaTop" r="textAreaRight" b="textAreaBottom"/>
            <a:pathLst>
              <a:path w="1067" h="823">
                <a:moveTo>
                  <a:pt x="152" y="0"/>
                </a:moveTo>
                <a:cubicBezTo>
                  <a:pt x="152" y="0"/>
                  <a:pt x="147" y="4"/>
                  <a:pt x="138" y="12"/>
                </a:cubicBezTo>
                <a:cubicBezTo>
                  <a:pt x="134" y="16"/>
                  <a:pt x="129" y="22"/>
                  <a:pt x="122" y="28"/>
                </a:cubicBezTo>
                <a:cubicBezTo>
                  <a:pt x="116" y="34"/>
                  <a:pt x="109" y="42"/>
                  <a:pt x="102" y="51"/>
                </a:cubicBezTo>
                <a:cubicBezTo>
                  <a:pt x="87" y="68"/>
                  <a:pt x="70" y="91"/>
                  <a:pt x="55" y="120"/>
                </a:cubicBezTo>
                <a:cubicBezTo>
                  <a:pt x="39" y="148"/>
                  <a:pt x="24" y="183"/>
                  <a:pt x="14" y="223"/>
                </a:cubicBezTo>
                <a:cubicBezTo>
                  <a:pt x="9" y="243"/>
                  <a:pt x="5" y="265"/>
                  <a:pt x="2" y="287"/>
                </a:cubicBezTo>
                <a:cubicBezTo>
                  <a:pt x="2" y="293"/>
                  <a:pt x="1" y="298"/>
                  <a:pt x="1" y="304"/>
                </a:cubicBezTo>
                <a:cubicBezTo>
                  <a:pt x="1" y="306"/>
                  <a:pt x="0" y="309"/>
                  <a:pt x="0" y="312"/>
                </a:cubicBezTo>
                <a:cubicBezTo>
                  <a:pt x="0" y="315"/>
                  <a:pt x="0" y="318"/>
                  <a:pt x="0" y="321"/>
                </a:cubicBezTo>
                <a:cubicBezTo>
                  <a:pt x="0" y="324"/>
                  <a:pt x="0" y="327"/>
                  <a:pt x="0" y="330"/>
                </a:cubicBezTo>
                <a:cubicBezTo>
                  <a:pt x="0" y="333"/>
                  <a:pt x="0" y="336"/>
                  <a:pt x="0" y="339"/>
                </a:cubicBezTo>
                <a:cubicBezTo>
                  <a:pt x="0" y="345"/>
                  <a:pt x="0" y="351"/>
                  <a:pt x="0" y="357"/>
                </a:cubicBezTo>
                <a:cubicBezTo>
                  <a:pt x="3" y="406"/>
                  <a:pt x="13" y="458"/>
                  <a:pt x="33" y="509"/>
                </a:cubicBezTo>
                <a:cubicBezTo>
                  <a:pt x="54" y="561"/>
                  <a:pt x="84" y="611"/>
                  <a:pt x="124" y="655"/>
                </a:cubicBezTo>
                <a:cubicBezTo>
                  <a:pt x="164" y="700"/>
                  <a:pt x="214" y="738"/>
                  <a:pt x="270" y="766"/>
                </a:cubicBezTo>
                <a:cubicBezTo>
                  <a:pt x="326" y="795"/>
                  <a:pt x="389" y="814"/>
                  <a:pt x="452" y="820"/>
                </a:cubicBezTo>
                <a:cubicBezTo>
                  <a:pt x="458" y="820"/>
                  <a:pt x="458" y="820"/>
                  <a:pt x="458" y="820"/>
                </a:cubicBezTo>
                <a:cubicBezTo>
                  <a:pt x="459" y="821"/>
                  <a:pt x="459" y="821"/>
                  <a:pt x="459" y="821"/>
                </a:cubicBezTo>
                <a:cubicBezTo>
                  <a:pt x="457" y="821"/>
                  <a:pt x="463" y="821"/>
                  <a:pt x="463" y="821"/>
                </a:cubicBezTo>
                <a:cubicBezTo>
                  <a:pt x="464" y="821"/>
                  <a:pt x="464" y="821"/>
                  <a:pt x="464" y="821"/>
                </a:cubicBezTo>
                <a:cubicBezTo>
                  <a:pt x="466" y="821"/>
                  <a:pt x="466" y="821"/>
                  <a:pt x="466" y="821"/>
                </a:cubicBezTo>
                <a:cubicBezTo>
                  <a:pt x="476" y="822"/>
                  <a:pt x="476" y="822"/>
                  <a:pt x="476" y="822"/>
                </a:cubicBezTo>
                <a:cubicBezTo>
                  <a:pt x="480" y="822"/>
                  <a:pt x="480" y="822"/>
                  <a:pt x="480" y="822"/>
                </a:cubicBezTo>
                <a:cubicBezTo>
                  <a:pt x="483" y="822"/>
                  <a:pt x="483" y="822"/>
                  <a:pt x="483" y="822"/>
                </a:cubicBezTo>
                <a:cubicBezTo>
                  <a:pt x="483" y="822"/>
                  <a:pt x="484" y="822"/>
                  <a:pt x="485" y="822"/>
                </a:cubicBezTo>
                <a:cubicBezTo>
                  <a:pt x="499" y="823"/>
                  <a:pt x="499" y="823"/>
                  <a:pt x="499" y="823"/>
                </a:cubicBezTo>
                <a:cubicBezTo>
                  <a:pt x="512" y="823"/>
                  <a:pt x="512" y="823"/>
                  <a:pt x="512" y="823"/>
                </a:cubicBezTo>
                <a:cubicBezTo>
                  <a:pt x="514" y="823"/>
                  <a:pt x="516" y="823"/>
                  <a:pt x="518" y="823"/>
                </a:cubicBezTo>
                <a:cubicBezTo>
                  <a:pt x="524" y="822"/>
                  <a:pt x="524" y="822"/>
                  <a:pt x="524" y="822"/>
                </a:cubicBezTo>
                <a:cubicBezTo>
                  <a:pt x="532" y="822"/>
                  <a:pt x="540" y="822"/>
                  <a:pt x="548" y="821"/>
                </a:cubicBezTo>
                <a:cubicBezTo>
                  <a:pt x="556" y="820"/>
                  <a:pt x="564" y="820"/>
                  <a:pt x="572" y="819"/>
                </a:cubicBezTo>
                <a:cubicBezTo>
                  <a:pt x="579" y="818"/>
                  <a:pt x="587" y="817"/>
                  <a:pt x="595" y="816"/>
                </a:cubicBezTo>
                <a:cubicBezTo>
                  <a:pt x="603" y="814"/>
                  <a:pt x="611" y="813"/>
                  <a:pt x="619" y="811"/>
                </a:cubicBezTo>
                <a:cubicBezTo>
                  <a:pt x="626" y="810"/>
                  <a:pt x="634" y="808"/>
                  <a:pt x="642" y="806"/>
                </a:cubicBezTo>
                <a:cubicBezTo>
                  <a:pt x="702" y="790"/>
                  <a:pt x="760" y="764"/>
                  <a:pt x="809" y="731"/>
                </a:cubicBezTo>
                <a:cubicBezTo>
                  <a:pt x="858" y="699"/>
                  <a:pt x="900" y="660"/>
                  <a:pt x="934" y="619"/>
                </a:cubicBezTo>
                <a:cubicBezTo>
                  <a:pt x="936" y="616"/>
                  <a:pt x="938" y="614"/>
                  <a:pt x="940" y="611"/>
                </a:cubicBezTo>
                <a:cubicBezTo>
                  <a:pt x="942" y="609"/>
                  <a:pt x="944" y="606"/>
                  <a:pt x="946" y="604"/>
                </a:cubicBezTo>
                <a:cubicBezTo>
                  <a:pt x="950" y="598"/>
                  <a:pt x="954" y="593"/>
                  <a:pt x="958" y="588"/>
                </a:cubicBezTo>
                <a:cubicBezTo>
                  <a:pt x="965" y="578"/>
                  <a:pt x="972" y="568"/>
                  <a:pt x="979" y="557"/>
                </a:cubicBezTo>
                <a:cubicBezTo>
                  <a:pt x="982" y="552"/>
                  <a:pt x="985" y="547"/>
                  <a:pt x="988" y="542"/>
                </a:cubicBezTo>
                <a:cubicBezTo>
                  <a:pt x="991" y="536"/>
                  <a:pt x="994" y="531"/>
                  <a:pt x="997" y="526"/>
                </a:cubicBezTo>
                <a:cubicBezTo>
                  <a:pt x="1002" y="516"/>
                  <a:pt x="1007" y="506"/>
                  <a:pt x="1012" y="496"/>
                </a:cubicBezTo>
                <a:cubicBezTo>
                  <a:pt x="1031" y="456"/>
                  <a:pt x="1043" y="419"/>
                  <a:pt x="1050" y="388"/>
                </a:cubicBezTo>
                <a:cubicBezTo>
                  <a:pt x="1053" y="380"/>
                  <a:pt x="1054" y="373"/>
                  <a:pt x="1056" y="366"/>
                </a:cubicBezTo>
                <a:cubicBezTo>
                  <a:pt x="1057" y="359"/>
                  <a:pt x="1059" y="352"/>
                  <a:pt x="1059" y="346"/>
                </a:cubicBezTo>
                <a:cubicBezTo>
                  <a:pt x="1061" y="334"/>
                  <a:pt x="1063" y="323"/>
                  <a:pt x="1064" y="315"/>
                </a:cubicBezTo>
                <a:cubicBezTo>
                  <a:pt x="1066" y="297"/>
                  <a:pt x="1067" y="288"/>
                  <a:pt x="1067" y="288"/>
                </a:cubicBezTo>
                <a:cubicBezTo>
                  <a:pt x="691" y="288"/>
                  <a:pt x="691" y="288"/>
                  <a:pt x="691" y="288"/>
                </a:cubicBezTo>
                <a:cubicBezTo>
                  <a:pt x="691" y="288"/>
                  <a:pt x="692" y="292"/>
                  <a:pt x="693" y="299"/>
                </a:cubicBezTo>
                <a:cubicBezTo>
                  <a:pt x="694" y="302"/>
                  <a:pt x="694" y="306"/>
                  <a:pt x="695" y="311"/>
                </a:cubicBezTo>
                <a:cubicBezTo>
                  <a:pt x="695" y="314"/>
                  <a:pt x="695" y="316"/>
                  <a:pt x="695" y="319"/>
                </a:cubicBezTo>
                <a:cubicBezTo>
                  <a:pt x="696" y="322"/>
                  <a:pt x="696" y="325"/>
                  <a:pt x="696" y="328"/>
                </a:cubicBezTo>
                <a:cubicBezTo>
                  <a:pt x="696" y="341"/>
                  <a:pt x="696" y="357"/>
                  <a:pt x="693" y="376"/>
                </a:cubicBezTo>
                <a:cubicBezTo>
                  <a:pt x="692" y="380"/>
                  <a:pt x="691" y="385"/>
                  <a:pt x="690" y="390"/>
                </a:cubicBezTo>
                <a:cubicBezTo>
                  <a:pt x="689" y="392"/>
                  <a:pt x="688" y="395"/>
                  <a:pt x="688" y="398"/>
                </a:cubicBezTo>
                <a:cubicBezTo>
                  <a:pt x="687" y="400"/>
                  <a:pt x="686" y="403"/>
                  <a:pt x="686" y="405"/>
                </a:cubicBezTo>
                <a:cubicBezTo>
                  <a:pt x="684" y="410"/>
                  <a:pt x="682" y="415"/>
                  <a:pt x="680" y="421"/>
                </a:cubicBezTo>
                <a:cubicBezTo>
                  <a:pt x="679" y="424"/>
                  <a:pt x="678" y="426"/>
                  <a:pt x="677" y="429"/>
                </a:cubicBezTo>
                <a:cubicBezTo>
                  <a:pt x="677" y="430"/>
                  <a:pt x="676" y="432"/>
                  <a:pt x="675" y="433"/>
                </a:cubicBezTo>
                <a:cubicBezTo>
                  <a:pt x="675" y="434"/>
                  <a:pt x="674" y="436"/>
                  <a:pt x="673" y="437"/>
                </a:cubicBezTo>
                <a:cubicBezTo>
                  <a:pt x="669" y="448"/>
                  <a:pt x="662" y="459"/>
                  <a:pt x="655" y="471"/>
                </a:cubicBezTo>
                <a:cubicBezTo>
                  <a:pt x="648" y="482"/>
                  <a:pt x="639" y="493"/>
                  <a:pt x="629" y="504"/>
                </a:cubicBezTo>
                <a:cubicBezTo>
                  <a:pt x="610" y="526"/>
                  <a:pt x="585" y="546"/>
                  <a:pt x="556" y="562"/>
                </a:cubicBezTo>
                <a:cubicBezTo>
                  <a:pt x="541" y="571"/>
                  <a:pt x="525" y="578"/>
                  <a:pt x="509" y="583"/>
                </a:cubicBezTo>
                <a:cubicBezTo>
                  <a:pt x="504" y="585"/>
                  <a:pt x="500" y="586"/>
                  <a:pt x="496" y="587"/>
                </a:cubicBezTo>
                <a:cubicBezTo>
                  <a:pt x="493" y="588"/>
                  <a:pt x="493" y="588"/>
                  <a:pt x="493" y="588"/>
                </a:cubicBezTo>
                <a:cubicBezTo>
                  <a:pt x="491" y="588"/>
                  <a:pt x="490" y="589"/>
                  <a:pt x="489" y="589"/>
                </a:cubicBezTo>
                <a:cubicBezTo>
                  <a:pt x="484" y="590"/>
                  <a:pt x="484" y="590"/>
                  <a:pt x="484" y="590"/>
                </a:cubicBezTo>
                <a:cubicBezTo>
                  <a:pt x="479" y="592"/>
                  <a:pt x="479" y="592"/>
                  <a:pt x="479" y="592"/>
                </a:cubicBezTo>
                <a:cubicBezTo>
                  <a:pt x="478" y="592"/>
                  <a:pt x="478" y="592"/>
                  <a:pt x="477" y="592"/>
                </a:cubicBezTo>
                <a:cubicBezTo>
                  <a:pt x="474" y="593"/>
                  <a:pt x="474" y="593"/>
                  <a:pt x="474" y="593"/>
                </a:cubicBezTo>
                <a:cubicBezTo>
                  <a:pt x="470" y="593"/>
                  <a:pt x="470" y="593"/>
                  <a:pt x="470" y="593"/>
                </a:cubicBezTo>
                <a:cubicBezTo>
                  <a:pt x="460" y="594"/>
                  <a:pt x="460" y="594"/>
                  <a:pt x="460" y="594"/>
                </a:cubicBezTo>
                <a:cubicBezTo>
                  <a:pt x="458" y="595"/>
                  <a:pt x="458" y="595"/>
                  <a:pt x="458" y="595"/>
                </a:cubicBezTo>
                <a:cubicBezTo>
                  <a:pt x="457" y="595"/>
                  <a:pt x="457" y="595"/>
                  <a:pt x="457" y="595"/>
                </a:cubicBezTo>
                <a:cubicBezTo>
                  <a:pt x="456" y="595"/>
                  <a:pt x="462" y="595"/>
                  <a:pt x="459" y="595"/>
                </a:cubicBezTo>
                <a:cubicBezTo>
                  <a:pt x="459" y="595"/>
                  <a:pt x="459" y="595"/>
                  <a:pt x="459" y="595"/>
                </a:cubicBezTo>
                <a:cubicBezTo>
                  <a:pt x="455" y="595"/>
                  <a:pt x="455" y="595"/>
                  <a:pt x="455" y="595"/>
                </a:cubicBezTo>
                <a:cubicBezTo>
                  <a:pt x="418" y="601"/>
                  <a:pt x="379" y="599"/>
                  <a:pt x="340" y="590"/>
                </a:cubicBezTo>
                <a:cubicBezTo>
                  <a:pt x="301" y="581"/>
                  <a:pt x="263" y="564"/>
                  <a:pt x="229" y="541"/>
                </a:cubicBezTo>
                <a:cubicBezTo>
                  <a:pt x="195" y="517"/>
                  <a:pt x="165" y="487"/>
                  <a:pt x="141" y="454"/>
                </a:cubicBezTo>
                <a:cubicBezTo>
                  <a:pt x="117" y="420"/>
                  <a:pt x="100" y="382"/>
                  <a:pt x="89" y="344"/>
                </a:cubicBezTo>
                <a:cubicBezTo>
                  <a:pt x="88" y="339"/>
                  <a:pt x="87" y="335"/>
                  <a:pt x="85" y="330"/>
                </a:cubicBezTo>
                <a:cubicBezTo>
                  <a:pt x="85" y="327"/>
                  <a:pt x="84" y="325"/>
                  <a:pt x="84" y="323"/>
                </a:cubicBezTo>
                <a:cubicBezTo>
                  <a:pt x="83" y="321"/>
                  <a:pt x="83" y="318"/>
                  <a:pt x="82" y="316"/>
                </a:cubicBezTo>
                <a:cubicBezTo>
                  <a:pt x="82" y="314"/>
                  <a:pt x="81" y="312"/>
                  <a:pt x="81" y="310"/>
                </a:cubicBezTo>
                <a:cubicBezTo>
                  <a:pt x="80" y="307"/>
                  <a:pt x="80" y="304"/>
                  <a:pt x="80" y="302"/>
                </a:cubicBezTo>
                <a:cubicBezTo>
                  <a:pt x="79" y="299"/>
                  <a:pt x="79" y="297"/>
                  <a:pt x="79" y="294"/>
                </a:cubicBezTo>
                <a:cubicBezTo>
                  <a:pt x="78" y="290"/>
                  <a:pt x="78" y="290"/>
                  <a:pt x="78" y="290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7"/>
                  <a:pt x="78" y="288"/>
                  <a:pt x="78" y="288"/>
                </a:cubicBezTo>
                <a:cubicBezTo>
                  <a:pt x="78" y="287"/>
                  <a:pt x="78" y="287"/>
                  <a:pt x="78" y="287"/>
                </a:cubicBezTo>
                <a:cubicBezTo>
                  <a:pt x="75" y="268"/>
                  <a:pt x="75" y="250"/>
                  <a:pt x="75" y="232"/>
                </a:cubicBezTo>
                <a:cubicBezTo>
                  <a:pt x="76" y="196"/>
                  <a:pt x="81" y="163"/>
                  <a:pt x="90" y="134"/>
                </a:cubicBezTo>
                <a:cubicBezTo>
                  <a:pt x="98" y="106"/>
                  <a:pt x="108" y="81"/>
                  <a:pt x="118" y="62"/>
                </a:cubicBezTo>
                <a:cubicBezTo>
                  <a:pt x="123" y="52"/>
                  <a:pt x="128" y="43"/>
                  <a:pt x="133" y="36"/>
                </a:cubicBezTo>
                <a:cubicBezTo>
                  <a:pt x="137" y="29"/>
                  <a:pt x="141" y="22"/>
                  <a:pt x="144" y="17"/>
                </a:cubicBezTo>
                <a:cubicBezTo>
                  <a:pt x="151" y="8"/>
                  <a:pt x="155" y="2"/>
                  <a:pt x="155" y="2"/>
                </a:cubicBezTo>
                <a:lnTo>
                  <a:pt x="152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2"/>
          <p:cNvSpPr/>
          <p:nvPr/>
        </p:nvSpPr>
        <p:spPr>
          <a:xfrm>
            <a:off x="2374920" y="2768760"/>
            <a:ext cx="2327400" cy="25272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795" h="863">
                <a:moveTo>
                  <a:pt x="167" y="0"/>
                </a:moveTo>
                <a:cubicBezTo>
                  <a:pt x="167" y="0"/>
                  <a:pt x="164" y="3"/>
                  <a:pt x="157" y="9"/>
                </a:cubicBezTo>
                <a:cubicBezTo>
                  <a:pt x="153" y="11"/>
                  <a:pt x="149" y="15"/>
                  <a:pt x="144" y="20"/>
                </a:cubicBezTo>
                <a:cubicBezTo>
                  <a:pt x="142" y="22"/>
                  <a:pt x="139" y="24"/>
                  <a:pt x="136" y="27"/>
                </a:cubicBezTo>
                <a:cubicBezTo>
                  <a:pt x="134" y="30"/>
                  <a:pt x="131" y="32"/>
                  <a:pt x="128" y="35"/>
                </a:cubicBezTo>
                <a:cubicBezTo>
                  <a:pt x="116" y="48"/>
                  <a:pt x="101" y="63"/>
                  <a:pt x="87" y="83"/>
                </a:cubicBezTo>
                <a:cubicBezTo>
                  <a:pt x="73" y="102"/>
                  <a:pt x="58" y="126"/>
                  <a:pt x="45" y="154"/>
                </a:cubicBezTo>
                <a:cubicBezTo>
                  <a:pt x="31" y="181"/>
                  <a:pt x="20" y="213"/>
                  <a:pt x="12" y="249"/>
                </a:cubicBezTo>
                <a:cubicBezTo>
                  <a:pt x="10" y="257"/>
                  <a:pt x="8" y="266"/>
                  <a:pt x="7" y="276"/>
                </a:cubicBezTo>
                <a:cubicBezTo>
                  <a:pt x="6" y="278"/>
                  <a:pt x="6" y="280"/>
                  <a:pt x="5" y="283"/>
                </a:cubicBezTo>
                <a:cubicBezTo>
                  <a:pt x="5" y="286"/>
                  <a:pt x="5" y="286"/>
                  <a:pt x="5" y="286"/>
                </a:cubicBezTo>
                <a:cubicBezTo>
                  <a:pt x="5" y="288"/>
                  <a:pt x="5" y="288"/>
                  <a:pt x="5" y="288"/>
                </a:cubicBezTo>
                <a:cubicBezTo>
                  <a:pt x="5" y="289"/>
                  <a:pt x="4" y="287"/>
                  <a:pt x="4" y="290"/>
                </a:cubicBezTo>
                <a:cubicBezTo>
                  <a:pt x="4" y="290"/>
                  <a:pt x="4" y="290"/>
                  <a:pt x="4" y="290"/>
                </a:cubicBezTo>
                <a:cubicBezTo>
                  <a:pt x="4" y="291"/>
                  <a:pt x="4" y="291"/>
                  <a:pt x="4" y="291"/>
                </a:cubicBezTo>
                <a:cubicBezTo>
                  <a:pt x="4" y="295"/>
                  <a:pt x="3" y="299"/>
                  <a:pt x="3" y="304"/>
                </a:cubicBezTo>
                <a:cubicBezTo>
                  <a:pt x="2" y="310"/>
                  <a:pt x="2" y="310"/>
                  <a:pt x="2" y="310"/>
                </a:cubicBezTo>
                <a:cubicBezTo>
                  <a:pt x="2" y="311"/>
                  <a:pt x="2" y="312"/>
                  <a:pt x="2" y="314"/>
                </a:cubicBezTo>
                <a:cubicBezTo>
                  <a:pt x="1" y="317"/>
                  <a:pt x="1" y="317"/>
                  <a:pt x="1" y="317"/>
                </a:cubicBezTo>
                <a:cubicBezTo>
                  <a:pt x="1" y="323"/>
                  <a:pt x="1" y="328"/>
                  <a:pt x="1" y="333"/>
                </a:cubicBezTo>
                <a:cubicBezTo>
                  <a:pt x="0" y="337"/>
                  <a:pt x="0" y="337"/>
                  <a:pt x="0" y="337"/>
                </a:cubicBezTo>
                <a:cubicBezTo>
                  <a:pt x="0" y="341"/>
                  <a:pt x="0" y="341"/>
                  <a:pt x="0" y="341"/>
                </a:cubicBezTo>
                <a:cubicBezTo>
                  <a:pt x="0" y="348"/>
                  <a:pt x="0" y="348"/>
                  <a:pt x="0" y="348"/>
                </a:cubicBezTo>
                <a:cubicBezTo>
                  <a:pt x="0" y="353"/>
                  <a:pt x="0" y="358"/>
                  <a:pt x="0" y="364"/>
                </a:cubicBezTo>
                <a:cubicBezTo>
                  <a:pt x="1" y="374"/>
                  <a:pt x="1" y="384"/>
                  <a:pt x="2" y="395"/>
                </a:cubicBezTo>
                <a:cubicBezTo>
                  <a:pt x="3" y="400"/>
                  <a:pt x="3" y="405"/>
                  <a:pt x="4" y="410"/>
                </a:cubicBezTo>
                <a:cubicBezTo>
                  <a:pt x="4" y="415"/>
                  <a:pt x="5" y="421"/>
                  <a:pt x="6" y="426"/>
                </a:cubicBezTo>
                <a:cubicBezTo>
                  <a:pt x="7" y="434"/>
                  <a:pt x="7" y="434"/>
                  <a:pt x="7" y="434"/>
                </a:cubicBezTo>
                <a:cubicBezTo>
                  <a:pt x="9" y="442"/>
                  <a:pt x="9" y="442"/>
                  <a:pt x="9" y="442"/>
                </a:cubicBezTo>
                <a:cubicBezTo>
                  <a:pt x="10" y="447"/>
                  <a:pt x="11" y="453"/>
                  <a:pt x="12" y="458"/>
                </a:cubicBezTo>
                <a:cubicBezTo>
                  <a:pt x="13" y="463"/>
                  <a:pt x="14" y="469"/>
                  <a:pt x="16" y="474"/>
                </a:cubicBezTo>
                <a:cubicBezTo>
                  <a:pt x="18" y="482"/>
                  <a:pt x="18" y="482"/>
                  <a:pt x="18" y="482"/>
                </a:cubicBezTo>
                <a:cubicBezTo>
                  <a:pt x="20" y="490"/>
                  <a:pt x="20" y="490"/>
                  <a:pt x="20" y="490"/>
                </a:cubicBezTo>
                <a:cubicBezTo>
                  <a:pt x="26" y="511"/>
                  <a:pt x="35" y="532"/>
                  <a:pt x="44" y="553"/>
                </a:cubicBezTo>
                <a:cubicBezTo>
                  <a:pt x="53" y="574"/>
                  <a:pt x="64" y="594"/>
                  <a:pt x="77" y="614"/>
                </a:cubicBezTo>
                <a:cubicBezTo>
                  <a:pt x="102" y="654"/>
                  <a:pt x="132" y="690"/>
                  <a:pt x="167" y="722"/>
                </a:cubicBezTo>
                <a:cubicBezTo>
                  <a:pt x="202" y="754"/>
                  <a:pt x="242" y="781"/>
                  <a:pt x="283" y="802"/>
                </a:cubicBezTo>
                <a:cubicBezTo>
                  <a:pt x="325" y="824"/>
                  <a:pt x="369" y="839"/>
                  <a:pt x="411" y="849"/>
                </a:cubicBezTo>
                <a:cubicBezTo>
                  <a:pt x="422" y="851"/>
                  <a:pt x="433" y="853"/>
                  <a:pt x="443" y="855"/>
                </a:cubicBezTo>
                <a:cubicBezTo>
                  <a:pt x="449" y="856"/>
                  <a:pt x="454" y="857"/>
                  <a:pt x="459" y="858"/>
                </a:cubicBezTo>
                <a:cubicBezTo>
                  <a:pt x="462" y="858"/>
                  <a:pt x="464" y="858"/>
                  <a:pt x="467" y="859"/>
                </a:cubicBezTo>
                <a:cubicBezTo>
                  <a:pt x="471" y="859"/>
                  <a:pt x="471" y="859"/>
                  <a:pt x="471" y="859"/>
                </a:cubicBezTo>
                <a:cubicBezTo>
                  <a:pt x="473" y="859"/>
                  <a:pt x="473" y="859"/>
                  <a:pt x="473" y="859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7" y="860"/>
                  <a:pt x="469" y="860"/>
                  <a:pt x="480" y="860"/>
                </a:cubicBezTo>
                <a:cubicBezTo>
                  <a:pt x="488" y="861"/>
                  <a:pt x="495" y="861"/>
                  <a:pt x="503" y="862"/>
                </a:cubicBezTo>
                <a:cubicBezTo>
                  <a:pt x="504" y="863"/>
                  <a:pt x="506" y="863"/>
                  <a:pt x="508" y="863"/>
                </a:cubicBezTo>
                <a:cubicBezTo>
                  <a:pt x="509" y="863"/>
                  <a:pt x="509" y="863"/>
                  <a:pt x="509" y="863"/>
                </a:cubicBezTo>
                <a:cubicBezTo>
                  <a:pt x="510" y="863"/>
                  <a:pt x="510" y="863"/>
                  <a:pt x="510" y="863"/>
                </a:cubicBezTo>
                <a:cubicBezTo>
                  <a:pt x="511" y="863"/>
                  <a:pt x="511" y="863"/>
                  <a:pt x="511" y="863"/>
                </a:cubicBezTo>
                <a:cubicBezTo>
                  <a:pt x="515" y="863"/>
                  <a:pt x="515" y="863"/>
                  <a:pt x="515" y="863"/>
                </a:cubicBezTo>
                <a:cubicBezTo>
                  <a:pt x="521" y="863"/>
                  <a:pt x="527" y="863"/>
                  <a:pt x="532" y="863"/>
                </a:cubicBezTo>
                <a:cubicBezTo>
                  <a:pt x="538" y="863"/>
                  <a:pt x="543" y="863"/>
                  <a:pt x="549" y="863"/>
                </a:cubicBezTo>
                <a:cubicBezTo>
                  <a:pt x="552" y="863"/>
                  <a:pt x="554" y="863"/>
                  <a:pt x="557" y="863"/>
                </a:cubicBezTo>
                <a:cubicBezTo>
                  <a:pt x="559" y="863"/>
                  <a:pt x="562" y="863"/>
                  <a:pt x="564" y="863"/>
                </a:cubicBezTo>
                <a:cubicBezTo>
                  <a:pt x="574" y="862"/>
                  <a:pt x="583" y="861"/>
                  <a:pt x="592" y="861"/>
                </a:cubicBezTo>
                <a:cubicBezTo>
                  <a:pt x="594" y="861"/>
                  <a:pt x="596" y="860"/>
                  <a:pt x="599" y="860"/>
                </a:cubicBezTo>
                <a:cubicBezTo>
                  <a:pt x="601" y="860"/>
                  <a:pt x="603" y="860"/>
                  <a:pt x="605" y="859"/>
                </a:cubicBezTo>
                <a:cubicBezTo>
                  <a:pt x="610" y="859"/>
                  <a:pt x="614" y="858"/>
                  <a:pt x="618" y="858"/>
                </a:cubicBezTo>
                <a:cubicBezTo>
                  <a:pt x="627" y="856"/>
                  <a:pt x="635" y="856"/>
                  <a:pt x="643" y="854"/>
                </a:cubicBezTo>
                <a:cubicBezTo>
                  <a:pt x="651" y="852"/>
                  <a:pt x="659" y="851"/>
                  <a:pt x="666" y="849"/>
                </a:cubicBezTo>
                <a:cubicBezTo>
                  <a:pt x="670" y="848"/>
                  <a:pt x="674" y="847"/>
                  <a:pt x="677" y="847"/>
                </a:cubicBezTo>
                <a:cubicBezTo>
                  <a:pt x="681" y="846"/>
                  <a:pt x="684" y="845"/>
                  <a:pt x="688" y="844"/>
                </a:cubicBezTo>
                <a:cubicBezTo>
                  <a:pt x="695" y="842"/>
                  <a:pt x="701" y="840"/>
                  <a:pt x="708" y="838"/>
                </a:cubicBezTo>
                <a:cubicBezTo>
                  <a:pt x="714" y="836"/>
                  <a:pt x="720" y="835"/>
                  <a:pt x="725" y="833"/>
                </a:cubicBezTo>
                <a:cubicBezTo>
                  <a:pt x="737" y="829"/>
                  <a:pt x="747" y="825"/>
                  <a:pt x="755" y="822"/>
                </a:cubicBezTo>
                <a:cubicBezTo>
                  <a:pt x="764" y="818"/>
                  <a:pt x="771" y="815"/>
                  <a:pt x="777" y="812"/>
                </a:cubicBezTo>
                <a:cubicBezTo>
                  <a:pt x="789" y="807"/>
                  <a:pt x="795" y="804"/>
                  <a:pt x="795" y="804"/>
                </a:cubicBezTo>
                <a:cubicBezTo>
                  <a:pt x="597" y="485"/>
                  <a:pt x="597" y="485"/>
                  <a:pt x="597" y="485"/>
                </a:cubicBezTo>
                <a:cubicBezTo>
                  <a:pt x="597" y="485"/>
                  <a:pt x="595" y="487"/>
                  <a:pt x="591" y="491"/>
                </a:cubicBezTo>
                <a:cubicBezTo>
                  <a:pt x="589" y="492"/>
                  <a:pt x="587" y="495"/>
                  <a:pt x="584" y="497"/>
                </a:cubicBezTo>
                <a:cubicBezTo>
                  <a:pt x="582" y="500"/>
                  <a:pt x="578" y="503"/>
                  <a:pt x="575" y="506"/>
                </a:cubicBezTo>
                <a:cubicBezTo>
                  <a:pt x="573" y="508"/>
                  <a:pt x="571" y="509"/>
                  <a:pt x="569" y="511"/>
                </a:cubicBezTo>
                <a:cubicBezTo>
                  <a:pt x="567" y="512"/>
                  <a:pt x="564" y="514"/>
                  <a:pt x="562" y="516"/>
                </a:cubicBezTo>
                <a:cubicBezTo>
                  <a:pt x="561" y="517"/>
                  <a:pt x="559" y="518"/>
                  <a:pt x="558" y="519"/>
                </a:cubicBezTo>
                <a:cubicBezTo>
                  <a:pt x="557" y="520"/>
                  <a:pt x="556" y="520"/>
                  <a:pt x="554" y="521"/>
                </a:cubicBezTo>
                <a:cubicBezTo>
                  <a:pt x="551" y="523"/>
                  <a:pt x="549" y="525"/>
                  <a:pt x="546" y="527"/>
                </a:cubicBezTo>
                <a:cubicBezTo>
                  <a:pt x="543" y="529"/>
                  <a:pt x="539" y="530"/>
                  <a:pt x="536" y="532"/>
                </a:cubicBezTo>
                <a:cubicBezTo>
                  <a:pt x="535" y="533"/>
                  <a:pt x="533" y="534"/>
                  <a:pt x="531" y="535"/>
                </a:cubicBezTo>
                <a:cubicBezTo>
                  <a:pt x="529" y="536"/>
                  <a:pt x="529" y="536"/>
                  <a:pt x="529" y="536"/>
                </a:cubicBezTo>
                <a:cubicBezTo>
                  <a:pt x="526" y="538"/>
                  <a:pt x="526" y="538"/>
                  <a:pt x="526" y="538"/>
                </a:cubicBezTo>
                <a:cubicBezTo>
                  <a:pt x="522" y="539"/>
                  <a:pt x="518" y="541"/>
                  <a:pt x="514" y="543"/>
                </a:cubicBezTo>
                <a:cubicBezTo>
                  <a:pt x="513" y="543"/>
                  <a:pt x="511" y="544"/>
                  <a:pt x="509" y="545"/>
                </a:cubicBezTo>
                <a:cubicBezTo>
                  <a:pt x="508" y="546"/>
                  <a:pt x="507" y="546"/>
                  <a:pt x="505" y="547"/>
                </a:cubicBezTo>
                <a:cubicBezTo>
                  <a:pt x="504" y="548"/>
                  <a:pt x="502" y="549"/>
                  <a:pt x="501" y="549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8" y="550"/>
                  <a:pt x="498" y="550"/>
                  <a:pt x="498" y="550"/>
                </a:cubicBezTo>
                <a:cubicBezTo>
                  <a:pt x="497" y="551"/>
                  <a:pt x="497" y="551"/>
                  <a:pt x="497" y="551"/>
                </a:cubicBezTo>
                <a:cubicBezTo>
                  <a:pt x="495" y="551"/>
                  <a:pt x="493" y="551"/>
                  <a:pt x="492" y="552"/>
                </a:cubicBezTo>
                <a:cubicBezTo>
                  <a:pt x="484" y="553"/>
                  <a:pt x="477" y="554"/>
                  <a:pt x="469" y="556"/>
                </a:cubicBezTo>
                <a:cubicBezTo>
                  <a:pt x="480" y="556"/>
                  <a:pt x="472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3" y="556"/>
                  <a:pt x="473" y="556"/>
                  <a:pt x="473" y="556"/>
                </a:cubicBezTo>
                <a:cubicBezTo>
                  <a:pt x="471" y="557"/>
                  <a:pt x="471" y="557"/>
                  <a:pt x="471" y="557"/>
                </a:cubicBezTo>
                <a:cubicBezTo>
                  <a:pt x="467" y="557"/>
                  <a:pt x="467" y="557"/>
                  <a:pt x="467" y="557"/>
                </a:cubicBezTo>
                <a:cubicBezTo>
                  <a:pt x="465" y="558"/>
                  <a:pt x="462" y="559"/>
                  <a:pt x="459" y="559"/>
                </a:cubicBezTo>
                <a:cubicBezTo>
                  <a:pt x="454" y="560"/>
                  <a:pt x="449" y="561"/>
                  <a:pt x="443" y="561"/>
                </a:cubicBezTo>
                <a:cubicBezTo>
                  <a:pt x="422" y="564"/>
                  <a:pt x="398" y="564"/>
                  <a:pt x="373" y="561"/>
                </a:cubicBezTo>
                <a:cubicBezTo>
                  <a:pt x="349" y="557"/>
                  <a:pt x="323" y="550"/>
                  <a:pt x="297" y="539"/>
                </a:cubicBezTo>
                <a:cubicBezTo>
                  <a:pt x="271" y="528"/>
                  <a:pt x="246" y="513"/>
                  <a:pt x="223" y="494"/>
                </a:cubicBezTo>
                <a:cubicBezTo>
                  <a:pt x="212" y="484"/>
                  <a:pt x="201" y="474"/>
                  <a:pt x="190" y="463"/>
                </a:cubicBezTo>
                <a:cubicBezTo>
                  <a:pt x="180" y="452"/>
                  <a:pt x="170" y="440"/>
                  <a:pt x="162" y="427"/>
                </a:cubicBezTo>
                <a:cubicBezTo>
                  <a:pt x="159" y="422"/>
                  <a:pt x="159" y="422"/>
                  <a:pt x="159" y="422"/>
                </a:cubicBezTo>
                <a:cubicBezTo>
                  <a:pt x="155" y="417"/>
                  <a:pt x="155" y="417"/>
                  <a:pt x="155" y="417"/>
                </a:cubicBezTo>
                <a:cubicBezTo>
                  <a:pt x="153" y="414"/>
                  <a:pt x="151" y="411"/>
                  <a:pt x="149" y="408"/>
                </a:cubicBezTo>
                <a:cubicBezTo>
                  <a:pt x="147" y="404"/>
                  <a:pt x="145" y="401"/>
                  <a:pt x="144" y="397"/>
                </a:cubicBezTo>
                <a:cubicBezTo>
                  <a:pt x="141" y="392"/>
                  <a:pt x="141" y="392"/>
                  <a:pt x="141" y="392"/>
                </a:cubicBezTo>
                <a:cubicBezTo>
                  <a:pt x="138" y="387"/>
                  <a:pt x="138" y="387"/>
                  <a:pt x="138" y="387"/>
                </a:cubicBezTo>
                <a:cubicBezTo>
                  <a:pt x="136" y="384"/>
                  <a:pt x="135" y="380"/>
                  <a:pt x="133" y="377"/>
                </a:cubicBezTo>
                <a:cubicBezTo>
                  <a:pt x="132" y="373"/>
                  <a:pt x="130" y="370"/>
                  <a:pt x="128" y="366"/>
                </a:cubicBezTo>
                <a:cubicBezTo>
                  <a:pt x="125" y="359"/>
                  <a:pt x="123" y="352"/>
                  <a:pt x="120" y="345"/>
                </a:cubicBezTo>
                <a:cubicBezTo>
                  <a:pt x="119" y="341"/>
                  <a:pt x="118" y="337"/>
                  <a:pt x="117" y="334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3" y="323"/>
                  <a:pt x="113" y="323"/>
                  <a:pt x="113" y="323"/>
                </a:cubicBezTo>
                <a:cubicBezTo>
                  <a:pt x="112" y="319"/>
                  <a:pt x="111" y="316"/>
                  <a:pt x="110" y="313"/>
                </a:cubicBezTo>
                <a:cubicBezTo>
                  <a:pt x="110" y="310"/>
                  <a:pt x="110" y="310"/>
                  <a:pt x="110" y="310"/>
                </a:cubicBezTo>
                <a:cubicBezTo>
                  <a:pt x="110" y="309"/>
                  <a:pt x="109" y="308"/>
                  <a:pt x="109" y="307"/>
                </a:cubicBezTo>
                <a:cubicBezTo>
                  <a:pt x="108" y="301"/>
                  <a:pt x="108" y="301"/>
                  <a:pt x="108" y="301"/>
                </a:cubicBezTo>
                <a:cubicBezTo>
                  <a:pt x="107" y="297"/>
                  <a:pt x="106" y="292"/>
                  <a:pt x="106" y="288"/>
                </a:cubicBezTo>
                <a:cubicBezTo>
                  <a:pt x="106" y="287"/>
                  <a:pt x="106" y="287"/>
                  <a:pt x="106" y="287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9"/>
                  <a:pt x="105" y="288"/>
                  <a:pt x="105" y="288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4"/>
                  <a:pt x="105" y="284"/>
                  <a:pt x="105" y="284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3" y="271"/>
                  <a:pt x="102" y="263"/>
                  <a:pt x="101" y="256"/>
                </a:cubicBezTo>
                <a:cubicBezTo>
                  <a:pt x="99" y="227"/>
                  <a:pt x="100" y="198"/>
                  <a:pt x="104" y="172"/>
                </a:cubicBezTo>
                <a:cubicBezTo>
                  <a:pt x="107" y="146"/>
                  <a:pt x="114" y="122"/>
                  <a:pt x="121" y="100"/>
                </a:cubicBezTo>
                <a:cubicBezTo>
                  <a:pt x="128" y="79"/>
                  <a:pt x="136" y="61"/>
                  <a:pt x="143" y="47"/>
                </a:cubicBezTo>
                <a:cubicBezTo>
                  <a:pt x="145" y="43"/>
                  <a:pt x="147" y="40"/>
                  <a:pt x="149" y="37"/>
                </a:cubicBezTo>
                <a:cubicBezTo>
                  <a:pt x="151" y="33"/>
                  <a:pt x="152" y="31"/>
                  <a:pt x="154" y="28"/>
                </a:cubicBezTo>
                <a:cubicBezTo>
                  <a:pt x="157" y="22"/>
                  <a:pt x="160" y="18"/>
                  <a:pt x="162" y="14"/>
                </a:cubicBezTo>
                <a:cubicBezTo>
                  <a:pt x="167" y="6"/>
                  <a:pt x="170" y="2"/>
                  <a:pt x="170" y="2"/>
                </a:cubicBezTo>
                <a:lnTo>
                  <a:pt x="16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7"/>
          <p:cNvSpPr/>
          <p:nvPr/>
        </p:nvSpPr>
        <p:spPr>
          <a:xfrm>
            <a:off x="4013280" y="2205000"/>
            <a:ext cx="403200" cy="417600"/>
          </a:xfrm>
          <a:custGeom>
            <a:avLst/>
            <a:gdLst>
              <a:gd name="textAreaLeft" fmla="*/ 0 w 403200"/>
              <a:gd name="textAreaRight" fmla="*/ 403560 w 4032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5" h="223">
                <a:moveTo>
                  <a:pt x="109" y="0"/>
                </a:moveTo>
                <a:lnTo>
                  <a:pt x="0" y="78"/>
                </a:lnTo>
                <a:lnTo>
                  <a:pt x="0" y="223"/>
                </a:lnTo>
                <a:lnTo>
                  <a:pt x="215" y="223"/>
                </a:lnTo>
                <a:lnTo>
                  <a:pt x="215" y="78"/>
                </a:lnTo>
                <a:lnTo>
                  <a:pt x="109" y="0"/>
                </a:lnTo>
                <a:close/>
                <a:moveTo>
                  <a:pt x="195" y="214"/>
                </a:moveTo>
                <a:lnTo>
                  <a:pt x="140" y="159"/>
                </a:lnTo>
                <a:lnTo>
                  <a:pt x="75" y="159"/>
                </a:lnTo>
                <a:lnTo>
                  <a:pt x="20" y="214"/>
                </a:lnTo>
                <a:lnTo>
                  <a:pt x="9" y="214"/>
                </a:lnTo>
                <a:lnTo>
                  <a:pt x="75" y="150"/>
                </a:lnTo>
                <a:lnTo>
                  <a:pt x="9" y="85"/>
                </a:lnTo>
                <a:lnTo>
                  <a:pt x="9" y="83"/>
                </a:lnTo>
                <a:lnTo>
                  <a:pt x="109" y="13"/>
                </a:lnTo>
                <a:lnTo>
                  <a:pt x="207" y="83"/>
                </a:lnTo>
                <a:lnTo>
                  <a:pt x="207" y="85"/>
                </a:lnTo>
                <a:lnTo>
                  <a:pt x="142" y="150"/>
                </a:lnTo>
                <a:lnTo>
                  <a:pt x="207" y="214"/>
                </a:lnTo>
                <a:lnTo>
                  <a:pt x="195" y="2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8"/>
          <p:cNvSpPr/>
          <p:nvPr/>
        </p:nvSpPr>
        <p:spPr>
          <a:xfrm>
            <a:off x="4805280" y="2876400"/>
            <a:ext cx="254160" cy="459000"/>
          </a:xfrm>
          <a:custGeom>
            <a:avLst/>
            <a:gdLst>
              <a:gd name="textAreaLeft" fmla="*/ 0 w 254160"/>
              <a:gd name="textAreaRight" fmla="*/ 254520 w 2541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87" h="157">
                <a:moveTo>
                  <a:pt x="79" y="53"/>
                </a:moveTo>
                <a:cubicBezTo>
                  <a:pt x="87" y="36"/>
                  <a:pt x="78" y="15"/>
                  <a:pt x="61" y="8"/>
                </a:cubicBezTo>
                <a:cubicBezTo>
                  <a:pt x="43" y="0"/>
                  <a:pt x="23" y="8"/>
                  <a:pt x="15" y="26"/>
                </a:cubicBezTo>
                <a:cubicBezTo>
                  <a:pt x="10" y="39"/>
                  <a:pt x="13" y="54"/>
                  <a:pt x="22" y="63"/>
                </a:cubicBezTo>
                <a:cubicBezTo>
                  <a:pt x="18" y="65"/>
                  <a:pt x="18" y="65"/>
                  <a:pt x="18" y="65"/>
                </a:cubicBezTo>
                <a:cubicBezTo>
                  <a:pt x="21" y="73"/>
                  <a:pt x="21" y="73"/>
                  <a:pt x="21" y="73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85"/>
                  <a:pt x="21" y="85"/>
                  <a:pt x="21" y="85"/>
                </a:cubicBezTo>
                <a:cubicBezTo>
                  <a:pt x="15" y="88"/>
                  <a:pt x="15" y="88"/>
                  <a:pt x="15" y="88"/>
                </a:cubicBezTo>
                <a:cubicBezTo>
                  <a:pt x="19" y="99"/>
                  <a:pt x="19" y="99"/>
                  <a:pt x="19" y="99"/>
                </a:cubicBezTo>
                <a:cubicBezTo>
                  <a:pt x="13" y="102"/>
                  <a:pt x="13" y="102"/>
                  <a:pt x="13" y="10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0" y="115"/>
                  <a:pt x="10" y="115"/>
                  <a:pt x="10" y="115"/>
                </a:cubicBezTo>
                <a:cubicBezTo>
                  <a:pt x="13" y="122"/>
                  <a:pt x="13" y="122"/>
                  <a:pt x="13" y="122"/>
                </a:cubicBezTo>
                <a:cubicBezTo>
                  <a:pt x="8" y="124"/>
                  <a:pt x="8" y="124"/>
                  <a:pt x="8" y="124"/>
                </a:cubicBezTo>
                <a:cubicBezTo>
                  <a:pt x="11" y="130"/>
                  <a:pt x="11" y="130"/>
                  <a:pt x="11" y="130"/>
                </a:cubicBezTo>
                <a:cubicBezTo>
                  <a:pt x="10" y="130"/>
                  <a:pt x="10" y="130"/>
                  <a:pt x="10" y="130"/>
                </a:cubicBezTo>
                <a:cubicBezTo>
                  <a:pt x="5" y="133"/>
                  <a:pt x="5" y="133"/>
                  <a:pt x="5" y="133"/>
                </a:cubicBezTo>
                <a:cubicBezTo>
                  <a:pt x="7" y="138"/>
                  <a:pt x="7" y="138"/>
                  <a:pt x="7" y="138"/>
                </a:cubicBezTo>
                <a:cubicBezTo>
                  <a:pt x="6" y="141"/>
                  <a:pt x="6" y="141"/>
                  <a:pt x="6" y="141"/>
                </a:cubicBezTo>
                <a:cubicBezTo>
                  <a:pt x="0" y="143"/>
                  <a:pt x="0" y="143"/>
                  <a:pt x="0" y="143"/>
                </a:cubicBezTo>
                <a:cubicBezTo>
                  <a:pt x="4" y="157"/>
                  <a:pt x="4" y="157"/>
                  <a:pt x="4" y="157"/>
                </a:cubicBezTo>
                <a:cubicBezTo>
                  <a:pt x="17" y="150"/>
                  <a:pt x="17" y="150"/>
                  <a:pt x="17" y="150"/>
                </a:cubicBezTo>
                <a:cubicBezTo>
                  <a:pt x="50" y="74"/>
                  <a:pt x="50" y="74"/>
                  <a:pt x="50" y="74"/>
                </a:cubicBezTo>
                <a:cubicBezTo>
                  <a:pt x="63" y="73"/>
                  <a:pt x="74" y="66"/>
                  <a:pt x="79" y="53"/>
                </a:cubicBezTo>
                <a:close/>
                <a:moveTo>
                  <a:pt x="55" y="16"/>
                </a:moveTo>
                <a:cubicBezTo>
                  <a:pt x="60" y="18"/>
                  <a:pt x="62" y="24"/>
                  <a:pt x="60" y="29"/>
                </a:cubicBezTo>
                <a:cubicBezTo>
                  <a:pt x="58" y="33"/>
                  <a:pt x="53" y="36"/>
                  <a:pt x="48" y="34"/>
                </a:cubicBezTo>
                <a:cubicBezTo>
                  <a:pt x="43" y="31"/>
                  <a:pt x="40" y="26"/>
                  <a:pt x="43" y="21"/>
                </a:cubicBezTo>
                <a:cubicBezTo>
                  <a:pt x="45" y="16"/>
                  <a:pt x="50" y="14"/>
                  <a:pt x="5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1"/>
          <p:cNvGrpSpPr/>
          <p:nvPr/>
        </p:nvGrpSpPr>
        <p:grpSpPr>
          <a:xfrm>
            <a:off x="3738600" y="4689360"/>
            <a:ext cx="414360" cy="279360"/>
            <a:chOff x="3738600" y="4689360"/>
            <a:chExt cx="414360" cy="279360"/>
          </a:xfrm>
        </p:grpSpPr>
        <p:sp>
          <p:nvSpPr>
            <p:cNvPr id="436" name="Freeform 19@|5FFC:16777215|FBC:16777215|LFC:16777215|LBC:16777215"/>
            <p:cNvSpPr/>
            <p:nvPr/>
          </p:nvSpPr>
          <p:spPr>
            <a:xfrm>
              <a:off x="3738600" y="4689360"/>
              <a:ext cx="414360" cy="2793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2" h="96">
                  <a:moveTo>
                    <a:pt x="130" y="15"/>
                  </a:moveTo>
                  <a:cubicBezTo>
                    <a:pt x="102" y="15"/>
                    <a:pt x="102" y="15"/>
                    <a:pt x="102" y="15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5" y="2"/>
                    <a:pt x="90" y="0"/>
                    <a:pt x="87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2" y="0"/>
                    <a:pt x="48" y="2"/>
                    <a:pt x="46" y="5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40" y="14"/>
                    <a:pt x="40" y="14"/>
                    <a:pt x="40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5" y="15"/>
                    <a:pt x="0" y="20"/>
                    <a:pt x="0" y="2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91"/>
                    <a:pt x="5" y="96"/>
                    <a:pt x="12" y="96"/>
                  </a:cubicBezTo>
                  <a:cubicBezTo>
                    <a:pt x="130" y="96"/>
                    <a:pt x="130" y="96"/>
                    <a:pt x="130" y="96"/>
                  </a:cubicBezTo>
                  <a:cubicBezTo>
                    <a:pt x="137" y="96"/>
                    <a:pt x="142" y="91"/>
                    <a:pt x="142" y="84"/>
                  </a:cubicBezTo>
                  <a:cubicBezTo>
                    <a:pt x="142" y="26"/>
                    <a:pt x="142" y="26"/>
                    <a:pt x="142" y="26"/>
                  </a:cubicBezTo>
                  <a:cubicBezTo>
                    <a:pt x="142" y="20"/>
                    <a:pt x="137" y="15"/>
                    <a:pt x="130" y="15"/>
                  </a:cubicBezTo>
                  <a:close/>
                  <a:moveTo>
                    <a:pt x="30" y="31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0" y="22"/>
                    <a:pt x="30" y="22"/>
                    <a:pt x="30" y="22"/>
                  </a:cubicBezTo>
                  <a:lnTo>
                    <a:pt x="30" y="31"/>
                  </a:lnTo>
                  <a:close/>
                  <a:moveTo>
                    <a:pt x="71" y="90"/>
                  </a:moveTo>
                  <a:cubicBezTo>
                    <a:pt x="52" y="90"/>
                    <a:pt x="36" y="74"/>
                    <a:pt x="36" y="55"/>
                  </a:cubicBezTo>
                  <a:cubicBezTo>
                    <a:pt x="36" y="35"/>
                    <a:pt x="52" y="20"/>
                    <a:pt x="71" y="20"/>
                  </a:cubicBezTo>
                  <a:cubicBezTo>
                    <a:pt x="90" y="20"/>
                    <a:pt x="106" y="35"/>
                    <a:pt x="106" y="55"/>
                  </a:cubicBezTo>
                  <a:cubicBezTo>
                    <a:pt x="106" y="74"/>
                    <a:pt x="90" y="90"/>
                    <a:pt x="71" y="90"/>
                  </a:cubicBezTo>
                  <a:close/>
                  <a:moveTo>
                    <a:pt x="136" y="30"/>
                  </a:moveTo>
                  <a:cubicBezTo>
                    <a:pt x="132" y="30"/>
                    <a:pt x="132" y="30"/>
                    <a:pt x="132" y="30"/>
                  </a:cubicBezTo>
                  <a:cubicBezTo>
                    <a:pt x="132" y="34"/>
                    <a:pt x="132" y="34"/>
                    <a:pt x="132" y="34"/>
                  </a:cubicBezTo>
                  <a:cubicBezTo>
                    <a:pt x="126" y="34"/>
                    <a:pt x="126" y="34"/>
                    <a:pt x="126" y="34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1" y="30"/>
                    <a:pt x="121" y="30"/>
                    <a:pt x="121" y="3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126" y="24"/>
                    <a:pt x="126" y="24"/>
                    <a:pt x="126" y="24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32" y="19"/>
                    <a:pt x="132" y="19"/>
                    <a:pt x="132" y="19"/>
                  </a:cubicBezTo>
                  <a:cubicBezTo>
                    <a:pt x="132" y="24"/>
                    <a:pt x="132" y="24"/>
                    <a:pt x="132" y="24"/>
                  </a:cubicBezTo>
                  <a:cubicBezTo>
                    <a:pt x="136" y="24"/>
                    <a:pt x="136" y="24"/>
                    <a:pt x="136" y="24"/>
                  </a:cubicBezTo>
                  <a:lnTo>
                    <a:pt x="13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@|5FFC:16777215|FBC:16777215|LFC:16777215|LBC:16777215"/>
            <p:cNvSpPr/>
            <p:nvPr/>
          </p:nvSpPr>
          <p:spPr>
            <a:xfrm>
              <a:off x="3864240" y="4764240"/>
              <a:ext cx="166680" cy="1670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7040"/>
                <a:gd name="textAreaBottom" fmla="*/ 167040 h 167040"/>
              </a:gdLst>
              <a:ahLst/>
              <a:rect l="textAreaLeft" t="textAreaTop" r="textAreaRight" b="textAreaBottom"/>
              <a:pathLst>
                <a:path w="57" h="57">
                  <a:moveTo>
                    <a:pt x="28" y="57"/>
                  </a:moveTo>
                  <a:cubicBezTo>
                    <a:pt x="12" y="57"/>
                    <a:pt x="0" y="44"/>
                    <a:pt x="0" y="29"/>
                  </a:cubicBezTo>
                  <a:cubicBezTo>
                    <a:pt x="0" y="13"/>
                    <a:pt x="12" y="0"/>
                    <a:pt x="28" y="0"/>
                  </a:cubicBezTo>
                  <a:cubicBezTo>
                    <a:pt x="44" y="0"/>
                    <a:pt x="57" y="13"/>
                    <a:pt x="57" y="29"/>
                  </a:cubicBezTo>
                  <a:cubicBezTo>
                    <a:pt x="57" y="44"/>
                    <a:pt x="44" y="57"/>
                    <a:pt x="28" y="57"/>
                  </a:cubicBezTo>
                  <a:close/>
                  <a:moveTo>
                    <a:pt x="28" y="9"/>
                  </a:moveTo>
                  <a:cubicBezTo>
                    <a:pt x="17" y="9"/>
                    <a:pt x="9" y="18"/>
                    <a:pt x="9" y="29"/>
                  </a:cubicBezTo>
                  <a:cubicBezTo>
                    <a:pt x="9" y="39"/>
                    <a:pt x="17" y="48"/>
                    <a:pt x="28" y="48"/>
                  </a:cubicBezTo>
                  <a:cubicBezTo>
                    <a:pt x="39" y="48"/>
                    <a:pt x="48" y="39"/>
                    <a:pt x="48" y="29"/>
                  </a:cubicBezTo>
                  <a:cubicBezTo>
                    <a:pt x="48" y="18"/>
                    <a:pt x="39" y="9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14"/>
          <p:cNvGrpSpPr/>
          <p:nvPr/>
        </p:nvGrpSpPr>
        <p:grpSpPr>
          <a:xfrm>
            <a:off x="4597560" y="3941640"/>
            <a:ext cx="406080" cy="443160"/>
            <a:chOff x="4597560" y="3941640"/>
            <a:chExt cx="406080" cy="443160"/>
          </a:xfrm>
        </p:grpSpPr>
        <p:sp>
          <p:nvSpPr>
            <p:cNvPr id="439" name="Freeform 31@|5FFC:16777215|FBC:16777215|LFC:16777215|LBC:16777215"/>
            <p:cNvSpPr/>
            <p:nvPr/>
          </p:nvSpPr>
          <p:spPr>
            <a:xfrm>
              <a:off x="4597560" y="4008960"/>
              <a:ext cx="239400" cy="3758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28" h="200">
                  <a:moveTo>
                    <a:pt x="0" y="189"/>
                  </a:moveTo>
                  <a:lnTo>
                    <a:pt x="121" y="0"/>
                  </a:lnTo>
                  <a:lnTo>
                    <a:pt x="128" y="5"/>
                  </a:lnTo>
                  <a:lnTo>
                    <a:pt x="19" y="2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@|5FFC:16777215|FBC:16777215|LFC:16777215|LBC:16777215"/>
            <p:cNvSpPr/>
            <p:nvPr/>
          </p:nvSpPr>
          <p:spPr>
            <a:xfrm>
              <a:off x="4824000" y="3967920"/>
              <a:ext cx="37440" cy="504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" h="27">
                  <a:moveTo>
                    <a:pt x="7" y="27"/>
                  </a:moveTo>
                  <a:lnTo>
                    <a:pt x="0" y="22"/>
                  </a:lnTo>
                  <a:lnTo>
                    <a:pt x="10" y="0"/>
                  </a:lnTo>
                  <a:lnTo>
                    <a:pt x="20" y="5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@|5FFC:16777215|FBC:16777215|LFC:16777215|LBC:16777215"/>
            <p:cNvSpPr/>
            <p:nvPr/>
          </p:nvSpPr>
          <p:spPr>
            <a:xfrm>
              <a:off x="4915800" y="420264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3" h="33">
                  <a:moveTo>
                    <a:pt x="19" y="33"/>
                  </a:moveTo>
                  <a:lnTo>
                    <a:pt x="13" y="24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2" y="5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24" y="11"/>
                  </a:lnTo>
                  <a:lnTo>
                    <a:pt x="33" y="17"/>
                  </a:lnTo>
                  <a:lnTo>
                    <a:pt x="22" y="2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@|5FFC:16777215|FBC:16777215|LFC:16777215|LBC:16777215"/>
            <p:cNvSpPr/>
            <p:nvPr/>
          </p:nvSpPr>
          <p:spPr>
            <a:xfrm>
              <a:off x="4836960" y="4074840"/>
              <a:ext cx="65520" cy="67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5" h="36">
                  <a:moveTo>
                    <a:pt x="25" y="36"/>
                  </a:moveTo>
                  <a:lnTo>
                    <a:pt x="16" y="28"/>
                  </a:lnTo>
                  <a:lnTo>
                    <a:pt x="5" y="32"/>
                  </a:lnTo>
                  <a:lnTo>
                    <a:pt x="8" y="20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4" y="12"/>
                  </a:lnTo>
                  <a:lnTo>
                    <a:pt x="35" y="15"/>
                  </a:lnTo>
                  <a:lnTo>
                    <a:pt x="25" y="2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@|5FFC:16777215|FBC:16777215|LFC:16777215|LBC:16777215"/>
            <p:cNvSpPr/>
            <p:nvPr/>
          </p:nvSpPr>
          <p:spPr>
            <a:xfrm>
              <a:off x="4898880" y="396576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28">
                  <a:moveTo>
                    <a:pt x="20" y="28"/>
                  </a:moveTo>
                  <a:lnTo>
                    <a:pt x="13" y="22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6" y="0"/>
                  </a:lnTo>
                  <a:lnTo>
                    <a:pt x="19" y="9"/>
                  </a:lnTo>
                  <a:lnTo>
                    <a:pt x="28" y="12"/>
                  </a:lnTo>
                  <a:lnTo>
                    <a:pt x="20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@|5FFC:16777215|FBC:16777215|LFC:16777215|LBC:16777215"/>
            <p:cNvSpPr/>
            <p:nvPr/>
          </p:nvSpPr>
          <p:spPr>
            <a:xfrm>
              <a:off x="4960800" y="407124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2">
                  <a:moveTo>
                    <a:pt x="23" y="14"/>
                  </a:moveTo>
                  <a:lnTo>
                    <a:pt x="16" y="16"/>
                  </a:lnTo>
                  <a:lnTo>
                    <a:pt x="11" y="22"/>
                  </a:lnTo>
                  <a:lnTo>
                    <a:pt x="8" y="14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0"/>
                  </a:lnTo>
                  <a:lnTo>
                    <a:pt x="12" y="5"/>
                  </a:lnTo>
                  <a:lnTo>
                    <a:pt x="20" y="2"/>
                  </a:lnTo>
                  <a:lnTo>
                    <a:pt x="19" y="9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@|5FFC:16777215|FBC:16777215|LFC:16777215|LBC:16777215"/>
            <p:cNvSpPr/>
            <p:nvPr/>
          </p:nvSpPr>
          <p:spPr>
            <a:xfrm>
              <a:off x="4779000" y="4232880"/>
              <a:ext cx="44640" cy="4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4" h="23">
                  <a:moveTo>
                    <a:pt x="17" y="23"/>
                  </a:moveTo>
                  <a:lnTo>
                    <a:pt x="11" y="19"/>
                  </a:lnTo>
                  <a:lnTo>
                    <a:pt x="3" y="22"/>
                  </a:lnTo>
                  <a:lnTo>
                    <a:pt x="5" y="14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lnTo>
                    <a:pt x="16" y="8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@|5FFC:16777215|FBC:16777215|LFC:16777215|LBC:16777215"/>
            <p:cNvSpPr/>
            <p:nvPr/>
          </p:nvSpPr>
          <p:spPr>
            <a:xfrm>
              <a:off x="4647960" y="4091760"/>
              <a:ext cx="37440" cy="356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" h="19">
                  <a:moveTo>
                    <a:pt x="20" y="11"/>
                  </a:moveTo>
                  <a:lnTo>
                    <a:pt x="14" y="12"/>
                  </a:lnTo>
                  <a:lnTo>
                    <a:pt x="11" y="19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@|5FFC:16777215|FBC:16777215|LFC:16777215|LBC:16777215"/>
            <p:cNvSpPr/>
            <p:nvPr/>
          </p:nvSpPr>
          <p:spPr>
            <a:xfrm>
              <a:off x="4689000" y="3941640"/>
              <a:ext cx="63360" cy="67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4" h="36">
                  <a:moveTo>
                    <a:pt x="20" y="36"/>
                  </a:moveTo>
                  <a:lnTo>
                    <a:pt x="12" y="27"/>
                  </a:lnTo>
                  <a:lnTo>
                    <a:pt x="0" y="28"/>
                  </a:lnTo>
                  <a:lnTo>
                    <a:pt x="6" y="18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34" y="19"/>
                  </a:lnTo>
                  <a:lnTo>
                    <a:pt x="22" y="24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3"/>
          <p:cNvSpPr/>
          <p:nvPr/>
        </p:nvSpPr>
        <p:spPr>
          <a:xfrm>
            <a:off x="7866000" y="20955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7866000" y="2381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3"/>
          <p:cNvSpPr/>
          <p:nvPr/>
        </p:nvSpPr>
        <p:spPr>
          <a:xfrm>
            <a:off x="7866000" y="28814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7866000" y="317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7866000" y="3720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7866000" y="4008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7866000" y="4576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866000" y="4862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7108920" y="196848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108920" y="2724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108920" y="3597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7108920" y="442584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圆角矩形 36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37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38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任意多边形 1"/>
          <p:cNvSpPr/>
          <p:nvPr/>
        </p:nvSpPr>
        <p:spPr>
          <a:xfrm>
            <a:off x="2532240" y="20890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7">
                <a:moveTo>
                  <a:pt x="0" y="0"/>
                </a:moveTo>
                <a:lnTo>
                  <a:pt x="3414186" y="0"/>
                </a:lnTo>
                <a:lnTo>
                  <a:pt x="3414186" y="244735"/>
                </a:lnTo>
                <a:lnTo>
                  <a:pt x="3414186" y="262215"/>
                </a:lnTo>
                <a:lnTo>
                  <a:pt x="3414186" y="868209"/>
                </a:lnTo>
                <a:cubicBezTo>
                  <a:pt x="3202644" y="881257"/>
                  <a:pt x="3010818" y="967097"/>
                  <a:pt x="2863486" y="1101307"/>
                </a:cubicBezTo>
                <a:lnTo>
                  <a:pt x="0" y="1101307"/>
                </a:ln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"/>
          <p:cNvSpPr/>
          <p:nvPr/>
        </p:nvSpPr>
        <p:spPr>
          <a:xfrm>
            <a:off x="6070680" y="20890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7">
                <a:moveTo>
                  <a:pt x="0" y="0"/>
                </a:moveTo>
                <a:lnTo>
                  <a:pt x="3414185" y="0"/>
                </a:lnTo>
                <a:lnTo>
                  <a:pt x="3414185" y="244735"/>
                </a:lnTo>
                <a:lnTo>
                  <a:pt x="3414185" y="262215"/>
                </a:lnTo>
                <a:lnTo>
                  <a:pt x="3414185" y="1101307"/>
                </a:lnTo>
                <a:lnTo>
                  <a:pt x="550700" y="1101307"/>
                </a:lnTo>
                <a:cubicBezTo>
                  <a:pt x="403368" y="967097"/>
                  <a:pt x="211544" y="881257"/>
                  <a:pt x="0" y="868209"/>
                </a:cubicBez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"/>
          <p:cNvSpPr/>
          <p:nvPr/>
        </p:nvSpPr>
        <p:spPr>
          <a:xfrm>
            <a:off x="6729480" y="3319560"/>
            <a:ext cx="2746440" cy="1101600"/>
          </a:xfrm>
          <a:custGeom>
            <a:avLst/>
            <a:gdLst>
              <a:gd name="textAreaLeft" fmla="*/ 0 w 2746440"/>
              <a:gd name="textAreaRight" fmla="*/ 2746800 w 27464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lnTo>
                  <a:pt x="2745871" y="244735"/>
                </a:lnTo>
                <a:lnTo>
                  <a:pt x="2745871" y="262216"/>
                </a:lnTo>
                <a:lnTo>
                  <a:pt x="2745871" y="1101307"/>
                </a:lnTo>
                <a:lnTo>
                  <a:pt x="0" y="1101307"/>
                </a:lnTo>
                <a:cubicBezTo>
                  <a:pt x="116716" y="948623"/>
                  <a:pt x="185436" y="757727"/>
                  <a:pt x="185436" y="550792"/>
                </a:cubicBezTo>
                <a:cubicBezTo>
                  <a:pt x="185436" y="497058"/>
                  <a:pt x="180803" y="444405"/>
                  <a:pt x="171787" y="393254"/>
                </a:cubicBezTo>
                <a:lnTo>
                  <a:pt x="133268" y="250011"/>
                </a:lnTo>
                <a:lnTo>
                  <a:pt x="80178" y="124465"/>
                </a:lnTo>
                <a:cubicBezTo>
                  <a:pt x="56993" y="80624"/>
                  <a:pt x="30154" y="38997"/>
                  <a:pt x="0" y="0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4"/>
          <p:cNvSpPr/>
          <p:nvPr/>
        </p:nvSpPr>
        <p:spPr>
          <a:xfrm>
            <a:off x="6070680" y="45496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6">
                <a:moveTo>
                  <a:pt x="550700" y="0"/>
                </a:moveTo>
                <a:lnTo>
                  <a:pt x="3414185" y="0"/>
                </a:lnTo>
                <a:lnTo>
                  <a:pt x="3414185" y="244734"/>
                </a:lnTo>
                <a:lnTo>
                  <a:pt x="3414185" y="262215"/>
                </a:lnTo>
                <a:lnTo>
                  <a:pt x="3414185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232915"/>
                </a:lnTo>
                <a:cubicBezTo>
                  <a:pt x="211544" y="219878"/>
                  <a:pt x="403368" y="134104"/>
                  <a:pt x="5507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5"/>
          <p:cNvSpPr/>
          <p:nvPr/>
        </p:nvSpPr>
        <p:spPr>
          <a:xfrm>
            <a:off x="2532240" y="45496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6">
                <a:moveTo>
                  <a:pt x="0" y="0"/>
                </a:moveTo>
                <a:lnTo>
                  <a:pt x="2863486" y="0"/>
                </a:lnTo>
                <a:cubicBezTo>
                  <a:pt x="3010818" y="134104"/>
                  <a:pt x="3202644" y="219878"/>
                  <a:pt x="3414186" y="232915"/>
                </a:cubicBezTo>
                <a:lnTo>
                  <a:pt x="3414186" y="244734"/>
                </a:lnTo>
                <a:lnTo>
                  <a:pt x="3414186" y="262215"/>
                </a:lnTo>
                <a:lnTo>
                  <a:pt x="3414186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6"/>
          <p:cNvSpPr/>
          <p:nvPr/>
        </p:nvSpPr>
        <p:spPr>
          <a:xfrm>
            <a:off x="2532240" y="3319560"/>
            <a:ext cx="2744640" cy="1101600"/>
          </a:xfrm>
          <a:custGeom>
            <a:avLst/>
            <a:gdLst>
              <a:gd name="textAreaLeft" fmla="*/ 0 w 2744640"/>
              <a:gd name="textAreaRight" fmla="*/ 2745000 w 27446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cubicBezTo>
                  <a:pt x="2715718" y="38997"/>
                  <a:pt x="2688879" y="80624"/>
                  <a:pt x="2665694" y="124465"/>
                </a:cubicBezTo>
                <a:lnTo>
                  <a:pt x="2612604" y="250011"/>
                </a:lnTo>
                <a:lnTo>
                  <a:pt x="2574084" y="393254"/>
                </a:lnTo>
                <a:cubicBezTo>
                  <a:pt x="2565069" y="444405"/>
                  <a:pt x="2560435" y="497058"/>
                  <a:pt x="2560435" y="550792"/>
                </a:cubicBezTo>
                <a:cubicBezTo>
                  <a:pt x="2560435" y="757727"/>
                  <a:pt x="2629156" y="948623"/>
                  <a:pt x="2745871" y="1101307"/>
                </a:cubicBezTo>
                <a:lnTo>
                  <a:pt x="0" y="1101307"/>
                </a:lnTo>
                <a:lnTo>
                  <a:pt x="0" y="262216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7"/>
          <p:cNvSpPr/>
          <p:nvPr/>
        </p:nvSpPr>
        <p:spPr>
          <a:xfrm>
            <a:off x="5197320" y="3059280"/>
            <a:ext cx="1621080" cy="162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2770200" y="2324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277488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2770200" y="3543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2774880" y="38289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2770200" y="4768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3"/>
          <p:cNvSpPr/>
          <p:nvPr/>
        </p:nvSpPr>
        <p:spPr>
          <a:xfrm>
            <a:off x="2774880" y="50547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7332840" y="232416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695160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7332840" y="3543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7094520" y="38289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7332840" y="47689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3"/>
          <p:cNvSpPr/>
          <p:nvPr/>
        </p:nvSpPr>
        <p:spPr>
          <a:xfrm>
            <a:off x="7094520" y="50547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3"/>
          <p:cNvSpPr/>
          <p:nvPr/>
        </p:nvSpPr>
        <p:spPr>
          <a:xfrm>
            <a:off x="5556240" y="375120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2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2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D391-4E3F-40E6-B8C6-C6854FC041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4"/>
          <p:cNvGrpSpPr/>
          <p:nvPr/>
        </p:nvGrpSpPr>
        <p:grpSpPr>
          <a:xfrm>
            <a:off x="5380200" y="1460520"/>
            <a:ext cx="1533240" cy="1593720"/>
            <a:chOff x="5380200" y="1460520"/>
            <a:chExt cx="1533240" cy="1593720"/>
          </a:xfrm>
        </p:grpSpPr>
        <p:sp>
          <p:nvSpPr>
            <p:cNvPr id="488" name="Oval 1"/>
            <p:cNvSpPr/>
            <p:nvPr/>
          </p:nvSpPr>
          <p:spPr>
            <a:xfrm>
              <a:off x="5380200" y="1460520"/>
              <a:ext cx="1533240" cy="1533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iamond 12"/>
            <p:cNvSpPr/>
            <p:nvPr/>
          </p:nvSpPr>
          <p:spPr>
            <a:xfrm>
              <a:off x="6026040" y="2886120"/>
              <a:ext cx="241200" cy="16812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2"/>
          <p:cNvSpPr/>
          <p:nvPr/>
        </p:nvSpPr>
        <p:spPr>
          <a:xfrm>
            <a:off x="5823000" y="5921280"/>
            <a:ext cx="647640" cy="46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"/>
          <p:cNvSpPr/>
          <p:nvPr/>
        </p:nvSpPr>
        <p:spPr>
          <a:xfrm>
            <a:off x="6146640" y="5967360"/>
            <a:ext cx="0" cy="8906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2336760" y="4011480"/>
            <a:ext cx="8267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4770360" y="32464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4979880" y="35402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5675400" y="5575320"/>
            <a:ext cx="94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1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1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"/>
          <p:cNvSpPr/>
          <p:nvPr/>
        </p:nvSpPr>
        <p:spPr>
          <a:xfrm>
            <a:off x="5630760" y="1833480"/>
            <a:ext cx="1042920" cy="80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traight Connector 5"/>
          <p:cNvSpPr/>
          <p:nvPr/>
        </p:nvSpPr>
        <p:spPr>
          <a:xfrm flipH="1">
            <a:off x="6130800" y="596880"/>
            <a:ext cx="54000" cy="466740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6278400" y="5210280"/>
            <a:ext cx="658800" cy="0"/>
          </a:xfrm>
          <a:prstGeom prst="line">
            <a:avLst/>
          </a:prstGeom>
          <a:ln cap="rnd" w="38160">
            <a:solidFill>
              <a:srgbClr val="61da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3"/>
          <p:cNvSpPr/>
          <p:nvPr/>
        </p:nvSpPr>
        <p:spPr>
          <a:xfrm>
            <a:off x="6070680" y="513396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224840" y="4979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dee9"/>
                </a:solidFill>
                <a:latin typeface="Arial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8"/>
          <p:cNvSpPr/>
          <p:nvPr/>
        </p:nvSpPr>
        <p:spPr>
          <a:xfrm>
            <a:off x="6348240" y="33782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9"/>
          <p:cNvSpPr/>
          <p:nvPr/>
        </p:nvSpPr>
        <p:spPr>
          <a:xfrm>
            <a:off x="5386320" y="47023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968640" y="2362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3973680" y="264780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3968640" y="4973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73680" y="525924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950160" y="3662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6953400" y="394812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圆角矩形 2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圆角矩形 3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464-70DB-4991-BF07-3023F4F288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5"/>
          <p:cNvSpPr/>
          <p:nvPr/>
        </p:nvSpPr>
        <p:spPr>
          <a:xfrm flipH="1">
            <a:off x="6146280" y="542880"/>
            <a:ext cx="25560" cy="41594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1c8e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9d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3892680" y="23623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3"/>
          <p:cNvSpPr/>
          <p:nvPr/>
        </p:nvSpPr>
        <p:spPr>
          <a:xfrm>
            <a:off x="3895560" y="2647800"/>
            <a:ext cx="138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6950160" y="36608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6953400" y="39466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2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2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7"/>
          <p:cNvSpPr/>
          <p:nvPr/>
        </p:nvSpPr>
        <p:spPr>
          <a:xfrm>
            <a:off x="6346800" y="34178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"/>
          <p:cNvSpPr/>
          <p:nvPr/>
        </p:nvSpPr>
        <p:spPr>
          <a:xfrm>
            <a:off x="5935680" y="5013360"/>
            <a:ext cx="474480" cy="474480"/>
          </a:xfrm>
          <a:custGeom>
            <a:avLst/>
            <a:gdLst>
              <a:gd name="textAreaLeft" fmla="*/ 0 w 474480"/>
              <a:gd name="textAreaRight" fmla="*/ 474840 w 4744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59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3" descr=""/>
          <p:cNvPicPr/>
          <p:nvPr/>
        </p:nvPicPr>
        <p:blipFill>
          <a:blip r:embed="rId1"/>
          <a:srcRect l="201" t="15241" r="-198" b="11887"/>
          <a:stretch/>
        </p:blipFill>
        <p:spPr>
          <a:xfrm>
            <a:off x="-30240" y="-27000"/>
            <a:ext cx="1239048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矩形 34"/>
          <p:cNvSpPr/>
          <p:nvPr/>
        </p:nvSpPr>
        <p:spPr>
          <a:xfrm>
            <a:off x="-47520" y="-27000"/>
            <a:ext cx="12360240" cy="6885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5"/>
          <p:cNvSpPr/>
          <p:nvPr/>
        </p:nvSpPr>
        <p:spPr>
          <a:xfrm>
            <a:off x="2622600" y="-20520"/>
            <a:ext cx="6858000" cy="10285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6"/>
          <p:cNvSpPr/>
          <p:nvPr/>
        </p:nvSpPr>
        <p:spPr>
          <a:xfrm>
            <a:off x="2719440" y="-27000"/>
            <a:ext cx="6646680" cy="979560"/>
          </a:xfrm>
          <a:prstGeom prst="rect">
            <a:avLst/>
          </a:prstGeom>
          <a:solidFill>
            <a:srgbClr val="4c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8"/>
          <p:cNvSpPr/>
          <p:nvPr/>
        </p:nvSpPr>
        <p:spPr>
          <a:xfrm>
            <a:off x="3575160" y="177840"/>
            <a:ext cx="546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2"/>
          <p:cNvSpPr/>
          <p:nvPr/>
        </p:nvSpPr>
        <p:spPr>
          <a:xfrm rot="16200000">
            <a:off x="110880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c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2"/>
          <p:cNvSpPr/>
          <p:nvPr/>
        </p:nvSpPr>
        <p:spPr>
          <a:xfrm rot="16200000">
            <a:off x="527436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a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 rot="16200000">
            <a:off x="9438120" y="2302200"/>
            <a:ext cx="2125800" cy="227952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57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9"/>
          <p:cNvSpPr/>
          <p:nvPr/>
        </p:nvSpPr>
        <p:spPr>
          <a:xfrm>
            <a:off x="159372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1"/>
          <p:cNvSpPr/>
          <p:nvPr/>
        </p:nvSpPr>
        <p:spPr>
          <a:xfrm>
            <a:off x="1003356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3"/>
          <p:cNvSpPr/>
          <p:nvPr/>
        </p:nvSpPr>
        <p:spPr>
          <a:xfrm>
            <a:off x="4213080" y="449568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592280" y="3075120"/>
            <a:ext cx="1042920" cy="799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880240" y="3048120"/>
            <a:ext cx="853920" cy="853920"/>
          </a:xfrm>
          <a:custGeom>
            <a:avLst/>
            <a:gdLst>
              <a:gd name="textAreaLeft" fmla="*/ 0 w 853920"/>
              <a:gd name="textAreaRight" fmla="*/ 854280 w 85392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9"/>
          <p:cNvSpPr/>
          <p:nvPr/>
        </p:nvSpPr>
        <p:spPr>
          <a:xfrm>
            <a:off x="10045800" y="3008160"/>
            <a:ext cx="911160" cy="801720"/>
          </a:xfrm>
          <a:custGeom>
            <a:avLst/>
            <a:gdLst>
              <a:gd name="textAreaLeft" fmla="*/ 0 w 911160"/>
              <a:gd name="textAreaRight" fmla="*/ 911520 w 911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487" h="390">
                <a:moveTo>
                  <a:pt x="478" y="9"/>
                </a:moveTo>
                <a:lnTo>
                  <a:pt x="478" y="9"/>
                </a:lnTo>
                <a:cubicBezTo>
                  <a:pt x="372" y="195"/>
                  <a:pt x="372" y="195"/>
                  <a:pt x="372" y="195"/>
                </a:cubicBezTo>
                <a:cubicBezTo>
                  <a:pt x="363" y="204"/>
                  <a:pt x="354" y="204"/>
                  <a:pt x="345" y="195"/>
                </a:cubicBezTo>
                <a:cubicBezTo>
                  <a:pt x="292" y="150"/>
                  <a:pt x="292" y="150"/>
                  <a:pt x="292" y="150"/>
                </a:cubicBezTo>
                <a:cubicBezTo>
                  <a:pt x="283" y="141"/>
                  <a:pt x="283" y="141"/>
                  <a:pt x="274" y="150"/>
                </a:cubicBezTo>
                <a:cubicBezTo>
                  <a:pt x="194" y="266"/>
                  <a:pt x="194" y="266"/>
                  <a:pt x="194" y="266"/>
                </a:cubicBezTo>
                <a:cubicBezTo>
                  <a:pt x="194" y="275"/>
                  <a:pt x="186" y="275"/>
                  <a:pt x="177" y="266"/>
                </a:cubicBezTo>
                <a:cubicBezTo>
                  <a:pt x="141" y="239"/>
                  <a:pt x="141" y="239"/>
                  <a:pt x="141" y="239"/>
                </a:cubicBezTo>
                <a:cubicBezTo>
                  <a:pt x="132" y="230"/>
                  <a:pt x="123" y="230"/>
                  <a:pt x="123" y="239"/>
                </a:cubicBezTo>
                <a:cubicBezTo>
                  <a:pt x="8" y="381"/>
                  <a:pt x="8" y="381"/>
                  <a:pt x="8" y="381"/>
                </a:cubicBezTo>
                <a:cubicBezTo>
                  <a:pt x="0" y="389"/>
                  <a:pt x="0" y="389"/>
                  <a:pt x="8" y="389"/>
                </a:cubicBezTo>
                <a:cubicBezTo>
                  <a:pt x="486" y="389"/>
                  <a:pt x="486" y="389"/>
                  <a:pt x="486" y="389"/>
                </a:cubicBezTo>
                <a:cubicBezTo>
                  <a:pt x="486" y="9"/>
                  <a:pt x="486" y="9"/>
                  <a:pt x="486" y="9"/>
                </a:cubicBezTo>
                <a:cubicBezTo>
                  <a:pt x="486" y="0"/>
                  <a:pt x="486" y="0"/>
                  <a:pt x="478" y="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19A3-331D-4AB4-8FAA-8315D793BC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平行四边形 4"/>
          <p:cNvSpPr/>
          <p:nvPr/>
        </p:nvSpPr>
        <p:spPr>
          <a:xfrm>
            <a:off x="3648240" y="0"/>
            <a:ext cx="8543880" cy="6886440"/>
          </a:xfrm>
          <a:prstGeom prst="parallelogram">
            <a:avLst>
              <a:gd name="adj" fmla="val -5214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5"/>
          <p:cNvSpPr/>
          <p:nvPr/>
        </p:nvSpPr>
        <p:spPr>
          <a:xfrm>
            <a:off x="3792600" y="0"/>
            <a:ext cx="8186760" cy="6886440"/>
          </a:xfrm>
          <a:prstGeom prst="parallelogram">
            <a:avLst>
              <a:gd name="adj" fmla="val -58050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6801840" y="358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角三角形 3"/>
          <p:cNvSpPr/>
          <p:nvPr/>
        </p:nvSpPr>
        <p:spPr>
          <a:xfrm flipH="1">
            <a:off x="2710800" y="3645000"/>
            <a:ext cx="9505800" cy="3240000"/>
          </a:xfrm>
          <a:prstGeom prst="rtTriangl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6897600" y="1341360"/>
            <a:ext cx="5011920" cy="467064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le 11"/>
          <p:cNvSpPr/>
          <p:nvPr/>
        </p:nvSpPr>
        <p:spPr>
          <a:xfrm>
            <a:off x="11714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9"/>
          <p:cNvSpPr/>
          <p:nvPr/>
        </p:nvSpPr>
        <p:spPr>
          <a:xfrm flipH="1">
            <a:off x="1527120" y="4343400"/>
            <a:ext cx="300240" cy="369720"/>
          </a:xfrm>
          <a:custGeom>
            <a:avLst/>
            <a:gdLst>
              <a:gd name="textAreaLeft" fmla="*/ 360 w 300240"/>
              <a:gd name="textAreaRight" fmla="*/ 300960 w 3002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1" h="51">
                <a:moveTo>
                  <a:pt x="41" y="47"/>
                </a:moveTo>
                <a:cubicBezTo>
                  <a:pt x="41" y="49"/>
                  <a:pt x="39" y="51"/>
                  <a:pt x="37" y="51"/>
                </a:cubicBezTo>
                <a:cubicBezTo>
                  <a:pt x="3" y="51"/>
                  <a:pt x="3" y="51"/>
                  <a:pt x="3" y="51"/>
                </a:cubicBezTo>
                <a:cubicBezTo>
                  <a:pt x="1" y="51"/>
                  <a:pt x="0" y="49"/>
                  <a:pt x="0" y="4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1" y="23"/>
                  <a:pt x="3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8"/>
                  <a:pt x="12" y="0"/>
                  <a:pt x="20" y="0"/>
                </a:cubicBezTo>
                <a:cubicBezTo>
                  <a:pt x="29" y="0"/>
                  <a:pt x="36" y="8"/>
                  <a:pt x="36" y="16"/>
                </a:cubicBezTo>
                <a:cubicBezTo>
                  <a:pt x="36" y="23"/>
                  <a:pt x="36" y="23"/>
                  <a:pt x="36" y="23"/>
                </a:cubicBezTo>
                <a:cubicBezTo>
                  <a:pt x="37" y="23"/>
                  <a:pt x="37" y="23"/>
                  <a:pt x="37" y="23"/>
                </a:cubicBezTo>
                <a:cubicBezTo>
                  <a:pt x="39" y="23"/>
                  <a:pt x="41" y="25"/>
                  <a:pt x="41" y="27"/>
                </a:cubicBezTo>
                <a:lnTo>
                  <a:pt x="41" y="47"/>
                </a:lnTo>
                <a:close/>
                <a:moveTo>
                  <a:pt x="29" y="23"/>
                </a:moveTo>
                <a:cubicBezTo>
                  <a:pt x="29" y="16"/>
                  <a:pt x="29" y="16"/>
                  <a:pt x="29" y="16"/>
                </a:cubicBezTo>
                <a:cubicBezTo>
                  <a:pt x="29" y="11"/>
                  <a:pt x="25" y="7"/>
                  <a:pt x="20" y="7"/>
                </a:cubicBezTo>
                <a:cubicBezTo>
                  <a:pt x="15" y="7"/>
                  <a:pt x="11" y="11"/>
                  <a:pt x="11" y="16"/>
                </a:cubicBezTo>
                <a:cubicBezTo>
                  <a:pt x="11" y="23"/>
                  <a:pt x="11" y="23"/>
                  <a:pt x="11" y="23"/>
                </a:cubicBezTo>
                <a:lnTo>
                  <a:pt x="29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4"/>
          <p:cNvSpPr/>
          <p:nvPr/>
        </p:nvSpPr>
        <p:spPr>
          <a:xfrm>
            <a:off x="24541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3"/>
          <p:cNvSpPr/>
          <p:nvPr/>
        </p:nvSpPr>
        <p:spPr>
          <a:xfrm>
            <a:off x="2735280" y="4349880"/>
            <a:ext cx="452520" cy="355320"/>
          </a:xfrm>
          <a:custGeom>
            <a:avLst/>
            <a:gdLst>
              <a:gd name="textAreaLeft" fmla="*/ 0 w 452520"/>
              <a:gd name="textAreaRight" fmla="*/ 452880 w 452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7400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5"/>
          <p:cNvSpPr/>
          <p:nvPr/>
        </p:nvSpPr>
        <p:spPr>
          <a:xfrm>
            <a:off x="4025880" y="4327560"/>
            <a:ext cx="441360" cy="380880"/>
          </a:xfrm>
          <a:custGeom>
            <a:avLst/>
            <a:gdLst>
              <a:gd name="textAreaLeft" fmla="*/ 0 w 441360"/>
              <a:gd name="textAreaRight" fmla="*/ 441720 w 441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2"/>
          <p:cNvSpPr/>
          <p:nvPr/>
        </p:nvSpPr>
        <p:spPr>
          <a:xfrm>
            <a:off x="50245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0"/>
          <p:cNvSpPr/>
          <p:nvPr/>
        </p:nvSpPr>
        <p:spPr>
          <a:xfrm>
            <a:off x="5303880" y="4300560"/>
            <a:ext cx="453960" cy="434880"/>
          </a:xfrm>
          <a:custGeom>
            <a:avLst/>
            <a:gdLst>
              <a:gd name="textAreaLeft" fmla="*/ 0 w 453960"/>
              <a:gd name="textAreaRight" fmla="*/ 454320 w 4539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35576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610000" y="48308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89412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103720" y="48308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2"/>
          <p:cNvSpPr/>
          <p:nvPr/>
        </p:nvSpPr>
        <p:spPr>
          <a:xfrm>
            <a:off x="1467000" y="160488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467000" y="1282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4"/>
          <p:cNvSpPr/>
          <p:nvPr/>
        </p:nvSpPr>
        <p:spPr>
          <a:xfrm>
            <a:off x="1467000" y="295920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45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46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7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5"/>
          <p:cNvSpPr/>
          <p:nvPr/>
        </p:nvSpPr>
        <p:spPr>
          <a:xfrm>
            <a:off x="1114560" y="5310360"/>
            <a:ext cx="1135080" cy="11682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615" h="643">
                <a:moveTo>
                  <a:pt x="484" y="498"/>
                </a:moveTo>
                <a:cubicBezTo>
                  <a:pt x="615" y="363"/>
                  <a:pt x="250" y="0"/>
                  <a:pt x="144" y="108"/>
                </a:cubicBezTo>
                <a:cubicBezTo>
                  <a:pt x="0" y="257"/>
                  <a:pt x="342" y="643"/>
                  <a:pt x="484" y="49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225440" y="5283360"/>
            <a:ext cx="1036800" cy="108252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571" h="597">
                <a:moveTo>
                  <a:pt x="449" y="463"/>
                </a:moveTo>
                <a:cubicBezTo>
                  <a:pt x="571" y="337"/>
                  <a:pt x="232" y="0"/>
                  <a:pt x="134" y="101"/>
                </a:cubicBezTo>
                <a:cubicBezTo>
                  <a:pt x="0" y="238"/>
                  <a:pt x="318" y="597"/>
                  <a:pt x="449" y="463"/>
                </a:cubicBez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1165320" y="5202360"/>
            <a:ext cx="1158840" cy="135720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435" h="509">
                <a:moveTo>
                  <a:pt x="249" y="0"/>
                </a:moveTo>
                <a:lnTo>
                  <a:pt x="0" y="293"/>
                </a:lnTo>
                <a:lnTo>
                  <a:pt x="0" y="509"/>
                </a:lnTo>
                <a:lnTo>
                  <a:pt x="147" y="509"/>
                </a:lnTo>
                <a:lnTo>
                  <a:pt x="435" y="213"/>
                </a:lnTo>
                <a:lnTo>
                  <a:pt x="249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1073160" y="5289480"/>
            <a:ext cx="1176480" cy="8827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49" h="486">
                <a:moveTo>
                  <a:pt x="281" y="89"/>
                </a:moveTo>
                <a:cubicBezTo>
                  <a:pt x="0" y="387"/>
                  <a:pt x="0" y="387"/>
                  <a:pt x="0" y="387"/>
                </a:cubicBezTo>
                <a:cubicBezTo>
                  <a:pt x="0" y="469"/>
                  <a:pt x="0" y="469"/>
                  <a:pt x="0" y="469"/>
                </a:cubicBezTo>
                <a:cubicBezTo>
                  <a:pt x="204" y="250"/>
                  <a:pt x="204" y="250"/>
                  <a:pt x="204" y="250"/>
                </a:cubicBezTo>
                <a:cubicBezTo>
                  <a:pt x="472" y="486"/>
                  <a:pt x="472" y="486"/>
                  <a:pt x="472" y="486"/>
                </a:cubicBezTo>
                <a:cubicBezTo>
                  <a:pt x="522" y="435"/>
                  <a:pt x="522" y="435"/>
                  <a:pt x="522" y="435"/>
                </a:cubicBezTo>
                <a:cubicBezTo>
                  <a:pt x="425" y="396"/>
                  <a:pt x="328" y="304"/>
                  <a:pt x="299" y="225"/>
                </a:cubicBezTo>
                <a:cubicBezTo>
                  <a:pt x="281" y="172"/>
                  <a:pt x="311" y="151"/>
                  <a:pt x="346" y="192"/>
                </a:cubicBezTo>
                <a:cubicBezTo>
                  <a:pt x="424" y="282"/>
                  <a:pt x="496" y="325"/>
                  <a:pt x="618" y="336"/>
                </a:cubicBezTo>
                <a:cubicBezTo>
                  <a:pt x="649" y="305"/>
                  <a:pt x="649" y="305"/>
                  <a:pt x="649" y="305"/>
                </a:cubicBezTo>
                <a:cubicBezTo>
                  <a:pt x="367" y="0"/>
                  <a:pt x="367" y="0"/>
                  <a:pt x="367" y="0"/>
                </a:cubicBezTo>
                <a:lnTo>
                  <a:pt x="281" y="89"/>
                </a:ln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1047600" y="5475240"/>
            <a:ext cx="990720" cy="1197000"/>
          </a:xfrm>
          <a:custGeom>
            <a:avLst/>
            <a:gdLst>
              <a:gd name="textAreaLeft" fmla="*/ 0 w 990720"/>
              <a:gd name="textAreaRight" fmla="*/ 991080 w 99072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546" h="660">
                <a:moveTo>
                  <a:pt x="231" y="0"/>
                </a:moveTo>
                <a:cubicBezTo>
                  <a:pt x="0" y="262"/>
                  <a:pt x="0" y="262"/>
                  <a:pt x="0" y="262"/>
                </a:cubicBezTo>
                <a:cubicBezTo>
                  <a:pt x="0" y="660"/>
                  <a:pt x="0" y="660"/>
                  <a:pt x="0" y="660"/>
                </a:cubicBezTo>
                <a:cubicBezTo>
                  <a:pt x="255" y="660"/>
                  <a:pt x="255" y="660"/>
                  <a:pt x="255" y="660"/>
                </a:cubicBezTo>
                <a:cubicBezTo>
                  <a:pt x="546" y="361"/>
                  <a:pt x="546" y="361"/>
                  <a:pt x="546" y="361"/>
                </a:cubicBezTo>
                <a:cubicBezTo>
                  <a:pt x="451" y="329"/>
                  <a:pt x="378" y="282"/>
                  <a:pt x="326" y="221"/>
                </a:cubicBezTo>
                <a:cubicBezTo>
                  <a:pt x="275" y="160"/>
                  <a:pt x="243" y="86"/>
                  <a:pt x="231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6480" y="5545080"/>
            <a:ext cx="1957320" cy="14907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21403" h="10000">
                <a:moveTo>
                  <a:pt x="14657" y="0"/>
                </a:moveTo>
                <a:cubicBezTo>
                  <a:pt x="11403" y="2058"/>
                  <a:pt x="0" y="9923"/>
                  <a:pt x="0" y="9923"/>
                </a:cubicBezTo>
                <a:lnTo>
                  <a:pt x="11403" y="10000"/>
                </a:lnTo>
                <a:lnTo>
                  <a:pt x="13109" y="10000"/>
                </a:lnTo>
                <a:lnTo>
                  <a:pt x="21403" y="4750"/>
                </a:lnTo>
                <a:cubicBezTo>
                  <a:pt x="19379" y="4336"/>
                  <a:pt x="17812" y="3715"/>
                  <a:pt x="16701" y="2899"/>
                </a:cubicBezTo>
                <a:cubicBezTo>
                  <a:pt x="15609" y="2107"/>
                  <a:pt x="14935" y="1145"/>
                  <a:pt x="14657" y="0"/>
                </a:cubicBezTo>
                <a:close/>
              </a:path>
            </a:pathLst>
          </a:custGeom>
          <a:solidFill>
            <a:srgbClr val="545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1704960" y="4540320"/>
            <a:ext cx="1389240" cy="1390680"/>
          </a:xfrm>
          <a:prstGeom prst="ellipse">
            <a:avLst/>
          </a:pr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2281320" y="4083120"/>
            <a:ext cx="490320" cy="1100160"/>
          </a:xfrm>
          <a:custGeom>
            <a:avLst/>
            <a:gdLst>
              <a:gd name="textAreaLeft" fmla="*/ 0 w 490320"/>
              <a:gd name="textAreaRight" fmla="*/ 490680 w 490320"/>
              <a:gd name="textAreaTop" fmla="*/ 0 h 1100160"/>
              <a:gd name="textAreaBottom" fmla="*/ 1100160 h 1100160"/>
            </a:gdLst>
            <a:ahLst/>
            <a:rect l="textAreaLeft" t="textAreaTop" r="textAreaRight" b="textAreaBottom"/>
            <a:pathLst>
              <a:path w="270" h="606">
                <a:moveTo>
                  <a:pt x="216" y="24"/>
                </a:moveTo>
                <a:cubicBezTo>
                  <a:pt x="191" y="0"/>
                  <a:pt x="152" y="1"/>
                  <a:pt x="128" y="25"/>
                </a:cubicBezTo>
                <a:cubicBezTo>
                  <a:pt x="13" y="143"/>
                  <a:pt x="13" y="143"/>
                  <a:pt x="13" y="143"/>
                </a:cubicBezTo>
                <a:cubicBezTo>
                  <a:pt x="0" y="435"/>
                  <a:pt x="0" y="435"/>
                  <a:pt x="0" y="435"/>
                </a:cubicBezTo>
                <a:cubicBezTo>
                  <a:pt x="0" y="437"/>
                  <a:pt x="41" y="471"/>
                  <a:pt x="42" y="472"/>
                </a:cubicBezTo>
                <a:cubicBezTo>
                  <a:pt x="173" y="606"/>
                  <a:pt x="173" y="606"/>
                  <a:pt x="173" y="606"/>
                </a:cubicBezTo>
                <a:cubicBezTo>
                  <a:pt x="192" y="465"/>
                  <a:pt x="151" y="414"/>
                  <a:pt x="120" y="395"/>
                </a:cubicBezTo>
                <a:cubicBezTo>
                  <a:pt x="202" y="258"/>
                  <a:pt x="202" y="258"/>
                  <a:pt x="202" y="258"/>
                </a:cubicBezTo>
                <a:cubicBezTo>
                  <a:pt x="270" y="189"/>
                  <a:pt x="268" y="76"/>
                  <a:pt x="216" y="24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1978200" y="4756320"/>
            <a:ext cx="760320" cy="782640"/>
          </a:xfrm>
          <a:custGeom>
            <a:avLst/>
            <a:gdLst>
              <a:gd name="textAreaLeft" fmla="*/ 0 w 760320"/>
              <a:gd name="textAreaRight" fmla="*/ 760680 w 7603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419" h="432">
                <a:moveTo>
                  <a:pt x="132" y="30"/>
                </a:moveTo>
                <a:cubicBezTo>
                  <a:pt x="40" y="60"/>
                  <a:pt x="0" y="168"/>
                  <a:pt x="43" y="271"/>
                </a:cubicBezTo>
                <a:cubicBezTo>
                  <a:pt x="85" y="373"/>
                  <a:pt x="195" y="432"/>
                  <a:pt x="287" y="402"/>
                </a:cubicBezTo>
                <a:cubicBezTo>
                  <a:pt x="379" y="372"/>
                  <a:pt x="419" y="264"/>
                  <a:pt x="376" y="161"/>
                </a:cubicBezTo>
                <a:cubicBezTo>
                  <a:pt x="333" y="59"/>
                  <a:pt x="224" y="0"/>
                  <a:pt x="132" y="3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2629080" y="3484440"/>
            <a:ext cx="3354120" cy="226404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849" h="1248">
                <a:moveTo>
                  <a:pt x="1849" y="1074"/>
                </a:moveTo>
                <a:cubicBezTo>
                  <a:pt x="1849" y="174"/>
                  <a:pt x="1849" y="174"/>
                  <a:pt x="1849" y="174"/>
                </a:cubicBezTo>
                <a:cubicBezTo>
                  <a:pt x="1849" y="78"/>
                  <a:pt x="1771" y="0"/>
                  <a:pt x="1675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79" y="0"/>
                  <a:pt x="0" y="78"/>
                  <a:pt x="0" y="1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170"/>
                  <a:pt x="79" y="1248"/>
                  <a:pt x="174" y="1248"/>
                </a:cubicBezTo>
                <a:cubicBezTo>
                  <a:pt x="1675" y="1248"/>
                  <a:pt x="1675" y="1248"/>
                  <a:pt x="1675" y="1248"/>
                </a:cubicBezTo>
                <a:cubicBezTo>
                  <a:pt x="1771" y="1248"/>
                  <a:pt x="1849" y="1170"/>
                  <a:pt x="1849" y="1074"/>
                </a:cubicBez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3213000" y="3484440"/>
            <a:ext cx="2770200" cy="1538280"/>
          </a:xfrm>
          <a:custGeom>
            <a:avLst/>
            <a:gdLst>
              <a:gd name="textAreaLeft" fmla="*/ 0 w 2770200"/>
              <a:gd name="textAreaRight" fmla="*/ 2770560 w 2770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1527" h="848">
                <a:moveTo>
                  <a:pt x="1527" y="848"/>
                </a:moveTo>
                <a:cubicBezTo>
                  <a:pt x="0" y="0"/>
                  <a:pt x="0" y="0"/>
                  <a:pt x="0" y="0"/>
                </a:cubicBezTo>
                <a:cubicBezTo>
                  <a:pt x="1352" y="0"/>
                  <a:pt x="1352" y="0"/>
                  <a:pt x="1352" y="0"/>
                </a:cubicBezTo>
                <a:cubicBezTo>
                  <a:pt x="1448" y="0"/>
                  <a:pt x="1527" y="78"/>
                  <a:pt x="1527" y="174"/>
                </a:cubicBezTo>
                <a:lnTo>
                  <a:pt x="1527" y="848"/>
                </a:lnTo>
                <a:close/>
              </a:path>
            </a:pathLst>
          </a:cu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5"/>
          <p:cNvSpPr/>
          <p:nvPr/>
        </p:nvSpPr>
        <p:spPr>
          <a:xfrm>
            <a:off x="3152880" y="3497400"/>
            <a:ext cx="2448000" cy="20764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918" h="779">
                <a:moveTo>
                  <a:pt x="918" y="0"/>
                </a:moveTo>
                <a:lnTo>
                  <a:pt x="712" y="347"/>
                </a:lnTo>
                <a:lnTo>
                  <a:pt x="399" y="389"/>
                </a:lnTo>
                <a:lnTo>
                  <a:pt x="193" y="779"/>
                </a:lnTo>
                <a:lnTo>
                  <a:pt x="0" y="779"/>
                </a:lnTo>
                <a:lnTo>
                  <a:pt x="0" y="725"/>
                </a:lnTo>
                <a:lnTo>
                  <a:pt x="288" y="303"/>
                </a:lnTo>
                <a:lnTo>
                  <a:pt x="638" y="264"/>
                </a:lnTo>
                <a:lnTo>
                  <a:pt x="813" y="0"/>
                </a:lnTo>
                <a:lnTo>
                  <a:pt x="918" y="0"/>
                </a:ln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3182760" y="3659040"/>
            <a:ext cx="2600640" cy="191484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432" h="1042">
                <a:moveTo>
                  <a:pt x="1432" y="1038"/>
                </a:moveTo>
                <a:cubicBezTo>
                  <a:pt x="1432" y="4"/>
                  <a:pt x="1432" y="4"/>
                  <a:pt x="1432" y="4"/>
                </a:cubicBezTo>
                <a:cubicBezTo>
                  <a:pt x="1432" y="2"/>
                  <a:pt x="1431" y="0"/>
                  <a:pt x="14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2" y="1042"/>
                  <a:pt x="4" y="1042"/>
                </a:cubicBezTo>
                <a:cubicBezTo>
                  <a:pt x="1429" y="1042"/>
                  <a:pt x="1429" y="1042"/>
                  <a:pt x="1429" y="1042"/>
                </a:cubicBezTo>
                <a:cubicBezTo>
                  <a:pt x="1431" y="1042"/>
                  <a:pt x="1432" y="1040"/>
                  <a:pt x="1432" y="10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2768760" y="4533840"/>
            <a:ext cx="161640" cy="165240"/>
          </a:xfrm>
          <a:prstGeom prst="ellipse">
            <a:avLst/>
          </a:pr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6"/>
          <p:cNvSpPr/>
          <p:nvPr/>
        </p:nvSpPr>
        <p:spPr>
          <a:xfrm>
            <a:off x="1873080" y="4060800"/>
            <a:ext cx="912960" cy="993960"/>
          </a:xfrm>
          <a:custGeom>
            <a:avLst/>
            <a:gdLst>
              <a:gd name="textAreaLeft" fmla="*/ 0 w 912960"/>
              <a:gd name="textAreaRight" fmla="*/ 913320 w 912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503" h="548">
                <a:moveTo>
                  <a:pt x="449" y="24"/>
                </a:moveTo>
                <a:cubicBezTo>
                  <a:pt x="425" y="0"/>
                  <a:pt x="385" y="0"/>
                  <a:pt x="361" y="25"/>
                </a:cubicBezTo>
                <a:cubicBezTo>
                  <a:pt x="69" y="324"/>
                  <a:pt x="69" y="324"/>
                  <a:pt x="69" y="324"/>
                </a:cubicBezTo>
                <a:cubicBezTo>
                  <a:pt x="28" y="367"/>
                  <a:pt x="0" y="464"/>
                  <a:pt x="43" y="506"/>
                </a:cubicBezTo>
                <a:cubicBezTo>
                  <a:pt x="43" y="506"/>
                  <a:pt x="43" y="506"/>
                  <a:pt x="43" y="506"/>
                </a:cubicBezTo>
                <a:cubicBezTo>
                  <a:pt x="85" y="548"/>
                  <a:pt x="154" y="547"/>
                  <a:pt x="196" y="505"/>
                </a:cubicBezTo>
                <a:cubicBezTo>
                  <a:pt x="436" y="258"/>
                  <a:pt x="436" y="258"/>
                  <a:pt x="436" y="258"/>
                </a:cubicBezTo>
                <a:cubicBezTo>
                  <a:pt x="503" y="189"/>
                  <a:pt x="502" y="75"/>
                  <a:pt x="449" y="24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7"/>
          <p:cNvSpPr/>
          <p:nvPr/>
        </p:nvSpPr>
        <p:spPr>
          <a:xfrm>
            <a:off x="1863720" y="4697280"/>
            <a:ext cx="773280" cy="855720"/>
          </a:xfrm>
          <a:custGeom>
            <a:avLst/>
            <a:gdLst>
              <a:gd name="textAreaLeft" fmla="*/ 0 w 773280"/>
              <a:gd name="textAreaRight" fmla="*/ 773640 w 77328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426" h="472">
                <a:moveTo>
                  <a:pt x="122" y="33"/>
                </a:moveTo>
                <a:cubicBezTo>
                  <a:pt x="32" y="66"/>
                  <a:pt x="0" y="183"/>
                  <a:pt x="50" y="295"/>
                </a:cubicBezTo>
                <a:cubicBezTo>
                  <a:pt x="100" y="407"/>
                  <a:pt x="213" y="472"/>
                  <a:pt x="303" y="439"/>
                </a:cubicBezTo>
                <a:cubicBezTo>
                  <a:pt x="393" y="406"/>
                  <a:pt x="426" y="288"/>
                  <a:pt x="376" y="176"/>
                </a:cubicBezTo>
                <a:cubicBezTo>
                  <a:pt x="326" y="64"/>
                  <a:pt x="212" y="0"/>
                  <a:pt x="122" y="33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8"/>
          <p:cNvSpPr/>
          <p:nvPr/>
        </p:nvSpPr>
        <p:spPr>
          <a:xfrm>
            <a:off x="2414520" y="406728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4" h="134">
                <a:moveTo>
                  <a:pt x="0" y="93"/>
                </a:moveTo>
                <a:cubicBezTo>
                  <a:pt x="41" y="117"/>
                  <a:pt x="60" y="126"/>
                  <a:pt x="95" y="134"/>
                </a:cubicBezTo>
                <a:cubicBezTo>
                  <a:pt x="134" y="94"/>
                  <a:pt x="129" y="18"/>
                  <a:pt x="92" y="0"/>
                </a:cubicBezTo>
                <a:cubicBezTo>
                  <a:pt x="70" y="8"/>
                  <a:pt x="18" y="72"/>
                  <a:pt x="0" y="93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3174840" y="3659040"/>
            <a:ext cx="2333880" cy="1914840"/>
          </a:xfrm>
          <a:custGeom>
            <a:avLst/>
            <a:gdLst>
              <a:gd name="textAreaLeft" fmla="*/ 0 w 2333880"/>
              <a:gd name="textAreaRight" fmla="*/ 2334240 w 233388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287" h="1042">
                <a:moveTo>
                  <a:pt x="1287" y="0"/>
                </a:moveTo>
                <a:cubicBezTo>
                  <a:pt x="1126" y="0"/>
                  <a:pt x="1126" y="0"/>
                  <a:pt x="1126" y="0"/>
                </a:cubicBezTo>
                <a:cubicBezTo>
                  <a:pt x="937" y="286"/>
                  <a:pt x="937" y="286"/>
                  <a:pt x="937" y="286"/>
                </a:cubicBezTo>
                <a:cubicBezTo>
                  <a:pt x="423" y="343"/>
                  <a:pt x="423" y="343"/>
                  <a:pt x="423" y="343"/>
                </a:cubicBezTo>
                <a:cubicBezTo>
                  <a:pt x="0" y="963"/>
                  <a:pt x="0" y="963"/>
                  <a:pt x="0" y="963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1" y="1042"/>
                  <a:pt x="3" y="1042"/>
                </a:cubicBezTo>
                <a:cubicBezTo>
                  <a:pt x="283" y="1042"/>
                  <a:pt x="283" y="1042"/>
                  <a:pt x="283" y="1042"/>
                </a:cubicBezTo>
                <a:cubicBezTo>
                  <a:pt x="586" y="469"/>
                  <a:pt x="586" y="469"/>
                  <a:pt x="586" y="469"/>
                </a:cubicBezTo>
                <a:cubicBezTo>
                  <a:pt x="1046" y="408"/>
                  <a:pt x="1046" y="408"/>
                  <a:pt x="1046" y="408"/>
                </a:cubicBezTo>
                <a:lnTo>
                  <a:pt x="128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3174840" y="1994040"/>
            <a:ext cx="3027600" cy="3579840"/>
          </a:xfrm>
          <a:custGeom>
            <a:avLst/>
            <a:gdLst>
              <a:gd name="textAreaLeft" fmla="*/ 0 w 3027600"/>
              <a:gd name="textAreaRight" fmla="*/ 3027960 w 3027600"/>
              <a:gd name="textAreaTop" fmla="*/ 0 h 3579840"/>
              <a:gd name="textAreaBottom" fmla="*/ 3580200 h 3579840"/>
            </a:gdLst>
            <a:ahLst/>
            <a:rect l="textAreaLeft" t="textAreaTop" r="textAreaRight" b="textAreaBottom"/>
            <a:pathLst>
              <a:path w="1135" h="1343">
                <a:moveTo>
                  <a:pt x="1135" y="185"/>
                </a:moveTo>
                <a:lnTo>
                  <a:pt x="1133" y="296"/>
                </a:lnTo>
                <a:lnTo>
                  <a:pt x="1034" y="242"/>
                </a:lnTo>
                <a:lnTo>
                  <a:pt x="712" y="857"/>
                </a:lnTo>
                <a:lnTo>
                  <a:pt x="399" y="903"/>
                </a:lnTo>
                <a:lnTo>
                  <a:pt x="192" y="1343"/>
                </a:lnTo>
                <a:lnTo>
                  <a:pt x="0" y="1343"/>
                </a:lnTo>
                <a:lnTo>
                  <a:pt x="0" y="1283"/>
                </a:lnTo>
                <a:lnTo>
                  <a:pt x="287" y="807"/>
                </a:lnTo>
                <a:lnTo>
                  <a:pt x="637" y="763"/>
                </a:lnTo>
                <a:lnTo>
                  <a:pt x="965" y="205"/>
                </a:lnTo>
                <a:lnTo>
                  <a:pt x="867" y="152"/>
                </a:lnTo>
                <a:lnTo>
                  <a:pt x="1135" y="0"/>
                </a:lnTo>
                <a:lnTo>
                  <a:pt x="1135" y="117"/>
                </a:lnTo>
                <a:lnTo>
                  <a:pt x="1135" y="185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5"/>
          <p:cNvSpPr/>
          <p:nvPr/>
        </p:nvSpPr>
        <p:spPr>
          <a:xfrm>
            <a:off x="5829480" y="5659560"/>
            <a:ext cx="968040" cy="822240"/>
          </a:xfrm>
          <a:custGeom>
            <a:avLst/>
            <a:gdLst>
              <a:gd name="textAreaLeft" fmla="*/ 0 w 968040"/>
              <a:gd name="textAreaRight" fmla="*/ 968400 w 968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6709" h="6535">
                <a:moveTo>
                  <a:pt x="224" y="5648"/>
                </a:moveTo>
                <a:cubicBezTo>
                  <a:pt x="-1276" y="2910"/>
                  <a:pt x="5226" y="-1618"/>
                  <a:pt x="6434" y="587"/>
                </a:cubicBezTo>
                <a:cubicBezTo>
                  <a:pt x="8087" y="3584"/>
                  <a:pt x="1835" y="8573"/>
                  <a:pt x="224" y="564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6"/>
          <p:cNvSpPr/>
          <p:nvPr/>
        </p:nvSpPr>
        <p:spPr>
          <a:xfrm>
            <a:off x="5829480" y="5618160"/>
            <a:ext cx="906120" cy="728640"/>
          </a:xfrm>
          <a:prstGeom prst="pie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7"/>
          <p:cNvSpPr/>
          <p:nvPr/>
        </p:nvSpPr>
        <p:spPr>
          <a:xfrm>
            <a:off x="5711760" y="5289480"/>
            <a:ext cx="1343160" cy="135108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504" h="507">
                <a:moveTo>
                  <a:pt x="270" y="0"/>
                </a:moveTo>
                <a:lnTo>
                  <a:pt x="504" y="411"/>
                </a:lnTo>
                <a:lnTo>
                  <a:pt x="479" y="507"/>
                </a:lnTo>
                <a:lnTo>
                  <a:pt x="136" y="424"/>
                </a:lnTo>
                <a:lnTo>
                  <a:pt x="0" y="184"/>
                </a:lnTo>
                <a:lnTo>
                  <a:pt x="270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"/>
          <p:cNvSpPr/>
          <p:nvPr/>
        </p:nvSpPr>
        <p:spPr>
          <a:xfrm>
            <a:off x="5883120" y="5518080"/>
            <a:ext cx="1204920" cy="1101960"/>
          </a:xfrm>
          <a:custGeom>
            <a:avLst/>
            <a:gdLst>
              <a:gd name="textAreaLeft" fmla="*/ 0 w 1204920"/>
              <a:gd name="textAreaRight" fmla="*/ 1204920 w 120492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664" h="607">
                <a:moveTo>
                  <a:pt x="373" y="0"/>
                </a:moveTo>
                <a:cubicBezTo>
                  <a:pt x="664" y="515"/>
                  <a:pt x="664" y="515"/>
                  <a:pt x="664" y="515"/>
                </a:cubicBezTo>
                <a:cubicBezTo>
                  <a:pt x="640" y="607"/>
                  <a:pt x="640" y="607"/>
                  <a:pt x="640" y="607"/>
                </a:cubicBezTo>
                <a:cubicBezTo>
                  <a:pt x="430" y="238"/>
                  <a:pt x="430" y="238"/>
                  <a:pt x="430" y="238"/>
                </a:cubicBezTo>
                <a:cubicBezTo>
                  <a:pt x="62" y="424"/>
                  <a:pt x="62" y="424"/>
                  <a:pt x="62" y="424"/>
                </a:cubicBezTo>
                <a:cubicBezTo>
                  <a:pt x="0" y="323"/>
                  <a:pt x="0" y="323"/>
                  <a:pt x="0" y="323"/>
                </a:cubicBezTo>
                <a:cubicBezTo>
                  <a:pt x="128" y="320"/>
                  <a:pt x="244" y="290"/>
                  <a:pt x="332" y="158"/>
                </a:cubicBezTo>
                <a:cubicBezTo>
                  <a:pt x="368" y="105"/>
                  <a:pt x="375" y="55"/>
                  <a:pt x="373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9"/>
          <p:cNvSpPr/>
          <p:nvPr/>
        </p:nvSpPr>
        <p:spPr>
          <a:xfrm>
            <a:off x="5867280" y="5686560"/>
            <a:ext cx="1254240" cy="113796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137960"/>
              <a:gd name="textAreaBottom" fmla="*/ 1138320 h 1137960"/>
            </a:gdLst>
            <a:ahLst/>
            <a:rect l="textAreaLeft" t="textAreaTop" r="textAreaRight" b="textAreaBottom"/>
            <a:pathLst>
              <a:path w="690" h="628">
                <a:moveTo>
                  <a:pt x="458" y="0"/>
                </a:moveTo>
                <a:cubicBezTo>
                  <a:pt x="690" y="408"/>
                  <a:pt x="690" y="408"/>
                  <a:pt x="690" y="408"/>
                </a:cubicBezTo>
                <a:cubicBezTo>
                  <a:pt x="633" y="628"/>
                  <a:pt x="633" y="628"/>
                  <a:pt x="633" y="628"/>
                </a:cubicBezTo>
                <a:cubicBezTo>
                  <a:pt x="107" y="501"/>
                  <a:pt x="107" y="501"/>
                  <a:pt x="107" y="501"/>
                </a:cubicBezTo>
                <a:cubicBezTo>
                  <a:pt x="0" y="313"/>
                  <a:pt x="0" y="313"/>
                  <a:pt x="0" y="313"/>
                </a:cubicBezTo>
                <a:cubicBezTo>
                  <a:pt x="115" y="305"/>
                  <a:pt x="211" y="273"/>
                  <a:pt x="287" y="219"/>
                </a:cubicBezTo>
                <a:cubicBezTo>
                  <a:pt x="362" y="167"/>
                  <a:pt x="418" y="93"/>
                  <a:pt x="458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1"/>
          <p:cNvSpPr/>
          <p:nvPr/>
        </p:nvSpPr>
        <p:spPr>
          <a:xfrm>
            <a:off x="4788000" y="4917960"/>
            <a:ext cx="888840" cy="946440"/>
          </a:xfrm>
          <a:custGeom>
            <a:avLst/>
            <a:gdLst>
              <a:gd name="textAreaLeft" fmla="*/ 0 w 888840"/>
              <a:gd name="textAreaRight" fmla="*/ 889200 w 8888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91" h="522">
                <a:moveTo>
                  <a:pt x="33" y="35"/>
                </a:moveTo>
                <a:cubicBezTo>
                  <a:pt x="8" y="52"/>
                  <a:pt x="0" y="87"/>
                  <a:pt x="18" y="110"/>
                </a:cubicBezTo>
                <a:cubicBezTo>
                  <a:pt x="213" y="358"/>
                  <a:pt x="213" y="358"/>
                  <a:pt x="213" y="358"/>
                </a:cubicBezTo>
                <a:cubicBezTo>
                  <a:pt x="245" y="399"/>
                  <a:pt x="405" y="522"/>
                  <a:pt x="448" y="493"/>
                </a:cubicBezTo>
                <a:cubicBezTo>
                  <a:pt x="491" y="465"/>
                  <a:pt x="421" y="324"/>
                  <a:pt x="389" y="284"/>
                </a:cubicBezTo>
                <a:cubicBezTo>
                  <a:pt x="229" y="90"/>
                  <a:pt x="229" y="90"/>
                  <a:pt x="229" y="90"/>
                </a:cubicBezTo>
                <a:cubicBezTo>
                  <a:pt x="175" y="25"/>
                  <a:pt x="86" y="0"/>
                  <a:pt x="33" y="35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2"/>
          <p:cNvSpPr/>
          <p:nvPr/>
        </p:nvSpPr>
        <p:spPr>
          <a:xfrm>
            <a:off x="4794120" y="5021280"/>
            <a:ext cx="208080" cy="214200"/>
          </a:xfrm>
          <a:custGeom>
            <a:avLst/>
            <a:gdLst>
              <a:gd name="textAreaLeft" fmla="*/ 0 w 208080"/>
              <a:gd name="textAreaRight" fmla="*/ 208440 w 2080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14" h="117">
                <a:moveTo>
                  <a:pt x="69" y="117"/>
                </a:moveTo>
                <a:cubicBezTo>
                  <a:pt x="97" y="87"/>
                  <a:pt x="101" y="77"/>
                  <a:pt x="114" y="49"/>
                </a:cubicBezTo>
                <a:cubicBezTo>
                  <a:pt x="87" y="9"/>
                  <a:pt x="22" y="0"/>
                  <a:pt x="0" y="27"/>
                </a:cubicBezTo>
                <a:cubicBezTo>
                  <a:pt x="5" y="48"/>
                  <a:pt x="54" y="104"/>
                  <a:pt x="69" y="117"/>
                </a:cubicBezTo>
                <a:close/>
              </a:path>
            </a:pathLst>
          </a:custGeom>
          <a:solidFill>
            <a:srgbClr val="e0b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3"/>
          <p:cNvSpPr/>
          <p:nvPr/>
        </p:nvSpPr>
        <p:spPr>
          <a:xfrm>
            <a:off x="4635360" y="3973680"/>
            <a:ext cx="1949760" cy="2095200"/>
          </a:xfrm>
          <a:custGeom>
            <a:avLst/>
            <a:gdLst>
              <a:gd name="textAreaLeft" fmla="*/ 0 w 1949760"/>
              <a:gd name="textAreaRight" fmla="*/ 1950120 w 194976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1075" h="1155">
                <a:moveTo>
                  <a:pt x="230" y="102"/>
                </a:moveTo>
                <a:cubicBezTo>
                  <a:pt x="341" y="330"/>
                  <a:pt x="341" y="330"/>
                  <a:pt x="341" y="330"/>
                </a:cubicBezTo>
                <a:cubicBezTo>
                  <a:pt x="352" y="253"/>
                  <a:pt x="468" y="235"/>
                  <a:pt x="514" y="306"/>
                </a:cubicBezTo>
                <a:cubicBezTo>
                  <a:pt x="514" y="225"/>
                  <a:pt x="623" y="199"/>
                  <a:pt x="677" y="255"/>
                </a:cubicBezTo>
                <a:cubicBezTo>
                  <a:pt x="689" y="180"/>
                  <a:pt x="806" y="168"/>
                  <a:pt x="845" y="244"/>
                </a:cubicBezTo>
                <a:cubicBezTo>
                  <a:pt x="1021" y="596"/>
                  <a:pt x="1021" y="596"/>
                  <a:pt x="1021" y="596"/>
                </a:cubicBezTo>
                <a:cubicBezTo>
                  <a:pt x="1075" y="704"/>
                  <a:pt x="1058" y="918"/>
                  <a:pt x="1029" y="992"/>
                </a:cubicBezTo>
                <a:cubicBezTo>
                  <a:pt x="1001" y="1061"/>
                  <a:pt x="904" y="994"/>
                  <a:pt x="859" y="1027"/>
                </a:cubicBezTo>
                <a:cubicBezTo>
                  <a:pt x="783" y="1081"/>
                  <a:pt x="745" y="1155"/>
                  <a:pt x="638" y="1092"/>
                </a:cubicBezTo>
                <a:cubicBezTo>
                  <a:pt x="560" y="1046"/>
                  <a:pt x="499" y="1021"/>
                  <a:pt x="472" y="969"/>
                </a:cubicBezTo>
                <a:cubicBezTo>
                  <a:pt x="64" y="183"/>
                  <a:pt x="64" y="183"/>
                  <a:pt x="64" y="183"/>
                </a:cubicBezTo>
                <a:cubicBezTo>
                  <a:pt x="0" y="60"/>
                  <a:pt x="180" y="0"/>
                  <a:pt x="230" y="102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"/>
          <p:cNvSpPr/>
          <p:nvPr/>
        </p:nvSpPr>
        <p:spPr>
          <a:xfrm>
            <a:off x="4705200" y="4035600"/>
            <a:ext cx="343080" cy="318960"/>
          </a:xfrm>
          <a:custGeom>
            <a:avLst/>
            <a:gdLst>
              <a:gd name="textAreaLeft" fmla="*/ 0 w 343080"/>
              <a:gd name="textAreaRight" fmla="*/ 343440 w 34308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190" h="177">
                <a:moveTo>
                  <a:pt x="171" y="7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61" y="144"/>
                  <a:pt x="115" y="169"/>
                  <a:pt x="63" y="177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0" y="49"/>
                  <a:pt x="133" y="0"/>
                  <a:pt x="171" y="75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5"/>
          <p:cNvSpPr/>
          <p:nvPr/>
        </p:nvSpPr>
        <p:spPr>
          <a:xfrm>
            <a:off x="5834160" y="4410000"/>
            <a:ext cx="149040" cy="243000"/>
          </a:xfrm>
          <a:custGeom>
            <a:avLst/>
            <a:gdLst>
              <a:gd name="textAreaLeft" fmla="*/ 0 w 149040"/>
              <a:gd name="textAreaRight" fmla="*/ 149400 w 149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83" h="133">
                <a:moveTo>
                  <a:pt x="83" y="133"/>
                </a:moveTo>
                <a:cubicBezTo>
                  <a:pt x="83" y="133"/>
                  <a:pt x="49" y="62"/>
                  <a:pt x="19" y="0"/>
                </a:cubicBezTo>
                <a:cubicBezTo>
                  <a:pt x="17" y="4"/>
                  <a:pt x="16" y="8"/>
                  <a:pt x="16" y="12"/>
                </a:cubicBezTo>
                <a:cubicBezTo>
                  <a:pt x="11" y="8"/>
                  <a:pt x="6" y="3"/>
                  <a:pt x="0" y="0"/>
                </a:cubicBezTo>
                <a:cubicBezTo>
                  <a:pt x="37" y="60"/>
                  <a:pt x="83" y="133"/>
                  <a:pt x="83" y="133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6"/>
          <p:cNvSpPr/>
          <p:nvPr/>
        </p:nvSpPr>
        <p:spPr>
          <a:xfrm>
            <a:off x="5245200" y="4549680"/>
            <a:ext cx="171360" cy="347760"/>
          </a:xfrm>
          <a:custGeom>
            <a:avLst/>
            <a:gdLst>
              <a:gd name="textAreaLeft" fmla="*/ 0 w 171360"/>
              <a:gd name="textAreaRight" fmla="*/ 171720 w 1713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94" h="191">
                <a:moveTo>
                  <a:pt x="0" y="20"/>
                </a:moveTo>
                <a:cubicBezTo>
                  <a:pt x="1" y="13"/>
                  <a:pt x="3" y="6"/>
                  <a:pt x="6" y="0"/>
                </a:cubicBezTo>
                <a:cubicBezTo>
                  <a:pt x="39" y="71"/>
                  <a:pt x="94" y="191"/>
                  <a:pt x="94" y="191"/>
                </a:cubicBezTo>
                <a:cubicBezTo>
                  <a:pt x="94" y="191"/>
                  <a:pt x="26" y="73"/>
                  <a:pt x="0" y="22"/>
                </a:cubicBezTo>
                <a:cubicBezTo>
                  <a:pt x="0" y="23"/>
                  <a:pt x="0" y="22"/>
                  <a:pt x="0" y="2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7"/>
          <p:cNvSpPr/>
          <p:nvPr/>
        </p:nvSpPr>
        <p:spPr>
          <a:xfrm>
            <a:off x="5526000" y="4487760"/>
            <a:ext cx="184320" cy="298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101" h="164">
                <a:moveTo>
                  <a:pt x="0" y="0"/>
                </a:moveTo>
                <a:cubicBezTo>
                  <a:pt x="9" y="7"/>
                  <a:pt x="17" y="15"/>
                  <a:pt x="24" y="25"/>
                </a:cubicBezTo>
                <a:cubicBezTo>
                  <a:pt x="24" y="20"/>
                  <a:pt x="25" y="15"/>
                  <a:pt x="25" y="10"/>
                </a:cubicBezTo>
                <a:cubicBezTo>
                  <a:pt x="59" y="79"/>
                  <a:pt x="101" y="164"/>
                  <a:pt x="101" y="164"/>
                </a:cubicBezTo>
                <a:cubicBezTo>
                  <a:pt x="101" y="164"/>
                  <a:pt x="38" y="63"/>
                  <a:pt x="0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4"/>
          <p:cNvSpPr/>
          <p:nvPr/>
        </p:nvSpPr>
        <p:spPr>
          <a:xfrm>
            <a:off x="7240680" y="4659480"/>
            <a:ext cx="400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5"/>
          <p:cNvSpPr/>
          <p:nvPr/>
        </p:nvSpPr>
        <p:spPr>
          <a:xfrm>
            <a:off x="7292880" y="3100320"/>
            <a:ext cx="395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7292880" y="27781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>
            <a:off x="7240680" y="1407960"/>
            <a:ext cx="5236920" cy="149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3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1"/>
          <p:cNvGrpSpPr/>
          <p:nvPr/>
        </p:nvGrpSpPr>
        <p:grpSpPr>
          <a:xfrm>
            <a:off x="4612320" y="2130480"/>
            <a:ext cx="2920680" cy="4727160"/>
            <a:chOff x="4612320" y="2130480"/>
            <a:chExt cx="2920680" cy="4727160"/>
          </a:xfrm>
        </p:grpSpPr>
        <p:sp>
          <p:nvSpPr>
            <p:cNvPr id="152" name="Rounded Rectangle 24@|1FFC:14277081|FBC:16777215|LFC:16777215|LBC:16777215"/>
            <p:cNvSpPr/>
            <p:nvPr/>
          </p:nvSpPr>
          <p:spPr>
            <a:xfrm flipH="1" flipV="1">
              <a:off x="5954760" y="4717080"/>
              <a:ext cx="239400" cy="214020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2140200"/>
                <a:gd name="textAreaBottom" fmla="*/ 2105280 h 2140200"/>
              </a:gdLst>
              <a:ahLst/>
              <a:rect l="textAreaLeft" t="textAreaTop" r="textAreaRight" b="textAreaBottom"/>
              <a:pathLst>
                <a:path w="21600" h="192843">
                  <a:moveTo>
                    <a:pt x="10800" y="0"/>
                  </a:moveTo>
                  <a:arcTo wR="10800" hR="10800" stAng="16200000" swAng="-5400000"/>
                  <a:lnTo>
                    <a:pt x="0" y="182043"/>
                  </a:lnTo>
                  <a:arcTo wR="10800" hR="10800" stAng="10800000" swAng="-5400000"/>
                  <a:lnTo>
                    <a:pt x="10800" y="19284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25@|1FFC:14277081|FBC:16777215|LFC:16777215|LBC:16777215"/>
            <p:cNvSpPr/>
            <p:nvPr/>
          </p:nvSpPr>
          <p:spPr>
            <a:xfrm flipV="1" rot="18522000">
              <a:off x="5597640" y="530964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5234760" y="2681640"/>
              <a:ext cx="974880" cy="2288880"/>
              <a:chOff x="5234760" y="2681640"/>
              <a:chExt cx="974880" cy="2288880"/>
            </a:xfrm>
          </p:grpSpPr>
          <p:sp>
            <p:nvSpPr>
              <p:cNvPr id="155" name="Rounded Rectangle 28@|1FFC:0|FBC:0|LFC:16777215|LBC:16777215"/>
              <p:cNvSpPr/>
              <p:nvPr/>
            </p:nvSpPr>
            <p:spPr>
              <a:xfrm flipH="1">
                <a:off x="5262120" y="2681640"/>
                <a:ext cx="239400" cy="19137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913760"/>
                  <a:gd name="textAreaBottom" fmla="*/ 1878840 h 1913760"/>
                </a:gdLst>
                <a:ahLst/>
                <a:rect l="textAreaLeft" t="textAreaTop" r="textAreaRight" b="textAreaBottom"/>
                <a:pathLst>
                  <a:path w="21600" h="172443">
                    <a:moveTo>
                      <a:pt x="10800" y="0"/>
                    </a:moveTo>
                    <a:arcTo wR="10800" hR="10800" stAng="16200000" swAng="-5400000"/>
                    <a:lnTo>
                      <a:pt x="0" y="161643"/>
                    </a:lnTo>
                    <a:arcTo wR="10800" hR="10800" stAng="10800000" swAng="-5400000"/>
                    <a:lnTo>
                      <a:pt x="10800" y="1724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ounded Rectangle 29@|1FFC:0|FBC:0|LFC:16777215|LBC:16777215"/>
              <p:cNvSpPr/>
              <p:nvPr/>
            </p:nvSpPr>
            <p:spPr>
              <a:xfrm flipH="1" rot="17704200">
                <a:off x="5608440" y="417672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7"/>
            <p:cNvGrpSpPr/>
            <p:nvPr/>
          </p:nvGrpSpPr>
          <p:grpSpPr>
            <a:xfrm>
              <a:off x="6003000" y="3213720"/>
              <a:ext cx="974880" cy="2476080"/>
              <a:chOff x="6003000" y="3213720"/>
              <a:chExt cx="974880" cy="2476080"/>
            </a:xfrm>
          </p:grpSpPr>
          <p:sp>
            <p:nvSpPr>
              <p:cNvPr id="158" name="Rounded Rectangle 38@|1FFC:0|FBC:0|LFC:16777215|LBC:16777215"/>
              <p:cNvSpPr/>
              <p:nvPr/>
            </p:nvSpPr>
            <p:spPr>
              <a:xfrm flipV="1">
                <a:off x="6710760" y="3213360"/>
                <a:ext cx="239400" cy="210060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2100600"/>
                  <a:gd name="textAreaBottom" fmla="*/ 2065680 h 2100600"/>
                </a:gdLst>
                <a:ahLst/>
                <a:rect l="textAreaLeft" t="textAreaTop" r="textAreaRight" b="textAreaBottom"/>
                <a:pathLst>
                  <a:path w="21600" h="189276">
                    <a:moveTo>
                      <a:pt x="10800" y="0"/>
                    </a:moveTo>
                    <a:arcTo wR="10800" hR="10800" stAng="16200000" swAng="-5400000"/>
                    <a:lnTo>
                      <a:pt x="0" y="178476"/>
                    </a:lnTo>
                    <a:arcTo wR="10800" hR="10800" stAng="10800000" swAng="-5400000"/>
                    <a:lnTo>
                      <a:pt x="10800" y="18927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ounded Rectangle 39@|1FFC:0|FBC:0|LFC:16777215|LBC:16777215"/>
              <p:cNvSpPr/>
              <p:nvPr/>
            </p:nvSpPr>
            <p:spPr>
              <a:xfrm rot="3895800">
                <a:off x="6376680" y="489600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40"/>
            <p:cNvGrpSpPr/>
            <p:nvPr/>
          </p:nvGrpSpPr>
          <p:grpSpPr>
            <a:xfrm>
              <a:off x="6253560" y="2130480"/>
              <a:ext cx="655200" cy="1479960"/>
              <a:chOff x="6253560" y="2130480"/>
              <a:chExt cx="655200" cy="1479960"/>
            </a:xfrm>
          </p:grpSpPr>
          <p:sp>
            <p:nvSpPr>
              <p:cNvPr id="161" name="Rounded Rectangle 41@|1FFC:0|FBC:0|LFC:16777215|LBC:16777215"/>
              <p:cNvSpPr/>
              <p:nvPr/>
            </p:nvSpPr>
            <p:spPr>
              <a:xfrm flipV="1">
                <a:off x="6296040" y="2130480"/>
                <a:ext cx="239400" cy="12153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215360"/>
                  <a:gd name="textAreaBottom" fmla="*/ 1180440 h 1215360"/>
                </a:gdLst>
                <a:ahLst/>
                <a:rect l="textAreaLeft" t="textAreaTop" r="textAreaRight" b="textAreaBottom"/>
                <a:pathLst>
                  <a:path w="21600" h="109524">
                    <a:moveTo>
                      <a:pt x="10800" y="0"/>
                    </a:moveTo>
                    <a:arcTo wR="10800" hR="10800" stAng="16200000" swAng="-5400000"/>
                    <a:lnTo>
                      <a:pt x="0" y="98724"/>
                    </a:lnTo>
                    <a:arcTo wR="10800" hR="10800" stAng="10800000" swAng="-5400000"/>
                    <a:lnTo>
                      <a:pt x="10800" y="10952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ounded Rectangle 42@|1FFC:0|FBC:0|LFC:16777215|LBC:16777215"/>
              <p:cNvSpPr/>
              <p:nvPr/>
            </p:nvSpPr>
            <p:spPr>
              <a:xfrm flipH="1" rot="18036000">
                <a:off x="6461280" y="3039840"/>
                <a:ext cx="239400" cy="619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619560"/>
                  <a:gd name="textAreaBottom" fmla="*/ 584640 h 619560"/>
                </a:gdLst>
                <a:ahLst/>
                <a:rect l="textAreaLeft" t="textAreaTop" r="textAreaRight" b="textAreaBottom"/>
                <a:pathLst>
                  <a:path w="21600" h="55849">
                    <a:moveTo>
                      <a:pt x="10800" y="0"/>
                    </a:moveTo>
                    <a:arcTo wR="10800" hR="10800" stAng="16200000" swAng="-5400000"/>
                    <a:lnTo>
                      <a:pt x="0" y="45049"/>
                    </a:lnTo>
                    <a:arcTo wR="10800" hR="10800" stAng="10800000" swAng="-5400000"/>
                    <a:lnTo>
                      <a:pt x="10800" y="558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49"/>
            <p:cNvGrpSpPr/>
            <p:nvPr/>
          </p:nvGrpSpPr>
          <p:grpSpPr>
            <a:xfrm>
              <a:off x="6761880" y="3704040"/>
              <a:ext cx="771120" cy="1292040"/>
              <a:chOff x="6761880" y="3704040"/>
              <a:chExt cx="771120" cy="1292040"/>
            </a:xfrm>
          </p:grpSpPr>
          <p:sp>
            <p:nvSpPr>
              <p:cNvPr id="164" name="Rounded Rectangle 47@|1FFC:0|FBC:0|LFC:16777215|LBC:16777215"/>
              <p:cNvSpPr/>
              <p:nvPr/>
            </p:nvSpPr>
            <p:spPr>
              <a:xfrm>
                <a:off x="7251840" y="3704040"/>
                <a:ext cx="239400" cy="95832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958320"/>
                  <a:gd name="textAreaBottom" fmla="*/ 923400 h 958320"/>
                </a:gdLst>
                <a:ahLst/>
                <a:rect l="textAreaLeft" t="textAreaTop" r="textAreaRight" b="textAreaBottom"/>
                <a:pathLst>
                  <a:path w="21600" h="86368">
                    <a:moveTo>
                      <a:pt x="10800" y="0"/>
                    </a:moveTo>
                    <a:arcTo wR="10800" hR="10800" stAng="16200000" swAng="-5400000"/>
                    <a:lnTo>
                      <a:pt x="0" y="75568"/>
                    </a:lnTo>
                    <a:arcTo wR="10800" hR="10800" stAng="10800000" swAng="-5400000"/>
                    <a:lnTo>
                      <a:pt x="10800" y="863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ounded Rectangle 48@|1FFC:0|FBC:0|LFC:16777215|LBC:16777215"/>
              <p:cNvSpPr/>
              <p:nvPr/>
            </p:nvSpPr>
            <p:spPr>
              <a:xfrm rot="3564000">
                <a:off x="7027560" y="432324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0"/>
            <p:cNvGrpSpPr/>
            <p:nvPr/>
          </p:nvGrpSpPr>
          <p:grpSpPr>
            <a:xfrm>
              <a:off x="4681800" y="2219040"/>
              <a:ext cx="771120" cy="1343160"/>
              <a:chOff x="4681800" y="2219040"/>
              <a:chExt cx="771120" cy="1343160"/>
            </a:xfrm>
          </p:grpSpPr>
          <p:sp>
            <p:nvSpPr>
              <p:cNvPr id="167" name="Rounded Rectangle 51@|1FFC:0|FBC:0|LFC:16777215|LBC:16777215"/>
              <p:cNvSpPr/>
              <p:nvPr/>
            </p:nvSpPr>
            <p:spPr>
              <a:xfrm flipH="1" flipV="1">
                <a:off x="4723200" y="2219040"/>
                <a:ext cx="239400" cy="100944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009440"/>
                  <a:gd name="textAreaBottom" fmla="*/ 974520 h 1009440"/>
                </a:gdLst>
                <a:ahLst/>
                <a:rect l="textAreaLeft" t="textAreaTop" r="textAreaRight" b="textAreaBottom"/>
                <a:pathLst>
                  <a:path w="21600" h="90973">
                    <a:moveTo>
                      <a:pt x="10800" y="0"/>
                    </a:moveTo>
                    <a:arcTo wR="10800" hR="10800" stAng="16200000" swAng="-5400000"/>
                    <a:lnTo>
                      <a:pt x="0" y="80173"/>
                    </a:lnTo>
                    <a:arcTo wR="10800" hR="10800" stAng="10800000" swAng="-5400000"/>
                    <a:lnTo>
                      <a:pt x="10800" y="9097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ounded Rectangle 52@|1FFC:0|FBC:0|LFC:16777215|LBC:16777215"/>
              <p:cNvSpPr/>
              <p:nvPr/>
            </p:nvSpPr>
            <p:spPr>
              <a:xfrm flipH="1" rot="18036000">
                <a:off x="4947480" y="288936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ounded Rectangle 54@|1FFC:14277081|FBC:16777215|LFC:16777215|LBC:16777215"/>
            <p:cNvSpPr/>
            <p:nvPr/>
          </p:nvSpPr>
          <p:spPr>
            <a:xfrm flipV="1" rot="18522000">
              <a:off x="4931640" y="363240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55"/>
          <p:cNvSpPr/>
          <p:nvPr/>
        </p:nvSpPr>
        <p:spPr>
          <a:xfrm>
            <a:off x="5346720" y="5459400"/>
            <a:ext cx="203040" cy="2030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6"/>
          <p:cNvSpPr/>
          <p:nvPr/>
        </p:nvSpPr>
        <p:spPr>
          <a:xfrm>
            <a:off x="4687920" y="37782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7"/>
          <p:cNvSpPr/>
          <p:nvPr/>
        </p:nvSpPr>
        <p:spPr>
          <a:xfrm>
            <a:off x="7273800" y="3749760"/>
            <a:ext cx="201600" cy="20160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8"/>
          <p:cNvSpPr/>
          <p:nvPr/>
        </p:nvSpPr>
        <p:spPr>
          <a:xfrm>
            <a:off x="6315120" y="2152800"/>
            <a:ext cx="203040" cy="20304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4738680" y="22446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81"/>
          <p:cNvGrpSpPr/>
          <p:nvPr/>
        </p:nvGrpSpPr>
        <p:grpSpPr>
          <a:xfrm>
            <a:off x="6408360" y="1976400"/>
            <a:ext cx="1716480" cy="267840"/>
            <a:chOff x="6408360" y="1976400"/>
            <a:chExt cx="1716480" cy="267840"/>
          </a:xfrm>
        </p:grpSpPr>
        <p:sp>
          <p:nvSpPr>
            <p:cNvPr id="176" name="Straight Connector 63@|9FFC:0|FBC:0|LFC:1554685|LBC:16777215"/>
            <p:cNvSpPr/>
            <p:nvPr/>
          </p:nvSpPr>
          <p:spPr>
            <a:xfrm flipV="1">
              <a:off x="6408360" y="1977480"/>
              <a:ext cx="582480" cy="26676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64@|9FFC:0|FBC:0|LFC:1554685|LBC:16777215"/>
            <p:cNvSpPr/>
            <p:nvPr/>
          </p:nvSpPr>
          <p:spPr>
            <a:xfrm>
              <a:off x="6991200" y="1976400"/>
              <a:ext cx="113364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1"/>
          <p:cNvGrpSpPr/>
          <p:nvPr/>
        </p:nvGrpSpPr>
        <p:grpSpPr>
          <a:xfrm>
            <a:off x="7388640" y="3600360"/>
            <a:ext cx="736200" cy="244080"/>
            <a:chOff x="7388640" y="3600360"/>
            <a:chExt cx="736200" cy="244080"/>
          </a:xfrm>
        </p:grpSpPr>
        <p:sp>
          <p:nvSpPr>
            <p:cNvPr id="179" name="Straight Connector 73@|9FFC:0|FBC:0|LFC:2381804|LBC:16777215"/>
            <p:cNvSpPr/>
            <p:nvPr/>
          </p:nvSpPr>
          <p:spPr>
            <a:xfrm flipV="1">
              <a:off x="7388640" y="3601440"/>
              <a:ext cx="250200" cy="24300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74@|9FFC:0|FBC:0|LFC:2381804|LBC:16777215"/>
            <p:cNvSpPr/>
            <p:nvPr/>
          </p:nvSpPr>
          <p:spPr>
            <a:xfrm>
              <a:off x="7638120" y="3600360"/>
              <a:ext cx="48672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1"/>
          <p:cNvGrpSpPr/>
          <p:nvPr/>
        </p:nvGrpSpPr>
        <p:grpSpPr>
          <a:xfrm>
            <a:off x="4073400" y="5289480"/>
            <a:ext cx="1387440" cy="258480"/>
            <a:chOff x="4073400" y="5289480"/>
            <a:chExt cx="1387440" cy="258480"/>
          </a:xfrm>
        </p:grpSpPr>
        <p:sp>
          <p:nvSpPr>
            <p:cNvPr id="182" name="Straight Connector 77@|9FFC:0|FBC:0|LFC:4308095|LBC:16777215"/>
            <p:cNvSpPr/>
            <p:nvPr/>
          </p:nvSpPr>
          <p:spPr>
            <a:xfrm flipH="1" flipV="1">
              <a:off x="4989960" y="5290560"/>
              <a:ext cx="470880" cy="2574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78@|9FFC:0|FBC:0|LFC:4308095|LBC:16777215"/>
            <p:cNvSpPr/>
            <p:nvPr/>
          </p:nvSpPr>
          <p:spPr>
            <a:xfrm flipH="1">
              <a:off x="4073400" y="5289480"/>
              <a:ext cx="91656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1"/>
          <p:cNvGrpSpPr/>
          <p:nvPr/>
        </p:nvGrpSpPr>
        <p:grpSpPr>
          <a:xfrm>
            <a:off x="4044960" y="3619440"/>
            <a:ext cx="736200" cy="244080"/>
            <a:chOff x="4044960" y="3619440"/>
            <a:chExt cx="736200" cy="244080"/>
          </a:xfrm>
        </p:grpSpPr>
        <p:sp>
          <p:nvSpPr>
            <p:cNvPr id="185" name="Straight Connector 84@|9FFC:0|FBC:0|LFC:14657585|LBC:16777215"/>
            <p:cNvSpPr/>
            <p:nvPr/>
          </p:nvSpPr>
          <p:spPr>
            <a:xfrm flipH="1" flipV="1">
              <a:off x="4530960" y="3620520"/>
              <a:ext cx="250200" cy="2430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85@|9FFC:0|FBC:0|LFC:14657585|LBC:16777215"/>
            <p:cNvSpPr/>
            <p:nvPr/>
          </p:nvSpPr>
          <p:spPr>
            <a:xfrm flipH="1">
              <a:off x="4044960" y="361944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1"/>
          <p:cNvGrpSpPr/>
          <p:nvPr/>
        </p:nvGrpSpPr>
        <p:grpSpPr>
          <a:xfrm>
            <a:off x="4108320" y="2106720"/>
            <a:ext cx="736200" cy="245520"/>
            <a:chOff x="4108320" y="2106720"/>
            <a:chExt cx="736200" cy="245520"/>
          </a:xfrm>
        </p:grpSpPr>
        <p:sp>
          <p:nvSpPr>
            <p:cNvPr id="188" name="Straight Connector 89@|9FFC:0|FBC:0|LFC:4308095|LBC:16777215"/>
            <p:cNvSpPr/>
            <p:nvPr/>
          </p:nvSpPr>
          <p:spPr>
            <a:xfrm flipH="1" flipV="1">
              <a:off x="4594320" y="2107800"/>
              <a:ext cx="250200" cy="24444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0@|9FFC:0|FBC:0|LFC:4308095|LBC:16777215"/>
            <p:cNvSpPr/>
            <p:nvPr/>
          </p:nvSpPr>
          <p:spPr>
            <a:xfrm flipH="1">
              <a:off x="4108320" y="210672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206"/>
          <p:cNvSpPr/>
          <p:nvPr/>
        </p:nvSpPr>
        <p:spPr>
          <a:xfrm>
            <a:off x="7605720" y="3083040"/>
            <a:ext cx="426960" cy="425160"/>
          </a:xfrm>
          <a:custGeom>
            <a:avLst/>
            <a:gdLst>
              <a:gd name="textAreaLeft" fmla="*/ 0 w 426960"/>
              <a:gd name="textAreaRight" fmla="*/ 427320 w 42696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56" h="256">
                <a:moveTo>
                  <a:pt x="249" y="215"/>
                </a:moveTo>
                <a:cubicBezTo>
                  <a:pt x="253" y="219"/>
                  <a:pt x="256" y="225"/>
                  <a:pt x="256" y="232"/>
                </a:cubicBezTo>
                <a:cubicBezTo>
                  <a:pt x="256" y="245"/>
                  <a:pt x="245" y="256"/>
                  <a:pt x="232" y="256"/>
                </a:cubicBezTo>
                <a:cubicBezTo>
                  <a:pt x="225" y="256"/>
                  <a:pt x="219" y="253"/>
                  <a:pt x="215" y="249"/>
                </a:cubicBezTo>
                <a:cubicBezTo>
                  <a:pt x="145" y="179"/>
                  <a:pt x="145" y="179"/>
                  <a:pt x="145" y="179"/>
                </a:cubicBezTo>
                <a:cubicBezTo>
                  <a:pt x="130" y="187"/>
                  <a:pt x="114" y="192"/>
                  <a:pt x="96" y="192"/>
                </a:cubicBezTo>
                <a:cubicBezTo>
                  <a:pt x="43" y="192"/>
                  <a:pt x="0" y="149"/>
                  <a:pt x="0" y="96"/>
                </a:cubicBezTo>
                <a:cubicBezTo>
                  <a:pt x="0" y="43"/>
                  <a:pt x="43" y="0"/>
                  <a:pt x="96" y="0"/>
                </a:cubicBezTo>
                <a:cubicBezTo>
                  <a:pt x="149" y="0"/>
                  <a:pt x="192" y="43"/>
                  <a:pt x="192" y="96"/>
                </a:cubicBezTo>
                <a:cubicBezTo>
                  <a:pt x="192" y="114"/>
                  <a:pt x="187" y="130"/>
                  <a:pt x="179" y="145"/>
                </a:cubicBezTo>
                <a:lnTo>
                  <a:pt x="249" y="215"/>
                </a:lnTo>
                <a:close/>
                <a:moveTo>
                  <a:pt x="96" y="24"/>
                </a:moveTo>
                <a:cubicBezTo>
                  <a:pt x="56" y="24"/>
                  <a:pt x="24" y="56"/>
                  <a:pt x="24" y="96"/>
                </a:cubicBezTo>
                <a:cubicBezTo>
                  <a:pt x="24" y="136"/>
                  <a:pt x="56" y="168"/>
                  <a:pt x="96" y="168"/>
                </a:cubicBezTo>
                <a:cubicBezTo>
                  <a:pt x="136" y="168"/>
                  <a:pt x="168" y="136"/>
                  <a:pt x="168" y="96"/>
                </a:cubicBezTo>
                <a:cubicBezTo>
                  <a:pt x="168" y="56"/>
                  <a:pt x="136" y="24"/>
                  <a:pt x="96" y="24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70"/>
          <p:cNvSpPr/>
          <p:nvPr/>
        </p:nvSpPr>
        <p:spPr>
          <a:xfrm>
            <a:off x="7651800" y="1521000"/>
            <a:ext cx="419040" cy="353880"/>
          </a:xfrm>
          <a:custGeom>
            <a:avLst/>
            <a:gdLst>
              <a:gd name="textAreaLeft" fmla="*/ 0 w 419040"/>
              <a:gd name="textAreaRight" fmla="*/ 419400 w 41904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56" h="216">
                <a:moveTo>
                  <a:pt x="244" y="216"/>
                </a:moveTo>
                <a:cubicBezTo>
                  <a:pt x="12" y="216"/>
                  <a:pt x="12" y="216"/>
                  <a:pt x="12" y="216"/>
                </a:cubicBezTo>
                <a:cubicBezTo>
                  <a:pt x="5" y="216"/>
                  <a:pt x="0" y="211"/>
                  <a:pt x="0" y="20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19" y="0"/>
                  <a:pt x="24" y="5"/>
                  <a:pt x="24" y="12"/>
                </a:cubicBezTo>
                <a:cubicBezTo>
                  <a:pt x="24" y="164"/>
                  <a:pt x="24" y="164"/>
                  <a:pt x="24" y="164"/>
                </a:cubicBezTo>
                <a:cubicBezTo>
                  <a:pt x="24" y="192"/>
                  <a:pt x="24" y="192"/>
                  <a:pt x="2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51" y="192"/>
                  <a:pt x="256" y="197"/>
                  <a:pt x="256" y="204"/>
                </a:cubicBezTo>
                <a:cubicBezTo>
                  <a:pt x="256" y="211"/>
                  <a:pt x="251" y="216"/>
                  <a:pt x="244" y="216"/>
                </a:cubicBezTo>
                <a:moveTo>
                  <a:pt x="216" y="180"/>
                </a:moveTo>
                <a:cubicBezTo>
                  <a:pt x="192" y="180"/>
                  <a:pt x="192" y="180"/>
                  <a:pt x="192" y="180"/>
                </a:cubicBezTo>
                <a:cubicBezTo>
                  <a:pt x="185" y="180"/>
                  <a:pt x="180" y="175"/>
                  <a:pt x="180" y="168"/>
                </a:cubicBezTo>
                <a:cubicBezTo>
                  <a:pt x="180" y="84"/>
                  <a:pt x="180" y="84"/>
                  <a:pt x="180" y="84"/>
                </a:cubicBezTo>
                <a:cubicBezTo>
                  <a:pt x="180" y="77"/>
                  <a:pt x="185" y="72"/>
                  <a:pt x="192" y="72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23" y="72"/>
                  <a:pt x="228" y="77"/>
                  <a:pt x="228" y="84"/>
                </a:cubicBezTo>
                <a:cubicBezTo>
                  <a:pt x="228" y="168"/>
                  <a:pt x="228" y="168"/>
                  <a:pt x="228" y="168"/>
                </a:cubicBezTo>
                <a:cubicBezTo>
                  <a:pt x="228" y="175"/>
                  <a:pt x="223" y="180"/>
                  <a:pt x="216" y="180"/>
                </a:cubicBezTo>
                <a:moveTo>
                  <a:pt x="148" y="180"/>
                </a:moveTo>
                <a:cubicBezTo>
                  <a:pt x="124" y="180"/>
                  <a:pt x="124" y="180"/>
                  <a:pt x="124" y="180"/>
                </a:cubicBezTo>
                <a:cubicBezTo>
                  <a:pt x="117" y="180"/>
                  <a:pt x="112" y="175"/>
                  <a:pt x="112" y="168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12" y="29"/>
                  <a:pt x="117" y="24"/>
                  <a:pt x="124" y="24"/>
                </a:cubicBezTo>
                <a:cubicBezTo>
                  <a:pt x="148" y="24"/>
                  <a:pt x="148" y="24"/>
                  <a:pt x="148" y="24"/>
                </a:cubicBezTo>
                <a:cubicBezTo>
                  <a:pt x="155" y="24"/>
                  <a:pt x="160" y="29"/>
                  <a:pt x="160" y="36"/>
                </a:cubicBezTo>
                <a:cubicBezTo>
                  <a:pt x="160" y="168"/>
                  <a:pt x="160" y="168"/>
                  <a:pt x="160" y="168"/>
                </a:cubicBezTo>
                <a:cubicBezTo>
                  <a:pt x="160" y="175"/>
                  <a:pt x="155" y="180"/>
                  <a:pt x="148" y="180"/>
                </a:cubicBezTo>
                <a:moveTo>
                  <a:pt x="80" y="180"/>
                </a:moveTo>
                <a:cubicBezTo>
                  <a:pt x="56" y="180"/>
                  <a:pt x="56" y="180"/>
                  <a:pt x="56" y="180"/>
                </a:cubicBezTo>
                <a:cubicBezTo>
                  <a:pt x="49" y="180"/>
                  <a:pt x="44" y="175"/>
                  <a:pt x="44" y="168"/>
                </a:cubicBezTo>
                <a:cubicBezTo>
                  <a:pt x="44" y="144"/>
                  <a:pt x="44" y="144"/>
                  <a:pt x="44" y="144"/>
                </a:cubicBezTo>
                <a:cubicBezTo>
                  <a:pt x="44" y="137"/>
                  <a:pt x="49" y="132"/>
                  <a:pt x="56" y="132"/>
                </a:cubicBezTo>
                <a:cubicBezTo>
                  <a:pt x="80" y="132"/>
                  <a:pt x="80" y="132"/>
                  <a:pt x="80" y="132"/>
                </a:cubicBezTo>
                <a:cubicBezTo>
                  <a:pt x="87" y="132"/>
                  <a:pt x="92" y="137"/>
                  <a:pt x="92" y="144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92" y="175"/>
                  <a:pt x="87" y="180"/>
                  <a:pt x="80" y="180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079880" y="3083040"/>
            <a:ext cx="436680" cy="423720"/>
          </a:xfrm>
          <a:custGeom>
            <a:avLst/>
            <a:gdLst>
              <a:gd name="textAreaLeft" fmla="*/ 0 w 436680"/>
              <a:gd name="textAreaRight" fmla="*/ 437040 w 4366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683" h="662">
                <a:moveTo>
                  <a:pt x="680" y="78"/>
                </a:moveTo>
                <a:cubicBezTo>
                  <a:pt x="678" y="75"/>
                  <a:pt x="675" y="73"/>
                  <a:pt x="671" y="73"/>
                </a:cubicBezTo>
                <a:cubicBezTo>
                  <a:pt x="580" y="73"/>
                  <a:pt x="580" y="73"/>
                  <a:pt x="580" y="73"/>
                </a:cubicBezTo>
                <a:cubicBezTo>
                  <a:pt x="577" y="49"/>
                  <a:pt x="571" y="32"/>
                  <a:pt x="569" y="25"/>
                </a:cubicBezTo>
                <a:cubicBezTo>
                  <a:pt x="572" y="23"/>
                  <a:pt x="574" y="20"/>
                  <a:pt x="576" y="18"/>
                </a:cubicBezTo>
                <a:cubicBezTo>
                  <a:pt x="580" y="14"/>
                  <a:pt x="580" y="8"/>
                  <a:pt x="576" y="4"/>
                </a:cubicBezTo>
                <a:cubicBezTo>
                  <a:pt x="575" y="3"/>
                  <a:pt x="574" y="2"/>
                  <a:pt x="572" y="1"/>
                </a:cubicBezTo>
                <a:cubicBezTo>
                  <a:pt x="571" y="1"/>
                  <a:pt x="569" y="0"/>
                  <a:pt x="567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2" y="1"/>
                  <a:pt x="111" y="1"/>
                </a:cubicBezTo>
                <a:cubicBezTo>
                  <a:pt x="109" y="2"/>
                  <a:pt x="108" y="3"/>
                  <a:pt x="107" y="4"/>
                </a:cubicBezTo>
                <a:cubicBezTo>
                  <a:pt x="103" y="8"/>
                  <a:pt x="103" y="14"/>
                  <a:pt x="107" y="18"/>
                </a:cubicBezTo>
                <a:cubicBezTo>
                  <a:pt x="109" y="20"/>
                  <a:pt x="111" y="23"/>
                  <a:pt x="114" y="25"/>
                </a:cubicBezTo>
                <a:cubicBezTo>
                  <a:pt x="112" y="32"/>
                  <a:pt x="107" y="49"/>
                  <a:pt x="10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8" y="73"/>
                  <a:pt x="6" y="75"/>
                  <a:pt x="4" y="77"/>
                </a:cubicBezTo>
                <a:cubicBezTo>
                  <a:pt x="1" y="79"/>
                  <a:pt x="0" y="82"/>
                  <a:pt x="0" y="85"/>
                </a:cubicBezTo>
                <a:cubicBezTo>
                  <a:pt x="5" y="147"/>
                  <a:pt x="28" y="206"/>
                  <a:pt x="67" y="254"/>
                </a:cubicBezTo>
                <a:cubicBezTo>
                  <a:pt x="108" y="304"/>
                  <a:pt x="165" y="341"/>
                  <a:pt x="228" y="357"/>
                </a:cubicBezTo>
                <a:cubicBezTo>
                  <a:pt x="225" y="368"/>
                  <a:pt x="224" y="385"/>
                  <a:pt x="241" y="392"/>
                </a:cubicBezTo>
                <a:cubicBezTo>
                  <a:pt x="253" y="397"/>
                  <a:pt x="266" y="403"/>
                  <a:pt x="275" y="413"/>
                </a:cubicBezTo>
                <a:cubicBezTo>
                  <a:pt x="284" y="423"/>
                  <a:pt x="281" y="435"/>
                  <a:pt x="271" y="444"/>
                </a:cubicBezTo>
                <a:cubicBezTo>
                  <a:pt x="268" y="447"/>
                  <a:pt x="267" y="450"/>
                  <a:pt x="268" y="455"/>
                </a:cubicBezTo>
                <a:cubicBezTo>
                  <a:pt x="292" y="590"/>
                  <a:pt x="292" y="590"/>
                  <a:pt x="292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64" y="590"/>
                  <a:pt x="258" y="591"/>
                  <a:pt x="254" y="594"/>
                </a:cubicBezTo>
                <a:cubicBezTo>
                  <a:pt x="212" y="617"/>
                  <a:pt x="212" y="617"/>
                  <a:pt x="212" y="617"/>
                </a:cubicBezTo>
                <a:cubicBezTo>
                  <a:pt x="208" y="619"/>
                  <a:pt x="204" y="624"/>
                  <a:pt x="204" y="629"/>
                </a:cubicBezTo>
                <a:cubicBezTo>
                  <a:pt x="204" y="654"/>
                  <a:pt x="204" y="654"/>
                  <a:pt x="204" y="654"/>
                </a:cubicBezTo>
                <a:cubicBezTo>
                  <a:pt x="204" y="659"/>
                  <a:pt x="208" y="662"/>
                  <a:pt x="213" y="662"/>
                </a:cubicBezTo>
                <a:cubicBezTo>
                  <a:pt x="471" y="662"/>
                  <a:pt x="471" y="662"/>
                  <a:pt x="471" y="662"/>
                </a:cubicBezTo>
                <a:cubicBezTo>
                  <a:pt x="475" y="662"/>
                  <a:pt x="479" y="659"/>
                  <a:pt x="479" y="654"/>
                </a:cubicBezTo>
                <a:cubicBezTo>
                  <a:pt x="479" y="628"/>
                  <a:pt x="479" y="628"/>
                  <a:pt x="479" y="628"/>
                </a:cubicBezTo>
                <a:cubicBezTo>
                  <a:pt x="479" y="624"/>
                  <a:pt x="476" y="619"/>
                  <a:pt x="472" y="617"/>
                </a:cubicBezTo>
                <a:cubicBezTo>
                  <a:pt x="461" y="611"/>
                  <a:pt x="440" y="600"/>
                  <a:pt x="429" y="594"/>
                </a:cubicBezTo>
                <a:cubicBezTo>
                  <a:pt x="426" y="591"/>
                  <a:pt x="419" y="590"/>
                  <a:pt x="414" y="590"/>
                </a:cubicBezTo>
                <a:cubicBezTo>
                  <a:pt x="392" y="590"/>
                  <a:pt x="392" y="590"/>
                  <a:pt x="392" y="590"/>
                </a:cubicBezTo>
                <a:cubicBezTo>
                  <a:pt x="392" y="590"/>
                  <a:pt x="415" y="456"/>
                  <a:pt x="416" y="455"/>
                </a:cubicBezTo>
                <a:cubicBezTo>
                  <a:pt x="416" y="452"/>
                  <a:pt x="416" y="448"/>
                  <a:pt x="414" y="446"/>
                </a:cubicBezTo>
                <a:cubicBezTo>
                  <a:pt x="411" y="443"/>
                  <a:pt x="408" y="440"/>
                  <a:pt x="406" y="437"/>
                </a:cubicBezTo>
                <a:cubicBezTo>
                  <a:pt x="403" y="432"/>
                  <a:pt x="402" y="427"/>
                  <a:pt x="403" y="421"/>
                </a:cubicBezTo>
                <a:cubicBezTo>
                  <a:pt x="407" y="409"/>
                  <a:pt x="421" y="402"/>
                  <a:pt x="431" y="397"/>
                </a:cubicBezTo>
                <a:cubicBezTo>
                  <a:pt x="435" y="395"/>
                  <a:pt x="438" y="394"/>
                  <a:pt x="442" y="392"/>
                </a:cubicBezTo>
                <a:cubicBezTo>
                  <a:pt x="460" y="385"/>
                  <a:pt x="458" y="368"/>
                  <a:pt x="455" y="357"/>
                </a:cubicBezTo>
                <a:cubicBezTo>
                  <a:pt x="518" y="340"/>
                  <a:pt x="575" y="304"/>
                  <a:pt x="616" y="254"/>
                </a:cubicBezTo>
                <a:cubicBezTo>
                  <a:pt x="655" y="206"/>
                  <a:pt x="679" y="147"/>
                  <a:pt x="683" y="85"/>
                </a:cubicBezTo>
                <a:cubicBezTo>
                  <a:pt x="683" y="83"/>
                  <a:pt x="682" y="80"/>
                  <a:pt x="680" y="78"/>
                </a:cubicBezTo>
                <a:close/>
                <a:moveTo>
                  <a:pt x="146" y="288"/>
                </a:moveTo>
                <a:cubicBezTo>
                  <a:pt x="133" y="279"/>
                  <a:pt x="125" y="273"/>
                  <a:pt x="114" y="263"/>
                </a:cubicBezTo>
                <a:cubicBezTo>
                  <a:pt x="108" y="257"/>
                  <a:pt x="101" y="251"/>
                  <a:pt x="95" y="244"/>
                </a:cubicBezTo>
                <a:cubicBezTo>
                  <a:pt x="91" y="241"/>
                  <a:pt x="88" y="237"/>
                  <a:pt x="85" y="234"/>
                </a:cubicBezTo>
                <a:cubicBezTo>
                  <a:pt x="84" y="232"/>
                  <a:pt x="82" y="230"/>
                  <a:pt x="81" y="229"/>
                </a:cubicBezTo>
                <a:cubicBezTo>
                  <a:pt x="80" y="228"/>
                  <a:pt x="80" y="227"/>
                  <a:pt x="79" y="226"/>
                </a:cubicBezTo>
                <a:cubicBezTo>
                  <a:pt x="79" y="226"/>
                  <a:pt x="78" y="225"/>
                  <a:pt x="78" y="224"/>
                </a:cubicBezTo>
                <a:cubicBezTo>
                  <a:pt x="67" y="210"/>
                  <a:pt x="57" y="195"/>
                  <a:pt x="49" y="179"/>
                </a:cubicBezTo>
                <a:cubicBezTo>
                  <a:pt x="47" y="175"/>
                  <a:pt x="45" y="171"/>
                  <a:pt x="43" y="166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2" y="163"/>
                  <a:pt x="41" y="161"/>
                  <a:pt x="41" y="161"/>
                </a:cubicBezTo>
                <a:cubicBezTo>
                  <a:pt x="40" y="159"/>
                  <a:pt x="40" y="158"/>
                  <a:pt x="39" y="156"/>
                </a:cubicBezTo>
                <a:cubicBezTo>
                  <a:pt x="36" y="147"/>
                  <a:pt x="33" y="139"/>
                  <a:pt x="30" y="130"/>
                </a:cubicBezTo>
                <a:cubicBezTo>
                  <a:pt x="28" y="121"/>
                  <a:pt x="26" y="112"/>
                  <a:pt x="24" y="103"/>
                </a:cubicBezTo>
                <a:cubicBezTo>
                  <a:pt x="24" y="101"/>
                  <a:pt x="23" y="99"/>
                  <a:pt x="23" y="97"/>
                </a:cubicBezTo>
                <a:cubicBezTo>
                  <a:pt x="97" y="97"/>
                  <a:pt x="97" y="97"/>
                  <a:pt x="97" y="97"/>
                </a:cubicBezTo>
                <a:cubicBezTo>
                  <a:pt x="93" y="159"/>
                  <a:pt x="105" y="244"/>
                  <a:pt x="180" y="307"/>
                </a:cubicBezTo>
                <a:cubicBezTo>
                  <a:pt x="168" y="301"/>
                  <a:pt x="156" y="295"/>
                  <a:pt x="146" y="288"/>
                </a:cubicBezTo>
                <a:close/>
                <a:moveTo>
                  <a:pt x="453" y="141"/>
                </a:moveTo>
                <a:cubicBezTo>
                  <a:pt x="388" y="188"/>
                  <a:pt x="388" y="188"/>
                  <a:pt x="388" y="188"/>
                </a:cubicBezTo>
                <a:cubicBezTo>
                  <a:pt x="413" y="266"/>
                  <a:pt x="413" y="266"/>
                  <a:pt x="413" y="266"/>
                </a:cubicBezTo>
                <a:cubicBezTo>
                  <a:pt x="415" y="271"/>
                  <a:pt x="412" y="273"/>
                  <a:pt x="408" y="270"/>
                </a:cubicBezTo>
                <a:cubicBezTo>
                  <a:pt x="342" y="222"/>
                  <a:pt x="342" y="222"/>
                  <a:pt x="342" y="222"/>
                </a:cubicBezTo>
                <a:cubicBezTo>
                  <a:pt x="276" y="270"/>
                  <a:pt x="276" y="270"/>
                  <a:pt x="276" y="270"/>
                </a:cubicBezTo>
                <a:cubicBezTo>
                  <a:pt x="271" y="273"/>
                  <a:pt x="269" y="271"/>
                  <a:pt x="271" y="266"/>
                </a:cubicBezTo>
                <a:cubicBezTo>
                  <a:pt x="296" y="188"/>
                  <a:pt x="296" y="188"/>
                  <a:pt x="296" y="188"/>
                </a:cubicBezTo>
                <a:cubicBezTo>
                  <a:pt x="230" y="141"/>
                  <a:pt x="230" y="141"/>
                  <a:pt x="230" y="141"/>
                </a:cubicBezTo>
                <a:cubicBezTo>
                  <a:pt x="225" y="137"/>
                  <a:pt x="226" y="135"/>
                  <a:pt x="232" y="135"/>
                </a:cubicBezTo>
                <a:cubicBezTo>
                  <a:pt x="314" y="135"/>
                  <a:pt x="314" y="135"/>
                  <a:pt x="314" y="135"/>
                </a:cubicBezTo>
                <a:cubicBezTo>
                  <a:pt x="339" y="57"/>
                  <a:pt x="339" y="57"/>
                  <a:pt x="339" y="57"/>
                </a:cubicBezTo>
                <a:cubicBezTo>
                  <a:pt x="340" y="52"/>
                  <a:pt x="343" y="52"/>
                  <a:pt x="345" y="57"/>
                </a:cubicBezTo>
                <a:cubicBezTo>
                  <a:pt x="370" y="135"/>
                  <a:pt x="370" y="135"/>
                  <a:pt x="370" y="135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57" y="134"/>
                  <a:pt x="458" y="137"/>
                  <a:pt x="453" y="141"/>
                </a:cubicBezTo>
                <a:close/>
                <a:moveTo>
                  <a:pt x="653" y="103"/>
                </a:moveTo>
                <a:cubicBezTo>
                  <a:pt x="651" y="112"/>
                  <a:pt x="649" y="121"/>
                  <a:pt x="647" y="130"/>
                </a:cubicBezTo>
                <a:cubicBezTo>
                  <a:pt x="644" y="139"/>
                  <a:pt x="641" y="147"/>
                  <a:pt x="638" y="156"/>
                </a:cubicBezTo>
                <a:cubicBezTo>
                  <a:pt x="637" y="158"/>
                  <a:pt x="636" y="159"/>
                  <a:pt x="636" y="161"/>
                </a:cubicBezTo>
                <a:cubicBezTo>
                  <a:pt x="636" y="161"/>
                  <a:pt x="635" y="163"/>
                  <a:pt x="635" y="163"/>
                </a:cubicBezTo>
                <a:cubicBezTo>
                  <a:pt x="634" y="166"/>
                  <a:pt x="634" y="166"/>
                  <a:pt x="634" y="166"/>
                </a:cubicBezTo>
                <a:cubicBezTo>
                  <a:pt x="632" y="171"/>
                  <a:pt x="630" y="175"/>
                  <a:pt x="627" y="179"/>
                </a:cubicBezTo>
                <a:cubicBezTo>
                  <a:pt x="619" y="195"/>
                  <a:pt x="610" y="210"/>
                  <a:pt x="599" y="224"/>
                </a:cubicBezTo>
                <a:cubicBezTo>
                  <a:pt x="599" y="225"/>
                  <a:pt x="598" y="226"/>
                  <a:pt x="598" y="226"/>
                </a:cubicBezTo>
                <a:cubicBezTo>
                  <a:pt x="597" y="227"/>
                  <a:pt x="596" y="228"/>
                  <a:pt x="596" y="229"/>
                </a:cubicBezTo>
                <a:cubicBezTo>
                  <a:pt x="594" y="230"/>
                  <a:pt x="593" y="232"/>
                  <a:pt x="591" y="234"/>
                </a:cubicBezTo>
                <a:cubicBezTo>
                  <a:pt x="588" y="237"/>
                  <a:pt x="585" y="241"/>
                  <a:pt x="582" y="244"/>
                </a:cubicBezTo>
                <a:cubicBezTo>
                  <a:pt x="576" y="251"/>
                  <a:pt x="569" y="257"/>
                  <a:pt x="563" y="263"/>
                </a:cubicBezTo>
                <a:cubicBezTo>
                  <a:pt x="551" y="273"/>
                  <a:pt x="544" y="279"/>
                  <a:pt x="531" y="288"/>
                </a:cubicBezTo>
                <a:cubicBezTo>
                  <a:pt x="520" y="295"/>
                  <a:pt x="509" y="301"/>
                  <a:pt x="497" y="307"/>
                </a:cubicBezTo>
                <a:cubicBezTo>
                  <a:pt x="571" y="244"/>
                  <a:pt x="584" y="159"/>
                  <a:pt x="580" y="97"/>
                </a:cubicBezTo>
                <a:cubicBezTo>
                  <a:pt x="654" y="97"/>
                  <a:pt x="654" y="97"/>
                  <a:pt x="654" y="97"/>
                </a:cubicBezTo>
                <a:cubicBezTo>
                  <a:pt x="653" y="99"/>
                  <a:pt x="653" y="101"/>
                  <a:pt x="653" y="103"/>
                </a:cubicBezTo>
                <a:close/>
                <a:moveTo>
                  <a:pt x="653" y="103"/>
                </a:moveTo>
                <a:cubicBezTo>
                  <a:pt x="653" y="103"/>
                  <a:pt x="653" y="103"/>
                  <a:pt x="653" y="10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5"/>
          <p:cNvSpPr/>
          <p:nvPr/>
        </p:nvSpPr>
        <p:spPr>
          <a:xfrm>
            <a:off x="4140360" y="1521000"/>
            <a:ext cx="447480" cy="483840"/>
          </a:xfrm>
          <a:custGeom>
            <a:avLst/>
            <a:gdLst>
              <a:gd name="textAreaLeft" fmla="*/ 0 w 447480"/>
              <a:gd name="textAreaRight" fmla="*/ 447840 w 44748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889" h="965">
                <a:moveTo>
                  <a:pt x="843" y="818"/>
                </a:moveTo>
                <a:cubicBezTo>
                  <a:pt x="824" y="807"/>
                  <a:pt x="803" y="806"/>
                  <a:pt x="783" y="812"/>
                </a:cubicBezTo>
                <a:cubicBezTo>
                  <a:pt x="657" y="737"/>
                  <a:pt x="657" y="737"/>
                  <a:pt x="657" y="737"/>
                </a:cubicBezTo>
                <a:cubicBezTo>
                  <a:pt x="659" y="722"/>
                  <a:pt x="669" y="709"/>
                  <a:pt x="684" y="703"/>
                </a:cubicBezTo>
                <a:cubicBezTo>
                  <a:pt x="707" y="694"/>
                  <a:pt x="712" y="672"/>
                  <a:pt x="694" y="654"/>
                </a:cubicBezTo>
                <a:cubicBezTo>
                  <a:pt x="677" y="636"/>
                  <a:pt x="679" y="608"/>
                  <a:pt x="698" y="592"/>
                </a:cubicBezTo>
                <a:cubicBezTo>
                  <a:pt x="716" y="576"/>
                  <a:pt x="714" y="554"/>
                  <a:pt x="691" y="542"/>
                </a:cubicBezTo>
                <a:cubicBezTo>
                  <a:pt x="670" y="531"/>
                  <a:pt x="662" y="504"/>
                  <a:pt x="674" y="483"/>
                </a:cubicBezTo>
                <a:cubicBezTo>
                  <a:pt x="687" y="462"/>
                  <a:pt x="677" y="441"/>
                  <a:pt x="653" y="438"/>
                </a:cubicBezTo>
                <a:cubicBezTo>
                  <a:pt x="628" y="434"/>
                  <a:pt x="612" y="412"/>
                  <a:pt x="617" y="387"/>
                </a:cubicBezTo>
                <a:cubicBezTo>
                  <a:pt x="622" y="363"/>
                  <a:pt x="606" y="347"/>
                  <a:pt x="582" y="352"/>
                </a:cubicBezTo>
                <a:cubicBezTo>
                  <a:pt x="557" y="356"/>
                  <a:pt x="535" y="340"/>
                  <a:pt x="532" y="315"/>
                </a:cubicBezTo>
                <a:cubicBezTo>
                  <a:pt x="529" y="291"/>
                  <a:pt x="508" y="281"/>
                  <a:pt x="487" y="293"/>
                </a:cubicBezTo>
                <a:cubicBezTo>
                  <a:pt x="465" y="305"/>
                  <a:pt x="439" y="297"/>
                  <a:pt x="428" y="275"/>
                </a:cubicBezTo>
                <a:cubicBezTo>
                  <a:pt x="417" y="253"/>
                  <a:pt x="395" y="250"/>
                  <a:pt x="378" y="268"/>
                </a:cubicBezTo>
                <a:cubicBezTo>
                  <a:pt x="362" y="287"/>
                  <a:pt x="334" y="288"/>
                  <a:pt x="316" y="270"/>
                </a:cubicBezTo>
                <a:cubicBezTo>
                  <a:pt x="299" y="253"/>
                  <a:pt x="277" y="258"/>
                  <a:pt x="267" y="280"/>
                </a:cubicBezTo>
                <a:cubicBezTo>
                  <a:pt x="258" y="303"/>
                  <a:pt x="232" y="313"/>
                  <a:pt x="209" y="303"/>
                </a:cubicBezTo>
                <a:cubicBezTo>
                  <a:pt x="187" y="292"/>
                  <a:pt x="168" y="303"/>
                  <a:pt x="166" y="328"/>
                </a:cubicBezTo>
                <a:cubicBezTo>
                  <a:pt x="165" y="353"/>
                  <a:pt x="143" y="370"/>
                  <a:pt x="119" y="367"/>
                </a:cubicBezTo>
                <a:cubicBezTo>
                  <a:pt x="94" y="365"/>
                  <a:pt x="80" y="382"/>
                  <a:pt x="86" y="405"/>
                </a:cubicBezTo>
                <a:cubicBezTo>
                  <a:pt x="93" y="429"/>
                  <a:pt x="78" y="453"/>
                  <a:pt x="54" y="458"/>
                </a:cubicBezTo>
                <a:cubicBezTo>
                  <a:pt x="30" y="464"/>
                  <a:pt x="21" y="485"/>
                  <a:pt x="35" y="505"/>
                </a:cubicBezTo>
                <a:cubicBezTo>
                  <a:pt x="50" y="525"/>
                  <a:pt x="44" y="553"/>
                  <a:pt x="22" y="565"/>
                </a:cubicBezTo>
                <a:cubicBezTo>
                  <a:pt x="1" y="578"/>
                  <a:pt x="0" y="601"/>
                  <a:pt x="20" y="616"/>
                </a:cubicBezTo>
                <a:cubicBezTo>
                  <a:pt x="40" y="630"/>
                  <a:pt x="43" y="658"/>
                  <a:pt x="27" y="677"/>
                </a:cubicBezTo>
                <a:cubicBezTo>
                  <a:pt x="11" y="696"/>
                  <a:pt x="18" y="718"/>
                  <a:pt x="41" y="725"/>
                </a:cubicBezTo>
                <a:cubicBezTo>
                  <a:pt x="65" y="733"/>
                  <a:pt x="77" y="758"/>
                  <a:pt x="68" y="781"/>
                </a:cubicBezTo>
                <a:cubicBezTo>
                  <a:pt x="59" y="804"/>
                  <a:pt x="72" y="822"/>
                  <a:pt x="97" y="822"/>
                </a:cubicBezTo>
                <a:cubicBezTo>
                  <a:pt x="122" y="821"/>
                  <a:pt x="141" y="841"/>
                  <a:pt x="140" y="866"/>
                </a:cubicBezTo>
                <a:cubicBezTo>
                  <a:pt x="139" y="891"/>
                  <a:pt x="158" y="904"/>
                  <a:pt x="181" y="895"/>
                </a:cubicBezTo>
                <a:cubicBezTo>
                  <a:pt x="204" y="887"/>
                  <a:pt x="229" y="899"/>
                  <a:pt x="236" y="923"/>
                </a:cubicBezTo>
                <a:cubicBezTo>
                  <a:pt x="243" y="946"/>
                  <a:pt x="265" y="953"/>
                  <a:pt x="284" y="937"/>
                </a:cubicBezTo>
                <a:cubicBezTo>
                  <a:pt x="303" y="922"/>
                  <a:pt x="331" y="925"/>
                  <a:pt x="345" y="945"/>
                </a:cubicBezTo>
                <a:cubicBezTo>
                  <a:pt x="360" y="965"/>
                  <a:pt x="383" y="965"/>
                  <a:pt x="395" y="944"/>
                </a:cubicBezTo>
                <a:cubicBezTo>
                  <a:pt x="409" y="923"/>
                  <a:pt x="436" y="917"/>
                  <a:pt x="456" y="931"/>
                </a:cubicBezTo>
                <a:cubicBezTo>
                  <a:pt x="476" y="946"/>
                  <a:pt x="497" y="938"/>
                  <a:pt x="503" y="914"/>
                </a:cubicBezTo>
                <a:cubicBezTo>
                  <a:pt x="509" y="889"/>
                  <a:pt x="533" y="875"/>
                  <a:pt x="556" y="882"/>
                </a:cubicBezTo>
                <a:cubicBezTo>
                  <a:pt x="580" y="889"/>
                  <a:pt x="597" y="875"/>
                  <a:pt x="595" y="850"/>
                </a:cubicBezTo>
                <a:cubicBezTo>
                  <a:pt x="593" y="838"/>
                  <a:pt x="598" y="826"/>
                  <a:pt x="605" y="817"/>
                </a:cubicBezTo>
                <a:cubicBezTo>
                  <a:pt x="735" y="894"/>
                  <a:pt x="735" y="894"/>
                  <a:pt x="735" y="894"/>
                </a:cubicBezTo>
                <a:cubicBezTo>
                  <a:pt x="739" y="914"/>
                  <a:pt x="750" y="932"/>
                  <a:pt x="769" y="943"/>
                </a:cubicBezTo>
                <a:cubicBezTo>
                  <a:pt x="804" y="964"/>
                  <a:pt x="848" y="952"/>
                  <a:pt x="869" y="918"/>
                </a:cubicBezTo>
                <a:cubicBezTo>
                  <a:pt x="889" y="883"/>
                  <a:pt x="878" y="839"/>
                  <a:pt x="843" y="818"/>
                </a:cubicBezTo>
                <a:close/>
                <a:moveTo>
                  <a:pt x="550" y="674"/>
                </a:moveTo>
                <a:cubicBezTo>
                  <a:pt x="456" y="618"/>
                  <a:pt x="456" y="618"/>
                  <a:pt x="456" y="618"/>
                </a:cubicBezTo>
                <a:cubicBezTo>
                  <a:pt x="455" y="588"/>
                  <a:pt x="440" y="559"/>
                  <a:pt x="412" y="543"/>
                </a:cubicBezTo>
                <a:cubicBezTo>
                  <a:pt x="381" y="525"/>
                  <a:pt x="345" y="527"/>
                  <a:pt x="317" y="545"/>
                </a:cubicBezTo>
                <a:cubicBezTo>
                  <a:pt x="368" y="575"/>
                  <a:pt x="368" y="575"/>
                  <a:pt x="368" y="575"/>
                </a:cubicBezTo>
                <a:cubicBezTo>
                  <a:pt x="387" y="586"/>
                  <a:pt x="392" y="610"/>
                  <a:pt x="381" y="630"/>
                </a:cubicBezTo>
                <a:cubicBezTo>
                  <a:pt x="370" y="649"/>
                  <a:pt x="346" y="655"/>
                  <a:pt x="328" y="644"/>
                </a:cubicBezTo>
                <a:cubicBezTo>
                  <a:pt x="276" y="614"/>
                  <a:pt x="276" y="614"/>
                  <a:pt x="276" y="614"/>
                </a:cubicBezTo>
                <a:cubicBezTo>
                  <a:pt x="273" y="647"/>
                  <a:pt x="289" y="680"/>
                  <a:pt x="320" y="698"/>
                </a:cubicBezTo>
                <a:cubicBezTo>
                  <a:pt x="348" y="715"/>
                  <a:pt x="380" y="714"/>
                  <a:pt x="407" y="700"/>
                </a:cubicBezTo>
                <a:cubicBezTo>
                  <a:pt x="498" y="754"/>
                  <a:pt x="498" y="754"/>
                  <a:pt x="498" y="754"/>
                </a:cubicBezTo>
                <a:cubicBezTo>
                  <a:pt x="473" y="777"/>
                  <a:pt x="443" y="795"/>
                  <a:pt x="408" y="804"/>
                </a:cubicBezTo>
                <a:cubicBezTo>
                  <a:pt x="299" y="832"/>
                  <a:pt x="188" y="766"/>
                  <a:pt x="160" y="657"/>
                </a:cubicBezTo>
                <a:cubicBezTo>
                  <a:pt x="132" y="548"/>
                  <a:pt x="198" y="437"/>
                  <a:pt x="307" y="409"/>
                </a:cubicBezTo>
                <a:cubicBezTo>
                  <a:pt x="415" y="381"/>
                  <a:pt x="527" y="447"/>
                  <a:pt x="555" y="556"/>
                </a:cubicBezTo>
                <a:cubicBezTo>
                  <a:pt x="565" y="596"/>
                  <a:pt x="562" y="637"/>
                  <a:pt x="550" y="674"/>
                </a:cubicBezTo>
                <a:close/>
                <a:moveTo>
                  <a:pt x="595" y="700"/>
                </a:moveTo>
                <a:cubicBezTo>
                  <a:pt x="576" y="689"/>
                  <a:pt x="576" y="689"/>
                  <a:pt x="576" y="689"/>
                </a:cubicBezTo>
                <a:cubicBezTo>
                  <a:pt x="592" y="646"/>
                  <a:pt x="597" y="597"/>
                  <a:pt x="584" y="548"/>
                </a:cubicBezTo>
                <a:cubicBezTo>
                  <a:pt x="552" y="423"/>
                  <a:pt x="424" y="347"/>
                  <a:pt x="299" y="379"/>
                </a:cubicBezTo>
                <a:cubicBezTo>
                  <a:pt x="174" y="412"/>
                  <a:pt x="98" y="539"/>
                  <a:pt x="130" y="665"/>
                </a:cubicBezTo>
                <a:cubicBezTo>
                  <a:pt x="163" y="790"/>
                  <a:pt x="290" y="865"/>
                  <a:pt x="415" y="833"/>
                </a:cubicBezTo>
                <a:cubicBezTo>
                  <a:pt x="459" y="822"/>
                  <a:pt x="496" y="799"/>
                  <a:pt x="524" y="770"/>
                </a:cubicBezTo>
                <a:cubicBezTo>
                  <a:pt x="544" y="781"/>
                  <a:pt x="544" y="781"/>
                  <a:pt x="544" y="781"/>
                </a:cubicBezTo>
                <a:cubicBezTo>
                  <a:pt x="512" y="815"/>
                  <a:pt x="470" y="841"/>
                  <a:pt x="421" y="854"/>
                </a:cubicBezTo>
                <a:cubicBezTo>
                  <a:pt x="284" y="889"/>
                  <a:pt x="145" y="807"/>
                  <a:pt x="109" y="670"/>
                </a:cubicBezTo>
                <a:cubicBezTo>
                  <a:pt x="74" y="533"/>
                  <a:pt x="157" y="394"/>
                  <a:pt x="294" y="359"/>
                </a:cubicBezTo>
                <a:cubicBezTo>
                  <a:pt x="430" y="323"/>
                  <a:pt x="570" y="406"/>
                  <a:pt x="605" y="543"/>
                </a:cubicBezTo>
                <a:cubicBezTo>
                  <a:pt x="619" y="597"/>
                  <a:pt x="614" y="652"/>
                  <a:pt x="595" y="700"/>
                </a:cubicBezTo>
                <a:close/>
                <a:moveTo>
                  <a:pt x="839" y="900"/>
                </a:moveTo>
                <a:cubicBezTo>
                  <a:pt x="806" y="919"/>
                  <a:pt x="806" y="919"/>
                  <a:pt x="806" y="919"/>
                </a:cubicBezTo>
                <a:cubicBezTo>
                  <a:pt x="773" y="900"/>
                  <a:pt x="773" y="900"/>
                  <a:pt x="773" y="900"/>
                </a:cubicBezTo>
                <a:cubicBezTo>
                  <a:pt x="773" y="861"/>
                  <a:pt x="773" y="861"/>
                  <a:pt x="773" y="861"/>
                </a:cubicBezTo>
                <a:cubicBezTo>
                  <a:pt x="807" y="842"/>
                  <a:pt x="807" y="842"/>
                  <a:pt x="807" y="842"/>
                </a:cubicBezTo>
                <a:cubicBezTo>
                  <a:pt x="840" y="862"/>
                  <a:pt x="840" y="862"/>
                  <a:pt x="840" y="862"/>
                </a:cubicBezTo>
                <a:lnTo>
                  <a:pt x="839" y="900"/>
                </a:lnTo>
                <a:close/>
                <a:moveTo>
                  <a:pt x="526" y="216"/>
                </a:moveTo>
                <a:cubicBezTo>
                  <a:pt x="543" y="226"/>
                  <a:pt x="543" y="226"/>
                  <a:pt x="543" y="226"/>
                </a:cubicBezTo>
                <a:cubicBezTo>
                  <a:pt x="557" y="235"/>
                  <a:pt x="569" y="256"/>
                  <a:pt x="569" y="273"/>
                </a:cubicBezTo>
                <a:cubicBezTo>
                  <a:pt x="570" y="293"/>
                  <a:pt x="570" y="293"/>
                  <a:pt x="570" y="293"/>
                </a:cubicBezTo>
                <a:cubicBezTo>
                  <a:pt x="571" y="309"/>
                  <a:pt x="585" y="320"/>
                  <a:pt x="601" y="316"/>
                </a:cubicBezTo>
                <a:cubicBezTo>
                  <a:pt x="620" y="312"/>
                  <a:pt x="620" y="312"/>
                  <a:pt x="620" y="312"/>
                </a:cubicBezTo>
                <a:cubicBezTo>
                  <a:pt x="637" y="308"/>
                  <a:pt x="660" y="315"/>
                  <a:pt x="672" y="326"/>
                </a:cubicBezTo>
                <a:cubicBezTo>
                  <a:pt x="687" y="340"/>
                  <a:pt x="687" y="340"/>
                  <a:pt x="687" y="340"/>
                </a:cubicBezTo>
                <a:cubicBezTo>
                  <a:pt x="699" y="351"/>
                  <a:pt x="716" y="349"/>
                  <a:pt x="725" y="335"/>
                </a:cubicBezTo>
                <a:cubicBezTo>
                  <a:pt x="736" y="318"/>
                  <a:pt x="736" y="318"/>
                  <a:pt x="736" y="318"/>
                </a:cubicBezTo>
                <a:cubicBezTo>
                  <a:pt x="745" y="304"/>
                  <a:pt x="766" y="291"/>
                  <a:pt x="782" y="291"/>
                </a:cubicBezTo>
                <a:cubicBezTo>
                  <a:pt x="802" y="290"/>
                  <a:pt x="802" y="290"/>
                  <a:pt x="802" y="290"/>
                </a:cubicBezTo>
                <a:cubicBezTo>
                  <a:pt x="819" y="290"/>
                  <a:pt x="830" y="276"/>
                  <a:pt x="826" y="259"/>
                </a:cubicBezTo>
                <a:cubicBezTo>
                  <a:pt x="821" y="240"/>
                  <a:pt x="821" y="240"/>
                  <a:pt x="821" y="240"/>
                </a:cubicBezTo>
                <a:cubicBezTo>
                  <a:pt x="818" y="224"/>
                  <a:pt x="824" y="200"/>
                  <a:pt x="835" y="188"/>
                </a:cubicBezTo>
                <a:cubicBezTo>
                  <a:pt x="849" y="173"/>
                  <a:pt x="849" y="173"/>
                  <a:pt x="849" y="173"/>
                </a:cubicBezTo>
                <a:cubicBezTo>
                  <a:pt x="860" y="161"/>
                  <a:pt x="858" y="144"/>
                  <a:pt x="844" y="135"/>
                </a:cubicBezTo>
                <a:cubicBezTo>
                  <a:pt x="827" y="124"/>
                  <a:pt x="827" y="124"/>
                  <a:pt x="827" y="124"/>
                </a:cubicBezTo>
                <a:cubicBezTo>
                  <a:pt x="813" y="115"/>
                  <a:pt x="801" y="95"/>
                  <a:pt x="800" y="78"/>
                </a:cubicBezTo>
                <a:cubicBezTo>
                  <a:pt x="800" y="58"/>
                  <a:pt x="800" y="58"/>
                  <a:pt x="800" y="58"/>
                </a:cubicBezTo>
                <a:cubicBezTo>
                  <a:pt x="799" y="41"/>
                  <a:pt x="785" y="31"/>
                  <a:pt x="769" y="34"/>
                </a:cubicBezTo>
                <a:cubicBezTo>
                  <a:pt x="749" y="39"/>
                  <a:pt x="749" y="39"/>
                  <a:pt x="749" y="39"/>
                </a:cubicBezTo>
                <a:cubicBezTo>
                  <a:pt x="733" y="42"/>
                  <a:pt x="710" y="36"/>
                  <a:pt x="698" y="25"/>
                </a:cubicBezTo>
                <a:cubicBezTo>
                  <a:pt x="683" y="11"/>
                  <a:pt x="683" y="11"/>
                  <a:pt x="683" y="11"/>
                </a:cubicBezTo>
                <a:cubicBezTo>
                  <a:pt x="671" y="0"/>
                  <a:pt x="653" y="2"/>
                  <a:pt x="645" y="16"/>
                </a:cubicBezTo>
                <a:cubicBezTo>
                  <a:pt x="634" y="33"/>
                  <a:pt x="634" y="33"/>
                  <a:pt x="634" y="33"/>
                </a:cubicBezTo>
                <a:cubicBezTo>
                  <a:pt x="625" y="47"/>
                  <a:pt x="604" y="59"/>
                  <a:pt x="587" y="60"/>
                </a:cubicBezTo>
                <a:cubicBezTo>
                  <a:pt x="567" y="60"/>
                  <a:pt x="567" y="60"/>
                  <a:pt x="567" y="60"/>
                </a:cubicBezTo>
                <a:cubicBezTo>
                  <a:pt x="551" y="61"/>
                  <a:pt x="540" y="75"/>
                  <a:pt x="544" y="91"/>
                </a:cubicBezTo>
                <a:cubicBezTo>
                  <a:pt x="548" y="111"/>
                  <a:pt x="548" y="111"/>
                  <a:pt x="548" y="111"/>
                </a:cubicBezTo>
                <a:cubicBezTo>
                  <a:pt x="552" y="127"/>
                  <a:pt x="546" y="150"/>
                  <a:pt x="534" y="163"/>
                </a:cubicBezTo>
                <a:cubicBezTo>
                  <a:pt x="521" y="177"/>
                  <a:pt x="521" y="177"/>
                  <a:pt x="521" y="177"/>
                </a:cubicBezTo>
                <a:cubicBezTo>
                  <a:pt x="509" y="189"/>
                  <a:pt x="512" y="207"/>
                  <a:pt x="526" y="216"/>
                </a:cubicBezTo>
                <a:close/>
                <a:moveTo>
                  <a:pt x="685" y="93"/>
                </a:moveTo>
                <a:cubicBezTo>
                  <a:pt x="730" y="93"/>
                  <a:pt x="767" y="130"/>
                  <a:pt x="767" y="175"/>
                </a:cubicBezTo>
                <a:cubicBezTo>
                  <a:pt x="767" y="221"/>
                  <a:pt x="730" y="258"/>
                  <a:pt x="685" y="258"/>
                </a:cubicBezTo>
                <a:cubicBezTo>
                  <a:pt x="639" y="258"/>
                  <a:pt x="603" y="221"/>
                  <a:pt x="603" y="175"/>
                </a:cubicBezTo>
                <a:cubicBezTo>
                  <a:pt x="603" y="130"/>
                  <a:pt x="639" y="93"/>
                  <a:pt x="685" y="93"/>
                </a:cubicBezTo>
                <a:close/>
                <a:moveTo>
                  <a:pt x="685" y="93"/>
                </a:moveTo>
                <a:cubicBezTo>
                  <a:pt x="685" y="93"/>
                  <a:pt x="685" y="93"/>
                  <a:pt x="685" y="9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116240" y="4697280"/>
            <a:ext cx="439920" cy="463680"/>
          </a:xfrm>
          <a:custGeom>
            <a:avLst/>
            <a:gdLst>
              <a:gd name="textAreaLeft" fmla="*/ 0 w 439920"/>
              <a:gd name="textAreaRight" fmla="*/ 440280 w 4399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60" h="380">
                <a:moveTo>
                  <a:pt x="350" y="180"/>
                </a:moveTo>
                <a:cubicBezTo>
                  <a:pt x="295" y="180"/>
                  <a:pt x="68" y="180"/>
                  <a:pt x="10" y="180"/>
                </a:cubicBezTo>
                <a:cubicBezTo>
                  <a:pt x="0" y="180"/>
                  <a:pt x="0" y="176"/>
                  <a:pt x="5" y="171"/>
                </a:cubicBezTo>
                <a:cubicBezTo>
                  <a:pt x="36" y="140"/>
                  <a:pt x="138" y="40"/>
                  <a:pt x="170" y="8"/>
                </a:cubicBezTo>
                <a:cubicBezTo>
                  <a:pt x="178" y="0"/>
                  <a:pt x="180" y="0"/>
                  <a:pt x="189" y="9"/>
                </a:cubicBezTo>
                <a:cubicBezTo>
                  <a:pt x="201" y="21"/>
                  <a:pt x="225" y="44"/>
                  <a:pt x="250" y="69"/>
                </a:cubicBezTo>
                <a:cubicBezTo>
                  <a:pt x="250" y="45"/>
                  <a:pt x="250" y="45"/>
                  <a:pt x="250" y="45"/>
                </a:cubicBezTo>
                <a:cubicBezTo>
                  <a:pt x="281" y="45"/>
                  <a:pt x="281" y="45"/>
                  <a:pt x="281" y="45"/>
                </a:cubicBezTo>
                <a:cubicBezTo>
                  <a:pt x="281" y="100"/>
                  <a:pt x="281" y="100"/>
                  <a:pt x="281" y="100"/>
                </a:cubicBezTo>
                <a:cubicBezTo>
                  <a:pt x="311" y="129"/>
                  <a:pt x="339" y="158"/>
                  <a:pt x="353" y="171"/>
                </a:cubicBezTo>
                <a:cubicBezTo>
                  <a:pt x="358" y="176"/>
                  <a:pt x="360" y="180"/>
                  <a:pt x="350" y="180"/>
                </a:cubicBezTo>
                <a:close/>
                <a:moveTo>
                  <a:pt x="314" y="367"/>
                </a:moveTo>
                <a:cubicBezTo>
                  <a:pt x="314" y="376"/>
                  <a:pt x="310" y="380"/>
                  <a:pt x="300" y="380"/>
                </a:cubicBezTo>
                <a:cubicBezTo>
                  <a:pt x="269" y="380"/>
                  <a:pt x="194" y="380"/>
                  <a:pt x="194" y="380"/>
                </a:cubicBezTo>
                <a:cubicBezTo>
                  <a:pt x="194" y="302"/>
                  <a:pt x="194" y="302"/>
                  <a:pt x="194" y="302"/>
                </a:cubicBezTo>
                <a:cubicBezTo>
                  <a:pt x="146" y="302"/>
                  <a:pt x="146" y="302"/>
                  <a:pt x="146" y="302"/>
                </a:cubicBezTo>
                <a:cubicBezTo>
                  <a:pt x="146" y="380"/>
                  <a:pt x="146" y="380"/>
                  <a:pt x="146" y="380"/>
                </a:cubicBezTo>
                <a:cubicBezTo>
                  <a:pt x="146" y="380"/>
                  <a:pt x="86" y="380"/>
                  <a:pt x="58" y="380"/>
                </a:cubicBezTo>
                <a:cubicBezTo>
                  <a:pt x="49" y="380"/>
                  <a:pt x="44" y="375"/>
                  <a:pt x="44" y="366"/>
                </a:cubicBezTo>
                <a:cubicBezTo>
                  <a:pt x="44" y="322"/>
                  <a:pt x="44" y="188"/>
                  <a:pt x="44" y="188"/>
                </a:cubicBezTo>
                <a:cubicBezTo>
                  <a:pt x="314" y="188"/>
                  <a:pt x="314" y="188"/>
                  <a:pt x="314" y="188"/>
                </a:cubicBezTo>
                <a:cubicBezTo>
                  <a:pt x="314" y="188"/>
                  <a:pt x="314" y="323"/>
                  <a:pt x="314" y="367"/>
                </a:cubicBezTo>
                <a:close/>
                <a:moveTo>
                  <a:pt x="273" y="242"/>
                </a:moveTo>
                <a:cubicBezTo>
                  <a:pt x="225" y="242"/>
                  <a:pt x="225" y="242"/>
                  <a:pt x="225" y="242"/>
                </a:cubicBezTo>
                <a:cubicBezTo>
                  <a:pt x="225" y="282"/>
                  <a:pt x="225" y="282"/>
                  <a:pt x="225" y="282"/>
                </a:cubicBezTo>
                <a:cubicBezTo>
                  <a:pt x="273" y="282"/>
                  <a:pt x="273" y="282"/>
                  <a:pt x="273" y="282"/>
                </a:cubicBezTo>
                <a:cubicBezTo>
                  <a:pt x="273" y="242"/>
                  <a:pt x="273" y="242"/>
                  <a:pt x="273" y="242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373960" y="346716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354880" y="17874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333440" y="195588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1333440" y="3471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1333440" y="50958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8373960" y="31860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8354880" y="154152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714680" y="1674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1714680" y="318600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1714680" y="48052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92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93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94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D1E1-C64E-405A-BE0A-2CBF46EB4C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空心弧 6"/>
          <p:cNvSpPr/>
          <p:nvPr/>
        </p:nvSpPr>
        <p:spPr>
          <a:xfrm flipV="1">
            <a:off x="4816440" y="14212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空心弧 7"/>
          <p:cNvSpPr/>
          <p:nvPr/>
        </p:nvSpPr>
        <p:spPr>
          <a:xfrm flipV="1" rot="10800000">
            <a:off x="5987520" y="1681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空心弧 8"/>
          <p:cNvSpPr/>
          <p:nvPr/>
        </p:nvSpPr>
        <p:spPr>
          <a:xfrm flipV="1" rot="4631400">
            <a:off x="6021360" y="28936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12275" y="863651"/>
                </a:moveTo>
                <a:cubicBezTo>
                  <a:pt x="-60547" y="471489"/>
                  <a:pt x="194740" y="93437"/>
                  <a:pt x="585708" y="14459"/>
                </a:cubicBezTo>
                <a:cubicBezTo>
                  <a:pt x="976676" y="-64519"/>
                  <a:pt x="1358695" y="184793"/>
                  <a:pt x="1443810" y="574471"/>
                </a:cubicBezTo>
                <a:lnTo>
                  <a:pt x="1193887" y="629061"/>
                </a:lnTo>
                <a:cubicBezTo>
                  <a:pt x="1138586" y="375879"/>
                  <a:pt x="890381" y="213896"/>
                  <a:pt x="636361" y="265210"/>
                </a:cubicBezTo>
                <a:cubicBezTo>
                  <a:pt x="382341" y="316524"/>
                  <a:pt x="216476" y="562152"/>
                  <a:pt x="263790" y="816947"/>
                </a:cubicBezTo>
                <a:lnTo>
                  <a:pt x="12275" y="86365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空心弧 9"/>
          <p:cNvSpPr/>
          <p:nvPr/>
        </p:nvSpPr>
        <p:spPr>
          <a:xfrm>
            <a:off x="4836960" y="4354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空心弧 10"/>
          <p:cNvSpPr/>
          <p:nvPr/>
        </p:nvSpPr>
        <p:spPr>
          <a:xfrm rot="10800000">
            <a:off x="6008400" y="4093920"/>
            <a:ext cx="146196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5294160" y="1798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5274000" y="4730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6451200" y="204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6494040" y="44798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7759800" y="2043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7764480" y="2328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7759800" y="447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7764480" y="47624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2617920" y="1847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236680" y="213372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617920" y="4518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236680" y="48038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20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21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2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行四边形 5"/>
          <p:cNvSpPr/>
          <p:nvPr/>
        </p:nvSpPr>
        <p:spPr>
          <a:xfrm>
            <a:off x="3986280" y="0"/>
            <a:ext cx="7972200" cy="6886440"/>
          </a:xfrm>
          <a:prstGeom prst="parallelogram">
            <a:avLst>
              <a:gd name="adj" fmla="val -59762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6563880" y="358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2"/>
          <p:cNvSpPr/>
          <p:nvPr/>
        </p:nvSpPr>
        <p:spPr>
          <a:xfrm>
            <a:off x="1582560" y="4175280"/>
            <a:ext cx="2673360" cy="18000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146" h="772">
                <a:moveTo>
                  <a:pt x="1146" y="737"/>
                </a:moveTo>
                <a:cubicBezTo>
                  <a:pt x="1146" y="756"/>
                  <a:pt x="1134" y="772"/>
                  <a:pt x="1120" y="772"/>
                </a:cubicBezTo>
                <a:cubicBezTo>
                  <a:pt x="26" y="772"/>
                  <a:pt x="26" y="772"/>
                  <a:pt x="26" y="772"/>
                </a:cubicBezTo>
                <a:cubicBezTo>
                  <a:pt x="12" y="772"/>
                  <a:pt x="0" y="756"/>
                  <a:pt x="0" y="737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16"/>
                  <a:pt x="12" y="0"/>
                  <a:pt x="26" y="0"/>
                </a:cubicBezTo>
                <a:cubicBezTo>
                  <a:pt x="1120" y="0"/>
                  <a:pt x="1120" y="0"/>
                  <a:pt x="1120" y="0"/>
                </a:cubicBezTo>
                <a:cubicBezTo>
                  <a:pt x="1134" y="0"/>
                  <a:pt x="1146" y="16"/>
                  <a:pt x="1146" y="35"/>
                </a:cubicBezTo>
                <a:cubicBezTo>
                  <a:pt x="1146" y="737"/>
                  <a:pt x="1146" y="737"/>
                  <a:pt x="1146" y="737"/>
                </a:cubicBezTo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689120" y="4273560"/>
            <a:ext cx="2469960" cy="152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1112760" y="5978520"/>
            <a:ext cx="3611520" cy="85680"/>
          </a:xfrm>
          <a:custGeom>
            <a:avLst/>
            <a:gdLst>
              <a:gd name="textAreaLeft" fmla="*/ 0 w 3611520"/>
              <a:gd name="textAreaRight" fmla="*/ 3611880 w 3611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547" h="37">
                <a:moveTo>
                  <a:pt x="10" y="5"/>
                </a:moveTo>
                <a:cubicBezTo>
                  <a:pt x="10" y="5"/>
                  <a:pt x="0" y="23"/>
                  <a:pt x="68" y="37"/>
                </a:cubicBezTo>
                <a:cubicBezTo>
                  <a:pt x="1487" y="37"/>
                  <a:pt x="1487" y="37"/>
                  <a:pt x="1487" y="37"/>
                </a:cubicBezTo>
                <a:cubicBezTo>
                  <a:pt x="1487" y="37"/>
                  <a:pt x="1534" y="34"/>
                  <a:pt x="1546" y="12"/>
                </a:cubicBezTo>
                <a:cubicBezTo>
                  <a:pt x="1547" y="0"/>
                  <a:pt x="1547" y="0"/>
                  <a:pt x="1547" y="0"/>
                </a:cubicBezTo>
                <a:lnTo>
                  <a:pt x="10" y="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1133640" y="5908680"/>
            <a:ext cx="3593880" cy="108000"/>
          </a:xfrm>
          <a:custGeom>
            <a:avLst/>
            <a:gdLst>
              <a:gd name="textAreaLeft" fmla="*/ 0 w 3593880"/>
              <a:gd name="textAreaRight" fmla="*/ 3594240 w 35938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540" h="47">
                <a:moveTo>
                  <a:pt x="1" y="0"/>
                </a:moveTo>
                <a:cubicBezTo>
                  <a:pt x="0" y="38"/>
                  <a:pt x="0" y="38"/>
                  <a:pt x="0" y="38"/>
                </a:cubicBezTo>
                <a:cubicBezTo>
                  <a:pt x="1" y="47"/>
                  <a:pt x="16" y="43"/>
                  <a:pt x="16" y="43"/>
                </a:cubicBezTo>
                <a:cubicBezTo>
                  <a:pt x="1522" y="43"/>
                  <a:pt x="1522" y="43"/>
                  <a:pt x="1522" y="43"/>
                </a:cubicBezTo>
                <a:cubicBezTo>
                  <a:pt x="1540" y="45"/>
                  <a:pt x="1538" y="40"/>
                  <a:pt x="1538" y="40"/>
                </a:cubicBezTo>
                <a:cubicBezTo>
                  <a:pt x="1538" y="0"/>
                  <a:pt x="1538" y="0"/>
                  <a:pt x="1538" y="0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2671920" y="5908680"/>
            <a:ext cx="506160" cy="57240"/>
          </a:xfrm>
          <a:custGeom>
            <a:avLst/>
            <a:gdLst>
              <a:gd name="textAreaLeft" fmla="*/ 0 w 506160"/>
              <a:gd name="textAreaRight" fmla="*/ 506520 w 506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17" h="25">
                <a:moveTo>
                  <a:pt x="20" y="22"/>
                </a:moveTo>
                <a:cubicBezTo>
                  <a:pt x="198" y="22"/>
                  <a:pt x="198" y="22"/>
                  <a:pt x="198" y="22"/>
                </a:cubicBezTo>
                <a:cubicBezTo>
                  <a:pt x="198" y="22"/>
                  <a:pt x="217" y="25"/>
                  <a:pt x="215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0" y="20"/>
                  <a:pt x="20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5"/>
          <p:cNvSpPr/>
          <p:nvPr/>
        </p:nvSpPr>
        <p:spPr>
          <a:xfrm>
            <a:off x="2419200" y="4483080"/>
            <a:ext cx="1001880" cy="10000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4"/>
          <p:cNvSpPr/>
          <p:nvPr/>
        </p:nvSpPr>
        <p:spPr>
          <a:xfrm rot="19480200">
            <a:off x="4829040" y="2776320"/>
            <a:ext cx="825480" cy="639720"/>
          </a:xfrm>
          <a:custGeom>
            <a:avLst/>
            <a:gdLst>
              <a:gd name="textAreaLeft" fmla="*/ 0 w 825480"/>
              <a:gd name="textAreaRight" fmla="*/ 825840 w 825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4"/>
          <p:cNvSpPr/>
          <p:nvPr/>
        </p:nvSpPr>
        <p:spPr>
          <a:xfrm rot="18346800">
            <a:off x="4011480" y="3052440"/>
            <a:ext cx="684360" cy="531720"/>
          </a:xfrm>
          <a:custGeom>
            <a:avLst/>
            <a:gdLst>
              <a:gd name="textAreaLeft" fmla="*/ 0 w 684360"/>
              <a:gd name="textAreaRight" fmla="*/ 684720 w 68436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4"/>
          <p:cNvSpPr/>
          <p:nvPr/>
        </p:nvSpPr>
        <p:spPr>
          <a:xfrm rot="18864000">
            <a:off x="3732840" y="2078280"/>
            <a:ext cx="825480" cy="64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4"/>
          <p:cNvSpPr/>
          <p:nvPr/>
        </p:nvSpPr>
        <p:spPr>
          <a:xfrm rot="18346800">
            <a:off x="2573640" y="42332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4"/>
          <p:cNvSpPr/>
          <p:nvPr/>
        </p:nvSpPr>
        <p:spPr>
          <a:xfrm rot="18346800">
            <a:off x="3212280" y="4232520"/>
            <a:ext cx="438120" cy="341280"/>
          </a:xfrm>
          <a:custGeom>
            <a:avLst/>
            <a:gdLst>
              <a:gd name="textAreaLeft" fmla="*/ 0 w 438120"/>
              <a:gd name="textAreaRight" fmla="*/ 438480 w 438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74"/>
          <p:cNvSpPr/>
          <p:nvPr/>
        </p:nvSpPr>
        <p:spPr>
          <a:xfrm rot="3325800">
            <a:off x="2839680" y="3735360"/>
            <a:ext cx="438120" cy="33948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5"/>
          <p:cNvSpPr/>
          <p:nvPr/>
        </p:nvSpPr>
        <p:spPr>
          <a:xfrm rot="20679000">
            <a:off x="2879280" y="2777760"/>
            <a:ext cx="789120" cy="611280"/>
          </a:xfrm>
          <a:custGeom>
            <a:avLst/>
            <a:gdLst>
              <a:gd name="textAreaLeft" fmla="*/ 0 w 789120"/>
              <a:gd name="textAreaRight" fmla="*/ 789480 w 7891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6"/>
          <p:cNvSpPr/>
          <p:nvPr/>
        </p:nvSpPr>
        <p:spPr>
          <a:xfrm rot="20976000">
            <a:off x="3565440" y="37353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4"/>
          <p:cNvSpPr/>
          <p:nvPr/>
        </p:nvSpPr>
        <p:spPr>
          <a:xfrm rot="871800">
            <a:off x="4640040" y="1663560"/>
            <a:ext cx="1147680" cy="89064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8"/>
          <p:cNvSpPr/>
          <p:nvPr/>
        </p:nvSpPr>
        <p:spPr>
          <a:xfrm rot="20976000">
            <a:off x="4443480" y="26114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4"/>
          <p:cNvSpPr/>
          <p:nvPr/>
        </p:nvSpPr>
        <p:spPr>
          <a:xfrm rot="18346800">
            <a:off x="4130280" y="3871440"/>
            <a:ext cx="250920" cy="193680"/>
          </a:xfrm>
          <a:custGeom>
            <a:avLst/>
            <a:gdLst>
              <a:gd name="textAreaLeft" fmla="*/ 0 w 250920"/>
              <a:gd name="textAreaRight" fmla="*/ 251280 w 2509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4"/>
          <p:cNvSpPr/>
          <p:nvPr/>
        </p:nvSpPr>
        <p:spPr>
          <a:xfrm rot="18346800">
            <a:off x="3318840" y="3529440"/>
            <a:ext cx="250920" cy="195120"/>
          </a:xfrm>
          <a:custGeom>
            <a:avLst/>
            <a:gdLst>
              <a:gd name="textAreaLeft" fmla="*/ 0 w 250920"/>
              <a:gd name="textAreaRight" fmla="*/ 251280 w 2509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1"/>
          <p:cNvSpPr/>
          <p:nvPr/>
        </p:nvSpPr>
        <p:spPr>
          <a:xfrm rot="20976000">
            <a:off x="3565440" y="310680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84"/>
          <p:cNvSpPr/>
          <p:nvPr/>
        </p:nvSpPr>
        <p:spPr>
          <a:xfrm rot="4444200">
            <a:off x="4500360" y="34095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9562320" y="548784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8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9562320" y="470700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5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8"/>
          <p:cNvSpPr/>
          <p:nvPr/>
        </p:nvSpPr>
        <p:spPr>
          <a:xfrm>
            <a:off x="664704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99"/>
          <p:cNvSpPr/>
          <p:nvPr/>
        </p:nvSpPr>
        <p:spPr>
          <a:xfrm>
            <a:off x="6553080" y="5587920"/>
            <a:ext cx="273240" cy="47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8"/>
          <p:cNvSpPr/>
          <p:nvPr/>
        </p:nvSpPr>
        <p:spPr>
          <a:xfrm>
            <a:off x="692460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99"/>
          <p:cNvSpPr/>
          <p:nvPr/>
        </p:nvSpPr>
        <p:spPr>
          <a:xfrm>
            <a:off x="6832440" y="5587920"/>
            <a:ext cx="271800" cy="478080"/>
          </a:xfrm>
          <a:custGeom>
            <a:avLst/>
            <a:gdLst>
              <a:gd name="textAreaLeft" fmla="*/ 0 w 271800"/>
              <a:gd name="textAreaRight" fmla="*/ 272160 w 27180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8"/>
          <p:cNvSpPr/>
          <p:nvPr/>
        </p:nvSpPr>
        <p:spPr>
          <a:xfrm>
            <a:off x="720252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99"/>
          <p:cNvSpPr/>
          <p:nvPr/>
        </p:nvSpPr>
        <p:spPr>
          <a:xfrm>
            <a:off x="71103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98"/>
          <p:cNvSpPr/>
          <p:nvPr/>
        </p:nvSpPr>
        <p:spPr>
          <a:xfrm>
            <a:off x="748044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9"/>
          <p:cNvSpPr/>
          <p:nvPr/>
        </p:nvSpPr>
        <p:spPr>
          <a:xfrm>
            <a:off x="73882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8"/>
          <p:cNvSpPr/>
          <p:nvPr/>
        </p:nvSpPr>
        <p:spPr>
          <a:xfrm>
            <a:off x="77598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9"/>
          <p:cNvSpPr/>
          <p:nvPr/>
        </p:nvSpPr>
        <p:spPr>
          <a:xfrm>
            <a:off x="76662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8"/>
          <p:cNvSpPr/>
          <p:nvPr/>
        </p:nvSpPr>
        <p:spPr>
          <a:xfrm>
            <a:off x="803592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99"/>
          <p:cNvSpPr/>
          <p:nvPr/>
        </p:nvSpPr>
        <p:spPr>
          <a:xfrm>
            <a:off x="79437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8"/>
          <p:cNvSpPr/>
          <p:nvPr/>
        </p:nvSpPr>
        <p:spPr>
          <a:xfrm>
            <a:off x="8315280" y="5483160"/>
            <a:ext cx="8748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99"/>
          <p:cNvSpPr/>
          <p:nvPr/>
        </p:nvSpPr>
        <p:spPr>
          <a:xfrm>
            <a:off x="82216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8"/>
          <p:cNvSpPr/>
          <p:nvPr/>
        </p:nvSpPr>
        <p:spPr>
          <a:xfrm>
            <a:off x="85932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99"/>
          <p:cNvSpPr/>
          <p:nvPr/>
        </p:nvSpPr>
        <p:spPr>
          <a:xfrm>
            <a:off x="84996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8"/>
          <p:cNvSpPr/>
          <p:nvPr/>
        </p:nvSpPr>
        <p:spPr>
          <a:xfrm>
            <a:off x="8871120" y="5483160"/>
            <a:ext cx="8712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99"/>
          <p:cNvSpPr/>
          <p:nvPr/>
        </p:nvSpPr>
        <p:spPr>
          <a:xfrm>
            <a:off x="87771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8"/>
          <p:cNvSpPr/>
          <p:nvPr/>
        </p:nvSpPr>
        <p:spPr>
          <a:xfrm>
            <a:off x="9148680" y="5483160"/>
            <a:ext cx="8748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90550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6"/>
          <p:cNvSpPr/>
          <p:nvPr/>
        </p:nvSpPr>
        <p:spPr>
          <a:xfrm>
            <a:off x="65818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665316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6"/>
          <p:cNvSpPr/>
          <p:nvPr/>
        </p:nvSpPr>
        <p:spPr>
          <a:xfrm>
            <a:off x="68533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7"/>
          <p:cNvSpPr/>
          <p:nvPr/>
        </p:nvSpPr>
        <p:spPr>
          <a:xfrm>
            <a:off x="692460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6"/>
          <p:cNvSpPr/>
          <p:nvPr/>
        </p:nvSpPr>
        <p:spPr>
          <a:xfrm>
            <a:off x="71247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719604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96"/>
          <p:cNvSpPr/>
          <p:nvPr/>
        </p:nvSpPr>
        <p:spPr>
          <a:xfrm>
            <a:off x="7394400" y="4789440"/>
            <a:ext cx="241560" cy="51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7"/>
          <p:cNvSpPr/>
          <p:nvPr/>
        </p:nvSpPr>
        <p:spPr>
          <a:xfrm>
            <a:off x="746748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6"/>
          <p:cNvSpPr/>
          <p:nvPr/>
        </p:nvSpPr>
        <p:spPr>
          <a:xfrm>
            <a:off x="76662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7"/>
          <p:cNvSpPr/>
          <p:nvPr/>
        </p:nvSpPr>
        <p:spPr>
          <a:xfrm>
            <a:off x="773748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6"/>
          <p:cNvSpPr/>
          <p:nvPr/>
        </p:nvSpPr>
        <p:spPr>
          <a:xfrm>
            <a:off x="793764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7"/>
          <p:cNvSpPr/>
          <p:nvPr/>
        </p:nvSpPr>
        <p:spPr>
          <a:xfrm>
            <a:off x="800892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96"/>
          <p:cNvSpPr/>
          <p:nvPr/>
        </p:nvSpPr>
        <p:spPr>
          <a:xfrm>
            <a:off x="82090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97"/>
          <p:cNvSpPr/>
          <p:nvPr/>
        </p:nvSpPr>
        <p:spPr>
          <a:xfrm>
            <a:off x="828036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96"/>
          <p:cNvSpPr/>
          <p:nvPr/>
        </p:nvSpPr>
        <p:spPr>
          <a:xfrm>
            <a:off x="84805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7"/>
          <p:cNvSpPr/>
          <p:nvPr/>
        </p:nvSpPr>
        <p:spPr>
          <a:xfrm>
            <a:off x="855180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96"/>
          <p:cNvSpPr/>
          <p:nvPr/>
        </p:nvSpPr>
        <p:spPr>
          <a:xfrm>
            <a:off x="87519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7"/>
          <p:cNvSpPr/>
          <p:nvPr/>
        </p:nvSpPr>
        <p:spPr>
          <a:xfrm>
            <a:off x="882324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6"/>
          <p:cNvSpPr/>
          <p:nvPr/>
        </p:nvSpPr>
        <p:spPr>
          <a:xfrm>
            <a:off x="90234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7"/>
          <p:cNvSpPr/>
          <p:nvPr/>
        </p:nvSpPr>
        <p:spPr>
          <a:xfrm>
            <a:off x="909324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6198120" y="2630520"/>
            <a:ext cx="1197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  <a:ea typeface="微软雅黑"/>
              </a:rPr>
              <a:t>80%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6"/>
          <p:cNvSpPr/>
          <p:nvPr/>
        </p:nvSpPr>
        <p:spPr>
          <a:xfrm>
            <a:off x="7446960" y="2543040"/>
            <a:ext cx="3975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7"/>
          <p:cNvSpPr/>
          <p:nvPr/>
        </p:nvSpPr>
        <p:spPr>
          <a:xfrm>
            <a:off x="6168960" y="3699000"/>
            <a:ext cx="5254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3"/>
          <p:cNvSpPr/>
          <p:nvPr/>
        </p:nvSpPr>
        <p:spPr>
          <a:xfrm>
            <a:off x="6183360" y="1712880"/>
            <a:ext cx="5732280" cy="94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7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7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5:40:00Z</dcterms:created>
  <dc:creator>哎呀小小草</dc:creator>
  <dc:description/>
  <cp:keywords/>
  <dc:language>en-US</dc:language>
  <cp:lastModifiedBy>my</cp:lastModifiedBy>
  <dcterms:modified xsi:type="dcterms:W3CDTF">2015-11-24T11:31:36Z</dcterms:modified>
  <cp:revision>18</cp:revision>
  <dc:subject/>
  <dc:title>PowerPoint 演示文稿</dc:title>
</cp:coreProperties>
</file>