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973-9461-42A7-81A1-559CDC87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0ED-5C3D-413F-845C-5478702F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41F-C93C-4748-A480-96769399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765-85E0-4A6D-8B42-CC0B6AB4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EFC-6DD6-4E5B-84F9-8A04F0D3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5AD-711B-411C-BDDB-9436E5F0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D92-C67E-4550-810F-25875D9C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CC2-297D-4274-BA0F-1BB92809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028-DE0F-4A7A-B776-459048E5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988-ECF4-4734-A89B-5C112146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C8B-C91C-47D6-BC7B-0BEE793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3E2-6437-47EF-A04A-D41973B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AD69-FAB8-4A48-B5F8-FF9A954FC5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876960"/>
            <a:chOff x="4879800" y="1809720"/>
            <a:chExt cx="2444760" cy="87696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866880"/>
            <a:chOff x="8137440" y="3067200"/>
            <a:chExt cx="3332160" cy="86688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60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840240"/>
              <a:chOff x="8841600" y="3067200"/>
              <a:chExt cx="2628000" cy="84024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240"/>
                <a:ext cx="2564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856800"/>
            <a:chOff x="8177040" y="4402080"/>
            <a:chExt cx="3230640" cy="85680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840240"/>
              <a:chOff x="8857080" y="4402080"/>
              <a:chExt cx="2550600" cy="84024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12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5-09-18T13:54:57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