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3B7-2D88-471B-98F2-03EF2275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D87-907A-45F8-A164-8DA9D8F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256-A42D-463E-AC4E-278962F9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48A-1F46-43F4-BCDE-9E9692C7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8BD-F376-4105-932E-F0D8E6F7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9B4D-0DDB-453F-946A-1172100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39D2-523C-4C32-8DFD-2887358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EDC-0CA2-4CD7-9278-C5AD8D5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4F6-8990-438B-B6DF-A71BE929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0CC5-EECF-408D-BC6D-B5784515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0B7F-287C-41BB-9BF0-7E4061B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392-9DA1-412A-AB30-E582EEB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622C-C26C-4D47-B67C-23D65B4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28A9-E48D-4244-A0E5-A1443413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34AE-6D9D-4AAD-AAB1-ECA85483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3ED-B777-4144-806B-32DF1AEC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00E-6169-4C2D-B7A5-D356423B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55D-E8BC-4642-BBA8-7F519E0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1EB-9090-491A-9F63-26842F33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0A1-94FA-48E0-8F2D-D5DB18BE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1FA-08D7-469B-87C5-B87CA09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F86-34CA-4944-BF2F-E658430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B23-AE7A-414D-A3A9-8A57CB16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073-EDDA-431D-8A24-8FB077D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20091226_ded7f797d7c1f73b7b40Ufsw3Ykaj0qB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27280" y="196992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708-5A0E-4CBD-AEAE-FED1C70A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91120_ee26936737ff5900b03bIADRHHPTXbA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550C-F001-489D-9D37-5E526F28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40000" y="4581360"/>
            <a:ext cx="7308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汉仪雪君体简"/>
                <a:ea typeface="汉仪雪君体简"/>
              </a:rPr>
              <a:t>吉祥如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内容占位符 1" descr=""/>
          <p:cNvPicPr/>
          <p:nvPr/>
        </p:nvPicPr>
        <p:blipFill>
          <a:blip r:embed="rId1"/>
          <a:stretch/>
        </p:blipFill>
        <p:spPr>
          <a:xfrm flipH="1">
            <a:off x="-360" y="2276640"/>
            <a:ext cx="308772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任意多边形 8"/>
          <p:cNvSpPr/>
          <p:nvPr/>
        </p:nvSpPr>
        <p:spPr>
          <a:xfrm>
            <a:off x="3441600" y="2548080"/>
            <a:ext cx="760680" cy="376200"/>
          </a:xfrm>
          <a:prstGeom prst="pie">
            <a:avLst/>
          </a:prstGeom>
          <a:solidFill>
            <a:srgbClr val="ed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27440" bIns="33084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bbe0e3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202280" y="2538360"/>
            <a:ext cx="467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D DO EIUSMOD TEMPOR INCIDID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7"/>
          <p:cNvSpPr/>
          <p:nvPr/>
        </p:nvSpPr>
        <p:spPr>
          <a:xfrm>
            <a:off x="3441600" y="4448160"/>
            <a:ext cx="760680" cy="376200"/>
          </a:xfrm>
          <a:prstGeom prst="pie">
            <a:avLst/>
          </a:prstGeom>
          <a:solidFill>
            <a:srgbClr val="f67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27440" bIns="33084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4202280" y="4438800"/>
            <a:ext cx="467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D DO EIUSMOD TEMPOR INCIDID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755640" y="981000"/>
            <a:ext cx="7769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等腰三角形 5"/>
          <p:cNvSpPr/>
          <p:nvPr/>
        </p:nvSpPr>
        <p:spPr>
          <a:xfrm>
            <a:off x="982800" y="2681280"/>
            <a:ext cx="1895400" cy="1635120"/>
          </a:xfrm>
          <a:prstGeom prst="triangle">
            <a:avLst>
              <a:gd name="adj" fmla="val 50000"/>
            </a:avLst>
          </a:prstGeom>
          <a:solidFill>
            <a:srgbClr val="ff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6"/>
          <p:cNvSpPr/>
          <p:nvPr/>
        </p:nvSpPr>
        <p:spPr>
          <a:xfrm>
            <a:off x="763560" y="2422440"/>
            <a:ext cx="2333520" cy="2013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bbe0e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1930320" y="0"/>
            <a:ext cx="0" cy="2422440"/>
          </a:xfrm>
          <a:prstGeom prst="line">
            <a:avLst/>
          </a:prstGeom>
          <a:ln w="9360">
            <a:solidFill>
              <a:srgbClr val="bbe0e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930320" y="4448160"/>
            <a:ext cx="0" cy="2413080"/>
          </a:xfrm>
          <a:prstGeom prst="line">
            <a:avLst/>
          </a:prstGeom>
          <a:ln w="9360">
            <a:solidFill>
              <a:srgbClr val="bbe0e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"/>
          <p:cNvSpPr/>
          <p:nvPr/>
        </p:nvSpPr>
        <p:spPr>
          <a:xfrm>
            <a:off x="4373640" y="233856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2ca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 flipH="1">
            <a:off x="3997440" y="2151000"/>
            <a:ext cx="498240" cy="647640"/>
          </a:xfrm>
          <a:prstGeom prst="line">
            <a:avLst/>
          </a:prstGeom>
          <a:ln w="9360">
            <a:solidFill>
              <a:srgbClr val="d6e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"/>
          <p:cNvSpPr/>
          <p:nvPr/>
        </p:nvSpPr>
        <p:spPr>
          <a:xfrm>
            <a:off x="3798720" y="1862280"/>
            <a:ext cx="3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a2ca"/>
                </a:solidFill>
                <a:latin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5"/>
          <p:cNvSpPr/>
          <p:nvPr/>
        </p:nvSpPr>
        <p:spPr>
          <a:xfrm>
            <a:off x="4373640" y="343692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e0d9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6"/>
          <p:cNvSpPr/>
          <p:nvPr/>
        </p:nvSpPr>
        <p:spPr>
          <a:xfrm flipH="1">
            <a:off x="3997440" y="3246480"/>
            <a:ext cx="498240" cy="650880"/>
          </a:xfrm>
          <a:prstGeom prst="line">
            <a:avLst/>
          </a:prstGeom>
          <a:ln w="9360">
            <a:solidFill>
              <a:srgbClr val="d6e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7"/>
          <p:cNvSpPr/>
          <p:nvPr/>
        </p:nvSpPr>
        <p:spPr>
          <a:xfrm>
            <a:off x="3798720" y="2957400"/>
            <a:ext cx="385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0d9"/>
                </a:solidFill>
                <a:latin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9"/>
          <p:cNvSpPr/>
          <p:nvPr/>
        </p:nvSpPr>
        <p:spPr>
          <a:xfrm>
            <a:off x="4373640" y="453564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2e6d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0"/>
          <p:cNvSpPr/>
          <p:nvPr/>
        </p:nvSpPr>
        <p:spPr>
          <a:xfrm flipH="1">
            <a:off x="3997440" y="4344840"/>
            <a:ext cx="498240" cy="650880"/>
          </a:xfrm>
          <a:prstGeom prst="line">
            <a:avLst/>
          </a:prstGeom>
          <a:ln w="9360">
            <a:solidFill>
              <a:srgbClr val="d6ec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1"/>
          <p:cNvSpPr/>
          <p:nvPr/>
        </p:nvSpPr>
        <p:spPr>
          <a:xfrm>
            <a:off x="3798720" y="4056120"/>
            <a:ext cx="385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52e6d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组合 23" descr=""/>
          <p:cNvPicPr/>
          <p:nvPr/>
        </p:nvPicPr>
        <p:blipFill>
          <a:blip r:embed="rId1"/>
          <a:stretch/>
        </p:blipFill>
        <p:spPr>
          <a:xfrm>
            <a:off x="2603520" y="2876400"/>
            <a:ext cx="391788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组合 37" descr=""/>
          <p:cNvPicPr/>
          <p:nvPr/>
        </p:nvPicPr>
        <p:blipFill>
          <a:blip r:embed="rId1"/>
          <a:stretch/>
        </p:blipFill>
        <p:spPr>
          <a:xfrm>
            <a:off x="3276720" y="2774880"/>
            <a:ext cx="2330280" cy="26622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6"/>
          <p:cNvSpPr/>
          <p:nvPr/>
        </p:nvSpPr>
        <p:spPr>
          <a:xfrm>
            <a:off x="2685960" y="1566720"/>
            <a:ext cx="3772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 rot="20220000">
            <a:off x="3851280" y="422100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8:18Z</dcterms:created>
  <dc:creator>user</dc:creator>
  <dc:description/>
  <dc:language>en-US</dc:language>
  <cp:lastModifiedBy>Administrator</cp:lastModifiedBy>
  <dcterms:modified xsi:type="dcterms:W3CDTF">2016-04-18T08:39:01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