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58B-E51F-42FB-BBE5-D4688DA5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02E-D85E-4419-85FB-26EAE8F5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BE0-3BA5-4339-B28E-B6AC7C78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099-93C6-4DDC-9EFD-2BECA0F8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A86-C948-4FE1-8016-17C729C0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85F-4B5E-4196-8716-62A943F0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0B8-D5FF-467D-BCF1-77EA2C2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6FC-E3B8-47DE-BCCD-D905C97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E51-C1FB-49F8-87BD-E542466E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80B-AFE4-4ECE-A009-3B03E21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0A2-E7C3-498A-BB73-91EA0450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857-E0D6-440A-AAF6-0C1F94B1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091-AB09-455D-B8B2-E297F4213F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ECA-B632-409A-AE1B-78EBDCEA12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25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0"/>
          <p:cNvSpPr/>
          <p:nvPr/>
        </p:nvSpPr>
        <p:spPr>
          <a:xfrm>
            <a:off x="-512640" y="1119240"/>
            <a:ext cx="1612800" cy="99360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9"/>
          <p:cNvSpPr/>
          <p:nvPr/>
        </p:nvSpPr>
        <p:spPr>
          <a:xfrm>
            <a:off x="-171360" y="1467000"/>
            <a:ext cx="2503440" cy="154440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53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58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6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0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39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42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45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48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0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19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62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8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0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0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1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9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2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397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0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nodeType="clickEffect" fill="hold">
                      <p:stCondLst>
                        <p:cond delay="0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0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7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7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Administrator</cp:lastModifiedBy>
  <dcterms:modified xsi:type="dcterms:W3CDTF">2016-07-26T02:51:24Z</dcterms:modified>
  <cp:revision>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