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1F383-D91B-48FA-AF92-A79A0FDE2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B6EFE-0121-4D3C-92C7-14D41DE4B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C843A-22B3-48ED-83DE-418460184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F3834-BA4E-42FD-A586-4EA24934D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0187C-073C-481A-AE19-FE1E5BA8D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A285F-DD31-4A29-98FF-9820475A6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D1E4F-0646-4223-951A-7BE639CB2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73115-B2E5-4B62-814F-2B486FB04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B2E5A-36B5-4183-91F8-487ECF9E2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DE01D-3454-4503-843D-39224237D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E3A7-FFED-4695-B676-5917EAF37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8BF5D-EEC5-41B7-8C83-04485A566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F6A7-398C-4956-B7AB-B9F618E57E5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6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48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rm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istrator</cp:lastModifiedBy>
  <dcterms:modified xsi:type="dcterms:W3CDTF">2016-07-25T04:35:35Z</dcterms:modified>
  <cp:revision>66</cp:revision>
  <dc:subject>12sc.taobao.com</dc:subject>
  <dc:title>PowerPoint 演示文稿</dc:title>
</cp:coreProperties>
</file>