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3.jpeg" ContentType="image/jpeg"/>
  <Override PartName="/ppt/media/image31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9BFBD-10EA-4B63-9EEB-8E82ADB3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C84E4-A5C2-43EF-BA62-60518C3B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D2DE8-AEF2-4F7F-8DB5-37C4FCDA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A0029-702B-4843-A9C0-D82D41B8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67BB0-BC7B-41CD-B8D2-8E6036B6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C1C5E-A30A-4232-9485-8DA58AAB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4FE49-B4FF-4ADB-B5C6-8F7857B0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53602-3FBD-4A03-8F77-0BFE2207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776C6-850D-47A7-9B8F-67A9980A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D3E3C-1C50-457B-9099-FDC4A7B3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E71EB-1B8D-4C28-AA73-7BB5759D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95AF2-A617-4DD5-B18B-AA10F245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ABC8A-BBB8-4FFB-B890-F7A1947A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68C9B-F4DC-4772-836A-F006E6D7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3E676-74E7-4238-BF59-8DD4C187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72485-DBA6-429A-AA73-28481553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F300F-37BB-487B-BB5C-9430AD9C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D30CB-9177-4D8A-8BB0-625E609F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B2904-AA8C-4297-A674-F1FE7222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5535C-7AFC-4ECF-AC28-1C625B2D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C9E8F-0A45-49E5-A79B-ECFCBB0E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33AC6-1938-4877-940E-B82517DF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D6510-7499-47EB-BD45-0896E99D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4F6ED-78AD-4B82-985D-41790673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96BE1-60B3-40AE-9EBC-DC3827EE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13F17-CB09-4B64-AE2C-2FEDC505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1E8EE-AC82-4853-B2D7-224C2B54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877A0-79ED-49FB-980A-4FE161C2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E759F-8382-4C82-A1EB-0E49AD15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0F4B4-8F14-46F6-B089-914E0F06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083-D56F-4D3A-BAAF-6D1F48F6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DDF92-6B7C-40E9-9A12-B2732F52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3EF93-7780-4897-AF67-DFBCE460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4D234-ED94-494B-94B8-3AEAD87C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C434-56F4-4AF2-B1D3-5D310941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59749-3D3F-4EA2-9458-811CE5AC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3209E-1EA0-4704-BF4D-A2B53953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FFD2F-4D68-43B3-A0DD-C9CD23C1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86BA0-2701-43B6-AEB2-7E160FD6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1CCC0-F860-458A-8010-33187F82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44FDA-0E2F-404B-9F79-BFFD0D7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333-7CAB-4E50-8167-EDFDE2D9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38D34-9617-46D0-9CC7-E4CE7A7D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FDAB2-7D24-45A0-8ECB-BC6B0B3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08C16-9837-4EDE-BF72-6B7AA63E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8BB4B-8B51-43D2-BE1B-BE50D1A2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05BF9-09BC-4249-B3D1-97B5E33A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5B00F-62DC-4BD9-B6A4-9B8089F8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7487D-5734-41B5-BDDA-0F18FB58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64099-3379-4740-A38C-C926963B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185C4-685B-48C1-9EA9-260B4E42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7A989-2CE1-472D-8B0C-DC94209E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7AB-60AD-4B7E-AB83-265CD83D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8074C-FD9F-40D4-B05F-F72F9794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FDACE-3462-41D1-BDD5-91BFE9A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7BD30-51B1-47B1-ABF4-7AA32DBC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73C24-D9CF-483F-88C5-CFB04B8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C085D-9D22-40EE-B5D4-A2115597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50334-BAD2-403E-B7A0-CB349022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BF6C6-EE9A-48A3-8C6B-7FB344D4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141-8907-4C17-A704-1FFB3313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FD4-796F-4211-9B4D-A7433EDF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41B-B0FD-4648-AC7F-36044C77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B61-38A9-4854-A2E9-7485C365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1F0-2171-495A-8A38-41EB1F8D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498-8E01-4C09-A1A5-1F71A323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703-812E-4FC5-90E9-B13E7C2A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C4E-3CAF-43E7-B0AB-4954A98C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B36-FD3A-40F5-AC39-2626FBAD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771E-A078-4F7A-861C-2B175D1D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3EFB-6C10-4F6A-B54E-B17A2344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BA0-4EC1-46CB-B732-6DF04D75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5FBE-5E14-4A85-80A6-1E851499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AB9B-9142-45B5-BC82-4638A549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E5DA-4054-401B-AF0F-521DE71B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B8F3-67F1-4071-9AB2-2029314C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39C6-2561-4A13-960C-5DB8F5C2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5C49-8C77-4F33-B238-F421B8E2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0A8E-DCBD-4439-9D6C-AEEB7C6B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5E00-A4B9-463A-BFA0-D68ED5B1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D5D0-2620-48C6-999D-F4DFEEC3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A2C5-D749-46A7-BDE1-E33517B8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917A0-F259-488F-8D0D-472DDF4D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B868-1BB7-4BCF-B9B6-43546F45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42EF-18B3-4A46-BCFB-703AE8F6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225B4-73EF-4CC8-8831-B6B0DE5A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FB67-D5E8-4ED7-B5CB-C40D2D5A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77E1-AA02-4C59-92C2-32C9C01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7516-3DDE-4A74-A4E6-009E734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63C8D-9336-42F3-B562-B243DFC2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B290A-7040-4FEA-8FE5-E681E78A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3D29-F5ED-4126-B740-3B0BFD26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5CA4-2173-4D09-AF30-5E3D4FFD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2040-DB37-4DA7-BE0B-9B6F3750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4001B-B66A-45F2-96AA-43A2028E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2EB91-552C-4311-8F23-87F395C9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CAC6-362F-4EA3-A4DD-1A5A5C5A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33CC-1C3C-4A0A-B3B7-AE814142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F161F-B1E5-4C29-81D9-D542339A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E9241-2691-4DE5-82E4-D860D1E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13EB-ED36-42E8-8DD6-04ECF6D1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7133A-167B-4EE9-B5F1-D12C44E5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FEBE-5EDE-4EEA-910A-E2644FEA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878E1-4261-4992-BC15-62DF402F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3C5F-DAD5-4FA1-9216-74385107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08991-5F00-45D3-8098-71B3AC48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4B5D1-DC1B-42E3-B4C6-CF26BEB3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0A948-A529-4809-BA5B-53771B1E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D1C0-6F4F-4513-94CA-4999720B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F5D82-3F9F-421E-BD04-D1D334BE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81696-C09D-4A14-AA96-C2D7B25B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1223B-AFC0-4A5D-91F8-4B86A2E5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D005C-ACA8-4D4B-89CB-54C16852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09297-4752-4733-ADF8-F4507ED2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FDBD9-EB9E-44AD-B1F5-3A9ACD55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58326-1E5B-48BF-814B-42D1729F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7BDA0-95AB-4BC6-8910-2BB1CD1E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FB7E-ACA8-48C5-A60F-D302899F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16D38-0199-4D17-B69C-4768E52A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45A88-555F-4EDA-88EF-71C4A675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D9CD0-BFF6-4EE6-AC47-E9E1B01A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CC76A-82D5-427C-B763-6AA29DAC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079BE-5328-43F8-894B-07BFBAEB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51BD8-1D2B-4790-9166-1A329A50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2ECE-92CF-4871-8263-5102A4B0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B0A91-72D1-4BC3-A0AC-9B37A316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DABF3-EC37-4C94-8794-6E1586D9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A7698-CCF7-40CA-B854-A5B2E853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23DA-0B59-425C-A943-CCF5CA4D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D369F-62E4-4844-AE03-D5B45923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B6AE0-F9E5-4443-9DAA-E01F2964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13361-ACAA-4E5C-AAFD-F2706726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DA763-A5F4-4EBF-B14A-99022265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41A3D-E600-4471-A9FA-BA7A2360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396B3-0619-4DEA-AD7B-BDE02AC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3521F-4600-44E8-9AEE-A893A0A7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44CA6-B7B7-4F49-B37B-95828D99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AE722-EC15-418B-B971-2AA6EB42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BEB93-739E-49DA-8592-ED9C529A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9F269-EDCA-4DBB-97F2-4DEBE1D4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92B1D-F2EF-4BB1-BBAE-24CC5572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80C7F-B042-497B-8F5A-A2C09264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4457D-A30A-4113-9AED-2F7E2B97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D5619-CF47-478D-B904-A883C0BF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A81F-5620-4A61-9079-FF8FF6A0655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BB1F-B538-4643-9738-BE2C7C4C5FF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9C89-D2E9-4DE0-B951-8B27A7B6ED6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396B-D11D-48E7-98FD-509019E519C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0772-B26B-432B-A01F-69C6369DB0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BC51-8475-499D-A367-AE43298DBAD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E6FC-21E5-4C75-BB7C-5BD7E1DE82C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225D-7370-4A65-834E-57542952CA5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DEAA-CAA4-45E0-88BD-84E8C71286D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04FC-43DE-4897-8F38-785F93B17D3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A1B4-11E6-4DF4-8434-CD907F8CBCF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6A5F-9ACD-4EF0-A333-076C490246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10"/>
          <p:cNvSpPr/>
          <p:nvPr/>
        </p:nvSpPr>
        <p:spPr>
          <a:xfrm>
            <a:off x="5248440" y="488628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人：不期而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12"/>
          <p:cNvSpPr/>
          <p:nvPr/>
        </p:nvSpPr>
        <p:spPr>
          <a:xfrm>
            <a:off x="5165640" y="520056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院系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专业 指导老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13"/>
          <p:cNvSpPr/>
          <p:nvPr/>
        </p:nvSpPr>
        <p:spPr>
          <a:xfrm>
            <a:off x="5452920" y="5548320"/>
            <a:ext cx="15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8"/>
                </a:solidFill>
                <a:latin typeface="微软雅黑"/>
                <a:ea typeface="微软雅黑"/>
              </a:rPr>
              <a:t>2015.4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600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601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5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612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39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11"/>
          <p:cNvGrpSpPr/>
          <p:nvPr/>
        </p:nvGrpSpPr>
        <p:grpSpPr>
          <a:xfrm>
            <a:off x="6074640" y="4655880"/>
            <a:ext cx="782640" cy="781920"/>
            <a:chOff x="6074640" y="4655880"/>
            <a:chExt cx="782640" cy="781920"/>
          </a:xfrm>
        </p:grpSpPr>
        <p:sp>
          <p:nvSpPr>
            <p:cNvPr id="718" name="椭圆 8"/>
            <p:cNvSpPr/>
            <p:nvPr/>
          </p:nvSpPr>
          <p:spPr>
            <a:xfrm rot="17734800">
              <a:off x="6239160" y="482472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同心圆 9"/>
            <p:cNvSpPr/>
            <p:nvPr/>
          </p:nvSpPr>
          <p:spPr>
            <a:xfrm rot="17734800">
              <a:off x="6172920" y="475308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空心弧 10"/>
            <p:cNvSpPr/>
            <p:nvPr/>
          </p:nvSpPr>
          <p:spPr>
            <a:xfrm rot="11914800">
              <a:off x="6211440" y="479628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722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726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30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34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38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1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42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5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KSO_Shape"/>
          <p:cNvSpPr/>
          <p:nvPr/>
        </p:nvSpPr>
        <p:spPr>
          <a:xfrm rot="3513000">
            <a:off x="6322320" y="4918680"/>
            <a:ext cx="276120" cy="27144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7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2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miter/>
            <a:headEnd len="med" type="oval" w="med"/>
            <a:tailEnd len="lg" type="triangle" w="lg"/>
          </a:ln>
        </p:spPr>
      </p:cxnSp>
      <p:sp>
        <p:nvSpPr>
          <p:cNvPr id="793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1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822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29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4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35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39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组合 5" descr=""/>
          <p:cNvPicPr/>
          <p:nvPr/>
        </p:nvPicPr>
        <p:blipFill>
          <a:blip r:embed="rId1"/>
          <a:stretch/>
        </p:blipFill>
        <p:spPr>
          <a:xfrm>
            <a:off x="566640" y="341280"/>
            <a:ext cx="11034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57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68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79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9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890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901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912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923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34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4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45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5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56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57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58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4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985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7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988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1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992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4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995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7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4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15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1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42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4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0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72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110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2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文本框 1"/>
          <p:cNvSpPr/>
          <p:nvPr/>
        </p:nvSpPr>
        <p:spPr>
          <a:xfrm>
            <a:off x="5340240" y="1044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致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2"/>
          <p:cNvSpPr/>
          <p:nvPr/>
        </p:nvSpPr>
        <p:spPr>
          <a:xfrm>
            <a:off x="2548080" y="2332080"/>
            <a:ext cx="73850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任意多边形 5"/>
          <p:cNvSpPr/>
          <p:nvPr/>
        </p:nvSpPr>
        <p:spPr>
          <a:xfrm>
            <a:off x="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任意多边形 6"/>
          <p:cNvSpPr/>
          <p:nvPr/>
        </p:nvSpPr>
        <p:spPr>
          <a:xfrm flipH="1">
            <a:off x="1097064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1"/>
          <p:cNvSpPr/>
          <p:nvPr/>
        </p:nvSpPr>
        <p:spPr>
          <a:xfrm>
            <a:off x="4730760" y="25671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8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Lenovo</dc:creator>
  <dc:description/>
  <dc:language>en-US</dc:language>
  <cp:lastModifiedBy/>
  <dcterms:modified xsi:type="dcterms:W3CDTF">2015-06-20T00:28:01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