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1FB-18DC-4C6E-8A84-B3B1A2AA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96B-1CF0-4C91-91F5-991BB863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E82-EB45-40CA-BFA9-72430C10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055-EEBF-414E-AEE6-50FED3B7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EAF1-01A7-417C-A2EF-EAAD3D55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A68-6B74-4D17-BB81-ED79E9A7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92D-6948-420D-AC37-5E824F9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48B2-2D7A-4BFF-90FA-0E47ED8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1F3-6F4F-4A18-B7D9-0B6253F7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DE2-E0BB-4C1A-82B2-506273C0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0815-6D28-47DE-A46F-7B743D96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ED0-D40A-480A-98D0-33DFAE5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017-C742-4AB1-9716-08C189B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FE9-1DD6-4ACB-9B21-33073B2D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942B-03C5-4218-9BDC-AA8419C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9D5D-3C01-41D1-8CC1-E1BB3B6F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033D-BF20-4CF2-970C-AF593DF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5D4-CBCC-45DA-B85A-DB40CE60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CF8-8D5E-4D23-A725-31CC136D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87C-5C88-4AD9-9D6C-2436AFBE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CEF-3DAD-493F-B405-9E0D7CE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940-11E9-4B9A-B266-82A108FB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93C-4B20-4756-B638-B470971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52C-AD10-40E5-89B3-7EF990AE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A0BC-AA1D-444D-874D-DBBFE8FF8B6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D765-12B3-49EC-9D1C-06BBD88D3E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FFFE-DC5E-42A7-9515-BBA9E7FA6F5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12EF-1B98-4BB6-B9F9-A5B8E0F066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/>
            <a:ahLst/>
            <a:rect l="l" t="t" r="r" b="b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/>
            <a:ahLst/>
            <a:rect l="l" t="t" r="r" b="b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/>
            <a:ahLst/>
            <a:rect l="l" t="t" r="r" b="b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/>
            <a:ahLst/>
            <a:rect l="l" t="t" r="r" b="b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8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/>
              <a:ahLst/>
              <a:rect l="l" t="t" r="r" b="b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/>
              <a:ahLst/>
              <a:rect l="l" t="t" r="r" b="b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/>
            <a:ahLst/>
            <a:rect l="l" t="t" r="r" b="b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/>
            <a:ahLst/>
            <a:rect l="l" t="t" r="r" b="b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/>
            <a:ahLst/>
            <a:rect l="l" t="t" r="r" b="b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6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27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2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5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48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1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/>
            <a:ahLst/>
            <a:rect l="l" t="t" r="r" b="b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/>
              <a:ahLst/>
              <a:rect l="l" t="t" r="r" b="b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/>
            <a:ahLst/>
            <a:rect l="l" t="t" r="r" b="b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/>
            <a:ahLst/>
            <a:rect l="l" t="t" r="r" b="b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/>
            <a:ahLst/>
            <a:rect l="l" t="t" r="r" b="b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/>
            <a:ahLst/>
            <a:rect l="l" t="t" r="r" b="b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/>
            <a:ahLst/>
            <a:rect l="l" t="t" r="r" b="b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/>
              <a:ahLst/>
              <a:rect l="l" t="t" r="r" b="b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/>
              <a:ahLst/>
              <a:rect l="l" t="t" r="r" b="b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/>
              <a:ahLst/>
              <a:rect l="l" t="t" r="r" b="b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/>
              <a:ahLst/>
              <a:rect l="l" t="t" r="r" b="b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/>
              <a:ahLst/>
              <a:rect l="l" t="t" r="r" b="b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/>
              <a:ahLst/>
              <a:rect l="l" t="t" r="r" b="b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/>
              <a:ahLst/>
              <a:rect l="l" t="t" r="r" b="b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/>
              <a:ahLst/>
              <a:rect l="l" t="t" r="r" b="b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/>
            <a:ahLst/>
            <a:rect l="l" t="t" r="r" b="b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11Z</dcterms:modified>
  <cp:revision>9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