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6050-6419-4978-867B-98CD533611B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FD75-67DB-4718-86C0-23B19259FC8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C31F-D677-423A-AD54-38B16892376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B76B-DBB0-4117-B989-1EE609FBC61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68BD-70B2-4960-9D21-1F390BA5EA0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BB53-8728-4D8F-BF50-B542068DC6F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CCAE-3BAD-4008-BED2-067B468E1EC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93D9-B5A2-4194-8732-24BD805B03C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A49F-5ED6-41DF-AC6C-D372B37B311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A9D4-9BC2-49B2-A62F-1229B62AA57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7C0D-F661-4FB3-8C8E-E9B243211B2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F975-76D2-41A1-A1C9-7C5917C9976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1CB0-86FF-433A-91F6-04D7C743406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C8DB-B7E5-4B69-B818-2EEA2EB1FEF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9ED0-12AE-4F51-B20F-B74A21BC667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7AE6-F279-469D-AB42-A1DD854F318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B837-8653-4C93-B913-3C408A908AF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2C13-969B-4A56-B6FC-96C42E2469F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6366-C083-4001-8D46-BE56824AA9B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4E72-7F5C-41D6-AB53-7A0DF560116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D19D-3B5E-428F-86F4-85E1D0D80B8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6C78-0D3E-478B-8837-46E57ABC346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66FD-6063-4395-B383-786D9199115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71DD-9BBF-41BE-A2D9-A2177A96042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21C7-FD09-4E7F-A950-FF7C9C4D854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882D-1CB8-4D7A-A48C-0F6C651EB49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5B48-80DC-4994-8BB1-7101B50F63C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E7D9-5428-44E8-AB8B-328550B06AF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832F-46AB-45E6-8C69-FFD5C309483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2286-1501-4DBB-9924-B58638C264F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51CE-65EA-4E6B-AC3A-9D19552B179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9ECB-F13D-4B34-9B8C-037C2AA7E43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446B-DD68-4784-86AB-2C65AFB35A8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BCC8-2F32-4727-8AF4-5A447F0DE52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25E9-3819-4244-B085-215421B41AF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FC9A-BA56-4CF2-A5E2-88867E4359F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E0FD-AF9D-48D4-A82D-260A13C0E14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7E31-CD96-4EA2-B815-D6B884808D0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F637-8D7C-4EEC-837C-8FE07F00DFD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5EDE-04C0-4ACF-B8FD-A7D0B675200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47C-E977-448A-8335-936C2CC4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0A0-9747-4519-B595-12D8EDE8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511-5284-454D-A542-988C6FED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EE4-9180-49A4-B80D-6AE7E1B3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CF7-597A-4F5F-98B8-0EA770EB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E20-E010-4BF9-8AD0-8D0D4F9C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AFD-11B8-4BDE-993F-FE778BDA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D4B-1A87-4573-B0F0-1081F950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AA8-00E4-45A1-A022-E0435069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436-7EEF-460D-91B6-EF6204C5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3BE-56B1-4629-B888-8ED19320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142-5B43-45B1-886E-843B20DA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CD71-A78C-406C-80AF-0BFCD9736D9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B877-8DAE-4D6B-B857-673622AA83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20"/>
          <p:cNvSpPr/>
          <p:nvPr/>
        </p:nvSpPr>
        <p:spPr>
          <a:xfrm>
            <a:off x="2238480" y="328788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4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64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BFB8-84C4-461A-844A-4D11040C99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4"/>
          <p:cNvGrpSpPr/>
          <p:nvPr/>
        </p:nvGrpSpPr>
        <p:grpSpPr>
          <a:xfrm>
            <a:off x="901800" y="1519200"/>
            <a:ext cx="7416360" cy="4068720"/>
            <a:chOff x="901800" y="1519200"/>
            <a:chExt cx="7416360" cy="4068720"/>
          </a:xfrm>
        </p:grpSpPr>
        <p:sp>
          <p:nvSpPr>
            <p:cNvPr id="254" name="Oval 4"/>
            <p:cNvSpPr/>
            <p:nvPr/>
          </p:nvSpPr>
          <p:spPr>
            <a:xfrm>
              <a:off x="901800" y="3510000"/>
              <a:ext cx="1361880" cy="1282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3690720" y="3799080"/>
              <a:ext cx="1899720" cy="178884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3840480" y="2844720"/>
              <a:ext cx="799920" cy="7542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3894840" y="289692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AutoShape 10"/>
            <p:cNvCxnSpPr>
              <a:stCxn id="254" idx="0"/>
              <a:endCxn id="261" idx="0"/>
            </p:cNvCxnSpPr>
            <p:nvPr/>
          </p:nvCxnSpPr>
          <p:spPr>
            <a:xfrm flipV="1">
              <a:off x="1582560" y="158364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2" name="AutoShape 11"/>
            <p:cNvCxnSpPr>
              <a:stCxn id="254" idx="7"/>
              <a:endCxn id="258" idx="2"/>
            </p:cNvCxnSpPr>
            <p:nvPr/>
          </p:nvCxnSpPr>
          <p:spPr>
            <a:xfrm flipV="1">
              <a:off x="2063160" y="322056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3" name="AutoShape 12"/>
            <p:cNvCxnSpPr>
              <a:stCxn id="254" idx="5"/>
              <a:endCxn id="256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4" name="AutoShape 13"/>
            <p:cNvCxnSpPr>
              <a:stCxn id="258" idx="6"/>
              <a:endCxn id="265" idx="2"/>
            </p:cNvCxnSpPr>
            <p:nvPr/>
          </p:nvCxnSpPr>
          <p:spPr>
            <a:xfrm>
              <a:off x="4640400" y="322092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6" name="AutoShape 14"/>
            <p:cNvCxnSpPr>
              <a:stCxn id="256" idx="6"/>
              <a:endCxn id="265" idx="3"/>
            </p:cNvCxnSpPr>
            <p:nvPr/>
          </p:nvCxnSpPr>
          <p:spPr>
            <a:xfrm flipV="1">
              <a:off x="5590440" y="372564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7" name="AutoShape 15"/>
            <p:cNvCxnSpPr>
              <a:stCxn id="256" idx="1"/>
              <a:endCxn id="261" idx="3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8" name="AutoShape 16"/>
            <p:cNvCxnSpPr>
              <a:stCxn id="258" idx="1"/>
              <a:endCxn id="261" idx="7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9" name="AutoShape 17"/>
            <p:cNvCxnSpPr>
              <a:stCxn id="270" idx="1"/>
              <a:endCxn id="261" idx="2"/>
            </p:cNvCxnSpPr>
            <p:nvPr/>
          </p:nvCxnSpPr>
          <p:spPr>
            <a:xfrm flipH="1" flipV="1">
              <a:off x="3529080" y="235584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grpSp>
          <p:nvGrpSpPr>
            <p:cNvPr id="271" name="Group 18"/>
            <p:cNvGrpSpPr/>
            <p:nvPr/>
          </p:nvGrpSpPr>
          <p:grpSpPr>
            <a:xfrm>
              <a:off x="1820160" y="1519200"/>
              <a:ext cx="1778040" cy="1674000"/>
              <a:chOff x="1820160" y="1519200"/>
              <a:chExt cx="1778040" cy="1674000"/>
            </a:xfrm>
          </p:grpSpPr>
          <p:pic>
            <p:nvPicPr>
              <p:cNvPr id="272" name="Picture 19" descr="ball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20160" y="1519200"/>
                <a:ext cx="1778040" cy="16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20"/>
              <p:cNvSpPr/>
              <p:nvPr/>
            </p:nvSpPr>
            <p:spPr>
              <a:xfrm flipH="1">
                <a:off x="1897920" y="1591920"/>
                <a:ext cx="1622880" cy="15282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Sub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00E4-D3A2-4A89-979E-22FDE46DA8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286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296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01"/>
          <p:cNvSpPr/>
          <p:nvPr/>
        </p:nvSpPr>
        <p:spPr>
          <a:xfrm>
            <a:off x="-14400" y="-336600"/>
            <a:ext cx="3362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F785-669A-4CC2-A639-335424E39E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315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318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321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324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327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330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333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336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339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342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0C5D-5A00-48A6-8AA7-8AE6E220B2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352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>
                <a:gd name="textAreaLeft" fmla="*/ 0 w 2313000"/>
                <a:gd name="textAreaRight" fmla="*/ 2313360 w 2313000"/>
                <a:gd name="textAreaTop" fmla="*/ 0 h 2876400"/>
                <a:gd name="textAreaBottom" fmla="*/ 2876760 h 28764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>
                <a:gd name="textAreaLeft" fmla="*/ 0 w 1271880"/>
                <a:gd name="textAreaRight" fmla="*/ 1272240 w 127188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735120"/>
                <a:gd name="textAreaBottom" fmla="*/ 735120 h 7351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>
                <a:gd name="textAreaLeft" fmla="*/ 0 w 3762360"/>
                <a:gd name="textAreaRight" fmla="*/ 3762720 w 3762360"/>
                <a:gd name="textAreaTop" fmla="*/ 0 h 2440080"/>
                <a:gd name="textAreaBottom" fmla="*/ 2440080 h 24400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1395360"/>
              <a:gd name="textAreaBottom" fmla="*/ 1395720 h 13953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467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470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473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FD2A-7C8E-442B-9984-05C8521B68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>
              <a:gd name="textAreaLeft" fmla="*/ 0 w 2020680"/>
              <a:gd name="textAreaRight" fmla="*/ 2021040 w 2020680"/>
              <a:gd name="textAreaTop" fmla="*/ 0 h 2395440"/>
              <a:gd name="textAreaBottom" fmla="*/ 2395800 h 239544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>
              <a:gd name="textAreaLeft" fmla="*/ 360 w 1898640"/>
              <a:gd name="textAreaRight" fmla="*/ 1899360 w 18986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>
              <a:gd name="textAreaLeft" fmla="*/ 0 w 1516320"/>
              <a:gd name="textAreaRight" fmla="*/ 1516680 w 151632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>
              <a:gd name="textAreaLeft" fmla="*/ -360 w 1660680"/>
              <a:gd name="textAreaRight" fmla="*/ 1660680 w 1660680"/>
              <a:gd name="textAreaTop" fmla="*/ 0 h 2381400"/>
              <a:gd name="textAreaBottom" fmla="*/ 2381760 h 238140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A032-4F99-47CA-A2B3-4ED720C338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514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524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101"/>
          <p:cNvSpPr/>
          <p:nvPr/>
        </p:nvSpPr>
        <p:spPr>
          <a:xfrm>
            <a:off x="-14400" y="-336600"/>
            <a:ext cx="3362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86D1-B2D9-4B88-900D-15045844F8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543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>
                <a:gd name="textAreaLeft" fmla="*/ 0 w 1233360"/>
                <a:gd name="textAreaRight" fmla="*/ 1233720 w 1233360"/>
                <a:gd name="textAreaTop" fmla="*/ 0 h 2397240"/>
                <a:gd name="textAreaBottom" fmla="*/ 2397600 h 2397240"/>
              </a:gdLst>
              <a:ahLst/>
              <a:rect l="textAreaLeft" t="textAreaTop" r="textAreaRight" b="textAreaBottom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34"/>
          <p:cNvGrpSpPr/>
          <p:nvPr/>
        </p:nvGrpSpPr>
        <p:grpSpPr>
          <a:xfrm>
            <a:off x="6707160" y="1685880"/>
            <a:ext cx="1317600" cy="2948040"/>
            <a:chOff x="6707160" y="1685880"/>
            <a:chExt cx="1317600" cy="2948040"/>
          </a:xfrm>
        </p:grpSpPr>
        <p:sp>
          <p:nvSpPr>
            <p:cNvPr id="546" name="Oval 5"/>
            <p:cNvSpPr/>
            <p:nvPr/>
          </p:nvSpPr>
          <p:spPr>
            <a:xfrm>
              <a:off x="7112880" y="1685880"/>
              <a:ext cx="511560" cy="5148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6707160" y="2259000"/>
              <a:ext cx="1317600" cy="2374920"/>
            </a:xfrm>
            <a:custGeom>
              <a:avLst/>
              <a:gdLst>
                <a:gd name="textAreaLeft" fmla="*/ 0 w 1317600"/>
                <a:gd name="textAreaRight" fmla="*/ 1317600 w 1317600"/>
                <a:gd name="textAreaTop" fmla="*/ 0 h 2374920"/>
                <a:gd name="textAreaBottom" fmla="*/ 2375280 h 2374920"/>
              </a:gdLst>
              <a:ahLst/>
              <a:rect l="textAreaLeft" t="textAreaTop" r="textAreaRight" b="textAreaBottom"/>
              <a:pathLst>
                <a:path w="95" h="166">
                  <a:moveTo>
                    <a:pt x="94" y="63"/>
                  </a:moveTo>
                  <a:cubicBezTo>
                    <a:pt x="80" y="18"/>
                    <a:pt x="80" y="18"/>
                    <a:pt x="80" y="18"/>
                  </a:cubicBezTo>
                  <a:cubicBezTo>
                    <a:pt x="80" y="18"/>
                    <a:pt x="79" y="18"/>
                    <a:pt x="79" y="18"/>
                  </a:cubicBezTo>
                  <a:cubicBezTo>
                    <a:pt x="74" y="3"/>
                    <a:pt x="61" y="0"/>
                    <a:pt x="56" y="0"/>
                  </a:cubicBezTo>
                  <a:cubicBezTo>
                    <a:pt x="52" y="0"/>
                    <a:pt x="53" y="0"/>
                    <a:pt x="49" y="0"/>
                  </a:cubicBezTo>
                  <a:cubicBezTo>
                    <a:pt x="48" y="0"/>
                    <a:pt x="47" y="0"/>
                    <a:pt x="46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4" y="0"/>
                    <a:pt x="21" y="3"/>
                    <a:pt x="16" y="18"/>
                  </a:cubicBezTo>
                  <a:cubicBezTo>
                    <a:pt x="16" y="18"/>
                    <a:pt x="15" y="18"/>
                    <a:pt x="15" y="18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7"/>
                    <a:pt x="2" y="71"/>
                    <a:pt x="5" y="73"/>
                  </a:cubicBezTo>
                  <a:cubicBezTo>
                    <a:pt x="9" y="74"/>
                    <a:pt x="13" y="72"/>
                    <a:pt x="15" y="68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27" y="163"/>
                    <a:pt x="31" y="166"/>
                    <a:pt x="36" y="166"/>
                  </a:cubicBezTo>
                  <a:cubicBezTo>
                    <a:pt x="41" y="166"/>
                    <a:pt x="44" y="163"/>
                    <a:pt x="44" y="158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1" y="158"/>
                    <a:pt x="51" y="158"/>
                    <a:pt x="51" y="158"/>
                  </a:cubicBezTo>
                  <a:cubicBezTo>
                    <a:pt x="51" y="163"/>
                    <a:pt x="54" y="166"/>
                    <a:pt x="59" y="166"/>
                  </a:cubicBezTo>
                  <a:cubicBezTo>
                    <a:pt x="64" y="166"/>
                    <a:pt x="68" y="163"/>
                    <a:pt x="68" y="158"/>
                  </a:cubicBezTo>
                  <a:cubicBezTo>
                    <a:pt x="68" y="99"/>
                    <a:pt x="68" y="99"/>
                    <a:pt x="68" y="99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82" y="72"/>
                    <a:pt x="86" y="74"/>
                    <a:pt x="90" y="73"/>
                  </a:cubicBezTo>
                  <a:cubicBezTo>
                    <a:pt x="93" y="71"/>
                    <a:pt x="95" y="67"/>
                    <a:pt x="94" y="63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6D55-F30E-46E3-B514-F98C6F3C34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"/>
          <p:cNvSpPr/>
          <p:nvPr/>
        </p:nvSpPr>
        <p:spPr>
          <a:xfrm>
            <a:off x="4518000" y="377208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0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0EFD-0753-45CE-8C94-B92AC24631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11"/>
          <p:cNvGrpSpPr/>
          <p:nvPr/>
        </p:nvGrpSpPr>
        <p:grpSpPr>
          <a:xfrm>
            <a:off x="5133960" y="3763800"/>
            <a:ext cx="2479680" cy="2462400"/>
            <a:chOff x="5133960" y="3763800"/>
            <a:chExt cx="2479680" cy="2462400"/>
          </a:xfrm>
        </p:grpSpPr>
        <p:sp>
          <p:nvSpPr>
            <p:cNvPr id="576" name="Rectangle 240"/>
            <p:cNvSpPr/>
            <p:nvPr/>
          </p:nvSpPr>
          <p:spPr>
            <a:xfrm>
              <a:off x="5133960" y="3763800"/>
              <a:ext cx="2479680" cy="365760"/>
            </a:xfrm>
            <a:prstGeom prst="rect">
              <a:avLst/>
            </a:prstGeom>
            <a:solidFill>
              <a:srgbClr val="7f7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41"/>
            <p:cNvSpPr/>
            <p:nvPr/>
          </p:nvSpPr>
          <p:spPr>
            <a:xfrm>
              <a:off x="513396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9"/>
          <p:cNvGrpSpPr/>
          <p:nvPr/>
        </p:nvGrpSpPr>
        <p:grpSpPr>
          <a:xfrm>
            <a:off x="2111400" y="3763800"/>
            <a:ext cx="2479680" cy="2462400"/>
            <a:chOff x="2111400" y="3763800"/>
            <a:chExt cx="2479680" cy="2462400"/>
          </a:xfrm>
        </p:grpSpPr>
        <p:sp>
          <p:nvSpPr>
            <p:cNvPr id="579" name="Rectangle 249"/>
            <p:cNvSpPr/>
            <p:nvPr/>
          </p:nvSpPr>
          <p:spPr>
            <a:xfrm>
              <a:off x="2111400" y="3763800"/>
              <a:ext cx="2479680" cy="36576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250"/>
            <p:cNvSpPr/>
            <p:nvPr/>
          </p:nvSpPr>
          <p:spPr>
            <a:xfrm>
              <a:off x="211140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8"/>
          <p:cNvGrpSpPr/>
          <p:nvPr/>
        </p:nvGrpSpPr>
        <p:grpSpPr>
          <a:xfrm>
            <a:off x="8180280" y="3763800"/>
            <a:ext cx="2479680" cy="2462400"/>
            <a:chOff x="8180280" y="3763800"/>
            <a:chExt cx="2479680" cy="2462400"/>
          </a:xfrm>
        </p:grpSpPr>
        <p:sp>
          <p:nvSpPr>
            <p:cNvPr id="582" name="Rectangle 252"/>
            <p:cNvSpPr/>
            <p:nvPr/>
          </p:nvSpPr>
          <p:spPr>
            <a:xfrm>
              <a:off x="8180280" y="3763800"/>
              <a:ext cx="2479680" cy="365760"/>
            </a:xfrm>
            <a:prstGeom prst="rect">
              <a:avLst/>
            </a:prstGeom>
            <a:gradFill rotWithShape="0">
              <a:gsLst>
                <a:gs pos="0">
                  <a:srgbClr val="ef95e4"/>
                </a:gs>
                <a:gs pos="100000">
                  <a:srgbClr val="f44a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253"/>
            <p:cNvSpPr/>
            <p:nvPr/>
          </p:nvSpPr>
          <p:spPr>
            <a:xfrm>
              <a:off x="818028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椭圆 200"/>
          <p:cNvSpPr/>
          <p:nvPr/>
        </p:nvSpPr>
        <p:spPr>
          <a:xfrm>
            <a:off x="2413080" y="1674720"/>
            <a:ext cx="1724040" cy="172404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"/>
          <p:cNvSpPr/>
          <p:nvPr/>
        </p:nvSpPr>
        <p:spPr>
          <a:xfrm>
            <a:off x="2543040" y="227340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202"/>
          <p:cNvSpPr/>
          <p:nvPr/>
        </p:nvSpPr>
        <p:spPr>
          <a:xfrm>
            <a:off x="5438880" y="1684440"/>
            <a:ext cx="1724040" cy="1724040"/>
          </a:xfrm>
          <a:prstGeom prst="ellipse">
            <a:avLst/>
          </a:prstGeom>
          <a:solidFill>
            <a:srgbClr val="7f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"/>
          <p:cNvSpPr/>
          <p:nvPr/>
        </p:nvSpPr>
        <p:spPr>
          <a:xfrm>
            <a:off x="5568840" y="228276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204"/>
          <p:cNvSpPr/>
          <p:nvPr/>
        </p:nvSpPr>
        <p:spPr>
          <a:xfrm>
            <a:off x="8466120" y="1695600"/>
            <a:ext cx="1724040" cy="1724040"/>
          </a:xfrm>
          <a:prstGeom prst="ellipse">
            <a:avLst/>
          </a:prstGeom>
          <a:solidFill>
            <a:srgbClr val="f44ab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"/>
          <p:cNvSpPr/>
          <p:nvPr/>
        </p:nvSpPr>
        <p:spPr>
          <a:xfrm>
            <a:off x="8594640" y="229248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32D3-2701-4E76-910F-E9F1EBDCD7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20"/>
          <p:cNvSpPr/>
          <p:nvPr/>
        </p:nvSpPr>
        <p:spPr>
          <a:xfrm>
            <a:off x="1550880" y="328788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97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607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0E9C-FC7D-44A4-B503-7F38A9D7B7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0" y="69696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ee0f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8"/>
          <p:cNvSpPr/>
          <p:nvPr/>
        </p:nvSpPr>
        <p:spPr>
          <a:xfrm>
            <a:off x="7870680" y="3900600"/>
            <a:ext cx="1295640" cy="129528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7"/>
          <p:cNvSpPr/>
          <p:nvPr/>
        </p:nvSpPr>
        <p:spPr>
          <a:xfrm>
            <a:off x="7746840" y="45403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0"/>
          <p:cNvSpPr/>
          <p:nvPr/>
        </p:nvSpPr>
        <p:spPr>
          <a:xfrm>
            <a:off x="8293680" y="4006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34"/>
          <p:cNvSpPr/>
          <p:nvPr/>
        </p:nvSpPr>
        <p:spPr>
          <a:xfrm flipV="1">
            <a:off x="8507520" y="1440000"/>
            <a:ext cx="1440" cy="248760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ee0f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8"/>
          <p:cNvSpPr/>
          <p:nvPr/>
        </p:nvSpPr>
        <p:spPr>
          <a:xfrm>
            <a:off x="2260800" y="2901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9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50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1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52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089A-C15A-41C8-9925-50A6D0FD62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00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10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01"/>
          <p:cNvSpPr/>
          <p:nvPr/>
        </p:nvSpPr>
        <p:spPr>
          <a:xfrm>
            <a:off x="-14400" y="-336600"/>
            <a:ext cx="3362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9F41-14CD-4953-A580-9324B3E513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29"/>
          <p:cNvSpPr/>
          <p:nvPr/>
        </p:nvSpPr>
        <p:spPr>
          <a:xfrm>
            <a:off x="1387440" y="1174680"/>
            <a:ext cx="548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Test Tubes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124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127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Freeform 5"/>
          <p:cNvSpPr/>
          <p:nvPr/>
        </p:nvSpPr>
        <p:spPr>
          <a:xfrm>
            <a:off x="4525920" y="3375000"/>
            <a:ext cx="3222720" cy="126540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180B-047A-4B1D-BF4F-1F232EFF33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138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>
                <a:gd name="textAreaLeft" fmla="*/ 0 w 2487240"/>
                <a:gd name="textAreaRight" fmla="*/ 2487600 w 2487240"/>
                <a:gd name="textAreaTop" fmla="*/ 0 h 2055960"/>
                <a:gd name="textAreaBottom" fmla="*/ 2056320 h 205596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2064960"/>
                <a:gd name="textAreaBottom" fmla="*/ 2065320 h 20649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>
                <a:gd name="textAreaLeft" fmla="*/ 0 w 2188440"/>
                <a:gd name="textAreaRight" fmla="*/ 2188800 w 2188440"/>
                <a:gd name="textAreaTop" fmla="*/ 0 h 2455920"/>
                <a:gd name="textAreaBottom" fmla="*/ 2456280 h 24559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>
                <a:gd name="textAreaLeft" fmla="*/ 0 w 2219040"/>
                <a:gd name="textAreaRight" fmla="*/ 2219400 w 2219040"/>
                <a:gd name="textAreaTop" fmla="*/ 0 h 2433240"/>
                <a:gd name="textAreaBottom" fmla="*/ 2433600 h 243324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AE2C-80EB-477C-B9CE-795C537B7B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表 78" descr=""/>
          <p:cNvPicPr/>
          <p:nvPr/>
        </p:nvPicPr>
        <p:blipFill>
          <a:blip r:embed="rId1"/>
          <a:stretch/>
        </p:blipFill>
        <p:spPr>
          <a:xfrm>
            <a:off x="3254400" y="158112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5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159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162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Freeform 5"/>
          <p:cNvSpPr/>
          <p:nvPr/>
        </p:nvSpPr>
        <p:spPr>
          <a:xfrm>
            <a:off x="747720" y="198612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8593200" y="369720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Calibri Light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Calibri Light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2A4F-9654-4BBF-99F8-A9C61EE91F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78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88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01"/>
          <p:cNvSpPr/>
          <p:nvPr/>
        </p:nvSpPr>
        <p:spPr>
          <a:xfrm>
            <a:off x="-14400" y="-336600"/>
            <a:ext cx="3362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C75C-4892-4B13-813C-8F9C98B966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>
              <a:gd name="textAreaLeft" fmla="*/ 0 w 2465640"/>
              <a:gd name="textAreaRight" fmla="*/ 2466000 w 246564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>
              <a:gd name="textAreaLeft" fmla="*/ 0 w 2482920"/>
              <a:gd name="textAreaRight" fmla="*/ 2483280 w 248292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203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212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B835-4FF8-431A-A113-56B5770716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7"/>
          <p:cNvSpPr/>
          <p:nvPr/>
        </p:nvSpPr>
        <p:spPr>
          <a:xfrm>
            <a:off x="3021120" y="1325520"/>
            <a:ext cx="2889000" cy="23241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8"/>
          <p:cNvSpPr/>
          <p:nvPr/>
        </p:nvSpPr>
        <p:spPr>
          <a:xfrm>
            <a:off x="3021120" y="3895560"/>
            <a:ext cx="2889000" cy="23259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9"/>
          <p:cNvSpPr/>
          <p:nvPr/>
        </p:nvSpPr>
        <p:spPr>
          <a:xfrm rot="10800000">
            <a:off x="6225840" y="1325160"/>
            <a:ext cx="2917800" cy="23241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"/>
          <p:cNvSpPr/>
          <p:nvPr/>
        </p:nvSpPr>
        <p:spPr>
          <a:xfrm rot="10800000">
            <a:off x="6225840" y="3895200"/>
            <a:ext cx="2917800" cy="23259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11"/>
          <p:cNvGrpSpPr/>
          <p:nvPr/>
        </p:nvGrpSpPr>
        <p:grpSpPr>
          <a:xfrm>
            <a:off x="4416480" y="2041560"/>
            <a:ext cx="1495440" cy="691920"/>
            <a:chOff x="4416480" y="2041560"/>
            <a:chExt cx="1495440" cy="691920"/>
          </a:xfrm>
        </p:grpSpPr>
        <p:sp>
          <p:nvSpPr>
            <p:cNvPr id="234" name="文本框 12"/>
            <p:cNvSpPr/>
            <p:nvPr/>
          </p:nvSpPr>
          <p:spPr>
            <a:xfrm>
              <a:off x="4416480" y="242640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0"/>
            <p:cNvSpPr/>
            <p:nvPr/>
          </p:nvSpPr>
          <p:spPr>
            <a:xfrm>
              <a:off x="4416480" y="20415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4"/>
          <p:cNvGrpSpPr/>
          <p:nvPr/>
        </p:nvGrpSpPr>
        <p:grpSpPr>
          <a:xfrm>
            <a:off x="6527880" y="2041560"/>
            <a:ext cx="1757160" cy="729000"/>
            <a:chOff x="6527880" y="2041560"/>
            <a:chExt cx="1757160" cy="729000"/>
          </a:xfrm>
        </p:grpSpPr>
        <p:sp>
          <p:nvSpPr>
            <p:cNvPr id="237" name="文本框 15"/>
            <p:cNvSpPr/>
            <p:nvPr/>
          </p:nvSpPr>
          <p:spPr>
            <a:xfrm>
              <a:off x="6527880" y="24634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20"/>
            <p:cNvSpPr/>
            <p:nvPr/>
          </p:nvSpPr>
          <p:spPr>
            <a:xfrm>
              <a:off x="6527880" y="204156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7"/>
          <p:cNvGrpSpPr/>
          <p:nvPr/>
        </p:nvGrpSpPr>
        <p:grpSpPr>
          <a:xfrm>
            <a:off x="4321080" y="4630680"/>
            <a:ext cx="1495440" cy="691920"/>
            <a:chOff x="4321080" y="4630680"/>
            <a:chExt cx="1495440" cy="691920"/>
          </a:xfrm>
        </p:grpSpPr>
        <p:sp>
          <p:nvSpPr>
            <p:cNvPr id="240" name="文本框 18"/>
            <p:cNvSpPr/>
            <p:nvPr/>
          </p:nvSpPr>
          <p:spPr>
            <a:xfrm>
              <a:off x="4321080" y="5015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20"/>
            <p:cNvSpPr/>
            <p:nvPr/>
          </p:nvSpPr>
          <p:spPr>
            <a:xfrm>
              <a:off x="4321080" y="463068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0"/>
          <p:cNvGrpSpPr/>
          <p:nvPr/>
        </p:nvGrpSpPr>
        <p:grpSpPr>
          <a:xfrm>
            <a:off x="6434280" y="4630680"/>
            <a:ext cx="1757160" cy="728280"/>
            <a:chOff x="6434280" y="4630680"/>
            <a:chExt cx="1757160" cy="728280"/>
          </a:xfrm>
        </p:grpSpPr>
        <p:sp>
          <p:nvSpPr>
            <p:cNvPr id="243" name="文本框 21"/>
            <p:cNvSpPr/>
            <p:nvPr/>
          </p:nvSpPr>
          <p:spPr>
            <a:xfrm>
              <a:off x="6434280" y="50518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20"/>
            <p:cNvSpPr/>
            <p:nvPr/>
          </p:nvSpPr>
          <p:spPr>
            <a:xfrm>
              <a:off x="6434280" y="463068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菱形 1"/>
          <p:cNvSpPr/>
          <p:nvPr/>
        </p:nvSpPr>
        <p:spPr>
          <a:xfrm>
            <a:off x="5524560" y="3308400"/>
            <a:ext cx="1066680" cy="10652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Sky123.Org</dc:creator>
  <dc:description/>
  <cp:keywords/>
  <dc:language>en-US</dc:language>
  <cp:lastModifiedBy>Yehuan Liu</cp:lastModifiedBy>
  <dcterms:modified xsi:type="dcterms:W3CDTF">2014-11-06T10:21:53Z</dcterms:modified>
  <cp:revision>55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