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09C-BAD9-476D-B790-FCFE84B4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973-D937-488E-BAA8-7925804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ECFA7-ECB0-4EB9-91B5-85D9D1B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698B4-1E46-4AB7-9388-FDA3A2A7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FA96-5552-431E-9AC9-C843953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00D4A-5624-41BE-9C61-F6EAA6C4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3130A-F18E-464C-B6C7-B1FD9B75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13CEF-CF94-4962-80C1-C74BD4A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A0BF2-A305-4C52-9CEC-BDD989EA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0A198-D0D4-4C21-B597-F7054AAD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B5145-16B3-46A3-A132-CB236BDA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87AD1-088F-4547-ADCC-41530507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6FF-9619-480D-9A43-1C5F159F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DD255-0135-4538-9797-218C79A1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1754E-DEEF-45A2-9021-FC7FD28A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EB3DC-AA02-476F-8FF7-EC8F468E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5330E-4954-46C7-886F-4DC4651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89E38-5680-481A-8A19-35B203B0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C5800-48CD-40B9-B70C-AAC71295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72DA3-832E-4F56-A712-02F88453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D4BA8-1984-436F-A218-ECBA68A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71B5F-EC39-4EF8-BDB6-C81AB3D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B868B-EBD9-4E19-8EE9-FA62FADE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FED-1D32-4342-AF20-CB3CE105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C43DC-F2A0-4248-9520-A2BF9E0D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D58A7-FA42-4652-A4B9-FC376152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C19AC-BB25-425E-B21A-2FB48F74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2840F-A16B-4FF4-8326-1BFF760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8B308-684A-4F43-8105-0653DED7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7151E-0E6C-4D31-88E5-A028F40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BC98E-F6E6-47E8-B5B6-7362221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C759C-08F0-406D-BA22-26D4785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0050A-BFC5-440C-9240-AFF1C22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A7EB7-85C3-4C4E-96BB-F3B5614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5F76-2EF2-407C-8E02-7EF5D284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EA52E-2C46-47E7-A04E-19CA0CE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7C39-5AFF-4738-927A-E368F88A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946B-D4F6-41A4-9A7D-F4C6FDBE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1E240-AA04-442B-B221-3AA2C0C1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154B-4FA8-4AA1-B538-CF82BED4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033CA-B999-44CF-9993-89662354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F35E2-5DDA-4EE8-A203-D4F5B46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73647-80DD-423E-81F2-77DDE99C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56B0F-261B-4702-A5A0-4EB2DE00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6E196-D4E8-4A54-B0BD-FC5B6B3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6CD4-28A5-4CDA-BDC3-FFDD9FF7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0F8D2-44C3-4C82-AAD8-DA1C9D4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C275C-BCC2-4D65-9233-80A39CA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4D210-FCE4-4EA2-9B82-71DB559A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94362-7527-4156-AC7A-BFEF0BF6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3793F-7301-453F-B203-37037448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0DF9-02B9-41CC-B789-B20014F5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C644-D10F-44F8-8A09-FFA850A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A65F-2131-4BD0-9531-E17BFE2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7E0-2658-4B06-9A00-DFCFE8E0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218-D587-4DD8-BDFB-9D26B1AA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131-FD03-408B-950D-DDF3534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DE77-7D9E-477E-808C-E862B319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137A-F723-4E7E-B695-8A75F56D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58D7-FFFB-4442-8F6C-EBBF6BD4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973F-4F1D-43F0-9C8F-ADC214A0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3BAA-E69A-4ABD-9A89-63B48A61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D884-99A3-4F80-8E5B-CAAF97CF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4BEF-8C01-4B33-B8AB-8E2505D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BB36-B225-416E-A4B2-345FF1D0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D375-B188-4B04-ADD0-D1352FE5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2CE9-0205-4555-8F0D-DE6BEEDC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0E2-3D74-4721-B31E-71F86F5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8EFF-6099-4295-910A-6595888B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212D-73B2-4884-B393-E061BA6A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E147-4EF7-48DD-AE6D-1B8E93AB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AD55-029F-4426-B2A5-954AD21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06C6-E19F-4A90-84A4-D03A2529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CD70-6D3A-4108-B256-80763854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86E4-6153-4C73-B3EE-96C036DC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678B-12D7-4A8D-A9B1-5AD53896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2ACD-3F3B-45D6-A247-EF26651E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0F5A-F1B6-42BE-9CBF-09000107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FFF-033E-4D52-96AF-BD3001C9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7748-85D8-4CAE-94A4-67A28E66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F50D-9BF3-494A-BBE4-AEDEB41B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A40F-3015-43EE-BB50-3167C96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0844-FFBE-430E-9960-6E8E660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4554-963B-45DC-B11C-D054F5AC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5E715-1D20-4A3B-8D3D-511B13C4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4A6B-83FD-4D35-8FED-37C406B0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5244-7A6E-4513-B735-9503BBBA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010E-CC24-4F7C-8E2C-20E6598E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C70E-9D41-468E-8B58-01CCD643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A45-2432-4EC8-96CB-A02B0D9E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7AB40-3EED-4975-AF7C-DB91D4F3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91E2-B282-4DE1-990D-3134A385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E520-56A3-4BCD-BDFF-9E92BF48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0F6B-8F86-472F-9B45-623CBD7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CFE4F-7182-4DF1-A7A5-FAB9057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E305-C512-4E16-8FC7-81CD3053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C315-9A42-4D2E-819A-D96C6D84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26567-6EB5-4FC5-9C22-2FD18EE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56D9-D46D-4DC5-ADC0-DCAB55AA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7F5B-44ED-4604-B1CF-ACF7A2CB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A81-ED94-4077-ADC5-85376848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81B9-BEBD-458A-90F5-21B892EC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F3B9-028E-47C8-A381-F4E9F569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4315-C933-4E7F-8888-76F7523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62CAD-5A21-4E5B-A47A-4B0DAD5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0C75-3A7A-4F0A-8232-FA8ADE7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BF521-6DC6-4FB3-98E9-568B4D13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7F98-4FC5-48ED-831B-209CA12E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D5A4-7055-4BF9-84AA-FF37429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FD8F-D2ED-4DBC-800A-DB623E78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0FCD-8F02-40F1-94FE-0E7D0F3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E30-5EB7-437A-9DF3-DA2D710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20BDE-42F7-4AF2-8F3E-C85EAC5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8F16-F32B-4C8B-86CB-3AB9D1E3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D811-EF92-446C-BBBC-5C62CA4D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FA33B-15EF-4EA2-966B-349C08E9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1816-A3B3-41FC-958C-E73A5DC8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E6BD-5F90-4D3C-B79B-0A358559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57828-23FE-4538-B2A7-FA781849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AE549-2934-4BCD-8CAD-444B526B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F89C2-3AE9-42EF-AFFC-C096BF7F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E1C1E-652B-48BB-A848-88D4519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520-CC6F-4587-A559-6B1B27C1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C32BC-43AB-420B-A03F-3BA2AE2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ABEA3-67EB-4697-BCE2-B8C9A3E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AAE18-8B01-451A-AAE6-FD57A9F6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8A1E-6E3F-41AD-B19A-3868A0C2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943CD-75BC-4E7E-B618-0F7CB28F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7D7EC-F13C-43BD-9AE8-D440431D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93C8A-1762-4BFB-98B5-DA354CC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CBABC-1993-4C6A-82CE-0756BC7D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DB737-C835-4724-A5FA-59AF83CF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96A3-771C-4B4D-BE99-5FF8D048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8B4-9253-40B7-9D20-D8F9E4B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99223-5F17-49C9-972D-480A51B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06930-EC64-4601-A317-3E35F39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CF118-829D-478B-8305-895DB7A2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2824E-BBE9-4FD7-871B-D01B5DE1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7FB5E-AD40-47EE-8CEE-5B111475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3DFDF-A433-4B2B-9FCC-A29A8658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9FDA0-904F-4865-BDAF-3CA53EC1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5F123-80CD-4458-92BD-42044EFD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E5CB7-C9F5-418B-88AF-89F34E6D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3430D-B4F9-4089-BAAD-13378D79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B20-621A-4C11-9C43-B8C22C450E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2053-C0AD-4E42-998F-7BFBEAC412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4524-A4BF-4ADA-8C6F-3A884962CB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0BAE-ACC9-45B5-A2EA-34F9A05D10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16FC-42C8-4C95-BCCB-E61B4CF32C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C26B-26D1-45ED-8932-C5028447A4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B87-960E-4410-9A6D-58CD6A64204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B96A-2472-4EAD-8525-C25F719B1C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A70B-6CBC-4A40-864E-028C827C9AA0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D0EF-9B13-4FEC-AC93-85AFC5124B2F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D45-7380-4C58-952A-5F88DD53E3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1D9D-8E80-4628-A631-813E570FB0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BA50-A684-4FD0-9A78-F56D58BB50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B31-ACAD-41E2-BA90-967071025B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927B-8F06-4F24-8E4E-13BE60AF98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D4AB-8C7D-4C91-A793-0055514868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7797-8BD9-4BA2-81E4-388AA25AE7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CF10-B0B4-4813-8E76-D566B4FCC8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3A2-2A40-4079-BE66-B72DBCBD31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3F0D-E076-4651-B67B-B4E9D30BC3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90D-5243-41F2-B712-C55FB2169A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1B3-3023-4033-B096-87CA08F545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24EF-2CC0-4AA6-90B2-BE0DC73E01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B208-3BF0-4192-AB50-B4C977A0E0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daxue101.100get.c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  <a:ea typeface="宋体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  <a:ea typeface="宋体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  <a:ea typeface="宋体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-91296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玩转大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 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  <a:ea typeface="宋体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  <a:ea typeface="宋体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  <a:ea typeface="宋体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  <a:ea typeface="宋体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cp:keywords/>
  <dc:language>en-US</dc:language>
  <cp:lastModifiedBy>BST-WLZ</cp:lastModifiedBy>
  <dcterms:modified xsi:type="dcterms:W3CDTF">2015-05-14T06:33:12Z</dcterms:modified>
  <cp:revision>367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