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F410-2B1B-4994-A811-A2F40A99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4F7-4992-4F33-877E-1A56248A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178A-2650-41E8-A997-0C0A0C8B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23AC-3446-48DE-BF4C-CBFBFE3D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57DC-1A61-45A6-B88E-C2B2FD01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5724-3BDD-44EA-A30A-CC8ED020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FCE5-2BBE-4A83-9BBF-4A1BB3AE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C25-FD00-468B-8AA8-D57C5FF0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F50-A03C-4E81-AA0A-6266C65C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ACB-1BB8-4143-BD89-BA1A26FB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C875-01CD-4A46-BCDD-4F694856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6EF-A46E-4BD8-8AB3-43689B98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9809-EFD3-4FD2-8CBC-D1B18D6B743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3AB1-F231-45C6-9358-3CEE4774FA7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6755760" y="7593120"/>
            <a:ext cx="20001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Curious</a:t>
            </a: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6467760" y="7897680"/>
            <a:ext cx="2274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People Do To T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7150680" y="8202600"/>
            <a:ext cx="1152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Sunb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490040" y="431640"/>
            <a:ext cx="978336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14 Wild Ways People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66520" y="1447920"/>
            <a:ext cx="109450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Soothe</a:t>
            </a:r>
            <a:r>
              <a:rPr b="0" lang="en-US" sz="7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Their</a:t>
            </a:r>
            <a:r>
              <a:rPr b="0" lang="en-US" sz="7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Sunburns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1652760" y="5335560"/>
            <a:ext cx="3382920" cy="179532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1638360" y="5321160"/>
            <a:ext cx="3411360" cy="1824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1879560" y="5411880"/>
            <a:ext cx="2908440" cy="1495440"/>
          </a:xfrm>
          <a:prstGeom prst="pie">
            <a:avLst/>
          </a:prstGeom>
          <a:solidFill>
            <a:srgbClr val="9cb37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1866960" y="5398920"/>
            <a:ext cx="2935080" cy="1522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2249640" y="5686560"/>
            <a:ext cx="2261880" cy="85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3870360" y="6041880"/>
            <a:ext cx="693720" cy="790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3457440" y="5907240"/>
            <a:ext cx="703440" cy="7538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3056040" y="5776920"/>
            <a:ext cx="690480" cy="725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2676600" y="5661000"/>
            <a:ext cx="709560" cy="695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2273400" y="5526000"/>
            <a:ext cx="720720" cy="682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812880" y="3873600"/>
            <a:ext cx="4660920" cy="466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4"/>
          <a:stretch/>
        </p:blipFill>
        <p:spPr>
          <a:xfrm>
            <a:off x="7188120" y="50760"/>
            <a:ext cx="4546800" cy="4800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5"/>
          <a:stretch/>
        </p:blipFill>
        <p:spPr>
          <a:xfrm>
            <a:off x="7594560" y="5448240"/>
            <a:ext cx="4559400" cy="4305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8700840" y="6172200"/>
            <a:ext cx="26449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Cold</a:t>
            </a:r>
            <a:r>
              <a:rPr b="0" lang="en-US" sz="4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Milk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1826280" y="2006640"/>
            <a:ext cx="295164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ee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o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er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1838160" y="2832120"/>
            <a:ext cx="339552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b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r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ub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ent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824840" y="228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826280" y="507960"/>
            <a:ext cx="26038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Alo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e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Ic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ub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8683920" y="7696080"/>
            <a:ext cx="221508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l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lk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8659800" y="8521560"/>
            <a:ext cx="277776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rgu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'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rea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8682840" y="591804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8628120" y="6769080"/>
            <a:ext cx="135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Bat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1066680" y="-133200"/>
            <a:ext cx="4241880" cy="44416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reeform 3"/>
          <p:cNvSpPr/>
          <p:nvPr/>
        </p:nvSpPr>
        <p:spPr>
          <a:xfrm>
            <a:off x="914400" y="-120600"/>
            <a:ext cx="4559400" cy="51926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2309760" y="5826240"/>
            <a:ext cx="514440" cy="3055680"/>
          </a:xfrm>
          <a:prstGeom prst="pie">
            <a:avLst/>
          </a:prstGeom>
          <a:solidFill>
            <a:srgbClr val="f1e2d8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2392200" y="5035680"/>
            <a:ext cx="1787760" cy="38383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2376360" y="5021280"/>
            <a:ext cx="1817640" cy="3868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2701800" y="5035680"/>
            <a:ext cx="644760" cy="7365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2685960" y="5021280"/>
            <a:ext cx="676440" cy="765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"/>
          <p:cNvSpPr/>
          <p:nvPr/>
        </p:nvSpPr>
        <p:spPr>
          <a:xfrm>
            <a:off x="2701800" y="5035680"/>
            <a:ext cx="552600" cy="9360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2685960" y="5021280"/>
            <a:ext cx="584280" cy="122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2684520" y="6594480"/>
            <a:ext cx="1127160" cy="143820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2670120" y="6580080"/>
            <a:ext cx="1155600" cy="1468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2459160" y="6288120"/>
            <a:ext cx="1266840" cy="183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2712960" y="8393040"/>
            <a:ext cx="1266840" cy="182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2813040" y="5815080"/>
            <a:ext cx="425520" cy="493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10917360" y="3271680"/>
            <a:ext cx="561960" cy="741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11252160" y="3895560"/>
            <a:ext cx="1452600" cy="920880"/>
          </a:xfrm>
          <a:prstGeom prst="pie">
            <a:avLst/>
          </a:prstGeom>
          <a:solidFill>
            <a:srgbClr val="eb94a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11229840" y="3881520"/>
            <a:ext cx="1490760" cy="95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11217240" y="3868560"/>
            <a:ext cx="1515960" cy="120960"/>
          </a:xfrm>
          <a:prstGeom prst="pie">
            <a:avLst/>
          </a:prstGeom>
          <a:noFill/>
          <a:ln w="25560">
            <a:solidFill>
              <a:srgbClr val="564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11217240" y="3868560"/>
            <a:ext cx="1515960" cy="960480"/>
          </a:xfrm>
          <a:prstGeom prst="pie">
            <a:avLst/>
          </a:prstGeom>
          <a:noFill/>
          <a:ln w="25560">
            <a:solidFill>
              <a:srgbClr val="564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8918640" y="2736720"/>
            <a:ext cx="1590480" cy="224820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8862840" y="4495680"/>
            <a:ext cx="1681200" cy="17964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8848800" y="4481640"/>
            <a:ext cx="1709640" cy="207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9058320" y="2801880"/>
            <a:ext cx="1652400" cy="204480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10071000" y="1933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8726400" y="2771640"/>
            <a:ext cx="1366920" cy="150048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9858240" y="3600360"/>
            <a:ext cx="360" cy="1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8988480" y="720720"/>
            <a:ext cx="1682640" cy="2149560"/>
          </a:xfrm>
          <a:prstGeom prst="pie">
            <a:avLst/>
          </a:prstGeom>
          <a:solidFill>
            <a:srgbClr val="efcbcc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10071000" y="1933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9090000" y="1879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9264600" y="1731960"/>
            <a:ext cx="87480" cy="9828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10159920" y="1789200"/>
            <a:ext cx="85680" cy="9828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8675640" y="444600"/>
            <a:ext cx="2301840" cy="1569960"/>
          </a:xfrm>
          <a:prstGeom prst="pie">
            <a:avLst/>
          </a:prstGeom>
          <a:solidFill>
            <a:srgbClr val="5b494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8675640" y="444600"/>
            <a:ext cx="2301840" cy="1569960"/>
          </a:xfrm>
          <a:prstGeom prst="pie">
            <a:avLst/>
          </a:prstGeom>
          <a:solidFill>
            <a:srgbClr val="d7d7d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9469440" y="1812960"/>
            <a:ext cx="284040" cy="44460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9204480" y="3094200"/>
            <a:ext cx="1056960" cy="5918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9329760" y="3525840"/>
            <a:ext cx="52200" cy="5256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9987120" y="3525840"/>
            <a:ext cx="52200" cy="5256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9580680" y="4084560"/>
            <a:ext cx="734760" cy="336600"/>
          </a:xfrm>
          <a:prstGeom prst="pie">
            <a:avLst/>
          </a:prstGeom>
          <a:solidFill>
            <a:srgbClr val="f0e0d6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9833040" y="2460600"/>
            <a:ext cx="274680" cy="152280"/>
          </a:xfrm>
          <a:prstGeom prst="pie">
            <a:avLst/>
          </a:prstGeom>
          <a:noFill/>
          <a:ln w="25560">
            <a:solidFill>
              <a:srgbClr val="452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888840" y="5270400"/>
            <a:ext cx="4673880" cy="4343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7594560" y="406440"/>
            <a:ext cx="4559400" cy="93470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2919240" y="7175520"/>
            <a:ext cx="775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HAZ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2872440" y="6896160"/>
            <a:ext cx="8161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8453160" y="6032520"/>
            <a:ext cx="340884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Yogur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gur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igh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reath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o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a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651320" y="330120"/>
            <a:ext cx="1086732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Witch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Haz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c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aze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ti-inflammato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tringen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nimiz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a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ching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-irritat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YOG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3"/>
          <p:cNvSpPr/>
          <p:nvPr/>
        </p:nvSpPr>
        <p:spPr>
          <a:xfrm>
            <a:off x="1762200" y="6540480"/>
            <a:ext cx="1554120" cy="2160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1776240" y="6554880"/>
            <a:ext cx="1525680" cy="2131920"/>
          </a:xfrm>
          <a:prstGeom prst="pie">
            <a:avLst/>
          </a:prstGeom>
          <a:solidFill>
            <a:srgbClr val="9a8f5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1884240" y="7910640"/>
            <a:ext cx="55800" cy="507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1920960" y="8145360"/>
            <a:ext cx="63360" cy="208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2090880" y="7967520"/>
            <a:ext cx="2844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2133720" y="8223120"/>
            <a:ext cx="33120" cy="5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2239920" y="8151840"/>
            <a:ext cx="4752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2712960" y="7953480"/>
            <a:ext cx="57240" cy="507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2749680" y="8188200"/>
            <a:ext cx="63360" cy="190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2921040" y="8010360"/>
            <a:ext cx="2844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2962440" y="8265960"/>
            <a:ext cx="34920" cy="5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3068640" y="8194680"/>
            <a:ext cx="4932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2495520" y="79502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2282760" y="80564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2346480" y="833292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2708280" y="8502480"/>
            <a:ext cx="69840" cy="446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"/>
          <p:cNvSpPr/>
          <p:nvPr/>
        </p:nvSpPr>
        <p:spPr>
          <a:xfrm>
            <a:off x="2835360" y="8312040"/>
            <a:ext cx="7128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3027240" y="79502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2408400" y="8148600"/>
            <a:ext cx="5364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2629080" y="8099280"/>
            <a:ext cx="4428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2517840" y="8345520"/>
            <a:ext cx="38160" cy="460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2652840" y="8337600"/>
            <a:ext cx="39600" cy="666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1762200" y="6540480"/>
            <a:ext cx="1554120" cy="2160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2843280" y="6696000"/>
            <a:ext cx="185760" cy="2003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2952720" y="6769080"/>
            <a:ext cx="162000" cy="1622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2502000" y="6670800"/>
            <a:ext cx="141120" cy="141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2489040" y="6656400"/>
            <a:ext cx="168480" cy="1699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2552760" y="6019920"/>
            <a:ext cx="1806480" cy="141264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3990960" y="6607080"/>
            <a:ext cx="942840" cy="927360"/>
          </a:xfrm>
          <a:prstGeom prst="pie">
            <a:avLst/>
          </a:prstGeom>
          <a:solidFill>
            <a:srgbClr val="9a8f5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3976560" y="6593040"/>
            <a:ext cx="970200" cy="955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8342280" y="33847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8469360" y="342900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8601120" y="344340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8702640" y="345744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8818560" y="34862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8962920" y="35305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9093240" y="3544920"/>
            <a:ext cx="14904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9194760" y="3559320"/>
            <a:ext cx="1494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9296280" y="3573360"/>
            <a:ext cx="1494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9428040" y="361620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9572760" y="363204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9674280" y="36464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9761400" y="36608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9906120" y="3703680"/>
            <a:ext cx="14904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10037880" y="371808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10139400" y="37339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10240920" y="374796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10371240" y="379080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10497960" y="3805200"/>
            <a:ext cx="14796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8867880" y="8460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8970840" y="8398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9090000" y="8445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9240840" y="8571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9372600" y="8445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9474120" y="8380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9577440" y="8319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9713880" y="8478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9858240" y="8319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9961560" y="8254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10049040" y="8222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10201320" y="8352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10331280" y="8222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10433160" y="81612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10536120" y="8096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10672920" y="8254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10804680" y="8240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10909440" y="8380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8448840" y="984240"/>
            <a:ext cx="2595240" cy="2830680"/>
          </a:xfrm>
          <a:prstGeom prst="pie">
            <a:avLst/>
          </a:prstGeom>
          <a:solidFill>
            <a:srgbClr val="c69c6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8434440" y="969840"/>
            <a:ext cx="2624040" cy="2859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9306000" y="1839960"/>
            <a:ext cx="1276200" cy="1074600"/>
          </a:xfrm>
          <a:prstGeom prst="pie">
            <a:avLst/>
          </a:prstGeom>
          <a:solidFill>
            <a:srgbClr val="c69c6d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"/>
          <p:cNvSpPr/>
          <p:nvPr/>
        </p:nvSpPr>
        <p:spPr>
          <a:xfrm>
            <a:off x="9604440" y="2039760"/>
            <a:ext cx="793800" cy="668520"/>
          </a:xfrm>
          <a:prstGeom prst="pie">
            <a:avLst/>
          </a:prstGeom>
          <a:solidFill>
            <a:srgbClr val="c69c6d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3"/>
          <a:stretch/>
        </p:blipFill>
        <p:spPr>
          <a:xfrm>
            <a:off x="1384200" y="5334120"/>
            <a:ext cx="4000680" cy="3987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4"/>
          <a:stretch/>
        </p:blipFill>
        <p:spPr>
          <a:xfrm>
            <a:off x="7581960" y="165240"/>
            <a:ext cx="4749840" cy="47498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"/>
          <p:cNvSpPr/>
          <p:nvPr/>
        </p:nvSpPr>
        <p:spPr>
          <a:xfrm>
            <a:off x="8469000" y="4851360"/>
            <a:ext cx="33627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Alo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e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ooling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ow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o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er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assic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new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novativ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eez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we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&amp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re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1740960" y="469800"/>
            <a:ext cx="35470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Earl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Gre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g?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bag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traigh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ilut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t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abb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s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ot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4335840" y="6845400"/>
            <a:ext cx="4150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</a:rPr>
              <a:t>t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"/>
          <p:cNvSpPr/>
          <p:nvPr/>
        </p:nvSpPr>
        <p:spPr>
          <a:xfrm>
            <a:off x="7518240" y="4297320"/>
            <a:ext cx="4686480" cy="546912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774720" y="-120600"/>
            <a:ext cx="5194440" cy="558936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reeform 3"/>
          <p:cNvSpPr/>
          <p:nvPr/>
        </p:nvSpPr>
        <p:spPr>
          <a:xfrm>
            <a:off x="10639440" y="1657440"/>
            <a:ext cx="558720" cy="263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10625040" y="1643040"/>
            <a:ext cx="587520" cy="291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"/>
          <p:cNvSpPr/>
          <p:nvPr/>
        </p:nvSpPr>
        <p:spPr>
          <a:xfrm>
            <a:off x="8353440" y="1657440"/>
            <a:ext cx="1028520" cy="425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"/>
          <p:cNvSpPr/>
          <p:nvPr/>
        </p:nvSpPr>
        <p:spPr>
          <a:xfrm>
            <a:off x="8337600" y="1643040"/>
            <a:ext cx="1057320" cy="453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8217000" y="1655640"/>
            <a:ext cx="3166920" cy="1494000"/>
          </a:xfrm>
          <a:prstGeom prst="pie">
            <a:avLst/>
          </a:prstGeom>
          <a:solidFill>
            <a:srgbClr val="6eaa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8204040" y="1641600"/>
            <a:ext cx="3194280" cy="1523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"/>
          <p:cNvSpPr/>
          <p:nvPr/>
        </p:nvSpPr>
        <p:spPr>
          <a:xfrm>
            <a:off x="8217000" y="1778040"/>
            <a:ext cx="2989080" cy="1373040"/>
          </a:xfrm>
          <a:prstGeom prst="pie">
            <a:avLst/>
          </a:prstGeom>
          <a:solidFill>
            <a:srgbClr val="a5ba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"/>
          <p:cNvSpPr/>
          <p:nvPr/>
        </p:nvSpPr>
        <p:spPr>
          <a:xfrm>
            <a:off x="8204040" y="1762200"/>
            <a:ext cx="3016440" cy="14032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"/>
          <p:cNvSpPr/>
          <p:nvPr/>
        </p:nvSpPr>
        <p:spPr>
          <a:xfrm>
            <a:off x="8248680" y="1778040"/>
            <a:ext cx="2927160" cy="13446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3"/>
          <p:cNvSpPr/>
          <p:nvPr/>
        </p:nvSpPr>
        <p:spPr>
          <a:xfrm>
            <a:off x="8234280" y="1762200"/>
            <a:ext cx="2955960" cy="13748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"/>
          <p:cNvSpPr/>
          <p:nvPr/>
        </p:nvSpPr>
        <p:spPr>
          <a:xfrm>
            <a:off x="9242280" y="1886040"/>
            <a:ext cx="486000" cy="33156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3"/>
          <p:cNvSpPr/>
          <p:nvPr/>
        </p:nvSpPr>
        <p:spPr>
          <a:xfrm>
            <a:off x="9229680" y="1871640"/>
            <a:ext cx="512640" cy="3603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"/>
          <p:cNvSpPr/>
          <p:nvPr/>
        </p:nvSpPr>
        <p:spPr>
          <a:xfrm>
            <a:off x="9575640" y="2044800"/>
            <a:ext cx="696960" cy="317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9563040" y="2030400"/>
            <a:ext cx="723960" cy="345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10164600" y="1911240"/>
            <a:ext cx="500400" cy="317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10150560" y="1897200"/>
            <a:ext cx="528480" cy="345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8353440" y="1778040"/>
            <a:ext cx="2717640" cy="124920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8337600" y="1762200"/>
            <a:ext cx="2747880" cy="1279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8931240" y="2098800"/>
            <a:ext cx="193680" cy="14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8916840" y="2084400"/>
            <a:ext cx="220680" cy="174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9826560" y="2658960"/>
            <a:ext cx="125640" cy="2174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9813960" y="2644920"/>
            <a:ext cx="152280" cy="245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10039320" y="2263680"/>
            <a:ext cx="146160" cy="1936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10024920" y="2251080"/>
            <a:ext cx="174600" cy="22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10506240" y="2305080"/>
            <a:ext cx="187200" cy="1522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10493280" y="2290680"/>
            <a:ext cx="214560" cy="1810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8993160" y="2530440"/>
            <a:ext cx="152280" cy="1872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8978760" y="2517840"/>
            <a:ext cx="181080" cy="2142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9472680" y="2352600"/>
            <a:ext cx="127080" cy="2160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9458280" y="2338560"/>
            <a:ext cx="155520" cy="2426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8429760" y="1876320"/>
            <a:ext cx="212760" cy="130320"/>
          </a:xfrm>
          <a:prstGeom prst="pie">
            <a:avLst/>
          </a:prstGeom>
          <a:solidFill>
            <a:srgbClr val="b4020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8413920" y="1862280"/>
            <a:ext cx="241200" cy="156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10693440" y="1887480"/>
            <a:ext cx="276120" cy="155520"/>
          </a:xfrm>
          <a:prstGeom prst="pie">
            <a:avLst/>
          </a:prstGeom>
          <a:solidFill>
            <a:srgbClr val="b4020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10680840" y="1873080"/>
            <a:ext cx="303120" cy="1843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8217000" y="1657440"/>
            <a:ext cx="242640" cy="118800"/>
          </a:xfrm>
          <a:prstGeom prst="pie">
            <a:avLst/>
          </a:prstGeom>
          <a:solidFill>
            <a:srgbClr val="a9c238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"/>
          <p:cNvSpPr/>
          <p:nvPr/>
        </p:nvSpPr>
        <p:spPr>
          <a:xfrm>
            <a:off x="8204040" y="1643040"/>
            <a:ext cx="270000" cy="147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3"/>
          <p:cNvSpPr/>
          <p:nvPr/>
        </p:nvSpPr>
        <p:spPr>
          <a:xfrm>
            <a:off x="8234280" y="1643040"/>
            <a:ext cx="292320" cy="147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"/>
          <p:cNvSpPr/>
          <p:nvPr/>
        </p:nvSpPr>
        <p:spPr>
          <a:xfrm>
            <a:off x="11090160" y="1655640"/>
            <a:ext cx="222480" cy="122400"/>
          </a:xfrm>
          <a:prstGeom prst="pie">
            <a:avLst/>
          </a:prstGeom>
          <a:solidFill>
            <a:srgbClr val="b6d13c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3"/>
          <p:cNvSpPr/>
          <p:nvPr/>
        </p:nvSpPr>
        <p:spPr>
          <a:xfrm>
            <a:off x="11076120" y="1641600"/>
            <a:ext cx="250560" cy="149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11025360" y="1641600"/>
            <a:ext cx="271440" cy="149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660240" y="0"/>
            <a:ext cx="4737240" cy="55958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2936880" y="5737320"/>
            <a:ext cx="1781280" cy="312732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2922480" y="5721480"/>
            <a:ext cx="1811520" cy="3159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2949480" y="8666280"/>
            <a:ext cx="1805040" cy="21420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2933640" y="8651880"/>
            <a:ext cx="1835280" cy="243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3060720" y="8631360"/>
            <a:ext cx="1531800" cy="1029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3079800" y="6816600"/>
            <a:ext cx="1380960" cy="954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3436920" y="5657760"/>
            <a:ext cx="806400" cy="65736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3422520" y="5643720"/>
            <a:ext cx="835200" cy="6858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3486240" y="5664240"/>
            <a:ext cx="693720" cy="24300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3470400" y="5648400"/>
            <a:ext cx="723600" cy="272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3422520" y="7051680"/>
            <a:ext cx="1209960" cy="141588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3406680" y="7035840"/>
            <a:ext cx="1239840" cy="1446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3843360" y="7880400"/>
            <a:ext cx="243000" cy="274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4378320" y="7875720"/>
            <a:ext cx="212760" cy="277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3652920" y="7458120"/>
            <a:ext cx="214200" cy="2728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3905280" y="7473960"/>
            <a:ext cx="220680" cy="270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4365720" y="7453440"/>
            <a:ext cx="223920" cy="274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1576440" y="7386480"/>
            <a:ext cx="1681200" cy="14734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1563840" y="7373880"/>
            <a:ext cx="1706400" cy="1498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1563840" y="7915320"/>
            <a:ext cx="1706400" cy="9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2548080" y="7661160"/>
            <a:ext cx="423720" cy="51768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"/>
          <p:cNvSpPr/>
          <p:nvPr/>
        </p:nvSpPr>
        <p:spPr>
          <a:xfrm>
            <a:off x="1717560" y="7731000"/>
            <a:ext cx="704880" cy="61308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2054160" y="7380360"/>
            <a:ext cx="808200" cy="55080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888840" y="5486400"/>
            <a:ext cx="4254840" cy="41781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3"/>
          <a:stretch/>
        </p:blipFill>
        <p:spPr>
          <a:xfrm>
            <a:off x="7505640" y="266760"/>
            <a:ext cx="4673520" cy="94867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8605440" y="4788000"/>
            <a:ext cx="338688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Watermel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soci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termelon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mm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okout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mm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jui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u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ie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irect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1760400" y="355680"/>
            <a:ext cx="33019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Shaving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ream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hav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eam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t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clud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lycer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hic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kee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oisturiz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k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yd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4"/>
          <p:cNvSpPr/>
          <p:nvPr/>
        </p:nvSpPr>
        <p:spPr>
          <a:xfrm>
            <a:off x="1715400" y="510552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reeform 3"/>
          <p:cNvSpPr/>
          <p:nvPr/>
        </p:nvSpPr>
        <p:spPr>
          <a:xfrm>
            <a:off x="9764640" y="2733840"/>
            <a:ext cx="1538280" cy="135864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9750600" y="2730600"/>
            <a:ext cx="1571400" cy="1374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10239480" y="2664000"/>
            <a:ext cx="718920" cy="185400"/>
          </a:xfrm>
          <a:prstGeom prst="pie">
            <a:avLst/>
          </a:prstGeom>
          <a:solidFill>
            <a:srgbClr val="6eaa43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10563120" y="2604960"/>
            <a:ext cx="112680" cy="160560"/>
          </a:xfrm>
          <a:prstGeom prst="pie">
            <a:avLst/>
          </a:prstGeom>
          <a:solidFill>
            <a:srgbClr val="5c4a47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8786880" y="2876400"/>
            <a:ext cx="1914480" cy="168624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8772480" y="2873520"/>
            <a:ext cx="1947960" cy="16952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9169560" y="2774880"/>
            <a:ext cx="873000" cy="295200"/>
          </a:xfrm>
          <a:prstGeom prst="pie">
            <a:avLst/>
          </a:prstGeom>
          <a:solidFill>
            <a:srgbClr val="6eaa43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9540720" y="2728800"/>
            <a:ext cx="111240" cy="193680"/>
          </a:xfrm>
          <a:prstGeom prst="pie">
            <a:avLst/>
          </a:prstGeom>
          <a:solidFill>
            <a:srgbClr val="5c4a47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028880" y="-7920"/>
            <a:ext cx="4241520" cy="44416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1130400" y="4851360"/>
            <a:ext cx="4190760" cy="43052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4"/>
          <a:stretch/>
        </p:blipFill>
        <p:spPr>
          <a:xfrm>
            <a:off x="7175520" y="1079640"/>
            <a:ext cx="5359320" cy="86738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"/>
          <p:cNvSpPr/>
          <p:nvPr/>
        </p:nvSpPr>
        <p:spPr>
          <a:xfrm>
            <a:off x="1745640" y="698400"/>
            <a:ext cx="29282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Cucumbe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8494200" y="7277040"/>
            <a:ext cx="328392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aim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mato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ubb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8475480" y="8521560"/>
            <a:ext cx="28051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ensa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8505000" y="61848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8485200" y="6451560"/>
            <a:ext cx="268920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omato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1743480" y="1600200"/>
            <a:ext cx="23266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'v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ar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1765080" y="2019240"/>
            <a:ext cx="305496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cumber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ir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eye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k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1754640" y="3251160"/>
            <a:ext cx="294876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1774080" y="444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reeform 3"/>
          <p:cNvSpPr/>
          <p:nvPr/>
        </p:nvSpPr>
        <p:spPr>
          <a:xfrm>
            <a:off x="1143000" y="0"/>
            <a:ext cx="4229280" cy="44528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"/>
          <p:cNvSpPr/>
          <p:nvPr/>
        </p:nvSpPr>
        <p:spPr>
          <a:xfrm>
            <a:off x="2014560" y="5477040"/>
            <a:ext cx="2190600" cy="259056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"/>
          <p:cNvSpPr/>
          <p:nvPr/>
        </p:nvSpPr>
        <p:spPr>
          <a:xfrm>
            <a:off x="2000160" y="5460840"/>
            <a:ext cx="2220840" cy="2622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"/>
          <p:cNvSpPr/>
          <p:nvPr/>
        </p:nvSpPr>
        <p:spPr>
          <a:xfrm>
            <a:off x="2379600" y="5530680"/>
            <a:ext cx="1563840" cy="39528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363760" y="5514840"/>
            <a:ext cx="1593720" cy="425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2435400" y="5397480"/>
            <a:ext cx="1488960" cy="3333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2419200" y="5383080"/>
            <a:ext cx="1519560" cy="3621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"/>
          <p:cNvSpPr/>
          <p:nvPr/>
        </p:nvSpPr>
        <p:spPr>
          <a:xfrm>
            <a:off x="3049560" y="6780240"/>
            <a:ext cx="193680" cy="19224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3"/>
          <p:cNvSpPr/>
          <p:nvPr/>
        </p:nvSpPr>
        <p:spPr>
          <a:xfrm>
            <a:off x="3398760" y="6800760"/>
            <a:ext cx="157320" cy="17964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3"/>
          <p:cNvSpPr/>
          <p:nvPr/>
        </p:nvSpPr>
        <p:spPr>
          <a:xfrm>
            <a:off x="3755880" y="6772320"/>
            <a:ext cx="163800" cy="19188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"/>
          <p:cNvSpPr/>
          <p:nvPr/>
        </p:nvSpPr>
        <p:spPr>
          <a:xfrm>
            <a:off x="3929040" y="6743880"/>
            <a:ext cx="173160" cy="1983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4105440" y="4581360"/>
            <a:ext cx="846000" cy="2298960"/>
          </a:xfrm>
          <a:prstGeom prst="pie">
            <a:avLst/>
          </a:prstGeom>
          <a:solidFill>
            <a:srgbClr val="b3b3b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4089240" y="4567320"/>
            <a:ext cx="876600" cy="2327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8532720" y="2722680"/>
            <a:ext cx="425520" cy="5857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8346960" y="1825560"/>
            <a:ext cx="2749680" cy="2311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8818560" y="2000160"/>
            <a:ext cx="2138400" cy="906480"/>
          </a:xfrm>
          <a:prstGeom prst="pie">
            <a:avLst/>
          </a:prstGeom>
          <a:solidFill>
            <a:srgbClr val="fcf49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3"/>
          <p:cNvSpPr/>
          <p:nvPr/>
        </p:nvSpPr>
        <p:spPr>
          <a:xfrm>
            <a:off x="8802720" y="1984320"/>
            <a:ext cx="2171520" cy="9381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3"/>
          <p:cNvSpPr/>
          <p:nvPr/>
        </p:nvSpPr>
        <p:spPr>
          <a:xfrm>
            <a:off x="8880480" y="2076480"/>
            <a:ext cx="1914480" cy="7128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3"/>
          <p:cNvSpPr/>
          <p:nvPr/>
        </p:nvSpPr>
        <p:spPr>
          <a:xfrm>
            <a:off x="9032760" y="2898720"/>
            <a:ext cx="1790640" cy="28260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9756720" y="2362320"/>
            <a:ext cx="434880" cy="99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"/>
          <p:cNvSpPr/>
          <p:nvPr/>
        </p:nvSpPr>
        <p:spPr>
          <a:xfrm>
            <a:off x="9740880" y="2346480"/>
            <a:ext cx="468360" cy="131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9717120" y="2158920"/>
            <a:ext cx="303120" cy="2462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9701280" y="2141640"/>
            <a:ext cx="334800" cy="279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3"/>
          <p:cNvSpPr/>
          <p:nvPr/>
        </p:nvSpPr>
        <p:spPr>
          <a:xfrm>
            <a:off x="9567720" y="2095560"/>
            <a:ext cx="139680" cy="287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"/>
          <p:cNvSpPr/>
          <p:nvPr/>
        </p:nvSpPr>
        <p:spPr>
          <a:xfrm>
            <a:off x="9551880" y="2079720"/>
            <a:ext cx="173160" cy="320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9252000" y="2220840"/>
            <a:ext cx="357120" cy="1922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"/>
          <p:cNvSpPr/>
          <p:nvPr/>
        </p:nvSpPr>
        <p:spPr>
          <a:xfrm>
            <a:off x="9236160" y="2205000"/>
            <a:ext cx="388800" cy="2239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9134640" y="2425680"/>
            <a:ext cx="434880" cy="98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"/>
          <p:cNvSpPr/>
          <p:nvPr/>
        </p:nvSpPr>
        <p:spPr>
          <a:xfrm>
            <a:off x="9118440" y="2409840"/>
            <a:ext cx="468360" cy="131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3"/>
          <p:cNvSpPr/>
          <p:nvPr/>
        </p:nvSpPr>
        <p:spPr>
          <a:xfrm>
            <a:off x="9306000" y="2484360"/>
            <a:ext cx="30456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3"/>
          <p:cNvSpPr/>
          <p:nvPr/>
        </p:nvSpPr>
        <p:spPr>
          <a:xfrm>
            <a:off x="9290160" y="2467080"/>
            <a:ext cx="336600" cy="279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3"/>
          <p:cNvSpPr/>
          <p:nvPr/>
        </p:nvSpPr>
        <p:spPr>
          <a:xfrm>
            <a:off x="9618840" y="2506680"/>
            <a:ext cx="137880" cy="287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3"/>
          <p:cNvSpPr/>
          <p:nvPr/>
        </p:nvSpPr>
        <p:spPr>
          <a:xfrm>
            <a:off x="9601200" y="2489040"/>
            <a:ext cx="171360" cy="322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3"/>
          <p:cNvSpPr/>
          <p:nvPr/>
        </p:nvSpPr>
        <p:spPr>
          <a:xfrm>
            <a:off x="9718560" y="2478240"/>
            <a:ext cx="355680" cy="1918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3"/>
          <p:cNvSpPr/>
          <p:nvPr/>
        </p:nvSpPr>
        <p:spPr>
          <a:xfrm>
            <a:off x="9702720" y="2460600"/>
            <a:ext cx="387360" cy="225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3"/>
          <p:cNvSpPr/>
          <p:nvPr/>
        </p:nvSpPr>
        <p:spPr>
          <a:xfrm>
            <a:off x="9736200" y="2460600"/>
            <a:ext cx="407880" cy="135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3"/>
          <p:cNvSpPr/>
          <p:nvPr/>
        </p:nvSpPr>
        <p:spPr>
          <a:xfrm>
            <a:off x="9718560" y="2444760"/>
            <a:ext cx="441360" cy="1681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3"/>
          <p:cNvSpPr/>
          <p:nvPr/>
        </p:nvSpPr>
        <p:spPr>
          <a:xfrm>
            <a:off x="9745560" y="2238480"/>
            <a:ext cx="389160" cy="1872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"/>
          <p:cNvSpPr/>
          <p:nvPr/>
        </p:nvSpPr>
        <p:spPr>
          <a:xfrm>
            <a:off x="9729720" y="2222640"/>
            <a:ext cx="420840" cy="21888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"/>
          <p:cNvSpPr/>
          <p:nvPr/>
        </p:nvSpPr>
        <p:spPr>
          <a:xfrm>
            <a:off x="9640800" y="2092320"/>
            <a:ext cx="133560" cy="289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"/>
          <p:cNvSpPr/>
          <p:nvPr/>
        </p:nvSpPr>
        <p:spPr>
          <a:xfrm>
            <a:off x="9624960" y="2075040"/>
            <a:ext cx="166680" cy="32220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"/>
          <p:cNvSpPr/>
          <p:nvPr/>
        </p:nvSpPr>
        <p:spPr>
          <a:xfrm>
            <a:off x="9366120" y="2152800"/>
            <a:ext cx="27468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"/>
          <p:cNvSpPr/>
          <p:nvPr/>
        </p:nvSpPr>
        <p:spPr>
          <a:xfrm>
            <a:off x="9350280" y="2136600"/>
            <a:ext cx="306360" cy="2779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3"/>
          <p:cNvSpPr/>
          <p:nvPr/>
        </p:nvSpPr>
        <p:spPr>
          <a:xfrm>
            <a:off x="9188280" y="2309760"/>
            <a:ext cx="419400" cy="1206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3"/>
          <p:cNvSpPr/>
          <p:nvPr/>
        </p:nvSpPr>
        <p:spPr>
          <a:xfrm>
            <a:off x="9172440" y="2293920"/>
            <a:ext cx="451080" cy="15228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3"/>
          <p:cNvSpPr/>
          <p:nvPr/>
        </p:nvSpPr>
        <p:spPr>
          <a:xfrm>
            <a:off x="9215280" y="2460600"/>
            <a:ext cx="395280" cy="181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3"/>
          <p:cNvSpPr/>
          <p:nvPr/>
        </p:nvSpPr>
        <p:spPr>
          <a:xfrm>
            <a:off x="9199440" y="2444760"/>
            <a:ext cx="427320" cy="212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3"/>
          <p:cNvSpPr/>
          <p:nvPr/>
        </p:nvSpPr>
        <p:spPr>
          <a:xfrm>
            <a:off x="9686880" y="2484360"/>
            <a:ext cx="27612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3"/>
          <p:cNvSpPr/>
          <p:nvPr/>
        </p:nvSpPr>
        <p:spPr>
          <a:xfrm>
            <a:off x="9671040" y="2467080"/>
            <a:ext cx="308160" cy="277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3"/>
          <p:cNvSpPr/>
          <p:nvPr/>
        </p:nvSpPr>
        <p:spPr>
          <a:xfrm>
            <a:off x="9550440" y="2373480"/>
            <a:ext cx="222120" cy="142560"/>
          </a:xfrm>
          <a:prstGeom prst="pie">
            <a:avLst/>
          </a:prstGeom>
          <a:solidFill>
            <a:srgbClr val="fcf49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3"/>
          <p:cNvSpPr/>
          <p:nvPr/>
        </p:nvSpPr>
        <p:spPr>
          <a:xfrm>
            <a:off x="9532800" y="2357280"/>
            <a:ext cx="255600" cy="1749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1104840" y="4508640"/>
            <a:ext cx="4191120" cy="4178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4"/>
          <a:stretch/>
        </p:blipFill>
        <p:spPr>
          <a:xfrm>
            <a:off x="7810560" y="901800"/>
            <a:ext cx="4191120" cy="4178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5"/>
          <a:stretch/>
        </p:blipFill>
        <p:spPr>
          <a:xfrm>
            <a:off x="7823160" y="5308560"/>
            <a:ext cx="4241880" cy="4444920"/>
          </a:xfrm>
          <a:prstGeom prst="rect">
            <a:avLst/>
          </a:prstGeom>
          <a:ln w="0">
            <a:noFill/>
          </a:ln>
        </p:spPr>
      </p:pic>
      <p:sp>
        <p:nvSpPr>
          <p:cNvPr id="369" name="TextBox 1"/>
          <p:cNvSpPr/>
          <p:nvPr/>
        </p:nvSpPr>
        <p:spPr>
          <a:xfrm>
            <a:off x="8696160" y="7632720"/>
            <a:ext cx="29134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oth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p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pr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hamomi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"/>
          <p:cNvSpPr/>
          <p:nvPr/>
        </p:nvSpPr>
        <p:spPr>
          <a:xfrm>
            <a:off x="8682840" y="5943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"/>
          <p:cNvSpPr/>
          <p:nvPr/>
        </p:nvSpPr>
        <p:spPr>
          <a:xfrm>
            <a:off x="8683560" y="6222960"/>
            <a:ext cx="310212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hamomil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e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"/>
          <p:cNvSpPr/>
          <p:nvPr/>
        </p:nvSpPr>
        <p:spPr>
          <a:xfrm>
            <a:off x="1749600" y="1600200"/>
            <a:ext cx="3020400" cy="21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gh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lik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ext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isp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LT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lk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isp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"/>
          <p:cNvSpPr/>
          <p:nvPr/>
        </p:nvSpPr>
        <p:spPr>
          <a:xfrm>
            <a:off x="1748520" y="43164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"/>
          <p:cNvSpPr/>
          <p:nvPr/>
        </p:nvSpPr>
        <p:spPr>
          <a:xfrm>
            <a:off x="1755720" y="711360"/>
            <a:ext cx="33001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Mayonnais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reeform 3"/>
          <p:cNvSpPr/>
          <p:nvPr/>
        </p:nvSpPr>
        <p:spPr>
          <a:xfrm>
            <a:off x="8591400" y="1044720"/>
            <a:ext cx="2216160" cy="2892240"/>
          </a:xfrm>
          <a:prstGeom prst="pie">
            <a:avLst/>
          </a:prstGeom>
          <a:solidFill>
            <a:srgbClr val="ec682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3"/>
          <p:cNvSpPr/>
          <p:nvPr/>
        </p:nvSpPr>
        <p:spPr>
          <a:xfrm>
            <a:off x="8578800" y="1028880"/>
            <a:ext cx="2244600" cy="292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3"/>
          <p:cNvSpPr/>
          <p:nvPr/>
        </p:nvSpPr>
        <p:spPr>
          <a:xfrm>
            <a:off x="8585280" y="1463760"/>
            <a:ext cx="628560" cy="2462040"/>
          </a:xfrm>
          <a:prstGeom prst="pie">
            <a:avLst/>
          </a:prstGeom>
          <a:solidFill>
            <a:srgbClr val="c155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3"/>
          <p:cNvSpPr/>
          <p:nvPr/>
        </p:nvSpPr>
        <p:spPr>
          <a:xfrm>
            <a:off x="8570880" y="1447920"/>
            <a:ext cx="655560" cy="24922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3"/>
          <p:cNvSpPr/>
          <p:nvPr/>
        </p:nvSpPr>
        <p:spPr>
          <a:xfrm>
            <a:off x="9142560" y="1573200"/>
            <a:ext cx="1649160" cy="222120"/>
          </a:xfrm>
          <a:prstGeom prst="pie">
            <a:avLst/>
          </a:prstGeom>
          <a:solidFill>
            <a:srgbClr val="daa988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3"/>
          <p:cNvSpPr/>
          <p:nvPr/>
        </p:nvSpPr>
        <p:spPr>
          <a:xfrm>
            <a:off x="9128160" y="1558800"/>
            <a:ext cx="1679400" cy="2509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3"/>
          <p:cNvSpPr/>
          <p:nvPr/>
        </p:nvSpPr>
        <p:spPr>
          <a:xfrm>
            <a:off x="9120240" y="1044720"/>
            <a:ext cx="280800" cy="209520"/>
          </a:xfrm>
          <a:prstGeom prst="pie">
            <a:avLst/>
          </a:prstGeom>
          <a:solidFill>
            <a:srgbClr val="c155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3"/>
          <p:cNvSpPr/>
          <p:nvPr/>
        </p:nvSpPr>
        <p:spPr>
          <a:xfrm>
            <a:off x="9105840" y="1028880"/>
            <a:ext cx="309600" cy="237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3"/>
          <p:cNvSpPr/>
          <p:nvPr/>
        </p:nvSpPr>
        <p:spPr>
          <a:xfrm>
            <a:off x="8916840" y="1092240"/>
            <a:ext cx="1000440" cy="711000"/>
          </a:xfrm>
          <a:prstGeom prst="pie">
            <a:avLst/>
          </a:prstGeom>
          <a:solidFill>
            <a:srgbClr val="5c4a4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"/>
          <p:cNvSpPr/>
          <p:nvPr/>
        </p:nvSpPr>
        <p:spPr>
          <a:xfrm>
            <a:off x="8902800" y="1077840"/>
            <a:ext cx="1028520" cy="7398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9186840" y="2297160"/>
            <a:ext cx="1341360" cy="844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3"/>
          <p:cNvSpPr/>
          <p:nvPr/>
        </p:nvSpPr>
        <p:spPr>
          <a:xfrm>
            <a:off x="9172440" y="2282760"/>
            <a:ext cx="1368720" cy="8733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888840" y="0"/>
            <a:ext cx="5118120" cy="9537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3"/>
          <a:stretch/>
        </p:blipFill>
        <p:spPr>
          <a:xfrm>
            <a:off x="7404120" y="520560"/>
            <a:ext cx="4876920" cy="9232920"/>
          </a:xfrm>
          <a:prstGeom prst="rect">
            <a:avLst/>
          </a:prstGeom>
          <a:ln w="0">
            <a:noFill/>
          </a:ln>
        </p:spPr>
      </p:pic>
      <p:sp>
        <p:nvSpPr>
          <p:cNvPr id="393" name="TextBox 1"/>
          <p:cNvSpPr/>
          <p:nvPr/>
        </p:nvSpPr>
        <p:spPr>
          <a:xfrm>
            <a:off x="9445680" y="2349360"/>
            <a:ext cx="9014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软雅黑"/>
              </a:rPr>
              <a:t>BAK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5362560" y="4102200"/>
            <a:ext cx="2858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V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5434920" y="4267080"/>
            <a:ext cx="1728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"/>
          <p:cNvSpPr/>
          <p:nvPr/>
        </p:nvSpPr>
        <p:spPr>
          <a:xfrm>
            <a:off x="8353440" y="5626080"/>
            <a:ext cx="35211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Baking</a:t>
            </a:r>
            <a:r>
              <a:rPr b="0" lang="en-US" sz="4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Sod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"/>
          <p:cNvSpPr/>
          <p:nvPr/>
        </p:nvSpPr>
        <p:spPr>
          <a:xfrm>
            <a:off x="8348760" y="2629080"/>
            <a:ext cx="3398400" cy="65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</a:rPr>
              <a:t>SO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k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d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a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he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king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s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know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epla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xic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eane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s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edu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ch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"/>
          <p:cNvSpPr/>
          <p:nvPr/>
        </p:nvSpPr>
        <p:spPr>
          <a:xfrm>
            <a:off x="1562760" y="1739880"/>
            <a:ext cx="32241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b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ref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ickl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self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ineg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"/>
          <p:cNvSpPr/>
          <p:nvPr/>
        </p:nvSpPr>
        <p:spPr>
          <a:xfrm>
            <a:off x="1582200" y="457200"/>
            <a:ext cx="21268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inega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"/>
          <p:cNvSpPr/>
          <p:nvPr/>
        </p:nvSpPr>
        <p:spPr>
          <a:xfrm>
            <a:off x="5605200" y="4089240"/>
            <a:ext cx="7992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reeform 3"/>
          <p:cNvSpPr/>
          <p:nvPr/>
        </p:nvSpPr>
        <p:spPr>
          <a:xfrm>
            <a:off x="4083120" y="2803680"/>
            <a:ext cx="4838760" cy="11080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"/>
          <p:cNvSpPr/>
          <p:nvPr/>
        </p:nvSpPr>
        <p:spPr>
          <a:xfrm>
            <a:off x="5711760" y="3100320"/>
            <a:ext cx="382680" cy="4795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"/>
          <p:cNvSpPr/>
          <p:nvPr/>
        </p:nvSpPr>
        <p:spPr>
          <a:xfrm>
            <a:off x="6477120" y="3224160"/>
            <a:ext cx="315720" cy="363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3"/>
          <p:cNvSpPr/>
          <p:nvPr/>
        </p:nvSpPr>
        <p:spPr>
          <a:xfrm>
            <a:off x="7623000" y="3224160"/>
            <a:ext cx="304920" cy="36360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3"/>
          <p:cNvSpPr/>
          <p:nvPr/>
        </p:nvSpPr>
        <p:spPr>
          <a:xfrm>
            <a:off x="0" y="9156600"/>
            <a:ext cx="13004640" cy="596880"/>
          </a:xfrm>
          <a:prstGeom prst="pie">
            <a:avLst/>
          </a:prstGeom>
          <a:solidFill>
            <a:srgbClr val="4d4d4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3"/>
          <p:cNvSpPr/>
          <p:nvPr/>
        </p:nvSpPr>
        <p:spPr>
          <a:xfrm>
            <a:off x="393840" y="5880240"/>
            <a:ext cx="12141000" cy="50760"/>
          </a:xfrm>
          <a:prstGeom prst="pie">
            <a:avLst/>
          </a:prstGeom>
          <a:noFill/>
          <a:ln w="25560">
            <a:solidFill>
              <a:srgbClr val="4c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3"/>
          <p:cNvSpPr/>
          <p:nvPr/>
        </p:nvSpPr>
        <p:spPr>
          <a:xfrm>
            <a:off x="4289400" y="2998800"/>
            <a:ext cx="677880" cy="67644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3"/>
          <p:cNvSpPr/>
          <p:nvPr/>
        </p:nvSpPr>
        <p:spPr>
          <a:xfrm>
            <a:off x="4405320" y="3111480"/>
            <a:ext cx="446040" cy="473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6095880" y="32130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6845400" y="3086280"/>
            <a:ext cx="406440" cy="5079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3"/>
          <a:stretch/>
        </p:blipFill>
        <p:spPr>
          <a:xfrm>
            <a:off x="7251840" y="3213000"/>
            <a:ext cx="355320" cy="381240"/>
          </a:xfrm>
          <a:prstGeom prst="rect">
            <a:avLst/>
          </a:prstGeom>
          <a:ln w="0">
            <a:noFill/>
          </a:ln>
        </p:spPr>
      </p:pic>
      <p:sp>
        <p:nvSpPr>
          <p:cNvPr id="412" name="TextBox 1"/>
          <p:cNvSpPr/>
          <p:nvPr/>
        </p:nvSpPr>
        <p:spPr>
          <a:xfrm>
            <a:off x="711360" y="6172200"/>
            <a:ext cx="11849040" cy="13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Disclaimer: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check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doct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profession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healthcar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provide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tarting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medic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reatment.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nformati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nfographic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medic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dvic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reate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u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"/>
          <p:cNvSpPr/>
          <p:nvPr/>
        </p:nvSpPr>
        <p:spPr>
          <a:xfrm>
            <a:off x="6200280" y="7480440"/>
            <a:ext cx="6073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Sou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"/>
          <p:cNvSpPr/>
          <p:nvPr/>
        </p:nvSpPr>
        <p:spPr>
          <a:xfrm>
            <a:off x="3767400" y="7670880"/>
            <a:ext cx="639396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lifehacker.com/5872588/freeze-aloe-vera-in-ice-for-soothing-cooling-sunburn-rel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"/>
          <p:cNvSpPr/>
          <p:nvPr/>
        </p:nvSpPr>
        <p:spPr>
          <a:xfrm>
            <a:off x="3316320" y="7873920"/>
            <a:ext cx="74606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complex.com/style/2013/02/50-life-hacks-that-will-make-you-more-stylish/earl-grey-sunb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"/>
          <p:cNvSpPr/>
          <p:nvPr/>
        </p:nvSpPr>
        <p:spPr>
          <a:xfrm>
            <a:off x="3745080" y="8064360"/>
            <a:ext cx="63190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voices.yahoo.com/the-three-best-natural-sunburn-remedies-3856478.html?cat=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"/>
          <p:cNvSpPr/>
          <p:nvPr/>
        </p:nvSpPr>
        <p:spPr>
          <a:xfrm>
            <a:off x="4504320" y="8267760"/>
            <a:ext cx="466560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parents.com/kids/safety/outdoor/sunburn-remedi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"/>
          <p:cNvSpPr/>
          <p:nvPr/>
        </p:nvSpPr>
        <p:spPr>
          <a:xfrm>
            <a:off x="3632400" y="8458200"/>
            <a:ext cx="662256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urmc.rochester.edu/encyclopedia/content.aspx?contenttypeid=1&amp;contentid=1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"/>
          <p:cNvSpPr/>
          <p:nvPr/>
        </p:nvSpPr>
        <p:spPr>
          <a:xfrm>
            <a:off x="2622240" y="1587600"/>
            <a:ext cx="784656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Click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here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to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view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the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full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infographic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istrator</dc:creator>
  <dc:description/>
  <dc:language>en-US</dc:language>
  <cp:lastModifiedBy>for_yang@qq.com</cp:lastModifiedBy>
  <dcterms:modified xsi:type="dcterms:W3CDTF">2014-07-19T14:22:28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