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7A3-2C10-475A-BDE2-79B0B521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511-7561-4740-956C-97AA06FF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D92-6E6B-411C-98F5-B12F14CB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2BF-409B-4156-82BB-1D63384B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1F22-9868-4DB0-8AE1-2C10274A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2FE-C4A0-4A60-946C-5C73CDE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7A13-7184-47C8-8A84-400248DA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F719-0687-4945-B843-D3D23C40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1660-5564-449D-AA98-31C7D3C9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EEB-6DC8-4366-AAED-4221C84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73B-2093-4EEC-97BE-9A70CCF6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DA7-B881-4FCC-99F0-398884C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AEF2-2B34-4BEF-925B-61B8DDE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D25D-F07C-455D-92E7-D2F5D06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E60E-6380-4A26-B255-5669AB6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AF9-8A8D-48B9-B69A-F81E58DB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8A10-73D2-4EB4-B299-C0542D1A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BE3F-48E7-49CC-8437-8B606B9D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5467-5F70-4156-8392-23EB3F7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9A6E-D453-45FE-8BB8-06860C0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1853-D77D-41C2-8E3E-B356A78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EA63-BA37-486F-B149-54A3DDC8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421-CBB7-487E-94AC-86CEABF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5CE9-8498-44B7-B69F-3FC5E2DE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3467-A451-4C82-93E7-20BABFCF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35FB-8FA5-4D42-A938-B921596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921B-203B-4E2B-A8C8-C589FD2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48BE-FD49-4F3E-A75F-63ED3C7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7454-292A-4E32-AF47-B0B06B5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8DEB-9F02-443E-9A87-6529AEB1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C51-62D1-4C91-80BA-CBF0D6E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D1C-6118-414D-BB00-E4997775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FEF-B731-42F8-9B6B-FABA6441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565-5CEE-495D-A671-92A725D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903-2DEA-4A09-A462-85C72C9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C82-A27C-4D63-8276-D31020E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EB33-B5EC-4478-9403-DF841987D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C:\Documents and Settings\Administrator\桌面\4.png"/>
          <p:cNvPicPr/>
          <p:nvPr/>
        </p:nvPicPr>
        <p:blipFill>
          <a:blip r:embed="rId3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istrator\桌面\1.png"/>
          <p:cNvPicPr/>
          <p:nvPr/>
        </p:nvPicPr>
        <p:blipFill>
          <a:blip r:embed="rId4"/>
          <a:srcRect l="33567" t="0" r="0" b="0"/>
          <a:stretch/>
        </p:blipFill>
        <p:spPr>
          <a:xfrm>
            <a:off x="0" y="3879720"/>
            <a:ext cx="684360" cy="18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633240"/>
            <a:ext cx="8534520" cy="5102280"/>
            <a:chOff x="609480" y="633240"/>
            <a:chExt cx="8534520" cy="5102280"/>
          </a:xfrm>
        </p:grpSpPr>
        <p:pic>
          <p:nvPicPr>
            <p:cNvPr id="45" name="单圆角矩形 9" descr=""/>
            <p:cNvPicPr/>
            <p:nvPr/>
          </p:nvPicPr>
          <p:blipFill>
            <a:blip r:embed="rId5"/>
            <a:stretch/>
          </p:blipFill>
          <p:spPr>
            <a:xfrm>
              <a:off x="609480" y="636120"/>
              <a:ext cx="85345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87320" y="633240"/>
              <a:ext cx="835668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9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572080" y="4511520"/>
            <a:ext cx="3462480" cy="131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:\Documents and Settings\Administrator\桌面\5.png"/>
          <p:cNvPicPr/>
          <p:nvPr/>
        </p:nvPicPr>
        <p:blipFill>
          <a:blip r:embed="rId7"/>
          <a:stretch/>
        </p:blipFill>
        <p:spPr>
          <a:xfrm>
            <a:off x="7164360" y="2928960"/>
            <a:ext cx="2209680" cy="291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EF3-FF4A-46D1-925B-A0B4DE4A94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0111-AB23-4D56-A5A8-7F2F9B87EB5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Administrator\桌面\3.png"/>
          <p:cNvPicPr/>
          <p:nvPr/>
        </p:nvPicPr>
        <p:blipFill>
          <a:blip r:embed="rId3"/>
          <a:srcRect l="0" t="0" r="0" b="37198"/>
          <a:stretch/>
        </p:blipFill>
        <p:spPr>
          <a:xfrm>
            <a:off x="5676840" y="2819520"/>
            <a:ext cx="3467160" cy="8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Administrator\桌面\2.png"/>
          <p:cNvPicPr/>
          <p:nvPr/>
        </p:nvPicPr>
        <p:blipFill>
          <a:blip r:embed="rId4"/>
          <a:stretch/>
        </p:blipFill>
        <p:spPr>
          <a:xfrm>
            <a:off x="1712880" y="4657680"/>
            <a:ext cx="451476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Documents and Settings\Administrator\桌面\3.png"/>
          <p:cNvPicPr/>
          <p:nvPr/>
        </p:nvPicPr>
        <p:blipFill>
          <a:blip r:embed="rId5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Administrator\桌面\5.png"/>
          <p:cNvPicPr/>
          <p:nvPr/>
        </p:nvPicPr>
        <p:blipFill>
          <a:blip r:embed="rId6"/>
          <a:stretch/>
        </p:blipFill>
        <p:spPr>
          <a:xfrm>
            <a:off x="6905520" y="2800440"/>
            <a:ext cx="2210040" cy="29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Administrator\桌面\2.png"/>
          <p:cNvPicPr/>
          <p:nvPr/>
        </p:nvPicPr>
        <p:blipFill>
          <a:blip r:embed="rId7"/>
          <a:stretch/>
        </p:blipFill>
        <p:spPr>
          <a:xfrm rot="21348600">
            <a:off x="2411280" y="193320"/>
            <a:ext cx="5789880" cy="97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14560" y="1496520"/>
            <a:ext cx="5725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9" name="Picture 7" descr="C:\Documents and Settings\Administrator\桌面\1.png"/>
          <p:cNvPicPr/>
          <p:nvPr/>
        </p:nvPicPr>
        <p:blipFill>
          <a:blip r:embed="rId8"/>
          <a:stretch/>
        </p:blipFill>
        <p:spPr>
          <a:xfrm>
            <a:off x="395280" y="55404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75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4111 L 1.43333 -0.41583 E">
                                      <p:cBhvr>
                                        <p:cTn id="38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C:\Documents and Settings\Administrator\桌面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0" y="3029040"/>
            <a:ext cx="9144000" cy="2685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Documents and Settings\Administrator\桌面\3.png"/>
          <p:cNvPicPr/>
          <p:nvPr/>
        </p:nvPicPr>
        <p:blipFill>
          <a:blip r:embed="rId3"/>
          <a:srcRect l="0" t="0" r="0" b="36239"/>
          <a:stretch/>
        </p:blipFill>
        <p:spPr>
          <a:xfrm>
            <a:off x="5676840" y="2819520"/>
            <a:ext cx="34671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Administrator\桌面\3.png"/>
          <p:cNvPicPr/>
          <p:nvPr/>
        </p:nvPicPr>
        <p:blipFill>
          <a:blip r:embed="rId4"/>
          <a:stretch/>
        </p:blipFill>
        <p:spPr>
          <a:xfrm>
            <a:off x="7975440" y="0"/>
            <a:ext cx="1149480" cy="333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76720" y="1417680"/>
            <a:ext cx="5518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98760"/>
            <a:ext cx="9144000" cy="23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96720" y="117792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Calibri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24000" y="36972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-219600" y="44179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6:35:16Z</dcterms:created>
  <dc:creator>user</dc:creator>
  <dc:description/>
  <dc:language>en-US</dc:language>
  <cp:lastModifiedBy>微软用户</cp:lastModifiedBy>
  <cp:lastPrinted>1899-12-30T00:00:00Z</cp:lastPrinted>
  <dcterms:modified xsi:type="dcterms:W3CDTF">2011-02-03T13:46:15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