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4B20-AFFE-4122-A0A4-723CF8D56A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F79-A5D4-4F84-90AC-84B6F04B18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737-97AC-4267-9972-5B0B5C16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26A-D054-4B98-B1D8-43B710C4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4C7-C0C9-4B3A-BDCD-973A9604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414-FF75-4E7E-831C-27360A6B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003-6906-4791-93C8-737D7CAC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C5B-61D7-41E5-9C7C-921E5C44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F49-1907-4315-9725-5724631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505-083F-4E12-91AD-C81F8A6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878-4CD9-4B57-9343-C943A33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7D-C6E6-43FC-B635-A54C9E7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76D-47E5-4C97-8CA6-6E0C84B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379-1B1C-4782-9459-D1046ED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8727-9F4D-4C98-8105-A016AC8BF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020" h="305">
                <a:moveTo>
                  <a:pt x="3020" y="152"/>
                </a:moveTo>
                <a:lnTo>
                  <a:pt x="2825" y="0"/>
                </a:lnTo>
                <a:lnTo>
                  <a:pt x="2825" y="121"/>
                </a:lnTo>
                <a:lnTo>
                  <a:pt x="195" y="121"/>
                </a:lnTo>
                <a:lnTo>
                  <a:pt x="195" y="0"/>
                </a:lnTo>
                <a:lnTo>
                  <a:pt x="0" y="152"/>
                </a:lnTo>
                <a:lnTo>
                  <a:pt x="195" y="305"/>
                </a:lnTo>
                <a:lnTo>
                  <a:pt x="195" y="196"/>
                </a:lnTo>
                <a:lnTo>
                  <a:pt x="2825" y="196"/>
                </a:lnTo>
                <a:lnTo>
                  <a:pt x="2825" y="305"/>
                </a:lnTo>
                <a:lnTo>
                  <a:pt x="3020" y="15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custGeom>
            <a:avLst/>
            <a:gdLst>
              <a:gd name="textAreaLeft" fmla="*/ 0 w 482760"/>
              <a:gd name="textAreaRight" fmla="*/ 483120 w 482760"/>
              <a:gd name="textAreaTop" fmla="*/ 0 h 4795920"/>
              <a:gd name="textAreaBottom" fmla="*/ 4796280 h 4795920"/>
            </a:gdLst>
            <a:ahLst/>
            <a:rect l="textAreaLeft" t="textAreaTop" r="textAreaRight" b="textAreaBottom"/>
            <a:pathLst>
              <a:path w="304" h="3021">
                <a:moveTo>
                  <a:pt x="184" y="195"/>
                </a:moveTo>
                <a:lnTo>
                  <a:pt x="304" y="195"/>
                </a:lnTo>
                <a:lnTo>
                  <a:pt x="152" y="0"/>
                </a:lnTo>
                <a:lnTo>
                  <a:pt x="0" y="195"/>
                </a:lnTo>
                <a:lnTo>
                  <a:pt x="108" y="195"/>
                </a:lnTo>
                <a:lnTo>
                  <a:pt x="108" y="2826"/>
                </a:lnTo>
                <a:lnTo>
                  <a:pt x="0" y="2826"/>
                </a:lnTo>
                <a:lnTo>
                  <a:pt x="152" y="3021"/>
                </a:lnTo>
                <a:lnTo>
                  <a:pt x="304" y="2826"/>
                </a:lnTo>
                <a:lnTo>
                  <a:pt x="184" y="2826"/>
                </a:lnTo>
                <a:lnTo>
                  <a:pt x="184" y="19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custGeom>
            <a:avLst/>
            <a:gdLst>
              <a:gd name="textAreaLeft" fmla="*/ 0 w 490320"/>
              <a:gd name="textAreaRight" fmla="*/ 490680 w 490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28" h="98">
                <a:moveTo>
                  <a:pt x="113" y="0"/>
                </a:moveTo>
                <a:cubicBezTo>
                  <a:pt x="104" y="0"/>
                  <a:pt x="98" y="7"/>
                  <a:pt x="98" y="15"/>
                </a:cubicBezTo>
                <a:cubicBezTo>
                  <a:pt x="98" y="19"/>
                  <a:pt x="100" y="23"/>
                  <a:pt x="103" y="26"/>
                </a:cubicBezTo>
                <a:cubicBezTo>
                  <a:pt x="84" y="54"/>
                  <a:pt x="84" y="54"/>
                  <a:pt x="84" y="54"/>
                </a:cubicBezTo>
                <a:cubicBezTo>
                  <a:pt x="83" y="53"/>
                  <a:pt x="81" y="52"/>
                  <a:pt x="79" y="52"/>
                </a:cubicBezTo>
                <a:cubicBezTo>
                  <a:pt x="73" y="52"/>
                  <a:pt x="68" y="56"/>
                  <a:pt x="66" y="60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3"/>
                  <a:pt x="56" y="51"/>
                  <a:pt x="56" y="49"/>
                </a:cubicBezTo>
                <a:cubicBezTo>
                  <a:pt x="56" y="40"/>
                  <a:pt x="49" y="34"/>
                  <a:pt x="41" y="34"/>
                </a:cubicBezTo>
                <a:cubicBezTo>
                  <a:pt x="33" y="34"/>
                  <a:pt x="26" y="40"/>
                  <a:pt x="26" y="49"/>
                </a:cubicBezTo>
                <a:cubicBezTo>
                  <a:pt x="26" y="53"/>
                  <a:pt x="28" y="57"/>
                  <a:pt x="31" y="60"/>
                </a:cubicBezTo>
                <a:cubicBezTo>
                  <a:pt x="23" y="70"/>
                  <a:pt x="23" y="70"/>
                  <a:pt x="23" y="70"/>
                </a:cubicBezTo>
                <a:cubicBezTo>
                  <a:pt x="21" y="69"/>
                  <a:pt x="18" y="68"/>
                  <a:pt x="15" y="68"/>
                </a:cubicBezTo>
                <a:cubicBezTo>
                  <a:pt x="6" y="68"/>
                  <a:pt x="0" y="74"/>
                  <a:pt x="0" y="83"/>
                </a:cubicBezTo>
                <a:cubicBezTo>
                  <a:pt x="0" y="91"/>
                  <a:pt x="6" y="98"/>
                  <a:pt x="15" y="98"/>
                </a:cubicBezTo>
                <a:cubicBezTo>
                  <a:pt x="23" y="98"/>
                  <a:pt x="30" y="91"/>
                  <a:pt x="30" y="83"/>
                </a:cubicBezTo>
                <a:cubicBezTo>
                  <a:pt x="30" y="79"/>
                  <a:pt x="28" y="76"/>
                  <a:pt x="26" y="73"/>
                </a:cubicBezTo>
                <a:cubicBezTo>
                  <a:pt x="34" y="62"/>
                  <a:pt x="34" y="62"/>
                  <a:pt x="34" y="62"/>
                </a:cubicBezTo>
                <a:cubicBezTo>
                  <a:pt x="36" y="63"/>
                  <a:pt x="39" y="64"/>
                  <a:pt x="41" y="64"/>
                </a:cubicBezTo>
                <a:cubicBezTo>
                  <a:pt x="46" y="64"/>
                  <a:pt x="51" y="61"/>
                  <a:pt x="53" y="57"/>
                </a:cubicBezTo>
                <a:cubicBezTo>
                  <a:pt x="64" y="64"/>
                  <a:pt x="64" y="64"/>
                  <a:pt x="64" y="64"/>
                </a:cubicBezTo>
                <a:cubicBezTo>
                  <a:pt x="64" y="65"/>
                  <a:pt x="64" y="66"/>
                  <a:pt x="64" y="68"/>
                </a:cubicBezTo>
                <a:cubicBezTo>
                  <a:pt x="64" y="76"/>
                  <a:pt x="70" y="83"/>
                  <a:pt x="79" y="83"/>
                </a:cubicBezTo>
                <a:cubicBezTo>
                  <a:pt x="87" y="83"/>
                  <a:pt x="94" y="76"/>
                  <a:pt x="94" y="68"/>
                </a:cubicBezTo>
                <a:cubicBezTo>
                  <a:pt x="94" y="63"/>
                  <a:pt x="91" y="58"/>
                  <a:pt x="88" y="56"/>
                </a:cubicBezTo>
                <a:cubicBezTo>
                  <a:pt x="106" y="28"/>
                  <a:pt x="106" y="28"/>
                  <a:pt x="106" y="28"/>
                </a:cubicBezTo>
                <a:cubicBezTo>
                  <a:pt x="108" y="29"/>
                  <a:pt x="110" y="30"/>
                  <a:pt x="113" y="30"/>
                </a:cubicBezTo>
                <a:cubicBezTo>
                  <a:pt x="121" y="30"/>
                  <a:pt x="128" y="23"/>
                  <a:pt x="128" y="15"/>
                </a:cubicBezTo>
                <a:cubicBezTo>
                  <a:pt x="128" y="7"/>
                  <a:pt x="121" y="0"/>
                  <a:pt x="113" y="0"/>
                </a:cubicBezTo>
                <a:close/>
                <a:moveTo>
                  <a:pt x="15" y="90"/>
                </a:moveTo>
                <a:cubicBezTo>
                  <a:pt x="11" y="90"/>
                  <a:pt x="7" y="87"/>
                  <a:pt x="7" y="83"/>
                </a:cubicBezTo>
                <a:cubicBezTo>
                  <a:pt x="7" y="78"/>
                  <a:pt x="11" y="75"/>
                  <a:pt x="15" y="75"/>
                </a:cubicBezTo>
                <a:cubicBezTo>
                  <a:pt x="19" y="75"/>
                  <a:pt x="22" y="78"/>
                  <a:pt x="22" y="83"/>
                </a:cubicBezTo>
                <a:cubicBezTo>
                  <a:pt x="22" y="87"/>
                  <a:pt x="19" y="90"/>
                  <a:pt x="15" y="90"/>
                </a:cubicBezTo>
                <a:close/>
                <a:moveTo>
                  <a:pt x="41" y="56"/>
                </a:moveTo>
                <a:cubicBezTo>
                  <a:pt x="37" y="56"/>
                  <a:pt x="34" y="53"/>
                  <a:pt x="34" y="49"/>
                </a:cubicBezTo>
                <a:cubicBezTo>
                  <a:pt x="34" y="45"/>
                  <a:pt x="37" y="41"/>
                  <a:pt x="41" y="41"/>
                </a:cubicBezTo>
                <a:cubicBezTo>
                  <a:pt x="45" y="41"/>
                  <a:pt x="49" y="45"/>
                  <a:pt x="49" y="49"/>
                </a:cubicBezTo>
                <a:cubicBezTo>
                  <a:pt x="49" y="53"/>
                  <a:pt x="45" y="56"/>
                  <a:pt x="41" y="56"/>
                </a:cubicBezTo>
                <a:close/>
                <a:moveTo>
                  <a:pt x="79" y="75"/>
                </a:moveTo>
                <a:cubicBezTo>
                  <a:pt x="75" y="75"/>
                  <a:pt x="71" y="72"/>
                  <a:pt x="71" y="68"/>
                </a:cubicBezTo>
                <a:cubicBezTo>
                  <a:pt x="71" y="63"/>
                  <a:pt x="75" y="60"/>
                  <a:pt x="79" y="60"/>
                </a:cubicBezTo>
                <a:cubicBezTo>
                  <a:pt x="83" y="60"/>
                  <a:pt x="86" y="63"/>
                  <a:pt x="86" y="68"/>
                </a:cubicBezTo>
                <a:cubicBezTo>
                  <a:pt x="86" y="72"/>
                  <a:pt x="83" y="75"/>
                  <a:pt x="79" y="75"/>
                </a:cubicBezTo>
                <a:close/>
                <a:moveTo>
                  <a:pt x="113" y="22"/>
                </a:moveTo>
                <a:cubicBezTo>
                  <a:pt x="108" y="22"/>
                  <a:pt x="105" y="19"/>
                  <a:pt x="105" y="15"/>
                </a:cubicBezTo>
                <a:cubicBezTo>
                  <a:pt x="105" y="11"/>
                  <a:pt x="108" y="7"/>
                  <a:pt x="113" y="7"/>
                </a:cubicBezTo>
                <a:cubicBezTo>
                  <a:pt x="117" y="7"/>
                  <a:pt x="120" y="11"/>
                  <a:pt x="120" y="15"/>
                </a:cubicBezTo>
                <a:cubicBezTo>
                  <a:pt x="120" y="19"/>
                  <a:pt x="117" y="22"/>
                  <a:pt x="1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193" h="219">
                  <a:moveTo>
                    <a:pt x="182" y="147"/>
                  </a:moveTo>
                  <a:cubicBezTo>
                    <a:pt x="179" y="147"/>
                    <a:pt x="177" y="148"/>
                    <a:pt x="175" y="150"/>
                  </a:cubicBezTo>
                  <a:cubicBezTo>
                    <a:pt x="146" y="110"/>
                    <a:pt x="146" y="110"/>
                    <a:pt x="146" y="110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7" y="71"/>
                    <a:pt x="179" y="72"/>
                    <a:pt x="182" y="72"/>
                  </a:cubicBezTo>
                  <a:cubicBezTo>
                    <a:pt x="188" y="72"/>
                    <a:pt x="193" y="67"/>
                    <a:pt x="193" y="60"/>
                  </a:cubicBezTo>
                  <a:cubicBezTo>
                    <a:pt x="193" y="54"/>
                    <a:pt x="188" y="49"/>
                    <a:pt x="182" y="49"/>
                  </a:cubicBezTo>
                  <a:cubicBezTo>
                    <a:pt x="175" y="49"/>
                    <a:pt x="170" y="54"/>
                    <a:pt x="170" y="60"/>
                  </a:cubicBezTo>
                  <a:cubicBezTo>
                    <a:pt x="170" y="61"/>
                    <a:pt x="170" y="61"/>
                    <a:pt x="170" y="62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5" y="20"/>
                    <a:pt x="108" y="16"/>
                    <a:pt x="108" y="12"/>
                  </a:cubicBezTo>
                  <a:cubicBezTo>
                    <a:pt x="108" y="5"/>
                    <a:pt x="103" y="0"/>
                    <a:pt x="97" y="0"/>
                  </a:cubicBezTo>
                  <a:cubicBezTo>
                    <a:pt x="90" y="0"/>
                    <a:pt x="85" y="5"/>
                    <a:pt x="85" y="12"/>
                  </a:cubicBezTo>
                  <a:cubicBezTo>
                    <a:pt x="85" y="16"/>
                    <a:pt x="88" y="20"/>
                    <a:pt x="92" y="22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1"/>
                    <a:pt x="23" y="61"/>
                    <a:pt x="23" y="60"/>
                  </a:cubicBezTo>
                  <a:cubicBezTo>
                    <a:pt x="23" y="54"/>
                    <a:pt x="18" y="49"/>
                    <a:pt x="12" y="49"/>
                  </a:cubicBezTo>
                  <a:cubicBezTo>
                    <a:pt x="5" y="49"/>
                    <a:pt x="0" y="54"/>
                    <a:pt x="0" y="60"/>
                  </a:cubicBezTo>
                  <a:cubicBezTo>
                    <a:pt x="0" y="67"/>
                    <a:pt x="5" y="72"/>
                    <a:pt x="12" y="72"/>
                  </a:cubicBezTo>
                  <a:cubicBezTo>
                    <a:pt x="14" y="72"/>
                    <a:pt x="16" y="71"/>
                    <a:pt x="18" y="70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48"/>
                    <a:pt x="14" y="147"/>
                    <a:pt x="12" y="147"/>
                  </a:cubicBezTo>
                  <a:cubicBezTo>
                    <a:pt x="5" y="147"/>
                    <a:pt x="0" y="152"/>
                    <a:pt x="0" y="159"/>
                  </a:cubicBezTo>
                  <a:cubicBezTo>
                    <a:pt x="0" y="165"/>
                    <a:pt x="5" y="170"/>
                    <a:pt x="12" y="170"/>
                  </a:cubicBezTo>
                  <a:cubicBezTo>
                    <a:pt x="18" y="170"/>
                    <a:pt x="23" y="165"/>
                    <a:pt x="23" y="159"/>
                  </a:cubicBezTo>
                  <a:cubicBezTo>
                    <a:pt x="23" y="158"/>
                    <a:pt x="23" y="158"/>
                    <a:pt x="23" y="158"/>
                  </a:cubicBezTo>
                  <a:cubicBezTo>
                    <a:pt x="72" y="152"/>
                    <a:pt x="72" y="152"/>
                    <a:pt x="72" y="152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8" y="199"/>
                    <a:pt x="85" y="203"/>
                    <a:pt x="85" y="208"/>
                  </a:cubicBezTo>
                  <a:cubicBezTo>
                    <a:pt x="85" y="214"/>
                    <a:pt x="90" y="219"/>
                    <a:pt x="97" y="219"/>
                  </a:cubicBezTo>
                  <a:cubicBezTo>
                    <a:pt x="103" y="219"/>
                    <a:pt x="108" y="214"/>
                    <a:pt x="108" y="208"/>
                  </a:cubicBezTo>
                  <a:cubicBezTo>
                    <a:pt x="108" y="203"/>
                    <a:pt x="105" y="199"/>
                    <a:pt x="101" y="197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70" y="158"/>
                    <a:pt x="170" y="158"/>
                    <a:pt x="170" y="158"/>
                  </a:cubicBezTo>
                  <a:cubicBezTo>
                    <a:pt x="170" y="158"/>
                    <a:pt x="170" y="158"/>
                    <a:pt x="170" y="159"/>
                  </a:cubicBezTo>
                  <a:cubicBezTo>
                    <a:pt x="170" y="165"/>
                    <a:pt x="175" y="170"/>
                    <a:pt x="182" y="170"/>
                  </a:cubicBezTo>
                  <a:cubicBezTo>
                    <a:pt x="188" y="170"/>
                    <a:pt x="193" y="165"/>
                    <a:pt x="193" y="159"/>
                  </a:cubicBezTo>
                  <a:cubicBezTo>
                    <a:pt x="193" y="152"/>
                    <a:pt x="188" y="147"/>
                    <a:pt x="182" y="1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24" h="124">
                  <a:moveTo>
                    <a:pt x="62" y="0"/>
                  </a:moveTo>
                  <a:cubicBezTo>
                    <a:pt x="28" y="0"/>
                    <a:pt x="0" y="28"/>
                    <a:pt x="0" y="62"/>
                  </a:cubicBezTo>
                  <a:cubicBezTo>
                    <a:pt x="0" y="96"/>
                    <a:pt x="28" y="124"/>
                    <a:pt x="62" y="124"/>
                  </a:cubicBezTo>
                  <a:cubicBezTo>
                    <a:pt x="96" y="124"/>
                    <a:pt x="124" y="96"/>
                    <a:pt x="124" y="62"/>
                  </a:cubicBezTo>
                  <a:cubicBezTo>
                    <a:pt x="124" y="28"/>
                    <a:pt x="96" y="0"/>
                    <a:pt x="62" y="0"/>
                  </a:cubicBezTo>
                  <a:close/>
                  <a:moveTo>
                    <a:pt x="116" y="60"/>
                  </a:moveTo>
                  <a:cubicBezTo>
                    <a:pt x="92" y="60"/>
                    <a:pt x="92" y="60"/>
                    <a:pt x="92" y="60"/>
                  </a:cubicBezTo>
                  <a:cubicBezTo>
                    <a:pt x="92" y="51"/>
                    <a:pt x="90" y="43"/>
                    <a:pt x="87" y="35"/>
                  </a:cubicBezTo>
                  <a:cubicBezTo>
                    <a:pt x="93" y="33"/>
                    <a:pt x="98" y="30"/>
                    <a:pt x="102" y="26"/>
                  </a:cubicBezTo>
                  <a:cubicBezTo>
                    <a:pt x="110" y="35"/>
                    <a:pt x="115" y="47"/>
                    <a:pt x="116" y="60"/>
                  </a:cubicBezTo>
                  <a:close/>
                  <a:moveTo>
                    <a:pt x="60" y="116"/>
                  </a:moveTo>
                  <a:cubicBezTo>
                    <a:pt x="53" y="110"/>
                    <a:pt x="48" y="103"/>
                    <a:pt x="43" y="95"/>
                  </a:cubicBezTo>
                  <a:cubicBezTo>
                    <a:pt x="49" y="93"/>
                    <a:pt x="54" y="92"/>
                    <a:pt x="60" y="92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0" y="116"/>
                    <a:pt x="60" y="116"/>
                    <a:pt x="60" y="116"/>
                  </a:cubicBezTo>
                  <a:close/>
                  <a:moveTo>
                    <a:pt x="64" y="8"/>
                  </a:moveTo>
                  <a:cubicBezTo>
                    <a:pt x="72" y="14"/>
                    <a:pt x="78" y="23"/>
                    <a:pt x="82" y="33"/>
                  </a:cubicBezTo>
                  <a:cubicBezTo>
                    <a:pt x="76" y="35"/>
                    <a:pt x="70" y="36"/>
                    <a:pt x="64" y="36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  <a:moveTo>
                    <a:pt x="71" y="9"/>
                  </a:moveTo>
                  <a:cubicBezTo>
                    <a:pt x="82" y="11"/>
                    <a:pt x="92" y="16"/>
                    <a:pt x="100" y="23"/>
                  </a:cubicBezTo>
                  <a:cubicBezTo>
                    <a:pt x="95" y="26"/>
                    <a:pt x="91" y="29"/>
                    <a:pt x="86" y="31"/>
                  </a:cubicBezTo>
                  <a:cubicBezTo>
                    <a:pt x="82" y="23"/>
                    <a:pt x="77" y="15"/>
                    <a:pt x="71" y="9"/>
                  </a:cubicBezTo>
                  <a:close/>
                  <a:moveTo>
                    <a:pt x="60" y="8"/>
                  </a:moveTo>
                  <a:cubicBezTo>
                    <a:pt x="60" y="36"/>
                    <a:pt x="60" y="36"/>
                    <a:pt x="60" y="36"/>
                  </a:cubicBezTo>
                  <a:cubicBezTo>
                    <a:pt x="54" y="36"/>
                    <a:pt x="48" y="35"/>
                    <a:pt x="42" y="33"/>
                  </a:cubicBezTo>
                  <a:cubicBezTo>
                    <a:pt x="46" y="23"/>
                    <a:pt x="52" y="14"/>
                    <a:pt x="60" y="8"/>
                  </a:cubicBezTo>
                  <a:cubicBezTo>
                    <a:pt x="60" y="8"/>
                    <a:pt x="60" y="8"/>
                    <a:pt x="60" y="8"/>
                  </a:cubicBezTo>
                  <a:close/>
                  <a:moveTo>
                    <a:pt x="38" y="31"/>
                  </a:moveTo>
                  <a:cubicBezTo>
                    <a:pt x="33" y="29"/>
                    <a:pt x="29" y="26"/>
                    <a:pt x="24" y="23"/>
                  </a:cubicBezTo>
                  <a:cubicBezTo>
                    <a:pt x="32" y="16"/>
                    <a:pt x="42" y="11"/>
                    <a:pt x="53" y="9"/>
                  </a:cubicBezTo>
                  <a:cubicBezTo>
                    <a:pt x="47" y="15"/>
                    <a:pt x="42" y="23"/>
                    <a:pt x="38" y="31"/>
                  </a:cubicBezTo>
                  <a:close/>
                  <a:moveTo>
                    <a:pt x="40" y="36"/>
                  </a:moveTo>
                  <a:cubicBezTo>
                    <a:pt x="47" y="38"/>
                    <a:pt x="53" y="40"/>
                    <a:pt x="60" y="4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2"/>
                    <a:pt x="38" y="44"/>
                    <a:pt x="40" y="36"/>
                  </a:cubicBezTo>
                  <a:close/>
                  <a:moveTo>
                    <a:pt x="60" y="64"/>
                  </a:moveTo>
                  <a:cubicBezTo>
                    <a:pt x="60" y="88"/>
                    <a:pt x="60" y="88"/>
                    <a:pt x="60" y="88"/>
                  </a:cubicBezTo>
                  <a:cubicBezTo>
                    <a:pt x="54" y="88"/>
                    <a:pt x="48" y="89"/>
                    <a:pt x="42" y="91"/>
                  </a:cubicBezTo>
                  <a:cubicBezTo>
                    <a:pt x="38" y="83"/>
                    <a:pt x="36" y="74"/>
                    <a:pt x="36" y="64"/>
                  </a:cubicBezTo>
                  <a:lnTo>
                    <a:pt x="60" y="64"/>
                  </a:lnTo>
                  <a:close/>
                  <a:moveTo>
                    <a:pt x="53" y="115"/>
                  </a:moveTo>
                  <a:cubicBezTo>
                    <a:pt x="43" y="114"/>
                    <a:pt x="34" y="109"/>
                    <a:pt x="27" y="103"/>
                  </a:cubicBezTo>
                  <a:cubicBezTo>
                    <a:pt x="31" y="100"/>
                    <a:pt x="35" y="98"/>
                    <a:pt x="40" y="96"/>
                  </a:cubicBezTo>
                  <a:cubicBezTo>
                    <a:pt x="43" y="103"/>
                    <a:pt x="48" y="110"/>
                    <a:pt x="53" y="115"/>
                  </a:cubicBezTo>
                  <a:close/>
                  <a:moveTo>
                    <a:pt x="64" y="116"/>
                  </a:moveTo>
                  <a:cubicBezTo>
                    <a:pt x="64" y="92"/>
                    <a:pt x="64" y="92"/>
                    <a:pt x="64" y="92"/>
                  </a:cubicBezTo>
                  <a:cubicBezTo>
                    <a:pt x="70" y="92"/>
                    <a:pt x="75" y="93"/>
                    <a:pt x="81" y="95"/>
                  </a:cubicBezTo>
                  <a:cubicBezTo>
                    <a:pt x="76" y="103"/>
                    <a:pt x="71" y="110"/>
                    <a:pt x="64" y="116"/>
                  </a:cubicBezTo>
                  <a:cubicBezTo>
                    <a:pt x="64" y="116"/>
                    <a:pt x="64" y="116"/>
                    <a:pt x="64" y="116"/>
                  </a:cubicBezTo>
                  <a:close/>
                  <a:moveTo>
                    <a:pt x="84" y="96"/>
                  </a:moveTo>
                  <a:cubicBezTo>
                    <a:pt x="89" y="98"/>
                    <a:pt x="93" y="100"/>
                    <a:pt x="97" y="103"/>
                  </a:cubicBezTo>
                  <a:cubicBezTo>
                    <a:pt x="90" y="109"/>
                    <a:pt x="81" y="114"/>
                    <a:pt x="71" y="115"/>
                  </a:cubicBezTo>
                  <a:cubicBezTo>
                    <a:pt x="76" y="110"/>
                    <a:pt x="81" y="103"/>
                    <a:pt x="84" y="96"/>
                  </a:cubicBezTo>
                  <a:close/>
                  <a:moveTo>
                    <a:pt x="82" y="91"/>
                  </a:moveTo>
                  <a:cubicBezTo>
                    <a:pt x="76" y="89"/>
                    <a:pt x="70" y="88"/>
                    <a:pt x="64" y="88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74"/>
                    <a:pt x="86" y="83"/>
                    <a:pt x="82" y="91"/>
                  </a:cubicBezTo>
                  <a:close/>
                  <a:moveTo>
                    <a:pt x="64" y="6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71" y="40"/>
                    <a:pt x="77" y="38"/>
                    <a:pt x="84" y="36"/>
                  </a:cubicBezTo>
                  <a:cubicBezTo>
                    <a:pt x="86" y="44"/>
                    <a:pt x="88" y="52"/>
                    <a:pt x="88" y="60"/>
                  </a:cubicBezTo>
                  <a:lnTo>
                    <a:pt x="64" y="60"/>
                  </a:lnTo>
                  <a:close/>
                  <a:moveTo>
                    <a:pt x="22" y="26"/>
                  </a:moveTo>
                  <a:cubicBezTo>
                    <a:pt x="26" y="30"/>
                    <a:pt x="31" y="33"/>
                    <a:pt x="37" y="35"/>
                  </a:cubicBezTo>
                  <a:cubicBezTo>
                    <a:pt x="34" y="43"/>
                    <a:pt x="32" y="51"/>
                    <a:pt x="32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9" y="47"/>
                    <a:pt x="14" y="35"/>
                    <a:pt x="22" y="26"/>
                  </a:cubicBezTo>
                  <a:close/>
                  <a:moveTo>
                    <a:pt x="8" y="64"/>
                  </a:moveTo>
                  <a:cubicBezTo>
                    <a:pt x="32" y="64"/>
                    <a:pt x="32" y="64"/>
                    <a:pt x="32" y="64"/>
                  </a:cubicBezTo>
                  <a:cubicBezTo>
                    <a:pt x="32" y="74"/>
                    <a:pt x="34" y="84"/>
                    <a:pt x="38" y="93"/>
                  </a:cubicBezTo>
                  <a:cubicBezTo>
                    <a:pt x="33" y="95"/>
                    <a:pt x="28" y="97"/>
                    <a:pt x="24" y="100"/>
                  </a:cubicBezTo>
                  <a:cubicBezTo>
                    <a:pt x="15" y="91"/>
                    <a:pt x="9" y="78"/>
                    <a:pt x="8" y="64"/>
                  </a:cubicBezTo>
                  <a:close/>
                  <a:moveTo>
                    <a:pt x="100" y="100"/>
                  </a:moveTo>
                  <a:cubicBezTo>
                    <a:pt x="96" y="97"/>
                    <a:pt x="91" y="95"/>
                    <a:pt x="86" y="93"/>
                  </a:cubicBezTo>
                  <a:cubicBezTo>
                    <a:pt x="90" y="84"/>
                    <a:pt x="92" y="74"/>
                    <a:pt x="9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5" y="78"/>
                    <a:pt x="109" y="91"/>
                    <a:pt x="1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custGeom>
            <a:avLst/>
            <a:gdLst>
              <a:gd name="textAreaLeft" fmla="*/ 0 w 9375840"/>
              <a:gd name="textAreaRight" fmla="*/ 9376200 w 93758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9375207" h="773113">
                <a:moveTo>
                  <a:pt x="8965632" y="0"/>
                </a:moveTo>
                <a:lnTo>
                  <a:pt x="9375207" y="384175"/>
                </a:lnTo>
                <a:lnTo>
                  <a:pt x="8965632" y="773113"/>
                </a:lnTo>
                <a:lnTo>
                  <a:pt x="8965632" y="539751"/>
                </a:lnTo>
                <a:lnTo>
                  <a:pt x="0" y="539751"/>
                </a:lnTo>
                <a:lnTo>
                  <a:pt x="0" y="233363"/>
                </a:lnTo>
                <a:lnTo>
                  <a:pt x="8965632" y="233363"/>
                </a:lnTo>
                <a:lnTo>
                  <a:pt x="8965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custGeom>
            <a:avLst/>
            <a:gdLst>
              <a:gd name="textAreaLeft" fmla="*/ 0 w 8234280"/>
              <a:gd name="textAreaRight" fmla="*/ 8234640 w 82342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8233795" h="1465263">
                <a:moveTo>
                  <a:pt x="7824620" y="0"/>
                </a:moveTo>
                <a:lnTo>
                  <a:pt x="8233795" y="410575"/>
                </a:lnTo>
                <a:cubicBezTo>
                  <a:pt x="8233795" y="410575"/>
                  <a:pt x="8233795" y="410575"/>
                  <a:pt x="7967268" y="410575"/>
                </a:cubicBezTo>
                <a:cubicBezTo>
                  <a:pt x="7967268" y="410575"/>
                  <a:pt x="7967268" y="410575"/>
                  <a:pt x="7967268" y="934152"/>
                </a:cubicBezTo>
                <a:cubicBezTo>
                  <a:pt x="7967268" y="1077289"/>
                  <a:pt x="7903452" y="1209125"/>
                  <a:pt x="7809605" y="1310827"/>
                </a:cubicBezTo>
                <a:cubicBezTo>
                  <a:pt x="7712003" y="1401229"/>
                  <a:pt x="7580617" y="1465263"/>
                  <a:pt x="7437969" y="1465263"/>
                </a:cubicBezTo>
                <a:cubicBezTo>
                  <a:pt x="7437969" y="1465263"/>
                  <a:pt x="5174633" y="1465263"/>
                  <a:pt x="52732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147106" y="1160157"/>
                </a:lnTo>
                <a:cubicBezTo>
                  <a:pt x="1434342" y="1160157"/>
                  <a:pt x="4512979" y="1160157"/>
                  <a:pt x="7437969" y="1160157"/>
                </a:cubicBezTo>
                <a:cubicBezTo>
                  <a:pt x="7498031" y="1160157"/>
                  <a:pt x="7554340" y="1133790"/>
                  <a:pt x="7595633" y="1096122"/>
                </a:cubicBezTo>
                <a:cubicBezTo>
                  <a:pt x="7636926" y="1050921"/>
                  <a:pt x="7663203" y="994420"/>
                  <a:pt x="7663203" y="934152"/>
                </a:cubicBezTo>
                <a:cubicBezTo>
                  <a:pt x="7663203" y="934152"/>
                  <a:pt x="7663203" y="934152"/>
                  <a:pt x="7663203" y="410575"/>
                </a:cubicBezTo>
                <a:cubicBezTo>
                  <a:pt x="7663203" y="410575"/>
                  <a:pt x="7663203" y="410575"/>
                  <a:pt x="7419199" y="410575"/>
                </a:cubicBezTo>
                <a:cubicBezTo>
                  <a:pt x="7419199" y="410575"/>
                  <a:pt x="7419199" y="410575"/>
                  <a:pt x="7824620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7697220" h="1465263">
                <a:moveTo>
                  <a:pt x="0" y="0"/>
                </a:moveTo>
                <a:lnTo>
                  <a:pt x="414846" y="0"/>
                </a:lnTo>
                <a:cubicBezTo>
                  <a:pt x="4625178" y="0"/>
                  <a:pt x="6905112" y="0"/>
                  <a:pt x="6905112" y="0"/>
                </a:cubicBezTo>
                <a:cubicBezTo>
                  <a:pt x="7047767" y="0"/>
                  <a:pt x="7179159" y="60268"/>
                  <a:pt x="7276765" y="158203"/>
                </a:cubicBezTo>
                <a:cubicBezTo>
                  <a:pt x="7370617" y="252372"/>
                  <a:pt x="7430682" y="384208"/>
                  <a:pt x="7430682" y="534878"/>
                </a:cubicBezTo>
                <a:cubicBezTo>
                  <a:pt x="7430682" y="1058455"/>
                  <a:pt x="7430682" y="1058455"/>
                  <a:pt x="7430682" y="1058455"/>
                </a:cubicBezTo>
                <a:cubicBezTo>
                  <a:pt x="7697220" y="1058455"/>
                  <a:pt x="7697220" y="1058455"/>
                  <a:pt x="7697220" y="1058455"/>
                </a:cubicBezTo>
                <a:cubicBezTo>
                  <a:pt x="7697220" y="1058455"/>
                  <a:pt x="7697220" y="1058455"/>
                  <a:pt x="7291781" y="1465263"/>
                </a:cubicBezTo>
                <a:cubicBezTo>
                  <a:pt x="6886342" y="1058455"/>
                  <a:pt x="6886342" y="1058455"/>
                  <a:pt x="6886342" y="1058455"/>
                </a:cubicBezTo>
                <a:cubicBezTo>
                  <a:pt x="7130356" y="1058455"/>
                  <a:pt x="7130356" y="1058455"/>
                  <a:pt x="7130356" y="1058455"/>
                </a:cubicBezTo>
                <a:cubicBezTo>
                  <a:pt x="7130356" y="534878"/>
                  <a:pt x="7130356" y="534878"/>
                  <a:pt x="7130356" y="534878"/>
                </a:cubicBezTo>
                <a:cubicBezTo>
                  <a:pt x="7130356" y="470843"/>
                  <a:pt x="7104078" y="414342"/>
                  <a:pt x="7062783" y="372908"/>
                </a:cubicBezTo>
                <a:cubicBezTo>
                  <a:pt x="7017734" y="327707"/>
                  <a:pt x="6965178" y="305106"/>
                  <a:pt x="6905112" y="305106"/>
                </a:cubicBezTo>
                <a:cubicBezTo>
                  <a:pt x="4309411" y="305106"/>
                  <a:pt x="1341969" y="305106"/>
                  <a:pt x="96924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custGeom>
            <a:avLst/>
            <a:gdLst>
              <a:gd name="textAreaLeft" fmla="*/ 0 w 5830920"/>
              <a:gd name="textAreaRight" fmla="*/ 5831280 w 583092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830888" h="1465263">
                <a:moveTo>
                  <a:pt x="5425476" y="0"/>
                </a:moveTo>
                <a:lnTo>
                  <a:pt x="5830888" y="410575"/>
                </a:lnTo>
                <a:cubicBezTo>
                  <a:pt x="5830888" y="410575"/>
                  <a:pt x="5830888" y="410575"/>
                  <a:pt x="5564367" y="410575"/>
                </a:cubicBezTo>
                <a:cubicBezTo>
                  <a:pt x="5564367" y="410575"/>
                  <a:pt x="5564367" y="410575"/>
                  <a:pt x="5564367" y="934152"/>
                </a:cubicBezTo>
                <a:cubicBezTo>
                  <a:pt x="5564367" y="1077289"/>
                  <a:pt x="5504306" y="1209125"/>
                  <a:pt x="5410461" y="1310827"/>
                </a:cubicBezTo>
                <a:cubicBezTo>
                  <a:pt x="5312862" y="1401229"/>
                  <a:pt x="5181478" y="1465263"/>
                  <a:pt x="5038833" y="1465263"/>
                </a:cubicBezTo>
                <a:cubicBezTo>
                  <a:pt x="5038833" y="1465263"/>
                  <a:pt x="3038519" y="1465263"/>
                  <a:pt x="584469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322" y="1160157"/>
                </a:lnTo>
                <a:cubicBezTo>
                  <a:pt x="1058235" y="1160157"/>
                  <a:pt x="3556545" y="1160157"/>
                  <a:pt x="5038833" y="1160157"/>
                </a:cubicBezTo>
                <a:cubicBezTo>
                  <a:pt x="5098894" y="1160157"/>
                  <a:pt x="5151448" y="1133790"/>
                  <a:pt x="5196493" y="1096122"/>
                </a:cubicBezTo>
                <a:cubicBezTo>
                  <a:pt x="5237785" y="1050921"/>
                  <a:pt x="5264062" y="994420"/>
                  <a:pt x="5264062" y="934152"/>
                </a:cubicBezTo>
                <a:cubicBezTo>
                  <a:pt x="5264062" y="934152"/>
                  <a:pt x="5264062" y="934152"/>
                  <a:pt x="5264062" y="410575"/>
                </a:cubicBezTo>
                <a:cubicBezTo>
                  <a:pt x="5264062" y="410575"/>
                  <a:pt x="5264062" y="410575"/>
                  <a:pt x="5020064" y="410575"/>
                </a:cubicBezTo>
                <a:cubicBezTo>
                  <a:pt x="5020064" y="410575"/>
                  <a:pt x="5020064" y="410575"/>
                  <a:pt x="5425476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custGeom>
            <a:avLst/>
            <a:gdLst>
              <a:gd name="textAreaLeft" fmla="*/ 0 w 5302080"/>
              <a:gd name="textAreaRight" fmla="*/ 5302440 w 53020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302250" h="1465263">
                <a:moveTo>
                  <a:pt x="0" y="0"/>
                </a:moveTo>
                <a:lnTo>
                  <a:pt x="427438" y="0"/>
                </a:lnTo>
                <a:cubicBezTo>
                  <a:pt x="2520669" y="0"/>
                  <a:pt x="4506491" y="0"/>
                  <a:pt x="4506491" y="0"/>
                </a:cubicBezTo>
                <a:cubicBezTo>
                  <a:pt x="4649127" y="0"/>
                  <a:pt x="4780502" y="60268"/>
                  <a:pt x="4878095" y="158203"/>
                </a:cubicBezTo>
                <a:cubicBezTo>
                  <a:pt x="4971935" y="252372"/>
                  <a:pt x="5035746" y="384208"/>
                  <a:pt x="5035746" y="534878"/>
                </a:cubicBezTo>
                <a:cubicBezTo>
                  <a:pt x="5035746" y="1058455"/>
                  <a:pt x="5035746" y="1058455"/>
                  <a:pt x="5035746" y="1058455"/>
                </a:cubicBezTo>
                <a:cubicBezTo>
                  <a:pt x="5302250" y="1058455"/>
                  <a:pt x="5302250" y="1058455"/>
                  <a:pt x="5302250" y="1058455"/>
                </a:cubicBezTo>
                <a:cubicBezTo>
                  <a:pt x="5302250" y="1058455"/>
                  <a:pt x="5302250" y="1058455"/>
                  <a:pt x="4893110" y="1465263"/>
                </a:cubicBezTo>
                <a:cubicBezTo>
                  <a:pt x="4487723" y="1058455"/>
                  <a:pt x="4487723" y="1058455"/>
                  <a:pt x="4487723" y="1058455"/>
                </a:cubicBezTo>
                <a:cubicBezTo>
                  <a:pt x="4731706" y="1058455"/>
                  <a:pt x="4731706" y="1058455"/>
                  <a:pt x="4731706" y="1058455"/>
                </a:cubicBezTo>
                <a:cubicBezTo>
                  <a:pt x="4731706" y="534878"/>
                  <a:pt x="4731706" y="534878"/>
                  <a:pt x="4731706" y="534878"/>
                </a:cubicBezTo>
                <a:cubicBezTo>
                  <a:pt x="4731706" y="470843"/>
                  <a:pt x="4705431" y="414342"/>
                  <a:pt x="4667895" y="372908"/>
                </a:cubicBezTo>
                <a:cubicBezTo>
                  <a:pt x="4622852" y="327707"/>
                  <a:pt x="4570302" y="305106"/>
                  <a:pt x="4506491" y="305106"/>
                </a:cubicBezTo>
                <a:cubicBezTo>
                  <a:pt x="3422644" y="305106"/>
                  <a:pt x="1318995" y="305106"/>
                  <a:pt x="212978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3117767" h="1465263">
                <a:moveTo>
                  <a:pt x="2712384" y="0"/>
                </a:moveTo>
                <a:lnTo>
                  <a:pt x="3117767" y="410575"/>
                </a:lnTo>
                <a:cubicBezTo>
                  <a:pt x="3117767" y="410575"/>
                  <a:pt x="3117767" y="410575"/>
                  <a:pt x="2851265" y="410575"/>
                </a:cubicBezTo>
                <a:cubicBezTo>
                  <a:pt x="2851265" y="410575"/>
                  <a:pt x="2851265" y="410575"/>
                  <a:pt x="2851265" y="934152"/>
                </a:cubicBezTo>
                <a:cubicBezTo>
                  <a:pt x="2851265" y="1077289"/>
                  <a:pt x="2791208" y="1209125"/>
                  <a:pt x="2697370" y="1310827"/>
                </a:cubicBezTo>
                <a:cubicBezTo>
                  <a:pt x="2599777" y="1401229"/>
                  <a:pt x="2468403" y="1465263"/>
                  <a:pt x="2325768" y="1465263"/>
                </a:cubicBezTo>
                <a:cubicBezTo>
                  <a:pt x="2325768" y="1465263"/>
                  <a:pt x="1525631" y="1465263"/>
                  <a:pt x="31688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439609" y="1160157"/>
                </a:lnTo>
                <a:cubicBezTo>
                  <a:pt x="1123694" y="1160157"/>
                  <a:pt x="1790887" y="1160157"/>
                  <a:pt x="2325768" y="1160157"/>
                </a:cubicBezTo>
                <a:cubicBezTo>
                  <a:pt x="2385825" y="1160157"/>
                  <a:pt x="2438375" y="1133790"/>
                  <a:pt x="2483417" y="1096122"/>
                </a:cubicBezTo>
                <a:cubicBezTo>
                  <a:pt x="2524706" y="1050921"/>
                  <a:pt x="2550981" y="994420"/>
                  <a:pt x="2550981" y="934152"/>
                </a:cubicBezTo>
                <a:cubicBezTo>
                  <a:pt x="2550981" y="934152"/>
                  <a:pt x="2550981" y="934152"/>
                  <a:pt x="2550981" y="410575"/>
                </a:cubicBezTo>
                <a:cubicBezTo>
                  <a:pt x="2550981" y="410575"/>
                  <a:pt x="2550981" y="410575"/>
                  <a:pt x="2307000" y="410575"/>
                </a:cubicBezTo>
                <a:cubicBezTo>
                  <a:pt x="2307000" y="410575"/>
                  <a:pt x="2307000" y="410575"/>
                  <a:pt x="2712384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597150" h="1465263">
                <a:moveTo>
                  <a:pt x="0" y="0"/>
                </a:moveTo>
                <a:lnTo>
                  <a:pt x="31868" y="0"/>
                </a:lnTo>
                <a:cubicBezTo>
                  <a:pt x="1072001" y="0"/>
                  <a:pt x="1801280" y="0"/>
                  <a:pt x="1801280" y="0"/>
                </a:cubicBezTo>
                <a:cubicBezTo>
                  <a:pt x="1943936" y="0"/>
                  <a:pt x="2075329" y="60268"/>
                  <a:pt x="2172936" y="158203"/>
                </a:cubicBezTo>
                <a:cubicBezTo>
                  <a:pt x="2266789" y="252372"/>
                  <a:pt x="2330609" y="384208"/>
                  <a:pt x="2330609" y="534878"/>
                </a:cubicBezTo>
                <a:cubicBezTo>
                  <a:pt x="2330609" y="1058455"/>
                  <a:pt x="2330609" y="1058455"/>
                  <a:pt x="2330609" y="1058455"/>
                </a:cubicBezTo>
                <a:cubicBezTo>
                  <a:pt x="2597150" y="1058455"/>
                  <a:pt x="2597150" y="1058455"/>
                  <a:pt x="2597150" y="1058455"/>
                </a:cubicBezTo>
                <a:cubicBezTo>
                  <a:pt x="2597150" y="1058455"/>
                  <a:pt x="2597150" y="1058455"/>
                  <a:pt x="2187953" y="1465263"/>
                </a:cubicBezTo>
                <a:cubicBezTo>
                  <a:pt x="1782509" y="1058455"/>
                  <a:pt x="1782509" y="1058455"/>
                  <a:pt x="1782509" y="1058455"/>
                </a:cubicBezTo>
                <a:cubicBezTo>
                  <a:pt x="2026526" y="1058455"/>
                  <a:pt x="2026526" y="1058455"/>
                  <a:pt x="2026526" y="1058455"/>
                </a:cubicBezTo>
                <a:cubicBezTo>
                  <a:pt x="2026526" y="534878"/>
                  <a:pt x="2026526" y="534878"/>
                  <a:pt x="2026526" y="534878"/>
                </a:cubicBezTo>
                <a:cubicBezTo>
                  <a:pt x="2026526" y="470843"/>
                  <a:pt x="2000247" y="414342"/>
                  <a:pt x="1962706" y="372908"/>
                </a:cubicBezTo>
                <a:cubicBezTo>
                  <a:pt x="1917657" y="327707"/>
                  <a:pt x="1865099" y="305106"/>
                  <a:pt x="1801280" y="305106"/>
                </a:cubicBezTo>
                <a:cubicBezTo>
                  <a:pt x="1390205" y="305106"/>
                  <a:pt x="833659" y="305106"/>
                  <a:pt x="240510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custGeom>
            <a:avLst/>
            <a:gdLst>
              <a:gd name="textAreaLeft" fmla="*/ 0 w 338400"/>
              <a:gd name="textAreaRight" fmla="*/ 338760 w 338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4" h="60">
                <a:moveTo>
                  <a:pt x="36" y="0"/>
                </a:moveTo>
                <a:cubicBezTo>
                  <a:pt x="12" y="0"/>
                  <a:pt x="0" y="24"/>
                  <a:pt x="0" y="40"/>
                </a:cubicBezTo>
                <a:cubicBezTo>
                  <a:pt x="0" y="44"/>
                  <a:pt x="8" y="52"/>
                  <a:pt x="12" y="40"/>
                </a:cubicBezTo>
                <a:cubicBezTo>
                  <a:pt x="14" y="35"/>
                  <a:pt x="24" y="36"/>
                  <a:pt x="24" y="44"/>
                </a:cubicBezTo>
                <a:cubicBezTo>
                  <a:pt x="24" y="53"/>
                  <a:pt x="28" y="60"/>
                  <a:pt x="36" y="60"/>
                </a:cubicBezTo>
                <a:cubicBezTo>
                  <a:pt x="60" y="60"/>
                  <a:pt x="64" y="40"/>
                  <a:pt x="64" y="28"/>
                </a:cubicBezTo>
                <a:cubicBezTo>
                  <a:pt x="64" y="16"/>
                  <a:pt x="60" y="0"/>
                  <a:pt x="36" y="0"/>
                </a:cubicBezTo>
                <a:close/>
                <a:moveTo>
                  <a:pt x="16" y="29"/>
                </a:moveTo>
                <a:cubicBezTo>
                  <a:pt x="13" y="29"/>
                  <a:pt x="11" y="27"/>
                  <a:pt x="11" y="24"/>
                </a:cubicBezTo>
                <a:cubicBezTo>
                  <a:pt x="11" y="21"/>
                  <a:pt x="13" y="19"/>
                  <a:pt x="16" y="19"/>
                </a:cubicBezTo>
                <a:cubicBezTo>
                  <a:pt x="19" y="19"/>
                  <a:pt x="21" y="21"/>
                  <a:pt x="21" y="24"/>
                </a:cubicBezTo>
                <a:cubicBezTo>
                  <a:pt x="21" y="27"/>
                  <a:pt x="19" y="29"/>
                  <a:pt x="16" y="29"/>
                </a:cubicBezTo>
                <a:close/>
                <a:moveTo>
                  <a:pt x="25" y="14"/>
                </a:moveTo>
                <a:cubicBezTo>
                  <a:pt x="25" y="11"/>
                  <a:pt x="27" y="9"/>
                  <a:pt x="30" y="9"/>
                </a:cubicBezTo>
                <a:cubicBezTo>
                  <a:pt x="33" y="9"/>
                  <a:pt x="35" y="11"/>
                  <a:pt x="35" y="14"/>
                </a:cubicBezTo>
                <a:cubicBezTo>
                  <a:pt x="35" y="17"/>
                  <a:pt x="33" y="19"/>
                  <a:pt x="30" y="19"/>
                </a:cubicBezTo>
                <a:cubicBezTo>
                  <a:pt x="27" y="19"/>
                  <a:pt x="25" y="17"/>
                  <a:pt x="25" y="14"/>
                </a:cubicBezTo>
                <a:close/>
                <a:moveTo>
                  <a:pt x="38" y="49"/>
                </a:moveTo>
                <a:cubicBezTo>
                  <a:pt x="34" y="49"/>
                  <a:pt x="31" y="46"/>
                  <a:pt x="31" y="42"/>
                </a:cubicBezTo>
                <a:cubicBezTo>
                  <a:pt x="31" y="38"/>
                  <a:pt x="34" y="35"/>
                  <a:pt x="38" y="35"/>
                </a:cubicBezTo>
                <a:cubicBezTo>
                  <a:pt x="42" y="35"/>
                  <a:pt x="45" y="38"/>
                  <a:pt x="45" y="42"/>
                </a:cubicBezTo>
                <a:cubicBezTo>
                  <a:pt x="45" y="46"/>
                  <a:pt x="42" y="49"/>
                  <a:pt x="38" y="49"/>
                </a:cubicBezTo>
                <a:close/>
                <a:moveTo>
                  <a:pt x="50" y="37"/>
                </a:moveTo>
                <a:cubicBezTo>
                  <a:pt x="48" y="37"/>
                  <a:pt x="47" y="36"/>
                  <a:pt x="47" y="34"/>
                </a:cubicBezTo>
                <a:cubicBezTo>
                  <a:pt x="47" y="32"/>
                  <a:pt x="48" y="31"/>
                  <a:pt x="50" y="31"/>
                </a:cubicBezTo>
                <a:cubicBezTo>
                  <a:pt x="52" y="31"/>
                  <a:pt x="53" y="32"/>
                  <a:pt x="53" y="34"/>
                </a:cubicBezTo>
                <a:cubicBezTo>
                  <a:pt x="53" y="36"/>
                  <a:pt x="52" y="37"/>
                  <a:pt x="50" y="37"/>
                </a:cubicBezTo>
                <a:close/>
                <a:moveTo>
                  <a:pt x="46" y="25"/>
                </a:moveTo>
                <a:cubicBezTo>
                  <a:pt x="42" y="25"/>
                  <a:pt x="39" y="22"/>
                  <a:pt x="39" y="18"/>
                </a:cubicBezTo>
                <a:cubicBezTo>
                  <a:pt x="39" y="14"/>
                  <a:pt x="42" y="11"/>
                  <a:pt x="46" y="11"/>
                </a:cubicBezTo>
                <a:cubicBezTo>
                  <a:pt x="50" y="11"/>
                  <a:pt x="53" y="14"/>
                  <a:pt x="53" y="18"/>
                </a:cubicBezTo>
                <a:cubicBezTo>
                  <a:pt x="53" y="22"/>
                  <a:pt x="50" y="25"/>
                  <a:pt x="4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custGeom>
            <a:avLst/>
            <a:gdLst>
              <a:gd name="textAreaLeft" fmla="*/ 0 w 2403360"/>
              <a:gd name="textAreaRight" fmla="*/ 2403720 w 2403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>
              <a:gd name="textAreaLeft" fmla="*/ 0 w 2182680"/>
              <a:gd name="textAreaRight" fmla="*/ 2183040 w 218268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custGeom>
            <a:avLst/>
            <a:gdLst>
              <a:gd name="textAreaLeft" fmla="*/ 0 w 2306520"/>
              <a:gd name="textAreaRight" fmla="*/ 2306880 w 2306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8" y="372"/>
                  <a:pt x="373" y="372"/>
                </a:cubicBezTo>
                <a:cubicBezTo>
                  <a:pt x="579" y="372"/>
                  <a:pt x="746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custGeom>
            <a:avLst/>
            <a:gdLst>
              <a:gd name="textAreaLeft" fmla="*/ 0 w 569880"/>
              <a:gd name="textAreaRight" fmla="*/ 570240 w 569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360" h="360">
                <a:moveTo>
                  <a:pt x="0" y="190"/>
                </a:moveTo>
                <a:cubicBezTo>
                  <a:pt x="0" y="189"/>
                  <a:pt x="0" y="188"/>
                  <a:pt x="0" y="188"/>
                </a:cubicBezTo>
                <a:cubicBezTo>
                  <a:pt x="1" y="187"/>
                  <a:pt x="5" y="186"/>
                  <a:pt x="13" y="184"/>
                </a:cubicBezTo>
                <a:cubicBezTo>
                  <a:pt x="15" y="183"/>
                  <a:pt x="17" y="182"/>
                  <a:pt x="19" y="182"/>
                </a:cubicBezTo>
                <a:cubicBezTo>
                  <a:pt x="26" y="180"/>
                  <a:pt x="26" y="180"/>
                  <a:pt x="27" y="179"/>
                </a:cubicBezTo>
                <a:cubicBezTo>
                  <a:pt x="28" y="178"/>
                  <a:pt x="28" y="177"/>
                  <a:pt x="28" y="173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9" y="170"/>
                  <a:pt x="29" y="169"/>
                </a:cubicBezTo>
                <a:cubicBezTo>
                  <a:pt x="29" y="167"/>
                  <a:pt x="28" y="166"/>
                  <a:pt x="28" y="165"/>
                </a:cubicBezTo>
                <a:cubicBezTo>
                  <a:pt x="27" y="165"/>
                  <a:pt x="26" y="164"/>
                  <a:pt x="21" y="162"/>
                </a:cubicBezTo>
                <a:cubicBezTo>
                  <a:pt x="19" y="161"/>
                  <a:pt x="16" y="160"/>
                  <a:pt x="14" y="159"/>
                </a:cubicBezTo>
                <a:cubicBezTo>
                  <a:pt x="7" y="156"/>
                  <a:pt x="3" y="154"/>
                  <a:pt x="2" y="153"/>
                </a:cubicBezTo>
                <a:cubicBezTo>
                  <a:pt x="2" y="153"/>
                  <a:pt x="2" y="152"/>
                  <a:pt x="2" y="152"/>
                </a:cubicBezTo>
                <a:cubicBezTo>
                  <a:pt x="2" y="149"/>
                  <a:pt x="3" y="147"/>
                  <a:pt x="3" y="146"/>
                </a:cubicBezTo>
                <a:cubicBezTo>
                  <a:pt x="4" y="146"/>
                  <a:pt x="9" y="145"/>
                  <a:pt x="16" y="145"/>
                </a:cubicBezTo>
                <a:cubicBezTo>
                  <a:pt x="19" y="145"/>
                  <a:pt x="21" y="145"/>
                  <a:pt x="23" y="145"/>
                </a:cubicBezTo>
                <a:cubicBezTo>
                  <a:pt x="30" y="144"/>
                  <a:pt x="31" y="144"/>
                  <a:pt x="31" y="144"/>
                </a:cubicBezTo>
                <a:cubicBezTo>
                  <a:pt x="32" y="143"/>
                  <a:pt x="33" y="142"/>
                  <a:pt x="34" y="138"/>
                </a:cubicBezTo>
                <a:cubicBezTo>
                  <a:pt x="34" y="138"/>
                  <a:pt x="34" y="138"/>
                  <a:pt x="34" y="138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35"/>
                  <a:pt x="36" y="134"/>
                  <a:pt x="36" y="132"/>
                </a:cubicBezTo>
                <a:cubicBezTo>
                  <a:pt x="36" y="132"/>
                  <a:pt x="35" y="131"/>
                  <a:pt x="35" y="131"/>
                </a:cubicBezTo>
                <a:cubicBezTo>
                  <a:pt x="35" y="130"/>
                  <a:pt x="34" y="129"/>
                  <a:pt x="30" y="126"/>
                </a:cubicBezTo>
                <a:cubicBezTo>
                  <a:pt x="28" y="125"/>
                  <a:pt x="25" y="123"/>
                  <a:pt x="23" y="121"/>
                </a:cubicBezTo>
                <a:cubicBezTo>
                  <a:pt x="18" y="117"/>
                  <a:pt x="14" y="114"/>
                  <a:pt x="13" y="113"/>
                </a:cubicBezTo>
                <a:cubicBezTo>
                  <a:pt x="13" y="111"/>
                  <a:pt x="15" y="107"/>
                  <a:pt x="16" y="106"/>
                </a:cubicBezTo>
                <a:cubicBezTo>
                  <a:pt x="17" y="106"/>
                  <a:pt x="22" y="107"/>
                  <a:pt x="29" y="108"/>
                </a:cubicBezTo>
                <a:cubicBezTo>
                  <a:pt x="31" y="109"/>
                  <a:pt x="34" y="109"/>
                  <a:pt x="36" y="110"/>
                </a:cubicBezTo>
                <a:cubicBezTo>
                  <a:pt x="42" y="111"/>
                  <a:pt x="43" y="111"/>
                  <a:pt x="44" y="111"/>
                </a:cubicBezTo>
                <a:cubicBezTo>
                  <a:pt x="45" y="110"/>
                  <a:pt x="46" y="110"/>
                  <a:pt x="48" y="106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51" y="101"/>
                  <a:pt x="51" y="100"/>
                  <a:pt x="51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0" y="98"/>
                  <a:pt x="50" y="97"/>
                  <a:pt x="46" y="93"/>
                </a:cubicBezTo>
                <a:cubicBezTo>
                  <a:pt x="45" y="91"/>
                  <a:pt x="43" y="89"/>
                  <a:pt x="41" y="87"/>
                </a:cubicBezTo>
                <a:cubicBezTo>
                  <a:pt x="37" y="81"/>
                  <a:pt x="34" y="77"/>
                  <a:pt x="33" y="76"/>
                </a:cubicBezTo>
                <a:cubicBezTo>
                  <a:pt x="34" y="75"/>
                  <a:pt x="36" y="71"/>
                  <a:pt x="37" y="71"/>
                </a:cubicBezTo>
                <a:cubicBezTo>
                  <a:pt x="39" y="71"/>
                  <a:pt x="43" y="72"/>
                  <a:pt x="50" y="75"/>
                </a:cubicBezTo>
                <a:cubicBezTo>
                  <a:pt x="52" y="76"/>
                  <a:pt x="54" y="77"/>
                  <a:pt x="56" y="78"/>
                </a:cubicBezTo>
                <a:cubicBezTo>
                  <a:pt x="62" y="81"/>
                  <a:pt x="63" y="81"/>
                  <a:pt x="64" y="81"/>
                </a:cubicBezTo>
                <a:cubicBezTo>
                  <a:pt x="65" y="81"/>
                  <a:pt x="66" y="80"/>
                  <a:pt x="69" y="77"/>
                </a:cubicBezTo>
                <a:cubicBezTo>
                  <a:pt x="70" y="77"/>
                  <a:pt x="70" y="77"/>
                  <a:pt x="70" y="77"/>
                </a:cubicBezTo>
                <a:cubicBezTo>
                  <a:pt x="70" y="76"/>
                  <a:pt x="70" y="76"/>
                  <a:pt x="70" y="76"/>
                </a:cubicBezTo>
                <a:cubicBezTo>
                  <a:pt x="72" y="74"/>
                  <a:pt x="73" y="73"/>
                  <a:pt x="73" y="71"/>
                </a:cubicBezTo>
                <a:cubicBezTo>
                  <a:pt x="73" y="70"/>
                  <a:pt x="73" y="69"/>
                  <a:pt x="70" y="64"/>
                </a:cubicBezTo>
                <a:cubicBezTo>
                  <a:pt x="69" y="62"/>
                  <a:pt x="68" y="60"/>
                  <a:pt x="67" y="57"/>
                </a:cubicBezTo>
                <a:cubicBezTo>
                  <a:pt x="63" y="51"/>
                  <a:pt x="62" y="46"/>
                  <a:pt x="61" y="45"/>
                </a:cubicBezTo>
                <a:cubicBezTo>
                  <a:pt x="62" y="44"/>
                  <a:pt x="65" y="41"/>
                  <a:pt x="67" y="41"/>
                </a:cubicBezTo>
                <a:cubicBezTo>
                  <a:pt x="68" y="41"/>
                  <a:pt x="71" y="43"/>
                  <a:pt x="77" y="48"/>
                </a:cubicBezTo>
                <a:cubicBezTo>
                  <a:pt x="79" y="50"/>
                  <a:pt x="81" y="51"/>
                  <a:pt x="83" y="52"/>
                </a:cubicBezTo>
                <a:cubicBezTo>
                  <a:pt x="88" y="56"/>
                  <a:pt x="89" y="57"/>
                  <a:pt x="90" y="57"/>
                </a:cubicBezTo>
                <a:cubicBezTo>
                  <a:pt x="91" y="57"/>
                  <a:pt x="92" y="57"/>
                  <a:pt x="95" y="54"/>
                </a:cubicBezTo>
                <a:cubicBezTo>
                  <a:pt x="97" y="54"/>
                  <a:pt x="97" y="54"/>
                  <a:pt x="97" y="54"/>
                </a:cubicBezTo>
                <a:cubicBezTo>
                  <a:pt x="97" y="53"/>
                  <a:pt x="97" y="53"/>
                  <a:pt x="97" y="53"/>
                </a:cubicBezTo>
                <a:cubicBezTo>
                  <a:pt x="100" y="52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8"/>
                  <a:pt x="101" y="46"/>
                  <a:pt x="100" y="42"/>
                </a:cubicBezTo>
                <a:cubicBezTo>
                  <a:pt x="99" y="40"/>
                  <a:pt x="99" y="37"/>
                  <a:pt x="98" y="35"/>
                </a:cubicBezTo>
                <a:cubicBezTo>
                  <a:pt x="97" y="29"/>
                  <a:pt x="96" y="24"/>
                  <a:pt x="96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7" y="20"/>
                  <a:pt x="100" y="18"/>
                  <a:pt x="102" y="18"/>
                </a:cubicBezTo>
                <a:cubicBezTo>
                  <a:pt x="103" y="19"/>
                  <a:pt x="106" y="22"/>
                  <a:pt x="111" y="28"/>
                </a:cubicBezTo>
                <a:cubicBezTo>
                  <a:pt x="112" y="30"/>
                  <a:pt x="114" y="32"/>
                  <a:pt x="115" y="34"/>
                </a:cubicBezTo>
                <a:cubicBezTo>
                  <a:pt x="119" y="39"/>
                  <a:pt x="120" y="39"/>
                  <a:pt x="121" y="40"/>
                </a:cubicBezTo>
                <a:cubicBezTo>
                  <a:pt x="122" y="40"/>
                  <a:pt x="123" y="40"/>
                  <a:pt x="127" y="38"/>
                </a:cubicBezTo>
                <a:cubicBezTo>
                  <a:pt x="129" y="39"/>
                  <a:pt x="129" y="39"/>
                  <a:pt x="129" y="39"/>
                </a:cubicBezTo>
                <a:cubicBezTo>
                  <a:pt x="129" y="38"/>
                  <a:pt x="129" y="38"/>
                  <a:pt x="129" y="38"/>
                </a:cubicBezTo>
                <a:cubicBezTo>
                  <a:pt x="131" y="37"/>
                  <a:pt x="133" y="36"/>
                  <a:pt x="133" y="35"/>
                </a:cubicBezTo>
                <a:cubicBezTo>
                  <a:pt x="134" y="34"/>
                  <a:pt x="134" y="33"/>
                  <a:pt x="134" y="29"/>
                </a:cubicBezTo>
                <a:cubicBezTo>
                  <a:pt x="134" y="25"/>
                  <a:pt x="134" y="25"/>
                  <a:pt x="134" y="25"/>
                </a:cubicBezTo>
                <a:cubicBezTo>
                  <a:pt x="134" y="24"/>
                  <a:pt x="134" y="22"/>
                  <a:pt x="134" y="20"/>
                </a:cubicBezTo>
                <a:cubicBezTo>
                  <a:pt x="134" y="12"/>
                  <a:pt x="134" y="8"/>
                  <a:pt x="135" y="6"/>
                </a:cubicBezTo>
                <a:cubicBezTo>
                  <a:pt x="136" y="5"/>
                  <a:pt x="140" y="4"/>
                  <a:pt x="141" y="5"/>
                </a:cubicBezTo>
                <a:cubicBezTo>
                  <a:pt x="142" y="6"/>
                  <a:pt x="144" y="10"/>
                  <a:pt x="148" y="16"/>
                </a:cubicBezTo>
                <a:cubicBezTo>
                  <a:pt x="149" y="19"/>
                  <a:pt x="150" y="21"/>
                  <a:pt x="151" y="23"/>
                </a:cubicBezTo>
                <a:cubicBezTo>
                  <a:pt x="153" y="29"/>
                  <a:pt x="154" y="29"/>
                  <a:pt x="155" y="30"/>
                </a:cubicBezTo>
                <a:cubicBezTo>
                  <a:pt x="156" y="30"/>
                  <a:pt x="157" y="31"/>
                  <a:pt x="161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7" y="30"/>
                  <a:pt x="168" y="28"/>
                  <a:pt x="168" y="28"/>
                </a:cubicBezTo>
                <a:cubicBezTo>
                  <a:pt x="169" y="27"/>
                  <a:pt x="169" y="26"/>
                  <a:pt x="170" y="21"/>
                </a:cubicBezTo>
                <a:cubicBezTo>
                  <a:pt x="171" y="19"/>
                  <a:pt x="171" y="16"/>
                  <a:pt x="172" y="13"/>
                </a:cubicBezTo>
                <a:cubicBezTo>
                  <a:pt x="174" y="6"/>
                  <a:pt x="176" y="2"/>
                  <a:pt x="176" y="1"/>
                </a:cubicBezTo>
                <a:cubicBezTo>
                  <a:pt x="177" y="0"/>
                  <a:pt x="182" y="0"/>
                  <a:pt x="183" y="1"/>
                </a:cubicBezTo>
                <a:cubicBezTo>
                  <a:pt x="183" y="2"/>
                  <a:pt x="185" y="6"/>
                  <a:pt x="186" y="13"/>
                </a:cubicBezTo>
                <a:cubicBezTo>
                  <a:pt x="187" y="16"/>
                  <a:pt x="187" y="18"/>
                  <a:pt x="188" y="20"/>
                </a:cubicBezTo>
                <a:cubicBezTo>
                  <a:pt x="189" y="27"/>
                  <a:pt x="189" y="27"/>
                  <a:pt x="190" y="28"/>
                </a:cubicBezTo>
                <a:cubicBezTo>
                  <a:pt x="191" y="29"/>
                  <a:pt x="192" y="29"/>
                  <a:pt x="196" y="30"/>
                </a:cubicBezTo>
                <a:cubicBezTo>
                  <a:pt x="197" y="30"/>
                  <a:pt x="197" y="30"/>
                  <a:pt x="197" y="30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2" y="31"/>
                  <a:pt x="203" y="30"/>
                  <a:pt x="204" y="29"/>
                </a:cubicBezTo>
                <a:cubicBezTo>
                  <a:pt x="205" y="29"/>
                  <a:pt x="205" y="28"/>
                  <a:pt x="207" y="23"/>
                </a:cubicBezTo>
                <a:cubicBezTo>
                  <a:pt x="208" y="21"/>
                  <a:pt x="210" y="19"/>
                  <a:pt x="211" y="16"/>
                </a:cubicBezTo>
                <a:cubicBezTo>
                  <a:pt x="214" y="10"/>
                  <a:pt x="217" y="6"/>
                  <a:pt x="218" y="5"/>
                </a:cubicBezTo>
                <a:cubicBezTo>
                  <a:pt x="219" y="4"/>
                  <a:pt x="223" y="5"/>
                  <a:pt x="224" y="6"/>
                </a:cubicBezTo>
                <a:cubicBezTo>
                  <a:pt x="224" y="7"/>
                  <a:pt x="225" y="11"/>
                  <a:pt x="225" y="17"/>
                </a:cubicBezTo>
                <a:cubicBezTo>
                  <a:pt x="225" y="18"/>
                  <a:pt x="225" y="19"/>
                  <a:pt x="225" y="19"/>
                </a:cubicBezTo>
                <a:cubicBezTo>
                  <a:pt x="225" y="22"/>
                  <a:pt x="225" y="24"/>
                  <a:pt x="225" y="26"/>
                </a:cubicBezTo>
                <a:cubicBezTo>
                  <a:pt x="225" y="28"/>
                  <a:pt x="225" y="30"/>
                  <a:pt x="225" y="31"/>
                </a:cubicBezTo>
                <a:cubicBezTo>
                  <a:pt x="225" y="33"/>
                  <a:pt x="225" y="34"/>
                  <a:pt x="225" y="35"/>
                </a:cubicBezTo>
                <a:cubicBezTo>
                  <a:pt x="226" y="35"/>
                  <a:pt x="227" y="36"/>
                  <a:pt x="231" y="37"/>
                </a:cubicBezTo>
                <a:cubicBezTo>
                  <a:pt x="232" y="39"/>
                  <a:pt x="232" y="39"/>
                  <a:pt x="232" y="39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6" y="40"/>
                  <a:pt x="237" y="39"/>
                  <a:pt x="238" y="39"/>
                </a:cubicBezTo>
                <a:cubicBezTo>
                  <a:pt x="239" y="39"/>
                  <a:pt x="239" y="38"/>
                  <a:pt x="243" y="34"/>
                </a:cubicBezTo>
                <a:cubicBezTo>
                  <a:pt x="244" y="32"/>
                  <a:pt x="246" y="30"/>
                  <a:pt x="248" y="28"/>
                </a:cubicBezTo>
                <a:cubicBezTo>
                  <a:pt x="253" y="22"/>
                  <a:pt x="256" y="19"/>
                  <a:pt x="257" y="18"/>
                </a:cubicBezTo>
                <a:cubicBezTo>
                  <a:pt x="259" y="18"/>
                  <a:pt x="262" y="20"/>
                  <a:pt x="263" y="21"/>
                </a:cubicBezTo>
                <a:cubicBezTo>
                  <a:pt x="263" y="23"/>
                  <a:pt x="262" y="28"/>
                  <a:pt x="261" y="34"/>
                </a:cubicBezTo>
                <a:cubicBezTo>
                  <a:pt x="260" y="37"/>
                  <a:pt x="260" y="39"/>
                  <a:pt x="259" y="41"/>
                </a:cubicBezTo>
                <a:cubicBezTo>
                  <a:pt x="258" y="45"/>
                  <a:pt x="257" y="47"/>
                  <a:pt x="257" y="48"/>
                </a:cubicBezTo>
                <a:cubicBezTo>
                  <a:pt x="257" y="48"/>
                  <a:pt x="257" y="48"/>
                  <a:pt x="257" y="48"/>
                </a:cubicBezTo>
                <a:cubicBezTo>
                  <a:pt x="258" y="49"/>
                  <a:pt x="258" y="49"/>
                  <a:pt x="258" y="49"/>
                </a:cubicBezTo>
                <a:cubicBezTo>
                  <a:pt x="258" y="50"/>
                  <a:pt x="259" y="51"/>
                  <a:pt x="262" y="53"/>
                </a:cubicBezTo>
                <a:cubicBezTo>
                  <a:pt x="263" y="55"/>
                  <a:pt x="263" y="55"/>
                  <a:pt x="263" y="55"/>
                </a:cubicBezTo>
                <a:cubicBezTo>
                  <a:pt x="264" y="54"/>
                  <a:pt x="264" y="54"/>
                  <a:pt x="264" y="54"/>
                </a:cubicBezTo>
                <a:cubicBezTo>
                  <a:pt x="267" y="56"/>
                  <a:pt x="268" y="56"/>
                  <a:pt x="269" y="56"/>
                </a:cubicBezTo>
                <a:cubicBezTo>
                  <a:pt x="270" y="56"/>
                  <a:pt x="271" y="56"/>
                  <a:pt x="275" y="52"/>
                </a:cubicBezTo>
                <a:cubicBezTo>
                  <a:pt x="277" y="51"/>
                  <a:pt x="279" y="49"/>
                  <a:pt x="281" y="48"/>
                </a:cubicBezTo>
                <a:cubicBezTo>
                  <a:pt x="287" y="43"/>
                  <a:pt x="291" y="41"/>
                  <a:pt x="293" y="40"/>
                </a:cubicBezTo>
                <a:cubicBezTo>
                  <a:pt x="294" y="41"/>
                  <a:pt x="297" y="43"/>
                  <a:pt x="298" y="45"/>
                </a:cubicBezTo>
                <a:cubicBezTo>
                  <a:pt x="297" y="46"/>
                  <a:pt x="296" y="50"/>
                  <a:pt x="292" y="57"/>
                </a:cubicBezTo>
                <a:cubicBezTo>
                  <a:pt x="291" y="59"/>
                  <a:pt x="290" y="61"/>
                  <a:pt x="289" y="63"/>
                </a:cubicBezTo>
                <a:cubicBezTo>
                  <a:pt x="286" y="68"/>
                  <a:pt x="286" y="69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2"/>
                  <a:pt x="287" y="73"/>
                  <a:pt x="289" y="75"/>
                </a:cubicBezTo>
                <a:cubicBezTo>
                  <a:pt x="290" y="78"/>
                  <a:pt x="290" y="78"/>
                  <a:pt x="290" y="78"/>
                </a:cubicBezTo>
                <a:cubicBezTo>
                  <a:pt x="291" y="77"/>
                  <a:pt x="291" y="77"/>
                  <a:pt x="291" y="77"/>
                </a:cubicBezTo>
                <a:cubicBezTo>
                  <a:pt x="293" y="79"/>
                  <a:pt x="294" y="80"/>
                  <a:pt x="295" y="80"/>
                </a:cubicBezTo>
                <a:cubicBezTo>
                  <a:pt x="296" y="80"/>
                  <a:pt x="297" y="80"/>
                  <a:pt x="302" y="78"/>
                </a:cubicBezTo>
                <a:cubicBezTo>
                  <a:pt x="304" y="77"/>
                  <a:pt x="307" y="76"/>
                  <a:pt x="309" y="75"/>
                </a:cubicBezTo>
                <a:cubicBezTo>
                  <a:pt x="316" y="72"/>
                  <a:pt x="321" y="70"/>
                  <a:pt x="322" y="70"/>
                </a:cubicBezTo>
                <a:cubicBezTo>
                  <a:pt x="323" y="71"/>
                  <a:pt x="326" y="74"/>
                  <a:pt x="326" y="76"/>
                </a:cubicBezTo>
                <a:cubicBezTo>
                  <a:pt x="325" y="77"/>
                  <a:pt x="323" y="80"/>
                  <a:pt x="318" y="86"/>
                </a:cubicBezTo>
                <a:cubicBezTo>
                  <a:pt x="316" y="88"/>
                  <a:pt x="315" y="90"/>
                  <a:pt x="313" y="91"/>
                </a:cubicBezTo>
                <a:cubicBezTo>
                  <a:pt x="309" y="96"/>
                  <a:pt x="308" y="97"/>
                  <a:pt x="308" y="98"/>
                </a:cubicBezTo>
                <a:cubicBezTo>
                  <a:pt x="308" y="98"/>
                  <a:pt x="308" y="98"/>
                  <a:pt x="308" y="98"/>
                </a:cubicBezTo>
                <a:cubicBezTo>
                  <a:pt x="308" y="99"/>
                  <a:pt x="309" y="101"/>
                  <a:pt x="311" y="104"/>
                </a:cubicBezTo>
                <a:cubicBezTo>
                  <a:pt x="311" y="106"/>
                  <a:pt x="311" y="106"/>
                  <a:pt x="311" y="106"/>
                </a:cubicBezTo>
                <a:cubicBezTo>
                  <a:pt x="312" y="106"/>
                  <a:pt x="312" y="106"/>
                  <a:pt x="312" y="106"/>
                </a:cubicBezTo>
                <a:cubicBezTo>
                  <a:pt x="313" y="109"/>
                  <a:pt x="314" y="109"/>
                  <a:pt x="315" y="110"/>
                </a:cubicBezTo>
                <a:cubicBezTo>
                  <a:pt x="316" y="110"/>
                  <a:pt x="317" y="110"/>
                  <a:pt x="323" y="109"/>
                </a:cubicBezTo>
                <a:cubicBezTo>
                  <a:pt x="325" y="108"/>
                  <a:pt x="328" y="108"/>
                  <a:pt x="330" y="107"/>
                </a:cubicBezTo>
                <a:cubicBezTo>
                  <a:pt x="337" y="106"/>
                  <a:pt x="342" y="106"/>
                  <a:pt x="343" y="106"/>
                </a:cubicBezTo>
                <a:cubicBezTo>
                  <a:pt x="344" y="107"/>
                  <a:pt x="346" y="110"/>
                  <a:pt x="346" y="112"/>
                </a:cubicBezTo>
                <a:cubicBezTo>
                  <a:pt x="346" y="112"/>
                  <a:pt x="346" y="112"/>
                  <a:pt x="346" y="112"/>
                </a:cubicBezTo>
                <a:cubicBezTo>
                  <a:pt x="345" y="113"/>
                  <a:pt x="342" y="116"/>
                  <a:pt x="336" y="120"/>
                </a:cubicBezTo>
                <a:cubicBezTo>
                  <a:pt x="334" y="122"/>
                  <a:pt x="332" y="123"/>
                  <a:pt x="330" y="124"/>
                </a:cubicBezTo>
                <a:cubicBezTo>
                  <a:pt x="325" y="128"/>
                  <a:pt x="324" y="129"/>
                  <a:pt x="324" y="130"/>
                </a:cubicBezTo>
                <a:cubicBezTo>
                  <a:pt x="324" y="130"/>
                  <a:pt x="324" y="131"/>
                  <a:pt x="324" y="131"/>
                </a:cubicBezTo>
                <a:cubicBezTo>
                  <a:pt x="324" y="132"/>
                  <a:pt x="324" y="134"/>
                  <a:pt x="325" y="136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5" y="138"/>
                  <a:pt x="325" y="138"/>
                  <a:pt x="325" y="138"/>
                </a:cubicBezTo>
                <a:cubicBezTo>
                  <a:pt x="326" y="141"/>
                  <a:pt x="327" y="142"/>
                  <a:pt x="328" y="143"/>
                </a:cubicBezTo>
                <a:cubicBezTo>
                  <a:pt x="329" y="143"/>
                  <a:pt x="330" y="143"/>
                  <a:pt x="335" y="144"/>
                </a:cubicBezTo>
                <a:cubicBezTo>
                  <a:pt x="338" y="144"/>
                  <a:pt x="340" y="144"/>
                  <a:pt x="343" y="144"/>
                </a:cubicBezTo>
                <a:cubicBezTo>
                  <a:pt x="350" y="145"/>
                  <a:pt x="355" y="145"/>
                  <a:pt x="356" y="146"/>
                </a:cubicBezTo>
                <a:cubicBezTo>
                  <a:pt x="357" y="146"/>
                  <a:pt x="357" y="149"/>
                  <a:pt x="358" y="151"/>
                </a:cubicBezTo>
                <a:cubicBezTo>
                  <a:pt x="358" y="152"/>
                  <a:pt x="357" y="152"/>
                  <a:pt x="357" y="152"/>
                </a:cubicBezTo>
                <a:cubicBezTo>
                  <a:pt x="356" y="153"/>
                  <a:pt x="352" y="155"/>
                  <a:pt x="345" y="158"/>
                </a:cubicBezTo>
                <a:cubicBezTo>
                  <a:pt x="343" y="159"/>
                  <a:pt x="341" y="160"/>
                  <a:pt x="339" y="161"/>
                </a:cubicBezTo>
                <a:cubicBezTo>
                  <a:pt x="333" y="163"/>
                  <a:pt x="332" y="163"/>
                  <a:pt x="332" y="164"/>
                </a:cubicBezTo>
                <a:cubicBezTo>
                  <a:pt x="331" y="165"/>
                  <a:pt x="331" y="166"/>
                  <a:pt x="331" y="168"/>
                </a:cubicBezTo>
                <a:cubicBezTo>
                  <a:pt x="331" y="169"/>
                  <a:pt x="331" y="170"/>
                  <a:pt x="331" y="170"/>
                </a:cubicBezTo>
                <a:cubicBezTo>
                  <a:pt x="330" y="173"/>
                  <a:pt x="330" y="173"/>
                  <a:pt x="330" y="173"/>
                </a:cubicBezTo>
                <a:cubicBezTo>
                  <a:pt x="331" y="173"/>
                  <a:pt x="331" y="173"/>
                  <a:pt x="331" y="173"/>
                </a:cubicBezTo>
                <a:cubicBezTo>
                  <a:pt x="331" y="175"/>
                  <a:pt x="332" y="177"/>
                  <a:pt x="333" y="178"/>
                </a:cubicBezTo>
                <a:cubicBezTo>
                  <a:pt x="333" y="179"/>
                  <a:pt x="334" y="179"/>
                  <a:pt x="340" y="180"/>
                </a:cubicBezTo>
                <a:cubicBezTo>
                  <a:pt x="342" y="181"/>
                  <a:pt x="344" y="182"/>
                  <a:pt x="347" y="183"/>
                </a:cubicBezTo>
                <a:cubicBezTo>
                  <a:pt x="354" y="185"/>
                  <a:pt x="358" y="187"/>
                  <a:pt x="359" y="187"/>
                </a:cubicBezTo>
                <a:cubicBezTo>
                  <a:pt x="360" y="188"/>
                  <a:pt x="360" y="189"/>
                  <a:pt x="360" y="190"/>
                </a:cubicBezTo>
                <a:cubicBezTo>
                  <a:pt x="360" y="192"/>
                  <a:pt x="359" y="193"/>
                  <a:pt x="359" y="194"/>
                </a:cubicBezTo>
                <a:cubicBezTo>
                  <a:pt x="358" y="194"/>
                  <a:pt x="354" y="196"/>
                  <a:pt x="346" y="197"/>
                </a:cubicBezTo>
                <a:cubicBezTo>
                  <a:pt x="344" y="197"/>
                  <a:pt x="341" y="198"/>
                  <a:pt x="339" y="198"/>
                </a:cubicBezTo>
                <a:cubicBezTo>
                  <a:pt x="333" y="199"/>
                  <a:pt x="332" y="199"/>
                  <a:pt x="331" y="200"/>
                </a:cubicBezTo>
                <a:cubicBezTo>
                  <a:pt x="331" y="201"/>
                  <a:pt x="330" y="202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8"/>
                  <a:pt x="329" y="210"/>
                  <a:pt x="329" y="211"/>
                </a:cubicBezTo>
                <a:cubicBezTo>
                  <a:pt x="329" y="212"/>
                  <a:pt x="329" y="213"/>
                  <a:pt x="329" y="213"/>
                </a:cubicBezTo>
                <a:cubicBezTo>
                  <a:pt x="330" y="214"/>
                  <a:pt x="331" y="215"/>
                  <a:pt x="335" y="217"/>
                </a:cubicBezTo>
                <a:cubicBezTo>
                  <a:pt x="337" y="218"/>
                  <a:pt x="340" y="220"/>
                  <a:pt x="342" y="221"/>
                </a:cubicBezTo>
                <a:cubicBezTo>
                  <a:pt x="348" y="225"/>
                  <a:pt x="352" y="228"/>
                  <a:pt x="353" y="229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53" y="231"/>
                  <a:pt x="352" y="234"/>
                  <a:pt x="351" y="235"/>
                </a:cubicBezTo>
                <a:cubicBezTo>
                  <a:pt x="350" y="235"/>
                  <a:pt x="345" y="235"/>
                  <a:pt x="338" y="235"/>
                </a:cubicBezTo>
                <a:cubicBezTo>
                  <a:pt x="335" y="235"/>
                  <a:pt x="333" y="234"/>
                  <a:pt x="331" y="234"/>
                </a:cubicBezTo>
                <a:cubicBezTo>
                  <a:pt x="325" y="234"/>
                  <a:pt x="324" y="234"/>
                  <a:pt x="323" y="234"/>
                </a:cubicBezTo>
                <a:cubicBezTo>
                  <a:pt x="322" y="235"/>
                  <a:pt x="321" y="236"/>
                  <a:pt x="320" y="239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8" y="243"/>
                  <a:pt x="317" y="244"/>
                  <a:pt x="317" y="246"/>
                </a:cubicBezTo>
                <a:cubicBezTo>
                  <a:pt x="317" y="246"/>
                  <a:pt x="317" y="246"/>
                  <a:pt x="318" y="247"/>
                </a:cubicBezTo>
                <a:cubicBezTo>
                  <a:pt x="318" y="248"/>
                  <a:pt x="319" y="248"/>
                  <a:pt x="323" y="252"/>
                </a:cubicBezTo>
                <a:cubicBezTo>
                  <a:pt x="324" y="254"/>
                  <a:pt x="326" y="256"/>
                  <a:pt x="328" y="258"/>
                </a:cubicBezTo>
                <a:cubicBezTo>
                  <a:pt x="334" y="263"/>
                  <a:pt x="337" y="266"/>
                  <a:pt x="337" y="267"/>
                </a:cubicBezTo>
                <a:cubicBezTo>
                  <a:pt x="337" y="269"/>
                  <a:pt x="335" y="272"/>
                  <a:pt x="334" y="273"/>
                </a:cubicBezTo>
                <a:cubicBezTo>
                  <a:pt x="333" y="273"/>
                  <a:pt x="328" y="272"/>
                  <a:pt x="321" y="270"/>
                </a:cubicBezTo>
                <a:cubicBezTo>
                  <a:pt x="319" y="269"/>
                  <a:pt x="317" y="268"/>
                  <a:pt x="315" y="268"/>
                </a:cubicBezTo>
                <a:cubicBezTo>
                  <a:pt x="308" y="266"/>
                  <a:pt x="308" y="265"/>
                  <a:pt x="307" y="266"/>
                </a:cubicBezTo>
                <a:cubicBezTo>
                  <a:pt x="306" y="266"/>
                  <a:pt x="304" y="267"/>
                  <a:pt x="302" y="270"/>
                </a:cubicBezTo>
                <a:cubicBezTo>
                  <a:pt x="301" y="270"/>
                  <a:pt x="301" y="270"/>
                  <a:pt x="301" y="270"/>
                </a:cubicBezTo>
                <a:cubicBezTo>
                  <a:pt x="301" y="271"/>
                  <a:pt x="301" y="271"/>
                  <a:pt x="301" y="271"/>
                </a:cubicBezTo>
                <a:cubicBezTo>
                  <a:pt x="299" y="274"/>
                  <a:pt x="299" y="276"/>
                  <a:pt x="299" y="276"/>
                </a:cubicBezTo>
                <a:cubicBezTo>
                  <a:pt x="299" y="277"/>
                  <a:pt x="299" y="277"/>
                  <a:pt x="299" y="277"/>
                </a:cubicBezTo>
                <a:cubicBezTo>
                  <a:pt x="299" y="278"/>
                  <a:pt x="299" y="279"/>
                  <a:pt x="302" y="283"/>
                </a:cubicBezTo>
                <a:cubicBezTo>
                  <a:pt x="304" y="285"/>
                  <a:pt x="305" y="287"/>
                  <a:pt x="307" y="290"/>
                </a:cubicBezTo>
                <a:cubicBezTo>
                  <a:pt x="310" y="296"/>
                  <a:pt x="313" y="300"/>
                  <a:pt x="313" y="301"/>
                </a:cubicBezTo>
                <a:cubicBezTo>
                  <a:pt x="313" y="303"/>
                  <a:pt x="310" y="306"/>
                  <a:pt x="308" y="306"/>
                </a:cubicBezTo>
                <a:cubicBezTo>
                  <a:pt x="307" y="306"/>
                  <a:pt x="303" y="304"/>
                  <a:pt x="297" y="300"/>
                </a:cubicBezTo>
                <a:cubicBezTo>
                  <a:pt x="295" y="299"/>
                  <a:pt x="293" y="298"/>
                  <a:pt x="291" y="296"/>
                </a:cubicBezTo>
                <a:cubicBezTo>
                  <a:pt x="285" y="293"/>
                  <a:pt x="284" y="293"/>
                  <a:pt x="283" y="293"/>
                </a:cubicBezTo>
                <a:cubicBezTo>
                  <a:pt x="282" y="293"/>
                  <a:pt x="281" y="293"/>
                  <a:pt x="278" y="296"/>
                </a:cubicBezTo>
                <a:cubicBezTo>
                  <a:pt x="277" y="296"/>
                  <a:pt x="277" y="296"/>
                  <a:pt x="277" y="296"/>
                </a:cubicBezTo>
                <a:cubicBezTo>
                  <a:pt x="277" y="297"/>
                  <a:pt x="277" y="297"/>
                  <a:pt x="277" y="297"/>
                </a:cubicBezTo>
                <a:cubicBezTo>
                  <a:pt x="274" y="299"/>
                  <a:pt x="273" y="301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3"/>
                  <a:pt x="274" y="304"/>
                  <a:pt x="275" y="309"/>
                </a:cubicBezTo>
                <a:cubicBezTo>
                  <a:pt x="276" y="311"/>
                  <a:pt x="277" y="313"/>
                  <a:pt x="278" y="316"/>
                </a:cubicBezTo>
                <a:cubicBezTo>
                  <a:pt x="280" y="322"/>
                  <a:pt x="282" y="327"/>
                  <a:pt x="282" y="329"/>
                </a:cubicBezTo>
                <a:cubicBezTo>
                  <a:pt x="281" y="330"/>
                  <a:pt x="277" y="332"/>
                  <a:pt x="276" y="332"/>
                </a:cubicBezTo>
                <a:cubicBezTo>
                  <a:pt x="275" y="332"/>
                  <a:pt x="271" y="329"/>
                  <a:pt x="266" y="324"/>
                </a:cubicBezTo>
                <a:cubicBezTo>
                  <a:pt x="264" y="322"/>
                  <a:pt x="263" y="320"/>
                  <a:pt x="261" y="319"/>
                </a:cubicBezTo>
                <a:cubicBezTo>
                  <a:pt x="256" y="314"/>
                  <a:pt x="256" y="314"/>
                  <a:pt x="255" y="314"/>
                </a:cubicBezTo>
                <a:cubicBezTo>
                  <a:pt x="254" y="313"/>
                  <a:pt x="252" y="314"/>
                  <a:pt x="249" y="316"/>
                </a:cubicBezTo>
                <a:cubicBezTo>
                  <a:pt x="247" y="315"/>
                  <a:pt x="247" y="315"/>
                  <a:pt x="247" y="315"/>
                </a:cubicBezTo>
                <a:cubicBezTo>
                  <a:pt x="247" y="316"/>
                  <a:pt x="247" y="316"/>
                  <a:pt x="247" y="316"/>
                </a:cubicBezTo>
                <a:cubicBezTo>
                  <a:pt x="245" y="317"/>
                  <a:pt x="243" y="319"/>
                  <a:pt x="243" y="320"/>
                </a:cubicBezTo>
                <a:cubicBezTo>
                  <a:pt x="243" y="320"/>
                  <a:pt x="243" y="321"/>
                  <a:pt x="243" y="321"/>
                </a:cubicBezTo>
                <a:cubicBezTo>
                  <a:pt x="243" y="322"/>
                  <a:pt x="243" y="324"/>
                  <a:pt x="243" y="327"/>
                </a:cubicBezTo>
                <a:cubicBezTo>
                  <a:pt x="243" y="329"/>
                  <a:pt x="244" y="332"/>
                  <a:pt x="244" y="335"/>
                </a:cubicBezTo>
                <a:cubicBezTo>
                  <a:pt x="245" y="339"/>
                  <a:pt x="245" y="343"/>
                  <a:pt x="245" y="346"/>
                </a:cubicBezTo>
                <a:cubicBezTo>
                  <a:pt x="245" y="347"/>
                  <a:pt x="245" y="348"/>
                  <a:pt x="245" y="348"/>
                </a:cubicBezTo>
                <a:cubicBezTo>
                  <a:pt x="244" y="349"/>
                  <a:pt x="240" y="351"/>
                  <a:pt x="238" y="351"/>
                </a:cubicBezTo>
                <a:cubicBezTo>
                  <a:pt x="238" y="350"/>
                  <a:pt x="235" y="346"/>
                  <a:pt x="231" y="340"/>
                </a:cubicBezTo>
                <a:cubicBezTo>
                  <a:pt x="229" y="338"/>
                  <a:pt x="228" y="336"/>
                  <a:pt x="227" y="334"/>
                </a:cubicBezTo>
                <a:cubicBezTo>
                  <a:pt x="224" y="328"/>
                  <a:pt x="223" y="328"/>
                  <a:pt x="222" y="327"/>
                </a:cubicBezTo>
                <a:cubicBezTo>
                  <a:pt x="221" y="327"/>
                  <a:pt x="220" y="327"/>
                  <a:pt x="216" y="328"/>
                </a:cubicBezTo>
                <a:cubicBezTo>
                  <a:pt x="214" y="327"/>
                  <a:pt x="214" y="327"/>
                  <a:pt x="214" y="327"/>
                </a:cubicBezTo>
                <a:cubicBezTo>
                  <a:pt x="214" y="328"/>
                  <a:pt x="214" y="328"/>
                  <a:pt x="214" y="328"/>
                </a:cubicBezTo>
                <a:cubicBezTo>
                  <a:pt x="211" y="329"/>
                  <a:pt x="210" y="330"/>
                  <a:pt x="209" y="331"/>
                </a:cubicBezTo>
                <a:cubicBezTo>
                  <a:pt x="208" y="331"/>
                  <a:pt x="208" y="332"/>
                  <a:pt x="208" y="338"/>
                </a:cubicBezTo>
                <a:cubicBezTo>
                  <a:pt x="207" y="340"/>
                  <a:pt x="207" y="343"/>
                  <a:pt x="207" y="346"/>
                </a:cubicBezTo>
                <a:cubicBezTo>
                  <a:pt x="206" y="353"/>
                  <a:pt x="205" y="357"/>
                  <a:pt x="204" y="359"/>
                </a:cubicBezTo>
                <a:cubicBezTo>
                  <a:pt x="203" y="359"/>
                  <a:pt x="199" y="360"/>
                  <a:pt x="198" y="359"/>
                </a:cubicBezTo>
                <a:cubicBezTo>
                  <a:pt x="197" y="358"/>
                  <a:pt x="195" y="354"/>
                  <a:pt x="193" y="347"/>
                </a:cubicBezTo>
                <a:cubicBezTo>
                  <a:pt x="192" y="345"/>
                  <a:pt x="191" y="343"/>
                  <a:pt x="190" y="341"/>
                </a:cubicBezTo>
                <a:cubicBezTo>
                  <a:pt x="188" y="335"/>
                  <a:pt x="188" y="334"/>
                  <a:pt x="187" y="333"/>
                </a:cubicBezTo>
                <a:cubicBezTo>
                  <a:pt x="187" y="333"/>
                  <a:pt x="185" y="332"/>
                  <a:pt x="181" y="332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79" y="332"/>
                  <a:pt x="179" y="332"/>
                  <a:pt x="179" y="332"/>
                </a:cubicBezTo>
                <a:cubicBezTo>
                  <a:pt x="175" y="332"/>
                  <a:pt x="174" y="333"/>
                  <a:pt x="173" y="333"/>
                </a:cubicBezTo>
                <a:cubicBezTo>
                  <a:pt x="173" y="334"/>
                  <a:pt x="172" y="335"/>
                  <a:pt x="171" y="340"/>
                </a:cubicBezTo>
                <a:cubicBezTo>
                  <a:pt x="170" y="342"/>
                  <a:pt x="169" y="345"/>
                  <a:pt x="168" y="347"/>
                </a:cubicBezTo>
                <a:cubicBezTo>
                  <a:pt x="165" y="354"/>
                  <a:pt x="163" y="358"/>
                  <a:pt x="163" y="359"/>
                </a:cubicBezTo>
                <a:cubicBezTo>
                  <a:pt x="161" y="360"/>
                  <a:pt x="157" y="360"/>
                  <a:pt x="156" y="359"/>
                </a:cubicBezTo>
                <a:cubicBezTo>
                  <a:pt x="155" y="358"/>
                  <a:pt x="155" y="353"/>
                  <a:pt x="154" y="346"/>
                </a:cubicBezTo>
                <a:cubicBezTo>
                  <a:pt x="153" y="343"/>
                  <a:pt x="153" y="341"/>
                  <a:pt x="153" y="339"/>
                </a:cubicBezTo>
                <a:cubicBezTo>
                  <a:pt x="152" y="332"/>
                  <a:pt x="152" y="331"/>
                  <a:pt x="152" y="331"/>
                </a:cubicBezTo>
                <a:cubicBezTo>
                  <a:pt x="151" y="330"/>
                  <a:pt x="149" y="329"/>
                  <a:pt x="146" y="329"/>
                </a:cubicBezTo>
                <a:cubicBezTo>
                  <a:pt x="145" y="327"/>
                  <a:pt x="145" y="327"/>
                  <a:pt x="145" y="327"/>
                </a:cubicBezTo>
                <a:cubicBezTo>
                  <a:pt x="144" y="328"/>
                  <a:pt x="144" y="328"/>
                  <a:pt x="144" y="328"/>
                </a:cubicBezTo>
                <a:cubicBezTo>
                  <a:pt x="141" y="327"/>
                  <a:pt x="139" y="327"/>
                  <a:pt x="138" y="328"/>
                </a:cubicBezTo>
                <a:cubicBezTo>
                  <a:pt x="138" y="328"/>
                  <a:pt x="137" y="329"/>
                  <a:pt x="134" y="334"/>
                </a:cubicBezTo>
                <a:cubicBezTo>
                  <a:pt x="133" y="336"/>
                  <a:pt x="131" y="338"/>
                  <a:pt x="130" y="340"/>
                </a:cubicBezTo>
                <a:cubicBezTo>
                  <a:pt x="126" y="346"/>
                  <a:pt x="123" y="350"/>
                  <a:pt x="122" y="351"/>
                </a:cubicBezTo>
                <a:cubicBezTo>
                  <a:pt x="120" y="351"/>
                  <a:pt x="116" y="349"/>
                  <a:pt x="115" y="348"/>
                </a:cubicBezTo>
                <a:cubicBezTo>
                  <a:pt x="115" y="348"/>
                  <a:pt x="115" y="348"/>
                  <a:pt x="115" y="347"/>
                </a:cubicBezTo>
                <a:cubicBezTo>
                  <a:pt x="115" y="347"/>
                  <a:pt x="115" y="347"/>
                  <a:pt x="115" y="347"/>
                </a:cubicBezTo>
                <a:cubicBezTo>
                  <a:pt x="115" y="345"/>
                  <a:pt x="116" y="340"/>
                  <a:pt x="116" y="335"/>
                </a:cubicBezTo>
                <a:cubicBezTo>
                  <a:pt x="117" y="333"/>
                  <a:pt x="117" y="330"/>
                  <a:pt x="117" y="328"/>
                </a:cubicBezTo>
                <a:cubicBezTo>
                  <a:pt x="118" y="325"/>
                  <a:pt x="118" y="323"/>
                  <a:pt x="118" y="322"/>
                </a:cubicBezTo>
                <a:cubicBezTo>
                  <a:pt x="118" y="321"/>
                  <a:pt x="118" y="321"/>
                  <a:pt x="118" y="320"/>
                </a:cubicBezTo>
                <a:cubicBezTo>
                  <a:pt x="117" y="319"/>
                  <a:pt x="116" y="318"/>
                  <a:pt x="113" y="317"/>
                </a:cubicBezTo>
                <a:cubicBezTo>
                  <a:pt x="112" y="314"/>
                  <a:pt x="112" y="314"/>
                  <a:pt x="112" y="314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08" y="314"/>
                  <a:pt x="107" y="314"/>
                  <a:pt x="106" y="314"/>
                </a:cubicBezTo>
                <a:cubicBezTo>
                  <a:pt x="105" y="315"/>
                  <a:pt x="104" y="315"/>
                  <a:pt x="100" y="319"/>
                </a:cubicBezTo>
                <a:cubicBezTo>
                  <a:pt x="98" y="321"/>
                  <a:pt x="96" y="322"/>
                  <a:pt x="94" y="324"/>
                </a:cubicBezTo>
                <a:cubicBezTo>
                  <a:pt x="89" y="329"/>
                  <a:pt x="85" y="332"/>
                  <a:pt x="84" y="333"/>
                </a:cubicBezTo>
                <a:cubicBezTo>
                  <a:pt x="83" y="333"/>
                  <a:pt x="79" y="330"/>
                  <a:pt x="78" y="329"/>
                </a:cubicBezTo>
                <a:cubicBezTo>
                  <a:pt x="79" y="328"/>
                  <a:pt x="80" y="323"/>
                  <a:pt x="82" y="316"/>
                </a:cubicBezTo>
                <a:cubicBezTo>
                  <a:pt x="83" y="314"/>
                  <a:pt x="84" y="312"/>
                  <a:pt x="85" y="310"/>
                </a:cubicBezTo>
                <a:cubicBezTo>
                  <a:pt x="87" y="305"/>
                  <a:pt x="87" y="304"/>
                  <a:pt x="87" y="303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1"/>
                  <a:pt x="86" y="300"/>
                  <a:pt x="83" y="298"/>
                </a:cubicBezTo>
                <a:cubicBezTo>
                  <a:pt x="83" y="296"/>
                  <a:pt x="83" y="296"/>
                  <a:pt x="83" y="296"/>
                </a:cubicBezTo>
                <a:cubicBezTo>
                  <a:pt x="82" y="296"/>
                  <a:pt x="82" y="296"/>
                  <a:pt x="82" y="296"/>
                </a:cubicBezTo>
                <a:cubicBezTo>
                  <a:pt x="79" y="294"/>
                  <a:pt x="78" y="293"/>
                  <a:pt x="77" y="294"/>
                </a:cubicBezTo>
                <a:cubicBezTo>
                  <a:pt x="76" y="294"/>
                  <a:pt x="75" y="294"/>
                  <a:pt x="70" y="297"/>
                </a:cubicBezTo>
                <a:cubicBezTo>
                  <a:pt x="68" y="298"/>
                  <a:pt x="66" y="299"/>
                  <a:pt x="63" y="301"/>
                </a:cubicBezTo>
                <a:cubicBezTo>
                  <a:pt x="57" y="304"/>
                  <a:pt x="53" y="306"/>
                  <a:pt x="52" y="307"/>
                </a:cubicBezTo>
                <a:cubicBezTo>
                  <a:pt x="50" y="306"/>
                  <a:pt x="47" y="303"/>
                  <a:pt x="47" y="302"/>
                </a:cubicBezTo>
                <a:cubicBezTo>
                  <a:pt x="47" y="301"/>
                  <a:pt x="50" y="296"/>
                  <a:pt x="54" y="290"/>
                </a:cubicBezTo>
                <a:cubicBezTo>
                  <a:pt x="55" y="288"/>
                  <a:pt x="56" y="286"/>
                  <a:pt x="58" y="285"/>
                </a:cubicBezTo>
                <a:cubicBezTo>
                  <a:pt x="61" y="279"/>
                  <a:pt x="62" y="279"/>
                  <a:pt x="62" y="277"/>
                </a:cubicBezTo>
                <a:cubicBezTo>
                  <a:pt x="62" y="276"/>
                  <a:pt x="61" y="275"/>
                  <a:pt x="59" y="272"/>
                </a:cubicBezTo>
                <a:cubicBezTo>
                  <a:pt x="59" y="270"/>
                  <a:pt x="59" y="270"/>
                  <a:pt x="59" y="270"/>
                </a:cubicBezTo>
                <a:cubicBezTo>
                  <a:pt x="58" y="270"/>
                  <a:pt x="58" y="270"/>
                  <a:pt x="58" y="270"/>
                </a:cubicBezTo>
                <a:cubicBezTo>
                  <a:pt x="56" y="267"/>
                  <a:pt x="54" y="267"/>
                  <a:pt x="53" y="267"/>
                </a:cubicBezTo>
                <a:cubicBezTo>
                  <a:pt x="53" y="267"/>
                  <a:pt x="52" y="267"/>
                  <a:pt x="46" y="268"/>
                </a:cubicBezTo>
                <a:cubicBezTo>
                  <a:pt x="44" y="269"/>
                  <a:pt x="41" y="270"/>
                  <a:pt x="39" y="271"/>
                </a:cubicBezTo>
                <a:cubicBezTo>
                  <a:pt x="32" y="273"/>
                  <a:pt x="27" y="274"/>
                  <a:pt x="26" y="274"/>
                </a:cubicBezTo>
                <a:cubicBezTo>
                  <a:pt x="25" y="273"/>
                  <a:pt x="23" y="269"/>
                  <a:pt x="23" y="268"/>
                </a:cubicBezTo>
                <a:cubicBezTo>
                  <a:pt x="23" y="267"/>
                  <a:pt x="26" y="263"/>
                  <a:pt x="32" y="258"/>
                </a:cubicBezTo>
                <a:cubicBezTo>
                  <a:pt x="34" y="257"/>
                  <a:pt x="35" y="255"/>
                  <a:pt x="37" y="254"/>
                </a:cubicBezTo>
                <a:cubicBezTo>
                  <a:pt x="42" y="249"/>
                  <a:pt x="42" y="249"/>
                  <a:pt x="43" y="248"/>
                </a:cubicBezTo>
                <a:cubicBezTo>
                  <a:pt x="43" y="247"/>
                  <a:pt x="43" y="247"/>
                  <a:pt x="43" y="247"/>
                </a:cubicBezTo>
                <a:cubicBezTo>
                  <a:pt x="43" y="246"/>
                  <a:pt x="42" y="244"/>
                  <a:pt x="41" y="242"/>
                </a:cubicBezTo>
                <a:cubicBezTo>
                  <a:pt x="41" y="240"/>
                  <a:pt x="41" y="240"/>
                  <a:pt x="41" y="24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39" y="237"/>
                  <a:pt x="38" y="236"/>
                  <a:pt x="37" y="235"/>
                </a:cubicBezTo>
                <a:cubicBezTo>
                  <a:pt x="36" y="235"/>
                  <a:pt x="35" y="235"/>
                  <a:pt x="30" y="235"/>
                </a:cubicBezTo>
                <a:cubicBezTo>
                  <a:pt x="27" y="235"/>
                  <a:pt x="25" y="236"/>
                  <a:pt x="22" y="236"/>
                </a:cubicBezTo>
                <a:cubicBezTo>
                  <a:pt x="15" y="236"/>
                  <a:pt x="10" y="236"/>
                  <a:pt x="9" y="236"/>
                </a:cubicBezTo>
                <a:cubicBezTo>
                  <a:pt x="8" y="235"/>
                  <a:pt x="7" y="232"/>
                  <a:pt x="7" y="230"/>
                </a:cubicBezTo>
                <a:cubicBezTo>
                  <a:pt x="7" y="229"/>
                  <a:pt x="7" y="229"/>
                  <a:pt x="7" y="229"/>
                </a:cubicBezTo>
                <a:cubicBezTo>
                  <a:pt x="8" y="228"/>
                  <a:pt x="11" y="226"/>
                  <a:pt x="18" y="222"/>
                </a:cubicBezTo>
                <a:cubicBezTo>
                  <a:pt x="20" y="221"/>
                  <a:pt x="22" y="220"/>
                  <a:pt x="24" y="219"/>
                </a:cubicBezTo>
                <a:cubicBezTo>
                  <a:pt x="30" y="216"/>
                  <a:pt x="30" y="215"/>
                  <a:pt x="31" y="214"/>
                </a:cubicBezTo>
                <a:cubicBezTo>
                  <a:pt x="31" y="214"/>
                  <a:pt x="31" y="213"/>
                  <a:pt x="31" y="212"/>
                </a:cubicBezTo>
                <a:cubicBezTo>
                  <a:pt x="31" y="211"/>
                  <a:pt x="31" y="209"/>
                  <a:pt x="30" y="208"/>
                </a:cubicBezTo>
                <a:cubicBezTo>
                  <a:pt x="31" y="206"/>
                  <a:pt x="31" y="206"/>
                  <a:pt x="31" y="206"/>
                </a:cubicBezTo>
                <a:cubicBezTo>
                  <a:pt x="30" y="206"/>
                  <a:pt x="30" y="206"/>
                  <a:pt x="30" y="206"/>
                </a:cubicBezTo>
                <a:cubicBezTo>
                  <a:pt x="30" y="203"/>
                  <a:pt x="29" y="201"/>
                  <a:pt x="28" y="201"/>
                </a:cubicBezTo>
                <a:cubicBezTo>
                  <a:pt x="27" y="200"/>
                  <a:pt x="27" y="200"/>
                  <a:pt x="21" y="199"/>
                </a:cubicBezTo>
                <a:cubicBezTo>
                  <a:pt x="19" y="199"/>
                  <a:pt x="16" y="198"/>
                  <a:pt x="13" y="198"/>
                </a:cubicBezTo>
                <a:cubicBezTo>
                  <a:pt x="6" y="196"/>
                  <a:pt x="2" y="195"/>
                  <a:pt x="1" y="195"/>
                </a:cubicBezTo>
                <a:cubicBezTo>
                  <a:pt x="0" y="194"/>
                  <a:pt x="0" y="192"/>
                  <a:pt x="0" y="190"/>
                </a:cubicBezTo>
                <a:close/>
                <a:moveTo>
                  <a:pt x="288" y="180"/>
                </a:moveTo>
                <a:cubicBezTo>
                  <a:pt x="288" y="120"/>
                  <a:pt x="239" y="71"/>
                  <a:pt x="179" y="71"/>
                </a:cubicBezTo>
                <a:cubicBezTo>
                  <a:pt x="120" y="72"/>
                  <a:pt x="71" y="121"/>
                  <a:pt x="71" y="180"/>
                </a:cubicBezTo>
                <a:cubicBezTo>
                  <a:pt x="71" y="240"/>
                  <a:pt x="120" y="289"/>
                  <a:pt x="180" y="289"/>
                </a:cubicBezTo>
                <a:cubicBezTo>
                  <a:pt x="240" y="288"/>
                  <a:pt x="289" y="239"/>
                  <a:pt x="288" y="18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" h="314">
                <a:moveTo>
                  <a:pt x="0" y="165"/>
                </a:moveTo>
                <a:cubicBezTo>
                  <a:pt x="0" y="164"/>
                  <a:pt x="0" y="163"/>
                  <a:pt x="0" y="163"/>
                </a:cubicBezTo>
                <a:cubicBezTo>
                  <a:pt x="1" y="162"/>
                  <a:pt x="5" y="161"/>
                  <a:pt x="11" y="159"/>
                </a:cubicBezTo>
                <a:cubicBezTo>
                  <a:pt x="13" y="159"/>
                  <a:pt x="15" y="158"/>
                  <a:pt x="17" y="157"/>
                </a:cubicBezTo>
                <a:cubicBezTo>
                  <a:pt x="22" y="156"/>
                  <a:pt x="23" y="156"/>
                  <a:pt x="24" y="155"/>
                </a:cubicBezTo>
                <a:cubicBezTo>
                  <a:pt x="24" y="154"/>
                  <a:pt x="25" y="153"/>
                  <a:pt x="25" y="150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8"/>
                  <a:pt x="25" y="146"/>
                </a:cubicBezTo>
                <a:cubicBezTo>
                  <a:pt x="25" y="145"/>
                  <a:pt x="25" y="144"/>
                  <a:pt x="24" y="143"/>
                </a:cubicBezTo>
                <a:cubicBezTo>
                  <a:pt x="24" y="143"/>
                  <a:pt x="23" y="142"/>
                  <a:pt x="18" y="140"/>
                </a:cubicBezTo>
                <a:cubicBezTo>
                  <a:pt x="17" y="140"/>
                  <a:pt x="14" y="139"/>
                  <a:pt x="12" y="138"/>
                </a:cubicBezTo>
                <a:cubicBezTo>
                  <a:pt x="7" y="135"/>
                  <a:pt x="3" y="133"/>
                  <a:pt x="2" y="132"/>
                </a:cubicBezTo>
                <a:cubicBezTo>
                  <a:pt x="2" y="132"/>
                  <a:pt x="2" y="132"/>
                  <a:pt x="2" y="131"/>
                </a:cubicBezTo>
                <a:cubicBezTo>
                  <a:pt x="2" y="129"/>
                  <a:pt x="3" y="127"/>
                  <a:pt x="3" y="127"/>
                </a:cubicBezTo>
                <a:cubicBezTo>
                  <a:pt x="4" y="126"/>
                  <a:pt x="8" y="126"/>
                  <a:pt x="15" y="125"/>
                </a:cubicBezTo>
                <a:cubicBezTo>
                  <a:pt x="17" y="125"/>
                  <a:pt x="19" y="125"/>
                  <a:pt x="21" y="125"/>
                </a:cubicBezTo>
                <a:cubicBezTo>
                  <a:pt x="26" y="125"/>
                  <a:pt x="27" y="125"/>
                  <a:pt x="28" y="124"/>
                </a:cubicBezTo>
                <a:cubicBezTo>
                  <a:pt x="28" y="124"/>
                  <a:pt x="29" y="123"/>
                  <a:pt x="30" y="120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7"/>
                  <a:pt x="31" y="116"/>
                  <a:pt x="31" y="115"/>
                </a:cubicBezTo>
                <a:cubicBezTo>
                  <a:pt x="31" y="114"/>
                  <a:pt x="31" y="113"/>
                  <a:pt x="31" y="113"/>
                </a:cubicBezTo>
                <a:cubicBezTo>
                  <a:pt x="31" y="112"/>
                  <a:pt x="30" y="112"/>
                  <a:pt x="26" y="109"/>
                </a:cubicBezTo>
                <a:cubicBezTo>
                  <a:pt x="24" y="108"/>
                  <a:pt x="22" y="106"/>
                  <a:pt x="21" y="105"/>
                </a:cubicBezTo>
                <a:cubicBezTo>
                  <a:pt x="16" y="101"/>
                  <a:pt x="13" y="98"/>
                  <a:pt x="12" y="97"/>
                </a:cubicBezTo>
                <a:cubicBezTo>
                  <a:pt x="12" y="96"/>
                  <a:pt x="13" y="93"/>
                  <a:pt x="14" y="92"/>
                </a:cubicBezTo>
                <a:cubicBezTo>
                  <a:pt x="15" y="92"/>
                  <a:pt x="19" y="92"/>
                  <a:pt x="26" y="93"/>
                </a:cubicBezTo>
                <a:cubicBezTo>
                  <a:pt x="28" y="94"/>
                  <a:pt x="30" y="94"/>
                  <a:pt x="32" y="95"/>
                </a:cubicBezTo>
                <a:cubicBezTo>
                  <a:pt x="37" y="96"/>
                  <a:pt x="38" y="96"/>
                  <a:pt x="39" y="95"/>
                </a:cubicBezTo>
                <a:cubicBezTo>
                  <a:pt x="39" y="95"/>
                  <a:pt x="40" y="95"/>
                  <a:pt x="42" y="91"/>
                </a:cubicBezTo>
                <a:cubicBezTo>
                  <a:pt x="42" y="91"/>
                  <a:pt x="42" y="91"/>
                  <a:pt x="42" y="91"/>
                </a:cubicBezTo>
                <a:cubicBezTo>
                  <a:pt x="42" y="90"/>
                  <a:pt x="42" y="90"/>
                  <a:pt x="42" y="90"/>
                </a:cubicBezTo>
                <a:cubicBezTo>
                  <a:pt x="45" y="88"/>
                  <a:pt x="45" y="86"/>
                  <a:pt x="45" y="86"/>
                </a:cubicBezTo>
                <a:cubicBezTo>
                  <a:pt x="45" y="86"/>
                  <a:pt x="45" y="85"/>
                  <a:pt x="44" y="85"/>
                </a:cubicBezTo>
                <a:cubicBezTo>
                  <a:pt x="44" y="84"/>
                  <a:pt x="44" y="84"/>
                  <a:pt x="41" y="80"/>
                </a:cubicBezTo>
                <a:cubicBezTo>
                  <a:pt x="39" y="78"/>
                  <a:pt x="38" y="77"/>
                  <a:pt x="36" y="75"/>
                </a:cubicBezTo>
                <a:cubicBezTo>
                  <a:pt x="32" y="70"/>
                  <a:pt x="30" y="66"/>
                  <a:pt x="30" y="65"/>
                </a:cubicBezTo>
                <a:cubicBezTo>
                  <a:pt x="30" y="64"/>
                  <a:pt x="32" y="61"/>
                  <a:pt x="33" y="61"/>
                </a:cubicBezTo>
                <a:cubicBezTo>
                  <a:pt x="34" y="61"/>
                  <a:pt x="38" y="62"/>
                  <a:pt x="44" y="65"/>
                </a:cubicBezTo>
                <a:cubicBezTo>
                  <a:pt x="46" y="66"/>
                  <a:pt x="48" y="67"/>
                  <a:pt x="49" y="67"/>
                </a:cubicBezTo>
                <a:cubicBezTo>
                  <a:pt x="54" y="70"/>
                  <a:pt x="55" y="70"/>
                  <a:pt x="56" y="70"/>
                </a:cubicBezTo>
                <a:cubicBezTo>
                  <a:pt x="57" y="70"/>
                  <a:pt x="58" y="69"/>
                  <a:pt x="60" y="67"/>
                </a:cubicBezTo>
                <a:cubicBezTo>
                  <a:pt x="61" y="66"/>
                  <a:pt x="61" y="66"/>
                  <a:pt x="61" y="66"/>
                </a:cubicBezTo>
                <a:cubicBezTo>
                  <a:pt x="61" y="66"/>
                  <a:pt x="61" y="66"/>
                  <a:pt x="61" y="66"/>
                </a:cubicBezTo>
                <a:cubicBezTo>
                  <a:pt x="63" y="64"/>
                  <a:pt x="64" y="62"/>
                  <a:pt x="64" y="61"/>
                </a:cubicBezTo>
                <a:cubicBezTo>
                  <a:pt x="64" y="60"/>
                  <a:pt x="64" y="60"/>
                  <a:pt x="62" y="55"/>
                </a:cubicBezTo>
                <a:cubicBezTo>
                  <a:pt x="61" y="54"/>
                  <a:pt x="60" y="51"/>
                  <a:pt x="59" y="49"/>
                </a:cubicBezTo>
                <a:cubicBezTo>
                  <a:pt x="56" y="43"/>
                  <a:pt x="54" y="40"/>
                  <a:pt x="54" y="39"/>
                </a:cubicBezTo>
                <a:cubicBezTo>
                  <a:pt x="55" y="37"/>
                  <a:pt x="57" y="35"/>
                  <a:pt x="59" y="35"/>
                </a:cubicBezTo>
                <a:cubicBezTo>
                  <a:pt x="59" y="35"/>
                  <a:pt x="63" y="37"/>
                  <a:pt x="68" y="41"/>
                </a:cubicBezTo>
                <a:cubicBezTo>
                  <a:pt x="70" y="43"/>
                  <a:pt x="71" y="44"/>
                  <a:pt x="73" y="45"/>
                </a:cubicBezTo>
                <a:cubicBezTo>
                  <a:pt x="77" y="48"/>
                  <a:pt x="78" y="49"/>
                  <a:pt x="79" y="49"/>
                </a:cubicBezTo>
                <a:cubicBezTo>
                  <a:pt x="80" y="49"/>
                  <a:pt x="81" y="49"/>
                  <a:pt x="84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6"/>
                  <a:pt x="85" y="46"/>
                  <a:pt x="85" y="46"/>
                </a:cubicBezTo>
                <a:cubicBezTo>
                  <a:pt x="88" y="44"/>
                  <a:pt x="88" y="43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8" y="39"/>
                  <a:pt x="88" y="36"/>
                </a:cubicBezTo>
                <a:cubicBezTo>
                  <a:pt x="87" y="34"/>
                  <a:pt x="87" y="32"/>
                  <a:pt x="86" y="29"/>
                </a:cubicBezTo>
                <a:cubicBezTo>
                  <a:pt x="85" y="24"/>
                  <a:pt x="84" y="20"/>
                  <a:pt x="84" y="18"/>
                </a:cubicBezTo>
                <a:cubicBezTo>
                  <a:pt x="84" y="18"/>
                  <a:pt x="84" y="18"/>
                  <a:pt x="84" y="18"/>
                </a:cubicBezTo>
                <a:cubicBezTo>
                  <a:pt x="85" y="17"/>
                  <a:pt x="88" y="15"/>
                  <a:pt x="89" y="15"/>
                </a:cubicBezTo>
                <a:cubicBezTo>
                  <a:pt x="90" y="16"/>
                  <a:pt x="93" y="19"/>
                  <a:pt x="97" y="24"/>
                </a:cubicBezTo>
                <a:cubicBezTo>
                  <a:pt x="99" y="26"/>
                  <a:pt x="100" y="27"/>
                  <a:pt x="101" y="29"/>
                </a:cubicBezTo>
                <a:cubicBezTo>
                  <a:pt x="104" y="33"/>
                  <a:pt x="105" y="34"/>
                  <a:pt x="106" y="34"/>
                </a:cubicBezTo>
                <a:cubicBezTo>
                  <a:pt x="107" y="34"/>
                  <a:pt x="108" y="34"/>
                  <a:pt x="111" y="33"/>
                </a:cubicBezTo>
                <a:cubicBezTo>
                  <a:pt x="113" y="33"/>
                  <a:pt x="113" y="33"/>
                  <a:pt x="113" y="33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5" y="32"/>
                  <a:pt x="116" y="31"/>
                  <a:pt x="117" y="30"/>
                </a:cubicBezTo>
                <a:cubicBezTo>
                  <a:pt x="117" y="29"/>
                  <a:pt x="117" y="28"/>
                  <a:pt x="117" y="25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7" y="20"/>
                  <a:pt x="117" y="18"/>
                  <a:pt x="117" y="16"/>
                </a:cubicBezTo>
                <a:cubicBezTo>
                  <a:pt x="117" y="10"/>
                  <a:pt x="118" y="6"/>
                  <a:pt x="118" y="5"/>
                </a:cubicBezTo>
                <a:cubicBezTo>
                  <a:pt x="119" y="4"/>
                  <a:pt x="123" y="3"/>
                  <a:pt x="124" y="4"/>
                </a:cubicBezTo>
                <a:cubicBezTo>
                  <a:pt x="125" y="4"/>
                  <a:pt x="127" y="8"/>
                  <a:pt x="129" y="14"/>
                </a:cubicBezTo>
                <a:cubicBezTo>
                  <a:pt x="130" y="16"/>
                  <a:pt x="131" y="18"/>
                  <a:pt x="132" y="19"/>
                </a:cubicBezTo>
                <a:cubicBezTo>
                  <a:pt x="134" y="24"/>
                  <a:pt x="135" y="25"/>
                  <a:pt x="136" y="25"/>
                </a:cubicBezTo>
                <a:cubicBezTo>
                  <a:pt x="136" y="26"/>
                  <a:pt x="138" y="26"/>
                  <a:pt x="141" y="26"/>
                </a:cubicBezTo>
                <a:cubicBezTo>
                  <a:pt x="141" y="26"/>
                  <a:pt x="141" y="26"/>
                  <a:pt x="141" y="26"/>
                </a:cubicBezTo>
                <a:cubicBezTo>
                  <a:pt x="142" y="25"/>
                  <a:pt x="142" y="25"/>
                  <a:pt x="142" y="25"/>
                </a:cubicBezTo>
                <a:cubicBezTo>
                  <a:pt x="146" y="25"/>
                  <a:pt x="147" y="24"/>
                  <a:pt x="147" y="24"/>
                </a:cubicBezTo>
                <a:cubicBezTo>
                  <a:pt x="148" y="23"/>
                  <a:pt x="148" y="22"/>
                  <a:pt x="149" y="18"/>
                </a:cubicBezTo>
                <a:cubicBezTo>
                  <a:pt x="150" y="16"/>
                  <a:pt x="150" y="14"/>
                  <a:pt x="151" y="11"/>
                </a:cubicBezTo>
                <a:cubicBezTo>
                  <a:pt x="152" y="5"/>
                  <a:pt x="154" y="1"/>
                  <a:pt x="154" y="0"/>
                </a:cubicBezTo>
                <a:cubicBezTo>
                  <a:pt x="155" y="0"/>
                  <a:pt x="159" y="0"/>
                  <a:pt x="160" y="0"/>
                </a:cubicBezTo>
                <a:cubicBezTo>
                  <a:pt x="161" y="1"/>
                  <a:pt x="162" y="5"/>
                  <a:pt x="163" y="11"/>
                </a:cubicBezTo>
                <a:cubicBezTo>
                  <a:pt x="164" y="13"/>
                  <a:pt x="164" y="15"/>
                  <a:pt x="165" y="17"/>
                </a:cubicBezTo>
                <a:cubicBezTo>
                  <a:pt x="166" y="23"/>
                  <a:pt x="166" y="23"/>
                  <a:pt x="167" y="24"/>
                </a:cubicBezTo>
                <a:cubicBezTo>
                  <a:pt x="167" y="25"/>
                  <a:pt x="168" y="25"/>
                  <a:pt x="172" y="25"/>
                </a:cubicBezTo>
                <a:cubicBezTo>
                  <a:pt x="172" y="26"/>
                  <a:pt x="172" y="26"/>
                  <a:pt x="172" y="26"/>
                </a:cubicBezTo>
                <a:cubicBezTo>
                  <a:pt x="173" y="26"/>
                  <a:pt x="173" y="26"/>
                  <a:pt x="173" y="26"/>
                </a:cubicBezTo>
                <a:cubicBezTo>
                  <a:pt x="176" y="26"/>
                  <a:pt x="178" y="26"/>
                  <a:pt x="178" y="25"/>
                </a:cubicBezTo>
                <a:cubicBezTo>
                  <a:pt x="179" y="25"/>
                  <a:pt x="179" y="24"/>
                  <a:pt x="182" y="20"/>
                </a:cubicBezTo>
                <a:cubicBezTo>
                  <a:pt x="182" y="18"/>
                  <a:pt x="183" y="16"/>
                  <a:pt x="185" y="14"/>
                </a:cubicBezTo>
                <a:cubicBezTo>
                  <a:pt x="188" y="8"/>
                  <a:pt x="190" y="5"/>
                  <a:pt x="190" y="4"/>
                </a:cubicBezTo>
                <a:cubicBezTo>
                  <a:pt x="192" y="4"/>
                  <a:pt x="195" y="4"/>
                  <a:pt x="196" y="5"/>
                </a:cubicBezTo>
                <a:cubicBezTo>
                  <a:pt x="196" y="6"/>
                  <a:pt x="197" y="9"/>
                  <a:pt x="197" y="15"/>
                </a:cubicBezTo>
                <a:cubicBezTo>
                  <a:pt x="197" y="15"/>
                  <a:pt x="197" y="16"/>
                  <a:pt x="197" y="17"/>
                </a:cubicBezTo>
                <a:cubicBezTo>
                  <a:pt x="197" y="19"/>
                  <a:pt x="197" y="21"/>
                  <a:pt x="197" y="23"/>
                </a:cubicBezTo>
                <a:cubicBezTo>
                  <a:pt x="197" y="24"/>
                  <a:pt x="196" y="26"/>
                  <a:pt x="196" y="27"/>
                </a:cubicBezTo>
                <a:cubicBezTo>
                  <a:pt x="196" y="29"/>
                  <a:pt x="197" y="29"/>
                  <a:pt x="197" y="30"/>
                </a:cubicBezTo>
                <a:cubicBezTo>
                  <a:pt x="197" y="31"/>
                  <a:pt x="198" y="31"/>
                  <a:pt x="202" y="32"/>
                </a:cubicBezTo>
                <a:cubicBezTo>
                  <a:pt x="203" y="34"/>
                  <a:pt x="203" y="34"/>
                  <a:pt x="203" y="34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6" y="34"/>
                  <a:pt x="207" y="34"/>
                  <a:pt x="208" y="34"/>
                </a:cubicBezTo>
                <a:cubicBezTo>
                  <a:pt x="209" y="33"/>
                  <a:pt x="209" y="33"/>
                  <a:pt x="212" y="29"/>
                </a:cubicBezTo>
                <a:cubicBezTo>
                  <a:pt x="214" y="28"/>
                  <a:pt x="215" y="26"/>
                  <a:pt x="217" y="24"/>
                </a:cubicBezTo>
                <a:cubicBezTo>
                  <a:pt x="221" y="19"/>
                  <a:pt x="224" y="16"/>
                  <a:pt x="225" y="16"/>
                </a:cubicBezTo>
                <a:cubicBezTo>
                  <a:pt x="226" y="16"/>
                  <a:pt x="229" y="17"/>
                  <a:pt x="230" y="18"/>
                </a:cubicBezTo>
                <a:cubicBezTo>
                  <a:pt x="230" y="20"/>
                  <a:pt x="229" y="24"/>
                  <a:pt x="228" y="30"/>
                </a:cubicBezTo>
                <a:cubicBezTo>
                  <a:pt x="227" y="32"/>
                  <a:pt x="227" y="34"/>
                  <a:pt x="226" y="36"/>
                </a:cubicBezTo>
                <a:cubicBezTo>
                  <a:pt x="225" y="39"/>
                  <a:pt x="225" y="41"/>
                  <a:pt x="225" y="42"/>
                </a:cubicBezTo>
                <a:cubicBezTo>
                  <a:pt x="225" y="42"/>
                  <a:pt x="225" y="42"/>
                  <a:pt x="225" y="42"/>
                </a:cubicBezTo>
                <a:cubicBezTo>
                  <a:pt x="225" y="43"/>
                  <a:pt x="225" y="43"/>
                  <a:pt x="225" y="43"/>
                </a:cubicBezTo>
                <a:cubicBezTo>
                  <a:pt x="225" y="43"/>
                  <a:pt x="226" y="44"/>
                  <a:pt x="229" y="46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3" y="49"/>
                  <a:pt x="234" y="49"/>
                  <a:pt x="235" y="49"/>
                </a:cubicBezTo>
                <a:cubicBezTo>
                  <a:pt x="236" y="49"/>
                  <a:pt x="237" y="48"/>
                  <a:pt x="240" y="45"/>
                </a:cubicBezTo>
                <a:cubicBezTo>
                  <a:pt x="242" y="44"/>
                  <a:pt x="244" y="43"/>
                  <a:pt x="246" y="41"/>
                </a:cubicBezTo>
                <a:cubicBezTo>
                  <a:pt x="251" y="38"/>
                  <a:pt x="255" y="36"/>
                  <a:pt x="256" y="35"/>
                </a:cubicBezTo>
                <a:cubicBezTo>
                  <a:pt x="257" y="36"/>
                  <a:pt x="260" y="38"/>
                  <a:pt x="260" y="39"/>
                </a:cubicBezTo>
                <a:cubicBezTo>
                  <a:pt x="260" y="40"/>
                  <a:pt x="258" y="44"/>
                  <a:pt x="255" y="49"/>
                </a:cubicBezTo>
                <a:cubicBezTo>
                  <a:pt x="254" y="51"/>
                  <a:pt x="253" y="53"/>
                  <a:pt x="253" y="55"/>
                </a:cubicBezTo>
                <a:cubicBezTo>
                  <a:pt x="250" y="59"/>
                  <a:pt x="250" y="60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2"/>
                  <a:pt x="251" y="64"/>
                  <a:pt x="253" y="66"/>
                </a:cubicBezTo>
                <a:cubicBezTo>
                  <a:pt x="253" y="68"/>
                  <a:pt x="253" y="68"/>
                  <a:pt x="253" y="68"/>
                </a:cubicBezTo>
                <a:cubicBezTo>
                  <a:pt x="254" y="67"/>
                  <a:pt x="254" y="67"/>
                  <a:pt x="254" y="67"/>
                </a:cubicBezTo>
                <a:cubicBezTo>
                  <a:pt x="256" y="69"/>
                  <a:pt x="257" y="70"/>
                  <a:pt x="258" y="70"/>
                </a:cubicBezTo>
                <a:cubicBezTo>
                  <a:pt x="259" y="70"/>
                  <a:pt x="259" y="70"/>
                  <a:pt x="264" y="68"/>
                </a:cubicBezTo>
                <a:cubicBezTo>
                  <a:pt x="266" y="67"/>
                  <a:pt x="268" y="66"/>
                  <a:pt x="270" y="65"/>
                </a:cubicBezTo>
                <a:cubicBezTo>
                  <a:pt x="276" y="63"/>
                  <a:pt x="280" y="61"/>
                  <a:pt x="281" y="61"/>
                </a:cubicBezTo>
                <a:cubicBezTo>
                  <a:pt x="282" y="62"/>
                  <a:pt x="284" y="65"/>
                  <a:pt x="285" y="66"/>
                </a:cubicBezTo>
                <a:cubicBezTo>
                  <a:pt x="284" y="67"/>
                  <a:pt x="282" y="70"/>
                  <a:pt x="278" y="75"/>
                </a:cubicBezTo>
                <a:cubicBezTo>
                  <a:pt x="276" y="77"/>
                  <a:pt x="275" y="78"/>
                  <a:pt x="274" y="80"/>
                </a:cubicBezTo>
                <a:cubicBezTo>
                  <a:pt x="270" y="84"/>
                  <a:pt x="269" y="84"/>
                  <a:pt x="269" y="85"/>
                </a:cubicBezTo>
                <a:cubicBezTo>
                  <a:pt x="269" y="86"/>
                  <a:pt x="269" y="86"/>
                  <a:pt x="269" y="86"/>
                </a:cubicBezTo>
                <a:cubicBezTo>
                  <a:pt x="269" y="87"/>
                  <a:pt x="270" y="88"/>
                  <a:pt x="271" y="90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72" y="92"/>
                  <a:pt x="272" y="92"/>
                  <a:pt x="272" y="92"/>
                </a:cubicBezTo>
                <a:cubicBezTo>
                  <a:pt x="274" y="95"/>
                  <a:pt x="275" y="95"/>
                  <a:pt x="275" y="96"/>
                </a:cubicBezTo>
                <a:cubicBezTo>
                  <a:pt x="276" y="96"/>
                  <a:pt x="277" y="96"/>
                  <a:pt x="282" y="95"/>
                </a:cubicBezTo>
                <a:cubicBezTo>
                  <a:pt x="284" y="94"/>
                  <a:pt x="286" y="94"/>
                  <a:pt x="288" y="94"/>
                </a:cubicBezTo>
                <a:cubicBezTo>
                  <a:pt x="295" y="93"/>
                  <a:pt x="299" y="92"/>
                  <a:pt x="300" y="92"/>
                </a:cubicBezTo>
                <a:cubicBezTo>
                  <a:pt x="301" y="93"/>
                  <a:pt x="302" y="96"/>
                  <a:pt x="302" y="98"/>
                </a:cubicBezTo>
                <a:cubicBezTo>
                  <a:pt x="302" y="98"/>
                  <a:pt x="302" y="98"/>
                  <a:pt x="302" y="98"/>
                </a:cubicBezTo>
                <a:cubicBezTo>
                  <a:pt x="301" y="99"/>
                  <a:pt x="298" y="101"/>
                  <a:pt x="293" y="105"/>
                </a:cubicBezTo>
                <a:cubicBezTo>
                  <a:pt x="292" y="106"/>
                  <a:pt x="290" y="108"/>
                  <a:pt x="288" y="109"/>
                </a:cubicBezTo>
                <a:cubicBezTo>
                  <a:pt x="284" y="112"/>
                  <a:pt x="283" y="112"/>
                  <a:pt x="283" y="113"/>
                </a:cubicBezTo>
                <a:cubicBezTo>
                  <a:pt x="283" y="113"/>
                  <a:pt x="283" y="114"/>
                  <a:pt x="283" y="114"/>
                </a:cubicBezTo>
                <a:cubicBezTo>
                  <a:pt x="283" y="115"/>
                  <a:pt x="283" y="117"/>
                  <a:pt x="284" y="118"/>
                </a:cubicBezTo>
                <a:cubicBezTo>
                  <a:pt x="283" y="120"/>
                  <a:pt x="283" y="120"/>
                  <a:pt x="283" y="120"/>
                </a:cubicBezTo>
                <a:cubicBezTo>
                  <a:pt x="284" y="120"/>
                  <a:pt x="284" y="120"/>
                  <a:pt x="284" y="120"/>
                </a:cubicBezTo>
                <a:cubicBezTo>
                  <a:pt x="285" y="123"/>
                  <a:pt x="286" y="124"/>
                  <a:pt x="286" y="124"/>
                </a:cubicBezTo>
                <a:cubicBezTo>
                  <a:pt x="287" y="125"/>
                  <a:pt x="288" y="125"/>
                  <a:pt x="293" y="125"/>
                </a:cubicBezTo>
                <a:cubicBezTo>
                  <a:pt x="295" y="125"/>
                  <a:pt x="297" y="125"/>
                  <a:pt x="299" y="126"/>
                </a:cubicBezTo>
                <a:cubicBezTo>
                  <a:pt x="306" y="126"/>
                  <a:pt x="310" y="127"/>
                  <a:pt x="311" y="127"/>
                </a:cubicBezTo>
                <a:cubicBezTo>
                  <a:pt x="311" y="128"/>
                  <a:pt x="312" y="130"/>
                  <a:pt x="312" y="132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4"/>
                  <a:pt x="307" y="135"/>
                  <a:pt x="301" y="138"/>
                </a:cubicBezTo>
                <a:cubicBezTo>
                  <a:pt x="300" y="139"/>
                  <a:pt x="298" y="139"/>
                  <a:pt x="296" y="140"/>
                </a:cubicBezTo>
                <a:cubicBezTo>
                  <a:pt x="291" y="142"/>
                  <a:pt x="290" y="143"/>
                  <a:pt x="289" y="143"/>
                </a:cubicBezTo>
                <a:cubicBezTo>
                  <a:pt x="289" y="144"/>
                  <a:pt x="289" y="145"/>
                  <a:pt x="289" y="146"/>
                </a:cubicBezTo>
                <a:cubicBezTo>
                  <a:pt x="289" y="147"/>
                  <a:pt x="289" y="148"/>
                  <a:pt x="289" y="149"/>
                </a:cubicBezTo>
                <a:cubicBezTo>
                  <a:pt x="288" y="150"/>
                  <a:pt x="288" y="150"/>
                  <a:pt x="288" y="150"/>
                </a:cubicBezTo>
                <a:cubicBezTo>
                  <a:pt x="289" y="151"/>
                  <a:pt x="289" y="151"/>
                  <a:pt x="289" y="151"/>
                </a:cubicBezTo>
                <a:cubicBezTo>
                  <a:pt x="289" y="153"/>
                  <a:pt x="289" y="154"/>
                  <a:pt x="290" y="155"/>
                </a:cubicBezTo>
                <a:cubicBezTo>
                  <a:pt x="291" y="156"/>
                  <a:pt x="292" y="156"/>
                  <a:pt x="296" y="157"/>
                </a:cubicBezTo>
                <a:cubicBezTo>
                  <a:pt x="298" y="158"/>
                  <a:pt x="301" y="159"/>
                  <a:pt x="303" y="159"/>
                </a:cubicBezTo>
                <a:cubicBezTo>
                  <a:pt x="309" y="161"/>
                  <a:pt x="313" y="163"/>
                  <a:pt x="314" y="163"/>
                </a:cubicBezTo>
                <a:cubicBezTo>
                  <a:pt x="314" y="164"/>
                  <a:pt x="314" y="165"/>
                  <a:pt x="314" y="166"/>
                </a:cubicBezTo>
                <a:cubicBezTo>
                  <a:pt x="314" y="168"/>
                  <a:pt x="314" y="169"/>
                  <a:pt x="313" y="169"/>
                </a:cubicBezTo>
                <a:cubicBezTo>
                  <a:pt x="312" y="170"/>
                  <a:pt x="308" y="171"/>
                  <a:pt x="302" y="172"/>
                </a:cubicBezTo>
                <a:cubicBezTo>
                  <a:pt x="300" y="172"/>
                  <a:pt x="298" y="172"/>
                  <a:pt x="296" y="173"/>
                </a:cubicBezTo>
                <a:cubicBezTo>
                  <a:pt x="290" y="174"/>
                  <a:pt x="290" y="174"/>
                  <a:pt x="289" y="174"/>
                </a:cubicBezTo>
                <a:cubicBezTo>
                  <a:pt x="288" y="175"/>
                  <a:pt x="288" y="176"/>
                  <a:pt x="287" y="179"/>
                </a:cubicBezTo>
                <a:cubicBezTo>
                  <a:pt x="287" y="179"/>
                  <a:pt x="287" y="179"/>
                  <a:pt x="287" y="179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2"/>
                  <a:pt x="287" y="183"/>
                  <a:pt x="287" y="184"/>
                </a:cubicBezTo>
                <a:cubicBezTo>
                  <a:pt x="287" y="185"/>
                  <a:pt x="287" y="185"/>
                  <a:pt x="287" y="186"/>
                </a:cubicBezTo>
                <a:cubicBezTo>
                  <a:pt x="288" y="187"/>
                  <a:pt x="288" y="187"/>
                  <a:pt x="292" y="189"/>
                </a:cubicBezTo>
                <a:cubicBezTo>
                  <a:pt x="294" y="190"/>
                  <a:pt x="296" y="192"/>
                  <a:pt x="298" y="193"/>
                </a:cubicBezTo>
                <a:cubicBezTo>
                  <a:pt x="304" y="196"/>
                  <a:pt x="307" y="199"/>
                  <a:pt x="308" y="199"/>
                </a:cubicBezTo>
                <a:cubicBezTo>
                  <a:pt x="308" y="199"/>
                  <a:pt x="308" y="200"/>
                  <a:pt x="308" y="200"/>
                </a:cubicBezTo>
                <a:cubicBezTo>
                  <a:pt x="308" y="202"/>
                  <a:pt x="307" y="204"/>
                  <a:pt x="306" y="205"/>
                </a:cubicBezTo>
                <a:cubicBezTo>
                  <a:pt x="305" y="205"/>
                  <a:pt x="301" y="205"/>
                  <a:pt x="295" y="205"/>
                </a:cubicBezTo>
                <a:cubicBezTo>
                  <a:pt x="293" y="205"/>
                  <a:pt x="290" y="204"/>
                  <a:pt x="289" y="204"/>
                </a:cubicBezTo>
                <a:cubicBezTo>
                  <a:pt x="283" y="204"/>
                  <a:pt x="282" y="204"/>
                  <a:pt x="281" y="204"/>
                </a:cubicBezTo>
                <a:cubicBezTo>
                  <a:pt x="281" y="205"/>
                  <a:pt x="280" y="206"/>
                  <a:pt x="279" y="209"/>
                </a:cubicBezTo>
                <a:cubicBezTo>
                  <a:pt x="278" y="209"/>
                  <a:pt x="278" y="209"/>
                  <a:pt x="278" y="209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277" y="212"/>
                  <a:pt x="277" y="213"/>
                  <a:pt x="277" y="214"/>
                </a:cubicBezTo>
                <a:cubicBezTo>
                  <a:pt x="277" y="215"/>
                  <a:pt x="277" y="215"/>
                  <a:pt x="277" y="215"/>
                </a:cubicBezTo>
                <a:cubicBezTo>
                  <a:pt x="277" y="216"/>
                  <a:pt x="278" y="217"/>
                  <a:pt x="281" y="220"/>
                </a:cubicBezTo>
                <a:cubicBezTo>
                  <a:pt x="283" y="221"/>
                  <a:pt x="285" y="223"/>
                  <a:pt x="286" y="225"/>
                </a:cubicBezTo>
                <a:cubicBezTo>
                  <a:pt x="291" y="229"/>
                  <a:pt x="293" y="232"/>
                  <a:pt x="294" y="233"/>
                </a:cubicBezTo>
                <a:cubicBezTo>
                  <a:pt x="294" y="234"/>
                  <a:pt x="292" y="238"/>
                  <a:pt x="291" y="238"/>
                </a:cubicBezTo>
                <a:cubicBezTo>
                  <a:pt x="290" y="238"/>
                  <a:pt x="286" y="237"/>
                  <a:pt x="280" y="235"/>
                </a:cubicBezTo>
                <a:cubicBezTo>
                  <a:pt x="278" y="235"/>
                  <a:pt x="276" y="234"/>
                  <a:pt x="274" y="233"/>
                </a:cubicBezTo>
                <a:cubicBezTo>
                  <a:pt x="269" y="232"/>
                  <a:pt x="268" y="231"/>
                  <a:pt x="267" y="232"/>
                </a:cubicBezTo>
                <a:cubicBezTo>
                  <a:pt x="266" y="232"/>
                  <a:pt x="265" y="233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0" y="239"/>
                  <a:pt x="260" y="241"/>
                  <a:pt x="260" y="241"/>
                </a:cubicBezTo>
                <a:cubicBezTo>
                  <a:pt x="260" y="241"/>
                  <a:pt x="260" y="241"/>
                  <a:pt x="260" y="241"/>
                </a:cubicBezTo>
                <a:cubicBezTo>
                  <a:pt x="260" y="242"/>
                  <a:pt x="261" y="243"/>
                  <a:pt x="263" y="247"/>
                </a:cubicBezTo>
                <a:cubicBezTo>
                  <a:pt x="265" y="249"/>
                  <a:pt x="266" y="251"/>
                  <a:pt x="267" y="253"/>
                </a:cubicBezTo>
                <a:cubicBezTo>
                  <a:pt x="270" y="258"/>
                  <a:pt x="272" y="262"/>
                  <a:pt x="273" y="263"/>
                </a:cubicBezTo>
                <a:cubicBezTo>
                  <a:pt x="272" y="264"/>
                  <a:pt x="270" y="267"/>
                  <a:pt x="269" y="267"/>
                </a:cubicBezTo>
                <a:cubicBezTo>
                  <a:pt x="268" y="267"/>
                  <a:pt x="264" y="265"/>
                  <a:pt x="259" y="262"/>
                </a:cubicBezTo>
                <a:cubicBezTo>
                  <a:pt x="257" y="260"/>
                  <a:pt x="255" y="259"/>
                  <a:pt x="253" y="258"/>
                </a:cubicBezTo>
                <a:cubicBezTo>
                  <a:pt x="249" y="255"/>
                  <a:pt x="248" y="255"/>
                  <a:pt x="247" y="255"/>
                </a:cubicBezTo>
                <a:cubicBezTo>
                  <a:pt x="246" y="255"/>
                  <a:pt x="245" y="256"/>
                  <a:pt x="242" y="258"/>
                </a:cubicBezTo>
                <a:cubicBezTo>
                  <a:pt x="241" y="258"/>
                  <a:pt x="241" y="258"/>
                  <a:pt x="241" y="258"/>
                </a:cubicBezTo>
                <a:cubicBezTo>
                  <a:pt x="241" y="259"/>
                  <a:pt x="241" y="259"/>
                  <a:pt x="241" y="259"/>
                </a:cubicBezTo>
                <a:cubicBezTo>
                  <a:pt x="239" y="261"/>
                  <a:pt x="238" y="262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4"/>
                  <a:pt x="238" y="265"/>
                  <a:pt x="240" y="269"/>
                </a:cubicBezTo>
                <a:cubicBezTo>
                  <a:pt x="241" y="271"/>
                  <a:pt x="241" y="273"/>
                  <a:pt x="242" y="275"/>
                </a:cubicBezTo>
                <a:cubicBezTo>
                  <a:pt x="244" y="281"/>
                  <a:pt x="245" y="285"/>
                  <a:pt x="245" y="287"/>
                </a:cubicBezTo>
                <a:cubicBezTo>
                  <a:pt x="245" y="288"/>
                  <a:pt x="242" y="290"/>
                  <a:pt x="240" y="290"/>
                </a:cubicBezTo>
                <a:cubicBezTo>
                  <a:pt x="239" y="289"/>
                  <a:pt x="236" y="287"/>
                  <a:pt x="232" y="282"/>
                </a:cubicBezTo>
                <a:cubicBezTo>
                  <a:pt x="230" y="281"/>
                  <a:pt x="229" y="279"/>
                  <a:pt x="227" y="278"/>
                </a:cubicBezTo>
                <a:cubicBezTo>
                  <a:pt x="223" y="274"/>
                  <a:pt x="223" y="273"/>
                  <a:pt x="222" y="273"/>
                </a:cubicBezTo>
                <a:cubicBezTo>
                  <a:pt x="221" y="273"/>
                  <a:pt x="220" y="273"/>
                  <a:pt x="217" y="275"/>
                </a:cubicBezTo>
                <a:cubicBezTo>
                  <a:pt x="215" y="275"/>
                  <a:pt x="215" y="275"/>
                  <a:pt x="215" y="275"/>
                </a:cubicBezTo>
                <a:cubicBezTo>
                  <a:pt x="215" y="276"/>
                  <a:pt x="215" y="276"/>
                  <a:pt x="215" y="276"/>
                </a:cubicBezTo>
                <a:cubicBezTo>
                  <a:pt x="213" y="277"/>
                  <a:pt x="212" y="278"/>
                  <a:pt x="211" y="279"/>
                </a:cubicBezTo>
                <a:cubicBezTo>
                  <a:pt x="211" y="279"/>
                  <a:pt x="211" y="279"/>
                  <a:pt x="211" y="280"/>
                </a:cubicBezTo>
                <a:cubicBezTo>
                  <a:pt x="211" y="281"/>
                  <a:pt x="211" y="283"/>
                  <a:pt x="212" y="285"/>
                </a:cubicBezTo>
                <a:cubicBezTo>
                  <a:pt x="212" y="287"/>
                  <a:pt x="212" y="289"/>
                  <a:pt x="212" y="292"/>
                </a:cubicBezTo>
                <a:cubicBezTo>
                  <a:pt x="213" y="296"/>
                  <a:pt x="213" y="299"/>
                  <a:pt x="213" y="302"/>
                </a:cubicBezTo>
                <a:cubicBezTo>
                  <a:pt x="213" y="303"/>
                  <a:pt x="213" y="303"/>
                  <a:pt x="213" y="303"/>
                </a:cubicBezTo>
                <a:cubicBezTo>
                  <a:pt x="212" y="304"/>
                  <a:pt x="209" y="306"/>
                  <a:pt x="208" y="305"/>
                </a:cubicBezTo>
                <a:cubicBezTo>
                  <a:pt x="207" y="305"/>
                  <a:pt x="204" y="302"/>
                  <a:pt x="201" y="296"/>
                </a:cubicBezTo>
                <a:cubicBezTo>
                  <a:pt x="200" y="294"/>
                  <a:pt x="199" y="292"/>
                  <a:pt x="198" y="291"/>
                </a:cubicBezTo>
                <a:cubicBezTo>
                  <a:pt x="195" y="286"/>
                  <a:pt x="194" y="285"/>
                  <a:pt x="193" y="285"/>
                </a:cubicBezTo>
                <a:cubicBezTo>
                  <a:pt x="193" y="285"/>
                  <a:pt x="191" y="285"/>
                  <a:pt x="188" y="286"/>
                </a:cubicBezTo>
                <a:cubicBezTo>
                  <a:pt x="186" y="285"/>
                  <a:pt x="186" y="285"/>
                  <a:pt x="186" y="285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4" y="286"/>
                  <a:pt x="182" y="287"/>
                  <a:pt x="182" y="288"/>
                </a:cubicBezTo>
                <a:cubicBezTo>
                  <a:pt x="181" y="289"/>
                  <a:pt x="181" y="289"/>
                  <a:pt x="181" y="294"/>
                </a:cubicBezTo>
                <a:cubicBezTo>
                  <a:pt x="180" y="296"/>
                  <a:pt x="180" y="299"/>
                  <a:pt x="180" y="301"/>
                </a:cubicBezTo>
                <a:cubicBezTo>
                  <a:pt x="179" y="307"/>
                  <a:pt x="178" y="311"/>
                  <a:pt x="178" y="312"/>
                </a:cubicBezTo>
                <a:cubicBezTo>
                  <a:pt x="177" y="313"/>
                  <a:pt x="173" y="314"/>
                  <a:pt x="172" y="313"/>
                </a:cubicBezTo>
                <a:cubicBezTo>
                  <a:pt x="171" y="312"/>
                  <a:pt x="170" y="309"/>
                  <a:pt x="168" y="302"/>
                </a:cubicBezTo>
                <a:cubicBezTo>
                  <a:pt x="167" y="300"/>
                  <a:pt x="166" y="298"/>
                  <a:pt x="166" y="297"/>
                </a:cubicBezTo>
                <a:cubicBezTo>
                  <a:pt x="164" y="291"/>
                  <a:pt x="164" y="291"/>
                  <a:pt x="163" y="290"/>
                </a:cubicBezTo>
                <a:cubicBezTo>
                  <a:pt x="162" y="290"/>
                  <a:pt x="161" y="289"/>
                  <a:pt x="158" y="289"/>
                </a:cubicBezTo>
                <a:cubicBezTo>
                  <a:pt x="157" y="289"/>
                  <a:pt x="157" y="289"/>
                  <a:pt x="157" y="289"/>
                </a:cubicBezTo>
                <a:cubicBezTo>
                  <a:pt x="156" y="289"/>
                  <a:pt x="156" y="289"/>
                  <a:pt x="156" y="289"/>
                </a:cubicBezTo>
                <a:cubicBezTo>
                  <a:pt x="153" y="289"/>
                  <a:pt x="152" y="290"/>
                  <a:pt x="151" y="290"/>
                </a:cubicBezTo>
                <a:cubicBezTo>
                  <a:pt x="150" y="291"/>
                  <a:pt x="150" y="292"/>
                  <a:pt x="148" y="296"/>
                </a:cubicBezTo>
                <a:cubicBezTo>
                  <a:pt x="148" y="298"/>
                  <a:pt x="147" y="300"/>
                  <a:pt x="146" y="302"/>
                </a:cubicBezTo>
                <a:cubicBezTo>
                  <a:pt x="144" y="308"/>
                  <a:pt x="142" y="312"/>
                  <a:pt x="141" y="313"/>
                </a:cubicBezTo>
                <a:cubicBezTo>
                  <a:pt x="140" y="313"/>
                  <a:pt x="136" y="313"/>
                  <a:pt x="136" y="312"/>
                </a:cubicBezTo>
                <a:cubicBezTo>
                  <a:pt x="135" y="311"/>
                  <a:pt x="134" y="307"/>
                  <a:pt x="134" y="301"/>
                </a:cubicBezTo>
                <a:cubicBezTo>
                  <a:pt x="133" y="299"/>
                  <a:pt x="133" y="297"/>
                  <a:pt x="133" y="295"/>
                </a:cubicBezTo>
                <a:cubicBezTo>
                  <a:pt x="133" y="289"/>
                  <a:pt x="132" y="289"/>
                  <a:pt x="132" y="288"/>
                </a:cubicBezTo>
                <a:cubicBezTo>
                  <a:pt x="131" y="287"/>
                  <a:pt x="130" y="286"/>
                  <a:pt x="127" y="286"/>
                </a:cubicBezTo>
                <a:cubicBezTo>
                  <a:pt x="126" y="285"/>
                  <a:pt x="126" y="285"/>
                  <a:pt x="126" y="285"/>
                </a:cubicBezTo>
                <a:cubicBezTo>
                  <a:pt x="126" y="286"/>
                  <a:pt x="126" y="286"/>
                  <a:pt x="126" y="286"/>
                </a:cubicBezTo>
                <a:cubicBezTo>
                  <a:pt x="122" y="284"/>
                  <a:pt x="121" y="285"/>
                  <a:pt x="120" y="285"/>
                </a:cubicBezTo>
                <a:cubicBezTo>
                  <a:pt x="120" y="286"/>
                  <a:pt x="119" y="286"/>
                  <a:pt x="117" y="290"/>
                </a:cubicBezTo>
                <a:cubicBezTo>
                  <a:pt x="115" y="292"/>
                  <a:pt x="114" y="294"/>
                  <a:pt x="113" y="296"/>
                </a:cubicBezTo>
                <a:cubicBezTo>
                  <a:pt x="109" y="301"/>
                  <a:pt x="107" y="304"/>
                  <a:pt x="106" y="305"/>
                </a:cubicBezTo>
                <a:cubicBezTo>
                  <a:pt x="104" y="305"/>
                  <a:pt x="101" y="304"/>
                  <a:pt x="100" y="303"/>
                </a:cubicBezTo>
                <a:cubicBezTo>
                  <a:pt x="100" y="303"/>
                  <a:pt x="100" y="303"/>
                  <a:pt x="100" y="302"/>
                </a:cubicBezTo>
                <a:cubicBezTo>
                  <a:pt x="100" y="302"/>
                  <a:pt x="100" y="302"/>
                  <a:pt x="100" y="302"/>
                </a:cubicBezTo>
                <a:cubicBezTo>
                  <a:pt x="100" y="300"/>
                  <a:pt x="101" y="296"/>
                  <a:pt x="101" y="292"/>
                </a:cubicBezTo>
                <a:cubicBezTo>
                  <a:pt x="101" y="290"/>
                  <a:pt x="102" y="288"/>
                  <a:pt x="102" y="286"/>
                </a:cubicBezTo>
                <a:cubicBezTo>
                  <a:pt x="102" y="283"/>
                  <a:pt x="103" y="281"/>
                  <a:pt x="103" y="280"/>
                </a:cubicBezTo>
                <a:cubicBezTo>
                  <a:pt x="103" y="279"/>
                  <a:pt x="103" y="279"/>
                  <a:pt x="102" y="279"/>
                </a:cubicBezTo>
                <a:cubicBezTo>
                  <a:pt x="102" y="278"/>
                  <a:pt x="101" y="277"/>
                  <a:pt x="98" y="276"/>
                </a:cubicBezTo>
                <a:cubicBezTo>
                  <a:pt x="97" y="274"/>
                  <a:pt x="97" y="274"/>
                  <a:pt x="97" y="274"/>
                </a:cubicBezTo>
                <a:cubicBezTo>
                  <a:pt x="96" y="275"/>
                  <a:pt x="96" y="275"/>
                  <a:pt x="96" y="275"/>
                </a:cubicBezTo>
                <a:cubicBezTo>
                  <a:pt x="94" y="273"/>
                  <a:pt x="93" y="273"/>
                  <a:pt x="92" y="273"/>
                </a:cubicBezTo>
                <a:cubicBezTo>
                  <a:pt x="91" y="274"/>
                  <a:pt x="90" y="274"/>
                  <a:pt x="87" y="277"/>
                </a:cubicBezTo>
                <a:cubicBezTo>
                  <a:pt x="85" y="279"/>
                  <a:pt x="84" y="280"/>
                  <a:pt x="82" y="282"/>
                </a:cubicBezTo>
                <a:cubicBezTo>
                  <a:pt x="77" y="286"/>
                  <a:pt x="74" y="289"/>
                  <a:pt x="73" y="289"/>
                </a:cubicBezTo>
                <a:cubicBezTo>
                  <a:pt x="72" y="289"/>
                  <a:pt x="69" y="287"/>
                  <a:pt x="68" y="286"/>
                </a:cubicBezTo>
                <a:cubicBezTo>
                  <a:pt x="68" y="285"/>
                  <a:pt x="69" y="281"/>
                  <a:pt x="72" y="275"/>
                </a:cubicBezTo>
                <a:cubicBezTo>
                  <a:pt x="72" y="273"/>
                  <a:pt x="73" y="271"/>
                  <a:pt x="74" y="270"/>
                </a:cubicBezTo>
                <a:cubicBezTo>
                  <a:pt x="75" y="265"/>
                  <a:pt x="76" y="264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2"/>
                  <a:pt x="75" y="261"/>
                  <a:pt x="72" y="259"/>
                </a:cubicBezTo>
                <a:cubicBezTo>
                  <a:pt x="72" y="258"/>
                  <a:pt x="72" y="258"/>
                  <a:pt x="72" y="258"/>
                </a:cubicBezTo>
                <a:cubicBezTo>
                  <a:pt x="71" y="258"/>
                  <a:pt x="71" y="258"/>
                  <a:pt x="71" y="258"/>
                </a:cubicBezTo>
                <a:cubicBezTo>
                  <a:pt x="69" y="255"/>
                  <a:pt x="68" y="255"/>
                  <a:pt x="67" y="255"/>
                </a:cubicBezTo>
                <a:cubicBezTo>
                  <a:pt x="66" y="255"/>
                  <a:pt x="65" y="256"/>
                  <a:pt x="61" y="258"/>
                </a:cubicBezTo>
                <a:cubicBezTo>
                  <a:pt x="59" y="259"/>
                  <a:pt x="57" y="260"/>
                  <a:pt x="55" y="261"/>
                </a:cubicBezTo>
                <a:cubicBezTo>
                  <a:pt x="50" y="264"/>
                  <a:pt x="46" y="266"/>
                  <a:pt x="45" y="266"/>
                </a:cubicBezTo>
                <a:cubicBezTo>
                  <a:pt x="43" y="266"/>
                  <a:pt x="41" y="263"/>
                  <a:pt x="41" y="262"/>
                </a:cubicBezTo>
                <a:cubicBezTo>
                  <a:pt x="41" y="261"/>
                  <a:pt x="43" y="258"/>
                  <a:pt x="47" y="252"/>
                </a:cubicBezTo>
                <a:cubicBezTo>
                  <a:pt x="48" y="251"/>
                  <a:pt x="49" y="249"/>
                  <a:pt x="50" y="247"/>
                </a:cubicBezTo>
                <a:cubicBezTo>
                  <a:pt x="53" y="243"/>
                  <a:pt x="54" y="242"/>
                  <a:pt x="54" y="241"/>
                </a:cubicBezTo>
                <a:cubicBezTo>
                  <a:pt x="54" y="240"/>
                  <a:pt x="53" y="239"/>
                  <a:pt x="51" y="236"/>
                </a:cubicBezTo>
                <a:cubicBezTo>
                  <a:pt x="51" y="235"/>
                  <a:pt x="51" y="235"/>
                  <a:pt x="51" y="235"/>
                </a:cubicBezTo>
                <a:cubicBezTo>
                  <a:pt x="50" y="235"/>
                  <a:pt x="50" y="235"/>
                  <a:pt x="50" y="235"/>
                </a:cubicBezTo>
                <a:cubicBezTo>
                  <a:pt x="48" y="232"/>
                  <a:pt x="47" y="232"/>
                  <a:pt x="46" y="232"/>
                </a:cubicBezTo>
                <a:cubicBezTo>
                  <a:pt x="46" y="232"/>
                  <a:pt x="45" y="232"/>
                  <a:pt x="40" y="233"/>
                </a:cubicBezTo>
                <a:cubicBezTo>
                  <a:pt x="38" y="234"/>
                  <a:pt x="36" y="234"/>
                  <a:pt x="34" y="235"/>
                </a:cubicBezTo>
                <a:cubicBezTo>
                  <a:pt x="28" y="237"/>
                  <a:pt x="24" y="238"/>
                  <a:pt x="22" y="238"/>
                </a:cubicBezTo>
                <a:cubicBezTo>
                  <a:pt x="21" y="237"/>
                  <a:pt x="20" y="234"/>
                  <a:pt x="19" y="233"/>
                </a:cubicBezTo>
                <a:cubicBezTo>
                  <a:pt x="20" y="232"/>
                  <a:pt x="23" y="229"/>
                  <a:pt x="28" y="224"/>
                </a:cubicBezTo>
                <a:cubicBezTo>
                  <a:pt x="29" y="223"/>
                  <a:pt x="31" y="221"/>
                  <a:pt x="32" y="220"/>
                </a:cubicBezTo>
                <a:cubicBezTo>
                  <a:pt x="36" y="216"/>
                  <a:pt x="37" y="216"/>
                  <a:pt x="37" y="215"/>
                </a:cubicBezTo>
                <a:cubicBezTo>
                  <a:pt x="37" y="215"/>
                  <a:pt x="37" y="215"/>
                  <a:pt x="37" y="214"/>
                </a:cubicBezTo>
                <a:cubicBezTo>
                  <a:pt x="37" y="213"/>
                  <a:pt x="37" y="212"/>
                  <a:pt x="36" y="210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5" y="208"/>
                  <a:pt x="35" y="208"/>
                  <a:pt x="35" y="208"/>
                </a:cubicBezTo>
                <a:cubicBezTo>
                  <a:pt x="34" y="205"/>
                  <a:pt x="33" y="205"/>
                  <a:pt x="32" y="204"/>
                </a:cubicBezTo>
                <a:cubicBezTo>
                  <a:pt x="31" y="204"/>
                  <a:pt x="31" y="204"/>
                  <a:pt x="26" y="204"/>
                </a:cubicBezTo>
                <a:cubicBezTo>
                  <a:pt x="24" y="204"/>
                  <a:pt x="21" y="205"/>
                  <a:pt x="19" y="205"/>
                </a:cubicBezTo>
                <a:cubicBezTo>
                  <a:pt x="13" y="205"/>
                  <a:pt x="9" y="205"/>
                  <a:pt x="7" y="204"/>
                </a:cubicBezTo>
                <a:cubicBezTo>
                  <a:pt x="7" y="204"/>
                  <a:pt x="6" y="201"/>
                  <a:pt x="6" y="199"/>
                </a:cubicBezTo>
                <a:cubicBezTo>
                  <a:pt x="6" y="199"/>
                  <a:pt x="6" y="199"/>
                  <a:pt x="6" y="199"/>
                </a:cubicBezTo>
                <a:cubicBezTo>
                  <a:pt x="6" y="198"/>
                  <a:pt x="10" y="196"/>
                  <a:pt x="15" y="193"/>
                </a:cubicBezTo>
                <a:cubicBezTo>
                  <a:pt x="17" y="192"/>
                  <a:pt x="19" y="191"/>
                  <a:pt x="21" y="190"/>
                </a:cubicBezTo>
                <a:cubicBezTo>
                  <a:pt x="26" y="187"/>
                  <a:pt x="26" y="187"/>
                  <a:pt x="27" y="186"/>
                </a:cubicBezTo>
                <a:cubicBezTo>
                  <a:pt x="27" y="185"/>
                  <a:pt x="27" y="185"/>
                  <a:pt x="27" y="184"/>
                </a:cubicBezTo>
                <a:cubicBezTo>
                  <a:pt x="27" y="183"/>
                  <a:pt x="27" y="181"/>
                  <a:pt x="27" y="181"/>
                </a:cubicBezTo>
                <a:cubicBezTo>
                  <a:pt x="27" y="179"/>
                  <a:pt x="27" y="179"/>
                  <a:pt x="27" y="179"/>
                </a:cubicBezTo>
                <a:cubicBezTo>
                  <a:pt x="26" y="179"/>
                  <a:pt x="26" y="179"/>
                  <a:pt x="26" y="179"/>
                </a:cubicBezTo>
                <a:cubicBezTo>
                  <a:pt x="26" y="176"/>
                  <a:pt x="25" y="175"/>
                  <a:pt x="25" y="174"/>
                </a:cubicBezTo>
                <a:cubicBezTo>
                  <a:pt x="24" y="174"/>
                  <a:pt x="23" y="174"/>
                  <a:pt x="18" y="173"/>
                </a:cubicBezTo>
                <a:cubicBezTo>
                  <a:pt x="16" y="172"/>
                  <a:pt x="14" y="172"/>
                  <a:pt x="12" y="172"/>
                </a:cubicBezTo>
                <a:cubicBezTo>
                  <a:pt x="6" y="170"/>
                  <a:pt x="2" y="169"/>
                  <a:pt x="1" y="169"/>
                </a:cubicBezTo>
                <a:cubicBezTo>
                  <a:pt x="0" y="168"/>
                  <a:pt x="0" y="167"/>
                  <a:pt x="0" y="165"/>
                </a:cubicBezTo>
                <a:close/>
                <a:moveTo>
                  <a:pt x="252" y="156"/>
                </a:moveTo>
                <a:cubicBezTo>
                  <a:pt x="252" y="104"/>
                  <a:pt x="209" y="62"/>
                  <a:pt x="157" y="62"/>
                </a:cubicBezTo>
                <a:cubicBezTo>
                  <a:pt x="105" y="62"/>
                  <a:pt x="62" y="104"/>
                  <a:pt x="62" y="156"/>
                </a:cubicBezTo>
                <a:cubicBezTo>
                  <a:pt x="62" y="209"/>
                  <a:pt x="105" y="251"/>
                  <a:pt x="157" y="251"/>
                </a:cubicBezTo>
                <a:cubicBezTo>
                  <a:pt x="209" y="251"/>
                  <a:pt x="252" y="209"/>
                  <a:pt x="252" y="156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360" h="360">
                <a:moveTo>
                  <a:pt x="0" y="166"/>
                </a:moveTo>
                <a:cubicBezTo>
                  <a:pt x="0" y="165"/>
                  <a:pt x="0" y="164"/>
                  <a:pt x="0" y="164"/>
                </a:cubicBezTo>
                <a:cubicBezTo>
                  <a:pt x="1" y="163"/>
                  <a:pt x="6" y="162"/>
                  <a:pt x="13" y="161"/>
                </a:cubicBezTo>
                <a:cubicBezTo>
                  <a:pt x="16" y="161"/>
                  <a:pt x="18" y="160"/>
                  <a:pt x="20" y="160"/>
                </a:cubicBezTo>
                <a:cubicBezTo>
                  <a:pt x="27" y="159"/>
                  <a:pt x="28" y="159"/>
                  <a:pt x="28" y="158"/>
                </a:cubicBezTo>
                <a:cubicBezTo>
                  <a:pt x="29" y="157"/>
                  <a:pt x="30" y="156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1" y="151"/>
                  <a:pt x="31" y="150"/>
                  <a:pt x="31" y="148"/>
                </a:cubicBezTo>
                <a:cubicBezTo>
                  <a:pt x="31" y="147"/>
                  <a:pt x="31" y="146"/>
                  <a:pt x="31" y="145"/>
                </a:cubicBezTo>
                <a:cubicBezTo>
                  <a:pt x="30" y="144"/>
                  <a:pt x="29" y="143"/>
                  <a:pt x="24" y="141"/>
                </a:cubicBezTo>
                <a:cubicBezTo>
                  <a:pt x="22" y="139"/>
                  <a:pt x="20" y="138"/>
                  <a:pt x="18" y="137"/>
                </a:cubicBezTo>
                <a:cubicBezTo>
                  <a:pt x="12" y="133"/>
                  <a:pt x="8" y="130"/>
                  <a:pt x="7" y="129"/>
                </a:cubicBezTo>
                <a:cubicBezTo>
                  <a:pt x="7" y="129"/>
                  <a:pt x="7" y="129"/>
                  <a:pt x="7" y="128"/>
                </a:cubicBezTo>
                <a:cubicBezTo>
                  <a:pt x="7" y="126"/>
                  <a:pt x="8" y="123"/>
                  <a:pt x="9" y="123"/>
                </a:cubicBezTo>
                <a:cubicBezTo>
                  <a:pt x="10" y="123"/>
                  <a:pt x="15" y="122"/>
                  <a:pt x="22" y="123"/>
                </a:cubicBezTo>
                <a:cubicBezTo>
                  <a:pt x="25" y="123"/>
                  <a:pt x="27" y="124"/>
                  <a:pt x="29" y="124"/>
                </a:cubicBezTo>
                <a:cubicBezTo>
                  <a:pt x="36" y="124"/>
                  <a:pt x="36" y="124"/>
                  <a:pt x="37" y="124"/>
                </a:cubicBezTo>
                <a:cubicBezTo>
                  <a:pt x="38" y="123"/>
                  <a:pt x="39" y="122"/>
                  <a:pt x="41" y="119"/>
                </a:cubicBezTo>
                <a:cubicBezTo>
                  <a:pt x="41" y="119"/>
                  <a:pt x="41" y="119"/>
                  <a:pt x="41" y="119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2" y="116"/>
                  <a:pt x="43" y="114"/>
                  <a:pt x="43" y="113"/>
                </a:cubicBezTo>
                <a:cubicBezTo>
                  <a:pt x="43" y="113"/>
                  <a:pt x="43" y="112"/>
                  <a:pt x="43" y="111"/>
                </a:cubicBezTo>
                <a:cubicBezTo>
                  <a:pt x="42" y="111"/>
                  <a:pt x="42" y="110"/>
                  <a:pt x="38" y="106"/>
                </a:cubicBezTo>
                <a:cubicBezTo>
                  <a:pt x="36" y="104"/>
                  <a:pt x="34" y="103"/>
                  <a:pt x="32" y="101"/>
                </a:cubicBezTo>
                <a:cubicBezTo>
                  <a:pt x="27" y="95"/>
                  <a:pt x="24" y="92"/>
                  <a:pt x="23" y="91"/>
                </a:cubicBezTo>
                <a:cubicBezTo>
                  <a:pt x="24" y="89"/>
                  <a:pt x="26" y="86"/>
                  <a:pt x="27" y="85"/>
                </a:cubicBezTo>
                <a:cubicBezTo>
                  <a:pt x="28" y="85"/>
                  <a:pt x="32" y="86"/>
                  <a:pt x="40" y="88"/>
                </a:cubicBezTo>
                <a:cubicBezTo>
                  <a:pt x="42" y="89"/>
                  <a:pt x="44" y="90"/>
                  <a:pt x="46" y="91"/>
                </a:cubicBezTo>
                <a:cubicBezTo>
                  <a:pt x="52" y="93"/>
                  <a:pt x="53" y="93"/>
                  <a:pt x="54" y="93"/>
                </a:cubicBezTo>
                <a:cubicBezTo>
                  <a:pt x="55" y="92"/>
                  <a:pt x="56" y="92"/>
                  <a:pt x="58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62" y="84"/>
                  <a:pt x="62" y="83"/>
                  <a:pt x="62" y="83"/>
                </a:cubicBezTo>
                <a:cubicBezTo>
                  <a:pt x="62" y="82"/>
                  <a:pt x="62" y="82"/>
                  <a:pt x="62" y="82"/>
                </a:cubicBezTo>
                <a:cubicBezTo>
                  <a:pt x="62" y="81"/>
                  <a:pt x="62" y="80"/>
                  <a:pt x="59" y="75"/>
                </a:cubicBezTo>
                <a:cubicBezTo>
                  <a:pt x="57" y="73"/>
                  <a:pt x="56" y="71"/>
                  <a:pt x="54" y="69"/>
                </a:cubicBezTo>
                <a:cubicBezTo>
                  <a:pt x="51" y="63"/>
                  <a:pt x="49" y="58"/>
                  <a:pt x="48" y="57"/>
                </a:cubicBezTo>
                <a:cubicBezTo>
                  <a:pt x="49" y="56"/>
                  <a:pt x="52" y="53"/>
                  <a:pt x="53" y="52"/>
                </a:cubicBezTo>
                <a:cubicBezTo>
                  <a:pt x="54" y="53"/>
                  <a:pt x="58" y="55"/>
                  <a:pt x="64" y="59"/>
                </a:cubicBezTo>
                <a:cubicBezTo>
                  <a:pt x="67" y="60"/>
                  <a:pt x="69" y="61"/>
                  <a:pt x="70" y="62"/>
                </a:cubicBezTo>
                <a:cubicBezTo>
                  <a:pt x="76" y="66"/>
                  <a:pt x="77" y="66"/>
                  <a:pt x="78" y="66"/>
                </a:cubicBezTo>
                <a:cubicBezTo>
                  <a:pt x="79" y="66"/>
                  <a:pt x="80" y="65"/>
                  <a:pt x="83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2"/>
                  <a:pt x="84" y="62"/>
                  <a:pt x="84" y="62"/>
                </a:cubicBezTo>
                <a:cubicBezTo>
                  <a:pt x="87" y="60"/>
                  <a:pt x="88" y="59"/>
                  <a:pt x="88" y="57"/>
                </a:cubicBezTo>
                <a:cubicBezTo>
                  <a:pt x="88" y="56"/>
                  <a:pt x="88" y="56"/>
                  <a:pt x="86" y="50"/>
                </a:cubicBezTo>
                <a:cubicBezTo>
                  <a:pt x="85" y="48"/>
                  <a:pt x="84" y="46"/>
                  <a:pt x="84" y="43"/>
                </a:cubicBezTo>
                <a:cubicBezTo>
                  <a:pt x="81" y="36"/>
                  <a:pt x="80" y="31"/>
                  <a:pt x="80" y="30"/>
                </a:cubicBezTo>
                <a:cubicBezTo>
                  <a:pt x="81" y="29"/>
                  <a:pt x="84" y="27"/>
                  <a:pt x="86" y="27"/>
                </a:cubicBezTo>
                <a:cubicBezTo>
                  <a:pt x="87" y="27"/>
                  <a:pt x="90" y="30"/>
                  <a:pt x="96" y="35"/>
                </a:cubicBezTo>
                <a:cubicBezTo>
                  <a:pt x="97" y="37"/>
                  <a:pt x="99" y="39"/>
                  <a:pt x="100" y="40"/>
                </a:cubicBezTo>
                <a:cubicBezTo>
                  <a:pt x="105" y="45"/>
                  <a:pt x="106" y="45"/>
                  <a:pt x="107" y="46"/>
                </a:cubicBezTo>
                <a:cubicBezTo>
                  <a:pt x="108" y="46"/>
                  <a:pt x="109" y="46"/>
                  <a:pt x="112" y="44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3"/>
                  <a:pt x="114" y="43"/>
                  <a:pt x="114" y="43"/>
                </a:cubicBezTo>
                <a:cubicBezTo>
                  <a:pt x="118" y="42"/>
                  <a:pt x="118" y="40"/>
                  <a:pt x="119" y="40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8"/>
                  <a:pt x="119" y="36"/>
                  <a:pt x="118" y="32"/>
                </a:cubicBezTo>
                <a:cubicBezTo>
                  <a:pt x="118" y="30"/>
                  <a:pt x="118" y="27"/>
                  <a:pt x="118" y="24"/>
                </a:cubicBezTo>
                <a:cubicBezTo>
                  <a:pt x="117" y="19"/>
                  <a:pt x="117" y="13"/>
                  <a:pt x="117" y="11"/>
                </a:cubicBezTo>
                <a:cubicBezTo>
                  <a:pt x="117" y="11"/>
                  <a:pt x="117" y="11"/>
                  <a:pt x="117" y="11"/>
                </a:cubicBezTo>
                <a:cubicBezTo>
                  <a:pt x="118" y="10"/>
                  <a:pt x="122" y="9"/>
                  <a:pt x="124" y="9"/>
                </a:cubicBezTo>
                <a:cubicBezTo>
                  <a:pt x="124" y="10"/>
                  <a:pt x="127" y="14"/>
                  <a:pt x="131" y="20"/>
                </a:cubicBezTo>
                <a:cubicBezTo>
                  <a:pt x="132" y="22"/>
                  <a:pt x="134" y="24"/>
                  <a:pt x="135" y="26"/>
                </a:cubicBezTo>
                <a:cubicBezTo>
                  <a:pt x="138" y="31"/>
                  <a:pt x="139" y="32"/>
                  <a:pt x="140" y="32"/>
                </a:cubicBezTo>
                <a:cubicBezTo>
                  <a:pt x="140" y="33"/>
                  <a:pt x="142" y="33"/>
                  <a:pt x="146" y="32"/>
                </a:cubicBezTo>
                <a:cubicBezTo>
                  <a:pt x="148" y="33"/>
                  <a:pt x="148" y="33"/>
                  <a:pt x="148" y="33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50" y="31"/>
                  <a:pt x="152" y="30"/>
                  <a:pt x="153" y="29"/>
                </a:cubicBezTo>
                <a:cubicBezTo>
                  <a:pt x="153" y="29"/>
                  <a:pt x="153" y="28"/>
                  <a:pt x="154" y="24"/>
                </a:cubicBezTo>
                <a:cubicBezTo>
                  <a:pt x="154" y="20"/>
                  <a:pt x="154" y="20"/>
                  <a:pt x="154" y="20"/>
                </a:cubicBezTo>
                <a:cubicBezTo>
                  <a:pt x="155" y="18"/>
                  <a:pt x="155" y="16"/>
                  <a:pt x="155" y="14"/>
                </a:cubicBezTo>
                <a:cubicBezTo>
                  <a:pt x="156" y="7"/>
                  <a:pt x="157" y="3"/>
                  <a:pt x="158" y="1"/>
                </a:cubicBezTo>
                <a:cubicBezTo>
                  <a:pt x="159" y="1"/>
                  <a:pt x="163" y="0"/>
                  <a:pt x="164" y="1"/>
                </a:cubicBezTo>
                <a:cubicBezTo>
                  <a:pt x="165" y="2"/>
                  <a:pt x="167" y="6"/>
                  <a:pt x="169" y="13"/>
                </a:cubicBezTo>
                <a:cubicBezTo>
                  <a:pt x="170" y="15"/>
                  <a:pt x="171" y="18"/>
                  <a:pt x="172" y="20"/>
                </a:cubicBezTo>
                <a:cubicBezTo>
                  <a:pt x="173" y="26"/>
                  <a:pt x="174" y="27"/>
                  <a:pt x="175" y="27"/>
                </a:cubicBezTo>
                <a:cubicBezTo>
                  <a:pt x="175" y="28"/>
                  <a:pt x="177" y="28"/>
                  <a:pt x="181" y="28"/>
                </a:cubicBezTo>
                <a:cubicBezTo>
                  <a:pt x="181" y="29"/>
                  <a:pt x="181" y="29"/>
                  <a:pt x="181" y="29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7" y="29"/>
                  <a:pt x="188" y="28"/>
                  <a:pt x="188" y="27"/>
                </a:cubicBezTo>
                <a:cubicBezTo>
                  <a:pt x="189" y="27"/>
                  <a:pt x="189" y="26"/>
                  <a:pt x="191" y="21"/>
                </a:cubicBezTo>
                <a:cubicBezTo>
                  <a:pt x="192" y="18"/>
                  <a:pt x="193" y="16"/>
                  <a:pt x="194" y="13"/>
                </a:cubicBezTo>
                <a:cubicBezTo>
                  <a:pt x="197" y="7"/>
                  <a:pt x="199" y="2"/>
                  <a:pt x="200" y="1"/>
                </a:cubicBezTo>
                <a:cubicBezTo>
                  <a:pt x="201" y="1"/>
                  <a:pt x="205" y="1"/>
                  <a:pt x="206" y="2"/>
                </a:cubicBezTo>
                <a:cubicBezTo>
                  <a:pt x="207" y="3"/>
                  <a:pt x="207" y="8"/>
                  <a:pt x="208" y="15"/>
                </a:cubicBezTo>
                <a:cubicBezTo>
                  <a:pt x="208" y="18"/>
                  <a:pt x="209" y="20"/>
                  <a:pt x="209" y="22"/>
                </a:cubicBezTo>
                <a:cubicBezTo>
                  <a:pt x="209" y="29"/>
                  <a:pt x="209" y="30"/>
                  <a:pt x="210" y="30"/>
                </a:cubicBezTo>
                <a:cubicBezTo>
                  <a:pt x="211" y="31"/>
                  <a:pt x="212" y="32"/>
                  <a:pt x="216" y="33"/>
                </a:cubicBezTo>
                <a:cubicBezTo>
                  <a:pt x="216" y="33"/>
                  <a:pt x="216" y="33"/>
                  <a:pt x="216" y="33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1" y="34"/>
                  <a:pt x="222" y="34"/>
                  <a:pt x="223" y="33"/>
                </a:cubicBezTo>
                <a:cubicBezTo>
                  <a:pt x="224" y="33"/>
                  <a:pt x="225" y="32"/>
                  <a:pt x="228" y="28"/>
                </a:cubicBezTo>
                <a:cubicBezTo>
                  <a:pt x="229" y="26"/>
                  <a:pt x="230" y="23"/>
                  <a:pt x="232" y="21"/>
                </a:cubicBezTo>
                <a:cubicBezTo>
                  <a:pt x="236" y="15"/>
                  <a:pt x="239" y="12"/>
                  <a:pt x="240" y="11"/>
                </a:cubicBezTo>
                <a:cubicBezTo>
                  <a:pt x="242" y="11"/>
                  <a:pt x="246" y="12"/>
                  <a:pt x="247" y="13"/>
                </a:cubicBezTo>
                <a:cubicBezTo>
                  <a:pt x="247" y="14"/>
                  <a:pt x="247" y="18"/>
                  <a:pt x="246" y="24"/>
                </a:cubicBezTo>
                <a:cubicBezTo>
                  <a:pt x="246" y="25"/>
                  <a:pt x="245" y="26"/>
                  <a:pt x="245" y="26"/>
                </a:cubicBezTo>
                <a:cubicBezTo>
                  <a:pt x="245" y="29"/>
                  <a:pt x="245" y="31"/>
                  <a:pt x="244" y="33"/>
                </a:cubicBezTo>
                <a:cubicBezTo>
                  <a:pt x="244" y="35"/>
                  <a:pt x="244" y="37"/>
                  <a:pt x="244" y="38"/>
                </a:cubicBezTo>
                <a:cubicBezTo>
                  <a:pt x="243" y="40"/>
                  <a:pt x="243" y="41"/>
                  <a:pt x="244" y="41"/>
                </a:cubicBezTo>
                <a:cubicBezTo>
                  <a:pt x="244" y="42"/>
                  <a:pt x="245" y="43"/>
                  <a:pt x="249" y="45"/>
                </a:cubicBezTo>
                <a:cubicBezTo>
                  <a:pt x="249" y="47"/>
                  <a:pt x="249" y="47"/>
                  <a:pt x="249" y="47"/>
                </a:cubicBezTo>
                <a:cubicBezTo>
                  <a:pt x="250" y="46"/>
                  <a:pt x="250" y="46"/>
                  <a:pt x="250" y="46"/>
                </a:cubicBezTo>
                <a:cubicBezTo>
                  <a:pt x="253" y="48"/>
                  <a:pt x="255" y="48"/>
                  <a:pt x="256" y="47"/>
                </a:cubicBezTo>
                <a:cubicBezTo>
                  <a:pt x="257" y="47"/>
                  <a:pt x="257" y="47"/>
                  <a:pt x="261" y="43"/>
                </a:cubicBezTo>
                <a:cubicBezTo>
                  <a:pt x="263" y="41"/>
                  <a:pt x="265" y="39"/>
                  <a:pt x="267" y="38"/>
                </a:cubicBezTo>
                <a:cubicBezTo>
                  <a:pt x="273" y="33"/>
                  <a:pt x="276" y="30"/>
                  <a:pt x="278" y="29"/>
                </a:cubicBezTo>
                <a:cubicBezTo>
                  <a:pt x="279" y="30"/>
                  <a:pt x="283" y="32"/>
                  <a:pt x="283" y="33"/>
                </a:cubicBezTo>
                <a:cubicBezTo>
                  <a:pt x="283" y="35"/>
                  <a:pt x="281" y="40"/>
                  <a:pt x="279" y="46"/>
                </a:cubicBezTo>
                <a:cubicBezTo>
                  <a:pt x="278" y="48"/>
                  <a:pt x="277" y="50"/>
                  <a:pt x="276" y="52"/>
                </a:cubicBezTo>
                <a:cubicBezTo>
                  <a:pt x="275" y="56"/>
                  <a:pt x="274" y="58"/>
                  <a:pt x="274" y="59"/>
                </a:cubicBezTo>
                <a:cubicBezTo>
                  <a:pt x="274" y="59"/>
                  <a:pt x="274" y="59"/>
                  <a:pt x="274" y="59"/>
                </a:cubicBezTo>
                <a:cubicBezTo>
                  <a:pt x="274" y="60"/>
                  <a:pt x="274" y="60"/>
                  <a:pt x="274" y="60"/>
                </a:cubicBezTo>
                <a:cubicBezTo>
                  <a:pt x="274" y="61"/>
                  <a:pt x="275" y="62"/>
                  <a:pt x="278" y="64"/>
                </a:cubicBezTo>
                <a:cubicBezTo>
                  <a:pt x="278" y="66"/>
                  <a:pt x="278" y="66"/>
                  <a:pt x="278" y="66"/>
                </a:cubicBezTo>
                <a:cubicBezTo>
                  <a:pt x="279" y="66"/>
                  <a:pt x="279" y="66"/>
                  <a:pt x="279" y="66"/>
                </a:cubicBezTo>
                <a:cubicBezTo>
                  <a:pt x="282" y="68"/>
                  <a:pt x="283" y="69"/>
                  <a:pt x="284" y="69"/>
                </a:cubicBezTo>
                <a:cubicBezTo>
                  <a:pt x="285" y="69"/>
                  <a:pt x="286" y="68"/>
                  <a:pt x="291" y="65"/>
                </a:cubicBezTo>
                <a:cubicBezTo>
                  <a:pt x="293" y="64"/>
                  <a:pt x="295" y="63"/>
                  <a:pt x="298" y="62"/>
                </a:cubicBezTo>
                <a:cubicBezTo>
                  <a:pt x="304" y="58"/>
                  <a:pt x="308" y="56"/>
                  <a:pt x="310" y="56"/>
                </a:cubicBezTo>
                <a:cubicBezTo>
                  <a:pt x="311" y="57"/>
                  <a:pt x="314" y="60"/>
                  <a:pt x="314" y="61"/>
                </a:cubicBezTo>
                <a:cubicBezTo>
                  <a:pt x="314" y="62"/>
                  <a:pt x="312" y="66"/>
                  <a:pt x="307" y="72"/>
                </a:cubicBezTo>
                <a:cubicBezTo>
                  <a:pt x="306" y="74"/>
                  <a:pt x="305" y="76"/>
                  <a:pt x="303" y="78"/>
                </a:cubicBezTo>
                <a:cubicBezTo>
                  <a:pt x="300" y="83"/>
                  <a:pt x="299" y="84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6"/>
                  <a:pt x="300" y="88"/>
                  <a:pt x="302" y="90"/>
                </a:cubicBezTo>
                <a:cubicBezTo>
                  <a:pt x="302" y="93"/>
                  <a:pt x="302" y="93"/>
                  <a:pt x="302" y="93"/>
                </a:cubicBezTo>
                <a:cubicBezTo>
                  <a:pt x="303" y="92"/>
                  <a:pt x="303" y="92"/>
                  <a:pt x="303" y="92"/>
                </a:cubicBezTo>
                <a:cubicBezTo>
                  <a:pt x="305" y="95"/>
                  <a:pt x="306" y="96"/>
                  <a:pt x="307" y="96"/>
                </a:cubicBezTo>
                <a:cubicBezTo>
                  <a:pt x="308" y="96"/>
                  <a:pt x="309" y="96"/>
                  <a:pt x="314" y="94"/>
                </a:cubicBezTo>
                <a:cubicBezTo>
                  <a:pt x="317" y="94"/>
                  <a:pt x="319" y="93"/>
                  <a:pt x="322" y="92"/>
                </a:cubicBezTo>
                <a:cubicBezTo>
                  <a:pt x="329" y="90"/>
                  <a:pt x="334" y="89"/>
                  <a:pt x="335" y="89"/>
                </a:cubicBezTo>
                <a:cubicBezTo>
                  <a:pt x="336" y="90"/>
                  <a:pt x="338" y="94"/>
                  <a:pt x="338" y="95"/>
                </a:cubicBezTo>
                <a:cubicBezTo>
                  <a:pt x="337" y="96"/>
                  <a:pt x="335" y="99"/>
                  <a:pt x="329" y="105"/>
                </a:cubicBezTo>
                <a:cubicBezTo>
                  <a:pt x="327" y="106"/>
                  <a:pt x="325" y="108"/>
                  <a:pt x="324" y="109"/>
                </a:cubicBezTo>
                <a:cubicBezTo>
                  <a:pt x="319" y="113"/>
                  <a:pt x="318" y="114"/>
                  <a:pt x="318" y="115"/>
                </a:cubicBezTo>
                <a:cubicBezTo>
                  <a:pt x="318" y="115"/>
                  <a:pt x="318" y="115"/>
                  <a:pt x="318" y="115"/>
                </a:cubicBezTo>
                <a:cubicBezTo>
                  <a:pt x="318" y="117"/>
                  <a:pt x="318" y="118"/>
                  <a:pt x="319" y="121"/>
                </a:cubicBezTo>
                <a:cubicBezTo>
                  <a:pt x="319" y="123"/>
                  <a:pt x="319" y="123"/>
                  <a:pt x="319" y="123"/>
                </a:cubicBezTo>
                <a:cubicBezTo>
                  <a:pt x="320" y="123"/>
                  <a:pt x="320" y="123"/>
                  <a:pt x="320" y="123"/>
                </a:cubicBezTo>
                <a:cubicBezTo>
                  <a:pt x="321" y="126"/>
                  <a:pt x="322" y="127"/>
                  <a:pt x="323" y="128"/>
                </a:cubicBezTo>
                <a:cubicBezTo>
                  <a:pt x="324" y="128"/>
                  <a:pt x="325" y="128"/>
                  <a:pt x="331" y="128"/>
                </a:cubicBezTo>
                <a:cubicBezTo>
                  <a:pt x="333" y="128"/>
                  <a:pt x="336" y="127"/>
                  <a:pt x="338" y="127"/>
                </a:cubicBezTo>
                <a:cubicBezTo>
                  <a:pt x="346" y="127"/>
                  <a:pt x="350" y="127"/>
                  <a:pt x="352" y="128"/>
                </a:cubicBezTo>
                <a:cubicBezTo>
                  <a:pt x="352" y="129"/>
                  <a:pt x="354" y="132"/>
                  <a:pt x="353" y="134"/>
                </a:cubicBezTo>
                <a:cubicBezTo>
                  <a:pt x="353" y="134"/>
                  <a:pt x="353" y="134"/>
                  <a:pt x="353" y="134"/>
                </a:cubicBezTo>
                <a:cubicBezTo>
                  <a:pt x="352" y="135"/>
                  <a:pt x="349" y="138"/>
                  <a:pt x="342" y="141"/>
                </a:cubicBezTo>
                <a:cubicBezTo>
                  <a:pt x="340" y="142"/>
                  <a:pt x="338" y="143"/>
                  <a:pt x="336" y="144"/>
                </a:cubicBezTo>
                <a:cubicBezTo>
                  <a:pt x="330" y="147"/>
                  <a:pt x="329" y="148"/>
                  <a:pt x="329" y="149"/>
                </a:cubicBezTo>
                <a:cubicBezTo>
                  <a:pt x="329" y="149"/>
                  <a:pt x="329" y="149"/>
                  <a:pt x="329" y="150"/>
                </a:cubicBezTo>
                <a:cubicBezTo>
                  <a:pt x="329" y="151"/>
                  <a:pt x="329" y="153"/>
                  <a:pt x="329" y="155"/>
                </a:cubicBezTo>
                <a:cubicBezTo>
                  <a:pt x="328" y="157"/>
                  <a:pt x="328" y="157"/>
                  <a:pt x="328" y="157"/>
                </a:cubicBezTo>
                <a:cubicBezTo>
                  <a:pt x="329" y="157"/>
                  <a:pt x="329" y="157"/>
                  <a:pt x="329" y="157"/>
                </a:cubicBezTo>
                <a:cubicBezTo>
                  <a:pt x="330" y="160"/>
                  <a:pt x="331" y="162"/>
                  <a:pt x="331" y="162"/>
                </a:cubicBezTo>
                <a:cubicBezTo>
                  <a:pt x="332" y="163"/>
                  <a:pt x="333" y="163"/>
                  <a:pt x="339" y="164"/>
                </a:cubicBezTo>
                <a:cubicBezTo>
                  <a:pt x="341" y="164"/>
                  <a:pt x="343" y="165"/>
                  <a:pt x="346" y="165"/>
                </a:cubicBezTo>
                <a:cubicBezTo>
                  <a:pt x="353" y="167"/>
                  <a:pt x="358" y="168"/>
                  <a:pt x="359" y="169"/>
                </a:cubicBezTo>
                <a:cubicBezTo>
                  <a:pt x="359" y="170"/>
                  <a:pt x="360" y="172"/>
                  <a:pt x="360" y="174"/>
                </a:cubicBezTo>
                <a:cubicBezTo>
                  <a:pt x="359" y="175"/>
                  <a:pt x="359" y="175"/>
                  <a:pt x="359" y="175"/>
                </a:cubicBezTo>
                <a:cubicBezTo>
                  <a:pt x="358" y="176"/>
                  <a:pt x="354" y="178"/>
                  <a:pt x="347" y="180"/>
                </a:cubicBezTo>
                <a:cubicBezTo>
                  <a:pt x="344" y="180"/>
                  <a:pt x="342" y="181"/>
                  <a:pt x="340" y="181"/>
                </a:cubicBezTo>
                <a:cubicBezTo>
                  <a:pt x="334" y="183"/>
                  <a:pt x="333" y="183"/>
                  <a:pt x="332" y="184"/>
                </a:cubicBezTo>
                <a:cubicBezTo>
                  <a:pt x="332" y="185"/>
                  <a:pt x="331" y="186"/>
                  <a:pt x="331" y="187"/>
                </a:cubicBezTo>
                <a:cubicBezTo>
                  <a:pt x="331" y="188"/>
                  <a:pt x="331" y="189"/>
                  <a:pt x="331" y="190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31" y="192"/>
                  <a:pt x="331" y="192"/>
                  <a:pt x="331" y="192"/>
                </a:cubicBezTo>
                <a:cubicBezTo>
                  <a:pt x="330" y="195"/>
                  <a:pt x="331" y="197"/>
                  <a:pt x="331" y="198"/>
                </a:cubicBezTo>
                <a:cubicBezTo>
                  <a:pt x="332" y="198"/>
                  <a:pt x="333" y="199"/>
                  <a:pt x="338" y="201"/>
                </a:cubicBezTo>
                <a:cubicBezTo>
                  <a:pt x="340" y="202"/>
                  <a:pt x="343" y="203"/>
                  <a:pt x="345" y="204"/>
                </a:cubicBezTo>
                <a:cubicBezTo>
                  <a:pt x="352" y="207"/>
                  <a:pt x="356" y="210"/>
                  <a:pt x="357" y="210"/>
                </a:cubicBezTo>
                <a:cubicBezTo>
                  <a:pt x="357" y="211"/>
                  <a:pt x="357" y="212"/>
                  <a:pt x="357" y="213"/>
                </a:cubicBezTo>
                <a:cubicBezTo>
                  <a:pt x="356" y="215"/>
                  <a:pt x="356" y="217"/>
                  <a:pt x="355" y="217"/>
                </a:cubicBezTo>
                <a:cubicBezTo>
                  <a:pt x="354" y="217"/>
                  <a:pt x="350" y="218"/>
                  <a:pt x="342" y="218"/>
                </a:cubicBezTo>
                <a:cubicBezTo>
                  <a:pt x="340" y="218"/>
                  <a:pt x="337" y="218"/>
                  <a:pt x="335" y="218"/>
                </a:cubicBezTo>
                <a:cubicBezTo>
                  <a:pt x="329" y="218"/>
                  <a:pt x="328" y="219"/>
                  <a:pt x="327" y="219"/>
                </a:cubicBezTo>
                <a:cubicBezTo>
                  <a:pt x="326" y="220"/>
                  <a:pt x="325" y="221"/>
                  <a:pt x="325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7"/>
                  <a:pt x="323" y="229"/>
                  <a:pt x="323" y="230"/>
                </a:cubicBezTo>
                <a:cubicBezTo>
                  <a:pt x="323" y="231"/>
                  <a:pt x="323" y="232"/>
                  <a:pt x="323" y="232"/>
                </a:cubicBezTo>
                <a:cubicBezTo>
                  <a:pt x="324" y="233"/>
                  <a:pt x="324" y="234"/>
                  <a:pt x="329" y="237"/>
                </a:cubicBezTo>
                <a:cubicBezTo>
                  <a:pt x="331" y="238"/>
                  <a:pt x="333" y="240"/>
                  <a:pt x="335" y="242"/>
                </a:cubicBezTo>
                <a:cubicBezTo>
                  <a:pt x="341" y="246"/>
                  <a:pt x="344" y="249"/>
                  <a:pt x="345" y="250"/>
                </a:cubicBezTo>
                <a:cubicBezTo>
                  <a:pt x="345" y="251"/>
                  <a:pt x="345" y="251"/>
                  <a:pt x="345" y="251"/>
                </a:cubicBezTo>
                <a:cubicBezTo>
                  <a:pt x="345" y="253"/>
                  <a:pt x="343" y="256"/>
                  <a:pt x="342" y="257"/>
                </a:cubicBezTo>
                <a:cubicBezTo>
                  <a:pt x="341" y="257"/>
                  <a:pt x="336" y="256"/>
                  <a:pt x="329" y="255"/>
                </a:cubicBezTo>
                <a:cubicBezTo>
                  <a:pt x="327" y="254"/>
                  <a:pt x="324" y="254"/>
                  <a:pt x="322" y="253"/>
                </a:cubicBezTo>
                <a:cubicBezTo>
                  <a:pt x="316" y="252"/>
                  <a:pt x="315" y="252"/>
                  <a:pt x="314" y="252"/>
                </a:cubicBezTo>
                <a:cubicBezTo>
                  <a:pt x="313" y="253"/>
                  <a:pt x="312" y="254"/>
                  <a:pt x="310" y="257"/>
                </a:cubicBezTo>
                <a:cubicBezTo>
                  <a:pt x="310" y="257"/>
                  <a:pt x="310" y="257"/>
                  <a:pt x="310" y="257"/>
                </a:cubicBezTo>
                <a:cubicBezTo>
                  <a:pt x="310" y="258"/>
                  <a:pt x="310" y="258"/>
                  <a:pt x="310" y="258"/>
                </a:cubicBezTo>
                <a:cubicBezTo>
                  <a:pt x="308" y="260"/>
                  <a:pt x="307" y="261"/>
                  <a:pt x="307" y="263"/>
                </a:cubicBezTo>
                <a:cubicBezTo>
                  <a:pt x="307" y="263"/>
                  <a:pt x="307" y="264"/>
                  <a:pt x="307" y="264"/>
                </a:cubicBezTo>
                <a:cubicBezTo>
                  <a:pt x="308" y="265"/>
                  <a:pt x="308" y="266"/>
                  <a:pt x="312" y="270"/>
                </a:cubicBezTo>
                <a:cubicBezTo>
                  <a:pt x="313" y="272"/>
                  <a:pt x="315" y="274"/>
                  <a:pt x="317" y="276"/>
                </a:cubicBezTo>
                <a:cubicBezTo>
                  <a:pt x="321" y="282"/>
                  <a:pt x="324" y="286"/>
                  <a:pt x="324" y="287"/>
                </a:cubicBezTo>
                <a:cubicBezTo>
                  <a:pt x="324" y="288"/>
                  <a:pt x="321" y="292"/>
                  <a:pt x="320" y="292"/>
                </a:cubicBezTo>
                <a:cubicBezTo>
                  <a:pt x="319" y="292"/>
                  <a:pt x="315" y="290"/>
                  <a:pt x="308" y="287"/>
                </a:cubicBezTo>
                <a:cubicBezTo>
                  <a:pt x="306" y="286"/>
                  <a:pt x="303" y="285"/>
                  <a:pt x="302" y="284"/>
                </a:cubicBezTo>
                <a:cubicBezTo>
                  <a:pt x="296" y="281"/>
                  <a:pt x="295" y="281"/>
                  <a:pt x="294" y="281"/>
                </a:cubicBezTo>
                <a:cubicBezTo>
                  <a:pt x="293" y="281"/>
                  <a:pt x="292" y="282"/>
                  <a:pt x="289" y="285"/>
                </a:cubicBezTo>
                <a:cubicBezTo>
                  <a:pt x="288" y="285"/>
                  <a:pt x="288" y="285"/>
                  <a:pt x="288" y="285"/>
                </a:cubicBezTo>
                <a:cubicBezTo>
                  <a:pt x="288" y="286"/>
                  <a:pt x="288" y="286"/>
                  <a:pt x="288" y="286"/>
                </a:cubicBezTo>
                <a:cubicBezTo>
                  <a:pt x="285" y="289"/>
                  <a:pt x="285" y="290"/>
                  <a:pt x="285" y="291"/>
                </a:cubicBezTo>
                <a:cubicBezTo>
                  <a:pt x="284" y="291"/>
                  <a:pt x="284" y="291"/>
                  <a:pt x="284" y="291"/>
                </a:cubicBezTo>
                <a:cubicBezTo>
                  <a:pt x="285" y="292"/>
                  <a:pt x="285" y="293"/>
                  <a:pt x="287" y="298"/>
                </a:cubicBezTo>
                <a:cubicBezTo>
                  <a:pt x="288" y="300"/>
                  <a:pt x="290" y="302"/>
                  <a:pt x="291" y="305"/>
                </a:cubicBezTo>
                <a:cubicBezTo>
                  <a:pt x="294" y="311"/>
                  <a:pt x="295" y="316"/>
                  <a:pt x="296" y="317"/>
                </a:cubicBezTo>
                <a:cubicBezTo>
                  <a:pt x="295" y="319"/>
                  <a:pt x="292" y="321"/>
                  <a:pt x="290" y="321"/>
                </a:cubicBezTo>
                <a:cubicBezTo>
                  <a:pt x="289" y="321"/>
                  <a:pt x="285" y="318"/>
                  <a:pt x="280" y="314"/>
                </a:cubicBezTo>
                <a:cubicBezTo>
                  <a:pt x="278" y="312"/>
                  <a:pt x="276" y="311"/>
                  <a:pt x="274" y="310"/>
                </a:cubicBezTo>
                <a:cubicBezTo>
                  <a:pt x="269" y="305"/>
                  <a:pt x="268" y="305"/>
                  <a:pt x="267" y="305"/>
                </a:cubicBezTo>
                <a:cubicBezTo>
                  <a:pt x="266" y="305"/>
                  <a:pt x="265" y="305"/>
                  <a:pt x="262" y="307"/>
                </a:cubicBezTo>
                <a:cubicBezTo>
                  <a:pt x="261" y="307"/>
                  <a:pt x="261" y="307"/>
                  <a:pt x="261" y="307"/>
                </a:cubicBezTo>
                <a:cubicBezTo>
                  <a:pt x="260" y="308"/>
                  <a:pt x="260" y="308"/>
                  <a:pt x="260" y="308"/>
                </a:cubicBezTo>
                <a:cubicBezTo>
                  <a:pt x="257" y="310"/>
                  <a:pt x="256" y="311"/>
                  <a:pt x="256" y="312"/>
                </a:cubicBezTo>
                <a:cubicBezTo>
                  <a:pt x="256" y="312"/>
                  <a:pt x="256" y="312"/>
                  <a:pt x="256" y="312"/>
                </a:cubicBezTo>
                <a:cubicBezTo>
                  <a:pt x="256" y="313"/>
                  <a:pt x="256" y="313"/>
                  <a:pt x="256" y="313"/>
                </a:cubicBezTo>
                <a:cubicBezTo>
                  <a:pt x="256" y="313"/>
                  <a:pt x="256" y="315"/>
                  <a:pt x="257" y="320"/>
                </a:cubicBezTo>
                <a:cubicBezTo>
                  <a:pt x="258" y="322"/>
                  <a:pt x="258" y="325"/>
                  <a:pt x="259" y="327"/>
                </a:cubicBezTo>
                <a:cubicBezTo>
                  <a:pt x="260" y="334"/>
                  <a:pt x="261" y="339"/>
                  <a:pt x="261" y="340"/>
                </a:cubicBezTo>
                <a:cubicBezTo>
                  <a:pt x="260" y="341"/>
                  <a:pt x="256" y="343"/>
                  <a:pt x="255" y="343"/>
                </a:cubicBezTo>
                <a:cubicBezTo>
                  <a:pt x="254" y="343"/>
                  <a:pt x="251" y="339"/>
                  <a:pt x="246" y="333"/>
                </a:cubicBezTo>
                <a:cubicBezTo>
                  <a:pt x="244" y="331"/>
                  <a:pt x="243" y="330"/>
                  <a:pt x="242" y="328"/>
                </a:cubicBezTo>
                <a:cubicBezTo>
                  <a:pt x="238" y="323"/>
                  <a:pt x="237" y="322"/>
                  <a:pt x="236" y="322"/>
                </a:cubicBezTo>
                <a:cubicBezTo>
                  <a:pt x="235" y="322"/>
                  <a:pt x="234" y="322"/>
                  <a:pt x="230" y="323"/>
                </a:cubicBezTo>
                <a:cubicBezTo>
                  <a:pt x="229" y="323"/>
                  <a:pt x="229" y="323"/>
                  <a:pt x="229" y="323"/>
                </a:cubicBezTo>
                <a:cubicBezTo>
                  <a:pt x="228" y="324"/>
                  <a:pt x="228" y="324"/>
                  <a:pt x="228" y="324"/>
                </a:cubicBezTo>
                <a:cubicBezTo>
                  <a:pt x="226" y="324"/>
                  <a:pt x="224" y="325"/>
                  <a:pt x="223" y="326"/>
                </a:cubicBezTo>
                <a:cubicBezTo>
                  <a:pt x="223" y="327"/>
                  <a:pt x="223" y="327"/>
                  <a:pt x="223" y="328"/>
                </a:cubicBezTo>
                <a:cubicBezTo>
                  <a:pt x="223" y="329"/>
                  <a:pt x="223" y="331"/>
                  <a:pt x="223" y="334"/>
                </a:cubicBezTo>
                <a:cubicBezTo>
                  <a:pt x="223" y="336"/>
                  <a:pt x="223" y="339"/>
                  <a:pt x="223" y="342"/>
                </a:cubicBezTo>
                <a:cubicBezTo>
                  <a:pt x="223" y="346"/>
                  <a:pt x="222" y="350"/>
                  <a:pt x="222" y="353"/>
                </a:cubicBezTo>
                <a:cubicBezTo>
                  <a:pt x="222" y="354"/>
                  <a:pt x="222" y="355"/>
                  <a:pt x="222" y="355"/>
                </a:cubicBezTo>
                <a:cubicBezTo>
                  <a:pt x="220" y="356"/>
                  <a:pt x="216" y="357"/>
                  <a:pt x="215" y="356"/>
                </a:cubicBezTo>
                <a:cubicBezTo>
                  <a:pt x="214" y="355"/>
                  <a:pt x="212" y="351"/>
                  <a:pt x="209" y="345"/>
                </a:cubicBezTo>
                <a:cubicBezTo>
                  <a:pt x="208" y="342"/>
                  <a:pt x="207" y="340"/>
                  <a:pt x="206" y="338"/>
                </a:cubicBezTo>
                <a:cubicBezTo>
                  <a:pt x="203" y="332"/>
                  <a:pt x="203" y="332"/>
                  <a:pt x="202" y="331"/>
                </a:cubicBezTo>
                <a:cubicBezTo>
                  <a:pt x="201" y="331"/>
                  <a:pt x="200" y="330"/>
                  <a:pt x="196" y="331"/>
                </a:cubicBezTo>
                <a:cubicBezTo>
                  <a:pt x="194" y="329"/>
                  <a:pt x="194" y="329"/>
                  <a:pt x="194" y="329"/>
                </a:cubicBezTo>
                <a:cubicBezTo>
                  <a:pt x="194" y="331"/>
                  <a:pt x="194" y="331"/>
                  <a:pt x="194" y="331"/>
                </a:cubicBezTo>
                <a:cubicBezTo>
                  <a:pt x="191" y="331"/>
                  <a:pt x="189" y="332"/>
                  <a:pt x="188" y="333"/>
                </a:cubicBezTo>
                <a:cubicBezTo>
                  <a:pt x="188" y="333"/>
                  <a:pt x="188" y="334"/>
                  <a:pt x="186" y="340"/>
                </a:cubicBezTo>
                <a:cubicBezTo>
                  <a:pt x="186" y="342"/>
                  <a:pt x="185" y="345"/>
                  <a:pt x="184" y="347"/>
                </a:cubicBezTo>
                <a:cubicBezTo>
                  <a:pt x="182" y="354"/>
                  <a:pt x="181" y="359"/>
                  <a:pt x="180" y="360"/>
                </a:cubicBezTo>
                <a:cubicBezTo>
                  <a:pt x="179" y="360"/>
                  <a:pt x="175" y="360"/>
                  <a:pt x="174" y="360"/>
                </a:cubicBezTo>
                <a:cubicBezTo>
                  <a:pt x="173" y="359"/>
                  <a:pt x="172" y="354"/>
                  <a:pt x="170" y="347"/>
                </a:cubicBezTo>
                <a:cubicBezTo>
                  <a:pt x="170" y="345"/>
                  <a:pt x="169" y="342"/>
                  <a:pt x="169" y="340"/>
                </a:cubicBezTo>
                <a:cubicBezTo>
                  <a:pt x="167" y="334"/>
                  <a:pt x="167" y="333"/>
                  <a:pt x="167" y="332"/>
                </a:cubicBezTo>
                <a:cubicBezTo>
                  <a:pt x="166" y="332"/>
                  <a:pt x="165" y="331"/>
                  <a:pt x="161" y="331"/>
                </a:cubicBezTo>
                <a:cubicBezTo>
                  <a:pt x="160" y="330"/>
                  <a:pt x="160" y="330"/>
                  <a:pt x="160" y="330"/>
                </a:cubicBezTo>
                <a:cubicBezTo>
                  <a:pt x="159" y="330"/>
                  <a:pt x="159" y="330"/>
                  <a:pt x="159" y="330"/>
                </a:cubicBezTo>
                <a:cubicBezTo>
                  <a:pt x="155" y="329"/>
                  <a:pt x="154" y="330"/>
                  <a:pt x="153" y="331"/>
                </a:cubicBezTo>
                <a:cubicBezTo>
                  <a:pt x="152" y="331"/>
                  <a:pt x="152" y="332"/>
                  <a:pt x="149" y="337"/>
                </a:cubicBezTo>
                <a:cubicBezTo>
                  <a:pt x="148" y="339"/>
                  <a:pt x="147" y="341"/>
                  <a:pt x="146" y="344"/>
                </a:cubicBezTo>
                <a:cubicBezTo>
                  <a:pt x="142" y="350"/>
                  <a:pt x="140" y="354"/>
                  <a:pt x="139" y="355"/>
                </a:cubicBezTo>
                <a:cubicBezTo>
                  <a:pt x="137" y="355"/>
                  <a:pt x="133" y="354"/>
                  <a:pt x="132" y="354"/>
                </a:cubicBezTo>
                <a:cubicBezTo>
                  <a:pt x="132" y="352"/>
                  <a:pt x="132" y="348"/>
                  <a:pt x="132" y="340"/>
                </a:cubicBezTo>
                <a:cubicBezTo>
                  <a:pt x="132" y="338"/>
                  <a:pt x="132" y="335"/>
                  <a:pt x="132" y="333"/>
                </a:cubicBezTo>
                <a:cubicBezTo>
                  <a:pt x="132" y="327"/>
                  <a:pt x="132" y="326"/>
                  <a:pt x="132" y="325"/>
                </a:cubicBezTo>
                <a:cubicBezTo>
                  <a:pt x="131" y="324"/>
                  <a:pt x="129" y="323"/>
                  <a:pt x="126" y="322"/>
                </a:cubicBezTo>
                <a:cubicBezTo>
                  <a:pt x="126" y="321"/>
                  <a:pt x="126" y="321"/>
                  <a:pt x="126" y="321"/>
                </a:cubicBezTo>
                <a:cubicBezTo>
                  <a:pt x="125" y="322"/>
                  <a:pt x="125" y="322"/>
                  <a:pt x="125" y="322"/>
                </a:cubicBezTo>
                <a:cubicBezTo>
                  <a:pt x="121" y="320"/>
                  <a:pt x="120" y="320"/>
                  <a:pt x="119" y="320"/>
                </a:cubicBezTo>
                <a:cubicBezTo>
                  <a:pt x="118" y="321"/>
                  <a:pt x="117" y="322"/>
                  <a:pt x="114" y="326"/>
                </a:cubicBezTo>
                <a:cubicBezTo>
                  <a:pt x="112" y="328"/>
                  <a:pt x="111" y="330"/>
                  <a:pt x="109" y="332"/>
                </a:cubicBezTo>
                <a:cubicBezTo>
                  <a:pt x="104" y="337"/>
                  <a:pt x="100" y="340"/>
                  <a:pt x="99" y="341"/>
                </a:cubicBezTo>
                <a:cubicBezTo>
                  <a:pt x="98" y="341"/>
                  <a:pt x="94" y="339"/>
                  <a:pt x="93" y="338"/>
                </a:cubicBezTo>
                <a:cubicBezTo>
                  <a:pt x="93" y="338"/>
                  <a:pt x="94" y="337"/>
                  <a:pt x="94" y="337"/>
                </a:cubicBezTo>
                <a:cubicBezTo>
                  <a:pt x="94" y="337"/>
                  <a:pt x="94" y="337"/>
                  <a:pt x="94" y="337"/>
                </a:cubicBezTo>
                <a:cubicBezTo>
                  <a:pt x="94" y="334"/>
                  <a:pt x="95" y="330"/>
                  <a:pt x="96" y="325"/>
                </a:cubicBezTo>
                <a:cubicBezTo>
                  <a:pt x="97" y="323"/>
                  <a:pt x="97" y="320"/>
                  <a:pt x="98" y="318"/>
                </a:cubicBezTo>
                <a:cubicBezTo>
                  <a:pt x="99" y="315"/>
                  <a:pt x="100" y="313"/>
                  <a:pt x="100" y="312"/>
                </a:cubicBezTo>
                <a:cubicBezTo>
                  <a:pt x="100" y="311"/>
                  <a:pt x="100" y="311"/>
                  <a:pt x="100" y="310"/>
                </a:cubicBezTo>
                <a:cubicBezTo>
                  <a:pt x="99" y="309"/>
                  <a:pt x="98" y="308"/>
                  <a:pt x="95" y="306"/>
                </a:cubicBezTo>
                <a:cubicBezTo>
                  <a:pt x="94" y="304"/>
                  <a:pt x="94" y="304"/>
                  <a:pt x="94" y="304"/>
                </a:cubicBezTo>
                <a:cubicBezTo>
                  <a:pt x="93" y="305"/>
                  <a:pt x="93" y="305"/>
                  <a:pt x="93" y="305"/>
                </a:cubicBezTo>
                <a:cubicBezTo>
                  <a:pt x="91" y="303"/>
                  <a:pt x="90" y="303"/>
                  <a:pt x="88" y="303"/>
                </a:cubicBezTo>
                <a:cubicBezTo>
                  <a:pt x="87" y="303"/>
                  <a:pt x="87" y="303"/>
                  <a:pt x="82" y="307"/>
                </a:cubicBezTo>
                <a:cubicBezTo>
                  <a:pt x="80" y="308"/>
                  <a:pt x="78" y="310"/>
                  <a:pt x="76" y="311"/>
                </a:cubicBezTo>
                <a:cubicBezTo>
                  <a:pt x="70" y="315"/>
                  <a:pt x="66" y="318"/>
                  <a:pt x="64" y="318"/>
                </a:cubicBezTo>
                <a:cubicBezTo>
                  <a:pt x="63" y="318"/>
                  <a:pt x="60" y="315"/>
                  <a:pt x="59" y="314"/>
                </a:cubicBezTo>
                <a:cubicBezTo>
                  <a:pt x="60" y="313"/>
                  <a:pt x="62" y="308"/>
                  <a:pt x="65" y="302"/>
                </a:cubicBezTo>
                <a:cubicBezTo>
                  <a:pt x="66" y="300"/>
                  <a:pt x="67" y="298"/>
                  <a:pt x="68" y="296"/>
                </a:cubicBezTo>
                <a:cubicBezTo>
                  <a:pt x="71" y="291"/>
                  <a:pt x="72" y="290"/>
                  <a:pt x="72" y="289"/>
                </a:cubicBezTo>
                <a:cubicBezTo>
                  <a:pt x="72" y="289"/>
                  <a:pt x="72" y="289"/>
                  <a:pt x="72" y="289"/>
                </a:cubicBezTo>
                <a:cubicBezTo>
                  <a:pt x="72" y="288"/>
                  <a:pt x="72" y="288"/>
                  <a:pt x="72" y="288"/>
                </a:cubicBezTo>
                <a:cubicBezTo>
                  <a:pt x="72" y="287"/>
                  <a:pt x="71" y="286"/>
                  <a:pt x="68" y="283"/>
                </a:cubicBezTo>
                <a:cubicBezTo>
                  <a:pt x="68" y="282"/>
                  <a:pt x="68" y="282"/>
                  <a:pt x="68" y="282"/>
                </a:cubicBezTo>
                <a:cubicBezTo>
                  <a:pt x="67" y="282"/>
                  <a:pt x="67" y="282"/>
                  <a:pt x="67" y="282"/>
                </a:cubicBezTo>
                <a:cubicBezTo>
                  <a:pt x="65" y="279"/>
                  <a:pt x="63" y="278"/>
                  <a:pt x="62" y="278"/>
                </a:cubicBezTo>
                <a:cubicBezTo>
                  <a:pt x="61" y="278"/>
                  <a:pt x="61" y="279"/>
                  <a:pt x="55" y="281"/>
                </a:cubicBezTo>
                <a:cubicBezTo>
                  <a:pt x="53" y="282"/>
                  <a:pt x="51" y="283"/>
                  <a:pt x="48" y="284"/>
                </a:cubicBezTo>
                <a:cubicBezTo>
                  <a:pt x="42" y="286"/>
                  <a:pt x="37" y="288"/>
                  <a:pt x="36" y="288"/>
                </a:cubicBezTo>
                <a:cubicBezTo>
                  <a:pt x="34" y="287"/>
                  <a:pt x="32" y="284"/>
                  <a:pt x="32" y="283"/>
                </a:cubicBezTo>
                <a:cubicBezTo>
                  <a:pt x="32" y="281"/>
                  <a:pt x="35" y="278"/>
                  <a:pt x="40" y="272"/>
                </a:cubicBezTo>
                <a:cubicBezTo>
                  <a:pt x="42" y="270"/>
                  <a:pt x="43" y="269"/>
                  <a:pt x="45" y="267"/>
                </a:cubicBezTo>
                <a:cubicBezTo>
                  <a:pt x="49" y="262"/>
                  <a:pt x="49" y="262"/>
                  <a:pt x="50" y="260"/>
                </a:cubicBezTo>
                <a:cubicBezTo>
                  <a:pt x="50" y="260"/>
                  <a:pt x="50" y="258"/>
                  <a:pt x="47" y="255"/>
                </a:cubicBezTo>
                <a:cubicBezTo>
                  <a:pt x="48" y="253"/>
                  <a:pt x="48" y="253"/>
                  <a:pt x="48" y="253"/>
                </a:cubicBezTo>
                <a:cubicBezTo>
                  <a:pt x="46" y="253"/>
                  <a:pt x="46" y="253"/>
                  <a:pt x="46" y="253"/>
                </a:cubicBezTo>
                <a:cubicBezTo>
                  <a:pt x="45" y="250"/>
                  <a:pt x="44" y="249"/>
                  <a:pt x="43" y="249"/>
                </a:cubicBezTo>
                <a:cubicBezTo>
                  <a:pt x="42" y="248"/>
                  <a:pt x="41" y="249"/>
                  <a:pt x="36" y="249"/>
                </a:cubicBezTo>
                <a:cubicBezTo>
                  <a:pt x="33" y="250"/>
                  <a:pt x="31" y="250"/>
                  <a:pt x="28" y="251"/>
                </a:cubicBezTo>
                <a:cubicBezTo>
                  <a:pt x="21" y="252"/>
                  <a:pt x="16" y="252"/>
                  <a:pt x="15" y="252"/>
                </a:cubicBezTo>
                <a:cubicBezTo>
                  <a:pt x="14" y="251"/>
                  <a:pt x="12" y="247"/>
                  <a:pt x="12" y="246"/>
                </a:cubicBezTo>
                <a:cubicBezTo>
                  <a:pt x="13" y="245"/>
                  <a:pt x="16" y="242"/>
                  <a:pt x="22" y="237"/>
                </a:cubicBezTo>
                <a:cubicBezTo>
                  <a:pt x="24" y="236"/>
                  <a:pt x="26" y="235"/>
                  <a:pt x="28" y="234"/>
                </a:cubicBezTo>
                <a:cubicBezTo>
                  <a:pt x="33" y="230"/>
                  <a:pt x="34" y="229"/>
                  <a:pt x="35" y="228"/>
                </a:cubicBezTo>
                <a:cubicBezTo>
                  <a:pt x="35" y="228"/>
                  <a:pt x="35" y="228"/>
                  <a:pt x="35" y="228"/>
                </a:cubicBezTo>
                <a:cubicBezTo>
                  <a:pt x="35" y="226"/>
                  <a:pt x="35" y="225"/>
                  <a:pt x="34" y="222"/>
                </a:cubicBezTo>
                <a:cubicBezTo>
                  <a:pt x="34" y="221"/>
                  <a:pt x="34" y="221"/>
                  <a:pt x="34" y="221"/>
                </a:cubicBezTo>
                <a:cubicBezTo>
                  <a:pt x="33" y="220"/>
                  <a:pt x="33" y="220"/>
                  <a:pt x="33" y="220"/>
                </a:cubicBezTo>
                <a:cubicBezTo>
                  <a:pt x="32" y="217"/>
                  <a:pt x="31" y="216"/>
                  <a:pt x="31" y="215"/>
                </a:cubicBezTo>
                <a:cubicBezTo>
                  <a:pt x="30" y="215"/>
                  <a:pt x="29" y="215"/>
                  <a:pt x="23" y="214"/>
                </a:cubicBezTo>
                <a:cubicBezTo>
                  <a:pt x="21" y="214"/>
                  <a:pt x="18" y="214"/>
                  <a:pt x="16" y="214"/>
                </a:cubicBezTo>
                <a:cubicBezTo>
                  <a:pt x="8" y="213"/>
                  <a:pt x="4" y="212"/>
                  <a:pt x="3" y="212"/>
                </a:cubicBezTo>
                <a:cubicBezTo>
                  <a:pt x="2" y="211"/>
                  <a:pt x="1" y="208"/>
                  <a:pt x="1" y="206"/>
                </a:cubicBezTo>
                <a:cubicBezTo>
                  <a:pt x="1" y="206"/>
                  <a:pt x="1" y="205"/>
                  <a:pt x="1" y="205"/>
                </a:cubicBezTo>
                <a:cubicBezTo>
                  <a:pt x="2" y="205"/>
                  <a:pt x="7" y="202"/>
                  <a:pt x="13" y="200"/>
                </a:cubicBezTo>
                <a:cubicBezTo>
                  <a:pt x="16" y="199"/>
                  <a:pt x="18" y="198"/>
                  <a:pt x="20" y="197"/>
                </a:cubicBezTo>
                <a:cubicBezTo>
                  <a:pt x="26" y="195"/>
                  <a:pt x="27" y="195"/>
                  <a:pt x="27" y="194"/>
                </a:cubicBezTo>
                <a:cubicBezTo>
                  <a:pt x="28" y="193"/>
                  <a:pt x="28" y="193"/>
                  <a:pt x="28" y="192"/>
                </a:cubicBezTo>
                <a:cubicBezTo>
                  <a:pt x="28" y="190"/>
                  <a:pt x="28" y="189"/>
                  <a:pt x="28" y="188"/>
                </a:cubicBezTo>
                <a:cubicBezTo>
                  <a:pt x="29" y="186"/>
                  <a:pt x="29" y="186"/>
                  <a:pt x="29" y="186"/>
                </a:cubicBezTo>
                <a:cubicBezTo>
                  <a:pt x="28" y="185"/>
                  <a:pt x="28" y="185"/>
                  <a:pt x="28" y="185"/>
                </a:cubicBezTo>
                <a:cubicBezTo>
                  <a:pt x="28" y="182"/>
                  <a:pt x="27" y="181"/>
                  <a:pt x="26" y="180"/>
                </a:cubicBezTo>
                <a:cubicBezTo>
                  <a:pt x="26" y="179"/>
                  <a:pt x="25" y="179"/>
                  <a:pt x="20" y="177"/>
                </a:cubicBezTo>
                <a:cubicBezTo>
                  <a:pt x="17" y="177"/>
                  <a:pt x="15" y="176"/>
                  <a:pt x="12" y="175"/>
                </a:cubicBezTo>
                <a:cubicBezTo>
                  <a:pt x="5" y="173"/>
                  <a:pt x="1" y="171"/>
                  <a:pt x="0" y="170"/>
                </a:cubicBezTo>
                <a:cubicBezTo>
                  <a:pt x="0" y="170"/>
                  <a:pt x="0" y="168"/>
                  <a:pt x="0" y="166"/>
                </a:cubicBezTo>
                <a:close/>
                <a:moveTo>
                  <a:pt x="287" y="193"/>
                </a:moveTo>
                <a:cubicBezTo>
                  <a:pt x="295" y="134"/>
                  <a:pt x="253" y="79"/>
                  <a:pt x="193" y="72"/>
                </a:cubicBezTo>
                <a:cubicBezTo>
                  <a:pt x="134" y="64"/>
                  <a:pt x="80" y="106"/>
                  <a:pt x="72" y="165"/>
                </a:cubicBezTo>
                <a:cubicBezTo>
                  <a:pt x="64" y="225"/>
                  <a:pt x="106" y="279"/>
                  <a:pt x="166" y="287"/>
                </a:cubicBezTo>
                <a:cubicBezTo>
                  <a:pt x="225" y="295"/>
                  <a:pt x="280" y="253"/>
                  <a:pt x="287" y="193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383" h="382">
                <a:moveTo>
                  <a:pt x="0" y="201"/>
                </a:moveTo>
                <a:cubicBezTo>
                  <a:pt x="0" y="200"/>
                  <a:pt x="1" y="199"/>
                  <a:pt x="1" y="199"/>
                </a:cubicBezTo>
                <a:cubicBezTo>
                  <a:pt x="2" y="198"/>
                  <a:pt x="6" y="196"/>
                  <a:pt x="14" y="194"/>
                </a:cubicBezTo>
                <a:cubicBezTo>
                  <a:pt x="16" y="193"/>
                  <a:pt x="19" y="193"/>
                  <a:pt x="21" y="192"/>
                </a:cubicBezTo>
                <a:cubicBezTo>
                  <a:pt x="28" y="190"/>
                  <a:pt x="29" y="190"/>
                  <a:pt x="29" y="189"/>
                </a:cubicBezTo>
                <a:cubicBezTo>
                  <a:pt x="30" y="188"/>
                  <a:pt x="31" y="187"/>
                  <a:pt x="31" y="183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0"/>
                  <a:pt x="31" y="179"/>
                </a:cubicBezTo>
                <a:cubicBezTo>
                  <a:pt x="31" y="177"/>
                  <a:pt x="31" y="176"/>
                  <a:pt x="30" y="175"/>
                </a:cubicBezTo>
                <a:cubicBezTo>
                  <a:pt x="29" y="174"/>
                  <a:pt x="28" y="174"/>
                  <a:pt x="23" y="171"/>
                </a:cubicBezTo>
                <a:cubicBezTo>
                  <a:pt x="21" y="170"/>
                  <a:pt x="18" y="169"/>
                  <a:pt x="15" y="168"/>
                </a:cubicBezTo>
                <a:cubicBezTo>
                  <a:pt x="8" y="165"/>
                  <a:pt x="4" y="162"/>
                  <a:pt x="3" y="162"/>
                </a:cubicBezTo>
                <a:cubicBezTo>
                  <a:pt x="3" y="161"/>
                  <a:pt x="3" y="161"/>
                  <a:pt x="3" y="160"/>
                </a:cubicBezTo>
                <a:cubicBezTo>
                  <a:pt x="3" y="158"/>
                  <a:pt x="4" y="155"/>
                  <a:pt x="4" y="155"/>
                </a:cubicBezTo>
                <a:cubicBezTo>
                  <a:pt x="5" y="154"/>
                  <a:pt x="10" y="153"/>
                  <a:pt x="18" y="153"/>
                </a:cubicBezTo>
                <a:cubicBezTo>
                  <a:pt x="21" y="153"/>
                  <a:pt x="23" y="153"/>
                  <a:pt x="25" y="153"/>
                </a:cubicBezTo>
                <a:cubicBezTo>
                  <a:pt x="32" y="153"/>
                  <a:pt x="33" y="153"/>
                  <a:pt x="34" y="152"/>
                </a:cubicBezTo>
                <a:cubicBezTo>
                  <a:pt x="35" y="151"/>
                  <a:pt x="36" y="150"/>
                  <a:pt x="37" y="146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8" y="143"/>
                  <a:pt x="38" y="141"/>
                  <a:pt x="38" y="140"/>
                </a:cubicBezTo>
                <a:cubicBezTo>
                  <a:pt x="38" y="139"/>
                  <a:pt x="38" y="139"/>
                  <a:pt x="38" y="138"/>
                </a:cubicBezTo>
                <a:cubicBezTo>
                  <a:pt x="38" y="137"/>
                  <a:pt x="37" y="136"/>
                  <a:pt x="32" y="133"/>
                </a:cubicBezTo>
                <a:cubicBezTo>
                  <a:pt x="30" y="131"/>
                  <a:pt x="28" y="130"/>
                  <a:pt x="26" y="128"/>
                </a:cubicBezTo>
                <a:cubicBezTo>
                  <a:pt x="19" y="123"/>
                  <a:pt x="16" y="120"/>
                  <a:pt x="15" y="119"/>
                </a:cubicBezTo>
                <a:cubicBezTo>
                  <a:pt x="15" y="117"/>
                  <a:pt x="17" y="113"/>
                  <a:pt x="18" y="112"/>
                </a:cubicBezTo>
                <a:cubicBezTo>
                  <a:pt x="19" y="112"/>
                  <a:pt x="24" y="113"/>
                  <a:pt x="32" y="114"/>
                </a:cubicBezTo>
                <a:cubicBezTo>
                  <a:pt x="34" y="115"/>
                  <a:pt x="37" y="115"/>
                  <a:pt x="39" y="116"/>
                </a:cubicBezTo>
                <a:cubicBezTo>
                  <a:pt x="46" y="117"/>
                  <a:pt x="47" y="117"/>
                  <a:pt x="48" y="117"/>
                </a:cubicBezTo>
                <a:cubicBezTo>
                  <a:pt x="48" y="116"/>
                  <a:pt x="49" y="116"/>
                  <a:pt x="52" y="112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5" y="107"/>
                  <a:pt x="55" y="105"/>
                  <a:pt x="55" y="105"/>
                </a:cubicBezTo>
                <a:cubicBezTo>
                  <a:pt x="55" y="105"/>
                  <a:pt x="55" y="104"/>
                  <a:pt x="55" y="104"/>
                </a:cubicBezTo>
                <a:cubicBezTo>
                  <a:pt x="54" y="103"/>
                  <a:pt x="54" y="102"/>
                  <a:pt x="50" y="98"/>
                </a:cubicBezTo>
                <a:cubicBezTo>
                  <a:pt x="48" y="96"/>
                  <a:pt x="46" y="94"/>
                  <a:pt x="45" y="91"/>
                </a:cubicBezTo>
                <a:cubicBezTo>
                  <a:pt x="40" y="85"/>
                  <a:pt x="37" y="81"/>
                  <a:pt x="36" y="80"/>
                </a:cubicBezTo>
                <a:cubicBezTo>
                  <a:pt x="37" y="79"/>
                  <a:pt x="39" y="75"/>
                  <a:pt x="41" y="74"/>
                </a:cubicBezTo>
                <a:cubicBezTo>
                  <a:pt x="42" y="75"/>
                  <a:pt x="47" y="76"/>
                  <a:pt x="54" y="79"/>
                </a:cubicBezTo>
                <a:cubicBezTo>
                  <a:pt x="56" y="80"/>
                  <a:pt x="58" y="81"/>
                  <a:pt x="61" y="82"/>
                </a:cubicBezTo>
                <a:cubicBezTo>
                  <a:pt x="67" y="85"/>
                  <a:pt x="68" y="86"/>
                  <a:pt x="69" y="85"/>
                </a:cubicBezTo>
                <a:cubicBezTo>
                  <a:pt x="70" y="85"/>
                  <a:pt x="72" y="84"/>
                  <a:pt x="7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0"/>
                  <a:pt x="75" y="80"/>
                  <a:pt x="75" y="80"/>
                </a:cubicBezTo>
                <a:cubicBezTo>
                  <a:pt x="77" y="78"/>
                  <a:pt x="78" y="76"/>
                  <a:pt x="78" y="75"/>
                </a:cubicBezTo>
                <a:cubicBezTo>
                  <a:pt x="78" y="74"/>
                  <a:pt x="78" y="73"/>
                  <a:pt x="75" y="68"/>
                </a:cubicBezTo>
                <a:cubicBezTo>
                  <a:pt x="74" y="66"/>
                  <a:pt x="73" y="63"/>
                  <a:pt x="72" y="60"/>
                </a:cubicBezTo>
                <a:cubicBezTo>
                  <a:pt x="68" y="53"/>
                  <a:pt x="67" y="49"/>
                  <a:pt x="66" y="47"/>
                </a:cubicBezTo>
                <a:cubicBezTo>
                  <a:pt x="67" y="46"/>
                  <a:pt x="70" y="43"/>
                  <a:pt x="72" y="43"/>
                </a:cubicBezTo>
                <a:cubicBezTo>
                  <a:pt x="73" y="43"/>
                  <a:pt x="77" y="46"/>
                  <a:pt x="83" y="51"/>
                </a:cubicBezTo>
                <a:cubicBezTo>
                  <a:pt x="85" y="52"/>
                  <a:pt x="87" y="54"/>
                  <a:pt x="89" y="55"/>
                </a:cubicBezTo>
                <a:cubicBezTo>
                  <a:pt x="95" y="59"/>
                  <a:pt x="95" y="60"/>
                  <a:pt x="97" y="60"/>
                </a:cubicBezTo>
                <a:cubicBezTo>
                  <a:pt x="97" y="60"/>
                  <a:pt x="99" y="60"/>
                  <a:pt x="102" y="57"/>
                </a:cubicBezTo>
                <a:cubicBezTo>
                  <a:pt x="104" y="57"/>
                  <a:pt x="104" y="57"/>
                  <a:pt x="104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7" y="54"/>
                  <a:pt x="108" y="53"/>
                  <a:pt x="108" y="52"/>
                </a:cubicBezTo>
                <a:cubicBezTo>
                  <a:pt x="108" y="52"/>
                  <a:pt x="108" y="52"/>
                  <a:pt x="108" y="52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09" y="50"/>
                  <a:pt x="108" y="48"/>
                  <a:pt x="107" y="44"/>
                </a:cubicBezTo>
                <a:cubicBezTo>
                  <a:pt x="106" y="42"/>
                  <a:pt x="106" y="39"/>
                  <a:pt x="105" y="36"/>
                </a:cubicBezTo>
                <a:cubicBezTo>
                  <a:pt x="104" y="30"/>
                  <a:pt x="103" y="24"/>
                  <a:pt x="103" y="22"/>
                </a:cubicBezTo>
                <a:cubicBezTo>
                  <a:pt x="103" y="22"/>
                  <a:pt x="103" y="22"/>
                  <a:pt x="103" y="22"/>
                </a:cubicBezTo>
                <a:cubicBezTo>
                  <a:pt x="104" y="21"/>
                  <a:pt x="108" y="19"/>
                  <a:pt x="109" y="19"/>
                </a:cubicBezTo>
                <a:cubicBezTo>
                  <a:pt x="110" y="20"/>
                  <a:pt x="114" y="23"/>
                  <a:pt x="119" y="29"/>
                </a:cubicBezTo>
                <a:cubicBezTo>
                  <a:pt x="120" y="31"/>
                  <a:pt x="122" y="33"/>
                  <a:pt x="123" y="35"/>
                </a:cubicBezTo>
                <a:cubicBezTo>
                  <a:pt x="128" y="41"/>
                  <a:pt x="128" y="41"/>
                  <a:pt x="129" y="42"/>
                </a:cubicBezTo>
                <a:cubicBezTo>
                  <a:pt x="130" y="42"/>
                  <a:pt x="132" y="42"/>
                  <a:pt x="136" y="40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41" y="39"/>
                  <a:pt x="142" y="38"/>
                  <a:pt x="143" y="36"/>
                </a:cubicBezTo>
                <a:cubicBezTo>
                  <a:pt x="143" y="36"/>
                  <a:pt x="143" y="35"/>
                  <a:pt x="143" y="30"/>
                </a:cubicBezTo>
                <a:cubicBezTo>
                  <a:pt x="143" y="27"/>
                  <a:pt x="143" y="27"/>
                  <a:pt x="143" y="27"/>
                </a:cubicBezTo>
                <a:cubicBezTo>
                  <a:pt x="143" y="25"/>
                  <a:pt x="143" y="23"/>
                  <a:pt x="143" y="20"/>
                </a:cubicBezTo>
                <a:cubicBezTo>
                  <a:pt x="143" y="13"/>
                  <a:pt x="144" y="8"/>
                  <a:pt x="144" y="6"/>
                </a:cubicBezTo>
                <a:cubicBezTo>
                  <a:pt x="146" y="5"/>
                  <a:pt x="150" y="4"/>
                  <a:pt x="151" y="5"/>
                </a:cubicBezTo>
                <a:cubicBezTo>
                  <a:pt x="152" y="6"/>
                  <a:pt x="155" y="10"/>
                  <a:pt x="158" y="17"/>
                </a:cubicBezTo>
                <a:cubicBezTo>
                  <a:pt x="159" y="19"/>
                  <a:pt x="160" y="22"/>
                  <a:pt x="161" y="24"/>
                </a:cubicBezTo>
                <a:cubicBezTo>
                  <a:pt x="164" y="30"/>
                  <a:pt x="165" y="31"/>
                  <a:pt x="166" y="31"/>
                </a:cubicBezTo>
                <a:cubicBezTo>
                  <a:pt x="166" y="32"/>
                  <a:pt x="168" y="32"/>
                  <a:pt x="172" y="31"/>
                </a:cubicBezTo>
                <a:cubicBezTo>
                  <a:pt x="173" y="32"/>
                  <a:pt x="173" y="32"/>
                  <a:pt x="173" y="32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31"/>
                  <a:pt x="179" y="30"/>
                  <a:pt x="180" y="30"/>
                </a:cubicBezTo>
                <a:cubicBezTo>
                  <a:pt x="181" y="29"/>
                  <a:pt x="181" y="28"/>
                  <a:pt x="182" y="22"/>
                </a:cubicBezTo>
                <a:cubicBezTo>
                  <a:pt x="183" y="20"/>
                  <a:pt x="183" y="17"/>
                  <a:pt x="184" y="14"/>
                </a:cubicBezTo>
                <a:cubicBezTo>
                  <a:pt x="186" y="7"/>
                  <a:pt x="188" y="2"/>
                  <a:pt x="188" y="1"/>
                </a:cubicBezTo>
                <a:cubicBezTo>
                  <a:pt x="190" y="0"/>
                  <a:pt x="194" y="0"/>
                  <a:pt x="195" y="1"/>
                </a:cubicBezTo>
                <a:cubicBezTo>
                  <a:pt x="196" y="2"/>
                  <a:pt x="198" y="6"/>
                  <a:pt x="199" y="14"/>
                </a:cubicBezTo>
                <a:cubicBezTo>
                  <a:pt x="200" y="17"/>
                  <a:pt x="200" y="19"/>
                  <a:pt x="201" y="21"/>
                </a:cubicBezTo>
                <a:cubicBezTo>
                  <a:pt x="202" y="28"/>
                  <a:pt x="202" y="29"/>
                  <a:pt x="203" y="30"/>
                </a:cubicBezTo>
                <a:cubicBezTo>
                  <a:pt x="204" y="30"/>
                  <a:pt x="205" y="31"/>
                  <a:pt x="209" y="31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11" y="32"/>
                  <a:pt x="211" y="32"/>
                  <a:pt x="211" y="32"/>
                </a:cubicBezTo>
                <a:cubicBezTo>
                  <a:pt x="215" y="32"/>
                  <a:pt x="217" y="32"/>
                  <a:pt x="218" y="31"/>
                </a:cubicBezTo>
                <a:cubicBezTo>
                  <a:pt x="218" y="31"/>
                  <a:pt x="219" y="30"/>
                  <a:pt x="221" y="24"/>
                </a:cubicBezTo>
                <a:cubicBezTo>
                  <a:pt x="223" y="22"/>
                  <a:pt x="224" y="20"/>
                  <a:pt x="225" y="17"/>
                </a:cubicBezTo>
                <a:cubicBezTo>
                  <a:pt x="229" y="10"/>
                  <a:pt x="232" y="6"/>
                  <a:pt x="232" y="5"/>
                </a:cubicBezTo>
                <a:cubicBezTo>
                  <a:pt x="234" y="5"/>
                  <a:pt x="238" y="6"/>
                  <a:pt x="239" y="7"/>
                </a:cubicBezTo>
                <a:cubicBezTo>
                  <a:pt x="240" y="8"/>
                  <a:pt x="240" y="11"/>
                  <a:pt x="240" y="18"/>
                </a:cubicBezTo>
                <a:cubicBezTo>
                  <a:pt x="240" y="19"/>
                  <a:pt x="240" y="20"/>
                  <a:pt x="240" y="21"/>
                </a:cubicBezTo>
                <a:cubicBezTo>
                  <a:pt x="240" y="23"/>
                  <a:pt x="240" y="26"/>
                  <a:pt x="240" y="28"/>
                </a:cubicBezTo>
                <a:cubicBezTo>
                  <a:pt x="240" y="30"/>
                  <a:pt x="240" y="32"/>
                  <a:pt x="240" y="33"/>
                </a:cubicBezTo>
                <a:cubicBezTo>
                  <a:pt x="240" y="35"/>
                  <a:pt x="240" y="36"/>
                  <a:pt x="240" y="37"/>
                </a:cubicBezTo>
                <a:cubicBezTo>
                  <a:pt x="241" y="38"/>
                  <a:pt x="242" y="39"/>
                  <a:pt x="246" y="40"/>
                </a:cubicBezTo>
                <a:cubicBezTo>
                  <a:pt x="247" y="41"/>
                  <a:pt x="247" y="41"/>
                  <a:pt x="247" y="41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1" y="42"/>
                  <a:pt x="253" y="42"/>
                  <a:pt x="254" y="41"/>
                </a:cubicBezTo>
                <a:cubicBezTo>
                  <a:pt x="255" y="41"/>
                  <a:pt x="255" y="40"/>
                  <a:pt x="259" y="36"/>
                </a:cubicBezTo>
                <a:cubicBezTo>
                  <a:pt x="261" y="34"/>
                  <a:pt x="263" y="32"/>
                  <a:pt x="265" y="30"/>
                </a:cubicBezTo>
                <a:cubicBezTo>
                  <a:pt x="270" y="24"/>
                  <a:pt x="273" y="20"/>
                  <a:pt x="274" y="19"/>
                </a:cubicBezTo>
                <a:cubicBezTo>
                  <a:pt x="276" y="19"/>
                  <a:pt x="280" y="21"/>
                  <a:pt x="281" y="23"/>
                </a:cubicBezTo>
                <a:cubicBezTo>
                  <a:pt x="281" y="25"/>
                  <a:pt x="280" y="30"/>
                  <a:pt x="278" y="36"/>
                </a:cubicBezTo>
                <a:cubicBezTo>
                  <a:pt x="277" y="39"/>
                  <a:pt x="277" y="41"/>
                  <a:pt x="276" y="44"/>
                </a:cubicBezTo>
                <a:cubicBezTo>
                  <a:pt x="275" y="48"/>
                  <a:pt x="274" y="50"/>
                  <a:pt x="274" y="51"/>
                </a:cubicBezTo>
                <a:cubicBezTo>
                  <a:pt x="274" y="52"/>
                  <a:pt x="274" y="52"/>
                  <a:pt x="274" y="52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5" y="53"/>
                  <a:pt x="276" y="54"/>
                  <a:pt x="279" y="56"/>
                </a:cubicBezTo>
                <a:cubicBezTo>
                  <a:pt x="280" y="58"/>
                  <a:pt x="280" y="58"/>
                  <a:pt x="280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84" y="60"/>
                  <a:pt x="286" y="60"/>
                  <a:pt x="287" y="60"/>
                </a:cubicBezTo>
                <a:cubicBezTo>
                  <a:pt x="288" y="60"/>
                  <a:pt x="289" y="59"/>
                  <a:pt x="293" y="56"/>
                </a:cubicBezTo>
                <a:cubicBezTo>
                  <a:pt x="295" y="54"/>
                  <a:pt x="298" y="52"/>
                  <a:pt x="300" y="51"/>
                </a:cubicBezTo>
                <a:cubicBezTo>
                  <a:pt x="306" y="46"/>
                  <a:pt x="311" y="44"/>
                  <a:pt x="312" y="43"/>
                </a:cubicBezTo>
                <a:cubicBezTo>
                  <a:pt x="313" y="44"/>
                  <a:pt x="317" y="46"/>
                  <a:pt x="317" y="48"/>
                </a:cubicBezTo>
                <a:cubicBezTo>
                  <a:pt x="317" y="49"/>
                  <a:pt x="315" y="53"/>
                  <a:pt x="311" y="61"/>
                </a:cubicBezTo>
                <a:cubicBezTo>
                  <a:pt x="310" y="63"/>
                  <a:pt x="309" y="65"/>
                  <a:pt x="308" y="67"/>
                </a:cubicBezTo>
                <a:cubicBezTo>
                  <a:pt x="305" y="73"/>
                  <a:pt x="304" y="74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5" y="76"/>
                  <a:pt x="306" y="78"/>
                  <a:pt x="308" y="80"/>
                </a:cubicBezTo>
                <a:cubicBezTo>
                  <a:pt x="309" y="83"/>
                  <a:pt x="309" y="83"/>
                  <a:pt x="309" y="83"/>
                </a:cubicBezTo>
                <a:cubicBezTo>
                  <a:pt x="310" y="82"/>
                  <a:pt x="310" y="82"/>
                  <a:pt x="310" y="82"/>
                </a:cubicBezTo>
                <a:cubicBezTo>
                  <a:pt x="312" y="84"/>
                  <a:pt x="313" y="85"/>
                  <a:pt x="315" y="85"/>
                </a:cubicBezTo>
                <a:cubicBezTo>
                  <a:pt x="316" y="86"/>
                  <a:pt x="316" y="85"/>
                  <a:pt x="322" y="83"/>
                </a:cubicBezTo>
                <a:cubicBezTo>
                  <a:pt x="324" y="82"/>
                  <a:pt x="327" y="81"/>
                  <a:pt x="329" y="80"/>
                </a:cubicBezTo>
                <a:cubicBezTo>
                  <a:pt x="337" y="77"/>
                  <a:pt x="341" y="75"/>
                  <a:pt x="343" y="75"/>
                </a:cubicBezTo>
                <a:cubicBezTo>
                  <a:pt x="344" y="76"/>
                  <a:pt x="347" y="79"/>
                  <a:pt x="347" y="81"/>
                </a:cubicBezTo>
                <a:cubicBezTo>
                  <a:pt x="346" y="82"/>
                  <a:pt x="344" y="85"/>
                  <a:pt x="338" y="92"/>
                </a:cubicBezTo>
                <a:cubicBezTo>
                  <a:pt x="337" y="94"/>
                  <a:pt x="335" y="96"/>
                  <a:pt x="334" y="97"/>
                </a:cubicBezTo>
                <a:cubicBezTo>
                  <a:pt x="329" y="102"/>
                  <a:pt x="328" y="103"/>
                  <a:pt x="328" y="104"/>
                </a:cubicBezTo>
                <a:cubicBezTo>
                  <a:pt x="328" y="105"/>
                  <a:pt x="328" y="105"/>
                  <a:pt x="328" y="105"/>
                </a:cubicBezTo>
                <a:cubicBezTo>
                  <a:pt x="328" y="106"/>
                  <a:pt x="329" y="108"/>
                  <a:pt x="331" y="110"/>
                </a:cubicBezTo>
                <a:cubicBezTo>
                  <a:pt x="331" y="113"/>
                  <a:pt x="331" y="113"/>
                  <a:pt x="331" y="113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6"/>
                  <a:pt x="335" y="116"/>
                  <a:pt x="336" y="117"/>
                </a:cubicBezTo>
                <a:cubicBezTo>
                  <a:pt x="337" y="117"/>
                  <a:pt x="338" y="117"/>
                  <a:pt x="344" y="116"/>
                </a:cubicBezTo>
                <a:cubicBezTo>
                  <a:pt x="346" y="115"/>
                  <a:pt x="349" y="115"/>
                  <a:pt x="352" y="114"/>
                </a:cubicBezTo>
                <a:cubicBezTo>
                  <a:pt x="359" y="113"/>
                  <a:pt x="364" y="113"/>
                  <a:pt x="366" y="113"/>
                </a:cubicBezTo>
                <a:cubicBezTo>
                  <a:pt x="367" y="114"/>
                  <a:pt x="368" y="118"/>
                  <a:pt x="368" y="119"/>
                </a:cubicBezTo>
                <a:cubicBezTo>
                  <a:pt x="368" y="119"/>
                  <a:pt x="368" y="119"/>
                  <a:pt x="368" y="119"/>
                </a:cubicBezTo>
                <a:cubicBezTo>
                  <a:pt x="368" y="120"/>
                  <a:pt x="364" y="124"/>
                  <a:pt x="357" y="128"/>
                </a:cubicBezTo>
                <a:cubicBezTo>
                  <a:pt x="355" y="130"/>
                  <a:pt x="353" y="131"/>
                  <a:pt x="352" y="133"/>
                </a:cubicBezTo>
                <a:cubicBezTo>
                  <a:pt x="346" y="137"/>
                  <a:pt x="345" y="137"/>
                  <a:pt x="345" y="138"/>
                </a:cubicBezTo>
                <a:cubicBezTo>
                  <a:pt x="345" y="139"/>
                  <a:pt x="345" y="139"/>
                  <a:pt x="345" y="139"/>
                </a:cubicBezTo>
                <a:cubicBezTo>
                  <a:pt x="345" y="141"/>
                  <a:pt x="345" y="142"/>
                  <a:pt x="346" y="144"/>
                </a:cubicBezTo>
                <a:cubicBezTo>
                  <a:pt x="345" y="147"/>
                  <a:pt x="345" y="147"/>
                  <a:pt x="345" y="147"/>
                </a:cubicBezTo>
                <a:cubicBezTo>
                  <a:pt x="346" y="147"/>
                  <a:pt x="346" y="147"/>
                  <a:pt x="346" y="147"/>
                </a:cubicBezTo>
                <a:cubicBezTo>
                  <a:pt x="347" y="150"/>
                  <a:pt x="348" y="151"/>
                  <a:pt x="349" y="152"/>
                </a:cubicBezTo>
                <a:cubicBezTo>
                  <a:pt x="350" y="152"/>
                  <a:pt x="351" y="153"/>
                  <a:pt x="357" y="153"/>
                </a:cubicBezTo>
                <a:cubicBezTo>
                  <a:pt x="359" y="153"/>
                  <a:pt x="362" y="153"/>
                  <a:pt x="365" y="153"/>
                </a:cubicBezTo>
                <a:cubicBezTo>
                  <a:pt x="373" y="154"/>
                  <a:pt x="378" y="155"/>
                  <a:pt x="379" y="155"/>
                </a:cubicBezTo>
                <a:cubicBezTo>
                  <a:pt x="380" y="156"/>
                  <a:pt x="380" y="159"/>
                  <a:pt x="380" y="161"/>
                </a:cubicBezTo>
                <a:cubicBezTo>
                  <a:pt x="380" y="162"/>
                  <a:pt x="380" y="162"/>
                  <a:pt x="380" y="162"/>
                </a:cubicBezTo>
                <a:cubicBezTo>
                  <a:pt x="379" y="163"/>
                  <a:pt x="375" y="165"/>
                  <a:pt x="368" y="168"/>
                </a:cubicBezTo>
                <a:cubicBezTo>
                  <a:pt x="365" y="169"/>
                  <a:pt x="363" y="170"/>
                  <a:pt x="361" y="171"/>
                </a:cubicBezTo>
                <a:cubicBezTo>
                  <a:pt x="354" y="174"/>
                  <a:pt x="354" y="174"/>
                  <a:pt x="353" y="175"/>
                </a:cubicBezTo>
                <a:cubicBezTo>
                  <a:pt x="352" y="176"/>
                  <a:pt x="352" y="177"/>
                  <a:pt x="352" y="178"/>
                </a:cubicBezTo>
                <a:cubicBezTo>
                  <a:pt x="352" y="179"/>
                  <a:pt x="352" y="181"/>
                  <a:pt x="352" y="181"/>
                </a:cubicBezTo>
                <a:cubicBezTo>
                  <a:pt x="351" y="184"/>
                  <a:pt x="351" y="184"/>
                  <a:pt x="351" y="184"/>
                </a:cubicBezTo>
                <a:cubicBezTo>
                  <a:pt x="352" y="184"/>
                  <a:pt x="352" y="184"/>
                  <a:pt x="352" y="184"/>
                </a:cubicBezTo>
                <a:cubicBezTo>
                  <a:pt x="352" y="187"/>
                  <a:pt x="353" y="188"/>
                  <a:pt x="354" y="189"/>
                </a:cubicBezTo>
                <a:cubicBezTo>
                  <a:pt x="355" y="190"/>
                  <a:pt x="356" y="190"/>
                  <a:pt x="361" y="192"/>
                </a:cubicBezTo>
                <a:cubicBezTo>
                  <a:pt x="364" y="193"/>
                  <a:pt x="366" y="194"/>
                  <a:pt x="369" y="194"/>
                </a:cubicBezTo>
                <a:cubicBezTo>
                  <a:pt x="376" y="197"/>
                  <a:pt x="381" y="199"/>
                  <a:pt x="382" y="199"/>
                </a:cubicBezTo>
                <a:cubicBezTo>
                  <a:pt x="382" y="200"/>
                  <a:pt x="383" y="201"/>
                  <a:pt x="383" y="202"/>
                </a:cubicBezTo>
                <a:cubicBezTo>
                  <a:pt x="383" y="204"/>
                  <a:pt x="382" y="206"/>
                  <a:pt x="382" y="207"/>
                </a:cubicBezTo>
                <a:cubicBezTo>
                  <a:pt x="381" y="207"/>
                  <a:pt x="376" y="208"/>
                  <a:pt x="368" y="210"/>
                </a:cubicBezTo>
                <a:cubicBezTo>
                  <a:pt x="366" y="210"/>
                  <a:pt x="363" y="210"/>
                  <a:pt x="361" y="211"/>
                </a:cubicBezTo>
                <a:cubicBezTo>
                  <a:pt x="354" y="212"/>
                  <a:pt x="353" y="212"/>
                  <a:pt x="352" y="213"/>
                </a:cubicBezTo>
                <a:cubicBezTo>
                  <a:pt x="352" y="213"/>
                  <a:pt x="351" y="215"/>
                  <a:pt x="350" y="219"/>
                </a:cubicBezTo>
                <a:cubicBezTo>
                  <a:pt x="350" y="219"/>
                  <a:pt x="350" y="219"/>
                  <a:pt x="350" y="219"/>
                </a:cubicBezTo>
                <a:cubicBezTo>
                  <a:pt x="350" y="220"/>
                  <a:pt x="350" y="220"/>
                  <a:pt x="350" y="220"/>
                </a:cubicBezTo>
                <a:cubicBezTo>
                  <a:pt x="350" y="222"/>
                  <a:pt x="349" y="223"/>
                  <a:pt x="349" y="224"/>
                </a:cubicBezTo>
                <a:cubicBezTo>
                  <a:pt x="349" y="225"/>
                  <a:pt x="350" y="226"/>
                  <a:pt x="350" y="227"/>
                </a:cubicBezTo>
                <a:cubicBezTo>
                  <a:pt x="351" y="228"/>
                  <a:pt x="351" y="228"/>
                  <a:pt x="357" y="231"/>
                </a:cubicBezTo>
                <a:cubicBezTo>
                  <a:pt x="359" y="232"/>
                  <a:pt x="361" y="234"/>
                  <a:pt x="364" y="235"/>
                </a:cubicBezTo>
                <a:cubicBezTo>
                  <a:pt x="370" y="239"/>
                  <a:pt x="374" y="242"/>
                  <a:pt x="375" y="243"/>
                </a:cubicBezTo>
                <a:cubicBezTo>
                  <a:pt x="375" y="243"/>
                  <a:pt x="375" y="243"/>
                  <a:pt x="375" y="244"/>
                </a:cubicBezTo>
                <a:cubicBezTo>
                  <a:pt x="375" y="246"/>
                  <a:pt x="374" y="249"/>
                  <a:pt x="373" y="250"/>
                </a:cubicBezTo>
                <a:cubicBezTo>
                  <a:pt x="372" y="250"/>
                  <a:pt x="367" y="250"/>
                  <a:pt x="359" y="250"/>
                </a:cubicBezTo>
                <a:cubicBezTo>
                  <a:pt x="357" y="250"/>
                  <a:pt x="354" y="249"/>
                  <a:pt x="352" y="249"/>
                </a:cubicBezTo>
                <a:cubicBezTo>
                  <a:pt x="345" y="249"/>
                  <a:pt x="344" y="249"/>
                  <a:pt x="343" y="249"/>
                </a:cubicBezTo>
                <a:cubicBezTo>
                  <a:pt x="342" y="250"/>
                  <a:pt x="341" y="252"/>
                  <a:pt x="340" y="255"/>
                </a:cubicBezTo>
                <a:cubicBezTo>
                  <a:pt x="339" y="255"/>
                  <a:pt x="339" y="255"/>
                  <a:pt x="339" y="255"/>
                </a:cubicBezTo>
                <a:cubicBezTo>
                  <a:pt x="339" y="256"/>
                  <a:pt x="339" y="256"/>
                  <a:pt x="339" y="256"/>
                </a:cubicBezTo>
                <a:cubicBezTo>
                  <a:pt x="338" y="258"/>
                  <a:pt x="337" y="260"/>
                  <a:pt x="337" y="261"/>
                </a:cubicBezTo>
                <a:cubicBezTo>
                  <a:pt x="337" y="262"/>
                  <a:pt x="338" y="262"/>
                  <a:pt x="338" y="262"/>
                </a:cubicBezTo>
                <a:cubicBezTo>
                  <a:pt x="338" y="263"/>
                  <a:pt x="339" y="264"/>
                  <a:pt x="343" y="268"/>
                </a:cubicBezTo>
                <a:cubicBezTo>
                  <a:pt x="345" y="270"/>
                  <a:pt x="347" y="272"/>
                  <a:pt x="349" y="274"/>
                </a:cubicBezTo>
                <a:cubicBezTo>
                  <a:pt x="354" y="279"/>
                  <a:pt x="358" y="283"/>
                  <a:pt x="358" y="284"/>
                </a:cubicBezTo>
                <a:cubicBezTo>
                  <a:pt x="358" y="286"/>
                  <a:pt x="356" y="290"/>
                  <a:pt x="355" y="290"/>
                </a:cubicBezTo>
                <a:cubicBezTo>
                  <a:pt x="354" y="290"/>
                  <a:pt x="349" y="289"/>
                  <a:pt x="341" y="287"/>
                </a:cubicBezTo>
                <a:cubicBezTo>
                  <a:pt x="339" y="286"/>
                  <a:pt x="336" y="285"/>
                  <a:pt x="334" y="285"/>
                </a:cubicBezTo>
                <a:cubicBezTo>
                  <a:pt x="328" y="282"/>
                  <a:pt x="327" y="282"/>
                  <a:pt x="326" y="283"/>
                </a:cubicBezTo>
                <a:cubicBezTo>
                  <a:pt x="325" y="283"/>
                  <a:pt x="324" y="284"/>
                  <a:pt x="321" y="287"/>
                </a:cubicBezTo>
                <a:cubicBezTo>
                  <a:pt x="320" y="287"/>
                  <a:pt x="320" y="287"/>
                  <a:pt x="320" y="287"/>
                </a:cubicBezTo>
                <a:cubicBezTo>
                  <a:pt x="320" y="288"/>
                  <a:pt x="320" y="288"/>
                  <a:pt x="320" y="288"/>
                </a:cubicBezTo>
                <a:cubicBezTo>
                  <a:pt x="317" y="292"/>
                  <a:pt x="317" y="293"/>
                  <a:pt x="317" y="294"/>
                </a:cubicBezTo>
                <a:cubicBezTo>
                  <a:pt x="317" y="294"/>
                  <a:pt x="317" y="294"/>
                  <a:pt x="317" y="294"/>
                </a:cubicBezTo>
                <a:cubicBezTo>
                  <a:pt x="317" y="295"/>
                  <a:pt x="318" y="296"/>
                  <a:pt x="321" y="301"/>
                </a:cubicBezTo>
                <a:cubicBezTo>
                  <a:pt x="323" y="303"/>
                  <a:pt x="324" y="305"/>
                  <a:pt x="326" y="308"/>
                </a:cubicBezTo>
                <a:cubicBezTo>
                  <a:pt x="330" y="314"/>
                  <a:pt x="332" y="319"/>
                  <a:pt x="333" y="320"/>
                </a:cubicBezTo>
                <a:cubicBezTo>
                  <a:pt x="332" y="322"/>
                  <a:pt x="329" y="325"/>
                  <a:pt x="328" y="325"/>
                </a:cubicBezTo>
                <a:cubicBezTo>
                  <a:pt x="326" y="325"/>
                  <a:pt x="322" y="323"/>
                  <a:pt x="315" y="319"/>
                </a:cubicBezTo>
                <a:cubicBezTo>
                  <a:pt x="313" y="318"/>
                  <a:pt x="311" y="316"/>
                  <a:pt x="309" y="315"/>
                </a:cubicBezTo>
                <a:cubicBezTo>
                  <a:pt x="303" y="311"/>
                  <a:pt x="302" y="311"/>
                  <a:pt x="301" y="311"/>
                </a:cubicBezTo>
                <a:cubicBezTo>
                  <a:pt x="300" y="311"/>
                  <a:pt x="299" y="312"/>
                  <a:pt x="296" y="315"/>
                </a:cubicBezTo>
                <a:cubicBezTo>
                  <a:pt x="294" y="315"/>
                  <a:pt x="294" y="315"/>
                  <a:pt x="294" y="315"/>
                </a:cubicBezTo>
                <a:cubicBezTo>
                  <a:pt x="294" y="316"/>
                  <a:pt x="294" y="316"/>
                  <a:pt x="294" y="316"/>
                </a:cubicBezTo>
                <a:cubicBezTo>
                  <a:pt x="291" y="318"/>
                  <a:pt x="290" y="319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2"/>
                  <a:pt x="291" y="323"/>
                  <a:pt x="292" y="328"/>
                </a:cubicBezTo>
                <a:cubicBezTo>
                  <a:pt x="293" y="330"/>
                  <a:pt x="294" y="333"/>
                  <a:pt x="295" y="336"/>
                </a:cubicBezTo>
                <a:cubicBezTo>
                  <a:pt x="298" y="342"/>
                  <a:pt x="299" y="348"/>
                  <a:pt x="299" y="349"/>
                </a:cubicBezTo>
                <a:cubicBezTo>
                  <a:pt x="298" y="351"/>
                  <a:pt x="295" y="353"/>
                  <a:pt x="293" y="353"/>
                </a:cubicBezTo>
                <a:cubicBezTo>
                  <a:pt x="292" y="353"/>
                  <a:pt x="288" y="350"/>
                  <a:pt x="283" y="344"/>
                </a:cubicBezTo>
                <a:cubicBezTo>
                  <a:pt x="281" y="342"/>
                  <a:pt x="279" y="340"/>
                  <a:pt x="277" y="339"/>
                </a:cubicBezTo>
                <a:cubicBezTo>
                  <a:pt x="272" y="334"/>
                  <a:pt x="272" y="333"/>
                  <a:pt x="271" y="333"/>
                </a:cubicBezTo>
                <a:cubicBezTo>
                  <a:pt x="270" y="333"/>
                  <a:pt x="268" y="333"/>
                  <a:pt x="265" y="335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3" y="336"/>
                  <a:pt x="263" y="336"/>
                  <a:pt x="263" y="336"/>
                </a:cubicBezTo>
                <a:cubicBezTo>
                  <a:pt x="260" y="337"/>
                  <a:pt x="258" y="338"/>
                  <a:pt x="258" y="340"/>
                </a:cubicBezTo>
                <a:cubicBezTo>
                  <a:pt x="258" y="340"/>
                  <a:pt x="258" y="341"/>
                  <a:pt x="258" y="341"/>
                </a:cubicBezTo>
                <a:cubicBezTo>
                  <a:pt x="258" y="342"/>
                  <a:pt x="258" y="344"/>
                  <a:pt x="258" y="348"/>
                </a:cubicBezTo>
                <a:cubicBezTo>
                  <a:pt x="259" y="350"/>
                  <a:pt x="259" y="353"/>
                  <a:pt x="259" y="356"/>
                </a:cubicBezTo>
                <a:cubicBezTo>
                  <a:pt x="260" y="360"/>
                  <a:pt x="260" y="365"/>
                  <a:pt x="260" y="368"/>
                </a:cubicBezTo>
                <a:cubicBezTo>
                  <a:pt x="260" y="369"/>
                  <a:pt x="260" y="370"/>
                  <a:pt x="260" y="370"/>
                </a:cubicBezTo>
                <a:cubicBezTo>
                  <a:pt x="259" y="371"/>
                  <a:pt x="255" y="373"/>
                  <a:pt x="253" y="372"/>
                </a:cubicBezTo>
                <a:cubicBezTo>
                  <a:pt x="252" y="371"/>
                  <a:pt x="249" y="368"/>
                  <a:pt x="245" y="361"/>
                </a:cubicBezTo>
                <a:cubicBezTo>
                  <a:pt x="244" y="359"/>
                  <a:pt x="242" y="357"/>
                  <a:pt x="241" y="355"/>
                </a:cubicBezTo>
                <a:cubicBezTo>
                  <a:pt x="237" y="349"/>
                  <a:pt x="237" y="348"/>
                  <a:pt x="236" y="348"/>
                </a:cubicBezTo>
                <a:cubicBezTo>
                  <a:pt x="235" y="347"/>
                  <a:pt x="233" y="347"/>
                  <a:pt x="229" y="348"/>
                </a:cubicBezTo>
                <a:cubicBezTo>
                  <a:pt x="227" y="347"/>
                  <a:pt x="227" y="347"/>
                  <a:pt x="227" y="347"/>
                </a:cubicBezTo>
                <a:cubicBezTo>
                  <a:pt x="227" y="349"/>
                  <a:pt x="227" y="349"/>
                  <a:pt x="227" y="349"/>
                </a:cubicBezTo>
                <a:cubicBezTo>
                  <a:pt x="224" y="349"/>
                  <a:pt x="223" y="350"/>
                  <a:pt x="222" y="351"/>
                </a:cubicBezTo>
                <a:cubicBezTo>
                  <a:pt x="221" y="352"/>
                  <a:pt x="221" y="353"/>
                  <a:pt x="221" y="359"/>
                </a:cubicBezTo>
                <a:cubicBezTo>
                  <a:pt x="220" y="361"/>
                  <a:pt x="220" y="364"/>
                  <a:pt x="220" y="367"/>
                </a:cubicBezTo>
                <a:cubicBezTo>
                  <a:pt x="218" y="375"/>
                  <a:pt x="217" y="380"/>
                  <a:pt x="217" y="381"/>
                </a:cubicBezTo>
                <a:cubicBezTo>
                  <a:pt x="215" y="382"/>
                  <a:pt x="211" y="382"/>
                  <a:pt x="210" y="382"/>
                </a:cubicBezTo>
                <a:cubicBezTo>
                  <a:pt x="209" y="381"/>
                  <a:pt x="207" y="376"/>
                  <a:pt x="204" y="369"/>
                </a:cubicBezTo>
                <a:cubicBezTo>
                  <a:pt x="204" y="366"/>
                  <a:pt x="203" y="364"/>
                  <a:pt x="202" y="362"/>
                </a:cubicBezTo>
                <a:cubicBezTo>
                  <a:pt x="200" y="355"/>
                  <a:pt x="200" y="354"/>
                  <a:pt x="199" y="354"/>
                </a:cubicBezTo>
                <a:cubicBezTo>
                  <a:pt x="198" y="353"/>
                  <a:pt x="197" y="352"/>
                  <a:pt x="192" y="353"/>
                </a:cubicBezTo>
                <a:cubicBezTo>
                  <a:pt x="191" y="352"/>
                  <a:pt x="191" y="352"/>
                  <a:pt x="191" y="352"/>
                </a:cubicBezTo>
                <a:cubicBezTo>
                  <a:pt x="190" y="353"/>
                  <a:pt x="190" y="353"/>
                  <a:pt x="190" y="353"/>
                </a:cubicBezTo>
                <a:cubicBezTo>
                  <a:pt x="186" y="352"/>
                  <a:pt x="185" y="353"/>
                  <a:pt x="184" y="354"/>
                </a:cubicBezTo>
                <a:cubicBezTo>
                  <a:pt x="183" y="354"/>
                  <a:pt x="183" y="355"/>
                  <a:pt x="181" y="361"/>
                </a:cubicBezTo>
                <a:cubicBezTo>
                  <a:pt x="180" y="363"/>
                  <a:pt x="179" y="366"/>
                  <a:pt x="178" y="369"/>
                </a:cubicBezTo>
                <a:cubicBezTo>
                  <a:pt x="175" y="376"/>
                  <a:pt x="173" y="380"/>
                  <a:pt x="173" y="382"/>
                </a:cubicBezTo>
                <a:cubicBezTo>
                  <a:pt x="171" y="382"/>
                  <a:pt x="167" y="382"/>
                  <a:pt x="165" y="381"/>
                </a:cubicBezTo>
                <a:cubicBezTo>
                  <a:pt x="165" y="380"/>
                  <a:pt x="164" y="375"/>
                  <a:pt x="163" y="367"/>
                </a:cubicBezTo>
                <a:cubicBezTo>
                  <a:pt x="163" y="364"/>
                  <a:pt x="163" y="362"/>
                  <a:pt x="163" y="360"/>
                </a:cubicBezTo>
                <a:cubicBezTo>
                  <a:pt x="162" y="353"/>
                  <a:pt x="162" y="352"/>
                  <a:pt x="161" y="351"/>
                </a:cubicBezTo>
                <a:cubicBezTo>
                  <a:pt x="160" y="350"/>
                  <a:pt x="158" y="349"/>
                  <a:pt x="155" y="349"/>
                </a:cubicBezTo>
                <a:cubicBezTo>
                  <a:pt x="154" y="347"/>
                  <a:pt x="154" y="347"/>
                  <a:pt x="154" y="347"/>
                </a:cubicBezTo>
                <a:cubicBezTo>
                  <a:pt x="153" y="348"/>
                  <a:pt x="153" y="348"/>
                  <a:pt x="153" y="348"/>
                </a:cubicBezTo>
                <a:cubicBezTo>
                  <a:pt x="149" y="347"/>
                  <a:pt x="148" y="347"/>
                  <a:pt x="147" y="348"/>
                </a:cubicBezTo>
                <a:cubicBezTo>
                  <a:pt x="146" y="348"/>
                  <a:pt x="146" y="349"/>
                  <a:pt x="142" y="354"/>
                </a:cubicBezTo>
                <a:cubicBezTo>
                  <a:pt x="141" y="356"/>
                  <a:pt x="139" y="359"/>
                  <a:pt x="138" y="361"/>
                </a:cubicBezTo>
                <a:cubicBezTo>
                  <a:pt x="133" y="367"/>
                  <a:pt x="130" y="371"/>
                  <a:pt x="129" y="372"/>
                </a:cubicBezTo>
                <a:cubicBezTo>
                  <a:pt x="128" y="372"/>
                  <a:pt x="123" y="371"/>
                  <a:pt x="122" y="370"/>
                </a:cubicBezTo>
                <a:cubicBezTo>
                  <a:pt x="122" y="369"/>
                  <a:pt x="122" y="369"/>
                  <a:pt x="122" y="368"/>
                </a:cubicBezTo>
                <a:cubicBezTo>
                  <a:pt x="122" y="368"/>
                  <a:pt x="122" y="368"/>
                  <a:pt x="122" y="368"/>
                </a:cubicBezTo>
                <a:cubicBezTo>
                  <a:pt x="122" y="366"/>
                  <a:pt x="123" y="361"/>
                  <a:pt x="124" y="356"/>
                </a:cubicBezTo>
                <a:cubicBezTo>
                  <a:pt x="124" y="353"/>
                  <a:pt x="124" y="351"/>
                  <a:pt x="125" y="348"/>
                </a:cubicBezTo>
                <a:cubicBezTo>
                  <a:pt x="125" y="344"/>
                  <a:pt x="125" y="342"/>
                  <a:pt x="125" y="341"/>
                </a:cubicBezTo>
                <a:cubicBezTo>
                  <a:pt x="125" y="341"/>
                  <a:pt x="125" y="340"/>
                  <a:pt x="125" y="340"/>
                </a:cubicBezTo>
                <a:cubicBezTo>
                  <a:pt x="124" y="338"/>
                  <a:pt x="123" y="337"/>
                  <a:pt x="120" y="336"/>
                </a:cubicBezTo>
                <a:cubicBezTo>
                  <a:pt x="119" y="334"/>
                  <a:pt x="119" y="334"/>
                  <a:pt x="119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3"/>
                  <a:pt x="114" y="333"/>
                  <a:pt x="112" y="333"/>
                </a:cubicBezTo>
                <a:cubicBezTo>
                  <a:pt x="111" y="334"/>
                  <a:pt x="110" y="334"/>
                  <a:pt x="106" y="338"/>
                </a:cubicBezTo>
                <a:cubicBezTo>
                  <a:pt x="104" y="340"/>
                  <a:pt x="102" y="342"/>
                  <a:pt x="100" y="344"/>
                </a:cubicBezTo>
                <a:cubicBezTo>
                  <a:pt x="94" y="349"/>
                  <a:pt x="90" y="352"/>
                  <a:pt x="89" y="353"/>
                </a:cubicBezTo>
                <a:cubicBezTo>
                  <a:pt x="88" y="353"/>
                  <a:pt x="84" y="350"/>
                  <a:pt x="83" y="349"/>
                </a:cubicBezTo>
                <a:cubicBezTo>
                  <a:pt x="83" y="347"/>
                  <a:pt x="85" y="342"/>
                  <a:pt x="88" y="335"/>
                </a:cubicBezTo>
                <a:cubicBezTo>
                  <a:pt x="88" y="333"/>
                  <a:pt x="89" y="331"/>
                  <a:pt x="90" y="329"/>
                </a:cubicBezTo>
                <a:cubicBezTo>
                  <a:pt x="92" y="323"/>
                  <a:pt x="93" y="322"/>
                  <a:pt x="93" y="321"/>
                </a:cubicBezTo>
                <a:cubicBezTo>
                  <a:pt x="93" y="321"/>
                  <a:pt x="93" y="321"/>
                  <a:pt x="93" y="321"/>
                </a:cubicBezTo>
                <a:cubicBezTo>
                  <a:pt x="93" y="320"/>
                  <a:pt x="93" y="320"/>
                  <a:pt x="93" y="320"/>
                </a:cubicBezTo>
                <a:cubicBezTo>
                  <a:pt x="93" y="319"/>
                  <a:pt x="92" y="318"/>
                  <a:pt x="88" y="315"/>
                </a:cubicBezTo>
                <a:cubicBezTo>
                  <a:pt x="88" y="314"/>
                  <a:pt x="88" y="314"/>
                  <a:pt x="88" y="314"/>
                </a:cubicBezTo>
                <a:cubicBezTo>
                  <a:pt x="87" y="314"/>
                  <a:pt x="87" y="314"/>
                  <a:pt x="87" y="314"/>
                </a:cubicBezTo>
                <a:cubicBezTo>
                  <a:pt x="84" y="311"/>
                  <a:pt x="83" y="311"/>
                  <a:pt x="82" y="311"/>
                </a:cubicBezTo>
                <a:cubicBezTo>
                  <a:pt x="81" y="311"/>
                  <a:pt x="80" y="312"/>
                  <a:pt x="75" y="315"/>
                </a:cubicBezTo>
                <a:cubicBezTo>
                  <a:pt x="73" y="316"/>
                  <a:pt x="70" y="317"/>
                  <a:pt x="67" y="319"/>
                </a:cubicBezTo>
                <a:cubicBezTo>
                  <a:pt x="61" y="322"/>
                  <a:pt x="56" y="325"/>
                  <a:pt x="55" y="325"/>
                </a:cubicBezTo>
                <a:cubicBezTo>
                  <a:pt x="53" y="324"/>
                  <a:pt x="50" y="321"/>
                  <a:pt x="50" y="320"/>
                </a:cubicBezTo>
                <a:cubicBezTo>
                  <a:pt x="50" y="319"/>
                  <a:pt x="53" y="314"/>
                  <a:pt x="57" y="308"/>
                </a:cubicBezTo>
                <a:cubicBezTo>
                  <a:pt x="59" y="305"/>
                  <a:pt x="60" y="303"/>
                  <a:pt x="61" y="302"/>
                </a:cubicBezTo>
                <a:cubicBezTo>
                  <a:pt x="65" y="296"/>
                  <a:pt x="66" y="295"/>
                  <a:pt x="66" y="294"/>
                </a:cubicBezTo>
                <a:cubicBezTo>
                  <a:pt x="66" y="293"/>
                  <a:pt x="65" y="292"/>
                  <a:pt x="63" y="288"/>
                </a:cubicBezTo>
                <a:cubicBezTo>
                  <a:pt x="63" y="286"/>
                  <a:pt x="63" y="286"/>
                  <a:pt x="63" y="286"/>
                </a:cubicBezTo>
                <a:cubicBezTo>
                  <a:pt x="61" y="286"/>
                  <a:pt x="61" y="286"/>
                  <a:pt x="61" y="286"/>
                </a:cubicBezTo>
                <a:cubicBezTo>
                  <a:pt x="59" y="283"/>
                  <a:pt x="58" y="283"/>
                  <a:pt x="57" y="283"/>
                </a:cubicBezTo>
                <a:cubicBezTo>
                  <a:pt x="56" y="282"/>
                  <a:pt x="55" y="283"/>
                  <a:pt x="49" y="284"/>
                </a:cubicBezTo>
                <a:cubicBezTo>
                  <a:pt x="47" y="285"/>
                  <a:pt x="44" y="286"/>
                  <a:pt x="41" y="287"/>
                </a:cubicBezTo>
                <a:cubicBezTo>
                  <a:pt x="34" y="289"/>
                  <a:pt x="29" y="290"/>
                  <a:pt x="28" y="290"/>
                </a:cubicBezTo>
                <a:cubicBezTo>
                  <a:pt x="27" y="289"/>
                  <a:pt x="24" y="285"/>
                  <a:pt x="24" y="284"/>
                </a:cubicBezTo>
                <a:cubicBezTo>
                  <a:pt x="25" y="283"/>
                  <a:pt x="28" y="279"/>
                  <a:pt x="34" y="274"/>
                </a:cubicBezTo>
                <a:cubicBezTo>
                  <a:pt x="36" y="272"/>
                  <a:pt x="38" y="270"/>
                  <a:pt x="39" y="269"/>
                </a:cubicBezTo>
                <a:cubicBezTo>
                  <a:pt x="45" y="264"/>
                  <a:pt x="45" y="263"/>
                  <a:pt x="45" y="262"/>
                </a:cubicBezTo>
                <a:cubicBezTo>
                  <a:pt x="46" y="262"/>
                  <a:pt x="46" y="262"/>
                  <a:pt x="46" y="261"/>
                </a:cubicBezTo>
                <a:cubicBezTo>
                  <a:pt x="46" y="260"/>
                  <a:pt x="45" y="259"/>
                  <a:pt x="44" y="256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3" y="254"/>
                  <a:pt x="43" y="254"/>
                  <a:pt x="43" y="254"/>
                </a:cubicBezTo>
                <a:cubicBezTo>
                  <a:pt x="42" y="250"/>
                  <a:pt x="41" y="250"/>
                  <a:pt x="40" y="249"/>
                </a:cubicBezTo>
                <a:cubicBezTo>
                  <a:pt x="39" y="249"/>
                  <a:pt x="38" y="249"/>
                  <a:pt x="32" y="249"/>
                </a:cubicBezTo>
                <a:cubicBezTo>
                  <a:pt x="29" y="249"/>
                  <a:pt x="26" y="249"/>
                  <a:pt x="24" y="250"/>
                </a:cubicBezTo>
                <a:cubicBezTo>
                  <a:pt x="16" y="250"/>
                  <a:pt x="11" y="250"/>
                  <a:pt x="9" y="249"/>
                </a:cubicBezTo>
                <a:cubicBezTo>
                  <a:pt x="9" y="248"/>
                  <a:pt x="7" y="245"/>
                  <a:pt x="7" y="243"/>
                </a:cubicBezTo>
                <a:cubicBezTo>
                  <a:pt x="7" y="243"/>
                  <a:pt x="7" y="243"/>
                  <a:pt x="7" y="243"/>
                </a:cubicBezTo>
                <a:cubicBezTo>
                  <a:pt x="8" y="242"/>
                  <a:pt x="12" y="239"/>
                  <a:pt x="19" y="235"/>
                </a:cubicBezTo>
                <a:cubicBezTo>
                  <a:pt x="22" y="234"/>
                  <a:pt x="24" y="233"/>
                  <a:pt x="26" y="231"/>
                </a:cubicBezTo>
                <a:cubicBezTo>
                  <a:pt x="32" y="228"/>
                  <a:pt x="33" y="228"/>
                  <a:pt x="33" y="227"/>
                </a:cubicBezTo>
                <a:cubicBezTo>
                  <a:pt x="33" y="226"/>
                  <a:pt x="33" y="225"/>
                  <a:pt x="33" y="225"/>
                </a:cubicBezTo>
                <a:cubicBezTo>
                  <a:pt x="33" y="223"/>
                  <a:pt x="33" y="221"/>
                  <a:pt x="33" y="220"/>
                </a:cubicBezTo>
                <a:cubicBezTo>
                  <a:pt x="34" y="218"/>
                  <a:pt x="34" y="218"/>
                  <a:pt x="34" y="218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2" y="214"/>
                  <a:pt x="31" y="213"/>
                  <a:pt x="30" y="213"/>
                </a:cubicBezTo>
                <a:cubicBezTo>
                  <a:pt x="30" y="212"/>
                  <a:pt x="29" y="212"/>
                  <a:pt x="23" y="211"/>
                </a:cubicBezTo>
                <a:cubicBezTo>
                  <a:pt x="20" y="210"/>
                  <a:pt x="18" y="210"/>
                  <a:pt x="15" y="209"/>
                </a:cubicBezTo>
                <a:cubicBezTo>
                  <a:pt x="7" y="208"/>
                  <a:pt x="2" y="206"/>
                  <a:pt x="1" y="206"/>
                </a:cubicBezTo>
                <a:cubicBezTo>
                  <a:pt x="1" y="205"/>
                  <a:pt x="0" y="203"/>
                  <a:pt x="0" y="201"/>
                </a:cubicBezTo>
                <a:close/>
                <a:moveTo>
                  <a:pt x="307" y="191"/>
                </a:moveTo>
                <a:cubicBezTo>
                  <a:pt x="307" y="127"/>
                  <a:pt x="255" y="76"/>
                  <a:pt x="191" y="76"/>
                </a:cubicBezTo>
                <a:cubicBezTo>
                  <a:pt x="128" y="76"/>
                  <a:pt x="76" y="127"/>
                  <a:pt x="76" y="191"/>
                </a:cubicBezTo>
                <a:cubicBezTo>
                  <a:pt x="76" y="255"/>
                  <a:pt x="128" y="306"/>
                  <a:pt x="191" y="306"/>
                </a:cubicBezTo>
                <a:cubicBezTo>
                  <a:pt x="255" y="306"/>
                  <a:pt x="307" y="255"/>
                  <a:pt x="307" y="19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7651440"/>
              <a:gd name="textAreaBottom" fmla="*/ 7651800 h 7651440"/>
            </a:gdLst>
            <a:ahLst/>
            <a:rect l="textAreaLeft" t="textAreaTop" r="textAreaRight" b="textAreaBottom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>
              <a:gd name="textAreaLeft" fmla="*/ 0 w 5356080"/>
              <a:gd name="textAreaRight" fmla="*/ 5356440 w 535608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custGeom>
            <a:avLst/>
            <a:gdLst>
              <a:gd name="textAreaLeft" fmla="*/ 0 w 387360"/>
              <a:gd name="textAreaRight" fmla="*/ 387720 w 3873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494" h="494">
                <a:moveTo>
                  <a:pt x="338" y="112"/>
                </a:moveTo>
                <a:cubicBezTo>
                  <a:pt x="380" y="75"/>
                  <a:pt x="433" y="44"/>
                  <a:pt x="494" y="26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33" y="7"/>
                  <a:pt x="366" y="0"/>
                  <a:pt x="296" y="8"/>
                </a:cubicBezTo>
                <a:cubicBezTo>
                  <a:pt x="296" y="8"/>
                  <a:pt x="305" y="13"/>
                  <a:pt x="313" y="18"/>
                </a:cubicBezTo>
                <a:cubicBezTo>
                  <a:pt x="321" y="23"/>
                  <a:pt x="329" y="28"/>
                  <a:pt x="329" y="28"/>
                </a:cubicBezTo>
                <a:cubicBezTo>
                  <a:pt x="329" y="28"/>
                  <a:pt x="328" y="28"/>
                  <a:pt x="327" y="29"/>
                </a:cubicBezTo>
                <a:cubicBezTo>
                  <a:pt x="325" y="29"/>
                  <a:pt x="323" y="30"/>
                  <a:pt x="321" y="31"/>
                </a:cubicBezTo>
                <a:cubicBezTo>
                  <a:pt x="315" y="34"/>
                  <a:pt x="307" y="36"/>
                  <a:pt x="298" y="40"/>
                </a:cubicBezTo>
                <a:cubicBezTo>
                  <a:pt x="296" y="42"/>
                  <a:pt x="293" y="43"/>
                  <a:pt x="290" y="44"/>
                </a:cubicBezTo>
                <a:cubicBezTo>
                  <a:pt x="286" y="46"/>
                  <a:pt x="282" y="48"/>
                  <a:pt x="278" y="50"/>
                </a:cubicBezTo>
                <a:cubicBezTo>
                  <a:pt x="274" y="52"/>
                  <a:pt x="270" y="54"/>
                  <a:pt x="266" y="56"/>
                </a:cubicBezTo>
                <a:cubicBezTo>
                  <a:pt x="257" y="60"/>
                  <a:pt x="249" y="65"/>
                  <a:pt x="240" y="70"/>
                </a:cubicBezTo>
                <a:cubicBezTo>
                  <a:pt x="236" y="72"/>
                  <a:pt x="232" y="75"/>
                  <a:pt x="228" y="78"/>
                </a:cubicBezTo>
                <a:cubicBezTo>
                  <a:pt x="223" y="81"/>
                  <a:pt x="219" y="83"/>
                  <a:pt x="215" y="86"/>
                </a:cubicBezTo>
                <a:cubicBezTo>
                  <a:pt x="207" y="92"/>
                  <a:pt x="198" y="98"/>
                  <a:pt x="190" y="105"/>
                </a:cubicBezTo>
                <a:cubicBezTo>
                  <a:pt x="186" y="108"/>
                  <a:pt x="181" y="111"/>
                  <a:pt x="177" y="115"/>
                </a:cubicBezTo>
                <a:cubicBezTo>
                  <a:pt x="173" y="118"/>
                  <a:pt x="169" y="122"/>
                  <a:pt x="165" y="125"/>
                </a:cubicBezTo>
                <a:cubicBezTo>
                  <a:pt x="149" y="140"/>
                  <a:pt x="133" y="155"/>
                  <a:pt x="119" y="172"/>
                </a:cubicBezTo>
                <a:cubicBezTo>
                  <a:pt x="91" y="205"/>
                  <a:pt x="67" y="242"/>
                  <a:pt x="49" y="279"/>
                </a:cubicBezTo>
                <a:cubicBezTo>
                  <a:pt x="31" y="316"/>
                  <a:pt x="19" y="353"/>
                  <a:pt x="12" y="385"/>
                </a:cubicBezTo>
                <a:cubicBezTo>
                  <a:pt x="5" y="417"/>
                  <a:pt x="2" y="445"/>
                  <a:pt x="1" y="464"/>
                </a:cubicBezTo>
                <a:cubicBezTo>
                  <a:pt x="0" y="473"/>
                  <a:pt x="0" y="481"/>
                  <a:pt x="0" y="486"/>
                </a:cubicBezTo>
                <a:cubicBezTo>
                  <a:pt x="0" y="491"/>
                  <a:pt x="0" y="494"/>
                  <a:pt x="0" y="494"/>
                </a:cubicBezTo>
                <a:cubicBezTo>
                  <a:pt x="51" y="494"/>
                  <a:pt x="51" y="494"/>
                  <a:pt x="51" y="494"/>
                </a:cubicBezTo>
                <a:cubicBezTo>
                  <a:pt x="51" y="494"/>
                  <a:pt x="51" y="491"/>
                  <a:pt x="51" y="487"/>
                </a:cubicBezTo>
                <a:cubicBezTo>
                  <a:pt x="51" y="482"/>
                  <a:pt x="51" y="475"/>
                  <a:pt x="52" y="467"/>
                </a:cubicBezTo>
                <a:cubicBezTo>
                  <a:pt x="53" y="450"/>
                  <a:pt x="55" y="425"/>
                  <a:pt x="62" y="396"/>
                </a:cubicBezTo>
                <a:cubicBezTo>
                  <a:pt x="68" y="368"/>
                  <a:pt x="79" y="335"/>
                  <a:pt x="95" y="302"/>
                </a:cubicBezTo>
                <a:cubicBezTo>
                  <a:pt x="111" y="269"/>
                  <a:pt x="132" y="235"/>
                  <a:pt x="158" y="205"/>
                </a:cubicBezTo>
                <a:cubicBezTo>
                  <a:pt x="171" y="190"/>
                  <a:pt x="185" y="177"/>
                  <a:pt x="199" y="164"/>
                </a:cubicBezTo>
                <a:cubicBezTo>
                  <a:pt x="203" y="160"/>
                  <a:pt x="206" y="157"/>
                  <a:pt x="210" y="154"/>
                </a:cubicBezTo>
                <a:cubicBezTo>
                  <a:pt x="213" y="151"/>
                  <a:pt x="217" y="148"/>
                  <a:pt x="221" y="145"/>
                </a:cubicBezTo>
                <a:cubicBezTo>
                  <a:pt x="228" y="139"/>
                  <a:pt x="236" y="134"/>
                  <a:pt x="244" y="128"/>
                </a:cubicBezTo>
                <a:cubicBezTo>
                  <a:pt x="247" y="126"/>
                  <a:pt x="251" y="123"/>
                  <a:pt x="255" y="121"/>
                </a:cubicBezTo>
                <a:cubicBezTo>
                  <a:pt x="259" y="119"/>
                  <a:pt x="263" y="116"/>
                  <a:pt x="266" y="114"/>
                </a:cubicBezTo>
                <a:cubicBezTo>
                  <a:pt x="274" y="110"/>
                  <a:pt x="281" y="105"/>
                  <a:pt x="289" y="101"/>
                </a:cubicBezTo>
                <a:cubicBezTo>
                  <a:pt x="293" y="99"/>
                  <a:pt x="297" y="97"/>
                  <a:pt x="300" y="95"/>
                </a:cubicBezTo>
                <a:cubicBezTo>
                  <a:pt x="304" y="94"/>
                  <a:pt x="308" y="92"/>
                  <a:pt x="311" y="90"/>
                </a:cubicBezTo>
                <a:cubicBezTo>
                  <a:pt x="314" y="89"/>
                  <a:pt x="316" y="88"/>
                  <a:pt x="318" y="87"/>
                </a:cubicBezTo>
                <a:cubicBezTo>
                  <a:pt x="327" y="84"/>
                  <a:pt x="334" y="81"/>
                  <a:pt x="338" y="79"/>
                </a:cubicBezTo>
                <a:cubicBezTo>
                  <a:pt x="341" y="78"/>
                  <a:pt x="343" y="77"/>
                  <a:pt x="344" y="77"/>
                </a:cubicBezTo>
                <a:cubicBezTo>
                  <a:pt x="345" y="77"/>
                  <a:pt x="346" y="76"/>
                  <a:pt x="346" y="76"/>
                </a:cubicBezTo>
                <a:cubicBezTo>
                  <a:pt x="346" y="76"/>
                  <a:pt x="344" y="85"/>
                  <a:pt x="342" y="94"/>
                </a:cubicBezTo>
                <a:cubicBezTo>
                  <a:pt x="340" y="103"/>
                  <a:pt x="338" y="112"/>
                  <a:pt x="338" y="112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163" h="572">
                <a:moveTo>
                  <a:pt x="49" y="401"/>
                </a:moveTo>
                <a:cubicBezTo>
                  <a:pt x="45" y="457"/>
                  <a:pt x="29" y="516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55" y="543"/>
                  <a:pt x="108" y="500"/>
                  <a:pt x="152" y="445"/>
                </a:cubicBezTo>
                <a:cubicBezTo>
                  <a:pt x="152" y="445"/>
                  <a:pt x="142" y="448"/>
                  <a:pt x="133" y="450"/>
                </a:cubicBezTo>
                <a:cubicBezTo>
                  <a:pt x="123" y="452"/>
                  <a:pt x="114" y="454"/>
                  <a:pt x="114" y="454"/>
                </a:cubicBezTo>
                <a:cubicBezTo>
                  <a:pt x="114" y="454"/>
                  <a:pt x="116" y="451"/>
                  <a:pt x="118" y="446"/>
                </a:cubicBezTo>
                <a:cubicBezTo>
                  <a:pt x="121" y="440"/>
                  <a:pt x="124" y="433"/>
                  <a:pt x="128" y="423"/>
                </a:cubicBezTo>
                <a:cubicBezTo>
                  <a:pt x="128" y="422"/>
                  <a:pt x="129" y="421"/>
                  <a:pt x="129" y="420"/>
                </a:cubicBezTo>
                <a:cubicBezTo>
                  <a:pt x="130" y="418"/>
                  <a:pt x="130" y="417"/>
                  <a:pt x="131" y="416"/>
                </a:cubicBezTo>
                <a:cubicBezTo>
                  <a:pt x="133" y="409"/>
                  <a:pt x="135" y="403"/>
                  <a:pt x="137" y="396"/>
                </a:cubicBezTo>
                <a:cubicBezTo>
                  <a:pt x="140" y="389"/>
                  <a:pt x="142" y="382"/>
                  <a:pt x="144" y="375"/>
                </a:cubicBezTo>
                <a:cubicBezTo>
                  <a:pt x="145" y="371"/>
                  <a:pt x="146" y="368"/>
                  <a:pt x="147" y="364"/>
                </a:cubicBezTo>
                <a:cubicBezTo>
                  <a:pt x="148" y="360"/>
                  <a:pt x="149" y="356"/>
                  <a:pt x="150" y="353"/>
                </a:cubicBezTo>
                <a:cubicBezTo>
                  <a:pt x="153" y="337"/>
                  <a:pt x="156" y="321"/>
                  <a:pt x="158" y="305"/>
                </a:cubicBezTo>
                <a:cubicBezTo>
                  <a:pt x="160" y="289"/>
                  <a:pt x="162" y="272"/>
                  <a:pt x="162" y="256"/>
                </a:cubicBezTo>
                <a:cubicBezTo>
                  <a:pt x="163" y="222"/>
                  <a:pt x="161" y="189"/>
                  <a:pt x="155" y="158"/>
                </a:cubicBezTo>
                <a:cubicBezTo>
                  <a:pt x="150" y="127"/>
                  <a:pt x="142" y="99"/>
                  <a:pt x="134" y="76"/>
                </a:cubicBezTo>
                <a:cubicBezTo>
                  <a:pt x="125" y="52"/>
                  <a:pt x="117" y="33"/>
                  <a:pt x="110" y="20"/>
                </a:cubicBezTo>
                <a:cubicBezTo>
                  <a:pt x="107" y="14"/>
                  <a:pt x="104" y="9"/>
                  <a:pt x="102" y="5"/>
                </a:cubicBezTo>
                <a:cubicBezTo>
                  <a:pt x="101" y="2"/>
                  <a:pt x="100" y="0"/>
                  <a:pt x="100" y="0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6" y="26"/>
                  <a:pt x="58" y="30"/>
                </a:cubicBezTo>
                <a:cubicBezTo>
                  <a:pt x="59" y="33"/>
                  <a:pt x="62" y="37"/>
                  <a:pt x="65" y="43"/>
                </a:cubicBezTo>
                <a:cubicBezTo>
                  <a:pt x="70" y="55"/>
                  <a:pt x="78" y="72"/>
                  <a:pt x="86" y="93"/>
                </a:cubicBezTo>
                <a:cubicBezTo>
                  <a:pt x="101" y="135"/>
                  <a:pt x="113" y="194"/>
                  <a:pt x="111" y="254"/>
                </a:cubicBezTo>
                <a:cubicBezTo>
                  <a:pt x="111" y="269"/>
                  <a:pt x="109" y="284"/>
                  <a:pt x="108" y="299"/>
                </a:cubicBezTo>
                <a:cubicBezTo>
                  <a:pt x="106" y="313"/>
                  <a:pt x="103" y="327"/>
                  <a:pt x="100" y="341"/>
                </a:cubicBezTo>
                <a:cubicBezTo>
                  <a:pt x="99" y="344"/>
                  <a:pt x="98" y="348"/>
                  <a:pt x="98" y="351"/>
                </a:cubicBezTo>
                <a:cubicBezTo>
                  <a:pt x="97" y="354"/>
                  <a:pt x="96" y="358"/>
                  <a:pt x="95" y="361"/>
                </a:cubicBezTo>
                <a:cubicBezTo>
                  <a:pt x="93" y="368"/>
                  <a:pt x="91" y="374"/>
                  <a:pt x="89" y="380"/>
                </a:cubicBezTo>
                <a:cubicBezTo>
                  <a:pt x="87" y="386"/>
                  <a:pt x="85" y="392"/>
                  <a:pt x="83" y="397"/>
                </a:cubicBezTo>
                <a:cubicBezTo>
                  <a:pt x="82" y="399"/>
                  <a:pt x="82" y="400"/>
                  <a:pt x="81" y="401"/>
                </a:cubicBezTo>
                <a:cubicBezTo>
                  <a:pt x="81" y="402"/>
                  <a:pt x="81" y="403"/>
                  <a:pt x="80" y="405"/>
                </a:cubicBezTo>
                <a:cubicBezTo>
                  <a:pt x="77" y="413"/>
                  <a:pt x="74" y="420"/>
                  <a:pt x="72" y="424"/>
                </a:cubicBezTo>
                <a:cubicBezTo>
                  <a:pt x="69" y="429"/>
                  <a:pt x="68" y="432"/>
                  <a:pt x="68" y="432"/>
                </a:cubicBezTo>
                <a:cubicBezTo>
                  <a:pt x="68" y="432"/>
                  <a:pt x="64" y="424"/>
                  <a:pt x="59" y="416"/>
                </a:cubicBezTo>
                <a:cubicBezTo>
                  <a:pt x="56" y="413"/>
                  <a:pt x="54" y="409"/>
                  <a:pt x="52" y="406"/>
                </a:cubicBezTo>
                <a:cubicBezTo>
                  <a:pt x="50" y="403"/>
                  <a:pt x="49" y="401"/>
                  <a:pt x="49" y="401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custGeom>
            <a:avLst/>
            <a:gdLst>
              <a:gd name="textAreaLeft" fmla="*/ 0 w 358560"/>
              <a:gd name="textAreaRight" fmla="*/ 358920 w 358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63" h="574">
                <a:moveTo>
                  <a:pt x="152" y="128"/>
                </a:moveTo>
                <a:cubicBezTo>
                  <a:pt x="109" y="73"/>
                  <a:pt x="56" y="30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29" y="56"/>
                  <a:pt x="46" y="115"/>
                  <a:pt x="49" y="171"/>
                </a:cubicBezTo>
                <a:cubicBezTo>
                  <a:pt x="49" y="171"/>
                  <a:pt x="54" y="164"/>
                  <a:pt x="59" y="156"/>
                </a:cubicBezTo>
                <a:cubicBezTo>
                  <a:pt x="64" y="149"/>
                  <a:pt x="68" y="141"/>
                  <a:pt x="68" y="141"/>
                </a:cubicBezTo>
                <a:cubicBezTo>
                  <a:pt x="68" y="141"/>
                  <a:pt x="70" y="143"/>
                  <a:pt x="72" y="148"/>
                </a:cubicBezTo>
                <a:cubicBezTo>
                  <a:pt x="74" y="153"/>
                  <a:pt x="77" y="160"/>
                  <a:pt x="80" y="168"/>
                </a:cubicBezTo>
                <a:cubicBezTo>
                  <a:pt x="81" y="169"/>
                  <a:pt x="81" y="170"/>
                  <a:pt x="82" y="171"/>
                </a:cubicBezTo>
                <a:cubicBezTo>
                  <a:pt x="82" y="172"/>
                  <a:pt x="83" y="174"/>
                  <a:pt x="83" y="175"/>
                </a:cubicBezTo>
                <a:cubicBezTo>
                  <a:pt x="85" y="181"/>
                  <a:pt x="87" y="186"/>
                  <a:pt x="89" y="193"/>
                </a:cubicBezTo>
                <a:cubicBezTo>
                  <a:pt x="91" y="199"/>
                  <a:pt x="93" y="205"/>
                  <a:pt x="95" y="212"/>
                </a:cubicBezTo>
                <a:cubicBezTo>
                  <a:pt x="96" y="215"/>
                  <a:pt x="97" y="218"/>
                  <a:pt x="98" y="221"/>
                </a:cubicBezTo>
                <a:cubicBezTo>
                  <a:pt x="99" y="225"/>
                  <a:pt x="99" y="228"/>
                  <a:pt x="100" y="232"/>
                </a:cubicBezTo>
                <a:cubicBezTo>
                  <a:pt x="103" y="245"/>
                  <a:pt x="106" y="260"/>
                  <a:pt x="108" y="274"/>
                </a:cubicBezTo>
                <a:cubicBezTo>
                  <a:pt x="110" y="289"/>
                  <a:pt x="111" y="304"/>
                  <a:pt x="111" y="319"/>
                </a:cubicBezTo>
                <a:cubicBezTo>
                  <a:pt x="114" y="379"/>
                  <a:pt x="101" y="438"/>
                  <a:pt x="86" y="481"/>
                </a:cubicBezTo>
                <a:cubicBezTo>
                  <a:pt x="78" y="502"/>
                  <a:pt x="70" y="519"/>
                  <a:pt x="64" y="530"/>
                </a:cubicBezTo>
                <a:cubicBezTo>
                  <a:pt x="62" y="536"/>
                  <a:pt x="59" y="541"/>
                  <a:pt x="57" y="544"/>
                </a:cubicBezTo>
                <a:cubicBezTo>
                  <a:pt x="56" y="547"/>
                  <a:pt x="55" y="549"/>
                  <a:pt x="55" y="549"/>
                </a:cubicBezTo>
                <a:cubicBezTo>
                  <a:pt x="99" y="574"/>
                  <a:pt x="99" y="574"/>
                  <a:pt x="99" y="574"/>
                </a:cubicBezTo>
                <a:cubicBezTo>
                  <a:pt x="99" y="574"/>
                  <a:pt x="100" y="572"/>
                  <a:pt x="102" y="568"/>
                </a:cubicBezTo>
                <a:cubicBezTo>
                  <a:pt x="104" y="565"/>
                  <a:pt x="107" y="560"/>
                  <a:pt x="110" y="553"/>
                </a:cubicBezTo>
                <a:cubicBezTo>
                  <a:pt x="116" y="540"/>
                  <a:pt x="125" y="521"/>
                  <a:pt x="134" y="498"/>
                </a:cubicBezTo>
                <a:cubicBezTo>
                  <a:pt x="142" y="474"/>
                  <a:pt x="150" y="446"/>
                  <a:pt x="155" y="415"/>
                </a:cubicBezTo>
                <a:cubicBezTo>
                  <a:pt x="158" y="400"/>
                  <a:pt x="160" y="384"/>
                  <a:pt x="161" y="367"/>
                </a:cubicBezTo>
                <a:cubicBezTo>
                  <a:pt x="162" y="351"/>
                  <a:pt x="163" y="334"/>
                  <a:pt x="162" y="317"/>
                </a:cubicBezTo>
                <a:cubicBezTo>
                  <a:pt x="162" y="301"/>
                  <a:pt x="160" y="284"/>
                  <a:pt x="158" y="268"/>
                </a:cubicBezTo>
                <a:cubicBezTo>
                  <a:pt x="156" y="251"/>
                  <a:pt x="153" y="236"/>
                  <a:pt x="150" y="220"/>
                </a:cubicBezTo>
                <a:cubicBezTo>
                  <a:pt x="149" y="216"/>
                  <a:pt x="148" y="213"/>
                  <a:pt x="147" y="209"/>
                </a:cubicBezTo>
                <a:cubicBezTo>
                  <a:pt x="146" y="205"/>
                  <a:pt x="145" y="202"/>
                  <a:pt x="144" y="198"/>
                </a:cubicBezTo>
                <a:cubicBezTo>
                  <a:pt x="142" y="191"/>
                  <a:pt x="140" y="184"/>
                  <a:pt x="138" y="177"/>
                </a:cubicBezTo>
                <a:cubicBezTo>
                  <a:pt x="136" y="170"/>
                  <a:pt x="133" y="163"/>
                  <a:pt x="131" y="157"/>
                </a:cubicBezTo>
                <a:cubicBezTo>
                  <a:pt x="130" y="156"/>
                  <a:pt x="130" y="154"/>
                  <a:pt x="129" y="153"/>
                </a:cubicBezTo>
                <a:cubicBezTo>
                  <a:pt x="129" y="152"/>
                  <a:pt x="128" y="150"/>
                  <a:pt x="128" y="149"/>
                </a:cubicBezTo>
                <a:cubicBezTo>
                  <a:pt x="124" y="140"/>
                  <a:pt x="121" y="132"/>
                  <a:pt x="118" y="127"/>
                </a:cubicBezTo>
                <a:cubicBezTo>
                  <a:pt x="116" y="122"/>
                  <a:pt x="114" y="119"/>
                  <a:pt x="114" y="119"/>
                </a:cubicBezTo>
                <a:cubicBezTo>
                  <a:pt x="114" y="119"/>
                  <a:pt x="124" y="121"/>
                  <a:pt x="133" y="123"/>
                </a:cubicBezTo>
                <a:cubicBezTo>
                  <a:pt x="143" y="125"/>
                  <a:pt x="152" y="128"/>
                  <a:pt x="152" y="12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custGeom>
            <a:avLst/>
            <a:gdLst>
              <a:gd name="textAreaLeft" fmla="*/ 0 w 346320"/>
              <a:gd name="textAreaRight" fmla="*/ 346680 w 34632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custGeom>
            <a:avLst/>
            <a:gdLst>
              <a:gd name="textAreaLeft" fmla="*/ 0 w 428760"/>
              <a:gd name="textAreaRight" fmla="*/ 429120 w 428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2907621" h="2907623">
                <a:moveTo>
                  <a:pt x="2726838" y="2390397"/>
                </a:moveTo>
                <a:lnTo>
                  <a:pt x="2764237" y="2359847"/>
                </a:lnTo>
                <a:lnTo>
                  <a:pt x="2907621" y="2216464"/>
                </a:lnTo>
                <a:lnTo>
                  <a:pt x="2907621" y="2216465"/>
                </a:lnTo>
                <a:lnTo>
                  <a:pt x="2764238" y="2359848"/>
                </a:lnTo>
                <a:cubicBezTo>
                  <a:pt x="2753447" y="2370638"/>
                  <a:pt x="2741923" y="2380249"/>
                  <a:pt x="2729826" y="2388680"/>
                </a:cubicBezTo>
                <a:lnTo>
                  <a:pt x="2726838" y="2390397"/>
                </a:lnTo>
                <a:close/>
                <a:moveTo>
                  <a:pt x="2687906" y="2411533"/>
                </a:moveTo>
                <a:lnTo>
                  <a:pt x="2713444" y="2398093"/>
                </a:lnTo>
                <a:lnTo>
                  <a:pt x="2691977" y="2410430"/>
                </a:lnTo>
                <a:lnTo>
                  <a:pt x="2687906" y="2411533"/>
                </a:lnTo>
                <a:close/>
                <a:moveTo>
                  <a:pt x="2602869" y="2432186"/>
                </a:moveTo>
                <a:lnTo>
                  <a:pt x="2616474" y="2430883"/>
                </a:lnTo>
                <a:lnTo>
                  <a:pt x="2609815" y="2432686"/>
                </a:lnTo>
                <a:lnTo>
                  <a:pt x="2602869" y="2432186"/>
                </a:lnTo>
                <a:close/>
                <a:moveTo>
                  <a:pt x="2518844" y="2423734"/>
                </a:moveTo>
                <a:lnTo>
                  <a:pt x="2529572" y="2426913"/>
                </a:lnTo>
                <a:lnTo>
                  <a:pt x="2525454" y="2426617"/>
                </a:lnTo>
                <a:lnTo>
                  <a:pt x="2518844" y="2423734"/>
                </a:lnTo>
                <a:close/>
                <a:moveTo>
                  <a:pt x="2446592" y="2392220"/>
                </a:moveTo>
                <a:lnTo>
                  <a:pt x="2446596" y="2392222"/>
                </a:lnTo>
                <a:lnTo>
                  <a:pt x="2446593" y="2392221"/>
                </a:lnTo>
                <a:lnTo>
                  <a:pt x="2446592" y="2392220"/>
                </a:lnTo>
                <a:close/>
                <a:moveTo>
                  <a:pt x="1540650" y="1264278"/>
                </a:moveTo>
                <a:lnTo>
                  <a:pt x="1566190" y="1250839"/>
                </a:lnTo>
                <a:lnTo>
                  <a:pt x="1544722" y="1263175"/>
                </a:lnTo>
                <a:lnTo>
                  <a:pt x="1540650" y="1264278"/>
                </a:lnTo>
                <a:close/>
                <a:moveTo>
                  <a:pt x="1455614" y="1284932"/>
                </a:moveTo>
                <a:lnTo>
                  <a:pt x="1469219" y="1283628"/>
                </a:lnTo>
                <a:lnTo>
                  <a:pt x="1462560" y="1285432"/>
                </a:lnTo>
                <a:lnTo>
                  <a:pt x="1455614" y="1284932"/>
                </a:lnTo>
                <a:close/>
                <a:moveTo>
                  <a:pt x="1371590" y="1276479"/>
                </a:moveTo>
                <a:lnTo>
                  <a:pt x="1382316" y="1279658"/>
                </a:lnTo>
                <a:lnTo>
                  <a:pt x="1378199" y="1279361"/>
                </a:lnTo>
                <a:lnTo>
                  <a:pt x="1371590" y="1276479"/>
                </a:lnTo>
                <a:close/>
                <a:moveTo>
                  <a:pt x="2331515" y="140783"/>
                </a:moveTo>
                <a:lnTo>
                  <a:pt x="2331516" y="140784"/>
                </a:lnTo>
                <a:cubicBezTo>
                  <a:pt x="2430175" y="239443"/>
                  <a:pt x="2430175" y="399401"/>
                  <a:pt x="2331516" y="498061"/>
                </a:cubicBezTo>
                <a:lnTo>
                  <a:pt x="1616983" y="1212593"/>
                </a:lnTo>
                <a:cubicBezTo>
                  <a:pt x="1606193" y="1223384"/>
                  <a:pt x="1594668" y="1232995"/>
                  <a:pt x="1582571" y="1241425"/>
                </a:cubicBezTo>
                <a:lnTo>
                  <a:pt x="1579583" y="1243142"/>
                </a:lnTo>
                <a:lnTo>
                  <a:pt x="1616983" y="1212593"/>
                </a:lnTo>
                <a:lnTo>
                  <a:pt x="2331515" y="498060"/>
                </a:lnTo>
                <a:cubicBezTo>
                  <a:pt x="2430174" y="399401"/>
                  <a:pt x="2430174" y="239442"/>
                  <a:pt x="2331515" y="140783"/>
                </a:cubicBezTo>
                <a:close/>
                <a:moveTo>
                  <a:pt x="130662" y="2341636"/>
                </a:moveTo>
                <a:cubicBezTo>
                  <a:pt x="204657" y="2415630"/>
                  <a:pt x="313133" y="2434128"/>
                  <a:pt x="404367" y="2397132"/>
                </a:cubicBezTo>
                <a:cubicBezTo>
                  <a:pt x="313132" y="2434129"/>
                  <a:pt x="204657" y="2415630"/>
                  <a:pt x="130662" y="2341636"/>
                </a:cubicBezTo>
                <a:close/>
                <a:moveTo>
                  <a:pt x="0" y="0"/>
                </a:moveTo>
                <a:lnTo>
                  <a:pt x="685957" y="0"/>
                </a:lnTo>
                <a:lnTo>
                  <a:pt x="545173" y="140784"/>
                </a:lnTo>
                <a:cubicBezTo>
                  <a:pt x="446514" y="239443"/>
                  <a:pt x="446514" y="399401"/>
                  <a:pt x="545173" y="498061"/>
                </a:cubicBezTo>
                <a:lnTo>
                  <a:pt x="1259706" y="1212593"/>
                </a:lnTo>
                <a:lnTo>
                  <a:pt x="1273873" y="1224165"/>
                </a:lnTo>
                <a:lnTo>
                  <a:pt x="1259714" y="1212600"/>
                </a:lnTo>
                <a:lnTo>
                  <a:pt x="1298730" y="1251616"/>
                </a:lnTo>
                <a:cubicBezTo>
                  <a:pt x="1397389" y="1350275"/>
                  <a:pt x="1557348" y="1350275"/>
                  <a:pt x="1656007" y="1251616"/>
                </a:cubicBezTo>
                <a:lnTo>
                  <a:pt x="2370540" y="537083"/>
                </a:lnTo>
                <a:cubicBezTo>
                  <a:pt x="2469199" y="438424"/>
                  <a:pt x="2469199" y="278465"/>
                  <a:pt x="2370540" y="179806"/>
                </a:cubicBezTo>
                <a:lnTo>
                  <a:pt x="2190734" y="0"/>
                </a:lnTo>
                <a:lnTo>
                  <a:pt x="2907621" y="0"/>
                </a:lnTo>
                <a:lnTo>
                  <a:pt x="2907621" y="716887"/>
                </a:lnTo>
                <a:lnTo>
                  <a:pt x="2803262" y="612528"/>
                </a:lnTo>
                <a:lnTo>
                  <a:pt x="2803254" y="612521"/>
                </a:lnTo>
                <a:lnTo>
                  <a:pt x="2764237" y="573505"/>
                </a:lnTo>
                <a:cubicBezTo>
                  <a:pt x="2665578" y="474846"/>
                  <a:pt x="2505619" y="474846"/>
                  <a:pt x="2406960" y="573505"/>
                </a:cubicBezTo>
                <a:lnTo>
                  <a:pt x="1692427" y="1288037"/>
                </a:lnTo>
                <a:cubicBezTo>
                  <a:pt x="1593768" y="1386697"/>
                  <a:pt x="1593768" y="1546655"/>
                  <a:pt x="1692427" y="1645314"/>
                </a:cubicBezTo>
                <a:lnTo>
                  <a:pt x="2406960" y="2359847"/>
                </a:lnTo>
                <a:lnTo>
                  <a:pt x="2425865" y="2375290"/>
                </a:lnTo>
                <a:lnTo>
                  <a:pt x="2406969" y="2359854"/>
                </a:lnTo>
                <a:lnTo>
                  <a:pt x="2445985" y="2398870"/>
                </a:lnTo>
                <a:cubicBezTo>
                  <a:pt x="2544644" y="2497530"/>
                  <a:pt x="2704603" y="2497530"/>
                  <a:pt x="2803262" y="2398870"/>
                </a:cubicBezTo>
                <a:lnTo>
                  <a:pt x="2907621" y="2294511"/>
                </a:lnTo>
                <a:lnTo>
                  <a:pt x="2907621" y="2907623"/>
                </a:lnTo>
                <a:lnTo>
                  <a:pt x="2294508" y="2907623"/>
                </a:lnTo>
                <a:lnTo>
                  <a:pt x="2388750" y="2813381"/>
                </a:lnTo>
                <a:cubicBezTo>
                  <a:pt x="2487409" y="2714722"/>
                  <a:pt x="2487409" y="2554763"/>
                  <a:pt x="2388750" y="2456104"/>
                </a:cubicBezTo>
                <a:lnTo>
                  <a:pt x="2349727" y="2417081"/>
                </a:lnTo>
                <a:lnTo>
                  <a:pt x="1635194" y="1702548"/>
                </a:lnTo>
                <a:cubicBezTo>
                  <a:pt x="1536535" y="1603889"/>
                  <a:pt x="1376576" y="1603889"/>
                  <a:pt x="1277917" y="1702548"/>
                </a:cubicBezTo>
                <a:lnTo>
                  <a:pt x="563384" y="2417081"/>
                </a:lnTo>
                <a:cubicBezTo>
                  <a:pt x="464725" y="2515740"/>
                  <a:pt x="464725" y="2675698"/>
                  <a:pt x="563384" y="2774357"/>
                </a:cubicBezTo>
                <a:lnTo>
                  <a:pt x="696650" y="2907623"/>
                </a:lnTo>
                <a:lnTo>
                  <a:pt x="0" y="2907623"/>
                </a:lnTo>
                <a:lnTo>
                  <a:pt x="0" y="2210973"/>
                </a:lnTo>
                <a:lnTo>
                  <a:pt x="130662" y="2341636"/>
                </a:lnTo>
                <a:lnTo>
                  <a:pt x="169686" y="2380659"/>
                </a:lnTo>
                <a:cubicBezTo>
                  <a:pt x="268345" y="2479318"/>
                  <a:pt x="428303" y="2479318"/>
                  <a:pt x="526963" y="2380659"/>
                </a:cubicBezTo>
                <a:lnTo>
                  <a:pt x="1241495" y="1666126"/>
                </a:lnTo>
                <a:cubicBezTo>
                  <a:pt x="1340154" y="1567467"/>
                  <a:pt x="1340154" y="1407508"/>
                  <a:pt x="1241495" y="1308849"/>
                </a:cubicBezTo>
                <a:lnTo>
                  <a:pt x="1202472" y="1269826"/>
                </a:lnTo>
                <a:lnTo>
                  <a:pt x="487940" y="555294"/>
                </a:lnTo>
                <a:cubicBezTo>
                  <a:pt x="389281" y="456635"/>
                  <a:pt x="229322" y="456635"/>
                  <a:pt x="130663" y="555294"/>
                </a:cubicBezTo>
                <a:lnTo>
                  <a:pt x="0" y="685957"/>
                </a:lnTo>
                <a:lnTo>
                  <a:pt x="0" y="0"/>
                </a:lnTo>
                <a:close/>
              </a:path>
            </a:pathLst>
          </a:cu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39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40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custGeom>
            <a:avLst/>
            <a:gdLst>
              <a:gd name="textAreaLeft" fmla="*/ 0 w 3722760"/>
              <a:gd name="textAreaRight" fmla="*/ 3723120 w 3722760"/>
              <a:gd name="textAreaTop" fmla="*/ 0 h 3740040"/>
              <a:gd name="textAreaBottom" fmla="*/ 3740400 h 3740040"/>
            </a:gdLst>
            <a:ahLst/>
            <a:rect l="textAreaLeft" t="textAreaTop" r="textAreaRight" b="textAreaBottom"/>
            <a:pathLst>
              <a:path w="3721860" h="3740133">
                <a:moveTo>
                  <a:pt x="96640" y="2513632"/>
                </a:moveTo>
                <a:cubicBezTo>
                  <a:pt x="280002" y="2665018"/>
                  <a:pt x="483551" y="2765943"/>
                  <a:pt x="682053" y="2818087"/>
                </a:cubicBezTo>
                <a:cubicBezTo>
                  <a:pt x="682053" y="2818087"/>
                  <a:pt x="682053" y="2818087"/>
                  <a:pt x="505419" y="2964427"/>
                </a:cubicBezTo>
                <a:cubicBezTo>
                  <a:pt x="505419" y="2964427"/>
                  <a:pt x="507102" y="2966110"/>
                  <a:pt x="510466" y="2969474"/>
                </a:cubicBezTo>
                <a:cubicBezTo>
                  <a:pt x="512148" y="2972838"/>
                  <a:pt x="517195" y="2976202"/>
                  <a:pt x="522242" y="2982930"/>
                </a:cubicBezTo>
                <a:cubicBezTo>
                  <a:pt x="523924" y="2986294"/>
                  <a:pt x="527288" y="2989659"/>
                  <a:pt x="530653" y="2993023"/>
                </a:cubicBezTo>
                <a:cubicBezTo>
                  <a:pt x="532335" y="2994705"/>
                  <a:pt x="534017" y="2996387"/>
                  <a:pt x="535699" y="2998069"/>
                </a:cubicBezTo>
                <a:cubicBezTo>
                  <a:pt x="539064" y="3003115"/>
                  <a:pt x="542428" y="3008161"/>
                  <a:pt x="547475" y="3011526"/>
                </a:cubicBezTo>
                <a:cubicBezTo>
                  <a:pt x="562615" y="3030028"/>
                  <a:pt x="579437" y="3046849"/>
                  <a:pt x="596259" y="3065352"/>
                </a:cubicBezTo>
                <a:cubicBezTo>
                  <a:pt x="663548" y="3134317"/>
                  <a:pt x="742613" y="3201600"/>
                  <a:pt x="830088" y="3265519"/>
                </a:cubicBezTo>
                <a:cubicBezTo>
                  <a:pt x="841864" y="3273929"/>
                  <a:pt x="853639" y="3280657"/>
                  <a:pt x="863733" y="3289068"/>
                </a:cubicBezTo>
                <a:cubicBezTo>
                  <a:pt x="870462" y="3292432"/>
                  <a:pt x="875508" y="3297478"/>
                  <a:pt x="882237" y="3300842"/>
                </a:cubicBezTo>
                <a:cubicBezTo>
                  <a:pt x="882237" y="3300842"/>
                  <a:pt x="882237" y="3300842"/>
                  <a:pt x="890648" y="3305888"/>
                </a:cubicBezTo>
                <a:cubicBezTo>
                  <a:pt x="890648" y="3305888"/>
                  <a:pt x="890648" y="3305888"/>
                  <a:pt x="899059" y="3312617"/>
                </a:cubicBezTo>
                <a:cubicBezTo>
                  <a:pt x="922610" y="3326073"/>
                  <a:pt x="946162" y="3342894"/>
                  <a:pt x="971395" y="3356351"/>
                </a:cubicBezTo>
                <a:cubicBezTo>
                  <a:pt x="978124" y="3359715"/>
                  <a:pt x="983170" y="3363079"/>
                  <a:pt x="989899" y="3366443"/>
                </a:cubicBezTo>
                <a:cubicBezTo>
                  <a:pt x="996628" y="3369807"/>
                  <a:pt x="1003357" y="3373171"/>
                  <a:pt x="1008404" y="3376536"/>
                </a:cubicBezTo>
                <a:cubicBezTo>
                  <a:pt x="1021861" y="3383264"/>
                  <a:pt x="1035319" y="3389992"/>
                  <a:pt x="1047095" y="3396720"/>
                </a:cubicBezTo>
                <a:cubicBezTo>
                  <a:pt x="1047095" y="3396720"/>
                  <a:pt x="1047095" y="3396720"/>
                  <a:pt x="1057188" y="3401767"/>
                </a:cubicBezTo>
                <a:cubicBezTo>
                  <a:pt x="1057188" y="3401767"/>
                  <a:pt x="1057188" y="3401767"/>
                  <a:pt x="1067281" y="3406813"/>
                </a:cubicBezTo>
                <a:cubicBezTo>
                  <a:pt x="1074010" y="3410177"/>
                  <a:pt x="1080739" y="3413541"/>
                  <a:pt x="1087468" y="3416905"/>
                </a:cubicBezTo>
                <a:cubicBezTo>
                  <a:pt x="1100926" y="3423634"/>
                  <a:pt x="1114384" y="3430362"/>
                  <a:pt x="1127841" y="3435408"/>
                </a:cubicBezTo>
                <a:lnTo>
                  <a:pt x="1162169" y="3451141"/>
                </a:lnTo>
                <a:lnTo>
                  <a:pt x="1148760" y="3584157"/>
                </a:lnTo>
                <a:cubicBezTo>
                  <a:pt x="1148760" y="3629845"/>
                  <a:pt x="1153390" y="3674452"/>
                  <a:pt x="1162206" y="3717534"/>
                </a:cubicBezTo>
                <a:lnTo>
                  <a:pt x="1165749" y="3728949"/>
                </a:lnTo>
                <a:lnTo>
                  <a:pt x="1142981" y="3721361"/>
                </a:lnTo>
                <a:cubicBezTo>
                  <a:pt x="1134570" y="3717997"/>
                  <a:pt x="1126159" y="3714632"/>
                  <a:pt x="1117748" y="3711268"/>
                </a:cubicBezTo>
                <a:cubicBezTo>
                  <a:pt x="1102608" y="3706222"/>
                  <a:pt x="1085786" y="3699494"/>
                  <a:pt x="1068964" y="3692766"/>
                </a:cubicBezTo>
                <a:cubicBezTo>
                  <a:pt x="1053824" y="3686037"/>
                  <a:pt x="1038684" y="3679309"/>
                  <a:pt x="1021861" y="3672581"/>
                </a:cubicBezTo>
                <a:cubicBezTo>
                  <a:pt x="1006721" y="3665852"/>
                  <a:pt x="991582" y="3657442"/>
                  <a:pt x="974759" y="3650714"/>
                </a:cubicBezTo>
                <a:cubicBezTo>
                  <a:pt x="968030" y="3647350"/>
                  <a:pt x="959619" y="3643985"/>
                  <a:pt x="952890" y="3638939"/>
                </a:cubicBezTo>
                <a:cubicBezTo>
                  <a:pt x="952890" y="3638939"/>
                  <a:pt x="952890" y="3638939"/>
                  <a:pt x="941115" y="3633893"/>
                </a:cubicBezTo>
                <a:cubicBezTo>
                  <a:pt x="941115" y="3633893"/>
                  <a:pt x="941115" y="3633893"/>
                  <a:pt x="929339" y="3628847"/>
                </a:cubicBezTo>
                <a:cubicBezTo>
                  <a:pt x="915882" y="3620436"/>
                  <a:pt x="900742" y="3612026"/>
                  <a:pt x="885602" y="3605298"/>
                </a:cubicBezTo>
                <a:cubicBezTo>
                  <a:pt x="878873" y="3601934"/>
                  <a:pt x="870462" y="3596887"/>
                  <a:pt x="863733" y="3593523"/>
                </a:cubicBezTo>
                <a:cubicBezTo>
                  <a:pt x="857004" y="3588477"/>
                  <a:pt x="848593" y="3585113"/>
                  <a:pt x="841864" y="3580067"/>
                </a:cubicBezTo>
                <a:cubicBezTo>
                  <a:pt x="813266" y="3564928"/>
                  <a:pt x="786350" y="3546425"/>
                  <a:pt x="759435" y="3529604"/>
                </a:cubicBezTo>
                <a:cubicBezTo>
                  <a:pt x="759435" y="3529604"/>
                  <a:pt x="759435" y="3529604"/>
                  <a:pt x="749342" y="3522876"/>
                </a:cubicBezTo>
                <a:cubicBezTo>
                  <a:pt x="749342" y="3522876"/>
                  <a:pt x="749342" y="3522876"/>
                  <a:pt x="739248" y="3516148"/>
                </a:cubicBezTo>
                <a:cubicBezTo>
                  <a:pt x="732519" y="3512784"/>
                  <a:pt x="725790" y="3507737"/>
                  <a:pt x="719062" y="3502691"/>
                </a:cubicBezTo>
                <a:cubicBezTo>
                  <a:pt x="705604" y="3494281"/>
                  <a:pt x="692146" y="3485870"/>
                  <a:pt x="680370" y="3477460"/>
                </a:cubicBezTo>
                <a:cubicBezTo>
                  <a:pt x="577755" y="3403449"/>
                  <a:pt x="488597" y="3324391"/>
                  <a:pt x="411215" y="3245334"/>
                </a:cubicBezTo>
                <a:cubicBezTo>
                  <a:pt x="391028" y="3225149"/>
                  <a:pt x="372524" y="3204964"/>
                  <a:pt x="354020" y="3184779"/>
                </a:cubicBezTo>
                <a:cubicBezTo>
                  <a:pt x="348973" y="3179733"/>
                  <a:pt x="345608" y="3174687"/>
                  <a:pt x="340562" y="3169640"/>
                </a:cubicBezTo>
                <a:cubicBezTo>
                  <a:pt x="338880" y="3166276"/>
                  <a:pt x="337197" y="3164594"/>
                  <a:pt x="335515" y="3162912"/>
                </a:cubicBezTo>
                <a:cubicBezTo>
                  <a:pt x="330468" y="3157866"/>
                  <a:pt x="327104" y="3154502"/>
                  <a:pt x="325422" y="3151138"/>
                </a:cubicBezTo>
                <a:cubicBezTo>
                  <a:pt x="318693" y="3144409"/>
                  <a:pt x="313646" y="3139363"/>
                  <a:pt x="310282" y="3135999"/>
                </a:cubicBezTo>
                <a:cubicBezTo>
                  <a:pt x="308600" y="3130953"/>
                  <a:pt x="306917" y="3129271"/>
                  <a:pt x="306917" y="3129271"/>
                </a:cubicBezTo>
                <a:cubicBezTo>
                  <a:pt x="306917" y="3129271"/>
                  <a:pt x="306917" y="3129271"/>
                  <a:pt x="130284" y="3275611"/>
                </a:cubicBezTo>
                <a:cubicBezTo>
                  <a:pt x="64678" y="3009843"/>
                  <a:pt x="56266" y="2747440"/>
                  <a:pt x="96640" y="2513632"/>
                </a:cubicBezTo>
                <a:close/>
                <a:moveTo>
                  <a:pt x="3453144" y="2413611"/>
                </a:moveTo>
                <a:lnTo>
                  <a:pt x="3471622" y="2419347"/>
                </a:lnTo>
                <a:cubicBezTo>
                  <a:pt x="3514704" y="2428163"/>
                  <a:pt x="3559310" y="2432792"/>
                  <a:pt x="3604998" y="2432792"/>
                </a:cubicBezTo>
                <a:lnTo>
                  <a:pt x="3721860" y="2421012"/>
                </a:lnTo>
                <a:lnTo>
                  <a:pt x="3715098" y="2442984"/>
                </a:lnTo>
                <a:cubicBezTo>
                  <a:pt x="3713416" y="2453077"/>
                  <a:pt x="3710051" y="2464851"/>
                  <a:pt x="3705005" y="2474944"/>
                </a:cubicBezTo>
                <a:cubicBezTo>
                  <a:pt x="3705005" y="2474944"/>
                  <a:pt x="3705005" y="2474944"/>
                  <a:pt x="3694911" y="2506903"/>
                </a:cubicBezTo>
                <a:cubicBezTo>
                  <a:pt x="3694911" y="2506903"/>
                  <a:pt x="3694911" y="2506903"/>
                  <a:pt x="3683136" y="2540545"/>
                </a:cubicBezTo>
                <a:cubicBezTo>
                  <a:pt x="3681453" y="2545591"/>
                  <a:pt x="3679771" y="2550637"/>
                  <a:pt x="3678089" y="2555683"/>
                </a:cubicBezTo>
                <a:cubicBezTo>
                  <a:pt x="3678089" y="2555683"/>
                  <a:pt x="3678089" y="2555683"/>
                  <a:pt x="3671360" y="2572504"/>
                </a:cubicBezTo>
                <a:cubicBezTo>
                  <a:pt x="3662949" y="2592689"/>
                  <a:pt x="3654538" y="2614556"/>
                  <a:pt x="3646127" y="2634741"/>
                </a:cubicBezTo>
                <a:cubicBezTo>
                  <a:pt x="3637716" y="2656608"/>
                  <a:pt x="3627622" y="2676793"/>
                  <a:pt x="3619211" y="2696978"/>
                </a:cubicBezTo>
                <a:cubicBezTo>
                  <a:pt x="3614165" y="2707070"/>
                  <a:pt x="3609118" y="2717163"/>
                  <a:pt x="3604071" y="2727255"/>
                </a:cubicBezTo>
                <a:cubicBezTo>
                  <a:pt x="3604071" y="2727255"/>
                  <a:pt x="3604071" y="2727255"/>
                  <a:pt x="3588931" y="2757532"/>
                </a:cubicBezTo>
                <a:cubicBezTo>
                  <a:pt x="3588931" y="2757532"/>
                  <a:pt x="3588931" y="2757532"/>
                  <a:pt x="3573791" y="2787810"/>
                </a:cubicBezTo>
                <a:cubicBezTo>
                  <a:pt x="3568745" y="2797902"/>
                  <a:pt x="3563698" y="2807995"/>
                  <a:pt x="3556969" y="2818087"/>
                </a:cubicBezTo>
                <a:cubicBezTo>
                  <a:pt x="3546876" y="2838272"/>
                  <a:pt x="3535100" y="2856775"/>
                  <a:pt x="3523325" y="2876960"/>
                </a:cubicBezTo>
                <a:cubicBezTo>
                  <a:pt x="3523325" y="2876960"/>
                  <a:pt x="3523325" y="2876960"/>
                  <a:pt x="3514913" y="2892098"/>
                </a:cubicBezTo>
                <a:cubicBezTo>
                  <a:pt x="3514913" y="2892098"/>
                  <a:pt x="3514913" y="2892098"/>
                  <a:pt x="3506502" y="2905555"/>
                </a:cubicBezTo>
                <a:cubicBezTo>
                  <a:pt x="3506502" y="2905555"/>
                  <a:pt x="3506502" y="2905555"/>
                  <a:pt x="3487998" y="2934150"/>
                </a:cubicBezTo>
                <a:cubicBezTo>
                  <a:pt x="3464447" y="2972838"/>
                  <a:pt x="3437531" y="3008161"/>
                  <a:pt x="3412298" y="3045167"/>
                </a:cubicBezTo>
                <a:cubicBezTo>
                  <a:pt x="3398840" y="3061988"/>
                  <a:pt x="3385382" y="3080491"/>
                  <a:pt x="3370242" y="3097311"/>
                </a:cubicBezTo>
                <a:cubicBezTo>
                  <a:pt x="3370242" y="3097311"/>
                  <a:pt x="3370242" y="3097311"/>
                  <a:pt x="3350056" y="3124224"/>
                </a:cubicBezTo>
                <a:cubicBezTo>
                  <a:pt x="3350056" y="3124224"/>
                  <a:pt x="3350056" y="3124224"/>
                  <a:pt x="3328187" y="3149456"/>
                </a:cubicBezTo>
                <a:cubicBezTo>
                  <a:pt x="3313047" y="3166276"/>
                  <a:pt x="3299589" y="3183097"/>
                  <a:pt x="3284449" y="3199918"/>
                </a:cubicBezTo>
                <a:cubicBezTo>
                  <a:pt x="3269309" y="3215056"/>
                  <a:pt x="3254169" y="3231877"/>
                  <a:pt x="3239029" y="3247016"/>
                </a:cubicBezTo>
                <a:cubicBezTo>
                  <a:pt x="3223889" y="3263837"/>
                  <a:pt x="3207067" y="3278975"/>
                  <a:pt x="3191927" y="3294114"/>
                </a:cubicBezTo>
                <a:cubicBezTo>
                  <a:pt x="3191927" y="3294114"/>
                  <a:pt x="3191927" y="3294114"/>
                  <a:pt x="3168376" y="3315981"/>
                </a:cubicBezTo>
                <a:cubicBezTo>
                  <a:pt x="3168376" y="3315981"/>
                  <a:pt x="3168376" y="3315981"/>
                  <a:pt x="3156600" y="3327755"/>
                </a:cubicBezTo>
                <a:cubicBezTo>
                  <a:pt x="3151554" y="3331120"/>
                  <a:pt x="3148189" y="3334484"/>
                  <a:pt x="3143143" y="3339530"/>
                </a:cubicBezTo>
                <a:cubicBezTo>
                  <a:pt x="3126320" y="3352987"/>
                  <a:pt x="3111180" y="3368125"/>
                  <a:pt x="3094358" y="3381582"/>
                </a:cubicBezTo>
                <a:cubicBezTo>
                  <a:pt x="3089311" y="3384946"/>
                  <a:pt x="3085947" y="3389992"/>
                  <a:pt x="3080900" y="3393356"/>
                </a:cubicBezTo>
                <a:cubicBezTo>
                  <a:pt x="3080900" y="3393356"/>
                  <a:pt x="3080900" y="3393356"/>
                  <a:pt x="3069125" y="3403449"/>
                </a:cubicBezTo>
                <a:cubicBezTo>
                  <a:pt x="3069125" y="3403449"/>
                  <a:pt x="3069125" y="3403449"/>
                  <a:pt x="3042209" y="3423634"/>
                </a:cubicBezTo>
                <a:cubicBezTo>
                  <a:pt x="3008565" y="3450547"/>
                  <a:pt x="2973238" y="3475778"/>
                  <a:pt x="2937912" y="3501009"/>
                </a:cubicBezTo>
                <a:cubicBezTo>
                  <a:pt x="2929500" y="3506055"/>
                  <a:pt x="2919407" y="3512784"/>
                  <a:pt x="2910996" y="3517830"/>
                </a:cubicBezTo>
                <a:cubicBezTo>
                  <a:pt x="2900903" y="3524558"/>
                  <a:pt x="2892492" y="3529604"/>
                  <a:pt x="2884080" y="3536333"/>
                </a:cubicBezTo>
                <a:cubicBezTo>
                  <a:pt x="2873987" y="3541379"/>
                  <a:pt x="2865576" y="3548107"/>
                  <a:pt x="2855483" y="3553153"/>
                </a:cubicBezTo>
                <a:cubicBezTo>
                  <a:pt x="2847072" y="3559882"/>
                  <a:pt x="2836978" y="3563246"/>
                  <a:pt x="2828567" y="3569974"/>
                </a:cubicBezTo>
                <a:cubicBezTo>
                  <a:pt x="2810063" y="3580067"/>
                  <a:pt x="2791558" y="3590159"/>
                  <a:pt x="2773054" y="3601934"/>
                </a:cubicBezTo>
                <a:cubicBezTo>
                  <a:pt x="2754549" y="3612026"/>
                  <a:pt x="2734363" y="3620436"/>
                  <a:pt x="2715858" y="3630529"/>
                </a:cubicBezTo>
                <a:cubicBezTo>
                  <a:pt x="2705765" y="3635575"/>
                  <a:pt x="2697354" y="3640621"/>
                  <a:pt x="2687261" y="3645667"/>
                </a:cubicBezTo>
                <a:cubicBezTo>
                  <a:pt x="2677167" y="3650714"/>
                  <a:pt x="2668756" y="3654078"/>
                  <a:pt x="2658663" y="3659124"/>
                </a:cubicBezTo>
                <a:cubicBezTo>
                  <a:pt x="2638476" y="3667534"/>
                  <a:pt x="2619972" y="3675945"/>
                  <a:pt x="2599785" y="3684355"/>
                </a:cubicBezTo>
                <a:cubicBezTo>
                  <a:pt x="2561094" y="3700335"/>
                  <a:pt x="2521982" y="3715895"/>
                  <a:pt x="2482660" y="3730192"/>
                </a:cubicBezTo>
                <a:lnTo>
                  <a:pt x="2451905" y="3740133"/>
                </a:lnTo>
                <a:lnTo>
                  <a:pt x="2458921" y="3717534"/>
                </a:lnTo>
                <a:cubicBezTo>
                  <a:pt x="2467736" y="3674452"/>
                  <a:pt x="2472366" y="3629845"/>
                  <a:pt x="2472366" y="3584157"/>
                </a:cubicBezTo>
                <a:lnTo>
                  <a:pt x="2460065" y="3462137"/>
                </a:lnTo>
                <a:lnTo>
                  <a:pt x="2498852" y="3447183"/>
                </a:lnTo>
                <a:cubicBezTo>
                  <a:pt x="2515674" y="3438772"/>
                  <a:pt x="2532496" y="3432044"/>
                  <a:pt x="2549318" y="3423634"/>
                </a:cubicBezTo>
                <a:cubicBezTo>
                  <a:pt x="2557730" y="3420270"/>
                  <a:pt x="2566141" y="3416905"/>
                  <a:pt x="2574552" y="3411859"/>
                </a:cubicBezTo>
                <a:cubicBezTo>
                  <a:pt x="2582963" y="3408495"/>
                  <a:pt x="2591374" y="3403449"/>
                  <a:pt x="2598103" y="3400085"/>
                </a:cubicBezTo>
                <a:cubicBezTo>
                  <a:pt x="2614925" y="3391674"/>
                  <a:pt x="2631747" y="3383264"/>
                  <a:pt x="2648569" y="3374854"/>
                </a:cubicBezTo>
                <a:cubicBezTo>
                  <a:pt x="2663709" y="3364761"/>
                  <a:pt x="2680532" y="3356351"/>
                  <a:pt x="2697354" y="3346258"/>
                </a:cubicBezTo>
                <a:cubicBezTo>
                  <a:pt x="2704083" y="3341212"/>
                  <a:pt x="2712494" y="3337848"/>
                  <a:pt x="2720905" y="3332802"/>
                </a:cubicBezTo>
                <a:cubicBezTo>
                  <a:pt x="2720905" y="3332802"/>
                  <a:pt x="2720905" y="3332802"/>
                  <a:pt x="2744456" y="3317663"/>
                </a:cubicBezTo>
                <a:cubicBezTo>
                  <a:pt x="2744456" y="3317663"/>
                  <a:pt x="2744456" y="3317663"/>
                  <a:pt x="2768007" y="3302524"/>
                </a:cubicBezTo>
                <a:cubicBezTo>
                  <a:pt x="2776418" y="3295796"/>
                  <a:pt x="2784829" y="3292432"/>
                  <a:pt x="2791558" y="3285704"/>
                </a:cubicBezTo>
                <a:cubicBezTo>
                  <a:pt x="2821838" y="3263837"/>
                  <a:pt x="2853800" y="3243652"/>
                  <a:pt x="2882398" y="3218421"/>
                </a:cubicBezTo>
                <a:cubicBezTo>
                  <a:pt x="2882398" y="3218421"/>
                  <a:pt x="2882398" y="3218421"/>
                  <a:pt x="2905949" y="3201600"/>
                </a:cubicBezTo>
                <a:cubicBezTo>
                  <a:pt x="2905949" y="3201600"/>
                  <a:pt x="2905949" y="3201600"/>
                  <a:pt x="2916043" y="3193190"/>
                </a:cubicBezTo>
                <a:cubicBezTo>
                  <a:pt x="2919407" y="3189825"/>
                  <a:pt x="2924454" y="3186461"/>
                  <a:pt x="2927818" y="3183097"/>
                </a:cubicBezTo>
                <a:cubicBezTo>
                  <a:pt x="2941276" y="3171323"/>
                  <a:pt x="2956416" y="3157866"/>
                  <a:pt x="2969874" y="3146091"/>
                </a:cubicBezTo>
                <a:cubicBezTo>
                  <a:pt x="2974920" y="3142727"/>
                  <a:pt x="2978285" y="3139363"/>
                  <a:pt x="2981649" y="3135999"/>
                </a:cubicBezTo>
                <a:cubicBezTo>
                  <a:pt x="2981649" y="3135999"/>
                  <a:pt x="2981649" y="3135999"/>
                  <a:pt x="2991743" y="3125907"/>
                </a:cubicBezTo>
                <a:cubicBezTo>
                  <a:pt x="2991743" y="3125907"/>
                  <a:pt x="2991743" y="3125907"/>
                  <a:pt x="3011929" y="3107404"/>
                </a:cubicBezTo>
                <a:cubicBezTo>
                  <a:pt x="3027069" y="3093947"/>
                  <a:pt x="3040527" y="3080491"/>
                  <a:pt x="3053985" y="3067034"/>
                </a:cubicBezTo>
                <a:cubicBezTo>
                  <a:pt x="3067443" y="3051895"/>
                  <a:pt x="3079218" y="3038439"/>
                  <a:pt x="3092676" y="3024982"/>
                </a:cubicBezTo>
                <a:cubicBezTo>
                  <a:pt x="3106134" y="3009843"/>
                  <a:pt x="3117909" y="2994705"/>
                  <a:pt x="3131367" y="2981248"/>
                </a:cubicBezTo>
                <a:cubicBezTo>
                  <a:pt x="3131367" y="2981248"/>
                  <a:pt x="3131367" y="2981248"/>
                  <a:pt x="3149871" y="2959381"/>
                </a:cubicBezTo>
                <a:cubicBezTo>
                  <a:pt x="3149871" y="2959381"/>
                  <a:pt x="3149871" y="2959381"/>
                  <a:pt x="3168376" y="2935832"/>
                </a:cubicBezTo>
                <a:cubicBezTo>
                  <a:pt x="3180151" y="2920694"/>
                  <a:pt x="3191927" y="2905555"/>
                  <a:pt x="3203703" y="2890416"/>
                </a:cubicBezTo>
                <a:cubicBezTo>
                  <a:pt x="3227254" y="2858457"/>
                  <a:pt x="3249123" y="2826497"/>
                  <a:pt x="3270991" y="2794538"/>
                </a:cubicBezTo>
                <a:cubicBezTo>
                  <a:pt x="3270991" y="2794538"/>
                  <a:pt x="3270991" y="2794538"/>
                  <a:pt x="3286131" y="2769307"/>
                </a:cubicBezTo>
                <a:cubicBezTo>
                  <a:pt x="3286131" y="2769307"/>
                  <a:pt x="3286131" y="2769307"/>
                  <a:pt x="3294542" y="2757532"/>
                </a:cubicBezTo>
                <a:cubicBezTo>
                  <a:pt x="3294542" y="2757532"/>
                  <a:pt x="3294542" y="2757532"/>
                  <a:pt x="3301271" y="2744076"/>
                </a:cubicBezTo>
                <a:cubicBezTo>
                  <a:pt x="3311365" y="2727255"/>
                  <a:pt x="3321458" y="2710434"/>
                  <a:pt x="3329869" y="2693614"/>
                </a:cubicBezTo>
                <a:cubicBezTo>
                  <a:pt x="3334916" y="2685203"/>
                  <a:pt x="3339962" y="2676793"/>
                  <a:pt x="3345009" y="2666700"/>
                </a:cubicBezTo>
                <a:cubicBezTo>
                  <a:pt x="3345009" y="2666700"/>
                  <a:pt x="3345009" y="2666700"/>
                  <a:pt x="3358467" y="2641469"/>
                </a:cubicBezTo>
                <a:cubicBezTo>
                  <a:pt x="3358467" y="2641469"/>
                  <a:pt x="3358467" y="2641469"/>
                  <a:pt x="3371925" y="2614556"/>
                </a:cubicBezTo>
                <a:cubicBezTo>
                  <a:pt x="3375289" y="2606146"/>
                  <a:pt x="3378654" y="2597735"/>
                  <a:pt x="3383700" y="2587643"/>
                </a:cubicBezTo>
                <a:cubicBezTo>
                  <a:pt x="3392111" y="2570822"/>
                  <a:pt x="3398840" y="2552319"/>
                  <a:pt x="3407251" y="2533816"/>
                </a:cubicBezTo>
                <a:cubicBezTo>
                  <a:pt x="3415662" y="2515314"/>
                  <a:pt x="3422391" y="2498493"/>
                  <a:pt x="3429120" y="2479990"/>
                </a:cubicBezTo>
                <a:cubicBezTo>
                  <a:pt x="3429120" y="2479990"/>
                  <a:pt x="3429120" y="2479990"/>
                  <a:pt x="3434167" y="2464851"/>
                </a:cubicBezTo>
                <a:cubicBezTo>
                  <a:pt x="3437531" y="2461487"/>
                  <a:pt x="3439214" y="2456441"/>
                  <a:pt x="3439214" y="2451395"/>
                </a:cubicBezTo>
                <a:cubicBezTo>
                  <a:pt x="3439214" y="2451395"/>
                  <a:pt x="3439214" y="2451395"/>
                  <a:pt x="3449307" y="2424482"/>
                </a:cubicBezTo>
                <a:cubicBezTo>
                  <a:pt x="3449307" y="2424482"/>
                  <a:pt x="3449307" y="2424482"/>
                  <a:pt x="3450569" y="2420908"/>
                </a:cubicBezTo>
                <a:lnTo>
                  <a:pt x="3453144" y="2413611"/>
                </a:lnTo>
                <a:close/>
                <a:moveTo>
                  <a:pt x="1153270" y="11179"/>
                </a:moveTo>
                <a:lnTo>
                  <a:pt x="1148761" y="55902"/>
                </a:lnTo>
                <a:cubicBezTo>
                  <a:pt x="1148761" y="101590"/>
                  <a:pt x="1153391" y="146197"/>
                  <a:pt x="1162207" y="189279"/>
                </a:cubicBezTo>
                <a:lnTo>
                  <a:pt x="1188678" y="274555"/>
                </a:lnTo>
                <a:lnTo>
                  <a:pt x="1174944" y="279837"/>
                </a:lnTo>
                <a:cubicBezTo>
                  <a:pt x="1159804" y="286565"/>
                  <a:pt x="1146346" y="291612"/>
                  <a:pt x="1131206" y="298340"/>
                </a:cubicBezTo>
                <a:cubicBezTo>
                  <a:pt x="1117748" y="305068"/>
                  <a:pt x="1104290" y="311797"/>
                  <a:pt x="1089150" y="318525"/>
                </a:cubicBezTo>
                <a:cubicBezTo>
                  <a:pt x="1075693" y="323571"/>
                  <a:pt x="1062235" y="330299"/>
                  <a:pt x="1048777" y="338710"/>
                </a:cubicBezTo>
                <a:cubicBezTo>
                  <a:pt x="1021861" y="352166"/>
                  <a:pt x="994946" y="365623"/>
                  <a:pt x="968030" y="380762"/>
                </a:cubicBezTo>
                <a:cubicBezTo>
                  <a:pt x="865415" y="441316"/>
                  <a:pt x="772893" y="508599"/>
                  <a:pt x="690464" y="580928"/>
                </a:cubicBezTo>
                <a:cubicBezTo>
                  <a:pt x="609717" y="653258"/>
                  <a:pt x="539064" y="728951"/>
                  <a:pt x="478504" y="804644"/>
                </a:cubicBezTo>
                <a:cubicBezTo>
                  <a:pt x="417944" y="882020"/>
                  <a:pt x="369160" y="957713"/>
                  <a:pt x="327104" y="1031724"/>
                </a:cubicBezTo>
                <a:cubicBezTo>
                  <a:pt x="306917" y="1067048"/>
                  <a:pt x="290095" y="1104054"/>
                  <a:pt x="271591" y="1137695"/>
                </a:cubicBezTo>
                <a:lnTo>
                  <a:pt x="268209" y="1145947"/>
                </a:lnTo>
                <a:lnTo>
                  <a:pt x="193097" y="1122631"/>
                </a:lnTo>
                <a:cubicBezTo>
                  <a:pt x="150015" y="1113815"/>
                  <a:pt x="105408" y="1109185"/>
                  <a:pt x="59720" y="1109185"/>
                </a:cubicBezTo>
                <a:lnTo>
                  <a:pt x="0" y="1115205"/>
                </a:lnTo>
                <a:lnTo>
                  <a:pt x="37762" y="1028360"/>
                </a:lnTo>
                <a:cubicBezTo>
                  <a:pt x="57949" y="987990"/>
                  <a:pt x="76453" y="945939"/>
                  <a:pt x="101686" y="903887"/>
                </a:cubicBezTo>
                <a:cubicBezTo>
                  <a:pt x="148789" y="819783"/>
                  <a:pt x="205984" y="732315"/>
                  <a:pt x="274955" y="644847"/>
                </a:cubicBezTo>
                <a:cubicBezTo>
                  <a:pt x="343926" y="557379"/>
                  <a:pt x="424673" y="469912"/>
                  <a:pt x="518877" y="387490"/>
                </a:cubicBezTo>
                <a:cubicBezTo>
                  <a:pt x="613082" y="303386"/>
                  <a:pt x="720744" y="226011"/>
                  <a:pt x="838499" y="157046"/>
                </a:cubicBezTo>
                <a:cubicBezTo>
                  <a:pt x="868779" y="138543"/>
                  <a:pt x="899059" y="123404"/>
                  <a:pt x="931022" y="106584"/>
                </a:cubicBezTo>
                <a:cubicBezTo>
                  <a:pt x="946162" y="98173"/>
                  <a:pt x="962984" y="91445"/>
                  <a:pt x="978124" y="83035"/>
                </a:cubicBezTo>
                <a:cubicBezTo>
                  <a:pt x="994946" y="76306"/>
                  <a:pt x="1010086" y="67896"/>
                  <a:pt x="1026908" y="61167"/>
                </a:cubicBezTo>
                <a:cubicBezTo>
                  <a:pt x="1043730" y="54439"/>
                  <a:pt x="1058870" y="47711"/>
                  <a:pt x="1075693" y="40983"/>
                </a:cubicBezTo>
                <a:cubicBezTo>
                  <a:pt x="1092515" y="34254"/>
                  <a:pt x="1109337" y="25844"/>
                  <a:pt x="1126159" y="20798"/>
                </a:cubicBezTo>
                <a:lnTo>
                  <a:pt x="1153270" y="11179"/>
                </a:lnTo>
                <a:close/>
                <a:moveTo>
                  <a:pt x="2466732" y="0"/>
                </a:moveTo>
                <a:lnTo>
                  <a:pt x="2468572" y="613"/>
                </a:lnTo>
                <a:cubicBezTo>
                  <a:pt x="2478665" y="3977"/>
                  <a:pt x="2488758" y="7341"/>
                  <a:pt x="2498852" y="10705"/>
                </a:cubicBezTo>
                <a:cubicBezTo>
                  <a:pt x="2503898" y="12387"/>
                  <a:pt x="2507263" y="14069"/>
                  <a:pt x="2512310" y="15752"/>
                </a:cubicBezTo>
                <a:cubicBezTo>
                  <a:pt x="2512310" y="15752"/>
                  <a:pt x="2512310" y="15752"/>
                  <a:pt x="2527450" y="20798"/>
                </a:cubicBezTo>
                <a:cubicBezTo>
                  <a:pt x="2547636" y="29208"/>
                  <a:pt x="2567823" y="37618"/>
                  <a:pt x="2588010" y="44347"/>
                </a:cubicBezTo>
                <a:cubicBezTo>
                  <a:pt x="2588010" y="44347"/>
                  <a:pt x="2588010" y="44347"/>
                  <a:pt x="2594738" y="47711"/>
                </a:cubicBezTo>
                <a:cubicBezTo>
                  <a:pt x="2594738" y="47711"/>
                  <a:pt x="2594738" y="47711"/>
                  <a:pt x="2601467" y="51075"/>
                </a:cubicBezTo>
                <a:cubicBezTo>
                  <a:pt x="2601467" y="51075"/>
                  <a:pt x="2601467" y="51075"/>
                  <a:pt x="2616607" y="57803"/>
                </a:cubicBezTo>
                <a:cubicBezTo>
                  <a:pt x="2626701" y="62850"/>
                  <a:pt x="2636794" y="66214"/>
                  <a:pt x="2646887" y="71260"/>
                </a:cubicBezTo>
                <a:cubicBezTo>
                  <a:pt x="2655298" y="76306"/>
                  <a:pt x="2665392" y="79670"/>
                  <a:pt x="2675485" y="84717"/>
                </a:cubicBezTo>
                <a:cubicBezTo>
                  <a:pt x="2680532" y="86399"/>
                  <a:pt x="2685578" y="89763"/>
                  <a:pt x="2690625" y="91445"/>
                </a:cubicBezTo>
                <a:cubicBezTo>
                  <a:pt x="2690625" y="91445"/>
                  <a:pt x="2690625" y="91445"/>
                  <a:pt x="2704083" y="98173"/>
                </a:cubicBezTo>
                <a:cubicBezTo>
                  <a:pt x="2724269" y="108266"/>
                  <a:pt x="2742774" y="118358"/>
                  <a:pt x="2762961" y="128451"/>
                </a:cubicBezTo>
                <a:cubicBezTo>
                  <a:pt x="2781465" y="138543"/>
                  <a:pt x="2799969" y="150317"/>
                  <a:pt x="2818474" y="160410"/>
                </a:cubicBezTo>
                <a:cubicBezTo>
                  <a:pt x="2818474" y="160410"/>
                  <a:pt x="2818474" y="160410"/>
                  <a:pt x="2847072" y="177231"/>
                </a:cubicBezTo>
                <a:cubicBezTo>
                  <a:pt x="2857165" y="182277"/>
                  <a:pt x="2865576" y="189005"/>
                  <a:pt x="2873987" y="194051"/>
                </a:cubicBezTo>
                <a:cubicBezTo>
                  <a:pt x="2892492" y="205826"/>
                  <a:pt x="2910996" y="217600"/>
                  <a:pt x="2929500" y="229375"/>
                </a:cubicBezTo>
                <a:cubicBezTo>
                  <a:pt x="2948005" y="242832"/>
                  <a:pt x="2966509" y="254606"/>
                  <a:pt x="2983332" y="268063"/>
                </a:cubicBezTo>
                <a:cubicBezTo>
                  <a:pt x="2991743" y="274791"/>
                  <a:pt x="3001836" y="279837"/>
                  <a:pt x="3010247" y="286565"/>
                </a:cubicBezTo>
                <a:cubicBezTo>
                  <a:pt x="3010247" y="286565"/>
                  <a:pt x="3010247" y="286565"/>
                  <a:pt x="3037163" y="306750"/>
                </a:cubicBezTo>
                <a:cubicBezTo>
                  <a:pt x="3037163" y="306750"/>
                  <a:pt x="3037163" y="306750"/>
                  <a:pt x="3062396" y="328617"/>
                </a:cubicBezTo>
                <a:cubicBezTo>
                  <a:pt x="3062396" y="328617"/>
                  <a:pt x="3062396" y="328617"/>
                  <a:pt x="3075854" y="338710"/>
                </a:cubicBezTo>
                <a:cubicBezTo>
                  <a:pt x="3079218" y="342074"/>
                  <a:pt x="3084265" y="345438"/>
                  <a:pt x="3087629" y="348802"/>
                </a:cubicBezTo>
                <a:cubicBezTo>
                  <a:pt x="3121274" y="377397"/>
                  <a:pt x="3154918" y="405993"/>
                  <a:pt x="3186880" y="437952"/>
                </a:cubicBezTo>
                <a:cubicBezTo>
                  <a:pt x="3186880" y="437952"/>
                  <a:pt x="3186880" y="437952"/>
                  <a:pt x="3212114" y="459819"/>
                </a:cubicBezTo>
                <a:cubicBezTo>
                  <a:pt x="3212114" y="459819"/>
                  <a:pt x="3212114" y="459819"/>
                  <a:pt x="3223889" y="471594"/>
                </a:cubicBezTo>
                <a:cubicBezTo>
                  <a:pt x="3223889" y="471594"/>
                  <a:pt x="3223889" y="471594"/>
                  <a:pt x="3235665" y="483368"/>
                </a:cubicBezTo>
                <a:cubicBezTo>
                  <a:pt x="3250805" y="500189"/>
                  <a:pt x="3265945" y="517010"/>
                  <a:pt x="3281085" y="532148"/>
                </a:cubicBezTo>
                <a:cubicBezTo>
                  <a:pt x="3289496" y="540559"/>
                  <a:pt x="3296225" y="548969"/>
                  <a:pt x="3302954" y="557379"/>
                </a:cubicBezTo>
                <a:cubicBezTo>
                  <a:pt x="3302954" y="557379"/>
                  <a:pt x="3302954" y="557379"/>
                  <a:pt x="3324822" y="582611"/>
                </a:cubicBezTo>
                <a:cubicBezTo>
                  <a:pt x="3324822" y="582611"/>
                  <a:pt x="3324822" y="582611"/>
                  <a:pt x="3348374" y="607842"/>
                </a:cubicBezTo>
                <a:cubicBezTo>
                  <a:pt x="3355102" y="616252"/>
                  <a:pt x="3361831" y="626344"/>
                  <a:pt x="3368560" y="634755"/>
                </a:cubicBezTo>
                <a:cubicBezTo>
                  <a:pt x="3382018" y="651576"/>
                  <a:pt x="3397158" y="670078"/>
                  <a:pt x="3410616" y="688581"/>
                </a:cubicBezTo>
                <a:cubicBezTo>
                  <a:pt x="3422391" y="705402"/>
                  <a:pt x="3435849" y="723905"/>
                  <a:pt x="3449307" y="742408"/>
                </a:cubicBezTo>
                <a:cubicBezTo>
                  <a:pt x="3449307" y="742408"/>
                  <a:pt x="3449307" y="742408"/>
                  <a:pt x="3459400" y="755864"/>
                </a:cubicBezTo>
                <a:cubicBezTo>
                  <a:pt x="3459400" y="755864"/>
                  <a:pt x="3459400" y="755864"/>
                  <a:pt x="3464447" y="764275"/>
                </a:cubicBezTo>
                <a:cubicBezTo>
                  <a:pt x="3464447" y="764275"/>
                  <a:pt x="3464447" y="764275"/>
                  <a:pt x="3467811" y="771003"/>
                </a:cubicBezTo>
                <a:cubicBezTo>
                  <a:pt x="3467811" y="771003"/>
                  <a:pt x="3467811" y="771003"/>
                  <a:pt x="3486316" y="799598"/>
                </a:cubicBezTo>
                <a:cubicBezTo>
                  <a:pt x="3486316" y="799598"/>
                  <a:pt x="3486316" y="799598"/>
                  <a:pt x="3504820" y="828193"/>
                </a:cubicBezTo>
                <a:cubicBezTo>
                  <a:pt x="3504820" y="828193"/>
                  <a:pt x="3504820" y="828193"/>
                  <a:pt x="3514913" y="841650"/>
                </a:cubicBezTo>
                <a:cubicBezTo>
                  <a:pt x="3516596" y="846696"/>
                  <a:pt x="3519960" y="851742"/>
                  <a:pt x="3523325" y="856789"/>
                </a:cubicBezTo>
                <a:cubicBezTo>
                  <a:pt x="3533418" y="876974"/>
                  <a:pt x="3545193" y="895476"/>
                  <a:pt x="3556969" y="915661"/>
                </a:cubicBezTo>
                <a:cubicBezTo>
                  <a:pt x="3562016" y="925754"/>
                  <a:pt x="3567062" y="935846"/>
                  <a:pt x="3572109" y="945939"/>
                </a:cubicBezTo>
                <a:cubicBezTo>
                  <a:pt x="3572109" y="945939"/>
                  <a:pt x="3572109" y="945939"/>
                  <a:pt x="3588931" y="976216"/>
                </a:cubicBezTo>
                <a:cubicBezTo>
                  <a:pt x="3588931" y="976216"/>
                  <a:pt x="3588931" y="976216"/>
                  <a:pt x="3604071" y="1006493"/>
                </a:cubicBezTo>
                <a:cubicBezTo>
                  <a:pt x="3609118" y="1016586"/>
                  <a:pt x="3614165" y="1026678"/>
                  <a:pt x="3617529" y="1036771"/>
                </a:cubicBezTo>
                <a:cubicBezTo>
                  <a:pt x="3627622" y="1058638"/>
                  <a:pt x="3636033" y="1078822"/>
                  <a:pt x="3646127" y="1099007"/>
                </a:cubicBezTo>
                <a:lnTo>
                  <a:pt x="3652017" y="1113926"/>
                </a:lnTo>
                <a:lnTo>
                  <a:pt x="3604998" y="1109186"/>
                </a:lnTo>
                <a:cubicBezTo>
                  <a:pt x="3559310" y="1109186"/>
                  <a:pt x="3514704" y="1113816"/>
                  <a:pt x="3471622" y="1122632"/>
                </a:cubicBezTo>
                <a:lnTo>
                  <a:pt x="3385171" y="1149467"/>
                </a:lnTo>
                <a:lnTo>
                  <a:pt x="3383700" y="1146105"/>
                </a:lnTo>
                <a:cubicBezTo>
                  <a:pt x="3378654" y="1137695"/>
                  <a:pt x="3375289" y="1127603"/>
                  <a:pt x="3370242" y="1119192"/>
                </a:cubicBezTo>
                <a:cubicBezTo>
                  <a:pt x="3370242" y="1119192"/>
                  <a:pt x="3370242" y="1119192"/>
                  <a:pt x="3356785" y="1093961"/>
                </a:cubicBezTo>
                <a:cubicBezTo>
                  <a:pt x="3356785" y="1093961"/>
                  <a:pt x="3356785" y="1093961"/>
                  <a:pt x="3343327" y="1067048"/>
                </a:cubicBezTo>
                <a:cubicBezTo>
                  <a:pt x="3339962" y="1058638"/>
                  <a:pt x="3334916" y="1048545"/>
                  <a:pt x="3329869" y="1040135"/>
                </a:cubicBezTo>
                <a:cubicBezTo>
                  <a:pt x="3319776" y="1023314"/>
                  <a:pt x="3309682" y="1006493"/>
                  <a:pt x="3299589" y="989673"/>
                </a:cubicBezTo>
                <a:cubicBezTo>
                  <a:pt x="3297907" y="984626"/>
                  <a:pt x="3296225" y="981262"/>
                  <a:pt x="3292860" y="976216"/>
                </a:cubicBezTo>
                <a:cubicBezTo>
                  <a:pt x="3292860" y="976216"/>
                  <a:pt x="3292860" y="976216"/>
                  <a:pt x="3284449" y="964441"/>
                </a:cubicBezTo>
                <a:cubicBezTo>
                  <a:pt x="3284449" y="964441"/>
                  <a:pt x="3284449" y="964441"/>
                  <a:pt x="3269309" y="939210"/>
                </a:cubicBezTo>
                <a:cubicBezTo>
                  <a:pt x="3269309" y="939210"/>
                  <a:pt x="3269309" y="939210"/>
                  <a:pt x="3252487" y="915661"/>
                </a:cubicBezTo>
                <a:cubicBezTo>
                  <a:pt x="3252487" y="915661"/>
                  <a:pt x="3252487" y="915661"/>
                  <a:pt x="3249123" y="908933"/>
                </a:cubicBezTo>
                <a:cubicBezTo>
                  <a:pt x="3249123" y="908933"/>
                  <a:pt x="3249123" y="908933"/>
                  <a:pt x="3245758" y="902205"/>
                </a:cubicBezTo>
                <a:cubicBezTo>
                  <a:pt x="3245758" y="902205"/>
                  <a:pt x="3245758" y="902205"/>
                  <a:pt x="3235665" y="890430"/>
                </a:cubicBezTo>
                <a:cubicBezTo>
                  <a:pt x="3225571" y="875291"/>
                  <a:pt x="3213796" y="858471"/>
                  <a:pt x="3202020" y="843332"/>
                </a:cubicBezTo>
                <a:cubicBezTo>
                  <a:pt x="3190245" y="828193"/>
                  <a:pt x="3178469" y="811373"/>
                  <a:pt x="3166694" y="796234"/>
                </a:cubicBezTo>
                <a:cubicBezTo>
                  <a:pt x="3159965" y="789506"/>
                  <a:pt x="3154918" y="781095"/>
                  <a:pt x="3148189" y="774367"/>
                </a:cubicBezTo>
                <a:cubicBezTo>
                  <a:pt x="3148189" y="774367"/>
                  <a:pt x="3148189" y="774367"/>
                  <a:pt x="3128003" y="750818"/>
                </a:cubicBezTo>
                <a:cubicBezTo>
                  <a:pt x="3128003" y="750818"/>
                  <a:pt x="3128003" y="750818"/>
                  <a:pt x="3109498" y="728951"/>
                </a:cubicBezTo>
                <a:cubicBezTo>
                  <a:pt x="3102769" y="722223"/>
                  <a:pt x="3097723" y="715494"/>
                  <a:pt x="3090994" y="707084"/>
                </a:cubicBezTo>
                <a:cubicBezTo>
                  <a:pt x="3077536" y="693627"/>
                  <a:pt x="3064078" y="680171"/>
                  <a:pt x="3050620" y="665032"/>
                </a:cubicBezTo>
                <a:cubicBezTo>
                  <a:pt x="3050620" y="665032"/>
                  <a:pt x="3050620" y="665032"/>
                  <a:pt x="3040527" y="654940"/>
                </a:cubicBezTo>
                <a:cubicBezTo>
                  <a:pt x="3040527" y="654940"/>
                  <a:pt x="3040527" y="654940"/>
                  <a:pt x="3030434" y="644847"/>
                </a:cubicBezTo>
                <a:cubicBezTo>
                  <a:pt x="3030434" y="644847"/>
                  <a:pt x="3030434" y="644847"/>
                  <a:pt x="3008565" y="624662"/>
                </a:cubicBezTo>
                <a:cubicBezTo>
                  <a:pt x="2981649" y="597749"/>
                  <a:pt x="2951369" y="572518"/>
                  <a:pt x="2922772" y="547287"/>
                </a:cubicBezTo>
                <a:cubicBezTo>
                  <a:pt x="2919407" y="543923"/>
                  <a:pt x="2914360" y="542241"/>
                  <a:pt x="2910996" y="538877"/>
                </a:cubicBezTo>
                <a:cubicBezTo>
                  <a:pt x="2910996" y="538877"/>
                  <a:pt x="2910996" y="538877"/>
                  <a:pt x="2899220" y="530466"/>
                </a:cubicBezTo>
                <a:cubicBezTo>
                  <a:pt x="2899220" y="530466"/>
                  <a:pt x="2899220" y="530466"/>
                  <a:pt x="2877352" y="511963"/>
                </a:cubicBezTo>
                <a:cubicBezTo>
                  <a:pt x="2877352" y="511963"/>
                  <a:pt x="2877352" y="511963"/>
                  <a:pt x="2855483" y="495143"/>
                </a:cubicBezTo>
                <a:cubicBezTo>
                  <a:pt x="2847072" y="488414"/>
                  <a:pt x="2838661" y="483368"/>
                  <a:pt x="2831932" y="478322"/>
                </a:cubicBezTo>
                <a:cubicBezTo>
                  <a:pt x="2816792" y="466547"/>
                  <a:pt x="2799969" y="454773"/>
                  <a:pt x="2784829" y="444680"/>
                </a:cubicBezTo>
                <a:cubicBezTo>
                  <a:pt x="2769689" y="434588"/>
                  <a:pt x="2752867" y="424496"/>
                  <a:pt x="2737727" y="414403"/>
                </a:cubicBezTo>
                <a:cubicBezTo>
                  <a:pt x="2729316" y="409357"/>
                  <a:pt x="2720905" y="402629"/>
                  <a:pt x="2712494" y="399264"/>
                </a:cubicBezTo>
                <a:cubicBezTo>
                  <a:pt x="2712494" y="399264"/>
                  <a:pt x="2712494" y="399264"/>
                  <a:pt x="2688943" y="384126"/>
                </a:cubicBezTo>
                <a:cubicBezTo>
                  <a:pt x="2672121" y="375715"/>
                  <a:pt x="2655298" y="365623"/>
                  <a:pt x="2638476" y="357213"/>
                </a:cubicBezTo>
                <a:cubicBezTo>
                  <a:pt x="2623336" y="347120"/>
                  <a:pt x="2606514" y="338710"/>
                  <a:pt x="2589692" y="330299"/>
                </a:cubicBezTo>
                <a:cubicBezTo>
                  <a:pt x="2589692" y="330299"/>
                  <a:pt x="2589692" y="330299"/>
                  <a:pt x="2576234" y="325253"/>
                </a:cubicBezTo>
                <a:cubicBezTo>
                  <a:pt x="2572870" y="321889"/>
                  <a:pt x="2567823" y="320207"/>
                  <a:pt x="2564458" y="318525"/>
                </a:cubicBezTo>
                <a:cubicBezTo>
                  <a:pt x="2564458" y="318525"/>
                  <a:pt x="2564458" y="318525"/>
                  <a:pt x="2539225" y="306750"/>
                </a:cubicBezTo>
                <a:cubicBezTo>
                  <a:pt x="2539225" y="306750"/>
                  <a:pt x="2539225" y="306750"/>
                  <a:pt x="2512310" y="294976"/>
                </a:cubicBezTo>
                <a:cubicBezTo>
                  <a:pt x="2512310" y="294976"/>
                  <a:pt x="2512310" y="294976"/>
                  <a:pt x="2500534" y="289930"/>
                </a:cubicBezTo>
                <a:cubicBezTo>
                  <a:pt x="2500534" y="289930"/>
                  <a:pt x="2500534" y="289930"/>
                  <a:pt x="2493805" y="286565"/>
                </a:cubicBezTo>
                <a:cubicBezTo>
                  <a:pt x="2493805" y="286565"/>
                  <a:pt x="2493805" y="286565"/>
                  <a:pt x="2487076" y="284883"/>
                </a:cubicBezTo>
                <a:lnTo>
                  <a:pt x="2435905" y="263426"/>
                </a:lnTo>
                <a:lnTo>
                  <a:pt x="2458922" y="189279"/>
                </a:lnTo>
                <a:cubicBezTo>
                  <a:pt x="2467737" y="146197"/>
                  <a:pt x="2472367" y="101590"/>
                  <a:pt x="2472367" y="55902"/>
                </a:cubicBezTo>
                <a:lnTo>
                  <a:pt x="246673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846" h="505">
                  <a:moveTo>
                    <a:pt x="727" y="120"/>
                  </a:moveTo>
                  <a:lnTo>
                    <a:pt x="569" y="120"/>
                  </a:lnTo>
                  <a:lnTo>
                    <a:pt x="370" y="266"/>
                  </a:lnTo>
                  <a:lnTo>
                    <a:pt x="264" y="213"/>
                  </a:lnTo>
                  <a:lnTo>
                    <a:pt x="0" y="439"/>
                  </a:lnTo>
                  <a:lnTo>
                    <a:pt x="0" y="505"/>
                  </a:lnTo>
                  <a:lnTo>
                    <a:pt x="264" y="279"/>
                  </a:lnTo>
                  <a:lnTo>
                    <a:pt x="370" y="333"/>
                  </a:lnTo>
                  <a:lnTo>
                    <a:pt x="595" y="173"/>
                  </a:lnTo>
                  <a:lnTo>
                    <a:pt x="754" y="173"/>
                  </a:lnTo>
                  <a:lnTo>
                    <a:pt x="846" y="80"/>
                  </a:lnTo>
                  <a:lnTo>
                    <a:pt x="846" y="0"/>
                  </a:lnTo>
                  <a:lnTo>
                    <a:pt x="727" y="1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custGeom>
            <a:avLst/>
            <a:gdLst>
              <a:gd name="textAreaLeft" fmla="*/ 0 w 400320"/>
              <a:gd name="textAreaRight" fmla="*/ 400680 w 400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custGeom>
            <a:avLst/>
            <a:gdLst>
              <a:gd name="textAreaLeft" fmla="*/ 0 w 398520"/>
              <a:gd name="textAreaRight" fmla="*/ 398880 w 3985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0" h="92">
                <a:moveTo>
                  <a:pt x="62" y="22"/>
                </a:moveTo>
                <a:cubicBezTo>
                  <a:pt x="37" y="43"/>
                  <a:pt x="37" y="43"/>
                  <a:pt x="37" y="43"/>
                </a:cubicBezTo>
                <a:cubicBezTo>
                  <a:pt x="37" y="33"/>
                  <a:pt x="37" y="33"/>
                  <a:pt x="37" y="33"/>
                </a:cubicBezTo>
                <a:cubicBezTo>
                  <a:pt x="22" y="36"/>
                  <a:pt x="10" y="44"/>
                  <a:pt x="5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2" y="34"/>
                  <a:pt x="14" y="16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62" y="22"/>
                  <a:pt x="62" y="22"/>
                  <a:pt x="62" y="22"/>
                </a:cubicBezTo>
                <a:close/>
                <a:moveTo>
                  <a:pt x="44" y="59"/>
                </a:moveTo>
                <a:cubicBezTo>
                  <a:pt x="44" y="49"/>
                  <a:pt x="44" y="49"/>
                  <a:pt x="44" y="49"/>
                </a:cubicBezTo>
                <a:cubicBezTo>
                  <a:pt x="16" y="71"/>
                  <a:pt x="16" y="71"/>
                  <a:pt x="16" y="71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82"/>
                  <a:pt x="44" y="82"/>
                  <a:pt x="44" y="82"/>
                </a:cubicBezTo>
                <a:cubicBezTo>
                  <a:pt x="66" y="77"/>
                  <a:pt x="78" y="59"/>
                  <a:pt x="80" y="37"/>
                </a:cubicBezTo>
                <a:cubicBezTo>
                  <a:pt x="75" y="37"/>
                  <a:pt x="75" y="37"/>
                  <a:pt x="75" y="37"/>
                </a:cubicBezTo>
                <a:cubicBezTo>
                  <a:pt x="69" y="49"/>
                  <a:pt x="57" y="56"/>
                  <a:pt x="44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7" h="86">
                <a:moveTo>
                  <a:pt x="13" y="8"/>
                </a:moveTo>
                <a:cubicBezTo>
                  <a:pt x="20" y="2"/>
                  <a:pt x="29" y="0"/>
                  <a:pt x="38" y="1"/>
                </a:cubicBezTo>
                <a:cubicBezTo>
                  <a:pt x="46" y="2"/>
                  <a:pt x="54" y="6"/>
                  <a:pt x="59" y="13"/>
                </a:cubicBezTo>
                <a:cubicBezTo>
                  <a:pt x="65" y="21"/>
                  <a:pt x="67" y="29"/>
                  <a:pt x="66" y="38"/>
                </a:cubicBezTo>
                <a:cubicBezTo>
                  <a:pt x="65" y="44"/>
                  <a:pt x="63" y="50"/>
                  <a:pt x="58" y="55"/>
                </a:cubicBezTo>
                <a:cubicBezTo>
                  <a:pt x="60" y="56"/>
                  <a:pt x="62" y="57"/>
                  <a:pt x="64" y="59"/>
                </a:cubicBezTo>
                <a:cubicBezTo>
                  <a:pt x="74" y="72"/>
                  <a:pt x="74" y="72"/>
                  <a:pt x="74" y="72"/>
                </a:cubicBezTo>
                <a:cubicBezTo>
                  <a:pt x="77" y="76"/>
                  <a:pt x="76" y="81"/>
                  <a:pt x="73" y="84"/>
                </a:cubicBezTo>
                <a:cubicBezTo>
                  <a:pt x="73" y="84"/>
                  <a:pt x="73" y="84"/>
                  <a:pt x="73" y="84"/>
                </a:cubicBezTo>
                <a:cubicBezTo>
                  <a:pt x="69" y="86"/>
                  <a:pt x="64" y="86"/>
                  <a:pt x="62" y="82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7"/>
                  <a:pt x="49" y="65"/>
                  <a:pt x="49" y="63"/>
                </a:cubicBezTo>
                <a:cubicBezTo>
                  <a:pt x="43" y="66"/>
                  <a:pt x="36" y="67"/>
                  <a:pt x="30" y="66"/>
                </a:cubicBezTo>
                <a:cubicBezTo>
                  <a:pt x="21" y="65"/>
                  <a:pt x="13" y="61"/>
                  <a:pt x="8" y="54"/>
                </a:cubicBezTo>
                <a:cubicBezTo>
                  <a:pt x="2" y="47"/>
                  <a:pt x="0" y="38"/>
                  <a:pt x="1" y="30"/>
                </a:cubicBezTo>
                <a:cubicBezTo>
                  <a:pt x="2" y="21"/>
                  <a:pt x="6" y="13"/>
                  <a:pt x="13" y="8"/>
                </a:cubicBezTo>
                <a:close/>
                <a:moveTo>
                  <a:pt x="30" y="49"/>
                </a:moveTo>
                <a:cubicBezTo>
                  <a:pt x="38" y="49"/>
                  <a:pt x="38" y="49"/>
                  <a:pt x="38" y="49"/>
                </a:cubicBezTo>
                <a:cubicBezTo>
                  <a:pt x="38" y="40"/>
                  <a:pt x="38" y="40"/>
                  <a:pt x="3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2"/>
                  <a:pt x="47" y="32"/>
                  <a:pt x="47" y="32"/>
                </a:cubicBezTo>
                <a:cubicBezTo>
                  <a:pt x="38" y="32"/>
                  <a:pt x="38" y="32"/>
                  <a:pt x="38" y="32"/>
                </a:cubicBezTo>
                <a:cubicBezTo>
                  <a:pt x="38" y="23"/>
                  <a:pt x="38" y="23"/>
                  <a:pt x="38" y="23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32"/>
                  <a:pt x="30" y="32"/>
                  <a:pt x="3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9"/>
                  <a:pt x="30" y="49"/>
                  <a:pt x="30" y="49"/>
                </a:cubicBezTo>
                <a:close/>
                <a:moveTo>
                  <a:pt x="18" y="36"/>
                </a:moveTo>
                <a:cubicBezTo>
                  <a:pt x="22" y="26"/>
                  <a:pt x="31" y="21"/>
                  <a:pt x="43" y="19"/>
                </a:cubicBezTo>
                <a:cubicBezTo>
                  <a:pt x="31" y="11"/>
                  <a:pt x="16" y="22"/>
                  <a:pt x="18" y="36"/>
                </a:cubicBezTo>
                <a:close/>
                <a:moveTo>
                  <a:pt x="36" y="12"/>
                </a:moveTo>
                <a:cubicBezTo>
                  <a:pt x="31" y="11"/>
                  <a:pt x="25" y="13"/>
                  <a:pt x="20" y="16"/>
                </a:cubicBezTo>
                <a:cubicBezTo>
                  <a:pt x="15" y="20"/>
                  <a:pt x="13" y="25"/>
                  <a:pt x="12" y="31"/>
                </a:cubicBezTo>
                <a:cubicBezTo>
                  <a:pt x="11" y="37"/>
                  <a:pt x="13" y="42"/>
                  <a:pt x="16" y="47"/>
                </a:cubicBezTo>
                <a:cubicBezTo>
                  <a:pt x="20" y="52"/>
                  <a:pt x="25" y="55"/>
                  <a:pt x="31" y="55"/>
                </a:cubicBezTo>
                <a:cubicBezTo>
                  <a:pt x="36" y="56"/>
                  <a:pt x="42" y="55"/>
                  <a:pt x="47" y="51"/>
                </a:cubicBezTo>
                <a:cubicBezTo>
                  <a:pt x="52" y="47"/>
                  <a:pt x="55" y="42"/>
                  <a:pt x="55" y="36"/>
                </a:cubicBezTo>
                <a:cubicBezTo>
                  <a:pt x="56" y="31"/>
                  <a:pt x="54" y="25"/>
                  <a:pt x="51" y="20"/>
                </a:cubicBezTo>
                <a:cubicBezTo>
                  <a:pt x="47" y="15"/>
                  <a:pt x="42" y="13"/>
                  <a:pt x="3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custGeom>
            <a:avLst/>
            <a:gdLst>
              <a:gd name="textAreaLeft" fmla="*/ 0 w 385920"/>
              <a:gd name="textAreaRight" fmla="*/ 386280 w 385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custGeom>
            <a:avLst/>
            <a:gdLst>
              <a:gd name="textAreaLeft" fmla="*/ 0 w 596880"/>
              <a:gd name="textAreaRight" fmla="*/ 597240 w 596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00" h="247">
                <a:moveTo>
                  <a:pt x="122" y="0"/>
                </a:moveTo>
                <a:cubicBezTo>
                  <a:pt x="155" y="0"/>
                  <a:pt x="186" y="14"/>
                  <a:pt x="208" y="36"/>
                </a:cubicBezTo>
                <a:cubicBezTo>
                  <a:pt x="230" y="58"/>
                  <a:pt x="244" y="88"/>
                  <a:pt x="244" y="122"/>
                </a:cubicBezTo>
                <a:cubicBezTo>
                  <a:pt x="244" y="156"/>
                  <a:pt x="230" y="186"/>
                  <a:pt x="208" y="208"/>
                </a:cubicBezTo>
                <a:cubicBezTo>
                  <a:pt x="186" y="230"/>
                  <a:pt x="155" y="244"/>
                  <a:pt x="122" y="244"/>
                </a:cubicBezTo>
                <a:cubicBezTo>
                  <a:pt x="88" y="244"/>
                  <a:pt x="57" y="230"/>
                  <a:pt x="35" y="208"/>
                </a:cubicBezTo>
                <a:cubicBezTo>
                  <a:pt x="13" y="186"/>
                  <a:pt x="0" y="156"/>
                  <a:pt x="0" y="122"/>
                </a:cubicBezTo>
                <a:cubicBezTo>
                  <a:pt x="0" y="88"/>
                  <a:pt x="13" y="58"/>
                  <a:pt x="35" y="36"/>
                </a:cubicBezTo>
                <a:cubicBezTo>
                  <a:pt x="57" y="14"/>
                  <a:pt x="88" y="0"/>
                  <a:pt x="122" y="0"/>
                </a:cubicBezTo>
                <a:close/>
                <a:moveTo>
                  <a:pt x="175" y="245"/>
                </a:moveTo>
                <a:cubicBezTo>
                  <a:pt x="292" y="247"/>
                  <a:pt x="257" y="150"/>
                  <a:pt x="300" y="158"/>
                </a:cubicBezTo>
                <a:cubicBezTo>
                  <a:pt x="298" y="126"/>
                  <a:pt x="298" y="126"/>
                  <a:pt x="298" y="126"/>
                </a:cubicBezTo>
                <a:cubicBezTo>
                  <a:pt x="230" y="122"/>
                  <a:pt x="286" y="229"/>
                  <a:pt x="175" y="245"/>
                </a:cubicBezTo>
                <a:close/>
                <a:moveTo>
                  <a:pt x="130" y="80"/>
                </a:moveTo>
                <a:cubicBezTo>
                  <a:pt x="139" y="82"/>
                  <a:pt x="146" y="86"/>
                  <a:pt x="151" y="91"/>
                </a:cubicBezTo>
                <a:cubicBezTo>
                  <a:pt x="181" y="71"/>
                  <a:pt x="181" y="71"/>
                  <a:pt x="181" y="71"/>
                </a:cubicBezTo>
                <a:cubicBezTo>
                  <a:pt x="180" y="69"/>
                  <a:pt x="179" y="68"/>
                  <a:pt x="177" y="66"/>
                </a:cubicBezTo>
                <a:cubicBezTo>
                  <a:pt x="165" y="54"/>
                  <a:pt x="149" y="46"/>
                  <a:pt x="130" y="44"/>
                </a:cubicBezTo>
                <a:cubicBezTo>
                  <a:pt x="130" y="80"/>
                  <a:pt x="130" y="80"/>
                  <a:pt x="130" y="80"/>
                </a:cubicBezTo>
                <a:close/>
                <a:moveTo>
                  <a:pt x="162" y="108"/>
                </a:moveTo>
                <a:cubicBezTo>
                  <a:pt x="164" y="112"/>
                  <a:pt x="164" y="117"/>
                  <a:pt x="164" y="122"/>
                </a:cubicBezTo>
                <a:cubicBezTo>
                  <a:pt x="164" y="128"/>
                  <a:pt x="163" y="133"/>
                  <a:pt x="161" y="138"/>
                </a:cubicBezTo>
                <a:cubicBezTo>
                  <a:pt x="192" y="157"/>
                  <a:pt x="192" y="157"/>
                  <a:pt x="192" y="157"/>
                </a:cubicBezTo>
                <a:cubicBezTo>
                  <a:pt x="197" y="147"/>
                  <a:pt x="200" y="135"/>
                  <a:pt x="200" y="122"/>
                </a:cubicBezTo>
                <a:cubicBezTo>
                  <a:pt x="200" y="110"/>
                  <a:pt x="197" y="98"/>
                  <a:pt x="192" y="87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49" y="154"/>
                </a:moveTo>
                <a:cubicBezTo>
                  <a:pt x="144" y="159"/>
                  <a:pt x="138" y="162"/>
                  <a:pt x="130" y="164"/>
                </a:cubicBezTo>
                <a:cubicBezTo>
                  <a:pt x="130" y="200"/>
                  <a:pt x="130" y="200"/>
                  <a:pt x="130" y="200"/>
                </a:cubicBezTo>
                <a:cubicBezTo>
                  <a:pt x="149" y="198"/>
                  <a:pt x="165" y="190"/>
                  <a:pt x="177" y="178"/>
                </a:cubicBezTo>
                <a:cubicBezTo>
                  <a:pt x="178" y="176"/>
                  <a:pt x="180" y="175"/>
                  <a:pt x="181" y="174"/>
                </a:cubicBezTo>
                <a:cubicBezTo>
                  <a:pt x="149" y="154"/>
                  <a:pt x="149" y="154"/>
                  <a:pt x="149" y="154"/>
                </a:cubicBezTo>
                <a:close/>
                <a:moveTo>
                  <a:pt x="110" y="163"/>
                </a:moveTo>
                <a:cubicBezTo>
                  <a:pt x="104" y="162"/>
                  <a:pt x="99" y="159"/>
                  <a:pt x="94" y="155"/>
                </a:cubicBezTo>
                <a:cubicBezTo>
                  <a:pt x="64" y="176"/>
                  <a:pt x="64" y="176"/>
                  <a:pt x="64" y="176"/>
                </a:cubicBezTo>
                <a:cubicBezTo>
                  <a:pt x="65" y="176"/>
                  <a:pt x="65" y="177"/>
                  <a:pt x="66" y="178"/>
                </a:cubicBezTo>
                <a:cubicBezTo>
                  <a:pt x="78" y="189"/>
                  <a:pt x="93" y="197"/>
                  <a:pt x="110" y="200"/>
                </a:cubicBezTo>
                <a:cubicBezTo>
                  <a:pt x="110" y="163"/>
                  <a:pt x="110" y="163"/>
                  <a:pt x="110" y="163"/>
                </a:cubicBezTo>
                <a:close/>
                <a:moveTo>
                  <a:pt x="82" y="139"/>
                </a:moveTo>
                <a:cubicBezTo>
                  <a:pt x="80" y="134"/>
                  <a:pt x="79" y="128"/>
                  <a:pt x="79" y="122"/>
                </a:cubicBezTo>
                <a:cubicBezTo>
                  <a:pt x="79" y="118"/>
                  <a:pt x="79" y="115"/>
                  <a:pt x="80" y="111"/>
                </a:cubicBezTo>
                <a:cubicBezTo>
                  <a:pt x="49" y="92"/>
                  <a:pt x="49" y="92"/>
                  <a:pt x="49" y="92"/>
                </a:cubicBezTo>
                <a:cubicBezTo>
                  <a:pt x="45" y="101"/>
                  <a:pt x="43" y="111"/>
                  <a:pt x="43" y="122"/>
                </a:cubicBezTo>
                <a:cubicBezTo>
                  <a:pt x="43" y="135"/>
                  <a:pt x="46" y="148"/>
                  <a:pt x="52" y="159"/>
                </a:cubicBezTo>
                <a:cubicBezTo>
                  <a:pt x="82" y="139"/>
                  <a:pt x="82" y="139"/>
                  <a:pt x="82" y="139"/>
                </a:cubicBezTo>
                <a:close/>
                <a:moveTo>
                  <a:pt x="90" y="94"/>
                </a:moveTo>
                <a:cubicBezTo>
                  <a:pt x="90" y="93"/>
                  <a:pt x="91" y="92"/>
                  <a:pt x="91" y="92"/>
                </a:cubicBezTo>
                <a:cubicBezTo>
                  <a:pt x="97" y="86"/>
                  <a:pt x="103" y="83"/>
                  <a:pt x="110" y="81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93" y="46"/>
                  <a:pt x="78" y="55"/>
                  <a:pt x="66" y="66"/>
                </a:cubicBezTo>
                <a:cubicBezTo>
                  <a:pt x="63" y="69"/>
                  <a:pt x="61" y="72"/>
                  <a:pt x="59" y="74"/>
                </a:cubicBezTo>
                <a:lnTo>
                  <a:pt x="9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84" h="183">
                <a:moveTo>
                  <a:pt x="99" y="180"/>
                </a:moveTo>
                <a:cubicBezTo>
                  <a:pt x="66" y="183"/>
                  <a:pt x="34" y="167"/>
                  <a:pt x="17" y="139"/>
                </a:cubicBezTo>
                <a:cubicBezTo>
                  <a:pt x="4" y="119"/>
                  <a:pt x="0" y="95"/>
                  <a:pt x="5" y="72"/>
                </a:cubicBezTo>
                <a:cubicBezTo>
                  <a:pt x="11" y="49"/>
                  <a:pt x="24" y="29"/>
                  <a:pt x="44" y="16"/>
                </a:cubicBezTo>
                <a:cubicBezTo>
                  <a:pt x="57" y="8"/>
                  <a:pt x="70" y="4"/>
                  <a:pt x="84" y="3"/>
                </a:cubicBezTo>
                <a:cubicBezTo>
                  <a:pt x="118" y="0"/>
                  <a:pt x="149" y="16"/>
                  <a:pt x="167" y="44"/>
                </a:cubicBezTo>
                <a:cubicBezTo>
                  <a:pt x="180" y="64"/>
                  <a:pt x="184" y="88"/>
                  <a:pt x="178" y="111"/>
                </a:cubicBezTo>
                <a:cubicBezTo>
                  <a:pt x="173" y="134"/>
                  <a:pt x="159" y="154"/>
                  <a:pt x="139" y="166"/>
                </a:cubicBezTo>
                <a:cubicBezTo>
                  <a:pt x="127" y="174"/>
                  <a:pt x="113" y="179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91" h="184">
                <a:moveTo>
                  <a:pt x="99" y="180"/>
                </a:moveTo>
                <a:cubicBezTo>
                  <a:pt x="59" y="184"/>
                  <a:pt x="21" y="159"/>
                  <a:pt x="8" y="122"/>
                </a:cubicBezTo>
                <a:cubicBezTo>
                  <a:pt x="0" y="99"/>
                  <a:pt x="1" y="75"/>
                  <a:pt x="11" y="54"/>
                </a:cubicBezTo>
                <a:cubicBezTo>
                  <a:pt x="21" y="32"/>
                  <a:pt x="39" y="16"/>
                  <a:pt x="61" y="8"/>
                </a:cubicBezTo>
                <a:cubicBezTo>
                  <a:pt x="69" y="6"/>
                  <a:pt x="76" y="4"/>
                  <a:pt x="84" y="3"/>
                </a:cubicBezTo>
                <a:cubicBezTo>
                  <a:pt x="124" y="0"/>
                  <a:pt x="161" y="24"/>
                  <a:pt x="175" y="62"/>
                </a:cubicBezTo>
                <a:cubicBezTo>
                  <a:pt x="191" y="108"/>
                  <a:pt x="167" y="159"/>
                  <a:pt x="121" y="175"/>
                </a:cubicBezTo>
                <a:cubicBezTo>
                  <a:pt x="114" y="178"/>
                  <a:pt x="106" y="180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182" h="178">
                <a:moveTo>
                  <a:pt x="98" y="177"/>
                </a:moveTo>
                <a:cubicBezTo>
                  <a:pt x="92" y="178"/>
                  <a:pt x="86" y="178"/>
                  <a:pt x="80" y="177"/>
                </a:cubicBezTo>
                <a:cubicBezTo>
                  <a:pt x="56" y="174"/>
                  <a:pt x="35" y="162"/>
                  <a:pt x="21" y="143"/>
                </a:cubicBezTo>
                <a:cubicBezTo>
                  <a:pt x="6" y="125"/>
                  <a:pt x="0" y="101"/>
                  <a:pt x="3" y="78"/>
                </a:cubicBezTo>
                <a:cubicBezTo>
                  <a:pt x="8" y="36"/>
                  <a:pt x="42" y="4"/>
                  <a:pt x="83" y="0"/>
                </a:cubicBezTo>
                <a:cubicBezTo>
                  <a:pt x="89" y="0"/>
                  <a:pt x="96" y="0"/>
                  <a:pt x="102" y="1"/>
                </a:cubicBezTo>
                <a:cubicBezTo>
                  <a:pt x="125" y="3"/>
                  <a:pt x="146" y="15"/>
                  <a:pt x="161" y="34"/>
                </a:cubicBezTo>
                <a:cubicBezTo>
                  <a:pt x="175" y="53"/>
                  <a:pt x="182" y="76"/>
                  <a:pt x="179" y="100"/>
                </a:cubicBezTo>
                <a:cubicBezTo>
                  <a:pt x="174" y="141"/>
                  <a:pt x="140" y="174"/>
                  <a:pt x="98" y="177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2" h="179">
                <a:moveTo>
                  <a:pt x="108" y="178"/>
                </a:moveTo>
                <a:cubicBezTo>
                  <a:pt x="94" y="179"/>
                  <a:pt x="81" y="177"/>
                  <a:pt x="68" y="172"/>
                </a:cubicBezTo>
                <a:cubicBezTo>
                  <a:pt x="22" y="154"/>
                  <a:pt x="0" y="102"/>
                  <a:pt x="18" y="56"/>
                </a:cubicBezTo>
                <a:cubicBezTo>
                  <a:pt x="31" y="25"/>
                  <a:pt x="60" y="4"/>
                  <a:pt x="94" y="1"/>
                </a:cubicBezTo>
                <a:cubicBezTo>
                  <a:pt x="107" y="0"/>
                  <a:pt x="121" y="2"/>
                  <a:pt x="134" y="7"/>
                </a:cubicBezTo>
                <a:cubicBezTo>
                  <a:pt x="156" y="16"/>
                  <a:pt x="173" y="33"/>
                  <a:pt x="182" y="54"/>
                </a:cubicBezTo>
                <a:cubicBezTo>
                  <a:pt x="192" y="76"/>
                  <a:pt x="192" y="100"/>
                  <a:pt x="183" y="122"/>
                </a:cubicBezTo>
                <a:cubicBezTo>
                  <a:pt x="171" y="154"/>
                  <a:pt x="142" y="175"/>
                  <a:pt x="108" y="17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1" h="181">
                <a:moveTo>
                  <a:pt x="107" y="179"/>
                </a:moveTo>
                <a:cubicBezTo>
                  <a:pt x="86" y="181"/>
                  <a:pt x="64" y="174"/>
                  <a:pt x="47" y="161"/>
                </a:cubicBezTo>
                <a:cubicBezTo>
                  <a:pt x="8" y="132"/>
                  <a:pt x="0" y="76"/>
                  <a:pt x="29" y="37"/>
                </a:cubicBezTo>
                <a:cubicBezTo>
                  <a:pt x="44" y="17"/>
                  <a:pt x="67" y="4"/>
                  <a:pt x="93" y="2"/>
                </a:cubicBezTo>
                <a:cubicBezTo>
                  <a:pt x="114" y="0"/>
                  <a:pt x="136" y="6"/>
                  <a:pt x="153" y="19"/>
                </a:cubicBezTo>
                <a:cubicBezTo>
                  <a:pt x="172" y="33"/>
                  <a:pt x="184" y="54"/>
                  <a:pt x="188" y="78"/>
                </a:cubicBezTo>
                <a:cubicBezTo>
                  <a:pt x="191" y="101"/>
                  <a:pt x="185" y="125"/>
                  <a:pt x="171" y="144"/>
                </a:cubicBezTo>
                <a:cubicBezTo>
                  <a:pt x="156" y="164"/>
                  <a:pt x="133" y="177"/>
                  <a:pt x="107" y="179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97650" h="1916827">
                <a:moveTo>
                  <a:pt x="715353" y="734325"/>
                </a:moveTo>
                <a:cubicBezTo>
                  <a:pt x="692154" y="733176"/>
                  <a:pt x="668583" y="733614"/>
                  <a:pt x="644748" y="735715"/>
                </a:cubicBezTo>
                <a:cubicBezTo>
                  <a:pt x="566236" y="741319"/>
                  <a:pt x="493332" y="763735"/>
                  <a:pt x="420428" y="808567"/>
                </a:cubicBezTo>
                <a:cubicBezTo>
                  <a:pt x="308267" y="881418"/>
                  <a:pt x="235363" y="993497"/>
                  <a:pt x="201715" y="1122388"/>
                </a:cubicBezTo>
                <a:cubicBezTo>
                  <a:pt x="173675" y="1251280"/>
                  <a:pt x="196107" y="1385775"/>
                  <a:pt x="269011" y="1497854"/>
                </a:cubicBezTo>
                <a:cubicBezTo>
                  <a:pt x="364348" y="1654765"/>
                  <a:pt x="543804" y="1744428"/>
                  <a:pt x="728869" y="1727616"/>
                </a:cubicBezTo>
                <a:cubicBezTo>
                  <a:pt x="807381" y="1722012"/>
                  <a:pt x="885893" y="1693993"/>
                  <a:pt x="953189" y="1649161"/>
                </a:cubicBezTo>
                <a:cubicBezTo>
                  <a:pt x="1065350" y="1581913"/>
                  <a:pt x="1143862" y="1469834"/>
                  <a:pt x="1171902" y="1340943"/>
                </a:cubicBezTo>
                <a:cubicBezTo>
                  <a:pt x="1205550" y="1212052"/>
                  <a:pt x="1183118" y="1077557"/>
                  <a:pt x="1110214" y="965477"/>
                </a:cubicBezTo>
                <a:cubicBezTo>
                  <a:pt x="1021888" y="828180"/>
                  <a:pt x="877744" y="742370"/>
                  <a:pt x="715353" y="734325"/>
                </a:cubicBezTo>
                <a:close/>
                <a:moveTo>
                  <a:pt x="954212" y="1449"/>
                </a:moveTo>
                <a:cubicBezTo>
                  <a:pt x="1152710" y="10640"/>
                  <a:pt x="1337800" y="63161"/>
                  <a:pt x="1497650" y="147193"/>
                </a:cubicBezTo>
                <a:cubicBezTo>
                  <a:pt x="1267690" y="225624"/>
                  <a:pt x="1099427" y="365678"/>
                  <a:pt x="998469" y="522539"/>
                </a:cubicBezTo>
                <a:cubicBezTo>
                  <a:pt x="976034" y="472119"/>
                  <a:pt x="947990" y="416097"/>
                  <a:pt x="925555" y="365678"/>
                </a:cubicBezTo>
                <a:cubicBezTo>
                  <a:pt x="830205" y="410495"/>
                  <a:pt x="740465" y="472119"/>
                  <a:pt x="661942" y="544947"/>
                </a:cubicBezTo>
                <a:cubicBezTo>
                  <a:pt x="897511" y="533743"/>
                  <a:pt x="1133079" y="645786"/>
                  <a:pt x="1273299" y="864271"/>
                </a:cubicBezTo>
                <a:cubicBezTo>
                  <a:pt x="1475215" y="1183595"/>
                  <a:pt x="1379866" y="1609360"/>
                  <a:pt x="1054556" y="1811038"/>
                </a:cubicBezTo>
                <a:cubicBezTo>
                  <a:pt x="734856" y="2012716"/>
                  <a:pt x="308589" y="1917479"/>
                  <a:pt x="106673" y="1598156"/>
                </a:cubicBezTo>
                <a:cubicBezTo>
                  <a:pt x="-11112" y="1407682"/>
                  <a:pt x="-27938" y="1183595"/>
                  <a:pt x="39367" y="993121"/>
                </a:cubicBezTo>
                <a:cubicBezTo>
                  <a:pt x="168369" y="656991"/>
                  <a:pt x="516114" y="309656"/>
                  <a:pt x="824597" y="158398"/>
                </a:cubicBezTo>
                <a:cubicBezTo>
                  <a:pt x="802161" y="107978"/>
                  <a:pt x="774118" y="57559"/>
                  <a:pt x="751682" y="7139"/>
                </a:cubicBezTo>
                <a:cubicBezTo>
                  <a:pt x="820390" y="136"/>
                  <a:pt x="888046" y="-1614"/>
                  <a:pt x="954212" y="144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868771" h="1713707">
                <a:moveTo>
                  <a:pt x="1138013" y="527973"/>
                </a:moveTo>
                <a:cubicBezTo>
                  <a:pt x="1093131" y="533573"/>
                  <a:pt x="1053859" y="544772"/>
                  <a:pt x="1008977" y="555970"/>
                </a:cubicBezTo>
                <a:cubicBezTo>
                  <a:pt x="885551" y="600766"/>
                  <a:pt x="784566" y="690356"/>
                  <a:pt x="728463" y="813542"/>
                </a:cubicBezTo>
                <a:cubicBezTo>
                  <a:pt x="672360" y="931130"/>
                  <a:pt x="666750" y="1065515"/>
                  <a:pt x="711632" y="1194301"/>
                </a:cubicBezTo>
                <a:cubicBezTo>
                  <a:pt x="784566" y="1401478"/>
                  <a:pt x="997756" y="1541463"/>
                  <a:pt x="1222168" y="1519066"/>
                </a:cubicBezTo>
                <a:cubicBezTo>
                  <a:pt x="1261440" y="1519066"/>
                  <a:pt x="1306322" y="1507867"/>
                  <a:pt x="1345594" y="1491069"/>
                </a:cubicBezTo>
                <a:cubicBezTo>
                  <a:pt x="1603666" y="1401478"/>
                  <a:pt x="1738313" y="1115909"/>
                  <a:pt x="1648549" y="858337"/>
                </a:cubicBezTo>
                <a:cubicBezTo>
                  <a:pt x="1570005" y="645561"/>
                  <a:pt x="1362425" y="511175"/>
                  <a:pt x="1138013" y="527973"/>
                </a:cubicBezTo>
                <a:close/>
                <a:moveTo>
                  <a:pt x="297254" y="0"/>
                </a:moveTo>
                <a:cubicBezTo>
                  <a:pt x="325297" y="241107"/>
                  <a:pt x="426251" y="431749"/>
                  <a:pt x="555248" y="566320"/>
                </a:cubicBezTo>
                <a:cubicBezTo>
                  <a:pt x="499162" y="583142"/>
                  <a:pt x="443076" y="594356"/>
                  <a:pt x="386991" y="605570"/>
                </a:cubicBezTo>
                <a:cubicBezTo>
                  <a:pt x="409425" y="712106"/>
                  <a:pt x="448685" y="813034"/>
                  <a:pt x="504771" y="902748"/>
                </a:cubicBezTo>
                <a:cubicBezTo>
                  <a:pt x="544031" y="667249"/>
                  <a:pt x="706679" y="465392"/>
                  <a:pt x="947847" y="375678"/>
                </a:cubicBezTo>
                <a:cubicBezTo>
                  <a:pt x="1306795" y="252321"/>
                  <a:pt x="1699394" y="437356"/>
                  <a:pt x="1828391" y="796213"/>
                </a:cubicBezTo>
                <a:cubicBezTo>
                  <a:pt x="1957388" y="1149462"/>
                  <a:pt x="1766697" y="1547568"/>
                  <a:pt x="1407749" y="1670925"/>
                </a:cubicBezTo>
                <a:cubicBezTo>
                  <a:pt x="1200232" y="1749425"/>
                  <a:pt x="975890" y="1715782"/>
                  <a:pt x="807633" y="1603640"/>
                </a:cubicBezTo>
                <a:cubicBezTo>
                  <a:pt x="504771" y="1407390"/>
                  <a:pt x="241168" y="992462"/>
                  <a:pt x="162648" y="656035"/>
                </a:cubicBezTo>
                <a:cubicBezTo>
                  <a:pt x="112171" y="672856"/>
                  <a:pt x="56086" y="684070"/>
                  <a:pt x="0" y="695285"/>
                </a:cubicBezTo>
                <a:cubicBezTo>
                  <a:pt x="33651" y="426142"/>
                  <a:pt x="140214" y="185036"/>
                  <a:pt x="297254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997134" h="1596839">
                <a:moveTo>
                  <a:pt x="1268788" y="190313"/>
                </a:moveTo>
                <a:cubicBezTo>
                  <a:pt x="1038836" y="212717"/>
                  <a:pt x="848144" y="391944"/>
                  <a:pt x="820101" y="627179"/>
                </a:cubicBezTo>
                <a:cubicBezTo>
                  <a:pt x="803275" y="755998"/>
                  <a:pt x="836927" y="890419"/>
                  <a:pt x="921055" y="991234"/>
                </a:cubicBezTo>
                <a:cubicBezTo>
                  <a:pt x="999576" y="1097650"/>
                  <a:pt x="1117356" y="1164860"/>
                  <a:pt x="1251962" y="1181662"/>
                </a:cubicBezTo>
                <a:cubicBezTo>
                  <a:pt x="1285614" y="1187263"/>
                  <a:pt x="1319265" y="1187263"/>
                  <a:pt x="1352917" y="1181662"/>
                </a:cubicBezTo>
                <a:cubicBezTo>
                  <a:pt x="1588478" y="1164860"/>
                  <a:pt x="1779170" y="980032"/>
                  <a:pt x="1807212" y="750397"/>
                </a:cubicBezTo>
                <a:cubicBezTo>
                  <a:pt x="1824038" y="615977"/>
                  <a:pt x="1784778" y="487158"/>
                  <a:pt x="1706258" y="380742"/>
                </a:cubicBezTo>
                <a:cubicBezTo>
                  <a:pt x="1622129" y="274326"/>
                  <a:pt x="1504349" y="207116"/>
                  <a:pt x="1375351" y="195914"/>
                </a:cubicBezTo>
                <a:cubicBezTo>
                  <a:pt x="1341700" y="190313"/>
                  <a:pt x="1302439" y="190313"/>
                  <a:pt x="1268788" y="190313"/>
                </a:cubicBezTo>
                <a:close/>
                <a:moveTo>
                  <a:pt x="1257473" y="2231"/>
                </a:moveTo>
                <a:cubicBezTo>
                  <a:pt x="1303032" y="-1426"/>
                  <a:pt x="1349566" y="-637"/>
                  <a:pt x="1396538" y="4968"/>
                </a:cubicBezTo>
                <a:cubicBezTo>
                  <a:pt x="1772313" y="49809"/>
                  <a:pt x="2041525" y="391725"/>
                  <a:pt x="1991048" y="772878"/>
                </a:cubicBezTo>
                <a:cubicBezTo>
                  <a:pt x="1968614" y="991480"/>
                  <a:pt x="1839616" y="1176451"/>
                  <a:pt x="1660141" y="1282949"/>
                </a:cubicBezTo>
                <a:cubicBezTo>
                  <a:pt x="1351669" y="1462315"/>
                  <a:pt x="863722" y="1507156"/>
                  <a:pt x="527207" y="1428684"/>
                </a:cubicBezTo>
                <a:cubicBezTo>
                  <a:pt x="515990" y="1484736"/>
                  <a:pt x="499164" y="1540787"/>
                  <a:pt x="487947" y="1596839"/>
                </a:cubicBezTo>
                <a:cubicBezTo>
                  <a:pt x="257995" y="1439894"/>
                  <a:pt x="95346" y="1238108"/>
                  <a:pt x="0" y="1019505"/>
                </a:cubicBezTo>
                <a:cubicBezTo>
                  <a:pt x="224344" y="1097978"/>
                  <a:pt x="443078" y="1097978"/>
                  <a:pt x="622553" y="1041926"/>
                </a:cubicBezTo>
                <a:cubicBezTo>
                  <a:pt x="611336" y="1097978"/>
                  <a:pt x="594510" y="1154030"/>
                  <a:pt x="583293" y="1204476"/>
                </a:cubicBezTo>
                <a:cubicBezTo>
                  <a:pt x="684248" y="1232502"/>
                  <a:pt x="790811" y="1243713"/>
                  <a:pt x="897374" y="1238108"/>
                </a:cubicBezTo>
                <a:cubicBezTo>
                  <a:pt x="706682" y="1092373"/>
                  <a:pt x="594510" y="856955"/>
                  <a:pt x="628162" y="604722"/>
                </a:cubicBezTo>
                <a:cubicBezTo>
                  <a:pt x="667422" y="271214"/>
                  <a:pt x="938562" y="27826"/>
                  <a:pt x="1257473" y="223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w="1394938" h="2037291">
                <a:moveTo>
                  <a:pt x="650367" y="193458"/>
                </a:moveTo>
                <a:cubicBezTo>
                  <a:pt x="459768" y="210273"/>
                  <a:pt x="297198" y="327979"/>
                  <a:pt x="224322" y="501735"/>
                </a:cubicBezTo>
                <a:cubicBezTo>
                  <a:pt x="123416" y="759566"/>
                  <a:pt x="246745" y="1051027"/>
                  <a:pt x="504615" y="1151918"/>
                </a:cubicBezTo>
                <a:cubicBezTo>
                  <a:pt x="577491" y="1179943"/>
                  <a:pt x="650367" y="1191153"/>
                  <a:pt x="728849" y="1185548"/>
                </a:cubicBezTo>
                <a:cubicBezTo>
                  <a:pt x="919448" y="1168733"/>
                  <a:pt x="1082018" y="1051027"/>
                  <a:pt x="1149288" y="871667"/>
                </a:cubicBezTo>
                <a:cubicBezTo>
                  <a:pt x="1199741" y="748356"/>
                  <a:pt x="1199741" y="613835"/>
                  <a:pt x="1143683" y="490525"/>
                </a:cubicBezTo>
                <a:cubicBezTo>
                  <a:pt x="1093230" y="372819"/>
                  <a:pt x="997930" y="277534"/>
                  <a:pt x="874601" y="227088"/>
                </a:cubicBezTo>
                <a:cubicBezTo>
                  <a:pt x="801725" y="199063"/>
                  <a:pt x="723243" y="187853"/>
                  <a:pt x="650367" y="193458"/>
                </a:cubicBezTo>
                <a:close/>
                <a:moveTo>
                  <a:pt x="672738" y="189"/>
                </a:moveTo>
                <a:cubicBezTo>
                  <a:pt x="761989" y="-1912"/>
                  <a:pt x="853170" y="13494"/>
                  <a:pt x="941544" y="48508"/>
                </a:cubicBezTo>
                <a:cubicBezTo>
                  <a:pt x="1149154" y="132541"/>
                  <a:pt x="1295043" y="306210"/>
                  <a:pt x="1351154" y="502287"/>
                </a:cubicBezTo>
                <a:cubicBezTo>
                  <a:pt x="1452153" y="849624"/>
                  <a:pt x="1367987" y="1331413"/>
                  <a:pt x="1205265" y="1633932"/>
                </a:cubicBezTo>
                <a:cubicBezTo>
                  <a:pt x="1255765" y="1661943"/>
                  <a:pt x="1306265" y="1689954"/>
                  <a:pt x="1356765" y="1717965"/>
                </a:cubicBezTo>
                <a:cubicBezTo>
                  <a:pt x="1149154" y="1897236"/>
                  <a:pt x="907877" y="2003678"/>
                  <a:pt x="672212" y="2037291"/>
                </a:cubicBezTo>
                <a:cubicBezTo>
                  <a:pt x="806878" y="1841214"/>
                  <a:pt x="862989" y="1628330"/>
                  <a:pt x="851766" y="1443457"/>
                </a:cubicBezTo>
                <a:cubicBezTo>
                  <a:pt x="902266" y="1471468"/>
                  <a:pt x="952766" y="1499479"/>
                  <a:pt x="1003266" y="1527491"/>
                </a:cubicBezTo>
                <a:cubicBezTo>
                  <a:pt x="1053766" y="1432253"/>
                  <a:pt x="1093043" y="1331413"/>
                  <a:pt x="1115488" y="1230574"/>
                </a:cubicBezTo>
                <a:cubicBezTo>
                  <a:pt x="930322" y="1376231"/>
                  <a:pt x="666600" y="1421049"/>
                  <a:pt x="430935" y="1325811"/>
                </a:cubicBezTo>
                <a:cubicBezTo>
                  <a:pt x="77436" y="1185756"/>
                  <a:pt x="-90897" y="787999"/>
                  <a:pt x="49380" y="435060"/>
                </a:cubicBezTo>
                <a:cubicBezTo>
                  <a:pt x="154588" y="170356"/>
                  <a:pt x="404983" y="6492"/>
                  <a:pt x="672738" y="18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998099" h="1379770">
                <a:moveTo>
                  <a:pt x="737451" y="196126"/>
                </a:moveTo>
                <a:cubicBezTo>
                  <a:pt x="707821" y="193411"/>
                  <a:pt x="678017" y="193411"/>
                  <a:pt x="648563" y="196213"/>
                </a:cubicBezTo>
                <a:cubicBezTo>
                  <a:pt x="502696" y="207422"/>
                  <a:pt x="373659" y="280280"/>
                  <a:pt x="289505" y="392370"/>
                </a:cubicBezTo>
                <a:cubicBezTo>
                  <a:pt x="126807" y="610945"/>
                  <a:pt x="171689" y="924797"/>
                  <a:pt x="390490" y="1087327"/>
                </a:cubicBezTo>
                <a:cubicBezTo>
                  <a:pt x="485865" y="1160186"/>
                  <a:pt x="609291" y="1199417"/>
                  <a:pt x="727107" y="1188208"/>
                </a:cubicBezTo>
                <a:cubicBezTo>
                  <a:pt x="872974" y="1176999"/>
                  <a:pt x="1002010" y="1104141"/>
                  <a:pt x="1086165" y="992051"/>
                </a:cubicBezTo>
                <a:cubicBezTo>
                  <a:pt x="1164708" y="885566"/>
                  <a:pt x="1198370" y="751058"/>
                  <a:pt x="1181539" y="622154"/>
                </a:cubicBezTo>
                <a:cubicBezTo>
                  <a:pt x="1159098" y="487647"/>
                  <a:pt x="1091775" y="369952"/>
                  <a:pt x="985180" y="291489"/>
                </a:cubicBezTo>
                <a:cubicBezTo>
                  <a:pt x="913649" y="236846"/>
                  <a:pt x="826339" y="204270"/>
                  <a:pt x="737451" y="196126"/>
                </a:cubicBezTo>
                <a:close/>
                <a:moveTo>
                  <a:pt x="677466" y="112"/>
                </a:moveTo>
                <a:cubicBezTo>
                  <a:pt x="1041916" y="-5496"/>
                  <a:pt x="1484862" y="201984"/>
                  <a:pt x="1737173" y="437501"/>
                </a:cubicBezTo>
                <a:cubicBezTo>
                  <a:pt x="1776422" y="398248"/>
                  <a:pt x="1815670" y="353388"/>
                  <a:pt x="1854919" y="314135"/>
                </a:cubicBezTo>
                <a:cubicBezTo>
                  <a:pt x="1978271" y="560868"/>
                  <a:pt x="2017519" y="818815"/>
                  <a:pt x="1989485" y="1059940"/>
                </a:cubicBezTo>
                <a:cubicBezTo>
                  <a:pt x="1832491" y="874891"/>
                  <a:pt x="1641856" y="768347"/>
                  <a:pt x="1462435" y="729094"/>
                </a:cubicBezTo>
                <a:cubicBezTo>
                  <a:pt x="1501683" y="684234"/>
                  <a:pt x="1540931" y="644981"/>
                  <a:pt x="1580180" y="600120"/>
                </a:cubicBezTo>
                <a:cubicBezTo>
                  <a:pt x="1501683" y="527222"/>
                  <a:pt x="1411972" y="465539"/>
                  <a:pt x="1322262" y="420679"/>
                </a:cubicBezTo>
                <a:cubicBezTo>
                  <a:pt x="1411972" y="639373"/>
                  <a:pt x="1389545" y="897321"/>
                  <a:pt x="1238158" y="1104801"/>
                </a:cubicBezTo>
                <a:cubicBezTo>
                  <a:pt x="1013881" y="1407609"/>
                  <a:pt x="582149" y="1469292"/>
                  <a:pt x="273769" y="1244990"/>
                </a:cubicBezTo>
                <a:cubicBezTo>
                  <a:pt x="-29005" y="1015080"/>
                  <a:pt x="-90681" y="583298"/>
                  <a:pt x="139203" y="280490"/>
                </a:cubicBezTo>
                <a:cubicBezTo>
                  <a:pt x="273769" y="101048"/>
                  <a:pt x="475618" y="5719"/>
                  <a:pt x="677466" y="112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custGeom>
            <a:avLst/>
            <a:gdLst>
              <a:gd name="textAreaLeft" fmla="*/ 0 w 458640"/>
              <a:gd name="textAreaRight" fmla="*/ 459000 w 4586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28" h="224">
                <a:moveTo>
                  <a:pt x="184" y="224"/>
                </a:moveTo>
                <a:cubicBezTo>
                  <a:pt x="165" y="224"/>
                  <a:pt x="147" y="220"/>
                  <a:pt x="130" y="211"/>
                </a:cubicBezTo>
                <a:cubicBezTo>
                  <a:pt x="118" y="216"/>
                  <a:pt x="105" y="219"/>
                  <a:pt x="92" y="219"/>
                </a:cubicBezTo>
                <a:cubicBezTo>
                  <a:pt x="41" y="219"/>
                  <a:pt x="0" y="178"/>
                  <a:pt x="0" y="127"/>
                </a:cubicBezTo>
                <a:cubicBezTo>
                  <a:pt x="0" y="76"/>
                  <a:pt x="41" y="35"/>
                  <a:pt x="92" y="35"/>
                </a:cubicBezTo>
                <a:cubicBezTo>
                  <a:pt x="95" y="35"/>
                  <a:pt x="99" y="35"/>
                  <a:pt x="102" y="36"/>
                </a:cubicBezTo>
                <a:cubicBezTo>
                  <a:pt x="124" y="13"/>
                  <a:pt x="153" y="0"/>
                  <a:pt x="184" y="0"/>
                </a:cubicBezTo>
                <a:cubicBezTo>
                  <a:pt x="227" y="0"/>
                  <a:pt x="266" y="24"/>
                  <a:pt x="284" y="62"/>
                </a:cubicBezTo>
                <a:cubicBezTo>
                  <a:pt x="311" y="74"/>
                  <a:pt x="328" y="99"/>
                  <a:pt x="328" y="128"/>
                </a:cubicBezTo>
                <a:cubicBezTo>
                  <a:pt x="328" y="168"/>
                  <a:pt x="296" y="200"/>
                  <a:pt x="256" y="200"/>
                </a:cubicBezTo>
                <a:cubicBezTo>
                  <a:pt x="255" y="200"/>
                  <a:pt x="254" y="200"/>
                  <a:pt x="254" y="200"/>
                </a:cubicBezTo>
                <a:cubicBezTo>
                  <a:pt x="234" y="216"/>
                  <a:pt x="209" y="224"/>
                  <a:pt x="184" y="224"/>
                </a:cubicBezTo>
                <a:close/>
                <a:moveTo>
                  <a:pt x="131" y="173"/>
                </a:moveTo>
                <a:cubicBezTo>
                  <a:pt x="140" y="179"/>
                  <a:pt x="140" y="179"/>
                  <a:pt x="140" y="179"/>
                </a:cubicBezTo>
                <a:cubicBezTo>
                  <a:pt x="153" y="188"/>
                  <a:pt x="168" y="192"/>
                  <a:pt x="184" y="192"/>
                </a:cubicBezTo>
                <a:cubicBezTo>
                  <a:pt x="204" y="192"/>
                  <a:pt x="223" y="185"/>
                  <a:pt x="238" y="172"/>
                </a:cubicBezTo>
                <a:cubicBezTo>
                  <a:pt x="243" y="167"/>
                  <a:pt x="243" y="167"/>
                  <a:pt x="243" y="167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3" y="168"/>
                  <a:pt x="254" y="168"/>
                  <a:pt x="256" y="168"/>
                </a:cubicBezTo>
                <a:cubicBezTo>
                  <a:pt x="278" y="168"/>
                  <a:pt x="296" y="150"/>
                  <a:pt x="296" y="128"/>
                </a:cubicBezTo>
                <a:cubicBezTo>
                  <a:pt x="296" y="111"/>
                  <a:pt x="285" y="95"/>
                  <a:pt x="268" y="90"/>
                </a:cubicBezTo>
                <a:cubicBezTo>
                  <a:pt x="261" y="88"/>
                  <a:pt x="261" y="88"/>
                  <a:pt x="261" y="88"/>
                </a:cubicBezTo>
                <a:cubicBezTo>
                  <a:pt x="258" y="81"/>
                  <a:pt x="258" y="81"/>
                  <a:pt x="258" y="81"/>
                </a:cubicBezTo>
                <a:cubicBezTo>
                  <a:pt x="245" y="51"/>
                  <a:pt x="216" y="32"/>
                  <a:pt x="184" y="32"/>
                </a:cubicBezTo>
                <a:cubicBezTo>
                  <a:pt x="159" y="32"/>
                  <a:pt x="137" y="43"/>
                  <a:pt x="121" y="63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1" y="68"/>
                  <a:pt x="96" y="67"/>
                  <a:pt x="92" y="67"/>
                </a:cubicBezTo>
                <a:cubicBezTo>
                  <a:pt x="59" y="67"/>
                  <a:pt x="32" y="94"/>
                  <a:pt x="32" y="127"/>
                </a:cubicBezTo>
                <a:cubicBezTo>
                  <a:pt x="32" y="160"/>
                  <a:pt x="59" y="187"/>
                  <a:pt x="92" y="187"/>
                </a:cubicBezTo>
                <a:cubicBezTo>
                  <a:pt x="103" y="187"/>
                  <a:pt x="113" y="184"/>
                  <a:pt x="123" y="179"/>
                </a:cubicBezTo>
                <a:lnTo>
                  <a:pt x="131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04" h="203">
                  <a:moveTo>
                    <a:pt x="191" y="132"/>
                  </a:moveTo>
                  <a:cubicBezTo>
                    <a:pt x="181" y="115"/>
                    <a:pt x="126" y="97"/>
                    <a:pt x="122" y="96"/>
                  </a:cubicBezTo>
                  <a:cubicBezTo>
                    <a:pt x="121" y="96"/>
                    <a:pt x="110" y="93"/>
                    <a:pt x="115" y="87"/>
                  </a:cubicBezTo>
                  <a:cubicBezTo>
                    <a:pt x="124" y="79"/>
                    <a:pt x="130" y="67"/>
                    <a:pt x="131" y="57"/>
                  </a:cubicBezTo>
                  <a:cubicBezTo>
                    <a:pt x="131" y="56"/>
                    <a:pt x="132" y="56"/>
                    <a:pt x="132" y="56"/>
                  </a:cubicBezTo>
                  <a:cubicBezTo>
                    <a:pt x="132" y="56"/>
                    <a:pt x="134" y="50"/>
                    <a:pt x="134" y="41"/>
                  </a:cubicBezTo>
                  <a:cubicBezTo>
                    <a:pt x="134" y="38"/>
                    <a:pt x="134" y="35"/>
                    <a:pt x="134" y="32"/>
                  </a:cubicBezTo>
                  <a:cubicBezTo>
                    <a:pt x="134" y="32"/>
                    <a:pt x="130" y="8"/>
                    <a:pt x="109" y="4"/>
                  </a:cubicBezTo>
                  <a:cubicBezTo>
                    <a:pt x="109" y="4"/>
                    <a:pt x="91" y="0"/>
                    <a:pt x="80" y="7"/>
                  </a:cubicBezTo>
                  <a:cubicBezTo>
                    <a:pt x="67" y="12"/>
                    <a:pt x="65" y="23"/>
                    <a:pt x="65" y="23"/>
                  </a:cubicBezTo>
                  <a:cubicBezTo>
                    <a:pt x="61" y="28"/>
                    <a:pt x="61" y="34"/>
                    <a:pt x="61" y="39"/>
                  </a:cubicBezTo>
                  <a:cubicBezTo>
                    <a:pt x="61" y="47"/>
                    <a:pt x="63" y="54"/>
                    <a:pt x="63" y="54"/>
                  </a:cubicBezTo>
                  <a:cubicBezTo>
                    <a:pt x="64" y="54"/>
                    <a:pt x="64" y="54"/>
                    <a:pt x="65" y="55"/>
                  </a:cubicBezTo>
                  <a:cubicBezTo>
                    <a:pt x="65" y="67"/>
                    <a:pt x="72" y="80"/>
                    <a:pt x="81" y="88"/>
                  </a:cubicBezTo>
                  <a:cubicBezTo>
                    <a:pt x="83" y="89"/>
                    <a:pt x="81" y="93"/>
                    <a:pt x="76" y="95"/>
                  </a:cubicBezTo>
                  <a:cubicBezTo>
                    <a:pt x="71" y="97"/>
                    <a:pt x="59" y="102"/>
                    <a:pt x="47" y="108"/>
                  </a:cubicBezTo>
                  <a:cubicBezTo>
                    <a:pt x="35" y="114"/>
                    <a:pt x="23" y="120"/>
                    <a:pt x="19" y="124"/>
                  </a:cubicBezTo>
                  <a:cubicBezTo>
                    <a:pt x="9" y="133"/>
                    <a:pt x="0" y="159"/>
                    <a:pt x="8" y="170"/>
                  </a:cubicBezTo>
                  <a:cubicBezTo>
                    <a:pt x="58" y="194"/>
                    <a:pt x="137" y="203"/>
                    <a:pt x="200" y="169"/>
                  </a:cubicBezTo>
                  <a:cubicBezTo>
                    <a:pt x="204" y="160"/>
                    <a:pt x="196" y="140"/>
                    <a:pt x="191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50" h="142">
                    <a:moveTo>
                      <a:pt x="99" y="21"/>
                    </a:moveTo>
                    <a:cubicBezTo>
                      <a:pt x="83" y="0"/>
                      <a:pt x="47" y="80"/>
                      <a:pt x="0" y="54"/>
                    </a:cubicBezTo>
                    <a:cubicBezTo>
                      <a:pt x="17" y="93"/>
                      <a:pt x="26" y="111"/>
                      <a:pt x="32" y="127"/>
                    </a:cubicBezTo>
                    <a:cubicBezTo>
                      <a:pt x="69" y="142"/>
                      <a:pt x="104" y="63"/>
                      <a:pt x="150" y="77"/>
                    </a:cubicBezTo>
                    <a:cubicBezTo>
                      <a:pt x="140" y="46"/>
                      <a:pt x="117" y="45"/>
                      <a:pt x="9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66" h="345">
                    <a:moveTo>
                      <a:pt x="0" y="7"/>
                    </a:moveTo>
                    <a:lnTo>
                      <a:pt x="147" y="345"/>
                    </a:lnTo>
                    <a:lnTo>
                      <a:pt x="166" y="335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7" y="6"/>
                    </a:moveTo>
                    <a:cubicBezTo>
                      <a:pt x="15" y="2"/>
                      <a:pt x="10" y="0"/>
                      <a:pt x="6" y="2"/>
                    </a:cubicBezTo>
                    <a:cubicBezTo>
                      <a:pt x="2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7"/>
                    </a:cubicBezTo>
                    <a:cubicBezTo>
                      <a:pt x="17" y="15"/>
                      <a:pt x="18" y="10"/>
                      <a:pt x="17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custGeom>
                <a:avLst/>
                <a:gdLst>
                  <a:gd name="textAreaLeft" fmla="*/ 0 w 261000"/>
                  <a:gd name="textAreaRight" fmla="*/ 261360 w 261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52" h="149">
                    <a:moveTo>
                      <a:pt x="0" y="55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60"/>
                      <a:pt x="46" y="60"/>
                      <a:pt x="46" y="60"/>
                    </a:cubicBezTo>
                    <a:cubicBezTo>
                      <a:pt x="46" y="66"/>
                      <a:pt x="50" y="72"/>
                      <a:pt x="55" y="74"/>
                    </a:cubicBezTo>
                    <a:cubicBezTo>
                      <a:pt x="41" y="100"/>
                      <a:pt x="24" y="129"/>
                      <a:pt x="20" y="138"/>
                    </a:cubicBezTo>
                    <a:cubicBezTo>
                      <a:pt x="19" y="138"/>
                      <a:pt x="19" y="138"/>
                      <a:pt x="19" y="138"/>
                    </a:cubicBezTo>
                    <a:cubicBezTo>
                      <a:pt x="16" y="138"/>
                      <a:pt x="14" y="140"/>
                      <a:pt x="14" y="143"/>
                    </a:cubicBezTo>
                    <a:cubicBezTo>
                      <a:pt x="14" y="146"/>
                      <a:pt x="16" y="149"/>
                      <a:pt x="19" y="149"/>
                    </a:cubicBezTo>
                    <a:cubicBezTo>
                      <a:pt x="29" y="149"/>
                      <a:pt x="29" y="149"/>
                      <a:pt x="29" y="149"/>
                    </a:cubicBezTo>
                    <a:cubicBezTo>
                      <a:pt x="32" y="149"/>
                      <a:pt x="35" y="146"/>
                      <a:pt x="35" y="143"/>
                    </a:cubicBezTo>
                    <a:cubicBezTo>
                      <a:pt x="35" y="141"/>
                      <a:pt x="33" y="139"/>
                      <a:pt x="30" y="138"/>
                    </a:cubicBezTo>
                    <a:cubicBezTo>
                      <a:pt x="67" y="75"/>
                      <a:pt x="67" y="75"/>
                      <a:pt x="67" y="75"/>
                    </a:cubicBezTo>
                    <a:cubicBezTo>
                      <a:pt x="68" y="75"/>
                      <a:pt x="68" y="75"/>
                      <a:pt x="68" y="75"/>
                    </a:cubicBezTo>
                    <a:cubicBezTo>
                      <a:pt x="97" y="139"/>
                      <a:pt x="97" y="139"/>
                      <a:pt x="97" y="139"/>
                    </a:cubicBezTo>
                    <a:cubicBezTo>
                      <a:pt x="95" y="140"/>
                      <a:pt x="93" y="141"/>
                      <a:pt x="93" y="144"/>
                    </a:cubicBezTo>
                    <a:cubicBezTo>
                      <a:pt x="93" y="146"/>
                      <a:pt x="96" y="149"/>
                      <a:pt x="99" y="149"/>
                    </a:cubicBezTo>
                    <a:cubicBezTo>
                      <a:pt x="109" y="149"/>
                      <a:pt x="109" y="149"/>
                      <a:pt x="109" y="149"/>
                    </a:cubicBezTo>
                    <a:cubicBezTo>
                      <a:pt x="112" y="149"/>
                      <a:pt x="115" y="146"/>
                      <a:pt x="115" y="144"/>
                    </a:cubicBezTo>
                    <a:cubicBezTo>
                      <a:pt x="115" y="141"/>
                      <a:pt x="113" y="139"/>
                      <a:pt x="110" y="138"/>
                    </a:cubicBezTo>
                    <a:cubicBezTo>
                      <a:pt x="79" y="73"/>
                      <a:pt x="79" y="73"/>
                      <a:pt x="79" y="73"/>
                    </a:cubicBezTo>
                    <a:cubicBezTo>
                      <a:pt x="82" y="71"/>
                      <a:pt x="85" y="67"/>
                      <a:pt x="86" y="63"/>
                    </a:cubicBezTo>
                    <a:cubicBezTo>
                      <a:pt x="152" y="69"/>
                      <a:pt x="152" y="69"/>
                      <a:pt x="152" y="69"/>
                    </a:cubicBezTo>
                    <a:cubicBezTo>
                      <a:pt x="152" y="0"/>
                      <a:pt x="152" y="0"/>
                      <a:pt x="152" y="0"/>
                    </a:cubicBezTo>
                    <a:cubicBezTo>
                      <a:pt x="0" y="26"/>
                      <a:pt x="0" y="26"/>
                      <a:pt x="0" y="26"/>
                    </a:cubicBez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89">
                    <a:moveTo>
                      <a:pt x="12" y="0"/>
                    </a:moveTo>
                    <a:cubicBezTo>
                      <a:pt x="6" y="0"/>
                      <a:pt x="0" y="6"/>
                      <a:pt x="0" y="12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4"/>
                      <a:pt x="6" y="89"/>
                      <a:pt x="12" y="89"/>
                    </a:cubicBezTo>
                    <a:cubicBezTo>
                      <a:pt x="19" y="89"/>
                      <a:pt x="24" y="84"/>
                      <a:pt x="24" y="77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24" y="6"/>
                      <a:pt x="19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0"/>
                      <a:pt x="2" y="32"/>
                      <a:pt x="4" y="32"/>
                    </a:cubicBezTo>
                    <a:cubicBezTo>
                      <a:pt x="7" y="32"/>
                      <a:pt x="8" y="30"/>
                      <a:pt x="8" y="28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0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4" y="18"/>
                </a:moveTo>
                <a:cubicBezTo>
                  <a:pt x="78" y="18"/>
                  <a:pt x="78" y="18"/>
                  <a:pt x="78" y="18"/>
                </a:cubicBezTo>
                <a:cubicBezTo>
                  <a:pt x="78" y="6"/>
                  <a:pt x="78" y="6"/>
                  <a:pt x="78" y="6"/>
                </a:cubicBezTo>
                <a:cubicBezTo>
                  <a:pt x="78" y="3"/>
                  <a:pt x="75" y="0"/>
                  <a:pt x="72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0"/>
                  <a:pt x="42" y="3"/>
                  <a:pt x="42" y="6"/>
                </a:cubicBezTo>
                <a:cubicBezTo>
                  <a:pt x="42" y="18"/>
                  <a:pt x="42" y="18"/>
                  <a:pt x="42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8"/>
                  <a:pt x="0" y="21"/>
                  <a:pt x="0" y="2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7"/>
                  <a:pt x="3" y="120"/>
                  <a:pt x="6" y="120"/>
                </a:cubicBezTo>
                <a:cubicBezTo>
                  <a:pt x="114" y="120"/>
                  <a:pt x="114" y="120"/>
                  <a:pt x="114" y="120"/>
                </a:cubicBezTo>
                <a:cubicBezTo>
                  <a:pt x="117" y="120"/>
                  <a:pt x="120" y="117"/>
                  <a:pt x="120" y="114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21"/>
                  <a:pt x="117" y="18"/>
                  <a:pt x="114" y="18"/>
                </a:cubicBezTo>
                <a:close/>
                <a:moveTo>
                  <a:pt x="48" y="6"/>
                </a:moveTo>
                <a:cubicBezTo>
                  <a:pt x="72" y="6"/>
                  <a:pt x="72" y="6"/>
                  <a:pt x="72" y="6"/>
                </a:cubicBezTo>
                <a:cubicBezTo>
                  <a:pt x="72" y="18"/>
                  <a:pt x="72" y="18"/>
                  <a:pt x="72" y="18"/>
                </a:cubicBezTo>
                <a:cubicBezTo>
                  <a:pt x="48" y="18"/>
                  <a:pt x="48" y="18"/>
                  <a:pt x="48" y="18"/>
                </a:cubicBezTo>
                <a:lnTo>
                  <a:pt x="48" y="6"/>
                </a:lnTo>
                <a:close/>
                <a:moveTo>
                  <a:pt x="114" y="114"/>
                </a:moveTo>
                <a:cubicBezTo>
                  <a:pt x="6" y="114"/>
                  <a:pt x="6" y="114"/>
                  <a:pt x="6" y="114"/>
                </a:cubicBezTo>
                <a:cubicBezTo>
                  <a:pt x="6" y="54"/>
                  <a:pt x="6" y="54"/>
                  <a:pt x="6" y="54"/>
                </a:cubicBezTo>
                <a:cubicBezTo>
                  <a:pt x="48" y="54"/>
                  <a:pt x="48" y="54"/>
                  <a:pt x="48" y="54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3"/>
                  <a:pt x="51" y="66"/>
                  <a:pt x="54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9" y="66"/>
                  <a:pt x="72" y="63"/>
                  <a:pt x="72" y="60"/>
                </a:cubicBezTo>
                <a:cubicBezTo>
                  <a:pt x="72" y="54"/>
                  <a:pt x="72" y="54"/>
                  <a:pt x="72" y="54"/>
                </a:cubicBezTo>
                <a:cubicBezTo>
                  <a:pt x="114" y="54"/>
                  <a:pt x="114" y="54"/>
                  <a:pt x="114" y="54"/>
                </a:cubicBezTo>
                <a:lnTo>
                  <a:pt x="114" y="114"/>
                </a:lnTo>
                <a:close/>
                <a:moveTo>
                  <a:pt x="54" y="54"/>
                </a:moveTo>
                <a:cubicBezTo>
                  <a:pt x="66" y="54"/>
                  <a:pt x="66" y="54"/>
                  <a:pt x="66" y="54"/>
                </a:cubicBezTo>
                <a:cubicBezTo>
                  <a:pt x="66" y="60"/>
                  <a:pt x="66" y="60"/>
                  <a:pt x="66" y="60"/>
                </a:cubicBezTo>
                <a:cubicBezTo>
                  <a:pt x="54" y="60"/>
                  <a:pt x="54" y="60"/>
                  <a:pt x="54" y="60"/>
                </a:cubicBezTo>
                <a:lnTo>
                  <a:pt x="54" y="54"/>
                </a:lnTo>
                <a:close/>
                <a:moveTo>
                  <a:pt x="6" y="48"/>
                </a:moveTo>
                <a:cubicBezTo>
                  <a:pt x="6" y="24"/>
                  <a:pt x="6" y="24"/>
                  <a:pt x="6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48"/>
                  <a:pt x="114" y="48"/>
                  <a:pt x="114" y="48"/>
                </a:cubicBez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" h="36">
                  <a:moveTo>
                    <a:pt x="18" y="0"/>
                  </a:moveTo>
                  <a:cubicBezTo>
                    <a:pt x="16" y="0"/>
                    <a:pt x="15" y="0"/>
                    <a:pt x="13" y="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5" y="7"/>
                    <a:pt x="30" y="12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2" y="30"/>
                    <a:pt x="7" y="25"/>
                    <a:pt x="6" y="19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5"/>
                    <a:pt x="0" y="16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" h="63">
                  <a:moveTo>
                    <a:pt x="62" y="58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2" y="37"/>
                    <a:pt x="42" y="36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2" y="22"/>
                    <a:pt x="41" y="21"/>
                    <a:pt x="40" y="2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1"/>
                    <a:pt x="20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3" y="1"/>
                    <a:pt x="12" y="4"/>
                    <a:pt x="12" y="6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4" y="12"/>
                    <a:pt x="1" y="13"/>
                    <a:pt x="0" y="16"/>
                  </a:cubicBezTo>
                  <a:cubicBezTo>
                    <a:pt x="0" y="18"/>
                    <a:pt x="0" y="21"/>
                    <a:pt x="2" y="22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1" y="41"/>
                    <a:pt x="22" y="42"/>
                    <a:pt x="24" y="42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58" y="62"/>
                    <a:pt x="58" y="62"/>
                    <a:pt x="58" y="62"/>
                  </a:cubicBezTo>
                  <a:cubicBezTo>
                    <a:pt x="58" y="63"/>
                    <a:pt x="59" y="63"/>
                    <a:pt x="60" y="63"/>
                  </a:cubicBezTo>
                  <a:cubicBezTo>
                    <a:pt x="61" y="63"/>
                    <a:pt x="62" y="63"/>
                    <a:pt x="62" y="62"/>
                  </a:cubicBezTo>
                  <a:cubicBezTo>
                    <a:pt x="63" y="61"/>
                    <a:pt x="63" y="59"/>
                    <a:pt x="62" y="58"/>
                  </a:cubicBezTo>
                  <a:close/>
                  <a:moveTo>
                    <a:pt x="6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4" y="36"/>
                    <a:pt x="24" y="36"/>
                    <a:pt x="24" y="36"/>
                  </a:cubicBez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78" h="78">
                  <a:moveTo>
                    <a:pt x="39" y="0"/>
                  </a:moveTo>
                  <a:cubicBezTo>
                    <a:pt x="35" y="0"/>
                    <a:pt x="31" y="1"/>
                    <a:pt x="27" y="2"/>
                  </a:cubicBezTo>
                  <a:cubicBezTo>
                    <a:pt x="27" y="2"/>
                    <a:pt x="27" y="3"/>
                    <a:pt x="27" y="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1" y="7"/>
                    <a:pt x="35" y="6"/>
                    <a:pt x="39" y="6"/>
                  </a:cubicBezTo>
                  <a:cubicBezTo>
                    <a:pt x="57" y="6"/>
                    <a:pt x="72" y="21"/>
                    <a:pt x="72" y="39"/>
                  </a:cubicBezTo>
                  <a:cubicBezTo>
                    <a:pt x="72" y="57"/>
                    <a:pt x="57" y="72"/>
                    <a:pt x="39" y="72"/>
                  </a:cubicBezTo>
                  <a:cubicBezTo>
                    <a:pt x="21" y="72"/>
                    <a:pt x="6" y="57"/>
                    <a:pt x="6" y="39"/>
                  </a:cubicBezTo>
                  <a:cubicBezTo>
                    <a:pt x="6" y="35"/>
                    <a:pt x="7" y="31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31"/>
                    <a:pt x="0" y="35"/>
                    <a:pt x="0" y="39"/>
                  </a:cubicBezTo>
                  <a:cubicBezTo>
                    <a:pt x="0" y="61"/>
                    <a:pt x="17" y="78"/>
                    <a:pt x="39" y="78"/>
                  </a:cubicBezTo>
                  <a:cubicBezTo>
                    <a:pt x="61" y="78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60" y="0"/>
                  </a:moveTo>
                  <a:cubicBezTo>
                    <a:pt x="51" y="0"/>
                    <a:pt x="42" y="2"/>
                    <a:pt x="35" y="6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6" y="7"/>
                    <a:pt x="53" y="6"/>
                    <a:pt x="60" y="6"/>
                  </a:cubicBezTo>
                  <a:cubicBezTo>
                    <a:pt x="90" y="6"/>
                    <a:pt x="114" y="30"/>
                    <a:pt x="114" y="60"/>
                  </a:cubicBezTo>
                  <a:cubicBezTo>
                    <a:pt x="114" y="90"/>
                    <a:pt x="90" y="114"/>
                    <a:pt x="60" y="114"/>
                  </a:cubicBezTo>
                  <a:cubicBezTo>
                    <a:pt x="30" y="114"/>
                    <a:pt x="6" y="90"/>
                    <a:pt x="6" y="60"/>
                  </a:cubicBezTo>
                  <a:cubicBezTo>
                    <a:pt x="6" y="53"/>
                    <a:pt x="7" y="46"/>
                    <a:pt x="10" y="3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" y="42"/>
                    <a:pt x="0" y="51"/>
                    <a:pt x="0" y="60"/>
                  </a:cubicBezTo>
                  <a:cubicBezTo>
                    <a:pt x="0" y="93"/>
                    <a:pt x="27" y="120"/>
                    <a:pt x="60" y="120"/>
                  </a:cubicBezTo>
                  <a:cubicBezTo>
                    <a:pt x="93" y="120"/>
                    <a:pt x="120" y="93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57">
                  <a:moveTo>
                    <a:pt x="57" y="19"/>
                  </a:moveTo>
                  <a:lnTo>
                    <a:pt x="71" y="33"/>
                  </a:lnTo>
                  <a:lnTo>
                    <a:pt x="83" y="26"/>
                  </a:lnTo>
                  <a:lnTo>
                    <a:pt x="57" y="0"/>
                  </a:lnTo>
                  <a:lnTo>
                    <a:pt x="0" y="57"/>
                  </a:lnTo>
                  <a:lnTo>
                    <a:pt x="19" y="57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33" h="57">
                  <a:moveTo>
                    <a:pt x="29" y="57"/>
                  </a:moveTo>
                  <a:lnTo>
                    <a:pt x="95" y="19"/>
                  </a:lnTo>
                  <a:lnTo>
                    <a:pt x="116" y="57"/>
                  </a:lnTo>
                  <a:lnTo>
                    <a:pt x="133" y="57"/>
                  </a:lnTo>
                  <a:lnTo>
                    <a:pt x="100" y="0"/>
                  </a:lnTo>
                  <a:lnTo>
                    <a:pt x="0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20" h="9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9" y="24"/>
                    <a:pt x="66" y="27"/>
                    <a:pt x="66" y="30"/>
                  </a:cubicBezTo>
                  <a:cubicBezTo>
                    <a:pt x="66" y="60"/>
                    <a:pt x="66" y="60"/>
                    <a:pt x="66" y="60"/>
                  </a:cubicBezTo>
                  <a:cubicBezTo>
                    <a:pt x="66" y="63"/>
                    <a:pt x="69" y="66"/>
                    <a:pt x="72" y="66"/>
                  </a:cubicBezTo>
                  <a:cubicBezTo>
                    <a:pt x="114" y="66"/>
                    <a:pt x="114" y="66"/>
                    <a:pt x="114" y="66"/>
                  </a:cubicBezTo>
                  <a:lnTo>
                    <a:pt x="114" y="84"/>
                  </a:lnTo>
                  <a:close/>
                  <a:moveTo>
                    <a:pt x="114" y="60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114" y="30"/>
                    <a:pt x="114" y="30"/>
                    <a:pt x="114" y="30"/>
                  </a:cubicBezTo>
                  <a:lnTo>
                    <a:pt x="1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02" h="120">
                  <a:moveTo>
                    <a:pt x="85" y="31"/>
                  </a:moveTo>
                  <a:cubicBezTo>
                    <a:pt x="89" y="26"/>
                    <a:pt x="89" y="26"/>
                    <a:pt x="89" y="26"/>
                  </a:cubicBezTo>
                  <a:cubicBezTo>
                    <a:pt x="85" y="22"/>
                    <a:pt x="85" y="22"/>
                    <a:pt x="85" y="22"/>
                  </a:cubicBezTo>
                  <a:cubicBezTo>
                    <a:pt x="80" y="27"/>
                    <a:pt x="80" y="27"/>
                    <a:pt x="80" y="27"/>
                  </a:cubicBezTo>
                  <a:cubicBezTo>
                    <a:pt x="73" y="22"/>
                    <a:pt x="64" y="19"/>
                    <a:pt x="54" y="18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5" y="6"/>
                    <a:pt x="66" y="5"/>
                    <a:pt x="66" y="3"/>
                  </a:cubicBezTo>
                  <a:cubicBezTo>
                    <a:pt x="66" y="1"/>
                    <a:pt x="65" y="0"/>
                    <a:pt x="63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6" y="1"/>
                    <a:pt x="36" y="3"/>
                  </a:cubicBezTo>
                  <a:cubicBezTo>
                    <a:pt x="36" y="5"/>
                    <a:pt x="37" y="6"/>
                    <a:pt x="39" y="6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8" y="19"/>
                    <a:pt x="29" y="22"/>
                    <a:pt x="22" y="27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7" y="41"/>
                    <a:pt x="0" y="54"/>
                    <a:pt x="0" y="69"/>
                  </a:cubicBezTo>
                  <a:cubicBezTo>
                    <a:pt x="0" y="97"/>
                    <a:pt x="23" y="120"/>
                    <a:pt x="51" y="120"/>
                  </a:cubicBezTo>
                  <a:cubicBezTo>
                    <a:pt x="79" y="120"/>
                    <a:pt x="102" y="97"/>
                    <a:pt x="102" y="69"/>
                  </a:cubicBezTo>
                  <a:cubicBezTo>
                    <a:pt x="102" y="54"/>
                    <a:pt x="95" y="41"/>
                    <a:pt x="85" y="31"/>
                  </a:cubicBezTo>
                  <a:close/>
                  <a:moveTo>
                    <a:pt x="51" y="114"/>
                  </a:moveTo>
                  <a:cubicBezTo>
                    <a:pt x="26" y="114"/>
                    <a:pt x="6" y="94"/>
                    <a:pt x="6" y="69"/>
                  </a:cubicBezTo>
                  <a:cubicBezTo>
                    <a:pt x="6" y="44"/>
                    <a:pt x="26" y="24"/>
                    <a:pt x="51" y="24"/>
                  </a:cubicBezTo>
                  <a:cubicBezTo>
                    <a:pt x="76" y="24"/>
                    <a:pt x="96" y="44"/>
                    <a:pt x="96" y="69"/>
                  </a:cubicBezTo>
                  <a:cubicBezTo>
                    <a:pt x="96" y="94"/>
                    <a:pt x="76" y="114"/>
                    <a:pt x="51" y="1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" h="4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3"/>
                    <a:pt x="3" y="16"/>
                    <a:pt x="6" y="17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6"/>
                    <a:pt x="18" y="13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2880"/>
                <a:gd name="textAreaBottom" fmla="*/ 362880 h 362880"/>
              </a:gdLst>
              <a:ahLst/>
              <a:rect l="textAreaLeft" t="textAreaTop" r="textAreaRight" b="textAreaBottom"/>
              <a:pathLst>
                <a:path w="39" h="77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8" y="6"/>
                    <a:pt x="33" y="21"/>
                    <a:pt x="33" y="39"/>
                  </a:cubicBezTo>
                  <a:cubicBezTo>
                    <a:pt x="33" y="54"/>
                    <a:pt x="23" y="67"/>
                    <a:pt x="9" y="71"/>
                  </a:cubicBezTo>
                  <a:cubicBezTo>
                    <a:pt x="9" y="77"/>
                    <a:pt x="9" y="77"/>
                    <a:pt x="9" y="77"/>
                  </a:cubicBezTo>
                  <a:cubicBezTo>
                    <a:pt x="26" y="73"/>
                    <a:pt x="39" y="57"/>
                    <a:pt x="39" y="39"/>
                  </a:cubicBezTo>
                  <a:cubicBezTo>
                    <a:pt x="39" y="17"/>
                    <a:pt x="22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9" y="0"/>
                    <a:pt x="120" y="1"/>
                    <a:pt x="120" y="3"/>
                  </a:cubicBezTo>
                  <a:cubicBezTo>
                    <a:pt x="120" y="5"/>
                    <a:pt x="119" y="6"/>
                    <a:pt x="1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" h="42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9"/>
                    <a:pt x="3" y="42"/>
                    <a:pt x="6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5" y="42"/>
                    <a:pt x="18" y="39"/>
                    <a:pt x="18" y="3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36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36"/>
                    <a:pt x="12" y="36"/>
                    <a:pt x="12" y="36"/>
                  </a:cubicBez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8" h="7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5"/>
                    <a:pt x="3" y="78"/>
                    <a:pt x="6" y="78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15" y="78"/>
                    <a:pt x="18" y="75"/>
                    <a:pt x="18" y="7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7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2"/>
                    <a:pt x="12" y="72"/>
                    <a:pt x="12" y="72"/>
                  </a:cubicBez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60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60"/>
                    <a:pt x="12" y="60"/>
                    <a:pt x="12" y="60"/>
                  </a:cubicBez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8" h="10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5"/>
                    <a:pt x="3" y="108"/>
                    <a:pt x="6" y="108"/>
                  </a:cubicBezTo>
                  <a:cubicBezTo>
                    <a:pt x="12" y="108"/>
                    <a:pt x="12" y="108"/>
                    <a:pt x="12" y="108"/>
                  </a:cubicBezTo>
                  <a:cubicBezTo>
                    <a:pt x="15" y="108"/>
                    <a:pt x="18" y="105"/>
                    <a:pt x="18" y="10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10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102"/>
                    <a:pt x="12" y="102"/>
                    <a:pt x="12" y="102"/>
                  </a:cubicBezTo>
                  <a:lnTo>
                    <a:pt x="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12"/>
                  </a:moveTo>
                  <a:cubicBezTo>
                    <a:pt x="102" y="12"/>
                    <a:pt x="102" y="12"/>
                    <a:pt x="102" y="12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2" y="4"/>
                    <a:pt x="98" y="0"/>
                    <a:pt x="93" y="0"/>
                  </a:cubicBezTo>
                  <a:cubicBezTo>
                    <a:pt x="88" y="0"/>
                    <a:pt x="84" y="4"/>
                    <a:pt x="84" y="9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4"/>
                    <a:pt x="32" y="0"/>
                    <a:pt x="27" y="0"/>
                  </a:cubicBezTo>
                  <a:cubicBezTo>
                    <a:pt x="22" y="0"/>
                    <a:pt x="18" y="4"/>
                    <a:pt x="18" y="9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7" y="120"/>
                    <a:pt x="120" y="117"/>
                    <a:pt x="120" y="114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5"/>
                    <a:pt x="117" y="12"/>
                    <a:pt x="114" y="12"/>
                  </a:cubicBezTo>
                  <a:close/>
                  <a:moveTo>
                    <a:pt x="90" y="9"/>
                  </a:moveTo>
                  <a:cubicBezTo>
                    <a:pt x="90" y="7"/>
                    <a:pt x="91" y="6"/>
                    <a:pt x="93" y="6"/>
                  </a:cubicBezTo>
                  <a:cubicBezTo>
                    <a:pt x="95" y="6"/>
                    <a:pt x="96" y="7"/>
                    <a:pt x="96" y="9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0" y="12"/>
                    <a:pt x="90" y="12"/>
                    <a:pt x="90" y="12"/>
                  </a:cubicBezTo>
                  <a:lnTo>
                    <a:pt x="90" y="9"/>
                  </a:lnTo>
                  <a:close/>
                  <a:moveTo>
                    <a:pt x="24" y="9"/>
                  </a:moveTo>
                  <a:cubicBezTo>
                    <a:pt x="24" y="7"/>
                    <a:pt x="25" y="6"/>
                    <a:pt x="27" y="6"/>
                  </a:cubicBezTo>
                  <a:cubicBezTo>
                    <a:pt x="29" y="6"/>
                    <a:pt x="30" y="7"/>
                    <a:pt x="30" y="9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lnTo>
                    <a:pt x="24" y="9"/>
                  </a:lnTo>
                  <a:close/>
                  <a:moveTo>
                    <a:pt x="114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114" y="42"/>
                    <a:pt x="114" y="42"/>
                    <a:pt x="114" y="42"/>
                  </a:cubicBezTo>
                  <a:lnTo>
                    <a:pt x="114" y="114"/>
                  </a:lnTo>
                  <a:close/>
                  <a:moveTo>
                    <a:pt x="114" y="36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114" y="18"/>
                    <a:pt x="114" y="18"/>
                    <a:pt x="114" y="18"/>
                  </a:cubicBezTo>
                  <a:lnTo>
                    <a:pt x="1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4" h="120">
                  <a:moveTo>
                    <a:pt x="78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81" y="120"/>
                    <a:pt x="84" y="117"/>
                    <a:pt x="84" y="114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3"/>
                    <a:pt x="81" y="0"/>
                    <a:pt x="78" y="0"/>
                  </a:cubicBezTo>
                  <a:close/>
                  <a:moveTo>
                    <a:pt x="78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8" y="6"/>
                    <a:pt x="78" y="6"/>
                    <a:pt x="78" y="6"/>
                  </a:cubicBezTo>
                  <a:lnTo>
                    <a:pt x="7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42" h="199">
                  <a:moveTo>
                    <a:pt x="142" y="0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142" y="199"/>
                  </a:lnTo>
                  <a:lnTo>
                    <a:pt x="142" y="0"/>
                  </a:lnTo>
                  <a:close/>
                  <a:moveTo>
                    <a:pt x="128" y="185"/>
                  </a:moveTo>
                  <a:lnTo>
                    <a:pt x="15" y="185"/>
                  </a:lnTo>
                  <a:lnTo>
                    <a:pt x="15" y="14"/>
                  </a:lnTo>
                  <a:lnTo>
                    <a:pt x="128" y="14"/>
                  </a:lnTo>
                  <a:lnTo>
                    <a:pt x="12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custGeom>
            <a:avLst/>
            <a:gdLst>
              <a:gd name="textAreaLeft" fmla="*/ 0 w 397080"/>
              <a:gd name="textAreaRight" fmla="*/ 397440 w 397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4" h="120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8" y="71"/>
                  <a:pt x="21" y="7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1" y="117"/>
                  <a:pt x="24" y="120"/>
                  <a:pt x="27" y="120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60" y="120"/>
                  <a:pt x="63" y="117"/>
                  <a:pt x="63" y="114"/>
                </a:cubicBezTo>
                <a:cubicBezTo>
                  <a:pt x="63" y="78"/>
                  <a:pt x="63" y="78"/>
                  <a:pt x="63" y="78"/>
                </a:cubicBezTo>
                <a:cubicBezTo>
                  <a:pt x="76" y="71"/>
                  <a:pt x="84" y="57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  <a:moveTo>
                  <a:pt x="27" y="114"/>
                </a:moveTo>
                <a:cubicBezTo>
                  <a:pt x="27" y="102"/>
                  <a:pt x="27" y="102"/>
                  <a:pt x="27" y="102"/>
                </a:cubicBezTo>
                <a:cubicBezTo>
                  <a:pt x="57" y="102"/>
                  <a:pt x="57" y="102"/>
                  <a:pt x="57" y="102"/>
                </a:cubicBezTo>
                <a:cubicBezTo>
                  <a:pt x="57" y="114"/>
                  <a:pt x="57" y="114"/>
                  <a:pt x="57" y="114"/>
                </a:cubicBezTo>
                <a:lnTo>
                  <a:pt x="27" y="114"/>
                </a:lnTo>
                <a:close/>
                <a:moveTo>
                  <a:pt x="57" y="75"/>
                </a:moveTo>
                <a:cubicBezTo>
                  <a:pt x="57" y="96"/>
                  <a:pt x="57" y="96"/>
                  <a:pt x="57" y="96"/>
                </a:cubicBezTo>
                <a:cubicBezTo>
                  <a:pt x="45" y="96"/>
                  <a:pt x="45" y="96"/>
                  <a:pt x="45" y="96"/>
                </a:cubicBezTo>
                <a:cubicBezTo>
                  <a:pt x="45" y="54"/>
                  <a:pt x="45" y="54"/>
                  <a:pt x="45" y="54"/>
                </a:cubicBezTo>
                <a:cubicBezTo>
                  <a:pt x="50" y="52"/>
                  <a:pt x="54" y="48"/>
                  <a:pt x="54" y="42"/>
                </a:cubicBezTo>
                <a:cubicBezTo>
                  <a:pt x="54" y="35"/>
                  <a:pt x="49" y="30"/>
                  <a:pt x="42" y="30"/>
                </a:cubicBezTo>
                <a:cubicBezTo>
                  <a:pt x="35" y="30"/>
                  <a:pt x="30" y="35"/>
                  <a:pt x="30" y="42"/>
                </a:cubicBezTo>
                <a:cubicBezTo>
                  <a:pt x="30" y="48"/>
                  <a:pt x="34" y="52"/>
                  <a:pt x="39" y="54"/>
                </a:cubicBezTo>
                <a:cubicBezTo>
                  <a:pt x="39" y="96"/>
                  <a:pt x="39" y="96"/>
                  <a:pt x="39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75"/>
                  <a:pt x="27" y="75"/>
                  <a:pt x="27" y="75"/>
                </a:cubicBezTo>
                <a:cubicBezTo>
                  <a:pt x="15" y="69"/>
                  <a:pt x="6" y="57"/>
                  <a:pt x="6" y="42"/>
                </a:cubicBezTo>
                <a:cubicBezTo>
                  <a:pt x="6" y="22"/>
                  <a:pt x="22" y="6"/>
                  <a:pt x="42" y="6"/>
                </a:cubicBezTo>
                <a:cubicBezTo>
                  <a:pt x="62" y="6"/>
                  <a:pt x="78" y="22"/>
                  <a:pt x="78" y="42"/>
                </a:cubicBezTo>
                <a:cubicBezTo>
                  <a:pt x="78" y="57"/>
                  <a:pt x="69" y="69"/>
                  <a:pt x="57" y="75"/>
                </a:cubicBezTo>
                <a:close/>
                <a:moveTo>
                  <a:pt x="42" y="48"/>
                </a:moveTo>
                <a:cubicBezTo>
                  <a:pt x="39" y="48"/>
                  <a:pt x="36" y="45"/>
                  <a:pt x="36" y="42"/>
                </a:cubicBezTo>
                <a:cubicBezTo>
                  <a:pt x="36" y="39"/>
                  <a:pt x="39" y="36"/>
                  <a:pt x="42" y="36"/>
                </a:cubicBezTo>
                <a:cubicBezTo>
                  <a:pt x="45" y="36"/>
                  <a:pt x="48" y="39"/>
                  <a:pt x="48" y="42"/>
                </a:cubicBezTo>
                <a:cubicBezTo>
                  <a:pt x="48" y="45"/>
                  <a:pt x="45" y="48"/>
                  <a:pt x="42" y="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20" h="36">
                  <a:moveTo>
                    <a:pt x="6" y="36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117" y="36"/>
                    <a:pt x="119" y="34"/>
                    <a:pt x="120" y="31"/>
                  </a:cubicBezTo>
                  <a:cubicBezTo>
                    <a:pt x="120" y="28"/>
                    <a:pt x="119" y="26"/>
                    <a:pt x="116" y="25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ubicBezTo>
                    <a:pt x="59" y="0"/>
                    <a:pt x="58" y="0"/>
                    <a:pt x="58" y="1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6"/>
                    <a:pt x="0" y="28"/>
                    <a:pt x="0" y="31"/>
                  </a:cubicBezTo>
                  <a:cubicBezTo>
                    <a:pt x="1" y="34"/>
                    <a:pt x="3" y="36"/>
                    <a:pt x="6" y="36"/>
                  </a:cubicBezTo>
                  <a:close/>
                  <a:moveTo>
                    <a:pt x="60" y="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6" y="30"/>
                    <a:pt x="6" y="30"/>
                    <a:pt x="6" y="30"/>
                  </a:cubicBez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05" y="57"/>
                </a:moveTo>
                <a:cubicBezTo>
                  <a:pt x="100" y="57"/>
                  <a:pt x="95" y="60"/>
                  <a:pt x="92" y="66"/>
                </a:cubicBezTo>
                <a:cubicBezTo>
                  <a:pt x="90" y="66"/>
                  <a:pt x="90" y="66"/>
                  <a:pt x="90" y="66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35"/>
                  <a:pt x="85" y="30"/>
                  <a:pt x="78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28"/>
                  <a:pt x="54" y="28"/>
                  <a:pt x="54" y="28"/>
                </a:cubicBezTo>
                <a:cubicBezTo>
                  <a:pt x="60" y="25"/>
                  <a:pt x="63" y="20"/>
                  <a:pt x="63" y="15"/>
                </a:cubicBezTo>
                <a:cubicBezTo>
                  <a:pt x="63" y="7"/>
                  <a:pt x="55" y="0"/>
                  <a:pt x="45" y="0"/>
                </a:cubicBezTo>
                <a:cubicBezTo>
                  <a:pt x="35" y="0"/>
                  <a:pt x="27" y="7"/>
                  <a:pt x="27" y="15"/>
                </a:cubicBezTo>
                <a:cubicBezTo>
                  <a:pt x="27" y="20"/>
                  <a:pt x="30" y="25"/>
                  <a:pt x="36" y="28"/>
                </a:cubicBezTo>
                <a:cubicBezTo>
                  <a:pt x="36" y="30"/>
                  <a:pt x="36" y="30"/>
                  <a:pt x="36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5" y="30"/>
                  <a:pt x="0" y="35"/>
                  <a:pt x="0" y="42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1"/>
                  <a:pt x="1" y="72"/>
                  <a:pt x="3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11" y="72"/>
                  <a:pt x="12" y="71"/>
                  <a:pt x="13" y="70"/>
                </a:cubicBezTo>
                <a:cubicBezTo>
                  <a:pt x="14" y="66"/>
                  <a:pt x="18" y="63"/>
                  <a:pt x="21" y="63"/>
                </a:cubicBezTo>
                <a:cubicBezTo>
                  <a:pt x="26" y="63"/>
                  <a:pt x="30" y="68"/>
                  <a:pt x="30" y="75"/>
                </a:cubicBezTo>
                <a:cubicBezTo>
                  <a:pt x="30" y="82"/>
                  <a:pt x="26" y="87"/>
                  <a:pt x="21" y="87"/>
                </a:cubicBezTo>
                <a:cubicBezTo>
                  <a:pt x="18" y="87"/>
                  <a:pt x="14" y="84"/>
                  <a:pt x="13" y="80"/>
                </a:cubicBezTo>
                <a:cubicBezTo>
                  <a:pt x="12" y="79"/>
                  <a:pt x="11" y="78"/>
                  <a:pt x="10" y="78"/>
                </a:cubicBezTo>
                <a:cubicBezTo>
                  <a:pt x="3" y="78"/>
                  <a:pt x="3" y="78"/>
                  <a:pt x="3" y="78"/>
                </a:cubicBezTo>
                <a:cubicBezTo>
                  <a:pt x="1" y="78"/>
                  <a:pt x="0" y="79"/>
                  <a:pt x="0" y="81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15"/>
                  <a:pt x="5" y="120"/>
                  <a:pt x="12" y="120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85" y="120"/>
                  <a:pt x="90" y="115"/>
                  <a:pt x="90" y="108"/>
                </a:cubicBezTo>
                <a:cubicBezTo>
                  <a:pt x="90" y="84"/>
                  <a:pt x="90" y="84"/>
                  <a:pt x="90" y="84"/>
                </a:cubicBezTo>
                <a:cubicBezTo>
                  <a:pt x="92" y="84"/>
                  <a:pt x="92" y="84"/>
                  <a:pt x="92" y="84"/>
                </a:cubicBezTo>
                <a:cubicBezTo>
                  <a:pt x="95" y="90"/>
                  <a:pt x="100" y="93"/>
                  <a:pt x="105" y="93"/>
                </a:cubicBezTo>
                <a:cubicBezTo>
                  <a:pt x="113" y="93"/>
                  <a:pt x="120" y="85"/>
                  <a:pt x="120" y="75"/>
                </a:cubicBezTo>
                <a:cubicBezTo>
                  <a:pt x="120" y="65"/>
                  <a:pt x="113" y="57"/>
                  <a:pt x="105" y="57"/>
                </a:cubicBezTo>
                <a:close/>
                <a:moveTo>
                  <a:pt x="105" y="87"/>
                </a:moveTo>
                <a:cubicBezTo>
                  <a:pt x="102" y="87"/>
                  <a:pt x="98" y="84"/>
                  <a:pt x="97" y="80"/>
                </a:cubicBezTo>
                <a:cubicBezTo>
                  <a:pt x="96" y="79"/>
                  <a:pt x="95" y="78"/>
                  <a:pt x="94" y="78"/>
                </a:cubicBezTo>
                <a:cubicBezTo>
                  <a:pt x="87" y="78"/>
                  <a:pt x="87" y="78"/>
                  <a:pt x="87" y="78"/>
                </a:cubicBezTo>
                <a:cubicBezTo>
                  <a:pt x="85" y="78"/>
                  <a:pt x="84" y="79"/>
                  <a:pt x="84" y="81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4" y="111"/>
                  <a:pt x="81" y="114"/>
                  <a:pt x="78" y="114"/>
                </a:cubicBezTo>
                <a:cubicBezTo>
                  <a:pt x="12" y="114"/>
                  <a:pt x="12" y="114"/>
                  <a:pt x="12" y="114"/>
                </a:cubicBezTo>
                <a:cubicBezTo>
                  <a:pt x="9" y="114"/>
                  <a:pt x="6" y="111"/>
                  <a:pt x="6" y="108"/>
                </a:cubicBezTo>
                <a:cubicBezTo>
                  <a:pt x="6" y="84"/>
                  <a:pt x="6" y="84"/>
                  <a:pt x="6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11" y="90"/>
                  <a:pt x="16" y="93"/>
                  <a:pt x="21" y="93"/>
                </a:cubicBezTo>
                <a:cubicBezTo>
                  <a:pt x="29" y="93"/>
                  <a:pt x="36" y="85"/>
                  <a:pt x="36" y="75"/>
                </a:cubicBezTo>
                <a:cubicBezTo>
                  <a:pt x="36" y="65"/>
                  <a:pt x="29" y="57"/>
                  <a:pt x="21" y="57"/>
                </a:cubicBezTo>
                <a:cubicBezTo>
                  <a:pt x="16" y="57"/>
                  <a:pt x="11" y="60"/>
                  <a:pt x="8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42"/>
                  <a:pt x="6" y="42"/>
                  <a:pt x="6" y="42"/>
                </a:cubicBezTo>
                <a:cubicBezTo>
                  <a:pt x="6" y="39"/>
                  <a:pt x="9" y="36"/>
                  <a:pt x="12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41" y="36"/>
                  <a:pt x="42" y="35"/>
                  <a:pt x="42" y="33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1" y="24"/>
                  <a:pt x="40" y="23"/>
                </a:cubicBezTo>
                <a:cubicBezTo>
                  <a:pt x="36" y="22"/>
                  <a:pt x="33" y="18"/>
                  <a:pt x="33" y="15"/>
                </a:cubicBezTo>
                <a:cubicBezTo>
                  <a:pt x="33" y="10"/>
                  <a:pt x="38" y="6"/>
                  <a:pt x="45" y="6"/>
                </a:cubicBezTo>
                <a:cubicBezTo>
                  <a:pt x="52" y="6"/>
                  <a:pt x="57" y="10"/>
                  <a:pt x="57" y="15"/>
                </a:cubicBezTo>
                <a:cubicBezTo>
                  <a:pt x="57" y="18"/>
                  <a:pt x="54" y="22"/>
                  <a:pt x="50" y="23"/>
                </a:cubicBezTo>
                <a:cubicBezTo>
                  <a:pt x="49" y="24"/>
                  <a:pt x="48" y="25"/>
                  <a:pt x="48" y="26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5"/>
                  <a:pt x="49" y="36"/>
                  <a:pt x="51" y="36"/>
                </a:cubicBezTo>
                <a:cubicBezTo>
                  <a:pt x="78" y="36"/>
                  <a:pt x="78" y="36"/>
                  <a:pt x="78" y="36"/>
                </a:cubicBezTo>
                <a:cubicBezTo>
                  <a:pt x="81" y="36"/>
                  <a:pt x="84" y="39"/>
                  <a:pt x="84" y="42"/>
                </a:cubicBezTo>
                <a:cubicBezTo>
                  <a:pt x="84" y="69"/>
                  <a:pt x="84" y="69"/>
                  <a:pt x="84" y="69"/>
                </a:cubicBezTo>
                <a:cubicBezTo>
                  <a:pt x="84" y="71"/>
                  <a:pt x="85" y="72"/>
                  <a:pt x="87" y="72"/>
                </a:cubicBezTo>
                <a:cubicBezTo>
                  <a:pt x="94" y="72"/>
                  <a:pt x="94" y="72"/>
                  <a:pt x="94" y="72"/>
                </a:cubicBezTo>
                <a:cubicBezTo>
                  <a:pt x="95" y="72"/>
                  <a:pt x="96" y="71"/>
                  <a:pt x="97" y="70"/>
                </a:cubicBezTo>
                <a:cubicBezTo>
                  <a:pt x="98" y="66"/>
                  <a:pt x="102" y="63"/>
                  <a:pt x="105" y="63"/>
                </a:cubicBezTo>
                <a:cubicBezTo>
                  <a:pt x="110" y="63"/>
                  <a:pt x="114" y="68"/>
                  <a:pt x="114" y="75"/>
                </a:cubicBezTo>
                <a:cubicBezTo>
                  <a:pt x="114" y="82"/>
                  <a:pt x="110" y="87"/>
                  <a:pt x="105" y="8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" h="24">
                  <a:moveTo>
                    <a:pt x="7" y="21"/>
                  </a:moveTo>
                  <a:cubicBezTo>
                    <a:pt x="8" y="23"/>
                    <a:pt x="10" y="24"/>
                    <a:pt x="13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4"/>
                    <a:pt x="29" y="23"/>
                    <a:pt x="30" y="21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7" y="7"/>
                    <a:pt x="37" y="5"/>
                    <a:pt x="36" y="3"/>
                  </a:cubicBezTo>
                  <a:cubicBezTo>
                    <a:pt x="35" y="1"/>
                    <a:pt x="33" y="0"/>
                    <a:pt x="3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2" y="1"/>
                    <a:pt x="1" y="3"/>
                  </a:cubicBezTo>
                  <a:cubicBezTo>
                    <a:pt x="0" y="5"/>
                    <a:pt x="0" y="7"/>
                    <a:pt x="1" y="9"/>
                  </a:cubicBezTo>
                  <a:lnTo>
                    <a:pt x="7" y="21"/>
                  </a:lnTo>
                  <a:close/>
                  <a:moveTo>
                    <a:pt x="31" y="6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8" h="90">
                  <a:moveTo>
                    <a:pt x="56" y="33"/>
                  </a:moveTo>
                  <a:cubicBezTo>
                    <a:pt x="31" y="11"/>
                    <a:pt x="31" y="11"/>
                    <a:pt x="31" y="11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2"/>
                    <a:pt x="28" y="0"/>
                    <a:pt x="2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7" y="2"/>
                    <a:pt x="7" y="6"/>
                  </a:cubicBezTo>
                  <a:cubicBezTo>
                    <a:pt x="1" y="78"/>
                    <a:pt x="1" y="78"/>
                    <a:pt x="1" y="78"/>
                  </a:cubicBezTo>
                  <a:cubicBezTo>
                    <a:pt x="0" y="80"/>
                    <a:pt x="2" y="82"/>
                    <a:pt x="4" y="83"/>
                  </a:cubicBezTo>
                  <a:cubicBezTo>
                    <a:pt x="16" y="89"/>
                    <a:pt x="16" y="89"/>
                    <a:pt x="16" y="89"/>
                  </a:cubicBezTo>
                  <a:cubicBezTo>
                    <a:pt x="17" y="90"/>
                    <a:pt x="18" y="90"/>
                    <a:pt x="19" y="90"/>
                  </a:cubicBezTo>
                  <a:cubicBezTo>
                    <a:pt x="19" y="90"/>
                    <a:pt x="20" y="90"/>
                    <a:pt x="21" y="89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5" y="82"/>
                    <a:pt x="37" y="80"/>
                    <a:pt x="36" y="78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40" y="52"/>
                    <a:pt x="41" y="52"/>
                    <a:pt x="43" y="52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3" y="52"/>
                    <a:pt x="55" y="52"/>
                    <a:pt x="56" y="51"/>
                  </a:cubicBezTo>
                  <a:cubicBezTo>
                    <a:pt x="57" y="50"/>
                    <a:pt x="58" y="48"/>
                    <a:pt x="58" y="46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6"/>
                    <a:pt x="57" y="35"/>
                    <a:pt x="56" y="33"/>
                  </a:cubicBezTo>
                  <a:close/>
                  <a:moveTo>
                    <a:pt x="13" y="6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11" y="19"/>
                    <a:pt x="11" y="19"/>
                    <a:pt x="11" y="19"/>
                  </a:cubicBezTo>
                  <a:lnTo>
                    <a:pt x="13" y="6"/>
                  </a:lnTo>
                  <a:close/>
                  <a:moveTo>
                    <a:pt x="11" y="28"/>
                  </a:moveTo>
                  <a:cubicBezTo>
                    <a:pt x="25" y="14"/>
                    <a:pt x="25" y="14"/>
                    <a:pt x="25" y="14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9" y="45"/>
                    <a:pt x="9" y="45"/>
                    <a:pt x="9" y="45"/>
                  </a:cubicBezTo>
                  <a:lnTo>
                    <a:pt x="11" y="28"/>
                  </a:lnTo>
                  <a:close/>
                  <a:moveTo>
                    <a:pt x="8" y="55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7" y="71"/>
                    <a:pt x="7" y="71"/>
                    <a:pt x="7" y="71"/>
                  </a:cubicBezTo>
                  <a:lnTo>
                    <a:pt x="8" y="55"/>
                  </a:lnTo>
                  <a:close/>
                  <a:moveTo>
                    <a:pt x="19" y="84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78"/>
                    <a:pt x="31" y="78"/>
                    <a:pt x="31" y="78"/>
                  </a:cubicBezTo>
                  <a:lnTo>
                    <a:pt x="19" y="84"/>
                  </a:lnTo>
                  <a:close/>
                  <a:moveTo>
                    <a:pt x="52" y="46"/>
                  </a:moveTo>
                  <a:cubicBezTo>
                    <a:pt x="43" y="46"/>
                    <a:pt x="43" y="46"/>
                    <a:pt x="43" y="46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52" y="38"/>
                    <a:pt x="52" y="38"/>
                    <a:pt x="52" y="38"/>
                  </a:cubicBez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185">
                  <a:moveTo>
                    <a:pt x="0" y="0"/>
                  </a:moveTo>
                  <a:lnTo>
                    <a:pt x="0" y="185"/>
                  </a:lnTo>
                  <a:lnTo>
                    <a:pt x="128" y="185"/>
                  </a:lnTo>
                  <a:lnTo>
                    <a:pt x="128" y="0"/>
                  </a:lnTo>
                  <a:lnTo>
                    <a:pt x="0" y="0"/>
                  </a:lnTo>
                  <a:close/>
                  <a:moveTo>
                    <a:pt x="57" y="171"/>
                  </a:moveTo>
                  <a:lnTo>
                    <a:pt x="14" y="171"/>
                  </a:lnTo>
                  <a:lnTo>
                    <a:pt x="14" y="128"/>
                  </a:lnTo>
                  <a:lnTo>
                    <a:pt x="57" y="128"/>
                  </a:lnTo>
                  <a:lnTo>
                    <a:pt x="57" y="171"/>
                  </a:lnTo>
                  <a:close/>
                  <a:moveTo>
                    <a:pt x="57" y="114"/>
                  </a:moveTo>
                  <a:lnTo>
                    <a:pt x="14" y="114"/>
                  </a:lnTo>
                  <a:lnTo>
                    <a:pt x="14" y="71"/>
                  </a:lnTo>
                  <a:lnTo>
                    <a:pt x="57" y="71"/>
                  </a:lnTo>
                  <a:lnTo>
                    <a:pt x="57" y="114"/>
                  </a:lnTo>
                  <a:close/>
                  <a:moveTo>
                    <a:pt x="57" y="57"/>
                  </a:moveTo>
                  <a:lnTo>
                    <a:pt x="14" y="57"/>
                  </a:lnTo>
                  <a:lnTo>
                    <a:pt x="14" y="14"/>
                  </a:lnTo>
                  <a:lnTo>
                    <a:pt x="57" y="14"/>
                  </a:lnTo>
                  <a:lnTo>
                    <a:pt x="57" y="57"/>
                  </a:lnTo>
                  <a:close/>
                  <a:moveTo>
                    <a:pt x="114" y="171"/>
                  </a:moveTo>
                  <a:lnTo>
                    <a:pt x="71" y="171"/>
                  </a:lnTo>
                  <a:lnTo>
                    <a:pt x="71" y="128"/>
                  </a:lnTo>
                  <a:lnTo>
                    <a:pt x="114" y="128"/>
                  </a:lnTo>
                  <a:lnTo>
                    <a:pt x="114" y="171"/>
                  </a:lnTo>
                  <a:close/>
                  <a:moveTo>
                    <a:pt x="114" y="114"/>
                  </a:moveTo>
                  <a:lnTo>
                    <a:pt x="71" y="114"/>
                  </a:lnTo>
                  <a:lnTo>
                    <a:pt x="71" y="71"/>
                  </a:lnTo>
                  <a:lnTo>
                    <a:pt x="114" y="71"/>
                  </a:lnTo>
                  <a:lnTo>
                    <a:pt x="114" y="114"/>
                  </a:lnTo>
                  <a:close/>
                  <a:moveTo>
                    <a:pt x="114" y="57"/>
                  </a:moveTo>
                  <a:lnTo>
                    <a:pt x="71" y="57"/>
                  </a:lnTo>
                  <a:lnTo>
                    <a:pt x="71" y="14"/>
                  </a:lnTo>
                  <a:lnTo>
                    <a:pt x="114" y="14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14" h="256">
                  <a:moveTo>
                    <a:pt x="114" y="256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114" y="256"/>
                  </a:lnTo>
                  <a:close/>
                  <a:moveTo>
                    <a:pt x="29" y="242"/>
                  </a:moveTo>
                  <a:lnTo>
                    <a:pt x="14" y="242"/>
                  </a:lnTo>
                  <a:lnTo>
                    <a:pt x="14" y="14"/>
                  </a:lnTo>
                  <a:lnTo>
                    <a:pt x="29" y="14"/>
                  </a:lnTo>
                  <a:lnTo>
                    <a:pt x="29" y="242"/>
                  </a:lnTo>
                  <a:close/>
                  <a:moveTo>
                    <a:pt x="71" y="242"/>
                  </a:moveTo>
                  <a:lnTo>
                    <a:pt x="43" y="242"/>
                  </a:lnTo>
                  <a:lnTo>
                    <a:pt x="43" y="199"/>
                  </a:lnTo>
                  <a:lnTo>
                    <a:pt x="71" y="199"/>
                  </a:lnTo>
                  <a:lnTo>
                    <a:pt x="71" y="242"/>
                  </a:lnTo>
                  <a:close/>
                  <a:moveTo>
                    <a:pt x="71" y="185"/>
                  </a:moveTo>
                  <a:lnTo>
                    <a:pt x="43" y="185"/>
                  </a:lnTo>
                  <a:lnTo>
                    <a:pt x="43" y="14"/>
                  </a:lnTo>
                  <a:lnTo>
                    <a:pt x="71" y="14"/>
                  </a:lnTo>
                  <a:lnTo>
                    <a:pt x="71" y="185"/>
                  </a:lnTo>
                  <a:close/>
                  <a:moveTo>
                    <a:pt x="85" y="14"/>
                  </a:moveTo>
                  <a:lnTo>
                    <a:pt x="100" y="14"/>
                  </a:lnTo>
                  <a:lnTo>
                    <a:pt x="100" y="242"/>
                  </a:lnTo>
                  <a:lnTo>
                    <a:pt x="85" y="242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0" h="56">
                  <a:moveTo>
                    <a:pt x="3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8" y="9"/>
                    <a:pt x="14" y="18"/>
                    <a:pt x="14" y="28"/>
                  </a:cubicBezTo>
                  <a:cubicBezTo>
                    <a:pt x="14" y="38"/>
                    <a:pt x="8" y="47"/>
                    <a:pt x="0" y="51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3" y="50"/>
                    <a:pt x="20" y="40"/>
                    <a:pt x="20" y="28"/>
                  </a:cubicBezTo>
                  <a:cubicBezTo>
                    <a:pt x="20" y="16"/>
                    <a:pt x="13" y="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45"/>
                  </a:moveTo>
                  <a:cubicBezTo>
                    <a:pt x="108" y="37"/>
                    <a:pt x="103" y="30"/>
                    <a:pt x="96" y="26"/>
                  </a:cubicBezTo>
                  <a:cubicBezTo>
                    <a:pt x="96" y="6"/>
                    <a:pt x="96" y="6"/>
                    <a:pt x="96" y="6"/>
                  </a:cubicBezTo>
                  <a:cubicBezTo>
                    <a:pt x="96" y="4"/>
                    <a:pt x="95" y="2"/>
                    <a:pt x="93" y="1"/>
                  </a:cubicBezTo>
                  <a:cubicBezTo>
                    <a:pt x="92" y="0"/>
                    <a:pt x="91" y="0"/>
                    <a:pt x="90" y="0"/>
                  </a:cubicBezTo>
                  <a:cubicBezTo>
                    <a:pt x="89" y="0"/>
                    <a:pt x="87" y="0"/>
                    <a:pt x="86" y="1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9" y="24"/>
                    <a:pt x="0" y="33"/>
                    <a:pt x="0" y="45"/>
                  </a:cubicBezTo>
                  <a:cubicBezTo>
                    <a:pt x="0" y="57"/>
                    <a:pt x="9" y="66"/>
                    <a:pt x="21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100"/>
                    <a:pt x="40" y="101"/>
                    <a:pt x="42" y="102"/>
                  </a:cubicBezTo>
                  <a:cubicBezTo>
                    <a:pt x="42" y="102"/>
                    <a:pt x="43" y="102"/>
                    <a:pt x="44" y="102"/>
                  </a:cubicBezTo>
                  <a:cubicBezTo>
                    <a:pt x="45" y="102"/>
                    <a:pt x="46" y="102"/>
                    <a:pt x="46" y="101"/>
                  </a:cubicBezTo>
                  <a:cubicBezTo>
                    <a:pt x="58" y="95"/>
                    <a:pt x="58" y="95"/>
                    <a:pt x="58" y="95"/>
                  </a:cubicBezTo>
                  <a:cubicBezTo>
                    <a:pt x="61" y="94"/>
                    <a:pt x="63" y="91"/>
                    <a:pt x="61" y="88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7" y="90"/>
                    <a:pt x="89" y="90"/>
                    <a:pt x="90" y="90"/>
                  </a:cubicBezTo>
                  <a:cubicBezTo>
                    <a:pt x="91" y="90"/>
                    <a:pt x="92" y="90"/>
                    <a:pt x="93" y="89"/>
                  </a:cubicBezTo>
                  <a:cubicBezTo>
                    <a:pt x="95" y="88"/>
                    <a:pt x="96" y="86"/>
                    <a:pt x="96" y="84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103" y="60"/>
                    <a:pt x="108" y="53"/>
                    <a:pt x="108" y="45"/>
                  </a:cubicBezTo>
                  <a:close/>
                  <a:moveTo>
                    <a:pt x="24" y="60"/>
                  </a:moveTo>
                  <a:cubicBezTo>
                    <a:pt x="21" y="60"/>
                    <a:pt x="21" y="60"/>
                    <a:pt x="21" y="60"/>
                  </a:cubicBezTo>
                  <a:cubicBezTo>
                    <a:pt x="13" y="60"/>
                    <a:pt x="6" y="53"/>
                    <a:pt x="6" y="45"/>
                  </a:cubicBezTo>
                  <a:cubicBezTo>
                    <a:pt x="6" y="37"/>
                    <a:pt x="13" y="30"/>
                    <a:pt x="21" y="30"/>
                  </a:cubicBezTo>
                  <a:cubicBezTo>
                    <a:pt x="24" y="30"/>
                    <a:pt x="24" y="30"/>
                    <a:pt x="24" y="30"/>
                  </a:cubicBezTo>
                  <a:lnTo>
                    <a:pt x="24" y="60"/>
                  </a:lnTo>
                  <a:close/>
                  <a:moveTo>
                    <a:pt x="56" y="90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46" y="66"/>
                    <a:pt x="46" y="66"/>
                    <a:pt x="46" y="66"/>
                  </a:cubicBezTo>
                  <a:lnTo>
                    <a:pt x="56" y="90"/>
                  </a:lnTo>
                  <a:close/>
                  <a:moveTo>
                    <a:pt x="90" y="84"/>
                  </a:moveTo>
                  <a:cubicBezTo>
                    <a:pt x="60" y="60"/>
                    <a:pt x="60" y="60"/>
                    <a:pt x="60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90" y="6"/>
                    <a:pt x="90" y="6"/>
                    <a:pt x="90" y="6"/>
                  </a:cubicBezTo>
                  <a:lnTo>
                    <a:pt x="90" y="84"/>
                  </a:lnTo>
                  <a:close/>
                  <a:moveTo>
                    <a:pt x="96" y="57"/>
                  </a:moveTo>
                  <a:cubicBezTo>
                    <a:pt x="96" y="33"/>
                    <a:pt x="96" y="33"/>
                    <a:pt x="96" y="33"/>
                  </a:cubicBezTo>
                  <a:cubicBezTo>
                    <a:pt x="100" y="36"/>
                    <a:pt x="102" y="40"/>
                    <a:pt x="102" y="45"/>
                  </a:cubicBezTo>
                  <a:cubicBezTo>
                    <a:pt x="102" y="50"/>
                    <a:pt x="100" y="54"/>
                    <a:pt x="96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18" y="6"/>
                  </a:moveTo>
                  <a:cubicBezTo>
                    <a:pt x="25" y="6"/>
                    <a:pt x="30" y="11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1" y="30"/>
                    <a:pt x="6" y="25"/>
                    <a:pt x="6" y="18"/>
                  </a:cubicBezTo>
                  <a:cubicBezTo>
                    <a:pt x="6" y="11"/>
                    <a:pt x="11" y="6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8" h="78">
                  <a:moveTo>
                    <a:pt x="36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7" y="2"/>
                    <a:pt x="6" y="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0" y="41"/>
                    <a:pt x="1" y="43"/>
                  </a:cubicBezTo>
                  <a:cubicBezTo>
                    <a:pt x="3" y="44"/>
                    <a:pt x="4" y="45"/>
                    <a:pt x="6" y="4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6"/>
                    <a:pt x="15" y="78"/>
                    <a:pt x="18" y="78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3" y="78"/>
                    <a:pt x="36" y="76"/>
                    <a:pt x="36" y="72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4" y="45"/>
                    <a:pt x="45" y="44"/>
                    <a:pt x="47" y="43"/>
                  </a:cubicBezTo>
                  <a:cubicBezTo>
                    <a:pt x="48" y="41"/>
                    <a:pt x="48" y="40"/>
                    <a:pt x="48" y="38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1" y="2"/>
                    <a:pt x="39" y="0"/>
                    <a:pt x="36" y="0"/>
                  </a:cubicBezTo>
                  <a:close/>
                  <a:moveTo>
                    <a:pt x="33" y="39"/>
                  </a:moveTo>
                  <a:cubicBezTo>
                    <a:pt x="30" y="72"/>
                    <a:pt x="30" y="72"/>
                    <a:pt x="30" y="72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1" y="26"/>
                    <a:pt x="22" y="27"/>
                    <a:pt x="24" y="27"/>
                  </a:cubicBezTo>
                  <a:cubicBezTo>
                    <a:pt x="26" y="27"/>
                    <a:pt x="27" y="26"/>
                    <a:pt x="27" y="2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2" y="39"/>
                    <a:pt x="42" y="39"/>
                    <a:pt x="42" y="39"/>
                  </a:cubicBez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cubicBezTo>
                    <a:pt x="22" y="29"/>
                    <a:pt x="29" y="22"/>
                    <a:pt x="29" y="14"/>
                  </a:cubicBezTo>
                  <a:cubicBezTo>
                    <a:pt x="29" y="6"/>
                    <a:pt x="22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9"/>
                    <a:pt x="14" y="29"/>
                  </a:cubicBezTo>
                  <a:close/>
                  <a:moveTo>
                    <a:pt x="14" y="5"/>
                  </a:moveTo>
                  <a:cubicBezTo>
                    <a:pt x="19" y="5"/>
                    <a:pt x="24" y="9"/>
                    <a:pt x="24" y="14"/>
                  </a:cubicBezTo>
                  <a:cubicBezTo>
                    <a:pt x="24" y="20"/>
                    <a:pt x="19" y="24"/>
                    <a:pt x="14" y="24"/>
                  </a:cubicBezTo>
                  <a:cubicBezTo>
                    <a:pt x="9" y="24"/>
                    <a:pt x="5" y="20"/>
                    <a:pt x="5" y="14"/>
                  </a:cubicBezTo>
                  <a:cubicBezTo>
                    <a:pt x="5" y="9"/>
                    <a:pt x="9" y="5"/>
                    <a:pt x="1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9" y="4"/>
                  </a:moveTo>
                  <a:cubicBezTo>
                    <a:pt x="28" y="1"/>
                    <a:pt x="26" y="0"/>
                    <a:pt x="2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3" y="21"/>
                    <a:pt x="14" y="21"/>
                  </a:cubicBezTo>
                  <a:cubicBezTo>
                    <a:pt x="16" y="21"/>
                    <a:pt x="17" y="20"/>
                    <a:pt x="17" y="1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60"/>
                    <a:pt x="7" y="62"/>
                    <a:pt x="9" y="62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22" y="62"/>
                    <a:pt x="24" y="60"/>
                    <a:pt x="24" y="5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2" y="34"/>
                  </a:cubicBezTo>
                  <a:cubicBezTo>
                    <a:pt x="33" y="33"/>
                    <a:pt x="34" y="31"/>
                    <a:pt x="33" y="30"/>
                  </a:cubicBez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cubicBezTo>
                    <a:pt x="23" y="29"/>
                    <a:pt x="29" y="22"/>
                    <a:pt x="29" y="14"/>
                  </a:cubicBezTo>
                  <a:cubicBezTo>
                    <a:pt x="29" y="6"/>
                    <a:pt x="23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22"/>
                    <a:pt x="7" y="29"/>
                    <a:pt x="15" y="29"/>
                  </a:cubicBezTo>
                  <a:close/>
                  <a:moveTo>
                    <a:pt x="15" y="5"/>
                  </a:moveTo>
                  <a:cubicBezTo>
                    <a:pt x="20" y="5"/>
                    <a:pt x="24" y="9"/>
                    <a:pt x="24" y="14"/>
                  </a:cubicBezTo>
                  <a:cubicBezTo>
                    <a:pt x="24" y="20"/>
                    <a:pt x="20" y="24"/>
                    <a:pt x="15" y="24"/>
                  </a:cubicBezTo>
                  <a:cubicBezTo>
                    <a:pt x="10" y="24"/>
                    <a:pt x="5" y="20"/>
                    <a:pt x="5" y="14"/>
                  </a:cubicBezTo>
                  <a:cubicBezTo>
                    <a:pt x="5" y="9"/>
                    <a:pt x="10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0" y="21"/>
                  </a:moveTo>
                  <a:cubicBezTo>
                    <a:pt x="21" y="21"/>
                    <a:pt x="22" y="20"/>
                    <a:pt x="22" y="19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3" y="1"/>
                    <a:pt x="32" y="0"/>
                    <a:pt x="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8" y="0"/>
                    <a:pt x="6" y="1"/>
                    <a:pt x="5" y="4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4"/>
                  </a:cubicBezTo>
                  <a:cubicBezTo>
                    <a:pt x="3" y="35"/>
                    <a:pt x="4" y="36"/>
                    <a:pt x="5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0"/>
                    <a:pt x="12" y="62"/>
                    <a:pt x="15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7" y="62"/>
                    <a:pt x="29" y="60"/>
                    <a:pt x="29" y="5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1"/>
                    <a:pt x="2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45" y="90"/>
                    <a:pt x="45" y="90"/>
                    <a:pt x="45" y="90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30" y="117"/>
                    <a:pt x="30" y="119"/>
                    <a:pt x="32" y="120"/>
                  </a:cubicBezTo>
                  <a:cubicBezTo>
                    <a:pt x="33" y="120"/>
                    <a:pt x="35" y="120"/>
                    <a:pt x="36" y="118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85" y="120"/>
                    <a:pt x="87" y="120"/>
                    <a:pt x="88" y="120"/>
                  </a:cubicBezTo>
                  <a:cubicBezTo>
                    <a:pt x="90" y="119"/>
                    <a:pt x="90" y="117"/>
                    <a:pt x="90" y="115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78" h="48">
                  <a:moveTo>
                    <a:pt x="3" y="48"/>
                  </a:moveTo>
                  <a:cubicBezTo>
                    <a:pt x="4" y="48"/>
                    <a:pt x="5" y="48"/>
                    <a:pt x="5" y="47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6"/>
                    <a:pt x="57" y="36"/>
                    <a:pt x="58" y="36"/>
                  </a:cubicBezTo>
                  <a:cubicBezTo>
                    <a:pt x="58" y="36"/>
                    <a:pt x="59" y="35"/>
                    <a:pt x="60" y="3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78" y="3"/>
                    <a:pt x="78" y="1"/>
                    <a:pt x="77" y="0"/>
                  </a:cubicBezTo>
                  <a:cubicBezTo>
                    <a:pt x="75" y="0"/>
                    <a:pt x="73" y="0"/>
                    <a:pt x="72" y="1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6" y="6"/>
                    <a:pt x="25" y="7"/>
                    <a:pt x="25" y="7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5"/>
                    <a:pt x="0" y="47"/>
                    <a:pt x="1" y="47"/>
                  </a:cubicBezTo>
                  <a:cubicBezTo>
                    <a:pt x="2" y="48"/>
                    <a:pt x="2" y="48"/>
                    <a:pt x="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22" h="122">
                  <a:moveTo>
                    <a:pt x="114" y="8"/>
                  </a:moveTo>
                  <a:cubicBezTo>
                    <a:pt x="106" y="0"/>
                    <a:pt x="92" y="0"/>
                    <a:pt x="84" y="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3" y="49"/>
                    <a:pt x="43" y="53"/>
                    <a:pt x="46" y="55"/>
                  </a:cubicBezTo>
                  <a:cubicBezTo>
                    <a:pt x="12" y="89"/>
                    <a:pt x="12" y="89"/>
                    <a:pt x="12" y="89"/>
                  </a:cubicBezTo>
                  <a:cubicBezTo>
                    <a:pt x="6" y="94"/>
                    <a:pt x="2" y="106"/>
                    <a:pt x="6" y="112"/>
                  </a:cubicBezTo>
                  <a:cubicBezTo>
                    <a:pt x="1" y="117"/>
                    <a:pt x="1" y="117"/>
                    <a:pt x="1" y="117"/>
                  </a:cubicBezTo>
                  <a:cubicBezTo>
                    <a:pt x="0" y="118"/>
                    <a:pt x="0" y="120"/>
                    <a:pt x="1" y="121"/>
                  </a:cubicBezTo>
                  <a:cubicBezTo>
                    <a:pt x="2" y="122"/>
                    <a:pt x="4" y="122"/>
                    <a:pt x="5" y="121"/>
                  </a:cubicBezTo>
                  <a:cubicBezTo>
                    <a:pt x="10" y="116"/>
                    <a:pt x="10" y="116"/>
                    <a:pt x="10" y="116"/>
                  </a:cubicBezTo>
                  <a:cubicBezTo>
                    <a:pt x="16" y="120"/>
                    <a:pt x="28" y="116"/>
                    <a:pt x="33" y="110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79"/>
                    <a:pt x="73" y="79"/>
                    <a:pt x="75" y="76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22" y="30"/>
                    <a:pt x="122" y="16"/>
                    <a:pt x="114" y="8"/>
                  </a:cubicBezTo>
                  <a:close/>
                  <a:moveTo>
                    <a:pt x="29" y="106"/>
                  </a:moveTo>
                  <a:cubicBezTo>
                    <a:pt x="25" y="110"/>
                    <a:pt x="15" y="114"/>
                    <a:pt x="12" y="110"/>
                  </a:cubicBezTo>
                  <a:cubicBezTo>
                    <a:pt x="8" y="107"/>
                    <a:pt x="12" y="97"/>
                    <a:pt x="16" y="93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63" y="72"/>
                    <a:pt x="63" y="72"/>
                    <a:pt x="63" y="72"/>
                  </a:cubicBezTo>
                  <a:lnTo>
                    <a:pt x="29" y="106"/>
                  </a:lnTo>
                  <a:close/>
                  <a:moveTo>
                    <a:pt x="71" y="72"/>
                  </a:moveTo>
                  <a:cubicBezTo>
                    <a:pt x="50" y="51"/>
                    <a:pt x="50" y="51"/>
                    <a:pt x="50" y="5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94" y="7"/>
                    <a:pt x="104" y="7"/>
                    <a:pt x="110" y="12"/>
                  </a:cubicBezTo>
                  <a:cubicBezTo>
                    <a:pt x="115" y="18"/>
                    <a:pt x="115" y="28"/>
                    <a:pt x="110" y="34"/>
                  </a:cubicBezTo>
                  <a:lnTo>
                    <a:pt x="7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39">
                  <a:moveTo>
                    <a:pt x="37" y="2"/>
                  </a:moveTo>
                  <a:cubicBezTo>
                    <a:pt x="36" y="0"/>
                    <a:pt x="34" y="0"/>
                    <a:pt x="33" y="2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5"/>
                    <a:pt x="0" y="37"/>
                    <a:pt x="1" y="38"/>
                  </a:cubicBezTo>
                  <a:cubicBezTo>
                    <a:pt x="2" y="39"/>
                    <a:pt x="4" y="39"/>
                    <a:pt x="5" y="38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8" y="5"/>
                    <a:pt x="38" y="3"/>
                    <a:pt x="3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0" h="78">
                  <a:moveTo>
                    <a:pt x="108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3"/>
                    <a:pt x="5" y="78"/>
                    <a:pt x="12" y="78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15" y="78"/>
                    <a:pt x="120" y="73"/>
                    <a:pt x="120" y="66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20" y="5"/>
                    <a:pt x="115" y="0"/>
                    <a:pt x="108" y="0"/>
                  </a:cubicBezTo>
                  <a:close/>
                  <a:moveTo>
                    <a:pt x="114" y="66"/>
                  </a:moveTo>
                  <a:cubicBezTo>
                    <a:pt x="114" y="69"/>
                    <a:pt x="111" y="72"/>
                    <a:pt x="108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9" y="72"/>
                    <a:pt x="6" y="69"/>
                    <a:pt x="6" y="6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14" y="36"/>
                    <a:pt x="114" y="36"/>
                    <a:pt x="114" y="36"/>
                  </a:cubicBezTo>
                  <a:lnTo>
                    <a:pt x="114" y="66"/>
                  </a:lnTo>
                  <a:close/>
                  <a:moveTo>
                    <a:pt x="114" y="30"/>
                  </a:moveTo>
                  <a:cubicBezTo>
                    <a:pt x="6" y="30"/>
                    <a:pt x="6" y="30"/>
                    <a:pt x="6" y="30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14" y="24"/>
                    <a:pt x="114" y="24"/>
                    <a:pt x="114" y="24"/>
                  </a:cubicBezTo>
                  <a:lnTo>
                    <a:pt x="114" y="30"/>
                  </a:lnTo>
                  <a:close/>
                  <a:moveTo>
                    <a:pt x="114" y="18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9" y="6"/>
                    <a:pt x="12" y="6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11" y="6"/>
                    <a:pt x="114" y="9"/>
                    <a:pt x="114" y="12"/>
                  </a:cubicBezTo>
                  <a:lnTo>
                    <a:pt x="1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custGeom>
            <a:avLst/>
            <a:gdLst>
              <a:gd name="textAreaLeft" fmla="*/ 0 w 565200"/>
              <a:gd name="textAreaRight" fmla="*/ 565560 w 5652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20" h="88">
                <a:moveTo>
                  <a:pt x="119" y="34"/>
                </a:moveTo>
                <a:cubicBezTo>
                  <a:pt x="86" y="1"/>
                  <a:pt x="86" y="1"/>
                  <a:pt x="86" y="1"/>
                </a:cubicBezTo>
                <a:cubicBezTo>
                  <a:pt x="85" y="0"/>
                  <a:pt x="81" y="0"/>
                  <a:pt x="79" y="1"/>
                </a:cubicBezTo>
                <a:cubicBezTo>
                  <a:pt x="65" y="16"/>
                  <a:pt x="65" y="16"/>
                  <a:pt x="65" y="16"/>
                </a:cubicBezTo>
                <a:cubicBezTo>
                  <a:pt x="63" y="18"/>
                  <a:pt x="63" y="21"/>
                  <a:pt x="65" y="23"/>
                </a:cubicBezTo>
                <a:cubicBezTo>
                  <a:pt x="69" y="27"/>
                  <a:pt x="69" y="27"/>
                  <a:pt x="69" y="27"/>
                </a:cubicBezTo>
                <a:cubicBezTo>
                  <a:pt x="66" y="27"/>
                  <a:pt x="63" y="28"/>
                  <a:pt x="6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2"/>
                  <a:pt x="57" y="21"/>
                  <a:pt x="57" y="20"/>
                </a:cubicBezTo>
                <a:cubicBezTo>
                  <a:pt x="57" y="18"/>
                  <a:pt x="56" y="17"/>
                  <a:pt x="55" y="16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5" y="0"/>
                  <a:pt x="34" y="1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8"/>
                  <a:pt x="1" y="40"/>
                  <a:pt x="1" y="41"/>
                </a:cubicBezTo>
                <a:cubicBezTo>
                  <a:pt x="16" y="55"/>
                  <a:pt x="16" y="55"/>
                  <a:pt x="16" y="55"/>
                </a:cubicBezTo>
                <a:cubicBezTo>
                  <a:pt x="17" y="56"/>
                  <a:pt x="18" y="57"/>
                  <a:pt x="20" y="57"/>
                </a:cubicBezTo>
                <a:cubicBezTo>
                  <a:pt x="21" y="57"/>
                  <a:pt x="22" y="56"/>
                  <a:pt x="23" y="55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60"/>
                  <a:pt x="35" y="71"/>
                  <a:pt x="42" y="77"/>
                </a:cubicBezTo>
                <a:cubicBezTo>
                  <a:pt x="50" y="85"/>
                  <a:pt x="50" y="85"/>
                  <a:pt x="50" y="85"/>
                </a:cubicBezTo>
                <a:cubicBezTo>
                  <a:pt x="52" y="87"/>
                  <a:pt x="54" y="88"/>
                  <a:pt x="56" y="88"/>
                </a:cubicBezTo>
                <a:cubicBezTo>
                  <a:pt x="58" y="88"/>
                  <a:pt x="60" y="87"/>
                  <a:pt x="61" y="86"/>
                </a:cubicBezTo>
                <a:cubicBezTo>
                  <a:pt x="63" y="84"/>
                  <a:pt x="63" y="83"/>
                  <a:pt x="63" y="82"/>
                </a:cubicBezTo>
                <a:cubicBezTo>
                  <a:pt x="65" y="82"/>
                  <a:pt x="68" y="82"/>
                  <a:pt x="69" y="80"/>
                </a:cubicBezTo>
                <a:cubicBezTo>
                  <a:pt x="71" y="79"/>
                  <a:pt x="71" y="77"/>
                  <a:pt x="71" y="76"/>
                </a:cubicBezTo>
                <a:cubicBezTo>
                  <a:pt x="73" y="77"/>
                  <a:pt x="76" y="77"/>
                  <a:pt x="77" y="75"/>
                </a:cubicBezTo>
                <a:cubicBezTo>
                  <a:pt x="79" y="73"/>
                  <a:pt x="79" y="72"/>
                  <a:pt x="79" y="71"/>
                </a:cubicBezTo>
                <a:cubicBezTo>
                  <a:pt x="81" y="71"/>
                  <a:pt x="84" y="71"/>
                  <a:pt x="85" y="70"/>
                </a:cubicBezTo>
                <a:cubicBezTo>
                  <a:pt x="87" y="68"/>
                  <a:pt x="88" y="66"/>
                  <a:pt x="87" y="62"/>
                </a:cubicBezTo>
                <a:cubicBezTo>
                  <a:pt x="89" y="60"/>
                  <a:pt x="93" y="58"/>
                  <a:pt x="97" y="55"/>
                </a:cubicBezTo>
                <a:cubicBezTo>
                  <a:pt x="98" y="56"/>
                  <a:pt x="99" y="57"/>
                  <a:pt x="100" y="57"/>
                </a:cubicBezTo>
                <a:cubicBezTo>
                  <a:pt x="102" y="57"/>
                  <a:pt x="103" y="56"/>
                  <a:pt x="104" y="55"/>
                </a:cubicBezTo>
                <a:cubicBezTo>
                  <a:pt x="119" y="41"/>
                  <a:pt x="119" y="41"/>
                  <a:pt x="119" y="41"/>
                </a:cubicBezTo>
                <a:cubicBezTo>
                  <a:pt x="120" y="39"/>
                  <a:pt x="120" y="36"/>
                  <a:pt x="119" y="34"/>
                </a:cubicBezTo>
                <a:close/>
                <a:moveTo>
                  <a:pt x="20" y="50"/>
                </a:moveTo>
                <a:cubicBezTo>
                  <a:pt x="6" y="37"/>
                  <a:pt x="6" y="37"/>
                  <a:pt x="6" y="37"/>
                </a:cubicBezTo>
                <a:cubicBezTo>
                  <a:pt x="37" y="6"/>
                  <a:pt x="37" y="6"/>
                  <a:pt x="37" y="6"/>
                </a:cubicBezTo>
                <a:cubicBezTo>
                  <a:pt x="50" y="20"/>
                  <a:pt x="50" y="20"/>
                  <a:pt x="50" y="20"/>
                </a:cubicBezTo>
                <a:lnTo>
                  <a:pt x="20" y="50"/>
                </a:lnTo>
                <a:close/>
                <a:moveTo>
                  <a:pt x="81" y="65"/>
                </a:moveTo>
                <a:cubicBezTo>
                  <a:pt x="81" y="65"/>
                  <a:pt x="81" y="65"/>
                  <a:pt x="80" y="65"/>
                </a:cubicBezTo>
                <a:cubicBezTo>
                  <a:pt x="80" y="65"/>
                  <a:pt x="79" y="65"/>
                  <a:pt x="78" y="65"/>
                </a:cubicBezTo>
                <a:cubicBezTo>
                  <a:pt x="77" y="65"/>
                  <a:pt x="76" y="65"/>
                  <a:pt x="75" y="66"/>
                </a:cubicBezTo>
                <a:cubicBezTo>
                  <a:pt x="74" y="67"/>
                  <a:pt x="74" y="69"/>
                  <a:pt x="74" y="70"/>
                </a:cubicBezTo>
                <a:cubicBezTo>
                  <a:pt x="73" y="70"/>
                  <a:pt x="73" y="70"/>
                  <a:pt x="73" y="71"/>
                </a:cubicBezTo>
                <a:cubicBezTo>
                  <a:pt x="73" y="71"/>
                  <a:pt x="73" y="70"/>
                  <a:pt x="72" y="70"/>
                </a:cubicBezTo>
                <a:cubicBezTo>
                  <a:pt x="72" y="70"/>
                  <a:pt x="71" y="70"/>
                  <a:pt x="70" y="70"/>
                </a:cubicBezTo>
                <a:cubicBezTo>
                  <a:pt x="69" y="70"/>
                  <a:pt x="68" y="71"/>
                  <a:pt x="67" y="71"/>
                </a:cubicBezTo>
                <a:cubicBezTo>
                  <a:pt x="66" y="73"/>
                  <a:pt x="66" y="74"/>
                  <a:pt x="65" y="75"/>
                </a:cubicBezTo>
                <a:cubicBezTo>
                  <a:pt x="65" y="76"/>
                  <a:pt x="65" y="76"/>
                  <a:pt x="65" y="76"/>
                </a:cubicBezTo>
                <a:cubicBezTo>
                  <a:pt x="65" y="76"/>
                  <a:pt x="65" y="76"/>
                  <a:pt x="64" y="76"/>
                </a:cubicBezTo>
                <a:cubicBezTo>
                  <a:pt x="64" y="76"/>
                  <a:pt x="63" y="75"/>
                  <a:pt x="62" y="75"/>
                </a:cubicBezTo>
                <a:cubicBezTo>
                  <a:pt x="61" y="75"/>
                  <a:pt x="60" y="76"/>
                  <a:pt x="59" y="77"/>
                </a:cubicBezTo>
                <a:cubicBezTo>
                  <a:pt x="58" y="78"/>
                  <a:pt x="58" y="80"/>
                  <a:pt x="57" y="80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82"/>
                  <a:pt x="56" y="82"/>
                  <a:pt x="56" y="82"/>
                </a:cubicBezTo>
                <a:cubicBezTo>
                  <a:pt x="55" y="82"/>
                  <a:pt x="55" y="82"/>
                  <a:pt x="54" y="81"/>
                </a:cubicBezTo>
                <a:cubicBezTo>
                  <a:pt x="46" y="73"/>
                  <a:pt x="46" y="73"/>
                  <a:pt x="46" y="73"/>
                </a:cubicBezTo>
                <a:cubicBezTo>
                  <a:pt x="39" y="66"/>
                  <a:pt x="31" y="55"/>
                  <a:pt x="28" y="50"/>
                </a:cubicBezTo>
                <a:cubicBezTo>
                  <a:pt x="48" y="30"/>
                  <a:pt x="48" y="30"/>
                  <a:pt x="48" y="30"/>
                </a:cubicBezTo>
                <a:cubicBezTo>
                  <a:pt x="53" y="31"/>
                  <a:pt x="53" y="31"/>
                  <a:pt x="53" y="31"/>
                </a:cubicBezTo>
                <a:cubicBezTo>
                  <a:pt x="49" y="34"/>
                  <a:pt x="46" y="38"/>
                  <a:pt x="44" y="41"/>
                </a:cubicBezTo>
                <a:cubicBezTo>
                  <a:pt x="43" y="42"/>
                  <a:pt x="42" y="43"/>
                  <a:pt x="42" y="43"/>
                </a:cubicBezTo>
                <a:cubicBezTo>
                  <a:pt x="40" y="45"/>
                  <a:pt x="39" y="47"/>
                  <a:pt x="40" y="49"/>
                </a:cubicBezTo>
                <a:cubicBezTo>
                  <a:pt x="41" y="51"/>
                  <a:pt x="42" y="52"/>
                  <a:pt x="43" y="53"/>
                </a:cubicBezTo>
                <a:cubicBezTo>
                  <a:pt x="45" y="55"/>
                  <a:pt x="46" y="55"/>
                  <a:pt x="48" y="55"/>
                </a:cubicBezTo>
                <a:cubicBezTo>
                  <a:pt x="52" y="55"/>
                  <a:pt x="56" y="53"/>
                  <a:pt x="59" y="50"/>
                </a:cubicBezTo>
                <a:cubicBezTo>
                  <a:pt x="60" y="49"/>
                  <a:pt x="62" y="48"/>
                  <a:pt x="64" y="47"/>
                </a:cubicBezTo>
                <a:cubicBezTo>
                  <a:pt x="70" y="52"/>
                  <a:pt x="75" y="57"/>
                  <a:pt x="79" y="61"/>
                </a:cubicBezTo>
                <a:cubicBezTo>
                  <a:pt x="82" y="64"/>
                  <a:pt x="81" y="65"/>
                  <a:pt x="81" y="65"/>
                </a:cubicBezTo>
                <a:close/>
                <a:moveTo>
                  <a:pt x="83" y="57"/>
                </a:moveTo>
                <a:cubicBezTo>
                  <a:pt x="78" y="51"/>
                  <a:pt x="72" y="46"/>
                  <a:pt x="67" y="42"/>
                </a:cubicBezTo>
                <a:cubicBezTo>
                  <a:pt x="66" y="41"/>
                  <a:pt x="64" y="41"/>
                  <a:pt x="62" y="42"/>
                </a:cubicBezTo>
                <a:cubicBezTo>
                  <a:pt x="60" y="42"/>
                  <a:pt x="58" y="43"/>
                  <a:pt x="56" y="45"/>
                </a:cubicBezTo>
                <a:cubicBezTo>
                  <a:pt x="53" y="47"/>
                  <a:pt x="50" y="49"/>
                  <a:pt x="48" y="49"/>
                </a:cubicBezTo>
                <a:cubicBezTo>
                  <a:pt x="48" y="49"/>
                  <a:pt x="47" y="48"/>
                  <a:pt x="46" y="48"/>
                </a:cubicBezTo>
                <a:cubicBezTo>
                  <a:pt x="46" y="48"/>
                  <a:pt x="47" y="46"/>
                  <a:pt x="48" y="45"/>
                </a:cubicBezTo>
                <a:cubicBezTo>
                  <a:pt x="52" y="41"/>
                  <a:pt x="56" y="36"/>
                  <a:pt x="62" y="34"/>
                </a:cubicBezTo>
                <a:cubicBezTo>
                  <a:pt x="67" y="32"/>
                  <a:pt x="70" y="33"/>
                  <a:pt x="75" y="33"/>
                </a:cubicBezTo>
                <a:cubicBezTo>
                  <a:pt x="93" y="51"/>
                  <a:pt x="93" y="51"/>
                  <a:pt x="93" y="51"/>
                </a:cubicBezTo>
                <a:cubicBezTo>
                  <a:pt x="89" y="53"/>
                  <a:pt x="86" y="55"/>
                  <a:pt x="84" y="57"/>
                </a:cubicBezTo>
                <a:cubicBezTo>
                  <a:pt x="84" y="57"/>
                  <a:pt x="84" y="57"/>
                  <a:pt x="83" y="57"/>
                </a:cubicBezTo>
                <a:close/>
                <a:moveTo>
                  <a:pt x="100" y="50"/>
                </a:moveTo>
                <a:cubicBezTo>
                  <a:pt x="70" y="20"/>
                  <a:pt x="70" y="20"/>
                  <a:pt x="70" y="20"/>
                </a:cubicBezTo>
                <a:cubicBezTo>
                  <a:pt x="83" y="6"/>
                  <a:pt x="83" y="6"/>
                  <a:pt x="83" y="6"/>
                </a:cubicBezTo>
                <a:cubicBezTo>
                  <a:pt x="114" y="37"/>
                  <a:pt x="114" y="37"/>
                  <a:pt x="114" y="37"/>
                </a:cubicBezTo>
                <a:lnTo>
                  <a:pt x="10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0" h="120">
                  <a:moveTo>
                    <a:pt x="18" y="0"/>
                  </a:moveTo>
                  <a:cubicBezTo>
                    <a:pt x="18" y="108"/>
                    <a:pt x="18" y="108"/>
                    <a:pt x="18" y="108"/>
                  </a:cubicBezTo>
                  <a:cubicBezTo>
                    <a:pt x="18" y="111"/>
                    <a:pt x="15" y="114"/>
                    <a:pt x="12" y="114"/>
                  </a:cubicBezTo>
                  <a:cubicBezTo>
                    <a:pt x="9" y="114"/>
                    <a:pt x="6" y="111"/>
                    <a:pt x="6" y="108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5"/>
                    <a:pt x="5" y="120"/>
                    <a:pt x="12" y="120"/>
                  </a:cubicBezTo>
                  <a:cubicBezTo>
                    <a:pt x="120" y="120"/>
                    <a:pt x="120" y="120"/>
                    <a:pt x="120" y="12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8" y="0"/>
                  </a:lnTo>
                  <a:close/>
                  <a:moveTo>
                    <a:pt x="114" y="114"/>
                  </a:moveTo>
                  <a:cubicBezTo>
                    <a:pt x="22" y="114"/>
                    <a:pt x="22" y="114"/>
                    <a:pt x="22" y="114"/>
                  </a:cubicBezTo>
                  <a:cubicBezTo>
                    <a:pt x="23" y="112"/>
                    <a:pt x="24" y="110"/>
                    <a:pt x="24" y="108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1" h="71">
                  <a:moveTo>
                    <a:pt x="71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0"/>
                  </a:lnTo>
                  <a:close/>
                  <a:moveTo>
                    <a:pt x="56" y="57"/>
                  </a:moveTo>
                  <a:lnTo>
                    <a:pt x="14" y="57"/>
                  </a:lnTo>
                  <a:lnTo>
                    <a:pt x="14" y="15"/>
                  </a:lnTo>
                  <a:lnTo>
                    <a:pt x="56" y="15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custGeom>
            <a:avLst/>
            <a:gdLst>
              <a:gd name="textAreaLeft" fmla="*/ 0 w 564840"/>
              <a:gd name="textAreaRight" fmla="*/ 565200 w 5648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20" h="96">
                <a:moveTo>
                  <a:pt x="114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5"/>
                  <a:pt x="3" y="78"/>
                  <a:pt x="6" y="78"/>
                </a:cubicBezTo>
                <a:cubicBezTo>
                  <a:pt x="48" y="78"/>
                  <a:pt x="48" y="78"/>
                  <a:pt x="48" y="78"/>
                </a:cubicBezTo>
                <a:cubicBezTo>
                  <a:pt x="48" y="90"/>
                  <a:pt x="48" y="90"/>
                  <a:pt x="48" y="90"/>
                </a:cubicBezTo>
                <a:cubicBezTo>
                  <a:pt x="24" y="90"/>
                  <a:pt x="24" y="90"/>
                  <a:pt x="24" y="90"/>
                </a:cubicBezTo>
                <a:cubicBezTo>
                  <a:pt x="22" y="90"/>
                  <a:pt x="21" y="91"/>
                  <a:pt x="21" y="93"/>
                </a:cubicBezTo>
                <a:cubicBezTo>
                  <a:pt x="21" y="95"/>
                  <a:pt x="22" y="96"/>
                  <a:pt x="24" y="96"/>
                </a:cubicBezTo>
                <a:cubicBezTo>
                  <a:pt x="96" y="96"/>
                  <a:pt x="96" y="96"/>
                  <a:pt x="96" y="96"/>
                </a:cubicBezTo>
                <a:cubicBezTo>
                  <a:pt x="98" y="96"/>
                  <a:pt x="99" y="95"/>
                  <a:pt x="99" y="93"/>
                </a:cubicBezTo>
                <a:cubicBezTo>
                  <a:pt x="99" y="91"/>
                  <a:pt x="98" y="90"/>
                  <a:pt x="96" y="90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78"/>
                  <a:pt x="72" y="78"/>
                  <a:pt x="72" y="78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7" y="78"/>
                  <a:pt x="120" y="75"/>
                  <a:pt x="120" y="72"/>
                </a:cubicBezTo>
                <a:cubicBezTo>
                  <a:pt x="120" y="6"/>
                  <a:pt x="120" y="6"/>
                  <a:pt x="120" y="6"/>
                </a:cubicBezTo>
                <a:cubicBezTo>
                  <a:pt x="120" y="3"/>
                  <a:pt x="117" y="0"/>
                  <a:pt x="114" y="0"/>
                </a:cubicBezTo>
                <a:close/>
                <a:moveTo>
                  <a:pt x="66" y="90"/>
                </a:moveTo>
                <a:cubicBezTo>
                  <a:pt x="54" y="90"/>
                  <a:pt x="54" y="90"/>
                  <a:pt x="54" y="90"/>
                </a:cubicBezTo>
                <a:cubicBezTo>
                  <a:pt x="54" y="78"/>
                  <a:pt x="54" y="78"/>
                  <a:pt x="54" y="78"/>
                </a:cubicBezTo>
                <a:cubicBezTo>
                  <a:pt x="66" y="78"/>
                  <a:pt x="66" y="78"/>
                  <a:pt x="66" y="78"/>
                </a:cubicBezTo>
                <a:lnTo>
                  <a:pt x="66" y="90"/>
                </a:lnTo>
                <a:close/>
                <a:moveTo>
                  <a:pt x="114" y="72"/>
                </a:moveTo>
                <a:cubicBezTo>
                  <a:pt x="6" y="72"/>
                  <a:pt x="6" y="72"/>
                  <a:pt x="6" y="72"/>
                </a:cubicBezTo>
                <a:cubicBezTo>
                  <a:pt x="6" y="6"/>
                  <a:pt x="6" y="6"/>
                  <a:pt x="6" y="6"/>
                </a:cubicBezTo>
                <a:cubicBezTo>
                  <a:pt x="114" y="6"/>
                  <a:pt x="114" y="6"/>
                  <a:pt x="114" y="6"/>
                </a:cubicBezTo>
                <a:lnTo>
                  <a:pt x="11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120">
                  <a:moveTo>
                    <a:pt x="90" y="18"/>
                  </a:moveTo>
                  <a:cubicBezTo>
                    <a:pt x="78" y="18"/>
                    <a:pt x="78" y="18"/>
                    <a:pt x="78" y="18"/>
                  </a:cubicBezTo>
                  <a:cubicBezTo>
                    <a:pt x="78" y="15"/>
                    <a:pt x="75" y="12"/>
                    <a:pt x="72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66" y="3"/>
                    <a:pt x="63" y="0"/>
                    <a:pt x="6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3" y="0"/>
                    <a:pt x="30" y="3"/>
                    <a:pt x="30" y="6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1" y="12"/>
                    <a:pt x="18" y="15"/>
                    <a:pt x="18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0" y="21"/>
                    <a:pt x="0" y="2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90" y="120"/>
                    <a:pt x="90" y="120"/>
                    <a:pt x="90" y="120"/>
                  </a:cubicBezTo>
                  <a:cubicBezTo>
                    <a:pt x="93" y="120"/>
                    <a:pt x="96" y="117"/>
                    <a:pt x="96" y="114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96" y="21"/>
                    <a:pt x="93" y="18"/>
                    <a:pt x="90" y="18"/>
                  </a:cubicBezTo>
                  <a:close/>
                  <a:moveTo>
                    <a:pt x="24" y="18"/>
                  </a:moveTo>
                  <a:cubicBezTo>
                    <a:pt x="36" y="18"/>
                    <a:pt x="36" y="18"/>
                    <a:pt x="36" y="18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72" y="18"/>
                    <a:pt x="72" y="18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24" y="24"/>
                    <a:pt x="24" y="24"/>
                    <a:pt x="24" y="24"/>
                  </a:cubicBezTo>
                  <a:lnTo>
                    <a:pt x="24" y="18"/>
                  </a:lnTo>
                  <a:close/>
                  <a:moveTo>
                    <a:pt x="90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8" y="27"/>
                    <a:pt x="21" y="30"/>
                    <a:pt x="24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5" y="30"/>
                    <a:pt x="78" y="27"/>
                    <a:pt x="78" y="24"/>
                  </a:cubicBezTo>
                  <a:cubicBezTo>
                    <a:pt x="90" y="24"/>
                    <a:pt x="90" y="24"/>
                    <a:pt x="90" y="24"/>
                  </a:cubicBez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5" h="128">
                  <a:moveTo>
                    <a:pt x="0" y="128"/>
                  </a:moveTo>
                  <a:lnTo>
                    <a:pt x="255" y="128"/>
                  </a:lnTo>
                  <a:lnTo>
                    <a:pt x="255" y="0"/>
                  </a:lnTo>
                  <a:lnTo>
                    <a:pt x="0" y="0"/>
                  </a:lnTo>
                  <a:lnTo>
                    <a:pt x="0" y="128"/>
                  </a:lnTo>
                  <a:close/>
                  <a:moveTo>
                    <a:pt x="14" y="14"/>
                  </a:moveTo>
                  <a:lnTo>
                    <a:pt x="241" y="14"/>
                  </a:lnTo>
                  <a:lnTo>
                    <a:pt x="241" y="114"/>
                  </a:lnTo>
                  <a:lnTo>
                    <a:pt x="14" y="1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0"/>
                  </a:moveTo>
                  <a:lnTo>
                    <a:pt x="0" y="14"/>
                  </a:lnTo>
                  <a:lnTo>
                    <a:pt x="242" y="14"/>
                  </a:lnTo>
                  <a:lnTo>
                    <a:pt x="242" y="128"/>
                  </a:lnTo>
                  <a:lnTo>
                    <a:pt x="256" y="128"/>
                  </a:lnTo>
                  <a:lnTo>
                    <a:pt x="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0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3"/>
                    <a:pt x="7" y="30"/>
                    <a:pt x="15" y="30"/>
                  </a:cubicBezTo>
                  <a:cubicBezTo>
                    <a:pt x="23" y="30"/>
                    <a:pt x="30" y="23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4"/>
                  </a:moveTo>
                  <a:cubicBezTo>
                    <a:pt x="10" y="24"/>
                    <a:pt x="6" y="20"/>
                    <a:pt x="6" y="15"/>
                  </a:cubicBezTo>
                  <a:cubicBezTo>
                    <a:pt x="6" y="10"/>
                    <a:pt x="10" y="6"/>
                    <a:pt x="15" y="6"/>
                  </a:cubicBezTo>
                  <a:cubicBezTo>
                    <a:pt x="20" y="6"/>
                    <a:pt x="24" y="10"/>
                    <a:pt x="24" y="15"/>
                  </a:cubicBezTo>
                  <a:cubicBezTo>
                    <a:pt x="24" y="20"/>
                    <a:pt x="20" y="24"/>
                    <a:pt x="1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15" h="114">
                  <a:moveTo>
                    <a:pt x="79" y="57"/>
                  </a:moveTo>
                  <a:cubicBezTo>
                    <a:pt x="77" y="59"/>
                    <a:pt x="77" y="63"/>
                    <a:pt x="79" y="65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72"/>
                    <a:pt x="90" y="72"/>
                    <a:pt x="92" y="70"/>
                  </a:cubicBezTo>
                  <a:cubicBezTo>
                    <a:pt x="113" y="49"/>
                    <a:pt x="113" y="49"/>
                    <a:pt x="113" y="49"/>
                  </a:cubicBezTo>
                  <a:cubicBezTo>
                    <a:pt x="115" y="46"/>
                    <a:pt x="115" y="42"/>
                    <a:pt x="113" y="40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6" y="33"/>
                    <a:pt x="103" y="33"/>
                    <a:pt x="100" y="36"/>
                  </a:cubicBezTo>
                  <a:cubicBezTo>
                    <a:pt x="79" y="15"/>
                    <a:pt x="79" y="15"/>
                    <a:pt x="79" y="15"/>
                  </a:cubicBezTo>
                  <a:cubicBezTo>
                    <a:pt x="81" y="12"/>
                    <a:pt x="81" y="8"/>
                    <a:pt x="79" y="6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3" y="0"/>
                    <a:pt x="69" y="0"/>
                    <a:pt x="66" y="2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3" y="25"/>
                    <a:pt x="43" y="29"/>
                    <a:pt x="45" y="32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2" y="38"/>
                    <a:pt x="56" y="38"/>
                    <a:pt x="58" y="36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3" y="99"/>
                    <a:pt x="3" y="99"/>
                    <a:pt x="3" y="99"/>
                  </a:cubicBezTo>
                  <a:cubicBezTo>
                    <a:pt x="0" y="102"/>
                    <a:pt x="0" y="106"/>
                    <a:pt x="3" y="108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9" y="114"/>
                    <a:pt x="13" y="114"/>
                    <a:pt x="15" y="112"/>
                  </a:cubicBezTo>
                  <a:cubicBezTo>
                    <a:pt x="75" y="53"/>
                    <a:pt x="75" y="53"/>
                    <a:pt x="75" y="53"/>
                  </a:cubicBezTo>
                  <a:lnTo>
                    <a:pt x="79" y="57"/>
                  </a:lnTo>
                  <a:close/>
                  <a:moveTo>
                    <a:pt x="100" y="44"/>
                  </a:moveTo>
                  <a:cubicBezTo>
                    <a:pt x="105" y="40"/>
                    <a:pt x="105" y="40"/>
                    <a:pt x="105" y="40"/>
                  </a:cubicBezTo>
                  <a:cubicBezTo>
                    <a:pt x="109" y="44"/>
                    <a:pt x="109" y="44"/>
                    <a:pt x="109" y="44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3" y="61"/>
                    <a:pt x="83" y="61"/>
                    <a:pt x="83" y="61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3" y="53"/>
                    <a:pt x="83" y="53"/>
                    <a:pt x="83" y="53"/>
                  </a:cubicBezTo>
                  <a:cubicBezTo>
                    <a:pt x="96" y="40"/>
                    <a:pt x="96" y="40"/>
                    <a:pt x="96" y="40"/>
                  </a:cubicBezTo>
                  <a:lnTo>
                    <a:pt x="100" y="44"/>
                  </a:lnTo>
                  <a:close/>
                  <a:moveTo>
                    <a:pt x="79" y="23"/>
                  </a:moveTo>
                  <a:cubicBezTo>
                    <a:pt x="92" y="36"/>
                    <a:pt x="92" y="36"/>
                    <a:pt x="92" y="36"/>
                  </a:cubicBezTo>
                  <a:cubicBezTo>
                    <a:pt x="79" y="49"/>
                    <a:pt x="79" y="49"/>
                    <a:pt x="79" y="49"/>
                  </a:cubicBezTo>
                  <a:cubicBezTo>
                    <a:pt x="66" y="36"/>
                    <a:pt x="66" y="36"/>
                    <a:pt x="66" y="36"/>
                  </a:cubicBezTo>
                  <a:lnTo>
                    <a:pt x="79" y="23"/>
                  </a:lnTo>
                  <a:close/>
                  <a:moveTo>
                    <a:pt x="58" y="2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5" y="10"/>
                    <a:pt x="75" y="10"/>
                    <a:pt x="75" y="1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62" y="32"/>
                    <a:pt x="62" y="32"/>
                    <a:pt x="62" y="32"/>
                  </a:cubicBezTo>
                  <a:lnTo>
                    <a:pt x="58" y="27"/>
                  </a:lnTo>
                  <a:close/>
                  <a:moveTo>
                    <a:pt x="11" y="108"/>
                  </a:moveTo>
                  <a:cubicBezTo>
                    <a:pt x="7" y="104"/>
                    <a:pt x="7" y="104"/>
                    <a:pt x="7" y="10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71" y="49"/>
                    <a:pt x="71" y="49"/>
                    <a:pt x="71" y="49"/>
                  </a:cubicBezTo>
                  <a:lnTo>
                    <a:pt x="1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24">
                  <a:moveTo>
                    <a:pt x="63" y="18"/>
                  </a:moveTo>
                  <a:cubicBezTo>
                    <a:pt x="60" y="18"/>
                    <a:pt x="60" y="18"/>
                    <a:pt x="60" y="1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3"/>
                    <a:pt x="57" y="0"/>
                    <a:pt x="5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3"/>
                    <a:pt x="6" y="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3"/>
                    <a:pt x="1" y="24"/>
                    <a:pt x="3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5" y="24"/>
                    <a:pt x="66" y="23"/>
                    <a:pt x="66" y="21"/>
                  </a:cubicBezTo>
                  <a:cubicBezTo>
                    <a:pt x="66" y="19"/>
                    <a:pt x="65" y="18"/>
                    <a:pt x="63" y="18"/>
                  </a:cubicBezTo>
                  <a:close/>
                  <a:moveTo>
                    <a:pt x="54" y="18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02" h="108">
                  <a:moveTo>
                    <a:pt x="102" y="51"/>
                  </a:moveTo>
                  <a:cubicBezTo>
                    <a:pt x="102" y="23"/>
                    <a:pt x="79" y="0"/>
                    <a:pt x="51" y="0"/>
                  </a:cubicBezTo>
                  <a:cubicBezTo>
                    <a:pt x="23" y="0"/>
                    <a:pt x="0" y="23"/>
                    <a:pt x="0" y="51"/>
                  </a:cubicBezTo>
                  <a:cubicBezTo>
                    <a:pt x="0" y="66"/>
                    <a:pt x="7" y="80"/>
                    <a:pt x="17" y="89"/>
                  </a:cubicBezTo>
                  <a:cubicBezTo>
                    <a:pt x="4" y="103"/>
                    <a:pt x="4" y="103"/>
                    <a:pt x="4" y="103"/>
                  </a:cubicBezTo>
                  <a:cubicBezTo>
                    <a:pt x="3" y="104"/>
                    <a:pt x="3" y="106"/>
                    <a:pt x="4" y="107"/>
                  </a:cubicBezTo>
                  <a:cubicBezTo>
                    <a:pt x="5" y="108"/>
                    <a:pt x="7" y="108"/>
                    <a:pt x="8" y="107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30" y="99"/>
                    <a:pt x="40" y="102"/>
                    <a:pt x="51" y="102"/>
                  </a:cubicBezTo>
                  <a:cubicBezTo>
                    <a:pt x="62" y="102"/>
                    <a:pt x="72" y="99"/>
                    <a:pt x="80" y="93"/>
                  </a:cubicBezTo>
                  <a:cubicBezTo>
                    <a:pt x="94" y="107"/>
                    <a:pt x="94" y="107"/>
                    <a:pt x="94" y="107"/>
                  </a:cubicBezTo>
                  <a:cubicBezTo>
                    <a:pt x="95" y="108"/>
                    <a:pt x="97" y="108"/>
                    <a:pt x="98" y="107"/>
                  </a:cubicBezTo>
                  <a:cubicBezTo>
                    <a:pt x="99" y="106"/>
                    <a:pt x="99" y="104"/>
                    <a:pt x="98" y="103"/>
                  </a:cubicBezTo>
                  <a:cubicBezTo>
                    <a:pt x="85" y="89"/>
                    <a:pt x="85" y="89"/>
                    <a:pt x="85" y="89"/>
                  </a:cubicBezTo>
                  <a:cubicBezTo>
                    <a:pt x="95" y="80"/>
                    <a:pt x="102" y="66"/>
                    <a:pt x="102" y="51"/>
                  </a:cubicBezTo>
                  <a:close/>
                  <a:moveTo>
                    <a:pt x="51" y="96"/>
                  </a:moveTo>
                  <a:cubicBezTo>
                    <a:pt x="26" y="96"/>
                    <a:pt x="6" y="76"/>
                    <a:pt x="6" y="51"/>
                  </a:cubicBezTo>
                  <a:cubicBezTo>
                    <a:pt x="6" y="26"/>
                    <a:pt x="26" y="6"/>
                    <a:pt x="51" y="6"/>
                  </a:cubicBezTo>
                  <a:cubicBezTo>
                    <a:pt x="76" y="6"/>
                    <a:pt x="96" y="26"/>
                    <a:pt x="96" y="51"/>
                  </a:cubicBezTo>
                  <a:cubicBezTo>
                    <a:pt x="96" y="76"/>
                    <a:pt x="76" y="96"/>
                    <a:pt x="51" y="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9" h="48">
                  <a:moveTo>
                    <a:pt x="33" y="3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4" y="31"/>
                    <a:pt x="22" y="33"/>
                    <a:pt x="22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5"/>
                    <a:pt x="26" y="48"/>
                    <a:pt x="30" y="48"/>
                  </a:cubicBezTo>
                  <a:cubicBezTo>
                    <a:pt x="35" y="48"/>
                    <a:pt x="39" y="44"/>
                    <a:pt x="39" y="39"/>
                  </a:cubicBezTo>
                  <a:cubicBezTo>
                    <a:pt x="39" y="35"/>
                    <a:pt x="36" y="32"/>
                    <a:pt x="33" y="31"/>
                  </a:cubicBezTo>
                  <a:close/>
                  <a:moveTo>
                    <a:pt x="30" y="42"/>
                  </a:moveTo>
                  <a:cubicBezTo>
                    <a:pt x="28" y="42"/>
                    <a:pt x="27" y="41"/>
                    <a:pt x="27" y="39"/>
                  </a:cubicBezTo>
                  <a:cubicBezTo>
                    <a:pt x="27" y="37"/>
                    <a:pt x="28" y="36"/>
                    <a:pt x="30" y="36"/>
                  </a:cubicBezTo>
                  <a:cubicBezTo>
                    <a:pt x="32" y="36"/>
                    <a:pt x="33" y="37"/>
                    <a:pt x="33" y="39"/>
                  </a:cubicBezTo>
                  <a:cubicBezTo>
                    <a:pt x="33" y="41"/>
                    <a:pt x="32" y="42"/>
                    <a:pt x="3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6" y="24"/>
                  </a:moveTo>
                  <a:cubicBezTo>
                    <a:pt x="6" y="14"/>
                    <a:pt x="14" y="6"/>
                    <a:pt x="24" y="6"/>
                  </a:cubicBezTo>
                  <a:cubicBezTo>
                    <a:pt x="29" y="6"/>
                    <a:pt x="33" y="8"/>
                    <a:pt x="37" y="11"/>
                  </a:cubicBezTo>
                  <a:cubicBezTo>
                    <a:pt x="38" y="10"/>
                    <a:pt x="40" y="9"/>
                    <a:pt x="42" y="9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1"/>
                    <a:pt x="3" y="37"/>
                    <a:pt x="7" y="41"/>
                  </a:cubicBezTo>
                  <a:cubicBezTo>
                    <a:pt x="8" y="39"/>
                    <a:pt x="9" y="37"/>
                    <a:pt x="10" y="35"/>
                  </a:cubicBezTo>
                  <a:cubicBezTo>
                    <a:pt x="8" y="32"/>
                    <a:pt x="6" y="28"/>
                    <a:pt x="6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18" y="0"/>
                  </a:moveTo>
                  <a:cubicBezTo>
                    <a:pt x="11" y="0"/>
                    <a:pt x="4" y="3"/>
                    <a:pt x="0" y="9"/>
                  </a:cubicBezTo>
                  <a:cubicBezTo>
                    <a:pt x="2" y="9"/>
                    <a:pt x="4" y="10"/>
                    <a:pt x="5" y="11"/>
                  </a:cubicBezTo>
                  <a:cubicBezTo>
                    <a:pt x="9" y="8"/>
                    <a:pt x="13" y="6"/>
                    <a:pt x="18" y="6"/>
                  </a:cubicBezTo>
                  <a:cubicBezTo>
                    <a:pt x="28" y="6"/>
                    <a:pt x="36" y="14"/>
                    <a:pt x="36" y="24"/>
                  </a:cubicBezTo>
                  <a:cubicBezTo>
                    <a:pt x="36" y="28"/>
                    <a:pt x="34" y="32"/>
                    <a:pt x="32" y="35"/>
                  </a:cubicBezTo>
                  <a:cubicBezTo>
                    <a:pt x="33" y="37"/>
                    <a:pt x="34" y="39"/>
                    <a:pt x="35" y="41"/>
                  </a:cubicBezTo>
                  <a:cubicBezTo>
                    <a:pt x="39" y="37"/>
                    <a:pt x="42" y="31"/>
                    <a:pt x="42" y="24"/>
                  </a:cubicBezTo>
                  <a:cubicBezTo>
                    <a:pt x="42" y="11"/>
                    <a:pt x="31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8" y="1"/>
                </a:moveTo>
                <a:cubicBezTo>
                  <a:pt x="117" y="0"/>
                  <a:pt x="115" y="0"/>
                  <a:pt x="114" y="0"/>
                </a:cubicBezTo>
                <a:cubicBezTo>
                  <a:pt x="113" y="0"/>
                  <a:pt x="112" y="0"/>
                  <a:pt x="111" y="1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6"/>
                  <a:pt x="0" y="57"/>
                  <a:pt x="0" y="60"/>
                </a:cubicBezTo>
                <a:cubicBezTo>
                  <a:pt x="0" y="62"/>
                  <a:pt x="1" y="64"/>
                  <a:pt x="3" y="65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114"/>
                  <a:pt x="30" y="114"/>
                  <a:pt x="30" y="114"/>
                </a:cubicBezTo>
                <a:cubicBezTo>
                  <a:pt x="30" y="117"/>
                  <a:pt x="32" y="119"/>
                  <a:pt x="34" y="120"/>
                </a:cubicBezTo>
                <a:cubicBezTo>
                  <a:pt x="35" y="120"/>
                  <a:pt x="35" y="120"/>
                  <a:pt x="36" y="120"/>
                </a:cubicBezTo>
                <a:cubicBezTo>
                  <a:pt x="38" y="120"/>
                  <a:pt x="40" y="119"/>
                  <a:pt x="41" y="118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81" y="119"/>
                  <a:pt x="81" y="119"/>
                  <a:pt x="81" y="119"/>
                </a:cubicBezTo>
                <a:cubicBezTo>
                  <a:pt x="82" y="120"/>
                  <a:pt x="83" y="120"/>
                  <a:pt x="84" y="120"/>
                </a:cubicBezTo>
                <a:cubicBezTo>
                  <a:pt x="85" y="120"/>
                  <a:pt x="85" y="120"/>
                  <a:pt x="86" y="120"/>
                </a:cubicBezTo>
                <a:cubicBezTo>
                  <a:pt x="88" y="119"/>
                  <a:pt x="89" y="117"/>
                  <a:pt x="90" y="116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5"/>
                  <a:pt x="120" y="3"/>
                  <a:pt x="118" y="1"/>
                </a:cubicBezTo>
                <a:close/>
                <a:moveTo>
                  <a:pt x="33" y="79"/>
                </a:moveTo>
                <a:cubicBezTo>
                  <a:pt x="6" y="60"/>
                  <a:pt x="6" y="60"/>
                  <a:pt x="6" y="60"/>
                </a:cubicBezTo>
                <a:cubicBezTo>
                  <a:pt x="97" y="14"/>
                  <a:pt x="97" y="14"/>
                  <a:pt x="97" y="14"/>
                </a:cubicBezTo>
                <a:lnTo>
                  <a:pt x="33" y="79"/>
                </a:lnTo>
                <a:close/>
                <a:moveTo>
                  <a:pt x="36" y="114"/>
                </a:moveTo>
                <a:cubicBezTo>
                  <a:pt x="36" y="84"/>
                  <a:pt x="36" y="84"/>
                  <a:pt x="36" y="84"/>
                </a:cubicBezTo>
                <a:cubicBezTo>
                  <a:pt x="114" y="6"/>
                  <a:pt x="114" y="6"/>
                  <a:pt x="114" y="6"/>
                </a:cubicBezTo>
                <a:lnTo>
                  <a:pt x="36" y="114"/>
                </a:lnTo>
                <a:close/>
                <a:moveTo>
                  <a:pt x="84" y="114"/>
                </a:moveTo>
                <a:cubicBezTo>
                  <a:pt x="57" y="95"/>
                  <a:pt x="57" y="95"/>
                  <a:pt x="57" y="95"/>
                </a:cubicBezTo>
                <a:cubicBezTo>
                  <a:pt x="109" y="23"/>
                  <a:pt x="109" y="23"/>
                  <a:pt x="109" y="23"/>
                </a:cubicBezTo>
                <a:lnTo>
                  <a:pt x="8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6">
                  <a:moveTo>
                    <a:pt x="5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3" y="6"/>
                    <a:pt x="54" y="5"/>
                    <a:pt x="54" y="3"/>
                  </a:cubicBezTo>
                  <a:cubicBezTo>
                    <a:pt x="54" y="1"/>
                    <a:pt x="53" y="0"/>
                    <a:pt x="5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" h="108">
                  <a:moveTo>
                    <a:pt x="3" y="21"/>
                  </a:moveTo>
                  <a:cubicBezTo>
                    <a:pt x="16" y="21"/>
                    <a:pt x="16" y="21"/>
                    <a:pt x="16" y="2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7"/>
                    <a:pt x="43" y="108"/>
                    <a:pt x="45" y="108"/>
                  </a:cubicBezTo>
                  <a:cubicBezTo>
                    <a:pt x="47" y="108"/>
                    <a:pt x="48" y="107"/>
                    <a:pt x="48" y="105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9" y="21"/>
                    <a:pt x="90" y="20"/>
                    <a:pt x="90" y="18"/>
                  </a:cubicBezTo>
                  <a:cubicBezTo>
                    <a:pt x="90" y="16"/>
                    <a:pt x="89" y="15"/>
                    <a:pt x="87" y="15"/>
                  </a:cubicBezTo>
                  <a:cubicBezTo>
                    <a:pt x="76" y="15"/>
                    <a:pt x="76" y="15"/>
                    <a:pt x="76" y="1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1"/>
                    <a:pt x="47" y="0"/>
                    <a:pt x="45" y="0"/>
                  </a:cubicBezTo>
                  <a:cubicBezTo>
                    <a:pt x="43" y="0"/>
                    <a:pt x="42" y="1"/>
                    <a:pt x="42" y="3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0"/>
                    <a:pt x="1" y="21"/>
                    <a:pt x="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6" y="4"/>
                  </a:moveTo>
                  <a:cubicBezTo>
                    <a:pt x="16" y="5"/>
                    <a:pt x="17" y="6"/>
                    <a:pt x="17" y="7"/>
                  </a:cubicBezTo>
                  <a:cubicBezTo>
                    <a:pt x="17" y="10"/>
                    <a:pt x="14" y="13"/>
                    <a:pt x="11" y="13"/>
                  </a:cubicBezTo>
                  <a:cubicBezTo>
                    <a:pt x="8" y="13"/>
                    <a:pt x="6" y="11"/>
                    <a:pt x="5" y="9"/>
                  </a:cubicBezTo>
                  <a:cubicBezTo>
                    <a:pt x="3" y="9"/>
                    <a:pt x="2" y="10"/>
                    <a:pt x="0" y="10"/>
                  </a:cubicBezTo>
                  <a:cubicBezTo>
                    <a:pt x="1" y="15"/>
                    <a:pt x="6" y="19"/>
                    <a:pt x="11" y="19"/>
                  </a:cubicBezTo>
                  <a:cubicBezTo>
                    <a:pt x="18" y="19"/>
                    <a:pt x="23" y="14"/>
                    <a:pt x="23" y="7"/>
                  </a:cubicBezTo>
                  <a:cubicBezTo>
                    <a:pt x="23" y="4"/>
                    <a:pt x="22" y="2"/>
                    <a:pt x="21" y="0"/>
                  </a:cubicBezTo>
                  <a:cubicBezTo>
                    <a:pt x="19" y="1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2" y="13"/>
                  </a:moveTo>
                  <a:cubicBezTo>
                    <a:pt x="9" y="13"/>
                    <a:pt x="6" y="10"/>
                    <a:pt x="6" y="7"/>
                  </a:cubicBezTo>
                  <a:cubicBezTo>
                    <a:pt x="6" y="6"/>
                    <a:pt x="7" y="4"/>
                    <a:pt x="7" y="3"/>
                  </a:cubicBezTo>
                  <a:cubicBezTo>
                    <a:pt x="6" y="2"/>
                    <a:pt x="4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14"/>
                    <a:pt x="5" y="19"/>
                    <a:pt x="12" y="19"/>
                  </a:cubicBezTo>
                  <a:cubicBezTo>
                    <a:pt x="17" y="19"/>
                    <a:pt x="22" y="15"/>
                    <a:pt x="23" y="10"/>
                  </a:cubicBezTo>
                  <a:cubicBezTo>
                    <a:pt x="21" y="10"/>
                    <a:pt x="20" y="9"/>
                    <a:pt x="18" y="9"/>
                  </a:cubicBezTo>
                  <a:cubicBezTo>
                    <a:pt x="17" y="11"/>
                    <a:pt x="15" y="13"/>
                    <a:pt x="12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5" h="25">
                  <a:moveTo>
                    <a:pt x="17" y="6"/>
                  </a:moveTo>
                  <a:cubicBezTo>
                    <a:pt x="24" y="6"/>
                    <a:pt x="29" y="11"/>
                    <a:pt x="29" y="18"/>
                  </a:cubicBezTo>
                  <a:cubicBezTo>
                    <a:pt x="29" y="19"/>
                    <a:pt x="29" y="21"/>
                    <a:pt x="28" y="22"/>
                  </a:cubicBezTo>
                  <a:cubicBezTo>
                    <a:pt x="30" y="23"/>
                    <a:pt x="32" y="24"/>
                    <a:pt x="33" y="25"/>
                  </a:cubicBezTo>
                  <a:cubicBezTo>
                    <a:pt x="34" y="23"/>
                    <a:pt x="35" y="21"/>
                    <a:pt x="35" y="18"/>
                  </a:cubicBezTo>
                  <a:cubicBezTo>
                    <a:pt x="35" y="8"/>
                    <a:pt x="27" y="0"/>
                    <a:pt x="17" y="0"/>
                  </a:cubicBezTo>
                  <a:cubicBezTo>
                    <a:pt x="9" y="0"/>
                    <a:pt x="2" y="5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ubicBezTo>
                    <a:pt x="8" y="9"/>
                    <a:pt x="12" y="6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20" h="90">
                  <a:moveTo>
                    <a:pt x="120" y="45"/>
                  </a:moveTo>
                  <a:cubicBezTo>
                    <a:pt x="120" y="20"/>
                    <a:pt x="96" y="0"/>
                    <a:pt x="66" y="0"/>
                  </a:cubicBezTo>
                  <a:cubicBezTo>
                    <a:pt x="61" y="0"/>
                    <a:pt x="55" y="1"/>
                    <a:pt x="50" y="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7" y="1"/>
                    <a:pt x="26" y="2"/>
                  </a:cubicBezTo>
                  <a:cubicBezTo>
                    <a:pt x="25" y="3"/>
                    <a:pt x="24" y="4"/>
                    <a:pt x="24" y="6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0" y="21"/>
                    <a:pt x="17" y="25"/>
                    <a:pt x="15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0"/>
                    <a:pt x="0" y="33"/>
                    <a:pt x="0" y="36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7"/>
                    <a:pt x="3" y="60"/>
                    <a:pt x="6" y="60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23" y="78"/>
                    <a:pt x="43" y="90"/>
                    <a:pt x="66" y="90"/>
                  </a:cubicBezTo>
                  <a:cubicBezTo>
                    <a:pt x="96" y="90"/>
                    <a:pt x="120" y="70"/>
                    <a:pt x="120" y="45"/>
                  </a:cubicBezTo>
                  <a:close/>
                  <a:moveTo>
                    <a:pt x="66" y="84"/>
                  </a:moveTo>
                  <a:cubicBezTo>
                    <a:pt x="43" y="84"/>
                    <a:pt x="24" y="71"/>
                    <a:pt x="19" y="54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1" y="30"/>
                    <a:pt x="25" y="24"/>
                    <a:pt x="30" y="19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55" y="7"/>
                    <a:pt x="61" y="6"/>
                    <a:pt x="66" y="6"/>
                  </a:cubicBezTo>
                  <a:cubicBezTo>
                    <a:pt x="93" y="6"/>
                    <a:pt x="114" y="23"/>
                    <a:pt x="114" y="45"/>
                  </a:cubicBezTo>
                  <a:cubicBezTo>
                    <a:pt x="114" y="67"/>
                    <a:pt x="93" y="84"/>
                    <a:pt x="66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78" h="120">
                  <a:moveTo>
                    <a:pt x="7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39" y="0"/>
                    <a:pt x="36" y="3"/>
                    <a:pt x="36" y="6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7" y="120"/>
                    <a:pt x="38" y="120"/>
                    <a:pt x="39" y="119"/>
                  </a:cubicBezTo>
                  <a:cubicBezTo>
                    <a:pt x="40" y="120"/>
                    <a:pt x="41" y="120"/>
                    <a:pt x="42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5" y="120"/>
                    <a:pt x="78" y="117"/>
                    <a:pt x="78" y="114"/>
                  </a:cubicBezTo>
                  <a:cubicBezTo>
                    <a:pt x="78" y="6"/>
                    <a:pt x="78" y="6"/>
                    <a:pt x="78" y="6"/>
                  </a:cubicBezTo>
                  <a:cubicBezTo>
                    <a:pt x="78" y="3"/>
                    <a:pt x="75" y="0"/>
                    <a:pt x="72" y="0"/>
                  </a:cubicBezTo>
                  <a:close/>
                  <a:moveTo>
                    <a:pt x="6" y="114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14"/>
                    <a:pt x="36" y="114"/>
                    <a:pt x="36" y="114"/>
                  </a:cubicBezTo>
                  <a:lnTo>
                    <a:pt x="6" y="114"/>
                  </a:lnTo>
                  <a:close/>
                  <a:moveTo>
                    <a:pt x="72" y="114"/>
                  </a:moveTo>
                  <a:cubicBezTo>
                    <a:pt x="42" y="114"/>
                    <a:pt x="42" y="114"/>
                    <a:pt x="42" y="11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72" y="30"/>
                    <a:pt x="72" y="30"/>
                    <a:pt x="72" y="30"/>
                  </a:cubicBezTo>
                  <a:lnTo>
                    <a:pt x="72" y="114"/>
                  </a:lnTo>
                  <a:close/>
                  <a:moveTo>
                    <a:pt x="72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72" y="6"/>
                    <a:pt x="72" y="6"/>
                    <a:pt x="72" y="6"/>
                  </a:cubicBez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2" h="115">
                  <a:moveTo>
                    <a:pt x="24" y="5"/>
                  </a:moveTo>
                  <a:cubicBezTo>
                    <a:pt x="24" y="2"/>
                    <a:pt x="21" y="0"/>
                    <a:pt x="17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18" y="110"/>
                    <a:pt x="18" y="110"/>
                    <a:pt x="18" y="110"/>
                  </a:cubicBezTo>
                  <a:cubicBezTo>
                    <a:pt x="19" y="113"/>
                    <a:pt x="22" y="115"/>
                    <a:pt x="25" y="115"/>
                  </a:cubicBezTo>
                  <a:cubicBezTo>
                    <a:pt x="37" y="113"/>
                    <a:pt x="37" y="113"/>
                    <a:pt x="37" y="113"/>
                  </a:cubicBezTo>
                  <a:cubicBezTo>
                    <a:pt x="40" y="112"/>
                    <a:pt x="42" y="109"/>
                    <a:pt x="42" y="106"/>
                  </a:cubicBezTo>
                  <a:lnTo>
                    <a:pt x="24" y="5"/>
                  </a:lnTo>
                  <a:close/>
                  <a:moveTo>
                    <a:pt x="6" y="9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9" y="20"/>
                    <a:pt x="9" y="20"/>
                    <a:pt x="9" y="20"/>
                  </a:cubicBezTo>
                  <a:lnTo>
                    <a:pt x="6" y="9"/>
                  </a:lnTo>
                  <a:close/>
                  <a:moveTo>
                    <a:pt x="10" y="26"/>
                  </a:moveTo>
                  <a:cubicBezTo>
                    <a:pt x="21" y="24"/>
                    <a:pt x="21" y="24"/>
                    <a:pt x="21" y="24"/>
                  </a:cubicBezTo>
                  <a:cubicBezTo>
                    <a:pt x="33" y="89"/>
                    <a:pt x="33" y="89"/>
                    <a:pt x="33" y="89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10" y="26"/>
                  </a:lnTo>
                  <a:close/>
                  <a:moveTo>
                    <a:pt x="24" y="109"/>
                  </a:moveTo>
                  <a:cubicBezTo>
                    <a:pt x="22" y="97"/>
                    <a:pt x="22" y="97"/>
                    <a:pt x="22" y="97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6" y="107"/>
                    <a:pt x="36" y="107"/>
                    <a:pt x="36" y="107"/>
                  </a:cubicBezTo>
                  <a:lnTo>
                    <a:pt x="2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custGeom>
            <a:avLst/>
            <a:gdLst>
              <a:gd name="textAreaLeft" fmla="*/ 0 w 747720"/>
              <a:gd name="textAreaRight" fmla="*/ 748080 w 747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59" h="319">
                <a:moveTo>
                  <a:pt x="457" y="110"/>
                </a:moveTo>
                <a:cubicBezTo>
                  <a:pt x="457" y="110"/>
                  <a:pt x="414" y="53"/>
                  <a:pt x="414" y="53"/>
                </a:cubicBezTo>
                <a:cubicBezTo>
                  <a:pt x="414" y="53"/>
                  <a:pt x="413" y="51"/>
                  <a:pt x="410" y="51"/>
                </a:cubicBezTo>
                <a:cubicBezTo>
                  <a:pt x="231" y="0"/>
                  <a:pt x="231" y="0"/>
                  <a:pt x="231" y="0"/>
                </a:cubicBezTo>
                <a:cubicBezTo>
                  <a:pt x="230" y="0"/>
                  <a:pt x="229" y="0"/>
                  <a:pt x="227" y="0"/>
                </a:cubicBezTo>
                <a:cubicBezTo>
                  <a:pt x="49" y="51"/>
                  <a:pt x="49" y="51"/>
                  <a:pt x="49" y="51"/>
                </a:cubicBezTo>
                <a:cubicBezTo>
                  <a:pt x="49" y="51"/>
                  <a:pt x="46" y="51"/>
                  <a:pt x="45" y="53"/>
                </a:cubicBezTo>
                <a:cubicBezTo>
                  <a:pt x="44" y="54"/>
                  <a:pt x="2" y="110"/>
                  <a:pt x="2" y="110"/>
                </a:cubicBezTo>
                <a:cubicBezTo>
                  <a:pt x="0" y="112"/>
                  <a:pt x="0" y="115"/>
                  <a:pt x="1" y="117"/>
                </a:cubicBezTo>
                <a:cubicBezTo>
                  <a:pt x="1" y="119"/>
                  <a:pt x="3" y="121"/>
                  <a:pt x="5" y="122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3" y="237"/>
                  <a:pt x="43" y="237"/>
                  <a:pt x="43" y="237"/>
                </a:cubicBezTo>
                <a:cubicBezTo>
                  <a:pt x="43" y="240"/>
                  <a:pt x="45" y="243"/>
                  <a:pt x="48" y="244"/>
                </a:cubicBezTo>
                <a:cubicBezTo>
                  <a:pt x="227" y="318"/>
                  <a:pt x="227" y="318"/>
                  <a:pt x="227" y="318"/>
                </a:cubicBezTo>
                <a:cubicBezTo>
                  <a:pt x="227" y="318"/>
                  <a:pt x="228" y="319"/>
                  <a:pt x="229" y="319"/>
                </a:cubicBezTo>
                <a:cubicBezTo>
                  <a:pt x="231" y="319"/>
                  <a:pt x="232" y="318"/>
                  <a:pt x="232" y="318"/>
                </a:cubicBezTo>
                <a:cubicBezTo>
                  <a:pt x="411" y="244"/>
                  <a:pt x="411" y="244"/>
                  <a:pt x="411" y="244"/>
                </a:cubicBezTo>
                <a:cubicBezTo>
                  <a:pt x="414" y="243"/>
                  <a:pt x="416" y="240"/>
                  <a:pt x="416" y="237"/>
                </a:cubicBezTo>
                <a:cubicBezTo>
                  <a:pt x="416" y="135"/>
                  <a:pt x="416" y="135"/>
                  <a:pt x="416" y="135"/>
                </a:cubicBezTo>
                <a:cubicBezTo>
                  <a:pt x="453" y="122"/>
                  <a:pt x="453" y="122"/>
                  <a:pt x="453" y="122"/>
                </a:cubicBezTo>
                <a:cubicBezTo>
                  <a:pt x="456" y="121"/>
                  <a:pt x="457" y="119"/>
                  <a:pt x="458" y="117"/>
                </a:cubicBezTo>
                <a:cubicBezTo>
                  <a:pt x="459" y="115"/>
                  <a:pt x="458" y="112"/>
                  <a:pt x="457" y="110"/>
                </a:cubicBezTo>
                <a:close/>
                <a:moveTo>
                  <a:pt x="20" y="111"/>
                </a:moveTo>
                <a:cubicBezTo>
                  <a:pt x="54" y="66"/>
                  <a:pt x="54" y="66"/>
                  <a:pt x="54" y="66"/>
                </a:cubicBezTo>
                <a:cubicBezTo>
                  <a:pt x="67" y="70"/>
                  <a:pt x="67" y="70"/>
                  <a:pt x="67" y="70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217" y="111"/>
                  <a:pt x="217" y="111"/>
                  <a:pt x="217" y="111"/>
                </a:cubicBezTo>
                <a:cubicBezTo>
                  <a:pt x="174" y="163"/>
                  <a:pt x="174" y="163"/>
                  <a:pt x="174" y="163"/>
                </a:cubicBezTo>
                <a:lnTo>
                  <a:pt x="20" y="111"/>
                </a:lnTo>
                <a:close/>
                <a:moveTo>
                  <a:pt x="222" y="300"/>
                </a:moveTo>
                <a:cubicBezTo>
                  <a:pt x="58" y="232"/>
                  <a:pt x="58" y="232"/>
                  <a:pt x="58" y="232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174" y="179"/>
                  <a:pt x="174" y="179"/>
                  <a:pt x="174" y="179"/>
                </a:cubicBezTo>
                <a:cubicBezTo>
                  <a:pt x="175" y="179"/>
                  <a:pt x="176" y="179"/>
                  <a:pt x="176" y="179"/>
                </a:cubicBezTo>
                <a:cubicBezTo>
                  <a:pt x="179" y="179"/>
                  <a:pt x="181" y="179"/>
                  <a:pt x="182" y="177"/>
                </a:cubicBezTo>
                <a:cubicBezTo>
                  <a:pt x="222" y="128"/>
                  <a:pt x="222" y="128"/>
                  <a:pt x="222" y="128"/>
                </a:cubicBezTo>
                <a:lnTo>
                  <a:pt x="222" y="300"/>
                </a:lnTo>
                <a:close/>
                <a:moveTo>
                  <a:pt x="229" y="99"/>
                </a:moveTo>
                <a:cubicBezTo>
                  <a:pt x="78" y="58"/>
                  <a:pt x="78" y="58"/>
                  <a:pt x="78" y="58"/>
                </a:cubicBezTo>
                <a:cubicBezTo>
                  <a:pt x="229" y="15"/>
                  <a:pt x="229" y="15"/>
                  <a:pt x="229" y="15"/>
                </a:cubicBezTo>
                <a:cubicBezTo>
                  <a:pt x="381" y="58"/>
                  <a:pt x="381" y="58"/>
                  <a:pt x="381" y="58"/>
                </a:cubicBezTo>
                <a:lnTo>
                  <a:pt x="229" y="99"/>
                </a:lnTo>
                <a:close/>
                <a:moveTo>
                  <a:pt x="401" y="232"/>
                </a:moveTo>
                <a:cubicBezTo>
                  <a:pt x="237" y="300"/>
                  <a:pt x="237" y="300"/>
                  <a:pt x="237" y="300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77" y="177"/>
                  <a:pt x="277" y="177"/>
                  <a:pt x="277" y="177"/>
                </a:cubicBezTo>
                <a:cubicBezTo>
                  <a:pt x="278" y="179"/>
                  <a:pt x="280" y="179"/>
                  <a:pt x="282" y="179"/>
                </a:cubicBezTo>
                <a:cubicBezTo>
                  <a:pt x="283" y="179"/>
                  <a:pt x="284" y="179"/>
                  <a:pt x="285" y="179"/>
                </a:cubicBezTo>
                <a:cubicBezTo>
                  <a:pt x="401" y="140"/>
                  <a:pt x="401" y="140"/>
                  <a:pt x="401" y="140"/>
                </a:cubicBezTo>
                <a:lnTo>
                  <a:pt x="401" y="232"/>
                </a:lnTo>
                <a:close/>
                <a:moveTo>
                  <a:pt x="285" y="163"/>
                </a:moveTo>
                <a:cubicBezTo>
                  <a:pt x="242" y="111"/>
                  <a:pt x="242" y="111"/>
                  <a:pt x="242" y="111"/>
                </a:cubicBezTo>
                <a:cubicBezTo>
                  <a:pt x="405" y="66"/>
                  <a:pt x="405" y="66"/>
                  <a:pt x="405" y="66"/>
                </a:cubicBezTo>
                <a:cubicBezTo>
                  <a:pt x="439" y="111"/>
                  <a:pt x="439" y="111"/>
                  <a:pt x="439" y="111"/>
                </a:cubicBezTo>
                <a:lnTo>
                  <a:pt x="285" y="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custGeom>
            <a:avLst/>
            <a:gdLst>
              <a:gd name="textAreaLeft" fmla="*/ 0 w 700200"/>
              <a:gd name="textAreaRight" fmla="*/ 700560 w 700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429" h="333">
                <a:moveTo>
                  <a:pt x="428" y="157"/>
                </a:moveTo>
                <a:cubicBezTo>
                  <a:pt x="395" y="70"/>
                  <a:pt x="395" y="70"/>
                  <a:pt x="395" y="70"/>
                </a:cubicBezTo>
                <a:cubicBezTo>
                  <a:pt x="394" y="68"/>
                  <a:pt x="392" y="66"/>
                  <a:pt x="390" y="66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02" y="4"/>
                  <a:pt x="302" y="4"/>
                  <a:pt x="302" y="4"/>
                </a:cubicBezTo>
                <a:cubicBezTo>
                  <a:pt x="301" y="2"/>
                  <a:pt x="298" y="0"/>
                  <a:pt x="296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1" y="0"/>
                  <a:pt x="128" y="2"/>
                  <a:pt x="127" y="4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40" y="66"/>
                  <a:pt x="40" y="66"/>
                  <a:pt x="40" y="66"/>
                </a:cubicBezTo>
                <a:cubicBezTo>
                  <a:pt x="37" y="66"/>
                  <a:pt x="35" y="68"/>
                  <a:pt x="34" y="70"/>
                </a:cubicBezTo>
                <a:cubicBezTo>
                  <a:pt x="1" y="157"/>
                  <a:pt x="1" y="157"/>
                  <a:pt x="1" y="157"/>
                </a:cubicBezTo>
                <a:cubicBezTo>
                  <a:pt x="0" y="159"/>
                  <a:pt x="1" y="163"/>
                  <a:pt x="3" y="165"/>
                </a:cubicBezTo>
                <a:cubicBezTo>
                  <a:pt x="4" y="166"/>
                  <a:pt x="6" y="167"/>
                  <a:pt x="9" y="167"/>
                </a:cubicBezTo>
                <a:cubicBezTo>
                  <a:pt x="9" y="167"/>
                  <a:pt x="10" y="167"/>
                  <a:pt x="10" y="167"/>
                </a:cubicBezTo>
                <a:cubicBezTo>
                  <a:pt x="65" y="153"/>
                  <a:pt x="65" y="153"/>
                  <a:pt x="65" y="153"/>
                </a:cubicBezTo>
                <a:cubicBezTo>
                  <a:pt x="49" y="208"/>
                  <a:pt x="49" y="208"/>
                  <a:pt x="49" y="208"/>
                </a:cubicBezTo>
                <a:cubicBezTo>
                  <a:pt x="48" y="210"/>
                  <a:pt x="48" y="213"/>
                  <a:pt x="50" y="215"/>
                </a:cubicBezTo>
                <a:cubicBezTo>
                  <a:pt x="51" y="217"/>
                  <a:pt x="54" y="218"/>
                  <a:pt x="56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89" y="326"/>
                  <a:pt x="89" y="326"/>
                  <a:pt x="89" y="326"/>
                </a:cubicBezTo>
                <a:cubicBezTo>
                  <a:pt x="90" y="330"/>
                  <a:pt x="93" y="333"/>
                  <a:pt x="97" y="333"/>
                </a:cubicBezTo>
                <a:cubicBezTo>
                  <a:pt x="333" y="333"/>
                  <a:pt x="333" y="333"/>
                  <a:pt x="333" y="333"/>
                </a:cubicBezTo>
                <a:cubicBezTo>
                  <a:pt x="336" y="333"/>
                  <a:pt x="340" y="330"/>
                  <a:pt x="340" y="326"/>
                </a:cubicBezTo>
                <a:cubicBezTo>
                  <a:pt x="352" y="218"/>
                  <a:pt x="352" y="218"/>
                  <a:pt x="352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7" y="218"/>
                  <a:pt x="381" y="214"/>
                  <a:pt x="381" y="210"/>
                </a:cubicBezTo>
                <a:cubicBezTo>
                  <a:pt x="381" y="209"/>
                  <a:pt x="381" y="208"/>
                  <a:pt x="380" y="207"/>
                </a:cubicBezTo>
                <a:cubicBezTo>
                  <a:pt x="364" y="153"/>
                  <a:pt x="364" y="153"/>
                  <a:pt x="364" y="153"/>
                </a:cubicBezTo>
                <a:cubicBezTo>
                  <a:pt x="419" y="167"/>
                  <a:pt x="419" y="167"/>
                  <a:pt x="419" y="167"/>
                </a:cubicBezTo>
                <a:cubicBezTo>
                  <a:pt x="419" y="167"/>
                  <a:pt x="420" y="167"/>
                  <a:pt x="421" y="167"/>
                </a:cubicBezTo>
                <a:cubicBezTo>
                  <a:pt x="423" y="167"/>
                  <a:pt x="425" y="166"/>
                  <a:pt x="426" y="165"/>
                </a:cubicBezTo>
                <a:cubicBezTo>
                  <a:pt x="428" y="163"/>
                  <a:pt x="429" y="159"/>
                  <a:pt x="428" y="157"/>
                </a:cubicBezTo>
                <a:close/>
                <a:moveTo>
                  <a:pt x="113" y="62"/>
                </a:moveTo>
                <a:cubicBezTo>
                  <a:pt x="316" y="62"/>
                  <a:pt x="316" y="62"/>
                  <a:pt x="316" y="62"/>
                </a:cubicBezTo>
                <a:cubicBezTo>
                  <a:pt x="342" y="134"/>
                  <a:pt x="342" y="134"/>
                  <a:pt x="342" y="134"/>
                </a:cubicBezTo>
                <a:cubicBezTo>
                  <a:pt x="87" y="134"/>
                  <a:pt x="87" y="134"/>
                  <a:pt x="87" y="134"/>
                </a:cubicBezTo>
                <a:lnTo>
                  <a:pt x="113" y="62"/>
                </a:lnTo>
                <a:close/>
                <a:moveTo>
                  <a:pt x="138" y="15"/>
                </a:moveTo>
                <a:cubicBezTo>
                  <a:pt x="291" y="15"/>
                  <a:pt x="291" y="15"/>
                  <a:pt x="291" y="15"/>
                </a:cubicBezTo>
                <a:cubicBezTo>
                  <a:pt x="308" y="47"/>
                  <a:pt x="308" y="47"/>
                  <a:pt x="308" y="47"/>
                </a:cubicBezTo>
                <a:cubicBezTo>
                  <a:pt x="121" y="47"/>
                  <a:pt x="121" y="47"/>
                  <a:pt x="121" y="47"/>
                </a:cubicBezTo>
                <a:lnTo>
                  <a:pt x="138" y="15"/>
                </a:lnTo>
                <a:close/>
                <a:moveTo>
                  <a:pt x="47" y="79"/>
                </a:moveTo>
                <a:cubicBezTo>
                  <a:pt x="96" y="66"/>
                  <a:pt x="96" y="66"/>
                  <a:pt x="96" y="66"/>
                </a:cubicBezTo>
                <a:cubicBezTo>
                  <a:pt x="71" y="135"/>
                  <a:pt x="71" y="135"/>
                  <a:pt x="71" y="135"/>
                </a:cubicBezTo>
                <a:cubicBezTo>
                  <a:pt x="21" y="148"/>
                  <a:pt x="21" y="148"/>
                  <a:pt x="21" y="148"/>
                </a:cubicBezTo>
                <a:lnTo>
                  <a:pt x="47" y="79"/>
                </a:lnTo>
                <a:close/>
                <a:moveTo>
                  <a:pt x="326" y="317"/>
                </a:moveTo>
                <a:cubicBezTo>
                  <a:pt x="104" y="317"/>
                  <a:pt x="104" y="317"/>
                  <a:pt x="104" y="317"/>
                </a:cubicBezTo>
                <a:cubicBezTo>
                  <a:pt x="92" y="218"/>
                  <a:pt x="92" y="218"/>
                  <a:pt x="92" y="218"/>
                </a:cubicBezTo>
                <a:cubicBezTo>
                  <a:pt x="337" y="218"/>
                  <a:pt x="337" y="218"/>
                  <a:pt x="337" y="218"/>
                </a:cubicBezTo>
                <a:lnTo>
                  <a:pt x="326" y="317"/>
                </a:lnTo>
                <a:close/>
                <a:moveTo>
                  <a:pt x="66" y="202"/>
                </a:moveTo>
                <a:cubicBezTo>
                  <a:pt x="82" y="149"/>
                  <a:pt x="82" y="149"/>
                  <a:pt x="82" y="149"/>
                </a:cubicBezTo>
                <a:cubicBezTo>
                  <a:pt x="347" y="149"/>
                  <a:pt x="347" y="149"/>
                  <a:pt x="347" y="149"/>
                </a:cubicBezTo>
                <a:cubicBezTo>
                  <a:pt x="363" y="202"/>
                  <a:pt x="363" y="202"/>
                  <a:pt x="363" y="202"/>
                </a:cubicBezTo>
                <a:lnTo>
                  <a:pt x="66" y="202"/>
                </a:lnTo>
                <a:close/>
                <a:moveTo>
                  <a:pt x="359" y="135"/>
                </a:moveTo>
                <a:cubicBezTo>
                  <a:pt x="333" y="66"/>
                  <a:pt x="333" y="66"/>
                  <a:pt x="333" y="66"/>
                </a:cubicBezTo>
                <a:cubicBezTo>
                  <a:pt x="382" y="79"/>
                  <a:pt x="382" y="79"/>
                  <a:pt x="382" y="79"/>
                </a:cubicBezTo>
                <a:cubicBezTo>
                  <a:pt x="408" y="148"/>
                  <a:pt x="408" y="148"/>
                  <a:pt x="408" y="148"/>
                </a:cubicBezTo>
                <a:lnTo>
                  <a:pt x="359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93" h="361">
                  <a:moveTo>
                    <a:pt x="293" y="134"/>
                  </a:moveTo>
                  <a:cubicBezTo>
                    <a:pt x="260" y="5"/>
                    <a:pt x="260" y="5"/>
                    <a:pt x="260" y="5"/>
                  </a:cubicBezTo>
                  <a:cubicBezTo>
                    <a:pt x="259" y="2"/>
                    <a:pt x="256" y="0"/>
                    <a:pt x="253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0"/>
                    <a:pt x="33" y="2"/>
                    <a:pt x="32" y="5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0" y="134"/>
                    <a:pt x="0" y="135"/>
                    <a:pt x="0" y="136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358"/>
                    <a:pt x="3" y="361"/>
                    <a:pt x="7" y="361"/>
                  </a:cubicBezTo>
                  <a:cubicBezTo>
                    <a:pt x="286" y="361"/>
                    <a:pt x="286" y="361"/>
                    <a:pt x="286" y="361"/>
                  </a:cubicBezTo>
                  <a:cubicBezTo>
                    <a:pt x="290" y="361"/>
                    <a:pt x="293" y="358"/>
                    <a:pt x="293" y="354"/>
                  </a:cubicBezTo>
                  <a:cubicBezTo>
                    <a:pt x="293" y="136"/>
                    <a:pt x="293" y="136"/>
                    <a:pt x="293" y="136"/>
                  </a:cubicBezTo>
                  <a:cubicBezTo>
                    <a:pt x="293" y="135"/>
                    <a:pt x="293" y="134"/>
                    <a:pt x="293" y="134"/>
                  </a:cubicBezTo>
                  <a:close/>
                  <a:moveTo>
                    <a:pt x="276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0" y="14"/>
                    <a:pt x="180" y="14"/>
                    <a:pt x="180" y="14"/>
                  </a:cubicBezTo>
                  <a:cubicBezTo>
                    <a:pt x="247" y="14"/>
                    <a:pt x="247" y="14"/>
                    <a:pt x="247" y="14"/>
                  </a:cubicBezTo>
                  <a:lnTo>
                    <a:pt x="276" y="129"/>
                  </a:lnTo>
                  <a:close/>
                  <a:moveTo>
                    <a:pt x="165" y="14"/>
                  </a:moveTo>
                  <a:cubicBezTo>
                    <a:pt x="165" y="14"/>
                    <a:pt x="176" y="136"/>
                    <a:pt x="176" y="136"/>
                  </a:cubicBezTo>
                  <a:cubicBezTo>
                    <a:pt x="176" y="175"/>
                    <a:pt x="176" y="175"/>
                    <a:pt x="176" y="175"/>
                  </a:cubicBezTo>
                  <a:cubicBezTo>
                    <a:pt x="116" y="175"/>
                    <a:pt x="116" y="175"/>
                    <a:pt x="116" y="175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16" y="136"/>
                    <a:pt x="127" y="14"/>
                    <a:pt x="127" y="14"/>
                  </a:cubicBezTo>
                  <a:lnTo>
                    <a:pt x="165" y="14"/>
                  </a:lnTo>
                  <a:close/>
                  <a:moveTo>
                    <a:pt x="45" y="14"/>
                  </a:moveTo>
                  <a:cubicBezTo>
                    <a:pt x="113" y="14"/>
                    <a:pt x="113" y="14"/>
                    <a:pt x="113" y="14"/>
                  </a:cubicBezTo>
                  <a:cubicBezTo>
                    <a:pt x="102" y="129"/>
                    <a:pt x="102" y="129"/>
                    <a:pt x="102" y="129"/>
                  </a:cubicBezTo>
                  <a:cubicBezTo>
                    <a:pt x="16" y="129"/>
                    <a:pt x="16" y="129"/>
                    <a:pt x="16" y="129"/>
                  </a:cubicBezTo>
                  <a:lnTo>
                    <a:pt x="45" y="14"/>
                  </a:lnTo>
                  <a:close/>
                  <a:moveTo>
                    <a:pt x="14" y="347"/>
                  </a:moveTo>
                  <a:cubicBezTo>
                    <a:pt x="14" y="143"/>
                    <a:pt x="14" y="143"/>
                    <a:pt x="14" y="143"/>
                  </a:cubicBezTo>
                  <a:cubicBezTo>
                    <a:pt x="102" y="143"/>
                    <a:pt x="102" y="143"/>
                    <a:pt x="102" y="143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2" y="185"/>
                    <a:pt x="105" y="189"/>
                    <a:pt x="109" y="189"/>
                  </a:cubicBezTo>
                  <a:cubicBezTo>
                    <a:pt x="183" y="189"/>
                    <a:pt x="183" y="189"/>
                    <a:pt x="183" y="189"/>
                  </a:cubicBezTo>
                  <a:cubicBezTo>
                    <a:pt x="187" y="189"/>
                    <a:pt x="190" y="185"/>
                    <a:pt x="190" y="182"/>
                  </a:cubicBezTo>
                  <a:cubicBezTo>
                    <a:pt x="190" y="143"/>
                    <a:pt x="190" y="143"/>
                    <a:pt x="190" y="143"/>
                  </a:cubicBezTo>
                  <a:cubicBezTo>
                    <a:pt x="278" y="143"/>
                    <a:pt x="278" y="143"/>
                    <a:pt x="278" y="143"/>
                  </a:cubicBezTo>
                  <a:cubicBezTo>
                    <a:pt x="278" y="347"/>
                    <a:pt x="278" y="347"/>
                    <a:pt x="278" y="347"/>
                  </a:cubicBezTo>
                  <a:lnTo>
                    <a:pt x="14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2" h="131">
                  <a:moveTo>
                    <a:pt x="57" y="6"/>
                  </a:moveTo>
                  <a:cubicBezTo>
                    <a:pt x="55" y="2"/>
                    <a:pt x="51" y="0"/>
                    <a:pt x="46" y="0"/>
                  </a:cubicBezTo>
                  <a:cubicBezTo>
                    <a:pt x="42" y="0"/>
                    <a:pt x="38" y="2"/>
                    <a:pt x="35" y="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0" y="53"/>
                    <a:pt x="0" y="59"/>
                    <a:pt x="2" y="63"/>
                  </a:cubicBezTo>
                  <a:cubicBezTo>
                    <a:pt x="5" y="68"/>
                    <a:pt x="9" y="71"/>
                    <a:pt x="15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8" y="124"/>
                    <a:pt x="24" y="131"/>
                    <a:pt x="32" y="131"/>
                  </a:cubicBezTo>
                  <a:cubicBezTo>
                    <a:pt x="60" y="131"/>
                    <a:pt x="60" y="131"/>
                    <a:pt x="60" y="131"/>
                  </a:cubicBezTo>
                  <a:cubicBezTo>
                    <a:pt x="68" y="131"/>
                    <a:pt x="74" y="124"/>
                    <a:pt x="74" y="117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3" y="71"/>
                    <a:pt x="88" y="68"/>
                    <a:pt x="90" y="63"/>
                  </a:cubicBezTo>
                  <a:cubicBezTo>
                    <a:pt x="92" y="59"/>
                    <a:pt x="92" y="53"/>
                    <a:pt x="89" y="49"/>
                  </a:cubicBezTo>
                  <a:lnTo>
                    <a:pt x="57" y="6"/>
                  </a:lnTo>
                  <a:close/>
                  <a:moveTo>
                    <a:pt x="60" y="57"/>
                  </a:moveTo>
                  <a:cubicBezTo>
                    <a:pt x="60" y="117"/>
                    <a:pt x="60" y="117"/>
                    <a:pt x="60" y="117"/>
                  </a:cubicBezTo>
                  <a:cubicBezTo>
                    <a:pt x="32" y="117"/>
                    <a:pt x="32" y="117"/>
                    <a:pt x="32" y="117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78" y="57"/>
                    <a:pt x="78" y="57"/>
                    <a:pt x="78" y="57"/>
                  </a:cubicBez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custGeom>
            <a:avLst/>
            <a:gdLst>
              <a:gd name="textAreaLeft" fmla="*/ 0 w 601560"/>
              <a:gd name="textAreaRight" fmla="*/ 601920 w 60156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368" h="379">
                <a:moveTo>
                  <a:pt x="364" y="79"/>
                </a:moveTo>
                <a:cubicBezTo>
                  <a:pt x="187" y="0"/>
                  <a:pt x="187" y="0"/>
                  <a:pt x="187" y="0"/>
                </a:cubicBezTo>
                <a:cubicBezTo>
                  <a:pt x="185" y="0"/>
                  <a:pt x="183" y="0"/>
                  <a:pt x="181" y="0"/>
                </a:cubicBezTo>
                <a:cubicBezTo>
                  <a:pt x="4" y="79"/>
                  <a:pt x="4" y="79"/>
                  <a:pt x="4" y="79"/>
                </a:cubicBezTo>
                <a:cubicBezTo>
                  <a:pt x="1" y="80"/>
                  <a:pt x="0" y="83"/>
                  <a:pt x="0" y="87"/>
                </a:cubicBezTo>
                <a:cubicBezTo>
                  <a:pt x="0" y="291"/>
                  <a:pt x="0" y="291"/>
                  <a:pt x="0" y="291"/>
                </a:cubicBezTo>
                <a:cubicBezTo>
                  <a:pt x="0" y="294"/>
                  <a:pt x="1" y="296"/>
                  <a:pt x="4" y="298"/>
                </a:cubicBezTo>
                <a:cubicBezTo>
                  <a:pt x="181" y="379"/>
                  <a:pt x="181" y="379"/>
                  <a:pt x="181" y="379"/>
                </a:cubicBezTo>
                <a:cubicBezTo>
                  <a:pt x="182" y="379"/>
                  <a:pt x="183" y="379"/>
                  <a:pt x="184" y="379"/>
                </a:cubicBezTo>
                <a:cubicBezTo>
                  <a:pt x="185" y="379"/>
                  <a:pt x="186" y="379"/>
                  <a:pt x="187" y="379"/>
                </a:cubicBezTo>
                <a:cubicBezTo>
                  <a:pt x="187" y="379"/>
                  <a:pt x="364" y="298"/>
                  <a:pt x="364" y="298"/>
                </a:cubicBezTo>
                <a:cubicBezTo>
                  <a:pt x="367" y="296"/>
                  <a:pt x="368" y="294"/>
                  <a:pt x="368" y="291"/>
                </a:cubicBezTo>
                <a:cubicBezTo>
                  <a:pt x="368" y="87"/>
                  <a:pt x="368" y="87"/>
                  <a:pt x="368" y="87"/>
                </a:cubicBezTo>
                <a:cubicBezTo>
                  <a:pt x="368" y="83"/>
                  <a:pt x="367" y="80"/>
                  <a:pt x="364" y="79"/>
                </a:cubicBezTo>
                <a:close/>
                <a:moveTo>
                  <a:pt x="107" y="128"/>
                </a:moveTo>
                <a:cubicBezTo>
                  <a:pt x="105" y="129"/>
                  <a:pt x="103" y="131"/>
                  <a:pt x="103" y="134"/>
                </a:cubicBezTo>
                <a:cubicBezTo>
                  <a:pt x="103" y="203"/>
                  <a:pt x="103" y="203"/>
                  <a:pt x="103" y="203"/>
                </a:cubicBezTo>
                <a:cubicBezTo>
                  <a:pt x="68" y="187"/>
                  <a:pt x="68" y="187"/>
                  <a:pt x="68" y="187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235" y="38"/>
                  <a:pt x="235" y="38"/>
                  <a:pt x="235" y="38"/>
                </a:cubicBezTo>
                <a:cubicBezTo>
                  <a:pt x="266" y="51"/>
                  <a:pt x="266" y="51"/>
                  <a:pt x="266" y="51"/>
                </a:cubicBezTo>
                <a:lnTo>
                  <a:pt x="107" y="128"/>
                </a:lnTo>
                <a:close/>
                <a:moveTo>
                  <a:pt x="184" y="15"/>
                </a:moveTo>
                <a:cubicBezTo>
                  <a:pt x="218" y="30"/>
                  <a:pt x="218" y="30"/>
                  <a:pt x="218" y="30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24" y="86"/>
                  <a:pt x="24" y="86"/>
                  <a:pt x="24" y="86"/>
                </a:cubicBezTo>
                <a:lnTo>
                  <a:pt x="184" y="15"/>
                </a:lnTo>
                <a:close/>
                <a:moveTo>
                  <a:pt x="177" y="361"/>
                </a:moveTo>
                <a:cubicBezTo>
                  <a:pt x="14" y="287"/>
                  <a:pt x="14" y="287"/>
                  <a:pt x="14" y="287"/>
                </a:cubicBezTo>
                <a:cubicBezTo>
                  <a:pt x="14" y="97"/>
                  <a:pt x="14" y="97"/>
                  <a:pt x="14" y="97"/>
                </a:cubicBezTo>
                <a:cubicBezTo>
                  <a:pt x="54" y="115"/>
                  <a:pt x="54" y="115"/>
                  <a:pt x="54" y="115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54" y="194"/>
                  <a:pt x="56" y="197"/>
                  <a:pt x="58" y="198"/>
                </a:cubicBezTo>
                <a:cubicBezTo>
                  <a:pt x="107" y="221"/>
                  <a:pt x="107" y="221"/>
                  <a:pt x="107" y="221"/>
                </a:cubicBezTo>
                <a:cubicBezTo>
                  <a:pt x="108" y="221"/>
                  <a:pt x="109" y="221"/>
                  <a:pt x="110" y="221"/>
                </a:cubicBezTo>
                <a:cubicBezTo>
                  <a:pt x="111" y="221"/>
                  <a:pt x="113" y="221"/>
                  <a:pt x="114" y="220"/>
                </a:cubicBezTo>
                <a:cubicBezTo>
                  <a:pt x="116" y="219"/>
                  <a:pt x="117" y="217"/>
                  <a:pt x="117" y="214"/>
                </a:cubicBezTo>
                <a:cubicBezTo>
                  <a:pt x="117" y="144"/>
                  <a:pt x="117" y="144"/>
                  <a:pt x="117" y="144"/>
                </a:cubicBezTo>
                <a:cubicBezTo>
                  <a:pt x="177" y="171"/>
                  <a:pt x="177" y="171"/>
                  <a:pt x="177" y="171"/>
                </a:cubicBezTo>
                <a:lnTo>
                  <a:pt x="177" y="361"/>
                </a:lnTo>
                <a:close/>
                <a:moveTo>
                  <a:pt x="184" y="159"/>
                </a:moveTo>
                <a:cubicBezTo>
                  <a:pt x="128" y="133"/>
                  <a:pt x="128" y="133"/>
                  <a:pt x="128" y="133"/>
                </a:cubicBezTo>
                <a:cubicBezTo>
                  <a:pt x="283" y="59"/>
                  <a:pt x="283" y="59"/>
                  <a:pt x="283" y="59"/>
                </a:cubicBezTo>
                <a:cubicBezTo>
                  <a:pt x="344" y="86"/>
                  <a:pt x="344" y="86"/>
                  <a:pt x="344" y="86"/>
                </a:cubicBezTo>
                <a:lnTo>
                  <a:pt x="184" y="159"/>
                </a:lnTo>
                <a:close/>
                <a:moveTo>
                  <a:pt x="354" y="287"/>
                </a:moveTo>
                <a:cubicBezTo>
                  <a:pt x="191" y="361"/>
                  <a:pt x="191" y="361"/>
                  <a:pt x="191" y="361"/>
                </a:cubicBezTo>
                <a:cubicBezTo>
                  <a:pt x="191" y="171"/>
                  <a:pt x="191" y="171"/>
                  <a:pt x="191" y="171"/>
                </a:cubicBezTo>
                <a:cubicBezTo>
                  <a:pt x="354" y="97"/>
                  <a:pt x="354" y="97"/>
                  <a:pt x="354" y="97"/>
                </a:cubicBezTo>
                <a:lnTo>
                  <a:pt x="35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custGeom>
            <a:avLst/>
            <a:gdLst>
              <a:gd name="textAreaLeft" fmla="*/ 0 w 730080"/>
              <a:gd name="textAreaRight" fmla="*/ 730080 w 73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448" h="380">
                <a:moveTo>
                  <a:pt x="448" y="80"/>
                </a:moveTo>
                <a:cubicBezTo>
                  <a:pt x="447" y="78"/>
                  <a:pt x="446" y="76"/>
                  <a:pt x="444" y="75"/>
                </a:cubicBezTo>
                <a:cubicBezTo>
                  <a:pt x="280" y="1"/>
                  <a:pt x="280" y="1"/>
                  <a:pt x="280" y="1"/>
                </a:cubicBezTo>
                <a:cubicBezTo>
                  <a:pt x="277" y="0"/>
                  <a:pt x="274" y="1"/>
                  <a:pt x="272" y="2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176" y="2"/>
                  <a:pt x="176" y="2"/>
                  <a:pt x="176" y="2"/>
                </a:cubicBezTo>
                <a:cubicBezTo>
                  <a:pt x="174" y="1"/>
                  <a:pt x="171" y="0"/>
                  <a:pt x="169" y="1"/>
                </a:cubicBezTo>
                <a:cubicBezTo>
                  <a:pt x="4" y="75"/>
                  <a:pt x="4" y="75"/>
                  <a:pt x="4" y="75"/>
                </a:cubicBezTo>
                <a:cubicBezTo>
                  <a:pt x="2" y="76"/>
                  <a:pt x="1" y="78"/>
                  <a:pt x="0" y="80"/>
                </a:cubicBezTo>
                <a:cubicBezTo>
                  <a:pt x="0" y="82"/>
                  <a:pt x="1" y="85"/>
                  <a:pt x="2" y="86"/>
                </a:cubicBezTo>
                <a:cubicBezTo>
                  <a:pt x="54" y="136"/>
                  <a:pt x="54" y="136"/>
                  <a:pt x="54" y="136"/>
                </a:cubicBezTo>
                <a:cubicBezTo>
                  <a:pt x="25" y="188"/>
                  <a:pt x="25" y="188"/>
                  <a:pt x="25" y="188"/>
                </a:cubicBezTo>
                <a:cubicBezTo>
                  <a:pt x="23" y="191"/>
                  <a:pt x="24" y="195"/>
                  <a:pt x="27" y="197"/>
                </a:cubicBezTo>
                <a:cubicBezTo>
                  <a:pt x="56" y="214"/>
                  <a:pt x="56" y="214"/>
                  <a:pt x="56" y="214"/>
                </a:cubicBezTo>
                <a:cubicBezTo>
                  <a:pt x="56" y="280"/>
                  <a:pt x="56" y="280"/>
                  <a:pt x="56" y="280"/>
                </a:cubicBezTo>
                <a:cubicBezTo>
                  <a:pt x="56" y="282"/>
                  <a:pt x="57" y="285"/>
                  <a:pt x="59" y="286"/>
                </a:cubicBezTo>
                <a:cubicBezTo>
                  <a:pt x="221" y="379"/>
                  <a:pt x="221" y="379"/>
                  <a:pt x="221" y="379"/>
                </a:cubicBezTo>
                <a:cubicBezTo>
                  <a:pt x="222" y="380"/>
                  <a:pt x="223" y="380"/>
                  <a:pt x="224" y="380"/>
                </a:cubicBezTo>
                <a:cubicBezTo>
                  <a:pt x="225" y="380"/>
                  <a:pt x="226" y="380"/>
                  <a:pt x="227" y="379"/>
                </a:cubicBezTo>
                <a:cubicBezTo>
                  <a:pt x="227" y="379"/>
                  <a:pt x="227" y="379"/>
                  <a:pt x="227" y="379"/>
                </a:cubicBezTo>
                <a:cubicBezTo>
                  <a:pt x="389" y="286"/>
                  <a:pt x="389" y="286"/>
                  <a:pt x="389" y="286"/>
                </a:cubicBezTo>
                <a:cubicBezTo>
                  <a:pt x="391" y="285"/>
                  <a:pt x="392" y="282"/>
                  <a:pt x="392" y="280"/>
                </a:cubicBezTo>
                <a:cubicBezTo>
                  <a:pt x="392" y="214"/>
                  <a:pt x="392" y="214"/>
                  <a:pt x="392" y="214"/>
                </a:cubicBezTo>
                <a:cubicBezTo>
                  <a:pt x="421" y="197"/>
                  <a:pt x="421" y="197"/>
                  <a:pt x="421" y="197"/>
                </a:cubicBezTo>
                <a:cubicBezTo>
                  <a:pt x="424" y="195"/>
                  <a:pt x="425" y="191"/>
                  <a:pt x="423" y="188"/>
                </a:cubicBezTo>
                <a:cubicBezTo>
                  <a:pt x="394" y="136"/>
                  <a:pt x="394" y="136"/>
                  <a:pt x="394" y="136"/>
                </a:cubicBezTo>
                <a:cubicBezTo>
                  <a:pt x="446" y="86"/>
                  <a:pt x="446" y="86"/>
                  <a:pt x="446" y="86"/>
                </a:cubicBezTo>
                <a:cubicBezTo>
                  <a:pt x="448" y="85"/>
                  <a:pt x="448" y="82"/>
                  <a:pt x="448" y="80"/>
                </a:cubicBezTo>
                <a:close/>
                <a:moveTo>
                  <a:pt x="284" y="184"/>
                </a:moveTo>
                <a:cubicBezTo>
                  <a:pt x="231" y="153"/>
                  <a:pt x="231" y="153"/>
                  <a:pt x="231" y="153"/>
                </a:cubicBezTo>
                <a:cubicBezTo>
                  <a:pt x="231" y="65"/>
                  <a:pt x="231" y="65"/>
                  <a:pt x="231" y="65"/>
                </a:cubicBezTo>
                <a:cubicBezTo>
                  <a:pt x="371" y="136"/>
                  <a:pt x="371" y="136"/>
                  <a:pt x="371" y="136"/>
                </a:cubicBezTo>
                <a:lnTo>
                  <a:pt x="284" y="184"/>
                </a:lnTo>
                <a:close/>
                <a:moveTo>
                  <a:pt x="77" y="136"/>
                </a:moveTo>
                <a:cubicBezTo>
                  <a:pt x="217" y="65"/>
                  <a:pt x="217" y="65"/>
                  <a:pt x="217" y="65"/>
                </a:cubicBezTo>
                <a:cubicBezTo>
                  <a:pt x="217" y="153"/>
                  <a:pt x="217" y="153"/>
                  <a:pt x="217" y="153"/>
                </a:cubicBezTo>
                <a:cubicBezTo>
                  <a:pt x="164" y="184"/>
                  <a:pt x="164" y="184"/>
                  <a:pt x="164" y="184"/>
                </a:cubicBezTo>
                <a:lnTo>
                  <a:pt x="77" y="136"/>
                </a:lnTo>
                <a:close/>
                <a:moveTo>
                  <a:pt x="19" y="83"/>
                </a:moveTo>
                <a:cubicBezTo>
                  <a:pt x="170" y="15"/>
                  <a:pt x="170" y="15"/>
                  <a:pt x="170" y="15"/>
                </a:cubicBezTo>
                <a:cubicBezTo>
                  <a:pt x="212" y="53"/>
                  <a:pt x="212" y="53"/>
                  <a:pt x="212" y="53"/>
                </a:cubicBezTo>
                <a:cubicBezTo>
                  <a:pt x="64" y="127"/>
                  <a:pt x="64" y="127"/>
                  <a:pt x="64" y="127"/>
                </a:cubicBezTo>
                <a:lnTo>
                  <a:pt x="19" y="83"/>
                </a:lnTo>
                <a:close/>
                <a:moveTo>
                  <a:pt x="40" y="189"/>
                </a:moveTo>
                <a:cubicBezTo>
                  <a:pt x="65" y="144"/>
                  <a:pt x="65" y="144"/>
                  <a:pt x="65" y="144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181" y="270"/>
                  <a:pt x="181" y="270"/>
                  <a:pt x="181" y="270"/>
                </a:cubicBezTo>
                <a:lnTo>
                  <a:pt x="40" y="189"/>
                </a:lnTo>
                <a:close/>
                <a:moveTo>
                  <a:pt x="217" y="362"/>
                </a:moveTo>
                <a:cubicBezTo>
                  <a:pt x="69" y="276"/>
                  <a:pt x="69" y="276"/>
                  <a:pt x="69" y="276"/>
                </a:cubicBezTo>
                <a:cubicBezTo>
                  <a:pt x="69" y="221"/>
                  <a:pt x="69" y="221"/>
                  <a:pt x="69" y="221"/>
                </a:cubicBezTo>
                <a:cubicBezTo>
                  <a:pt x="179" y="284"/>
                  <a:pt x="179" y="284"/>
                  <a:pt x="179" y="284"/>
                </a:cubicBezTo>
                <a:cubicBezTo>
                  <a:pt x="180" y="285"/>
                  <a:pt x="182" y="285"/>
                  <a:pt x="183" y="285"/>
                </a:cubicBezTo>
                <a:cubicBezTo>
                  <a:pt x="185" y="285"/>
                  <a:pt x="187" y="284"/>
                  <a:pt x="188" y="282"/>
                </a:cubicBezTo>
                <a:cubicBezTo>
                  <a:pt x="217" y="244"/>
                  <a:pt x="217" y="244"/>
                  <a:pt x="217" y="244"/>
                </a:cubicBezTo>
                <a:lnTo>
                  <a:pt x="217" y="362"/>
                </a:lnTo>
                <a:close/>
                <a:moveTo>
                  <a:pt x="224" y="217"/>
                </a:moveTo>
                <a:cubicBezTo>
                  <a:pt x="178" y="191"/>
                  <a:pt x="178" y="191"/>
                  <a:pt x="178" y="191"/>
                </a:cubicBezTo>
                <a:cubicBezTo>
                  <a:pt x="224" y="165"/>
                  <a:pt x="224" y="165"/>
                  <a:pt x="224" y="165"/>
                </a:cubicBezTo>
                <a:cubicBezTo>
                  <a:pt x="270" y="191"/>
                  <a:pt x="270" y="191"/>
                  <a:pt x="270" y="191"/>
                </a:cubicBezTo>
                <a:lnTo>
                  <a:pt x="224" y="217"/>
                </a:lnTo>
                <a:close/>
                <a:moveTo>
                  <a:pt x="379" y="276"/>
                </a:moveTo>
                <a:cubicBezTo>
                  <a:pt x="231" y="362"/>
                  <a:pt x="231" y="362"/>
                  <a:pt x="231" y="362"/>
                </a:cubicBezTo>
                <a:cubicBezTo>
                  <a:pt x="231" y="244"/>
                  <a:pt x="231" y="244"/>
                  <a:pt x="231" y="244"/>
                </a:cubicBezTo>
                <a:cubicBezTo>
                  <a:pt x="260" y="282"/>
                  <a:pt x="260" y="282"/>
                  <a:pt x="260" y="282"/>
                </a:cubicBezTo>
                <a:cubicBezTo>
                  <a:pt x="261" y="284"/>
                  <a:pt x="263" y="285"/>
                  <a:pt x="265" y="285"/>
                </a:cubicBezTo>
                <a:cubicBezTo>
                  <a:pt x="267" y="285"/>
                  <a:pt x="268" y="285"/>
                  <a:pt x="269" y="284"/>
                </a:cubicBezTo>
                <a:cubicBezTo>
                  <a:pt x="379" y="221"/>
                  <a:pt x="379" y="221"/>
                  <a:pt x="379" y="221"/>
                </a:cubicBezTo>
                <a:lnTo>
                  <a:pt x="379" y="276"/>
                </a:lnTo>
                <a:close/>
                <a:moveTo>
                  <a:pt x="408" y="189"/>
                </a:moveTo>
                <a:cubicBezTo>
                  <a:pt x="267" y="270"/>
                  <a:pt x="267" y="270"/>
                  <a:pt x="267" y="270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383" y="144"/>
                  <a:pt x="383" y="144"/>
                  <a:pt x="383" y="144"/>
                </a:cubicBezTo>
                <a:lnTo>
                  <a:pt x="408" y="189"/>
                </a:lnTo>
                <a:close/>
                <a:moveTo>
                  <a:pt x="384" y="127"/>
                </a:moveTo>
                <a:cubicBezTo>
                  <a:pt x="236" y="53"/>
                  <a:pt x="236" y="53"/>
                  <a:pt x="236" y="53"/>
                </a:cubicBezTo>
                <a:cubicBezTo>
                  <a:pt x="278" y="15"/>
                  <a:pt x="278" y="15"/>
                  <a:pt x="278" y="15"/>
                </a:cubicBezTo>
                <a:cubicBezTo>
                  <a:pt x="430" y="83"/>
                  <a:pt x="430" y="83"/>
                  <a:pt x="430" y="83"/>
                </a:cubicBezTo>
                <a:lnTo>
                  <a:pt x="38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346" h="346">
                  <a:moveTo>
                    <a:pt x="341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44"/>
                    <a:pt x="2" y="346"/>
                    <a:pt x="6" y="346"/>
                  </a:cubicBezTo>
                  <a:cubicBezTo>
                    <a:pt x="341" y="346"/>
                    <a:pt x="341" y="346"/>
                    <a:pt x="341" y="346"/>
                  </a:cubicBezTo>
                  <a:cubicBezTo>
                    <a:pt x="344" y="346"/>
                    <a:pt x="346" y="344"/>
                    <a:pt x="346" y="341"/>
                  </a:cubicBezTo>
                  <a:cubicBezTo>
                    <a:pt x="346" y="5"/>
                    <a:pt x="346" y="5"/>
                    <a:pt x="346" y="5"/>
                  </a:cubicBezTo>
                  <a:cubicBezTo>
                    <a:pt x="346" y="2"/>
                    <a:pt x="344" y="0"/>
                    <a:pt x="341" y="0"/>
                  </a:cubicBezTo>
                  <a:close/>
                  <a:moveTo>
                    <a:pt x="11" y="76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4" y="270"/>
                    <a:pt x="64" y="270"/>
                    <a:pt x="64" y="270"/>
                  </a:cubicBezTo>
                  <a:cubicBezTo>
                    <a:pt x="11" y="270"/>
                    <a:pt x="11" y="270"/>
                    <a:pt x="11" y="270"/>
                  </a:cubicBezTo>
                  <a:lnTo>
                    <a:pt x="11" y="76"/>
                  </a:lnTo>
                  <a:close/>
                  <a:moveTo>
                    <a:pt x="335" y="335"/>
                  </a:moveTo>
                  <a:cubicBezTo>
                    <a:pt x="11" y="335"/>
                    <a:pt x="11" y="335"/>
                    <a:pt x="11" y="335"/>
                  </a:cubicBezTo>
                  <a:cubicBezTo>
                    <a:pt x="11" y="282"/>
                    <a:pt x="11" y="282"/>
                    <a:pt x="11" y="282"/>
                  </a:cubicBezTo>
                  <a:cubicBezTo>
                    <a:pt x="335" y="282"/>
                    <a:pt x="335" y="282"/>
                    <a:pt x="335" y="282"/>
                  </a:cubicBezTo>
                  <a:lnTo>
                    <a:pt x="335" y="335"/>
                  </a:lnTo>
                  <a:close/>
                  <a:moveTo>
                    <a:pt x="243" y="76"/>
                  </a:moveTo>
                  <a:cubicBezTo>
                    <a:pt x="270" y="76"/>
                    <a:pt x="270" y="76"/>
                    <a:pt x="270" y="7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103" y="270"/>
                    <a:pt x="103" y="270"/>
                    <a:pt x="103" y="270"/>
                  </a:cubicBezTo>
                  <a:cubicBezTo>
                    <a:pt x="76" y="270"/>
                    <a:pt x="76" y="270"/>
                    <a:pt x="76" y="270"/>
                  </a:cubicBezTo>
                  <a:cubicBezTo>
                    <a:pt x="76" y="249"/>
                    <a:pt x="76" y="249"/>
                    <a:pt x="76" y="249"/>
                  </a:cubicBezTo>
                  <a:lnTo>
                    <a:pt x="243" y="76"/>
                  </a:lnTo>
                  <a:close/>
                  <a:moveTo>
                    <a:pt x="76" y="233"/>
                  </a:moveTo>
                  <a:cubicBezTo>
                    <a:pt x="76" y="76"/>
                    <a:pt x="76" y="76"/>
                    <a:pt x="76" y="76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132" y="174"/>
                    <a:pt x="132" y="174"/>
                    <a:pt x="132" y="174"/>
                  </a:cubicBezTo>
                  <a:lnTo>
                    <a:pt x="76" y="233"/>
                  </a:lnTo>
                  <a:close/>
                  <a:moveTo>
                    <a:pt x="144" y="162"/>
                  </a:moveTo>
                  <a:cubicBezTo>
                    <a:pt x="144" y="76"/>
                    <a:pt x="144" y="76"/>
                    <a:pt x="144" y="76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3" y="102"/>
                    <a:pt x="203" y="102"/>
                    <a:pt x="203" y="102"/>
                  </a:cubicBezTo>
                  <a:lnTo>
                    <a:pt x="144" y="162"/>
                  </a:lnTo>
                  <a:close/>
                  <a:moveTo>
                    <a:pt x="214" y="90"/>
                  </a:moveTo>
                  <a:cubicBezTo>
                    <a:pt x="214" y="76"/>
                    <a:pt x="214" y="76"/>
                    <a:pt x="214" y="76"/>
                  </a:cubicBezTo>
                  <a:cubicBezTo>
                    <a:pt x="227" y="76"/>
                    <a:pt x="227" y="76"/>
                    <a:pt x="227" y="76"/>
                  </a:cubicBezTo>
                  <a:lnTo>
                    <a:pt x="214" y="90"/>
                  </a:lnTo>
                  <a:close/>
                  <a:moveTo>
                    <a:pt x="214" y="172"/>
                  </a:moveTo>
                  <a:cubicBezTo>
                    <a:pt x="270" y="113"/>
                    <a:pt x="270" y="113"/>
                    <a:pt x="270" y="113"/>
                  </a:cubicBezTo>
                  <a:cubicBezTo>
                    <a:pt x="270" y="270"/>
                    <a:pt x="270" y="270"/>
                    <a:pt x="270" y="270"/>
                  </a:cubicBezTo>
                  <a:cubicBezTo>
                    <a:pt x="214" y="270"/>
                    <a:pt x="214" y="270"/>
                    <a:pt x="214" y="270"/>
                  </a:cubicBezTo>
                  <a:cubicBezTo>
                    <a:pt x="214" y="172"/>
                    <a:pt x="214" y="172"/>
                    <a:pt x="214" y="172"/>
                  </a:cubicBezTo>
                  <a:close/>
                  <a:moveTo>
                    <a:pt x="203" y="183"/>
                  </a:moveTo>
                  <a:cubicBezTo>
                    <a:pt x="203" y="270"/>
                    <a:pt x="203" y="270"/>
                    <a:pt x="203" y="270"/>
                  </a:cubicBezTo>
                  <a:cubicBezTo>
                    <a:pt x="144" y="270"/>
                    <a:pt x="144" y="270"/>
                    <a:pt x="144" y="270"/>
                  </a:cubicBezTo>
                  <a:cubicBezTo>
                    <a:pt x="144" y="244"/>
                    <a:pt x="144" y="244"/>
                    <a:pt x="144" y="244"/>
                  </a:cubicBezTo>
                  <a:lnTo>
                    <a:pt x="203" y="183"/>
                  </a:lnTo>
                  <a:close/>
                  <a:moveTo>
                    <a:pt x="132" y="256"/>
                  </a:moveTo>
                  <a:cubicBezTo>
                    <a:pt x="132" y="270"/>
                    <a:pt x="132" y="270"/>
                    <a:pt x="132" y="270"/>
                  </a:cubicBezTo>
                  <a:cubicBezTo>
                    <a:pt x="119" y="270"/>
                    <a:pt x="119" y="270"/>
                    <a:pt x="119" y="270"/>
                  </a:cubicBezTo>
                  <a:lnTo>
                    <a:pt x="132" y="256"/>
                  </a:lnTo>
                  <a:close/>
                  <a:moveTo>
                    <a:pt x="335" y="270"/>
                  </a:moveTo>
                  <a:cubicBezTo>
                    <a:pt x="282" y="270"/>
                    <a:pt x="282" y="270"/>
                    <a:pt x="282" y="270"/>
                  </a:cubicBezTo>
                  <a:cubicBezTo>
                    <a:pt x="282" y="76"/>
                    <a:pt x="282" y="76"/>
                    <a:pt x="282" y="76"/>
                  </a:cubicBezTo>
                  <a:cubicBezTo>
                    <a:pt x="335" y="76"/>
                    <a:pt x="335" y="76"/>
                    <a:pt x="335" y="76"/>
                  </a:cubicBezTo>
                  <a:lnTo>
                    <a:pt x="335" y="270"/>
                  </a:lnTo>
                  <a:close/>
                  <a:moveTo>
                    <a:pt x="335" y="64"/>
                  </a:moveTo>
                  <a:cubicBezTo>
                    <a:pt x="11" y="64"/>
                    <a:pt x="11" y="64"/>
                    <a:pt x="11" y="64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335" y="11"/>
                    <a:pt x="335" y="11"/>
                    <a:pt x="335" y="11"/>
                  </a:cubicBezTo>
                  <a:lnTo>
                    <a:pt x="33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custGeom>
            <a:avLst/>
            <a:gdLst>
              <a:gd name="textAreaLeft" fmla="*/ 0 w 682560"/>
              <a:gd name="textAreaRight" fmla="*/ 682920 w 68256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419" h="333">
                <a:moveTo>
                  <a:pt x="4" y="238"/>
                </a:moveTo>
                <a:cubicBezTo>
                  <a:pt x="269" y="333"/>
                  <a:pt x="269" y="333"/>
                  <a:pt x="269" y="333"/>
                </a:cubicBezTo>
                <a:cubicBezTo>
                  <a:pt x="270" y="333"/>
                  <a:pt x="270" y="333"/>
                  <a:pt x="271" y="333"/>
                </a:cubicBezTo>
                <a:cubicBezTo>
                  <a:pt x="273" y="333"/>
                  <a:pt x="274" y="332"/>
                  <a:pt x="275" y="332"/>
                </a:cubicBezTo>
                <a:cubicBezTo>
                  <a:pt x="275" y="332"/>
                  <a:pt x="352" y="270"/>
                  <a:pt x="416" y="218"/>
                </a:cubicBezTo>
                <a:cubicBezTo>
                  <a:pt x="418" y="217"/>
                  <a:pt x="419" y="215"/>
                  <a:pt x="419" y="213"/>
                </a:cubicBezTo>
                <a:cubicBezTo>
                  <a:pt x="419" y="100"/>
                  <a:pt x="419" y="100"/>
                  <a:pt x="419" y="100"/>
                </a:cubicBezTo>
                <a:cubicBezTo>
                  <a:pt x="419" y="99"/>
                  <a:pt x="419" y="99"/>
                  <a:pt x="419" y="99"/>
                </a:cubicBezTo>
                <a:cubicBezTo>
                  <a:pt x="418" y="96"/>
                  <a:pt x="416" y="94"/>
                  <a:pt x="414" y="93"/>
                </a:cubicBezTo>
                <a:cubicBezTo>
                  <a:pt x="147" y="1"/>
                  <a:pt x="147" y="1"/>
                  <a:pt x="147" y="1"/>
                </a:cubicBezTo>
                <a:cubicBezTo>
                  <a:pt x="145" y="0"/>
                  <a:pt x="143" y="1"/>
                  <a:pt x="141" y="2"/>
                </a:cubicBezTo>
                <a:cubicBezTo>
                  <a:pt x="2" y="107"/>
                  <a:pt x="2" y="107"/>
                  <a:pt x="2" y="107"/>
                </a:cubicBezTo>
                <a:cubicBezTo>
                  <a:pt x="1" y="108"/>
                  <a:pt x="0" y="109"/>
                  <a:pt x="0" y="112"/>
                </a:cubicBezTo>
                <a:cubicBezTo>
                  <a:pt x="0" y="232"/>
                  <a:pt x="0" y="232"/>
                  <a:pt x="0" y="232"/>
                </a:cubicBezTo>
                <a:cubicBezTo>
                  <a:pt x="0" y="235"/>
                  <a:pt x="1" y="237"/>
                  <a:pt x="4" y="238"/>
                </a:cubicBezTo>
                <a:close/>
                <a:moveTo>
                  <a:pt x="22" y="110"/>
                </a:moveTo>
                <a:cubicBezTo>
                  <a:pt x="59" y="82"/>
                  <a:pt x="59" y="82"/>
                  <a:pt x="59" y="82"/>
                </a:cubicBezTo>
                <a:cubicBezTo>
                  <a:pt x="304" y="172"/>
                  <a:pt x="304" y="172"/>
                  <a:pt x="304" y="172"/>
                </a:cubicBezTo>
                <a:cubicBezTo>
                  <a:pt x="272" y="197"/>
                  <a:pt x="272" y="197"/>
                  <a:pt x="272" y="197"/>
                </a:cubicBezTo>
                <a:lnTo>
                  <a:pt x="22" y="110"/>
                </a:lnTo>
                <a:close/>
                <a:moveTo>
                  <a:pt x="370" y="140"/>
                </a:moveTo>
                <a:cubicBezTo>
                  <a:pt x="404" y="114"/>
                  <a:pt x="404" y="114"/>
                  <a:pt x="404" y="114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278" y="311"/>
                  <a:pt x="278" y="311"/>
                  <a:pt x="278" y="311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311" y="185"/>
                  <a:pt x="311" y="185"/>
                  <a:pt x="311" y="185"/>
                </a:cubicBezTo>
                <a:cubicBezTo>
                  <a:pt x="311" y="223"/>
                  <a:pt x="311" y="223"/>
                  <a:pt x="311" y="223"/>
                </a:cubicBezTo>
                <a:cubicBezTo>
                  <a:pt x="311" y="226"/>
                  <a:pt x="313" y="229"/>
                  <a:pt x="315" y="230"/>
                </a:cubicBezTo>
                <a:cubicBezTo>
                  <a:pt x="318" y="231"/>
                  <a:pt x="321" y="231"/>
                  <a:pt x="323" y="229"/>
                </a:cubicBezTo>
                <a:cubicBezTo>
                  <a:pt x="367" y="196"/>
                  <a:pt x="367" y="196"/>
                  <a:pt x="367" y="196"/>
                </a:cubicBezTo>
                <a:cubicBezTo>
                  <a:pt x="369" y="195"/>
                  <a:pt x="370" y="193"/>
                  <a:pt x="370" y="190"/>
                </a:cubicBezTo>
                <a:lnTo>
                  <a:pt x="370" y="140"/>
                </a:lnTo>
                <a:close/>
                <a:moveTo>
                  <a:pt x="326" y="209"/>
                </a:moveTo>
                <a:cubicBezTo>
                  <a:pt x="326" y="170"/>
                  <a:pt x="326" y="170"/>
                  <a:pt x="326" y="170"/>
                </a:cubicBezTo>
                <a:cubicBezTo>
                  <a:pt x="326" y="167"/>
                  <a:pt x="324" y="165"/>
                  <a:pt x="321" y="164"/>
                </a:cubicBezTo>
                <a:cubicBezTo>
                  <a:pt x="73" y="72"/>
                  <a:pt x="73" y="72"/>
                  <a:pt x="73" y="72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6" y="187"/>
                  <a:pt x="356" y="187"/>
                  <a:pt x="356" y="187"/>
                </a:cubicBezTo>
                <a:lnTo>
                  <a:pt x="326" y="209"/>
                </a:lnTo>
                <a:close/>
                <a:moveTo>
                  <a:pt x="121" y="35"/>
                </a:moveTo>
                <a:cubicBezTo>
                  <a:pt x="146" y="16"/>
                  <a:pt x="146" y="16"/>
                  <a:pt x="146" y="16"/>
                </a:cubicBezTo>
                <a:cubicBezTo>
                  <a:pt x="397" y="102"/>
                  <a:pt x="397" y="102"/>
                  <a:pt x="397" y="102"/>
                </a:cubicBezTo>
                <a:cubicBezTo>
                  <a:pt x="362" y="129"/>
                  <a:pt x="362" y="129"/>
                  <a:pt x="362" y="129"/>
                </a:cubicBezTo>
                <a:lnTo>
                  <a:pt x="121" y="35"/>
                </a:lnTo>
                <a:close/>
                <a:moveTo>
                  <a:pt x="14" y="227"/>
                </a:moveTo>
                <a:cubicBezTo>
                  <a:pt x="14" y="122"/>
                  <a:pt x="14" y="122"/>
                  <a:pt x="14" y="122"/>
                </a:cubicBezTo>
                <a:cubicBezTo>
                  <a:pt x="264" y="209"/>
                  <a:pt x="264" y="209"/>
                  <a:pt x="264" y="209"/>
                </a:cubicBezTo>
                <a:cubicBezTo>
                  <a:pt x="264" y="316"/>
                  <a:pt x="264" y="316"/>
                  <a:pt x="264" y="316"/>
                </a:cubicBezTo>
                <a:lnTo>
                  <a:pt x="14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407" h="348">
                  <a:moveTo>
                    <a:pt x="401" y="55"/>
                  </a:moveTo>
                  <a:cubicBezTo>
                    <a:pt x="401" y="55"/>
                    <a:pt x="401" y="55"/>
                    <a:pt x="401" y="55"/>
                  </a:cubicBezTo>
                  <a:cubicBezTo>
                    <a:pt x="388" y="52"/>
                    <a:pt x="207" y="0"/>
                    <a:pt x="206" y="0"/>
                  </a:cubicBezTo>
                  <a:cubicBezTo>
                    <a:pt x="205" y="0"/>
                    <a:pt x="203" y="0"/>
                    <a:pt x="202" y="0"/>
                  </a:cubicBezTo>
                  <a:cubicBezTo>
                    <a:pt x="200" y="1"/>
                    <a:pt x="7" y="55"/>
                    <a:pt x="6" y="56"/>
                  </a:cubicBezTo>
                  <a:cubicBezTo>
                    <a:pt x="4" y="56"/>
                    <a:pt x="0" y="58"/>
                    <a:pt x="0" y="63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3"/>
                    <a:pt x="2" y="266"/>
                    <a:pt x="5" y="267"/>
                  </a:cubicBezTo>
                  <a:cubicBezTo>
                    <a:pt x="201" y="348"/>
                    <a:pt x="201" y="348"/>
                    <a:pt x="201" y="348"/>
                  </a:cubicBezTo>
                  <a:cubicBezTo>
                    <a:pt x="201" y="348"/>
                    <a:pt x="202" y="348"/>
                    <a:pt x="203" y="348"/>
                  </a:cubicBezTo>
                  <a:cubicBezTo>
                    <a:pt x="203" y="348"/>
                    <a:pt x="203" y="348"/>
                    <a:pt x="203" y="348"/>
                  </a:cubicBezTo>
                  <a:cubicBezTo>
                    <a:pt x="203" y="348"/>
                    <a:pt x="203" y="348"/>
                    <a:pt x="204" y="348"/>
                  </a:cubicBezTo>
                  <a:cubicBezTo>
                    <a:pt x="204" y="348"/>
                    <a:pt x="204" y="348"/>
                    <a:pt x="205" y="348"/>
                  </a:cubicBezTo>
                  <a:cubicBezTo>
                    <a:pt x="205" y="348"/>
                    <a:pt x="205" y="348"/>
                    <a:pt x="205" y="348"/>
                  </a:cubicBezTo>
                  <a:cubicBezTo>
                    <a:pt x="206" y="348"/>
                    <a:pt x="206" y="348"/>
                    <a:pt x="207" y="348"/>
                  </a:cubicBezTo>
                  <a:cubicBezTo>
                    <a:pt x="403" y="267"/>
                    <a:pt x="403" y="267"/>
                    <a:pt x="403" y="267"/>
                  </a:cubicBezTo>
                  <a:cubicBezTo>
                    <a:pt x="405" y="266"/>
                    <a:pt x="407" y="263"/>
                    <a:pt x="407" y="260"/>
                  </a:cubicBezTo>
                  <a:cubicBezTo>
                    <a:pt x="407" y="63"/>
                    <a:pt x="407" y="63"/>
                    <a:pt x="407" y="63"/>
                  </a:cubicBezTo>
                  <a:cubicBezTo>
                    <a:pt x="407" y="62"/>
                    <a:pt x="407" y="57"/>
                    <a:pt x="401" y="55"/>
                  </a:cubicBezTo>
                  <a:close/>
                  <a:moveTo>
                    <a:pt x="196" y="329"/>
                  </a:moveTo>
                  <a:cubicBezTo>
                    <a:pt x="16" y="255"/>
                    <a:pt x="16" y="255"/>
                    <a:pt x="16" y="255"/>
                  </a:cubicBezTo>
                  <a:cubicBezTo>
                    <a:pt x="16" y="74"/>
                    <a:pt x="16" y="74"/>
                    <a:pt x="16" y="74"/>
                  </a:cubicBezTo>
                  <a:cubicBezTo>
                    <a:pt x="196" y="140"/>
                    <a:pt x="196" y="140"/>
                    <a:pt x="196" y="140"/>
                  </a:cubicBezTo>
                  <a:lnTo>
                    <a:pt x="196" y="329"/>
                  </a:lnTo>
                  <a:close/>
                  <a:moveTo>
                    <a:pt x="204" y="105"/>
                  </a:moveTo>
                  <a:cubicBezTo>
                    <a:pt x="200" y="105"/>
                    <a:pt x="196" y="109"/>
                    <a:pt x="196" y="113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6" y="122"/>
                    <a:pt x="196" y="122"/>
                    <a:pt x="197" y="123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196" y="17"/>
                    <a:pt x="196" y="17"/>
                    <a:pt x="196" y="17"/>
                  </a:cubicBezTo>
                  <a:cubicBezTo>
                    <a:pt x="197" y="18"/>
                    <a:pt x="197" y="18"/>
                    <a:pt x="197" y="18"/>
                  </a:cubicBezTo>
                  <a:cubicBezTo>
                    <a:pt x="198" y="21"/>
                    <a:pt x="200" y="23"/>
                    <a:pt x="204" y="23"/>
                  </a:cubicBezTo>
                  <a:cubicBezTo>
                    <a:pt x="207" y="23"/>
                    <a:pt x="210" y="21"/>
                    <a:pt x="211" y="18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375" y="64"/>
                    <a:pt x="375" y="64"/>
                    <a:pt x="375" y="64"/>
                  </a:cubicBezTo>
                  <a:cubicBezTo>
                    <a:pt x="211" y="124"/>
                    <a:pt x="211" y="124"/>
                    <a:pt x="211" y="124"/>
                  </a:cubicBezTo>
                  <a:cubicBezTo>
                    <a:pt x="211" y="123"/>
                    <a:pt x="211" y="123"/>
                    <a:pt x="211" y="123"/>
                  </a:cubicBezTo>
                  <a:cubicBezTo>
                    <a:pt x="211" y="122"/>
                    <a:pt x="211" y="122"/>
                    <a:pt x="211" y="121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11" y="109"/>
                    <a:pt x="208" y="105"/>
                    <a:pt x="204" y="105"/>
                  </a:cubicBezTo>
                  <a:close/>
                  <a:moveTo>
                    <a:pt x="392" y="255"/>
                  </a:moveTo>
                  <a:cubicBezTo>
                    <a:pt x="211" y="329"/>
                    <a:pt x="211" y="329"/>
                    <a:pt x="211" y="329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392" y="74"/>
                    <a:pt x="392" y="74"/>
                    <a:pt x="392" y="74"/>
                  </a:cubicBezTo>
                  <a:lnTo>
                    <a:pt x="39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5" h="23">
                  <a:moveTo>
                    <a:pt x="8" y="23"/>
                  </a:moveTo>
                  <a:cubicBezTo>
                    <a:pt x="12" y="23"/>
                    <a:pt x="15" y="20"/>
                    <a:pt x="15" y="16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23">
                  <a:moveTo>
                    <a:pt x="15" y="8"/>
                  </a:move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ubicBezTo>
                    <a:pt x="12" y="23"/>
                    <a:pt x="15" y="20"/>
                    <a:pt x="15" y="16"/>
                  </a:cubicBez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18" h="112">
                  <a:moveTo>
                    <a:pt x="112" y="26"/>
                  </a:moveTo>
                  <a:cubicBezTo>
                    <a:pt x="108" y="22"/>
                    <a:pt x="102" y="19"/>
                    <a:pt x="95" y="20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5"/>
                    <a:pt x="90" y="0"/>
                    <a:pt x="83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8" y="0"/>
                    <a:pt x="23" y="5"/>
                    <a:pt x="23" y="12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6" y="19"/>
                    <a:pt x="10" y="22"/>
                    <a:pt x="6" y="26"/>
                  </a:cubicBezTo>
                  <a:cubicBezTo>
                    <a:pt x="1" y="32"/>
                    <a:pt x="0" y="39"/>
                    <a:pt x="3" y="45"/>
                  </a:cubicBezTo>
                  <a:cubicBezTo>
                    <a:pt x="7" y="53"/>
                    <a:pt x="14" y="57"/>
                    <a:pt x="24" y="58"/>
                  </a:cubicBezTo>
                  <a:cubicBezTo>
                    <a:pt x="28" y="74"/>
                    <a:pt x="40" y="86"/>
                    <a:pt x="55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104"/>
                    <a:pt x="55" y="104"/>
                    <a:pt x="55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5" y="104"/>
                    <a:pt x="43" y="106"/>
                    <a:pt x="43" y="108"/>
                  </a:cubicBezTo>
                  <a:cubicBezTo>
                    <a:pt x="43" y="110"/>
                    <a:pt x="45" y="112"/>
                    <a:pt x="47" y="112"/>
                  </a:cubicBezTo>
                  <a:cubicBezTo>
                    <a:pt x="71" y="112"/>
                    <a:pt x="71" y="112"/>
                    <a:pt x="71" y="112"/>
                  </a:cubicBezTo>
                  <a:cubicBezTo>
                    <a:pt x="73" y="112"/>
                    <a:pt x="75" y="110"/>
                    <a:pt x="75" y="108"/>
                  </a:cubicBezTo>
                  <a:cubicBezTo>
                    <a:pt x="75" y="106"/>
                    <a:pt x="73" y="104"/>
                    <a:pt x="71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8" y="86"/>
                    <a:pt x="90" y="74"/>
                    <a:pt x="94" y="58"/>
                  </a:cubicBezTo>
                  <a:cubicBezTo>
                    <a:pt x="104" y="57"/>
                    <a:pt x="111" y="53"/>
                    <a:pt x="115" y="45"/>
                  </a:cubicBezTo>
                  <a:cubicBezTo>
                    <a:pt x="118" y="39"/>
                    <a:pt x="117" y="32"/>
                    <a:pt x="112" y="26"/>
                  </a:cubicBezTo>
                  <a:close/>
                  <a:moveTo>
                    <a:pt x="11" y="42"/>
                  </a:moveTo>
                  <a:cubicBezTo>
                    <a:pt x="9" y="39"/>
                    <a:pt x="9" y="34"/>
                    <a:pt x="12" y="31"/>
                  </a:cubicBezTo>
                  <a:cubicBezTo>
                    <a:pt x="14" y="29"/>
                    <a:pt x="18" y="28"/>
                    <a:pt x="23" y="2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49"/>
                    <a:pt x="23" y="49"/>
                    <a:pt x="23" y="50"/>
                  </a:cubicBezTo>
                  <a:cubicBezTo>
                    <a:pt x="17" y="49"/>
                    <a:pt x="13" y="46"/>
                    <a:pt x="11" y="42"/>
                  </a:cubicBezTo>
                  <a:close/>
                  <a:moveTo>
                    <a:pt x="87" y="16"/>
                  </a:moveTo>
                  <a:cubicBezTo>
                    <a:pt x="87" y="48"/>
                    <a:pt x="87" y="48"/>
                    <a:pt x="87" y="48"/>
                  </a:cubicBezTo>
                  <a:cubicBezTo>
                    <a:pt x="87" y="66"/>
                    <a:pt x="74" y="80"/>
                    <a:pt x="59" y="80"/>
                  </a:cubicBezTo>
                  <a:cubicBezTo>
                    <a:pt x="44" y="80"/>
                    <a:pt x="31" y="66"/>
                    <a:pt x="31" y="48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0"/>
                    <a:pt x="33" y="8"/>
                    <a:pt x="3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8"/>
                    <a:pt x="87" y="10"/>
                    <a:pt x="87" y="12"/>
                  </a:cubicBezTo>
                  <a:lnTo>
                    <a:pt x="87" y="16"/>
                  </a:lnTo>
                  <a:close/>
                  <a:moveTo>
                    <a:pt x="107" y="42"/>
                  </a:moveTo>
                  <a:cubicBezTo>
                    <a:pt x="105" y="46"/>
                    <a:pt x="101" y="49"/>
                    <a:pt x="95" y="50"/>
                  </a:cubicBezTo>
                  <a:cubicBezTo>
                    <a:pt x="95" y="49"/>
                    <a:pt x="95" y="49"/>
                    <a:pt x="95" y="48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100" y="28"/>
                    <a:pt x="104" y="29"/>
                    <a:pt x="106" y="31"/>
                  </a:cubicBezTo>
                  <a:cubicBezTo>
                    <a:pt x="109" y="34"/>
                    <a:pt x="109" y="39"/>
                    <a:pt x="107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custGeom>
            <a:avLst/>
            <a:gdLst>
              <a:gd name="textAreaLeft" fmla="*/ 0 w 5499360"/>
              <a:gd name="textAreaRight" fmla="*/ 5499720 w 5499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custGeom>
            <a:avLst/>
            <a:gdLst>
              <a:gd name="textAreaLeft" fmla="*/ 0 w 5681880"/>
              <a:gd name="textAreaRight" fmla="*/ 5682240 w 568188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5681561" h="858209">
                <a:moveTo>
                  <a:pt x="5681560" y="0"/>
                </a:moveTo>
                <a:lnTo>
                  <a:pt x="5681561" y="858209"/>
                </a:lnTo>
                <a:lnTo>
                  <a:pt x="1098652" y="858209"/>
                </a:lnTo>
                <a:lnTo>
                  <a:pt x="0" y="234604"/>
                </a:lnTo>
                <a:lnTo>
                  <a:pt x="126374" y="11961"/>
                </a:lnTo>
                <a:lnTo>
                  <a:pt x="568156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4375011" h="858209">
                <a:moveTo>
                  <a:pt x="4375011" y="0"/>
                </a:moveTo>
                <a:lnTo>
                  <a:pt x="4375011" y="858209"/>
                </a:lnTo>
                <a:lnTo>
                  <a:pt x="1511972" y="858209"/>
                </a:lnTo>
                <a:lnTo>
                  <a:pt x="0" y="0"/>
                </a:lnTo>
                <a:lnTo>
                  <a:pt x="4375011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85" h="242">
                <a:moveTo>
                  <a:pt x="185" y="93"/>
                </a:moveTo>
                <a:lnTo>
                  <a:pt x="0" y="242"/>
                </a:lnTo>
                <a:lnTo>
                  <a:pt x="0" y="82"/>
                </a:lnTo>
                <a:lnTo>
                  <a:pt x="185" y="0"/>
                </a:lnTo>
                <a:lnTo>
                  <a:pt x="185" y="93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custGeom>
            <a:avLst/>
            <a:gdLst>
              <a:gd name="textAreaLeft" fmla="*/ 0 w 992160"/>
              <a:gd name="textAreaRight" fmla="*/ 992520 w 99216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5" h="165">
                <a:moveTo>
                  <a:pt x="0" y="5"/>
                </a:moveTo>
                <a:lnTo>
                  <a:pt x="0" y="165"/>
                </a:lnTo>
                <a:lnTo>
                  <a:pt x="185" y="93"/>
                </a:lnTo>
                <a:lnTo>
                  <a:pt x="18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custGeom>
            <a:avLst/>
            <a:gdLst>
              <a:gd name="textAreaLeft" fmla="*/ 0 w 992160"/>
              <a:gd name="textAreaRight" fmla="*/ 992520 w 9921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55" h="177">
                <a:moveTo>
                  <a:pt x="455" y="0"/>
                </a:moveTo>
                <a:lnTo>
                  <a:pt x="287" y="0"/>
                </a:lnTo>
                <a:lnTo>
                  <a:pt x="0" y="0"/>
                </a:lnTo>
                <a:lnTo>
                  <a:pt x="0" y="93"/>
                </a:lnTo>
                <a:lnTo>
                  <a:pt x="287" y="93"/>
                </a:lnTo>
                <a:lnTo>
                  <a:pt x="287" y="177"/>
                </a:lnTo>
                <a:lnTo>
                  <a:pt x="455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35" h="39">
                <a:moveTo>
                  <a:pt x="121" y="0"/>
                </a:move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47" y="39"/>
                  <a:pt x="172" y="39"/>
                  <a:pt x="197" y="39"/>
                </a:cubicBezTo>
                <a:cubicBezTo>
                  <a:pt x="235" y="0"/>
                  <a:pt x="235" y="0"/>
                  <a:pt x="235" y="0"/>
                </a:cubicBezTo>
                <a:cubicBezTo>
                  <a:pt x="197" y="0"/>
                  <a:pt x="159" y="0"/>
                  <a:pt x="121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4" h="2187">
                <a:moveTo>
                  <a:pt x="0" y="0"/>
                </a:moveTo>
                <a:lnTo>
                  <a:pt x="254" y="0"/>
                </a:lnTo>
                <a:lnTo>
                  <a:pt x="254" y="2187"/>
                </a:lnTo>
                <a:lnTo>
                  <a:pt x="0" y="2187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custGeom>
            <a:avLst/>
            <a:gdLst>
              <a:gd name="textAreaLeft" fmla="*/ 0 w 4675320"/>
              <a:gd name="textAreaRight" fmla="*/ 4675680 w 4675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945" h="254">
                <a:moveTo>
                  <a:pt x="2945" y="0"/>
                </a:moveTo>
                <a:lnTo>
                  <a:pt x="2945" y="254"/>
                </a:lnTo>
                <a:lnTo>
                  <a:pt x="0" y="254"/>
                </a:lnTo>
                <a:lnTo>
                  <a:pt x="0" y="0"/>
                </a:lnTo>
                <a:lnTo>
                  <a:pt x="2945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0630" h="1839772">
                <a:moveTo>
                  <a:pt x="2377530" y="0"/>
                </a:moveTo>
                <a:lnTo>
                  <a:pt x="2470630" y="0"/>
                </a:lnTo>
                <a:lnTo>
                  <a:pt x="2470630" y="1839772"/>
                </a:lnTo>
                <a:lnTo>
                  <a:pt x="0" y="1839772"/>
                </a:lnTo>
                <a:lnTo>
                  <a:pt x="0" y="1746672"/>
                </a:lnTo>
                <a:lnTo>
                  <a:pt x="2377530" y="1746672"/>
                </a:lnTo>
                <a:lnTo>
                  <a:pt x="237753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4707425" h="438394">
                <a:moveTo>
                  <a:pt x="4669325" y="0"/>
                </a:moveTo>
                <a:lnTo>
                  <a:pt x="4707425" y="35169"/>
                </a:lnTo>
                <a:lnTo>
                  <a:pt x="4707425" y="438394"/>
                </a:lnTo>
                <a:lnTo>
                  <a:pt x="32238" y="438394"/>
                </a:lnTo>
                <a:lnTo>
                  <a:pt x="0" y="400294"/>
                </a:lnTo>
                <a:lnTo>
                  <a:pt x="4669325" y="400294"/>
                </a:lnTo>
                <a:lnTo>
                  <a:pt x="466932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custGeom>
            <a:avLst/>
            <a:gdLst>
              <a:gd name="textAreaLeft" fmla="*/ 0 w 438120"/>
              <a:gd name="textAreaRight" fmla="*/ 438480 w 438120"/>
              <a:gd name="textAreaTop" fmla="*/ 0 h 3503520"/>
              <a:gd name="textAreaBottom" fmla="*/ 3503880 h 3503520"/>
            </a:gdLst>
            <a:ahLst/>
            <a:rect l="textAreaLeft" t="textAreaTop" r="textAreaRight" b="textAreaBottom"/>
            <a:pathLst>
              <a:path w="438394" h="3504101">
                <a:moveTo>
                  <a:pt x="400294" y="0"/>
                </a:moveTo>
                <a:lnTo>
                  <a:pt x="438394" y="32238"/>
                </a:lnTo>
                <a:lnTo>
                  <a:pt x="438394" y="3504101"/>
                </a:lnTo>
                <a:lnTo>
                  <a:pt x="35169" y="3504101"/>
                </a:lnTo>
                <a:lnTo>
                  <a:pt x="0" y="3466001"/>
                </a:lnTo>
                <a:lnTo>
                  <a:pt x="400294" y="3466001"/>
                </a:lnTo>
                <a:lnTo>
                  <a:pt x="400294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374751" h="1785318">
                <a:moveTo>
                  <a:pt x="2281651" y="0"/>
                </a:moveTo>
                <a:lnTo>
                  <a:pt x="2374751" y="55321"/>
                </a:lnTo>
                <a:lnTo>
                  <a:pt x="2374751" y="1785318"/>
                </a:lnTo>
                <a:lnTo>
                  <a:pt x="2278872" y="1746411"/>
                </a:lnTo>
                <a:lnTo>
                  <a:pt x="0" y="1746411"/>
                </a:lnTo>
                <a:lnTo>
                  <a:pt x="0" y="1746410"/>
                </a:lnTo>
                <a:lnTo>
                  <a:pt x="2281651" y="1746410"/>
                </a:lnTo>
                <a:lnTo>
                  <a:pt x="2281651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28943" h="93100">
                <a:moveTo>
                  <a:pt x="0" y="0"/>
                </a:moveTo>
                <a:lnTo>
                  <a:pt x="2374750" y="0"/>
                </a:lnTo>
                <a:lnTo>
                  <a:pt x="2428943" y="93100"/>
                </a:lnTo>
                <a:lnTo>
                  <a:pt x="62530" y="93100"/>
                </a:lnTo>
                <a:lnTo>
                  <a:pt x="0" y="27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custGeom>
            <a:avLst/>
            <a:gdLst>
              <a:gd name="textAreaLeft" fmla="*/ 0 w 600120"/>
              <a:gd name="textAreaRight" fmla="*/ 600480 w 600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460" h="437">
                <a:moveTo>
                  <a:pt x="421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55"/>
                  <a:pt x="17" y="373"/>
                  <a:pt x="39" y="373"/>
                </a:cubicBezTo>
                <a:cubicBezTo>
                  <a:pt x="155" y="373"/>
                  <a:pt x="155" y="373"/>
                  <a:pt x="155" y="373"/>
                </a:cubicBezTo>
                <a:cubicBezTo>
                  <a:pt x="149" y="381"/>
                  <a:pt x="139" y="390"/>
                  <a:pt x="134" y="395"/>
                </a:cubicBezTo>
                <a:cubicBezTo>
                  <a:pt x="130" y="400"/>
                  <a:pt x="126" y="404"/>
                  <a:pt x="124" y="407"/>
                </a:cubicBezTo>
                <a:cubicBezTo>
                  <a:pt x="121" y="411"/>
                  <a:pt x="119" y="418"/>
                  <a:pt x="123" y="424"/>
                </a:cubicBezTo>
                <a:cubicBezTo>
                  <a:pt x="126" y="430"/>
                  <a:pt x="133" y="437"/>
                  <a:pt x="152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26" y="437"/>
                  <a:pt x="334" y="430"/>
                  <a:pt x="337" y="424"/>
                </a:cubicBezTo>
                <a:cubicBezTo>
                  <a:pt x="340" y="418"/>
                  <a:pt x="339" y="411"/>
                  <a:pt x="336" y="407"/>
                </a:cubicBezTo>
                <a:cubicBezTo>
                  <a:pt x="334" y="404"/>
                  <a:pt x="330" y="400"/>
                  <a:pt x="325" y="395"/>
                </a:cubicBezTo>
                <a:cubicBezTo>
                  <a:pt x="320" y="390"/>
                  <a:pt x="311" y="381"/>
                  <a:pt x="304" y="373"/>
                </a:cubicBezTo>
                <a:cubicBezTo>
                  <a:pt x="421" y="373"/>
                  <a:pt x="421" y="373"/>
                  <a:pt x="421" y="373"/>
                </a:cubicBezTo>
                <a:cubicBezTo>
                  <a:pt x="442" y="373"/>
                  <a:pt x="460" y="355"/>
                  <a:pt x="460" y="334"/>
                </a:cubicBezTo>
                <a:cubicBezTo>
                  <a:pt x="460" y="38"/>
                  <a:pt x="460" y="38"/>
                  <a:pt x="460" y="38"/>
                </a:cubicBezTo>
                <a:cubicBezTo>
                  <a:pt x="460" y="17"/>
                  <a:pt x="442" y="0"/>
                  <a:pt x="421" y="0"/>
                </a:cubicBezTo>
                <a:close/>
                <a:moveTo>
                  <a:pt x="315" y="405"/>
                </a:moveTo>
                <a:cubicBezTo>
                  <a:pt x="319" y="409"/>
                  <a:pt x="323" y="413"/>
                  <a:pt x="324" y="415"/>
                </a:cubicBezTo>
                <a:cubicBezTo>
                  <a:pt x="324" y="415"/>
                  <a:pt x="325" y="417"/>
                  <a:pt x="324" y="418"/>
                </a:cubicBezTo>
                <a:cubicBezTo>
                  <a:pt x="322" y="421"/>
                  <a:pt x="316" y="423"/>
                  <a:pt x="308" y="423"/>
                </a:cubicBezTo>
                <a:cubicBezTo>
                  <a:pt x="152" y="423"/>
                  <a:pt x="152" y="423"/>
                  <a:pt x="152" y="423"/>
                </a:cubicBezTo>
                <a:cubicBezTo>
                  <a:pt x="143" y="423"/>
                  <a:pt x="138" y="421"/>
                  <a:pt x="136" y="418"/>
                </a:cubicBezTo>
                <a:cubicBezTo>
                  <a:pt x="135" y="417"/>
                  <a:pt x="135" y="415"/>
                  <a:pt x="135" y="415"/>
                </a:cubicBezTo>
                <a:cubicBezTo>
                  <a:pt x="135" y="415"/>
                  <a:pt x="135" y="415"/>
                  <a:pt x="135" y="415"/>
                </a:cubicBezTo>
                <a:cubicBezTo>
                  <a:pt x="137" y="413"/>
                  <a:pt x="140" y="409"/>
                  <a:pt x="145" y="405"/>
                </a:cubicBezTo>
                <a:cubicBezTo>
                  <a:pt x="157" y="393"/>
                  <a:pt x="167" y="382"/>
                  <a:pt x="172" y="373"/>
                </a:cubicBezTo>
                <a:cubicBezTo>
                  <a:pt x="288" y="373"/>
                  <a:pt x="288" y="373"/>
                  <a:pt x="288" y="373"/>
                </a:cubicBezTo>
                <a:cubicBezTo>
                  <a:pt x="292" y="382"/>
                  <a:pt x="302" y="393"/>
                  <a:pt x="315" y="405"/>
                </a:cubicBezTo>
                <a:close/>
                <a:moveTo>
                  <a:pt x="431" y="334"/>
                </a:moveTo>
                <a:cubicBezTo>
                  <a:pt x="431" y="340"/>
                  <a:pt x="426" y="344"/>
                  <a:pt x="421" y="344"/>
                </a:cubicBezTo>
                <a:cubicBezTo>
                  <a:pt x="39" y="344"/>
                  <a:pt x="39" y="344"/>
                  <a:pt x="39" y="344"/>
                </a:cubicBezTo>
                <a:cubicBezTo>
                  <a:pt x="33" y="344"/>
                  <a:pt x="29" y="340"/>
                  <a:pt x="29" y="334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33" y="28"/>
                  <a:pt x="39" y="28"/>
                </a:cubicBezTo>
                <a:cubicBezTo>
                  <a:pt x="421" y="28"/>
                  <a:pt x="421" y="28"/>
                  <a:pt x="421" y="28"/>
                </a:cubicBezTo>
                <a:cubicBezTo>
                  <a:pt x="426" y="28"/>
                  <a:pt x="431" y="33"/>
                  <a:pt x="431" y="38"/>
                </a:cubicBezTo>
                <a:lnTo>
                  <a:pt x="431" y="3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custGeom>
            <a:avLst/>
            <a:gdLst>
              <a:gd name="textAreaLeft" fmla="*/ 0 w 449280"/>
              <a:gd name="textAreaRight" fmla="*/ 449640 w 4492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45" h="230">
                <a:moveTo>
                  <a:pt x="321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19"/>
                  <a:pt x="11" y="230"/>
                  <a:pt x="25" y="230"/>
                </a:cubicBezTo>
                <a:cubicBezTo>
                  <a:pt x="321" y="230"/>
                  <a:pt x="321" y="230"/>
                  <a:pt x="321" y="230"/>
                </a:cubicBezTo>
                <a:cubicBezTo>
                  <a:pt x="334" y="230"/>
                  <a:pt x="345" y="219"/>
                  <a:pt x="345" y="206"/>
                </a:cubicBezTo>
                <a:cubicBezTo>
                  <a:pt x="345" y="24"/>
                  <a:pt x="345" y="24"/>
                  <a:pt x="345" y="24"/>
                </a:cubicBezTo>
                <a:cubicBezTo>
                  <a:pt x="345" y="11"/>
                  <a:pt x="334" y="0"/>
                  <a:pt x="321" y="0"/>
                </a:cubicBezTo>
                <a:close/>
                <a:moveTo>
                  <a:pt x="331" y="206"/>
                </a:moveTo>
                <a:cubicBezTo>
                  <a:pt x="331" y="211"/>
                  <a:pt x="326" y="216"/>
                  <a:pt x="321" y="216"/>
                </a:cubicBezTo>
                <a:cubicBezTo>
                  <a:pt x="25" y="216"/>
                  <a:pt x="25" y="216"/>
                  <a:pt x="25" y="216"/>
                </a:cubicBezTo>
                <a:cubicBezTo>
                  <a:pt x="19" y="216"/>
                  <a:pt x="15" y="211"/>
                  <a:pt x="15" y="206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19"/>
                  <a:pt x="19" y="14"/>
                  <a:pt x="25" y="14"/>
                </a:cubicBezTo>
                <a:cubicBezTo>
                  <a:pt x="321" y="14"/>
                  <a:pt x="321" y="14"/>
                  <a:pt x="321" y="14"/>
                </a:cubicBezTo>
                <a:cubicBezTo>
                  <a:pt x="326" y="14"/>
                  <a:pt x="331" y="19"/>
                  <a:pt x="331" y="24"/>
                </a:cubicBezTo>
                <a:lnTo>
                  <a:pt x="33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custGeom>
            <a:avLst/>
            <a:gdLst>
              <a:gd name="textAreaLeft" fmla="*/ 0 w 55440"/>
              <a:gd name="textAreaRight" fmla="*/ 55800 w 55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3" h="43">
                <a:moveTo>
                  <a:pt x="22" y="0"/>
                </a:moveTo>
                <a:cubicBezTo>
                  <a:pt x="10" y="0"/>
                  <a:pt x="0" y="9"/>
                  <a:pt x="0" y="21"/>
                </a:cubicBezTo>
                <a:cubicBezTo>
                  <a:pt x="0" y="33"/>
                  <a:pt x="10" y="43"/>
                  <a:pt x="22" y="43"/>
                </a:cubicBezTo>
                <a:cubicBezTo>
                  <a:pt x="34" y="43"/>
                  <a:pt x="43" y="33"/>
                  <a:pt x="43" y="21"/>
                </a:cubicBezTo>
                <a:cubicBezTo>
                  <a:pt x="43" y="9"/>
                  <a:pt x="34" y="0"/>
                  <a:pt x="22" y="0"/>
                </a:cubicBezTo>
                <a:close/>
                <a:moveTo>
                  <a:pt x="22" y="29"/>
                </a:moveTo>
                <a:cubicBezTo>
                  <a:pt x="18" y="29"/>
                  <a:pt x="15" y="25"/>
                  <a:pt x="15" y="21"/>
                </a:cubicBezTo>
                <a:cubicBezTo>
                  <a:pt x="15" y="17"/>
                  <a:pt x="18" y="14"/>
                  <a:pt x="22" y="14"/>
                </a:cubicBezTo>
                <a:cubicBezTo>
                  <a:pt x="26" y="14"/>
                  <a:pt x="29" y="17"/>
                  <a:pt x="29" y="21"/>
                </a:cubicBezTo>
                <a:cubicBezTo>
                  <a:pt x="29" y="25"/>
                  <a:pt x="26" y="29"/>
                  <a:pt x="2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custGeom>
            <a:avLst/>
            <a:gdLst>
              <a:gd name="textAreaLeft" fmla="*/ 0 w 181080"/>
              <a:gd name="textAreaRight" fmla="*/ 181080 w 18108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38" h="138">
                <a:moveTo>
                  <a:pt x="69" y="0"/>
                </a:moveTo>
                <a:cubicBezTo>
                  <a:pt x="31" y="0"/>
                  <a:pt x="0" y="31"/>
                  <a:pt x="0" y="69"/>
                </a:cubicBezTo>
                <a:cubicBezTo>
                  <a:pt x="0" y="107"/>
                  <a:pt x="31" y="138"/>
                  <a:pt x="69" y="138"/>
                </a:cubicBezTo>
                <a:cubicBezTo>
                  <a:pt x="107" y="138"/>
                  <a:pt x="138" y="107"/>
                  <a:pt x="138" y="69"/>
                </a:cubicBezTo>
                <a:cubicBezTo>
                  <a:pt x="138" y="31"/>
                  <a:pt x="107" y="0"/>
                  <a:pt x="69" y="0"/>
                </a:cubicBezTo>
                <a:close/>
                <a:moveTo>
                  <a:pt x="69" y="124"/>
                </a:moveTo>
                <a:cubicBezTo>
                  <a:pt x="39" y="124"/>
                  <a:pt x="14" y="99"/>
                  <a:pt x="14" y="69"/>
                </a:cubicBezTo>
                <a:cubicBezTo>
                  <a:pt x="14" y="41"/>
                  <a:pt x="36" y="18"/>
                  <a:pt x="64" y="15"/>
                </a:cubicBezTo>
                <a:cubicBezTo>
                  <a:pt x="64" y="79"/>
                  <a:pt x="64" y="79"/>
                  <a:pt x="64" y="79"/>
                </a:cubicBezTo>
                <a:cubicBezTo>
                  <a:pt x="122" y="57"/>
                  <a:pt x="122" y="57"/>
                  <a:pt x="122" y="57"/>
                </a:cubicBezTo>
                <a:cubicBezTo>
                  <a:pt x="123" y="61"/>
                  <a:pt x="123" y="65"/>
                  <a:pt x="123" y="69"/>
                </a:cubicBezTo>
                <a:cubicBezTo>
                  <a:pt x="123" y="99"/>
                  <a:pt x="99" y="124"/>
                  <a:pt x="69" y="1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7-05-30T10:12:41Z</dcterms:modified>
  <cp:revision>3</cp:revision>
  <dc:subject/>
  <dc:title>PowerPoint 演示文稿</dc:title>
</cp:coreProperties>
</file>