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E2C-3057-498E-87EB-0540C402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DDA-0157-4B62-B454-35D11D5D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65E-1289-43B5-86E0-D62A250F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F84-8BF9-4270-8422-0462DC97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D05-364D-430B-BD8D-99D415D3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205-0F3A-4413-BBB7-9B2955E6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DE3-9433-4597-8379-579D04FE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A34-DAB7-43CD-82E5-0782CD4D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421-98B4-4949-8803-ED21F679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396-9FCA-4249-B1D7-B974127A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C0A-B55C-4748-BAF7-4A6196E6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E8A-EE20-447C-9E1F-C210994C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AAD7-6E35-465F-B2D0-6C936DF80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2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76.png"/><Relationship Id="rId12" Type="http://schemas.openxmlformats.org/officeDocument/2006/relationships/image" Target="../media/image76.png"/><Relationship Id="rId13" Type="http://schemas.openxmlformats.org/officeDocument/2006/relationships/image" Target="../media/image76.png"/><Relationship Id="rId14" Type="http://schemas.openxmlformats.org/officeDocument/2006/relationships/image" Target="../media/image76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" descr="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5" dur="99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13" dur="99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7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7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9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49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9" dur="99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dc:language>en-US</dc:language>
  <cp:lastModifiedBy/>
  <dcterms:modified xsi:type="dcterms:W3CDTF">2014-04-24T11:51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