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33C-8635-41C6-8D6F-CA8A9F19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874-F523-43AA-967A-5D0EB5A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A47-F533-4624-9E80-CAB6F790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6E6-24B5-40A9-A1DE-E4E9D358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65F-3D0E-44B6-ACB0-F2C2E55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3AD-99B7-4F1A-8946-83DAB12C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E61-7BE8-4375-8697-0BE1C571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C22-682A-4EC8-8B2F-AA73713B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484-EF72-4098-9247-AF487F9C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3C4-BEAE-4E5E-B67A-3A791DD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DA6-F989-49EB-AD5A-7CFAB116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C5D-DFDF-4B8F-B8CB-439B6D8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FE7D-7C17-4D6A-B39D-8ADAE92AB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2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76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6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" descr="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99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3" dur="99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7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4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9" dur="99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dc:language>en-US</dc:language>
  <cp:lastModifiedBy/>
  <dcterms:modified xsi:type="dcterms:W3CDTF">2014-04-24T11:51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