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A5D-8D56-4351-A91B-E68F1261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AE1C-4589-4079-8EB8-433E338A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958F-B517-47F5-B98D-B86DD9BC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F82-A472-4D16-A304-7995D387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01A-FA02-43C5-8D30-7C148F05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6338-1FAF-450A-89C7-7A394FCE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3443-FC75-4E48-9A64-BBECFAC5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ADD0-382C-458E-B6FA-572B6DCE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159-F7AE-4E4A-94D7-DB67BA4F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90C-E502-4C7D-AD3D-52FF7AB8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2E6-A028-40C8-84FD-F3E8A669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98C5-0586-4D4B-94CB-3C9F1222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C392-FA32-4302-A127-D74EA371880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1BAC-A0E1-4678-9685-7FFF21F8D8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3840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7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7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弧形 47"/>
          <p:cNvSpPr/>
          <p:nvPr/>
        </p:nvSpPr>
        <p:spPr>
          <a:xfrm rot="2682000">
            <a:off x="3525840" y="3459240"/>
            <a:ext cx="1289160" cy="12888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弧形 52"/>
          <p:cNvSpPr/>
          <p:nvPr/>
        </p:nvSpPr>
        <p:spPr>
          <a:xfrm rot="2682000">
            <a:off x="3273120" y="3223800"/>
            <a:ext cx="1787400" cy="17859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弧形 53"/>
          <p:cNvSpPr/>
          <p:nvPr/>
        </p:nvSpPr>
        <p:spPr>
          <a:xfrm rot="2682000">
            <a:off x="3017520" y="2960640"/>
            <a:ext cx="2300400" cy="23004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弧形 54"/>
          <p:cNvSpPr/>
          <p:nvPr/>
        </p:nvSpPr>
        <p:spPr>
          <a:xfrm rot="2682000">
            <a:off x="2771280" y="2695320"/>
            <a:ext cx="2806920" cy="28065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5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5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 repeatCount="3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xit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xit" presetID="10" repeatCount="3000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"/>
                            </p:stCondLst>
                            <p:childTnLst>
                              <p:par>
                                <p:cTn id="551" dur="indefinite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2" dur="1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空心弧 3"/>
          <p:cNvSpPr/>
          <p:nvPr/>
        </p:nvSpPr>
        <p:spPr>
          <a:xfrm rot="5400000">
            <a:off x="940680" y="1736640"/>
            <a:ext cx="109872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空心弧 6"/>
          <p:cNvSpPr/>
          <p:nvPr/>
        </p:nvSpPr>
        <p:spPr>
          <a:xfrm rot="5400000">
            <a:off x="2158920" y="3219120"/>
            <a:ext cx="1098360" cy="109872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空心弧 8"/>
          <p:cNvSpPr/>
          <p:nvPr/>
        </p:nvSpPr>
        <p:spPr>
          <a:xfrm rot="5400000">
            <a:off x="3384360" y="4718160"/>
            <a:ext cx="109836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6"/>
          <p:cNvSpPr/>
          <p:nvPr/>
        </p:nvSpPr>
        <p:spPr>
          <a:xfrm>
            <a:off x="4800600" y="619200"/>
            <a:ext cx="46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9440 w 109440"/>
              <a:gd name="textAreaRight" fmla="*/ 90000 w 109440"/>
              <a:gd name="textAreaTop" fmla="*/ 104400 h 590400"/>
              <a:gd name="textAreaBottom" fmla="*/ 48600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9080 w 107640"/>
              <a:gd name="textAreaRight" fmla="*/ 88560 w 107640"/>
              <a:gd name="textAreaTop" fmla="*/ 104760 h 592200"/>
              <a:gd name="textAreaBottom" fmla="*/ 48744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9080 w 108000"/>
              <a:gd name="textAreaRight" fmla="*/ 88920 w 108000"/>
              <a:gd name="textAreaTop" fmla="*/ 88920 h 503280"/>
              <a:gd name="textAreaBottom" fmla="*/ 4143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9440 w 109440"/>
              <a:gd name="textAreaRight" fmla="*/ 90000 w 109440"/>
              <a:gd name="textAreaTop" fmla="*/ 89280 h 504720"/>
              <a:gd name="textAreaBottom" fmla="*/ 4154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8680 w 354240"/>
              <a:gd name="textAreaRight" fmla="*/ 295560 w 354240"/>
              <a:gd name="textAreaTop" fmla="*/ 35640 h 216000"/>
              <a:gd name="textAreaBottom" fmla="*/ 180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01" y="21600"/>
                </a:lnTo>
                <a:lnTo>
                  <a:pt x="3299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弧形 14"/>
          <p:cNvSpPr/>
          <p:nvPr/>
        </p:nvSpPr>
        <p:spPr>
          <a:xfrm>
            <a:off x="596880" y="1301760"/>
            <a:ext cx="194328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弧形 15"/>
          <p:cNvSpPr/>
          <p:nvPr/>
        </p:nvSpPr>
        <p:spPr>
          <a:xfrm>
            <a:off x="341316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 rot="16200000">
            <a:off x="6230880" y="1086840"/>
            <a:ext cx="2989080" cy="2392560"/>
          </a:xfrm>
          <a:prstGeom prst="rect">
            <a:avLst/>
          </a:prstGeom>
          <a:ln w="0">
            <a:noFill/>
          </a:ln>
        </p:spPr>
      </p:pic>
      <p:sp>
        <p:nvSpPr>
          <p:cNvPr id="204" name="弧形 17"/>
          <p:cNvSpPr/>
          <p:nvPr/>
        </p:nvSpPr>
        <p:spPr>
          <a:xfrm>
            <a:off x="632160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弧形 18"/>
          <p:cNvSpPr/>
          <p:nvPr/>
        </p:nvSpPr>
        <p:spPr>
          <a:xfrm>
            <a:off x="9183600" y="1301760"/>
            <a:ext cx="19447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 rot="16200000">
            <a:off x="6327720" y="1158480"/>
            <a:ext cx="2809800" cy="2247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7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4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47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9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9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4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加号 17"/>
          <p:cNvSpPr/>
          <p:nvPr/>
        </p:nvSpPr>
        <p:spPr>
          <a:xfrm>
            <a:off x="41893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加号 18"/>
          <p:cNvSpPr/>
          <p:nvPr/>
        </p:nvSpPr>
        <p:spPr>
          <a:xfrm>
            <a:off x="70549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27" descr=""/>
          <p:cNvPicPr/>
          <p:nvPr/>
        </p:nvPicPr>
        <p:blipFill>
          <a:blip r:embed="rId4"/>
          <a:stretch/>
        </p:blipFill>
        <p:spPr>
          <a:xfrm rot="20179800">
            <a:off x="964800" y="3519000"/>
            <a:ext cx="36021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任意多边形 20"/>
          <p:cNvSpPr/>
          <p:nvPr/>
        </p:nvSpPr>
        <p:spPr>
          <a:xfrm flipH="1">
            <a:off x="1628640" y="3627360"/>
            <a:ext cx="3230640" cy="199080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1"/>
          <p:cNvSpPr/>
          <p:nvPr/>
        </p:nvSpPr>
        <p:spPr>
          <a:xfrm>
            <a:off x="5105520" y="3941640"/>
            <a:ext cx="2354040" cy="145116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19"/>
          <p:cNvSpPr/>
          <p:nvPr/>
        </p:nvSpPr>
        <p:spPr>
          <a:xfrm flipH="1">
            <a:off x="3000240" y="2781360"/>
            <a:ext cx="3229200" cy="199224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11"/>
          <p:cNvSpPr/>
          <p:nvPr/>
        </p:nvSpPr>
        <p:spPr>
          <a:xfrm flipH="1">
            <a:off x="1525680" y="1467000"/>
            <a:ext cx="1612800" cy="99504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10"/>
          <p:cNvSpPr/>
          <p:nvPr/>
        </p:nvSpPr>
        <p:spPr>
          <a:xfrm>
            <a:off x="-512640" y="1119240"/>
            <a:ext cx="1612800" cy="9936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9"/>
          <p:cNvSpPr/>
          <p:nvPr/>
        </p:nvSpPr>
        <p:spPr>
          <a:xfrm>
            <a:off x="-171360" y="1467000"/>
            <a:ext cx="2503440" cy="154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14"/>
          <p:cNvSpPr/>
          <p:nvPr/>
        </p:nvSpPr>
        <p:spPr>
          <a:xfrm flipH="1">
            <a:off x="365040" y="5175360"/>
            <a:ext cx="2230560" cy="13748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13"/>
          <p:cNvSpPr/>
          <p:nvPr/>
        </p:nvSpPr>
        <p:spPr>
          <a:xfrm flipH="1">
            <a:off x="932760" y="5175360"/>
            <a:ext cx="5457960" cy="336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任意多边形 15"/>
          <p:cNvSpPr/>
          <p:nvPr/>
        </p:nvSpPr>
        <p:spPr>
          <a:xfrm flipH="1">
            <a:off x="5508000" y="6006960"/>
            <a:ext cx="1763640" cy="10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16"/>
          <p:cNvSpPr/>
          <p:nvPr/>
        </p:nvSpPr>
        <p:spPr>
          <a:xfrm>
            <a:off x="6994440" y="5657760"/>
            <a:ext cx="2791080" cy="172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23"/>
          <p:cNvSpPr/>
          <p:nvPr/>
        </p:nvSpPr>
        <p:spPr>
          <a:xfrm flipH="1">
            <a:off x="10779840" y="2506680"/>
            <a:ext cx="1411560" cy="869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24"/>
          <p:cNvSpPr/>
          <p:nvPr/>
        </p:nvSpPr>
        <p:spPr>
          <a:xfrm>
            <a:off x="8996400" y="2200320"/>
            <a:ext cx="1411200" cy="8697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25"/>
          <p:cNvSpPr/>
          <p:nvPr/>
        </p:nvSpPr>
        <p:spPr>
          <a:xfrm>
            <a:off x="9294840" y="2506680"/>
            <a:ext cx="2192400" cy="1351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1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282" dur="50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284" dur="50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286" dur="50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88" dur="50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290" dur="50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92" dur="50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294" dur="50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296" dur="50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298" dur="50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300" dur="4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79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84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3"/>
          <p:cNvSpPr/>
          <p:nvPr/>
        </p:nvSpPr>
        <p:spPr>
          <a:xfrm>
            <a:off x="40176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1" descr=""/>
          <p:cNvPicPr/>
          <p:nvPr/>
        </p:nvPicPr>
        <p:blipFill>
          <a:blip r:embed="rId1">
            <a:biLevel thresh="50000"/>
          </a:blip>
          <a:srcRect l="17412" t="9316" r="20071" b="2286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57" name="弧形 12"/>
          <p:cNvSpPr/>
          <p:nvPr/>
        </p:nvSpPr>
        <p:spPr>
          <a:xfrm rot="2700000">
            <a:off x="408960" y="280440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饼形 13"/>
          <p:cNvSpPr/>
          <p:nvPr/>
        </p:nvSpPr>
        <p:spPr>
          <a:xfrm>
            <a:off x="587700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弧形 15"/>
          <p:cNvSpPr/>
          <p:nvPr/>
        </p:nvSpPr>
        <p:spPr>
          <a:xfrm rot="2700000">
            <a:off x="5882760" y="2803320"/>
            <a:ext cx="124920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饼形 16"/>
          <p:cNvSpPr/>
          <p:nvPr/>
        </p:nvSpPr>
        <p:spPr>
          <a:xfrm>
            <a:off x="401760" y="4683240"/>
            <a:ext cx="1265040" cy="126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弧形 18"/>
          <p:cNvSpPr/>
          <p:nvPr/>
        </p:nvSpPr>
        <p:spPr>
          <a:xfrm rot="2700000">
            <a:off x="408960" y="469188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弧形 19"/>
          <p:cNvSpPr/>
          <p:nvPr/>
        </p:nvSpPr>
        <p:spPr>
          <a:xfrm rot="2700000">
            <a:off x="5883480" y="4685760"/>
            <a:ext cx="124776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弦形 20"/>
          <p:cNvSpPr/>
          <p:nvPr/>
        </p:nvSpPr>
        <p:spPr>
          <a:xfrm>
            <a:off x="5807160" y="4605480"/>
            <a:ext cx="1403280" cy="1401480"/>
          </a:xfrm>
          <a:prstGeom prst="pie">
            <a:avLst/>
          </a:prstGeom>
          <a:solidFill>
            <a:srgbClr val="e9118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33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74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115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7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32" repeatCount="5000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46" dur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64" fill="hold">
                                          <p:stCondLst>
                                            <p:cond delay="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64" fill="hold">
                                          <p:stCondLst>
                                            <p:cond delay="1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64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64" fill="hold">
                                          <p:stCondLst>
                                            <p:cond delay="2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0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319" dur="1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321" dur="15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0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4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8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4"/>
          <p:cNvGrpSpPr/>
          <p:nvPr/>
        </p:nvGrpSpPr>
        <p:grpSpPr>
          <a:xfrm>
            <a:off x="2971440" y="601200"/>
            <a:ext cx="6248520" cy="2220840"/>
            <a:chOff x="2971440" y="601200"/>
            <a:chExt cx="6248520" cy="2220840"/>
          </a:xfrm>
        </p:grpSpPr>
        <p:sp>
          <p:nvSpPr>
            <p:cNvPr id="297" name="弧形 6"/>
            <p:cNvSpPr/>
            <p:nvPr/>
          </p:nvSpPr>
          <p:spPr>
            <a:xfrm rot="10800000">
              <a:off x="29714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弧形 7"/>
            <p:cNvSpPr/>
            <p:nvPr/>
          </p:nvSpPr>
          <p:spPr>
            <a:xfrm rot="10800000">
              <a:off x="499140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弧形 8"/>
            <p:cNvSpPr/>
            <p:nvPr/>
          </p:nvSpPr>
          <p:spPr>
            <a:xfrm rot="10800000">
              <a:off x="69998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750"/>
                            </p:stCondLst>
                            <p:childTnLst>
                              <p:par>
                                <p:cTn id="14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dur="indefinite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dur="indefinite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dur="indefinite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6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9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7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1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5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0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9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6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0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6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5"/>
          <p:cNvGrpSpPr/>
          <p:nvPr/>
        </p:nvGrpSpPr>
        <p:grpSpPr>
          <a:xfrm>
            <a:off x="752400" y="1268280"/>
            <a:ext cx="1324080" cy="4686480"/>
            <a:chOff x="752400" y="1268280"/>
            <a:chExt cx="1324080" cy="4686480"/>
          </a:xfrm>
        </p:grpSpPr>
        <p:sp>
          <p:nvSpPr>
            <p:cNvPr id="372" name="直接连接符 6"/>
            <p:cNvSpPr/>
            <p:nvPr/>
          </p:nvSpPr>
          <p:spPr>
            <a:xfrm>
              <a:off x="1414800" y="1268280"/>
              <a:ext cx="0" cy="33577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弧形 7"/>
            <p:cNvSpPr/>
            <p:nvPr/>
          </p:nvSpPr>
          <p:spPr>
            <a:xfrm>
              <a:off x="752400" y="463104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"/>
          <p:cNvGrpSpPr/>
          <p:nvPr/>
        </p:nvGrpSpPr>
        <p:grpSpPr>
          <a:xfrm>
            <a:off x="2155680" y="1268280"/>
            <a:ext cx="1324080" cy="2976840"/>
            <a:chOff x="2155680" y="1268280"/>
            <a:chExt cx="1324080" cy="2976840"/>
          </a:xfrm>
        </p:grpSpPr>
        <p:sp>
          <p:nvSpPr>
            <p:cNvPr id="376" name="直接连接符 10"/>
            <p:cNvSpPr/>
            <p:nvPr/>
          </p:nvSpPr>
          <p:spPr>
            <a:xfrm>
              <a:off x="2818080" y="1268280"/>
              <a:ext cx="0" cy="16480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弧形 11"/>
            <p:cNvSpPr/>
            <p:nvPr/>
          </p:nvSpPr>
          <p:spPr>
            <a:xfrm>
              <a:off x="2155680" y="292140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13"/>
          <p:cNvGrpSpPr/>
          <p:nvPr/>
        </p:nvGrpSpPr>
        <p:grpSpPr>
          <a:xfrm>
            <a:off x="3684600" y="1268280"/>
            <a:ext cx="1324080" cy="3706920"/>
            <a:chOff x="3684600" y="1268280"/>
            <a:chExt cx="1324080" cy="3706920"/>
          </a:xfrm>
        </p:grpSpPr>
        <p:sp>
          <p:nvSpPr>
            <p:cNvPr id="380" name="直接连接符 14"/>
            <p:cNvSpPr/>
            <p:nvPr/>
          </p:nvSpPr>
          <p:spPr>
            <a:xfrm>
              <a:off x="4347000" y="1268280"/>
              <a:ext cx="0" cy="2378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弧形 15"/>
            <p:cNvSpPr/>
            <p:nvPr/>
          </p:nvSpPr>
          <p:spPr>
            <a:xfrm>
              <a:off x="3684600" y="3651840"/>
              <a:ext cx="1324080" cy="132336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17"/>
          <p:cNvGrpSpPr/>
          <p:nvPr/>
        </p:nvGrpSpPr>
        <p:grpSpPr>
          <a:xfrm>
            <a:off x="5079960" y="1279440"/>
            <a:ext cx="1324080" cy="2502000"/>
            <a:chOff x="5079960" y="1279440"/>
            <a:chExt cx="1324080" cy="2502000"/>
          </a:xfrm>
        </p:grpSpPr>
        <p:sp>
          <p:nvSpPr>
            <p:cNvPr id="384" name="直接连接符 18"/>
            <p:cNvSpPr/>
            <p:nvPr/>
          </p:nvSpPr>
          <p:spPr>
            <a:xfrm>
              <a:off x="5742360" y="1279440"/>
              <a:ext cx="0" cy="11728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弧形 19"/>
            <p:cNvSpPr/>
            <p:nvPr/>
          </p:nvSpPr>
          <p:spPr>
            <a:xfrm>
              <a:off x="5079960" y="245772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0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8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8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dur="indefinite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dur="indefinite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8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dur="indefinite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dur="indefinite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dur="indefinite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dur="indefinite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dur="indefinite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7" dur="indefinite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8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99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1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9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9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5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9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3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7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1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5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弦形 10"/>
          <p:cNvSpPr/>
          <p:nvPr/>
        </p:nvSpPr>
        <p:spPr>
          <a:xfrm>
            <a:off x="8426520" y="3129120"/>
            <a:ext cx="2922480" cy="29224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空心弧 11"/>
          <p:cNvSpPr/>
          <p:nvPr/>
        </p:nvSpPr>
        <p:spPr>
          <a:xfrm rot="5400000">
            <a:off x="8609760" y="3310560"/>
            <a:ext cx="2555640" cy="2557440"/>
          </a:xfrm>
          <a:prstGeom prst="blockArc">
            <a:avLst>
              <a:gd name="adj1" fmla="val 10800000"/>
              <a:gd name="adj2" fmla="val 0"/>
              <a:gd name="adj3" fmla="val 11699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弧形 12"/>
          <p:cNvSpPr/>
          <p:nvPr/>
        </p:nvSpPr>
        <p:spPr>
          <a:xfrm rot="10800000">
            <a:off x="8772480" y="3503520"/>
            <a:ext cx="2232000" cy="223200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4"/>
          <p:cNvSpPr/>
          <p:nvPr/>
        </p:nvSpPr>
        <p:spPr>
          <a:xfrm>
            <a:off x="877176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方正兰亭特黑简体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9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dur="indefinite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1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dur="indefinite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0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9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9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4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8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2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6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0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4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4"/>
          <p:cNvGrpSpPr/>
          <p:nvPr/>
        </p:nvGrpSpPr>
        <p:grpSpPr>
          <a:xfrm>
            <a:off x="5625000" y="4426920"/>
            <a:ext cx="3873240" cy="1766160"/>
            <a:chOff x="5625000" y="4426920"/>
            <a:chExt cx="3873240" cy="1766160"/>
          </a:xfrm>
        </p:grpSpPr>
        <p:sp>
          <p:nvSpPr>
            <p:cNvPr id="70" name="文本框 5"/>
            <p:cNvSpPr/>
            <p:nvPr/>
          </p:nvSpPr>
          <p:spPr>
            <a:xfrm>
              <a:off x="6897600" y="509040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弧形 6"/>
            <p:cNvSpPr/>
            <p:nvPr/>
          </p:nvSpPr>
          <p:spPr>
            <a:xfrm rot="2700000">
              <a:off x="5883840" y="4685040"/>
              <a:ext cx="1248480" cy="124920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弦形 7"/>
            <p:cNvSpPr/>
            <p:nvPr/>
          </p:nvSpPr>
          <p:spPr>
            <a:xfrm>
              <a:off x="5807160" y="4605480"/>
              <a:ext cx="1402200" cy="1401480"/>
            </a:xfrm>
            <a:prstGeom prst="pie">
              <a:avLst/>
            </a:prstGeom>
            <a:solidFill>
              <a:srgbClr val="e9118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7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38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prstGeom prst="donut">
              <a:avLst>
                <a:gd name="adj" fmla="val 1103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41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prstGeom prst="donut">
              <a:avLst>
                <a:gd name="adj" fmla="val 113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fill="hold">
                      <p:stCondLst>
                        <p:cond delay="0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3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7" dur="indefinite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3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0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0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2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7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2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dur="indefinite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dur="indefinite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9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dur="indefinite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dur="indefinite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6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dur="indefinite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8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dur="indefinite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5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3"/>
          <p:cNvSpPr/>
          <p:nvPr/>
        </p:nvSpPr>
        <p:spPr>
          <a:xfrm>
            <a:off x="44640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dur="indefinite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8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3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6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22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22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同心圆 6"/>
          <p:cNvSpPr/>
          <p:nvPr/>
        </p:nvSpPr>
        <p:spPr>
          <a:xfrm>
            <a:off x="3952800" y="812880"/>
            <a:ext cx="3797280" cy="3797280"/>
          </a:xfrm>
          <a:prstGeom prst="donut">
            <a:avLst>
              <a:gd name="adj" fmla="val 7249"/>
            </a:avLst>
          </a:pr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同心圆 7"/>
          <p:cNvSpPr/>
          <p:nvPr/>
        </p:nvSpPr>
        <p:spPr>
          <a:xfrm>
            <a:off x="4667400" y="1514520"/>
            <a:ext cx="2395440" cy="2394000"/>
          </a:xfrm>
          <a:prstGeom prst="donut">
            <a:avLst>
              <a:gd name="adj" fmla="val 16018"/>
            </a:avLst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同心圆 9"/>
          <p:cNvSpPr/>
          <p:nvPr/>
        </p:nvSpPr>
        <p:spPr>
          <a:xfrm>
            <a:off x="3808440" y="655560"/>
            <a:ext cx="4113360" cy="4111560"/>
          </a:xfrm>
          <a:prstGeom prst="donut">
            <a:avLst>
              <a:gd name="adj" fmla="val 3754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1"/>
          <p:cNvSpPr/>
          <p:nvPr/>
        </p:nvSpPr>
        <p:spPr>
          <a:xfrm>
            <a:off x="8996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2"/>
          <p:cNvSpPr/>
          <p:nvPr/>
        </p:nvSpPr>
        <p:spPr>
          <a:xfrm>
            <a:off x="910944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84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5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6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7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8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400"/>
                            </p:stCondLst>
                            <p:childTnLst>
                              <p:par>
                                <p:cTn id="3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401"/>
                            </p:stCondLst>
                            <p:childTnLst>
                              <p:par>
                                <p:cTn id="3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dc:language>en-US</dc:language>
  <cp:lastModifiedBy>YANGS</cp:lastModifiedBy>
  <dcterms:modified xsi:type="dcterms:W3CDTF">2015-01-06T15:39:39Z</dcterms:modified>
  <cp:revision>9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