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3.wmf" ContentType="image/x-wmf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5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546D-22E6-4F62-AFAE-4D1418198D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57F1-69F5-4D4F-A0E6-DA2DC5491398}" type="slidenum"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809-E929-4537-9F9F-55BE3D2C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5CC-CC40-4597-BD14-5B6B017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8CB-AF54-49DE-982F-B7D040BD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E64-D5A2-40D1-83BF-7D703426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DD43-3E7E-4118-B0F1-26AE8F02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5207-8A71-4331-9BE1-EFF8C02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C9E9-839C-4294-8440-65BC0875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E03C-8887-4680-B143-BE218397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CB5B-FCD9-4724-AA7A-641EE8AA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D5BE-7E99-4A1E-82CC-705D4297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F91-F20A-4DBC-A896-C86AD25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D73-F084-4515-8F10-58096FC4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1A2-1FB5-4A8D-9E38-D681838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371D-6138-419B-8A34-2A126BC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9E2C-6A03-458E-BF23-818565AC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0634-B1B0-4CB1-9123-C454871B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7F96-41D1-4341-A457-46DF1CDB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9ABF-4B79-4F12-B4CA-0F87E37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D38D-72CE-40D6-9C34-E4BE905F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38DC-EC73-461F-B064-044D8870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A01B-687A-4E9F-A95C-FC5E50FD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EF2B-AC60-407A-988B-7D9DCEAE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8A6-7D59-4F51-914E-0D96A999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8511-A971-444B-BFB9-50CF3CE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084C-15EE-41FC-AC5E-287A002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2C0E-C2D7-42BB-B13A-1009931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0799-1F42-4680-82F5-02B7BD1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6158-708F-4B45-971A-A553DDE6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3850-D0CA-4731-9750-F4F38AF3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BD54-5F75-48D8-A5F7-2EE5CAF5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B088-14C0-4790-9BB0-43C504E3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133F-44FC-41B9-9E43-EFAD476F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A382-8D66-477D-ADC6-7AFD499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B67-AFEE-4336-BDD0-E3516E94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08CA1-B214-48DD-A3E4-224A5AB6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A8DDD-86F1-4F3A-B96E-915D2AC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4F84-B0A1-473D-8CBA-425D84EC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D8A8-D133-4CAB-9AD1-D127B4D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EA23-D145-49F6-9ABD-FB966DB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B4A7-7325-4ABC-992F-AD0B8B8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4163-DBC2-4F9E-814E-F7CB2081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7512-0635-4D3E-AA47-FF3356D9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1466-A362-4E70-A77D-9CC7E816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52E4-77A6-4072-B1CF-DCEC20E3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8B9-CE03-4F80-B3C2-130DD815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6829-AA67-44CD-A90C-CD204564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48B23-8032-4F1F-ABF9-E94FC64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15237-2776-4977-BA28-85E88E45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DA82E-CBAB-498D-A805-6E687A6A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D7DA-39C1-40B6-817D-DD234735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5CBE-9BB9-4AAE-8140-239CF82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AC05-BA2A-4691-A33F-C8E11CE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84F9-0609-4E24-BF69-C117A42C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607B-6B0E-4323-B85E-53215967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9AE9-D34E-403C-9EF3-10CC9386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522-B8D2-45DF-862C-59E69C22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3F9B-BA6C-4078-9BD8-A370EB1C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AC4-8A01-4BC4-B31E-A2DFF2E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D923-3A03-4A12-8214-AE6D605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A6D-770A-4E44-B1F4-209B174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CB8F-38D1-407F-BD2D-9B929B94FBE9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35A4-DF5C-4EA9-ACFE-2C7F03053626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7B5F-5DE5-49F5-9332-8ABD2AFDEB00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D81-0B16-4282-B1AF-0E3DF4F13EBB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8F38-52C4-4B6F-A7FC-1527BAC94FCD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  <a:ea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35080" y="1416600"/>
                <a:ext cx="526212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3920" y="1491480"/>
              <a:ext cx="102780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77640" y="1554480"/>
              <a:ext cx="513720" cy="4975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444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3560" y="156600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35440" y="2763000"/>
                <a:ext cx="52617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3920" y="2835360"/>
              <a:ext cx="102780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77640" y="2899800"/>
              <a:ext cx="513720" cy="4921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444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3560" y="288936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1996920" y="4085640"/>
              <a:ext cx="53377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3920" y="4197960"/>
              <a:ext cx="102780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77640" y="4262400"/>
              <a:ext cx="513720" cy="49788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444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3560" y="425196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436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364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364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  <a:ea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  <a:ea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500720"/>
                <a:ext cx="4172400" cy="95184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  <a:ea typeface="Gulim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960"/>
            <a:chOff x="1573200" y="4059360"/>
            <a:chExt cx="5492880" cy="39996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996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94360" y="4065840"/>
              <a:ext cx="158760" cy="390600"/>
              <a:chOff x="6894360" y="4065840"/>
              <a:chExt cx="158760" cy="39060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94360" y="4065840"/>
                <a:ext cx="15876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480" y="4203000"/>
                <a:ext cx="1836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84360" y="4096080"/>
              <a:ext cx="109440" cy="316800"/>
              <a:chOff x="1584360" y="4096080"/>
              <a:chExt cx="109440" cy="316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84360" y="4096080"/>
                <a:ext cx="1094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000" y="4197960"/>
                <a:ext cx="165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720"/>
            <a:chOff x="1123920" y="3513240"/>
            <a:chExt cx="6391440" cy="39672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672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15560" y="3523680"/>
              <a:ext cx="183600" cy="383400"/>
              <a:chOff x="7315560" y="3523680"/>
              <a:chExt cx="183600" cy="38340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5560" y="3523680"/>
                <a:ext cx="183600" cy="38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70000" y="3655800"/>
                <a:ext cx="2124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9760" y="3548160"/>
              <a:ext cx="122040" cy="317160"/>
              <a:chOff x="1139760" y="3548160"/>
              <a:chExt cx="122040" cy="31716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3548160"/>
                <a:ext cx="122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7680" y="3651480"/>
                <a:ext cx="1908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7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70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11560" y="2925720"/>
              <a:ext cx="207360" cy="390240"/>
              <a:chOff x="7711560" y="2925720"/>
              <a:chExt cx="207360" cy="39024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1560" y="2925720"/>
                <a:ext cx="2073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6880" y="306180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9640" y="2956680"/>
              <a:ext cx="140040" cy="317520"/>
              <a:chOff x="719640" y="2956680"/>
              <a:chExt cx="140040" cy="31752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640" y="2956680"/>
                <a:ext cx="140040" cy="31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7840"/>
                <a:ext cx="2160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8120"/>
            <a:chOff x="395280" y="2259000"/>
            <a:chExt cx="7848360" cy="43812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7040" y="2267640"/>
              <a:ext cx="225000" cy="426600"/>
              <a:chOff x="7997040" y="2267640"/>
              <a:chExt cx="225000" cy="42660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7040" y="226764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5680" y="241632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14720" y="2297520"/>
              <a:ext cx="151560" cy="353160"/>
              <a:chOff x="414720" y="2297520"/>
              <a:chExt cx="151560" cy="35316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4720" y="2297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800" y="241056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1720" cy="1231560"/>
            <a:chOff x="3726000" y="1125360"/>
            <a:chExt cx="116172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1720" cy="1231560"/>
              <a:chOff x="3726000" y="1125360"/>
              <a:chExt cx="116172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37240" y="2090880"/>
                <a:ext cx="955800" cy="26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27080" y="1125360"/>
                <a:ext cx="1160640" cy="1135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7520"/>
                <a:ext cx="1157400" cy="1133640"/>
                <a:chOff x="3726000" y="1127520"/>
                <a:chExt cx="1157400" cy="1133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7520"/>
                  <a:ext cx="1157400" cy="113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895920" y="1292040"/>
                  <a:ext cx="815760" cy="80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1600" y="4166280"/>
              <a:ext cx="1567080" cy="11966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196640"/>
                <a:gd name="textAreaBottom" fmla="*/ 1197000 h 119664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4520" cy="1911240"/>
              <a:chOff x="4284720" y="3506760"/>
              <a:chExt cx="16452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452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299480" y="3520440"/>
                <a:ext cx="133560" cy="18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89040" y="3514320"/>
              <a:ext cx="1709640" cy="1375560"/>
            </a:xfrm>
            <a:custGeom>
              <a:avLst/>
              <a:gdLst>
                <a:gd name="textAreaLeft" fmla="*/ 0 w 1709640"/>
                <a:gd name="textAreaRight" fmla="*/ 1710000 w 170964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4200" y="4504320"/>
              <a:ext cx="1413000" cy="862560"/>
              <a:chOff x="2914200" y="4504320"/>
              <a:chExt cx="1413000" cy="86256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4200" y="4504320"/>
                <a:ext cx="1413000" cy="86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0040" y="4518720"/>
                <a:ext cx="1384560" cy="83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12640" cy="1406880"/>
              <a:chOff x="2901960" y="3467160"/>
              <a:chExt cx="141264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1264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3840" y="3483360"/>
                <a:ext cx="138456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8080" y="1536480"/>
              <a:ext cx="151560" cy="360000"/>
              <a:chOff x="4078080" y="1536480"/>
              <a:chExt cx="151560" cy="36000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8080" y="1536480"/>
                <a:ext cx="15156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5800" y="165096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8720" y="1536480"/>
              <a:ext cx="157680" cy="353880"/>
              <a:chOff x="828720" y="1536480"/>
              <a:chExt cx="157680" cy="35388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720" y="1536480"/>
                <a:ext cx="15768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320" y="165060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/>
            <a:ahLst/>
            <a:rect l="l" t="t" r="r" b="b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/>
            <a:ahLst/>
            <a:rect l="l" t="t" r="r" b="b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9"/>
                </a:lnTo>
                <a:lnTo>
                  <a:pt x="257175" y="392926"/>
                </a:lnTo>
                <a:lnTo>
                  <a:pt x="98232" y="514349"/>
                </a:lnTo>
                <a:lnTo>
                  <a:pt x="158945" y="317884"/>
                </a:lnTo>
                <a:lnTo>
                  <a:pt x="1" y="19646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/>
            <a:ahLst/>
            <a:rect l="l" t="t" r="r" b="b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lnTo>
                  <a:pt x="1" y="231027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/>
            <a:ahLst/>
            <a:rect l="l" t="t" r="r" b="b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/>
              <a:ahLst/>
              <a:rect l="l" t="t" r="r" b="b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  <a:ea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  <a:ea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/>
                <a:ahLst/>
                <a:rect l="l" t="t" r="r" b="b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  <a:ea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  <a:ea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596960" y="2414520"/>
            <a:ext cx="59436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3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  <a:ea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/>
            <a:ahLst/>
            <a:rect l="l" t="t" r="r" b="b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lnTo>
                  <a:pt x="239" y="0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Administrator</cp:lastModifiedBy>
  <dcterms:modified xsi:type="dcterms:W3CDTF">2016-08-22T03:13:29Z</dcterms:modified>
  <cp:revision>72</cp:revision>
  <dc:subject/>
  <dc:title>슬라이드 1</dc:title>
</cp:coreProperties>
</file>