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131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5.png" ContentType="image/png"/>
  <Override PartName="/ppt/media/image39.jpeg" ContentType="image/jpeg"/>
  <Override PartName="/ppt/media/image127.png" ContentType="image/png"/>
  <Override PartName="/ppt/media/image35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23.jpeg" ContentType="image/jpe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0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91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49.png" ContentType="image/png"/>
  <Override PartName="/ppt/media/image100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6.png" ContentType="image/png"/>
  <Override PartName="/ppt/media/image94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AFB-1411-4C0A-BA77-B3DD611B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7F0-4D1A-4F6C-9548-6B4244AA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2901F-D933-491A-9743-36A0DABF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2030B-6F6A-46E7-B368-CC9AE192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9AF8E-09BC-4406-9204-355D151E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A4706-9B9D-4C24-A525-4FD34C7F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ADCED-88C5-48B2-A9DD-2AE7485B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64D8C-B088-4C58-91AE-1F3745F2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6CF62-365E-40E4-A86B-9C0AA24D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C2BC5-43D8-4F76-8934-28FD8A5A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C48F0-0727-4F42-A21A-BB0EF83B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A891A-A49D-4EB1-9228-5B791951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42B-F354-4474-9F6D-E4C7BAF9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62C5B-06E7-48FF-A331-CFE9119A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6C343-72A5-481F-957A-A44B08AD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48520-6DEF-4EDD-BEB5-179B7242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83D73-46C7-4D85-A27F-5215740A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64D92-4FF4-47C8-B9C4-4816E8A9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C4629-ABA9-44B0-AB09-37B5AA9A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B6B28-122C-4B2F-8495-F77AD6BE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B49C4-F588-476A-9209-D8F7DB4A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6D6A1-DEBE-4EDE-B349-ADFE0565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8E1C7-E72E-49BF-B3CB-E1105EB3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868-27FB-418A-B02F-4AAAF46A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1595C-58CB-4C35-8ECD-91FE3985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20A7B-8E9E-4405-80D4-49A58A5A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D54E3-2E8A-429A-9A02-0F912E03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C39CF-5329-42EE-AF1D-7AE27F21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0F6F6-9075-4B8F-A685-F06F6066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EB0E3-655D-4189-A4C3-BB883283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DE79B-83C7-4D52-8E90-617B235F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1B0E1-AD99-403B-838D-65EB6A38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C78C1-91B6-45C6-B5E5-7038862A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91420-0E86-4B65-81EB-45D85981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427C-09F8-490F-A76C-D8899E84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3F458-E466-4C3D-BCA9-5CED6E20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F96F6-E530-465D-8E96-3EB37E5D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F4D64-681F-4278-8F41-C536ADD0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9A57C-99CA-4EF7-877A-8324091D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47973-DB9C-4E9D-B2D7-F67FED78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0EC8B-FABE-4C1D-AB17-029AF512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79B8E-E048-425A-9B5A-6DA19870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7E854-1021-456F-97F1-AD6D6C50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A96BD-4851-4706-A1EC-DB71906F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5B292-8B95-45CA-9FAD-A25AF9F6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B49B-6286-479D-8555-96AD92A3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E146B-878D-4207-9CDC-92E8CFD4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A3DD3-2346-4491-B01D-E13B5A51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39057-CCBD-467E-B0F2-1BDC9591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D5B8B-896D-4B34-A939-F9853F0A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F450D-4F98-48B9-A159-3F107F00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25872-8D43-4990-9E8D-53C1E37B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ECD02-24C7-4119-B4D6-BB563E00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A1A87-6B60-4311-83A3-D39B2A8D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6C92A-D1F2-426E-90B2-382E62F5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F0ED2-9E59-4591-8633-B320B0B5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AA85-75C5-40AC-BDF5-2B086183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8787A-5BB9-4FF0-8FD4-9EC4C3CC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D7E16-8C22-41CB-B10D-B44A916F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5F973-6E79-4F45-8513-47CF8382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2547D-4481-4614-B637-E6123827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95205-790C-4D0A-A3B5-F33CC25C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30892-161C-44F5-9F75-E1D84426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17C56-3E17-403B-8A97-F400AF5A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B0C58-BEEE-4C74-8098-9485DAAE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0D417-18E7-4173-8D59-F8929083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28B05-A571-4802-B060-E3EE2F84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05CE-BDED-4D44-8C37-F593843F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3EC82-B0B7-4644-9161-8FF75EBA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D00A5-0312-4375-B4EF-BC0EF6BB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6CA2CF-9F07-4C59-A4FD-31BD5E72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12040-3404-46BE-9ADE-DC45EAD1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9DB57-C8D3-434C-A9A4-6F39746B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95A37-91BC-4AB4-AC09-1006C5A4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DF890-03A7-4149-9682-A7BEE2FA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8DB94-220D-4824-B3F1-E3E84C06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BB68A-DDF7-4C35-BBE5-F90A5C4F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9029-C61D-43D1-BF6F-CAD662AA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2C6A-6057-4F23-98DC-266B2F88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4584-BCAE-4F24-B484-D905A293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FEB-67CE-4608-AE9F-48796ADB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B9B8-72C6-4CF7-A5B8-B4919F71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EAA9-9C29-446E-809B-61DA7026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951A-48DC-4D41-8185-9D981123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818E-40DF-426B-BB02-12A8468A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ECF5-1FEC-4433-8AE9-0DB80B2B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465E7-17EC-49BA-9E56-6C99E5DB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579C4-4AB7-4F33-9D94-E81ADB7A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76EDE-1810-4572-BA46-929970A7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353B9-6AFC-4026-A3D4-9F1472F4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5B3D4-311D-4BE9-BAE6-B20996BE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5AE-85B5-42FE-A41D-1E02CA4E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F2499-11C7-4EEC-8F76-5B934C9D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3F4D-2242-4997-83E3-EF3515B7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25E7-3DB6-4E62-A9AB-D1B08209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8493C-239A-4E9D-A2F4-6822C618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5C7D-BB60-4651-BB1A-7AD912B0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FBAF0-EFDA-47CF-914D-3474EB56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D4E42-34EE-477C-B87B-EBC12F80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38925-4F7F-4F45-A076-DC6E3A2D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613ED-3F0A-46FC-8395-A9F4BD37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C72AA-0DA6-4C0A-80D4-A046FFD1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CA2-606D-4398-A78F-DAA2C9AE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41D80-8E0C-4260-9C8C-5167B89B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F5473-32C3-4DAE-B3AC-A33FA09F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5876A-016F-44EB-967E-093DD6A7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B6568-1D50-4380-BADF-35AE22B0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7BEB5-42BB-4D04-8188-90C267A1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307B5-1E05-4DD8-AFD8-3E05B436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3373A-5C3E-4257-AE2A-5E6BDF49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A1951-2C09-40D9-BF3D-B8C6519F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8D93F-4AB5-4639-A343-6831A177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FD4EE-8AE7-49EC-A62A-4BC3D6F5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EBA-395F-4C6B-AF1C-5275554A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D3E83-E6A9-499B-BBCE-10A0AD48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5BF82-6981-4A62-B2CD-0AE15CF1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F4E42-115C-4701-B366-93BE26BF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BF7B4-73E3-4944-BFB2-5CAB6342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4519A-2CF0-47A7-B965-BCE87915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95EFD-DF0A-4EDE-BCCE-86703EBA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78983-B9DD-445F-89BB-B486FEF3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5878B-2B66-41A1-8E30-D3AC2A4E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0DC5A-B618-4C53-A957-5086A05C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649F7-65CE-4FF5-A130-BEDF0EAB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206-8237-4889-B049-71A63361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17BF6-874D-423E-8348-A60154F7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46141-8B7B-4B5F-AFCB-FAC95B8F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17EA3-A64B-407D-8353-CBE2D252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AD90D-3A71-4885-89DB-CBCD5B11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904C4-C2C4-4DE7-871A-4581EBF0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1098A-01FC-4AF3-964F-79654261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9B69A-6F18-4D75-8F94-F63A8B5B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7E69D-6B3C-42F9-BC69-9650B803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C7F1B-09B3-4EBE-8A19-9BAB1092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5A6EF-A725-4D5E-A648-3640E417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8DB-CB5F-44D7-8109-DDB271BB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863D9-4065-4D53-AD4F-9DE1E7C0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3A24E-8B09-4111-8209-7102EE11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EFD4C-B8B4-455C-88B3-C8A435D8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86534-D164-4D19-9133-DE82B930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E497A-6011-4B00-BE84-1BA0F960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39DFA-9BEF-420D-AEC2-79A089DE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9A4E2-D6DE-483F-804B-B1964290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D4622-426F-451D-A893-D0829B69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42F05-0BBE-48F3-BE79-24B277AE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E78EC-5F99-4638-8DD4-B3B56D4F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48C-B302-459C-8575-966B6775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D44E8-1857-4D7C-A1E1-6537A574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AA354-3975-4B29-9887-43456725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ABBFD-85CC-4BD1-8B5C-16BA064C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6C634-C571-425E-BE76-1752E78C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38082-B8E1-4DE5-ADCD-F6507696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9AD27-8142-4351-99F3-242E4A44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2889C-1291-4534-8657-C136D9BF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E5DD1-1024-4CDA-8849-96751213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F9A17-47B8-4197-8BD0-DE9A9017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A46A7-07FA-485A-8B9B-026186C6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841B-E450-4FB8-9B11-942D4FC1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1CB6D-2A53-4352-97B6-C6972FCC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7C547-4BEB-486A-BCD9-1BABB487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6B69C-5BCA-4425-816C-ADFED525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B4165-DDAE-4F8D-98EE-F2687D01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D9C10-DCD1-425B-9F75-B97FE56A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3A61B-04EB-4D34-9B68-07987890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8F2FE-B72B-4DD6-A7CF-465A8BD7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D84B2-119D-4C3A-BB31-8245298F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ADE92-62E0-4A33-A46E-2320B942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43B77-709B-43BA-9D80-8B023D89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62CD-4B59-43D7-8A23-6754CAF2DC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B14F-C04E-4D3E-A7DF-52883A6951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F6F0-929C-4E83-8D8A-A1EB6C4676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D5A4-A970-4D93-AF56-DF3774A26D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8064-5CCF-4A4C-8EF9-ECBE9CC22C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EC8C-EB8F-42C0-8A13-8C6ECEF88D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94DF-09D1-407D-B854-0A8CB35FDA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AFA3-33EC-42FB-86A6-75A1D521D9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424A-4C08-47FF-AD40-13F043856A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869C-516F-4AEF-A756-35708E106D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7EEC-04E6-4669-A361-AEDD1345A4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980D-E604-4734-9A59-A700A65A8E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6B94-52CC-447A-9902-27B336AA0A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4F1C-4F00-4953-A369-3F41EA81CB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74.png"/><Relationship Id="rId32" Type="http://schemas.openxmlformats.org/officeDocument/2006/relationships/image" Target="../media/image75.png"/><Relationship Id="rId33" Type="http://schemas.openxmlformats.org/officeDocument/2006/relationships/image" Target="../media/image76.png"/><Relationship Id="rId34" Type="http://schemas.openxmlformats.org/officeDocument/2006/relationships/image" Target="../media/image77.png"/><Relationship Id="rId35" Type="http://schemas.openxmlformats.org/officeDocument/2006/relationships/image" Target="../media/image78.png"/><Relationship Id="rId36" Type="http://schemas.openxmlformats.org/officeDocument/2006/relationships/image" Target="../media/image79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83.png"/><Relationship Id="rId41" Type="http://schemas.openxmlformats.org/officeDocument/2006/relationships/image" Target="../media/image84.png"/><Relationship Id="rId42" Type="http://schemas.openxmlformats.org/officeDocument/2006/relationships/image" Target="../media/image85.png"/><Relationship Id="rId43" Type="http://schemas.openxmlformats.org/officeDocument/2006/relationships/image" Target="../media/image86.png"/><Relationship Id="rId44" Type="http://schemas.openxmlformats.org/officeDocument/2006/relationships/image" Target="../media/image87.png"/><Relationship Id="rId45" Type="http://schemas.openxmlformats.org/officeDocument/2006/relationships/image" Target="../media/image88.png"/><Relationship Id="rId46" Type="http://schemas.openxmlformats.org/officeDocument/2006/relationships/image" Target="../media/image89.png"/><Relationship Id="rId47" Type="http://schemas.openxmlformats.org/officeDocument/2006/relationships/image" Target="../media/image90.png"/><Relationship Id="rId48" Type="http://schemas.openxmlformats.org/officeDocument/2006/relationships/image" Target="../media/image91.png"/><Relationship Id="rId49" Type="http://schemas.openxmlformats.org/officeDocument/2006/relationships/image" Target="../media/image92.png"/><Relationship Id="rId50" Type="http://schemas.openxmlformats.org/officeDocument/2006/relationships/image" Target="../media/image93.png"/><Relationship Id="rId51" Type="http://schemas.openxmlformats.org/officeDocument/2006/relationships/image" Target="../media/image94.png"/><Relationship Id="rId52" Type="http://schemas.openxmlformats.org/officeDocument/2006/relationships/image" Target="../media/image95.png"/><Relationship Id="rId53" Type="http://schemas.openxmlformats.org/officeDocument/2006/relationships/image" Target="../media/image96.png"/><Relationship Id="rId54" Type="http://schemas.openxmlformats.org/officeDocument/2006/relationships/image" Target="../media/image97.png"/><Relationship Id="rId55" Type="http://schemas.openxmlformats.org/officeDocument/2006/relationships/image" Target="../media/image98.png"/><Relationship Id="rId56" Type="http://schemas.openxmlformats.org/officeDocument/2006/relationships/image" Target="../media/image99.png"/><Relationship Id="rId57" Type="http://schemas.openxmlformats.org/officeDocument/2006/relationships/image" Target="../media/image100.png"/><Relationship Id="rId58" Type="http://schemas.openxmlformats.org/officeDocument/2006/relationships/image" Target="../media/image101.png"/><Relationship Id="rId59" Type="http://schemas.openxmlformats.org/officeDocument/2006/relationships/image" Target="../media/image102.png"/><Relationship Id="rId60" Type="http://schemas.openxmlformats.org/officeDocument/2006/relationships/image" Target="../media/image103.png"/><Relationship Id="rId61" Type="http://schemas.openxmlformats.org/officeDocument/2006/relationships/image" Target="../media/image104.png"/><Relationship Id="rId62" Type="http://schemas.openxmlformats.org/officeDocument/2006/relationships/image" Target="../media/image105.png"/><Relationship Id="rId63" Type="http://schemas.openxmlformats.org/officeDocument/2006/relationships/image" Target="../media/image106.png"/><Relationship Id="rId64" Type="http://schemas.openxmlformats.org/officeDocument/2006/relationships/image" Target="../media/image107.png"/><Relationship Id="rId65" Type="http://schemas.openxmlformats.org/officeDocument/2006/relationships/image" Target="../media/image108.png"/><Relationship Id="rId66" Type="http://schemas.openxmlformats.org/officeDocument/2006/relationships/image" Target="../media/image109.png"/><Relationship Id="rId67" Type="http://schemas.openxmlformats.org/officeDocument/2006/relationships/image" Target="../media/image110.png"/><Relationship Id="rId68" Type="http://schemas.openxmlformats.org/officeDocument/2006/relationships/image" Target="../media/image111.png"/><Relationship Id="rId69" Type="http://schemas.openxmlformats.org/officeDocument/2006/relationships/image" Target="../media/image112.png"/><Relationship Id="rId70" Type="http://schemas.openxmlformats.org/officeDocument/2006/relationships/image" Target="../media/image113.png"/><Relationship Id="rId71" Type="http://schemas.openxmlformats.org/officeDocument/2006/relationships/image" Target="../media/image114.png"/><Relationship Id="rId72" Type="http://schemas.openxmlformats.org/officeDocument/2006/relationships/image" Target="../media/image115.png"/><Relationship Id="rId73" Type="http://schemas.openxmlformats.org/officeDocument/2006/relationships/image" Target="../media/image116.png"/><Relationship Id="rId74" Type="http://schemas.openxmlformats.org/officeDocument/2006/relationships/image" Target="../media/image117.png"/><Relationship Id="rId75" Type="http://schemas.openxmlformats.org/officeDocument/2006/relationships/image" Target="../media/image118.png"/><Relationship Id="rId76" Type="http://schemas.openxmlformats.org/officeDocument/2006/relationships/image" Target="../media/image119.png"/><Relationship Id="rId77" Type="http://schemas.openxmlformats.org/officeDocument/2006/relationships/image" Target="../media/image120.png"/><Relationship Id="rId78" Type="http://schemas.openxmlformats.org/officeDocument/2006/relationships/image" Target="../media/image121.png"/><Relationship Id="rId79" Type="http://schemas.openxmlformats.org/officeDocument/2006/relationships/image" Target="../media/image122.png"/><Relationship Id="rId80" Type="http://schemas.openxmlformats.org/officeDocument/2006/relationships/image" Target="../media/image123.png"/><Relationship Id="rId81" Type="http://schemas.openxmlformats.org/officeDocument/2006/relationships/image" Target="../media/image124.png"/><Relationship Id="rId82" Type="http://schemas.openxmlformats.org/officeDocument/2006/relationships/image" Target="../media/image125.png"/><Relationship Id="rId83" Type="http://schemas.openxmlformats.org/officeDocument/2006/relationships/image" Target="../media/image126.png"/><Relationship Id="rId84" Type="http://schemas.openxmlformats.org/officeDocument/2006/relationships/image" Target="../media/image127.png"/><Relationship Id="rId85" Type="http://schemas.openxmlformats.org/officeDocument/2006/relationships/image" Target="../media/image128.png"/><Relationship Id="rId86" Type="http://schemas.openxmlformats.org/officeDocument/2006/relationships/image" Target="../media/image129.png"/><Relationship Id="rId87" Type="http://schemas.openxmlformats.org/officeDocument/2006/relationships/image" Target="../media/image130.png"/><Relationship Id="rId88" Type="http://schemas.openxmlformats.org/officeDocument/2006/relationships/image" Target="../media/image131.png"/><Relationship Id="rId89" Type="http://schemas.openxmlformats.org/officeDocument/2006/relationships/image" Target="../media/image132.png"/><Relationship Id="rId90" Type="http://schemas.openxmlformats.org/officeDocument/2006/relationships/image" Target="../media/image133.png"/><Relationship Id="rId91" Type="http://schemas.openxmlformats.org/officeDocument/2006/relationships/image" Target="../media/image134.png"/><Relationship Id="rId92" Type="http://schemas.openxmlformats.org/officeDocument/2006/relationships/image" Target="../media/image135.png"/><Relationship Id="rId93" Type="http://schemas.openxmlformats.org/officeDocument/2006/relationships/image" Target="../media/image136.png"/><Relationship Id="rId94" Type="http://schemas.openxmlformats.org/officeDocument/2006/relationships/image" Target="../media/image137.png"/><Relationship Id="rId95" Type="http://schemas.openxmlformats.org/officeDocument/2006/relationships/image" Target="../media/image138.png"/><Relationship Id="rId96" Type="http://schemas.openxmlformats.org/officeDocument/2006/relationships/image" Target="../media/image139.png"/><Relationship Id="rId97" Type="http://schemas.openxmlformats.org/officeDocument/2006/relationships/image" Target="../media/image140.png"/><Relationship Id="rId98" Type="http://schemas.openxmlformats.org/officeDocument/2006/relationships/image" Target="../media/image141.png"/><Relationship Id="rId99" Type="http://schemas.openxmlformats.org/officeDocument/2006/relationships/image" Target="../media/image142.png"/><Relationship Id="rId100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12sc.taobao.com/" TargetMode="External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9283320" y="433404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商融资 项目推广 项目介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文本框 32"/>
          <p:cNvSpPr/>
          <p:nvPr/>
        </p:nvSpPr>
        <p:spPr>
          <a:xfrm>
            <a:off x="465840" y="336600"/>
            <a:ext cx="48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风素材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9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0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1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5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6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0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1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3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4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5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6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8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0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1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3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4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4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5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6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7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0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3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4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6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7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1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2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4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3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4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5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7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6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7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9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0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1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2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4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5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8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1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3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8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69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0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2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4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5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7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8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79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0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2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4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5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7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89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0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2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3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7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8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3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2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6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7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7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8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49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5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6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7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7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9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3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4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6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7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9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0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1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3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4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6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7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8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0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1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3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4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5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7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8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1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2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4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6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7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199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9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5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7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8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3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6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4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5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1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2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3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5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6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7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8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0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1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2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3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5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6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7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8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0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1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2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3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5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6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5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6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7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9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0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2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3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7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8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5" name="Shape 21"/>
          <p:cNvCxnSpPr>
            <a:stCxn id="1374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6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7" name="Shape 11"/>
          <p:cNvCxnSpPr>
            <a:stCxn id="1376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8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9" name="Shape 16"/>
          <p:cNvCxnSpPr>
            <a:stCxn id="1378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0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1" name="Shape 19"/>
          <p:cNvCxnSpPr>
            <a:stCxn id="1380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2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0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1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3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5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09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3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4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6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7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7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8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1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2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3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7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8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2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3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5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7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8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0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8"/>
          <p:cNvSpPr/>
          <p:nvPr/>
        </p:nvSpPr>
        <p:spPr>
          <a:xfrm>
            <a:off x="10413000" y="39052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风 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直接连接符 27"/>
          <p:cNvSpPr/>
          <p:nvPr/>
        </p:nvSpPr>
        <p:spPr>
          <a:xfrm>
            <a:off x="36504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文本框 32"/>
          <p:cNvSpPr/>
          <p:nvPr/>
        </p:nvSpPr>
        <p:spPr>
          <a:xfrm>
            <a:off x="465840" y="336600"/>
            <a:ext cx="48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风素材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6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9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50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4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5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6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7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8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59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1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2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3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5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6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8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9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0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1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2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3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4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5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6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7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8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0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1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2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3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4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5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6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1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2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3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4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6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7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1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2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3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4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09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10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1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2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3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8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19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20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1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3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4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6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7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1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2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3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4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5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6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8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39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0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1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2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3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8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49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50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2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3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8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59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0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1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3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4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5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6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7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9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70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1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2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3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4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5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6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7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79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80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4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5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6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9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90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1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2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6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7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8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99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4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5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TextBox 1"/>
          <p:cNvSpPr/>
          <p:nvPr/>
        </p:nvSpPr>
        <p:spPr>
          <a:xfrm>
            <a:off x="1998720" y="2516040"/>
            <a:ext cx="830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清风素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12sc.taobao.com/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整理发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5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6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79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1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5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6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7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8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6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7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8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0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1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4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6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7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6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8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799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1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1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2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5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6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3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清风素材; 12sc.taobao.com</dc:creator>
  <dc:description>12sc.taobao.com</dc:description>
  <cp:keywords>12sc.taobao.com</cp:keywords>
  <dc:language>en-US</dc:language>
  <cp:lastModifiedBy>admin</cp:lastModifiedBy>
  <dcterms:modified xsi:type="dcterms:W3CDTF">2016-03-16T06:53:16Z</dcterms:modified>
  <cp:revision>123</cp:revision>
  <dc:subject>12sc.taobao.com</dc:subject>
  <dc:title>PowerPoint 演示文稿</dc:title>
</cp:coreProperties>
</file>