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5CE-9057-4C15-9275-919F70AD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F01-CB36-42AA-A193-FDC6945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9C561-9FF1-49BE-98D0-062A514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53B75-62FF-444B-A745-9ED2C6D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786E-00A7-4C53-9033-5649301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26B2B-6D7A-4FC1-B05C-E925DF8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E5A5F-75DB-448B-B73D-96C048C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9FC73-FF62-496D-BE63-30E7437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0E77D-0C2A-4C0B-8920-82B94DF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90DB8-2474-4B8F-B9A9-9B0CA0B6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67EB8-EBD7-4C0A-BC6E-31C1AF22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45FE2-354A-4CA5-871E-1E5254AB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551-76E4-4BC6-A04A-F8BC794A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0078A-5859-4D67-9094-EBE0F7D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42370-D9AA-4036-B121-D405CCE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A55EF-CFB6-4506-A960-417B5182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6F9F-4484-4B6C-9E2F-0E33047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36C9E-78F1-41EA-A305-D5AA025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31868-AA02-4320-A9FD-5BA4C9F8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8F528-2C95-4995-B8BC-CBB0C60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06778-9C9D-45A2-BDE5-1A88A1D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AF896-CED1-4580-90BE-FE0216E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9154A-D705-4A3B-B7D6-F1E50D4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FB0-B251-4F2D-A857-4B496C15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30E00-FD4E-40DB-8BDD-FF25AF3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25950-D559-45CD-A71C-24EF0B85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BE3B0-344F-4B1E-B6E5-F39DBB49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064C2-4BBA-46F1-AF45-902FBB3F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53F09-B25F-44B9-B22F-B842FCA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9ED5B-5EA4-4A9C-9BF0-F1AC737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CF50E-ABC2-47B0-9FBA-DA89FA1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2BD0F-DC1D-4A4C-9DA1-70CF8F6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38912-8F3F-4045-ABBE-D754F35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7D067-955E-4436-BD98-1ACBFF38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9FA-8862-48F6-93FD-B8ABEEFE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8534-9594-4F9C-BEF0-8FEC616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337E5-33CE-4640-B14A-9DEE6530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D3441-5857-4CC1-A95B-20093A71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560A-8E44-407E-B8F5-DB41D6E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05E10-A6B5-4120-AA47-FAA3375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F6238-732B-4611-8421-BA9B379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3B4B-956A-4F89-B39C-4791DA9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231AF-B828-4093-8B5E-4B06572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14622-064D-406D-B517-6B8F711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86C63-C02E-4FF0-868A-9EC2805E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068-AE8C-4032-A1C6-B2B8DFC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A90D-95DB-4225-8DFA-D28E7CC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7B3C9-7886-4416-B776-A3A566A7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40F16-C77F-4A8B-AE4E-CBC639A4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8D035-E301-4717-A197-D1CE03B2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1A8BD-BC01-44B5-A3E6-738F3B2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66358-E707-4464-B518-B6B2E73D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51F34-D8AC-472D-998A-456820F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92502-02C6-4A16-9D2B-52A79D65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7AB1D-B1AE-477B-872A-E1F4206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898A6-5838-4440-B9DB-066A5FEF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3B9-682A-4164-B86B-A7123C7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EB6BC-9D86-4726-A0F3-8B04B412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F06BE-FA81-4E25-AC20-7E22A95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3DAFE-1881-4CF0-9903-2A6F13E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5D9C2-F85F-4476-9E2B-5CB1B3B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6C25C-1E50-4B81-8D26-B1D2103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DBD78-222D-4334-A50F-FD945265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78328-890B-41BA-B4DC-C240DA77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FED61-E288-4204-A19B-491B4BB1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A7A9C-FE14-4D26-887C-D189D12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BB459-1213-4CBB-90C9-EF57953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1A6F-CBE8-4B0D-A666-715645AE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94340-BF39-4288-B8D0-3165DF74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F50B4-6DEB-495A-9D02-C97A18A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27110-2D10-434C-A80A-A269DACD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25CA2-AD04-4F48-913E-C7C124F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E30CA-E429-449E-BDB8-9E25C17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0F65D-3EB9-4CC4-8CAB-D239CD5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88BC8-ED8D-473E-B9E3-6BB6435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98D76-300C-4B54-BD61-C5453410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7D347-E218-417A-90FA-DFEBF8A0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9087-E50E-4ADC-89CF-8D75CCAC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B31C-5696-4BFF-BED5-76CBF1E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D06A-9A08-4BD7-9AB3-CEB3EEB3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43F-4BBB-4D9E-825F-F34E80D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3AC-EA06-40F0-92E3-2B89885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488E-F2E8-455E-9E24-BC70C6A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3F83-7533-45C3-8B73-0F0B5E4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0223-99C6-4808-8DA6-90853377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D19-B543-4F25-9F63-2279CA8B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DD06-B235-49D3-8F1D-C0B39F16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8BE1-FF76-4291-9E00-8144347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DFC2-CCB0-4AA8-921E-734C8347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FAE5-97C0-4918-B83C-758E7AF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6E22-520E-4094-A512-A451D93D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E39-0085-4288-AA81-BC9812AA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AA12-09A0-4070-9ADC-EB9355BB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4FA5-D86E-4142-BEE8-C39FFC2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7827-B986-44DB-A229-A0CF8BE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E99F-E511-4E7C-A955-1BFB29F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D0A3-35F1-4AFB-9D76-CEB5857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3B09-6EFF-40CE-9335-33700501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0B08-71BA-4409-BB21-6171F404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AA05-82D1-4F60-B0E8-92AD9175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74D0-CA0E-4F83-B773-9997784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72F0-E7E5-4ADE-B53D-9A1E9AA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4B8-B87C-4D3D-9C77-B4DDB0B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6F06-FF72-454D-B84B-FF570813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711B-F393-4529-97FC-9CAF8DA6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4F00-E07E-415E-BFCE-2A27F2DA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3F82-25E0-43F2-8A04-4C3A906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6176-BE2C-4A87-8B10-31BB288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F26F-5A1F-4548-B2FA-CF411E2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F4A8-9774-4645-984D-F0C39CB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C40A7-6C22-4B7D-9EF8-5A722227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0FFC-EFE2-4451-A4A1-FB759E5D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63D9-E25F-4501-BADF-431C8E2D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CDA-D820-4E2D-BBD7-3AF32BB3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7E36-885D-4348-A6D1-1671F4D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24304-E58D-415F-A814-AE7AE49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333E-0733-463B-BA67-60C234A8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53AD-4D48-482D-9536-5D2C8D39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E65F-9D9C-42F6-9206-3B136859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B37B-F912-4F8F-8A05-C4366A0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55F9-C70E-4DB7-BE94-D1D5F1C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67099-1885-4AA2-B1AD-133CE89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4CBA-A1A3-437A-AB20-FFB448F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5D60-45B8-44F8-AC88-0001360B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41E-8AFD-4013-B9B9-4B81BA4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85A4-4F6C-4934-A02D-1695E35B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3927-7C27-4A12-8637-25490762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F425-5D81-4009-80DB-261B3DA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008F-E356-49A5-8C34-EE8E23D2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369F-A4B4-4E16-8581-1B178ACC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61BD-6EF1-46E7-8A3F-CBCB5BA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DC48-3EC2-40D1-94FD-42236AF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C850-97FF-4535-A82A-2EA3A0B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547AF-8350-47E9-916D-B62F865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112D-DBD3-4152-BADD-B35EC95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ABA-EC3C-4E46-81A1-84EADAE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3758-D846-47FA-8E0E-DB1D24D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2B55-E51C-4C8B-AFA1-36EE9880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AA1DA-ACAA-43D7-80C8-BFF51652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F3B8-45D8-4E22-ADDA-26AD6155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C123-F803-4DB1-94BA-38510D65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E34A-12D0-4B2E-B09D-0A54838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C35E-0B0D-4E6C-B5B9-28A2737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6979-0F44-431E-9051-309B9A5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1EF5-6CD3-4A31-A293-69B49EDA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5B98-92C8-4C12-85FE-C1A858F4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96E-C235-467E-9F9E-55629ED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3717-6F25-4940-AFA5-57382CE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3D36-23FD-4DC4-9691-F0255F1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94F6-1AB9-49BA-A704-675755B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25CF-4EF3-4821-B956-CF193CE8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62292-381D-4CCE-9F3A-AD9B3D85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3809-2757-4250-89EE-6F0EDD6C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3FCD-719B-4888-B47E-B5F6F910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8AC85-2ED7-4921-B47F-6453D911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4DB34-11FB-4871-BBC0-8B99E3D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74B7-8492-4B05-8627-2BE296B5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DC4-61B2-4F34-94E4-20F959C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E411E-09FA-43D6-A465-F79F734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C211-75E4-421C-B509-F8266477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A60E-0A07-4F3D-BD3F-16C55B9D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27040-135D-4C50-B96B-38749BD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68BA-C84A-463E-8D97-D5EEB07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1C4E-8555-465A-9CEE-FB7898E1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362ED-9D8C-4475-ADFF-3F58DDE8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820B-F48E-4059-84F9-43D530EB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EFCE7-7D30-4937-9622-86D59D69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BE732-9002-4E28-84A7-1AB5793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FF9-D2A8-428A-A97B-B281CA2C64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F62-B52D-4CD5-AD9A-7A0DAE2F47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29B-9EFE-4FC5-BF78-A7AEA3D20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FE1B-0173-40DB-A051-11F0AB4BC8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EA4-8EDD-4714-A95D-87EB655EB4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9C1-4D1F-4161-BEEB-152EE8728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433-7FE3-4E67-A5B8-04D44BDC2F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C46B-1D3D-42EA-8856-41526B7FB1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8CC5-2503-4BC3-9033-E644BC2FC0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229-049F-434C-9304-26ACEDE2DA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7AA-8670-422B-81BA-A317DDAF54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9D0A-8C39-4BC4-99A7-49F4D96280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127-1569-42AA-B605-A5DD93151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3B17-D056-4304-B271-4E59AE457E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10413000" y="39052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6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5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6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7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8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9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2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3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5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6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2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4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5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8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1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2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3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4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2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7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2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0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2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3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8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1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4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2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3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5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9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0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8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9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0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2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9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0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4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6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7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9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0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1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5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6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0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4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5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9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2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6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7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8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5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6:53:16Z</dcterms:modified>
  <cp:revision>123</cp:revision>
  <dc:subject>12sc.taobao.com</dc:subject>
  <dc:title>PowerPoint 演示文稿</dc:title>
</cp:coreProperties>
</file>