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454A-A704-4DC5-B2D9-6D5FD295E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A348-8BFF-46B6-972C-33243464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2A8F-2286-46ED-B2E6-49BE46369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C917-836B-475F-96A3-25F54F3EE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DE06-A1D4-4852-A58A-CCFE1933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0176-4969-4F6E-B7F9-F2CD9B7A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FBF9-1770-4A5C-B26B-A0BDDFE9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CB92-A261-45CA-B744-4BCD2652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339C-1CA4-4558-A5F4-7B649295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9204-5920-4D08-BA01-920D7EEE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5BAC-35B3-494E-A506-020FD3E5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BF19-0384-491C-BC54-CFC9A8D5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579A-1072-4478-A97B-4AE6704B40E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762360" y="450720"/>
            <a:ext cx="4800600" cy="605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594240" y="982800"/>
            <a:ext cx="4681440" cy="4663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91000" y="2790720"/>
            <a:ext cx="12574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316996"/>
                </a:solidFill>
                <a:latin typeface="Calibri"/>
                <a:ea typeface="微软雅黑"/>
              </a:rPr>
              <a:t>目录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114880" y="3257640"/>
            <a:ext cx="1714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16996"/>
                </a:solidFill>
                <a:latin typeface="Arial"/>
                <a:ea typeface="微软雅黑"/>
              </a:rPr>
              <a:t>CONTEN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2390760" y="157176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/ 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快乐工作源于自己的选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1819440" y="152388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NO.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467676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/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快乐工作不能缺少的要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1638360" y="462924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NO.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4505400" y="560088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/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展现自己的价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3924360" y="555300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NO.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8381880" y="455292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/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让快乐围绕在身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7810560" y="450540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NO.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8972640" y="336240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/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让快乐变得简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8400960" y="3314880"/>
            <a:ext cx="7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NO.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8620200" y="207648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/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做个快乐生活的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8048520" y="2028960"/>
            <a:ext cx="7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NO.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6896160" y="101916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/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用心去生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6305400" y="971640"/>
            <a:ext cx="7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NO.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0077480" y="318960"/>
            <a:ext cx="177156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14280" y="2523960"/>
            <a:ext cx="40957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Arial"/>
                <a:ea typeface="微软雅黑"/>
              </a:rPr>
              <a:t>NO.1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4819680" y="3219480"/>
            <a:ext cx="39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快乐工作源于自己的选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0077480" y="318960"/>
            <a:ext cx="177156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81200" y="552600"/>
            <a:ext cx="1704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  <a:ea typeface="微软雅黑"/>
              </a:rPr>
              <a:t>NO.1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2371680" y="838080"/>
            <a:ext cx="39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快乐工作源于自己的选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76240" y="1857240"/>
            <a:ext cx="4924440" cy="4124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343560" y="3152880"/>
            <a:ext cx="521028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活着永远有两个选择：快乐和悲伤，快乐的人活得洒脱活得知足， 悲伤的人活得苦恼活得压抑。 工作的乐趣就在工作是生活中的一部分，用好的心态去对待工作 中的每一件事，快乐地完成它，这样我们就可以享受工作带来的乐趣， 并且可以在整个工作过程中感受到自己成长的幸福。 生活的乐趣本来就是生存中非常重要的内容，但是由于社会竞争 的空前激烈和工作强度的不断提高，现代社会的人性，已经完全被金钱 淹没在无休止的打拼和无尽头的奋斗中了，很多人为了追求金钱和名 誉，把自己的健康、空闲时间、舒畅的心情等等全都牺牲掉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0077480" y="318960"/>
            <a:ext cx="177156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228840" y="973080"/>
            <a:ext cx="532152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微软用户</cp:lastModifiedBy>
  <dcterms:modified xsi:type="dcterms:W3CDTF">2014-09-06T14:43:54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