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83B-0C6A-41BA-B0D3-E7D21796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5AA5-017B-4AF2-8B43-8F49A9B7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BC5-307B-49E5-9C7B-DE895BF5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DBA0-A719-4D94-B89E-AABBD56A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F62-AF52-4882-B6C5-5F984806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5E3-1423-44D8-8FE3-EA61BC98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E28D-7AE0-4805-A560-C8C60B8C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B09-52A9-40BF-9FDC-F92F8185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E33-3463-4655-89E1-E4FB3840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876-5CB5-4F58-AFE6-722F8529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B2B-D8A3-49DA-9034-E27AC460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B07C-35FE-4D58-AFF3-7A9DAAE1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9F5F-9FA7-44BE-8B74-C8E4E7500828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CEAC-2967-405C-98B0-894EE0611BF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组合 61"/>
          <p:cNvGrpSpPr/>
          <p:nvPr/>
        </p:nvGrpSpPr>
        <p:grpSpPr>
          <a:xfrm>
            <a:off x="2916360" y="1522440"/>
            <a:ext cx="1206360" cy="488160"/>
            <a:chOff x="2916360" y="1522440"/>
            <a:chExt cx="1206360" cy="488160"/>
          </a:xfrm>
        </p:grpSpPr>
        <p:sp>
          <p:nvSpPr>
            <p:cNvPr id="44" name="任意多边形 62"/>
            <p:cNvSpPr/>
            <p:nvPr/>
          </p:nvSpPr>
          <p:spPr>
            <a:xfrm>
              <a:off x="2916360" y="1522440"/>
              <a:ext cx="663480" cy="390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Box 63"/>
            <p:cNvSpPr/>
            <p:nvPr/>
          </p:nvSpPr>
          <p:spPr>
            <a:xfrm>
              <a:off x="3093480" y="1779480"/>
              <a:ext cx="102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8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414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424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427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430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433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92" dur="21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1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4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4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3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3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4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4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4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6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6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7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7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7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8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8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97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0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0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1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1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1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2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538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7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87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90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93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96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9" dur="21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5" dur="250" autoRev="1" fill="hold"/>
                                        <p:tgtEl>
                                          <p:spTgt spid="5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0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0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0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0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0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1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621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0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6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6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7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7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7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8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1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1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1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1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1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9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735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738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741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0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4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4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5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5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5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7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0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1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7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70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3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6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9" dur="21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7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7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8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8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8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7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98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802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806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810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3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0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2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2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2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852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853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6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857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0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9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6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6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6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6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6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7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0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1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1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916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8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919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2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5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926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8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929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2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936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8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939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2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9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9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1" dur="250" autoRev="1" fill="hold"/>
                                        <p:tgtEl>
                                          <p:spTgt spid="9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948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958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961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964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967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82" dur="21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18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9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9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9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8" dur="250" autoRev="1" fill="hold"/>
                                        <p:tgtEl>
                                          <p:spTgt spid="9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97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97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7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7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7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8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1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999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0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3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1025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1028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1031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1035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0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3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1064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1067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9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1070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2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1073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5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1076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8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1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1082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4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1085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1088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0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nodeType="clickEffect" fill="hold">
                      <p:stCondLst>
                        <p:cond delay="0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111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111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112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112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112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113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113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14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14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14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14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15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0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16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16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6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6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6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2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183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184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6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7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188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1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192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5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nodeType="clickEffect" fill="hold">
                      <p:stCondLst>
                        <p:cond delay="0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101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102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8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9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15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16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17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24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25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2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8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229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1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232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4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235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7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0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2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nodeType="clickEffect" fill="hold">
                      <p:stCondLst>
                        <p:cond delay="0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8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7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7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7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7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8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2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293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6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297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298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1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302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306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9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310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13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0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7" name="组合 48"/>
          <p:cNvGrpSpPr/>
          <p:nvPr/>
        </p:nvGrpSpPr>
        <p:grpSpPr>
          <a:xfrm>
            <a:off x="2916360" y="1522440"/>
            <a:ext cx="1206360" cy="581400"/>
            <a:chOff x="2916360" y="1522440"/>
            <a:chExt cx="1206360" cy="581400"/>
          </a:xfrm>
        </p:grpSpPr>
        <p:sp>
          <p:nvSpPr>
            <p:cNvPr id="1318" name="任意多边形 49"/>
            <p:cNvSpPr/>
            <p:nvPr/>
          </p:nvSpPr>
          <p:spPr>
            <a:xfrm>
              <a:off x="2916360" y="1522440"/>
              <a:ext cx="663480" cy="3913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TextBox 50"/>
            <p:cNvSpPr/>
            <p:nvPr/>
          </p:nvSpPr>
          <p:spPr>
            <a:xfrm>
              <a:off x="3093480" y="1735560"/>
              <a:ext cx="102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fans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凡商务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0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1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322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nodeType="clickEffect" fill="hold">
                      <p:stCondLst>
                        <p:cond delay="0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8" dur="2100" fill="hold"/>
                                        <p:tgtEl>
                                          <p:spTgt spid="1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1" dur="18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12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3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3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3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4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4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4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56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58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6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6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6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7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7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7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9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27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28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3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4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4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4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4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5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59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60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64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65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68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71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72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75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80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9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0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0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0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0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320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323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326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329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333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Windows 用户</dc:creator>
  <dc:description/>
  <cp:keywords/>
  <dc:language>en-US</dc:language>
  <cp:lastModifiedBy>Administrator</cp:lastModifiedBy>
  <dcterms:modified xsi:type="dcterms:W3CDTF">2015-12-03T04:34:19Z</dcterms:modified>
  <cp:revision>7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