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6DD-5F58-4891-A9E7-1F54A6F5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82B-CB78-4568-9950-2E96A473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548C-32FE-4855-AF96-AF744221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05D-2270-45F8-BFBB-623A4F46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A03C-D266-454B-9F13-80C93CEF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E4F-612E-49F4-8EE3-9D01D17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B82B-C3E2-4B90-B469-88BCF8E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82B-D7C7-4C4C-A03A-2E972DE7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D8B2-472D-4F9A-BE72-B1E1CE7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8145-7BC7-4596-83EC-FAA9EB22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3247-4AFF-44E1-8DAA-B2D8483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4BA-D470-4147-955A-21B1EC60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858-4FF1-4715-8FF7-E0D1A126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2F13-6CFE-493A-BAAC-936213EB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6E2C-84AF-4E89-8238-9710735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8E23-FD78-4D0E-8CA1-E036B936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3262-C10B-4246-8F71-567962F8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428-0667-4B74-9CCF-A88CBA8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985-15FD-4362-81E5-06DC6D58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F4A-7596-4EA1-8BF7-216CE7CC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0C8A-DFC5-4859-84E1-9F38CFC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D7E-51DD-41DE-B006-6D535D1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7CD-F592-4877-B197-CF5B9BB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824-D696-43F6-B11D-4578540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322-0F5C-4445-9BCA-E0165935D0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CE3-20C6-4936-AED2-9E1A9C1610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45A2-D9B0-4AEA-A338-9F0EB424036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7103-035C-4853-B5E3-D1CC680942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>
              <a:gd name="textAreaLeft" fmla="*/ 0 w 2930400"/>
              <a:gd name="textAreaRight" fmla="*/ 2930760 w 2930400"/>
              <a:gd name="textAreaTop" fmla="*/ 0 h 5530680"/>
              <a:gd name="textAreaBottom" fmla="*/ 5530680 h 5530680"/>
            </a:gdLst>
            <a:ahLst/>
            <a:rect l="textAreaLeft" t="textAreaTop" r="textAreaRight" b="textAreaBottom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4602240"/>
              <a:gd name="textAreaBottom" fmla="*/ 4602600 h 4602240"/>
            </a:gdLst>
            <a:ahLst/>
            <a:rect l="textAreaLeft" t="textAreaTop" r="textAreaRight" b="textAreaBottom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>
              <a:gd name="textAreaLeft" fmla="*/ 0 w 3081240"/>
              <a:gd name="textAreaRight" fmla="*/ 3081600 w 3081240"/>
              <a:gd name="textAreaTop" fmla="*/ 0 h 5478480"/>
              <a:gd name="textAreaBottom" fmla="*/ 5478840 h 5478480"/>
            </a:gdLst>
            <a:ahLst/>
            <a:rect l="textAreaLeft" t="textAreaTop" r="textAreaRight" b="textAreaBottom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3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>
              <a:gd name="textAreaLeft" fmla="*/ 360 w 1098720"/>
              <a:gd name="textAreaRight" fmla="*/ 1099440 w 10987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>
              <a:gd name="textAreaLeft" fmla="*/ -360 w 1096920"/>
              <a:gd name="textAreaRight" fmla="*/ 1096920 w 109692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1062720"/>
                <a:gd name="textAreaBottom" fmla="*/ 1063080 h 1062720"/>
              </a:gdLst>
              <a:ahLst/>
              <a:rect l="textAreaLeft" t="textAreaTop" r="textAreaRight" b="textAreaBottom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>
              <a:gd name="textAreaLeft" fmla="*/ 0 w 1052640"/>
              <a:gd name="textAreaRight" fmla="*/ 1053000 w 105264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>
              <a:gd name="textAreaLeft" fmla="*/ 0 w 1074600"/>
              <a:gd name="textAreaRight" fmla="*/ 1074960 w 1074600"/>
              <a:gd name="textAreaTop" fmla="*/ 0 h 1149480"/>
              <a:gd name="textAreaBottom" fmla="*/ 1149840 h 114948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089000"/>
              <a:gd name="textAreaBottom" fmla="*/ 1089360 h 1089000"/>
            </a:gdLst>
            <a:ahLst/>
            <a:rect l="textAreaLeft" t="textAreaTop" r="textAreaRight" b="textAreaBottom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725040" y="3929040"/>
            <a:ext cx="9565200" cy="8280"/>
            <a:chOff x="725040" y="3929040"/>
            <a:chExt cx="9565200" cy="8280"/>
          </a:xfrm>
        </p:grpSpPr>
        <p:cxnSp>
          <p:nvCxnSpPr>
            <p:cNvPr id="327" name="直接箭头连接符 6"/>
            <p:cNvCxnSpPr/>
            <p:nvPr/>
          </p:nvCxnSpPr>
          <p:spPr>
            <a:xfrm>
              <a:off x="725040" y="3929040"/>
              <a:ext cx="9565560" cy="8640"/>
            </a:xfrm>
            <a:prstGeom prst="straightConnector1">
              <a:avLst/>
            </a:prstGeom>
            <a:ln w="25560">
              <a:solidFill>
                <a:srgbClr val="3a87c5"/>
              </a:solidFill>
              <a:bevel/>
              <a:tailEnd len="med" type="triangle" w="med"/>
            </a:ln>
          </p:spPr>
        </p:cxnSp>
        <p:sp>
          <p:nvSpPr>
            <p:cNvPr id="328" name=""/>
            <p:cNvSpPr txBox="1"/>
            <p:nvPr/>
          </p:nvSpPr>
          <p:spPr>
            <a:xfrm>
              <a:off x="725040" y="3929040"/>
              <a:ext cx="95648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>
              <a:gd name="textAreaLeft" fmla="*/ -360 w 517320"/>
              <a:gd name="textAreaRight" fmla="*/ 517320 w 5173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>
              <a:gd name="textAreaLeft" fmla="*/ 360 w 517680"/>
              <a:gd name="textAreaRight" fmla="*/ 518400 w 5176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4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7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50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3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0851840" y="3927600"/>
            <a:ext cx="670320" cy="1800"/>
            <a:chOff x="10851840" y="3927600"/>
            <a:chExt cx="670320" cy="1800"/>
          </a:xfrm>
        </p:grpSpPr>
        <p:cxnSp>
          <p:nvCxnSpPr>
            <p:cNvPr id="360" name="直接箭头连接符 50"/>
            <p:cNvCxnSpPr/>
            <p:nvPr/>
          </p:nvCxnSpPr>
          <p:spPr>
            <a:xfrm>
              <a:off x="10851840" y="3927600"/>
              <a:ext cx="670680" cy="2160"/>
            </a:xfrm>
            <a:prstGeom prst="straightConnector1">
              <a:avLst/>
            </a:prstGeom>
            <a:ln w="25560">
              <a:solidFill>
                <a:srgbClr val="e1992f"/>
              </a:solidFill>
              <a:bevel/>
              <a:tailEnd len="med" type="triangle" w="med"/>
            </a:ln>
          </p:spPr>
        </p:cxnSp>
        <p:sp>
          <p:nvSpPr>
            <p:cNvPr id="361" name=""/>
            <p:cNvSpPr txBox="1"/>
            <p:nvPr/>
          </p:nvSpPr>
          <p:spPr>
            <a:xfrm>
              <a:off x="10851840" y="3927600"/>
              <a:ext cx="669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>
              <a:gd name="textAreaLeft" fmla="*/ 0 w 8597880"/>
              <a:gd name="textAreaRight" fmla="*/ 8598240 w 8597880"/>
              <a:gd name="textAreaTop" fmla="*/ 0 h 1679760"/>
              <a:gd name="textAreaBottom" fmla="*/ 1680120 h 1679760"/>
            </a:gdLst>
            <a:ahLst/>
            <a:rect l="textAreaLeft" t="textAreaTop" r="textAreaRight" b="textAreaBottom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>
                <a:gd name="textAreaLeft" fmla="*/ 0 w 2387160"/>
                <a:gd name="textAreaRight" fmla="*/ 2387520 w 2387160"/>
                <a:gd name="textAreaTop" fmla="*/ 0 h 1535040"/>
                <a:gd name="textAreaBottom" fmla="*/ 1535400 h 1535040"/>
              </a:gdLst>
              <a:ahLst/>
              <a:rect l="textAreaLeft" t="textAreaTop" r="textAreaRight" b="textAreaBottom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亲们选择玩转大学素材，我们立志做最好的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>
              <a:gd name="textAreaLeft" fmla="*/ -360 w 1629000"/>
              <a:gd name="textAreaRight" fmla="*/ 1629000 w 1629000"/>
              <a:gd name="textAreaTop" fmla="*/ 0 h 3259080"/>
              <a:gd name="textAreaBottom" fmla="*/ 3259440 h 325908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>
              <a:gd name="textAreaLeft" fmla="*/ 360 w 1141200"/>
              <a:gd name="textAreaRight" fmla="*/ 1141920 w 11412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>
              <a:gd name="textAreaLeft" fmla="*/ -360 w 1141560"/>
              <a:gd name="textAreaRight" fmla="*/ 1141560 w 114156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>
              <a:gd name="textAreaLeft" fmla="*/ 0 w 663480"/>
              <a:gd name="textAreaRight" fmla="*/ 663840 w 663480"/>
              <a:gd name="textAreaTop" fmla="*/ 0 h 668520"/>
              <a:gd name="textAreaBottom" fmla="*/ 668880 h 668520"/>
            </a:gdLst>
            <a:ahLst/>
            <a:rect l="textAreaLeft" t="textAreaTop" r="textAreaRight" b="textAreaBottom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>
              <a:gd name="textAreaLeft" fmla="*/ 0 w 393840"/>
              <a:gd name="textAreaRight" fmla="*/ 394200 w 39384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>
              <a:gd name="textAreaLeft" fmla="*/ -360 w 1989000"/>
              <a:gd name="textAreaRight" fmla="*/ 1989000 w 1989000"/>
              <a:gd name="textAreaTop" fmla="*/ 0 h 3981240"/>
              <a:gd name="textAreaBottom" fmla="*/ 3981600 h 3981240"/>
            </a:gdLst>
            <a:ahLst/>
            <a:rect l="textAreaLeft" t="textAreaTop" r="textAreaRight" b="textAreaBottom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>
              <a:gd name="textAreaLeft" fmla="*/ 0 w 574560"/>
              <a:gd name="textAreaRight" fmla="*/ 574920 w 57456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6520"/>
                <a:gd name="textAreaBottom" fmla="*/ 326880 h 326520"/>
              </a:gdLst>
              <a:ahLst/>
              <a:rect l="textAreaLeft" t="textAreaTop" r="textAreaRight" b="textAreaBottom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>
                <a:gd name="textAreaLeft" fmla="*/ 0 w 2171520"/>
                <a:gd name="textAreaRight" fmla="*/ 2171880 w 2171520"/>
                <a:gd name="textAreaTop" fmla="*/ 0 h 1905480"/>
                <a:gd name="textAreaBottom" fmla="*/ 1905840 h 1905480"/>
              </a:gdLst>
              <a:ahLst/>
              <a:rect l="textAreaLeft" t="textAreaTop" r="textAreaRight" b="textAreaBottom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>
                <a:gd name="textAreaLeft" fmla="*/ 0 w 1252800"/>
                <a:gd name="textAreaRight" fmla="*/ 1253160 w 1252800"/>
                <a:gd name="textAreaTop" fmla="*/ 0 h 1288080"/>
                <a:gd name="textAreaBottom" fmla="*/ 1288440 h 1288080"/>
              </a:gdLst>
              <a:ahLst/>
              <a:rect l="textAreaLeft" t="textAreaTop" r="textAreaRight" b="textAreaBottom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1389960"/>
                <a:gd name="textAreaBottom" fmla="*/ 1390320 h 1389960"/>
              </a:gdLst>
              <a:ahLst/>
              <a:rect l="textAreaLeft" t="textAreaTop" r="textAreaRight" b="textAreaBottom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>
                <a:gd name="textAreaLeft" fmla="*/ 360 w 1140480"/>
                <a:gd name="textAreaRight" fmla="*/ 1141200 w 1140480"/>
                <a:gd name="textAreaTop" fmla="*/ 0 h 2304000"/>
                <a:gd name="textAreaBottom" fmla="*/ 2304360 h 2304000"/>
              </a:gdLst>
              <a:ahLst/>
              <a:rect l="textAreaLeft" t="textAreaTop" r="textAreaRight" b="textAreaBottom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>
              <a:gd name="textAreaLeft" fmla="*/ 0 w 965160"/>
              <a:gd name="textAreaRight" fmla="*/ 965520 w 96516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Nee</dc:creator>
  <dc:description/>
  <cp:keywords/>
  <dc:language>en-US</dc:language>
  <cp:lastModifiedBy>BST-WLZ</cp:lastModifiedBy>
  <dcterms:modified xsi:type="dcterms:W3CDTF">2015-05-14T07:50:02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