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0DE-4789-4C2C-A448-9CA3DD68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C21-37CF-424F-B8C5-4714F6E1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052-12AC-44D3-AED4-1698AEE4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C8E-26B7-4819-9FD5-3634D454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969-F52E-42F0-98C1-A95C8C65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222-9C85-4E36-BC90-FDACE6AE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102-1DC8-4339-AB1F-5BE1DC5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DAD-4E68-4ADC-B291-0BD5AC05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8FB-4FF7-4B17-B3D8-474E77D0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A40-2ADA-4F3C-8BD0-51FD4EF1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92F-0260-4E56-8ED5-F9C5A1FC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DF3-7BF9-401E-BB0A-ED7D7E46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5937-5DFD-4E3A-9E16-462927E09D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3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08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3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橙子</dc:creator>
  <dc:description/>
  <dc:language>en-US</dc:language>
  <cp:lastModifiedBy>angel</cp:lastModifiedBy>
  <cp:lastPrinted>1899-12-30T00:00:00Z</cp:lastPrinted>
  <dcterms:modified xsi:type="dcterms:W3CDTF">2015-12-11T01:36:49Z</dcterms:modified>
  <cp:revision>6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