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4F11A-AF96-4C10-A99E-D69F4B4A2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EE75-8801-40D9-A7C3-46DA5763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79C23-225B-4C75-8718-34DD015D8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58BC-D348-4B75-AE6D-E853F2F65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5168-EB75-464E-B1B2-CD1E59805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1CE1-1815-4749-A684-0C61C108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04CE-2DA9-4B61-ABEE-8343E1A1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4E80-0092-4F98-A525-D090356D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AFDD-37D0-44A5-9ABF-88D9030A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2FF0-EA41-456B-AB0D-EDA4D01F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2868-C56C-400F-BCE0-AB3F30B5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09B7-2B97-4C1D-A602-0E3F00D6E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5865-E1FC-4EAE-BF74-4AEB077FC05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yuan</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istrator</cp:lastModifiedBy>
  <dcterms:modified xsi:type="dcterms:W3CDTF">2016-07-25T04:30:52Z</dcterms:modified>
  <cp:revision>59</cp:revision>
  <dc:subject>12sc.taobao.com</dc:subject>
  <dc:title>PowerPoint 演示文稿</dc:title>
</cp:coreProperties>
</file>