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4198-F698-4590-A52B-B4C6F390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E683-E759-4E90-A0D8-D7B7C543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BEC22-A515-4E87-8E95-80535851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F047C-B967-4107-A1F2-27A81BAC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EFD9A-0808-4145-83A1-E312DA49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EBC6C-EDAD-48B8-A111-D2A3C485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AC3EE-0D19-4F7E-9731-5DD14756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7F7CC-FD76-48BE-9C34-92A85021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CE23D-54DC-45B8-A81C-7F464320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336B9-0EEE-49CB-B438-2B044D0C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BA30E-F969-44F2-9797-105DA058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114FD-4A3A-4658-BC0C-9ED3F020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0671-6ED4-4404-8BAD-771879BF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5EDBB-85A1-42D3-9F89-86ABE914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1738E-519C-4D83-937B-389FA2BD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E9AC1-97BE-45AD-948F-0B9EFB76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C9E92-70F0-4311-81C4-547EE257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392C0-C9FA-455C-88D9-A7BE4317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8623A-EB5C-423F-A1C1-3614C0A9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9DDA5-125B-49A8-BAC6-57095BC3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2EA58-F04A-4ED9-AFCB-609E04B1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6EC60-F076-40C5-A38B-ED3C0F7F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7796F-1138-4D93-A650-E0C79B16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E99B-B3EA-437D-BD76-C3A12F3C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732C0-BABF-4C0A-B828-91A15B8E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F5734-5E2F-4BCC-A2F6-F6E1C51B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2D7C9-BB12-4CAA-AF39-09ED93BF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DB8BB-1A14-4FA1-920D-DA2E24EA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FB0E4-3A05-48B1-A096-7B75772B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D2C1A-B2A1-4797-900E-EE72696C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AEE22-BF64-498F-BEB6-1E3CD1EC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3A470-4D36-44BC-8B9F-CFEA651E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1D13B-B44E-4572-99EF-BC829DAF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963FA-EB4B-42EC-B201-A28C55E5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5175-D72D-4933-8DCC-D7676F08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9D98D-AB0B-4844-B059-B6B56213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D9C7E-A95B-4863-A975-09CBAD77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0492E-3D95-4511-92A1-4193C4B2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E93F1-FCBA-4010-92CD-A985EE2B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66FD1-B863-419B-90C2-EF2D87A7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DAA34-86B6-4854-9BD0-C804109D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B8D0F-3CEC-4D64-A61D-AEE9E3A7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2D0F7-F542-4C74-BD71-29A438F3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1301F-8EA5-4320-8999-35129E2A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95345-BAE0-4E02-B4ED-7595405E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DBF6-9147-40BC-AA5C-3C2D7A39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CBBF4-50D9-4F6D-85B8-E0290884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33A1B-7751-4682-B18C-C158FADC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D859C-B407-4257-BA5D-C27D4787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FECBE-F76A-4F48-B0CD-64CA79E1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50E00-EE6F-44B6-A741-5E13E732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890D-3B8A-4215-9A45-D27C5F4B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63CF-F280-4292-80CF-BD52DA0C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BA57-A949-46C7-B46A-D29E61FF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4A42-EB14-47F9-A11A-23AACA5B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48C5-1889-4349-89E9-1BC37597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5788-4E69-4F9E-B36E-A3E71627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7452-684E-4D2F-8757-8A051E45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B79C-E167-4ED5-8EBD-F0F0F176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F907-63EB-41A0-A278-5AE7CD42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7D50-2F44-44CA-A58D-839020B7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C45E-B6C9-4D0E-8EFD-FB0851BD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04BE5-622F-4F0E-A719-93BD6645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DA2DD-F0C8-4363-B93D-48E6EB93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52D04-9794-47EB-BA99-126779B0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74F65-46F7-4C2C-BD0B-F916BF65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77A87-A790-42A9-A829-B9D17081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B92C-595D-47E3-AF2B-6CA83F4B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D7B1C-DE8B-41F3-BF6C-240965C1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3F19F-3E5D-443B-B6DE-DDBCD218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28992-8AFA-4DA0-B300-B276F2E8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C8B00-FB81-4E1A-BE0F-C1F75D7E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A9521-DD3B-4A4A-B002-5426FD46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F5A83-8520-48DC-8A8F-D595B819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10D5C-A22D-4034-B1A6-BF6D1584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B3C94-77BE-4D52-9EB4-221A15A8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04A97-764E-43B5-80D5-94737FF5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84B7A-89F9-4468-BEA7-551F7068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A539-A36A-4866-B4C3-02F3DDAB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CFCFA-68F2-4968-A3E3-D575EF98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DBD83-CE04-4E67-A3FF-E3E2C7F0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D4576-24EB-4579-BFAF-26A4B3B4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942EB-72B4-4FA3-B441-0291F211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735FF-C531-41E6-9148-A3CD1B47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86517-5A89-4390-8C95-E3791885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1295D-3075-49D7-AF6A-1EEFCB14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B8F8C-F6AF-4A3C-BCDB-55168342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10699-4729-4D9B-9927-70F81EB7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B4D24-43C5-4036-AFC5-F5065A96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7E5A-10DB-4D81-B680-7A4F402F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DD0BA-BB13-4418-BB1D-15FA92C5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AFC9F-AE21-45D9-947C-75E75046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D91D4-81CE-4B00-AE7C-007CCF3F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4D450-C41A-4E39-9098-38FD55F2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8E3B7-1F02-45C8-81DF-C6D7533F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6A963-2D21-4C1D-8286-F8FBAE0F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2855C-7564-4D1A-93FE-A68168E0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88A71-1470-4E70-A001-9CB177C3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AF30D-A99A-4073-B1F2-D42A88D2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FE4B0-016E-4615-A292-8DD63730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AAC-3A9C-4123-8135-26FA4FEA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C3D2C-54F1-4132-89F9-9B3FEB3C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32D3B-4026-4DC6-9991-CAB01CC7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3CA6F-A447-40A0-AB1C-7F2CF9A6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17724-BF0B-4E96-9088-44095E8A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0B8EA-4AB2-474E-8477-3311B407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42532-395F-4C30-A7B7-333EE2EB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4DFD6-F647-4BEF-AB0A-90FEA34D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56B9E-9747-4885-9D2C-42F83840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4C70D-831D-4888-841E-01760BCB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674E7-1A2F-447D-8E29-9F1DEDFC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0C8-53CD-4C15-966B-7AE49932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93A69-DF93-4AD0-B5BA-AE738B54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8117E-11F5-4B8D-B498-C1A0D12E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30D32-8D76-4440-87B6-21BFA228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78D3A-440A-4A5C-80FD-61F3F601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6E339-F071-4A3E-8CE2-0400A6FE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3DE16-42C0-4B99-95A8-E45826ED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91D26-D44C-42B5-BC8B-7AACA677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00D2C-46DB-4295-A236-0BD01030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907FE-7041-413C-A66A-2058FC41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BFB94-D050-47F7-958B-2BA3297E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93B-309C-43C6-A83D-2934163F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1B92F-8352-4BD5-9DFA-664090D3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6E4DA-ACE9-473B-BE1D-8894399D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2BE15-C57C-48C1-B624-344577D3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96427-9293-4A36-8558-0211B3B1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4BDB0-C30F-4F01-ACCA-31E3F537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7CF54-4043-49C6-8345-8E0DFA70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D2B84-4B9A-46A9-9187-D2690F4E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06FDF-A26A-4309-A75A-383B292C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70078-E33F-4621-BD55-6BCA25E0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93280-3300-4FA9-8CA0-EEA67EF3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AF1-59BA-493C-A3EA-76ED05F2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CD3EE-F460-40BE-AA0F-EC931677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B7434-E514-4B85-A9DC-8A87FC6E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DDF99-57D0-41C4-8B1D-0A024426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1F152-F71F-4F70-9432-3EB40DF3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7594E-4594-495F-B9F1-F5486E26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AFE6C-EDE0-4AA9-BD1B-ABB09436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C0172-46CD-4B91-B148-9121B314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87A29-A625-4A20-8EE5-79FE0457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36D0D-D99D-4B8C-AEC1-FCE36B94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91B20-4C2D-4258-A090-76F63499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lo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D5D0-D697-4C58-94D1-2DC830D5AE4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5EB8-2062-4AD8-9B58-0D1BA9E661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5A81-134F-4B74-8626-FD63F42264B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75A2-23E1-453D-A008-7B33663BD6D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22BF-9671-4248-B481-CAF62C204AE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33C0-148D-4388-876D-389E297DD4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8098-7018-4D6E-AC3B-AF82A26CB5A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7601-0D53-4209-9B54-A6D08C53C7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C0EE-DD40-48B0-BB96-33E1774670AD}" type="datetime">
              <a:rPr b="0" lang="zh-CN" sz="1200" spc="-1" strike="noStrike">
                <a:solidFill>
                  <a:srgbClr val="898989"/>
                </a:solidFill>
                <a:latin typeface="方正兰亭黑_GBK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C407-8B4F-47CF-BB5B-5457C7317B4D}" type="slidenum">
              <a:rPr b="0" lang="zh-CN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4EC0-95D6-44F1-8BD5-F1196DEA134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8D1C-65D4-499B-BCAB-71FBECCE9F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38A9-5B59-44A9-8948-E763F85F793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615C-B4DA-4058-9E0D-E977423388B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E759-F9CA-408E-A85C-19A105B88B0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1756-471B-4ACE-A5DA-D2D6F9C566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EB48-3F22-4522-B56C-5FA074C36DD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BCDD-F383-4357-AE54-7E25FF430A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CDE2-26B1-4191-B8F0-5174D6FFF40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DEF6-745A-4F03-8CB2-69D7B7098E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C523-B310-406E-B0FD-16BBB910D47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1ECD-6E5B-4F24-B53F-D6E4FD2842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D436-99F9-4CD7-9F91-4C46F1CE234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A820-EE76-4A1E-A642-D9E954A70D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01_Main-Background.jpg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3"/>
          <p:cNvSpPr/>
          <p:nvPr/>
        </p:nvSpPr>
        <p:spPr>
          <a:xfrm>
            <a:off x="0" y="4565520"/>
            <a:ext cx="4343400" cy="1219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4406760" y="4565520"/>
            <a:ext cx="1143000" cy="12193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7"/>
          <p:cNvSpPr/>
          <p:nvPr/>
        </p:nvSpPr>
        <p:spPr>
          <a:xfrm>
            <a:off x="838080" y="3632040"/>
            <a:ext cx="3613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方正兰亭黑_GBK"/>
              </a:rPr>
              <a:t>Windows </a:t>
            </a:r>
            <a:r>
              <a:rPr b="0" lang="en-US" sz="4500" spc="-1" strike="noStrike">
                <a:solidFill>
                  <a:srgbClr val="0099ff"/>
                </a:solidFill>
                <a:latin typeface="方正兰亭黑_GBK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6"/>
          <p:cNvSpPr/>
          <p:nvPr/>
        </p:nvSpPr>
        <p:spPr>
          <a:xfrm>
            <a:off x="4570560" y="-144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_GBK"/>
              </a:rPr>
              <a:t>第一</a:t>
            </a:r>
            <a:r>
              <a:rPr b="0" lang="en-US" sz="2000" spc="-1" strike="noStrike">
                <a:solidFill>
                  <a:srgbClr val="ffffff"/>
                </a:solidFill>
                <a:latin typeface="方正兰亭黑_GBK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方正兰亭黑_GBK"/>
              </a:rPr>
              <a:t>：</a:t>
            </a:r>
            <a:r>
              <a:rPr b="0" lang="en-US" sz="2000" spc="-1" strike="noStrike">
                <a:solidFill>
                  <a:srgbClr val="ffffff"/>
                </a:solidFill>
                <a:latin typeface="方正兰亭黑_GBK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3"/>
          <p:cNvSpPr/>
          <p:nvPr/>
        </p:nvSpPr>
        <p:spPr>
          <a:xfrm>
            <a:off x="0" y="3124080"/>
            <a:ext cx="4343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4406760" y="3124080"/>
            <a:ext cx="2743200" cy="193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7"/>
          <p:cNvSpPr/>
          <p:nvPr/>
        </p:nvSpPr>
        <p:spPr>
          <a:xfrm>
            <a:off x="577800" y="3240000"/>
            <a:ext cx="361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</a:rPr>
              <a:t>PRESENT</a:t>
            </a:r>
            <a:r>
              <a:rPr b="0" lang="en-US" sz="2500" spc="-1" strike="noStrike">
                <a:solidFill>
                  <a:srgbClr val="0099ff"/>
                </a:solidFill>
                <a:latin typeface="方正兰亭黑_GBK"/>
              </a:rPr>
              <a:t>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3429000" y="412740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2435400" y="412740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1450800" y="412740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0" y="4127400"/>
            <a:ext cx="137160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4"/>
          <p:cNvSpPr/>
          <p:nvPr/>
        </p:nvSpPr>
        <p:spPr>
          <a:xfrm>
            <a:off x="342900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5"/>
          <p:cNvSpPr/>
          <p:nvPr/>
        </p:nvSpPr>
        <p:spPr>
          <a:xfrm>
            <a:off x="243540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1450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4419720" y="5141880"/>
            <a:ext cx="472428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8"/>
          <p:cNvSpPr/>
          <p:nvPr/>
        </p:nvSpPr>
        <p:spPr>
          <a:xfrm>
            <a:off x="162072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方正兰亭黑_GBK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9"/>
          <p:cNvSpPr/>
          <p:nvPr/>
        </p:nvSpPr>
        <p:spPr>
          <a:xfrm>
            <a:off x="265428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方正兰亭黑_GBK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0"/>
          <p:cNvSpPr/>
          <p:nvPr/>
        </p:nvSpPr>
        <p:spPr>
          <a:xfrm>
            <a:off x="363204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方正兰亭黑_GBK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21"/>
          <p:cNvSpPr/>
          <p:nvPr/>
        </p:nvSpPr>
        <p:spPr>
          <a:xfrm>
            <a:off x="162072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d8f1"/>
                </a:solidFill>
                <a:latin typeface="方正兰亭黑_GBK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22"/>
          <p:cNvSpPr/>
          <p:nvPr/>
        </p:nvSpPr>
        <p:spPr>
          <a:xfrm>
            <a:off x="265428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方正兰亭黑_GBK"/>
              </a:rPr>
              <a:t>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23"/>
          <p:cNvSpPr/>
          <p:nvPr/>
        </p:nvSpPr>
        <p:spPr>
          <a:xfrm>
            <a:off x="363204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方正兰亭黑_GBK"/>
              </a:rPr>
              <a:t>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3"/>
          <p:cNvSpPr/>
          <p:nvPr/>
        </p:nvSpPr>
        <p:spPr>
          <a:xfrm>
            <a:off x="0" y="3530520"/>
            <a:ext cx="289548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7"/>
          <p:cNvSpPr/>
          <p:nvPr/>
        </p:nvSpPr>
        <p:spPr>
          <a:xfrm>
            <a:off x="762120" y="366084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</a:rPr>
              <a:t>ABOUT 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971800" y="3530520"/>
            <a:ext cx="107784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2133720" y="4533840"/>
            <a:ext cx="1915920" cy="133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6"/>
          <p:cNvSpPr/>
          <p:nvPr/>
        </p:nvSpPr>
        <p:spPr>
          <a:xfrm>
            <a:off x="4343400" y="353052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黑_GBK"/>
              </a:rPr>
              <a:t>第一</a:t>
            </a:r>
            <a:r>
              <a:rPr b="0" lang="en-US" sz="1000" spc="-1" strike="noStrike">
                <a:solidFill>
                  <a:srgbClr val="ffffff"/>
                </a:solidFill>
                <a:latin typeface="方正兰亭黑_GBK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方正兰亭黑_GBK"/>
              </a:rPr>
              <a:t>：</a:t>
            </a:r>
            <a:r>
              <a:rPr b="0" lang="en-US" sz="1000" spc="-1" strike="noStrike">
                <a:solidFill>
                  <a:srgbClr val="ffffff"/>
                </a:solidFill>
                <a:latin typeface="方正兰亭黑_GBK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9"/>
          <p:cNvGrpSpPr/>
          <p:nvPr/>
        </p:nvGrpSpPr>
        <p:grpSpPr>
          <a:xfrm>
            <a:off x="4290840" y="2160720"/>
            <a:ext cx="3003840" cy="1542240"/>
            <a:chOff x="4290840" y="2160720"/>
            <a:chExt cx="3003840" cy="1542240"/>
          </a:xfrm>
        </p:grpSpPr>
        <p:sp>
          <p:nvSpPr>
            <p:cNvPr id="522" name="TextBox 29"/>
            <p:cNvSpPr/>
            <p:nvPr/>
          </p:nvSpPr>
          <p:spPr>
            <a:xfrm>
              <a:off x="4290840" y="2268360"/>
              <a:ext cx="29487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99ff"/>
                  </a:solidFill>
                  <a:latin typeface="方正兰亭黑_GBK"/>
                </a:rPr>
                <a:t>HEADILIN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30"/>
            <p:cNvSpPr/>
            <p:nvPr/>
          </p:nvSpPr>
          <p:spPr>
            <a:xfrm>
              <a:off x="4322160" y="2917080"/>
              <a:ext cx="29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兰亭黑_GBK"/>
                </a:rPr>
                <a:t>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8"/>
            <p:cNvSpPr/>
            <p:nvPr/>
          </p:nvSpPr>
          <p:spPr>
            <a:xfrm>
              <a:off x="4311720" y="2160720"/>
              <a:ext cx="221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_GBK"/>
                </a:rPr>
                <a:t>AN 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"/>
          <p:cNvSpPr/>
          <p:nvPr/>
        </p:nvSpPr>
        <p:spPr>
          <a:xfrm>
            <a:off x="0" y="3530520"/>
            <a:ext cx="289548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7"/>
          <p:cNvSpPr/>
          <p:nvPr/>
        </p:nvSpPr>
        <p:spPr>
          <a:xfrm>
            <a:off x="762120" y="364644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</a:rPr>
              <a:t>BULLET TE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4"/>
          <p:cNvSpPr/>
          <p:nvPr/>
        </p:nvSpPr>
        <p:spPr>
          <a:xfrm>
            <a:off x="2971800" y="3530520"/>
            <a:ext cx="107784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5"/>
          <p:cNvSpPr/>
          <p:nvPr/>
        </p:nvSpPr>
        <p:spPr>
          <a:xfrm>
            <a:off x="2133720" y="4533840"/>
            <a:ext cx="1915920" cy="133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8"/>
          <p:cNvGrpSpPr/>
          <p:nvPr/>
        </p:nvGrpSpPr>
        <p:grpSpPr>
          <a:xfrm>
            <a:off x="4290840" y="1946160"/>
            <a:ext cx="3003840" cy="1542240"/>
            <a:chOff x="4290840" y="1946160"/>
            <a:chExt cx="3003840" cy="1542240"/>
          </a:xfrm>
        </p:grpSpPr>
        <p:sp>
          <p:nvSpPr>
            <p:cNvPr id="531" name="TextBox 29"/>
            <p:cNvSpPr/>
            <p:nvPr/>
          </p:nvSpPr>
          <p:spPr>
            <a:xfrm>
              <a:off x="4290840" y="2053800"/>
              <a:ext cx="2643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99ff"/>
                  </a:solidFill>
                  <a:latin typeface="方正兰亭黑_GBK"/>
                </a:rPr>
                <a:t>HEADILIN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30"/>
            <p:cNvSpPr/>
            <p:nvPr/>
          </p:nvSpPr>
          <p:spPr>
            <a:xfrm>
              <a:off x="4322160" y="2703600"/>
              <a:ext cx="29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兰亭黑_GBK"/>
                </a:rPr>
                <a:t>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"/>
            <p:cNvSpPr/>
            <p:nvPr/>
          </p:nvSpPr>
          <p:spPr>
            <a:xfrm>
              <a:off x="4311720" y="1946160"/>
              <a:ext cx="221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_GBK"/>
                </a:rPr>
                <a:t>AN 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12"/>
          <p:cNvGrpSpPr/>
          <p:nvPr/>
        </p:nvGrpSpPr>
        <p:grpSpPr>
          <a:xfrm>
            <a:off x="4383000" y="3376440"/>
            <a:ext cx="3490920" cy="398520"/>
            <a:chOff x="4383000" y="3376440"/>
            <a:chExt cx="3490920" cy="398520"/>
          </a:xfrm>
        </p:grpSpPr>
        <p:sp>
          <p:nvSpPr>
            <p:cNvPr id="535" name="TextBox 26"/>
            <p:cNvSpPr/>
            <p:nvPr/>
          </p:nvSpPr>
          <p:spPr>
            <a:xfrm>
              <a:off x="4674240" y="337644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12"/>
            <p:cNvSpPr/>
            <p:nvPr/>
          </p:nvSpPr>
          <p:spPr>
            <a:xfrm>
              <a:off x="4383000" y="337644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15"/>
          <p:cNvGrpSpPr/>
          <p:nvPr/>
        </p:nvGrpSpPr>
        <p:grpSpPr>
          <a:xfrm>
            <a:off x="4383000" y="3911760"/>
            <a:ext cx="3490920" cy="307080"/>
            <a:chOff x="4383000" y="3911760"/>
            <a:chExt cx="3490920" cy="307080"/>
          </a:xfrm>
        </p:grpSpPr>
        <p:sp>
          <p:nvSpPr>
            <p:cNvPr id="538" name="TextBox 15"/>
            <p:cNvSpPr/>
            <p:nvPr/>
          </p:nvSpPr>
          <p:spPr>
            <a:xfrm>
              <a:off x="4674240" y="391176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16"/>
            <p:cNvSpPr/>
            <p:nvPr/>
          </p:nvSpPr>
          <p:spPr>
            <a:xfrm>
              <a:off x="4383000" y="391176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Group 18"/>
          <p:cNvGrpSpPr/>
          <p:nvPr/>
        </p:nvGrpSpPr>
        <p:grpSpPr>
          <a:xfrm>
            <a:off x="4383000" y="4235400"/>
            <a:ext cx="3490920" cy="398520"/>
            <a:chOff x="4383000" y="4235400"/>
            <a:chExt cx="3490920" cy="398520"/>
          </a:xfrm>
        </p:grpSpPr>
        <p:sp>
          <p:nvSpPr>
            <p:cNvPr id="541" name="TextBox 21"/>
            <p:cNvSpPr/>
            <p:nvPr/>
          </p:nvSpPr>
          <p:spPr>
            <a:xfrm>
              <a:off x="4674240" y="423540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2"/>
            <p:cNvSpPr/>
            <p:nvPr/>
          </p:nvSpPr>
          <p:spPr>
            <a:xfrm>
              <a:off x="4383000" y="423540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21"/>
          <p:cNvGrpSpPr/>
          <p:nvPr/>
        </p:nvGrpSpPr>
        <p:grpSpPr>
          <a:xfrm>
            <a:off x="4383000" y="4784760"/>
            <a:ext cx="3490920" cy="307080"/>
            <a:chOff x="4383000" y="4784760"/>
            <a:chExt cx="3490920" cy="307080"/>
          </a:xfrm>
        </p:grpSpPr>
        <p:sp>
          <p:nvSpPr>
            <p:cNvPr id="544" name="TextBox 27"/>
            <p:cNvSpPr/>
            <p:nvPr/>
          </p:nvSpPr>
          <p:spPr>
            <a:xfrm>
              <a:off x="4674240" y="478476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31"/>
            <p:cNvSpPr/>
            <p:nvPr/>
          </p:nvSpPr>
          <p:spPr>
            <a:xfrm>
              <a:off x="4383000" y="478476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4"/>
          <p:cNvGrpSpPr/>
          <p:nvPr/>
        </p:nvGrpSpPr>
        <p:grpSpPr>
          <a:xfrm>
            <a:off x="4383000" y="5108400"/>
            <a:ext cx="3490920" cy="398520"/>
            <a:chOff x="4383000" y="5108400"/>
            <a:chExt cx="3490920" cy="398520"/>
          </a:xfrm>
        </p:grpSpPr>
        <p:sp>
          <p:nvSpPr>
            <p:cNvPr id="547" name="TextBox 33"/>
            <p:cNvSpPr/>
            <p:nvPr/>
          </p:nvSpPr>
          <p:spPr>
            <a:xfrm>
              <a:off x="4674240" y="510840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34"/>
            <p:cNvSpPr/>
            <p:nvPr/>
          </p:nvSpPr>
          <p:spPr>
            <a:xfrm>
              <a:off x="4383000" y="510840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27"/>
          <p:cNvGrpSpPr/>
          <p:nvPr/>
        </p:nvGrpSpPr>
        <p:grpSpPr>
          <a:xfrm>
            <a:off x="4383000" y="5654520"/>
            <a:ext cx="3490920" cy="307080"/>
            <a:chOff x="4383000" y="5654520"/>
            <a:chExt cx="3490920" cy="307080"/>
          </a:xfrm>
        </p:grpSpPr>
        <p:sp>
          <p:nvSpPr>
            <p:cNvPr id="550" name="TextBox 37"/>
            <p:cNvSpPr/>
            <p:nvPr/>
          </p:nvSpPr>
          <p:spPr>
            <a:xfrm>
              <a:off x="4674240" y="565452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38"/>
            <p:cNvSpPr/>
            <p:nvPr/>
          </p:nvSpPr>
          <p:spPr>
            <a:xfrm>
              <a:off x="4383000" y="565452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3"/>
          <p:cNvSpPr/>
          <p:nvPr/>
        </p:nvSpPr>
        <p:spPr>
          <a:xfrm>
            <a:off x="0" y="1905120"/>
            <a:ext cx="2666880" cy="925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"/>
          <p:cNvSpPr/>
          <p:nvPr/>
        </p:nvSpPr>
        <p:spPr>
          <a:xfrm>
            <a:off x="457200" y="20764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方正兰亭黑_GBK"/>
              </a:rPr>
              <a:t>MEET THE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7"/>
          <p:cNvSpPr/>
          <p:nvPr/>
        </p:nvSpPr>
        <p:spPr>
          <a:xfrm>
            <a:off x="2735280" y="1905120"/>
            <a:ext cx="2398680" cy="26413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9"/>
          <p:cNvSpPr/>
          <p:nvPr/>
        </p:nvSpPr>
        <p:spPr>
          <a:xfrm>
            <a:off x="1503360" y="4638600"/>
            <a:ext cx="1170000" cy="16257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1"/>
          <p:cNvSpPr/>
          <p:nvPr/>
        </p:nvSpPr>
        <p:spPr>
          <a:xfrm>
            <a:off x="3973680" y="4638600"/>
            <a:ext cx="1170000" cy="16257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46"/>
          <p:cNvSpPr/>
          <p:nvPr/>
        </p:nvSpPr>
        <p:spPr>
          <a:xfrm>
            <a:off x="6440400" y="4638600"/>
            <a:ext cx="1170000" cy="16257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7"/>
          <p:cNvSpPr/>
          <p:nvPr/>
        </p:nvSpPr>
        <p:spPr>
          <a:xfrm>
            <a:off x="6456240" y="2921040"/>
            <a:ext cx="1170000" cy="1625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48"/>
          <p:cNvSpPr/>
          <p:nvPr/>
        </p:nvSpPr>
        <p:spPr>
          <a:xfrm>
            <a:off x="3241800" y="2486160"/>
            <a:ext cx="13716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Some text about MEET THE TEAM related goes here. Some text about WELCOME related goes he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9" descr="07_Team-Picture-Image.jpg"/>
          <p:cNvPicPr/>
          <p:nvPr/>
        </p:nvPicPr>
        <p:blipFill>
          <a:blip r:embed="rId2"/>
          <a:stretch/>
        </p:blipFill>
        <p:spPr>
          <a:xfrm>
            <a:off x="1503360" y="2921040"/>
            <a:ext cx="1170000" cy="16225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0" descr="07_Team-Picture-Image.jpg"/>
          <p:cNvPicPr/>
          <p:nvPr/>
        </p:nvPicPr>
        <p:blipFill>
          <a:blip r:embed="rId3"/>
          <a:stretch/>
        </p:blipFill>
        <p:spPr>
          <a:xfrm>
            <a:off x="2735280" y="4641840"/>
            <a:ext cx="1170000" cy="1622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1" descr="07_Team-Picture-Image.jpg"/>
          <p:cNvPicPr/>
          <p:nvPr/>
        </p:nvPicPr>
        <p:blipFill>
          <a:blip r:embed="rId4"/>
          <a:stretch/>
        </p:blipFill>
        <p:spPr>
          <a:xfrm>
            <a:off x="5211720" y="2927520"/>
            <a:ext cx="1170000" cy="16221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2" descr="07_Team-Picture-Image.jpg"/>
          <p:cNvPicPr/>
          <p:nvPr/>
        </p:nvPicPr>
        <p:blipFill>
          <a:blip r:embed="rId5"/>
          <a:stretch/>
        </p:blipFill>
        <p:spPr>
          <a:xfrm>
            <a:off x="5211720" y="4638600"/>
            <a:ext cx="1170000" cy="162252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53"/>
          <p:cNvSpPr/>
          <p:nvPr/>
        </p:nvSpPr>
        <p:spPr>
          <a:xfrm>
            <a:off x="1527120" y="5364000"/>
            <a:ext cx="11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方正兰亭黑_GBK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方正兰亭黑_GBK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4"/>
          <p:cNvSpPr/>
          <p:nvPr/>
        </p:nvSpPr>
        <p:spPr>
          <a:xfrm>
            <a:off x="1527120" y="4776840"/>
            <a:ext cx="11206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方正兰亭黑_GBK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方正兰亭黑_GBK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5"/>
          <p:cNvSpPr/>
          <p:nvPr/>
        </p:nvSpPr>
        <p:spPr>
          <a:xfrm>
            <a:off x="3994200" y="5364000"/>
            <a:ext cx="11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ff"/>
                </a:solidFill>
                <a:latin typeface="方正兰亭黑_GBK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99ff"/>
                </a:solidFill>
                <a:latin typeface="方正兰亭黑_GBK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6"/>
          <p:cNvSpPr/>
          <p:nvPr/>
        </p:nvSpPr>
        <p:spPr>
          <a:xfrm>
            <a:off x="3994200" y="4776840"/>
            <a:ext cx="11206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ff"/>
                </a:solidFill>
                <a:latin typeface="方正兰亭黑_GBK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7"/>
          <p:cNvSpPr/>
          <p:nvPr/>
        </p:nvSpPr>
        <p:spPr>
          <a:xfrm>
            <a:off x="6480000" y="3637080"/>
            <a:ext cx="112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方正兰亭黑_GBK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8"/>
          <p:cNvSpPr/>
          <p:nvPr/>
        </p:nvSpPr>
        <p:spPr>
          <a:xfrm>
            <a:off x="6480000" y="3049560"/>
            <a:ext cx="11210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方正兰亭黑_GBK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9"/>
          <p:cNvSpPr/>
          <p:nvPr/>
        </p:nvSpPr>
        <p:spPr>
          <a:xfrm>
            <a:off x="6480000" y="5376960"/>
            <a:ext cx="112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方正兰亭黑_GBK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方正兰亭黑_GBK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0"/>
          <p:cNvSpPr/>
          <p:nvPr/>
        </p:nvSpPr>
        <p:spPr>
          <a:xfrm>
            <a:off x="6480000" y="4789440"/>
            <a:ext cx="11210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方正兰亭黑_GBK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方正兰亭黑_GBK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5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5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250" autoRev="1" fill="hold"/>
                                        <p:tgtEl>
                                          <p:spTgt spid="5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5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5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250" autoRev="1" fill="hold"/>
                                        <p:tgtEl>
                                          <p:spTgt spid="5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5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250" autoRev="1" fill="hold"/>
                                        <p:tgtEl>
                                          <p:spTgt spid="5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5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5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5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5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5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5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5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3"/>
          <p:cNvSpPr/>
          <p:nvPr/>
        </p:nvSpPr>
        <p:spPr>
          <a:xfrm>
            <a:off x="0" y="3124080"/>
            <a:ext cx="4343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4406760" y="3124080"/>
            <a:ext cx="2908440" cy="193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577800" y="3240000"/>
            <a:ext cx="361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</a:rPr>
              <a:t>OUR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3429000" y="412740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2435400" y="4127400"/>
            <a:ext cx="914400" cy="914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1450800" y="412740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3"/>
          <p:cNvSpPr/>
          <p:nvPr/>
        </p:nvSpPr>
        <p:spPr>
          <a:xfrm>
            <a:off x="0" y="4127400"/>
            <a:ext cx="137160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342900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5"/>
          <p:cNvSpPr/>
          <p:nvPr/>
        </p:nvSpPr>
        <p:spPr>
          <a:xfrm>
            <a:off x="243540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6"/>
          <p:cNvSpPr/>
          <p:nvPr/>
        </p:nvSpPr>
        <p:spPr>
          <a:xfrm>
            <a:off x="1450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8"/>
          <p:cNvSpPr/>
          <p:nvPr/>
        </p:nvSpPr>
        <p:spPr>
          <a:xfrm>
            <a:off x="1523880" y="4222800"/>
            <a:ext cx="7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99ff"/>
                </a:solidFill>
                <a:latin typeface="方正兰亭黑_GBK"/>
              </a:rPr>
              <a:t>Service 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9"/>
          <p:cNvSpPr/>
          <p:nvPr/>
        </p:nvSpPr>
        <p:spPr>
          <a:xfrm>
            <a:off x="2476440" y="4282920"/>
            <a:ext cx="83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c0c0c"/>
                </a:solidFill>
                <a:latin typeface="方正兰亭黑_GBK"/>
              </a:rPr>
              <a:t>Service Tw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20"/>
          <p:cNvSpPr/>
          <p:nvPr/>
        </p:nvSpPr>
        <p:spPr>
          <a:xfrm>
            <a:off x="3489480" y="428292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</a:rPr>
              <a:t>Service Thre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21"/>
          <p:cNvSpPr/>
          <p:nvPr/>
        </p:nvSpPr>
        <p:spPr>
          <a:xfrm>
            <a:off x="1498680" y="5229360"/>
            <a:ext cx="81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0e0f4"/>
                </a:solidFill>
                <a:latin typeface="方正兰亭黑_GBK"/>
              </a:rPr>
              <a:t>Service Fo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22"/>
          <p:cNvSpPr/>
          <p:nvPr/>
        </p:nvSpPr>
        <p:spPr>
          <a:xfrm>
            <a:off x="2484360" y="5321160"/>
            <a:ext cx="830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a5"/>
                </a:solidFill>
                <a:latin typeface="方正兰亭黑_GBK"/>
              </a:rPr>
              <a:t>Service Fi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23"/>
          <p:cNvSpPr/>
          <p:nvPr/>
        </p:nvSpPr>
        <p:spPr>
          <a:xfrm>
            <a:off x="3489480" y="532116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</a:rPr>
              <a:t>Service Si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4"/>
          <p:cNvSpPr/>
          <p:nvPr/>
        </p:nvSpPr>
        <p:spPr>
          <a:xfrm>
            <a:off x="638964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5"/>
          <p:cNvSpPr/>
          <p:nvPr/>
        </p:nvSpPr>
        <p:spPr>
          <a:xfrm>
            <a:off x="539748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6"/>
          <p:cNvSpPr/>
          <p:nvPr/>
        </p:nvSpPr>
        <p:spPr>
          <a:xfrm>
            <a:off x="4411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7"/>
          <p:cNvSpPr/>
          <p:nvPr/>
        </p:nvSpPr>
        <p:spPr>
          <a:xfrm>
            <a:off x="7388280" y="3119400"/>
            <a:ext cx="914400" cy="914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8"/>
          <p:cNvSpPr/>
          <p:nvPr/>
        </p:nvSpPr>
        <p:spPr>
          <a:xfrm>
            <a:off x="7388280" y="4135320"/>
            <a:ext cx="914400" cy="914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9"/>
          <p:cNvSpPr/>
          <p:nvPr/>
        </p:nvSpPr>
        <p:spPr>
          <a:xfrm>
            <a:off x="7388280" y="5141880"/>
            <a:ext cx="175572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0"/>
          <p:cNvSpPr/>
          <p:nvPr/>
        </p:nvSpPr>
        <p:spPr>
          <a:xfrm>
            <a:off x="6389640" y="2128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33"/>
          <p:cNvSpPr/>
          <p:nvPr/>
        </p:nvSpPr>
        <p:spPr>
          <a:xfrm>
            <a:off x="7388280" y="212724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34"/>
          <p:cNvSpPr/>
          <p:nvPr/>
        </p:nvSpPr>
        <p:spPr>
          <a:xfrm>
            <a:off x="4465800" y="532116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方正兰亭黑_GBK"/>
              </a:rPr>
              <a:t>Service Sev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35"/>
          <p:cNvSpPr/>
          <p:nvPr/>
        </p:nvSpPr>
        <p:spPr>
          <a:xfrm>
            <a:off x="5456160" y="5321160"/>
            <a:ext cx="7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99ff"/>
                </a:solidFill>
                <a:latin typeface="方正兰亭黑_GBK"/>
              </a:rPr>
              <a:t>Service E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36"/>
          <p:cNvSpPr/>
          <p:nvPr/>
        </p:nvSpPr>
        <p:spPr>
          <a:xfrm>
            <a:off x="6454800" y="5321160"/>
            <a:ext cx="7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</a:rPr>
              <a:t>Service N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37"/>
          <p:cNvSpPr/>
          <p:nvPr/>
        </p:nvSpPr>
        <p:spPr>
          <a:xfrm>
            <a:off x="6431040" y="2305080"/>
            <a:ext cx="8301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ccff"/>
                </a:solidFill>
                <a:latin typeface="方正兰亭黑_GBK"/>
              </a:rPr>
              <a:t>Service Thirte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38"/>
          <p:cNvSpPr/>
          <p:nvPr/>
        </p:nvSpPr>
        <p:spPr>
          <a:xfrm>
            <a:off x="7459560" y="2311560"/>
            <a:ext cx="77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c0c0c"/>
                </a:solidFill>
                <a:latin typeface="方正兰亭黑_GBK"/>
              </a:rPr>
              <a:t>Service Twel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39"/>
          <p:cNvSpPr/>
          <p:nvPr/>
        </p:nvSpPr>
        <p:spPr>
          <a:xfrm>
            <a:off x="7467480" y="3279600"/>
            <a:ext cx="78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方正兰亭黑_GBK"/>
              </a:rPr>
              <a:t>Service Elev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40"/>
          <p:cNvSpPr/>
          <p:nvPr/>
        </p:nvSpPr>
        <p:spPr>
          <a:xfrm>
            <a:off x="7459560" y="4297320"/>
            <a:ext cx="77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方正兰亭黑_GBK"/>
              </a:rPr>
              <a:t>Service T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0" y="1590840"/>
            <a:ext cx="3384720" cy="731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7"/>
          <p:cNvSpPr/>
          <p:nvPr/>
        </p:nvSpPr>
        <p:spPr>
          <a:xfrm>
            <a:off x="533520" y="1650960"/>
            <a:ext cx="269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</a:rPr>
              <a:t>GRAPHIC CHA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1"/>
          <p:cNvSpPr/>
          <p:nvPr/>
        </p:nvSpPr>
        <p:spPr>
          <a:xfrm>
            <a:off x="3444840" y="1590840"/>
            <a:ext cx="1050840" cy="7315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22"/>
          <p:cNvSpPr/>
          <p:nvPr/>
        </p:nvSpPr>
        <p:spPr>
          <a:xfrm>
            <a:off x="1066680" y="2382840"/>
            <a:ext cx="3429000" cy="2763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42"/>
          <p:cNvSpPr/>
          <p:nvPr/>
        </p:nvSpPr>
        <p:spPr>
          <a:xfrm>
            <a:off x="1187280" y="2454120"/>
            <a:ext cx="3232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</a:rPr>
              <a:t>About This Graphic Ch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</a:rPr>
              <a:t>Some text about SKILLS related goes here Some text about. Some text about SKILLS related goes here Some text about.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0"/>
          <p:cNvSpPr/>
          <p:nvPr/>
        </p:nvSpPr>
        <p:spPr>
          <a:xfrm>
            <a:off x="4730760" y="1952640"/>
            <a:ext cx="235080" cy="31939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3"/>
          <p:cNvSpPr/>
          <p:nvPr/>
        </p:nvSpPr>
        <p:spPr>
          <a:xfrm>
            <a:off x="4495680" y="4079880"/>
            <a:ext cx="235080" cy="1066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4"/>
          <p:cNvSpPr/>
          <p:nvPr/>
        </p:nvSpPr>
        <p:spPr>
          <a:xfrm>
            <a:off x="4965840" y="3013200"/>
            <a:ext cx="23652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3"/>
          <p:cNvSpPr/>
          <p:nvPr/>
        </p:nvSpPr>
        <p:spPr>
          <a:xfrm>
            <a:off x="5600880" y="3013200"/>
            <a:ext cx="234720" cy="2133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4"/>
          <p:cNvSpPr/>
          <p:nvPr/>
        </p:nvSpPr>
        <p:spPr>
          <a:xfrm>
            <a:off x="5365800" y="4435560"/>
            <a:ext cx="235080" cy="711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5"/>
          <p:cNvSpPr/>
          <p:nvPr/>
        </p:nvSpPr>
        <p:spPr>
          <a:xfrm>
            <a:off x="5835600" y="3368520"/>
            <a:ext cx="236520" cy="177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7"/>
          <p:cNvSpPr/>
          <p:nvPr/>
        </p:nvSpPr>
        <p:spPr>
          <a:xfrm>
            <a:off x="6496200" y="1590840"/>
            <a:ext cx="234720" cy="3555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8"/>
          <p:cNvSpPr/>
          <p:nvPr/>
        </p:nvSpPr>
        <p:spPr>
          <a:xfrm>
            <a:off x="6261120" y="3724200"/>
            <a:ext cx="235080" cy="1422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9"/>
          <p:cNvSpPr/>
          <p:nvPr/>
        </p:nvSpPr>
        <p:spPr>
          <a:xfrm>
            <a:off x="6730920" y="2649600"/>
            <a:ext cx="235080" cy="249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41"/>
          <p:cNvSpPr/>
          <p:nvPr/>
        </p:nvSpPr>
        <p:spPr>
          <a:xfrm>
            <a:off x="7377120" y="3368520"/>
            <a:ext cx="236520" cy="17780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43"/>
          <p:cNvSpPr/>
          <p:nvPr/>
        </p:nvSpPr>
        <p:spPr>
          <a:xfrm>
            <a:off x="7142040" y="4079880"/>
            <a:ext cx="236520" cy="1066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4"/>
          <p:cNvSpPr/>
          <p:nvPr/>
        </p:nvSpPr>
        <p:spPr>
          <a:xfrm>
            <a:off x="7613640" y="4435560"/>
            <a:ext cx="235080" cy="71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21"/>
          <p:cNvGrpSpPr/>
          <p:nvPr/>
        </p:nvGrpSpPr>
        <p:grpSpPr>
          <a:xfrm>
            <a:off x="4495680" y="1590840"/>
            <a:ext cx="3353040" cy="3555720"/>
            <a:chOff x="4495680" y="1590840"/>
            <a:chExt cx="3353040" cy="3555720"/>
          </a:xfrm>
        </p:grpSpPr>
        <p:sp>
          <p:nvSpPr>
            <p:cNvPr id="624" name="Straight Connector 49"/>
            <p:cNvSpPr/>
            <p:nvPr/>
          </p:nvSpPr>
          <p:spPr>
            <a:xfrm>
              <a:off x="4495680" y="15908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Straight Connector 53"/>
            <p:cNvSpPr/>
            <p:nvPr/>
          </p:nvSpPr>
          <p:spPr>
            <a:xfrm>
              <a:off x="4495680" y="19486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Straight Connector 55"/>
            <p:cNvSpPr/>
            <p:nvPr/>
          </p:nvSpPr>
          <p:spPr>
            <a:xfrm>
              <a:off x="4495680" y="23014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Straight Connector 57"/>
            <p:cNvSpPr/>
            <p:nvPr/>
          </p:nvSpPr>
          <p:spPr>
            <a:xfrm>
              <a:off x="4495680" y="265896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Straight Connector 58"/>
            <p:cNvSpPr/>
            <p:nvPr/>
          </p:nvSpPr>
          <p:spPr>
            <a:xfrm>
              <a:off x="4495680" y="301212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Straight Connector 60"/>
            <p:cNvSpPr/>
            <p:nvPr/>
          </p:nvSpPr>
          <p:spPr>
            <a:xfrm>
              <a:off x="4495680" y="336960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Straight Connector 61"/>
            <p:cNvSpPr/>
            <p:nvPr/>
          </p:nvSpPr>
          <p:spPr>
            <a:xfrm>
              <a:off x="4495680" y="372276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Straight Connector 62"/>
            <p:cNvSpPr/>
            <p:nvPr/>
          </p:nvSpPr>
          <p:spPr>
            <a:xfrm>
              <a:off x="4495680" y="40802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Straight Connector 63"/>
            <p:cNvSpPr/>
            <p:nvPr/>
          </p:nvSpPr>
          <p:spPr>
            <a:xfrm>
              <a:off x="4495680" y="44330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Straight Connector 65"/>
            <p:cNvSpPr/>
            <p:nvPr/>
          </p:nvSpPr>
          <p:spPr>
            <a:xfrm>
              <a:off x="4495680" y="47908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Straight Connector 66"/>
            <p:cNvSpPr/>
            <p:nvPr/>
          </p:nvSpPr>
          <p:spPr>
            <a:xfrm>
              <a:off x="4495680" y="51436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Box 68"/>
          <p:cNvSpPr/>
          <p:nvPr/>
        </p:nvSpPr>
        <p:spPr>
          <a:xfrm>
            <a:off x="7861320" y="1476360"/>
            <a:ext cx="444600" cy="36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74"/>
          <p:cNvSpPr/>
          <p:nvPr/>
        </p:nvSpPr>
        <p:spPr>
          <a:xfrm>
            <a:off x="4438800" y="382572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</a:rPr>
              <a:t>3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75"/>
          <p:cNvSpPr/>
          <p:nvPr/>
        </p:nvSpPr>
        <p:spPr>
          <a:xfrm>
            <a:off x="4667400" y="166680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</a:rPr>
              <a:t>9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76"/>
          <p:cNvSpPr/>
          <p:nvPr/>
        </p:nvSpPr>
        <p:spPr>
          <a:xfrm>
            <a:off x="4902120" y="27511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7"/>
          <p:cNvSpPr/>
          <p:nvPr/>
        </p:nvSpPr>
        <p:spPr>
          <a:xfrm>
            <a:off x="5302080" y="4148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78"/>
          <p:cNvSpPr/>
          <p:nvPr/>
        </p:nvSpPr>
        <p:spPr>
          <a:xfrm>
            <a:off x="5530680" y="27511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79"/>
          <p:cNvSpPr/>
          <p:nvPr/>
        </p:nvSpPr>
        <p:spPr>
          <a:xfrm>
            <a:off x="5784840" y="308916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80"/>
          <p:cNvSpPr/>
          <p:nvPr/>
        </p:nvSpPr>
        <p:spPr>
          <a:xfrm>
            <a:off x="6191280" y="343692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1"/>
          <p:cNvSpPr/>
          <p:nvPr/>
        </p:nvSpPr>
        <p:spPr>
          <a:xfrm>
            <a:off x="6375240" y="1295280"/>
            <a:ext cx="47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82"/>
          <p:cNvSpPr/>
          <p:nvPr/>
        </p:nvSpPr>
        <p:spPr>
          <a:xfrm>
            <a:off x="6680160" y="23526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</a:rPr>
              <a:t>7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83"/>
          <p:cNvSpPr/>
          <p:nvPr/>
        </p:nvSpPr>
        <p:spPr>
          <a:xfrm>
            <a:off x="7067520" y="3800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</a:rPr>
              <a:t>3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84"/>
          <p:cNvSpPr/>
          <p:nvPr/>
        </p:nvSpPr>
        <p:spPr>
          <a:xfrm>
            <a:off x="7251840" y="3114720"/>
            <a:ext cx="46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85"/>
          <p:cNvSpPr/>
          <p:nvPr/>
        </p:nvSpPr>
        <p:spPr>
          <a:xfrm>
            <a:off x="7556400" y="4148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6"/>
          <p:cNvSpPr/>
          <p:nvPr/>
        </p:nvSpPr>
        <p:spPr>
          <a:xfrm>
            <a:off x="4495680" y="5689440"/>
            <a:ext cx="182520" cy="243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7"/>
          <p:cNvSpPr/>
          <p:nvPr/>
        </p:nvSpPr>
        <p:spPr>
          <a:xfrm>
            <a:off x="5638680" y="5689440"/>
            <a:ext cx="182520" cy="243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88"/>
          <p:cNvSpPr/>
          <p:nvPr/>
        </p:nvSpPr>
        <p:spPr>
          <a:xfrm>
            <a:off x="6753240" y="5689440"/>
            <a:ext cx="182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91"/>
          <p:cNvSpPr/>
          <p:nvPr/>
        </p:nvSpPr>
        <p:spPr>
          <a:xfrm>
            <a:off x="466740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95959"/>
                </a:solidFill>
                <a:latin typeface="方正兰亭黑_GBK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方正兰亭黑_GBK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92"/>
          <p:cNvSpPr/>
          <p:nvPr/>
        </p:nvSpPr>
        <p:spPr>
          <a:xfrm>
            <a:off x="581652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9ff"/>
                </a:solidFill>
                <a:latin typeface="方正兰亭黑_GBK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99ff"/>
                </a:solidFill>
                <a:latin typeface="方正兰亭黑_GBK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93"/>
          <p:cNvSpPr/>
          <p:nvPr/>
        </p:nvSpPr>
        <p:spPr>
          <a:xfrm>
            <a:off x="692784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方正兰亭黑_GBK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方正兰亭黑_GBK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94"/>
          <p:cNvSpPr/>
          <p:nvPr/>
        </p:nvSpPr>
        <p:spPr>
          <a:xfrm>
            <a:off x="4413240" y="5156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95"/>
          <p:cNvSpPr/>
          <p:nvPr/>
        </p:nvSpPr>
        <p:spPr>
          <a:xfrm>
            <a:off x="5302080" y="5156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96"/>
          <p:cNvSpPr/>
          <p:nvPr/>
        </p:nvSpPr>
        <p:spPr>
          <a:xfrm>
            <a:off x="6197760" y="5156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97"/>
          <p:cNvSpPr/>
          <p:nvPr/>
        </p:nvSpPr>
        <p:spPr>
          <a:xfrm>
            <a:off x="7067520" y="51735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98"/>
          <p:cNvSpPr/>
          <p:nvPr/>
        </p:nvSpPr>
        <p:spPr>
          <a:xfrm>
            <a:off x="1187280" y="3173400"/>
            <a:ext cx="14796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</a:rPr>
              <a:t>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99"/>
          <p:cNvSpPr/>
          <p:nvPr/>
        </p:nvSpPr>
        <p:spPr>
          <a:xfrm>
            <a:off x="1187280" y="4103640"/>
            <a:ext cx="14796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</a:rPr>
              <a:t>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00"/>
          <p:cNvSpPr/>
          <p:nvPr/>
        </p:nvSpPr>
        <p:spPr>
          <a:xfrm>
            <a:off x="2857680" y="3173400"/>
            <a:ext cx="147924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</a:rPr>
              <a:t>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01"/>
          <p:cNvSpPr/>
          <p:nvPr/>
        </p:nvSpPr>
        <p:spPr>
          <a:xfrm>
            <a:off x="2857680" y="4103640"/>
            <a:ext cx="147924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</a:rPr>
              <a:t>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矩形 2"/>
          <p:cNvSpPr/>
          <p:nvPr/>
        </p:nvSpPr>
        <p:spPr>
          <a:xfrm>
            <a:off x="2971080" y="3259080"/>
            <a:ext cx="3558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方正兰亭黑_GBK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方正兰亭黑_GBK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方正兰亭黑_GBK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方正兰亭黑_GB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5" descr="01_Main-Background.jpg"/>
          <p:cNvPicPr/>
          <p:nvPr/>
        </p:nvPicPr>
        <p:blipFill>
          <a:blip r:embed="rId2"/>
          <a:stretch/>
        </p:blipFill>
        <p:spPr>
          <a:xfrm>
            <a:off x="3240" y="144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664" name="TextBox 7"/>
          <p:cNvSpPr/>
          <p:nvPr/>
        </p:nvSpPr>
        <p:spPr>
          <a:xfrm>
            <a:off x="4363920" y="3632040"/>
            <a:ext cx="295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ff"/>
                </a:solidFill>
                <a:latin typeface="方正兰亭黑_GBK"/>
              </a:rPr>
              <a:t>THANK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0"/>
          <p:cNvSpPr/>
          <p:nvPr/>
        </p:nvSpPr>
        <p:spPr>
          <a:xfrm>
            <a:off x="4091040" y="42609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_GBK"/>
              </a:rPr>
              <a:t>For Your Potential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7315200" y="3840120"/>
            <a:ext cx="18288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1752480" y="4819680"/>
            <a:ext cx="546732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9"/>
          <p:cNvSpPr/>
          <p:nvPr/>
        </p:nvSpPr>
        <p:spPr>
          <a:xfrm>
            <a:off x="0" y="4819680"/>
            <a:ext cx="1701720" cy="914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250" autoRev="1" fill="hold"/>
                                        <p:tgtEl>
                                          <p:spTgt spid="6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7" dur="250" autoRev="1" fill="hold"/>
                                        <p:tgtEl>
                                          <p:spTgt spid="6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23:44:00Z</dcterms:created>
  <dc:creator>Abdur Razzak</dc:creator>
  <dc:description/>
  <dc:language>en-US</dc:language>
  <cp:lastModifiedBy>lenovo</cp:lastModifiedBy>
  <dcterms:modified xsi:type="dcterms:W3CDTF">2015-01-06T18:19:10Z</dcterms:modified>
  <cp:revision>366</cp:revision>
  <dc:subject/>
  <dc:title>Slide 2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