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FA35D-2310-4AF0-A5A4-A9D78350D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B67B3-1E9A-45A5-B814-993D1C772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B8E0C-E6E6-4EB4-9834-4B2475C04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B93F6-0D9E-45E6-8CE2-3BAA8ACBC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48EB3-53DA-42CC-8F53-ED936CAD1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1CF41-6AA8-40B6-8656-DB0C23C8C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F43A3-444B-43D5-B753-9A34F6FC7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B04EE-F0F7-4CB8-B1AD-F0389E327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1E795-2D8A-4AAC-B3F3-919E238A0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B762F-9256-4BB3-A44B-A5E6A18C1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06159-E50C-48C4-B694-F006CB207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38D28-4023-488F-982A-A51146507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BF840-7BC9-45F1-AC1E-83F9DA4A6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7AF1E-1A2A-49D1-BEDB-84351A61C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9D8A8-A9AB-457C-8663-AE860CE28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60CF5-1B84-4055-AEC5-EB41758C2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6E715-0A85-45DC-B614-0DCCB2264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F921E4-8C24-4586-A22C-55C9D2A880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1B6159-4BAE-439F-9BBD-1CB1BB4E6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F9EC8F-4B70-4C0D-91A0-0B022FAE2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E4C012-91E6-49B9-B9B2-73C2C95ADB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480ECB-12AA-4FE4-BA88-9B8C4753D3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D2FCC-AA87-4CB2-83BE-0AD46CCC0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24319-8B82-4F1D-A343-026FE3C736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D75599-C057-443A-8FE9-AB9B553D0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F81AE-F4D2-4FF5-9DCD-89F6B6E4E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52487-DDAE-4DC9-B351-C985F5342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3AE0EA-1338-4C35-BB24-CDBA70932A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4D33DE-3872-46FC-905C-0B2F942F40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7A93E9-2B73-4A93-883B-98E52DCD19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C0F80A-F190-4148-B222-E05DEA19CC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C4130F-77F7-4746-A98C-B9E974872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2141E6-626E-4B9E-8642-09558E71B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120AE-35FE-4FC4-B69C-91CBB0759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E08B5-278E-4BAA-B9ED-544807F37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214461-C2FC-449F-A1EC-5FB30120C3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32A3CD-82AE-4E6D-AA99-F6E9D05DD4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ADAA1-6C27-410C-90CE-2E0A08D3F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5DD02-4074-4881-B229-A613E15E1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503BAF-D90E-4969-8F02-2E143320B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FCDBE3-2D87-445C-8F07-166F1D8D60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8D5EB9-79F2-46C5-A507-316B0BB5B5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348957-8A19-425F-995B-943C23C17C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DC9141-CDB0-4DCC-8D1D-442DFC6950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05C5F-C75C-4826-97C3-BB5C91980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ABADB9-E673-4E54-B083-9B72E3B5B8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DDC8BE-BB32-4FD6-830E-06F301E765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9850EE-45C4-4809-951F-142171960A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F8A0EF-11AE-4E64-A579-C4369FFC11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D7A8B0-2377-4912-817B-F304AE489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7DBF5D-00EB-4520-87F0-A3C2669F3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3C7C0-8E8F-4734-B73D-32F2739D4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B4D0B3-08D9-4484-BE63-54AC1A812C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77081D-74D5-4B48-9ACA-BF717FB0F1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76B270-D6B9-40DB-87C6-D077E46E72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D739D-6782-43D2-BF66-5CC94BF48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265143-C22A-4EBA-87E9-45D66FB62C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6F456-BF5B-4E14-B16D-E2FC47D2E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8052C-02B6-4335-863E-9F875A094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83FC0-2C7B-4E7F-B45F-B7602B540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4D2B-441F-4273-B131-581982CA7AA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0" r="0" b="15592"/>
          <a:stretch/>
        </p:blipFill>
        <p:spPr>
          <a:xfrm>
            <a:off x="0" y="0"/>
            <a:ext cx="12192120" cy="6858000"/>
          </a:xfrm>
          <a:prstGeom prst="rect">
            <a:avLst/>
          </a:prstGeom>
          <a:ln w="0">
            <a:noFill/>
          </a:ln>
        </p:spPr>
      </p:pic>
      <p:sp>
        <p:nvSpPr>
          <p:cNvPr id="42"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矩形 8"/>
          <p:cNvSpPr/>
          <p:nvPr/>
        </p:nvSpPr>
        <p:spPr>
          <a:xfrm>
            <a:off x="5522400" y="637236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252F-FBFE-4DBC-AF30-C143A8259668}" type="slidenum">
              <a:rPr b="0" lang="zh-CN" sz="1800" spc="-1" strike="noStrike">
                <a:solidFill>
                  <a:srgbClr val="ffc000"/>
                </a:solidFill>
                <a:latin typeface="Calibri"/>
              </a:rPr>
              <a:t>&lt;number&gt;</a:t>
            </a:fld>
            <a:endParaRPr b="0" lang="en-US" sz="1800" spc="-1" strike="noStrike">
              <a:solidFill>
                <a:srgbClr val="000000"/>
              </a:solidFill>
              <a:latin typeface="Calibri"/>
            </a:endParaRPr>
          </a:p>
        </p:txBody>
      </p:sp>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D6D7-F471-4C39-ACA5-5A9AAA39FF5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rcRect l="0" t="0" r="0" b="15443"/>
          <a:stretch/>
        </p:blipFill>
        <p:spPr>
          <a:xfrm>
            <a:off x="0" y="-14400"/>
            <a:ext cx="12192120" cy="6872400"/>
          </a:xfrm>
          <a:prstGeom prst="rect">
            <a:avLst/>
          </a:prstGeom>
          <a:ln w="0">
            <a:noFill/>
          </a:ln>
        </p:spPr>
      </p:pic>
      <p:sp>
        <p:nvSpPr>
          <p:cNvPr id="86"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9" name="PlaceHolder 3"/>
          <p:cNvSpPr>
            <a:spLocks noGrp="1"/>
          </p:cNvSpPr>
          <p:nvPr>
            <p:ph type="dt" idx="7"/>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1D63-7EF9-4FB8-9A42-796E396F19C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7185"/>
        </a:solidFill>
      </p:bgPr>
    </p:bg>
    <p:spTree>
      <p:nvGrpSpPr>
        <p:cNvPr id="1" name=""/>
        <p:cNvGrpSpPr/>
        <p:nvPr/>
      </p:nvGrpSpPr>
      <p:grpSpPr>
        <a:xfrm>
          <a:off x="0" y="0"/>
          <a:ext cx="0" cy="0"/>
          <a:chOff x="0" y="0"/>
          <a:chExt cx="0" cy="0"/>
        </a:xfrm>
      </p:grpSpPr>
      <p:pic>
        <p:nvPicPr>
          <p:cNvPr id="128" name="图片 6" descr=""/>
          <p:cNvPicPr/>
          <p:nvPr/>
        </p:nvPicPr>
        <p:blipFill>
          <a:blip r:embed="rId2"/>
          <a:srcRect l="0" t="0" r="0" b="15592"/>
          <a:stretch/>
        </p:blipFill>
        <p:spPr>
          <a:xfrm>
            <a:off x="0" y="0"/>
            <a:ext cx="12192120" cy="6858000"/>
          </a:xfrm>
          <a:prstGeom prst="rect">
            <a:avLst/>
          </a:prstGeom>
          <a:ln w="0">
            <a:noFill/>
          </a:ln>
        </p:spPr>
      </p:pic>
      <p:sp>
        <p:nvSpPr>
          <p:cNvPr id="129"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8"/>
          <p:cNvSpPr/>
          <p:nvPr/>
        </p:nvSpPr>
        <p:spPr>
          <a:xfrm>
            <a:off x="5265720" y="0"/>
            <a:ext cx="6926400" cy="6858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 name="PlaceHolder 3"/>
          <p:cNvSpPr>
            <a:spLocks noGrp="1"/>
          </p:cNvSpPr>
          <p:nvPr>
            <p:ph type="dt" idx="10"/>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PlaceHolder 4"/>
          <p:cNvSpPr>
            <a:spLocks noGrp="1"/>
          </p:cNvSpPr>
          <p:nvPr>
            <p:ph type="ftr" idx="11"/>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B4A0-5F69-4462-9132-355605C7F17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7185"/>
        </a:solidFill>
      </p:bgPr>
    </p:bg>
    <p:spTree>
      <p:nvGrpSpPr>
        <p:cNvPr id="1" name=""/>
        <p:cNvGrpSpPr/>
        <p:nvPr/>
      </p:nvGrpSpPr>
      <p:grpSpPr>
        <a:xfrm>
          <a:off x="0" y="0"/>
          <a:ext cx="0" cy="0"/>
          <a:chOff x="0" y="0"/>
          <a:chExt cx="0" cy="0"/>
        </a:xfrm>
      </p:grpSpPr>
      <p:sp>
        <p:nvSpPr>
          <p:cNvPr id="172" name="矩形 6"/>
          <p:cNvSpPr/>
          <p:nvPr/>
        </p:nvSpPr>
        <p:spPr>
          <a:xfrm>
            <a:off x="793800" y="461880"/>
            <a:ext cx="46080" cy="8082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3"/>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4"/>
          <p:cNvSpPr>
            <a:spLocks noGrp="1"/>
          </p:cNvSpPr>
          <p:nvPr>
            <p:ph type="ftr" idx="14"/>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5"/>
          <p:cNvSpPr>
            <a:spLocks noGrp="1"/>
          </p:cNvSpPr>
          <p:nvPr>
            <p:ph type="sldNum" idx="15"/>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9ED0-D765-4384-AF91-C22F2D82DEB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808200"/>
            <a:ext cx="105156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员工培训商务会议通用</a:t>
            </a:r>
            <a:endParaRPr b="0" lang="en-US" sz="6600" spc="-1" strike="noStrike">
              <a:solidFill>
                <a:srgbClr val="000000"/>
              </a:solidFill>
              <a:latin typeface="Calibri Light"/>
            </a:endParaRPr>
          </a:p>
        </p:txBody>
      </p:sp>
      <p:sp>
        <p:nvSpPr>
          <p:cNvPr id="215" name="PlaceHolder 2"/>
          <p:cNvSpPr>
            <a:spLocks noGrp="1"/>
          </p:cNvSpPr>
          <p:nvPr>
            <p:ph type="subTitle"/>
          </p:nvPr>
        </p:nvSpPr>
        <p:spPr>
          <a:xfrm>
            <a:off x="820800" y="3651120"/>
            <a:ext cx="10515600" cy="16560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eebf7"/>
                </a:solidFill>
                <a:latin typeface="微软雅黑 Light"/>
                <a:ea typeface="微软雅黑 Light"/>
              </a:rPr>
              <a:t>简洁大气</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易编辑</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任意替换内容</a:t>
            </a:r>
            <a:endParaRPr b="0" lang="en-US" sz="1800" spc="-1" strike="noStrike">
              <a:solidFill>
                <a:srgbClr val="000000"/>
              </a:solidFill>
              <a:latin typeface="Calibri"/>
            </a:endParaRPr>
          </a:p>
        </p:txBody>
      </p:sp>
      <p:sp>
        <p:nvSpPr>
          <p:cNvPr id="216" name="文本框 16"/>
          <p:cNvSpPr/>
          <p:nvPr/>
        </p:nvSpPr>
        <p:spPr>
          <a:xfrm>
            <a:off x="6235920" y="4300560"/>
            <a:ext cx="139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微软雅黑"/>
              </a:rPr>
              <a:t>2015</a:t>
            </a:r>
            <a:r>
              <a:rPr b="0" lang="zh-CN" sz="2000" spc="-1" strike="noStrike">
                <a:solidFill>
                  <a:srgbClr val="ffc000"/>
                </a:solidFill>
                <a:latin typeface="微软雅黑"/>
              </a:rPr>
              <a:t>年</a:t>
            </a:r>
            <a:r>
              <a:rPr b="0" lang="en-US" sz="2000" spc="-1" strike="noStrike">
                <a:solidFill>
                  <a:srgbClr val="ffc000"/>
                </a:solidFill>
                <a:latin typeface="微软雅黑"/>
              </a:rPr>
              <a:t>9</a:t>
            </a:r>
            <a:r>
              <a:rPr b="0" lang="zh-CN" sz="2000" spc="-1" strike="noStrike">
                <a:solidFill>
                  <a:srgbClr val="ffc000"/>
                </a:solidFill>
                <a:latin typeface="微软雅黑"/>
              </a:rPr>
              <a:t>月</a:t>
            </a:r>
            <a:endParaRPr b="0" lang="en-US" sz="2000" spc="-1" strike="noStrike">
              <a:solidFill>
                <a:srgbClr val="000000"/>
              </a:solidFill>
              <a:latin typeface="Calibri"/>
            </a:endParaRPr>
          </a:p>
        </p:txBody>
      </p:sp>
      <p:sp>
        <p:nvSpPr>
          <p:cNvPr id="217" name="矩形 26"/>
          <p:cNvSpPr/>
          <p:nvPr/>
        </p:nvSpPr>
        <p:spPr>
          <a:xfrm>
            <a:off x="6095880" y="4257720"/>
            <a:ext cx="1528920" cy="4428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直接连接符 28"/>
          <p:cNvSpPr/>
          <p:nvPr/>
        </p:nvSpPr>
        <p:spPr>
          <a:xfrm>
            <a:off x="1193760" y="3430440"/>
            <a:ext cx="9771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93" name="椭圆 2"/>
          <p:cNvSpPr/>
          <p:nvPr/>
        </p:nvSpPr>
        <p:spPr>
          <a:xfrm>
            <a:off x="1625760" y="2425680"/>
            <a:ext cx="1600200" cy="1600200"/>
          </a:xfrm>
          <a:prstGeom prst="ellipse">
            <a:avLst/>
          </a:prstGeom>
          <a:noFill/>
          <a:ln w="19080">
            <a:solidFill>
              <a:srgbClr val="ffc4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4"/>
          <p:cNvSpPr/>
          <p:nvPr/>
        </p:nvSpPr>
        <p:spPr>
          <a:xfrm>
            <a:off x="196848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5" name="椭圆 5"/>
          <p:cNvSpPr/>
          <p:nvPr/>
        </p:nvSpPr>
        <p:spPr>
          <a:xfrm>
            <a:off x="4064040" y="2425680"/>
            <a:ext cx="1600200" cy="1600200"/>
          </a:xfrm>
          <a:prstGeom prst="ellipse">
            <a:avLst/>
          </a:prstGeom>
          <a:noFill/>
          <a:ln w="1908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矩形 6"/>
          <p:cNvSpPr/>
          <p:nvPr/>
        </p:nvSpPr>
        <p:spPr>
          <a:xfrm>
            <a:off x="440676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7" name="椭圆 7"/>
          <p:cNvSpPr/>
          <p:nvPr/>
        </p:nvSpPr>
        <p:spPr>
          <a:xfrm>
            <a:off x="6502320" y="2425680"/>
            <a:ext cx="1600200" cy="1600200"/>
          </a:xfrm>
          <a:prstGeom prst="ellipse">
            <a:avLst/>
          </a:prstGeom>
          <a:noFill/>
          <a:ln w="19080">
            <a:solidFill>
              <a:srgbClr val="ffc4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矩形 8"/>
          <p:cNvSpPr/>
          <p:nvPr/>
        </p:nvSpPr>
        <p:spPr>
          <a:xfrm>
            <a:off x="684540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9" name="椭圆 9"/>
          <p:cNvSpPr/>
          <p:nvPr/>
        </p:nvSpPr>
        <p:spPr>
          <a:xfrm>
            <a:off x="8940960" y="2425680"/>
            <a:ext cx="1600200" cy="1600200"/>
          </a:xfrm>
          <a:prstGeom prst="ellipse">
            <a:avLst/>
          </a:prstGeom>
          <a:noFill/>
          <a:ln w="1908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矩形 10"/>
          <p:cNvSpPr/>
          <p:nvPr/>
        </p:nvSpPr>
        <p:spPr>
          <a:xfrm>
            <a:off x="928368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301" name="矩形 17"/>
          <p:cNvSpPr/>
          <p:nvPr/>
        </p:nvSpPr>
        <p:spPr>
          <a:xfrm>
            <a:off x="1403280" y="4371840"/>
            <a:ext cx="20433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2" name="矩形 17"/>
          <p:cNvSpPr/>
          <p:nvPr/>
        </p:nvSpPr>
        <p:spPr>
          <a:xfrm>
            <a:off x="3841920" y="4371840"/>
            <a:ext cx="20430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3" name="矩形 17"/>
          <p:cNvSpPr/>
          <p:nvPr/>
        </p:nvSpPr>
        <p:spPr>
          <a:xfrm>
            <a:off x="6280200" y="4371840"/>
            <a:ext cx="20430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4" name="矩形 17"/>
          <p:cNvSpPr/>
          <p:nvPr/>
        </p:nvSpPr>
        <p:spPr>
          <a:xfrm>
            <a:off x="8718480" y="4371840"/>
            <a:ext cx="20433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pic>
        <p:nvPicPr>
          <p:cNvPr id="305" name="Group 4" descr=""/>
          <p:cNvPicPr/>
          <p:nvPr/>
        </p:nvPicPr>
        <p:blipFill>
          <a:blip r:embed="rId1"/>
          <a:stretch/>
        </p:blipFill>
        <p:spPr>
          <a:xfrm>
            <a:off x="2066760" y="2759040"/>
            <a:ext cx="722520" cy="774720"/>
          </a:xfrm>
          <a:prstGeom prst="rect">
            <a:avLst/>
          </a:prstGeom>
          <a:ln w="0">
            <a:noFill/>
          </a:ln>
        </p:spPr>
      </p:pic>
      <p:pic>
        <p:nvPicPr>
          <p:cNvPr id="306" name="Group 12" descr=""/>
          <p:cNvPicPr/>
          <p:nvPr/>
        </p:nvPicPr>
        <p:blipFill>
          <a:blip r:embed="rId2"/>
          <a:stretch/>
        </p:blipFill>
        <p:spPr>
          <a:xfrm>
            <a:off x="4430880" y="2755800"/>
            <a:ext cx="868320" cy="774720"/>
          </a:xfrm>
          <a:prstGeom prst="rect">
            <a:avLst/>
          </a:prstGeom>
          <a:ln w="0">
            <a:noFill/>
          </a:ln>
        </p:spPr>
      </p:pic>
      <p:pic>
        <p:nvPicPr>
          <p:cNvPr id="307" name="Group 17" descr=""/>
          <p:cNvPicPr/>
          <p:nvPr/>
        </p:nvPicPr>
        <p:blipFill>
          <a:blip r:embed="rId3"/>
          <a:stretch/>
        </p:blipFill>
        <p:spPr>
          <a:xfrm>
            <a:off x="6913440" y="2733840"/>
            <a:ext cx="776520" cy="815760"/>
          </a:xfrm>
          <a:prstGeom prst="rect">
            <a:avLst/>
          </a:prstGeom>
          <a:ln w="0">
            <a:noFill/>
          </a:ln>
        </p:spPr>
      </p:pic>
      <p:pic>
        <p:nvPicPr>
          <p:cNvPr id="308" name="Group 25" descr=""/>
          <p:cNvPicPr/>
          <p:nvPr/>
        </p:nvPicPr>
        <p:blipFill>
          <a:blip r:embed="rId4"/>
          <a:stretch/>
        </p:blipFill>
        <p:spPr>
          <a:xfrm>
            <a:off x="9361440" y="2725560"/>
            <a:ext cx="7574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10" name="椭圆 5"/>
          <p:cNvSpPr/>
          <p:nvPr/>
        </p:nvSpPr>
        <p:spPr>
          <a:xfrm>
            <a:off x="839880" y="2946240"/>
            <a:ext cx="482400" cy="482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311" name="椭圆 7"/>
          <p:cNvSpPr/>
          <p:nvPr/>
        </p:nvSpPr>
        <p:spPr>
          <a:xfrm>
            <a:off x="2786040" y="246384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sp>
        <p:nvSpPr>
          <p:cNvPr id="312" name="椭圆 9"/>
          <p:cNvSpPr/>
          <p:nvPr/>
        </p:nvSpPr>
        <p:spPr>
          <a:xfrm>
            <a:off x="4732200" y="185436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endParaRPr b="0" lang="en-US" sz="1800" spc="-1" strike="noStrike">
              <a:solidFill>
                <a:srgbClr val="000000"/>
              </a:solidFill>
              <a:latin typeface="Calibri"/>
            </a:endParaRPr>
          </a:p>
        </p:txBody>
      </p:sp>
      <p:sp>
        <p:nvSpPr>
          <p:cNvPr id="313" name="椭圆 11"/>
          <p:cNvSpPr/>
          <p:nvPr/>
        </p:nvSpPr>
        <p:spPr>
          <a:xfrm>
            <a:off x="6680160" y="2946240"/>
            <a:ext cx="482760" cy="482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4</a:t>
            </a:r>
            <a:endParaRPr b="0" lang="en-US" sz="1800" spc="-1" strike="noStrike">
              <a:solidFill>
                <a:srgbClr val="000000"/>
              </a:solidFill>
              <a:latin typeface="Calibri"/>
            </a:endParaRPr>
          </a:p>
        </p:txBody>
      </p:sp>
      <p:grpSp>
        <p:nvGrpSpPr>
          <p:cNvPr id="314" name="组合 1"/>
          <p:cNvGrpSpPr/>
          <p:nvPr/>
        </p:nvGrpSpPr>
        <p:grpSpPr>
          <a:xfrm>
            <a:off x="839880" y="2336760"/>
            <a:ext cx="10512360" cy="2451240"/>
            <a:chOff x="839880" y="2336760"/>
            <a:chExt cx="10512360" cy="2451240"/>
          </a:xfrm>
        </p:grpSpPr>
        <p:sp>
          <p:nvSpPr>
            <p:cNvPr id="315" name="直接连接符 2"/>
            <p:cNvSpPr/>
            <p:nvPr/>
          </p:nvSpPr>
          <p:spPr>
            <a:xfrm>
              <a:off x="839880" y="4788000"/>
              <a:ext cx="10512360" cy="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直接连接符 4"/>
            <p:cNvSpPr/>
            <p:nvPr/>
          </p:nvSpPr>
          <p:spPr>
            <a:xfrm>
              <a:off x="1081080" y="3429000"/>
              <a:ext cx="0" cy="135900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直接连接符 6"/>
            <p:cNvSpPr/>
            <p:nvPr/>
          </p:nvSpPr>
          <p:spPr>
            <a:xfrm>
              <a:off x="3027240" y="2946240"/>
              <a:ext cx="0" cy="184176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直接连接符 8"/>
            <p:cNvSpPr/>
            <p:nvPr/>
          </p:nvSpPr>
          <p:spPr>
            <a:xfrm>
              <a:off x="4973760" y="2336760"/>
              <a:ext cx="0" cy="245124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直接连接符 10"/>
            <p:cNvSpPr/>
            <p:nvPr/>
          </p:nvSpPr>
          <p:spPr>
            <a:xfrm>
              <a:off x="6921720" y="3429000"/>
              <a:ext cx="0" cy="135900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直接连接符 12"/>
            <p:cNvSpPr/>
            <p:nvPr/>
          </p:nvSpPr>
          <p:spPr>
            <a:xfrm>
              <a:off x="8867880" y="2946240"/>
              <a:ext cx="0" cy="184176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1" name="椭圆 13"/>
          <p:cNvSpPr/>
          <p:nvPr/>
        </p:nvSpPr>
        <p:spPr>
          <a:xfrm>
            <a:off x="8626320" y="246384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a:t>
            </a:r>
            <a:endParaRPr b="0" lang="en-US" sz="1800" spc="-1" strike="noStrike">
              <a:solidFill>
                <a:srgbClr val="000000"/>
              </a:solidFill>
              <a:latin typeface="Calibri"/>
            </a:endParaRPr>
          </a:p>
        </p:txBody>
      </p:sp>
      <p:sp>
        <p:nvSpPr>
          <p:cNvPr id="322" name="矩形 14"/>
          <p:cNvSpPr/>
          <p:nvPr/>
        </p:nvSpPr>
        <p:spPr>
          <a:xfrm>
            <a:off x="960480" y="5338800"/>
            <a:ext cx="10391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ullamcorper sit amet ligula Nulla quis lorem ut libero malesuada feugiat ullamcorper sit amet ligula Nulla quis lorem ut libero malesuada feugiat. </a:t>
            </a:r>
            <a:endParaRPr b="0" lang="en-US" sz="1400" spc="-1" strike="noStrike">
              <a:solidFill>
                <a:srgbClr val="000000"/>
              </a:solidFill>
              <a:latin typeface="Calibri"/>
            </a:endParaRPr>
          </a:p>
        </p:txBody>
      </p:sp>
      <p:sp>
        <p:nvSpPr>
          <p:cNvPr id="323" name="矩形 15"/>
          <p:cNvSpPr/>
          <p:nvPr/>
        </p:nvSpPr>
        <p:spPr>
          <a:xfrm>
            <a:off x="1270080" y="3492360"/>
            <a:ext cx="1585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4" name="矩形 16"/>
          <p:cNvSpPr/>
          <p:nvPr/>
        </p:nvSpPr>
        <p:spPr>
          <a:xfrm>
            <a:off x="1270080" y="32432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5" name="矩形 17"/>
          <p:cNvSpPr/>
          <p:nvPr/>
        </p:nvSpPr>
        <p:spPr>
          <a:xfrm>
            <a:off x="3251160" y="297648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6" name="矩形 18"/>
          <p:cNvSpPr/>
          <p:nvPr/>
        </p:nvSpPr>
        <p:spPr>
          <a:xfrm>
            <a:off x="3251160" y="27273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7" name="矩形 19"/>
          <p:cNvSpPr/>
          <p:nvPr/>
        </p:nvSpPr>
        <p:spPr>
          <a:xfrm>
            <a:off x="5143680" y="247176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8" name="矩形 20"/>
          <p:cNvSpPr/>
          <p:nvPr/>
        </p:nvSpPr>
        <p:spPr>
          <a:xfrm>
            <a:off x="5143680" y="22226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9" name="矩形 21"/>
          <p:cNvSpPr/>
          <p:nvPr/>
        </p:nvSpPr>
        <p:spPr>
          <a:xfrm>
            <a:off x="7112160" y="3465360"/>
            <a:ext cx="16095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0" name="矩形 22"/>
          <p:cNvSpPr/>
          <p:nvPr/>
        </p:nvSpPr>
        <p:spPr>
          <a:xfrm>
            <a:off x="7112160" y="3216240"/>
            <a:ext cx="1811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31" name="矩形 23"/>
          <p:cNvSpPr/>
          <p:nvPr/>
        </p:nvSpPr>
        <p:spPr>
          <a:xfrm>
            <a:off x="9069480" y="297504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2" name="矩形 24"/>
          <p:cNvSpPr/>
          <p:nvPr/>
        </p:nvSpPr>
        <p:spPr>
          <a:xfrm>
            <a:off x="9069480" y="27255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34" name="弧形 2"/>
          <p:cNvSpPr/>
          <p:nvPr/>
        </p:nvSpPr>
        <p:spPr>
          <a:xfrm rot="4726800">
            <a:off x="8651160" y="3329280"/>
            <a:ext cx="2075040" cy="2074680"/>
          </a:xfrm>
          <a:custGeom>
            <a:avLst/>
            <a:gdLst/>
            <a:ahLst/>
            <a:rect l="l" t="t" r="r" b="b"/>
            <a:pathLst>
              <a:path stroke="0"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lnTo>
                  <a:pt x="1037431" y="1037431"/>
                </a:lnTo>
                <a:close/>
              </a:path>
              <a:path fill="none"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path>
            </a:pathLst>
          </a:custGeom>
          <a:noFill/>
          <a:ln w="5724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弧形 4"/>
          <p:cNvSpPr/>
          <p:nvPr/>
        </p:nvSpPr>
        <p:spPr>
          <a:xfrm rot="14755200">
            <a:off x="6588000" y="3166560"/>
            <a:ext cx="2075040" cy="2075040"/>
          </a:xfrm>
          <a:custGeom>
            <a:avLst/>
            <a:gdLst/>
            <a:ahLst/>
            <a:rect l="l" t="t" r="r" b="b"/>
            <a:pathLst>
              <a:path stroke="0"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lnTo>
                  <a:pt x="1037431" y="1037431"/>
                </a:lnTo>
                <a:close/>
              </a:path>
              <a:path fill="none"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path>
            </a:pathLst>
          </a:custGeom>
          <a:noFill/>
          <a:ln w="5724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椭圆 5"/>
          <p:cNvSpPr/>
          <p:nvPr/>
        </p:nvSpPr>
        <p:spPr>
          <a:xfrm>
            <a:off x="7169040" y="2543040"/>
            <a:ext cx="914400" cy="914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椭圆 6"/>
          <p:cNvSpPr/>
          <p:nvPr/>
        </p:nvSpPr>
        <p:spPr>
          <a:xfrm>
            <a:off x="8926560" y="4986360"/>
            <a:ext cx="914400" cy="914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7"/>
          <p:cNvSpPr/>
          <p:nvPr/>
        </p:nvSpPr>
        <p:spPr>
          <a:xfrm>
            <a:off x="6827760" y="3776760"/>
            <a:ext cx="1641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9" name="矩形 8"/>
          <p:cNvSpPr/>
          <p:nvPr/>
        </p:nvSpPr>
        <p:spPr>
          <a:xfrm>
            <a:off x="6827760" y="352728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40" name="矩形 9"/>
          <p:cNvSpPr/>
          <p:nvPr/>
        </p:nvSpPr>
        <p:spPr>
          <a:xfrm>
            <a:off x="8786880" y="3863880"/>
            <a:ext cx="164304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41" name="矩形 10"/>
          <p:cNvSpPr/>
          <p:nvPr/>
        </p:nvSpPr>
        <p:spPr>
          <a:xfrm>
            <a:off x="8618400" y="3613320"/>
            <a:ext cx="1809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42" name="KSO_Shape"/>
          <p:cNvSpPr/>
          <p:nvPr/>
        </p:nvSpPr>
        <p:spPr>
          <a:xfrm>
            <a:off x="7373880" y="2811600"/>
            <a:ext cx="503280" cy="3808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Freeform 9"/>
          <p:cNvSpPr/>
          <p:nvPr/>
        </p:nvSpPr>
        <p:spPr>
          <a:xfrm>
            <a:off x="9190080" y="5249880"/>
            <a:ext cx="385560" cy="385920"/>
          </a:xfrm>
          <a:custGeom>
            <a:avLst/>
            <a:gdLst/>
            <a:ahLst/>
            <a:rect l="l" t="t" r="r" b="b"/>
            <a:pathLst>
              <a:path w="2073" h="2073">
                <a:moveTo>
                  <a:pt x="1973" y="643"/>
                </a:moveTo>
                <a:cubicBezTo>
                  <a:pt x="1883" y="734"/>
                  <a:pt x="1883" y="734"/>
                  <a:pt x="1883" y="734"/>
                </a:cubicBezTo>
                <a:cubicBezTo>
                  <a:pt x="1339" y="191"/>
                  <a:pt x="1339" y="191"/>
                  <a:pt x="1339" y="191"/>
                </a:cubicBezTo>
                <a:cubicBezTo>
                  <a:pt x="1430" y="100"/>
                  <a:pt x="1430" y="100"/>
                  <a:pt x="1430" y="100"/>
                </a:cubicBezTo>
                <a:cubicBezTo>
                  <a:pt x="1530" y="0"/>
                  <a:pt x="1692" y="0"/>
                  <a:pt x="1792" y="100"/>
                </a:cubicBezTo>
                <a:cubicBezTo>
                  <a:pt x="1973" y="281"/>
                  <a:pt x="1973" y="281"/>
                  <a:pt x="1973" y="281"/>
                </a:cubicBezTo>
                <a:cubicBezTo>
                  <a:pt x="2073" y="381"/>
                  <a:pt x="2073" y="543"/>
                  <a:pt x="1973" y="643"/>
                </a:cubicBezTo>
                <a:close/>
                <a:moveTo>
                  <a:pt x="706" y="1729"/>
                </a:moveTo>
                <a:cubicBezTo>
                  <a:pt x="681" y="1754"/>
                  <a:pt x="681" y="1795"/>
                  <a:pt x="706" y="1820"/>
                </a:cubicBezTo>
                <a:cubicBezTo>
                  <a:pt x="731" y="1845"/>
                  <a:pt x="771" y="1845"/>
                  <a:pt x="796" y="1820"/>
                </a:cubicBezTo>
                <a:cubicBezTo>
                  <a:pt x="1792" y="824"/>
                  <a:pt x="1792" y="824"/>
                  <a:pt x="1792" y="824"/>
                </a:cubicBezTo>
                <a:cubicBezTo>
                  <a:pt x="1701" y="734"/>
                  <a:pt x="1701" y="734"/>
                  <a:pt x="1701" y="734"/>
                </a:cubicBezTo>
                <a:lnTo>
                  <a:pt x="706" y="1729"/>
                </a:lnTo>
                <a:close/>
                <a:moveTo>
                  <a:pt x="253" y="1277"/>
                </a:moveTo>
                <a:cubicBezTo>
                  <a:pt x="228" y="1302"/>
                  <a:pt x="228" y="1342"/>
                  <a:pt x="253" y="1367"/>
                </a:cubicBezTo>
                <a:cubicBezTo>
                  <a:pt x="278" y="1392"/>
                  <a:pt x="319" y="1392"/>
                  <a:pt x="344" y="1367"/>
                </a:cubicBezTo>
                <a:cubicBezTo>
                  <a:pt x="1339" y="372"/>
                  <a:pt x="1339" y="372"/>
                  <a:pt x="1339" y="372"/>
                </a:cubicBezTo>
                <a:cubicBezTo>
                  <a:pt x="1249" y="281"/>
                  <a:pt x="1249" y="281"/>
                  <a:pt x="1249" y="281"/>
                </a:cubicBezTo>
                <a:lnTo>
                  <a:pt x="253" y="1277"/>
                </a:lnTo>
                <a:close/>
                <a:moveTo>
                  <a:pt x="1430" y="462"/>
                </a:moveTo>
                <a:cubicBezTo>
                  <a:pt x="434" y="1458"/>
                  <a:pt x="434" y="1458"/>
                  <a:pt x="434" y="1458"/>
                </a:cubicBezTo>
                <a:cubicBezTo>
                  <a:pt x="384" y="1507"/>
                  <a:pt x="384" y="1589"/>
                  <a:pt x="434" y="1639"/>
                </a:cubicBezTo>
                <a:cubicBezTo>
                  <a:pt x="484" y="1689"/>
                  <a:pt x="565" y="1689"/>
                  <a:pt x="615" y="1638"/>
                </a:cubicBezTo>
                <a:cubicBezTo>
                  <a:pt x="1611" y="643"/>
                  <a:pt x="1611" y="643"/>
                  <a:pt x="1611" y="643"/>
                </a:cubicBezTo>
                <a:lnTo>
                  <a:pt x="1430" y="462"/>
                </a:lnTo>
                <a:close/>
                <a:moveTo>
                  <a:pt x="615" y="1910"/>
                </a:moveTo>
                <a:cubicBezTo>
                  <a:pt x="584" y="1879"/>
                  <a:pt x="570" y="1840"/>
                  <a:pt x="564" y="1800"/>
                </a:cubicBezTo>
                <a:cubicBezTo>
                  <a:pt x="551" y="1802"/>
                  <a:pt x="538" y="1804"/>
                  <a:pt x="525" y="1804"/>
                </a:cubicBezTo>
                <a:cubicBezTo>
                  <a:pt x="456" y="1804"/>
                  <a:pt x="392" y="1777"/>
                  <a:pt x="344" y="1729"/>
                </a:cubicBezTo>
                <a:cubicBezTo>
                  <a:pt x="295" y="1681"/>
                  <a:pt x="269" y="1617"/>
                  <a:pt x="269" y="1548"/>
                </a:cubicBezTo>
                <a:cubicBezTo>
                  <a:pt x="269" y="1536"/>
                  <a:pt x="271" y="1524"/>
                  <a:pt x="272" y="1511"/>
                </a:cubicBezTo>
                <a:cubicBezTo>
                  <a:pt x="231" y="1506"/>
                  <a:pt x="193" y="1488"/>
                  <a:pt x="163" y="1458"/>
                </a:cubicBezTo>
                <a:cubicBezTo>
                  <a:pt x="160" y="1455"/>
                  <a:pt x="159" y="1451"/>
                  <a:pt x="156" y="1448"/>
                </a:cubicBezTo>
                <a:cubicBezTo>
                  <a:pt x="0" y="2073"/>
                  <a:pt x="0" y="2073"/>
                  <a:pt x="0" y="2073"/>
                </a:cubicBezTo>
                <a:cubicBezTo>
                  <a:pt x="624" y="1917"/>
                  <a:pt x="624" y="1917"/>
                  <a:pt x="624" y="1917"/>
                </a:cubicBezTo>
                <a:cubicBezTo>
                  <a:pt x="621" y="1914"/>
                  <a:pt x="618" y="1912"/>
                  <a:pt x="615" y="19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矩形 13"/>
          <p:cNvSpPr/>
          <p:nvPr/>
        </p:nvSpPr>
        <p:spPr>
          <a:xfrm>
            <a:off x="1434960" y="2589120"/>
            <a:ext cx="45435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5" name="矩形 14"/>
          <p:cNvSpPr/>
          <p:nvPr/>
        </p:nvSpPr>
        <p:spPr>
          <a:xfrm>
            <a:off x="1447920" y="231624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346" name="矩形 15"/>
          <p:cNvSpPr/>
          <p:nvPr/>
        </p:nvSpPr>
        <p:spPr>
          <a:xfrm>
            <a:off x="1434960" y="4557600"/>
            <a:ext cx="45435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7" name="矩形 16"/>
          <p:cNvSpPr/>
          <p:nvPr/>
        </p:nvSpPr>
        <p:spPr>
          <a:xfrm>
            <a:off x="1447920" y="428472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348" name="椭圆 17"/>
          <p:cNvSpPr/>
          <p:nvPr/>
        </p:nvSpPr>
        <p:spPr>
          <a:xfrm>
            <a:off x="1060560" y="2368440"/>
            <a:ext cx="398520" cy="398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椭圆 18"/>
          <p:cNvSpPr/>
          <p:nvPr/>
        </p:nvSpPr>
        <p:spPr>
          <a:xfrm>
            <a:off x="1060560" y="4361040"/>
            <a:ext cx="398520" cy="3999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51" name="椭圆 2"/>
          <p:cNvSpPr/>
          <p:nvPr/>
        </p:nvSpPr>
        <p:spPr>
          <a:xfrm>
            <a:off x="5126040" y="2414520"/>
            <a:ext cx="1884240" cy="1884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椭圆 4"/>
          <p:cNvSpPr/>
          <p:nvPr/>
        </p:nvSpPr>
        <p:spPr>
          <a:xfrm>
            <a:off x="5630760" y="403560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弧形 5"/>
          <p:cNvSpPr/>
          <p:nvPr/>
        </p:nvSpPr>
        <p:spPr>
          <a:xfrm>
            <a:off x="4911840" y="2198520"/>
            <a:ext cx="2313000" cy="2314800"/>
          </a:xfrm>
          <a:custGeom>
            <a:avLst/>
            <a:gdLst/>
            <a:ahLst/>
            <a:rect l="l" t="t" r="r" b="b"/>
            <a:pathLst>
              <a:path stroke="0" w="2312987" h="2314575">
                <a:moveTo>
                  <a:pt x="747256" y="2239696"/>
                </a:moveTo>
                <a:cubicBezTo>
                  <a:pt x="310306" y="2074355"/>
                  <a:pt x="0" y="1652084"/>
                  <a:pt x="0" y="1157287"/>
                </a:cubicBezTo>
                <a:cubicBezTo>
                  <a:pt x="0" y="518135"/>
                  <a:pt x="517780" y="0"/>
                  <a:pt x="1156493" y="0"/>
                </a:cubicBezTo>
                <a:cubicBezTo>
                  <a:pt x="1795206" y="0"/>
                  <a:pt x="2312986" y="518135"/>
                  <a:pt x="2312986" y="1157287"/>
                </a:cubicBezTo>
                <a:cubicBezTo>
                  <a:pt x="2312986" y="1659024"/>
                  <a:pt x="1993913" y="2086187"/>
                  <a:pt x="1547948" y="2246597"/>
                </a:cubicBezTo>
                <a:lnTo>
                  <a:pt x="1156493" y="1157287"/>
                </a:lnTo>
                <a:close/>
              </a:path>
              <a:path fill="none" w="2312987" h="2314575">
                <a:moveTo>
                  <a:pt x="747256" y="2239696"/>
                </a:moveTo>
                <a:cubicBezTo>
                  <a:pt x="310306" y="2074355"/>
                  <a:pt x="0" y="1652084"/>
                  <a:pt x="0" y="1157287"/>
                </a:cubicBezTo>
                <a:cubicBezTo>
                  <a:pt x="0" y="518135"/>
                  <a:pt x="517780" y="0"/>
                  <a:pt x="1156493" y="0"/>
                </a:cubicBezTo>
                <a:cubicBezTo>
                  <a:pt x="1795206" y="0"/>
                  <a:pt x="2312986" y="518135"/>
                  <a:pt x="2312986" y="1157287"/>
                </a:cubicBezTo>
                <a:cubicBezTo>
                  <a:pt x="2312986" y="1659024"/>
                  <a:pt x="1993913" y="2086187"/>
                  <a:pt x="1547948" y="2246597"/>
                </a:cubicBezTo>
              </a:path>
            </a:pathLst>
          </a:custGeom>
          <a:noFill/>
          <a:ln w="12600">
            <a:solidFill>
              <a:srgbClr val="ffc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椭圆 6"/>
          <p:cNvSpPr/>
          <p:nvPr/>
        </p:nvSpPr>
        <p:spPr>
          <a:xfrm>
            <a:off x="6526080" y="214308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椭圆 7"/>
          <p:cNvSpPr/>
          <p:nvPr/>
        </p:nvSpPr>
        <p:spPr>
          <a:xfrm>
            <a:off x="6632640" y="332892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KSO_Shape"/>
          <p:cNvSpPr/>
          <p:nvPr/>
        </p:nvSpPr>
        <p:spPr>
          <a:xfrm>
            <a:off x="5843520" y="4330800"/>
            <a:ext cx="487440" cy="32220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KSO_Shape"/>
          <p:cNvSpPr/>
          <p:nvPr/>
        </p:nvSpPr>
        <p:spPr>
          <a:xfrm>
            <a:off x="6756480" y="2430360"/>
            <a:ext cx="452520" cy="3412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KSO_Shape"/>
          <p:cNvSpPr/>
          <p:nvPr/>
        </p:nvSpPr>
        <p:spPr>
          <a:xfrm>
            <a:off x="6880320" y="3629160"/>
            <a:ext cx="419040" cy="31428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9" name="组合 11"/>
          <p:cNvGrpSpPr/>
          <p:nvPr/>
        </p:nvGrpSpPr>
        <p:grpSpPr>
          <a:xfrm>
            <a:off x="5629320" y="2771640"/>
            <a:ext cx="877680" cy="1168560"/>
            <a:chOff x="5629320" y="2771640"/>
            <a:chExt cx="877680" cy="1168560"/>
          </a:xfrm>
        </p:grpSpPr>
        <p:sp>
          <p:nvSpPr>
            <p:cNvPr id="360" name="Freeform 78"/>
            <p:cNvSpPr/>
            <p:nvPr/>
          </p:nvSpPr>
          <p:spPr>
            <a:xfrm>
              <a:off x="5629320" y="2771640"/>
              <a:ext cx="877680" cy="907200"/>
            </a:xfrm>
            <a:custGeom>
              <a:avLst/>
              <a:gdLst/>
              <a:ahLst/>
              <a:rect l="l" t="t" r="r" b="b"/>
              <a:pathLst>
                <a:path w="362" h="455">
                  <a:moveTo>
                    <a:pt x="180" y="0"/>
                  </a:moveTo>
                  <a:cubicBezTo>
                    <a:pt x="80" y="0"/>
                    <a:pt x="0" y="81"/>
                    <a:pt x="1" y="181"/>
                  </a:cubicBezTo>
                  <a:cubicBezTo>
                    <a:pt x="1" y="239"/>
                    <a:pt x="44" y="290"/>
                    <a:pt x="73" y="323"/>
                  </a:cubicBezTo>
                  <a:cubicBezTo>
                    <a:pt x="103" y="356"/>
                    <a:pt x="109" y="431"/>
                    <a:pt x="109" y="431"/>
                  </a:cubicBezTo>
                  <a:cubicBezTo>
                    <a:pt x="109" y="431"/>
                    <a:pt x="142" y="455"/>
                    <a:pt x="181" y="455"/>
                  </a:cubicBezTo>
                  <a:cubicBezTo>
                    <a:pt x="221" y="455"/>
                    <a:pt x="253" y="431"/>
                    <a:pt x="253" y="431"/>
                  </a:cubicBezTo>
                  <a:cubicBezTo>
                    <a:pt x="253" y="431"/>
                    <a:pt x="253" y="431"/>
                    <a:pt x="253" y="431"/>
                  </a:cubicBezTo>
                  <a:cubicBezTo>
                    <a:pt x="253" y="431"/>
                    <a:pt x="260" y="356"/>
                    <a:pt x="289" y="323"/>
                  </a:cubicBezTo>
                  <a:cubicBezTo>
                    <a:pt x="318" y="290"/>
                    <a:pt x="361" y="239"/>
                    <a:pt x="361" y="181"/>
                  </a:cubicBezTo>
                  <a:cubicBezTo>
                    <a:pt x="362" y="81"/>
                    <a:pt x="282" y="0"/>
                    <a:pt x="183" y="0"/>
                  </a:cubicBezTo>
                  <a:lnTo>
                    <a:pt x="180" y="0"/>
                  </a:lnTo>
                  <a:close/>
                </a:path>
              </a:pathLst>
            </a:custGeom>
            <a:noFill/>
            <a:ln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Freeform 79"/>
            <p:cNvSpPr/>
            <p:nvPr/>
          </p:nvSpPr>
          <p:spPr>
            <a:xfrm>
              <a:off x="5871960" y="3646440"/>
              <a:ext cx="194040" cy="126720"/>
            </a:xfrm>
            <a:custGeom>
              <a:avLst/>
              <a:gdLst/>
              <a:ahLst/>
              <a:rect l="l" t="t" r="r" b="b"/>
              <a:pathLst>
                <a:path w="81" h="64">
                  <a:moveTo>
                    <a:pt x="13" y="0"/>
                  </a:moveTo>
                  <a:cubicBezTo>
                    <a:pt x="8" y="14"/>
                    <a:pt x="0" y="16"/>
                    <a:pt x="5" y="28"/>
                  </a:cubicBezTo>
                  <a:cubicBezTo>
                    <a:pt x="11" y="40"/>
                    <a:pt x="42" y="64"/>
                    <a:pt x="81"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Freeform 80"/>
            <p:cNvSpPr/>
            <p:nvPr/>
          </p:nvSpPr>
          <p:spPr>
            <a:xfrm>
              <a:off x="6066000" y="3646440"/>
              <a:ext cx="198360" cy="126720"/>
            </a:xfrm>
            <a:custGeom>
              <a:avLst/>
              <a:gdLst/>
              <a:ahLst/>
              <a:rect l="l" t="t" r="r" b="b"/>
              <a:pathLst>
                <a:path w="82" h="64">
                  <a:moveTo>
                    <a:pt x="68" y="0"/>
                  </a:moveTo>
                  <a:cubicBezTo>
                    <a:pt x="74" y="14"/>
                    <a:pt x="82" y="16"/>
                    <a:pt x="76" y="28"/>
                  </a:cubicBezTo>
                  <a:cubicBezTo>
                    <a:pt x="71" y="40"/>
                    <a:pt x="40" y="64"/>
                    <a:pt x="0"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Freeform 81"/>
            <p:cNvSpPr/>
            <p:nvPr/>
          </p:nvSpPr>
          <p:spPr>
            <a:xfrm>
              <a:off x="5871960" y="3744360"/>
              <a:ext cx="194040" cy="126720"/>
            </a:xfrm>
            <a:custGeom>
              <a:avLst/>
              <a:gdLst/>
              <a:ahLst/>
              <a:rect l="l" t="t" r="r" b="b"/>
              <a:pathLst>
                <a:path w="81" h="64">
                  <a:moveTo>
                    <a:pt x="13" y="0"/>
                  </a:moveTo>
                  <a:cubicBezTo>
                    <a:pt x="8" y="14"/>
                    <a:pt x="0" y="16"/>
                    <a:pt x="5" y="28"/>
                  </a:cubicBezTo>
                  <a:cubicBezTo>
                    <a:pt x="11" y="40"/>
                    <a:pt x="42" y="64"/>
                    <a:pt x="81"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Freeform 82"/>
            <p:cNvSpPr/>
            <p:nvPr/>
          </p:nvSpPr>
          <p:spPr>
            <a:xfrm>
              <a:off x="6066000" y="3744360"/>
              <a:ext cx="198360" cy="126720"/>
            </a:xfrm>
            <a:custGeom>
              <a:avLst/>
              <a:gdLst/>
              <a:ahLst/>
              <a:rect l="l" t="t" r="r" b="b"/>
              <a:pathLst>
                <a:path w="82" h="64">
                  <a:moveTo>
                    <a:pt x="68" y="0"/>
                  </a:moveTo>
                  <a:cubicBezTo>
                    <a:pt x="74" y="14"/>
                    <a:pt x="82" y="16"/>
                    <a:pt x="76" y="28"/>
                  </a:cubicBezTo>
                  <a:cubicBezTo>
                    <a:pt x="71" y="40"/>
                    <a:pt x="40" y="64"/>
                    <a:pt x="0"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Freeform 83"/>
            <p:cNvSpPr/>
            <p:nvPr/>
          </p:nvSpPr>
          <p:spPr>
            <a:xfrm>
              <a:off x="5960160" y="3885840"/>
              <a:ext cx="216000" cy="54360"/>
            </a:xfrm>
            <a:custGeom>
              <a:avLst/>
              <a:gdLst/>
              <a:ahLst/>
              <a:rect l="l" t="t" r="r" b="b"/>
              <a:pathLst>
                <a:path w="88" h="27">
                  <a:moveTo>
                    <a:pt x="88" y="0"/>
                  </a:moveTo>
                  <a:cubicBezTo>
                    <a:pt x="88" y="0"/>
                    <a:pt x="69" y="27"/>
                    <a:pt x="44" y="27"/>
                  </a:cubicBezTo>
                  <a:cubicBezTo>
                    <a:pt x="20" y="27"/>
                    <a:pt x="0" y="0"/>
                    <a:pt x="0" y="0"/>
                  </a:cubicBezTo>
                </a:path>
              </a:pathLst>
            </a:custGeom>
            <a:solidFill>
              <a:srgbClr val="ffff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Freeform 84"/>
            <p:cNvSpPr/>
            <p:nvPr/>
          </p:nvSpPr>
          <p:spPr>
            <a:xfrm>
              <a:off x="5911560" y="3163680"/>
              <a:ext cx="313200" cy="500760"/>
            </a:xfrm>
            <a:custGeom>
              <a:avLst/>
              <a:gdLst/>
              <a:ahLst/>
              <a:rect l="l" t="t" r="r" b="b"/>
              <a:pathLst>
                <a:path w="71" h="138">
                  <a:moveTo>
                    <a:pt x="24" y="138"/>
                  </a:moveTo>
                  <a:lnTo>
                    <a:pt x="0" y="10"/>
                  </a:lnTo>
                  <a:lnTo>
                    <a:pt x="6" y="0"/>
                  </a:lnTo>
                  <a:lnTo>
                    <a:pt x="16" y="20"/>
                  </a:lnTo>
                  <a:lnTo>
                    <a:pt x="25" y="0"/>
                  </a:lnTo>
                  <a:lnTo>
                    <a:pt x="35" y="20"/>
                  </a:lnTo>
                  <a:lnTo>
                    <a:pt x="45" y="0"/>
                  </a:lnTo>
                  <a:lnTo>
                    <a:pt x="55" y="20"/>
                  </a:lnTo>
                  <a:lnTo>
                    <a:pt x="65" y="0"/>
                  </a:lnTo>
                  <a:lnTo>
                    <a:pt x="71" y="10"/>
                  </a:lnTo>
                  <a:lnTo>
                    <a:pt x="46" y="138"/>
                  </a:lnTo>
                </a:path>
              </a:pathLst>
            </a:custGeom>
            <a:noFill/>
            <a:ln cap="rnd" w="11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7" name="矩形 19"/>
          <p:cNvSpPr/>
          <p:nvPr/>
        </p:nvSpPr>
        <p:spPr>
          <a:xfrm>
            <a:off x="7715160" y="2198520"/>
            <a:ext cx="2879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68" name="矩形 20"/>
          <p:cNvSpPr/>
          <p:nvPr/>
        </p:nvSpPr>
        <p:spPr>
          <a:xfrm>
            <a:off x="7715160" y="1951200"/>
            <a:ext cx="181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69" name="矩形 21"/>
          <p:cNvSpPr/>
          <p:nvPr/>
        </p:nvSpPr>
        <p:spPr>
          <a:xfrm>
            <a:off x="7905600" y="3614760"/>
            <a:ext cx="2880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0" name="矩形 22"/>
          <p:cNvSpPr/>
          <p:nvPr/>
        </p:nvSpPr>
        <p:spPr>
          <a:xfrm>
            <a:off x="7905600" y="3365640"/>
            <a:ext cx="181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1" name="矩形 23"/>
          <p:cNvSpPr/>
          <p:nvPr/>
        </p:nvSpPr>
        <p:spPr>
          <a:xfrm>
            <a:off x="6680160" y="5030640"/>
            <a:ext cx="2879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2" name="矩形 24"/>
          <p:cNvSpPr/>
          <p:nvPr/>
        </p:nvSpPr>
        <p:spPr>
          <a:xfrm>
            <a:off x="6680160" y="478152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3" name="矩形 25"/>
          <p:cNvSpPr/>
          <p:nvPr/>
        </p:nvSpPr>
        <p:spPr>
          <a:xfrm>
            <a:off x="814320" y="3225960"/>
            <a:ext cx="34434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Vestibulum ante ipsum primis in faucibus orci luctus et ultrices posuere cubilia Curaeipsum primis in faucibus orci luctus et ultrices posuere cubilia Curae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p:txBody>
      </p:sp>
      <p:sp>
        <p:nvSpPr>
          <p:cNvPr id="374" name="矩形 26"/>
          <p:cNvSpPr/>
          <p:nvPr/>
        </p:nvSpPr>
        <p:spPr>
          <a:xfrm>
            <a:off x="849240" y="2158920"/>
            <a:ext cx="341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pic>
        <p:nvPicPr>
          <p:cNvPr id="376" name="组合 2" descr=""/>
          <p:cNvPicPr/>
          <p:nvPr/>
        </p:nvPicPr>
        <p:blipFill>
          <a:blip r:embed="rId1"/>
          <a:stretch/>
        </p:blipFill>
        <p:spPr>
          <a:xfrm>
            <a:off x="4713120" y="1724040"/>
            <a:ext cx="2765520" cy="4476600"/>
          </a:xfrm>
          <a:prstGeom prst="rect">
            <a:avLst/>
          </a:prstGeom>
          <a:ln w="0">
            <a:noFill/>
          </a:ln>
        </p:spPr>
      </p:pic>
      <p:sp>
        <p:nvSpPr>
          <p:cNvPr id="377" name="矩形 22"/>
          <p:cNvSpPr/>
          <p:nvPr/>
        </p:nvSpPr>
        <p:spPr>
          <a:xfrm>
            <a:off x="7605720" y="316548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8" name="矩形 23"/>
          <p:cNvSpPr/>
          <p:nvPr/>
        </p:nvSpPr>
        <p:spPr>
          <a:xfrm>
            <a:off x="7605720" y="29163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9" name="矩形 24"/>
          <p:cNvSpPr/>
          <p:nvPr/>
        </p:nvSpPr>
        <p:spPr>
          <a:xfrm>
            <a:off x="7605720" y="429588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80" name="矩形 25"/>
          <p:cNvSpPr/>
          <p:nvPr/>
        </p:nvSpPr>
        <p:spPr>
          <a:xfrm>
            <a:off x="7605720" y="404640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1" name="矩形 26"/>
          <p:cNvSpPr/>
          <p:nvPr/>
        </p:nvSpPr>
        <p:spPr>
          <a:xfrm>
            <a:off x="7605720" y="553716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82" name="矩形 27"/>
          <p:cNvSpPr/>
          <p:nvPr/>
        </p:nvSpPr>
        <p:spPr>
          <a:xfrm>
            <a:off x="7605720" y="52880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3" name="矩形 28"/>
          <p:cNvSpPr/>
          <p:nvPr/>
        </p:nvSpPr>
        <p:spPr>
          <a:xfrm>
            <a:off x="1293840" y="192420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4" name="矩形 29"/>
          <p:cNvSpPr/>
          <p:nvPr/>
        </p:nvSpPr>
        <p:spPr>
          <a:xfrm>
            <a:off x="2787480" y="167472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5" name="矩形 30"/>
          <p:cNvSpPr/>
          <p:nvPr/>
        </p:nvSpPr>
        <p:spPr>
          <a:xfrm>
            <a:off x="1293840" y="306216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6" name="矩形 31"/>
          <p:cNvSpPr/>
          <p:nvPr/>
        </p:nvSpPr>
        <p:spPr>
          <a:xfrm>
            <a:off x="2787480" y="281304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7" name="矩形 32"/>
          <p:cNvSpPr/>
          <p:nvPr/>
        </p:nvSpPr>
        <p:spPr>
          <a:xfrm>
            <a:off x="1293840" y="420228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8" name="矩形 33"/>
          <p:cNvSpPr/>
          <p:nvPr/>
        </p:nvSpPr>
        <p:spPr>
          <a:xfrm>
            <a:off x="2787480" y="395280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9" name="KSO_Shape"/>
          <p:cNvSpPr/>
          <p:nvPr/>
        </p:nvSpPr>
        <p:spPr>
          <a:xfrm>
            <a:off x="4929120" y="1995480"/>
            <a:ext cx="451080" cy="3412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KSO_Shape"/>
          <p:cNvSpPr/>
          <p:nvPr/>
        </p:nvSpPr>
        <p:spPr>
          <a:xfrm>
            <a:off x="4908600" y="3152880"/>
            <a:ext cx="488880" cy="32220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KSO_Shape"/>
          <p:cNvSpPr/>
          <p:nvPr/>
        </p:nvSpPr>
        <p:spPr>
          <a:xfrm>
            <a:off x="4903920" y="4270320"/>
            <a:ext cx="496800" cy="37152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2" name="组合 37" descr=""/>
          <p:cNvPicPr/>
          <p:nvPr/>
        </p:nvPicPr>
        <p:blipFill>
          <a:blip r:embed="rId2"/>
          <a:stretch/>
        </p:blipFill>
        <p:spPr>
          <a:xfrm>
            <a:off x="6807240" y="3240000"/>
            <a:ext cx="449280" cy="486000"/>
          </a:xfrm>
          <a:prstGeom prst="rect">
            <a:avLst/>
          </a:prstGeom>
          <a:ln w="0">
            <a:noFill/>
          </a:ln>
        </p:spPr>
      </p:pic>
      <p:sp>
        <p:nvSpPr>
          <p:cNvPr id="393" name="Freeform 5"/>
          <p:cNvSpPr/>
          <p:nvPr/>
        </p:nvSpPr>
        <p:spPr>
          <a:xfrm>
            <a:off x="6819840" y="4430880"/>
            <a:ext cx="447840" cy="363240"/>
          </a:xfrm>
          <a:custGeom>
            <a:avLst/>
            <a:gdLst/>
            <a:ahLst/>
            <a:rect l="l" t="t" r="r" b="b"/>
            <a:pathLst>
              <a:path w="322" h="261">
                <a:moveTo>
                  <a:pt x="315" y="0"/>
                </a:moveTo>
                <a:cubicBezTo>
                  <a:pt x="7" y="0"/>
                  <a:pt x="7" y="0"/>
                  <a:pt x="7" y="0"/>
                </a:cubicBezTo>
                <a:cubicBezTo>
                  <a:pt x="3" y="0"/>
                  <a:pt x="0" y="3"/>
                  <a:pt x="0" y="8"/>
                </a:cubicBezTo>
                <a:cubicBezTo>
                  <a:pt x="0" y="220"/>
                  <a:pt x="0" y="220"/>
                  <a:pt x="0" y="220"/>
                </a:cubicBezTo>
                <a:cubicBezTo>
                  <a:pt x="0" y="224"/>
                  <a:pt x="3" y="228"/>
                  <a:pt x="7" y="228"/>
                </a:cubicBezTo>
                <a:cubicBezTo>
                  <a:pt x="123" y="228"/>
                  <a:pt x="123" y="228"/>
                  <a:pt x="123" y="228"/>
                </a:cubicBezTo>
                <a:cubicBezTo>
                  <a:pt x="123" y="246"/>
                  <a:pt x="123" y="246"/>
                  <a:pt x="123" y="246"/>
                </a:cubicBezTo>
                <a:cubicBezTo>
                  <a:pt x="123" y="246"/>
                  <a:pt x="123" y="246"/>
                  <a:pt x="123" y="247"/>
                </a:cubicBezTo>
                <a:cubicBezTo>
                  <a:pt x="106" y="247"/>
                  <a:pt x="106" y="247"/>
                  <a:pt x="106" y="247"/>
                </a:cubicBezTo>
                <a:cubicBezTo>
                  <a:pt x="102" y="247"/>
                  <a:pt x="99" y="250"/>
                  <a:pt x="99" y="254"/>
                </a:cubicBezTo>
                <a:cubicBezTo>
                  <a:pt x="99" y="257"/>
                  <a:pt x="102" y="261"/>
                  <a:pt x="106" y="261"/>
                </a:cubicBezTo>
                <a:cubicBezTo>
                  <a:pt x="219" y="261"/>
                  <a:pt x="219" y="261"/>
                  <a:pt x="219" y="261"/>
                </a:cubicBezTo>
                <a:cubicBezTo>
                  <a:pt x="223" y="261"/>
                  <a:pt x="226" y="257"/>
                  <a:pt x="226" y="254"/>
                </a:cubicBezTo>
                <a:cubicBezTo>
                  <a:pt x="226" y="250"/>
                  <a:pt x="223" y="247"/>
                  <a:pt x="219" y="247"/>
                </a:cubicBezTo>
                <a:cubicBezTo>
                  <a:pt x="203" y="247"/>
                  <a:pt x="203" y="247"/>
                  <a:pt x="203" y="247"/>
                </a:cubicBezTo>
                <a:cubicBezTo>
                  <a:pt x="203" y="246"/>
                  <a:pt x="203" y="246"/>
                  <a:pt x="203" y="246"/>
                </a:cubicBezTo>
                <a:cubicBezTo>
                  <a:pt x="203" y="228"/>
                  <a:pt x="203" y="228"/>
                  <a:pt x="203" y="228"/>
                </a:cubicBezTo>
                <a:cubicBezTo>
                  <a:pt x="315" y="228"/>
                  <a:pt x="315" y="228"/>
                  <a:pt x="315" y="228"/>
                </a:cubicBezTo>
                <a:cubicBezTo>
                  <a:pt x="319" y="228"/>
                  <a:pt x="322" y="224"/>
                  <a:pt x="322" y="220"/>
                </a:cubicBezTo>
                <a:cubicBezTo>
                  <a:pt x="322" y="8"/>
                  <a:pt x="322" y="8"/>
                  <a:pt x="322" y="8"/>
                </a:cubicBezTo>
                <a:cubicBezTo>
                  <a:pt x="322" y="3"/>
                  <a:pt x="319" y="0"/>
                  <a:pt x="315" y="0"/>
                </a:cubicBezTo>
                <a:close/>
                <a:moveTo>
                  <a:pt x="301" y="187"/>
                </a:moveTo>
                <a:cubicBezTo>
                  <a:pt x="301" y="191"/>
                  <a:pt x="297" y="194"/>
                  <a:pt x="293" y="194"/>
                </a:cubicBezTo>
                <a:cubicBezTo>
                  <a:pt x="29" y="194"/>
                  <a:pt x="29" y="194"/>
                  <a:pt x="29" y="194"/>
                </a:cubicBezTo>
                <a:cubicBezTo>
                  <a:pt x="25" y="194"/>
                  <a:pt x="21" y="191"/>
                  <a:pt x="21" y="187"/>
                </a:cubicBezTo>
                <a:cubicBezTo>
                  <a:pt x="21" y="26"/>
                  <a:pt x="21" y="26"/>
                  <a:pt x="21" y="26"/>
                </a:cubicBezTo>
                <a:cubicBezTo>
                  <a:pt x="21" y="21"/>
                  <a:pt x="25" y="18"/>
                  <a:pt x="29" y="18"/>
                </a:cubicBezTo>
                <a:cubicBezTo>
                  <a:pt x="293" y="18"/>
                  <a:pt x="293" y="18"/>
                  <a:pt x="293" y="18"/>
                </a:cubicBezTo>
                <a:cubicBezTo>
                  <a:pt x="297" y="18"/>
                  <a:pt x="301" y="21"/>
                  <a:pt x="301" y="26"/>
                </a:cubicBezTo>
                <a:lnTo>
                  <a:pt x="301" y="1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Freeform 1992"/>
          <p:cNvSpPr/>
          <p:nvPr/>
        </p:nvSpPr>
        <p:spPr>
          <a:xfrm>
            <a:off x="6894360" y="5538960"/>
            <a:ext cx="276480" cy="441000"/>
          </a:xfrm>
          <a:custGeom>
            <a:avLst/>
            <a:gdLst/>
            <a:ahLst/>
            <a:rect l="l" t="t" r="r" b="b"/>
            <a:pathLst>
              <a:path w="258" h="414">
                <a:moveTo>
                  <a:pt x="206" y="414"/>
                </a:moveTo>
                <a:lnTo>
                  <a:pt x="258" y="414"/>
                </a:lnTo>
                <a:lnTo>
                  <a:pt x="258" y="8"/>
                </a:lnTo>
                <a:lnTo>
                  <a:pt x="230" y="8"/>
                </a:lnTo>
                <a:lnTo>
                  <a:pt x="230" y="0"/>
                </a:lnTo>
                <a:lnTo>
                  <a:pt x="206" y="0"/>
                </a:lnTo>
                <a:lnTo>
                  <a:pt x="206" y="34"/>
                </a:lnTo>
                <a:lnTo>
                  <a:pt x="230" y="34"/>
                </a:lnTo>
                <a:lnTo>
                  <a:pt x="230" y="268"/>
                </a:lnTo>
                <a:lnTo>
                  <a:pt x="206" y="268"/>
                </a:lnTo>
                <a:lnTo>
                  <a:pt x="206" y="296"/>
                </a:lnTo>
                <a:lnTo>
                  <a:pt x="230" y="296"/>
                </a:lnTo>
                <a:lnTo>
                  <a:pt x="230" y="329"/>
                </a:lnTo>
                <a:lnTo>
                  <a:pt x="206" y="329"/>
                </a:lnTo>
                <a:lnTo>
                  <a:pt x="206" y="353"/>
                </a:lnTo>
                <a:lnTo>
                  <a:pt x="230" y="353"/>
                </a:lnTo>
                <a:lnTo>
                  <a:pt x="230" y="386"/>
                </a:lnTo>
                <a:lnTo>
                  <a:pt x="206" y="386"/>
                </a:lnTo>
                <a:lnTo>
                  <a:pt x="206" y="414"/>
                </a:lnTo>
                <a:close/>
                <a:moveTo>
                  <a:pt x="180" y="0"/>
                </a:moveTo>
                <a:lnTo>
                  <a:pt x="180" y="8"/>
                </a:lnTo>
                <a:lnTo>
                  <a:pt x="130" y="8"/>
                </a:lnTo>
                <a:lnTo>
                  <a:pt x="130" y="34"/>
                </a:lnTo>
                <a:lnTo>
                  <a:pt x="206" y="34"/>
                </a:lnTo>
                <a:lnTo>
                  <a:pt x="206" y="0"/>
                </a:lnTo>
                <a:lnTo>
                  <a:pt x="180" y="0"/>
                </a:lnTo>
                <a:close/>
                <a:moveTo>
                  <a:pt x="130" y="414"/>
                </a:moveTo>
                <a:lnTo>
                  <a:pt x="206" y="414"/>
                </a:lnTo>
                <a:lnTo>
                  <a:pt x="206" y="386"/>
                </a:lnTo>
                <a:lnTo>
                  <a:pt x="180" y="386"/>
                </a:lnTo>
                <a:lnTo>
                  <a:pt x="180" y="353"/>
                </a:lnTo>
                <a:lnTo>
                  <a:pt x="206" y="353"/>
                </a:lnTo>
                <a:lnTo>
                  <a:pt x="206" y="329"/>
                </a:lnTo>
                <a:lnTo>
                  <a:pt x="180" y="329"/>
                </a:lnTo>
                <a:lnTo>
                  <a:pt x="180" y="296"/>
                </a:lnTo>
                <a:lnTo>
                  <a:pt x="206" y="296"/>
                </a:lnTo>
                <a:lnTo>
                  <a:pt x="206" y="268"/>
                </a:lnTo>
                <a:lnTo>
                  <a:pt x="130" y="268"/>
                </a:lnTo>
                <a:lnTo>
                  <a:pt x="130" y="296"/>
                </a:lnTo>
                <a:lnTo>
                  <a:pt x="154" y="296"/>
                </a:lnTo>
                <a:lnTo>
                  <a:pt x="154" y="329"/>
                </a:lnTo>
                <a:lnTo>
                  <a:pt x="130" y="329"/>
                </a:lnTo>
                <a:lnTo>
                  <a:pt x="130" y="353"/>
                </a:lnTo>
                <a:lnTo>
                  <a:pt x="154" y="353"/>
                </a:lnTo>
                <a:lnTo>
                  <a:pt x="154" y="386"/>
                </a:lnTo>
                <a:lnTo>
                  <a:pt x="130" y="386"/>
                </a:lnTo>
                <a:lnTo>
                  <a:pt x="130" y="414"/>
                </a:lnTo>
                <a:close/>
                <a:moveTo>
                  <a:pt x="130" y="8"/>
                </a:moveTo>
                <a:lnTo>
                  <a:pt x="52" y="8"/>
                </a:lnTo>
                <a:lnTo>
                  <a:pt x="52" y="34"/>
                </a:lnTo>
                <a:lnTo>
                  <a:pt x="130" y="34"/>
                </a:lnTo>
                <a:lnTo>
                  <a:pt x="130" y="8"/>
                </a:lnTo>
                <a:close/>
                <a:moveTo>
                  <a:pt x="52" y="414"/>
                </a:moveTo>
                <a:lnTo>
                  <a:pt x="130" y="414"/>
                </a:lnTo>
                <a:lnTo>
                  <a:pt x="130" y="386"/>
                </a:lnTo>
                <a:lnTo>
                  <a:pt x="104" y="386"/>
                </a:lnTo>
                <a:lnTo>
                  <a:pt x="104" y="353"/>
                </a:lnTo>
                <a:lnTo>
                  <a:pt x="130" y="353"/>
                </a:lnTo>
                <a:lnTo>
                  <a:pt x="130" y="329"/>
                </a:lnTo>
                <a:lnTo>
                  <a:pt x="104" y="329"/>
                </a:lnTo>
                <a:lnTo>
                  <a:pt x="104" y="296"/>
                </a:lnTo>
                <a:lnTo>
                  <a:pt x="130" y="296"/>
                </a:lnTo>
                <a:lnTo>
                  <a:pt x="130" y="268"/>
                </a:lnTo>
                <a:lnTo>
                  <a:pt x="52" y="268"/>
                </a:lnTo>
                <a:lnTo>
                  <a:pt x="52" y="296"/>
                </a:lnTo>
                <a:lnTo>
                  <a:pt x="78" y="296"/>
                </a:lnTo>
                <a:lnTo>
                  <a:pt x="78" y="329"/>
                </a:lnTo>
                <a:lnTo>
                  <a:pt x="52" y="329"/>
                </a:lnTo>
                <a:lnTo>
                  <a:pt x="52" y="353"/>
                </a:lnTo>
                <a:lnTo>
                  <a:pt x="78" y="353"/>
                </a:lnTo>
                <a:lnTo>
                  <a:pt x="78" y="386"/>
                </a:lnTo>
                <a:lnTo>
                  <a:pt x="52" y="386"/>
                </a:lnTo>
                <a:lnTo>
                  <a:pt x="52" y="414"/>
                </a:lnTo>
                <a:close/>
                <a:moveTo>
                  <a:pt x="52" y="8"/>
                </a:moveTo>
                <a:lnTo>
                  <a:pt x="0" y="8"/>
                </a:lnTo>
                <a:lnTo>
                  <a:pt x="0" y="414"/>
                </a:lnTo>
                <a:lnTo>
                  <a:pt x="52" y="414"/>
                </a:lnTo>
                <a:lnTo>
                  <a:pt x="52" y="386"/>
                </a:lnTo>
                <a:lnTo>
                  <a:pt x="29" y="386"/>
                </a:lnTo>
                <a:lnTo>
                  <a:pt x="29" y="353"/>
                </a:lnTo>
                <a:lnTo>
                  <a:pt x="52" y="353"/>
                </a:lnTo>
                <a:lnTo>
                  <a:pt x="52" y="329"/>
                </a:lnTo>
                <a:lnTo>
                  <a:pt x="29" y="329"/>
                </a:lnTo>
                <a:lnTo>
                  <a:pt x="29" y="296"/>
                </a:lnTo>
                <a:lnTo>
                  <a:pt x="52" y="296"/>
                </a:lnTo>
                <a:lnTo>
                  <a:pt x="52" y="268"/>
                </a:lnTo>
                <a:lnTo>
                  <a:pt x="29" y="268"/>
                </a:lnTo>
                <a:lnTo>
                  <a:pt x="29" y="34"/>
                </a:lnTo>
                <a:lnTo>
                  <a:pt x="52" y="34"/>
                </a:lnTo>
                <a:lnTo>
                  <a:pt x="52"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396"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pic>
        <p:nvPicPr>
          <p:cNvPr id="398" name="组合 2" descr=""/>
          <p:cNvPicPr/>
          <p:nvPr/>
        </p:nvPicPr>
        <p:blipFill>
          <a:blip r:embed="rId1"/>
          <a:stretch/>
        </p:blipFill>
        <p:spPr>
          <a:xfrm>
            <a:off x="393840" y="2141640"/>
            <a:ext cx="2809800" cy="3797280"/>
          </a:xfrm>
          <a:prstGeom prst="rect">
            <a:avLst/>
          </a:prstGeom>
          <a:ln w="0">
            <a:noFill/>
          </a:ln>
        </p:spPr>
      </p:pic>
      <p:cxnSp>
        <p:nvCxnSpPr>
          <p:cNvPr id="399" name="肘形连接符 77"/>
          <p:cNvCxnSpPr/>
          <p:nvPr/>
        </p:nvCxnSpPr>
        <p:spPr>
          <a:xfrm flipV="1">
            <a:off x="1819440" y="4507920"/>
            <a:ext cx="9534600" cy="1291320"/>
          </a:xfrm>
          <a:prstGeom prst="straightConnector1">
            <a:avLst/>
          </a:prstGeom>
          <a:ln w="12600">
            <a:solidFill>
              <a:srgbClr val="ffc000"/>
            </a:solidFill>
            <a:miter/>
          </a:ln>
        </p:spPr>
      </p:cxnSp>
      <p:sp>
        <p:nvSpPr>
          <p:cNvPr id="400" name="椭圆 78"/>
          <p:cNvSpPr/>
          <p:nvPr/>
        </p:nvSpPr>
        <p:spPr>
          <a:xfrm>
            <a:off x="4267080" y="5527800"/>
            <a:ext cx="559080" cy="558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椭圆 79"/>
          <p:cNvSpPr/>
          <p:nvPr/>
        </p:nvSpPr>
        <p:spPr>
          <a:xfrm>
            <a:off x="8591400" y="4202280"/>
            <a:ext cx="559080" cy="558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矩形 80"/>
          <p:cNvSpPr/>
          <p:nvPr/>
        </p:nvSpPr>
        <p:spPr>
          <a:xfrm>
            <a:off x="7588080" y="5124600"/>
            <a:ext cx="2538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403" name="矩形 81"/>
          <p:cNvSpPr/>
          <p:nvPr/>
        </p:nvSpPr>
        <p:spPr>
          <a:xfrm>
            <a:off x="7951680" y="4875120"/>
            <a:ext cx="1811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pic>
        <p:nvPicPr>
          <p:cNvPr id="404" name="Group 12" descr=""/>
          <p:cNvPicPr/>
          <p:nvPr/>
        </p:nvPicPr>
        <p:blipFill>
          <a:blip r:embed="rId2"/>
          <a:stretch/>
        </p:blipFill>
        <p:spPr>
          <a:xfrm>
            <a:off x="4375080" y="5654520"/>
            <a:ext cx="343080" cy="411480"/>
          </a:xfrm>
          <a:prstGeom prst="rect">
            <a:avLst/>
          </a:prstGeom>
          <a:ln w="0">
            <a:noFill/>
          </a:ln>
        </p:spPr>
      </p:pic>
      <p:pic>
        <p:nvPicPr>
          <p:cNvPr id="405" name="Group 25" descr=""/>
          <p:cNvPicPr/>
          <p:nvPr/>
        </p:nvPicPr>
        <p:blipFill>
          <a:blip r:embed="rId3"/>
          <a:stretch/>
        </p:blipFill>
        <p:spPr>
          <a:xfrm>
            <a:off x="8712360" y="4308480"/>
            <a:ext cx="331560" cy="581040"/>
          </a:xfrm>
          <a:prstGeom prst="rect">
            <a:avLst/>
          </a:prstGeom>
          <a:ln w="0">
            <a:noFill/>
          </a:ln>
        </p:spPr>
      </p:pic>
      <p:sp>
        <p:nvSpPr>
          <p:cNvPr id="406" name="矩形 98"/>
          <p:cNvSpPr/>
          <p:nvPr/>
        </p:nvSpPr>
        <p:spPr>
          <a:xfrm>
            <a:off x="3247920" y="4680000"/>
            <a:ext cx="2536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407" name="矩形 99"/>
          <p:cNvSpPr/>
          <p:nvPr/>
        </p:nvSpPr>
        <p:spPr>
          <a:xfrm>
            <a:off x="3611520" y="4430880"/>
            <a:ext cx="1809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408" name="矩形 100"/>
          <p:cNvSpPr/>
          <p:nvPr/>
        </p:nvSpPr>
        <p:spPr>
          <a:xfrm>
            <a:off x="3446640" y="2201760"/>
            <a:ext cx="783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ullamcorper sit amet ligula Nulla quis lorem ut libero malesuada feugiat ullamcorper sit amet ligula Nulla quis lorem ut libero malesuada feugi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410" name="直接连接符 2"/>
          <p:cNvSpPr/>
          <p:nvPr/>
        </p:nvSpPr>
        <p:spPr>
          <a:xfrm flipV="1">
            <a:off x="5888160" y="3363840"/>
            <a:ext cx="1601640" cy="93672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直接连接符 4"/>
          <p:cNvSpPr/>
          <p:nvPr/>
        </p:nvSpPr>
        <p:spPr>
          <a:xfrm>
            <a:off x="7640640" y="3429000"/>
            <a:ext cx="1816200" cy="73656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直接连接符 5"/>
          <p:cNvSpPr/>
          <p:nvPr/>
        </p:nvSpPr>
        <p:spPr>
          <a:xfrm flipV="1">
            <a:off x="9702720" y="3487320"/>
            <a:ext cx="1122480" cy="56844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椭圆 6"/>
          <p:cNvSpPr/>
          <p:nvPr/>
        </p:nvSpPr>
        <p:spPr>
          <a:xfrm>
            <a:off x="5373720" y="4097160"/>
            <a:ext cx="693720" cy="695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椭圆 7"/>
          <p:cNvSpPr/>
          <p:nvPr/>
        </p:nvSpPr>
        <p:spPr>
          <a:xfrm>
            <a:off x="7126200" y="2984400"/>
            <a:ext cx="69372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椭圆 8"/>
          <p:cNvSpPr/>
          <p:nvPr/>
        </p:nvSpPr>
        <p:spPr>
          <a:xfrm>
            <a:off x="9109080" y="3954600"/>
            <a:ext cx="69516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椭圆 9"/>
          <p:cNvSpPr/>
          <p:nvPr/>
        </p:nvSpPr>
        <p:spPr>
          <a:xfrm>
            <a:off x="10658520" y="2984400"/>
            <a:ext cx="69372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KSO_Shape"/>
          <p:cNvSpPr/>
          <p:nvPr/>
        </p:nvSpPr>
        <p:spPr>
          <a:xfrm>
            <a:off x="5540400" y="4324320"/>
            <a:ext cx="360360" cy="241200"/>
          </a:xfrm>
          <a:custGeom>
            <a:avLst/>
            <a:gdLst/>
            <a:ahLst/>
            <a:rect l="l" t="t" r="r" b="b"/>
            <a:pathLst>
              <a:path w="4974795" h="3320682">
                <a:moveTo>
                  <a:pt x="1897867" y="1805825"/>
                </a:moveTo>
                <a:lnTo>
                  <a:pt x="2485737" y="2315734"/>
                </a:lnTo>
                <a:lnTo>
                  <a:pt x="3073607" y="1805825"/>
                </a:lnTo>
                <a:lnTo>
                  <a:pt x="4820061" y="3320682"/>
                </a:lnTo>
                <a:lnTo>
                  <a:pt x="151413" y="3320682"/>
                </a:lnTo>
                <a:close/>
                <a:moveTo>
                  <a:pt x="0" y="159634"/>
                </a:moveTo>
                <a:lnTo>
                  <a:pt x="1788328" y="1710812"/>
                </a:lnTo>
                <a:lnTo>
                  <a:pt x="0" y="3261996"/>
                </a:lnTo>
                <a:close/>
                <a:moveTo>
                  <a:pt x="4974795" y="156753"/>
                </a:moveTo>
                <a:lnTo>
                  <a:pt x="4974795" y="3264872"/>
                </a:lnTo>
                <a:lnTo>
                  <a:pt x="3183146" y="1710812"/>
                </a:lnTo>
                <a:close/>
                <a:moveTo>
                  <a:pt x="35040" y="0"/>
                </a:moveTo>
                <a:lnTo>
                  <a:pt x="4936434" y="0"/>
                </a:lnTo>
                <a:lnTo>
                  <a:pt x="2485737" y="212570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KSO_Shape"/>
          <p:cNvSpPr/>
          <p:nvPr/>
        </p:nvSpPr>
        <p:spPr>
          <a:xfrm flipH="1">
            <a:off x="7292160" y="3187800"/>
            <a:ext cx="360360" cy="285480"/>
          </a:xfrm>
          <a:custGeom>
            <a:avLst/>
            <a:gdLst/>
            <a:ahLst/>
            <a:rect l="l" t="t" r="r" b="b"/>
            <a:pathLst>
              <a:path w="3438144" h="2732506">
                <a:moveTo>
                  <a:pt x="1719072" y="1227183"/>
                </a:moveTo>
                <a:cubicBezTo>
                  <a:pt x="1961590" y="1227183"/>
                  <a:pt x="2158189" y="1423782"/>
                  <a:pt x="2158189" y="1666300"/>
                </a:cubicBezTo>
                <a:cubicBezTo>
                  <a:pt x="2158189" y="1908818"/>
                  <a:pt x="1961590" y="2105417"/>
                  <a:pt x="1719072" y="2105417"/>
                </a:cubicBezTo>
                <a:cubicBezTo>
                  <a:pt x="1476554" y="2105417"/>
                  <a:pt x="1279955" y="1908818"/>
                  <a:pt x="1279955" y="1666300"/>
                </a:cubicBezTo>
                <a:cubicBezTo>
                  <a:pt x="1279955" y="1423782"/>
                  <a:pt x="1476554" y="1227183"/>
                  <a:pt x="1719072" y="1227183"/>
                </a:cubicBezTo>
                <a:close/>
                <a:moveTo>
                  <a:pt x="1719072" y="997872"/>
                </a:moveTo>
                <a:cubicBezTo>
                  <a:pt x="1349909" y="997872"/>
                  <a:pt x="1050644" y="1297137"/>
                  <a:pt x="1050644" y="1666300"/>
                </a:cubicBezTo>
                <a:cubicBezTo>
                  <a:pt x="1050644" y="2035463"/>
                  <a:pt x="1349909" y="2334728"/>
                  <a:pt x="1719072" y="2334728"/>
                </a:cubicBezTo>
                <a:cubicBezTo>
                  <a:pt x="2088235" y="2334728"/>
                  <a:pt x="2387500" y="2035463"/>
                  <a:pt x="2387500" y="1666300"/>
                </a:cubicBezTo>
                <a:cubicBezTo>
                  <a:pt x="2387500" y="1297137"/>
                  <a:pt x="2088235" y="997872"/>
                  <a:pt x="1719072" y="997872"/>
                </a:cubicBezTo>
                <a:close/>
                <a:moveTo>
                  <a:pt x="575044" y="803862"/>
                </a:moveTo>
                <a:cubicBezTo>
                  <a:pt x="495506" y="803862"/>
                  <a:pt x="431028" y="868340"/>
                  <a:pt x="431028" y="947878"/>
                </a:cubicBezTo>
                <a:cubicBezTo>
                  <a:pt x="431028" y="1027416"/>
                  <a:pt x="495506" y="1091894"/>
                  <a:pt x="575044" y="1091894"/>
                </a:cubicBezTo>
                <a:cubicBezTo>
                  <a:pt x="654582" y="1091894"/>
                  <a:pt x="719060" y="1027416"/>
                  <a:pt x="719060" y="947878"/>
                </a:cubicBezTo>
                <a:cubicBezTo>
                  <a:pt x="719060" y="868340"/>
                  <a:pt x="654582" y="803862"/>
                  <a:pt x="575044" y="803862"/>
                </a:cubicBezTo>
                <a:close/>
                <a:moveTo>
                  <a:pt x="1365940" y="0"/>
                </a:moveTo>
                <a:lnTo>
                  <a:pt x="1998164" y="0"/>
                </a:lnTo>
                <a:cubicBezTo>
                  <a:pt x="2213188" y="0"/>
                  <a:pt x="2387500" y="174312"/>
                  <a:pt x="2387500" y="389336"/>
                </a:cubicBezTo>
                <a:lnTo>
                  <a:pt x="2384456" y="419529"/>
                </a:lnTo>
                <a:lnTo>
                  <a:pt x="3040081" y="419529"/>
                </a:lnTo>
                <a:cubicBezTo>
                  <a:pt x="3259925" y="419529"/>
                  <a:pt x="3438144" y="597748"/>
                  <a:pt x="3438144" y="817592"/>
                </a:cubicBezTo>
                <a:lnTo>
                  <a:pt x="3438144" y="2334443"/>
                </a:lnTo>
                <a:cubicBezTo>
                  <a:pt x="3438144" y="2554287"/>
                  <a:pt x="3259925" y="2732506"/>
                  <a:pt x="3040081" y="2732506"/>
                </a:cubicBezTo>
                <a:lnTo>
                  <a:pt x="398063" y="2732506"/>
                </a:lnTo>
                <a:cubicBezTo>
                  <a:pt x="178219" y="2732506"/>
                  <a:pt x="0" y="2554287"/>
                  <a:pt x="0" y="2334443"/>
                </a:cubicBezTo>
                <a:lnTo>
                  <a:pt x="0" y="817592"/>
                </a:lnTo>
                <a:cubicBezTo>
                  <a:pt x="0" y="597748"/>
                  <a:pt x="178219" y="419529"/>
                  <a:pt x="398063" y="419529"/>
                </a:cubicBezTo>
                <a:lnTo>
                  <a:pt x="979648" y="419529"/>
                </a:lnTo>
                <a:cubicBezTo>
                  <a:pt x="976997" y="409663"/>
                  <a:pt x="976604" y="399545"/>
                  <a:pt x="976604" y="389336"/>
                </a:cubicBezTo>
                <a:cubicBezTo>
                  <a:pt x="976604" y="174312"/>
                  <a:pt x="1150916" y="0"/>
                  <a:pt x="136594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KSO_Shape"/>
          <p:cNvSpPr/>
          <p:nvPr/>
        </p:nvSpPr>
        <p:spPr>
          <a:xfrm>
            <a:off x="9277200" y="4152960"/>
            <a:ext cx="358920" cy="295200"/>
          </a:xfrm>
          <a:custGeom>
            <a:avLst/>
            <a:gdLst/>
            <a:ahLst/>
            <a:rect l="l" t="t" r="r" b="b"/>
            <a:pathLst>
              <a:path w="2100462" h="1726264">
                <a:moveTo>
                  <a:pt x="1169148" y="1434056"/>
                </a:moveTo>
                <a:cubicBezTo>
                  <a:pt x="1249839" y="1434056"/>
                  <a:pt x="1315252" y="1499469"/>
                  <a:pt x="1315252" y="1580160"/>
                </a:cubicBezTo>
                <a:cubicBezTo>
                  <a:pt x="1315252" y="1660851"/>
                  <a:pt x="1249839" y="1726264"/>
                  <a:pt x="1169148" y="1726264"/>
                </a:cubicBezTo>
                <a:cubicBezTo>
                  <a:pt x="1088457" y="1726264"/>
                  <a:pt x="1023044" y="1660851"/>
                  <a:pt x="1023044" y="1580160"/>
                </a:cubicBezTo>
                <a:cubicBezTo>
                  <a:pt x="1023044" y="1499469"/>
                  <a:pt x="1088457" y="1434056"/>
                  <a:pt x="1169148" y="1434056"/>
                </a:cubicBezTo>
                <a:close/>
                <a:moveTo>
                  <a:pt x="561082" y="1434056"/>
                </a:moveTo>
                <a:cubicBezTo>
                  <a:pt x="641773" y="1434056"/>
                  <a:pt x="707186" y="1499469"/>
                  <a:pt x="707186" y="1580160"/>
                </a:cubicBezTo>
                <a:cubicBezTo>
                  <a:pt x="707186" y="1660851"/>
                  <a:pt x="641773" y="1726264"/>
                  <a:pt x="561082" y="1726264"/>
                </a:cubicBezTo>
                <a:cubicBezTo>
                  <a:pt x="480391" y="1726264"/>
                  <a:pt x="414978" y="1660851"/>
                  <a:pt x="414978" y="1580160"/>
                </a:cubicBezTo>
                <a:cubicBezTo>
                  <a:pt x="414978" y="1499469"/>
                  <a:pt x="480391" y="1434056"/>
                  <a:pt x="561082" y="1434056"/>
                </a:cubicBezTo>
                <a:close/>
                <a:moveTo>
                  <a:pt x="1382881" y="785189"/>
                </a:moveTo>
                <a:cubicBezTo>
                  <a:pt x="1348673" y="785189"/>
                  <a:pt x="1320942" y="812920"/>
                  <a:pt x="1320942" y="847128"/>
                </a:cubicBezTo>
                <a:cubicBezTo>
                  <a:pt x="1320942" y="881336"/>
                  <a:pt x="1348673" y="909067"/>
                  <a:pt x="1382881" y="909067"/>
                </a:cubicBezTo>
                <a:cubicBezTo>
                  <a:pt x="1417089" y="909067"/>
                  <a:pt x="1444820" y="881336"/>
                  <a:pt x="1444820" y="847128"/>
                </a:cubicBezTo>
                <a:cubicBezTo>
                  <a:pt x="1444820" y="812920"/>
                  <a:pt x="1417089" y="785189"/>
                  <a:pt x="1382881" y="785189"/>
                </a:cubicBezTo>
                <a:close/>
                <a:moveTo>
                  <a:pt x="1210442" y="785189"/>
                </a:moveTo>
                <a:cubicBezTo>
                  <a:pt x="1176234" y="785189"/>
                  <a:pt x="1148503" y="812920"/>
                  <a:pt x="1148503" y="847128"/>
                </a:cubicBezTo>
                <a:cubicBezTo>
                  <a:pt x="1148503" y="881336"/>
                  <a:pt x="1176234" y="909067"/>
                  <a:pt x="1210442" y="909067"/>
                </a:cubicBezTo>
                <a:cubicBezTo>
                  <a:pt x="1244650" y="909067"/>
                  <a:pt x="1272381" y="881336"/>
                  <a:pt x="1272381" y="847128"/>
                </a:cubicBezTo>
                <a:cubicBezTo>
                  <a:pt x="1272381" y="812920"/>
                  <a:pt x="1244650" y="785189"/>
                  <a:pt x="1210442" y="785189"/>
                </a:cubicBezTo>
                <a:close/>
                <a:moveTo>
                  <a:pt x="1038003" y="785189"/>
                </a:moveTo>
                <a:cubicBezTo>
                  <a:pt x="1003795" y="785189"/>
                  <a:pt x="976064" y="812920"/>
                  <a:pt x="976064" y="847128"/>
                </a:cubicBezTo>
                <a:cubicBezTo>
                  <a:pt x="976064" y="881336"/>
                  <a:pt x="1003795" y="909067"/>
                  <a:pt x="1038003" y="909067"/>
                </a:cubicBezTo>
                <a:cubicBezTo>
                  <a:pt x="1072211" y="909067"/>
                  <a:pt x="1099942" y="881336"/>
                  <a:pt x="1099942" y="847128"/>
                </a:cubicBezTo>
                <a:cubicBezTo>
                  <a:pt x="1099942" y="812920"/>
                  <a:pt x="1072211" y="785189"/>
                  <a:pt x="1038003" y="785189"/>
                </a:cubicBezTo>
                <a:close/>
                <a:moveTo>
                  <a:pt x="865564" y="785189"/>
                </a:moveTo>
                <a:cubicBezTo>
                  <a:pt x="831356" y="785189"/>
                  <a:pt x="803625" y="812920"/>
                  <a:pt x="803625" y="847128"/>
                </a:cubicBezTo>
                <a:cubicBezTo>
                  <a:pt x="803625" y="881336"/>
                  <a:pt x="831356" y="909067"/>
                  <a:pt x="865564" y="909067"/>
                </a:cubicBezTo>
                <a:cubicBezTo>
                  <a:pt x="899772" y="909067"/>
                  <a:pt x="927503" y="881336"/>
                  <a:pt x="927503" y="847128"/>
                </a:cubicBezTo>
                <a:cubicBezTo>
                  <a:pt x="927503" y="812920"/>
                  <a:pt x="899772" y="785189"/>
                  <a:pt x="865564" y="785189"/>
                </a:cubicBezTo>
                <a:close/>
                <a:moveTo>
                  <a:pt x="693125" y="785189"/>
                </a:moveTo>
                <a:cubicBezTo>
                  <a:pt x="658917" y="785189"/>
                  <a:pt x="631186" y="812920"/>
                  <a:pt x="631186" y="847128"/>
                </a:cubicBezTo>
                <a:cubicBezTo>
                  <a:pt x="631186" y="881336"/>
                  <a:pt x="658917" y="909067"/>
                  <a:pt x="693125" y="909067"/>
                </a:cubicBezTo>
                <a:cubicBezTo>
                  <a:pt x="727333" y="909067"/>
                  <a:pt x="755064" y="881336"/>
                  <a:pt x="755064" y="847128"/>
                </a:cubicBezTo>
                <a:cubicBezTo>
                  <a:pt x="755064" y="812920"/>
                  <a:pt x="727333" y="785189"/>
                  <a:pt x="693125" y="785189"/>
                </a:cubicBezTo>
                <a:close/>
                <a:moveTo>
                  <a:pt x="520686" y="785189"/>
                </a:moveTo>
                <a:cubicBezTo>
                  <a:pt x="486478" y="785189"/>
                  <a:pt x="458747" y="812920"/>
                  <a:pt x="458747" y="847128"/>
                </a:cubicBezTo>
                <a:cubicBezTo>
                  <a:pt x="458747" y="881336"/>
                  <a:pt x="486478" y="909067"/>
                  <a:pt x="520686" y="909067"/>
                </a:cubicBezTo>
                <a:cubicBezTo>
                  <a:pt x="554894" y="909067"/>
                  <a:pt x="582625" y="881336"/>
                  <a:pt x="582625" y="847128"/>
                </a:cubicBezTo>
                <a:cubicBezTo>
                  <a:pt x="582625" y="812920"/>
                  <a:pt x="554894" y="785189"/>
                  <a:pt x="520686" y="785189"/>
                </a:cubicBezTo>
                <a:close/>
                <a:moveTo>
                  <a:pt x="348247" y="785189"/>
                </a:moveTo>
                <a:cubicBezTo>
                  <a:pt x="314039" y="785189"/>
                  <a:pt x="286308" y="812920"/>
                  <a:pt x="286308" y="847128"/>
                </a:cubicBezTo>
                <a:cubicBezTo>
                  <a:pt x="286308" y="881336"/>
                  <a:pt x="314039" y="909067"/>
                  <a:pt x="348247" y="909067"/>
                </a:cubicBezTo>
                <a:cubicBezTo>
                  <a:pt x="382455" y="909067"/>
                  <a:pt x="410186" y="881336"/>
                  <a:pt x="410186" y="847128"/>
                </a:cubicBezTo>
                <a:cubicBezTo>
                  <a:pt x="410186" y="812920"/>
                  <a:pt x="382455" y="785189"/>
                  <a:pt x="348247" y="785189"/>
                </a:cubicBezTo>
                <a:close/>
                <a:moveTo>
                  <a:pt x="1382881" y="525228"/>
                </a:moveTo>
                <a:cubicBezTo>
                  <a:pt x="1348673" y="525228"/>
                  <a:pt x="1320942" y="552959"/>
                  <a:pt x="1320942" y="587167"/>
                </a:cubicBezTo>
                <a:cubicBezTo>
                  <a:pt x="1320942" y="621375"/>
                  <a:pt x="1348673" y="649106"/>
                  <a:pt x="1382881" y="649106"/>
                </a:cubicBezTo>
                <a:cubicBezTo>
                  <a:pt x="1417089" y="649106"/>
                  <a:pt x="1444820" y="621375"/>
                  <a:pt x="1444820" y="587167"/>
                </a:cubicBezTo>
                <a:cubicBezTo>
                  <a:pt x="1444820" y="552959"/>
                  <a:pt x="1417089" y="525228"/>
                  <a:pt x="1382881" y="525228"/>
                </a:cubicBezTo>
                <a:close/>
                <a:moveTo>
                  <a:pt x="1210442" y="525228"/>
                </a:moveTo>
                <a:cubicBezTo>
                  <a:pt x="1176234" y="525228"/>
                  <a:pt x="1148503" y="552959"/>
                  <a:pt x="1148503" y="587167"/>
                </a:cubicBezTo>
                <a:cubicBezTo>
                  <a:pt x="1148503" y="621375"/>
                  <a:pt x="1176234" y="649106"/>
                  <a:pt x="1210442" y="649106"/>
                </a:cubicBezTo>
                <a:cubicBezTo>
                  <a:pt x="1244650" y="649106"/>
                  <a:pt x="1272381" y="621375"/>
                  <a:pt x="1272381" y="587167"/>
                </a:cubicBezTo>
                <a:cubicBezTo>
                  <a:pt x="1272381" y="552959"/>
                  <a:pt x="1244650" y="525228"/>
                  <a:pt x="1210442" y="525228"/>
                </a:cubicBezTo>
                <a:close/>
                <a:moveTo>
                  <a:pt x="1038003" y="525228"/>
                </a:moveTo>
                <a:cubicBezTo>
                  <a:pt x="1003795" y="525228"/>
                  <a:pt x="976064" y="552959"/>
                  <a:pt x="976064" y="587167"/>
                </a:cubicBezTo>
                <a:cubicBezTo>
                  <a:pt x="976064" y="621375"/>
                  <a:pt x="1003795" y="649106"/>
                  <a:pt x="1038003" y="649106"/>
                </a:cubicBezTo>
                <a:cubicBezTo>
                  <a:pt x="1072211" y="649106"/>
                  <a:pt x="1099942" y="621375"/>
                  <a:pt x="1099942" y="587167"/>
                </a:cubicBezTo>
                <a:cubicBezTo>
                  <a:pt x="1099942" y="552959"/>
                  <a:pt x="1072211" y="525228"/>
                  <a:pt x="1038003" y="525228"/>
                </a:cubicBezTo>
                <a:close/>
                <a:moveTo>
                  <a:pt x="865564" y="525228"/>
                </a:moveTo>
                <a:cubicBezTo>
                  <a:pt x="831356" y="525228"/>
                  <a:pt x="803625" y="552959"/>
                  <a:pt x="803625" y="587167"/>
                </a:cubicBezTo>
                <a:cubicBezTo>
                  <a:pt x="803625" y="621375"/>
                  <a:pt x="831356" y="649106"/>
                  <a:pt x="865564" y="649106"/>
                </a:cubicBezTo>
                <a:cubicBezTo>
                  <a:pt x="899772" y="649106"/>
                  <a:pt x="927503" y="621375"/>
                  <a:pt x="927503" y="587167"/>
                </a:cubicBezTo>
                <a:cubicBezTo>
                  <a:pt x="927503" y="552959"/>
                  <a:pt x="899772" y="525228"/>
                  <a:pt x="865564" y="525228"/>
                </a:cubicBezTo>
                <a:close/>
                <a:moveTo>
                  <a:pt x="693125" y="525228"/>
                </a:moveTo>
                <a:cubicBezTo>
                  <a:pt x="658917" y="525228"/>
                  <a:pt x="631186" y="552959"/>
                  <a:pt x="631186" y="587167"/>
                </a:cubicBezTo>
                <a:cubicBezTo>
                  <a:pt x="631186" y="621375"/>
                  <a:pt x="658917" y="649106"/>
                  <a:pt x="693125" y="649106"/>
                </a:cubicBezTo>
                <a:cubicBezTo>
                  <a:pt x="727333" y="649106"/>
                  <a:pt x="755064" y="621375"/>
                  <a:pt x="755064" y="587167"/>
                </a:cubicBezTo>
                <a:cubicBezTo>
                  <a:pt x="755064" y="552959"/>
                  <a:pt x="727333" y="525228"/>
                  <a:pt x="693125" y="525228"/>
                </a:cubicBezTo>
                <a:close/>
                <a:moveTo>
                  <a:pt x="520686" y="525228"/>
                </a:moveTo>
                <a:cubicBezTo>
                  <a:pt x="486478" y="525228"/>
                  <a:pt x="458747" y="552959"/>
                  <a:pt x="458747" y="587167"/>
                </a:cubicBezTo>
                <a:cubicBezTo>
                  <a:pt x="458747" y="621375"/>
                  <a:pt x="486478" y="649106"/>
                  <a:pt x="520686" y="649106"/>
                </a:cubicBezTo>
                <a:cubicBezTo>
                  <a:pt x="554894" y="649106"/>
                  <a:pt x="582625" y="621375"/>
                  <a:pt x="582625" y="587167"/>
                </a:cubicBezTo>
                <a:cubicBezTo>
                  <a:pt x="582625" y="552959"/>
                  <a:pt x="554894" y="525228"/>
                  <a:pt x="520686" y="525228"/>
                </a:cubicBezTo>
                <a:close/>
                <a:moveTo>
                  <a:pt x="348247" y="525228"/>
                </a:moveTo>
                <a:cubicBezTo>
                  <a:pt x="314039" y="525228"/>
                  <a:pt x="286308" y="552959"/>
                  <a:pt x="286308" y="587167"/>
                </a:cubicBezTo>
                <a:cubicBezTo>
                  <a:pt x="286308" y="621375"/>
                  <a:pt x="314039" y="649106"/>
                  <a:pt x="348247" y="649106"/>
                </a:cubicBezTo>
                <a:cubicBezTo>
                  <a:pt x="382455" y="649106"/>
                  <a:pt x="410186" y="621375"/>
                  <a:pt x="410186" y="587167"/>
                </a:cubicBezTo>
                <a:cubicBezTo>
                  <a:pt x="410186" y="552959"/>
                  <a:pt x="382455" y="525228"/>
                  <a:pt x="348247" y="525228"/>
                </a:cubicBezTo>
                <a:close/>
                <a:moveTo>
                  <a:pt x="1682783" y="0"/>
                </a:moveTo>
                <a:lnTo>
                  <a:pt x="1683253" y="0"/>
                </a:lnTo>
                <a:lnTo>
                  <a:pt x="1792389" y="0"/>
                </a:lnTo>
                <a:lnTo>
                  <a:pt x="2100462" y="0"/>
                </a:lnTo>
                <a:lnTo>
                  <a:pt x="2100462" y="93967"/>
                </a:lnTo>
                <a:lnTo>
                  <a:pt x="1768897" y="93967"/>
                </a:lnTo>
                <a:lnTo>
                  <a:pt x="1660768" y="526483"/>
                </a:lnTo>
                <a:lnTo>
                  <a:pt x="1506783" y="1221203"/>
                </a:lnTo>
                <a:lnTo>
                  <a:pt x="1399131" y="1221203"/>
                </a:lnTo>
                <a:lnTo>
                  <a:pt x="1352302" y="1408516"/>
                </a:lnTo>
                <a:lnTo>
                  <a:pt x="1250787" y="1408516"/>
                </a:lnTo>
                <a:lnTo>
                  <a:pt x="1243167" y="1408516"/>
                </a:lnTo>
                <a:lnTo>
                  <a:pt x="299178" y="1408516"/>
                </a:lnTo>
                <a:lnTo>
                  <a:pt x="276953" y="1319616"/>
                </a:lnTo>
                <a:lnTo>
                  <a:pt x="1265392" y="1319616"/>
                </a:lnTo>
                <a:lnTo>
                  <a:pt x="1289995" y="1221203"/>
                </a:lnTo>
                <a:lnTo>
                  <a:pt x="223448" y="1221203"/>
                </a:lnTo>
                <a:lnTo>
                  <a:pt x="0" y="213091"/>
                </a:lnTo>
                <a:lnTo>
                  <a:pt x="1629980" y="213091"/>
                </a:lnTo>
                <a:lnTo>
                  <a:pt x="1682783" y="187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KSO_Shape"/>
          <p:cNvSpPr/>
          <p:nvPr/>
        </p:nvSpPr>
        <p:spPr>
          <a:xfrm>
            <a:off x="10825200" y="3197160"/>
            <a:ext cx="360360" cy="26676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14"/>
          <p:cNvSpPr/>
          <p:nvPr/>
        </p:nvSpPr>
        <p:spPr>
          <a:xfrm>
            <a:off x="6129000" y="454176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2" name="矩形 15"/>
          <p:cNvSpPr/>
          <p:nvPr/>
        </p:nvSpPr>
        <p:spPr>
          <a:xfrm>
            <a:off x="9896040" y="451008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3" name="矩形 16"/>
          <p:cNvSpPr/>
          <p:nvPr/>
        </p:nvSpPr>
        <p:spPr>
          <a:xfrm>
            <a:off x="9550080" y="292896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4" name="矩形 17"/>
          <p:cNvSpPr/>
          <p:nvPr/>
        </p:nvSpPr>
        <p:spPr>
          <a:xfrm>
            <a:off x="5989320" y="298764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5" name="矩形 18"/>
          <p:cNvSpPr/>
          <p:nvPr/>
        </p:nvSpPr>
        <p:spPr>
          <a:xfrm>
            <a:off x="814320" y="3225960"/>
            <a:ext cx="34434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Vestibulum ante ipsum primis in faucibus orci luctus et ultrices posuere cubilia Curaeipsum primis in faucibus orci luctus et ultrices posuere cubilia Curae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p:txBody>
      </p:sp>
      <p:sp>
        <p:nvSpPr>
          <p:cNvPr id="426" name="矩形 19"/>
          <p:cNvSpPr/>
          <p:nvPr/>
        </p:nvSpPr>
        <p:spPr>
          <a:xfrm>
            <a:off x="849240" y="2158920"/>
            <a:ext cx="341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grpSp>
        <p:nvGrpSpPr>
          <p:cNvPr id="428" name="组合 2"/>
          <p:cNvGrpSpPr/>
          <p:nvPr/>
        </p:nvGrpSpPr>
        <p:grpSpPr>
          <a:xfrm>
            <a:off x="1068480" y="4484520"/>
            <a:ext cx="1076040" cy="416160"/>
            <a:chOff x="1068480" y="4484520"/>
            <a:chExt cx="1076040" cy="416160"/>
          </a:xfrm>
        </p:grpSpPr>
        <p:sp>
          <p:nvSpPr>
            <p:cNvPr id="429" name="矩形 4"/>
            <p:cNvSpPr/>
            <p:nvPr/>
          </p:nvSpPr>
          <p:spPr>
            <a:xfrm>
              <a:off x="1068480" y="4484520"/>
              <a:ext cx="914760" cy="416160"/>
            </a:xfrm>
            <a:prstGeom prst="rect">
              <a:avLst/>
            </a:prstGeom>
            <a:solidFill>
              <a:srgbClr val="5c718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同侧圆角矩形 5"/>
            <p:cNvSpPr/>
            <p:nvPr/>
          </p:nvSpPr>
          <p:spPr>
            <a:xfrm rot="5400000">
              <a:off x="1963440" y="4632120"/>
              <a:ext cx="241560" cy="120600"/>
            </a:xfrm>
            <a:custGeom>
              <a:avLst/>
              <a:gdLst/>
              <a:ahLst/>
              <a:rect l="l" t="t" r="r" b="b"/>
              <a:pathLst>
                <a:path w="241842" h="120665">
                  <a:moveTo>
                    <a:pt x="60332" y="0"/>
                  </a:moveTo>
                  <a:lnTo>
                    <a:pt x="181509" y="0"/>
                  </a:lnTo>
                  <a:cubicBezTo>
                    <a:pt x="214829" y="0"/>
                    <a:pt x="241841" y="27012"/>
                    <a:pt x="241841" y="60332"/>
                  </a:cubicBezTo>
                  <a:lnTo>
                    <a:pt x="241842" y="120665"/>
                  </a:lnTo>
                  <a:lnTo>
                    <a:pt x="241842" y="120665"/>
                  </a:lnTo>
                  <a:lnTo>
                    <a:pt x="0" y="120665"/>
                  </a:lnTo>
                  <a:lnTo>
                    <a:pt x="0" y="120665"/>
                  </a:lnTo>
                  <a:lnTo>
                    <a:pt x="0" y="60332"/>
                  </a:lnTo>
                  <a:cubicBezTo>
                    <a:pt x="0" y="27012"/>
                    <a:pt x="27012" y="0"/>
                    <a:pt x="60332" y="0"/>
                  </a:cubicBez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1" name="KSO_Shape"/>
          <p:cNvSpPr/>
          <p:nvPr/>
        </p:nvSpPr>
        <p:spPr>
          <a:xfrm rot="4500000">
            <a:off x="1310040" y="4367880"/>
            <a:ext cx="433440" cy="647640"/>
          </a:xfrm>
          <a:custGeom>
            <a:avLst/>
            <a:gdLst/>
            <a:ahLst/>
            <a:rect l="l" t="t" r="r" b="b"/>
            <a:pathLst>
              <a:path w="1491342" h="2231572">
                <a:moveTo>
                  <a:pt x="1491342" y="0"/>
                </a:moveTo>
                <a:lnTo>
                  <a:pt x="32657" y="1143000"/>
                </a:lnTo>
                <a:lnTo>
                  <a:pt x="685800" y="1284515"/>
                </a:lnTo>
                <a:lnTo>
                  <a:pt x="0" y="2231572"/>
                </a:lnTo>
                <a:lnTo>
                  <a:pt x="1404257" y="1143000"/>
                </a:lnTo>
                <a:lnTo>
                  <a:pt x="794657" y="990600"/>
                </a:lnTo>
                <a:lnTo>
                  <a:pt x="1491342" y="0"/>
                </a:lnTo>
                <a:close/>
              </a:path>
            </a:pathLst>
          </a:custGeom>
          <a:solidFill>
            <a:srgbClr val="ec120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2" name="组合 7" descr=""/>
          <p:cNvPicPr/>
          <p:nvPr/>
        </p:nvPicPr>
        <p:blipFill>
          <a:blip r:embed="rId1"/>
          <a:stretch/>
        </p:blipFill>
        <p:spPr>
          <a:xfrm>
            <a:off x="1062000" y="5127480"/>
            <a:ext cx="1162080" cy="444600"/>
          </a:xfrm>
          <a:prstGeom prst="rect">
            <a:avLst/>
          </a:prstGeom>
          <a:ln w="0">
            <a:noFill/>
          </a:ln>
        </p:spPr>
      </p:pic>
      <p:grpSp>
        <p:nvGrpSpPr>
          <p:cNvPr id="433" name="组合 10"/>
          <p:cNvGrpSpPr/>
          <p:nvPr/>
        </p:nvGrpSpPr>
        <p:grpSpPr>
          <a:xfrm>
            <a:off x="1092240" y="5783400"/>
            <a:ext cx="1076040" cy="417240"/>
            <a:chOff x="1092240" y="5783400"/>
            <a:chExt cx="1076040" cy="417240"/>
          </a:xfrm>
        </p:grpSpPr>
        <p:sp>
          <p:nvSpPr>
            <p:cNvPr id="434" name="矩形 11"/>
            <p:cNvSpPr/>
            <p:nvPr/>
          </p:nvSpPr>
          <p:spPr>
            <a:xfrm>
              <a:off x="1092240" y="5783400"/>
              <a:ext cx="914760" cy="417240"/>
            </a:xfrm>
            <a:prstGeom prst="rect">
              <a:avLst/>
            </a:prstGeom>
            <a:solidFill>
              <a:srgbClr val="5c718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同侧圆角矩形 12"/>
            <p:cNvSpPr/>
            <p:nvPr/>
          </p:nvSpPr>
          <p:spPr>
            <a:xfrm rot="5400000">
              <a:off x="1986480" y="5931360"/>
              <a:ext cx="242640" cy="120600"/>
            </a:xfrm>
            <a:custGeom>
              <a:avLst/>
              <a:gdLst/>
              <a:ahLst/>
              <a:rect l="l" t="t" r="r" b="b"/>
              <a:pathLst>
                <a:path w="242508" h="120665">
                  <a:moveTo>
                    <a:pt x="60332" y="0"/>
                  </a:moveTo>
                  <a:lnTo>
                    <a:pt x="182175" y="0"/>
                  </a:lnTo>
                  <a:cubicBezTo>
                    <a:pt x="215495" y="0"/>
                    <a:pt x="242507" y="27012"/>
                    <a:pt x="242507" y="60332"/>
                  </a:cubicBezTo>
                  <a:lnTo>
                    <a:pt x="242508" y="120665"/>
                  </a:lnTo>
                  <a:lnTo>
                    <a:pt x="242508" y="120665"/>
                  </a:lnTo>
                  <a:lnTo>
                    <a:pt x="0" y="120665"/>
                  </a:lnTo>
                  <a:lnTo>
                    <a:pt x="0" y="120665"/>
                  </a:lnTo>
                  <a:lnTo>
                    <a:pt x="0" y="60332"/>
                  </a:lnTo>
                  <a:cubicBezTo>
                    <a:pt x="0" y="27012"/>
                    <a:pt x="27012" y="0"/>
                    <a:pt x="60332" y="0"/>
                  </a:cubicBez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6" name="矩形 13"/>
          <p:cNvSpPr/>
          <p:nvPr/>
        </p:nvSpPr>
        <p:spPr>
          <a:xfrm>
            <a:off x="1157400" y="5191200"/>
            <a:ext cx="120600" cy="3175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矩形 14"/>
          <p:cNvSpPr/>
          <p:nvPr/>
        </p:nvSpPr>
        <p:spPr>
          <a:xfrm>
            <a:off x="1166760" y="5834160"/>
            <a:ext cx="119160" cy="3157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矩形 15"/>
          <p:cNvSpPr/>
          <p:nvPr/>
        </p:nvSpPr>
        <p:spPr>
          <a:xfrm>
            <a:off x="1330200" y="5832360"/>
            <a:ext cx="120600" cy="316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矩形 16"/>
          <p:cNvSpPr/>
          <p:nvPr/>
        </p:nvSpPr>
        <p:spPr>
          <a:xfrm>
            <a:off x="2510280" y="45086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0" name="矩形 17"/>
          <p:cNvSpPr/>
          <p:nvPr/>
        </p:nvSpPr>
        <p:spPr>
          <a:xfrm>
            <a:off x="2510280" y="51656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1" name="矩形 18"/>
          <p:cNvSpPr/>
          <p:nvPr/>
        </p:nvSpPr>
        <p:spPr>
          <a:xfrm>
            <a:off x="2510280" y="580248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2" name="矩形 19"/>
          <p:cNvSpPr/>
          <p:nvPr/>
        </p:nvSpPr>
        <p:spPr>
          <a:xfrm>
            <a:off x="973080" y="2955960"/>
            <a:ext cx="3267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a:t>
            </a:r>
            <a:endParaRPr b="0" lang="en-US" sz="1400" spc="-1" strike="noStrike">
              <a:solidFill>
                <a:srgbClr val="000000"/>
              </a:solidFill>
              <a:latin typeface="Calibri"/>
            </a:endParaRPr>
          </a:p>
        </p:txBody>
      </p:sp>
      <p:sp>
        <p:nvSpPr>
          <p:cNvPr id="443" name="矩形 20"/>
          <p:cNvSpPr/>
          <p:nvPr/>
        </p:nvSpPr>
        <p:spPr>
          <a:xfrm>
            <a:off x="963720" y="2050920"/>
            <a:ext cx="385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VESTIBULUM ANTE </a:t>
            </a:r>
            <a:r>
              <a:rPr b="0" lang="zh-CN" sz="2400" spc="-1" strike="noStrike">
                <a:solidFill>
                  <a:srgbClr val="ffffff"/>
                </a:solidFill>
                <a:latin typeface="Calibri"/>
              </a:rPr>
              <a:t>PRIMIS IN FAUCIBUS ORCI</a:t>
            </a:r>
            <a:endParaRPr b="0" lang="en-US" sz="2400" spc="-1" strike="noStrike">
              <a:solidFill>
                <a:srgbClr val="000000"/>
              </a:solidFill>
              <a:latin typeface="Calibri"/>
            </a:endParaRPr>
          </a:p>
        </p:txBody>
      </p:sp>
      <p:grpSp>
        <p:nvGrpSpPr>
          <p:cNvPr id="444" name="组合 21"/>
          <p:cNvGrpSpPr/>
          <p:nvPr/>
        </p:nvGrpSpPr>
        <p:grpSpPr>
          <a:xfrm>
            <a:off x="6443640" y="2417760"/>
            <a:ext cx="3886200" cy="520200"/>
            <a:chOff x="6443640" y="2417760"/>
            <a:chExt cx="3886200" cy="520200"/>
          </a:xfrm>
        </p:grpSpPr>
        <p:sp>
          <p:nvSpPr>
            <p:cNvPr id="445" name="Freeform 55"/>
            <p:cNvSpPr/>
            <p:nvPr/>
          </p:nvSpPr>
          <p:spPr>
            <a:xfrm>
              <a:off x="9980280" y="250308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矩形 23"/>
            <p:cNvSpPr/>
            <p:nvPr/>
          </p:nvSpPr>
          <p:spPr>
            <a:xfrm>
              <a:off x="6443640" y="241776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447" name="组合 24"/>
          <p:cNvGrpSpPr/>
          <p:nvPr/>
        </p:nvGrpSpPr>
        <p:grpSpPr>
          <a:xfrm>
            <a:off x="6443640" y="3025800"/>
            <a:ext cx="3886200" cy="520200"/>
            <a:chOff x="6443640" y="3025800"/>
            <a:chExt cx="3886200" cy="520200"/>
          </a:xfrm>
        </p:grpSpPr>
        <p:sp>
          <p:nvSpPr>
            <p:cNvPr id="448" name="Freeform 55"/>
            <p:cNvSpPr/>
            <p:nvPr/>
          </p:nvSpPr>
          <p:spPr>
            <a:xfrm>
              <a:off x="9980280" y="311112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26"/>
            <p:cNvSpPr/>
            <p:nvPr/>
          </p:nvSpPr>
          <p:spPr>
            <a:xfrm>
              <a:off x="6443640" y="302580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450" name="组合 27"/>
          <p:cNvGrpSpPr/>
          <p:nvPr/>
        </p:nvGrpSpPr>
        <p:grpSpPr>
          <a:xfrm>
            <a:off x="6443640" y="3633840"/>
            <a:ext cx="3886200" cy="520200"/>
            <a:chOff x="6443640" y="3633840"/>
            <a:chExt cx="3886200" cy="520200"/>
          </a:xfrm>
        </p:grpSpPr>
        <p:sp>
          <p:nvSpPr>
            <p:cNvPr id="451" name="Freeform 55"/>
            <p:cNvSpPr/>
            <p:nvPr/>
          </p:nvSpPr>
          <p:spPr>
            <a:xfrm>
              <a:off x="9980280" y="371916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矩形 29"/>
            <p:cNvSpPr/>
            <p:nvPr/>
          </p:nvSpPr>
          <p:spPr>
            <a:xfrm>
              <a:off x="6443640" y="363384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sp>
        <p:nvSpPr>
          <p:cNvPr id="453" name="矩形 30"/>
          <p:cNvSpPr/>
          <p:nvPr/>
        </p:nvSpPr>
        <p:spPr>
          <a:xfrm>
            <a:off x="6443640" y="4537080"/>
            <a:ext cx="38862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455" name="矩形 2"/>
          <p:cNvSpPr/>
          <p:nvPr/>
        </p:nvSpPr>
        <p:spPr>
          <a:xfrm>
            <a:off x="797040" y="1711440"/>
            <a:ext cx="10596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a:t>
            </a:r>
            <a:endParaRPr b="0" lang="en-US" sz="1400" spc="-1" strike="noStrike">
              <a:solidFill>
                <a:srgbClr val="000000"/>
              </a:solidFill>
              <a:latin typeface="Calibri"/>
            </a:endParaRPr>
          </a:p>
        </p:txBody>
      </p:sp>
      <p:sp>
        <p:nvSpPr>
          <p:cNvPr id="456" name="矩形 4"/>
          <p:cNvSpPr/>
          <p:nvPr/>
        </p:nvSpPr>
        <p:spPr>
          <a:xfrm>
            <a:off x="903240" y="2646360"/>
            <a:ext cx="336384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矩形 5"/>
          <p:cNvSpPr/>
          <p:nvPr/>
        </p:nvSpPr>
        <p:spPr>
          <a:xfrm>
            <a:off x="4414680" y="2646360"/>
            <a:ext cx="336240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矩形 6"/>
          <p:cNvSpPr/>
          <p:nvPr/>
        </p:nvSpPr>
        <p:spPr>
          <a:xfrm>
            <a:off x="7924680" y="2646360"/>
            <a:ext cx="336420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矩形 7"/>
          <p:cNvSpPr/>
          <p:nvPr/>
        </p:nvSpPr>
        <p:spPr>
          <a:xfrm>
            <a:off x="903240" y="4240080"/>
            <a:ext cx="336384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矩形 8"/>
          <p:cNvSpPr/>
          <p:nvPr/>
        </p:nvSpPr>
        <p:spPr>
          <a:xfrm>
            <a:off x="4414680" y="4240080"/>
            <a:ext cx="336240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矩形 9"/>
          <p:cNvSpPr/>
          <p:nvPr/>
        </p:nvSpPr>
        <p:spPr>
          <a:xfrm>
            <a:off x="7924680" y="4240080"/>
            <a:ext cx="336420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矩形 10"/>
          <p:cNvSpPr/>
          <p:nvPr/>
        </p:nvSpPr>
        <p:spPr>
          <a:xfrm>
            <a:off x="1036800" y="3257640"/>
            <a:ext cx="3230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3" name="矩形 11"/>
          <p:cNvSpPr/>
          <p:nvPr/>
        </p:nvSpPr>
        <p:spPr>
          <a:xfrm>
            <a:off x="1501920" y="294948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pic>
        <p:nvPicPr>
          <p:cNvPr id="464" name="组合 12" descr=""/>
          <p:cNvPicPr/>
          <p:nvPr/>
        </p:nvPicPr>
        <p:blipFill>
          <a:blip r:embed="rId1"/>
          <a:stretch/>
        </p:blipFill>
        <p:spPr>
          <a:xfrm>
            <a:off x="1108080" y="2905200"/>
            <a:ext cx="393840" cy="412560"/>
          </a:xfrm>
          <a:prstGeom prst="rect">
            <a:avLst/>
          </a:prstGeom>
          <a:ln w="0">
            <a:noFill/>
          </a:ln>
        </p:spPr>
      </p:pic>
      <p:sp>
        <p:nvSpPr>
          <p:cNvPr id="465" name="矩形 15"/>
          <p:cNvSpPr/>
          <p:nvPr/>
        </p:nvSpPr>
        <p:spPr>
          <a:xfrm>
            <a:off x="4546440" y="325764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6" name="矩形 16"/>
          <p:cNvSpPr/>
          <p:nvPr/>
        </p:nvSpPr>
        <p:spPr>
          <a:xfrm>
            <a:off x="5013360" y="2949480"/>
            <a:ext cx="185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67" name="矩形 17"/>
          <p:cNvSpPr/>
          <p:nvPr/>
        </p:nvSpPr>
        <p:spPr>
          <a:xfrm>
            <a:off x="8058240" y="325764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8" name="矩形 18"/>
          <p:cNvSpPr/>
          <p:nvPr/>
        </p:nvSpPr>
        <p:spPr>
          <a:xfrm>
            <a:off x="8523360" y="294948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69" name="矩形 19"/>
          <p:cNvSpPr/>
          <p:nvPr/>
        </p:nvSpPr>
        <p:spPr>
          <a:xfrm>
            <a:off x="1036800" y="4786200"/>
            <a:ext cx="3230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0" name="矩形 20"/>
          <p:cNvSpPr/>
          <p:nvPr/>
        </p:nvSpPr>
        <p:spPr>
          <a:xfrm>
            <a:off x="1501920" y="447840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1" name="矩形 21"/>
          <p:cNvSpPr/>
          <p:nvPr/>
        </p:nvSpPr>
        <p:spPr>
          <a:xfrm>
            <a:off x="4546440" y="478620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2" name="矩形 22"/>
          <p:cNvSpPr/>
          <p:nvPr/>
        </p:nvSpPr>
        <p:spPr>
          <a:xfrm>
            <a:off x="5013360" y="4478400"/>
            <a:ext cx="185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3" name="矩形 23"/>
          <p:cNvSpPr/>
          <p:nvPr/>
        </p:nvSpPr>
        <p:spPr>
          <a:xfrm>
            <a:off x="8058240" y="478620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4" name="矩形 24"/>
          <p:cNvSpPr/>
          <p:nvPr/>
        </p:nvSpPr>
        <p:spPr>
          <a:xfrm>
            <a:off x="8523360" y="447840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5" name="Freeform 27"/>
          <p:cNvSpPr/>
          <p:nvPr/>
        </p:nvSpPr>
        <p:spPr>
          <a:xfrm>
            <a:off x="4624560" y="2940120"/>
            <a:ext cx="326880" cy="317520"/>
          </a:xfrm>
          <a:custGeom>
            <a:avLst/>
            <a:gdLst/>
            <a:ahLst/>
            <a:rect l="l" t="t" r="r" b="b"/>
            <a:pathLst>
              <a:path w="298" h="320">
                <a:moveTo>
                  <a:pt x="290" y="176"/>
                </a:moveTo>
                <a:cubicBezTo>
                  <a:pt x="290" y="110"/>
                  <a:pt x="290" y="110"/>
                  <a:pt x="290" y="110"/>
                </a:cubicBezTo>
                <a:cubicBezTo>
                  <a:pt x="289" y="110"/>
                  <a:pt x="289" y="111"/>
                  <a:pt x="288" y="111"/>
                </a:cubicBezTo>
                <a:cubicBezTo>
                  <a:pt x="281" y="121"/>
                  <a:pt x="272" y="127"/>
                  <a:pt x="261" y="131"/>
                </a:cubicBezTo>
                <a:cubicBezTo>
                  <a:pt x="264" y="131"/>
                  <a:pt x="264" y="131"/>
                  <a:pt x="264" y="131"/>
                </a:cubicBezTo>
                <a:cubicBezTo>
                  <a:pt x="264" y="176"/>
                  <a:pt x="264" y="176"/>
                  <a:pt x="264" y="176"/>
                </a:cubicBezTo>
                <a:cubicBezTo>
                  <a:pt x="203" y="176"/>
                  <a:pt x="203" y="176"/>
                  <a:pt x="203" y="176"/>
                </a:cubicBezTo>
                <a:cubicBezTo>
                  <a:pt x="194" y="176"/>
                  <a:pt x="194" y="176"/>
                  <a:pt x="194" y="176"/>
                </a:cubicBezTo>
                <a:cubicBezTo>
                  <a:pt x="227" y="132"/>
                  <a:pt x="227" y="132"/>
                  <a:pt x="227" y="132"/>
                </a:cubicBezTo>
                <a:cubicBezTo>
                  <a:pt x="227" y="131"/>
                  <a:pt x="228" y="130"/>
                  <a:pt x="228" y="129"/>
                </a:cubicBezTo>
                <a:cubicBezTo>
                  <a:pt x="247" y="134"/>
                  <a:pt x="267" y="128"/>
                  <a:pt x="279" y="112"/>
                </a:cubicBezTo>
                <a:cubicBezTo>
                  <a:pt x="288" y="101"/>
                  <a:pt x="292" y="86"/>
                  <a:pt x="289" y="72"/>
                </a:cubicBezTo>
                <a:cubicBezTo>
                  <a:pt x="288" y="70"/>
                  <a:pt x="287" y="69"/>
                  <a:pt x="286" y="68"/>
                </a:cubicBezTo>
                <a:cubicBezTo>
                  <a:pt x="284" y="68"/>
                  <a:pt x="282" y="68"/>
                  <a:pt x="281" y="70"/>
                </a:cubicBezTo>
                <a:cubicBezTo>
                  <a:pt x="260" y="96"/>
                  <a:pt x="260" y="96"/>
                  <a:pt x="260" y="96"/>
                </a:cubicBezTo>
                <a:cubicBezTo>
                  <a:pt x="233" y="91"/>
                  <a:pt x="233" y="91"/>
                  <a:pt x="233" y="91"/>
                </a:cubicBezTo>
                <a:cubicBezTo>
                  <a:pt x="221" y="66"/>
                  <a:pt x="221" y="66"/>
                  <a:pt x="221" y="66"/>
                </a:cubicBezTo>
                <a:cubicBezTo>
                  <a:pt x="242" y="39"/>
                  <a:pt x="242" y="39"/>
                  <a:pt x="242" y="39"/>
                </a:cubicBezTo>
                <a:cubicBezTo>
                  <a:pt x="243" y="38"/>
                  <a:pt x="244" y="36"/>
                  <a:pt x="243" y="34"/>
                </a:cubicBezTo>
                <a:cubicBezTo>
                  <a:pt x="242" y="33"/>
                  <a:pt x="241" y="32"/>
                  <a:pt x="239" y="32"/>
                </a:cubicBezTo>
                <a:cubicBezTo>
                  <a:pt x="224" y="32"/>
                  <a:pt x="211" y="39"/>
                  <a:pt x="202" y="51"/>
                </a:cubicBezTo>
                <a:cubicBezTo>
                  <a:pt x="189" y="66"/>
                  <a:pt x="188" y="87"/>
                  <a:pt x="196" y="104"/>
                </a:cubicBezTo>
                <a:cubicBezTo>
                  <a:pt x="196" y="105"/>
                  <a:pt x="195" y="106"/>
                  <a:pt x="195" y="106"/>
                </a:cubicBezTo>
                <a:cubicBezTo>
                  <a:pt x="152" y="157"/>
                  <a:pt x="152" y="157"/>
                  <a:pt x="152" y="157"/>
                </a:cubicBezTo>
                <a:cubicBezTo>
                  <a:pt x="162" y="167"/>
                  <a:pt x="162" y="167"/>
                  <a:pt x="162" y="167"/>
                </a:cubicBezTo>
                <a:cubicBezTo>
                  <a:pt x="165" y="170"/>
                  <a:pt x="167" y="173"/>
                  <a:pt x="168" y="176"/>
                </a:cubicBezTo>
                <a:cubicBezTo>
                  <a:pt x="163" y="176"/>
                  <a:pt x="163" y="176"/>
                  <a:pt x="163" y="176"/>
                </a:cubicBezTo>
                <a:cubicBezTo>
                  <a:pt x="163" y="174"/>
                  <a:pt x="161" y="172"/>
                  <a:pt x="159" y="170"/>
                </a:cubicBezTo>
                <a:cubicBezTo>
                  <a:pt x="101" y="112"/>
                  <a:pt x="101" y="112"/>
                  <a:pt x="101" y="112"/>
                </a:cubicBezTo>
                <a:cubicBezTo>
                  <a:pt x="100" y="117"/>
                  <a:pt x="100" y="117"/>
                  <a:pt x="100" y="117"/>
                </a:cubicBezTo>
                <a:cubicBezTo>
                  <a:pt x="103" y="118"/>
                  <a:pt x="103" y="118"/>
                  <a:pt x="103" y="118"/>
                </a:cubicBezTo>
                <a:cubicBezTo>
                  <a:pt x="106" y="119"/>
                  <a:pt x="109" y="121"/>
                  <a:pt x="110" y="124"/>
                </a:cubicBezTo>
                <a:cubicBezTo>
                  <a:pt x="112" y="126"/>
                  <a:pt x="112" y="129"/>
                  <a:pt x="111" y="132"/>
                </a:cubicBezTo>
                <a:cubicBezTo>
                  <a:pt x="111" y="134"/>
                  <a:pt x="110" y="135"/>
                  <a:pt x="109" y="137"/>
                </a:cubicBezTo>
                <a:cubicBezTo>
                  <a:pt x="109" y="139"/>
                  <a:pt x="109" y="142"/>
                  <a:pt x="108" y="145"/>
                </a:cubicBezTo>
                <a:cubicBezTo>
                  <a:pt x="103" y="163"/>
                  <a:pt x="103" y="163"/>
                  <a:pt x="103" y="163"/>
                </a:cubicBezTo>
                <a:cubicBezTo>
                  <a:pt x="117" y="176"/>
                  <a:pt x="117" y="176"/>
                  <a:pt x="117" y="176"/>
                </a:cubicBezTo>
                <a:cubicBezTo>
                  <a:pt x="112" y="176"/>
                  <a:pt x="112" y="176"/>
                  <a:pt x="112" y="176"/>
                </a:cubicBezTo>
                <a:cubicBezTo>
                  <a:pt x="103" y="176"/>
                  <a:pt x="103" y="176"/>
                  <a:pt x="103" y="176"/>
                </a:cubicBezTo>
                <a:cubicBezTo>
                  <a:pt x="93" y="176"/>
                  <a:pt x="93" y="176"/>
                  <a:pt x="93" y="176"/>
                </a:cubicBezTo>
                <a:cubicBezTo>
                  <a:pt x="103" y="142"/>
                  <a:pt x="103" y="142"/>
                  <a:pt x="103" y="142"/>
                </a:cubicBezTo>
                <a:cubicBezTo>
                  <a:pt x="104" y="139"/>
                  <a:pt x="104" y="136"/>
                  <a:pt x="103" y="133"/>
                </a:cubicBezTo>
                <a:cubicBezTo>
                  <a:pt x="105" y="132"/>
                  <a:pt x="106" y="131"/>
                  <a:pt x="106" y="129"/>
                </a:cubicBezTo>
                <a:cubicBezTo>
                  <a:pt x="107" y="126"/>
                  <a:pt x="105" y="123"/>
                  <a:pt x="102" y="122"/>
                </a:cubicBezTo>
                <a:cubicBezTo>
                  <a:pt x="93" y="119"/>
                  <a:pt x="93" y="119"/>
                  <a:pt x="93" y="119"/>
                </a:cubicBezTo>
                <a:cubicBezTo>
                  <a:pt x="118" y="35"/>
                  <a:pt x="118" y="35"/>
                  <a:pt x="118" y="35"/>
                </a:cubicBezTo>
                <a:cubicBezTo>
                  <a:pt x="119" y="35"/>
                  <a:pt x="119" y="35"/>
                  <a:pt x="119" y="35"/>
                </a:cubicBezTo>
                <a:cubicBezTo>
                  <a:pt x="125" y="23"/>
                  <a:pt x="125" y="23"/>
                  <a:pt x="125" y="23"/>
                </a:cubicBezTo>
                <a:cubicBezTo>
                  <a:pt x="128" y="3"/>
                  <a:pt x="128" y="3"/>
                  <a:pt x="128" y="3"/>
                </a:cubicBezTo>
                <a:cubicBezTo>
                  <a:pt x="117" y="0"/>
                  <a:pt x="117" y="0"/>
                  <a:pt x="117" y="0"/>
                </a:cubicBezTo>
                <a:cubicBezTo>
                  <a:pt x="109" y="18"/>
                  <a:pt x="109" y="18"/>
                  <a:pt x="109" y="18"/>
                </a:cubicBezTo>
                <a:cubicBezTo>
                  <a:pt x="107" y="32"/>
                  <a:pt x="107" y="32"/>
                  <a:pt x="107" y="32"/>
                </a:cubicBezTo>
                <a:cubicBezTo>
                  <a:pt x="108" y="32"/>
                  <a:pt x="108" y="32"/>
                  <a:pt x="108" y="32"/>
                </a:cubicBezTo>
                <a:cubicBezTo>
                  <a:pt x="83" y="116"/>
                  <a:pt x="83" y="116"/>
                  <a:pt x="83" y="116"/>
                </a:cubicBezTo>
                <a:cubicBezTo>
                  <a:pt x="74" y="113"/>
                  <a:pt x="74" y="113"/>
                  <a:pt x="74" y="113"/>
                </a:cubicBezTo>
                <a:cubicBezTo>
                  <a:pt x="70" y="112"/>
                  <a:pt x="67" y="114"/>
                  <a:pt x="66" y="117"/>
                </a:cubicBezTo>
                <a:cubicBezTo>
                  <a:pt x="65" y="119"/>
                  <a:pt x="66" y="120"/>
                  <a:pt x="66" y="122"/>
                </a:cubicBezTo>
                <a:cubicBezTo>
                  <a:pt x="64" y="124"/>
                  <a:pt x="62" y="126"/>
                  <a:pt x="61" y="129"/>
                </a:cubicBezTo>
                <a:cubicBezTo>
                  <a:pt x="47" y="176"/>
                  <a:pt x="47" y="176"/>
                  <a:pt x="47" y="176"/>
                </a:cubicBezTo>
                <a:cubicBezTo>
                  <a:pt x="38" y="176"/>
                  <a:pt x="38" y="176"/>
                  <a:pt x="38" y="176"/>
                </a:cubicBezTo>
                <a:cubicBezTo>
                  <a:pt x="34" y="176"/>
                  <a:pt x="34" y="176"/>
                  <a:pt x="34" y="176"/>
                </a:cubicBezTo>
                <a:cubicBezTo>
                  <a:pt x="34" y="131"/>
                  <a:pt x="34" y="131"/>
                  <a:pt x="34" y="131"/>
                </a:cubicBezTo>
                <a:cubicBezTo>
                  <a:pt x="52" y="131"/>
                  <a:pt x="52" y="131"/>
                  <a:pt x="52" y="131"/>
                </a:cubicBezTo>
                <a:cubicBezTo>
                  <a:pt x="55" y="120"/>
                  <a:pt x="55" y="120"/>
                  <a:pt x="55" y="120"/>
                </a:cubicBezTo>
                <a:cubicBezTo>
                  <a:pt x="56" y="118"/>
                  <a:pt x="56" y="117"/>
                  <a:pt x="58" y="115"/>
                </a:cubicBezTo>
                <a:cubicBezTo>
                  <a:pt x="30" y="86"/>
                  <a:pt x="30" y="86"/>
                  <a:pt x="30" y="86"/>
                </a:cubicBezTo>
                <a:cubicBezTo>
                  <a:pt x="26" y="91"/>
                  <a:pt x="22" y="97"/>
                  <a:pt x="16" y="103"/>
                </a:cubicBezTo>
                <a:cubicBezTo>
                  <a:pt x="8" y="111"/>
                  <a:pt x="8" y="111"/>
                  <a:pt x="8" y="111"/>
                </a:cubicBezTo>
                <a:cubicBezTo>
                  <a:pt x="8" y="176"/>
                  <a:pt x="8" y="176"/>
                  <a:pt x="8" y="176"/>
                </a:cubicBezTo>
                <a:cubicBezTo>
                  <a:pt x="0" y="176"/>
                  <a:pt x="0" y="176"/>
                  <a:pt x="0" y="176"/>
                </a:cubicBezTo>
                <a:cubicBezTo>
                  <a:pt x="0" y="268"/>
                  <a:pt x="0" y="268"/>
                  <a:pt x="0" y="268"/>
                </a:cubicBezTo>
                <a:cubicBezTo>
                  <a:pt x="0" y="296"/>
                  <a:pt x="23" y="320"/>
                  <a:pt x="52" y="320"/>
                </a:cubicBezTo>
                <a:cubicBezTo>
                  <a:pt x="246" y="320"/>
                  <a:pt x="246" y="320"/>
                  <a:pt x="246" y="320"/>
                </a:cubicBezTo>
                <a:cubicBezTo>
                  <a:pt x="275" y="320"/>
                  <a:pt x="298" y="296"/>
                  <a:pt x="298" y="268"/>
                </a:cubicBezTo>
                <a:cubicBezTo>
                  <a:pt x="298" y="176"/>
                  <a:pt x="298" y="176"/>
                  <a:pt x="298" y="176"/>
                </a:cubicBezTo>
                <a:lnTo>
                  <a:pt x="290" y="176"/>
                </a:lnTo>
                <a:close/>
                <a:moveTo>
                  <a:pt x="85" y="144"/>
                </a:moveTo>
                <a:cubicBezTo>
                  <a:pt x="86" y="140"/>
                  <a:pt x="90" y="139"/>
                  <a:pt x="93" y="140"/>
                </a:cubicBezTo>
                <a:cubicBezTo>
                  <a:pt x="97" y="141"/>
                  <a:pt x="99" y="144"/>
                  <a:pt x="98" y="148"/>
                </a:cubicBezTo>
                <a:cubicBezTo>
                  <a:pt x="89" y="176"/>
                  <a:pt x="89" y="176"/>
                  <a:pt x="89" y="176"/>
                </a:cubicBezTo>
                <a:cubicBezTo>
                  <a:pt x="76" y="176"/>
                  <a:pt x="76" y="176"/>
                  <a:pt x="76" y="176"/>
                </a:cubicBezTo>
                <a:lnTo>
                  <a:pt x="85" y="144"/>
                </a:lnTo>
                <a:close/>
                <a:moveTo>
                  <a:pt x="64" y="138"/>
                </a:moveTo>
                <a:cubicBezTo>
                  <a:pt x="65" y="134"/>
                  <a:pt x="69" y="132"/>
                  <a:pt x="72" y="133"/>
                </a:cubicBezTo>
                <a:cubicBezTo>
                  <a:pt x="76" y="134"/>
                  <a:pt x="78" y="138"/>
                  <a:pt x="77" y="141"/>
                </a:cubicBezTo>
                <a:cubicBezTo>
                  <a:pt x="66" y="176"/>
                  <a:pt x="66" y="176"/>
                  <a:pt x="66" y="176"/>
                </a:cubicBezTo>
                <a:cubicBezTo>
                  <a:pt x="53" y="176"/>
                  <a:pt x="53" y="176"/>
                  <a:pt x="53" y="176"/>
                </a:cubicBezTo>
                <a:lnTo>
                  <a:pt x="64" y="13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6" name="Group 4" descr=""/>
          <p:cNvPicPr/>
          <p:nvPr/>
        </p:nvPicPr>
        <p:blipFill>
          <a:blip r:embed="rId2"/>
          <a:stretch/>
        </p:blipFill>
        <p:spPr>
          <a:xfrm>
            <a:off x="8155080" y="2959200"/>
            <a:ext cx="290520" cy="453960"/>
          </a:xfrm>
          <a:prstGeom prst="rect">
            <a:avLst/>
          </a:prstGeom>
          <a:ln w="0">
            <a:noFill/>
          </a:ln>
        </p:spPr>
      </p:pic>
      <p:pic>
        <p:nvPicPr>
          <p:cNvPr id="477" name="Group 25" descr=""/>
          <p:cNvPicPr/>
          <p:nvPr/>
        </p:nvPicPr>
        <p:blipFill>
          <a:blip r:embed="rId3"/>
          <a:stretch/>
        </p:blipFill>
        <p:spPr>
          <a:xfrm>
            <a:off x="8115480" y="4454640"/>
            <a:ext cx="336240" cy="566640"/>
          </a:xfrm>
          <a:prstGeom prst="rect">
            <a:avLst/>
          </a:prstGeom>
          <a:ln w="0">
            <a:noFill/>
          </a:ln>
        </p:spPr>
      </p:pic>
      <p:sp>
        <p:nvSpPr>
          <p:cNvPr id="478" name="KSO_Shape"/>
          <p:cNvSpPr/>
          <p:nvPr/>
        </p:nvSpPr>
        <p:spPr>
          <a:xfrm>
            <a:off x="4611600" y="4527720"/>
            <a:ext cx="358920" cy="23940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9" name="Group 17" descr=""/>
          <p:cNvPicPr/>
          <p:nvPr/>
        </p:nvPicPr>
        <p:blipFill>
          <a:blip r:embed="rId4"/>
          <a:stretch/>
        </p:blipFill>
        <p:spPr>
          <a:xfrm>
            <a:off x="1120680" y="4505400"/>
            <a:ext cx="292320" cy="43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765520"/>
            <a:ext cx="527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000"/>
                </a:solidFill>
                <a:latin typeface="微软雅黑"/>
              </a:rPr>
              <a:t>目录</a:t>
            </a:r>
            <a:endParaRPr b="0" lang="en-US" sz="8000" spc="-1" strike="noStrike">
              <a:solidFill>
                <a:srgbClr val="000000"/>
              </a:solidFill>
              <a:latin typeface="Calibri Light"/>
            </a:endParaRPr>
          </a:p>
        </p:txBody>
      </p:sp>
      <p:sp>
        <p:nvSpPr>
          <p:cNvPr id="220" name="矩形 4"/>
          <p:cNvSpPr/>
          <p:nvPr/>
        </p:nvSpPr>
        <p:spPr>
          <a:xfrm>
            <a:off x="5587920" y="62388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矩形 5"/>
          <p:cNvSpPr/>
          <p:nvPr/>
        </p:nvSpPr>
        <p:spPr>
          <a:xfrm>
            <a:off x="5715000" y="72540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1</a:t>
            </a:r>
            <a:endParaRPr b="0" lang="en-US" sz="3600" spc="-1" strike="noStrike">
              <a:solidFill>
                <a:srgbClr val="000000"/>
              </a:solidFill>
              <a:latin typeface="Calibri"/>
            </a:endParaRPr>
          </a:p>
        </p:txBody>
      </p:sp>
      <p:sp>
        <p:nvSpPr>
          <p:cNvPr id="222" name="文本框 6"/>
          <p:cNvSpPr/>
          <p:nvPr/>
        </p:nvSpPr>
        <p:spPr>
          <a:xfrm>
            <a:off x="7231320" y="790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公司简介</a:t>
            </a:r>
            <a:endParaRPr b="0" lang="en-US" sz="2400" spc="-1" strike="noStrike">
              <a:solidFill>
                <a:srgbClr val="000000"/>
              </a:solidFill>
              <a:latin typeface="Calibri"/>
            </a:endParaRPr>
          </a:p>
        </p:txBody>
      </p:sp>
      <p:sp>
        <p:nvSpPr>
          <p:cNvPr id="223" name="矩形 7"/>
          <p:cNvSpPr/>
          <p:nvPr/>
        </p:nvSpPr>
        <p:spPr>
          <a:xfrm>
            <a:off x="5587920" y="158760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矩形 8"/>
          <p:cNvSpPr/>
          <p:nvPr/>
        </p:nvSpPr>
        <p:spPr>
          <a:xfrm>
            <a:off x="5715000" y="168912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2</a:t>
            </a:r>
            <a:endParaRPr b="0" lang="en-US" sz="3600" spc="-1" strike="noStrike">
              <a:solidFill>
                <a:srgbClr val="000000"/>
              </a:solidFill>
              <a:latin typeface="Calibri"/>
            </a:endParaRPr>
          </a:p>
        </p:txBody>
      </p:sp>
      <p:sp>
        <p:nvSpPr>
          <p:cNvPr id="225" name="文本框 9"/>
          <p:cNvSpPr/>
          <p:nvPr/>
        </p:nvSpPr>
        <p:spPr>
          <a:xfrm>
            <a:off x="7231320" y="1754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平台运作</a:t>
            </a:r>
            <a:endParaRPr b="0" lang="en-US" sz="2400" spc="-1" strike="noStrike">
              <a:solidFill>
                <a:srgbClr val="000000"/>
              </a:solidFill>
              <a:latin typeface="Calibri"/>
            </a:endParaRPr>
          </a:p>
        </p:txBody>
      </p:sp>
      <p:sp>
        <p:nvSpPr>
          <p:cNvPr id="226" name="矩形 10"/>
          <p:cNvSpPr/>
          <p:nvPr/>
        </p:nvSpPr>
        <p:spPr>
          <a:xfrm>
            <a:off x="5587920" y="2549520"/>
            <a:ext cx="5926320" cy="7970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矩形 11"/>
          <p:cNvSpPr/>
          <p:nvPr/>
        </p:nvSpPr>
        <p:spPr>
          <a:xfrm>
            <a:off x="5715000" y="2651040"/>
            <a:ext cx="592200" cy="5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3</a:t>
            </a:r>
            <a:endParaRPr b="0" lang="en-US" sz="3600" spc="-1" strike="noStrike">
              <a:solidFill>
                <a:srgbClr val="000000"/>
              </a:solidFill>
              <a:latin typeface="Calibri"/>
            </a:endParaRPr>
          </a:p>
        </p:txBody>
      </p:sp>
      <p:sp>
        <p:nvSpPr>
          <p:cNvPr id="228" name="文本框 12"/>
          <p:cNvSpPr/>
          <p:nvPr/>
        </p:nvSpPr>
        <p:spPr>
          <a:xfrm>
            <a:off x="7231320" y="2716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管理制度</a:t>
            </a:r>
            <a:endParaRPr b="0" lang="en-US" sz="2400" spc="-1" strike="noStrike">
              <a:solidFill>
                <a:srgbClr val="000000"/>
              </a:solidFill>
              <a:latin typeface="Calibri"/>
            </a:endParaRPr>
          </a:p>
        </p:txBody>
      </p:sp>
      <p:sp>
        <p:nvSpPr>
          <p:cNvPr id="229" name="矩形 13"/>
          <p:cNvSpPr/>
          <p:nvPr/>
        </p:nvSpPr>
        <p:spPr>
          <a:xfrm>
            <a:off x="5587920" y="351324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矩形 14"/>
          <p:cNvSpPr/>
          <p:nvPr/>
        </p:nvSpPr>
        <p:spPr>
          <a:xfrm>
            <a:off x="5715000" y="361476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4</a:t>
            </a:r>
            <a:endParaRPr b="0" lang="en-US" sz="3600" spc="-1" strike="noStrike">
              <a:solidFill>
                <a:srgbClr val="000000"/>
              </a:solidFill>
              <a:latin typeface="Calibri"/>
            </a:endParaRPr>
          </a:p>
        </p:txBody>
      </p:sp>
      <p:sp>
        <p:nvSpPr>
          <p:cNvPr id="231" name="文本框 15"/>
          <p:cNvSpPr/>
          <p:nvPr/>
        </p:nvSpPr>
        <p:spPr>
          <a:xfrm>
            <a:off x="7231320" y="3679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认识产品</a:t>
            </a:r>
            <a:endParaRPr b="0" lang="en-US" sz="2400" spc="-1" strike="noStrike">
              <a:solidFill>
                <a:srgbClr val="000000"/>
              </a:solidFill>
              <a:latin typeface="Calibri"/>
            </a:endParaRPr>
          </a:p>
        </p:txBody>
      </p:sp>
      <p:sp>
        <p:nvSpPr>
          <p:cNvPr id="232" name="矩形 16"/>
          <p:cNvSpPr/>
          <p:nvPr/>
        </p:nvSpPr>
        <p:spPr>
          <a:xfrm>
            <a:off x="5587920" y="4475160"/>
            <a:ext cx="5926320" cy="7970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17"/>
          <p:cNvSpPr/>
          <p:nvPr/>
        </p:nvSpPr>
        <p:spPr>
          <a:xfrm>
            <a:off x="5715000" y="4576680"/>
            <a:ext cx="592200" cy="5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5</a:t>
            </a:r>
            <a:endParaRPr b="0" lang="en-US" sz="3600" spc="-1" strike="noStrike">
              <a:solidFill>
                <a:srgbClr val="000000"/>
              </a:solidFill>
              <a:latin typeface="Calibri"/>
            </a:endParaRPr>
          </a:p>
        </p:txBody>
      </p:sp>
      <p:sp>
        <p:nvSpPr>
          <p:cNvPr id="234" name="文本框 18"/>
          <p:cNvSpPr/>
          <p:nvPr/>
        </p:nvSpPr>
        <p:spPr>
          <a:xfrm>
            <a:off x="7231320" y="4643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业务推广</a:t>
            </a:r>
            <a:endParaRPr b="0" lang="en-US" sz="2400" spc="-1" strike="noStrike">
              <a:solidFill>
                <a:srgbClr val="000000"/>
              </a:solidFill>
              <a:latin typeface="Calibri"/>
            </a:endParaRPr>
          </a:p>
        </p:txBody>
      </p:sp>
      <p:sp>
        <p:nvSpPr>
          <p:cNvPr id="235" name="矩形 19"/>
          <p:cNvSpPr/>
          <p:nvPr/>
        </p:nvSpPr>
        <p:spPr>
          <a:xfrm>
            <a:off x="5587920" y="543888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20"/>
          <p:cNvSpPr/>
          <p:nvPr/>
        </p:nvSpPr>
        <p:spPr>
          <a:xfrm>
            <a:off x="5715000" y="554040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6</a:t>
            </a:r>
            <a:endParaRPr b="0" lang="en-US" sz="3600" spc="-1" strike="noStrike">
              <a:solidFill>
                <a:srgbClr val="000000"/>
              </a:solidFill>
              <a:latin typeface="Calibri"/>
            </a:endParaRPr>
          </a:p>
        </p:txBody>
      </p:sp>
      <p:sp>
        <p:nvSpPr>
          <p:cNvPr id="237" name="文本框 21"/>
          <p:cNvSpPr/>
          <p:nvPr/>
        </p:nvSpPr>
        <p:spPr>
          <a:xfrm>
            <a:off x="7231320" y="5605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客群分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808200"/>
            <a:ext cx="105156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谢谢观看</a:t>
            </a:r>
            <a:endParaRPr b="0" lang="en-US" sz="6600" spc="-1" strike="noStrike">
              <a:solidFill>
                <a:srgbClr val="000000"/>
              </a:solidFill>
              <a:latin typeface="Calibri Light"/>
            </a:endParaRPr>
          </a:p>
        </p:txBody>
      </p:sp>
      <p:sp>
        <p:nvSpPr>
          <p:cNvPr id="481" name="PlaceHolder 2"/>
          <p:cNvSpPr>
            <a:spLocks noGrp="1"/>
          </p:cNvSpPr>
          <p:nvPr>
            <p:ph type="subTitle"/>
          </p:nvPr>
        </p:nvSpPr>
        <p:spPr>
          <a:xfrm>
            <a:off x="838080" y="3671640"/>
            <a:ext cx="105156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eebf7"/>
                </a:solidFill>
                <a:latin typeface="微软雅黑 Light"/>
                <a:ea typeface="微软雅黑 Light"/>
              </a:rPr>
              <a:t>简洁大气</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易编辑</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任意替换内容</a:t>
            </a:r>
            <a:endParaRPr b="0" lang="en-US" sz="1800" spc="-1" strike="noStrike">
              <a:solidFill>
                <a:srgbClr val="000000"/>
              </a:solidFill>
              <a:latin typeface="Calibri"/>
            </a:endParaRPr>
          </a:p>
        </p:txBody>
      </p:sp>
      <p:sp>
        <p:nvSpPr>
          <p:cNvPr id="482" name="文本框 16"/>
          <p:cNvSpPr/>
          <p:nvPr/>
        </p:nvSpPr>
        <p:spPr>
          <a:xfrm>
            <a:off x="6235920" y="4300560"/>
            <a:ext cx="139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微软雅黑"/>
              </a:rPr>
              <a:t>2015</a:t>
            </a:r>
            <a:r>
              <a:rPr b="0" lang="zh-CN" sz="2000" spc="-1" strike="noStrike">
                <a:solidFill>
                  <a:srgbClr val="ffc000"/>
                </a:solidFill>
                <a:latin typeface="微软雅黑"/>
              </a:rPr>
              <a:t>年</a:t>
            </a:r>
            <a:r>
              <a:rPr b="0" lang="en-US" sz="2000" spc="-1" strike="noStrike">
                <a:solidFill>
                  <a:srgbClr val="ffc000"/>
                </a:solidFill>
                <a:latin typeface="微软雅黑"/>
              </a:rPr>
              <a:t>9</a:t>
            </a:r>
            <a:r>
              <a:rPr b="0" lang="zh-CN" sz="2000" spc="-1" strike="noStrike">
                <a:solidFill>
                  <a:srgbClr val="ffc000"/>
                </a:solidFill>
                <a:latin typeface="微软雅黑"/>
              </a:rPr>
              <a:t>月</a:t>
            </a:r>
            <a:endParaRPr b="0" lang="en-US" sz="2000" spc="-1" strike="noStrike">
              <a:solidFill>
                <a:srgbClr val="000000"/>
              </a:solidFill>
              <a:latin typeface="Calibri"/>
            </a:endParaRPr>
          </a:p>
        </p:txBody>
      </p:sp>
      <p:sp>
        <p:nvSpPr>
          <p:cNvPr id="483" name="矩形 26"/>
          <p:cNvSpPr/>
          <p:nvPr/>
        </p:nvSpPr>
        <p:spPr>
          <a:xfrm>
            <a:off x="6095880" y="4257720"/>
            <a:ext cx="1528920" cy="4428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直接连接符 28"/>
          <p:cNvSpPr/>
          <p:nvPr/>
        </p:nvSpPr>
        <p:spPr>
          <a:xfrm>
            <a:off x="1193760" y="3430440"/>
            <a:ext cx="9771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239"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公司简介</a:t>
            </a:r>
            <a:endParaRPr b="0" lang="en-US" sz="4000" spc="-1" strike="noStrike">
              <a:solidFill>
                <a:srgbClr val="000000"/>
              </a:solidFill>
              <a:latin typeface="Calibri Light"/>
            </a:endParaRPr>
          </a:p>
        </p:txBody>
      </p:sp>
      <p:sp>
        <p:nvSpPr>
          <p:cNvPr id="241" name="矩形 4"/>
          <p:cNvSpPr/>
          <p:nvPr/>
        </p:nvSpPr>
        <p:spPr>
          <a:xfrm>
            <a:off x="839880" y="4865760"/>
            <a:ext cx="64497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a:t>
            </a:r>
            <a:endParaRPr b="0" lang="en-US" sz="1400" spc="-1" strike="noStrike">
              <a:solidFill>
                <a:srgbClr val="000000"/>
              </a:solidFill>
              <a:latin typeface="Calibri"/>
            </a:endParaRPr>
          </a:p>
        </p:txBody>
      </p:sp>
      <p:sp>
        <p:nvSpPr>
          <p:cNvPr id="242" name="矩形 5"/>
          <p:cNvSpPr/>
          <p:nvPr/>
        </p:nvSpPr>
        <p:spPr>
          <a:xfrm>
            <a:off x="839880" y="4194000"/>
            <a:ext cx="739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000"/>
                </a:solidFill>
                <a:latin typeface="Calibri"/>
              </a:rPr>
              <a:t>VEHICULANULLA QUIS LOREM UT LIBERO MALESUADA FEUGIAT VEHICULANULLA QUIS LOREM UT LIBERO MALESUADA FEUGIAT</a:t>
            </a:r>
            <a:endParaRPr b="0" lang="en-US" sz="1800" spc="-1" strike="noStrike">
              <a:solidFill>
                <a:srgbClr val="000000"/>
              </a:solidFill>
              <a:latin typeface="Calibri"/>
            </a:endParaRPr>
          </a:p>
        </p:txBody>
      </p:sp>
      <p:pic>
        <p:nvPicPr>
          <p:cNvPr id="243" name="图片 7" descr=""/>
          <p:cNvPicPr/>
          <p:nvPr/>
        </p:nvPicPr>
        <p:blipFill>
          <a:blip r:embed="rId1"/>
          <a:srcRect l="0" t="0" r="15089" b="54812"/>
          <a:stretch/>
        </p:blipFill>
        <p:spPr>
          <a:xfrm>
            <a:off x="839880" y="1828800"/>
            <a:ext cx="6330960" cy="2247840"/>
          </a:xfrm>
          <a:prstGeom prst="rect">
            <a:avLst/>
          </a:prstGeom>
          <a:ln w="0">
            <a:noFill/>
          </a:ln>
        </p:spPr>
      </p:pic>
      <p:sp>
        <p:nvSpPr>
          <p:cNvPr id="244" name="矩形 36"/>
          <p:cNvSpPr/>
          <p:nvPr/>
        </p:nvSpPr>
        <p:spPr>
          <a:xfrm>
            <a:off x="7778880" y="1795320"/>
            <a:ext cx="366552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uctus et ultrices posuere cubilia Curae; Donec velit neque, auctor sit amet aliquam vel, ullamcorper sit amet ligula. Nulla quis lorem ut libero malesuada feugiat. Vestibulum ac diam sit amet quam vehiculaVestibulum ante ipsum primis i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46" name="矩形 2"/>
          <p:cNvSpPr/>
          <p:nvPr/>
        </p:nvSpPr>
        <p:spPr>
          <a:xfrm>
            <a:off x="6313320" y="1832040"/>
            <a:ext cx="5040360" cy="436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矩形 4"/>
          <p:cNvSpPr/>
          <p:nvPr/>
        </p:nvSpPr>
        <p:spPr>
          <a:xfrm>
            <a:off x="838080" y="1166760"/>
            <a:ext cx="950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en-US" sz="1400" spc="-1" strike="noStrike">
                <a:solidFill>
                  <a:srgbClr val="ffffff"/>
                </a:solidFill>
                <a:latin typeface="Calibri"/>
              </a:rPr>
              <a:t>Eget tincidunt nibh pulvinar a. Pellentesque in ipsum id orci porta dapibus. Donec rutrum congue leo eget malesuada Quisque velit nisi, pretium ut lacinia in, elementum id enim. </a:t>
            </a:r>
            <a:endParaRPr b="0" lang="en-US" sz="1400" spc="-1" strike="noStrike">
              <a:solidFill>
                <a:srgbClr val="000000"/>
              </a:solidFill>
              <a:latin typeface="Calibri"/>
            </a:endParaRPr>
          </a:p>
        </p:txBody>
      </p:sp>
      <p:pic>
        <p:nvPicPr>
          <p:cNvPr id="248" name="图片 5" descr=""/>
          <p:cNvPicPr/>
          <p:nvPr/>
        </p:nvPicPr>
        <p:blipFill>
          <a:blip r:embed="rId1"/>
          <a:stretch/>
        </p:blipFill>
        <p:spPr>
          <a:xfrm>
            <a:off x="839880" y="1828800"/>
            <a:ext cx="6008760" cy="2263680"/>
          </a:xfrm>
          <a:prstGeom prst="rect">
            <a:avLst/>
          </a:prstGeom>
          <a:ln w="0">
            <a:noFill/>
          </a:ln>
        </p:spPr>
      </p:pic>
      <p:pic>
        <p:nvPicPr>
          <p:cNvPr id="249" name="图片 6" descr=""/>
          <p:cNvPicPr/>
          <p:nvPr/>
        </p:nvPicPr>
        <p:blipFill>
          <a:blip r:embed="rId2"/>
          <a:stretch/>
        </p:blipFill>
        <p:spPr>
          <a:xfrm>
            <a:off x="838080" y="4092480"/>
            <a:ext cx="6010560" cy="2113200"/>
          </a:xfrm>
          <a:prstGeom prst="rect">
            <a:avLst/>
          </a:prstGeom>
          <a:ln w="0">
            <a:noFill/>
          </a:ln>
        </p:spPr>
      </p:pic>
      <p:sp>
        <p:nvSpPr>
          <p:cNvPr id="250" name="矩形 7"/>
          <p:cNvSpPr/>
          <p:nvPr/>
        </p:nvSpPr>
        <p:spPr>
          <a:xfrm>
            <a:off x="7426440" y="3586320"/>
            <a:ext cx="34192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a:t>
            </a:r>
            <a:endParaRPr b="0" lang="en-US" sz="1400" spc="-1" strike="noStrike">
              <a:solidFill>
                <a:srgbClr val="000000"/>
              </a:solidFill>
              <a:latin typeface="Calibri"/>
            </a:endParaRPr>
          </a:p>
        </p:txBody>
      </p:sp>
      <p:sp>
        <p:nvSpPr>
          <p:cNvPr id="251" name="矩形 8"/>
          <p:cNvSpPr/>
          <p:nvPr/>
        </p:nvSpPr>
        <p:spPr>
          <a:xfrm>
            <a:off x="7426440" y="2492280"/>
            <a:ext cx="361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VEHICULANULLA QUIS LOREM UT LIBERO MALESUADA FEUGIATMALESUADA FEUGI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53" name="矩形 2"/>
          <p:cNvSpPr/>
          <p:nvPr/>
        </p:nvSpPr>
        <p:spPr>
          <a:xfrm>
            <a:off x="0" y="1700280"/>
            <a:ext cx="7327800" cy="2854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图片 4" descr=""/>
          <p:cNvPicPr/>
          <p:nvPr/>
        </p:nvPicPr>
        <p:blipFill>
          <a:blip r:embed="rId1"/>
          <a:srcRect l="0" t="0" r="0" b="11860"/>
          <a:stretch/>
        </p:blipFill>
        <p:spPr>
          <a:xfrm>
            <a:off x="7327800" y="1700280"/>
            <a:ext cx="4864320" cy="2857320"/>
          </a:xfrm>
          <a:prstGeom prst="rect">
            <a:avLst/>
          </a:prstGeom>
          <a:ln w="0">
            <a:noFill/>
          </a:ln>
        </p:spPr>
      </p:pic>
      <p:sp>
        <p:nvSpPr>
          <p:cNvPr id="255" name="矩形 5"/>
          <p:cNvSpPr/>
          <p:nvPr/>
        </p:nvSpPr>
        <p:spPr>
          <a:xfrm>
            <a:off x="893880" y="3127320"/>
            <a:ext cx="49654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256" name="矩形 6"/>
          <p:cNvSpPr/>
          <p:nvPr/>
        </p:nvSpPr>
        <p:spPr>
          <a:xfrm>
            <a:off x="893880" y="2284560"/>
            <a:ext cx="435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nec sollicitudin molestie malesuada</a:t>
            </a:r>
            <a:endParaRPr b="0" lang="en-US" sz="2400" spc="-1" strike="noStrike">
              <a:solidFill>
                <a:srgbClr val="000000"/>
              </a:solidFill>
              <a:latin typeface="Calibri"/>
            </a:endParaRPr>
          </a:p>
        </p:txBody>
      </p:sp>
      <p:sp>
        <p:nvSpPr>
          <p:cNvPr id="257" name="椭圆 7"/>
          <p:cNvSpPr/>
          <p:nvPr/>
        </p:nvSpPr>
        <p:spPr>
          <a:xfrm>
            <a:off x="6870600" y="267012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KSO_Shape"/>
          <p:cNvSpPr/>
          <p:nvPr/>
        </p:nvSpPr>
        <p:spPr>
          <a:xfrm>
            <a:off x="7107120" y="2968560"/>
            <a:ext cx="441360" cy="31752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矩形 9"/>
          <p:cNvSpPr/>
          <p:nvPr/>
        </p:nvSpPr>
        <p:spPr>
          <a:xfrm>
            <a:off x="839880" y="5027760"/>
            <a:ext cx="106012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grpSp>
        <p:nvGrpSpPr>
          <p:cNvPr id="261" name="组合 2"/>
          <p:cNvGrpSpPr/>
          <p:nvPr/>
        </p:nvGrpSpPr>
        <p:grpSpPr>
          <a:xfrm>
            <a:off x="4902120" y="2629080"/>
            <a:ext cx="1905120" cy="1904760"/>
            <a:chOff x="4902120" y="2629080"/>
            <a:chExt cx="1905120" cy="1904760"/>
          </a:xfrm>
        </p:grpSpPr>
        <p:sp>
          <p:nvSpPr>
            <p:cNvPr id="262" name="椭圆 4"/>
            <p:cNvSpPr/>
            <p:nvPr/>
          </p:nvSpPr>
          <p:spPr>
            <a:xfrm>
              <a:off x="4902120" y="2629080"/>
              <a:ext cx="1905120" cy="1904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3" name="KSO_Shape" descr=""/>
            <p:cNvPicPr/>
            <p:nvPr/>
          </p:nvPicPr>
          <p:blipFill>
            <a:blip r:embed="rId1"/>
            <a:stretch/>
          </p:blipFill>
          <p:spPr>
            <a:xfrm>
              <a:off x="4917960" y="2641680"/>
              <a:ext cx="1873440" cy="1879560"/>
            </a:xfrm>
            <a:prstGeom prst="rect">
              <a:avLst/>
            </a:prstGeom>
            <a:ln w="0">
              <a:noFill/>
            </a:ln>
          </p:spPr>
        </p:pic>
      </p:grpSp>
      <p:sp>
        <p:nvSpPr>
          <p:cNvPr id="264" name="等腰三角形 6"/>
          <p:cNvSpPr/>
          <p:nvPr/>
        </p:nvSpPr>
        <p:spPr>
          <a:xfrm rot="18670200">
            <a:off x="4915800" y="2505600"/>
            <a:ext cx="327240" cy="24624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等腰三角形 7"/>
          <p:cNvSpPr/>
          <p:nvPr/>
        </p:nvSpPr>
        <p:spPr>
          <a:xfrm rot="15591000">
            <a:off x="4489200" y="3639960"/>
            <a:ext cx="325440" cy="24588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等腰三角形 8"/>
          <p:cNvSpPr/>
          <p:nvPr/>
        </p:nvSpPr>
        <p:spPr>
          <a:xfrm rot="12358200">
            <a:off x="5078160" y="4541400"/>
            <a:ext cx="326880" cy="24624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7" name="组合 9" descr=""/>
          <p:cNvPicPr/>
          <p:nvPr/>
        </p:nvPicPr>
        <p:blipFill>
          <a:blip r:embed="rId2"/>
          <a:stretch/>
        </p:blipFill>
        <p:spPr>
          <a:xfrm>
            <a:off x="6342120" y="2544840"/>
            <a:ext cx="909720" cy="2228760"/>
          </a:xfrm>
          <a:prstGeom prst="rect">
            <a:avLst/>
          </a:prstGeom>
          <a:ln w="0">
            <a:noFill/>
          </a:ln>
        </p:spPr>
      </p:pic>
      <p:sp>
        <p:nvSpPr>
          <p:cNvPr id="268" name="矩形 13"/>
          <p:cNvSpPr/>
          <p:nvPr/>
        </p:nvSpPr>
        <p:spPr>
          <a:xfrm>
            <a:off x="6702480" y="479736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69" name="矩形 14"/>
          <p:cNvSpPr/>
          <p:nvPr/>
        </p:nvSpPr>
        <p:spPr>
          <a:xfrm>
            <a:off x="6702480" y="507060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0" name="矩形 15"/>
          <p:cNvSpPr/>
          <p:nvPr/>
        </p:nvSpPr>
        <p:spPr>
          <a:xfrm>
            <a:off x="7543800" y="367200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1" name="矩形 16"/>
          <p:cNvSpPr/>
          <p:nvPr/>
        </p:nvSpPr>
        <p:spPr>
          <a:xfrm>
            <a:off x="7543800" y="394488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2" name="矩形 17"/>
          <p:cNvSpPr/>
          <p:nvPr/>
        </p:nvSpPr>
        <p:spPr>
          <a:xfrm>
            <a:off x="6993000" y="223344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3" name="矩形 18"/>
          <p:cNvSpPr/>
          <p:nvPr/>
        </p:nvSpPr>
        <p:spPr>
          <a:xfrm>
            <a:off x="6993000" y="250668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4" name="矩形 19"/>
          <p:cNvSpPr/>
          <p:nvPr/>
        </p:nvSpPr>
        <p:spPr>
          <a:xfrm>
            <a:off x="2976480" y="2058840"/>
            <a:ext cx="18115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5" name="矩形 20"/>
          <p:cNvSpPr/>
          <p:nvPr/>
        </p:nvSpPr>
        <p:spPr>
          <a:xfrm>
            <a:off x="1744560" y="2341440"/>
            <a:ext cx="30434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6" name="矩形 21"/>
          <p:cNvSpPr/>
          <p:nvPr/>
        </p:nvSpPr>
        <p:spPr>
          <a:xfrm>
            <a:off x="2428920" y="3578400"/>
            <a:ext cx="1811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7" name="矩形 22"/>
          <p:cNvSpPr/>
          <p:nvPr/>
        </p:nvSpPr>
        <p:spPr>
          <a:xfrm>
            <a:off x="1197000" y="3860640"/>
            <a:ext cx="3043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8" name="矩形 23"/>
          <p:cNvSpPr/>
          <p:nvPr/>
        </p:nvSpPr>
        <p:spPr>
          <a:xfrm>
            <a:off x="3106800" y="4883040"/>
            <a:ext cx="1811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9" name="矩形 24"/>
          <p:cNvSpPr/>
          <p:nvPr/>
        </p:nvSpPr>
        <p:spPr>
          <a:xfrm>
            <a:off x="1874880" y="5167440"/>
            <a:ext cx="3043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81" name="KSO_Shape"/>
          <p:cNvSpPr/>
          <p:nvPr/>
        </p:nvSpPr>
        <p:spPr>
          <a:xfrm>
            <a:off x="3513240" y="1808280"/>
            <a:ext cx="3497040" cy="4435200"/>
          </a:xfrm>
          <a:custGeom>
            <a:avLst/>
            <a:gdLst/>
            <a:ahLst/>
            <a:rect l="l" t="t" r="r" b="b"/>
            <a:pathLst>
              <a:path w="2665412" h="3382963">
                <a:moveTo>
                  <a:pt x="506574" y="2643989"/>
                </a:moveTo>
                <a:lnTo>
                  <a:pt x="493243" y="2644624"/>
                </a:lnTo>
                <a:lnTo>
                  <a:pt x="480230" y="2646210"/>
                </a:lnTo>
                <a:lnTo>
                  <a:pt x="467217" y="2648431"/>
                </a:lnTo>
                <a:lnTo>
                  <a:pt x="454521" y="2650970"/>
                </a:lnTo>
                <a:lnTo>
                  <a:pt x="442460" y="2654460"/>
                </a:lnTo>
                <a:lnTo>
                  <a:pt x="430399" y="2658585"/>
                </a:lnTo>
                <a:lnTo>
                  <a:pt x="418655" y="2663027"/>
                </a:lnTo>
                <a:lnTo>
                  <a:pt x="407229" y="2667786"/>
                </a:lnTo>
                <a:lnTo>
                  <a:pt x="396120" y="2673180"/>
                </a:lnTo>
                <a:lnTo>
                  <a:pt x="385328" y="2679526"/>
                </a:lnTo>
                <a:lnTo>
                  <a:pt x="374854" y="2685872"/>
                </a:lnTo>
                <a:lnTo>
                  <a:pt x="364380" y="2692852"/>
                </a:lnTo>
                <a:lnTo>
                  <a:pt x="354858" y="2700784"/>
                </a:lnTo>
                <a:lnTo>
                  <a:pt x="345336" y="2708717"/>
                </a:lnTo>
                <a:lnTo>
                  <a:pt x="336449" y="2717284"/>
                </a:lnTo>
                <a:lnTo>
                  <a:pt x="327562" y="2725533"/>
                </a:lnTo>
                <a:lnTo>
                  <a:pt x="319310" y="2735052"/>
                </a:lnTo>
                <a:lnTo>
                  <a:pt x="312010" y="2744571"/>
                </a:lnTo>
                <a:lnTo>
                  <a:pt x="304710" y="2754724"/>
                </a:lnTo>
                <a:lnTo>
                  <a:pt x="298044" y="2764878"/>
                </a:lnTo>
                <a:lnTo>
                  <a:pt x="291696" y="2775348"/>
                </a:lnTo>
                <a:lnTo>
                  <a:pt x="285983" y="2786136"/>
                </a:lnTo>
                <a:lnTo>
                  <a:pt x="280905" y="2797241"/>
                </a:lnTo>
                <a:lnTo>
                  <a:pt x="276144" y="2808981"/>
                </a:lnTo>
                <a:lnTo>
                  <a:pt x="272018" y="2820721"/>
                </a:lnTo>
                <a:lnTo>
                  <a:pt x="268209" y="2832461"/>
                </a:lnTo>
                <a:lnTo>
                  <a:pt x="265353" y="2844835"/>
                </a:lnTo>
                <a:lnTo>
                  <a:pt x="263131" y="2857210"/>
                </a:lnTo>
                <a:lnTo>
                  <a:pt x="261226" y="2869584"/>
                </a:lnTo>
                <a:lnTo>
                  <a:pt x="259957" y="2882276"/>
                </a:lnTo>
                <a:lnTo>
                  <a:pt x="259322" y="2895285"/>
                </a:lnTo>
                <a:lnTo>
                  <a:pt x="259639" y="2908294"/>
                </a:lnTo>
                <a:lnTo>
                  <a:pt x="260274" y="2921620"/>
                </a:lnTo>
                <a:lnTo>
                  <a:pt x="261861" y="2934629"/>
                </a:lnTo>
                <a:lnTo>
                  <a:pt x="264083" y="2947638"/>
                </a:lnTo>
                <a:lnTo>
                  <a:pt x="266622" y="2960330"/>
                </a:lnTo>
                <a:lnTo>
                  <a:pt x="270113" y="2972704"/>
                </a:lnTo>
                <a:lnTo>
                  <a:pt x="273922" y="2984444"/>
                </a:lnTo>
                <a:lnTo>
                  <a:pt x="278366" y="2996501"/>
                </a:lnTo>
                <a:lnTo>
                  <a:pt x="283444" y="3007924"/>
                </a:lnTo>
                <a:lnTo>
                  <a:pt x="288840" y="3019029"/>
                </a:lnTo>
                <a:lnTo>
                  <a:pt x="294870" y="3029817"/>
                </a:lnTo>
                <a:lnTo>
                  <a:pt x="301536" y="3040605"/>
                </a:lnTo>
                <a:lnTo>
                  <a:pt x="308836" y="3050441"/>
                </a:lnTo>
                <a:lnTo>
                  <a:pt x="316136" y="3060277"/>
                </a:lnTo>
                <a:lnTo>
                  <a:pt x="323753" y="3069478"/>
                </a:lnTo>
                <a:lnTo>
                  <a:pt x="332323" y="3078680"/>
                </a:lnTo>
                <a:lnTo>
                  <a:pt x="341210" y="3087247"/>
                </a:lnTo>
                <a:lnTo>
                  <a:pt x="350732" y="3095496"/>
                </a:lnTo>
                <a:lnTo>
                  <a:pt x="360254" y="3103429"/>
                </a:lnTo>
                <a:lnTo>
                  <a:pt x="370411" y="3110409"/>
                </a:lnTo>
                <a:lnTo>
                  <a:pt x="380250" y="3117072"/>
                </a:lnTo>
                <a:lnTo>
                  <a:pt x="391041" y="3123418"/>
                </a:lnTo>
                <a:lnTo>
                  <a:pt x="401833" y="3128812"/>
                </a:lnTo>
                <a:lnTo>
                  <a:pt x="412942" y="3134206"/>
                </a:lnTo>
                <a:lnTo>
                  <a:pt x="424685" y="3138965"/>
                </a:lnTo>
                <a:lnTo>
                  <a:pt x="436429" y="3143090"/>
                </a:lnTo>
                <a:lnTo>
                  <a:pt x="448173" y="3146580"/>
                </a:lnTo>
                <a:lnTo>
                  <a:pt x="460551" y="3149753"/>
                </a:lnTo>
                <a:lnTo>
                  <a:pt x="472930" y="3151974"/>
                </a:lnTo>
                <a:lnTo>
                  <a:pt x="485626" y="3153878"/>
                </a:lnTo>
                <a:lnTo>
                  <a:pt x="498004" y="3154830"/>
                </a:lnTo>
                <a:lnTo>
                  <a:pt x="511017" y="3155147"/>
                </a:lnTo>
                <a:lnTo>
                  <a:pt x="524030" y="3155147"/>
                </a:lnTo>
                <a:lnTo>
                  <a:pt x="537044" y="3154513"/>
                </a:lnTo>
                <a:lnTo>
                  <a:pt x="550374" y="3152926"/>
                </a:lnTo>
                <a:lnTo>
                  <a:pt x="563070" y="3150705"/>
                </a:lnTo>
                <a:lnTo>
                  <a:pt x="575766" y="3148167"/>
                </a:lnTo>
                <a:lnTo>
                  <a:pt x="588462" y="3144994"/>
                </a:lnTo>
                <a:lnTo>
                  <a:pt x="600206" y="3141186"/>
                </a:lnTo>
                <a:lnTo>
                  <a:pt x="612267" y="3136744"/>
                </a:lnTo>
                <a:lnTo>
                  <a:pt x="623693" y="3131668"/>
                </a:lnTo>
                <a:lnTo>
                  <a:pt x="634802" y="3125956"/>
                </a:lnTo>
                <a:lnTo>
                  <a:pt x="645593" y="3119928"/>
                </a:lnTo>
                <a:lnTo>
                  <a:pt x="656067" y="3113265"/>
                </a:lnTo>
                <a:lnTo>
                  <a:pt x="665907" y="3106284"/>
                </a:lnTo>
                <a:lnTo>
                  <a:pt x="676063" y="3098986"/>
                </a:lnTo>
                <a:lnTo>
                  <a:pt x="685268" y="3090737"/>
                </a:lnTo>
                <a:lnTo>
                  <a:pt x="694155" y="3082487"/>
                </a:lnTo>
                <a:lnTo>
                  <a:pt x="702725" y="3073603"/>
                </a:lnTo>
                <a:lnTo>
                  <a:pt x="710977" y="3064402"/>
                </a:lnTo>
                <a:lnTo>
                  <a:pt x="718594" y="3054566"/>
                </a:lnTo>
                <a:lnTo>
                  <a:pt x="725894" y="3045047"/>
                </a:lnTo>
                <a:lnTo>
                  <a:pt x="732560" y="3034576"/>
                </a:lnTo>
                <a:lnTo>
                  <a:pt x="738908" y="3023788"/>
                </a:lnTo>
                <a:lnTo>
                  <a:pt x="744621" y="3013000"/>
                </a:lnTo>
                <a:lnTo>
                  <a:pt x="750017" y="3001895"/>
                </a:lnTo>
                <a:lnTo>
                  <a:pt x="754460" y="2990472"/>
                </a:lnTo>
                <a:lnTo>
                  <a:pt x="758586" y="2979050"/>
                </a:lnTo>
                <a:lnTo>
                  <a:pt x="762078" y="2966676"/>
                </a:lnTo>
                <a:lnTo>
                  <a:pt x="765252" y="2954618"/>
                </a:lnTo>
                <a:lnTo>
                  <a:pt x="767473" y="2942244"/>
                </a:lnTo>
                <a:lnTo>
                  <a:pt x="769378" y="2929870"/>
                </a:lnTo>
                <a:lnTo>
                  <a:pt x="770330" y="2916861"/>
                </a:lnTo>
                <a:lnTo>
                  <a:pt x="770965" y="2903852"/>
                </a:lnTo>
                <a:lnTo>
                  <a:pt x="770647" y="2890843"/>
                </a:lnTo>
                <a:lnTo>
                  <a:pt x="770013" y="2877834"/>
                </a:lnTo>
                <a:lnTo>
                  <a:pt x="768426" y="2864507"/>
                </a:lnTo>
                <a:lnTo>
                  <a:pt x="766521" y="2851816"/>
                </a:lnTo>
                <a:lnTo>
                  <a:pt x="763982" y="2839441"/>
                </a:lnTo>
                <a:lnTo>
                  <a:pt x="760808" y="2827067"/>
                </a:lnTo>
                <a:lnTo>
                  <a:pt x="756682" y="2814692"/>
                </a:lnTo>
                <a:lnTo>
                  <a:pt x="752238" y="2802953"/>
                </a:lnTo>
                <a:lnTo>
                  <a:pt x="747160" y="2791530"/>
                </a:lnTo>
                <a:lnTo>
                  <a:pt x="741764" y="2780108"/>
                </a:lnTo>
                <a:lnTo>
                  <a:pt x="735416" y="2769637"/>
                </a:lnTo>
                <a:lnTo>
                  <a:pt x="729068" y="2759166"/>
                </a:lnTo>
                <a:lnTo>
                  <a:pt x="722086" y="2749013"/>
                </a:lnTo>
                <a:lnTo>
                  <a:pt x="714468" y="2739177"/>
                </a:lnTo>
                <a:lnTo>
                  <a:pt x="706533" y="2729658"/>
                </a:lnTo>
                <a:lnTo>
                  <a:pt x="697964" y="2720774"/>
                </a:lnTo>
                <a:lnTo>
                  <a:pt x="689394" y="2712207"/>
                </a:lnTo>
                <a:lnTo>
                  <a:pt x="680189" y="2704275"/>
                </a:lnTo>
                <a:lnTo>
                  <a:pt x="670350" y="2696342"/>
                </a:lnTo>
                <a:lnTo>
                  <a:pt x="660511" y="2689362"/>
                </a:lnTo>
                <a:lnTo>
                  <a:pt x="650037" y="2682382"/>
                </a:lnTo>
                <a:lnTo>
                  <a:pt x="639563" y="2676353"/>
                </a:lnTo>
                <a:lnTo>
                  <a:pt x="628771" y="2670324"/>
                </a:lnTo>
                <a:lnTo>
                  <a:pt x="617662" y="2665248"/>
                </a:lnTo>
                <a:lnTo>
                  <a:pt x="606236" y="2660171"/>
                </a:lnTo>
                <a:lnTo>
                  <a:pt x="594175" y="2656364"/>
                </a:lnTo>
                <a:lnTo>
                  <a:pt x="582431" y="2652873"/>
                </a:lnTo>
                <a:lnTo>
                  <a:pt x="570053" y="2650018"/>
                </a:lnTo>
                <a:lnTo>
                  <a:pt x="557992" y="2647479"/>
                </a:lnTo>
                <a:lnTo>
                  <a:pt x="545296" y="2645576"/>
                </a:lnTo>
                <a:lnTo>
                  <a:pt x="532600" y="2644306"/>
                </a:lnTo>
                <a:lnTo>
                  <a:pt x="519587" y="2643989"/>
                </a:lnTo>
                <a:lnTo>
                  <a:pt x="506574" y="2643989"/>
                </a:lnTo>
                <a:close/>
                <a:moveTo>
                  <a:pt x="552279" y="2413000"/>
                </a:moveTo>
                <a:lnTo>
                  <a:pt x="560214" y="2505650"/>
                </a:lnTo>
                <a:lnTo>
                  <a:pt x="569736" y="2506602"/>
                </a:lnTo>
                <a:lnTo>
                  <a:pt x="578940" y="2508188"/>
                </a:lnTo>
                <a:lnTo>
                  <a:pt x="588779" y="2510092"/>
                </a:lnTo>
                <a:lnTo>
                  <a:pt x="597984" y="2511678"/>
                </a:lnTo>
                <a:lnTo>
                  <a:pt x="607506" y="2513582"/>
                </a:lnTo>
                <a:lnTo>
                  <a:pt x="617028" y="2516120"/>
                </a:lnTo>
                <a:lnTo>
                  <a:pt x="626232" y="2518976"/>
                </a:lnTo>
                <a:lnTo>
                  <a:pt x="635119" y="2521514"/>
                </a:lnTo>
                <a:lnTo>
                  <a:pt x="644006" y="2524370"/>
                </a:lnTo>
                <a:lnTo>
                  <a:pt x="653211" y="2527860"/>
                </a:lnTo>
                <a:lnTo>
                  <a:pt x="661780" y="2531033"/>
                </a:lnTo>
                <a:lnTo>
                  <a:pt x="670668" y="2534841"/>
                </a:lnTo>
                <a:lnTo>
                  <a:pt x="679237" y="2538648"/>
                </a:lnTo>
                <a:lnTo>
                  <a:pt x="687807" y="2542773"/>
                </a:lnTo>
                <a:lnTo>
                  <a:pt x="696377" y="2547215"/>
                </a:lnTo>
                <a:lnTo>
                  <a:pt x="704629" y="2551657"/>
                </a:lnTo>
                <a:lnTo>
                  <a:pt x="764299" y="2480266"/>
                </a:lnTo>
                <a:lnTo>
                  <a:pt x="884275" y="2581165"/>
                </a:lnTo>
                <a:lnTo>
                  <a:pt x="824922" y="2651921"/>
                </a:lnTo>
                <a:lnTo>
                  <a:pt x="830953" y="2659219"/>
                </a:lnTo>
                <a:lnTo>
                  <a:pt x="836348" y="2666517"/>
                </a:lnTo>
                <a:lnTo>
                  <a:pt x="842062" y="2674449"/>
                </a:lnTo>
                <a:lnTo>
                  <a:pt x="847140" y="2682382"/>
                </a:lnTo>
                <a:lnTo>
                  <a:pt x="852536" y="2690314"/>
                </a:lnTo>
                <a:lnTo>
                  <a:pt x="857297" y="2698563"/>
                </a:lnTo>
                <a:lnTo>
                  <a:pt x="862057" y="2706813"/>
                </a:lnTo>
                <a:lnTo>
                  <a:pt x="866501" y="2715380"/>
                </a:lnTo>
                <a:lnTo>
                  <a:pt x="870945" y="2723947"/>
                </a:lnTo>
                <a:lnTo>
                  <a:pt x="875071" y="2732514"/>
                </a:lnTo>
                <a:lnTo>
                  <a:pt x="879197" y="2741398"/>
                </a:lnTo>
                <a:lnTo>
                  <a:pt x="883006" y="2750282"/>
                </a:lnTo>
                <a:lnTo>
                  <a:pt x="886497" y="2759166"/>
                </a:lnTo>
                <a:lnTo>
                  <a:pt x="889671" y="2768050"/>
                </a:lnTo>
                <a:lnTo>
                  <a:pt x="892845" y="2777252"/>
                </a:lnTo>
                <a:lnTo>
                  <a:pt x="896019" y="2786453"/>
                </a:lnTo>
                <a:lnTo>
                  <a:pt x="986794" y="2779156"/>
                </a:lnTo>
                <a:lnTo>
                  <a:pt x="1000125" y="2934629"/>
                </a:lnTo>
                <a:lnTo>
                  <a:pt x="909667" y="2942879"/>
                </a:lnTo>
                <a:lnTo>
                  <a:pt x="908397" y="2952397"/>
                </a:lnTo>
                <a:lnTo>
                  <a:pt x="907128" y="2962233"/>
                </a:lnTo>
                <a:lnTo>
                  <a:pt x="905541" y="2971752"/>
                </a:lnTo>
                <a:lnTo>
                  <a:pt x="903636" y="2981588"/>
                </a:lnTo>
                <a:lnTo>
                  <a:pt x="901415" y="2990790"/>
                </a:lnTo>
                <a:lnTo>
                  <a:pt x="899193" y="3000309"/>
                </a:lnTo>
                <a:lnTo>
                  <a:pt x="896654" y="3009827"/>
                </a:lnTo>
                <a:lnTo>
                  <a:pt x="893797" y="3019029"/>
                </a:lnTo>
                <a:lnTo>
                  <a:pt x="890623" y="3027913"/>
                </a:lnTo>
                <a:lnTo>
                  <a:pt x="887449" y="3036797"/>
                </a:lnTo>
                <a:lnTo>
                  <a:pt x="883958" y="3045999"/>
                </a:lnTo>
                <a:lnTo>
                  <a:pt x="880149" y="3054566"/>
                </a:lnTo>
                <a:lnTo>
                  <a:pt x="876658" y="3063450"/>
                </a:lnTo>
                <a:lnTo>
                  <a:pt x="872532" y="3072017"/>
                </a:lnTo>
                <a:lnTo>
                  <a:pt x="868088" y="3080584"/>
                </a:lnTo>
                <a:lnTo>
                  <a:pt x="863644" y="3089150"/>
                </a:lnTo>
                <a:lnTo>
                  <a:pt x="933154" y="3147532"/>
                </a:lnTo>
                <a:lnTo>
                  <a:pt x="831905" y="3267151"/>
                </a:lnTo>
                <a:lnTo>
                  <a:pt x="763347" y="3209404"/>
                </a:lnTo>
                <a:lnTo>
                  <a:pt x="755730" y="3215433"/>
                </a:lnTo>
                <a:lnTo>
                  <a:pt x="748112" y="3221144"/>
                </a:lnTo>
                <a:lnTo>
                  <a:pt x="740177" y="3226538"/>
                </a:lnTo>
                <a:lnTo>
                  <a:pt x="732560" y="3231615"/>
                </a:lnTo>
                <a:lnTo>
                  <a:pt x="724307" y="3237009"/>
                </a:lnTo>
                <a:lnTo>
                  <a:pt x="716055" y="3242085"/>
                </a:lnTo>
                <a:lnTo>
                  <a:pt x="707485" y="3246527"/>
                </a:lnTo>
                <a:lnTo>
                  <a:pt x="698916" y="3251287"/>
                </a:lnTo>
                <a:lnTo>
                  <a:pt x="690346" y="3256046"/>
                </a:lnTo>
                <a:lnTo>
                  <a:pt x="681459" y="3259854"/>
                </a:lnTo>
                <a:lnTo>
                  <a:pt x="672572" y="3263979"/>
                </a:lnTo>
                <a:lnTo>
                  <a:pt x="663685" y="3267786"/>
                </a:lnTo>
                <a:lnTo>
                  <a:pt x="654480" y="3271276"/>
                </a:lnTo>
                <a:lnTo>
                  <a:pt x="645593" y="3274449"/>
                </a:lnTo>
                <a:lnTo>
                  <a:pt x="635754" y="3277305"/>
                </a:lnTo>
                <a:lnTo>
                  <a:pt x="626549" y="3280478"/>
                </a:lnTo>
                <a:lnTo>
                  <a:pt x="634484" y="3369637"/>
                </a:lnTo>
                <a:lnTo>
                  <a:pt x="478008" y="3382963"/>
                </a:lnTo>
                <a:lnTo>
                  <a:pt x="470390" y="3293804"/>
                </a:lnTo>
                <a:lnTo>
                  <a:pt x="460551" y="3292535"/>
                </a:lnTo>
                <a:lnTo>
                  <a:pt x="451029" y="3291266"/>
                </a:lnTo>
                <a:lnTo>
                  <a:pt x="441190" y="3289362"/>
                </a:lnTo>
                <a:lnTo>
                  <a:pt x="431668" y="3287458"/>
                </a:lnTo>
                <a:lnTo>
                  <a:pt x="421829" y="3285237"/>
                </a:lnTo>
                <a:lnTo>
                  <a:pt x="412624" y="3283016"/>
                </a:lnTo>
                <a:lnTo>
                  <a:pt x="403420" y="3280478"/>
                </a:lnTo>
                <a:lnTo>
                  <a:pt x="394215" y="3277305"/>
                </a:lnTo>
                <a:lnTo>
                  <a:pt x="384693" y="3274449"/>
                </a:lnTo>
                <a:lnTo>
                  <a:pt x="375806" y="3271276"/>
                </a:lnTo>
                <a:lnTo>
                  <a:pt x="366919" y="3267786"/>
                </a:lnTo>
                <a:lnTo>
                  <a:pt x="358032" y="3263979"/>
                </a:lnTo>
                <a:lnTo>
                  <a:pt x="349145" y="3259854"/>
                </a:lnTo>
                <a:lnTo>
                  <a:pt x="340575" y="3256046"/>
                </a:lnTo>
                <a:lnTo>
                  <a:pt x="332006" y="3251921"/>
                </a:lnTo>
                <a:lnTo>
                  <a:pt x="323436" y="3246845"/>
                </a:lnTo>
                <a:lnTo>
                  <a:pt x="265987" y="3315697"/>
                </a:lnTo>
                <a:lnTo>
                  <a:pt x="146012" y="3214798"/>
                </a:lnTo>
                <a:lnTo>
                  <a:pt x="204412" y="3145628"/>
                </a:lnTo>
                <a:lnTo>
                  <a:pt x="198382" y="3138331"/>
                </a:lnTo>
                <a:lnTo>
                  <a:pt x="192669" y="3130398"/>
                </a:lnTo>
                <a:lnTo>
                  <a:pt x="187273" y="3122466"/>
                </a:lnTo>
                <a:lnTo>
                  <a:pt x="181877" y="3114851"/>
                </a:lnTo>
                <a:lnTo>
                  <a:pt x="176799" y="3106602"/>
                </a:lnTo>
                <a:lnTo>
                  <a:pt x="172038" y="3098352"/>
                </a:lnTo>
                <a:lnTo>
                  <a:pt x="167277" y="3089785"/>
                </a:lnTo>
                <a:lnTo>
                  <a:pt x="162834" y="3081853"/>
                </a:lnTo>
                <a:lnTo>
                  <a:pt x="158390" y="3072969"/>
                </a:lnTo>
                <a:lnTo>
                  <a:pt x="154264" y="3064402"/>
                </a:lnTo>
                <a:lnTo>
                  <a:pt x="150455" y="3055517"/>
                </a:lnTo>
                <a:lnTo>
                  <a:pt x="146646" y="3046633"/>
                </a:lnTo>
                <a:lnTo>
                  <a:pt x="143155" y="3037114"/>
                </a:lnTo>
                <a:lnTo>
                  <a:pt x="139664" y="3028230"/>
                </a:lnTo>
                <a:lnTo>
                  <a:pt x="136807" y="3018711"/>
                </a:lnTo>
                <a:lnTo>
                  <a:pt x="133633" y="3009193"/>
                </a:lnTo>
                <a:lnTo>
                  <a:pt x="43175" y="3017125"/>
                </a:lnTo>
                <a:lnTo>
                  <a:pt x="30162" y="2861334"/>
                </a:lnTo>
                <a:lnTo>
                  <a:pt x="121255" y="2853402"/>
                </a:lnTo>
                <a:lnTo>
                  <a:pt x="122207" y="2843249"/>
                </a:lnTo>
                <a:lnTo>
                  <a:pt x="123794" y="2833730"/>
                </a:lnTo>
                <a:lnTo>
                  <a:pt x="125698" y="2824529"/>
                </a:lnTo>
                <a:lnTo>
                  <a:pt x="127285" y="2814692"/>
                </a:lnTo>
                <a:lnTo>
                  <a:pt x="129824" y="2805491"/>
                </a:lnTo>
                <a:lnTo>
                  <a:pt x="132046" y="2796290"/>
                </a:lnTo>
                <a:lnTo>
                  <a:pt x="134903" y="2787088"/>
                </a:lnTo>
                <a:lnTo>
                  <a:pt x="137442" y="2777569"/>
                </a:lnTo>
                <a:lnTo>
                  <a:pt x="140298" y="2768685"/>
                </a:lnTo>
                <a:lnTo>
                  <a:pt x="143790" y="2759801"/>
                </a:lnTo>
                <a:lnTo>
                  <a:pt x="147598" y="2750917"/>
                </a:lnTo>
                <a:lnTo>
                  <a:pt x="151090" y="2742032"/>
                </a:lnTo>
                <a:lnTo>
                  <a:pt x="154899" y="2733466"/>
                </a:lnTo>
                <a:lnTo>
                  <a:pt x="159025" y="2724899"/>
                </a:lnTo>
                <a:lnTo>
                  <a:pt x="167912" y="2707765"/>
                </a:lnTo>
                <a:lnTo>
                  <a:pt x="97450" y="2648749"/>
                </a:lnTo>
                <a:lnTo>
                  <a:pt x="198382" y="2528812"/>
                </a:lnTo>
                <a:lnTo>
                  <a:pt x="269161" y="2588780"/>
                </a:lnTo>
                <a:lnTo>
                  <a:pt x="284079" y="2577675"/>
                </a:lnTo>
                <a:lnTo>
                  <a:pt x="299631" y="2566887"/>
                </a:lnTo>
                <a:lnTo>
                  <a:pt x="307884" y="2561493"/>
                </a:lnTo>
                <a:lnTo>
                  <a:pt x="315819" y="2556734"/>
                </a:lnTo>
                <a:lnTo>
                  <a:pt x="324388" y="2552292"/>
                </a:lnTo>
                <a:lnTo>
                  <a:pt x="332323" y="2547532"/>
                </a:lnTo>
                <a:lnTo>
                  <a:pt x="340893" y="2543407"/>
                </a:lnTo>
                <a:lnTo>
                  <a:pt x="349463" y="2539283"/>
                </a:lnTo>
                <a:lnTo>
                  <a:pt x="358350" y="2535158"/>
                </a:lnTo>
                <a:lnTo>
                  <a:pt x="367237" y="2531350"/>
                </a:lnTo>
                <a:lnTo>
                  <a:pt x="376124" y="2528177"/>
                </a:lnTo>
                <a:lnTo>
                  <a:pt x="385646" y="2524687"/>
                </a:lnTo>
                <a:lnTo>
                  <a:pt x="394533" y="2521832"/>
                </a:lnTo>
                <a:lnTo>
                  <a:pt x="403737" y="2518976"/>
                </a:lnTo>
                <a:lnTo>
                  <a:pt x="396120" y="2426327"/>
                </a:lnTo>
                <a:lnTo>
                  <a:pt x="552279" y="2413000"/>
                </a:lnTo>
                <a:close/>
                <a:moveTo>
                  <a:pt x="1753153" y="2246313"/>
                </a:moveTo>
                <a:lnTo>
                  <a:pt x="1813988" y="2246313"/>
                </a:lnTo>
                <a:lnTo>
                  <a:pt x="1817474" y="2246631"/>
                </a:lnTo>
                <a:lnTo>
                  <a:pt x="1820959" y="2247583"/>
                </a:lnTo>
                <a:lnTo>
                  <a:pt x="1823811" y="2248536"/>
                </a:lnTo>
                <a:lnTo>
                  <a:pt x="1826346" y="2250441"/>
                </a:lnTo>
                <a:lnTo>
                  <a:pt x="1828564" y="2252346"/>
                </a:lnTo>
                <a:lnTo>
                  <a:pt x="1830148" y="2254886"/>
                </a:lnTo>
                <a:lnTo>
                  <a:pt x="1831415" y="2257426"/>
                </a:lnTo>
                <a:lnTo>
                  <a:pt x="1831732" y="2259966"/>
                </a:lnTo>
                <a:lnTo>
                  <a:pt x="1831732" y="2310766"/>
                </a:lnTo>
                <a:lnTo>
                  <a:pt x="1842188" y="2312036"/>
                </a:lnTo>
                <a:lnTo>
                  <a:pt x="1852011" y="2313623"/>
                </a:lnTo>
                <a:lnTo>
                  <a:pt x="1862467" y="2315528"/>
                </a:lnTo>
                <a:lnTo>
                  <a:pt x="1871973" y="2317751"/>
                </a:lnTo>
                <a:lnTo>
                  <a:pt x="1880528" y="2319973"/>
                </a:lnTo>
                <a:lnTo>
                  <a:pt x="1889400" y="2322513"/>
                </a:lnTo>
                <a:lnTo>
                  <a:pt x="1897955" y="2325371"/>
                </a:lnTo>
                <a:lnTo>
                  <a:pt x="1907460" y="2328863"/>
                </a:lnTo>
                <a:lnTo>
                  <a:pt x="1916332" y="2332673"/>
                </a:lnTo>
                <a:lnTo>
                  <a:pt x="1925204" y="2336801"/>
                </a:lnTo>
                <a:lnTo>
                  <a:pt x="1934393" y="2341246"/>
                </a:lnTo>
                <a:lnTo>
                  <a:pt x="1942948" y="2345691"/>
                </a:lnTo>
                <a:lnTo>
                  <a:pt x="1951503" y="2350771"/>
                </a:lnTo>
                <a:lnTo>
                  <a:pt x="1960058" y="2355851"/>
                </a:lnTo>
                <a:lnTo>
                  <a:pt x="1967662" y="2361566"/>
                </a:lnTo>
                <a:lnTo>
                  <a:pt x="1975267" y="2367281"/>
                </a:lnTo>
                <a:lnTo>
                  <a:pt x="1982238" y="2372996"/>
                </a:lnTo>
                <a:lnTo>
                  <a:pt x="1988575" y="2379346"/>
                </a:lnTo>
                <a:lnTo>
                  <a:pt x="1994278" y="2385378"/>
                </a:lnTo>
                <a:lnTo>
                  <a:pt x="1999665" y="2392046"/>
                </a:lnTo>
                <a:lnTo>
                  <a:pt x="2002199" y="2396491"/>
                </a:lnTo>
                <a:lnTo>
                  <a:pt x="2004100" y="2401253"/>
                </a:lnTo>
                <a:lnTo>
                  <a:pt x="2005051" y="2406016"/>
                </a:lnTo>
                <a:lnTo>
                  <a:pt x="2005685" y="2411413"/>
                </a:lnTo>
                <a:lnTo>
                  <a:pt x="2005051" y="2416493"/>
                </a:lnTo>
                <a:lnTo>
                  <a:pt x="2003784" y="2421891"/>
                </a:lnTo>
                <a:lnTo>
                  <a:pt x="2001566" y="2427288"/>
                </a:lnTo>
                <a:lnTo>
                  <a:pt x="1998397" y="2432368"/>
                </a:lnTo>
                <a:lnTo>
                  <a:pt x="1996179" y="2435543"/>
                </a:lnTo>
                <a:lnTo>
                  <a:pt x="1993961" y="2438401"/>
                </a:lnTo>
                <a:lnTo>
                  <a:pt x="1991426" y="2441576"/>
                </a:lnTo>
                <a:lnTo>
                  <a:pt x="1988575" y="2444433"/>
                </a:lnTo>
                <a:lnTo>
                  <a:pt x="1985406" y="2447291"/>
                </a:lnTo>
                <a:lnTo>
                  <a:pt x="1982238" y="2449831"/>
                </a:lnTo>
                <a:lnTo>
                  <a:pt x="1978435" y="2452688"/>
                </a:lnTo>
                <a:lnTo>
                  <a:pt x="1974633" y="2454911"/>
                </a:lnTo>
                <a:lnTo>
                  <a:pt x="1971148" y="2457133"/>
                </a:lnTo>
                <a:lnTo>
                  <a:pt x="1967029" y="2459038"/>
                </a:lnTo>
                <a:lnTo>
                  <a:pt x="1962910" y="2460626"/>
                </a:lnTo>
                <a:lnTo>
                  <a:pt x="1958790" y="2462213"/>
                </a:lnTo>
                <a:lnTo>
                  <a:pt x="1954671" y="2463483"/>
                </a:lnTo>
                <a:lnTo>
                  <a:pt x="1950235" y="2464118"/>
                </a:lnTo>
                <a:lnTo>
                  <a:pt x="1945799" y="2464753"/>
                </a:lnTo>
                <a:lnTo>
                  <a:pt x="1941364" y="2464753"/>
                </a:lnTo>
                <a:lnTo>
                  <a:pt x="1936294" y="2464753"/>
                </a:lnTo>
                <a:lnTo>
                  <a:pt x="1931541" y="2464118"/>
                </a:lnTo>
                <a:lnTo>
                  <a:pt x="1926471" y="2462531"/>
                </a:lnTo>
                <a:lnTo>
                  <a:pt x="1922035" y="2460626"/>
                </a:lnTo>
                <a:lnTo>
                  <a:pt x="1917916" y="2458403"/>
                </a:lnTo>
                <a:lnTo>
                  <a:pt x="1914431" y="2455546"/>
                </a:lnTo>
                <a:lnTo>
                  <a:pt x="1910946" y="2452688"/>
                </a:lnTo>
                <a:lnTo>
                  <a:pt x="1908094" y="2448878"/>
                </a:lnTo>
                <a:lnTo>
                  <a:pt x="1904925" y="2445068"/>
                </a:lnTo>
                <a:lnTo>
                  <a:pt x="1903341" y="2443798"/>
                </a:lnTo>
                <a:lnTo>
                  <a:pt x="1897004" y="2438401"/>
                </a:lnTo>
                <a:lnTo>
                  <a:pt x="1890667" y="2433638"/>
                </a:lnTo>
                <a:lnTo>
                  <a:pt x="1883696" y="2429193"/>
                </a:lnTo>
                <a:lnTo>
                  <a:pt x="1876092" y="2424431"/>
                </a:lnTo>
                <a:lnTo>
                  <a:pt x="1868804" y="2419986"/>
                </a:lnTo>
                <a:lnTo>
                  <a:pt x="1861200" y="2415858"/>
                </a:lnTo>
                <a:lnTo>
                  <a:pt x="1853912" y="2412366"/>
                </a:lnTo>
                <a:lnTo>
                  <a:pt x="1847258" y="2409508"/>
                </a:lnTo>
                <a:lnTo>
                  <a:pt x="1840921" y="2407286"/>
                </a:lnTo>
                <a:lnTo>
                  <a:pt x="1834267" y="2405381"/>
                </a:lnTo>
                <a:lnTo>
                  <a:pt x="1827296" y="2403793"/>
                </a:lnTo>
                <a:lnTo>
                  <a:pt x="1820642" y="2402523"/>
                </a:lnTo>
                <a:lnTo>
                  <a:pt x="1813355" y="2401253"/>
                </a:lnTo>
                <a:lnTo>
                  <a:pt x="1806384" y="2400301"/>
                </a:lnTo>
                <a:lnTo>
                  <a:pt x="1799730" y="2399666"/>
                </a:lnTo>
                <a:lnTo>
                  <a:pt x="1792759" y="2399348"/>
                </a:lnTo>
                <a:lnTo>
                  <a:pt x="1786105" y="2399031"/>
                </a:lnTo>
                <a:lnTo>
                  <a:pt x="1776917" y="2399348"/>
                </a:lnTo>
                <a:lnTo>
                  <a:pt x="1767094" y="2400301"/>
                </a:lnTo>
                <a:lnTo>
                  <a:pt x="1756321" y="2401571"/>
                </a:lnTo>
                <a:lnTo>
                  <a:pt x="1745548" y="2404428"/>
                </a:lnTo>
                <a:lnTo>
                  <a:pt x="1740162" y="2405698"/>
                </a:lnTo>
                <a:lnTo>
                  <a:pt x="1734458" y="2407603"/>
                </a:lnTo>
                <a:lnTo>
                  <a:pt x="1729072" y="2409826"/>
                </a:lnTo>
                <a:lnTo>
                  <a:pt x="1723368" y="2412048"/>
                </a:lnTo>
                <a:lnTo>
                  <a:pt x="1717982" y="2414906"/>
                </a:lnTo>
                <a:lnTo>
                  <a:pt x="1712279" y="2418081"/>
                </a:lnTo>
                <a:lnTo>
                  <a:pt x="1706575" y="2421256"/>
                </a:lnTo>
                <a:lnTo>
                  <a:pt x="1701506" y="2425383"/>
                </a:lnTo>
                <a:lnTo>
                  <a:pt x="1698337" y="2427923"/>
                </a:lnTo>
                <a:lnTo>
                  <a:pt x="1695168" y="2431416"/>
                </a:lnTo>
                <a:lnTo>
                  <a:pt x="1692634" y="2434908"/>
                </a:lnTo>
                <a:lnTo>
                  <a:pt x="1690415" y="2438401"/>
                </a:lnTo>
                <a:lnTo>
                  <a:pt x="1688514" y="2442211"/>
                </a:lnTo>
                <a:lnTo>
                  <a:pt x="1686930" y="2446338"/>
                </a:lnTo>
                <a:lnTo>
                  <a:pt x="1686296" y="2450783"/>
                </a:lnTo>
                <a:lnTo>
                  <a:pt x="1685662" y="2455228"/>
                </a:lnTo>
                <a:lnTo>
                  <a:pt x="1685346" y="2459673"/>
                </a:lnTo>
                <a:lnTo>
                  <a:pt x="1685346" y="2464118"/>
                </a:lnTo>
                <a:lnTo>
                  <a:pt x="1685662" y="2468563"/>
                </a:lnTo>
                <a:lnTo>
                  <a:pt x="1686296" y="2473008"/>
                </a:lnTo>
                <a:lnTo>
                  <a:pt x="1687880" y="2477136"/>
                </a:lnTo>
                <a:lnTo>
                  <a:pt x="1689148" y="2481581"/>
                </a:lnTo>
                <a:lnTo>
                  <a:pt x="1691366" y="2485708"/>
                </a:lnTo>
                <a:lnTo>
                  <a:pt x="1693584" y="2489518"/>
                </a:lnTo>
                <a:lnTo>
                  <a:pt x="1698654" y="2495233"/>
                </a:lnTo>
                <a:lnTo>
                  <a:pt x="1703723" y="2500631"/>
                </a:lnTo>
                <a:lnTo>
                  <a:pt x="1709427" y="2505076"/>
                </a:lnTo>
                <a:lnTo>
                  <a:pt x="1715130" y="2508568"/>
                </a:lnTo>
                <a:lnTo>
                  <a:pt x="1721784" y="2512378"/>
                </a:lnTo>
                <a:lnTo>
                  <a:pt x="1729389" y="2515871"/>
                </a:lnTo>
                <a:lnTo>
                  <a:pt x="1745865" y="2522538"/>
                </a:lnTo>
                <a:lnTo>
                  <a:pt x="1750618" y="2524443"/>
                </a:lnTo>
                <a:lnTo>
                  <a:pt x="1778501" y="2534603"/>
                </a:lnTo>
                <a:lnTo>
                  <a:pt x="1797829" y="2542223"/>
                </a:lnTo>
                <a:lnTo>
                  <a:pt x="1816523" y="2549208"/>
                </a:lnTo>
                <a:lnTo>
                  <a:pt x="1827613" y="2553336"/>
                </a:lnTo>
                <a:lnTo>
                  <a:pt x="1854546" y="2562861"/>
                </a:lnTo>
                <a:lnTo>
                  <a:pt x="1868804" y="2568258"/>
                </a:lnTo>
                <a:lnTo>
                  <a:pt x="1882746" y="2573656"/>
                </a:lnTo>
                <a:lnTo>
                  <a:pt x="1897004" y="2579688"/>
                </a:lnTo>
                <a:lnTo>
                  <a:pt x="1911262" y="2585721"/>
                </a:lnTo>
                <a:lnTo>
                  <a:pt x="1925204" y="2592388"/>
                </a:lnTo>
                <a:lnTo>
                  <a:pt x="1938512" y="2599373"/>
                </a:lnTo>
                <a:lnTo>
                  <a:pt x="1951503" y="2606676"/>
                </a:lnTo>
                <a:lnTo>
                  <a:pt x="1964177" y="2614613"/>
                </a:lnTo>
                <a:lnTo>
                  <a:pt x="1969563" y="2618741"/>
                </a:lnTo>
                <a:lnTo>
                  <a:pt x="1975584" y="2622868"/>
                </a:lnTo>
                <a:lnTo>
                  <a:pt x="1980653" y="2627313"/>
                </a:lnTo>
                <a:lnTo>
                  <a:pt x="1986040" y="2631758"/>
                </a:lnTo>
                <a:lnTo>
                  <a:pt x="1990793" y="2636203"/>
                </a:lnTo>
                <a:lnTo>
                  <a:pt x="1995229" y="2640966"/>
                </a:lnTo>
                <a:lnTo>
                  <a:pt x="1999665" y="2645728"/>
                </a:lnTo>
                <a:lnTo>
                  <a:pt x="2003467" y="2651126"/>
                </a:lnTo>
                <a:lnTo>
                  <a:pt x="2006952" y="2656206"/>
                </a:lnTo>
                <a:lnTo>
                  <a:pt x="2010438" y="2661286"/>
                </a:lnTo>
                <a:lnTo>
                  <a:pt x="2012972" y="2667001"/>
                </a:lnTo>
                <a:lnTo>
                  <a:pt x="2015507" y="2672398"/>
                </a:lnTo>
                <a:lnTo>
                  <a:pt x="2017408" y="2677796"/>
                </a:lnTo>
                <a:lnTo>
                  <a:pt x="2019309" y="2682876"/>
                </a:lnTo>
                <a:lnTo>
                  <a:pt x="2020260" y="2688273"/>
                </a:lnTo>
                <a:lnTo>
                  <a:pt x="2021844" y="2693671"/>
                </a:lnTo>
                <a:lnTo>
                  <a:pt x="2022478" y="2699068"/>
                </a:lnTo>
                <a:lnTo>
                  <a:pt x="2023429" y="2704148"/>
                </a:lnTo>
                <a:lnTo>
                  <a:pt x="2023745" y="2709546"/>
                </a:lnTo>
                <a:lnTo>
                  <a:pt x="2024062" y="2714943"/>
                </a:lnTo>
                <a:lnTo>
                  <a:pt x="2024062" y="2720023"/>
                </a:lnTo>
                <a:lnTo>
                  <a:pt x="2024062" y="2725738"/>
                </a:lnTo>
                <a:lnTo>
                  <a:pt x="2023429" y="2730818"/>
                </a:lnTo>
                <a:lnTo>
                  <a:pt x="2022478" y="2736216"/>
                </a:lnTo>
                <a:lnTo>
                  <a:pt x="2021844" y="2741296"/>
                </a:lnTo>
                <a:lnTo>
                  <a:pt x="2020894" y="2746376"/>
                </a:lnTo>
                <a:lnTo>
                  <a:pt x="2019309" y="2751773"/>
                </a:lnTo>
                <a:lnTo>
                  <a:pt x="2017725" y="2756853"/>
                </a:lnTo>
                <a:lnTo>
                  <a:pt x="2014240" y="2767331"/>
                </a:lnTo>
                <a:lnTo>
                  <a:pt x="2009170" y="2777173"/>
                </a:lnTo>
                <a:lnTo>
                  <a:pt x="2004100" y="2787016"/>
                </a:lnTo>
                <a:lnTo>
                  <a:pt x="1997763" y="2796223"/>
                </a:lnTo>
                <a:lnTo>
                  <a:pt x="1990476" y="2805431"/>
                </a:lnTo>
                <a:lnTo>
                  <a:pt x="1982554" y="2814003"/>
                </a:lnTo>
                <a:lnTo>
                  <a:pt x="1973683" y="2822576"/>
                </a:lnTo>
                <a:lnTo>
                  <a:pt x="1964177" y="2830513"/>
                </a:lnTo>
                <a:lnTo>
                  <a:pt x="1958474" y="2834641"/>
                </a:lnTo>
                <a:lnTo>
                  <a:pt x="1952137" y="2838768"/>
                </a:lnTo>
                <a:lnTo>
                  <a:pt x="1945799" y="2842261"/>
                </a:lnTo>
                <a:lnTo>
                  <a:pt x="1938829" y="2845753"/>
                </a:lnTo>
                <a:lnTo>
                  <a:pt x="1931541" y="2848928"/>
                </a:lnTo>
                <a:lnTo>
                  <a:pt x="1923937" y="2852421"/>
                </a:lnTo>
                <a:lnTo>
                  <a:pt x="1915698" y="2854961"/>
                </a:lnTo>
                <a:lnTo>
                  <a:pt x="1907777" y="2857818"/>
                </a:lnTo>
                <a:lnTo>
                  <a:pt x="1899222" y="2860041"/>
                </a:lnTo>
                <a:lnTo>
                  <a:pt x="1890350" y="2862263"/>
                </a:lnTo>
                <a:lnTo>
                  <a:pt x="1880845" y="2864486"/>
                </a:lnTo>
                <a:lnTo>
                  <a:pt x="1871656" y="2866391"/>
                </a:lnTo>
                <a:lnTo>
                  <a:pt x="1862150" y="2867978"/>
                </a:lnTo>
                <a:lnTo>
                  <a:pt x="1852011" y="2869566"/>
                </a:lnTo>
                <a:lnTo>
                  <a:pt x="1842188" y="2870201"/>
                </a:lnTo>
                <a:lnTo>
                  <a:pt x="1831732" y="2871471"/>
                </a:lnTo>
                <a:lnTo>
                  <a:pt x="1831732" y="2918143"/>
                </a:lnTo>
                <a:lnTo>
                  <a:pt x="1831415" y="2921001"/>
                </a:lnTo>
                <a:lnTo>
                  <a:pt x="1830148" y="2923858"/>
                </a:lnTo>
                <a:lnTo>
                  <a:pt x="1828564" y="2926081"/>
                </a:lnTo>
                <a:lnTo>
                  <a:pt x="1826346" y="2928303"/>
                </a:lnTo>
                <a:lnTo>
                  <a:pt x="1823811" y="2929573"/>
                </a:lnTo>
                <a:lnTo>
                  <a:pt x="1820959" y="2931161"/>
                </a:lnTo>
                <a:lnTo>
                  <a:pt x="1817474" y="2931796"/>
                </a:lnTo>
                <a:lnTo>
                  <a:pt x="1813988" y="2932113"/>
                </a:lnTo>
                <a:lnTo>
                  <a:pt x="1753153" y="2932113"/>
                </a:lnTo>
                <a:lnTo>
                  <a:pt x="1749350" y="2931796"/>
                </a:lnTo>
                <a:lnTo>
                  <a:pt x="1745865" y="2931161"/>
                </a:lnTo>
                <a:lnTo>
                  <a:pt x="1743013" y="2929573"/>
                </a:lnTo>
                <a:lnTo>
                  <a:pt x="1740478" y="2928303"/>
                </a:lnTo>
                <a:lnTo>
                  <a:pt x="1738261" y="2926081"/>
                </a:lnTo>
                <a:lnTo>
                  <a:pt x="1736676" y="2923858"/>
                </a:lnTo>
                <a:lnTo>
                  <a:pt x="1735726" y="2921001"/>
                </a:lnTo>
                <a:lnTo>
                  <a:pt x="1735409" y="2918143"/>
                </a:lnTo>
                <a:lnTo>
                  <a:pt x="1735409" y="2867661"/>
                </a:lnTo>
                <a:lnTo>
                  <a:pt x="1722418" y="2865438"/>
                </a:lnTo>
                <a:lnTo>
                  <a:pt x="1708793" y="2863216"/>
                </a:lnTo>
                <a:lnTo>
                  <a:pt x="1696436" y="2860041"/>
                </a:lnTo>
                <a:lnTo>
                  <a:pt x="1683444" y="2857183"/>
                </a:lnTo>
                <a:lnTo>
                  <a:pt x="1670770" y="2853373"/>
                </a:lnTo>
                <a:lnTo>
                  <a:pt x="1658413" y="2849246"/>
                </a:lnTo>
                <a:lnTo>
                  <a:pt x="1646689" y="2844801"/>
                </a:lnTo>
                <a:lnTo>
                  <a:pt x="1635283" y="2840038"/>
                </a:lnTo>
                <a:lnTo>
                  <a:pt x="1624193" y="2834958"/>
                </a:lnTo>
                <a:lnTo>
                  <a:pt x="1613420" y="2829243"/>
                </a:lnTo>
                <a:lnTo>
                  <a:pt x="1603280" y="2823528"/>
                </a:lnTo>
                <a:lnTo>
                  <a:pt x="1594092" y="2816543"/>
                </a:lnTo>
                <a:lnTo>
                  <a:pt x="1585220" y="2809876"/>
                </a:lnTo>
                <a:lnTo>
                  <a:pt x="1576982" y="2802573"/>
                </a:lnTo>
                <a:lnTo>
                  <a:pt x="1569377" y="2794636"/>
                </a:lnTo>
                <a:lnTo>
                  <a:pt x="1566209" y="2790826"/>
                </a:lnTo>
                <a:lnTo>
                  <a:pt x="1563357" y="2786698"/>
                </a:lnTo>
                <a:lnTo>
                  <a:pt x="1560188" y="2782253"/>
                </a:lnTo>
                <a:lnTo>
                  <a:pt x="1558287" y="2777173"/>
                </a:lnTo>
                <a:lnTo>
                  <a:pt x="1557337" y="2772411"/>
                </a:lnTo>
                <a:lnTo>
                  <a:pt x="1557337" y="2767331"/>
                </a:lnTo>
                <a:lnTo>
                  <a:pt x="1557654" y="2761933"/>
                </a:lnTo>
                <a:lnTo>
                  <a:pt x="1559238" y="2756853"/>
                </a:lnTo>
                <a:lnTo>
                  <a:pt x="1561456" y="2751456"/>
                </a:lnTo>
                <a:lnTo>
                  <a:pt x="1564308" y="2746058"/>
                </a:lnTo>
                <a:lnTo>
                  <a:pt x="1566209" y="2743201"/>
                </a:lnTo>
                <a:lnTo>
                  <a:pt x="1568743" y="2740026"/>
                </a:lnTo>
                <a:lnTo>
                  <a:pt x="1571278" y="2737168"/>
                </a:lnTo>
                <a:lnTo>
                  <a:pt x="1574447" y="2734311"/>
                </a:lnTo>
                <a:lnTo>
                  <a:pt x="1577299" y="2731136"/>
                </a:lnTo>
                <a:lnTo>
                  <a:pt x="1580784" y="2728596"/>
                </a:lnTo>
                <a:lnTo>
                  <a:pt x="1583952" y="2726056"/>
                </a:lnTo>
                <a:lnTo>
                  <a:pt x="1587755" y="2723833"/>
                </a:lnTo>
                <a:lnTo>
                  <a:pt x="1591874" y="2721611"/>
                </a:lnTo>
                <a:lnTo>
                  <a:pt x="1595359" y="2719706"/>
                </a:lnTo>
                <a:lnTo>
                  <a:pt x="1599478" y="2717801"/>
                </a:lnTo>
                <a:lnTo>
                  <a:pt x="1603914" y="2716531"/>
                </a:lnTo>
                <a:lnTo>
                  <a:pt x="1608033" y="2715261"/>
                </a:lnTo>
                <a:lnTo>
                  <a:pt x="1612469" y="2714626"/>
                </a:lnTo>
                <a:lnTo>
                  <a:pt x="1616905" y="2713673"/>
                </a:lnTo>
                <a:lnTo>
                  <a:pt x="1621341" y="2713673"/>
                </a:lnTo>
                <a:lnTo>
                  <a:pt x="1626411" y="2713673"/>
                </a:lnTo>
                <a:lnTo>
                  <a:pt x="1631480" y="2714943"/>
                </a:lnTo>
                <a:lnTo>
                  <a:pt x="1635916" y="2715896"/>
                </a:lnTo>
                <a:lnTo>
                  <a:pt x="1640352" y="2717801"/>
                </a:lnTo>
                <a:lnTo>
                  <a:pt x="1644471" y="2720023"/>
                </a:lnTo>
                <a:lnTo>
                  <a:pt x="1648274" y="2723198"/>
                </a:lnTo>
                <a:lnTo>
                  <a:pt x="1651759" y="2726056"/>
                </a:lnTo>
                <a:lnTo>
                  <a:pt x="1654928" y="2729866"/>
                </a:lnTo>
                <a:lnTo>
                  <a:pt x="1657462" y="2733041"/>
                </a:lnTo>
                <a:lnTo>
                  <a:pt x="1658096" y="2733993"/>
                </a:lnTo>
                <a:lnTo>
                  <a:pt x="1659364" y="2734946"/>
                </a:lnTo>
                <a:lnTo>
                  <a:pt x="1665701" y="2740026"/>
                </a:lnTo>
                <a:lnTo>
                  <a:pt x="1671721" y="2744471"/>
                </a:lnTo>
                <a:lnTo>
                  <a:pt x="1678692" y="2748598"/>
                </a:lnTo>
                <a:lnTo>
                  <a:pt x="1685662" y="2752726"/>
                </a:lnTo>
                <a:lnTo>
                  <a:pt x="1692634" y="2756853"/>
                </a:lnTo>
                <a:lnTo>
                  <a:pt x="1699921" y="2760346"/>
                </a:lnTo>
                <a:lnTo>
                  <a:pt x="1707526" y="2763521"/>
                </a:lnTo>
                <a:lnTo>
                  <a:pt x="1714497" y="2766061"/>
                </a:lnTo>
                <a:lnTo>
                  <a:pt x="1720834" y="2768283"/>
                </a:lnTo>
                <a:lnTo>
                  <a:pt x="1731607" y="2771458"/>
                </a:lnTo>
                <a:lnTo>
                  <a:pt x="1742380" y="2773998"/>
                </a:lnTo>
                <a:lnTo>
                  <a:pt x="1753153" y="2776221"/>
                </a:lnTo>
                <a:lnTo>
                  <a:pt x="1764242" y="2778126"/>
                </a:lnTo>
                <a:lnTo>
                  <a:pt x="1775016" y="2779396"/>
                </a:lnTo>
                <a:lnTo>
                  <a:pt x="1785789" y="2780666"/>
                </a:lnTo>
                <a:lnTo>
                  <a:pt x="1795928" y="2780983"/>
                </a:lnTo>
                <a:lnTo>
                  <a:pt x="1806067" y="2781301"/>
                </a:lnTo>
                <a:lnTo>
                  <a:pt x="1817157" y="2780983"/>
                </a:lnTo>
                <a:lnTo>
                  <a:pt x="1827613" y="2780348"/>
                </a:lnTo>
                <a:lnTo>
                  <a:pt x="1837119" y="2778761"/>
                </a:lnTo>
                <a:lnTo>
                  <a:pt x="1845991" y="2776856"/>
                </a:lnTo>
                <a:lnTo>
                  <a:pt x="1854546" y="2774633"/>
                </a:lnTo>
                <a:lnTo>
                  <a:pt x="1862467" y="2771776"/>
                </a:lnTo>
                <a:lnTo>
                  <a:pt x="1869121" y="2768283"/>
                </a:lnTo>
                <a:lnTo>
                  <a:pt x="1875458" y="2764791"/>
                </a:lnTo>
                <a:lnTo>
                  <a:pt x="1879260" y="2761616"/>
                </a:lnTo>
                <a:lnTo>
                  <a:pt x="1882429" y="2758441"/>
                </a:lnTo>
                <a:lnTo>
                  <a:pt x="1885280" y="2754948"/>
                </a:lnTo>
                <a:lnTo>
                  <a:pt x="1888132" y="2751456"/>
                </a:lnTo>
                <a:lnTo>
                  <a:pt x="1890350" y="2747646"/>
                </a:lnTo>
                <a:lnTo>
                  <a:pt x="1892251" y="2743518"/>
                </a:lnTo>
                <a:lnTo>
                  <a:pt x="1893519" y="2739391"/>
                </a:lnTo>
                <a:lnTo>
                  <a:pt x="1894786" y="2734946"/>
                </a:lnTo>
                <a:lnTo>
                  <a:pt x="1895420" y="2730818"/>
                </a:lnTo>
                <a:lnTo>
                  <a:pt x="1895737" y="2726373"/>
                </a:lnTo>
                <a:lnTo>
                  <a:pt x="1895420" y="2721928"/>
                </a:lnTo>
                <a:lnTo>
                  <a:pt x="1895103" y="2717483"/>
                </a:lnTo>
                <a:lnTo>
                  <a:pt x="1893836" y="2713038"/>
                </a:lnTo>
                <a:lnTo>
                  <a:pt x="1892885" y="2708911"/>
                </a:lnTo>
                <a:lnTo>
                  <a:pt x="1890984" y="2704783"/>
                </a:lnTo>
                <a:lnTo>
                  <a:pt x="1888766" y="2700656"/>
                </a:lnTo>
                <a:lnTo>
                  <a:pt x="1885280" y="2696211"/>
                </a:lnTo>
                <a:lnTo>
                  <a:pt x="1881478" y="2691766"/>
                </a:lnTo>
                <a:lnTo>
                  <a:pt x="1876092" y="2687321"/>
                </a:lnTo>
                <a:lnTo>
                  <a:pt x="1870705" y="2682876"/>
                </a:lnTo>
                <a:lnTo>
                  <a:pt x="1864368" y="2678748"/>
                </a:lnTo>
                <a:lnTo>
                  <a:pt x="1857714" y="2674621"/>
                </a:lnTo>
                <a:lnTo>
                  <a:pt x="1850110" y="2671128"/>
                </a:lnTo>
                <a:lnTo>
                  <a:pt x="1842188" y="2667318"/>
                </a:lnTo>
                <a:lnTo>
                  <a:pt x="1817474" y="2657158"/>
                </a:lnTo>
                <a:lnTo>
                  <a:pt x="1720517" y="2617471"/>
                </a:lnTo>
                <a:lnTo>
                  <a:pt x="1673305" y="2597786"/>
                </a:lnTo>
                <a:lnTo>
                  <a:pt x="1644471" y="2585086"/>
                </a:lnTo>
                <a:lnTo>
                  <a:pt x="1639085" y="2582546"/>
                </a:lnTo>
                <a:lnTo>
                  <a:pt x="1634015" y="2580006"/>
                </a:lnTo>
                <a:lnTo>
                  <a:pt x="1624827" y="2574608"/>
                </a:lnTo>
                <a:lnTo>
                  <a:pt x="1615638" y="2567623"/>
                </a:lnTo>
                <a:lnTo>
                  <a:pt x="1607083" y="2560638"/>
                </a:lnTo>
                <a:lnTo>
                  <a:pt x="1598845" y="2552383"/>
                </a:lnTo>
                <a:lnTo>
                  <a:pt x="1591874" y="2544446"/>
                </a:lnTo>
                <a:lnTo>
                  <a:pt x="1588072" y="2540001"/>
                </a:lnTo>
                <a:lnTo>
                  <a:pt x="1585220" y="2534921"/>
                </a:lnTo>
                <a:lnTo>
                  <a:pt x="1581734" y="2530476"/>
                </a:lnTo>
                <a:lnTo>
                  <a:pt x="1579200" y="2525713"/>
                </a:lnTo>
                <a:lnTo>
                  <a:pt x="1576348" y="2520633"/>
                </a:lnTo>
                <a:lnTo>
                  <a:pt x="1574130" y="2515236"/>
                </a:lnTo>
                <a:lnTo>
                  <a:pt x="1571912" y="2510156"/>
                </a:lnTo>
                <a:lnTo>
                  <a:pt x="1570011" y="2505076"/>
                </a:lnTo>
                <a:lnTo>
                  <a:pt x="1568110" y="2499678"/>
                </a:lnTo>
                <a:lnTo>
                  <a:pt x="1566525" y="2494598"/>
                </a:lnTo>
                <a:lnTo>
                  <a:pt x="1565575" y="2488883"/>
                </a:lnTo>
                <a:lnTo>
                  <a:pt x="1564624" y="2483803"/>
                </a:lnTo>
                <a:lnTo>
                  <a:pt x="1563991" y="2478088"/>
                </a:lnTo>
                <a:lnTo>
                  <a:pt x="1563674" y="2473008"/>
                </a:lnTo>
                <a:lnTo>
                  <a:pt x="1563357" y="2467293"/>
                </a:lnTo>
                <a:lnTo>
                  <a:pt x="1563674" y="2461896"/>
                </a:lnTo>
                <a:lnTo>
                  <a:pt x="1563991" y="2456816"/>
                </a:lnTo>
                <a:lnTo>
                  <a:pt x="1564308" y="2451101"/>
                </a:lnTo>
                <a:lnTo>
                  <a:pt x="1565575" y="2446021"/>
                </a:lnTo>
                <a:lnTo>
                  <a:pt x="1566525" y="2440306"/>
                </a:lnTo>
                <a:lnTo>
                  <a:pt x="1567793" y="2435226"/>
                </a:lnTo>
                <a:lnTo>
                  <a:pt x="1569060" y="2429828"/>
                </a:lnTo>
                <a:lnTo>
                  <a:pt x="1570961" y="2424748"/>
                </a:lnTo>
                <a:lnTo>
                  <a:pt x="1573179" y="2419668"/>
                </a:lnTo>
                <a:lnTo>
                  <a:pt x="1575397" y="2414271"/>
                </a:lnTo>
                <a:lnTo>
                  <a:pt x="1577932" y="2409191"/>
                </a:lnTo>
                <a:lnTo>
                  <a:pt x="1580784" y="2404428"/>
                </a:lnTo>
                <a:lnTo>
                  <a:pt x="1583636" y="2399031"/>
                </a:lnTo>
                <a:lnTo>
                  <a:pt x="1586804" y="2394268"/>
                </a:lnTo>
                <a:lnTo>
                  <a:pt x="1590290" y="2389506"/>
                </a:lnTo>
                <a:lnTo>
                  <a:pt x="1594092" y="2385061"/>
                </a:lnTo>
                <a:lnTo>
                  <a:pt x="1598211" y="2379981"/>
                </a:lnTo>
                <a:lnTo>
                  <a:pt x="1602013" y="2375536"/>
                </a:lnTo>
                <a:lnTo>
                  <a:pt x="1606766" y="2371091"/>
                </a:lnTo>
                <a:lnTo>
                  <a:pt x="1611202" y="2367281"/>
                </a:lnTo>
                <a:lnTo>
                  <a:pt x="1615955" y="2363153"/>
                </a:lnTo>
                <a:lnTo>
                  <a:pt x="1621658" y="2358073"/>
                </a:lnTo>
                <a:lnTo>
                  <a:pt x="1627678" y="2353628"/>
                </a:lnTo>
                <a:lnTo>
                  <a:pt x="1634015" y="2349818"/>
                </a:lnTo>
                <a:lnTo>
                  <a:pt x="1640669" y="2345691"/>
                </a:lnTo>
                <a:lnTo>
                  <a:pt x="1647323" y="2341881"/>
                </a:lnTo>
                <a:lnTo>
                  <a:pt x="1654294" y="2338071"/>
                </a:lnTo>
                <a:lnTo>
                  <a:pt x="1661898" y="2334896"/>
                </a:lnTo>
                <a:lnTo>
                  <a:pt x="1669186" y="2331403"/>
                </a:lnTo>
                <a:lnTo>
                  <a:pt x="1676790" y="2328546"/>
                </a:lnTo>
                <a:lnTo>
                  <a:pt x="1684395" y="2325371"/>
                </a:lnTo>
                <a:lnTo>
                  <a:pt x="1692634" y="2322831"/>
                </a:lnTo>
                <a:lnTo>
                  <a:pt x="1700872" y="2320608"/>
                </a:lnTo>
                <a:lnTo>
                  <a:pt x="1709427" y="2318386"/>
                </a:lnTo>
                <a:lnTo>
                  <a:pt x="1717982" y="2316163"/>
                </a:lnTo>
                <a:lnTo>
                  <a:pt x="1726220" y="2314893"/>
                </a:lnTo>
                <a:lnTo>
                  <a:pt x="1735409" y="2312988"/>
                </a:lnTo>
                <a:lnTo>
                  <a:pt x="1735409" y="2259966"/>
                </a:lnTo>
                <a:lnTo>
                  <a:pt x="1735726" y="2257426"/>
                </a:lnTo>
                <a:lnTo>
                  <a:pt x="1736676" y="2254886"/>
                </a:lnTo>
                <a:lnTo>
                  <a:pt x="1738261" y="2252346"/>
                </a:lnTo>
                <a:lnTo>
                  <a:pt x="1740478" y="2250441"/>
                </a:lnTo>
                <a:lnTo>
                  <a:pt x="1743013" y="2248536"/>
                </a:lnTo>
                <a:lnTo>
                  <a:pt x="1745865" y="2247583"/>
                </a:lnTo>
                <a:lnTo>
                  <a:pt x="1749350" y="2246631"/>
                </a:lnTo>
                <a:lnTo>
                  <a:pt x="1753153" y="2246313"/>
                </a:lnTo>
                <a:close/>
                <a:moveTo>
                  <a:pt x="1796891" y="2159710"/>
                </a:moveTo>
                <a:lnTo>
                  <a:pt x="1786093" y="2160028"/>
                </a:lnTo>
                <a:lnTo>
                  <a:pt x="1775296" y="2160663"/>
                </a:lnTo>
                <a:lnTo>
                  <a:pt x="1764817" y="2161298"/>
                </a:lnTo>
                <a:lnTo>
                  <a:pt x="1754337" y="2162251"/>
                </a:lnTo>
                <a:lnTo>
                  <a:pt x="1743540" y="2163839"/>
                </a:lnTo>
                <a:lnTo>
                  <a:pt x="1733695" y="2165427"/>
                </a:lnTo>
                <a:lnTo>
                  <a:pt x="1723216" y="2167332"/>
                </a:lnTo>
                <a:lnTo>
                  <a:pt x="1712736" y="2169555"/>
                </a:lnTo>
                <a:lnTo>
                  <a:pt x="1702892" y="2171778"/>
                </a:lnTo>
                <a:lnTo>
                  <a:pt x="1692730" y="2174318"/>
                </a:lnTo>
                <a:lnTo>
                  <a:pt x="1683202" y="2177177"/>
                </a:lnTo>
                <a:lnTo>
                  <a:pt x="1673040" y="2180352"/>
                </a:lnTo>
                <a:lnTo>
                  <a:pt x="1663513" y="2183528"/>
                </a:lnTo>
                <a:lnTo>
                  <a:pt x="1653669" y="2187021"/>
                </a:lnTo>
                <a:lnTo>
                  <a:pt x="1644460" y="2190514"/>
                </a:lnTo>
                <a:lnTo>
                  <a:pt x="1635250" y="2194643"/>
                </a:lnTo>
                <a:lnTo>
                  <a:pt x="1625723" y="2198771"/>
                </a:lnTo>
                <a:lnTo>
                  <a:pt x="1616514" y="2203217"/>
                </a:lnTo>
                <a:lnTo>
                  <a:pt x="1607622" y="2207663"/>
                </a:lnTo>
                <a:lnTo>
                  <a:pt x="1598730" y="2213061"/>
                </a:lnTo>
                <a:lnTo>
                  <a:pt x="1589839" y="2217825"/>
                </a:lnTo>
                <a:lnTo>
                  <a:pt x="1581264" y="2222906"/>
                </a:lnTo>
                <a:lnTo>
                  <a:pt x="1572690" y="2228622"/>
                </a:lnTo>
                <a:lnTo>
                  <a:pt x="1564116" y="2234020"/>
                </a:lnTo>
                <a:lnTo>
                  <a:pt x="1555859" y="2240054"/>
                </a:lnTo>
                <a:lnTo>
                  <a:pt x="1547920" y="2246088"/>
                </a:lnTo>
                <a:lnTo>
                  <a:pt x="1539981" y="2252439"/>
                </a:lnTo>
                <a:lnTo>
                  <a:pt x="1532042" y="2258473"/>
                </a:lnTo>
                <a:lnTo>
                  <a:pt x="1524420" y="2265459"/>
                </a:lnTo>
                <a:lnTo>
                  <a:pt x="1517117" y="2272128"/>
                </a:lnTo>
                <a:lnTo>
                  <a:pt x="1509495" y="2279114"/>
                </a:lnTo>
                <a:lnTo>
                  <a:pt x="1502509" y="2286101"/>
                </a:lnTo>
                <a:lnTo>
                  <a:pt x="1495522" y="2293405"/>
                </a:lnTo>
                <a:lnTo>
                  <a:pt x="1488853" y="2301026"/>
                </a:lnTo>
                <a:lnTo>
                  <a:pt x="1482185" y="2308648"/>
                </a:lnTo>
                <a:lnTo>
                  <a:pt x="1475833" y="2316269"/>
                </a:lnTo>
                <a:lnTo>
                  <a:pt x="1469482" y="2324526"/>
                </a:lnTo>
                <a:lnTo>
                  <a:pt x="1463131" y="2332465"/>
                </a:lnTo>
                <a:lnTo>
                  <a:pt x="1457415" y="2340722"/>
                </a:lnTo>
                <a:lnTo>
                  <a:pt x="1451698" y="2348978"/>
                </a:lnTo>
                <a:lnTo>
                  <a:pt x="1446300" y="2357553"/>
                </a:lnTo>
                <a:lnTo>
                  <a:pt x="1440901" y="2366444"/>
                </a:lnTo>
                <a:lnTo>
                  <a:pt x="1435820" y="2375019"/>
                </a:lnTo>
                <a:lnTo>
                  <a:pt x="1431057" y="2383910"/>
                </a:lnTo>
                <a:lnTo>
                  <a:pt x="1426293" y="2393120"/>
                </a:lnTo>
                <a:lnTo>
                  <a:pt x="1421847" y="2402012"/>
                </a:lnTo>
                <a:lnTo>
                  <a:pt x="1417719" y="2411221"/>
                </a:lnTo>
                <a:lnTo>
                  <a:pt x="1413591" y="2421065"/>
                </a:lnTo>
                <a:lnTo>
                  <a:pt x="1410098" y="2430592"/>
                </a:lnTo>
                <a:lnTo>
                  <a:pt x="1406287" y="2440437"/>
                </a:lnTo>
                <a:lnTo>
                  <a:pt x="1403111" y="2449964"/>
                </a:lnTo>
                <a:lnTo>
                  <a:pt x="1399936" y="2460126"/>
                </a:lnTo>
                <a:lnTo>
                  <a:pt x="1397395" y="2469653"/>
                </a:lnTo>
                <a:lnTo>
                  <a:pt x="1394855" y="2480132"/>
                </a:lnTo>
                <a:lnTo>
                  <a:pt x="1391996" y="2490294"/>
                </a:lnTo>
                <a:lnTo>
                  <a:pt x="1390091" y="2500456"/>
                </a:lnTo>
                <a:lnTo>
                  <a:pt x="1388503" y="2510936"/>
                </a:lnTo>
                <a:lnTo>
                  <a:pt x="1386598" y="2521416"/>
                </a:lnTo>
                <a:lnTo>
                  <a:pt x="1385328" y="2532213"/>
                </a:lnTo>
                <a:lnTo>
                  <a:pt x="1384375" y="2542692"/>
                </a:lnTo>
                <a:lnTo>
                  <a:pt x="1383422" y="2553172"/>
                </a:lnTo>
                <a:lnTo>
                  <a:pt x="1382787" y="2564604"/>
                </a:lnTo>
                <a:lnTo>
                  <a:pt x="1382787" y="2575401"/>
                </a:lnTo>
                <a:lnTo>
                  <a:pt x="1382787" y="2585881"/>
                </a:lnTo>
                <a:lnTo>
                  <a:pt x="1382787" y="2596678"/>
                </a:lnTo>
                <a:lnTo>
                  <a:pt x="1383422" y="2607475"/>
                </a:lnTo>
                <a:lnTo>
                  <a:pt x="1384375" y="2617955"/>
                </a:lnTo>
                <a:lnTo>
                  <a:pt x="1385328" y="2628434"/>
                </a:lnTo>
                <a:lnTo>
                  <a:pt x="1386598" y="2638914"/>
                </a:lnTo>
                <a:lnTo>
                  <a:pt x="1388503" y="2649076"/>
                </a:lnTo>
                <a:lnTo>
                  <a:pt x="1390091" y="2659556"/>
                </a:lnTo>
                <a:lnTo>
                  <a:pt x="1391996" y="2669718"/>
                </a:lnTo>
                <a:lnTo>
                  <a:pt x="1394855" y="2680197"/>
                </a:lnTo>
                <a:lnTo>
                  <a:pt x="1397077" y="2690042"/>
                </a:lnTo>
                <a:lnTo>
                  <a:pt x="1399936" y="2699886"/>
                </a:lnTo>
                <a:lnTo>
                  <a:pt x="1402794" y="2709731"/>
                </a:lnTo>
                <a:lnTo>
                  <a:pt x="1406287" y="2719575"/>
                </a:lnTo>
                <a:lnTo>
                  <a:pt x="1409462" y="2729102"/>
                </a:lnTo>
                <a:lnTo>
                  <a:pt x="1413591" y="2738312"/>
                </a:lnTo>
                <a:lnTo>
                  <a:pt x="1417402" y="2748156"/>
                </a:lnTo>
                <a:lnTo>
                  <a:pt x="1421847" y="2757048"/>
                </a:lnTo>
                <a:lnTo>
                  <a:pt x="1425976" y="2766257"/>
                </a:lnTo>
                <a:lnTo>
                  <a:pt x="1430739" y="2775149"/>
                </a:lnTo>
                <a:lnTo>
                  <a:pt x="1435503" y="2784041"/>
                </a:lnTo>
                <a:lnTo>
                  <a:pt x="1440266" y="2792932"/>
                </a:lnTo>
                <a:lnTo>
                  <a:pt x="1445982" y="2801507"/>
                </a:lnTo>
                <a:lnTo>
                  <a:pt x="1451063" y="2810081"/>
                </a:lnTo>
                <a:lnTo>
                  <a:pt x="1456779" y="2818655"/>
                </a:lnTo>
                <a:lnTo>
                  <a:pt x="1462813" y="2826912"/>
                </a:lnTo>
                <a:lnTo>
                  <a:pt x="1468529" y="2834851"/>
                </a:lnTo>
                <a:lnTo>
                  <a:pt x="1474881" y="2842790"/>
                </a:lnTo>
                <a:lnTo>
                  <a:pt x="1481549" y="2850729"/>
                </a:lnTo>
                <a:lnTo>
                  <a:pt x="1487901" y="2858351"/>
                </a:lnTo>
                <a:lnTo>
                  <a:pt x="1494887" y="2865972"/>
                </a:lnTo>
                <a:lnTo>
                  <a:pt x="1501873" y="2873276"/>
                </a:lnTo>
                <a:lnTo>
                  <a:pt x="1509177" y="2880262"/>
                </a:lnTo>
                <a:lnTo>
                  <a:pt x="1516164" y="2887249"/>
                </a:lnTo>
                <a:lnTo>
                  <a:pt x="1524103" y="2894235"/>
                </a:lnTo>
                <a:lnTo>
                  <a:pt x="1531407" y="2900904"/>
                </a:lnTo>
                <a:lnTo>
                  <a:pt x="1539346" y="2907255"/>
                </a:lnTo>
                <a:lnTo>
                  <a:pt x="1546968" y="2913289"/>
                </a:lnTo>
                <a:lnTo>
                  <a:pt x="1555224" y="2919323"/>
                </a:lnTo>
                <a:lnTo>
                  <a:pt x="1563481" y="2925356"/>
                </a:lnTo>
                <a:lnTo>
                  <a:pt x="1572055" y="2930755"/>
                </a:lnTo>
                <a:lnTo>
                  <a:pt x="1580629" y="2936471"/>
                </a:lnTo>
                <a:lnTo>
                  <a:pt x="1589203" y="2941552"/>
                </a:lnTo>
                <a:lnTo>
                  <a:pt x="1598095" y="2946951"/>
                </a:lnTo>
                <a:lnTo>
                  <a:pt x="1606987" y="2951714"/>
                </a:lnTo>
                <a:lnTo>
                  <a:pt x="1615879" y="2956478"/>
                </a:lnTo>
                <a:lnTo>
                  <a:pt x="1625088" y="2960606"/>
                </a:lnTo>
                <a:lnTo>
                  <a:pt x="1634298" y="2965052"/>
                </a:lnTo>
                <a:lnTo>
                  <a:pt x="1643824" y="2969180"/>
                </a:lnTo>
                <a:lnTo>
                  <a:pt x="1653351" y="2972991"/>
                </a:lnTo>
                <a:lnTo>
                  <a:pt x="1662878" y="2976167"/>
                </a:lnTo>
                <a:lnTo>
                  <a:pt x="1672723" y="2979660"/>
                </a:lnTo>
                <a:lnTo>
                  <a:pt x="1682567" y="2982518"/>
                </a:lnTo>
                <a:lnTo>
                  <a:pt x="1692730" y="2985376"/>
                </a:lnTo>
                <a:lnTo>
                  <a:pt x="1702892" y="2988234"/>
                </a:lnTo>
                <a:lnTo>
                  <a:pt x="1713054" y="2990457"/>
                </a:lnTo>
                <a:lnTo>
                  <a:pt x="1723216" y="2992680"/>
                </a:lnTo>
                <a:lnTo>
                  <a:pt x="1733695" y="2994585"/>
                </a:lnTo>
                <a:lnTo>
                  <a:pt x="1744493" y="2995856"/>
                </a:lnTo>
                <a:lnTo>
                  <a:pt x="1754655" y="2997443"/>
                </a:lnTo>
                <a:lnTo>
                  <a:pt x="1765452" y="2998396"/>
                </a:lnTo>
                <a:lnTo>
                  <a:pt x="1776249" y="2999349"/>
                </a:lnTo>
                <a:lnTo>
                  <a:pt x="1787046" y="2999666"/>
                </a:lnTo>
                <a:lnTo>
                  <a:pt x="1797843" y="2999984"/>
                </a:lnTo>
                <a:lnTo>
                  <a:pt x="1808958" y="2999984"/>
                </a:lnTo>
                <a:lnTo>
                  <a:pt x="1819438" y="2999666"/>
                </a:lnTo>
                <a:lnTo>
                  <a:pt x="1830235" y="2999349"/>
                </a:lnTo>
                <a:lnTo>
                  <a:pt x="1841032" y="2998396"/>
                </a:lnTo>
                <a:lnTo>
                  <a:pt x="1851512" y="2997443"/>
                </a:lnTo>
                <a:lnTo>
                  <a:pt x="1861674" y="2995856"/>
                </a:lnTo>
                <a:lnTo>
                  <a:pt x="1872153" y="2994585"/>
                </a:lnTo>
                <a:lnTo>
                  <a:pt x="1882633" y="2992680"/>
                </a:lnTo>
                <a:lnTo>
                  <a:pt x="1892795" y="2990457"/>
                </a:lnTo>
                <a:lnTo>
                  <a:pt x="1902639" y="2988234"/>
                </a:lnTo>
                <a:lnTo>
                  <a:pt x="1912801" y="2985376"/>
                </a:lnTo>
                <a:lnTo>
                  <a:pt x="1922646" y="2982836"/>
                </a:lnTo>
                <a:lnTo>
                  <a:pt x="1932490" y="2979660"/>
                </a:lnTo>
                <a:lnTo>
                  <a:pt x="1942017" y="2976484"/>
                </a:lnTo>
                <a:lnTo>
                  <a:pt x="1951862" y="2972991"/>
                </a:lnTo>
                <a:lnTo>
                  <a:pt x="1961389" y="2969180"/>
                </a:lnTo>
                <a:lnTo>
                  <a:pt x="1970598" y="2965052"/>
                </a:lnTo>
                <a:lnTo>
                  <a:pt x="1980125" y="2960924"/>
                </a:lnTo>
                <a:lnTo>
                  <a:pt x="1989334" y="2956478"/>
                </a:lnTo>
                <a:lnTo>
                  <a:pt x="1998226" y="2952032"/>
                </a:lnTo>
                <a:lnTo>
                  <a:pt x="2007118" y="2947268"/>
                </a:lnTo>
                <a:lnTo>
                  <a:pt x="2016010" y="2942187"/>
                </a:lnTo>
                <a:lnTo>
                  <a:pt x="2024584" y="2936789"/>
                </a:lnTo>
                <a:lnTo>
                  <a:pt x="2033158" y="2931390"/>
                </a:lnTo>
                <a:lnTo>
                  <a:pt x="2041415" y="2925674"/>
                </a:lnTo>
                <a:lnTo>
                  <a:pt x="2049354" y="2919640"/>
                </a:lnTo>
                <a:lnTo>
                  <a:pt x="2057610" y="2913924"/>
                </a:lnTo>
                <a:lnTo>
                  <a:pt x="2065867" y="2907573"/>
                </a:lnTo>
                <a:lnTo>
                  <a:pt x="2073489" y="2901222"/>
                </a:lnTo>
                <a:lnTo>
                  <a:pt x="2081110" y="2894553"/>
                </a:lnTo>
                <a:lnTo>
                  <a:pt x="2088414" y="2887884"/>
                </a:lnTo>
                <a:lnTo>
                  <a:pt x="2096036" y="2880580"/>
                </a:lnTo>
                <a:lnTo>
                  <a:pt x="2103022" y="2873594"/>
                </a:lnTo>
                <a:lnTo>
                  <a:pt x="2110008" y="2866290"/>
                </a:lnTo>
                <a:lnTo>
                  <a:pt x="2116677" y="2858668"/>
                </a:lnTo>
                <a:lnTo>
                  <a:pt x="2123346" y="2851364"/>
                </a:lnTo>
                <a:lnTo>
                  <a:pt x="2130015" y="2843425"/>
                </a:lnTo>
                <a:lnTo>
                  <a:pt x="2136049" y="2835804"/>
                </a:lnTo>
                <a:lnTo>
                  <a:pt x="2142400" y="2827547"/>
                </a:lnTo>
                <a:lnTo>
                  <a:pt x="2148434" y="2819290"/>
                </a:lnTo>
                <a:lnTo>
                  <a:pt x="2153832" y="2810716"/>
                </a:lnTo>
                <a:lnTo>
                  <a:pt x="2159548" y="2802459"/>
                </a:lnTo>
                <a:lnTo>
                  <a:pt x="2164629" y="2793885"/>
                </a:lnTo>
                <a:lnTo>
                  <a:pt x="2169393" y="2784993"/>
                </a:lnTo>
                <a:lnTo>
                  <a:pt x="2174474" y="2775784"/>
                </a:lnTo>
                <a:lnTo>
                  <a:pt x="2179237" y="2766892"/>
                </a:lnTo>
                <a:lnTo>
                  <a:pt x="2183683" y="2757683"/>
                </a:lnTo>
                <a:lnTo>
                  <a:pt x="2187811" y="2748474"/>
                </a:lnTo>
                <a:lnTo>
                  <a:pt x="2191622" y="2739264"/>
                </a:lnTo>
                <a:lnTo>
                  <a:pt x="2195433" y="2729420"/>
                </a:lnTo>
                <a:lnTo>
                  <a:pt x="2199244" y="2719893"/>
                </a:lnTo>
                <a:lnTo>
                  <a:pt x="2202102" y="2710048"/>
                </a:lnTo>
                <a:lnTo>
                  <a:pt x="2205595" y="2700204"/>
                </a:lnTo>
                <a:lnTo>
                  <a:pt x="2208136" y="2690042"/>
                </a:lnTo>
                <a:lnTo>
                  <a:pt x="2210676" y="2680197"/>
                </a:lnTo>
                <a:lnTo>
                  <a:pt x="2213217" y="2669718"/>
                </a:lnTo>
                <a:lnTo>
                  <a:pt x="2215122" y="2659556"/>
                </a:lnTo>
                <a:lnTo>
                  <a:pt x="2217027" y="2649076"/>
                </a:lnTo>
                <a:lnTo>
                  <a:pt x="2218615" y="2638279"/>
                </a:lnTo>
                <a:lnTo>
                  <a:pt x="2219885" y="2628117"/>
                </a:lnTo>
                <a:lnTo>
                  <a:pt x="2221156" y="2617320"/>
                </a:lnTo>
                <a:lnTo>
                  <a:pt x="2221791" y="2606523"/>
                </a:lnTo>
                <a:lnTo>
                  <a:pt x="2222743" y="2595725"/>
                </a:lnTo>
                <a:lnTo>
                  <a:pt x="2222743" y="2584611"/>
                </a:lnTo>
                <a:lnTo>
                  <a:pt x="2222743" y="2573814"/>
                </a:lnTo>
                <a:lnTo>
                  <a:pt x="2222743" y="2563016"/>
                </a:lnTo>
                <a:lnTo>
                  <a:pt x="2221791" y="2552537"/>
                </a:lnTo>
                <a:lnTo>
                  <a:pt x="2221156" y="2541740"/>
                </a:lnTo>
                <a:lnTo>
                  <a:pt x="2219885" y="2531260"/>
                </a:lnTo>
                <a:lnTo>
                  <a:pt x="2218933" y="2521098"/>
                </a:lnTo>
                <a:lnTo>
                  <a:pt x="2217027" y="2510618"/>
                </a:lnTo>
                <a:lnTo>
                  <a:pt x="2215122" y="2500139"/>
                </a:lnTo>
                <a:lnTo>
                  <a:pt x="2213217" y="2490294"/>
                </a:lnTo>
                <a:lnTo>
                  <a:pt x="2210994" y="2479815"/>
                </a:lnTo>
                <a:lnTo>
                  <a:pt x="2208453" y="2469970"/>
                </a:lnTo>
                <a:lnTo>
                  <a:pt x="2205595" y="2460126"/>
                </a:lnTo>
                <a:lnTo>
                  <a:pt x="2202419" y="2449964"/>
                </a:lnTo>
                <a:lnTo>
                  <a:pt x="2199244" y="2440437"/>
                </a:lnTo>
                <a:lnTo>
                  <a:pt x="2195751" y="2430910"/>
                </a:lnTo>
                <a:lnTo>
                  <a:pt x="2192257" y="2421383"/>
                </a:lnTo>
                <a:lnTo>
                  <a:pt x="2188129" y="2412174"/>
                </a:lnTo>
                <a:lnTo>
                  <a:pt x="2184001" y="2402964"/>
                </a:lnTo>
                <a:lnTo>
                  <a:pt x="2179555" y="2393437"/>
                </a:lnTo>
                <a:lnTo>
                  <a:pt x="2174791" y="2384546"/>
                </a:lnTo>
                <a:lnTo>
                  <a:pt x="2169710" y="2375654"/>
                </a:lnTo>
                <a:lnTo>
                  <a:pt x="2164947" y="2366762"/>
                </a:lnTo>
                <a:lnTo>
                  <a:pt x="2159866" y="2358188"/>
                </a:lnTo>
                <a:lnTo>
                  <a:pt x="2154150" y="2349614"/>
                </a:lnTo>
                <a:lnTo>
                  <a:pt x="2148751" y="2341357"/>
                </a:lnTo>
                <a:lnTo>
                  <a:pt x="2142717" y="2333418"/>
                </a:lnTo>
                <a:lnTo>
                  <a:pt x="2136684" y="2325161"/>
                </a:lnTo>
                <a:lnTo>
                  <a:pt x="2130332" y="2316905"/>
                </a:lnTo>
                <a:lnTo>
                  <a:pt x="2124299" y="2309283"/>
                </a:lnTo>
                <a:lnTo>
                  <a:pt x="2117312" y="2301661"/>
                </a:lnTo>
                <a:lnTo>
                  <a:pt x="2110643" y="2294357"/>
                </a:lnTo>
                <a:lnTo>
                  <a:pt x="2103657" y="2286736"/>
                </a:lnTo>
                <a:lnTo>
                  <a:pt x="2096671" y="2279750"/>
                </a:lnTo>
                <a:lnTo>
                  <a:pt x="2089367" y="2272763"/>
                </a:lnTo>
                <a:lnTo>
                  <a:pt x="2081745" y="2265777"/>
                </a:lnTo>
                <a:lnTo>
                  <a:pt x="2074124" y="2259425"/>
                </a:lnTo>
                <a:lnTo>
                  <a:pt x="2066185" y="2252757"/>
                </a:lnTo>
                <a:lnTo>
                  <a:pt x="2058245" y="2246405"/>
                </a:lnTo>
                <a:lnTo>
                  <a:pt x="2050306" y="2240372"/>
                </a:lnTo>
                <a:lnTo>
                  <a:pt x="2042050" y="2234338"/>
                </a:lnTo>
                <a:lnTo>
                  <a:pt x="2033793" y="2228939"/>
                </a:lnTo>
                <a:lnTo>
                  <a:pt x="2025219" y="2223223"/>
                </a:lnTo>
                <a:lnTo>
                  <a:pt x="2016327" y="2218142"/>
                </a:lnTo>
                <a:lnTo>
                  <a:pt x="2007753" y="2213061"/>
                </a:lnTo>
                <a:lnTo>
                  <a:pt x="1998861" y="2207980"/>
                </a:lnTo>
                <a:lnTo>
                  <a:pt x="1989652" y="2203534"/>
                </a:lnTo>
                <a:lnTo>
                  <a:pt x="1980760" y="2199088"/>
                </a:lnTo>
                <a:lnTo>
                  <a:pt x="1971551" y="2194643"/>
                </a:lnTo>
                <a:lnTo>
                  <a:pt x="1961706" y="2190832"/>
                </a:lnTo>
                <a:lnTo>
                  <a:pt x="1952179" y="2187021"/>
                </a:lnTo>
                <a:lnTo>
                  <a:pt x="1942335" y="2183528"/>
                </a:lnTo>
                <a:lnTo>
                  <a:pt x="1932808" y="2180352"/>
                </a:lnTo>
                <a:lnTo>
                  <a:pt x="1922963" y="2177177"/>
                </a:lnTo>
                <a:lnTo>
                  <a:pt x="1913119" y="2174318"/>
                </a:lnTo>
                <a:lnTo>
                  <a:pt x="1902639" y="2171778"/>
                </a:lnTo>
                <a:lnTo>
                  <a:pt x="1892795" y="2169555"/>
                </a:lnTo>
                <a:lnTo>
                  <a:pt x="1882315" y="2167332"/>
                </a:lnTo>
                <a:lnTo>
                  <a:pt x="1871836" y="2165427"/>
                </a:lnTo>
                <a:lnTo>
                  <a:pt x="1861356" y="2163839"/>
                </a:lnTo>
                <a:lnTo>
                  <a:pt x="1850559" y="2162251"/>
                </a:lnTo>
                <a:lnTo>
                  <a:pt x="1840397" y="2161298"/>
                </a:lnTo>
                <a:lnTo>
                  <a:pt x="1829600" y="2160663"/>
                </a:lnTo>
                <a:lnTo>
                  <a:pt x="1818167" y="2160028"/>
                </a:lnTo>
                <a:lnTo>
                  <a:pt x="1807688" y="2159710"/>
                </a:lnTo>
                <a:lnTo>
                  <a:pt x="1796891" y="2159710"/>
                </a:lnTo>
                <a:close/>
                <a:moveTo>
                  <a:pt x="1703527" y="1784350"/>
                </a:moveTo>
                <a:lnTo>
                  <a:pt x="1960753" y="1793877"/>
                </a:lnTo>
                <a:lnTo>
                  <a:pt x="1955037" y="1945990"/>
                </a:lnTo>
                <a:lnTo>
                  <a:pt x="1970280" y="1950118"/>
                </a:lnTo>
                <a:lnTo>
                  <a:pt x="1985841" y="1954247"/>
                </a:lnTo>
                <a:lnTo>
                  <a:pt x="2000766" y="1959010"/>
                </a:lnTo>
                <a:lnTo>
                  <a:pt x="2016010" y="1963774"/>
                </a:lnTo>
                <a:lnTo>
                  <a:pt x="2030935" y="1969172"/>
                </a:lnTo>
                <a:lnTo>
                  <a:pt x="2045225" y="1975206"/>
                </a:lnTo>
                <a:lnTo>
                  <a:pt x="2059833" y="1980922"/>
                </a:lnTo>
                <a:lnTo>
                  <a:pt x="2074441" y="1987273"/>
                </a:lnTo>
                <a:lnTo>
                  <a:pt x="2088414" y="1993942"/>
                </a:lnTo>
                <a:lnTo>
                  <a:pt x="2102069" y="2001246"/>
                </a:lnTo>
                <a:lnTo>
                  <a:pt x="2116042" y="2008550"/>
                </a:lnTo>
                <a:lnTo>
                  <a:pt x="2129697" y="2016172"/>
                </a:lnTo>
                <a:lnTo>
                  <a:pt x="2143035" y="2024111"/>
                </a:lnTo>
                <a:lnTo>
                  <a:pt x="2156055" y="2032367"/>
                </a:lnTo>
                <a:lnTo>
                  <a:pt x="2169075" y="2041259"/>
                </a:lnTo>
                <a:lnTo>
                  <a:pt x="2181778" y="2050151"/>
                </a:lnTo>
                <a:lnTo>
                  <a:pt x="2293243" y="1945990"/>
                </a:lnTo>
                <a:lnTo>
                  <a:pt x="2468220" y="2134941"/>
                </a:lnTo>
                <a:lnTo>
                  <a:pt x="2357390" y="2237831"/>
                </a:lnTo>
                <a:lnTo>
                  <a:pt x="2365330" y="2251169"/>
                </a:lnTo>
                <a:lnTo>
                  <a:pt x="2373269" y="2264507"/>
                </a:lnTo>
                <a:lnTo>
                  <a:pt x="2380573" y="2278162"/>
                </a:lnTo>
                <a:lnTo>
                  <a:pt x="2387559" y="2292135"/>
                </a:lnTo>
                <a:lnTo>
                  <a:pt x="2394228" y="2306107"/>
                </a:lnTo>
                <a:lnTo>
                  <a:pt x="2400897" y="2320715"/>
                </a:lnTo>
                <a:lnTo>
                  <a:pt x="2406930" y="2335323"/>
                </a:lnTo>
                <a:lnTo>
                  <a:pt x="2412647" y="2349614"/>
                </a:lnTo>
                <a:lnTo>
                  <a:pt x="2418045" y="2364539"/>
                </a:lnTo>
                <a:lnTo>
                  <a:pt x="2423444" y="2379465"/>
                </a:lnTo>
                <a:lnTo>
                  <a:pt x="2427890" y="2394708"/>
                </a:lnTo>
                <a:lnTo>
                  <a:pt x="2432335" y="2409951"/>
                </a:lnTo>
                <a:lnTo>
                  <a:pt x="2435829" y="2425194"/>
                </a:lnTo>
                <a:lnTo>
                  <a:pt x="2439639" y="2440754"/>
                </a:lnTo>
                <a:lnTo>
                  <a:pt x="2443133" y="2456315"/>
                </a:lnTo>
                <a:lnTo>
                  <a:pt x="2445673" y="2472193"/>
                </a:lnTo>
                <a:lnTo>
                  <a:pt x="2595563" y="2477909"/>
                </a:lnTo>
                <a:lnTo>
                  <a:pt x="2586354" y="2735136"/>
                </a:lnTo>
                <a:lnTo>
                  <a:pt x="2437099" y="2729420"/>
                </a:lnTo>
                <a:lnTo>
                  <a:pt x="2432971" y="2744980"/>
                </a:lnTo>
                <a:lnTo>
                  <a:pt x="2428842" y="2760541"/>
                </a:lnTo>
                <a:lnTo>
                  <a:pt x="2424079" y="2776419"/>
                </a:lnTo>
                <a:lnTo>
                  <a:pt x="2419315" y="2791027"/>
                </a:lnTo>
                <a:lnTo>
                  <a:pt x="2413599" y="2806270"/>
                </a:lnTo>
                <a:lnTo>
                  <a:pt x="2408201" y="2821196"/>
                </a:lnTo>
                <a:lnTo>
                  <a:pt x="2402167" y="2835804"/>
                </a:lnTo>
                <a:lnTo>
                  <a:pt x="2395816" y="2850094"/>
                </a:lnTo>
                <a:lnTo>
                  <a:pt x="2388829" y="2864702"/>
                </a:lnTo>
                <a:lnTo>
                  <a:pt x="2381525" y="2878992"/>
                </a:lnTo>
                <a:lnTo>
                  <a:pt x="2374221" y="2892647"/>
                </a:lnTo>
                <a:lnTo>
                  <a:pt x="2366917" y="2906303"/>
                </a:lnTo>
                <a:lnTo>
                  <a:pt x="2358661" y="2919640"/>
                </a:lnTo>
                <a:lnTo>
                  <a:pt x="2350404" y="2932978"/>
                </a:lnTo>
                <a:lnTo>
                  <a:pt x="2341512" y="2945998"/>
                </a:lnTo>
                <a:lnTo>
                  <a:pt x="2332620" y="2958701"/>
                </a:lnTo>
                <a:lnTo>
                  <a:pt x="2433606" y="3067625"/>
                </a:lnTo>
                <a:lnTo>
                  <a:pt x="2245290" y="3242603"/>
                </a:lnTo>
                <a:lnTo>
                  <a:pt x="2144940" y="3134949"/>
                </a:lnTo>
                <a:lnTo>
                  <a:pt x="2131285" y="3143205"/>
                </a:lnTo>
                <a:lnTo>
                  <a:pt x="2117947" y="3150509"/>
                </a:lnTo>
                <a:lnTo>
                  <a:pt x="2103657" y="3157813"/>
                </a:lnTo>
                <a:lnTo>
                  <a:pt x="2089684" y="3165117"/>
                </a:lnTo>
                <a:lnTo>
                  <a:pt x="2075394" y="3172103"/>
                </a:lnTo>
                <a:lnTo>
                  <a:pt x="2061104" y="3178455"/>
                </a:lnTo>
                <a:lnTo>
                  <a:pt x="2046496" y="3184488"/>
                </a:lnTo>
                <a:lnTo>
                  <a:pt x="2031570" y="3190205"/>
                </a:lnTo>
                <a:lnTo>
                  <a:pt x="2016645" y="3195603"/>
                </a:lnTo>
                <a:lnTo>
                  <a:pt x="2001402" y="3200684"/>
                </a:lnTo>
                <a:lnTo>
                  <a:pt x="1986159" y="3205448"/>
                </a:lnTo>
                <a:lnTo>
                  <a:pt x="1970598" y="3209576"/>
                </a:lnTo>
                <a:lnTo>
                  <a:pt x="1955037" y="3213704"/>
                </a:lnTo>
                <a:lnTo>
                  <a:pt x="1939477" y="3217515"/>
                </a:lnTo>
                <a:lnTo>
                  <a:pt x="1923916" y="3220373"/>
                </a:lnTo>
                <a:lnTo>
                  <a:pt x="1908038" y="3223231"/>
                </a:lnTo>
                <a:lnTo>
                  <a:pt x="1902322" y="3370263"/>
                </a:lnTo>
                <a:lnTo>
                  <a:pt x="1645095" y="3360736"/>
                </a:lnTo>
                <a:lnTo>
                  <a:pt x="1650493" y="3213704"/>
                </a:lnTo>
                <a:lnTo>
                  <a:pt x="1634615" y="3209576"/>
                </a:lnTo>
                <a:lnTo>
                  <a:pt x="1619054" y="3205130"/>
                </a:lnTo>
                <a:lnTo>
                  <a:pt x="1603494" y="3200684"/>
                </a:lnTo>
                <a:lnTo>
                  <a:pt x="1588251" y="3195603"/>
                </a:lnTo>
                <a:lnTo>
                  <a:pt x="1573325" y="3189887"/>
                </a:lnTo>
                <a:lnTo>
                  <a:pt x="1558717" y="3184488"/>
                </a:lnTo>
                <a:lnTo>
                  <a:pt x="1543792" y="3178137"/>
                </a:lnTo>
                <a:lnTo>
                  <a:pt x="1529184" y="3171786"/>
                </a:lnTo>
                <a:lnTo>
                  <a:pt x="1515211" y="3164482"/>
                </a:lnTo>
                <a:lnTo>
                  <a:pt x="1500921" y="3157496"/>
                </a:lnTo>
                <a:lnTo>
                  <a:pt x="1486948" y="3150192"/>
                </a:lnTo>
                <a:lnTo>
                  <a:pt x="1472975" y="3142252"/>
                </a:lnTo>
                <a:lnTo>
                  <a:pt x="1459637" y="3134313"/>
                </a:lnTo>
                <a:lnTo>
                  <a:pt x="1446300" y="3125739"/>
                </a:lnTo>
                <a:lnTo>
                  <a:pt x="1433280" y="3117165"/>
                </a:lnTo>
                <a:lnTo>
                  <a:pt x="1420577" y="3107638"/>
                </a:lnTo>
                <a:lnTo>
                  <a:pt x="1312606" y="3207988"/>
                </a:lnTo>
                <a:lnTo>
                  <a:pt x="1137310" y="3019673"/>
                </a:lnTo>
                <a:lnTo>
                  <a:pt x="1245917" y="2918688"/>
                </a:lnTo>
                <a:lnTo>
                  <a:pt x="1238296" y="2905350"/>
                </a:lnTo>
                <a:lnTo>
                  <a:pt x="1230357" y="2891377"/>
                </a:lnTo>
                <a:lnTo>
                  <a:pt x="1223053" y="2877722"/>
                </a:lnTo>
                <a:lnTo>
                  <a:pt x="1216066" y="2863749"/>
                </a:lnTo>
                <a:lnTo>
                  <a:pt x="1209397" y="2849459"/>
                </a:lnTo>
                <a:lnTo>
                  <a:pt x="1203046" y="2834851"/>
                </a:lnTo>
                <a:lnTo>
                  <a:pt x="1197012" y="2820560"/>
                </a:lnTo>
                <a:lnTo>
                  <a:pt x="1191296" y="2805635"/>
                </a:lnTo>
                <a:lnTo>
                  <a:pt x="1186215" y="2790710"/>
                </a:lnTo>
                <a:lnTo>
                  <a:pt x="1181134" y="2775466"/>
                </a:lnTo>
                <a:lnTo>
                  <a:pt x="1176688" y="2760223"/>
                </a:lnTo>
                <a:lnTo>
                  <a:pt x="1172560" y="2744980"/>
                </a:lnTo>
                <a:lnTo>
                  <a:pt x="1168432" y="2729420"/>
                </a:lnTo>
                <a:lnTo>
                  <a:pt x="1164938" y="2713859"/>
                </a:lnTo>
                <a:lnTo>
                  <a:pt x="1161763" y="2697981"/>
                </a:lnTo>
                <a:lnTo>
                  <a:pt x="1159222" y="2682420"/>
                </a:lnTo>
                <a:lnTo>
                  <a:pt x="1009650" y="2676704"/>
                </a:lnTo>
                <a:lnTo>
                  <a:pt x="1019494" y="2419478"/>
                </a:lnTo>
                <a:lnTo>
                  <a:pt x="1169384" y="2425194"/>
                </a:lnTo>
                <a:lnTo>
                  <a:pt x="1173513" y="2409633"/>
                </a:lnTo>
                <a:lnTo>
                  <a:pt x="1177641" y="2393755"/>
                </a:lnTo>
                <a:lnTo>
                  <a:pt x="1182404" y="2378512"/>
                </a:lnTo>
                <a:lnTo>
                  <a:pt x="1187803" y="2363904"/>
                </a:lnTo>
                <a:lnTo>
                  <a:pt x="1193202" y="2348978"/>
                </a:lnTo>
                <a:lnTo>
                  <a:pt x="1198918" y="2334053"/>
                </a:lnTo>
                <a:lnTo>
                  <a:pt x="1205269" y="2319445"/>
                </a:lnTo>
                <a:lnTo>
                  <a:pt x="1211620" y="2305155"/>
                </a:lnTo>
                <a:lnTo>
                  <a:pt x="1218607" y="2290864"/>
                </a:lnTo>
                <a:lnTo>
                  <a:pt x="1225593" y="2277209"/>
                </a:lnTo>
                <a:lnTo>
                  <a:pt x="1233215" y="2263554"/>
                </a:lnTo>
                <a:lnTo>
                  <a:pt x="1240836" y="2249581"/>
                </a:lnTo>
                <a:lnTo>
                  <a:pt x="1248775" y="2236243"/>
                </a:lnTo>
                <a:lnTo>
                  <a:pt x="1257349" y="2223223"/>
                </a:lnTo>
                <a:lnTo>
                  <a:pt x="1265606" y="2210203"/>
                </a:lnTo>
                <a:lnTo>
                  <a:pt x="1274815" y="2197818"/>
                </a:lnTo>
                <a:lnTo>
                  <a:pt x="1171607" y="2086988"/>
                </a:lnTo>
                <a:lnTo>
                  <a:pt x="1360558" y="1912011"/>
                </a:lnTo>
                <a:lnTo>
                  <a:pt x="1464083" y="2023476"/>
                </a:lnTo>
                <a:lnTo>
                  <a:pt x="1477421" y="2015537"/>
                </a:lnTo>
                <a:lnTo>
                  <a:pt x="1491076" y="2007915"/>
                </a:lnTo>
                <a:lnTo>
                  <a:pt x="1504732" y="2000611"/>
                </a:lnTo>
                <a:lnTo>
                  <a:pt x="1518387" y="1993625"/>
                </a:lnTo>
                <a:lnTo>
                  <a:pt x="1532677" y="1986956"/>
                </a:lnTo>
                <a:lnTo>
                  <a:pt x="1546650" y="1980605"/>
                </a:lnTo>
                <a:lnTo>
                  <a:pt x="1561258" y="1974571"/>
                </a:lnTo>
                <a:lnTo>
                  <a:pt x="1575548" y="1969172"/>
                </a:lnTo>
                <a:lnTo>
                  <a:pt x="1590474" y="1963774"/>
                </a:lnTo>
                <a:lnTo>
                  <a:pt x="1605399" y="1958693"/>
                </a:lnTo>
                <a:lnTo>
                  <a:pt x="1620325" y="1954247"/>
                </a:lnTo>
                <a:lnTo>
                  <a:pt x="1635568" y="1950118"/>
                </a:lnTo>
                <a:lnTo>
                  <a:pt x="1650811" y="1945990"/>
                </a:lnTo>
                <a:lnTo>
                  <a:pt x="1666371" y="1942815"/>
                </a:lnTo>
                <a:lnTo>
                  <a:pt x="1681932" y="1939321"/>
                </a:lnTo>
                <a:lnTo>
                  <a:pt x="1697493" y="1936781"/>
                </a:lnTo>
                <a:lnTo>
                  <a:pt x="1703527" y="1784350"/>
                </a:lnTo>
                <a:close/>
                <a:moveTo>
                  <a:pt x="499967" y="1495425"/>
                </a:moveTo>
                <a:lnTo>
                  <a:pt x="512673" y="1507816"/>
                </a:lnTo>
                <a:lnTo>
                  <a:pt x="526015" y="1520207"/>
                </a:lnTo>
                <a:lnTo>
                  <a:pt x="540309" y="1532916"/>
                </a:lnTo>
                <a:lnTo>
                  <a:pt x="555557" y="1545307"/>
                </a:lnTo>
                <a:lnTo>
                  <a:pt x="571122" y="1557381"/>
                </a:lnTo>
                <a:lnTo>
                  <a:pt x="587958" y="1569136"/>
                </a:lnTo>
                <a:lnTo>
                  <a:pt x="596217" y="1574220"/>
                </a:lnTo>
                <a:lnTo>
                  <a:pt x="604794" y="1579939"/>
                </a:lnTo>
                <a:lnTo>
                  <a:pt x="613371" y="1584705"/>
                </a:lnTo>
                <a:lnTo>
                  <a:pt x="622265" y="1589788"/>
                </a:lnTo>
                <a:lnTo>
                  <a:pt x="639736" y="1608851"/>
                </a:lnTo>
                <a:lnTo>
                  <a:pt x="657525" y="1628868"/>
                </a:lnTo>
                <a:lnTo>
                  <a:pt x="692150" y="1668583"/>
                </a:lnTo>
                <a:lnTo>
                  <a:pt x="641960" y="1916723"/>
                </a:lnTo>
                <a:lnTo>
                  <a:pt x="640054" y="1924030"/>
                </a:lnTo>
                <a:lnTo>
                  <a:pt x="637830" y="1931338"/>
                </a:lnTo>
                <a:lnTo>
                  <a:pt x="635289" y="1938328"/>
                </a:lnTo>
                <a:lnTo>
                  <a:pt x="631795" y="1945000"/>
                </a:lnTo>
                <a:lnTo>
                  <a:pt x="628618" y="1951672"/>
                </a:lnTo>
                <a:lnTo>
                  <a:pt x="624489" y="1958026"/>
                </a:lnTo>
                <a:lnTo>
                  <a:pt x="620041" y="1963745"/>
                </a:lnTo>
                <a:lnTo>
                  <a:pt x="615277" y="1969464"/>
                </a:lnTo>
                <a:lnTo>
                  <a:pt x="247746" y="2374875"/>
                </a:lnTo>
                <a:lnTo>
                  <a:pt x="244252" y="2379323"/>
                </a:lnTo>
                <a:lnTo>
                  <a:pt x="240122" y="2382818"/>
                </a:lnTo>
                <a:lnTo>
                  <a:pt x="235675" y="2386631"/>
                </a:lnTo>
                <a:lnTo>
                  <a:pt x="231228" y="2390126"/>
                </a:lnTo>
                <a:lnTo>
                  <a:pt x="226781" y="2393303"/>
                </a:lnTo>
                <a:lnTo>
                  <a:pt x="222334" y="2395845"/>
                </a:lnTo>
                <a:lnTo>
                  <a:pt x="217251" y="2399022"/>
                </a:lnTo>
                <a:lnTo>
                  <a:pt x="212486" y="2401246"/>
                </a:lnTo>
                <a:lnTo>
                  <a:pt x="207404" y="2403470"/>
                </a:lnTo>
                <a:lnTo>
                  <a:pt x="202639" y="2405377"/>
                </a:lnTo>
                <a:lnTo>
                  <a:pt x="197239" y="2406965"/>
                </a:lnTo>
                <a:lnTo>
                  <a:pt x="192156" y="2408236"/>
                </a:lnTo>
                <a:lnTo>
                  <a:pt x="187074" y="2409189"/>
                </a:lnTo>
                <a:lnTo>
                  <a:pt x="181673" y="2410460"/>
                </a:lnTo>
                <a:lnTo>
                  <a:pt x="176273" y="2411095"/>
                </a:lnTo>
                <a:lnTo>
                  <a:pt x="170873" y="2411413"/>
                </a:lnTo>
                <a:lnTo>
                  <a:pt x="165473" y="2411413"/>
                </a:lnTo>
                <a:lnTo>
                  <a:pt x="160073" y="2411413"/>
                </a:lnTo>
                <a:lnTo>
                  <a:pt x="154990" y="2411095"/>
                </a:lnTo>
                <a:lnTo>
                  <a:pt x="149272" y="2410460"/>
                </a:lnTo>
                <a:lnTo>
                  <a:pt x="144190" y="2409825"/>
                </a:lnTo>
                <a:lnTo>
                  <a:pt x="139107" y="2408554"/>
                </a:lnTo>
                <a:lnTo>
                  <a:pt x="133707" y="2406965"/>
                </a:lnTo>
                <a:lnTo>
                  <a:pt x="128625" y="2405377"/>
                </a:lnTo>
                <a:lnTo>
                  <a:pt x="123224" y="2403470"/>
                </a:lnTo>
                <a:lnTo>
                  <a:pt x="118459" y="2401246"/>
                </a:lnTo>
                <a:lnTo>
                  <a:pt x="113377" y="2399022"/>
                </a:lnTo>
                <a:lnTo>
                  <a:pt x="108612" y="2395845"/>
                </a:lnTo>
                <a:lnTo>
                  <a:pt x="104165" y="2392985"/>
                </a:lnTo>
                <a:lnTo>
                  <a:pt x="99082" y="2390126"/>
                </a:lnTo>
                <a:lnTo>
                  <a:pt x="94635" y="2386313"/>
                </a:lnTo>
                <a:lnTo>
                  <a:pt x="90506" y="2382501"/>
                </a:lnTo>
                <a:lnTo>
                  <a:pt x="86058" y="2378688"/>
                </a:lnTo>
                <a:lnTo>
                  <a:pt x="82564" y="2374875"/>
                </a:lnTo>
                <a:lnTo>
                  <a:pt x="78752" y="2370427"/>
                </a:lnTo>
                <a:lnTo>
                  <a:pt x="75258" y="2365661"/>
                </a:lnTo>
                <a:lnTo>
                  <a:pt x="72081" y="2361213"/>
                </a:lnTo>
                <a:lnTo>
                  <a:pt x="69222" y="2356448"/>
                </a:lnTo>
                <a:lnTo>
                  <a:pt x="66364" y="2351999"/>
                </a:lnTo>
                <a:lnTo>
                  <a:pt x="64140" y="2346916"/>
                </a:lnTo>
                <a:lnTo>
                  <a:pt x="61916" y="2342150"/>
                </a:lnTo>
                <a:lnTo>
                  <a:pt x="60328" y="2336749"/>
                </a:lnTo>
                <a:lnTo>
                  <a:pt x="58422" y="2331983"/>
                </a:lnTo>
                <a:lnTo>
                  <a:pt x="57151" y="2326900"/>
                </a:lnTo>
                <a:lnTo>
                  <a:pt x="55563" y="2321498"/>
                </a:lnTo>
                <a:lnTo>
                  <a:pt x="54928" y="2316097"/>
                </a:lnTo>
                <a:lnTo>
                  <a:pt x="54293" y="2310696"/>
                </a:lnTo>
                <a:lnTo>
                  <a:pt x="53975" y="2305612"/>
                </a:lnTo>
                <a:lnTo>
                  <a:pt x="53975" y="2299893"/>
                </a:lnTo>
                <a:lnTo>
                  <a:pt x="53975" y="2294810"/>
                </a:lnTo>
                <a:lnTo>
                  <a:pt x="54293" y="2289726"/>
                </a:lnTo>
                <a:lnTo>
                  <a:pt x="54928" y="2284007"/>
                </a:lnTo>
                <a:lnTo>
                  <a:pt x="55563" y="2278924"/>
                </a:lnTo>
                <a:lnTo>
                  <a:pt x="56834" y="2273523"/>
                </a:lnTo>
                <a:lnTo>
                  <a:pt x="58422" y="2268439"/>
                </a:lnTo>
                <a:lnTo>
                  <a:pt x="60328" y="2263355"/>
                </a:lnTo>
                <a:lnTo>
                  <a:pt x="61916" y="2257954"/>
                </a:lnTo>
                <a:lnTo>
                  <a:pt x="64140" y="2253188"/>
                </a:lnTo>
                <a:lnTo>
                  <a:pt x="66364" y="2248105"/>
                </a:lnTo>
                <a:lnTo>
                  <a:pt x="69222" y="2243021"/>
                </a:lnTo>
                <a:lnTo>
                  <a:pt x="72081" y="2238573"/>
                </a:lnTo>
                <a:lnTo>
                  <a:pt x="75258" y="2233807"/>
                </a:lnTo>
                <a:lnTo>
                  <a:pt x="78752" y="2229359"/>
                </a:lnTo>
                <a:lnTo>
                  <a:pt x="82882" y="2224911"/>
                </a:lnTo>
                <a:lnTo>
                  <a:pt x="429129" y="1842376"/>
                </a:lnTo>
                <a:lnTo>
                  <a:pt x="499967" y="1495425"/>
                </a:lnTo>
                <a:close/>
                <a:moveTo>
                  <a:pt x="2178844" y="1055220"/>
                </a:moveTo>
                <a:lnTo>
                  <a:pt x="2166450" y="1055537"/>
                </a:lnTo>
                <a:lnTo>
                  <a:pt x="2154055" y="1056172"/>
                </a:lnTo>
                <a:lnTo>
                  <a:pt x="2141978" y="1058076"/>
                </a:lnTo>
                <a:lnTo>
                  <a:pt x="2129584" y="1059979"/>
                </a:lnTo>
                <a:lnTo>
                  <a:pt x="2117507" y="1062518"/>
                </a:lnTo>
                <a:lnTo>
                  <a:pt x="2105430" y="1066008"/>
                </a:lnTo>
                <a:lnTo>
                  <a:pt x="2093671" y="1070133"/>
                </a:lnTo>
                <a:lnTo>
                  <a:pt x="2081594" y="1074575"/>
                </a:lnTo>
                <a:lnTo>
                  <a:pt x="2070153" y="1079334"/>
                </a:lnTo>
                <a:lnTo>
                  <a:pt x="2058712" y="1085363"/>
                </a:lnTo>
                <a:lnTo>
                  <a:pt x="2047588" y="1091709"/>
                </a:lnTo>
                <a:lnTo>
                  <a:pt x="2036783" y="1098372"/>
                </a:lnTo>
                <a:lnTo>
                  <a:pt x="2025977" y="1105987"/>
                </a:lnTo>
                <a:lnTo>
                  <a:pt x="2015490" y="1114236"/>
                </a:lnTo>
                <a:lnTo>
                  <a:pt x="2005320" y="1122803"/>
                </a:lnTo>
                <a:lnTo>
                  <a:pt x="1996103" y="1132005"/>
                </a:lnTo>
                <a:lnTo>
                  <a:pt x="1987204" y="1141206"/>
                </a:lnTo>
                <a:lnTo>
                  <a:pt x="1978941" y="1151042"/>
                </a:lnTo>
                <a:lnTo>
                  <a:pt x="1971314" y="1161513"/>
                </a:lnTo>
                <a:lnTo>
                  <a:pt x="1964322" y="1171666"/>
                </a:lnTo>
                <a:lnTo>
                  <a:pt x="1957330" y="1182454"/>
                </a:lnTo>
                <a:lnTo>
                  <a:pt x="1951610" y="1193242"/>
                </a:lnTo>
                <a:lnTo>
                  <a:pt x="1945889" y="1204348"/>
                </a:lnTo>
                <a:lnTo>
                  <a:pt x="1941122" y="1216088"/>
                </a:lnTo>
                <a:lnTo>
                  <a:pt x="1936673" y="1227510"/>
                </a:lnTo>
                <a:lnTo>
                  <a:pt x="1932859" y="1239250"/>
                </a:lnTo>
                <a:lnTo>
                  <a:pt x="1929999" y="1251307"/>
                </a:lnTo>
                <a:lnTo>
                  <a:pt x="1927456" y="1263047"/>
                </a:lnTo>
                <a:lnTo>
                  <a:pt x="1925231" y="1275421"/>
                </a:lnTo>
                <a:lnTo>
                  <a:pt x="1923642" y="1287796"/>
                </a:lnTo>
                <a:lnTo>
                  <a:pt x="1923007" y="1299853"/>
                </a:lnTo>
                <a:lnTo>
                  <a:pt x="1922371" y="1312545"/>
                </a:lnTo>
                <a:lnTo>
                  <a:pt x="1923007" y="1324919"/>
                </a:lnTo>
                <a:lnTo>
                  <a:pt x="1923642" y="1336976"/>
                </a:lnTo>
                <a:lnTo>
                  <a:pt x="1925231" y="1349351"/>
                </a:lnTo>
                <a:lnTo>
                  <a:pt x="1927456" y="1361408"/>
                </a:lnTo>
                <a:lnTo>
                  <a:pt x="1929999" y="1373465"/>
                </a:lnTo>
                <a:lnTo>
                  <a:pt x="1933177" y="1385522"/>
                </a:lnTo>
                <a:lnTo>
                  <a:pt x="1936990" y="1397579"/>
                </a:lnTo>
                <a:lnTo>
                  <a:pt x="1941440" y="1409002"/>
                </a:lnTo>
                <a:lnTo>
                  <a:pt x="1946843" y="1420424"/>
                </a:lnTo>
                <a:lnTo>
                  <a:pt x="1952563" y="1432164"/>
                </a:lnTo>
                <a:lnTo>
                  <a:pt x="1958919" y="1443269"/>
                </a:lnTo>
                <a:lnTo>
                  <a:pt x="1965593" y="1454375"/>
                </a:lnTo>
                <a:lnTo>
                  <a:pt x="1973539" y="1465163"/>
                </a:lnTo>
                <a:lnTo>
                  <a:pt x="1981802" y="1475633"/>
                </a:lnTo>
                <a:lnTo>
                  <a:pt x="1990065" y="1485152"/>
                </a:lnTo>
                <a:lnTo>
                  <a:pt x="1999281" y="1494671"/>
                </a:lnTo>
                <a:lnTo>
                  <a:pt x="2008816" y="1503872"/>
                </a:lnTo>
                <a:lnTo>
                  <a:pt x="2018350" y="1511805"/>
                </a:lnTo>
                <a:lnTo>
                  <a:pt x="2028838" y="1519737"/>
                </a:lnTo>
                <a:lnTo>
                  <a:pt x="2039325" y="1526717"/>
                </a:lnTo>
                <a:lnTo>
                  <a:pt x="2049813" y="1533381"/>
                </a:lnTo>
                <a:lnTo>
                  <a:pt x="2060937" y="1539409"/>
                </a:lnTo>
                <a:lnTo>
                  <a:pt x="2072060" y="1544803"/>
                </a:lnTo>
                <a:lnTo>
                  <a:pt x="2083501" y="1549880"/>
                </a:lnTo>
                <a:lnTo>
                  <a:pt x="2094942" y="1554005"/>
                </a:lnTo>
                <a:lnTo>
                  <a:pt x="2107019" y="1557812"/>
                </a:lnTo>
                <a:lnTo>
                  <a:pt x="2118778" y="1560985"/>
                </a:lnTo>
                <a:lnTo>
                  <a:pt x="2130855" y="1563523"/>
                </a:lnTo>
                <a:lnTo>
                  <a:pt x="2142932" y="1565745"/>
                </a:lnTo>
                <a:lnTo>
                  <a:pt x="2155326" y="1567331"/>
                </a:lnTo>
                <a:lnTo>
                  <a:pt x="2167721" y="1567966"/>
                </a:lnTo>
                <a:lnTo>
                  <a:pt x="2179798" y="1568283"/>
                </a:lnTo>
                <a:lnTo>
                  <a:pt x="2192510" y="1567966"/>
                </a:lnTo>
                <a:lnTo>
                  <a:pt x="2204905" y="1567014"/>
                </a:lnTo>
                <a:lnTo>
                  <a:pt x="2216982" y="1565427"/>
                </a:lnTo>
                <a:lnTo>
                  <a:pt x="2229058" y="1563206"/>
                </a:lnTo>
                <a:lnTo>
                  <a:pt x="2241135" y="1560668"/>
                </a:lnTo>
                <a:lnTo>
                  <a:pt x="2253212" y="1557178"/>
                </a:lnTo>
                <a:lnTo>
                  <a:pt x="2264971" y="1553370"/>
                </a:lnTo>
                <a:lnTo>
                  <a:pt x="2277048" y="1548928"/>
                </a:lnTo>
                <a:lnTo>
                  <a:pt x="2288489" y="1543851"/>
                </a:lnTo>
                <a:lnTo>
                  <a:pt x="2299930" y="1538140"/>
                </a:lnTo>
                <a:lnTo>
                  <a:pt x="2311053" y="1532111"/>
                </a:lnTo>
                <a:lnTo>
                  <a:pt x="2321859" y="1524814"/>
                </a:lnTo>
                <a:lnTo>
                  <a:pt x="2332665" y="1517516"/>
                </a:lnTo>
                <a:lnTo>
                  <a:pt x="2343152" y="1509266"/>
                </a:lnTo>
                <a:lnTo>
                  <a:pt x="2353322" y="1500382"/>
                </a:lnTo>
                <a:lnTo>
                  <a:pt x="2362539" y="1491498"/>
                </a:lnTo>
                <a:lnTo>
                  <a:pt x="2371437" y="1482296"/>
                </a:lnTo>
                <a:lnTo>
                  <a:pt x="2379701" y="1472143"/>
                </a:lnTo>
                <a:lnTo>
                  <a:pt x="2387328" y="1462307"/>
                </a:lnTo>
                <a:lnTo>
                  <a:pt x="2394955" y="1451836"/>
                </a:lnTo>
                <a:lnTo>
                  <a:pt x="2400994" y="1441048"/>
                </a:lnTo>
                <a:lnTo>
                  <a:pt x="2407350" y="1430260"/>
                </a:lnTo>
                <a:lnTo>
                  <a:pt x="2412753" y="1419155"/>
                </a:lnTo>
                <a:lnTo>
                  <a:pt x="2417520" y="1407415"/>
                </a:lnTo>
                <a:lnTo>
                  <a:pt x="2421969" y="1395993"/>
                </a:lnTo>
                <a:lnTo>
                  <a:pt x="2425783" y="1384253"/>
                </a:lnTo>
                <a:lnTo>
                  <a:pt x="2428961" y="1372196"/>
                </a:lnTo>
                <a:lnTo>
                  <a:pt x="2431504" y="1360139"/>
                </a:lnTo>
                <a:lnTo>
                  <a:pt x="2433411" y="1348081"/>
                </a:lnTo>
                <a:lnTo>
                  <a:pt x="2435000" y="1336024"/>
                </a:lnTo>
                <a:lnTo>
                  <a:pt x="2435635" y="1323333"/>
                </a:lnTo>
                <a:lnTo>
                  <a:pt x="2435953" y="1310958"/>
                </a:lnTo>
                <a:lnTo>
                  <a:pt x="2435635" y="1298901"/>
                </a:lnTo>
                <a:lnTo>
                  <a:pt x="2435000" y="1286527"/>
                </a:lnTo>
                <a:lnTo>
                  <a:pt x="2433411" y="1274152"/>
                </a:lnTo>
                <a:lnTo>
                  <a:pt x="2431186" y="1262095"/>
                </a:lnTo>
                <a:lnTo>
                  <a:pt x="2428643" y="1250038"/>
                </a:lnTo>
                <a:lnTo>
                  <a:pt x="2425465" y="1237981"/>
                </a:lnTo>
                <a:lnTo>
                  <a:pt x="2421652" y="1225924"/>
                </a:lnTo>
                <a:lnTo>
                  <a:pt x="2416884" y="1214501"/>
                </a:lnTo>
                <a:lnTo>
                  <a:pt x="2411799" y="1203079"/>
                </a:lnTo>
                <a:lnTo>
                  <a:pt x="2406079" y="1191339"/>
                </a:lnTo>
                <a:lnTo>
                  <a:pt x="2399723" y="1180233"/>
                </a:lnTo>
                <a:lnTo>
                  <a:pt x="2393049" y="1169128"/>
                </a:lnTo>
                <a:lnTo>
                  <a:pt x="2385103" y="1158657"/>
                </a:lnTo>
                <a:lnTo>
                  <a:pt x="2376840" y="1148187"/>
                </a:lnTo>
                <a:lnTo>
                  <a:pt x="2368259" y="1138351"/>
                </a:lnTo>
                <a:lnTo>
                  <a:pt x="2359043" y="1128832"/>
                </a:lnTo>
                <a:lnTo>
                  <a:pt x="2349826" y="1120265"/>
                </a:lnTo>
                <a:lnTo>
                  <a:pt x="2340292" y="1111698"/>
                </a:lnTo>
                <a:lnTo>
                  <a:pt x="2329804" y="1103766"/>
                </a:lnTo>
                <a:lnTo>
                  <a:pt x="2319317" y="1096785"/>
                </a:lnTo>
                <a:lnTo>
                  <a:pt x="2308829" y="1090122"/>
                </a:lnTo>
                <a:lnTo>
                  <a:pt x="2297705" y="1084094"/>
                </a:lnTo>
                <a:lnTo>
                  <a:pt x="2286582" y="1078700"/>
                </a:lnTo>
                <a:lnTo>
                  <a:pt x="2275141" y="1073623"/>
                </a:lnTo>
                <a:lnTo>
                  <a:pt x="2263700" y="1069181"/>
                </a:lnTo>
                <a:lnTo>
                  <a:pt x="2251623" y="1065691"/>
                </a:lnTo>
                <a:lnTo>
                  <a:pt x="2239864" y="1062518"/>
                </a:lnTo>
                <a:lnTo>
                  <a:pt x="2227787" y="1059979"/>
                </a:lnTo>
                <a:lnTo>
                  <a:pt x="2215710" y="1057758"/>
                </a:lnTo>
                <a:lnTo>
                  <a:pt x="2203316" y="1056172"/>
                </a:lnTo>
                <a:lnTo>
                  <a:pt x="2190921" y="1055537"/>
                </a:lnTo>
                <a:lnTo>
                  <a:pt x="2178844" y="1055220"/>
                </a:lnTo>
                <a:close/>
                <a:moveTo>
                  <a:pt x="2144839" y="823913"/>
                </a:moveTo>
                <a:lnTo>
                  <a:pt x="2301519" y="838826"/>
                </a:lnTo>
                <a:lnTo>
                  <a:pt x="2292938" y="930841"/>
                </a:lnTo>
                <a:lnTo>
                  <a:pt x="2302155" y="933379"/>
                </a:lnTo>
                <a:lnTo>
                  <a:pt x="2311053" y="936235"/>
                </a:lnTo>
                <a:lnTo>
                  <a:pt x="2319952" y="939725"/>
                </a:lnTo>
                <a:lnTo>
                  <a:pt x="2328851" y="943215"/>
                </a:lnTo>
                <a:lnTo>
                  <a:pt x="2338067" y="946706"/>
                </a:lnTo>
                <a:lnTo>
                  <a:pt x="2346330" y="950513"/>
                </a:lnTo>
                <a:lnTo>
                  <a:pt x="2354911" y="954638"/>
                </a:lnTo>
                <a:lnTo>
                  <a:pt x="2363492" y="959080"/>
                </a:lnTo>
                <a:lnTo>
                  <a:pt x="2372073" y="963522"/>
                </a:lnTo>
                <a:lnTo>
                  <a:pt x="2380654" y="968282"/>
                </a:lnTo>
                <a:lnTo>
                  <a:pt x="2388917" y="973358"/>
                </a:lnTo>
                <a:lnTo>
                  <a:pt x="2397180" y="978752"/>
                </a:lnTo>
                <a:lnTo>
                  <a:pt x="2405125" y="983829"/>
                </a:lnTo>
                <a:lnTo>
                  <a:pt x="2413071" y="989540"/>
                </a:lnTo>
                <a:lnTo>
                  <a:pt x="2420698" y="995569"/>
                </a:lnTo>
                <a:lnTo>
                  <a:pt x="2428643" y="1001280"/>
                </a:lnTo>
                <a:lnTo>
                  <a:pt x="2499197" y="943215"/>
                </a:lnTo>
                <a:lnTo>
                  <a:pt x="2599625" y="1063787"/>
                </a:lnTo>
                <a:lnTo>
                  <a:pt x="2529389" y="1122169"/>
                </a:lnTo>
                <a:lnTo>
                  <a:pt x="2533839" y="1130736"/>
                </a:lnTo>
                <a:lnTo>
                  <a:pt x="2538288" y="1139620"/>
                </a:lnTo>
                <a:lnTo>
                  <a:pt x="2542420" y="1148504"/>
                </a:lnTo>
                <a:lnTo>
                  <a:pt x="2546551" y="1157388"/>
                </a:lnTo>
                <a:lnTo>
                  <a:pt x="2550365" y="1166590"/>
                </a:lnTo>
                <a:lnTo>
                  <a:pt x="2553543" y="1175474"/>
                </a:lnTo>
                <a:lnTo>
                  <a:pt x="2557039" y="1184676"/>
                </a:lnTo>
                <a:lnTo>
                  <a:pt x="2559899" y="1193560"/>
                </a:lnTo>
                <a:lnTo>
                  <a:pt x="2562442" y="1203079"/>
                </a:lnTo>
                <a:lnTo>
                  <a:pt x="2564984" y="1212280"/>
                </a:lnTo>
                <a:lnTo>
                  <a:pt x="2567527" y="1221799"/>
                </a:lnTo>
                <a:lnTo>
                  <a:pt x="2569116" y="1231318"/>
                </a:lnTo>
                <a:lnTo>
                  <a:pt x="2571022" y="1240519"/>
                </a:lnTo>
                <a:lnTo>
                  <a:pt x="2572612" y="1249721"/>
                </a:lnTo>
                <a:lnTo>
                  <a:pt x="2574201" y="1259557"/>
                </a:lnTo>
                <a:lnTo>
                  <a:pt x="2575154" y="1269075"/>
                </a:lnTo>
                <a:lnTo>
                  <a:pt x="2665412" y="1277325"/>
                </a:lnTo>
                <a:lnTo>
                  <a:pt x="2650793" y="1433433"/>
                </a:lnTo>
                <a:lnTo>
                  <a:pt x="2561170" y="1425501"/>
                </a:lnTo>
                <a:lnTo>
                  <a:pt x="2558310" y="1434385"/>
                </a:lnTo>
                <a:lnTo>
                  <a:pt x="2555132" y="1443587"/>
                </a:lnTo>
                <a:lnTo>
                  <a:pt x="2552272" y="1452471"/>
                </a:lnTo>
                <a:lnTo>
                  <a:pt x="2548458" y="1461355"/>
                </a:lnTo>
                <a:lnTo>
                  <a:pt x="2544644" y="1470239"/>
                </a:lnTo>
                <a:lnTo>
                  <a:pt x="2540513" y="1479124"/>
                </a:lnTo>
                <a:lnTo>
                  <a:pt x="2536381" y="1488008"/>
                </a:lnTo>
                <a:lnTo>
                  <a:pt x="2531932" y="1496575"/>
                </a:lnTo>
                <a:lnTo>
                  <a:pt x="2527482" y="1505142"/>
                </a:lnTo>
                <a:lnTo>
                  <a:pt x="2522715" y="1513708"/>
                </a:lnTo>
                <a:lnTo>
                  <a:pt x="2517630" y="1521958"/>
                </a:lnTo>
                <a:lnTo>
                  <a:pt x="2512228" y="1530208"/>
                </a:lnTo>
                <a:lnTo>
                  <a:pt x="2506825" y="1538140"/>
                </a:lnTo>
                <a:lnTo>
                  <a:pt x="2501104" y="1546390"/>
                </a:lnTo>
                <a:lnTo>
                  <a:pt x="2495384" y="1554322"/>
                </a:lnTo>
                <a:lnTo>
                  <a:pt x="2489027" y="1561937"/>
                </a:lnTo>
                <a:lnTo>
                  <a:pt x="2546233" y="1631107"/>
                </a:lnTo>
                <a:lnTo>
                  <a:pt x="2425465" y="1731372"/>
                </a:lnTo>
                <a:lnTo>
                  <a:pt x="2367624" y="1662202"/>
                </a:lnTo>
                <a:lnTo>
                  <a:pt x="2359043" y="1666644"/>
                </a:lnTo>
                <a:lnTo>
                  <a:pt x="2350144" y="1671086"/>
                </a:lnTo>
                <a:lnTo>
                  <a:pt x="2341245" y="1675211"/>
                </a:lnTo>
                <a:lnTo>
                  <a:pt x="2332029" y="1679018"/>
                </a:lnTo>
                <a:lnTo>
                  <a:pt x="2323130" y="1682826"/>
                </a:lnTo>
                <a:lnTo>
                  <a:pt x="2313596" y="1685999"/>
                </a:lnTo>
                <a:lnTo>
                  <a:pt x="2304697" y="1689489"/>
                </a:lnTo>
                <a:lnTo>
                  <a:pt x="2295481" y="1692344"/>
                </a:lnTo>
                <a:lnTo>
                  <a:pt x="2286264" y="1694883"/>
                </a:lnTo>
                <a:lnTo>
                  <a:pt x="2277048" y="1697421"/>
                </a:lnTo>
                <a:lnTo>
                  <a:pt x="2267196" y="1699642"/>
                </a:lnTo>
                <a:lnTo>
                  <a:pt x="2257979" y="1701546"/>
                </a:lnTo>
                <a:lnTo>
                  <a:pt x="2248763" y="1703450"/>
                </a:lnTo>
                <a:lnTo>
                  <a:pt x="2238910" y="1705036"/>
                </a:lnTo>
                <a:lnTo>
                  <a:pt x="2229376" y="1706623"/>
                </a:lnTo>
                <a:lnTo>
                  <a:pt x="2220160" y="1707575"/>
                </a:lnTo>
                <a:lnTo>
                  <a:pt x="2211579" y="1797051"/>
                </a:lnTo>
                <a:lnTo>
                  <a:pt x="2054898" y="1782138"/>
                </a:lnTo>
                <a:lnTo>
                  <a:pt x="2063161" y="1692027"/>
                </a:lnTo>
                <a:lnTo>
                  <a:pt x="2054263" y="1689172"/>
                </a:lnTo>
                <a:lnTo>
                  <a:pt x="2045364" y="1685999"/>
                </a:lnTo>
                <a:lnTo>
                  <a:pt x="2035830" y="1682826"/>
                </a:lnTo>
                <a:lnTo>
                  <a:pt x="2027249" y="1679335"/>
                </a:lnTo>
                <a:lnTo>
                  <a:pt x="2018350" y="1675528"/>
                </a:lnTo>
                <a:lnTo>
                  <a:pt x="2009451" y="1671720"/>
                </a:lnTo>
                <a:lnTo>
                  <a:pt x="2000870" y="1667596"/>
                </a:lnTo>
                <a:lnTo>
                  <a:pt x="1992289" y="1663154"/>
                </a:lnTo>
                <a:lnTo>
                  <a:pt x="1984026" y="1658077"/>
                </a:lnTo>
                <a:lnTo>
                  <a:pt x="1975445" y="1653317"/>
                </a:lnTo>
                <a:lnTo>
                  <a:pt x="1967182" y="1648241"/>
                </a:lnTo>
                <a:lnTo>
                  <a:pt x="1958919" y="1642847"/>
                </a:lnTo>
                <a:lnTo>
                  <a:pt x="1950656" y="1637453"/>
                </a:lnTo>
                <a:lnTo>
                  <a:pt x="1943029" y="1631742"/>
                </a:lnTo>
                <a:lnTo>
                  <a:pt x="1935084" y="1626030"/>
                </a:lnTo>
                <a:lnTo>
                  <a:pt x="1927456" y="1620002"/>
                </a:lnTo>
                <a:lnTo>
                  <a:pt x="1857220" y="1678384"/>
                </a:lnTo>
                <a:lnTo>
                  <a:pt x="1756792" y="1556860"/>
                </a:lnTo>
                <a:lnTo>
                  <a:pt x="1827346" y="1498478"/>
                </a:lnTo>
                <a:lnTo>
                  <a:pt x="1822896" y="1489594"/>
                </a:lnTo>
                <a:lnTo>
                  <a:pt x="1818765" y="1481027"/>
                </a:lnTo>
                <a:lnTo>
                  <a:pt x="1814633" y="1472143"/>
                </a:lnTo>
                <a:lnTo>
                  <a:pt x="1810820" y="1463259"/>
                </a:lnTo>
                <a:lnTo>
                  <a:pt x="1807324" y="1454057"/>
                </a:lnTo>
                <a:lnTo>
                  <a:pt x="1803828" y="1445173"/>
                </a:lnTo>
                <a:lnTo>
                  <a:pt x="1800968" y="1436289"/>
                </a:lnTo>
                <a:lnTo>
                  <a:pt x="1797789" y="1426770"/>
                </a:lnTo>
                <a:lnTo>
                  <a:pt x="1795247" y="1417569"/>
                </a:lnTo>
                <a:lnTo>
                  <a:pt x="1792704" y="1408367"/>
                </a:lnTo>
                <a:lnTo>
                  <a:pt x="1790480" y="1399166"/>
                </a:lnTo>
                <a:lnTo>
                  <a:pt x="1788573" y="1389647"/>
                </a:lnTo>
                <a:lnTo>
                  <a:pt x="1786666" y="1380445"/>
                </a:lnTo>
                <a:lnTo>
                  <a:pt x="1785395" y="1371244"/>
                </a:lnTo>
                <a:lnTo>
                  <a:pt x="1783170" y="1352206"/>
                </a:lnTo>
                <a:lnTo>
                  <a:pt x="1690687" y="1343639"/>
                </a:lnTo>
                <a:lnTo>
                  <a:pt x="1705624" y="1186897"/>
                </a:lnTo>
                <a:lnTo>
                  <a:pt x="1798425" y="1195781"/>
                </a:lnTo>
                <a:lnTo>
                  <a:pt x="1801285" y="1186897"/>
                </a:lnTo>
                <a:lnTo>
                  <a:pt x="1804146" y="1178012"/>
                </a:lnTo>
                <a:lnTo>
                  <a:pt x="1807642" y="1169128"/>
                </a:lnTo>
                <a:lnTo>
                  <a:pt x="1810820" y="1160244"/>
                </a:lnTo>
                <a:lnTo>
                  <a:pt x="1814633" y="1151677"/>
                </a:lnTo>
                <a:lnTo>
                  <a:pt x="1818765" y="1142793"/>
                </a:lnTo>
                <a:lnTo>
                  <a:pt x="1822896" y="1134226"/>
                </a:lnTo>
                <a:lnTo>
                  <a:pt x="1827346" y="1125659"/>
                </a:lnTo>
                <a:lnTo>
                  <a:pt x="1831795" y="1117727"/>
                </a:lnTo>
                <a:lnTo>
                  <a:pt x="1836562" y="1109160"/>
                </a:lnTo>
                <a:lnTo>
                  <a:pt x="1841329" y="1100910"/>
                </a:lnTo>
                <a:lnTo>
                  <a:pt x="1846732" y="1092661"/>
                </a:lnTo>
                <a:lnTo>
                  <a:pt x="1852135" y="1085045"/>
                </a:lnTo>
                <a:lnTo>
                  <a:pt x="1857856" y="1077113"/>
                </a:lnTo>
                <a:lnTo>
                  <a:pt x="1863894" y="1069181"/>
                </a:lnTo>
                <a:lnTo>
                  <a:pt x="1869615" y="1061566"/>
                </a:lnTo>
                <a:lnTo>
                  <a:pt x="1810184" y="989858"/>
                </a:lnTo>
                <a:lnTo>
                  <a:pt x="1931588" y="889593"/>
                </a:lnTo>
                <a:lnTo>
                  <a:pt x="1990700" y="961301"/>
                </a:lnTo>
                <a:lnTo>
                  <a:pt x="1999599" y="956859"/>
                </a:lnTo>
                <a:lnTo>
                  <a:pt x="2008180" y="952734"/>
                </a:lnTo>
                <a:lnTo>
                  <a:pt x="2017079" y="948609"/>
                </a:lnTo>
                <a:lnTo>
                  <a:pt x="2025977" y="944485"/>
                </a:lnTo>
                <a:lnTo>
                  <a:pt x="2034876" y="941312"/>
                </a:lnTo>
                <a:lnTo>
                  <a:pt x="2043775" y="937504"/>
                </a:lnTo>
                <a:lnTo>
                  <a:pt x="2052673" y="934649"/>
                </a:lnTo>
                <a:lnTo>
                  <a:pt x="2061890" y="931476"/>
                </a:lnTo>
                <a:lnTo>
                  <a:pt x="2071424" y="928937"/>
                </a:lnTo>
                <a:lnTo>
                  <a:pt x="2080641" y="926399"/>
                </a:lnTo>
                <a:lnTo>
                  <a:pt x="2089539" y="924178"/>
                </a:lnTo>
                <a:lnTo>
                  <a:pt x="2099074" y="922274"/>
                </a:lnTo>
                <a:lnTo>
                  <a:pt x="2108608" y="920370"/>
                </a:lnTo>
                <a:lnTo>
                  <a:pt x="2117825" y="918784"/>
                </a:lnTo>
                <a:lnTo>
                  <a:pt x="2127041" y="917515"/>
                </a:lnTo>
                <a:lnTo>
                  <a:pt x="2136258" y="916246"/>
                </a:lnTo>
                <a:lnTo>
                  <a:pt x="2144839" y="823913"/>
                </a:lnTo>
                <a:close/>
                <a:moveTo>
                  <a:pt x="1509345" y="590550"/>
                </a:moveTo>
                <a:lnTo>
                  <a:pt x="1518239" y="590550"/>
                </a:lnTo>
                <a:lnTo>
                  <a:pt x="1526817" y="591817"/>
                </a:lnTo>
                <a:lnTo>
                  <a:pt x="1535394" y="593400"/>
                </a:lnTo>
                <a:lnTo>
                  <a:pt x="1543971" y="596250"/>
                </a:lnTo>
                <a:lnTo>
                  <a:pt x="1551912" y="599417"/>
                </a:lnTo>
                <a:lnTo>
                  <a:pt x="1559854" y="603534"/>
                </a:lnTo>
                <a:lnTo>
                  <a:pt x="1566843" y="608601"/>
                </a:lnTo>
                <a:lnTo>
                  <a:pt x="1570655" y="611452"/>
                </a:lnTo>
                <a:lnTo>
                  <a:pt x="1574149" y="614302"/>
                </a:lnTo>
                <a:lnTo>
                  <a:pt x="1577326" y="617469"/>
                </a:lnTo>
                <a:lnTo>
                  <a:pt x="1580185" y="620953"/>
                </a:lnTo>
                <a:lnTo>
                  <a:pt x="1583362" y="624753"/>
                </a:lnTo>
                <a:lnTo>
                  <a:pt x="1586221" y="628237"/>
                </a:lnTo>
                <a:lnTo>
                  <a:pt x="1588762" y="632037"/>
                </a:lnTo>
                <a:lnTo>
                  <a:pt x="1591621" y="636154"/>
                </a:lnTo>
                <a:lnTo>
                  <a:pt x="1593845" y="640271"/>
                </a:lnTo>
                <a:lnTo>
                  <a:pt x="1595433" y="644388"/>
                </a:lnTo>
                <a:lnTo>
                  <a:pt x="1597339" y="648505"/>
                </a:lnTo>
                <a:lnTo>
                  <a:pt x="1598927" y="652305"/>
                </a:lnTo>
                <a:lnTo>
                  <a:pt x="1601151" y="660856"/>
                </a:lnTo>
                <a:lnTo>
                  <a:pt x="1603057" y="669724"/>
                </a:lnTo>
                <a:lnTo>
                  <a:pt x="1603375" y="678274"/>
                </a:lnTo>
                <a:lnTo>
                  <a:pt x="1603375" y="687142"/>
                </a:lnTo>
                <a:lnTo>
                  <a:pt x="1602104" y="696326"/>
                </a:lnTo>
                <a:lnTo>
                  <a:pt x="1600516" y="704560"/>
                </a:lnTo>
                <a:lnTo>
                  <a:pt x="1597657" y="712794"/>
                </a:lnTo>
                <a:lnTo>
                  <a:pt x="1594480" y="721028"/>
                </a:lnTo>
                <a:lnTo>
                  <a:pt x="1590350" y="728629"/>
                </a:lnTo>
                <a:lnTo>
                  <a:pt x="1585268" y="736229"/>
                </a:lnTo>
                <a:lnTo>
                  <a:pt x="1582409" y="739396"/>
                </a:lnTo>
                <a:lnTo>
                  <a:pt x="1579550" y="742880"/>
                </a:lnTo>
                <a:lnTo>
                  <a:pt x="1576373" y="746047"/>
                </a:lnTo>
                <a:lnTo>
                  <a:pt x="1572879" y="749531"/>
                </a:lnTo>
                <a:lnTo>
                  <a:pt x="1569384" y="752381"/>
                </a:lnTo>
                <a:lnTo>
                  <a:pt x="1565572" y="755231"/>
                </a:lnTo>
                <a:lnTo>
                  <a:pt x="1297460" y="948099"/>
                </a:lnTo>
                <a:lnTo>
                  <a:pt x="1293012" y="951266"/>
                </a:lnTo>
                <a:lnTo>
                  <a:pt x="1288247" y="953799"/>
                </a:lnTo>
                <a:lnTo>
                  <a:pt x="1283164" y="956333"/>
                </a:lnTo>
                <a:lnTo>
                  <a:pt x="1278399" y="958550"/>
                </a:lnTo>
                <a:lnTo>
                  <a:pt x="1273634" y="960450"/>
                </a:lnTo>
                <a:lnTo>
                  <a:pt x="1268869" y="962033"/>
                </a:lnTo>
                <a:lnTo>
                  <a:pt x="1263469" y="962983"/>
                </a:lnTo>
                <a:lnTo>
                  <a:pt x="1258386" y="964250"/>
                </a:lnTo>
                <a:lnTo>
                  <a:pt x="1253304" y="964884"/>
                </a:lnTo>
                <a:lnTo>
                  <a:pt x="1247903" y="965200"/>
                </a:lnTo>
                <a:lnTo>
                  <a:pt x="1242820" y="965200"/>
                </a:lnTo>
                <a:lnTo>
                  <a:pt x="1237102" y="964884"/>
                </a:lnTo>
                <a:lnTo>
                  <a:pt x="1232020" y="964567"/>
                </a:lnTo>
                <a:lnTo>
                  <a:pt x="1226937" y="963617"/>
                </a:lnTo>
                <a:lnTo>
                  <a:pt x="1221537" y="962667"/>
                </a:lnTo>
                <a:lnTo>
                  <a:pt x="1216454" y="961083"/>
                </a:lnTo>
                <a:lnTo>
                  <a:pt x="1006475" y="894894"/>
                </a:lnTo>
                <a:lnTo>
                  <a:pt x="1009652" y="885393"/>
                </a:lnTo>
                <a:lnTo>
                  <a:pt x="1013464" y="875259"/>
                </a:lnTo>
                <a:lnTo>
                  <a:pt x="1017911" y="862591"/>
                </a:lnTo>
                <a:lnTo>
                  <a:pt x="1022676" y="847706"/>
                </a:lnTo>
                <a:lnTo>
                  <a:pt x="1027123" y="832188"/>
                </a:lnTo>
                <a:lnTo>
                  <a:pt x="1029029" y="824271"/>
                </a:lnTo>
                <a:lnTo>
                  <a:pt x="1030935" y="816353"/>
                </a:lnTo>
                <a:lnTo>
                  <a:pt x="1031888" y="808753"/>
                </a:lnTo>
                <a:lnTo>
                  <a:pt x="1033159" y="801469"/>
                </a:lnTo>
                <a:lnTo>
                  <a:pt x="1033794" y="793868"/>
                </a:lnTo>
                <a:lnTo>
                  <a:pt x="1033794" y="786584"/>
                </a:lnTo>
                <a:lnTo>
                  <a:pt x="1033794" y="778666"/>
                </a:lnTo>
                <a:lnTo>
                  <a:pt x="1033477" y="770749"/>
                </a:lnTo>
                <a:lnTo>
                  <a:pt x="1032841" y="762832"/>
                </a:lnTo>
                <a:lnTo>
                  <a:pt x="1031888" y="755548"/>
                </a:lnTo>
                <a:lnTo>
                  <a:pt x="1029665" y="740980"/>
                </a:lnTo>
                <a:lnTo>
                  <a:pt x="1027441" y="727995"/>
                </a:lnTo>
                <a:lnTo>
                  <a:pt x="1025217" y="718178"/>
                </a:lnTo>
                <a:lnTo>
                  <a:pt x="1022994" y="708994"/>
                </a:lnTo>
                <a:lnTo>
                  <a:pt x="1227572" y="773599"/>
                </a:lnTo>
                <a:lnTo>
                  <a:pt x="1458835" y="607651"/>
                </a:lnTo>
                <a:lnTo>
                  <a:pt x="1462965" y="605118"/>
                </a:lnTo>
                <a:lnTo>
                  <a:pt x="1467095" y="602268"/>
                </a:lnTo>
                <a:lnTo>
                  <a:pt x="1470589" y="600051"/>
                </a:lnTo>
                <a:lnTo>
                  <a:pt x="1474719" y="598467"/>
                </a:lnTo>
                <a:lnTo>
                  <a:pt x="1479166" y="596567"/>
                </a:lnTo>
                <a:lnTo>
                  <a:pt x="1483296" y="594984"/>
                </a:lnTo>
                <a:lnTo>
                  <a:pt x="1491873" y="592767"/>
                </a:lnTo>
                <a:lnTo>
                  <a:pt x="1500768" y="591183"/>
                </a:lnTo>
                <a:lnTo>
                  <a:pt x="1509345" y="590550"/>
                </a:lnTo>
                <a:close/>
                <a:moveTo>
                  <a:pt x="690596" y="539750"/>
                </a:moveTo>
                <a:lnTo>
                  <a:pt x="691548" y="539750"/>
                </a:lnTo>
                <a:lnTo>
                  <a:pt x="693769" y="540067"/>
                </a:lnTo>
                <a:lnTo>
                  <a:pt x="702016" y="540702"/>
                </a:lnTo>
                <a:lnTo>
                  <a:pt x="727394" y="541020"/>
                </a:lnTo>
                <a:lnTo>
                  <a:pt x="757531" y="541655"/>
                </a:lnTo>
                <a:lnTo>
                  <a:pt x="770854" y="541972"/>
                </a:lnTo>
                <a:lnTo>
                  <a:pt x="781640" y="543242"/>
                </a:lnTo>
                <a:lnTo>
                  <a:pt x="781957" y="543242"/>
                </a:lnTo>
                <a:lnTo>
                  <a:pt x="785763" y="546734"/>
                </a:lnTo>
                <a:lnTo>
                  <a:pt x="789887" y="552130"/>
                </a:lnTo>
                <a:lnTo>
                  <a:pt x="794646" y="558479"/>
                </a:lnTo>
                <a:lnTo>
                  <a:pt x="799404" y="566415"/>
                </a:lnTo>
                <a:lnTo>
                  <a:pt x="804797" y="576573"/>
                </a:lnTo>
                <a:lnTo>
                  <a:pt x="809872" y="588001"/>
                </a:lnTo>
                <a:lnTo>
                  <a:pt x="812093" y="594668"/>
                </a:lnTo>
                <a:lnTo>
                  <a:pt x="814631" y="602286"/>
                </a:lnTo>
                <a:lnTo>
                  <a:pt x="817169" y="609905"/>
                </a:lnTo>
                <a:lnTo>
                  <a:pt x="820024" y="618476"/>
                </a:lnTo>
                <a:lnTo>
                  <a:pt x="822244" y="627364"/>
                </a:lnTo>
                <a:lnTo>
                  <a:pt x="824465" y="637205"/>
                </a:lnTo>
                <a:lnTo>
                  <a:pt x="826685" y="647681"/>
                </a:lnTo>
                <a:lnTo>
                  <a:pt x="828906" y="658791"/>
                </a:lnTo>
                <a:lnTo>
                  <a:pt x="830809" y="670537"/>
                </a:lnTo>
                <a:lnTo>
                  <a:pt x="832395" y="683235"/>
                </a:lnTo>
                <a:lnTo>
                  <a:pt x="834299" y="696567"/>
                </a:lnTo>
                <a:lnTo>
                  <a:pt x="835885" y="710535"/>
                </a:lnTo>
                <a:lnTo>
                  <a:pt x="836836" y="725454"/>
                </a:lnTo>
                <a:lnTo>
                  <a:pt x="838105" y="741644"/>
                </a:lnTo>
                <a:lnTo>
                  <a:pt x="839057" y="757834"/>
                </a:lnTo>
                <a:lnTo>
                  <a:pt x="840009" y="775611"/>
                </a:lnTo>
                <a:lnTo>
                  <a:pt x="840326" y="794022"/>
                </a:lnTo>
                <a:lnTo>
                  <a:pt x="840643" y="813069"/>
                </a:lnTo>
                <a:lnTo>
                  <a:pt x="840326" y="833703"/>
                </a:lnTo>
                <a:lnTo>
                  <a:pt x="840326" y="854972"/>
                </a:lnTo>
                <a:lnTo>
                  <a:pt x="844767" y="839735"/>
                </a:lnTo>
                <a:lnTo>
                  <a:pt x="849208" y="824497"/>
                </a:lnTo>
                <a:lnTo>
                  <a:pt x="857456" y="794975"/>
                </a:lnTo>
                <a:lnTo>
                  <a:pt x="864435" y="767992"/>
                </a:lnTo>
                <a:lnTo>
                  <a:pt x="870145" y="742914"/>
                </a:lnTo>
                <a:lnTo>
                  <a:pt x="878710" y="705456"/>
                </a:lnTo>
                <a:lnTo>
                  <a:pt x="881248" y="694028"/>
                </a:lnTo>
                <a:lnTo>
                  <a:pt x="882517" y="688314"/>
                </a:lnTo>
                <a:lnTo>
                  <a:pt x="878076" y="679425"/>
                </a:lnTo>
                <a:lnTo>
                  <a:pt x="874586" y="670854"/>
                </a:lnTo>
                <a:lnTo>
                  <a:pt x="871097" y="663236"/>
                </a:lnTo>
                <a:lnTo>
                  <a:pt x="868559" y="655617"/>
                </a:lnTo>
                <a:lnTo>
                  <a:pt x="864752" y="644506"/>
                </a:lnTo>
                <a:lnTo>
                  <a:pt x="863801" y="640380"/>
                </a:lnTo>
                <a:lnTo>
                  <a:pt x="867290" y="637205"/>
                </a:lnTo>
                <a:lnTo>
                  <a:pt x="876489" y="629269"/>
                </a:lnTo>
                <a:lnTo>
                  <a:pt x="881882" y="624507"/>
                </a:lnTo>
                <a:lnTo>
                  <a:pt x="888227" y="619746"/>
                </a:lnTo>
                <a:lnTo>
                  <a:pt x="894571" y="615619"/>
                </a:lnTo>
                <a:lnTo>
                  <a:pt x="900598" y="611810"/>
                </a:lnTo>
                <a:lnTo>
                  <a:pt x="921535" y="619746"/>
                </a:lnTo>
                <a:lnTo>
                  <a:pt x="939300" y="659426"/>
                </a:lnTo>
                <a:lnTo>
                  <a:pt x="934224" y="671172"/>
                </a:lnTo>
                <a:lnTo>
                  <a:pt x="928514" y="683235"/>
                </a:lnTo>
                <a:lnTo>
                  <a:pt x="922487" y="695932"/>
                </a:lnTo>
                <a:lnTo>
                  <a:pt x="923439" y="707043"/>
                </a:lnTo>
                <a:lnTo>
                  <a:pt x="924073" y="720693"/>
                </a:lnTo>
                <a:lnTo>
                  <a:pt x="924708" y="736248"/>
                </a:lnTo>
                <a:lnTo>
                  <a:pt x="924073" y="753390"/>
                </a:lnTo>
                <a:lnTo>
                  <a:pt x="923439" y="790213"/>
                </a:lnTo>
                <a:lnTo>
                  <a:pt x="921852" y="827354"/>
                </a:lnTo>
                <a:lnTo>
                  <a:pt x="920266" y="862273"/>
                </a:lnTo>
                <a:lnTo>
                  <a:pt x="918680" y="891161"/>
                </a:lnTo>
                <a:lnTo>
                  <a:pt x="916777" y="918461"/>
                </a:lnTo>
                <a:lnTo>
                  <a:pt x="918680" y="913382"/>
                </a:lnTo>
                <a:lnTo>
                  <a:pt x="923756" y="899097"/>
                </a:lnTo>
                <a:lnTo>
                  <a:pt x="927245" y="888621"/>
                </a:lnTo>
                <a:lnTo>
                  <a:pt x="931369" y="876241"/>
                </a:lnTo>
                <a:lnTo>
                  <a:pt x="935493" y="862273"/>
                </a:lnTo>
                <a:lnTo>
                  <a:pt x="939934" y="846401"/>
                </a:lnTo>
                <a:lnTo>
                  <a:pt x="943741" y="828307"/>
                </a:lnTo>
                <a:lnTo>
                  <a:pt x="947865" y="809260"/>
                </a:lnTo>
                <a:lnTo>
                  <a:pt x="951672" y="788626"/>
                </a:lnTo>
                <a:lnTo>
                  <a:pt x="955161" y="766722"/>
                </a:lnTo>
                <a:lnTo>
                  <a:pt x="957699" y="743866"/>
                </a:lnTo>
                <a:lnTo>
                  <a:pt x="958650" y="731486"/>
                </a:lnTo>
                <a:lnTo>
                  <a:pt x="959919" y="719106"/>
                </a:lnTo>
                <a:lnTo>
                  <a:pt x="960554" y="707043"/>
                </a:lnTo>
                <a:lnTo>
                  <a:pt x="960871" y="694345"/>
                </a:lnTo>
                <a:lnTo>
                  <a:pt x="961188" y="681330"/>
                </a:lnTo>
                <a:lnTo>
                  <a:pt x="961188" y="668315"/>
                </a:lnTo>
                <a:lnTo>
                  <a:pt x="969119" y="649268"/>
                </a:lnTo>
                <a:lnTo>
                  <a:pt x="970705" y="651173"/>
                </a:lnTo>
                <a:lnTo>
                  <a:pt x="973877" y="656887"/>
                </a:lnTo>
                <a:lnTo>
                  <a:pt x="976098" y="661331"/>
                </a:lnTo>
                <a:lnTo>
                  <a:pt x="978636" y="666727"/>
                </a:lnTo>
                <a:lnTo>
                  <a:pt x="981808" y="673076"/>
                </a:lnTo>
                <a:lnTo>
                  <a:pt x="984663" y="681012"/>
                </a:lnTo>
                <a:lnTo>
                  <a:pt x="988152" y="690218"/>
                </a:lnTo>
                <a:lnTo>
                  <a:pt x="991007" y="700377"/>
                </a:lnTo>
                <a:lnTo>
                  <a:pt x="993862" y="712122"/>
                </a:lnTo>
                <a:lnTo>
                  <a:pt x="997035" y="724820"/>
                </a:lnTo>
                <a:lnTo>
                  <a:pt x="999572" y="739422"/>
                </a:lnTo>
                <a:lnTo>
                  <a:pt x="1002110" y="754977"/>
                </a:lnTo>
                <a:lnTo>
                  <a:pt x="1004013" y="772436"/>
                </a:lnTo>
                <a:lnTo>
                  <a:pt x="1005600" y="790848"/>
                </a:lnTo>
                <a:lnTo>
                  <a:pt x="1005282" y="796244"/>
                </a:lnTo>
                <a:lnTo>
                  <a:pt x="1004331" y="801958"/>
                </a:lnTo>
                <a:lnTo>
                  <a:pt x="1003062" y="809260"/>
                </a:lnTo>
                <a:lnTo>
                  <a:pt x="1000841" y="817196"/>
                </a:lnTo>
                <a:lnTo>
                  <a:pt x="997669" y="826085"/>
                </a:lnTo>
                <a:lnTo>
                  <a:pt x="994497" y="836243"/>
                </a:lnTo>
                <a:lnTo>
                  <a:pt x="985932" y="858781"/>
                </a:lnTo>
                <a:lnTo>
                  <a:pt x="964043" y="914969"/>
                </a:lnTo>
                <a:lnTo>
                  <a:pt x="951037" y="948301"/>
                </a:lnTo>
                <a:lnTo>
                  <a:pt x="937079" y="985442"/>
                </a:lnTo>
                <a:lnTo>
                  <a:pt x="922804" y="1025757"/>
                </a:lnTo>
                <a:lnTo>
                  <a:pt x="915825" y="1047026"/>
                </a:lnTo>
                <a:lnTo>
                  <a:pt x="908212" y="1068929"/>
                </a:lnTo>
                <a:lnTo>
                  <a:pt x="901233" y="1091785"/>
                </a:lnTo>
                <a:lnTo>
                  <a:pt x="894254" y="1115594"/>
                </a:lnTo>
                <a:lnTo>
                  <a:pt x="886958" y="1139719"/>
                </a:lnTo>
                <a:lnTo>
                  <a:pt x="880296" y="1165115"/>
                </a:lnTo>
                <a:lnTo>
                  <a:pt x="873634" y="1190510"/>
                </a:lnTo>
                <a:lnTo>
                  <a:pt x="867290" y="1217493"/>
                </a:lnTo>
                <a:lnTo>
                  <a:pt x="861580" y="1244476"/>
                </a:lnTo>
                <a:lnTo>
                  <a:pt x="855553" y="1272728"/>
                </a:lnTo>
                <a:lnTo>
                  <a:pt x="850477" y="1301298"/>
                </a:lnTo>
                <a:lnTo>
                  <a:pt x="845402" y="1330821"/>
                </a:lnTo>
                <a:lnTo>
                  <a:pt x="840960" y="1360343"/>
                </a:lnTo>
                <a:lnTo>
                  <a:pt x="836836" y="1391135"/>
                </a:lnTo>
                <a:lnTo>
                  <a:pt x="874586" y="1434307"/>
                </a:lnTo>
                <a:lnTo>
                  <a:pt x="949768" y="1522239"/>
                </a:lnTo>
                <a:lnTo>
                  <a:pt x="990373" y="1569856"/>
                </a:lnTo>
                <a:lnTo>
                  <a:pt x="1026219" y="1613028"/>
                </a:lnTo>
                <a:lnTo>
                  <a:pt x="1041129" y="1631122"/>
                </a:lnTo>
                <a:lnTo>
                  <a:pt x="1053500" y="1646042"/>
                </a:lnTo>
                <a:lnTo>
                  <a:pt x="1062065" y="1657470"/>
                </a:lnTo>
                <a:lnTo>
                  <a:pt x="1066824" y="1664137"/>
                </a:lnTo>
                <a:lnTo>
                  <a:pt x="1071582" y="1671755"/>
                </a:lnTo>
                <a:lnTo>
                  <a:pt x="1077292" y="1680326"/>
                </a:lnTo>
                <a:lnTo>
                  <a:pt x="1080147" y="1685088"/>
                </a:lnTo>
                <a:lnTo>
                  <a:pt x="1083002" y="1689850"/>
                </a:lnTo>
                <a:lnTo>
                  <a:pt x="1085540" y="1695564"/>
                </a:lnTo>
                <a:lnTo>
                  <a:pt x="1088395" y="1701913"/>
                </a:lnTo>
                <a:lnTo>
                  <a:pt x="1090616" y="1708579"/>
                </a:lnTo>
                <a:lnTo>
                  <a:pt x="1091884" y="1715880"/>
                </a:lnTo>
                <a:lnTo>
                  <a:pt x="1093471" y="1724134"/>
                </a:lnTo>
                <a:lnTo>
                  <a:pt x="1093788" y="1733022"/>
                </a:lnTo>
                <a:lnTo>
                  <a:pt x="1093788" y="1742545"/>
                </a:lnTo>
                <a:lnTo>
                  <a:pt x="1092836" y="1753021"/>
                </a:lnTo>
                <a:lnTo>
                  <a:pt x="1090933" y="1765084"/>
                </a:lnTo>
                <a:lnTo>
                  <a:pt x="1087761" y="1777147"/>
                </a:lnTo>
                <a:lnTo>
                  <a:pt x="1086809" y="1785083"/>
                </a:lnTo>
                <a:lnTo>
                  <a:pt x="1084271" y="1801272"/>
                </a:lnTo>
                <a:lnTo>
                  <a:pt x="1076340" y="1854920"/>
                </a:lnTo>
                <a:lnTo>
                  <a:pt x="1054452" y="2009516"/>
                </a:lnTo>
                <a:lnTo>
                  <a:pt x="1023681" y="2230139"/>
                </a:lnTo>
                <a:lnTo>
                  <a:pt x="1022730" y="2236488"/>
                </a:lnTo>
                <a:lnTo>
                  <a:pt x="1021461" y="2242520"/>
                </a:lnTo>
                <a:lnTo>
                  <a:pt x="1019875" y="2248551"/>
                </a:lnTo>
                <a:lnTo>
                  <a:pt x="1018289" y="2254582"/>
                </a:lnTo>
                <a:lnTo>
                  <a:pt x="1015751" y="2259979"/>
                </a:lnTo>
                <a:lnTo>
                  <a:pt x="1013530" y="2265693"/>
                </a:lnTo>
                <a:lnTo>
                  <a:pt x="1011310" y="2271407"/>
                </a:lnTo>
                <a:lnTo>
                  <a:pt x="1008455" y="2276486"/>
                </a:lnTo>
                <a:lnTo>
                  <a:pt x="1005917" y="2281248"/>
                </a:lnTo>
                <a:lnTo>
                  <a:pt x="1002427" y="2286009"/>
                </a:lnTo>
                <a:lnTo>
                  <a:pt x="999255" y="2291088"/>
                </a:lnTo>
                <a:lnTo>
                  <a:pt x="995766" y="2295533"/>
                </a:lnTo>
                <a:lnTo>
                  <a:pt x="992276" y="2299659"/>
                </a:lnTo>
                <a:lnTo>
                  <a:pt x="988470" y="2303469"/>
                </a:lnTo>
                <a:lnTo>
                  <a:pt x="984346" y="2307278"/>
                </a:lnTo>
                <a:lnTo>
                  <a:pt x="980222" y="2311087"/>
                </a:lnTo>
                <a:lnTo>
                  <a:pt x="975781" y="2314262"/>
                </a:lnTo>
                <a:lnTo>
                  <a:pt x="971339" y="2317436"/>
                </a:lnTo>
                <a:lnTo>
                  <a:pt x="966581" y="2320293"/>
                </a:lnTo>
                <a:lnTo>
                  <a:pt x="961823" y="2322833"/>
                </a:lnTo>
                <a:lnTo>
                  <a:pt x="956747" y="2325372"/>
                </a:lnTo>
                <a:lnTo>
                  <a:pt x="951989" y="2327277"/>
                </a:lnTo>
                <a:lnTo>
                  <a:pt x="946913" y="2329182"/>
                </a:lnTo>
                <a:lnTo>
                  <a:pt x="941203" y="2331086"/>
                </a:lnTo>
                <a:lnTo>
                  <a:pt x="936128" y="2332674"/>
                </a:lnTo>
                <a:lnTo>
                  <a:pt x="930418" y="2333309"/>
                </a:lnTo>
                <a:lnTo>
                  <a:pt x="925025" y="2334578"/>
                </a:lnTo>
                <a:lnTo>
                  <a:pt x="919315" y="2334896"/>
                </a:lnTo>
                <a:lnTo>
                  <a:pt x="913605" y="2335213"/>
                </a:lnTo>
                <a:lnTo>
                  <a:pt x="907577" y="2335213"/>
                </a:lnTo>
                <a:lnTo>
                  <a:pt x="901550" y="2334896"/>
                </a:lnTo>
                <a:lnTo>
                  <a:pt x="895523" y="2333943"/>
                </a:lnTo>
                <a:lnTo>
                  <a:pt x="889813" y="2333309"/>
                </a:lnTo>
                <a:lnTo>
                  <a:pt x="883786" y="2332356"/>
                </a:lnTo>
                <a:lnTo>
                  <a:pt x="878076" y="2330769"/>
                </a:lnTo>
                <a:lnTo>
                  <a:pt x="872683" y="2328864"/>
                </a:lnTo>
                <a:lnTo>
                  <a:pt x="867290" y="2326642"/>
                </a:lnTo>
                <a:lnTo>
                  <a:pt x="862214" y="2324420"/>
                </a:lnTo>
                <a:lnTo>
                  <a:pt x="857456" y="2321881"/>
                </a:lnTo>
                <a:lnTo>
                  <a:pt x="852698" y="2319341"/>
                </a:lnTo>
                <a:lnTo>
                  <a:pt x="848257" y="2316167"/>
                </a:lnTo>
                <a:lnTo>
                  <a:pt x="843815" y="2312992"/>
                </a:lnTo>
                <a:lnTo>
                  <a:pt x="839692" y="2309183"/>
                </a:lnTo>
                <a:lnTo>
                  <a:pt x="835568" y="2305373"/>
                </a:lnTo>
                <a:lnTo>
                  <a:pt x="831761" y="2301882"/>
                </a:lnTo>
                <a:lnTo>
                  <a:pt x="827954" y="2297755"/>
                </a:lnTo>
                <a:lnTo>
                  <a:pt x="824782" y="2293311"/>
                </a:lnTo>
                <a:lnTo>
                  <a:pt x="821293" y="2288866"/>
                </a:lnTo>
                <a:lnTo>
                  <a:pt x="818755" y="2283787"/>
                </a:lnTo>
                <a:lnTo>
                  <a:pt x="815900" y="2279026"/>
                </a:lnTo>
                <a:lnTo>
                  <a:pt x="813362" y="2274264"/>
                </a:lnTo>
                <a:lnTo>
                  <a:pt x="811141" y="2269185"/>
                </a:lnTo>
                <a:lnTo>
                  <a:pt x="809238" y="2263471"/>
                </a:lnTo>
                <a:lnTo>
                  <a:pt x="807335" y="2258392"/>
                </a:lnTo>
                <a:lnTo>
                  <a:pt x="805749" y="2252678"/>
                </a:lnTo>
                <a:lnTo>
                  <a:pt x="804162" y="2246646"/>
                </a:lnTo>
                <a:lnTo>
                  <a:pt x="803211" y="2241250"/>
                </a:lnTo>
                <a:lnTo>
                  <a:pt x="802576" y="2234901"/>
                </a:lnTo>
                <a:lnTo>
                  <a:pt x="801942" y="2228869"/>
                </a:lnTo>
                <a:lnTo>
                  <a:pt x="801625" y="2222838"/>
                </a:lnTo>
                <a:lnTo>
                  <a:pt x="801625" y="2216807"/>
                </a:lnTo>
                <a:lnTo>
                  <a:pt x="801942" y="2210458"/>
                </a:lnTo>
                <a:lnTo>
                  <a:pt x="802576" y="2204109"/>
                </a:lnTo>
                <a:lnTo>
                  <a:pt x="803211" y="2197443"/>
                </a:lnTo>
                <a:lnTo>
                  <a:pt x="833981" y="1990152"/>
                </a:lnTo>
                <a:lnTo>
                  <a:pt x="855235" y="1846032"/>
                </a:lnTo>
                <a:lnTo>
                  <a:pt x="861897" y="1797146"/>
                </a:lnTo>
                <a:lnTo>
                  <a:pt x="863801" y="1783178"/>
                </a:lnTo>
                <a:lnTo>
                  <a:pt x="864435" y="1777147"/>
                </a:lnTo>
                <a:lnTo>
                  <a:pt x="861897" y="1774290"/>
                </a:lnTo>
                <a:lnTo>
                  <a:pt x="855553" y="1767623"/>
                </a:lnTo>
                <a:lnTo>
                  <a:pt x="833030" y="1744133"/>
                </a:lnTo>
                <a:lnTo>
                  <a:pt x="763558" y="1673343"/>
                </a:lnTo>
                <a:lnTo>
                  <a:pt x="687424" y="1595886"/>
                </a:lnTo>
                <a:lnTo>
                  <a:pt x="657288" y="1564777"/>
                </a:lnTo>
                <a:lnTo>
                  <a:pt x="637620" y="1543825"/>
                </a:lnTo>
                <a:lnTo>
                  <a:pt x="624931" y="1537159"/>
                </a:lnTo>
                <a:lnTo>
                  <a:pt x="612876" y="1530175"/>
                </a:lnTo>
                <a:lnTo>
                  <a:pt x="600822" y="1523192"/>
                </a:lnTo>
                <a:lnTo>
                  <a:pt x="589719" y="1516208"/>
                </a:lnTo>
                <a:lnTo>
                  <a:pt x="578933" y="1508907"/>
                </a:lnTo>
                <a:lnTo>
                  <a:pt x="569100" y="1501605"/>
                </a:lnTo>
                <a:lnTo>
                  <a:pt x="559266" y="1494622"/>
                </a:lnTo>
                <a:lnTo>
                  <a:pt x="550383" y="1487003"/>
                </a:lnTo>
                <a:lnTo>
                  <a:pt x="541818" y="1480019"/>
                </a:lnTo>
                <a:lnTo>
                  <a:pt x="533570" y="1472718"/>
                </a:lnTo>
                <a:lnTo>
                  <a:pt x="525957" y="1465099"/>
                </a:lnTo>
                <a:lnTo>
                  <a:pt x="518978" y="1458116"/>
                </a:lnTo>
                <a:lnTo>
                  <a:pt x="511682" y="1451132"/>
                </a:lnTo>
                <a:lnTo>
                  <a:pt x="505655" y="1444148"/>
                </a:lnTo>
                <a:lnTo>
                  <a:pt x="499945" y="1436847"/>
                </a:lnTo>
                <a:lnTo>
                  <a:pt x="494235" y="1430181"/>
                </a:lnTo>
                <a:lnTo>
                  <a:pt x="489159" y="1423514"/>
                </a:lnTo>
                <a:lnTo>
                  <a:pt x="484718" y="1416848"/>
                </a:lnTo>
                <a:lnTo>
                  <a:pt x="480277" y="1410499"/>
                </a:lnTo>
                <a:lnTo>
                  <a:pt x="476470" y="1404150"/>
                </a:lnTo>
                <a:lnTo>
                  <a:pt x="473298" y="1397801"/>
                </a:lnTo>
                <a:lnTo>
                  <a:pt x="469808" y="1392405"/>
                </a:lnTo>
                <a:lnTo>
                  <a:pt x="464733" y="1381294"/>
                </a:lnTo>
                <a:lnTo>
                  <a:pt x="460926" y="1371453"/>
                </a:lnTo>
                <a:lnTo>
                  <a:pt x="458706" y="1362565"/>
                </a:lnTo>
                <a:lnTo>
                  <a:pt x="457754" y="1359073"/>
                </a:lnTo>
                <a:lnTo>
                  <a:pt x="457119" y="1355264"/>
                </a:lnTo>
                <a:lnTo>
                  <a:pt x="457119" y="1352089"/>
                </a:lnTo>
                <a:lnTo>
                  <a:pt x="457119" y="1349550"/>
                </a:lnTo>
                <a:lnTo>
                  <a:pt x="456802" y="1347010"/>
                </a:lnTo>
                <a:lnTo>
                  <a:pt x="456168" y="1344788"/>
                </a:lnTo>
                <a:lnTo>
                  <a:pt x="454264" y="1342566"/>
                </a:lnTo>
                <a:lnTo>
                  <a:pt x="452361" y="1340344"/>
                </a:lnTo>
                <a:lnTo>
                  <a:pt x="449823" y="1338439"/>
                </a:lnTo>
                <a:lnTo>
                  <a:pt x="446968" y="1336217"/>
                </a:lnTo>
                <a:lnTo>
                  <a:pt x="440624" y="1332408"/>
                </a:lnTo>
                <a:lnTo>
                  <a:pt x="434279" y="1328598"/>
                </a:lnTo>
                <a:lnTo>
                  <a:pt x="431107" y="1326376"/>
                </a:lnTo>
                <a:lnTo>
                  <a:pt x="428887" y="1324472"/>
                </a:lnTo>
                <a:lnTo>
                  <a:pt x="426666" y="1322250"/>
                </a:lnTo>
                <a:lnTo>
                  <a:pt x="425397" y="1319393"/>
                </a:lnTo>
                <a:lnTo>
                  <a:pt x="424128" y="1317170"/>
                </a:lnTo>
                <a:lnTo>
                  <a:pt x="424128" y="1314631"/>
                </a:lnTo>
                <a:lnTo>
                  <a:pt x="425714" y="1302568"/>
                </a:lnTo>
                <a:lnTo>
                  <a:pt x="427618" y="1289553"/>
                </a:lnTo>
                <a:lnTo>
                  <a:pt x="429521" y="1275268"/>
                </a:lnTo>
                <a:lnTo>
                  <a:pt x="432059" y="1260983"/>
                </a:lnTo>
                <a:lnTo>
                  <a:pt x="438086" y="1229873"/>
                </a:lnTo>
                <a:lnTo>
                  <a:pt x="445382" y="1196542"/>
                </a:lnTo>
                <a:lnTo>
                  <a:pt x="453313" y="1161623"/>
                </a:lnTo>
                <a:lnTo>
                  <a:pt x="462195" y="1125117"/>
                </a:lnTo>
                <a:lnTo>
                  <a:pt x="471712" y="1087658"/>
                </a:lnTo>
                <a:lnTo>
                  <a:pt x="481229" y="1049883"/>
                </a:lnTo>
                <a:lnTo>
                  <a:pt x="501531" y="974014"/>
                </a:lnTo>
                <a:lnTo>
                  <a:pt x="521199" y="901001"/>
                </a:lnTo>
                <a:lnTo>
                  <a:pt x="538963" y="833386"/>
                </a:lnTo>
                <a:lnTo>
                  <a:pt x="546577" y="803228"/>
                </a:lnTo>
                <a:lnTo>
                  <a:pt x="553238" y="775293"/>
                </a:lnTo>
                <a:lnTo>
                  <a:pt x="622710" y="754659"/>
                </a:lnTo>
                <a:lnTo>
                  <a:pt x="591305" y="753072"/>
                </a:lnTo>
                <a:lnTo>
                  <a:pt x="520881" y="750215"/>
                </a:lnTo>
                <a:lnTo>
                  <a:pt x="482497" y="748628"/>
                </a:lnTo>
                <a:lnTo>
                  <a:pt x="448554" y="747358"/>
                </a:lnTo>
                <a:lnTo>
                  <a:pt x="423494" y="747041"/>
                </a:lnTo>
                <a:lnTo>
                  <a:pt x="415563" y="747358"/>
                </a:lnTo>
                <a:lnTo>
                  <a:pt x="411439" y="747993"/>
                </a:lnTo>
                <a:lnTo>
                  <a:pt x="409853" y="748628"/>
                </a:lnTo>
                <a:lnTo>
                  <a:pt x="406364" y="750850"/>
                </a:lnTo>
                <a:lnTo>
                  <a:pt x="396847" y="757516"/>
                </a:lnTo>
                <a:lnTo>
                  <a:pt x="382889" y="767992"/>
                </a:lnTo>
                <a:lnTo>
                  <a:pt x="366393" y="781007"/>
                </a:lnTo>
                <a:lnTo>
                  <a:pt x="325472" y="812752"/>
                </a:lnTo>
                <a:lnTo>
                  <a:pt x="279791" y="849258"/>
                </a:lnTo>
                <a:lnTo>
                  <a:pt x="195093" y="917826"/>
                </a:lnTo>
                <a:lnTo>
                  <a:pt x="154805" y="951158"/>
                </a:lnTo>
                <a:lnTo>
                  <a:pt x="154488" y="951475"/>
                </a:lnTo>
                <a:lnTo>
                  <a:pt x="150681" y="954332"/>
                </a:lnTo>
                <a:lnTo>
                  <a:pt x="146875" y="957506"/>
                </a:lnTo>
                <a:lnTo>
                  <a:pt x="143068" y="960046"/>
                </a:lnTo>
                <a:lnTo>
                  <a:pt x="139261" y="962586"/>
                </a:lnTo>
                <a:lnTo>
                  <a:pt x="135454" y="964808"/>
                </a:lnTo>
                <a:lnTo>
                  <a:pt x="131013" y="966712"/>
                </a:lnTo>
                <a:lnTo>
                  <a:pt x="126889" y="968617"/>
                </a:lnTo>
                <a:lnTo>
                  <a:pt x="122766" y="969887"/>
                </a:lnTo>
                <a:lnTo>
                  <a:pt x="113883" y="972426"/>
                </a:lnTo>
                <a:lnTo>
                  <a:pt x="105318" y="974014"/>
                </a:lnTo>
                <a:lnTo>
                  <a:pt x="96436" y="975283"/>
                </a:lnTo>
                <a:lnTo>
                  <a:pt x="87554" y="974966"/>
                </a:lnTo>
                <a:lnTo>
                  <a:pt x="78671" y="974014"/>
                </a:lnTo>
                <a:lnTo>
                  <a:pt x="70106" y="972109"/>
                </a:lnTo>
                <a:lnTo>
                  <a:pt x="61541" y="969569"/>
                </a:lnTo>
                <a:lnTo>
                  <a:pt x="52976" y="966395"/>
                </a:lnTo>
                <a:lnTo>
                  <a:pt x="48852" y="964490"/>
                </a:lnTo>
                <a:lnTo>
                  <a:pt x="45363" y="962268"/>
                </a:lnTo>
                <a:lnTo>
                  <a:pt x="41239" y="959729"/>
                </a:lnTo>
                <a:lnTo>
                  <a:pt x="37432" y="956872"/>
                </a:lnTo>
                <a:lnTo>
                  <a:pt x="33626" y="954015"/>
                </a:lnTo>
                <a:lnTo>
                  <a:pt x="30453" y="951158"/>
                </a:lnTo>
                <a:lnTo>
                  <a:pt x="26647" y="947666"/>
                </a:lnTo>
                <a:lnTo>
                  <a:pt x="23792" y="944491"/>
                </a:lnTo>
                <a:lnTo>
                  <a:pt x="20302" y="940682"/>
                </a:lnTo>
                <a:lnTo>
                  <a:pt x="17764" y="936873"/>
                </a:lnTo>
                <a:lnTo>
                  <a:pt x="14909" y="933063"/>
                </a:lnTo>
                <a:lnTo>
                  <a:pt x="12689" y="929254"/>
                </a:lnTo>
                <a:lnTo>
                  <a:pt x="10468" y="925127"/>
                </a:lnTo>
                <a:lnTo>
                  <a:pt x="8248" y="921000"/>
                </a:lnTo>
                <a:lnTo>
                  <a:pt x="6662" y="916874"/>
                </a:lnTo>
                <a:lnTo>
                  <a:pt x="4758" y="912429"/>
                </a:lnTo>
                <a:lnTo>
                  <a:pt x="2538" y="903858"/>
                </a:lnTo>
                <a:lnTo>
                  <a:pt x="634" y="894970"/>
                </a:lnTo>
                <a:lnTo>
                  <a:pt x="0" y="886399"/>
                </a:lnTo>
                <a:lnTo>
                  <a:pt x="0" y="877511"/>
                </a:lnTo>
                <a:lnTo>
                  <a:pt x="952" y="868622"/>
                </a:lnTo>
                <a:lnTo>
                  <a:pt x="2538" y="859734"/>
                </a:lnTo>
                <a:lnTo>
                  <a:pt x="5075" y="851163"/>
                </a:lnTo>
                <a:lnTo>
                  <a:pt x="8882" y="842909"/>
                </a:lnTo>
                <a:lnTo>
                  <a:pt x="10785" y="838782"/>
                </a:lnTo>
                <a:lnTo>
                  <a:pt x="13006" y="834656"/>
                </a:lnTo>
                <a:lnTo>
                  <a:pt x="15544" y="831164"/>
                </a:lnTo>
                <a:lnTo>
                  <a:pt x="18082" y="827354"/>
                </a:lnTo>
                <a:lnTo>
                  <a:pt x="20937" y="823545"/>
                </a:lnTo>
                <a:lnTo>
                  <a:pt x="24109" y="820053"/>
                </a:lnTo>
                <a:lnTo>
                  <a:pt x="27281" y="816561"/>
                </a:lnTo>
                <a:lnTo>
                  <a:pt x="30771" y="813069"/>
                </a:lnTo>
                <a:lnTo>
                  <a:pt x="80575" y="775611"/>
                </a:lnTo>
                <a:lnTo>
                  <a:pt x="189700" y="694028"/>
                </a:lnTo>
                <a:lnTo>
                  <a:pt x="248386" y="650220"/>
                </a:lnTo>
                <a:lnTo>
                  <a:pt x="300094" y="612127"/>
                </a:lnTo>
                <a:lnTo>
                  <a:pt x="321348" y="596572"/>
                </a:lnTo>
                <a:lnTo>
                  <a:pt x="337843" y="585144"/>
                </a:lnTo>
                <a:lnTo>
                  <a:pt x="349263" y="577208"/>
                </a:lnTo>
                <a:lnTo>
                  <a:pt x="352436" y="574986"/>
                </a:lnTo>
                <a:lnTo>
                  <a:pt x="354022" y="574351"/>
                </a:lnTo>
                <a:lnTo>
                  <a:pt x="460926" y="562606"/>
                </a:lnTo>
                <a:lnTo>
                  <a:pt x="554190" y="552448"/>
                </a:lnTo>
                <a:lnTo>
                  <a:pt x="595112" y="548003"/>
                </a:lnTo>
                <a:lnTo>
                  <a:pt x="631275" y="544512"/>
                </a:lnTo>
                <a:lnTo>
                  <a:pt x="663315" y="541655"/>
                </a:lnTo>
                <a:lnTo>
                  <a:pt x="690596" y="539750"/>
                </a:lnTo>
                <a:close/>
                <a:moveTo>
                  <a:pt x="912333" y="0"/>
                </a:moveTo>
                <a:lnTo>
                  <a:pt x="923772" y="0"/>
                </a:lnTo>
                <a:lnTo>
                  <a:pt x="935529" y="0"/>
                </a:lnTo>
                <a:lnTo>
                  <a:pt x="943791" y="636"/>
                </a:lnTo>
                <a:lnTo>
                  <a:pt x="952052" y="1908"/>
                </a:lnTo>
                <a:lnTo>
                  <a:pt x="960632" y="3817"/>
                </a:lnTo>
                <a:lnTo>
                  <a:pt x="969211" y="5407"/>
                </a:lnTo>
                <a:lnTo>
                  <a:pt x="977473" y="8270"/>
                </a:lnTo>
                <a:lnTo>
                  <a:pt x="986052" y="11451"/>
                </a:lnTo>
                <a:lnTo>
                  <a:pt x="993996" y="14949"/>
                </a:lnTo>
                <a:lnTo>
                  <a:pt x="1001940" y="19084"/>
                </a:lnTo>
                <a:lnTo>
                  <a:pt x="1010202" y="22901"/>
                </a:lnTo>
                <a:lnTo>
                  <a:pt x="1017828" y="27990"/>
                </a:lnTo>
                <a:lnTo>
                  <a:pt x="1025454" y="33080"/>
                </a:lnTo>
                <a:lnTo>
                  <a:pt x="1032762" y="39123"/>
                </a:lnTo>
                <a:lnTo>
                  <a:pt x="1039753" y="44848"/>
                </a:lnTo>
                <a:lnTo>
                  <a:pt x="1047061" y="51210"/>
                </a:lnTo>
                <a:lnTo>
                  <a:pt x="1053734" y="57889"/>
                </a:lnTo>
                <a:lnTo>
                  <a:pt x="1060407" y="65523"/>
                </a:lnTo>
                <a:lnTo>
                  <a:pt x="1066127" y="72839"/>
                </a:lnTo>
                <a:lnTo>
                  <a:pt x="1072164" y="80791"/>
                </a:lnTo>
                <a:lnTo>
                  <a:pt x="1077884" y="89061"/>
                </a:lnTo>
                <a:lnTo>
                  <a:pt x="1082968" y="97331"/>
                </a:lnTo>
                <a:lnTo>
                  <a:pt x="1087734" y="106555"/>
                </a:lnTo>
                <a:lnTo>
                  <a:pt x="1092183" y="115779"/>
                </a:lnTo>
                <a:lnTo>
                  <a:pt x="1096313" y="125003"/>
                </a:lnTo>
                <a:lnTo>
                  <a:pt x="1100127" y="134546"/>
                </a:lnTo>
                <a:lnTo>
                  <a:pt x="1103304" y="145042"/>
                </a:lnTo>
                <a:lnTo>
                  <a:pt x="1106164" y="155220"/>
                </a:lnTo>
                <a:lnTo>
                  <a:pt x="1108706" y="166035"/>
                </a:lnTo>
                <a:lnTo>
                  <a:pt x="1110612" y="176849"/>
                </a:lnTo>
                <a:lnTo>
                  <a:pt x="1111566" y="187982"/>
                </a:lnTo>
                <a:lnTo>
                  <a:pt x="1112519" y="199433"/>
                </a:lnTo>
                <a:lnTo>
                  <a:pt x="1112837" y="210883"/>
                </a:lnTo>
                <a:lnTo>
                  <a:pt x="1112519" y="222970"/>
                </a:lnTo>
                <a:lnTo>
                  <a:pt x="1110930" y="247144"/>
                </a:lnTo>
                <a:lnTo>
                  <a:pt x="1109024" y="271636"/>
                </a:lnTo>
                <a:lnTo>
                  <a:pt x="1106164" y="296764"/>
                </a:lnTo>
                <a:lnTo>
                  <a:pt x="1104575" y="308851"/>
                </a:lnTo>
                <a:lnTo>
                  <a:pt x="1102351" y="321574"/>
                </a:lnTo>
                <a:lnTo>
                  <a:pt x="1100444" y="333978"/>
                </a:lnTo>
                <a:lnTo>
                  <a:pt x="1097902" y="345747"/>
                </a:lnTo>
                <a:lnTo>
                  <a:pt x="1095360" y="358152"/>
                </a:lnTo>
                <a:lnTo>
                  <a:pt x="1092183" y="369921"/>
                </a:lnTo>
                <a:lnTo>
                  <a:pt x="1089323" y="381372"/>
                </a:lnTo>
                <a:lnTo>
                  <a:pt x="1085510" y="393140"/>
                </a:lnTo>
                <a:lnTo>
                  <a:pt x="1082014" y="404273"/>
                </a:lnTo>
                <a:lnTo>
                  <a:pt x="1077884" y="415406"/>
                </a:lnTo>
                <a:lnTo>
                  <a:pt x="1073753" y="425902"/>
                </a:lnTo>
                <a:lnTo>
                  <a:pt x="1068986" y="436080"/>
                </a:lnTo>
                <a:lnTo>
                  <a:pt x="1063585" y="445941"/>
                </a:lnTo>
                <a:lnTo>
                  <a:pt x="1058501" y="455483"/>
                </a:lnTo>
                <a:lnTo>
                  <a:pt x="1052463" y="464389"/>
                </a:lnTo>
                <a:lnTo>
                  <a:pt x="1046108" y="472977"/>
                </a:lnTo>
                <a:lnTo>
                  <a:pt x="1039753" y="481247"/>
                </a:lnTo>
                <a:lnTo>
                  <a:pt x="1032762" y="488563"/>
                </a:lnTo>
                <a:lnTo>
                  <a:pt x="1025454" y="495242"/>
                </a:lnTo>
                <a:lnTo>
                  <a:pt x="1017510" y="501922"/>
                </a:lnTo>
                <a:lnTo>
                  <a:pt x="1009248" y="507647"/>
                </a:lnTo>
                <a:lnTo>
                  <a:pt x="1000351" y="512736"/>
                </a:lnTo>
                <a:lnTo>
                  <a:pt x="991454" y="516871"/>
                </a:lnTo>
                <a:lnTo>
                  <a:pt x="981921" y="520688"/>
                </a:lnTo>
                <a:lnTo>
                  <a:pt x="971435" y="523551"/>
                </a:lnTo>
                <a:lnTo>
                  <a:pt x="960949" y="525778"/>
                </a:lnTo>
                <a:lnTo>
                  <a:pt x="953005" y="526732"/>
                </a:lnTo>
                <a:lnTo>
                  <a:pt x="944426" y="527050"/>
                </a:lnTo>
                <a:lnTo>
                  <a:pt x="935847" y="526414"/>
                </a:lnTo>
                <a:lnTo>
                  <a:pt x="926314" y="525141"/>
                </a:lnTo>
                <a:lnTo>
                  <a:pt x="917099" y="523233"/>
                </a:lnTo>
                <a:lnTo>
                  <a:pt x="907884" y="520688"/>
                </a:lnTo>
                <a:lnTo>
                  <a:pt x="898669" y="517190"/>
                </a:lnTo>
                <a:lnTo>
                  <a:pt x="888819" y="513373"/>
                </a:lnTo>
                <a:lnTo>
                  <a:pt x="879286" y="508283"/>
                </a:lnTo>
                <a:lnTo>
                  <a:pt x="869118" y="503194"/>
                </a:lnTo>
                <a:lnTo>
                  <a:pt x="859585" y="496833"/>
                </a:lnTo>
                <a:lnTo>
                  <a:pt x="849735" y="490153"/>
                </a:lnTo>
                <a:lnTo>
                  <a:pt x="840202" y="482837"/>
                </a:lnTo>
                <a:lnTo>
                  <a:pt x="830987" y="474886"/>
                </a:lnTo>
                <a:lnTo>
                  <a:pt x="821454" y="465979"/>
                </a:lnTo>
                <a:lnTo>
                  <a:pt x="812239" y="456755"/>
                </a:lnTo>
                <a:lnTo>
                  <a:pt x="803342" y="446577"/>
                </a:lnTo>
                <a:lnTo>
                  <a:pt x="794445" y="435762"/>
                </a:lnTo>
                <a:lnTo>
                  <a:pt x="786183" y="424630"/>
                </a:lnTo>
                <a:lnTo>
                  <a:pt x="778240" y="412225"/>
                </a:lnTo>
                <a:lnTo>
                  <a:pt x="770296" y="400138"/>
                </a:lnTo>
                <a:lnTo>
                  <a:pt x="762987" y="386779"/>
                </a:lnTo>
                <a:lnTo>
                  <a:pt x="756314" y="372784"/>
                </a:lnTo>
                <a:lnTo>
                  <a:pt x="749324" y="358470"/>
                </a:lnTo>
                <a:lnTo>
                  <a:pt x="743604" y="343203"/>
                </a:lnTo>
                <a:lnTo>
                  <a:pt x="738202" y="327617"/>
                </a:lnTo>
                <a:lnTo>
                  <a:pt x="733436" y="311077"/>
                </a:lnTo>
                <a:lnTo>
                  <a:pt x="728987" y="294219"/>
                </a:lnTo>
                <a:lnTo>
                  <a:pt x="725810" y="276725"/>
                </a:lnTo>
                <a:lnTo>
                  <a:pt x="722632" y="258595"/>
                </a:lnTo>
                <a:lnTo>
                  <a:pt x="720408" y="240146"/>
                </a:lnTo>
                <a:lnTo>
                  <a:pt x="719137" y="221062"/>
                </a:lnTo>
                <a:lnTo>
                  <a:pt x="719772" y="209293"/>
                </a:lnTo>
                <a:lnTo>
                  <a:pt x="721361" y="197206"/>
                </a:lnTo>
                <a:lnTo>
                  <a:pt x="722632" y="185756"/>
                </a:lnTo>
                <a:lnTo>
                  <a:pt x="724856" y="174623"/>
                </a:lnTo>
                <a:lnTo>
                  <a:pt x="727399" y="163490"/>
                </a:lnTo>
                <a:lnTo>
                  <a:pt x="730576" y="152676"/>
                </a:lnTo>
                <a:lnTo>
                  <a:pt x="734389" y="142179"/>
                </a:lnTo>
                <a:lnTo>
                  <a:pt x="737884" y="131683"/>
                </a:lnTo>
                <a:lnTo>
                  <a:pt x="742333" y="121823"/>
                </a:lnTo>
                <a:lnTo>
                  <a:pt x="746782" y="111962"/>
                </a:lnTo>
                <a:lnTo>
                  <a:pt x="752184" y="102420"/>
                </a:lnTo>
                <a:lnTo>
                  <a:pt x="757268" y="93514"/>
                </a:lnTo>
                <a:lnTo>
                  <a:pt x="763305" y="84290"/>
                </a:lnTo>
                <a:lnTo>
                  <a:pt x="769660" y="76338"/>
                </a:lnTo>
                <a:lnTo>
                  <a:pt x="776015" y="68068"/>
                </a:lnTo>
                <a:lnTo>
                  <a:pt x="783006" y="60116"/>
                </a:lnTo>
                <a:lnTo>
                  <a:pt x="790314" y="53118"/>
                </a:lnTo>
                <a:lnTo>
                  <a:pt x="797940" y="46121"/>
                </a:lnTo>
                <a:lnTo>
                  <a:pt x="805567" y="39759"/>
                </a:lnTo>
                <a:lnTo>
                  <a:pt x="813828" y="33398"/>
                </a:lnTo>
                <a:lnTo>
                  <a:pt x="822725" y="27990"/>
                </a:lnTo>
                <a:lnTo>
                  <a:pt x="831305" y="22901"/>
                </a:lnTo>
                <a:lnTo>
                  <a:pt x="840520" y="18130"/>
                </a:lnTo>
                <a:lnTo>
                  <a:pt x="849735" y="13995"/>
                </a:lnTo>
                <a:lnTo>
                  <a:pt x="859903" y="10496"/>
                </a:lnTo>
                <a:lnTo>
                  <a:pt x="870071" y="7316"/>
                </a:lnTo>
                <a:lnTo>
                  <a:pt x="879922" y="4771"/>
                </a:lnTo>
                <a:lnTo>
                  <a:pt x="890725" y="2544"/>
                </a:lnTo>
                <a:lnTo>
                  <a:pt x="901529" y="954"/>
                </a:lnTo>
                <a:lnTo>
                  <a:pt x="912333" y="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矩形 4"/>
          <p:cNvSpPr/>
          <p:nvPr/>
        </p:nvSpPr>
        <p:spPr>
          <a:xfrm>
            <a:off x="1174680" y="4768920"/>
            <a:ext cx="18115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83" name="矩形 5"/>
          <p:cNvSpPr/>
          <p:nvPr/>
        </p:nvSpPr>
        <p:spPr>
          <a:xfrm>
            <a:off x="1174680" y="5114880"/>
            <a:ext cx="18115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84" name="KSO_Shape"/>
          <p:cNvSpPr/>
          <p:nvPr/>
        </p:nvSpPr>
        <p:spPr>
          <a:xfrm>
            <a:off x="3932280" y="5460840"/>
            <a:ext cx="544320" cy="298440"/>
          </a:xfrm>
          <a:custGeom>
            <a:avLst/>
            <a:gdLst/>
            <a:ahLst/>
            <a:rect l="l" t="t" r="r" b="b"/>
            <a:pathLst>
              <a:path w="368" h="181">
                <a:moveTo>
                  <a:pt x="246" y="114"/>
                </a:moveTo>
                <a:cubicBezTo>
                  <a:pt x="240" y="122"/>
                  <a:pt x="236" y="133"/>
                  <a:pt x="236" y="144"/>
                </a:cubicBezTo>
                <a:cubicBezTo>
                  <a:pt x="236" y="147"/>
                  <a:pt x="237" y="149"/>
                  <a:pt x="237" y="152"/>
                </a:cubicBezTo>
                <a:cubicBezTo>
                  <a:pt x="122" y="152"/>
                  <a:pt x="122" y="152"/>
                  <a:pt x="122" y="152"/>
                </a:cubicBezTo>
                <a:cubicBezTo>
                  <a:pt x="123" y="149"/>
                  <a:pt x="123" y="147"/>
                  <a:pt x="123" y="144"/>
                </a:cubicBezTo>
                <a:cubicBezTo>
                  <a:pt x="123" y="133"/>
                  <a:pt x="119" y="122"/>
                  <a:pt x="113" y="114"/>
                </a:cubicBezTo>
                <a:lnTo>
                  <a:pt x="246" y="114"/>
                </a:lnTo>
                <a:close/>
                <a:moveTo>
                  <a:pt x="364" y="122"/>
                </a:moveTo>
                <a:cubicBezTo>
                  <a:pt x="363" y="117"/>
                  <a:pt x="361" y="116"/>
                  <a:pt x="357" y="114"/>
                </a:cubicBezTo>
                <a:cubicBezTo>
                  <a:pt x="326" y="114"/>
                  <a:pt x="326" y="114"/>
                  <a:pt x="326" y="114"/>
                </a:cubicBezTo>
                <a:cubicBezTo>
                  <a:pt x="333" y="122"/>
                  <a:pt x="337" y="133"/>
                  <a:pt x="337" y="144"/>
                </a:cubicBezTo>
                <a:cubicBezTo>
                  <a:pt x="337" y="147"/>
                  <a:pt x="336" y="149"/>
                  <a:pt x="336" y="152"/>
                </a:cubicBezTo>
                <a:cubicBezTo>
                  <a:pt x="350" y="152"/>
                  <a:pt x="350" y="152"/>
                  <a:pt x="350" y="152"/>
                </a:cubicBezTo>
                <a:cubicBezTo>
                  <a:pt x="364" y="152"/>
                  <a:pt x="368" y="145"/>
                  <a:pt x="366" y="131"/>
                </a:cubicBezTo>
                <a:lnTo>
                  <a:pt x="364" y="122"/>
                </a:lnTo>
                <a:close/>
                <a:moveTo>
                  <a:pt x="23" y="144"/>
                </a:moveTo>
                <a:cubicBezTo>
                  <a:pt x="23" y="133"/>
                  <a:pt x="26" y="122"/>
                  <a:pt x="33" y="114"/>
                </a:cubicBezTo>
                <a:cubicBezTo>
                  <a:pt x="4" y="114"/>
                  <a:pt x="4" y="114"/>
                  <a:pt x="4" y="114"/>
                </a:cubicBezTo>
                <a:cubicBezTo>
                  <a:pt x="2" y="117"/>
                  <a:pt x="0" y="120"/>
                  <a:pt x="0" y="126"/>
                </a:cubicBezTo>
                <a:cubicBezTo>
                  <a:pt x="0" y="134"/>
                  <a:pt x="0" y="134"/>
                  <a:pt x="0" y="134"/>
                </a:cubicBezTo>
                <a:cubicBezTo>
                  <a:pt x="0" y="145"/>
                  <a:pt x="9" y="147"/>
                  <a:pt x="23" y="151"/>
                </a:cubicBezTo>
                <a:cubicBezTo>
                  <a:pt x="23" y="149"/>
                  <a:pt x="23" y="147"/>
                  <a:pt x="23" y="144"/>
                </a:cubicBezTo>
                <a:close/>
                <a:moveTo>
                  <a:pt x="73" y="108"/>
                </a:moveTo>
                <a:cubicBezTo>
                  <a:pt x="53" y="108"/>
                  <a:pt x="36" y="124"/>
                  <a:pt x="36" y="144"/>
                </a:cubicBezTo>
                <a:cubicBezTo>
                  <a:pt x="36" y="164"/>
                  <a:pt x="53" y="181"/>
                  <a:pt x="73" y="181"/>
                </a:cubicBezTo>
                <a:cubicBezTo>
                  <a:pt x="93" y="181"/>
                  <a:pt x="109" y="164"/>
                  <a:pt x="109" y="144"/>
                </a:cubicBezTo>
                <a:cubicBezTo>
                  <a:pt x="109" y="124"/>
                  <a:pt x="93" y="108"/>
                  <a:pt x="73" y="108"/>
                </a:cubicBezTo>
                <a:close/>
                <a:moveTo>
                  <a:pt x="73" y="165"/>
                </a:moveTo>
                <a:cubicBezTo>
                  <a:pt x="61" y="165"/>
                  <a:pt x="52" y="156"/>
                  <a:pt x="52" y="144"/>
                </a:cubicBezTo>
                <a:cubicBezTo>
                  <a:pt x="52" y="133"/>
                  <a:pt x="61" y="124"/>
                  <a:pt x="73" y="124"/>
                </a:cubicBezTo>
                <a:cubicBezTo>
                  <a:pt x="84" y="124"/>
                  <a:pt x="94" y="133"/>
                  <a:pt x="94" y="144"/>
                </a:cubicBezTo>
                <a:cubicBezTo>
                  <a:pt x="94" y="156"/>
                  <a:pt x="84" y="165"/>
                  <a:pt x="73" y="165"/>
                </a:cubicBezTo>
                <a:close/>
                <a:moveTo>
                  <a:pt x="286" y="108"/>
                </a:moveTo>
                <a:cubicBezTo>
                  <a:pt x="266" y="108"/>
                  <a:pt x="250" y="124"/>
                  <a:pt x="250" y="144"/>
                </a:cubicBezTo>
                <a:cubicBezTo>
                  <a:pt x="250" y="164"/>
                  <a:pt x="266" y="181"/>
                  <a:pt x="286" y="181"/>
                </a:cubicBezTo>
                <a:cubicBezTo>
                  <a:pt x="307" y="181"/>
                  <a:pt x="323" y="164"/>
                  <a:pt x="323" y="144"/>
                </a:cubicBezTo>
                <a:cubicBezTo>
                  <a:pt x="323" y="124"/>
                  <a:pt x="307" y="108"/>
                  <a:pt x="286" y="108"/>
                </a:cubicBezTo>
                <a:close/>
                <a:moveTo>
                  <a:pt x="286" y="165"/>
                </a:moveTo>
                <a:cubicBezTo>
                  <a:pt x="275" y="165"/>
                  <a:pt x="266" y="156"/>
                  <a:pt x="266" y="144"/>
                </a:cubicBezTo>
                <a:cubicBezTo>
                  <a:pt x="266" y="133"/>
                  <a:pt x="275" y="124"/>
                  <a:pt x="286" y="124"/>
                </a:cubicBezTo>
                <a:cubicBezTo>
                  <a:pt x="298" y="124"/>
                  <a:pt x="307" y="133"/>
                  <a:pt x="307" y="144"/>
                </a:cubicBezTo>
                <a:cubicBezTo>
                  <a:pt x="307" y="156"/>
                  <a:pt x="298" y="165"/>
                  <a:pt x="286" y="165"/>
                </a:cubicBezTo>
                <a:close/>
                <a:moveTo>
                  <a:pt x="348" y="79"/>
                </a:moveTo>
                <a:cubicBezTo>
                  <a:pt x="345" y="65"/>
                  <a:pt x="338" y="61"/>
                  <a:pt x="319" y="59"/>
                </a:cubicBezTo>
                <a:cubicBezTo>
                  <a:pt x="293" y="55"/>
                  <a:pt x="249" y="49"/>
                  <a:pt x="249" y="49"/>
                </a:cubicBezTo>
                <a:cubicBezTo>
                  <a:pt x="228" y="33"/>
                  <a:pt x="210" y="17"/>
                  <a:pt x="179" y="14"/>
                </a:cubicBezTo>
                <a:cubicBezTo>
                  <a:pt x="177" y="10"/>
                  <a:pt x="177" y="10"/>
                  <a:pt x="177" y="10"/>
                </a:cubicBezTo>
                <a:cubicBezTo>
                  <a:pt x="176" y="9"/>
                  <a:pt x="173" y="0"/>
                  <a:pt x="162" y="0"/>
                </a:cubicBezTo>
                <a:cubicBezTo>
                  <a:pt x="90" y="0"/>
                  <a:pt x="90" y="0"/>
                  <a:pt x="90" y="0"/>
                </a:cubicBezTo>
                <a:cubicBezTo>
                  <a:pt x="79" y="0"/>
                  <a:pt x="76" y="6"/>
                  <a:pt x="75" y="9"/>
                </a:cubicBezTo>
                <a:cubicBezTo>
                  <a:pt x="74" y="11"/>
                  <a:pt x="73" y="14"/>
                  <a:pt x="73" y="14"/>
                </a:cubicBezTo>
                <a:cubicBezTo>
                  <a:pt x="39" y="17"/>
                  <a:pt x="5" y="50"/>
                  <a:pt x="5" y="65"/>
                </a:cubicBezTo>
                <a:cubicBezTo>
                  <a:pt x="5" y="103"/>
                  <a:pt x="5" y="103"/>
                  <a:pt x="5" y="103"/>
                </a:cubicBezTo>
                <a:cubicBezTo>
                  <a:pt x="45" y="103"/>
                  <a:pt x="45" y="103"/>
                  <a:pt x="45" y="103"/>
                </a:cubicBezTo>
                <a:cubicBezTo>
                  <a:pt x="52" y="98"/>
                  <a:pt x="59" y="95"/>
                  <a:pt x="68" y="94"/>
                </a:cubicBezTo>
                <a:cubicBezTo>
                  <a:pt x="68" y="53"/>
                  <a:pt x="68" y="53"/>
                  <a:pt x="68" y="53"/>
                </a:cubicBezTo>
                <a:cubicBezTo>
                  <a:pt x="27" y="53"/>
                  <a:pt x="27" y="53"/>
                  <a:pt x="27" y="53"/>
                </a:cubicBezTo>
                <a:cubicBezTo>
                  <a:pt x="34" y="43"/>
                  <a:pt x="56" y="24"/>
                  <a:pt x="77" y="24"/>
                </a:cubicBezTo>
                <a:cubicBezTo>
                  <a:pt x="97" y="24"/>
                  <a:pt x="97" y="24"/>
                  <a:pt x="97" y="24"/>
                </a:cubicBezTo>
                <a:cubicBezTo>
                  <a:pt x="79" y="53"/>
                  <a:pt x="79" y="53"/>
                  <a:pt x="79" y="53"/>
                </a:cubicBezTo>
                <a:cubicBezTo>
                  <a:pt x="79" y="94"/>
                  <a:pt x="79" y="94"/>
                  <a:pt x="79" y="94"/>
                </a:cubicBezTo>
                <a:cubicBezTo>
                  <a:pt x="87" y="96"/>
                  <a:pt x="95" y="98"/>
                  <a:pt x="101" y="103"/>
                </a:cubicBezTo>
                <a:cubicBezTo>
                  <a:pt x="144" y="103"/>
                  <a:pt x="144" y="103"/>
                  <a:pt x="144" y="103"/>
                </a:cubicBezTo>
                <a:cubicBezTo>
                  <a:pt x="144" y="53"/>
                  <a:pt x="144" y="53"/>
                  <a:pt x="144" y="53"/>
                </a:cubicBezTo>
                <a:cubicBezTo>
                  <a:pt x="95" y="53"/>
                  <a:pt x="95" y="53"/>
                  <a:pt x="95" y="53"/>
                </a:cubicBezTo>
                <a:cubicBezTo>
                  <a:pt x="113" y="24"/>
                  <a:pt x="113" y="24"/>
                  <a:pt x="113" y="24"/>
                </a:cubicBezTo>
                <a:cubicBezTo>
                  <a:pt x="164" y="24"/>
                  <a:pt x="164" y="24"/>
                  <a:pt x="164" y="24"/>
                </a:cubicBezTo>
                <a:cubicBezTo>
                  <a:pt x="196" y="24"/>
                  <a:pt x="210" y="35"/>
                  <a:pt x="232" y="53"/>
                </a:cubicBezTo>
                <a:cubicBezTo>
                  <a:pt x="155" y="53"/>
                  <a:pt x="155" y="53"/>
                  <a:pt x="155" y="53"/>
                </a:cubicBezTo>
                <a:cubicBezTo>
                  <a:pt x="155" y="103"/>
                  <a:pt x="155" y="103"/>
                  <a:pt x="155" y="103"/>
                </a:cubicBezTo>
                <a:cubicBezTo>
                  <a:pt x="258" y="103"/>
                  <a:pt x="258" y="103"/>
                  <a:pt x="258" y="103"/>
                </a:cubicBezTo>
                <a:cubicBezTo>
                  <a:pt x="266" y="97"/>
                  <a:pt x="276" y="94"/>
                  <a:pt x="286" y="94"/>
                </a:cubicBezTo>
                <a:cubicBezTo>
                  <a:pt x="297" y="94"/>
                  <a:pt x="307" y="97"/>
                  <a:pt x="315" y="103"/>
                </a:cubicBezTo>
                <a:cubicBezTo>
                  <a:pt x="352" y="103"/>
                  <a:pt x="352" y="103"/>
                  <a:pt x="352" y="103"/>
                </a:cubicBezTo>
                <a:lnTo>
                  <a:pt x="348" y="79"/>
                </a:lnTo>
                <a:close/>
                <a:moveTo>
                  <a:pt x="30" y="83"/>
                </a:moveTo>
                <a:cubicBezTo>
                  <a:pt x="29" y="85"/>
                  <a:pt x="21" y="94"/>
                  <a:pt x="21" y="94"/>
                </a:cubicBezTo>
                <a:cubicBezTo>
                  <a:pt x="13" y="94"/>
                  <a:pt x="13" y="94"/>
                  <a:pt x="13" y="94"/>
                </a:cubicBezTo>
                <a:cubicBezTo>
                  <a:pt x="13" y="74"/>
                  <a:pt x="13" y="74"/>
                  <a:pt x="13" y="74"/>
                </a:cubicBezTo>
                <a:cubicBezTo>
                  <a:pt x="27" y="74"/>
                  <a:pt x="27" y="74"/>
                  <a:pt x="27" y="74"/>
                </a:cubicBezTo>
                <a:cubicBezTo>
                  <a:pt x="31" y="74"/>
                  <a:pt x="34" y="78"/>
                  <a:pt x="30" y="83"/>
                </a:cubicBezTo>
                <a:close/>
                <a:moveTo>
                  <a:pt x="82" y="13"/>
                </a:moveTo>
                <a:cubicBezTo>
                  <a:pt x="82" y="12"/>
                  <a:pt x="82" y="12"/>
                  <a:pt x="82" y="12"/>
                </a:cubicBezTo>
                <a:cubicBezTo>
                  <a:pt x="83" y="10"/>
                  <a:pt x="84" y="8"/>
                  <a:pt x="90" y="8"/>
                </a:cubicBezTo>
                <a:cubicBezTo>
                  <a:pt x="162" y="8"/>
                  <a:pt x="162" y="8"/>
                  <a:pt x="162" y="8"/>
                </a:cubicBezTo>
                <a:cubicBezTo>
                  <a:pt x="167" y="8"/>
                  <a:pt x="169" y="11"/>
                  <a:pt x="169" y="13"/>
                </a:cubicBezTo>
                <a:cubicBezTo>
                  <a:pt x="170" y="13"/>
                  <a:pt x="170" y="13"/>
                  <a:pt x="170" y="13"/>
                </a:cubicBezTo>
                <a:cubicBezTo>
                  <a:pt x="170" y="13"/>
                  <a:pt x="170" y="13"/>
                  <a:pt x="170" y="13"/>
                </a:cubicBezTo>
                <a:cubicBezTo>
                  <a:pt x="151" y="13"/>
                  <a:pt x="110" y="13"/>
                  <a:pt x="82" y="13"/>
                </a:cubicBezTo>
                <a:close/>
                <a:moveTo>
                  <a:pt x="333" y="94"/>
                </a:moveTo>
                <a:cubicBezTo>
                  <a:pt x="326" y="94"/>
                  <a:pt x="323" y="93"/>
                  <a:pt x="319" y="87"/>
                </a:cubicBezTo>
                <a:cubicBezTo>
                  <a:pt x="316" y="80"/>
                  <a:pt x="316" y="80"/>
                  <a:pt x="316" y="80"/>
                </a:cubicBezTo>
                <a:cubicBezTo>
                  <a:pt x="314" y="76"/>
                  <a:pt x="317" y="74"/>
                  <a:pt x="319" y="74"/>
                </a:cubicBezTo>
                <a:cubicBezTo>
                  <a:pt x="320" y="74"/>
                  <a:pt x="332" y="74"/>
                  <a:pt x="338" y="74"/>
                </a:cubicBezTo>
                <a:cubicBezTo>
                  <a:pt x="339" y="76"/>
                  <a:pt x="340" y="78"/>
                  <a:pt x="341" y="81"/>
                </a:cubicBezTo>
                <a:cubicBezTo>
                  <a:pt x="343" y="94"/>
                  <a:pt x="343" y="94"/>
                  <a:pt x="343" y="94"/>
                </a:cubicBezTo>
                <a:lnTo>
                  <a:pt x="333" y="94"/>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KSO_Shape"/>
          <p:cNvSpPr/>
          <p:nvPr/>
        </p:nvSpPr>
        <p:spPr>
          <a:xfrm>
            <a:off x="6143760" y="3192480"/>
            <a:ext cx="496800" cy="601560"/>
          </a:xfrm>
          <a:custGeom>
            <a:avLst/>
            <a:gdLst/>
            <a:ahLst/>
            <a:rect l="l" t="t" r="r" b="b"/>
            <a:pathLst>
              <a:path w="968375" h="1170887">
                <a:moveTo>
                  <a:pt x="86328" y="968447"/>
                </a:moveTo>
                <a:cubicBezTo>
                  <a:pt x="120108" y="1054672"/>
                  <a:pt x="258984" y="1114654"/>
                  <a:pt x="416627" y="1114654"/>
                </a:cubicBezTo>
                <a:cubicBezTo>
                  <a:pt x="566762" y="1114654"/>
                  <a:pt x="701884" y="1058421"/>
                  <a:pt x="743172" y="975945"/>
                </a:cubicBezTo>
                <a:cubicBezTo>
                  <a:pt x="791966" y="998438"/>
                  <a:pt x="791966" y="998438"/>
                  <a:pt x="791966" y="998438"/>
                </a:cubicBezTo>
                <a:cubicBezTo>
                  <a:pt x="743172" y="1103407"/>
                  <a:pt x="589283" y="1170887"/>
                  <a:pt x="416627" y="1170887"/>
                </a:cubicBezTo>
                <a:cubicBezTo>
                  <a:pt x="236464" y="1170887"/>
                  <a:pt x="78821" y="1095909"/>
                  <a:pt x="33780" y="990941"/>
                </a:cubicBezTo>
                <a:cubicBezTo>
                  <a:pt x="86328" y="968447"/>
                  <a:pt x="86328" y="968447"/>
                  <a:pt x="86328" y="968447"/>
                </a:cubicBezTo>
                <a:close/>
                <a:moveTo>
                  <a:pt x="870787" y="619801"/>
                </a:moveTo>
                <a:cubicBezTo>
                  <a:pt x="927088" y="634796"/>
                  <a:pt x="968375" y="683532"/>
                  <a:pt x="968375" y="739765"/>
                </a:cubicBezTo>
                <a:cubicBezTo>
                  <a:pt x="968375" y="810994"/>
                  <a:pt x="912074" y="863478"/>
                  <a:pt x="844513" y="863478"/>
                </a:cubicBezTo>
                <a:cubicBezTo>
                  <a:pt x="829500" y="863478"/>
                  <a:pt x="814486" y="863478"/>
                  <a:pt x="799473" y="855981"/>
                </a:cubicBezTo>
                <a:cubicBezTo>
                  <a:pt x="810733" y="840985"/>
                  <a:pt x="821993" y="822241"/>
                  <a:pt x="829500" y="807245"/>
                </a:cubicBezTo>
                <a:cubicBezTo>
                  <a:pt x="833253" y="807245"/>
                  <a:pt x="840760" y="810994"/>
                  <a:pt x="844513" y="810994"/>
                </a:cubicBezTo>
                <a:cubicBezTo>
                  <a:pt x="882047" y="810994"/>
                  <a:pt x="912074" y="777254"/>
                  <a:pt x="912074" y="739765"/>
                </a:cubicBezTo>
                <a:cubicBezTo>
                  <a:pt x="912074" y="713523"/>
                  <a:pt x="893307" y="687281"/>
                  <a:pt x="867034" y="676034"/>
                </a:cubicBezTo>
                <a:cubicBezTo>
                  <a:pt x="870787" y="661038"/>
                  <a:pt x="870787" y="642294"/>
                  <a:pt x="870787" y="619801"/>
                </a:cubicBezTo>
                <a:close/>
                <a:moveTo>
                  <a:pt x="821993" y="537325"/>
                </a:moveTo>
                <a:cubicBezTo>
                  <a:pt x="825746" y="556070"/>
                  <a:pt x="829500" y="582312"/>
                  <a:pt x="829500" y="612303"/>
                </a:cubicBezTo>
                <a:cubicBezTo>
                  <a:pt x="829500" y="840985"/>
                  <a:pt x="645584" y="1024681"/>
                  <a:pt x="416627" y="1024681"/>
                </a:cubicBezTo>
                <a:cubicBezTo>
                  <a:pt x="187669" y="1024681"/>
                  <a:pt x="0" y="840985"/>
                  <a:pt x="0" y="612303"/>
                </a:cubicBezTo>
                <a:cubicBezTo>
                  <a:pt x="0" y="586061"/>
                  <a:pt x="3753" y="563567"/>
                  <a:pt x="7507" y="544823"/>
                </a:cubicBezTo>
                <a:cubicBezTo>
                  <a:pt x="7507" y="664787"/>
                  <a:pt x="187669" y="758510"/>
                  <a:pt x="416627" y="758510"/>
                </a:cubicBezTo>
                <a:cubicBezTo>
                  <a:pt x="641830" y="758510"/>
                  <a:pt x="821993" y="664787"/>
                  <a:pt x="821993" y="544823"/>
                </a:cubicBezTo>
                <a:cubicBezTo>
                  <a:pt x="821993" y="541074"/>
                  <a:pt x="821993" y="541074"/>
                  <a:pt x="821993" y="537325"/>
                </a:cubicBezTo>
                <a:close/>
                <a:moveTo>
                  <a:pt x="416627" y="372374"/>
                </a:moveTo>
                <a:cubicBezTo>
                  <a:pt x="611803" y="372374"/>
                  <a:pt x="776952" y="451101"/>
                  <a:pt x="776952" y="544823"/>
                </a:cubicBezTo>
                <a:cubicBezTo>
                  <a:pt x="776952" y="556070"/>
                  <a:pt x="776952" y="563567"/>
                  <a:pt x="773199" y="571065"/>
                </a:cubicBezTo>
                <a:cubicBezTo>
                  <a:pt x="716898" y="499836"/>
                  <a:pt x="578023" y="451101"/>
                  <a:pt x="416627" y="451101"/>
                </a:cubicBezTo>
                <a:cubicBezTo>
                  <a:pt x="251477" y="451101"/>
                  <a:pt x="112601" y="499836"/>
                  <a:pt x="56301" y="571065"/>
                </a:cubicBezTo>
                <a:cubicBezTo>
                  <a:pt x="52547" y="563567"/>
                  <a:pt x="52547" y="556070"/>
                  <a:pt x="52547" y="544823"/>
                </a:cubicBezTo>
                <a:cubicBezTo>
                  <a:pt x="52547" y="451101"/>
                  <a:pt x="217696" y="372374"/>
                  <a:pt x="416627" y="372374"/>
                </a:cubicBezTo>
                <a:close/>
                <a:moveTo>
                  <a:pt x="543902" y="62096"/>
                </a:moveTo>
                <a:cubicBezTo>
                  <a:pt x="636930" y="186288"/>
                  <a:pt x="492220" y="196637"/>
                  <a:pt x="554238" y="372576"/>
                </a:cubicBezTo>
                <a:cubicBezTo>
                  <a:pt x="409528" y="155240"/>
                  <a:pt x="585248" y="196637"/>
                  <a:pt x="543902" y="62096"/>
                </a:cubicBezTo>
                <a:close/>
                <a:moveTo>
                  <a:pt x="275155" y="41398"/>
                </a:moveTo>
                <a:cubicBezTo>
                  <a:pt x="368183" y="175939"/>
                  <a:pt x="223472" y="175939"/>
                  <a:pt x="285491" y="351878"/>
                </a:cubicBezTo>
                <a:cubicBezTo>
                  <a:pt x="140780" y="144891"/>
                  <a:pt x="316500" y="186288"/>
                  <a:pt x="275155" y="41398"/>
                </a:cubicBezTo>
                <a:close/>
                <a:moveTo>
                  <a:pt x="409528" y="0"/>
                </a:moveTo>
                <a:cubicBezTo>
                  <a:pt x="502556" y="124192"/>
                  <a:pt x="357846" y="134542"/>
                  <a:pt x="419865" y="310480"/>
                </a:cubicBezTo>
                <a:cubicBezTo>
                  <a:pt x="275155" y="103493"/>
                  <a:pt x="450874" y="144891"/>
                  <a:pt x="409528" y="0"/>
                </a:cubicBez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矩形 8"/>
          <p:cNvSpPr/>
          <p:nvPr/>
        </p:nvSpPr>
        <p:spPr>
          <a:xfrm>
            <a:off x="7338960" y="4592520"/>
            <a:ext cx="401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a:t>
            </a:r>
            <a:endParaRPr b="0" lang="en-US" sz="1400" spc="-1" strike="noStrike">
              <a:solidFill>
                <a:srgbClr val="000000"/>
              </a:solidFill>
              <a:latin typeface="Calibri"/>
            </a:endParaRPr>
          </a:p>
        </p:txBody>
      </p:sp>
      <p:sp>
        <p:nvSpPr>
          <p:cNvPr id="287" name="矩形 9"/>
          <p:cNvSpPr/>
          <p:nvPr/>
        </p:nvSpPr>
        <p:spPr>
          <a:xfrm>
            <a:off x="7338960" y="275436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88" name="矩形 10"/>
          <p:cNvSpPr/>
          <p:nvPr/>
        </p:nvSpPr>
        <p:spPr>
          <a:xfrm>
            <a:off x="7338960" y="3110040"/>
            <a:ext cx="3165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89" name="矩形 11"/>
          <p:cNvSpPr/>
          <p:nvPr/>
        </p:nvSpPr>
        <p:spPr>
          <a:xfrm>
            <a:off x="7338960" y="416412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291"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0T13:05:45Z</dcterms:created>
  <dc:creator>AnnJo</dc:creator>
  <dc:description/>
  <dc:language>en-US</dc:language>
  <cp:lastModifiedBy>Administrator</cp:lastModifiedBy>
  <dcterms:modified xsi:type="dcterms:W3CDTF">2016-08-02T06:48:32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