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EF7-888E-4E07-A3D6-93583BC5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FE9-4120-40EC-94D8-B006A777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902-1F64-4253-BD30-75C29013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813-BFFF-40BC-96C9-7045EB4E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DE7-D243-4CE0-ABEF-9E43CFE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CFD-B716-44CA-A6A4-90CB9D55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EF9-B944-472F-B1DA-B15BF8B8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13A-0261-498B-AD3F-BD5FA8C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818-16E3-4E00-BFAF-8CD29C10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F58-36A2-456E-8F0E-BF5A2B7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272-4765-4FD3-A645-9D48202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8E2-F2AA-40E5-AEFB-1879461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39E-B9A9-4A14-94F5-6A366D5475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1-10T05:56:43Z</dcterms:modified>
  <cp:revision>1</cp:revision>
  <dc:subject/>
  <dc:title>PowerPoint 演示文稿</dc:title>
</cp:coreProperties>
</file>