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A32-57A6-4D1C-A4C6-59624498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F66-B45F-401A-8448-9EF5D16F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F65-B3DB-4670-B728-6437698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93A-D7E4-45F9-85B2-FD364987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164-431D-4D5E-ADB7-21E3EE8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8080-FA6F-42F3-A855-B14193C2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1DC-2D20-465A-97D8-0DE7426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3C09-F100-4158-892A-B314B5D7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7A8F-82B7-4763-9A37-CA9FAB7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1025-307F-4290-9B61-2BDBA57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933-BCB9-4694-9CA9-AFC2A90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7E8-A342-4C2B-A74E-845FBC8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6CCD-EB19-48F1-84AC-4C0DC14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A25-80FD-40FA-8144-CA84370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A204-FDE3-4036-B47B-920CF97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71C7-18DD-4D75-BF85-D120D664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D46-1D98-4E2E-99AC-9776C88B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6E5-9000-474F-B905-FDFB5406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C9C-FBEC-4B76-97B1-91AAD6F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344-2997-4723-95BD-3BC0333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FDF-2528-4B1B-82D4-E2A65DF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780-D2DA-451E-AD8A-B4F8A02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519-9BDD-439F-A2C9-DADE35E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2CF-51F0-4E11-BB95-43EDB30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80" t="468" r="0" b="1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E3A-B069-4252-B4F6-2562D560DC5F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直接连接符 6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19080">
            <a:solidFill>
              <a:srgbClr val="3c3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"/>
          <p:cNvPicPr/>
          <p:nvPr/>
        </p:nvPicPr>
        <p:blipFill>
          <a:blip r:embed="rId2"/>
          <a:srcRect l="0" t="1716" r="536" b="0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4"/>
          <p:cNvSpPr/>
          <p:nvPr/>
        </p:nvSpPr>
        <p:spPr>
          <a:xfrm>
            <a:off x="3203640" y="3429000"/>
            <a:ext cx="3529080" cy="360360"/>
          </a:xfrm>
          <a:prstGeom prst="roundRect">
            <a:avLst>
              <a:gd name="adj" fmla="val 50000"/>
            </a:avLst>
          </a:prstGeom>
          <a:solidFill>
            <a:srgbClr val="19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380" t="468" r="0" b="1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7"/>
          <p:cNvSpPr/>
          <p:nvPr/>
        </p:nvSpPr>
        <p:spPr>
          <a:xfrm>
            <a:off x="2711520" y="3141720"/>
            <a:ext cx="3240000" cy="287280"/>
          </a:xfrm>
          <a:prstGeom prst="roundRect">
            <a:avLst>
              <a:gd name="adj" fmla="val 50000"/>
            </a:avLst>
          </a:prstGeom>
          <a:solidFill>
            <a:srgbClr val="19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4EC-C053-4E34-A8F5-009F42FE8926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79640" y="2492280"/>
            <a:ext cx="612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b30"/>
                </a:solidFill>
                <a:latin typeface="微软雅黑"/>
              </a:rPr>
              <a:t>PPT Template</a:t>
            </a:r>
            <a:endParaRPr b="1" lang="en-US" sz="5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56120" y="3428640"/>
            <a:ext cx="3503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10920" y="2349000"/>
            <a:ext cx="381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3b30"/>
                </a:solidFill>
                <a:latin typeface="微软雅黑"/>
              </a:rPr>
              <a:t>Your title</a:t>
            </a:r>
            <a:endParaRPr b="1" lang="en-US" sz="4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95400" y="3120840"/>
            <a:ext cx="3097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7000"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066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here to add your title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691920"/>
            <a:ext cx="8066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/>
  <dc:description/>
  <dc:language>en-US</dc:language>
  <cp:lastModifiedBy>ABC</cp:lastModifiedBy>
  <dcterms:modified xsi:type="dcterms:W3CDTF">2013-02-24T07:55:34Z</dcterms:modified>
  <cp:revision>9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IP等级">
    <vt:lpwstr>2</vt:lpwstr>
  </property>
  <property fmtid="{D5CDD505-2E9C-101B-9397-08002B2CF9AE}" pid="4" name="价格">
    <vt:lpwstr>25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梦幻 柔美 花朵 花 植物 自然 清新 简洁 时尚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梦幻柔美花朵</vt:lpwstr>
  </property>
  <property fmtid="{D5CDD505-2E9C-101B-9397-08002B2CF9AE}" pid="12" name="模板ID">
    <vt:lpwstr>A30220130116A07</vt:lpwstr>
  </property>
  <property fmtid="{D5CDD505-2E9C-101B-9397-08002B2CF9AE}" pid="13" name="模板缩略图">
    <vt:lpwstr>A30220130116A07.png</vt:lpwstr>
  </property>
  <property fmtid="{D5CDD505-2E9C-101B-9397-08002B2CF9AE}" pid="14" name="相关案例">
    <vt:lpwstr>854</vt:lpwstr>
  </property>
  <property fmtid="{D5CDD505-2E9C-101B-9397-08002B2CF9AE}" pid="15" name="缩略图标题">
    <vt:lpwstr>梦幻柔美花朵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116A0701</vt:lpwstr>
  </property>
  <property fmtid="{D5CDD505-2E9C-101B-9397-08002B2CF9AE}" pid="18" name="附件缩略图">
    <vt:lpwstr>A30220130116A0701.png</vt:lpwstr>
  </property>
  <property fmtid="{D5CDD505-2E9C-101B-9397-08002B2CF9AE}" pid="19" name="附件路径">
    <vt:lpwstr>A30220130116A0701.pptx</vt:lpwstr>
  </property>
</Properties>
</file>