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647-A860-4259-BBC4-F0CC5853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453-E4FE-4CEA-B113-B0951D8B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E3E-E244-4893-ACB6-C91F45EC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713-E614-472D-BF2B-3F4BF92C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493-2401-4A66-894C-7863136A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AEA-1BA5-4688-95C6-34815BC3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056-82C4-4995-9195-F355D5F1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6DC-5D63-4EC9-8754-6399DB2C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562-EEFC-482E-B14E-0E94AD50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09D-A695-449C-8E53-98FE8F3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A34-DAC1-4895-968E-E1A18F4E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299-4540-40C8-A24A-313AB2F3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208-1E80-4888-9A85-397C86B856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429000" y="46594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71920" y="53672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浪漫爱情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2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796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569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61560" y="9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6156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596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854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6156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640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ANGS</cp:lastModifiedBy>
  <dcterms:modified xsi:type="dcterms:W3CDTF">2014-09-08T14:07:33Z</dcterms:modified>
  <cp:revision>42</cp:revision>
  <dc:subject/>
  <dc:title>幻灯片 1</dc:title>
</cp:coreProperties>
</file>