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7.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3.jpeg" ContentType="image/jpeg"/>
  <Override PartName="/ppt/media/image30.png" ContentType="image/png"/>
  <Override PartName="/ppt/media/image25.png" ContentType="image/png"/>
  <Override PartName="/ppt/media/image33.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11.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35.png" ContentType="image/png"/>
  <Override PartName="/ppt/media/image5.png" ContentType="image/png"/>
  <Override PartName="/ppt/media/image28.png" ContentType="image/png"/>
  <Override PartName="/ppt/media/image40.png" ContentType="image/png"/>
  <Override PartName="/ppt/media/image4.jpeg" ContentType="image/jpeg"/>
  <Override PartName="/ppt/media/image32.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E6370D-535C-4426-B0A8-FDEF0BA1BB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0A528-628B-46CA-99F4-59BA0EB08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8176B-7EAD-469A-AF47-91BBD435E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71BC9-C2FE-4467-B578-5FDC7B93D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1202A-B2B1-482E-81BE-5C08981B9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0728F-D53B-41AC-9CE2-7B49EC8E6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A644C-1E09-4ADF-9B33-EBC0BDCAD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34E62-A94B-4B9E-AD97-D920EBA2E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71737-4EDD-404A-90E9-3E477E7D6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D9AA3-935E-4B19-BA72-C02D50832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D2F69D-39EC-4F89-9B55-0EC7A8000E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A14F30-34F7-44F0-896B-ADA463EA66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组合 1"/>
          <p:cNvGrpSpPr/>
          <p:nvPr/>
        </p:nvGrpSpPr>
        <p:grpSpPr>
          <a:xfrm>
            <a:off x="-327240" y="-446760"/>
            <a:ext cx="1533240" cy="1796040"/>
            <a:chOff x="-327240" y="-446760"/>
            <a:chExt cx="1533240" cy="1796040"/>
          </a:xfrm>
        </p:grpSpPr>
        <p:sp>
          <p:nvSpPr>
            <p:cNvPr id="1" name="任意多边形 2"/>
            <p:cNvSpPr/>
            <p:nvPr/>
          </p:nvSpPr>
          <p:spPr>
            <a:xfrm rot="1746000">
              <a:off x="-101520" y="-296640"/>
              <a:ext cx="919800" cy="1166760"/>
            </a:xfrm>
            <a:custGeom>
              <a:avLst/>
              <a:gdLst/>
              <a:ahLst/>
              <a:rect l="l" t="t" r="r" b="b"/>
              <a:pathLst>
                <a:path w="715648" h="907407">
                  <a:moveTo>
                    <a:pt x="0" y="398327"/>
                  </a:moveTo>
                  <a:lnTo>
                    <a:pt x="715648" y="0"/>
                  </a:lnTo>
                  <a:lnTo>
                    <a:pt x="661389" y="135823"/>
                  </a:lnTo>
                  <a:cubicBezTo>
                    <a:pt x="592959" y="299104"/>
                    <a:pt x="519324" y="452660"/>
                    <a:pt x="441751" y="604984"/>
                  </a:cubicBezTo>
                  <a:lnTo>
                    <a:pt x="283352" y="907407"/>
                  </a:lnTo>
                  <a:lnTo>
                    <a:pt x="0" y="398327"/>
                  </a:lnTo>
                  <a:close/>
                </a:path>
              </a:pathLst>
            </a:custGeom>
            <a:solidFill>
              <a:srgbClr val="1d087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任意多边形 3"/>
            <p:cNvSpPr/>
            <p:nvPr/>
          </p:nvSpPr>
          <p:spPr>
            <a:xfrm rot="17946000">
              <a:off x="-263880" y="210240"/>
              <a:ext cx="1646280" cy="564480"/>
            </a:xfrm>
            <a:custGeom>
              <a:avLst/>
              <a:gdLst/>
              <a:ahLst/>
              <a:rect l="l" t="t" r="r" b="b"/>
              <a:pathLst>
                <a:path w="1280272" h="439144">
                  <a:moveTo>
                    <a:pt x="1280272" y="439144"/>
                  </a:moveTo>
                  <a:cubicBezTo>
                    <a:pt x="1014053" y="349571"/>
                    <a:pt x="628735" y="228007"/>
                    <a:pt x="233785" y="126437"/>
                  </a:cubicBezTo>
                  <a:lnTo>
                    <a:pt x="0" y="69933"/>
                  </a:lnTo>
                  <a:lnTo>
                    <a:pt x="125644" y="0"/>
                  </a:lnTo>
                  <a:lnTo>
                    <a:pt x="213835" y="35102"/>
                  </a:lnTo>
                  <a:cubicBezTo>
                    <a:pt x="707879" y="230606"/>
                    <a:pt x="1028940" y="349571"/>
                    <a:pt x="1280272" y="439144"/>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任意多边形 4"/>
            <p:cNvSpPr/>
            <p:nvPr/>
          </p:nvSpPr>
          <p:spPr>
            <a:xfrm rot="17946000">
              <a:off x="-169560" y="141480"/>
              <a:ext cx="1358280" cy="608400"/>
            </a:xfrm>
            <a:custGeom>
              <a:avLst/>
              <a:gdLst/>
              <a:ahLst/>
              <a:rect l="l" t="t" r="r" b="b"/>
              <a:pathLst>
                <a:path w="1056292" h="473299">
                  <a:moveTo>
                    <a:pt x="1033611" y="432549"/>
                  </a:moveTo>
                  <a:lnTo>
                    <a:pt x="1056292" y="473299"/>
                  </a:lnTo>
                  <a:lnTo>
                    <a:pt x="951107" y="435234"/>
                  </a:lnTo>
                  <a:cubicBezTo>
                    <a:pt x="731732" y="354752"/>
                    <a:pt x="458643" y="251086"/>
                    <a:pt x="88300" y="104328"/>
                  </a:cubicBezTo>
                  <a:lnTo>
                    <a:pt x="0" y="69133"/>
                  </a:lnTo>
                  <a:lnTo>
                    <a:pt x="124207" y="0"/>
                  </a:lnTo>
                  <a:lnTo>
                    <a:pt x="128577" y="2307"/>
                  </a:lnTo>
                  <a:cubicBezTo>
                    <a:pt x="358346" y="124046"/>
                    <a:pt x="578629" y="239074"/>
                    <a:pt x="817312" y="343686"/>
                  </a:cubicBezTo>
                  <a:lnTo>
                    <a:pt x="1033611" y="432549"/>
                  </a:ln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任意多边形 5"/>
            <p:cNvSpPr/>
            <p:nvPr/>
          </p:nvSpPr>
          <p:spPr>
            <a:xfrm rot="17946000">
              <a:off x="-141840" y="-29160"/>
              <a:ext cx="1166400" cy="726120"/>
            </a:xfrm>
            <a:custGeom>
              <a:avLst/>
              <a:gdLst/>
              <a:ahLst/>
              <a:rect l="l" t="t" r="r" b="b"/>
              <a:pathLst>
                <a:path w="907004" h="565120">
                  <a:moveTo>
                    <a:pt x="832339" y="430975"/>
                  </a:moveTo>
                  <a:lnTo>
                    <a:pt x="907004" y="565120"/>
                  </a:lnTo>
                  <a:lnTo>
                    <a:pt x="692735" y="477176"/>
                  </a:lnTo>
                  <a:cubicBezTo>
                    <a:pt x="454024" y="372653"/>
                    <a:pt x="233714" y="257724"/>
                    <a:pt x="3918" y="136088"/>
                  </a:cubicBezTo>
                  <a:lnTo>
                    <a:pt x="0" y="134021"/>
                  </a:lnTo>
                  <a:lnTo>
                    <a:pt x="240787" y="0"/>
                  </a:lnTo>
                  <a:lnTo>
                    <a:pt x="333387" y="71417"/>
                  </a:lnTo>
                  <a:cubicBezTo>
                    <a:pt x="454384" y="163246"/>
                    <a:pt x="568301" y="247075"/>
                    <a:pt x="673893" y="322304"/>
                  </a:cubicBezTo>
                  <a:lnTo>
                    <a:pt x="832339" y="430975"/>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组合 1"/>
          <p:cNvGrpSpPr/>
          <p:nvPr/>
        </p:nvGrpSpPr>
        <p:grpSpPr>
          <a:xfrm>
            <a:off x="-327240" y="-446760"/>
            <a:ext cx="1533240" cy="1796040"/>
            <a:chOff x="-327240" y="-446760"/>
            <a:chExt cx="1533240" cy="1796040"/>
          </a:xfrm>
        </p:grpSpPr>
        <p:sp>
          <p:nvSpPr>
            <p:cNvPr id="42" name="任意多边形 2"/>
            <p:cNvSpPr/>
            <p:nvPr/>
          </p:nvSpPr>
          <p:spPr>
            <a:xfrm rot="1746000">
              <a:off x="-101520" y="-296640"/>
              <a:ext cx="919800" cy="1166760"/>
            </a:xfrm>
            <a:custGeom>
              <a:avLst/>
              <a:gdLst/>
              <a:ahLst/>
              <a:rect l="l" t="t" r="r" b="b"/>
              <a:pathLst>
                <a:path w="715648" h="907407">
                  <a:moveTo>
                    <a:pt x="0" y="398327"/>
                  </a:moveTo>
                  <a:lnTo>
                    <a:pt x="715648" y="0"/>
                  </a:lnTo>
                  <a:lnTo>
                    <a:pt x="661389" y="135823"/>
                  </a:lnTo>
                  <a:cubicBezTo>
                    <a:pt x="592959" y="299104"/>
                    <a:pt x="519324" y="452660"/>
                    <a:pt x="441751" y="604984"/>
                  </a:cubicBezTo>
                  <a:lnTo>
                    <a:pt x="283352" y="907407"/>
                  </a:lnTo>
                  <a:lnTo>
                    <a:pt x="0" y="398327"/>
                  </a:lnTo>
                  <a:close/>
                </a:path>
              </a:pathLst>
            </a:custGeom>
            <a:solidFill>
              <a:srgbClr val="1d087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 name="任意多边形 3"/>
            <p:cNvSpPr/>
            <p:nvPr/>
          </p:nvSpPr>
          <p:spPr>
            <a:xfrm rot="17946000">
              <a:off x="-263880" y="210240"/>
              <a:ext cx="1646280" cy="564480"/>
            </a:xfrm>
            <a:custGeom>
              <a:avLst/>
              <a:gdLst/>
              <a:ahLst/>
              <a:rect l="l" t="t" r="r" b="b"/>
              <a:pathLst>
                <a:path w="1280272" h="439144">
                  <a:moveTo>
                    <a:pt x="1280272" y="439144"/>
                  </a:moveTo>
                  <a:cubicBezTo>
                    <a:pt x="1014053" y="349571"/>
                    <a:pt x="628735" y="228007"/>
                    <a:pt x="233785" y="126437"/>
                  </a:cubicBezTo>
                  <a:lnTo>
                    <a:pt x="0" y="69933"/>
                  </a:lnTo>
                  <a:lnTo>
                    <a:pt x="125644" y="0"/>
                  </a:lnTo>
                  <a:lnTo>
                    <a:pt x="213835" y="35102"/>
                  </a:lnTo>
                  <a:cubicBezTo>
                    <a:pt x="707879" y="230606"/>
                    <a:pt x="1028940" y="349571"/>
                    <a:pt x="1280272" y="439144"/>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任意多边形 4"/>
            <p:cNvSpPr/>
            <p:nvPr/>
          </p:nvSpPr>
          <p:spPr>
            <a:xfrm rot="17946000">
              <a:off x="-169560" y="141480"/>
              <a:ext cx="1358280" cy="608400"/>
            </a:xfrm>
            <a:custGeom>
              <a:avLst/>
              <a:gdLst/>
              <a:ahLst/>
              <a:rect l="l" t="t" r="r" b="b"/>
              <a:pathLst>
                <a:path w="1056292" h="473299">
                  <a:moveTo>
                    <a:pt x="1033611" y="432549"/>
                  </a:moveTo>
                  <a:lnTo>
                    <a:pt x="1056292" y="473299"/>
                  </a:lnTo>
                  <a:lnTo>
                    <a:pt x="951107" y="435234"/>
                  </a:lnTo>
                  <a:cubicBezTo>
                    <a:pt x="731732" y="354752"/>
                    <a:pt x="458643" y="251086"/>
                    <a:pt x="88300" y="104328"/>
                  </a:cubicBezTo>
                  <a:lnTo>
                    <a:pt x="0" y="69133"/>
                  </a:lnTo>
                  <a:lnTo>
                    <a:pt x="124207" y="0"/>
                  </a:lnTo>
                  <a:lnTo>
                    <a:pt x="128577" y="2307"/>
                  </a:lnTo>
                  <a:cubicBezTo>
                    <a:pt x="358346" y="124046"/>
                    <a:pt x="578629" y="239074"/>
                    <a:pt x="817312" y="343686"/>
                  </a:cubicBezTo>
                  <a:lnTo>
                    <a:pt x="1033611" y="432549"/>
                  </a:ln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任意多边形 5"/>
            <p:cNvSpPr/>
            <p:nvPr/>
          </p:nvSpPr>
          <p:spPr>
            <a:xfrm rot="17946000">
              <a:off x="-141840" y="-29160"/>
              <a:ext cx="1166400" cy="726120"/>
            </a:xfrm>
            <a:custGeom>
              <a:avLst/>
              <a:gdLst/>
              <a:ahLst/>
              <a:rect l="l" t="t" r="r" b="b"/>
              <a:pathLst>
                <a:path w="907004" h="565120">
                  <a:moveTo>
                    <a:pt x="832339" y="430975"/>
                  </a:moveTo>
                  <a:lnTo>
                    <a:pt x="907004" y="565120"/>
                  </a:lnTo>
                  <a:lnTo>
                    <a:pt x="692735" y="477176"/>
                  </a:lnTo>
                  <a:cubicBezTo>
                    <a:pt x="454024" y="372653"/>
                    <a:pt x="233714" y="257724"/>
                    <a:pt x="3918" y="136088"/>
                  </a:cubicBezTo>
                  <a:lnTo>
                    <a:pt x="0" y="134021"/>
                  </a:lnTo>
                  <a:lnTo>
                    <a:pt x="240787" y="0"/>
                  </a:lnTo>
                  <a:lnTo>
                    <a:pt x="333387" y="71417"/>
                  </a:lnTo>
                  <a:cubicBezTo>
                    <a:pt x="454384" y="163246"/>
                    <a:pt x="568301" y="247075"/>
                    <a:pt x="673893" y="322304"/>
                  </a:cubicBezTo>
                  <a:lnTo>
                    <a:pt x="832339" y="430975"/>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 name="PlaceHolder 1"/>
          <p:cNvSpPr>
            <a:spLocks noGrp="1"/>
          </p:cNvSpPr>
          <p:nvPr>
            <p:ph type="dt" idx="1"/>
          </p:nvPr>
        </p:nvSpPr>
        <p:spPr>
          <a:xfrm>
            <a:off x="-360" y="-360"/>
            <a:ext cx="360" cy="360"/>
          </a:xfrm>
          <a:prstGeom prst="rect">
            <a:avLst/>
          </a:prstGeom>
          <a:noFill/>
          <a:ln w="0">
            <a:noFill/>
          </a:ln>
        </p:spPr>
        <p:txBody>
          <a:bodyPr lIns="90000" rIns="90000" tIns="-46440" bIns="-4644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7" name="PlaceHolder 2"/>
          <p:cNvSpPr>
            <a:spLocks noGrp="1"/>
          </p:cNvSpPr>
          <p:nvPr>
            <p:ph type="ftr" idx="2"/>
          </p:nvPr>
        </p:nvSpPr>
        <p:spPr>
          <a:xfrm>
            <a:off x="-360" y="-360"/>
            <a:ext cx="360" cy="360"/>
          </a:xfrm>
          <a:prstGeom prst="rect">
            <a:avLst/>
          </a:prstGeom>
          <a:noFill/>
          <a:ln w="0">
            <a:noFill/>
          </a:ln>
        </p:spPr>
        <p:txBody>
          <a:bodyPr lIns="90000" rIns="9000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Num" idx="3"/>
          </p:nvPr>
        </p:nvSpPr>
        <p:spPr>
          <a:xfrm>
            <a:off x="-360" y="-360"/>
            <a:ext cx="360" cy="360"/>
          </a:xfrm>
          <a:prstGeom prst="rect">
            <a:avLst/>
          </a:prstGeom>
          <a:noFill/>
          <a:ln w="0">
            <a:noFill/>
          </a:ln>
        </p:spPr>
        <p:txBody>
          <a:bodyPr lIns="90000" rIns="9000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E6EFC-F435-4588-8A6A-0EF862B9846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组合 1"/>
          <p:cNvGrpSpPr/>
          <p:nvPr/>
        </p:nvGrpSpPr>
        <p:grpSpPr>
          <a:xfrm>
            <a:off x="-327240" y="-446760"/>
            <a:ext cx="1533240" cy="1796040"/>
            <a:chOff x="-327240" y="-446760"/>
            <a:chExt cx="1533240" cy="1796040"/>
          </a:xfrm>
        </p:grpSpPr>
        <p:sp>
          <p:nvSpPr>
            <p:cNvPr id="86" name="任意多边形 2"/>
            <p:cNvSpPr/>
            <p:nvPr/>
          </p:nvSpPr>
          <p:spPr>
            <a:xfrm rot="1746000">
              <a:off x="-101520" y="-296640"/>
              <a:ext cx="919800" cy="1166760"/>
            </a:xfrm>
            <a:custGeom>
              <a:avLst/>
              <a:gdLst/>
              <a:ahLst/>
              <a:rect l="l" t="t" r="r" b="b"/>
              <a:pathLst>
                <a:path w="715648" h="907407">
                  <a:moveTo>
                    <a:pt x="0" y="398327"/>
                  </a:moveTo>
                  <a:lnTo>
                    <a:pt x="715648" y="0"/>
                  </a:lnTo>
                  <a:lnTo>
                    <a:pt x="661389" y="135823"/>
                  </a:lnTo>
                  <a:cubicBezTo>
                    <a:pt x="592959" y="299104"/>
                    <a:pt x="519324" y="452660"/>
                    <a:pt x="441751" y="604984"/>
                  </a:cubicBezTo>
                  <a:lnTo>
                    <a:pt x="283352" y="907407"/>
                  </a:lnTo>
                  <a:lnTo>
                    <a:pt x="0" y="398327"/>
                  </a:lnTo>
                  <a:close/>
                </a:path>
              </a:pathLst>
            </a:custGeom>
            <a:solidFill>
              <a:srgbClr val="1d087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任意多边形 3"/>
            <p:cNvSpPr/>
            <p:nvPr/>
          </p:nvSpPr>
          <p:spPr>
            <a:xfrm rot="17946000">
              <a:off x="-263880" y="210240"/>
              <a:ext cx="1646280" cy="564480"/>
            </a:xfrm>
            <a:custGeom>
              <a:avLst/>
              <a:gdLst/>
              <a:ahLst/>
              <a:rect l="l" t="t" r="r" b="b"/>
              <a:pathLst>
                <a:path w="1280272" h="439144">
                  <a:moveTo>
                    <a:pt x="1280272" y="439144"/>
                  </a:moveTo>
                  <a:cubicBezTo>
                    <a:pt x="1014053" y="349571"/>
                    <a:pt x="628735" y="228007"/>
                    <a:pt x="233785" y="126437"/>
                  </a:cubicBezTo>
                  <a:lnTo>
                    <a:pt x="0" y="69933"/>
                  </a:lnTo>
                  <a:lnTo>
                    <a:pt x="125644" y="0"/>
                  </a:lnTo>
                  <a:lnTo>
                    <a:pt x="213835" y="35102"/>
                  </a:lnTo>
                  <a:cubicBezTo>
                    <a:pt x="707879" y="230606"/>
                    <a:pt x="1028940" y="349571"/>
                    <a:pt x="1280272" y="439144"/>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任意多边形 4"/>
            <p:cNvSpPr/>
            <p:nvPr/>
          </p:nvSpPr>
          <p:spPr>
            <a:xfrm rot="17946000">
              <a:off x="-169560" y="141480"/>
              <a:ext cx="1358280" cy="608400"/>
            </a:xfrm>
            <a:custGeom>
              <a:avLst/>
              <a:gdLst/>
              <a:ahLst/>
              <a:rect l="l" t="t" r="r" b="b"/>
              <a:pathLst>
                <a:path w="1056292" h="473299">
                  <a:moveTo>
                    <a:pt x="1033611" y="432549"/>
                  </a:moveTo>
                  <a:lnTo>
                    <a:pt x="1056292" y="473299"/>
                  </a:lnTo>
                  <a:lnTo>
                    <a:pt x="951107" y="435234"/>
                  </a:lnTo>
                  <a:cubicBezTo>
                    <a:pt x="731732" y="354752"/>
                    <a:pt x="458643" y="251086"/>
                    <a:pt x="88300" y="104328"/>
                  </a:cubicBezTo>
                  <a:lnTo>
                    <a:pt x="0" y="69133"/>
                  </a:lnTo>
                  <a:lnTo>
                    <a:pt x="124207" y="0"/>
                  </a:lnTo>
                  <a:lnTo>
                    <a:pt x="128577" y="2307"/>
                  </a:lnTo>
                  <a:cubicBezTo>
                    <a:pt x="358346" y="124046"/>
                    <a:pt x="578629" y="239074"/>
                    <a:pt x="817312" y="343686"/>
                  </a:cubicBezTo>
                  <a:lnTo>
                    <a:pt x="1033611" y="432549"/>
                  </a:ln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任意多边形 5"/>
            <p:cNvSpPr/>
            <p:nvPr/>
          </p:nvSpPr>
          <p:spPr>
            <a:xfrm rot="17946000">
              <a:off x="-141840" y="-29160"/>
              <a:ext cx="1166400" cy="726120"/>
            </a:xfrm>
            <a:custGeom>
              <a:avLst/>
              <a:gdLst/>
              <a:ahLst/>
              <a:rect l="l" t="t" r="r" b="b"/>
              <a:pathLst>
                <a:path w="907004" h="565120">
                  <a:moveTo>
                    <a:pt x="832339" y="430975"/>
                  </a:moveTo>
                  <a:lnTo>
                    <a:pt x="907004" y="565120"/>
                  </a:lnTo>
                  <a:lnTo>
                    <a:pt x="692735" y="477176"/>
                  </a:lnTo>
                  <a:cubicBezTo>
                    <a:pt x="454024" y="372653"/>
                    <a:pt x="233714" y="257724"/>
                    <a:pt x="3918" y="136088"/>
                  </a:cubicBezTo>
                  <a:lnTo>
                    <a:pt x="0" y="134021"/>
                  </a:lnTo>
                  <a:lnTo>
                    <a:pt x="240787" y="0"/>
                  </a:lnTo>
                  <a:lnTo>
                    <a:pt x="333387" y="71417"/>
                  </a:lnTo>
                  <a:cubicBezTo>
                    <a:pt x="454384" y="163246"/>
                    <a:pt x="568301" y="247075"/>
                    <a:pt x="673893" y="322304"/>
                  </a:cubicBezTo>
                  <a:lnTo>
                    <a:pt x="832339" y="430975"/>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6" name="组合 1"/>
          <p:cNvGrpSpPr/>
          <p:nvPr/>
        </p:nvGrpSpPr>
        <p:grpSpPr>
          <a:xfrm>
            <a:off x="-327240" y="-446760"/>
            <a:ext cx="1533240" cy="1796040"/>
            <a:chOff x="-327240" y="-446760"/>
            <a:chExt cx="1533240" cy="1796040"/>
          </a:xfrm>
        </p:grpSpPr>
        <p:sp>
          <p:nvSpPr>
            <p:cNvPr id="127" name="任意多边形 2"/>
            <p:cNvSpPr/>
            <p:nvPr/>
          </p:nvSpPr>
          <p:spPr>
            <a:xfrm rot="1746000">
              <a:off x="-101520" y="-296640"/>
              <a:ext cx="919800" cy="1166760"/>
            </a:xfrm>
            <a:custGeom>
              <a:avLst/>
              <a:gdLst/>
              <a:ahLst/>
              <a:rect l="l" t="t" r="r" b="b"/>
              <a:pathLst>
                <a:path w="715648" h="907407">
                  <a:moveTo>
                    <a:pt x="0" y="398327"/>
                  </a:moveTo>
                  <a:lnTo>
                    <a:pt x="715648" y="0"/>
                  </a:lnTo>
                  <a:lnTo>
                    <a:pt x="661389" y="135823"/>
                  </a:lnTo>
                  <a:cubicBezTo>
                    <a:pt x="592959" y="299104"/>
                    <a:pt x="519324" y="452660"/>
                    <a:pt x="441751" y="604984"/>
                  </a:cubicBezTo>
                  <a:lnTo>
                    <a:pt x="283352" y="907407"/>
                  </a:lnTo>
                  <a:lnTo>
                    <a:pt x="0" y="398327"/>
                  </a:lnTo>
                  <a:close/>
                </a:path>
              </a:pathLst>
            </a:custGeom>
            <a:solidFill>
              <a:srgbClr val="1d087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任意多边形 3"/>
            <p:cNvSpPr/>
            <p:nvPr/>
          </p:nvSpPr>
          <p:spPr>
            <a:xfrm rot="17946000">
              <a:off x="-263880" y="210240"/>
              <a:ext cx="1646280" cy="564480"/>
            </a:xfrm>
            <a:custGeom>
              <a:avLst/>
              <a:gdLst/>
              <a:ahLst/>
              <a:rect l="l" t="t" r="r" b="b"/>
              <a:pathLst>
                <a:path w="1280272" h="439144">
                  <a:moveTo>
                    <a:pt x="1280272" y="439144"/>
                  </a:moveTo>
                  <a:cubicBezTo>
                    <a:pt x="1014053" y="349571"/>
                    <a:pt x="628735" y="228007"/>
                    <a:pt x="233785" y="126437"/>
                  </a:cubicBezTo>
                  <a:lnTo>
                    <a:pt x="0" y="69933"/>
                  </a:lnTo>
                  <a:lnTo>
                    <a:pt x="125644" y="0"/>
                  </a:lnTo>
                  <a:lnTo>
                    <a:pt x="213835" y="35102"/>
                  </a:lnTo>
                  <a:cubicBezTo>
                    <a:pt x="707879" y="230606"/>
                    <a:pt x="1028940" y="349571"/>
                    <a:pt x="1280272" y="439144"/>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任意多边形 4"/>
            <p:cNvSpPr/>
            <p:nvPr/>
          </p:nvSpPr>
          <p:spPr>
            <a:xfrm rot="17946000">
              <a:off x="-169560" y="141480"/>
              <a:ext cx="1358280" cy="608400"/>
            </a:xfrm>
            <a:custGeom>
              <a:avLst/>
              <a:gdLst/>
              <a:ahLst/>
              <a:rect l="l" t="t" r="r" b="b"/>
              <a:pathLst>
                <a:path w="1056292" h="473299">
                  <a:moveTo>
                    <a:pt x="1033611" y="432549"/>
                  </a:moveTo>
                  <a:lnTo>
                    <a:pt x="1056292" y="473299"/>
                  </a:lnTo>
                  <a:lnTo>
                    <a:pt x="951107" y="435234"/>
                  </a:lnTo>
                  <a:cubicBezTo>
                    <a:pt x="731732" y="354752"/>
                    <a:pt x="458643" y="251086"/>
                    <a:pt x="88300" y="104328"/>
                  </a:cubicBezTo>
                  <a:lnTo>
                    <a:pt x="0" y="69133"/>
                  </a:lnTo>
                  <a:lnTo>
                    <a:pt x="124207" y="0"/>
                  </a:lnTo>
                  <a:lnTo>
                    <a:pt x="128577" y="2307"/>
                  </a:lnTo>
                  <a:cubicBezTo>
                    <a:pt x="358346" y="124046"/>
                    <a:pt x="578629" y="239074"/>
                    <a:pt x="817312" y="343686"/>
                  </a:cubicBezTo>
                  <a:lnTo>
                    <a:pt x="1033611" y="432549"/>
                  </a:ln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任意多边形 5"/>
            <p:cNvSpPr/>
            <p:nvPr/>
          </p:nvSpPr>
          <p:spPr>
            <a:xfrm rot="17946000">
              <a:off x="-141840" y="-29160"/>
              <a:ext cx="1166400" cy="726120"/>
            </a:xfrm>
            <a:custGeom>
              <a:avLst/>
              <a:gdLst/>
              <a:ahLst/>
              <a:rect l="l" t="t" r="r" b="b"/>
              <a:pathLst>
                <a:path w="907004" h="565120">
                  <a:moveTo>
                    <a:pt x="832339" y="430975"/>
                  </a:moveTo>
                  <a:lnTo>
                    <a:pt x="907004" y="565120"/>
                  </a:lnTo>
                  <a:lnTo>
                    <a:pt x="692735" y="477176"/>
                  </a:lnTo>
                  <a:cubicBezTo>
                    <a:pt x="454024" y="372653"/>
                    <a:pt x="233714" y="257724"/>
                    <a:pt x="3918" y="136088"/>
                  </a:cubicBezTo>
                  <a:lnTo>
                    <a:pt x="0" y="134021"/>
                  </a:lnTo>
                  <a:lnTo>
                    <a:pt x="240787" y="0"/>
                  </a:lnTo>
                  <a:lnTo>
                    <a:pt x="333387" y="71417"/>
                  </a:lnTo>
                  <a:cubicBezTo>
                    <a:pt x="454384" y="163246"/>
                    <a:pt x="568301" y="247075"/>
                    <a:pt x="673893" y="322304"/>
                  </a:cubicBezTo>
                  <a:lnTo>
                    <a:pt x="832339" y="430975"/>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32.png"/><Relationship Id="rId16" Type="http://schemas.openxmlformats.org/officeDocument/2006/relationships/image" Target="../media/image33.png"/><Relationship Id="rId17" Type="http://schemas.openxmlformats.org/officeDocument/2006/relationships/image" Target="../media/image34.png"/><Relationship Id="rId18" Type="http://schemas.openxmlformats.org/officeDocument/2006/relationships/image" Target="../media/image35.png"/><Relationship Id="rId19" Type="http://schemas.openxmlformats.org/officeDocument/2006/relationships/image" Target="../media/image36.png"/><Relationship Id="rId20" Type="http://schemas.openxmlformats.org/officeDocument/2006/relationships/image" Target="../media/image37.png"/><Relationship Id="rId21" Type="http://schemas.openxmlformats.org/officeDocument/2006/relationships/image" Target="../media/image38.png"/><Relationship Id="rId22" Type="http://schemas.openxmlformats.org/officeDocument/2006/relationships/image" Target="../media/image39.png"/><Relationship Id="rId23" Type="http://schemas.openxmlformats.org/officeDocument/2006/relationships/image" Target="../media/image40.png"/><Relationship Id="rId24" Type="http://schemas.openxmlformats.org/officeDocument/2006/relationships/image" Target="../media/image41.png"/><Relationship Id="rId25" Type="http://schemas.openxmlformats.org/officeDocument/2006/relationships/image" Target="../media/image42.png"/><Relationship Id="rId26" Type="http://schemas.openxmlformats.org/officeDocument/2006/relationships/image" Target="../media/image43.png"/><Relationship Id="rId27" Type="http://schemas.openxmlformats.org/officeDocument/2006/relationships/image" Target="../media/image44.png"/><Relationship Id="rId28" Type="http://schemas.openxmlformats.org/officeDocument/2006/relationships/image" Target="../media/image45.png"/><Relationship Id="rId29" Type="http://schemas.openxmlformats.org/officeDocument/2006/relationships/image" Target="../media/image46.png"/><Relationship Id="rId30" Type="http://schemas.openxmlformats.org/officeDocument/2006/relationships/image" Target="../media/image47.png"/><Relationship Id="rId3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7" name="组合 81"/>
          <p:cNvGrpSpPr/>
          <p:nvPr/>
        </p:nvGrpSpPr>
        <p:grpSpPr>
          <a:xfrm>
            <a:off x="0" y="1440"/>
            <a:ext cx="12192120" cy="3598920"/>
            <a:chOff x="0" y="1440"/>
            <a:chExt cx="12192120" cy="3598920"/>
          </a:xfrm>
        </p:grpSpPr>
        <p:sp>
          <p:nvSpPr>
            <p:cNvPr id="168" name="任意多边形 68"/>
            <p:cNvSpPr/>
            <p:nvPr/>
          </p:nvSpPr>
          <p:spPr>
            <a:xfrm>
              <a:off x="0" y="1754280"/>
              <a:ext cx="2154960" cy="1598400"/>
            </a:xfrm>
            <a:custGeom>
              <a:avLst/>
              <a:gdLst/>
              <a:ahLst/>
              <a:rect l="l" t="t" r="r" b="b"/>
              <a:pathLst>
                <a:path w="2134696" h="1738097">
                  <a:moveTo>
                    <a:pt x="1404997" y="1"/>
                  </a:moveTo>
                  <a:cubicBezTo>
                    <a:pt x="1593045" y="-42"/>
                    <a:pt x="1791012" y="20370"/>
                    <a:pt x="1993461" y="70682"/>
                  </a:cubicBezTo>
                  <a:lnTo>
                    <a:pt x="2129860" y="111734"/>
                  </a:lnTo>
                  <a:lnTo>
                    <a:pt x="2134696" y="462816"/>
                  </a:lnTo>
                  <a:lnTo>
                    <a:pt x="2111841" y="478304"/>
                  </a:lnTo>
                  <a:lnTo>
                    <a:pt x="2047462" y="468928"/>
                  </a:lnTo>
                  <a:cubicBezTo>
                    <a:pt x="1976018" y="460772"/>
                    <a:pt x="1904584" y="454911"/>
                    <a:pt x="1833064" y="451463"/>
                  </a:cubicBezTo>
                  <a:cubicBezTo>
                    <a:pt x="1745039" y="517658"/>
                    <a:pt x="1651513" y="583854"/>
                    <a:pt x="1557987" y="650049"/>
                  </a:cubicBezTo>
                  <a:cubicBezTo>
                    <a:pt x="1209328" y="901039"/>
                    <a:pt x="363103" y="1487057"/>
                    <a:pt x="58026" y="1697989"/>
                  </a:cubicBezTo>
                  <a:lnTo>
                    <a:pt x="0" y="1738097"/>
                  </a:lnTo>
                  <a:lnTo>
                    <a:pt x="0" y="362543"/>
                  </a:lnTo>
                  <a:lnTo>
                    <a:pt x="4519" y="360003"/>
                  </a:lnTo>
                  <a:cubicBezTo>
                    <a:pt x="159326" y="275337"/>
                    <a:pt x="715486" y="160"/>
                    <a:pt x="1404997" y="1"/>
                  </a:cubicBezTo>
                  <a:close/>
                </a:path>
              </a:pathLst>
            </a:custGeom>
            <a:solidFill>
              <a:srgbClr val="5b9bd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任意多边形 77"/>
            <p:cNvSpPr/>
            <p:nvPr/>
          </p:nvSpPr>
          <p:spPr>
            <a:xfrm>
              <a:off x="0" y="1440"/>
              <a:ext cx="12192120" cy="3384000"/>
            </a:xfrm>
            <a:custGeom>
              <a:avLst/>
              <a:gdLst/>
              <a:ahLst/>
              <a:rect l="l" t="t" r="r" b="b"/>
              <a:pathLst>
                <a:path w="12077282" h="3679404">
                  <a:moveTo>
                    <a:pt x="0" y="0"/>
                  </a:moveTo>
                  <a:lnTo>
                    <a:pt x="53624" y="0"/>
                  </a:lnTo>
                  <a:cubicBezTo>
                    <a:pt x="360918" y="0"/>
                    <a:pt x="1590096" y="0"/>
                    <a:pt x="6506808" y="0"/>
                  </a:cubicBezTo>
                  <a:cubicBezTo>
                    <a:pt x="6253824" y="380849"/>
                    <a:pt x="5599361" y="1501319"/>
                    <a:pt x="5819348" y="2627309"/>
                  </a:cubicBezTo>
                  <a:cubicBezTo>
                    <a:pt x="5819348" y="2627309"/>
                    <a:pt x="8222707" y="2743219"/>
                    <a:pt x="9322642" y="0"/>
                  </a:cubicBezTo>
                  <a:lnTo>
                    <a:pt x="12077282" y="0"/>
                  </a:lnTo>
                  <a:lnTo>
                    <a:pt x="12077282" y="2433366"/>
                  </a:lnTo>
                  <a:lnTo>
                    <a:pt x="11967026" y="2383207"/>
                  </a:lnTo>
                  <a:cubicBezTo>
                    <a:pt x="11166968" y="2046030"/>
                    <a:pt x="10401954" y="2118475"/>
                    <a:pt x="9762617" y="2268538"/>
                  </a:cubicBezTo>
                  <a:cubicBezTo>
                    <a:pt x="9080657" y="2434124"/>
                    <a:pt x="7216266" y="3273097"/>
                    <a:pt x="6501308" y="3565633"/>
                  </a:cubicBezTo>
                  <a:cubicBezTo>
                    <a:pt x="5780850" y="3863689"/>
                    <a:pt x="5225383" y="3515957"/>
                    <a:pt x="4515926" y="3212382"/>
                  </a:cubicBezTo>
                  <a:cubicBezTo>
                    <a:pt x="3800967" y="2914326"/>
                    <a:pt x="3366492" y="2478281"/>
                    <a:pt x="2200560" y="2069833"/>
                  </a:cubicBezTo>
                  <a:cubicBezTo>
                    <a:pt x="1180370" y="1707613"/>
                    <a:pt x="223340" y="2169444"/>
                    <a:pt x="23" y="2290562"/>
                  </a:cubicBezTo>
                  <a:lnTo>
                    <a:pt x="0" y="2290575"/>
                  </a:lnTo>
                  <a:lnTo>
                    <a:pt x="0" y="0"/>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任意多边形 69"/>
            <p:cNvSpPr/>
            <p:nvPr/>
          </p:nvSpPr>
          <p:spPr>
            <a:xfrm>
              <a:off x="0" y="2169360"/>
              <a:ext cx="4631040" cy="1431000"/>
            </a:xfrm>
            <a:custGeom>
              <a:avLst/>
              <a:gdLst/>
              <a:ahLst/>
              <a:rect l="l" t="t" r="r" b="b"/>
              <a:pathLst>
                <a:path w="4587618" h="1555835">
                  <a:moveTo>
                    <a:pt x="1825852" y="0"/>
                  </a:moveTo>
                  <a:cubicBezTo>
                    <a:pt x="2398011" y="27582"/>
                    <a:pt x="2964668" y="209619"/>
                    <a:pt x="3575337" y="485432"/>
                  </a:cubicBezTo>
                  <a:cubicBezTo>
                    <a:pt x="4064973" y="700566"/>
                    <a:pt x="4362056" y="821924"/>
                    <a:pt x="4587618" y="910184"/>
                  </a:cubicBezTo>
                  <a:cubicBezTo>
                    <a:pt x="4169502" y="755729"/>
                    <a:pt x="3377282" y="490948"/>
                    <a:pt x="2898649" y="474399"/>
                  </a:cubicBezTo>
                  <a:cubicBezTo>
                    <a:pt x="2233309" y="453713"/>
                    <a:pt x="1142459" y="675441"/>
                    <a:pt x="138343" y="1444116"/>
                  </a:cubicBezTo>
                  <a:lnTo>
                    <a:pt x="0" y="1555835"/>
                  </a:lnTo>
                  <a:lnTo>
                    <a:pt x="0" y="1281649"/>
                  </a:lnTo>
                  <a:lnTo>
                    <a:pt x="50814" y="1246526"/>
                  </a:lnTo>
                  <a:cubicBezTo>
                    <a:pt x="355891" y="1035594"/>
                    <a:pt x="1202116" y="449576"/>
                    <a:pt x="1550775" y="198586"/>
                  </a:cubicBezTo>
                  <a:cubicBezTo>
                    <a:pt x="1644301" y="132391"/>
                    <a:pt x="1737827" y="66195"/>
                    <a:pt x="1825852" y="0"/>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任意多边形 66"/>
            <p:cNvSpPr/>
            <p:nvPr/>
          </p:nvSpPr>
          <p:spPr>
            <a:xfrm>
              <a:off x="0" y="1780200"/>
              <a:ext cx="2249280" cy="776160"/>
            </a:xfrm>
            <a:custGeom>
              <a:avLst/>
              <a:gdLst/>
              <a:ahLst/>
              <a:rect l="l" t="t" r="r" b="b"/>
              <a:pathLst>
                <a:path w="2228194" h="844195">
                  <a:moveTo>
                    <a:pt x="1334038" y="279"/>
                  </a:moveTo>
                  <a:cubicBezTo>
                    <a:pt x="1606678" y="-3600"/>
                    <a:pt x="1900672" y="32603"/>
                    <a:pt x="2199959" y="136037"/>
                  </a:cubicBezTo>
                  <a:cubicBezTo>
                    <a:pt x="2205606" y="136037"/>
                    <a:pt x="2216900" y="141554"/>
                    <a:pt x="2228194" y="147070"/>
                  </a:cubicBezTo>
                  <a:cubicBezTo>
                    <a:pt x="2092668" y="218785"/>
                    <a:pt x="1957141" y="318083"/>
                    <a:pt x="1815968" y="422897"/>
                  </a:cubicBezTo>
                  <a:cubicBezTo>
                    <a:pt x="1623972" y="411864"/>
                    <a:pt x="1437623" y="417380"/>
                    <a:pt x="1245628" y="444963"/>
                  </a:cubicBezTo>
                  <a:cubicBezTo>
                    <a:pt x="698228" y="513230"/>
                    <a:pt x="257591" y="709261"/>
                    <a:pt x="35650" y="825113"/>
                  </a:cubicBezTo>
                  <a:lnTo>
                    <a:pt x="0" y="844195"/>
                  </a:lnTo>
                  <a:lnTo>
                    <a:pt x="0" y="326384"/>
                  </a:lnTo>
                  <a:lnTo>
                    <a:pt x="917" y="325917"/>
                  </a:lnTo>
                  <a:cubicBezTo>
                    <a:pt x="215250" y="220644"/>
                    <a:pt x="720595" y="9006"/>
                    <a:pt x="1334038" y="279"/>
                  </a:cubicBezTo>
                  <a:close/>
                </a:path>
              </a:pathLst>
            </a:custGeom>
            <a:solidFill>
              <a:srgbClr val="133c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10"/>
            <p:cNvSpPr/>
            <p:nvPr/>
          </p:nvSpPr>
          <p:spPr>
            <a:xfrm>
              <a:off x="1843560" y="1915560"/>
              <a:ext cx="3114000" cy="1203480"/>
            </a:xfrm>
            <a:custGeom>
              <a:avLst/>
              <a:gdLst/>
              <a:ahLst/>
              <a:rect l="l" t="t" r="r" b="b"/>
              <a:pathLst>
                <a:path w="561" h="237">
                  <a:moveTo>
                    <a:pt x="551" y="233"/>
                  </a:moveTo>
                  <a:cubicBezTo>
                    <a:pt x="551" y="233"/>
                    <a:pt x="551" y="233"/>
                    <a:pt x="550" y="232"/>
                  </a:cubicBezTo>
                  <a:cubicBezTo>
                    <a:pt x="530" y="223"/>
                    <a:pt x="510" y="214"/>
                    <a:pt x="489" y="205"/>
                  </a:cubicBezTo>
                  <a:cubicBezTo>
                    <a:pt x="360" y="151"/>
                    <a:pt x="281" y="74"/>
                    <a:pt x="73" y="0"/>
                  </a:cubicBezTo>
                  <a:cubicBezTo>
                    <a:pt x="49" y="13"/>
                    <a:pt x="25" y="31"/>
                    <a:pt x="0" y="50"/>
                  </a:cubicBezTo>
                  <a:cubicBezTo>
                    <a:pt x="104" y="55"/>
                    <a:pt x="207" y="88"/>
                    <a:pt x="318" y="138"/>
                  </a:cubicBezTo>
                  <a:cubicBezTo>
                    <a:pt x="407" y="177"/>
                    <a:pt x="461" y="199"/>
                    <a:pt x="502" y="215"/>
                  </a:cubicBezTo>
                  <a:cubicBezTo>
                    <a:pt x="540" y="229"/>
                    <a:pt x="561" y="237"/>
                    <a:pt x="551" y="233"/>
                  </a:cubicBez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任意多边形 80"/>
            <p:cNvSpPr/>
            <p:nvPr/>
          </p:nvSpPr>
          <p:spPr>
            <a:xfrm>
              <a:off x="7462440" y="2457000"/>
              <a:ext cx="4729680" cy="927000"/>
            </a:xfrm>
            <a:custGeom>
              <a:avLst/>
              <a:gdLst/>
              <a:ahLst/>
              <a:rect l="l" t="t" r="r" b="b"/>
              <a:pathLst>
                <a:path w="4685142" h="1008081">
                  <a:moveTo>
                    <a:pt x="2241505" y="1606"/>
                  </a:moveTo>
                  <a:cubicBezTo>
                    <a:pt x="3533549" y="-30161"/>
                    <a:pt x="4423596" y="418483"/>
                    <a:pt x="4666875" y="557279"/>
                  </a:cubicBezTo>
                  <a:lnTo>
                    <a:pt x="4685142" y="567892"/>
                  </a:lnTo>
                  <a:lnTo>
                    <a:pt x="4685142" y="1008081"/>
                  </a:lnTo>
                  <a:lnTo>
                    <a:pt x="4653527" y="985133"/>
                  </a:lnTo>
                  <a:cubicBezTo>
                    <a:pt x="4256475" y="702629"/>
                    <a:pt x="2511308" y="-370990"/>
                    <a:pt x="0" y="531333"/>
                  </a:cubicBezTo>
                  <a:cubicBezTo>
                    <a:pt x="285907" y="421041"/>
                    <a:pt x="676280" y="277662"/>
                    <a:pt x="1099642" y="150827"/>
                  </a:cubicBezTo>
                  <a:cubicBezTo>
                    <a:pt x="1506854" y="54666"/>
                    <a:pt x="1889130" y="10270"/>
                    <a:pt x="2241505" y="1606"/>
                  </a:cubicBezTo>
                  <a:close/>
                </a:path>
              </a:pathLst>
            </a:custGeom>
            <a:solidFill>
              <a:srgbClr val="f0f6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任意多边形 79"/>
            <p:cNvSpPr/>
            <p:nvPr/>
          </p:nvSpPr>
          <p:spPr>
            <a:xfrm>
              <a:off x="8573400" y="2279880"/>
              <a:ext cx="3618720" cy="699840"/>
            </a:xfrm>
            <a:custGeom>
              <a:avLst/>
              <a:gdLst/>
              <a:ahLst/>
              <a:rect l="l" t="t" r="r" b="b"/>
              <a:pathLst>
                <a:path w="3584764" h="760973">
                  <a:moveTo>
                    <a:pt x="1700236" y="2562"/>
                  </a:moveTo>
                  <a:cubicBezTo>
                    <a:pt x="2414279" y="-20914"/>
                    <a:pt x="3052323" y="120595"/>
                    <a:pt x="3512551" y="278243"/>
                  </a:cubicBezTo>
                  <a:lnTo>
                    <a:pt x="3584764" y="304068"/>
                  </a:lnTo>
                  <a:lnTo>
                    <a:pt x="3584764" y="760973"/>
                  </a:lnTo>
                  <a:lnTo>
                    <a:pt x="3566511" y="750358"/>
                  </a:lnTo>
                  <a:cubicBezTo>
                    <a:pt x="3256945" y="573576"/>
                    <a:pt x="1899935" y="-105484"/>
                    <a:pt x="0" y="343601"/>
                  </a:cubicBezTo>
                  <a:cubicBezTo>
                    <a:pt x="291346" y="249783"/>
                    <a:pt x="604681" y="161484"/>
                    <a:pt x="896027" y="100778"/>
                  </a:cubicBezTo>
                  <a:cubicBezTo>
                    <a:pt x="1170882" y="41452"/>
                    <a:pt x="1440584" y="11099"/>
                    <a:pt x="1700236" y="2562"/>
                  </a:cubicBezTo>
                  <a:close/>
                </a:path>
              </a:pathLst>
            </a:custGeom>
            <a:solidFill>
              <a:srgbClr val="f37a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任意多边形 78"/>
            <p:cNvSpPr/>
            <p:nvPr/>
          </p:nvSpPr>
          <p:spPr>
            <a:xfrm>
              <a:off x="7666200" y="1971360"/>
              <a:ext cx="4525920" cy="882360"/>
            </a:xfrm>
            <a:custGeom>
              <a:avLst/>
              <a:gdLst/>
              <a:ahLst/>
              <a:rect l="l" t="t" r="r" b="b"/>
              <a:pathLst>
                <a:path w="4483200" h="959461">
                  <a:moveTo>
                    <a:pt x="3093176" y="874"/>
                  </a:moveTo>
                  <a:cubicBezTo>
                    <a:pt x="3290528" y="-3523"/>
                    <a:pt x="3494263" y="8374"/>
                    <a:pt x="3702639" y="43548"/>
                  </a:cubicBezTo>
                  <a:cubicBezTo>
                    <a:pt x="3904826" y="76654"/>
                    <a:pt x="4113202" y="134588"/>
                    <a:pt x="4323126" y="219679"/>
                  </a:cubicBezTo>
                  <a:lnTo>
                    <a:pt x="4483200" y="291414"/>
                  </a:lnTo>
                  <a:lnTo>
                    <a:pt x="4483200" y="638065"/>
                  </a:lnTo>
                  <a:lnTo>
                    <a:pt x="4412261" y="612722"/>
                  </a:lnTo>
                  <a:cubicBezTo>
                    <a:pt x="3784154" y="397792"/>
                    <a:pt x="2825119" y="212868"/>
                    <a:pt x="1793551" y="435294"/>
                  </a:cubicBezTo>
                  <a:cubicBezTo>
                    <a:pt x="1501962" y="495987"/>
                    <a:pt x="1188365" y="584268"/>
                    <a:pt x="896776" y="678066"/>
                  </a:cubicBezTo>
                  <a:cubicBezTo>
                    <a:pt x="605186" y="744277"/>
                    <a:pt x="308095" y="838075"/>
                    <a:pt x="0" y="959461"/>
                  </a:cubicBezTo>
                  <a:cubicBezTo>
                    <a:pt x="720722" y="650479"/>
                    <a:pt x="1551477" y="302873"/>
                    <a:pt x="2030124" y="164934"/>
                  </a:cubicBezTo>
                  <a:cubicBezTo>
                    <a:pt x="2079639" y="148382"/>
                    <a:pt x="2123653" y="137347"/>
                    <a:pt x="2167667" y="126312"/>
                  </a:cubicBezTo>
                  <a:cubicBezTo>
                    <a:pt x="2453067" y="60791"/>
                    <a:pt x="2764257" y="8202"/>
                    <a:pt x="3093176" y="874"/>
                  </a:cubicBez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28"/>
            <p:cNvSpPr/>
            <p:nvPr/>
          </p:nvSpPr>
          <p:spPr>
            <a:xfrm>
              <a:off x="2249280" y="1788480"/>
              <a:ext cx="2648160" cy="1303920"/>
            </a:xfrm>
            <a:custGeom>
              <a:avLst/>
              <a:gdLst/>
              <a:ahLst/>
              <a:rect l="l" t="t" r="r" b="b"/>
              <a:pathLst>
                <a:path w="477" h="257">
                  <a:moveTo>
                    <a:pt x="477" y="257"/>
                  </a:moveTo>
                  <a:cubicBezTo>
                    <a:pt x="448" y="244"/>
                    <a:pt x="383" y="197"/>
                    <a:pt x="299" y="125"/>
                  </a:cubicBezTo>
                  <a:cubicBezTo>
                    <a:pt x="214" y="51"/>
                    <a:pt x="167" y="7"/>
                    <a:pt x="91" y="2"/>
                  </a:cubicBezTo>
                  <a:cubicBezTo>
                    <a:pt x="59" y="0"/>
                    <a:pt x="29" y="9"/>
                    <a:pt x="0" y="25"/>
                  </a:cubicBezTo>
                  <a:cubicBezTo>
                    <a:pt x="208" y="99"/>
                    <a:pt x="287" y="176"/>
                    <a:pt x="416" y="230"/>
                  </a:cubicBezTo>
                  <a:cubicBezTo>
                    <a:pt x="437" y="239"/>
                    <a:pt x="457" y="248"/>
                    <a:pt x="477" y="257"/>
                  </a:cubicBez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7" name="文本框 84"/>
          <p:cNvSpPr/>
          <p:nvPr/>
        </p:nvSpPr>
        <p:spPr>
          <a:xfrm>
            <a:off x="1581120" y="4248000"/>
            <a:ext cx="944892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1d087d"/>
                </a:solidFill>
                <a:latin typeface="Arial"/>
                <a:ea typeface="微软雅黑"/>
              </a:rPr>
              <a:t>BUSINESS</a:t>
            </a:r>
            <a:r>
              <a:rPr b="0" lang="en-US" sz="8800" spc="-1" strike="noStrike">
                <a:solidFill>
                  <a:srgbClr val="1d087d"/>
                </a:solidFill>
                <a:latin typeface="Arial"/>
                <a:ea typeface="微软雅黑"/>
              </a:rPr>
              <a:t> PLAN</a:t>
            </a:r>
            <a:endParaRPr b="0" lang="en-US" sz="8800" spc="-1" strike="noStrike">
              <a:solidFill>
                <a:srgbClr val="000000"/>
              </a:solidFill>
              <a:latin typeface="Arial"/>
            </a:endParaRPr>
          </a:p>
        </p:txBody>
      </p:sp>
      <p:sp>
        <p:nvSpPr>
          <p:cNvPr id="178" name="文本框 85"/>
          <p:cNvSpPr/>
          <p:nvPr/>
        </p:nvSpPr>
        <p:spPr>
          <a:xfrm>
            <a:off x="8337600" y="5454720"/>
            <a:ext cx="245916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087d"/>
                </a:solidFill>
                <a:latin typeface="Arial"/>
                <a:ea typeface="微软雅黑"/>
              </a:rPr>
              <a:t>小精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组合 49" descr=""/>
          <p:cNvPicPr/>
          <p:nvPr/>
        </p:nvPicPr>
        <p:blipFill>
          <a:blip r:embed="rId1"/>
          <a:stretch/>
        </p:blipFill>
        <p:spPr>
          <a:xfrm>
            <a:off x="4071960" y="2955960"/>
            <a:ext cx="4236840" cy="3597120"/>
          </a:xfrm>
          <a:prstGeom prst="rect">
            <a:avLst/>
          </a:prstGeom>
          <a:ln w="0">
            <a:noFill/>
          </a:ln>
        </p:spPr>
      </p:pic>
      <p:sp>
        <p:nvSpPr>
          <p:cNvPr id="379" name="文本框 77"/>
          <p:cNvSpPr/>
          <p:nvPr/>
        </p:nvSpPr>
        <p:spPr>
          <a:xfrm>
            <a:off x="2317320" y="4079880"/>
            <a:ext cx="61020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380" name="TextBox 13"/>
          <p:cNvSpPr/>
          <p:nvPr/>
        </p:nvSpPr>
        <p:spPr>
          <a:xfrm>
            <a:off x="1230480" y="4417920"/>
            <a:ext cx="19000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381" name="文本框 79"/>
          <p:cNvSpPr/>
          <p:nvPr/>
        </p:nvSpPr>
        <p:spPr>
          <a:xfrm>
            <a:off x="3417480" y="2762280"/>
            <a:ext cx="61020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382" name="TextBox 13"/>
          <p:cNvSpPr/>
          <p:nvPr/>
        </p:nvSpPr>
        <p:spPr>
          <a:xfrm>
            <a:off x="2330280" y="3102120"/>
            <a:ext cx="190044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383" name="文本框 81"/>
          <p:cNvSpPr/>
          <p:nvPr/>
        </p:nvSpPr>
        <p:spPr>
          <a:xfrm>
            <a:off x="5841720" y="2122560"/>
            <a:ext cx="61020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384" name="TextBox 13"/>
          <p:cNvSpPr/>
          <p:nvPr/>
        </p:nvSpPr>
        <p:spPr>
          <a:xfrm>
            <a:off x="5195880" y="2460600"/>
            <a:ext cx="1901880" cy="213480"/>
          </a:xfrm>
          <a:prstGeom prst="rect">
            <a:avLst/>
          </a:prstGeom>
          <a:noFill/>
          <a:ln w="0">
            <a:noFill/>
          </a:ln>
        </p:spPr>
        <p:style>
          <a:lnRef idx="0"/>
          <a:fillRef idx="0"/>
          <a:effectRef idx="0"/>
          <a:fontRef idx="minor"/>
        </p:style>
        <p:txBody>
          <a:bodyPr lIns="0" rIns="0" tIns="0" bIns="0" anchor="t">
            <a:spAutoFit/>
          </a:bodyPr>
          <a:p>
            <a:pPr algn="ct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385" name="文本框 83"/>
          <p:cNvSpPr/>
          <p:nvPr/>
        </p:nvSpPr>
        <p:spPr>
          <a:xfrm>
            <a:off x="8507160" y="276228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386" name="TextBox 13"/>
          <p:cNvSpPr/>
          <p:nvPr/>
        </p:nvSpPr>
        <p:spPr>
          <a:xfrm>
            <a:off x="8299440" y="3102120"/>
            <a:ext cx="19000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387" name="文本框 85"/>
          <p:cNvSpPr/>
          <p:nvPr/>
        </p:nvSpPr>
        <p:spPr>
          <a:xfrm>
            <a:off x="9392760" y="407340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388" name="TextBox 13"/>
          <p:cNvSpPr/>
          <p:nvPr/>
        </p:nvSpPr>
        <p:spPr>
          <a:xfrm>
            <a:off x="9185400" y="4413240"/>
            <a:ext cx="19000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389" name="椭圆 87"/>
          <p:cNvSpPr/>
          <p:nvPr/>
        </p:nvSpPr>
        <p:spPr>
          <a:xfrm>
            <a:off x="5867280" y="1380960"/>
            <a:ext cx="606600" cy="60660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微软雅黑"/>
              </a:rPr>
              <a:t>3</a:t>
            </a:r>
            <a:endParaRPr b="0" lang="en-US" sz="2800" spc="-1" strike="noStrike">
              <a:solidFill>
                <a:srgbClr val="000000"/>
              </a:solidFill>
              <a:latin typeface="Arial"/>
            </a:endParaRPr>
          </a:p>
        </p:txBody>
      </p:sp>
      <p:sp>
        <p:nvSpPr>
          <p:cNvPr id="390" name="椭圆 88"/>
          <p:cNvSpPr/>
          <p:nvPr/>
        </p:nvSpPr>
        <p:spPr>
          <a:xfrm>
            <a:off x="4444920" y="2730600"/>
            <a:ext cx="606600" cy="60480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微软雅黑"/>
              </a:rPr>
              <a:t>2</a:t>
            </a:r>
            <a:endParaRPr b="0" lang="en-US" sz="2800" spc="-1" strike="noStrike">
              <a:solidFill>
                <a:srgbClr val="000000"/>
              </a:solidFill>
              <a:latin typeface="Arial"/>
            </a:endParaRPr>
          </a:p>
        </p:txBody>
      </p:sp>
      <p:sp>
        <p:nvSpPr>
          <p:cNvPr id="391" name="椭圆 89"/>
          <p:cNvSpPr/>
          <p:nvPr/>
        </p:nvSpPr>
        <p:spPr>
          <a:xfrm>
            <a:off x="3298680" y="4029120"/>
            <a:ext cx="606600" cy="60624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微软雅黑"/>
              </a:rPr>
              <a:t>1</a:t>
            </a:r>
            <a:endParaRPr b="0" lang="en-US" sz="2800" spc="-1" strike="noStrike">
              <a:solidFill>
                <a:srgbClr val="000000"/>
              </a:solidFill>
              <a:latin typeface="Arial"/>
            </a:endParaRPr>
          </a:p>
        </p:txBody>
      </p:sp>
      <p:sp>
        <p:nvSpPr>
          <p:cNvPr id="392" name="椭圆 90"/>
          <p:cNvSpPr/>
          <p:nvPr/>
        </p:nvSpPr>
        <p:spPr>
          <a:xfrm>
            <a:off x="7383600" y="2720880"/>
            <a:ext cx="604800" cy="60480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微软雅黑"/>
              </a:rPr>
              <a:t>4</a:t>
            </a:r>
            <a:endParaRPr b="0" lang="en-US" sz="2800" spc="-1" strike="noStrike">
              <a:solidFill>
                <a:srgbClr val="000000"/>
              </a:solidFill>
              <a:latin typeface="Arial"/>
            </a:endParaRPr>
          </a:p>
        </p:txBody>
      </p:sp>
      <p:sp>
        <p:nvSpPr>
          <p:cNvPr id="393" name="椭圆 91"/>
          <p:cNvSpPr/>
          <p:nvPr/>
        </p:nvSpPr>
        <p:spPr>
          <a:xfrm>
            <a:off x="8420040" y="4043520"/>
            <a:ext cx="606600" cy="60624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微软雅黑"/>
              </a:rPr>
              <a:t>5</a:t>
            </a:r>
            <a:endParaRPr b="0" lang="en-US" sz="2800" spc="-1" strike="noStrike">
              <a:solidFill>
                <a:srgbClr val="000000"/>
              </a:solidFill>
              <a:latin typeface="Arial"/>
            </a:endParaRPr>
          </a:p>
        </p:txBody>
      </p:sp>
      <p:sp>
        <p:nvSpPr>
          <p:cNvPr id="394" name="文本框 46"/>
          <p:cNvSpPr/>
          <p:nvPr/>
        </p:nvSpPr>
        <p:spPr>
          <a:xfrm>
            <a:off x="711360" y="295200"/>
            <a:ext cx="17794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需求分析</a:t>
            </a:r>
            <a:endParaRPr b="0" lang="en-US" sz="2500" spc="-1" strike="noStrike">
              <a:solidFill>
                <a:srgbClr val="000000"/>
              </a:solidFill>
              <a:latin typeface="Arial"/>
            </a:endParaRPr>
          </a:p>
        </p:txBody>
      </p:sp>
      <p:sp>
        <p:nvSpPr>
          <p:cNvPr id="395" name="椭圆 47"/>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72"/>
          <p:cNvSpPr/>
          <p:nvPr/>
        </p:nvSpPr>
        <p:spPr>
          <a:xfrm>
            <a:off x="3419640" y="3637080"/>
            <a:ext cx="703080" cy="703080"/>
          </a:xfrm>
          <a:prstGeom prst="rect">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Shape 1094"/>
          <p:cNvSpPr/>
          <p:nvPr/>
        </p:nvSpPr>
        <p:spPr>
          <a:xfrm>
            <a:off x="3537000" y="3835440"/>
            <a:ext cx="469800" cy="336600"/>
          </a:xfrm>
          <a:custGeom>
            <a:avLst/>
            <a:gdLst/>
            <a:ahLst/>
            <a:rect l="l" t="t" r="r" b="b"/>
            <a:pathLst>
              <a:path w="21600" h="21600">
                <a:moveTo>
                  <a:pt x="20056" y="17282"/>
                </a:moveTo>
                <a:lnTo>
                  <a:pt x="1544" y="17282"/>
                </a:lnTo>
                <a:cubicBezTo>
                  <a:pt x="691" y="17282"/>
                  <a:pt x="0" y="18250"/>
                  <a:pt x="0" y="19441"/>
                </a:cubicBezTo>
                <a:cubicBezTo>
                  <a:pt x="0" y="20638"/>
                  <a:pt x="691" y="21600"/>
                  <a:pt x="1544" y="21600"/>
                </a:cubicBezTo>
                <a:lnTo>
                  <a:pt x="20056" y="21600"/>
                </a:lnTo>
                <a:cubicBezTo>
                  <a:pt x="20909" y="21600"/>
                  <a:pt x="21600" y="20638"/>
                  <a:pt x="21600" y="19441"/>
                </a:cubicBezTo>
                <a:cubicBezTo>
                  <a:pt x="21600" y="18250"/>
                  <a:pt x="20909" y="17282"/>
                  <a:pt x="20056" y="17282"/>
                </a:cubicBezTo>
                <a:close/>
                <a:moveTo>
                  <a:pt x="1544" y="4321"/>
                </a:moveTo>
                <a:lnTo>
                  <a:pt x="20056" y="4321"/>
                </a:lnTo>
                <a:cubicBezTo>
                  <a:pt x="20909" y="4321"/>
                  <a:pt x="21600" y="3353"/>
                  <a:pt x="21600" y="2159"/>
                </a:cubicBezTo>
                <a:cubicBezTo>
                  <a:pt x="21600" y="965"/>
                  <a:pt x="20909" y="0"/>
                  <a:pt x="20056" y="0"/>
                </a:cubicBezTo>
                <a:lnTo>
                  <a:pt x="1544" y="0"/>
                </a:lnTo>
                <a:cubicBezTo>
                  <a:pt x="691" y="0"/>
                  <a:pt x="0" y="965"/>
                  <a:pt x="0" y="2159"/>
                </a:cubicBezTo>
                <a:cubicBezTo>
                  <a:pt x="0" y="3353"/>
                  <a:pt x="691" y="4321"/>
                  <a:pt x="1544" y="4321"/>
                </a:cubicBezTo>
                <a:close/>
                <a:moveTo>
                  <a:pt x="20056" y="8640"/>
                </a:moveTo>
                <a:lnTo>
                  <a:pt x="1544" y="8640"/>
                </a:lnTo>
                <a:cubicBezTo>
                  <a:pt x="691" y="8640"/>
                  <a:pt x="0" y="9608"/>
                  <a:pt x="0" y="10799"/>
                </a:cubicBezTo>
                <a:cubicBezTo>
                  <a:pt x="0" y="11996"/>
                  <a:pt x="691" y="12958"/>
                  <a:pt x="1544" y="12958"/>
                </a:cubicBezTo>
                <a:lnTo>
                  <a:pt x="20056" y="12958"/>
                </a:lnTo>
                <a:cubicBezTo>
                  <a:pt x="20909" y="12958"/>
                  <a:pt x="21600" y="11996"/>
                  <a:pt x="21600" y="10799"/>
                </a:cubicBezTo>
                <a:cubicBezTo>
                  <a:pt x="21600" y="9608"/>
                  <a:pt x="20909" y="8640"/>
                  <a:pt x="20056" y="8640"/>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398" name="Rectangle 69"/>
          <p:cNvSpPr/>
          <p:nvPr/>
        </p:nvSpPr>
        <p:spPr>
          <a:xfrm>
            <a:off x="8353440" y="4849920"/>
            <a:ext cx="703080" cy="703080"/>
          </a:xfrm>
          <a:prstGeom prst="rect">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78"/>
          <p:cNvSpPr/>
          <p:nvPr/>
        </p:nvSpPr>
        <p:spPr>
          <a:xfrm>
            <a:off x="8459640" y="4995720"/>
            <a:ext cx="505080" cy="379440"/>
          </a:xfrm>
          <a:custGeom>
            <a:avLst/>
            <a:gdLst/>
            <a:ahLst/>
            <a:rect l="l" t="t" r="r" b="b"/>
            <a:pathLst>
              <a:path w="158" h="119">
                <a:moveTo>
                  <a:pt x="158" y="119"/>
                </a:moveTo>
                <a:lnTo>
                  <a:pt x="0" y="119"/>
                </a:lnTo>
                <a:lnTo>
                  <a:pt x="0" y="0"/>
                </a:lnTo>
                <a:lnTo>
                  <a:pt x="9" y="0"/>
                </a:lnTo>
                <a:lnTo>
                  <a:pt x="9" y="108"/>
                </a:lnTo>
                <a:lnTo>
                  <a:pt x="158" y="108"/>
                </a:lnTo>
                <a:lnTo>
                  <a:pt x="158" y="119"/>
                </a:lnTo>
                <a:close/>
                <a:moveTo>
                  <a:pt x="50" y="99"/>
                </a:moveTo>
                <a:lnTo>
                  <a:pt x="29" y="99"/>
                </a:lnTo>
                <a:lnTo>
                  <a:pt x="29" y="60"/>
                </a:lnTo>
                <a:lnTo>
                  <a:pt x="50" y="60"/>
                </a:lnTo>
                <a:lnTo>
                  <a:pt x="50" y="99"/>
                </a:lnTo>
                <a:close/>
                <a:moveTo>
                  <a:pt x="78" y="99"/>
                </a:moveTo>
                <a:lnTo>
                  <a:pt x="59" y="99"/>
                </a:lnTo>
                <a:lnTo>
                  <a:pt x="59" y="19"/>
                </a:lnTo>
                <a:lnTo>
                  <a:pt x="78" y="19"/>
                </a:lnTo>
                <a:lnTo>
                  <a:pt x="78" y="99"/>
                </a:lnTo>
                <a:close/>
                <a:moveTo>
                  <a:pt x="109" y="99"/>
                </a:moveTo>
                <a:lnTo>
                  <a:pt x="89" y="99"/>
                </a:lnTo>
                <a:lnTo>
                  <a:pt x="89" y="39"/>
                </a:lnTo>
                <a:lnTo>
                  <a:pt x="109" y="39"/>
                </a:lnTo>
                <a:lnTo>
                  <a:pt x="109" y="99"/>
                </a:lnTo>
                <a:close/>
                <a:moveTo>
                  <a:pt x="139" y="99"/>
                </a:moveTo>
                <a:lnTo>
                  <a:pt x="119" y="99"/>
                </a:lnTo>
                <a:lnTo>
                  <a:pt x="119" y="11"/>
                </a:lnTo>
                <a:lnTo>
                  <a:pt x="139" y="11"/>
                </a:lnTo>
                <a:lnTo>
                  <a:pt x="139" y="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Rectangle 78"/>
          <p:cNvSpPr/>
          <p:nvPr/>
        </p:nvSpPr>
        <p:spPr>
          <a:xfrm>
            <a:off x="8353440" y="3637080"/>
            <a:ext cx="703080" cy="703080"/>
          </a:xfrm>
          <a:prstGeom prst="rect">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1" name="Group 93" descr=""/>
          <p:cNvPicPr/>
          <p:nvPr/>
        </p:nvPicPr>
        <p:blipFill>
          <a:blip r:embed="rId1"/>
          <a:stretch/>
        </p:blipFill>
        <p:spPr>
          <a:xfrm>
            <a:off x="8442360" y="3730680"/>
            <a:ext cx="512640" cy="493560"/>
          </a:xfrm>
          <a:prstGeom prst="rect">
            <a:avLst/>
          </a:prstGeom>
          <a:ln w="0">
            <a:noFill/>
          </a:ln>
        </p:spPr>
      </p:pic>
      <p:sp>
        <p:nvSpPr>
          <p:cNvPr id="402" name="Rectangle 65"/>
          <p:cNvSpPr/>
          <p:nvPr/>
        </p:nvSpPr>
        <p:spPr>
          <a:xfrm>
            <a:off x="3419640" y="2379600"/>
            <a:ext cx="703080" cy="703440"/>
          </a:xfrm>
          <a:prstGeom prst="rect">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37"/>
          <p:cNvSpPr/>
          <p:nvPr/>
        </p:nvSpPr>
        <p:spPr>
          <a:xfrm>
            <a:off x="3532320" y="2503440"/>
            <a:ext cx="476280" cy="471600"/>
          </a:xfrm>
          <a:custGeom>
            <a:avLst/>
            <a:gdLst/>
            <a:ahLst/>
            <a:rect l="l" t="t" r="r" b="b"/>
            <a:pathLst>
              <a:path w="120" h="120">
                <a:moveTo>
                  <a:pt x="60" y="0"/>
                </a:moveTo>
                <a:cubicBezTo>
                  <a:pt x="27" y="0"/>
                  <a:pt x="0" y="27"/>
                  <a:pt x="0" y="60"/>
                </a:cubicBezTo>
                <a:cubicBezTo>
                  <a:pt x="0" y="93"/>
                  <a:pt x="27" y="120"/>
                  <a:pt x="60" y="120"/>
                </a:cubicBezTo>
                <a:cubicBezTo>
                  <a:pt x="93" y="120"/>
                  <a:pt x="120" y="93"/>
                  <a:pt x="120" y="60"/>
                </a:cubicBezTo>
                <a:cubicBezTo>
                  <a:pt x="120" y="27"/>
                  <a:pt x="93" y="0"/>
                  <a:pt x="60" y="0"/>
                </a:cubicBezTo>
                <a:close/>
                <a:moveTo>
                  <a:pt x="83" y="24"/>
                </a:moveTo>
                <a:cubicBezTo>
                  <a:pt x="87" y="21"/>
                  <a:pt x="87" y="21"/>
                  <a:pt x="87" y="21"/>
                </a:cubicBezTo>
                <a:cubicBezTo>
                  <a:pt x="87" y="21"/>
                  <a:pt x="85" y="17"/>
                  <a:pt x="86" y="14"/>
                </a:cubicBezTo>
                <a:cubicBezTo>
                  <a:pt x="87" y="14"/>
                  <a:pt x="91" y="16"/>
                  <a:pt x="94" y="20"/>
                </a:cubicBezTo>
                <a:cubicBezTo>
                  <a:pt x="92" y="29"/>
                  <a:pt x="86" y="28"/>
                  <a:pt x="86" y="28"/>
                </a:cubicBezTo>
                <a:cubicBezTo>
                  <a:pt x="86" y="28"/>
                  <a:pt x="82" y="28"/>
                  <a:pt x="83" y="24"/>
                </a:cubicBezTo>
                <a:close/>
                <a:moveTo>
                  <a:pt x="47" y="77"/>
                </a:moveTo>
                <a:cubicBezTo>
                  <a:pt x="46" y="78"/>
                  <a:pt x="45" y="81"/>
                  <a:pt x="44" y="84"/>
                </a:cubicBezTo>
                <a:cubicBezTo>
                  <a:pt x="43" y="86"/>
                  <a:pt x="42" y="87"/>
                  <a:pt x="41" y="88"/>
                </a:cubicBezTo>
                <a:cubicBezTo>
                  <a:pt x="39" y="89"/>
                  <a:pt x="39" y="91"/>
                  <a:pt x="39" y="91"/>
                </a:cubicBezTo>
                <a:cubicBezTo>
                  <a:pt x="38" y="95"/>
                  <a:pt x="38" y="95"/>
                  <a:pt x="38" y="95"/>
                </a:cubicBezTo>
                <a:cubicBezTo>
                  <a:pt x="38" y="95"/>
                  <a:pt x="39" y="99"/>
                  <a:pt x="40" y="100"/>
                </a:cubicBezTo>
                <a:cubicBezTo>
                  <a:pt x="40" y="102"/>
                  <a:pt x="37" y="110"/>
                  <a:pt x="37" y="110"/>
                </a:cubicBezTo>
                <a:cubicBezTo>
                  <a:pt x="34" y="109"/>
                  <a:pt x="33" y="106"/>
                  <a:pt x="32" y="104"/>
                </a:cubicBezTo>
                <a:cubicBezTo>
                  <a:pt x="32" y="102"/>
                  <a:pt x="30" y="101"/>
                  <a:pt x="31" y="99"/>
                </a:cubicBezTo>
                <a:cubicBezTo>
                  <a:pt x="31" y="96"/>
                  <a:pt x="29" y="95"/>
                  <a:pt x="28" y="94"/>
                </a:cubicBezTo>
                <a:cubicBezTo>
                  <a:pt x="27" y="92"/>
                  <a:pt x="26" y="90"/>
                  <a:pt x="26" y="89"/>
                </a:cubicBezTo>
                <a:cubicBezTo>
                  <a:pt x="26" y="88"/>
                  <a:pt x="23" y="86"/>
                  <a:pt x="23" y="86"/>
                </a:cubicBezTo>
                <a:cubicBezTo>
                  <a:pt x="23" y="86"/>
                  <a:pt x="18" y="83"/>
                  <a:pt x="17" y="82"/>
                </a:cubicBezTo>
                <a:cubicBezTo>
                  <a:pt x="16" y="81"/>
                  <a:pt x="15" y="77"/>
                  <a:pt x="15" y="75"/>
                </a:cubicBezTo>
                <a:cubicBezTo>
                  <a:pt x="15" y="73"/>
                  <a:pt x="16" y="68"/>
                  <a:pt x="16" y="68"/>
                </a:cubicBezTo>
                <a:cubicBezTo>
                  <a:pt x="16" y="68"/>
                  <a:pt x="18" y="66"/>
                  <a:pt x="17" y="65"/>
                </a:cubicBezTo>
                <a:cubicBezTo>
                  <a:pt x="15" y="64"/>
                  <a:pt x="15" y="60"/>
                  <a:pt x="15" y="60"/>
                </a:cubicBezTo>
                <a:cubicBezTo>
                  <a:pt x="13" y="58"/>
                  <a:pt x="13" y="58"/>
                  <a:pt x="13" y="58"/>
                </a:cubicBezTo>
                <a:cubicBezTo>
                  <a:pt x="13" y="58"/>
                  <a:pt x="11" y="55"/>
                  <a:pt x="10" y="54"/>
                </a:cubicBezTo>
                <a:cubicBezTo>
                  <a:pt x="10" y="52"/>
                  <a:pt x="10" y="51"/>
                  <a:pt x="11" y="50"/>
                </a:cubicBezTo>
                <a:cubicBezTo>
                  <a:pt x="11" y="49"/>
                  <a:pt x="10" y="46"/>
                  <a:pt x="10" y="45"/>
                </a:cubicBezTo>
                <a:cubicBezTo>
                  <a:pt x="20" y="20"/>
                  <a:pt x="37" y="15"/>
                  <a:pt x="37" y="15"/>
                </a:cubicBezTo>
                <a:cubicBezTo>
                  <a:pt x="38" y="20"/>
                  <a:pt x="38" y="20"/>
                  <a:pt x="38" y="20"/>
                </a:cubicBezTo>
                <a:cubicBezTo>
                  <a:pt x="38" y="20"/>
                  <a:pt x="35" y="21"/>
                  <a:pt x="34" y="21"/>
                </a:cubicBezTo>
                <a:cubicBezTo>
                  <a:pt x="32" y="20"/>
                  <a:pt x="31" y="20"/>
                  <a:pt x="31" y="20"/>
                </a:cubicBezTo>
                <a:cubicBezTo>
                  <a:pt x="29" y="23"/>
                  <a:pt x="29" y="23"/>
                  <a:pt x="29" y="23"/>
                </a:cubicBezTo>
                <a:cubicBezTo>
                  <a:pt x="29" y="23"/>
                  <a:pt x="28" y="25"/>
                  <a:pt x="28" y="26"/>
                </a:cubicBezTo>
                <a:cubicBezTo>
                  <a:pt x="28" y="27"/>
                  <a:pt x="29" y="29"/>
                  <a:pt x="29" y="29"/>
                </a:cubicBezTo>
                <a:cubicBezTo>
                  <a:pt x="29" y="29"/>
                  <a:pt x="32" y="29"/>
                  <a:pt x="32" y="28"/>
                </a:cubicBezTo>
                <a:cubicBezTo>
                  <a:pt x="32" y="27"/>
                  <a:pt x="32" y="26"/>
                  <a:pt x="32" y="26"/>
                </a:cubicBezTo>
                <a:cubicBezTo>
                  <a:pt x="31" y="24"/>
                  <a:pt x="31" y="24"/>
                  <a:pt x="31" y="24"/>
                </a:cubicBezTo>
                <a:cubicBezTo>
                  <a:pt x="31" y="24"/>
                  <a:pt x="34" y="23"/>
                  <a:pt x="40" y="24"/>
                </a:cubicBezTo>
                <a:cubicBezTo>
                  <a:pt x="47" y="24"/>
                  <a:pt x="44" y="29"/>
                  <a:pt x="47" y="30"/>
                </a:cubicBezTo>
                <a:cubicBezTo>
                  <a:pt x="50" y="31"/>
                  <a:pt x="45" y="35"/>
                  <a:pt x="44" y="37"/>
                </a:cubicBezTo>
                <a:cubicBezTo>
                  <a:pt x="43" y="39"/>
                  <a:pt x="41" y="34"/>
                  <a:pt x="41" y="34"/>
                </a:cubicBezTo>
                <a:cubicBezTo>
                  <a:pt x="41" y="34"/>
                  <a:pt x="43" y="32"/>
                  <a:pt x="40" y="32"/>
                </a:cubicBezTo>
                <a:cubicBezTo>
                  <a:pt x="37" y="31"/>
                  <a:pt x="35" y="36"/>
                  <a:pt x="37" y="36"/>
                </a:cubicBezTo>
                <a:cubicBezTo>
                  <a:pt x="38" y="36"/>
                  <a:pt x="40" y="38"/>
                  <a:pt x="39" y="39"/>
                </a:cubicBezTo>
                <a:cubicBezTo>
                  <a:pt x="39" y="40"/>
                  <a:pt x="39" y="40"/>
                  <a:pt x="38" y="43"/>
                </a:cubicBezTo>
                <a:cubicBezTo>
                  <a:pt x="36" y="46"/>
                  <a:pt x="34" y="48"/>
                  <a:pt x="34" y="48"/>
                </a:cubicBezTo>
                <a:cubicBezTo>
                  <a:pt x="34" y="48"/>
                  <a:pt x="32" y="47"/>
                  <a:pt x="33" y="49"/>
                </a:cubicBezTo>
                <a:cubicBezTo>
                  <a:pt x="34" y="51"/>
                  <a:pt x="33" y="54"/>
                  <a:pt x="33" y="55"/>
                </a:cubicBezTo>
                <a:cubicBezTo>
                  <a:pt x="33" y="57"/>
                  <a:pt x="29" y="54"/>
                  <a:pt x="29" y="51"/>
                </a:cubicBezTo>
                <a:cubicBezTo>
                  <a:pt x="28" y="48"/>
                  <a:pt x="25" y="51"/>
                  <a:pt x="24" y="51"/>
                </a:cubicBezTo>
                <a:cubicBezTo>
                  <a:pt x="23" y="51"/>
                  <a:pt x="21" y="50"/>
                  <a:pt x="21" y="49"/>
                </a:cubicBezTo>
                <a:cubicBezTo>
                  <a:pt x="20" y="48"/>
                  <a:pt x="15" y="52"/>
                  <a:pt x="14" y="52"/>
                </a:cubicBezTo>
                <a:cubicBezTo>
                  <a:pt x="13" y="53"/>
                  <a:pt x="13" y="55"/>
                  <a:pt x="15" y="54"/>
                </a:cubicBezTo>
                <a:cubicBezTo>
                  <a:pt x="17" y="53"/>
                  <a:pt x="19" y="54"/>
                  <a:pt x="19" y="56"/>
                </a:cubicBezTo>
                <a:cubicBezTo>
                  <a:pt x="18" y="58"/>
                  <a:pt x="16" y="57"/>
                  <a:pt x="16" y="58"/>
                </a:cubicBezTo>
                <a:cubicBezTo>
                  <a:pt x="17" y="60"/>
                  <a:pt x="19" y="61"/>
                  <a:pt x="19" y="63"/>
                </a:cubicBezTo>
                <a:cubicBezTo>
                  <a:pt x="20" y="65"/>
                  <a:pt x="25" y="63"/>
                  <a:pt x="27" y="62"/>
                </a:cubicBezTo>
                <a:cubicBezTo>
                  <a:pt x="28" y="62"/>
                  <a:pt x="33" y="61"/>
                  <a:pt x="33" y="63"/>
                </a:cubicBezTo>
                <a:cubicBezTo>
                  <a:pt x="34" y="65"/>
                  <a:pt x="39" y="66"/>
                  <a:pt x="41" y="66"/>
                </a:cubicBezTo>
                <a:cubicBezTo>
                  <a:pt x="43" y="67"/>
                  <a:pt x="46" y="67"/>
                  <a:pt x="49" y="69"/>
                </a:cubicBezTo>
                <a:cubicBezTo>
                  <a:pt x="51" y="72"/>
                  <a:pt x="47" y="76"/>
                  <a:pt x="47" y="77"/>
                </a:cubicBezTo>
                <a:close/>
                <a:moveTo>
                  <a:pt x="59" y="14"/>
                </a:moveTo>
                <a:cubicBezTo>
                  <a:pt x="58" y="17"/>
                  <a:pt x="54" y="20"/>
                  <a:pt x="55" y="21"/>
                </a:cubicBezTo>
                <a:cubicBezTo>
                  <a:pt x="55" y="22"/>
                  <a:pt x="55" y="27"/>
                  <a:pt x="51" y="23"/>
                </a:cubicBezTo>
                <a:cubicBezTo>
                  <a:pt x="47" y="19"/>
                  <a:pt x="43" y="18"/>
                  <a:pt x="44" y="15"/>
                </a:cubicBezTo>
                <a:cubicBezTo>
                  <a:pt x="44" y="14"/>
                  <a:pt x="48" y="14"/>
                  <a:pt x="48" y="13"/>
                </a:cubicBezTo>
                <a:cubicBezTo>
                  <a:pt x="53" y="7"/>
                  <a:pt x="62" y="8"/>
                  <a:pt x="63" y="10"/>
                </a:cubicBezTo>
                <a:cubicBezTo>
                  <a:pt x="61" y="12"/>
                  <a:pt x="59" y="11"/>
                  <a:pt x="59" y="14"/>
                </a:cubicBezTo>
                <a:close/>
                <a:moveTo>
                  <a:pt x="107" y="62"/>
                </a:moveTo>
                <a:cubicBezTo>
                  <a:pt x="107" y="62"/>
                  <a:pt x="109" y="65"/>
                  <a:pt x="112" y="65"/>
                </a:cubicBezTo>
                <a:cubicBezTo>
                  <a:pt x="110" y="87"/>
                  <a:pt x="92" y="102"/>
                  <a:pt x="92" y="102"/>
                </a:cubicBezTo>
                <a:cubicBezTo>
                  <a:pt x="89" y="99"/>
                  <a:pt x="90" y="96"/>
                  <a:pt x="90" y="96"/>
                </a:cubicBezTo>
                <a:cubicBezTo>
                  <a:pt x="91" y="92"/>
                  <a:pt x="91" y="92"/>
                  <a:pt x="91" y="92"/>
                </a:cubicBezTo>
                <a:cubicBezTo>
                  <a:pt x="91" y="85"/>
                  <a:pt x="91" y="85"/>
                  <a:pt x="91" y="85"/>
                </a:cubicBezTo>
                <a:cubicBezTo>
                  <a:pt x="91" y="85"/>
                  <a:pt x="91" y="77"/>
                  <a:pt x="84" y="81"/>
                </a:cubicBezTo>
                <a:cubicBezTo>
                  <a:pt x="77" y="83"/>
                  <a:pt x="80" y="83"/>
                  <a:pt x="72" y="83"/>
                </a:cubicBezTo>
                <a:cubicBezTo>
                  <a:pt x="64" y="84"/>
                  <a:pt x="66" y="67"/>
                  <a:pt x="66" y="67"/>
                </a:cubicBezTo>
                <a:cubicBezTo>
                  <a:pt x="66" y="43"/>
                  <a:pt x="84" y="61"/>
                  <a:pt x="84" y="61"/>
                </a:cubicBezTo>
                <a:cubicBezTo>
                  <a:pt x="95" y="69"/>
                  <a:pt x="97" y="56"/>
                  <a:pt x="97" y="56"/>
                </a:cubicBezTo>
                <a:cubicBezTo>
                  <a:pt x="104" y="53"/>
                  <a:pt x="104" y="53"/>
                  <a:pt x="104" y="53"/>
                </a:cubicBezTo>
                <a:cubicBezTo>
                  <a:pt x="105" y="49"/>
                  <a:pt x="105" y="49"/>
                  <a:pt x="105" y="49"/>
                </a:cubicBezTo>
                <a:cubicBezTo>
                  <a:pt x="104" y="44"/>
                  <a:pt x="104" y="44"/>
                  <a:pt x="104" y="44"/>
                </a:cubicBezTo>
                <a:cubicBezTo>
                  <a:pt x="93" y="39"/>
                  <a:pt x="93" y="39"/>
                  <a:pt x="93" y="39"/>
                </a:cubicBezTo>
                <a:cubicBezTo>
                  <a:pt x="93" y="39"/>
                  <a:pt x="91" y="43"/>
                  <a:pt x="94" y="48"/>
                </a:cubicBezTo>
                <a:cubicBezTo>
                  <a:pt x="94" y="48"/>
                  <a:pt x="93" y="53"/>
                  <a:pt x="91" y="52"/>
                </a:cubicBezTo>
                <a:cubicBezTo>
                  <a:pt x="84" y="48"/>
                  <a:pt x="84" y="48"/>
                  <a:pt x="84" y="48"/>
                </a:cubicBezTo>
                <a:cubicBezTo>
                  <a:pt x="84" y="48"/>
                  <a:pt x="82" y="47"/>
                  <a:pt x="79" y="49"/>
                </a:cubicBezTo>
                <a:cubicBezTo>
                  <a:pt x="75" y="52"/>
                  <a:pt x="69" y="49"/>
                  <a:pt x="69" y="49"/>
                </a:cubicBezTo>
                <a:cubicBezTo>
                  <a:pt x="69" y="49"/>
                  <a:pt x="69" y="46"/>
                  <a:pt x="73" y="44"/>
                </a:cubicBezTo>
                <a:cubicBezTo>
                  <a:pt x="76" y="42"/>
                  <a:pt x="76" y="42"/>
                  <a:pt x="76" y="42"/>
                </a:cubicBezTo>
                <a:cubicBezTo>
                  <a:pt x="76" y="42"/>
                  <a:pt x="75" y="38"/>
                  <a:pt x="76" y="35"/>
                </a:cubicBezTo>
                <a:cubicBezTo>
                  <a:pt x="77" y="32"/>
                  <a:pt x="78" y="35"/>
                  <a:pt x="81" y="33"/>
                </a:cubicBezTo>
                <a:cubicBezTo>
                  <a:pt x="84" y="31"/>
                  <a:pt x="86" y="37"/>
                  <a:pt x="90" y="36"/>
                </a:cubicBezTo>
                <a:cubicBezTo>
                  <a:pt x="94" y="36"/>
                  <a:pt x="92" y="35"/>
                  <a:pt x="95" y="33"/>
                </a:cubicBezTo>
                <a:cubicBezTo>
                  <a:pt x="98" y="32"/>
                  <a:pt x="100" y="36"/>
                  <a:pt x="100" y="36"/>
                </a:cubicBezTo>
                <a:cubicBezTo>
                  <a:pt x="106" y="37"/>
                  <a:pt x="106" y="37"/>
                  <a:pt x="106" y="37"/>
                </a:cubicBezTo>
                <a:cubicBezTo>
                  <a:pt x="106" y="37"/>
                  <a:pt x="105" y="30"/>
                  <a:pt x="105" y="32"/>
                </a:cubicBezTo>
                <a:cubicBezTo>
                  <a:pt x="109" y="38"/>
                  <a:pt x="114" y="55"/>
                  <a:pt x="112" y="58"/>
                </a:cubicBezTo>
                <a:cubicBezTo>
                  <a:pt x="111" y="57"/>
                  <a:pt x="110" y="57"/>
                  <a:pt x="110" y="57"/>
                </a:cubicBezTo>
                <a:cubicBezTo>
                  <a:pt x="103" y="57"/>
                  <a:pt x="103" y="57"/>
                  <a:pt x="103" y="57"/>
                </a:cubicBezTo>
                <a:lnTo>
                  <a:pt x="107" y="6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04" name="Rectangle 75"/>
          <p:cNvSpPr/>
          <p:nvPr/>
        </p:nvSpPr>
        <p:spPr>
          <a:xfrm>
            <a:off x="3419640" y="4849920"/>
            <a:ext cx="703080" cy="703080"/>
          </a:xfrm>
          <a:prstGeom prst="rect">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11"/>
          <p:cNvSpPr/>
          <p:nvPr/>
        </p:nvSpPr>
        <p:spPr>
          <a:xfrm>
            <a:off x="3530520" y="4995720"/>
            <a:ext cx="484200" cy="430200"/>
          </a:xfrm>
          <a:custGeom>
            <a:avLst/>
            <a:gdLst/>
            <a:ahLst/>
            <a:rect l="l" t="t" r="r" b="b"/>
            <a:pathLst>
              <a:path w="134" h="119">
                <a:moveTo>
                  <a:pt x="133" y="16"/>
                </a:moveTo>
                <a:cubicBezTo>
                  <a:pt x="121" y="5"/>
                  <a:pt x="121" y="5"/>
                  <a:pt x="121" y="5"/>
                </a:cubicBezTo>
                <a:cubicBezTo>
                  <a:pt x="119" y="3"/>
                  <a:pt x="117" y="3"/>
                  <a:pt x="115" y="5"/>
                </a:cubicBezTo>
                <a:cubicBezTo>
                  <a:pt x="114" y="6"/>
                  <a:pt x="114" y="7"/>
                  <a:pt x="114" y="8"/>
                </a:cubicBezTo>
                <a:cubicBezTo>
                  <a:pt x="113" y="8"/>
                  <a:pt x="112" y="8"/>
                  <a:pt x="111" y="9"/>
                </a:cubicBezTo>
                <a:cubicBezTo>
                  <a:pt x="111" y="9"/>
                  <a:pt x="111" y="9"/>
                  <a:pt x="111" y="9"/>
                </a:cubicBezTo>
                <a:cubicBezTo>
                  <a:pt x="81" y="39"/>
                  <a:pt x="81" y="39"/>
                  <a:pt x="81" y="39"/>
                </a:cubicBezTo>
                <a:cubicBezTo>
                  <a:pt x="81" y="42"/>
                  <a:pt x="80" y="45"/>
                  <a:pt x="79" y="47"/>
                </a:cubicBezTo>
                <a:cubicBezTo>
                  <a:pt x="82" y="50"/>
                  <a:pt x="82" y="50"/>
                  <a:pt x="82" y="50"/>
                </a:cubicBezTo>
                <a:cubicBezTo>
                  <a:pt x="82" y="50"/>
                  <a:pt x="82" y="50"/>
                  <a:pt x="82" y="50"/>
                </a:cubicBezTo>
                <a:cubicBezTo>
                  <a:pt x="83" y="51"/>
                  <a:pt x="83" y="51"/>
                  <a:pt x="83" y="51"/>
                </a:cubicBezTo>
                <a:cubicBezTo>
                  <a:pt x="76" y="57"/>
                  <a:pt x="76" y="57"/>
                  <a:pt x="76" y="57"/>
                </a:cubicBezTo>
                <a:cubicBezTo>
                  <a:pt x="54" y="35"/>
                  <a:pt x="54" y="35"/>
                  <a:pt x="54" y="35"/>
                </a:cubicBezTo>
                <a:cubicBezTo>
                  <a:pt x="56" y="26"/>
                  <a:pt x="54" y="17"/>
                  <a:pt x="47" y="10"/>
                </a:cubicBezTo>
                <a:cubicBezTo>
                  <a:pt x="40" y="3"/>
                  <a:pt x="30" y="0"/>
                  <a:pt x="21" y="3"/>
                </a:cubicBezTo>
                <a:cubicBezTo>
                  <a:pt x="36" y="18"/>
                  <a:pt x="36" y="18"/>
                  <a:pt x="36" y="18"/>
                </a:cubicBezTo>
                <a:cubicBezTo>
                  <a:pt x="32" y="32"/>
                  <a:pt x="32" y="32"/>
                  <a:pt x="32" y="32"/>
                </a:cubicBezTo>
                <a:cubicBezTo>
                  <a:pt x="18" y="36"/>
                  <a:pt x="18" y="36"/>
                  <a:pt x="18" y="36"/>
                </a:cubicBezTo>
                <a:cubicBezTo>
                  <a:pt x="3" y="21"/>
                  <a:pt x="3" y="21"/>
                  <a:pt x="3" y="21"/>
                </a:cubicBezTo>
                <a:cubicBezTo>
                  <a:pt x="0" y="30"/>
                  <a:pt x="3" y="40"/>
                  <a:pt x="10" y="47"/>
                </a:cubicBezTo>
                <a:cubicBezTo>
                  <a:pt x="17" y="54"/>
                  <a:pt x="27" y="56"/>
                  <a:pt x="36" y="53"/>
                </a:cubicBezTo>
                <a:cubicBezTo>
                  <a:pt x="37" y="53"/>
                  <a:pt x="37" y="53"/>
                  <a:pt x="37" y="53"/>
                </a:cubicBezTo>
                <a:cubicBezTo>
                  <a:pt x="58" y="75"/>
                  <a:pt x="58" y="75"/>
                  <a:pt x="58" y="75"/>
                </a:cubicBezTo>
                <a:cubicBezTo>
                  <a:pt x="38" y="96"/>
                  <a:pt x="38" y="96"/>
                  <a:pt x="38" y="96"/>
                </a:cubicBezTo>
                <a:cubicBezTo>
                  <a:pt x="36" y="95"/>
                  <a:pt x="36" y="95"/>
                  <a:pt x="36" y="95"/>
                </a:cubicBezTo>
                <a:cubicBezTo>
                  <a:pt x="31" y="99"/>
                  <a:pt x="31" y="99"/>
                  <a:pt x="31" y="99"/>
                </a:cubicBezTo>
                <a:cubicBezTo>
                  <a:pt x="21" y="115"/>
                  <a:pt x="21" y="115"/>
                  <a:pt x="21" y="115"/>
                </a:cubicBezTo>
                <a:cubicBezTo>
                  <a:pt x="23" y="117"/>
                  <a:pt x="23" y="117"/>
                  <a:pt x="23" y="117"/>
                </a:cubicBezTo>
                <a:cubicBezTo>
                  <a:pt x="39" y="107"/>
                  <a:pt x="39" y="107"/>
                  <a:pt x="39" y="107"/>
                </a:cubicBezTo>
                <a:cubicBezTo>
                  <a:pt x="43" y="101"/>
                  <a:pt x="43" y="101"/>
                  <a:pt x="43" y="101"/>
                </a:cubicBezTo>
                <a:cubicBezTo>
                  <a:pt x="42" y="100"/>
                  <a:pt x="42" y="100"/>
                  <a:pt x="42" y="100"/>
                </a:cubicBezTo>
                <a:cubicBezTo>
                  <a:pt x="63" y="80"/>
                  <a:pt x="63" y="80"/>
                  <a:pt x="63" y="80"/>
                </a:cubicBezTo>
                <a:cubicBezTo>
                  <a:pt x="98" y="115"/>
                  <a:pt x="98" y="115"/>
                  <a:pt x="98" y="115"/>
                </a:cubicBezTo>
                <a:cubicBezTo>
                  <a:pt x="101" y="117"/>
                  <a:pt x="104" y="119"/>
                  <a:pt x="107" y="119"/>
                </a:cubicBezTo>
                <a:cubicBezTo>
                  <a:pt x="110" y="119"/>
                  <a:pt x="113" y="117"/>
                  <a:pt x="116" y="115"/>
                </a:cubicBezTo>
                <a:cubicBezTo>
                  <a:pt x="121" y="110"/>
                  <a:pt x="121" y="102"/>
                  <a:pt x="116" y="97"/>
                </a:cubicBezTo>
                <a:cubicBezTo>
                  <a:pt x="81" y="62"/>
                  <a:pt x="81" y="62"/>
                  <a:pt x="81" y="62"/>
                </a:cubicBezTo>
                <a:cubicBezTo>
                  <a:pt x="87" y="56"/>
                  <a:pt x="87" y="56"/>
                  <a:pt x="87" y="56"/>
                </a:cubicBezTo>
                <a:cubicBezTo>
                  <a:pt x="90" y="59"/>
                  <a:pt x="90" y="59"/>
                  <a:pt x="90" y="59"/>
                </a:cubicBezTo>
                <a:cubicBezTo>
                  <a:pt x="92" y="57"/>
                  <a:pt x="95" y="56"/>
                  <a:pt x="98" y="57"/>
                </a:cubicBezTo>
                <a:cubicBezTo>
                  <a:pt x="128" y="26"/>
                  <a:pt x="128" y="26"/>
                  <a:pt x="128" y="26"/>
                </a:cubicBezTo>
                <a:cubicBezTo>
                  <a:pt x="128" y="26"/>
                  <a:pt x="128" y="26"/>
                  <a:pt x="128" y="26"/>
                </a:cubicBezTo>
                <a:cubicBezTo>
                  <a:pt x="128" y="26"/>
                  <a:pt x="128" y="26"/>
                  <a:pt x="128" y="26"/>
                </a:cubicBezTo>
                <a:cubicBezTo>
                  <a:pt x="129" y="25"/>
                  <a:pt x="129" y="24"/>
                  <a:pt x="129" y="23"/>
                </a:cubicBezTo>
                <a:cubicBezTo>
                  <a:pt x="130" y="24"/>
                  <a:pt x="132" y="23"/>
                  <a:pt x="133" y="22"/>
                </a:cubicBezTo>
                <a:cubicBezTo>
                  <a:pt x="134" y="21"/>
                  <a:pt x="134" y="18"/>
                  <a:pt x="133" y="16"/>
                </a:cubicBezTo>
                <a:close/>
                <a:moveTo>
                  <a:pt x="108" y="103"/>
                </a:moveTo>
                <a:cubicBezTo>
                  <a:pt x="111" y="103"/>
                  <a:pt x="113" y="106"/>
                  <a:pt x="113" y="108"/>
                </a:cubicBezTo>
                <a:cubicBezTo>
                  <a:pt x="113" y="111"/>
                  <a:pt x="111" y="113"/>
                  <a:pt x="108" y="113"/>
                </a:cubicBezTo>
                <a:cubicBezTo>
                  <a:pt x="105" y="113"/>
                  <a:pt x="103" y="111"/>
                  <a:pt x="103" y="108"/>
                </a:cubicBezTo>
                <a:cubicBezTo>
                  <a:pt x="103" y="106"/>
                  <a:pt x="105" y="103"/>
                  <a:pt x="108" y="103"/>
                </a:cubicBezTo>
                <a:close/>
                <a:moveTo>
                  <a:pt x="91" y="41"/>
                </a:moveTo>
                <a:cubicBezTo>
                  <a:pt x="89" y="39"/>
                  <a:pt x="89" y="39"/>
                  <a:pt x="89" y="39"/>
                </a:cubicBezTo>
                <a:cubicBezTo>
                  <a:pt x="112" y="17"/>
                  <a:pt x="112" y="17"/>
                  <a:pt x="112" y="17"/>
                </a:cubicBezTo>
                <a:cubicBezTo>
                  <a:pt x="114" y="19"/>
                  <a:pt x="114" y="19"/>
                  <a:pt x="114" y="19"/>
                </a:cubicBezTo>
                <a:lnTo>
                  <a:pt x="91" y="41"/>
                </a:lnTo>
                <a:close/>
                <a:moveTo>
                  <a:pt x="98" y="48"/>
                </a:moveTo>
                <a:cubicBezTo>
                  <a:pt x="96" y="47"/>
                  <a:pt x="96" y="47"/>
                  <a:pt x="96" y="47"/>
                </a:cubicBezTo>
                <a:cubicBezTo>
                  <a:pt x="119" y="24"/>
                  <a:pt x="119" y="24"/>
                  <a:pt x="119" y="24"/>
                </a:cubicBezTo>
                <a:cubicBezTo>
                  <a:pt x="121" y="26"/>
                  <a:pt x="121" y="26"/>
                  <a:pt x="121" y="26"/>
                </a:cubicBezTo>
                <a:lnTo>
                  <a:pt x="98" y="4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06" name="Rectangle 81"/>
          <p:cNvSpPr/>
          <p:nvPr/>
        </p:nvSpPr>
        <p:spPr>
          <a:xfrm>
            <a:off x="8353440" y="2367000"/>
            <a:ext cx="703080" cy="703080"/>
          </a:xfrm>
          <a:prstGeom prst="rect">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101"/>
          <p:cNvSpPr/>
          <p:nvPr/>
        </p:nvSpPr>
        <p:spPr>
          <a:xfrm>
            <a:off x="8442360" y="2498760"/>
            <a:ext cx="495360" cy="460440"/>
          </a:xfrm>
          <a:custGeom>
            <a:avLst/>
            <a:gdLst/>
            <a:ahLst/>
            <a:rect l="l" t="t" r="r" b="b"/>
            <a:pathLst>
              <a:path w="68" h="63">
                <a:moveTo>
                  <a:pt x="45" y="35"/>
                </a:moveTo>
                <a:cubicBezTo>
                  <a:pt x="45" y="35"/>
                  <a:pt x="45" y="36"/>
                  <a:pt x="45" y="36"/>
                </a:cubicBezTo>
                <a:cubicBezTo>
                  <a:pt x="39" y="36"/>
                  <a:pt x="39" y="36"/>
                  <a:pt x="39" y="36"/>
                </a:cubicBezTo>
                <a:cubicBezTo>
                  <a:pt x="39" y="37"/>
                  <a:pt x="38" y="38"/>
                  <a:pt x="38" y="39"/>
                </a:cubicBezTo>
                <a:cubicBezTo>
                  <a:pt x="39" y="41"/>
                  <a:pt x="40" y="42"/>
                  <a:pt x="41" y="43"/>
                </a:cubicBezTo>
                <a:cubicBezTo>
                  <a:pt x="41" y="43"/>
                  <a:pt x="41" y="44"/>
                  <a:pt x="41" y="44"/>
                </a:cubicBezTo>
                <a:cubicBezTo>
                  <a:pt x="41" y="44"/>
                  <a:pt x="41" y="44"/>
                  <a:pt x="41" y="45"/>
                </a:cubicBezTo>
                <a:cubicBezTo>
                  <a:pt x="40" y="46"/>
                  <a:pt x="36" y="50"/>
                  <a:pt x="35" y="50"/>
                </a:cubicBezTo>
                <a:cubicBezTo>
                  <a:pt x="35" y="50"/>
                  <a:pt x="35" y="50"/>
                  <a:pt x="35" y="50"/>
                </a:cubicBezTo>
                <a:cubicBezTo>
                  <a:pt x="31" y="47"/>
                  <a:pt x="31" y="47"/>
                  <a:pt x="31" y="47"/>
                </a:cubicBezTo>
                <a:cubicBezTo>
                  <a:pt x="30" y="47"/>
                  <a:pt x="29" y="47"/>
                  <a:pt x="28" y="48"/>
                </a:cubicBezTo>
                <a:cubicBezTo>
                  <a:pt x="28" y="49"/>
                  <a:pt x="27" y="51"/>
                  <a:pt x="27" y="53"/>
                </a:cubicBezTo>
                <a:cubicBezTo>
                  <a:pt x="27" y="54"/>
                  <a:pt x="26" y="54"/>
                  <a:pt x="26" y="54"/>
                </a:cubicBezTo>
                <a:cubicBezTo>
                  <a:pt x="19" y="54"/>
                  <a:pt x="19" y="54"/>
                  <a:pt x="19" y="54"/>
                </a:cubicBezTo>
                <a:cubicBezTo>
                  <a:pt x="19" y="54"/>
                  <a:pt x="18" y="54"/>
                  <a:pt x="18" y="53"/>
                </a:cubicBezTo>
                <a:cubicBezTo>
                  <a:pt x="17" y="48"/>
                  <a:pt x="17" y="48"/>
                  <a:pt x="17" y="48"/>
                </a:cubicBezTo>
                <a:cubicBezTo>
                  <a:pt x="16" y="47"/>
                  <a:pt x="16" y="47"/>
                  <a:pt x="15" y="47"/>
                </a:cubicBezTo>
                <a:cubicBezTo>
                  <a:pt x="11" y="50"/>
                  <a:pt x="11" y="50"/>
                  <a:pt x="11" y="50"/>
                </a:cubicBezTo>
                <a:cubicBezTo>
                  <a:pt x="10" y="50"/>
                  <a:pt x="10" y="50"/>
                  <a:pt x="10" y="50"/>
                </a:cubicBezTo>
                <a:cubicBezTo>
                  <a:pt x="10" y="50"/>
                  <a:pt x="9" y="50"/>
                  <a:pt x="9" y="50"/>
                </a:cubicBezTo>
                <a:cubicBezTo>
                  <a:pt x="8" y="49"/>
                  <a:pt x="4" y="45"/>
                  <a:pt x="4" y="44"/>
                </a:cubicBezTo>
                <a:cubicBezTo>
                  <a:pt x="4" y="44"/>
                  <a:pt x="4" y="44"/>
                  <a:pt x="4" y="43"/>
                </a:cubicBezTo>
                <a:cubicBezTo>
                  <a:pt x="5" y="42"/>
                  <a:pt x="6" y="41"/>
                  <a:pt x="7" y="39"/>
                </a:cubicBezTo>
                <a:cubicBezTo>
                  <a:pt x="7" y="38"/>
                  <a:pt x="6" y="37"/>
                  <a:pt x="6" y="36"/>
                </a:cubicBezTo>
                <a:cubicBezTo>
                  <a:pt x="1" y="35"/>
                  <a:pt x="1" y="35"/>
                  <a:pt x="1" y="35"/>
                </a:cubicBezTo>
                <a:cubicBezTo>
                  <a:pt x="0" y="35"/>
                  <a:pt x="0" y="35"/>
                  <a:pt x="0" y="34"/>
                </a:cubicBezTo>
                <a:cubicBezTo>
                  <a:pt x="0" y="28"/>
                  <a:pt x="0" y="28"/>
                  <a:pt x="0" y="28"/>
                </a:cubicBezTo>
                <a:cubicBezTo>
                  <a:pt x="0" y="27"/>
                  <a:pt x="0" y="27"/>
                  <a:pt x="1" y="27"/>
                </a:cubicBezTo>
                <a:cubicBezTo>
                  <a:pt x="6" y="26"/>
                  <a:pt x="6" y="26"/>
                  <a:pt x="6" y="26"/>
                </a:cubicBezTo>
                <a:cubicBezTo>
                  <a:pt x="6" y="25"/>
                  <a:pt x="7" y="24"/>
                  <a:pt x="7" y="23"/>
                </a:cubicBezTo>
                <a:cubicBezTo>
                  <a:pt x="6" y="22"/>
                  <a:pt x="5" y="20"/>
                  <a:pt x="4" y="19"/>
                </a:cubicBezTo>
                <a:cubicBezTo>
                  <a:pt x="4" y="19"/>
                  <a:pt x="4" y="19"/>
                  <a:pt x="4" y="18"/>
                </a:cubicBezTo>
                <a:cubicBezTo>
                  <a:pt x="4" y="18"/>
                  <a:pt x="4" y="18"/>
                  <a:pt x="4" y="18"/>
                </a:cubicBezTo>
                <a:cubicBezTo>
                  <a:pt x="5" y="17"/>
                  <a:pt x="9" y="12"/>
                  <a:pt x="10" y="12"/>
                </a:cubicBezTo>
                <a:cubicBezTo>
                  <a:pt x="10" y="12"/>
                  <a:pt x="10" y="12"/>
                  <a:pt x="11" y="13"/>
                </a:cubicBezTo>
                <a:cubicBezTo>
                  <a:pt x="15" y="16"/>
                  <a:pt x="15" y="16"/>
                  <a:pt x="15" y="16"/>
                </a:cubicBezTo>
                <a:cubicBezTo>
                  <a:pt x="16" y="15"/>
                  <a:pt x="16" y="15"/>
                  <a:pt x="17" y="15"/>
                </a:cubicBezTo>
                <a:cubicBezTo>
                  <a:pt x="18" y="13"/>
                  <a:pt x="18" y="11"/>
                  <a:pt x="18" y="9"/>
                </a:cubicBezTo>
                <a:cubicBezTo>
                  <a:pt x="18" y="9"/>
                  <a:pt x="19" y="8"/>
                  <a:pt x="19" y="8"/>
                </a:cubicBezTo>
                <a:cubicBezTo>
                  <a:pt x="26" y="8"/>
                  <a:pt x="26" y="8"/>
                  <a:pt x="26" y="8"/>
                </a:cubicBezTo>
                <a:cubicBezTo>
                  <a:pt x="26" y="8"/>
                  <a:pt x="27" y="9"/>
                  <a:pt x="27" y="9"/>
                </a:cubicBezTo>
                <a:cubicBezTo>
                  <a:pt x="28" y="15"/>
                  <a:pt x="28" y="15"/>
                  <a:pt x="28" y="15"/>
                </a:cubicBezTo>
                <a:cubicBezTo>
                  <a:pt x="29" y="15"/>
                  <a:pt x="30" y="15"/>
                  <a:pt x="31" y="16"/>
                </a:cubicBezTo>
                <a:cubicBezTo>
                  <a:pt x="35" y="13"/>
                  <a:pt x="35" y="13"/>
                  <a:pt x="35" y="13"/>
                </a:cubicBezTo>
                <a:cubicBezTo>
                  <a:pt x="35" y="12"/>
                  <a:pt x="35" y="12"/>
                  <a:pt x="35" y="12"/>
                </a:cubicBezTo>
                <a:cubicBezTo>
                  <a:pt x="36" y="12"/>
                  <a:pt x="36" y="12"/>
                  <a:pt x="36" y="13"/>
                </a:cubicBezTo>
                <a:cubicBezTo>
                  <a:pt x="37" y="13"/>
                  <a:pt x="41" y="17"/>
                  <a:pt x="41" y="18"/>
                </a:cubicBezTo>
                <a:cubicBezTo>
                  <a:pt x="41" y="19"/>
                  <a:pt x="41" y="19"/>
                  <a:pt x="41" y="19"/>
                </a:cubicBezTo>
                <a:cubicBezTo>
                  <a:pt x="40" y="20"/>
                  <a:pt x="39" y="22"/>
                  <a:pt x="38" y="23"/>
                </a:cubicBezTo>
                <a:cubicBezTo>
                  <a:pt x="38" y="24"/>
                  <a:pt x="39" y="25"/>
                  <a:pt x="39" y="26"/>
                </a:cubicBezTo>
                <a:cubicBezTo>
                  <a:pt x="45" y="27"/>
                  <a:pt x="45" y="27"/>
                  <a:pt x="45" y="27"/>
                </a:cubicBezTo>
                <a:cubicBezTo>
                  <a:pt x="45" y="27"/>
                  <a:pt x="45" y="27"/>
                  <a:pt x="45" y="28"/>
                </a:cubicBezTo>
                <a:lnTo>
                  <a:pt x="45" y="35"/>
                </a:lnTo>
                <a:close/>
                <a:moveTo>
                  <a:pt x="23" y="22"/>
                </a:moveTo>
                <a:cubicBezTo>
                  <a:pt x="18" y="22"/>
                  <a:pt x="13" y="26"/>
                  <a:pt x="13" y="31"/>
                </a:cubicBezTo>
                <a:cubicBezTo>
                  <a:pt x="13" y="36"/>
                  <a:pt x="18" y="40"/>
                  <a:pt x="23" y="40"/>
                </a:cubicBezTo>
                <a:cubicBezTo>
                  <a:pt x="28" y="40"/>
                  <a:pt x="32" y="36"/>
                  <a:pt x="32" y="31"/>
                </a:cubicBezTo>
                <a:cubicBezTo>
                  <a:pt x="32" y="26"/>
                  <a:pt x="28" y="22"/>
                  <a:pt x="23" y="22"/>
                </a:cubicBezTo>
                <a:close/>
                <a:moveTo>
                  <a:pt x="68" y="15"/>
                </a:moveTo>
                <a:cubicBezTo>
                  <a:pt x="68" y="16"/>
                  <a:pt x="64" y="16"/>
                  <a:pt x="63" y="16"/>
                </a:cubicBezTo>
                <a:cubicBezTo>
                  <a:pt x="63" y="17"/>
                  <a:pt x="62" y="18"/>
                  <a:pt x="62" y="18"/>
                </a:cubicBezTo>
                <a:cubicBezTo>
                  <a:pt x="62" y="19"/>
                  <a:pt x="64" y="23"/>
                  <a:pt x="64" y="23"/>
                </a:cubicBezTo>
                <a:cubicBezTo>
                  <a:pt x="64" y="23"/>
                  <a:pt x="64" y="23"/>
                  <a:pt x="64" y="24"/>
                </a:cubicBezTo>
                <a:cubicBezTo>
                  <a:pt x="63" y="24"/>
                  <a:pt x="59" y="26"/>
                  <a:pt x="59" y="26"/>
                </a:cubicBezTo>
                <a:cubicBezTo>
                  <a:pt x="59" y="26"/>
                  <a:pt x="56" y="22"/>
                  <a:pt x="56" y="22"/>
                </a:cubicBezTo>
                <a:cubicBezTo>
                  <a:pt x="55" y="22"/>
                  <a:pt x="55" y="22"/>
                  <a:pt x="55" y="22"/>
                </a:cubicBezTo>
                <a:cubicBezTo>
                  <a:pt x="54" y="22"/>
                  <a:pt x="54" y="22"/>
                  <a:pt x="54" y="22"/>
                </a:cubicBezTo>
                <a:cubicBezTo>
                  <a:pt x="53" y="22"/>
                  <a:pt x="50" y="26"/>
                  <a:pt x="50" y="26"/>
                </a:cubicBezTo>
                <a:cubicBezTo>
                  <a:pt x="50" y="26"/>
                  <a:pt x="46" y="24"/>
                  <a:pt x="46" y="24"/>
                </a:cubicBezTo>
                <a:cubicBezTo>
                  <a:pt x="45" y="23"/>
                  <a:pt x="45" y="23"/>
                  <a:pt x="45" y="23"/>
                </a:cubicBezTo>
                <a:cubicBezTo>
                  <a:pt x="45" y="23"/>
                  <a:pt x="47" y="19"/>
                  <a:pt x="47" y="18"/>
                </a:cubicBezTo>
                <a:cubicBezTo>
                  <a:pt x="47" y="18"/>
                  <a:pt x="46" y="17"/>
                  <a:pt x="46" y="16"/>
                </a:cubicBezTo>
                <a:cubicBezTo>
                  <a:pt x="45" y="16"/>
                  <a:pt x="41" y="16"/>
                  <a:pt x="41" y="15"/>
                </a:cubicBezTo>
                <a:cubicBezTo>
                  <a:pt x="41" y="10"/>
                  <a:pt x="41" y="10"/>
                  <a:pt x="41" y="10"/>
                </a:cubicBezTo>
                <a:cubicBezTo>
                  <a:pt x="41" y="10"/>
                  <a:pt x="45" y="9"/>
                  <a:pt x="46" y="9"/>
                </a:cubicBezTo>
                <a:cubicBezTo>
                  <a:pt x="46" y="9"/>
                  <a:pt x="47" y="8"/>
                  <a:pt x="47" y="7"/>
                </a:cubicBezTo>
                <a:cubicBezTo>
                  <a:pt x="47" y="7"/>
                  <a:pt x="45" y="3"/>
                  <a:pt x="45" y="2"/>
                </a:cubicBezTo>
                <a:cubicBezTo>
                  <a:pt x="45" y="2"/>
                  <a:pt x="45" y="2"/>
                  <a:pt x="46" y="2"/>
                </a:cubicBezTo>
                <a:cubicBezTo>
                  <a:pt x="46" y="2"/>
                  <a:pt x="50" y="0"/>
                  <a:pt x="50" y="0"/>
                </a:cubicBezTo>
                <a:cubicBezTo>
                  <a:pt x="50" y="0"/>
                  <a:pt x="53" y="3"/>
                  <a:pt x="54" y="4"/>
                </a:cubicBezTo>
                <a:cubicBezTo>
                  <a:pt x="54" y="4"/>
                  <a:pt x="54" y="4"/>
                  <a:pt x="55" y="4"/>
                </a:cubicBezTo>
                <a:cubicBezTo>
                  <a:pt x="55" y="4"/>
                  <a:pt x="55" y="4"/>
                  <a:pt x="56" y="4"/>
                </a:cubicBezTo>
                <a:cubicBezTo>
                  <a:pt x="57" y="2"/>
                  <a:pt x="58" y="1"/>
                  <a:pt x="59" y="0"/>
                </a:cubicBezTo>
                <a:cubicBezTo>
                  <a:pt x="59" y="0"/>
                  <a:pt x="59" y="0"/>
                  <a:pt x="59" y="0"/>
                </a:cubicBezTo>
                <a:cubicBezTo>
                  <a:pt x="59" y="0"/>
                  <a:pt x="63" y="2"/>
                  <a:pt x="64" y="2"/>
                </a:cubicBezTo>
                <a:cubicBezTo>
                  <a:pt x="64" y="2"/>
                  <a:pt x="64" y="2"/>
                  <a:pt x="64" y="2"/>
                </a:cubicBezTo>
                <a:cubicBezTo>
                  <a:pt x="64" y="3"/>
                  <a:pt x="62" y="7"/>
                  <a:pt x="62" y="7"/>
                </a:cubicBezTo>
                <a:cubicBezTo>
                  <a:pt x="62" y="8"/>
                  <a:pt x="63" y="9"/>
                  <a:pt x="63" y="9"/>
                </a:cubicBezTo>
                <a:cubicBezTo>
                  <a:pt x="64" y="9"/>
                  <a:pt x="68" y="10"/>
                  <a:pt x="68" y="10"/>
                </a:cubicBezTo>
                <a:lnTo>
                  <a:pt x="68" y="15"/>
                </a:lnTo>
                <a:close/>
                <a:moveTo>
                  <a:pt x="68" y="52"/>
                </a:moveTo>
                <a:cubicBezTo>
                  <a:pt x="68" y="52"/>
                  <a:pt x="64" y="53"/>
                  <a:pt x="63" y="53"/>
                </a:cubicBezTo>
                <a:cubicBezTo>
                  <a:pt x="63" y="54"/>
                  <a:pt x="62" y="54"/>
                  <a:pt x="62" y="55"/>
                </a:cubicBezTo>
                <a:cubicBezTo>
                  <a:pt x="62" y="56"/>
                  <a:pt x="64" y="59"/>
                  <a:pt x="64" y="60"/>
                </a:cubicBezTo>
                <a:cubicBezTo>
                  <a:pt x="64" y="60"/>
                  <a:pt x="64" y="60"/>
                  <a:pt x="64" y="60"/>
                </a:cubicBezTo>
                <a:cubicBezTo>
                  <a:pt x="63" y="60"/>
                  <a:pt x="59" y="63"/>
                  <a:pt x="59" y="63"/>
                </a:cubicBezTo>
                <a:cubicBezTo>
                  <a:pt x="59" y="63"/>
                  <a:pt x="56" y="59"/>
                  <a:pt x="56" y="59"/>
                </a:cubicBezTo>
                <a:cubicBezTo>
                  <a:pt x="55" y="59"/>
                  <a:pt x="55" y="59"/>
                  <a:pt x="55" y="59"/>
                </a:cubicBezTo>
                <a:cubicBezTo>
                  <a:pt x="54" y="59"/>
                  <a:pt x="54" y="59"/>
                  <a:pt x="54" y="59"/>
                </a:cubicBezTo>
                <a:cubicBezTo>
                  <a:pt x="53" y="59"/>
                  <a:pt x="50" y="63"/>
                  <a:pt x="50" y="63"/>
                </a:cubicBezTo>
                <a:cubicBezTo>
                  <a:pt x="50" y="63"/>
                  <a:pt x="46" y="60"/>
                  <a:pt x="46" y="60"/>
                </a:cubicBezTo>
                <a:cubicBezTo>
                  <a:pt x="45" y="60"/>
                  <a:pt x="45" y="60"/>
                  <a:pt x="45" y="60"/>
                </a:cubicBezTo>
                <a:cubicBezTo>
                  <a:pt x="45" y="59"/>
                  <a:pt x="47" y="56"/>
                  <a:pt x="47" y="55"/>
                </a:cubicBezTo>
                <a:cubicBezTo>
                  <a:pt x="47" y="54"/>
                  <a:pt x="46" y="54"/>
                  <a:pt x="46" y="53"/>
                </a:cubicBezTo>
                <a:cubicBezTo>
                  <a:pt x="45" y="53"/>
                  <a:pt x="41" y="52"/>
                  <a:pt x="41" y="52"/>
                </a:cubicBezTo>
                <a:cubicBezTo>
                  <a:pt x="41" y="47"/>
                  <a:pt x="41" y="47"/>
                  <a:pt x="41" y="47"/>
                </a:cubicBezTo>
                <a:cubicBezTo>
                  <a:pt x="41" y="46"/>
                  <a:pt x="45" y="46"/>
                  <a:pt x="46" y="46"/>
                </a:cubicBezTo>
                <a:cubicBezTo>
                  <a:pt x="46" y="45"/>
                  <a:pt x="47" y="45"/>
                  <a:pt x="47" y="44"/>
                </a:cubicBezTo>
                <a:cubicBezTo>
                  <a:pt x="47" y="43"/>
                  <a:pt x="45" y="40"/>
                  <a:pt x="45" y="39"/>
                </a:cubicBezTo>
                <a:cubicBezTo>
                  <a:pt x="45" y="39"/>
                  <a:pt x="45" y="39"/>
                  <a:pt x="46" y="39"/>
                </a:cubicBezTo>
                <a:cubicBezTo>
                  <a:pt x="46" y="39"/>
                  <a:pt x="50" y="36"/>
                  <a:pt x="50" y="36"/>
                </a:cubicBezTo>
                <a:cubicBezTo>
                  <a:pt x="50" y="36"/>
                  <a:pt x="53" y="40"/>
                  <a:pt x="54" y="40"/>
                </a:cubicBezTo>
                <a:cubicBezTo>
                  <a:pt x="54" y="40"/>
                  <a:pt x="54" y="40"/>
                  <a:pt x="55" y="40"/>
                </a:cubicBezTo>
                <a:cubicBezTo>
                  <a:pt x="55" y="40"/>
                  <a:pt x="55" y="40"/>
                  <a:pt x="56" y="40"/>
                </a:cubicBezTo>
                <a:cubicBezTo>
                  <a:pt x="57" y="39"/>
                  <a:pt x="58" y="38"/>
                  <a:pt x="59" y="36"/>
                </a:cubicBezTo>
                <a:cubicBezTo>
                  <a:pt x="59" y="36"/>
                  <a:pt x="59" y="36"/>
                  <a:pt x="59" y="36"/>
                </a:cubicBezTo>
                <a:cubicBezTo>
                  <a:pt x="59" y="36"/>
                  <a:pt x="63" y="39"/>
                  <a:pt x="64" y="39"/>
                </a:cubicBezTo>
                <a:cubicBezTo>
                  <a:pt x="64" y="39"/>
                  <a:pt x="64" y="39"/>
                  <a:pt x="64" y="39"/>
                </a:cubicBezTo>
                <a:cubicBezTo>
                  <a:pt x="64" y="40"/>
                  <a:pt x="62" y="43"/>
                  <a:pt x="62" y="44"/>
                </a:cubicBezTo>
                <a:cubicBezTo>
                  <a:pt x="62" y="45"/>
                  <a:pt x="63" y="45"/>
                  <a:pt x="63" y="46"/>
                </a:cubicBezTo>
                <a:cubicBezTo>
                  <a:pt x="64" y="46"/>
                  <a:pt x="68" y="46"/>
                  <a:pt x="68" y="47"/>
                </a:cubicBezTo>
                <a:lnTo>
                  <a:pt x="68" y="52"/>
                </a:lnTo>
                <a:close/>
                <a:moveTo>
                  <a:pt x="55" y="8"/>
                </a:moveTo>
                <a:cubicBezTo>
                  <a:pt x="52" y="8"/>
                  <a:pt x="50" y="10"/>
                  <a:pt x="50" y="13"/>
                </a:cubicBezTo>
                <a:cubicBezTo>
                  <a:pt x="50" y="15"/>
                  <a:pt x="52" y="17"/>
                  <a:pt x="55" y="17"/>
                </a:cubicBezTo>
                <a:cubicBezTo>
                  <a:pt x="57" y="17"/>
                  <a:pt x="59" y="15"/>
                  <a:pt x="59" y="13"/>
                </a:cubicBezTo>
                <a:cubicBezTo>
                  <a:pt x="59" y="10"/>
                  <a:pt x="57" y="8"/>
                  <a:pt x="55" y="8"/>
                </a:cubicBezTo>
                <a:close/>
                <a:moveTo>
                  <a:pt x="55" y="45"/>
                </a:moveTo>
                <a:cubicBezTo>
                  <a:pt x="52" y="45"/>
                  <a:pt x="50" y="47"/>
                  <a:pt x="50" y="49"/>
                </a:cubicBezTo>
                <a:cubicBezTo>
                  <a:pt x="50" y="52"/>
                  <a:pt x="52" y="54"/>
                  <a:pt x="55" y="54"/>
                </a:cubicBezTo>
                <a:cubicBezTo>
                  <a:pt x="57" y="54"/>
                  <a:pt x="59" y="52"/>
                  <a:pt x="59" y="49"/>
                </a:cubicBezTo>
                <a:cubicBezTo>
                  <a:pt x="59" y="47"/>
                  <a:pt x="57" y="45"/>
                  <a:pt x="55"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文本框 37"/>
          <p:cNvSpPr/>
          <p:nvPr/>
        </p:nvSpPr>
        <p:spPr>
          <a:xfrm>
            <a:off x="2387160" y="2436840"/>
            <a:ext cx="61020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409" name="TextBox 13"/>
          <p:cNvSpPr/>
          <p:nvPr/>
        </p:nvSpPr>
        <p:spPr>
          <a:xfrm>
            <a:off x="1300320" y="2776680"/>
            <a:ext cx="19000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10" name="文本框 39"/>
          <p:cNvSpPr/>
          <p:nvPr/>
        </p:nvSpPr>
        <p:spPr>
          <a:xfrm>
            <a:off x="2387160" y="3700440"/>
            <a:ext cx="61020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411" name="TextBox 13"/>
          <p:cNvSpPr/>
          <p:nvPr/>
        </p:nvSpPr>
        <p:spPr>
          <a:xfrm>
            <a:off x="1300320" y="4040280"/>
            <a:ext cx="19000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12" name="文本框 41"/>
          <p:cNvSpPr/>
          <p:nvPr/>
        </p:nvSpPr>
        <p:spPr>
          <a:xfrm>
            <a:off x="2387160" y="4964040"/>
            <a:ext cx="61020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413" name="TextBox 13"/>
          <p:cNvSpPr/>
          <p:nvPr/>
        </p:nvSpPr>
        <p:spPr>
          <a:xfrm>
            <a:off x="1300320" y="5303880"/>
            <a:ext cx="19000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14" name="文本框 43"/>
          <p:cNvSpPr/>
          <p:nvPr/>
        </p:nvSpPr>
        <p:spPr>
          <a:xfrm>
            <a:off x="9446760" y="243684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415" name="TextBox 13"/>
          <p:cNvSpPr/>
          <p:nvPr/>
        </p:nvSpPr>
        <p:spPr>
          <a:xfrm>
            <a:off x="9239400" y="2776680"/>
            <a:ext cx="19000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16" name="文本框 45"/>
          <p:cNvSpPr/>
          <p:nvPr/>
        </p:nvSpPr>
        <p:spPr>
          <a:xfrm>
            <a:off x="9446760" y="374976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417" name="TextBox 13"/>
          <p:cNvSpPr/>
          <p:nvPr/>
        </p:nvSpPr>
        <p:spPr>
          <a:xfrm>
            <a:off x="9239400" y="4089240"/>
            <a:ext cx="19000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18" name="文本框 47"/>
          <p:cNvSpPr/>
          <p:nvPr/>
        </p:nvSpPr>
        <p:spPr>
          <a:xfrm>
            <a:off x="9446760" y="496404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419" name="TextBox 13"/>
          <p:cNvSpPr/>
          <p:nvPr/>
        </p:nvSpPr>
        <p:spPr>
          <a:xfrm>
            <a:off x="9239400" y="5303880"/>
            <a:ext cx="19000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pic>
        <p:nvPicPr>
          <p:cNvPr id="420" name="Group 28" descr=""/>
          <p:cNvPicPr/>
          <p:nvPr/>
        </p:nvPicPr>
        <p:blipFill>
          <a:blip r:embed="rId2"/>
          <a:stretch/>
        </p:blipFill>
        <p:spPr>
          <a:xfrm>
            <a:off x="4565520" y="1689120"/>
            <a:ext cx="1030320" cy="4224240"/>
          </a:xfrm>
          <a:prstGeom prst="rect">
            <a:avLst/>
          </a:prstGeom>
          <a:ln w="0">
            <a:noFill/>
          </a:ln>
        </p:spPr>
      </p:pic>
      <p:pic>
        <p:nvPicPr>
          <p:cNvPr id="421" name="Group 32" descr=""/>
          <p:cNvPicPr/>
          <p:nvPr/>
        </p:nvPicPr>
        <p:blipFill>
          <a:blip r:embed="rId3"/>
          <a:stretch/>
        </p:blipFill>
        <p:spPr>
          <a:xfrm>
            <a:off x="6656400" y="1676520"/>
            <a:ext cx="1255680" cy="4419360"/>
          </a:xfrm>
          <a:prstGeom prst="rect">
            <a:avLst/>
          </a:prstGeom>
          <a:ln w="0">
            <a:noFill/>
          </a:ln>
        </p:spPr>
      </p:pic>
      <p:sp>
        <p:nvSpPr>
          <p:cNvPr id="422" name="文本框 60"/>
          <p:cNvSpPr/>
          <p:nvPr/>
        </p:nvSpPr>
        <p:spPr>
          <a:xfrm>
            <a:off x="711360" y="295200"/>
            <a:ext cx="17794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竞争对手</a:t>
            </a:r>
            <a:endParaRPr b="0" lang="en-US" sz="2500" spc="-1" strike="noStrike">
              <a:solidFill>
                <a:srgbClr val="000000"/>
              </a:solidFill>
              <a:latin typeface="Arial"/>
            </a:endParaRPr>
          </a:p>
        </p:txBody>
      </p:sp>
      <p:sp>
        <p:nvSpPr>
          <p:cNvPr id="423" name="椭圆 61"/>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Shape 1033"/>
          <p:cNvSpPr/>
          <p:nvPr/>
        </p:nvSpPr>
        <p:spPr>
          <a:xfrm>
            <a:off x="5665680" y="1924200"/>
            <a:ext cx="1073160" cy="3797280"/>
          </a:xfrm>
          <a:custGeom>
            <a:avLst/>
            <a:gdLst/>
            <a:ahLst/>
            <a:rect l="l" t="t" r="r" b="b"/>
            <a:pathLst>
              <a:path w="20942" h="21597">
                <a:moveTo>
                  <a:pt x="8563" y="0"/>
                </a:moveTo>
                <a:cubicBezTo>
                  <a:pt x="10027" y="-3"/>
                  <a:pt x="12311" y="423"/>
                  <a:pt x="12311" y="1065"/>
                </a:cubicBezTo>
                <a:cubicBezTo>
                  <a:pt x="12311" y="1707"/>
                  <a:pt x="12132" y="1985"/>
                  <a:pt x="11954" y="2193"/>
                </a:cubicBezTo>
                <a:cubicBezTo>
                  <a:pt x="11775" y="2401"/>
                  <a:pt x="11537" y="2367"/>
                  <a:pt x="11537" y="2367"/>
                </a:cubicBezTo>
                <a:cubicBezTo>
                  <a:pt x="11537" y="2367"/>
                  <a:pt x="11597" y="2801"/>
                  <a:pt x="11121" y="2905"/>
                </a:cubicBezTo>
                <a:cubicBezTo>
                  <a:pt x="10645" y="3009"/>
                  <a:pt x="10526" y="3043"/>
                  <a:pt x="10526" y="3182"/>
                </a:cubicBezTo>
                <a:cubicBezTo>
                  <a:pt x="10526" y="3321"/>
                  <a:pt x="10823" y="3425"/>
                  <a:pt x="11240" y="3564"/>
                </a:cubicBezTo>
                <a:cubicBezTo>
                  <a:pt x="11656" y="3703"/>
                  <a:pt x="13442" y="3859"/>
                  <a:pt x="14393" y="3963"/>
                </a:cubicBezTo>
                <a:cubicBezTo>
                  <a:pt x="15346" y="4067"/>
                  <a:pt x="16119" y="4241"/>
                  <a:pt x="16654" y="4588"/>
                </a:cubicBezTo>
                <a:cubicBezTo>
                  <a:pt x="17190" y="4935"/>
                  <a:pt x="17963" y="5369"/>
                  <a:pt x="18975" y="5664"/>
                </a:cubicBezTo>
                <a:cubicBezTo>
                  <a:pt x="19986" y="5959"/>
                  <a:pt x="21236" y="6427"/>
                  <a:pt x="20879" y="6878"/>
                </a:cubicBezTo>
                <a:cubicBezTo>
                  <a:pt x="20522" y="7329"/>
                  <a:pt x="18380" y="7676"/>
                  <a:pt x="17190" y="7486"/>
                </a:cubicBezTo>
                <a:cubicBezTo>
                  <a:pt x="16000" y="7295"/>
                  <a:pt x="15524" y="7277"/>
                  <a:pt x="15524" y="7277"/>
                </a:cubicBezTo>
                <a:cubicBezTo>
                  <a:pt x="15524" y="7277"/>
                  <a:pt x="16297" y="8266"/>
                  <a:pt x="16654" y="9255"/>
                </a:cubicBezTo>
                <a:cubicBezTo>
                  <a:pt x="17011" y="10245"/>
                  <a:pt x="17963" y="11199"/>
                  <a:pt x="17428" y="11286"/>
                </a:cubicBezTo>
                <a:cubicBezTo>
                  <a:pt x="16893" y="11372"/>
                  <a:pt x="16119" y="11477"/>
                  <a:pt x="16119" y="11477"/>
                </a:cubicBezTo>
                <a:cubicBezTo>
                  <a:pt x="16119" y="11477"/>
                  <a:pt x="15958" y="12874"/>
                  <a:pt x="15107" y="14083"/>
                </a:cubicBezTo>
                <a:cubicBezTo>
                  <a:pt x="14257" y="15292"/>
                  <a:pt x="13947" y="15840"/>
                  <a:pt x="13838" y="16560"/>
                </a:cubicBezTo>
                <a:cubicBezTo>
                  <a:pt x="13728" y="17279"/>
                  <a:pt x="13454" y="17807"/>
                  <a:pt x="13673" y="18111"/>
                </a:cubicBezTo>
                <a:cubicBezTo>
                  <a:pt x="13893" y="18415"/>
                  <a:pt x="15318" y="19006"/>
                  <a:pt x="16141" y="19118"/>
                </a:cubicBezTo>
                <a:cubicBezTo>
                  <a:pt x="16963" y="19230"/>
                  <a:pt x="18444" y="19230"/>
                  <a:pt x="19047" y="19310"/>
                </a:cubicBezTo>
                <a:cubicBezTo>
                  <a:pt x="19650" y="19390"/>
                  <a:pt x="20089" y="19614"/>
                  <a:pt x="18718" y="19678"/>
                </a:cubicBezTo>
                <a:cubicBezTo>
                  <a:pt x="17347" y="19742"/>
                  <a:pt x="14770" y="19630"/>
                  <a:pt x="14112" y="19566"/>
                </a:cubicBezTo>
                <a:cubicBezTo>
                  <a:pt x="13454" y="19502"/>
                  <a:pt x="12412" y="19358"/>
                  <a:pt x="12412" y="19358"/>
                </a:cubicBezTo>
                <a:cubicBezTo>
                  <a:pt x="12412" y="19358"/>
                  <a:pt x="12741" y="19598"/>
                  <a:pt x="11261" y="19598"/>
                </a:cubicBezTo>
                <a:cubicBezTo>
                  <a:pt x="9780" y="19598"/>
                  <a:pt x="9506" y="19566"/>
                  <a:pt x="9451" y="19294"/>
                </a:cubicBezTo>
                <a:cubicBezTo>
                  <a:pt x="9397" y="19022"/>
                  <a:pt x="9451" y="18655"/>
                  <a:pt x="9232" y="18463"/>
                </a:cubicBezTo>
                <a:cubicBezTo>
                  <a:pt x="9012" y="18271"/>
                  <a:pt x="10109" y="17775"/>
                  <a:pt x="9561" y="17503"/>
                </a:cubicBezTo>
                <a:cubicBezTo>
                  <a:pt x="9012" y="17231"/>
                  <a:pt x="8464" y="16528"/>
                  <a:pt x="8958" y="16112"/>
                </a:cubicBezTo>
                <a:cubicBezTo>
                  <a:pt x="9451" y="15696"/>
                  <a:pt x="8793" y="15281"/>
                  <a:pt x="8958" y="15009"/>
                </a:cubicBezTo>
                <a:cubicBezTo>
                  <a:pt x="9122" y="14737"/>
                  <a:pt x="9341" y="14369"/>
                  <a:pt x="9341" y="13953"/>
                </a:cubicBezTo>
                <a:cubicBezTo>
                  <a:pt x="9341" y="13538"/>
                  <a:pt x="9287" y="13234"/>
                  <a:pt x="9287" y="13234"/>
                </a:cubicBezTo>
                <a:cubicBezTo>
                  <a:pt x="9287" y="13234"/>
                  <a:pt x="8245" y="14801"/>
                  <a:pt x="7971" y="15217"/>
                </a:cubicBezTo>
                <a:cubicBezTo>
                  <a:pt x="7696" y="15632"/>
                  <a:pt x="7258" y="17119"/>
                  <a:pt x="7258" y="17567"/>
                </a:cubicBezTo>
                <a:cubicBezTo>
                  <a:pt x="7258" y="18015"/>
                  <a:pt x="6107" y="18623"/>
                  <a:pt x="6052" y="19022"/>
                </a:cubicBezTo>
                <a:cubicBezTo>
                  <a:pt x="5997" y="19422"/>
                  <a:pt x="5942" y="19662"/>
                  <a:pt x="5558" y="19662"/>
                </a:cubicBezTo>
                <a:cubicBezTo>
                  <a:pt x="5174" y="19662"/>
                  <a:pt x="5942" y="20110"/>
                  <a:pt x="6216" y="20462"/>
                </a:cubicBezTo>
                <a:cubicBezTo>
                  <a:pt x="6490" y="20813"/>
                  <a:pt x="7313" y="21597"/>
                  <a:pt x="5723" y="21597"/>
                </a:cubicBezTo>
                <a:cubicBezTo>
                  <a:pt x="4132" y="21597"/>
                  <a:pt x="2323" y="21405"/>
                  <a:pt x="2268" y="20909"/>
                </a:cubicBezTo>
                <a:cubicBezTo>
                  <a:pt x="2213" y="20414"/>
                  <a:pt x="2432" y="19982"/>
                  <a:pt x="1994" y="19790"/>
                </a:cubicBezTo>
                <a:cubicBezTo>
                  <a:pt x="1555" y="19598"/>
                  <a:pt x="1500" y="19182"/>
                  <a:pt x="1555" y="18927"/>
                </a:cubicBezTo>
                <a:cubicBezTo>
                  <a:pt x="1610" y="18671"/>
                  <a:pt x="1336" y="18239"/>
                  <a:pt x="1555" y="17695"/>
                </a:cubicBezTo>
                <a:cubicBezTo>
                  <a:pt x="1775" y="17152"/>
                  <a:pt x="1775" y="16240"/>
                  <a:pt x="2213" y="15552"/>
                </a:cubicBezTo>
                <a:cubicBezTo>
                  <a:pt x="2652" y="14865"/>
                  <a:pt x="2761" y="13809"/>
                  <a:pt x="2981" y="12978"/>
                </a:cubicBezTo>
                <a:cubicBezTo>
                  <a:pt x="3200" y="12146"/>
                  <a:pt x="3365" y="11730"/>
                  <a:pt x="3090" y="11603"/>
                </a:cubicBezTo>
                <a:cubicBezTo>
                  <a:pt x="2816" y="11475"/>
                  <a:pt x="1172" y="11363"/>
                  <a:pt x="733" y="11331"/>
                </a:cubicBezTo>
                <a:cubicBezTo>
                  <a:pt x="294" y="11299"/>
                  <a:pt x="1281" y="10435"/>
                  <a:pt x="1610" y="9716"/>
                </a:cubicBezTo>
                <a:cubicBezTo>
                  <a:pt x="1939" y="8996"/>
                  <a:pt x="2542" y="8564"/>
                  <a:pt x="2871" y="8053"/>
                </a:cubicBezTo>
                <a:cubicBezTo>
                  <a:pt x="3200" y="7541"/>
                  <a:pt x="3200" y="7301"/>
                  <a:pt x="2487" y="6933"/>
                </a:cubicBezTo>
                <a:cubicBezTo>
                  <a:pt x="1775" y="6565"/>
                  <a:pt x="897" y="6326"/>
                  <a:pt x="513" y="5494"/>
                </a:cubicBezTo>
                <a:cubicBezTo>
                  <a:pt x="130" y="4663"/>
                  <a:pt x="-364" y="4119"/>
                  <a:pt x="404" y="3911"/>
                </a:cubicBezTo>
                <a:cubicBezTo>
                  <a:pt x="1172" y="3703"/>
                  <a:pt x="2652" y="3815"/>
                  <a:pt x="3748" y="3559"/>
                </a:cubicBezTo>
                <a:cubicBezTo>
                  <a:pt x="4845" y="3303"/>
                  <a:pt x="5010" y="3015"/>
                  <a:pt x="5503" y="2983"/>
                </a:cubicBezTo>
                <a:cubicBezTo>
                  <a:pt x="5997" y="2951"/>
                  <a:pt x="6106" y="2920"/>
                  <a:pt x="6106" y="2744"/>
                </a:cubicBezTo>
                <a:cubicBezTo>
                  <a:pt x="6106" y="2568"/>
                  <a:pt x="5942" y="2392"/>
                  <a:pt x="5942" y="2392"/>
                </a:cubicBezTo>
                <a:cubicBezTo>
                  <a:pt x="5942" y="2392"/>
                  <a:pt x="5174" y="2248"/>
                  <a:pt x="5010" y="2024"/>
                </a:cubicBezTo>
                <a:cubicBezTo>
                  <a:pt x="4845" y="1800"/>
                  <a:pt x="4681" y="1240"/>
                  <a:pt x="4900" y="857"/>
                </a:cubicBezTo>
                <a:cubicBezTo>
                  <a:pt x="5119" y="473"/>
                  <a:pt x="6318" y="5"/>
                  <a:pt x="8563" y="0"/>
                </a:cubicBezTo>
                <a:close/>
              </a:path>
            </a:pathLst>
          </a:custGeom>
          <a:solidFill>
            <a:srgbClr val="1d087d"/>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25" name="Shape 1034"/>
          <p:cNvSpPr/>
          <p:nvPr/>
        </p:nvSpPr>
        <p:spPr>
          <a:xfrm>
            <a:off x="5954760" y="2411280"/>
            <a:ext cx="276120" cy="212760"/>
          </a:xfrm>
          <a:custGeom>
            <a:avLst/>
            <a:gdLst/>
            <a:ahLst/>
            <a:rect l="l" t="t" r="r" b="b"/>
            <a:pathLst>
              <a:path w="21600" h="21600">
                <a:moveTo>
                  <a:pt x="20143" y="9828"/>
                </a:moveTo>
                <a:cubicBezTo>
                  <a:pt x="20503" y="10692"/>
                  <a:pt x="21004" y="11543"/>
                  <a:pt x="21600" y="12462"/>
                </a:cubicBezTo>
                <a:cubicBezTo>
                  <a:pt x="20797" y="15394"/>
                  <a:pt x="20629" y="18810"/>
                  <a:pt x="20550" y="21600"/>
                </a:cubicBezTo>
                <a:cubicBezTo>
                  <a:pt x="17285" y="18886"/>
                  <a:pt x="18957" y="12766"/>
                  <a:pt x="16102" y="12414"/>
                </a:cubicBezTo>
                <a:cubicBezTo>
                  <a:pt x="13346" y="12074"/>
                  <a:pt x="12988" y="13608"/>
                  <a:pt x="12526" y="15998"/>
                </a:cubicBezTo>
                <a:cubicBezTo>
                  <a:pt x="12064" y="18387"/>
                  <a:pt x="11785" y="20178"/>
                  <a:pt x="11785" y="20178"/>
                </a:cubicBezTo>
                <a:cubicBezTo>
                  <a:pt x="11785" y="20178"/>
                  <a:pt x="2700" y="7597"/>
                  <a:pt x="0" y="3147"/>
                </a:cubicBezTo>
                <a:cubicBezTo>
                  <a:pt x="1311" y="2680"/>
                  <a:pt x="1742" y="2046"/>
                  <a:pt x="1827" y="0"/>
                </a:cubicBezTo>
                <a:cubicBezTo>
                  <a:pt x="4847" y="4160"/>
                  <a:pt x="12262" y="11667"/>
                  <a:pt x="15756" y="11667"/>
                </a:cubicBezTo>
                <a:cubicBezTo>
                  <a:pt x="17415" y="11667"/>
                  <a:pt x="18853" y="10951"/>
                  <a:pt x="20143" y="9828"/>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26" name="Shape 1035"/>
          <p:cNvSpPr/>
          <p:nvPr/>
        </p:nvSpPr>
        <p:spPr>
          <a:xfrm>
            <a:off x="6242040" y="2987640"/>
            <a:ext cx="115920" cy="160200"/>
          </a:xfrm>
          <a:custGeom>
            <a:avLst/>
            <a:gdLst/>
            <a:ahLst/>
            <a:rect l="l" t="t" r="r" b="b"/>
            <a:pathLst>
              <a:path w="20108" h="21600">
                <a:moveTo>
                  <a:pt x="11314" y="594"/>
                </a:moveTo>
                <a:lnTo>
                  <a:pt x="0" y="0"/>
                </a:lnTo>
                <a:cubicBezTo>
                  <a:pt x="0" y="0"/>
                  <a:pt x="10284" y="5549"/>
                  <a:pt x="10284" y="11495"/>
                </a:cubicBezTo>
                <a:cubicBezTo>
                  <a:pt x="10284" y="17438"/>
                  <a:pt x="9772" y="20013"/>
                  <a:pt x="9772" y="20013"/>
                </a:cubicBezTo>
                <a:lnTo>
                  <a:pt x="18772" y="21600"/>
                </a:lnTo>
                <a:cubicBezTo>
                  <a:pt x="18772" y="21600"/>
                  <a:pt x="21600" y="15655"/>
                  <a:pt x="19026" y="9907"/>
                </a:cubicBezTo>
                <a:cubicBezTo>
                  <a:pt x="16457" y="4162"/>
                  <a:pt x="13629" y="2575"/>
                  <a:pt x="11314" y="594"/>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27" name="Shape 1036"/>
          <p:cNvSpPr/>
          <p:nvPr/>
        </p:nvSpPr>
        <p:spPr>
          <a:xfrm>
            <a:off x="6315120" y="3365640"/>
            <a:ext cx="50760" cy="137880"/>
          </a:xfrm>
          <a:custGeom>
            <a:avLst/>
            <a:gdLst/>
            <a:ahLst/>
            <a:rect l="l" t="t" r="r" b="b"/>
            <a:pathLst>
              <a:path w="21600" h="21600">
                <a:moveTo>
                  <a:pt x="6479" y="0"/>
                </a:moveTo>
                <a:cubicBezTo>
                  <a:pt x="6479" y="0"/>
                  <a:pt x="2878" y="12381"/>
                  <a:pt x="1439" y="16334"/>
                </a:cubicBezTo>
                <a:cubicBezTo>
                  <a:pt x="0" y="20286"/>
                  <a:pt x="0" y="21600"/>
                  <a:pt x="0" y="21600"/>
                </a:cubicBezTo>
                <a:lnTo>
                  <a:pt x="21600" y="20286"/>
                </a:lnTo>
                <a:cubicBezTo>
                  <a:pt x="21600" y="20286"/>
                  <a:pt x="16556" y="10275"/>
                  <a:pt x="6479" y="0"/>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28" name="Rectangle 72"/>
          <p:cNvSpPr/>
          <p:nvPr/>
        </p:nvSpPr>
        <p:spPr>
          <a:xfrm>
            <a:off x="3722760" y="3456000"/>
            <a:ext cx="704880" cy="703080"/>
          </a:xfrm>
          <a:prstGeom prst="rect">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Shape 1094"/>
          <p:cNvSpPr/>
          <p:nvPr/>
        </p:nvSpPr>
        <p:spPr>
          <a:xfrm>
            <a:off x="3840120" y="3656160"/>
            <a:ext cx="471600" cy="334800"/>
          </a:xfrm>
          <a:custGeom>
            <a:avLst/>
            <a:gdLst/>
            <a:ahLst/>
            <a:rect l="l" t="t" r="r" b="b"/>
            <a:pathLst>
              <a:path w="21600" h="21600">
                <a:moveTo>
                  <a:pt x="20056" y="17282"/>
                </a:moveTo>
                <a:lnTo>
                  <a:pt x="1544" y="17282"/>
                </a:lnTo>
                <a:cubicBezTo>
                  <a:pt x="691" y="17282"/>
                  <a:pt x="0" y="18250"/>
                  <a:pt x="0" y="19441"/>
                </a:cubicBezTo>
                <a:cubicBezTo>
                  <a:pt x="0" y="20638"/>
                  <a:pt x="691" y="21600"/>
                  <a:pt x="1544" y="21600"/>
                </a:cubicBezTo>
                <a:lnTo>
                  <a:pt x="20056" y="21600"/>
                </a:lnTo>
                <a:cubicBezTo>
                  <a:pt x="20909" y="21600"/>
                  <a:pt x="21600" y="20638"/>
                  <a:pt x="21600" y="19441"/>
                </a:cubicBezTo>
                <a:cubicBezTo>
                  <a:pt x="21600" y="18250"/>
                  <a:pt x="20909" y="17282"/>
                  <a:pt x="20056" y="17282"/>
                </a:cubicBezTo>
                <a:close/>
                <a:moveTo>
                  <a:pt x="1544" y="4321"/>
                </a:moveTo>
                <a:lnTo>
                  <a:pt x="20056" y="4321"/>
                </a:lnTo>
                <a:cubicBezTo>
                  <a:pt x="20909" y="4321"/>
                  <a:pt x="21600" y="3353"/>
                  <a:pt x="21600" y="2159"/>
                </a:cubicBezTo>
                <a:cubicBezTo>
                  <a:pt x="21600" y="965"/>
                  <a:pt x="20909" y="0"/>
                  <a:pt x="20056" y="0"/>
                </a:cubicBezTo>
                <a:lnTo>
                  <a:pt x="1544" y="0"/>
                </a:lnTo>
                <a:cubicBezTo>
                  <a:pt x="691" y="0"/>
                  <a:pt x="0" y="965"/>
                  <a:pt x="0" y="2159"/>
                </a:cubicBezTo>
                <a:cubicBezTo>
                  <a:pt x="0" y="3353"/>
                  <a:pt x="691" y="4321"/>
                  <a:pt x="1544" y="4321"/>
                </a:cubicBezTo>
                <a:close/>
                <a:moveTo>
                  <a:pt x="20056" y="8640"/>
                </a:moveTo>
                <a:lnTo>
                  <a:pt x="1544" y="8640"/>
                </a:lnTo>
                <a:cubicBezTo>
                  <a:pt x="691" y="8640"/>
                  <a:pt x="0" y="9608"/>
                  <a:pt x="0" y="10799"/>
                </a:cubicBezTo>
                <a:cubicBezTo>
                  <a:pt x="0" y="11996"/>
                  <a:pt x="691" y="12958"/>
                  <a:pt x="1544" y="12958"/>
                </a:cubicBezTo>
                <a:lnTo>
                  <a:pt x="20056" y="12958"/>
                </a:lnTo>
                <a:cubicBezTo>
                  <a:pt x="20909" y="12958"/>
                  <a:pt x="21600" y="11996"/>
                  <a:pt x="21600" y="10799"/>
                </a:cubicBezTo>
                <a:cubicBezTo>
                  <a:pt x="21600" y="9608"/>
                  <a:pt x="20909" y="8640"/>
                  <a:pt x="20056" y="8640"/>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30" name="Rectangle 69"/>
          <p:cNvSpPr/>
          <p:nvPr/>
        </p:nvSpPr>
        <p:spPr>
          <a:xfrm>
            <a:off x="7800840" y="4670280"/>
            <a:ext cx="703440" cy="703440"/>
          </a:xfrm>
          <a:prstGeom prst="rect">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178"/>
          <p:cNvSpPr/>
          <p:nvPr/>
        </p:nvSpPr>
        <p:spPr>
          <a:xfrm>
            <a:off x="7907400" y="4815000"/>
            <a:ext cx="504720" cy="380880"/>
          </a:xfrm>
          <a:custGeom>
            <a:avLst/>
            <a:gdLst/>
            <a:ahLst/>
            <a:rect l="l" t="t" r="r" b="b"/>
            <a:pathLst>
              <a:path w="158" h="119">
                <a:moveTo>
                  <a:pt x="158" y="119"/>
                </a:moveTo>
                <a:lnTo>
                  <a:pt x="0" y="119"/>
                </a:lnTo>
                <a:lnTo>
                  <a:pt x="0" y="0"/>
                </a:lnTo>
                <a:lnTo>
                  <a:pt x="9" y="0"/>
                </a:lnTo>
                <a:lnTo>
                  <a:pt x="9" y="108"/>
                </a:lnTo>
                <a:lnTo>
                  <a:pt x="158" y="108"/>
                </a:lnTo>
                <a:lnTo>
                  <a:pt x="158" y="119"/>
                </a:lnTo>
                <a:close/>
                <a:moveTo>
                  <a:pt x="50" y="99"/>
                </a:moveTo>
                <a:lnTo>
                  <a:pt x="29" y="99"/>
                </a:lnTo>
                <a:lnTo>
                  <a:pt x="29" y="60"/>
                </a:lnTo>
                <a:lnTo>
                  <a:pt x="50" y="60"/>
                </a:lnTo>
                <a:lnTo>
                  <a:pt x="50" y="99"/>
                </a:lnTo>
                <a:close/>
                <a:moveTo>
                  <a:pt x="78" y="99"/>
                </a:moveTo>
                <a:lnTo>
                  <a:pt x="59" y="99"/>
                </a:lnTo>
                <a:lnTo>
                  <a:pt x="59" y="19"/>
                </a:lnTo>
                <a:lnTo>
                  <a:pt x="78" y="19"/>
                </a:lnTo>
                <a:lnTo>
                  <a:pt x="78" y="99"/>
                </a:lnTo>
                <a:close/>
                <a:moveTo>
                  <a:pt x="109" y="99"/>
                </a:moveTo>
                <a:lnTo>
                  <a:pt x="89" y="99"/>
                </a:lnTo>
                <a:lnTo>
                  <a:pt x="89" y="39"/>
                </a:lnTo>
                <a:lnTo>
                  <a:pt x="109" y="39"/>
                </a:lnTo>
                <a:lnTo>
                  <a:pt x="109" y="99"/>
                </a:lnTo>
                <a:close/>
                <a:moveTo>
                  <a:pt x="139" y="99"/>
                </a:moveTo>
                <a:lnTo>
                  <a:pt x="119" y="99"/>
                </a:lnTo>
                <a:lnTo>
                  <a:pt x="119" y="11"/>
                </a:lnTo>
                <a:lnTo>
                  <a:pt x="139" y="11"/>
                </a:lnTo>
                <a:lnTo>
                  <a:pt x="139" y="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Rectangle 78"/>
          <p:cNvSpPr/>
          <p:nvPr/>
        </p:nvSpPr>
        <p:spPr>
          <a:xfrm>
            <a:off x="7800840" y="3456000"/>
            <a:ext cx="703440" cy="703080"/>
          </a:xfrm>
          <a:prstGeom prst="rect">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3" name="Group 93" descr=""/>
          <p:cNvPicPr/>
          <p:nvPr/>
        </p:nvPicPr>
        <p:blipFill>
          <a:blip r:embed="rId1"/>
          <a:stretch/>
        </p:blipFill>
        <p:spPr>
          <a:xfrm>
            <a:off x="7894800" y="3548160"/>
            <a:ext cx="506160" cy="500040"/>
          </a:xfrm>
          <a:prstGeom prst="rect">
            <a:avLst/>
          </a:prstGeom>
          <a:ln w="0">
            <a:noFill/>
          </a:ln>
        </p:spPr>
      </p:pic>
      <p:sp>
        <p:nvSpPr>
          <p:cNvPr id="434" name="Rectangle 65"/>
          <p:cNvSpPr/>
          <p:nvPr/>
        </p:nvSpPr>
        <p:spPr>
          <a:xfrm>
            <a:off x="3722760" y="2200320"/>
            <a:ext cx="704880" cy="703080"/>
          </a:xfrm>
          <a:prstGeom prst="rect">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37"/>
          <p:cNvSpPr/>
          <p:nvPr/>
        </p:nvSpPr>
        <p:spPr>
          <a:xfrm>
            <a:off x="3836880" y="2324160"/>
            <a:ext cx="474840" cy="471600"/>
          </a:xfrm>
          <a:custGeom>
            <a:avLst/>
            <a:gdLst/>
            <a:ahLst/>
            <a:rect l="l" t="t" r="r" b="b"/>
            <a:pathLst>
              <a:path w="120" h="120">
                <a:moveTo>
                  <a:pt x="60" y="0"/>
                </a:moveTo>
                <a:cubicBezTo>
                  <a:pt x="27" y="0"/>
                  <a:pt x="0" y="27"/>
                  <a:pt x="0" y="60"/>
                </a:cubicBezTo>
                <a:cubicBezTo>
                  <a:pt x="0" y="93"/>
                  <a:pt x="27" y="120"/>
                  <a:pt x="60" y="120"/>
                </a:cubicBezTo>
                <a:cubicBezTo>
                  <a:pt x="93" y="120"/>
                  <a:pt x="120" y="93"/>
                  <a:pt x="120" y="60"/>
                </a:cubicBezTo>
                <a:cubicBezTo>
                  <a:pt x="120" y="27"/>
                  <a:pt x="93" y="0"/>
                  <a:pt x="60" y="0"/>
                </a:cubicBezTo>
                <a:close/>
                <a:moveTo>
                  <a:pt x="83" y="24"/>
                </a:moveTo>
                <a:cubicBezTo>
                  <a:pt x="87" y="21"/>
                  <a:pt x="87" y="21"/>
                  <a:pt x="87" y="21"/>
                </a:cubicBezTo>
                <a:cubicBezTo>
                  <a:pt x="87" y="21"/>
                  <a:pt x="85" y="17"/>
                  <a:pt x="86" y="14"/>
                </a:cubicBezTo>
                <a:cubicBezTo>
                  <a:pt x="87" y="14"/>
                  <a:pt x="91" y="16"/>
                  <a:pt x="94" y="20"/>
                </a:cubicBezTo>
                <a:cubicBezTo>
                  <a:pt x="92" y="29"/>
                  <a:pt x="86" y="28"/>
                  <a:pt x="86" y="28"/>
                </a:cubicBezTo>
                <a:cubicBezTo>
                  <a:pt x="86" y="28"/>
                  <a:pt x="82" y="28"/>
                  <a:pt x="83" y="24"/>
                </a:cubicBezTo>
                <a:close/>
                <a:moveTo>
                  <a:pt x="47" y="77"/>
                </a:moveTo>
                <a:cubicBezTo>
                  <a:pt x="46" y="78"/>
                  <a:pt x="45" y="81"/>
                  <a:pt x="44" y="84"/>
                </a:cubicBezTo>
                <a:cubicBezTo>
                  <a:pt x="43" y="86"/>
                  <a:pt x="42" y="87"/>
                  <a:pt x="41" y="88"/>
                </a:cubicBezTo>
                <a:cubicBezTo>
                  <a:pt x="39" y="89"/>
                  <a:pt x="39" y="91"/>
                  <a:pt x="39" y="91"/>
                </a:cubicBezTo>
                <a:cubicBezTo>
                  <a:pt x="38" y="95"/>
                  <a:pt x="38" y="95"/>
                  <a:pt x="38" y="95"/>
                </a:cubicBezTo>
                <a:cubicBezTo>
                  <a:pt x="38" y="95"/>
                  <a:pt x="39" y="99"/>
                  <a:pt x="40" y="100"/>
                </a:cubicBezTo>
                <a:cubicBezTo>
                  <a:pt x="40" y="102"/>
                  <a:pt x="37" y="110"/>
                  <a:pt x="37" y="110"/>
                </a:cubicBezTo>
                <a:cubicBezTo>
                  <a:pt x="34" y="109"/>
                  <a:pt x="33" y="106"/>
                  <a:pt x="32" y="104"/>
                </a:cubicBezTo>
                <a:cubicBezTo>
                  <a:pt x="32" y="102"/>
                  <a:pt x="30" y="101"/>
                  <a:pt x="31" y="99"/>
                </a:cubicBezTo>
                <a:cubicBezTo>
                  <a:pt x="31" y="96"/>
                  <a:pt x="29" y="95"/>
                  <a:pt x="28" y="94"/>
                </a:cubicBezTo>
                <a:cubicBezTo>
                  <a:pt x="27" y="92"/>
                  <a:pt x="26" y="90"/>
                  <a:pt x="26" y="89"/>
                </a:cubicBezTo>
                <a:cubicBezTo>
                  <a:pt x="26" y="88"/>
                  <a:pt x="23" y="86"/>
                  <a:pt x="23" y="86"/>
                </a:cubicBezTo>
                <a:cubicBezTo>
                  <a:pt x="23" y="86"/>
                  <a:pt x="18" y="83"/>
                  <a:pt x="17" y="82"/>
                </a:cubicBezTo>
                <a:cubicBezTo>
                  <a:pt x="16" y="81"/>
                  <a:pt x="15" y="77"/>
                  <a:pt x="15" y="75"/>
                </a:cubicBezTo>
                <a:cubicBezTo>
                  <a:pt x="15" y="73"/>
                  <a:pt x="16" y="68"/>
                  <a:pt x="16" y="68"/>
                </a:cubicBezTo>
                <a:cubicBezTo>
                  <a:pt x="16" y="68"/>
                  <a:pt x="18" y="66"/>
                  <a:pt x="17" y="65"/>
                </a:cubicBezTo>
                <a:cubicBezTo>
                  <a:pt x="15" y="64"/>
                  <a:pt x="15" y="60"/>
                  <a:pt x="15" y="60"/>
                </a:cubicBezTo>
                <a:cubicBezTo>
                  <a:pt x="13" y="58"/>
                  <a:pt x="13" y="58"/>
                  <a:pt x="13" y="58"/>
                </a:cubicBezTo>
                <a:cubicBezTo>
                  <a:pt x="13" y="58"/>
                  <a:pt x="11" y="55"/>
                  <a:pt x="10" y="54"/>
                </a:cubicBezTo>
                <a:cubicBezTo>
                  <a:pt x="10" y="52"/>
                  <a:pt x="10" y="51"/>
                  <a:pt x="11" y="50"/>
                </a:cubicBezTo>
                <a:cubicBezTo>
                  <a:pt x="11" y="49"/>
                  <a:pt x="10" y="46"/>
                  <a:pt x="10" y="45"/>
                </a:cubicBezTo>
                <a:cubicBezTo>
                  <a:pt x="20" y="20"/>
                  <a:pt x="37" y="15"/>
                  <a:pt x="37" y="15"/>
                </a:cubicBezTo>
                <a:cubicBezTo>
                  <a:pt x="38" y="20"/>
                  <a:pt x="38" y="20"/>
                  <a:pt x="38" y="20"/>
                </a:cubicBezTo>
                <a:cubicBezTo>
                  <a:pt x="38" y="20"/>
                  <a:pt x="35" y="21"/>
                  <a:pt x="34" y="21"/>
                </a:cubicBezTo>
                <a:cubicBezTo>
                  <a:pt x="32" y="20"/>
                  <a:pt x="31" y="20"/>
                  <a:pt x="31" y="20"/>
                </a:cubicBezTo>
                <a:cubicBezTo>
                  <a:pt x="29" y="23"/>
                  <a:pt x="29" y="23"/>
                  <a:pt x="29" y="23"/>
                </a:cubicBezTo>
                <a:cubicBezTo>
                  <a:pt x="29" y="23"/>
                  <a:pt x="28" y="25"/>
                  <a:pt x="28" y="26"/>
                </a:cubicBezTo>
                <a:cubicBezTo>
                  <a:pt x="28" y="27"/>
                  <a:pt x="29" y="29"/>
                  <a:pt x="29" y="29"/>
                </a:cubicBezTo>
                <a:cubicBezTo>
                  <a:pt x="29" y="29"/>
                  <a:pt x="32" y="29"/>
                  <a:pt x="32" y="28"/>
                </a:cubicBezTo>
                <a:cubicBezTo>
                  <a:pt x="32" y="27"/>
                  <a:pt x="32" y="26"/>
                  <a:pt x="32" y="26"/>
                </a:cubicBezTo>
                <a:cubicBezTo>
                  <a:pt x="31" y="24"/>
                  <a:pt x="31" y="24"/>
                  <a:pt x="31" y="24"/>
                </a:cubicBezTo>
                <a:cubicBezTo>
                  <a:pt x="31" y="24"/>
                  <a:pt x="34" y="23"/>
                  <a:pt x="40" y="24"/>
                </a:cubicBezTo>
                <a:cubicBezTo>
                  <a:pt x="47" y="24"/>
                  <a:pt x="44" y="29"/>
                  <a:pt x="47" y="30"/>
                </a:cubicBezTo>
                <a:cubicBezTo>
                  <a:pt x="50" y="31"/>
                  <a:pt x="45" y="35"/>
                  <a:pt x="44" y="37"/>
                </a:cubicBezTo>
                <a:cubicBezTo>
                  <a:pt x="43" y="39"/>
                  <a:pt x="41" y="34"/>
                  <a:pt x="41" y="34"/>
                </a:cubicBezTo>
                <a:cubicBezTo>
                  <a:pt x="41" y="34"/>
                  <a:pt x="43" y="32"/>
                  <a:pt x="40" y="32"/>
                </a:cubicBezTo>
                <a:cubicBezTo>
                  <a:pt x="37" y="31"/>
                  <a:pt x="35" y="36"/>
                  <a:pt x="37" y="36"/>
                </a:cubicBezTo>
                <a:cubicBezTo>
                  <a:pt x="38" y="36"/>
                  <a:pt x="40" y="38"/>
                  <a:pt x="39" y="39"/>
                </a:cubicBezTo>
                <a:cubicBezTo>
                  <a:pt x="39" y="40"/>
                  <a:pt x="39" y="40"/>
                  <a:pt x="38" y="43"/>
                </a:cubicBezTo>
                <a:cubicBezTo>
                  <a:pt x="36" y="46"/>
                  <a:pt x="34" y="48"/>
                  <a:pt x="34" y="48"/>
                </a:cubicBezTo>
                <a:cubicBezTo>
                  <a:pt x="34" y="48"/>
                  <a:pt x="32" y="47"/>
                  <a:pt x="33" y="49"/>
                </a:cubicBezTo>
                <a:cubicBezTo>
                  <a:pt x="34" y="51"/>
                  <a:pt x="33" y="54"/>
                  <a:pt x="33" y="55"/>
                </a:cubicBezTo>
                <a:cubicBezTo>
                  <a:pt x="33" y="57"/>
                  <a:pt x="29" y="54"/>
                  <a:pt x="29" y="51"/>
                </a:cubicBezTo>
                <a:cubicBezTo>
                  <a:pt x="28" y="48"/>
                  <a:pt x="25" y="51"/>
                  <a:pt x="24" y="51"/>
                </a:cubicBezTo>
                <a:cubicBezTo>
                  <a:pt x="23" y="51"/>
                  <a:pt x="21" y="50"/>
                  <a:pt x="21" y="49"/>
                </a:cubicBezTo>
                <a:cubicBezTo>
                  <a:pt x="20" y="48"/>
                  <a:pt x="15" y="52"/>
                  <a:pt x="14" y="52"/>
                </a:cubicBezTo>
                <a:cubicBezTo>
                  <a:pt x="13" y="53"/>
                  <a:pt x="13" y="55"/>
                  <a:pt x="15" y="54"/>
                </a:cubicBezTo>
                <a:cubicBezTo>
                  <a:pt x="17" y="53"/>
                  <a:pt x="19" y="54"/>
                  <a:pt x="19" y="56"/>
                </a:cubicBezTo>
                <a:cubicBezTo>
                  <a:pt x="18" y="58"/>
                  <a:pt x="16" y="57"/>
                  <a:pt x="16" y="58"/>
                </a:cubicBezTo>
                <a:cubicBezTo>
                  <a:pt x="17" y="60"/>
                  <a:pt x="19" y="61"/>
                  <a:pt x="19" y="63"/>
                </a:cubicBezTo>
                <a:cubicBezTo>
                  <a:pt x="20" y="65"/>
                  <a:pt x="25" y="63"/>
                  <a:pt x="27" y="62"/>
                </a:cubicBezTo>
                <a:cubicBezTo>
                  <a:pt x="28" y="62"/>
                  <a:pt x="33" y="61"/>
                  <a:pt x="33" y="63"/>
                </a:cubicBezTo>
                <a:cubicBezTo>
                  <a:pt x="34" y="65"/>
                  <a:pt x="39" y="66"/>
                  <a:pt x="41" y="66"/>
                </a:cubicBezTo>
                <a:cubicBezTo>
                  <a:pt x="43" y="67"/>
                  <a:pt x="46" y="67"/>
                  <a:pt x="49" y="69"/>
                </a:cubicBezTo>
                <a:cubicBezTo>
                  <a:pt x="51" y="72"/>
                  <a:pt x="47" y="76"/>
                  <a:pt x="47" y="77"/>
                </a:cubicBezTo>
                <a:close/>
                <a:moveTo>
                  <a:pt x="59" y="14"/>
                </a:moveTo>
                <a:cubicBezTo>
                  <a:pt x="58" y="17"/>
                  <a:pt x="54" y="20"/>
                  <a:pt x="55" y="21"/>
                </a:cubicBezTo>
                <a:cubicBezTo>
                  <a:pt x="55" y="22"/>
                  <a:pt x="55" y="27"/>
                  <a:pt x="51" y="23"/>
                </a:cubicBezTo>
                <a:cubicBezTo>
                  <a:pt x="47" y="19"/>
                  <a:pt x="43" y="18"/>
                  <a:pt x="44" y="15"/>
                </a:cubicBezTo>
                <a:cubicBezTo>
                  <a:pt x="44" y="14"/>
                  <a:pt x="48" y="14"/>
                  <a:pt x="48" y="13"/>
                </a:cubicBezTo>
                <a:cubicBezTo>
                  <a:pt x="53" y="7"/>
                  <a:pt x="62" y="8"/>
                  <a:pt x="63" y="10"/>
                </a:cubicBezTo>
                <a:cubicBezTo>
                  <a:pt x="61" y="12"/>
                  <a:pt x="59" y="11"/>
                  <a:pt x="59" y="14"/>
                </a:cubicBezTo>
                <a:close/>
                <a:moveTo>
                  <a:pt x="107" y="62"/>
                </a:moveTo>
                <a:cubicBezTo>
                  <a:pt x="107" y="62"/>
                  <a:pt x="109" y="65"/>
                  <a:pt x="112" y="65"/>
                </a:cubicBezTo>
                <a:cubicBezTo>
                  <a:pt x="110" y="87"/>
                  <a:pt x="92" y="102"/>
                  <a:pt x="92" y="102"/>
                </a:cubicBezTo>
                <a:cubicBezTo>
                  <a:pt x="89" y="99"/>
                  <a:pt x="90" y="96"/>
                  <a:pt x="90" y="96"/>
                </a:cubicBezTo>
                <a:cubicBezTo>
                  <a:pt x="91" y="92"/>
                  <a:pt x="91" y="92"/>
                  <a:pt x="91" y="92"/>
                </a:cubicBezTo>
                <a:cubicBezTo>
                  <a:pt x="91" y="85"/>
                  <a:pt x="91" y="85"/>
                  <a:pt x="91" y="85"/>
                </a:cubicBezTo>
                <a:cubicBezTo>
                  <a:pt x="91" y="85"/>
                  <a:pt x="91" y="77"/>
                  <a:pt x="84" y="81"/>
                </a:cubicBezTo>
                <a:cubicBezTo>
                  <a:pt x="77" y="83"/>
                  <a:pt x="80" y="83"/>
                  <a:pt x="72" y="83"/>
                </a:cubicBezTo>
                <a:cubicBezTo>
                  <a:pt x="64" y="84"/>
                  <a:pt x="66" y="67"/>
                  <a:pt x="66" y="67"/>
                </a:cubicBezTo>
                <a:cubicBezTo>
                  <a:pt x="66" y="43"/>
                  <a:pt x="84" y="61"/>
                  <a:pt x="84" y="61"/>
                </a:cubicBezTo>
                <a:cubicBezTo>
                  <a:pt x="95" y="69"/>
                  <a:pt x="97" y="56"/>
                  <a:pt x="97" y="56"/>
                </a:cubicBezTo>
                <a:cubicBezTo>
                  <a:pt x="104" y="53"/>
                  <a:pt x="104" y="53"/>
                  <a:pt x="104" y="53"/>
                </a:cubicBezTo>
                <a:cubicBezTo>
                  <a:pt x="105" y="49"/>
                  <a:pt x="105" y="49"/>
                  <a:pt x="105" y="49"/>
                </a:cubicBezTo>
                <a:cubicBezTo>
                  <a:pt x="104" y="44"/>
                  <a:pt x="104" y="44"/>
                  <a:pt x="104" y="44"/>
                </a:cubicBezTo>
                <a:cubicBezTo>
                  <a:pt x="93" y="39"/>
                  <a:pt x="93" y="39"/>
                  <a:pt x="93" y="39"/>
                </a:cubicBezTo>
                <a:cubicBezTo>
                  <a:pt x="93" y="39"/>
                  <a:pt x="91" y="43"/>
                  <a:pt x="94" y="48"/>
                </a:cubicBezTo>
                <a:cubicBezTo>
                  <a:pt x="94" y="48"/>
                  <a:pt x="93" y="53"/>
                  <a:pt x="91" y="52"/>
                </a:cubicBezTo>
                <a:cubicBezTo>
                  <a:pt x="84" y="48"/>
                  <a:pt x="84" y="48"/>
                  <a:pt x="84" y="48"/>
                </a:cubicBezTo>
                <a:cubicBezTo>
                  <a:pt x="84" y="48"/>
                  <a:pt x="82" y="47"/>
                  <a:pt x="79" y="49"/>
                </a:cubicBezTo>
                <a:cubicBezTo>
                  <a:pt x="75" y="52"/>
                  <a:pt x="69" y="49"/>
                  <a:pt x="69" y="49"/>
                </a:cubicBezTo>
                <a:cubicBezTo>
                  <a:pt x="69" y="49"/>
                  <a:pt x="69" y="46"/>
                  <a:pt x="73" y="44"/>
                </a:cubicBezTo>
                <a:cubicBezTo>
                  <a:pt x="76" y="42"/>
                  <a:pt x="76" y="42"/>
                  <a:pt x="76" y="42"/>
                </a:cubicBezTo>
                <a:cubicBezTo>
                  <a:pt x="76" y="42"/>
                  <a:pt x="75" y="38"/>
                  <a:pt x="76" y="35"/>
                </a:cubicBezTo>
                <a:cubicBezTo>
                  <a:pt x="77" y="32"/>
                  <a:pt x="78" y="35"/>
                  <a:pt x="81" y="33"/>
                </a:cubicBezTo>
                <a:cubicBezTo>
                  <a:pt x="84" y="31"/>
                  <a:pt x="86" y="37"/>
                  <a:pt x="90" y="36"/>
                </a:cubicBezTo>
                <a:cubicBezTo>
                  <a:pt x="94" y="36"/>
                  <a:pt x="92" y="35"/>
                  <a:pt x="95" y="33"/>
                </a:cubicBezTo>
                <a:cubicBezTo>
                  <a:pt x="98" y="32"/>
                  <a:pt x="100" y="36"/>
                  <a:pt x="100" y="36"/>
                </a:cubicBezTo>
                <a:cubicBezTo>
                  <a:pt x="106" y="37"/>
                  <a:pt x="106" y="37"/>
                  <a:pt x="106" y="37"/>
                </a:cubicBezTo>
                <a:cubicBezTo>
                  <a:pt x="106" y="37"/>
                  <a:pt x="105" y="30"/>
                  <a:pt x="105" y="32"/>
                </a:cubicBezTo>
                <a:cubicBezTo>
                  <a:pt x="109" y="38"/>
                  <a:pt x="114" y="55"/>
                  <a:pt x="112" y="58"/>
                </a:cubicBezTo>
                <a:cubicBezTo>
                  <a:pt x="111" y="57"/>
                  <a:pt x="110" y="57"/>
                  <a:pt x="110" y="57"/>
                </a:cubicBezTo>
                <a:cubicBezTo>
                  <a:pt x="103" y="57"/>
                  <a:pt x="103" y="57"/>
                  <a:pt x="103" y="57"/>
                </a:cubicBezTo>
                <a:lnTo>
                  <a:pt x="107" y="6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36" name="Rectangle 75"/>
          <p:cNvSpPr/>
          <p:nvPr/>
        </p:nvSpPr>
        <p:spPr>
          <a:xfrm>
            <a:off x="3722760" y="4670280"/>
            <a:ext cx="704880" cy="703440"/>
          </a:xfrm>
          <a:prstGeom prst="rect">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11"/>
          <p:cNvSpPr/>
          <p:nvPr/>
        </p:nvSpPr>
        <p:spPr>
          <a:xfrm>
            <a:off x="3835440" y="4815000"/>
            <a:ext cx="482400" cy="430200"/>
          </a:xfrm>
          <a:custGeom>
            <a:avLst/>
            <a:gdLst/>
            <a:ahLst/>
            <a:rect l="l" t="t" r="r" b="b"/>
            <a:pathLst>
              <a:path w="134" h="119">
                <a:moveTo>
                  <a:pt x="133" y="16"/>
                </a:moveTo>
                <a:cubicBezTo>
                  <a:pt x="121" y="5"/>
                  <a:pt x="121" y="5"/>
                  <a:pt x="121" y="5"/>
                </a:cubicBezTo>
                <a:cubicBezTo>
                  <a:pt x="119" y="3"/>
                  <a:pt x="117" y="3"/>
                  <a:pt x="115" y="5"/>
                </a:cubicBezTo>
                <a:cubicBezTo>
                  <a:pt x="114" y="6"/>
                  <a:pt x="114" y="7"/>
                  <a:pt x="114" y="8"/>
                </a:cubicBezTo>
                <a:cubicBezTo>
                  <a:pt x="113" y="8"/>
                  <a:pt x="112" y="8"/>
                  <a:pt x="111" y="9"/>
                </a:cubicBezTo>
                <a:cubicBezTo>
                  <a:pt x="111" y="9"/>
                  <a:pt x="111" y="9"/>
                  <a:pt x="111" y="9"/>
                </a:cubicBezTo>
                <a:cubicBezTo>
                  <a:pt x="81" y="39"/>
                  <a:pt x="81" y="39"/>
                  <a:pt x="81" y="39"/>
                </a:cubicBezTo>
                <a:cubicBezTo>
                  <a:pt x="81" y="42"/>
                  <a:pt x="80" y="45"/>
                  <a:pt x="79" y="47"/>
                </a:cubicBezTo>
                <a:cubicBezTo>
                  <a:pt x="82" y="50"/>
                  <a:pt x="82" y="50"/>
                  <a:pt x="82" y="50"/>
                </a:cubicBezTo>
                <a:cubicBezTo>
                  <a:pt x="82" y="50"/>
                  <a:pt x="82" y="50"/>
                  <a:pt x="82" y="50"/>
                </a:cubicBezTo>
                <a:cubicBezTo>
                  <a:pt x="83" y="51"/>
                  <a:pt x="83" y="51"/>
                  <a:pt x="83" y="51"/>
                </a:cubicBezTo>
                <a:cubicBezTo>
                  <a:pt x="76" y="57"/>
                  <a:pt x="76" y="57"/>
                  <a:pt x="76" y="57"/>
                </a:cubicBezTo>
                <a:cubicBezTo>
                  <a:pt x="54" y="35"/>
                  <a:pt x="54" y="35"/>
                  <a:pt x="54" y="35"/>
                </a:cubicBezTo>
                <a:cubicBezTo>
                  <a:pt x="56" y="26"/>
                  <a:pt x="54" y="17"/>
                  <a:pt x="47" y="10"/>
                </a:cubicBezTo>
                <a:cubicBezTo>
                  <a:pt x="40" y="3"/>
                  <a:pt x="30" y="0"/>
                  <a:pt x="21" y="3"/>
                </a:cubicBezTo>
                <a:cubicBezTo>
                  <a:pt x="36" y="18"/>
                  <a:pt x="36" y="18"/>
                  <a:pt x="36" y="18"/>
                </a:cubicBezTo>
                <a:cubicBezTo>
                  <a:pt x="32" y="32"/>
                  <a:pt x="32" y="32"/>
                  <a:pt x="32" y="32"/>
                </a:cubicBezTo>
                <a:cubicBezTo>
                  <a:pt x="18" y="36"/>
                  <a:pt x="18" y="36"/>
                  <a:pt x="18" y="36"/>
                </a:cubicBezTo>
                <a:cubicBezTo>
                  <a:pt x="3" y="21"/>
                  <a:pt x="3" y="21"/>
                  <a:pt x="3" y="21"/>
                </a:cubicBezTo>
                <a:cubicBezTo>
                  <a:pt x="0" y="30"/>
                  <a:pt x="3" y="40"/>
                  <a:pt x="10" y="47"/>
                </a:cubicBezTo>
                <a:cubicBezTo>
                  <a:pt x="17" y="54"/>
                  <a:pt x="27" y="56"/>
                  <a:pt x="36" y="53"/>
                </a:cubicBezTo>
                <a:cubicBezTo>
                  <a:pt x="37" y="53"/>
                  <a:pt x="37" y="53"/>
                  <a:pt x="37" y="53"/>
                </a:cubicBezTo>
                <a:cubicBezTo>
                  <a:pt x="58" y="75"/>
                  <a:pt x="58" y="75"/>
                  <a:pt x="58" y="75"/>
                </a:cubicBezTo>
                <a:cubicBezTo>
                  <a:pt x="38" y="96"/>
                  <a:pt x="38" y="96"/>
                  <a:pt x="38" y="96"/>
                </a:cubicBezTo>
                <a:cubicBezTo>
                  <a:pt x="36" y="95"/>
                  <a:pt x="36" y="95"/>
                  <a:pt x="36" y="95"/>
                </a:cubicBezTo>
                <a:cubicBezTo>
                  <a:pt x="31" y="99"/>
                  <a:pt x="31" y="99"/>
                  <a:pt x="31" y="99"/>
                </a:cubicBezTo>
                <a:cubicBezTo>
                  <a:pt x="21" y="115"/>
                  <a:pt x="21" y="115"/>
                  <a:pt x="21" y="115"/>
                </a:cubicBezTo>
                <a:cubicBezTo>
                  <a:pt x="23" y="117"/>
                  <a:pt x="23" y="117"/>
                  <a:pt x="23" y="117"/>
                </a:cubicBezTo>
                <a:cubicBezTo>
                  <a:pt x="39" y="107"/>
                  <a:pt x="39" y="107"/>
                  <a:pt x="39" y="107"/>
                </a:cubicBezTo>
                <a:cubicBezTo>
                  <a:pt x="43" y="101"/>
                  <a:pt x="43" y="101"/>
                  <a:pt x="43" y="101"/>
                </a:cubicBezTo>
                <a:cubicBezTo>
                  <a:pt x="42" y="100"/>
                  <a:pt x="42" y="100"/>
                  <a:pt x="42" y="100"/>
                </a:cubicBezTo>
                <a:cubicBezTo>
                  <a:pt x="63" y="80"/>
                  <a:pt x="63" y="80"/>
                  <a:pt x="63" y="80"/>
                </a:cubicBezTo>
                <a:cubicBezTo>
                  <a:pt x="98" y="115"/>
                  <a:pt x="98" y="115"/>
                  <a:pt x="98" y="115"/>
                </a:cubicBezTo>
                <a:cubicBezTo>
                  <a:pt x="101" y="117"/>
                  <a:pt x="104" y="119"/>
                  <a:pt x="107" y="119"/>
                </a:cubicBezTo>
                <a:cubicBezTo>
                  <a:pt x="110" y="119"/>
                  <a:pt x="113" y="117"/>
                  <a:pt x="116" y="115"/>
                </a:cubicBezTo>
                <a:cubicBezTo>
                  <a:pt x="121" y="110"/>
                  <a:pt x="121" y="102"/>
                  <a:pt x="116" y="97"/>
                </a:cubicBezTo>
                <a:cubicBezTo>
                  <a:pt x="81" y="62"/>
                  <a:pt x="81" y="62"/>
                  <a:pt x="81" y="62"/>
                </a:cubicBezTo>
                <a:cubicBezTo>
                  <a:pt x="87" y="56"/>
                  <a:pt x="87" y="56"/>
                  <a:pt x="87" y="56"/>
                </a:cubicBezTo>
                <a:cubicBezTo>
                  <a:pt x="90" y="59"/>
                  <a:pt x="90" y="59"/>
                  <a:pt x="90" y="59"/>
                </a:cubicBezTo>
                <a:cubicBezTo>
                  <a:pt x="92" y="57"/>
                  <a:pt x="95" y="56"/>
                  <a:pt x="98" y="57"/>
                </a:cubicBezTo>
                <a:cubicBezTo>
                  <a:pt x="128" y="26"/>
                  <a:pt x="128" y="26"/>
                  <a:pt x="128" y="26"/>
                </a:cubicBezTo>
                <a:cubicBezTo>
                  <a:pt x="128" y="26"/>
                  <a:pt x="128" y="26"/>
                  <a:pt x="128" y="26"/>
                </a:cubicBezTo>
                <a:cubicBezTo>
                  <a:pt x="128" y="26"/>
                  <a:pt x="128" y="26"/>
                  <a:pt x="128" y="26"/>
                </a:cubicBezTo>
                <a:cubicBezTo>
                  <a:pt x="129" y="25"/>
                  <a:pt x="129" y="24"/>
                  <a:pt x="129" y="23"/>
                </a:cubicBezTo>
                <a:cubicBezTo>
                  <a:pt x="130" y="24"/>
                  <a:pt x="132" y="23"/>
                  <a:pt x="133" y="22"/>
                </a:cubicBezTo>
                <a:cubicBezTo>
                  <a:pt x="134" y="21"/>
                  <a:pt x="134" y="18"/>
                  <a:pt x="133" y="16"/>
                </a:cubicBezTo>
                <a:close/>
                <a:moveTo>
                  <a:pt x="108" y="103"/>
                </a:moveTo>
                <a:cubicBezTo>
                  <a:pt x="111" y="103"/>
                  <a:pt x="113" y="106"/>
                  <a:pt x="113" y="108"/>
                </a:cubicBezTo>
                <a:cubicBezTo>
                  <a:pt x="113" y="111"/>
                  <a:pt x="111" y="113"/>
                  <a:pt x="108" y="113"/>
                </a:cubicBezTo>
                <a:cubicBezTo>
                  <a:pt x="105" y="113"/>
                  <a:pt x="103" y="111"/>
                  <a:pt x="103" y="108"/>
                </a:cubicBezTo>
                <a:cubicBezTo>
                  <a:pt x="103" y="106"/>
                  <a:pt x="105" y="103"/>
                  <a:pt x="108" y="103"/>
                </a:cubicBezTo>
                <a:close/>
                <a:moveTo>
                  <a:pt x="91" y="41"/>
                </a:moveTo>
                <a:cubicBezTo>
                  <a:pt x="89" y="39"/>
                  <a:pt x="89" y="39"/>
                  <a:pt x="89" y="39"/>
                </a:cubicBezTo>
                <a:cubicBezTo>
                  <a:pt x="112" y="17"/>
                  <a:pt x="112" y="17"/>
                  <a:pt x="112" y="17"/>
                </a:cubicBezTo>
                <a:cubicBezTo>
                  <a:pt x="114" y="19"/>
                  <a:pt x="114" y="19"/>
                  <a:pt x="114" y="19"/>
                </a:cubicBezTo>
                <a:lnTo>
                  <a:pt x="91" y="41"/>
                </a:lnTo>
                <a:close/>
                <a:moveTo>
                  <a:pt x="98" y="48"/>
                </a:moveTo>
                <a:cubicBezTo>
                  <a:pt x="96" y="47"/>
                  <a:pt x="96" y="47"/>
                  <a:pt x="96" y="47"/>
                </a:cubicBezTo>
                <a:cubicBezTo>
                  <a:pt x="119" y="24"/>
                  <a:pt x="119" y="24"/>
                  <a:pt x="119" y="24"/>
                </a:cubicBezTo>
                <a:cubicBezTo>
                  <a:pt x="121" y="26"/>
                  <a:pt x="121" y="26"/>
                  <a:pt x="121" y="26"/>
                </a:cubicBezTo>
                <a:lnTo>
                  <a:pt x="98" y="4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38" name="Rectangle 81"/>
          <p:cNvSpPr/>
          <p:nvPr/>
        </p:nvSpPr>
        <p:spPr>
          <a:xfrm>
            <a:off x="7800840" y="2187720"/>
            <a:ext cx="703440" cy="703080"/>
          </a:xfrm>
          <a:prstGeom prst="rect">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101"/>
          <p:cNvSpPr/>
          <p:nvPr/>
        </p:nvSpPr>
        <p:spPr>
          <a:xfrm>
            <a:off x="7889760" y="2319480"/>
            <a:ext cx="497160" cy="458640"/>
          </a:xfrm>
          <a:custGeom>
            <a:avLst/>
            <a:gdLst/>
            <a:ahLst/>
            <a:rect l="l" t="t" r="r" b="b"/>
            <a:pathLst>
              <a:path w="68" h="63">
                <a:moveTo>
                  <a:pt x="45" y="35"/>
                </a:moveTo>
                <a:cubicBezTo>
                  <a:pt x="45" y="35"/>
                  <a:pt x="45" y="36"/>
                  <a:pt x="45" y="36"/>
                </a:cubicBezTo>
                <a:cubicBezTo>
                  <a:pt x="39" y="36"/>
                  <a:pt x="39" y="36"/>
                  <a:pt x="39" y="36"/>
                </a:cubicBezTo>
                <a:cubicBezTo>
                  <a:pt x="39" y="37"/>
                  <a:pt x="38" y="38"/>
                  <a:pt x="38" y="39"/>
                </a:cubicBezTo>
                <a:cubicBezTo>
                  <a:pt x="39" y="41"/>
                  <a:pt x="40" y="42"/>
                  <a:pt x="41" y="43"/>
                </a:cubicBezTo>
                <a:cubicBezTo>
                  <a:pt x="41" y="43"/>
                  <a:pt x="41" y="44"/>
                  <a:pt x="41" y="44"/>
                </a:cubicBezTo>
                <a:cubicBezTo>
                  <a:pt x="41" y="44"/>
                  <a:pt x="41" y="44"/>
                  <a:pt x="41" y="45"/>
                </a:cubicBezTo>
                <a:cubicBezTo>
                  <a:pt x="40" y="46"/>
                  <a:pt x="36" y="50"/>
                  <a:pt x="35" y="50"/>
                </a:cubicBezTo>
                <a:cubicBezTo>
                  <a:pt x="35" y="50"/>
                  <a:pt x="35" y="50"/>
                  <a:pt x="35" y="50"/>
                </a:cubicBezTo>
                <a:cubicBezTo>
                  <a:pt x="31" y="47"/>
                  <a:pt x="31" y="47"/>
                  <a:pt x="31" y="47"/>
                </a:cubicBezTo>
                <a:cubicBezTo>
                  <a:pt x="30" y="47"/>
                  <a:pt x="29" y="47"/>
                  <a:pt x="28" y="48"/>
                </a:cubicBezTo>
                <a:cubicBezTo>
                  <a:pt x="28" y="49"/>
                  <a:pt x="27" y="51"/>
                  <a:pt x="27" y="53"/>
                </a:cubicBezTo>
                <a:cubicBezTo>
                  <a:pt x="27" y="54"/>
                  <a:pt x="26" y="54"/>
                  <a:pt x="26" y="54"/>
                </a:cubicBezTo>
                <a:cubicBezTo>
                  <a:pt x="19" y="54"/>
                  <a:pt x="19" y="54"/>
                  <a:pt x="19" y="54"/>
                </a:cubicBezTo>
                <a:cubicBezTo>
                  <a:pt x="19" y="54"/>
                  <a:pt x="18" y="54"/>
                  <a:pt x="18" y="53"/>
                </a:cubicBezTo>
                <a:cubicBezTo>
                  <a:pt x="17" y="48"/>
                  <a:pt x="17" y="48"/>
                  <a:pt x="17" y="48"/>
                </a:cubicBezTo>
                <a:cubicBezTo>
                  <a:pt x="16" y="47"/>
                  <a:pt x="16" y="47"/>
                  <a:pt x="15" y="47"/>
                </a:cubicBezTo>
                <a:cubicBezTo>
                  <a:pt x="11" y="50"/>
                  <a:pt x="11" y="50"/>
                  <a:pt x="11" y="50"/>
                </a:cubicBezTo>
                <a:cubicBezTo>
                  <a:pt x="10" y="50"/>
                  <a:pt x="10" y="50"/>
                  <a:pt x="10" y="50"/>
                </a:cubicBezTo>
                <a:cubicBezTo>
                  <a:pt x="10" y="50"/>
                  <a:pt x="9" y="50"/>
                  <a:pt x="9" y="50"/>
                </a:cubicBezTo>
                <a:cubicBezTo>
                  <a:pt x="8" y="49"/>
                  <a:pt x="4" y="45"/>
                  <a:pt x="4" y="44"/>
                </a:cubicBezTo>
                <a:cubicBezTo>
                  <a:pt x="4" y="44"/>
                  <a:pt x="4" y="44"/>
                  <a:pt x="4" y="43"/>
                </a:cubicBezTo>
                <a:cubicBezTo>
                  <a:pt x="5" y="42"/>
                  <a:pt x="6" y="41"/>
                  <a:pt x="7" y="39"/>
                </a:cubicBezTo>
                <a:cubicBezTo>
                  <a:pt x="7" y="38"/>
                  <a:pt x="6" y="37"/>
                  <a:pt x="6" y="36"/>
                </a:cubicBezTo>
                <a:cubicBezTo>
                  <a:pt x="1" y="35"/>
                  <a:pt x="1" y="35"/>
                  <a:pt x="1" y="35"/>
                </a:cubicBezTo>
                <a:cubicBezTo>
                  <a:pt x="0" y="35"/>
                  <a:pt x="0" y="35"/>
                  <a:pt x="0" y="34"/>
                </a:cubicBezTo>
                <a:cubicBezTo>
                  <a:pt x="0" y="28"/>
                  <a:pt x="0" y="28"/>
                  <a:pt x="0" y="28"/>
                </a:cubicBezTo>
                <a:cubicBezTo>
                  <a:pt x="0" y="27"/>
                  <a:pt x="0" y="27"/>
                  <a:pt x="1" y="27"/>
                </a:cubicBezTo>
                <a:cubicBezTo>
                  <a:pt x="6" y="26"/>
                  <a:pt x="6" y="26"/>
                  <a:pt x="6" y="26"/>
                </a:cubicBezTo>
                <a:cubicBezTo>
                  <a:pt x="6" y="25"/>
                  <a:pt x="7" y="24"/>
                  <a:pt x="7" y="23"/>
                </a:cubicBezTo>
                <a:cubicBezTo>
                  <a:pt x="6" y="22"/>
                  <a:pt x="5" y="20"/>
                  <a:pt x="4" y="19"/>
                </a:cubicBezTo>
                <a:cubicBezTo>
                  <a:pt x="4" y="19"/>
                  <a:pt x="4" y="19"/>
                  <a:pt x="4" y="18"/>
                </a:cubicBezTo>
                <a:cubicBezTo>
                  <a:pt x="4" y="18"/>
                  <a:pt x="4" y="18"/>
                  <a:pt x="4" y="18"/>
                </a:cubicBezTo>
                <a:cubicBezTo>
                  <a:pt x="5" y="17"/>
                  <a:pt x="9" y="12"/>
                  <a:pt x="10" y="12"/>
                </a:cubicBezTo>
                <a:cubicBezTo>
                  <a:pt x="10" y="12"/>
                  <a:pt x="10" y="12"/>
                  <a:pt x="11" y="13"/>
                </a:cubicBezTo>
                <a:cubicBezTo>
                  <a:pt x="15" y="16"/>
                  <a:pt x="15" y="16"/>
                  <a:pt x="15" y="16"/>
                </a:cubicBezTo>
                <a:cubicBezTo>
                  <a:pt x="16" y="15"/>
                  <a:pt x="16" y="15"/>
                  <a:pt x="17" y="15"/>
                </a:cubicBezTo>
                <a:cubicBezTo>
                  <a:pt x="18" y="13"/>
                  <a:pt x="18" y="11"/>
                  <a:pt x="18" y="9"/>
                </a:cubicBezTo>
                <a:cubicBezTo>
                  <a:pt x="18" y="9"/>
                  <a:pt x="19" y="8"/>
                  <a:pt x="19" y="8"/>
                </a:cubicBezTo>
                <a:cubicBezTo>
                  <a:pt x="26" y="8"/>
                  <a:pt x="26" y="8"/>
                  <a:pt x="26" y="8"/>
                </a:cubicBezTo>
                <a:cubicBezTo>
                  <a:pt x="26" y="8"/>
                  <a:pt x="27" y="9"/>
                  <a:pt x="27" y="9"/>
                </a:cubicBezTo>
                <a:cubicBezTo>
                  <a:pt x="28" y="15"/>
                  <a:pt x="28" y="15"/>
                  <a:pt x="28" y="15"/>
                </a:cubicBezTo>
                <a:cubicBezTo>
                  <a:pt x="29" y="15"/>
                  <a:pt x="30" y="15"/>
                  <a:pt x="31" y="16"/>
                </a:cubicBezTo>
                <a:cubicBezTo>
                  <a:pt x="35" y="13"/>
                  <a:pt x="35" y="13"/>
                  <a:pt x="35" y="13"/>
                </a:cubicBezTo>
                <a:cubicBezTo>
                  <a:pt x="35" y="12"/>
                  <a:pt x="35" y="12"/>
                  <a:pt x="35" y="12"/>
                </a:cubicBezTo>
                <a:cubicBezTo>
                  <a:pt x="36" y="12"/>
                  <a:pt x="36" y="12"/>
                  <a:pt x="36" y="13"/>
                </a:cubicBezTo>
                <a:cubicBezTo>
                  <a:pt x="37" y="13"/>
                  <a:pt x="41" y="17"/>
                  <a:pt x="41" y="18"/>
                </a:cubicBezTo>
                <a:cubicBezTo>
                  <a:pt x="41" y="19"/>
                  <a:pt x="41" y="19"/>
                  <a:pt x="41" y="19"/>
                </a:cubicBezTo>
                <a:cubicBezTo>
                  <a:pt x="40" y="20"/>
                  <a:pt x="39" y="22"/>
                  <a:pt x="38" y="23"/>
                </a:cubicBezTo>
                <a:cubicBezTo>
                  <a:pt x="38" y="24"/>
                  <a:pt x="39" y="25"/>
                  <a:pt x="39" y="26"/>
                </a:cubicBezTo>
                <a:cubicBezTo>
                  <a:pt x="45" y="27"/>
                  <a:pt x="45" y="27"/>
                  <a:pt x="45" y="27"/>
                </a:cubicBezTo>
                <a:cubicBezTo>
                  <a:pt x="45" y="27"/>
                  <a:pt x="45" y="27"/>
                  <a:pt x="45" y="28"/>
                </a:cubicBezTo>
                <a:lnTo>
                  <a:pt x="45" y="35"/>
                </a:lnTo>
                <a:close/>
                <a:moveTo>
                  <a:pt x="23" y="22"/>
                </a:moveTo>
                <a:cubicBezTo>
                  <a:pt x="18" y="22"/>
                  <a:pt x="13" y="26"/>
                  <a:pt x="13" y="31"/>
                </a:cubicBezTo>
                <a:cubicBezTo>
                  <a:pt x="13" y="36"/>
                  <a:pt x="18" y="40"/>
                  <a:pt x="23" y="40"/>
                </a:cubicBezTo>
                <a:cubicBezTo>
                  <a:pt x="28" y="40"/>
                  <a:pt x="32" y="36"/>
                  <a:pt x="32" y="31"/>
                </a:cubicBezTo>
                <a:cubicBezTo>
                  <a:pt x="32" y="26"/>
                  <a:pt x="28" y="22"/>
                  <a:pt x="23" y="22"/>
                </a:cubicBezTo>
                <a:close/>
                <a:moveTo>
                  <a:pt x="68" y="15"/>
                </a:moveTo>
                <a:cubicBezTo>
                  <a:pt x="68" y="16"/>
                  <a:pt x="64" y="16"/>
                  <a:pt x="63" y="16"/>
                </a:cubicBezTo>
                <a:cubicBezTo>
                  <a:pt x="63" y="17"/>
                  <a:pt x="62" y="18"/>
                  <a:pt x="62" y="18"/>
                </a:cubicBezTo>
                <a:cubicBezTo>
                  <a:pt x="62" y="19"/>
                  <a:pt x="64" y="23"/>
                  <a:pt x="64" y="23"/>
                </a:cubicBezTo>
                <a:cubicBezTo>
                  <a:pt x="64" y="23"/>
                  <a:pt x="64" y="23"/>
                  <a:pt x="64" y="24"/>
                </a:cubicBezTo>
                <a:cubicBezTo>
                  <a:pt x="63" y="24"/>
                  <a:pt x="59" y="26"/>
                  <a:pt x="59" y="26"/>
                </a:cubicBezTo>
                <a:cubicBezTo>
                  <a:pt x="59" y="26"/>
                  <a:pt x="56" y="22"/>
                  <a:pt x="56" y="22"/>
                </a:cubicBezTo>
                <a:cubicBezTo>
                  <a:pt x="55" y="22"/>
                  <a:pt x="55" y="22"/>
                  <a:pt x="55" y="22"/>
                </a:cubicBezTo>
                <a:cubicBezTo>
                  <a:pt x="54" y="22"/>
                  <a:pt x="54" y="22"/>
                  <a:pt x="54" y="22"/>
                </a:cubicBezTo>
                <a:cubicBezTo>
                  <a:pt x="53" y="22"/>
                  <a:pt x="50" y="26"/>
                  <a:pt x="50" y="26"/>
                </a:cubicBezTo>
                <a:cubicBezTo>
                  <a:pt x="50" y="26"/>
                  <a:pt x="46" y="24"/>
                  <a:pt x="46" y="24"/>
                </a:cubicBezTo>
                <a:cubicBezTo>
                  <a:pt x="45" y="23"/>
                  <a:pt x="45" y="23"/>
                  <a:pt x="45" y="23"/>
                </a:cubicBezTo>
                <a:cubicBezTo>
                  <a:pt x="45" y="23"/>
                  <a:pt x="47" y="19"/>
                  <a:pt x="47" y="18"/>
                </a:cubicBezTo>
                <a:cubicBezTo>
                  <a:pt x="47" y="18"/>
                  <a:pt x="46" y="17"/>
                  <a:pt x="46" y="16"/>
                </a:cubicBezTo>
                <a:cubicBezTo>
                  <a:pt x="45" y="16"/>
                  <a:pt x="41" y="16"/>
                  <a:pt x="41" y="15"/>
                </a:cubicBezTo>
                <a:cubicBezTo>
                  <a:pt x="41" y="10"/>
                  <a:pt x="41" y="10"/>
                  <a:pt x="41" y="10"/>
                </a:cubicBezTo>
                <a:cubicBezTo>
                  <a:pt x="41" y="10"/>
                  <a:pt x="45" y="9"/>
                  <a:pt x="46" y="9"/>
                </a:cubicBezTo>
                <a:cubicBezTo>
                  <a:pt x="46" y="9"/>
                  <a:pt x="47" y="8"/>
                  <a:pt x="47" y="7"/>
                </a:cubicBezTo>
                <a:cubicBezTo>
                  <a:pt x="47" y="7"/>
                  <a:pt x="45" y="3"/>
                  <a:pt x="45" y="2"/>
                </a:cubicBezTo>
                <a:cubicBezTo>
                  <a:pt x="45" y="2"/>
                  <a:pt x="45" y="2"/>
                  <a:pt x="46" y="2"/>
                </a:cubicBezTo>
                <a:cubicBezTo>
                  <a:pt x="46" y="2"/>
                  <a:pt x="50" y="0"/>
                  <a:pt x="50" y="0"/>
                </a:cubicBezTo>
                <a:cubicBezTo>
                  <a:pt x="50" y="0"/>
                  <a:pt x="53" y="3"/>
                  <a:pt x="54" y="4"/>
                </a:cubicBezTo>
                <a:cubicBezTo>
                  <a:pt x="54" y="4"/>
                  <a:pt x="54" y="4"/>
                  <a:pt x="55" y="4"/>
                </a:cubicBezTo>
                <a:cubicBezTo>
                  <a:pt x="55" y="4"/>
                  <a:pt x="55" y="4"/>
                  <a:pt x="56" y="4"/>
                </a:cubicBezTo>
                <a:cubicBezTo>
                  <a:pt x="57" y="2"/>
                  <a:pt x="58" y="1"/>
                  <a:pt x="59" y="0"/>
                </a:cubicBezTo>
                <a:cubicBezTo>
                  <a:pt x="59" y="0"/>
                  <a:pt x="59" y="0"/>
                  <a:pt x="59" y="0"/>
                </a:cubicBezTo>
                <a:cubicBezTo>
                  <a:pt x="59" y="0"/>
                  <a:pt x="63" y="2"/>
                  <a:pt x="64" y="2"/>
                </a:cubicBezTo>
                <a:cubicBezTo>
                  <a:pt x="64" y="2"/>
                  <a:pt x="64" y="2"/>
                  <a:pt x="64" y="2"/>
                </a:cubicBezTo>
                <a:cubicBezTo>
                  <a:pt x="64" y="3"/>
                  <a:pt x="62" y="7"/>
                  <a:pt x="62" y="7"/>
                </a:cubicBezTo>
                <a:cubicBezTo>
                  <a:pt x="62" y="8"/>
                  <a:pt x="63" y="9"/>
                  <a:pt x="63" y="9"/>
                </a:cubicBezTo>
                <a:cubicBezTo>
                  <a:pt x="64" y="9"/>
                  <a:pt x="68" y="10"/>
                  <a:pt x="68" y="10"/>
                </a:cubicBezTo>
                <a:lnTo>
                  <a:pt x="68" y="15"/>
                </a:lnTo>
                <a:close/>
                <a:moveTo>
                  <a:pt x="68" y="52"/>
                </a:moveTo>
                <a:cubicBezTo>
                  <a:pt x="68" y="52"/>
                  <a:pt x="64" y="53"/>
                  <a:pt x="63" y="53"/>
                </a:cubicBezTo>
                <a:cubicBezTo>
                  <a:pt x="63" y="54"/>
                  <a:pt x="62" y="54"/>
                  <a:pt x="62" y="55"/>
                </a:cubicBezTo>
                <a:cubicBezTo>
                  <a:pt x="62" y="56"/>
                  <a:pt x="64" y="59"/>
                  <a:pt x="64" y="60"/>
                </a:cubicBezTo>
                <a:cubicBezTo>
                  <a:pt x="64" y="60"/>
                  <a:pt x="64" y="60"/>
                  <a:pt x="64" y="60"/>
                </a:cubicBezTo>
                <a:cubicBezTo>
                  <a:pt x="63" y="60"/>
                  <a:pt x="59" y="63"/>
                  <a:pt x="59" y="63"/>
                </a:cubicBezTo>
                <a:cubicBezTo>
                  <a:pt x="59" y="63"/>
                  <a:pt x="56" y="59"/>
                  <a:pt x="56" y="59"/>
                </a:cubicBezTo>
                <a:cubicBezTo>
                  <a:pt x="55" y="59"/>
                  <a:pt x="55" y="59"/>
                  <a:pt x="55" y="59"/>
                </a:cubicBezTo>
                <a:cubicBezTo>
                  <a:pt x="54" y="59"/>
                  <a:pt x="54" y="59"/>
                  <a:pt x="54" y="59"/>
                </a:cubicBezTo>
                <a:cubicBezTo>
                  <a:pt x="53" y="59"/>
                  <a:pt x="50" y="63"/>
                  <a:pt x="50" y="63"/>
                </a:cubicBezTo>
                <a:cubicBezTo>
                  <a:pt x="50" y="63"/>
                  <a:pt x="46" y="60"/>
                  <a:pt x="46" y="60"/>
                </a:cubicBezTo>
                <a:cubicBezTo>
                  <a:pt x="45" y="60"/>
                  <a:pt x="45" y="60"/>
                  <a:pt x="45" y="60"/>
                </a:cubicBezTo>
                <a:cubicBezTo>
                  <a:pt x="45" y="59"/>
                  <a:pt x="47" y="56"/>
                  <a:pt x="47" y="55"/>
                </a:cubicBezTo>
                <a:cubicBezTo>
                  <a:pt x="47" y="54"/>
                  <a:pt x="46" y="54"/>
                  <a:pt x="46" y="53"/>
                </a:cubicBezTo>
                <a:cubicBezTo>
                  <a:pt x="45" y="53"/>
                  <a:pt x="41" y="52"/>
                  <a:pt x="41" y="52"/>
                </a:cubicBezTo>
                <a:cubicBezTo>
                  <a:pt x="41" y="47"/>
                  <a:pt x="41" y="47"/>
                  <a:pt x="41" y="47"/>
                </a:cubicBezTo>
                <a:cubicBezTo>
                  <a:pt x="41" y="46"/>
                  <a:pt x="45" y="46"/>
                  <a:pt x="46" y="46"/>
                </a:cubicBezTo>
                <a:cubicBezTo>
                  <a:pt x="46" y="45"/>
                  <a:pt x="47" y="45"/>
                  <a:pt x="47" y="44"/>
                </a:cubicBezTo>
                <a:cubicBezTo>
                  <a:pt x="47" y="43"/>
                  <a:pt x="45" y="40"/>
                  <a:pt x="45" y="39"/>
                </a:cubicBezTo>
                <a:cubicBezTo>
                  <a:pt x="45" y="39"/>
                  <a:pt x="45" y="39"/>
                  <a:pt x="46" y="39"/>
                </a:cubicBezTo>
                <a:cubicBezTo>
                  <a:pt x="46" y="39"/>
                  <a:pt x="50" y="36"/>
                  <a:pt x="50" y="36"/>
                </a:cubicBezTo>
                <a:cubicBezTo>
                  <a:pt x="50" y="36"/>
                  <a:pt x="53" y="40"/>
                  <a:pt x="54" y="40"/>
                </a:cubicBezTo>
                <a:cubicBezTo>
                  <a:pt x="54" y="40"/>
                  <a:pt x="54" y="40"/>
                  <a:pt x="55" y="40"/>
                </a:cubicBezTo>
                <a:cubicBezTo>
                  <a:pt x="55" y="40"/>
                  <a:pt x="55" y="40"/>
                  <a:pt x="56" y="40"/>
                </a:cubicBezTo>
                <a:cubicBezTo>
                  <a:pt x="57" y="39"/>
                  <a:pt x="58" y="38"/>
                  <a:pt x="59" y="36"/>
                </a:cubicBezTo>
                <a:cubicBezTo>
                  <a:pt x="59" y="36"/>
                  <a:pt x="59" y="36"/>
                  <a:pt x="59" y="36"/>
                </a:cubicBezTo>
                <a:cubicBezTo>
                  <a:pt x="59" y="36"/>
                  <a:pt x="63" y="39"/>
                  <a:pt x="64" y="39"/>
                </a:cubicBezTo>
                <a:cubicBezTo>
                  <a:pt x="64" y="39"/>
                  <a:pt x="64" y="39"/>
                  <a:pt x="64" y="39"/>
                </a:cubicBezTo>
                <a:cubicBezTo>
                  <a:pt x="64" y="40"/>
                  <a:pt x="62" y="43"/>
                  <a:pt x="62" y="44"/>
                </a:cubicBezTo>
                <a:cubicBezTo>
                  <a:pt x="62" y="45"/>
                  <a:pt x="63" y="45"/>
                  <a:pt x="63" y="46"/>
                </a:cubicBezTo>
                <a:cubicBezTo>
                  <a:pt x="64" y="46"/>
                  <a:pt x="68" y="46"/>
                  <a:pt x="68" y="47"/>
                </a:cubicBezTo>
                <a:lnTo>
                  <a:pt x="68" y="52"/>
                </a:lnTo>
                <a:close/>
                <a:moveTo>
                  <a:pt x="55" y="8"/>
                </a:moveTo>
                <a:cubicBezTo>
                  <a:pt x="52" y="8"/>
                  <a:pt x="50" y="10"/>
                  <a:pt x="50" y="13"/>
                </a:cubicBezTo>
                <a:cubicBezTo>
                  <a:pt x="50" y="15"/>
                  <a:pt x="52" y="17"/>
                  <a:pt x="55" y="17"/>
                </a:cubicBezTo>
                <a:cubicBezTo>
                  <a:pt x="57" y="17"/>
                  <a:pt x="59" y="15"/>
                  <a:pt x="59" y="13"/>
                </a:cubicBezTo>
                <a:cubicBezTo>
                  <a:pt x="59" y="10"/>
                  <a:pt x="57" y="8"/>
                  <a:pt x="55" y="8"/>
                </a:cubicBezTo>
                <a:close/>
                <a:moveTo>
                  <a:pt x="55" y="45"/>
                </a:moveTo>
                <a:cubicBezTo>
                  <a:pt x="52" y="45"/>
                  <a:pt x="50" y="47"/>
                  <a:pt x="50" y="49"/>
                </a:cubicBezTo>
                <a:cubicBezTo>
                  <a:pt x="50" y="52"/>
                  <a:pt x="52" y="54"/>
                  <a:pt x="55" y="54"/>
                </a:cubicBezTo>
                <a:cubicBezTo>
                  <a:pt x="57" y="54"/>
                  <a:pt x="59" y="52"/>
                  <a:pt x="59" y="49"/>
                </a:cubicBezTo>
                <a:cubicBezTo>
                  <a:pt x="59" y="47"/>
                  <a:pt x="57" y="45"/>
                  <a:pt x="55"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文本框 46"/>
          <p:cNvSpPr/>
          <p:nvPr/>
        </p:nvSpPr>
        <p:spPr>
          <a:xfrm>
            <a:off x="2997360" y="2257560"/>
            <a:ext cx="25524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优势一</a:t>
            </a:r>
            <a:endParaRPr b="0" lang="en-US" sz="2000" spc="-1" strike="noStrike">
              <a:solidFill>
                <a:srgbClr val="000000"/>
              </a:solidFill>
              <a:latin typeface="Arial"/>
            </a:endParaRPr>
          </a:p>
        </p:txBody>
      </p:sp>
      <p:sp>
        <p:nvSpPr>
          <p:cNvPr id="441" name="TextBox 13"/>
          <p:cNvSpPr/>
          <p:nvPr/>
        </p:nvSpPr>
        <p:spPr>
          <a:xfrm>
            <a:off x="1603440" y="2595600"/>
            <a:ext cx="19018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42" name="文本框 48"/>
          <p:cNvSpPr/>
          <p:nvPr/>
        </p:nvSpPr>
        <p:spPr>
          <a:xfrm>
            <a:off x="2997360" y="3521160"/>
            <a:ext cx="25524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优势一</a:t>
            </a:r>
            <a:endParaRPr b="0" lang="en-US" sz="2000" spc="-1" strike="noStrike">
              <a:solidFill>
                <a:srgbClr val="000000"/>
              </a:solidFill>
              <a:latin typeface="Arial"/>
            </a:endParaRPr>
          </a:p>
        </p:txBody>
      </p:sp>
      <p:sp>
        <p:nvSpPr>
          <p:cNvPr id="443" name="TextBox 13"/>
          <p:cNvSpPr/>
          <p:nvPr/>
        </p:nvSpPr>
        <p:spPr>
          <a:xfrm>
            <a:off x="1603440" y="3859200"/>
            <a:ext cx="19018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44" name="文本框 50"/>
          <p:cNvSpPr/>
          <p:nvPr/>
        </p:nvSpPr>
        <p:spPr>
          <a:xfrm>
            <a:off x="2997360" y="4784760"/>
            <a:ext cx="25524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优势一</a:t>
            </a:r>
            <a:endParaRPr b="0" lang="en-US" sz="2000" spc="-1" strike="noStrike">
              <a:solidFill>
                <a:srgbClr val="000000"/>
              </a:solidFill>
              <a:latin typeface="Arial"/>
            </a:endParaRPr>
          </a:p>
        </p:txBody>
      </p:sp>
      <p:sp>
        <p:nvSpPr>
          <p:cNvPr id="445" name="TextBox 13"/>
          <p:cNvSpPr/>
          <p:nvPr/>
        </p:nvSpPr>
        <p:spPr>
          <a:xfrm>
            <a:off x="1603440" y="5122800"/>
            <a:ext cx="19018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46" name="文本框 52"/>
          <p:cNvSpPr/>
          <p:nvPr/>
        </p:nvSpPr>
        <p:spPr>
          <a:xfrm>
            <a:off x="8944200" y="2257560"/>
            <a:ext cx="255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优势一</a:t>
            </a:r>
            <a:endParaRPr b="0" lang="en-US" sz="2000" spc="-1" strike="noStrike">
              <a:solidFill>
                <a:srgbClr val="000000"/>
              </a:solidFill>
              <a:latin typeface="Arial"/>
            </a:endParaRPr>
          </a:p>
        </p:txBody>
      </p:sp>
      <p:sp>
        <p:nvSpPr>
          <p:cNvPr id="447" name="TextBox 13"/>
          <p:cNvSpPr/>
          <p:nvPr/>
        </p:nvSpPr>
        <p:spPr>
          <a:xfrm>
            <a:off x="8686800" y="2595600"/>
            <a:ext cx="19018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48" name="文本框 54"/>
          <p:cNvSpPr/>
          <p:nvPr/>
        </p:nvSpPr>
        <p:spPr>
          <a:xfrm>
            <a:off x="8944200" y="3570120"/>
            <a:ext cx="255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优势一</a:t>
            </a:r>
            <a:endParaRPr b="0" lang="en-US" sz="2000" spc="-1" strike="noStrike">
              <a:solidFill>
                <a:srgbClr val="000000"/>
              </a:solidFill>
              <a:latin typeface="Arial"/>
            </a:endParaRPr>
          </a:p>
        </p:txBody>
      </p:sp>
      <p:sp>
        <p:nvSpPr>
          <p:cNvPr id="449" name="TextBox 13"/>
          <p:cNvSpPr/>
          <p:nvPr/>
        </p:nvSpPr>
        <p:spPr>
          <a:xfrm>
            <a:off x="8686800" y="3908520"/>
            <a:ext cx="19018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50" name="文本框 56"/>
          <p:cNvSpPr/>
          <p:nvPr/>
        </p:nvSpPr>
        <p:spPr>
          <a:xfrm>
            <a:off x="8944200" y="4784760"/>
            <a:ext cx="255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优势一</a:t>
            </a:r>
            <a:endParaRPr b="0" lang="en-US" sz="2000" spc="-1" strike="noStrike">
              <a:solidFill>
                <a:srgbClr val="000000"/>
              </a:solidFill>
              <a:latin typeface="Arial"/>
            </a:endParaRPr>
          </a:p>
        </p:txBody>
      </p:sp>
      <p:sp>
        <p:nvSpPr>
          <p:cNvPr id="451" name="TextBox 13"/>
          <p:cNvSpPr/>
          <p:nvPr/>
        </p:nvSpPr>
        <p:spPr>
          <a:xfrm>
            <a:off x="8686800" y="5122800"/>
            <a:ext cx="19018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52" name="文本框 51"/>
          <p:cNvSpPr/>
          <p:nvPr/>
        </p:nvSpPr>
        <p:spPr>
          <a:xfrm>
            <a:off x="711360" y="295200"/>
            <a:ext cx="17794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我们的优势</a:t>
            </a:r>
            <a:endParaRPr b="0" lang="en-US" sz="2500" spc="-1" strike="noStrike">
              <a:solidFill>
                <a:srgbClr val="000000"/>
              </a:solidFill>
              <a:latin typeface="Arial"/>
            </a:endParaRPr>
          </a:p>
        </p:txBody>
      </p:sp>
      <p:sp>
        <p:nvSpPr>
          <p:cNvPr id="453" name="椭圆 52"/>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椭圆 1"/>
          <p:cNvSpPr/>
          <p:nvPr/>
        </p:nvSpPr>
        <p:spPr>
          <a:xfrm>
            <a:off x="4703760" y="1496880"/>
            <a:ext cx="2664000" cy="266400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文本框 9"/>
          <p:cNvSpPr/>
          <p:nvPr/>
        </p:nvSpPr>
        <p:spPr>
          <a:xfrm>
            <a:off x="4846680" y="1581120"/>
            <a:ext cx="2441520" cy="2623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600" spc="-1" strike="noStrike">
                <a:solidFill>
                  <a:srgbClr val="ffffff"/>
                </a:solidFill>
                <a:latin typeface="Arial"/>
                <a:ea typeface="微软雅黑"/>
              </a:rPr>
              <a:t>3</a:t>
            </a:r>
            <a:endParaRPr b="0" lang="en-US" sz="16600" spc="-1" strike="noStrike">
              <a:solidFill>
                <a:srgbClr val="000000"/>
              </a:solidFill>
              <a:latin typeface="Arial"/>
            </a:endParaRPr>
          </a:p>
        </p:txBody>
      </p:sp>
      <p:sp>
        <p:nvSpPr>
          <p:cNvPr id="456" name="文本框 10"/>
          <p:cNvSpPr/>
          <p:nvPr/>
        </p:nvSpPr>
        <p:spPr>
          <a:xfrm>
            <a:off x="3139920" y="4498920"/>
            <a:ext cx="596268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1d087d"/>
                </a:solidFill>
                <a:latin typeface="Arial"/>
                <a:ea typeface="微软雅黑"/>
              </a:rPr>
              <a:t>产品和运营</a:t>
            </a:r>
            <a:endParaRPr b="0" lang="en-US" sz="5000" spc="-1" strike="noStrike">
              <a:solidFill>
                <a:srgbClr val="000000"/>
              </a:solidFill>
              <a:latin typeface="Arial"/>
            </a:endParaRPr>
          </a:p>
        </p:txBody>
      </p:sp>
      <p:sp>
        <p:nvSpPr>
          <p:cNvPr id="457" name="任意多边形 62"/>
          <p:cNvSpPr/>
          <p:nvPr/>
        </p:nvSpPr>
        <p:spPr>
          <a:xfrm rot="20566200">
            <a:off x="-279000" y="223560"/>
            <a:ext cx="2324160" cy="1528560"/>
          </a:xfrm>
          <a:custGeom>
            <a:avLst/>
            <a:gdLst/>
            <a:ahLst/>
            <a:rect l="l" t="t" r="r" b="b"/>
            <a:pathLst>
              <a:path w="2323118" h="1529480">
                <a:moveTo>
                  <a:pt x="2317575" y="102737"/>
                </a:moveTo>
                <a:lnTo>
                  <a:pt x="2323118" y="425547"/>
                </a:lnTo>
                <a:lnTo>
                  <a:pt x="2296920" y="439788"/>
                </a:lnTo>
                <a:lnTo>
                  <a:pt x="2223125" y="431167"/>
                </a:lnTo>
                <a:cubicBezTo>
                  <a:pt x="2141233" y="423668"/>
                  <a:pt x="2059351" y="418279"/>
                  <a:pt x="1977371" y="415108"/>
                </a:cubicBezTo>
                <a:cubicBezTo>
                  <a:pt x="1876471" y="475973"/>
                  <a:pt x="1769267" y="536838"/>
                  <a:pt x="1662062" y="597703"/>
                </a:cubicBezTo>
                <a:cubicBezTo>
                  <a:pt x="1287388" y="814058"/>
                  <a:pt x="411441" y="1301159"/>
                  <a:pt x="15270" y="1521009"/>
                </a:cubicBezTo>
                <a:lnTo>
                  <a:pt x="0" y="1529480"/>
                </a:lnTo>
                <a:lnTo>
                  <a:pt x="430040" y="143265"/>
                </a:lnTo>
                <a:lnTo>
                  <a:pt x="454203" y="136369"/>
                </a:lnTo>
                <a:cubicBezTo>
                  <a:pt x="734554" y="63365"/>
                  <a:pt x="1091519" y="74"/>
                  <a:pt x="1486696" y="1"/>
                </a:cubicBezTo>
                <a:cubicBezTo>
                  <a:pt x="1702248" y="-39"/>
                  <a:pt x="1929168" y="18730"/>
                  <a:pt x="2161227" y="64990"/>
                </a:cubicBezTo>
                <a:lnTo>
                  <a:pt x="2317575" y="102737"/>
                </a:lnTo>
                <a:close/>
              </a:path>
            </a:pathLst>
          </a:custGeom>
          <a:solidFill>
            <a:srgbClr val="5b9bd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8" name="任意多边形 63"/>
          <p:cNvSpPr/>
          <p:nvPr/>
        </p:nvSpPr>
        <p:spPr>
          <a:xfrm rot="20566200">
            <a:off x="-23400" y="-983880"/>
            <a:ext cx="6703920" cy="2071800"/>
          </a:xfrm>
          <a:custGeom>
            <a:avLst/>
            <a:gdLst/>
            <a:ahLst/>
            <a:rect l="l" t="t" r="r" b="b"/>
            <a:pathLst>
              <a:path w="6704685" h="2071005">
                <a:moveTo>
                  <a:pt x="188959" y="0"/>
                </a:moveTo>
                <a:lnTo>
                  <a:pt x="6704685" y="2021348"/>
                </a:lnTo>
                <a:lnTo>
                  <a:pt x="6604717" y="2042571"/>
                </a:lnTo>
                <a:cubicBezTo>
                  <a:pt x="5918488" y="2161151"/>
                  <a:pt x="5342064" y="1885828"/>
                  <a:pt x="4630497" y="1641590"/>
                </a:cubicBezTo>
                <a:cubicBezTo>
                  <a:pt x="3810972" y="1367535"/>
                  <a:pt x="3312951" y="966603"/>
                  <a:pt x="1976496" y="591046"/>
                </a:cubicBezTo>
                <a:cubicBezTo>
                  <a:pt x="1245621" y="382889"/>
                  <a:pt x="543027" y="470705"/>
                  <a:pt x="56366" y="593029"/>
                </a:cubicBezTo>
                <a:lnTo>
                  <a:pt x="0" y="609101"/>
                </a:lnTo>
                <a:lnTo>
                  <a:pt x="188959" y="0"/>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任意多边形 18"/>
          <p:cNvSpPr/>
          <p:nvPr/>
        </p:nvSpPr>
        <p:spPr>
          <a:xfrm rot="20566200">
            <a:off x="-353880" y="223560"/>
            <a:ext cx="5257800" cy="1430280"/>
          </a:xfrm>
          <a:custGeom>
            <a:avLst/>
            <a:gdLst/>
            <a:ahLst/>
            <a:rect l="l" t="t" r="r" b="b"/>
            <a:pathLst>
              <a:path w="4587618" h="1555835">
                <a:moveTo>
                  <a:pt x="1825852" y="0"/>
                </a:moveTo>
                <a:cubicBezTo>
                  <a:pt x="2398011" y="27582"/>
                  <a:pt x="2964668" y="209619"/>
                  <a:pt x="3575337" y="485432"/>
                </a:cubicBezTo>
                <a:cubicBezTo>
                  <a:pt x="4064973" y="700566"/>
                  <a:pt x="4362056" y="821924"/>
                  <a:pt x="4587618" y="910184"/>
                </a:cubicBezTo>
                <a:cubicBezTo>
                  <a:pt x="4169502" y="755729"/>
                  <a:pt x="3377282" y="490948"/>
                  <a:pt x="2898649" y="474399"/>
                </a:cubicBezTo>
                <a:cubicBezTo>
                  <a:pt x="2233309" y="453713"/>
                  <a:pt x="1142459" y="675441"/>
                  <a:pt x="138343" y="1444116"/>
                </a:cubicBezTo>
                <a:lnTo>
                  <a:pt x="0" y="1555835"/>
                </a:lnTo>
                <a:lnTo>
                  <a:pt x="0" y="1281649"/>
                </a:lnTo>
                <a:lnTo>
                  <a:pt x="50814" y="1246526"/>
                </a:lnTo>
                <a:cubicBezTo>
                  <a:pt x="355891" y="1035594"/>
                  <a:pt x="1202116" y="449576"/>
                  <a:pt x="1550775" y="198586"/>
                </a:cubicBezTo>
                <a:cubicBezTo>
                  <a:pt x="1644301" y="132391"/>
                  <a:pt x="1737827" y="66195"/>
                  <a:pt x="1825852" y="0"/>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任意多边形 64"/>
          <p:cNvSpPr/>
          <p:nvPr/>
        </p:nvSpPr>
        <p:spPr>
          <a:xfrm rot="20566200">
            <a:off x="-140760" y="210960"/>
            <a:ext cx="2158920" cy="628920"/>
          </a:xfrm>
          <a:custGeom>
            <a:avLst/>
            <a:gdLst/>
            <a:ahLst/>
            <a:rect l="l" t="t" r="r" b="b"/>
            <a:pathLst>
              <a:path w="2158651" h="628090">
                <a:moveTo>
                  <a:pt x="2140041" y="128253"/>
                </a:moveTo>
                <a:cubicBezTo>
                  <a:pt x="2145705" y="130155"/>
                  <a:pt x="2152178" y="132691"/>
                  <a:pt x="2158651" y="135227"/>
                </a:cubicBezTo>
                <a:cubicBezTo>
                  <a:pt x="2003303" y="201167"/>
                  <a:pt x="1847955" y="292469"/>
                  <a:pt x="1686135" y="388843"/>
                </a:cubicBezTo>
                <a:cubicBezTo>
                  <a:pt x="1466058" y="378698"/>
                  <a:pt x="1252454" y="383770"/>
                  <a:pt x="1032379" y="409132"/>
                </a:cubicBezTo>
                <a:cubicBezTo>
                  <a:pt x="640216" y="448363"/>
                  <a:pt x="295857" y="533483"/>
                  <a:pt x="30627" y="617813"/>
                </a:cubicBezTo>
                <a:lnTo>
                  <a:pt x="0" y="628090"/>
                </a:lnTo>
                <a:lnTo>
                  <a:pt x="155241" y="127677"/>
                </a:lnTo>
                <a:lnTo>
                  <a:pt x="198115" y="116675"/>
                </a:lnTo>
                <a:cubicBezTo>
                  <a:pt x="461534" y="54924"/>
                  <a:pt x="782138" y="4269"/>
                  <a:pt x="1133720" y="257"/>
                </a:cubicBezTo>
                <a:cubicBezTo>
                  <a:pt x="1446235" y="-3310"/>
                  <a:pt x="1783227" y="29978"/>
                  <a:pt x="2126287" y="125082"/>
                </a:cubicBezTo>
                <a:cubicBezTo>
                  <a:pt x="2129523" y="125082"/>
                  <a:pt x="2134378" y="126351"/>
                  <a:pt x="2140041" y="128253"/>
                </a:cubicBezTo>
                <a:close/>
              </a:path>
            </a:pathLst>
          </a:custGeom>
          <a:solidFill>
            <a:srgbClr val="133c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任意多边形 49"/>
          <p:cNvSpPr/>
          <p:nvPr/>
        </p:nvSpPr>
        <p:spPr>
          <a:xfrm rot="20566200">
            <a:off x="1573200" y="-371520"/>
            <a:ext cx="3489480" cy="1187640"/>
          </a:xfrm>
          <a:custGeom>
            <a:avLst/>
            <a:gdLst/>
            <a:ahLst/>
            <a:rect l="l" t="t" r="r" b="b"/>
            <a:pathLst>
              <a:path w="3488546" h="1188055">
                <a:moveTo>
                  <a:pt x="915831" y="141330"/>
                </a:moveTo>
                <a:cubicBezTo>
                  <a:pt x="1900526" y="471561"/>
                  <a:pt x="2370683" y="800820"/>
                  <a:pt x="3082125" y="1040686"/>
                </a:cubicBezTo>
                <a:cubicBezTo>
                  <a:pt x="3214486" y="1086374"/>
                  <a:pt x="3340544" y="1132063"/>
                  <a:pt x="3466603" y="1177752"/>
                </a:cubicBezTo>
                <a:cubicBezTo>
                  <a:pt x="3472905" y="1182828"/>
                  <a:pt x="3472905" y="1182828"/>
                  <a:pt x="3472905" y="1182828"/>
                </a:cubicBezTo>
                <a:cubicBezTo>
                  <a:pt x="3535935" y="1203134"/>
                  <a:pt x="3403573" y="1162522"/>
                  <a:pt x="3164063" y="1091451"/>
                </a:cubicBezTo>
                <a:cubicBezTo>
                  <a:pt x="2905643" y="1010227"/>
                  <a:pt x="2565286" y="898543"/>
                  <a:pt x="2004327" y="700559"/>
                </a:cubicBezTo>
                <a:cubicBezTo>
                  <a:pt x="1304703" y="446733"/>
                  <a:pt x="655504" y="279208"/>
                  <a:pt x="0" y="253826"/>
                </a:cubicBezTo>
                <a:cubicBezTo>
                  <a:pt x="157573" y="157372"/>
                  <a:pt x="308843" y="65995"/>
                  <a:pt x="460113" y="0"/>
                </a:cubicBezTo>
                <a:cubicBezTo>
                  <a:pt x="623989" y="46958"/>
                  <a:pt x="775160" y="94154"/>
                  <a:pt x="915831" y="141330"/>
                </a:cubicBez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任意多边形 52"/>
          <p:cNvSpPr/>
          <p:nvPr/>
        </p:nvSpPr>
        <p:spPr>
          <a:xfrm rot="20566200">
            <a:off x="2018880" y="-457200"/>
            <a:ext cx="3006720" cy="1198440"/>
          </a:xfrm>
          <a:custGeom>
            <a:avLst/>
            <a:gdLst/>
            <a:ahLst/>
            <a:rect l="l" t="t" r="r" b="b"/>
            <a:pathLst>
              <a:path w="3006843" h="1197358">
                <a:moveTo>
                  <a:pt x="52925" y="0"/>
                </a:moveTo>
                <a:lnTo>
                  <a:pt x="1994447" y="602310"/>
                </a:lnTo>
                <a:lnTo>
                  <a:pt x="2077534" y="658745"/>
                </a:lnTo>
                <a:cubicBezTo>
                  <a:pt x="2513187" y="949930"/>
                  <a:pt x="2846887" y="1139662"/>
                  <a:pt x="3006843" y="1197358"/>
                </a:cubicBezTo>
                <a:cubicBezTo>
                  <a:pt x="2880769" y="1151709"/>
                  <a:pt x="2754696" y="1106059"/>
                  <a:pt x="2622320" y="1060409"/>
                </a:cubicBezTo>
                <a:cubicBezTo>
                  <a:pt x="1809148" y="786511"/>
                  <a:pt x="1311160" y="395953"/>
                  <a:pt x="0" y="20611"/>
                </a:cubicBezTo>
                <a:lnTo>
                  <a:pt x="52925" y="0"/>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任意多边形 73"/>
          <p:cNvSpPr/>
          <p:nvPr/>
        </p:nvSpPr>
        <p:spPr>
          <a:xfrm flipH="1" rot="9364200">
            <a:off x="8886600" y="6077880"/>
            <a:ext cx="3549240" cy="1394280"/>
          </a:xfrm>
          <a:custGeom>
            <a:avLst/>
            <a:gdLst/>
            <a:ahLst/>
            <a:rect l="l" t="t" r="r" b="b"/>
            <a:pathLst>
              <a:path w="3550068" h="1393897">
                <a:moveTo>
                  <a:pt x="3550068" y="923786"/>
                </a:moveTo>
                <a:lnTo>
                  <a:pt x="3139982" y="0"/>
                </a:lnTo>
                <a:lnTo>
                  <a:pt x="0" y="1393897"/>
                </a:lnTo>
                <a:lnTo>
                  <a:pt x="196024" y="1330131"/>
                </a:lnTo>
                <a:cubicBezTo>
                  <a:pt x="735473" y="1158044"/>
                  <a:pt x="1224713" y="1013880"/>
                  <a:pt x="1521185" y="956786"/>
                </a:cubicBezTo>
                <a:cubicBezTo>
                  <a:pt x="2077070" y="853302"/>
                  <a:pt x="2714911" y="789961"/>
                  <a:pt x="3390379" y="895551"/>
                </a:cubicBezTo>
                <a:lnTo>
                  <a:pt x="3550068" y="923786"/>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任意多边形 70"/>
          <p:cNvSpPr/>
          <p:nvPr/>
        </p:nvSpPr>
        <p:spPr>
          <a:xfrm flipH="1" rot="9364200">
            <a:off x="7254000" y="5492160"/>
            <a:ext cx="5345280" cy="879480"/>
          </a:xfrm>
          <a:custGeom>
            <a:avLst/>
            <a:gdLst/>
            <a:ahLst/>
            <a:rect l="l" t="t" r="r" b="b"/>
            <a:pathLst>
              <a:path w="5345340" h="878460">
                <a:moveTo>
                  <a:pt x="5345340" y="878460"/>
                </a:moveTo>
                <a:lnTo>
                  <a:pt x="5133072" y="400291"/>
                </a:lnTo>
                <a:lnTo>
                  <a:pt x="5062613" y="374624"/>
                </a:lnTo>
                <a:cubicBezTo>
                  <a:pt x="4583216" y="206134"/>
                  <a:pt x="3721964" y="-20430"/>
                  <a:pt x="2598567" y="1477"/>
                </a:cubicBezTo>
                <a:cubicBezTo>
                  <a:pt x="2190061" y="9443"/>
                  <a:pt x="1746890" y="50264"/>
                  <a:pt x="1274811" y="138681"/>
                </a:cubicBezTo>
                <a:cubicBezTo>
                  <a:pt x="784008" y="255303"/>
                  <a:pt x="331451" y="387136"/>
                  <a:pt x="0" y="488547"/>
                </a:cubicBezTo>
                <a:cubicBezTo>
                  <a:pt x="2729390" y="-289262"/>
                  <a:pt x="4678149" y="529750"/>
                  <a:pt x="5290359" y="849197"/>
                </a:cubicBezTo>
                <a:lnTo>
                  <a:pt x="5345340" y="878460"/>
                </a:lnTo>
                <a:close/>
              </a:path>
            </a:pathLst>
          </a:custGeom>
          <a:solidFill>
            <a:srgbClr val="f0f6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任意多边形 71"/>
          <p:cNvSpPr/>
          <p:nvPr/>
        </p:nvSpPr>
        <p:spPr>
          <a:xfrm flipH="1" rot="9364200">
            <a:off x="8616960" y="5725440"/>
            <a:ext cx="3857760" cy="577800"/>
          </a:xfrm>
          <a:custGeom>
            <a:avLst/>
            <a:gdLst/>
            <a:ahLst/>
            <a:rect l="l" t="t" r="r" b="b"/>
            <a:pathLst>
              <a:path w="3857872" h="578054">
                <a:moveTo>
                  <a:pt x="3857872" y="578054"/>
                </a:moveTo>
                <a:lnTo>
                  <a:pt x="3672428" y="160309"/>
                </a:lnTo>
                <a:lnTo>
                  <a:pt x="3635124" y="152043"/>
                </a:lnTo>
                <a:cubicBezTo>
                  <a:pt x="3163198" y="55309"/>
                  <a:pt x="2591917" y="-13833"/>
                  <a:pt x="1971077" y="2356"/>
                </a:cubicBezTo>
                <a:cubicBezTo>
                  <a:pt x="1670063" y="10205"/>
                  <a:pt x="1357399" y="38114"/>
                  <a:pt x="1038761" y="92663"/>
                </a:cubicBezTo>
                <a:cubicBezTo>
                  <a:pt x="701004" y="148481"/>
                  <a:pt x="337756" y="229669"/>
                  <a:pt x="0" y="315932"/>
                </a:cubicBezTo>
                <a:cubicBezTo>
                  <a:pt x="1789602" y="-19567"/>
                  <a:pt x="3163695" y="329714"/>
                  <a:pt x="3808558" y="559676"/>
                </a:cubicBezTo>
                <a:lnTo>
                  <a:pt x="3857872" y="578054"/>
                </a:lnTo>
                <a:close/>
              </a:path>
            </a:pathLst>
          </a:custGeom>
          <a:solidFill>
            <a:srgbClr val="f37a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任意多边形 72"/>
          <p:cNvSpPr/>
          <p:nvPr/>
        </p:nvSpPr>
        <p:spPr>
          <a:xfrm flipH="1" rot="9364200">
            <a:off x="8353080" y="6003720"/>
            <a:ext cx="4060440" cy="704520"/>
          </a:xfrm>
          <a:custGeom>
            <a:avLst/>
            <a:gdLst/>
            <a:ahLst/>
            <a:rect l="l" t="t" r="r" b="b"/>
            <a:pathLst>
              <a:path w="4061006" h="704548">
                <a:moveTo>
                  <a:pt x="4061006" y="468777"/>
                </a:moveTo>
                <a:lnTo>
                  <a:pt x="3889182" y="81715"/>
                </a:lnTo>
                <a:lnTo>
                  <a:pt x="3816648" y="67185"/>
                </a:lnTo>
                <a:cubicBezTo>
                  <a:pt x="3757237" y="56688"/>
                  <a:pt x="3698190" y="47651"/>
                  <a:pt x="3639591" y="40041"/>
                </a:cubicBezTo>
                <a:cubicBezTo>
                  <a:pt x="3398021" y="7700"/>
                  <a:pt x="3161832" y="-3239"/>
                  <a:pt x="2933043" y="803"/>
                </a:cubicBezTo>
                <a:cubicBezTo>
                  <a:pt x="2551728" y="7541"/>
                  <a:pt x="2190968" y="55895"/>
                  <a:pt x="1860105" y="116140"/>
                </a:cubicBezTo>
                <a:cubicBezTo>
                  <a:pt x="1809078" y="126287"/>
                  <a:pt x="1758053" y="136433"/>
                  <a:pt x="1700652" y="151652"/>
                </a:cubicBezTo>
                <a:cubicBezTo>
                  <a:pt x="1423205" y="215067"/>
                  <a:pt x="1043708" y="326679"/>
                  <a:pt x="629133" y="457949"/>
                </a:cubicBezTo>
                <a:lnTo>
                  <a:pt x="353750" y="547512"/>
                </a:lnTo>
                <a:lnTo>
                  <a:pt x="0" y="704548"/>
                </a:lnTo>
                <a:lnTo>
                  <a:pt x="131941" y="673879"/>
                </a:lnTo>
                <a:cubicBezTo>
                  <a:pt x="217347" y="655489"/>
                  <a:pt x="302255" y="638683"/>
                  <a:pt x="386765" y="623464"/>
                </a:cubicBezTo>
                <a:cubicBezTo>
                  <a:pt x="724803" y="537219"/>
                  <a:pt x="1088355" y="456047"/>
                  <a:pt x="1426393" y="400241"/>
                </a:cubicBezTo>
                <a:cubicBezTo>
                  <a:pt x="2323312" y="246855"/>
                  <a:pt x="3172932" y="304152"/>
                  <a:pt x="3848879" y="425758"/>
                </a:cubicBezTo>
                <a:lnTo>
                  <a:pt x="4061006" y="468777"/>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文本框 19"/>
          <p:cNvSpPr/>
          <p:nvPr/>
        </p:nvSpPr>
        <p:spPr>
          <a:xfrm>
            <a:off x="3117240" y="557532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产品介绍</a:t>
            </a:r>
            <a:endParaRPr b="0" lang="en-US" sz="1400" spc="-1" strike="noStrike">
              <a:solidFill>
                <a:srgbClr val="000000"/>
              </a:solidFill>
              <a:latin typeface="Arial"/>
            </a:endParaRPr>
          </a:p>
        </p:txBody>
      </p:sp>
      <p:sp>
        <p:nvSpPr>
          <p:cNvPr id="468" name="文本框 20"/>
          <p:cNvSpPr/>
          <p:nvPr/>
        </p:nvSpPr>
        <p:spPr>
          <a:xfrm>
            <a:off x="4676400" y="5575320"/>
            <a:ext cx="12704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产品核心竞争力</a:t>
            </a:r>
            <a:endParaRPr b="0" lang="en-US" sz="1400" spc="-1" strike="noStrike">
              <a:solidFill>
                <a:srgbClr val="000000"/>
              </a:solidFill>
              <a:latin typeface="Arial"/>
            </a:endParaRPr>
          </a:p>
        </p:txBody>
      </p:sp>
      <p:sp>
        <p:nvSpPr>
          <p:cNvPr id="469" name="文本框 21"/>
          <p:cNvSpPr/>
          <p:nvPr/>
        </p:nvSpPr>
        <p:spPr>
          <a:xfrm>
            <a:off x="6629400" y="5575320"/>
            <a:ext cx="11638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销售渠道铺设</a:t>
            </a:r>
            <a:endParaRPr b="0" lang="en-US" sz="1400" spc="-1" strike="noStrike">
              <a:solidFill>
                <a:srgbClr val="000000"/>
              </a:solidFill>
              <a:latin typeface="Arial"/>
            </a:endParaRPr>
          </a:p>
        </p:txBody>
      </p:sp>
      <p:sp>
        <p:nvSpPr>
          <p:cNvPr id="470" name="文本框 22"/>
          <p:cNvSpPr/>
          <p:nvPr/>
        </p:nvSpPr>
        <p:spPr>
          <a:xfrm>
            <a:off x="8439120" y="5575320"/>
            <a:ext cx="11638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营销推广计划</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矩形 7"/>
          <p:cNvSpPr/>
          <p:nvPr/>
        </p:nvSpPr>
        <p:spPr>
          <a:xfrm>
            <a:off x="0" y="1519200"/>
            <a:ext cx="6426360" cy="42721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矩形 8"/>
          <p:cNvSpPr/>
          <p:nvPr/>
        </p:nvSpPr>
        <p:spPr>
          <a:xfrm>
            <a:off x="7130880" y="2003400"/>
            <a:ext cx="419580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公司通过为全球</a:t>
            </a:r>
            <a:r>
              <a:rPr b="0" lang="en-US" sz="1400" spc="-1" strike="noStrike">
                <a:solidFill>
                  <a:srgbClr val="404040"/>
                </a:solidFill>
                <a:latin typeface="Arial"/>
                <a:ea typeface="微软雅黑"/>
              </a:rPr>
              <a:t>160</a:t>
            </a:r>
            <a:r>
              <a:rPr b="0" lang="zh-CN" sz="1400" spc="-1" strike="noStrike">
                <a:solidFill>
                  <a:srgbClr val="404040"/>
                </a:solidFill>
                <a:latin typeface="Arial"/>
                <a:ea typeface="微软雅黑"/>
              </a:rPr>
              <a:t>多个国家和地区的电信运营商和企业网客户提供创新技术与产品解决方案</a:t>
            </a:r>
            <a:r>
              <a:rPr b="0" lang="en-US" sz="1400" spc="-1" strike="noStrike">
                <a:solidFill>
                  <a:srgbClr val="404040"/>
                </a:solidFill>
                <a:latin typeface="Arial"/>
                <a:ea typeface="微软雅黑"/>
              </a:rPr>
              <a:t>^</a:t>
            </a:r>
            <a:endParaRPr b="0" lang="en-US" sz="1400" spc="-1" strike="noStrike">
              <a:solidFill>
                <a:srgbClr val="000000"/>
              </a:solidFill>
              <a:latin typeface="Arial"/>
            </a:endParaRPr>
          </a:p>
        </p:txBody>
      </p:sp>
      <p:sp>
        <p:nvSpPr>
          <p:cNvPr id="473" name="文本框 9"/>
          <p:cNvSpPr/>
          <p:nvPr/>
        </p:nvSpPr>
        <p:spPr>
          <a:xfrm>
            <a:off x="7326000" y="161784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外观说明</a:t>
            </a:r>
            <a:endParaRPr b="0" lang="en-US" sz="2000" spc="-1" strike="noStrike">
              <a:solidFill>
                <a:srgbClr val="000000"/>
              </a:solidFill>
              <a:latin typeface="Arial"/>
            </a:endParaRPr>
          </a:p>
        </p:txBody>
      </p:sp>
      <p:sp>
        <p:nvSpPr>
          <p:cNvPr id="474" name="矩形 10"/>
          <p:cNvSpPr/>
          <p:nvPr/>
        </p:nvSpPr>
        <p:spPr>
          <a:xfrm>
            <a:off x="7118280" y="3505320"/>
            <a:ext cx="427536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公司通过为全球</a:t>
            </a:r>
            <a:r>
              <a:rPr b="0" lang="en-US" sz="1400" spc="-1" strike="noStrike">
                <a:solidFill>
                  <a:srgbClr val="404040"/>
                </a:solidFill>
                <a:latin typeface="Arial"/>
                <a:ea typeface="微软雅黑"/>
              </a:rPr>
              <a:t>160</a:t>
            </a:r>
            <a:r>
              <a:rPr b="0" lang="zh-CN" sz="1400" spc="-1" strike="noStrike">
                <a:solidFill>
                  <a:srgbClr val="404040"/>
                </a:solidFill>
                <a:latin typeface="Arial"/>
                <a:ea typeface="微软雅黑"/>
              </a:rPr>
              <a:t>多个国家和地区的电信运营商和企业网客户提供创新技术与产品解决方案</a:t>
            </a:r>
            <a:r>
              <a:rPr b="0" lang="en-US" sz="1400" spc="-1" strike="noStrike">
                <a:solidFill>
                  <a:srgbClr val="404040"/>
                </a:solidFill>
                <a:latin typeface="Arial"/>
                <a:ea typeface="微软雅黑"/>
              </a:rPr>
              <a:t>^</a:t>
            </a:r>
            <a:endParaRPr b="0" lang="en-US" sz="1400" spc="-1" strike="noStrike">
              <a:solidFill>
                <a:srgbClr val="000000"/>
              </a:solidFill>
              <a:latin typeface="Arial"/>
            </a:endParaRPr>
          </a:p>
        </p:txBody>
      </p:sp>
      <p:sp>
        <p:nvSpPr>
          <p:cNvPr id="475" name="文本框 11"/>
          <p:cNvSpPr/>
          <p:nvPr/>
        </p:nvSpPr>
        <p:spPr>
          <a:xfrm>
            <a:off x="7338600" y="312588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性能说明</a:t>
            </a:r>
            <a:endParaRPr b="0" lang="en-US" sz="2000" spc="-1" strike="noStrike">
              <a:solidFill>
                <a:srgbClr val="000000"/>
              </a:solidFill>
              <a:latin typeface="Arial"/>
            </a:endParaRPr>
          </a:p>
        </p:txBody>
      </p:sp>
      <p:sp>
        <p:nvSpPr>
          <p:cNvPr id="476" name="矩形 12"/>
          <p:cNvSpPr/>
          <p:nvPr/>
        </p:nvSpPr>
        <p:spPr>
          <a:xfrm>
            <a:off x="7156440" y="4997520"/>
            <a:ext cx="427500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公司通过为全球</a:t>
            </a:r>
            <a:r>
              <a:rPr b="0" lang="en-US" sz="1400" spc="-1" strike="noStrike">
                <a:solidFill>
                  <a:srgbClr val="404040"/>
                </a:solidFill>
                <a:latin typeface="Arial"/>
                <a:ea typeface="微软雅黑"/>
              </a:rPr>
              <a:t>160</a:t>
            </a:r>
            <a:r>
              <a:rPr b="0" lang="zh-CN" sz="1400" spc="-1" strike="noStrike">
                <a:solidFill>
                  <a:srgbClr val="404040"/>
                </a:solidFill>
                <a:latin typeface="Arial"/>
                <a:ea typeface="微软雅黑"/>
              </a:rPr>
              <a:t>多个国家和地区的电信运营商和企业网客户提供创新技术与产品解决方案</a:t>
            </a:r>
            <a:r>
              <a:rPr b="0" lang="en-US" sz="1400" spc="-1" strike="noStrike">
                <a:solidFill>
                  <a:srgbClr val="404040"/>
                </a:solidFill>
                <a:latin typeface="Arial"/>
                <a:ea typeface="微软雅黑"/>
              </a:rPr>
              <a:t>^</a:t>
            </a:r>
            <a:endParaRPr b="0" lang="en-US" sz="1400" spc="-1" strike="noStrike">
              <a:solidFill>
                <a:srgbClr val="000000"/>
              </a:solidFill>
              <a:latin typeface="Arial"/>
            </a:endParaRPr>
          </a:p>
        </p:txBody>
      </p:sp>
      <p:sp>
        <p:nvSpPr>
          <p:cNvPr id="477" name="文本框 13"/>
          <p:cNvSpPr/>
          <p:nvPr/>
        </p:nvSpPr>
        <p:spPr>
          <a:xfrm>
            <a:off x="7338600" y="467676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价格战略</a:t>
            </a:r>
            <a:endParaRPr b="0" lang="en-US" sz="2000" spc="-1" strike="noStrike">
              <a:solidFill>
                <a:srgbClr val="000000"/>
              </a:solidFill>
              <a:latin typeface="Arial"/>
            </a:endParaRPr>
          </a:p>
        </p:txBody>
      </p:sp>
      <p:sp>
        <p:nvSpPr>
          <p:cNvPr id="478" name="椭圆 14"/>
          <p:cNvSpPr/>
          <p:nvPr/>
        </p:nvSpPr>
        <p:spPr>
          <a:xfrm>
            <a:off x="6843600" y="1673280"/>
            <a:ext cx="182520" cy="18252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椭圆 15"/>
          <p:cNvSpPr/>
          <p:nvPr/>
        </p:nvSpPr>
        <p:spPr>
          <a:xfrm>
            <a:off x="6843600" y="3189240"/>
            <a:ext cx="182520" cy="18108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椭圆 16"/>
          <p:cNvSpPr/>
          <p:nvPr/>
        </p:nvSpPr>
        <p:spPr>
          <a:xfrm>
            <a:off x="6843600" y="4740120"/>
            <a:ext cx="182520" cy="18288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1" name="图片 1" descr=""/>
          <p:cNvPicPr/>
          <p:nvPr/>
        </p:nvPicPr>
        <p:blipFill>
          <a:blip r:embed="rId2"/>
          <a:srcRect l="0" t="4749" r="0" b="11262"/>
          <a:stretch/>
        </p:blipFill>
        <p:spPr>
          <a:xfrm>
            <a:off x="0" y="1536840"/>
            <a:ext cx="6426360" cy="4254480"/>
          </a:xfrm>
          <a:prstGeom prst="rect">
            <a:avLst/>
          </a:prstGeom>
          <a:ln w="0">
            <a:noFill/>
          </a:ln>
        </p:spPr>
      </p:pic>
      <p:sp>
        <p:nvSpPr>
          <p:cNvPr id="482" name="文本框 19"/>
          <p:cNvSpPr/>
          <p:nvPr/>
        </p:nvSpPr>
        <p:spPr>
          <a:xfrm>
            <a:off x="711360" y="295200"/>
            <a:ext cx="17794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产品介绍</a:t>
            </a:r>
            <a:endParaRPr b="0" lang="en-US" sz="2500" spc="-1" strike="noStrike">
              <a:solidFill>
                <a:srgbClr val="000000"/>
              </a:solidFill>
              <a:latin typeface="Arial"/>
            </a:endParaRPr>
          </a:p>
        </p:txBody>
      </p:sp>
      <p:sp>
        <p:nvSpPr>
          <p:cNvPr id="483" name="椭圆 20"/>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空心弧 7"/>
          <p:cNvSpPr/>
          <p:nvPr/>
        </p:nvSpPr>
        <p:spPr>
          <a:xfrm rot="16921200">
            <a:off x="4361400" y="1716840"/>
            <a:ext cx="3466800" cy="3424320"/>
          </a:xfrm>
          <a:custGeom>
            <a:avLst/>
            <a:gdLst/>
            <a:ahLst/>
            <a:rect l="l" t="t" r="r" b="b"/>
            <a:pathLst>
              <a:path w="3468151" h="3424938">
                <a:moveTo>
                  <a:pt x="1371000" y="37957"/>
                </a:moveTo>
                <a:cubicBezTo>
                  <a:pt x="2302790" y="-159075"/>
                  <a:pt x="3220991" y="423306"/>
                  <a:pt x="3427102" y="1342068"/>
                </a:cubicBezTo>
                <a:lnTo>
                  <a:pt x="2591236" y="1524939"/>
                </a:lnTo>
                <a:cubicBezTo>
                  <a:pt x="2485971" y="1067172"/>
                  <a:pt x="2022871" y="777089"/>
                  <a:pt x="1552310" y="874161"/>
                </a:cubicBezTo>
                <a:lnTo>
                  <a:pt x="1371000" y="37957"/>
                </a:lnTo>
                <a:close/>
              </a:path>
            </a:pathLst>
          </a:custGeom>
          <a:solidFill>
            <a:srgbClr val="1d087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空心弧 8"/>
          <p:cNvSpPr/>
          <p:nvPr/>
        </p:nvSpPr>
        <p:spPr>
          <a:xfrm rot="10221000">
            <a:off x="4380840" y="1725120"/>
            <a:ext cx="3470040" cy="3426120"/>
          </a:xfrm>
          <a:custGeom>
            <a:avLst/>
            <a:gdLst/>
            <a:ahLst/>
            <a:rect l="l" t="t" r="r" b="b"/>
            <a:pathLst>
              <a:path w="3469542" h="3425924">
                <a:moveTo>
                  <a:pt x="2032929" y="25490"/>
                </a:moveTo>
                <a:cubicBezTo>
                  <a:pt x="2970489" y="187007"/>
                  <a:pt x="3601205" y="1064236"/>
                  <a:pt x="3446456" y="1991487"/>
                </a:cubicBezTo>
                <a:lnTo>
                  <a:pt x="2608895" y="1855199"/>
                </a:lnTo>
                <a:cubicBezTo>
                  <a:pt x="2689127" y="1386099"/>
                  <a:pt x="2365780" y="941896"/>
                  <a:pt x="1885282" y="861125"/>
                </a:cubicBezTo>
                <a:lnTo>
                  <a:pt x="2032929" y="25490"/>
                </a:lnTo>
                <a:close/>
              </a:path>
            </a:pathLst>
          </a:custGeom>
          <a:solidFill>
            <a:srgbClr val="f4416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空心弧 9"/>
          <p:cNvSpPr/>
          <p:nvPr/>
        </p:nvSpPr>
        <p:spPr>
          <a:xfrm rot="850800">
            <a:off x="4346640" y="1695240"/>
            <a:ext cx="3467160" cy="3423960"/>
          </a:xfrm>
          <a:custGeom>
            <a:avLst/>
            <a:gdLst/>
            <a:ahLst/>
            <a:rect l="l" t="t" r="r" b="b"/>
            <a:pathLst>
              <a:path w="3468152" h="3424937">
                <a:moveTo>
                  <a:pt x="1321915" y="49075"/>
                </a:moveTo>
                <a:cubicBezTo>
                  <a:pt x="1769172" y="-59003"/>
                  <a:pt x="2241592" y="13021"/>
                  <a:pt x="2635020" y="249270"/>
                </a:cubicBezTo>
                <a:cubicBezTo>
                  <a:pt x="3034276" y="489018"/>
                  <a:pt x="3318658" y="877741"/>
                  <a:pt x="3423737" y="1327372"/>
                </a:cubicBezTo>
                <a:lnTo>
                  <a:pt x="2592565" y="1516807"/>
                </a:lnTo>
                <a:cubicBezTo>
                  <a:pt x="2538326" y="1290351"/>
                  <a:pt x="2392384" y="1094976"/>
                  <a:pt x="2188018" y="975233"/>
                </a:cubicBezTo>
                <a:cubicBezTo>
                  <a:pt x="1989501" y="858917"/>
                  <a:pt x="1752039" y="823466"/>
                  <a:pt x="1526946" y="876540"/>
                </a:cubicBezTo>
                <a:lnTo>
                  <a:pt x="1321915" y="49075"/>
                </a:lnTo>
                <a:close/>
              </a:path>
            </a:pathLst>
          </a:custGeom>
          <a:solidFill>
            <a:srgbClr val="f4416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 name="空心弧 10"/>
          <p:cNvSpPr/>
          <p:nvPr/>
        </p:nvSpPr>
        <p:spPr>
          <a:xfrm rot="4608000">
            <a:off x="4361760" y="1716840"/>
            <a:ext cx="3466800" cy="3424320"/>
          </a:xfrm>
          <a:custGeom>
            <a:avLst/>
            <a:gdLst/>
            <a:ahLst/>
            <a:rect l="l" t="t" r="r" b="b"/>
            <a:pathLst>
              <a:path w="3468151" h="3424938">
                <a:moveTo>
                  <a:pt x="2136071" y="46650"/>
                </a:moveTo>
                <a:cubicBezTo>
                  <a:pt x="3063789" y="264982"/>
                  <a:pt x="3638855" y="1182154"/>
                  <a:pt x="3423263" y="2099589"/>
                </a:cubicBezTo>
                <a:lnTo>
                  <a:pt x="2585440" y="1907581"/>
                </a:lnTo>
                <a:cubicBezTo>
                  <a:pt x="2695899" y="1449118"/>
                  <a:pt x="2404471" y="990102"/>
                  <a:pt x="1934434" y="882208"/>
                </a:cubicBezTo>
                <a:lnTo>
                  <a:pt x="2136071" y="46650"/>
                </a:lnTo>
                <a:close/>
              </a:path>
            </a:pathLst>
          </a:custGeom>
          <a:solidFill>
            <a:srgbClr val="1d087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Freeform 34"/>
          <p:cNvSpPr/>
          <p:nvPr/>
        </p:nvSpPr>
        <p:spPr>
          <a:xfrm>
            <a:off x="4930920" y="2443320"/>
            <a:ext cx="452160" cy="399960"/>
          </a:xfrm>
          <a:custGeom>
            <a:avLst/>
            <a:gdLst/>
            <a:ahLst/>
            <a:rect l="l" t="t" r="r" b="b"/>
            <a:pathLst>
              <a:path w="136" h="120">
                <a:moveTo>
                  <a:pt x="136" y="48"/>
                </a:moveTo>
                <a:cubicBezTo>
                  <a:pt x="136" y="22"/>
                  <a:pt x="106" y="0"/>
                  <a:pt x="68" y="0"/>
                </a:cubicBezTo>
                <a:cubicBezTo>
                  <a:pt x="31" y="0"/>
                  <a:pt x="0" y="22"/>
                  <a:pt x="0" y="48"/>
                </a:cubicBezTo>
                <a:cubicBezTo>
                  <a:pt x="0" y="67"/>
                  <a:pt x="15" y="83"/>
                  <a:pt x="37" y="91"/>
                </a:cubicBezTo>
                <a:cubicBezTo>
                  <a:pt x="38" y="96"/>
                  <a:pt x="37" y="106"/>
                  <a:pt x="22" y="120"/>
                </a:cubicBezTo>
                <a:cubicBezTo>
                  <a:pt x="22" y="120"/>
                  <a:pt x="54" y="111"/>
                  <a:pt x="73" y="96"/>
                </a:cubicBezTo>
                <a:cubicBezTo>
                  <a:pt x="108" y="94"/>
                  <a:pt x="136" y="73"/>
                  <a:pt x="136" y="4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Freeform 64"/>
          <p:cNvSpPr/>
          <p:nvPr/>
        </p:nvSpPr>
        <p:spPr>
          <a:xfrm>
            <a:off x="4987800" y="4208400"/>
            <a:ext cx="406440" cy="389160"/>
          </a:xfrm>
          <a:custGeom>
            <a:avLst/>
            <a:gdLst/>
            <a:ahLst/>
            <a:rect l="l" t="t" r="r" b="b"/>
            <a:pathLst>
              <a:path w="133" h="127">
                <a:moveTo>
                  <a:pt x="125" y="0"/>
                </a:moveTo>
                <a:cubicBezTo>
                  <a:pt x="9" y="0"/>
                  <a:pt x="9" y="0"/>
                  <a:pt x="9" y="0"/>
                </a:cubicBezTo>
                <a:cubicBezTo>
                  <a:pt x="4" y="0"/>
                  <a:pt x="0" y="4"/>
                  <a:pt x="0" y="9"/>
                </a:cubicBezTo>
                <a:cubicBezTo>
                  <a:pt x="0" y="91"/>
                  <a:pt x="0" y="91"/>
                  <a:pt x="0" y="91"/>
                </a:cubicBezTo>
                <a:cubicBezTo>
                  <a:pt x="0" y="96"/>
                  <a:pt x="4" y="100"/>
                  <a:pt x="9" y="100"/>
                </a:cubicBezTo>
                <a:cubicBezTo>
                  <a:pt x="53" y="100"/>
                  <a:pt x="53" y="100"/>
                  <a:pt x="53" y="100"/>
                </a:cubicBezTo>
                <a:cubicBezTo>
                  <a:pt x="53" y="100"/>
                  <a:pt x="55" y="118"/>
                  <a:pt x="40" y="118"/>
                </a:cubicBezTo>
                <a:cubicBezTo>
                  <a:pt x="40" y="127"/>
                  <a:pt x="40" y="127"/>
                  <a:pt x="40" y="127"/>
                </a:cubicBezTo>
                <a:cubicBezTo>
                  <a:pt x="53" y="127"/>
                  <a:pt x="53" y="127"/>
                  <a:pt x="53" y="127"/>
                </a:cubicBezTo>
                <a:cubicBezTo>
                  <a:pt x="80" y="127"/>
                  <a:pt x="80" y="127"/>
                  <a:pt x="80" y="127"/>
                </a:cubicBezTo>
                <a:cubicBezTo>
                  <a:pt x="94" y="127"/>
                  <a:pt x="94" y="127"/>
                  <a:pt x="94" y="127"/>
                </a:cubicBezTo>
                <a:cubicBezTo>
                  <a:pt x="94" y="118"/>
                  <a:pt x="94" y="118"/>
                  <a:pt x="94" y="118"/>
                </a:cubicBezTo>
                <a:cubicBezTo>
                  <a:pt x="78" y="118"/>
                  <a:pt x="80" y="100"/>
                  <a:pt x="80" y="100"/>
                </a:cubicBezTo>
                <a:cubicBezTo>
                  <a:pt x="125" y="100"/>
                  <a:pt x="125" y="100"/>
                  <a:pt x="125" y="100"/>
                </a:cubicBezTo>
                <a:cubicBezTo>
                  <a:pt x="129" y="100"/>
                  <a:pt x="133" y="96"/>
                  <a:pt x="133" y="91"/>
                </a:cubicBezTo>
                <a:cubicBezTo>
                  <a:pt x="133" y="9"/>
                  <a:pt x="133" y="9"/>
                  <a:pt x="133" y="9"/>
                </a:cubicBezTo>
                <a:cubicBezTo>
                  <a:pt x="133" y="4"/>
                  <a:pt x="129" y="0"/>
                  <a:pt x="125" y="0"/>
                </a:cubicBezTo>
                <a:close/>
                <a:moveTo>
                  <a:pt x="60" y="89"/>
                </a:moveTo>
                <a:cubicBezTo>
                  <a:pt x="60" y="85"/>
                  <a:pt x="63" y="82"/>
                  <a:pt x="67" y="82"/>
                </a:cubicBezTo>
                <a:cubicBezTo>
                  <a:pt x="72" y="82"/>
                  <a:pt x="75" y="85"/>
                  <a:pt x="75" y="89"/>
                </a:cubicBezTo>
                <a:cubicBezTo>
                  <a:pt x="75" y="94"/>
                  <a:pt x="72" y="97"/>
                  <a:pt x="67" y="97"/>
                </a:cubicBezTo>
                <a:cubicBezTo>
                  <a:pt x="63" y="97"/>
                  <a:pt x="60" y="94"/>
                  <a:pt x="60" y="89"/>
                </a:cubicBezTo>
                <a:close/>
                <a:moveTo>
                  <a:pt x="124" y="79"/>
                </a:moveTo>
                <a:cubicBezTo>
                  <a:pt x="10" y="79"/>
                  <a:pt x="10" y="79"/>
                  <a:pt x="10" y="79"/>
                </a:cubicBezTo>
                <a:cubicBezTo>
                  <a:pt x="10" y="10"/>
                  <a:pt x="10" y="10"/>
                  <a:pt x="10" y="10"/>
                </a:cubicBezTo>
                <a:cubicBezTo>
                  <a:pt x="124" y="10"/>
                  <a:pt x="124" y="10"/>
                  <a:pt x="124" y="10"/>
                </a:cubicBezTo>
                <a:lnTo>
                  <a:pt x="124" y="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Freeform 110"/>
          <p:cNvSpPr/>
          <p:nvPr/>
        </p:nvSpPr>
        <p:spPr>
          <a:xfrm>
            <a:off x="7042320" y="4309920"/>
            <a:ext cx="102960" cy="103320"/>
          </a:xfrm>
          <a:custGeom>
            <a:avLst/>
            <a:gdLst/>
            <a:ahLst/>
            <a:rect l="l" t="t" r="r" b="b"/>
            <a:pathLst>
              <a:path w="41" h="41">
                <a:moveTo>
                  <a:pt x="0" y="39"/>
                </a:moveTo>
                <a:lnTo>
                  <a:pt x="3" y="41"/>
                </a:lnTo>
                <a:lnTo>
                  <a:pt x="41" y="3"/>
                </a:lnTo>
                <a:lnTo>
                  <a:pt x="39" y="0"/>
                </a:lnTo>
                <a:lnTo>
                  <a:pt x="0"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Freeform 111"/>
          <p:cNvSpPr/>
          <p:nvPr/>
        </p:nvSpPr>
        <p:spPr>
          <a:xfrm>
            <a:off x="7020000" y="4282920"/>
            <a:ext cx="109440" cy="114480"/>
          </a:xfrm>
          <a:custGeom>
            <a:avLst/>
            <a:gdLst/>
            <a:ahLst/>
            <a:rect l="l" t="t" r="r" b="b"/>
            <a:pathLst>
              <a:path w="44" h="46">
                <a:moveTo>
                  <a:pt x="37" y="0"/>
                </a:moveTo>
                <a:lnTo>
                  <a:pt x="0" y="39"/>
                </a:lnTo>
                <a:lnTo>
                  <a:pt x="6" y="46"/>
                </a:lnTo>
                <a:lnTo>
                  <a:pt x="44" y="8"/>
                </a:lnTo>
                <a:lnTo>
                  <a:pt x="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Freeform 112"/>
          <p:cNvSpPr/>
          <p:nvPr/>
        </p:nvSpPr>
        <p:spPr>
          <a:xfrm>
            <a:off x="7000920" y="4267080"/>
            <a:ext cx="104760" cy="106560"/>
          </a:xfrm>
          <a:custGeom>
            <a:avLst/>
            <a:gdLst/>
            <a:ahLst/>
            <a:rect l="l" t="t" r="r" b="b"/>
            <a:pathLst>
              <a:path w="42" h="42">
                <a:moveTo>
                  <a:pt x="0" y="38"/>
                </a:moveTo>
                <a:lnTo>
                  <a:pt x="4" y="42"/>
                </a:lnTo>
                <a:lnTo>
                  <a:pt x="42" y="4"/>
                </a:lnTo>
                <a:lnTo>
                  <a:pt x="38" y="0"/>
                </a:lnTo>
                <a:lnTo>
                  <a:pt x="0" y="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Freeform 113"/>
          <p:cNvSpPr/>
          <p:nvPr/>
        </p:nvSpPr>
        <p:spPr>
          <a:xfrm>
            <a:off x="6972480" y="4370400"/>
            <a:ext cx="69840" cy="69840"/>
          </a:xfrm>
          <a:custGeom>
            <a:avLst/>
            <a:gdLst/>
            <a:ahLst/>
            <a:rect l="l" t="t" r="r" b="b"/>
            <a:pathLst>
              <a:path w="28" h="28">
                <a:moveTo>
                  <a:pt x="28" y="20"/>
                </a:moveTo>
                <a:lnTo>
                  <a:pt x="8" y="0"/>
                </a:lnTo>
                <a:lnTo>
                  <a:pt x="0" y="20"/>
                </a:lnTo>
                <a:lnTo>
                  <a:pt x="9" y="28"/>
                </a:lnTo>
                <a:lnTo>
                  <a:pt x="28" y="20"/>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4" name="Freeform 114"/>
          <p:cNvSpPr/>
          <p:nvPr/>
        </p:nvSpPr>
        <p:spPr>
          <a:xfrm>
            <a:off x="6954840" y="4427640"/>
            <a:ext cx="34920" cy="33120"/>
          </a:xfrm>
          <a:custGeom>
            <a:avLst/>
            <a:gdLst/>
            <a:ahLst/>
            <a:rect l="l" t="t" r="r" b="b"/>
            <a:pathLst>
              <a:path w="14" h="13">
                <a:moveTo>
                  <a:pt x="0" y="13"/>
                </a:moveTo>
                <a:lnTo>
                  <a:pt x="14" y="6"/>
                </a:lnTo>
                <a:lnTo>
                  <a:pt x="6" y="0"/>
                </a:lnTo>
                <a:lnTo>
                  <a:pt x="0" y="13"/>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95" name="Freeform 115"/>
          <p:cNvSpPr/>
          <p:nvPr/>
        </p:nvSpPr>
        <p:spPr>
          <a:xfrm>
            <a:off x="7102440" y="4243320"/>
            <a:ext cx="69840" cy="69840"/>
          </a:xfrm>
          <a:custGeom>
            <a:avLst/>
            <a:gdLst/>
            <a:ahLst/>
            <a:rect l="l" t="t" r="r" b="b"/>
            <a:pathLst>
              <a:path w="28" h="28">
                <a:moveTo>
                  <a:pt x="7" y="0"/>
                </a:moveTo>
                <a:lnTo>
                  <a:pt x="0" y="8"/>
                </a:lnTo>
                <a:lnTo>
                  <a:pt x="20" y="28"/>
                </a:lnTo>
                <a:lnTo>
                  <a:pt x="28" y="20"/>
                </a:lnTo>
                <a:lnTo>
                  <a:pt x="7" y="0"/>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6" name="Freeform 116"/>
          <p:cNvSpPr/>
          <p:nvPr/>
        </p:nvSpPr>
        <p:spPr>
          <a:xfrm>
            <a:off x="6783480" y="4208400"/>
            <a:ext cx="279360" cy="339840"/>
          </a:xfrm>
          <a:custGeom>
            <a:avLst/>
            <a:gdLst/>
            <a:ahLst/>
            <a:rect l="l" t="t" r="r" b="b"/>
            <a:pathLst>
              <a:path w="112" h="136">
                <a:moveTo>
                  <a:pt x="104" y="101"/>
                </a:moveTo>
                <a:lnTo>
                  <a:pt x="83" y="101"/>
                </a:lnTo>
                <a:lnTo>
                  <a:pt x="83" y="129"/>
                </a:lnTo>
                <a:lnTo>
                  <a:pt x="7" y="129"/>
                </a:lnTo>
                <a:lnTo>
                  <a:pt x="7" y="32"/>
                </a:lnTo>
                <a:lnTo>
                  <a:pt x="104" y="32"/>
                </a:lnTo>
                <a:lnTo>
                  <a:pt x="104" y="40"/>
                </a:lnTo>
                <a:lnTo>
                  <a:pt x="112" y="32"/>
                </a:lnTo>
                <a:lnTo>
                  <a:pt x="112" y="6"/>
                </a:lnTo>
                <a:lnTo>
                  <a:pt x="97" y="6"/>
                </a:lnTo>
                <a:lnTo>
                  <a:pt x="97" y="20"/>
                </a:lnTo>
                <a:lnTo>
                  <a:pt x="95" y="20"/>
                </a:lnTo>
                <a:lnTo>
                  <a:pt x="95" y="0"/>
                </a:lnTo>
                <a:lnTo>
                  <a:pt x="89" y="0"/>
                </a:lnTo>
                <a:lnTo>
                  <a:pt x="89" y="20"/>
                </a:lnTo>
                <a:lnTo>
                  <a:pt x="87" y="20"/>
                </a:lnTo>
                <a:lnTo>
                  <a:pt x="87" y="6"/>
                </a:lnTo>
                <a:lnTo>
                  <a:pt x="79" y="6"/>
                </a:lnTo>
                <a:lnTo>
                  <a:pt x="79" y="20"/>
                </a:lnTo>
                <a:lnTo>
                  <a:pt x="76" y="20"/>
                </a:lnTo>
                <a:lnTo>
                  <a:pt x="76" y="0"/>
                </a:lnTo>
                <a:lnTo>
                  <a:pt x="72" y="0"/>
                </a:lnTo>
                <a:lnTo>
                  <a:pt x="72" y="20"/>
                </a:lnTo>
                <a:lnTo>
                  <a:pt x="68" y="20"/>
                </a:lnTo>
                <a:lnTo>
                  <a:pt x="68" y="6"/>
                </a:lnTo>
                <a:lnTo>
                  <a:pt x="60" y="6"/>
                </a:lnTo>
                <a:lnTo>
                  <a:pt x="60" y="20"/>
                </a:lnTo>
                <a:lnTo>
                  <a:pt x="57" y="20"/>
                </a:lnTo>
                <a:lnTo>
                  <a:pt x="57" y="0"/>
                </a:lnTo>
                <a:lnTo>
                  <a:pt x="53" y="0"/>
                </a:lnTo>
                <a:lnTo>
                  <a:pt x="53" y="20"/>
                </a:lnTo>
                <a:lnTo>
                  <a:pt x="51" y="20"/>
                </a:lnTo>
                <a:lnTo>
                  <a:pt x="51" y="6"/>
                </a:lnTo>
                <a:lnTo>
                  <a:pt x="43" y="6"/>
                </a:lnTo>
                <a:lnTo>
                  <a:pt x="43" y="20"/>
                </a:lnTo>
                <a:lnTo>
                  <a:pt x="40" y="20"/>
                </a:lnTo>
                <a:lnTo>
                  <a:pt x="40" y="0"/>
                </a:lnTo>
                <a:lnTo>
                  <a:pt x="35" y="0"/>
                </a:lnTo>
                <a:lnTo>
                  <a:pt x="35" y="20"/>
                </a:lnTo>
                <a:lnTo>
                  <a:pt x="32" y="20"/>
                </a:lnTo>
                <a:lnTo>
                  <a:pt x="32" y="6"/>
                </a:lnTo>
                <a:lnTo>
                  <a:pt x="25" y="6"/>
                </a:lnTo>
                <a:lnTo>
                  <a:pt x="25" y="20"/>
                </a:lnTo>
                <a:lnTo>
                  <a:pt x="23" y="20"/>
                </a:lnTo>
                <a:lnTo>
                  <a:pt x="23" y="0"/>
                </a:lnTo>
                <a:lnTo>
                  <a:pt x="17" y="0"/>
                </a:lnTo>
                <a:lnTo>
                  <a:pt x="17" y="20"/>
                </a:lnTo>
                <a:lnTo>
                  <a:pt x="15" y="20"/>
                </a:lnTo>
                <a:lnTo>
                  <a:pt x="15" y="6"/>
                </a:lnTo>
                <a:lnTo>
                  <a:pt x="0" y="6"/>
                </a:lnTo>
                <a:lnTo>
                  <a:pt x="0" y="24"/>
                </a:lnTo>
                <a:lnTo>
                  <a:pt x="0" y="28"/>
                </a:lnTo>
                <a:lnTo>
                  <a:pt x="0" y="136"/>
                </a:lnTo>
                <a:lnTo>
                  <a:pt x="89" y="136"/>
                </a:lnTo>
                <a:lnTo>
                  <a:pt x="112" y="110"/>
                </a:lnTo>
                <a:lnTo>
                  <a:pt x="112" y="84"/>
                </a:lnTo>
                <a:lnTo>
                  <a:pt x="104" y="92"/>
                </a:lnTo>
                <a:lnTo>
                  <a:pt x="104" y="10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Rectangle 117"/>
          <p:cNvSpPr/>
          <p:nvPr/>
        </p:nvSpPr>
        <p:spPr>
          <a:xfrm>
            <a:off x="6832440" y="4322880"/>
            <a:ext cx="109800" cy="17280"/>
          </a:xfrm>
          <a:prstGeom prst="rect">
            <a:avLst/>
          </a:prstGeom>
          <a:solidFill>
            <a:srgbClr val="ffffff"/>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118"/>
          <p:cNvSpPr/>
          <p:nvPr/>
        </p:nvSpPr>
        <p:spPr>
          <a:xfrm>
            <a:off x="6832440" y="4362480"/>
            <a:ext cx="109800" cy="17280"/>
          </a:xfrm>
          <a:prstGeom prst="rect">
            <a:avLst/>
          </a:prstGeom>
          <a:solidFill>
            <a:srgbClr val="ffffff"/>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119"/>
          <p:cNvSpPr/>
          <p:nvPr/>
        </p:nvSpPr>
        <p:spPr>
          <a:xfrm>
            <a:off x="6832440" y="4408560"/>
            <a:ext cx="109800" cy="14040"/>
          </a:xfrm>
          <a:prstGeom prst="rect">
            <a:avLst/>
          </a:pr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120"/>
          <p:cNvSpPr/>
          <p:nvPr/>
        </p:nvSpPr>
        <p:spPr>
          <a:xfrm>
            <a:off x="6832440" y="4449600"/>
            <a:ext cx="109800" cy="17640"/>
          </a:xfrm>
          <a:prstGeom prst="rect">
            <a:avLst/>
          </a:prstGeom>
          <a:solidFill>
            <a:srgbClr val="ffffff"/>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126"/>
          <p:cNvSpPr/>
          <p:nvPr/>
        </p:nvSpPr>
        <p:spPr>
          <a:xfrm>
            <a:off x="7018200" y="2484360"/>
            <a:ext cx="204840" cy="328680"/>
          </a:xfrm>
          <a:custGeom>
            <a:avLst/>
            <a:gdLst/>
            <a:ahLst/>
            <a:rect l="l" t="t" r="r" b="b"/>
            <a:pathLst>
              <a:path w="82" h="132">
                <a:moveTo>
                  <a:pt x="0" y="34"/>
                </a:moveTo>
                <a:lnTo>
                  <a:pt x="0" y="132"/>
                </a:lnTo>
                <a:lnTo>
                  <a:pt x="82" y="99"/>
                </a:lnTo>
                <a:lnTo>
                  <a:pt x="82" y="0"/>
                </a:lnTo>
                <a:lnTo>
                  <a:pt x="0" y="34"/>
                </a:lnTo>
                <a:close/>
                <a:moveTo>
                  <a:pt x="76" y="10"/>
                </a:moveTo>
                <a:lnTo>
                  <a:pt x="76" y="94"/>
                </a:lnTo>
                <a:lnTo>
                  <a:pt x="5" y="66"/>
                </a:lnTo>
                <a:lnTo>
                  <a:pt x="5" y="38"/>
                </a:lnTo>
                <a:lnTo>
                  <a:pt x="76" y="10"/>
                </a:lnTo>
                <a:close/>
                <a:moveTo>
                  <a:pt x="5" y="70"/>
                </a:moveTo>
                <a:lnTo>
                  <a:pt x="73" y="96"/>
                </a:lnTo>
                <a:lnTo>
                  <a:pt x="5" y="124"/>
                </a:lnTo>
                <a:lnTo>
                  <a:pt x="5"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Freeform 127"/>
          <p:cNvSpPr/>
          <p:nvPr/>
        </p:nvSpPr>
        <p:spPr>
          <a:xfrm>
            <a:off x="6791400" y="2484360"/>
            <a:ext cx="203040" cy="328680"/>
          </a:xfrm>
          <a:custGeom>
            <a:avLst/>
            <a:gdLst/>
            <a:ahLst/>
            <a:rect l="l" t="t" r="r" b="b"/>
            <a:pathLst>
              <a:path w="81" h="132">
                <a:moveTo>
                  <a:pt x="0" y="99"/>
                </a:moveTo>
                <a:lnTo>
                  <a:pt x="81" y="132"/>
                </a:lnTo>
                <a:lnTo>
                  <a:pt x="81" y="34"/>
                </a:lnTo>
                <a:lnTo>
                  <a:pt x="0" y="0"/>
                </a:lnTo>
                <a:lnTo>
                  <a:pt x="0" y="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Freeform 128"/>
          <p:cNvSpPr/>
          <p:nvPr/>
        </p:nvSpPr>
        <p:spPr>
          <a:xfrm>
            <a:off x="6804000" y="2384280"/>
            <a:ext cx="414360" cy="163800"/>
          </a:xfrm>
          <a:custGeom>
            <a:avLst/>
            <a:gdLst/>
            <a:ahLst/>
            <a:rect l="l" t="t" r="r" b="b"/>
            <a:pathLst>
              <a:path w="166" h="66">
                <a:moveTo>
                  <a:pt x="82" y="0"/>
                </a:moveTo>
                <a:lnTo>
                  <a:pt x="0" y="32"/>
                </a:lnTo>
                <a:lnTo>
                  <a:pt x="80" y="66"/>
                </a:lnTo>
                <a:lnTo>
                  <a:pt x="166" y="32"/>
                </a:lnTo>
                <a:lnTo>
                  <a:pt x="82" y="0"/>
                </a:lnTo>
                <a:close/>
                <a:moveTo>
                  <a:pt x="82" y="6"/>
                </a:moveTo>
                <a:lnTo>
                  <a:pt x="151" y="32"/>
                </a:lnTo>
                <a:lnTo>
                  <a:pt x="82" y="59"/>
                </a:lnTo>
                <a:lnTo>
                  <a:pt x="82" y="6"/>
                </a:lnTo>
                <a:close/>
                <a:moveTo>
                  <a:pt x="78" y="7"/>
                </a:moveTo>
                <a:lnTo>
                  <a:pt x="78" y="59"/>
                </a:lnTo>
                <a:lnTo>
                  <a:pt x="15" y="32"/>
                </a:lnTo>
                <a:lnTo>
                  <a:pt x="78"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TextBox 13"/>
          <p:cNvSpPr/>
          <p:nvPr/>
        </p:nvSpPr>
        <p:spPr>
          <a:xfrm>
            <a:off x="1755720" y="2006640"/>
            <a:ext cx="2097000" cy="305280"/>
          </a:xfrm>
          <a:prstGeom prst="rect">
            <a:avLst/>
          </a:prstGeom>
          <a:noFill/>
          <a:ln w="0">
            <a:noFill/>
          </a:ln>
        </p:spPr>
        <p:style>
          <a:lnRef idx="0"/>
          <a:fillRef idx="0"/>
          <a:effectRef idx="0"/>
          <a:fontRef idx="minor"/>
        </p:style>
        <p:txBody>
          <a:bodyPr lIns="0" rIns="0" tIns="0" bIns="0" anchor="t">
            <a:spAutoFit/>
          </a:bodyPr>
          <a:p>
            <a:pPr algn="r">
              <a:spcBef>
                <a:spcPts val="499"/>
              </a:spcBef>
              <a:tabLst>
                <a:tab algn="l" pos="0"/>
                <a:tab algn="l" pos="1216080"/>
                <a:tab algn="l" pos="2432160"/>
                <a:tab algn="l" pos="3648240"/>
                <a:tab algn="l" pos="4863960"/>
                <a:tab algn="l" pos="6080040"/>
                <a:tab algn="l" pos="7296120"/>
                <a:tab algn="l" pos="8512200"/>
                <a:tab algn="l" pos="9728280"/>
                <a:tab algn="l" pos="10944360"/>
              </a:tabLst>
            </a:pPr>
            <a:r>
              <a:rPr b="1" lang="zh-CN" sz="2000" spc="-1" strike="noStrike">
                <a:solidFill>
                  <a:srgbClr val="445469"/>
                </a:solidFill>
                <a:latin typeface="Arial"/>
                <a:ea typeface="微软雅黑"/>
              </a:rPr>
              <a:t>竞争力</a:t>
            </a:r>
            <a:endParaRPr b="0" lang="en-US" sz="2000" spc="-1" strike="noStrike">
              <a:solidFill>
                <a:srgbClr val="000000"/>
              </a:solidFill>
              <a:latin typeface="Arial"/>
            </a:endParaRPr>
          </a:p>
        </p:txBody>
      </p:sp>
      <p:sp>
        <p:nvSpPr>
          <p:cNvPr id="505" name="TextBox 13"/>
          <p:cNvSpPr/>
          <p:nvPr/>
        </p:nvSpPr>
        <p:spPr>
          <a:xfrm>
            <a:off x="1519200" y="2392200"/>
            <a:ext cx="2333520" cy="182880"/>
          </a:xfrm>
          <a:prstGeom prst="rect">
            <a:avLst/>
          </a:prstGeom>
          <a:noFill/>
          <a:ln w="0">
            <a:noFill/>
          </a:ln>
        </p:spPr>
        <p:style>
          <a:lnRef idx="0"/>
          <a:fillRef idx="0"/>
          <a:effectRef idx="0"/>
          <a:fontRef idx="minor"/>
        </p:style>
        <p:txBody>
          <a:bodyPr lIns="0" rIns="0" tIns="0" bIns="0" anchor="t">
            <a:spAutoFit/>
          </a:bodyPr>
          <a:p>
            <a:pPr algn="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445469"/>
                </a:solidFill>
                <a:latin typeface="Arial"/>
                <a:ea typeface="微软雅黑"/>
              </a:rPr>
              <a:t>单击此处可编辑内容，根据您的需要自由拉伸文本框大小</a:t>
            </a:r>
            <a:endParaRPr b="0" lang="en-US" sz="1200" spc="-1" strike="noStrike">
              <a:solidFill>
                <a:srgbClr val="000000"/>
              </a:solidFill>
              <a:latin typeface="Arial"/>
            </a:endParaRPr>
          </a:p>
        </p:txBody>
      </p:sp>
      <p:sp>
        <p:nvSpPr>
          <p:cNvPr id="506" name="TextBox 13"/>
          <p:cNvSpPr/>
          <p:nvPr/>
        </p:nvSpPr>
        <p:spPr>
          <a:xfrm>
            <a:off x="8352000" y="2394000"/>
            <a:ext cx="2333520" cy="18288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445469"/>
                </a:solidFill>
                <a:latin typeface="Arial"/>
                <a:ea typeface="微软雅黑"/>
              </a:rPr>
              <a:t>单击此处可编辑内容，根据您的需要自由拉伸文本框大小</a:t>
            </a:r>
            <a:endParaRPr b="0" lang="en-US" sz="1200" spc="-1" strike="noStrike">
              <a:solidFill>
                <a:srgbClr val="000000"/>
              </a:solidFill>
              <a:latin typeface="Arial"/>
            </a:endParaRPr>
          </a:p>
        </p:txBody>
      </p:sp>
      <p:sp>
        <p:nvSpPr>
          <p:cNvPr id="507" name="TextBox 13"/>
          <p:cNvSpPr/>
          <p:nvPr/>
        </p:nvSpPr>
        <p:spPr>
          <a:xfrm>
            <a:off x="1519200" y="4602240"/>
            <a:ext cx="2333520" cy="182880"/>
          </a:xfrm>
          <a:prstGeom prst="rect">
            <a:avLst/>
          </a:prstGeom>
          <a:noFill/>
          <a:ln w="0">
            <a:noFill/>
          </a:ln>
        </p:spPr>
        <p:style>
          <a:lnRef idx="0"/>
          <a:fillRef idx="0"/>
          <a:effectRef idx="0"/>
          <a:fontRef idx="minor"/>
        </p:style>
        <p:txBody>
          <a:bodyPr lIns="0" rIns="0" tIns="0" bIns="0" anchor="t">
            <a:spAutoFit/>
          </a:bodyPr>
          <a:p>
            <a:pPr algn="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445469"/>
                </a:solidFill>
                <a:latin typeface="Arial"/>
                <a:ea typeface="微软雅黑"/>
              </a:rPr>
              <a:t>单击此处可编辑内容，根据您的需要自由拉伸文本框大小</a:t>
            </a:r>
            <a:endParaRPr b="0" lang="en-US" sz="1200" spc="-1" strike="noStrike">
              <a:solidFill>
                <a:srgbClr val="000000"/>
              </a:solidFill>
              <a:latin typeface="Arial"/>
            </a:endParaRPr>
          </a:p>
        </p:txBody>
      </p:sp>
      <p:sp>
        <p:nvSpPr>
          <p:cNvPr id="508" name="TextBox 13"/>
          <p:cNvSpPr/>
          <p:nvPr/>
        </p:nvSpPr>
        <p:spPr>
          <a:xfrm>
            <a:off x="8352000" y="4603680"/>
            <a:ext cx="2333520" cy="18288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445469"/>
                </a:solidFill>
                <a:latin typeface="Arial"/>
                <a:ea typeface="微软雅黑"/>
              </a:rPr>
              <a:t>单击此处可编辑内容，根据您的需要自由拉伸文本框大小</a:t>
            </a:r>
            <a:endParaRPr b="0" lang="en-US" sz="1200" spc="-1" strike="noStrike">
              <a:solidFill>
                <a:srgbClr val="000000"/>
              </a:solidFill>
              <a:latin typeface="Arial"/>
            </a:endParaRPr>
          </a:p>
        </p:txBody>
      </p:sp>
      <p:sp>
        <p:nvSpPr>
          <p:cNvPr id="509" name="TextBox 13"/>
          <p:cNvSpPr/>
          <p:nvPr/>
        </p:nvSpPr>
        <p:spPr>
          <a:xfrm>
            <a:off x="1755720" y="4243320"/>
            <a:ext cx="2097000" cy="305280"/>
          </a:xfrm>
          <a:prstGeom prst="rect">
            <a:avLst/>
          </a:prstGeom>
          <a:noFill/>
          <a:ln w="0">
            <a:noFill/>
          </a:ln>
        </p:spPr>
        <p:style>
          <a:lnRef idx="0"/>
          <a:fillRef idx="0"/>
          <a:effectRef idx="0"/>
          <a:fontRef idx="minor"/>
        </p:style>
        <p:txBody>
          <a:bodyPr lIns="0" rIns="0" tIns="0" bIns="0" anchor="t">
            <a:spAutoFit/>
          </a:bodyPr>
          <a:p>
            <a:pPr algn="r">
              <a:spcBef>
                <a:spcPts val="499"/>
              </a:spcBef>
              <a:tabLst>
                <a:tab algn="l" pos="0"/>
                <a:tab algn="l" pos="1216080"/>
                <a:tab algn="l" pos="2432160"/>
                <a:tab algn="l" pos="3648240"/>
                <a:tab algn="l" pos="4863960"/>
                <a:tab algn="l" pos="6080040"/>
                <a:tab algn="l" pos="7296120"/>
                <a:tab algn="l" pos="8512200"/>
                <a:tab algn="l" pos="9728280"/>
                <a:tab algn="l" pos="10944360"/>
              </a:tabLst>
            </a:pPr>
            <a:r>
              <a:rPr b="1" lang="zh-CN" sz="2000" spc="-1" strike="noStrike">
                <a:solidFill>
                  <a:srgbClr val="445469"/>
                </a:solidFill>
                <a:latin typeface="Arial"/>
                <a:ea typeface="微软雅黑"/>
              </a:rPr>
              <a:t>竞争力</a:t>
            </a:r>
            <a:endParaRPr b="0" lang="en-US" sz="2000" spc="-1" strike="noStrike">
              <a:solidFill>
                <a:srgbClr val="000000"/>
              </a:solidFill>
              <a:latin typeface="Arial"/>
            </a:endParaRPr>
          </a:p>
        </p:txBody>
      </p:sp>
      <p:sp>
        <p:nvSpPr>
          <p:cNvPr id="510" name="TextBox 13"/>
          <p:cNvSpPr/>
          <p:nvPr/>
        </p:nvSpPr>
        <p:spPr>
          <a:xfrm>
            <a:off x="8367840" y="2006640"/>
            <a:ext cx="2097000" cy="30528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1216080"/>
                <a:tab algn="l" pos="2432160"/>
                <a:tab algn="l" pos="3648240"/>
                <a:tab algn="l" pos="4863960"/>
                <a:tab algn="l" pos="6080040"/>
                <a:tab algn="l" pos="7296120"/>
                <a:tab algn="l" pos="8512200"/>
                <a:tab algn="l" pos="9728280"/>
                <a:tab algn="l" pos="10944360"/>
              </a:tabLst>
            </a:pPr>
            <a:r>
              <a:rPr b="1" lang="zh-CN" sz="2000" spc="-1" strike="noStrike">
                <a:solidFill>
                  <a:srgbClr val="445469"/>
                </a:solidFill>
                <a:latin typeface="Arial"/>
                <a:ea typeface="微软雅黑"/>
              </a:rPr>
              <a:t>竞争力</a:t>
            </a:r>
            <a:endParaRPr b="0" lang="en-US" sz="2000" spc="-1" strike="noStrike">
              <a:solidFill>
                <a:srgbClr val="000000"/>
              </a:solidFill>
              <a:latin typeface="Arial"/>
            </a:endParaRPr>
          </a:p>
        </p:txBody>
      </p:sp>
      <p:sp>
        <p:nvSpPr>
          <p:cNvPr id="511" name="TextBox 13"/>
          <p:cNvSpPr/>
          <p:nvPr/>
        </p:nvSpPr>
        <p:spPr>
          <a:xfrm>
            <a:off x="8367840" y="4243320"/>
            <a:ext cx="2097000" cy="30528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1216080"/>
                <a:tab algn="l" pos="2432160"/>
                <a:tab algn="l" pos="3648240"/>
                <a:tab algn="l" pos="4863960"/>
                <a:tab algn="l" pos="6080040"/>
                <a:tab algn="l" pos="7296120"/>
                <a:tab algn="l" pos="8512200"/>
                <a:tab algn="l" pos="9728280"/>
                <a:tab algn="l" pos="10944360"/>
              </a:tabLst>
            </a:pPr>
            <a:r>
              <a:rPr b="1" lang="zh-CN" sz="2000" spc="-1" strike="noStrike">
                <a:solidFill>
                  <a:srgbClr val="445469"/>
                </a:solidFill>
                <a:latin typeface="Arial"/>
                <a:ea typeface="微软雅黑"/>
              </a:rPr>
              <a:t>竞争力</a:t>
            </a:r>
            <a:endParaRPr b="0" lang="en-US" sz="2000" spc="-1" strike="noStrike">
              <a:solidFill>
                <a:srgbClr val="000000"/>
              </a:solidFill>
              <a:latin typeface="Arial"/>
            </a:endParaRPr>
          </a:p>
        </p:txBody>
      </p:sp>
      <p:sp>
        <p:nvSpPr>
          <p:cNvPr id="512" name="文本框 31"/>
          <p:cNvSpPr/>
          <p:nvPr/>
        </p:nvSpPr>
        <p:spPr>
          <a:xfrm>
            <a:off x="711360" y="295200"/>
            <a:ext cx="300960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产品核心竞争力</a:t>
            </a:r>
            <a:endParaRPr b="0" lang="en-US" sz="2500" spc="-1" strike="noStrike">
              <a:solidFill>
                <a:srgbClr val="000000"/>
              </a:solidFill>
              <a:latin typeface="Arial"/>
            </a:endParaRPr>
          </a:p>
        </p:txBody>
      </p:sp>
      <p:sp>
        <p:nvSpPr>
          <p:cNvPr id="513" name="椭圆 33"/>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514" name="Connector 749"/>
          <p:cNvCxnSpPr>
            <a:stCxn id="515" idx="4"/>
            <a:endCxn id="516" idx="4"/>
          </p:cNvCxnSpPr>
          <p:nvPr/>
        </p:nvCxnSpPr>
        <p:spPr>
          <a:xfrm>
            <a:off x="2936880" y="2476440"/>
            <a:ext cx="3280320" cy="1178640"/>
          </a:xfrm>
          <a:prstGeom prst="straightConnector1">
            <a:avLst/>
          </a:prstGeom>
          <a:ln cap="sq" w="12600">
            <a:solidFill>
              <a:srgbClr val="adbaca"/>
            </a:solidFill>
            <a:miter/>
          </a:ln>
        </p:spPr>
      </p:cxnSp>
      <p:cxnSp>
        <p:nvCxnSpPr>
          <p:cNvPr id="517" name="Connector 750"/>
          <p:cNvCxnSpPr>
            <a:stCxn id="518" idx="4"/>
            <a:endCxn id="516" idx="5"/>
          </p:cNvCxnSpPr>
          <p:nvPr/>
        </p:nvCxnSpPr>
        <p:spPr>
          <a:xfrm>
            <a:off x="5099040" y="2593800"/>
            <a:ext cx="1117800" cy="1061280"/>
          </a:xfrm>
          <a:prstGeom prst="straightConnector1">
            <a:avLst/>
          </a:prstGeom>
          <a:ln cap="sq" w="12600">
            <a:solidFill>
              <a:srgbClr val="adbaca"/>
            </a:solidFill>
            <a:miter/>
          </a:ln>
        </p:spPr>
      </p:cxnSp>
      <p:cxnSp>
        <p:nvCxnSpPr>
          <p:cNvPr id="519" name="Connector 751"/>
          <p:cNvCxnSpPr>
            <a:stCxn id="520" idx="4"/>
            <a:endCxn id="516" idx="6"/>
          </p:cNvCxnSpPr>
          <p:nvPr/>
        </p:nvCxnSpPr>
        <p:spPr>
          <a:xfrm>
            <a:off x="6216120" y="2314440"/>
            <a:ext cx="1080" cy="1340640"/>
          </a:xfrm>
          <a:prstGeom prst="straightConnector1">
            <a:avLst/>
          </a:prstGeom>
          <a:ln cap="sq" w="12600">
            <a:solidFill>
              <a:srgbClr val="adbaca"/>
            </a:solidFill>
            <a:miter/>
          </a:ln>
        </p:spPr>
      </p:cxnSp>
      <p:cxnSp>
        <p:nvCxnSpPr>
          <p:cNvPr id="521" name="Connector 752"/>
          <p:cNvCxnSpPr>
            <a:stCxn id="522" idx="4"/>
            <a:endCxn id="516" idx="7"/>
          </p:cNvCxnSpPr>
          <p:nvPr/>
        </p:nvCxnSpPr>
        <p:spPr>
          <a:xfrm flipH="1">
            <a:off x="6216120" y="2724120"/>
            <a:ext cx="1426320" cy="930960"/>
          </a:xfrm>
          <a:prstGeom prst="straightConnector1">
            <a:avLst/>
          </a:prstGeom>
          <a:ln cap="sq" w="12600">
            <a:solidFill>
              <a:srgbClr val="adbaca"/>
            </a:solidFill>
            <a:miter/>
          </a:ln>
        </p:spPr>
      </p:cxnSp>
      <p:cxnSp>
        <p:nvCxnSpPr>
          <p:cNvPr id="523" name="Connector 753"/>
          <p:cNvCxnSpPr>
            <a:stCxn id="516" idx="8"/>
            <a:endCxn id="524" idx="4"/>
          </p:cNvCxnSpPr>
          <p:nvPr/>
        </p:nvCxnSpPr>
        <p:spPr>
          <a:xfrm>
            <a:off x="6216120" y="3654360"/>
            <a:ext cx="2397960" cy="200880"/>
          </a:xfrm>
          <a:prstGeom prst="straightConnector1">
            <a:avLst/>
          </a:prstGeom>
          <a:ln cap="sq" w="12600">
            <a:solidFill>
              <a:srgbClr val="adbaca"/>
            </a:solidFill>
            <a:miter/>
          </a:ln>
        </p:spPr>
      </p:cxnSp>
      <p:cxnSp>
        <p:nvCxnSpPr>
          <p:cNvPr id="525" name="Connector 754"/>
          <p:cNvCxnSpPr>
            <a:stCxn id="526" idx="4"/>
            <a:endCxn id="516" idx="9"/>
          </p:cNvCxnSpPr>
          <p:nvPr/>
        </p:nvCxnSpPr>
        <p:spPr>
          <a:xfrm flipH="1">
            <a:off x="6215760" y="2873160"/>
            <a:ext cx="2839320" cy="781560"/>
          </a:xfrm>
          <a:prstGeom prst="straightConnector1">
            <a:avLst/>
          </a:prstGeom>
          <a:ln cap="sq" w="12600">
            <a:solidFill>
              <a:srgbClr val="adbaca"/>
            </a:solidFill>
            <a:miter/>
          </a:ln>
        </p:spPr>
      </p:cxnSp>
      <p:cxnSp>
        <p:nvCxnSpPr>
          <p:cNvPr id="527" name="Connector 755"/>
          <p:cNvCxnSpPr>
            <a:stCxn id="516" idx="10"/>
            <a:endCxn id="528" idx="4"/>
          </p:cNvCxnSpPr>
          <p:nvPr/>
        </p:nvCxnSpPr>
        <p:spPr>
          <a:xfrm>
            <a:off x="6216120" y="3654000"/>
            <a:ext cx="3560040" cy="639000"/>
          </a:xfrm>
          <a:prstGeom prst="straightConnector1">
            <a:avLst/>
          </a:prstGeom>
          <a:ln cap="sq" w="12600">
            <a:solidFill>
              <a:srgbClr val="adbaca"/>
            </a:solidFill>
            <a:miter/>
          </a:ln>
        </p:spPr>
      </p:cxnSp>
      <p:cxnSp>
        <p:nvCxnSpPr>
          <p:cNvPr id="529" name="Connector 756"/>
          <p:cNvCxnSpPr>
            <a:stCxn id="516" idx="11"/>
            <a:endCxn id="530" idx="4"/>
          </p:cNvCxnSpPr>
          <p:nvPr/>
        </p:nvCxnSpPr>
        <p:spPr>
          <a:xfrm>
            <a:off x="6216120" y="3654360"/>
            <a:ext cx="1143720" cy="1131120"/>
          </a:xfrm>
          <a:prstGeom prst="straightConnector1">
            <a:avLst/>
          </a:prstGeom>
          <a:ln cap="sq" w="12600">
            <a:solidFill>
              <a:srgbClr val="adbaca"/>
            </a:solidFill>
            <a:miter/>
          </a:ln>
        </p:spPr>
      </p:cxnSp>
      <p:cxnSp>
        <p:nvCxnSpPr>
          <p:cNvPr id="531" name="Connector 757"/>
          <p:cNvCxnSpPr>
            <a:stCxn id="516" idx="12"/>
            <a:endCxn id="532" idx="4"/>
          </p:cNvCxnSpPr>
          <p:nvPr/>
        </p:nvCxnSpPr>
        <p:spPr>
          <a:xfrm flipH="1">
            <a:off x="6215760" y="3654360"/>
            <a:ext cx="1080" cy="1518480"/>
          </a:xfrm>
          <a:prstGeom prst="straightConnector1">
            <a:avLst/>
          </a:prstGeom>
          <a:ln cap="sq" w="12600">
            <a:solidFill>
              <a:srgbClr val="adbaca"/>
            </a:solidFill>
            <a:miter/>
          </a:ln>
        </p:spPr>
      </p:cxnSp>
      <p:cxnSp>
        <p:nvCxnSpPr>
          <p:cNvPr id="533" name="Connector 758"/>
          <p:cNvCxnSpPr>
            <a:stCxn id="516" idx="13"/>
            <a:endCxn id="534" idx="4"/>
          </p:cNvCxnSpPr>
          <p:nvPr/>
        </p:nvCxnSpPr>
        <p:spPr>
          <a:xfrm flipH="1">
            <a:off x="4809240" y="3654360"/>
            <a:ext cx="1407240" cy="1000800"/>
          </a:xfrm>
          <a:prstGeom prst="straightConnector1">
            <a:avLst/>
          </a:prstGeom>
          <a:ln cap="sq" w="12600">
            <a:solidFill>
              <a:srgbClr val="adbaca"/>
            </a:solidFill>
            <a:miter/>
          </a:ln>
        </p:spPr>
      </p:cxnSp>
      <p:cxnSp>
        <p:nvCxnSpPr>
          <p:cNvPr id="535" name="Connector 759"/>
          <p:cNvCxnSpPr>
            <a:stCxn id="516" idx="14"/>
            <a:endCxn id="536" idx="4"/>
          </p:cNvCxnSpPr>
          <p:nvPr/>
        </p:nvCxnSpPr>
        <p:spPr>
          <a:xfrm flipH="1">
            <a:off x="3333240" y="3654000"/>
            <a:ext cx="2883600" cy="724680"/>
          </a:xfrm>
          <a:prstGeom prst="straightConnector1">
            <a:avLst/>
          </a:prstGeom>
          <a:ln cap="sq" w="12600">
            <a:solidFill>
              <a:srgbClr val="adbaca"/>
            </a:solidFill>
            <a:miter/>
          </a:ln>
        </p:spPr>
      </p:cxnSp>
      <p:cxnSp>
        <p:nvCxnSpPr>
          <p:cNvPr id="537" name="Connector 760"/>
          <p:cNvCxnSpPr>
            <a:stCxn id="538" idx="4"/>
            <a:endCxn id="516" idx="15"/>
          </p:cNvCxnSpPr>
          <p:nvPr/>
        </p:nvCxnSpPr>
        <p:spPr>
          <a:xfrm>
            <a:off x="3819600" y="3359160"/>
            <a:ext cx="2397600" cy="295560"/>
          </a:xfrm>
          <a:prstGeom prst="straightConnector1">
            <a:avLst/>
          </a:prstGeom>
          <a:ln cap="sq" w="12600">
            <a:solidFill>
              <a:srgbClr val="adbaca"/>
            </a:solidFill>
            <a:miter/>
          </a:ln>
        </p:spPr>
      </p:cxnSp>
      <p:sp>
        <p:nvSpPr>
          <p:cNvPr id="516" name="Shape 761"/>
          <p:cNvSpPr/>
          <p:nvPr/>
        </p:nvSpPr>
        <p:spPr>
          <a:xfrm>
            <a:off x="5505480" y="2943360"/>
            <a:ext cx="1422360" cy="142236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f44168"/>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8" name="Shape 762"/>
          <p:cNvSpPr/>
          <p:nvPr/>
        </p:nvSpPr>
        <p:spPr>
          <a:xfrm>
            <a:off x="3378240" y="2917800"/>
            <a:ext cx="882720" cy="8827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1d087d"/>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4" name="Shape 763"/>
          <p:cNvSpPr/>
          <p:nvPr/>
        </p:nvSpPr>
        <p:spPr>
          <a:xfrm>
            <a:off x="4121280" y="3965400"/>
            <a:ext cx="1377720" cy="13780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f44168"/>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18" name="Shape 764"/>
          <p:cNvSpPr/>
          <p:nvPr/>
        </p:nvSpPr>
        <p:spPr>
          <a:xfrm>
            <a:off x="4540320" y="2035080"/>
            <a:ext cx="1117440" cy="111780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f44168"/>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22" name="Shape 765"/>
          <p:cNvSpPr/>
          <p:nvPr/>
        </p:nvSpPr>
        <p:spPr>
          <a:xfrm>
            <a:off x="6953400" y="2035080"/>
            <a:ext cx="1377720" cy="13780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f44168"/>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0" name="Shape 766"/>
          <p:cNvSpPr/>
          <p:nvPr/>
        </p:nvSpPr>
        <p:spPr>
          <a:xfrm>
            <a:off x="6800760" y="4226040"/>
            <a:ext cx="1117800" cy="111744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f44168"/>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24" name="Shape 767"/>
          <p:cNvSpPr/>
          <p:nvPr/>
        </p:nvSpPr>
        <p:spPr>
          <a:xfrm>
            <a:off x="8172360" y="3413160"/>
            <a:ext cx="882720" cy="8827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1d087d"/>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26" name="Shape 768"/>
          <p:cNvSpPr/>
          <p:nvPr/>
        </p:nvSpPr>
        <p:spPr>
          <a:xfrm>
            <a:off x="8775720" y="2593800"/>
            <a:ext cx="558720" cy="5590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1d087d"/>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28" name="Shape 769"/>
          <p:cNvSpPr/>
          <p:nvPr/>
        </p:nvSpPr>
        <p:spPr>
          <a:xfrm>
            <a:off x="9334440" y="3851280"/>
            <a:ext cx="882720" cy="8827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1d087d"/>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15" name="Shape 770"/>
          <p:cNvSpPr/>
          <p:nvPr/>
        </p:nvSpPr>
        <p:spPr>
          <a:xfrm>
            <a:off x="2495520" y="2035080"/>
            <a:ext cx="882720" cy="8827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1d087d"/>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6" name="Shape 771"/>
          <p:cNvSpPr/>
          <p:nvPr/>
        </p:nvSpPr>
        <p:spPr>
          <a:xfrm>
            <a:off x="3054240" y="4098960"/>
            <a:ext cx="559080" cy="5587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1d087d"/>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2" name="Shape 772"/>
          <p:cNvSpPr/>
          <p:nvPr/>
        </p:nvSpPr>
        <p:spPr>
          <a:xfrm>
            <a:off x="5937120" y="4892760"/>
            <a:ext cx="559080" cy="5587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1d087d"/>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20" name="Shape 773"/>
          <p:cNvSpPr/>
          <p:nvPr/>
        </p:nvSpPr>
        <p:spPr>
          <a:xfrm>
            <a:off x="5937120" y="2035080"/>
            <a:ext cx="559080" cy="5587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1d087d"/>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9" name="Shape 775"/>
          <p:cNvSpPr/>
          <p:nvPr/>
        </p:nvSpPr>
        <p:spPr>
          <a:xfrm>
            <a:off x="4627440" y="2416320"/>
            <a:ext cx="9525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1" lang="zh-CN" sz="1400" spc="-1" strike="noStrike">
                <a:solidFill>
                  <a:srgbClr val="ffffff"/>
                </a:solidFill>
                <a:latin typeface="Arial"/>
                <a:ea typeface="微软雅黑"/>
              </a:rPr>
              <a:t>产品</a:t>
            </a:r>
            <a:r>
              <a:rPr b="1" lang="en-US" sz="1400" spc="-1" strike="noStrike">
                <a:solidFill>
                  <a:srgbClr val="ffffff"/>
                </a:solidFill>
                <a:latin typeface="Arial"/>
                <a:ea typeface="微软雅黑"/>
              </a:rPr>
              <a:t>/</a:t>
            </a:r>
            <a:r>
              <a:rPr b="1" lang="zh-CN" sz="1400" spc="-1" strike="noStrike">
                <a:solidFill>
                  <a:srgbClr val="ffffff"/>
                </a:solidFill>
                <a:latin typeface="Arial"/>
                <a:ea typeface="微软雅黑"/>
              </a:rPr>
              <a:t>服务 广告</a:t>
            </a:r>
            <a:endParaRPr b="0" lang="en-US" sz="1400" spc="-1" strike="noStrike">
              <a:solidFill>
                <a:srgbClr val="000000"/>
              </a:solidFill>
              <a:latin typeface="Arial"/>
            </a:endParaRPr>
          </a:p>
        </p:txBody>
      </p:sp>
      <p:sp>
        <p:nvSpPr>
          <p:cNvPr id="540" name="Shape 779"/>
          <p:cNvSpPr/>
          <p:nvPr/>
        </p:nvSpPr>
        <p:spPr>
          <a:xfrm>
            <a:off x="8140680" y="3759120"/>
            <a:ext cx="95256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1" lang="zh-CN" sz="1200" spc="-1" strike="noStrike">
                <a:solidFill>
                  <a:srgbClr val="ffffff"/>
                </a:solidFill>
                <a:latin typeface="Arial"/>
                <a:ea typeface="微软雅黑"/>
              </a:rPr>
              <a:t>公益广告</a:t>
            </a:r>
            <a:endParaRPr b="0" lang="en-US" sz="1200" spc="-1" strike="noStrike">
              <a:solidFill>
                <a:srgbClr val="000000"/>
              </a:solidFill>
              <a:latin typeface="Arial"/>
            </a:endParaRPr>
          </a:p>
        </p:txBody>
      </p:sp>
      <p:sp>
        <p:nvSpPr>
          <p:cNvPr id="541" name="Shape 780"/>
          <p:cNvSpPr/>
          <p:nvPr/>
        </p:nvSpPr>
        <p:spPr>
          <a:xfrm>
            <a:off x="9302760" y="4197240"/>
            <a:ext cx="95256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0" lang="zh-CN" sz="1200" spc="-1" strike="noStrike">
                <a:solidFill>
                  <a:srgbClr val="ffffff"/>
                </a:solidFill>
                <a:latin typeface="Arial"/>
                <a:ea typeface="微软雅黑"/>
              </a:rPr>
              <a:t>其他</a:t>
            </a:r>
            <a:endParaRPr b="0" lang="en-US" sz="1200" spc="-1" strike="noStrike">
              <a:solidFill>
                <a:srgbClr val="000000"/>
              </a:solidFill>
              <a:latin typeface="Arial"/>
            </a:endParaRPr>
          </a:p>
        </p:txBody>
      </p:sp>
      <p:sp>
        <p:nvSpPr>
          <p:cNvPr id="542" name="Shape 781"/>
          <p:cNvSpPr/>
          <p:nvPr/>
        </p:nvSpPr>
        <p:spPr>
          <a:xfrm>
            <a:off x="3349800" y="3267000"/>
            <a:ext cx="95220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0" lang="zh-CN" sz="1200" spc="-1" strike="noStrike">
                <a:solidFill>
                  <a:srgbClr val="ffffff"/>
                </a:solidFill>
                <a:latin typeface="Arial"/>
                <a:ea typeface="微软雅黑"/>
              </a:rPr>
              <a:t>编辑标题</a:t>
            </a:r>
            <a:endParaRPr b="0" lang="en-US" sz="1200" spc="-1" strike="noStrike">
              <a:solidFill>
                <a:srgbClr val="000000"/>
              </a:solidFill>
              <a:latin typeface="Arial"/>
            </a:endParaRPr>
          </a:p>
        </p:txBody>
      </p:sp>
      <p:sp>
        <p:nvSpPr>
          <p:cNvPr id="543" name="Shape 782"/>
          <p:cNvSpPr/>
          <p:nvPr/>
        </p:nvSpPr>
        <p:spPr>
          <a:xfrm>
            <a:off x="2463840" y="2390760"/>
            <a:ext cx="95256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0" lang="zh-CN" sz="1200" spc="-1" strike="noStrike">
                <a:solidFill>
                  <a:srgbClr val="ffffff"/>
                </a:solidFill>
                <a:latin typeface="Arial"/>
                <a:ea typeface="微软雅黑"/>
              </a:rPr>
              <a:t>其他</a:t>
            </a:r>
            <a:endParaRPr b="0" lang="en-US" sz="1200" spc="-1" strike="noStrike">
              <a:solidFill>
                <a:srgbClr val="000000"/>
              </a:solidFill>
              <a:latin typeface="Arial"/>
            </a:endParaRPr>
          </a:p>
        </p:txBody>
      </p:sp>
      <p:sp>
        <p:nvSpPr>
          <p:cNvPr id="544" name="Shape 783"/>
          <p:cNvSpPr/>
          <p:nvPr/>
        </p:nvSpPr>
        <p:spPr>
          <a:xfrm>
            <a:off x="5740560" y="2233440"/>
            <a:ext cx="95220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0" lang="zh-CN" sz="1200" spc="-1" strike="noStrike">
                <a:solidFill>
                  <a:srgbClr val="ffffff"/>
                </a:solidFill>
                <a:latin typeface="Arial"/>
                <a:ea typeface="微软雅黑"/>
              </a:rPr>
              <a:t>其他</a:t>
            </a:r>
            <a:endParaRPr b="0" lang="en-US" sz="1200" spc="-1" strike="noStrike">
              <a:solidFill>
                <a:srgbClr val="000000"/>
              </a:solidFill>
              <a:latin typeface="Arial"/>
            </a:endParaRPr>
          </a:p>
        </p:txBody>
      </p:sp>
      <p:sp>
        <p:nvSpPr>
          <p:cNvPr id="545" name="Shape 784"/>
          <p:cNvSpPr/>
          <p:nvPr/>
        </p:nvSpPr>
        <p:spPr>
          <a:xfrm>
            <a:off x="5746680" y="5089680"/>
            <a:ext cx="95256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0" lang="zh-CN" sz="1200" spc="-1" strike="noStrike">
                <a:solidFill>
                  <a:srgbClr val="ffffff"/>
                </a:solidFill>
                <a:latin typeface="Arial"/>
                <a:ea typeface="微软雅黑"/>
              </a:rPr>
              <a:t>标题</a:t>
            </a:r>
            <a:endParaRPr b="0" lang="en-US" sz="1200" spc="-1" strike="noStrike">
              <a:solidFill>
                <a:srgbClr val="000000"/>
              </a:solidFill>
              <a:latin typeface="Arial"/>
            </a:endParaRPr>
          </a:p>
        </p:txBody>
      </p:sp>
      <p:sp>
        <p:nvSpPr>
          <p:cNvPr id="546" name="Shape 785"/>
          <p:cNvSpPr/>
          <p:nvPr/>
        </p:nvSpPr>
        <p:spPr>
          <a:xfrm>
            <a:off x="8578800" y="2786040"/>
            <a:ext cx="95256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0" lang="zh-CN" sz="1200" spc="-1" strike="noStrike">
                <a:solidFill>
                  <a:srgbClr val="ffffff"/>
                </a:solidFill>
                <a:latin typeface="Arial"/>
                <a:ea typeface="微软雅黑"/>
              </a:rPr>
              <a:t>其他</a:t>
            </a:r>
            <a:endParaRPr b="0" lang="en-US" sz="1200" spc="-1" strike="noStrike">
              <a:solidFill>
                <a:srgbClr val="000000"/>
              </a:solidFill>
              <a:latin typeface="Arial"/>
            </a:endParaRPr>
          </a:p>
        </p:txBody>
      </p:sp>
      <p:sp>
        <p:nvSpPr>
          <p:cNvPr id="547" name="Shape 786"/>
          <p:cNvSpPr/>
          <p:nvPr/>
        </p:nvSpPr>
        <p:spPr>
          <a:xfrm>
            <a:off x="2857680" y="4284720"/>
            <a:ext cx="95220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0" lang="zh-CN" sz="1200" spc="-1" strike="noStrike">
                <a:solidFill>
                  <a:srgbClr val="ffffff"/>
                </a:solidFill>
                <a:latin typeface="Arial"/>
                <a:ea typeface="微软雅黑"/>
              </a:rPr>
              <a:t>其他</a:t>
            </a:r>
            <a:endParaRPr b="0" lang="en-US" sz="1200" spc="-1" strike="noStrike">
              <a:solidFill>
                <a:srgbClr val="000000"/>
              </a:solidFill>
              <a:latin typeface="Arial"/>
            </a:endParaRPr>
          </a:p>
        </p:txBody>
      </p:sp>
      <p:sp>
        <p:nvSpPr>
          <p:cNvPr id="548" name="TextBox 13"/>
          <p:cNvSpPr/>
          <p:nvPr/>
        </p:nvSpPr>
        <p:spPr>
          <a:xfrm>
            <a:off x="7029360" y="2600280"/>
            <a:ext cx="11462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1" lang="zh-CN" sz="1600" spc="-1" strike="noStrike">
                <a:solidFill>
                  <a:srgbClr val="ffffff"/>
                </a:solidFill>
                <a:latin typeface="Arial"/>
                <a:ea typeface="微软雅黑"/>
              </a:rPr>
              <a:t>品牌广告</a:t>
            </a:r>
            <a:endParaRPr b="0" lang="en-US" sz="1600" spc="-1" strike="noStrike">
              <a:solidFill>
                <a:srgbClr val="000000"/>
              </a:solidFill>
              <a:latin typeface="Arial"/>
            </a:endParaRPr>
          </a:p>
        </p:txBody>
      </p:sp>
      <p:sp>
        <p:nvSpPr>
          <p:cNvPr id="549" name="TextBox 13"/>
          <p:cNvSpPr/>
          <p:nvPr/>
        </p:nvSpPr>
        <p:spPr>
          <a:xfrm>
            <a:off x="6915240" y="4646520"/>
            <a:ext cx="928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1" lang="zh-CN" sz="1600" spc="-1" strike="noStrike">
                <a:solidFill>
                  <a:srgbClr val="ffffff"/>
                </a:solidFill>
                <a:latin typeface="Arial"/>
                <a:ea typeface="微软雅黑"/>
              </a:rPr>
              <a:t>促销广告</a:t>
            </a:r>
            <a:endParaRPr b="0" lang="en-US" sz="1600" spc="-1" strike="noStrike">
              <a:solidFill>
                <a:srgbClr val="000000"/>
              </a:solidFill>
              <a:latin typeface="Arial"/>
            </a:endParaRPr>
          </a:p>
        </p:txBody>
      </p:sp>
      <p:sp>
        <p:nvSpPr>
          <p:cNvPr id="550" name="TextBox 13"/>
          <p:cNvSpPr/>
          <p:nvPr/>
        </p:nvSpPr>
        <p:spPr>
          <a:xfrm>
            <a:off x="4424400" y="4411800"/>
            <a:ext cx="86688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1" lang="zh-CN" sz="1600" spc="-1" strike="noStrike">
                <a:solidFill>
                  <a:srgbClr val="ffffff"/>
                </a:solidFill>
                <a:latin typeface="Arial"/>
                <a:ea typeface="微软雅黑"/>
              </a:rPr>
              <a:t>企业</a:t>
            </a:r>
            <a:endParaRPr b="0" lang="en-US" sz="1600" spc="-1" strike="noStrike">
              <a:solidFill>
                <a:srgbClr val="000000"/>
              </a:solidFill>
              <a:latin typeface="Arial"/>
            </a:endParaRPr>
          </a:p>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1" lang="zh-CN" sz="1600" spc="-1" strike="noStrike">
                <a:solidFill>
                  <a:srgbClr val="ffffff"/>
                </a:solidFill>
                <a:latin typeface="Arial"/>
                <a:ea typeface="微软雅黑"/>
              </a:rPr>
              <a:t>形象广告</a:t>
            </a:r>
            <a:endParaRPr b="0" lang="en-US" sz="1600" spc="-1" strike="noStrike">
              <a:solidFill>
                <a:srgbClr val="000000"/>
              </a:solidFill>
              <a:latin typeface="Arial"/>
            </a:endParaRPr>
          </a:p>
        </p:txBody>
      </p:sp>
      <p:sp>
        <p:nvSpPr>
          <p:cNvPr id="551" name="TextBox 13"/>
          <p:cNvSpPr/>
          <p:nvPr/>
        </p:nvSpPr>
        <p:spPr>
          <a:xfrm>
            <a:off x="5656320" y="3478320"/>
            <a:ext cx="114768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1" lang="zh-CN" sz="2000" spc="-1" strike="noStrike">
                <a:solidFill>
                  <a:srgbClr val="ffffff"/>
                </a:solidFill>
                <a:latin typeface="Arial"/>
                <a:ea typeface="微软雅黑"/>
              </a:rPr>
              <a:t>广告</a:t>
            </a:r>
            <a:endParaRPr b="0" lang="en-US" sz="2000" spc="-1" strike="noStrike">
              <a:solidFill>
                <a:srgbClr val="000000"/>
              </a:solidFill>
              <a:latin typeface="Arial"/>
            </a:endParaRPr>
          </a:p>
        </p:txBody>
      </p:sp>
      <p:sp>
        <p:nvSpPr>
          <p:cNvPr id="552" name="文本框 47"/>
          <p:cNvSpPr/>
          <p:nvPr/>
        </p:nvSpPr>
        <p:spPr>
          <a:xfrm>
            <a:off x="711360" y="295200"/>
            <a:ext cx="300960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销售渠道铺设</a:t>
            </a:r>
            <a:endParaRPr b="0" lang="en-US" sz="2500" spc="-1" strike="noStrike">
              <a:solidFill>
                <a:srgbClr val="000000"/>
              </a:solidFill>
              <a:latin typeface="Arial"/>
            </a:endParaRPr>
          </a:p>
        </p:txBody>
      </p:sp>
      <p:sp>
        <p:nvSpPr>
          <p:cNvPr id="553" name="椭圆 48"/>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Freeform 6"/>
          <p:cNvSpPr/>
          <p:nvPr/>
        </p:nvSpPr>
        <p:spPr>
          <a:xfrm>
            <a:off x="7099200" y="2311560"/>
            <a:ext cx="495360" cy="747720"/>
          </a:xfrm>
          <a:custGeom>
            <a:avLst/>
            <a:gdLst/>
            <a:ahLst/>
            <a:rect l="l" t="t" r="r" b="b"/>
            <a:pathLst>
              <a:path w="189" h="283">
                <a:moveTo>
                  <a:pt x="189" y="95"/>
                </a:moveTo>
                <a:cubicBezTo>
                  <a:pt x="189" y="43"/>
                  <a:pt x="147" y="0"/>
                  <a:pt x="95" y="0"/>
                </a:cubicBezTo>
                <a:cubicBezTo>
                  <a:pt x="43" y="0"/>
                  <a:pt x="0" y="42"/>
                  <a:pt x="0" y="94"/>
                </a:cubicBezTo>
                <a:cubicBezTo>
                  <a:pt x="0" y="112"/>
                  <a:pt x="5" y="128"/>
                  <a:pt x="13" y="142"/>
                </a:cubicBezTo>
                <a:cubicBezTo>
                  <a:pt x="13" y="142"/>
                  <a:pt x="13" y="142"/>
                  <a:pt x="13" y="142"/>
                </a:cubicBezTo>
                <a:cubicBezTo>
                  <a:pt x="94" y="283"/>
                  <a:pt x="94" y="283"/>
                  <a:pt x="94" y="283"/>
                </a:cubicBezTo>
                <a:cubicBezTo>
                  <a:pt x="176" y="142"/>
                  <a:pt x="176" y="142"/>
                  <a:pt x="176" y="142"/>
                </a:cubicBezTo>
                <a:cubicBezTo>
                  <a:pt x="176" y="142"/>
                  <a:pt x="176" y="142"/>
                  <a:pt x="176" y="142"/>
                </a:cubicBezTo>
                <a:cubicBezTo>
                  <a:pt x="184" y="128"/>
                  <a:pt x="189" y="112"/>
                  <a:pt x="189" y="95"/>
                </a:cubicBezTo>
                <a:close/>
                <a:moveTo>
                  <a:pt x="94" y="173"/>
                </a:moveTo>
                <a:cubicBezTo>
                  <a:pt x="51" y="173"/>
                  <a:pt x="16" y="138"/>
                  <a:pt x="16" y="94"/>
                </a:cubicBezTo>
                <a:cubicBezTo>
                  <a:pt x="16" y="51"/>
                  <a:pt x="51" y="16"/>
                  <a:pt x="95" y="16"/>
                </a:cubicBezTo>
                <a:cubicBezTo>
                  <a:pt x="138" y="16"/>
                  <a:pt x="173" y="52"/>
                  <a:pt x="173" y="95"/>
                </a:cubicBezTo>
                <a:cubicBezTo>
                  <a:pt x="173" y="138"/>
                  <a:pt x="138" y="173"/>
                  <a:pt x="94" y="173"/>
                </a:cubicBez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Freeform 30"/>
          <p:cNvSpPr/>
          <p:nvPr/>
        </p:nvSpPr>
        <p:spPr>
          <a:xfrm>
            <a:off x="7129440" y="4076640"/>
            <a:ext cx="493560" cy="747720"/>
          </a:xfrm>
          <a:custGeom>
            <a:avLst/>
            <a:gdLst/>
            <a:ahLst/>
            <a:rect l="l" t="t" r="r" b="b"/>
            <a:pathLst>
              <a:path w="188" h="283">
                <a:moveTo>
                  <a:pt x="188" y="95"/>
                </a:moveTo>
                <a:cubicBezTo>
                  <a:pt x="188" y="43"/>
                  <a:pt x="146" y="0"/>
                  <a:pt x="94" y="0"/>
                </a:cubicBezTo>
                <a:cubicBezTo>
                  <a:pt x="42" y="0"/>
                  <a:pt x="0" y="42"/>
                  <a:pt x="0" y="94"/>
                </a:cubicBezTo>
                <a:cubicBezTo>
                  <a:pt x="0" y="112"/>
                  <a:pt x="5" y="128"/>
                  <a:pt x="13" y="142"/>
                </a:cubicBezTo>
                <a:cubicBezTo>
                  <a:pt x="13" y="142"/>
                  <a:pt x="13" y="142"/>
                  <a:pt x="13" y="142"/>
                </a:cubicBezTo>
                <a:cubicBezTo>
                  <a:pt x="94" y="283"/>
                  <a:pt x="94" y="283"/>
                  <a:pt x="94" y="283"/>
                </a:cubicBezTo>
                <a:cubicBezTo>
                  <a:pt x="175" y="142"/>
                  <a:pt x="175" y="142"/>
                  <a:pt x="175" y="142"/>
                </a:cubicBezTo>
                <a:cubicBezTo>
                  <a:pt x="175" y="142"/>
                  <a:pt x="175" y="142"/>
                  <a:pt x="175" y="142"/>
                </a:cubicBezTo>
                <a:cubicBezTo>
                  <a:pt x="184" y="128"/>
                  <a:pt x="188" y="112"/>
                  <a:pt x="188" y="95"/>
                </a:cubicBezTo>
                <a:close/>
                <a:moveTo>
                  <a:pt x="94" y="173"/>
                </a:moveTo>
                <a:cubicBezTo>
                  <a:pt x="51" y="173"/>
                  <a:pt x="16" y="138"/>
                  <a:pt x="16" y="94"/>
                </a:cubicBezTo>
                <a:cubicBezTo>
                  <a:pt x="16" y="51"/>
                  <a:pt x="51" y="16"/>
                  <a:pt x="94" y="16"/>
                </a:cubicBezTo>
                <a:cubicBezTo>
                  <a:pt x="138" y="16"/>
                  <a:pt x="173" y="52"/>
                  <a:pt x="173" y="95"/>
                </a:cubicBezTo>
                <a:cubicBezTo>
                  <a:pt x="172" y="138"/>
                  <a:pt x="137" y="173"/>
                  <a:pt x="94" y="173"/>
                </a:cubicBez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Freeform 4"/>
          <p:cNvSpPr/>
          <p:nvPr/>
        </p:nvSpPr>
        <p:spPr>
          <a:xfrm>
            <a:off x="5249880" y="1619280"/>
            <a:ext cx="1328760" cy="1179360"/>
          </a:xfrm>
          <a:custGeom>
            <a:avLst/>
            <a:gdLst/>
            <a:ahLst/>
            <a:rect l="l" t="t" r="r" b="b"/>
            <a:pathLst>
              <a:path w="1088" h="988">
                <a:moveTo>
                  <a:pt x="275" y="816"/>
                </a:moveTo>
                <a:lnTo>
                  <a:pt x="332" y="807"/>
                </a:lnTo>
                <a:lnTo>
                  <a:pt x="357" y="853"/>
                </a:lnTo>
                <a:lnTo>
                  <a:pt x="394" y="879"/>
                </a:lnTo>
                <a:lnTo>
                  <a:pt x="419" y="869"/>
                </a:lnTo>
                <a:lnTo>
                  <a:pt x="441" y="869"/>
                </a:lnTo>
                <a:lnTo>
                  <a:pt x="478" y="846"/>
                </a:lnTo>
                <a:lnTo>
                  <a:pt x="502" y="874"/>
                </a:lnTo>
                <a:lnTo>
                  <a:pt x="520" y="879"/>
                </a:lnTo>
                <a:lnTo>
                  <a:pt x="567" y="859"/>
                </a:lnTo>
                <a:lnTo>
                  <a:pt x="602" y="879"/>
                </a:lnTo>
                <a:lnTo>
                  <a:pt x="614" y="915"/>
                </a:lnTo>
                <a:lnTo>
                  <a:pt x="638" y="915"/>
                </a:lnTo>
                <a:lnTo>
                  <a:pt x="651" y="929"/>
                </a:lnTo>
                <a:lnTo>
                  <a:pt x="682" y="964"/>
                </a:lnTo>
                <a:lnTo>
                  <a:pt x="695" y="957"/>
                </a:lnTo>
                <a:lnTo>
                  <a:pt x="689" y="915"/>
                </a:lnTo>
                <a:lnTo>
                  <a:pt x="707" y="903"/>
                </a:lnTo>
                <a:lnTo>
                  <a:pt x="733" y="952"/>
                </a:lnTo>
                <a:lnTo>
                  <a:pt x="754" y="959"/>
                </a:lnTo>
                <a:lnTo>
                  <a:pt x="779" y="987"/>
                </a:lnTo>
                <a:lnTo>
                  <a:pt x="797" y="984"/>
                </a:lnTo>
                <a:lnTo>
                  <a:pt x="805" y="971"/>
                </a:lnTo>
                <a:lnTo>
                  <a:pt x="843" y="927"/>
                </a:lnTo>
                <a:lnTo>
                  <a:pt x="860" y="940"/>
                </a:lnTo>
                <a:lnTo>
                  <a:pt x="873" y="922"/>
                </a:lnTo>
                <a:lnTo>
                  <a:pt x="884" y="945"/>
                </a:lnTo>
                <a:lnTo>
                  <a:pt x="922" y="957"/>
                </a:lnTo>
                <a:lnTo>
                  <a:pt x="947" y="957"/>
                </a:lnTo>
                <a:lnTo>
                  <a:pt x="964" y="959"/>
                </a:lnTo>
                <a:lnTo>
                  <a:pt x="955" y="940"/>
                </a:lnTo>
                <a:lnTo>
                  <a:pt x="950" y="881"/>
                </a:lnTo>
                <a:lnTo>
                  <a:pt x="904" y="811"/>
                </a:lnTo>
                <a:lnTo>
                  <a:pt x="929" y="786"/>
                </a:lnTo>
                <a:lnTo>
                  <a:pt x="952" y="744"/>
                </a:lnTo>
                <a:lnTo>
                  <a:pt x="1035" y="744"/>
                </a:lnTo>
                <a:lnTo>
                  <a:pt x="1049" y="733"/>
                </a:lnTo>
                <a:lnTo>
                  <a:pt x="1045" y="697"/>
                </a:lnTo>
                <a:lnTo>
                  <a:pt x="1063" y="669"/>
                </a:lnTo>
                <a:lnTo>
                  <a:pt x="1058" y="651"/>
                </a:lnTo>
                <a:lnTo>
                  <a:pt x="1064" y="622"/>
                </a:lnTo>
                <a:lnTo>
                  <a:pt x="1063" y="468"/>
                </a:lnTo>
                <a:lnTo>
                  <a:pt x="1087" y="419"/>
                </a:lnTo>
                <a:lnTo>
                  <a:pt x="1059" y="388"/>
                </a:lnTo>
                <a:lnTo>
                  <a:pt x="1064" y="368"/>
                </a:lnTo>
                <a:lnTo>
                  <a:pt x="1053" y="352"/>
                </a:lnTo>
                <a:lnTo>
                  <a:pt x="1021" y="363"/>
                </a:lnTo>
                <a:lnTo>
                  <a:pt x="983" y="406"/>
                </a:lnTo>
                <a:lnTo>
                  <a:pt x="947" y="422"/>
                </a:lnTo>
                <a:lnTo>
                  <a:pt x="909" y="473"/>
                </a:lnTo>
                <a:lnTo>
                  <a:pt x="818" y="503"/>
                </a:lnTo>
                <a:lnTo>
                  <a:pt x="777" y="473"/>
                </a:lnTo>
                <a:lnTo>
                  <a:pt x="782" y="454"/>
                </a:lnTo>
                <a:lnTo>
                  <a:pt x="761" y="422"/>
                </a:lnTo>
                <a:lnTo>
                  <a:pt x="749" y="388"/>
                </a:lnTo>
                <a:lnTo>
                  <a:pt x="715" y="388"/>
                </a:lnTo>
                <a:lnTo>
                  <a:pt x="652" y="357"/>
                </a:lnTo>
                <a:lnTo>
                  <a:pt x="629" y="366"/>
                </a:lnTo>
                <a:lnTo>
                  <a:pt x="602" y="352"/>
                </a:lnTo>
                <a:lnTo>
                  <a:pt x="559" y="358"/>
                </a:lnTo>
                <a:lnTo>
                  <a:pt x="520" y="345"/>
                </a:lnTo>
                <a:lnTo>
                  <a:pt x="497" y="314"/>
                </a:lnTo>
                <a:lnTo>
                  <a:pt x="478" y="290"/>
                </a:lnTo>
                <a:lnTo>
                  <a:pt x="467" y="263"/>
                </a:lnTo>
                <a:lnTo>
                  <a:pt x="441" y="236"/>
                </a:lnTo>
                <a:lnTo>
                  <a:pt x="424" y="208"/>
                </a:lnTo>
                <a:lnTo>
                  <a:pt x="382" y="154"/>
                </a:lnTo>
                <a:lnTo>
                  <a:pt x="370" y="122"/>
                </a:lnTo>
                <a:lnTo>
                  <a:pt x="325" y="65"/>
                </a:lnTo>
                <a:lnTo>
                  <a:pt x="313" y="35"/>
                </a:lnTo>
                <a:lnTo>
                  <a:pt x="259" y="9"/>
                </a:lnTo>
                <a:lnTo>
                  <a:pt x="221" y="21"/>
                </a:lnTo>
                <a:lnTo>
                  <a:pt x="190" y="14"/>
                </a:lnTo>
                <a:lnTo>
                  <a:pt x="118" y="0"/>
                </a:lnTo>
                <a:lnTo>
                  <a:pt x="22" y="33"/>
                </a:lnTo>
                <a:lnTo>
                  <a:pt x="4" y="49"/>
                </a:lnTo>
                <a:lnTo>
                  <a:pt x="25" y="76"/>
                </a:lnTo>
                <a:lnTo>
                  <a:pt x="0" y="139"/>
                </a:lnTo>
                <a:lnTo>
                  <a:pt x="7" y="146"/>
                </a:lnTo>
                <a:lnTo>
                  <a:pt x="50" y="173"/>
                </a:lnTo>
                <a:lnTo>
                  <a:pt x="71" y="136"/>
                </a:lnTo>
                <a:lnTo>
                  <a:pt x="110" y="161"/>
                </a:lnTo>
                <a:lnTo>
                  <a:pt x="107" y="179"/>
                </a:lnTo>
                <a:lnTo>
                  <a:pt x="123" y="223"/>
                </a:lnTo>
                <a:lnTo>
                  <a:pt x="147" y="249"/>
                </a:lnTo>
                <a:lnTo>
                  <a:pt x="197" y="257"/>
                </a:lnTo>
                <a:lnTo>
                  <a:pt x="212" y="243"/>
                </a:lnTo>
                <a:lnTo>
                  <a:pt x="242" y="238"/>
                </a:lnTo>
                <a:lnTo>
                  <a:pt x="295" y="190"/>
                </a:lnTo>
                <a:lnTo>
                  <a:pt x="370" y="245"/>
                </a:lnTo>
                <a:lnTo>
                  <a:pt x="345" y="345"/>
                </a:lnTo>
                <a:lnTo>
                  <a:pt x="350" y="417"/>
                </a:lnTo>
                <a:lnTo>
                  <a:pt x="350" y="461"/>
                </a:lnTo>
                <a:lnTo>
                  <a:pt x="332" y="471"/>
                </a:lnTo>
                <a:lnTo>
                  <a:pt x="329" y="585"/>
                </a:lnTo>
                <a:lnTo>
                  <a:pt x="325" y="582"/>
                </a:lnTo>
                <a:lnTo>
                  <a:pt x="304" y="558"/>
                </a:lnTo>
                <a:lnTo>
                  <a:pt x="295" y="558"/>
                </a:lnTo>
                <a:lnTo>
                  <a:pt x="289" y="566"/>
                </a:lnTo>
                <a:lnTo>
                  <a:pt x="229" y="659"/>
                </a:lnTo>
                <a:lnTo>
                  <a:pt x="197" y="696"/>
                </a:lnTo>
                <a:lnTo>
                  <a:pt x="202" y="708"/>
                </a:lnTo>
                <a:lnTo>
                  <a:pt x="265" y="749"/>
                </a:lnTo>
                <a:lnTo>
                  <a:pt x="295" y="742"/>
                </a:lnTo>
                <a:lnTo>
                  <a:pt x="299" y="749"/>
                </a:lnTo>
                <a:lnTo>
                  <a:pt x="295" y="762"/>
                </a:lnTo>
                <a:lnTo>
                  <a:pt x="265" y="774"/>
                </a:lnTo>
                <a:lnTo>
                  <a:pt x="262" y="804"/>
                </a:lnTo>
                <a:lnTo>
                  <a:pt x="275" y="816"/>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Freeform 5"/>
          <p:cNvSpPr/>
          <p:nvPr/>
        </p:nvSpPr>
        <p:spPr>
          <a:xfrm>
            <a:off x="3141720" y="1677960"/>
            <a:ext cx="2582640" cy="2274840"/>
          </a:xfrm>
          <a:custGeom>
            <a:avLst/>
            <a:gdLst/>
            <a:ahLst/>
            <a:rect l="l" t="t" r="r" b="b"/>
            <a:pathLst>
              <a:path w="2117" h="1903">
                <a:moveTo>
                  <a:pt x="596" y="1893"/>
                </a:moveTo>
                <a:lnTo>
                  <a:pt x="626" y="1888"/>
                </a:lnTo>
                <a:lnTo>
                  <a:pt x="650" y="1879"/>
                </a:lnTo>
                <a:lnTo>
                  <a:pt x="690" y="1843"/>
                </a:lnTo>
                <a:lnTo>
                  <a:pt x="700" y="1789"/>
                </a:lnTo>
                <a:lnTo>
                  <a:pt x="724" y="1711"/>
                </a:lnTo>
                <a:lnTo>
                  <a:pt x="775" y="1676"/>
                </a:lnTo>
                <a:lnTo>
                  <a:pt x="782" y="1683"/>
                </a:lnTo>
                <a:lnTo>
                  <a:pt x="799" y="1738"/>
                </a:lnTo>
                <a:lnTo>
                  <a:pt x="775" y="1772"/>
                </a:lnTo>
                <a:lnTo>
                  <a:pt x="766" y="1804"/>
                </a:lnTo>
                <a:lnTo>
                  <a:pt x="849" y="1833"/>
                </a:lnTo>
                <a:lnTo>
                  <a:pt x="854" y="1856"/>
                </a:lnTo>
                <a:lnTo>
                  <a:pt x="901" y="1854"/>
                </a:lnTo>
                <a:lnTo>
                  <a:pt x="921" y="1860"/>
                </a:lnTo>
                <a:lnTo>
                  <a:pt x="932" y="1866"/>
                </a:lnTo>
                <a:lnTo>
                  <a:pt x="1014" y="1750"/>
                </a:lnTo>
                <a:lnTo>
                  <a:pt x="1036" y="1743"/>
                </a:lnTo>
                <a:lnTo>
                  <a:pt x="1041" y="1729"/>
                </a:lnTo>
                <a:lnTo>
                  <a:pt x="1039" y="1706"/>
                </a:lnTo>
                <a:lnTo>
                  <a:pt x="1067" y="1666"/>
                </a:lnTo>
                <a:lnTo>
                  <a:pt x="1119" y="1664"/>
                </a:lnTo>
                <a:lnTo>
                  <a:pt x="1139" y="1641"/>
                </a:lnTo>
                <a:lnTo>
                  <a:pt x="1151" y="1652"/>
                </a:lnTo>
                <a:lnTo>
                  <a:pt x="1181" y="1627"/>
                </a:lnTo>
                <a:lnTo>
                  <a:pt x="1197" y="1627"/>
                </a:lnTo>
                <a:lnTo>
                  <a:pt x="1251" y="1548"/>
                </a:lnTo>
                <a:lnTo>
                  <a:pt x="1279" y="1550"/>
                </a:lnTo>
                <a:lnTo>
                  <a:pt x="1314" y="1525"/>
                </a:lnTo>
                <a:lnTo>
                  <a:pt x="1323" y="1534"/>
                </a:lnTo>
                <a:lnTo>
                  <a:pt x="1388" y="1502"/>
                </a:lnTo>
                <a:lnTo>
                  <a:pt x="1356" y="1448"/>
                </a:lnTo>
                <a:lnTo>
                  <a:pt x="1365" y="1394"/>
                </a:lnTo>
                <a:lnTo>
                  <a:pt x="1393" y="1336"/>
                </a:lnTo>
                <a:lnTo>
                  <a:pt x="1416" y="1327"/>
                </a:lnTo>
                <a:lnTo>
                  <a:pt x="1430" y="1334"/>
                </a:lnTo>
                <a:lnTo>
                  <a:pt x="1430" y="1375"/>
                </a:lnTo>
                <a:lnTo>
                  <a:pt x="1447" y="1387"/>
                </a:lnTo>
                <a:lnTo>
                  <a:pt x="1488" y="1357"/>
                </a:lnTo>
                <a:lnTo>
                  <a:pt x="1505" y="1339"/>
                </a:lnTo>
                <a:lnTo>
                  <a:pt x="1521" y="1347"/>
                </a:lnTo>
                <a:lnTo>
                  <a:pt x="1542" y="1329"/>
                </a:lnTo>
                <a:lnTo>
                  <a:pt x="1584" y="1327"/>
                </a:lnTo>
                <a:lnTo>
                  <a:pt x="1591" y="1312"/>
                </a:lnTo>
                <a:lnTo>
                  <a:pt x="1581" y="1290"/>
                </a:lnTo>
                <a:lnTo>
                  <a:pt x="1610" y="1261"/>
                </a:lnTo>
                <a:lnTo>
                  <a:pt x="1645" y="1243"/>
                </a:lnTo>
                <a:lnTo>
                  <a:pt x="1700" y="1303"/>
                </a:lnTo>
                <a:lnTo>
                  <a:pt x="1697" y="1324"/>
                </a:lnTo>
                <a:lnTo>
                  <a:pt x="1724" y="1368"/>
                </a:lnTo>
                <a:lnTo>
                  <a:pt x="1789" y="1372"/>
                </a:lnTo>
                <a:lnTo>
                  <a:pt x="1803" y="1342"/>
                </a:lnTo>
                <a:lnTo>
                  <a:pt x="1787" y="1255"/>
                </a:lnTo>
                <a:lnTo>
                  <a:pt x="1801" y="1240"/>
                </a:lnTo>
                <a:lnTo>
                  <a:pt x="1831" y="1261"/>
                </a:lnTo>
                <a:lnTo>
                  <a:pt x="1859" y="1300"/>
                </a:lnTo>
                <a:lnTo>
                  <a:pt x="1901" y="1236"/>
                </a:lnTo>
                <a:lnTo>
                  <a:pt x="1921" y="1231"/>
                </a:lnTo>
                <a:lnTo>
                  <a:pt x="1951" y="1198"/>
                </a:lnTo>
                <a:lnTo>
                  <a:pt x="1967" y="1198"/>
                </a:lnTo>
                <a:lnTo>
                  <a:pt x="1994" y="1171"/>
                </a:lnTo>
                <a:lnTo>
                  <a:pt x="2009" y="1171"/>
                </a:lnTo>
                <a:lnTo>
                  <a:pt x="2023" y="1146"/>
                </a:lnTo>
                <a:lnTo>
                  <a:pt x="2060" y="1146"/>
                </a:lnTo>
                <a:lnTo>
                  <a:pt x="2099" y="1111"/>
                </a:lnTo>
                <a:lnTo>
                  <a:pt x="2116" y="1095"/>
                </a:lnTo>
                <a:lnTo>
                  <a:pt x="2116" y="1076"/>
                </a:lnTo>
                <a:lnTo>
                  <a:pt x="2085" y="1060"/>
                </a:lnTo>
                <a:lnTo>
                  <a:pt x="2085" y="1023"/>
                </a:lnTo>
                <a:lnTo>
                  <a:pt x="2036" y="958"/>
                </a:lnTo>
                <a:lnTo>
                  <a:pt x="1986" y="1005"/>
                </a:lnTo>
                <a:lnTo>
                  <a:pt x="1971" y="996"/>
                </a:lnTo>
                <a:lnTo>
                  <a:pt x="1969" y="969"/>
                </a:lnTo>
                <a:lnTo>
                  <a:pt x="1949" y="939"/>
                </a:lnTo>
                <a:lnTo>
                  <a:pt x="1944" y="907"/>
                </a:lnTo>
                <a:lnTo>
                  <a:pt x="1944" y="870"/>
                </a:lnTo>
                <a:lnTo>
                  <a:pt x="1910" y="844"/>
                </a:lnTo>
                <a:lnTo>
                  <a:pt x="1905" y="832"/>
                </a:lnTo>
                <a:lnTo>
                  <a:pt x="1913" y="810"/>
                </a:lnTo>
                <a:lnTo>
                  <a:pt x="1979" y="828"/>
                </a:lnTo>
                <a:lnTo>
                  <a:pt x="1981" y="798"/>
                </a:lnTo>
                <a:lnTo>
                  <a:pt x="2004" y="771"/>
                </a:lnTo>
                <a:lnTo>
                  <a:pt x="1989" y="759"/>
                </a:lnTo>
                <a:lnTo>
                  <a:pt x="1992" y="729"/>
                </a:lnTo>
                <a:lnTo>
                  <a:pt x="2023" y="717"/>
                </a:lnTo>
                <a:lnTo>
                  <a:pt x="2028" y="704"/>
                </a:lnTo>
                <a:lnTo>
                  <a:pt x="2023" y="697"/>
                </a:lnTo>
                <a:lnTo>
                  <a:pt x="1992" y="704"/>
                </a:lnTo>
                <a:lnTo>
                  <a:pt x="1931" y="662"/>
                </a:lnTo>
                <a:lnTo>
                  <a:pt x="1926" y="650"/>
                </a:lnTo>
                <a:lnTo>
                  <a:pt x="1956" y="613"/>
                </a:lnTo>
                <a:lnTo>
                  <a:pt x="2017" y="518"/>
                </a:lnTo>
                <a:lnTo>
                  <a:pt x="2023" y="511"/>
                </a:lnTo>
                <a:lnTo>
                  <a:pt x="2033" y="511"/>
                </a:lnTo>
                <a:lnTo>
                  <a:pt x="2053" y="536"/>
                </a:lnTo>
                <a:lnTo>
                  <a:pt x="2058" y="538"/>
                </a:lnTo>
                <a:lnTo>
                  <a:pt x="2060" y="424"/>
                </a:lnTo>
                <a:lnTo>
                  <a:pt x="2078" y="415"/>
                </a:lnTo>
                <a:lnTo>
                  <a:pt x="2078" y="370"/>
                </a:lnTo>
                <a:lnTo>
                  <a:pt x="2073" y="297"/>
                </a:lnTo>
                <a:lnTo>
                  <a:pt x="2099" y="196"/>
                </a:lnTo>
                <a:lnTo>
                  <a:pt x="2023" y="142"/>
                </a:lnTo>
                <a:lnTo>
                  <a:pt x="1969" y="189"/>
                </a:lnTo>
                <a:lnTo>
                  <a:pt x="1939" y="194"/>
                </a:lnTo>
                <a:lnTo>
                  <a:pt x="1926" y="210"/>
                </a:lnTo>
                <a:lnTo>
                  <a:pt x="1875" y="201"/>
                </a:lnTo>
                <a:lnTo>
                  <a:pt x="1851" y="174"/>
                </a:lnTo>
                <a:lnTo>
                  <a:pt x="1836" y="132"/>
                </a:lnTo>
                <a:lnTo>
                  <a:pt x="1838" y="114"/>
                </a:lnTo>
                <a:lnTo>
                  <a:pt x="1799" y="88"/>
                </a:lnTo>
                <a:lnTo>
                  <a:pt x="1777" y="126"/>
                </a:lnTo>
                <a:lnTo>
                  <a:pt x="1734" y="98"/>
                </a:lnTo>
                <a:lnTo>
                  <a:pt x="1727" y="91"/>
                </a:lnTo>
                <a:lnTo>
                  <a:pt x="1752" y="27"/>
                </a:lnTo>
                <a:lnTo>
                  <a:pt x="1731" y="0"/>
                </a:lnTo>
                <a:lnTo>
                  <a:pt x="1715" y="0"/>
                </a:lnTo>
                <a:lnTo>
                  <a:pt x="1669" y="32"/>
                </a:lnTo>
                <a:lnTo>
                  <a:pt x="1633" y="86"/>
                </a:lnTo>
                <a:lnTo>
                  <a:pt x="1647" y="96"/>
                </a:lnTo>
                <a:lnTo>
                  <a:pt x="1674" y="98"/>
                </a:lnTo>
                <a:lnTo>
                  <a:pt x="1697" y="156"/>
                </a:lnTo>
                <a:lnTo>
                  <a:pt x="1685" y="177"/>
                </a:lnTo>
                <a:lnTo>
                  <a:pt x="1663" y="210"/>
                </a:lnTo>
                <a:lnTo>
                  <a:pt x="1622" y="358"/>
                </a:lnTo>
                <a:lnTo>
                  <a:pt x="1638" y="384"/>
                </a:lnTo>
                <a:lnTo>
                  <a:pt x="1625" y="405"/>
                </a:lnTo>
                <a:lnTo>
                  <a:pt x="1535" y="470"/>
                </a:lnTo>
                <a:lnTo>
                  <a:pt x="1485" y="463"/>
                </a:lnTo>
                <a:lnTo>
                  <a:pt x="1458" y="452"/>
                </a:lnTo>
                <a:lnTo>
                  <a:pt x="1452" y="465"/>
                </a:lnTo>
                <a:lnTo>
                  <a:pt x="1412" y="625"/>
                </a:lnTo>
                <a:lnTo>
                  <a:pt x="1393" y="646"/>
                </a:lnTo>
                <a:lnTo>
                  <a:pt x="1403" y="674"/>
                </a:lnTo>
                <a:lnTo>
                  <a:pt x="1428" y="697"/>
                </a:lnTo>
                <a:lnTo>
                  <a:pt x="1470" y="672"/>
                </a:lnTo>
                <a:lnTo>
                  <a:pt x="1537" y="679"/>
                </a:lnTo>
                <a:lnTo>
                  <a:pt x="1556" y="646"/>
                </a:lnTo>
                <a:lnTo>
                  <a:pt x="1591" y="637"/>
                </a:lnTo>
                <a:lnTo>
                  <a:pt x="1657" y="662"/>
                </a:lnTo>
                <a:lnTo>
                  <a:pt x="1739" y="746"/>
                </a:lnTo>
                <a:lnTo>
                  <a:pt x="1739" y="764"/>
                </a:lnTo>
                <a:lnTo>
                  <a:pt x="1722" y="776"/>
                </a:lnTo>
                <a:lnTo>
                  <a:pt x="1627" y="783"/>
                </a:lnTo>
                <a:lnTo>
                  <a:pt x="1596" y="807"/>
                </a:lnTo>
                <a:lnTo>
                  <a:pt x="1572" y="802"/>
                </a:lnTo>
                <a:lnTo>
                  <a:pt x="1554" y="832"/>
                </a:lnTo>
                <a:lnTo>
                  <a:pt x="1509" y="840"/>
                </a:lnTo>
                <a:lnTo>
                  <a:pt x="1479" y="884"/>
                </a:lnTo>
                <a:lnTo>
                  <a:pt x="1475" y="916"/>
                </a:lnTo>
                <a:lnTo>
                  <a:pt x="1411" y="958"/>
                </a:lnTo>
                <a:lnTo>
                  <a:pt x="1370" y="964"/>
                </a:lnTo>
                <a:lnTo>
                  <a:pt x="1326" y="1023"/>
                </a:lnTo>
                <a:lnTo>
                  <a:pt x="1284" y="1048"/>
                </a:lnTo>
                <a:lnTo>
                  <a:pt x="1202" y="1030"/>
                </a:lnTo>
                <a:lnTo>
                  <a:pt x="1176" y="1018"/>
                </a:lnTo>
                <a:lnTo>
                  <a:pt x="1143" y="1051"/>
                </a:lnTo>
                <a:lnTo>
                  <a:pt x="1129" y="1107"/>
                </a:lnTo>
                <a:lnTo>
                  <a:pt x="1172" y="1171"/>
                </a:lnTo>
                <a:lnTo>
                  <a:pt x="1143" y="1201"/>
                </a:lnTo>
                <a:lnTo>
                  <a:pt x="1104" y="1226"/>
                </a:lnTo>
                <a:lnTo>
                  <a:pt x="1044" y="1300"/>
                </a:lnTo>
                <a:lnTo>
                  <a:pt x="967" y="1334"/>
                </a:lnTo>
                <a:lnTo>
                  <a:pt x="841" y="1347"/>
                </a:lnTo>
                <a:lnTo>
                  <a:pt x="825" y="1345"/>
                </a:lnTo>
                <a:lnTo>
                  <a:pt x="679" y="1407"/>
                </a:lnTo>
                <a:lnTo>
                  <a:pt x="608" y="1448"/>
                </a:lnTo>
                <a:lnTo>
                  <a:pt x="590" y="1438"/>
                </a:lnTo>
                <a:lnTo>
                  <a:pt x="583" y="1420"/>
                </a:lnTo>
                <a:lnTo>
                  <a:pt x="492" y="1414"/>
                </a:lnTo>
                <a:lnTo>
                  <a:pt x="391" y="1382"/>
                </a:lnTo>
                <a:lnTo>
                  <a:pt x="363" y="1350"/>
                </a:lnTo>
                <a:lnTo>
                  <a:pt x="212" y="1332"/>
                </a:lnTo>
                <a:lnTo>
                  <a:pt x="184" y="1345"/>
                </a:lnTo>
                <a:lnTo>
                  <a:pt x="2" y="1327"/>
                </a:lnTo>
                <a:lnTo>
                  <a:pt x="0" y="1354"/>
                </a:lnTo>
                <a:lnTo>
                  <a:pt x="12" y="1398"/>
                </a:lnTo>
                <a:lnTo>
                  <a:pt x="4" y="1465"/>
                </a:lnTo>
                <a:lnTo>
                  <a:pt x="56" y="1542"/>
                </a:lnTo>
                <a:lnTo>
                  <a:pt x="85" y="1560"/>
                </a:lnTo>
                <a:lnTo>
                  <a:pt x="127" y="1527"/>
                </a:lnTo>
                <a:lnTo>
                  <a:pt x="214" y="1527"/>
                </a:lnTo>
                <a:lnTo>
                  <a:pt x="236" y="1534"/>
                </a:lnTo>
                <a:lnTo>
                  <a:pt x="249" y="1555"/>
                </a:lnTo>
                <a:lnTo>
                  <a:pt x="240" y="1576"/>
                </a:lnTo>
                <a:lnTo>
                  <a:pt x="190" y="1616"/>
                </a:lnTo>
                <a:lnTo>
                  <a:pt x="195" y="1636"/>
                </a:lnTo>
                <a:lnTo>
                  <a:pt x="253" y="1678"/>
                </a:lnTo>
                <a:lnTo>
                  <a:pt x="274" y="1678"/>
                </a:lnTo>
                <a:lnTo>
                  <a:pt x="282" y="1688"/>
                </a:lnTo>
                <a:lnTo>
                  <a:pt x="277" y="1706"/>
                </a:lnTo>
                <a:lnTo>
                  <a:pt x="312" y="1734"/>
                </a:lnTo>
                <a:lnTo>
                  <a:pt x="394" y="1744"/>
                </a:lnTo>
                <a:lnTo>
                  <a:pt x="430" y="1736"/>
                </a:lnTo>
                <a:lnTo>
                  <a:pt x="481" y="1686"/>
                </a:lnTo>
                <a:lnTo>
                  <a:pt x="541" y="1690"/>
                </a:lnTo>
                <a:lnTo>
                  <a:pt x="566" y="1729"/>
                </a:lnTo>
                <a:lnTo>
                  <a:pt x="552" y="1761"/>
                </a:lnTo>
                <a:lnTo>
                  <a:pt x="554" y="1782"/>
                </a:lnTo>
                <a:lnTo>
                  <a:pt x="523" y="1802"/>
                </a:lnTo>
                <a:lnTo>
                  <a:pt x="510" y="1819"/>
                </a:lnTo>
                <a:lnTo>
                  <a:pt x="514" y="1860"/>
                </a:lnTo>
                <a:lnTo>
                  <a:pt x="571" y="1902"/>
                </a:lnTo>
                <a:lnTo>
                  <a:pt x="596" y="1893"/>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Freeform 6"/>
          <p:cNvSpPr/>
          <p:nvPr/>
        </p:nvSpPr>
        <p:spPr>
          <a:xfrm>
            <a:off x="714240" y="2308320"/>
            <a:ext cx="2345040" cy="1739880"/>
          </a:xfrm>
          <a:custGeom>
            <a:avLst/>
            <a:gdLst/>
            <a:ahLst/>
            <a:rect l="l" t="t" r="r" b="b"/>
            <a:pathLst>
              <a:path w="1922" h="1456">
                <a:moveTo>
                  <a:pt x="1310" y="13"/>
                </a:moveTo>
                <a:lnTo>
                  <a:pt x="1333" y="13"/>
                </a:lnTo>
                <a:lnTo>
                  <a:pt x="1318" y="50"/>
                </a:lnTo>
                <a:lnTo>
                  <a:pt x="1337" y="71"/>
                </a:lnTo>
                <a:lnTo>
                  <a:pt x="1337" y="87"/>
                </a:lnTo>
                <a:lnTo>
                  <a:pt x="1377" y="123"/>
                </a:lnTo>
                <a:lnTo>
                  <a:pt x="1387" y="152"/>
                </a:lnTo>
                <a:lnTo>
                  <a:pt x="1439" y="158"/>
                </a:lnTo>
                <a:lnTo>
                  <a:pt x="1460" y="177"/>
                </a:lnTo>
                <a:lnTo>
                  <a:pt x="1473" y="177"/>
                </a:lnTo>
                <a:lnTo>
                  <a:pt x="1503" y="239"/>
                </a:lnTo>
                <a:lnTo>
                  <a:pt x="1532" y="319"/>
                </a:lnTo>
                <a:lnTo>
                  <a:pt x="1517" y="363"/>
                </a:lnTo>
                <a:lnTo>
                  <a:pt x="1520" y="380"/>
                </a:lnTo>
                <a:lnTo>
                  <a:pt x="1492" y="427"/>
                </a:lnTo>
                <a:lnTo>
                  <a:pt x="1499" y="467"/>
                </a:lnTo>
                <a:lnTo>
                  <a:pt x="1597" y="506"/>
                </a:lnTo>
                <a:lnTo>
                  <a:pt x="1701" y="521"/>
                </a:lnTo>
                <a:lnTo>
                  <a:pt x="1809" y="596"/>
                </a:lnTo>
                <a:lnTo>
                  <a:pt x="1844" y="606"/>
                </a:lnTo>
                <a:lnTo>
                  <a:pt x="1846" y="627"/>
                </a:lnTo>
                <a:lnTo>
                  <a:pt x="1869" y="674"/>
                </a:lnTo>
                <a:lnTo>
                  <a:pt x="1891" y="735"/>
                </a:lnTo>
                <a:lnTo>
                  <a:pt x="1921" y="788"/>
                </a:lnTo>
                <a:lnTo>
                  <a:pt x="1904" y="807"/>
                </a:lnTo>
                <a:lnTo>
                  <a:pt x="1904" y="843"/>
                </a:lnTo>
                <a:lnTo>
                  <a:pt x="1867" y="858"/>
                </a:lnTo>
                <a:lnTo>
                  <a:pt x="1774" y="897"/>
                </a:lnTo>
                <a:lnTo>
                  <a:pt x="1715" y="945"/>
                </a:lnTo>
                <a:lnTo>
                  <a:pt x="1673" y="965"/>
                </a:lnTo>
                <a:lnTo>
                  <a:pt x="1666" y="995"/>
                </a:lnTo>
                <a:lnTo>
                  <a:pt x="1678" y="1138"/>
                </a:lnTo>
                <a:lnTo>
                  <a:pt x="1645" y="1133"/>
                </a:lnTo>
                <a:lnTo>
                  <a:pt x="1629" y="1145"/>
                </a:lnTo>
                <a:lnTo>
                  <a:pt x="1402" y="1189"/>
                </a:lnTo>
                <a:lnTo>
                  <a:pt x="1370" y="1215"/>
                </a:lnTo>
                <a:lnTo>
                  <a:pt x="1375" y="1275"/>
                </a:lnTo>
                <a:lnTo>
                  <a:pt x="1441" y="1332"/>
                </a:lnTo>
                <a:lnTo>
                  <a:pt x="1419" y="1367"/>
                </a:lnTo>
                <a:lnTo>
                  <a:pt x="1387" y="1383"/>
                </a:lnTo>
                <a:lnTo>
                  <a:pt x="1382" y="1401"/>
                </a:lnTo>
                <a:lnTo>
                  <a:pt x="1389" y="1416"/>
                </a:lnTo>
                <a:lnTo>
                  <a:pt x="1407" y="1416"/>
                </a:lnTo>
                <a:lnTo>
                  <a:pt x="1417" y="1429"/>
                </a:lnTo>
                <a:lnTo>
                  <a:pt x="1349" y="1455"/>
                </a:lnTo>
                <a:lnTo>
                  <a:pt x="1310" y="1439"/>
                </a:lnTo>
                <a:lnTo>
                  <a:pt x="1291" y="1427"/>
                </a:lnTo>
                <a:lnTo>
                  <a:pt x="1240" y="1427"/>
                </a:lnTo>
                <a:lnTo>
                  <a:pt x="1151" y="1387"/>
                </a:lnTo>
                <a:lnTo>
                  <a:pt x="1097" y="1387"/>
                </a:lnTo>
                <a:lnTo>
                  <a:pt x="1053" y="1401"/>
                </a:lnTo>
                <a:lnTo>
                  <a:pt x="1004" y="1401"/>
                </a:lnTo>
                <a:lnTo>
                  <a:pt x="927" y="1441"/>
                </a:lnTo>
                <a:lnTo>
                  <a:pt x="865" y="1434"/>
                </a:lnTo>
                <a:lnTo>
                  <a:pt x="802" y="1455"/>
                </a:lnTo>
                <a:lnTo>
                  <a:pt x="752" y="1439"/>
                </a:lnTo>
                <a:lnTo>
                  <a:pt x="719" y="1411"/>
                </a:lnTo>
                <a:lnTo>
                  <a:pt x="638" y="1401"/>
                </a:lnTo>
                <a:lnTo>
                  <a:pt x="583" y="1437"/>
                </a:lnTo>
                <a:lnTo>
                  <a:pt x="553" y="1425"/>
                </a:lnTo>
                <a:lnTo>
                  <a:pt x="529" y="1405"/>
                </a:lnTo>
                <a:lnTo>
                  <a:pt x="470" y="1389"/>
                </a:lnTo>
                <a:lnTo>
                  <a:pt x="459" y="1379"/>
                </a:lnTo>
                <a:lnTo>
                  <a:pt x="435" y="1378"/>
                </a:lnTo>
                <a:lnTo>
                  <a:pt x="398" y="1319"/>
                </a:lnTo>
                <a:lnTo>
                  <a:pt x="359" y="1311"/>
                </a:lnTo>
                <a:lnTo>
                  <a:pt x="267" y="1341"/>
                </a:lnTo>
                <a:lnTo>
                  <a:pt x="226" y="1332"/>
                </a:lnTo>
                <a:lnTo>
                  <a:pt x="146" y="1272"/>
                </a:lnTo>
                <a:lnTo>
                  <a:pt x="123" y="1270"/>
                </a:lnTo>
                <a:lnTo>
                  <a:pt x="105" y="1229"/>
                </a:lnTo>
                <a:lnTo>
                  <a:pt x="118" y="1189"/>
                </a:lnTo>
                <a:lnTo>
                  <a:pt x="113" y="1170"/>
                </a:lnTo>
                <a:lnTo>
                  <a:pt x="83" y="1150"/>
                </a:lnTo>
                <a:lnTo>
                  <a:pt x="74" y="1131"/>
                </a:lnTo>
                <a:lnTo>
                  <a:pt x="11" y="1096"/>
                </a:lnTo>
                <a:lnTo>
                  <a:pt x="11" y="1086"/>
                </a:lnTo>
                <a:lnTo>
                  <a:pt x="41" y="1074"/>
                </a:lnTo>
                <a:lnTo>
                  <a:pt x="58" y="1084"/>
                </a:lnTo>
                <a:lnTo>
                  <a:pt x="76" y="1067"/>
                </a:lnTo>
                <a:lnTo>
                  <a:pt x="71" y="1007"/>
                </a:lnTo>
                <a:lnTo>
                  <a:pt x="76" y="958"/>
                </a:lnTo>
                <a:lnTo>
                  <a:pt x="37" y="918"/>
                </a:lnTo>
                <a:lnTo>
                  <a:pt x="9" y="926"/>
                </a:lnTo>
                <a:lnTo>
                  <a:pt x="0" y="897"/>
                </a:lnTo>
                <a:lnTo>
                  <a:pt x="14" y="866"/>
                </a:lnTo>
                <a:lnTo>
                  <a:pt x="7" y="840"/>
                </a:lnTo>
                <a:lnTo>
                  <a:pt x="34" y="815"/>
                </a:lnTo>
                <a:lnTo>
                  <a:pt x="44" y="804"/>
                </a:lnTo>
                <a:lnTo>
                  <a:pt x="44" y="783"/>
                </a:lnTo>
                <a:lnTo>
                  <a:pt x="81" y="766"/>
                </a:lnTo>
                <a:lnTo>
                  <a:pt x="118" y="758"/>
                </a:lnTo>
                <a:lnTo>
                  <a:pt x="151" y="746"/>
                </a:lnTo>
                <a:lnTo>
                  <a:pt x="177" y="753"/>
                </a:lnTo>
                <a:lnTo>
                  <a:pt x="197" y="746"/>
                </a:lnTo>
                <a:lnTo>
                  <a:pt x="203" y="750"/>
                </a:lnTo>
                <a:lnTo>
                  <a:pt x="207" y="776"/>
                </a:lnTo>
                <a:lnTo>
                  <a:pt x="224" y="783"/>
                </a:lnTo>
                <a:lnTo>
                  <a:pt x="267" y="780"/>
                </a:lnTo>
                <a:lnTo>
                  <a:pt x="314" y="728"/>
                </a:lnTo>
                <a:lnTo>
                  <a:pt x="410" y="748"/>
                </a:lnTo>
                <a:lnTo>
                  <a:pt x="459" y="713"/>
                </a:lnTo>
                <a:lnTo>
                  <a:pt x="602" y="681"/>
                </a:lnTo>
                <a:lnTo>
                  <a:pt x="611" y="660"/>
                </a:lnTo>
                <a:lnTo>
                  <a:pt x="625" y="606"/>
                </a:lnTo>
                <a:lnTo>
                  <a:pt x="664" y="575"/>
                </a:lnTo>
                <a:lnTo>
                  <a:pt x="676" y="575"/>
                </a:lnTo>
                <a:lnTo>
                  <a:pt x="676" y="560"/>
                </a:lnTo>
                <a:lnTo>
                  <a:pt x="680" y="422"/>
                </a:lnTo>
                <a:lnTo>
                  <a:pt x="686" y="394"/>
                </a:lnTo>
                <a:lnTo>
                  <a:pt x="647" y="380"/>
                </a:lnTo>
                <a:lnTo>
                  <a:pt x="645" y="370"/>
                </a:lnTo>
                <a:lnTo>
                  <a:pt x="686" y="358"/>
                </a:lnTo>
                <a:lnTo>
                  <a:pt x="794" y="349"/>
                </a:lnTo>
                <a:lnTo>
                  <a:pt x="807" y="370"/>
                </a:lnTo>
                <a:lnTo>
                  <a:pt x="848" y="380"/>
                </a:lnTo>
                <a:lnTo>
                  <a:pt x="857" y="380"/>
                </a:lnTo>
                <a:lnTo>
                  <a:pt x="872" y="362"/>
                </a:lnTo>
                <a:lnTo>
                  <a:pt x="853" y="344"/>
                </a:lnTo>
                <a:lnTo>
                  <a:pt x="932" y="183"/>
                </a:lnTo>
                <a:lnTo>
                  <a:pt x="944" y="172"/>
                </a:lnTo>
                <a:lnTo>
                  <a:pt x="1016" y="207"/>
                </a:lnTo>
                <a:lnTo>
                  <a:pt x="1048" y="207"/>
                </a:lnTo>
                <a:lnTo>
                  <a:pt x="1063" y="227"/>
                </a:lnTo>
                <a:lnTo>
                  <a:pt x="1129" y="207"/>
                </a:lnTo>
                <a:lnTo>
                  <a:pt x="1147" y="92"/>
                </a:lnTo>
                <a:lnTo>
                  <a:pt x="1175" y="74"/>
                </a:lnTo>
                <a:lnTo>
                  <a:pt x="1214" y="71"/>
                </a:lnTo>
                <a:lnTo>
                  <a:pt x="1238" y="41"/>
                </a:lnTo>
                <a:lnTo>
                  <a:pt x="1245" y="13"/>
                </a:lnTo>
                <a:lnTo>
                  <a:pt x="1265" y="0"/>
                </a:lnTo>
                <a:lnTo>
                  <a:pt x="1310" y="13"/>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Freeform 7"/>
          <p:cNvSpPr/>
          <p:nvPr/>
        </p:nvSpPr>
        <p:spPr>
          <a:xfrm>
            <a:off x="5307120" y="2944800"/>
            <a:ext cx="664920" cy="633600"/>
          </a:xfrm>
          <a:custGeom>
            <a:avLst/>
            <a:gdLst/>
            <a:ahLst/>
            <a:rect l="l" t="t" r="r" b="b"/>
            <a:pathLst>
              <a:path w="548" h="530">
                <a:moveTo>
                  <a:pt x="453" y="368"/>
                </a:moveTo>
                <a:lnTo>
                  <a:pt x="508" y="281"/>
                </a:lnTo>
                <a:lnTo>
                  <a:pt x="547" y="239"/>
                </a:lnTo>
                <a:lnTo>
                  <a:pt x="542" y="197"/>
                </a:lnTo>
                <a:lnTo>
                  <a:pt x="503" y="153"/>
                </a:lnTo>
                <a:lnTo>
                  <a:pt x="497" y="117"/>
                </a:lnTo>
                <a:lnTo>
                  <a:pt x="429" y="22"/>
                </a:lnTo>
                <a:lnTo>
                  <a:pt x="423" y="32"/>
                </a:lnTo>
                <a:lnTo>
                  <a:pt x="411" y="45"/>
                </a:lnTo>
                <a:lnTo>
                  <a:pt x="382" y="13"/>
                </a:lnTo>
                <a:lnTo>
                  <a:pt x="337" y="0"/>
                </a:lnTo>
                <a:lnTo>
                  <a:pt x="337" y="13"/>
                </a:lnTo>
                <a:lnTo>
                  <a:pt x="337" y="32"/>
                </a:lnTo>
                <a:lnTo>
                  <a:pt x="320" y="47"/>
                </a:lnTo>
                <a:lnTo>
                  <a:pt x="283" y="82"/>
                </a:lnTo>
                <a:lnTo>
                  <a:pt x="246" y="82"/>
                </a:lnTo>
                <a:lnTo>
                  <a:pt x="232" y="107"/>
                </a:lnTo>
                <a:lnTo>
                  <a:pt x="218" y="107"/>
                </a:lnTo>
                <a:lnTo>
                  <a:pt x="191" y="134"/>
                </a:lnTo>
                <a:lnTo>
                  <a:pt x="175" y="134"/>
                </a:lnTo>
                <a:lnTo>
                  <a:pt x="144" y="166"/>
                </a:lnTo>
                <a:lnTo>
                  <a:pt x="125" y="171"/>
                </a:lnTo>
                <a:lnTo>
                  <a:pt x="82" y="235"/>
                </a:lnTo>
                <a:lnTo>
                  <a:pt x="55" y="196"/>
                </a:lnTo>
                <a:lnTo>
                  <a:pt x="26" y="176"/>
                </a:lnTo>
                <a:lnTo>
                  <a:pt x="12" y="190"/>
                </a:lnTo>
                <a:lnTo>
                  <a:pt x="28" y="277"/>
                </a:lnTo>
                <a:lnTo>
                  <a:pt x="14" y="307"/>
                </a:lnTo>
                <a:lnTo>
                  <a:pt x="0" y="350"/>
                </a:lnTo>
                <a:lnTo>
                  <a:pt x="42" y="377"/>
                </a:lnTo>
                <a:lnTo>
                  <a:pt x="62" y="380"/>
                </a:lnTo>
                <a:lnTo>
                  <a:pt x="92" y="421"/>
                </a:lnTo>
                <a:lnTo>
                  <a:pt x="115" y="409"/>
                </a:lnTo>
                <a:lnTo>
                  <a:pt x="149" y="368"/>
                </a:lnTo>
                <a:lnTo>
                  <a:pt x="182" y="308"/>
                </a:lnTo>
                <a:lnTo>
                  <a:pt x="240" y="296"/>
                </a:lnTo>
                <a:lnTo>
                  <a:pt x="276" y="332"/>
                </a:lnTo>
                <a:lnTo>
                  <a:pt x="251" y="392"/>
                </a:lnTo>
                <a:lnTo>
                  <a:pt x="218" y="445"/>
                </a:lnTo>
                <a:lnTo>
                  <a:pt x="246" y="467"/>
                </a:lnTo>
                <a:lnTo>
                  <a:pt x="246" y="494"/>
                </a:lnTo>
                <a:lnTo>
                  <a:pt x="223" y="518"/>
                </a:lnTo>
                <a:lnTo>
                  <a:pt x="228" y="529"/>
                </a:lnTo>
                <a:lnTo>
                  <a:pt x="269" y="507"/>
                </a:lnTo>
                <a:lnTo>
                  <a:pt x="330" y="425"/>
                </a:lnTo>
                <a:lnTo>
                  <a:pt x="423" y="374"/>
                </a:lnTo>
                <a:lnTo>
                  <a:pt x="453" y="368"/>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Freeform 8"/>
          <p:cNvSpPr/>
          <p:nvPr/>
        </p:nvSpPr>
        <p:spPr>
          <a:xfrm>
            <a:off x="5467320" y="2587680"/>
            <a:ext cx="971640" cy="646200"/>
          </a:xfrm>
          <a:custGeom>
            <a:avLst/>
            <a:gdLst/>
            <a:ahLst/>
            <a:rect l="l" t="t" r="r" b="b"/>
            <a:pathLst>
              <a:path w="793" h="540">
                <a:moveTo>
                  <a:pt x="784" y="151"/>
                </a:moveTo>
                <a:lnTo>
                  <a:pt x="768" y="148"/>
                </a:lnTo>
                <a:lnTo>
                  <a:pt x="742" y="148"/>
                </a:lnTo>
                <a:lnTo>
                  <a:pt x="705" y="136"/>
                </a:lnTo>
                <a:lnTo>
                  <a:pt x="694" y="115"/>
                </a:lnTo>
                <a:lnTo>
                  <a:pt x="681" y="133"/>
                </a:lnTo>
                <a:lnTo>
                  <a:pt x="664" y="120"/>
                </a:lnTo>
                <a:lnTo>
                  <a:pt x="625" y="163"/>
                </a:lnTo>
                <a:lnTo>
                  <a:pt x="618" y="176"/>
                </a:lnTo>
                <a:lnTo>
                  <a:pt x="600" y="178"/>
                </a:lnTo>
                <a:lnTo>
                  <a:pt x="576" y="151"/>
                </a:lnTo>
                <a:lnTo>
                  <a:pt x="554" y="144"/>
                </a:lnTo>
                <a:lnTo>
                  <a:pt x="529" y="94"/>
                </a:lnTo>
                <a:lnTo>
                  <a:pt x="511" y="108"/>
                </a:lnTo>
                <a:lnTo>
                  <a:pt x="517" y="148"/>
                </a:lnTo>
                <a:lnTo>
                  <a:pt x="504" y="156"/>
                </a:lnTo>
                <a:lnTo>
                  <a:pt x="472" y="122"/>
                </a:lnTo>
                <a:lnTo>
                  <a:pt x="460" y="108"/>
                </a:lnTo>
                <a:lnTo>
                  <a:pt x="435" y="108"/>
                </a:lnTo>
                <a:lnTo>
                  <a:pt x="423" y="70"/>
                </a:lnTo>
                <a:lnTo>
                  <a:pt x="388" y="51"/>
                </a:lnTo>
                <a:lnTo>
                  <a:pt x="342" y="70"/>
                </a:lnTo>
                <a:lnTo>
                  <a:pt x="325" y="66"/>
                </a:lnTo>
                <a:lnTo>
                  <a:pt x="301" y="39"/>
                </a:lnTo>
                <a:lnTo>
                  <a:pt x="262" y="61"/>
                </a:lnTo>
                <a:lnTo>
                  <a:pt x="241" y="61"/>
                </a:lnTo>
                <a:lnTo>
                  <a:pt x="216" y="70"/>
                </a:lnTo>
                <a:lnTo>
                  <a:pt x="180" y="45"/>
                </a:lnTo>
                <a:lnTo>
                  <a:pt x="154" y="0"/>
                </a:lnTo>
                <a:lnTo>
                  <a:pt x="98" y="9"/>
                </a:lnTo>
                <a:lnTo>
                  <a:pt x="75" y="37"/>
                </a:lnTo>
                <a:lnTo>
                  <a:pt x="73" y="66"/>
                </a:lnTo>
                <a:lnTo>
                  <a:pt x="7" y="48"/>
                </a:lnTo>
                <a:lnTo>
                  <a:pt x="0" y="70"/>
                </a:lnTo>
                <a:lnTo>
                  <a:pt x="4" y="82"/>
                </a:lnTo>
                <a:lnTo>
                  <a:pt x="39" y="108"/>
                </a:lnTo>
                <a:lnTo>
                  <a:pt x="39" y="144"/>
                </a:lnTo>
                <a:lnTo>
                  <a:pt x="44" y="176"/>
                </a:lnTo>
                <a:lnTo>
                  <a:pt x="64" y="206"/>
                </a:lnTo>
                <a:lnTo>
                  <a:pt x="66" y="231"/>
                </a:lnTo>
                <a:lnTo>
                  <a:pt x="80" y="241"/>
                </a:lnTo>
                <a:lnTo>
                  <a:pt x="130" y="195"/>
                </a:lnTo>
                <a:lnTo>
                  <a:pt x="180" y="259"/>
                </a:lnTo>
                <a:lnTo>
                  <a:pt x="180" y="296"/>
                </a:lnTo>
                <a:lnTo>
                  <a:pt x="208" y="312"/>
                </a:lnTo>
                <a:lnTo>
                  <a:pt x="208" y="298"/>
                </a:lnTo>
                <a:lnTo>
                  <a:pt x="253" y="312"/>
                </a:lnTo>
                <a:lnTo>
                  <a:pt x="283" y="344"/>
                </a:lnTo>
                <a:lnTo>
                  <a:pt x="295" y="330"/>
                </a:lnTo>
                <a:lnTo>
                  <a:pt x="301" y="320"/>
                </a:lnTo>
                <a:lnTo>
                  <a:pt x="368" y="415"/>
                </a:lnTo>
                <a:lnTo>
                  <a:pt x="375" y="452"/>
                </a:lnTo>
                <a:lnTo>
                  <a:pt x="414" y="495"/>
                </a:lnTo>
                <a:lnTo>
                  <a:pt x="418" y="539"/>
                </a:lnTo>
                <a:lnTo>
                  <a:pt x="452" y="517"/>
                </a:lnTo>
                <a:lnTo>
                  <a:pt x="483" y="426"/>
                </a:lnTo>
                <a:lnTo>
                  <a:pt x="499" y="420"/>
                </a:lnTo>
                <a:lnTo>
                  <a:pt x="534" y="440"/>
                </a:lnTo>
                <a:lnTo>
                  <a:pt x="591" y="433"/>
                </a:lnTo>
                <a:lnTo>
                  <a:pt x="609" y="415"/>
                </a:lnTo>
                <a:lnTo>
                  <a:pt x="583" y="375"/>
                </a:lnTo>
                <a:lnTo>
                  <a:pt x="591" y="364"/>
                </a:lnTo>
                <a:lnTo>
                  <a:pt x="642" y="346"/>
                </a:lnTo>
                <a:lnTo>
                  <a:pt x="664" y="307"/>
                </a:lnTo>
                <a:lnTo>
                  <a:pt x="691" y="294"/>
                </a:lnTo>
                <a:lnTo>
                  <a:pt x="694" y="252"/>
                </a:lnTo>
                <a:lnTo>
                  <a:pt x="700" y="225"/>
                </a:lnTo>
                <a:lnTo>
                  <a:pt x="716" y="220"/>
                </a:lnTo>
                <a:lnTo>
                  <a:pt x="729" y="235"/>
                </a:lnTo>
                <a:lnTo>
                  <a:pt x="745" y="246"/>
                </a:lnTo>
                <a:lnTo>
                  <a:pt x="782" y="199"/>
                </a:lnTo>
                <a:lnTo>
                  <a:pt x="792" y="160"/>
                </a:lnTo>
                <a:lnTo>
                  <a:pt x="784" y="151"/>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Freeform 9"/>
          <p:cNvSpPr/>
          <p:nvPr/>
        </p:nvSpPr>
        <p:spPr>
          <a:xfrm>
            <a:off x="3059280" y="5011560"/>
            <a:ext cx="1056960" cy="1073160"/>
          </a:xfrm>
          <a:custGeom>
            <a:avLst/>
            <a:gdLst/>
            <a:ahLst/>
            <a:rect l="l" t="t" r="r" b="b"/>
            <a:pathLst>
              <a:path w="867" h="900">
                <a:moveTo>
                  <a:pt x="762" y="165"/>
                </a:moveTo>
                <a:lnTo>
                  <a:pt x="756" y="139"/>
                </a:lnTo>
                <a:lnTo>
                  <a:pt x="734" y="133"/>
                </a:lnTo>
                <a:lnTo>
                  <a:pt x="695" y="156"/>
                </a:lnTo>
                <a:lnTo>
                  <a:pt x="671" y="142"/>
                </a:lnTo>
                <a:lnTo>
                  <a:pt x="671" y="110"/>
                </a:lnTo>
                <a:lnTo>
                  <a:pt x="658" y="96"/>
                </a:lnTo>
                <a:lnTo>
                  <a:pt x="658" y="78"/>
                </a:lnTo>
                <a:lnTo>
                  <a:pt x="623" y="72"/>
                </a:lnTo>
                <a:lnTo>
                  <a:pt x="616" y="80"/>
                </a:lnTo>
                <a:lnTo>
                  <a:pt x="621" y="105"/>
                </a:lnTo>
                <a:lnTo>
                  <a:pt x="591" y="117"/>
                </a:lnTo>
                <a:lnTo>
                  <a:pt x="585" y="134"/>
                </a:lnTo>
                <a:lnTo>
                  <a:pt x="591" y="157"/>
                </a:lnTo>
                <a:lnTo>
                  <a:pt x="528" y="229"/>
                </a:lnTo>
                <a:lnTo>
                  <a:pt x="540" y="313"/>
                </a:lnTo>
                <a:lnTo>
                  <a:pt x="510" y="337"/>
                </a:lnTo>
                <a:lnTo>
                  <a:pt x="497" y="322"/>
                </a:lnTo>
                <a:lnTo>
                  <a:pt x="437" y="357"/>
                </a:lnTo>
                <a:lnTo>
                  <a:pt x="416" y="345"/>
                </a:lnTo>
                <a:lnTo>
                  <a:pt x="329" y="180"/>
                </a:lnTo>
                <a:lnTo>
                  <a:pt x="296" y="156"/>
                </a:lnTo>
                <a:lnTo>
                  <a:pt x="268" y="147"/>
                </a:lnTo>
                <a:lnTo>
                  <a:pt x="255" y="124"/>
                </a:lnTo>
                <a:lnTo>
                  <a:pt x="271" y="100"/>
                </a:lnTo>
                <a:lnTo>
                  <a:pt x="245" y="80"/>
                </a:lnTo>
                <a:lnTo>
                  <a:pt x="217" y="105"/>
                </a:lnTo>
                <a:lnTo>
                  <a:pt x="188" y="110"/>
                </a:lnTo>
                <a:lnTo>
                  <a:pt x="167" y="22"/>
                </a:lnTo>
                <a:lnTo>
                  <a:pt x="163" y="0"/>
                </a:lnTo>
                <a:lnTo>
                  <a:pt x="133" y="37"/>
                </a:lnTo>
                <a:lnTo>
                  <a:pt x="121" y="44"/>
                </a:lnTo>
                <a:lnTo>
                  <a:pt x="122" y="100"/>
                </a:lnTo>
                <a:lnTo>
                  <a:pt x="116" y="112"/>
                </a:lnTo>
                <a:lnTo>
                  <a:pt x="100" y="112"/>
                </a:lnTo>
                <a:lnTo>
                  <a:pt x="88" y="100"/>
                </a:lnTo>
                <a:lnTo>
                  <a:pt x="73" y="117"/>
                </a:lnTo>
                <a:lnTo>
                  <a:pt x="88" y="182"/>
                </a:lnTo>
                <a:lnTo>
                  <a:pt x="105" y="182"/>
                </a:lnTo>
                <a:lnTo>
                  <a:pt x="121" y="192"/>
                </a:lnTo>
                <a:lnTo>
                  <a:pt x="125" y="231"/>
                </a:lnTo>
                <a:lnTo>
                  <a:pt x="117" y="367"/>
                </a:lnTo>
                <a:lnTo>
                  <a:pt x="25" y="451"/>
                </a:lnTo>
                <a:lnTo>
                  <a:pt x="20" y="482"/>
                </a:lnTo>
                <a:lnTo>
                  <a:pt x="2" y="496"/>
                </a:lnTo>
                <a:lnTo>
                  <a:pt x="0" y="514"/>
                </a:lnTo>
                <a:lnTo>
                  <a:pt x="15" y="553"/>
                </a:lnTo>
                <a:lnTo>
                  <a:pt x="2" y="583"/>
                </a:lnTo>
                <a:lnTo>
                  <a:pt x="10" y="585"/>
                </a:lnTo>
                <a:lnTo>
                  <a:pt x="57" y="572"/>
                </a:lnTo>
                <a:lnTo>
                  <a:pt x="122" y="571"/>
                </a:lnTo>
                <a:lnTo>
                  <a:pt x="116" y="597"/>
                </a:lnTo>
                <a:lnTo>
                  <a:pt x="127" y="622"/>
                </a:lnTo>
                <a:lnTo>
                  <a:pt x="133" y="660"/>
                </a:lnTo>
                <a:lnTo>
                  <a:pt x="140" y="672"/>
                </a:lnTo>
                <a:lnTo>
                  <a:pt x="179" y="672"/>
                </a:lnTo>
                <a:lnTo>
                  <a:pt x="197" y="684"/>
                </a:lnTo>
                <a:lnTo>
                  <a:pt x="177" y="709"/>
                </a:lnTo>
                <a:lnTo>
                  <a:pt x="175" y="740"/>
                </a:lnTo>
                <a:lnTo>
                  <a:pt x="160" y="775"/>
                </a:lnTo>
                <a:lnTo>
                  <a:pt x="170" y="788"/>
                </a:lnTo>
                <a:lnTo>
                  <a:pt x="195" y="790"/>
                </a:lnTo>
                <a:lnTo>
                  <a:pt x="236" y="806"/>
                </a:lnTo>
                <a:lnTo>
                  <a:pt x="230" y="820"/>
                </a:lnTo>
                <a:lnTo>
                  <a:pt x="257" y="861"/>
                </a:lnTo>
                <a:lnTo>
                  <a:pt x="297" y="861"/>
                </a:lnTo>
                <a:lnTo>
                  <a:pt x="347" y="831"/>
                </a:lnTo>
                <a:lnTo>
                  <a:pt x="361" y="841"/>
                </a:lnTo>
                <a:lnTo>
                  <a:pt x="361" y="856"/>
                </a:lnTo>
                <a:lnTo>
                  <a:pt x="368" y="882"/>
                </a:lnTo>
                <a:lnTo>
                  <a:pt x="381" y="894"/>
                </a:lnTo>
                <a:lnTo>
                  <a:pt x="409" y="891"/>
                </a:lnTo>
                <a:lnTo>
                  <a:pt x="418" y="899"/>
                </a:lnTo>
                <a:lnTo>
                  <a:pt x="428" y="886"/>
                </a:lnTo>
                <a:lnTo>
                  <a:pt x="428" y="848"/>
                </a:lnTo>
                <a:lnTo>
                  <a:pt x="410" y="775"/>
                </a:lnTo>
                <a:lnTo>
                  <a:pt x="423" y="756"/>
                </a:lnTo>
                <a:lnTo>
                  <a:pt x="465" y="756"/>
                </a:lnTo>
                <a:lnTo>
                  <a:pt x="474" y="756"/>
                </a:lnTo>
                <a:lnTo>
                  <a:pt x="497" y="728"/>
                </a:lnTo>
                <a:lnTo>
                  <a:pt x="555" y="745"/>
                </a:lnTo>
                <a:lnTo>
                  <a:pt x="578" y="726"/>
                </a:lnTo>
                <a:lnTo>
                  <a:pt x="591" y="738"/>
                </a:lnTo>
                <a:lnTo>
                  <a:pt x="616" y="721"/>
                </a:lnTo>
                <a:lnTo>
                  <a:pt x="640" y="745"/>
                </a:lnTo>
                <a:lnTo>
                  <a:pt x="647" y="745"/>
                </a:lnTo>
                <a:lnTo>
                  <a:pt x="656" y="733"/>
                </a:lnTo>
                <a:lnTo>
                  <a:pt x="676" y="714"/>
                </a:lnTo>
                <a:lnTo>
                  <a:pt x="683" y="721"/>
                </a:lnTo>
                <a:lnTo>
                  <a:pt x="713" y="716"/>
                </a:lnTo>
                <a:lnTo>
                  <a:pt x="738" y="693"/>
                </a:lnTo>
                <a:lnTo>
                  <a:pt x="762" y="660"/>
                </a:lnTo>
                <a:lnTo>
                  <a:pt x="792" y="655"/>
                </a:lnTo>
                <a:lnTo>
                  <a:pt x="809" y="672"/>
                </a:lnTo>
                <a:lnTo>
                  <a:pt x="821" y="637"/>
                </a:lnTo>
                <a:lnTo>
                  <a:pt x="846" y="636"/>
                </a:lnTo>
                <a:lnTo>
                  <a:pt x="856" y="627"/>
                </a:lnTo>
                <a:lnTo>
                  <a:pt x="866" y="595"/>
                </a:lnTo>
                <a:lnTo>
                  <a:pt x="854" y="578"/>
                </a:lnTo>
                <a:lnTo>
                  <a:pt x="771" y="561"/>
                </a:lnTo>
                <a:lnTo>
                  <a:pt x="756" y="538"/>
                </a:lnTo>
                <a:lnTo>
                  <a:pt x="734" y="538"/>
                </a:lnTo>
                <a:lnTo>
                  <a:pt x="708" y="538"/>
                </a:lnTo>
                <a:lnTo>
                  <a:pt x="694" y="512"/>
                </a:lnTo>
                <a:lnTo>
                  <a:pt x="694" y="496"/>
                </a:lnTo>
                <a:lnTo>
                  <a:pt x="706" y="438"/>
                </a:lnTo>
                <a:lnTo>
                  <a:pt x="671" y="405"/>
                </a:lnTo>
                <a:lnTo>
                  <a:pt x="695" y="302"/>
                </a:lnTo>
                <a:lnTo>
                  <a:pt x="681" y="288"/>
                </a:lnTo>
                <a:lnTo>
                  <a:pt x="628" y="306"/>
                </a:lnTo>
                <a:lnTo>
                  <a:pt x="616" y="283"/>
                </a:lnTo>
                <a:lnTo>
                  <a:pt x="616" y="258"/>
                </a:lnTo>
                <a:lnTo>
                  <a:pt x="603" y="246"/>
                </a:lnTo>
                <a:lnTo>
                  <a:pt x="630" y="210"/>
                </a:lnTo>
                <a:lnTo>
                  <a:pt x="658" y="219"/>
                </a:lnTo>
                <a:lnTo>
                  <a:pt x="671" y="207"/>
                </a:lnTo>
                <a:lnTo>
                  <a:pt x="725" y="214"/>
                </a:lnTo>
                <a:lnTo>
                  <a:pt x="752" y="207"/>
                </a:lnTo>
                <a:lnTo>
                  <a:pt x="762" y="165"/>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Freeform 10"/>
          <p:cNvSpPr/>
          <p:nvPr/>
        </p:nvSpPr>
        <p:spPr>
          <a:xfrm>
            <a:off x="4991040" y="4788000"/>
            <a:ext cx="550800" cy="752400"/>
          </a:xfrm>
          <a:custGeom>
            <a:avLst/>
            <a:gdLst/>
            <a:ahLst/>
            <a:rect l="l" t="t" r="r" b="b"/>
            <a:pathLst>
              <a:path w="449" h="630">
                <a:moveTo>
                  <a:pt x="9" y="138"/>
                </a:moveTo>
                <a:lnTo>
                  <a:pt x="38" y="194"/>
                </a:lnTo>
                <a:lnTo>
                  <a:pt x="40" y="223"/>
                </a:lnTo>
                <a:lnTo>
                  <a:pt x="27" y="253"/>
                </a:lnTo>
                <a:lnTo>
                  <a:pt x="4" y="270"/>
                </a:lnTo>
                <a:lnTo>
                  <a:pt x="0" y="322"/>
                </a:lnTo>
                <a:lnTo>
                  <a:pt x="7" y="331"/>
                </a:lnTo>
                <a:lnTo>
                  <a:pt x="19" y="326"/>
                </a:lnTo>
                <a:lnTo>
                  <a:pt x="27" y="331"/>
                </a:lnTo>
                <a:lnTo>
                  <a:pt x="27" y="366"/>
                </a:lnTo>
                <a:lnTo>
                  <a:pt x="40" y="405"/>
                </a:lnTo>
                <a:lnTo>
                  <a:pt x="58" y="412"/>
                </a:lnTo>
                <a:lnTo>
                  <a:pt x="61" y="471"/>
                </a:lnTo>
                <a:lnTo>
                  <a:pt x="50" y="510"/>
                </a:lnTo>
                <a:lnTo>
                  <a:pt x="61" y="528"/>
                </a:lnTo>
                <a:lnTo>
                  <a:pt x="81" y="547"/>
                </a:lnTo>
                <a:lnTo>
                  <a:pt x="126" y="535"/>
                </a:lnTo>
                <a:lnTo>
                  <a:pt x="136" y="553"/>
                </a:lnTo>
                <a:lnTo>
                  <a:pt x="120" y="572"/>
                </a:lnTo>
                <a:lnTo>
                  <a:pt x="97" y="608"/>
                </a:lnTo>
                <a:lnTo>
                  <a:pt x="97" y="618"/>
                </a:lnTo>
                <a:lnTo>
                  <a:pt x="112" y="629"/>
                </a:lnTo>
                <a:lnTo>
                  <a:pt x="209" y="588"/>
                </a:lnTo>
                <a:lnTo>
                  <a:pt x="244" y="608"/>
                </a:lnTo>
                <a:lnTo>
                  <a:pt x="253" y="598"/>
                </a:lnTo>
                <a:lnTo>
                  <a:pt x="244" y="576"/>
                </a:lnTo>
                <a:lnTo>
                  <a:pt x="246" y="562"/>
                </a:lnTo>
                <a:lnTo>
                  <a:pt x="261" y="472"/>
                </a:lnTo>
                <a:lnTo>
                  <a:pt x="275" y="452"/>
                </a:lnTo>
                <a:lnTo>
                  <a:pt x="282" y="427"/>
                </a:lnTo>
                <a:lnTo>
                  <a:pt x="299" y="390"/>
                </a:lnTo>
                <a:lnTo>
                  <a:pt x="289" y="375"/>
                </a:lnTo>
                <a:lnTo>
                  <a:pt x="292" y="344"/>
                </a:lnTo>
                <a:lnTo>
                  <a:pt x="334" y="296"/>
                </a:lnTo>
                <a:lnTo>
                  <a:pt x="333" y="264"/>
                </a:lnTo>
                <a:lnTo>
                  <a:pt x="358" y="218"/>
                </a:lnTo>
                <a:lnTo>
                  <a:pt x="385" y="226"/>
                </a:lnTo>
                <a:lnTo>
                  <a:pt x="438" y="186"/>
                </a:lnTo>
                <a:lnTo>
                  <a:pt x="448" y="166"/>
                </a:lnTo>
                <a:lnTo>
                  <a:pt x="414" y="103"/>
                </a:lnTo>
                <a:lnTo>
                  <a:pt x="392" y="70"/>
                </a:lnTo>
                <a:lnTo>
                  <a:pt x="408" y="56"/>
                </a:lnTo>
                <a:lnTo>
                  <a:pt x="388" y="37"/>
                </a:lnTo>
                <a:lnTo>
                  <a:pt x="336" y="37"/>
                </a:lnTo>
                <a:lnTo>
                  <a:pt x="315" y="12"/>
                </a:lnTo>
                <a:lnTo>
                  <a:pt x="273" y="54"/>
                </a:lnTo>
                <a:lnTo>
                  <a:pt x="258" y="46"/>
                </a:lnTo>
                <a:lnTo>
                  <a:pt x="275" y="14"/>
                </a:lnTo>
                <a:lnTo>
                  <a:pt x="273" y="4"/>
                </a:lnTo>
                <a:lnTo>
                  <a:pt x="258" y="0"/>
                </a:lnTo>
                <a:lnTo>
                  <a:pt x="209" y="27"/>
                </a:lnTo>
                <a:lnTo>
                  <a:pt x="171" y="39"/>
                </a:lnTo>
                <a:lnTo>
                  <a:pt x="138" y="37"/>
                </a:lnTo>
                <a:lnTo>
                  <a:pt x="70" y="100"/>
                </a:lnTo>
                <a:lnTo>
                  <a:pt x="34" y="112"/>
                </a:lnTo>
                <a:lnTo>
                  <a:pt x="9" y="138"/>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Freeform 11"/>
          <p:cNvSpPr/>
          <p:nvPr/>
        </p:nvSpPr>
        <p:spPr>
          <a:xfrm>
            <a:off x="3795840" y="5008680"/>
            <a:ext cx="733320" cy="603000"/>
          </a:xfrm>
          <a:custGeom>
            <a:avLst/>
            <a:gdLst/>
            <a:ahLst/>
            <a:rect l="l" t="t" r="r" b="b"/>
            <a:pathLst>
              <a:path w="600" h="506">
                <a:moveTo>
                  <a:pt x="163" y="169"/>
                </a:moveTo>
                <a:lnTo>
                  <a:pt x="152" y="210"/>
                </a:lnTo>
                <a:lnTo>
                  <a:pt x="126" y="217"/>
                </a:lnTo>
                <a:lnTo>
                  <a:pt x="70" y="210"/>
                </a:lnTo>
                <a:lnTo>
                  <a:pt x="57" y="222"/>
                </a:lnTo>
                <a:lnTo>
                  <a:pt x="28" y="212"/>
                </a:lnTo>
                <a:lnTo>
                  <a:pt x="0" y="249"/>
                </a:lnTo>
                <a:lnTo>
                  <a:pt x="13" y="261"/>
                </a:lnTo>
                <a:lnTo>
                  <a:pt x="13" y="286"/>
                </a:lnTo>
                <a:lnTo>
                  <a:pt x="26" y="308"/>
                </a:lnTo>
                <a:lnTo>
                  <a:pt x="80" y="291"/>
                </a:lnTo>
                <a:lnTo>
                  <a:pt x="95" y="304"/>
                </a:lnTo>
                <a:lnTo>
                  <a:pt x="70" y="407"/>
                </a:lnTo>
                <a:lnTo>
                  <a:pt x="106" y="439"/>
                </a:lnTo>
                <a:lnTo>
                  <a:pt x="94" y="496"/>
                </a:lnTo>
                <a:lnTo>
                  <a:pt x="130" y="500"/>
                </a:lnTo>
                <a:lnTo>
                  <a:pt x="163" y="467"/>
                </a:lnTo>
                <a:lnTo>
                  <a:pt x="177" y="476"/>
                </a:lnTo>
                <a:lnTo>
                  <a:pt x="246" y="505"/>
                </a:lnTo>
                <a:lnTo>
                  <a:pt x="257" y="496"/>
                </a:lnTo>
                <a:lnTo>
                  <a:pt x="260" y="476"/>
                </a:lnTo>
                <a:lnTo>
                  <a:pt x="274" y="463"/>
                </a:lnTo>
                <a:lnTo>
                  <a:pt x="372" y="402"/>
                </a:lnTo>
                <a:lnTo>
                  <a:pt x="386" y="422"/>
                </a:lnTo>
                <a:lnTo>
                  <a:pt x="448" y="439"/>
                </a:lnTo>
                <a:lnTo>
                  <a:pt x="478" y="397"/>
                </a:lnTo>
                <a:lnTo>
                  <a:pt x="493" y="407"/>
                </a:lnTo>
                <a:lnTo>
                  <a:pt x="517" y="407"/>
                </a:lnTo>
                <a:lnTo>
                  <a:pt x="517" y="395"/>
                </a:lnTo>
                <a:lnTo>
                  <a:pt x="548" y="385"/>
                </a:lnTo>
                <a:lnTo>
                  <a:pt x="548" y="377"/>
                </a:lnTo>
                <a:lnTo>
                  <a:pt x="559" y="364"/>
                </a:lnTo>
                <a:lnTo>
                  <a:pt x="566" y="366"/>
                </a:lnTo>
                <a:lnTo>
                  <a:pt x="599" y="337"/>
                </a:lnTo>
                <a:lnTo>
                  <a:pt x="571" y="293"/>
                </a:lnTo>
                <a:lnTo>
                  <a:pt x="585" y="232"/>
                </a:lnTo>
                <a:lnTo>
                  <a:pt x="570" y="212"/>
                </a:lnTo>
                <a:lnTo>
                  <a:pt x="524" y="224"/>
                </a:lnTo>
                <a:lnTo>
                  <a:pt x="519" y="217"/>
                </a:lnTo>
                <a:lnTo>
                  <a:pt x="570" y="164"/>
                </a:lnTo>
                <a:lnTo>
                  <a:pt x="548" y="78"/>
                </a:lnTo>
                <a:lnTo>
                  <a:pt x="514" y="103"/>
                </a:lnTo>
                <a:lnTo>
                  <a:pt x="483" y="74"/>
                </a:lnTo>
                <a:lnTo>
                  <a:pt x="456" y="38"/>
                </a:lnTo>
                <a:lnTo>
                  <a:pt x="452" y="15"/>
                </a:lnTo>
                <a:lnTo>
                  <a:pt x="436" y="10"/>
                </a:lnTo>
                <a:lnTo>
                  <a:pt x="410" y="17"/>
                </a:lnTo>
                <a:lnTo>
                  <a:pt x="372" y="0"/>
                </a:lnTo>
                <a:lnTo>
                  <a:pt x="354" y="41"/>
                </a:lnTo>
                <a:lnTo>
                  <a:pt x="322" y="44"/>
                </a:lnTo>
                <a:lnTo>
                  <a:pt x="298" y="78"/>
                </a:lnTo>
                <a:lnTo>
                  <a:pt x="283" y="71"/>
                </a:lnTo>
                <a:lnTo>
                  <a:pt x="260" y="78"/>
                </a:lnTo>
                <a:lnTo>
                  <a:pt x="225" y="58"/>
                </a:lnTo>
                <a:lnTo>
                  <a:pt x="197" y="90"/>
                </a:lnTo>
                <a:lnTo>
                  <a:pt x="197" y="106"/>
                </a:lnTo>
                <a:lnTo>
                  <a:pt x="252" y="133"/>
                </a:lnTo>
                <a:lnTo>
                  <a:pt x="265" y="156"/>
                </a:lnTo>
                <a:lnTo>
                  <a:pt x="225" y="170"/>
                </a:lnTo>
                <a:lnTo>
                  <a:pt x="163" y="169"/>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Freeform 12"/>
          <p:cNvSpPr/>
          <p:nvPr/>
        </p:nvSpPr>
        <p:spPr>
          <a:xfrm>
            <a:off x="3092400" y="4370400"/>
            <a:ext cx="1440000" cy="1065240"/>
          </a:xfrm>
          <a:custGeom>
            <a:avLst/>
            <a:gdLst/>
            <a:ahLst/>
            <a:rect l="l" t="t" r="r" b="b"/>
            <a:pathLst>
              <a:path w="1181" h="893">
                <a:moveTo>
                  <a:pt x="446" y="111"/>
                </a:moveTo>
                <a:lnTo>
                  <a:pt x="462" y="75"/>
                </a:lnTo>
                <a:lnTo>
                  <a:pt x="445" y="57"/>
                </a:lnTo>
                <a:lnTo>
                  <a:pt x="441" y="27"/>
                </a:lnTo>
                <a:lnTo>
                  <a:pt x="500" y="0"/>
                </a:lnTo>
                <a:lnTo>
                  <a:pt x="517" y="0"/>
                </a:lnTo>
                <a:lnTo>
                  <a:pt x="525" y="24"/>
                </a:lnTo>
                <a:lnTo>
                  <a:pt x="530" y="52"/>
                </a:lnTo>
                <a:lnTo>
                  <a:pt x="559" y="74"/>
                </a:lnTo>
                <a:lnTo>
                  <a:pt x="600" y="111"/>
                </a:lnTo>
                <a:lnTo>
                  <a:pt x="621" y="94"/>
                </a:lnTo>
                <a:lnTo>
                  <a:pt x="636" y="111"/>
                </a:lnTo>
                <a:lnTo>
                  <a:pt x="642" y="150"/>
                </a:lnTo>
                <a:lnTo>
                  <a:pt x="667" y="166"/>
                </a:lnTo>
                <a:lnTo>
                  <a:pt x="728" y="171"/>
                </a:lnTo>
                <a:lnTo>
                  <a:pt x="739" y="160"/>
                </a:lnTo>
                <a:lnTo>
                  <a:pt x="734" y="142"/>
                </a:lnTo>
                <a:lnTo>
                  <a:pt x="771" y="135"/>
                </a:lnTo>
                <a:lnTo>
                  <a:pt x="794" y="138"/>
                </a:lnTo>
                <a:lnTo>
                  <a:pt x="794" y="160"/>
                </a:lnTo>
                <a:lnTo>
                  <a:pt x="811" y="162"/>
                </a:lnTo>
                <a:lnTo>
                  <a:pt x="876" y="150"/>
                </a:lnTo>
                <a:lnTo>
                  <a:pt x="888" y="154"/>
                </a:lnTo>
                <a:lnTo>
                  <a:pt x="893" y="171"/>
                </a:lnTo>
                <a:lnTo>
                  <a:pt x="917" y="180"/>
                </a:lnTo>
                <a:lnTo>
                  <a:pt x="974" y="207"/>
                </a:lnTo>
                <a:lnTo>
                  <a:pt x="1007" y="194"/>
                </a:lnTo>
                <a:lnTo>
                  <a:pt x="1076" y="219"/>
                </a:lnTo>
                <a:lnTo>
                  <a:pt x="1089" y="238"/>
                </a:lnTo>
                <a:lnTo>
                  <a:pt x="1124" y="230"/>
                </a:lnTo>
                <a:lnTo>
                  <a:pt x="1147" y="234"/>
                </a:lnTo>
                <a:lnTo>
                  <a:pt x="1169" y="262"/>
                </a:lnTo>
                <a:lnTo>
                  <a:pt x="1180" y="320"/>
                </a:lnTo>
                <a:lnTo>
                  <a:pt x="1172" y="339"/>
                </a:lnTo>
                <a:lnTo>
                  <a:pt x="1158" y="334"/>
                </a:lnTo>
                <a:lnTo>
                  <a:pt x="1115" y="367"/>
                </a:lnTo>
                <a:lnTo>
                  <a:pt x="1044" y="379"/>
                </a:lnTo>
                <a:lnTo>
                  <a:pt x="1025" y="398"/>
                </a:lnTo>
                <a:lnTo>
                  <a:pt x="1039" y="418"/>
                </a:lnTo>
                <a:lnTo>
                  <a:pt x="1041" y="461"/>
                </a:lnTo>
                <a:lnTo>
                  <a:pt x="1061" y="465"/>
                </a:lnTo>
                <a:lnTo>
                  <a:pt x="1110" y="527"/>
                </a:lnTo>
                <a:lnTo>
                  <a:pt x="1112" y="608"/>
                </a:lnTo>
                <a:lnTo>
                  <a:pt x="1081" y="633"/>
                </a:lnTo>
                <a:lnTo>
                  <a:pt x="1051" y="603"/>
                </a:lnTo>
                <a:lnTo>
                  <a:pt x="1025" y="566"/>
                </a:lnTo>
                <a:lnTo>
                  <a:pt x="1021" y="543"/>
                </a:lnTo>
                <a:lnTo>
                  <a:pt x="1004" y="539"/>
                </a:lnTo>
                <a:lnTo>
                  <a:pt x="979" y="546"/>
                </a:lnTo>
                <a:lnTo>
                  <a:pt x="942" y="528"/>
                </a:lnTo>
                <a:lnTo>
                  <a:pt x="925" y="571"/>
                </a:lnTo>
                <a:lnTo>
                  <a:pt x="893" y="573"/>
                </a:lnTo>
                <a:lnTo>
                  <a:pt x="871" y="608"/>
                </a:lnTo>
                <a:lnTo>
                  <a:pt x="857" y="601"/>
                </a:lnTo>
                <a:lnTo>
                  <a:pt x="834" y="608"/>
                </a:lnTo>
                <a:lnTo>
                  <a:pt x="799" y="588"/>
                </a:lnTo>
                <a:lnTo>
                  <a:pt x="771" y="620"/>
                </a:lnTo>
                <a:lnTo>
                  <a:pt x="771" y="636"/>
                </a:lnTo>
                <a:lnTo>
                  <a:pt x="827" y="665"/>
                </a:lnTo>
                <a:lnTo>
                  <a:pt x="839" y="686"/>
                </a:lnTo>
                <a:lnTo>
                  <a:pt x="799" y="701"/>
                </a:lnTo>
                <a:lnTo>
                  <a:pt x="739" y="699"/>
                </a:lnTo>
                <a:lnTo>
                  <a:pt x="733" y="673"/>
                </a:lnTo>
                <a:lnTo>
                  <a:pt x="710" y="668"/>
                </a:lnTo>
                <a:lnTo>
                  <a:pt x="673" y="690"/>
                </a:lnTo>
                <a:lnTo>
                  <a:pt x="649" y="677"/>
                </a:lnTo>
                <a:lnTo>
                  <a:pt x="649" y="645"/>
                </a:lnTo>
                <a:lnTo>
                  <a:pt x="636" y="631"/>
                </a:lnTo>
                <a:lnTo>
                  <a:pt x="636" y="613"/>
                </a:lnTo>
                <a:lnTo>
                  <a:pt x="600" y="606"/>
                </a:lnTo>
                <a:lnTo>
                  <a:pt x="593" y="615"/>
                </a:lnTo>
                <a:lnTo>
                  <a:pt x="597" y="641"/>
                </a:lnTo>
                <a:lnTo>
                  <a:pt x="567" y="653"/>
                </a:lnTo>
                <a:lnTo>
                  <a:pt x="561" y="668"/>
                </a:lnTo>
                <a:lnTo>
                  <a:pt x="567" y="691"/>
                </a:lnTo>
                <a:lnTo>
                  <a:pt x="505" y="764"/>
                </a:lnTo>
                <a:lnTo>
                  <a:pt x="517" y="847"/>
                </a:lnTo>
                <a:lnTo>
                  <a:pt x="488" y="871"/>
                </a:lnTo>
                <a:lnTo>
                  <a:pt x="474" y="857"/>
                </a:lnTo>
                <a:lnTo>
                  <a:pt x="414" y="892"/>
                </a:lnTo>
                <a:lnTo>
                  <a:pt x="392" y="879"/>
                </a:lnTo>
                <a:lnTo>
                  <a:pt x="304" y="714"/>
                </a:lnTo>
                <a:lnTo>
                  <a:pt x="272" y="690"/>
                </a:lnTo>
                <a:lnTo>
                  <a:pt x="244" y="681"/>
                </a:lnTo>
                <a:lnTo>
                  <a:pt x="231" y="660"/>
                </a:lnTo>
                <a:lnTo>
                  <a:pt x="247" y="636"/>
                </a:lnTo>
                <a:lnTo>
                  <a:pt x="222" y="615"/>
                </a:lnTo>
                <a:lnTo>
                  <a:pt x="192" y="641"/>
                </a:lnTo>
                <a:lnTo>
                  <a:pt x="163" y="645"/>
                </a:lnTo>
                <a:lnTo>
                  <a:pt x="142" y="557"/>
                </a:lnTo>
                <a:lnTo>
                  <a:pt x="138" y="534"/>
                </a:lnTo>
                <a:lnTo>
                  <a:pt x="132" y="391"/>
                </a:lnTo>
                <a:lnTo>
                  <a:pt x="105" y="320"/>
                </a:lnTo>
                <a:lnTo>
                  <a:pt x="124" y="306"/>
                </a:lnTo>
                <a:lnTo>
                  <a:pt x="69" y="202"/>
                </a:lnTo>
                <a:lnTo>
                  <a:pt x="0" y="147"/>
                </a:lnTo>
                <a:lnTo>
                  <a:pt x="10" y="116"/>
                </a:lnTo>
                <a:lnTo>
                  <a:pt x="16" y="106"/>
                </a:lnTo>
                <a:lnTo>
                  <a:pt x="117" y="90"/>
                </a:lnTo>
                <a:lnTo>
                  <a:pt x="184" y="111"/>
                </a:lnTo>
                <a:lnTo>
                  <a:pt x="224" y="98"/>
                </a:lnTo>
                <a:lnTo>
                  <a:pt x="240" y="122"/>
                </a:lnTo>
                <a:lnTo>
                  <a:pt x="290" y="171"/>
                </a:lnTo>
                <a:lnTo>
                  <a:pt x="327" y="165"/>
                </a:lnTo>
                <a:lnTo>
                  <a:pt x="327" y="135"/>
                </a:lnTo>
                <a:lnTo>
                  <a:pt x="337" y="116"/>
                </a:lnTo>
                <a:lnTo>
                  <a:pt x="376" y="99"/>
                </a:lnTo>
                <a:lnTo>
                  <a:pt x="392" y="126"/>
                </a:lnTo>
                <a:lnTo>
                  <a:pt x="414" y="111"/>
                </a:lnTo>
                <a:lnTo>
                  <a:pt x="446" y="112"/>
                </a:lnTo>
                <a:lnTo>
                  <a:pt x="446" y="111"/>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Freeform 13"/>
          <p:cNvSpPr/>
          <p:nvPr/>
        </p:nvSpPr>
        <p:spPr>
          <a:xfrm>
            <a:off x="990720" y="3965400"/>
            <a:ext cx="2270160" cy="1200240"/>
          </a:xfrm>
          <a:custGeom>
            <a:avLst/>
            <a:gdLst/>
            <a:ahLst/>
            <a:rect l="l" t="t" r="r" b="b"/>
            <a:pathLst>
              <a:path w="1863" h="1005">
                <a:moveTo>
                  <a:pt x="1073" y="951"/>
                </a:moveTo>
                <a:lnTo>
                  <a:pt x="1132" y="958"/>
                </a:lnTo>
                <a:lnTo>
                  <a:pt x="1151" y="985"/>
                </a:lnTo>
                <a:lnTo>
                  <a:pt x="1161" y="990"/>
                </a:lnTo>
                <a:lnTo>
                  <a:pt x="1250" y="973"/>
                </a:lnTo>
                <a:lnTo>
                  <a:pt x="1256" y="958"/>
                </a:lnTo>
                <a:lnTo>
                  <a:pt x="1272" y="948"/>
                </a:lnTo>
                <a:lnTo>
                  <a:pt x="1316" y="915"/>
                </a:lnTo>
                <a:lnTo>
                  <a:pt x="1353" y="910"/>
                </a:lnTo>
                <a:lnTo>
                  <a:pt x="1386" y="887"/>
                </a:lnTo>
                <a:lnTo>
                  <a:pt x="1452" y="850"/>
                </a:lnTo>
                <a:lnTo>
                  <a:pt x="1461" y="863"/>
                </a:lnTo>
                <a:lnTo>
                  <a:pt x="1510" y="880"/>
                </a:lnTo>
                <a:lnTo>
                  <a:pt x="1582" y="843"/>
                </a:lnTo>
                <a:lnTo>
                  <a:pt x="1604" y="858"/>
                </a:lnTo>
                <a:lnTo>
                  <a:pt x="1584" y="887"/>
                </a:lnTo>
                <a:lnTo>
                  <a:pt x="1592" y="895"/>
                </a:lnTo>
                <a:lnTo>
                  <a:pt x="1622" y="895"/>
                </a:lnTo>
                <a:lnTo>
                  <a:pt x="1624" y="907"/>
                </a:lnTo>
                <a:lnTo>
                  <a:pt x="1599" y="951"/>
                </a:lnTo>
                <a:lnTo>
                  <a:pt x="1607" y="958"/>
                </a:lnTo>
                <a:lnTo>
                  <a:pt x="1622" y="958"/>
                </a:lnTo>
                <a:lnTo>
                  <a:pt x="1694" y="978"/>
                </a:lnTo>
                <a:lnTo>
                  <a:pt x="1725" y="951"/>
                </a:lnTo>
                <a:lnTo>
                  <a:pt x="1772" y="988"/>
                </a:lnTo>
                <a:lnTo>
                  <a:pt x="1787" y="971"/>
                </a:lnTo>
                <a:lnTo>
                  <a:pt x="1799" y="983"/>
                </a:lnTo>
                <a:lnTo>
                  <a:pt x="1815" y="983"/>
                </a:lnTo>
                <a:lnTo>
                  <a:pt x="1821" y="971"/>
                </a:lnTo>
                <a:lnTo>
                  <a:pt x="1820" y="915"/>
                </a:lnTo>
                <a:lnTo>
                  <a:pt x="1832" y="907"/>
                </a:lnTo>
                <a:lnTo>
                  <a:pt x="1862" y="870"/>
                </a:lnTo>
                <a:lnTo>
                  <a:pt x="1856" y="727"/>
                </a:lnTo>
                <a:lnTo>
                  <a:pt x="1829" y="655"/>
                </a:lnTo>
                <a:lnTo>
                  <a:pt x="1848" y="641"/>
                </a:lnTo>
                <a:lnTo>
                  <a:pt x="1792" y="538"/>
                </a:lnTo>
                <a:lnTo>
                  <a:pt x="1722" y="482"/>
                </a:lnTo>
                <a:lnTo>
                  <a:pt x="1703" y="495"/>
                </a:lnTo>
                <a:lnTo>
                  <a:pt x="1706" y="528"/>
                </a:lnTo>
                <a:lnTo>
                  <a:pt x="1647" y="602"/>
                </a:lnTo>
                <a:lnTo>
                  <a:pt x="1547" y="584"/>
                </a:lnTo>
                <a:lnTo>
                  <a:pt x="1540" y="547"/>
                </a:lnTo>
                <a:lnTo>
                  <a:pt x="1478" y="497"/>
                </a:lnTo>
                <a:lnTo>
                  <a:pt x="1342" y="475"/>
                </a:lnTo>
                <a:lnTo>
                  <a:pt x="1283" y="465"/>
                </a:lnTo>
                <a:lnTo>
                  <a:pt x="1260" y="463"/>
                </a:lnTo>
                <a:lnTo>
                  <a:pt x="1209" y="420"/>
                </a:lnTo>
                <a:lnTo>
                  <a:pt x="1102" y="397"/>
                </a:lnTo>
                <a:lnTo>
                  <a:pt x="1028" y="253"/>
                </a:lnTo>
                <a:lnTo>
                  <a:pt x="1026" y="214"/>
                </a:lnTo>
                <a:lnTo>
                  <a:pt x="1055" y="201"/>
                </a:lnTo>
                <a:lnTo>
                  <a:pt x="1055" y="157"/>
                </a:lnTo>
                <a:lnTo>
                  <a:pt x="1078" y="103"/>
                </a:lnTo>
                <a:lnTo>
                  <a:pt x="1054" y="78"/>
                </a:lnTo>
                <a:lnTo>
                  <a:pt x="1085" y="51"/>
                </a:lnTo>
                <a:lnTo>
                  <a:pt x="1066" y="39"/>
                </a:lnTo>
                <a:lnTo>
                  <a:pt x="1016" y="39"/>
                </a:lnTo>
                <a:lnTo>
                  <a:pt x="927" y="0"/>
                </a:lnTo>
                <a:lnTo>
                  <a:pt x="872" y="0"/>
                </a:lnTo>
                <a:lnTo>
                  <a:pt x="827" y="13"/>
                </a:lnTo>
                <a:lnTo>
                  <a:pt x="778" y="13"/>
                </a:lnTo>
                <a:lnTo>
                  <a:pt x="703" y="54"/>
                </a:lnTo>
                <a:lnTo>
                  <a:pt x="640" y="46"/>
                </a:lnTo>
                <a:lnTo>
                  <a:pt x="578" y="67"/>
                </a:lnTo>
                <a:lnTo>
                  <a:pt x="526" y="51"/>
                </a:lnTo>
                <a:lnTo>
                  <a:pt x="494" y="24"/>
                </a:lnTo>
                <a:lnTo>
                  <a:pt x="413" y="13"/>
                </a:lnTo>
                <a:lnTo>
                  <a:pt x="358" y="49"/>
                </a:lnTo>
                <a:lnTo>
                  <a:pt x="328" y="37"/>
                </a:lnTo>
                <a:lnTo>
                  <a:pt x="304" y="18"/>
                </a:lnTo>
                <a:lnTo>
                  <a:pt x="244" y="1"/>
                </a:lnTo>
                <a:lnTo>
                  <a:pt x="202" y="28"/>
                </a:lnTo>
                <a:lnTo>
                  <a:pt x="184" y="76"/>
                </a:lnTo>
                <a:lnTo>
                  <a:pt x="153" y="94"/>
                </a:lnTo>
                <a:lnTo>
                  <a:pt x="146" y="120"/>
                </a:lnTo>
                <a:lnTo>
                  <a:pt x="124" y="127"/>
                </a:lnTo>
                <a:lnTo>
                  <a:pt x="99" y="124"/>
                </a:lnTo>
                <a:lnTo>
                  <a:pt x="89" y="147"/>
                </a:lnTo>
                <a:lnTo>
                  <a:pt x="83" y="175"/>
                </a:lnTo>
                <a:lnTo>
                  <a:pt x="74" y="172"/>
                </a:lnTo>
                <a:lnTo>
                  <a:pt x="71" y="201"/>
                </a:lnTo>
                <a:lnTo>
                  <a:pt x="101" y="231"/>
                </a:lnTo>
                <a:lnTo>
                  <a:pt x="104" y="273"/>
                </a:lnTo>
                <a:lnTo>
                  <a:pt x="94" y="288"/>
                </a:lnTo>
                <a:lnTo>
                  <a:pt x="49" y="293"/>
                </a:lnTo>
                <a:lnTo>
                  <a:pt x="27" y="267"/>
                </a:lnTo>
                <a:lnTo>
                  <a:pt x="4" y="273"/>
                </a:lnTo>
                <a:lnTo>
                  <a:pt x="0" y="293"/>
                </a:lnTo>
                <a:lnTo>
                  <a:pt x="11" y="323"/>
                </a:lnTo>
                <a:lnTo>
                  <a:pt x="17" y="347"/>
                </a:lnTo>
                <a:lnTo>
                  <a:pt x="17" y="374"/>
                </a:lnTo>
                <a:lnTo>
                  <a:pt x="9" y="397"/>
                </a:lnTo>
                <a:lnTo>
                  <a:pt x="11" y="411"/>
                </a:lnTo>
                <a:lnTo>
                  <a:pt x="43" y="415"/>
                </a:lnTo>
                <a:lnTo>
                  <a:pt x="57" y="441"/>
                </a:lnTo>
                <a:lnTo>
                  <a:pt x="124" y="495"/>
                </a:lnTo>
                <a:lnTo>
                  <a:pt x="124" y="510"/>
                </a:lnTo>
                <a:lnTo>
                  <a:pt x="172" y="565"/>
                </a:lnTo>
                <a:lnTo>
                  <a:pt x="189" y="584"/>
                </a:lnTo>
                <a:lnTo>
                  <a:pt x="205" y="588"/>
                </a:lnTo>
                <a:lnTo>
                  <a:pt x="233" y="559"/>
                </a:lnTo>
                <a:lnTo>
                  <a:pt x="261" y="584"/>
                </a:lnTo>
                <a:lnTo>
                  <a:pt x="375" y="679"/>
                </a:lnTo>
                <a:lnTo>
                  <a:pt x="395" y="730"/>
                </a:lnTo>
                <a:lnTo>
                  <a:pt x="421" y="730"/>
                </a:lnTo>
                <a:lnTo>
                  <a:pt x="435" y="715"/>
                </a:lnTo>
                <a:lnTo>
                  <a:pt x="447" y="727"/>
                </a:lnTo>
                <a:lnTo>
                  <a:pt x="447" y="771"/>
                </a:lnTo>
                <a:lnTo>
                  <a:pt x="513" y="808"/>
                </a:lnTo>
                <a:lnTo>
                  <a:pt x="529" y="805"/>
                </a:lnTo>
                <a:lnTo>
                  <a:pt x="538" y="843"/>
                </a:lnTo>
                <a:lnTo>
                  <a:pt x="596" y="875"/>
                </a:lnTo>
                <a:lnTo>
                  <a:pt x="596" y="898"/>
                </a:lnTo>
                <a:lnTo>
                  <a:pt x="608" y="905"/>
                </a:lnTo>
                <a:lnTo>
                  <a:pt x="657" y="903"/>
                </a:lnTo>
                <a:lnTo>
                  <a:pt x="682" y="903"/>
                </a:lnTo>
                <a:lnTo>
                  <a:pt x="724" y="931"/>
                </a:lnTo>
                <a:lnTo>
                  <a:pt x="813" y="928"/>
                </a:lnTo>
                <a:lnTo>
                  <a:pt x="860" y="927"/>
                </a:lnTo>
                <a:lnTo>
                  <a:pt x="872" y="946"/>
                </a:lnTo>
                <a:lnTo>
                  <a:pt x="860" y="988"/>
                </a:lnTo>
                <a:lnTo>
                  <a:pt x="872" y="1004"/>
                </a:lnTo>
                <a:lnTo>
                  <a:pt x="922" y="961"/>
                </a:lnTo>
                <a:lnTo>
                  <a:pt x="984" y="918"/>
                </a:lnTo>
                <a:lnTo>
                  <a:pt x="1028" y="923"/>
                </a:lnTo>
                <a:lnTo>
                  <a:pt x="1073" y="951"/>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Freeform 14"/>
          <p:cNvSpPr/>
          <p:nvPr/>
        </p:nvSpPr>
        <p:spPr>
          <a:xfrm>
            <a:off x="4518000" y="4027320"/>
            <a:ext cx="706320" cy="605160"/>
          </a:xfrm>
          <a:custGeom>
            <a:avLst/>
            <a:gdLst/>
            <a:ahLst/>
            <a:rect l="l" t="t" r="r" b="b"/>
            <a:pathLst>
              <a:path w="580" h="507">
                <a:moveTo>
                  <a:pt x="67" y="352"/>
                </a:moveTo>
                <a:lnTo>
                  <a:pt x="151" y="423"/>
                </a:lnTo>
                <a:lnTo>
                  <a:pt x="220" y="437"/>
                </a:lnTo>
                <a:lnTo>
                  <a:pt x="282" y="430"/>
                </a:lnTo>
                <a:lnTo>
                  <a:pt x="303" y="437"/>
                </a:lnTo>
                <a:lnTo>
                  <a:pt x="326" y="425"/>
                </a:lnTo>
                <a:lnTo>
                  <a:pt x="340" y="443"/>
                </a:lnTo>
                <a:lnTo>
                  <a:pt x="347" y="465"/>
                </a:lnTo>
                <a:lnTo>
                  <a:pt x="378" y="480"/>
                </a:lnTo>
                <a:lnTo>
                  <a:pt x="418" y="480"/>
                </a:lnTo>
                <a:lnTo>
                  <a:pt x="448" y="506"/>
                </a:lnTo>
                <a:lnTo>
                  <a:pt x="475" y="494"/>
                </a:lnTo>
                <a:lnTo>
                  <a:pt x="496" y="506"/>
                </a:lnTo>
                <a:lnTo>
                  <a:pt x="513" y="471"/>
                </a:lnTo>
                <a:lnTo>
                  <a:pt x="538" y="460"/>
                </a:lnTo>
                <a:lnTo>
                  <a:pt x="543" y="432"/>
                </a:lnTo>
                <a:lnTo>
                  <a:pt x="533" y="382"/>
                </a:lnTo>
                <a:lnTo>
                  <a:pt x="529" y="378"/>
                </a:lnTo>
                <a:lnTo>
                  <a:pt x="503" y="405"/>
                </a:lnTo>
                <a:lnTo>
                  <a:pt x="465" y="374"/>
                </a:lnTo>
                <a:lnTo>
                  <a:pt x="437" y="340"/>
                </a:lnTo>
                <a:lnTo>
                  <a:pt x="465" y="320"/>
                </a:lnTo>
                <a:lnTo>
                  <a:pt x="474" y="286"/>
                </a:lnTo>
                <a:lnTo>
                  <a:pt x="490" y="274"/>
                </a:lnTo>
                <a:lnTo>
                  <a:pt x="489" y="227"/>
                </a:lnTo>
                <a:lnTo>
                  <a:pt x="501" y="217"/>
                </a:lnTo>
                <a:lnTo>
                  <a:pt x="524" y="235"/>
                </a:lnTo>
                <a:lnTo>
                  <a:pt x="538" y="254"/>
                </a:lnTo>
                <a:lnTo>
                  <a:pt x="569" y="235"/>
                </a:lnTo>
                <a:lnTo>
                  <a:pt x="579" y="223"/>
                </a:lnTo>
                <a:lnTo>
                  <a:pt x="574" y="199"/>
                </a:lnTo>
                <a:lnTo>
                  <a:pt x="538" y="181"/>
                </a:lnTo>
                <a:lnTo>
                  <a:pt x="530" y="155"/>
                </a:lnTo>
                <a:lnTo>
                  <a:pt x="469" y="164"/>
                </a:lnTo>
                <a:lnTo>
                  <a:pt x="428" y="131"/>
                </a:lnTo>
                <a:lnTo>
                  <a:pt x="410" y="127"/>
                </a:lnTo>
                <a:lnTo>
                  <a:pt x="410" y="103"/>
                </a:lnTo>
                <a:lnTo>
                  <a:pt x="498" y="9"/>
                </a:lnTo>
                <a:lnTo>
                  <a:pt x="465" y="17"/>
                </a:lnTo>
                <a:lnTo>
                  <a:pt x="445" y="28"/>
                </a:lnTo>
                <a:lnTo>
                  <a:pt x="437" y="17"/>
                </a:lnTo>
                <a:lnTo>
                  <a:pt x="437" y="4"/>
                </a:lnTo>
                <a:lnTo>
                  <a:pt x="423" y="0"/>
                </a:lnTo>
                <a:lnTo>
                  <a:pt x="383" y="14"/>
                </a:lnTo>
                <a:lnTo>
                  <a:pt x="282" y="2"/>
                </a:lnTo>
                <a:lnTo>
                  <a:pt x="277" y="82"/>
                </a:lnTo>
                <a:lnTo>
                  <a:pt x="230" y="121"/>
                </a:lnTo>
                <a:lnTo>
                  <a:pt x="163" y="131"/>
                </a:lnTo>
                <a:lnTo>
                  <a:pt x="72" y="190"/>
                </a:lnTo>
                <a:lnTo>
                  <a:pt x="0" y="211"/>
                </a:lnTo>
                <a:lnTo>
                  <a:pt x="0" y="223"/>
                </a:lnTo>
                <a:lnTo>
                  <a:pt x="67" y="322"/>
                </a:lnTo>
                <a:lnTo>
                  <a:pt x="67" y="352"/>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Freeform 15"/>
          <p:cNvSpPr/>
          <p:nvPr/>
        </p:nvSpPr>
        <p:spPr>
          <a:xfrm>
            <a:off x="2246400" y="3662280"/>
            <a:ext cx="1469880" cy="1022400"/>
          </a:xfrm>
          <a:custGeom>
            <a:avLst/>
            <a:gdLst/>
            <a:ahLst/>
            <a:rect l="l" t="t" r="r" b="b"/>
            <a:pathLst>
              <a:path w="1202" h="856">
                <a:moveTo>
                  <a:pt x="58" y="304"/>
                </a:moveTo>
                <a:lnTo>
                  <a:pt x="98" y="320"/>
                </a:lnTo>
                <a:lnTo>
                  <a:pt x="164" y="294"/>
                </a:lnTo>
                <a:lnTo>
                  <a:pt x="154" y="281"/>
                </a:lnTo>
                <a:lnTo>
                  <a:pt x="136" y="281"/>
                </a:lnTo>
                <a:lnTo>
                  <a:pt x="129" y="266"/>
                </a:lnTo>
                <a:lnTo>
                  <a:pt x="134" y="248"/>
                </a:lnTo>
                <a:lnTo>
                  <a:pt x="166" y="232"/>
                </a:lnTo>
                <a:lnTo>
                  <a:pt x="189" y="197"/>
                </a:lnTo>
                <a:lnTo>
                  <a:pt x="122" y="140"/>
                </a:lnTo>
                <a:lnTo>
                  <a:pt x="117" y="80"/>
                </a:lnTo>
                <a:lnTo>
                  <a:pt x="149" y="56"/>
                </a:lnTo>
                <a:lnTo>
                  <a:pt x="376" y="11"/>
                </a:lnTo>
                <a:lnTo>
                  <a:pt x="392" y="0"/>
                </a:lnTo>
                <a:lnTo>
                  <a:pt x="425" y="4"/>
                </a:lnTo>
                <a:lnTo>
                  <a:pt x="539" y="31"/>
                </a:lnTo>
                <a:lnTo>
                  <a:pt x="573" y="51"/>
                </a:lnTo>
                <a:lnTo>
                  <a:pt x="623" y="80"/>
                </a:lnTo>
                <a:lnTo>
                  <a:pt x="656" y="77"/>
                </a:lnTo>
                <a:lnTo>
                  <a:pt x="705" y="49"/>
                </a:lnTo>
                <a:lnTo>
                  <a:pt x="769" y="58"/>
                </a:lnTo>
                <a:lnTo>
                  <a:pt x="811" y="37"/>
                </a:lnTo>
                <a:lnTo>
                  <a:pt x="897" y="89"/>
                </a:lnTo>
                <a:lnTo>
                  <a:pt x="944" y="73"/>
                </a:lnTo>
                <a:lnTo>
                  <a:pt x="968" y="131"/>
                </a:lnTo>
                <a:lnTo>
                  <a:pt x="1028" y="169"/>
                </a:lnTo>
                <a:lnTo>
                  <a:pt x="1072" y="208"/>
                </a:lnTo>
                <a:lnTo>
                  <a:pt x="1103" y="197"/>
                </a:lnTo>
                <a:lnTo>
                  <a:pt x="1163" y="277"/>
                </a:lnTo>
                <a:lnTo>
                  <a:pt x="1175" y="329"/>
                </a:lnTo>
                <a:lnTo>
                  <a:pt x="1201" y="360"/>
                </a:lnTo>
                <a:lnTo>
                  <a:pt x="1193" y="423"/>
                </a:lnTo>
                <a:lnTo>
                  <a:pt x="1144" y="459"/>
                </a:lnTo>
                <a:lnTo>
                  <a:pt x="1154" y="484"/>
                </a:lnTo>
                <a:lnTo>
                  <a:pt x="1135" y="503"/>
                </a:lnTo>
                <a:lnTo>
                  <a:pt x="1108" y="526"/>
                </a:lnTo>
                <a:lnTo>
                  <a:pt x="1108" y="568"/>
                </a:lnTo>
                <a:lnTo>
                  <a:pt x="1088" y="587"/>
                </a:lnTo>
                <a:lnTo>
                  <a:pt x="1060" y="577"/>
                </a:lnTo>
                <a:lnTo>
                  <a:pt x="1037" y="557"/>
                </a:lnTo>
                <a:lnTo>
                  <a:pt x="1025" y="580"/>
                </a:lnTo>
                <a:lnTo>
                  <a:pt x="1040" y="601"/>
                </a:lnTo>
                <a:lnTo>
                  <a:pt x="1081" y="606"/>
                </a:lnTo>
                <a:lnTo>
                  <a:pt x="1117" y="643"/>
                </a:lnTo>
                <a:lnTo>
                  <a:pt x="1139" y="643"/>
                </a:lnTo>
                <a:lnTo>
                  <a:pt x="1156" y="663"/>
                </a:lnTo>
                <a:lnTo>
                  <a:pt x="1141" y="699"/>
                </a:lnTo>
                <a:lnTo>
                  <a:pt x="1141" y="700"/>
                </a:lnTo>
                <a:lnTo>
                  <a:pt x="1108" y="699"/>
                </a:lnTo>
                <a:lnTo>
                  <a:pt x="1088" y="713"/>
                </a:lnTo>
                <a:lnTo>
                  <a:pt x="1072" y="687"/>
                </a:lnTo>
                <a:lnTo>
                  <a:pt x="1033" y="703"/>
                </a:lnTo>
                <a:lnTo>
                  <a:pt x="1023" y="723"/>
                </a:lnTo>
                <a:lnTo>
                  <a:pt x="1023" y="753"/>
                </a:lnTo>
                <a:lnTo>
                  <a:pt x="985" y="759"/>
                </a:lnTo>
                <a:lnTo>
                  <a:pt x="934" y="709"/>
                </a:lnTo>
                <a:lnTo>
                  <a:pt x="919" y="685"/>
                </a:lnTo>
                <a:lnTo>
                  <a:pt x="880" y="699"/>
                </a:lnTo>
                <a:lnTo>
                  <a:pt x="813" y="677"/>
                </a:lnTo>
                <a:lnTo>
                  <a:pt x="711" y="694"/>
                </a:lnTo>
                <a:lnTo>
                  <a:pt x="705" y="703"/>
                </a:lnTo>
                <a:lnTo>
                  <a:pt x="695" y="735"/>
                </a:lnTo>
                <a:lnTo>
                  <a:pt x="675" y="748"/>
                </a:lnTo>
                <a:lnTo>
                  <a:pt x="677" y="780"/>
                </a:lnTo>
                <a:lnTo>
                  <a:pt x="619" y="855"/>
                </a:lnTo>
                <a:lnTo>
                  <a:pt x="519" y="835"/>
                </a:lnTo>
                <a:lnTo>
                  <a:pt x="512" y="798"/>
                </a:lnTo>
                <a:lnTo>
                  <a:pt x="451" y="749"/>
                </a:lnTo>
                <a:lnTo>
                  <a:pt x="314" y="727"/>
                </a:lnTo>
                <a:lnTo>
                  <a:pt x="256" y="718"/>
                </a:lnTo>
                <a:lnTo>
                  <a:pt x="233" y="715"/>
                </a:lnTo>
                <a:lnTo>
                  <a:pt x="182" y="672"/>
                </a:lnTo>
                <a:lnTo>
                  <a:pt x="76" y="648"/>
                </a:lnTo>
                <a:lnTo>
                  <a:pt x="1" y="506"/>
                </a:lnTo>
                <a:lnTo>
                  <a:pt x="0" y="467"/>
                </a:lnTo>
                <a:lnTo>
                  <a:pt x="28" y="454"/>
                </a:lnTo>
                <a:lnTo>
                  <a:pt x="28" y="410"/>
                </a:lnTo>
                <a:lnTo>
                  <a:pt x="51" y="356"/>
                </a:lnTo>
                <a:lnTo>
                  <a:pt x="27" y="330"/>
                </a:lnTo>
                <a:lnTo>
                  <a:pt x="58" y="304"/>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Freeform 16"/>
          <p:cNvSpPr/>
          <p:nvPr/>
        </p:nvSpPr>
        <p:spPr>
          <a:xfrm>
            <a:off x="3879720" y="3689280"/>
            <a:ext cx="303480" cy="528840"/>
          </a:xfrm>
          <a:custGeom>
            <a:avLst/>
            <a:gdLst/>
            <a:ahLst/>
            <a:rect l="l" t="t" r="r" b="b"/>
            <a:pathLst>
              <a:path w="252" h="443">
                <a:moveTo>
                  <a:pt x="232" y="247"/>
                </a:moveTo>
                <a:lnTo>
                  <a:pt x="236" y="200"/>
                </a:lnTo>
                <a:lnTo>
                  <a:pt x="251" y="178"/>
                </a:lnTo>
                <a:lnTo>
                  <a:pt x="246" y="156"/>
                </a:lnTo>
                <a:lnTo>
                  <a:pt x="165" y="127"/>
                </a:lnTo>
                <a:lnTo>
                  <a:pt x="174" y="96"/>
                </a:lnTo>
                <a:lnTo>
                  <a:pt x="196" y="61"/>
                </a:lnTo>
                <a:lnTo>
                  <a:pt x="181" y="7"/>
                </a:lnTo>
                <a:lnTo>
                  <a:pt x="174" y="0"/>
                </a:lnTo>
                <a:lnTo>
                  <a:pt x="124" y="34"/>
                </a:lnTo>
                <a:lnTo>
                  <a:pt x="102" y="111"/>
                </a:lnTo>
                <a:lnTo>
                  <a:pt x="91" y="165"/>
                </a:lnTo>
                <a:lnTo>
                  <a:pt x="52" y="200"/>
                </a:lnTo>
                <a:lnTo>
                  <a:pt x="28" y="210"/>
                </a:lnTo>
                <a:lnTo>
                  <a:pt x="0" y="214"/>
                </a:lnTo>
                <a:lnTo>
                  <a:pt x="63" y="299"/>
                </a:lnTo>
                <a:lnTo>
                  <a:pt x="80" y="356"/>
                </a:lnTo>
                <a:lnTo>
                  <a:pt x="72" y="389"/>
                </a:lnTo>
                <a:lnTo>
                  <a:pt x="115" y="413"/>
                </a:lnTo>
                <a:lnTo>
                  <a:pt x="115" y="429"/>
                </a:lnTo>
                <a:lnTo>
                  <a:pt x="156" y="442"/>
                </a:lnTo>
                <a:lnTo>
                  <a:pt x="169" y="442"/>
                </a:lnTo>
                <a:lnTo>
                  <a:pt x="169" y="408"/>
                </a:lnTo>
                <a:lnTo>
                  <a:pt x="200" y="402"/>
                </a:lnTo>
                <a:lnTo>
                  <a:pt x="210" y="361"/>
                </a:lnTo>
                <a:lnTo>
                  <a:pt x="186" y="344"/>
                </a:lnTo>
                <a:lnTo>
                  <a:pt x="169" y="327"/>
                </a:lnTo>
                <a:lnTo>
                  <a:pt x="176" y="251"/>
                </a:lnTo>
                <a:lnTo>
                  <a:pt x="192" y="239"/>
                </a:lnTo>
                <a:lnTo>
                  <a:pt x="223" y="252"/>
                </a:lnTo>
                <a:lnTo>
                  <a:pt x="232" y="247"/>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Freeform 17"/>
          <p:cNvSpPr/>
          <p:nvPr/>
        </p:nvSpPr>
        <p:spPr>
          <a:xfrm>
            <a:off x="4802040" y="3164040"/>
            <a:ext cx="621000" cy="877680"/>
          </a:xfrm>
          <a:custGeom>
            <a:avLst/>
            <a:gdLst/>
            <a:ahLst/>
            <a:rect l="l" t="t" r="r" b="b"/>
            <a:pathLst>
              <a:path w="507" h="733">
                <a:moveTo>
                  <a:pt x="197" y="722"/>
                </a:moveTo>
                <a:lnTo>
                  <a:pt x="201" y="710"/>
                </a:lnTo>
                <a:lnTo>
                  <a:pt x="185" y="681"/>
                </a:lnTo>
                <a:lnTo>
                  <a:pt x="243" y="572"/>
                </a:lnTo>
                <a:lnTo>
                  <a:pt x="297" y="524"/>
                </a:lnTo>
                <a:lnTo>
                  <a:pt x="336" y="514"/>
                </a:lnTo>
                <a:lnTo>
                  <a:pt x="374" y="466"/>
                </a:lnTo>
                <a:lnTo>
                  <a:pt x="359" y="457"/>
                </a:lnTo>
                <a:lnTo>
                  <a:pt x="345" y="423"/>
                </a:lnTo>
                <a:lnTo>
                  <a:pt x="317" y="434"/>
                </a:lnTo>
                <a:lnTo>
                  <a:pt x="270" y="423"/>
                </a:lnTo>
                <a:lnTo>
                  <a:pt x="268" y="411"/>
                </a:lnTo>
                <a:lnTo>
                  <a:pt x="266" y="331"/>
                </a:lnTo>
                <a:lnTo>
                  <a:pt x="242" y="340"/>
                </a:lnTo>
                <a:lnTo>
                  <a:pt x="227" y="356"/>
                </a:lnTo>
                <a:lnTo>
                  <a:pt x="195" y="346"/>
                </a:lnTo>
                <a:lnTo>
                  <a:pt x="153" y="354"/>
                </a:lnTo>
                <a:lnTo>
                  <a:pt x="146" y="334"/>
                </a:lnTo>
                <a:lnTo>
                  <a:pt x="151" y="297"/>
                </a:lnTo>
                <a:lnTo>
                  <a:pt x="183" y="261"/>
                </a:lnTo>
                <a:lnTo>
                  <a:pt x="190" y="218"/>
                </a:lnTo>
                <a:lnTo>
                  <a:pt x="221" y="186"/>
                </a:lnTo>
                <a:lnTo>
                  <a:pt x="279" y="216"/>
                </a:lnTo>
                <a:lnTo>
                  <a:pt x="293" y="216"/>
                </a:lnTo>
                <a:lnTo>
                  <a:pt x="303" y="258"/>
                </a:lnTo>
                <a:lnTo>
                  <a:pt x="318" y="266"/>
                </a:lnTo>
                <a:lnTo>
                  <a:pt x="327" y="292"/>
                </a:lnTo>
                <a:lnTo>
                  <a:pt x="324" y="309"/>
                </a:lnTo>
                <a:lnTo>
                  <a:pt x="359" y="334"/>
                </a:lnTo>
                <a:lnTo>
                  <a:pt x="364" y="354"/>
                </a:lnTo>
                <a:lnTo>
                  <a:pt x="393" y="366"/>
                </a:lnTo>
                <a:lnTo>
                  <a:pt x="464" y="326"/>
                </a:lnTo>
                <a:lnTo>
                  <a:pt x="464" y="304"/>
                </a:lnTo>
                <a:lnTo>
                  <a:pt x="506" y="243"/>
                </a:lnTo>
                <a:lnTo>
                  <a:pt x="476" y="201"/>
                </a:lnTo>
                <a:lnTo>
                  <a:pt x="455" y="199"/>
                </a:lnTo>
                <a:lnTo>
                  <a:pt x="413" y="172"/>
                </a:lnTo>
                <a:lnTo>
                  <a:pt x="428" y="128"/>
                </a:lnTo>
                <a:lnTo>
                  <a:pt x="364" y="123"/>
                </a:lnTo>
                <a:lnTo>
                  <a:pt x="336" y="80"/>
                </a:lnTo>
                <a:lnTo>
                  <a:pt x="340" y="60"/>
                </a:lnTo>
                <a:lnTo>
                  <a:pt x="286" y="0"/>
                </a:lnTo>
                <a:lnTo>
                  <a:pt x="251" y="18"/>
                </a:lnTo>
                <a:lnTo>
                  <a:pt x="221" y="46"/>
                </a:lnTo>
                <a:lnTo>
                  <a:pt x="232" y="68"/>
                </a:lnTo>
                <a:lnTo>
                  <a:pt x="224" y="82"/>
                </a:lnTo>
                <a:lnTo>
                  <a:pt x="183" y="85"/>
                </a:lnTo>
                <a:lnTo>
                  <a:pt x="163" y="103"/>
                </a:lnTo>
                <a:lnTo>
                  <a:pt x="146" y="94"/>
                </a:lnTo>
                <a:lnTo>
                  <a:pt x="129" y="112"/>
                </a:lnTo>
                <a:lnTo>
                  <a:pt x="89" y="142"/>
                </a:lnTo>
                <a:lnTo>
                  <a:pt x="73" y="130"/>
                </a:lnTo>
                <a:lnTo>
                  <a:pt x="73" y="90"/>
                </a:lnTo>
                <a:lnTo>
                  <a:pt x="58" y="82"/>
                </a:lnTo>
                <a:lnTo>
                  <a:pt x="37" y="92"/>
                </a:lnTo>
                <a:lnTo>
                  <a:pt x="9" y="150"/>
                </a:lnTo>
                <a:lnTo>
                  <a:pt x="0" y="204"/>
                </a:lnTo>
                <a:lnTo>
                  <a:pt x="32" y="258"/>
                </a:lnTo>
                <a:lnTo>
                  <a:pt x="58" y="283"/>
                </a:lnTo>
                <a:lnTo>
                  <a:pt x="58" y="326"/>
                </a:lnTo>
                <a:lnTo>
                  <a:pt x="75" y="363"/>
                </a:lnTo>
                <a:lnTo>
                  <a:pt x="68" y="406"/>
                </a:lnTo>
                <a:lnTo>
                  <a:pt x="27" y="432"/>
                </a:lnTo>
                <a:lnTo>
                  <a:pt x="7" y="496"/>
                </a:lnTo>
                <a:lnTo>
                  <a:pt x="41" y="536"/>
                </a:lnTo>
                <a:lnTo>
                  <a:pt x="65" y="584"/>
                </a:lnTo>
                <a:lnTo>
                  <a:pt x="50" y="609"/>
                </a:lnTo>
                <a:lnTo>
                  <a:pt x="45" y="644"/>
                </a:lnTo>
                <a:lnTo>
                  <a:pt x="32" y="666"/>
                </a:lnTo>
                <a:lnTo>
                  <a:pt x="23" y="691"/>
                </a:lnTo>
                <a:lnTo>
                  <a:pt x="45" y="720"/>
                </a:lnTo>
                <a:lnTo>
                  <a:pt x="143" y="732"/>
                </a:lnTo>
                <a:lnTo>
                  <a:pt x="183" y="717"/>
                </a:lnTo>
                <a:lnTo>
                  <a:pt x="197" y="722"/>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Freeform 18"/>
          <p:cNvSpPr/>
          <p:nvPr/>
        </p:nvSpPr>
        <p:spPr>
          <a:xfrm>
            <a:off x="5127480" y="3471840"/>
            <a:ext cx="127080" cy="206280"/>
          </a:xfrm>
          <a:custGeom>
            <a:avLst/>
            <a:gdLst/>
            <a:ahLst/>
            <a:rect l="l" t="t" r="r" b="b"/>
            <a:pathLst>
              <a:path w="105" h="173">
                <a:moveTo>
                  <a:pt x="86" y="159"/>
                </a:moveTo>
                <a:lnTo>
                  <a:pt x="60" y="172"/>
                </a:lnTo>
                <a:lnTo>
                  <a:pt x="14" y="162"/>
                </a:lnTo>
                <a:lnTo>
                  <a:pt x="3" y="150"/>
                </a:lnTo>
                <a:lnTo>
                  <a:pt x="0" y="74"/>
                </a:lnTo>
                <a:lnTo>
                  <a:pt x="41" y="57"/>
                </a:lnTo>
                <a:lnTo>
                  <a:pt x="37" y="43"/>
                </a:lnTo>
                <a:lnTo>
                  <a:pt x="44" y="14"/>
                </a:lnTo>
                <a:lnTo>
                  <a:pt x="47" y="0"/>
                </a:lnTo>
                <a:lnTo>
                  <a:pt x="62" y="8"/>
                </a:lnTo>
                <a:lnTo>
                  <a:pt x="69" y="33"/>
                </a:lnTo>
                <a:lnTo>
                  <a:pt x="66" y="50"/>
                </a:lnTo>
                <a:lnTo>
                  <a:pt x="99" y="74"/>
                </a:lnTo>
                <a:lnTo>
                  <a:pt x="104" y="93"/>
                </a:lnTo>
                <a:lnTo>
                  <a:pt x="86" y="107"/>
                </a:lnTo>
                <a:lnTo>
                  <a:pt x="78" y="139"/>
                </a:lnTo>
                <a:lnTo>
                  <a:pt x="86" y="159"/>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Freeform 19"/>
          <p:cNvSpPr/>
          <p:nvPr/>
        </p:nvSpPr>
        <p:spPr>
          <a:xfrm>
            <a:off x="4976640" y="3384720"/>
            <a:ext cx="201960" cy="203040"/>
          </a:xfrm>
          <a:custGeom>
            <a:avLst/>
            <a:gdLst/>
            <a:ahLst/>
            <a:rect l="l" t="t" r="r" b="b"/>
            <a:pathLst>
              <a:path w="164" h="169">
                <a:moveTo>
                  <a:pt x="125" y="141"/>
                </a:moveTo>
                <a:lnTo>
                  <a:pt x="124" y="118"/>
                </a:lnTo>
                <a:lnTo>
                  <a:pt x="117" y="100"/>
                </a:lnTo>
                <a:lnTo>
                  <a:pt x="159" y="84"/>
                </a:lnTo>
                <a:lnTo>
                  <a:pt x="163" y="69"/>
                </a:lnTo>
                <a:lnTo>
                  <a:pt x="152" y="30"/>
                </a:lnTo>
                <a:lnTo>
                  <a:pt x="139" y="30"/>
                </a:lnTo>
                <a:lnTo>
                  <a:pt x="74" y="0"/>
                </a:lnTo>
                <a:lnTo>
                  <a:pt x="47" y="30"/>
                </a:lnTo>
                <a:lnTo>
                  <a:pt x="35" y="66"/>
                </a:lnTo>
                <a:lnTo>
                  <a:pt x="5" y="109"/>
                </a:lnTo>
                <a:lnTo>
                  <a:pt x="0" y="139"/>
                </a:lnTo>
                <a:lnTo>
                  <a:pt x="11" y="159"/>
                </a:lnTo>
                <a:lnTo>
                  <a:pt x="57" y="156"/>
                </a:lnTo>
                <a:lnTo>
                  <a:pt x="81" y="168"/>
                </a:lnTo>
                <a:lnTo>
                  <a:pt x="103" y="151"/>
                </a:lnTo>
                <a:lnTo>
                  <a:pt x="125" y="141"/>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Freeform 20"/>
          <p:cNvSpPr/>
          <p:nvPr/>
        </p:nvSpPr>
        <p:spPr>
          <a:xfrm>
            <a:off x="4498920" y="3467160"/>
            <a:ext cx="393840" cy="799920"/>
          </a:xfrm>
          <a:custGeom>
            <a:avLst/>
            <a:gdLst/>
            <a:ahLst/>
            <a:rect l="l" t="t" r="r" b="b"/>
            <a:pathLst>
              <a:path w="323" h="672">
                <a:moveTo>
                  <a:pt x="21" y="671"/>
                </a:moveTo>
                <a:lnTo>
                  <a:pt x="90" y="650"/>
                </a:lnTo>
                <a:lnTo>
                  <a:pt x="179" y="592"/>
                </a:lnTo>
                <a:lnTo>
                  <a:pt x="241" y="580"/>
                </a:lnTo>
                <a:lnTo>
                  <a:pt x="288" y="542"/>
                </a:lnTo>
                <a:lnTo>
                  <a:pt x="293" y="462"/>
                </a:lnTo>
                <a:lnTo>
                  <a:pt x="270" y="433"/>
                </a:lnTo>
                <a:lnTo>
                  <a:pt x="278" y="406"/>
                </a:lnTo>
                <a:lnTo>
                  <a:pt x="293" y="386"/>
                </a:lnTo>
                <a:lnTo>
                  <a:pt x="296" y="351"/>
                </a:lnTo>
                <a:lnTo>
                  <a:pt x="312" y="326"/>
                </a:lnTo>
                <a:lnTo>
                  <a:pt x="288" y="278"/>
                </a:lnTo>
                <a:lnTo>
                  <a:pt x="253" y="238"/>
                </a:lnTo>
                <a:lnTo>
                  <a:pt x="274" y="174"/>
                </a:lnTo>
                <a:lnTo>
                  <a:pt x="314" y="148"/>
                </a:lnTo>
                <a:lnTo>
                  <a:pt x="322" y="105"/>
                </a:lnTo>
                <a:lnTo>
                  <a:pt x="305" y="68"/>
                </a:lnTo>
                <a:lnTo>
                  <a:pt x="305" y="25"/>
                </a:lnTo>
                <a:lnTo>
                  <a:pt x="278" y="0"/>
                </a:lnTo>
                <a:lnTo>
                  <a:pt x="215" y="32"/>
                </a:lnTo>
                <a:lnTo>
                  <a:pt x="205" y="22"/>
                </a:lnTo>
                <a:lnTo>
                  <a:pt x="172" y="48"/>
                </a:lnTo>
                <a:lnTo>
                  <a:pt x="144" y="45"/>
                </a:lnTo>
                <a:lnTo>
                  <a:pt x="90" y="123"/>
                </a:lnTo>
                <a:lnTo>
                  <a:pt x="75" y="123"/>
                </a:lnTo>
                <a:lnTo>
                  <a:pt x="45" y="148"/>
                </a:lnTo>
                <a:lnTo>
                  <a:pt x="47" y="181"/>
                </a:lnTo>
                <a:lnTo>
                  <a:pt x="33" y="211"/>
                </a:lnTo>
                <a:lnTo>
                  <a:pt x="28" y="252"/>
                </a:lnTo>
                <a:lnTo>
                  <a:pt x="2" y="292"/>
                </a:lnTo>
                <a:lnTo>
                  <a:pt x="31" y="351"/>
                </a:lnTo>
                <a:lnTo>
                  <a:pt x="21" y="386"/>
                </a:lnTo>
                <a:lnTo>
                  <a:pt x="0" y="423"/>
                </a:lnTo>
                <a:lnTo>
                  <a:pt x="31" y="567"/>
                </a:lnTo>
                <a:lnTo>
                  <a:pt x="10" y="640"/>
                </a:lnTo>
                <a:lnTo>
                  <a:pt x="21" y="671"/>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Freeform 21"/>
          <p:cNvSpPr/>
          <p:nvPr/>
        </p:nvSpPr>
        <p:spPr>
          <a:xfrm>
            <a:off x="5129280" y="3486240"/>
            <a:ext cx="46080" cy="66600"/>
          </a:xfrm>
          <a:custGeom>
            <a:avLst/>
            <a:gdLst/>
            <a:ahLst/>
            <a:rect l="l" t="t" r="r" b="b"/>
            <a:pathLst>
              <a:path w="38" h="53">
                <a:moveTo>
                  <a:pt x="37" y="0"/>
                </a:moveTo>
                <a:lnTo>
                  <a:pt x="31" y="27"/>
                </a:lnTo>
                <a:lnTo>
                  <a:pt x="34" y="39"/>
                </a:lnTo>
                <a:lnTo>
                  <a:pt x="8" y="52"/>
                </a:lnTo>
                <a:lnTo>
                  <a:pt x="5" y="30"/>
                </a:lnTo>
                <a:lnTo>
                  <a:pt x="0" y="15"/>
                </a:lnTo>
                <a:lnTo>
                  <a:pt x="37" y="0"/>
                </a:lnTo>
              </a:path>
            </a:pathLst>
          </a:custGeom>
          <a:solidFill>
            <a:srgbClr val="bfbfbf"/>
          </a:solidFill>
          <a:ln w="1260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74" name="Freeform 22"/>
          <p:cNvSpPr/>
          <p:nvPr/>
        </p:nvSpPr>
        <p:spPr>
          <a:xfrm>
            <a:off x="5097600" y="5808600"/>
            <a:ext cx="88920" cy="61920"/>
          </a:xfrm>
          <a:custGeom>
            <a:avLst/>
            <a:gdLst/>
            <a:ahLst/>
            <a:rect l="l" t="t" r="r" b="b"/>
            <a:pathLst>
              <a:path w="72" h="49">
                <a:moveTo>
                  <a:pt x="4" y="13"/>
                </a:moveTo>
                <a:lnTo>
                  <a:pt x="30" y="18"/>
                </a:lnTo>
                <a:lnTo>
                  <a:pt x="57" y="0"/>
                </a:lnTo>
                <a:lnTo>
                  <a:pt x="71" y="36"/>
                </a:lnTo>
                <a:lnTo>
                  <a:pt x="42" y="48"/>
                </a:lnTo>
                <a:lnTo>
                  <a:pt x="6" y="45"/>
                </a:lnTo>
                <a:lnTo>
                  <a:pt x="0" y="18"/>
                </a:lnTo>
                <a:lnTo>
                  <a:pt x="4" y="13"/>
                </a:lnTo>
              </a:path>
            </a:pathLst>
          </a:custGeom>
          <a:solidFill>
            <a:srgbClr val="bfbfbf"/>
          </a:solidFill>
          <a:ln w="1260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75" name="Freeform 23"/>
          <p:cNvSpPr/>
          <p:nvPr/>
        </p:nvSpPr>
        <p:spPr>
          <a:xfrm>
            <a:off x="4583160" y="5418000"/>
            <a:ext cx="892080" cy="720720"/>
          </a:xfrm>
          <a:custGeom>
            <a:avLst/>
            <a:gdLst/>
            <a:ahLst/>
            <a:rect l="l" t="t" r="r" b="b"/>
            <a:pathLst>
              <a:path w="729" h="604">
                <a:moveTo>
                  <a:pt x="194" y="103"/>
                </a:moveTo>
                <a:lnTo>
                  <a:pt x="214" y="87"/>
                </a:lnTo>
                <a:lnTo>
                  <a:pt x="214" y="57"/>
                </a:lnTo>
                <a:lnTo>
                  <a:pt x="224" y="49"/>
                </a:lnTo>
                <a:lnTo>
                  <a:pt x="249" y="50"/>
                </a:lnTo>
                <a:lnTo>
                  <a:pt x="291" y="70"/>
                </a:lnTo>
                <a:lnTo>
                  <a:pt x="298" y="55"/>
                </a:lnTo>
                <a:lnTo>
                  <a:pt x="289" y="39"/>
                </a:lnTo>
                <a:lnTo>
                  <a:pt x="291" y="27"/>
                </a:lnTo>
                <a:lnTo>
                  <a:pt x="317" y="4"/>
                </a:lnTo>
                <a:lnTo>
                  <a:pt x="364" y="16"/>
                </a:lnTo>
                <a:lnTo>
                  <a:pt x="392" y="0"/>
                </a:lnTo>
                <a:lnTo>
                  <a:pt x="412" y="19"/>
                </a:lnTo>
                <a:lnTo>
                  <a:pt x="458" y="7"/>
                </a:lnTo>
                <a:lnTo>
                  <a:pt x="467" y="25"/>
                </a:lnTo>
                <a:lnTo>
                  <a:pt x="452" y="44"/>
                </a:lnTo>
                <a:lnTo>
                  <a:pt x="426" y="80"/>
                </a:lnTo>
                <a:lnTo>
                  <a:pt x="426" y="89"/>
                </a:lnTo>
                <a:lnTo>
                  <a:pt x="442" y="100"/>
                </a:lnTo>
                <a:lnTo>
                  <a:pt x="542" y="59"/>
                </a:lnTo>
                <a:lnTo>
                  <a:pt x="575" y="80"/>
                </a:lnTo>
                <a:lnTo>
                  <a:pt x="585" y="70"/>
                </a:lnTo>
                <a:lnTo>
                  <a:pt x="575" y="49"/>
                </a:lnTo>
                <a:lnTo>
                  <a:pt x="578" y="34"/>
                </a:lnTo>
                <a:lnTo>
                  <a:pt x="642" y="49"/>
                </a:lnTo>
                <a:lnTo>
                  <a:pt x="654" y="57"/>
                </a:lnTo>
                <a:lnTo>
                  <a:pt x="670" y="55"/>
                </a:lnTo>
                <a:lnTo>
                  <a:pt x="698" y="89"/>
                </a:lnTo>
                <a:lnTo>
                  <a:pt x="728" y="153"/>
                </a:lnTo>
                <a:lnTo>
                  <a:pt x="708" y="167"/>
                </a:lnTo>
                <a:lnTo>
                  <a:pt x="690" y="201"/>
                </a:lnTo>
                <a:lnTo>
                  <a:pt x="675" y="206"/>
                </a:lnTo>
                <a:lnTo>
                  <a:pt x="662" y="234"/>
                </a:lnTo>
                <a:lnTo>
                  <a:pt x="612" y="258"/>
                </a:lnTo>
                <a:lnTo>
                  <a:pt x="593" y="246"/>
                </a:lnTo>
                <a:lnTo>
                  <a:pt x="580" y="268"/>
                </a:lnTo>
                <a:lnTo>
                  <a:pt x="580" y="275"/>
                </a:lnTo>
                <a:lnTo>
                  <a:pt x="566" y="275"/>
                </a:lnTo>
                <a:lnTo>
                  <a:pt x="539" y="275"/>
                </a:lnTo>
                <a:lnTo>
                  <a:pt x="514" y="293"/>
                </a:lnTo>
                <a:lnTo>
                  <a:pt x="497" y="284"/>
                </a:lnTo>
                <a:lnTo>
                  <a:pt x="474" y="296"/>
                </a:lnTo>
                <a:lnTo>
                  <a:pt x="422" y="320"/>
                </a:lnTo>
                <a:lnTo>
                  <a:pt x="376" y="285"/>
                </a:lnTo>
                <a:lnTo>
                  <a:pt x="374" y="312"/>
                </a:lnTo>
                <a:lnTo>
                  <a:pt x="389" y="354"/>
                </a:lnTo>
                <a:lnTo>
                  <a:pt x="349" y="369"/>
                </a:lnTo>
                <a:lnTo>
                  <a:pt x="327" y="399"/>
                </a:lnTo>
                <a:lnTo>
                  <a:pt x="286" y="411"/>
                </a:lnTo>
                <a:lnTo>
                  <a:pt x="263" y="418"/>
                </a:lnTo>
                <a:lnTo>
                  <a:pt x="219" y="418"/>
                </a:lnTo>
                <a:lnTo>
                  <a:pt x="189" y="450"/>
                </a:lnTo>
                <a:lnTo>
                  <a:pt x="111" y="477"/>
                </a:lnTo>
                <a:lnTo>
                  <a:pt x="70" y="502"/>
                </a:lnTo>
                <a:lnTo>
                  <a:pt x="52" y="521"/>
                </a:lnTo>
                <a:lnTo>
                  <a:pt x="88" y="582"/>
                </a:lnTo>
                <a:lnTo>
                  <a:pt x="64" y="603"/>
                </a:lnTo>
                <a:lnTo>
                  <a:pt x="35" y="599"/>
                </a:lnTo>
                <a:lnTo>
                  <a:pt x="0" y="539"/>
                </a:lnTo>
                <a:lnTo>
                  <a:pt x="8" y="491"/>
                </a:lnTo>
                <a:lnTo>
                  <a:pt x="8" y="472"/>
                </a:lnTo>
                <a:lnTo>
                  <a:pt x="33" y="431"/>
                </a:lnTo>
                <a:lnTo>
                  <a:pt x="64" y="423"/>
                </a:lnTo>
                <a:lnTo>
                  <a:pt x="61" y="403"/>
                </a:lnTo>
                <a:lnTo>
                  <a:pt x="93" y="388"/>
                </a:lnTo>
                <a:lnTo>
                  <a:pt x="98" y="352"/>
                </a:lnTo>
                <a:lnTo>
                  <a:pt x="155" y="308"/>
                </a:lnTo>
                <a:lnTo>
                  <a:pt x="153" y="246"/>
                </a:lnTo>
                <a:lnTo>
                  <a:pt x="196" y="193"/>
                </a:lnTo>
                <a:lnTo>
                  <a:pt x="194" y="170"/>
                </a:lnTo>
                <a:lnTo>
                  <a:pt x="209" y="151"/>
                </a:lnTo>
                <a:lnTo>
                  <a:pt x="194" y="103"/>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Freeform 24"/>
          <p:cNvSpPr/>
          <p:nvPr/>
        </p:nvSpPr>
        <p:spPr>
          <a:xfrm>
            <a:off x="3917880" y="5342040"/>
            <a:ext cx="917640" cy="647640"/>
          </a:xfrm>
          <a:custGeom>
            <a:avLst/>
            <a:gdLst/>
            <a:ahLst/>
            <a:rect l="l" t="t" r="r" b="b"/>
            <a:pathLst>
              <a:path w="753" h="542">
                <a:moveTo>
                  <a:pt x="0" y="207"/>
                </a:moveTo>
                <a:lnTo>
                  <a:pt x="34" y="211"/>
                </a:lnTo>
                <a:lnTo>
                  <a:pt x="67" y="178"/>
                </a:lnTo>
                <a:lnTo>
                  <a:pt x="80" y="187"/>
                </a:lnTo>
                <a:lnTo>
                  <a:pt x="147" y="215"/>
                </a:lnTo>
                <a:lnTo>
                  <a:pt x="159" y="207"/>
                </a:lnTo>
                <a:lnTo>
                  <a:pt x="161" y="187"/>
                </a:lnTo>
                <a:lnTo>
                  <a:pt x="175" y="173"/>
                </a:lnTo>
                <a:lnTo>
                  <a:pt x="269" y="112"/>
                </a:lnTo>
                <a:lnTo>
                  <a:pt x="284" y="133"/>
                </a:lnTo>
                <a:lnTo>
                  <a:pt x="343" y="148"/>
                </a:lnTo>
                <a:lnTo>
                  <a:pt x="373" y="107"/>
                </a:lnTo>
                <a:lnTo>
                  <a:pt x="387" y="117"/>
                </a:lnTo>
                <a:lnTo>
                  <a:pt x="410" y="117"/>
                </a:lnTo>
                <a:lnTo>
                  <a:pt x="410" y="105"/>
                </a:lnTo>
                <a:lnTo>
                  <a:pt x="438" y="95"/>
                </a:lnTo>
                <a:lnTo>
                  <a:pt x="438" y="86"/>
                </a:lnTo>
                <a:lnTo>
                  <a:pt x="450" y="73"/>
                </a:lnTo>
                <a:lnTo>
                  <a:pt x="458" y="75"/>
                </a:lnTo>
                <a:lnTo>
                  <a:pt x="489" y="46"/>
                </a:lnTo>
                <a:lnTo>
                  <a:pt x="513" y="52"/>
                </a:lnTo>
                <a:lnTo>
                  <a:pt x="537" y="19"/>
                </a:lnTo>
                <a:lnTo>
                  <a:pt x="550" y="46"/>
                </a:lnTo>
                <a:lnTo>
                  <a:pt x="557" y="44"/>
                </a:lnTo>
                <a:lnTo>
                  <a:pt x="596" y="7"/>
                </a:lnTo>
                <a:lnTo>
                  <a:pt x="606" y="9"/>
                </a:lnTo>
                <a:lnTo>
                  <a:pt x="624" y="0"/>
                </a:lnTo>
                <a:lnTo>
                  <a:pt x="656" y="9"/>
                </a:lnTo>
                <a:lnTo>
                  <a:pt x="656" y="44"/>
                </a:lnTo>
                <a:lnTo>
                  <a:pt x="681" y="47"/>
                </a:lnTo>
                <a:lnTo>
                  <a:pt x="672" y="82"/>
                </a:lnTo>
                <a:lnTo>
                  <a:pt x="651" y="119"/>
                </a:lnTo>
                <a:lnTo>
                  <a:pt x="640" y="151"/>
                </a:lnTo>
                <a:lnTo>
                  <a:pt x="651" y="151"/>
                </a:lnTo>
                <a:lnTo>
                  <a:pt x="678" y="127"/>
                </a:lnTo>
                <a:lnTo>
                  <a:pt x="700" y="176"/>
                </a:lnTo>
                <a:lnTo>
                  <a:pt x="717" y="164"/>
                </a:lnTo>
                <a:lnTo>
                  <a:pt x="736" y="164"/>
                </a:lnTo>
                <a:lnTo>
                  <a:pt x="752" y="213"/>
                </a:lnTo>
                <a:lnTo>
                  <a:pt x="736" y="231"/>
                </a:lnTo>
                <a:lnTo>
                  <a:pt x="738" y="254"/>
                </a:lnTo>
                <a:lnTo>
                  <a:pt x="694" y="308"/>
                </a:lnTo>
                <a:lnTo>
                  <a:pt x="696" y="369"/>
                </a:lnTo>
                <a:lnTo>
                  <a:pt x="640" y="413"/>
                </a:lnTo>
                <a:lnTo>
                  <a:pt x="635" y="449"/>
                </a:lnTo>
                <a:lnTo>
                  <a:pt x="603" y="465"/>
                </a:lnTo>
                <a:lnTo>
                  <a:pt x="606" y="484"/>
                </a:lnTo>
                <a:lnTo>
                  <a:pt x="574" y="493"/>
                </a:lnTo>
                <a:lnTo>
                  <a:pt x="550" y="533"/>
                </a:lnTo>
                <a:lnTo>
                  <a:pt x="485" y="541"/>
                </a:lnTo>
                <a:lnTo>
                  <a:pt x="450" y="517"/>
                </a:lnTo>
                <a:lnTo>
                  <a:pt x="417" y="503"/>
                </a:lnTo>
                <a:lnTo>
                  <a:pt x="382" y="538"/>
                </a:lnTo>
                <a:lnTo>
                  <a:pt x="347" y="541"/>
                </a:lnTo>
                <a:lnTo>
                  <a:pt x="311" y="541"/>
                </a:lnTo>
                <a:lnTo>
                  <a:pt x="232" y="499"/>
                </a:lnTo>
                <a:lnTo>
                  <a:pt x="220" y="460"/>
                </a:lnTo>
                <a:lnTo>
                  <a:pt x="237" y="418"/>
                </a:lnTo>
                <a:lnTo>
                  <a:pt x="215" y="404"/>
                </a:lnTo>
                <a:lnTo>
                  <a:pt x="185" y="404"/>
                </a:lnTo>
                <a:lnTo>
                  <a:pt x="179" y="394"/>
                </a:lnTo>
                <a:lnTo>
                  <a:pt x="147" y="404"/>
                </a:lnTo>
                <a:lnTo>
                  <a:pt x="115" y="381"/>
                </a:lnTo>
                <a:lnTo>
                  <a:pt x="127" y="346"/>
                </a:lnTo>
                <a:lnTo>
                  <a:pt x="152" y="345"/>
                </a:lnTo>
                <a:lnTo>
                  <a:pt x="161" y="337"/>
                </a:lnTo>
                <a:lnTo>
                  <a:pt x="171" y="305"/>
                </a:lnTo>
                <a:lnTo>
                  <a:pt x="159" y="289"/>
                </a:lnTo>
                <a:lnTo>
                  <a:pt x="75" y="272"/>
                </a:lnTo>
                <a:lnTo>
                  <a:pt x="62" y="249"/>
                </a:lnTo>
                <a:lnTo>
                  <a:pt x="39" y="249"/>
                </a:lnTo>
                <a:lnTo>
                  <a:pt x="14" y="249"/>
                </a:lnTo>
                <a:lnTo>
                  <a:pt x="0" y="223"/>
                </a:lnTo>
                <a:lnTo>
                  <a:pt x="0" y="207"/>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Freeform 25"/>
          <p:cNvSpPr/>
          <p:nvPr/>
        </p:nvSpPr>
        <p:spPr>
          <a:xfrm>
            <a:off x="4424400" y="4861080"/>
            <a:ext cx="636480" cy="695160"/>
          </a:xfrm>
          <a:custGeom>
            <a:avLst/>
            <a:gdLst/>
            <a:ahLst/>
            <a:rect l="l" t="t" r="r" b="b"/>
            <a:pathLst>
              <a:path w="521" h="582">
                <a:moveTo>
                  <a:pt x="468" y="75"/>
                </a:moveTo>
                <a:lnTo>
                  <a:pt x="446" y="70"/>
                </a:lnTo>
                <a:lnTo>
                  <a:pt x="435" y="55"/>
                </a:lnTo>
                <a:lnTo>
                  <a:pt x="435" y="21"/>
                </a:lnTo>
                <a:lnTo>
                  <a:pt x="423" y="4"/>
                </a:lnTo>
                <a:lnTo>
                  <a:pt x="399" y="28"/>
                </a:lnTo>
                <a:lnTo>
                  <a:pt x="387" y="46"/>
                </a:lnTo>
                <a:lnTo>
                  <a:pt x="371" y="46"/>
                </a:lnTo>
                <a:lnTo>
                  <a:pt x="366" y="19"/>
                </a:lnTo>
                <a:lnTo>
                  <a:pt x="343" y="26"/>
                </a:lnTo>
                <a:lnTo>
                  <a:pt x="313" y="46"/>
                </a:lnTo>
                <a:lnTo>
                  <a:pt x="295" y="33"/>
                </a:lnTo>
                <a:lnTo>
                  <a:pt x="254" y="7"/>
                </a:lnTo>
                <a:lnTo>
                  <a:pt x="141" y="0"/>
                </a:lnTo>
                <a:lnTo>
                  <a:pt x="129" y="12"/>
                </a:lnTo>
                <a:lnTo>
                  <a:pt x="151" y="39"/>
                </a:lnTo>
                <a:lnTo>
                  <a:pt x="124" y="55"/>
                </a:lnTo>
                <a:lnTo>
                  <a:pt x="82" y="39"/>
                </a:lnTo>
                <a:lnTo>
                  <a:pt x="39" y="75"/>
                </a:lnTo>
                <a:lnTo>
                  <a:pt x="25" y="110"/>
                </a:lnTo>
                <a:lnTo>
                  <a:pt x="27" y="190"/>
                </a:lnTo>
                <a:lnTo>
                  <a:pt x="49" y="277"/>
                </a:lnTo>
                <a:lnTo>
                  <a:pt x="0" y="331"/>
                </a:lnTo>
                <a:lnTo>
                  <a:pt x="4" y="338"/>
                </a:lnTo>
                <a:lnTo>
                  <a:pt x="49" y="326"/>
                </a:lnTo>
                <a:lnTo>
                  <a:pt x="63" y="345"/>
                </a:lnTo>
                <a:lnTo>
                  <a:pt x="50" y="406"/>
                </a:lnTo>
                <a:lnTo>
                  <a:pt x="76" y="451"/>
                </a:lnTo>
                <a:lnTo>
                  <a:pt x="100" y="457"/>
                </a:lnTo>
                <a:lnTo>
                  <a:pt x="124" y="423"/>
                </a:lnTo>
                <a:lnTo>
                  <a:pt x="136" y="451"/>
                </a:lnTo>
                <a:lnTo>
                  <a:pt x="144" y="447"/>
                </a:lnTo>
                <a:lnTo>
                  <a:pt x="183" y="411"/>
                </a:lnTo>
                <a:lnTo>
                  <a:pt x="194" y="414"/>
                </a:lnTo>
                <a:lnTo>
                  <a:pt x="212" y="404"/>
                </a:lnTo>
                <a:lnTo>
                  <a:pt x="242" y="414"/>
                </a:lnTo>
                <a:lnTo>
                  <a:pt x="242" y="447"/>
                </a:lnTo>
                <a:lnTo>
                  <a:pt x="267" y="452"/>
                </a:lnTo>
                <a:lnTo>
                  <a:pt x="259" y="487"/>
                </a:lnTo>
                <a:lnTo>
                  <a:pt x="237" y="524"/>
                </a:lnTo>
                <a:lnTo>
                  <a:pt x="226" y="555"/>
                </a:lnTo>
                <a:lnTo>
                  <a:pt x="237" y="555"/>
                </a:lnTo>
                <a:lnTo>
                  <a:pt x="265" y="531"/>
                </a:lnTo>
                <a:lnTo>
                  <a:pt x="288" y="581"/>
                </a:lnTo>
                <a:lnTo>
                  <a:pt x="303" y="568"/>
                </a:lnTo>
                <a:lnTo>
                  <a:pt x="323" y="568"/>
                </a:lnTo>
                <a:lnTo>
                  <a:pt x="343" y="553"/>
                </a:lnTo>
                <a:lnTo>
                  <a:pt x="343" y="524"/>
                </a:lnTo>
                <a:lnTo>
                  <a:pt x="353" y="514"/>
                </a:lnTo>
                <a:lnTo>
                  <a:pt x="378" y="517"/>
                </a:lnTo>
                <a:lnTo>
                  <a:pt x="419" y="536"/>
                </a:lnTo>
                <a:lnTo>
                  <a:pt x="426" y="522"/>
                </a:lnTo>
                <a:lnTo>
                  <a:pt x="416" y="505"/>
                </a:lnTo>
                <a:lnTo>
                  <a:pt x="419" y="493"/>
                </a:lnTo>
                <a:lnTo>
                  <a:pt x="446" y="470"/>
                </a:lnTo>
                <a:lnTo>
                  <a:pt x="492" y="482"/>
                </a:lnTo>
                <a:lnTo>
                  <a:pt x="520" y="465"/>
                </a:lnTo>
                <a:lnTo>
                  <a:pt x="509" y="447"/>
                </a:lnTo>
                <a:lnTo>
                  <a:pt x="520" y="409"/>
                </a:lnTo>
                <a:lnTo>
                  <a:pt x="517" y="350"/>
                </a:lnTo>
                <a:lnTo>
                  <a:pt x="499" y="343"/>
                </a:lnTo>
                <a:lnTo>
                  <a:pt x="485" y="303"/>
                </a:lnTo>
                <a:lnTo>
                  <a:pt x="485" y="268"/>
                </a:lnTo>
                <a:lnTo>
                  <a:pt x="476" y="264"/>
                </a:lnTo>
                <a:lnTo>
                  <a:pt x="465" y="268"/>
                </a:lnTo>
                <a:lnTo>
                  <a:pt x="458" y="260"/>
                </a:lnTo>
                <a:lnTo>
                  <a:pt x="463" y="208"/>
                </a:lnTo>
                <a:lnTo>
                  <a:pt x="485" y="190"/>
                </a:lnTo>
                <a:lnTo>
                  <a:pt x="499" y="160"/>
                </a:lnTo>
                <a:lnTo>
                  <a:pt x="497" y="133"/>
                </a:lnTo>
                <a:lnTo>
                  <a:pt x="468" y="75"/>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Freeform 26"/>
          <p:cNvSpPr/>
          <p:nvPr/>
        </p:nvSpPr>
        <p:spPr>
          <a:xfrm>
            <a:off x="4349880" y="4449600"/>
            <a:ext cx="895320" cy="547920"/>
          </a:xfrm>
          <a:custGeom>
            <a:avLst/>
            <a:gdLst/>
            <a:ahLst/>
            <a:rect l="l" t="t" r="r" b="b"/>
            <a:pathLst>
              <a:path w="733" h="456">
                <a:moveTo>
                  <a:pt x="85" y="455"/>
                </a:moveTo>
                <a:lnTo>
                  <a:pt x="99" y="420"/>
                </a:lnTo>
                <a:lnTo>
                  <a:pt x="144" y="384"/>
                </a:lnTo>
                <a:lnTo>
                  <a:pt x="184" y="400"/>
                </a:lnTo>
                <a:lnTo>
                  <a:pt x="212" y="384"/>
                </a:lnTo>
                <a:lnTo>
                  <a:pt x="189" y="356"/>
                </a:lnTo>
                <a:lnTo>
                  <a:pt x="202" y="344"/>
                </a:lnTo>
                <a:lnTo>
                  <a:pt x="315" y="351"/>
                </a:lnTo>
                <a:lnTo>
                  <a:pt x="356" y="378"/>
                </a:lnTo>
                <a:lnTo>
                  <a:pt x="375" y="391"/>
                </a:lnTo>
                <a:lnTo>
                  <a:pt x="405" y="370"/>
                </a:lnTo>
                <a:lnTo>
                  <a:pt x="427" y="363"/>
                </a:lnTo>
                <a:lnTo>
                  <a:pt x="432" y="391"/>
                </a:lnTo>
                <a:lnTo>
                  <a:pt x="448" y="391"/>
                </a:lnTo>
                <a:lnTo>
                  <a:pt x="462" y="373"/>
                </a:lnTo>
                <a:lnTo>
                  <a:pt x="486" y="349"/>
                </a:lnTo>
                <a:lnTo>
                  <a:pt x="498" y="366"/>
                </a:lnTo>
                <a:lnTo>
                  <a:pt x="498" y="400"/>
                </a:lnTo>
                <a:lnTo>
                  <a:pt x="508" y="416"/>
                </a:lnTo>
                <a:lnTo>
                  <a:pt x="530" y="420"/>
                </a:lnTo>
                <a:lnTo>
                  <a:pt x="554" y="396"/>
                </a:lnTo>
                <a:lnTo>
                  <a:pt x="591" y="384"/>
                </a:lnTo>
                <a:lnTo>
                  <a:pt x="661" y="320"/>
                </a:lnTo>
                <a:lnTo>
                  <a:pt x="692" y="322"/>
                </a:lnTo>
                <a:lnTo>
                  <a:pt x="732" y="310"/>
                </a:lnTo>
                <a:lnTo>
                  <a:pt x="684" y="222"/>
                </a:lnTo>
                <a:lnTo>
                  <a:pt x="699" y="195"/>
                </a:lnTo>
                <a:lnTo>
                  <a:pt x="693" y="187"/>
                </a:lnTo>
                <a:lnTo>
                  <a:pt x="670" y="178"/>
                </a:lnTo>
                <a:lnTo>
                  <a:pt x="628" y="153"/>
                </a:lnTo>
                <a:lnTo>
                  <a:pt x="608" y="141"/>
                </a:lnTo>
                <a:lnTo>
                  <a:pt x="582" y="153"/>
                </a:lnTo>
                <a:lnTo>
                  <a:pt x="552" y="128"/>
                </a:lnTo>
                <a:lnTo>
                  <a:pt x="513" y="128"/>
                </a:lnTo>
                <a:lnTo>
                  <a:pt x="483" y="114"/>
                </a:lnTo>
                <a:lnTo>
                  <a:pt x="476" y="91"/>
                </a:lnTo>
                <a:lnTo>
                  <a:pt x="462" y="73"/>
                </a:lnTo>
                <a:lnTo>
                  <a:pt x="439" y="85"/>
                </a:lnTo>
                <a:lnTo>
                  <a:pt x="420" y="78"/>
                </a:lnTo>
                <a:lnTo>
                  <a:pt x="358" y="85"/>
                </a:lnTo>
                <a:lnTo>
                  <a:pt x="292" y="70"/>
                </a:lnTo>
                <a:lnTo>
                  <a:pt x="210" y="0"/>
                </a:lnTo>
                <a:lnTo>
                  <a:pt x="188" y="16"/>
                </a:lnTo>
                <a:lnTo>
                  <a:pt x="180" y="10"/>
                </a:lnTo>
                <a:lnTo>
                  <a:pt x="162" y="10"/>
                </a:lnTo>
                <a:lnTo>
                  <a:pt x="87" y="10"/>
                </a:lnTo>
                <a:lnTo>
                  <a:pt x="78" y="20"/>
                </a:lnTo>
                <a:lnTo>
                  <a:pt x="99" y="42"/>
                </a:lnTo>
                <a:lnTo>
                  <a:pt x="122" y="46"/>
                </a:lnTo>
                <a:lnTo>
                  <a:pt x="142" y="52"/>
                </a:lnTo>
                <a:lnTo>
                  <a:pt x="133" y="68"/>
                </a:lnTo>
                <a:lnTo>
                  <a:pt x="94" y="85"/>
                </a:lnTo>
                <a:lnTo>
                  <a:pt x="87" y="114"/>
                </a:lnTo>
                <a:lnTo>
                  <a:pt x="94" y="123"/>
                </a:lnTo>
                <a:lnTo>
                  <a:pt x="99" y="160"/>
                </a:lnTo>
                <a:lnTo>
                  <a:pt x="122" y="164"/>
                </a:lnTo>
                <a:lnTo>
                  <a:pt x="144" y="192"/>
                </a:lnTo>
                <a:lnTo>
                  <a:pt x="154" y="249"/>
                </a:lnTo>
                <a:lnTo>
                  <a:pt x="147" y="267"/>
                </a:lnTo>
                <a:lnTo>
                  <a:pt x="133" y="264"/>
                </a:lnTo>
                <a:lnTo>
                  <a:pt x="90" y="295"/>
                </a:lnTo>
                <a:lnTo>
                  <a:pt x="19" y="308"/>
                </a:lnTo>
                <a:lnTo>
                  <a:pt x="0" y="327"/>
                </a:lnTo>
                <a:lnTo>
                  <a:pt x="14" y="346"/>
                </a:lnTo>
                <a:lnTo>
                  <a:pt x="16" y="388"/>
                </a:lnTo>
                <a:lnTo>
                  <a:pt x="36" y="393"/>
                </a:lnTo>
                <a:lnTo>
                  <a:pt x="85" y="455"/>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Freeform 27"/>
          <p:cNvSpPr/>
          <p:nvPr/>
        </p:nvSpPr>
        <p:spPr>
          <a:xfrm>
            <a:off x="4470480" y="6180120"/>
            <a:ext cx="288720" cy="258840"/>
          </a:xfrm>
          <a:custGeom>
            <a:avLst/>
            <a:gdLst/>
            <a:ahLst/>
            <a:rect l="l" t="t" r="r" b="b"/>
            <a:pathLst>
              <a:path w="238" h="215">
                <a:moveTo>
                  <a:pt x="237" y="36"/>
                </a:moveTo>
                <a:lnTo>
                  <a:pt x="192" y="110"/>
                </a:lnTo>
                <a:lnTo>
                  <a:pt x="192" y="144"/>
                </a:lnTo>
                <a:lnTo>
                  <a:pt x="105" y="214"/>
                </a:lnTo>
                <a:lnTo>
                  <a:pt x="18" y="182"/>
                </a:lnTo>
                <a:lnTo>
                  <a:pt x="0" y="120"/>
                </a:lnTo>
                <a:lnTo>
                  <a:pt x="4" y="90"/>
                </a:lnTo>
                <a:lnTo>
                  <a:pt x="54" y="43"/>
                </a:lnTo>
                <a:lnTo>
                  <a:pt x="69" y="28"/>
                </a:lnTo>
                <a:lnTo>
                  <a:pt x="150" y="16"/>
                </a:lnTo>
                <a:lnTo>
                  <a:pt x="186" y="12"/>
                </a:lnTo>
                <a:lnTo>
                  <a:pt x="198" y="0"/>
                </a:lnTo>
                <a:lnTo>
                  <a:pt x="224" y="4"/>
                </a:lnTo>
                <a:lnTo>
                  <a:pt x="237" y="36"/>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Oval 28"/>
          <p:cNvSpPr/>
          <p:nvPr/>
        </p:nvSpPr>
        <p:spPr>
          <a:xfrm>
            <a:off x="5495760" y="4525920"/>
            <a:ext cx="74880" cy="73080"/>
          </a:xfrm>
          <a:prstGeom prst="ellipse">
            <a:avLst/>
          </a:prstGeom>
          <a:solidFill>
            <a:srgbClr val="bfbfbf"/>
          </a:solidFill>
          <a:ln w="9360">
            <a:solidFill>
              <a:srgbClr val="ffffff"/>
            </a:solidFill>
            <a:miter/>
          </a:ln>
        </p:spPr>
        <p:style>
          <a:lnRef idx="0"/>
          <a:fillRef idx="0"/>
          <a:effectRef idx="0"/>
          <a:fontRef idx="minor"/>
        </p:style>
        <p:txBody>
          <a:bodyPr lIns="52200" rIns="522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Freeform 29"/>
          <p:cNvSpPr/>
          <p:nvPr/>
        </p:nvSpPr>
        <p:spPr>
          <a:xfrm>
            <a:off x="2743200" y="3251160"/>
            <a:ext cx="1582560" cy="1322280"/>
          </a:xfrm>
          <a:custGeom>
            <a:avLst/>
            <a:gdLst/>
            <a:ahLst/>
            <a:rect l="l" t="t" r="r" b="b"/>
            <a:pathLst>
              <a:path w="1299" h="1107">
                <a:moveTo>
                  <a:pt x="11" y="350"/>
                </a:moveTo>
                <a:lnTo>
                  <a:pt x="0" y="207"/>
                </a:lnTo>
                <a:lnTo>
                  <a:pt x="7" y="177"/>
                </a:lnTo>
                <a:lnTo>
                  <a:pt x="49" y="157"/>
                </a:lnTo>
                <a:lnTo>
                  <a:pt x="107" y="109"/>
                </a:lnTo>
                <a:lnTo>
                  <a:pt x="200" y="71"/>
                </a:lnTo>
                <a:lnTo>
                  <a:pt x="237" y="55"/>
                </a:lnTo>
                <a:lnTo>
                  <a:pt x="237" y="19"/>
                </a:lnTo>
                <a:lnTo>
                  <a:pt x="254" y="0"/>
                </a:lnTo>
                <a:lnTo>
                  <a:pt x="269" y="2"/>
                </a:lnTo>
                <a:lnTo>
                  <a:pt x="329" y="11"/>
                </a:lnTo>
                <a:lnTo>
                  <a:pt x="327" y="39"/>
                </a:lnTo>
                <a:lnTo>
                  <a:pt x="339" y="82"/>
                </a:lnTo>
                <a:lnTo>
                  <a:pt x="332" y="149"/>
                </a:lnTo>
                <a:lnTo>
                  <a:pt x="383" y="226"/>
                </a:lnTo>
                <a:lnTo>
                  <a:pt x="412" y="244"/>
                </a:lnTo>
                <a:lnTo>
                  <a:pt x="454" y="212"/>
                </a:lnTo>
                <a:lnTo>
                  <a:pt x="542" y="212"/>
                </a:lnTo>
                <a:lnTo>
                  <a:pt x="563" y="219"/>
                </a:lnTo>
                <a:lnTo>
                  <a:pt x="577" y="239"/>
                </a:lnTo>
                <a:lnTo>
                  <a:pt x="567" y="261"/>
                </a:lnTo>
                <a:lnTo>
                  <a:pt x="519" y="299"/>
                </a:lnTo>
                <a:lnTo>
                  <a:pt x="524" y="320"/>
                </a:lnTo>
                <a:lnTo>
                  <a:pt x="580" y="362"/>
                </a:lnTo>
                <a:lnTo>
                  <a:pt x="602" y="362"/>
                </a:lnTo>
                <a:lnTo>
                  <a:pt x="609" y="371"/>
                </a:lnTo>
                <a:lnTo>
                  <a:pt x="604" y="389"/>
                </a:lnTo>
                <a:lnTo>
                  <a:pt x="639" y="417"/>
                </a:lnTo>
                <a:lnTo>
                  <a:pt x="722" y="429"/>
                </a:lnTo>
                <a:lnTo>
                  <a:pt x="756" y="419"/>
                </a:lnTo>
                <a:lnTo>
                  <a:pt x="807" y="369"/>
                </a:lnTo>
                <a:lnTo>
                  <a:pt x="868" y="374"/>
                </a:lnTo>
                <a:lnTo>
                  <a:pt x="893" y="412"/>
                </a:lnTo>
                <a:lnTo>
                  <a:pt x="879" y="446"/>
                </a:lnTo>
                <a:lnTo>
                  <a:pt x="881" y="465"/>
                </a:lnTo>
                <a:lnTo>
                  <a:pt x="849" y="485"/>
                </a:lnTo>
                <a:lnTo>
                  <a:pt x="836" y="502"/>
                </a:lnTo>
                <a:lnTo>
                  <a:pt x="840" y="543"/>
                </a:lnTo>
                <a:lnTo>
                  <a:pt x="898" y="585"/>
                </a:lnTo>
                <a:lnTo>
                  <a:pt x="923" y="576"/>
                </a:lnTo>
                <a:lnTo>
                  <a:pt x="988" y="660"/>
                </a:lnTo>
                <a:lnTo>
                  <a:pt x="1005" y="719"/>
                </a:lnTo>
                <a:lnTo>
                  <a:pt x="996" y="752"/>
                </a:lnTo>
                <a:lnTo>
                  <a:pt x="1041" y="777"/>
                </a:lnTo>
                <a:lnTo>
                  <a:pt x="1041" y="794"/>
                </a:lnTo>
                <a:lnTo>
                  <a:pt x="1083" y="806"/>
                </a:lnTo>
                <a:lnTo>
                  <a:pt x="1096" y="806"/>
                </a:lnTo>
                <a:lnTo>
                  <a:pt x="1096" y="772"/>
                </a:lnTo>
                <a:lnTo>
                  <a:pt x="1128" y="765"/>
                </a:lnTo>
                <a:lnTo>
                  <a:pt x="1138" y="724"/>
                </a:lnTo>
                <a:lnTo>
                  <a:pt x="1113" y="707"/>
                </a:lnTo>
                <a:lnTo>
                  <a:pt x="1096" y="689"/>
                </a:lnTo>
                <a:lnTo>
                  <a:pt x="1103" y="612"/>
                </a:lnTo>
                <a:lnTo>
                  <a:pt x="1120" y="600"/>
                </a:lnTo>
                <a:lnTo>
                  <a:pt x="1151" y="614"/>
                </a:lnTo>
                <a:lnTo>
                  <a:pt x="1162" y="609"/>
                </a:lnTo>
                <a:lnTo>
                  <a:pt x="1170" y="623"/>
                </a:lnTo>
                <a:lnTo>
                  <a:pt x="1247" y="662"/>
                </a:lnTo>
                <a:lnTo>
                  <a:pt x="1290" y="689"/>
                </a:lnTo>
                <a:lnTo>
                  <a:pt x="1298" y="714"/>
                </a:lnTo>
                <a:lnTo>
                  <a:pt x="1275" y="747"/>
                </a:lnTo>
                <a:lnTo>
                  <a:pt x="1288" y="784"/>
                </a:lnTo>
                <a:lnTo>
                  <a:pt x="1280" y="801"/>
                </a:lnTo>
                <a:lnTo>
                  <a:pt x="1223" y="806"/>
                </a:lnTo>
                <a:lnTo>
                  <a:pt x="1211" y="812"/>
                </a:lnTo>
                <a:lnTo>
                  <a:pt x="1214" y="824"/>
                </a:lnTo>
                <a:lnTo>
                  <a:pt x="1214" y="838"/>
                </a:lnTo>
                <a:lnTo>
                  <a:pt x="1167" y="843"/>
                </a:lnTo>
                <a:lnTo>
                  <a:pt x="1143" y="830"/>
                </a:lnTo>
                <a:lnTo>
                  <a:pt x="1113" y="830"/>
                </a:lnTo>
                <a:lnTo>
                  <a:pt x="1106" y="838"/>
                </a:lnTo>
                <a:lnTo>
                  <a:pt x="1113" y="855"/>
                </a:lnTo>
                <a:lnTo>
                  <a:pt x="1096" y="873"/>
                </a:lnTo>
                <a:lnTo>
                  <a:pt x="1091" y="892"/>
                </a:lnTo>
                <a:lnTo>
                  <a:pt x="1120" y="917"/>
                </a:lnTo>
                <a:lnTo>
                  <a:pt x="1101" y="962"/>
                </a:lnTo>
                <a:lnTo>
                  <a:pt x="1108" y="983"/>
                </a:lnTo>
                <a:lnTo>
                  <a:pt x="1106" y="996"/>
                </a:lnTo>
                <a:lnTo>
                  <a:pt x="1070" y="996"/>
                </a:lnTo>
                <a:lnTo>
                  <a:pt x="1046" y="1008"/>
                </a:lnTo>
                <a:lnTo>
                  <a:pt x="1065" y="1032"/>
                </a:lnTo>
                <a:lnTo>
                  <a:pt x="1053" y="1070"/>
                </a:lnTo>
                <a:lnTo>
                  <a:pt x="1016" y="1077"/>
                </a:lnTo>
                <a:lnTo>
                  <a:pt x="1020" y="1095"/>
                </a:lnTo>
                <a:lnTo>
                  <a:pt x="1010" y="1106"/>
                </a:lnTo>
                <a:lnTo>
                  <a:pt x="948" y="1101"/>
                </a:lnTo>
                <a:lnTo>
                  <a:pt x="923" y="1084"/>
                </a:lnTo>
                <a:lnTo>
                  <a:pt x="917" y="1046"/>
                </a:lnTo>
                <a:lnTo>
                  <a:pt x="903" y="1029"/>
                </a:lnTo>
                <a:lnTo>
                  <a:pt x="881" y="1046"/>
                </a:lnTo>
                <a:lnTo>
                  <a:pt x="840" y="1008"/>
                </a:lnTo>
                <a:lnTo>
                  <a:pt x="812" y="987"/>
                </a:lnTo>
                <a:lnTo>
                  <a:pt x="807" y="958"/>
                </a:lnTo>
                <a:lnTo>
                  <a:pt x="798" y="934"/>
                </a:lnTo>
                <a:lnTo>
                  <a:pt x="782" y="934"/>
                </a:lnTo>
                <a:lnTo>
                  <a:pt x="723" y="962"/>
                </a:lnTo>
                <a:lnTo>
                  <a:pt x="726" y="992"/>
                </a:lnTo>
                <a:lnTo>
                  <a:pt x="704" y="992"/>
                </a:lnTo>
                <a:lnTo>
                  <a:pt x="666" y="953"/>
                </a:lnTo>
                <a:lnTo>
                  <a:pt x="626" y="948"/>
                </a:lnTo>
                <a:lnTo>
                  <a:pt x="611" y="927"/>
                </a:lnTo>
                <a:lnTo>
                  <a:pt x="623" y="904"/>
                </a:lnTo>
                <a:lnTo>
                  <a:pt x="646" y="924"/>
                </a:lnTo>
                <a:lnTo>
                  <a:pt x="674" y="934"/>
                </a:lnTo>
                <a:lnTo>
                  <a:pt x="695" y="915"/>
                </a:lnTo>
                <a:lnTo>
                  <a:pt x="695" y="873"/>
                </a:lnTo>
                <a:lnTo>
                  <a:pt x="722" y="850"/>
                </a:lnTo>
                <a:lnTo>
                  <a:pt x="741" y="830"/>
                </a:lnTo>
                <a:lnTo>
                  <a:pt x="731" y="806"/>
                </a:lnTo>
                <a:lnTo>
                  <a:pt x="779" y="770"/>
                </a:lnTo>
                <a:lnTo>
                  <a:pt x="786" y="707"/>
                </a:lnTo>
                <a:lnTo>
                  <a:pt x="761" y="675"/>
                </a:lnTo>
                <a:lnTo>
                  <a:pt x="750" y="623"/>
                </a:lnTo>
                <a:lnTo>
                  <a:pt x="690" y="543"/>
                </a:lnTo>
                <a:lnTo>
                  <a:pt x="658" y="554"/>
                </a:lnTo>
                <a:lnTo>
                  <a:pt x="614" y="514"/>
                </a:lnTo>
                <a:lnTo>
                  <a:pt x="554" y="477"/>
                </a:lnTo>
                <a:lnTo>
                  <a:pt x="531" y="419"/>
                </a:lnTo>
                <a:lnTo>
                  <a:pt x="483" y="436"/>
                </a:lnTo>
                <a:lnTo>
                  <a:pt x="397" y="382"/>
                </a:lnTo>
                <a:lnTo>
                  <a:pt x="355" y="404"/>
                </a:lnTo>
                <a:lnTo>
                  <a:pt x="292" y="394"/>
                </a:lnTo>
                <a:lnTo>
                  <a:pt x="242" y="424"/>
                </a:lnTo>
                <a:lnTo>
                  <a:pt x="209" y="427"/>
                </a:lnTo>
                <a:lnTo>
                  <a:pt x="159" y="397"/>
                </a:lnTo>
                <a:lnTo>
                  <a:pt x="125" y="376"/>
                </a:lnTo>
                <a:lnTo>
                  <a:pt x="11" y="350"/>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Freeform 30"/>
          <p:cNvSpPr/>
          <p:nvPr/>
        </p:nvSpPr>
        <p:spPr>
          <a:xfrm>
            <a:off x="4016520" y="3635280"/>
            <a:ext cx="591840" cy="1013040"/>
          </a:xfrm>
          <a:custGeom>
            <a:avLst/>
            <a:gdLst/>
            <a:ahLst/>
            <a:rect l="l" t="t" r="r" b="b"/>
            <a:pathLst>
              <a:path w="482" h="849">
                <a:moveTo>
                  <a:pt x="412" y="534"/>
                </a:moveTo>
                <a:lnTo>
                  <a:pt x="401" y="504"/>
                </a:lnTo>
                <a:lnTo>
                  <a:pt x="424" y="431"/>
                </a:lnTo>
                <a:lnTo>
                  <a:pt x="390" y="287"/>
                </a:lnTo>
                <a:lnTo>
                  <a:pt x="412" y="248"/>
                </a:lnTo>
                <a:lnTo>
                  <a:pt x="424" y="213"/>
                </a:lnTo>
                <a:lnTo>
                  <a:pt x="393" y="156"/>
                </a:lnTo>
                <a:lnTo>
                  <a:pt x="421" y="114"/>
                </a:lnTo>
                <a:lnTo>
                  <a:pt x="426" y="73"/>
                </a:lnTo>
                <a:lnTo>
                  <a:pt x="441" y="44"/>
                </a:lnTo>
                <a:lnTo>
                  <a:pt x="438" y="10"/>
                </a:lnTo>
                <a:lnTo>
                  <a:pt x="426" y="0"/>
                </a:lnTo>
                <a:lnTo>
                  <a:pt x="406" y="22"/>
                </a:lnTo>
                <a:lnTo>
                  <a:pt x="353" y="25"/>
                </a:lnTo>
                <a:lnTo>
                  <a:pt x="325" y="64"/>
                </a:lnTo>
                <a:lnTo>
                  <a:pt x="327" y="86"/>
                </a:lnTo>
                <a:lnTo>
                  <a:pt x="322" y="100"/>
                </a:lnTo>
                <a:lnTo>
                  <a:pt x="299" y="109"/>
                </a:lnTo>
                <a:lnTo>
                  <a:pt x="216" y="223"/>
                </a:lnTo>
                <a:lnTo>
                  <a:pt x="205" y="217"/>
                </a:lnTo>
                <a:lnTo>
                  <a:pt x="185" y="212"/>
                </a:lnTo>
                <a:lnTo>
                  <a:pt x="136" y="213"/>
                </a:lnTo>
                <a:lnTo>
                  <a:pt x="121" y="236"/>
                </a:lnTo>
                <a:lnTo>
                  <a:pt x="118" y="283"/>
                </a:lnTo>
                <a:lnTo>
                  <a:pt x="126" y="297"/>
                </a:lnTo>
                <a:lnTo>
                  <a:pt x="205" y="337"/>
                </a:lnTo>
                <a:lnTo>
                  <a:pt x="249" y="363"/>
                </a:lnTo>
                <a:lnTo>
                  <a:pt x="257" y="389"/>
                </a:lnTo>
                <a:lnTo>
                  <a:pt x="233" y="421"/>
                </a:lnTo>
                <a:lnTo>
                  <a:pt x="247" y="458"/>
                </a:lnTo>
                <a:lnTo>
                  <a:pt x="238" y="475"/>
                </a:lnTo>
                <a:lnTo>
                  <a:pt x="181" y="480"/>
                </a:lnTo>
                <a:lnTo>
                  <a:pt x="169" y="486"/>
                </a:lnTo>
                <a:lnTo>
                  <a:pt x="171" y="497"/>
                </a:lnTo>
                <a:lnTo>
                  <a:pt x="171" y="512"/>
                </a:lnTo>
                <a:lnTo>
                  <a:pt x="122" y="517"/>
                </a:lnTo>
                <a:lnTo>
                  <a:pt x="98" y="504"/>
                </a:lnTo>
                <a:lnTo>
                  <a:pt x="68" y="504"/>
                </a:lnTo>
                <a:lnTo>
                  <a:pt x="60" y="512"/>
                </a:lnTo>
                <a:lnTo>
                  <a:pt x="68" y="529"/>
                </a:lnTo>
                <a:lnTo>
                  <a:pt x="50" y="547"/>
                </a:lnTo>
                <a:lnTo>
                  <a:pt x="45" y="566"/>
                </a:lnTo>
                <a:lnTo>
                  <a:pt x="75" y="592"/>
                </a:lnTo>
                <a:lnTo>
                  <a:pt x="55" y="636"/>
                </a:lnTo>
                <a:lnTo>
                  <a:pt x="63" y="657"/>
                </a:lnTo>
                <a:lnTo>
                  <a:pt x="60" y="670"/>
                </a:lnTo>
                <a:lnTo>
                  <a:pt x="24" y="670"/>
                </a:lnTo>
                <a:lnTo>
                  <a:pt x="0" y="682"/>
                </a:lnTo>
                <a:lnTo>
                  <a:pt x="19" y="707"/>
                </a:lnTo>
                <a:lnTo>
                  <a:pt x="7" y="744"/>
                </a:lnTo>
                <a:lnTo>
                  <a:pt x="30" y="747"/>
                </a:lnTo>
                <a:lnTo>
                  <a:pt x="30" y="769"/>
                </a:lnTo>
                <a:lnTo>
                  <a:pt x="46" y="771"/>
                </a:lnTo>
                <a:lnTo>
                  <a:pt x="113" y="759"/>
                </a:lnTo>
                <a:lnTo>
                  <a:pt x="126" y="763"/>
                </a:lnTo>
                <a:lnTo>
                  <a:pt x="131" y="779"/>
                </a:lnTo>
                <a:lnTo>
                  <a:pt x="155" y="787"/>
                </a:lnTo>
                <a:lnTo>
                  <a:pt x="213" y="815"/>
                </a:lnTo>
                <a:lnTo>
                  <a:pt x="247" y="802"/>
                </a:lnTo>
                <a:lnTo>
                  <a:pt x="317" y="827"/>
                </a:lnTo>
                <a:lnTo>
                  <a:pt x="332" y="848"/>
                </a:lnTo>
                <a:lnTo>
                  <a:pt x="367" y="839"/>
                </a:lnTo>
                <a:lnTo>
                  <a:pt x="362" y="802"/>
                </a:lnTo>
                <a:lnTo>
                  <a:pt x="356" y="792"/>
                </a:lnTo>
                <a:lnTo>
                  <a:pt x="362" y="763"/>
                </a:lnTo>
                <a:lnTo>
                  <a:pt x="401" y="747"/>
                </a:lnTo>
                <a:lnTo>
                  <a:pt x="411" y="731"/>
                </a:lnTo>
                <a:lnTo>
                  <a:pt x="390" y="725"/>
                </a:lnTo>
                <a:lnTo>
                  <a:pt x="367" y="720"/>
                </a:lnTo>
                <a:lnTo>
                  <a:pt x="346" y="697"/>
                </a:lnTo>
                <a:lnTo>
                  <a:pt x="356" y="688"/>
                </a:lnTo>
                <a:lnTo>
                  <a:pt x="431" y="688"/>
                </a:lnTo>
                <a:lnTo>
                  <a:pt x="448" y="688"/>
                </a:lnTo>
                <a:lnTo>
                  <a:pt x="458" y="694"/>
                </a:lnTo>
                <a:lnTo>
                  <a:pt x="481" y="677"/>
                </a:lnTo>
                <a:lnTo>
                  <a:pt x="481" y="647"/>
                </a:lnTo>
                <a:lnTo>
                  <a:pt x="412" y="547"/>
                </a:lnTo>
                <a:lnTo>
                  <a:pt x="412" y="534"/>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Freeform 31"/>
          <p:cNvSpPr/>
          <p:nvPr/>
        </p:nvSpPr>
        <p:spPr>
          <a:xfrm>
            <a:off x="5054760" y="4206960"/>
            <a:ext cx="550800" cy="650880"/>
          </a:xfrm>
          <a:custGeom>
            <a:avLst/>
            <a:gdLst/>
            <a:ahLst/>
            <a:rect l="l" t="t" r="r" b="b"/>
            <a:pathLst>
              <a:path w="451" h="543">
                <a:moveTo>
                  <a:pt x="91" y="4"/>
                </a:moveTo>
                <a:lnTo>
                  <a:pt x="108" y="0"/>
                </a:lnTo>
                <a:lnTo>
                  <a:pt x="162" y="22"/>
                </a:lnTo>
                <a:lnTo>
                  <a:pt x="186" y="46"/>
                </a:lnTo>
                <a:lnTo>
                  <a:pt x="230" y="58"/>
                </a:lnTo>
                <a:lnTo>
                  <a:pt x="247" y="73"/>
                </a:lnTo>
                <a:lnTo>
                  <a:pt x="271" y="71"/>
                </a:lnTo>
                <a:lnTo>
                  <a:pt x="276" y="77"/>
                </a:lnTo>
                <a:lnTo>
                  <a:pt x="268" y="133"/>
                </a:lnTo>
                <a:lnTo>
                  <a:pt x="292" y="143"/>
                </a:lnTo>
                <a:lnTo>
                  <a:pt x="303" y="164"/>
                </a:lnTo>
                <a:lnTo>
                  <a:pt x="339" y="171"/>
                </a:lnTo>
                <a:lnTo>
                  <a:pt x="351" y="146"/>
                </a:lnTo>
                <a:lnTo>
                  <a:pt x="376" y="148"/>
                </a:lnTo>
                <a:lnTo>
                  <a:pt x="391" y="169"/>
                </a:lnTo>
                <a:lnTo>
                  <a:pt x="388" y="187"/>
                </a:lnTo>
                <a:lnTo>
                  <a:pt x="344" y="194"/>
                </a:lnTo>
                <a:lnTo>
                  <a:pt x="344" y="212"/>
                </a:lnTo>
                <a:lnTo>
                  <a:pt x="344" y="225"/>
                </a:lnTo>
                <a:lnTo>
                  <a:pt x="328" y="244"/>
                </a:lnTo>
                <a:lnTo>
                  <a:pt x="339" y="267"/>
                </a:lnTo>
                <a:lnTo>
                  <a:pt x="376" y="292"/>
                </a:lnTo>
                <a:lnTo>
                  <a:pt x="379" y="320"/>
                </a:lnTo>
                <a:lnTo>
                  <a:pt x="450" y="328"/>
                </a:lnTo>
                <a:lnTo>
                  <a:pt x="450" y="366"/>
                </a:lnTo>
                <a:lnTo>
                  <a:pt x="438" y="388"/>
                </a:lnTo>
                <a:lnTo>
                  <a:pt x="447" y="406"/>
                </a:lnTo>
                <a:lnTo>
                  <a:pt x="438" y="418"/>
                </a:lnTo>
                <a:lnTo>
                  <a:pt x="411" y="423"/>
                </a:lnTo>
                <a:lnTo>
                  <a:pt x="398" y="441"/>
                </a:lnTo>
                <a:lnTo>
                  <a:pt x="400" y="483"/>
                </a:lnTo>
                <a:lnTo>
                  <a:pt x="364" y="534"/>
                </a:lnTo>
                <a:lnTo>
                  <a:pt x="357" y="542"/>
                </a:lnTo>
                <a:lnTo>
                  <a:pt x="337" y="521"/>
                </a:lnTo>
                <a:lnTo>
                  <a:pt x="286" y="521"/>
                </a:lnTo>
                <a:lnTo>
                  <a:pt x="264" y="496"/>
                </a:lnTo>
                <a:lnTo>
                  <a:pt x="223" y="539"/>
                </a:lnTo>
                <a:lnTo>
                  <a:pt x="207" y="531"/>
                </a:lnTo>
                <a:lnTo>
                  <a:pt x="225" y="498"/>
                </a:lnTo>
                <a:lnTo>
                  <a:pt x="223" y="490"/>
                </a:lnTo>
                <a:lnTo>
                  <a:pt x="207" y="485"/>
                </a:lnTo>
                <a:lnTo>
                  <a:pt x="159" y="512"/>
                </a:lnTo>
                <a:lnTo>
                  <a:pt x="112" y="423"/>
                </a:lnTo>
                <a:lnTo>
                  <a:pt x="127" y="398"/>
                </a:lnTo>
                <a:lnTo>
                  <a:pt x="121" y="388"/>
                </a:lnTo>
                <a:lnTo>
                  <a:pt x="98" y="380"/>
                </a:lnTo>
                <a:lnTo>
                  <a:pt x="56" y="354"/>
                </a:lnTo>
                <a:lnTo>
                  <a:pt x="73" y="320"/>
                </a:lnTo>
                <a:lnTo>
                  <a:pt x="98" y="309"/>
                </a:lnTo>
                <a:lnTo>
                  <a:pt x="103" y="281"/>
                </a:lnTo>
                <a:lnTo>
                  <a:pt x="93" y="231"/>
                </a:lnTo>
                <a:lnTo>
                  <a:pt x="88" y="226"/>
                </a:lnTo>
                <a:lnTo>
                  <a:pt x="63" y="254"/>
                </a:lnTo>
                <a:lnTo>
                  <a:pt x="27" y="223"/>
                </a:lnTo>
                <a:lnTo>
                  <a:pt x="0" y="189"/>
                </a:lnTo>
                <a:lnTo>
                  <a:pt x="27" y="169"/>
                </a:lnTo>
                <a:lnTo>
                  <a:pt x="36" y="135"/>
                </a:lnTo>
                <a:lnTo>
                  <a:pt x="50" y="123"/>
                </a:lnTo>
                <a:lnTo>
                  <a:pt x="49" y="76"/>
                </a:lnTo>
                <a:lnTo>
                  <a:pt x="61" y="65"/>
                </a:lnTo>
                <a:lnTo>
                  <a:pt x="84" y="83"/>
                </a:lnTo>
                <a:lnTo>
                  <a:pt x="98" y="103"/>
                </a:lnTo>
                <a:lnTo>
                  <a:pt x="127" y="83"/>
                </a:lnTo>
                <a:lnTo>
                  <a:pt x="136" y="71"/>
                </a:lnTo>
                <a:lnTo>
                  <a:pt x="132" y="46"/>
                </a:lnTo>
                <a:lnTo>
                  <a:pt x="98" y="29"/>
                </a:lnTo>
                <a:lnTo>
                  <a:pt x="91" y="4"/>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Freeform 32"/>
          <p:cNvSpPr/>
          <p:nvPr/>
        </p:nvSpPr>
        <p:spPr>
          <a:xfrm>
            <a:off x="5187960" y="4111560"/>
            <a:ext cx="650880" cy="506520"/>
          </a:xfrm>
          <a:custGeom>
            <a:avLst/>
            <a:gdLst/>
            <a:ahLst/>
            <a:rect l="l" t="t" r="r" b="b"/>
            <a:pathLst>
              <a:path w="533" h="427">
                <a:moveTo>
                  <a:pt x="494" y="338"/>
                </a:moveTo>
                <a:lnTo>
                  <a:pt x="483" y="374"/>
                </a:lnTo>
                <a:lnTo>
                  <a:pt x="468" y="394"/>
                </a:lnTo>
                <a:lnTo>
                  <a:pt x="441" y="426"/>
                </a:lnTo>
                <a:lnTo>
                  <a:pt x="398" y="418"/>
                </a:lnTo>
                <a:lnTo>
                  <a:pt x="365" y="399"/>
                </a:lnTo>
                <a:lnTo>
                  <a:pt x="343" y="409"/>
                </a:lnTo>
                <a:lnTo>
                  <a:pt x="272" y="400"/>
                </a:lnTo>
                <a:lnTo>
                  <a:pt x="270" y="373"/>
                </a:lnTo>
                <a:lnTo>
                  <a:pt x="232" y="347"/>
                </a:lnTo>
                <a:lnTo>
                  <a:pt x="222" y="324"/>
                </a:lnTo>
                <a:lnTo>
                  <a:pt x="237" y="306"/>
                </a:lnTo>
                <a:lnTo>
                  <a:pt x="237" y="292"/>
                </a:lnTo>
                <a:lnTo>
                  <a:pt x="237" y="274"/>
                </a:lnTo>
                <a:lnTo>
                  <a:pt x="282" y="267"/>
                </a:lnTo>
                <a:lnTo>
                  <a:pt x="284" y="249"/>
                </a:lnTo>
                <a:lnTo>
                  <a:pt x="270" y="229"/>
                </a:lnTo>
                <a:lnTo>
                  <a:pt x="244" y="227"/>
                </a:lnTo>
                <a:lnTo>
                  <a:pt x="232" y="251"/>
                </a:lnTo>
                <a:lnTo>
                  <a:pt x="196" y="245"/>
                </a:lnTo>
                <a:lnTo>
                  <a:pt x="186" y="225"/>
                </a:lnTo>
                <a:lnTo>
                  <a:pt x="162" y="213"/>
                </a:lnTo>
                <a:lnTo>
                  <a:pt x="169" y="158"/>
                </a:lnTo>
                <a:lnTo>
                  <a:pt x="164" y="152"/>
                </a:lnTo>
                <a:lnTo>
                  <a:pt x="139" y="154"/>
                </a:lnTo>
                <a:lnTo>
                  <a:pt x="123" y="139"/>
                </a:lnTo>
                <a:lnTo>
                  <a:pt x="78" y="127"/>
                </a:lnTo>
                <a:lnTo>
                  <a:pt x="54" y="103"/>
                </a:lnTo>
                <a:lnTo>
                  <a:pt x="0" y="80"/>
                </a:lnTo>
                <a:lnTo>
                  <a:pt x="4" y="56"/>
                </a:lnTo>
                <a:lnTo>
                  <a:pt x="27" y="49"/>
                </a:lnTo>
                <a:lnTo>
                  <a:pt x="66" y="80"/>
                </a:lnTo>
                <a:lnTo>
                  <a:pt x="78" y="80"/>
                </a:lnTo>
                <a:lnTo>
                  <a:pt x="116" y="78"/>
                </a:lnTo>
                <a:lnTo>
                  <a:pt x="136" y="61"/>
                </a:lnTo>
                <a:lnTo>
                  <a:pt x="166" y="85"/>
                </a:lnTo>
                <a:lnTo>
                  <a:pt x="180" y="63"/>
                </a:lnTo>
                <a:lnTo>
                  <a:pt x="181" y="51"/>
                </a:lnTo>
                <a:lnTo>
                  <a:pt x="206" y="36"/>
                </a:lnTo>
                <a:lnTo>
                  <a:pt x="214" y="4"/>
                </a:lnTo>
                <a:lnTo>
                  <a:pt x="237" y="0"/>
                </a:lnTo>
                <a:lnTo>
                  <a:pt x="300" y="44"/>
                </a:lnTo>
                <a:lnTo>
                  <a:pt x="343" y="61"/>
                </a:lnTo>
                <a:lnTo>
                  <a:pt x="427" y="200"/>
                </a:lnTo>
                <a:lnTo>
                  <a:pt x="422" y="213"/>
                </a:lnTo>
                <a:lnTo>
                  <a:pt x="479" y="240"/>
                </a:lnTo>
                <a:lnTo>
                  <a:pt x="494" y="264"/>
                </a:lnTo>
                <a:lnTo>
                  <a:pt x="519" y="276"/>
                </a:lnTo>
                <a:lnTo>
                  <a:pt x="532" y="302"/>
                </a:lnTo>
                <a:lnTo>
                  <a:pt x="515" y="308"/>
                </a:lnTo>
                <a:lnTo>
                  <a:pt x="487" y="298"/>
                </a:lnTo>
                <a:lnTo>
                  <a:pt x="446" y="298"/>
                </a:lnTo>
                <a:lnTo>
                  <a:pt x="409" y="286"/>
                </a:lnTo>
                <a:lnTo>
                  <a:pt x="398" y="298"/>
                </a:lnTo>
                <a:lnTo>
                  <a:pt x="429" y="308"/>
                </a:lnTo>
                <a:lnTo>
                  <a:pt x="463" y="323"/>
                </a:lnTo>
                <a:lnTo>
                  <a:pt x="494" y="338"/>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Freeform 33"/>
          <p:cNvSpPr/>
          <p:nvPr/>
        </p:nvSpPr>
        <p:spPr>
          <a:xfrm>
            <a:off x="5767560" y="4521240"/>
            <a:ext cx="91800" cy="95040"/>
          </a:xfrm>
          <a:custGeom>
            <a:avLst/>
            <a:gdLst/>
            <a:ahLst/>
            <a:rect l="l" t="t" r="r" b="b"/>
            <a:pathLst>
              <a:path w="76" h="80">
                <a:moveTo>
                  <a:pt x="32" y="79"/>
                </a:moveTo>
                <a:lnTo>
                  <a:pt x="0" y="52"/>
                </a:lnTo>
                <a:lnTo>
                  <a:pt x="14" y="33"/>
                </a:lnTo>
                <a:lnTo>
                  <a:pt x="25" y="0"/>
                </a:lnTo>
                <a:lnTo>
                  <a:pt x="58" y="13"/>
                </a:lnTo>
                <a:lnTo>
                  <a:pt x="75" y="35"/>
                </a:lnTo>
                <a:lnTo>
                  <a:pt x="64" y="52"/>
                </a:lnTo>
                <a:lnTo>
                  <a:pt x="32" y="79"/>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Freeform 34"/>
          <p:cNvSpPr/>
          <p:nvPr/>
        </p:nvSpPr>
        <p:spPr>
          <a:xfrm>
            <a:off x="5297400" y="4991040"/>
            <a:ext cx="503280" cy="614520"/>
          </a:xfrm>
          <a:custGeom>
            <a:avLst/>
            <a:gdLst/>
            <a:ahLst/>
            <a:rect l="l" t="t" r="r" b="b"/>
            <a:pathLst>
              <a:path w="410" h="515">
                <a:moveTo>
                  <a:pt x="0" y="393"/>
                </a:moveTo>
                <a:lnTo>
                  <a:pt x="15" y="305"/>
                </a:lnTo>
                <a:lnTo>
                  <a:pt x="30" y="284"/>
                </a:lnTo>
                <a:lnTo>
                  <a:pt x="36" y="259"/>
                </a:lnTo>
                <a:lnTo>
                  <a:pt x="52" y="222"/>
                </a:lnTo>
                <a:lnTo>
                  <a:pt x="43" y="208"/>
                </a:lnTo>
                <a:lnTo>
                  <a:pt x="45" y="176"/>
                </a:lnTo>
                <a:lnTo>
                  <a:pt x="87" y="128"/>
                </a:lnTo>
                <a:lnTo>
                  <a:pt x="86" y="97"/>
                </a:lnTo>
                <a:lnTo>
                  <a:pt x="111" y="50"/>
                </a:lnTo>
                <a:lnTo>
                  <a:pt x="139" y="58"/>
                </a:lnTo>
                <a:lnTo>
                  <a:pt x="192" y="19"/>
                </a:lnTo>
                <a:lnTo>
                  <a:pt x="202" y="0"/>
                </a:lnTo>
                <a:lnTo>
                  <a:pt x="235" y="4"/>
                </a:lnTo>
                <a:lnTo>
                  <a:pt x="251" y="48"/>
                </a:lnTo>
                <a:lnTo>
                  <a:pt x="265" y="78"/>
                </a:lnTo>
                <a:lnTo>
                  <a:pt x="300" y="78"/>
                </a:lnTo>
                <a:lnTo>
                  <a:pt x="319" y="50"/>
                </a:lnTo>
                <a:lnTo>
                  <a:pt x="352" y="82"/>
                </a:lnTo>
                <a:lnTo>
                  <a:pt x="409" y="63"/>
                </a:lnTo>
                <a:lnTo>
                  <a:pt x="374" y="145"/>
                </a:lnTo>
                <a:lnTo>
                  <a:pt x="352" y="135"/>
                </a:lnTo>
                <a:lnTo>
                  <a:pt x="340" y="144"/>
                </a:lnTo>
                <a:lnTo>
                  <a:pt x="338" y="150"/>
                </a:lnTo>
                <a:lnTo>
                  <a:pt x="357" y="172"/>
                </a:lnTo>
                <a:lnTo>
                  <a:pt x="352" y="249"/>
                </a:lnTo>
                <a:lnTo>
                  <a:pt x="357" y="273"/>
                </a:lnTo>
                <a:lnTo>
                  <a:pt x="352" y="281"/>
                </a:lnTo>
                <a:lnTo>
                  <a:pt x="327" y="276"/>
                </a:lnTo>
                <a:lnTo>
                  <a:pt x="315" y="290"/>
                </a:lnTo>
                <a:lnTo>
                  <a:pt x="324" y="311"/>
                </a:lnTo>
                <a:lnTo>
                  <a:pt x="295" y="337"/>
                </a:lnTo>
                <a:lnTo>
                  <a:pt x="303" y="347"/>
                </a:lnTo>
                <a:lnTo>
                  <a:pt x="275" y="362"/>
                </a:lnTo>
                <a:lnTo>
                  <a:pt x="279" y="381"/>
                </a:lnTo>
                <a:lnTo>
                  <a:pt x="270" y="391"/>
                </a:lnTo>
                <a:lnTo>
                  <a:pt x="235" y="391"/>
                </a:lnTo>
                <a:lnTo>
                  <a:pt x="215" y="408"/>
                </a:lnTo>
                <a:lnTo>
                  <a:pt x="212" y="415"/>
                </a:lnTo>
                <a:lnTo>
                  <a:pt x="229" y="427"/>
                </a:lnTo>
                <a:lnTo>
                  <a:pt x="210" y="457"/>
                </a:lnTo>
                <a:lnTo>
                  <a:pt x="185" y="489"/>
                </a:lnTo>
                <a:lnTo>
                  <a:pt x="173" y="485"/>
                </a:lnTo>
                <a:lnTo>
                  <a:pt x="149" y="514"/>
                </a:lnTo>
                <a:lnTo>
                  <a:pt x="119" y="450"/>
                </a:lnTo>
                <a:lnTo>
                  <a:pt x="92" y="415"/>
                </a:lnTo>
                <a:lnTo>
                  <a:pt x="75" y="417"/>
                </a:lnTo>
                <a:lnTo>
                  <a:pt x="63" y="408"/>
                </a:lnTo>
                <a:lnTo>
                  <a:pt x="0" y="393"/>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Freeform 35"/>
          <p:cNvSpPr/>
          <p:nvPr/>
        </p:nvSpPr>
        <p:spPr>
          <a:xfrm>
            <a:off x="5454720" y="4565520"/>
            <a:ext cx="441360" cy="505080"/>
          </a:xfrm>
          <a:custGeom>
            <a:avLst/>
            <a:gdLst/>
            <a:ahLst/>
            <a:rect l="l" t="t" r="r" b="b"/>
            <a:pathLst>
              <a:path w="361" h="420">
                <a:moveTo>
                  <a:pt x="261" y="399"/>
                </a:moveTo>
                <a:lnTo>
                  <a:pt x="205" y="419"/>
                </a:lnTo>
                <a:lnTo>
                  <a:pt x="172" y="386"/>
                </a:lnTo>
                <a:lnTo>
                  <a:pt x="152" y="414"/>
                </a:lnTo>
                <a:lnTo>
                  <a:pt x="118" y="414"/>
                </a:lnTo>
                <a:lnTo>
                  <a:pt x="104" y="384"/>
                </a:lnTo>
                <a:lnTo>
                  <a:pt x="88" y="340"/>
                </a:lnTo>
                <a:lnTo>
                  <a:pt x="55" y="336"/>
                </a:lnTo>
                <a:lnTo>
                  <a:pt x="22" y="272"/>
                </a:lnTo>
                <a:lnTo>
                  <a:pt x="0" y="241"/>
                </a:lnTo>
                <a:lnTo>
                  <a:pt x="15" y="226"/>
                </a:lnTo>
                <a:lnTo>
                  <a:pt x="22" y="219"/>
                </a:lnTo>
                <a:lnTo>
                  <a:pt x="57" y="168"/>
                </a:lnTo>
                <a:lnTo>
                  <a:pt x="55" y="126"/>
                </a:lnTo>
                <a:lnTo>
                  <a:pt x="68" y="108"/>
                </a:lnTo>
                <a:lnTo>
                  <a:pt x="94" y="104"/>
                </a:lnTo>
                <a:lnTo>
                  <a:pt x="104" y="92"/>
                </a:lnTo>
                <a:lnTo>
                  <a:pt x="94" y="73"/>
                </a:lnTo>
                <a:lnTo>
                  <a:pt x="106" y="51"/>
                </a:lnTo>
                <a:lnTo>
                  <a:pt x="106" y="14"/>
                </a:lnTo>
                <a:lnTo>
                  <a:pt x="128" y="4"/>
                </a:lnTo>
                <a:lnTo>
                  <a:pt x="160" y="24"/>
                </a:lnTo>
                <a:lnTo>
                  <a:pt x="205" y="31"/>
                </a:lnTo>
                <a:lnTo>
                  <a:pt x="230" y="0"/>
                </a:lnTo>
                <a:lnTo>
                  <a:pt x="266" y="28"/>
                </a:lnTo>
                <a:lnTo>
                  <a:pt x="250" y="37"/>
                </a:lnTo>
                <a:lnTo>
                  <a:pt x="232" y="64"/>
                </a:lnTo>
                <a:lnTo>
                  <a:pt x="205" y="73"/>
                </a:lnTo>
                <a:lnTo>
                  <a:pt x="198" y="79"/>
                </a:lnTo>
                <a:lnTo>
                  <a:pt x="220" y="94"/>
                </a:lnTo>
                <a:lnTo>
                  <a:pt x="270" y="73"/>
                </a:lnTo>
                <a:lnTo>
                  <a:pt x="350" y="105"/>
                </a:lnTo>
                <a:lnTo>
                  <a:pt x="360" y="174"/>
                </a:lnTo>
                <a:lnTo>
                  <a:pt x="326" y="174"/>
                </a:lnTo>
                <a:lnTo>
                  <a:pt x="324" y="194"/>
                </a:lnTo>
                <a:lnTo>
                  <a:pt x="340" y="224"/>
                </a:lnTo>
                <a:lnTo>
                  <a:pt x="326" y="241"/>
                </a:lnTo>
                <a:lnTo>
                  <a:pt x="343" y="266"/>
                </a:lnTo>
                <a:lnTo>
                  <a:pt x="316" y="300"/>
                </a:lnTo>
                <a:lnTo>
                  <a:pt x="306" y="284"/>
                </a:lnTo>
                <a:lnTo>
                  <a:pt x="266" y="384"/>
                </a:lnTo>
                <a:lnTo>
                  <a:pt x="261" y="399"/>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Freeform 36"/>
          <p:cNvSpPr/>
          <p:nvPr/>
        </p:nvSpPr>
        <p:spPr>
          <a:xfrm>
            <a:off x="5851440" y="5378400"/>
            <a:ext cx="189000" cy="371520"/>
          </a:xfrm>
          <a:custGeom>
            <a:avLst/>
            <a:gdLst/>
            <a:ahLst/>
            <a:rect l="l" t="t" r="r" b="b"/>
            <a:pathLst>
              <a:path w="152" h="313">
                <a:moveTo>
                  <a:pt x="0" y="151"/>
                </a:moveTo>
                <a:lnTo>
                  <a:pt x="0" y="200"/>
                </a:lnTo>
                <a:lnTo>
                  <a:pt x="10" y="252"/>
                </a:lnTo>
                <a:lnTo>
                  <a:pt x="40" y="271"/>
                </a:lnTo>
                <a:lnTo>
                  <a:pt x="59" y="312"/>
                </a:lnTo>
                <a:lnTo>
                  <a:pt x="70" y="252"/>
                </a:lnTo>
                <a:lnTo>
                  <a:pt x="99" y="217"/>
                </a:lnTo>
                <a:lnTo>
                  <a:pt x="151" y="65"/>
                </a:lnTo>
                <a:lnTo>
                  <a:pt x="151" y="16"/>
                </a:lnTo>
                <a:lnTo>
                  <a:pt x="124" y="0"/>
                </a:lnTo>
                <a:lnTo>
                  <a:pt x="75" y="21"/>
                </a:lnTo>
                <a:lnTo>
                  <a:pt x="0" y="151"/>
                </a:lnTo>
              </a:path>
            </a:pathLst>
          </a:custGeom>
          <a:solidFill>
            <a:srgbClr val="bfbfbf"/>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Freeform 37"/>
          <p:cNvSpPr/>
          <p:nvPr/>
        </p:nvSpPr>
        <p:spPr>
          <a:xfrm>
            <a:off x="5006880" y="3722760"/>
            <a:ext cx="773280" cy="498240"/>
          </a:xfrm>
          <a:custGeom>
            <a:avLst/>
            <a:gdLst/>
            <a:ahLst/>
            <a:rect l="l" t="t" r="r" b="b"/>
            <a:pathLst>
              <a:path w="629" h="418">
                <a:moveTo>
                  <a:pt x="139" y="403"/>
                </a:moveTo>
                <a:lnTo>
                  <a:pt x="144" y="380"/>
                </a:lnTo>
                <a:lnTo>
                  <a:pt x="166" y="373"/>
                </a:lnTo>
                <a:lnTo>
                  <a:pt x="206" y="403"/>
                </a:lnTo>
                <a:lnTo>
                  <a:pt x="219" y="403"/>
                </a:lnTo>
                <a:lnTo>
                  <a:pt x="258" y="401"/>
                </a:lnTo>
                <a:lnTo>
                  <a:pt x="279" y="384"/>
                </a:lnTo>
                <a:lnTo>
                  <a:pt x="310" y="408"/>
                </a:lnTo>
                <a:lnTo>
                  <a:pt x="323" y="386"/>
                </a:lnTo>
                <a:lnTo>
                  <a:pt x="325" y="376"/>
                </a:lnTo>
                <a:lnTo>
                  <a:pt x="350" y="360"/>
                </a:lnTo>
                <a:lnTo>
                  <a:pt x="359" y="327"/>
                </a:lnTo>
                <a:lnTo>
                  <a:pt x="382" y="322"/>
                </a:lnTo>
                <a:lnTo>
                  <a:pt x="454" y="208"/>
                </a:lnTo>
                <a:lnTo>
                  <a:pt x="440" y="190"/>
                </a:lnTo>
                <a:lnTo>
                  <a:pt x="454" y="178"/>
                </a:lnTo>
                <a:lnTo>
                  <a:pt x="470" y="183"/>
                </a:lnTo>
                <a:lnTo>
                  <a:pt x="491" y="172"/>
                </a:lnTo>
                <a:lnTo>
                  <a:pt x="503" y="144"/>
                </a:lnTo>
                <a:lnTo>
                  <a:pt x="560" y="94"/>
                </a:lnTo>
                <a:lnTo>
                  <a:pt x="604" y="78"/>
                </a:lnTo>
                <a:lnTo>
                  <a:pt x="628" y="59"/>
                </a:lnTo>
                <a:lnTo>
                  <a:pt x="621" y="18"/>
                </a:lnTo>
                <a:lnTo>
                  <a:pt x="592" y="15"/>
                </a:lnTo>
                <a:lnTo>
                  <a:pt x="522" y="22"/>
                </a:lnTo>
                <a:lnTo>
                  <a:pt x="476" y="0"/>
                </a:lnTo>
                <a:lnTo>
                  <a:pt x="449" y="4"/>
                </a:lnTo>
                <a:lnTo>
                  <a:pt x="378" y="94"/>
                </a:lnTo>
                <a:lnTo>
                  <a:pt x="359" y="104"/>
                </a:lnTo>
                <a:lnTo>
                  <a:pt x="312" y="86"/>
                </a:lnTo>
                <a:lnTo>
                  <a:pt x="310" y="63"/>
                </a:lnTo>
                <a:lnTo>
                  <a:pt x="300" y="25"/>
                </a:lnTo>
                <a:lnTo>
                  <a:pt x="274" y="9"/>
                </a:lnTo>
                <a:lnTo>
                  <a:pt x="235" y="20"/>
                </a:lnTo>
                <a:lnTo>
                  <a:pt x="209" y="2"/>
                </a:lnTo>
                <a:lnTo>
                  <a:pt x="171" y="49"/>
                </a:lnTo>
                <a:lnTo>
                  <a:pt x="131" y="59"/>
                </a:lnTo>
                <a:lnTo>
                  <a:pt x="75" y="107"/>
                </a:lnTo>
                <a:lnTo>
                  <a:pt x="16" y="216"/>
                </a:lnTo>
                <a:lnTo>
                  <a:pt x="32" y="244"/>
                </a:lnTo>
                <a:lnTo>
                  <a:pt x="28" y="256"/>
                </a:lnTo>
                <a:lnTo>
                  <a:pt x="28" y="269"/>
                </a:lnTo>
                <a:lnTo>
                  <a:pt x="36" y="280"/>
                </a:lnTo>
                <a:lnTo>
                  <a:pt x="55" y="269"/>
                </a:lnTo>
                <a:lnTo>
                  <a:pt x="88" y="261"/>
                </a:lnTo>
                <a:lnTo>
                  <a:pt x="0" y="355"/>
                </a:lnTo>
                <a:lnTo>
                  <a:pt x="0" y="380"/>
                </a:lnTo>
                <a:lnTo>
                  <a:pt x="18" y="384"/>
                </a:lnTo>
                <a:lnTo>
                  <a:pt x="59" y="417"/>
                </a:lnTo>
                <a:lnTo>
                  <a:pt x="121" y="408"/>
                </a:lnTo>
                <a:lnTo>
                  <a:pt x="139" y="403"/>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Freeform 38"/>
          <p:cNvSpPr/>
          <p:nvPr/>
        </p:nvSpPr>
        <p:spPr>
          <a:xfrm>
            <a:off x="3925800" y="4586400"/>
            <a:ext cx="608040" cy="546120"/>
          </a:xfrm>
          <a:custGeom>
            <a:avLst/>
            <a:gdLst/>
            <a:ahLst/>
            <a:rect l="l" t="t" r="r" b="b"/>
            <a:pathLst>
              <a:path w="353" h="330">
                <a:moveTo>
                  <a:pt x="72" y="310"/>
                </a:moveTo>
                <a:lnTo>
                  <a:pt x="87" y="307"/>
                </a:lnTo>
                <a:lnTo>
                  <a:pt x="95" y="318"/>
                </a:lnTo>
                <a:lnTo>
                  <a:pt x="117" y="285"/>
                </a:lnTo>
                <a:lnTo>
                  <a:pt x="144" y="286"/>
                </a:lnTo>
                <a:lnTo>
                  <a:pt x="156" y="253"/>
                </a:lnTo>
                <a:lnTo>
                  <a:pt x="182" y="267"/>
                </a:lnTo>
                <a:lnTo>
                  <a:pt x="215" y="261"/>
                </a:lnTo>
                <a:lnTo>
                  <a:pt x="221" y="274"/>
                </a:lnTo>
                <a:lnTo>
                  <a:pt x="219" y="285"/>
                </a:lnTo>
                <a:lnTo>
                  <a:pt x="269" y="330"/>
                </a:lnTo>
                <a:lnTo>
                  <a:pt x="296" y="316"/>
                </a:lnTo>
                <a:lnTo>
                  <a:pt x="293" y="256"/>
                </a:lnTo>
                <a:lnTo>
                  <a:pt x="255" y="208"/>
                </a:lnTo>
                <a:lnTo>
                  <a:pt x="233" y="198"/>
                </a:lnTo>
                <a:lnTo>
                  <a:pt x="236" y="169"/>
                </a:lnTo>
                <a:lnTo>
                  <a:pt x="221" y="150"/>
                </a:lnTo>
                <a:lnTo>
                  <a:pt x="239" y="136"/>
                </a:lnTo>
                <a:lnTo>
                  <a:pt x="272" y="133"/>
                </a:lnTo>
                <a:lnTo>
                  <a:pt x="294" y="129"/>
                </a:lnTo>
                <a:lnTo>
                  <a:pt x="320" y="109"/>
                </a:lnTo>
                <a:lnTo>
                  <a:pt x="336" y="102"/>
                </a:lnTo>
                <a:lnTo>
                  <a:pt x="345" y="109"/>
                </a:lnTo>
                <a:lnTo>
                  <a:pt x="353" y="91"/>
                </a:lnTo>
                <a:lnTo>
                  <a:pt x="344" y="63"/>
                </a:lnTo>
                <a:lnTo>
                  <a:pt x="344" y="52"/>
                </a:lnTo>
                <a:lnTo>
                  <a:pt x="321" y="27"/>
                </a:lnTo>
                <a:lnTo>
                  <a:pt x="302" y="24"/>
                </a:lnTo>
                <a:lnTo>
                  <a:pt x="275" y="30"/>
                </a:lnTo>
                <a:lnTo>
                  <a:pt x="260" y="15"/>
                </a:lnTo>
                <a:lnTo>
                  <a:pt x="231" y="3"/>
                </a:lnTo>
                <a:lnTo>
                  <a:pt x="215" y="0"/>
                </a:lnTo>
                <a:lnTo>
                  <a:pt x="215" y="10"/>
                </a:lnTo>
                <a:lnTo>
                  <a:pt x="221" y="31"/>
                </a:lnTo>
                <a:lnTo>
                  <a:pt x="231" y="33"/>
                </a:lnTo>
                <a:lnTo>
                  <a:pt x="222" y="48"/>
                </a:lnTo>
                <a:lnTo>
                  <a:pt x="206" y="54"/>
                </a:lnTo>
                <a:lnTo>
                  <a:pt x="204" y="66"/>
                </a:lnTo>
                <a:lnTo>
                  <a:pt x="195" y="82"/>
                </a:lnTo>
                <a:lnTo>
                  <a:pt x="195" y="94"/>
                </a:lnTo>
                <a:lnTo>
                  <a:pt x="191" y="106"/>
                </a:lnTo>
                <a:lnTo>
                  <a:pt x="183" y="115"/>
                </a:lnTo>
                <a:lnTo>
                  <a:pt x="173" y="106"/>
                </a:lnTo>
                <a:lnTo>
                  <a:pt x="153" y="117"/>
                </a:lnTo>
                <a:lnTo>
                  <a:pt x="156" y="129"/>
                </a:lnTo>
                <a:lnTo>
                  <a:pt x="150" y="138"/>
                </a:lnTo>
                <a:lnTo>
                  <a:pt x="140" y="165"/>
                </a:lnTo>
                <a:lnTo>
                  <a:pt x="132" y="172"/>
                </a:lnTo>
                <a:lnTo>
                  <a:pt x="120" y="174"/>
                </a:lnTo>
                <a:lnTo>
                  <a:pt x="107" y="178"/>
                </a:lnTo>
                <a:lnTo>
                  <a:pt x="107" y="162"/>
                </a:lnTo>
                <a:lnTo>
                  <a:pt x="101" y="153"/>
                </a:lnTo>
                <a:lnTo>
                  <a:pt x="80" y="154"/>
                </a:lnTo>
                <a:lnTo>
                  <a:pt x="69" y="168"/>
                </a:lnTo>
                <a:lnTo>
                  <a:pt x="63" y="159"/>
                </a:lnTo>
                <a:lnTo>
                  <a:pt x="44" y="147"/>
                </a:lnTo>
                <a:lnTo>
                  <a:pt x="30" y="153"/>
                </a:lnTo>
                <a:lnTo>
                  <a:pt x="26" y="163"/>
                </a:lnTo>
                <a:lnTo>
                  <a:pt x="30" y="183"/>
                </a:lnTo>
                <a:lnTo>
                  <a:pt x="24" y="193"/>
                </a:lnTo>
                <a:lnTo>
                  <a:pt x="17" y="204"/>
                </a:lnTo>
                <a:lnTo>
                  <a:pt x="6" y="208"/>
                </a:lnTo>
                <a:lnTo>
                  <a:pt x="0" y="222"/>
                </a:lnTo>
                <a:lnTo>
                  <a:pt x="11" y="229"/>
                </a:lnTo>
                <a:lnTo>
                  <a:pt x="17" y="243"/>
                </a:lnTo>
                <a:lnTo>
                  <a:pt x="30" y="243"/>
                </a:lnTo>
                <a:lnTo>
                  <a:pt x="29" y="253"/>
                </a:lnTo>
                <a:lnTo>
                  <a:pt x="39" y="268"/>
                </a:lnTo>
                <a:lnTo>
                  <a:pt x="53" y="268"/>
                </a:lnTo>
                <a:lnTo>
                  <a:pt x="63" y="273"/>
                </a:lnTo>
                <a:lnTo>
                  <a:pt x="72" y="288"/>
                </a:lnTo>
                <a:lnTo>
                  <a:pt x="77" y="298"/>
                </a:lnTo>
                <a:lnTo>
                  <a:pt x="72" y="310"/>
                </a:lnTo>
                <a:close/>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AutoShape 59"/>
          <p:cNvSpPr/>
          <p:nvPr/>
        </p:nvSpPr>
        <p:spPr>
          <a:xfrm>
            <a:off x="7215120" y="2440080"/>
            <a:ext cx="243000" cy="244440"/>
          </a:xfrm>
          <a:custGeom>
            <a:avLst/>
            <a:gdLst/>
            <a:ahLst/>
            <a:rect l="l" t="t" r="r" b="b"/>
            <a:pathLst>
              <a:path w="21543" h="21600">
                <a:moveTo>
                  <a:pt x="16976" y="19986"/>
                </a:moveTo>
                <a:lnTo>
                  <a:pt x="11226" y="17680"/>
                </a:lnTo>
                <a:cubicBezTo>
                  <a:pt x="11088" y="17626"/>
                  <a:pt x="10946" y="17608"/>
                  <a:pt x="10806" y="17600"/>
                </a:cubicBezTo>
                <a:lnTo>
                  <a:pt x="19660" y="3837"/>
                </a:lnTo>
                <a:cubicBezTo>
                  <a:pt x="19660" y="3837"/>
                  <a:pt x="16976" y="19986"/>
                  <a:pt x="16976" y="19986"/>
                </a:cubicBezTo>
                <a:close/>
                <a:moveTo>
                  <a:pt x="6859" y="16244"/>
                </a:moveTo>
                <a:cubicBezTo>
                  <a:pt x="6858" y="16242"/>
                  <a:pt x="6855" y="16240"/>
                  <a:pt x="6854" y="16238"/>
                </a:cubicBezTo>
                <a:lnTo>
                  <a:pt x="19606" y="2552"/>
                </a:lnTo>
                <a:lnTo>
                  <a:pt x="8735" y="19536"/>
                </a:lnTo>
                <a:cubicBezTo>
                  <a:pt x="8735" y="19536"/>
                  <a:pt x="6859" y="16244"/>
                  <a:pt x="6859" y="16244"/>
                </a:cubicBezTo>
                <a:close/>
                <a:moveTo>
                  <a:pt x="2111" y="14024"/>
                </a:moveTo>
                <a:lnTo>
                  <a:pt x="17712" y="3595"/>
                </a:lnTo>
                <a:lnTo>
                  <a:pt x="6369" y="15770"/>
                </a:lnTo>
                <a:cubicBezTo>
                  <a:pt x="6309" y="15734"/>
                  <a:pt x="6256" y="15687"/>
                  <a:pt x="6190" y="15660"/>
                </a:cubicBezTo>
                <a:cubicBezTo>
                  <a:pt x="6190" y="15660"/>
                  <a:pt x="2111" y="14024"/>
                  <a:pt x="2111" y="14024"/>
                </a:cubicBezTo>
                <a:close/>
                <a:moveTo>
                  <a:pt x="21234" y="108"/>
                </a:moveTo>
                <a:cubicBezTo>
                  <a:pt x="21123" y="35"/>
                  <a:pt x="20996" y="0"/>
                  <a:pt x="20868" y="0"/>
                </a:cubicBezTo>
                <a:cubicBezTo>
                  <a:pt x="20738" y="0"/>
                  <a:pt x="20608" y="36"/>
                  <a:pt x="20495" y="113"/>
                </a:cubicBezTo>
                <a:lnTo>
                  <a:pt x="299" y="13613"/>
                </a:lnTo>
                <a:cubicBezTo>
                  <a:pt x="91" y="13751"/>
                  <a:pt x="-23" y="13995"/>
                  <a:pt x="3" y="14244"/>
                </a:cubicBezTo>
                <a:cubicBezTo>
                  <a:pt x="28" y="14494"/>
                  <a:pt x="190" y="14708"/>
                  <a:pt x="422" y="14801"/>
                </a:cubicBezTo>
                <a:lnTo>
                  <a:pt x="5689" y="16914"/>
                </a:lnTo>
                <a:lnTo>
                  <a:pt x="8166" y="21259"/>
                </a:lnTo>
                <a:cubicBezTo>
                  <a:pt x="8284" y="21468"/>
                  <a:pt x="8505" y="21597"/>
                  <a:pt x="8743" y="21599"/>
                </a:cubicBezTo>
                <a:lnTo>
                  <a:pt x="8751" y="21599"/>
                </a:lnTo>
                <a:cubicBezTo>
                  <a:pt x="8987" y="21599"/>
                  <a:pt x="9206" y="21474"/>
                  <a:pt x="9328" y="21271"/>
                </a:cubicBezTo>
                <a:lnTo>
                  <a:pt x="10726" y="18934"/>
                </a:lnTo>
                <a:lnTo>
                  <a:pt x="17253" y="21551"/>
                </a:lnTo>
                <a:cubicBezTo>
                  <a:pt x="17332" y="21584"/>
                  <a:pt x="17418" y="21599"/>
                  <a:pt x="17502" y="21599"/>
                </a:cubicBezTo>
                <a:cubicBezTo>
                  <a:pt x="17617" y="21599"/>
                  <a:pt x="17731" y="21571"/>
                  <a:pt x="17832" y="21512"/>
                </a:cubicBezTo>
                <a:cubicBezTo>
                  <a:pt x="18010" y="21412"/>
                  <a:pt x="18133" y="21238"/>
                  <a:pt x="18167" y="21035"/>
                </a:cubicBezTo>
                <a:lnTo>
                  <a:pt x="21533" y="785"/>
                </a:lnTo>
                <a:cubicBezTo>
                  <a:pt x="21576" y="520"/>
                  <a:pt x="21459" y="254"/>
                  <a:pt x="21234" y="108"/>
                </a:cubicBezTo>
              </a:path>
            </a:pathLst>
          </a:custGeom>
          <a:solidFill>
            <a:srgbClr val="f44168"/>
          </a:solidFill>
          <a:ln w="0">
            <a:noFill/>
          </a:ln>
        </p:spPr>
        <p:style>
          <a:lnRef idx="0"/>
          <a:fillRef idx="0"/>
          <a:effectRef idx="0"/>
          <a:fontRef idx="minor"/>
        </p:style>
        <p:txBody>
          <a:bodyPr lIns="18720" rIns="18720" tIns="18720" bIns="18720" anchor="ctr">
            <a:noAutofit/>
          </a:bodyPr>
          <a:p>
            <a:endParaRPr b="0" lang="en-US" sz="1800" spc="-1" strike="noStrike">
              <a:solidFill>
                <a:srgbClr val="000000"/>
              </a:solidFill>
              <a:latin typeface="Arial"/>
            </a:endParaRPr>
          </a:p>
        </p:txBody>
      </p:sp>
      <p:sp>
        <p:nvSpPr>
          <p:cNvPr id="592" name="AutoShape 111"/>
          <p:cNvSpPr/>
          <p:nvPr/>
        </p:nvSpPr>
        <p:spPr>
          <a:xfrm>
            <a:off x="7245360" y="4218120"/>
            <a:ext cx="244440" cy="228600"/>
          </a:xfrm>
          <a:custGeom>
            <a:avLst/>
            <a:gdLst/>
            <a:ahLst/>
            <a:rect l="l" t="t" r="r" b="b"/>
            <a:pathLst>
              <a:path w="21600" h="21599">
                <a:moveTo>
                  <a:pt x="20249" y="16562"/>
                </a:moveTo>
                <a:cubicBezTo>
                  <a:pt x="20249" y="16959"/>
                  <a:pt x="19946" y="17282"/>
                  <a:pt x="19575" y="17282"/>
                </a:cubicBezTo>
                <a:lnTo>
                  <a:pt x="13499" y="17282"/>
                </a:lnTo>
                <a:lnTo>
                  <a:pt x="8099" y="17282"/>
                </a:lnTo>
                <a:lnTo>
                  <a:pt x="2024" y="17282"/>
                </a:lnTo>
                <a:cubicBezTo>
                  <a:pt x="1651" y="17282"/>
                  <a:pt x="1349" y="16959"/>
                  <a:pt x="1349" y="16562"/>
                </a:cubicBezTo>
                <a:lnTo>
                  <a:pt x="1349" y="2160"/>
                </a:lnTo>
                <a:cubicBezTo>
                  <a:pt x="1349" y="1762"/>
                  <a:pt x="1651" y="1440"/>
                  <a:pt x="2024" y="1440"/>
                </a:cubicBezTo>
                <a:lnTo>
                  <a:pt x="19575" y="1440"/>
                </a:lnTo>
                <a:cubicBezTo>
                  <a:pt x="19946" y="1440"/>
                  <a:pt x="20249" y="1762"/>
                  <a:pt x="20249" y="2160"/>
                </a:cubicBezTo>
                <a:cubicBezTo>
                  <a:pt x="20249" y="2160"/>
                  <a:pt x="20249" y="16562"/>
                  <a:pt x="20249" y="16562"/>
                </a:cubicBezTo>
                <a:close/>
                <a:moveTo>
                  <a:pt x="19575" y="0"/>
                </a:moveTo>
                <a:lnTo>
                  <a:pt x="2024" y="0"/>
                </a:lnTo>
                <a:cubicBezTo>
                  <a:pt x="905" y="0"/>
                  <a:pt x="0" y="966"/>
                  <a:pt x="0" y="2160"/>
                </a:cubicBezTo>
                <a:lnTo>
                  <a:pt x="0" y="16562"/>
                </a:lnTo>
                <a:cubicBezTo>
                  <a:pt x="0" y="17753"/>
                  <a:pt x="903" y="18718"/>
                  <a:pt x="2018" y="18721"/>
                </a:cubicBezTo>
                <a:lnTo>
                  <a:pt x="8774" y="18721"/>
                </a:lnTo>
                <a:lnTo>
                  <a:pt x="8774" y="19597"/>
                </a:lnTo>
                <a:lnTo>
                  <a:pt x="4561" y="20181"/>
                </a:lnTo>
                <a:cubicBezTo>
                  <a:pt x="4260" y="20262"/>
                  <a:pt x="4049" y="20549"/>
                  <a:pt x="4049" y="20879"/>
                </a:cubicBezTo>
                <a:cubicBezTo>
                  <a:pt x="4049" y="21277"/>
                  <a:pt x="4351" y="21599"/>
                  <a:pt x="4724" y="21599"/>
                </a:cubicBezTo>
                <a:lnTo>
                  <a:pt x="16874" y="21599"/>
                </a:lnTo>
                <a:cubicBezTo>
                  <a:pt x="17248" y="21599"/>
                  <a:pt x="17549" y="21277"/>
                  <a:pt x="17549" y="20879"/>
                </a:cubicBezTo>
                <a:cubicBezTo>
                  <a:pt x="17549" y="20549"/>
                  <a:pt x="17339" y="20262"/>
                  <a:pt x="17038" y="20181"/>
                </a:cubicBezTo>
                <a:lnTo>
                  <a:pt x="12824" y="19597"/>
                </a:lnTo>
                <a:lnTo>
                  <a:pt x="12824" y="18721"/>
                </a:lnTo>
                <a:lnTo>
                  <a:pt x="19581" y="18721"/>
                </a:lnTo>
                <a:cubicBezTo>
                  <a:pt x="20696" y="18718"/>
                  <a:pt x="21600" y="17753"/>
                  <a:pt x="21600" y="16562"/>
                </a:cubicBezTo>
                <a:lnTo>
                  <a:pt x="21600" y="2160"/>
                </a:lnTo>
                <a:cubicBezTo>
                  <a:pt x="21600" y="966"/>
                  <a:pt x="20692" y="0"/>
                  <a:pt x="19575" y="0"/>
                </a:cubicBezTo>
              </a:path>
            </a:pathLst>
          </a:custGeom>
          <a:solidFill>
            <a:srgbClr val="f44168"/>
          </a:solidFill>
          <a:ln w="0">
            <a:noFill/>
          </a:ln>
        </p:spPr>
        <p:style>
          <a:lnRef idx="0"/>
          <a:fillRef idx="0"/>
          <a:effectRef idx="0"/>
          <a:fontRef idx="minor"/>
        </p:style>
        <p:txBody>
          <a:bodyPr lIns="18720" rIns="18720" tIns="18720" bIns="18720" anchor="ctr">
            <a:noAutofit/>
          </a:bodyPr>
          <a:p>
            <a:endParaRPr b="0" lang="en-US" sz="1800" spc="-1" strike="noStrike">
              <a:solidFill>
                <a:srgbClr val="000000"/>
              </a:solidFill>
              <a:latin typeface="Arial"/>
            </a:endParaRPr>
          </a:p>
        </p:txBody>
      </p:sp>
      <p:sp>
        <p:nvSpPr>
          <p:cNvPr id="593" name="AutoShape 44"/>
          <p:cNvSpPr/>
          <p:nvPr/>
        </p:nvSpPr>
        <p:spPr>
          <a:xfrm>
            <a:off x="4346640" y="4811760"/>
            <a:ext cx="12600" cy="66600"/>
          </a:xfrm>
          <a:custGeom>
            <a:avLst/>
            <a:gdLst/>
            <a:ahLst/>
            <a:rect l="l" t="t" r="r" b="b"/>
            <a:pathLst>
              <a:path w="21600" h="21599">
                <a:moveTo>
                  <a:pt x="0" y="1963"/>
                </a:moveTo>
                <a:lnTo>
                  <a:pt x="0" y="19636"/>
                </a:lnTo>
                <a:cubicBezTo>
                  <a:pt x="0" y="20721"/>
                  <a:pt x="4841" y="21599"/>
                  <a:pt x="10800" y="21599"/>
                </a:cubicBezTo>
                <a:cubicBezTo>
                  <a:pt x="16758" y="21599"/>
                  <a:pt x="21600" y="20721"/>
                  <a:pt x="21600" y="19636"/>
                </a:cubicBezTo>
                <a:lnTo>
                  <a:pt x="21600" y="1963"/>
                </a:lnTo>
                <a:cubicBezTo>
                  <a:pt x="21600" y="878"/>
                  <a:pt x="16758" y="0"/>
                  <a:pt x="10800" y="0"/>
                </a:cubicBezTo>
                <a:cubicBezTo>
                  <a:pt x="4841" y="0"/>
                  <a:pt x="0" y="878"/>
                  <a:pt x="0" y="1963"/>
                </a:cubicBezTo>
              </a:path>
            </a:pathLst>
          </a:custGeom>
          <a:solidFill>
            <a:srgbClr val="5b9bd5"/>
          </a:solidFill>
          <a:ln w="0">
            <a:noFill/>
          </a:ln>
        </p:spPr>
        <p:style>
          <a:lnRef idx="0"/>
          <a:fillRef idx="0"/>
          <a:effectRef idx="0"/>
          <a:fontRef idx="minor"/>
        </p:style>
        <p:txBody>
          <a:bodyPr lIns="18720" rIns="18720" tIns="18720" bIns="18720" anchor="ctr">
            <a:noAutofit/>
          </a:bodyPr>
          <a:p>
            <a:endParaRPr b="0" lang="en-US" sz="1800" spc="-1" strike="noStrike">
              <a:solidFill>
                <a:srgbClr val="000000"/>
              </a:solidFill>
              <a:latin typeface="Arial"/>
            </a:endParaRPr>
          </a:p>
        </p:txBody>
      </p:sp>
      <p:sp>
        <p:nvSpPr>
          <p:cNvPr id="594" name="AutoShape 45"/>
          <p:cNvSpPr/>
          <p:nvPr/>
        </p:nvSpPr>
        <p:spPr>
          <a:xfrm>
            <a:off x="4340160" y="4884840"/>
            <a:ext cx="25560" cy="36360"/>
          </a:xfrm>
          <a:custGeom>
            <a:avLst/>
            <a:gdLst/>
            <a:ahLst/>
            <a:rect l="l" t="t" r="r" b="b"/>
            <a:pathLst>
              <a:path w="21600" h="21599">
                <a:moveTo>
                  <a:pt x="10800" y="0"/>
                </a:moveTo>
                <a:cubicBezTo>
                  <a:pt x="4838" y="0"/>
                  <a:pt x="0" y="10427"/>
                  <a:pt x="0" y="14400"/>
                </a:cubicBezTo>
                <a:cubicBezTo>
                  <a:pt x="0" y="18372"/>
                  <a:pt x="4838" y="21599"/>
                  <a:pt x="10800" y="21599"/>
                </a:cubicBezTo>
                <a:cubicBezTo>
                  <a:pt x="16761" y="21599"/>
                  <a:pt x="21600" y="18372"/>
                  <a:pt x="21600" y="14400"/>
                </a:cubicBezTo>
                <a:cubicBezTo>
                  <a:pt x="21600" y="10427"/>
                  <a:pt x="16761" y="0"/>
                  <a:pt x="10800" y="0"/>
                </a:cubicBezTo>
              </a:path>
            </a:pathLst>
          </a:custGeom>
          <a:solidFill>
            <a:srgbClr val="5b9bd5"/>
          </a:solidFill>
          <a:ln w="0">
            <a:noFill/>
          </a:ln>
        </p:spPr>
        <p:style>
          <a:lnRef idx="0"/>
          <a:fillRef idx="0"/>
          <a:effectRef idx="0"/>
          <a:fontRef idx="minor"/>
        </p:style>
        <p:txBody>
          <a:bodyPr lIns="18720" rIns="18720" tIns="17640" bIns="17640" anchor="ctr">
            <a:noAutofit/>
          </a:bodyPr>
          <a:p>
            <a:endParaRPr b="0" lang="en-US" sz="1800" spc="-1" strike="noStrike">
              <a:solidFill>
                <a:srgbClr val="000000"/>
              </a:solidFill>
              <a:latin typeface="Arial"/>
            </a:endParaRPr>
          </a:p>
        </p:txBody>
      </p:sp>
      <p:sp>
        <p:nvSpPr>
          <p:cNvPr id="595" name="AutoShape 110"/>
          <p:cNvSpPr/>
          <p:nvPr/>
        </p:nvSpPr>
        <p:spPr>
          <a:xfrm>
            <a:off x="4664160" y="3184560"/>
            <a:ext cx="145800" cy="98280"/>
          </a:xfrm>
          <a:custGeom>
            <a:avLst/>
            <a:gdLst/>
            <a:ahLst/>
            <a:rect l="l" t="t" r="r" b="b"/>
            <a:pathLst>
              <a:path w="21600" h="21599">
                <a:moveTo>
                  <a:pt x="20699" y="20255"/>
                </a:moveTo>
                <a:lnTo>
                  <a:pt x="899" y="20255"/>
                </a:lnTo>
                <a:lnTo>
                  <a:pt x="899" y="1350"/>
                </a:lnTo>
                <a:lnTo>
                  <a:pt x="20699" y="1350"/>
                </a:lnTo>
                <a:cubicBezTo>
                  <a:pt x="20699" y="1350"/>
                  <a:pt x="20699" y="20255"/>
                  <a:pt x="20699" y="20255"/>
                </a:cubicBezTo>
                <a:close/>
                <a:moveTo>
                  <a:pt x="20699" y="0"/>
                </a:moveTo>
                <a:lnTo>
                  <a:pt x="899" y="5"/>
                </a:lnTo>
                <a:cubicBezTo>
                  <a:pt x="402" y="5"/>
                  <a:pt x="0" y="603"/>
                  <a:pt x="0" y="1350"/>
                </a:cubicBezTo>
                <a:lnTo>
                  <a:pt x="0" y="20249"/>
                </a:lnTo>
                <a:cubicBezTo>
                  <a:pt x="0" y="20996"/>
                  <a:pt x="402" y="21599"/>
                  <a:pt x="899" y="21599"/>
                </a:cubicBezTo>
                <a:lnTo>
                  <a:pt x="20699" y="21599"/>
                </a:lnTo>
                <a:cubicBezTo>
                  <a:pt x="21197" y="21599"/>
                  <a:pt x="21600" y="20996"/>
                  <a:pt x="21600" y="20249"/>
                </a:cubicBezTo>
                <a:lnTo>
                  <a:pt x="21600" y="1350"/>
                </a:lnTo>
                <a:cubicBezTo>
                  <a:pt x="21600" y="603"/>
                  <a:pt x="21197" y="0"/>
                  <a:pt x="20699" y="0"/>
                </a:cubicBezTo>
              </a:path>
            </a:pathLst>
          </a:custGeom>
          <a:solidFill>
            <a:srgbClr val="fdb817"/>
          </a:solidFill>
          <a:ln w="0">
            <a:noFill/>
          </a:ln>
        </p:spPr>
        <p:style>
          <a:lnRef idx="0"/>
          <a:fillRef idx="0"/>
          <a:effectRef idx="0"/>
          <a:fontRef idx="minor"/>
        </p:style>
        <p:txBody>
          <a:bodyPr lIns="18720" rIns="18720" tIns="18720" bIns="18720" anchor="ctr">
            <a:noAutofit/>
          </a:bodyPr>
          <a:p>
            <a:endParaRPr b="0" lang="en-US" sz="1800" spc="-1" strike="noStrike">
              <a:solidFill>
                <a:srgbClr val="000000"/>
              </a:solidFill>
              <a:latin typeface="Arial"/>
            </a:endParaRPr>
          </a:p>
        </p:txBody>
      </p:sp>
      <p:sp>
        <p:nvSpPr>
          <p:cNvPr id="596" name="文本框 50"/>
          <p:cNvSpPr/>
          <p:nvPr/>
        </p:nvSpPr>
        <p:spPr>
          <a:xfrm>
            <a:off x="8016480" y="238608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销售渠道</a:t>
            </a:r>
            <a:endParaRPr b="0" lang="en-US" sz="2000" spc="-1" strike="noStrike">
              <a:solidFill>
                <a:srgbClr val="000000"/>
              </a:solidFill>
              <a:latin typeface="Arial"/>
            </a:endParaRPr>
          </a:p>
        </p:txBody>
      </p:sp>
      <p:sp>
        <p:nvSpPr>
          <p:cNvPr id="597" name="文本框 51"/>
          <p:cNvSpPr/>
          <p:nvPr/>
        </p:nvSpPr>
        <p:spPr>
          <a:xfrm>
            <a:off x="7942680" y="4172040"/>
            <a:ext cx="305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方式</a:t>
            </a:r>
            <a:endParaRPr b="0" lang="en-US" sz="2000" spc="-1" strike="noStrike">
              <a:solidFill>
                <a:srgbClr val="000000"/>
              </a:solidFill>
              <a:latin typeface="Arial"/>
            </a:endParaRPr>
          </a:p>
        </p:txBody>
      </p:sp>
      <p:sp>
        <p:nvSpPr>
          <p:cNvPr id="598" name="矩形 52"/>
          <p:cNvSpPr/>
          <p:nvPr/>
        </p:nvSpPr>
        <p:spPr>
          <a:xfrm>
            <a:off x="7808760" y="2782800"/>
            <a:ext cx="3346560" cy="639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公司通过为全球</a:t>
            </a:r>
            <a:r>
              <a:rPr b="0" lang="en-US" sz="1400" spc="-1" strike="noStrike">
                <a:solidFill>
                  <a:srgbClr val="404040"/>
                </a:solidFill>
                <a:latin typeface="Arial"/>
                <a:ea typeface="微软雅黑"/>
              </a:rPr>
              <a:t>160</a:t>
            </a:r>
            <a:r>
              <a:rPr b="0" lang="zh-CN" sz="1400" spc="-1" strike="noStrike">
                <a:solidFill>
                  <a:srgbClr val="404040"/>
                </a:solidFill>
                <a:latin typeface="Arial"/>
                <a:ea typeface="微软雅黑"/>
              </a:rPr>
              <a:t>多个国家和地区的电信运营商和企业网客户提供创新技术与产品解决方案</a:t>
            </a:r>
            <a:r>
              <a:rPr b="0" lang="en-US" sz="1400" spc="-1" strike="noStrike">
                <a:solidFill>
                  <a:srgbClr val="404040"/>
                </a:solidFill>
                <a:latin typeface="Arial"/>
                <a:ea typeface="微软雅黑"/>
              </a:rPr>
              <a:t>^</a:t>
            </a:r>
            <a:endParaRPr b="0" lang="en-US" sz="1400" spc="-1" strike="noStrike">
              <a:solidFill>
                <a:srgbClr val="000000"/>
              </a:solidFill>
              <a:latin typeface="Arial"/>
            </a:endParaRPr>
          </a:p>
        </p:txBody>
      </p:sp>
      <p:sp>
        <p:nvSpPr>
          <p:cNvPr id="599" name="矩形 53"/>
          <p:cNvSpPr/>
          <p:nvPr/>
        </p:nvSpPr>
        <p:spPr>
          <a:xfrm>
            <a:off x="7808760" y="4532400"/>
            <a:ext cx="3346560" cy="639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公司通过为全球</a:t>
            </a:r>
            <a:r>
              <a:rPr b="0" lang="en-US" sz="1400" spc="-1" strike="noStrike">
                <a:solidFill>
                  <a:srgbClr val="404040"/>
                </a:solidFill>
                <a:latin typeface="Arial"/>
                <a:ea typeface="微软雅黑"/>
              </a:rPr>
              <a:t>160</a:t>
            </a:r>
            <a:r>
              <a:rPr b="0" lang="zh-CN" sz="1400" spc="-1" strike="noStrike">
                <a:solidFill>
                  <a:srgbClr val="404040"/>
                </a:solidFill>
                <a:latin typeface="Arial"/>
                <a:ea typeface="微软雅黑"/>
              </a:rPr>
              <a:t>多个国家和地区的电信运营商和企业网客户提供创新技术与产品解决方案</a:t>
            </a:r>
            <a:r>
              <a:rPr b="0" lang="en-US" sz="1400" spc="-1" strike="noStrike">
                <a:solidFill>
                  <a:srgbClr val="404040"/>
                </a:solidFill>
                <a:latin typeface="Arial"/>
                <a:ea typeface="微软雅黑"/>
              </a:rPr>
              <a:t>^</a:t>
            </a:r>
            <a:endParaRPr b="0" lang="en-US" sz="1400" spc="-1" strike="noStrike">
              <a:solidFill>
                <a:srgbClr val="000000"/>
              </a:solidFill>
              <a:latin typeface="Arial"/>
            </a:endParaRPr>
          </a:p>
        </p:txBody>
      </p:sp>
      <p:sp>
        <p:nvSpPr>
          <p:cNvPr id="600" name="文本框 56"/>
          <p:cNvSpPr/>
          <p:nvPr/>
        </p:nvSpPr>
        <p:spPr>
          <a:xfrm>
            <a:off x="711360" y="295200"/>
            <a:ext cx="300960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营销推广计划</a:t>
            </a:r>
            <a:endParaRPr b="0" lang="en-US" sz="2500" spc="-1" strike="noStrike">
              <a:solidFill>
                <a:srgbClr val="000000"/>
              </a:solidFill>
              <a:latin typeface="Arial"/>
            </a:endParaRPr>
          </a:p>
        </p:txBody>
      </p:sp>
      <p:sp>
        <p:nvSpPr>
          <p:cNvPr id="601" name="椭圆 57"/>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椭圆 1"/>
          <p:cNvSpPr/>
          <p:nvPr/>
        </p:nvSpPr>
        <p:spPr>
          <a:xfrm>
            <a:off x="4703760" y="1496880"/>
            <a:ext cx="2664000" cy="266400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文本框 9"/>
          <p:cNvSpPr/>
          <p:nvPr/>
        </p:nvSpPr>
        <p:spPr>
          <a:xfrm>
            <a:off x="4846680" y="1581120"/>
            <a:ext cx="2441520" cy="2623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600" spc="-1" strike="noStrike">
                <a:solidFill>
                  <a:srgbClr val="ffffff"/>
                </a:solidFill>
                <a:latin typeface="Arial"/>
                <a:ea typeface="微软雅黑"/>
              </a:rPr>
              <a:t>4</a:t>
            </a:r>
            <a:endParaRPr b="0" lang="en-US" sz="16600" spc="-1" strike="noStrike">
              <a:solidFill>
                <a:srgbClr val="000000"/>
              </a:solidFill>
              <a:latin typeface="Arial"/>
            </a:endParaRPr>
          </a:p>
        </p:txBody>
      </p:sp>
      <p:sp>
        <p:nvSpPr>
          <p:cNvPr id="604" name="文本框 10"/>
          <p:cNvSpPr/>
          <p:nvPr/>
        </p:nvSpPr>
        <p:spPr>
          <a:xfrm>
            <a:off x="3139920" y="4498920"/>
            <a:ext cx="596268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1d087d"/>
                </a:solidFill>
                <a:latin typeface="Arial"/>
                <a:ea typeface="微软雅黑"/>
              </a:rPr>
              <a:t>风险与管理</a:t>
            </a:r>
            <a:endParaRPr b="0" lang="en-US" sz="5000" spc="-1" strike="noStrike">
              <a:solidFill>
                <a:srgbClr val="000000"/>
              </a:solidFill>
              <a:latin typeface="Arial"/>
            </a:endParaRPr>
          </a:p>
        </p:txBody>
      </p:sp>
      <p:sp>
        <p:nvSpPr>
          <p:cNvPr id="605" name="任意多边形 62"/>
          <p:cNvSpPr/>
          <p:nvPr/>
        </p:nvSpPr>
        <p:spPr>
          <a:xfrm rot="20566200">
            <a:off x="-279000" y="223560"/>
            <a:ext cx="2324160" cy="1528560"/>
          </a:xfrm>
          <a:custGeom>
            <a:avLst/>
            <a:gdLst/>
            <a:ahLst/>
            <a:rect l="l" t="t" r="r" b="b"/>
            <a:pathLst>
              <a:path w="2323118" h="1529480">
                <a:moveTo>
                  <a:pt x="2317575" y="102737"/>
                </a:moveTo>
                <a:lnTo>
                  <a:pt x="2323118" y="425547"/>
                </a:lnTo>
                <a:lnTo>
                  <a:pt x="2296920" y="439788"/>
                </a:lnTo>
                <a:lnTo>
                  <a:pt x="2223125" y="431167"/>
                </a:lnTo>
                <a:cubicBezTo>
                  <a:pt x="2141233" y="423668"/>
                  <a:pt x="2059351" y="418279"/>
                  <a:pt x="1977371" y="415108"/>
                </a:cubicBezTo>
                <a:cubicBezTo>
                  <a:pt x="1876471" y="475973"/>
                  <a:pt x="1769267" y="536838"/>
                  <a:pt x="1662062" y="597703"/>
                </a:cubicBezTo>
                <a:cubicBezTo>
                  <a:pt x="1287388" y="814058"/>
                  <a:pt x="411441" y="1301159"/>
                  <a:pt x="15270" y="1521009"/>
                </a:cubicBezTo>
                <a:lnTo>
                  <a:pt x="0" y="1529480"/>
                </a:lnTo>
                <a:lnTo>
                  <a:pt x="430040" y="143265"/>
                </a:lnTo>
                <a:lnTo>
                  <a:pt x="454203" y="136369"/>
                </a:lnTo>
                <a:cubicBezTo>
                  <a:pt x="734554" y="63365"/>
                  <a:pt x="1091519" y="74"/>
                  <a:pt x="1486696" y="1"/>
                </a:cubicBezTo>
                <a:cubicBezTo>
                  <a:pt x="1702248" y="-39"/>
                  <a:pt x="1929168" y="18730"/>
                  <a:pt x="2161227" y="64990"/>
                </a:cubicBezTo>
                <a:lnTo>
                  <a:pt x="2317575" y="102737"/>
                </a:lnTo>
                <a:close/>
              </a:path>
            </a:pathLst>
          </a:custGeom>
          <a:solidFill>
            <a:srgbClr val="5b9bd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6" name="任意多边形 63"/>
          <p:cNvSpPr/>
          <p:nvPr/>
        </p:nvSpPr>
        <p:spPr>
          <a:xfrm rot="20566200">
            <a:off x="-23400" y="-983880"/>
            <a:ext cx="6703920" cy="2071800"/>
          </a:xfrm>
          <a:custGeom>
            <a:avLst/>
            <a:gdLst/>
            <a:ahLst/>
            <a:rect l="l" t="t" r="r" b="b"/>
            <a:pathLst>
              <a:path w="6704685" h="2071005">
                <a:moveTo>
                  <a:pt x="188959" y="0"/>
                </a:moveTo>
                <a:lnTo>
                  <a:pt x="6704685" y="2021348"/>
                </a:lnTo>
                <a:lnTo>
                  <a:pt x="6604717" y="2042571"/>
                </a:lnTo>
                <a:cubicBezTo>
                  <a:pt x="5918488" y="2161151"/>
                  <a:pt x="5342064" y="1885828"/>
                  <a:pt x="4630497" y="1641590"/>
                </a:cubicBezTo>
                <a:cubicBezTo>
                  <a:pt x="3810972" y="1367535"/>
                  <a:pt x="3312951" y="966603"/>
                  <a:pt x="1976496" y="591046"/>
                </a:cubicBezTo>
                <a:cubicBezTo>
                  <a:pt x="1245621" y="382889"/>
                  <a:pt x="543027" y="470705"/>
                  <a:pt x="56366" y="593029"/>
                </a:cubicBezTo>
                <a:lnTo>
                  <a:pt x="0" y="609101"/>
                </a:lnTo>
                <a:lnTo>
                  <a:pt x="188959" y="0"/>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任意多边形 18"/>
          <p:cNvSpPr/>
          <p:nvPr/>
        </p:nvSpPr>
        <p:spPr>
          <a:xfrm rot="20566200">
            <a:off x="-353880" y="223560"/>
            <a:ext cx="5257800" cy="1430280"/>
          </a:xfrm>
          <a:custGeom>
            <a:avLst/>
            <a:gdLst/>
            <a:ahLst/>
            <a:rect l="l" t="t" r="r" b="b"/>
            <a:pathLst>
              <a:path w="4587618" h="1555835">
                <a:moveTo>
                  <a:pt x="1825852" y="0"/>
                </a:moveTo>
                <a:cubicBezTo>
                  <a:pt x="2398011" y="27582"/>
                  <a:pt x="2964668" y="209619"/>
                  <a:pt x="3575337" y="485432"/>
                </a:cubicBezTo>
                <a:cubicBezTo>
                  <a:pt x="4064973" y="700566"/>
                  <a:pt x="4362056" y="821924"/>
                  <a:pt x="4587618" y="910184"/>
                </a:cubicBezTo>
                <a:cubicBezTo>
                  <a:pt x="4169502" y="755729"/>
                  <a:pt x="3377282" y="490948"/>
                  <a:pt x="2898649" y="474399"/>
                </a:cubicBezTo>
                <a:cubicBezTo>
                  <a:pt x="2233309" y="453713"/>
                  <a:pt x="1142459" y="675441"/>
                  <a:pt x="138343" y="1444116"/>
                </a:cubicBezTo>
                <a:lnTo>
                  <a:pt x="0" y="1555835"/>
                </a:lnTo>
                <a:lnTo>
                  <a:pt x="0" y="1281649"/>
                </a:lnTo>
                <a:lnTo>
                  <a:pt x="50814" y="1246526"/>
                </a:lnTo>
                <a:cubicBezTo>
                  <a:pt x="355891" y="1035594"/>
                  <a:pt x="1202116" y="449576"/>
                  <a:pt x="1550775" y="198586"/>
                </a:cubicBezTo>
                <a:cubicBezTo>
                  <a:pt x="1644301" y="132391"/>
                  <a:pt x="1737827" y="66195"/>
                  <a:pt x="1825852" y="0"/>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任意多边形 64"/>
          <p:cNvSpPr/>
          <p:nvPr/>
        </p:nvSpPr>
        <p:spPr>
          <a:xfrm rot="20566200">
            <a:off x="-140760" y="210960"/>
            <a:ext cx="2158920" cy="628920"/>
          </a:xfrm>
          <a:custGeom>
            <a:avLst/>
            <a:gdLst/>
            <a:ahLst/>
            <a:rect l="l" t="t" r="r" b="b"/>
            <a:pathLst>
              <a:path w="2158651" h="628090">
                <a:moveTo>
                  <a:pt x="2140041" y="128253"/>
                </a:moveTo>
                <a:cubicBezTo>
                  <a:pt x="2145705" y="130155"/>
                  <a:pt x="2152178" y="132691"/>
                  <a:pt x="2158651" y="135227"/>
                </a:cubicBezTo>
                <a:cubicBezTo>
                  <a:pt x="2003303" y="201167"/>
                  <a:pt x="1847955" y="292469"/>
                  <a:pt x="1686135" y="388843"/>
                </a:cubicBezTo>
                <a:cubicBezTo>
                  <a:pt x="1466058" y="378698"/>
                  <a:pt x="1252454" y="383770"/>
                  <a:pt x="1032379" y="409132"/>
                </a:cubicBezTo>
                <a:cubicBezTo>
                  <a:pt x="640216" y="448363"/>
                  <a:pt x="295857" y="533483"/>
                  <a:pt x="30627" y="617813"/>
                </a:cubicBezTo>
                <a:lnTo>
                  <a:pt x="0" y="628090"/>
                </a:lnTo>
                <a:lnTo>
                  <a:pt x="155241" y="127677"/>
                </a:lnTo>
                <a:lnTo>
                  <a:pt x="198115" y="116675"/>
                </a:lnTo>
                <a:cubicBezTo>
                  <a:pt x="461534" y="54924"/>
                  <a:pt x="782138" y="4269"/>
                  <a:pt x="1133720" y="257"/>
                </a:cubicBezTo>
                <a:cubicBezTo>
                  <a:pt x="1446235" y="-3310"/>
                  <a:pt x="1783227" y="29978"/>
                  <a:pt x="2126287" y="125082"/>
                </a:cubicBezTo>
                <a:cubicBezTo>
                  <a:pt x="2129523" y="125082"/>
                  <a:pt x="2134378" y="126351"/>
                  <a:pt x="2140041" y="128253"/>
                </a:cubicBezTo>
                <a:close/>
              </a:path>
            </a:pathLst>
          </a:custGeom>
          <a:solidFill>
            <a:srgbClr val="133c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任意多边形 49"/>
          <p:cNvSpPr/>
          <p:nvPr/>
        </p:nvSpPr>
        <p:spPr>
          <a:xfrm rot="20566200">
            <a:off x="1573200" y="-371520"/>
            <a:ext cx="3489480" cy="1187640"/>
          </a:xfrm>
          <a:custGeom>
            <a:avLst/>
            <a:gdLst/>
            <a:ahLst/>
            <a:rect l="l" t="t" r="r" b="b"/>
            <a:pathLst>
              <a:path w="3488546" h="1188055">
                <a:moveTo>
                  <a:pt x="915831" y="141330"/>
                </a:moveTo>
                <a:cubicBezTo>
                  <a:pt x="1900526" y="471561"/>
                  <a:pt x="2370683" y="800820"/>
                  <a:pt x="3082125" y="1040686"/>
                </a:cubicBezTo>
                <a:cubicBezTo>
                  <a:pt x="3214486" y="1086374"/>
                  <a:pt x="3340544" y="1132063"/>
                  <a:pt x="3466603" y="1177752"/>
                </a:cubicBezTo>
                <a:cubicBezTo>
                  <a:pt x="3472905" y="1182828"/>
                  <a:pt x="3472905" y="1182828"/>
                  <a:pt x="3472905" y="1182828"/>
                </a:cubicBezTo>
                <a:cubicBezTo>
                  <a:pt x="3535935" y="1203134"/>
                  <a:pt x="3403573" y="1162522"/>
                  <a:pt x="3164063" y="1091451"/>
                </a:cubicBezTo>
                <a:cubicBezTo>
                  <a:pt x="2905643" y="1010227"/>
                  <a:pt x="2565286" y="898543"/>
                  <a:pt x="2004327" y="700559"/>
                </a:cubicBezTo>
                <a:cubicBezTo>
                  <a:pt x="1304703" y="446733"/>
                  <a:pt x="655504" y="279208"/>
                  <a:pt x="0" y="253826"/>
                </a:cubicBezTo>
                <a:cubicBezTo>
                  <a:pt x="157573" y="157372"/>
                  <a:pt x="308843" y="65995"/>
                  <a:pt x="460113" y="0"/>
                </a:cubicBezTo>
                <a:cubicBezTo>
                  <a:pt x="623989" y="46958"/>
                  <a:pt x="775160" y="94154"/>
                  <a:pt x="915831" y="141330"/>
                </a:cubicBez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任意多边形 52"/>
          <p:cNvSpPr/>
          <p:nvPr/>
        </p:nvSpPr>
        <p:spPr>
          <a:xfrm rot="20566200">
            <a:off x="2018880" y="-457200"/>
            <a:ext cx="3006720" cy="1198440"/>
          </a:xfrm>
          <a:custGeom>
            <a:avLst/>
            <a:gdLst/>
            <a:ahLst/>
            <a:rect l="l" t="t" r="r" b="b"/>
            <a:pathLst>
              <a:path w="3006843" h="1197358">
                <a:moveTo>
                  <a:pt x="52925" y="0"/>
                </a:moveTo>
                <a:lnTo>
                  <a:pt x="1994447" y="602310"/>
                </a:lnTo>
                <a:lnTo>
                  <a:pt x="2077534" y="658745"/>
                </a:lnTo>
                <a:cubicBezTo>
                  <a:pt x="2513187" y="949930"/>
                  <a:pt x="2846887" y="1139662"/>
                  <a:pt x="3006843" y="1197358"/>
                </a:cubicBezTo>
                <a:cubicBezTo>
                  <a:pt x="2880769" y="1151709"/>
                  <a:pt x="2754696" y="1106059"/>
                  <a:pt x="2622320" y="1060409"/>
                </a:cubicBezTo>
                <a:cubicBezTo>
                  <a:pt x="1809148" y="786511"/>
                  <a:pt x="1311160" y="395953"/>
                  <a:pt x="0" y="20611"/>
                </a:cubicBezTo>
                <a:lnTo>
                  <a:pt x="52925" y="0"/>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任意多边形 73"/>
          <p:cNvSpPr/>
          <p:nvPr/>
        </p:nvSpPr>
        <p:spPr>
          <a:xfrm flipH="1" rot="9364200">
            <a:off x="8886600" y="6077880"/>
            <a:ext cx="3549240" cy="1394280"/>
          </a:xfrm>
          <a:custGeom>
            <a:avLst/>
            <a:gdLst/>
            <a:ahLst/>
            <a:rect l="l" t="t" r="r" b="b"/>
            <a:pathLst>
              <a:path w="3550068" h="1393897">
                <a:moveTo>
                  <a:pt x="3550068" y="923786"/>
                </a:moveTo>
                <a:lnTo>
                  <a:pt x="3139982" y="0"/>
                </a:lnTo>
                <a:lnTo>
                  <a:pt x="0" y="1393897"/>
                </a:lnTo>
                <a:lnTo>
                  <a:pt x="196024" y="1330131"/>
                </a:lnTo>
                <a:cubicBezTo>
                  <a:pt x="735473" y="1158044"/>
                  <a:pt x="1224713" y="1013880"/>
                  <a:pt x="1521185" y="956786"/>
                </a:cubicBezTo>
                <a:cubicBezTo>
                  <a:pt x="2077070" y="853302"/>
                  <a:pt x="2714911" y="789961"/>
                  <a:pt x="3390379" y="895551"/>
                </a:cubicBezTo>
                <a:lnTo>
                  <a:pt x="3550068" y="923786"/>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任意多边形 70"/>
          <p:cNvSpPr/>
          <p:nvPr/>
        </p:nvSpPr>
        <p:spPr>
          <a:xfrm flipH="1" rot="9364200">
            <a:off x="7254000" y="5492160"/>
            <a:ext cx="5345280" cy="879480"/>
          </a:xfrm>
          <a:custGeom>
            <a:avLst/>
            <a:gdLst/>
            <a:ahLst/>
            <a:rect l="l" t="t" r="r" b="b"/>
            <a:pathLst>
              <a:path w="5345340" h="878460">
                <a:moveTo>
                  <a:pt x="5345340" y="878460"/>
                </a:moveTo>
                <a:lnTo>
                  <a:pt x="5133072" y="400291"/>
                </a:lnTo>
                <a:lnTo>
                  <a:pt x="5062613" y="374624"/>
                </a:lnTo>
                <a:cubicBezTo>
                  <a:pt x="4583216" y="206134"/>
                  <a:pt x="3721964" y="-20430"/>
                  <a:pt x="2598567" y="1477"/>
                </a:cubicBezTo>
                <a:cubicBezTo>
                  <a:pt x="2190061" y="9443"/>
                  <a:pt x="1746890" y="50264"/>
                  <a:pt x="1274811" y="138681"/>
                </a:cubicBezTo>
                <a:cubicBezTo>
                  <a:pt x="784008" y="255303"/>
                  <a:pt x="331451" y="387136"/>
                  <a:pt x="0" y="488547"/>
                </a:cubicBezTo>
                <a:cubicBezTo>
                  <a:pt x="2729390" y="-289262"/>
                  <a:pt x="4678149" y="529750"/>
                  <a:pt x="5290359" y="849197"/>
                </a:cubicBezTo>
                <a:lnTo>
                  <a:pt x="5345340" y="878460"/>
                </a:lnTo>
                <a:close/>
              </a:path>
            </a:pathLst>
          </a:custGeom>
          <a:solidFill>
            <a:srgbClr val="f0f6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任意多边形 71"/>
          <p:cNvSpPr/>
          <p:nvPr/>
        </p:nvSpPr>
        <p:spPr>
          <a:xfrm flipH="1" rot="9364200">
            <a:off x="8616960" y="5725440"/>
            <a:ext cx="3857760" cy="577800"/>
          </a:xfrm>
          <a:custGeom>
            <a:avLst/>
            <a:gdLst/>
            <a:ahLst/>
            <a:rect l="l" t="t" r="r" b="b"/>
            <a:pathLst>
              <a:path w="3857872" h="578054">
                <a:moveTo>
                  <a:pt x="3857872" y="578054"/>
                </a:moveTo>
                <a:lnTo>
                  <a:pt x="3672428" y="160309"/>
                </a:lnTo>
                <a:lnTo>
                  <a:pt x="3635124" y="152043"/>
                </a:lnTo>
                <a:cubicBezTo>
                  <a:pt x="3163198" y="55309"/>
                  <a:pt x="2591917" y="-13833"/>
                  <a:pt x="1971077" y="2356"/>
                </a:cubicBezTo>
                <a:cubicBezTo>
                  <a:pt x="1670063" y="10205"/>
                  <a:pt x="1357399" y="38114"/>
                  <a:pt x="1038761" y="92663"/>
                </a:cubicBezTo>
                <a:cubicBezTo>
                  <a:pt x="701004" y="148481"/>
                  <a:pt x="337756" y="229669"/>
                  <a:pt x="0" y="315932"/>
                </a:cubicBezTo>
                <a:cubicBezTo>
                  <a:pt x="1789602" y="-19567"/>
                  <a:pt x="3163695" y="329714"/>
                  <a:pt x="3808558" y="559676"/>
                </a:cubicBezTo>
                <a:lnTo>
                  <a:pt x="3857872" y="578054"/>
                </a:lnTo>
                <a:close/>
              </a:path>
            </a:pathLst>
          </a:custGeom>
          <a:solidFill>
            <a:srgbClr val="f37a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任意多边形 72"/>
          <p:cNvSpPr/>
          <p:nvPr/>
        </p:nvSpPr>
        <p:spPr>
          <a:xfrm flipH="1" rot="9364200">
            <a:off x="8353080" y="6003720"/>
            <a:ext cx="4060440" cy="704520"/>
          </a:xfrm>
          <a:custGeom>
            <a:avLst/>
            <a:gdLst/>
            <a:ahLst/>
            <a:rect l="l" t="t" r="r" b="b"/>
            <a:pathLst>
              <a:path w="4061006" h="704548">
                <a:moveTo>
                  <a:pt x="4061006" y="468777"/>
                </a:moveTo>
                <a:lnTo>
                  <a:pt x="3889182" y="81715"/>
                </a:lnTo>
                <a:lnTo>
                  <a:pt x="3816648" y="67185"/>
                </a:lnTo>
                <a:cubicBezTo>
                  <a:pt x="3757237" y="56688"/>
                  <a:pt x="3698190" y="47651"/>
                  <a:pt x="3639591" y="40041"/>
                </a:cubicBezTo>
                <a:cubicBezTo>
                  <a:pt x="3398021" y="7700"/>
                  <a:pt x="3161832" y="-3239"/>
                  <a:pt x="2933043" y="803"/>
                </a:cubicBezTo>
                <a:cubicBezTo>
                  <a:pt x="2551728" y="7541"/>
                  <a:pt x="2190968" y="55895"/>
                  <a:pt x="1860105" y="116140"/>
                </a:cubicBezTo>
                <a:cubicBezTo>
                  <a:pt x="1809078" y="126287"/>
                  <a:pt x="1758053" y="136433"/>
                  <a:pt x="1700652" y="151652"/>
                </a:cubicBezTo>
                <a:cubicBezTo>
                  <a:pt x="1423205" y="215067"/>
                  <a:pt x="1043708" y="326679"/>
                  <a:pt x="629133" y="457949"/>
                </a:cubicBezTo>
                <a:lnTo>
                  <a:pt x="353750" y="547512"/>
                </a:lnTo>
                <a:lnTo>
                  <a:pt x="0" y="704548"/>
                </a:lnTo>
                <a:lnTo>
                  <a:pt x="131941" y="673879"/>
                </a:lnTo>
                <a:cubicBezTo>
                  <a:pt x="217347" y="655489"/>
                  <a:pt x="302255" y="638683"/>
                  <a:pt x="386765" y="623464"/>
                </a:cubicBezTo>
                <a:cubicBezTo>
                  <a:pt x="724803" y="537219"/>
                  <a:pt x="1088355" y="456047"/>
                  <a:pt x="1426393" y="400241"/>
                </a:cubicBezTo>
                <a:cubicBezTo>
                  <a:pt x="2323312" y="246855"/>
                  <a:pt x="3172932" y="304152"/>
                  <a:pt x="3848879" y="425758"/>
                </a:cubicBezTo>
                <a:lnTo>
                  <a:pt x="4061006" y="468777"/>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文本框 8"/>
          <p:cNvSpPr/>
          <p:nvPr/>
        </p:nvSpPr>
        <p:spPr>
          <a:xfrm>
            <a:off x="2954160" y="5450040"/>
            <a:ext cx="12704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可能遭遇的问题</a:t>
            </a:r>
            <a:endParaRPr b="0" lang="en-US" sz="1400" spc="-1" strike="noStrike">
              <a:solidFill>
                <a:srgbClr val="000000"/>
              </a:solidFill>
              <a:latin typeface="Arial"/>
            </a:endParaRPr>
          </a:p>
        </p:txBody>
      </p:sp>
      <p:sp>
        <p:nvSpPr>
          <p:cNvPr id="616" name="文本框 9"/>
          <p:cNvSpPr/>
          <p:nvPr/>
        </p:nvSpPr>
        <p:spPr>
          <a:xfrm>
            <a:off x="4741920" y="545004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解决方法</a:t>
            </a:r>
            <a:endParaRPr b="0" lang="en-US" sz="1400" spc="-1" strike="noStrike">
              <a:solidFill>
                <a:srgbClr val="000000"/>
              </a:solidFill>
              <a:latin typeface="Arial"/>
            </a:endParaRPr>
          </a:p>
        </p:txBody>
      </p:sp>
      <p:sp>
        <p:nvSpPr>
          <p:cNvPr id="617" name="文本框 10"/>
          <p:cNvSpPr/>
          <p:nvPr/>
        </p:nvSpPr>
        <p:spPr>
          <a:xfrm>
            <a:off x="6100920" y="545004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财务计划</a:t>
            </a:r>
            <a:endParaRPr b="0" lang="en-US" sz="1400" spc="-1" strike="noStrike">
              <a:solidFill>
                <a:srgbClr val="000000"/>
              </a:solidFill>
              <a:latin typeface="Arial"/>
            </a:endParaRPr>
          </a:p>
        </p:txBody>
      </p:sp>
      <p:sp>
        <p:nvSpPr>
          <p:cNvPr id="618" name="文本框 11"/>
          <p:cNvSpPr/>
          <p:nvPr/>
        </p:nvSpPr>
        <p:spPr>
          <a:xfrm>
            <a:off x="7681320" y="5450040"/>
            <a:ext cx="14839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资金使用计划与进度</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任意多边形 277"/>
          <p:cNvSpPr/>
          <p:nvPr/>
        </p:nvSpPr>
        <p:spPr>
          <a:xfrm>
            <a:off x="5318280" y="1536840"/>
            <a:ext cx="2138040" cy="2581200"/>
          </a:xfrm>
          <a:custGeom>
            <a:avLst/>
            <a:gdLst/>
            <a:ahLst/>
            <a:rect l="l" t="t" r="r" b="b"/>
            <a:pathLst>
              <a:path w="2138759" h="2580813">
                <a:moveTo>
                  <a:pt x="953821" y="2473876"/>
                </a:moveTo>
                <a:cubicBezTo>
                  <a:pt x="956908" y="2473876"/>
                  <a:pt x="959830" y="2474569"/>
                  <a:pt x="962555" y="2475945"/>
                </a:cubicBezTo>
                <a:cubicBezTo>
                  <a:pt x="965291" y="2477308"/>
                  <a:pt x="967687" y="2479175"/>
                  <a:pt x="969732" y="2481520"/>
                </a:cubicBezTo>
                <a:cubicBezTo>
                  <a:pt x="971785" y="2483883"/>
                  <a:pt x="973391" y="2486622"/>
                  <a:pt x="974566" y="2489739"/>
                </a:cubicBezTo>
                <a:cubicBezTo>
                  <a:pt x="975730" y="2492855"/>
                  <a:pt x="976325" y="2496200"/>
                  <a:pt x="976325" y="2499733"/>
                </a:cubicBezTo>
                <a:cubicBezTo>
                  <a:pt x="976325" y="2504138"/>
                  <a:pt x="975413" y="2508254"/>
                  <a:pt x="973590" y="2512102"/>
                </a:cubicBezTo>
                <a:cubicBezTo>
                  <a:pt x="971819" y="2515950"/>
                  <a:pt x="969293" y="2519067"/>
                  <a:pt x="966061" y="2521438"/>
                </a:cubicBezTo>
                <a:cubicBezTo>
                  <a:pt x="967019" y="2521613"/>
                  <a:pt x="968358" y="2521806"/>
                  <a:pt x="970117" y="2522056"/>
                </a:cubicBezTo>
                <a:cubicBezTo>
                  <a:pt x="971861" y="2522284"/>
                  <a:pt x="973685" y="2522552"/>
                  <a:pt x="975589" y="2522828"/>
                </a:cubicBezTo>
                <a:cubicBezTo>
                  <a:pt x="977478" y="2523117"/>
                  <a:pt x="979248" y="2523406"/>
                  <a:pt x="980896" y="2523709"/>
                </a:cubicBezTo>
                <a:cubicBezTo>
                  <a:pt x="982533" y="2524015"/>
                  <a:pt x="983728" y="2524292"/>
                  <a:pt x="984464" y="2524520"/>
                </a:cubicBezTo>
                <a:cubicBezTo>
                  <a:pt x="985685" y="2524923"/>
                  <a:pt x="986937" y="2525782"/>
                  <a:pt x="988180" y="2527057"/>
                </a:cubicBezTo>
                <a:cubicBezTo>
                  <a:pt x="989420" y="2528355"/>
                  <a:pt x="990573" y="2529845"/>
                  <a:pt x="991618" y="2531524"/>
                </a:cubicBezTo>
                <a:cubicBezTo>
                  <a:pt x="992671" y="2533216"/>
                  <a:pt x="993518" y="2534956"/>
                  <a:pt x="994156" y="2536784"/>
                </a:cubicBezTo>
                <a:cubicBezTo>
                  <a:pt x="994816" y="2538576"/>
                  <a:pt x="995136" y="2540229"/>
                  <a:pt x="995136" y="2541732"/>
                </a:cubicBezTo>
                <a:lnTo>
                  <a:pt x="995136" y="2565104"/>
                </a:lnTo>
                <a:cubicBezTo>
                  <a:pt x="994781" y="2565283"/>
                  <a:pt x="994400" y="2565546"/>
                  <a:pt x="993957" y="2565950"/>
                </a:cubicBezTo>
                <a:cubicBezTo>
                  <a:pt x="993518" y="2566366"/>
                  <a:pt x="993045" y="2566747"/>
                  <a:pt x="992542" y="2567137"/>
                </a:cubicBezTo>
                <a:cubicBezTo>
                  <a:pt x="992027" y="2567514"/>
                  <a:pt x="991542" y="2567856"/>
                  <a:pt x="991092" y="2568132"/>
                </a:cubicBezTo>
                <a:cubicBezTo>
                  <a:pt x="990630" y="2568426"/>
                  <a:pt x="990245" y="2568553"/>
                  <a:pt x="989936" y="2568553"/>
                </a:cubicBezTo>
                <a:lnTo>
                  <a:pt x="917870" y="2568553"/>
                </a:lnTo>
                <a:cubicBezTo>
                  <a:pt x="916642" y="2568553"/>
                  <a:pt x="915718" y="2568124"/>
                  <a:pt x="915081" y="2567251"/>
                </a:cubicBezTo>
                <a:cubicBezTo>
                  <a:pt x="914444" y="2566392"/>
                  <a:pt x="913662" y="2565673"/>
                  <a:pt x="912719" y="2565104"/>
                </a:cubicBezTo>
                <a:lnTo>
                  <a:pt x="912719" y="2541732"/>
                </a:lnTo>
                <a:cubicBezTo>
                  <a:pt x="912719" y="2540229"/>
                  <a:pt x="913036" y="2538576"/>
                  <a:pt x="913685" y="2536784"/>
                </a:cubicBezTo>
                <a:cubicBezTo>
                  <a:pt x="914345" y="2534956"/>
                  <a:pt x="915180" y="2533238"/>
                  <a:pt x="916211" y="2531585"/>
                </a:cubicBezTo>
                <a:cubicBezTo>
                  <a:pt x="917245" y="2529933"/>
                  <a:pt x="918385" y="2528443"/>
                  <a:pt x="919652" y="2527106"/>
                </a:cubicBezTo>
                <a:cubicBezTo>
                  <a:pt x="920904" y="2525795"/>
                  <a:pt x="922155" y="2524910"/>
                  <a:pt x="923388" y="2524506"/>
                </a:cubicBezTo>
                <a:cubicBezTo>
                  <a:pt x="924013" y="2524278"/>
                  <a:pt x="925166" y="2524002"/>
                  <a:pt x="926848" y="2523700"/>
                </a:cubicBezTo>
                <a:cubicBezTo>
                  <a:pt x="928527" y="2523393"/>
                  <a:pt x="930332" y="2523104"/>
                  <a:pt x="932244" y="2522814"/>
                </a:cubicBezTo>
                <a:cubicBezTo>
                  <a:pt x="934155" y="2522538"/>
                  <a:pt x="935979" y="2522271"/>
                  <a:pt x="937734" y="2522047"/>
                </a:cubicBezTo>
                <a:cubicBezTo>
                  <a:pt x="939482" y="2521793"/>
                  <a:pt x="940833" y="2521605"/>
                  <a:pt x="941779" y="2521425"/>
                </a:cubicBezTo>
                <a:cubicBezTo>
                  <a:pt x="938559" y="2519054"/>
                  <a:pt x="936044" y="2515964"/>
                  <a:pt x="934186" y="2512163"/>
                </a:cubicBezTo>
                <a:cubicBezTo>
                  <a:pt x="932339" y="2508354"/>
                  <a:pt x="931427" y="2504212"/>
                  <a:pt x="931427" y="2499733"/>
                </a:cubicBezTo>
                <a:cubicBezTo>
                  <a:pt x="931427" y="2496200"/>
                  <a:pt x="932022" y="2492855"/>
                  <a:pt x="933209" y="2489739"/>
                </a:cubicBezTo>
                <a:cubicBezTo>
                  <a:pt x="934396" y="2486622"/>
                  <a:pt x="936010" y="2483883"/>
                  <a:pt x="938021" y="2481520"/>
                </a:cubicBezTo>
                <a:cubicBezTo>
                  <a:pt x="940043" y="2479175"/>
                  <a:pt x="942393" y="2477308"/>
                  <a:pt x="945121" y="2475945"/>
                </a:cubicBezTo>
                <a:cubicBezTo>
                  <a:pt x="947834" y="2474569"/>
                  <a:pt x="950734" y="2473876"/>
                  <a:pt x="953821" y="2473876"/>
                </a:cubicBezTo>
                <a:close/>
                <a:moveTo>
                  <a:pt x="737506" y="2432327"/>
                </a:moveTo>
                <a:cubicBezTo>
                  <a:pt x="742149" y="2432327"/>
                  <a:pt x="746545" y="2433323"/>
                  <a:pt x="750643" y="2435304"/>
                </a:cubicBezTo>
                <a:cubicBezTo>
                  <a:pt x="754758" y="2437265"/>
                  <a:pt x="758362" y="2439952"/>
                  <a:pt x="761438" y="2443326"/>
                </a:cubicBezTo>
                <a:cubicBezTo>
                  <a:pt x="764526" y="2446725"/>
                  <a:pt x="766942" y="2450667"/>
                  <a:pt x="768710" y="2455151"/>
                </a:cubicBezTo>
                <a:cubicBezTo>
                  <a:pt x="770460" y="2459635"/>
                  <a:pt x="771356" y="2464447"/>
                  <a:pt x="771356" y="2469531"/>
                </a:cubicBezTo>
                <a:cubicBezTo>
                  <a:pt x="771356" y="2475869"/>
                  <a:pt x="769984" y="2481791"/>
                  <a:pt x="767241" y="2487329"/>
                </a:cubicBezTo>
                <a:cubicBezTo>
                  <a:pt x="764578" y="2492866"/>
                  <a:pt x="760778" y="2497350"/>
                  <a:pt x="755917" y="2500762"/>
                </a:cubicBezTo>
                <a:cubicBezTo>
                  <a:pt x="757358" y="2501015"/>
                  <a:pt x="759372" y="2501292"/>
                  <a:pt x="762018" y="2501652"/>
                </a:cubicBezTo>
                <a:cubicBezTo>
                  <a:pt x="764641" y="2501979"/>
                  <a:pt x="767384" y="2502364"/>
                  <a:pt x="770248" y="2502762"/>
                </a:cubicBezTo>
                <a:cubicBezTo>
                  <a:pt x="773089" y="2503178"/>
                  <a:pt x="775752" y="2503594"/>
                  <a:pt x="778231" y="2504029"/>
                </a:cubicBezTo>
                <a:cubicBezTo>
                  <a:pt x="780693" y="2504471"/>
                  <a:pt x="782490" y="2504868"/>
                  <a:pt x="783597" y="2505196"/>
                </a:cubicBezTo>
                <a:cubicBezTo>
                  <a:pt x="785434" y="2505776"/>
                  <a:pt x="787316" y="2507012"/>
                  <a:pt x="789187" y="2508848"/>
                </a:cubicBezTo>
                <a:cubicBezTo>
                  <a:pt x="791052" y="2510714"/>
                  <a:pt x="792786" y="2512859"/>
                  <a:pt x="794358" y="2515274"/>
                </a:cubicBezTo>
                <a:cubicBezTo>
                  <a:pt x="795942" y="2517709"/>
                  <a:pt x="797216" y="2520212"/>
                  <a:pt x="798175" y="2522842"/>
                </a:cubicBezTo>
                <a:cubicBezTo>
                  <a:pt x="799168" y="2525422"/>
                  <a:pt x="799644" y="2527800"/>
                  <a:pt x="799644" y="2529963"/>
                </a:cubicBezTo>
                <a:lnTo>
                  <a:pt x="799644" y="2563591"/>
                </a:lnTo>
                <a:cubicBezTo>
                  <a:pt x="799116" y="2563849"/>
                  <a:pt x="798542" y="2564228"/>
                  <a:pt x="797876" y="2564808"/>
                </a:cubicBezTo>
                <a:cubicBezTo>
                  <a:pt x="797216" y="2565407"/>
                  <a:pt x="796505" y="2565956"/>
                  <a:pt x="795747" y="2566517"/>
                </a:cubicBezTo>
                <a:cubicBezTo>
                  <a:pt x="794972" y="2567059"/>
                  <a:pt x="794243" y="2567551"/>
                  <a:pt x="793566" y="2567949"/>
                </a:cubicBezTo>
                <a:cubicBezTo>
                  <a:pt x="792872" y="2568371"/>
                  <a:pt x="792292" y="2568554"/>
                  <a:pt x="791827" y="2568554"/>
                </a:cubicBezTo>
                <a:lnTo>
                  <a:pt x="683432" y="2568554"/>
                </a:lnTo>
                <a:cubicBezTo>
                  <a:pt x="681584" y="2568554"/>
                  <a:pt x="680195" y="2567936"/>
                  <a:pt x="679236" y="2566681"/>
                </a:cubicBezTo>
                <a:cubicBezTo>
                  <a:pt x="678278" y="2565445"/>
                  <a:pt x="677101" y="2564411"/>
                  <a:pt x="675684" y="2563591"/>
                </a:cubicBezTo>
                <a:lnTo>
                  <a:pt x="675684" y="2529963"/>
                </a:lnTo>
                <a:cubicBezTo>
                  <a:pt x="675684" y="2527800"/>
                  <a:pt x="676160" y="2525422"/>
                  <a:pt x="677136" y="2522842"/>
                </a:cubicBezTo>
                <a:cubicBezTo>
                  <a:pt x="678129" y="2520212"/>
                  <a:pt x="679386" y="2517740"/>
                  <a:pt x="680935" y="2515363"/>
                </a:cubicBezTo>
                <a:cubicBezTo>
                  <a:pt x="682490" y="2512985"/>
                  <a:pt x="684206" y="2510841"/>
                  <a:pt x="686112" y="2508917"/>
                </a:cubicBezTo>
                <a:cubicBezTo>
                  <a:pt x="687994" y="2507031"/>
                  <a:pt x="689877" y="2505757"/>
                  <a:pt x="691730" y="2505177"/>
                </a:cubicBezTo>
                <a:cubicBezTo>
                  <a:pt x="692672" y="2504849"/>
                  <a:pt x="694405" y="2504452"/>
                  <a:pt x="696936" y="2504017"/>
                </a:cubicBezTo>
                <a:cubicBezTo>
                  <a:pt x="699461" y="2503575"/>
                  <a:pt x="702176" y="2503159"/>
                  <a:pt x="705051" y="2502743"/>
                </a:cubicBezTo>
                <a:cubicBezTo>
                  <a:pt x="707926" y="2502345"/>
                  <a:pt x="710670" y="2501961"/>
                  <a:pt x="713310" y="2501639"/>
                </a:cubicBezTo>
                <a:cubicBezTo>
                  <a:pt x="715938" y="2501273"/>
                  <a:pt x="717970" y="2501002"/>
                  <a:pt x="719393" y="2500743"/>
                </a:cubicBezTo>
                <a:cubicBezTo>
                  <a:pt x="714549" y="2497331"/>
                  <a:pt x="710767" y="2492885"/>
                  <a:pt x="707972" y="2487417"/>
                </a:cubicBezTo>
                <a:cubicBezTo>
                  <a:pt x="705195" y="2481936"/>
                  <a:pt x="703823" y="2475977"/>
                  <a:pt x="703823" y="2469531"/>
                </a:cubicBezTo>
                <a:cubicBezTo>
                  <a:pt x="703823" y="2464447"/>
                  <a:pt x="704718" y="2459635"/>
                  <a:pt x="706503" y="2455151"/>
                </a:cubicBezTo>
                <a:cubicBezTo>
                  <a:pt x="708288" y="2450667"/>
                  <a:pt x="710716" y="2446725"/>
                  <a:pt x="713740" y="2443326"/>
                </a:cubicBezTo>
                <a:cubicBezTo>
                  <a:pt x="716782" y="2439952"/>
                  <a:pt x="720317" y="2437265"/>
                  <a:pt x="724415" y="2435304"/>
                </a:cubicBezTo>
                <a:cubicBezTo>
                  <a:pt x="728501" y="2433323"/>
                  <a:pt x="732863" y="2432327"/>
                  <a:pt x="737506" y="2432327"/>
                </a:cubicBezTo>
                <a:close/>
                <a:moveTo>
                  <a:pt x="1146110" y="2379198"/>
                </a:moveTo>
                <a:cubicBezTo>
                  <a:pt x="1152998" y="2379198"/>
                  <a:pt x="1159520" y="2380673"/>
                  <a:pt x="1165599" y="2383604"/>
                </a:cubicBezTo>
                <a:cubicBezTo>
                  <a:pt x="1171703" y="2386506"/>
                  <a:pt x="1177050" y="2390483"/>
                  <a:pt x="1181614" y="2395476"/>
                </a:cubicBezTo>
                <a:cubicBezTo>
                  <a:pt x="1186195" y="2400507"/>
                  <a:pt x="1189779" y="2406341"/>
                  <a:pt x="1192401" y="2412978"/>
                </a:cubicBezTo>
                <a:cubicBezTo>
                  <a:pt x="1194998" y="2419614"/>
                  <a:pt x="1196326" y="2426736"/>
                  <a:pt x="1196326" y="2434259"/>
                </a:cubicBezTo>
                <a:cubicBezTo>
                  <a:pt x="1196326" y="2443640"/>
                  <a:pt x="1194292" y="2452405"/>
                  <a:pt x="1190222" y="2460600"/>
                </a:cubicBezTo>
                <a:cubicBezTo>
                  <a:pt x="1186271" y="2468795"/>
                  <a:pt x="1180635" y="2475432"/>
                  <a:pt x="1173423" y="2480482"/>
                </a:cubicBezTo>
                <a:cubicBezTo>
                  <a:pt x="1175560" y="2480855"/>
                  <a:pt x="1178549" y="2481266"/>
                  <a:pt x="1182474" y="2481798"/>
                </a:cubicBezTo>
                <a:cubicBezTo>
                  <a:pt x="1186365" y="2482283"/>
                  <a:pt x="1190435" y="2482853"/>
                  <a:pt x="1194683" y="2483441"/>
                </a:cubicBezTo>
                <a:cubicBezTo>
                  <a:pt x="1198898" y="2484057"/>
                  <a:pt x="1202848" y="2484673"/>
                  <a:pt x="1206526" y="2485317"/>
                </a:cubicBezTo>
                <a:cubicBezTo>
                  <a:pt x="1210179" y="2485970"/>
                  <a:pt x="1212844" y="2486558"/>
                  <a:pt x="1214487" y="2487043"/>
                </a:cubicBezTo>
                <a:cubicBezTo>
                  <a:pt x="1217212" y="2487902"/>
                  <a:pt x="1220004" y="2489732"/>
                  <a:pt x="1222780" y="2492448"/>
                </a:cubicBezTo>
                <a:cubicBezTo>
                  <a:pt x="1225547" y="2495211"/>
                  <a:pt x="1228118" y="2498384"/>
                  <a:pt x="1230451" y="2501959"/>
                </a:cubicBezTo>
                <a:cubicBezTo>
                  <a:pt x="1232801" y="2505562"/>
                  <a:pt x="1234691" y="2509268"/>
                  <a:pt x="1236113" y="2513160"/>
                </a:cubicBezTo>
                <a:cubicBezTo>
                  <a:pt x="1237586" y="2516978"/>
                  <a:pt x="1238301" y="2520497"/>
                  <a:pt x="1238301" y="2523698"/>
                </a:cubicBezTo>
                <a:lnTo>
                  <a:pt x="1238301" y="2573467"/>
                </a:lnTo>
                <a:cubicBezTo>
                  <a:pt x="1237509" y="2573850"/>
                  <a:pt x="1236658" y="2574410"/>
                  <a:pt x="1235670" y="2575269"/>
                </a:cubicBezTo>
                <a:cubicBezTo>
                  <a:pt x="1234691" y="2576155"/>
                  <a:pt x="1233635" y="2576968"/>
                  <a:pt x="1232512" y="2577798"/>
                </a:cubicBezTo>
                <a:cubicBezTo>
                  <a:pt x="1231362" y="2578601"/>
                  <a:pt x="1230281" y="2579329"/>
                  <a:pt x="1229276" y="2579917"/>
                </a:cubicBezTo>
                <a:cubicBezTo>
                  <a:pt x="1228246" y="2580542"/>
                  <a:pt x="1227386" y="2580813"/>
                  <a:pt x="1226696" y="2580813"/>
                </a:cubicBezTo>
                <a:lnTo>
                  <a:pt x="1065889" y="2580813"/>
                </a:lnTo>
                <a:cubicBezTo>
                  <a:pt x="1063148" y="2580813"/>
                  <a:pt x="1061087" y="2579898"/>
                  <a:pt x="1059666" y="2578041"/>
                </a:cubicBezTo>
                <a:cubicBezTo>
                  <a:pt x="1058244" y="2576211"/>
                  <a:pt x="1056498" y="2574681"/>
                  <a:pt x="1054395" y="2573467"/>
                </a:cubicBezTo>
                <a:lnTo>
                  <a:pt x="1054395" y="2523698"/>
                </a:lnTo>
                <a:cubicBezTo>
                  <a:pt x="1054395" y="2520497"/>
                  <a:pt x="1055102" y="2516978"/>
                  <a:pt x="1056549" y="2513160"/>
                </a:cubicBezTo>
                <a:cubicBezTo>
                  <a:pt x="1058022" y="2509268"/>
                  <a:pt x="1059887" y="2505609"/>
                  <a:pt x="1062186" y="2502090"/>
                </a:cubicBezTo>
                <a:cubicBezTo>
                  <a:pt x="1064493" y="2498571"/>
                  <a:pt x="1067039" y="2495397"/>
                  <a:pt x="1069865" y="2492551"/>
                </a:cubicBezTo>
                <a:cubicBezTo>
                  <a:pt x="1072658" y="2489760"/>
                  <a:pt x="1075451" y="2487874"/>
                  <a:pt x="1078201" y="2487015"/>
                </a:cubicBezTo>
                <a:cubicBezTo>
                  <a:pt x="1079597" y="2486530"/>
                  <a:pt x="1082168" y="2485942"/>
                  <a:pt x="1085923" y="2485298"/>
                </a:cubicBezTo>
                <a:cubicBezTo>
                  <a:pt x="1089669" y="2484645"/>
                  <a:pt x="1093697" y="2484029"/>
                  <a:pt x="1097962" y="2483413"/>
                </a:cubicBezTo>
                <a:cubicBezTo>
                  <a:pt x="1102228" y="2482825"/>
                  <a:pt x="1106298" y="2482255"/>
                  <a:pt x="1110214" y="2481779"/>
                </a:cubicBezTo>
                <a:cubicBezTo>
                  <a:pt x="1114114" y="2481238"/>
                  <a:pt x="1117128" y="2480836"/>
                  <a:pt x="1119239" y="2480454"/>
                </a:cubicBezTo>
                <a:cubicBezTo>
                  <a:pt x="1112053" y="2475404"/>
                  <a:pt x="1106442" y="2468823"/>
                  <a:pt x="1102296" y="2460731"/>
                </a:cubicBezTo>
                <a:cubicBezTo>
                  <a:pt x="1098175" y="2452619"/>
                  <a:pt x="1096140" y="2443799"/>
                  <a:pt x="1096140" y="2434259"/>
                </a:cubicBezTo>
                <a:cubicBezTo>
                  <a:pt x="1096140" y="2426736"/>
                  <a:pt x="1097468" y="2419614"/>
                  <a:pt x="1100116" y="2412978"/>
                </a:cubicBezTo>
                <a:cubicBezTo>
                  <a:pt x="1102764" y="2406341"/>
                  <a:pt x="1106366" y="2400507"/>
                  <a:pt x="1110853" y="2395476"/>
                </a:cubicBezTo>
                <a:cubicBezTo>
                  <a:pt x="1115365" y="2390483"/>
                  <a:pt x="1120610" y="2386506"/>
                  <a:pt x="1126698" y="2383604"/>
                </a:cubicBezTo>
                <a:cubicBezTo>
                  <a:pt x="1132751" y="2380673"/>
                  <a:pt x="1139222" y="2379198"/>
                  <a:pt x="1146110" y="2379198"/>
                </a:cubicBezTo>
                <a:close/>
                <a:moveTo>
                  <a:pt x="905226" y="2274304"/>
                </a:moveTo>
                <a:lnTo>
                  <a:pt x="997179" y="2366257"/>
                </a:lnTo>
                <a:lnTo>
                  <a:pt x="905226" y="2458210"/>
                </a:lnTo>
                <a:lnTo>
                  <a:pt x="813273" y="2366257"/>
                </a:lnTo>
                <a:lnTo>
                  <a:pt x="905226" y="2274304"/>
                </a:lnTo>
                <a:close/>
                <a:moveTo>
                  <a:pt x="733240" y="2256594"/>
                </a:moveTo>
                <a:lnTo>
                  <a:pt x="789434" y="2312787"/>
                </a:lnTo>
                <a:lnTo>
                  <a:pt x="733240" y="2368976"/>
                </a:lnTo>
                <a:lnTo>
                  <a:pt x="677047" y="2312787"/>
                </a:lnTo>
                <a:lnTo>
                  <a:pt x="733240" y="2256594"/>
                </a:lnTo>
                <a:close/>
                <a:moveTo>
                  <a:pt x="1059504" y="2191887"/>
                </a:moveTo>
                <a:lnTo>
                  <a:pt x="1115697" y="2248080"/>
                </a:lnTo>
                <a:lnTo>
                  <a:pt x="1059504" y="2304269"/>
                </a:lnTo>
                <a:lnTo>
                  <a:pt x="1003310" y="2248080"/>
                </a:lnTo>
                <a:lnTo>
                  <a:pt x="1059504" y="2191887"/>
                </a:lnTo>
                <a:close/>
                <a:moveTo>
                  <a:pt x="1211234" y="2178264"/>
                </a:moveTo>
                <a:cubicBezTo>
                  <a:pt x="1215903" y="2178264"/>
                  <a:pt x="1220323" y="2179260"/>
                  <a:pt x="1224443" y="2181241"/>
                </a:cubicBezTo>
                <a:cubicBezTo>
                  <a:pt x="1228581" y="2183202"/>
                  <a:pt x="1232205" y="2185889"/>
                  <a:pt x="1235298" y="2189263"/>
                </a:cubicBezTo>
                <a:cubicBezTo>
                  <a:pt x="1238403" y="2192662"/>
                  <a:pt x="1240832" y="2196604"/>
                  <a:pt x="1242609" y="2201088"/>
                </a:cubicBezTo>
                <a:cubicBezTo>
                  <a:pt x="1244369" y="2205572"/>
                  <a:pt x="1245270" y="2210384"/>
                  <a:pt x="1245270" y="2215468"/>
                </a:cubicBezTo>
                <a:cubicBezTo>
                  <a:pt x="1245270" y="2221806"/>
                  <a:pt x="1243891" y="2227728"/>
                  <a:pt x="1241132" y="2233266"/>
                </a:cubicBezTo>
                <a:cubicBezTo>
                  <a:pt x="1238455" y="2238803"/>
                  <a:pt x="1234634" y="2243287"/>
                  <a:pt x="1229747" y="2246699"/>
                </a:cubicBezTo>
                <a:cubicBezTo>
                  <a:pt x="1231195" y="2246951"/>
                  <a:pt x="1233221" y="2247229"/>
                  <a:pt x="1235881" y="2247588"/>
                </a:cubicBezTo>
                <a:cubicBezTo>
                  <a:pt x="1238518" y="2247916"/>
                  <a:pt x="1241276" y="2248301"/>
                  <a:pt x="1244156" y="2248698"/>
                </a:cubicBezTo>
                <a:cubicBezTo>
                  <a:pt x="1247012" y="2249115"/>
                  <a:pt x="1249690" y="2249531"/>
                  <a:pt x="1252183" y="2249966"/>
                </a:cubicBezTo>
                <a:cubicBezTo>
                  <a:pt x="1254659" y="2250407"/>
                  <a:pt x="1256465" y="2250805"/>
                  <a:pt x="1257579" y="2251133"/>
                </a:cubicBezTo>
                <a:cubicBezTo>
                  <a:pt x="1259425" y="2251713"/>
                  <a:pt x="1261318" y="2252949"/>
                  <a:pt x="1263199" y="2254784"/>
                </a:cubicBezTo>
                <a:cubicBezTo>
                  <a:pt x="1265075" y="2256651"/>
                  <a:pt x="1266817" y="2258795"/>
                  <a:pt x="1268399" y="2261211"/>
                </a:cubicBezTo>
                <a:cubicBezTo>
                  <a:pt x="1269991" y="2263645"/>
                  <a:pt x="1271272" y="2266149"/>
                  <a:pt x="1272236" y="2268779"/>
                </a:cubicBezTo>
                <a:cubicBezTo>
                  <a:pt x="1273235" y="2271359"/>
                  <a:pt x="1273713" y="2273736"/>
                  <a:pt x="1273713" y="2275900"/>
                </a:cubicBezTo>
                <a:lnTo>
                  <a:pt x="1273713" y="2309527"/>
                </a:lnTo>
                <a:cubicBezTo>
                  <a:pt x="1273183" y="2309786"/>
                  <a:pt x="1272606" y="2310164"/>
                  <a:pt x="1271936" y="2310745"/>
                </a:cubicBezTo>
                <a:cubicBezTo>
                  <a:pt x="1271272" y="2311344"/>
                  <a:pt x="1270557" y="2311892"/>
                  <a:pt x="1269795" y="2312454"/>
                </a:cubicBezTo>
                <a:cubicBezTo>
                  <a:pt x="1269016" y="2312996"/>
                  <a:pt x="1268283" y="2313488"/>
                  <a:pt x="1267602" y="2313885"/>
                </a:cubicBezTo>
                <a:cubicBezTo>
                  <a:pt x="1266904" y="2314308"/>
                  <a:pt x="1266321" y="2314491"/>
                  <a:pt x="1265854" y="2314491"/>
                </a:cubicBezTo>
                <a:lnTo>
                  <a:pt x="1156863" y="2314491"/>
                </a:lnTo>
                <a:cubicBezTo>
                  <a:pt x="1155005" y="2314491"/>
                  <a:pt x="1153608" y="2313873"/>
                  <a:pt x="1152644" y="2312618"/>
                </a:cubicBezTo>
                <a:cubicBezTo>
                  <a:pt x="1151681" y="2311382"/>
                  <a:pt x="1150498" y="2310347"/>
                  <a:pt x="1149072" y="2309527"/>
                </a:cubicBezTo>
                <a:lnTo>
                  <a:pt x="1149072" y="2275900"/>
                </a:lnTo>
                <a:cubicBezTo>
                  <a:pt x="1149072" y="2273736"/>
                  <a:pt x="1149551" y="2271359"/>
                  <a:pt x="1150532" y="2268779"/>
                </a:cubicBezTo>
                <a:cubicBezTo>
                  <a:pt x="1151531" y="2266149"/>
                  <a:pt x="1152794" y="2263677"/>
                  <a:pt x="1154352" y="2261299"/>
                </a:cubicBezTo>
                <a:cubicBezTo>
                  <a:pt x="1155916" y="2258922"/>
                  <a:pt x="1157642" y="2256777"/>
                  <a:pt x="1159558" y="2254854"/>
                </a:cubicBezTo>
                <a:cubicBezTo>
                  <a:pt x="1161450" y="2252968"/>
                  <a:pt x="1163343" y="2251694"/>
                  <a:pt x="1165207" y="2251114"/>
                </a:cubicBezTo>
                <a:cubicBezTo>
                  <a:pt x="1166154" y="2250786"/>
                  <a:pt x="1167896" y="2250388"/>
                  <a:pt x="1170441" y="2249953"/>
                </a:cubicBezTo>
                <a:cubicBezTo>
                  <a:pt x="1172980" y="2249512"/>
                  <a:pt x="1175710" y="2249096"/>
                  <a:pt x="1178601" y="2248679"/>
                </a:cubicBezTo>
                <a:cubicBezTo>
                  <a:pt x="1181492" y="2248282"/>
                  <a:pt x="1184250" y="2247897"/>
                  <a:pt x="1186905" y="2247576"/>
                </a:cubicBezTo>
                <a:cubicBezTo>
                  <a:pt x="1189548" y="2247210"/>
                  <a:pt x="1191591" y="2246939"/>
                  <a:pt x="1193022" y="2246680"/>
                </a:cubicBezTo>
                <a:cubicBezTo>
                  <a:pt x="1188151" y="2243268"/>
                  <a:pt x="1184349" y="2238822"/>
                  <a:pt x="1181538" y="2233354"/>
                </a:cubicBezTo>
                <a:cubicBezTo>
                  <a:pt x="1178745" y="2227873"/>
                  <a:pt x="1177366" y="2221913"/>
                  <a:pt x="1177366" y="2215468"/>
                </a:cubicBezTo>
                <a:cubicBezTo>
                  <a:pt x="1177366" y="2210384"/>
                  <a:pt x="1178266" y="2205572"/>
                  <a:pt x="1180061" y="2201088"/>
                </a:cubicBezTo>
                <a:cubicBezTo>
                  <a:pt x="1181856" y="2196604"/>
                  <a:pt x="1184297" y="2192662"/>
                  <a:pt x="1187338" y="2189263"/>
                </a:cubicBezTo>
                <a:cubicBezTo>
                  <a:pt x="1190396" y="2185889"/>
                  <a:pt x="1193951" y="2183202"/>
                  <a:pt x="1198071" y="2181241"/>
                </a:cubicBezTo>
                <a:cubicBezTo>
                  <a:pt x="1202180" y="2179260"/>
                  <a:pt x="1206566" y="2178264"/>
                  <a:pt x="1211234" y="2178264"/>
                </a:cubicBezTo>
                <a:close/>
                <a:moveTo>
                  <a:pt x="1104577" y="1929650"/>
                </a:moveTo>
                <a:cubicBezTo>
                  <a:pt x="1111006" y="1929650"/>
                  <a:pt x="1117093" y="1931035"/>
                  <a:pt x="1122766" y="1933788"/>
                </a:cubicBezTo>
                <a:cubicBezTo>
                  <a:pt x="1128464" y="1936514"/>
                  <a:pt x="1133455" y="1940248"/>
                  <a:pt x="1137714" y="1944939"/>
                </a:cubicBezTo>
                <a:cubicBezTo>
                  <a:pt x="1141989" y="1949664"/>
                  <a:pt x="1145335" y="1955143"/>
                  <a:pt x="1147782" y="1961376"/>
                </a:cubicBezTo>
                <a:cubicBezTo>
                  <a:pt x="1150206" y="1967609"/>
                  <a:pt x="1151446" y="1974297"/>
                  <a:pt x="1151446" y="1981363"/>
                </a:cubicBezTo>
                <a:cubicBezTo>
                  <a:pt x="1151446" y="1990173"/>
                  <a:pt x="1149546" y="1998405"/>
                  <a:pt x="1145748" y="2006102"/>
                </a:cubicBezTo>
                <a:cubicBezTo>
                  <a:pt x="1142061" y="2013799"/>
                  <a:pt x="1136800" y="2020032"/>
                  <a:pt x="1130069" y="2024774"/>
                </a:cubicBezTo>
                <a:cubicBezTo>
                  <a:pt x="1132064" y="2025125"/>
                  <a:pt x="1134853" y="2025511"/>
                  <a:pt x="1138517" y="2026011"/>
                </a:cubicBezTo>
                <a:cubicBezTo>
                  <a:pt x="1142148" y="2026466"/>
                  <a:pt x="1145947" y="2027001"/>
                  <a:pt x="1149912" y="2027553"/>
                </a:cubicBezTo>
                <a:cubicBezTo>
                  <a:pt x="1153845" y="2028132"/>
                  <a:pt x="1157533" y="2028711"/>
                  <a:pt x="1160966" y="2029315"/>
                </a:cubicBezTo>
                <a:cubicBezTo>
                  <a:pt x="1164375" y="2029929"/>
                  <a:pt x="1166862" y="2030481"/>
                  <a:pt x="1168396" y="2030937"/>
                </a:cubicBezTo>
                <a:cubicBezTo>
                  <a:pt x="1170939" y="2031744"/>
                  <a:pt x="1173545" y="2033462"/>
                  <a:pt x="1176136" y="2036013"/>
                </a:cubicBezTo>
                <a:cubicBezTo>
                  <a:pt x="1178718" y="2038608"/>
                  <a:pt x="1181118" y="2041588"/>
                  <a:pt x="1183296" y="2044946"/>
                </a:cubicBezTo>
                <a:cubicBezTo>
                  <a:pt x="1185489" y="2048330"/>
                  <a:pt x="1187253" y="2051810"/>
                  <a:pt x="1188580" y="2055466"/>
                </a:cubicBezTo>
                <a:cubicBezTo>
                  <a:pt x="1189955" y="2059051"/>
                  <a:pt x="1190622" y="2062356"/>
                  <a:pt x="1190622" y="2065363"/>
                </a:cubicBezTo>
                <a:lnTo>
                  <a:pt x="1190622" y="2112106"/>
                </a:lnTo>
                <a:cubicBezTo>
                  <a:pt x="1189883" y="2112465"/>
                  <a:pt x="1189089" y="2112991"/>
                  <a:pt x="1188167" y="2113798"/>
                </a:cubicBezTo>
                <a:cubicBezTo>
                  <a:pt x="1187253" y="2114630"/>
                  <a:pt x="1186268" y="2115393"/>
                  <a:pt x="1185219" y="2116173"/>
                </a:cubicBezTo>
                <a:cubicBezTo>
                  <a:pt x="1184146" y="2116927"/>
                  <a:pt x="1183137" y="2117611"/>
                  <a:pt x="1182199" y="2118163"/>
                </a:cubicBezTo>
                <a:cubicBezTo>
                  <a:pt x="1181237" y="2118751"/>
                  <a:pt x="1180435" y="2119005"/>
                  <a:pt x="1179791" y="2119005"/>
                </a:cubicBezTo>
                <a:lnTo>
                  <a:pt x="1029704" y="2119005"/>
                </a:lnTo>
                <a:cubicBezTo>
                  <a:pt x="1027145" y="2119005"/>
                  <a:pt x="1025222" y="2118146"/>
                  <a:pt x="1023895" y="2116401"/>
                </a:cubicBezTo>
                <a:cubicBezTo>
                  <a:pt x="1022568" y="2114683"/>
                  <a:pt x="1020939" y="2113245"/>
                  <a:pt x="1018976" y="2112106"/>
                </a:cubicBezTo>
                <a:lnTo>
                  <a:pt x="1018976" y="2065363"/>
                </a:lnTo>
                <a:cubicBezTo>
                  <a:pt x="1018976" y="2062356"/>
                  <a:pt x="1019636" y="2059051"/>
                  <a:pt x="1020987" y="2055466"/>
                </a:cubicBezTo>
                <a:cubicBezTo>
                  <a:pt x="1022361" y="2051810"/>
                  <a:pt x="1024102" y="2048374"/>
                  <a:pt x="1026247" y="2045069"/>
                </a:cubicBezTo>
                <a:cubicBezTo>
                  <a:pt x="1028401" y="2041764"/>
                  <a:pt x="1030777" y="2038783"/>
                  <a:pt x="1033415" y="2036109"/>
                </a:cubicBezTo>
                <a:cubicBezTo>
                  <a:pt x="1036022" y="2033488"/>
                  <a:pt x="1038628" y="2031717"/>
                  <a:pt x="1041195" y="2030911"/>
                </a:cubicBezTo>
                <a:cubicBezTo>
                  <a:pt x="1042498" y="2030455"/>
                  <a:pt x="1044898" y="2029903"/>
                  <a:pt x="1048402" y="2029298"/>
                </a:cubicBezTo>
                <a:cubicBezTo>
                  <a:pt x="1051899" y="2028684"/>
                  <a:pt x="1055658" y="2028106"/>
                  <a:pt x="1059639" y="2027527"/>
                </a:cubicBezTo>
                <a:cubicBezTo>
                  <a:pt x="1063620" y="2026975"/>
                  <a:pt x="1067419" y="2026440"/>
                  <a:pt x="1071074" y="2025993"/>
                </a:cubicBezTo>
                <a:cubicBezTo>
                  <a:pt x="1074714" y="2025485"/>
                  <a:pt x="1077527" y="2025108"/>
                  <a:pt x="1079497" y="2024748"/>
                </a:cubicBezTo>
                <a:cubicBezTo>
                  <a:pt x="1072790" y="2020006"/>
                  <a:pt x="1067554" y="2013825"/>
                  <a:pt x="1063684" y="2006225"/>
                </a:cubicBezTo>
                <a:cubicBezTo>
                  <a:pt x="1059838" y="1998607"/>
                  <a:pt x="1057938" y="1990322"/>
                  <a:pt x="1057938" y="1981363"/>
                </a:cubicBezTo>
                <a:cubicBezTo>
                  <a:pt x="1057938" y="1974297"/>
                  <a:pt x="1059178" y="1967609"/>
                  <a:pt x="1061649" y="1961376"/>
                </a:cubicBezTo>
                <a:cubicBezTo>
                  <a:pt x="1064121" y="1955143"/>
                  <a:pt x="1067482" y="1949664"/>
                  <a:pt x="1071670" y="1944939"/>
                </a:cubicBezTo>
                <a:cubicBezTo>
                  <a:pt x="1075882" y="1940248"/>
                  <a:pt x="1080777" y="1936514"/>
                  <a:pt x="1086451" y="1933788"/>
                </a:cubicBezTo>
                <a:cubicBezTo>
                  <a:pt x="1092109" y="1931035"/>
                  <a:pt x="1098148" y="1929650"/>
                  <a:pt x="1104577" y="1929650"/>
                </a:cubicBezTo>
                <a:close/>
                <a:moveTo>
                  <a:pt x="1320037" y="1872435"/>
                </a:moveTo>
                <a:lnTo>
                  <a:pt x="1411990" y="1964047"/>
                </a:lnTo>
                <a:lnTo>
                  <a:pt x="1320037" y="2055660"/>
                </a:lnTo>
                <a:lnTo>
                  <a:pt x="1228084" y="1964047"/>
                </a:lnTo>
                <a:lnTo>
                  <a:pt x="1320037" y="1872435"/>
                </a:lnTo>
                <a:close/>
                <a:moveTo>
                  <a:pt x="989240" y="1858813"/>
                </a:moveTo>
                <a:cubicBezTo>
                  <a:pt x="992327" y="1858813"/>
                  <a:pt x="995249" y="1859505"/>
                  <a:pt x="997974" y="1860882"/>
                </a:cubicBezTo>
                <a:cubicBezTo>
                  <a:pt x="1000710" y="1862245"/>
                  <a:pt x="1003106" y="1864112"/>
                  <a:pt x="1005151" y="1866457"/>
                </a:cubicBezTo>
                <a:cubicBezTo>
                  <a:pt x="1007204" y="1868820"/>
                  <a:pt x="1008810" y="1871559"/>
                  <a:pt x="1009985" y="1874676"/>
                </a:cubicBezTo>
                <a:cubicBezTo>
                  <a:pt x="1011149" y="1877792"/>
                  <a:pt x="1011744" y="1881137"/>
                  <a:pt x="1011744" y="1884670"/>
                </a:cubicBezTo>
                <a:cubicBezTo>
                  <a:pt x="1011744" y="1889075"/>
                  <a:pt x="1010832" y="1893191"/>
                  <a:pt x="1009009" y="1897039"/>
                </a:cubicBezTo>
                <a:cubicBezTo>
                  <a:pt x="1007238" y="1900888"/>
                  <a:pt x="1004712" y="1904004"/>
                  <a:pt x="1001480" y="1906375"/>
                </a:cubicBezTo>
                <a:cubicBezTo>
                  <a:pt x="1002438" y="1906551"/>
                  <a:pt x="1003777" y="1906744"/>
                  <a:pt x="1005536" y="1906993"/>
                </a:cubicBezTo>
                <a:cubicBezTo>
                  <a:pt x="1007280" y="1907221"/>
                  <a:pt x="1009104" y="1907489"/>
                  <a:pt x="1011008" y="1907765"/>
                </a:cubicBezTo>
                <a:cubicBezTo>
                  <a:pt x="1012897" y="1908054"/>
                  <a:pt x="1014667" y="1908343"/>
                  <a:pt x="1016315" y="1908646"/>
                </a:cubicBezTo>
                <a:cubicBezTo>
                  <a:pt x="1017952" y="1908953"/>
                  <a:pt x="1019147" y="1909229"/>
                  <a:pt x="1019883" y="1909457"/>
                </a:cubicBezTo>
                <a:cubicBezTo>
                  <a:pt x="1021104" y="1909860"/>
                  <a:pt x="1022356" y="1910719"/>
                  <a:pt x="1023599" y="1911995"/>
                </a:cubicBezTo>
                <a:cubicBezTo>
                  <a:pt x="1024839" y="1913292"/>
                  <a:pt x="1025992" y="1914782"/>
                  <a:pt x="1027037" y="1916461"/>
                </a:cubicBezTo>
                <a:cubicBezTo>
                  <a:pt x="1028090" y="1918153"/>
                  <a:pt x="1028937" y="1919893"/>
                  <a:pt x="1029575" y="1921721"/>
                </a:cubicBezTo>
                <a:cubicBezTo>
                  <a:pt x="1030235" y="1923514"/>
                  <a:pt x="1030555" y="1925166"/>
                  <a:pt x="1030555" y="1926670"/>
                </a:cubicBezTo>
                <a:lnTo>
                  <a:pt x="1030555" y="1950041"/>
                </a:lnTo>
                <a:cubicBezTo>
                  <a:pt x="1030200" y="1950221"/>
                  <a:pt x="1029819" y="1950484"/>
                  <a:pt x="1029376" y="1950887"/>
                </a:cubicBezTo>
                <a:cubicBezTo>
                  <a:pt x="1028937" y="1951304"/>
                  <a:pt x="1028464" y="1951685"/>
                  <a:pt x="1027961" y="1952075"/>
                </a:cubicBezTo>
                <a:cubicBezTo>
                  <a:pt x="1027446" y="1952452"/>
                  <a:pt x="1026961" y="1952794"/>
                  <a:pt x="1026511" y="1953070"/>
                </a:cubicBezTo>
                <a:cubicBezTo>
                  <a:pt x="1026049" y="1953364"/>
                  <a:pt x="1025664" y="1953491"/>
                  <a:pt x="1025355" y="1953491"/>
                </a:cubicBezTo>
                <a:lnTo>
                  <a:pt x="953289" y="1953491"/>
                </a:lnTo>
                <a:cubicBezTo>
                  <a:pt x="952061" y="1953491"/>
                  <a:pt x="951137" y="1953061"/>
                  <a:pt x="950500" y="1952189"/>
                </a:cubicBezTo>
                <a:cubicBezTo>
                  <a:pt x="949863" y="1951330"/>
                  <a:pt x="949081" y="1950611"/>
                  <a:pt x="948138" y="1950041"/>
                </a:cubicBezTo>
                <a:lnTo>
                  <a:pt x="948138" y="1926670"/>
                </a:lnTo>
                <a:cubicBezTo>
                  <a:pt x="948138" y="1925166"/>
                  <a:pt x="948455" y="1923514"/>
                  <a:pt x="949104" y="1921721"/>
                </a:cubicBezTo>
                <a:cubicBezTo>
                  <a:pt x="949764" y="1919893"/>
                  <a:pt x="950599" y="1918175"/>
                  <a:pt x="951630" y="1916523"/>
                </a:cubicBezTo>
                <a:cubicBezTo>
                  <a:pt x="952664" y="1914870"/>
                  <a:pt x="953804" y="1913380"/>
                  <a:pt x="955071" y="1912043"/>
                </a:cubicBezTo>
                <a:cubicBezTo>
                  <a:pt x="956323" y="1910732"/>
                  <a:pt x="957574" y="1909847"/>
                  <a:pt x="958807" y="1909444"/>
                </a:cubicBezTo>
                <a:cubicBezTo>
                  <a:pt x="959432" y="1909216"/>
                  <a:pt x="960585" y="1908940"/>
                  <a:pt x="962267" y="1908637"/>
                </a:cubicBezTo>
                <a:cubicBezTo>
                  <a:pt x="963946" y="1908330"/>
                  <a:pt x="965751" y="1908041"/>
                  <a:pt x="967663" y="1907752"/>
                </a:cubicBezTo>
                <a:cubicBezTo>
                  <a:pt x="969574" y="1907476"/>
                  <a:pt x="971398" y="1907208"/>
                  <a:pt x="973153" y="1906985"/>
                </a:cubicBezTo>
                <a:cubicBezTo>
                  <a:pt x="974901" y="1906730"/>
                  <a:pt x="976252" y="1906542"/>
                  <a:pt x="977198" y="1906362"/>
                </a:cubicBezTo>
                <a:cubicBezTo>
                  <a:pt x="973978" y="1903991"/>
                  <a:pt x="971463" y="1900901"/>
                  <a:pt x="969605" y="1897100"/>
                </a:cubicBezTo>
                <a:cubicBezTo>
                  <a:pt x="967758" y="1893291"/>
                  <a:pt x="966846" y="1889149"/>
                  <a:pt x="966846" y="1884670"/>
                </a:cubicBezTo>
                <a:cubicBezTo>
                  <a:pt x="966846" y="1881137"/>
                  <a:pt x="967441" y="1877792"/>
                  <a:pt x="968628" y="1874676"/>
                </a:cubicBezTo>
                <a:cubicBezTo>
                  <a:pt x="969815" y="1871559"/>
                  <a:pt x="971429" y="1868820"/>
                  <a:pt x="973440" y="1866457"/>
                </a:cubicBezTo>
                <a:cubicBezTo>
                  <a:pt x="975462" y="1864112"/>
                  <a:pt x="977812" y="1862245"/>
                  <a:pt x="980540" y="1860882"/>
                </a:cubicBezTo>
                <a:cubicBezTo>
                  <a:pt x="983253" y="1859505"/>
                  <a:pt x="986153" y="1858813"/>
                  <a:pt x="989240" y="1858813"/>
                </a:cubicBezTo>
                <a:close/>
                <a:moveTo>
                  <a:pt x="793431" y="1834973"/>
                </a:moveTo>
                <a:cubicBezTo>
                  <a:pt x="805855" y="1834973"/>
                  <a:pt x="817618" y="1837658"/>
                  <a:pt x="828583" y="1842995"/>
                </a:cubicBezTo>
                <a:cubicBezTo>
                  <a:pt x="839594" y="1848281"/>
                  <a:pt x="849238" y="1855522"/>
                  <a:pt x="857470" y="1864615"/>
                </a:cubicBezTo>
                <a:cubicBezTo>
                  <a:pt x="865732" y="1873777"/>
                  <a:pt x="872197" y="1884400"/>
                  <a:pt x="876927" y="1896484"/>
                </a:cubicBezTo>
                <a:cubicBezTo>
                  <a:pt x="881611" y="1908569"/>
                  <a:pt x="884007" y="1921538"/>
                  <a:pt x="884007" y="1935237"/>
                </a:cubicBezTo>
                <a:cubicBezTo>
                  <a:pt x="884007" y="1952319"/>
                  <a:pt x="880336" y="1968279"/>
                  <a:pt x="872996" y="1983202"/>
                </a:cubicBezTo>
                <a:cubicBezTo>
                  <a:pt x="865870" y="1998125"/>
                  <a:pt x="855704" y="2010210"/>
                  <a:pt x="842696" y="2019405"/>
                </a:cubicBezTo>
                <a:cubicBezTo>
                  <a:pt x="846551" y="2020085"/>
                  <a:pt x="851941" y="2020833"/>
                  <a:pt x="859021" y="2021802"/>
                </a:cubicBezTo>
                <a:cubicBezTo>
                  <a:pt x="866039" y="2022686"/>
                  <a:pt x="873379" y="2023722"/>
                  <a:pt x="881043" y="2024793"/>
                </a:cubicBezTo>
                <a:cubicBezTo>
                  <a:pt x="888644" y="2025915"/>
                  <a:pt x="895770" y="2027037"/>
                  <a:pt x="902404" y="2028210"/>
                </a:cubicBezTo>
                <a:cubicBezTo>
                  <a:pt x="908992" y="2029399"/>
                  <a:pt x="913800" y="2030470"/>
                  <a:pt x="916764" y="2031354"/>
                </a:cubicBezTo>
                <a:cubicBezTo>
                  <a:pt x="921678" y="2032918"/>
                  <a:pt x="926715" y="2036249"/>
                  <a:pt x="931721" y="2041195"/>
                </a:cubicBezTo>
                <a:cubicBezTo>
                  <a:pt x="936712" y="2046226"/>
                  <a:pt x="941350" y="2052005"/>
                  <a:pt x="945558" y="2058515"/>
                </a:cubicBezTo>
                <a:cubicBezTo>
                  <a:pt x="949797" y="2065076"/>
                  <a:pt x="953206" y="2071823"/>
                  <a:pt x="955770" y="2078911"/>
                </a:cubicBezTo>
                <a:cubicBezTo>
                  <a:pt x="958427" y="2085863"/>
                  <a:pt x="959717" y="2092271"/>
                  <a:pt x="959717" y="2098100"/>
                </a:cubicBezTo>
                <a:lnTo>
                  <a:pt x="959717" y="2188727"/>
                </a:lnTo>
                <a:cubicBezTo>
                  <a:pt x="958289" y="2189424"/>
                  <a:pt x="956753" y="2190444"/>
                  <a:pt x="954972" y="2192008"/>
                </a:cubicBezTo>
                <a:cubicBezTo>
                  <a:pt x="953206" y="2193622"/>
                  <a:pt x="951302" y="2195101"/>
                  <a:pt x="949274" y="2196614"/>
                </a:cubicBezTo>
                <a:cubicBezTo>
                  <a:pt x="947201" y="2198076"/>
                  <a:pt x="945251" y="2199401"/>
                  <a:pt x="943439" y="2200472"/>
                </a:cubicBezTo>
                <a:cubicBezTo>
                  <a:pt x="941581" y="2201611"/>
                  <a:pt x="940030" y="2202104"/>
                  <a:pt x="938786" y="2202104"/>
                </a:cubicBezTo>
                <a:lnTo>
                  <a:pt x="648737" y="2202104"/>
                </a:lnTo>
                <a:cubicBezTo>
                  <a:pt x="643792" y="2202104"/>
                  <a:pt x="640075" y="2200438"/>
                  <a:pt x="637511" y="2197056"/>
                </a:cubicBezTo>
                <a:cubicBezTo>
                  <a:pt x="634946" y="2193724"/>
                  <a:pt x="631798" y="2190937"/>
                  <a:pt x="628005" y="2188727"/>
                </a:cubicBezTo>
                <a:lnTo>
                  <a:pt x="628005" y="2098100"/>
                </a:lnTo>
                <a:cubicBezTo>
                  <a:pt x="628005" y="2092271"/>
                  <a:pt x="629279" y="2085863"/>
                  <a:pt x="631890" y="2078911"/>
                </a:cubicBezTo>
                <a:cubicBezTo>
                  <a:pt x="634547" y="2071823"/>
                  <a:pt x="637910" y="2065161"/>
                  <a:pt x="642056" y="2058753"/>
                </a:cubicBezTo>
                <a:cubicBezTo>
                  <a:pt x="646218" y="2052345"/>
                  <a:pt x="650810" y="2046566"/>
                  <a:pt x="655908" y="2041382"/>
                </a:cubicBezTo>
                <a:cubicBezTo>
                  <a:pt x="660946" y="2036300"/>
                  <a:pt x="665983" y="2032867"/>
                  <a:pt x="670943" y="2031303"/>
                </a:cubicBezTo>
                <a:cubicBezTo>
                  <a:pt x="673462" y="2030419"/>
                  <a:pt x="678099" y="2029348"/>
                  <a:pt x="684872" y="2028176"/>
                </a:cubicBezTo>
                <a:cubicBezTo>
                  <a:pt x="691629" y="2026986"/>
                  <a:pt x="698893" y="2025864"/>
                  <a:pt x="706587" y="2024742"/>
                </a:cubicBezTo>
                <a:cubicBezTo>
                  <a:pt x="714281" y="2023671"/>
                  <a:pt x="721621" y="2022635"/>
                  <a:pt x="728685" y="2021768"/>
                </a:cubicBezTo>
                <a:cubicBezTo>
                  <a:pt x="735719" y="2020782"/>
                  <a:pt x="741155" y="2020051"/>
                  <a:pt x="744964" y="2019354"/>
                </a:cubicBezTo>
                <a:cubicBezTo>
                  <a:pt x="732003" y="2010159"/>
                  <a:pt x="721882" y="1998176"/>
                  <a:pt x="714403" y="1983440"/>
                </a:cubicBezTo>
                <a:cubicBezTo>
                  <a:pt x="706971" y="1968670"/>
                  <a:pt x="703300" y="1952608"/>
                  <a:pt x="703300" y="1935237"/>
                </a:cubicBezTo>
                <a:cubicBezTo>
                  <a:pt x="703300" y="1921538"/>
                  <a:pt x="705696" y="1908569"/>
                  <a:pt x="710472" y="1896484"/>
                </a:cubicBezTo>
                <a:cubicBezTo>
                  <a:pt x="715248" y="1884400"/>
                  <a:pt x="721744" y="1873777"/>
                  <a:pt x="729837" y="1864615"/>
                </a:cubicBezTo>
                <a:cubicBezTo>
                  <a:pt x="737976" y="1855522"/>
                  <a:pt x="747436" y="1848281"/>
                  <a:pt x="758417" y="1842995"/>
                </a:cubicBezTo>
                <a:cubicBezTo>
                  <a:pt x="769336" y="1837658"/>
                  <a:pt x="781007" y="1834973"/>
                  <a:pt x="793431" y="1834973"/>
                </a:cubicBezTo>
                <a:close/>
                <a:moveTo>
                  <a:pt x="1136472" y="1795467"/>
                </a:moveTo>
                <a:lnTo>
                  <a:pt x="1192665" y="1851660"/>
                </a:lnTo>
                <a:lnTo>
                  <a:pt x="1136472" y="1907849"/>
                </a:lnTo>
                <a:lnTo>
                  <a:pt x="1080278" y="1851660"/>
                </a:lnTo>
                <a:lnTo>
                  <a:pt x="1136472" y="1795467"/>
                </a:lnTo>
                <a:close/>
                <a:moveTo>
                  <a:pt x="950624" y="1615648"/>
                </a:moveTo>
                <a:cubicBezTo>
                  <a:pt x="957512" y="1615648"/>
                  <a:pt x="964034" y="1617123"/>
                  <a:pt x="970113" y="1620054"/>
                </a:cubicBezTo>
                <a:cubicBezTo>
                  <a:pt x="976217" y="1622956"/>
                  <a:pt x="981564" y="1626933"/>
                  <a:pt x="986128" y="1631926"/>
                </a:cubicBezTo>
                <a:cubicBezTo>
                  <a:pt x="990709" y="1636957"/>
                  <a:pt x="994293" y="1642791"/>
                  <a:pt x="996915" y="1649428"/>
                </a:cubicBezTo>
                <a:cubicBezTo>
                  <a:pt x="999512" y="1656064"/>
                  <a:pt x="1000840" y="1663186"/>
                  <a:pt x="1000840" y="1670709"/>
                </a:cubicBezTo>
                <a:cubicBezTo>
                  <a:pt x="1000840" y="1680090"/>
                  <a:pt x="998806" y="1688855"/>
                  <a:pt x="994736" y="1697050"/>
                </a:cubicBezTo>
                <a:cubicBezTo>
                  <a:pt x="990785" y="1705245"/>
                  <a:pt x="985149" y="1711882"/>
                  <a:pt x="977937" y="1716931"/>
                </a:cubicBezTo>
                <a:cubicBezTo>
                  <a:pt x="980074" y="1717305"/>
                  <a:pt x="983063" y="1717715"/>
                  <a:pt x="986988" y="1718248"/>
                </a:cubicBezTo>
                <a:cubicBezTo>
                  <a:pt x="990879" y="1718733"/>
                  <a:pt x="994949" y="1719302"/>
                  <a:pt x="999197" y="1719890"/>
                </a:cubicBezTo>
                <a:cubicBezTo>
                  <a:pt x="1003412" y="1720506"/>
                  <a:pt x="1007362" y="1721122"/>
                  <a:pt x="1011040" y="1721766"/>
                </a:cubicBezTo>
                <a:cubicBezTo>
                  <a:pt x="1014693" y="1722420"/>
                  <a:pt x="1017358" y="1723008"/>
                  <a:pt x="1019001" y="1723493"/>
                </a:cubicBezTo>
                <a:cubicBezTo>
                  <a:pt x="1021726" y="1724352"/>
                  <a:pt x="1024518" y="1726181"/>
                  <a:pt x="1027294" y="1728898"/>
                </a:cubicBezTo>
                <a:cubicBezTo>
                  <a:pt x="1030061" y="1731661"/>
                  <a:pt x="1032632" y="1734834"/>
                  <a:pt x="1034965" y="1738409"/>
                </a:cubicBezTo>
                <a:cubicBezTo>
                  <a:pt x="1037315" y="1742012"/>
                  <a:pt x="1039205" y="1745718"/>
                  <a:pt x="1040627" y="1749610"/>
                </a:cubicBezTo>
                <a:cubicBezTo>
                  <a:pt x="1042100" y="1753427"/>
                  <a:pt x="1042815" y="1756946"/>
                  <a:pt x="1042815" y="1760148"/>
                </a:cubicBezTo>
                <a:lnTo>
                  <a:pt x="1042815" y="1809917"/>
                </a:lnTo>
                <a:cubicBezTo>
                  <a:pt x="1042023" y="1810300"/>
                  <a:pt x="1041172" y="1810860"/>
                  <a:pt x="1040184" y="1811718"/>
                </a:cubicBezTo>
                <a:cubicBezTo>
                  <a:pt x="1039205" y="1812605"/>
                  <a:pt x="1038149" y="1813417"/>
                  <a:pt x="1037026" y="1814248"/>
                </a:cubicBezTo>
                <a:cubicBezTo>
                  <a:pt x="1035876" y="1815051"/>
                  <a:pt x="1034795" y="1815779"/>
                  <a:pt x="1033790" y="1816367"/>
                </a:cubicBezTo>
                <a:cubicBezTo>
                  <a:pt x="1032760" y="1816992"/>
                  <a:pt x="1031900" y="1817263"/>
                  <a:pt x="1031210" y="1817263"/>
                </a:cubicBezTo>
                <a:lnTo>
                  <a:pt x="870403" y="1817263"/>
                </a:lnTo>
                <a:cubicBezTo>
                  <a:pt x="867661" y="1817263"/>
                  <a:pt x="865601" y="1816348"/>
                  <a:pt x="864179" y="1814491"/>
                </a:cubicBezTo>
                <a:cubicBezTo>
                  <a:pt x="862757" y="1812661"/>
                  <a:pt x="861012" y="1811130"/>
                  <a:pt x="858909" y="1809917"/>
                </a:cubicBezTo>
                <a:lnTo>
                  <a:pt x="858909" y="1760148"/>
                </a:lnTo>
                <a:cubicBezTo>
                  <a:pt x="858909" y="1756946"/>
                  <a:pt x="859615" y="1753427"/>
                  <a:pt x="861063" y="1749610"/>
                </a:cubicBezTo>
                <a:cubicBezTo>
                  <a:pt x="862536" y="1745718"/>
                  <a:pt x="864400" y="1742059"/>
                  <a:pt x="866699" y="1738540"/>
                </a:cubicBezTo>
                <a:cubicBezTo>
                  <a:pt x="869007" y="1735021"/>
                  <a:pt x="871552" y="1731847"/>
                  <a:pt x="874379" y="1729000"/>
                </a:cubicBezTo>
                <a:cubicBezTo>
                  <a:pt x="877172" y="1726209"/>
                  <a:pt x="879964" y="1724324"/>
                  <a:pt x="882714" y="1723465"/>
                </a:cubicBezTo>
                <a:cubicBezTo>
                  <a:pt x="884111" y="1722980"/>
                  <a:pt x="886682" y="1722392"/>
                  <a:pt x="890437" y="1721748"/>
                </a:cubicBezTo>
                <a:cubicBezTo>
                  <a:pt x="894183" y="1721094"/>
                  <a:pt x="898210" y="1720478"/>
                  <a:pt x="902476" y="1719862"/>
                </a:cubicBezTo>
                <a:cubicBezTo>
                  <a:pt x="906741" y="1719274"/>
                  <a:pt x="910811" y="1718705"/>
                  <a:pt x="914728" y="1718229"/>
                </a:cubicBezTo>
                <a:cubicBezTo>
                  <a:pt x="918628" y="1717687"/>
                  <a:pt x="921642" y="1717286"/>
                  <a:pt x="923753" y="1716903"/>
                </a:cubicBezTo>
                <a:cubicBezTo>
                  <a:pt x="916567" y="1711854"/>
                  <a:pt x="910956" y="1705273"/>
                  <a:pt x="906809" y="1697181"/>
                </a:cubicBezTo>
                <a:cubicBezTo>
                  <a:pt x="902689" y="1689069"/>
                  <a:pt x="900654" y="1680249"/>
                  <a:pt x="900654" y="1670709"/>
                </a:cubicBezTo>
                <a:cubicBezTo>
                  <a:pt x="900654" y="1663186"/>
                  <a:pt x="901982" y="1656064"/>
                  <a:pt x="904630" y="1649428"/>
                </a:cubicBezTo>
                <a:cubicBezTo>
                  <a:pt x="907278" y="1642791"/>
                  <a:pt x="910879" y="1636957"/>
                  <a:pt x="915367" y="1631926"/>
                </a:cubicBezTo>
                <a:cubicBezTo>
                  <a:pt x="919879" y="1626933"/>
                  <a:pt x="925124" y="1622956"/>
                  <a:pt x="931212" y="1620054"/>
                </a:cubicBezTo>
                <a:cubicBezTo>
                  <a:pt x="937265" y="1617123"/>
                  <a:pt x="943736" y="1615648"/>
                  <a:pt x="950624" y="1615648"/>
                </a:cubicBezTo>
                <a:close/>
                <a:moveTo>
                  <a:pt x="1253064" y="1592490"/>
                </a:moveTo>
                <a:cubicBezTo>
                  <a:pt x="1259493" y="1592490"/>
                  <a:pt x="1265580" y="1593875"/>
                  <a:pt x="1271253" y="1596628"/>
                </a:cubicBezTo>
                <a:cubicBezTo>
                  <a:pt x="1276951" y="1599354"/>
                  <a:pt x="1281942" y="1603088"/>
                  <a:pt x="1286201" y="1607779"/>
                </a:cubicBezTo>
                <a:cubicBezTo>
                  <a:pt x="1290476" y="1612504"/>
                  <a:pt x="1293822" y="1617983"/>
                  <a:pt x="1296269" y="1624216"/>
                </a:cubicBezTo>
                <a:cubicBezTo>
                  <a:pt x="1298693" y="1630449"/>
                  <a:pt x="1299933" y="1637137"/>
                  <a:pt x="1299933" y="1644203"/>
                </a:cubicBezTo>
                <a:cubicBezTo>
                  <a:pt x="1299933" y="1653013"/>
                  <a:pt x="1298033" y="1661245"/>
                  <a:pt x="1294235" y="1668942"/>
                </a:cubicBezTo>
                <a:cubicBezTo>
                  <a:pt x="1290548" y="1676639"/>
                  <a:pt x="1285287" y="1682872"/>
                  <a:pt x="1278556" y="1687614"/>
                </a:cubicBezTo>
                <a:cubicBezTo>
                  <a:pt x="1280551" y="1687965"/>
                  <a:pt x="1283340" y="1688351"/>
                  <a:pt x="1287004" y="1688851"/>
                </a:cubicBezTo>
                <a:cubicBezTo>
                  <a:pt x="1290635" y="1689306"/>
                  <a:pt x="1294434" y="1689841"/>
                  <a:pt x="1298399" y="1690393"/>
                </a:cubicBezTo>
                <a:cubicBezTo>
                  <a:pt x="1302332" y="1690972"/>
                  <a:pt x="1306020" y="1691551"/>
                  <a:pt x="1309453" y="1692155"/>
                </a:cubicBezTo>
                <a:cubicBezTo>
                  <a:pt x="1312862" y="1692769"/>
                  <a:pt x="1315349" y="1693321"/>
                  <a:pt x="1316883" y="1693777"/>
                </a:cubicBezTo>
                <a:cubicBezTo>
                  <a:pt x="1319426" y="1694584"/>
                  <a:pt x="1322032" y="1696302"/>
                  <a:pt x="1324623" y="1698853"/>
                </a:cubicBezTo>
                <a:cubicBezTo>
                  <a:pt x="1327205" y="1701448"/>
                  <a:pt x="1329605" y="1704428"/>
                  <a:pt x="1331783" y="1707786"/>
                </a:cubicBezTo>
                <a:cubicBezTo>
                  <a:pt x="1333976" y="1711170"/>
                  <a:pt x="1335740" y="1714650"/>
                  <a:pt x="1337067" y="1718306"/>
                </a:cubicBezTo>
                <a:cubicBezTo>
                  <a:pt x="1338442" y="1721891"/>
                  <a:pt x="1339109" y="1725196"/>
                  <a:pt x="1339109" y="1728203"/>
                </a:cubicBezTo>
                <a:lnTo>
                  <a:pt x="1339109" y="1774946"/>
                </a:lnTo>
                <a:cubicBezTo>
                  <a:pt x="1338370" y="1775305"/>
                  <a:pt x="1337576" y="1775831"/>
                  <a:pt x="1336654" y="1776638"/>
                </a:cubicBezTo>
                <a:cubicBezTo>
                  <a:pt x="1335740" y="1777470"/>
                  <a:pt x="1334755" y="1778233"/>
                  <a:pt x="1333706" y="1779013"/>
                </a:cubicBezTo>
                <a:cubicBezTo>
                  <a:pt x="1332633" y="1779767"/>
                  <a:pt x="1331624" y="1780451"/>
                  <a:pt x="1330686" y="1781003"/>
                </a:cubicBezTo>
                <a:cubicBezTo>
                  <a:pt x="1329724" y="1781591"/>
                  <a:pt x="1328922" y="1781845"/>
                  <a:pt x="1328278" y="1781845"/>
                </a:cubicBezTo>
                <a:lnTo>
                  <a:pt x="1178191" y="1781845"/>
                </a:lnTo>
                <a:cubicBezTo>
                  <a:pt x="1175632" y="1781845"/>
                  <a:pt x="1173709" y="1780986"/>
                  <a:pt x="1172382" y="1779241"/>
                </a:cubicBezTo>
                <a:cubicBezTo>
                  <a:pt x="1171055" y="1777523"/>
                  <a:pt x="1169426" y="1776085"/>
                  <a:pt x="1167463" y="1774946"/>
                </a:cubicBezTo>
                <a:lnTo>
                  <a:pt x="1167463" y="1728203"/>
                </a:lnTo>
                <a:cubicBezTo>
                  <a:pt x="1167463" y="1725196"/>
                  <a:pt x="1168123" y="1721891"/>
                  <a:pt x="1169474" y="1718306"/>
                </a:cubicBezTo>
                <a:cubicBezTo>
                  <a:pt x="1170848" y="1714650"/>
                  <a:pt x="1172589" y="1711214"/>
                  <a:pt x="1174734" y="1707909"/>
                </a:cubicBezTo>
                <a:cubicBezTo>
                  <a:pt x="1176888" y="1704604"/>
                  <a:pt x="1179264" y="1701623"/>
                  <a:pt x="1181902" y="1698949"/>
                </a:cubicBezTo>
                <a:cubicBezTo>
                  <a:pt x="1184509" y="1696328"/>
                  <a:pt x="1187115" y="1694557"/>
                  <a:pt x="1189682" y="1693751"/>
                </a:cubicBezTo>
                <a:cubicBezTo>
                  <a:pt x="1190985" y="1693295"/>
                  <a:pt x="1193385" y="1692743"/>
                  <a:pt x="1196889" y="1692138"/>
                </a:cubicBezTo>
                <a:cubicBezTo>
                  <a:pt x="1200386" y="1691524"/>
                  <a:pt x="1204145" y="1690946"/>
                  <a:pt x="1208126" y="1690367"/>
                </a:cubicBezTo>
                <a:cubicBezTo>
                  <a:pt x="1212107" y="1689815"/>
                  <a:pt x="1215906" y="1689280"/>
                  <a:pt x="1219561" y="1688833"/>
                </a:cubicBezTo>
                <a:cubicBezTo>
                  <a:pt x="1223201" y="1688325"/>
                  <a:pt x="1226014" y="1687948"/>
                  <a:pt x="1227984" y="1687588"/>
                </a:cubicBezTo>
                <a:cubicBezTo>
                  <a:pt x="1221277" y="1682846"/>
                  <a:pt x="1216041" y="1676665"/>
                  <a:pt x="1212171" y="1669065"/>
                </a:cubicBezTo>
                <a:cubicBezTo>
                  <a:pt x="1208325" y="1661447"/>
                  <a:pt x="1206425" y="1653162"/>
                  <a:pt x="1206425" y="1644203"/>
                </a:cubicBezTo>
                <a:cubicBezTo>
                  <a:pt x="1206425" y="1637137"/>
                  <a:pt x="1207665" y="1630449"/>
                  <a:pt x="1210136" y="1624216"/>
                </a:cubicBezTo>
                <a:cubicBezTo>
                  <a:pt x="1212608" y="1617983"/>
                  <a:pt x="1215969" y="1612504"/>
                  <a:pt x="1220157" y="1607779"/>
                </a:cubicBezTo>
                <a:cubicBezTo>
                  <a:pt x="1224369" y="1603088"/>
                  <a:pt x="1229264" y="1599354"/>
                  <a:pt x="1234938" y="1596628"/>
                </a:cubicBezTo>
                <a:cubicBezTo>
                  <a:pt x="1240596" y="1593875"/>
                  <a:pt x="1246635" y="1592490"/>
                  <a:pt x="1253064" y="1592490"/>
                </a:cubicBezTo>
                <a:close/>
                <a:moveTo>
                  <a:pt x="1071997" y="1556389"/>
                </a:moveTo>
                <a:cubicBezTo>
                  <a:pt x="1075109" y="1556389"/>
                  <a:pt x="1078056" y="1557081"/>
                  <a:pt x="1080803" y="1558458"/>
                </a:cubicBezTo>
                <a:cubicBezTo>
                  <a:pt x="1083561" y="1559821"/>
                  <a:pt x="1085977" y="1561688"/>
                  <a:pt x="1088039" y="1564033"/>
                </a:cubicBezTo>
                <a:cubicBezTo>
                  <a:pt x="1090109" y="1566396"/>
                  <a:pt x="1091728" y="1569135"/>
                  <a:pt x="1092913" y="1572252"/>
                </a:cubicBezTo>
                <a:cubicBezTo>
                  <a:pt x="1094087" y="1575368"/>
                  <a:pt x="1094687" y="1578713"/>
                  <a:pt x="1094687" y="1582246"/>
                </a:cubicBezTo>
                <a:cubicBezTo>
                  <a:pt x="1094687" y="1586651"/>
                  <a:pt x="1093767" y="1590767"/>
                  <a:pt x="1091929" y="1594615"/>
                </a:cubicBezTo>
                <a:cubicBezTo>
                  <a:pt x="1090143" y="1598464"/>
                  <a:pt x="1087597" y="1601580"/>
                  <a:pt x="1084338" y="1603951"/>
                </a:cubicBezTo>
                <a:cubicBezTo>
                  <a:pt x="1085304" y="1604127"/>
                  <a:pt x="1086654" y="1604320"/>
                  <a:pt x="1088428" y="1604569"/>
                </a:cubicBezTo>
                <a:cubicBezTo>
                  <a:pt x="1090186" y="1604797"/>
                  <a:pt x="1092025" y="1605065"/>
                  <a:pt x="1093944" y="1605341"/>
                </a:cubicBezTo>
                <a:cubicBezTo>
                  <a:pt x="1095849" y="1605630"/>
                  <a:pt x="1097634" y="1605919"/>
                  <a:pt x="1099296" y="1606222"/>
                </a:cubicBezTo>
                <a:cubicBezTo>
                  <a:pt x="1100946" y="1606529"/>
                  <a:pt x="1102150" y="1606805"/>
                  <a:pt x="1102893" y="1607033"/>
                </a:cubicBezTo>
                <a:cubicBezTo>
                  <a:pt x="1104124" y="1607436"/>
                  <a:pt x="1105386" y="1608295"/>
                  <a:pt x="1106640" y="1609571"/>
                </a:cubicBezTo>
                <a:cubicBezTo>
                  <a:pt x="1107890" y="1610868"/>
                  <a:pt x="1109052" y="1612358"/>
                  <a:pt x="1110106" y="1614037"/>
                </a:cubicBezTo>
                <a:cubicBezTo>
                  <a:pt x="1111168" y="1615729"/>
                  <a:pt x="1112022" y="1617469"/>
                  <a:pt x="1112665" y="1619297"/>
                </a:cubicBezTo>
                <a:cubicBezTo>
                  <a:pt x="1113330" y="1621090"/>
                  <a:pt x="1113653" y="1622742"/>
                  <a:pt x="1113653" y="1624246"/>
                </a:cubicBezTo>
                <a:lnTo>
                  <a:pt x="1113653" y="1647617"/>
                </a:lnTo>
                <a:cubicBezTo>
                  <a:pt x="1113295" y="1647797"/>
                  <a:pt x="1112911" y="1648060"/>
                  <a:pt x="1112464" y="1648463"/>
                </a:cubicBezTo>
                <a:cubicBezTo>
                  <a:pt x="1112022" y="1648880"/>
                  <a:pt x="1111545" y="1649261"/>
                  <a:pt x="1111037" y="1649651"/>
                </a:cubicBezTo>
                <a:cubicBezTo>
                  <a:pt x="1110518" y="1650028"/>
                  <a:pt x="1110029" y="1650370"/>
                  <a:pt x="1109575" y="1650646"/>
                </a:cubicBezTo>
                <a:cubicBezTo>
                  <a:pt x="1109110" y="1650940"/>
                  <a:pt x="1108721" y="1651067"/>
                  <a:pt x="1108410" y="1651067"/>
                </a:cubicBezTo>
                <a:lnTo>
                  <a:pt x="1035749" y="1651067"/>
                </a:lnTo>
                <a:cubicBezTo>
                  <a:pt x="1034510" y="1651067"/>
                  <a:pt x="1033579" y="1650637"/>
                  <a:pt x="1032937" y="1649765"/>
                </a:cubicBezTo>
                <a:cubicBezTo>
                  <a:pt x="1032294" y="1648906"/>
                  <a:pt x="1031505" y="1648187"/>
                  <a:pt x="1030555" y="1647617"/>
                </a:cubicBezTo>
                <a:lnTo>
                  <a:pt x="1030555" y="1624246"/>
                </a:lnTo>
                <a:cubicBezTo>
                  <a:pt x="1030555" y="1622742"/>
                  <a:pt x="1030875" y="1621090"/>
                  <a:pt x="1031529" y="1619297"/>
                </a:cubicBezTo>
                <a:cubicBezTo>
                  <a:pt x="1032194" y="1617469"/>
                  <a:pt x="1033037" y="1615751"/>
                  <a:pt x="1034075" y="1614099"/>
                </a:cubicBezTo>
                <a:cubicBezTo>
                  <a:pt x="1035118" y="1612446"/>
                  <a:pt x="1036268" y="1610956"/>
                  <a:pt x="1037545" y="1609619"/>
                </a:cubicBezTo>
                <a:cubicBezTo>
                  <a:pt x="1038807" y="1608308"/>
                  <a:pt x="1040069" y="1607423"/>
                  <a:pt x="1041312" y="1607020"/>
                </a:cubicBezTo>
                <a:cubicBezTo>
                  <a:pt x="1041943" y="1606792"/>
                  <a:pt x="1043105" y="1606516"/>
                  <a:pt x="1044801" y="1606213"/>
                </a:cubicBezTo>
                <a:cubicBezTo>
                  <a:pt x="1046494" y="1605906"/>
                  <a:pt x="1048314" y="1605617"/>
                  <a:pt x="1050241" y="1605328"/>
                </a:cubicBezTo>
                <a:cubicBezTo>
                  <a:pt x="1052168" y="1605052"/>
                  <a:pt x="1054007" y="1604784"/>
                  <a:pt x="1055777" y="1604561"/>
                </a:cubicBezTo>
                <a:cubicBezTo>
                  <a:pt x="1057539" y="1604306"/>
                  <a:pt x="1058901" y="1604118"/>
                  <a:pt x="1059855" y="1603938"/>
                </a:cubicBezTo>
                <a:cubicBezTo>
                  <a:pt x="1056608" y="1601567"/>
                  <a:pt x="1054073" y="1598477"/>
                  <a:pt x="1052199" y="1594676"/>
                </a:cubicBezTo>
                <a:cubicBezTo>
                  <a:pt x="1050337" y="1590867"/>
                  <a:pt x="1049418" y="1586725"/>
                  <a:pt x="1049418" y="1582246"/>
                </a:cubicBezTo>
                <a:cubicBezTo>
                  <a:pt x="1049418" y="1578713"/>
                  <a:pt x="1050018" y="1575368"/>
                  <a:pt x="1051214" y="1572252"/>
                </a:cubicBezTo>
                <a:cubicBezTo>
                  <a:pt x="1052411" y="1569135"/>
                  <a:pt x="1054038" y="1566396"/>
                  <a:pt x="1056066" y="1564033"/>
                </a:cubicBezTo>
                <a:cubicBezTo>
                  <a:pt x="1058105" y="1561688"/>
                  <a:pt x="1060474" y="1559821"/>
                  <a:pt x="1063225" y="1558458"/>
                </a:cubicBezTo>
                <a:cubicBezTo>
                  <a:pt x="1065960" y="1557081"/>
                  <a:pt x="1068884" y="1556389"/>
                  <a:pt x="1071997" y="1556389"/>
                </a:cubicBezTo>
                <a:close/>
                <a:moveTo>
                  <a:pt x="1728717" y="1439916"/>
                </a:moveTo>
                <a:lnTo>
                  <a:pt x="1785251" y="1496109"/>
                </a:lnTo>
                <a:lnTo>
                  <a:pt x="1728717" y="1552298"/>
                </a:lnTo>
                <a:lnTo>
                  <a:pt x="1672183" y="1496109"/>
                </a:lnTo>
                <a:lnTo>
                  <a:pt x="1728717" y="1439916"/>
                </a:lnTo>
                <a:close/>
                <a:moveTo>
                  <a:pt x="1557663" y="1432423"/>
                </a:moveTo>
                <a:cubicBezTo>
                  <a:pt x="1570087" y="1432423"/>
                  <a:pt x="1581851" y="1435108"/>
                  <a:pt x="1592816" y="1440445"/>
                </a:cubicBezTo>
                <a:cubicBezTo>
                  <a:pt x="1603826" y="1445731"/>
                  <a:pt x="1613471" y="1452972"/>
                  <a:pt x="1621702" y="1462065"/>
                </a:cubicBezTo>
                <a:cubicBezTo>
                  <a:pt x="1629964" y="1471227"/>
                  <a:pt x="1636429" y="1481850"/>
                  <a:pt x="1641159" y="1493934"/>
                </a:cubicBezTo>
                <a:cubicBezTo>
                  <a:pt x="1645843" y="1506019"/>
                  <a:pt x="1648239" y="1518988"/>
                  <a:pt x="1648239" y="1532687"/>
                </a:cubicBezTo>
                <a:cubicBezTo>
                  <a:pt x="1648239" y="1549769"/>
                  <a:pt x="1644569" y="1565729"/>
                  <a:pt x="1637228" y="1580652"/>
                </a:cubicBezTo>
                <a:cubicBezTo>
                  <a:pt x="1630102" y="1595575"/>
                  <a:pt x="1619936" y="1607660"/>
                  <a:pt x="1606929" y="1616855"/>
                </a:cubicBezTo>
                <a:cubicBezTo>
                  <a:pt x="1610783" y="1617535"/>
                  <a:pt x="1616174" y="1618283"/>
                  <a:pt x="1623253" y="1619252"/>
                </a:cubicBezTo>
                <a:cubicBezTo>
                  <a:pt x="1630271" y="1620136"/>
                  <a:pt x="1637612" y="1621172"/>
                  <a:pt x="1645275" y="1622243"/>
                </a:cubicBezTo>
                <a:cubicBezTo>
                  <a:pt x="1652877" y="1623365"/>
                  <a:pt x="1660003" y="1624487"/>
                  <a:pt x="1666637" y="1625660"/>
                </a:cubicBezTo>
                <a:cubicBezTo>
                  <a:pt x="1673225" y="1626849"/>
                  <a:pt x="1678032" y="1627920"/>
                  <a:pt x="1680996" y="1628804"/>
                </a:cubicBezTo>
                <a:cubicBezTo>
                  <a:pt x="1685910" y="1630368"/>
                  <a:pt x="1690947" y="1633699"/>
                  <a:pt x="1695953" y="1638645"/>
                </a:cubicBezTo>
                <a:cubicBezTo>
                  <a:pt x="1700944" y="1643676"/>
                  <a:pt x="1705582" y="1649455"/>
                  <a:pt x="1709790" y="1655965"/>
                </a:cubicBezTo>
                <a:cubicBezTo>
                  <a:pt x="1714029" y="1662526"/>
                  <a:pt x="1717438" y="1669273"/>
                  <a:pt x="1720002" y="1676361"/>
                </a:cubicBezTo>
                <a:cubicBezTo>
                  <a:pt x="1722659" y="1683313"/>
                  <a:pt x="1723949" y="1689721"/>
                  <a:pt x="1723949" y="1695550"/>
                </a:cubicBezTo>
                <a:lnTo>
                  <a:pt x="1723949" y="1786177"/>
                </a:lnTo>
                <a:cubicBezTo>
                  <a:pt x="1722521" y="1786874"/>
                  <a:pt x="1720985" y="1787894"/>
                  <a:pt x="1719204" y="1789458"/>
                </a:cubicBezTo>
                <a:cubicBezTo>
                  <a:pt x="1717438" y="1791072"/>
                  <a:pt x="1715534" y="1792551"/>
                  <a:pt x="1713506" y="1794064"/>
                </a:cubicBezTo>
                <a:cubicBezTo>
                  <a:pt x="1711433" y="1795526"/>
                  <a:pt x="1709483" y="1796851"/>
                  <a:pt x="1707671" y="1797922"/>
                </a:cubicBezTo>
                <a:cubicBezTo>
                  <a:pt x="1705813" y="1799061"/>
                  <a:pt x="1704262" y="1799554"/>
                  <a:pt x="1703018" y="1799554"/>
                </a:cubicBezTo>
                <a:lnTo>
                  <a:pt x="1412969" y="1799554"/>
                </a:lnTo>
                <a:cubicBezTo>
                  <a:pt x="1408024" y="1799554"/>
                  <a:pt x="1404308" y="1797888"/>
                  <a:pt x="1401743" y="1794506"/>
                </a:cubicBezTo>
                <a:cubicBezTo>
                  <a:pt x="1399179" y="1791174"/>
                  <a:pt x="1396030" y="1788387"/>
                  <a:pt x="1392237" y="1786177"/>
                </a:cubicBezTo>
                <a:lnTo>
                  <a:pt x="1392237" y="1695550"/>
                </a:lnTo>
                <a:cubicBezTo>
                  <a:pt x="1392237" y="1689721"/>
                  <a:pt x="1393512" y="1683313"/>
                  <a:pt x="1396123" y="1676361"/>
                </a:cubicBezTo>
                <a:cubicBezTo>
                  <a:pt x="1398779" y="1669273"/>
                  <a:pt x="1402143" y="1662611"/>
                  <a:pt x="1406289" y="1656203"/>
                </a:cubicBezTo>
                <a:cubicBezTo>
                  <a:pt x="1410451" y="1649795"/>
                  <a:pt x="1415042" y="1644016"/>
                  <a:pt x="1420141" y="1638832"/>
                </a:cubicBezTo>
                <a:cubicBezTo>
                  <a:pt x="1425178" y="1633750"/>
                  <a:pt x="1430215" y="1630317"/>
                  <a:pt x="1435176" y="1628753"/>
                </a:cubicBezTo>
                <a:cubicBezTo>
                  <a:pt x="1437694" y="1627869"/>
                  <a:pt x="1442332" y="1626798"/>
                  <a:pt x="1449104" y="1625626"/>
                </a:cubicBezTo>
                <a:cubicBezTo>
                  <a:pt x="1455861" y="1624436"/>
                  <a:pt x="1463125" y="1623314"/>
                  <a:pt x="1470819" y="1622192"/>
                </a:cubicBezTo>
                <a:cubicBezTo>
                  <a:pt x="1478513" y="1621121"/>
                  <a:pt x="1485854" y="1620085"/>
                  <a:pt x="1492918" y="1619218"/>
                </a:cubicBezTo>
                <a:cubicBezTo>
                  <a:pt x="1499952" y="1618232"/>
                  <a:pt x="1505388" y="1617501"/>
                  <a:pt x="1509196" y="1616804"/>
                </a:cubicBezTo>
                <a:cubicBezTo>
                  <a:pt x="1496235" y="1607609"/>
                  <a:pt x="1486115" y="1595626"/>
                  <a:pt x="1478636" y="1580890"/>
                </a:cubicBezTo>
                <a:cubicBezTo>
                  <a:pt x="1471203" y="1566120"/>
                  <a:pt x="1467533" y="1550058"/>
                  <a:pt x="1467533" y="1532687"/>
                </a:cubicBezTo>
                <a:cubicBezTo>
                  <a:pt x="1467533" y="1518988"/>
                  <a:pt x="1469928" y="1506019"/>
                  <a:pt x="1474705" y="1493934"/>
                </a:cubicBezTo>
                <a:cubicBezTo>
                  <a:pt x="1479481" y="1481850"/>
                  <a:pt x="1485977" y="1471227"/>
                  <a:pt x="1494070" y="1462065"/>
                </a:cubicBezTo>
                <a:cubicBezTo>
                  <a:pt x="1502209" y="1452972"/>
                  <a:pt x="1511669" y="1445731"/>
                  <a:pt x="1522649" y="1440445"/>
                </a:cubicBezTo>
                <a:cubicBezTo>
                  <a:pt x="1533568" y="1435108"/>
                  <a:pt x="1545239" y="1432423"/>
                  <a:pt x="1557663" y="1432423"/>
                </a:cubicBezTo>
                <a:close/>
                <a:moveTo>
                  <a:pt x="1892710" y="1420844"/>
                </a:moveTo>
                <a:cubicBezTo>
                  <a:pt x="1897353" y="1420844"/>
                  <a:pt x="1901749" y="1421835"/>
                  <a:pt x="1905847" y="1423806"/>
                </a:cubicBezTo>
                <a:cubicBezTo>
                  <a:pt x="1909961" y="1425757"/>
                  <a:pt x="1913566" y="1428431"/>
                  <a:pt x="1916642" y="1431788"/>
                </a:cubicBezTo>
                <a:cubicBezTo>
                  <a:pt x="1919730" y="1435170"/>
                  <a:pt x="1922146" y="1439092"/>
                  <a:pt x="1923913" y="1443554"/>
                </a:cubicBezTo>
                <a:cubicBezTo>
                  <a:pt x="1925664" y="1448016"/>
                  <a:pt x="1926559" y="1452804"/>
                  <a:pt x="1926559" y="1457861"/>
                </a:cubicBezTo>
                <a:cubicBezTo>
                  <a:pt x="1926559" y="1464168"/>
                  <a:pt x="1925187" y="1470061"/>
                  <a:pt x="1922444" y="1475570"/>
                </a:cubicBezTo>
                <a:cubicBezTo>
                  <a:pt x="1919781" y="1481080"/>
                  <a:pt x="1915982" y="1485542"/>
                  <a:pt x="1911121" y="1488936"/>
                </a:cubicBezTo>
                <a:cubicBezTo>
                  <a:pt x="1912561" y="1489187"/>
                  <a:pt x="1914576" y="1489464"/>
                  <a:pt x="1917222" y="1489821"/>
                </a:cubicBezTo>
                <a:cubicBezTo>
                  <a:pt x="1919844" y="1490148"/>
                  <a:pt x="1922588" y="1490530"/>
                  <a:pt x="1925451" y="1490926"/>
                </a:cubicBezTo>
                <a:cubicBezTo>
                  <a:pt x="1928292" y="1491340"/>
                  <a:pt x="1930955" y="1491754"/>
                  <a:pt x="1933435" y="1492187"/>
                </a:cubicBezTo>
                <a:cubicBezTo>
                  <a:pt x="1935897" y="1492626"/>
                  <a:pt x="1937693" y="1493022"/>
                  <a:pt x="1938801" y="1493348"/>
                </a:cubicBezTo>
                <a:cubicBezTo>
                  <a:pt x="1940637" y="1493925"/>
                  <a:pt x="1942520" y="1495155"/>
                  <a:pt x="1944391" y="1496981"/>
                </a:cubicBezTo>
                <a:cubicBezTo>
                  <a:pt x="1946256" y="1498839"/>
                  <a:pt x="1947989" y="1500972"/>
                  <a:pt x="1949562" y="1503376"/>
                </a:cubicBezTo>
                <a:cubicBezTo>
                  <a:pt x="1951146" y="1505798"/>
                  <a:pt x="1952420" y="1508289"/>
                  <a:pt x="1953378" y="1510906"/>
                </a:cubicBezTo>
                <a:cubicBezTo>
                  <a:pt x="1954371" y="1513473"/>
                  <a:pt x="1954848" y="1515838"/>
                  <a:pt x="1954848" y="1517991"/>
                </a:cubicBezTo>
                <a:lnTo>
                  <a:pt x="1954848" y="1551450"/>
                </a:lnTo>
                <a:cubicBezTo>
                  <a:pt x="1954320" y="1551708"/>
                  <a:pt x="1953746" y="1552084"/>
                  <a:pt x="1953080" y="1552661"/>
                </a:cubicBezTo>
                <a:cubicBezTo>
                  <a:pt x="1952420" y="1553258"/>
                  <a:pt x="1951708" y="1553803"/>
                  <a:pt x="1950951" y="1554362"/>
                </a:cubicBezTo>
                <a:cubicBezTo>
                  <a:pt x="1950176" y="1554902"/>
                  <a:pt x="1949447" y="1555391"/>
                  <a:pt x="1948770" y="1555786"/>
                </a:cubicBezTo>
                <a:cubicBezTo>
                  <a:pt x="1948075" y="1556207"/>
                  <a:pt x="1947496" y="1556389"/>
                  <a:pt x="1947031" y="1556389"/>
                </a:cubicBezTo>
                <a:lnTo>
                  <a:pt x="1838635" y="1556389"/>
                </a:lnTo>
                <a:cubicBezTo>
                  <a:pt x="1836787" y="1556389"/>
                  <a:pt x="1835398" y="1555774"/>
                  <a:pt x="1834440" y="1554525"/>
                </a:cubicBezTo>
                <a:cubicBezTo>
                  <a:pt x="1833481" y="1553295"/>
                  <a:pt x="1832305" y="1552266"/>
                  <a:pt x="1830887" y="1551450"/>
                </a:cubicBezTo>
                <a:lnTo>
                  <a:pt x="1830887" y="1517991"/>
                </a:lnTo>
                <a:cubicBezTo>
                  <a:pt x="1830887" y="1515838"/>
                  <a:pt x="1831364" y="1513473"/>
                  <a:pt x="1832339" y="1510906"/>
                </a:cubicBezTo>
                <a:cubicBezTo>
                  <a:pt x="1833332" y="1508289"/>
                  <a:pt x="1834589" y="1505829"/>
                  <a:pt x="1836139" y="1503464"/>
                </a:cubicBezTo>
                <a:cubicBezTo>
                  <a:pt x="1837694" y="1501098"/>
                  <a:pt x="1839410" y="1498964"/>
                  <a:pt x="1841315" y="1497050"/>
                </a:cubicBezTo>
                <a:cubicBezTo>
                  <a:pt x="1843198" y="1495174"/>
                  <a:pt x="1845080" y="1493906"/>
                  <a:pt x="1846934" y="1493329"/>
                </a:cubicBezTo>
                <a:cubicBezTo>
                  <a:pt x="1847875" y="1493003"/>
                  <a:pt x="1849608" y="1492607"/>
                  <a:pt x="1852139" y="1492174"/>
                </a:cubicBezTo>
                <a:cubicBezTo>
                  <a:pt x="1854665" y="1491735"/>
                  <a:pt x="1857379" y="1491321"/>
                  <a:pt x="1860255" y="1490907"/>
                </a:cubicBezTo>
                <a:cubicBezTo>
                  <a:pt x="1863130" y="1490511"/>
                  <a:pt x="1865873" y="1490129"/>
                  <a:pt x="1868513" y="1489809"/>
                </a:cubicBezTo>
                <a:cubicBezTo>
                  <a:pt x="1871142" y="1489445"/>
                  <a:pt x="1873173" y="1489175"/>
                  <a:pt x="1874597" y="1488918"/>
                </a:cubicBezTo>
                <a:cubicBezTo>
                  <a:pt x="1869753" y="1485523"/>
                  <a:pt x="1865971" y="1481099"/>
                  <a:pt x="1863176" y="1475658"/>
                </a:cubicBezTo>
                <a:cubicBezTo>
                  <a:pt x="1860398" y="1470205"/>
                  <a:pt x="1859026" y="1464275"/>
                  <a:pt x="1859026" y="1457861"/>
                </a:cubicBezTo>
                <a:cubicBezTo>
                  <a:pt x="1859026" y="1452804"/>
                  <a:pt x="1859922" y="1448016"/>
                  <a:pt x="1861707" y="1443554"/>
                </a:cubicBezTo>
                <a:cubicBezTo>
                  <a:pt x="1863491" y="1439092"/>
                  <a:pt x="1865919" y="1435170"/>
                  <a:pt x="1868944" y="1431788"/>
                </a:cubicBezTo>
                <a:cubicBezTo>
                  <a:pt x="1871985" y="1428431"/>
                  <a:pt x="1875521" y="1425757"/>
                  <a:pt x="1879619" y="1423806"/>
                </a:cubicBezTo>
                <a:cubicBezTo>
                  <a:pt x="1883705" y="1421835"/>
                  <a:pt x="1888067" y="1420844"/>
                  <a:pt x="1892710" y="1420844"/>
                </a:cubicBezTo>
                <a:close/>
                <a:moveTo>
                  <a:pt x="1402795" y="1392917"/>
                </a:moveTo>
                <a:lnTo>
                  <a:pt x="1458988" y="1449110"/>
                </a:lnTo>
                <a:lnTo>
                  <a:pt x="1402795" y="1505299"/>
                </a:lnTo>
                <a:lnTo>
                  <a:pt x="1346601" y="1449110"/>
                </a:lnTo>
                <a:lnTo>
                  <a:pt x="1402795" y="1392917"/>
                </a:lnTo>
                <a:close/>
                <a:moveTo>
                  <a:pt x="1252784" y="1379295"/>
                </a:moveTo>
                <a:cubicBezTo>
                  <a:pt x="1257452" y="1379295"/>
                  <a:pt x="1261873" y="1380291"/>
                  <a:pt x="1265993" y="1382272"/>
                </a:cubicBezTo>
                <a:cubicBezTo>
                  <a:pt x="1270131" y="1384233"/>
                  <a:pt x="1273755" y="1386920"/>
                  <a:pt x="1276848" y="1390294"/>
                </a:cubicBezTo>
                <a:cubicBezTo>
                  <a:pt x="1279952" y="1393693"/>
                  <a:pt x="1282382" y="1397635"/>
                  <a:pt x="1284159" y="1402119"/>
                </a:cubicBezTo>
                <a:cubicBezTo>
                  <a:pt x="1285919" y="1406603"/>
                  <a:pt x="1286819" y="1411415"/>
                  <a:pt x="1286819" y="1416499"/>
                </a:cubicBezTo>
                <a:cubicBezTo>
                  <a:pt x="1286819" y="1422837"/>
                  <a:pt x="1285440" y="1428759"/>
                  <a:pt x="1282682" y="1434297"/>
                </a:cubicBezTo>
                <a:cubicBezTo>
                  <a:pt x="1280004" y="1439834"/>
                  <a:pt x="1276184" y="1444318"/>
                  <a:pt x="1271296" y="1447730"/>
                </a:cubicBezTo>
                <a:cubicBezTo>
                  <a:pt x="1272745" y="1447982"/>
                  <a:pt x="1274770" y="1448260"/>
                  <a:pt x="1277430" y="1448619"/>
                </a:cubicBezTo>
                <a:cubicBezTo>
                  <a:pt x="1280068" y="1448947"/>
                  <a:pt x="1282826" y="1449332"/>
                  <a:pt x="1285706" y="1449729"/>
                </a:cubicBezTo>
                <a:cubicBezTo>
                  <a:pt x="1288562" y="1450146"/>
                  <a:pt x="1291240" y="1450562"/>
                  <a:pt x="1293733" y="1450997"/>
                </a:cubicBezTo>
                <a:cubicBezTo>
                  <a:pt x="1296208" y="1451438"/>
                  <a:pt x="1298015" y="1451836"/>
                  <a:pt x="1299128" y="1452164"/>
                </a:cubicBezTo>
                <a:cubicBezTo>
                  <a:pt x="1300975" y="1452744"/>
                  <a:pt x="1302868" y="1453980"/>
                  <a:pt x="1304749" y="1455815"/>
                </a:cubicBezTo>
                <a:cubicBezTo>
                  <a:pt x="1306625" y="1457682"/>
                  <a:pt x="1308367" y="1459826"/>
                  <a:pt x="1309949" y="1462242"/>
                </a:cubicBezTo>
                <a:cubicBezTo>
                  <a:pt x="1311541" y="1464676"/>
                  <a:pt x="1312822" y="1467180"/>
                  <a:pt x="1313786" y="1469810"/>
                </a:cubicBezTo>
                <a:cubicBezTo>
                  <a:pt x="1314785" y="1472390"/>
                  <a:pt x="1315263" y="1474767"/>
                  <a:pt x="1315263" y="1476931"/>
                </a:cubicBezTo>
                <a:lnTo>
                  <a:pt x="1315263" y="1510558"/>
                </a:lnTo>
                <a:cubicBezTo>
                  <a:pt x="1314733" y="1510817"/>
                  <a:pt x="1314155" y="1511195"/>
                  <a:pt x="1313486" y="1511776"/>
                </a:cubicBezTo>
                <a:cubicBezTo>
                  <a:pt x="1312822" y="1512375"/>
                  <a:pt x="1312107" y="1512923"/>
                  <a:pt x="1311345" y="1513485"/>
                </a:cubicBezTo>
                <a:cubicBezTo>
                  <a:pt x="1310566" y="1514027"/>
                  <a:pt x="1309833" y="1514519"/>
                  <a:pt x="1309152" y="1514916"/>
                </a:cubicBezTo>
                <a:cubicBezTo>
                  <a:pt x="1308454" y="1515339"/>
                  <a:pt x="1307871" y="1515522"/>
                  <a:pt x="1307404" y="1515522"/>
                </a:cubicBezTo>
                <a:lnTo>
                  <a:pt x="1198412" y="1515522"/>
                </a:lnTo>
                <a:cubicBezTo>
                  <a:pt x="1196554" y="1515522"/>
                  <a:pt x="1195157" y="1514904"/>
                  <a:pt x="1194193" y="1513649"/>
                </a:cubicBezTo>
                <a:cubicBezTo>
                  <a:pt x="1193230" y="1512413"/>
                  <a:pt x="1192047" y="1511378"/>
                  <a:pt x="1190621" y="1510558"/>
                </a:cubicBezTo>
                <a:lnTo>
                  <a:pt x="1190621" y="1476931"/>
                </a:lnTo>
                <a:cubicBezTo>
                  <a:pt x="1190621" y="1474767"/>
                  <a:pt x="1191100" y="1472390"/>
                  <a:pt x="1192081" y="1469810"/>
                </a:cubicBezTo>
                <a:cubicBezTo>
                  <a:pt x="1193080" y="1467180"/>
                  <a:pt x="1194343" y="1464708"/>
                  <a:pt x="1195901" y="1462330"/>
                </a:cubicBezTo>
                <a:cubicBezTo>
                  <a:pt x="1197465" y="1459953"/>
                  <a:pt x="1199191" y="1457808"/>
                  <a:pt x="1201107" y="1455885"/>
                </a:cubicBezTo>
                <a:cubicBezTo>
                  <a:pt x="1202999" y="1453999"/>
                  <a:pt x="1204892" y="1452725"/>
                  <a:pt x="1206756" y="1452145"/>
                </a:cubicBezTo>
                <a:cubicBezTo>
                  <a:pt x="1207703" y="1451817"/>
                  <a:pt x="1209445" y="1451419"/>
                  <a:pt x="1211990" y="1450984"/>
                </a:cubicBezTo>
                <a:cubicBezTo>
                  <a:pt x="1214529" y="1450543"/>
                  <a:pt x="1217259" y="1450127"/>
                  <a:pt x="1220150" y="1449710"/>
                </a:cubicBezTo>
                <a:cubicBezTo>
                  <a:pt x="1223041" y="1449313"/>
                  <a:pt x="1225800" y="1448928"/>
                  <a:pt x="1228454" y="1448607"/>
                </a:cubicBezTo>
                <a:cubicBezTo>
                  <a:pt x="1231097" y="1448241"/>
                  <a:pt x="1233140" y="1447970"/>
                  <a:pt x="1234571" y="1447711"/>
                </a:cubicBezTo>
                <a:cubicBezTo>
                  <a:pt x="1229701" y="1444299"/>
                  <a:pt x="1225898" y="1439853"/>
                  <a:pt x="1223087" y="1434385"/>
                </a:cubicBezTo>
                <a:cubicBezTo>
                  <a:pt x="1220294" y="1428904"/>
                  <a:pt x="1218915" y="1422944"/>
                  <a:pt x="1218915" y="1416499"/>
                </a:cubicBezTo>
                <a:cubicBezTo>
                  <a:pt x="1218915" y="1411415"/>
                  <a:pt x="1219815" y="1406603"/>
                  <a:pt x="1221610" y="1402119"/>
                </a:cubicBezTo>
                <a:cubicBezTo>
                  <a:pt x="1223405" y="1397635"/>
                  <a:pt x="1225846" y="1393693"/>
                  <a:pt x="1228887" y="1390294"/>
                </a:cubicBezTo>
                <a:cubicBezTo>
                  <a:pt x="1231946" y="1386920"/>
                  <a:pt x="1235500" y="1384233"/>
                  <a:pt x="1239621" y="1382272"/>
                </a:cubicBezTo>
                <a:cubicBezTo>
                  <a:pt x="1243729" y="1380291"/>
                  <a:pt x="1248115" y="1379295"/>
                  <a:pt x="1252784" y="1379295"/>
                </a:cubicBezTo>
                <a:close/>
                <a:moveTo>
                  <a:pt x="1639829" y="1298240"/>
                </a:moveTo>
                <a:lnTo>
                  <a:pt x="1696022" y="1354433"/>
                </a:lnTo>
                <a:lnTo>
                  <a:pt x="1639829" y="1410622"/>
                </a:lnTo>
                <a:lnTo>
                  <a:pt x="1583635" y="1354433"/>
                </a:lnTo>
                <a:lnTo>
                  <a:pt x="1639829" y="1298240"/>
                </a:lnTo>
                <a:close/>
                <a:moveTo>
                  <a:pt x="1450475" y="1250561"/>
                </a:moveTo>
                <a:lnTo>
                  <a:pt x="1506668" y="1306754"/>
                </a:lnTo>
                <a:lnTo>
                  <a:pt x="1450475" y="1362943"/>
                </a:lnTo>
                <a:lnTo>
                  <a:pt x="1394281" y="1306754"/>
                </a:lnTo>
                <a:lnTo>
                  <a:pt x="1450475" y="1250561"/>
                </a:lnTo>
                <a:close/>
                <a:moveTo>
                  <a:pt x="1332871" y="1213098"/>
                </a:moveTo>
                <a:cubicBezTo>
                  <a:pt x="1335983" y="1213098"/>
                  <a:pt x="1338930" y="1213790"/>
                  <a:pt x="1341677" y="1215167"/>
                </a:cubicBezTo>
                <a:cubicBezTo>
                  <a:pt x="1344435" y="1216530"/>
                  <a:pt x="1346851" y="1218397"/>
                  <a:pt x="1348913" y="1220742"/>
                </a:cubicBezTo>
                <a:cubicBezTo>
                  <a:pt x="1350983" y="1223105"/>
                  <a:pt x="1352602" y="1225844"/>
                  <a:pt x="1353787" y="1228961"/>
                </a:cubicBezTo>
                <a:cubicBezTo>
                  <a:pt x="1354961" y="1232077"/>
                  <a:pt x="1355561" y="1235422"/>
                  <a:pt x="1355561" y="1238955"/>
                </a:cubicBezTo>
                <a:cubicBezTo>
                  <a:pt x="1355561" y="1243360"/>
                  <a:pt x="1354641" y="1247476"/>
                  <a:pt x="1352803" y="1251324"/>
                </a:cubicBezTo>
                <a:cubicBezTo>
                  <a:pt x="1351017" y="1255173"/>
                  <a:pt x="1348471" y="1258289"/>
                  <a:pt x="1345212" y="1260660"/>
                </a:cubicBezTo>
                <a:cubicBezTo>
                  <a:pt x="1346178" y="1260836"/>
                  <a:pt x="1347528" y="1261029"/>
                  <a:pt x="1349302" y="1261278"/>
                </a:cubicBezTo>
                <a:cubicBezTo>
                  <a:pt x="1351060" y="1261506"/>
                  <a:pt x="1352899" y="1261774"/>
                  <a:pt x="1354818" y="1262050"/>
                </a:cubicBezTo>
                <a:cubicBezTo>
                  <a:pt x="1356723" y="1262339"/>
                  <a:pt x="1358508" y="1262628"/>
                  <a:pt x="1360170" y="1262931"/>
                </a:cubicBezTo>
                <a:cubicBezTo>
                  <a:pt x="1361820" y="1263238"/>
                  <a:pt x="1363024" y="1263514"/>
                  <a:pt x="1363767" y="1263742"/>
                </a:cubicBezTo>
                <a:cubicBezTo>
                  <a:pt x="1364998" y="1264145"/>
                  <a:pt x="1366260" y="1265004"/>
                  <a:pt x="1367514" y="1266280"/>
                </a:cubicBezTo>
                <a:cubicBezTo>
                  <a:pt x="1368764" y="1267577"/>
                  <a:pt x="1369926" y="1269067"/>
                  <a:pt x="1370980" y="1270746"/>
                </a:cubicBezTo>
                <a:cubicBezTo>
                  <a:pt x="1372042" y="1272438"/>
                  <a:pt x="1372896" y="1274178"/>
                  <a:pt x="1373539" y="1276006"/>
                </a:cubicBezTo>
                <a:cubicBezTo>
                  <a:pt x="1374204" y="1277799"/>
                  <a:pt x="1374527" y="1279451"/>
                  <a:pt x="1374527" y="1280955"/>
                </a:cubicBezTo>
                <a:lnTo>
                  <a:pt x="1374527" y="1304326"/>
                </a:lnTo>
                <a:cubicBezTo>
                  <a:pt x="1374169" y="1304506"/>
                  <a:pt x="1373785" y="1304769"/>
                  <a:pt x="1373338" y="1305172"/>
                </a:cubicBezTo>
                <a:cubicBezTo>
                  <a:pt x="1372896" y="1305589"/>
                  <a:pt x="1372419" y="1305970"/>
                  <a:pt x="1371911" y="1306360"/>
                </a:cubicBezTo>
                <a:cubicBezTo>
                  <a:pt x="1371392" y="1306737"/>
                  <a:pt x="1370903" y="1307079"/>
                  <a:pt x="1370449" y="1307355"/>
                </a:cubicBezTo>
                <a:cubicBezTo>
                  <a:pt x="1369984" y="1307649"/>
                  <a:pt x="1369595" y="1307776"/>
                  <a:pt x="1369284" y="1307776"/>
                </a:cubicBezTo>
                <a:lnTo>
                  <a:pt x="1296623" y="1307776"/>
                </a:lnTo>
                <a:cubicBezTo>
                  <a:pt x="1295384" y="1307776"/>
                  <a:pt x="1294453" y="1307346"/>
                  <a:pt x="1293811" y="1306474"/>
                </a:cubicBezTo>
                <a:cubicBezTo>
                  <a:pt x="1293168" y="1305615"/>
                  <a:pt x="1292379" y="1304896"/>
                  <a:pt x="1291429" y="1304326"/>
                </a:cubicBezTo>
                <a:lnTo>
                  <a:pt x="1291429" y="1280955"/>
                </a:lnTo>
                <a:cubicBezTo>
                  <a:pt x="1291429" y="1279451"/>
                  <a:pt x="1291749" y="1277799"/>
                  <a:pt x="1292403" y="1276006"/>
                </a:cubicBezTo>
                <a:cubicBezTo>
                  <a:pt x="1293068" y="1274178"/>
                  <a:pt x="1293911" y="1272460"/>
                  <a:pt x="1294949" y="1270808"/>
                </a:cubicBezTo>
                <a:cubicBezTo>
                  <a:pt x="1295992" y="1269155"/>
                  <a:pt x="1297142" y="1267665"/>
                  <a:pt x="1298419" y="1266328"/>
                </a:cubicBezTo>
                <a:cubicBezTo>
                  <a:pt x="1299681" y="1265017"/>
                  <a:pt x="1300943" y="1264132"/>
                  <a:pt x="1302186" y="1263729"/>
                </a:cubicBezTo>
                <a:cubicBezTo>
                  <a:pt x="1302817" y="1263501"/>
                  <a:pt x="1303979" y="1263225"/>
                  <a:pt x="1305675" y="1262922"/>
                </a:cubicBezTo>
                <a:cubicBezTo>
                  <a:pt x="1307368" y="1262615"/>
                  <a:pt x="1309188" y="1262326"/>
                  <a:pt x="1311115" y="1262037"/>
                </a:cubicBezTo>
                <a:cubicBezTo>
                  <a:pt x="1313042" y="1261761"/>
                  <a:pt x="1314881" y="1261493"/>
                  <a:pt x="1316651" y="1261270"/>
                </a:cubicBezTo>
                <a:cubicBezTo>
                  <a:pt x="1318413" y="1261015"/>
                  <a:pt x="1319775" y="1260827"/>
                  <a:pt x="1320729" y="1260647"/>
                </a:cubicBezTo>
                <a:cubicBezTo>
                  <a:pt x="1317482" y="1258276"/>
                  <a:pt x="1314947" y="1255186"/>
                  <a:pt x="1313073" y="1251385"/>
                </a:cubicBezTo>
                <a:cubicBezTo>
                  <a:pt x="1311211" y="1247576"/>
                  <a:pt x="1310292" y="1243434"/>
                  <a:pt x="1310292" y="1238955"/>
                </a:cubicBezTo>
                <a:cubicBezTo>
                  <a:pt x="1310292" y="1235422"/>
                  <a:pt x="1310892" y="1232077"/>
                  <a:pt x="1312088" y="1228961"/>
                </a:cubicBezTo>
                <a:cubicBezTo>
                  <a:pt x="1313285" y="1225844"/>
                  <a:pt x="1314912" y="1223105"/>
                  <a:pt x="1316940" y="1220742"/>
                </a:cubicBezTo>
                <a:cubicBezTo>
                  <a:pt x="1318979" y="1218397"/>
                  <a:pt x="1321348" y="1216530"/>
                  <a:pt x="1324099" y="1215167"/>
                </a:cubicBezTo>
                <a:cubicBezTo>
                  <a:pt x="1326834" y="1213790"/>
                  <a:pt x="1329758" y="1213098"/>
                  <a:pt x="1332871" y="1213098"/>
                </a:cubicBezTo>
                <a:close/>
                <a:moveTo>
                  <a:pt x="1803759" y="1189940"/>
                </a:moveTo>
                <a:cubicBezTo>
                  <a:pt x="1810214" y="1189940"/>
                  <a:pt x="1816325" y="1191325"/>
                  <a:pt x="1822021" y="1194078"/>
                </a:cubicBezTo>
                <a:cubicBezTo>
                  <a:pt x="1827742" y="1196804"/>
                  <a:pt x="1832752" y="1200538"/>
                  <a:pt x="1837028" y="1205229"/>
                </a:cubicBezTo>
                <a:cubicBezTo>
                  <a:pt x="1841320" y="1209954"/>
                  <a:pt x="1844679" y="1215433"/>
                  <a:pt x="1847136" y="1221666"/>
                </a:cubicBezTo>
                <a:cubicBezTo>
                  <a:pt x="1849570" y="1227899"/>
                  <a:pt x="1850814" y="1234587"/>
                  <a:pt x="1850814" y="1241653"/>
                </a:cubicBezTo>
                <a:cubicBezTo>
                  <a:pt x="1850814" y="1250463"/>
                  <a:pt x="1848907" y="1258695"/>
                  <a:pt x="1845094" y="1266392"/>
                </a:cubicBezTo>
                <a:cubicBezTo>
                  <a:pt x="1841392" y="1274089"/>
                  <a:pt x="1836111" y="1280322"/>
                  <a:pt x="1829353" y="1285064"/>
                </a:cubicBezTo>
                <a:cubicBezTo>
                  <a:pt x="1831356" y="1285415"/>
                  <a:pt x="1834156" y="1285801"/>
                  <a:pt x="1837834" y="1286301"/>
                </a:cubicBezTo>
                <a:cubicBezTo>
                  <a:pt x="1841480" y="1286756"/>
                  <a:pt x="1845293" y="1287291"/>
                  <a:pt x="1849274" y="1287843"/>
                </a:cubicBezTo>
                <a:cubicBezTo>
                  <a:pt x="1853224" y="1288422"/>
                  <a:pt x="1856925" y="1289001"/>
                  <a:pt x="1860372" y="1289605"/>
                </a:cubicBezTo>
                <a:cubicBezTo>
                  <a:pt x="1863795" y="1290219"/>
                  <a:pt x="1866292" y="1290771"/>
                  <a:pt x="1867831" y="1291227"/>
                </a:cubicBezTo>
                <a:cubicBezTo>
                  <a:pt x="1870384" y="1292034"/>
                  <a:pt x="1873001" y="1293752"/>
                  <a:pt x="1875602" y="1296303"/>
                </a:cubicBezTo>
                <a:cubicBezTo>
                  <a:pt x="1878195" y="1298898"/>
                  <a:pt x="1880604" y="1301878"/>
                  <a:pt x="1882790" y="1305236"/>
                </a:cubicBezTo>
                <a:cubicBezTo>
                  <a:pt x="1884992" y="1308620"/>
                  <a:pt x="1886764" y="1312100"/>
                  <a:pt x="1888096" y="1315756"/>
                </a:cubicBezTo>
                <a:cubicBezTo>
                  <a:pt x="1889476" y="1319341"/>
                  <a:pt x="1890146" y="1322646"/>
                  <a:pt x="1890146" y="1325653"/>
                </a:cubicBezTo>
                <a:lnTo>
                  <a:pt x="1890146" y="1372396"/>
                </a:lnTo>
                <a:cubicBezTo>
                  <a:pt x="1889404" y="1372755"/>
                  <a:pt x="1888606" y="1373281"/>
                  <a:pt x="1887681" y="1374088"/>
                </a:cubicBezTo>
                <a:cubicBezTo>
                  <a:pt x="1886764" y="1374920"/>
                  <a:pt x="1885774" y="1375683"/>
                  <a:pt x="1884721" y="1376463"/>
                </a:cubicBezTo>
                <a:cubicBezTo>
                  <a:pt x="1883644" y="1377217"/>
                  <a:pt x="1882631" y="1377901"/>
                  <a:pt x="1881689" y="1378453"/>
                </a:cubicBezTo>
                <a:cubicBezTo>
                  <a:pt x="1880724" y="1379041"/>
                  <a:pt x="1879918" y="1379295"/>
                  <a:pt x="1879272" y="1379295"/>
                </a:cubicBezTo>
                <a:lnTo>
                  <a:pt x="1728590" y="1379295"/>
                </a:lnTo>
                <a:cubicBezTo>
                  <a:pt x="1726021" y="1379295"/>
                  <a:pt x="1724090" y="1378436"/>
                  <a:pt x="1722758" y="1376691"/>
                </a:cubicBezTo>
                <a:cubicBezTo>
                  <a:pt x="1721425" y="1374973"/>
                  <a:pt x="1719790" y="1373535"/>
                  <a:pt x="1717819" y="1372396"/>
                </a:cubicBezTo>
                <a:lnTo>
                  <a:pt x="1717819" y="1325653"/>
                </a:lnTo>
                <a:cubicBezTo>
                  <a:pt x="1717819" y="1322646"/>
                  <a:pt x="1718481" y="1319341"/>
                  <a:pt x="1719838" y="1315756"/>
                </a:cubicBezTo>
                <a:cubicBezTo>
                  <a:pt x="1721218" y="1312100"/>
                  <a:pt x="1722965" y="1308664"/>
                  <a:pt x="1725119" y="1305359"/>
                </a:cubicBezTo>
                <a:cubicBezTo>
                  <a:pt x="1727281" y="1302054"/>
                  <a:pt x="1729667" y="1299073"/>
                  <a:pt x="1732315" y="1296399"/>
                </a:cubicBezTo>
                <a:cubicBezTo>
                  <a:pt x="1734932" y="1293778"/>
                  <a:pt x="1737549" y="1292007"/>
                  <a:pt x="1740126" y="1291201"/>
                </a:cubicBezTo>
                <a:cubicBezTo>
                  <a:pt x="1741434" y="1290745"/>
                  <a:pt x="1743844" y="1290193"/>
                  <a:pt x="1747362" y="1289588"/>
                </a:cubicBezTo>
                <a:cubicBezTo>
                  <a:pt x="1750873" y="1288974"/>
                  <a:pt x="1754646" y="1288396"/>
                  <a:pt x="1758643" y="1287817"/>
                </a:cubicBezTo>
                <a:cubicBezTo>
                  <a:pt x="1762640" y="1287265"/>
                  <a:pt x="1766454" y="1286730"/>
                  <a:pt x="1770124" y="1286283"/>
                </a:cubicBezTo>
                <a:cubicBezTo>
                  <a:pt x="1773778" y="1285775"/>
                  <a:pt x="1776602" y="1285398"/>
                  <a:pt x="1778580" y="1285038"/>
                </a:cubicBezTo>
                <a:cubicBezTo>
                  <a:pt x="1771847" y="1280296"/>
                  <a:pt x="1766589" y="1274115"/>
                  <a:pt x="1762704" y="1266515"/>
                </a:cubicBezTo>
                <a:cubicBezTo>
                  <a:pt x="1758843" y="1258897"/>
                  <a:pt x="1756936" y="1250612"/>
                  <a:pt x="1756936" y="1241653"/>
                </a:cubicBezTo>
                <a:cubicBezTo>
                  <a:pt x="1756936" y="1234587"/>
                  <a:pt x="1758180" y="1227899"/>
                  <a:pt x="1760662" y="1221666"/>
                </a:cubicBezTo>
                <a:cubicBezTo>
                  <a:pt x="1763143" y="1215433"/>
                  <a:pt x="1766518" y="1209954"/>
                  <a:pt x="1770722" y="1205229"/>
                </a:cubicBezTo>
                <a:cubicBezTo>
                  <a:pt x="1774950" y="1200538"/>
                  <a:pt x="1779865" y="1196804"/>
                  <a:pt x="1785561" y="1194078"/>
                </a:cubicBezTo>
                <a:cubicBezTo>
                  <a:pt x="1791242" y="1191325"/>
                  <a:pt x="1797305" y="1189940"/>
                  <a:pt x="1803759" y="1189940"/>
                </a:cubicBezTo>
                <a:close/>
                <a:moveTo>
                  <a:pt x="2023146" y="1159970"/>
                </a:moveTo>
                <a:cubicBezTo>
                  <a:pt x="2027815" y="1159970"/>
                  <a:pt x="2032235" y="1160966"/>
                  <a:pt x="2036355" y="1162947"/>
                </a:cubicBezTo>
                <a:cubicBezTo>
                  <a:pt x="2040493" y="1164908"/>
                  <a:pt x="2044117" y="1167595"/>
                  <a:pt x="2047210" y="1170969"/>
                </a:cubicBezTo>
                <a:cubicBezTo>
                  <a:pt x="2050315" y="1174368"/>
                  <a:pt x="2052744" y="1178310"/>
                  <a:pt x="2054521" y="1182794"/>
                </a:cubicBezTo>
                <a:cubicBezTo>
                  <a:pt x="2056281" y="1187278"/>
                  <a:pt x="2057182" y="1192090"/>
                  <a:pt x="2057182" y="1197174"/>
                </a:cubicBezTo>
                <a:cubicBezTo>
                  <a:pt x="2057182" y="1203512"/>
                  <a:pt x="2055803" y="1209434"/>
                  <a:pt x="2053044" y="1214972"/>
                </a:cubicBezTo>
                <a:cubicBezTo>
                  <a:pt x="2050367" y="1220509"/>
                  <a:pt x="2046546" y="1224993"/>
                  <a:pt x="2041659" y="1228405"/>
                </a:cubicBezTo>
                <a:cubicBezTo>
                  <a:pt x="2043107" y="1228657"/>
                  <a:pt x="2045133" y="1228935"/>
                  <a:pt x="2047793" y="1229294"/>
                </a:cubicBezTo>
                <a:cubicBezTo>
                  <a:pt x="2050430" y="1229622"/>
                  <a:pt x="2053188" y="1230007"/>
                  <a:pt x="2056068" y="1230404"/>
                </a:cubicBezTo>
                <a:cubicBezTo>
                  <a:pt x="2058924" y="1230821"/>
                  <a:pt x="2061602" y="1231237"/>
                  <a:pt x="2064095" y="1231672"/>
                </a:cubicBezTo>
                <a:cubicBezTo>
                  <a:pt x="2066571" y="1232113"/>
                  <a:pt x="2068377" y="1232511"/>
                  <a:pt x="2069491" y="1232839"/>
                </a:cubicBezTo>
                <a:cubicBezTo>
                  <a:pt x="2071337" y="1233419"/>
                  <a:pt x="2073230" y="1234655"/>
                  <a:pt x="2075111" y="1236490"/>
                </a:cubicBezTo>
                <a:cubicBezTo>
                  <a:pt x="2076987" y="1238357"/>
                  <a:pt x="2078729" y="1240501"/>
                  <a:pt x="2080311" y="1242917"/>
                </a:cubicBezTo>
                <a:cubicBezTo>
                  <a:pt x="2081903" y="1245351"/>
                  <a:pt x="2083184" y="1247855"/>
                  <a:pt x="2084148" y="1250485"/>
                </a:cubicBezTo>
                <a:cubicBezTo>
                  <a:pt x="2085147" y="1253065"/>
                  <a:pt x="2085625" y="1255442"/>
                  <a:pt x="2085625" y="1257606"/>
                </a:cubicBezTo>
                <a:lnTo>
                  <a:pt x="2085625" y="1291233"/>
                </a:lnTo>
                <a:cubicBezTo>
                  <a:pt x="2085095" y="1291492"/>
                  <a:pt x="2084518" y="1291870"/>
                  <a:pt x="2083848" y="1292451"/>
                </a:cubicBezTo>
                <a:cubicBezTo>
                  <a:pt x="2083184" y="1293050"/>
                  <a:pt x="2082469" y="1293598"/>
                  <a:pt x="2081707" y="1294160"/>
                </a:cubicBezTo>
                <a:cubicBezTo>
                  <a:pt x="2080928" y="1294702"/>
                  <a:pt x="2080195" y="1295194"/>
                  <a:pt x="2079514" y="1295591"/>
                </a:cubicBezTo>
                <a:cubicBezTo>
                  <a:pt x="2078816" y="1296014"/>
                  <a:pt x="2078233" y="1296197"/>
                  <a:pt x="2077766" y="1296197"/>
                </a:cubicBezTo>
                <a:lnTo>
                  <a:pt x="1968775" y="1296197"/>
                </a:lnTo>
                <a:cubicBezTo>
                  <a:pt x="1966917" y="1296197"/>
                  <a:pt x="1965520" y="1295579"/>
                  <a:pt x="1964556" y="1294324"/>
                </a:cubicBezTo>
                <a:cubicBezTo>
                  <a:pt x="1963593" y="1293088"/>
                  <a:pt x="1962410" y="1292053"/>
                  <a:pt x="1960984" y="1291233"/>
                </a:cubicBezTo>
                <a:lnTo>
                  <a:pt x="1960984" y="1257606"/>
                </a:lnTo>
                <a:cubicBezTo>
                  <a:pt x="1960984" y="1255442"/>
                  <a:pt x="1961463" y="1253065"/>
                  <a:pt x="1962444" y="1250485"/>
                </a:cubicBezTo>
                <a:cubicBezTo>
                  <a:pt x="1963443" y="1247855"/>
                  <a:pt x="1964706" y="1245383"/>
                  <a:pt x="1966264" y="1243005"/>
                </a:cubicBezTo>
                <a:cubicBezTo>
                  <a:pt x="1967828" y="1240628"/>
                  <a:pt x="1969554" y="1238483"/>
                  <a:pt x="1971470" y="1236560"/>
                </a:cubicBezTo>
                <a:cubicBezTo>
                  <a:pt x="1973362" y="1234674"/>
                  <a:pt x="1975255" y="1233400"/>
                  <a:pt x="1977119" y="1232820"/>
                </a:cubicBezTo>
                <a:cubicBezTo>
                  <a:pt x="1978066" y="1232492"/>
                  <a:pt x="1979808" y="1232094"/>
                  <a:pt x="1982353" y="1231659"/>
                </a:cubicBezTo>
                <a:cubicBezTo>
                  <a:pt x="1984892" y="1231218"/>
                  <a:pt x="1987622" y="1230802"/>
                  <a:pt x="1990513" y="1230385"/>
                </a:cubicBezTo>
                <a:cubicBezTo>
                  <a:pt x="1993404" y="1229988"/>
                  <a:pt x="1996162" y="1229603"/>
                  <a:pt x="1998817" y="1229282"/>
                </a:cubicBezTo>
                <a:cubicBezTo>
                  <a:pt x="2001460" y="1228916"/>
                  <a:pt x="2003503" y="1228645"/>
                  <a:pt x="2004934" y="1228386"/>
                </a:cubicBezTo>
                <a:cubicBezTo>
                  <a:pt x="2000063" y="1224974"/>
                  <a:pt x="1996261" y="1220528"/>
                  <a:pt x="1993450" y="1215060"/>
                </a:cubicBezTo>
                <a:cubicBezTo>
                  <a:pt x="1990657" y="1209579"/>
                  <a:pt x="1989278" y="1203619"/>
                  <a:pt x="1989278" y="1197174"/>
                </a:cubicBezTo>
                <a:cubicBezTo>
                  <a:pt x="1989278" y="1192090"/>
                  <a:pt x="1990178" y="1187278"/>
                  <a:pt x="1991973" y="1182794"/>
                </a:cubicBezTo>
                <a:cubicBezTo>
                  <a:pt x="1993768" y="1178310"/>
                  <a:pt x="1996209" y="1174368"/>
                  <a:pt x="1999250" y="1170969"/>
                </a:cubicBezTo>
                <a:cubicBezTo>
                  <a:pt x="2002308" y="1167595"/>
                  <a:pt x="2005863" y="1164908"/>
                  <a:pt x="2009983" y="1162947"/>
                </a:cubicBezTo>
                <a:cubicBezTo>
                  <a:pt x="2014092" y="1160966"/>
                  <a:pt x="2018478" y="1159970"/>
                  <a:pt x="2023146" y="1159970"/>
                </a:cubicBezTo>
                <a:close/>
                <a:moveTo>
                  <a:pt x="1545152" y="1091176"/>
                </a:moveTo>
                <a:lnTo>
                  <a:pt x="1636764" y="1182788"/>
                </a:lnTo>
                <a:lnTo>
                  <a:pt x="1545152" y="1274401"/>
                </a:lnTo>
                <a:lnTo>
                  <a:pt x="1453539" y="1182788"/>
                </a:lnTo>
                <a:lnTo>
                  <a:pt x="1545152" y="1091176"/>
                </a:lnTo>
                <a:close/>
                <a:moveTo>
                  <a:pt x="1699088" y="1055075"/>
                </a:moveTo>
                <a:lnTo>
                  <a:pt x="1755281" y="1111268"/>
                </a:lnTo>
                <a:lnTo>
                  <a:pt x="1699088" y="1167457"/>
                </a:lnTo>
                <a:lnTo>
                  <a:pt x="1642894" y="1111268"/>
                </a:lnTo>
                <a:lnTo>
                  <a:pt x="1699088" y="1055075"/>
                </a:lnTo>
                <a:close/>
                <a:moveTo>
                  <a:pt x="1408925" y="1049626"/>
                </a:moveTo>
                <a:lnTo>
                  <a:pt x="1465118" y="1105819"/>
                </a:lnTo>
                <a:lnTo>
                  <a:pt x="1408925" y="1162008"/>
                </a:lnTo>
                <a:lnTo>
                  <a:pt x="1352731" y="1105819"/>
                </a:lnTo>
                <a:lnTo>
                  <a:pt x="1408925" y="1049626"/>
                </a:lnTo>
                <a:close/>
                <a:moveTo>
                  <a:pt x="1430559" y="875937"/>
                </a:moveTo>
                <a:cubicBezTo>
                  <a:pt x="1435228" y="875937"/>
                  <a:pt x="1439648" y="876933"/>
                  <a:pt x="1443768" y="878914"/>
                </a:cubicBezTo>
                <a:cubicBezTo>
                  <a:pt x="1447906" y="880875"/>
                  <a:pt x="1451530" y="883562"/>
                  <a:pt x="1454623" y="886936"/>
                </a:cubicBezTo>
                <a:cubicBezTo>
                  <a:pt x="1457728" y="890335"/>
                  <a:pt x="1460157" y="894277"/>
                  <a:pt x="1461934" y="898761"/>
                </a:cubicBezTo>
                <a:cubicBezTo>
                  <a:pt x="1463694" y="903245"/>
                  <a:pt x="1464595" y="908057"/>
                  <a:pt x="1464595" y="913141"/>
                </a:cubicBezTo>
                <a:cubicBezTo>
                  <a:pt x="1464595" y="919479"/>
                  <a:pt x="1463216" y="925401"/>
                  <a:pt x="1460457" y="930939"/>
                </a:cubicBezTo>
                <a:cubicBezTo>
                  <a:pt x="1457780" y="936476"/>
                  <a:pt x="1453959" y="940960"/>
                  <a:pt x="1449072" y="944372"/>
                </a:cubicBezTo>
                <a:cubicBezTo>
                  <a:pt x="1450520" y="944624"/>
                  <a:pt x="1452546" y="944902"/>
                  <a:pt x="1455206" y="945261"/>
                </a:cubicBezTo>
                <a:cubicBezTo>
                  <a:pt x="1457843" y="945589"/>
                  <a:pt x="1460601" y="945974"/>
                  <a:pt x="1463481" y="946371"/>
                </a:cubicBezTo>
                <a:cubicBezTo>
                  <a:pt x="1466337" y="946788"/>
                  <a:pt x="1469015" y="947204"/>
                  <a:pt x="1471508" y="947639"/>
                </a:cubicBezTo>
                <a:cubicBezTo>
                  <a:pt x="1473984" y="948080"/>
                  <a:pt x="1475790" y="948478"/>
                  <a:pt x="1476904" y="948806"/>
                </a:cubicBezTo>
                <a:cubicBezTo>
                  <a:pt x="1478750" y="949386"/>
                  <a:pt x="1480643" y="950622"/>
                  <a:pt x="1482524" y="952457"/>
                </a:cubicBezTo>
                <a:cubicBezTo>
                  <a:pt x="1484400" y="954324"/>
                  <a:pt x="1486142" y="956468"/>
                  <a:pt x="1487724" y="958884"/>
                </a:cubicBezTo>
                <a:cubicBezTo>
                  <a:pt x="1489316" y="961318"/>
                  <a:pt x="1490597" y="963822"/>
                  <a:pt x="1491561" y="966452"/>
                </a:cubicBezTo>
                <a:cubicBezTo>
                  <a:pt x="1492560" y="969032"/>
                  <a:pt x="1493038" y="971409"/>
                  <a:pt x="1493038" y="973573"/>
                </a:cubicBezTo>
                <a:lnTo>
                  <a:pt x="1493038" y="1007200"/>
                </a:lnTo>
                <a:cubicBezTo>
                  <a:pt x="1492508" y="1007459"/>
                  <a:pt x="1491931" y="1007837"/>
                  <a:pt x="1491261" y="1008418"/>
                </a:cubicBezTo>
                <a:cubicBezTo>
                  <a:pt x="1490597" y="1009017"/>
                  <a:pt x="1489882" y="1009565"/>
                  <a:pt x="1489120" y="1010127"/>
                </a:cubicBezTo>
                <a:cubicBezTo>
                  <a:pt x="1488341" y="1010669"/>
                  <a:pt x="1487608" y="1011161"/>
                  <a:pt x="1486927" y="1011558"/>
                </a:cubicBezTo>
                <a:cubicBezTo>
                  <a:pt x="1486229" y="1011981"/>
                  <a:pt x="1485646" y="1012164"/>
                  <a:pt x="1485179" y="1012164"/>
                </a:cubicBezTo>
                <a:lnTo>
                  <a:pt x="1376188" y="1012164"/>
                </a:lnTo>
                <a:cubicBezTo>
                  <a:pt x="1374330" y="1012164"/>
                  <a:pt x="1372933" y="1011546"/>
                  <a:pt x="1371969" y="1010291"/>
                </a:cubicBezTo>
                <a:cubicBezTo>
                  <a:pt x="1371006" y="1009055"/>
                  <a:pt x="1369823" y="1008020"/>
                  <a:pt x="1368397" y="1007200"/>
                </a:cubicBezTo>
                <a:lnTo>
                  <a:pt x="1368397" y="973573"/>
                </a:lnTo>
                <a:cubicBezTo>
                  <a:pt x="1368397" y="971409"/>
                  <a:pt x="1368876" y="969032"/>
                  <a:pt x="1369857" y="966452"/>
                </a:cubicBezTo>
                <a:cubicBezTo>
                  <a:pt x="1370856" y="963822"/>
                  <a:pt x="1372119" y="961350"/>
                  <a:pt x="1373677" y="958972"/>
                </a:cubicBezTo>
                <a:cubicBezTo>
                  <a:pt x="1375241" y="956595"/>
                  <a:pt x="1376967" y="954450"/>
                  <a:pt x="1378883" y="952527"/>
                </a:cubicBezTo>
                <a:cubicBezTo>
                  <a:pt x="1380775" y="950641"/>
                  <a:pt x="1382668" y="949367"/>
                  <a:pt x="1384532" y="948787"/>
                </a:cubicBezTo>
                <a:cubicBezTo>
                  <a:pt x="1385479" y="948459"/>
                  <a:pt x="1387221" y="948061"/>
                  <a:pt x="1389766" y="947626"/>
                </a:cubicBezTo>
                <a:cubicBezTo>
                  <a:pt x="1392305" y="947185"/>
                  <a:pt x="1395035" y="946769"/>
                  <a:pt x="1397926" y="946352"/>
                </a:cubicBezTo>
                <a:cubicBezTo>
                  <a:pt x="1400817" y="945955"/>
                  <a:pt x="1403575" y="945570"/>
                  <a:pt x="1406230" y="945249"/>
                </a:cubicBezTo>
                <a:cubicBezTo>
                  <a:pt x="1408873" y="944883"/>
                  <a:pt x="1410916" y="944612"/>
                  <a:pt x="1412347" y="944353"/>
                </a:cubicBezTo>
                <a:cubicBezTo>
                  <a:pt x="1407476" y="940941"/>
                  <a:pt x="1403674" y="936495"/>
                  <a:pt x="1400863" y="931027"/>
                </a:cubicBezTo>
                <a:cubicBezTo>
                  <a:pt x="1398070" y="925546"/>
                  <a:pt x="1396691" y="919586"/>
                  <a:pt x="1396691" y="913141"/>
                </a:cubicBezTo>
                <a:cubicBezTo>
                  <a:pt x="1396691" y="908057"/>
                  <a:pt x="1397591" y="903245"/>
                  <a:pt x="1399386" y="898761"/>
                </a:cubicBezTo>
                <a:cubicBezTo>
                  <a:pt x="1401181" y="894277"/>
                  <a:pt x="1403622" y="890335"/>
                  <a:pt x="1406663" y="886936"/>
                </a:cubicBezTo>
                <a:cubicBezTo>
                  <a:pt x="1409721" y="883562"/>
                  <a:pt x="1413276" y="880875"/>
                  <a:pt x="1417396" y="878914"/>
                </a:cubicBezTo>
                <a:cubicBezTo>
                  <a:pt x="1421505" y="876933"/>
                  <a:pt x="1425891" y="875937"/>
                  <a:pt x="1430559" y="875937"/>
                </a:cubicBezTo>
                <a:close/>
                <a:moveTo>
                  <a:pt x="1661744" y="822809"/>
                </a:moveTo>
                <a:cubicBezTo>
                  <a:pt x="1668173" y="822809"/>
                  <a:pt x="1674260" y="824194"/>
                  <a:pt x="1679933" y="826947"/>
                </a:cubicBezTo>
                <a:cubicBezTo>
                  <a:pt x="1685631" y="829673"/>
                  <a:pt x="1690622" y="833407"/>
                  <a:pt x="1694881" y="838098"/>
                </a:cubicBezTo>
                <a:cubicBezTo>
                  <a:pt x="1699156" y="842823"/>
                  <a:pt x="1702502" y="848302"/>
                  <a:pt x="1704949" y="854535"/>
                </a:cubicBezTo>
                <a:cubicBezTo>
                  <a:pt x="1707373" y="860768"/>
                  <a:pt x="1708613" y="867456"/>
                  <a:pt x="1708613" y="874522"/>
                </a:cubicBezTo>
                <a:cubicBezTo>
                  <a:pt x="1708613" y="883332"/>
                  <a:pt x="1706713" y="891564"/>
                  <a:pt x="1702915" y="899261"/>
                </a:cubicBezTo>
                <a:cubicBezTo>
                  <a:pt x="1699228" y="906958"/>
                  <a:pt x="1693967" y="913191"/>
                  <a:pt x="1687236" y="917933"/>
                </a:cubicBezTo>
                <a:cubicBezTo>
                  <a:pt x="1689231" y="918284"/>
                  <a:pt x="1692020" y="918670"/>
                  <a:pt x="1695684" y="919170"/>
                </a:cubicBezTo>
                <a:cubicBezTo>
                  <a:pt x="1699315" y="919625"/>
                  <a:pt x="1703114" y="920160"/>
                  <a:pt x="1707079" y="920712"/>
                </a:cubicBezTo>
                <a:cubicBezTo>
                  <a:pt x="1711012" y="921291"/>
                  <a:pt x="1714700" y="921870"/>
                  <a:pt x="1718133" y="922474"/>
                </a:cubicBezTo>
                <a:cubicBezTo>
                  <a:pt x="1721542" y="923088"/>
                  <a:pt x="1724029" y="923640"/>
                  <a:pt x="1725563" y="924096"/>
                </a:cubicBezTo>
                <a:cubicBezTo>
                  <a:pt x="1728106" y="924903"/>
                  <a:pt x="1730712" y="926621"/>
                  <a:pt x="1733303" y="929172"/>
                </a:cubicBezTo>
                <a:cubicBezTo>
                  <a:pt x="1735885" y="931767"/>
                  <a:pt x="1738285" y="934747"/>
                  <a:pt x="1740463" y="938105"/>
                </a:cubicBezTo>
                <a:cubicBezTo>
                  <a:pt x="1742656" y="941489"/>
                  <a:pt x="1744420" y="944969"/>
                  <a:pt x="1745747" y="948625"/>
                </a:cubicBezTo>
                <a:cubicBezTo>
                  <a:pt x="1747122" y="952210"/>
                  <a:pt x="1747789" y="955515"/>
                  <a:pt x="1747789" y="958522"/>
                </a:cubicBezTo>
                <a:lnTo>
                  <a:pt x="1747789" y="1005265"/>
                </a:lnTo>
                <a:cubicBezTo>
                  <a:pt x="1747050" y="1005624"/>
                  <a:pt x="1746256" y="1006150"/>
                  <a:pt x="1745334" y="1006957"/>
                </a:cubicBezTo>
                <a:cubicBezTo>
                  <a:pt x="1744420" y="1007789"/>
                  <a:pt x="1743435" y="1008552"/>
                  <a:pt x="1742386" y="1009332"/>
                </a:cubicBezTo>
                <a:cubicBezTo>
                  <a:pt x="1741313" y="1010086"/>
                  <a:pt x="1740304" y="1010770"/>
                  <a:pt x="1739366" y="1011322"/>
                </a:cubicBezTo>
                <a:cubicBezTo>
                  <a:pt x="1738404" y="1011910"/>
                  <a:pt x="1737602" y="1012164"/>
                  <a:pt x="1736958" y="1012164"/>
                </a:cubicBezTo>
                <a:lnTo>
                  <a:pt x="1586871" y="1012164"/>
                </a:lnTo>
                <a:cubicBezTo>
                  <a:pt x="1584312" y="1012164"/>
                  <a:pt x="1582389" y="1011305"/>
                  <a:pt x="1581062" y="1009560"/>
                </a:cubicBezTo>
                <a:cubicBezTo>
                  <a:pt x="1579735" y="1007842"/>
                  <a:pt x="1578106" y="1006404"/>
                  <a:pt x="1576143" y="1005265"/>
                </a:cubicBezTo>
                <a:lnTo>
                  <a:pt x="1576143" y="958522"/>
                </a:lnTo>
                <a:cubicBezTo>
                  <a:pt x="1576143" y="955515"/>
                  <a:pt x="1576803" y="952210"/>
                  <a:pt x="1578154" y="948625"/>
                </a:cubicBezTo>
                <a:cubicBezTo>
                  <a:pt x="1579528" y="944969"/>
                  <a:pt x="1581269" y="941533"/>
                  <a:pt x="1583414" y="938228"/>
                </a:cubicBezTo>
                <a:cubicBezTo>
                  <a:pt x="1585568" y="934923"/>
                  <a:pt x="1587944" y="931942"/>
                  <a:pt x="1590582" y="929268"/>
                </a:cubicBezTo>
                <a:cubicBezTo>
                  <a:pt x="1593189" y="926647"/>
                  <a:pt x="1595795" y="924876"/>
                  <a:pt x="1598362" y="924070"/>
                </a:cubicBezTo>
                <a:cubicBezTo>
                  <a:pt x="1599665" y="923614"/>
                  <a:pt x="1602065" y="923062"/>
                  <a:pt x="1605569" y="922457"/>
                </a:cubicBezTo>
                <a:cubicBezTo>
                  <a:pt x="1609066" y="921843"/>
                  <a:pt x="1612825" y="921265"/>
                  <a:pt x="1616806" y="920686"/>
                </a:cubicBezTo>
                <a:cubicBezTo>
                  <a:pt x="1620787" y="920134"/>
                  <a:pt x="1624586" y="919599"/>
                  <a:pt x="1628241" y="919152"/>
                </a:cubicBezTo>
                <a:cubicBezTo>
                  <a:pt x="1631881" y="918644"/>
                  <a:pt x="1634694" y="918267"/>
                  <a:pt x="1636664" y="917907"/>
                </a:cubicBezTo>
                <a:cubicBezTo>
                  <a:pt x="1629957" y="913165"/>
                  <a:pt x="1624721" y="906984"/>
                  <a:pt x="1620851" y="899384"/>
                </a:cubicBezTo>
                <a:cubicBezTo>
                  <a:pt x="1617005" y="891766"/>
                  <a:pt x="1615105" y="883481"/>
                  <a:pt x="1615105" y="874522"/>
                </a:cubicBezTo>
                <a:cubicBezTo>
                  <a:pt x="1615105" y="867456"/>
                  <a:pt x="1616345" y="860768"/>
                  <a:pt x="1618816" y="854535"/>
                </a:cubicBezTo>
                <a:cubicBezTo>
                  <a:pt x="1621288" y="848302"/>
                  <a:pt x="1624649" y="842823"/>
                  <a:pt x="1628837" y="838098"/>
                </a:cubicBezTo>
                <a:cubicBezTo>
                  <a:pt x="1633049" y="833407"/>
                  <a:pt x="1637944" y="829673"/>
                  <a:pt x="1643618" y="826947"/>
                </a:cubicBezTo>
                <a:cubicBezTo>
                  <a:pt x="1649276" y="824194"/>
                  <a:pt x="1655315" y="822809"/>
                  <a:pt x="1661744" y="822809"/>
                </a:cubicBezTo>
                <a:close/>
                <a:moveTo>
                  <a:pt x="1533231" y="765594"/>
                </a:moveTo>
                <a:lnTo>
                  <a:pt x="1589765" y="821787"/>
                </a:lnTo>
                <a:lnTo>
                  <a:pt x="1533231" y="877976"/>
                </a:lnTo>
                <a:lnTo>
                  <a:pt x="1476697" y="821787"/>
                </a:lnTo>
                <a:lnTo>
                  <a:pt x="1533231" y="765594"/>
                </a:lnTo>
                <a:close/>
                <a:moveTo>
                  <a:pt x="1972473" y="757420"/>
                </a:moveTo>
                <a:cubicBezTo>
                  <a:pt x="1984897" y="757420"/>
                  <a:pt x="1996661" y="760105"/>
                  <a:pt x="2007626" y="765442"/>
                </a:cubicBezTo>
                <a:cubicBezTo>
                  <a:pt x="2018636" y="770728"/>
                  <a:pt x="2028281" y="777969"/>
                  <a:pt x="2036512" y="787062"/>
                </a:cubicBezTo>
                <a:cubicBezTo>
                  <a:pt x="2044774" y="796224"/>
                  <a:pt x="2051239" y="806847"/>
                  <a:pt x="2055969" y="818931"/>
                </a:cubicBezTo>
                <a:cubicBezTo>
                  <a:pt x="2060653" y="831016"/>
                  <a:pt x="2063049" y="843985"/>
                  <a:pt x="2063049" y="857684"/>
                </a:cubicBezTo>
                <a:cubicBezTo>
                  <a:pt x="2063049" y="874766"/>
                  <a:pt x="2059379" y="890726"/>
                  <a:pt x="2052038" y="905649"/>
                </a:cubicBezTo>
                <a:cubicBezTo>
                  <a:pt x="2044912" y="920572"/>
                  <a:pt x="2034746" y="932657"/>
                  <a:pt x="2021739" y="941852"/>
                </a:cubicBezTo>
                <a:cubicBezTo>
                  <a:pt x="2025593" y="942532"/>
                  <a:pt x="2030984" y="943280"/>
                  <a:pt x="2038063" y="944249"/>
                </a:cubicBezTo>
                <a:cubicBezTo>
                  <a:pt x="2045081" y="945133"/>
                  <a:pt x="2052422" y="946169"/>
                  <a:pt x="2060085" y="947240"/>
                </a:cubicBezTo>
                <a:cubicBezTo>
                  <a:pt x="2067687" y="948362"/>
                  <a:pt x="2074813" y="949484"/>
                  <a:pt x="2081447" y="950657"/>
                </a:cubicBezTo>
                <a:cubicBezTo>
                  <a:pt x="2088035" y="951846"/>
                  <a:pt x="2092842" y="952917"/>
                  <a:pt x="2095806" y="953801"/>
                </a:cubicBezTo>
                <a:cubicBezTo>
                  <a:pt x="2100720" y="955365"/>
                  <a:pt x="2105757" y="958696"/>
                  <a:pt x="2110763" y="963642"/>
                </a:cubicBezTo>
                <a:cubicBezTo>
                  <a:pt x="2115754" y="968673"/>
                  <a:pt x="2120392" y="974452"/>
                  <a:pt x="2124600" y="980962"/>
                </a:cubicBezTo>
                <a:cubicBezTo>
                  <a:pt x="2128839" y="987523"/>
                  <a:pt x="2132248" y="994270"/>
                  <a:pt x="2134812" y="1001358"/>
                </a:cubicBezTo>
                <a:cubicBezTo>
                  <a:pt x="2137469" y="1008310"/>
                  <a:pt x="2138759" y="1014718"/>
                  <a:pt x="2138759" y="1020547"/>
                </a:cubicBezTo>
                <a:lnTo>
                  <a:pt x="2138759" y="1111174"/>
                </a:lnTo>
                <a:cubicBezTo>
                  <a:pt x="2137331" y="1111871"/>
                  <a:pt x="2135795" y="1112891"/>
                  <a:pt x="2134014" y="1114455"/>
                </a:cubicBezTo>
                <a:cubicBezTo>
                  <a:pt x="2132248" y="1116069"/>
                  <a:pt x="2130344" y="1117548"/>
                  <a:pt x="2128316" y="1119061"/>
                </a:cubicBezTo>
                <a:cubicBezTo>
                  <a:pt x="2126243" y="1120523"/>
                  <a:pt x="2124293" y="1121848"/>
                  <a:pt x="2122481" y="1122919"/>
                </a:cubicBezTo>
                <a:cubicBezTo>
                  <a:pt x="2120623" y="1124058"/>
                  <a:pt x="2119072" y="1124551"/>
                  <a:pt x="2117828" y="1124551"/>
                </a:cubicBezTo>
                <a:lnTo>
                  <a:pt x="1827779" y="1124551"/>
                </a:lnTo>
                <a:cubicBezTo>
                  <a:pt x="1822834" y="1124551"/>
                  <a:pt x="1819118" y="1122885"/>
                  <a:pt x="1816553" y="1119503"/>
                </a:cubicBezTo>
                <a:cubicBezTo>
                  <a:pt x="1813989" y="1116171"/>
                  <a:pt x="1810840" y="1113384"/>
                  <a:pt x="1807047" y="1111174"/>
                </a:cubicBezTo>
                <a:lnTo>
                  <a:pt x="1807047" y="1020547"/>
                </a:lnTo>
                <a:cubicBezTo>
                  <a:pt x="1807047" y="1014718"/>
                  <a:pt x="1808322" y="1008310"/>
                  <a:pt x="1810933" y="1001358"/>
                </a:cubicBezTo>
                <a:cubicBezTo>
                  <a:pt x="1813589" y="994270"/>
                  <a:pt x="1816953" y="987608"/>
                  <a:pt x="1821099" y="981200"/>
                </a:cubicBezTo>
                <a:cubicBezTo>
                  <a:pt x="1825261" y="974792"/>
                  <a:pt x="1829852" y="969013"/>
                  <a:pt x="1834951" y="963829"/>
                </a:cubicBezTo>
                <a:cubicBezTo>
                  <a:pt x="1839988" y="958747"/>
                  <a:pt x="1845025" y="955314"/>
                  <a:pt x="1849986" y="953750"/>
                </a:cubicBezTo>
                <a:cubicBezTo>
                  <a:pt x="1852504" y="952866"/>
                  <a:pt x="1857142" y="951795"/>
                  <a:pt x="1863914" y="950623"/>
                </a:cubicBezTo>
                <a:cubicBezTo>
                  <a:pt x="1870671" y="949433"/>
                  <a:pt x="1877935" y="948311"/>
                  <a:pt x="1885629" y="947189"/>
                </a:cubicBezTo>
                <a:cubicBezTo>
                  <a:pt x="1893323" y="946118"/>
                  <a:pt x="1900664" y="945082"/>
                  <a:pt x="1907728" y="944215"/>
                </a:cubicBezTo>
                <a:cubicBezTo>
                  <a:pt x="1914762" y="943229"/>
                  <a:pt x="1920198" y="942498"/>
                  <a:pt x="1924006" y="941801"/>
                </a:cubicBezTo>
                <a:cubicBezTo>
                  <a:pt x="1911045" y="932606"/>
                  <a:pt x="1900925" y="920623"/>
                  <a:pt x="1893446" y="905887"/>
                </a:cubicBezTo>
                <a:cubicBezTo>
                  <a:pt x="1886013" y="891117"/>
                  <a:pt x="1882343" y="875055"/>
                  <a:pt x="1882343" y="857684"/>
                </a:cubicBezTo>
                <a:cubicBezTo>
                  <a:pt x="1882343" y="843985"/>
                  <a:pt x="1884738" y="831016"/>
                  <a:pt x="1889515" y="818931"/>
                </a:cubicBezTo>
                <a:cubicBezTo>
                  <a:pt x="1894291" y="806847"/>
                  <a:pt x="1900787" y="796224"/>
                  <a:pt x="1908880" y="787062"/>
                </a:cubicBezTo>
                <a:cubicBezTo>
                  <a:pt x="1917019" y="777969"/>
                  <a:pt x="1926479" y="770728"/>
                  <a:pt x="1937459" y="765442"/>
                </a:cubicBezTo>
                <a:cubicBezTo>
                  <a:pt x="1948378" y="760105"/>
                  <a:pt x="1960049" y="757420"/>
                  <a:pt x="1972473" y="757420"/>
                </a:cubicBezTo>
                <a:close/>
                <a:moveTo>
                  <a:pt x="1830780" y="722001"/>
                </a:moveTo>
                <a:cubicBezTo>
                  <a:pt x="1833892" y="722001"/>
                  <a:pt x="1836839" y="722693"/>
                  <a:pt x="1839586" y="724070"/>
                </a:cubicBezTo>
                <a:cubicBezTo>
                  <a:pt x="1842344" y="725433"/>
                  <a:pt x="1844760" y="727300"/>
                  <a:pt x="1846822" y="729645"/>
                </a:cubicBezTo>
                <a:cubicBezTo>
                  <a:pt x="1848892" y="732008"/>
                  <a:pt x="1850511" y="734747"/>
                  <a:pt x="1851696" y="737864"/>
                </a:cubicBezTo>
                <a:cubicBezTo>
                  <a:pt x="1852870" y="740980"/>
                  <a:pt x="1853470" y="744324"/>
                  <a:pt x="1853470" y="747857"/>
                </a:cubicBezTo>
                <a:cubicBezTo>
                  <a:pt x="1853470" y="752262"/>
                  <a:pt x="1852550" y="756378"/>
                  <a:pt x="1850712" y="760227"/>
                </a:cubicBezTo>
                <a:cubicBezTo>
                  <a:pt x="1848926" y="764075"/>
                  <a:pt x="1846380" y="767192"/>
                  <a:pt x="1843121" y="769563"/>
                </a:cubicBezTo>
                <a:cubicBezTo>
                  <a:pt x="1844087" y="769738"/>
                  <a:pt x="1845437" y="769931"/>
                  <a:pt x="1847211" y="770181"/>
                </a:cubicBezTo>
                <a:cubicBezTo>
                  <a:pt x="1848969" y="770409"/>
                  <a:pt x="1850808" y="770676"/>
                  <a:pt x="1852727" y="770952"/>
                </a:cubicBezTo>
                <a:cubicBezTo>
                  <a:pt x="1854632" y="771242"/>
                  <a:pt x="1856417" y="771531"/>
                  <a:pt x="1858079" y="771833"/>
                </a:cubicBezTo>
                <a:cubicBezTo>
                  <a:pt x="1859729" y="772140"/>
                  <a:pt x="1860933" y="772416"/>
                  <a:pt x="1861676" y="772644"/>
                </a:cubicBezTo>
                <a:cubicBezTo>
                  <a:pt x="1862907" y="773048"/>
                  <a:pt x="1864169" y="773907"/>
                  <a:pt x="1865423" y="775182"/>
                </a:cubicBezTo>
                <a:cubicBezTo>
                  <a:pt x="1866673" y="776480"/>
                  <a:pt x="1867835" y="777970"/>
                  <a:pt x="1868889" y="779649"/>
                </a:cubicBezTo>
                <a:cubicBezTo>
                  <a:pt x="1869951" y="781341"/>
                  <a:pt x="1870805" y="783081"/>
                  <a:pt x="1871448" y="784908"/>
                </a:cubicBezTo>
                <a:cubicBezTo>
                  <a:pt x="1872113" y="786701"/>
                  <a:pt x="1872436" y="788354"/>
                  <a:pt x="1872436" y="789857"/>
                </a:cubicBezTo>
                <a:lnTo>
                  <a:pt x="1872436" y="813228"/>
                </a:lnTo>
                <a:cubicBezTo>
                  <a:pt x="1872078" y="813408"/>
                  <a:pt x="1871694" y="813671"/>
                  <a:pt x="1871247" y="814074"/>
                </a:cubicBezTo>
                <a:cubicBezTo>
                  <a:pt x="1870805" y="814491"/>
                  <a:pt x="1870328" y="814872"/>
                  <a:pt x="1869820" y="815262"/>
                </a:cubicBezTo>
                <a:cubicBezTo>
                  <a:pt x="1869301" y="815639"/>
                  <a:pt x="1868812" y="815981"/>
                  <a:pt x="1868358" y="816257"/>
                </a:cubicBezTo>
                <a:cubicBezTo>
                  <a:pt x="1867893" y="816551"/>
                  <a:pt x="1867504" y="816678"/>
                  <a:pt x="1867193" y="816678"/>
                </a:cubicBezTo>
                <a:lnTo>
                  <a:pt x="1794532" y="816678"/>
                </a:lnTo>
                <a:cubicBezTo>
                  <a:pt x="1793293" y="816678"/>
                  <a:pt x="1792362" y="816248"/>
                  <a:pt x="1791720" y="815376"/>
                </a:cubicBezTo>
                <a:cubicBezTo>
                  <a:pt x="1791077" y="814517"/>
                  <a:pt x="1790288" y="813798"/>
                  <a:pt x="1789338" y="813228"/>
                </a:cubicBezTo>
                <a:lnTo>
                  <a:pt x="1789338" y="789857"/>
                </a:lnTo>
                <a:cubicBezTo>
                  <a:pt x="1789338" y="788354"/>
                  <a:pt x="1789658" y="786701"/>
                  <a:pt x="1790312" y="784908"/>
                </a:cubicBezTo>
                <a:cubicBezTo>
                  <a:pt x="1790977" y="783081"/>
                  <a:pt x="1791820" y="781362"/>
                  <a:pt x="1792858" y="779710"/>
                </a:cubicBezTo>
                <a:cubicBezTo>
                  <a:pt x="1793901" y="778058"/>
                  <a:pt x="1795051" y="776567"/>
                  <a:pt x="1796328" y="775230"/>
                </a:cubicBezTo>
                <a:cubicBezTo>
                  <a:pt x="1797590" y="773920"/>
                  <a:pt x="1798852" y="773034"/>
                  <a:pt x="1800095" y="772631"/>
                </a:cubicBezTo>
                <a:cubicBezTo>
                  <a:pt x="1800726" y="772403"/>
                  <a:pt x="1801888" y="772127"/>
                  <a:pt x="1803584" y="771825"/>
                </a:cubicBezTo>
                <a:cubicBezTo>
                  <a:pt x="1805277" y="771518"/>
                  <a:pt x="1807097" y="771229"/>
                  <a:pt x="1809024" y="770939"/>
                </a:cubicBezTo>
                <a:cubicBezTo>
                  <a:pt x="1810951" y="770663"/>
                  <a:pt x="1812790" y="770396"/>
                  <a:pt x="1814560" y="770172"/>
                </a:cubicBezTo>
                <a:cubicBezTo>
                  <a:pt x="1816322" y="769918"/>
                  <a:pt x="1817684" y="769729"/>
                  <a:pt x="1818638" y="769550"/>
                </a:cubicBezTo>
                <a:cubicBezTo>
                  <a:pt x="1815391" y="767178"/>
                  <a:pt x="1812856" y="764088"/>
                  <a:pt x="1810982" y="760288"/>
                </a:cubicBezTo>
                <a:cubicBezTo>
                  <a:pt x="1809120" y="756479"/>
                  <a:pt x="1808201" y="752337"/>
                  <a:pt x="1808201" y="747857"/>
                </a:cubicBezTo>
                <a:cubicBezTo>
                  <a:pt x="1808201" y="744324"/>
                  <a:pt x="1808801" y="740980"/>
                  <a:pt x="1809997" y="737864"/>
                </a:cubicBezTo>
                <a:cubicBezTo>
                  <a:pt x="1811194" y="734747"/>
                  <a:pt x="1812821" y="732008"/>
                  <a:pt x="1814849" y="729645"/>
                </a:cubicBezTo>
                <a:cubicBezTo>
                  <a:pt x="1816888" y="727300"/>
                  <a:pt x="1819257" y="725433"/>
                  <a:pt x="1822008" y="724070"/>
                </a:cubicBezTo>
                <a:cubicBezTo>
                  <a:pt x="1824743" y="722693"/>
                  <a:pt x="1827667" y="722001"/>
                  <a:pt x="1830780" y="722001"/>
                </a:cubicBezTo>
                <a:close/>
                <a:moveTo>
                  <a:pt x="1699088" y="700205"/>
                </a:moveTo>
                <a:lnTo>
                  <a:pt x="1755281" y="756398"/>
                </a:lnTo>
                <a:lnTo>
                  <a:pt x="1699088" y="812587"/>
                </a:lnTo>
                <a:lnTo>
                  <a:pt x="1642894" y="756398"/>
                </a:lnTo>
                <a:lnTo>
                  <a:pt x="1699088" y="700205"/>
                </a:lnTo>
                <a:close/>
                <a:moveTo>
                  <a:pt x="376165" y="692712"/>
                </a:moveTo>
                <a:cubicBezTo>
                  <a:pt x="380833" y="692712"/>
                  <a:pt x="385254" y="693708"/>
                  <a:pt x="389374" y="695689"/>
                </a:cubicBezTo>
                <a:cubicBezTo>
                  <a:pt x="393511" y="697650"/>
                  <a:pt x="397135" y="700337"/>
                  <a:pt x="400228" y="703711"/>
                </a:cubicBezTo>
                <a:cubicBezTo>
                  <a:pt x="403333" y="707110"/>
                  <a:pt x="405763" y="711052"/>
                  <a:pt x="407540" y="715536"/>
                </a:cubicBezTo>
                <a:cubicBezTo>
                  <a:pt x="409300" y="720020"/>
                  <a:pt x="410200" y="724832"/>
                  <a:pt x="410200" y="729916"/>
                </a:cubicBezTo>
                <a:cubicBezTo>
                  <a:pt x="410200" y="736254"/>
                  <a:pt x="408821" y="742176"/>
                  <a:pt x="406063" y="747714"/>
                </a:cubicBezTo>
                <a:cubicBezTo>
                  <a:pt x="403385" y="753251"/>
                  <a:pt x="399565" y="757735"/>
                  <a:pt x="394677" y="761147"/>
                </a:cubicBezTo>
                <a:cubicBezTo>
                  <a:pt x="396126" y="761399"/>
                  <a:pt x="398151" y="761677"/>
                  <a:pt x="400811" y="762036"/>
                </a:cubicBezTo>
                <a:cubicBezTo>
                  <a:pt x="403449" y="762364"/>
                  <a:pt x="406207" y="762749"/>
                  <a:pt x="409086" y="763146"/>
                </a:cubicBezTo>
                <a:cubicBezTo>
                  <a:pt x="411943" y="763563"/>
                  <a:pt x="414621" y="763979"/>
                  <a:pt x="417114" y="764414"/>
                </a:cubicBezTo>
                <a:cubicBezTo>
                  <a:pt x="419589" y="764855"/>
                  <a:pt x="421395" y="765253"/>
                  <a:pt x="422509" y="765581"/>
                </a:cubicBezTo>
                <a:cubicBezTo>
                  <a:pt x="424356" y="766161"/>
                  <a:pt x="426249" y="767397"/>
                  <a:pt x="428130" y="769232"/>
                </a:cubicBezTo>
                <a:cubicBezTo>
                  <a:pt x="430005" y="771099"/>
                  <a:pt x="431748" y="773243"/>
                  <a:pt x="433329" y="775659"/>
                </a:cubicBezTo>
                <a:cubicBezTo>
                  <a:pt x="434922" y="778093"/>
                  <a:pt x="436203" y="780597"/>
                  <a:pt x="437167" y="783227"/>
                </a:cubicBezTo>
                <a:cubicBezTo>
                  <a:pt x="438165" y="785807"/>
                  <a:pt x="438644" y="788184"/>
                  <a:pt x="438644" y="790348"/>
                </a:cubicBezTo>
                <a:lnTo>
                  <a:pt x="438644" y="823975"/>
                </a:lnTo>
                <a:cubicBezTo>
                  <a:pt x="438113" y="824234"/>
                  <a:pt x="437536" y="824612"/>
                  <a:pt x="436867" y="825193"/>
                </a:cubicBezTo>
                <a:cubicBezTo>
                  <a:pt x="436203" y="825792"/>
                  <a:pt x="435487" y="826340"/>
                  <a:pt x="434726" y="826902"/>
                </a:cubicBezTo>
                <a:cubicBezTo>
                  <a:pt x="433947" y="827444"/>
                  <a:pt x="433214" y="827936"/>
                  <a:pt x="432533" y="828333"/>
                </a:cubicBezTo>
                <a:cubicBezTo>
                  <a:pt x="431835" y="828756"/>
                  <a:pt x="431252" y="828939"/>
                  <a:pt x="430784" y="828939"/>
                </a:cubicBezTo>
                <a:lnTo>
                  <a:pt x="321793" y="828939"/>
                </a:lnTo>
                <a:cubicBezTo>
                  <a:pt x="319935" y="828939"/>
                  <a:pt x="318539" y="828321"/>
                  <a:pt x="317575" y="827066"/>
                </a:cubicBezTo>
                <a:cubicBezTo>
                  <a:pt x="316611" y="825830"/>
                  <a:pt x="315428" y="824795"/>
                  <a:pt x="314003" y="823975"/>
                </a:cubicBezTo>
                <a:lnTo>
                  <a:pt x="314003" y="790348"/>
                </a:lnTo>
                <a:cubicBezTo>
                  <a:pt x="314003" y="788184"/>
                  <a:pt x="314482" y="785807"/>
                  <a:pt x="315463" y="783227"/>
                </a:cubicBezTo>
                <a:cubicBezTo>
                  <a:pt x="316461" y="780597"/>
                  <a:pt x="317725" y="778125"/>
                  <a:pt x="319283" y="775747"/>
                </a:cubicBezTo>
                <a:cubicBezTo>
                  <a:pt x="320847" y="773370"/>
                  <a:pt x="322572" y="771225"/>
                  <a:pt x="324488" y="769302"/>
                </a:cubicBezTo>
                <a:cubicBezTo>
                  <a:pt x="326381" y="767416"/>
                  <a:pt x="328274" y="766142"/>
                  <a:pt x="330138" y="765562"/>
                </a:cubicBezTo>
                <a:cubicBezTo>
                  <a:pt x="331084" y="765234"/>
                  <a:pt x="332827" y="764836"/>
                  <a:pt x="335372" y="764401"/>
                </a:cubicBezTo>
                <a:cubicBezTo>
                  <a:pt x="337911" y="763960"/>
                  <a:pt x="340640" y="763544"/>
                  <a:pt x="343531" y="763127"/>
                </a:cubicBezTo>
                <a:cubicBezTo>
                  <a:pt x="346423" y="762730"/>
                  <a:pt x="349181" y="762345"/>
                  <a:pt x="351835" y="762024"/>
                </a:cubicBezTo>
                <a:cubicBezTo>
                  <a:pt x="354478" y="761658"/>
                  <a:pt x="356521" y="761387"/>
                  <a:pt x="357952" y="761128"/>
                </a:cubicBezTo>
                <a:cubicBezTo>
                  <a:pt x="353082" y="757716"/>
                  <a:pt x="349279" y="753270"/>
                  <a:pt x="346469" y="747802"/>
                </a:cubicBezTo>
                <a:cubicBezTo>
                  <a:pt x="343676" y="742321"/>
                  <a:pt x="342296" y="736361"/>
                  <a:pt x="342296" y="729916"/>
                </a:cubicBezTo>
                <a:cubicBezTo>
                  <a:pt x="342296" y="724832"/>
                  <a:pt x="343197" y="720020"/>
                  <a:pt x="344991" y="715536"/>
                </a:cubicBezTo>
                <a:cubicBezTo>
                  <a:pt x="346786" y="711052"/>
                  <a:pt x="349227" y="707110"/>
                  <a:pt x="352268" y="703711"/>
                </a:cubicBezTo>
                <a:cubicBezTo>
                  <a:pt x="355327" y="700337"/>
                  <a:pt x="358881" y="697650"/>
                  <a:pt x="363002" y="695689"/>
                </a:cubicBezTo>
                <a:cubicBezTo>
                  <a:pt x="367110" y="693708"/>
                  <a:pt x="371496" y="692712"/>
                  <a:pt x="376165" y="692712"/>
                </a:cubicBezTo>
                <a:close/>
                <a:moveTo>
                  <a:pt x="490756" y="652526"/>
                </a:moveTo>
                <a:lnTo>
                  <a:pt x="546950" y="709060"/>
                </a:lnTo>
                <a:lnTo>
                  <a:pt x="490756" y="765589"/>
                </a:lnTo>
                <a:lnTo>
                  <a:pt x="434563" y="709060"/>
                </a:lnTo>
                <a:lnTo>
                  <a:pt x="490756" y="652526"/>
                </a:lnTo>
                <a:close/>
                <a:moveTo>
                  <a:pt x="219217" y="645033"/>
                </a:moveTo>
                <a:cubicBezTo>
                  <a:pt x="222329" y="645033"/>
                  <a:pt x="225276" y="645725"/>
                  <a:pt x="228023" y="647102"/>
                </a:cubicBezTo>
                <a:cubicBezTo>
                  <a:pt x="230782" y="648465"/>
                  <a:pt x="233198" y="650332"/>
                  <a:pt x="235260" y="652677"/>
                </a:cubicBezTo>
                <a:cubicBezTo>
                  <a:pt x="237329" y="655040"/>
                  <a:pt x="238949" y="657779"/>
                  <a:pt x="240134" y="660896"/>
                </a:cubicBezTo>
                <a:cubicBezTo>
                  <a:pt x="241307" y="664012"/>
                  <a:pt x="241907" y="667357"/>
                  <a:pt x="241907" y="670890"/>
                </a:cubicBezTo>
                <a:cubicBezTo>
                  <a:pt x="241907" y="675295"/>
                  <a:pt x="240988" y="679411"/>
                  <a:pt x="239149" y="683259"/>
                </a:cubicBezTo>
                <a:cubicBezTo>
                  <a:pt x="237364" y="687108"/>
                  <a:pt x="234817" y="690224"/>
                  <a:pt x="231559" y="692595"/>
                </a:cubicBezTo>
                <a:cubicBezTo>
                  <a:pt x="232524" y="692771"/>
                  <a:pt x="233875" y="692964"/>
                  <a:pt x="235648" y="693213"/>
                </a:cubicBezTo>
                <a:cubicBezTo>
                  <a:pt x="237406" y="693441"/>
                  <a:pt x="239245" y="693709"/>
                  <a:pt x="241165" y="693985"/>
                </a:cubicBezTo>
                <a:cubicBezTo>
                  <a:pt x="243069" y="694274"/>
                  <a:pt x="244854" y="694563"/>
                  <a:pt x="246516" y="694866"/>
                </a:cubicBezTo>
                <a:cubicBezTo>
                  <a:pt x="248167" y="695173"/>
                  <a:pt x="249371" y="695449"/>
                  <a:pt x="250113" y="695677"/>
                </a:cubicBezTo>
                <a:cubicBezTo>
                  <a:pt x="251344" y="696080"/>
                  <a:pt x="252606" y="696939"/>
                  <a:pt x="253860" y="698215"/>
                </a:cubicBezTo>
                <a:cubicBezTo>
                  <a:pt x="255111" y="699512"/>
                  <a:pt x="256273" y="701002"/>
                  <a:pt x="257327" y="702681"/>
                </a:cubicBezTo>
                <a:cubicBezTo>
                  <a:pt x="258389" y="704373"/>
                  <a:pt x="259243" y="706113"/>
                  <a:pt x="259885" y="707941"/>
                </a:cubicBezTo>
                <a:cubicBezTo>
                  <a:pt x="260551" y="709734"/>
                  <a:pt x="260874" y="711386"/>
                  <a:pt x="260874" y="712890"/>
                </a:cubicBezTo>
                <a:lnTo>
                  <a:pt x="260874" y="736261"/>
                </a:lnTo>
                <a:cubicBezTo>
                  <a:pt x="260516" y="736441"/>
                  <a:pt x="260131" y="736704"/>
                  <a:pt x="259685" y="737107"/>
                </a:cubicBezTo>
                <a:cubicBezTo>
                  <a:pt x="259243" y="737524"/>
                  <a:pt x="258766" y="737905"/>
                  <a:pt x="258258" y="738295"/>
                </a:cubicBezTo>
                <a:cubicBezTo>
                  <a:pt x="257738" y="738672"/>
                  <a:pt x="257250" y="739014"/>
                  <a:pt x="256796" y="739290"/>
                </a:cubicBezTo>
                <a:cubicBezTo>
                  <a:pt x="256330" y="739584"/>
                  <a:pt x="255942" y="739711"/>
                  <a:pt x="255630" y="739711"/>
                </a:cubicBezTo>
                <a:lnTo>
                  <a:pt x="182969" y="739711"/>
                </a:lnTo>
                <a:cubicBezTo>
                  <a:pt x="181731" y="739711"/>
                  <a:pt x="180800" y="739281"/>
                  <a:pt x="180157" y="738409"/>
                </a:cubicBezTo>
                <a:cubicBezTo>
                  <a:pt x="179515" y="737550"/>
                  <a:pt x="178726" y="736831"/>
                  <a:pt x="177776" y="736261"/>
                </a:cubicBezTo>
                <a:lnTo>
                  <a:pt x="177776" y="712890"/>
                </a:lnTo>
                <a:cubicBezTo>
                  <a:pt x="177776" y="711386"/>
                  <a:pt x="178095" y="709734"/>
                  <a:pt x="178749" y="707941"/>
                </a:cubicBezTo>
                <a:cubicBezTo>
                  <a:pt x="179415" y="706113"/>
                  <a:pt x="180257" y="704395"/>
                  <a:pt x="181296" y="702743"/>
                </a:cubicBezTo>
                <a:cubicBezTo>
                  <a:pt x="182338" y="701090"/>
                  <a:pt x="183489" y="699600"/>
                  <a:pt x="184766" y="698263"/>
                </a:cubicBezTo>
                <a:cubicBezTo>
                  <a:pt x="186028" y="696952"/>
                  <a:pt x="187290" y="696067"/>
                  <a:pt x="188532" y="695664"/>
                </a:cubicBezTo>
                <a:cubicBezTo>
                  <a:pt x="189163" y="695436"/>
                  <a:pt x="190325" y="695160"/>
                  <a:pt x="192022" y="694857"/>
                </a:cubicBezTo>
                <a:cubicBezTo>
                  <a:pt x="193714" y="694550"/>
                  <a:pt x="195534" y="694261"/>
                  <a:pt x="197462" y="693972"/>
                </a:cubicBezTo>
                <a:cubicBezTo>
                  <a:pt x="199389" y="693696"/>
                  <a:pt x="201228" y="693428"/>
                  <a:pt x="202998" y="693205"/>
                </a:cubicBezTo>
                <a:cubicBezTo>
                  <a:pt x="204760" y="692950"/>
                  <a:pt x="206121" y="692762"/>
                  <a:pt x="207075" y="692582"/>
                </a:cubicBezTo>
                <a:cubicBezTo>
                  <a:pt x="203829" y="690211"/>
                  <a:pt x="201293" y="687121"/>
                  <a:pt x="199420" y="683320"/>
                </a:cubicBezTo>
                <a:cubicBezTo>
                  <a:pt x="197558" y="679511"/>
                  <a:pt x="196638" y="675369"/>
                  <a:pt x="196638" y="670890"/>
                </a:cubicBezTo>
                <a:cubicBezTo>
                  <a:pt x="196638" y="667357"/>
                  <a:pt x="197238" y="664012"/>
                  <a:pt x="198435" y="660896"/>
                </a:cubicBezTo>
                <a:cubicBezTo>
                  <a:pt x="199631" y="657779"/>
                  <a:pt x="201259" y="655040"/>
                  <a:pt x="203286" y="652677"/>
                </a:cubicBezTo>
                <a:cubicBezTo>
                  <a:pt x="205325" y="650332"/>
                  <a:pt x="207695" y="648465"/>
                  <a:pt x="210446" y="647102"/>
                </a:cubicBezTo>
                <a:cubicBezTo>
                  <a:pt x="213181" y="645725"/>
                  <a:pt x="216105" y="645033"/>
                  <a:pt x="219217" y="645033"/>
                </a:cubicBezTo>
                <a:close/>
                <a:moveTo>
                  <a:pt x="1373165" y="629367"/>
                </a:moveTo>
                <a:lnTo>
                  <a:pt x="1465118" y="720979"/>
                </a:lnTo>
                <a:lnTo>
                  <a:pt x="1373165" y="812592"/>
                </a:lnTo>
                <a:lnTo>
                  <a:pt x="1281212" y="720979"/>
                </a:lnTo>
                <a:lnTo>
                  <a:pt x="1373165" y="629367"/>
                </a:lnTo>
                <a:close/>
                <a:moveTo>
                  <a:pt x="1515522" y="587818"/>
                </a:moveTo>
                <a:lnTo>
                  <a:pt x="1572056" y="644011"/>
                </a:lnTo>
                <a:lnTo>
                  <a:pt x="1515522" y="700200"/>
                </a:lnTo>
                <a:lnTo>
                  <a:pt x="1458988" y="644011"/>
                </a:lnTo>
                <a:lnTo>
                  <a:pt x="1515522" y="587818"/>
                </a:lnTo>
                <a:close/>
                <a:moveTo>
                  <a:pt x="654408" y="580326"/>
                </a:moveTo>
                <a:cubicBezTo>
                  <a:pt x="659051" y="580326"/>
                  <a:pt x="663447" y="581317"/>
                  <a:pt x="667545" y="583288"/>
                </a:cubicBezTo>
                <a:cubicBezTo>
                  <a:pt x="671660" y="585239"/>
                  <a:pt x="675264" y="587913"/>
                  <a:pt x="678340" y="591270"/>
                </a:cubicBezTo>
                <a:cubicBezTo>
                  <a:pt x="681428" y="594652"/>
                  <a:pt x="683844" y="598574"/>
                  <a:pt x="685612" y="603036"/>
                </a:cubicBezTo>
                <a:cubicBezTo>
                  <a:pt x="687362" y="607498"/>
                  <a:pt x="688258" y="612286"/>
                  <a:pt x="688258" y="617343"/>
                </a:cubicBezTo>
                <a:cubicBezTo>
                  <a:pt x="688258" y="623650"/>
                  <a:pt x="686886" y="629543"/>
                  <a:pt x="684143" y="635052"/>
                </a:cubicBezTo>
                <a:cubicBezTo>
                  <a:pt x="681480" y="640562"/>
                  <a:pt x="677680" y="645024"/>
                  <a:pt x="672819" y="648418"/>
                </a:cubicBezTo>
                <a:cubicBezTo>
                  <a:pt x="674260" y="648669"/>
                  <a:pt x="676274" y="648946"/>
                  <a:pt x="678920" y="649303"/>
                </a:cubicBezTo>
                <a:cubicBezTo>
                  <a:pt x="681543" y="649630"/>
                  <a:pt x="684286" y="650012"/>
                  <a:pt x="687150" y="650408"/>
                </a:cubicBezTo>
                <a:cubicBezTo>
                  <a:pt x="689991" y="650822"/>
                  <a:pt x="692654" y="651236"/>
                  <a:pt x="695133" y="651669"/>
                </a:cubicBezTo>
                <a:cubicBezTo>
                  <a:pt x="697595" y="652108"/>
                  <a:pt x="699392" y="652504"/>
                  <a:pt x="700499" y="652830"/>
                </a:cubicBezTo>
                <a:cubicBezTo>
                  <a:pt x="702336" y="653407"/>
                  <a:pt x="704218" y="654637"/>
                  <a:pt x="706089" y="656463"/>
                </a:cubicBezTo>
                <a:cubicBezTo>
                  <a:pt x="707954" y="658321"/>
                  <a:pt x="709688" y="660454"/>
                  <a:pt x="711260" y="662858"/>
                </a:cubicBezTo>
                <a:cubicBezTo>
                  <a:pt x="712844" y="665280"/>
                  <a:pt x="714118" y="667771"/>
                  <a:pt x="715077" y="670388"/>
                </a:cubicBezTo>
                <a:cubicBezTo>
                  <a:pt x="716070" y="672955"/>
                  <a:pt x="716546" y="675320"/>
                  <a:pt x="716546" y="677473"/>
                </a:cubicBezTo>
                <a:lnTo>
                  <a:pt x="716546" y="710932"/>
                </a:lnTo>
                <a:cubicBezTo>
                  <a:pt x="716018" y="711190"/>
                  <a:pt x="715444" y="711566"/>
                  <a:pt x="714778" y="712143"/>
                </a:cubicBezTo>
                <a:cubicBezTo>
                  <a:pt x="714118" y="712740"/>
                  <a:pt x="713407" y="713285"/>
                  <a:pt x="712649" y="713844"/>
                </a:cubicBezTo>
                <a:cubicBezTo>
                  <a:pt x="711874" y="714384"/>
                  <a:pt x="711145" y="714873"/>
                  <a:pt x="710468" y="715268"/>
                </a:cubicBezTo>
                <a:cubicBezTo>
                  <a:pt x="709774" y="715689"/>
                  <a:pt x="709194" y="715871"/>
                  <a:pt x="708729" y="715871"/>
                </a:cubicBezTo>
                <a:lnTo>
                  <a:pt x="600334" y="715871"/>
                </a:lnTo>
                <a:cubicBezTo>
                  <a:pt x="598486" y="715871"/>
                  <a:pt x="597097" y="715256"/>
                  <a:pt x="596138" y="714007"/>
                </a:cubicBezTo>
                <a:cubicBezTo>
                  <a:pt x="595180" y="712777"/>
                  <a:pt x="594003" y="711748"/>
                  <a:pt x="592586" y="710932"/>
                </a:cubicBezTo>
                <a:lnTo>
                  <a:pt x="592586" y="677473"/>
                </a:lnTo>
                <a:cubicBezTo>
                  <a:pt x="592586" y="675320"/>
                  <a:pt x="593062" y="672955"/>
                  <a:pt x="594038" y="670388"/>
                </a:cubicBezTo>
                <a:cubicBezTo>
                  <a:pt x="595031" y="667771"/>
                  <a:pt x="596288" y="665311"/>
                  <a:pt x="597837" y="662946"/>
                </a:cubicBezTo>
                <a:cubicBezTo>
                  <a:pt x="599392" y="660580"/>
                  <a:pt x="601108" y="658446"/>
                  <a:pt x="603014" y="656532"/>
                </a:cubicBezTo>
                <a:cubicBezTo>
                  <a:pt x="604896" y="654656"/>
                  <a:pt x="606779" y="653388"/>
                  <a:pt x="608632" y="652811"/>
                </a:cubicBezTo>
                <a:cubicBezTo>
                  <a:pt x="609574" y="652485"/>
                  <a:pt x="611307" y="652089"/>
                  <a:pt x="613838" y="651656"/>
                </a:cubicBezTo>
                <a:cubicBezTo>
                  <a:pt x="616363" y="651217"/>
                  <a:pt x="619078" y="650803"/>
                  <a:pt x="621953" y="650389"/>
                </a:cubicBezTo>
                <a:cubicBezTo>
                  <a:pt x="624828" y="649993"/>
                  <a:pt x="627572" y="649611"/>
                  <a:pt x="630212" y="649291"/>
                </a:cubicBezTo>
                <a:cubicBezTo>
                  <a:pt x="632840" y="648927"/>
                  <a:pt x="634872" y="648657"/>
                  <a:pt x="636295" y="648400"/>
                </a:cubicBezTo>
                <a:cubicBezTo>
                  <a:pt x="631451" y="645005"/>
                  <a:pt x="627669" y="640581"/>
                  <a:pt x="624874" y="635140"/>
                </a:cubicBezTo>
                <a:cubicBezTo>
                  <a:pt x="622097" y="629687"/>
                  <a:pt x="620725" y="623757"/>
                  <a:pt x="620725" y="617343"/>
                </a:cubicBezTo>
                <a:cubicBezTo>
                  <a:pt x="620725" y="612286"/>
                  <a:pt x="621620" y="607498"/>
                  <a:pt x="623405" y="603036"/>
                </a:cubicBezTo>
                <a:cubicBezTo>
                  <a:pt x="625190" y="598574"/>
                  <a:pt x="627618" y="594652"/>
                  <a:pt x="630642" y="591270"/>
                </a:cubicBezTo>
                <a:cubicBezTo>
                  <a:pt x="633684" y="587913"/>
                  <a:pt x="637219" y="585239"/>
                  <a:pt x="641317" y="583288"/>
                </a:cubicBezTo>
                <a:cubicBezTo>
                  <a:pt x="645403" y="581317"/>
                  <a:pt x="649765" y="580326"/>
                  <a:pt x="654408" y="580326"/>
                </a:cubicBezTo>
                <a:close/>
                <a:moveTo>
                  <a:pt x="1823736" y="576239"/>
                </a:moveTo>
                <a:lnTo>
                  <a:pt x="1879929" y="632432"/>
                </a:lnTo>
                <a:lnTo>
                  <a:pt x="1823736" y="688621"/>
                </a:lnTo>
                <a:lnTo>
                  <a:pt x="1767542" y="632432"/>
                </a:lnTo>
                <a:lnTo>
                  <a:pt x="1823736" y="576239"/>
                </a:lnTo>
                <a:close/>
                <a:moveTo>
                  <a:pt x="1213440" y="563978"/>
                </a:moveTo>
                <a:lnTo>
                  <a:pt x="1269633" y="620171"/>
                </a:lnTo>
                <a:lnTo>
                  <a:pt x="1213440" y="676360"/>
                </a:lnTo>
                <a:lnTo>
                  <a:pt x="1157246" y="620171"/>
                </a:lnTo>
                <a:lnTo>
                  <a:pt x="1213440" y="563978"/>
                </a:lnTo>
                <a:close/>
                <a:moveTo>
                  <a:pt x="1667594" y="544225"/>
                </a:moveTo>
                <a:cubicBezTo>
                  <a:pt x="1672263" y="544225"/>
                  <a:pt x="1676683" y="545221"/>
                  <a:pt x="1680803" y="547202"/>
                </a:cubicBezTo>
                <a:cubicBezTo>
                  <a:pt x="1684941" y="549163"/>
                  <a:pt x="1688565" y="551850"/>
                  <a:pt x="1691658" y="555224"/>
                </a:cubicBezTo>
                <a:cubicBezTo>
                  <a:pt x="1694763" y="558623"/>
                  <a:pt x="1697192" y="562565"/>
                  <a:pt x="1698969" y="567049"/>
                </a:cubicBezTo>
                <a:cubicBezTo>
                  <a:pt x="1700729" y="571533"/>
                  <a:pt x="1701630" y="576345"/>
                  <a:pt x="1701630" y="581429"/>
                </a:cubicBezTo>
                <a:cubicBezTo>
                  <a:pt x="1701630" y="587767"/>
                  <a:pt x="1700251" y="593689"/>
                  <a:pt x="1697492" y="599227"/>
                </a:cubicBezTo>
                <a:cubicBezTo>
                  <a:pt x="1694815" y="604764"/>
                  <a:pt x="1690994" y="609248"/>
                  <a:pt x="1686107" y="612660"/>
                </a:cubicBezTo>
                <a:cubicBezTo>
                  <a:pt x="1687555" y="612912"/>
                  <a:pt x="1689581" y="613190"/>
                  <a:pt x="1692241" y="613549"/>
                </a:cubicBezTo>
                <a:cubicBezTo>
                  <a:pt x="1694878" y="613877"/>
                  <a:pt x="1697636" y="614262"/>
                  <a:pt x="1700516" y="614659"/>
                </a:cubicBezTo>
                <a:cubicBezTo>
                  <a:pt x="1703372" y="615076"/>
                  <a:pt x="1706050" y="615492"/>
                  <a:pt x="1708543" y="615927"/>
                </a:cubicBezTo>
                <a:cubicBezTo>
                  <a:pt x="1711019" y="616368"/>
                  <a:pt x="1712825" y="616766"/>
                  <a:pt x="1713939" y="617094"/>
                </a:cubicBezTo>
                <a:cubicBezTo>
                  <a:pt x="1715785" y="617674"/>
                  <a:pt x="1717678" y="618910"/>
                  <a:pt x="1719559" y="620745"/>
                </a:cubicBezTo>
                <a:cubicBezTo>
                  <a:pt x="1721435" y="622612"/>
                  <a:pt x="1723177" y="624756"/>
                  <a:pt x="1724759" y="627172"/>
                </a:cubicBezTo>
                <a:cubicBezTo>
                  <a:pt x="1726351" y="629606"/>
                  <a:pt x="1727632" y="632110"/>
                  <a:pt x="1728596" y="634740"/>
                </a:cubicBezTo>
                <a:cubicBezTo>
                  <a:pt x="1729595" y="637320"/>
                  <a:pt x="1730073" y="639697"/>
                  <a:pt x="1730073" y="641861"/>
                </a:cubicBezTo>
                <a:lnTo>
                  <a:pt x="1730073" y="675488"/>
                </a:lnTo>
                <a:cubicBezTo>
                  <a:pt x="1729543" y="675747"/>
                  <a:pt x="1728966" y="676125"/>
                  <a:pt x="1728296" y="676706"/>
                </a:cubicBezTo>
                <a:cubicBezTo>
                  <a:pt x="1727632" y="677305"/>
                  <a:pt x="1726917" y="677853"/>
                  <a:pt x="1726155" y="678415"/>
                </a:cubicBezTo>
                <a:cubicBezTo>
                  <a:pt x="1725376" y="678957"/>
                  <a:pt x="1724643" y="679449"/>
                  <a:pt x="1723962" y="679846"/>
                </a:cubicBezTo>
                <a:cubicBezTo>
                  <a:pt x="1723264" y="680269"/>
                  <a:pt x="1722681" y="680452"/>
                  <a:pt x="1722214" y="680452"/>
                </a:cubicBezTo>
                <a:lnTo>
                  <a:pt x="1613223" y="680452"/>
                </a:lnTo>
                <a:cubicBezTo>
                  <a:pt x="1611365" y="680452"/>
                  <a:pt x="1609968" y="679834"/>
                  <a:pt x="1609004" y="678579"/>
                </a:cubicBezTo>
                <a:cubicBezTo>
                  <a:pt x="1608041" y="677343"/>
                  <a:pt x="1606858" y="676308"/>
                  <a:pt x="1605432" y="675488"/>
                </a:cubicBezTo>
                <a:lnTo>
                  <a:pt x="1605432" y="641861"/>
                </a:lnTo>
                <a:cubicBezTo>
                  <a:pt x="1605432" y="639697"/>
                  <a:pt x="1605911" y="637320"/>
                  <a:pt x="1606892" y="634740"/>
                </a:cubicBezTo>
                <a:cubicBezTo>
                  <a:pt x="1607891" y="632110"/>
                  <a:pt x="1609154" y="629638"/>
                  <a:pt x="1610712" y="627260"/>
                </a:cubicBezTo>
                <a:cubicBezTo>
                  <a:pt x="1612276" y="624883"/>
                  <a:pt x="1614002" y="622738"/>
                  <a:pt x="1615918" y="620815"/>
                </a:cubicBezTo>
                <a:cubicBezTo>
                  <a:pt x="1617810" y="618929"/>
                  <a:pt x="1619703" y="617655"/>
                  <a:pt x="1621567" y="617075"/>
                </a:cubicBezTo>
                <a:cubicBezTo>
                  <a:pt x="1622514" y="616747"/>
                  <a:pt x="1624256" y="616349"/>
                  <a:pt x="1626801" y="615914"/>
                </a:cubicBezTo>
                <a:cubicBezTo>
                  <a:pt x="1629340" y="615473"/>
                  <a:pt x="1632070" y="615057"/>
                  <a:pt x="1634961" y="614640"/>
                </a:cubicBezTo>
                <a:cubicBezTo>
                  <a:pt x="1637852" y="614243"/>
                  <a:pt x="1640610" y="613858"/>
                  <a:pt x="1643265" y="613537"/>
                </a:cubicBezTo>
                <a:cubicBezTo>
                  <a:pt x="1645908" y="613171"/>
                  <a:pt x="1647951" y="612900"/>
                  <a:pt x="1649382" y="612641"/>
                </a:cubicBezTo>
                <a:cubicBezTo>
                  <a:pt x="1644511" y="609229"/>
                  <a:pt x="1640709" y="604783"/>
                  <a:pt x="1637898" y="599315"/>
                </a:cubicBezTo>
                <a:cubicBezTo>
                  <a:pt x="1635105" y="593834"/>
                  <a:pt x="1633726" y="587874"/>
                  <a:pt x="1633726" y="581429"/>
                </a:cubicBezTo>
                <a:cubicBezTo>
                  <a:pt x="1633726" y="576345"/>
                  <a:pt x="1634626" y="571533"/>
                  <a:pt x="1636421" y="567049"/>
                </a:cubicBezTo>
                <a:cubicBezTo>
                  <a:pt x="1638216" y="562565"/>
                  <a:pt x="1640657" y="558623"/>
                  <a:pt x="1643698" y="555224"/>
                </a:cubicBezTo>
                <a:cubicBezTo>
                  <a:pt x="1646756" y="551850"/>
                  <a:pt x="1650311" y="549163"/>
                  <a:pt x="1654431" y="547202"/>
                </a:cubicBezTo>
                <a:cubicBezTo>
                  <a:pt x="1658540" y="545221"/>
                  <a:pt x="1662926" y="544225"/>
                  <a:pt x="1667594" y="544225"/>
                </a:cubicBezTo>
                <a:close/>
                <a:moveTo>
                  <a:pt x="509380" y="532646"/>
                </a:moveTo>
                <a:cubicBezTo>
                  <a:pt x="512492" y="532646"/>
                  <a:pt x="515439" y="533338"/>
                  <a:pt x="518186" y="534715"/>
                </a:cubicBezTo>
                <a:cubicBezTo>
                  <a:pt x="520945" y="536078"/>
                  <a:pt x="523361" y="537945"/>
                  <a:pt x="525423" y="540290"/>
                </a:cubicBezTo>
                <a:cubicBezTo>
                  <a:pt x="527492" y="542653"/>
                  <a:pt x="529112" y="545392"/>
                  <a:pt x="530297" y="548509"/>
                </a:cubicBezTo>
                <a:cubicBezTo>
                  <a:pt x="531470" y="551625"/>
                  <a:pt x="532070" y="554970"/>
                  <a:pt x="532070" y="558502"/>
                </a:cubicBezTo>
                <a:cubicBezTo>
                  <a:pt x="532070" y="562907"/>
                  <a:pt x="531151" y="567023"/>
                  <a:pt x="529312" y="570872"/>
                </a:cubicBezTo>
                <a:cubicBezTo>
                  <a:pt x="527527" y="574720"/>
                  <a:pt x="524980" y="577837"/>
                  <a:pt x="521722" y="580208"/>
                </a:cubicBezTo>
                <a:cubicBezTo>
                  <a:pt x="522687" y="580383"/>
                  <a:pt x="524038" y="580576"/>
                  <a:pt x="525811" y="580826"/>
                </a:cubicBezTo>
                <a:cubicBezTo>
                  <a:pt x="527569" y="581054"/>
                  <a:pt x="529408" y="581321"/>
                  <a:pt x="531328" y="581597"/>
                </a:cubicBezTo>
                <a:cubicBezTo>
                  <a:pt x="533232" y="581887"/>
                  <a:pt x="535017" y="582176"/>
                  <a:pt x="536679" y="582478"/>
                </a:cubicBezTo>
                <a:cubicBezTo>
                  <a:pt x="538330" y="582785"/>
                  <a:pt x="539534" y="583061"/>
                  <a:pt x="540276" y="583289"/>
                </a:cubicBezTo>
                <a:cubicBezTo>
                  <a:pt x="541507" y="583693"/>
                  <a:pt x="542769" y="584552"/>
                  <a:pt x="544023" y="585827"/>
                </a:cubicBezTo>
                <a:cubicBezTo>
                  <a:pt x="545274" y="587125"/>
                  <a:pt x="546436" y="588615"/>
                  <a:pt x="547490" y="590294"/>
                </a:cubicBezTo>
                <a:cubicBezTo>
                  <a:pt x="548552" y="591986"/>
                  <a:pt x="549406" y="593726"/>
                  <a:pt x="550048" y="595553"/>
                </a:cubicBezTo>
                <a:cubicBezTo>
                  <a:pt x="550714" y="597346"/>
                  <a:pt x="551037" y="598999"/>
                  <a:pt x="551037" y="600502"/>
                </a:cubicBezTo>
                <a:lnTo>
                  <a:pt x="551037" y="623873"/>
                </a:lnTo>
                <a:cubicBezTo>
                  <a:pt x="550679" y="624053"/>
                  <a:pt x="550294" y="624316"/>
                  <a:pt x="549848" y="624719"/>
                </a:cubicBezTo>
                <a:cubicBezTo>
                  <a:pt x="549406" y="625136"/>
                  <a:pt x="548929" y="625517"/>
                  <a:pt x="548421" y="625907"/>
                </a:cubicBezTo>
                <a:cubicBezTo>
                  <a:pt x="547901" y="626284"/>
                  <a:pt x="547413" y="626626"/>
                  <a:pt x="546959" y="626902"/>
                </a:cubicBezTo>
                <a:cubicBezTo>
                  <a:pt x="546493" y="627196"/>
                  <a:pt x="546105" y="627323"/>
                  <a:pt x="545793" y="627323"/>
                </a:cubicBezTo>
                <a:lnTo>
                  <a:pt x="473132" y="627323"/>
                </a:lnTo>
                <a:cubicBezTo>
                  <a:pt x="471894" y="627323"/>
                  <a:pt x="470963" y="626893"/>
                  <a:pt x="470320" y="626021"/>
                </a:cubicBezTo>
                <a:cubicBezTo>
                  <a:pt x="469678" y="625162"/>
                  <a:pt x="468889" y="624443"/>
                  <a:pt x="467939" y="623873"/>
                </a:cubicBezTo>
                <a:lnTo>
                  <a:pt x="467939" y="600502"/>
                </a:lnTo>
                <a:cubicBezTo>
                  <a:pt x="467939" y="598999"/>
                  <a:pt x="468258" y="597346"/>
                  <a:pt x="468912" y="595553"/>
                </a:cubicBezTo>
                <a:cubicBezTo>
                  <a:pt x="469578" y="593726"/>
                  <a:pt x="470420" y="592007"/>
                  <a:pt x="471459" y="590355"/>
                </a:cubicBezTo>
                <a:cubicBezTo>
                  <a:pt x="472501" y="588703"/>
                  <a:pt x="473652" y="587212"/>
                  <a:pt x="474929" y="585875"/>
                </a:cubicBezTo>
                <a:cubicBezTo>
                  <a:pt x="476191" y="584565"/>
                  <a:pt x="477453" y="583679"/>
                  <a:pt x="478695" y="583276"/>
                </a:cubicBezTo>
                <a:cubicBezTo>
                  <a:pt x="479326" y="583048"/>
                  <a:pt x="480488" y="582772"/>
                  <a:pt x="482185" y="582470"/>
                </a:cubicBezTo>
                <a:cubicBezTo>
                  <a:pt x="483877" y="582163"/>
                  <a:pt x="485697" y="581874"/>
                  <a:pt x="487625" y="581584"/>
                </a:cubicBezTo>
                <a:cubicBezTo>
                  <a:pt x="489552" y="581308"/>
                  <a:pt x="491391" y="581041"/>
                  <a:pt x="493161" y="580817"/>
                </a:cubicBezTo>
                <a:cubicBezTo>
                  <a:pt x="494923" y="580563"/>
                  <a:pt x="496284" y="580374"/>
                  <a:pt x="497238" y="580195"/>
                </a:cubicBezTo>
                <a:cubicBezTo>
                  <a:pt x="493992" y="577823"/>
                  <a:pt x="491456" y="574733"/>
                  <a:pt x="489583" y="570933"/>
                </a:cubicBezTo>
                <a:cubicBezTo>
                  <a:pt x="487721" y="567124"/>
                  <a:pt x="486801" y="562982"/>
                  <a:pt x="486801" y="558502"/>
                </a:cubicBezTo>
                <a:cubicBezTo>
                  <a:pt x="486801" y="554970"/>
                  <a:pt x="487401" y="551625"/>
                  <a:pt x="488598" y="548509"/>
                </a:cubicBezTo>
                <a:cubicBezTo>
                  <a:pt x="489794" y="545392"/>
                  <a:pt x="491422" y="542653"/>
                  <a:pt x="493449" y="540290"/>
                </a:cubicBezTo>
                <a:cubicBezTo>
                  <a:pt x="495488" y="537945"/>
                  <a:pt x="497858" y="536078"/>
                  <a:pt x="500609" y="534715"/>
                </a:cubicBezTo>
                <a:cubicBezTo>
                  <a:pt x="503344" y="533338"/>
                  <a:pt x="506268" y="532646"/>
                  <a:pt x="509380" y="532646"/>
                </a:cubicBezTo>
                <a:close/>
                <a:moveTo>
                  <a:pt x="780919" y="522429"/>
                </a:moveTo>
                <a:lnTo>
                  <a:pt x="837113" y="578622"/>
                </a:lnTo>
                <a:lnTo>
                  <a:pt x="780919" y="634811"/>
                </a:lnTo>
                <a:lnTo>
                  <a:pt x="724726" y="578622"/>
                </a:lnTo>
                <a:lnTo>
                  <a:pt x="780919" y="522429"/>
                </a:lnTo>
                <a:close/>
                <a:moveTo>
                  <a:pt x="1959962" y="475431"/>
                </a:moveTo>
                <a:lnTo>
                  <a:pt x="2051574" y="567043"/>
                </a:lnTo>
                <a:lnTo>
                  <a:pt x="1959962" y="658656"/>
                </a:lnTo>
                <a:lnTo>
                  <a:pt x="1868349" y="567043"/>
                </a:lnTo>
                <a:lnTo>
                  <a:pt x="1959962" y="475431"/>
                </a:lnTo>
                <a:close/>
                <a:moveTo>
                  <a:pt x="974464" y="467257"/>
                </a:moveTo>
                <a:cubicBezTo>
                  <a:pt x="981352" y="467257"/>
                  <a:pt x="987874" y="468732"/>
                  <a:pt x="993953" y="471663"/>
                </a:cubicBezTo>
                <a:cubicBezTo>
                  <a:pt x="1000057" y="474565"/>
                  <a:pt x="1005404" y="478542"/>
                  <a:pt x="1009968" y="483535"/>
                </a:cubicBezTo>
                <a:cubicBezTo>
                  <a:pt x="1014549" y="488567"/>
                  <a:pt x="1018133" y="494400"/>
                  <a:pt x="1020755" y="501037"/>
                </a:cubicBezTo>
                <a:cubicBezTo>
                  <a:pt x="1023352" y="507673"/>
                  <a:pt x="1024680" y="514795"/>
                  <a:pt x="1024680" y="522318"/>
                </a:cubicBezTo>
                <a:cubicBezTo>
                  <a:pt x="1024680" y="531699"/>
                  <a:pt x="1022646" y="540464"/>
                  <a:pt x="1018576" y="548659"/>
                </a:cubicBezTo>
                <a:cubicBezTo>
                  <a:pt x="1014625" y="556854"/>
                  <a:pt x="1008989" y="563491"/>
                  <a:pt x="1001777" y="568540"/>
                </a:cubicBezTo>
                <a:cubicBezTo>
                  <a:pt x="1003914" y="568914"/>
                  <a:pt x="1006903" y="569324"/>
                  <a:pt x="1010828" y="569857"/>
                </a:cubicBezTo>
                <a:cubicBezTo>
                  <a:pt x="1014719" y="570342"/>
                  <a:pt x="1018789" y="570911"/>
                  <a:pt x="1023037" y="571499"/>
                </a:cubicBezTo>
                <a:cubicBezTo>
                  <a:pt x="1027252" y="572115"/>
                  <a:pt x="1031202" y="572731"/>
                  <a:pt x="1034880" y="573375"/>
                </a:cubicBezTo>
                <a:cubicBezTo>
                  <a:pt x="1038533" y="574029"/>
                  <a:pt x="1041198" y="574617"/>
                  <a:pt x="1042841" y="575102"/>
                </a:cubicBezTo>
                <a:cubicBezTo>
                  <a:pt x="1045566" y="575961"/>
                  <a:pt x="1048358" y="577790"/>
                  <a:pt x="1051134" y="580507"/>
                </a:cubicBezTo>
                <a:cubicBezTo>
                  <a:pt x="1053901" y="583270"/>
                  <a:pt x="1056472" y="586443"/>
                  <a:pt x="1058805" y="590018"/>
                </a:cubicBezTo>
                <a:cubicBezTo>
                  <a:pt x="1061155" y="593621"/>
                  <a:pt x="1063045" y="597327"/>
                  <a:pt x="1064467" y="601219"/>
                </a:cubicBezTo>
                <a:cubicBezTo>
                  <a:pt x="1065940" y="605036"/>
                  <a:pt x="1066655" y="608555"/>
                  <a:pt x="1066655" y="611757"/>
                </a:cubicBezTo>
                <a:lnTo>
                  <a:pt x="1066655" y="661526"/>
                </a:lnTo>
                <a:cubicBezTo>
                  <a:pt x="1065863" y="661909"/>
                  <a:pt x="1065012" y="662469"/>
                  <a:pt x="1064024" y="663327"/>
                </a:cubicBezTo>
                <a:cubicBezTo>
                  <a:pt x="1063045" y="664214"/>
                  <a:pt x="1061989" y="665026"/>
                  <a:pt x="1060866" y="665857"/>
                </a:cubicBezTo>
                <a:cubicBezTo>
                  <a:pt x="1059716" y="666660"/>
                  <a:pt x="1058635" y="667388"/>
                  <a:pt x="1057630" y="667976"/>
                </a:cubicBezTo>
                <a:cubicBezTo>
                  <a:pt x="1056600" y="668601"/>
                  <a:pt x="1055740" y="668872"/>
                  <a:pt x="1055050" y="668872"/>
                </a:cubicBezTo>
                <a:lnTo>
                  <a:pt x="894243" y="668872"/>
                </a:lnTo>
                <a:cubicBezTo>
                  <a:pt x="891501" y="668872"/>
                  <a:pt x="889441" y="667957"/>
                  <a:pt x="888019" y="666100"/>
                </a:cubicBezTo>
                <a:cubicBezTo>
                  <a:pt x="886597" y="664270"/>
                  <a:pt x="884852" y="662739"/>
                  <a:pt x="882749" y="661526"/>
                </a:cubicBezTo>
                <a:lnTo>
                  <a:pt x="882749" y="611757"/>
                </a:lnTo>
                <a:cubicBezTo>
                  <a:pt x="882749" y="608555"/>
                  <a:pt x="883455" y="605036"/>
                  <a:pt x="884903" y="601219"/>
                </a:cubicBezTo>
                <a:cubicBezTo>
                  <a:pt x="886376" y="597327"/>
                  <a:pt x="888240" y="593668"/>
                  <a:pt x="890539" y="590149"/>
                </a:cubicBezTo>
                <a:cubicBezTo>
                  <a:pt x="892847" y="586630"/>
                  <a:pt x="895392" y="583456"/>
                  <a:pt x="898219" y="580609"/>
                </a:cubicBezTo>
                <a:cubicBezTo>
                  <a:pt x="901012" y="577818"/>
                  <a:pt x="903804" y="575933"/>
                  <a:pt x="906554" y="575074"/>
                </a:cubicBezTo>
                <a:cubicBezTo>
                  <a:pt x="907951" y="574589"/>
                  <a:pt x="910522" y="574001"/>
                  <a:pt x="914277" y="573357"/>
                </a:cubicBezTo>
                <a:cubicBezTo>
                  <a:pt x="918023" y="572703"/>
                  <a:pt x="922051" y="572087"/>
                  <a:pt x="926316" y="571471"/>
                </a:cubicBezTo>
                <a:cubicBezTo>
                  <a:pt x="930582" y="570883"/>
                  <a:pt x="934652" y="570314"/>
                  <a:pt x="938568" y="569838"/>
                </a:cubicBezTo>
                <a:cubicBezTo>
                  <a:pt x="942468" y="569296"/>
                  <a:pt x="945482" y="568895"/>
                  <a:pt x="947593" y="568512"/>
                </a:cubicBezTo>
                <a:cubicBezTo>
                  <a:pt x="940407" y="563463"/>
                  <a:pt x="934796" y="556882"/>
                  <a:pt x="930650" y="548790"/>
                </a:cubicBezTo>
                <a:cubicBezTo>
                  <a:pt x="926529" y="540678"/>
                  <a:pt x="924494" y="531858"/>
                  <a:pt x="924494" y="522318"/>
                </a:cubicBezTo>
                <a:cubicBezTo>
                  <a:pt x="924494" y="514795"/>
                  <a:pt x="925822" y="507673"/>
                  <a:pt x="928470" y="501037"/>
                </a:cubicBezTo>
                <a:cubicBezTo>
                  <a:pt x="931118" y="494400"/>
                  <a:pt x="934720" y="488567"/>
                  <a:pt x="939207" y="483535"/>
                </a:cubicBezTo>
                <a:cubicBezTo>
                  <a:pt x="943719" y="478542"/>
                  <a:pt x="948964" y="474565"/>
                  <a:pt x="955052" y="471663"/>
                </a:cubicBezTo>
                <a:cubicBezTo>
                  <a:pt x="961105" y="468732"/>
                  <a:pt x="967576" y="467257"/>
                  <a:pt x="974464" y="467257"/>
                </a:cubicBezTo>
                <a:close/>
                <a:moveTo>
                  <a:pt x="1793766" y="433882"/>
                </a:moveTo>
                <a:lnTo>
                  <a:pt x="1849959" y="490075"/>
                </a:lnTo>
                <a:lnTo>
                  <a:pt x="1793766" y="546264"/>
                </a:lnTo>
                <a:lnTo>
                  <a:pt x="1737572" y="490075"/>
                </a:lnTo>
                <a:lnTo>
                  <a:pt x="1793766" y="433882"/>
                </a:lnTo>
                <a:close/>
                <a:moveTo>
                  <a:pt x="1574781" y="433882"/>
                </a:moveTo>
                <a:lnTo>
                  <a:pt x="1631315" y="490075"/>
                </a:lnTo>
                <a:lnTo>
                  <a:pt x="1574781" y="546264"/>
                </a:lnTo>
                <a:lnTo>
                  <a:pt x="1518247" y="490075"/>
                </a:lnTo>
                <a:lnTo>
                  <a:pt x="1574781" y="433882"/>
                </a:lnTo>
                <a:close/>
                <a:moveTo>
                  <a:pt x="1412850" y="408680"/>
                </a:moveTo>
                <a:cubicBezTo>
                  <a:pt x="1417519" y="408680"/>
                  <a:pt x="1421939" y="409671"/>
                  <a:pt x="1426059" y="411642"/>
                </a:cubicBezTo>
                <a:cubicBezTo>
                  <a:pt x="1430197" y="413593"/>
                  <a:pt x="1433821" y="416267"/>
                  <a:pt x="1436914" y="419624"/>
                </a:cubicBezTo>
                <a:cubicBezTo>
                  <a:pt x="1440019" y="423006"/>
                  <a:pt x="1442448" y="426928"/>
                  <a:pt x="1444225" y="431390"/>
                </a:cubicBezTo>
                <a:cubicBezTo>
                  <a:pt x="1445985" y="435852"/>
                  <a:pt x="1446886" y="440640"/>
                  <a:pt x="1446886" y="445698"/>
                </a:cubicBezTo>
                <a:cubicBezTo>
                  <a:pt x="1446886" y="452004"/>
                  <a:pt x="1445507" y="457897"/>
                  <a:pt x="1442748" y="463406"/>
                </a:cubicBezTo>
                <a:cubicBezTo>
                  <a:pt x="1440071" y="468916"/>
                  <a:pt x="1436250" y="473378"/>
                  <a:pt x="1431363" y="476772"/>
                </a:cubicBezTo>
                <a:cubicBezTo>
                  <a:pt x="1432811" y="477023"/>
                  <a:pt x="1434837" y="477300"/>
                  <a:pt x="1437497" y="477657"/>
                </a:cubicBezTo>
                <a:cubicBezTo>
                  <a:pt x="1440134" y="477984"/>
                  <a:pt x="1442892" y="478366"/>
                  <a:pt x="1445772" y="478762"/>
                </a:cubicBezTo>
                <a:cubicBezTo>
                  <a:pt x="1448628" y="479176"/>
                  <a:pt x="1451306" y="479590"/>
                  <a:pt x="1453799" y="480023"/>
                </a:cubicBezTo>
                <a:cubicBezTo>
                  <a:pt x="1456275" y="480462"/>
                  <a:pt x="1458081" y="480858"/>
                  <a:pt x="1459195" y="481184"/>
                </a:cubicBezTo>
                <a:cubicBezTo>
                  <a:pt x="1461041" y="481761"/>
                  <a:pt x="1462934" y="482991"/>
                  <a:pt x="1464815" y="484817"/>
                </a:cubicBezTo>
                <a:cubicBezTo>
                  <a:pt x="1466691" y="486675"/>
                  <a:pt x="1468433" y="488808"/>
                  <a:pt x="1470015" y="491212"/>
                </a:cubicBezTo>
                <a:cubicBezTo>
                  <a:pt x="1471607" y="493634"/>
                  <a:pt x="1472888" y="496125"/>
                  <a:pt x="1473852" y="498742"/>
                </a:cubicBezTo>
                <a:cubicBezTo>
                  <a:pt x="1474851" y="501309"/>
                  <a:pt x="1475329" y="503674"/>
                  <a:pt x="1475329" y="505827"/>
                </a:cubicBezTo>
                <a:lnTo>
                  <a:pt x="1475329" y="539286"/>
                </a:lnTo>
                <a:cubicBezTo>
                  <a:pt x="1474799" y="539544"/>
                  <a:pt x="1474222" y="539920"/>
                  <a:pt x="1473552" y="540497"/>
                </a:cubicBezTo>
                <a:cubicBezTo>
                  <a:pt x="1472888" y="541094"/>
                  <a:pt x="1472173" y="541640"/>
                  <a:pt x="1471411" y="542198"/>
                </a:cubicBezTo>
                <a:cubicBezTo>
                  <a:pt x="1470632" y="542738"/>
                  <a:pt x="1469899" y="543227"/>
                  <a:pt x="1469218" y="543623"/>
                </a:cubicBezTo>
                <a:cubicBezTo>
                  <a:pt x="1468520" y="544043"/>
                  <a:pt x="1467937" y="544225"/>
                  <a:pt x="1467470" y="544225"/>
                </a:cubicBezTo>
                <a:lnTo>
                  <a:pt x="1358479" y="544225"/>
                </a:lnTo>
                <a:cubicBezTo>
                  <a:pt x="1356621" y="544225"/>
                  <a:pt x="1355224" y="543610"/>
                  <a:pt x="1354260" y="542361"/>
                </a:cubicBezTo>
                <a:cubicBezTo>
                  <a:pt x="1353297" y="541131"/>
                  <a:pt x="1352114" y="540102"/>
                  <a:pt x="1350688" y="539286"/>
                </a:cubicBezTo>
                <a:lnTo>
                  <a:pt x="1350688" y="505827"/>
                </a:lnTo>
                <a:cubicBezTo>
                  <a:pt x="1350688" y="503674"/>
                  <a:pt x="1351167" y="501309"/>
                  <a:pt x="1352148" y="498742"/>
                </a:cubicBezTo>
                <a:cubicBezTo>
                  <a:pt x="1353147" y="496125"/>
                  <a:pt x="1354410" y="493665"/>
                  <a:pt x="1355968" y="491300"/>
                </a:cubicBezTo>
                <a:cubicBezTo>
                  <a:pt x="1357532" y="488934"/>
                  <a:pt x="1359258" y="486800"/>
                  <a:pt x="1361174" y="484886"/>
                </a:cubicBezTo>
                <a:cubicBezTo>
                  <a:pt x="1363066" y="483010"/>
                  <a:pt x="1364959" y="481742"/>
                  <a:pt x="1366823" y="481165"/>
                </a:cubicBezTo>
                <a:cubicBezTo>
                  <a:pt x="1367770" y="480839"/>
                  <a:pt x="1369512" y="480443"/>
                  <a:pt x="1372057" y="480010"/>
                </a:cubicBezTo>
                <a:cubicBezTo>
                  <a:pt x="1374596" y="479571"/>
                  <a:pt x="1377326" y="479157"/>
                  <a:pt x="1380217" y="478743"/>
                </a:cubicBezTo>
                <a:cubicBezTo>
                  <a:pt x="1383108" y="478348"/>
                  <a:pt x="1385866" y="477965"/>
                  <a:pt x="1388521" y="477645"/>
                </a:cubicBezTo>
                <a:cubicBezTo>
                  <a:pt x="1391164" y="477281"/>
                  <a:pt x="1393207" y="477011"/>
                  <a:pt x="1394638" y="476754"/>
                </a:cubicBezTo>
                <a:cubicBezTo>
                  <a:pt x="1389767" y="473359"/>
                  <a:pt x="1385965" y="468935"/>
                  <a:pt x="1383154" y="463494"/>
                </a:cubicBezTo>
                <a:cubicBezTo>
                  <a:pt x="1380361" y="458041"/>
                  <a:pt x="1378982" y="452111"/>
                  <a:pt x="1378982" y="445698"/>
                </a:cubicBezTo>
                <a:cubicBezTo>
                  <a:pt x="1378982" y="440640"/>
                  <a:pt x="1379882" y="435852"/>
                  <a:pt x="1381677" y="431390"/>
                </a:cubicBezTo>
                <a:cubicBezTo>
                  <a:pt x="1383472" y="426928"/>
                  <a:pt x="1385913" y="423006"/>
                  <a:pt x="1388954" y="419624"/>
                </a:cubicBezTo>
                <a:cubicBezTo>
                  <a:pt x="1392012" y="416267"/>
                  <a:pt x="1395567" y="413593"/>
                  <a:pt x="1399687" y="411642"/>
                </a:cubicBezTo>
                <a:cubicBezTo>
                  <a:pt x="1403796" y="409671"/>
                  <a:pt x="1408182" y="408680"/>
                  <a:pt x="1412850" y="408680"/>
                </a:cubicBezTo>
                <a:close/>
                <a:moveTo>
                  <a:pt x="479751" y="384840"/>
                </a:moveTo>
                <a:cubicBezTo>
                  <a:pt x="482838" y="384840"/>
                  <a:pt x="485761" y="385532"/>
                  <a:pt x="488485" y="386909"/>
                </a:cubicBezTo>
                <a:cubicBezTo>
                  <a:pt x="491221" y="388272"/>
                  <a:pt x="493617" y="390139"/>
                  <a:pt x="495662" y="392484"/>
                </a:cubicBezTo>
                <a:cubicBezTo>
                  <a:pt x="497715" y="394847"/>
                  <a:pt x="499322" y="397586"/>
                  <a:pt x="500497" y="400703"/>
                </a:cubicBezTo>
                <a:cubicBezTo>
                  <a:pt x="501661" y="403819"/>
                  <a:pt x="502256" y="407164"/>
                  <a:pt x="502256" y="410697"/>
                </a:cubicBezTo>
                <a:cubicBezTo>
                  <a:pt x="502256" y="415102"/>
                  <a:pt x="501344" y="419218"/>
                  <a:pt x="499520" y="423066"/>
                </a:cubicBezTo>
                <a:cubicBezTo>
                  <a:pt x="497750" y="426915"/>
                  <a:pt x="495224" y="430031"/>
                  <a:pt x="491992" y="432402"/>
                </a:cubicBezTo>
                <a:cubicBezTo>
                  <a:pt x="492950" y="432578"/>
                  <a:pt x="494289" y="432771"/>
                  <a:pt x="496048" y="433021"/>
                </a:cubicBezTo>
                <a:cubicBezTo>
                  <a:pt x="497792" y="433248"/>
                  <a:pt x="499615" y="433516"/>
                  <a:pt x="501519" y="433792"/>
                </a:cubicBezTo>
                <a:cubicBezTo>
                  <a:pt x="503408" y="434081"/>
                  <a:pt x="505179" y="434371"/>
                  <a:pt x="506827" y="434673"/>
                </a:cubicBezTo>
                <a:cubicBezTo>
                  <a:pt x="508464" y="434980"/>
                  <a:pt x="509658" y="435256"/>
                  <a:pt x="510395" y="435484"/>
                </a:cubicBezTo>
                <a:cubicBezTo>
                  <a:pt x="511616" y="435887"/>
                  <a:pt x="512867" y="436746"/>
                  <a:pt x="514111" y="438022"/>
                </a:cubicBezTo>
                <a:cubicBezTo>
                  <a:pt x="515351" y="439319"/>
                  <a:pt x="516503" y="440810"/>
                  <a:pt x="517549" y="442488"/>
                </a:cubicBezTo>
                <a:cubicBezTo>
                  <a:pt x="518602" y="444180"/>
                  <a:pt x="519449" y="445920"/>
                  <a:pt x="520086" y="447748"/>
                </a:cubicBezTo>
                <a:cubicBezTo>
                  <a:pt x="520746" y="449541"/>
                  <a:pt x="521067" y="451193"/>
                  <a:pt x="521067" y="452697"/>
                </a:cubicBezTo>
                <a:lnTo>
                  <a:pt x="521067" y="476068"/>
                </a:lnTo>
                <a:cubicBezTo>
                  <a:pt x="520712" y="476248"/>
                  <a:pt x="520330" y="476511"/>
                  <a:pt x="519888" y="476914"/>
                </a:cubicBezTo>
                <a:cubicBezTo>
                  <a:pt x="519449" y="477331"/>
                  <a:pt x="518976" y="477712"/>
                  <a:pt x="518472" y="478102"/>
                </a:cubicBezTo>
                <a:cubicBezTo>
                  <a:pt x="517957" y="478479"/>
                  <a:pt x="517472" y="478821"/>
                  <a:pt x="517022" y="479097"/>
                </a:cubicBezTo>
                <a:cubicBezTo>
                  <a:pt x="516561" y="479391"/>
                  <a:pt x="516175" y="479518"/>
                  <a:pt x="515866" y="479518"/>
                </a:cubicBezTo>
                <a:lnTo>
                  <a:pt x="443801" y="479518"/>
                </a:lnTo>
                <a:cubicBezTo>
                  <a:pt x="442572" y="479518"/>
                  <a:pt x="441649" y="479088"/>
                  <a:pt x="441012" y="478216"/>
                </a:cubicBezTo>
                <a:cubicBezTo>
                  <a:pt x="440374" y="477357"/>
                  <a:pt x="439592" y="476638"/>
                  <a:pt x="438650" y="476068"/>
                </a:cubicBezTo>
                <a:lnTo>
                  <a:pt x="438650" y="452697"/>
                </a:lnTo>
                <a:cubicBezTo>
                  <a:pt x="438650" y="451193"/>
                  <a:pt x="438966" y="449541"/>
                  <a:pt x="439615" y="447748"/>
                </a:cubicBezTo>
                <a:cubicBezTo>
                  <a:pt x="440275" y="445920"/>
                  <a:pt x="441111" y="444202"/>
                  <a:pt x="442141" y="442550"/>
                </a:cubicBezTo>
                <a:cubicBezTo>
                  <a:pt x="443175" y="440897"/>
                  <a:pt x="444316" y="439407"/>
                  <a:pt x="445583" y="438070"/>
                </a:cubicBezTo>
                <a:cubicBezTo>
                  <a:pt x="446834" y="436759"/>
                  <a:pt x="448086" y="435874"/>
                  <a:pt x="449318" y="435471"/>
                </a:cubicBezTo>
                <a:cubicBezTo>
                  <a:pt x="449944" y="435243"/>
                  <a:pt x="451096" y="434967"/>
                  <a:pt x="452779" y="434664"/>
                </a:cubicBezTo>
                <a:cubicBezTo>
                  <a:pt x="454458" y="434357"/>
                  <a:pt x="456263" y="434068"/>
                  <a:pt x="458174" y="433779"/>
                </a:cubicBezTo>
                <a:cubicBezTo>
                  <a:pt x="460086" y="433503"/>
                  <a:pt x="461910" y="433235"/>
                  <a:pt x="463665" y="433012"/>
                </a:cubicBezTo>
                <a:cubicBezTo>
                  <a:pt x="465412" y="432758"/>
                  <a:pt x="466763" y="432569"/>
                  <a:pt x="467709" y="432389"/>
                </a:cubicBezTo>
                <a:cubicBezTo>
                  <a:pt x="464489" y="430018"/>
                  <a:pt x="461975" y="426928"/>
                  <a:pt x="460116" y="423128"/>
                </a:cubicBezTo>
                <a:cubicBezTo>
                  <a:pt x="458270" y="419319"/>
                  <a:pt x="457358" y="415176"/>
                  <a:pt x="457358" y="410697"/>
                </a:cubicBezTo>
                <a:cubicBezTo>
                  <a:pt x="457358" y="407164"/>
                  <a:pt x="457953" y="403819"/>
                  <a:pt x="459140" y="400703"/>
                </a:cubicBezTo>
                <a:cubicBezTo>
                  <a:pt x="460326" y="397586"/>
                  <a:pt x="461940" y="394847"/>
                  <a:pt x="463951" y="392484"/>
                </a:cubicBezTo>
                <a:cubicBezTo>
                  <a:pt x="465973" y="390139"/>
                  <a:pt x="468324" y="388272"/>
                  <a:pt x="471052" y="386909"/>
                </a:cubicBezTo>
                <a:cubicBezTo>
                  <a:pt x="473765" y="385532"/>
                  <a:pt x="476665" y="384840"/>
                  <a:pt x="479751" y="384840"/>
                </a:cubicBezTo>
                <a:close/>
                <a:moveTo>
                  <a:pt x="1901618" y="354870"/>
                </a:moveTo>
                <a:cubicBezTo>
                  <a:pt x="1904730" y="354870"/>
                  <a:pt x="1907677" y="355562"/>
                  <a:pt x="1910424" y="356939"/>
                </a:cubicBezTo>
                <a:cubicBezTo>
                  <a:pt x="1913182" y="358302"/>
                  <a:pt x="1915598" y="360169"/>
                  <a:pt x="1917660" y="362514"/>
                </a:cubicBezTo>
                <a:cubicBezTo>
                  <a:pt x="1919730" y="364877"/>
                  <a:pt x="1921349" y="367616"/>
                  <a:pt x="1922534" y="370733"/>
                </a:cubicBezTo>
                <a:cubicBezTo>
                  <a:pt x="1923708" y="373849"/>
                  <a:pt x="1924308" y="377194"/>
                  <a:pt x="1924308" y="380727"/>
                </a:cubicBezTo>
                <a:cubicBezTo>
                  <a:pt x="1924308" y="385132"/>
                  <a:pt x="1923388" y="389248"/>
                  <a:pt x="1921550" y="393096"/>
                </a:cubicBezTo>
                <a:cubicBezTo>
                  <a:pt x="1919764" y="396945"/>
                  <a:pt x="1917218" y="400061"/>
                  <a:pt x="1913959" y="402432"/>
                </a:cubicBezTo>
                <a:cubicBezTo>
                  <a:pt x="1914925" y="402608"/>
                  <a:pt x="1916275" y="402801"/>
                  <a:pt x="1918049" y="403051"/>
                </a:cubicBezTo>
                <a:cubicBezTo>
                  <a:pt x="1919807" y="403278"/>
                  <a:pt x="1921646" y="403546"/>
                  <a:pt x="1923565" y="403822"/>
                </a:cubicBezTo>
                <a:cubicBezTo>
                  <a:pt x="1925470" y="404111"/>
                  <a:pt x="1927255" y="404401"/>
                  <a:pt x="1928917" y="404703"/>
                </a:cubicBezTo>
                <a:cubicBezTo>
                  <a:pt x="1930567" y="405010"/>
                  <a:pt x="1931771" y="405286"/>
                  <a:pt x="1932514" y="405514"/>
                </a:cubicBezTo>
                <a:cubicBezTo>
                  <a:pt x="1933745" y="405917"/>
                  <a:pt x="1935007" y="406776"/>
                  <a:pt x="1936261" y="408052"/>
                </a:cubicBezTo>
                <a:cubicBezTo>
                  <a:pt x="1937511" y="409349"/>
                  <a:pt x="1938673" y="410840"/>
                  <a:pt x="1939727" y="412518"/>
                </a:cubicBezTo>
                <a:cubicBezTo>
                  <a:pt x="1940789" y="414210"/>
                  <a:pt x="1941643" y="415950"/>
                  <a:pt x="1942286" y="417778"/>
                </a:cubicBezTo>
                <a:cubicBezTo>
                  <a:pt x="1942951" y="419571"/>
                  <a:pt x="1943274" y="421223"/>
                  <a:pt x="1943274" y="422727"/>
                </a:cubicBezTo>
                <a:lnTo>
                  <a:pt x="1943274" y="446098"/>
                </a:lnTo>
                <a:cubicBezTo>
                  <a:pt x="1942916" y="446278"/>
                  <a:pt x="1942532" y="446541"/>
                  <a:pt x="1942085" y="446944"/>
                </a:cubicBezTo>
                <a:cubicBezTo>
                  <a:pt x="1941643" y="447361"/>
                  <a:pt x="1941166" y="447742"/>
                  <a:pt x="1940658" y="448132"/>
                </a:cubicBezTo>
                <a:cubicBezTo>
                  <a:pt x="1940139" y="448509"/>
                  <a:pt x="1939650" y="448851"/>
                  <a:pt x="1939196" y="449127"/>
                </a:cubicBezTo>
                <a:cubicBezTo>
                  <a:pt x="1938731" y="449421"/>
                  <a:pt x="1938342" y="449548"/>
                  <a:pt x="1938031" y="449548"/>
                </a:cubicBezTo>
                <a:lnTo>
                  <a:pt x="1865370" y="449548"/>
                </a:lnTo>
                <a:cubicBezTo>
                  <a:pt x="1864131" y="449548"/>
                  <a:pt x="1863200" y="449118"/>
                  <a:pt x="1862558" y="448246"/>
                </a:cubicBezTo>
                <a:cubicBezTo>
                  <a:pt x="1861915" y="447387"/>
                  <a:pt x="1861126" y="446668"/>
                  <a:pt x="1860176" y="446098"/>
                </a:cubicBezTo>
                <a:lnTo>
                  <a:pt x="1860176" y="422727"/>
                </a:lnTo>
                <a:cubicBezTo>
                  <a:pt x="1860176" y="421223"/>
                  <a:pt x="1860496" y="419571"/>
                  <a:pt x="1861150" y="417778"/>
                </a:cubicBezTo>
                <a:cubicBezTo>
                  <a:pt x="1861815" y="415950"/>
                  <a:pt x="1862658" y="414232"/>
                  <a:pt x="1863696" y="412580"/>
                </a:cubicBezTo>
                <a:cubicBezTo>
                  <a:pt x="1864739" y="410927"/>
                  <a:pt x="1865889" y="409437"/>
                  <a:pt x="1867166" y="408100"/>
                </a:cubicBezTo>
                <a:cubicBezTo>
                  <a:pt x="1868428" y="406789"/>
                  <a:pt x="1869690" y="405904"/>
                  <a:pt x="1870933" y="405501"/>
                </a:cubicBezTo>
                <a:cubicBezTo>
                  <a:pt x="1871564" y="405273"/>
                  <a:pt x="1872726" y="404997"/>
                  <a:pt x="1874422" y="404694"/>
                </a:cubicBezTo>
                <a:cubicBezTo>
                  <a:pt x="1876115" y="404387"/>
                  <a:pt x="1877935" y="404098"/>
                  <a:pt x="1879862" y="403809"/>
                </a:cubicBezTo>
                <a:cubicBezTo>
                  <a:pt x="1881789" y="403533"/>
                  <a:pt x="1883628" y="403265"/>
                  <a:pt x="1885398" y="403042"/>
                </a:cubicBezTo>
                <a:cubicBezTo>
                  <a:pt x="1887160" y="402788"/>
                  <a:pt x="1888522" y="402599"/>
                  <a:pt x="1889476" y="402419"/>
                </a:cubicBezTo>
                <a:cubicBezTo>
                  <a:pt x="1886229" y="400048"/>
                  <a:pt x="1883694" y="396958"/>
                  <a:pt x="1881820" y="393158"/>
                </a:cubicBezTo>
                <a:cubicBezTo>
                  <a:pt x="1879958" y="389349"/>
                  <a:pt x="1879039" y="385206"/>
                  <a:pt x="1879039" y="380727"/>
                </a:cubicBezTo>
                <a:cubicBezTo>
                  <a:pt x="1879039" y="377194"/>
                  <a:pt x="1879639" y="373849"/>
                  <a:pt x="1880835" y="370733"/>
                </a:cubicBezTo>
                <a:cubicBezTo>
                  <a:pt x="1882032" y="367616"/>
                  <a:pt x="1883659" y="364877"/>
                  <a:pt x="1885687" y="362514"/>
                </a:cubicBezTo>
                <a:cubicBezTo>
                  <a:pt x="1887726" y="360169"/>
                  <a:pt x="1890095" y="358302"/>
                  <a:pt x="1892846" y="356939"/>
                </a:cubicBezTo>
                <a:cubicBezTo>
                  <a:pt x="1895581" y="355562"/>
                  <a:pt x="1898505" y="354870"/>
                  <a:pt x="1901618" y="354870"/>
                </a:cubicBezTo>
                <a:close/>
                <a:moveTo>
                  <a:pt x="861813" y="354870"/>
                </a:moveTo>
                <a:cubicBezTo>
                  <a:pt x="866482" y="354870"/>
                  <a:pt x="870902" y="355866"/>
                  <a:pt x="875022" y="357847"/>
                </a:cubicBezTo>
                <a:cubicBezTo>
                  <a:pt x="879160" y="359808"/>
                  <a:pt x="882784" y="362495"/>
                  <a:pt x="885877" y="365869"/>
                </a:cubicBezTo>
                <a:cubicBezTo>
                  <a:pt x="888982" y="369268"/>
                  <a:pt x="891411" y="373210"/>
                  <a:pt x="893189" y="377694"/>
                </a:cubicBezTo>
                <a:cubicBezTo>
                  <a:pt x="894949" y="382178"/>
                  <a:pt x="895849" y="386990"/>
                  <a:pt x="895849" y="392074"/>
                </a:cubicBezTo>
                <a:cubicBezTo>
                  <a:pt x="895849" y="398412"/>
                  <a:pt x="894470" y="404334"/>
                  <a:pt x="891711" y="409872"/>
                </a:cubicBezTo>
                <a:cubicBezTo>
                  <a:pt x="889034" y="415409"/>
                  <a:pt x="885214" y="419893"/>
                  <a:pt x="880326" y="423305"/>
                </a:cubicBezTo>
                <a:cubicBezTo>
                  <a:pt x="881774" y="423557"/>
                  <a:pt x="883800" y="423835"/>
                  <a:pt x="886460" y="424194"/>
                </a:cubicBezTo>
                <a:cubicBezTo>
                  <a:pt x="889097" y="424522"/>
                  <a:pt x="891856" y="424907"/>
                  <a:pt x="894735" y="425304"/>
                </a:cubicBezTo>
                <a:cubicBezTo>
                  <a:pt x="897592" y="425721"/>
                  <a:pt x="900269" y="426137"/>
                  <a:pt x="902762" y="426572"/>
                </a:cubicBezTo>
                <a:cubicBezTo>
                  <a:pt x="905238" y="427013"/>
                  <a:pt x="907044" y="427411"/>
                  <a:pt x="908158" y="427739"/>
                </a:cubicBezTo>
                <a:cubicBezTo>
                  <a:pt x="910005" y="428319"/>
                  <a:pt x="911897" y="429555"/>
                  <a:pt x="913779" y="431390"/>
                </a:cubicBezTo>
                <a:cubicBezTo>
                  <a:pt x="915655" y="433257"/>
                  <a:pt x="917397" y="435402"/>
                  <a:pt x="918979" y="437817"/>
                </a:cubicBezTo>
                <a:cubicBezTo>
                  <a:pt x="920571" y="440251"/>
                  <a:pt x="921852" y="442755"/>
                  <a:pt x="922816" y="445385"/>
                </a:cubicBezTo>
                <a:cubicBezTo>
                  <a:pt x="923815" y="447965"/>
                  <a:pt x="924293" y="450342"/>
                  <a:pt x="924293" y="452506"/>
                </a:cubicBezTo>
                <a:lnTo>
                  <a:pt x="924293" y="486133"/>
                </a:lnTo>
                <a:cubicBezTo>
                  <a:pt x="923763" y="486392"/>
                  <a:pt x="923185" y="486770"/>
                  <a:pt x="922516" y="487351"/>
                </a:cubicBezTo>
                <a:cubicBezTo>
                  <a:pt x="921852" y="487950"/>
                  <a:pt x="921137" y="488499"/>
                  <a:pt x="920375" y="489060"/>
                </a:cubicBezTo>
                <a:cubicBezTo>
                  <a:pt x="919596" y="489602"/>
                  <a:pt x="918863" y="490094"/>
                  <a:pt x="918182" y="490491"/>
                </a:cubicBezTo>
                <a:cubicBezTo>
                  <a:pt x="917484" y="490914"/>
                  <a:pt x="916901" y="491097"/>
                  <a:pt x="916434" y="491097"/>
                </a:cubicBezTo>
                <a:lnTo>
                  <a:pt x="807441" y="491097"/>
                </a:lnTo>
                <a:cubicBezTo>
                  <a:pt x="805583" y="491097"/>
                  <a:pt x="804187" y="490479"/>
                  <a:pt x="803223" y="489224"/>
                </a:cubicBezTo>
                <a:cubicBezTo>
                  <a:pt x="802259" y="487988"/>
                  <a:pt x="801076" y="486953"/>
                  <a:pt x="799651" y="486133"/>
                </a:cubicBezTo>
                <a:lnTo>
                  <a:pt x="799651" y="452506"/>
                </a:lnTo>
                <a:cubicBezTo>
                  <a:pt x="799651" y="450342"/>
                  <a:pt x="800130" y="447965"/>
                  <a:pt x="801111" y="445385"/>
                </a:cubicBezTo>
                <a:cubicBezTo>
                  <a:pt x="802109" y="442755"/>
                  <a:pt x="803373" y="440283"/>
                  <a:pt x="804931" y="437905"/>
                </a:cubicBezTo>
                <a:cubicBezTo>
                  <a:pt x="806495" y="435528"/>
                  <a:pt x="808220" y="433383"/>
                  <a:pt x="810136" y="431460"/>
                </a:cubicBezTo>
                <a:cubicBezTo>
                  <a:pt x="812029" y="429574"/>
                  <a:pt x="813922" y="428300"/>
                  <a:pt x="815786" y="427720"/>
                </a:cubicBezTo>
                <a:cubicBezTo>
                  <a:pt x="816732" y="427392"/>
                  <a:pt x="818475" y="426995"/>
                  <a:pt x="821020" y="426559"/>
                </a:cubicBezTo>
                <a:cubicBezTo>
                  <a:pt x="823559" y="426118"/>
                  <a:pt x="826288" y="425702"/>
                  <a:pt x="829180" y="425285"/>
                </a:cubicBezTo>
                <a:cubicBezTo>
                  <a:pt x="832071" y="424888"/>
                  <a:pt x="834829" y="424503"/>
                  <a:pt x="837484" y="424182"/>
                </a:cubicBezTo>
                <a:cubicBezTo>
                  <a:pt x="840127" y="423816"/>
                  <a:pt x="842170" y="423545"/>
                  <a:pt x="843601" y="423286"/>
                </a:cubicBezTo>
                <a:cubicBezTo>
                  <a:pt x="838730" y="419874"/>
                  <a:pt x="834927" y="415428"/>
                  <a:pt x="832117" y="409960"/>
                </a:cubicBezTo>
                <a:cubicBezTo>
                  <a:pt x="829324" y="404479"/>
                  <a:pt x="827945" y="398519"/>
                  <a:pt x="827945" y="392074"/>
                </a:cubicBezTo>
                <a:cubicBezTo>
                  <a:pt x="827945" y="386990"/>
                  <a:pt x="828845" y="382178"/>
                  <a:pt x="830640" y="377694"/>
                </a:cubicBezTo>
                <a:cubicBezTo>
                  <a:pt x="832434" y="373210"/>
                  <a:pt x="834875" y="369268"/>
                  <a:pt x="837917" y="365869"/>
                </a:cubicBezTo>
                <a:cubicBezTo>
                  <a:pt x="840975" y="362495"/>
                  <a:pt x="844530" y="359808"/>
                  <a:pt x="848650" y="357847"/>
                </a:cubicBezTo>
                <a:cubicBezTo>
                  <a:pt x="852759" y="355866"/>
                  <a:pt x="857145" y="354870"/>
                  <a:pt x="861813" y="354870"/>
                </a:cubicBezTo>
                <a:close/>
                <a:moveTo>
                  <a:pt x="1213440" y="333074"/>
                </a:moveTo>
                <a:lnTo>
                  <a:pt x="1305052" y="425027"/>
                </a:lnTo>
                <a:lnTo>
                  <a:pt x="1213440" y="516980"/>
                </a:lnTo>
                <a:lnTo>
                  <a:pt x="1121827" y="425027"/>
                </a:lnTo>
                <a:lnTo>
                  <a:pt x="1213440" y="333074"/>
                </a:lnTo>
                <a:close/>
                <a:moveTo>
                  <a:pt x="630909" y="331712"/>
                </a:moveTo>
                <a:cubicBezTo>
                  <a:pt x="635577" y="331712"/>
                  <a:pt x="639998" y="332703"/>
                  <a:pt x="644118" y="334674"/>
                </a:cubicBezTo>
                <a:cubicBezTo>
                  <a:pt x="648255" y="336625"/>
                  <a:pt x="651879" y="339299"/>
                  <a:pt x="654972" y="342656"/>
                </a:cubicBezTo>
                <a:cubicBezTo>
                  <a:pt x="658077" y="346038"/>
                  <a:pt x="660507" y="349960"/>
                  <a:pt x="662284" y="354422"/>
                </a:cubicBezTo>
                <a:cubicBezTo>
                  <a:pt x="664044" y="358884"/>
                  <a:pt x="664944" y="363672"/>
                  <a:pt x="664944" y="368730"/>
                </a:cubicBezTo>
                <a:cubicBezTo>
                  <a:pt x="664944" y="375036"/>
                  <a:pt x="663565" y="380929"/>
                  <a:pt x="660807" y="386439"/>
                </a:cubicBezTo>
                <a:cubicBezTo>
                  <a:pt x="658129" y="391948"/>
                  <a:pt x="654309" y="396410"/>
                  <a:pt x="649421" y="399805"/>
                </a:cubicBezTo>
                <a:cubicBezTo>
                  <a:pt x="650870" y="400056"/>
                  <a:pt x="652895" y="400332"/>
                  <a:pt x="655555" y="400690"/>
                </a:cubicBezTo>
                <a:cubicBezTo>
                  <a:pt x="658193" y="401016"/>
                  <a:pt x="660951" y="401399"/>
                  <a:pt x="663830" y="401794"/>
                </a:cubicBezTo>
                <a:cubicBezTo>
                  <a:pt x="666687" y="402208"/>
                  <a:pt x="669365" y="402623"/>
                  <a:pt x="671858" y="403056"/>
                </a:cubicBezTo>
                <a:cubicBezTo>
                  <a:pt x="674333" y="403495"/>
                  <a:pt x="676139" y="403890"/>
                  <a:pt x="677253" y="404216"/>
                </a:cubicBezTo>
                <a:cubicBezTo>
                  <a:pt x="679100" y="404794"/>
                  <a:pt x="680993" y="406024"/>
                  <a:pt x="682874" y="407850"/>
                </a:cubicBezTo>
                <a:cubicBezTo>
                  <a:pt x="684749" y="409707"/>
                  <a:pt x="686492" y="411841"/>
                  <a:pt x="688073" y="414244"/>
                </a:cubicBezTo>
                <a:cubicBezTo>
                  <a:pt x="689666" y="416667"/>
                  <a:pt x="690947" y="419158"/>
                  <a:pt x="691911" y="421775"/>
                </a:cubicBezTo>
                <a:cubicBezTo>
                  <a:pt x="692909" y="424341"/>
                  <a:pt x="693388" y="426707"/>
                  <a:pt x="693388" y="428860"/>
                </a:cubicBezTo>
                <a:lnTo>
                  <a:pt x="693388" y="462319"/>
                </a:lnTo>
                <a:cubicBezTo>
                  <a:pt x="692857" y="462577"/>
                  <a:pt x="692280" y="462953"/>
                  <a:pt x="691611" y="463530"/>
                </a:cubicBezTo>
                <a:cubicBezTo>
                  <a:pt x="690947" y="464127"/>
                  <a:pt x="690231" y="464673"/>
                  <a:pt x="689470" y="465231"/>
                </a:cubicBezTo>
                <a:cubicBezTo>
                  <a:pt x="688691" y="465771"/>
                  <a:pt x="687958" y="466260"/>
                  <a:pt x="687277" y="466656"/>
                </a:cubicBezTo>
                <a:cubicBezTo>
                  <a:pt x="686579" y="467076"/>
                  <a:pt x="685996" y="467258"/>
                  <a:pt x="685528" y="467258"/>
                </a:cubicBezTo>
                <a:lnTo>
                  <a:pt x="576537" y="467258"/>
                </a:lnTo>
                <a:cubicBezTo>
                  <a:pt x="574679" y="467258"/>
                  <a:pt x="573283" y="466643"/>
                  <a:pt x="572319" y="465394"/>
                </a:cubicBezTo>
                <a:cubicBezTo>
                  <a:pt x="571355" y="464164"/>
                  <a:pt x="570172" y="463135"/>
                  <a:pt x="568747" y="462319"/>
                </a:cubicBezTo>
                <a:lnTo>
                  <a:pt x="568747" y="428860"/>
                </a:lnTo>
                <a:cubicBezTo>
                  <a:pt x="568747" y="426707"/>
                  <a:pt x="569226" y="424341"/>
                  <a:pt x="570207" y="421775"/>
                </a:cubicBezTo>
                <a:cubicBezTo>
                  <a:pt x="571205" y="419158"/>
                  <a:pt x="572469" y="416698"/>
                  <a:pt x="574027" y="414332"/>
                </a:cubicBezTo>
                <a:cubicBezTo>
                  <a:pt x="575591" y="411966"/>
                  <a:pt x="577316" y="409833"/>
                  <a:pt x="579232" y="407919"/>
                </a:cubicBezTo>
                <a:cubicBezTo>
                  <a:pt x="581125" y="406043"/>
                  <a:pt x="583018" y="404775"/>
                  <a:pt x="584882" y="404198"/>
                </a:cubicBezTo>
                <a:cubicBezTo>
                  <a:pt x="585828" y="403871"/>
                  <a:pt x="587571" y="403476"/>
                  <a:pt x="590116" y="403043"/>
                </a:cubicBezTo>
                <a:cubicBezTo>
                  <a:pt x="592655" y="402604"/>
                  <a:pt x="595384" y="402190"/>
                  <a:pt x="598275" y="401775"/>
                </a:cubicBezTo>
                <a:cubicBezTo>
                  <a:pt x="601167" y="401380"/>
                  <a:pt x="603925" y="400997"/>
                  <a:pt x="606579" y="400677"/>
                </a:cubicBezTo>
                <a:cubicBezTo>
                  <a:pt x="609222" y="400313"/>
                  <a:pt x="611265" y="400043"/>
                  <a:pt x="612696" y="399786"/>
                </a:cubicBezTo>
                <a:cubicBezTo>
                  <a:pt x="607826" y="396391"/>
                  <a:pt x="604023" y="391967"/>
                  <a:pt x="601213" y="386526"/>
                </a:cubicBezTo>
                <a:cubicBezTo>
                  <a:pt x="598420" y="381073"/>
                  <a:pt x="597040" y="375143"/>
                  <a:pt x="597040" y="368730"/>
                </a:cubicBezTo>
                <a:cubicBezTo>
                  <a:pt x="597040" y="363672"/>
                  <a:pt x="597941" y="358884"/>
                  <a:pt x="599735" y="354422"/>
                </a:cubicBezTo>
                <a:cubicBezTo>
                  <a:pt x="601530" y="349960"/>
                  <a:pt x="603971" y="346038"/>
                  <a:pt x="607012" y="342656"/>
                </a:cubicBezTo>
                <a:cubicBezTo>
                  <a:pt x="610071" y="339299"/>
                  <a:pt x="613625" y="336625"/>
                  <a:pt x="617746" y="334674"/>
                </a:cubicBezTo>
                <a:cubicBezTo>
                  <a:pt x="621854" y="332703"/>
                  <a:pt x="626240" y="331712"/>
                  <a:pt x="630909" y="331712"/>
                </a:cubicBezTo>
                <a:close/>
                <a:moveTo>
                  <a:pt x="62162" y="331712"/>
                </a:moveTo>
                <a:cubicBezTo>
                  <a:pt x="66831" y="331712"/>
                  <a:pt x="71251" y="332703"/>
                  <a:pt x="75371" y="334674"/>
                </a:cubicBezTo>
                <a:cubicBezTo>
                  <a:pt x="79509" y="336625"/>
                  <a:pt x="83133" y="339299"/>
                  <a:pt x="86226" y="342656"/>
                </a:cubicBezTo>
                <a:cubicBezTo>
                  <a:pt x="89331" y="346038"/>
                  <a:pt x="91760" y="349960"/>
                  <a:pt x="93538" y="354422"/>
                </a:cubicBezTo>
                <a:cubicBezTo>
                  <a:pt x="95298" y="358884"/>
                  <a:pt x="96198" y="363672"/>
                  <a:pt x="96198" y="368730"/>
                </a:cubicBezTo>
                <a:cubicBezTo>
                  <a:pt x="96198" y="375036"/>
                  <a:pt x="94819" y="380929"/>
                  <a:pt x="92060" y="386439"/>
                </a:cubicBezTo>
                <a:cubicBezTo>
                  <a:pt x="89383" y="391948"/>
                  <a:pt x="85563" y="396410"/>
                  <a:pt x="80675" y="399805"/>
                </a:cubicBezTo>
                <a:cubicBezTo>
                  <a:pt x="82123" y="400056"/>
                  <a:pt x="84149" y="400332"/>
                  <a:pt x="86809" y="400690"/>
                </a:cubicBezTo>
                <a:cubicBezTo>
                  <a:pt x="89446" y="401016"/>
                  <a:pt x="92205" y="401399"/>
                  <a:pt x="95084" y="401794"/>
                </a:cubicBezTo>
                <a:cubicBezTo>
                  <a:pt x="97941" y="402208"/>
                  <a:pt x="100618" y="402623"/>
                  <a:pt x="103111" y="403056"/>
                </a:cubicBezTo>
                <a:cubicBezTo>
                  <a:pt x="105587" y="403495"/>
                  <a:pt x="107393" y="403890"/>
                  <a:pt x="108507" y="404216"/>
                </a:cubicBezTo>
                <a:cubicBezTo>
                  <a:pt x="110354" y="404794"/>
                  <a:pt x="112246" y="406024"/>
                  <a:pt x="114128" y="407850"/>
                </a:cubicBezTo>
                <a:cubicBezTo>
                  <a:pt x="116003" y="409707"/>
                  <a:pt x="117746" y="411841"/>
                  <a:pt x="119327" y="414244"/>
                </a:cubicBezTo>
                <a:cubicBezTo>
                  <a:pt x="120920" y="416667"/>
                  <a:pt x="122201" y="419158"/>
                  <a:pt x="123165" y="421775"/>
                </a:cubicBezTo>
                <a:cubicBezTo>
                  <a:pt x="124163" y="424341"/>
                  <a:pt x="124642" y="426707"/>
                  <a:pt x="124642" y="428860"/>
                </a:cubicBezTo>
                <a:lnTo>
                  <a:pt x="124642" y="462319"/>
                </a:lnTo>
                <a:cubicBezTo>
                  <a:pt x="124111" y="462577"/>
                  <a:pt x="123534" y="462953"/>
                  <a:pt x="122865" y="463530"/>
                </a:cubicBezTo>
                <a:cubicBezTo>
                  <a:pt x="122201" y="464127"/>
                  <a:pt x="121485" y="464673"/>
                  <a:pt x="120724" y="465231"/>
                </a:cubicBezTo>
                <a:cubicBezTo>
                  <a:pt x="119945" y="465771"/>
                  <a:pt x="119212" y="466260"/>
                  <a:pt x="118531" y="466656"/>
                </a:cubicBezTo>
                <a:cubicBezTo>
                  <a:pt x="117833" y="467076"/>
                  <a:pt x="117250" y="467258"/>
                  <a:pt x="116782" y="467258"/>
                </a:cubicBezTo>
                <a:lnTo>
                  <a:pt x="7790" y="467258"/>
                </a:lnTo>
                <a:cubicBezTo>
                  <a:pt x="5932" y="467258"/>
                  <a:pt x="4536" y="466643"/>
                  <a:pt x="3572" y="465394"/>
                </a:cubicBezTo>
                <a:cubicBezTo>
                  <a:pt x="2608" y="464164"/>
                  <a:pt x="1425" y="463135"/>
                  <a:pt x="0" y="462319"/>
                </a:cubicBezTo>
                <a:lnTo>
                  <a:pt x="0" y="428860"/>
                </a:lnTo>
                <a:cubicBezTo>
                  <a:pt x="0" y="426707"/>
                  <a:pt x="479" y="424341"/>
                  <a:pt x="1460" y="421775"/>
                </a:cubicBezTo>
                <a:cubicBezTo>
                  <a:pt x="2458" y="419158"/>
                  <a:pt x="3722" y="416698"/>
                  <a:pt x="5280" y="414332"/>
                </a:cubicBezTo>
                <a:cubicBezTo>
                  <a:pt x="6844" y="411966"/>
                  <a:pt x="8569" y="409833"/>
                  <a:pt x="10485" y="407919"/>
                </a:cubicBezTo>
                <a:cubicBezTo>
                  <a:pt x="12378" y="406043"/>
                  <a:pt x="14271" y="404775"/>
                  <a:pt x="16135" y="404198"/>
                </a:cubicBezTo>
                <a:cubicBezTo>
                  <a:pt x="17081" y="403871"/>
                  <a:pt x="18824" y="403476"/>
                  <a:pt x="21369" y="403043"/>
                </a:cubicBezTo>
                <a:cubicBezTo>
                  <a:pt x="23908" y="402604"/>
                  <a:pt x="26637" y="402190"/>
                  <a:pt x="29529" y="401775"/>
                </a:cubicBezTo>
                <a:cubicBezTo>
                  <a:pt x="32420" y="401380"/>
                  <a:pt x="35178" y="400997"/>
                  <a:pt x="37833" y="400677"/>
                </a:cubicBezTo>
                <a:cubicBezTo>
                  <a:pt x="40476" y="400313"/>
                  <a:pt x="42519" y="400043"/>
                  <a:pt x="43950" y="399786"/>
                </a:cubicBezTo>
                <a:cubicBezTo>
                  <a:pt x="39079" y="396391"/>
                  <a:pt x="35276" y="391967"/>
                  <a:pt x="32466" y="386526"/>
                </a:cubicBezTo>
                <a:cubicBezTo>
                  <a:pt x="29673" y="381073"/>
                  <a:pt x="28294" y="375143"/>
                  <a:pt x="28294" y="368730"/>
                </a:cubicBezTo>
                <a:cubicBezTo>
                  <a:pt x="28294" y="363672"/>
                  <a:pt x="29194" y="358884"/>
                  <a:pt x="30989" y="354422"/>
                </a:cubicBezTo>
                <a:cubicBezTo>
                  <a:pt x="32783" y="349960"/>
                  <a:pt x="35224" y="346038"/>
                  <a:pt x="38266" y="342656"/>
                </a:cubicBezTo>
                <a:cubicBezTo>
                  <a:pt x="41324" y="339299"/>
                  <a:pt x="44879" y="336625"/>
                  <a:pt x="48999" y="334674"/>
                </a:cubicBezTo>
                <a:cubicBezTo>
                  <a:pt x="53108" y="332703"/>
                  <a:pt x="57494" y="331712"/>
                  <a:pt x="62162" y="331712"/>
                </a:cubicBezTo>
                <a:close/>
                <a:moveTo>
                  <a:pt x="1029534" y="327625"/>
                </a:moveTo>
                <a:lnTo>
                  <a:pt x="1085727" y="383818"/>
                </a:lnTo>
                <a:lnTo>
                  <a:pt x="1029534" y="440007"/>
                </a:lnTo>
                <a:lnTo>
                  <a:pt x="973340" y="383818"/>
                </a:lnTo>
                <a:lnTo>
                  <a:pt x="1029534" y="327625"/>
                </a:lnTo>
                <a:close/>
                <a:moveTo>
                  <a:pt x="272364" y="260193"/>
                </a:moveTo>
                <a:cubicBezTo>
                  <a:pt x="284788" y="260193"/>
                  <a:pt x="296551" y="262878"/>
                  <a:pt x="307516" y="268215"/>
                </a:cubicBezTo>
                <a:cubicBezTo>
                  <a:pt x="318527" y="273501"/>
                  <a:pt x="328171" y="280742"/>
                  <a:pt x="336403" y="289835"/>
                </a:cubicBezTo>
                <a:cubicBezTo>
                  <a:pt x="344665" y="298997"/>
                  <a:pt x="351130" y="309620"/>
                  <a:pt x="355860" y="321704"/>
                </a:cubicBezTo>
                <a:cubicBezTo>
                  <a:pt x="360544" y="333789"/>
                  <a:pt x="362940" y="346758"/>
                  <a:pt x="362940" y="360457"/>
                </a:cubicBezTo>
                <a:cubicBezTo>
                  <a:pt x="362940" y="377539"/>
                  <a:pt x="359269" y="393499"/>
                  <a:pt x="351929" y="408422"/>
                </a:cubicBezTo>
                <a:cubicBezTo>
                  <a:pt x="344803" y="423345"/>
                  <a:pt x="334637" y="435430"/>
                  <a:pt x="321629" y="444625"/>
                </a:cubicBezTo>
                <a:cubicBezTo>
                  <a:pt x="325484" y="445305"/>
                  <a:pt x="330874" y="446053"/>
                  <a:pt x="337954" y="447022"/>
                </a:cubicBezTo>
                <a:cubicBezTo>
                  <a:pt x="344972" y="447906"/>
                  <a:pt x="352312" y="448942"/>
                  <a:pt x="359976" y="450013"/>
                </a:cubicBezTo>
                <a:cubicBezTo>
                  <a:pt x="367577" y="451135"/>
                  <a:pt x="374703" y="452257"/>
                  <a:pt x="381337" y="453430"/>
                </a:cubicBezTo>
                <a:cubicBezTo>
                  <a:pt x="387925" y="454619"/>
                  <a:pt x="392732" y="455690"/>
                  <a:pt x="395696" y="456574"/>
                </a:cubicBezTo>
                <a:cubicBezTo>
                  <a:pt x="400610" y="458138"/>
                  <a:pt x="405647" y="461469"/>
                  <a:pt x="410654" y="466415"/>
                </a:cubicBezTo>
                <a:cubicBezTo>
                  <a:pt x="415645" y="471446"/>
                  <a:pt x="420283" y="477225"/>
                  <a:pt x="424491" y="483735"/>
                </a:cubicBezTo>
                <a:cubicBezTo>
                  <a:pt x="428729" y="490296"/>
                  <a:pt x="432138" y="497043"/>
                  <a:pt x="434703" y="504131"/>
                </a:cubicBezTo>
                <a:cubicBezTo>
                  <a:pt x="437360" y="511083"/>
                  <a:pt x="438650" y="517491"/>
                  <a:pt x="438650" y="523320"/>
                </a:cubicBezTo>
                <a:lnTo>
                  <a:pt x="438650" y="613947"/>
                </a:lnTo>
                <a:cubicBezTo>
                  <a:pt x="437222" y="614644"/>
                  <a:pt x="435686" y="615664"/>
                  <a:pt x="433904" y="617228"/>
                </a:cubicBezTo>
                <a:cubicBezTo>
                  <a:pt x="432138" y="618842"/>
                  <a:pt x="430234" y="620321"/>
                  <a:pt x="428207" y="621834"/>
                </a:cubicBezTo>
                <a:cubicBezTo>
                  <a:pt x="426134" y="623296"/>
                  <a:pt x="424183" y="624621"/>
                  <a:pt x="422371" y="625692"/>
                </a:cubicBezTo>
                <a:cubicBezTo>
                  <a:pt x="420513" y="626831"/>
                  <a:pt x="418962" y="627324"/>
                  <a:pt x="417718" y="627324"/>
                </a:cubicBezTo>
                <a:lnTo>
                  <a:pt x="127670" y="627324"/>
                </a:lnTo>
                <a:cubicBezTo>
                  <a:pt x="122725" y="627324"/>
                  <a:pt x="119008" y="625658"/>
                  <a:pt x="116444" y="622276"/>
                </a:cubicBezTo>
                <a:cubicBezTo>
                  <a:pt x="113879" y="618944"/>
                  <a:pt x="110731" y="616157"/>
                  <a:pt x="106938" y="613947"/>
                </a:cubicBezTo>
                <a:lnTo>
                  <a:pt x="106938" y="523320"/>
                </a:lnTo>
                <a:cubicBezTo>
                  <a:pt x="106938" y="517491"/>
                  <a:pt x="108212" y="511083"/>
                  <a:pt x="110823" y="504131"/>
                </a:cubicBezTo>
                <a:cubicBezTo>
                  <a:pt x="113480" y="497043"/>
                  <a:pt x="116843" y="490381"/>
                  <a:pt x="120989" y="483973"/>
                </a:cubicBezTo>
                <a:cubicBezTo>
                  <a:pt x="125151" y="477565"/>
                  <a:pt x="129743" y="471786"/>
                  <a:pt x="134841" y="466602"/>
                </a:cubicBezTo>
                <a:cubicBezTo>
                  <a:pt x="139879" y="461520"/>
                  <a:pt x="144916" y="458087"/>
                  <a:pt x="149876" y="456523"/>
                </a:cubicBezTo>
                <a:cubicBezTo>
                  <a:pt x="152395" y="455639"/>
                  <a:pt x="157032" y="454568"/>
                  <a:pt x="163805" y="453396"/>
                </a:cubicBezTo>
                <a:cubicBezTo>
                  <a:pt x="170562" y="452206"/>
                  <a:pt x="177826" y="451084"/>
                  <a:pt x="185520" y="449962"/>
                </a:cubicBezTo>
                <a:cubicBezTo>
                  <a:pt x="193214" y="448891"/>
                  <a:pt x="200554" y="447855"/>
                  <a:pt x="207618" y="446988"/>
                </a:cubicBezTo>
                <a:cubicBezTo>
                  <a:pt x="214652" y="446002"/>
                  <a:pt x="220088" y="445271"/>
                  <a:pt x="223897" y="444574"/>
                </a:cubicBezTo>
                <a:cubicBezTo>
                  <a:pt x="210936" y="435379"/>
                  <a:pt x="200815" y="423396"/>
                  <a:pt x="193336" y="408660"/>
                </a:cubicBezTo>
                <a:cubicBezTo>
                  <a:pt x="185904" y="393890"/>
                  <a:pt x="182233" y="377828"/>
                  <a:pt x="182233" y="360457"/>
                </a:cubicBezTo>
                <a:cubicBezTo>
                  <a:pt x="182233" y="346758"/>
                  <a:pt x="184629" y="333789"/>
                  <a:pt x="189405" y="321704"/>
                </a:cubicBezTo>
                <a:cubicBezTo>
                  <a:pt x="194181" y="309620"/>
                  <a:pt x="200677" y="298997"/>
                  <a:pt x="208770" y="289835"/>
                </a:cubicBezTo>
                <a:cubicBezTo>
                  <a:pt x="216909" y="280742"/>
                  <a:pt x="226369" y="273501"/>
                  <a:pt x="237350" y="268215"/>
                </a:cubicBezTo>
                <a:cubicBezTo>
                  <a:pt x="248269" y="262878"/>
                  <a:pt x="259940" y="260193"/>
                  <a:pt x="272364" y="260193"/>
                </a:cubicBezTo>
                <a:close/>
                <a:moveTo>
                  <a:pt x="1472109" y="254744"/>
                </a:moveTo>
                <a:cubicBezTo>
                  <a:pt x="1476777" y="254744"/>
                  <a:pt x="1481198" y="255740"/>
                  <a:pt x="1485318" y="257721"/>
                </a:cubicBezTo>
                <a:cubicBezTo>
                  <a:pt x="1489456" y="259682"/>
                  <a:pt x="1493080" y="262369"/>
                  <a:pt x="1496173" y="265743"/>
                </a:cubicBezTo>
                <a:cubicBezTo>
                  <a:pt x="1499277" y="269142"/>
                  <a:pt x="1501707" y="273084"/>
                  <a:pt x="1503484" y="277568"/>
                </a:cubicBezTo>
                <a:cubicBezTo>
                  <a:pt x="1505244" y="282052"/>
                  <a:pt x="1506144" y="286864"/>
                  <a:pt x="1506144" y="291948"/>
                </a:cubicBezTo>
                <a:cubicBezTo>
                  <a:pt x="1506144" y="298286"/>
                  <a:pt x="1504765" y="304208"/>
                  <a:pt x="1502007" y="309746"/>
                </a:cubicBezTo>
                <a:cubicBezTo>
                  <a:pt x="1499329" y="315283"/>
                  <a:pt x="1495509" y="319767"/>
                  <a:pt x="1490621" y="323179"/>
                </a:cubicBezTo>
                <a:cubicBezTo>
                  <a:pt x="1492070" y="323431"/>
                  <a:pt x="1494095" y="323709"/>
                  <a:pt x="1496755" y="324068"/>
                </a:cubicBezTo>
                <a:cubicBezTo>
                  <a:pt x="1499393" y="324396"/>
                  <a:pt x="1502151" y="324781"/>
                  <a:pt x="1505031" y="325178"/>
                </a:cubicBezTo>
                <a:cubicBezTo>
                  <a:pt x="1507887" y="325595"/>
                  <a:pt x="1510565" y="326011"/>
                  <a:pt x="1513058" y="326446"/>
                </a:cubicBezTo>
                <a:cubicBezTo>
                  <a:pt x="1515533" y="326887"/>
                  <a:pt x="1517340" y="327285"/>
                  <a:pt x="1518453" y="327613"/>
                </a:cubicBezTo>
                <a:cubicBezTo>
                  <a:pt x="1520300" y="328193"/>
                  <a:pt x="1522193" y="329429"/>
                  <a:pt x="1524074" y="331264"/>
                </a:cubicBezTo>
                <a:cubicBezTo>
                  <a:pt x="1525950" y="333131"/>
                  <a:pt x="1527692" y="335276"/>
                  <a:pt x="1529274" y="337691"/>
                </a:cubicBezTo>
                <a:cubicBezTo>
                  <a:pt x="1530866" y="340125"/>
                  <a:pt x="1532147" y="342629"/>
                  <a:pt x="1533111" y="345259"/>
                </a:cubicBezTo>
                <a:cubicBezTo>
                  <a:pt x="1534110" y="347839"/>
                  <a:pt x="1534588" y="350216"/>
                  <a:pt x="1534588" y="352380"/>
                </a:cubicBezTo>
                <a:lnTo>
                  <a:pt x="1534588" y="386007"/>
                </a:lnTo>
                <a:cubicBezTo>
                  <a:pt x="1534058" y="386266"/>
                  <a:pt x="1533480" y="386644"/>
                  <a:pt x="1532811" y="387225"/>
                </a:cubicBezTo>
                <a:cubicBezTo>
                  <a:pt x="1532147" y="387824"/>
                  <a:pt x="1531432" y="388373"/>
                  <a:pt x="1530670" y="388934"/>
                </a:cubicBezTo>
                <a:cubicBezTo>
                  <a:pt x="1529891" y="389476"/>
                  <a:pt x="1529158" y="389968"/>
                  <a:pt x="1528477" y="390365"/>
                </a:cubicBezTo>
                <a:cubicBezTo>
                  <a:pt x="1527779" y="390788"/>
                  <a:pt x="1527196" y="390971"/>
                  <a:pt x="1526729" y="390971"/>
                </a:cubicBezTo>
                <a:lnTo>
                  <a:pt x="1417737" y="390971"/>
                </a:lnTo>
                <a:cubicBezTo>
                  <a:pt x="1415879" y="390971"/>
                  <a:pt x="1414482" y="390353"/>
                  <a:pt x="1413518" y="389098"/>
                </a:cubicBezTo>
                <a:cubicBezTo>
                  <a:pt x="1412555" y="387862"/>
                  <a:pt x="1411372" y="386827"/>
                  <a:pt x="1409946" y="386007"/>
                </a:cubicBezTo>
                <a:lnTo>
                  <a:pt x="1409946" y="352380"/>
                </a:lnTo>
                <a:cubicBezTo>
                  <a:pt x="1409946" y="350216"/>
                  <a:pt x="1410425" y="347839"/>
                  <a:pt x="1411406" y="345259"/>
                </a:cubicBezTo>
                <a:cubicBezTo>
                  <a:pt x="1412405" y="342629"/>
                  <a:pt x="1413668" y="340157"/>
                  <a:pt x="1415226" y="337779"/>
                </a:cubicBezTo>
                <a:cubicBezTo>
                  <a:pt x="1416790" y="335402"/>
                  <a:pt x="1418516" y="333257"/>
                  <a:pt x="1420432" y="331334"/>
                </a:cubicBezTo>
                <a:cubicBezTo>
                  <a:pt x="1422324" y="329448"/>
                  <a:pt x="1424217" y="328174"/>
                  <a:pt x="1426081" y="327594"/>
                </a:cubicBezTo>
                <a:cubicBezTo>
                  <a:pt x="1427028" y="327266"/>
                  <a:pt x="1428770" y="326869"/>
                  <a:pt x="1431315" y="326433"/>
                </a:cubicBezTo>
                <a:cubicBezTo>
                  <a:pt x="1433854" y="325992"/>
                  <a:pt x="1436584" y="325576"/>
                  <a:pt x="1439475" y="325159"/>
                </a:cubicBezTo>
                <a:cubicBezTo>
                  <a:pt x="1442366" y="324762"/>
                  <a:pt x="1445125" y="324377"/>
                  <a:pt x="1447779" y="324056"/>
                </a:cubicBezTo>
                <a:cubicBezTo>
                  <a:pt x="1450422" y="323690"/>
                  <a:pt x="1452465" y="323419"/>
                  <a:pt x="1453896" y="323160"/>
                </a:cubicBezTo>
                <a:cubicBezTo>
                  <a:pt x="1449026" y="319748"/>
                  <a:pt x="1445223" y="315302"/>
                  <a:pt x="1442412" y="309834"/>
                </a:cubicBezTo>
                <a:cubicBezTo>
                  <a:pt x="1439619" y="304353"/>
                  <a:pt x="1438240" y="298393"/>
                  <a:pt x="1438240" y="291948"/>
                </a:cubicBezTo>
                <a:cubicBezTo>
                  <a:pt x="1438240" y="286864"/>
                  <a:pt x="1439140" y="282052"/>
                  <a:pt x="1440935" y="277568"/>
                </a:cubicBezTo>
                <a:cubicBezTo>
                  <a:pt x="1442730" y="273084"/>
                  <a:pt x="1445171" y="269142"/>
                  <a:pt x="1448212" y="265743"/>
                </a:cubicBezTo>
                <a:cubicBezTo>
                  <a:pt x="1451271" y="262369"/>
                  <a:pt x="1454825" y="259682"/>
                  <a:pt x="1458946" y="257721"/>
                </a:cubicBezTo>
                <a:cubicBezTo>
                  <a:pt x="1463054" y="255740"/>
                  <a:pt x="1467440" y="254744"/>
                  <a:pt x="1472109" y="254744"/>
                </a:cubicBezTo>
                <a:close/>
                <a:moveTo>
                  <a:pt x="757079" y="244527"/>
                </a:moveTo>
                <a:lnTo>
                  <a:pt x="813273" y="300720"/>
                </a:lnTo>
                <a:lnTo>
                  <a:pt x="757079" y="356909"/>
                </a:lnTo>
                <a:lnTo>
                  <a:pt x="700886" y="300720"/>
                </a:lnTo>
                <a:lnTo>
                  <a:pt x="757079" y="244527"/>
                </a:lnTo>
                <a:close/>
                <a:moveTo>
                  <a:pt x="1697147" y="189355"/>
                </a:moveTo>
                <a:cubicBezTo>
                  <a:pt x="1704035" y="189355"/>
                  <a:pt x="1710557" y="190830"/>
                  <a:pt x="1716636" y="193761"/>
                </a:cubicBezTo>
                <a:cubicBezTo>
                  <a:pt x="1722740" y="196663"/>
                  <a:pt x="1728087" y="200640"/>
                  <a:pt x="1732651" y="205633"/>
                </a:cubicBezTo>
                <a:cubicBezTo>
                  <a:pt x="1737232" y="210665"/>
                  <a:pt x="1740816" y="216498"/>
                  <a:pt x="1743438" y="223135"/>
                </a:cubicBezTo>
                <a:cubicBezTo>
                  <a:pt x="1746035" y="229771"/>
                  <a:pt x="1747363" y="236893"/>
                  <a:pt x="1747363" y="244416"/>
                </a:cubicBezTo>
                <a:cubicBezTo>
                  <a:pt x="1747363" y="253797"/>
                  <a:pt x="1745329" y="262562"/>
                  <a:pt x="1741259" y="270757"/>
                </a:cubicBezTo>
                <a:cubicBezTo>
                  <a:pt x="1737308" y="278952"/>
                  <a:pt x="1731672" y="285589"/>
                  <a:pt x="1724460" y="290638"/>
                </a:cubicBezTo>
                <a:cubicBezTo>
                  <a:pt x="1726597" y="291012"/>
                  <a:pt x="1729586" y="291423"/>
                  <a:pt x="1733511" y="291955"/>
                </a:cubicBezTo>
                <a:cubicBezTo>
                  <a:pt x="1737402" y="292440"/>
                  <a:pt x="1741472" y="293009"/>
                  <a:pt x="1745720" y="293597"/>
                </a:cubicBezTo>
                <a:cubicBezTo>
                  <a:pt x="1749935" y="294213"/>
                  <a:pt x="1753885" y="294829"/>
                  <a:pt x="1757563" y="295473"/>
                </a:cubicBezTo>
                <a:cubicBezTo>
                  <a:pt x="1761216" y="296127"/>
                  <a:pt x="1763881" y="296715"/>
                  <a:pt x="1765524" y="297200"/>
                </a:cubicBezTo>
                <a:cubicBezTo>
                  <a:pt x="1768249" y="298059"/>
                  <a:pt x="1771041" y="299888"/>
                  <a:pt x="1773817" y="302605"/>
                </a:cubicBezTo>
                <a:cubicBezTo>
                  <a:pt x="1776584" y="305368"/>
                  <a:pt x="1779155" y="308541"/>
                  <a:pt x="1781488" y="312116"/>
                </a:cubicBezTo>
                <a:cubicBezTo>
                  <a:pt x="1783838" y="315719"/>
                  <a:pt x="1785728" y="319425"/>
                  <a:pt x="1787150" y="323317"/>
                </a:cubicBezTo>
                <a:cubicBezTo>
                  <a:pt x="1788623" y="327135"/>
                  <a:pt x="1789338" y="330653"/>
                  <a:pt x="1789338" y="333855"/>
                </a:cubicBezTo>
                <a:lnTo>
                  <a:pt x="1789338" y="383624"/>
                </a:lnTo>
                <a:cubicBezTo>
                  <a:pt x="1788546" y="384007"/>
                  <a:pt x="1787695" y="384567"/>
                  <a:pt x="1786707" y="385426"/>
                </a:cubicBezTo>
                <a:cubicBezTo>
                  <a:pt x="1785728" y="386312"/>
                  <a:pt x="1784672" y="387124"/>
                  <a:pt x="1783549" y="387955"/>
                </a:cubicBezTo>
                <a:cubicBezTo>
                  <a:pt x="1782399" y="388758"/>
                  <a:pt x="1781318" y="389486"/>
                  <a:pt x="1780313" y="390074"/>
                </a:cubicBezTo>
                <a:cubicBezTo>
                  <a:pt x="1779283" y="390699"/>
                  <a:pt x="1778423" y="390970"/>
                  <a:pt x="1777733" y="390970"/>
                </a:cubicBezTo>
                <a:lnTo>
                  <a:pt x="1616926" y="390970"/>
                </a:lnTo>
                <a:cubicBezTo>
                  <a:pt x="1614185" y="390970"/>
                  <a:pt x="1612124" y="390055"/>
                  <a:pt x="1610703" y="388198"/>
                </a:cubicBezTo>
                <a:cubicBezTo>
                  <a:pt x="1609281" y="386368"/>
                  <a:pt x="1607535" y="384837"/>
                  <a:pt x="1605432" y="383624"/>
                </a:cubicBezTo>
                <a:lnTo>
                  <a:pt x="1605432" y="333855"/>
                </a:lnTo>
                <a:cubicBezTo>
                  <a:pt x="1605432" y="330653"/>
                  <a:pt x="1606139" y="327135"/>
                  <a:pt x="1607586" y="323317"/>
                </a:cubicBezTo>
                <a:cubicBezTo>
                  <a:pt x="1609059" y="319425"/>
                  <a:pt x="1610924" y="315766"/>
                  <a:pt x="1613223" y="312247"/>
                </a:cubicBezTo>
                <a:cubicBezTo>
                  <a:pt x="1615530" y="308728"/>
                  <a:pt x="1618076" y="305554"/>
                  <a:pt x="1620902" y="302707"/>
                </a:cubicBezTo>
                <a:cubicBezTo>
                  <a:pt x="1623695" y="299916"/>
                  <a:pt x="1626488" y="298031"/>
                  <a:pt x="1629238" y="297172"/>
                </a:cubicBezTo>
                <a:cubicBezTo>
                  <a:pt x="1630634" y="296687"/>
                  <a:pt x="1633205" y="296099"/>
                  <a:pt x="1636960" y="295455"/>
                </a:cubicBezTo>
                <a:cubicBezTo>
                  <a:pt x="1640706" y="294801"/>
                  <a:pt x="1644734" y="294185"/>
                  <a:pt x="1648999" y="293569"/>
                </a:cubicBezTo>
                <a:cubicBezTo>
                  <a:pt x="1653265" y="292981"/>
                  <a:pt x="1657335" y="292412"/>
                  <a:pt x="1661251" y="291936"/>
                </a:cubicBezTo>
                <a:cubicBezTo>
                  <a:pt x="1665151" y="291395"/>
                  <a:pt x="1668165" y="290993"/>
                  <a:pt x="1670276" y="290610"/>
                </a:cubicBezTo>
                <a:cubicBezTo>
                  <a:pt x="1663090" y="285561"/>
                  <a:pt x="1657479" y="278980"/>
                  <a:pt x="1653333" y="270888"/>
                </a:cubicBezTo>
                <a:cubicBezTo>
                  <a:pt x="1649212" y="262776"/>
                  <a:pt x="1647177" y="253956"/>
                  <a:pt x="1647177" y="244416"/>
                </a:cubicBezTo>
                <a:cubicBezTo>
                  <a:pt x="1647177" y="236893"/>
                  <a:pt x="1648505" y="229771"/>
                  <a:pt x="1651153" y="223135"/>
                </a:cubicBezTo>
                <a:cubicBezTo>
                  <a:pt x="1653801" y="216498"/>
                  <a:pt x="1657403" y="210665"/>
                  <a:pt x="1661890" y="205633"/>
                </a:cubicBezTo>
                <a:cubicBezTo>
                  <a:pt x="1666402" y="200640"/>
                  <a:pt x="1671647" y="196663"/>
                  <a:pt x="1677735" y="193761"/>
                </a:cubicBezTo>
                <a:cubicBezTo>
                  <a:pt x="1683788" y="190830"/>
                  <a:pt x="1690259" y="189355"/>
                  <a:pt x="1697147" y="189355"/>
                </a:cubicBezTo>
                <a:close/>
                <a:moveTo>
                  <a:pt x="1189600" y="173689"/>
                </a:moveTo>
                <a:lnTo>
                  <a:pt x="1245793" y="229882"/>
                </a:lnTo>
                <a:lnTo>
                  <a:pt x="1189600" y="286071"/>
                </a:lnTo>
                <a:lnTo>
                  <a:pt x="1133406" y="229882"/>
                </a:lnTo>
                <a:lnTo>
                  <a:pt x="1189600" y="173689"/>
                </a:lnTo>
                <a:close/>
                <a:moveTo>
                  <a:pt x="490416" y="155979"/>
                </a:moveTo>
                <a:lnTo>
                  <a:pt x="582369" y="247591"/>
                </a:lnTo>
                <a:lnTo>
                  <a:pt x="490416" y="339204"/>
                </a:lnTo>
                <a:lnTo>
                  <a:pt x="398463" y="247591"/>
                </a:lnTo>
                <a:lnTo>
                  <a:pt x="490416" y="155979"/>
                </a:lnTo>
                <a:close/>
                <a:moveTo>
                  <a:pt x="950624" y="83098"/>
                </a:moveTo>
                <a:cubicBezTo>
                  <a:pt x="957512" y="83098"/>
                  <a:pt x="964034" y="84568"/>
                  <a:pt x="970113" y="87489"/>
                </a:cubicBezTo>
                <a:cubicBezTo>
                  <a:pt x="976217" y="90382"/>
                  <a:pt x="981564" y="94345"/>
                  <a:pt x="986128" y="99321"/>
                </a:cubicBezTo>
                <a:cubicBezTo>
                  <a:pt x="990709" y="104336"/>
                  <a:pt x="994293" y="110150"/>
                  <a:pt x="996915" y="116764"/>
                </a:cubicBezTo>
                <a:cubicBezTo>
                  <a:pt x="999512" y="123378"/>
                  <a:pt x="1000840" y="130476"/>
                  <a:pt x="1000840" y="137973"/>
                </a:cubicBezTo>
                <a:cubicBezTo>
                  <a:pt x="1000840" y="147322"/>
                  <a:pt x="998806" y="156057"/>
                  <a:pt x="994736" y="164225"/>
                </a:cubicBezTo>
                <a:cubicBezTo>
                  <a:pt x="990785" y="172393"/>
                  <a:pt x="985149" y="179007"/>
                  <a:pt x="977937" y="184039"/>
                </a:cubicBezTo>
                <a:cubicBezTo>
                  <a:pt x="980074" y="184411"/>
                  <a:pt x="983063" y="184821"/>
                  <a:pt x="986988" y="185351"/>
                </a:cubicBezTo>
                <a:cubicBezTo>
                  <a:pt x="990879" y="185835"/>
                  <a:pt x="994949" y="186402"/>
                  <a:pt x="999197" y="186988"/>
                </a:cubicBezTo>
                <a:cubicBezTo>
                  <a:pt x="1003412" y="187602"/>
                  <a:pt x="1007362" y="188216"/>
                  <a:pt x="1011040" y="188858"/>
                </a:cubicBezTo>
                <a:cubicBezTo>
                  <a:pt x="1014693" y="189509"/>
                  <a:pt x="1017358" y="190095"/>
                  <a:pt x="1019001" y="190579"/>
                </a:cubicBezTo>
                <a:cubicBezTo>
                  <a:pt x="1021726" y="191435"/>
                  <a:pt x="1024518" y="193258"/>
                  <a:pt x="1027294" y="195965"/>
                </a:cubicBezTo>
                <a:cubicBezTo>
                  <a:pt x="1030061" y="198719"/>
                  <a:pt x="1032632" y="201882"/>
                  <a:pt x="1034965" y="205444"/>
                </a:cubicBezTo>
                <a:cubicBezTo>
                  <a:pt x="1037315" y="209035"/>
                  <a:pt x="1039205" y="212728"/>
                  <a:pt x="1040627" y="216607"/>
                </a:cubicBezTo>
                <a:cubicBezTo>
                  <a:pt x="1042100" y="220412"/>
                  <a:pt x="1042815" y="223919"/>
                  <a:pt x="1042815" y="227110"/>
                </a:cubicBezTo>
                <a:lnTo>
                  <a:pt x="1042815" y="276711"/>
                </a:lnTo>
                <a:cubicBezTo>
                  <a:pt x="1042023" y="277092"/>
                  <a:pt x="1041172" y="277650"/>
                  <a:pt x="1040184" y="278506"/>
                </a:cubicBezTo>
                <a:cubicBezTo>
                  <a:pt x="1039205" y="279390"/>
                  <a:pt x="1038149" y="280199"/>
                  <a:pt x="1037026" y="281027"/>
                </a:cubicBezTo>
                <a:cubicBezTo>
                  <a:pt x="1035876" y="281827"/>
                  <a:pt x="1034795" y="282553"/>
                  <a:pt x="1033790" y="283139"/>
                </a:cubicBezTo>
                <a:cubicBezTo>
                  <a:pt x="1032760" y="283762"/>
                  <a:pt x="1031900" y="284032"/>
                  <a:pt x="1031210" y="284032"/>
                </a:cubicBezTo>
                <a:lnTo>
                  <a:pt x="870403" y="284032"/>
                </a:lnTo>
                <a:cubicBezTo>
                  <a:pt x="867661" y="284032"/>
                  <a:pt x="865601" y="283120"/>
                  <a:pt x="864179" y="281269"/>
                </a:cubicBezTo>
                <a:cubicBezTo>
                  <a:pt x="862757" y="279446"/>
                  <a:pt x="861012" y="277920"/>
                  <a:pt x="858909" y="276711"/>
                </a:cubicBezTo>
                <a:lnTo>
                  <a:pt x="858909" y="227110"/>
                </a:lnTo>
                <a:cubicBezTo>
                  <a:pt x="858909" y="223919"/>
                  <a:pt x="859615" y="220412"/>
                  <a:pt x="861063" y="216607"/>
                </a:cubicBezTo>
                <a:cubicBezTo>
                  <a:pt x="862536" y="212728"/>
                  <a:pt x="864400" y="209082"/>
                  <a:pt x="866699" y="205575"/>
                </a:cubicBezTo>
                <a:cubicBezTo>
                  <a:pt x="869007" y="202068"/>
                  <a:pt x="871552" y="198905"/>
                  <a:pt x="874379" y="196067"/>
                </a:cubicBezTo>
                <a:cubicBezTo>
                  <a:pt x="877172" y="193286"/>
                  <a:pt x="879964" y="191407"/>
                  <a:pt x="882714" y="190551"/>
                </a:cubicBezTo>
                <a:cubicBezTo>
                  <a:pt x="884111" y="190067"/>
                  <a:pt x="886682" y="189481"/>
                  <a:pt x="890437" y="188839"/>
                </a:cubicBezTo>
                <a:cubicBezTo>
                  <a:pt x="894183" y="188188"/>
                  <a:pt x="898210" y="187574"/>
                  <a:pt x="902476" y="186960"/>
                </a:cubicBezTo>
                <a:cubicBezTo>
                  <a:pt x="906741" y="186374"/>
                  <a:pt x="910811" y="185807"/>
                  <a:pt x="914728" y="185332"/>
                </a:cubicBezTo>
                <a:cubicBezTo>
                  <a:pt x="918628" y="184793"/>
                  <a:pt x="921642" y="184393"/>
                  <a:pt x="923753" y="184011"/>
                </a:cubicBezTo>
                <a:cubicBezTo>
                  <a:pt x="916567" y="178979"/>
                  <a:pt x="910956" y="172421"/>
                  <a:pt x="906809" y="164355"/>
                </a:cubicBezTo>
                <a:cubicBezTo>
                  <a:pt x="902689" y="156271"/>
                  <a:pt x="900654" y="147481"/>
                  <a:pt x="900654" y="137973"/>
                </a:cubicBezTo>
                <a:cubicBezTo>
                  <a:pt x="900654" y="130476"/>
                  <a:pt x="901982" y="123378"/>
                  <a:pt x="904630" y="116764"/>
                </a:cubicBezTo>
                <a:cubicBezTo>
                  <a:pt x="907278" y="110150"/>
                  <a:pt x="910879" y="104336"/>
                  <a:pt x="915367" y="99321"/>
                </a:cubicBezTo>
                <a:cubicBezTo>
                  <a:pt x="919879" y="94345"/>
                  <a:pt x="925124" y="90382"/>
                  <a:pt x="931212" y="87489"/>
                </a:cubicBezTo>
                <a:cubicBezTo>
                  <a:pt x="937265" y="84568"/>
                  <a:pt x="943736" y="83098"/>
                  <a:pt x="950624" y="83098"/>
                </a:cubicBezTo>
                <a:close/>
                <a:moveTo>
                  <a:pt x="684037" y="59258"/>
                </a:moveTo>
                <a:cubicBezTo>
                  <a:pt x="688705" y="59258"/>
                  <a:pt x="693126" y="60254"/>
                  <a:pt x="697246" y="62235"/>
                </a:cubicBezTo>
                <a:cubicBezTo>
                  <a:pt x="701383" y="64196"/>
                  <a:pt x="705007" y="66883"/>
                  <a:pt x="708100" y="70257"/>
                </a:cubicBezTo>
                <a:cubicBezTo>
                  <a:pt x="711205" y="73656"/>
                  <a:pt x="713635" y="77598"/>
                  <a:pt x="715412" y="82082"/>
                </a:cubicBezTo>
                <a:cubicBezTo>
                  <a:pt x="717172" y="86566"/>
                  <a:pt x="718072" y="91378"/>
                  <a:pt x="718072" y="96462"/>
                </a:cubicBezTo>
                <a:cubicBezTo>
                  <a:pt x="718072" y="102800"/>
                  <a:pt x="716693" y="108722"/>
                  <a:pt x="713935" y="114260"/>
                </a:cubicBezTo>
                <a:cubicBezTo>
                  <a:pt x="711257" y="119797"/>
                  <a:pt x="707437" y="124281"/>
                  <a:pt x="702549" y="127693"/>
                </a:cubicBezTo>
                <a:cubicBezTo>
                  <a:pt x="703998" y="127945"/>
                  <a:pt x="706023" y="128223"/>
                  <a:pt x="708683" y="128582"/>
                </a:cubicBezTo>
                <a:cubicBezTo>
                  <a:pt x="711321" y="128910"/>
                  <a:pt x="714079" y="129295"/>
                  <a:pt x="716958" y="129692"/>
                </a:cubicBezTo>
                <a:cubicBezTo>
                  <a:pt x="719815" y="130109"/>
                  <a:pt x="722493" y="130525"/>
                  <a:pt x="724986" y="130960"/>
                </a:cubicBezTo>
                <a:cubicBezTo>
                  <a:pt x="727461" y="131401"/>
                  <a:pt x="729267" y="131799"/>
                  <a:pt x="730381" y="132127"/>
                </a:cubicBezTo>
                <a:cubicBezTo>
                  <a:pt x="732228" y="132707"/>
                  <a:pt x="734121" y="133943"/>
                  <a:pt x="736002" y="135778"/>
                </a:cubicBezTo>
                <a:cubicBezTo>
                  <a:pt x="737877" y="137645"/>
                  <a:pt x="739620" y="139790"/>
                  <a:pt x="741201" y="142205"/>
                </a:cubicBezTo>
                <a:cubicBezTo>
                  <a:pt x="742794" y="144639"/>
                  <a:pt x="744075" y="147143"/>
                  <a:pt x="745039" y="149773"/>
                </a:cubicBezTo>
                <a:cubicBezTo>
                  <a:pt x="746037" y="152353"/>
                  <a:pt x="746516" y="154730"/>
                  <a:pt x="746516" y="156894"/>
                </a:cubicBezTo>
                <a:lnTo>
                  <a:pt x="746516" y="190521"/>
                </a:lnTo>
                <a:cubicBezTo>
                  <a:pt x="745985" y="190780"/>
                  <a:pt x="745408" y="191158"/>
                  <a:pt x="744739" y="191739"/>
                </a:cubicBezTo>
                <a:cubicBezTo>
                  <a:pt x="744075" y="192338"/>
                  <a:pt x="743359" y="192887"/>
                  <a:pt x="742598" y="193448"/>
                </a:cubicBezTo>
                <a:cubicBezTo>
                  <a:pt x="741819" y="193990"/>
                  <a:pt x="741086" y="194482"/>
                  <a:pt x="740405" y="194879"/>
                </a:cubicBezTo>
                <a:cubicBezTo>
                  <a:pt x="739707" y="195302"/>
                  <a:pt x="739124" y="195485"/>
                  <a:pt x="738656" y="195485"/>
                </a:cubicBezTo>
                <a:lnTo>
                  <a:pt x="629665" y="195485"/>
                </a:lnTo>
                <a:cubicBezTo>
                  <a:pt x="627807" y="195485"/>
                  <a:pt x="626411" y="194867"/>
                  <a:pt x="625447" y="193612"/>
                </a:cubicBezTo>
                <a:cubicBezTo>
                  <a:pt x="624483" y="192376"/>
                  <a:pt x="623300" y="191341"/>
                  <a:pt x="621875" y="190521"/>
                </a:cubicBezTo>
                <a:lnTo>
                  <a:pt x="621875" y="156894"/>
                </a:lnTo>
                <a:cubicBezTo>
                  <a:pt x="621875" y="154730"/>
                  <a:pt x="622354" y="152353"/>
                  <a:pt x="623335" y="149773"/>
                </a:cubicBezTo>
                <a:cubicBezTo>
                  <a:pt x="624333" y="147143"/>
                  <a:pt x="625597" y="144671"/>
                  <a:pt x="627155" y="142293"/>
                </a:cubicBezTo>
                <a:cubicBezTo>
                  <a:pt x="628719" y="139916"/>
                  <a:pt x="630444" y="137771"/>
                  <a:pt x="632360" y="135848"/>
                </a:cubicBezTo>
                <a:cubicBezTo>
                  <a:pt x="634253" y="133962"/>
                  <a:pt x="636146" y="132688"/>
                  <a:pt x="638010" y="132108"/>
                </a:cubicBezTo>
                <a:cubicBezTo>
                  <a:pt x="638956" y="131780"/>
                  <a:pt x="640699" y="131383"/>
                  <a:pt x="643244" y="130947"/>
                </a:cubicBezTo>
                <a:cubicBezTo>
                  <a:pt x="645783" y="130506"/>
                  <a:pt x="648512" y="130090"/>
                  <a:pt x="651403" y="129673"/>
                </a:cubicBezTo>
                <a:cubicBezTo>
                  <a:pt x="654295" y="129276"/>
                  <a:pt x="657053" y="128891"/>
                  <a:pt x="659707" y="128570"/>
                </a:cubicBezTo>
                <a:cubicBezTo>
                  <a:pt x="662350" y="128204"/>
                  <a:pt x="664393" y="127933"/>
                  <a:pt x="665824" y="127674"/>
                </a:cubicBezTo>
                <a:cubicBezTo>
                  <a:pt x="660954" y="124262"/>
                  <a:pt x="657151" y="119816"/>
                  <a:pt x="654341" y="114348"/>
                </a:cubicBezTo>
                <a:cubicBezTo>
                  <a:pt x="651548" y="108867"/>
                  <a:pt x="650168" y="102907"/>
                  <a:pt x="650168" y="96462"/>
                </a:cubicBezTo>
                <a:cubicBezTo>
                  <a:pt x="650168" y="91378"/>
                  <a:pt x="651069" y="86566"/>
                  <a:pt x="652863" y="82082"/>
                </a:cubicBezTo>
                <a:cubicBezTo>
                  <a:pt x="654658" y="77598"/>
                  <a:pt x="657099" y="73656"/>
                  <a:pt x="660140" y="70257"/>
                </a:cubicBezTo>
                <a:cubicBezTo>
                  <a:pt x="663199" y="66883"/>
                  <a:pt x="666753" y="64196"/>
                  <a:pt x="670874" y="62235"/>
                </a:cubicBezTo>
                <a:cubicBezTo>
                  <a:pt x="674982" y="60254"/>
                  <a:pt x="679368" y="59258"/>
                  <a:pt x="684037" y="59258"/>
                </a:cubicBezTo>
                <a:close/>
                <a:moveTo>
                  <a:pt x="1371301" y="53128"/>
                </a:moveTo>
                <a:cubicBezTo>
                  <a:pt x="1375969" y="53128"/>
                  <a:pt x="1380390" y="54124"/>
                  <a:pt x="1384510" y="56105"/>
                </a:cubicBezTo>
                <a:cubicBezTo>
                  <a:pt x="1388648" y="58066"/>
                  <a:pt x="1392272" y="60753"/>
                  <a:pt x="1395365" y="64127"/>
                </a:cubicBezTo>
                <a:cubicBezTo>
                  <a:pt x="1398469" y="67526"/>
                  <a:pt x="1400899" y="71468"/>
                  <a:pt x="1402676" y="75952"/>
                </a:cubicBezTo>
                <a:cubicBezTo>
                  <a:pt x="1404436" y="80436"/>
                  <a:pt x="1405336" y="85248"/>
                  <a:pt x="1405336" y="90332"/>
                </a:cubicBezTo>
                <a:cubicBezTo>
                  <a:pt x="1405336" y="96670"/>
                  <a:pt x="1403957" y="102592"/>
                  <a:pt x="1401199" y="108130"/>
                </a:cubicBezTo>
                <a:cubicBezTo>
                  <a:pt x="1398521" y="113667"/>
                  <a:pt x="1394701" y="118151"/>
                  <a:pt x="1389813" y="121563"/>
                </a:cubicBezTo>
                <a:cubicBezTo>
                  <a:pt x="1391262" y="121815"/>
                  <a:pt x="1393287" y="122093"/>
                  <a:pt x="1395947" y="122452"/>
                </a:cubicBezTo>
                <a:cubicBezTo>
                  <a:pt x="1398585" y="122780"/>
                  <a:pt x="1401343" y="123165"/>
                  <a:pt x="1404223" y="123562"/>
                </a:cubicBezTo>
                <a:cubicBezTo>
                  <a:pt x="1407079" y="123979"/>
                  <a:pt x="1409757" y="124395"/>
                  <a:pt x="1412250" y="124830"/>
                </a:cubicBezTo>
                <a:cubicBezTo>
                  <a:pt x="1414725" y="125271"/>
                  <a:pt x="1416532" y="125669"/>
                  <a:pt x="1417645" y="125997"/>
                </a:cubicBezTo>
                <a:cubicBezTo>
                  <a:pt x="1419492" y="126577"/>
                  <a:pt x="1421385" y="127813"/>
                  <a:pt x="1423266" y="129648"/>
                </a:cubicBezTo>
                <a:cubicBezTo>
                  <a:pt x="1425142" y="131515"/>
                  <a:pt x="1426884" y="133660"/>
                  <a:pt x="1428466" y="136075"/>
                </a:cubicBezTo>
                <a:cubicBezTo>
                  <a:pt x="1430058" y="138509"/>
                  <a:pt x="1431339" y="141013"/>
                  <a:pt x="1432303" y="143643"/>
                </a:cubicBezTo>
                <a:cubicBezTo>
                  <a:pt x="1433302" y="146223"/>
                  <a:pt x="1433780" y="148600"/>
                  <a:pt x="1433780" y="150764"/>
                </a:cubicBezTo>
                <a:lnTo>
                  <a:pt x="1433780" y="184391"/>
                </a:lnTo>
                <a:cubicBezTo>
                  <a:pt x="1433250" y="184650"/>
                  <a:pt x="1432672" y="185028"/>
                  <a:pt x="1432003" y="185609"/>
                </a:cubicBezTo>
                <a:cubicBezTo>
                  <a:pt x="1431339" y="186208"/>
                  <a:pt x="1430624" y="186757"/>
                  <a:pt x="1429862" y="187318"/>
                </a:cubicBezTo>
                <a:cubicBezTo>
                  <a:pt x="1429083" y="187860"/>
                  <a:pt x="1428350" y="188352"/>
                  <a:pt x="1427669" y="188749"/>
                </a:cubicBezTo>
                <a:cubicBezTo>
                  <a:pt x="1426971" y="189172"/>
                  <a:pt x="1426388" y="189355"/>
                  <a:pt x="1425921" y="189355"/>
                </a:cubicBezTo>
                <a:lnTo>
                  <a:pt x="1316929" y="189355"/>
                </a:lnTo>
                <a:cubicBezTo>
                  <a:pt x="1315071" y="189355"/>
                  <a:pt x="1313674" y="188737"/>
                  <a:pt x="1312710" y="187482"/>
                </a:cubicBezTo>
                <a:cubicBezTo>
                  <a:pt x="1311747" y="186246"/>
                  <a:pt x="1310564" y="185211"/>
                  <a:pt x="1309138" y="184391"/>
                </a:cubicBezTo>
                <a:lnTo>
                  <a:pt x="1309138" y="150764"/>
                </a:lnTo>
                <a:cubicBezTo>
                  <a:pt x="1309138" y="148600"/>
                  <a:pt x="1309617" y="146223"/>
                  <a:pt x="1310598" y="143643"/>
                </a:cubicBezTo>
                <a:cubicBezTo>
                  <a:pt x="1311597" y="141013"/>
                  <a:pt x="1312860" y="138541"/>
                  <a:pt x="1314418" y="136163"/>
                </a:cubicBezTo>
                <a:cubicBezTo>
                  <a:pt x="1315982" y="133786"/>
                  <a:pt x="1317708" y="131641"/>
                  <a:pt x="1319624" y="129718"/>
                </a:cubicBezTo>
                <a:cubicBezTo>
                  <a:pt x="1321516" y="127832"/>
                  <a:pt x="1323409" y="126558"/>
                  <a:pt x="1325273" y="125978"/>
                </a:cubicBezTo>
                <a:cubicBezTo>
                  <a:pt x="1326220" y="125650"/>
                  <a:pt x="1327962" y="125253"/>
                  <a:pt x="1330507" y="124817"/>
                </a:cubicBezTo>
                <a:cubicBezTo>
                  <a:pt x="1333046" y="124376"/>
                  <a:pt x="1335776" y="123960"/>
                  <a:pt x="1338667" y="123543"/>
                </a:cubicBezTo>
                <a:cubicBezTo>
                  <a:pt x="1341558" y="123146"/>
                  <a:pt x="1344317" y="122761"/>
                  <a:pt x="1346971" y="122440"/>
                </a:cubicBezTo>
                <a:cubicBezTo>
                  <a:pt x="1349614" y="122074"/>
                  <a:pt x="1351657" y="121803"/>
                  <a:pt x="1353088" y="121544"/>
                </a:cubicBezTo>
                <a:cubicBezTo>
                  <a:pt x="1348218" y="118132"/>
                  <a:pt x="1344415" y="113686"/>
                  <a:pt x="1341604" y="108218"/>
                </a:cubicBezTo>
                <a:cubicBezTo>
                  <a:pt x="1338811" y="102737"/>
                  <a:pt x="1337432" y="96777"/>
                  <a:pt x="1337432" y="90332"/>
                </a:cubicBezTo>
                <a:cubicBezTo>
                  <a:pt x="1337432" y="85248"/>
                  <a:pt x="1338332" y="80436"/>
                  <a:pt x="1340127" y="75952"/>
                </a:cubicBezTo>
                <a:cubicBezTo>
                  <a:pt x="1341922" y="71468"/>
                  <a:pt x="1344363" y="67526"/>
                  <a:pt x="1347404" y="64127"/>
                </a:cubicBezTo>
                <a:cubicBezTo>
                  <a:pt x="1350463" y="60753"/>
                  <a:pt x="1354017" y="58066"/>
                  <a:pt x="1358138" y="56105"/>
                </a:cubicBezTo>
                <a:cubicBezTo>
                  <a:pt x="1362246" y="54124"/>
                  <a:pt x="1366632" y="53128"/>
                  <a:pt x="1371301" y="53128"/>
                </a:cubicBezTo>
                <a:close/>
                <a:moveTo>
                  <a:pt x="847222" y="23839"/>
                </a:moveTo>
                <a:cubicBezTo>
                  <a:pt x="850334" y="23839"/>
                  <a:pt x="853281" y="24531"/>
                  <a:pt x="856028" y="25908"/>
                </a:cubicBezTo>
                <a:cubicBezTo>
                  <a:pt x="858787" y="27271"/>
                  <a:pt x="861203" y="29138"/>
                  <a:pt x="863265" y="31483"/>
                </a:cubicBezTo>
                <a:cubicBezTo>
                  <a:pt x="865334" y="33846"/>
                  <a:pt x="866954" y="36585"/>
                  <a:pt x="868139" y="39702"/>
                </a:cubicBezTo>
                <a:cubicBezTo>
                  <a:pt x="869312" y="42818"/>
                  <a:pt x="869912" y="46163"/>
                  <a:pt x="869912" y="49696"/>
                </a:cubicBezTo>
                <a:cubicBezTo>
                  <a:pt x="869912" y="54101"/>
                  <a:pt x="868993" y="58217"/>
                  <a:pt x="867154" y="62065"/>
                </a:cubicBezTo>
                <a:cubicBezTo>
                  <a:pt x="865369" y="65914"/>
                  <a:pt x="862822" y="69030"/>
                  <a:pt x="859564" y="71401"/>
                </a:cubicBezTo>
                <a:cubicBezTo>
                  <a:pt x="860529" y="71577"/>
                  <a:pt x="861880" y="71770"/>
                  <a:pt x="863653" y="72020"/>
                </a:cubicBezTo>
                <a:cubicBezTo>
                  <a:pt x="865411" y="72247"/>
                  <a:pt x="867250" y="72515"/>
                  <a:pt x="869170" y="72791"/>
                </a:cubicBezTo>
                <a:cubicBezTo>
                  <a:pt x="871074" y="73080"/>
                  <a:pt x="872859" y="73370"/>
                  <a:pt x="874521" y="73672"/>
                </a:cubicBezTo>
                <a:cubicBezTo>
                  <a:pt x="876172" y="73979"/>
                  <a:pt x="877376" y="74255"/>
                  <a:pt x="878118" y="74483"/>
                </a:cubicBezTo>
                <a:cubicBezTo>
                  <a:pt x="879349" y="74886"/>
                  <a:pt x="880611" y="75745"/>
                  <a:pt x="881865" y="77021"/>
                </a:cubicBezTo>
                <a:cubicBezTo>
                  <a:pt x="883116" y="78318"/>
                  <a:pt x="884278" y="79809"/>
                  <a:pt x="885332" y="81487"/>
                </a:cubicBezTo>
                <a:cubicBezTo>
                  <a:pt x="886394" y="83179"/>
                  <a:pt x="887248" y="84919"/>
                  <a:pt x="887890" y="86747"/>
                </a:cubicBezTo>
                <a:cubicBezTo>
                  <a:pt x="888556" y="88540"/>
                  <a:pt x="888879" y="90192"/>
                  <a:pt x="888879" y="91696"/>
                </a:cubicBezTo>
                <a:lnTo>
                  <a:pt x="888879" y="115067"/>
                </a:lnTo>
                <a:cubicBezTo>
                  <a:pt x="888521" y="115247"/>
                  <a:pt x="888136" y="115510"/>
                  <a:pt x="887690" y="115913"/>
                </a:cubicBezTo>
                <a:cubicBezTo>
                  <a:pt x="887248" y="116330"/>
                  <a:pt x="886771" y="116711"/>
                  <a:pt x="886263" y="117101"/>
                </a:cubicBezTo>
                <a:cubicBezTo>
                  <a:pt x="885743" y="117478"/>
                  <a:pt x="885255" y="117820"/>
                  <a:pt x="884801" y="118096"/>
                </a:cubicBezTo>
                <a:cubicBezTo>
                  <a:pt x="884335" y="118390"/>
                  <a:pt x="883947" y="118517"/>
                  <a:pt x="883635" y="118517"/>
                </a:cubicBezTo>
                <a:lnTo>
                  <a:pt x="810974" y="118517"/>
                </a:lnTo>
                <a:cubicBezTo>
                  <a:pt x="809736" y="118517"/>
                  <a:pt x="808805" y="118087"/>
                  <a:pt x="808162" y="117215"/>
                </a:cubicBezTo>
                <a:cubicBezTo>
                  <a:pt x="807520" y="116356"/>
                  <a:pt x="806731" y="115637"/>
                  <a:pt x="805781" y="115067"/>
                </a:cubicBezTo>
                <a:lnTo>
                  <a:pt x="805781" y="91696"/>
                </a:lnTo>
                <a:cubicBezTo>
                  <a:pt x="805781" y="90192"/>
                  <a:pt x="806100" y="88540"/>
                  <a:pt x="806754" y="86747"/>
                </a:cubicBezTo>
                <a:cubicBezTo>
                  <a:pt x="807420" y="84919"/>
                  <a:pt x="808262" y="83201"/>
                  <a:pt x="809301" y="81549"/>
                </a:cubicBezTo>
                <a:cubicBezTo>
                  <a:pt x="810343" y="79896"/>
                  <a:pt x="811494" y="78406"/>
                  <a:pt x="812771" y="77069"/>
                </a:cubicBezTo>
                <a:cubicBezTo>
                  <a:pt x="814033" y="75758"/>
                  <a:pt x="815295" y="74873"/>
                  <a:pt x="816537" y="74470"/>
                </a:cubicBezTo>
                <a:cubicBezTo>
                  <a:pt x="817168" y="74242"/>
                  <a:pt x="818330" y="73966"/>
                  <a:pt x="820027" y="73663"/>
                </a:cubicBezTo>
                <a:cubicBezTo>
                  <a:pt x="821719" y="73356"/>
                  <a:pt x="823539" y="73067"/>
                  <a:pt x="825467" y="72778"/>
                </a:cubicBezTo>
                <a:cubicBezTo>
                  <a:pt x="827394" y="72502"/>
                  <a:pt x="829233" y="72234"/>
                  <a:pt x="831003" y="72011"/>
                </a:cubicBezTo>
                <a:cubicBezTo>
                  <a:pt x="832765" y="71757"/>
                  <a:pt x="834126" y="71568"/>
                  <a:pt x="835080" y="71388"/>
                </a:cubicBezTo>
                <a:cubicBezTo>
                  <a:pt x="831834" y="69017"/>
                  <a:pt x="829298" y="65927"/>
                  <a:pt x="827425" y="62127"/>
                </a:cubicBezTo>
                <a:cubicBezTo>
                  <a:pt x="825563" y="58318"/>
                  <a:pt x="824643" y="54175"/>
                  <a:pt x="824643" y="49696"/>
                </a:cubicBezTo>
                <a:cubicBezTo>
                  <a:pt x="824643" y="46163"/>
                  <a:pt x="825243" y="42818"/>
                  <a:pt x="826440" y="39702"/>
                </a:cubicBezTo>
                <a:cubicBezTo>
                  <a:pt x="827636" y="36585"/>
                  <a:pt x="829264" y="33846"/>
                  <a:pt x="831291" y="31483"/>
                </a:cubicBezTo>
                <a:cubicBezTo>
                  <a:pt x="833330" y="29138"/>
                  <a:pt x="835700" y="27271"/>
                  <a:pt x="838451" y="25908"/>
                </a:cubicBezTo>
                <a:cubicBezTo>
                  <a:pt x="841186" y="24531"/>
                  <a:pt x="844110" y="23839"/>
                  <a:pt x="847222" y="23839"/>
                </a:cubicBezTo>
                <a:close/>
                <a:moveTo>
                  <a:pt x="1134267" y="0"/>
                </a:moveTo>
                <a:cubicBezTo>
                  <a:pt x="1138935" y="0"/>
                  <a:pt x="1143356" y="996"/>
                  <a:pt x="1147476" y="2977"/>
                </a:cubicBezTo>
                <a:cubicBezTo>
                  <a:pt x="1151614" y="4938"/>
                  <a:pt x="1155238" y="7625"/>
                  <a:pt x="1158331" y="10999"/>
                </a:cubicBezTo>
                <a:cubicBezTo>
                  <a:pt x="1161435" y="14398"/>
                  <a:pt x="1163865" y="18340"/>
                  <a:pt x="1165642" y="22824"/>
                </a:cubicBezTo>
                <a:cubicBezTo>
                  <a:pt x="1167402" y="27308"/>
                  <a:pt x="1168302" y="32120"/>
                  <a:pt x="1168302" y="37204"/>
                </a:cubicBezTo>
                <a:cubicBezTo>
                  <a:pt x="1168302" y="43542"/>
                  <a:pt x="1166923" y="49464"/>
                  <a:pt x="1164165" y="55002"/>
                </a:cubicBezTo>
                <a:cubicBezTo>
                  <a:pt x="1161487" y="60539"/>
                  <a:pt x="1157667" y="65023"/>
                  <a:pt x="1152779" y="68435"/>
                </a:cubicBezTo>
                <a:cubicBezTo>
                  <a:pt x="1154228" y="68687"/>
                  <a:pt x="1156253" y="68965"/>
                  <a:pt x="1158913" y="69324"/>
                </a:cubicBezTo>
                <a:cubicBezTo>
                  <a:pt x="1161551" y="69652"/>
                  <a:pt x="1164309" y="70037"/>
                  <a:pt x="1167189" y="70434"/>
                </a:cubicBezTo>
                <a:cubicBezTo>
                  <a:pt x="1170045" y="70851"/>
                  <a:pt x="1172723" y="71267"/>
                  <a:pt x="1175216" y="71702"/>
                </a:cubicBezTo>
                <a:cubicBezTo>
                  <a:pt x="1177691" y="72143"/>
                  <a:pt x="1179498" y="72541"/>
                  <a:pt x="1180611" y="72869"/>
                </a:cubicBezTo>
                <a:cubicBezTo>
                  <a:pt x="1182458" y="73449"/>
                  <a:pt x="1184351" y="74685"/>
                  <a:pt x="1186232" y="76520"/>
                </a:cubicBezTo>
                <a:cubicBezTo>
                  <a:pt x="1188108" y="78387"/>
                  <a:pt x="1189850" y="80532"/>
                  <a:pt x="1191432" y="82947"/>
                </a:cubicBezTo>
                <a:cubicBezTo>
                  <a:pt x="1193024" y="85381"/>
                  <a:pt x="1194305" y="87885"/>
                  <a:pt x="1195269" y="90515"/>
                </a:cubicBezTo>
                <a:cubicBezTo>
                  <a:pt x="1196268" y="93095"/>
                  <a:pt x="1196746" y="95472"/>
                  <a:pt x="1196746" y="97636"/>
                </a:cubicBezTo>
                <a:lnTo>
                  <a:pt x="1196746" y="131263"/>
                </a:lnTo>
                <a:cubicBezTo>
                  <a:pt x="1196216" y="131522"/>
                  <a:pt x="1195638" y="131900"/>
                  <a:pt x="1194969" y="132481"/>
                </a:cubicBezTo>
                <a:cubicBezTo>
                  <a:pt x="1194305" y="133080"/>
                  <a:pt x="1193590" y="133629"/>
                  <a:pt x="1192828" y="134190"/>
                </a:cubicBezTo>
                <a:cubicBezTo>
                  <a:pt x="1192049" y="134732"/>
                  <a:pt x="1191316" y="135224"/>
                  <a:pt x="1190635" y="135621"/>
                </a:cubicBezTo>
                <a:cubicBezTo>
                  <a:pt x="1189937" y="136044"/>
                  <a:pt x="1189354" y="136227"/>
                  <a:pt x="1188887" y="136227"/>
                </a:cubicBezTo>
                <a:lnTo>
                  <a:pt x="1079895" y="136227"/>
                </a:lnTo>
                <a:cubicBezTo>
                  <a:pt x="1078037" y="136227"/>
                  <a:pt x="1076640" y="135609"/>
                  <a:pt x="1075676" y="134354"/>
                </a:cubicBezTo>
                <a:cubicBezTo>
                  <a:pt x="1074713" y="133118"/>
                  <a:pt x="1073530" y="132083"/>
                  <a:pt x="1072104" y="131263"/>
                </a:cubicBezTo>
                <a:lnTo>
                  <a:pt x="1072104" y="97636"/>
                </a:lnTo>
                <a:cubicBezTo>
                  <a:pt x="1072104" y="95472"/>
                  <a:pt x="1072583" y="93095"/>
                  <a:pt x="1073564" y="90515"/>
                </a:cubicBezTo>
                <a:cubicBezTo>
                  <a:pt x="1074563" y="87885"/>
                  <a:pt x="1075826" y="85413"/>
                  <a:pt x="1077384" y="83035"/>
                </a:cubicBezTo>
                <a:cubicBezTo>
                  <a:pt x="1078948" y="80658"/>
                  <a:pt x="1080674" y="78513"/>
                  <a:pt x="1082590" y="76590"/>
                </a:cubicBezTo>
                <a:cubicBezTo>
                  <a:pt x="1084482" y="74704"/>
                  <a:pt x="1086375" y="73430"/>
                  <a:pt x="1088239" y="72850"/>
                </a:cubicBezTo>
                <a:cubicBezTo>
                  <a:pt x="1089186" y="72522"/>
                  <a:pt x="1090928" y="72125"/>
                  <a:pt x="1093473" y="71689"/>
                </a:cubicBezTo>
                <a:cubicBezTo>
                  <a:pt x="1096012" y="71248"/>
                  <a:pt x="1098742" y="70832"/>
                  <a:pt x="1101633" y="70415"/>
                </a:cubicBezTo>
                <a:cubicBezTo>
                  <a:pt x="1104524" y="70018"/>
                  <a:pt x="1107283" y="69633"/>
                  <a:pt x="1109937" y="69312"/>
                </a:cubicBezTo>
                <a:cubicBezTo>
                  <a:pt x="1112580" y="68946"/>
                  <a:pt x="1114623" y="68675"/>
                  <a:pt x="1116054" y="68416"/>
                </a:cubicBezTo>
                <a:cubicBezTo>
                  <a:pt x="1111184" y="65004"/>
                  <a:pt x="1107381" y="60558"/>
                  <a:pt x="1104570" y="55090"/>
                </a:cubicBezTo>
                <a:cubicBezTo>
                  <a:pt x="1101777" y="49609"/>
                  <a:pt x="1100398" y="43649"/>
                  <a:pt x="1100398" y="37204"/>
                </a:cubicBezTo>
                <a:cubicBezTo>
                  <a:pt x="1100398" y="32120"/>
                  <a:pt x="1101298" y="27308"/>
                  <a:pt x="1103093" y="22824"/>
                </a:cubicBezTo>
                <a:cubicBezTo>
                  <a:pt x="1104888" y="18340"/>
                  <a:pt x="1107329" y="14398"/>
                  <a:pt x="1110370" y="10999"/>
                </a:cubicBezTo>
                <a:cubicBezTo>
                  <a:pt x="1113429" y="7625"/>
                  <a:pt x="1116983" y="4938"/>
                  <a:pt x="1121104" y="2977"/>
                </a:cubicBezTo>
                <a:cubicBezTo>
                  <a:pt x="1125212" y="996"/>
                  <a:pt x="1129598" y="0"/>
                  <a:pt x="1134267" y="0"/>
                </a:cubicBezTo>
                <a:close/>
              </a:path>
            </a:pathLst>
          </a:custGeom>
          <a:solidFill>
            <a:srgbClr val="1d087d"/>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20" name="任意多边形 276"/>
          <p:cNvSpPr/>
          <p:nvPr/>
        </p:nvSpPr>
        <p:spPr>
          <a:xfrm>
            <a:off x="2759040" y="2028960"/>
            <a:ext cx="1581120" cy="1908000"/>
          </a:xfrm>
          <a:custGeom>
            <a:avLst/>
            <a:gdLst/>
            <a:ahLst/>
            <a:rect l="l" t="t" r="r" b="b"/>
            <a:pathLst>
              <a:path w="1581592" h="1909210">
                <a:moveTo>
                  <a:pt x="705575" y="1830886"/>
                </a:moveTo>
                <a:cubicBezTo>
                  <a:pt x="707871" y="1830886"/>
                  <a:pt x="710045" y="1831394"/>
                  <a:pt x="712071" y="1832404"/>
                </a:cubicBezTo>
                <a:cubicBezTo>
                  <a:pt x="714106" y="1833405"/>
                  <a:pt x="715888" y="1834775"/>
                  <a:pt x="717409" y="1836496"/>
                </a:cubicBezTo>
                <a:cubicBezTo>
                  <a:pt x="718936" y="1838229"/>
                  <a:pt x="720131" y="1840240"/>
                  <a:pt x="721005" y="1842527"/>
                </a:cubicBezTo>
                <a:cubicBezTo>
                  <a:pt x="721871" y="1844813"/>
                  <a:pt x="722314" y="1847268"/>
                  <a:pt x="722314" y="1849860"/>
                </a:cubicBezTo>
                <a:cubicBezTo>
                  <a:pt x="722314" y="1853093"/>
                  <a:pt x="721635" y="1856113"/>
                  <a:pt x="720279" y="1858937"/>
                </a:cubicBezTo>
                <a:cubicBezTo>
                  <a:pt x="718962" y="1861761"/>
                  <a:pt x="717083" y="1864048"/>
                  <a:pt x="714679" y="1865788"/>
                </a:cubicBezTo>
                <a:cubicBezTo>
                  <a:pt x="715391" y="1865917"/>
                  <a:pt x="716388" y="1866058"/>
                  <a:pt x="717696" y="1866242"/>
                </a:cubicBezTo>
                <a:cubicBezTo>
                  <a:pt x="718993" y="1866409"/>
                  <a:pt x="720350" y="1866605"/>
                  <a:pt x="721766" y="1866808"/>
                </a:cubicBezTo>
                <a:cubicBezTo>
                  <a:pt x="723171" y="1867020"/>
                  <a:pt x="724487" y="1867232"/>
                  <a:pt x="725714" y="1867454"/>
                </a:cubicBezTo>
                <a:cubicBezTo>
                  <a:pt x="726931" y="1867679"/>
                  <a:pt x="727819" y="1867882"/>
                  <a:pt x="728367" y="1868049"/>
                </a:cubicBezTo>
                <a:cubicBezTo>
                  <a:pt x="729275" y="1868345"/>
                  <a:pt x="730206" y="1868976"/>
                  <a:pt x="731131" y="1869912"/>
                </a:cubicBezTo>
                <a:cubicBezTo>
                  <a:pt x="732054" y="1870864"/>
                  <a:pt x="732911" y="1871957"/>
                  <a:pt x="733688" y="1873189"/>
                </a:cubicBezTo>
                <a:cubicBezTo>
                  <a:pt x="734472" y="1874431"/>
                  <a:pt x="735102" y="1875708"/>
                  <a:pt x="735576" y="1877049"/>
                </a:cubicBezTo>
                <a:cubicBezTo>
                  <a:pt x="736067" y="1878365"/>
                  <a:pt x="736305" y="1879577"/>
                  <a:pt x="736305" y="1880680"/>
                </a:cubicBezTo>
                <a:lnTo>
                  <a:pt x="736305" y="1897831"/>
                </a:lnTo>
                <a:cubicBezTo>
                  <a:pt x="736041" y="1897963"/>
                  <a:pt x="735757" y="1898156"/>
                  <a:pt x="735428" y="1898452"/>
                </a:cubicBezTo>
                <a:cubicBezTo>
                  <a:pt x="735102" y="1898757"/>
                  <a:pt x="734750" y="1899037"/>
                  <a:pt x="734375" y="1899323"/>
                </a:cubicBezTo>
                <a:cubicBezTo>
                  <a:pt x="733992" y="1899600"/>
                  <a:pt x="733632" y="1899851"/>
                  <a:pt x="733297" y="1900053"/>
                </a:cubicBezTo>
                <a:cubicBezTo>
                  <a:pt x="732953" y="1900269"/>
                  <a:pt x="732667" y="1900359"/>
                  <a:pt x="732437" y="1900359"/>
                </a:cubicBezTo>
                <a:lnTo>
                  <a:pt x="678835" y="1900359"/>
                </a:lnTo>
                <a:cubicBezTo>
                  <a:pt x="677921" y="1900359"/>
                  <a:pt x="677234" y="1900047"/>
                  <a:pt x="676760" y="1899407"/>
                </a:cubicBezTo>
                <a:cubicBezTo>
                  <a:pt x="676286" y="1898776"/>
                  <a:pt x="675704" y="1898249"/>
                  <a:pt x="675003" y="1897831"/>
                </a:cubicBezTo>
                <a:lnTo>
                  <a:pt x="675003" y="1880680"/>
                </a:lnTo>
                <a:cubicBezTo>
                  <a:pt x="675003" y="1879577"/>
                  <a:pt x="675239" y="1878365"/>
                  <a:pt x="675721" y="1877049"/>
                </a:cubicBezTo>
                <a:cubicBezTo>
                  <a:pt x="676212" y="1875708"/>
                  <a:pt x="676834" y="1874447"/>
                  <a:pt x="677600" y="1873234"/>
                </a:cubicBezTo>
                <a:cubicBezTo>
                  <a:pt x="678369" y="1872022"/>
                  <a:pt x="679218" y="1870928"/>
                  <a:pt x="680160" y="1869947"/>
                </a:cubicBezTo>
                <a:cubicBezTo>
                  <a:pt x="681091" y="1868985"/>
                  <a:pt x="682022" y="1868336"/>
                  <a:pt x="682938" y="1868040"/>
                </a:cubicBezTo>
                <a:cubicBezTo>
                  <a:pt x="683404" y="1867872"/>
                  <a:pt x="684261" y="1867670"/>
                  <a:pt x="685512" y="1867448"/>
                </a:cubicBezTo>
                <a:cubicBezTo>
                  <a:pt x="686761" y="1867223"/>
                  <a:pt x="688104" y="1867010"/>
                  <a:pt x="689525" y="1866798"/>
                </a:cubicBezTo>
                <a:cubicBezTo>
                  <a:pt x="690947" y="1866596"/>
                  <a:pt x="692304" y="1866399"/>
                  <a:pt x="693609" y="1866235"/>
                </a:cubicBezTo>
                <a:cubicBezTo>
                  <a:pt x="694909" y="1866049"/>
                  <a:pt x="695914" y="1865910"/>
                  <a:pt x="696618" y="1865779"/>
                </a:cubicBezTo>
                <a:cubicBezTo>
                  <a:pt x="694222" y="1864038"/>
                  <a:pt x="692352" y="1861771"/>
                  <a:pt x="690970" y="1858982"/>
                </a:cubicBezTo>
                <a:cubicBezTo>
                  <a:pt x="689596" y="1856187"/>
                  <a:pt x="688918" y="1853147"/>
                  <a:pt x="688918" y="1849860"/>
                </a:cubicBezTo>
                <a:cubicBezTo>
                  <a:pt x="688918" y="1847268"/>
                  <a:pt x="689361" y="1844813"/>
                  <a:pt x="690243" y="1842527"/>
                </a:cubicBezTo>
                <a:cubicBezTo>
                  <a:pt x="691126" y="1840240"/>
                  <a:pt x="692327" y="1838229"/>
                  <a:pt x="693822" y="1836496"/>
                </a:cubicBezTo>
                <a:cubicBezTo>
                  <a:pt x="695326" y="1834775"/>
                  <a:pt x="697075" y="1833405"/>
                  <a:pt x="699104" y="1832404"/>
                </a:cubicBezTo>
                <a:cubicBezTo>
                  <a:pt x="701122" y="1831394"/>
                  <a:pt x="703279" y="1830886"/>
                  <a:pt x="705575" y="1830886"/>
                </a:cubicBezTo>
                <a:close/>
                <a:moveTo>
                  <a:pt x="545128" y="1800235"/>
                </a:moveTo>
                <a:cubicBezTo>
                  <a:pt x="548572" y="1800235"/>
                  <a:pt x="551833" y="1800967"/>
                  <a:pt x="554873" y="1802423"/>
                </a:cubicBezTo>
                <a:cubicBezTo>
                  <a:pt x="557925" y="1803864"/>
                  <a:pt x="560598" y="1805839"/>
                  <a:pt x="562880" y="1808319"/>
                </a:cubicBezTo>
                <a:cubicBezTo>
                  <a:pt x="565171" y="1810818"/>
                  <a:pt x="566963" y="1813715"/>
                  <a:pt x="568274" y="1817011"/>
                </a:cubicBezTo>
                <a:cubicBezTo>
                  <a:pt x="569572" y="1820307"/>
                  <a:pt x="570236" y="1823844"/>
                  <a:pt x="570236" y="1827580"/>
                </a:cubicBezTo>
                <a:cubicBezTo>
                  <a:pt x="570236" y="1832239"/>
                  <a:pt x="569219" y="1836591"/>
                  <a:pt x="567184" y="1840661"/>
                </a:cubicBezTo>
                <a:cubicBezTo>
                  <a:pt x="565209" y="1844731"/>
                  <a:pt x="562391" y="1848027"/>
                  <a:pt x="558785" y="1850535"/>
                </a:cubicBezTo>
                <a:cubicBezTo>
                  <a:pt x="559853" y="1850720"/>
                  <a:pt x="561348" y="1850924"/>
                  <a:pt x="563310" y="1851189"/>
                </a:cubicBezTo>
                <a:cubicBezTo>
                  <a:pt x="565256" y="1851430"/>
                  <a:pt x="567291" y="1851712"/>
                  <a:pt x="569415" y="1852004"/>
                </a:cubicBezTo>
                <a:cubicBezTo>
                  <a:pt x="571522" y="1852310"/>
                  <a:pt x="573497" y="1852616"/>
                  <a:pt x="575336" y="1852936"/>
                </a:cubicBezTo>
                <a:cubicBezTo>
                  <a:pt x="577163" y="1853261"/>
                  <a:pt x="578495" y="1853553"/>
                  <a:pt x="579317" y="1853794"/>
                </a:cubicBezTo>
                <a:cubicBezTo>
                  <a:pt x="580679" y="1854220"/>
                  <a:pt x="582075" y="1855129"/>
                  <a:pt x="583463" y="1856478"/>
                </a:cubicBezTo>
                <a:cubicBezTo>
                  <a:pt x="584847" y="1857850"/>
                  <a:pt x="586132" y="1859426"/>
                  <a:pt x="587299" y="1861201"/>
                </a:cubicBezTo>
                <a:cubicBezTo>
                  <a:pt x="588474" y="1862991"/>
                  <a:pt x="589419" y="1864831"/>
                  <a:pt x="590130" y="1866764"/>
                </a:cubicBezTo>
                <a:cubicBezTo>
                  <a:pt x="590866" y="1868660"/>
                  <a:pt x="591224" y="1870407"/>
                  <a:pt x="591224" y="1871997"/>
                </a:cubicBezTo>
                <a:lnTo>
                  <a:pt x="591224" y="1896714"/>
                </a:lnTo>
                <a:cubicBezTo>
                  <a:pt x="590828" y="1896904"/>
                  <a:pt x="590402" y="1897182"/>
                  <a:pt x="589908" y="1897609"/>
                </a:cubicBezTo>
                <a:cubicBezTo>
                  <a:pt x="589419" y="1898049"/>
                  <a:pt x="588891" y="1898452"/>
                  <a:pt x="588329" y="1898865"/>
                </a:cubicBezTo>
                <a:cubicBezTo>
                  <a:pt x="587754" y="1899264"/>
                  <a:pt x="587214" y="1899625"/>
                  <a:pt x="586711" y="1899917"/>
                </a:cubicBezTo>
                <a:cubicBezTo>
                  <a:pt x="586196" y="1900228"/>
                  <a:pt x="585766" y="1900362"/>
                  <a:pt x="585421" y="1900362"/>
                </a:cubicBezTo>
                <a:lnTo>
                  <a:pt x="505018" y="1900362"/>
                </a:lnTo>
                <a:cubicBezTo>
                  <a:pt x="503647" y="1900362"/>
                  <a:pt x="502617" y="1899908"/>
                  <a:pt x="501906" y="1898985"/>
                </a:cubicBezTo>
                <a:cubicBezTo>
                  <a:pt x="501195" y="1898077"/>
                  <a:pt x="500322" y="1897317"/>
                  <a:pt x="499271" y="1896714"/>
                </a:cubicBezTo>
                <a:lnTo>
                  <a:pt x="499271" y="1871997"/>
                </a:lnTo>
                <a:cubicBezTo>
                  <a:pt x="499271" y="1870407"/>
                  <a:pt x="499624" y="1868660"/>
                  <a:pt x="500348" y="1866764"/>
                </a:cubicBezTo>
                <a:cubicBezTo>
                  <a:pt x="501084" y="1864831"/>
                  <a:pt x="502017" y="1863014"/>
                  <a:pt x="503166" y="1861266"/>
                </a:cubicBezTo>
                <a:cubicBezTo>
                  <a:pt x="504320" y="1859519"/>
                  <a:pt x="505593" y="1857943"/>
                  <a:pt x="507006" y="1856529"/>
                </a:cubicBezTo>
                <a:cubicBezTo>
                  <a:pt x="508402" y="1855143"/>
                  <a:pt x="509799" y="1854206"/>
                  <a:pt x="511174" y="1853780"/>
                </a:cubicBezTo>
                <a:cubicBezTo>
                  <a:pt x="511872" y="1853539"/>
                  <a:pt x="513157" y="1853247"/>
                  <a:pt x="515035" y="1852927"/>
                </a:cubicBezTo>
                <a:cubicBezTo>
                  <a:pt x="516908" y="1852602"/>
                  <a:pt x="518922" y="1852297"/>
                  <a:pt x="521054" y="1851991"/>
                </a:cubicBezTo>
                <a:cubicBezTo>
                  <a:pt x="523187" y="1851699"/>
                  <a:pt x="525222" y="1851416"/>
                  <a:pt x="527180" y="1851179"/>
                </a:cubicBezTo>
                <a:cubicBezTo>
                  <a:pt x="529130" y="1850911"/>
                  <a:pt x="530637" y="1850711"/>
                  <a:pt x="531693" y="1850521"/>
                </a:cubicBezTo>
                <a:cubicBezTo>
                  <a:pt x="528100" y="1848013"/>
                  <a:pt x="525294" y="1844745"/>
                  <a:pt x="523221" y="1840726"/>
                </a:cubicBezTo>
                <a:cubicBezTo>
                  <a:pt x="521161" y="1836698"/>
                  <a:pt x="520143" y="1832317"/>
                  <a:pt x="520143" y="1827580"/>
                </a:cubicBezTo>
                <a:cubicBezTo>
                  <a:pt x="520143" y="1823844"/>
                  <a:pt x="520807" y="1820307"/>
                  <a:pt x="522131" y="1817011"/>
                </a:cubicBezTo>
                <a:cubicBezTo>
                  <a:pt x="523455" y="1813715"/>
                  <a:pt x="525256" y="1810818"/>
                  <a:pt x="527500" y="1808319"/>
                </a:cubicBezTo>
                <a:cubicBezTo>
                  <a:pt x="529756" y="1805839"/>
                  <a:pt x="532378" y="1803864"/>
                  <a:pt x="535422" y="1802423"/>
                </a:cubicBezTo>
                <a:cubicBezTo>
                  <a:pt x="538449" y="1800967"/>
                  <a:pt x="541684" y="1800235"/>
                  <a:pt x="545128" y="1800235"/>
                </a:cubicBezTo>
                <a:close/>
                <a:moveTo>
                  <a:pt x="847495" y="1760730"/>
                </a:moveTo>
                <a:cubicBezTo>
                  <a:pt x="852572" y="1760730"/>
                  <a:pt x="857379" y="1761816"/>
                  <a:pt x="861860" y="1763975"/>
                </a:cubicBezTo>
                <a:cubicBezTo>
                  <a:pt x="866359" y="1766113"/>
                  <a:pt x="870300" y="1769041"/>
                  <a:pt x="873663" y="1772719"/>
                </a:cubicBezTo>
                <a:cubicBezTo>
                  <a:pt x="877039" y="1776424"/>
                  <a:pt x="879681" y="1780721"/>
                  <a:pt x="881614" y="1785608"/>
                </a:cubicBezTo>
                <a:cubicBezTo>
                  <a:pt x="883528" y="1790496"/>
                  <a:pt x="884507" y="1795741"/>
                  <a:pt x="884507" y="1801282"/>
                </a:cubicBezTo>
                <a:cubicBezTo>
                  <a:pt x="884507" y="1808191"/>
                  <a:pt x="883007" y="1814639"/>
                  <a:pt x="880008" y="1820681"/>
                </a:cubicBezTo>
                <a:cubicBezTo>
                  <a:pt x="877096" y="1826717"/>
                  <a:pt x="872942" y="1831605"/>
                  <a:pt x="867627" y="1835324"/>
                </a:cubicBezTo>
                <a:cubicBezTo>
                  <a:pt x="869202" y="1835599"/>
                  <a:pt x="871404" y="1835902"/>
                  <a:pt x="874297" y="1836294"/>
                </a:cubicBezTo>
                <a:cubicBezTo>
                  <a:pt x="877165" y="1836651"/>
                  <a:pt x="880165" y="1837070"/>
                  <a:pt x="883296" y="1837503"/>
                </a:cubicBezTo>
                <a:cubicBezTo>
                  <a:pt x="886402" y="1837957"/>
                  <a:pt x="889314" y="1838411"/>
                  <a:pt x="892025" y="1838885"/>
                </a:cubicBezTo>
                <a:cubicBezTo>
                  <a:pt x="894717" y="1839366"/>
                  <a:pt x="896681" y="1839799"/>
                  <a:pt x="897892" y="1840157"/>
                </a:cubicBezTo>
                <a:cubicBezTo>
                  <a:pt x="899900" y="1840789"/>
                  <a:pt x="901959" y="1842137"/>
                  <a:pt x="904004" y="1844137"/>
                </a:cubicBezTo>
                <a:cubicBezTo>
                  <a:pt x="906044" y="1846172"/>
                  <a:pt x="907939" y="1848509"/>
                  <a:pt x="909658" y="1851142"/>
                </a:cubicBezTo>
                <a:cubicBezTo>
                  <a:pt x="911390" y="1853796"/>
                  <a:pt x="912783" y="1856525"/>
                  <a:pt x="913831" y="1859391"/>
                </a:cubicBezTo>
                <a:cubicBezTo>
                  <a:pt x="914917" y="1862203"/>
                  <a:pt x="915444" y="1864795"/>
                  <a:pt x="915444" y="1867153"/>
                </a:cubicBezTo>
                <a:lnTo>
                  <a:pt x="915444" y="1903807"/>
                </a:lnTo>
                <a:cubicBezTo>
                  <a:pt x="914861" y="1904089"/>
                  <a:pt x="914233" y="1904501"/>
                  <a:pt x="913505" y="1905134"/>
                </a:cubicBezTo>
                <a:cubicBezTo>
                  <a:pt x="912783" y="1905787"/>
                  <a:pt x="912005" y="1906385"/>
                  <a:pt x="911177" y="1906997"/>
                </a:cubicBezTo>
                <a:cubicBezTo>
                  <a:pt x="910330" y="1907588"/>
                  <a:pt x="909533" y="1908124"/>
                  <a:pt x="908792" y="1908557"/>
                </a:cubicBezTo>
                <a:cubicBezTo>
                  <a:pt x="908033" y="1909018"/>
                  <a:pt x="907399" y="1909210"/>
                  <a:pt x="906891" y="1909210"/>
                </a:cubicBezTo>
                <a:lnTo>
                  <a:pt x="788370" y="1909210"/>
                </a:lnTo>
                <a:cubicBezTo>
                  <a:pt x="786349" y="1909210"/>
                  <a:pt x="784830" y="1908543"/>
                  <a:pt x="783783" y="1907175"/>
                </a:cubicBezTo>
                <a:cubicBezTo>
                  <a:pt x="782735" y="1905828"/>
                  <a:pt x="781448" y="1904701"/>
                  <a:pt x="779898" y="1903807"/>
                </a:cubicBezTo>
                <a:lnTo>
                  <a:pt x="779898" y="1867153"/>
                </a:lnTo>
                <a:cubicBezTo>
                  <a:pt x="779898" y="1864795"/>
                  <a:pt x="780419" y="1862203"/>
                  <a:pt x="781486" y="1859391"/>
                </a:cubicBezTo>
                <a:cubicBezTo>
                  <a:pt x="782571" y="1856525"/>
                  <a:pt x="783946" y="1853830"/>
                  <a:pt x="785640" y="1851238"/>
                </a:cubicBezTo>
                <a:cubicBezTo>
                  <a:pt x="787341" y="1848647"/>
                  <a:pt x="789217" y="1846310"/>
                  <a:pt x="791300" y="1844213"/>
                </a:cubicBezTo>
                <a:cubicBezTo>
                  <a:pt x="793359" y="1842157"/>
                  <a:pt x="795417" y="1840769"/>
                  <a:pt x="797444" y="1840136"/>
                </a:cubicBezTo>
                <a:cubicBezTo>
                  <a:pt x="798473" y="1839779"/>
                  <a:pt x="800368" y="1839346"/>
                  <a:pt x="803135" y="1838871"/>
                </a:cubicBezTo>
                <a:cubicBezTo>
                  <a:pt x="805897" y="1838390"/>
                  <a:pt x="808865" y="1837936"/>
                  <a:pt x="812009" y="1837483"/>
                </a:cubicBezTo>
                <a:cubicBezTo>
                  <a:pt x="815153" y="1837050"/>
                  <a:pt x="818152" y="1836630"/>
                  <a:pt x="821039" y="1836280"/>
                </a:cubicBezTo>
                <a:cubicBezTo>
                  <a:pt x="823913" y="1835881"/>
                  <a:pt x="826134" y="1835585"/>
                  <a:pt x="827691" y="1835304"/>
                </a:cubicBezTo>
                <a:cubicBezTo>
                  <a:pt x="822394" y="1831585"/>
                  <a:pt x="818259" y="1826738"/>
                  <a:pt x="815203" y="1820778"/>
                </a:cubicBezTo>
                <a:cubicBezTo>
                  <a:pt x="812166" y="1814804"/>
                  <a:pt x="810666" y="1808308"/>
                  <a:pt x="810666" y="1801282"/>
                </a:cubicBezTo>
                <a:cubicBezTo>
                  <a:pt x="810666" y="1795741"/>
                  <a:pt x="811645" y="1790496"/>
                  <a:pt x="813596" y="1785608"/>
                </a:cubicBezTo>
                <a:cubicBezTo>
                  <a:pt x="815548" y="1780721"/>
                  <a:pt x="818202" y="1776424"/>
                  <a:pt x="821509" y="1772719"/>
                </a:cubicBezTo>
                <a:cubicBezTo>
                  <a:pt x="824835" y="1769041"/>
                  <a:pt x="828701" y="1766113"/>
                  <a:pt x="833182" y="1763975"/>
                </a:cubicBezTo>
                <a:cubicBezTo>
                  <a:pt x="837650" y="1761816"/>
                  <a:pt x="842419" y="1760730"/>
                  <a:pt x="847495" y="1760730"/>
                </a:cubicBezTo>
                <a:close/>
                <a:moveTo>
                  <a:pt x="669554" y="1683081"/>
                </a:moveTo>
                <a:lnTo>
                  <a:pt x="737668" y="1750853"/>
                </a:lnTo>
                <a:lnTo>
                  <a:pt x="669554" y="1818626"/>
                </a:lnTo>
                <a:lnTo>
                  <a:pt x="601441" y="1750853"/>
                </a:lnTo>
                <a:lnTo>
                  <a:pt x="669554" y="1683081"/>
                </a:lnTo>
                <a:close/>
                <a:moveTo>
                  <a:pt x="542182" y="1670139"/>
                </a:moveTo>
                <a:lnTo>
                  <a:pt x="583727" y="1711688"/>
                </a:lnTo>
                <a:lnTo>
                  <a:pt x="542182" y="1753233"/>
                </a:lnTo>
                <a:lnTo>
                  <a:pt x="500633" y="1711688"/>
                </a:lnTo>
                <a:lnTo>
                  <a:pt x="542182" y="1670139"/>
                </a:lnTo>
                <a:close/>
                <a:moveTo>
                  <a:pt x="783303" y="1621779"/>
                </a:moveTo>
                <a:lnTo>
                  <a:pt x="824848" y="1663328"/>
                </a:lnTo>
                <a:lnTo>
                  <a:pt x="783303" y="1704873"/>
                </a:lnTo>
                <a:lnTo>
                  <a:pt x="741754" y="1663328"/>
                </a:lnTo>
                <a:lnTo>
                  <a:pt x="783303" y="1621779"/>
                </a:lnTo>
                <a:close/>
                <a:moveTo>
                  <a:pt x="895912" y="1611561"/>
                </a:moveTo>
                <a:cubicBezTo>
                  <a:pt x="899356" y="1611561"/>
                  <a:pt x="902617" y="1612298"/>
                  <a:pt x="905657" y="1613764"/>
                </a:cubicBezTo>
                <a:cubicBezTo>
                  <a:pt x="908709" y="1615215"/>
                  <a:pt x="911383" y="1617203"/>
                  <a:pt x="913664" y="1619700"/>
                </a:cubicBezTo>
                <a:cubicBezTo>
                  <a:pt x="915955" y="1622216"/>
                  <a:pt x="917747" y="1625133"/>
                  <a:pt x="919058" y="1628451"/>
                </a:cubicBezTo>
                <a:cubicBezTo>
                  <a:pt x="920357" y="1631769"/>
                  <a:pt x="921021" y="1635330"/>
                  <a:pt x="921021" y="1639092"/>
                </a:cubicBezTo>
                <a:cubicBezTo>
                  <a:pt x="921021" y="1643782"/>
                  <a:pt x="920003" y="1648164"/>
                  <a:pt x="917968" y="1652262"/>
                </a:cubicBezTo>
                <a:cubicBezTo>
                  <a:pt x="915993" y="1656360"/>
                  <a:pt x="913175" y="1659678"/>
                  <a:pt x="909569" y="1662203"/>
                </a:cubicBezTo>
                <a:cubicBezTo>
                  <a:pt x="910638" y="1662390"/>
                  <a:pt x="912132" y="1662595"/>
                  <a:pt x="914094" y="1662861"/>
                </a:cubicBezTo>
                <a:cubicBezTo>
                  <a:pt x="916040" y="1663104"/>
                  <a:pt x="918075" y="1663388"/>
                  <a:pt x="920199" y="1663682"/>
                </a:cubicBezTo>
                <a:cubicBezTo>
                  <a:pt x="922306" y="1663990"/>
                  <a:pt x="924282" y="1664298"/>
                  <a:pt x="926121" y="1664620"/>
                </a:cubicBezTo>
                <a:cubicBezTo>
                  <a:pt x="927947" y="1664947"/>
                  <a:pt x="929279" y="1665241"/>
                  <a:pt x="930101" y="1665484"/>
                </a:cubicBezTo>
                <a:cubicBezTo>
                  <a:pt x="931463" y="1665913"/>
                  <a:pt x="932860" y="1666828"/>
                  <a:pt x="934247" y="1668186"/>
                </a:cubicBezTo>
                <a:cubicBezTo>
                  <a:pt x="935631" y="1669567"/>
                  <a:pt x="936917" y="1671154"/>
                  <a:pt x="938083" y="1672942"/>
                </a:cubicBezTo>
                <a:cubicBezTo>
                  <a:pt x="939258" y="1674743"/>
                  <a:pt x="940203" y="1676596"/>
                  <a:pt x="940914" y="1678542"/>
                </a:cubicBezTo>
                <a:cubicBezTo>
                  <a:pt x="941651" y="1680451"/>
                  <a:pt x="942008" y="1682210"/>
                  <a:pt x="942008" y="1683811"/>
                </a:cubicBezTo>
                <a:lnTo>
                  <a:pt x="942008" y="1708696"/>
                </a:lnTo>
                <a:cubicBezTo>
                  <a:pt x="941612" y="1708887"/>
                  <a:pt x="941187" y="1709167"/>
                  <a:pt x="940693" y="1709597"/>
                </a:cubicBezTo>
                <a:cubicBezTo>
                  <a:pt x="940203" y="1710040"/>
                  <a:pt x="939675" y="1710446"/>
                  <a:pt x="939113" y="1710861"/>
                </a:cubicBezTo>
                <a:cubicBezTo>
                  <a:pt x="938539" y="1711263"/>
                  <a:pt x="937998" y="1711627"/>
                  <a:pt x="937496" y="1711921"/>
                </a:cubicBezTo>
                <a:cubicBezTo>
                  <a:pt x="936981" y="1712234"/>
                  <a:pt x="936551" y="1712369"/>
                  <a:pt x="936206" y="1712369"/>
                </a:cubicBezTo>
                <a:lnTo>
                  <a:pt x="855802" y="1712369"/>
                </a:lnTo>
                <a:cubicBezTo>
                  <a:pt x="854431" y="1712369"/>
                  <a:pt x="853401" y="1711912"/>
                  <a:pt x="852690" y="1710983"/>
                </a:cubicBezTo>
                <a:cubicBezTo>
                  <a:pt x="851979" y="1710068"/>
                  <a:pt x="851107" y="1709303"/>
                  <a:pt x="850055" y="1708696"/>
                </a:cubicBezTo>
                <a:lnTo>
                  <a:pt x="850055" y="1683811"/>
                </a:lnTo>
                <a:cubicBezTo>
                  <a:pt x="850055" y="1682210"/>
                  <a:pt x="850408" y="1680451"/>
                  <a:pt x="851132" y="1678542"/>
                </a:cubicBezTo>
                <a:cubicBezTo>
                  <a:pt x="851869" y="1676596"/>
                  <a:pt x="852801" y="1674767"/>
                  <a:pt x="853950" y="1673007"/>
                </a:cubicBezTo>
                <a:cubicBezTo>
                  <a:pt x="855104" y="1671248"/>
                  <a:pt x="856377" y="1669661"/>
                  <a:pt x="857790" y="1668237"/>
                </a:cubicBezTo>
                <a:cubicBezTo>
                  <a:pt x="859187" y="1666842"/>
                  <a:pt x="860583" y="1665899"/>
                  <a:pt x="861958" y="1665470"/>
                </a:cubicBezTo>
                <a:cubicBezTo>
                  <a:pt x="862656" y="1665227"/>
                  <a:pt x="863942" y="1664933"/>
                  <a:pt x="865819" y="1664611"/>
                </a:cubicBezTo>
                <a:cubicBezTo>
                  <a:pt x="867692" y="1664284"/>
                  <a:pt x="869706" y="1663976"/>
                  <a:pt x="871839" y="1663668"/>
                </a:cubicBezTo>
                <a:cubicBezTo>
                  <a:pt x="873971" y="1663374"/>
                  <a:pt x="876006" y="1663090"/>
                  <a:pt x="877965" y="1662852"/>
                </a:cubicBezTo>
                <a:cubicBezTo>
                  <a:pt x="879914" y="1662581"/>
                  <a:pt x="881421" y="1662380"/>
                  <a:pt x="882477" y="1662189"/>
                </a:cubicBezTo>
                <a:cubicBezTo>
                  <a:pt x="878884" y="1659664"/>
                  <a:pt x="876079" y="1656374"/>
                  <a:pt x="874005" y="1652327"/>
                </a:cubicBezTo>
                <a:cubicBezTo>
                  <a:pt x="871945" y="1648272"/>
                  <a:pt x="870928" y="1643861"/>
                  <a:pt x="870928" y="1639092"/>
                </a:cubicBezTo>
                <a:cubicBezTo>
                  <a:pt x="870928" y="1635330"/>
                  <a:pt x="871592" y="1631769"/>
                  <a:pt x="872916" y="1628451"/>
                </a:cubicBezTo>
                <a:cubicBezTo>
                  <a:pt x="874240" y="1625133"/>
                  <a:pt x="876040" y="1622216"/>
                  <a:pt x="878284" y="1619700"/>
                </a:cubicBezTo>
                <a:cubicBezTo>
                  <a:pt x="880540" y="1617203"/>
                  <a:pt x="883162" y="1615215"/>
                  <a:pt x="886206" y="1613764"/>
                </a:cubicBezTo>
                <a:cubicBezTo>
                  <a:pt x="889233" y="1612298"/>
                  <a:pt x="892468" y="1611561"/>
                  <a:pt x="895912" y="1611561"/>
                </a:cubicBezTo>
                <a:close/>
                <a:moveTo>
                  <a:pt x="816855" y="1427656"/>
                </a:moveTo>
                <a:cubicBezTo>
                  <a:pt x="821626" y="1427656"/>
                  <a:pt x="826143" y="1428682"/>
                  <a:pt x="830353" y="1430722"/>
                </a:cubicBezTo>
                <a:cubicBezTo>
                  <a:pt x="834581" y="1432742"/>
                  <a:pt x="838284" y="1435510"/>
                  <a:pt x="841445" y="1438985"/>
                </a:cubicBezTo>
                <a:cubicBezTo>
                  <a:pt x="844617" y="1442486"/>
                  <a:pt x="847100" y="1446546"/>
                  <a:pt x="848916" y="1451165"/>
                </a:cubicBezTo>
                <a:cubicBezTo>
                  <a:pt x="850715" y="1455784"/>
                  <a:pt x="851635" y="1460740"/>
                  <a:pt x="851635" y="1465976"/>
                </a:cubicBezTo>
                <a:cubicBezTo>
                  <a:pt x="851635" y="1472504"/>
                  <a:pt x="850225" y="1478604"/>
                  <a:pt x="847407" y="1484308"/>
                </a:cubicBezTo>
                <a:cubicBezTo>
                  <a:pt x="844670" y="1490011"/>
                  <a:pt x="840767" y="1494630"/>
                  <a:pt x="835772" y="1498144"/>
                </a:cubicBezTo>
                <a:cubicBezTo>
                  <a:pt x="837252" y="1498404"/>
                  <a:pt x="839322" y="1498690"/>
                  <a:pt x="842040" y="1499060"/>
                </a:cubicBezTo>
                <a:cubicBezTo>
                  <a:pt x="844735" y="1499398"/>
                  <a:pt x="847554" y="1499794"/>
                  <a:pt x="850497" y="1500203"/>
                </a:cubicBezTo>
                <a:cubicBezTo>
                  <a:pt x="853415" y="1500632"/>
                  <a:pt x="856152" y="1501061"/>
                  <a:pt x="858699" y="1501509"/>
                </a:cubicBezTo>
                <a:cubicBezTo>
                  <a:pt x="861229" y="1501964"/>
                  <a:pt x="863075" y="1502373"/>
                  <a:pt x="864213" y="1502711"/>
                </a:cubicBezTo>
                <a:cubicBezTo>
                  <a:pt x="866100" y="1503309"/>
                  <a:pt x="868034" y="1504582"/>
                  <a:pt x="869956" y="1506472"/>
                </a:cubicBezTo>
                <a:cubicBezTo>
                  <a:pt x="871873" y="1508395"/>
                  <a:pt x="873653" y="1510604"/>
                  <a:pt x="875269" y="1513092"/>
                </a:cubicBezTo>
                <a:cubicBezTo>
                  <a:pt x="876897" y="1515599"/>
                  <a:pt x="878206" y="1518178"/>
                  <a:pt x="879191" y="1520887"/>
                </a:cubicBezTo>
                <a:cubicBezTo>
                  <a:pt x="880211" y="1523544"/>
                  <a:pt x="880700" y="1525993"/>
                  <a:pt x="880700" y="1528221"/>
                </a:cubicBezTo>
                <a:lnTo>
                  <a:pt x="880700" y="1562858"/>
                </a:lnTo>
                <a:cubicBezTo>
                  <a:pt x="880158" y="1563124"/>
                  <a:pt x="879568" y="1563514"/>
                  <a:pt x="878884" y="1564111"/>
                </a:cubicBezTo>
                <a:cubicBezTo>
                  <a:pt x="878206" y="1564728"/>
                  <a:pt x="877475" y="1565294"/>
                  <a:pt x="876696" y="1565872"/>
                </a:cubicBezTo>
                <a:cubicBezTo>
                  <a:pt x="875900" y="1566430"/>
                  <a:pt x="875151" y="1566937"/>
                  <a:pt x="874455" y="1567346"/>
                </a:cubicBezTo>
                <a:cubicBezTo>
                  <a:pt x="873742" y="1567781"/>
                  <a:pt x="873146" y="1567963"/>
                  <a:pt x="872669" y="1567963"/>
                </a:cubicBezTo>
                <a:lnTo>
                  <a:pt x="761295" y="1567963"/>
                </a:lnTo>
                <a:cubicBezTo>
                  <a:pt x="759396" y="1567963"/>
                  <a:pt x="757969" y="1567333"/>
                  <a:pt x="756984" y="1566041"/>
                </a:cubicBezTo>
                <a:cubicBezTo>
                  <a:pt x="756000" y="1564767"/>
                  <a:pt x="754791" y="1563702"/>
                  <a:pt x="753334" y="1562858"/>
                </a:cubicBezTo>
                <a:lnTo>
                  <a:pt x="753334" y="1528221"/>
                </a:lnTo>
                <a:cubicBezTo>
                  <a:pt x="753334" y="1525993"/>
                  <a:pt x="753824" y="1523544"/>
                  <a:pt x="754826" y="1520887"/>
                </a:cubicBezTo>
                <a:cubicBezTo>
                  <a:pt x="755846" y="1518178"/>
                  <a:pt x="757138" y="1515631"/>
                  <a:pt x="758730" y="1513182"/>
                </a:cubicBezTo>
                <a:cubicBezTo>
                  <a:pt x="760328" y="1510733"/>
                  <a:pt x="762091" y="1508525"/>
                  <a:pt x="764049" y="1506544"/>
                </a:cubicBezTo>
                <a:cubicBezTo>
                  <a:pt x="765983" y="1504601"/>
                  <a:pt x="767917" y="1503289"/>
                  <a:pt x="769822" y="1502691"/>
                </a:cubicBezTo>
                <a:cubicBezTo>
                  <a:pt x="770789" y="1502354"/>
                  <a:pt x="772570" y="1501944"/>
                  <a:pt x="775170" y="1501496"/>
                </a:cubicBezTo>
                <a:cubicBezTo>
                  <a:pt x="777765" y="1501041"/>
                  <a:pt x="780554" y="1500613"/>
                  <a:pt x="783508" y="1500184"/>
                </a:cubicBezTo>
                <a:cubicBezTo>
                  <a:pt x="786463" y="1499775"/>
                  <a:pt x="789281" y="1499378"/>
                  <a:pt x="791994" y="1499047"/>
                </a:cubicBezTo>
                <a:cubicBezTo>
                  <a:pt x="794695" y="1498670"/>
                  <a:pt x="796782" y="1498391"/>
                  <a:pt x="798245" y="1498125"/>
                </a:cubicBezTo>
                <a:cubicBezTo>
                  <a:pt x="793268" y="1494610"/>
                  <a:pt x="789382" y="1490031"/>
                  <a:pt x="786510" y="1484399"/>
                </a:cubicBezTo>
                <a:cubicBezTo>
                  <a:pt x="783656" y="1478754"/>
                  <a:pt x="782246" y="1472615"/>
                  <a:pt x="782246" y="1465976"/>
                </a:cubicBezTo>
                <a:cubicBezTo>
                  <a:pt x="782246" y="1460740"/>
                  <a:pt x="783166" y="1455784"/>
                  <a:pt x="785000" y="1451165"/>
                </a:cubicBezTo>
                <a:cubicBezTo>
                  <a:pt x="786834" y="1446546"/>
                  <a:pt x="789329" y="1442486"/>
                  <a:pt x="792436" y="1438985"/>
                </a:cubicBezTo>
                <a:cubicBezTo>
                  <a:pt x="795561" y="1435510"/>
                  <a:pt x="799194" y="1432742"/>
                  <a:pt x="803410" y="1430722"/>
                </a:cubicBezTo>
                <a:cubicBezTo>
                  <a:pt x="807603" y="1428682"/>
                  <a:pt x="812084" y="1427656"/>
                  <a:pt x="816855" y="1427656"/>
                </a:cubicBezTo>
                <a:close/>
                <a:moveTo>
                  <a:pt x="976065" y="1385425"/>
                </a:moveTo>
                <a:lnTo>
                  <a:pt x="1044178" y="1453198"/>
                </a:lnTo>
                <a:lnTo>
                  <a:pt x="976065" y="1520971"/>
                </a:lnTo>
                <a:lnTo>
                  <a:pt x="907951" y="1453198"/>
                </a:lnTo>
                <a:lnTo>
                  <a:pt x="976065" y="1385425"/>
                </a:lnTo>
                <a:close/>
                <a:moveTo>
                  <a:pt x="731458" y="1375208"/>
                </a:moveTo>
                <a:cubicBezTo>
                  <a:pt x="733754" y="1375208"/>
                  <a:pt x="735928" y="1375721"/>
                  <a:pt x="737954" y="1376741"/>
                </a:cubicBezTo>
                <a:cubicBezTo>
                  <a:pt x="739989" y="1377751"/>
                  <a:pt x="741771" y="1379135"/>
                  <a:pt x="743292" y="1380872"/>
                </a:cubicBezTo>
                <a:cubicBezTo>
                  <a:pt x="744819" y="1382623"/>
                  <a:pt x="746014" y="1384653"/>
                  <a:pt x="746888" y="1386962"/>
                </a:cubicBezTo>
                <a:cubicBezTo>
                  <a:pt x="747754" y="1389272"/>
                  <a:pt x="748197" y="1391750"/>
                  <a:pt x="748197" y="1394368"/>
                </a:cubicBezTo>
                <a:cubicBezTo>
                  <a:pt x="748197" y="1397632"/>
                  <a:pt x="747518" y="1400682"/>
                  <a:pt x="746162" y="1403534"/>
                </a:cubicBezTo>
                <a:cubicBezTo>
                  <a:pt x="744845" y="1406386"/>
                  <a:pt x="742966" y="1408695"/>
                  <a:pt x="740562" y="1410452"/>
                </a:cubicBezTo>
                <a:cubicBezTo>
                  <a:pt x="741274" y="1410582"/>
                  <a:pt x="742271" y="1410725"/>
                  <a:pt x="743579" y="1410910"/>
                </a:cubicBezTo>
                <a:cubicBezTo>
                  <a:pt x="744876" y="1411079"/>
                  <a:pt x="746233" y="1411277"/>
                  <a:pt x="747649" y="1411482"/>
                </a:cubicBezTo>
                <a:cubicBezTo>
                  <a:pt x="749054" y="1411696"/>
                  <a:pt x="750370" y="1411910"/>
                  <a:pt x="751597" y="1412134"/>
                </a:cubicBezTo>
                <a:cubicBezTo>
                  <a:pt x="752814" y="1412362"/>
                  <a:pt x="753702" y="1412566"/>
                  <a:pt x="754250" y="1412735"/>
                </a:cubicBezTo>
                <a:cubicBezTo>
                  <a:pt x="755158" y="1413034"/>
                  <a:pt x="756089" y="1413671"/>
                  <a:pt x="757014" y="1414616"/>
                </a:cubicBezTo>
                <a:cubicBezTo>
                  <a:pt x="757937" y="1415577"/>
                  <a:pt x="758794" y="1416682"/>
                  <a:pt x="759571" y="1417926"/>
                </a:cubicBezTo>
                <a:cubicBezTo>
                  <a:pt x="760355" y="1419179"/>
                  <a:pt x="760985" y="1420469"/>
                  <a:pt x="761459" y="1421823"/>
                </a:cubicBezTo>
                <a:cubicBezTo>
                  <a:pt x="761950" y="1423152"/>
                  <a:pt x="762188" y="1424376"/>
                  <a:pt x="762188" y="1425490"/>
                </a:cubicBezTo>
                <a:lnTo>
                  <a:pt x="762188" y="1442809"/>
                </a:lnTo>
                <a:cubicBezTo>
                  <a:pt x="761924" y="1442942"/>
                  <a:pt x="761640" y="1443137"/>
                  <a:pt x="761311" y="1443436"/>
                </a:cubicBezTo>
                <a:cubicBezTo>
                  <a:pt x="760985" y="1443744"/>
                  <a:pt x="760633" y="1444027"/>
                  <a:pt x="760258" y="1444316"/>
                </a:cubicBezTo>
                <a:cubicBezTo>
                  <a:pt x="759875" y="1444595"/>
                  <a:pt x="759515" y="1444848"/>
                  <a:pt x="759180" y="1445053"/>
                </a:cubicBezTo>
                <a:cubicBezTo>
                  <a:pt x="758836" y="1445271"/>
                  <a:pt x="758550" y="1445362"/>
                  <a:pt x="758320" y="1445362"/>
                </a:cubicBezTo>
                <a:lnTo>
                  <a:pt x="704718" y="1445362"/>
                </a:lnTo>
                <a:cubicBezTo>
                  <a:pt x="703804" y="1445362"/>
                  <a:pt x="703117" y="1445047"/>
                  <a:pt x="702643" y="1444400"/>
                </a:cubicBezTo>
                <a:cubicBezTo>
                  <a:pt x="702169" y="1443764"/>
                  <a:pt x="701587" y="1443231"/>
                  <a:pt x="700886" y="1442809"/>
                </a:cubicBezTo>
                <a:lnTo>
                  <a:pt x="700886" y="1425490"/>
                </a:lnTo>
                <a:cubicBezTo>
                  <a:pt x="700886" y="1424376"/>
                  <a:pt x="701122" y="1423152"/>
                  <a:pt x="701604" y="1421823"/>
                </a:cubicBezTo>
                <a:cubicBezTo>
                  <a:pt x="702095" y="1420469"/>
                  <a:pt x="702717" y="1419196"/>
                  <a:pt x="703483" y="1417971"/>
                </a:cubicBezTo>
                <a:cubicBezTo>
                  <a:pt x="704252" y="1416747"/>
                  <a:pt x="705101" y="1415642"/>
                  <a:pt x="706043" y="1414652"/>
                </a:cubicBezTo>
                <a:cubicBezTo>
                  <a:pt x="706974" y="1413681"/>
                  <a:pt x="707905" y="1413024"/>
                  <a:pt x="708821" y="1412726"/>
                </a:cubicBezTo>
                <a:cubicBezTo>
                  <a:pt x="709287" y="1412557"/>
                  <a:pt x="710144" y="1412352"/>
                  <a:pt x="711395" y="1412128"/>
                </a:cubicBezTo>
                <a:cubicBezTo>
                  <a:pt x="712644" y="1411901"/>
                  <a:pt x="713987" y="1411686"/>
                  <a:pt x="715408" y="1411472"/>
                </a:cubicBezTo>
                <a:cubicBezTo>
                  <a:pt x="716830" y="1411267"/>
                  <a:pt x="718187" y="1411069"/>
                  <a:pt x="719492" y="1410903"/>
                </a:cubicBezTo>
                <a:cubicBezTo>
                  <a:pt x="720792" y="1410715"/>
                  <a:pt x="721797" y="1410575"/>
                  <a:pt x="722501" y="1410442"/>
                </a:cubicBezTo>
                <a:cubicBezTo>
                  <a:pt x="720105" y="1408685"/>
                  <a:pt x="718235" y="1406395"/>
                  <a:pt x="716853" y="1403579"/>
                </a:cubicBezTo>
                <a:cubicBezTo>
                  <a:pt x="715479" y="1400757"/>
                  <a:pt x="714801" y="1397687"/>
                  <a:pt x="714801" y="1394368"/>
                </a:cubicBezTo>
                <a:cubicBezTo>
                  <a:pt x="714801" y="1391750"/>
                  <a:pt x="715244" y="1389272"/>
                  <a:pt x="716126" y="1386962"/>
                </a:cubicBezTo>
                <a:cubicBezTo>
                  <a:pt x="717009" y="1384653"/>
                  <a:pt x="718210" y="1382623"/>
                  <a:pt x="719705" y="1380872"/>
                </a:cubicBezTo>
                <a:cubicBezTo>
                  <a:pt x="721209" y="1379135"/>
                  <a:pt x="722958" y="1377751"/>
                  <a:pt x="724987" y="1376741"/>
                </a:cubicBezTo>
                <a:cubicBezTo>
                  <a:pt x="727005" y="1375721"/>
                  <a:pt x="729162" y="1375208"/>
                  <a:pt x="731458" y="1375208"/>
                </a:cubicBezTo>
                <a:close/>
                <a:moveTo>
                  <a:pt x="586819" y="1357499"/>
                </a:moveTo>
                <a:cubicBezTo>
                  <a:pt x="596003" y="1357499"/>
                  <a:pt x="604699" y="1359487"/>
                  <a:pt x="612804" y="1363438"/>
                </a:cubicBezTo>
                <a:cubicBezTo>
                  <a:pt x="620944" y="1367351"/>
                  <a:pt x="628073" y="1372711"/>
                  <a:pt x="634158" y="1379442"/>
                </a:cubicBezTo>
                <a:cubicBezTo>
                  <a:pt x="640265" y="1386224"/>
                  <a:pt x="645045" y="1394087"/>
                  <a:pt x="648541" y="1403033"/>
                </a:cubicBezTo>
                <a:cubicBezTo>
                  <a:pt x="652003" y="1411979"/>
                  <a:pt x="653774" y="1421579"/>
                  <a:pt x="653774" y="1431720"/>
                </a:cubicBezTo>
                <a:cubicBezTo>
                  <a:pt x="653774" y="1444365"/>
                  <a:pt x="651061" y="1456180"/>
                  <a:pt x="645635" y="1467227"/>
                </a:cubicBezTo>
                <a:cubicBezTo>
                  <a:pt x="640367" y="1478274"/>
                  <a:pt x="632852" y="1487220"/>
                  <a:pt x="623237" y="1494027"/>
                </a:cubicBezTo>
                <a:cubicBezTo>
                  <a:pt x="626086" y="1494530"/>
                  <a:pt x="630071" y="1495083"/>
                  <a:pt x="635304" y="1495801"/>
                </a:cubicBezTo>
                <a:cubicBezTo>
                  <a:pt x="640492" y="1496455"/>
                  <a:pt x="645919" y="1497222"/>
                  <a:pt x="651583" y="1498015"/>
                </a:cubicBezTo>
                <a:cubicBezTo>
                  <a:pt x="657203" y="1498845"/>
                  <a:pt x="662470" y="1499676"/>
                  <a:pt x="667374" y="1500544"/>
                </a:cubicBezTo>
                <a:cubicBezTo>
                  <a:pt x="672244" y="1501425"/>
                  <a:pt x="675798" y="1502217"/>
                  <a:pt x="677989" y="1502872"/>
                </a:cubicBezTo>
                <a:cubicBezTo>
                  <a:pt x="681622" y="1504029"/>
                  <a:pt x="685345" y="1506495"/>
                  <a:pt x="689046" y="1510157"/>
                </a:cubicBezTo>
                <a:cubicBezTo>
                  <a:pt x="692736" y="1513881"/>
                  <a:pt x="696164" y="1518159"/>
                  <a:pt x="699274" y="1522978"/>
                </a:cubicBezTo>
                <a:cubicBezTo>
                  <a:pt x="702408" y="1527834"/>
                  <a:pt x="704928" y="1532830"/>
                  <a:pt x="706824" y="1538076"/>
                </a:cubicBezTo>
                <a:cubicBezTo>
                  <a:pt x="708788" y="1543222"/>
                  <a:pt x="709741" y="1547966"/>
                  <a:pt x="709741" y="1552281"/>
                </a:cubicBezTo>
                <a:lnTo>
                  <a:pt x="709741" y="1619369"/>
                </a:lnTo>
                <a:cubicBezTo>
                  <a:pt x="708685" y="1619885"/>
                  <a:pt x="707550" y="1620640"/>
                  <a:pt x="706233" y="1621797"/>
                </a:cubicBezTo>
                <a:cubicBezTo>
                  <a:pt x="704928" y="1622992"/>
                  <a:pt x="703520" y="1624087"/>
                  <a:pt x="702022" y="1625207"/>
                </a:cubicBezTo>
                <a:cubicBezTo>
                  <a:pt x="700489" y="1626289"/>
                  <a:pt x="699047" y="1627270"/>
                  <a:pt x="697708" y="1628063"/>
                </a:cubicBezTo>
                <a:cubicBezTo>
                  <a:pt x="696334" y="1628906"/>
                  <a:pt x="695188" y="1629271"/>
                  <a:pt x="694268" y="1629271"/>
                </a:cubicBezTo>
                <a:lnTo>
                  <a:pt x="479858" y="1629271"/>
                </a:lnTo>
                <a:cubicBezTo>
                  <a:pt x="476203" y="1629271"/>
                  <a:pt x="473456" y="1628038"/>
                  <a:pt x="471560" y="1625534"/>
                </a:cubicBezTo>
                <a:cubicBezTo>
                  <a:pt x="469664" y="1623068"/>
                  <a:pt x="467337" y="1621004"/>
                  <a:pt x="464533" y="1619369"/>
                </a:cubicBezTo>
                <a:lnTo>
                  <a:pt x="464533" y="1552281"/>
                </a:lnTo>
                <a:cubicBezTo>
                  <a:pt x="464533" y="1547966"/>
                  <a:pt x="465475" y="1543222"/>
                  <a:pt x="467405" y="1538076"/>
                </a:cubicBezTo>
                <a:cubicBezTo>
                  <a:pt x="469369" y="1532830"/>
                  <a:pt x="471855" y="1527897"/>
                  <a:pt x="474920" y="1523154"/>
                </a:cubicBezTo>
                <a:cubicBezTo>
                  <a:pt x="477997" y="1518411"/>
                  <a:pt x="481391" y="1514133"/>
                  <a:pt x="485160" y="1510295"/>
                </a:cubicBezTo>
                <a:cubicBezTo>
                  <a:pt x="488883" y="1506533"/>
                  <a:pt x="492607" y="1503992"/>
                  <a:pt x="496274" y="1502834"/>
                </a:cubicBezTo>
                <a:cubicBezTo>
                  <a:pt x="498135" y="1502180"/>
                  <a:pt x="501564" y="1501387"/>
                  <a:pt x="506570" y="1500519"/>
                </a:cubicBezTo>
                <a:cubicBezTo>
                  <a:pt x="511565" y="1499638"/>
                  <a:pt x="516935" y="1498808"/>
                  <a:pt x="522622" y="1497977"/>
                </a:cubicBezTo>
                <a:cubicBezTo>
                  <a:pt x="528310" y="1497185"/>
                  <a:pt x="533736" y="1496417"/>
                  <a:pt x="538958" y="1495775"/>
                </a:cubicBezTo>
                <a:cubicBezTo>
                  <a:pt x="544157" y="1495046"/>
                  <a:pt x="548176" y="1494505"/>
                  <a:pt x="550991" y="1493989"/>
                </a:cubicBezTo>
                <a:cubicBezTo>
                  <a:pt x="541410" y="1487182"/>
                  <a:pt x="533929" y="1478312"/>
                  <a:pt x="528400" y="1467403"/>
                </a:cubicBezTo>
                <a:cubicBezTo>
                  <a:pt x="522906" y="1456469"/>
                  <a:pt x="520193" y="1444579"/>
                  <a:pt x="520193" y="1431720"/>
                </a:cubicBezTo>
                <a:cubicBezTo>
                  <a:pt x="520193" y="1421579"/>
                  <a:pt x="521964" y="1411979"/>
                  <a:pt x="525494" y="1403033"/>
                </a:cubicBezTo>
                <a:cubicBezTo>
                  <a:pt x="529025" y="1394087"/>
                  <a:pt x="533827" y="1386224"/>
                  <a:pt x="539809" y="1379442"/>
                </a:cubicBezTo>
                <a:cubicBezTo>
                  <a:pt x="545826" y="1372711"/>
                  <a:pt x="552819" y="1367351"/>
                  <a:pt x="560936" y="1363438"/>
                </a:cubicBezTo>
                <a:cubicBezTo>
                  <a:pt x="569007" y="1359487"/>
                  <a:pt x="577635" y="1357499"/>
                  <a:pt x="586819" y="1357499"/>
                </a:cubicBezTo>
                <a:close/>
                <a:moveTo>
                  <a:pt x="840518" y="1328210"/>
                </a:moveTo>
                <a:lnTo>
                  <a:pt x="882063" y="1369759"/>
                </a:lnTo>
                <a:lnTo>
                  <a:pt x="840518" y="1411304"/>
                </a:lnTo>
                <a:lnTo>
                  <a:pt x="798969" y="1369759"/>
                </a:lnTo>
                <a:lnTo>
                  <a:pt x="840518" y="1328210"/>
                </a:lnTo>
                <a:close/>
                <a:moveTo>
                  <a:pt x="703095" y="1195389"/>
                </a:moveTo>
                <a:cubicBezTo>
                  <a:pt x="708172" y="1195389"/>
                  <a:pt x="712979" y="1196480"/>
                  <a:pt x="717460" y="1198648"/>
                </a:cubicBezTo>
                <a:cubicBezTo>
                  <a:pt x="721959" y="1200796"/>
                  <a:pt x="725900" y="1203738"/>
                  <a:pt x="729263" y="1207433"/>
                </a:cubicBezTo>
                <a:cubicBezTo>
                  <a:pt x="732639" y="1211155"/>
                  <a:pt x="735281" y="1215471"/>
                  <a:pt x="737214" y="1220381"/>
                </a:cubicBezTo>
                <a:cubicBezTo>
                  <a:pt x="739128" y="1225292"/>
                  <a:pt x="740107" y="1230561"/>
                  <a:pt x="740107" y="1236127"/>
                </a:cubicBezTo>
                <a:cubicBezTo>
                  <a:pt x="740107" y="1243067"/>
                  <a:pt x="738607" y="1249545"/>
                  <a:pt x="735608" y="1255615"/>
                </a:cubicBezTo>
                <a:cubicBezTo>
                  <a:pt x="732696" y="1261679"/>
                  <a:pt x="728542" y="1266589"/>
                  <a:pt x="723227" y="1270325"/>
                </a:cubicBezTo>
                <a:cubicBezTo>
                  <a:pt x="724802" y="1270601"/>
                  <a:pt x="727004" y="1270905"/>
                  <a:pt x="729897" y="1271299"/>
                </a:cubicBezTo>
                <a:cubicBezTo>
                  <a:pt x="732765" y="1271658"/>
                  <a:pt x="735765" y="1272079"/>
                  <a:pt x="738896" y="1272514"/>
                </a:cubicBezTo>
                <a:cubicBezTo>
                  <a:pt x="742002" y="1272970"/>
                  <a:pt x="744914" y="1273426"/>
                  <a:pt x="747625" y="1273902"/>
                </a:cubicBezTo>
                <a:cubicBezTo>
                  <a:pt x="750317" y="1274386"/>
                  <a:pt x="752281" y="1274821"/>
                  <a:pt x="753492" y="1275180"/>
                </a:cubicBezTo>
                <a:cubicBezTo>
                  <a:pt x="755500" y="1275815"/>
                  <a:pt x="757559" y="1277169"/>
                  <a:pt x="759604" y="1279178"/>
                </a:cubicBezTo>
                <a:cubicBezTo>
                  <a:pt x="761644" y="1281223"/>
                  <a:pt x="763539" y="1283571"/>
                  <a:pt x="765258" y="1286216"/>
                </a:cubicBezTo>
                <a:cubicBezTo>
                  <a:pt x="766990" y="1288881"/>
                  <a:pt x="768383" y="1291623"/>
                  <a:pt x="769431" y="1294503"/>
                </a:cubicBezTo>
                <a:cubicBezTo>
                  <a:pt x="770517" y="1297327"/>
                  <a:pt x="771044" y="1299931"/>
                  <a:pt x="771044" y="1302300"/>
                </a:cubicBezTo>
                <a:lnTo>
                  <a:pt x="771044" y="1339122"/>
                </a:lnTo>
                <a:cubicBezTo>
                  <a:pt x="770461" y="1339405"/>
                  <a:pt x="769833" y="1339819"/>
                  <a:pt x="769105" y="1340455"/>
                </a:cubicBezTo>
                <a:cubicBezTo>
                  <a:pt x="768383" y="1341111"/>
                  <a:pt x="767605" y="1341712"/>
                  <a:pt x="766777" y="1342326"/>
                </a:cubicBezTo>
                <a:cubicBezTo>
                  <a:pt x="765930" y="1342920"/>
                  <a:pt x="765133" y="1343459"/>
                  <a:pt x="764392" y="1343894"/>
                </a:cubicBezTo>
                <a:cubicBezTo>
                  <a:pt x="763633" y="1344357"/>
                  <a:pt x="762999" y="1344550"/>
                  <a:pt x="762491" y="1344550"/>
                </a:cubicBezTo>
                <a:lnTo>
                  <a:pt x="643969" y="1344550"/>
                </a:lnTo>
                <a:cubicBezTo>
                  <a:pt x="641949" y="1344550"/>
                  <a:pt x="640430" y="1343880"/>
                  <a:pt x="639382" y="1342506"/>
                </a:cubicBezTo>
                <a:cubicBezTo>
                  <a:pt x="638334" y="1341152"/>
                  <a:pt x="637048" y="1340020"/>
                  <a:pt x="635498" y="1339122"/>
                </a:cubicBezTo>
                <a:lnTo>
                  <a:pt x="635498" y="1302300"/>
                </a:lnTo>
                <a:cubicBezTo>
                  <a:pt x="635498" y="1299931"/>
                  <a:pt x="636019" y="1297327"/>
                  <a:pt x="637086" y="1294503"/>
                </a:cubicBezTo>
                <a:cubicBezTo>
                  <a:pt x="638171" y="1291623"/>
                  <a:pt x="639545" y="1288916"/>
                  <a:pt x="641240" y="1286312"/>
                </a:cubicBezTo>
                <a:cubicBezTo>
                  <a:pt x="642940" y="1283709"/>
                  <a:pt x="644817" y="1281361"/>
                  <a:pt x="646900" y="1279254"/>
                </a:cubicBezTo>
                <a:cubicBezTo>
                  <a:pt x="648958" y="1277190"/>
                  <a:pt x="651017" y="1275795"/>
                  <a:pt x="653044" y="1275159"/>
                </a:cubicBezTo>
                <a:cubicBezTo>
                  <a:pt x="654073" y="1274800"/>
                  <a:pt x="655968" y="1274365"/>
                  <a:pt x="658735" y="1273889"/>
                </a:cubicBezTo>
                <a:cubicBezTo>
                  <a:pt x="661496" y="1273405"/>
                  <a:pt x="664465" y="1272949"/>
                  <a:pt x="667608" y="1272494"/>
                </a:cubicBezTo>
                <a:cubicBezTo>
                  <a:pt x="670752" y="1272058"/>
                  <a:pt x="673752" y="1271637"/>
                  <a:pt x="676639" y="1271285"/>
                </a:cubicBezTo>
                <a:cubicBezTo>
                  <a:pt x="679513" y="1270884"/>
                  <a:pt x="681734" y="1270587"/>
                  <a:pt x="683291" y="1270304"/>
                </a:cubicBezTo>
                <a:cubicBezTo>
                  <a:pt x="677994" y="1266568"/>
                  <a:pt x="673859" y="1261700"/>
                  <a:pt x="670803" y="1255712"/>
                </a:cubicBezTo>
                <a:cubicBezTo>
                  <a:pt x="667765" y="1249711"/>
                  <a:pt x="666266" y="1243185"/>
                  <a:pt x="666266" y="1236127"/>
                </a:cubicBezTo>
                <a:cubicBezTo>
                  <a:pt x="666266" y="1230561"/>
                  <a:pt x="667245" y="1225292"/>
                  <a:pt x="669196" y="1220381"/>
                </a:cubicBezTo>
                <a:cubicBezTo>
                  <a:pt x="671148" y="1215471"/>
                  <a:pt x="673802" y="1211155"/>
                  <a:pt x="677109" y="1207433"/>
                </a:cubicBezTo>
                <a:cubicBezTo>
                  <a:pt x="680435" y="1203738"/>
                  <a:pt x="684301" y="1200796"/>
                  <a:pt x="688782" y="1198648"/>
                </a:cubicBezTo>
                <a:cubicBezTo>
                  <a:pt x="693250" y="1196480"/>
                  <a:pt x="698019" y="1195389"/>
                  <a:pt x="703095" y="1195389"/>
                </a:cubicBezTo>
                <a:close/>
                <a:moveTo>
                  <a:pt x="926517" y="1178361"/>
                </a:moveTo>
                <a:cubicBezTo>
                  <a:pt x="931288" y="1178361"/>
                  <a:pt x="935805" y="1179382"/>
                  <a:pt x="940015" y="1181412"/>
                </a:cubicBezTo>
                <a:cubicBezTo>
                  <a:pt x="944243" y="1183423"/>
                  <a:pt x="947946" y="1186176"/>
                  <a:pt x="951107" y="1189635"/>
                </a:cubicBezTo>
                <a:cubicBezTo>
                  <a:pt x="954279" y="1193119"/>
                  <a:pt x="956762" y="1197160"/>
                  <a:pt x="958578" y="1201756"/>
                </a:cubicBezTo>
                <a:cubicBezTo>
                  <a:pt x="960377" y="1206352"/>
                  <a:pt x="961297" y="1211285"/>
                  <a:pt x="961297" y="1216495"/>
                </a:cubicBezTo>
                <a:cubicBezTo>
                  <a:pt x="961297" y="1222992"/>
                  <a:pt x="959887" y="1229062"/>
                  <a:pt x="957069" y="1234738"/>
                </a:cubicBezTo>
                <a:cubicBezTo>
                  <a:pt x="954332" y="1240414"/>
                  <a:pt x="950429" y="1245010"/>
                  <a:pt x="945434" y="1248507"/>
                </a:cubicBezTo>
                <a:cubicBezTo>
                  <a:pt x="946914" y="1248766"/>
                  <a:pt x="948984" y="1249050"/>
                  <a:pt x="951702" y="1249419"/>
                </a:cubicBezTo>
                <a:cubicBezTo>
                  <a:pt x="954397" y="1249755"/>
                  <a:pt x="957216" y="1250149"/>
                  <a:pt x="960159" y="1250556"/>
                </a:cubicBezTo>
                <a:cubicBezTo>
                  <a:pt x="963077" y="1250983"/>
                  <a:pt x="965814" y="1251410"/>
                  <a:pt x="968361" y="1251856"/>
                </a:cubicBezTo>
                <a:cubicBezTo>
                  <a:pt x="970891" y="1252308"/>
                  <a:pt x="972737" y="1252715"/>
                  <a:pt x="973875" y="1253052"/>
                </a:cubicBezTo>
                <a:cubicBezTo>
                  <a:pt x="975762" y="1253646"/>
                  <a:pt x="977696" y="1254913"/>
                  <a:pt x="979618" y="1256795"/>
                </a:cubicBezTo>
                <a:cubicBezTo>
                  <a:pt x="981535" y="1258708"/>
                  <a:pt x="983315" y="1260906"/>
                  <a:pt x="984931" y="1263382"/>
                </a:cubicBezTo>
                <a:cubicBezTo>
                  <a:pt x="986559" y="1265877"/>
                  <a:pt x="987868" y="1268444"/>
                  <a:pt x="988853" y="1271139"/>
                </a:cubicBezTo>
                <a:cubicBezTo>
                  <a:pt x="989873" y="1273783"/>
                  <a:pt x="990362" y="1276220"/>
                  <a:pt x="990362" y="1278438"/>
                </a:cubicBezTo>
                <a:lnTo>
                  <a:pt x="990362" y="1312906"/>
                </a:lnTo>
                <a:cubicBezTo>
                  <a:pt x="989820" y="1313171"/>
                  <a:pt x="989230" y="1313559"/>
                  <a:pt x="988546" y="1314154"/>
                </a:cubicBezTo>
                <a:cubicBezTo>
                  <a:pt x="987868" y="1314768"/>
                  <a:pt x="987137" y="1315330"/>
                  <a:pt x="986358" y="1315906"/>
                </a:cubicBezTo>
                <a:cubicBezTo>
                  <a:pt x="985562" y="1316462"/>
                  <a:pt x="984813" y="1316966"/>
                  <a:pt x="984117" y="1317373"/>
                </a:cubicBezTo>
                <a:cubicBezTo>
                  <a:pt x="983404" y="1317806"/>
                  <a:pt x="982808" y="1317987"/>
                  <a:pt x="982331" y="1317987"/>
                </a:cubicBezTo>
                <a:lnTo>
                  <a:pt x="870957" y="1317987"/>
                </a:lnTo>
                <a:cubicBezTo>
                  <a:pt x="869058" y="1317987"/>
                  <a:pt x="867631" y="1317360"/>
                  <a:pt x="866646" y="1316074"/>
                </a:cubicBezTo>
                <a:cubicBezTo>
                  <a:pt x="865662" y="1314807"/>
                  <a:pt x="864453" y="1313747"/>
                  <a:pt x="862996" y="1312906"/>
                </a:cubicBezTo>
                <a:lnTo>
                  <a:pt x="862996" y="1278438"/>
                </a:lnTo>
                <a:cubicBezTo>
                  <a:pt x="862996" y="1276220"/>
                  <a:pt x="863486" y="1273783"/>
                  <a:pt x="864488" y="1271139"/>
                </a:cubicBezTo>
                <a:cubicBezTo>
                  <a:pt x="865508" y="1268444"/>
                  <a:pt x="866800" y="1265909"/>
                  <a:pt x="868392" y="1263472"/>
                </a:cubicBezTo>
                <a:cubicBezTo>
                  <a:pt x="869990" y="1261035"/>
                  <a:pt x="871753" y="1258837"/>
                  <a:pt x="873711" y="1256866"/>
                </a:cubicBezTo>
                <a:cubicBezTo>
                  <a:pt x="875645" y="1254933"/>
                  <a:pt x="877579" y="1253627"/>
                  <a:pt x="879484" y="1253032"/>
                </a:cubicBezTo>
                <a:cubicBezTo>
                  <a:pt x="880451" y="1252696"/>
                  <a:pt x="882232" y="1252289"/>
                  <a:pt x="884832" y="1251843"/>
                </a:cubicBezTo>
                <a:cubicBezTo>
                  <a:pt x="887427" y="1251390"/>
                  <a:pt x="890216" y="1250964"/>
                  <a:pt x="893170" y="1250537"/>
                </a:cubicBezTo>
                <a:cubicBezTo>
                  <a:pt x="896125" y="1250130"/>
                  <a:pt x="898943" y="1249735"/>
                  <a:pt x="901656" y="1249406"/>
                </a:cubicBezTo>
                <a:cubicBezTo>
                  <a:pt x="904357" y="1249031"/>
                  <a:pt x="906444" y="1248753"/>
                  <a:pt x="907907" y="1248488"/>
                </a:cubicBezTo>
                <a:cubicBezTo>
                  <a:pt x="902930" y="1244990"/>
                  <a:pt x="899044" y="1240433"/>
                  <a:pt x="896172" y="1234828"/>
                </a:cubicBezTo>
                <a:cubicBezTo>
                  <a:pt x="893318" y="1229211"/>
                  <a:pt x="891908" y="1223102"/>
                  <a:pt x="891908" y="1216495"/>
                </a:cubicBezTo>
                <a:cubicBezTo>
                  <a:pt x="891908" y="1211285"/>
                  <a:pt x="892828" y="1206352"/>
                  <a:pt x="894662" y="1201756"/>
                </a:cubicBezTo>
                <a:cubicBezTo>
                  <a:pt x="896496" y="1197160"/>
                  <a:pt x="898991" y="1193119"/>
                  <a:pt x="902098" y="1189635"/>
                </a:cubicBezTo>
                <a:cubicBezTo>
                  <a:pt x="905223" y="1186176"/>
                  <a:pt x="908856" y="1183423"/>
                  <a:pt x="913072" y="1181412"/>
                </a:cubicBezTo>
                <a:cubicBezTo>
                  <a:pt x="917265" y="1179382"/>
                  <a:pt x="921746" y="1178361"/>
                  <a:pt x="926517" y="1178361"/>
                </a:cubicBezTo>
                <a:close/>
                <a:moveTo>
                  <a:pt x="792760" y="1151797"/>
                </a:moveTo>
                <a:cubicBezTo>
                  <a:pt x="795056" y="1151797"/>
                  <a:pt x="797230" y="1152310"/>
                  <a:pt x="799256" y="1153330"/>
                </a:cubicBezTo>
                <a:cubicBezTo>
                  <a:pt x="801291" y="1154340"/>
                  <a:pt x="803073" y="1155724"/>
                  <a:pt x="804594" y="1157461"/>
                </a:cubicBezTo>
                <a:cubicBezTo>
                  <a:pt x="806121" y="1159212"/>
                  <a:pt x="807316" y="1161242"/>
                  <a:pt x="808190" y="1163551"/>
                </a:cubicBezTo>
                <a:cubicBezTo>
                  <a:pt x="809056" y="1165861"/>
                  <a:pt x="809499" y="1168339"/>
                  <a:pt x="809499" y="1170957"/>
                </a:cubicBezTo>
                <a:cubicBezTo>
                  <a:pt x="809499" y="1174221"/>
                  <a:pt x="808820" y="1177271"/>
                  <a:pt x="807464" y="1180123"/>
                </a:cubicBezTo>
                <a:cubicBezTo>
                  <a:pt x="806147" y="1182975"/>
                  <a:pt x="804268" y="1185284"/>
                  <a:pt x="801864" y="1187041"/>
                </a:cubicBezTo>
                <a:cubicBezTo>
                  <a:pt x="802576" y="1187171"/>
                  <a:pt x="803573" y="1187314"/>
                  <a:pt x="804881" y="1187499"/>
                </a:cubicBezTo>
                <a:cubicBezTo>
                  <a:pt x="806178" y="1187668"/>
                  <a:pt x="807535" y="1187866"/>
                  <a:pt x="808951" y="1188071"/>
                </a:cubicBezTo>
                <a:cubicBezTo>
                  <a:pt x="810356" y="1188285"/>
                  <a:pt x="811672" y="1188499"/>
                  <a:pt x="812899" y="1188723"/>
                </a:cubicBezTo>
                <a:cubicBezTo>
                  <a:pt x="814116" y="1188951"/>
                  <a:pt x="815004" y="1189155"/>
                  <a:pt x="815552" y="1189324"/>
                </a:cubicBezTo>
                <a:cubicBezTo>
                  <a:pt x="816460" y="1189623"/>
                  <a:pt x="817391" y="1190260"/>
                  <a:pt x="818316" y="1191205"/>
                </a:cubicBezTo>
                <a:cubicBezTo>
                  <a:pt x="819239" y="1192166"/>
                  <a:pt x="820096" y="1193271"/>
                  <a:pt x="820873" y="1194515"/>
                </a:cubicBezTo>
                <a:cubicBezTo>
                  <a:pt x="821657" y="1195768"/>
                  <a:pt x="822287" y="1197058"/>
                  <a:pt x="822761" y="1198412"/>
                </a:cubicBezTo>
                <a:cubicBezTo>
                  <a:pt x="823252" y="1199741"/>
                  <a:pt x="823490" y="1200965"/>
                  <a:pt x="823490" y="1202079"/>
                </a:cubicBezTo>
                <a:lnTo>
                  <a:pt x="823490" y="1219398"/>
                </a:lnTo>
                <a:cubicBezTo>
                  <a:pt x="823226" y="1219531"/>
                  <a:pt x="822942" y="1219726"/>
                  <a:pt x="822613" y="1220025"/>
                </a:cubicBezTo>
                <a:cubicBezTo>
                  <a:pt x="822287" y="1220333"/>
                  <a:pt x="821935" y="1220616"/>
                  <a:pt x="821560" y="1220905"/>
                </a:cubicBezTo>
                <a:cubicBezTo>
                  <a:pt x="821177" y="1221184"/>
                  <a:pt x="820817" y="1221437"/>
                  <a:pt x="820482" y="1221642"/>
                </a:cubicBezTo>
                <a:cubicBezTo>
                  <a:pt x="820138" y="1221860"/>
                  <a:pt x="819852" y="1221951"/>
                  <a:pt x="819622" y="1221951"/>
                </a:cubicBezTo>
                <a:lnTo>
                  <a:pt x="766020" y="1221951"/>
                </a:lnTo>
                <a:cubicBezTo>
                  <a:pt x="765106" y="1221951"/>
                  <a:pt x="764419" y="1221636"/>
                  <a:pt x="763945" y="1220989"/>
                </a:cubicBezTo>
                <a:cubicBezTo>
                  <a:pt x="763471" y="1220353"/>
                  <a:pt x="762889" y="1219820"/>
                  <a:pt x="762188" y="1219398"/>
                </a:cubicBezTo>
                <a:lnTo>
                  <a:pt x="762188" y="1202079"/>
                </a:lnTo>
                <a:cubicBezTo>
                  <a:pt x="762188" y="1200965"/>
                  <a:pt x="762424" y="1199741"/>
                  <a:pt x="762906" y="1198412"/>
                </a:cubicBezTo>
                <a:cubicBezTo>
                  <a:pt x="763397" y="1197058"/>
                  <a:pt x="764019" y="1195785"/>
                  <a:pt x="764785" y="1194560"/>
                </a:cubicBezTo>
                <a:cubicBezTo>
                  <a:pt x="765554" y="1193336"/>
                  <a:pt x="766403" y="1192231"/>
                  <a:pt x="767345" y="1191241"/>
                </a:cubicBezTo>
                <a:cubicBezTo>
                  <a:pt x="768276" y="1190270"/>
                  <a:pt x="769207" y="1189613"/>
                  <a:pt x="770123" y="1189315"/>
                </a:cubicBezTo>
                <a:cubicBezTo>
                  <a:pt x="770589" y="1189146"/>
                  <a:pt x="771446" y="1188941"/>
                  <a:pt x="772697" y="1188717"/>
                </a:cubicBezTo>
                <a:cubicBezTo>
                  <a:pt x="773946" y="1188490"/>
                  <a:pt x="775289" y="1188275"/>
                  <a:pt x="776710" y="1188061"/>
                </a:cubicBezTo>
                <a:cubicBezTo>
                  <a:pt x="778132" y="1187856"/>
                  <a:pt x="779489" y="1187658"/>
                  <a:pt x="780794" y="1187492"/>
                </a:cubicBezTo>
                <a:cubicBezTo>
                  <a:pt x="782094" y="1187304"/>
                  <a:pt x="783099" y="1187164"/>
                  <a:pt x="783803" y="1187031"/>
                </a:cubicBezTo>
                <a:cubicBezTo>
                  <a:pt x="781407" y="1185274"/>
                  <a:pt x="779537" y="1182984"/>
                  <a:pt x="778155" y="1180168"/>
                </a:cubicBezTo>
                <a:cubicBezTo>
                  <a:pt x="776781" y="1177346"/>
                  <a:pt x="776103" y="1174276"/>
                  <a:pt x="776103" y="1170957"/>
                </a:cubicBezTo>
                <a:cubicBezTo>
                  <a:pt x="776103" y="1168339"/>
                  <a:pt x="776546" y="1165861"/>
                  <a:pt x="777428" y="1163551"/>
                </a:cubicBezTo>
                <a:cubicBezTo>
                  <a:pt x="778311" y="1161242"/>
                  <a:pt x="779512" y="1159212"/>
                  <a:pt x="781007" y="1157461"/>
                </a:cubicBezTo>
                <a:cubicBezTo>
                  <a:pt x="782511" y="1155724"/>
                  <a:pt x="784260" y="1154340"/>
                  <a:pt x="786289" y="1153330"/>
                </a:cubicBezTo>
                <a:cubicBezTo>
                  <a:pt x="788307" y="1152310"/>
                  <a:pt x="790464" y="1151797"/>
                  <a:pt x="792760" y="1151797"/>
                </a:cubicBezTo>
                <a:close/>
                <a:moveTo>
                  <a:pt x="1278487" y="1065293"/>
                </a:moveTo>
                <a:lnTo>
                  <a:pt x="1320032" y="1106842"/>
                </a:lnTo>
                <a:lnTo>
                  <a:pt x="1278487" y="1148387"/>
                </a:lnTo>
                <a:lnTo>
                  <a:pt x="1236938" y="1106842"/>
                </a:lnTo>
                <a:lnTo>
                  <a:pt x="1278487" y="1065293"/>
                </a:lnTo>
                <a:close/>
                <a:moveTo>
                  <a:pt x="1152160" y="1059843"/>
                </a:moveTo>
                <a:cubicBezTo>
                  <a:pt x="1161344" y="1059843"/>
                  <a:pt x="1170040" y="1061831"/>
                  <a:pt x="1178146" y="1065782"/>
                </a:cubicBezTo>
                <a:cubicBezTo>
                  <a:pt x="1186285" y="1069695"/>
                  <a:pt x="1193414" y="1075055"/>
                  <a:pt x="1199499" y="1081786"/>
                </a:cubicBezTo>
                <a:cubicBezTo>
                  <a:pt x="1205607" y="1088568"/>
                  <a:pt x="1210386" y="1096431"/>
                  <a:pt x="1213882" y="1105377"/>
                </a:cubicBezTo>
                <a:cubicBezTo>
                  <a:pt x="1217345" y="1114323"/>
                  <a:pt x="1219116" y="1123923"/>
                  <a:pt x="1219116" y="1134064"/>
                </a:cubicBezTo>
                <a:cubicBezTo>
                  <a:pt x="1219116" y="1146709"/>
                  <a:pt x="1216402" y="1158524"/>
                  <a:pt x="1210976" y="1169571"/>
                </a:cubicBezTo>
                <a:cubicBezTo>
                  <a:pt x="1205709" y="1180618"/>
                  <a:pt x="1198194" y="1189564"/>
                  <a:pt x="1188578" y="1196371"/>
                </a:cubicBezTo>
                <a:cubicBezTo>
                  <a:pt x="1191428" y="1196874"/>
                  <a:pt x="1195412" y="1197427"/>
                  <a:pt x="1200646" y="1198145"/>
                </a:cubicBezTo>
                <a:cubicBezTo>
                  <a:pt x="1205834" y="1198799"/>
                  <a:pt x="1211260" y="1199566"/>
                  <a:pt x="1216925" y="1200359"/>
                </a:cubicBezTo>
                <a:cubicBezTo>
                  <a:pt x="1222544" y="1201189"/>
                  <a:pt x="1227811" y="1202020"/>
                  <a:pt x="1232716" y="1202888"/>
                </a:cubicBezTo>
                <a:cubicBezTo>
                  <a:pt x="1237586" y="1203769"/>
                  <a:pt x="1241139" y="1204561"/>
                  <a:pt x="1243330" y="1205216"/>
                </a:cubicBezTo>
                <a:cubicBezTo>
                  <a:pt x="1246963" y="1206373"/>
                  <a:pt x="1250686" y="1208839"/>
                  <a:pt x="1254387" y="1212501"/>
                </a:cubicBezTo>
                <a:cubicBezTo>
                  <a:pt x="1258077" y="1216225"/>
                  <a:pt x="1261505" y="1220503"/>
                  <a:pt x="1264615" y="1225322"/>
                </a:cubicBezTo>
                <a:cubicBezTo>
                  <a:pt x="1267749" y="1230178"/>
                  <a:pt x="1270269" y="1235174"/>
                  <a:pt x="1272165" y="1240420"/>
                </a:cubicBezTo>
                <a:cubicBezTo>
                  <a:pt x="1274129" y="1245566"/>
                  <a:pt x="1275082" y="1250310"/>
                  <a:pt x="1275082" y="1254625"/>
                </a:cubicBezTo>
                <a:lnTo>
                  <a:pt x="1275082" y="1321713"/>
                </a:lnTo>
                <a:cubicBezTo>
                  <a:pt x="1274026" y="1322229"/>
                  <a:pt x="1272891" y="1322984"/>
                  <a:pt x="1271574" y="1324141"/>
                </a:cubicBezTo>
                <a:cubicBezTo>
                  <a:pt x="1270269" y="1325336"/>
                  <a:pt x="1268861" y="1326431"/>
                  <a:pt x="1267363" y="1327551"/>
                </a:cubicBezTo>
                <a:cubicBezTo>
                  <a:pt x="1265830" y="1328633"/>
                  <a:pt x="1264388" y="1329614"/>
                  <a:pt x="1263049" y="1330407"/>
                </a:cubicBezTo>
                <a:cubicBezTo>
                  <a:pt x="1261675" y="1331250"/>
                  <a:pt x="1260529" y="1331615"/>
                  <a:pt x="1259609" y="1331615"/>
                </a:cubicBezTo>
                <a:lnTo>
                  <a:pt x="1045200" y="1331615"/>
                </a:lnTo>
                <a:cubicBezTo>
                  <a:pt x="1041544" y="1331615"/>
                  <a:pt x="1038797" y="1330382"/>
                  <a:pt x="1036901" y="1327878"/>
                </a:cubicBezTo>
                <a:cubicBezTo>
                  <a:pt x="1035005" y="1325412"/>
                  <a:pt x="1032678" y="1323348"/>
                  <a:pt x="1029874" y="1321713"/>
                </a:cubicBezTo>
                <a:lnTo>
                  <a:pt x="1029874" y="1254625"/>
                </a:lnTo>
                <a:cubicBezTo>
                  <a:pt x="1029874" y="1250310"/>
                  <a:pt x="1030816" y="1245566"/>
                  <a:pt x="1032746" y="1240420"/>
                </a:cubicBezTo>
                <a:cubicBezTo>
                  <a:pt x="1034710" y="1235174"/>
                  <a:pt x="1037196" y="1230241"/>
                  <a:pt x="1040261" y="1225498"/>
                </a:cubicBezTo>
                <a:cubicBezTo>
                  <a:pt x="1043338" y="1220755"/>
                  <a:pt x="1046732" y="1216477"/>
                  <a:pt x="1050501" y="1212639"/>
                </a:cubicBezTo>
                <a:cubicBezTo>
                  <a:pt x="1054225" y="1208877"/>
                  <a:pt x="1057948" y="1206336"/>
                  <a:pt x="1061615" y="1205178"/>
                </a:cubicBezTo>
                <a:cubicBezTo>
                  <a:pt x="1063477" y="1204524"/>
                  <a:pt x="1066905" y="1203731"/>
                  <a:pt x="1071911" y="1202863"/>
                </a:cubicBezTo>
                <a:cubicBezTo>
                  <a:pt x="1076906" y="1201982"/>
                  <a:pt x="1082276" y="1201152"/>
                  <a:pt x="1087963" y="1200321"/>
                </a:cubicBezTo>
                <a:cubicBezTo>
                  <a:pt x="1093651" y="1199529"/>
                  <a:pt x="1099077" y="1198761"/>
                  <a:pt x="1104299" y="1198119"/>
                </a:cubicBezTo>
                <a:cubicBezTo>
                  <a:pt x="1109499" y="1197390"/>
                  <a:pt x="1113517" y="1196849"/>
                  <a:pt x="1116333" y="1196333"/>
                </a:cubicBezTo>
                <a:cubicBezTo>
                  <a:pt x="1106751" y="1189526"/>
                  <a:pt x="1099270" y="1180656"/>
                  <a:pt x="1093742" y="1169747"/>
                </a:cubicBezTo>
                <a:cubicBezTo>
                  <a:pt x="1088247" y="1158813"/>
                  <a:pt x="1085534" y="1146923"/>
                  <a:pt x="1085534" y="1134064"/>
                </a:cubicBezTo>
                <a:cubicBezTo>
                  <a:pt x="1085534" y="1123923"/>
                  <a:pt x="1087305" y="1114323"/>
                  <a:pt x="1090836" y="1105377"/>
                </a:cubicBezTo>
                <a:cubicBezTo>
                  <a:pt x="1094366" y="1096431"/>
                  <a:pt x="1099168" y="1088568"/>
                  <a:pt x="1105151" y="1081786"/>
                </a:cubicBezTo>
                <a:cubicBezTo>
                  <a:pt x="1111167" y="1075055"/>
                  <a:pt x="1118160" y="1069695"/>
                  <a:pt x="1126277" y="1065782"/>
                </a:cubicBezTo>
                <a:cubicBezTo>
                  <a:pt x="1134349" y="1061831"/>
                  <a:pt x="1142976" y="1059843"/>
                  <a:pt x="1152160" y="1059843"/>
                </a:cubicBezTo>
                <a:close/>
                <a:moveTo>
                  <a:pt x="1399950" y="1050989"/>
                </a:moveTo>
                <a:cubicBezTo>
                  <a:pt x="1403394" y="1050989"/>
                  <a:pt x="1406655" y="1051726"/>
                  <a:pt x="1409695" y="1053192"/>
                </a:cubicBezTo>
                <a:cubicBezTo>
                  <a:pt x="1412747" y="1054643"/>
                  <a:pt x="1415421" y="1056631"/>
                  <a:pt x="1417702" y="1059128"/>
                </a:cubicBezTo>
                <a:cubicBezTo>
                  <a:pt x="1419993" y="1061644"/>
                  <a:pt x="1421785" y="1064561"/>
                  <a:pt x="1423096" y="1067879"/>
                </a:cubicBezTo>
                <a:cubicBezTo>
                  <a:pt x="1424395" y="1071197"/>
                  <a:pt x="1425059" y="1074758"/>
                  <a:pt x="1425059" y="1078520"/>
                </a:cubicBezTo>
                <a:cubicBezTo>
                  <a:pt x="1425059" y="1083210"/>
                  <a:pt x="1424041" y="1087592"/>
                  <a:pt x="1422006" y="1091690"/>
                </a:cubicBezTo>
                <a:cubicBezTo>
                  <a:pt x="1420031" y="1095788"/>
                  <a:pt x="1417213" y="1099106"/>
                  <a:pt x="1413607" y="1101631"/>
                </a:cubicBezTo>
                <a:cubicBezTo>
                  <a:pt x="1414676" y="1101818"/>
                  <a:pt x="1416170" y="1102023"/>
                  <a:pt x="1418132" y="1102289"/>
                </a:cubicBezTo>
                <a:cubicBezTo>
                  <a:pt x="1420078" y="1102532"/>
                  <a:pt x="1422113" y="1102816"/>
                  <a:pt x="1424237" y="1103110"/>
                </a:cubicBezTo>
                <a:cubicBezTo>
                  <a:pt x="1426344" y="1103418"/>
                  <a:pt x="1428320" y="1103726"/>
                  <a:pt x="1430159" y="1104048"/>
                </a:cubicBezTo>
                <a:cubicBezTo>
                  <a:pt x="1431985" y="1104375"/>
                  <a:pt x="1433317" y="1104669"/>
                  <a:pt x="1434139" y="1104912"/>
                </a:cubicBezTo>
                <a:cubicBezTo>
                  <a:pt x="1435501" y="1105341"/>
                  <a:pt x="1436898" y="1106256"/>
                  <a:pt x="1438286" y="1107614"/>
                </a:cubicBezTo>
                <a:cubicBezTo>
                  <a:pt x="1439669" y="1108995"/>
                  <a:pt x="1440955" y="1110582"/>
                  <a:pt x="1442121" y="1112370"/>
                </a:cubicBezTo>
                <a:cubicBezTo>
                  <a:pt x="1443296" y="1114171"/>
                  <a:pt x="1444241" y="1116024"/>
                  <a:pt x="1444952" y="1117970"/>
                </a:cubicBezTo>
                <a:cubicBezTo>
                  <a:pt x="1445689" y="1119879"/>
                  <a:pt x="1446046" y="1121638"/>
                  <a:pt x="1446046" y="1123239"/>
                </a:cubicBezTo>
                <a:lnTo>
                  <a:pt x="1446046" y="1148124"/>
                </a:lnTo>
                <a:cubicBezTo>
                  <a:pt x="1445650" y="1148315"/>
                  <a:pt x="1445225" y="1148595"/>
                  <a:pt x="1444731" y="1149025"/>
                </a:cubicBezTo>
                <a:cubicBezTo>
                  <a:pt x="1444241" y="1149468"/>
                  <a:pt x="1443713" y="1149874"/>
                  <a:pt x="1443151" y="1150289"/>
                </a:cubicBezTo>
                <a:cubicBezTo>
                  <a:pt x="1442577" y="1150691"/>
                  <a:pt x="1442036" y="1151055"/>
                  <a:pt x="1441534" y="1151349"/>
                </a:cubicBezTo>
                <a:cubicBezTo>
                  <a:pt x="1441019" y="1151662"/>
                  <a:pt x="1440589" y="1151797"/>
                  <a:pt x="1440244" y="1151797"/>
                </a:cubicBezTo>
                <a:lnTo>
                  <a:pt x="1359840" y="1151797"/>
                </a:lnTo>
                <a:cubicBezTo>
                  <a:pt x="1358469" y="1151797"/>
                  <a:pt x="1357439" y="1151340"/>
                  <a:pt x="1356728" y="1150411"/>
                </a:cubicBezTo>
                <a:cubicBezTo>
                  <a:pt x="1356017" y="1149496"/>
                  <a:pt x="1355145" y="1148731"/>
                  <a:pt x="1354093" y="1148124"/>
                </a:cubicBezTo>
                <a:lnTo>
                  <a:pt x="1354093" y="1123239"/>
                </a:lnTo>
                <a:cubicBezTo>
                  <a:pt x="1354093" y="1121638"/>
                  <a:pt x="1354446" y="1119879"/>
                  <a:pt x="1355170" y="1117970"/>
                </a:cubicBezTo>
                <a:cubicBezTo>
                  <a:pt x="1355907" y="1116024"/>
                  <a:pt x="1356839" y="1114195"/>
                  <a:pt x="1357988" y="1112435"/>
                </a:cubicBezTo>
                <a:cubicBezTo>
                  <a:pt x="1359142" y="1110676"/>
                  <a:pt x="1360415" y="1109089"/>
                  <a:pt x="1361828" y="1107665"/>
                </a:cubicBezTo>
                <a:cubicBezTo>
                  <a:pt x="1363225" y="1106270"/>
                  <a:pt x="1364621" y="1105327"/>
                  <a:pt x="1365996" y="1104898"/>
                </a:cubicBezTo>
                <a:cubicBezTo>
                  <a:pt x="1366694" y="1104655"/>
                  <a:pt x="1367980" y="1104361"/>
                  <a:pt x="1369857" y="1104039"/>
                </a:cubicBezTo>
                <a:cubicBezTo>
                  <a:pt x="1371730" y="1103712"/>
                  <a:pt x="1373744" y="1103404"/>
                  <a:pt x="1375877" y="1103096"/>
                </a:cubicBezTo>
                <a:cubicBezTo>
                  <a:pt x="1378009" y="1102802"/>
                  <a:pt x="1380044" y="1102518"/>
                  <a:pt x="1382003" y="1102280"/>
                </a:cubicBezTo>
                <a:cubicBezTo>
                  <a:pt x="1383952" y="1102009"/>
                  <a:pt x="1385459" y="1101808"/>
                  <a:pt x="1386515" y="1101617"/>
                </a:cubicBezTo>
                <a:cubicBezTo>
                  <a:pt x="1382922" y="1099092"/>
                  <a:pt x="1380117" y="1095802"/>
                  <a:pt x="1378043" y="1091755"/>
                </a:cubicBezTo>
                <a:cubicBezTo>
                  <a:pt x="1375983" y="1087700"/>
                  <a:pt x="1374966" y="1083289"/>
                  <a:pt x="1374966" y="1078520"/>
                </a:cubicBezTo>
                <a:cubicBezTo>
                  <a:pt x="1374966" y="1074758"/>
                  <a:pt x="1375630" y="1071197"/>
                  <a:pt x="1376954" y="1067879"/>
                </a:cubicBezTo>
                <a:cubicBezTo>
                  <a:pt x="1378278" y="1064561"/>
                  <a:pt x="1380078" y="1061644"/>
                  <a:pt x="1382322" y="1059128"/>
                </a:cubicBezTo>
                <a:cubicBezTo>
                  <a:pt x="1384578" y="1056631"/>
                  <a:pt x="1387200" y="1054643"/>
                  <a:pt x="1390244" y="1053192"/>
                </a:cubicBezTo>
                <a:cubicBezTo>
                  <a:pt x="1393271" y="1051726"/>
                  <a:pt x="1396506" y="1050989"/>
                  <a:pt x="1399950" y="1050989"/>
                </a:cubicBezTo>
                <a:close/>
                <a:moveTo>
                  <a:pt x="1037366" y="1030555"/>
                </a:moveTo>
                <a:lnTo>
                  <a:pt x="1078911" y="1072104"/>
                </a:lnTo>
                <a:lnTo>
                  <a:pt x="1037366" y="1113649"/>
                </a:lnTo>
                <a:lnTo>
                  <a:pt x="995817" y="1072104"/>
                </a:lnTo>
                <a:lnTo>
                  <a:pt x="1037366" y="1030555"/>
                </a:lnTo>
                <a:close/>
                <a:moveTo>
                  <a:pt x="926563" y="1020338"/>
                </a:moveTo>
                <a:cubicBezTo>
                  <a:pt x="930007" y="1020338"/>
                  <a:pt x="933268" y="1021075"/>
                  <a:pt x="936308" y="1022541"/>
                </a:cubicBezTo>
                <a:cubicBezTo>
                  <a:pt x="939360" y="1023992"/>
                  <a:pt x="942034" y="1025980"/>
                  <a:pt x="944315" y="1028477"/>
                </a:cubicBezTo>
                <a:cubicBezTo>
                  <a:pt x="946606" y="1030993"/>
                  <a:pt x="948398" y="1033910"/>
                  <a:pt x="949709" y="1037228"/>
                </a:cubicBezTo>
                <a:cubicBezTo>
                  <a:pt x="951008" y="1040546"/>
                  <a:pt x="951672" y="1044107"/>
                  <a:pt x="951672" y="1047869"/>
                </a:cubicBezTo>
                <a:cubicBezTo>
                  <a:pt x="951672" y="1052559"/>
                  <a:pt x="950654" y="1056941"/>
                  <a:pt x="948619" y="1061039"/>
                </a:cubicBezTo>
                <a:cubicBezTo>
                  <a:pt x="946644" y="1065137"/>
                  <a:pt x="943826" y="1068455"/>
                  <a:pt x="940220" y="1070980"/>
                </a:cubicBezTo>
                <a:cubicBezTo>
                  <a:pt x="941289" y="1071167"/>
                  <a:pt x="942783" y="1071372"/>
                  <a:pt x="944745" y="1071638"/>
                </a:cubicBezTo>
                <a:cubicBezTo>
                  <a:pt x="946691" y="1071881"/>
                  <a:pt x="948726" y="1072165"/>
                  <a:pt x="950850" y="1072459"/>
                </a:cubicBezTo>
                <a:cubicBezTo>
                  <a:pt x="952957" y="1072767"/>
                  <a:pt x="954933" y="1073075"/>
                  <a:pt x="956772" y="1073397"/>
                </a:cubicBezTo>
                <a:cubicBezTo>
                  <a:pt x="958598" y="1073724"/>
                  <a:pt x="959930" y="1074018"/>
                  <a:pt x="960752" y="1074261"/>
                </a:cubicBezTo>
                <a:cubicBezTo>
                  <a:pt x="962114" y="1074690"/>
                  <a:pt x="963511" y="1075605"/>
                  <a:pt x="964898" y="1076963"/>
                </a:cubicBezTo>
                <a:cubicBezTo>
                  <a:pt x="966282" y="1078344"/>
                  <a:pt x="967568" y="1079931"/>
                  <a:pt x="968734" y="1081719"/>
                </a:cubicBezTo>
                <a:cubicBezTo>
                  <a:pt x="969909" y="1083520"/>
                  <a:pt x="970854" y="1085373"/>
                  <a:pt x="971565" y="1087319"/>
                </a:cubicBezTo>
                <a:cubicBezTo>
                  <a:pt x="972302" y="1089228"/>
                  <a:pt x="972659" y="1090987"/>
                  <a:pt x="972659" y="1092588"/>
                </a:cubicBezTo>
                <a:lnTo>
                  <a:pt x="972659" y="1117473"/>
                </a:lnTo>
                <a:cubicBezTo>
                  <a:pt x="972263" y="1117664"/>
                  <a:pt x="971838" y="1117944"/>
                  <a:pt x="971344" y="1118374"/>
                </a:cubicBezTo>
                <a:cubicBezTo>
                  <a:pt x="970854" y="1118817"/>
                  <a:pt x="970326" y="1119223"/>
                  <a:pt x="969764" y="1119638"/>
                </a:cubicBezTo>
                <a:cubicBezTo>
                  <a:pt x="969190" y="1120040"/>
                  <a:pt x="968649" y="1120404"/>
                  <a:pt x="968147" y="1120698"/>
                </a:cubicBezTo>
                <a:cubicBezTo>
                  <a:pt x="967632" y="1121011"/>
                  <a:pt x="967202" y="1121146"/>
                  <a:pt x="966857" y="1121146"/>
                </a:cubicBezTo>
                <a:lnTo>
                  <a:pt x="886453" y="1121146"/>
                </a:lnTo>
                <a:cubicBezTo>
                  <a:pt x="885082" y="1121146"/>
                  <a:pt x="884052" y="1120689"/>
                  <a:pt x="883341" y="1119760"/>
                </a:cubicBezTo>
                <a:cubicBezTo>
                  <a:pt x="882630" y="1118845"/>
                  <a:pt x="881758" y="1118080"/>
                  <a:pt x="880706" y="1117473"/>
                </a:cubicBezTo>
                <a:lnTo>
                  <a:pt x="880706" y="1092588"/>
                </a:lnTo>
                <a:cubicBezTo>
                  <a:pt x="880706" y="1090987"/>
                  <a:pt x="881059" y="1089228"/>
                  <a:pt x="881783" y="1087319"/>
                </a:cubicBezTo>
                <a:cubicBezTo>
                  <a:pt x="882520" y="1085373"/>
                  <a:pt x="883452" y="1083544"/>
                  <a:pt x="884601" y="1081784"/>
                </a:cubicBezTo>
                <a:cubicBezTo>
                  <a:pt x="885755" y="1080025"/>
                  <a:pt x="887028" y="1078438"/>
                  <a:pt x="888441" y="1077014"/>
                </a:cubicBezTo>
                <a:cubicBezTo>
                  <a:pt x="889838" y="1075619"/>
                  <a:pt x="891234" y="1074676"/>
                  <a:pt x="892609" y="1074247"/>
                </a:cubicBezTo>
                <a:cubicBezTo>
                  <a:pt x="893307" y="1074004"/>
                  <a:pt x="894593" y="1073710"/>
                  <a:pt x="896470" y="1073388"/>
                </a:cubicBezTo>
                <a:cubicBezTo>
                  <a:pt x="898343" y="1073061"/>
                  <a:pt x="900357" y="1072753"/>
                  <a:pt x="902490" y="1072445"/>
                </a:cubicBezTo>
                <a:cubicBezTo>
                  <a:pt x="904622" y="1072151"/>
                  <a:pt x="906657" y="1071867"/>
                  <a:pt x="908616" y="1071629"/>
                </a:cubicBezTo>
                <a:cubicBezTo>
                  <a:pt x="910565" y="1071358"/>
                  <a:pt x="912072" y="1071157"/>
                  <a:pt x="913128" y="1070966"/>
                </a:cubicBezTo>
                <a:cubicBezTo>
                  <a:pt x="909535" y="1068441"/>
                  <a:pt x="906730" y="1065151"/>
                  <a:pt x="904656" y="1061104"/>
                </a:cubicBezTo>
                <a:cubicBezTo>
                  <a:pt x="902596" y="1057049"/>
                  <a:pt x="901579" y="1052638"/>
                  <a:pt x="901579" y="1047869"/>
                </a:cubicBezTo>
                <a:cubicBezTo>
                  <a:pt x="901579" y="1044107"/>
                  <a:pt x="902243" y="1040546"/>
                  <a:pt x="903567" y="1037228"/>
                </a:cubicBezTo>
                <a:cubicBezTo>
                  <a:pt x="904891" y="1033910"/>
                  <a:pt x="906691" y="1030993"/>
                  <a:pt x="908935" y="1028477"/>
                </a:cubicBezTo>
                <a:cubicBezTo>
                  <a:pt x="911191" y="1025980"/>
                  <a:pt x="913813" y="1023992"/>
                  <a:pt x="916857" y="1022541"/>
                </a:cubicBezTo>
                <a:cubicBezTo>
                  <a:pt x="919884" y="1021075"/>
                  <a:pt x="923119" y="1020338"/>
                  <a:pt x="926563" y="1020338"/>
                </a:cubicBezTo>
                <a:close/>
                <a:moveTo>
                  <a:pt x="1212758" y="960398"/>
                </a:moveTo>
                <a:lnTo>
                  <a:pt x="1254644" y="1001947"/>
                </a:lnTo>
                <a:lnTo>
                  <a:pt x="1212758" y="1043492"/>
                </a:lnTo>
                <a:lnTo>
                  <a:pt x="1170868" y="1001947"/>
                </a:lnTo>
                <a:lnTo>
                  <a:pt x="1212758" y="960398"/>
                </a:lnTo>
                <a:close/>
                <a:moveTo>
                  <a:pt x="1072445" y="925660"/>
                </a:moveTo>
                <a:lnTo>
                  <a:pt x="1114331" y="967209"/>
                </a:lnTo>
                <a:lnTo>
                  <a:pt x="1072445" y="1008754"/>
                </a:lnTo>
                <a:lnTo>
                  <a:pt x="1030555" y="967209"/>
                </a:lnTo>
                <a:lnTo>
                  <a:pt x="1072445" y="925660"/>
                </a:lnTo>
                <a:close/>
                <a:moveTo>
                  <a:pt x="985521" y="897734"/>
                </a:moveTo>
                <a:cubicBezTo>
                  <a:pt x="987817" y="897734"/>
                  <a:pt x="989991" y="898247"/>
                  <a:pt x="992017" y="899267"/>
                </a:cubicBezTo>
                <a:cubicBezTo>
                  <a:pt x="994052" y="900277"/>
                  <a:pt x="995834" y="901661"/>
                  <a:pt x="997355" y="903398"/>
                </a:cubicBezTo>
                <a:cubicBezTo>
                  <a:pt x="998882" y="905149"/>
                  <a:pt x="1000077" y="907179"/>
                  <a:pt x="1000951" y="909488"/>
                </a:cubicBezTo>
                <a:cubicBezTo>
                  <a:pt x="1001817" y="911798"/>
                  <a:pt x="1002260" y="914276"/>
                  <a:pt x="1002260" y="916894"/>
                </a:cubicBezTo>
                <a:cubicBezTo>
                  <a:pt x="1002260" y="920158"/>
                  <a:pt x="1001581" y="923208"/>
                  <a:pt x="1000225" y="926060"/>
                </a:cubicBezTo>
                <a:cubicBezTo>
                  <a:pt x="998908" y="928912"/>
                  <a:pt x="997029" y="931221"/>
                  <a:pt x="994625" y="932978"/>
                </a:cubicBezTo>
                <a:cubicBezTo>
                  <a:pt x="995337" y="933108"/>
                  <a:pt x="996334" y="933251"/>
                  <a:pt x="997642" y="933436"/>
                </a:cubicBezTo>
                <a:cubicBezTo>
                  <a:pt x="998939" y="933605"/>
                  <a:pt x="1000296" y="933803"/>
                  <a:pt x="1001712" y="934008"/>
                </a:cubicBezTo>
                <a:cubicBezTo>
                  <a:pt x="1003117" y="934222"/>
                  <a:pt x="1004433" y="934436"/>
                  <a:pt x="1005660" y="934660"/>
                </a:cubicBezTo>
                <a:cubicBezTo>
                  <a:pt x="1006877" y="934888"/>
                  <a:pt x="1007765" y="935092"/>
                  <a:pt x="1008313" y="935261"/>
                </a:cubicBezTo>
                <a:cubicBezTo>
                  <a:pt x="1009221" y="935560"/>
                  <a:pt x="1010152" y="936197"/>
                  <a:pt x="1011077" y="937142"/>
                </a:cubicBezTo>
                <a:cubicBezTo>
                  <a:pt x="1012000" y="938103"/>
                  <a:pt x="1012857" y="939208"/>
                  <a:pt x="1013634" y="940452"/>
                </a:cubicBezTo>
                <a:cubicBezTo>
                  <a:pt x="1014418" y="941705"/>
                  <a:pt x="1015048" y="942995"/>
                  <a:pt x="1015522" y="944349"/>
                </a:cubicBezTo>
                <a:cubicBezTo>
                  <a:pt x="1016013" y="945678"/>
                  <a:pt x="1016251" y="946902"/>
                  <a:pt x="1016251" y="948016"/>
                </a:cubicBezTo>
                <a:lnTo>
                  <a:pt x="1016251" y="965335"/>
                </a:lnTo>
                <a:cubicBezTo>
                  <a:pt x="1015987" y="965468"/>
                  <a:pt x="1015703" y="965663"/>
                  <a:pt x="1015374" y="965962"/>
                </a:cubicBezTo>
                <a:cubicBezTo>
                  <a:pt x="1015048" y="966270"/>
                  <a:pt x="1014696" y="966553"/>
                  <a:pt x="1014321" y="966842"/>
                </a:cubicBezTo>
                <a:cubicBezTo>
                  <a:pt x="1013938" y="967121"/>
                  <a:pt x="1013578" y="967374"/>
                  <a:pt x="1013243" y="967579"/>
                </a:cubicBezTo>
                <a:cubicBezTo>
                  <a:pt x="1012899" y="967797"/>
                  <a:pt x="1012613" y="967888"/>
                  <a:pt x="1012383" y="967888"/>
                </a:cubicBezTo>
                <a:lnTo>
                  <a:pt x="958781" y="967888"/>
                </a:lnTo>
                <a:cubicBezTo>
                  <a:pt x="957867" y="967888"/>
                  <a:pt x="957180" y="967573"/>
                  <a:pt x="956706" y="966926"/>
                </a:cubicBezTo>
                <a:cubicBezTo>
                  <a:pt x="956232" y="966290"/>
                  <a:pt x="955650" y="965757"/>
                  <a:pt x="954949" y="965335"/>
                </a:cubicBezTo>
                <a:lnTo>
                  <a:pt x="954949" y="948016"/>
                </a:lnTo>
                <a:cubicBezTo>
                  <a:pt x="954949" y="946902"/>
                  <a:pt x="955185" y="945678"/>
                  <a:pt x="955667" y="944349"/>
                </a:cubicBezTo>
                <a:cubicBezTo>
                  <a:pt x="956158" y="942995"/>
                  <a:pt x="956780" y="941722"/>
                  <a:pt x="957546" y="940497"/>
                </a:cubicBezTo>
                <a:cubicBezTo>
                  <a:pt x="958315" y="939273"/>
                  <a:pt x="959164" y="938168"/>
                  <a:pt x="960106" y="937178"/>
                </a:cubicBezTo>
                <a:cubicBezTo>
                  <a:pt x="961037" y="936207"/>
                  <a:pt x="961968" y="935550"/>
                  <a:pt x="962884" y="935252"/>
                </a:cubicBezTo>
                <a:cubicBezTo>
                  <a:pt x="963350" y="935083"/>
                  <a:pt x="964207" y="934878"/>
                  <a:pt x="965458" y="934654"/>
                </a:cubicBezTo>
                <a:cubicBezTo>
                  <a:pt x="966707" y="934427"/>
                  <a:pt x="968050" y="934212"/>
                  <a:pt x="969471" y="933998"/>
                </a:cubicBezTo>
                <a:cubicBezTo>
                  <a:pt x="970893" y="933793"/>
                  <a:pt x="972250" y="933595"/>
                  <a:pt x="973555" y="933429"/>
                </a:cubicBezTo>
                <a:cubicBezTo>
                  <a:pt x="974855" y="933241"/>
                  <a:pt x="975860" y="933101"/>
                  <a:pt x="976564" y="932968"/>
                </a:cubicBezTo>
                <a:cubicBezTo>
                  <a:pt x="974168" y="931211"/>
                  <a:pt x="972298" y="928921"/>
                  <a:pt x="970916" y="926105"/>
                </a:cubicBezTo>
                <a:cubicBezTo>
                  <a:pt x="969542" y="923283"/>
                  <a:pt x="968864" y="920213"/>
                  <a:pt x="968864" y="916894"/>
                </a:cubicBezTo>
                <a:cubicBezTo>
                  <a:pt x="968864" y="914276"/>
                  <a:pt x="969307" y="911798"/>
                  <a:pt x="970189" y="909488"/>
                </a:cubicBezTo>
                <a:cubicBezTo>
                  <a:pt x="971072" y="907179"/>
                  <a:pt x="972273" y="905149"/>
                  <a:pt x="973768" y="903398"/>
                </a:cubicBezTo>
                <a:cubicBezTo>
                  <a:pt x="975272" y="901661"/>
                  <a:pt x="977021" y="900277"/>
                  <a:pt x="979050" y="899267"/>
                </a:cubicBezTo>
                <a:cubicBezTo>
                  <a:pt x="981068" y="898247"/>
                  <a:pt x="983225" y="897734"/>
                  <a:pt x="985521" y="897734"/>
                </a:cubicBezTo>
                <a:close/>
                <a:moveTo>
                  <a:pt x="1333835" y="880024"/>
                </a:moveTo>
                <a:cubicBezTo>
                  <a:pt x="1338606" y="880024"/>
                  <a:pt x="1343123" y="881050"/>
                  <a:pt x="1347333" y="883090"/>
                </a:cubicBezTo>
                <a:cubicBezTo>
                  <a:pt x="1351561" y="885110"/>
                  <a:pt x="1355264" y="887878"/>
                  <a:pt x="1358425" y="891353"/>
                </a:cubicBezTo>
                <a:cubicBezTo>
                  <a:pt x="1361597" y="894854"/>
                  <a:pt x="1364080" y="898914"/>
                  <a:pt x="1365896" y="903533"/>
                </a:cubicBezTo>
                <a:cubicBezTo>
                  <a:pt x="1367695" y="908152"/>
                  <a:pt x="1368615" y="913108"/>
                  <a:pt x="1368615" y="918344"/>
                </a:cubicBezTo>
                <a:cubicBezTo>
                  <a:pt x="1368615" y="924872"/>
                  <a:pt x="1367205" y="930972"/>
                  <a:pt x="1364387" y="936676"/>
                </a:cubicBezTo>
                <a:cubicBezTo>
                  <a:pt x="1361650" y="942379"/>
                  <a:pt x="1357747" y="946998"/>
                  <a:pt x="1352752" y="950512"/>
                </a:cubicBezTo>
                <a:cubicBezTo>
                  <a:pt x="1354232" y="950772"/>
                  <a:pt x="1356302" y="951058"/>
                  <a:pt x="1359020" y="951428"/>
                </a:cubicBezTo>
                <a:cubicBezTo>
                  <a:pt x="1361715" y="951766"/>
                  <a:pt x="1364534" y="952162"/>
                  <a:pt x="1367477" y="952571"/>
                </a:cubicBezTo>
                <a:cubicBezTo>
                  <a:pt x="1370395" y="953000"/>
                  <a:pt x="1373132" y="953429"/>
                  <a:pt x="1375679" y="953877"/>
                </a:cubicBezTo>
                <a:cubicBezTo>
                  <a:pt x="1378209" y="954332"/>
                  <a:pt x="1380055" y="954741"/>
                  <a:pt x="1381193" y="955079"/>
                </a:cubicBezTo>
                <a:cubicBezTo>
                  <a:pt x="1383080" y="955677"/>
                  <a:pt x="1385014" y="956950"/>
                  <a:pt x="1386936" y="958840"/>
                </a:cubicBezTo>
                <a:cubicBezTo>
                  <a:pt x="1388853" y="960763"/>
                  <a:pt x="1390633" y="962972"/>
                  <a:pt x="1392249" y="965460"/>
                </a:cubicBezTo>
                <a:cubicBezTo>
                  <a:pt x="1393877" y="967967"/>
                  <a:pt x="1395186" y="970546"/>
                  <a:pt x="1396171" y="973255"/>
                </a:cubicBezTo>
                <a:cubicBezTo>
                  <a:pt x="1397191" y="975912"/>
                  <a:pt x="1397680" y="978361"/>
                  <a:pt x="1397680" y="980589"/>
                </a:cubicBezTo>
                <a:lnTo>
                  <a:pt x="1397680" y="1015226"/>
                </a:lnTo>
                <a:cubicBezTo>
                  <a:pt x="1397138" y="1015492"/>
                  <a:pt x="1396548" y="1015882"/>
                  <a:pt x="1395864" y="1016479"/>
                </a:cubicBezTo>
                <a:cubicBezTo>
                  <a:pt x="1395186" y="1017096"/>
                  <a:pt x="1394455" y="1017662"/>
                  <a:pt x="1393676" y="1018240"/>
                </a:cubicBezTo>
                <a:cubicBezTo>
                  <a:pt x="1392880" y="1018798"/>
                  <a:pt x="1392131" y="1019305"/>
                  <a:pt x="1391435" y="1019714"/>
                </a:cubicBezTo>
                <a:cubicBezTo>
                  <a:pt x="1390722" y="1020149"/>
                  <a:pt x="1390126" y="1020331"/>
                  <a:pt x="1389649" y="1020331"/>
                </a:cubicBezTo>
                <a:lnTo>
                  <a:pt x="1278275" y="1020331"/>
                </a:lnTo>
                <a:cubicBezTo>
                  <a:pt x="1276376" y="1020331"/>
                  <a:pt x="1274949" y="1019701"/>
                  <a:pt x="1273964" y="1018409"/>
                </a:cubicBezTo>
                <a:cubicBezTo>
                  <a:pt x="1272980" y="1017135"/>
                  <a:pt x="1271771" y="1016070"/>
                  <a:pt x="1270314" y="1015226"/>
                </a:cubicBezTo>
                <a:lnTo>
                  <a:pt x="1270314" y="980589"/>
                </a:lnTo>
                <a:cubicBezTo>
                  <a:pt x="1270314" y="978361"/>
                  <a:pt x="1270804" y="975912"/>
                  <a:pt x="1271806" y="973255"/>
                </a:cubicBezTo>
                <a:cubicBezTo>
                  <a:pt x="1272826" y="970546"/>
                  <a:pt x="1274118" y="967999"/>
                  <a:pt x="1275710" y="965550"/>
                </a:cubicBezTo>
                <a:cubicBezTo>
                  <a:pt x="1277308" y="963101"/>
                  <a:pt x="1279071" y="960893"/>
                  <a:pt x="1281029" y="958912"/>
                </a:cubicBezTo>
                <a:cubicBezTo>
                  <a:pt x="1282963" y="956969"/>
                  <a:pt x="1284897" y="955657"/>
                  <a:pt x="1286802" y="955059"/>
                </a:cubicBezTo>
                <a:cubicBezTo>
                  <a:pt x="1287769" y="954722"/>
                  <a:pt x="1289550" y="954312"/>
                  <a:pt x="1292150" y="953864"/>
                </a:cubicBezTo>
                <a:cubicBezTo>
                  <a:pt x="1294745" y="953409"/>
                  <a:pt x="1297534" y="952981"/>
                  <a:pt x="1300488" y="952552"/>
                </a:cubicBezTo>
                <a:cubicBezTo>
                  <a:pt x="1303443" y="952143"/>
                  <a:pt x="1306261" y="951746"/>
                  <a:pt x="1308974" y="951415"/>
                </a:cubicBezTo>
                <a:cubicBezTo>
                  <a:pt x="1311675" y="951038"/>
                  <a:pt x="1313762" y="950759"/>
                  <a:pt x="1315225" y="950493"/>
                </a:cubicBezTo>
                <a:cubicBezTo>
                  <a:pt x="1310248" y="946978"/>
                  <a:pt x="1306362" y="942399"/>
                  <a:pt x="1303490" y="936767"/>
                </a:cubicBezTo>
                <a:cubicBezTo>
                  <a:pt x="1300636" y="931122"/>
                  <a:pt x="1299226" y="924983"/>
                  <a:pt x="1299226" y="918344"/>
                </a:cubicBezTo>
                <a:cubicBezTo>
                  <a:pt x="1299226" y="913108"/>
                  <a:pt x="1300146" y="908152"/>
                  <a:pt x="1301980" y="903533"/>
                </a:cubicBezTo>
                <a:cubicBezTo>
                  <a:pt x="1303814" y="898914"/>
                  <a:pt x="1306309" y="894854"/>
                  <a:pt x="1309416" y="891353"/>
                </a:cubicBezTo>
                <a:cubicBezTo>
                  <a:pt x="1312541" y="887878"/>
                  <a:pt x="1316174" y="885110"/>
                  <a:pt x="1320390" y="883090"/>
                </a:cubicBezTo>
                <a:cubicBezTo>
                  <a:pt x="1324583" y="881050"/>
                  <a:pt x="1329064" y="880024"/>
                  <a:pt x="1333835" y="880024"/>
                </a:cubicBezTo>
                <a:close/>
                <a:moveTo>
                  <a:pt x="1495991" y="858228"/>
                </a:moveTo>
                <a:cubicBezTo>
                  <a:pt x="1499435" y="858228"/>
                  <a:pt x="1502695" y="858965"/>
                  <a:pt x="1505735" y="860431"/>
                </a:cubicBezTo>
                <a:cubicBezTo>
                  <a:pt x="1508787" y="861882"/>
                  <a:pt x="1511461" y="863870"/>
                  <a:pt x="1513743" y="866367"/>
                </a:cubicBezTo>
                <a:cubicBezTo>
                  <a:pt x="1516033" y="868883"/>
                  <a:pt x="1517825" y="871800"/>
                  <a:pt x="1519136" y="875118"/>
                </a:cubicBezTo>
                <a:cubicBezTo>
                  <a:pt x="1520435" y="878436"/>
                  <a:pt x="1521099" y="881997"/>
                  <a:pt x="1521099" y="885759"/>
                </a:cubicBezTo>
                <a:cubicBezTo>
                  <a:pt x="1521099" y="890449"/>
                  <a:pt x="1520081" y="894831"/>
                  <a:pt x="1518046" y="898929"/>
                </a:cubicBezTo>
                <a:cubicBezTo>
                  <a:pt x="1516071" y="903027"/>
                  <a:pt x="1513253" y="906345"/>
                  <a:pt x="1509647" y="908870"/>
                </a:cubicBezTo>
                <a:cubicBezTo>
                  <a:pt x="1510716" y="909057"/>
                  <a:pt x="1512210" y="909262"/>
                  <a:pt x="1514173" y="909528"/>
                </a:cubicBezTo>
                <a:cubicBezTo>
                  <a:pt x="1516118" y="909771"/>
                  <a:pt x="1518153" y="910055"/>
                  <a:pt x="1520277" y="910349"/>
                </a:cubicBezTo>
                <a:cubicBezTo>
                  <a:pt x="1522384" y="910657"/>
                  <a:pt x="1524360" y="910965"/>
                  <a:pt x="1526199" y="911287"/>
                </a:cubicBezTo>
                <a:cubicBezTo>
                  <a:pt x="1528025" y="911614"/>
                  <a:pt x="1529358" y="911908"/>
                  <a:pt x="1530179" y="912151"/>
                </a:cubicBezTo>
                <a:cubicBezTo>
                  <a:pt x="1531541" y="912580"/>
                  <a:pt x="1532938" y="913495"/>
                  <a:pt x="1534326" y="914853"/>
                </a:cubicBezTo>
                <a:cubicBezTo>
                  <a:pt x="1535709" y="916234"/>
                  <a:pt x="1536995" y="917821"/>
                  <a:pt x="1538161" y="919609"/>
                </a:cubicBezTo>
                <a:cubicBezTo>
                  <a:pt x="1539336" y="921410"/>
                  <a:pt x="1540281" y="923263"/>
                  <a:pt x="1540992" y="925209"/>
                </a:cubicBezTo>
                <a:cubicBezTo>
                  <a:pt x="1541729" y="927118"/>
                  <a:pt x="1542086" y="928877"/>
                  <a:pt x="1542086" y="930478"/>
                </a:cubicBezTo>
                <a:lnTo>
                  <a:pt x="1542086" y="955363"/>
                </a:lnTo>
                <a:cubicBezTo>
                  <a:pt x="1541690" y="955554"/>
                  <a:pt x="1541265" y="955834"/>
                  <a:pt x="1540771" y="956264"/>
                </a:cubicBezTo>
                <a:cubicBezTo>
                  <a:pt x="1540281" y="956707"/>
                  <a:pt x="1539753" y="957113"/>
                  <a:pt x="1539191" y="957528"/>
                </a:cubicBezTo>
                <a:cubicBezTo>
                  <a:pt x="1538617" y="957930"/>
                  <a:pt x="1538076" y="958294"/>
                  <a:pt x="1537574" y="958588"/>
                </a:cubicBezTo>
                <a:cubicBezTo>
                  <a:pt x="1537059" y="958901"/>
                  <a:pt x="1536629" y="959036"/>
                  <a:pt x="1536284" y="959036"/>
                </a:cubicBezTo>
                <a:lnTo>
                  <a:pt x="1455880" y="959036"/>
                </a:lnTo>
                <a:cubicBezTo>
                  <a:pt x="1454510" y="959036"/>
                  <a:pt x="1453479" y="958579"/>
                  <a:pt x="1452768" y="957650"/>
                </a:cubicBezTo>
                <a:cubicBezTo>
                  <a:pt x="1452057" y="956735"/>
                  <a:pt x="1451185" y="955970"/>
                  <a:pt x="1450133" y="955363"/>
                </a:cubicBezTo>
                <a:lnTo>
                  <a:pt x="1450133" y="930478"/>
                </a:lnTo>
                <a:cubicBezTo>
                  <a:pt x="1450133" y="928877"/>
                  <a:pt x="1450487" y="927118"/>
                  <a:pt x="1451210" y="925209"/>
                </a:cubicBezTo>
                <a:cubicBezTo>
                  <a:pt x="1451947" y="923263"/>
                  <a:pt x="1452879" y="921434"/>
                  <a:pt x="1454028" y="919674"/>
                </a:cubicBezTo>
                <a:cubicBezTo>
                  <a:pt x="1455182" y="917915"/>
                  <a:pt x="1456455" y="916328"/>
                  <a:pt x="1457868" y="914904"/>
                </a:cubicBezTo>
                <a:cubicBezTo>
                  <a:pt x="1459265" y="913509"/>
                  <a:pt x="1460661" y="912566"/>
                  <a:pt x="1462036" y="912137"/>
                </a:cubicBezTo>
                <a:cubicBezTo>
                  <a:pt x="1462734" y="911894"/>
                  <a:pt x="1464020" y="911600"/>
                  <a:pt x="1465897" y="911278"/>
                </a:cubicBezTo>
                <a:cubicBezTo>
                  <a:pt x="1467770" y="910951"/>
                  <a:pt x="1469784" y="910643"/>
                  <a:pt x="1471917" y="910335"/>
                </a:cubicBezTo>
                <a:cubicBezTo>
                  <a:pt x="1474050" y="910041"/>
                  <a:pt x="1476084" y="909757"/>
                  <a:pt x="1478043" y="909519"/>
                </a:cubicBezTo>
                <a:cubicBezTo>
                  <a:pt x="1479992" y="909248"/>
                  <a:pt x="1481499" y="909047"/>
                  <a:pt x="1482555" y="908856"/>
                </a:cubicBezTo>
                <a:cubicBezTo>
                  <a:pt x="1478962" y="906331"/>
                  <a:pt x="1476157" y="903041"/>
                  <a:pt x="1474084" y="898994"/>
                </a:cubicBezTo>
                <a:cubicBezTo>
                  <a:pt x="1472023" y="894939"/>
                  <a:pt x="1471006" y="890528"/>
                  <a:pt x="1471006" y="885759"/>
                </a:cubicBezTo>
                <a:cubicBezTo>
                  <a:pt x="1471006" y="881997"/>
                  <a:pt x="1471670" y="878436"/>
                  <a:pt x="1472994" y="875118"/>
                </a:cubicBezTo>
                <a:cubicBezTo>
                  <a:pt x="1474318" y="871800"/>
                  <a:pt x="1476118" y="868883"/>
                  <a:pt x="1478362" y="866367"/>
                </a:cubicBezTo>
                <a:cubicBezTo>
                  <a:pt x="1480618" y="863870"/>
                  <a:pt x="1483241" y="861882"/>
                  <a:pt x="1486284" y="860431"/>
                </a:cubicBezTo>
                <a:cubicBezTo>
                  <a:pt x="1489311" y="858965"/>
                  <a:pt x="1492547" y="858228"/>
                  <a:pt x="1495991" y="858228"/>
                </a:cubicBezTo>
                <a:close/>
                <a:moveTo>
                  <a:pt x="1142602" y="807143"/>
                </a:moveTo>
                <a:lnTo>
                  <a:pt x="1210374" y="874915"/>
                </a:lnTo>
                <a:lnTo>
                  <a:pt x="1142602" y="942688"/>
                </a:lnTo>
                <a:lnTo>
                  <a:pt x="1074829" y="874915"/>
                </a:lnTo>
                <a:lnTo>
                  <a:pt x="1142602" y="807143"/>
                </a:lnTo>
                <a:close/>
                <a:moveTo>
                  <a:pt x="1256691" y="780579"/>
                </a:moveTo>
                <a:lnTo>
                  <a:pt x="1298236" y="822469"/>
                </a:lnTo>
                <a:lnTo>
                  <a:pt x="1256691" y="864355"/>
                </a:lnTo>
                <a:lnTo>
                  <a:pt x="1215142" y="822469"/>
                </a:lnTo>
                <a:lnTo>
                  <a:pt x="1256691" y="780579"/>
                </a:lnTo>
                <a:close/>
                <a:moveTo>
                  <a:pt x="1041794" y="776492"/>
                </a:moveTo>
                <a:lnTo>
                  <a:pt x="1083679" y="818041"/>
                </a:lnTo>
                <a:lnTo>
                  <a:pt x="1041794" y="859586"/>
                </a:lnTo>
                <a:lnTo>
                  <a:pt x="999904" y="818041"/>
                </a:lnTo>
                <a:lnTo>
                  <a:pt x="1041794" y="776492"/>
                </a:lnTo>
                <a:close/>
                <a:moveTo>
                  <a:pt x="1058021" y="648439"/>
                </a:moveTo>
                <a:cubicBezTo>
                  <a:pt x="1061465" y="648439"/>
                  <a:pt x="1064726" y="649171"/>
                  <a:pt x="1067766" y="650627"/>
                </a:cubicBezTo>
                <a:cubicBezTo>
                  <a:pt x="1070818" y="652068"/>
                  <a:pt x="1073492" y="654043"/>
                  <a:pt x="1075773" y="656523"/>
                </a:cubicBezTo>
                <a:cubicBezTo>
                  <a:pt x="1078064" y="659022"/>
                  <a:pt x="1079856" y="661919"/>
                  <a:pt x="1081167" y="665215"/>
                </a:cubicBezTo>
                <a:cubicBezTo>
                  <a:pt x="1082466" y="668511"/>
                  <a:pt x="1083130" y="672048"/>
                  <a:pt x="1083130" y="675784"/>
                </a:cubicBezTo>
                <a:cubicBezTo>
                  <a:pt x="1083130" y="680442"/>
                  <a:pt x="1082112" y="684795"/>
                  <a:pt x="1080077" y="688865"/>
                </a:cubicBezTo>
                <a:cubicBezTo>
                  <a:pt x="1078102" y="692935"/>
                  <a:pt x="1075284" y="696231"/>
                  <a:pt x="1071678" y="698739"/>
                </a:cubicBezTo>
                <a:cubicBezTo>
                  <a:pt x="1072747" y="698924"/>
                  <a:pt x="1074241" y="699128"/>
                  <a:pt x="1076203" y="699392"/>
                </a:cubicBezTo>
                <a:cubicBezTo>
                  <a:pt x="1078149" y="699633"/>
                  <a:pt x="1080184" y="699916"/>
                  <a:pt x="1082308" y="700208"/>
                </a:cubicBezTo>
                <a:cubicBezTo>
                  <a:pt x="1084415" y="700514"/>
                  <a:pt x="1086391" y="700820"/>
                  <a:pt x="1088230" y="701140"/>
                </a:cubicBezTo>
                <a:cubicBezTo>
                  <a:pt x="1090056" y="701464"/>
                  <a:pt x="1091388" y="701757"/>
                  <a:pt x="1092210" y="701998"/>
                </a:cubicBezTo>
                <a:cubicBezTo>
                  <a:pt x="1093572" y="702424"/>
                  <a:pt x="1094969" y="703333"/>
                  <a:pt x="1096356" y="704682"/>
                </a:cubicBezTo>
                <a:cubicBezTo>
                  <a:pt x="1097740" y="706054"/>
                  <a:pt x="1099026" y="707630"/>
                  <a:pt x="1100192" y="709405"/>
                </a:cubicBezTo>
                <a:cubicBezTo>
                  <a:pt x="1101367" y="711194"/>
                  <a:pt x="1102312" y="713035"/>
                  <a:pt x="1103023" y="714968"/>
                </a:cubicBezTo>
                <a:cubicBezTo>
                  <a:pt x="1103760" y="716864"/>
                  <a:pt x="1104117" y="718611"/>
                  <a:pt x="1104117" y="720201"/>
                </a:cubicBezTo>
                <a:lnTo>
                  <a:pt x="1104117" y="744918"/>
                </a:lnTo>
                <a:cubicBezTo>
                  <a:pt x="1103721" y="745108"/>
                  <a:pt x="1103296" y="745386"/>
                  <a:pt x="1102802" y="745812"/>
                </a:cubicBezTo>
                <a:cubicBezTo>
                  <a:pt x="1102312" y="746253"/>
                  <a:pt x="1101784" y="746656"/>
                  <a:pt x="1101222" y="747069"/>
                </a:cubicBezTo>
                <a:cubicBezTo>
                  <a:pt x="1100648" y="747467"/>
                  <a:pt x="1100107" y="747829"/>
                  <a:pt x="1099605" y="748121"/>
                </a:cubicBezTo>
                <a:cubicBezTo>
                  <a:pt x="1099090" y="748431"/>
                  <a:pt x="1098660" y="748566"/>
                  <a:pt x="1098315" y="748566"/>
                </a:cubicBezTo>
                <a:lnTo>
                  <a:pt x="1017911" y="748566"/>
                </a:lnTo>
                <a:cubicBezTo>
                  <a:pt x="1016540" y="748566"/>
                  <a:pt x="1015510" y="748112"/>
                  <a:pt x="1014799" y="747189"/>
                </a:cubicBezTo>
                <a:cubicBezTo>
                  <a:pt x="1014088" y="746281"/>
                  <a:pt x="1013216" y="745520"/>
                  <a:pt x="1012164" y="744918"/>
                </a:cubicBezTo>
                <a:lnTo>
                  <a:pt x="1012164" y="720201"/>
                </a:lnTo>
                <a:cubicBezTo>
                  <a:pt x="1012164" y="718611"/>
                  <a:pt x="1012517" y="716864"/>
                  <a:pt x="1013241" y="714968"/>
                </a:cubicBezTo>
                <a:cubicBezTo>
                  <a:pt x="1013978" y="713035"/>
                  <a:pt x="1014910" y="711218"/>
                  <a:pt x="1016059" y="709470"/>
                </a:cubicBezTo>
                <a:cubicBezTo>
                  <a:pt x="1017213" y="707722"/>
                  <a:pt x="1018486" y="706146"/>
                  <a:pt x="1019899" y="704732"/>
                </a:cubicBezTo>
                <a:cubicBezTo>
                  <a:pt x="1021296" y="703346"/>
                  <a:pt x="1022692" y="702410"/>
                  <a:pt x="1024067" y="701984"/>
                </a:cubicBezTo>
                <a:cubicBezTo>
                  <a:pt x="1024765" y="701743"/>
                  <a:pt x="1026051" y="701451"/>
                  <a:pt x="1027928" y="701131"/>
                </a:cubicBezTo>
                <a:cubicBezTo>
                  <a:pt x="1029801" y="700806"/>
                  <a:pt x="1031815" y="700500"/>
                  <a:pt x="1033948" y="700194"/>
                </a:cubicBezTo>
                <a:cubicBezTo>
                  <a:pt x="1036080" y="699902"/>
                  <a:pt x="1038115" y="699620"/>
                  <a:pt x="1040074" y="699383"/>
                </a:cubicBezTo>
                <a:cubicBezTo>
                  <a:pt x="1042023" y="699114"/>
                  <a:pt x="1043530" y="698915"/>
                  <a:pt x="1044586" y="698725"/>
                </a:cubicBezTo>
                <a:cubicBezTo>
                  <a:pt x="1040993" y="696217"/>
                  <a:pt x="1038188" y="692949"/>
                  <a:pt x="1036114" y="688930"/>
                </a:cubicBezTo>
                <a:cubicBezTo>
                  <a:pt x="1034054" y="684902"/>
                  <a:pt x="1033037" y="680521"/>
                  <a:pt x="1033037" y="675784"/>
                </a:cubicBezTo>
                <a:cubicBezTo>
                  <a:pt x="1033037" y="672048"/>
                  <a:pt x="1033701" y="668511"/>
                  <a:pt x="1035025" y="665215"/>
                </a:cubicBezTo>
                <a:cubicBezTo>
                  <a:pt x="1036349" y="661919"/>
                  <a:pt x="1038149" y="659022"/>
                  <a:pt x="1040393" y="656523"/>
                </a:cubicBezTo>
                <a:cubicBezTo>
                  <a:pt x="1042649" y="654043"/>
                  <a:pt x="1045271" y="652068"/>
                  <a:pt x="1048315" y="650627"/>
                </a:cubicBezTo>
                <a:cubicBezTo>
                  <a:pt x="1051342" y="649171"/>
                  <a:pt x="1054577" y="648439"/>
                  <a:pt x="1058021" y="648439"/>
                </a:cubicBezTo>
                <a:close/>
                <a:moveTo>
                  <a:pt x="1228600" y="608933"/>
                </a:moveTo>
                <a:cubicBezTo>
                  <a:pt x="1233345" y="608933"/>
                  <a:pt x="1237838" y="609954"/>
                  <a:pt x="1242026" y="611984"/>
                </a:cubicBezTo>
                <a:cubicBezTo>
                  <a:pt x="1246232" y="613995"/>
                  <a:pt x="1249915" y="616748"/>
                  <a:pt x="1253059" y="620207"/>
                </a:cubicBezTo>
                <a:cubicBezTo>
                  <a:pt x="1256214" y="623691"/>
                  <a:pt x="1258684" y="627732"/>
                  <a:pt x="1260490" y="632328"/>
                </a:cubicBezTo>
                <a:cubicBezTo>
                  <a:pt x="1262279" y="636924"/>
                  <a:pt x="1263194" y="641857"/>
                  <a:pt x="1263194" y="647067"/>
                </a:cubicBezTo>
                <a:cubicBezTo>
                  <a:pt x="1263194" y="653564"/>
                  <a:pt x="1261792" y="659634"/>
                  <a:pt x="1258989" y="665310"/>
                </a:cubicBezTo>
                <a:cubicBezTo>
                  <a:pt x="1256267" y="670986"/>
                  <a:pt x="1252384" y="675582"/>
                  <a:pt x="1247416" y="679079"/>
                </a:cubicBezTo>
                <a:cubicBezTo>
                  <a:pt x="1248889" y="679338"/>
                  <a:pt x="1250947" y="679622"/>
                  <a:pt x="1253651" y="679991"/>
                </a:cubicBezTo>
                <a:cubicBezTo>
                  <a:pt x="1256332" y="680327"/>
                  <a:pt x="1259135" y="680721"/>
                  <a:pt x="1262062" y="681128"/>
                </a:cubicBezTo>
                <a:cubicBezTo>
                  <a:pt x="1264965" y="681555"/>
                  <a:pt x="1267687" y="681982"/>
                  <a:pt x="1270221" y="682428"/>
                </a:cubicBezTo>
                <a:cubicBezTo>
                  <a:pt x="1272737" y="682880"/>
                  <a:pt x="1274573" y="683287"/>
                  <a:pt x="1275705" y="683624"/>
                </a:cubicBezTo>
                <a:cubicBezTo>
                  <a:pt x="1277582" y="684218"/>
                  <a:pt x="1279506" y="685485"/>
                  <a:pt x="1281418" y="687367"/>
                </a:cubicBezTo>
                <a:cubicBezTo>
                  <a:pt x="1283324" y="689280"/>
                  <a:pt x="1285095" y="691478"/>
                  <a:pt x="1286702" y="693954"/>
                </a:cubicBezTo>
                <a:cubicBezTo>
                  <a:pt x="1288321" y="696449"/>
                  <a:pt x="1289623" y="699016"/>
                  <a:pt x="1290603" y="701711"/>
                </a:cubicBezTo>
                <a:cubicBezTo>
                  <a:pt x="1291617" y="704355"/>
                  <a:pt x="1292104" y="706792"/>
                  <a:pt x="1292104" y="709010"/>
                </a:cubicBezTo>
                <a:lnTo>
                  <a:pt x="1292104" y="743478"/>
                </a:lnTo>
                <a:cubicBezTo>
                  <a:pt x="1291565" y="743743"/>
                  <a:pt x="1290978" y="744131"/>
                  <a:pt x="1290298" y="744726"/>
                </a:cubicBezTo>
                <a:cubicBezTo>
                  <a:pt x="1289623" y="745340"/>
                  <a:pt x="1288896" y="745902"/>
                  <a:pt x="1288122" y="746478"/>
                </a:cubicBezTo>
                <a:cubicBezTo>
                  <a:pt x="1287330" y="747034"/>
                  <a:pt x="1286585" y="747538"/>
                  <a:pt x="1285893" y="747945"/>
                </a:cubicBezTo>
                <a:cubicBezTo>
                  <a:pt x="1285183" y="748378"/>
                  <a:pt x="1284591" y="748559"/>
                  <a:pt x="1284116" y="748559"/>
                </a:cubicBezTo>
                <a:lnTo>
                  <a:pt x="1173337" y="748559"/>
                </a:lnTo>
                <a:cubicBezTo>
                  <a:pt x="1171449" y="748559"/>
                  <a:pt x="1170029" y="747932"/>
                  <a:pt x="1169050" y="746646"/>
                </a:cubicBezTo>
                <a:cubicBezTo>
                  <a:pt x="1168070" y="745379"/>
                  <a:pt x="1166868" y="744319"/>
                  <a:pt x="1165419" y="743478"/>
                </a:cubicBezTo>
                <a:lnTo>
                  <a:pt x="1165419" y="709010"/>
                </a:lnTo>
                <a:cubicBezTo>
                  <a:pt x="1165419" y="706792"/>
                  <a:pt x="1165906" y="704355"/>
                  <a:pt x="1166903" y="701711"/>
                </a:cubicBezTo>
                <a:cubicBezTo>
                  <a:pt x="1167918" y="699016"/>
                  <a:pt x="1169202" y="696481"/>
                  <a:pt x="1170786" y="694044"/>
                </a:cubicBezTo>
                <a:cubicBezTo>
                  <a:pt x="1172375" y="691607"/>
                  <a:pt x="1174129" y="689409"/>
                  <a:pt x="1176076" y="687438"/>
                </a:cubicBezTo>
                <a:cubicBezTo>
                  <a:pt x="1178000" y="685505"/>
                  <a:pt x="1179924" y="684199"/>
                  <a:pt x="1181819" y="683604"/>
                </a:cubicBezTo>
                <a:cubicBezTo>
                  <a:pt x="1182780" y="683268"/>
                  <a:pt x="1184552" y="682861"/>
                  <a:pt x="1187138" y="682415"/>
                </a:cubicBezTo>
                <a:cubicBezTo>
                  <a:pt x="1189719" y="681962"/>
                  <a:pt x="1192493" y="681536"/>
                  <a:pt x="1195432" y="681109"/>
                </a:cubicBezTo>
                <a:cubicBezTo>
                  <a:pt x="1198371" y="680702"/>
                  <a:pt x="1201174" y="680307"/>
                  <a:pt x="1203872" y="679978"/>
                </a:cubicBezTo>
                <a:cubicBezTo>
                  <a:pt x="1206559" y="679603"/>
                  <a:pt x="1208635" y="679325"/>
                  <a:pt x="1210089" y="679060"/>
                </a:cubicBezTo>
                <a:cubicBezTo>
                  <a:pt x="1205139" y="675562"/>
                  <a:pt x="1201274" y="671005"/>
                  <a:pt x="1198417" y="665400"/>
                </a:cubicBezTo>
                <a:cubicBezTo>
                  <a:pt x="1195579" y="659783"/>
                  <a:pt x="1194177" y="653674"/>
                  <a:pt x="1194177" y="647067"/>
                </a:cubicBezTo>
                <a:cubicBezTo>
                  <a:pt x="1194177" y="641857"/>
                  <a:pt x="1195092" y="636924"/>
                  <a:pt x="1196916" y="632328"/>
                </a:cubicBezTo>
                <a:cubicBezTo>
                  <a:pt x="1198740" y="627732"/>
                  <a:pt x="1201221" y="623691"/>
                  <a:pt x="1204312" y="620207"/>
                </a:cubicBezTo>
                <a:cubicBezTo>
                  <a:pt x="1207421" y="616748"/>
                  <a:pt x="1211034" y="613995"/>
                  <a:pt x="1215227" y="611984"/>
                </a:cubicBezTo>
                <a:cubicBezTo>
                  <a:pt x="1219398" y="609954"/>
                  <a:pt x="1223855" y="608933"/>
                  <a:pt x="1228600" y="608933"/>
                </a:cubicBezTo>
                <a:close/>
                <a:moveTo>
                  <a:pt x="1134087" y="566022"/>
                </a:moveTo>
                <a:lnTo>
                  <a:pt x="1175632" y="607571"/>
                </a:lnTo>
                <a:lnTo>
                  <a:pt x="1134087" y="649116"/>
                </a:lnTo>
                <a:lnTo>
                  <a:pt x="1092538" y="607571"/>
                </a:lnTo>
                <a:lnTo>
                  <a:pt x="1134087" y="566022"/>
                </a:lnTo>
                <a:close/>
                <a:moveTo>
                  <a:pt x="1458670" y="560573"/>
                </a:moveTo>
                <a:cubicBezTo>
                  <a:pt x="1467854" y="560573"/>
                  <a:pt x="1476550" y="562561"/>
                  <a:pt x="1484656" y="566512"/>
                </a:cubicBezTo>
                <a:cubicBezTo>
                  <a:pt x="1492795" y="570425"/>
                  <a:pt x="1499924" y="575785"/>
                  <a:pt x="1506009" y="582516"/>
                </a:cubicBezTo>
                <a:cubicBezTo>
                  <a:pt x="1512117" y="589298"/>
                  <a:pt x="1516896" y="597161"/>
                  <a:pt x="1520392" y="606107"/>
                </a:cubicBezTo>
                <a:cubicBezTo>
                  <a:pt x="1523855" y="615053"/>
                  <a:pt x="1525626" y="624653"/>
                  <a:pt x="1525626" y="634794"/>
                </a:cubicBezTo>
                <a:cubicBezTo>
                  <a:pt x="1525626" y="647439"/>
                  <a:pt x="1522913" y="659254"/>
                  <a:pt x="1517486" y="670301"/>
                </a:cubicBezTo>
                <a:cubicBezTo>
                  <a:pt x="1512219" y="681348"/>
                  <a:pt x="1504704" y="690294"/>
                  <a:pt x="1495088" y="697101"/>
                </a:cubicBezTo>
                <a:cubicBezTo>
                  <a:pt x="1497938" y="697604"/>
                  <a:pt x="1501922" y="698157"/>
                  <a:pt x="1507156" y="698875"/>
                </a:cubicBezTo>
                <a:cubicBezTo>
                  <a:pt x="1512344" y="699529"/>
                  <a:pt x="1517770" y="700296"/>
                  <a:pt x="1523435" y="701089"/>
                </a:cubicBezTo>
                <a:cubicBezTo>
                  <a:pt x="1529054" y="701919"/>
                  <a:pt x="1534322" y="702750"/>
                  <a:pt x="1539226" y="703618"/>
                </a:cubicBezTo>
                <a:cubicBezTo>
                  <a:pt x="1544096" y="704499"/>
                  <a:pt x="1547649" y="705291"/>
                  <a:pt x="1549840" y="705946"/>
                </a:cubicBezTo>
                <a:cubicBezTo>
                  <a:pt x="1553473" y="707103"/>
                  <a:pt x="1557196" y="709569"/>
                  <a:pt x="1560897" y="713231"/>
                </a:cubicBezTo>
                <a:cubicBezTo>
                  <a:pt x="1564587" y="716955"/>
                  <a:pt x="1568015" y="721233"/>
                  <a:pt x="1571125" y="726052"/>
                </a:cubicBezTo>
                <a:cubicBezTo>
                  <a:pt x="1574259" y="730908"/>
                  <a:pt x="1576779" y="735904"/>
                  <a:pt x="1578675" y="741150"/>
                </a:cubicBezTo>
                <a:cubicBezTo>
                  <a:pt x="1580639" y="746296"/>
                  <a:pt x="1581592" y="751040"/>
                  <a:pt x="1581592" y="755355"/>
                </a:cubicBezTo>
                <a:lnTo>
                  <a:pt x="1581592" y="822443"/>
                </a:lnTo>
                <a:cubicBezTo>
                  <a:pt x="1580536" y="822959"/>
                  <a:pt x="1579401" y="823714"/>
                  <a:pt x="1578084" y="824871"/>
                </a:cubicBezTo>
                <a:cubicBezTo>
                  <a:pt x="1576779" y="826066"/>
                  <a:pt x="1575371" y="827161"/>
                  <a:pt x="1573873" y="828281"/>
                </a:cubicBezTo>
                <a:cubicBezTo>
                  <a:pt x="1572340" y="829363"/>
                  <a:pt x="1570898" y="830344"/>
                  <a:pt x="1569559" y="831137"/>
                </a:cubicBezTo>
                <a:cubicBezTo>
                  <a:pt x="1568185" y="831980"/>
                  <a:pt x="1567039" y="832345"/>
                  <a:pt x="1566119" y="832345"/>
                </a:cubicBezTo>
                <a:lnTo>
                  <a:pt x="1351710" y="832345"/>
                </a:lnTo>
                <a:cubicBezTo>
                  <a:pt x="1348054" y="832345"/>
                  <a:pt x="1345307" y="831112"/>
                  <a:pt x="1343411" y="828608"/>
                </a:cubicBezTo>
                <a:cubicBezTo>
                  <a:pt x="1341515" y="826142"/>
                  <a:pt x="1339188" y="824078"/>
                  <a:pt x="1336384" y="822443"/>
                </a:cubicBezTo>
                <a:lnTo>
                  <a:pt x="1336384" y="755355"/>
                </a:lnTo>
                <a:cubicBezTo>
                  <a:pt x="1336384" y="751040"/>
                  <a:pt x="1337326" y="746296"/>
                  <a:pt x="1339256" y="741150"/>
                </a:cubicBezTo>
                <a:cubicBezTo>
                  <a:pt x="1341220" y="735904"/>
                  <a:pt x="1343706" y="730971"/>
                  <a:pt x="1346771" y="726228"/>
                </a:cubicBezTo>
                <a:cubicBezTo>
                  <a:pt x="1349848" y="721485"/>
                  <a:pt x="1353242" y="717207"/>
                  <a:pt x="1357011" y="713369"/>
                </a:cubicBezTo>
                <a:cubicBezTo>
                  <a:pt x="1360735" y="709607"/>
                  <a:pt x="1364458" y="707066"/>
                  <a:pt x="1368125" y="705908"/>
                </a:cubicBezTo>
                <a:cubicBezTo>
                  <a:pt x="1369987" y="705254"/>
                  <a:pt x="1373415" y="704461"/>
                  <a:pt x="1378421" y="703593"/>
                </a:cubicBezTo>
                <a:cubicBezTo>
                  <a:pt x="1383416" y="702712"/>
                  <a:pt x="1388786" y="701882"/>
                  <a:pt x="1394473" y="701051"/>
                </a:cubicBezTo>
                <a:cubicBezTo>
                  <a:pt x="1400161" y="700259"/>
                  <a:pt x="1405587" y="699491"/>
                  <a:pt x="1410809" y="698849"/>
                </a:cubicBezTo>
                <a:cubicBezTo>
                  <a:pt x="1416009" y="698120"/>
                  <a:pt x="1420027" y="697579"/>
                  <a:pt x="1422843" y="697063"/>
                </a:cubicBezTo>
                <a:cubicBezTo>
                  <a:pt x="1413261" y="690256"/>
                  <a:pt x="1405780" y="681386"/>
                  <a:pt x="1400252" y="670477"/>
                </a:cubicBezTo>
                <a:cubicBezTo>
                  <a:pt x="1394757" y="659543"/>
                  <a:pt x="1392044" y="647653"/>
                  <a:pt x="1392044" y="634794"/>
                </a:cubicBezTo>
                <a:cubicBezTo>
                  <a:pt x="1392044" y="624653"/>
                  <a:pt x="1393815" y="615053"/>
                  <a:pt x="1397346" y="606107"/>
                </a:cubicBezTo>
                <a:cubicBezTo>
                  <a:pt x="1400876" y="597161"/>
                  <a:pt x="1405678" y="589298"/>
                  <a:pt x="1411661" y="582516"/>
                </a:cubicBezTo>
                <a:cubicBezTo>
                  <a:pt x="1417677" y="575785"/>
                  <a:pt x="1424670" y="570425"/>
                  <a:pt x="1432787" y="566512"/>
                </a:cubicBezTo>
                <a:cubicBezTo>
                  <a:pt x="1440859" y="562561"/>
                  <a:pt x="1449486" y="560573"/>
                  <a:pt x="1458670" y="560573"/>
                </a:cubicBezTo>
                <a:close/>
                <a:moveTo>
                  <a:pt x="1354014" y="534009"/>
                </a:moveTo>
                <a:cubicBezTo>
                  <a:pt x="1356310" y="534009"/>
                  <a:pt x="1358484" y="534522"/>
                  <a:pt x="1360510" y="535542"/>
                </a:cubicBezTo>
                <a:cubicBezTo>
                  <a:pt x="1362545" y="536552"/>
                  <a:pt x="1364327" y="537936"/>
                  <a:pt x="1365848" y="539673"/>
                </a:cubicBezTo>
                <a:cubicBezTo>
                  <a:pt x="1367375" y="541424"/>
                  <a:pt x="1368570" y="543454"/>
                  <a:pt x="1369444" y="545763"/>
                </a:cubicBezTo>
                <a:cubicBezTo>
                  <a:pt x="1370310" y="548073"/>
                  <a:pt x="1370753" y="550551"/>
                  <a:pt x="1370753" y="553169"/>
                </a:cubicBezTo>
                <a:cubicBezTo>
                  <a:pt x="1370753" y="556433"/>
                  <a:pt x="1370074" y="559483"/>
                  <a:pt x="1368718" y="562335"/>
                </a:cubicBezTo>
                <a:cubicBezTo>
                  <a:pt x="1367401" y="565187"/>
                  <a:pt x="1365522" y="567496"/>
                  <a:pt x="1363118" y="569253"/>
                </a:cubicBezTo>
                <a:cubicBezTo>
                  <a:pt x="1363830" y="569383"/>
                  <a:pt x="1364827" y="569526"/>
                  <a:pt x="1366135" y="569711"/>
                </a:cubicBezTo>
                <a:cubicBezTo>
                  <a:pt x="1367432" y="569880"/>
                  <a:pt x="1368789" y="570078"/>
                  <a:pt x="1370205" y="570283"/>
                </a:cubicBezTo>
                <a:cubicBezTo>
                  <a:pt x="1371610" y="570497"/>
                  <a:pt x="1372926" y="570711"/>
                  <a:pt x="1374153" y="570935"/>
                </a:cubicBezTo>
                <a:cubicBezTo>
                  <a:pt x="1375370" y="571163"/>
                  <a:pt x="1376258" y="571367"/>
                  <a:pt x="1376806" y="571536"/>
                </a:cubicBezTo>
                <a:cubicBezTo>
                  <a:pt x="1377714" y="571835"/>
                  <a:pt x="1378645" y="572472"/>
                  <a:pt x="1379570" y="573417"/>
                </a:cubicBezTo>
                <a:cubicBezTo>
                  <a:pt x="1380493" y="574378"/>
                  <a:pt x="1381350" y="575483"/>
                  <a:pt x="1382127" y="576727"/>
                </a:cubicBezTo>
                <a:cubicBezTo>
                  <a:pt x="1382911" y="577980"/>
                  <a:pt x="1383541" y="579270"/>
                  <a:pt x="1384015" y="580624"/>
                </a:cubicBezTo>
                <a:cubicBezTo>
                  <a:pt x="1384506" y="581953"/>
                  <a:pt x="1384744" y="583177"/>
                  <a:pt x="1384744" y="584291"/>
                </a:cubicBezTo>
                <a:lnTo>
                  <a:pt x="1384744" y="601610"/>
                </a:lnTo>
                <a:cubicBezTo>
                  <a:pt x="1384480" y="601743"/>
                  <a:pt x="1384196" y="601938"/>
                  <a:pt x="1383867" y="602237"/>
                </a:cubicBezTo>
                <a:cubicBezTo>
                  <a:pt x="1383541" y="602545"/>
                  <a:pt x="1383189" y="602828"/>
                  <a:pt x="1382814" y="603117"/>
                </a:cubicBezTo>
                <a:cubicBezTo>
                  <a:pt x="1382431" y="603396"/>
                  <a:pt x="1382071" y="603649"/>
                  <a:pt x="1381736" y="603854"/>
                </a:cubicBezTo>
                <a:cubicBezTo>
                  <a:pt x="1381392" y="604072"/>
                  <a:pt x="1381106" y="604163"/>
                  <a:pt x="1380876" y="604163"/>
                </a:cubicBezTo>
                <a:lnTo>
                  <a:pt x="1327274" y="604163"/>
                </a:lnTo>
                <a:cubicBezTo>
                  <a:pt x="1326360" y="604163"/>
                  <a:pt x="1325673" y="603848"/>
                  <a:pt x="1325199" y="603201"/>
                </a:cubicBezTo>
                <a:cubicBezTo>
                  <a:pt x="1324725" y="602565"/>
                  <a:pt x="1324143" y="602032"/>
                  <a:pt x="1323442" y="601610"/>
                </a:cubicBezTo>
                <a:lnTo>
                  <a:pt x="1323442" y="584291"/>
                </a:lnTo>
                <a:cubicBezTo>
                  <a:pt x="1323442" y="583177"/>
                  <a:pt x="1323678" y="581953"/>
                  <a:pt x="1324160" y="580624"/>
                </a:cubicBezTo>
                <a:cubicBezTo>
                  <a:pt x="1324651" y="579270"/>
                  <a:pt x="1325273" y="577997"/>
                  <a:pt x="1326039" y="576772"/>
                </a:cubicBezTo>
                <a:cubicBezTo>
                  <a:pt x="1326808" y="575548"/>
                  <a:pt x="1327657" y="574443"/>
                  <a:pt x="1328599" y="573453"/>
                </a:cubicBezTo>
                <a:cubicBezTo>
                  <a:pt x="1329530" y="572482"/>
                  <a:pt x="1330461" y="571825"/>
                  <a:pt x="1331377" y="571527"/>
                </a:cubicBezTo>
                <a:cubicBezTo>
                  <a:pt x="1331843" y="571358"/>
                  <a:pt x="1332700" y="571153"/>
                  <a:pt x="1333951" y="570929"/>
                </a:cubicBezTo>
                <a:cubicBezTo>
                  <a:pt x="1335200" y="570702"/>
                  <a:pt x="1336543" y="570487"/>
                  <a:pt x="1337964" y="570273"/>
                </a:cubicBezTo>
                <a:cubicBezTo>
                  <a:pt x="1339386" y="570068"/>
                  <a:pt x="1340743" y="569870"/>
                  <a:pt x="1342048" y="569704"/>
                </a:cubicBezTo>
                <a:cubicBezTo>
                  <a:pt x="1343348" y="569516"/>
                  <a:pt x="1344353" y="569376"/>
                  <a:pt x="1345057" y="569243"/>
                </a:cubicBezTo>
                <a:cubicBezTo>
                  <a:pt x="1342661" y="567486"/>
                  <a:pt x="1340791" y="565196"/>
                  <a:pt x="1339409" y="562380"/>
                </a:cubicBezTo>
                <a:cubicBezTo>
                  <a:pt x="1338035" y="559558"/>
                  <a:pt x="1337357" y="556488"/>
                  <a:pt x="1337357" y="553169"/>
                </a:cubicBezTo>
                <a:cubicBezTo>
                  <a:pt x="1337357" y="550551"/>
                  <a:pt x="1337800" y="548073"/>
                  <a:pt x="1338682" y="545763"/>
                </a:cubicBezTo>
                <a:cubicBezTo>
                  <a:pt x="1339565" y="543454"/>
                  <a:pt x="1340766" y="541424"/>
                  <a:pt x="1342261" y="539673"/>
                </a:cubicBezTo>
                <a:cubicBezTo>
                  <a:pt x="1343765" y="537936"/>
                  <a:pt x="1345514" y="536552"/>
                  <a:pt x="1347543" y="535542"/>
                </a:cubicBezTo>
                <a:cubicBezTo>
                  <a:pt x="1349561" y="534522"/>
                  <a:pt x="1351718" y="534009"/>
                  <a:pt x="1354014" y="534009"/>
                </a:cubicBezTo>
                <a:close/>
                <a:moveTo>
                  <a:pt x="1256691" y="518343"/>
                </a:moveTo>
                <a:lnTo>
                  <a:pt x="1298236" y="559892"/>
                </a:lnTo>
                <a:lnTo>
                  <a:pt x="1256691" y="601437"/>
                </a:lnTo>
                <a:lnTo>
                  <a:pt x="1215142" y="559892"/>
                </a:lnTo>
                <a:lnTo>
                  <a:pt x="1256691" y="518343"/>
                </a:lnTo>
                <a:close/>
                <a:moveTo>
                  <a:pt x="278123" y="512212"/>
                </a:moveTo>
                <a:cubicBezTo>
                  <a:pt x="281567" y="512212"/>
                  <a:pt x="284828" y="512949"/>
                  <a:pt x="287868" y="514415"/>
                </a:cubicBezTo>
                <a:cubicBezTo>
                  <a:pt x="290920" y="515866"/>
                  <a:pt x="293593" y="517854"/>
                  <a:pt x="295875" y="520351"/>
                </a:cubicBezTo>
                <a:cubicBezTo>
                  <a:pt x="298166" y="522867"/>
                  <a:pt x="299958" y="525784"/>
                  <a:pt x="301269" y="529102"/>
                </a:cubicBezTo>
                <a:cubicBezTo>
                  <a:pt x="302567" y="532420"/>
                  <a:pt x="303231" y="535981"/>
                  <a:pt x="303231" y="539743"/>
                </a:cubicBezTo>
                <a:cubicBezTo>
                  <a:pt x="303231" y="544433"/>
                  <a:pt x="302214" y="548815"/>
                  <a:pt x="300179" y="552913"/>
                </a:cubicBezTo>
                <a:cubicBezTo>
                  <a:pt x="298204" y="557011"/>
                  <a:pt x="295386" y="560329"/>
                  <a:pt x="291780" y="562854"/>
                </a:cubicBezTo>
                <a:cubicBezTo>
                  <a:pt x="292848" y="563041"/>
                  <a:pt x="294343" y="563246"/>
                  <a:pt x="296305" y="563512"/>
                </a:cubicBezTo>
                <a:cubicBezTo>
                  <a:pt x="298251" y="563755"/>
                  <a:pt x="300286" y="564039"/>
                  <a:pt x="302410" y="564333"/>
                </a:cubicBezTo>
                <a:cubicBezTo>
                  <a:pt x="304517" y="564641"/>
                  <a:pt x="306492" y="564949"/>
                  <a:pt x="308331" y="565271"/>
                </a:cubicBezTo>
                <a:cubicBezTo>
                  <a:pt x="310158" y="565598"/>
                  <a:pt x="311490" y="565892"/>
                  <a:pt x="312312" y="566135"/>
                </a:cubicBezTo>
                <a:cubicBezTo>
                  <a:pt x="313674" y="566564"/>
                  <a:pt x="315070" y="567479"/>
                  <a:pt x="316458" y="568837"/>
                </a:cubicBezTo>
                <a:cubicBezTo>
                  <a:pt x="317842" y="570218"/>
                  <a:pt x="319127" y="571805"/>
                  <a:pt x="320294" y="573593"/>
                </a:cubicBezTo>
                <a:cubicBezTo>
                  <a:pt x="321469" y="575394"/>
                  <a:pt x="322414" y="577247"/>
                  <a:pt x="323125" y="579193"/>
                </a:cubicBezTo>
                <a:cubicBezTo>
                  <a:pt x="323861" y="581102"/>
                  <a:pt x="324219" y="582861"/>
                  <a:pt x="324219" y="584462"/>
                </a:cubicBezTo>
                <a:lnTo>
                  <a:pt x="324219" y="609347"/>
                </a:lnTo>
                <a:cubicBezTo>
                  <a:pt x="323823" y="609538"/>
                  <a:pt x="323397" y="609818"/>
                  <a:pt x="322903" y="610248"/>
                </a:cubicBezTo>
                <a:cubicBezTo>
                  <a:pt x="322414" y="610691"/>
                  <a:pt x="321886" y="611097"/>
                  <a:pt x="321324" y="611512"/>
                </a:cubicBezTo>
                <a:cubicBezTo>
                  <a:pt x="320749" y="611914"/>
                  <a:pt x="320209" y="612278"/>
                  <a:pt x="319706" y="612572"/>
                </a:cubicBezTo>
                <a:cubicBezTo>
                  <a:pt x="319191" y="612885"/>
                  <a:pt x="318761" y="613020"/>
                  <a:pt x="318416" y="613020"/>
                </a:cubicBezTo>
                <a:lnTo>
                  <a:pt x="238013" y="613020"/>
                </a:lnTo>
                <a:cubicBezTo>
                  <a:pt x="236642" y="613020"/>
                  <a:pt x="235612" y="612563"/>
                  <a:pt x="234901" y="611634"/>
                </a:cubicBezTo>
                <a:cubicBezTo>
                  <a:pt x="234190" y="610719"/>
                  <a:pt x="233317" y="609954"/>
                  <a:pt x="232266" y="609347"/>
                </a:cubicBezTo>
                <a:lnTo>
                  <a:pt x="232266" y="584462"/>
                </a:lnTo>
                <a:cubicBezTo>
                  <a:pt x="232266" y="582861"/>
                  <a:pt x="232619" y="581102"/>
                  <a:pt x="233343" y="579193"/>
                </a:cubicBezTo>
                <a:cubicBezTo>
                  <a:pt x="234079" y="577247"/>
                  <a:pt x="235012" y="575418"/>
                  <a:pt x="236161" y="573658"/>
                </a:cubicBezTo>
                <a:cubicBezTo>
                  <a:pt x="237315" y="571899"/>
                  <a:pt x="238588" y="570312"/>
                  <a:pt x="240001" y="568888"/>
                </a:cubicBezTo>
                <a:cubicBezTo>
                  <a:pt x="241397" y="567493"/>
                  <a:pt x="242794" y="566550"/>
                  <a:pt x="244169" y="566121"/>
                </a:cubicBezTo>
                <a:cubicBezTo>
                  <a:pt x="244867" y="565878"/>
                  <a:pt x="246152" y="565584"/>
                  <a:pt x="248030" y="565262"/>
                </a:cubicBezTo>
                <a:cubicBezTo>
                  <a:pt x="249903" y="564935"/>
                  <a:pt x="251917" y="564627"/>
                  <a:pt x="254049" y="564319"/>
                </a:cubicBezTo>
                <a:cubicBezTo>
                  <a:pt x="256182" y="564025"/>
                  <a:pt x="258217" y="563741"/>
                  <a:pt x="260175" y="563503"/>
                </a:cubicBezTo>
                <a:cubicBezTo>
                  <a:pt x="262125" y="563232"/>
                  <a:pt x="263632" y="563031"/>
                  <a:pt x="264688" y="562840"/>
                </a:cubicBezTo>
                <a:cubicBezTo>
                  <a:pt x="261095" y="560315"/>
                  <a:pt x="258289" y="557025"/>
                  <a:pt x="256216" y="552978"/>
                </a:cubicBezTo>
                <a:cubicBezTo>
                  <a:pt x="254156" y="548923"/>
                  <a:pt x="253138" y="544512"/>
                  <a:pt x="253138" y="539743"/>
                </a:cubicBezTo>
                <a:cubicBezTo>
                  <a:pt x="253138" y="535981"/>
                  <a:pt x="253802" y="532420"/>
                  <a:pt x="255126" y="529102"/>
                </a:cubicBezTo>
                <a:cubicBezTo>
                  <a:pt x="256450" y="525784"/>
                  <a:pt x="258251" y="522867"/>
                  <a:pt x="260495" y="520351"/>
                </a:cubicBezTo>
                <a:cubicBezTo>
                  <a:pt x="262751" y="517854"/>
                  <a:pt x="265373" y="515866"/>
                  <a:pt x="268417" y="514415"/>
                </a:cubicBezTo>
                <a:cubicBezTo>
                  <a:pt x="271444" y="512949"/>
                  <a:pt x="274679" y="512212"/>
                  <a:pt x="278123" y="512212"/>
                </a:cubicBezTo>
                <a:close/>
                <a:moveTo>
                  <a:pt x="362704" y="482924"/>
                </a:moveTo>
                <a:lnTo>
                  <a:pt x="404590" y="524473"/>
                </a:lnTo>
                <a:lnTo>
                  <a:pt x="362704" y="566018"/>
                </a:lnTo>
                <a:lnTo>
                  <a:pt x="320814" y="524473"/>
                </a:lnTo>
                <a:lnTo>
                  <a:pt x="362704" y="482924"/>
                </a:lnTo>
                <a:close/>
                <a:moveTo>
                  <a:pt x="162030" y="477475"/>
                </a:moveTo>
                <a:cubicBezTo>
                  <a:pt x="164326" y="477475"/>
                  <a:pt x="166500" y="477988"/>
                  <a:pt x="168527" y="479008"/>
                </a:cubicBezTo>
                <a:cubicBezTo>
                  <a:pt x="170562" y="480018"/>
                  <a:pt x="172344" y="481402"/>
                  <a:pt x="173865" y="483139"/>
                </a:cubicBezTo>
                <a:cubicBezTo>
                  <a:pt x="175392" y="484890"/>
                  <a:pt x="176587" y="486920"/>
                  <a:pt x="177461" y="489229"/>
                </a:cubicBezTo>
                <a:cubicBezTo>
                  <a:pt x="178327" y="491539"/>
                  <a:pt x="178769" y="494017"/>
                  <a:pt x="178769" y="496635"/>
                </a:cubicBezTo>
                <a:cubicBezTo>
                  <a:pt x="178769" y="499899"/>
                  <a:pt x="178091" y="502949"/>
                  <a:pt x="176734" y="505801"/>
                </a:cubicBezTo>
                <a:cubicBezTo>
                  <a:pt x="175418" y="508653"/>
                  <a:pt x="173539" y="510962"/>
                  <a:pt x="171135" y="512719"/>
                </a:cubicBezTo>
                <a:cubicBezTo>
                  <a:pt x="171847" y="512849"/>
                  <a:pt x="172843" y="512992"/>
                  <a:pt x="174152" y="513177"/>
                </a:cubicBezTo>
                <a:cubicBezTo>
                  <a:pt x="175449" y="513346"/>
                  <a:pt x="176805" y="513544"/>
                  <a:pt x="178222" y="513749"/>
                </a:cubicBezTo>
                <a:cubicBezTo>
                  <a:pt x="179626" y="513963"/>
                  <a:pt x="180943" y="514177"/>
                  <a:pt x="182169" y="514401"/>
                </a:cubicBezTo>
                <a:cubicBezTo>
                  <a:pt x="183387" y="514629"/>
                  <a:pt x="184275" y="514833"/>
                  <a:pt x="184823" y="515002"/>
                </a:cubicBezTo>
                <a:cubicBezTo>
                  <a:pt x="185731" y="515301"/>
                  <a:pt x="186662" y="515938"/>
                  <a:pt x="187587" y="516883"/>
                </a:cubicBezTo>
                <a:cubicBezTo>
                  <a:pt x="188509" y="517844"/>
                  <a:pt x="189367" y="518949"/>
                  <a:pt x="190144" y="520193"/>
                </a:cubicBezTo>
                <a:cubicBezTo>
                  <a:pt x="190927" y="521446"/>
                  <a:pt x="191558" y="522736"/>
                  <a:pt x="192031" y="524090"/>
                </a:cubicBezTo>
                <a:cubicBezTo>
                  <a:pt x="192522" y="525419"/>
                  <a:pt x="192761" y="526643"/>
                  <a:pt x="192761" y="527757"/>
                </a:cubicBezTo>
                <a:lnTo>
                  <a:pt x="192761" y="545076"/>
                </a:lnTo>
                <a:cubicBezTo>
                  <a:pt x="192497" y="545209"/>
                  <a:pt x="192213" y="545404"/>
                  <a:pt x="191884" y="545703"/>
                </a:cubicBezTo>
                <a:cubicBezTo>
                  <a:pt x="191558" y="546011"/>
                  <a:pt x="191206" y="546294"/>
                  <a:pt x="190831" y="546583"/>
                </a:cubicBezTo>
                <a:cubicBezTo>
                  <a:pt x="190448" y="546862"/>
                  <a:pt x="190087" y="547115"/>
                  <a:pt x="189753" y="547320"/>
                </a:cubicBezTo>
                <a:cubicBezTo>
                  <a:pt x="189409" y="547538"/>
                  <a:pt x="189122" y="547629"/>
                  <a:pt x="188893" y="547629"/>
                </a:cubicBezTo>
                <a:lnTo>
                  <a:pt x="135290" y="547629"/>
                </a:lnTo>
                <a:cubicBezTo>
                  <a:pt x="134376" y="547629"/>
                  <a:pt x="133690" y="547314"/>
                  <a:pt x="133216" y="546667"/>
                </a:cubicBezTo>
                <a:cubicBezTo>
                  <a:pt x="132742" y="546031"/>
                  <a:pt x="132160" y="545498"/>
                  <a:pt x="131459" y="545076"/>
                </a:cubicBezTo>
                <a:lnTo>
                  <a:pt x="131459" y="527757"/>
                </a:lnTo>
                <a:cubicBezTo>
                  <a:pt x="131459" y="526643"/>
                  <a:pt x="131694" y="525419"/>
                  <a:pt x="132177" y="524090"/>
                </a:cubicBezTo>
                <a:cubicBezTo>
                  <a:pt x="132668" y="522736"/>
                  <a:pt x="133289" y="521463"/>
                  <a:pt x="134056" y="520238"/>
                </a:cubicBezTo>
                <a:cubicBezTo>
                  <a:pt x="134825" y="519014"/>
                  <a:pt x="135673" y="517909"/>
                  <a:pt x="136616" y="516919"/>
                </a:cubicBezTo>
                <a:cubicBezTo>
                  <a:pt x="137547" y="515948"/>
                  <a:pt x="138477" y="515291"/>
                  <a:pt x="139394" y="514993"/>
                </a:cubicBezTo>
                <a:cubicBezTo>
                  <a:pt x="139860" y="514824"/>
                  <a:pt x="140717" y="514619"/>
                  <a:pt x="141968" y="514395"/>
                </a:cubicBezTo>
                <a:cubicBezTo>
                  <a:pt x="143217" y="514168"/>
                  <a:pt x="144559" y="513953"/>
                  <a:pt x="145981" y="513739"/>
                </a:cubicBezTo>
                <a:cubicBezTo>
                  <a:pt x="147403" y="513534"/>
                  <a:pt x="148760" y="513336"/>
                  <a:pt x="150065" y="513170"/>
                </a:cubicBezTo>
                <a:cubicBezTo>
                  <a:pt x="151365" y="512982"/>
                  <a:pt x="152370" y="512842"/>
                  <a:pt x="153074" y="512709"/>
                </a:cubicBezTo>
                <a:cubicBezTo>
                  <a:pt x="150678" y="510952"/>
                  <a:pt x="148808" y="508662"/>
                  <a:pt x="147426" y="505846"/>
                </a:cubicBezTo>
                <a:cubicBezTo>
                  <a:pt x="146052" y="503024"/>
                  <a:pt x="145374" y="499954"/>
                  <a:pt x="145374" y="496635"/>
                </a:cubicBezTo>
                <a:cubicBezTo>
                  <a:pt x="145374" y="494017"/>
                  <a:pt x="145817" y="491539"/>
                  <a:pt x="146699" y="489229"/>
                </a:cubicBezTo>
                <a:cubicBezTo>
                  <a:pt x="147582" y="486920"/>
                  <a:pt x="148782" y="484890"/>
                  <a:pt x="150278" y="483139"/>
                </a:cubicBezTo>
                <a:cubicBezTo>
                  <a:pt x="151782" y="481402"/>
                  <a:pt x="153530" y="480018"/>
                  <a:pt x="155560" y="479008"/>
                </a:cubicBezTo>
                <a:cubicBezTo>
                  <a:pt x="157577" y="477988"/>
                  <a:pt x="159734" y="477475"/>
                  <a:pt x="162030" y="477475"/>
                </a:cubicBezTo>
                <a:close/>
                <a:moveTo>
                  <a:pt x="1015570" y="465214"/>
                </a:moveTo>
                <a:lnTo>
                  <a:pt x="1083683" y="533327"/>
                </a:lnTo>
                <a:lnTo>
                  <a:pt x="1015570" y="601441"/>
                </a:lnTo>
                <a:lnTo>
                  <a:pt x="947456" y="533327"/>
                </a:lnTo>
                <a:lnTo>
                  <a:pt x="1015570" y="465214"/>
                </a:lnTo>
                <a:close/>
                <a:moveTo>
                  <a:pt x="1120465" y="434563"/>
                </a:moveTo>
                <a:lnTo>
                  <a:pt x="1162010" y="476453"/>
                </a:lnTo>
                <a:lnTo>
                  <a:pt x="1120465" y="518339"/>
                </a:lnTo>
                <a:lnTo>
                  <a:pt x="1078916" y="476453"/>
                </a:lnTo>
                <a:lnTo>
                  <a:pt x="1120465" y="434563"/>
                </a:lnTo>
                <a:close/>
                <a:moveTo>
                  <a:pt x="483826" y="429114"/>
                </a:moveTo>
                <a:cubicBezTo>
                  <a:pt x="487270" y="429114"/>
                  <a:pt x="490531" y="429851"/>
                  <a:pt x="493571" y="431317"/>
                </a:cubicBezTo>
                <a:cubicBezTo>
                  <a:pt x="496623" y="432768"/>
                  <a:pt x="499296" y="434756"/>
                  <a:pt x="501578" y="437253"/>
                </a:cubicBezTo>
                <a:cubicBezTo>
                  <a:pt x="503869" y="439769"/>
                  <a:pt x="505661" y="442686"/>
                  <a:pt x="506972" y="446004"/>
                </a:cubicBezTo>
                <a:cubicBezTo>
                  <a:pt x="508270" y="449322"/>
                  <a:pt x="508934" y="452883"/>
                  <a:pt x="508934" y="456645"/>
                </a:cubicBezTo>
                <a:cubicBezTo>
                  <a:pt x="508934" y="461335"/>
                  <a:pt x="507917" y="465717"/>
                  <a:pt x="505882" y="469815"/>
                </a:cubicBezTo>
                <a:cubicBezTo>
                  <a:pt x="503907" y="473913"/>
                  <a:pt x="501089" y="477231"/>
                  <a:pt x="497483" y="479756"/>
                </a:cubicBezTo>
                <a:cubicBezTo>
                  <a:pt x="498551" y="479943"/>
                  <a:pt x="500046" y="480148"/>
                  <a:pt x="502008" y="480414"/>
                </a:cubicBezTo>
                <a:cubicBezTo>
                  <a:pt x="503954" y="480657"/>
                  <a:pt x="505989" y="480941"/>
                  <a:pt x="508113" y="481235"/>
                </a:cubicBezTo>
                <a:cubicBezTo>
                  <a:pt x="510220" y="481543"/>
                  <a:pt x="512195" y="481851"/>
                  <a:pt x="514034" y="482173"/>
                </a:cubicBezTo>
                <a:cubicBezTo>
                  <a:pt x="515861" y="482500"/>
                  <a:pt x="517193" y="482794"/>
                  <a:pt x="518015" y="483037"/>
                </a:cubicBezTo>
                <a:cubicBezTo>
                  <a:pt x="519377" y="483466"/>
                  <a:pt x="520773" y="484381"/>
                  <a:pt x="522161" y="485739"/>
                </a:cubicBezTo>
                <a:cubicBezTo>
                  <a:pt x="523545" y="487120"/>
                  <a:pt x="524830" y="488707"/>
                  <a:pt x="525997" y="490495"/>
                </a:cubicBezTo>
                <a:cubicBezTo>
                  <a:pt x="527172" y="492296"/>
                  <a:pt x="528117" y="494149"/>
                  <a:pt x="528828" y="496095"/>
                </a:cubicBezTo>
                <a:cubicBezTo>
                  <a:pt x="529564" y="498004"/>
                  <a:pt x="529922" y="499763"/>
                  <a:pt x="529922" y="501364"/>
                </a:cubicBezTo>
                <a:lnTo>
                  <a:pt x="529922" y="526249"/>
                </a:lnTo>
                <a:cubicBezTo>
                  <a:pt x="529526" y="526440"/>
                  <a:pt x="529100" y="526720"/>
                  <a:pt x="528606" y="527150"/>
                </a:cubicBezTo>
                <a:cubicBezTo>
                  <a:pt x="528117" y="527593"/>
                  <a:pt x="527589" y="527999"/>
                  <a:pt x="527027" y="528414"/>
                </a:cubicBezTo>
                <a:cubicBezTo>
                  <a:pt x="526452" y="528816"/>
                  <a:pt x="525912" y="529180"/>
                  <a:pt x="525409" y="529474"/>
                </a:cubicBezTo>
                <a:cubicBezTo>
                  <a:pt x="524894" y="529787"/>
                  <a:pt x="524464" y="529922"/>
                  <a:pt x="524119" y="529922"/>
                </a:cubicBezTo>
                <a:lnTo>
                  <a:pt x="443716" y="529922"/>
                </a:lnTo>
                <a:cubicBezTo>
                  <a:pt x="442345" y="529922"/>
                  <a:pt x="441315" y="529465"/>
                  <a:pt x="440604" y="528536"/>
                </a:cubicBezTo>
                <a:cubicBezTo>
                  <a:pt x="439893" y="527621"/>
                  <a:pt x="439020" y="526856"/>
                  <a:pt x="437969" y="526249"/>
                </a:cubicBezTo>
                <a:lnTo>
                  <a:pt x="437969" y="501364"/>
                </a:lnTo>
                <a:cubicBezTo>
                  <a:pt x="437969" y="499763"/>
                  <a:pt x="438322" y="498004"/>
                  <a:pt x="439046" y="496095"/>
                </a:cubicBezTo>
                <a:cubicBezTo>
                  <a:pt x="439782" y="494149"/>
                  <a:pt x="440715" y="492320"/>
                  <a:pt x="441864" y="490560"/>
                </a:cubicBezTo>
                <a:cubicBezTo>
                  <a:pt x="443018" y="488801"/>
                  <a:pt x="444291" y="487214"/>
                  <a:pt x="445704" y="485790"/>
                </a:cubicBezTo>
                <a:cubicBezTo>
                  <a:pt x="447100" y="484395"/>
                  <a:pt x="448497" y="483452"/>
                  <a:pt x="449872" y="483023"/>
                </a:cubicBezTo>
                <a:cubicBezTo>
                  <a:pt x="450570" y="482780"/>
                  <a:pt x="451855" y="482486"/>
                  <a:pt x="453733" y="482164"/>
                </a:cubicBezTo>
                <a:cubicBezTo>
                  <a:pt x="455606" y="481837"/>
                  <a:pt x="457620" y="481529"/>
                  <a:pt x="459752" y="481221"/>
                </a:cubicBezTo>
                <a:cubicBezTo>
                  <a:pt x="461885" y="480927"/>
                  <a:pt x="463920" y="480643"/>
                  <a:pt x="465878" y="480405"/>
                </a:cubicBezTo>
                <a:cubicBezTo>
                  <a:pt x="467828" y="480134"/>
                  <a:pt x="469335" y="479933"/>
                  <a:pt x="470391" y="479742"/>
                </a:cubicBezTo>
                <a:cubicBezTo>
                  <a:pt x="466798" y="477217"/>
                  <a:pt x="463992" y="473927"/>
                  <a:pt x="461919" y="469880"/>
                </a:cubicBezTo>
                <a:cubicBezTo>
                  <a:pt x="459859" y="465825"/>
                  <a:pt x="458841" y="461414"/>
                  <a:pt x="458841" y="456645"/>
                </a:cubicBezTo>
                <a:cubicBezTo>
                  <a:pt x="458841" y="452883"/>
                  <a:pt x="459505" y="449322"/>
                  <a:pt x="460829" y="446004"/>
                </a:cubicBezTo>
                <a:cubicBezTo>
                  <a:pt x="462153" y="442686"/>
                  <a:pt x="463954" y="439769"/>
                  <a:pt x="466198" y="437253"/>
                </a:cubicBezTo>
                <a:cubicBezTo>
                  <a:pt x="468454" y="434756"/>
                  <a:pt x="471076" y="432768"/>
                  <a:pt x="474120" y="431317"/>
                </a:cubicBezTo>
                <a:cubicBezTo>
                  <a:pt x="477147" y="429851"/>
                  <a:pt x="480382" y="429114"/>
                  <a:pt x="483826" y="429114"/>
                </a:cubicBezTo>
                <a:close/>
                <a:moveTo>
                  <a:pt x="1348644" y="426389"/>
                </a:moveTo>
                <a:lnTo>
                  <a:pt x="1390189" y="467938"/>
                </a:lnTo>
                <a:lnTo>
                  <a:pt x="1348644" y="509483"/>
                </a:lnTo>
                <a:lnTo>
                  <a:pt x="1307095" y="467938"/>
                </a:lnTo>
                <a:lnTo>
                  <a:pt x="1348644" y="426389"/>
                </a:lnTo>
                <a:close/>
                <a:moveTo>
                  <a:pt x="897052" y="417535"/>
                </a:moveTo>
                <a:lnTo>
                  <a:pt x="938597" y="459084"/>
                </a:lnTo>
                <a:lnTo>
                  <a:pt x="897052" y="500629"/>
                </a:lnTo>
                <a:lnTo>
                  <a:pt x="855503" y="459084"/>
                </a:lnTo>
                <a:lnTo>
                  <a:pt x="897052" y="417535"/>
                </a:lnTo>
                <a:close/>
                <a:moveTo>
                  <a:pt x="1233073" y="403231"/>
                </a:moveTo>
                <a:cubicBezTo>
                  <a:pt x="1236517" y="403231"/>
                  <a:pt x="1239778" y="403963"/>
                  <a:pt x="1242818" y="405419"/>
                </a:cubicBezTo>
                <a:cubicBezTo>
                  <a:pt x="1245870" y="406860"/>
                  <a:pt x="1248544" y="408835"/>
                  <a:pt x="1250825" y="411315"/>
                </a:cubicBezTo>
                <a:cubicBezTo>
                  <a:pt x="1253116" y="413814"/>
                  <a:pt x="1254908" y="416711"/>
                  <a:pt x="1256219" y="420007"/>
                </a:cubicBezTo>
                <a:cubicBezTo>
                  <a:pt x="1257518" y="423303"/>
                  <a:pt x="1258182" y="426840"/>
                  <a:pt x="1258182" y="430576"/>
                </a:cubicBezTo>
                <a:cubicBezTo>
                  <a:pt x="1258182" y="435234"/>
                  <a:pt x="1257164" y="439587"/>
                  <a:pt x="1255129" y="443657"/>
                </a:cubicBezTo>
                <a:cubicBezTo>
                  <a:pt x="1253154" y="447727"/>
                  <a:pt x="1250336" y="451023"/>
                  <a:pt x="1246730" y="453531"/>
                </a:cubicBezTo>
                <a:cubicBezTo>
                  <a:pt x="1247799" y="453716"/>
                  <a:pt x="1249293" y="453920"/>
                  <a:pt x="1251255" y="454184"/>
                </a:cubicBezTo>
                <a:cubicBezTo>
                  <a:pt x="1253201" y="454425"/>
                  <a:pt x="1255236" y="454708"/>
                  <a:pt x="1257360" y="455000"/>
                </a:cubicBezTo>
                <a:cubicBezTo>
                  <a:pt x="1259467" y="455306"/>
                  <a:pt x="1261443" y="455612"/>
                  <a:pt x="1263282" y="455932"/>
                </a:cubicBezTo>
                <a:cubicBezTo>
                  <a:pt x="1265108" y="456256"/>
                  <a:pt x="1266440" y="456549"/>
                  <a:pt x="1267262" y="456790"/>
                </a:cubicBezTo>
                <a:cubicBezTo>
                  <a:pt x="1268624" y="457216"/>
                  <a:pt x="1270021" y="458125"/>
                  <a:pt x="1271408" y="459474"/>
                </a:cubicBezTo>
                <a:cubicBezTo>
                  <a:pt x="1272792" y="460846"/>
                  <a:pt x="1274078" y="462422"/>
                  <a:pt x="1275244" y="464197"/>
                </a:cubicBezTo>
                <a:cubicBezTo>
                  <a:pt x="1276419" y="465986"/>
                  <a:pt x="1277364" y="467827"/>
                  <a:pt x="1278075" y="469760"/>
                </a:cubicBezTo>
                <a:cubicBezTo>
                  <a:pt x="1278812" y="471656"/>
                  <a:pt x="1279169" y="473403"/>
                  <a:pt x="1279169" y="474993"/>
                </a:cubicBezTo>
                <a:lnTo>
                  <a:pt x="1279169" y="499710"/>
                </a:lnTo>
                <a:cubicBezTo>
                  <a:pt x="1278773" y="499900"/>
                  <a:pt x="1278348" y="500178"/>
                  <a:pt x="1277854" y="500604"/>
                </a:cubicBezTo>
                <a:cubicBezTo>
                  <a:pt x="1277364" y="501045"/>
                  <a:pt x="1276836" y="501448"/>
                  <a:pt x="1276274" y="501861"/>
                </a:cubicBezTo>
                <a:cubicBezTo>
                  <a:pt x="1275700" y="502259"/>
                  <a:pt x="1275159" y="502621"/>
                  <a:pt x="1274657" y="502913"/>
                </a:cubicBezTo>
                <a:cubicBezTo>
                  <a:pt x="1274142" y="503223"/>
                  <a:pt x="1273712" y="503358"/>
                  <a:pt x="1273367" y="503358"/>
                </a:cubicBezTo>
                <a:lnTo>
                  <a:pt x="1192963" y="503358"/>
                </a:lnTo>
                <a:cubicBezTo>
                  <a:pt x="1191592" y="503358"/>
                  <a:pt x="1190562" y="502904"/>
                  <a:pt x="1189851" y="501981"/>
                </a:cubicBezTo>
                <a:cubicBezTo>
                  <a:pt x="1189140" y="501073"/>
                  <a:pt x="1188268" y="500312"/>
                  <a:pt x="1187216" y="499710"/>
                </a:cubicBezTo>
                <a:lnTo>
                  <a:pt x="1187216" y="474993"/>
                </a:lnTo>
                <a:cubicBezTo>
                  <a:pt x="1187216" y="473403"/>
                  <a:pt x="1187569" y="471656"/>
                  <a:pt x="1188293" y="469760"/>
                </a:cubicBezTo>
                <a:cubicBezTo>
                  <a:pt x="1189030" y="467827"/>
                  <a:pt x="1189962" y="466010"/>
                  <a:pt x="1191111" y="464262"/>
                </a:cubicBezTo>
                <a:cubicBezTo>
                  <a:pt x="1192265" y="462514"/>
                  <a:pt x="1193538" y="460938"/>
                  <a:pt x="1194951" y="459524"/>
                </a:cubicBezTo>
                <a:cubicBezTo>
                  <a:pt x="1196348" y="458138"/>
                  <a:pt x="1197744" y="457202"/>
                  <a:pt x="1199119" y="456776"/>
                </a:cubicBezTo>
                <a:cubicBezTo>
                  <a:pt x="1199817" y="456535"/>
                  <a:pt x="1201103" y="456243"/>
                  <a:pt x="1202980" y="455923"/>
                </a:cubicBezTo>
                <a:cubicBezTo>
                  <a:pt x="1204853" y="455598"/>
                  <a:pt x="1206867" y="455292"/>
                  <a:pt x="1209000" y="454986"/>
                </a:cubicBezTo>
                <a:cubicBezTo>
                  <a:pt x="1211132" y="454694"/>
                  <a:pt x="1213167" y="454412"/>
                  <a:pt x="1215126" y="454175"/>
                </a:cubicBezTo>
                <a:cubicBezTo>
                  <a:pt x="1217075" y="453906"/>
                  <a:pt x="1218582" y="453707"/>
                  <a:pt x="1219638" y="453517"/>
                </a:cubicBezTo>
                <a:cubicBezTo>
                  <a:pt x="1216045" y="451009"/>
                  <a:pt x="1213240" y="447741"/>
                  <a:pt x="1211166" y="443722"/>
                </a:cubicBezTo>
                <a:cubicBezTo>
                  <a:pt x="1209106" y="439694"/>
                  <a:pt x="1208089" y="435313"/>
                  <a:pt x="1208089" y="430576"/>
                </a:cubicBezTo>
                <a:cubicBezTo>
                  <a:pt x="1208089" y="426840"/>
                  <a:pt x="1208753" y="423303"/>
                  <a:pt x="1210077" y="420007"/>
                </a:cubicBezTo>
                <a:cubicBezTo>
                  <a:pt x="1211401" y="416711"/>
                  <a:pt x="1213201" y="413814"/>
                  <a:pt x="1215445" y="411315"/>
                </a:cubicBezTo>
                <a:cubicBezTo>
                  <a:pt x="1217701" y="408835"/>
                  <a:pt x="1220323" y="406860"/>
                  <a:pt x="1223367" y="405419"/>
                </a:cubicBezTo>
                <a:cubicBezTo>
                  <a:pt x="1226394" y="403963"/>
                  <a:pt x="1229629" y="403231"/>
                  <a:pt x="1233073" y="403231"/>
                </a:cubicBezTo>
                <a:close/>
                <a:moveTo>
                  <a:pt x="376587" y="394376"/>
                </a:moveTo>
                <a:cubicBezTo>
                  <a:pt x="378883" y="394376"/>
                  <a:pt x="381057" y="394889"/>
                  <a:pt x="383084" y="395909"/>
                </a:cubicBezTo>
                <a:cubicBezTo>
                  <a:pt x="385119" y="396919"/>
                  <a:pt x="386901" y="398303"/>
                  <a:pt x="388422" y="400040"/>
                </a:cubicBezTo>
                <a:cubicBezTo>
                  <a:pt x="389949" y="401791"/>
                  <a:pt x="391144" y="403821"/>
                  <a:pt x="392018" y="406130"/>
                </a:cubicBezTo>
                <a:cubicBezTo>
                  <a:pt x="392884" y="408440"/>
                  <a:pt x="393326" y="410918"/>
                  <a:pt x="393326" y="413536"/>
                </a:cubicBezTo>
                <a:cubicBezTo>
                  <a:pt x="393326" y="416800"/>
                  <a:pt x="392648" y="419850"/>
                  <a:pt x="391291" y="422702"/>
                </a:cubicBezTo>
                <a:cubicBezTo>
                  <a:pt x="389975" y="425554"/>
                  <a:pt x="388096" y="427863"/>
                  <a:pt x="385692" y="429620"/>
                </a:cubicBezTo>
                <a:cubicBezTo>
                  <a:pt x="386404" y="429750"/>
                  <a:pt x="387400" y="429893"/>
                  <a:pt x="388709" y="430078"/>
                </a:cubicBezTo>
                <a:cubicBezTo>
                  <a:pt x="390006" y="430247"/>
                  <a:pt x="391362" y="430445"/>
                  <a:pt x="392779" y="430650"/>
                </a:cubicBezTo>
                <a:cubicBezTo>
                  <a:pt x="394183" y="430864"/>
                  <a:pt x="395500" y="431078"/>
                  <a:pt x="396726" y="431302"/>
                </a:cubicBezTo>
                <a:cubicBezTo>
                  <a:pt x="397944" y="431530"/>
                  <a:pt x="398832" y="431734"/>
                  <a:pt x="399380" y="431903"/>
                </a:cubicBezTo>
                <a:cubicBezTo>
                  <a:pt x="400288" y="432202"/>
                  <a:pt x="401219" y="432839"/>
                  <a:pt x="402144" y="433784"/>
                </a:cubicBezTo>
                <a:cubicBezTo>
                  <a:pt x="403066" y="434745"/>
                  <a:pt x="403924" y="435850"/>
                  <a:pt x="404701" y="437094"/>
                </a:cubicBezTo>
                <a:cubicBezTo>
                  <a:pt x="405484" y="438347"/>
                  <a:pt x="406115" y="439637"/>
                  <a:pt x="406588" y="440991"/>
                </a:cubicBezTo>
                <a:cubicBezTo>
                  <a:pt x="407079" y="442320"/>
                  <a:pt x="407318" y="443544"/>
                  <a:pt x="407318" y="444658"/>
                </a:cubicBezTo>
                <a:lnTo>
                  <a:pt x="407318" y="461977"/>
                </a:lnTo>
                <a:cubicBezTo>
                  <a:pt x="407054" y="462110"/>
                  <a:pt x="406770" y="462305"/>
                  <a:pt x="406441" y="462604"/>
                </a:cubicBezTo>
                <a:cubicBezTo>
                  <a:pt x="406115" y="462912"/>
                  <a:pt x="405763" y="463195"/>
                  <a:pt x="405388" y="463484"/>
                </a:cubicBezTo>
                <a:cubicBezTo>
                  <a:pt x="405005" y="463763"/>
                  <a:pt x="404644" y="464016"/>
                  <a:pt x="404310" y="464221"/>
                </a:cubicBezTo>
                <a:cubicBezTo>
                  <a:pt x="403966" y="464439"/>
                  <a:pt x="403679" y="464530"/>
                  <a:pt x="403450" y="464530"/>
                </a:cubicBezTo>
                <a:lnTo>
                  <a:pt x="349847" y="464530"/>
                </a:lnTo>
                <a:cubicBezTo>
                  <a:pt x="348933" y="464530"/>
                  <a:pt x="348247" y="464215"/>
                  <a:pt x="347773" y="463568"/>
                </a:cubicBezTo>
                <a:cubicBezTo>
                  <a:pt x="347299" y="462932"/>
                  <a:pt x="346717" y="462399"/>
                  <a:pt x="346016" y="461977"/>
                </a:cubicBezTo>
                <a:lnTo>
                  <a:pt x="346016" y="444658"/>
                </a:lnTo>
                <a:cubicBezTo>
                  <a:pt x="346016" y="443544"/>
                  <a:pt x="346251" y="442320"/>
                  <a:pt x="346734" y="440991"/>
                </a:cubicBezTo>
                <a:cubicBezTo>
                  <a:pt x="347225" y="439637"/>
                  <a:pt x="347846" y="438364"/>
                  <a:pt x="348613" y="437139"/>
                </a:cubicBezTo>
                <a:cubicBezTo>
                  <a:pt x="349382" y="435915"/>
                  <a:pt x="350230" y="434810"/>
                  <a:pt x="351173" y="433820"/>
                </a:cubicBezTo>
                <a:cubicBezTo>
                  <a:pt x="352104" y="432849"/>
                  <a:pt x="353034" y="432192"/>
                  <a:pt x="353951" y="431894"/>
                </a:cubicBezTo>
                <a:cubicBezTo>
                  <a:pt x="354417" y="431725"/>
                  <a:pt x="355274" y="431520"/>
                  <a:pt x="356525" y="431296"/>
                </a:cubicBezTo>
                <a:cubicBezTo>
                  <a:pt x="357774" y="431069"/>
                  <a:pt x="359116" y="430854"/>
                  <a:pt x="360538" y="430640"/>
                </a:cubicBezTo>
                <a:cubicBezTo>
                  <a:pt x="361960" y="430435"/>
                  <a:pt x="363317" y="430237"/>
                  <a:pt x="364622" y="430071"/>
                </a:cubicBezTo>
                <a:cubicBezTo>
                  <a:pt x="365922" y="429883"/>
                  <a:pt x="366927" y="429743"/>
                  <a:pt x="367631" y="429610"/>
                </a:cubicBezTo>
                <a:cubicBezTo>
                  <a:pt x="365235" y="427853"/>
                  <a:pt x="363365" y="425563"/>
                  <a:pt x="361983" y="422747"/>
                </a:cubicBezTo>
                <a:cubicBezTo>
                  <a:pt x="360609" y="419925"/>
                  <a:pt x="359931" y="416855"/>
                  <a:pt x="359931" y="413536"/>
                </a:cubicBezTo>
                <a:cubicBezTo>
                  <a:pt x="359931" y="410918"/>
                  <a:pt x="360374" y="408440"/>
                  <a:pt x="361256" y="406130"/>
                </a:cubicBezTo>
                <a:cubicBezTo>
                  <a:pt x="362139" y="403821"/>
                  <a:pt x="363339" y="401791"/>
                  <a:pt x="364835" y="400040"/>
                </a:cubicBezTo>
                <a:cubicBezTo>
                  <a:pt x="366339" y="398303"/>
                  <a:pt x="368087" y="396919"/>
                  <a:pt x="370117" y="395909"/>
                </a:cubicBezTo>
                <a:cubicBezTo>
                  <a:pt x="372134" y="394889"/>
                  <a:pt x="374291" y="394376"/>
                  <a:pt x="376587" y="394376"/>
                </a:cubicBezTo>
                <a:close/>
                <a:moveTo>
                  <a:pt x="577601" y="386884"/>
                </a:moveTo>
                <a:lnTo>
                  <a:pt x="619146" y="428433"/>
                </a:lnTo>
                <a:lnTo>
                  <a:pt x="577601" y="469978"/>
                </a:lnTo>
                <a:lnTo>
                  <a:pt x="536052" y="428433"/>
                </a:lnTo>
                <a:lnTo>
                  <a:pt x="577601" y="386884"/>
                </a:lnTo>
                <a:close/>
                <a:moveTo>
                  <a:pt x="1449112" y="351465"/>
                </a:moveTo>
                <a:lnTo>
                  <a:pt x="1516884" y="419578"/>
                </a:lnTo>
                <a:lnTo>
                  <a:pt x="1449112" y="487692"/>
                </a:lnTo>
                <a:lnTo>
                  <a:pt x="1381339" y="419578"/>
                </a:lnTo>
                <a:lnTo>
                  <a:pt x="1449112" y="351465"/>
                </a:lnTo>
                <a:close/>
                <a:moveTo>
                  <a:pt x="720463" y="346016"/>
                </a:moveTo>
                <a:cubicBezTo>
                  <a:pt x="725565" y="346016"/>
                  <a:pt x="730396" y="347107"/>
                  <a:pt x="734899" y="349275"/>
                </a:cubicBezTo>
                <a:cubicBezTo>
                  <a:pt x="739421" y="351423"/>
                  <a:pt x="743382" y="354365"/>
                  <a:pt x="746762" y="358060"/>
                </a:cubicBezTo>
                <a:cubicBezTo>
                  <a:pt x="750155" y="361782"/>
                  <a:pt x="752811" y="366098"/>
                  <a:pt x="754753" y="371008"/>
                </a:cubicBezTo>
                <a:cubicBezTo>
                  <a:pt x="756677" y="375919"/>
                  <a:pt x="757661" y="381188"/>
                  <a:pt x="757661" y="386754"/>
                </a:cubicBezTo>
                <a:cubicBezTo>
                  <a:pt x="757661" y="393694"/>
                  <a:pt x="756153" y="400172"/>
                  <a:pt x="753139" y="406242"/>
                </a:cubicBezTo>
                <a:cubicBezTo>
                  <a:pt x="750212" y="412306"/>
                  <a:pt x="746037" y="417216"/>
                  <a:pt x="740695" y="420952"/>
                </a:cubicBezTo>
                <a:cubicBezTo>
                  <a:pt x="742278" y="421228"/>
                  <a:pt x="744492" y="421532"/>
                  <a:pt x="747399" y="421926"/>
                </a:cubicBezTo>
                <a:cubicBezTo>
                  <a:pt x="750282" y="422285"/>
                  <a:pt x="753296" y="422706"/>
                  <a:pt x="756443" y="423141"/>
                </a:cubicBezTo>
                <a:cubicBezTo>
                  <a:pt x="759565" y="423597"/>
                  <a:pt x="762492" y="424053"/>
                  <a:pt x="765216" y="424529"/>
                </a:cubicBezTo>
                <a:cubicBezTo>
                  <a:pt x="767922" y="425013"/>
                  <a:pt x="769896" y="425448"/>
                  <a:pt x="771113" y="425807"/>
                </a:cubicBezTo>
                <a:cubicBezTo>
                  <a:pt x="773131" y="426442"/>
                  <a:pt x="775200" y="427796"/>
                  <a:pt x="777256" y="429805"/>
                </a:cubicBezTo>
                <a:cubicBezTo>
                  <a:pt x="779306" y="431850"/>
                  <a:pt x="781210" y="434198"/>
                  <a:pt x="782938" y="436843"/>
                </a:cubicBezTo>
                <a:cubicBezTo>
                  <a:pt x="784679" y="439508"/>
                  <a:pt x="786079" y="442250"/>
                  <a:pt x="787132" y="445130"/>
                </a:cubicBezTo>
                <a:cubicBezTo>
                  <a:pt x="788223" y="447954"/>
                  <a:pt x="788753" y="450558"/>
                  <a:pt x="788753" y="452927"/>
                </a:cubicBezTo>
                <a:lnTo>
                  <a:pt x="788753" y="489749"/>
                </a:lnTo>
                <a:cubicBezTo>
                  <a:pt x="788167" y="490032"/>
                  <a:pt x="787536" y="490446"/>
                  <a:pt x="786804" y="491082"/>
                </a:cubicBezTo>
                <a:cubicBezTo>
                  <a:pt x="786079" y="491738"/>
                  <a:pt x="785297" y="492339"/>
                  <a:pt x="784465" y="492953"/>
                </a:cubicBezTo>
                <a:cubicBezTo>
                  <a:pt x="783613" y="493547"/>
                  <a:pt x="782812" y="494086"/>
                  <a:pt x="782068" y="494521"/>
                </a:cubicBezTo>
                <a:cubicBezTo>
                  <a:pt x="781305" y="494984"/>
                  <a:pt x="780668" y="495177"/>
                  <a:pt x="780157" y="495177"/>
                </a:cubicBezTo>
                <a:lnTo>
                  <a:pt x="661040" y="495177"/>
                </a:lnTo>
                <a:cubicBezTo>
                  <a:pt x="659009" y="495177"/>
                  <a:pt x="657483" y="494507"/>
                  <a:pt x="656430" y="493133"/>
                </a:cubicBezTo>
                <a:cubicBezTo>
                  <a:pt x="655377" y="491779"/>
                  <a:pt x="654084" y="490647"/>
                  <a:pt x="652526" y="489749"/>
                </a:cubicBezTo>
                <a:lnTo>
                  <a:pt x="652526" y="452927"/>
                </a:lnTo>
                <a:cubicBezTo>
                  <a:pt x="652526" y="450558"/>
                  <a:pt x="653049" y="447954"/>
                  <a:pt x="654121" y="445130"/>
                </a:cubicBezTo>
                <a:cubicBezTo>
                  <a:pt x="655213" y="442250"/>
                  <a:pt x="656594" y="439543"/>
                  <a:pt x="658297" y="436939"/>
                </a:cubicBezTo>
                <a:cubicBezTo>
                  <a:pt x="660006" y="434336"/>
                  <a:pt x="661891" y="431988"/>
                  <a:pt x="663985" y="429881"/>
                </a:cubicBezTo>
                <a:cubicBezTo>
                  <a:pt x="666054" y="427817"/>
                  <a:pt x="668123" y="426422"/>
                  <a:pt x="670160" y="425786"/>
                </a:cubicBezTo>
                <a:cubicBezTo>
                  <a:pt x="671194" y="425427"/>
                  <a:pt x="673099" y="424992"/>
                  <a:pt x="675880" y="424516"/>
                </a:cubicBezTo>
                <a:cubicBezTo>
                  <a:pt x="678655" y="424032"/>
                  <a:pt x="681638" y="423576"/>
                  <a:pt x="684798" y="423121"/>
                </a:cubicBezTo>
                <a:cubicBezTo>
                  <a:pt x="687958" y="422685"/>
                  <a:pt x="690972" y="422264"/>
                  <a:pt x="693874" y="421912"/>
                </a:cubicBezTo>
                <a:cubicBezTo>
                  <a:pt x="696762" y="421511"/>
                  <a:pt x="698995" y="421214"/>
                  <a:pt x="700559" y="420931"/>
                </a:cubicBezTo>
                <a:cubicBezTo>
                  <a:pt x="695236" y="417195"/>
                  <a:pt x="691080" y="412327"/>
                  <a:pt x="688008" y="406339"/>
                </a:cubicBezTo>
                <a:cubicBezTo>
                  <a:pt x="684956" y="400338"/>
                  <a:pt x="683448" y="393812"/>
                  <a:pt x="683448" y="386754"/>
                </a:cubicBezTo>
                <a:cubicBezTo>
                  <a:pt x="683448" y="381188"/>
                  <a:pt x="684432" y="375919"/>
                  <a:pt x="686394" y="371008"/>
                </a:cubicBezTo>
                <a:cubicBezTo>
                  <a:pt x="688355" y="366098"/>
                  <a:pt x="691023" y="361782"/>
                  <a:pt x="694347" y="358060"/>
                </a:cubicBezTo>
                <a:cubicBezTo>
                  <a:pt x="697689" y="354365"/>
                  <a:pt x="701574" y="351423"/>
                  <a:pt x="706077" y="349275"/>
                </a:cubicBezTo>
                <a:cubicBezTo>
                  <a:pt x="710568" y="347107"/>
                  <a:pt x="715361" y="346016"/>
                  <a:pt x="720463" y="346016"/>
                </a:cubicBezTo>
                <a:close/>
                <a:moveTo>
                  <a:pt x="1326848" y="320814"/>
                </a:moveTo>
                <a:lnTo>
                  <a:pt x="1368393" y="362363"/>
                </a:lnTo>
                <a:lnTo>
                  <a:pt x="1326848" y="403908"/>
                </a:lnTo>
                <a:lnTo>
                  <a:pt x="1285299" y="362363"/>
                </a:lnTo>
                <a:lnTo>
                  <a:pt x="1326848" y="320814"/>
                </a:lnTo>
                <a:close/>
                <a:moveTo>
                  <a:pt x="1164738" y="320814"/>
                </a:moveTo>
                <a:lnTo>
                  <a:pt x="1206283" y="362363"/>
                </a:lnTo>
                <a:lnTo>
                  <a:pt x="1164738" y="403908"/>
                </a:lnTo>
                <a:lnTo>
                  <a:pt x="1123189" y="362363"/>
                </a:lnTo>
                <a:lnTo>
                  <a:pt x="1164738" y="320814"/>
                </a:lnTo>
                <a:close/>
                <a:moveTo>
                  <a:pt x="1045080" y="302423"/>
                </a:moveTo>
                <a:cubicBezTo>
                  <a:pt x="1048524" y="302423"/>
                  <a:pt x="1051785" y="303160"/>
                  <a:pt x="1054825" y="304626"/>
                </a:cubicBezTo>
                <a:cubicBezTo>
                  <a:pt x="1057877" y="306077"/>
                  <a:pt x="1060551" y="308065"/>
                  <a:pt x="1062832" y="310562"/>
                </a:cubicBezTo>
                <a:cubicBezTo>
                  <a:pt x="1065123" y="313078"/>
                  <a:pt x="1066915" y="315995"/>
                  <a:pt x="1068226" y="319313"/>
                </a:cubicBezTo>
                <a:cubicBezTo>
                  <a:pt x="1069525" y="322631"/>
                  <a:pt x="1070189" y="326192"/>
                  <a:pt x="1070189" y="329954"/>
                </a:cubicBezTo>
                <a:cubicBezTo>
                  <a:pt x="1070189" y="334644"/>
                  <a:pt x="1069171" y="339026"/>
                  <a:pt x="1067136" y="343124"/>
                </a:cubicBezTo>
                <a:cubicBezTo>
                  <a:pt x="1065161" y="347222"/>
                  <a:pt x="1062343" y="350540"/>
                  <a:pt x="1058737" y="353065"/>
                </a:cubicBezTo>
                <a:cubicBezTo>
                  <a:pt x="1059806" y="353252"/>
                  <a:pt x="1061300" y="353457"/>
                  <a:pt x="1063262" y="353723"/>
                </a:cubicBezTo>
                <a:cubicBezTo>
                  <a:pt x="1065208" y="353966"/>
                  <a:pt x="1067243" y="354250"/>
                  <a:pt x="1069367" y="354544"/>
                </a:cubicBezTo>
                <a:cubicBezTo>
                  <a:pt x="1071474" y="354852"/>
                  <a:pt x="1073450" y="355160"/>
                  <a:pt x="1075289" y="355482"/>
                </a:cubicBezTo>
                <a:cubicBezTo>
                  <a:pt x="1077115" y="355809"/>
                  <a:pt x="1078447" y="356103"/>
                  <a:pt x="1079269" y="356346"/>
                </a:cubicBezTo>
                <a:cubicBezTo>
                  <a:pt x="1080631" y="356775"/>
                  <a:pt x="1082028" y="357690"/>
                  <a:pt x="1083415" y="359048"/>
                </a:cubicBezTo>
                <a:cubicBezTo>
                  <a:pt x="1084799" y="360429"/>
                  <a:pt x="1086085" y="362016"/>
                  <a:pt x="1087251" y="363804"/>
                </a:cubicBezTo>
                <a:cubicBezTo>
                  <a:pt x="1088426" y="365605"/>
                  <a:pt x="1089371" y="367458"/>
                  <a:pt x="1090082" y="369404"/>
                </a:cubicBezTo>
                <a:cubicBezTo>
                  <a:pt x="1090819" y="371313"/>
                  <a:pt x="1091176" y="373072"/>
                  <a:pt x="1091176" y="374673"/>
                </a:cubicBezTo>
                <a:lnTo>
                  <a:pt x="1091176" y="399558"/>
                </a:lnTo>
                <a:cubicBezTo>
                  <a:pt x="1090780" y="399749"/>
                  <a:pt x="1090355" y="400029"/>
                  <a:pt x="1089861" y="400459"/>
                </a:cubicBezTo>
                <a:cubicBezTo>
                  <a:pt x="1089371" y="400902"/>
                  <a:pt x="1088843" y="401308"/>
                  <a:pt x="1088281" y="401723"/>
                </a:cubicBezTo>
                <a:cubicBezTo>
                  <a:pt x="1087707" y="402125"/>
                  <a:pt x="1087166" y="402489"/>
                  <a:pt x="1086664" y="402783"/>
                </a:cubicBezTo>
                <a:cubicBezTo>
                  <a:pt x="1086149" y="403096"/>
                  <a:pt x="1085719" y="403231"/>
                  <a:pt x="1085374" y="403231"/>
                </a:cubicBezTo>
                <a:lnTo>
                  <a:pt x="1004970" y="403231"/>
                </a:lnTo>
                <a:cubicBezTo>
                  <a:pt x="1003599" y="403231"/>
                  <a:pt x="1002569" y="402774"/>
                  <a:pt x="1001858" y="401845"/>
                </a:cubicBezTo>
                <a:cubicBezTo>
                  <a:pt x="1001147" y="400930"/>
                  <a:pt x="1000275" y="400165"/>
                  <a:pt x="999223" y="399558"/>
                </a:cubicBezTo>
                <a:lnTo>
                  <a:pt x="999223" y="374673"/>
                </a:lnTo>
                <a:cubicBezTo>
                  <a:pt x="999223" y="373072"/>
                  <a:pt x="999576" y="371313"/>
                  <a:pt x="1000300" y="369404"/>
                </a:cubicBezTo>
                <a:cubicBezTo>
                  <a:pt x="1001037" y="367458"/>
                  <a:pt x="1001969" y="365629"/>
                  <a:pt x="1003118" y="363869"/>
                </a:cubicBezTo>
                <a:cubicBezTo>
                  <a:pt x="1004272" y="362110"/>
                  <a:pt x="1005545" y="360523"/>
                  <a:pt x="1006958" y="359099"/>
                </a:cubicBezTo>
                <a:cubicBezTo>
                  <a:pt x="1008355" y="357704"/>
                  <a:pt x="1009751" y="356761"/>
                  <a:pt x="1011126" y="356332"/>
                </a:cubicBezTo>
                <a:cubicBezTo>
                  <a:pt x="1011824" y="356089"/>
                  <a:pt x="1013110" y="355795"/>
                  <a:pt x="1014987" y="355473"/>
                </a:cubicBezTo>
                <a:cubicBezTo>
                  <a:pt x="1016860" y="355146"/>
                  <a:pt x="1018874" y="354838"/>
                  <a:pt x="1021007" y="354530"/>
                </a:cubicBezTo>
                <a:cubicBezTo>
                  <a:pt x="1023139" y="354236"/>
                  <a:pt x="1025174" y="353952"/>
                  <a:pt x="1027133" y="353714"/>
                </a:cubicBezTo>
                <a:cubicBezTo>
                  <a:pt x="1029082" y="353443"/>
                  <a:pt x="1030589" y="353242"/>
                  <a:pt x="1031645" y="353051"/>
                </a:cubicBezTo>
                <a:cubicBezTo>
                  <a:pt x="1028052" y="350526"/>
                  <a:pt x="1025247" y="347236"/>
                  <a:pt x="1023173" y="343189"/>
                </a:cubicBezTo>
                <a:cubicBezTo>
                  <a:pt x="1021113" y="339134"/>
                  <a:pt x="1020096" y="334723"/>
                  <a:pt x="1020096" y="329954"/>
                </a:cubicBezTo>
                <a:cubicBezTo>
                  <a:pt x="1020096" y="326192"/>
                  <a:pt x="1020760" y="322631"/>
                  <a:pt x="1022084" y="319313"/>
                </a:cubicBezTo>
                <a:cubicBezTo>
                  <a:pt x="1023408" y="315995"/>
                  <a:pt x="1025208" y="313078"/>
                  <a:pt x="1027452" y="310562"/>
                </a:cubicBezTo>
                <a:cubicBezTo>
                  <a:pt x="1029708" y="308065"/>
                  <a:pt x="1032330" y="306077"/>
                  <a:pt x="1035374" y="304626"/>
                </a:cubicBezTo>
                <a:cubicBezTo>
                  <a:pt x="1038401" y="303160"/>
                  <a:pt x="1041636" y="302423"/>
                  <a:pt x="1045080" y="302423"/>
                </a:cubicBezTo>
                <a:close/>
                <a:moveTo>
                  <a:pt x="354790" y="284714"/>
                </a:moveTo>
                <a:cubicBezTo>
                  <a:pt x="357086" y="284714"/>
                  <a:pt x="359260" y="285227"/>
                  <a:pt x="361287" y="286247"/>
                </a:cubicBezTo>
                <a:cubicBezTo>
                  <a:pt x="363322" y="287257"/>
                  <a:pt x="365104" y="288641"/>
                  <a:pt x="366625" y="290378"/>
                </a:cubicBezTo>
                <a:cubicBezTo>
                  <a:pt x="368152" y="292129"/>
                  <a:pt x="369347" y="294159"/>
                  <a:pt x="370221" y="296468"/>
                </a:cubicBezTo>
                <a:cubicBezTo>
                  <a:pt x="371087" y="298778"/>
                  <a:pt x="371529" y="301256"/>
                  <a:pt x="371529" y="303874"/>
                </a:cubicBezTo>
                <a:cubicBezTo>
                  <a:pt x="371529" y="307138"/>
                  <a:pt x="370851" y="310188"/>
                  <a:pt x="369494" y="313040"/>
                </a:cubicBezTo>
                <a:cubicBezTo>
                  <a:pt x="368178" y="315892"/>
                  <a:pt x="366299" y="318201"/>
                  <a:pt x="363895" y="319958"/>
                </a:cubicBezTo>
                <a:cubicBezTo>
                  <a:pt x="364607" y="320088"/>
                  <a:pt x="365603" y="320231"/>
                  <a:pt x="366912" y="320416"/>
                </a:cubicBezTo>
                <a:cubicBezTo>
                  <a:pt x="368209" y="320585"/>
                  <a:pt x="369565" y="320783"/>
                  <a:pt x="370982" y="320988"/>
                </a:cubicBezTo>
                <a:cubicBezTo>
                  <a:pt x="372386" y="321202"/>
                  <a:pt x="373703" y="321416"/>
                  <a:pt x="374929" y="321640"/>
                </a:cubicBezTo>
                <a:cubicBezTo>
                  <a:pt x="376147" y="321868"/>
                  <a:pt x="377035" y="322072"/>
                  <a:pt x="377583" y="322241"/>
                </a:cubicBezTo>
                <a:cubicBezTo>
                  <a:pt x="378491" y="322540"/>
                  <a:pt x="379422" y="323177"/>
                  <a:pt x="380347" y="324122"/>
                </a:cubicBezTo>
                <a:cubicBezTo>
                  <a:pt x="381269" y="325083"/>
                  <a:pt x="382127" y="326188"/>
                  <a:pt x="382904" y="327432"/>
                </a:cubicBezTo>
                <a:cubicBezTo>
                  <a:pt x="383687" y="328685"/>
                  <a:pt x="384318" y="329975"/>
                  <a:pt x="384791" y="331329"/>
                </a:cubicBezTo>
                <a:cubicBezTo>
                  <a:pt x="385282" y="332658"/>
                  <a:pt x="385521" y="333882"/>
                  <a:pt x="385521" y="334996"/>
                </a:cubicBezTo>
                <a:lnTo>
                  <a:pt x="385521" y="352315"/>
                </a:lnTo>
                <a:cubicBezTo>
                  <a:pt x="385257" y="352448"/>
                  <a:pt x="384973" y="352643"/>
                  <a:pt x="384644" y="352942"/>
                </a:cubicBezTo>
                <a:cubicBezTo>
                  <a:pt x="384318" y="353250"/>
                  <a:pt x="383966" y="353533"/>
                  <a:pt x="383591" y="353822"/>
                </a:cubicBezTo>
                <a:cubicBezTo>
                  <a:pt x="383208" y="354101"/>
                  <a:pt x="382847" y="354354"/>
                  <a:pt x="382513" y="354559"/>
                </a:cubicBezTo>
                <a:cubicBezTo>
                  <a:pt x="382169" y="354777"/>
                  <a:pt x="381882" y="354868"/>
                  <a:pt x="381653" y="354868"/>
                </a:cubicBezTo>
                <a:lnTo>
                  <a:pt x="328050" y="354868"/>
                </a:lnTo>
                <a:cubicBezTo>
                  <a:pt x="327136" y="354868"/>
                  <a:pt x="326450" y="354553"/>
                  <a:pt x="325976" y="353906"/>
                </a:cubicBezTo>
                <a:cubicBezTo>
                  <a:pt x="325502" y="353270"/>
                  <a:pt x="324920" y="352737"/>
                  <a:pt x="324219" y="352315"/>
                </a:cubicBezTo>
                <a:lnTo>
                  <a:pt x="324219" y="334996"/>
                </a:lnTo>
                <a:cubicBezTo>
                  <a:pt x="324219" y="333882"/>
                  <a:pt x="324454" y="332658"/>
                  <a:pt x="324937" y="331329"/>
                </a:cubicBezTo>
                <a:cubicBezTo>
                  <a:pt x="325428" y="329975"/>
                  <a:pt x="326049" y="328702"/>
                  <a:pt x="326816" y="327477"/>
                </a:cubicBezTo>
                <a:cubicBezTo>
                  <a:pt x="327585" y="326253"/>
                  <a:pt x="328433" y="325148"/>
                  <a:pt x="329376" y="324158"/>
                </a:cubicBezTo>
                <a:cubicBezTo>
                  <a:pt x="330307" y="323187"/>
                  <a:pt x="331237" y="322530"/>
                  <a:pt x="332154" y="322232"/>
                </a:cubicBezTo>
                <a:cubicBezTo>
                  <a:pt x="332620" y="322063"/>
                  <a:pt x="333477" y="321858"/>
                  <a:pt x="334728" y="321634"/>
                </a:cubicBezTo>
                <a:cubicBezTo>
                  <a:pt x="335977" y="321407"/>
                  <a:pt x="337319" y="321192"/>
                  <a:pt x="338741" y="320978"/>
                </a:cubicBezTo>
                <a:cubicBezTo>
                  <a:pt x="340163" y="320773"/>
                  <a:pt x="341520" y="320575"/>
                  <a:pt x="342825" y="320409"/>
                </a:cubicBezTo>
                <a:cubicBezTo>
                  <a:pt x="344125" y="320221"/>
                  <a:pt x="345130" y="320081"/>
                  <a:pt x="345834" y="319948"/>
                </a:cubicBezTo>
                <a:cubicBezTo>
                  <a:pt x="343438" y="318191"/>
                  <a:pt x="341568" y="315901"/>
                  <a:pt x="340186" y="313085"/>
                </a:cubicBezTo>
                <a:cubicBezTo>
                  <a:pt x="338812" y="310263"/>
                  <a:pt x="338134" y="307193"/>
                  <a:pt x="338134" y="303874"/>
                </a:cubicBezTo>
                <a:cubicBezTo>
                  <a:pt x="338134" y="301256"/>
                  <a:pt x="338577" y="298778"/>
                  <a:pt x="339459" y="296468"/>
                </a:cubicBezTo>
                <a:cubicBezTo>
                  <a:pt x="340342" y="294159"/>
                  <a:pt x="341542" y="292129"/>
                  <a:pt x="343038" y="290378"/>
                </a:cubicBezTo>
                <a:cubicBezTo>
                  <a:pt x="344542" y="288641"/>
                  <a:pt x="346290" y="287257"/>
                  <a:pt x="348320" y="286247"/>
                </a:cubicBezTo>
                <a:cubicBezTo>
                  <a:pt x="350337" y="285227"/>
                  <a:pt x="352494" y="284714"/>
                  <a:pt x="354790" y="284714"/>
                </a:cubicBezTo>
                <a:close/>
                <a:moveTo>
                  <a:pt x="1406462" y="262918"/>
                </a:moveTo>
                <a:cubicBezTo>
                  <a:pt x="1408758" y="262918"/>
                  <a:pt x="1410932" y="263431"/>
                  <a:pt x="1412958" y="264451"/>
                </a:cubicBezTo>
                <a:cubicBezTo>
                  <a:pt x="1414993" y="265461"/>
                  <a:pt x="1416775" y="266845"/>
                  <a:pt x="1418296" y="268582"/>
                </a:cubicBezTo>
                <a:cubicBezTo>
                  <a:pt x="1419823" y="270333"/>
                  <a:pt x="1421018" y="272363"/>
                  <a:pt x="1421892" y="274672"/>
                </a:cubicBezTo>
                <a:cubicBezTo>
                  <a:pt x="1422758" y="276982"/>
                  <a:pt x="1423201" y="279460"/>
                  <a:pt x="1423201" y="282078"/>
                </a:cubicBezTo>
                <a:cubicBezTo>
                  <a:pt x="1423201" y="285342"/>
                  <a:pt x="1422522" y="288392"/>
                  <a:pt x="1421166" y="291244"/>
                </a:cubicBezTo>
                <a:cubicBezTo>
                  <a:pt x="1419849" y="294096"/>
                  <a:pt x="1417970" y="296405"/>
                  <a:pt x="1415566" y="298162"/>
                </a:cubicBezTo>
                <a:cubicBezTo>
                  <a:pt x="1416278" y="298292"/>
                  <a:pt x="1417275" y="298435"/>
                  <a:pt x="1418583" y="298620"/>
                </a:cubicBezTo>
                <a:cubicBezTo>
                  <a:pt x="1419880" y="298789"/>
                  <a:pt x="1421237" y="298987"/>
                  <a:pt x="1422653" y="299192"/>
                </a:cubicBezTo>
                <a:cubicBezTo>
                  <a:pt x="1424058" y="299406"/>
                  <a:pt x="1425374" y="299620"/>
                  <a:pt x="1426601" y="299844"/>
                </a:cubicBezTo>
                <a:cubicBezTo>
                  <a:pt x="1427818" y="300072"/>
                  <a:pt x="1428706" y="300276"/>
                  <a:pt x="1429254" y="300445"/>
                </a:cubicBezTo>
                <a:cubicBezTo>
                  <a:pt x="1430162" y="300744"/>
                  <a:pt x="1431093" y="301381"/>
                  <a:pt x="1432018" y="302326"/>
                </a:cubicBezTo>
                <a:cubicBezTo>
                  <a:pt x="1432941" y="303287"/>
                  <a:pt x="1433798" y="304392"/>
                  <a:pt x="1434575" y="305636"/>
                </a:cubicBezTo>
                <a:cubicBezTo>
                  <a:pt x="1435359" y="306889"/>
                  <a:pt x="1435989" y="308179"/>
                  <a:pt x="1436463" y="309533"/>
                </a:cubicBezTo>
                <a:cubicBezTo>
                  <a:pt x="1436954" y="310862"/>
                  <a:pt x="1437192" y="312086"/>
                  <a:pt x="1437192" y="313200"/>
                </a:cubicBezTo>
                <a:lnTo>
                  <a:pt x="1437192" y="330519"/>
                </a:lnTo>
                <a:cubicBezTo>
                  <a:pt x="1436928" y="330652"/>
                  <a:pt x="1436645" y="330847"/>
                  <a:pt x="1436315" y="331146"/>
                </a:cubicBezTo>
                <a:cubicBezTo>
                  <a:pt x="1435989" y="331454"/>
                  <a:pt x="1435637" y="331737"/>
                  <a:pt x="1435262" y="332026"/>
                </a:cubicBezTo>
                <a:cubicBezTo>
                  <a:pt x="1434879" y="332305"/>
                  <a:pt x="1434519" y="332558"/>
                  <a:pt x="1434184" y="332763"/>
                </a:cubicBezTo>
                <a:cubicBezTo>
                  <a:pt x="1433840" y="332981"/>
                  <a:pt x="1433554" y="333072"/>
                  <a:pt x="1433324" y="333072"/>
                </a:cubicBezTo>
                <a:lnTo>
                  <a:pt x="1379722" y="333072"/>
                </a:lnTo>
                <a:cubicBezTo>
                  <a:pt x="1378808" y="333072"/>
                  <a:pt x="1378121" y="332757"/>
                  <a:pt x="1377647" y="332110"/>
                </a:cubicBezTo>
                <a:cubicBezTo>
                  <a:pt x="1377173" y="331474"/>
                  <a:pt x="1376591" y="330941"/>
                  <a:pt x="1375890" y="330519"/>
                </a:cubicBezTo>
                <a:lnTo>
                  <a:pt x="1375890" y="313200"/>
                </a:lnTo>
                <a:cubicBezTo>
                  <a:pt x="1375890" y="312086"/>
                  <a:pt x="1376126" y="310862"/>
                  <a:pt x="1376608" y="309533"/>
                </a:cubicBezTo>
                <a:cubicBezTo>
                  <a:pt x="1377099" y="308179"/>
                  <a:pt x="1377721" y="306906"/>
                  <a:pt x="1378487" y="305681"/>
                </a:cubicBezTo>
                <a:cubicBezTo>
                  <a:pt x="1379256" y="304457"/>
                  <a:pt x="1380105" y="303352"/>
                  <a:pt x="1381047" y="302362"/>
                </a:cubicBezTo>
                <a:cubicBezTo>
                  <a:pt x="1381978" y="301391"/>
                  <a:pt x="1382909" y="300734"/>
                  <a:pt x="1383825" y="300436"/>
                </a:cubicBezTo>
                <a:cubicBezTo>
                  <a:pt x="1384291" y="300267"/>
                  <a:pt x="1385148" y="300062"/>
                  <a:pt x="1386399" y="299838"/>
                </a:cubicBezTo>
                <a:cubicBezTo>
                  <a:pt x="1387648" y="299611"/>
                  <a:pt x="1388991" y="299396"/>
                  <a:pt x="1390412" y="299182"/>
                </a:cubicBezTo>
                <a:cubicBezTo>
                  <a:pt x="1391834" y="298977"/>
                  <a:pt x="1393191" y="298779"/>
                  <a:pt x="1394496" y="298613"/>
                </a:cubicBezTo>
                <a:cubicBezTo>
                  <a:pt x="1395796" y="298425"/>
                  <a:pt x="1396801" y="298285"/>
                  <a:pt x="1397505" y="298152"/>
                </a:cubicBezTo>
                <a:cubicBezTo>
                  <a:pt x="1395109" y="296395"/>
                  <a:pt x="1393239" y="294105"/>
                  <a:pt x="1391857" y="291289"/>
                </a:cubicBezTo>
                <a:cubicBezTo>
                  <a:pt x="1390483" y="288467"/>
                  <a:pt x="1389805" y="285397"/>
                  <a:pt x="1389805" y="282078"/>
                </a:cubicBezTo>
                <a:cubicBezTo>
                  <a:pt x="1389805" y="279460"/>
                  <a:pt x="1390248" y="276982"/>
                  <a:pt x="1391130" y="274672"/>
                </a:cubicBezTo>
                <a:cubicBezTo>
                  <a:pt x="1392013" y="272363"/>
                  <a:pt x="1393214" y="270333"/>
                  <a:pt x="1394709" y="268582"/>
                </a:cubicBezTo>
                <a:cubicBezTo>
                  <a:pt x="1396213" y="266845"/>
                  <a:pt x="1397962" y="265461"/>
                  <a:pt x="1399991" y="264451"/>
                </a:cubicBezTo>
                <a:cubicBezTo>
                  <a:pt x="1402009" y="263431"/>
                  <a:pt x="1404166" y="262918"/>
                  <a:pt x="1406462" y="262918"/>
                </a:cubicBezTo>
                <a:close/>
                <a:moveTo>
                  <a:pt x="637081" y="262918"/>
                </a:moveTo>
                <a:cubicBezTo>
                  <a:pt x="640525" y="262918"/>
                  <a:pt x="643786" y="263655"/>
                  <a:pt x="646826" y="265121"/>
                </a:cubicBezTo>
                <a:cubicBezTo>
                  <a:pt x="649878" y="266572"/>
                  <a:pt x="652551" y="268560"/>
                  <a:pt x="654833" y="271057"/>
                </a:cubicBezTo>
                <a:cubicBezTo>
                  <a:pt x="657124" y="273573"/>
                  <a:pt x="658916" y="276490"/>
                  <a:pt x="660227" y="279808"/>
                </a:cubicBezTo>
                <a:cubicBezTo>
                  <a:pt x="661525" y="283126"/>
                  <a:pt x="662189" y="286687"/>
                  <a:pt x="662189" y="290449"/>
                </a:cubicBezTo>
                <a:cubicBezTo>
                  <a:pt x="662189" y="295139"/>
                  <a:pt x="661172" y="299521"/>
                  <a:pt x="659137" y="303619"/>
                </a:cubicBezTo>
                <a:cubicBezTo>
                  <a:pt x="657162" y="307717"/>
                  <a:pt x="654344" y="311035"/>
                  <a:pt x="650738" y="313560"/>
                </a:cubicBezTo>
                <a:cubicBezTo>
                  <a:pt x="651806" y="313747"/>
                  <a:pt x="653301" y="313952"/>
                  <a:pt x="655263" y="314218"/>
                </a:cubicBezTo>
                <a:cubicBezTo>
                  <a:pt x="657209" y="314461"/>
                  <a:pt x="659244" y="314745"/>
                  <a:pt x="661368" y="315039"/>
                </a:cubicBezTo>
                <a:cubicBezTo>
                  <a:pt x="663475" y="315347"/>
                  <a:pt x="665450" y="315655"/>
                  <a:pt x="667289" y="315977"/>
                </a:cubicBezTo>
                <a:cubicBezTo>
                  <a:pt x="669116" y="316304"/>
                  <a:pt x="670448" y="316598"/>
                  <a:pt x="671270" y="316841"/>
                </a:cubicBezTo>
                <a:cubicBezTo>
                  <a:pt x="672632" y="317270"/>
                  <a:pt x="674028" y="318185"/>
                  <a:pt x="675416" y="319543"/>
                </a:cubicBezTo>
                <a:cubicBezTo>
                  <a:pt x="676800" y="320924"/>
                  <a:pt x="678086" y="322511"/>
                  <a:pt x="679252" y="324299"/>
                </a:cubicBezTo>
                <a:cubicBezTo>
                  <a:pt x="680427" y="326100"/>
                  <a:pt x="681372" y="327953"/>
                  <a:pt x="682083" y="329899"/>
                </a:cubicBezTo>
                <a:cubicBezTo>
                  <a:pt x="682820" y="331808"/>
                  <a:pt x="683177" y="333567"/>
                  <a:pt x="683177" y="335168"/>
                </a:cubicBezTo>
                <a:lnTo>
                  <a:pt x="683177" y="360053"/>
                </a:lnTo>
                <a:cubicBezTo>
                  <a:pt x="682781" y="360244"/>
                  <a:pt x="682356" y="360524"/>
                  <a:pt x="681862" y="360954"/>
                </a:cubicBezTo>
                <a:cubicBezTo>
                  <a:pt x="681372" y="361397"/>
                  <a:pt x="680844" y="361803"/>
                  <a:pt x="680282" y="362218"/>
                </a:cubicBezTo>
                <a:cubicBezTo>
                  <a:pt x="679708" y="362620"/>
                  <a:pt x="679167" y="362984"/>
                  <a:pt x="678665" y="363278"/>
                </a:cubicBezTo>
                <a:cubicBezTo>
                  <a:pt x="678150" y="363591"/>
                  <a:pt x="677720" y="363726"/>
                  <a:pt x="677375" y="363726"/>
                </a:cubicBezTo>
                <a:lnTo>
                  <a:pt x="596971" y="363726"/>
                </a:lnTo>
                <a:cubicBezTo>
                  <a:pt x="595600" y="363726"/>
                  <a:pt x="594570" y="363269"/>
                  <a:pt x="593859" y="362340"/>
                </a:cubicBezTo>
                <a:cubicBezTo>
                  <a:pt x="593148" y="361425"/>
                  <a:pt x="592275" y="360660"/>
                  <a:pt x="591224" y="360053"/>
                </a:cubicBezTo>
                <a:lnTo>
                  <a:pt x="591224" y="335168"/>
                </a:lnTo>
                <a:cubicBezTo>
                  <a:pt x="591224" y="333567"/>
                  <a:pt x="591577" y="331808"/>
                  <a:pt x="592301" y="329899"/>
                </a:cubicBezTo>
                <a:cubicBezTo>
                  <a:pt x="593037" y="327953"/>
                  <a:pt x="593970" y="326124"/>
                  <a:pt x="595119" y="324364"/>
                </a:cubicBezTo>
                <a:cubicBezTo>
                  <a:pt x="596273" y="322605"/>
                  <a:pt x="597546" y="321018"/>
                  <a:pt x="598959" y="319594"/>
                </a:cubicBezTo>
                <a:cubicBezTo>
                  <a:pt x="600355" y="318199"/>
                  <a:pt x="601752" y="317256"/>
                  <a:pt x="603127" y="316827"/>
                </a:cubicBezTo>
                <a:cubicBezTo>
                  <a:pt x="603825" y="316584"/>
                  <a:pt x="605110" y="316290"/>
                  <a:pt x="606988" y="315968"/>
                </a:cubicBezTo>
                <a:cubicBezTo>
                  <a:pt x="608861" y="315641"/>
                  <a:pt x="610875" y="315333"/>
                  <a:pt x="613007" y="315025"/>
                </a:cubicBezTo>
                <a:cubicBezTo>
                  <a:pt x="615140" y="314731"/>
                  <a:pt x="617175" y="314447"/>
                  <a:pt x="619133" y="314209"/>
                </a:cubicBezTo>
                <a:cubicBezTo>
                  <a:pt x="621083" y="313938"/>
                  <a:pt x="622590" y="313737"/>
                  <a:pt x="623646" y="313546"/>
                </a:cubicBezTo>
                <a:cubicBezTo>
                  <a:pt x="620053" y="311021"/>
                  <a:pt x="617247" y="307731"/>
                  <a:pt x="615174" y="303684"/>
                </a:cubicBezTo>
                <a:cubicBezTo>
                  <a:pt x="613114" y="299629"/>
                  <a:pt x="612096" y="295218"/>
                  <a:pt x="612096" y="290449"/>
                </a:cubicBezTo>
                <a:cubicBezTo>
                  <a:pt x="612096" y="286687"/>
                  <a:pt x="612760" y="283126"/>
                  <a:pt x="614084" y="279808"/>
                </a:cubicBezTo>
                <a:cubicBezTo>
                  <a:pt x="615408" y="276490"/>
                  <a:pt x="617209" y="273573"/>
                  <a:pt x="619453" y="271057"/>
                </a:cubicBezTo>
                <a:cubicBezTo>
                  <a:pt x="621709" y="268560"/>
                  <a:pt x="624331" y="266572"/>
                  <a:pt x="627375" y="265121"/>
                </a:cubicBezTo>
                <a:cubicBezTo>
                  <a:pt x="630402" y="263655"/>
                  <a:pt x="633637" y="262918"/>
                  <a:pt x="637081" y="262918"/>
                </a:cubicBezTo>
                <a:close/>
                <a:moveTo>
                  <a:pt x="897394" y="246570"/>
                </a:moveTo>
                <a:lnTo>
                  <a:pt x="965166" y="314343"/>
                </a:lnTo>
                <a:lnTo>
                  <a:pt x="897394" y="382116"/>
                </a:lnTo>
                <a:lnTo>
                  <a:pt x="829621" y="314343"/>
                </a:lnTo>
                <a:lnTo>
                  <a:pt x="897394" y="246570"/>
                </a:lnTo>
                <a:close/>
                <a:moveTo>
                  <a:pt x="466456" y="245208"/>
                </a:moveTo>
                <a:cubicBezTo>
                  <a:pt x="469925" y="245208"/>
                  <a:pt x="473210" y="245945"/>
                  <a:pt x="476272" y="247411"/>
                </a:cubicBezTo>
                <a:cubicBezTo>
                  <a:pt x="479347" y="248862"/>
                  <a:pt x="482041" y="250850"/>
                  <a:pt x="484339" y="253347"/>
                </a:cubicBezTo>
                <a:cubicBezTo>
                  <a:pt x="486647" y="255863"/>
                  <a:pt x="488452" y="258780"/>
                  <a:pt x="489773" y="262098"/>
                </a:cubicBezTo>
                <a:cubicBezTo>
                  <a:pt x="491081" y="265416"/>
                  <a:pt x="491750" y="268977"/>
                  <a:pt x="491750" y="272739"/>
                </a:cubicBezTo>
                <a:cubicBezTo>
                  <a:pt x="491750" y="277429"/>
                  <a:pt x="490725" y="281811"/>
                  <a:pt x="488675" y="285909"/>
                </a:cubicBezTo>
                <a:cubicBezTo>
                  <a:pt x="486685" y="290007"/>
                  <a:pt x="483846" y="293325"/>
                  <a:pt x="480214" y="295850"/>
                </a:cubicBezTo>
                <a:cubicBezTo>
                  <a:pt x="481290" y="296037"/>
                  <a:pt x="482795" y="296242"/>
                  <a:pt x="484772" y="296508"/>
                </a:cubicBezTo>
                <a:cubicBezTo>
                  <a:pt x="486732" y="296751"/>
                  <a:pt x="488782" y="297035"/>
                  <a:pt x="490922" y="297329"/>
                </a:cubicBezTo>
                <a:cubicBezTo>
                  <a:pt x="493045" y="297637"/>
                  <a:pt x="495035" y="297945"/>
                  <a:pt x="496888" y="298267"/>
                </a:cubicBezTo>
                <a:cubicBezTo>
                  <a:pt x="498728" y="298594"/>
                  <a:pt x="500070" y="298888"/>
                  <a:pt x="500898" y="299131"/>
                </a:cubicBezTo>
                <a:cubicBezTo>
                  <a:pt x="502270" y="299560"/>
                  <a:pt x="503677" y="300475"/>
                  <a:pt x="505075" y="301833"/>
                </a:cubicBezTo>
                <a:cubicBezTo>
                  <a:pt x="506469" y="303214"/>
                  <a:pt x="507764" y="304801"/>
                  <a:pt x="508939" y="306589"/>
                </a:cubicBezTo>
                <a:cubicBezTo>
                  <a:pt x="510122" y="308390"/>
                  <a:pt x="511074" y="310243"/>
                  <a:pt x="511791" y="312189"/>
                </a:cubicBezTo>
                <a:cubicBezTo>
                  <a:pt x="512533" y="314098"/>
                  <a:pt x="512893" y="315857"/>
                  <a:pt x="512893" y="317458"/>
                </a:cubicBezTo>
                <a:lnTo>
                  <a:pt x="512893" y="342343"/>
                </a:lnTo>
                <a:cubicBezTo>
                  <a:pt x="512494" y="342534"/>
                  <a:pt x="512065" y="342814"/>
                  <a:pt x="511568" y="343244"/>
                </a:cubicBezTo>
                <a:cubicBezTo>
                  <a:pt x="511074" y="343687"/>
                  <a:pt x="510543" y="344093"/>
                  <a:pt x="509977" y="344508"/>
                </a:cubicBezTo>
                <a:cubicBezTo>
                  <a:pt x="509398" y="344910"/>
                  <a:pt x="508853" y="345274"/>
                  <a:pt x="508347" y="345568"/>
                </a:cubicBezTo>
                <a:cubicBezTo>
                  <a:pt x="507828" y="345881"/>
                  <a:pt x="507395" y="346016"/>
                  <a:pt x="507047" y="346016"/>
                </a:cubicBezTo>
                <a:lnTo>
                  <a:pt x="426048" y="346016"/>
                </a:lnTo>
                <a:cubicBezTo>
                  <a:pt x="424668" y="346016"/>
                  <a:pt x="423630" y="345559"/>
                  <a:pt x="422914" y="344630"/>
                </a:cubicBezTo>
                <a:cubicBezTo>
                  <a:pt x="422197" y="343715"/>
                  <a:pt x="421318" y="342950"/>
                  <a:pt x="420259" y="342343"/>
                </a:cubicBezTo>
                <a:lnTo>
                  <a:pt x="420259" y="317458"/>
                </a:lnTo>
                <a:cubicBezTo>
                  <a:pt x="420259" y="315857"/>
                  <a:pt x="420615" y="314098"/>
                  <a:pt x="421344" y="312189"/>
                </a:cubicBezTo>
                <a:cubicBezTo>
                  <a:pt x="422086" y="310243"/>
                  <a:pt x="423025" y="308414"/>
                  <a:pt x="424183" y="306654"/>
                </a:cubicBezTo>
                <a:cubicBezTo>
                  <a:pt x="425345" y="304895"/>
                  <a:pt x="426627" y="303308"/>
                  <a:pt x="428051" y="301884"/>
                </a:cubicBezTo>
                <a:cubicBezTo>
                  <a:pt x="429458" y="300489"/>
                  <a:pt x="430865" y="299546"/>
                  <a:pt x="432250" y="299117"/>
                </a:cubicBezTo>
                <a:cubicBezTo>
                  <a:pt x="432953" y="298874"/>
                  <a:pt x="434248" y="298580"/>
                  <a:pt x="436140" y="298258"/>
                </a:cubicBezTo>
                <a:cubicBezTo>
                  <a:pt x="438027" y="297931"/>
                  <a:pt x="440055" y="297623"/>
                  <a:pt x="442204" y="297315"/>
                </a:cubicBezTo>
                <a:cubicBezTo>
                  <a:pt x="444352" y="297021"/>
                  <a:pt x="446402" y="296737"/>
                  <a:pt x="448375" y="296499"/>
                </a:cubicBezTo>
                <a:cubicBezTo>
                  <a:pt x="450339" y="296228"/>
                  <a:pt x="451857" y="296027"/>
                  <a:pt x="452921" y="295836"/>
                </a:cubicBezTo>
                <a:cubicBezTo>
                  <a:pt x="449301" y="293311"/>
                  <a:pt x="446475" y="290021"/>
                  <a:pt x="444387" y="285974"/>
                </a:cubicBezTo>
                <a:cubicBezTo>
                  <a:pt x="442311" y="281919"/>
                  <a:pt x="441286" y="277508"/>
                  <a:pt x="441286" y="272739"/>
                </a:cubicBezTo>
                <a:cubicBezTo>
                  <a:pt x="441286" y="268977"/>
                  <a:pt x="441955" y="265416"/>
                  <a:pt x="443289" y="262098"/>
                </a:cubicBezTo>
                <a:cubicBezTo>
                  <a:pt x="444622" y="258780"/>
                  <a:pt x="446437" y="255863"/>
                  <a:pt x="448697" y="253347"/>
                </a:cubicBezTo>
                <a:cubicBezTo>
                  <a:pt x="450970" y="250850"/>
                  <a:pt x="453611" y="248862"/>
                  <a:pt x="456678" y="247411"/>
                </a:cubicBezTo>
                <a:cubicBezTo>
                  <a:pt x="459727" y="245945"/>
                  <a:pt x="462986" y="245208"/>
                  <a:pt x="466456" y="245208"/>
                </a:cubicBezTo>
                <a:close/>
                <a:moveTo>
                  <a:pt x="45857" y="245208"/>
                </a:moveTo>
                <a:cubicBezTo>
                  <a:pt x="49301" y="245208"/>
                  <a:pt x="52562" y="245945"/>
                  <a:pt x="55602" y="247411"/>
                </a:cubicBezTo>
                <a:cubicBezTo>
                  <a:pt x="58654" y="248862"/>
                  <a:pt x="61327" y="250850"/>
                  <a:pt x="63609" y="253347"/>
                </a:cubicBezTo>
                <a:cubicBezTo>
                  <a:pt x="65900" y="255863"/>
                  <a:pt x="67692" y="258780"/>
                  <a:pt x="69003" y="262098"/>
                </a:cubicBezTo>
                <a:cubicBezTo>
                  <a:pt x="70301" y="265416"/>
                  <a:pt x="70965" y="268977"/>
                  <a:pt x="70965" y="272739"/>
                </a:cubicBezTo>
                <a:cubicBezTo>
                  <a:pt x="70965" y="277429"/>
                  <a:pt x="69948" y="281811"/>
                  <a:pt x="67913" y="285909"/>
                </a:cubicBezTo>
                <a:cubicBezTo>
                  <a:pt x="65938" y="290007"/>
                  <a:pt x="63120" y="293325"/>
                  <a:pt x="59514" y="295850"/>
                </a:cubicBezTo>
                <a:cubicBezTo>
                  <a:pt x="60582" y="296037"/>
                  <a:pt x="62077" y="296242"/>
                  <a:pt x="64039" y="296508"/>
                </a:cubicBezTo>
                <a:cubicBezTo>
                  <a:pt x="65985" y="296751"/>
                  <a:pt x="68020" y="297035"/>
                  <a:pt x="70144" y="297329"/>
                </a:cubicBezTo>
                <a:cubicBezTo>
                  <a:pt x="72251" y="297637"/>
                  <a:pt x="74226" y="297945"/>
                  <a:pt x="76065" y="298267"/>
                </a:cubicBezTo>
                <a:cubicBezTo>
                  <a:pt x="77892" y="298594"/>
                  <a:pt x="79224" y="298888"/>
                  <a:pt x="80046" y="299131"/>
                </a:cubicBezTo>
                <a:cubicBezTo>
                  <a:pt x="81408" y="299560"/>
                  <a:pt x="82804" y="300475"/>
                  <a:pt x="84192" y="301833"/>
                </a:cubicBezTo>
                <a:cubicBezTo>
                  <a:pt x="85576" y="303214"/>
                  <a:pt x="86861" y="304801"/>
                  <a:pt x="88028" y="306589"/>
                </a:cubicBezTo>
                <a:cubicBezTo>
                  <a:pt x="89203" y="308390"/>
                  <a:pt x="90148" y="310243"/>
                  <a:pt x="90859" y="312189"/>
                </a:cubicBezTo>
                <a:cubicBezTo>
                  <a:pt x="91595" y="314098"/>
                  <a:pt x="91953" y="315857"/>
                  <a:pt x="91953" y="317458"/>
                </a:cubicBezTo>
                <a:lnTo>
                  <a:pt x="91953" y="342343"/>
                </a:lnTo>
                <a:cubicBezTo>
                  <a:pt x="91557" y="342534"/>
                  <a:pt x="91131" y="342814"/>
                  <a:pt x="90637" y="343244"/>
                </a:cubicBezTo>
                <a:cubicBezTo>
                  <a:pt x="90148" y="343687"/>
                  <a:pt x="89620" y="344093"/>
                  <a:pt x="89058" y="344508"/>
                </a:cubicBezTo>
                <a:cubicBezTo>
                  <a:pt x="88483" y="344910"/>
                  <a:pt x="87943" y="345274"/>
                  <a:pt x="87440" y="345568"/>
                </a:cubicBezTo>
                <a:cubicBezTo>
                  <a:pt x="86925" y="345881"/>
                  <a:pt x="86495" y="346016"/>
                  <a:pt x="86150" y="346016"/>
                </a:cubicBezTo>
                <a:lnTo>
                  <a:pt x="5747" y="346016"/>
                </a:lnTo>
                <a:cubicBezTo>
                  <a:pt x="4376" y="346016"/>
                  <a:pt x="3346" y="345559"/>
                  <a:pt x="2635" y="344630"/>
                </a:cubicBezTo>
                <a:cubicBezTo>
                  <a:pt x="1924" y="343715"/>
                  <a:pt x="1051" y="342950"/>
                  <a:pt x="0" y="342343"/>
                </a:cubicBezTo>
                <a:lnTo>
                  <a:pt x="0" y="317458"/>
                </a:lnTo>
                <a:cubicBezTo>
                  <a:pt x="0" y="315857"/>
                  <a:pt x="353" y="314098"/>
                  <a:pt x="1077" y="312189"/>
                </a:cubicBezTo>
                <a:cubicBezTo>
                  <a:pt x="1813" y="310243"/>
                  <a:pt x="2746" y="308414"/>
                  <a:pt x="3895" y="306654"/>
                </a:cubicBezTo>
                <a:cubicBezTo>
                  <a:pt x="5049" y="304895"/>
                  <a:pt x="6322" y="303308"/>
                  <a:pt x="7735" y="301884"/>
                </a:cubicBezTo>
                <a:cubicBezTo>
                  <a:pt x="9131" y="300489"/>
                  <a:pt x="10528" y="299546"/>
                  <a:pt x="11903" y="299117"/>
                </a:cubicBezTo>
                <a:cubicBezTo>
                  <a:pt x="12601" y="298874"/>
                  <a:pt x="13886" y="298580"/>
                  <a:pt x="15764" y="298258"/>
                </a:cubicBezTo>
                <a:cubicBezTo>
                  <a:pt x="17637" y="297931"/>
                  <a:pt x="19651" y="297623"/>
                  <a:pt x="21783" y="297315"/>
                </a:cubicBezTo>
                <a:cubicBezTo>
                  <a:pt x="23916" y="297021"/>
                  <a:pt x="25951" y="296737"/>
                  <a:pt x="27909" y="296499"/>
                </a:cubicBezTo>
                <a:cubicBezTo>
                  <a:pt x="29859" y="296228"/>
                  <a:pt x="31366" y="296027"/>
                  <a:pt x="32422" y="295836"/>
                </a:cubicBezTo>
                <a:cubicBezTo>
                  <a:pt x="28829" y="293311"/>
                  <a:pt x="26023" y="290021"/>
                  <a:pt x="23950" y="285974"/>
                </a:cubicBezTo>
                <a:cubicBezTo>
                  <a:pt x="21890" y="281919"/>
                  <a:pt x="20872" y="277508"/>
                  <a:pt x="20872" y="272739"/>
                </a:cubicBezTo>
                <a:cubicBezTo>
                  <a:pt x="20872" y="268977"/>
                  <a:pt x="21536" y="265416"/>
                  <a:pt x="22860" y="262098"/>
                </a:cubicBezTo>
                <a:cubicBezTo>
                  <a:pt x="24184" y="258780"/>
                  <a:pt x="25985" y="255863"/>
                  <a:pt x="28229" y="253347"/>
                </a:cubicBezTo>
                <a:cubicBezTo>
                  <a:pt x="30485" y="250850"/>
                  <a:pt x="33107" y="248862"/>
                  <a:pt x="36151" y="247411"/>
                </a:cubicBezTo>
                <a:cubicBezTo>
                  <a:pt x="39178" y="245945"/>
                  <a:pt x="42413" y="245208"/>
                  <a:pt x="45857" y="245208"/>
                </a:cubicBezTo>
                <a:close/>
                <a:moveTo>
                  <a:pt x="761507" y="242484"/>
                </a:moveTo>
                <a:lnTo>
                  <a:pt x="803052" y="284033"/>
                </a:lnTo>
                <a:lnTo>
                  <a:pt x="761507" y="325578"/>
                </a:lnTo>
                <a:lnTo>
                  <a:pt x="719958" y="284033"/>
                </a:lnTo>
                <a:lnTo>
                  <a:pt x="761507" y="242484"/>
                </a:lnTo>
                <a:close/>
                <a:moveTo>
                  <a:pt x="201297" y="192761"/>
                </a:moveTo>
                <a:cubicBezTo>
                  <a:pt x="210481" y="192761"/>
                  <a:pt x="219177" y="194749"/>
                  <a:pt x="227282" y="198700"/>
                </a:cubicBezTo>
                <a:cubicBezTo>
                  <a:pt x="235422" y="202613"/>
                  <a:pt x="242551" y="207973"/>
                  <a:pt x="248636" y="214704"/>
                </a:cubicBezTo>
                <a:cubicBezTo>
                  <a:pt x="254743" y="221486"/>
                  <a:pt x="259523" y="229349"/>
                  <a:pt x="263019" y="238295"/>
                </a:cubicBezTo>
                <a:cubicBezTo>
                  <a:pt x="266481" y="247241"/>
                  <a:pt x="268252" y="256841"/>
                  <a:pt x="268252" y="266982"/>
                </a:cubicBezTo>
                <a:cubicBezTo>
                  <a:pt x="268252" y="279627"/>
                  <a:pt x="265539" y="291442"/>
                  <a:pt x="260113" y="302489"/>
                </a:cubicBezTo>
                <a:cubicBezTo>
                  <a:pt x="254845" y="313536"/>
                  <a:pt x="247330" y="322482"/>
                  <a:pt x="237715" y="329289"/>
                </a:cubicBezTo>
                <a:cubicBezTo>
                  <a:pt x="240564" y="329792"/>
                  <a:pt x="244549" y="330345"/>
                  <a:pt x="249782" y="331063"/>
                </a:cubicBezTo>
                <a:cubicBezTo>
                  <a:pt x="254970" y="331717"/>
                  <a:pt x="260397" y="332484"/>
                  <a:pt x="266061" y="333277"/>
                </a:cubicBezTo>
                <a:cubicBezTo>
                  <a:pt x="271681" y="334107"/>
                  <a:pt x="276948" y="334938"/>
                  <a:pt x="281852" y="335806"/>
                </a:cubicBezTo>
                <a:cubicBezTo>
                  <a:pt x="286722" y="336687"/>
                  <a:pt x="290276" y="337479"/>
                  <a:pt x="292467" y="338134"/>
                </a:cubicBezTo>
                <a:cubicBezTo>
                  <a:pt x="296099" y="339291"/>
                  <a:pt x="299823" y="341757"/>
                  <a:pt x="303524" y="345419"/>
                </a:cubicBezTo>
                <a:cubicBezTo>
                  <a:pt x="307213" y="349143"/>
                  <a:pt x="310642" y="353421"/>
                  <a:pt x="313752" y="358240"/>
                </a:cubicBezTo>
                <a:cubicBezTo>
                  <a:pt x="316885" y="363096"/>
                  <a:pt x="319406" y="368092"/>
                  <a:pt x="321301" y="373338"/>
                </a:cubicBezTo>
                <a:cubicBezTo>
                  <a:pt x="323265" y="378484"/>
                  <a:pt x="324219" y="383228"/>
                  <a:pt x="324219" y="387543"/>
                </a:cubicBezTo>
                <a:lnTo>
                  <a:pt x="324219" y="454631"/>
                </a:lnTo>
                <a:cubicBezTo>
                  <a:pt x="323163" y="455147"/>
                  <a:pt x="322028" y="455902"/>
                  <a:pt x="320711" y="457059"/>
                </a:cubicBezTo>
                <a:cubicBezTo>
                  <a:pt x="319406" y="458254"/>
                  <a:pt x="317998" y="459349"/>
                  <a:pt x="316499" y="460469"/>
                </a:cubicBezTo>
                <a:cubicBezTo>
                  <a:pt x="314967" y="461551"/>
                  <a:pt x="313525" y="462532"/>
                  <a:pt x="312186" y="463325"/>
                </a:cubicBezTo>
                <a:cubicBezTo>
                  <a:pt x="310812" y="464168"/>
                  <a:pt x="309665" y="464533"/>
                  <a:pt x="308746" y="464533"/>
                </a:cubicBezTo>
                <a:lnTo>
                  <a:pt x="94336" y="464533"/>
                </a:lnTo>
                <a:cubicBezTo>
                  <a:pt x="90681" y="464533"/>
                  <a:pt x="87934" y="463300"/>
                  <a:pt x="86038" y="460796"/>
                </a:cubicBezTo>
                <a:cubicBezTo>
                  <a:pt x="84142" y="458330"/>
                  <a:pt x="81815" y="456266"/>
                  <a:pt x="79011" y="454631"/>
                </a:cubicBezTo>
                <a:lnTo>
                  <a:pt x="79011" y="387543"/>
                </a:lnTo>
                <a:cubicBezTo>
                  <a:pt x="79011" y="383228"/>
                  <a:pt x="79953" y="378484"/>
                  <a:pt x="81883" y="373338"/>
                </a:cubicBezTo>
                <a:cubicBezTo>
                  <a:pt x="83847" y="368092"/>
                  <a:pt x="86333" y="363159"/>
                  <a:pt x="89398" y="358416"/>
                </a:cubicBezTo>
                <a:cubicBezTo>
                  <a:pt x="92475" y="353673"/>
                  <a:pt x="95869" y="349395"/>
                  <a:pt x="99638" y="345557"/>
                </a:cubicBezTo>
                <a:cubicBezTo>
                  <a:pt x="103361" y="341795"/>
                  <a:pt x="107085" y="339254"/>
                  <a:pt x="110752" y="338096"/>
                </a:cubicBezTo>
                <a:cubicBezTo>
                  <a:pt x="112613" y="337442"/>
                  <a:pt x="116042" y="336649"/>
                  <a:pt x="121048" y="335781"/>
                </a:cubicBezTo>
                <a:cubicBezTo>
                  <a:pt x="126043" y="334900"/>
                  <a:pt x="131413" y="334070"/>
                  <a:pt x="137100" y="333239"/>
                </a:cubicBezTo>
                <a:cubicBezTo>
                  <a:pt x="142788" y="332447"/>
                  <a:pt x="148214" y="331679"/>
                  <a:pt x="153436" y="331037"/>
                </a:cubicBezTo>
                <a:cubicBezTo>
                  <a:pt x="158635" y="330308"/>
                  <a:pt x="162654" y="329767"/>
                  <a:pt x="165469" y="329251"/>
                </a:cubicBezTo>
                <a:cubicBezTo>
                  <a:pt x="155888" y="322444"/>
                  <a:pt x="148407" y="313574"/>
                  <a:pt x="142878" y="302665"/>
                </a:cubicBezTo>
                <a:cubicBezTo>
                  <a:pt x="137384" y="291731"/>
                  <a:pt x="134671" y="279841"/>
                  <a:pt x="134671" y="266982"/>
                </a:cubicBezTo>
                <a:cubicBezTo>
                  <a:pt x="134671" y="256841"/>
                  <a:pt x="136442" y="247241"/>
                  <a:pt x="139972" y="238295"/>
                </a:cubicBezTo>
                <a:cubicBezTo>
                  <a:pt x="143503" y="229349"/>
                  <a:pt x="148305" y="221486"/>
                  <a:pt x="154287" y="214704"/>
                </a:cubicBezTo>
                <a:cubicBezTo>
                  <a:pt x="160304" y="207973"/>
                  <a:pt x="167297" y="202613"/>
                  <a:pt x="175414" y="198700"/>
                </a:cubicBezTo>
                <a:cubicBezTo>
                  <a:pt x="183485" y="194749"/>
                  <a:pt x="192113" y="192761"/>
                  <a:pt x="201297" y="192761"/>
                </a:cubicBezTo>
                <a:close/>
                <a:moveTo>
                  <a:pt x="1088672" y="187993"/>
                </a:moveTo>
                <a:cubicBezTo>
                  <a:pt x="1092116" y="187993"/>
                  <a:pt x="1095377" y="188730"/>
                  <a:pt x="1098417" y="190196"/>
                </a:cubicBezTo>
                <a:cubicBezTo>
                  <a:pt x="1101469" y="191647"/>
                  <a:pt x="1104143" y="193635"/>
                  <a:pt x="1106424" y="196132"/>
                </a:cubicBezTo>
                <a:cubicBezTo>
                  <a:pt x="1108715" y="198648"/>
                  <a:pt x="1110507" y="201565"/>
                  <a:pt x="1111818" y="204883"/>
                </a:cubicBezTo>
                <a:cubicBezTo>
                  <a:pt x="1113117" y="208201"/>
                  <a:pt x="1113781" y="211762"/>
                  <a:pt x="1113781" y="215524"/>
                </a:cubicBezTo>
                <a:cubicBezTo>
                  <a:pt x="1113781" y="220214"/>
                  <a:pt x="1112763" y="224596"/>
                  <a:pt x="1110728" y="228694"/>
                </a:cubicBezTo>
                <a:cubicBezTo>
                  <a:pt x="1108753" y="232792"/>
                  <a:pt x="1105935" y="236110"/>
                  <a:pt x="1102329" y="238635"/>
                </a:cubicBezTo>
                <a:cubicBezTo>
                  <a:pt x="1103398" y="238822"/>
                  <a:pt x="1104892" y="239027"/>
                  <a:pt x="1106854" y="239293"/>
                </a:cubicBezTo>
                <a:cubicBezTo>
                  <a:pt x="1108800" y="239536"/>
                  <a:pt x="1110835" y="239820"/>
                  <a:pt x="1112959" y="240114"/>
                </a:cubicBezTo>
                <a:cubicBezTo>
                  <a:pt x="1115066" y="240422"/>
                  <a:pt x="1117042" y="240730"/>
                  <a:pt x="1118881" y="241052"/>
                </a:cubicBezTo>
                <a:cubicBezTo>
                  <a:pt x="1120707" y="241379"/>
                  <a:pt x="1122039" y="241673"/>
                  <a:pt x="1122861" y="241916"/>
                </a:cubicBezTo>
                <a:cubicBezTo>
                  <a:pt x="1124223" y="242345"/>
                  <a:pt x="1125620" y="243260"/>
                  <a:pt x="1127007" y="244618"/>
                </a:cubicBezTo>
                <a:cubicBezTo>
                  <a:pt x="1128391" y="245999"/>
                  <a:pt x="1129677" y="247586"/>
                  <a:pt x="1130843" y="249374"/>
                </a:cubicBezTo>
                <a:cubicBezTo>
                  <a:pt x="1132018" y="251175"/>
                  <a:pt x="1132963" y="253028"/>
                  <a:pt x="1133674" y="254974"/>
                </a:cubicBezTo>
                <a:cubicBezTo>
                  <a:pt x="1134411" y="256883"/>
                  <a:pt x="1134768" y="258642"/>
                  <a:pt x="1134768" y="260243"/>
                </a:cubicBezTo>
                <a:lnTo>
                  <a:pt x="1134768" y="285128"/>
                </a:lnTo>
                <a:cubicBezTo>
                  <a:pt x="1134372" y="285319"/>
                  <a:pt x="1133947" y="285599"/>
                  <a:pt x="1133453" y="286029"/>
                </a:cubicBezTo>
                <a:cubicBezTo>
                  <a:pt x="1132963" y="286472"/>
                  <a:pt x="1132435" y="286878"/>
                  <a:pt x="1131873" y="287293"/>
                </a:cubicBezTo>
                <a:cubicBezTo>
                  <a:pt x="1131299" y="287695"/>
                  <a:pt x="1130758" y="288059"/>
                  <a:pt x="1130256" y="288353"/>
                </a:cubicBezTo>
                <a:cubicBezTo>
                  <a:pt x="1129741" y="288666"/>
                  <a:pt x="1129311" y="288801"/>
                  <a:pt x="1128966" y="288801"/>
                </a:cubicBezTo>
                <a:lnTo>
                  <a:pt x="1048562" y="288801"/>
                </a:lnTo>
                <a:cubicBezTo>
                  <a:pt x="1047191" y="288801"/>
                  <a:pt x="1046161" y="288344"/>
                  <a:pt x="1045450" y="287415"/>
                </a:cubicBezTo>
                <a:cubicBezTo>
                  <a:pt x="1044739" y="286500"/>
                  <a:pt x="1043867" y="285735"/>
                  <a:pt x="1042815" y="285128"/>
                </a:cubicBezTo>
                <a:lnTo>
                  <a:pt x="1042815" y="260243"/>
                </a:lnTo>
                <a:cubicBezTo>
                  <a:pt x="1042815" y="258642"/>
                  <a:pt x="1043168" y="256883"/>
                  <a:pt x="1043892" y="254974"/>
                </a:cubicBezTo>
                <a:cubicBezTo>
                  <a:pt x="1044629" y="253028"/>
                  <a:pt x="1045561" y="251199"/>
                  <a:pt x="1046710" y="249439"/>
                </a:cubicBezTo>
                <a:cubicBezTo>
                  <a:pt x="1047864" y="247680"/>
                  <a:pt x="1049137" y="246093"/>
                  <a:pt x="1050550" y="244669"/>
                </a:cubicBezTo>
                <a:cubicBezTo>
                  <a:pt x="1051947" y="243274"/>
                  <a:pt x="1053343" y="242331"/>
                  <a:pt x="1054718" y="241902"/>
                </a:cubicBezTo>
                <a:cubicBezTo>
                  <a:pt x="1055416" y="241659"/>
                  <a:pt x="1056702" y="241365"/>
                  <a:pt x="1058579" y="241043"/>
                </a:cubicBezTo>
                <a:cubicBezTo>
                  <a:pt x="1060452" y="240716"/>
                  <a:pt x="1062466" y="240408"/>
                  <a:pt x="1064599" y="240100"/>
                </a:cubicBezTo>
                <a:cubicBezTo>
                  <a:pt x="1066731" y="239806"/>
                  <a:pt x="1068766" y="239522"/>
                  <a:pt x="1070725" y="239284"/>
                </a:cubicBezTo>
                <a:cubicBezTo>
                  <a:pt x="1072674" y="239013"/>
                  <a:pt x="1074181" y="238812"/>
                  <a:pt x="1075237" y="238621"/>
                </a:cubicBezTo>
                <a:cubicBezTo>
                  <a:pt x="1071644" y="236096"/>
                  <a:pt x="1068839" y="232806"/>
                  <a:pt x="1066765" y="228759"/>
                </a:cubicBezTo>
                <a:cubicBezTo>
                  <a:pt x="1064705" y="224704"/>
                  <a:pt x="1063688" y="220293"/>
                  <a:pt x="1063688" y="215524"/>
                </a:cubicBezTo>
                <a:cubicBezTo>
                  <a:pt x="1063688" y="211762"/>
                  <a:pt x="1064352" y="208201"/>
                  <a:pt x="1065676" y="204883"/>
                </a:cubicBezTo>
                <a:cubicBezTo>
                  <a:pt x="1067000" y="201565"/>
                  <a:pt x="1068800" y="198648"/>
                  <a:pt x="1071044" y="196132"/>
                </a:cubicBezTo>
                <a:cubicBezTo>
                  <a:pt x="1073300" y="193635"/>
                  <a:pt x="1075922" y="191647"/>
                  <a:pt x="1078966" y="190196"/>
                </a:cubicBezTo>
                <a:cubicBezTo>
                  <a:pt x="1081993" y="188730"/>
                  <a:pt x="1085228" y="187993"/>
                  <a:pt x="1088672" y="187993"/>
                </a:cubicBezTo>
                <a:close/>
                <a:moveTo>
                  <a:pt x="559892" y="181181"/>
                </a:moveTo>
                <a:lnTo>
                  <a:pt x="601437" y="222730"/>
                </a:lnTo>
                <a:lnTo>
                  <a:pt x="559892" y="264275"/>
                </a:lnTo>
                <a:lnTo>
                  <a:pt x="518343" y="222730"/>
                </a:lnTo>
                <a:lnTo>
                  <a:pt x="559892" y="181181"/>
                </a:lnTo>
                <a:close/>
                <a:moveTo>
                  <a:pt x="1255153" y="140314"/>
                </a:moveTo>
                <a:cubicBezTo>
                  <a:pt x="1260255" y="140314"/>
                  <a:pt x="1265086" y="141400"/>
                  <a:pt x="1269589" y="143559"/>
                </a:cubicBezTo>
                <a:cubicBezTo>
                  <a:pt x="1274111" y="145697"/>
                  <a:pt x="1278072" y="148625"/>
                  <a:pt x="1281452" y="152303"/>
                </a:cubicBezTo>
                <a:cubicBezTo>
                  <a:pt x="1284845" y="156008"/>
                  <a:pt x="1287501" y="160305"/>
                  <a:pt x="1289443" y="165192"/>
                </a:cubicBezTo>
                <a:cubicBezTo>
                  <a:pt x="1291367" y="170080"/>
                  <a:pt x="1292351" y="175325"/>
                  <a:pt x="1292351" y="180866"/>
                </a:cubicBezTo>
                <a:cubicBezTo>
                  <a:pt x="1292351" y="187775"/>
                  <a:pt x="1290843" y="194223"/>
                  <a:pt x="1287829" y="200265"/>
                </a:cubicBezTo>
                <a:cubicBezTo>
                  <a:pt x="1284902" y="206301"/>
                  <a:pt x="1280727" y="211189"/>
                  <a:pt x="1275385" y="214908"/>
                </a:cubicBezTo>
                <a:cubicBezTo>
                  <a:pt x="1276968" y="215183"/>
                  <a:pt x="1279182" y="215485"/>
                  <a:pt x="1282089" y="215877"/>
                </a:cubicBezTo>
                <a:cubicBezTo>
                  <a:pt x="1284972" y="216235"/>
                  <a:pt x="1287986" y="216654"/>
                  <a:pt x="1291133" y="217087"/>
                </a:cubicBezTo>
                <a:cubicBezTo>
                  <a:pt x="1294255" y="217541"/>
                  <a:pt x="1297182" y="217995"/>
                  <a:pt x="1299906" y="218469"/>
                </a:cubicBezTo>
                <a:cubicBezTo>
                  <a:pt x="1302612" y="218950"/>
                  <a:pt x="1304586" y="219383"/>
                  <a:pt x="1305803" y="219741"/>
                </a:cubicBezTo>
                <a:cubicBezTo>
                  <a:pt x="1307821" y="220373"/>
                  <a:pt x="1309890" y="221720"/>
                  <a:pt x="1311946" y="223721"/>
                </a:cubicBezTo>
                <a:cubicBezTo>
                  <a:pt x="1313996" y="225756"/>
                  <a:pt x="1315900" y="228093"/>
                  <a:pt x="1317628" y="230726"/>
                </a:cubicBezTo>
                <a:cubicBezTo>
                  <a:pt x="1319369" y="233379"/>
                  <a:pt x="1320769" y="236109"/>
                  <a:pt x="1321822" y="238975"/>
                </a:cubicBezTo>
                <a:cubicBezTo>
                  <a:pt x="1322913" y="241787"/>
                  <a:pt x="1323443" y="244379"/>
                  <a:pt x="1323443" y="246736"/>
                </a:cubicBezTo>
                <a:lnTo>
                  <a:pt x="1323443" y="283391"/>
                </a:lnTo>
                <a:cubicBezTo>
                  <a:pt x="1322857" y="283673"/>
                  <a:pt x="1322226" y="284085"/>
                  <a:pt x="1321494" y="284717"/>
                </a:cubicBezTo>
                <a:cubicBezTo>
                  <a:pt x="1320769" y="285371"/>
                  <a:pt x="1319987" y="285969"/>
                  <a:pt x="1319155" y="286580"/>
                </a:cubicBezTo>
                <a:cubicBezTo>
                  <a:pt x="1318303" y="287172"/>
                  <a:pt x="1317502" y="287708"/>
                  <a:pt x="1316758" y="288141"/>
                </a:cubicBezTo>
                <a:cubicBezTo>
                  <a:pt x="1315995" y="288602"/>
                  <a:pt x="1315358" y="288794"/>
                  <a:pt x="1314847" y="288794"/>
                </a:cubicBezTo>
                <a:lnTo>
                  <a:pt x="1195730" y="288794"/>
                </a:lnTo>
                <a:cubicBezTo>
                  <a:pt x="1193700" y="288794"/>
                  <a:pt x="1192173" y="288127"/>
                  <a:pt x="1191120" y="286759"/>
                </a:cubicBezTo>
                <a:cubicBezTo>
                  <a:pt x="1190067" y="285412"/>
                  <a:pt x="1188774" y="284284"/>
                  <a:pt x="1187216" y="283391"/>
                </a:cubicBezTo>
                <a:lnTo>
                  <a:pt x="1187216" y="246736"/>
                </a:lnTo>
                <a:cubicBezTo>
                  <a:pt x="1187216" y="244379"/>
                  <a:pt x="1187740" y="241787"/>
                  <a:pt x="1188812" y="238975"/>
                </a:cubicBezTo>
                <a:cubicBezTo>
                  <a:pt x="1189903" y="236109"/>
                  <a:pt x="1191284" y="233414"/>
                  <a:pt x="1192987" y="230822"/>
                </a:cubicBezTo>
                <a:cubicBezTo>
                  <a:pt x="1194696" y="228231"/>
                  <a:pt x="1196582" y="225893"/>
                  <a:pt x="1198676" y="223797"/>
                </a:cubicBezTo>
                <a:cubicBezTo>
                  <a:pt x="1200744" y="221741"/>
                  <a:pt x="1202813" y="220352"/>
                  <a:pt x="1204850" y="219720"/>
                </a:cubicBezTo>
                <a:cubicBezTo>
                  <a:pt x="1205884" y="219363"/>
                  <a:pt x="1207789" y="218929"/>
                  <a:pt x="1210570" y="218455"/>
                </a:cubicBezTo>
                <a:cubicBezTo>
                  <a:pt x="1213345" y="217974"/>
                  <a:pt x="1216328" y="217520"/>
                  <a:pt x="1219488" y="217067"/>
                </a:cubicBezTo>
                <a:cubicBezTo>
                  <a:pt x="1222648" y="216633"/>
                  <a:pt x="1225662" y="216214"/>
                  <a:pt x="1228564" y="215864"/>
                </a:cubicBezTo>
                <a:cubicBezTo>
                  <a:pt x="1231452" y="215465"/>
                  <a:pt x="1233685" y="215169"/>
                  <a:pt x="1235249" y="214887"/>
                </a:cubicBezTo>
                <a:cubicBezTo>
                  <a:pt x="1229926" y="211168"/>
                  <a:pt x="1225770" y="206322"/>
                  <a:pt x="1222698" y="200362"/>
                </a:cubicBezTo>
                <a:cubicBezTo>
                  <a:pt x="1219646" y="194388"/>
                  <a:pt x="1218138" y="187892"/>
                  <a:pt x="1218138" y="180866"/>
                </a:cubicBezTo>
                <a:cubicBezTo>
                  <a:pt x="1218138" y="175325"/>
                  <a:pt x="1219122" y="170080"/>
                  <a:pt x="1221084" y="165192"/>
                </a:cubicBezTo>
                <a:cubicBezTo>
                  <a:pt x="1223045" y="160305"/>
                  <a:pt x="1225713" y="156008"/>
                  <a:pt x="1229037" y="152303"/>
                </a:cubicBezTo>
                <a:cubicBezTo>
                  <a:pt x="1232379" y="148625"/>
                  <a:pt x="1236264" y="145697"/>
                  <a:pt x="1240767" y="143559"/>
                </a:cubicBezTo>
                <a:cubicBezTo>
                  <a:pt x="1245258" y="141400"/>
                  <a:pt x="1250051" y="140314"/>
                  <a:pt x="1255153" y="140314"/>
                </a:cubicBezTo>
                <a:close/>
                <a:moveTo>
                  <a:pt x="879684" y="128053"/>
                </a:moveTo>
                <a:lnTo>
                  <a:pt x="921569" y="169943"/>
                </a:lnTo>
                <a:lnTo>
                  <a:pt x="879684" y="211829"/>
                </a:lnTo>
                <a:lnTo>
                  <a:pt x="837794" y="169943"/>
                </a:lnTo>
                <a:lnTo>
                  <a:pt x="879684" y="128053"/>
                </a:lnTo>
                <a:close/>
                <a:moveTo>
                  <a:pt x="362703" y="115112"/>
                </a:moveTo>
                <a:lnTo>
                  <a:pt x="430476" y="182884"/>
                </a:lnTo>
                <a:lnTo>
                  <a:pt x="362703" y="250657"/>
                </a:lnTo>
                <a:lnTo>
                  <a:pt x="294930" y="182884"/>
                </a:lnTo>
                <a:lnTo>
                  <a:pt x="362703" y="115112"/>
                </a:lnTo>
                <a:close/>
                <a:moveTo>
                  <a:pt x="703095" y="61302"/>
                </a:moveTo>
                <a:cubicBezTo>
                  <a:pt x="708172" y="61302"/>
                  <a:pt x="712979" y="62393"/>
                  <a:pt x="717460" y="64562"/>
                </a:cubicBezTo>
                <a:cubicBezTo>
                  <a:pt x="721959" y="66709"/>
                  <a:pt x="725900" y="69651"/>
                  <a:pt x="729263" y="73346"/>
                </a:cubicBezTo>
                <a:cubicBezTo>
                  <a:pt x="732639" y="77068"/>
                  <a:pt x="735281" y="81384"/>
                  <a:pt x="737214" y="86294"/>
                </a:cubicBezTo>
                <a:cubicBezTo>
                  <a:pt x="739128" y="91205"/>
                  <a:pt x="740107" y="96474"/>
                  <a:pt x="740107" y="102040"/>
                </a:cubicBezTo>
                <a:cubicBezTo>
                  <a:pt x="740107" y="108980"/>
                  <a:pt x="738607" y="115458"/>
                  <a:pt x="735608" y="121528"/>
                </a:cubicBezTo>
                <a:cubicBezTo>
                  <a:pt x="732696" y="127592"/>
                  <a:pt x="728542" y="132502"/>
                  <a:pt x="723227" y="136238"/>
                </a:cubicBezTo>
                <a:cubicBezTo>
                  <a:pt x="724802" y="136514"/>
                  <a:pt x="727004" y="136818"/>
                  <a:pt x="729897" y="137212"/>
                </a:cubicBezTo>
                <a:cubicBezTo>
                  <a:pt x="732765" y="137571"/>
                  <a:pt x="735765" y="137992"/>
                  <a:pt x="738896" y="138427"/>
                </a:cubicBezTo>
                <a:cubicBezTo>
                  <a:pt x="742002" y="138883"/>
                  <a:pt x="744914" y="139339"/>
                  <a:pt x="747625" y="139815"/>
                </a:cubicBezTo>
                <a:cubicBezTo>
                  <a:pt x="750317" y="140299"/>
                  <a:pt x="752281" y="140734"/>
                  <a:pt x="753492" y="141093"/>
                </a:cubicBezTo>
                <a:cubicBezTo>
                  <a:pt x="755500" y="141728"/>
                  <a:pt x="757559" y="143082"/>
                  <a:pt x="759604" y="145091"/>
                </a:cubicBezTo>
                <a:cubicBezTo>
                  <a:pt x="761644" y="147136"/>
                  <a:pt x="763539" y="149484"/>
                  <a:pt x="765258" y="152129"/>
                </a:cubicBezTo>
                <a:cubicBezTo>
                  <a:pt x="766990" y="154794"/>
                  <a:pt x="768383" y="157536"/>
                  <a:pt x="769431" y="160416"/>
                </a:cubicBezTo>
                <a:cubicBezTo>
                  <a:pt x="770517" y="163240"/>
                  <a:pt x="771044" y="165844"/>
                  <a:pt x="771044" y="168213"/>
                </a:cubicBezTo>
                <a:lnTo>
                  <a:pt x="771044" y="205035"/>
                </a:lnTo>
                <a:cubicBezTo>
                  <a:pt x="770461" y="205318"/>
                  <a:pt x="769833" y="205732"/>
                  <a:pt x="769105" y="206368"/>
                </a:cubicBezTo>
                <a:cubicBezTo>
                  <a:pt x="768383" y="207024"/>
                  <a:pt x="767605" y="207625"/>
                  <a:pt x="766777" y="208239"/>
                </a:cubicBezTo>
                <a:cubicBezTo>
                  <a:pt x="765930" y="208833"/>
                  <a:pt x="765133" y="209372"/>
                  <a:pt x="764392" y="209807"/>
                </a:cubicBezTo>
                <a:cubicBezTo>
                  <a:pt x="763633" y="210270"/>
                  <a:pt x="762999" y="210463"/>
                  <a:pt x="762491" y="210463"/>
                </a:cubicBezTo>
                <a:lnTo>
                  <a:pt x="643969" y="210463"/>
                </a:lnTo>
                <a:cubicBezTo>
                  <a:pt x="641949" y="210463"/>
                  <a:pt x="640430" y="209793"/>
                  <a:pt x="639382" y="208419"/>
                </a:cubicBezTo>
                <a:cubicBezTo>
                  <a:pt x="638334" y="207065"/>
                  <a:pt x="637048" y="205933"/>
                  <a:pt x="635498" y="205035"/>
                </a:cubicBezTo>
                <a:lnTo>
                  <a:pt x="635498" y="168213"/>
                </a:lnTo>
                <a:cubicBezTo>
                  <a:pt x="635498" y="165844"/>
                  <a:pt x="636019" y="163240"/>
                  <a:pt x="637086" y="160416"/>
                </a:cubicBezTo>
                <a:cubicBezTo>
                  <a:pt x="638171" y="157536"/>
                  <a:pt x="639545" y="154829"/>
                  <a:pt x="641240" y="152225"/>
                </a:cubicBezTo>
                <a:cubicBezTo>
                  <a:pt x="642940" y="149622"/>
                  <a:pt x="644817" y="147274"/>
                  <a:pt x="646900" y="145167"/>
                </a:cubicBezTo>
                <a:cubicBezTo>
                  <a:pt x="648958" y="143103"/>
                  <a:pt x="651017" y="141708"/>
                  <a:pt x="653044" y="141072"/>
                </a:cubicBezTo>
                <a:cubicBezTo>
                  <a:pt x="654073" y="140713"/>
                  <a:pt x="655968" y="140278"/>
                  <a:pt x="658735" y="139802"/>
                </a:cubicBezTo>
                <a:cubicBezTo>
                  <a:pt x="661496" y="139318"/>
                  <a:pt x="664465" y="138862"/>
                  <a:pt x="667608" y="138407"/>
                </a:cubicBezTo>
                <a:cubicBezTo>
                  <a:pt x="670752" y="137971"/>
                  <a:pt x="673752" y="137550"/>
                  <a:pt x="676639" y="137198"/>
                </a:cubicBezTo>
                <a:cubicBezTo>
                  <a:pt x="679513" y="136797"/>
                  <a:pt x="681734" y="136500"/>
                  <a:pt x="683291" y="136217"/>
                </a:cubicBezTo>
                <a:cubicBezTo>
                  <a:pt x="677994" y="132481"/>
                  <a:pt x="673859" y="127613"/>
                  <a:pt x="670803" y="121625"/>
                </a:cubicBezTo>
                <a:cubicBezTo>
                  <a:pt x="667765" y="115624"/>
                  <a:pt x="666266" y="109098"/>
                  <a:pt x="666266" y="102040"/>
                </a:cubicBezTo>
                <a:cubicBezTo>
                  <a:pt x="666266" y="96474"/>
                  <a:pt x="667245" y="91205"/>
                  <a:pt x="669196" y="86294"/>
                </a:cubicBezTo>
                <a:cubicBezTo>
                  <a:pt x="671148" y="81384"/>
                  <a:pt x="673802" y="77068"/>
                  <a:pt x="677109" y="73346"/>
                </a:cubicBezTo>
                <a:cubicBezTo>
                  <a:pt x="680435" y="69651"/>
                  <a:pt x="684301" y="66709"/>
                  <a:pt x="688782" y="64562"/>
                </a:cubicBezTo>
                <a:cubicBezTo>
                  <a:pt x="693250" y="62393"/>
                  <a:pt x="698019" y="61302"/>
                  <a:pt x="703095" y="61302"/>
                </a:cubicBezTo>
                <a:close/>
                <a:moveTo>
                  <a:pt x="505622" y="43593"/>
                </a:moveTo>
                <a:cubicBezTo>
                  <a:pt x="509066" y="43593"/>
                  <a:pt x="512327" y="44330"/>
                  <a:pt x="515367" y="45796"/>
                </a:cubicBezTo>
                <a:cubicBezTo>
                  <a:pt x="518419" y="47247"/>
                  <a:pt x="521092" y="49235"/>
                  <a:pt x="523374" y="51732"/>
                </a:cubicBezTo>
                <a:cubicBezTo>
                  <a:pt x="525665" y="54248"/>
                  <a:pt x="527457" y="57165"/>
                  <a:pt x="528768" y="60483"/>
                </a:cubicBezTo>
                <a:cubicBezTo>
                  <a:pt x="530066" y="63801"/>
                  <a:pt x="530730" y="67362"/>
                  <a:pt x="530730" y="71124"/>
                </a:cubicBezTo>
                <a:cubicBezTo>
                  <a:pt x="530730" y="75814"/>
                  <a:pt x="529713" y="80196"/>
                  <a:pt x="527678" y="84294"/>
                </a:cubicBezTo>
                <a:cubicBezTo>
                  <a:pt x="525703" y="88392"/>
                  <a:pt x="522885" y="91710"/>
                  <a:pt x="519279" y="94235"/>
                </a:cubicBezTo>
                <a:cubicBezTo>
                  <a:pt x="520347" y="94422"/>
                  <a:pt x="521842" y="94627"/>
                  <a:pt x="523804" y="94893"/>
                </a:cubicBezTo>
                <a:cubicBezTo>
                  <a:pt x="525750" y="95136"/>
                  <a:pt x="527785" y="95420"/>
                  <a:pt x="529909" y="95714"/>
                </a:cubicBezTo>
                <a:cubicBezTo>
                  <a:pt x="532016" y="96022"/>
                  <a:pt x="533991" y="96330"/>
                  <a:pt x="535830" y="96652"/>
                </a:cubicBezTo>
                <a:cubicBezTo>
                  <a:pt x="537657" y="96979"/>
                  <a:pt x="538989" y="97273"/>
                  <a:pt x="539811" y="97516"/>
                </a:cubicBezTo>
                <a:cubicBezTo>
                  <a:pt x="541173" y="97945"/>
                  <a:pt x="542569" y="98860"/>
                  <a:pt x="543957" y="100218"/>
                </a:cubicBezTo>
                <a:cubicBezTo>
                  <a:pt x="545341" y="101599"/>
                  <a:pt x="546626" y="103186"/>
                  <a:pt x="547793" y="104974"/>
                </a:cubicBezTo>
                <a:cubicBezTo>
                  <a:pt x="548968" y="106775"/>
                  <a:pt x="549913" y="108628"/>
                  <a:pt x="550624" y="110574"/>
                </a:cubicBezTo>
                <a:cubicBezTo>
                  <a:pt x="551360" y="112483"/>
                  <a:pt x="551718" y="114242"/>
                  <a:pt x="551718" y="115843"/>
                </a:cubicBezTo>
                <a:lnTo>
                  <a:pt x="551718" y="140728"/>
                </a:lnTo>
                <a:cubicBezTo>
                  <a:pt x="551322" y="140919"/>
                  <a:pt x="550896" y="141199"/>
                  <a:pt x="550402" y="141629"/>
                </a:cubicBezTo>
                <a:cubicBezTo>
                  <a:pt x="549913" y="142072"/>
                  <a:pt x="549385" y="142478"/>
                  <a:pt x="548823" y="142893"/>
                </a:cubicBezTo>
                <a:cubicBezTo>
                  <a:pt x="548248" y="143295"/>
                  <a:pt x="547708" y="143659"/>
                  <a:pt x="547205" y="143953"/>
                </a:cubicBezTo>
                <a:cubicBezTo>
                  <a:pt x="546690" y="144266"/>
                  <a:pt x="546260" y="144401"/>
                  <a:pt x="545915" y="144401"/>
                </a:cubicBezTo>
                <a:lnTo>
                  <a:pt x="465512" y="144401"/>
                </a:lnTo>
                <a:cubicBezTo>
                  <a:pt x="464141" y="144401"/>
                  <a:pt x="463111" y="143944"/>
                  <a:pt x="462400" y="143015"/>
                </a:cubicBezTo>
                <a:cubicBezTo>
                  <a:pt x="461689" y="142100"/>
                  <a:pt x="460816" y="141335"/>
                  <a:pt x="459765" y="140728"/>
                </a:cubicBezTo>
                <a:lnTo>
                  <a:pt x="459765" y="115843"/>
                </a:lnTo>
                <a:cubicBezTo>
                  <a:pt x="459765" y="114242"/>
                  <a:pt x="460118" y="112483"/>
                  <a:pt x="460842" y="110574"/>
                </a:cubicBezTo>
                <a:cubicBezTo>
                  <a:pt x="461578" y="108628"/>
                  <a:pt x="462511" y="106799"/>
                  <a:pt x="463660" y="105039"/>
                </a:cubicBezTo>
                <a:cubicBezTo>
                  <a:pt x="464814" y="103280"/>
                  <a:pt x="466087" y="101693"/>
                  <a:pt x="467500" y="100269"/>
                </a:cubicBezTo>
                <a:cubicBezTo>
                  <a:pt x="468896" y="98874"/>
                  <a:pt x="470293" y="97931"/>
                  <a:pt x="471668" y="97502"/>
                </a:cubicBezTo>
                <a:cubicBezTo>
                  <a:pt x="472366" y="97259"/>
                  <a:pt x="473651" y="96965"/>
                  <a:pt x="475529" y="96643"/>
                </a:cubicBezTo>
                <a:cubicBezTo>
                  <a:pt x="477402" y="96316"/>
                  <a:pt x="479416" y="96008"/>
                  <a:pt x="481548" y="95700"/>
                </a:cubicBezTo>
                <a:cubicBezTo>
                  <a:pt x="483681" y="95406"/>
                  <a:pt x="485716" y="95122"/>
                  <a:pt x="487674" y="94884"/>
                </a:cubicBezTo>
                <a:cubicBezTo>
                  <a:pt x="489624" y="94613"/>
                  <a:pt x="491131" y="94412"/>
                  <a:pt x="492187" y="94221"/>
                </a:cubicBezTo>
                <a:cubicBezTo>
                  <a:pt x="488594" y="91696"/>
                  <a:pt x="485788" y="88406"/>
                  <a:pt x="483715" y="84359"/>
                </a:cubicBezTo>
                <a:cubicBezTo>
                  <a:pt x="481655" y="80304"/>
                  <a:pt x="480637" y="75893"/>
                  <a:pt x="480637" y="71124"/>
                </a:cubicBezTo>
                <a:cubicBezTo>
                  <a:pt x="480637" y="67362"/>
                  <a:pt x="481301" y="63801"/>
                  <a:pt x="482625" y="60483"/>
                </a:cubicBezTo>
                <a:cubicBezTo>
                  <a:pt x="483949" y="57165"/>
                  <a:pt x="485750" y="54248"/>
                  <a:pt x="487994" y="51732"/>
                </a:cubicBezTo>
                <a:cubicBezTo>
                  <a:pt x="490250" y="49235"/>
                  <a:pt x="492872" y="47247"/>
                  <a:pt x="495916" y="45796"/>
                </a:cubicBezTo>
                <a:cubicBezTo>
                  <a:pt x="498943" y="44330"/>
                  <a:pt x="502178" y="43593"/>
                  <a:pt x="505622" y="43593"/>
                </a:cubicBezTo>
                <a:close/>
                <a:moveTo>
                  <a:pt x="1014429" y="39506"/>
                </a:moveTo>
                <a:cubicBezTo>
                  <a:pt x="1017873" y="39506"/>
                  <a:pt x="1021134" y="40243"/>
                  <a:pt x="1024174" y="41709"/>
                </a:cubicBezTo>
                <a:cubicBezTo>
                  <a:pt x="1027226" y="43160"/>
                  <a:pt x="1029900" y="45148"/>
                  <a:pt x="1032181" y="47645"/>
                </a:cubicBezTo>
                <a:cubicBezTo>
                  <a:pt x="1034472" y="50161"/>
                  <a:pt x="1036264" y="53078"/>
                  <a:pt x="1037575" y="56396"/>
                </a:cubicBezTo>
                <a:cubicBezTo>
                  <a:pt x="1038874" y="59714"/>
                  <a:pt x="1039538" y="63275"/>
                  <a:pt x="1039538" y="67037"/>
                </a:cubicBezTo>
                <a:cubicBezTo>
                  <a:pt x="1039538" y="71727"/>
                  <a:pt x="1038520" y="76109"/>
                  <a:pt x="1036485" y="80207"/>
                </a:cubicBezTo>
                <a:cubicBezTo>
                  <a:pt x="1034510" y="84305"/>
                  <a:pt x="1031692" y="87623"/>
                  <a:pt x="1028086" y="90148"/>
                </a:cubicBezTo>
                <a:cubicBezTo>
                  <a:pt x="1029155" y="90335"/>
                  <a:pt x="1030649" y="90540"/>
                  <a:pt x="1032611" y="90806"/>
                </a:cubicBezTo>
                <a:cubicBezTo>
                  <a:pt x="1034557" y="91049"/>
                  <a:pt x="1036592" y="91333"/>
                  <a:pt x="1038716" y="91627"/>
                </a:cubicBezTo>
                <a:cubicBezTo>
                  <a:pt x="1040823" y="91935"/>
                  <a:pt x="1042799" y="92243"/>
                  <a:pt x="1044638" y="92565"/>
                </a:cubicBezTo>
                <a:cubicBezTo>
                  <a:pt x="1046464" y="92892"/>
                  <a:pt x="1047796" y="93186"/>
                  <a:pt x="1048618" y="93429"/>
                </a:cubicBezTo>
                <a:cubicBezTo>
                  <a:pt x="1049980" y="93858"/>
                  <a:pt x="1051377" y="94773"/>
                  <a:pt x="1052764" y="96131"/>
                </a:cubicBezTo>
                <a:cubicBezTo>
                  <a:pt x="1054148" y="97512"/>
                  <a:pt x="1055434" y="99099"/>
                  <a:pt x="1056600" y="100887"/>
                </a:cubicBezTo>
                <a:cubicBezTo>
                  <a:pt x="1057775" y="102688"/>
                  <a:pt x="1058720" y="104541"/>
                  <a:pt x="1059431" y="106487"/>
                </a:cubicBezTo>
                <a:cubicBezTo>
                  <a:pt x="1060168" y="108396"/>
                  <a:pt x="1060525" y="110155"/>
                  <a:pt x="1060525" y="111756"/>
                </a:cubicBezTo>
                <a:lnTo>
                  <a:pt x="1060525" y="136641"/>
                </a:lnTo>
                <a:cubicBezTo>
                  <a:pt x="1060129" y="136832"/>
                  <a:pt x="1059704" y="137112"/>
                  <a:pt x="1059210" y="137542"/>
                </a:cubicBezTo>
                <a:cubicBezTo>
                  <a:pt x="1058720" y="137985"/>
                  <a:pt x="1058192" y="138391"/>
                  <a:pt x="1057630" y="138806"/>
                </a:cubicBezTo>
                <a:cubicBezTo>
                  <a:pt x="1057056" y="139208"/>
                  <a:pt x="1056515" y="139572"/>
                  <a:pt x="1056013" y="139866"/>
                </a:cubicBezTo>
                <a:cubicBezTo>
                  <a:pt x="1055498" y="140179"/>
                  <a:pt x="1055068" y="140314"/>
                  <a:pt x="1054723" y="140314"/>
                </a:cubicBezTo>
                <a:lnTo>
                  <a:pt x="974319" y="140314"/>
                </a:lnTo>
                <a:cubicBezTo>
                  <a:pt x="972948" y="140314"/>
                  <a:pt x="971918" y="139857"/>
                  <a:pt x="971207" y="138928"/>
                </a:cubicBezTo>
                <a:cubicBezTo>
                  <a:pt x="970496" y="138013"/>
                  <a:pt x="969624" y="137248"/>
                  <a:pt x="968572" y="136641"/>
                </a:cubicBezTo>
                <a:lnTo>
                  <a:pt x="968572" y="111756"/>
                </a:lnTo>
                <a:cubicBezTo>
                  <a:pt x="968572" y="110155"/>
                  <a:pt x="968925" y="108396"/>
                  <a:pt x="969649" y="106487"/>
                </a:cubicBezTo>
                <a:cubicBezTo>
                  <a:pt x="970386" y="104541"/>
                  <a:pt x="971318" y="102712"/>
                  <a:pt x="972467" y="100952"/>
                </a:cubicBezTo>
                <a:cubicBezTo>
                  <a:pt x="973621" y="99193"/>
                  <a:pt x="974894" y="97606"/>
                  <a:pt x="976307" y="96182"/>
                </a:cubicBezTo>
                <a:cubicBezTo>
                  <a:pt x="977704" y="94787"/>
                  <a:pt x="979100" y="93844"/>
                  <a:pt x="980475" y="93415"/>
                </a:cubicBezTo>
                <a:cubicBezTo>
                  <a:pt x="981173" y="93172"/>
                  <a:pt x="982459" y="92878"/>
                  <a:pt x="984336" y="92556"/>
                </a:cubicBezTo>
                <a:cubicBezTo>
                  <a:pt x="986209" y="92229"/>
                  <a:pt x="988223" y="91921"/>
                  <a:pt x="990356" y="91613"/>
                </a:cubicBezTo>
                <a:cubicBezTo>
                  <a:pt x="992488" y="91319"/>
                  <a:pt x="994523" y="91035"/>
                  <a:pt x="996482" y="90797"/>
                </a:cubicBezTo>
                <a:cubicBezTo>
                  <a:pt x="998431" y="90526"/>
                  <a:pt x="999938" y="90325"/>
                  <a:pt x="1000994" y="90134"/>
                </a:cubicBezTo>
                <a:cubicBezTo>
                  <a:pt x="997401" y="87609"/>
                  <a:pt x="994596" y="84319"/>
                  <a:pt x="992522" y="80272"/>
                </a:cubicBezTo>
                <a:cubicBezTo>
                  <a:pt x="990462" y="76217"/>
                  <a:pt x="989445" y="71806"/>
                  <a:pt x="989445" y="67037"/>
                </a:cubicBezTo>
                <a:cubicBezTo>
                  <a:pt x="989445" y="63275"/>
                  <a:pt x="990109" y="59714"/>
                  <a:pt x="991433" y="56396"/>
                </a:cubicBezTo>
                <a:cubicBezTo>
                  <a:pt x="992757" y="53078"/>
                  <a:pt x="994557" y="50161"/>
                  <a:pt x="996801" y="47645"/>
                </a:cubicBezTo>
                <a:cubicBezTo>
                  <a:pt x="999057" y="45148"/>
                  <a:pt x="1001679" y="43160"/>
                  <a:pt x="1004723" y="41709"/>
                </a:cubicBezTo>
                <a:cubicBezTo>
                  <a:pt x="1007750" y="40243"/>
                  <a:pt x="1010985" y="39506"/>
                  <a:pt x="1014429" y="39506"/>
                </a:cubicBezTo>
                <a:close/>
                <a:moveTo>
                  <a:pt x="626562" y="17709"/>
                </a:moveTo>
                <a:cubicBezTo>
                  <a:pt x="628858" y="17709"/>
                  <a:pt x="631032" y="18222"/>
                  <a:pt x="633059" y="19242"/>
                </a:cubicBezTo>
                <a:cubicBezTo>
                  <a:pt x="635094" y="20252"/>
                  <a:pt x="636876" y="21636"/>
                  <a:pt x="638397" y="23373"/>
                </a:cubicBezTo>
                <a:cubicBezTo>
                  <a:pt x="639924" y="25124"/>
                  <a:pt x="641119" y="27154"/>
                  <a:pt x="641993" y="29463"/>
                </a:cubicBezTo>
                <a:cubicBezTo>
                  <a:pt x="642859" y="31773"/>
                  <a:pt x="643301" y="34251"/>
                  <a:pt x="643301" y="36869"/>
                </a:cubicBezTo>
                <a:cubicBezTo>
                  <a:pt x="643301" y="40133"/>
                  <a:pt x="642623" y="43183"/>
                  <a:pt x="641266" y="46035"/>
                </a:cubicBezTo>
                <a:cubicBezTo>
                  <a:pt x="639950" y="48887"/>
                  <a:pt x="638071" y="51196"/>
                  <a:pt x="635667" y="52953"/>
                </a:cubicBezTo>
                <a:cubicBezTo>
                  <a:pt x="636379" y="53083"/>
                  <a:pt x="637375" y="53226"/>
                  <a:pt x="638684" y="53411"/>
                </a:cubicBezTo>
                <a:cubicBezTo>
                  <a:pt x="639981" y="53580"/>
                  <a:pt x="641337" y="53778"/>
                  <a:pt x="642754" y="53983"/>
                </a:cubicBezTo>
                <a:cubicBezTo>
                  <a:pt x="644158" y="54197"/>
                  <a:pt x="645475" y="54411"/>
                  <a:pt x="646701" y="54636"/>
                </a:cubicBezTo>
                <a:cubicBezTo>
                  <a:pt x="647919" y="54863"/>
                  <a:pt x="648807" y="55068"/>
                  <a:pt x="649355" y="55236"/>
                </a:cubicBezTo>
                <a:cubicBezTo>
                  <a:pt x="650263" y="55535"/>
                  <a:pt x="651194" y="56172"/>
                  <a:pt x="652119" y="57117"/>
                </a:cubicBezTo>
                <a:cubicBezTo>
                  <a:pt x="653041" y="58078"/>
                  <a:pt x="653899" y="59183"/>
                  <a:pt x="654676" y="60427"/>
                </a:cubicBezTo>
                <a:cubicBezTo>
                  <a:pt x="655459" y="61680"/>
                  <a:pt x="656090" y="62970"/>
                  <a:pt x="656563" y="64324"/>
                </a:cubicBezTo>
                <a:cubicBezTo>
                  <a:pt x="657054" y="65653"/>
                  <a:pt x="657293" y="66877"/>
                  <a:pt x="657293" y="67991"/>
                </a:cubicBezTo>
                <a:lnTo>
                  <a:pt x="657293" y="85310"/>
                </a:lnTo>
                <a:cubicBezTo>
                  <a:pt x="657029" y="85443"/>
                  <a:pt x="656745" y="85638"/>
                  <a:pt x="656416" y="85937"/>
                </a:cubicBezTo>
                <a:cubicBezTo>
                  <a:pt x="656090" y="86245"/>
                  <a:pt x="655738" y="86528"/>
                  <a:pt x="655363" y="86817"/>
                </a:cubicBezTo>
                <a:cubicBezTo>
                  <a:pt x="654980" y="87096"/>
                  <a:pt x="654619" y="87349"/>
                  <a:pt x="654285" y="87554"/>
                </a:cubicBezTo>
                <a:cubicBezTo>
                  <a:pt x="653941" y="87772"/>
                  <a:pt x="653654" y="87863"/>
                  <a:pt x="653425" y="87863"/>
                </a:cubicBezTo>
                <a:lnTo>
                  <a:pt x="599822" y="87863"/>
                </a:lnTo>
                <a:cubicBezTo>
                  <a:pt x="598908" y="87863"/>
                  <a:pt x="598222" y="87548"/>
                  <a:pt x="597748" y="86901"/>
                </a:cubicBezTo>
                <a:cubicBezTo>
                  <a:pt x="597274" y="86265"/>
                  <a:pt x="596692" y="85732"/>
                  <a:pt x="595991" y="85310"/>
                </a:cubicBezTo>
                <a:lnTo>
                  <a:pt x="595991" y="67991"/>
                </a:lnTo>
                <a:cubicBezTo>
                  <a:pt x="595991" y="66877"/>
                  <a:pt x="596226" y="65653"/>
                  <a:pt x="596709" y="64324"/>
                </a:cubicBezTo>
                <a:cubicBezTo>
                  <a:pt x="597200" y="62970"/>
                  <a:pt x="597821" y="61697"/>
                  <a:pt x="598588" y="60472"/>
                </a:cubicBezTo>
                <a:cubicBezTo>
                  <a:pt x="599357" y="59248"/>
                  <a:pt x="600205" y="58143"/>
                  <a:pt x="601148" y="57153"/>
                </a:cubicBezTo>
                <a:cubicBezTo>
                  <a:pt x="602079" y="56182"/>
                  <a:pt x="603009" y="55526"/>
                  <a:pt x="603926" y="55227"/>
                </a:cubicBezTo>
                <a:cubicBezTo>
                  <a:pt x="604392" y="55058"/>
                  <a:pt x="605249" y="54853"/>
                  <a:pt x="606500" y="54629"/>
                </a:cubicBezTo>
                <a:cubicBezTo>
                  <a:pt x="607749" y="54402"/>
                  <a:pt x="609091" y="54187"/>
                  <a:pt x="610513" y="53973"/>
                </a:cubicBezTo>
                <a:cubicBezTo>
                  <a:pt x="611935" y="53768"/>
                  <a:pt x="613292" y="53570"/>
                  <a:pt x="614597" y="53405"/>
                </a:cubicBezTo>
                <a:cubicBezTo>
                  <a:pt x="615897" y="53216"/>
                  <a:pt x="616902" y="53077"/>
                  <a:pt x="617606" y="52943"/>
                </a:cubicBezTo>
                <a:cubicBezTo>
                  <a:pt x="615210" y="51186"/>
                  <a:pt x="613340" y="48896"/>
                  <a:pt x="611958" y="46080"/>
                </a:cubicBezTo>
                <a:cubicBezTo>
                  <a:pt x="610584" y="43258"/>
                  <a:pt x="609906" y="40188"/>
                  <a:pt x="609906" y="36869"/>
                </a:cubicBezTo>
                <a:cubicBezTo>
                  <a:pt x="609906" y="34251"/>
                  <a:pt x="610349" y="31773"/>
                  <a:pt x="611231" y="29463"/>
                </a:cubicBezTo>
                <a:cubicBezTo>
                  <a:pt x="612114" y="27154"/>
                  <a:pt x="613314" y="25124"/>
                  <a:pt x="614810" y="23373"/>
                </a:cubicBezTo>
                <a:cubicBezTo>
                  <a:pt x="616314" y="21636"/>
                  <a:pt x="618062" y="20252"/>
                  <a:pt x="620092" y="19242"/>
                </a:cubicBezTo>
                <a:cubicBezTo>
                  <a:pt x="622109" y="18222"/>
                  <a:pt x="624266" y="17709"/>
                  <a:pt x="626562" y="17709"/>
                </a:cubicBezTo>
                <a:close/>
                <a:moveTo>
                  <a:pt x="838696" y="0"/>
                </a:moveTo>
                <a:cubicBezTo>
                  <a:pt x="842140" y="0"/>
                  <a:pt x="845401" y="737"/>
                  <a:pt x="848441" y="2203"/>
                </a:cubicBezTo>
                <a:cubicBezTo>
                  <a:pt x="851493" y="3654"/>
                  <a:pt x="854167" y="5642"/>
                  <a:pt x="856448" y="8139"/>
                </a:cubicBezTo>
                <a:cubicBezTo>
                  <a:pt x="858739" y="10655"/>
                  <a:pt x="860531" y="13572"/>
                  <a:pt x="861842" y="16890"/>
                </a:cubicBezTo>
                <a:cubicBezTo>
                  <a:pt x="863141" y="20208"/>
                  <a:pt x="863805" y="23769"/>
                  <a:pt x="863805" y="27531"/>
                </a:cubicBezTo>
                <a:cubicBezTo>
                  <a:pt x="863805" y="32221"/>
                  <a:pt x="862787" y="36604"/>
                  <a:pt x="860752" y="40701"/>
                </a:cubicBezTo>
                <a:cubicBezTo>
                  <a:pt x="858777" y="44799"/>
                  <a:pt x="855959" y="48117"/>
                  <a:pt x="852353" y="50642"/>
                </a:cubicBezTo>
                <a:cubicBezTo>
                  <a:pt x="853422" y="50829"/>
                  <a:pt x="854916" y="51034"/>
                  <a:pt x="856878" y="51300"/>
                </a:cubicBezTo>
                <a:cubicBezTo>
                  <a:pt x="858824" y="51543"/>
                  <a:pt x="860859" y="51827"/>
                  <a:pt x="862983" y="52121"/>
                </a:cubicBezTo>
                <a:cubicBezTo>
                  <a:pt x="865090" y="52429"/>
                  <a:pt x="867066" y="52737"/>
                  <a:pt x="868905" y="53059"/>
                </a:cubicBezTo>
                <a:cubicBezTo>
                  <a:pt x="870731" y="53386"/>
                  <a:pt x="872063" y="53680"/>
                  <a:pt x="872885" y="53923"/>
                </a:cubicBezTo>
                <a:cubicBezTo>
                  <a:pt x="874247" y="54352"/>
                  <a:pt x="875644" y="55267"/>
                  <a:pt x="877031" y="56625"/>
                </a:cubicBezTo>
                <a:cubicBezTo>
                  <a:pt x="878415" y="58007"/>
                  <a:pt x="879701" y="59593"/>
                  <a:pt x="880867" y="61381"/>
                </a:cubicBezTo>
                <a:cubicBezTo>
                  <a:pt x="882042" y="63182"/>
                  <a:pt x="882987" y="65035"/>
                  <a:pt x="883698" y="66981"/>
                </a:cubicBezTo>
                <a:cubicBezTo>
                  <a:pt x="884435" y="68890"/>
                  <a:pt x="884792" y="70649"/>
                  <a:pt x="884792" y="72250"/>
                </a:cubicBezTo>
                <a:lnTo>
                  <a:pt x="884792" y="97135"/>
                </a:lnTo>
                <a:cubicBezTo>
                  <a:pt x="884396" y="97326"/>
                  <a:pt x="883971" y="97606"/>
                  <a:pt x="883477" y="98036"/>
                </a:cubicBezTo>
                <a:cubicBezTo>
                  <a:pt x="882987" y="98479"/>
                  <a:pt x="882459" y="98885"/>
                  <a:pt x="881897" y="99300"/>
                </a:cubicBezTo>
                <a:cubicBezTo>
                  <a:pt x="881323" y="99702"/>
                  <a:pt x="880782" y="100066"/>
                  <a:pt x="880280" y="100360"/>
                </a:cubicBezTo>
                <a:cubicBezTo>
                  <a:pt x="879765" y="100673"/>
                  <a:pt x="879335" y="100808"/>
                  <a:pt x="878990" y="100808"/>
                </a:cubicBezTo>
                <a:lnTo>
                  <a:pt x="798586" y="100808"/>
                </a:lnTo>
                <a:cubicBezTo>
                  <a:pt x="797215" y="100808"/>
                  <a:pt x="796185" y="100351"/>
                  <a:pt x="795474" y="99422"/>
                </a:cubicBezTo>
                <a:cubicBezTo>
                  <a:pt x="794763" y="98507"/>
                  <a:pt x="793891" y="97742"/>
                  <a:pt x="792839" y="97135"/>
                </a:cubicBezTo>
                <a:lnTo>
                  <a:pt x="792839" y="72250"/>
                </a:lnTo>
                <a:cubicBezTo>
                  <a:pt x="792839" y="70649"/>
                  <a:pt x="793192" y="68890"/>
                  <a:pt x="793916" y="66981"/>
                </a:cubicBezTo>
                <a:cubicBezTo>
                  <a:pt x="794653" y="65035"/>
                  <a:pt x="795585" y="63206"/>
                  <a:pt x="796734" y="61446"/>
                </a:cubicBezTo>
                <a:cubicBezTo>
                  <a:pt x="797888" y="59687"/>
                  <a:pt x="799161" y="58100"/>
                  <a:pt x="800574" y="56676"/>
                </a:cubicBezTo>
                <a:cubicBezTo>
                  <a:pt x="801971" y="55281"/>
                  <a:pt x="803367" y="54338"/>
                  <a:pt x="804742" y="53909"/>
                </a:cubicBezTo>
                <a:cubicBezTo>
                  <a:pt x="805440" y="53666"/>
                  <a:pt x="806726" y="53372"/>
                  <a:pt x="808603" y="53050"/>
                </a:cubicBezTo>
                <a:cubicBezTo>
                  <a:pt x="810476" y="52723"/>
                  <a:pt x="812490" y="52415"/>
                  <a:pt x="814623" y="52107"/>
                </a:cubicBezTo>
                <a:cubicBezTo>
                  <a:pt x="816755" y="51813"/>
                  <a:pt x="818790" y="51529"/>
                  <a:pt x="820749" y="51291"/>
                </a:cubicBezTo>
                <a:cubicBezTo>
                  <a:pt x="822698" y="51020"/>
                  <a:pt x="824205" y="50819"/>
                  <a:pt x="825261" y="50628"/>
                </a:cubicBezTo>
                <a:cubicBezTo>
                  <a:pt x="821668" y="48103"/>
                  <a:pt x="818863" y="44813"/>
                  <a:pt x="816789" y="40767"/>
                </a:cubicBezTo>
                <a:cubicBezTo>
                  <a:pt x="814729" y="36711"/>
                  <a:pt x="813712" y="32300"/>
                  <a:pt x="813712" y="27531"/>
                </a:cubicBezTo>
                <a:cubicBezTo>
                  <a:pt x="813712" y="23769"/>
                  <a:pt x="814376" y="20208"/>
                  <a:pt x="815700" y="16890"/>
                </a:cubicBezTo>
                <a:cubicBezTo>
                  <a:pt x="817024" y="13572"/>
                  <a:pt x="818824" y="10655"/>
                  <a:pt x="821068" y="8139"/>
                </a:cubicBezTo>
                <a:cubicBezTo>
                  <a:pt x="823324" y="5642"/>
                  <a:pt x="825946" y="3654"/>
                  <a:pt x="828990" y="2203"/>
                </a:cubicBezTo>
                <a:cubicBezTo>
                  <a:pt x="832017" y="737"/>
                  <a:pt x="835252" y="0"/>
                  <a:pt x="838696" y="0"/>
                </a:cubicBezTo>
                <a:close/>
              </a:path>
            </a:pathLst>
          </a:custGeom>
          <a:solidFill>
            <a:srgbClr val="1d087d"/>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21" name="任意多边形 278"/>
          <p:cNvSpPr/>
          <p:nvPr/>
        </p:nvSpPr>
        <p:spPr>
          <a:xfrm>
            <a:off x="8383680" y="2028960"/>
            <a:ext cx="1581120" cy="1908000"/>
          </a:xfrm>
          <a:custGeom>
            <a:avLst/>
            <a:gdLst/>
            <a:ahLst/>
            <a:rect l="l" t="t" r="r" b="b"/>
            <a:pathLst>
              <a:path w="1581592" h="1909210">
                <a:moveTo>
                  <a:pt x="705575" y="1830886"/>
                </a:moveTo>
                <a:cubicBezTo>
                  <a:pt x="707871" y="1830886"/>
                  <a:pt x="710044" y="1831394"/>
                  <a:pt x="712071" y="1832404"/>
                </a:cubicBezTo>
                <a:cubicBezTo>
                  <a:pt x="714106" y="1833405"/>
                  <a:pt x="715888" y="1834775"/>
                  <a:pt x="717409" y="1836496"/>
                </a:cubicBezTo>
                <a:cubicBezTo>
                  <a:pt x="718936" y="1838229"/>
                  <a:pt x="720131" y="1840240"/>
                  <a:pt x="721005" y="1842527"/>
                </a:cubicBezTo>
                <a:cubicBezTo>
                  <a:pt x="721871" y="1844813"/>
                  <a:pt x="722313" y="1847268"/>
                  <a:pt x="722313" y="1849860"/>
                </a:cubicBezTo>
                <a:cubicBezTo>
                  <a:pt x="722313" y="1853093"/>
                  <a:pt x="721635" y="1856113"/>
                  <a:pt x="720279" y="1858937"/>
                </a:cubicBezTo>
                <a:cubicBezTo>
                  <a:pt x="718962" y="1861761"/>
                  <a:pt x="717083" y="1864048"/>
                  <a:pt x="714679" y="1865788"/>
                </a:cubicBezTo>
                <a:cubicBezTo>
                  <a:pt x="715391" y="1865917"/>
                  <a:pt x="716388" y="1866058"/>
                  <a:pt x="717696" y="1866242"/>
                </a:cubicBezTo>
                <a:cubicBezTo>
                  <a:pt x="718993" y="1866409"/>
                  <a:pt x="720349" y="1866605"/>
                  <a:pt x="721766" y="1866808"/>
                </a:cubicBezTo>
                <a:cubicBezTo>
                  <a:pt x="723170" y="1867020"/>
                  <a:pt x="724487" y="1867232"/>
                  <a:pt x="725713" y="1867454"/>
                </a:cubicBezTo>
                <a:cubicBezTo>
                  <a:pt x="726931" y="1867679"/>
                  <a:pt x="727819" y="1867882"/>
                  <a:pt x="728367" y="1868049"/>
                </a:cubicBezTo>
                <a:cubicBezTo>
                  <a:pt x="729275" y="1868345"/>
                  <a:pt x="730206" y="1868976"/>
                  <a:pt x="731131" y="1869912"/>
                </a:cubicBezTo>
                <a:cubicBezTo>
                  <a:pt x="732054" y="1870864"/>
                  <a:pt x="732911" y="1871957"/>
                  <a:pt x="733688" y="1873189"/>
                </a:cubicBezTo>
                <a:cubicBezTo>
                  <a:pt x="734472" y="1874431"/>
                  <a:pt x="735102" y="1875708"/>
                  <a:pt x="735576" y="1877049"/>
                </a:cubicBezTo>
                <a:cubicBezTo>
                  <a:pt x="736067" y="1878365"/>
                  <a:pt x="736305" y="1879577"/>
                  <a:pt x="736305" y="1880680"/>
                </a:cubicBezTo>
                <a:lnTo>
                  <a:pt x="736305" y="1897831"/>
                </a:lnTo>
                <a:cubicBezTo>
                  <a:pt x="736041" y="1897963"/>
                  <a:pt x="735757" y="1898156"/>
                  <a:pt x="735428" y="1898452"/>
                </a:cubicBezTo>
                <a:cubicBezTo>
                  <a:pt x="735102" y="1898757"/>
                  <a:pt x="734750" y="1899037"/>
                  <a:pt x="734375" y="1899323"/>
                </a:cubicBezTo>
                <a:cubicBezTo>
                  <a:pt x="733992" y="1899600"/>
                  <a:pt x="733632" y="1899851"/>
                  <a:pt x="733297" y="1900053"/>
                </a:cubicBezTo>
                <a:cubicBezTo>
                  <a:pt x="732953" y="1900269"/>
                  <a:pt x="732667" y="1900359"/>
                  <a:pt x="732437" y="1900359"/>
                </a:cubicBezTo>
                <a:lnTo>
                  <a:pt x="678834" y="1900359"/>
                </a:lnTo>
                <a:cubicBezTo>
                  <a:pt x="677921" y="1900359"/>
                  <a:pt x="677234" y="1900047"/>
                  <a:pt x="676760" y="1899407"/>
                </a:cubicBezTo>
                <a:cubicBezTo>
                  <a:pt x="676286" y="1898776"/>
                  <a:pt x="675704" y="1898249"/>
                  <a:pt x="675003" y="1897831"/>
                </a:cubicBezTo>
                <a:lnTo>
                  <a:pt x="675003" y="1880680"/>
                </a:lnTo>
                <a:cubicBezTo>
                  <a:pt x="675003" y="1879577"/>
                  <a:pt x="675239" y="1878365"/>
                  <a:pt x="675721" y="1877049"/>
                </a:cubicBezTo>
                <a:cubicBezTo>
                  <a:pt x="676212" y="1875708"/>
                  <a:pt x="676834" y="1874447"/>
                  <a:pt x="677600" y="1873234"/>
                </a:cubicBezTo>
                <a:cubicBezTo>
                  <a:pt x="678369" y="1872022"/>
                  <a:pt x="679218" y="1870928"/>
                  <a:pt x="680160" y="1869947"/>
                </a:cubicBezTo>
                <a:cubicBezTo>
                  <a:pt x="681091" y="1868985"/>
                  <a:pt x="682022" y="1868336"/>
                  <a:pt x="682938" y="1868040"/>
                </a:cubicBezTo>
                <a:cubicBezTo>
                  <a:pt x="683404" y="1867872"/>
                  <a:pt x="684261" y="1867670"/>
                  <a:pt x="685512" y="1867448"/>
                </a:cubicBezTo>
                <a:cubicBezTo>
                  <a:pt x="686761" y="1867223"/>
                  <a:pt x="688103" y="1867010"/>
                  <a:pt x="689525" y="1866798"/>
                </a:cubicBezTo>
                <a:cubicBezTo>
                  <a:pt x="690947" y="1866596"/>
                  <a:pt x="692304" y="1866399"/>
                  <a:pt x="693609" y="1866235"/>
                </a:cubicBezTo>
                <a:cubicBezTo>
                  <a:pt x="694909" y="1866049"/>
                  <a:pt x="695914" y="1865910"/>
                  <a:pt x="696618" y="1865779"/>
                </a:cubicBezTo>
                <a:cubicBezTo>
                  <a:pt x="694222" y="1864038"/>
                  <a:pt x="692352" y="1861771"/>
                  <a:pt x="690970" y="1858982"/>
                </a:cubicBezTo>
                <a:cubicBezTo>
                  <a:pt x="689596" y="1856187"/>
                  <a:pt x="688918" y="1853147"/>
                  <a:pt x="688918" y="1849860"/>
                </a:cubicBezTo>
                <a:cubicBezTo>
                  <a:pt x="688918" y="1847268"/>
                  <a:pt x="689361" y="1844813"/>
                  <a:pt x="690243" y="1842527"/>
                </a:cubicBezTo>
                <a:cubicBezTo>
                  <a:pt x="691126" y="1840240"/>
                  <a:pt x="692326" y="1838229"/>
                  <a:pt x="693822" y="1836496"/>
                </a:cubicBezTo>
                <a:cubicBezTo>
                  <a:pt x="695326" y="1834775"/>
                  <a:pt x="697075" y="1833405"/>
                  <a:pt x="699104" y="1832404"/>
                </a:cubicBezTo>
                <a:cubicBezTo>
                  <a:pt x="701122" y="1831394"/>
                  <a:pt x="703279" y="1830886"/>
                  <a:pt x="705575" y="1830886"/>
                </a:cubicBezTo>
                <a:close/>
                <a:moveTo>
                  <a:pt x="545128" y="1800235"/>
                </a:moveTo>
                <a:cubicBezTo>
                  <a:pt x="548572" y="1800235"/>
                  <a:pt x="551833" y="1800967"/>
                  <a:pt x="554873" y="1802423"/>
                </a:cubicBezTo>
                <a:cubicBezTo>
                  <a:pt x="557925" y="1803864"/>
                  <a:pt x="560599" y="1805839"/>
                  <a:pt x="562880" y="1808319"/>
                </a:cubicBezTo>
                <a:cubicBezTo>
                  <a:pt x="565171" y="1810818"/>
                  <a:pt x="566963" y="1813715"/>
                  <a:pt x="568274" y="1817011"/>
                </a:cubicBezTo>
                <a:cubicBezTo>
                  <a:pt x="569572" y="1820307"/>
                  <a:pt x="570237" y="1823844"/>
                  <a:pt x="570237" y="1827580"/>
                </a:cubicBezTo>
                <a:cubicBezTo>
                  <a:pt x="570237" y="1832239"/>
                  <a:pt x="569219" y="1836591"/>
                  <a:pt x="567184" y="1840661"/>
                </a:cubicBezTo>
                <a:cubicBezTo>
                  <a:pt x="565209" y="1844731"/>
                  <a:pt x="562391" y="1848027"/>
                  <a:pt x="558785" y="1850535"/>
                </a:cubicBezTo>
                <a:cubicBezTo>
                  <a:pt x="559854" y="1850720"/>
                  <a:pt x="561348" y="1850924"/>
                  <a:pt x="563310" y="1851189"/>
                </a:cubicBezTo>
                <a:cubicBezTo>
                  <a:pt x="565256" y="1851430"/>
                  <a:pt x="567291" y="1851712"/>
                  <a:pt x="569415" y="1852004"/>
                </a:cubicBezTo>
                <a:cubicBezTo>
                  <a:pt x="571522" y="1852310"/>
                  <a:pt x="573498" y="1852616"/>
                  <a:pt x="575337" y="1852936"/>
                </a:cubicBezTo>
                <a:cubicBezTo>
                  <a:pt x="577163" y="1853261"/>
                  <a:pt x="578495" y="1853553"/>
                  <a:pt x="579317" y="1853794"/>
                </a:cubicBezTo>
                <a:cubicBezTo>
                  <a:pt x="580679" y="1854220"/>
                  <a:pt x="582076" y="1855129"/>
                  <a:pt x="583463" y="1856478"/>
                </a:cubicBezTo>
                <a:cubicBezTo>
                  <a:pt x="584847" y="1857850"/>
                  <a:pt x="586133" y="1859426"/>
                  <a:pt x="587299" y="1861201"/>
                </a:cubicBezTo>
                <a:cubicBezTo>
                  <a:pt x="588474" y="1862991"/>
                  <a:pt x="589419" y="1864831"/>
                  <a:pt x="590130" y="1866764"/>
                </a:cubicBezTo>
                <a:cubicBezTo>
                  <a:pt x="590866" y="1868660"/>
                  <a:pt x="591224" y="1870407"/>
                  <a:pt x="591224" y="1871997"/>
                </a:cubicBezTo>
                <a:lnTo>
                  <a:pt x="591224" y="1896714"/>
                </a:lnTo>
                <a:cubicBezTo>
                  <a:pt x="590828" y="1896904"/>
                  <a:pt x="590402" y="1897182"/>
                  <a:pt x="589909" y="1897609"/>
                </a:cubicBezTo>
                <a:cubicBezTo>
                  <a:pt x="589419" y="1898049"/>
                  <a:pt x="588891" y="1898452"/>
                  <a:pt x="588329" y="1898865"/>
                </a:cubicBezTo>
                <a:cubicBezTo>
                  <a:pt x="587754" y="1899264"/>
                  <a:pt x="587214" y="1899625"/>
                  <a:pt x="586711" y="1899917"/>
                </a:cubicBezTo>
                <a:cubicBezTo>
                  <a:pt x="586196" y="1900228"/>
                  <a:pt x="585766" y="1900362"/>
                  <a:pt x="585422" y="1900362"/>
                </a:cubicBezTo>
                <a:lnTo>
                  <a:pt x="505018" y="1900362"/>
                </a:lnTo>
                <a:cubicBezTo>
                  <a:pt x="503647" y="1900362"/>
                  <a:pt x="502617" y="1899908"/>
                  <a:pt x="501906" y="1898985"/>
                </a:cubicBezTo>
                <a:cubicBezTo>
                  <a:pt x="501195" y="1898077"/>
                  <a:pt x="500322" y="1897317"/>
                  <a:pt x="499271" y="1896714"/>
                </a:cubicBezTo>
                <a:lnTo>
                  <a:pt x="499271" y="1871997"/>
                </a:lnTo>
                <a:cubicBezTo>
                  <a:pt x="499271" y="1870407"/>
                  <a:pt x="499624" y="1868660"/>
                  <a:pt x="500348" y="1866764"/>
                </a:cubicBezTo>
                <a:cubicBezTo>
                  <a:pt x="501085" y="1864831"/>
                  <a:pt x="502017" y="1863014"/>
                  <a:pt x="503166" y="1861266"/>
                </a:cubicBezTo>
                <a:cubicBezTo>
                  <a:pt x="504320" y="1859519"/>
                  <a:pt x="505593" y="1857943"/>
                  <a:pt x="507006" y="1856529"/>
                </a:cubicBezTo>
                <a:cubicBezTo>
                  <a:pt x="508402" y="1855143"/>
                  <a:pt x="509799" y="1854206"/>
                  <a:pt x="511174" y="1853780"/>
                </a:cubicBezTo>
                <a:cubicBezTo>
                  <a:pt x="511872" y="1853539"/>
                  <a:pt x="513158" y="1853247"/>
                  <a:pt x="515035" y="1852927"/>
                </a:cubicBezTo>
                <a:cubicBezTo>
                  <a:pt x="516908" y="1852602"/>
                  <a:pt x="518922" y="1852297"/>
                  <a:pt x="521054" y="1851991"/>
                </a:cubicBezTo>
                <a:cubicBezTo>
                  <a:pt x="523187" y="1851699"/>
                  <a:pt x="525222" y="1851416"/>
                  <a:pt x="527180" y="1851179"/>
                </a:cubicBezTo>
                <a:cubicBezTo>
                  <a:pt x="529130" y="1850911"/>
                  <a:pt x="530637" y="1850711"/>
                  <a:pt x="531693" y="1850521"/>
                </a:cubicBezTo>
                <a:cubicBezTo>
                  <a:pt x="528100" y="1848013"/>
                  <a:pt x="525295" y="1844745"/>
                  <a:pt x="523221" y="1840726"/>
                </a:cubicBezTo>
                <a:cubicBezTo>
                  <a:pt x="521161" y="1836698"/>
                  <a:pt x="520143" y="1832317"/>
                  <a:pt x="520143" y="1827580"/>
                </a:cubicBezTo>
                <a:cubicBezTo>
                  <a:pt x="520143" y="1823844"/>
                  <a:pt x="520808" y="1820307"/>
                  <a:pt x="522132" y="1817011"/>
                </a:cubicBezTo>
                <a:cubicBezTo>
                  <a:pt x="523455" y="1813715"/>
                  <a:pt x="525256" y="1810818"/>
                  <a:pt x="527500" y="1808319"/>
                </a:cubicBezTo>
                <a:cubicBezTo>
                  <a:pt x="529756" y="1805839"/>
                  <a:pt x="532378" y="1803864"/>
                  <a:pt x="535422" y="1802423"/>
                </a:cubicBezTo>
                <a:cubicBezTo>
                  <a:pt x="538449" y="1800967"/>
                  <a:pt x="541684" y="1800235"/>
                  <a:pt x="545128" y="1800235"/>
                </a:cubicBezTo>
                <a:close/>
                <a:moveTo>
                  <a:pt x="847495" y="1760730"/>
                </a:moveTo>
                <a:cubicBezTo>
                  <a:pt x="852572" y="1760730"/>
                  <a:pt x="857379" y="1761816"/>
                  <a:pt x="861859" y="1763975"/>
                </a:cubicBezTo>
                <a:cubicBezTo>
                  <a:pt x="866359" y="1766113"/>
                  <a:pt x="870300" y="1769041"/>
                  <a:pt x="873663" y="1772719"/>
                </a:cubicBezTo>
                <a:cubicBezTo>
                  <a:pt x="877039" y="1776424"/>
                  <a:pt x="879681" y="1780721"/>
                  <a:pt x="881614" y="1785608"/>
                </a:cubicBezTo>
                <a:cubicBezTo>
                  <a:pt x="883528" y="1790496"/>
                  <a:pt x="884507" y="1795741"/>
                  <a:pt x="884507" y="1801282"/>
                </a:cubicBezTo>
                <a:cubicBezTo>
                  <a:pt x="884507" y="1808191"/>
                  <a:pt x="883007" y="1814639"/>
                  <a:pt x="880008" y="1820681"/>
                </a:cubicBezTo>
                <a:cubicBezTo>
                  <a:pt x="877096" y="1826717"/>
                  <a:pt x="872942" y="1831605"/>
                  <a:pt x="867626" y="1835324"/>
                </a:cubicBezTo>
                <a:cubicBezTo>
                  <a:pt x="869201" y="1835599"/>
                  <a:pt x="871404" y="1835902"/>
                  <a:pt x="874297" y="1836294"/>
                </a:cubicBezTo>
                <a:cubicBezTo>
                  <a:pt x="877165" y="1836651"/>
                  <a:pt x="880164" y="1837070"/>
                  <a:pt x="883296" y="1837503"/>
                </a:cubicBezTo>
                <a:cubicBezTo>
                  <a:pt x="886402" y="1837957"/>
                  <a:pt x="889314" y="1838411"/>
                  <a:pt x="892025" y="1838885"/>
                </a:cubicBezTo>
                <a:cubicBezTo>
                  <a:pt x="894717" y="1839366"/>
                  <a:pt x="896681" y="1839799"/>
                  <a:pt x="897892" y="1840157"/>
                </a:cubicBezTo>
                <a:cubicBezTo>
                  <a:pt x="899900" y="1840789"/>
                  <a:pt x="901958" y="1842137"/>
                  <a:pt x="904004" y="1844137"/>
                </a:cubicBezTo>
                <a:cubicBezTo>
                  <a:pt x="906044" y="1846172"/>
                  <a:pt x="907939" y="1848509"/>
                  <a:pt x="909658" y="1851142"/>
                </a:cubicBezTo>
                <a:cubicBezTo>
                  <a:pt x="911390" y="1853796"/>
                  <a:pt x="912783" y="1856525"/>
                  <a:pt x="913831" y="1859391"/>
                </a:cubicBezTo>
                <a:cubicBezTo>
                  <a:pt x="914917" y="1862203"/>
                  <a:pt x="915444" y="1864795"/>
                  <a:pt x="915444" y="1867153"/>
                </a:cubicBezTo>
                <a:lnTo>
                  <a:pt x="915444" y="1903807"/>
                </a:lnTo>
                <a:cubicBezTo>
                  <a:pt x="914860" y="1904089"/>
                  <a:pt x="914233" y="1904501"/>
                  <a:pt x="913505" y="1905134"/>
                </a:cubicBezTo>
                <a:cubicBezTo>
                  <a:pt x="912783" y="1905787"/>
                  <a:pt x="912005" y="1906385"/>
                  <a:pt x="911177" y="1906997"/>
                </a:cubicBezTo>
                <a:cubicBezTo>
                  <a:pt x="910330" y="1907588"/>
                  <a:pt x="909533" y="1908124"/>
                  <a:pt x="908792" y="1908557"/>
                </a:cubicBezTo>
                <a:cubicBezTo>
                  <a:pt x="908033" y="1909018"/>
                  <a:pt x="907399" y="1909210"/>
                  <a:pt x="906891" y="1909210"/>
                </a:cubicBezTo>
                <a:lnTo>
                  <a:pt x="788370" y="1909210"/>
                </a:lnTo>
                <a:cubicBezTo>
                  <a:pt x="786349" y="1909210"/>
                  <a:pt x="784830" y="1908543"/>
                  <a:pt x="783782" y="1907175"/>
                </a:cubicBezTo>
                <a:cubicBezTo>
                  <a:pt x="782734" y="1905828"/>
                  <a:pt x="781448" y="1904701"/>
                  <a:pt x="779898" y="1903807"/>
                </a:cubicBezTo>
                <a:lnTo>
                  <a:pt x="779898" y="1867153"/>
                </a:lnTo>
                <a:cubicBezTo>
                  <a:pt x="779898" y="1864795"/>
                  <a:pt x="780419" y="1862203"/>
                  <a:pt x="781486" y="1859391"/>
                </a:cubicBezTo>
                <a:cubicBezTo>
                  <a:pt x="782571" y="1856525"/>
                  <a:pt x="783946" y="1853830"/>
                  <a:pt x="785640" y="1851238"/>
                </a:cubicBezTo>
                <a:cubicBezTo>
                  <a:pt x="787340" y="1848647"/>
                  <a:pt x="789217" y="1846310"/>
                  <a:pt x="791300" y="1844213"/>
                </a:cubicBezTo>
                <a:cubicBezTo>
                  <a:pt x="793358" y="1842157"/>
                  <a:pt x="795417" y="1840769"/>
                  <a:pt x="797444" y="1840136"/>
                </a:cubicBezTo>
                <a:cubicBezTo>
                  <a:pt x="798473" y="1839779"/>
                  <a:pt x="800368" y="1839346"/>
                  <a:pt x="803135" y="1838871"/>
                </a:cubicBezTo>
                <a:cubicBezTo>
                  <a:pt x="805896" y="1838390"/>
                  <a:pt x="808865" y="1837936"/>
                  <a:pt x="812009" y="1837483"/>
                </a:cubicBezTo>
                <a:cubicBezTo>
                  <a:pt x="815153" y="1837050"/>
                  <a:pt x="818152" y="1836630"/>
                  <a:pt x="821039" y="1836280"/>
                </a:cubicBezTo>
                <a:cubicBezTo>
                  <a:pt x="823913" y="1835881"/>
                  <a:pt x="826134" y="1835585"/>
                  <a:pt x="827691" y="1835304"/>
                </a:cubicBezTo>
                <a:cubicBezTo>
                  <a:pt x="822394" y="1831585"/>
                  <a:pt x="818259" y="1826738"/>
                  <a:pt x="815203" y="1820778"/>
                </a:cubicBezTo>
                <a:cubicBezTo>
                  <a:pt x="812165" y="1814804"/>
                  <a:pt x="810666" y="1808308"/>
                  <a:pt x="810666" y="1801282"/>
                </a:cubicBezTo>
                <a:cubicBezTo>
                  <a:pt x="810666" y="1795741"/>
                  <a:pt x="811645" y="1790496"/>
                  <a:pt x="813596" y="1785608"/>
                </a:cubicBezTo>
                <a:cubicBezTo>
                  <a:pt x="815548" y="1780721"/>
                  <a:pt x="818202" y="1776424"/>
                  <a:pt x="821509" y="1772719"/>
                </a:cubicBezTo>
                <a:cubicBezTo>
                  <a:pt x="824835" y="1769041"/>
                  <a:pt x="828701" y="1766113"/>
                  <a:pt x="833181" y="1763975"/>
                </a:cubicBezTo>
                <a:cubicBezTo>
                  <a:pt x="837649" y="1761816"/>
                  <a:pt x="842419" y="1760730"/>
                  <a:pt x="847495" y="1760730"/>
                </a:cubicBezTo>
                <a:close/>
                <a:moveTo>
                  <a:pt x="669553" y="1683081"/>
                </a:moveTo>
                <a:lnTo>
                  <a:pt x="737667" y="1750853"/>
                </a:lnTo>
                <a:lnTo>
                  <a:pt x="669553" y="1818626"/>
                </a:lnTo>
                <a:lnTo>
                  <a:pt x="601440" y="1750853"/>
                </a:lnTo>
                <a:lnTo>
                  <a:pt x="669553" y="1683081"/>
                </a:lnTo>
                <a:close/>
                <a:moveTo>
                  <a:pt x="542182" y="1670139"/>
                </a:moveTo>
                <a:lnTo>
                  <a:pt x="583727" y="1711688"/>
                </a:lnTo>
                <a:lnTo>
                  <a:pt x="542182" y="1753233"/>
                </a:lnTo>
                <a:lnTo>
                  <a:pt x="500633" y="1711688"/>
                </a:lnTo>
                <a:lnTo>
                  <a:pt x="542182" y="1670139"/>
                </a:lnTo>
                <a:close/>
                <a:moveTo>
                  <a:pt x="783303" y="1621779"/>
                </a:moveTo>
                <a:lnTo>
                  <a:pt x="824848" y="1663328"/>
                </a:lnTo>
                <a:lnTo>
                  <a:pt x="783303" y="1704873"/>
                </a:lnTo>
                <a:lnTo>
                  <a:pt x="741754" y="1663328"/>
                </a:lnTo>
                <a:lnTo>
                  <a:pt x="783303" y="1621779"/>
                </a:lnTo>
                <a:close/>
                <a:moveTo>
                  <a:pt x="895911" y="1611561"/>
                </a:moveTo>
                <a:cubicBezTo>
                  <a:pt x="899355" y="1611561"/>
                  <a:pt x="902616" y="1612298"/>
                  <a:pt x="905656" y="1613764"/>
                </a:cubicBezTo>
                <a:cubicBezTo>
                  <a:pt x="908708" y="1615215"/>
                  <a:pt x="911382" y="1617203"/>
                  <a:pt x="913663" y="1619700"/>
                </a:cubicBezTo>
                <a:cubicBezTo>
                  <a:pt x="915954" y="1622216"/>
                  <a:pt x="917746" y="1625133"/>
                  <a:pt x="919057" y="1628451"/>
                </a:cubicBezTo>
                <a:cubicBezTo>
                  <a:pt x="920355" y="1631769"/>
                  <a:pt x="921020" y="1635330"/>
                  <a:pt x="921020" y="1639092"/>
                </a:cubicBezTo>
                <a:cubicBezTo>
                  <a:pt x="921020" y="1643782"/>
                  <a:pt x="920002" y="1648164"/>
                  <a:pt x="917967" y="1652262"/>
                </a:cubicBezTo>
                <a:cubicBezTo>
                  <a:pt x="915992" y="1656360"/>
                  <a:pt x="913174" y="1659678"/>
                  <a:pt x="909568" y="1662203"/>
                </a:cubicBezTo>
                <a:cubicBezTo>
                  <a:pt x="910637" y="1662390"/>
                  <a:pt x="912131" y="1662595"/>
                  <a:pt x="914093" y="1662861"/>
                </a:cubicBezTo>
                <a:cubicBezTo>
                  <a:pt x="916039" y="1663104"/>
                  <a:pt x="918074" y="1663388"/>
                  <a:pt x="920198" y="1663682"/>
                </a:cubicBezTo>
                <a:cubicBezTo>
                  <a:pt x="922305" y="1663990"/>
                  <a:pt x="924281" y="1664298"/>
                  <a:pt x="926120" y="1664620"/>
                </a:cubicBezTo>
                <a:cubicBezTo>
                  <a:pt x="927946" y="1664947"/>
                  <a:pt x="929278" y="1665241"/>
                  <a:pt x="930100" y="1665484"/>
                </a:cubicBezTo>
                <a:cubicBezTo>
                  <a:pt x="931462" y="1665913"/>
                  <a:pt x="932859" y="1666828"/>
                  <a:pt x="934246" y="1668186"/>
                </a:cubicBezTo>
                <a:cubicBezTo>
                  <a:pt x="935630" y="1669567"/>
                  <a:pt x="936916" y="1671154"/>
                  <a:pt x="938082" y="1672942"/>
                </a:cubicBezTo>
                <a:cubicBezTo>
                  <a:pt x="939257" y="1674743"/>
                  <a:pt x="940202" y="1676596"/>
                  <a:pt x="940913" y="1678542"/>
                </a:cubicBezTo>
                <a:cubicBezTo>
                  <a:pt x="941649" y="1680451"/>
                  <a:pt x="942007" y="1682210"/>
                  <a:pt x="942007" y="1683811"/>
                </a:cubicBezTo>
                <a:lnTo>
                  <a:pt x="942007" y="1708696"/>
                </a:lnTo>
                <a:cubicBezTo>
                  <a:pt x="941611" y="1708887"/>
                  <a:pt x="941185" y="1709167"/>
                  <a:pt x="940692" y="1709597"/>
                </a:cubicBezTo>
                <a:cubicBezTo>
                  <a:pt x="940202" y="1710040"/>
                  <a:pt x="939674" y="1710446"/>
                  <a:pt x="939112" y="1710861"/>
                </a:cubicBezTo>
                <a:cubicBezTo>
                  <a:pt x="938537" y="1711263"/>
                  <a:pt x="937997" y="1711627"/>
                  <a:pt x="937494" y="1711921"/>
                </a:cubicBezTo>
                <a:cubicBezTo>
                  <a:pt x="936979" y="1712234"/>
                  <a:pt x="936549" y="1712369"/>
                  <a:pt x="936205" y="1712369"/>
                </a:cubicBezTo>
                <a:lnTo>
                  <a:pt x="855801" y="1712369"/>
                </a:lnTo>
                <a:cubicBezTo>
                  <a:pt x="854430" y="1712369"/>
                  <a:pt x="853400" y="1711912"/>
                  <a:pt x="852689" y="1710983"/>
                </a:cubicBezTo>
                <a:cubicBezTo>
                  <a:pt x="851978" y="1710068"/>
                  <a:pt x="851105" y="1709303"/>
                  <a:pt x="850054" y="1708696"/>
                </a:cubicBezTo>
                <a:lnTo>
                  <a:pt x="850054" y="1683811"/>
                </a:lnTo>
                <a:cubicBezTo>
                  <a:pt x="850054" y="1682210"/>
                  <a:pt x="850407" y="1680451"/>
                  <a:pt x="851131" y="1678542"/>
                </a:cubicBezTo>
                <a:cubicBezTo>
                  <a:pt x="851868" y="1676596"/>
                  <a:pt x="852800" y="1674767"/>
                  <a:pt x="853949" y="1673007"/>
                </a:cubicBezTo>
                <a:cubicBezTo>
                  <a:pt x="855103" y="1671248"/>
                  <a:pt x="856376" y="1669661"/>
                  <a:pt x="857789" y="1668237"/>
                </a:cubicBezTo>
                <a:cubicBezTo>
                  <a:pt x="859185" y="1666842"/>
                  <a:pt x="860582" y="1665899"/>
                  <a:pt x="861957" y="1665470"/>
                </a:cubicBezTo>
                <a:cubicBezTo>
                  <a:pt x="862655" y="1665227"/>
                  <a:pt x="863941" y="1664933"/>
                  <a:pt x="865818" y="1664611"/>
                </a:cubicBezTo>
                <a:cubicBezTo>
                  <a:pt x="867691" y="1664284"/>
                  <a:pt x="869705" y="1663976"/>
                  <a:pt x="871837" y="1663668"/>
                </a:cubicBezTo>
                <a:cubicBezTo>
                  <a:pt x="873970" y="1663374"/>
                  <a:pt x="876005" y="1663090"/>
                  <a:pt x="877963" y="1662852"/>
                </a:cubicBezTo>
                <a:cubicBezTo>
                  <a:pt x="879913" y="1662581"/>
                  <a:pt x="881420" y="1662380"/>
                  <a:pt x="882476" y="1662189"/>
                </a:cubicBezTo>
                <a:cubicBezTo>
                  <a:pt x="878883" y="1659664"/>
                  <a:pt x="876078" y="1656374"/>
                  <a:pt x="874004" y="1652327"/>
                </a:cubicBezTo>
                <a:cubicBezTo>
                  <a:pt x="871944" y="1648272"/>
                  <a:pt x="870926" y="1643861"/>
                  <a:pt x="870926" y="1639092"/>
                </a:cubicBezTo>
                <a:cubicBezTo>
                  <a:pt x="870926" y="1635330"/>
                  <a:pt x="871591" y="1631769"/>
                  <a:pt x="872915" y="1628451"/>
                </a:cubicBezTo>
                <a:cubicBezTo>
                  <a:pt x="874238" y="1625133"/>
                  <a:pt x="876039" y="1622216"/>
                  <a:pt x="878283" y="1619700"/>
                </a:cubicBezTo>
                <a:cubicBezTo>
                  <a:pt x="880539" y="1617203"/>
                  <a:pt x="883161" y="1615215"/>
                  <a:pt x="886205" y="1613764"/>
                </a:cubicBezTo>
                <a:cubicBezTo>
                  <a:pt x="889232" y="1612298"/>
                  <a:pt x="892467" y="1611561"/>
                  <a:pt x="895911" y="1611561"/>
                </a:cubicBezTo>
                <a:close/>
                <a:moveTo>
                  <a:pt x="816855" y="1427656"/>
                </a:moveTo>
                <a:cubicBezTo>
                  <a:pt x="821625" y="1427656"/>
                  <a:pt x="826142" y="1428682"/>
                  <a:pt x="830353" y="1430722"/>
                </a:cubicBezTo>
                <a:cubicBezTo>
                  <a:pt x="834581" y="1432742"/>
                  <a:pt x="838284" y="1435510"/>
                  <a:pt x="841445" y="1438985"/>
                </a:cubicBezTo>
                <a:cubicBezTo>
                  <a:pt x="844617" y="1442486"/>
                  <a:pt x="847100" y="1446546"/>
                  <a:pt x="848916" y="1451165"/>
                </a:cubicBezTo>
                <a:cubicBezTo>
                  <a:pt x="850715" y="1455784"/>
                  <a:pt x="851635" y="1460740"/>
                  <a:pt x="851635" y="1465976"/>
                </a:cubicBezTo>
                <a:cubicBezTo>
                  <a:pt x="851635" y="1472504"/>
                  <a:pt x="850225" y="1478604"/>
                  <a:pt x="847406" y="1484308"/>
                </a:cubicBezTo>
                <a:cubicBezTo>
                  <a:pt x="844670" y="1490011"/>
                  <a:pt x="840767" y="1494630"/>
                  <a:pt x="835772" y="1498144"/>
                </a:cubicBezTo>
                <a:cubicBezTo>
                  <a:pt x="837252" y="1498404"/>
                  <a:pt x="839322" y="1498690"/>
                  <a:pt x="842040" y="1499060"/>
                </a:cubicBezTo>
                <a:cubicBezTo>
                  <a:pt x="844735" y="1499398"/>
                  <a:pt x="847554" y="1499794"/>
                  <a:pt x="850496" y="1500203"/>
                </a:cubicBezTo>
                <a:cubicBezTo>
                  <a:pt x="853415" y="1500632"/>
                  <a:pt x="856152" y="1501061"/>
                  <a:pt x="858699" y="1501509"/>
                </a:cubicBezTo>
                <a:cubicBezTo>
                  <a:pt x="861229" y="1501964"/>
                  <a:pt x="863074" y="1502373"/>
                  <a:pt x="864213" y="1502711"/>
                </a:cubicBezTo>
                <a:cubicBezTo>
                  <a:pt x="866099" y="1503309"/>
                  <a:pt x="868034" y="1504582"/>
                  <a:pt x="869956" y="1506472"/>
                </a:cubicBezTo>
                <a:cubicBezTo>
                  <a:pt x="871873" y="1508395"/>
                  <a:pt x="873653" y="1510604"/>
                  <a:pt x="875269" y="1513092"/>
                </a:cubicBezTo>
                <a:cubicBezTo>
                  <a:pt x="876897" y="1515599"/>
                  <a:pt x="878206" y="1518178"/>
                  <a:pt x="879191" y="1520887"/>
                </a:cubicBezTo>
                <a:cubicBezTo>
                  <a:pt x="880211" y="1523544"/>
                  <a:pt x="880700" y="1525993"/>
                  <a:pt x="880700" y="1528221"/>
                </a:cubicBezTo>
                <a:lnTo>
                  <a:pt x="880700" y="1562858"/>
                </a:lnTo>
                <a:cubicBezTo>
                  <a:pt x="880158" y="1563124"/>
                  <a:pt x="879568" y="1563514"/>
                  <a:pt x="878884" y="1564111"/>
                </a:cubicBezTo>
                <a:cubicBezTo>
                  <a:pt x="878206" y="1564728"/>
                  <a:pt x="877475" y="1565294"/>
                  <a:pt x="876696" y="1565872"/>
                </a:cubicBezTo>
                <a:cubicBezTo>
                  <a:pt x="875900" y="1566430"/>
                  <a:pt x="875151" y="1566937"/>
                  <a:pt x="874455" y="1567346"/>
                </a:cubicBezTo>
                <a:cubicBezTo>
                  <a:pt x="873742" y="1567781"/>
                  <a:pt x="873146" y="1567963"/>
                  <a:pt x="872669" y="1567963"/>
                </a:cubicBezTo>
                <a:lnTo>
                  <a:pt x="761295" y="1567963"/>
                </a:lnTo>
                <a:cubicBezTo>
                  <a:pt x="759396" y="1567963"/>
                  <a:pt x="757969" y="1567333"/>
                  <a:pt x="756984" y="1566041"/>
                </a:cubicBezTo>
                <a:cubicBezTo>
                  <a:pt x="755999" y="1564767"/>
                  <a:pt x="754791" y="1563702"/>
                  <a:pt x="753334" y="1562858"/>
                </a:cubicBezTo>
                <a:lnTo>
                  <a:pt x="753334" y="1528221"/>
                </a:lnTo>
                <a:cubicBezTo>
                  <a:pt x="753334" y="1525993"/>
                  <a:pt x="753823" y="1523544"/>
                  <a:pt x="754826" y="1520887"/>
                </a:cubicBezTo>
                <a:cubicBezTo>
                  <a:pt x="755846" y="1518178"/>
                  <a:pt x="757137" y="1515631"/>
                  <a:pt x="758730" y="1513182"/>
                </a:cubicBezTo>
                <a:cubicBezTo>
                  <a:pt x="760328" y="1510733"/>
                  <a:pt x="762091" y="1508525"/>
                  <a:pt x="764049" y="1506544"/>
                </a:cubicBezTo>
                <a:cubicBezTo>
                  <a:pt x="765983" y="1504601"/>
                  <a:pt x="767917" y="1503289"/>
                  <a:pt x="769822" y="1502691"/>
                </a:cubicBezTo>
                <a:cubicBezTo>
                  <a:pt x="770789" y="1502354"/>
                  <a:pt x="772570" y="1501944"/>
                  <a:pt x="775170" y="1501496"/>
                </a:cubicBezTo>
                <a:cubicBezTo>
                  <a:pt x="777765" y="1501041"/>
                  <a:pt x="780554" y="1500613"/>
                  <a:pt x="783508" y="1500184"/>
                </a:cubicBezTo>
                <a:cubicBezTo>
                  <a:pt x="786463" y="1499775"/>
                  <a:pt x="789281" y="1499378"/>
                  <a:pt x="791994" y="1499047"/>
                </a:cubicBezTo>
                <a:cubicBezTo>
                  <a:pt x="794695" y="1498670"/>
                  <a:pt x="796782" y="1498391"/>
                  <a:pt x="798244" y="1498125"/>
                </a:cubicBezTo>
                <a:cubicBezTo>
                  <a:pt x="793267" y="1494610"/>
                  <a:pt x="789381" y="1490031"/>
                  <a:pt x="786510" y="1484399"/>
                </a:cubicBezTo>
                <a:cubicBezTo>
                  <a:pt x="783656" y="1478754"/>
                  <a:pt x="782246" y="1472615"/>
                  <a:pt x="782246" y="1465976"/>
                </a:cubicBezTo>
                <a:cubicBezTo>
                  <a:pt x="782246" y="1460740"/>
                  <a:pt x="783166" y="1455784"/>
                  <a:pt x="785000" y="1451165"/>
                </a:cubicBezTo>
                <a:cubicBezTo>
                  <a:pt x="786834" y="1446546"/>
                  <a:pt x="789328" y="1442486"/>
                  <a:pt x="792436" y="1438985"/>
                </a:cubicBezTo>
                <a:cubicBezTo>
                  <a:pt x="795561" y="1435510"/>
                  <a:pt x="799194" y="1432742"/>
                  <a:pt x="803410" y="1430722"/>
                </a:cubicBezTo>
                <a:cubicBezTo>
                  <a:pt x="807603" y="1428682"/>
                  <a:pt x="812084" y="1427656"/>
                  <a:pt x="816855" y="1427656"/>
                </a:cubicBezTo>
                <a:close/>
                <a:moveTo>
                  <a:pt x="976065" y="1385425"/>
                </a:moveTo>
                <a:lnTo>
                  <a:pt x="1044178" y="1453198"/>
                </a:lnTo>
                <a:lnTo>
                  <a:pt x="976065" y="1520971"/>
                </a:lnTo>
                <a:lnTo>
                  <a:pt x="907951" y="1453198"/>
                </a:lnTo>
                <a:lnTo>
                  <a:pt x="976065" y="1385425"/>
                </a:lnTo>
                <a:close/>
                <a:moveTo>
                  <a:pt x="731458" y="1375208"/>
                </a:moveTo>
                <a:cubicBezTo>
                  <a:pt x="733754" y="1375208"/>
                  <a:pt x="735927" y="1375721"/>
                  <a:pt x="737954" y="1376741"/>
                </a:cubicBezTo>
                <a:cubicBezTo>
                  <a:pt x="739989" y="1377751"/>
                  <a:pt x="741771" y="1379135"/>
                  <a:pt x="743292" y="1380872"/>
                </a:cubicBezTo>
                <a:cubicBezTo>
                  <a:pt x="744819" y="1382623"/>
                  <a:pt x="746014" y="1384653"/>
                  <a:pt x="746888" y="1386962"/>
                </a:cubicBezTo>
                <a:cubicBezTo>
                  <a:pt x="747754" y="1389272"/>
                  <a:pt x="748196" y="1391750"/>
                  <a:pt x="748196" y="1394368"/>
                </a:cubicBezTo>
                <a:cubicBezTo>
                  <a:pt x="748196" y="1397632"/>
                  <a:pt x="747518" y="1400682"/>
                  <a:pt x="746161" y="1403534"/>
                </a:cubicBezTo>
                <a:cubicBezTo>
                  <a:pt x="744845" y="1406386"/>
                  <a:pt x="742966" y="1408695"/>
                  <a:pt x="740562" y="1410452"/>
                </a:cubicBezTo>
                <a:cubicBezTo>
                  <a:pt x="741274" y="1410582"/>
                  <a:pt x="742271" y="1410725"/>
                  <a:pt x="743579" y="1410910"/>
                </a:cubicBezTo>
                <a:cubicBezTo>
                  <a:pt x="744876" y="1411079"/>
                  <a:pt x="746232" y="1411277"/>
                  <a:pt x="747649" y="1411482"/>
                </a:cubicBezTo>
                <a:cubicBezTo>
                  <a:pt x="749053" y="1411696"/>
                  <a:pt x="750370" y="1411910"/>
                  <a:pt x="751596" y="1412134"/>
                </a:cubicBezTo>
                <a:cubicBezTo>
                  <a:pt x="752814" y="1412362"/>
                  <a:pt x="753702" y="1412566"/>
                  <a:pt x="754250" y="1412735"/>
                </a:cubicBezTo>
                <a:cubicBezTo>
                  <a:pt x="755158" y="1413034"/>
                  <a:pt x="756089" y="1413671"/>
                  <a:pt x="757014" y="1414616"/>
                </a:cubicBezTo>
                <a:cubicBezTo>
                  <a:pt x="757937" y="1415577"/>
                  <a:pt x="758794" y="1416682"/>
                  <a:pt x="759571" y="1417926"/>
                </a:cubicBezTo>
                <a:cubicBezTo>
                  <a:pt x="760355" y="1419179"/>
                  <a:pt x="760985" y="1420469"/>
                  <a:pt x="761459" y="1421823"/>
                </a:cubicBezTo>
                <a:cubicBezTo>
                  <a:pt x="761950" y="1423152"/>
                  <a:pt x="762188" y="1424376"/>
                  <a:pt x="762188" y="1425490"/>
                </a:cubicBezTo>
                <a:lnTo>
                  <a:pt x="762188" y="1442809"/>
                </a:lnTo>
                <a:cubicBezTo>
                  <a:pt x="761924" y="1442942"/>
                  <a:pt x="761640" y="1443137"/>
                  <a:pt x="761311" y="1443436"/>
                </a:cubicBezTo>
                <a:cubicBezTo>
                  <a:pt x="760985" y="1443744"/>
                  <a:pt x="760633" y="1444027"/>
                  <a:pt x="760258" y="1444316"/>
                </a:cubicBezTo>
                <a:cubicBezTo>
                  <a:pt x="759875" y="1444595"/>
                  <a:pt x="759515" y="1444848"/>
                  <a:pt x="759180" y="1445053"/>
                </a:cubicBezTo>
                <a:cubicBezTo>
                  <a:pt x="758836" y="1445271"/>
                  <a:pt x="758550" y="1445362"/>
                  <a:pt x="758320" y="1445362"/>
                </a:cubicBezTo>
                <a:lnTo>
                  <a:pt x="704717" y="1445362"/>
                </a:lnTo>
                <a:cubicBezTo>
                  <a:pt x="703804" y="1445362"/>
                  <a:pt x="703117" y="1445047"/>
                  <a:pt x="702643" y="1444400"/>
                </a:cubicBezTo>
                <a:cubicBezTo>
                  <a:pt x="702169" y="1443764"/>
                  <a:pt x="701587" y="1443231"/>
                  <a:pt x="700886" y="1442809"/>
                </a:cubicBezTo>
                <a:lnTo>
                  <a:pt x="700886" y="1425490"/>
                </a:lnTo>
                <a:cubicBezTo>
                  <a:pt x="700886" y="1424376"/>
                  <a:pt x="701122" y="1423152"/>
                  <a:pt x="701604" y="1421823"/>
                </a:cubicBezTo>
                <a:cubicBezTo>
                  <a:pt x="702095" y="1420469"/>
                  <a:pt x="702717" y="1419196"/>
                  <a:pt x="703483" y="1417971"/>
                </a:cubicBezTo>
                <a:cubicBezTo>
                  <a:pt x="704252" y="1416747"/>
                  <a:pt x="705101" y="1415642"/>
                  <a:pt x="706043" y="1414652"/>
                </a:cubicBezTo>
                <a:cubicBezTo>
                  <a:pt x="706974" y="1413681"/>
                  <a:pt x="707905" y="1413024"/>
                  <a:pt x="708821" y="1412726"/>
                </a:cubicBezTo>
                <a:cubicBezTo>
                  <a:pt x="709287" y="1412557"/>
                  <a:pt x="710144" y="1412352"/>
                  <a:pt x="711395" y="1412128"/>
                </a:cubicBezTo>
                <a:cubicBezTo>
                  <a:pt x="712644" y="1411901"/>
                  <a:pt x="713986" y="1411686"/>
                  <a:pt x="715408" y="1411472"/>
                </a:cubicBezTo>
                <a:cubicBezTo>
                  <a:pt x="716830" y="1411267"/>
                  <a:pt x="718187" y="1411069"/>
                  <a:pt x="719492" y="1410903"/>
                </a:cubicBezTo>
                <a:cubicBezTo>
                  <a:pt x="720792" y="1410715"/>
                  <a:pt x="721797" y="1410575"/>
                  <a:pt x="722501" y="1410442"/>
                </a:cubicBezTo>
                <a:cubicBezTo>
                  <a:pt x="720105" y="1408685"/>
                  <a:pt x="718235" y="1406395"/>
                  <a:pt x="716853" y="1403579"/>
                </a:cubicBezTo>
                <a:cubicBezTo>
                  <a:pt x="715479" y="1400757"/>
                  <a:pt x="714801" y="1397687"/>
                  <a:pt x="714801" y="1394368"/>
                </a:cubicBezTo>
                <a:cubicBezTo>
                  <a:pt x="714801" y="1391750"/>
                  <a:pt x="715244" y="1389272"/>
                  <a:pt x="716126" y="1386962"/>
                </a:cubicBezTo>
                <a:cubicBezTo>
                  <a:pt x="717009" y="1384653"/>
                  <a:pt x="718209" y="1382623"/>
                  <a:pt x="719705" y="1380872"/>
                </a:cubicBezTo>
                <a:cubicBezTo>
                  <a:pt x="721209" y="1379135"/>
                  <a:pt x="722958" y="1377751"/>
                  <a:pt x="724987" y="1376741"/>
                </a:cubicBezTo>
                <a:cubicBezTo>
                  <a:pt x="727005" y="1375721"/>
                  <a:pt x="729162" y="1375208"/>
                  <a:pt x="731458" y="1375208"/>
                </a:cubicBezTo>
                <a:close/>
                <a:moveTo>
                  <a:pt x="586819" y="1357499"/>
                </a:moveTo>
                <a:cubicBezTo>
                  <a:pt x="596003" y="1357499"/>
                  <a:pt x="604699" y="1359487"/>
                  <a:pt x="612804" y="1363438"/>
                </a:cubicBezTo>
                <a:cubicBezTo>
                  <a:pt x="620944" y="1367351"/>
                  <a:pt x="628073" y="1372711"/>
                  <a:pt x="634158" y="1379442"/>
                </a:cubicBezTo>
                <a:cubicBezTo>
                  <a:pt x="640265" y="1386224"/>
                  <a:pt x="645045" y="1394087"/>
                  <a:pt x="648541" y="1403033"/>
                </a:cubicBezTo>
                <a:cubicBezTo>
                  <a:pt x="652004" y="1411979"/>
                  <a:pt x="653775" y="1421579"/>
                  <a:pt x="653775" y="1431720"/>
                </a:cubicBezTo>
                <a:cubicBezTo>
                  <a:pt x="653775" y="1444365"/>
                  <a:pt x="651061" y="1456180"/>
                  <a:pt x="645635" y="1467227"/>
                </a:cubicBezTo>
                <a:cubicBezTo>
                  <a:pt x="640368" y="1478274"/>
                  <a:pt x="632852" y="1487220"/>
                  <a:pt x="623237" y="1494027"/>
                </a:cubicBezTo>
                <a:cubicBezTo>
                  <a:pt x="626086" y="1494530"/>
                  <a:pt x="630071" y="1495083"/>
                  <a:pt x="635304" y="1495801"/>
                </a:cubicBezTo>
                <a:cubicBezTo>
                  <a:pt x="640492" y="1496455"/>
                  <a:pt x="645919" y="1497222"/>
                  <a:pt x="651584" y="1498015"/>
                </a:cubicBezTo>
                <a:cubicBezTo>
                  <a:pt x="657203" y="1498845"/>
                  <a:pt x="662470" y="1499676"/>
                  <a:pt x="667375" y="1500544"/>
                </a:cubicBezTo>
                <a:cubicBezTo>
                  <a:pt x="672245" y="1501425"/>
                  <a:pt x="675798" y="1502217"/>
                  <a:pt x="677989" y="1502872"/>
                </a:cubicBezTo>
                <a:cubicBezTo>
                  <a:pt x="681622" y="1504029"/>
                  <a:pt x="685345" y="1506495"/>
                  <a:pt x="689046" y="1510157"/>
                </a:cubicBezTo>
                <a:cubicBezTo>
                  <a:pt x="692735" y="1513881"/>
                  <a:pt x="696164" y="1518159"/>
                  <a:pt x="699274" y="1522978"/>
                </a:cubicBezTo>
                <a:cubicBezTo>
                  <a:pt x="702407" y="1527834"/>
                  <a:pt x="704928" y="1532830"/>
                  <a:pt x="706823" y="1538076"/>
                </a:cubicBezTo>
                <a:cubicBezTo>
                  <a:pt x="708787" y="1543222"/>
                  <a:pt x="709741" y="1547966"/>
                  <a:pt x="709741" y="1552281"/>
                </a:cubicBezTo>
                <a:lnTo>
                  <a:pt x="709741" y="1619369"/>
                </a:lnTo>
                <a:cubicBezTo>
                  <a:pt x="708685" y="1619885"/>
                  <a:pt x="707550" y="1620640"/>
                  <a:pt x="706233" y="1621797"/>
                </a:cubicBezTo>
                <a:cubicBezTo>
                  <a:pt x="704928" y="1622992"/>
                  <a:pt x="703520" y="1624087"/>
                  <a:pt x="702021" y="1625207"/>
                </a:cubicBezTo>
                <a:cubicBezTo>
                  <a:pt x="700489" y="1626289"/>
                  <a:pt x="699047" y="1627270"/>
                  <a:pt x="697708" y="1628063"/>
                </a:cubicBezTo>
                <a:cubicBezTo>
                  <a:pt x="696334" y="1628906"/>
                  <a:pt x="695187" y="1629271"/>
                  <a:pt x="694268" y="1629271"/>
                </a:cubicBezTo>
                <a:lnTo>
                  <a:pt x="479859" y="1629271"/>
                </a:lnTo>
                <a:cubicBezTo>
                  <a:pt x="476203" y="1629271"/>
                  <a:pt x="473456" y="1628038"/>
                  <a:pt x="471560" y="1625534"/>
                </a:cubicBezTo>
                <a:cubicBezTo>
                  <a:pt x="469664" y="1623068"/>
                  <a:pt x="467337" y="1621004"/>
                  <a:pt x="464533" y="1619369"/>
                </a:cubicBezTo>
                <a:lnTo>
                  <a:pt x="464533" y="1552281"/>
                </a:lnTo>
                <a:cubicBezTo>
                  <a:pt x="464533" y="1547966"/>
                  <a:pt x="465475" y="1543222"/>
                  <a:pt x="467405" y="1538076"/>
                </a:cubicBezTo>
                <a:cubicBezTo>
                  <a:pt x="469369" y="1532830"/>
                  <a:pt x="471855" y="1527897"/>
                  <a:pt x="474920" y="1523154"/>
                </a:cubicBezTo>
                <a:cubicBezTo>
                  <a:pt x="477997" y="1518411"/>
                  <a:pt x="481391" y="1514133"/>
                  <a:pt x="485160" y="1510295"/>
                </a:cubicBezTo>
                <a:cubicBezTo>
                  <a:pt x="488884" y="1506533"/>
                  <a:pt x="492607" y="1503992"/>
                  <a:pt x="496274" y="1502834"/>
                </a:cubicBezTo>
                <a:cubicBezTo>
                  <a:pt x="498136" y="1502180"/>
                  <a:pt x="501564" y="1501387"/>
                  <a:pt x="506570" y="1500519"/>
                </a:cubicBezTo>
                <a:cubicBezTo>
                  <a:pt x="511565" y="1499638"/>
                  <a:pt x="516935" y="1498808"/>
                  <a:pt x="522622" y="1497977"/>
                </a:cubicBezTo>
                <a:cubicBezTo>
                  <a:pt x="528310" y="1497185"/>
                  <a:pt x="533736" y="1496417"/>
                  <a:pt x="538958" y="1495775"/>
                </a:cubicBezTo>
                <a:cubicBezTo>
                  <a:pt x="544157" y="1495046"/>
                  <a:pt x="548176" y="1494505"/>
                  <a:pt x="550992" y="1493989"/>
                </a:cubicBezTo>
                <a:cubicBezTo>
                  <a:pt x="541410" y="1487182"/>
                  <a:pt x="533929" y="1478312"/>
                  <a:pt x="528401" y="1467403"/>
                </a:cubicBezTo>
                <a:cubicBezTo>
                  <a:pt x="522906" y="1456469"/>
                  <a:pt x="520193" y="1444579"/>
                  <a:pt x="520193" y="1431720"/>
                </a:cubicBezTo>
                <a:cubicBezTo>
                  <a:pt x="520193" y="1421579"/>
                  <a:pt x="521964" y="1411979"/>
                  <a:pt x="525494" y="1403033"/>
                </a:cubicBezTo>
                <a:cubicBezTo>
                  <a:pt x="529025" y="1394087"/>
                  <a:pt x="533827" y="1386224"/>
                  <a:pt x="539810" y="1379442"/>
                </a:cubicBezTo>
                <a:cubicBezTo>
                  <a:pt x="545826" y="1372711"/>
                  <a:pt x="552819" y="1367351"/>
                  <a:pt x="560936" y="1363438"/>
                </a:cubicBezTo>
                <a:cubicBezTo>
                  <a:pt x="569007" y="1359487"/>
                  <a:pt x="577635" y="1357499"/>
                  <a:pt x="586819" y="1357499"/>
                </a:cubicBezTo>
                <a:close/>
                <a:moveTo>
                  <a:pt x="840518" y="1328210"/>
                </a:moveTo>
                <a:lnTo>
                  <a:pt x="882063" y="1369759"/>
                </a:lnTo>
                <a:lnTo>
                  <a:pt x="840518" y="1411304"/>
                </a:lnTo>
                <a:lnTo>
                  <a:pt x="798969" y="1369759"/>
                </a:lnTo>
                <a:lnTo>
                  <a:pt x="840518" y="1328210"/>
                </a:lnTo>
                <a:close/>
                <a:moveTo>
                  <a:pt x="703094" y="1195389"/>
                </a:moveTo>
                <a:cubicBezTo>
                  <a:pt x="708171" y="1195389"/>
                  <a:pt x="712978" y="1196480"/>
                  <a:pt x="717458" y="1198648"/>
                </a:cubicBezTo>
                <a:cubicBezTo>
                  <a:pt x="721958" y="1200796"/>
                  <a:pt x="725899" y="1203738"/>
                  <a:pt x="729262" y="1207433"/>
                </a:cubicBezTo>
                <a:cubicBezTo>
                  <a:pt x="732638" y="1211155"/>
                  <a:pt x="735280" y="1215471"/>
                  <a:pt x="737213" y="1220381"/>
                </a:cubicBezTo>
                <a:cubicBezTo>
                  <a:pt x="739127" y="1225292"/>
                  <a:pt x="740106" y="1230561"/>
                  <a:pt x="740106" y="1236127"/>
                </a:cubicBezTo>
                <a:cubicBezTo>
                  <a:pt x="740106" y="1243067"/>
                  <a:pt x="738606" y="1249545"/>
                  <a:pt x="735607" y="1255615"/>
                </a:cubicBezTo>
                <a:cubicBezTo>
                  <a:pt x="732695" y="1261679"/>
                  <a:pt x="728541" y="1266589"/>
                  <a:pt x="723225" y="1270325"/>
                </a:cubicBezTo>
                <a:cubicBezTo>
                  <a:pt x="724800" y="1270601"/>
                  <a:pt x="727003" y="1270905"/>
                  <a:pt x="729896" y="1271299"/>
                </a:cubicBezTo>
                <a:cubicBezTo>
                  <a:pt x="732764" y="1271658"/>
                  <a:pt x="735763" y="1272079"/>
                  <a:pt x="738895" y="1272514"/>
                </a:cubicBezTo>
                <a:cubicBezTo>
                  <a:pt x="742001" y="1272970"/>
                  <a:pt x="744913" y="1273426"/>
                  <a:pt x="747624" y="1273902"/>
                </a:cubicBezTo>
                <a:cubicBezTo>
                  <a:pt x="750316" y="1274386"/>
                  <a:pt x="752280" y="1274821"/>
                  <a:pt x="753491" y="1275180"/>
                </a:cubicBezTo>
                <a:cubicBezTo>
                  <a:pt x="755499" y="1275815"/>
                  <a:pt x="757557" y="1277169"/>
                  <a:pt x="759603" y="1279178"/>
                </a:cubicBezTo>
                <a:cubicBezTo>
                  <a:pt x="761643" y="1281223"/>
                  <a:pt x="763538" y="1283571"/>
                  <a:pt x="765257" y="1286216"/>
                </a:cubicBezTo>
                <a:cubicBezTo>
                  <a:pt x="766989" y="1288881"/>
                  <a:pt x="768382" y="1291623"/>
                  <a:pt x="769430" y="1294503"/>
                </a:cubicBezTo>
                <a:cubicBezTo>
                  <a:pt x="770516" y="1297327"/>
                  <a:pt x="771043" y="1299931"/>
                  <a:pt x="771043" y="1302300"/>
                </a:cubicBezTo>
                <a:lnTo>
                  <a:pt x="771043" y="1339122"/>
                </a:lnTo>
                <a:cubicBezTo>
                  <a:pt x="770459" y="1339405"/>
                  <a:pt x="769832" y="1339819"/>
                  <a:pt x="769104" y="1340455"/>
                </a:cubicBezTo>
                <a:cubicBezTo>
                  <a:pt x="768382" y="1341111"/>
                  <a:pt x="767604" y="1341712"/>
                  <a:pt x="766776" y="1342326"/>
                </a:cubicBezTo>
                <a:cubicBezTo>
                  <a:pt x="765929" y="1342920"/>
                  <a:pt x="765132" y="1343459"/>
                  <a:pt x="764391" y="1343894"/>
                </a:cubicBezTo>
                <a:cubicBezTo>
                  <a:pt x="763632" y="1344357"/>
                  <a:pt x="762998" y="1344550"/>
                  <a:pt x="762490" y="1344550"/>
                </a:cubicBezTo>
                <a:lnTo>
                  <a:pt x="643969" y="1344550"/>
                </a:lnTo>
                <a:cubicBezTo>
                  <a:pt x="641948" y="1344550"/>
                  <a:pt x="640429" y="1343880"/>
                  <a:pt x="639381" y="1342506"/>
                </a:cubicBezTo>
                <a:cubicBezTo>
                  <a:pt x="638333" y="1341152"/>
                  <a:pt x="637047" y="1340020"/>
                  <a:pt x="635497" y="1339122"/>
                </a:cubicBezTo>
                <a:lnTo>
                  <a:pt x="635497" y="1302300"/>
                </a:lnTo>
                <a:cubicBezTo>
                  <a:pt x="635497" y="1299931"/>
                  <a:pt x="636018" y="1297327"/>
                  <a:pt x="637085" y="1294503"/>
                </a:cubicBezTo>
                <a:cubicBezTo>
                  <a:pt x="638170" y="1291623"/>
                  <a:pt x="639545" y="1288916"/>
                  <a:pt x="641239" y="1286312"/>
                </a:cubicBezTo>
                <a:cubicBezTo>
                  <a:pt x="642939" y="1283709"/>
                  <a:pt x="644816" y="1281361"/>
                  <a:pt x="646899" y="1279254"/>
                </a:cubicBezTo>
                <a:cubicBezTo>
                  <a:pt x="648957" y="1277190"/>
                  <a:pt x="651016" y="1275795"/>
                  <a:pt x="653043" y="1275159"/>
                </a:cubicBezTo>
                <a:cubicBezTo>
                  <a:pt x="654072" y="1274800"/>
                  <a:pt x="655967" y="1274365"/>
                  <a:pt x="658734" y="1273889"/>
                </a:cubicBezTo>
                <a:cubicBezTo>
                  <a:pt x="661495" y="1273405"/>
                  <a:pt x="664464" y="1272949"/>
                  <a:pt x="667608" y="1272494"/>
                </a:cubicBezTo>
                <a:cubicBezTo>
                  <a:pt x="670752" y="1272058"/>
                  <a:pt x="673751" y="1271637"/>
                  <a:pt x="676638" y="1271285"/>
                </a:cubicBezTo>
                <a:cubicBezTo>
                  <a:pt x="679512" y="1270884"/>
                  <a:pt x="681733" y="1270587"/>
                  <a:pt x="683290" y="1270304"/>
                </a:cubicBezTo>
                <a:cubicBezTo>
                  <a:pt x="677993" y="1266568"/>
                  <a:pt x="673858" y="1261700"/>
                  <a:pt x="670802" y="1255712"/>
                </a:cubicBezTo>
                <a:cubicBezTo>
                  <a:pt x="667764" y="1249711"/>
                  <a:pt x="666265" y="1243185"/>
                  <a:pt x="666265" y="1236127"/>
                </a:cubicBezTo>
                <a:cubicBezTo>
                  <a:pt x="666265" y="1230561"/>
                  <a:pt x="667244" y="1225292"/>
                  <a:pt x="669195" y="1220381"/>
                </a:cubicBezTo>
                <a:cubicBezTo>
                  <a:pt x="671147" y="1215471"/>
                  <a:pt x="673801" y="1211155"/>
                  <a:pt x="677108" y="1207433"/>
                </a:cubicBezTo>
                <a:cubicBezTo>
                  <a:pt x="680434" y="1203738"/>
                  <a:pt x="684300" y="1200796"/>
                  <a:pt x="688780" y="1198648"/>
                </a:cubicBezTo>
                <a:cubicBezTo>
                  <a:pt x="693248" y="1196480"/>
                  <a:pt x="698018" y="1195389"/>
                  <a:pt x="703094" y="1195389"/>
                </a:cubicBezTo>
                <a:close/>
                <a:moveTo>
                  <a:pt x="926517" y="1178361"/>
                </a:moveTo>
                <a:cubicBezTo>
                  <a:pt x="931287" y="1178361"/>
                  <a:pt x="935804" y="1179382"/>
                  <a:pt x="940015" y="1181412"/>
                </a:cubicBezTo>
                <a:cubicBezTo>
                  <a:pt x="944243" y="1183423"/>
                  <a:pt x="947946" y="1186176"/>
                  <a:pt x="951107" y="1189635"/>
                </a:cubicBezTo>
                <a:cubicBezTo>
                  <a:pt x="954279" y="1193119"/>
                  <a:pt x="956762" y="1197160"/>
                  <a:pt x="958578" y="1201756"/>
                </a:cubicBezTo>
                <a:cubicBezTo>
                  <a:pt x="960377" y="1206352"/>
                  <a:pt x="961297" y="1211285"/>
                  <a:pt x="961297" y="1216495"/>
                </a:cubicBezTo>
                <a:cubicBezTo>
                  <a:pt x="961297" y="1222992"/>
                  <a:pt x="959887" y="1229062"/>
                  <a:pt x="957068" y="1234738"/>
                </a:cubicBezTo>
                <a:cubicBezTo>
                  <a:pt x="954332" y="1240414"/>
                  <a:pt x="950429" y="1245010"/>
                  <a:pt x="945434" y="1248507"/>
                </a:cubicBezTo>
                <a:cubicBezTo>
                  <a:pt x="946914" y="1248766"/>
                  <a:pt x="948984" y="1249050"/>
                  <a:pt x="951702" y="1249419"/>
                </a:cubicBezTo>
                <a:cubicBezTo>
                  <a:pt x="954397" y="1249755"/>
                  <a:pt x="957216" y="1250149"/>
                  <a:pt x="960158" y="1250556"/>
                </a:cubicBezTo>
                <a:cubicBezTo>
                  <a:pt x="963077" y="1250983"/>
                  <a:pt x="965814" y="1251410"/>
                  <a:pt x="968361" y="1251856"/>
                </a:cubicBezTo>
                <a:cubicBezTo>
                  <a:pt x="970891" y="1252308"/>
                  <a:pt x="972736" y="1252715"/>
                  <a:pt x="973875" y="1253052"/>
                </a:cubicBezTo>
                <a:cubicBezTo>
                  <a:pt x="975761" y="1253646"/>
                  <a:pt x="977696" y="1254913"/>
                  <a:pt x="979618" y="1256795"/>
                </a:cubicBezTo>
                <a:cubicBezTo>
                  <a:pt x="981535" y="1258708"/>
                  <a:pt x="983315" y="1260906"/>
                  <a:pt x="984931" y="1263382"/>
                </a:cubicBezTo>
                <a:cubicBezTo>
                  <a:pt x="986559" y="1265877"/>
                  <a:pt x="987868" y="1268444"/>
                  <a:pt x="988853" y="1271139"/>
                </a:cubicBezTo>
                <a:cubicBezTo>
                  <a:pt x="989873" y="1273783"/>
                  <a:pt x="990362" y="1276220"/>
                  <a:pt x="990362" y="1278438"/>
                </a:cubicBezTo>
                <a:lnTo>
                  <a:pt x="990362" y="1312906"/>
                </a:lnTo>
                <a:cubicBezTo>
                  <a:pt x="989820" y="1313171"/>
                  <a:pt x="989230" y="1313559"/>
                  <a:pt x="988546" y="1314154"/>
                </a:cubicBezTo>
                <a:cubicBezTo>
                  <a:pt x="987868" y="1314768"/>
                  <a:pt x="987137" y="1315330"/>
                  <a:pt x="986358" y="1315906"/>
                </a:cubicBezTo>
                <a:cubicBezTo>
                  <a:pt x="985562" y="1316462"/>
                  <a:pt x="984813" y="1316966"/>
                  <a:pt x="984117" y="1317373"/>
                </a:cubicBezTo>
                <a:cubicBezTo>
                  <a:pt x="983404" y="1317806"/>
                  <a:pt x="982808" y="1317987"/>
                  <a:pt x="982331" y="1317987"/>
                </a:cubicBezTo>
                <a:lnTo>
                  <a:pt x="870957" y="1317987"/>
                </a:lnTo>
                <a:cubicBezTo>
                  <a:pt x="869058" y="1317987"/>
                  <a:pt x="867631" y="1317360"/>
                  <a:pt x="866646" y="1316074"/>
                </a:cubicBezTo>
                <a:cubicBezTo>
                  <a:pt x="865661" y="1314807"/>
                  <a:pt x="864453" y="1313747"/>
                  <a:pt x="862996" y="1312906"/>
                </a:cubicBezTo>
                <a:lnTo>
                  <a:pt x="862996" y="1278438"/>
                </a:lnTo>
                <a:cubicBezTo>
                  <a:pt x="862996" y="1276220"/>
                  <a:pt x="863485" y="1273783"/>
                  <a:pt x="864488" y="1271139"/>
                </a:cubicBezTo>
                <a:cubicBezTo>
                  <a:pt x="865508" y="1268444"/>
                  <a:pt x="866799" y="1265909"/>
                  <a:pt x="868392" y="1263472"/>
                </a:cubicBezTo>
                <a:cubicBezTo>
                  <a:pt x="869990" y="1261035"/>
                  <a:pt x="871753" y="1258837"/>
                  <a:pt x="873711" y="1256866"/>
                </a:cubicBezTo>
                <a:cubicBezTo>
                  <a:pt x="875645" y="1254933"/>
                  <a:pt x="877579" y="1253627"/>
                  <a:pt x="879484" y="1253032"/>
                </a:cubicBezTo>
                <a:cubicBezTo>
                  <a:pt x="880451" y="1252696"/>
                  <a:pt x="882232" y="1252289"/>
                  <a:pt x="884832" y="1251843"/>
                </a:cubicBezTo>
                <a:cubicBezTo>
                  <a:pt x="887427" y="1251390"/>
                  <a:pt x="890216" y="1250964"/>
                  <a:pt x="893170" y="1250537"/>
                </a:cubicBezTo>
                <a:cubicBezTo>
                  <a:pt x="896125" y="1250130"/>
                  <a:pt x="898943" y="1249735"/>
                  <a:pt x="901656" y="1249406"/>
                </a:cubicBezTo>
                <a:cubicBezTo>
                  <a:pt x="904357" y="1249031"/>
                  <a:pt x="906444" y="1248753"/>
                  <a:pt x="907906" y="1248488"/>
                </a:cubicBezTo>
                <a:cubicBezTo>
                  <a:pt x="902929" y="1244990"/>
                  <a:pt x="899043" y="1240433"/>
                  <a:pt x="896172" y="1234828"/>
                </a:cubicBezTo>
                <a:cubicBezTo>
                  <a:pt x="893318" y="1229211"/>
                  <a:pt x="891908" y="1223102"/>
                  <a:pt x="891908" y="1216495"/>
                </a:cubicBezTo>
                <a:cubicBezTo>
                  <a:pt x="891908" y="1211285"/>
                  <a:pt x="892828" y="1206352"/>
                  <a:pt x="894662" y="1201756"/>
                </a:cubicBezTo>
                <a:cubicBezTo>
                  <a:pt x="896496" y="1197160"/>
                  <a:pt x="898990" y="1193119"/>
                  <a:pt x="902098" y="1189635"/>
                </a:cubicBezTo>
                <a:cubicBezTo>
                  <a:pt x="905223" y="1186176"/>
                  <a:pt x="908856" y="1183423"/>
                  <a:pt x="913072" y="1181412"/>
                </a:cubicBezTo>
                <a:cubicBezTo>
                  <a:pt x="917265" y="1179382"/>
                  <a:pt x="921746" y="1178361"/>
                  <a:pt x="926517" y="1178361"/>
                </a:cubicBezTo>
                <a:close/>
                <a:moveTo>
                  <a:pt x="792760" y="1151797"/>
                </a:moveTo>
                <a:cubicBezTo>
                  <a:pt x="795056" y="1151797"/>
                  <a:pt x="797229" y="1152310"/>
                  <a:pt x="799256" y="1153330"/>
                </a:cubicBezTo>
                <a:cubicBezTo>
                  <a:pt x="801291" y="1154340"/>
                  <a:pt x="803073" y="1155724"/>
                  <a:pt x="804594" y="1157461"/>
                </a:cubicBezTo>
                <a:cubicBezTo>
                  <a:pt x="806121" y="1159212"/>
                  <a:pt x="807316" y="1161242"/>
                  <a:pt x="808190" y="1163551"/>
                </a:cubicBezTo>
                <a:cubicBezTo>
                  <a:pt x="809056" y="1165861"/>
                  <a:pt x="809498" y="1168339"/>
                  <a:pt x="809498" y="1170957"/>
                </a:cubicBezTo>
                <a:cubicBezTo>
                  <a:pt x="809498" y="1174221"/>
                  <a:pt x="808820" y="1177271"/>
                  <a:pt x="807463" y="1180123"/>
                </a:cubicBezTo>
                <a:cubicBezTo>
                  <a:pt x="806147" y="1182975"/>
                  <a:pt x="804268" y="1185284"/>
                  <a:pt x="801864" y="1187041"/>
                </a:cubicBezTo>
                <a:cubicBezTo>
                  <a:pt x="802576" y="1187171"/>
                  <a:pt x="803573" y="1187314"/>
                  <a:pt x="804881" y="1187499"/>
                </a:cubicBezTo>
                <a:cubicBezTo>
                  <a:pt x="806178" y="1187668"/>
                  <a:pt x="807534" y="1187866"/>
                  <a:pt x="808951" y="1188071"/>
                </a:cubicBezTo>
                <a:cubicBezTo>
                  <a:pt x="810355" y="1188285"/>
                  <a:pt x="811672" y="1188499"/>
                  <a:pt x="812898" y="1188723"/>
                </a:cubicBezTo>
                <a:cubicBezTo>
                  <a:pt x="814116" y="1188951"/>
                  <a:pt x="815004" y="1189155"/>
                  <a:pt x="815552" y="1189324"/>
                </a:cubicBezTo>
                <a:cubicBezTo>
                  <a:pt x="816460" y="1189623"/>
                  <a:pt x="817391" y="1190260"/>
                  <a:pt x="818316" y="1191205"/>
                </a:cubicBezTo>
                <a:cubicBezTo>
                  <a:pt x="819239" y="1192166"/>
                  <a:pt x="820096" y="1193271"/>
                  <a:pt x="820873" y="1194515"/>
                </a:cubicBezTo>
                <a:cubicBezTo>
                  <a:pt x="821657" y="1195768"/>
                  <a:pt x="822287" y="1197058"/>
                  <a:pt x="822761" y="1198412"/>
                </a:cubicBezTo>
                <a:cubicBezTo>
                  <a:pt x="823252" y="1199741"/>
                  <a:pt x="823490" y="1200965"/>
                  <a:pt x="823490" y="1202079"/>
                </a:cubicBezTo>
                <a:lnTo>
                  <a:pt x="823490" y="1219398"/>
                </a:lnTo>
                <a:cubicBezTo>
                  <a:pt x="823226" y="1219531"/>
                  <a:pt x="822942" y="1219726"/>
                  <a:pt x="822613" y="1220025"/>
                </a:cubicBezTo>
                <a:cubicBezTo>
                  <a:pt x="822287" y="1220333"/>
                  <a:pt x="821935" y="1220616"/>
                  <a:pt x="821560" y="1220905"/>
                </a:cubicBezTo>
                <a:cubicBezTo>
                  <a:pt x="821177" y="1221184"/>
                  <a:pt x="820817" y="1221437"/>
                  <a:pt x="820482" y="1221642"/>
                </a:cubicBezTo>
                <a:cubicBezTo>
                  <a:pt x="820138" y="1221860"/>
                  <a:pt x="819852" y="1221951"/>
                  <a:pt x="819622" y="1221951"/>
                </a:cubicBezTo>
                <a:lnTo>
                  <a:pt x="766019" y="1221951"/>
                </a:lnTo>
                <a:cubicBezTo>
                  <a:pt x="765106" y="1221951"/>
                  <a:pt x="764419" y="1221636"/>
                  <a:pt x="763945" y="1220989"/>
                </a:cubicBezTo>
                <a:cubicBezTo>
                  <a:pt x="763471" y="1220353"/>
                  <a:pt x="762889" y="1219820"/>
                  <a:pt x="762188" y="1219398"/>
                </a:cubicBezTo>
                <a:lnTo>
                  <a:pt x="762188" y="1202079"/>
                </a:lnTo>
                <a:cubicBezTo>
                  <a:pt x="762188" y="1200965"/>
                  <a:pt x="762424" y="1199741"/>
                  <a:pt x="762906" y="1198412"/>
                </a:cubicBezTo>
                <a:cubicBezTo>
                  <a:pt x="763397" y="1197058"/>
                  <a:pt x="764019" y="1195785"/>
                  <a:pt x="764785" y="1194560"/>
                </a:cubicBezTo>
                <a:cubicBezTo>
                  <a:pt x="765554" y="1193336"/>
                  <a:pt x="766403" y="1192231"/>
                  <a:pt x="767345" y="1191241"/>
                </a:cubicBezTo>
                <a:cubicBezTo>
                  <a:pt x="768276" y="1190270"/>
                  <a:pt x="769207" y="1189613"/>
                  <a:pt x="770123" y="1189315"/>
                </a:cubicBezTo>
                <a:cubicBezTo>
                  <a:pt x="770589" y="1189146"/>
                  <a:pt x="771446" y="1188941"/>
                  <a:pt x="772697" y="1188717"/>
                </a:cubicBezTo>
                <a:cubicBezTo>
                  <a:pt x="773946" y="1188490"/>
                  <a:pt x="775288" y="1188275"/>
                  <a:pt x="776710" y="1188061"/>
                </a:cubicBezTo>
                <a:cubicBezTo>
                  <a:pt x="778132" y="1187856"/>
                  <a:pt x="779489" y="1187658"/>
                  <a:pt x="780794" y="1187492"/>
                </a:cubicBezTo>
                <a:cubicBezTo>
                  <a:pt x="782094" y="1187304"/>
                  <a:pt x="783099" y="1187164"/>
                  <a:pt x="783803" y="1187031"/>
                </a:cubicBezTo>
                <a:cubicBezTo>
                  <a:pt x="781407" y="1185274"/>
                  <a:pt x="779537" y="1182984"/>
                  <a:pt x="778155" y="1180168"/>
                </a:cubicBezTo>
                <a:cubicBezTo>
                  <a:pt x="776781" y="1177346"/>
                  <a:pt x="776103" y="1174276"/>
                  <a:pt x="776103" y="1170957"/>
                </a:cubicBezTo>
                <a:cubicBezTo>
                  <a:pt x="776103" y="1168339"/>
                  <a:pt x="776546" y="1165861"/>
                  <a:pt x="777428" y="1163551"/>
                </a:cubicBezTo>
                <a:cubicBezTo>
                  <a:pt x="778311" y="1161242"/>
                  <a:pt x="779511" y="1159212"/>
                  <a:pt x="781007" y="1157461"/>
                </a:cubicBezTo>
                <a:cubicBezTo>
                  <a:pt x="782511" y="1155724"/>
                  <a:pt x="784260" y="1154340"/>
                  <a:pt x="786289" y="1153330"/>
                </a:cubicBezTo>
                <a:cubicBezTo>
                  <a:pt x="788307" y="1152310"/>
                  <a:pt x="790464" y="1151797"/>
                  <a:pt x="792760" y="1151797"/>
                </a:cubicBezTo>
                <a:close/>
                <a:moveTo>
                  <a:pt x="1278488" y="1065293"/>
                </a:moveTo>
                <a:lnTo>
                  <a:pt x="1320033" y="1106842"/>
                </a:lnTo>
                <a:lnTo>
                  <a:pt x="1278488" y="1148387"/>
                </a:lnTo>
                <a:lnTo>
                  <a:pt x="1236939" y="1106842"/>
                </a:lnTo>
                <a:lnTo>
                  <a:pt x="1278488" y="1065293"/>
                </a:lnTo>
                <a:close/>
                <a:moveTo>
                  <a:pt x="1152160" y="1059843"/>
                </a:moveTo>
                <a:cubicBezTo>
                  <a:pt x="1161344" y="1059843"/>
                  <a:pt x="1170040" y="1061831"/>
                  <a:pt x="1178145" y="1065782"/>
                </a:cubicBezTo>
                <a:cubicBezTo>
                  <a:pt x="1186285" y="1069695"/>
                  <a:pt x="1193414" y="1075055"/>
                  <a:pt x="1199499" y="1081786"/>
                </a:cubicBezTo>
                <a:cubicBezTo>
                  <a:pt x="1205606" y="1088568"/>
                  <a:pt x="1210386" y="1096431"/>
                  <a:pt x="1213882" y="1105377"/>
                </a:cubicBezTo>
                <a:cubicBezTo>
                  <a:pt x="1217345" y="1114323"/>
                  <a:pt x="1219116" y="1123923"/>
                  <a:pt x="1219116" y="1134064"/>
                </a:cubicBezTo>
                <a:cubicBezTo>
                  <a:pt x="1219116" y="1146709"/>
                  <a:pt x="1216402" y="1158524"/>
                  <a:pt x="1210976" y="1169571"/>
                </a:cubicBezTo>
                <a:cubicBezTo>
                  <a:pt x="1205709" y="1180618"/>
                  <a:pt x="1198193" y="1189564"/>
                  <a:pt x="1188578" y="1196371"/>
                </a:cubicBezTo>
                <a:cubicBezTo>
                  <a:pt x="1191427" y="1196874"/>
                  <a:pt x="1195412" y="1197427"/>
                  <a:pt x="1200645" y="1198145"/>
                </a:cubicBezTo>
                <a:cubicBezTo>
                  <a:pt x="1205833" y="1198799"/>
                  <a:pt x="1211260" y="1199566"/>
                  <a:pt x="1216925" y="1200359"/>
                </a:cubicBezTo>
                <a:cubicBezTo>
                  <a:pt x="1222544" y="1201189"/>
                  <a:pt x="1227811" y="1202020"/>
                  <a:pt x="1232715" y="1202888"/>
                </a:cubicBezTo>
                <a:cubicBezTo>
                  <a:pt x="1237586" y="1203769"/>
                  <a:pt x="1241139" y="1204561"/>
                  <a:pt x="1243330" y="1205216"/>
                </a:cubicBezTo>
                <a:cubicBezTo>
                  <a:pt x="1246963" y="1206373"/>
                  <a:pt x="1250686" y="1208839"/>
                  <a:pt x="1254387" y="1212501"/>
                </a:cubicBezTo>
                <a:cubicBezTo>
                  <a:pt x="1258076" y="1216225"/>
                  <a:pt x="1261505" y="1220503"/>
                  <a:pt x="1264615" y="1225322"/>
                </a:cubicBezTo>
                <a:cubicBezTo>
                  <a:pt x="1267748" y="1230178"/>
                  <a:pt x="1270269" y="1235174"/>
                  <a:pt x="1272164" y="1240420"/>
                </a:cubicBezTo>
                <a:cubicBezTo>
                  <a:pt x="1274128" y="1245566"/>
                  <a:pt x="1275082" y="1250310"/>
                  <a:pt x="1275082" y="1254625"/>
                </a:cubicBezTo>
                <a:lnTo>
                  <a:pt x="1275082" y="1321713"/>
                </a:lnTo>
                <a:cubicBezTo>
                  <a:pt x="1274026" y="1322229"/>
                  <a:pt x="1272891" y="1322984"/>
                  <a:pt x="1271574" y="1324141"/>
                </a:cubicBezTo>
                <a:cubicBezTo>
                  <a:pt x="1270269" y="1325336"/>
                  <a:pt x="1268861" y="1326431"/>
                  <a:pt x="1267362" y="1327551"/>
                </a:cubicBezTo>
                <a:cubicBezTo>
                  <a:pt x="1265830" y="1328633"/>
                  <a:pt x="1264388" y="1329614"/>
                  <a:pt x="1263049" y="1330407"/>
                </a:cubicBezTo>
                <a:cubicBezTo>
                  <a:pt x="1261675" y="1331250"/>
                  <a:pt x="1260528" y="1331615"/>
                  <a:pt x="1259609" y="1331615"/>
                </a:cubicBezTo>
                <a:lnTo>
                  <a:pt x="1045199" y="1331615"/>
                </a:lnTo>
                <a:cubicBezTo>
                  <a:pt x="1041544" y="1331615"/>
                  <a:pt x="1038797" y="1330382"/>
                  <a:pt x="1036901" y="1327878"/>
                </a:cubicBezTo>
                <a:cubicBezTo>
                  <a:pt x="1035005" y="1325412"/>
                  <a:pt x="1032678" y="1323348"/>
                  <a:pt x="1029874" y="1321713"/>
                </a:cubicBezTo>
                <a:lnTo>
                  <a:pt x="1029874" y="1254625"/>
                </a:lnTo>
                <a:cubicBezTo>
                  <a:pt x="1029874" y="1250310"/>
                  <a:pt x="1030816" y="1245566"/>
                  <a:pt x="1032746" y="1240420"/>
                </a:cubicBezTo>
                <a:cubicBezTo>
                  <a:pt x="1034710" y="1235174"/>
                  <a:pt x="1037196" y="1230241"/>
                  <a:pt x="1040261" y="1225498"/>
                </a:cubicBezTo>
                <a:cubicBezTo>
                  <a:pt x="1043338" y="1220755"/>
                  <a:pt x="1046732" y="1216477"/>
                  <a:pt x="1050501" y="1212639"/>
                </a:cubicBezTo>
                <a:cubicBezTo>
                  <a:pt x="1054225" y="1208877"/>
                  <a:pt x="1057948" y="1206336"/>
                  <a:pt x="1061615" y="1205178"/>
                </a:cubicBezTo>
                <a:cubicBezTo>
                  <a:pt x="1063477" y="1204524"/>
                  <a:pt x="1066905" y="1203731"/>
                  <a:pt x="1071911" y="1202863"/>
                </a:cubicBezTo>
                <a:cubicBezTo>
                  <a:pt x="1076906" y="1201982"/>
                  <a:pt x="1082276" y="1201152"/>
                  <a:pt x="1087963" y="1200321"/>
                </a:cubicBezTo>
                <a:cubicBezTo>
                  <a:pt x="1093651" y="1199529"/>
                  <a:pt x="1099077" y="1198761"/>
                  <a:pt x="1104299" y="1198119"/>
                </a:cubicBezTo>
                <a:cubicBezTo>
                  <a:pt x="1109498" y="1197390"/>
                  <a:pt x="1113517" y="1196849"/>
                  <a:pt x="1116333" y="1196333"/>
                </a:cubicBezTo>
                <a:cubicBezTo>
                  <a:pt x="1106751" y="1189526"/>
                  <a:pt x="1099270" y="1180656"/>
                  <a:pt x="1093742" y="1169747"/>
                </a:cubicBezTo>
                <a:cubicBezTo>
                  <a:pt x="1088247" y="1158813"/>
                  <a:pt x="1085534" y="1146923"/>
                  <a:pt x="1085534" y="1134064"/>
                </a:cubicBezTo>
                <a:cubicBezTo>
                  <a:pt x="1085534" y="1123923"/>
                  <a:pt x="1087305" y="1114323"/>
                  <a:pt x="1090835" y="1105377"/>
                </a:cubicBezTo>
                <a:cubicBezTo>
                  <a:pt x="1094366" y="1096431"/>
                  <a:pt x="1099168" y="1088568"/>
                  <a:pt x="1105151" y="1081786"/>
                </a:cubicBezTo>
                <a:cubicBezTo>
                  <a:pt x="1111167" y="1075055"/>
                  <a:pt x="1118160" y="1069695"/>
                  <a:pt x="1126277" y="1065782"/>
                </a:cubicBezTo>
                <a:cubicBezTo>
                  <a:pt x="1134349" y="1061831"/>
                  <a:pt x="1142976" y="1059843"/>
                  <a:pt x="1152160" y="1059843"/>
                </a:cubicBezTo>
                <a:close/>
                <a:moveTo>
                  <a:pt x="1399950" y="1050989"/>
                </a:moveTo>
                <a:cubicBezTo>
                  <a:pt x="1403394" y="1050989"/>
                  <a:pt x="1406655" y="1051726"/>
                  <a:pt x="1409695" y="1053192"/>
                </a:cubicBezTo>
                <a:cubicBezTo>
                  <a:pt x="1412747" y="1054643"/>
                  <a:pt x="1415421" y="1056631"/>
                  <a:pt x="1417702" y="1059128"/>
                </a:cubicBezTo>
                <a:cubicBezTo>
                  <a:pt x="1419993" y="1061644"/>
                  <a:pt x="1421785" y="1064561"/>
                  <a:pt x="1423096" y="1067879"/>
                </a:cubicBezTo>
                <a:cubicBezTo>
                  <a:pt x="1424394" y="1071197"/>
                  <a:pt x="1425059" y="1074758"/>
                  <a:pt x="1425059" y="1078520"/>
                </a:cubicBezTo>
                <a:cubicBezTo>
                  <a:pt x="1425059" y="1083210"/>
                  <a:pt x="1424041" y="1087592"/>
                  <a:pt x="1422006" y="1091690"/>
                </a:cubicBezTo>
                <a:cubicBezTo>
                  <a:pt x="1420031" y="1095788"/>
                  <a:pt x="1417213" y="1099106"/>
                  <a:pt x="1413607" y="1101631"/>
                </a:cubicBezTo>
                <a:cubicBezTo>
                  <a:pt x="1414676" y="1101818"/>
                  <a:pt x="1416170" y="1102023"/>
                  <a:pt x="1418132" y="1102289"/>
                </a:cubicBezTo>
                <a:cubicBezTo>
                  <a:pt x="1420078" y="1102532"/>
                  <a:pt x="1422113" y="1102816"/>
                  <a:pt x="1424237" y="1103110"/>
                </a:cubicBezTo>
                <a:cubicBezTo>
                  <a:pt x="1426344" y="1103418"/>
                  <a:pt x="1428320" y="1103726"/>
                  <a:pt x="1430159" y="1104048"/>
                </a:cubicBezTo>
                <a:cubicBezTo>
                  <a:pt x="1431985" y="1104375"/>
                  <a:pt x="1433317" y="1104669"/>
                  <a:pt x="1434139" y="1104912"/>
                </a:cubicBezTo>
                <a:cubicBezTo>
                  <a:pt x="1435501" y="1105341"/>
                  <a:pt x="1436898" y="1106256"/>
                  <a:pt x="1438285" y="1107614"/>
                </a:cubicBezTo>
                <a:cubicBezTo>
                  <a:pt x="1439669" y="1108995"/>
                  <a:pt x="1440955" y="1110582"/>
                  <a:pt x="1442121" y="1112370"/>
                </a:cubicBezTo>
                <a:cubicBezTo>
                  <a:pt x="1443296" y="1114171"/>
                  <a:pt x="1444241" y="1116024"/>
                  <a:pt x="1444952" y="1117970"/>
                </a:cubicBezTo>
                <a:cubicBezTo>
                  <a:pt x="1445688" y="1119879"/>
                  <a:pt x="1446046" y="1121638"/>
                  <a:pt x="1446046" y="1123239"/>
                </a:cubicBezTo>
                <a:lnTo>
                  <a:pt x="1446046" y="1148124"/>
                </a:lnTo>
                <a:cubicBezTo>
                  <a:pt x="1445650" y="1148315"/>
                  <a:pt x="1445224" y="1148595"/>
                  <a:pt x="1444731" y="1149025"/>
                </a:cubicBezTo>
                <a:cubicBezTo>
                  <a:pt x="1444241" y="1149468"/>
                  <a:pt x="1443713" y="1149874"/>
                  <a:pt x="1443151" y="1150289"/>
                </a:cubicBezTo>
                <a:cubicBezTo>
                  <a:pt x="1442576" y="1150691"/>
                  <a:pt x="1442036" y="1151055"/>
                  <a:pt x="1441533" y="1151349"/>
                </a:cubicBezTo>
                <a:cubicBezTo>
                  <a:pt x="1441018" y="1151662"/>
                  <a:pt x="1440588" y="1151797"/>
                  <a:pt x="1440244" y="1151797"/>
                </a:cubicBezTo>
                <a:lnTo>
                  <a:pt x="1359840" y="1151797"/>
                </a:lnTo>
                <a:cubicBezTo>
                  <a:pt x="1358469" y="1151797"/>
                  <a:pt x="1357439" y="1151340"/>
                  <a:pt x="1356728" y="1150411"/>
                </a:cubicBezTo>
                <a:cubicBezTo>
                  <a:pt x="1356017" y="1149496"/>
                  <a:pt x="1355144" y="1148731"/>
                  <a:pt x="1354093" y="1148124"/>
                </a:cubicBezTo>
                <a:lnTo>
                  <a:pt x="1354093" y="1123239"/>
                </a:lnTo>
                <a:cubicBezTo>
                  <a:pt x="1354093" y="1121638"/>
                  <a:pt x="1354446" y="1119879"/>
                  <a:pt x="1355170" y="1117970"/>
                </a:cubicBezTo>
                <a:cubicBezTo>
                  <a:pt x="1355907" y="1116024"/>
                  <a:pt x="1356839" y="1114195"/>
                  <a:pt x="1357988" y="1112435"/>
                </a:cubicBezTo>
                <a:cubicBezTo>
                  <a:pt x="1359142" y="1110676"/>
                  <a:pt x="1360415" y="1109089"/>
                  <a:pt x="1361828" y="1107665"/>
                </a:cubicBezTo>
                <a:cubicBezTo>
                  <a:pt x="1363224" y="1106270"/>
                  <a:pt x="1364621" y="1105327"/>
                  <a:pt x="1365996" y="1104898"/>
                </a:cubicBezTo>
                <a:cubicBezTo>
                  <a:pt x="1366694" y="1104655"/>
                  <a:pt x="1367980" y="1104361"/>
                  <a:pt x="1369857" y="1104039"/>
                </a:cubicBezTo>
                <a:cubicBezTo>
                  <a:pt x="1371730" y="1103712"/>
                  <a:pt x="1373744" y="1103404"/>
                  <a:pt x="1375876" y="1103096"/>
                </a:cubicBezTo>
                <a:cubicBezTo>
                  <a:pt x="1378009" y="1102802"/>
                  <a:pt x="1380044" y="1102518"/>
                  <a:pt x="1382002" y="1102280"/>
                </a:cubicBezTo>
                <a:cubicBezTo>
                  <a:pt x="1383952" y="1102009"/>
                  <a:pt x="1385459" y="1101808"/>
                  <a:pt x="1386515" y="1101617"/>
                </a:cubicBezTo>
                <a:cubicBezTo>
                  <a:pt x="1382922" y="1099092"/>
                  <a:pt x="1380117" y="1095802"/>
                  <a:pt x="1378043" y="1091755"/>
                </a:cubicBezTo>
                <a:cubicBezTo>
                  <a:pt x="1375983" y="1087700"/>
                  <a:pt x="1374965" y="1083289"/>
                  <a:pt x="1374965" y="1078520"/>
                </a:cubicBezTo>
                <a:cubicBezTo>
                  <a:pt x="1374965" y="1074758"/>
                  <a:pt x="1375630" y="1071197"/>
                  <a:pt x="1376954" y="1067879"/>
                </a:cubicBezTo>
                <a:cubicBezTo>
                  <a:pt x="1378277" y="1064561"/>
                  <a:pt x="1380078" y="1061644"/>
                  <a:pt x="1382322" y="1059128"/>
                </a:cubicBezTo>
                <a:cubicBezTo>
                  <a:pt x="1384578" y="1056631"/>
                  <a:pt x="1387200" y="1054643"/>
                  <a:pt x="1390244" y="1053192"/>
                </a:cubicBezTo>
                <a:cubicBezTo>
                  <a:pt x="1393271" y="1051726"/>
                  <a:pt x="1396506" y="1050989"/>
                  <a:pt x="1399950" y="1050989"/>
                </a:cubicBezTo>
                <a:close/>
                <a:moveTo>
                  <a:pt x="1037366" y="1030555"/>
                </a:moveTo>
                <a:lnTo>
                  <a:pt x="1078911" y="1072104"/>
                </a:lnTo>
                <a:lnTo>
                  <a:pt x="1037366" y="1113649"/>
                </a:lnTo>
                <a:lnTo>
                  <a:pt x="995817" y="1072104"/>
                </a:lnTo>
                <a:lnTo>
                  <a:pt x="1037366" y="1030555"/>
                </a:lnTo>
                <a:close/>
                <a:moveTo>
                  <a:pt x="926562" y="1020338"/>
                </a:moveTo>
                <a:cubicBezTo>
                  <a:pt x="930006" y="1020338"/>
                  <a:pt x="933267" y="1021075"/>
                  <a:pt x="936307" y="1022541"/>
                </a:cubicBezTo>
                <a:cubicBezTo>
                  <a:pt x="939359" y="1023992"/>
                  <a:pt x="942033" y="1025980"/>
                  <a:pt x="944314" y="1028477"/>
                </a:cubicBezTo>
                <a:cubicBezTo>
                  <a:pt x="946605" y="1030993"/>
                  <a:pt x="948397" y="1033910"/>
                  <a:pt x="949708" y="1037228"/>
                </a:cubicBezTo>
                <a:cubicBezTo>
                  <a:pt x="951006" y="1040546"/>
                  <a:pt x="951671" y="1044107"/>
                  <a:pt x="951671" y="1047869"/>
                </a:cubicBezTo>
                <a:cubicBezTo>
                  <a:pt x="951671" y="1052559"/>
                  <a:pt x="950653" y="1056941"/>
                  <a:pt x="948618" y="1061039"/>
                </a:cubicBezTo>
                <a:cubicBezTo>
                  <a:pt x="946643" y="1065137"/>
                  <a:pt x="943825" y="1068455"/>
                  <a:pt x="940219" y="1070980"/>
                </a:cubicBezTo>
                <a:cubicBezTo>
                  <a:pt x="941288" y="1071167"/>
                  <a:pt x="942782" y="1071372"/>
                  <a:pt x="944744" y="1071638"/>
                </a:cubicBezTo>
                <a:cubicBezTo>
                  <a:pt x="946690" y="1071881"/>
                  <a:pt x="948725" y="1072165"/>
                  <a:pt x="950849" y="1072459"/>
                </a:cubicBezTo>
                <a:cubicBezTo>
                  <a:pt x="952956" y="1072767"/>
                  <a:pt x="954932" y="1073075"/>
                  <a:pt x="956771" y="1073397"/>
                </a:cubicBezTo>
                <a:cubicBezTo>
                  <a:pt x="958597" y="1073724"/>
                  <a:pt x="959929" y="1074018"/>
                  <a:pt x="960751" y="1074261"/>
                </a:cubicBezTo>
                <a:cubicBezTo>
                  <a:pt x="962113" y="1074690"/>
                  <a:pt x="963510" y="1075605"/>
                  <a:pt x="964897" y="1076963"/>
                </a:cubicBezTo>
                <a:cubicBezTo>
                  <a:pt x="966281" y="1078344"/>
                  <a:pt x="967567" y="1079931"/>
                  <a:pt x="968733" y="1081719"/>
                </a:cubicBezTo>
                <a:cubicBezTo>
                  <a:pt x="969908" y="1083520"/>
                  <a:pt x="970853" y="1085373"/>
                  <a:pt x="971564" y="1087319"/>
                </a:cubicBezTo>
                <a:cubicBezTo>
                  <a:pt x="972300" y="1089228"/>
                  <a:pt x="972658" y="1090987"/>
                  <a:pt x="972658" y="1092588"/>
                </a:cubicBezTo>
                <a:lnTo>
                  <a:pt x="972658" y="1117473"/>
                </a:lnTo>
                <a:cubicBezTo>
                  <a:pt x="972262" y="1117664"/>
                  <a:pt x="971836" y="1117944"/>
                  <a:pt x="971343" y="1118374"/>
                </a:cubicBezTo>
                <a:cubicBezTo>
                  <a:pt x="970853" y="1118817"/>
                  <a:pt x="970325" y="1119223"/>
                  <a:pt x="969763" y="1119638"/>
                </a:cubicBezTo>
                <a:cubicBezTo>
                  <a:pt x="969188" y="1120040"/>
                  <a:pt x="968648" y="1120404"/>
                  <a:pt x="968145" y="1120698"/>
                </a:cubicBezTo>
                <a:cubicBezTo>
                  <a:pt x="967630" y="1121011"/>
                  <a:pt x="967200" y="1121146"/>
                  <a:pt x="966856" y="1121146"/>
                </a:cubicBezTo>
                <a:lnTo>
                  <a:pt x="886452" y="1121146"/>
                </a:lnTo>
                <a:cubicBezTo>
                  <a:pt x="885081" y="1121146"/>
                  <a:pt x="884051" y="1120689"/>
                  <a:pt x="883340" y="1119760"/>
                </a:cubicBezTo>
                <a:cubicBezTo>
                  <a:pt x="882629" y="1118845"/>
                  <a:pt x="881756" y="1118080"/>
                  <a:pt x="880705" y="1117473"/>
                </a:cubicBezTo>
                <a:lnTo>
                  <a:pt x="880705" y="1092588"/>
                </a:lnTo>
                <a:cubicBezTo>
                  <a:pt x="880705" y="1090987"/>
                  <a:pt x="881058" y="1089228"/>
                  <a:pt x="881782" y="1087319"/>
                </a:cubicBezTo>
                <a:cubicBezTo>
                  <a:pt x="882519" y="1085373"/>
                  <a:pt x="883451" y="1083544"/>
                  <a:pt x="884600" y="1081784"/>
                </a:cubicBezTo>
                <a:cubicBezTo>
                  <a:pt x="885754" y="1080025"/>
                  <a:pt x="887027" y="1078438"/>
                  <a:pt x="888440" y="1077014"/>
                </a:cubicBezTo>
                <a:cubicBezTo>
                  <a:pt x="889836" y="1075619"/>
                  <a:pt x="891233" y="1074676"/>
                  <a:pt x="892608" y="1074247"/>
                </a:cubicBezTo>
                <a:cubicBezTo>
                  <a:pt x="893306" y="1074004"/>
                  <a:pt x="894592" y="1073710"/>
                  <a:pt x="896469" y="1073388"/>
                </a:cubicBezTo>
                <a:cubicBezTo>
                  <a:pt x="898342" y="1073061"/>
                  <a:pt x="900356" y="1072753"/>
                  <a:pt x="902488" y="1072445"/>
                </a:cubicBezTo>
                <a:cubicBezTo>
                  <a:pt x="904621" y="1072151"/>
                  <a:pt x="906656" y="1071867"/>
                  <a:pt x="908614" y="1071629"/>
                </a:cubicBezTo>
                <a:cubicBezTo>
                  <a:pt x="910564" y="1071358"/>
                  <a:pt x="912071" y="1071157"/>
                  <a:pt x="913127" y="1070966"/>
                </a:cubicBezTo>
                <a:cubicBezTo>
                  <a:pt x="909534" y="1068441"/>
                  <a:pt x="906729" y="1065151"/>
                  <a:pt x="904655" y="1061104"/>
                </a:cubicBezTo>
                <a:cubicBezTo>
                  <a:pt x="902595" y="1057049"/>
                  <a:pt x="901577" y="1052638"/>
                  <a:pt x="901577" y="1047869"/>
                </a:cubicBezTo>
                <a:cubicBezTo>
                  <a:pt x="901577" y="1044107"/>
                  <a:pt x="902242" y="1040546"/>
                  <a:pt x="903566" y="1037228"/>
                </a:cubicBezTo>
                <a:cubicBezTo>
                  <a:pt x="904889" y="1033910"/>
                  <a:pt x="906690" y="1030993"/>
                  <a:pt x="908934" y="1028477"/>
                </a:cubicBezTo>
                <a:cubicBezTo>
                  <a:pt x="911190" y="1025980"/>
                  <a:pt x="913812" y="1023992"/>
                  <a:pt x="916856" y="1022541"/>
                </a:cubicBezTo>
                <a:cubicBezTo>
                  <a:pt x="919883" y="1021075"/>
                  <a:pt x="923118" y="1020338"/>
                  <a:pt x="926562" y="1020338"/>
                </a:cubicBezTo>
                <a:close/>
                <a:moveTo>
                  <a:pt x="1212757" y="960398"/>
                </a:moveTo>
                <a:lnTo>
                  <a:pt x="1254643" y="1001947"/>
                </a:lnTo>
                <a:lnTo>
                  <a:pt x="1212757" y="1043492"/>
                </a:lnTo>
                <a:lnTo>
                  <a:pt x="1170868" y="1001947"/>
                </a:lnTo>
                <a:lnTo>
                  <a:pt x="1212757" y="960398"/>
                </a:lnTo>
                <a:close/>
                <a:moveTo>
                  <a:pt x="1072445" y="925660"/>
                </a:moveTo>
                <a:lnTo>
                  <a:pt x="1114330" y="967209"/>
                </a:lnTo>
                <a:lnTo>
                  <a:pt x="1072445" y="1008754"/>
                </a:lnTo>
                <a:lnTo>
                  <a:pt x="1030555" y="967209"/>
                </a:lnTo>
                <a:lnTo>
                  <a:pt x="1072445" y="925660"/>
                </a:lnTo>
                <a:close/>
                <a:moveTo>
                  <a:pt x="985521" y="897734"/>
                </a:moveTo>
                <a:cubicBezTo>
                  <a:pt x="987817" y="897734"/>
                  <a:pt x="989990" y="898247"/>
                  <a:pt x="992017" y="899267"/>
                </a:cubicBezTo>
                <a:cubicBezTo>
                  <a:pt x="994052" y="900277"/>
                  <a:pt x="995834" y="901661"/>
                  <a:pt x="997355" y="903398"/>
                </a:cubicBezTo>
                <a:cubicBezTo>
                  <a:pt x="998882" y="905149"/>
                  <a:pt x="1000077" y="907179"/>
                  <a:pt x="1000951" y="909488"/>
                </a:cubicBezTo>
                <a:cubicBezTo>
                  <a:pt x="1001817" y="911798"/>
                  <a:pt x="1002259" y="914276"/>
                  <a:pt x="1002259" y="916894"/>
                </a:cubicBezTo>
                <a:cubicBezTo>
                  <a:pt x="1002259" y="920158"/>
                  <a:pt x="1001581" y="923208"/>
                  <a:pt x="1000225" y="926060"/>
                </a:cubicBezTo>
                <a:cubicBezTo>
                  <a:pt x="998908" y="928912"/>
                  <a:pt x="997029" y="931221"/>
                  <a:pt x="994625" y="932978"/>
                </a:cubicBezTo>
                <a:cubicBezTo>
                  <a:pt x="995337" y="933108"/>
                  <a:pt x="996334" y="933251"/>
                  <a:pt x="997642" y="933436"/>
                </a:cubicBezTo>
                <a:cubicBezTo>
                  <a:pt x="998939" y="933605"/>
                  <a:pt x="1000295" y="933803"/>
                  <a:pt x="1001712" y="934008"/>
                </a:cubicBezTo>
                <a:cubicBezTo>
                  <a:pt x="1003116" y="934222"/>
                  <a:pt x="1004433" y="934436"/>
                  <a:pt x="1005659" y="934660"/>
                </a:cubicBezTo>
                <a:cubicBezTo>
                  <a:pt x="1006877" y="934888"/>
                  <a:pt x="1007765" y="935092"/>
                  <a:pt x="1008313" y="935261"/>
                </a:cubicBezTo>
                <a:cubicBezTo>
                  <a:pt x="1009221" y="935560"/>
                  <a:pt x="1010152" y="936197"/>
                  <a:pt x="1011077" y="937142"/>
                </a:cubicBezTo>
                <a:cubicBezTo>
                  <a:pt x="1012000" y="938103"/>
                  <a:pt x="1012857" y="939208"/>
                  <a:pt x="1013634" y="940452"/>
                </a:cubicBezTo>
                <a:cubicBezTo>
                  <a:pt x="1014418" y="941705"/>
                  <a:pt x="1015048" y="942995"/>
                  <a:pt x="1015522" y="944349"/>
                </a:cubicBezTo>
                <a:cubicBezTo>
                  <a:pt x="1016013" y="945678"/>
                  <a:pt x="1016251" y="946902"/>
                  <a:pt x="1016251" y="948016"/>
                </a:cubicBezTo>
                <a:lnTo>
                  <a:pt x="1016251" y="965335"/>
                </a:lnTo>
                <a:cubicBezTo>
                  <a:pt x="1015987" y="965468"/>
                  <a:pt x="1015703" y="965663"/>
                  <a:pt x="1015374" y="965962"/>
                </a:cubicBezTo>
                <a:cubicBezTo>
                  <a:pt x="1015048" y="966270"/>
                  <a:pt x="1014696" y="966553"/>
                  <a:pt x="1014321" y="966842"/>
                </a:cubicBezTo>
                <a:cubicBezTo>
                  <a:pt x="1013938" y="967121"/>
                  <a:pt x="1013578" y="967374"/>
                  <a:pt x="1013243" y="967579"/>
                </a:cubicBezTo>
                <a:cubicBezTo>
                  <a:pt x="1012899" y="967797"/>
                  <a:pt x="1012613" y="967888"/>
                  <a:pt x="1012383" y="967888"/>
                </a:cubicBezTo>
                <a:lnTo>
                  <a:pt x="958780" y="967888"/>
                </a:lnTo>
                <a:cubicBezTo>
                  <a:pt x="957867" y="967888"/>
                  <a:pt x="957180" y="967573"/>
                  <a:pt x="956706" y="966926"/>
                </a:cubicBezTo>
                <a:cubicBezTo>
                  <a:pt x="956232" y="966290"/>
                  <a:pt x="955650" y="965757"/>
                  <a:pt x="954949" y="965335"/>
                </a:cubicBezTo>
                <a:lnTo>
                  <a:pt x="954949" y="948016"/>
                </a:lnTo>
                <a:cubicBezTo>
                  <a:pt x="954949" y="946902"/>
                  <a:pt x="955185" y="945678"/>
                  <a:pt x="955667" y="944349"/>
                </a:cubicBezTo>
                <a:cubicBezTo>
                  <a:pt x="956158" y="942995"/>
                  <a:pt x="956780" y="941722"/>
                  <a:pt x="957546" y="940497"/>
                </a:cubicBezTo>
                <a:cubicBezTo>
                  <a:pt x="958315" y="939273"/>
                  <a:pt x="959164" y="938168"/>
                  <a:pt x="960106" y="937178"/>
                </a:cubicBezTo>
                <a:cubicBezTo>
                  <a:pt x="961037" y="936207"/>
                  <a:pt x="961968" y="935550"/>
                  <a:pt x="962884" y="935252"/>
                </a:cubicBezTo>
                <a:cubicBezTo>
                  <a:pt x="963350" y="935083"/>
                  <a:pt x="964207" y="934878"/>
                  <a:pt x="965458" y="934654"/>
                </a:cubicBezTo>
                <a:cubicBezTo>
                  <a:pt x="966707" y="934427"/>
                  <a:pt x="968049" y="934212"/>
                  <a:pt x="969471" y="933998"/>
                </a:cubicBezTo>
                <a:cubicBezTo>
                  <a:pt x="970893" y="933793"/>
                  <a:pt x="972250" y="933595"/>
                  <a:pt x="973555" y="933429"/>
                </a:cubicBezTo>
                <a:cubicBezTo>
                  <a:pt x="974855" y="933241"/>
                  <a:pt x="975860" y="933101"/>
                  <a:pt x="976564" y="932968"/>
                </a:cubicBezTo>
                <a:cubicBezTo>
                  <a:pt x="974168" y="931211"/>
                  <a:pt x="972298" y="928921"/>
                  <a:pt x="970916" y="926105"/>
                </a:cubicBezTo>
                <a:cubicBezTo>
                  <a:pt x="969542" y="923283"/>
                  <a:pt x="968864" y="920213"/>
                  <a:pt x="968864" y="916894"/>
                </a:cubicBezTo>
                <a:cubicBezTo>
                  <a:pt x="968864" y="914276"/>
                  <a:pt x="969307" y="911798"/>
                  <a:pt x="970189" y="909488"/>
                </a:cubicBezTo>
                <a:cubicBezTo>
                  <a:pt x="971072" y="907179"/>
                  <a:pt x="972272" y="905149"/>
                  <a:pt x="973768" y="903398"/>
                </a:cubicBezTo>
                <a:cubicBezTo>
                  <a:pt x="975272" y="901661"/>
                  <a:pt x="977021" y="900277"/>
                  <a:pt x="979050" y="899267"/>
                </a:cubicBezTo>
                <a:cubicBezTo>
                  <a:pt x="981068" y="898247"/>
                  <a:pt x="983225" y="897734"/>
                  <a:pt x="985521" y="897734"/>
                </a:cubicBezTo>
                <a:close/>
                <a:moveTo>
                  <a:pt x="1333835" y="880024"/>
                </a:moveTo>
                <a:cubicBezTo>
                  <a:pt x="1338605" y="880024"/>
                  <a:pt x="1343122" y="881050"/>
                  <a:pt x="1347333" y="883090"/>
                </a:cubicBezTo>
                <a:cubicBezTo>
                  <a:pt x="1351561" y="885110"/>
                  <a:pt x="1355264" y="887878"/>
                  <a:pt x="1358425" y="891353"/>
                </a:cubicBezTo>
                <a:cubicBezTo>
                  <a:pt x="1361597" y="894854"/>
                  <a:pt x="1364080" y="898914"/>
                  <a:pt x="1365896" y="903533"/>
                </a:cubicBezTo>
                <a:cubicBezTo>
                  <a:pt x="1367695" y="908152"/>
                  <a:pt x="1368615" y="913108"/>
                  <a:pt x="1368615" y="918344"/>
                </a:cubicBezTo>
                <a:cubicBezTo>
                  <a:pt x="1368615" y="924872"/>
                  <a:pt x="1367205" y="930972"/>
                  <a:pt x="1364386" y="936676"/>
                </a:cubicBezTo>
                <a:cubicBezTo>
                  <a:pt x="1361650" y="942379"/>
                  <a:pt x="1357747" y="946998"/>
                  <a:pt x="1352752" y="950512"/>
                </a:cubicBezTo>
                <a:cubicBezTo>
                  <a:pt x="1354232" y="950772"/>
                  <a:pt x="1356302" y="951058"/>
                  <a:pt x="1359020" y="951428"/>
                </a:cubicBezTo>
                <a:cubicBezTo>
                  <a:pt x="1361715" y="951766"/>
                  <a:pt x="1364534" y="952162"/>
                  <a:pt x="1367476" y="952571"/>
                </a:cubicBezTo>
                <a:cubicBezTo>
                  <a:pt x="1370395" y="953000"/>
                  <a:pt x="1373132" y="953429"/>
                  <a:pt x="1375679" y="953877"/>
                </a:cubicBezTo>
                <a:cubicBezTo>
                  <a:pt x="1378209" y="954332"/>
                  <a:pt x="1380054" y="954741"/>
                  <a:pt x="1381193" y="955079"/>
                </a:cubicBezTo>
                <a:cubicBezTo>
                  <a:pt x="1383079" y="955677"/>
                  <a:pt x="1385014" y="956950"/>
                  <a:pt x="1386936" y="958840"/>
                </a:cubicBezTo>
                <a:cubicBezTo>
                  <a:pt x="1388853" y="960763"/>
                  <a:pt x="1390633" y="962972"/>
                  <a:pt x="1392249" y="965460"/>
                </a:cubicBezTo>
                <a:cubicBezTo>
                  <a:pt x="1393877" y="967967"/>
                  <a:pt x="1395186" y="970546"/>
                  <a:pt x="1396171" y="973255"/>
                </a:cubicBezTo>
                <a:cubicBezTo>
                  <a:pt x="1397191" y="975912"/>
                  <a:pt x="1397680" y="978361"/>
                  <a:pt x="1397680" y="980589"/>
                </a:cubicBezTo>
                <a:lnTo>
                  <a:pt x="1397680" y="1015226"/>
                </a:lnTo>
                <a:cubicBezTo>
                  <a:pt x="1397138" y="1015492"/>
                  <a:pt x="1396548" y="1015882"/>
                  <a:pt x="1395864" y="1016479"/>
                </a:cubicBezTo>
                <a:cubicBezTo>
                  <a:pt x="1395186" y="1017096"/>
                  <a:pt x="1394455" y="1017662"/>
                  <a:pt x="1393676" y="1018240"/>
                </a:cubicBezTo>
                <a:cubicBezTo>
                  <a:pt x="1392880" y="1018798"/>
                  <a:pt x="1392131" y="1019305"/>
                  <a:pt x="1391435" y="1019714"/>
                </a:cubicBezTo>
                <a:cubicBezTo>
                  <a:pt x="1390722" y="1020149"/>
                  <a:pt x="1390126" y="1020331"/>
                  <a:pt x="1389649" y="1020331"/>
                </a:cubicBezTo>
                <a:lnTo>
                  <a:pt x="1278275" y="1020331"/>
                </a:lnTo>
                <a:cubicBezTo>
                  <a:pt x="1276376" y="1020331"/>
                  <a:pt x="1274949" y="1019701"/>
                  <a:pt x="1273964" y="1018409"/>
                </a:cubicBezTo>
                <a:cubicBezTo>
                  <a:pt x="1272979" y="1017135"/>
                  <a:pt x="1271771" y="1016070"/>
                  <a:pt x="1270314" y="1015226"/>
                </a:cubicBezTo>
                <a:lnTo>
                  <a:pt x="1270314" y="980589"/>
                </a:lnTo>
                <a:cubicBezTo>
                  <a:pt x="1270314" y="978361"/>
                  <a:pt x="1270803" y="975912"/>
                  <a:pt x="1271806" y="973255"/>
                </a:cubicBezTo>
                <a:cubicBezTo>
                  <a:pt x="1272826" y="970546"/>
                  <a:pt x="1274117" y="967999"/>
                  <a:pt x="1275710" y="965550"/>
                </a:cubicBezTo>
                <a:cubicBezTo>
                  <a:pt x="1277308" y="963101"/>
                  <a:pt x="1279071" y="960893"/>
                  <a:pt x="1281029" y="958912"/>
                </a:cubicBezTo>
                <a:cubicBezTo>
                  <a:pt x="1282963" y="956969"/>
                  <a:pt x="1284897" y="955657"/>
                  <a:pt x="1286802" y="955059"/>
                </a:cubicBezTo>
                <a:cubicBezTo>
                  <a:pt x="1287769" y="954722"/>
                  <a:pt x="1289550" y="954312"/>
                  <a:pt x="1292150" y="953864"/>
                </a:cubicBezTo>
                <a:cubicBezTo>
                  <a:pt x="1294745" y="953409"/>
                  <a:pt x="1297534" y="952981"/>
                  <a:pt x="1300488" y="952552"/>
                </a:cubicBezTo>
                <a:cubicBezTo>
                  <a:pt x="1303443" y="952143"/>
                  <a:pt x="1306261" y="951746"/>
                  <a:pt x="1308974" y="951415"/>
                </a:cubicBezTo>
                <a:cubicBezTo>
                  <a:pt x="1311675" y="951038"/>
                  <a:pt x="1313762" y="950759"/>
                  <a:pt x="1315224" y="950493"/>
                </a:cubicBezTo>
                <a:cubicBezTo>
                  <a:pt x="1310247" y="946978"/>
                  <a:pt x="1306361" y="942399"/>
                  <a:pt x="1303490" y="936767"/>
                </a:cubicBezTo>
                <a:cubicBezTo>
                  <a:pt x="1300636" y="931122"/>
                  <a:pt x="1299226" y="924983"/>
                  <a:pt x="1299226" y="918344"/>
                </a:cubicBezTo>
                <a:cubicBezTo>
                  <a:pt x="1299226" y="913108"/>
                  <a:pt x="1300146" y="908152"/>
                  <a:pt x="1301980" y="903533"/>
                </a:cubicBezTo>
                <a:cubicBezTo>
                  <a:pt x="1303814" y="898914"/>
                  <a:pt x="1306308" y="894854"/>
                  <a:pt x="1309416" y="891353"/>
                </a:cubicBezTo>
                <a:cubicBezTo>
                  <a:pt x="1312541" y="887878"/>
                  <a:pt x="1316174" y="885110"/>
                  <a:pt x="1320390" y="883090"/>
                </a:cubicBezTo>
                <a:cubicBezTo>
                  <a:pt x="1324583" y="881050"/>
                  <a:pt x="1329064" y="880024"/>
                  <a:pt x="1333835" y="880024"/>
                </a:cubicBezTo>
                <a:close/>
                <a:moveTo>
                  <a:pt x="1495990" y="858228"/>
                </a:moveTo>
                <a:cubicBezTo>
                  <a:pt x="1499434" y="858228"/>
                  <a:pt x="1502695" y="858965"/>
                  <a:pt x="1505735" y="860431"/>
                </a:cubicBezTo>
                <a:cubicBezTo>
                  <a:pt x="1508787" y="861882"/>
                  <a:pt x="1511461" y="863870"/>
                  <a:pt x="1513742" y="866367"/>
                </a:cubicBezTo>
                <a:cubicBezTo>
                  <a:pt x="1516033" y="868883"/>
                  <a:pt x="1517825" y="871800"/>
                  <a:pt x="1519136" y="875118"/>
                </a:cubicBezTo>
                <a:cubicBezTo>
                  <a:pt x="1520434" y="878436"/>
                  <a:pt x="1521099" y="881997"/>
                  <a:pt x="1521099" y="885759"/>
                </a:cubicBezTo>
                <a:cubicBezTo>
                  <a:pt x="1521099" y="890449"/>
                  <a:pt x="1520081" y="894831"/>
                  <a:pt x="1518046" y="898929"/>
                </a:cubicBezTo>
                <a:cubicBezTo>
                  <a:pt x="1516071" y="903027"/>
                  <a:pt x="1513253" y="906345"/>
                  <a:pt x="1509647" y="908870"/>
                </a:cubicBezTo>
                <a:cubicBezTo>
                  <a:pt x="1510716" y="909057"/>
                  <a:pt x="1512210" y="909262"/>
                  <a:pt x="1514172" y="909528"/>
                </a:cubicBezTo>
                <a:cubicBezTo>
                  <a:pt x="1516118" y="909771"/>
                  <a:pt x="1518153" y="910055"/>
                  <a:pt x="1520277" y="910349"/>
                </a:cubicBezTo>
                <a:cubicBezTo>
                  <a:pt x="1522384" y="910657"/>
                  <a:pt x="1524360" y="910965"/>
                  <a:pt x="1526199" y="911287"/>
                </a:cubicBezTo>
                <a:cubicBezTo>
                  <a:pt x="1528025" y="911614"/>
                  <a:pt x="1529357" y="911908"/>
                  <a:pt x="1530179" y="912151"/>
                </a:cubicBezTo>
                <a:cubicBezTo>
                  <a:pt x="1531541" y="912580"/>
                  <a:pt x="1532938" y="913495"/>
                  <a:pt x="1534325" y="914853"/>
                </a:cubicBezTo>
                <a:cubicBezTo>
                  <a:pt x="1535709" y="916234"/>
                  <a:pt x="1536995" y="917821"/>
                  <a:pt x="1538161" y="919609"/>
                </a:cubicBezTo>
                <a:cubicBezTo>
                  <a:pt x="1539336" y="921410"/>
                  <a:pt x="1540281" y="923263"/>
                  <a:pt x="1540992" y="925209"/>
                </a:cubicBezTo>
                <a:cubicBezTo>
                  <a:pt x="1541728" y="927118"/>
                  <a:pt x="1542086" y="928877"/>
                  <a:pt x="1542086" y="930478"/>
                </a:cubicBezTo>
                <a:lnTo>
                  <a:pt x="1542086" y="955363"/>
                </a:lnTo>
                <a:cubicBezTo>
                  <a:pt x="1541690" y="955554"/>
                  <a:pt x="1541264" y="955834"/>
                  <a:pt x="1540771" y="956264"/>
                </a:cubicBezTo>
                <a:cubicBezTo>
                  <a:pt x="1540281" y="956707"/>
                  <a:pt x="1539753" y="957113"/>
                  <a:pt x="1539191" y="957528"/>
                </a:cubicBezTo>
                <a:cubicBezTo>
                  <a:pt x="1538616" y="957930"/>
                  <a:pt x="1538076" y="958294"/>
                  <a:pt x="1537573" y="958588"/>
                </a:cubicBezTo>
                <a:cubicBezTo>
                  <a:pt x="1537058" y="958901"/>
                  <a:pt x="1536628" y="959036"/>
                  <a:pt x="1536284" y="959036"/>
                </a:cubicBezTo>
                <a:lnTo>
                  <a:pt x="1455880" y="959036"/>
                </a:lnTo>
                <a:cubicBezTo>
                  <a:pt x="1454509" y="959036"/>
                  <a:pt x="1453479" y="958579"/>
                  <a:pt x="1452768" y="957650"/>
                </a:cubicBezTo>
                <a:cubicBezTo>
                  <a:pt x="1452057" y="956735"/>
                  <a:pt x="1451184" y="955970"/>
                  <a:pt x="1450133" y="955363"/>
                </a:cubicBezTo>
                <a:lnTo>
                  <a:pt x="1450133" y="930478"/>
                </a:lnTo>
                <a:cubicBezTo>
                  <a:pt x="1450133" y="928877"/>
                  <a:pt x="1450486" y="927118"/>
                  <a:pt x="1451210" y="925209"/>
                </a:cubicBezTo>
                <a:cubicBezTo>
                  <a:pt x="1451947" y="923263"/>
                  <a:pt x="1452879" y="921434"/>
                  <a:pt x="1454028" y="919674"/>
                </a:cubicBezTo>
                <a:cubicBezTo>
                  <a:pt x="1455182" y="917915"/>
                  <a:pt x="1456455" y="916328"/>
                  <a:pt x="1457868" y="914904"/>
                </a:cubicBezTo>
                <a:cubicBezTo>
                  <a:pt x="1459264" y="913509"/>
                  <a:pt x="1460661" y="912566"/>
                  <a:pt x="1462036" y="912137"/>
                </a:cubicBezTo>
                <a:cubicBezTo>
                  <a:pt x="1462734" y="911894"/>
                  <a:pt x="1464020" y="911600"/>
                  <a:pt x="1465897" y="911278"/>
                </a:cubicBezTo>
                <a:cubicBezTo>
                  <a:pt x="1467770" y="910951"/>
                  <a:pt x="1469784" y="910643"/>
                  <a:pt x="1471916" y="910335"/>
                </a:cubicBezTo>
                <a:cubicBezTo>
                  <a:pt x="1474049" y="910041"/>
                  <a:pt x="1476084" y="909757"/>
                  <a:pt x="1478042" y="909519"/>
                </a:cubicBezTo>
                <a:cubicBezTo>
                  <a:pt x="1479992" y="909248"/>
                  <a:pt x="1481499" y="909047"/>
                  <a:pt x="1482555" y="908856"/>
                </a:cubicBezTo>
                <a:cubicBezTo>
                  <a:pt x="1478962" y="906331"/>
                  <a:pt x="1476157" y="903041"/>
                  <a:pt x="1474083" y="898994"/>
                </a:cubicBezTo>
                <a:cubicBezTo>
                  <a:pt x="1472023" y="894939"/>
                  <a:pt x="1471005" y="890528"/>
                  <a:pt x="1471005" y="885759"/>
                </a:cubicBezTo>
                <a:cubicBezTo>
                  <a:pt x="1471005" y="881997"/>
                  <a:pt x="1471670" y="878436"/>
                  <a:pt x="1472994" y="875118"/>
                </a:cubicBezTo>
                <a:cubicBezTo>
                  <a:pt x="1474317" y="871800"/>
                  <a:pt x="1476118" y="868883"/>
                  <a:pt x="1478362" y="866367"/>
                </a:cubicBezTo>
                <a:cubicBezTo>
                  <a:pt x="1480618" y="863870"/>
                  <a:pt x="1483240" y="861882"/>
                  <a:pt x="1486284" y="860431"/>
                </a:cubicBezTo>
                <a:cubicBezTo>
                  <a:pt x="1489311" y="858965"/>
                  <a:pt x="1492546" y="858228"/>
                  <a:pt x="1495990" y="858228"/>
                </a:cubicBezTo>
                <a:close/>
                <a:moveTo>
                  <a:pt x="1142602" y="807143"/>
                </a:moveTo>
                <a:lnTo>
                  <a:pt x="1210375" y="874915"/>
                </a:lnTo>
                <a:lnTo>
                  <a:pt x="1142602" y="942688"/>
                </a:lnTo>
                <a:lnTo>
                  <a:pt x="1074829" y="874915"/>
                </a:lnTo>
                <a:lnTo>
                  <a:pt x="1142602" y="807143"/>
                </a:lnTo>
                <a:close/>
                <a:moveTo>
                  <a:pt x="1256691" y="780579"/>
                </a:moveTo>
                <a:lnTo>
                  <a:pt x="1298236" y="822469"/>
                </a:lnTo>
                <a:lnTo>
                  <a:pt x="1256691" y="864355"/>
                </a:lnTo>
                <a:lnTo>
                  <a:pt x="1215142" y="822469"/>
                </a:lnTo>
                <a:lnTo>
                  <a:pt x="1256691" y="780579"/>
                </a:lnTo>
                <a:close/>
                <a:moveTo>
                  <a:pt x="1041793" y="776492"/>
                </a:moveTo>
                <a:lnTo>
                  <a:pt x="1083679" y="818041"/>
                </a:lnTo>
                <a:lnTo>
                  <a:pt x="1041793" y="859586"/>
                </a:lnTo>
                <a:lnTo>
                  <a:pt x="999904" y="818041"/>
                </a:lnTo>
                <a:lnTo>
                  <a:pt x="1041793" y="776492"/>
                </a:lnTo>
                <a:close/>
                <a:moveTo>
                  <a:pt x="1058022" y="648439"/>
                </a:moveTo>
                <a:cubicBezTo>
                  <a:pt x="1061466" y="648439"/>
                  <a:pt x="1064727" y="649171"/>
                  <a:pt x="1067767" y="650627"/>
                </a:cubicBezTo>
                <a:cubicBezTo>
                  <a:pt x="1070819" y="652068"/>
                  <a:pt x="1073493" y="654043"/>
                  <a:pt x="1075774" y="656523"/>
                </a:cubicBezTo>
                <a:cubicBezTo>
                  <a:pt x="1078065" y="659022"/>
                  <a:pt x="1079857" y="661919"/>
                  <a:pt x="1081168" y="665215"/>
                </a:cubicBezTo>
                <a:cubicBezTo>
                  <a:pt x="1082466" y="668511"/>
                  <a:pt x="1083131" y="672048"/>
                  <a:pt x="1083131" y="675784"/>
                </a:cubicBezTo>
                <a:cubicBezTo>
                  <a:pt x="1083131" y="680442"/>
                  <a:pt x="1082113" y="684795"/>
                  <a:pt x="1080078" y="688865"/>
                </a:cubicBezTo>
                <a:cubicBezTo>
                  <a:pt x="1078103" y="692935"/>
                  <a:pt x="1075285" y="696231"/>
                  <a:pt x="1071679" y="698739"/>
                </a:cubicBezTo>
                <a:cubicBezTo>
                  <a:pt x="1072748" y="698924"/>
                  <a:pt x="1074242" y="699128"/>
                  <a:pt x="1076204" y="699392"/>
                </a:cubicBezTo>
                <a:cubicBezTo>
                  <a:pt x="1078150" y="699633"/>
                  <a:pt x="1080185" y="699916"/>
                  <a:pt x="1082309" y="700208"/>
                </a:cubicBezTo>
                <a:cubicBezTo>
                  <a:pt x="1084416" y="700514"/>
                  <a:pt x="1086392" y="700820"/>
                  <a:pt x="1088231" y="701140"/>
                </a:cubicBezTo>
                <a:cubicBezTo>
                  <a:pt x="1090057" y="701464"/>
                  <a:pt x="1091389" y="701757"/>
                  <a:pt x="1092211" y="701998"/>
                </a:cubicBezTo>
                <a:cubicBezTo>
                  <a:pt x="1093573" y="702424"/>
                  <a:pt x="1094970" y="703333"/>
                  <a:pt x="1096357" y="704682"/>
                </a:cubicBezTo>
                <a:cubicBezTo>
                  <a:pt x="1097741" y="706054"/>
                  <a:pt x="1099027" y="707630"/>
                  <a:pt x="1100193" y="709405"/>
                </a:cubicBezTo>
                <a:cubicBezTo>
                  <a:pt x="1101368" y="711194"/>
                  <a:pt x="1102313" y="713035"/>
                  <a:pt x="1103024" y="714968"/>
                </a:cubicBezTo>
                <a:cubicBezTo>
                  <a:pt x="1103760" y="716864"/>
                  <a:pt x="1104118" y="718611"/>
                  <a:pt x="1104118" y="720201"/>
                </a:cubicBezTo>
                <a:lnTo>
                  <a:pt x="1104118" y="744918"/>
                </a:lnTo>
                <a:cubicBezTo>
                  <a:pt x="1103722" y="745108"/>
                  <a:pt x="1103296" y="745386"/>
                  <a:pt x="1102803" y="745812"/>
                </a:cubicBezTo>
                <a:cubicBezTo>
                  <a:pt x="1102313" y="746253"/>
                  <a:pt x="1101785" y="746656"/>
                  <a:pt x="1101223" y="747069"/>
                </a:cubicBezTo>
                <a:cubicBezTo>
                  <a:pt x="1100648" y="747467"/>
                  <a:pt x="1100108" y="747829"/>
                  <a:pt x="1099605" y="748121"/>
                </a:cubicBezTo>
                <a:cubicBezTo>
                  <a:pt x="1099090" y="748431"/>
                  <a:pt x="1098660" y="748566"/>
                  <a:pt x="1098316" y="748566"/>
                </a:cubicBezTo>
                <a:lnTo>
                  <a:pt x="1017912" y="748566"/>
                </a:lnTo>
                <a:cubicBezTo>
                  <a:pt x="1016541" y="748566"/>
                  <a:pt x="1015511" y="748112"/>
                  <a:pt x="1014800" y="747189"/>
                </a:cubicBezTo>
                <a:cubicBezTo>
                  <a:pt x="1014089" y="746281"/>
                  <a:pt x="1013216" y="745520"/>
                  <a:pt x="1012165" y="744918"/>
                </a:cubicBezTo>
                <a:lnTo>
                  <a:pt x="1012165" y="720201"/>
                </a:lnTo>
                <a:cubicBezTo>
                  <a:pt x="1012165" y="718611"/>
                  <a:pt x="1012518" y="716864"/>
                  <a:pt x="1013242" y="714968"/>
                </a:cubicBezTo>
                <a:cubicBezTo>
                  <a:pt x="1013979" y="713035"/>
                  <a:pt x="1014911" y="711218"/>
                  <a:pt x="1016060" y="709470"/>
                </a:cubicBezTo>
                <a:cubicBezTo>
                  <a:pt x="1017214" y="707722"/>
                  <a:pt x="1018487" y="706146"/>
                  <a:pt x="1019900" y="704732"/>
                </a:cubicBezTo>
                <a:cubicBezTo>
                  <a:pt x="1021296" y="703346"/>
                  <a:pt x="1022693" y="702410"/>
                  <a:pt x="1024068" y="701984"/>
                </a:cubicBezTo>
                <a:cubicBezTo>
                  <a:pt x="1024766" y="701743"/>
                  <a:pt x="1026052" y="701451"/>
                  <a:pt x="1027929" y="701131"/>
                </a:cubicBezTo>
                <a:cubicBezTo>
                  <a:pt x="1029802" y="700806"/>
                  <a:pt x="1031816" y="700500"/>
                  <a:pt x="1033948" y="700194"/>
                </a:cubicBezTo>
                <a:cubicBezTo>
                  <a:pt x="1036081" y="699902"/>
                  <a:pt x="1038116" y="699620"/>
                  <a:pt x="1040074" y="699383"/>
                </a:cubicBezTo>
                <a:cubicBezTo>
                  <a:pt x="1042024" y="699114"/>
                  <a:pt x="1043531" y="698915"/>
                  <a:pt x="1044587" y="698725"/>
                </a:cubicBezTo>
                <a:cubicBezTo>
                  <a:pt x="1040994" y="696217"/>
                  <a:pt x="1038189" y="692949"/>
                  <a:pt x="1036115" y="688930"/>
                </a:cubicBezTo>
                <a:cubicBezTo>
                  <a:pt x="1034055" y="684902"/>
                  <a:pt x="1033037" y="680521"/>
                  <a:pt x="1033037" y="675784"/>
                </a:cubicBezTo>
                <a:cubicBezTo>
                  <a:pt x="1033037" y="672048"/>
                  <a:pt x="1033702" y="668511"/>
                  <a:pt x="1035026" y="665215"/>
                </a:cubicBezTo>
                <a:cubicBezTo>
                  <a:pt x="1036349" y="661919"/>
                  <a:pt x="1038150" y="659022"/>
                  <a:pt x="1040394" y="656523"/>
                </a:cubicBezTo>
                <a:cubicBezTo>
                  <a:pt x="1042650" y="654043"/>
                  <a:pt x="1045272" y="652068"/>
                  <a:pt x="1048316" y="650627"/>
                </a:cubicBezTo>
                <a:cubicBezTo>
                  <a:pt x="1051343" y="649171"/>
                  <a:pt x="1054578" y="648439"/>
                  <a:pt x="1058022" y="648439"/>
                </a:cubicBezTo>
                <a:close/>
                <a:moveTo>
                  <a:pt x="1228600" y="608933"/>
                </a:moveTo>
                <a:cubicBezTo>
                  <a:pt x="1233345" y="608933"/>
                  <a:pt x="1237838" y="609954"/>
                  <a:pt x="1242026" y="611984"/>
                </a:cubicBezTo>
                <a:cubicBezTo>
                  <a:pt x="1246231" y="613995"/>
                  <a:pt x="1249915" y="616748"/>
                  <a:pt x="1253059" y="620207"/>
                </a:cubicBezTo>
                <a:cubicBezTo>
                  <a:pt x="1256214" y="623691"/>
                  <a:pt x="1258684" y="627732"/>
                  <a:pt x="1260490" y="632328"/>
                </a:cubicBezTo>
                <a:cubicBezTo>
                  <a:pt x="1262279" y="636924"/>
                  <a:pt x="1263194" y="641857"/>
                  <a:pt x="1263194" y="647067"/>
                </a:cubicBezTo>
                <a:cubicBezTo>
                  <a:pt x="1263194" y="653564"/>
                  <a:pt x="1261792" y="659634"/>
                  <a:pt x="1258989" y="665310"/>
                </a:cubicBezTo>
                <a:cubicBezTo>
                  <a:pt x="1256267" y="670986"/>
                  <a:pt x="1252384" y="675582"/>
                  <a:pt x="1247416" y="679079"/>
                </a:cubicBezTo>
                <a:cubicBezTo>
                  <a:pt x="1248888" y="679338"/>
                  <a:pt x="1250947" y="679622"/>
                  <a:pt x="1253651" y="679991"/>
                </a:cubicBezTo>
                <a:cubicBezTo>
                  <a:pt x="1256332" y="680327"/>
                  <a:pt x="1259135" y="680721"/>
                  <a:pt x="1262062" y="681128"/>
                </a:cubicBezTo>
                <a:cubicBezTo>
                  <a:pt x="1264965" y="681555"/>
                  <a:pt x="1267687" y="681982"/>
                  <a:pt x="1270221" y="682428"/>
                </a:cubicBezTo>
                <a:cubicBezTo>
                  <a:pt x="1272737" y="682880"/>
                  <a:pt x="1274573" y="683287"/>
                  <a:pt x="1275705" y="683624"/>
                </a:cubicBezTo>
                <a:cubicBezTo>
                  <a:pt x="1277582" y="684218"/>
                  <a:pt x="1279505" y="685485"/>
                  <a:pt x="1281418" y="687367"/>
                </a:cubicBezTo>
                <a:cubicBezTo>
                  <a:pt x="1283324" y="689280"/>
                  <a:pt x="1285095" y="691478"/>
                  <a:pt x="1286702" y="693954"/>
                </a:cubicBezTo>
                <a:cubicBezTo>
                  <a:pt x="1288321" y="696449"/>
                  <a:pt x="1289623" y="699016"/>
                  <a:pt x="1290603" y="701711"/>
                </a:cubicBezTo>
                <a:cubicBezTo>
                  <a:pt x="1291617" y="704355"/>
                  <a:pt x="1292104" y="706792"/>
                  <a:pt x="1292104" y="709010"/>
                </a:cubicBezTo>
                <a:lnTo>
                  <a:pt x="1292104" y="743478"/>
                </a:lnTo>
                <a:cubicBezTo>
                  <a:pt x="1291565" y="743743"/>
                  <a:pt x="1290978" y="744131"/>
                  <a:pt x="1290298" y="744726"/>
                </a:cubicBezTo>
                <a:cubicBezTo>
                  <a:pt x="1289623" y="745340"/>
                  <a:pt x="1288896" y="745902"/>
                  <a:pt x="1288122" y="746478"/>
                </a:cubicBezTo>
                <a:cubicBezTo>
                  <a:pt x="1287330" y="747034"/>
                  <a:pt x="1286585" y="747538"/>
                  <a:pt x="1285893" y="747945"/>
                </a:cubicBezTo>
                <a:cubicBezTo>
                  <a:pt x="1285183" y="748378"/>
                  <a:pt x="1284591" y="748559"/>
                  <a:pt x="1284116" y="748559"/>
                </a:cubicBezTo>
                <a:lnTo>
                  <a:pt x="1173337" y="748559"/>
                </a:lnTo>
                <a:cubicBezTo>
                  <a:pt x="1171449" y="748559"/>
                  <a:pt x="1170029" y="747932"/>
                  <a:pt x="1169050" y="746646"/>
                </a:cubicBezTo>
                <a:cubicBezTo>
                  <a:pt x="1168070" y="745379"/>
                  <a:pt x="1166868" y="744319"/>
                  <a:pt x="1165419" y="743478"/>
                </a:cubicBezTo>
                <a:lnTo>
                  <a:pt x="1165419" y="709010"/>
                </a:lnTo>
                <a:cubicBezTo>
                  <a:pt x="1165419" y="706792"/>
                  <a:pt x="1165906" y="704355"/>
                  <a:pt x="1166903" y="701711"/>
                </a:cubicBezTo>
                <a:cubicBezTo>
                  <a:pt x="1167918" y="699016"/>
                  <a:pt x="1169202" y="696481"/>
                  <a:pt x="1170786" y="694044"/>
                </a:cubicBezTo>
                <a:cubicBezTo>
                  <a:pt x="1172375" y="691607"/>
                  <a:pt x="1174129" y="689409"/>
                  <a:pt x="1176076" y="687438"/>
                </a:cubicBezTo>
                <a:cubicBezTo>
                  <a:pt x="1178000" y="685505"/>
                  <a:pt x="1179924" y="684199"/>
                  <a:pt x="1181818" y="683604"/>
                </a:cubicBezTo>
                <a:cubicBezTo>
                  <a:pt x="1182780" y="683268"/>
                  <a:pt x="1184552" y="682861"/>
                  <a:pt x="1187138" y="682415"/>
                </a:cubicBezTo>
                <a:cubicBezTo>
                  <a:pt x="1189719" y="681962"/>
                  <a:pt x="1192493" y="681536"/>
                  <a:pt x="1195432" y="681109"/>
                </a:cubicBezTo>
                <a:cubicBezTo>
                  <a:pt x="1198370" y="680702"/>
                  <a:pt x="1201174" y="680307"/>
                  <a:pt x="1203872" y="679978"/>
                </a:cubicBezTo>
                <a:cubicBezTo>
                  <a:pt x="1206558" y="679603"/>
                  <a:pt x="1208635" y="679325"/>
                  <a:pt x="1210089" y="679060"/>
                </a:cubicBezTo>
                <a:cubicBezTo>
                  <a:pt x="1205139" y="675562"/>
                  <a:pt x="1201274" y="671005"/>
                  <a:pt x="1198417" y="665400"/>
                </a:cubicBezTo>
                <a:cubicBezTo>
                  <a:pt x="1195578" y="659783"/>
                  <a:pt x="1194177" y="653674"/>
                  <a:pt x="1194177" y="647067"/>
                </a:cubicBezTo>
                <a:cubicBezTo>
                  <a:pt x="1194177" y="641857"/>
                  <a:pt x="1195092" y="636924"/>
                  <a:pt x="1196916" y="632328"/>
                </a:cubicBezTo>
                <a:cubicBezTo>
                  <a:pt x="1198740" y="627732"/>
                  <a:pt x="1201221" y="623691"/>
                  <a:pt x="1204312" y="620207"/>
                </a:cubicBezTo>
                <a:cubicBezTo>
                  <a:pt x="1207421" y="616748"/>
                  <a:pt x="1211034" y="613995"/>
                  <a:pt x="1215227" y="611984"/>
                </a:cubicBezTo>
                <a:cubicBezTo>
                  <a:pt x="1219398" y="609954"/>
                  <a:pt x="1223855" y="608933"/>
                  <a:pt x="1228600" y="608933"/>
                </a:cubicBezTo>
                <a:close/>
                <a:moveTo>
                  <a:pt x="1134087" y="566022"/>
                </a:moveTo>
                <a:lnTo>
                  <a:pt x="1175632" y="607571"/>
                </a:lnTo>
                <a:lnTo>
                  <a:pt x="1134087" y="649116"/>
                </a:lnTo>
                <a:lnTo>
                  <a:pt x="1092538" y="607571"/>
                </a:lnTo>
                <a:lnTo>
                  <a:pt x="1134087" y="566022"/>
                </a:lnTo>
                <a:close/>
                <a:moveTo>
                  <a:pt x="1458670" y="560573"/>
                </a:moveTo>
                <a:cubicBezTo>
                  <a:pt x="1467854" y="560573"/>
                  <a:pt x="1476550" y="562561"/>
                  <a:pt x="1484655" y="566512"/>
                </a:cubicBezTo>
                <a:cubicBezTo>
                  <a:pt x="1492795" y="570425"/>
                  <a:pt x="1499924" y="575785"/>
                  <a:pt x="1506009" y="582516"/>
                </a:cubicBezTo>
                <a:cubicBezTo>
                  <a:pt x="1512116" y="589298"/>
                  <a:pt x="1516896" y="597161"/>
                  <a:pt x="1520392" y="606107"/>
                </a:cubicBezTo>
                <a:cubicBezTo>
                  <a:pt x="1523855" y="615053"/>
                  <a:pt x="1525626" y="624653"/>
                  <a:pt x="1525626" y="634794"/>
                </a:cubicBezTo>
                <a:cubicBezTo>
                  <a:pt x="1525626" y="647439"/>
                  <a:pt x="1522912" y="659254"/>
                  <a:pt x="1517486" y="670301"/>
                </a:cubicBezTo>
                <a:cubicBezTo>
                  <a:pt x="1512219" y="681348"/>
                  <a:pt x="1504703" y="690294"/>
                  <a:pt x="1495088" y="697101"/>
                </a:cubicBezTo>
                <a:cubicBezTo>
                  <a:pt x="1497937" y="697604"/>
                  <a:pt x="1501922" y="698157"/>
                  <a:pt x="1507155" y="698875"/>
                </a:cubicBezTo>
                <a:cubicBezTo>
                  <a:pt x="1512343" y="699529"/>
                  <a:pt x="1517770" y="700296"/>
                  <a:pt x="1523435" y="701089"/>
                </a:cubicBezTo>
                <a:cubicBezTo>
                  <a:pt x="1529054" y="701919"/>
                  <a:pt x="1534321" y="702750"/>
                  <a:pt x="1539225" y="703618"/>
                </a:cubicBezTo>
                <a:cubicBezTo>
                  <a:pt x="1544096" y="704499"/>
                  <a:pt x="1547649" y="705291"/>
                  <a:pt x="1549840" y="705946"/>
                </a:cubicBezTo>
                <a:cubicBezTo>
                  <a:pt x="1553473" y="707103"/>
                  <a:pt x="1557196" y="709569"/>
                  <a:pt x="1560897" y="713231"/>
                </a:cubicBezTo>
                <a:cubicBezTo>
                  <a:pt x="1564586" y="716955"/>
                  <a:pt x="1568015" y="721233"/>
                  <a:pt x="1571125" y="726052"/>
                </a:cubicBezTo>
                <a:cubicBezTo>
                  <a:pt x="1574258" y="730908"/>
                  <a:pt x="1576779" y="735904"/>
                  <a:pt x="1578674" y="741150"/>
                </a:cubicBezTo>
                <a:cubicBezTo>
                  <a:pt x="1580638" y="746296"/>
                  <a:pt x="1581592" y="751040"/>
                  <a:pt x="1581592" y="755355"/>
                </a:cubicBezTo>
                <a:lnTo>
                  <a:pt x="1581592" y="822443"/>
                </a:lnTo>
                <a:cubicBezTo>
                  <a:pt x="1580536" y="822959"/>
                  <a:pt x="1579401" y="823714"/>
                  <a:pt x="1578084" y="824871"/>
                </a:cubicBezTo>
                <a:cubicBezTo>
                  <a:pt x="1576779" y="826066"/>
                  <a:pt x="1575371" y="827161"/>
                  <a:pt x="1573872" y="828281"/>
                </a:cubicBezTo>
                <a:cubicBezTo>
                  <a:pt x="1572340" y="829363"/>
                  <a:pt x="1570898" y="830344"/>
                  <a:pt x="1569559" y="831137"/>
                </a:cubicBezTo>
                <a:cubicBezTo>
                  <a:pt x="1568185" y="831980"/>
                  <a:pt x="1567038" y="832345"/>
                  <a:pt x="1566119" y="832345"/>
                </a:cubicBezTo>
                <a:lnTo>
                  <a:pt x="1351709" y="832345"/>
                </a:lnTo>
                <a:cubicBezTo>
                  <a:pt x="1348054" y="832345"/>
                  <a:pt x="1345307" y="831112"/>
                  <a:pt x="1343411" y="828608"/>
                </a:cubicBezTo>
                <a:cubicBezTo>
                  <a:pt x="1341515" y="826142"/>
                  <a:pt x="1339188" y="824078"/>
                  <a:pt x="1336384" y="822443"/>
                </a:cubicBezTo>
                <a:lnTo>
                  <a:pt x="1336384" y="755355"/>
                </a:lnTo>
                <a:cubicBezTo>
                  <a:pt x="1336384" y="751040"/>
                  <a:pt x="1337326" y="746296"/>
                  <a:pt x="1339256" y="741150"/>
                </a:cubicBezTo>
                <a:cubicBezTo>
                  <a:pt x="1341220" y="735904"/>
                  <a:pt x="1343706" y="730971"/>
                  <a:pt x="1346771" y="726228"/>
                </a:cubicBezTo>
                <a:cubicBezTo>
                  <a:pt x="1349848" y="721485"/>
                  <a:pt x="1353242" y="717207"/>
                  <a:pt x="1357011" y="713369"/>
                </a:cubicBezTo>
                <a:cubicBezTo>
                  <a:pt x="1360735" y="709607"/>
                  <a:pt x="1364458" y="707066"/>
                  <a:pt x="1368125" y="705908"/>
                </a:cubicBezTo>
                <a:cubicBezTo>
                  <a:pt x="1369987" y="705254"/>
                  <a:pt x="1373415" y="704461"/>
                  <a:pt x="1378421" y="703593"/>
                </a:cubicBezTo>
                <a:cubicBezTo>
                  <a:pt x="1383416" y="702712"/>
                  <a:pt x="1388786" y="701882"/>
                  <a:pt x="1394473" y="701051"/>
                </a:cubicBezTo>
                <a:cubicBezTo>
                  <a:pt x="1400161" y="700259"/>
                  <a:pt x="1405587" y="699491"/>
                  <a:pt x="1410809" y="698849"/>
                </a:cubicBezTo>
                <a:cubicBezTo>
                  <a:pt x="1416008" y="698120"/>
                  <a:pt x="1420027" y="697579"/>
                  <a:pt x="1422843" y="697063"/>
                </a:cubicBezTo>
                <a:cubicBezTo>
                  <a:pt x="1413261" y="690256"/>
                  <a:pt x="1405780" y="681386"/>
                  <a:pt x="1400252" y="670477"/>
                </a:cubicBezTo>
                <a:cubicBezTo>
                  <a:pt x="1394757" y="659543"/>
                  <a:pt x="1392044" y="647653"/>
                  <a:pt x="1392044" y="634794"/>
                </a:cubicBezTo>
                <a:cubicBezTo>
                  <a:pt x="1392044" y="624653"/>
                  <a:pt x="1393815" y="615053"/>
                  <a:pt x="1397345" y="606107"/>
                </a:cubicBezTo>
                <a:cubicBezTo>
                  <a:pt x="1400876" y="597161"/>
                  <a:pt x="1405678" y="589298"/>
                  <a:pt x="1411661" y="582516"/>
                </a:cubicBezTo>
                <a:cubicBezTo>
                  <a:pt x="1417677" y="575785"/>
                  <a:pt x="1424670" y="570425"/>
                  <a:pt x="1432787" y="566512"/>
                </a:cubicBezTo>
                <a:cubicBezTo>
                  <a:pt x="1440859" y="562561"/>
                  <a:pt x="1449486" y="560573"/>
                  <a:pt x="1458670" y="560573"/>
                </a:cubicBezTo>
                <a:close/>
                <a:moveTo>
                  <a:pt x="1354014" y="534009"/>
                </a:moveTo>
                <a:cubicBezTo>
                  <a:pt x="1356310" y="534009"/>
                  <a:pt x="1358483" y="534522"/>
                  <a:pt x="1360510" y="535542"/>
                </a:cubicBezTo>
                <a:cubicBezTo>
                  <a:pt x="1362545" y="536552"/>
                  <a:pt x="1364327" y="537936"/>
                  <a:pt x="1365848" y="539673"/>
                </a:cubicBezTo>
                <a:cubicBezTo>
                  <a:pt x="1367375" y="541424"/>
                  <a:pt x="1368570" y="543454"/>
                  <a:pt x="1369444" y="545763"/>
                </a:cubicBezTo>
                <a:cubicBezTo>
                  <a:pt x="1370310" y="548073"/>
                  <a:pt x="1370752" y="550551"/>
                  <a:pt x="1370752" y="553169"/>
                </a:cubicBezTo>
                <a:cubicBezTo>
                  <a:pt x="1370752" y="556433"/>
                  <a:pt x="1370074" y="559483"/>
                  <a:pt x="1368717" y="562335"/>
                </a:cubicBezTo>
                <a:cubicBezTo>
                  <a:pt x="1367401" y="565187"/>
                  <a:pt x="1365522" y="567496"/>
                  <a:pt x="1363118" y="569253"/>
                </a:cubicBezTo>
                <a:cubicBezTo>
                  <a:pt x="1363830" y="569383"/>
                  <a:pt x="1364827" y="569526"/>
                  <a:pt x="1366135" y="569711"/>
                </a:cubicBezTo>
                <a:cubicBezTo>
                  <a:pt x="1367432" y="569880"/>
                  <a:pt x="1368788" y="570078"/>
                  <a:pt x="1370205" y="570283"/>
                </a:cubicBezTo>
                <a:cubicBezTo>
                  <a:pt x="1371609" y="570497"/>
                  <a:pt x="1372926" y="570711"/>
                  <a:pt x="1374152" y="570935"/>
                </a:cubicBezTo>
                <a:cubicBezTo>
                  <a:pt x="1375370" y="571163"/>
                  <a:pt x="1376258" y="571367"/>
                  <a:pt x="1376806" y="571536"/>
                </a:cubicBezTo>
                <a:cubicBezTo>
                  <a:pt x="1377714" y="571835"/>
                  <a:pt x="1378645" y="572472"/>
                  <a:pt x="1379570" y="573417"/>
                </a:cubicBezTo>
                <a:cubicBezTo>
                  <a:pt x="1380493" y="574378"/>
                  <a:pt x="1381350" y="575483"/>
                  <a:pt x="1382127" y="576727"/>
                </a:cubicBezTo>
                <a:cubicBezTo>
                  <a:pt x="1382911" y="577980"/>
                  <a:pt x="1383541" y="579270"/>
                  <a:pt x="1384015" y="580624"/>
                </a:cubicBezTo>
                <a:cubicBezTo>
                  <a:pt x="1384506" y="581953"/>
                  <a:pt x="1384744" y="583177"/>
                  <a:pt x="1384744" y="584291"/>
                </a:cubicBezTo>
                <a:lnTo>
                  <a:pt x="1384744" y="601610"/>
                </a:lnTo>
                <a:cubicBezTo>
                  <a:pt x="1384480" y="601743"/>
                  <a:pt x="1384196" y="601938"/>
                  <a:pt x="1383867" y="602237"/>
                </a:cubicBezTo>
                <a:cubicBezTo>
                  <a:pt x="1383541" y="602545"/>
                  <a:pt x="1383189" y="602828"/>
                  <a:pt x="1382814" y="603117"/>
                </a:cubicBezTo>
                <a:cubicBezTo>
                  <a:pt x="1382431" y="603396"/>
                  <a:pt x="1382071" y="603649"/>
                  <a:pt x="1381736" y="603854"/>
                </a:cubicBezTo>
                <a:cubicBezTo>
                  <a:pt x="1381392" y="604072"/>
                  <a:pt x="1381106" y="604163"/>
                  <a:pt x="1380876" y="604163"/>
                </a:cubicBezTo>
                <a:lnTo>
                  <a:pt x="1327273" y="604163"/>
                </a:lnTo>
                <a:cubicBezTo>
                  <a:pt x="1326360" y="604163"/>
                  <a:pt x="1325673" y="603848"/>
                  <a:pt x="1325199" y="603201"/>
                </a:cubicBezTo>
                <a:cubicBezTo>
                  <a:pt x="1324725" y="602565"/>
                  <a:pt x="1324143" y="602032"/>
                  <a:pt x="1323442" y="601610"/>
                </a:cubicBezTo>
                <a:lnTo>
                  <a:pt x="1323442" y="584291"/>
                </a:lnTo>
                <a:cubicBezTo>
                  <a:pt x="1323442" y="583177"/>
                  <a:pt x="1323678" y="581953"/>
                  <a:pt x="1324160" y="580624"/>
                </a:cubicBezTo>
                <a:cubicBezTo>
                  <a:pt x="1324651" y="579270"/>
                  <a:pt x="1325273" y="577997"/>
                  <a:pt x="1326039" y="576772"/>
                </a:cubicBezTo>
                <a:cubicBezTo>
                  <a:pt x="1326808" y="575548"/>
                  <a:pt x="1327657" y="574443"/>
                  <a:pt x="1328599" y="573453"/>
                </a:cubicBezTo>
                <a:cubicBezTo>
                  <a:pt x="1329530" y="572482"/>
                  <a:pt x="1330461" y="571825"/>
                  <a:pt x="1331377" y="571527"/>
                </a:cubicBezTo>
                <a:cubicBezTo>
                  <a:pt x="1331843" y="571358"/>
                  <a:pt x="1332700" y="571153"/>
                  <a:pt x="1333951" y="570929"/>
                </a:cubicBezTo>
                <a:cubicBezTo>
                  <a:pt x="1335200" y="570702"/>
                  <a:pt x="1336542" y="570487"/>
                  <a:pt x="1337964" y="570273"/>
                </a:cubicBezTo>
                <a:cubicBezTo>
                  <a:pt x="1339386" y="570068"/>
                  <a:pt x="1340743" y="569870"/>
                  <a:pt x="1342048" y="569704"/>
                </a:cubicBezTo>
                <a:cubicBezTo>
                  <a:pt x="1343348" y="569516"/>
                  <a:pt x="1344353" y="569376"/>
                  <a:pt x="1345057" y="569243"/>
                </a:cubicBezTo>
                <a:cubicBezTo>
                  <a:pt x="1342661" y="567486"/>
                  <a:pt x="1340791" y="565196"/>
                  <a:pt x="1339409" y="562380"/>
                </a:cubicBezTo>
                <a:cubicBezTo>
                  <a:pt x="1338035" y="559558"/>
                  <a:pt x="1337357" y="556488"/>
                  <a:pt x="1337357" y="553169"/>
                </a:cubicBezTo>
                <a:cubicBezTo>
                  <a:pt x="1337357" y="550551"/>
                  <a:pt x="1337800" y="548073"/>
                  <a:pt x="1338682" y="545763"/>
                </a:cubicBezTo>
                <a:cubicBezTo>
                  <a:pt x="1339565" y="543454"/>
                  <a:pt x="1340765" y="541424"/>
                  <a:pt x="1342261" y="539673"/>
                </a:cubicBezTo>
                <a:cubicBezTo>
                  <a:pt x="1343765" y="537936"/>
                  <a:pt x="1345514" y="536552"/>
                  <a:pt x="1347543" y="535542"/>
                </a:cubicBezTo>
                <a:cubicBezTo>
                  <a:pt x="1349561" y="534522"/>
                  <a:pt x="1351718" y="534009"/>
                  <a:pt x="1354014" y="534009"/>
                </a:cubicBezTo>
                <a:close/>
                <a:moveTo>
                  <a:pt x="1256691" y="518343"/>
                </a:moveTo>
                <a:lnTo>
                  <a:pt x="1298236" y="559892"/>
                </a:lnTo>
                <a:lnTo>
                  <a:pt x="1256691" y="601437"/>
                </a:lnTo>
                <a:lnTo>
                  <a:pt x="1215142" y="559892"/>
                </a:lnTo>
                <a:lnTo>
                  <a:pt x="1256691" y="518343"/>
                </a:lnTo>
                <a:close/>
                <a:moveTo>
                  <a:pt x="278123" y="512212"/>
                </a:moveTo>
                <a:cubicBezTo>
                  <a:pt x="281567" y="512212"/>
                  <a:pt x="284828" y="512949"/>
                  <a:pt x="287868" y="514415"/>
                </a:cubicBezTo>
                <a:cubicBezTo>
                  <a:pt x="290920" y="515866"/>
                  <a:pt x="293594" y="517854"/>
                  <a:pt x="295875" y="520351"/>
                </a:cubicBezTo>
                <a:cubicBezTo>
                  <a:pt x="298166" y="522867"/>
                  <a:pt x="299958" y="525784"/>
                  <a:pt x="301269" y="529102"/>
                </a:cubicBezTo>
                <a:cubicBezTo>
                  <a:pt x="302567" y="532420"/>
                  <a:pt x="303232" y="535981"/>
                  <a:pt x="303232" y="539743"/>
                </a:cubicBezTo>
                <a:cubicBezTo>
                  <a:pt x="303232" y="544433"/>
                  <a:pt x="302214" y="548815"/>
                  <a:pt x="300179" y="552913"/>
                </a:cubicBezTo>
                <a:cubicBezTo>
                  <a:pt x="298204" y="557011"/>
                  <a:pt x="295386" y="560329"/>
                  <a:pt x="291780" y="562854"/>
                </a:cubicBezTo>
                <a:cubicBezTo>
                  <a:pt x="292849" y="563041"/>
                  <a:pt x="294343" y="563246"/>
                  <a:pt x="296305" y="563512"/>
                </a:cubicBezTo>
                <a:cubicBezTo>
                  <a:pt x="298251" y="563755"/>
                  <a:pt x="300286" y="564039"/>
                  <a:pt x="302410" y="564333"/>
                </a:cubicBezTo>
                <a:cubicBezTo>
                  <a:pt x="304517" y="564641"/>
                  <a:pt x="306493" y="564949"/>
                  <a:pt x="308332" y="565271"/>
                </a:cubicBezTo>
                <a:cubicBezTo>
                  <a:pt x="310158" y="565598"/>
                  <a:pt x="311490" y="565892"/>
                  <a:pt x="312312" y="566135"/>
                </a:cubicBezTo>
                <a:cubicBezTo>
                  <a:pt x="313674" y="566564"/>
                  <a:pt x="315071" y="567479"/>
                  <a:pt x="316458" y="568837"/>
                </a:cubicBezTo>
                <a:cubicBezTo>
                  <a:pt x="317842" y="570218"/>
                  <a:pt x="319128" y="571805"/>
                  <a:pt x="320294" y="573593"/>
                </a:cubicBezTo>
                <a:cubicBezTo>
                  <a:pt x="321469" y="575394"/>
                  <a:pt x="322414" y="577247"/>
                  <a:pt x="323125" y="579193"/>
                </a:cubicBezTo>
                <a:cubicBezTo>
                  <a:pt x="323861" y="581102"/>
                  <a:pt x="324219" y="582861"/>
                  <a:pt x="324219" y="584462"/>
                </a:cubicBezTo>
                <a:lnTo>
                  <a:pt x="324219" y="609347"/>
                </a:lnTo>
                <a:cubicBezTo>
                  <a:pt x="323823" y="609538"/>
                  <a:pt x="323397" y="609818"/>
                  <a:pt x="322904" y="610248"/>
                </a:cubicBezTo>
                <a:cubicBezTo>
                  <a:pt x="322414" y="610691"/>
                  <a:pt x="321886" y="611097"/>
                  <a:pt x="321324" y="611512"/>
                </a:cubicBezTo>
                <a:cubicBezTo>
                  <a:pt x="320749" y="611914"/>
                  <a:pt x="320209" y="612278"/>
                  <a:pt x="319706" y="612572"/>
                </a:cubicBezTo>
                <a:cubicBezTo>
                  <a:pt x="319191" y="612885"/>
                  <a:pt x="318761" y="613020"/>
                  <a:pt x="318417" y="613020"/>
                </a:cubicBezTo>
                <a:lnTo>
                  <a:pt x="238013" y="613020"/>
                </a:lnTo>
                <a:cubicBezTo>
                  <a:pt x="236642" y="613020"/>
                  <a:pt x="235612" y="612563"/>
                  <a:pt x="234901" y="611634"/>
                </a:cubicBezTo>
                <a:cubicBezTo>
                  <a:pt x="234190" y="610719"/>
                  <a:pt x="233317" y="609954"/>
                  <a:pt x="232266" y="609347"/>
                </a:cubicBezTo>
                <a:lnTo>
                  <a:pt x="232266" y="584462"/>
                </a:lnTo>
                <a:cubicBezTo>
                  <a:pt x="232266" y="582861"/>
                  <a:pt x="232619" y="581102"/>
                  <a:pt x="233343" y="579193"/>
                </a:cubicBezTo>
                <a:cubicBezTo>
                  <a:pt x="234080" y="577247"/>
                  <a:pt x="235012" y="575418"/>
                  <a:pt x="236161" y="573658"/>
                </a:cubicBezTo>
                <a:cubicBezTo>
                  <a:pt x="237315" y="571899"/>
                  <a:pt x="238588" y="570312"/>
                  <a:pt x="240001" y="568888"/>
                </a:cubicBezTo>
                <a:cubicBezTo>
                  <a:pt x="241397" y="567493"/>
                  <a:pt x="242794" y="566550"/>
                  <a:pt x="244169" y="566121"/>
                </a:cubicBezTo>
                <a:cubicBezTo>
                  <a:pt x="244867" y="565878"/>
                  <a:pt x="246153" y="565584"/>
                  <a:pt x="248030" y="565262"/>
                </a:cubicBezTo>
                <a:cubicBezTo>
                  <a:pt x="249903" y="564935"/>
                  <a:pt x="251917" y="564627"/>
                  <a:pt x="254049" y="564319"/>
                </a:cubicBezTo>
                <a:cubicBezTo>
                  <a:pt x="256182" y="564025"/>
                  <a:pt x="258217" y="563741"/>
                  <a:pt x="260175" y="563503"/>
                </a:cubicBezTo>
                <a:cubicBezTo>
                  <a:pt x="262125" y="563232"/>
                  <a:pt x="263632" y="563031"/>
                  <a:pt x="264688" y="562840"/>
                </a:cubicBezTo>
                <a:cubicBezTo>
                  <a:pt x="261095" y="560315"/>
                  <a:pt x="258290" y="557025"/>
                  <a:pt x="256216" y="552978"/>
                </a:cubicBezTo>
                <a:cubicBezTo>
                  <a:pt x="254156" y="548923"/>
                  <a:pt x="253138" y="544512"/>
                  <a:pt x="253138" y="539743"/>
                </a:cubicBezTo>
                <a:cubicBezTo>
                  <a:pt x="253138" y="535981"/>
                  <a:pt x="253803" y="532420"/>
                  <a:pt x="255127" y="529102"/>
                </a:cubicBezTo>
                <a:cubicBezTo>
                  <a:pt x="256450" y="525784"/>
                  <a:pt x="258251" y="522867"/>
                  <a:pt x="260495" y="520351"/>
                </a:cubicBezTo>
                <a:cubicBezTo>
                  <a:pt x="262751" y="517854"/>
                  <a:pt x="265373" y="515866"/>
                  <a:pt x="268417" y="514415"/>
                </a:cubicBezTo>
                <a:cubicBezTo>
                  <a:pt x="271444" y="512949"/>
                  <a:pt x="274679" y="512212"/>
                  <a:pt x="278123" y="512212"/>
                </a:cubicBezTo>
                <a:close/>
                <a:moveTo>
                  <a:pt x="362703" y="482924"/>
                </a:moveTo>
                <a:lnTo>
                  <a:pt x="404588" y="524473"/>
                </a:lnTo>
                <a:lnTo>
                  <a:pt x="362703" y="566018"/>
                </a:lnTo>
                <a:lnTo>
                  <a:pt x="320813" y="524473"/>
                </a:lnTo>
                <a:lnTo>
                  <a:pt x="362703" y="482924"/>
                </a:lnTo>
                <a:close/>
                <a:moveTo>
                  <a:pt x="162031" y="477475"/>
                </a:moveTo>
                <a:cubicBezTo>
                  <a:pt x="164327" y="477475"/>
                  <a:pt x="166500" y="477988"/>
                  <a:pt x="168527" y="479008"/>
                </a:cubicBezTo>
                <a:cubicBezTo>
                  <a:pt x="170562" y="480018"/>
                  <a:pt x="172344" y="481402"/>
                  <a:pt x="173865" y="483139"/>
                </a:cubicBezTo>
                <a:cubicBezTo>
                  <a:pt x="175392" y="484890"/>
                  <a:pt x="176587" y="486920"/>
                  <a:pt x="177461" y="489229"/>
                </a:cubicBezTo>
                <a:cubicBezTo>
                  <a:pt x="178327" y="491539"/>
                  <a:pt x="178769" y="494017"/>
                  <a:pt x="178769" y="496635"/>
                </a:cubicBezTo>
                <a:cubicBezTo>
                  <a:pt x="178769" y="499899"/>
                  <a:pt x="178091" y="502949"/>
                  <a:pt x="176735" y="505801"/>
                </a:cubicBezTo>
                <a:cubicBezTo>
                  <a:pt x="175418" y="508653"/>
                  <a:pt x="173539" y="510962"/>
                  <a:pt x="171135" y="512719"/>
                </a:cubicBezTo>
                <a:cubicBezTo>
                  <a:pt x="171847" y="512849"/>
                  <a:pt x="172844" y="512992"/>
                  <a:pt x="174152" y="513177"/>
                </a:cubicBezTo>
                <a:cubicBezTo>
                  <a:pt x="175449" y="513346"/>
                  <a:pt x="176805" y="513544"/>
                  <a:pt x="178222" y="513749"/>
                </a:cubicBezTo>
                <a:cubicBezTo>
                  <a:pt x="179626" y="513963"/>
                  <a:pt x="180943" y="514177"/>
                  <a:pt x="182169" y="514401"/>
                </a:cubicBezTo>
                <a:cubicBezTo>
                  <a:pt x="183387" y="514629"/>
                  <a:pt x="184275" y="514833"/>
                  <a:pt x="184823" y="515002"/>
                </a:cubicBezTo>
                <a:cubicBezTo>
                  <a:pt x="185731" y="515301"/>
                  <a:pt x="186662" y="515938"/>
                  <a:pt x="187587" y="516883"/>
                </a:cubicBezTo>
                <a:cubicBezTo>
                  <a:pt x="188510" y="517844"/>
                  <a:pt x="189367" y="518949"/>
                  <a:pt x="190144" y="520193"/>
                </a:cubicBezTo>
                <a:cubicBezTo>
                  <a:pt x="190928" y="521446"/>
                  <a:pt x="191558" y="522736"/>
                  <a:pt x="192032" y="524090"/>
                </a:cubicBezTo>
                <a:cubicBezTo>
                  <a:pt x="192523" y="525419"/>
                  <a:pt x="192761" y="526643"/>
                  <a:pt x="192761" y="527757"/>
                </a:cubicBezTo>
                <a:lnTo>
                  <a:pt x="192761" y="545076"/>
                </a:lnTo>
                <a:cubicBezTo>
                  <a:pt x="192497" y="545209"/>
                  <a:pt x="192213" y="545404"/>
                  <a:pt x="191884" y="545703"/>
                </a:cubicBezTo>
                <a:cubicBezTo>
                  <a:pt x="191558" y="546011"/>
                  <a:pt x="191206" y="546294"/>
                  <a:pt x="190831" y="546583"/>
                </a:cubicBezTo>
                <a:cubicBezTo>
                  <a:pt x="190448" y="546862"/>
                  <a:pt x="190088" y="547115"/>
                  <a:pt x="189753" y="547320"/>
                </a:cubicBezTo>
                <a:cubicBezTo>
                  <a:pt x="189409" y="547538"/>
                  <a:pt x="189123" y="547629"/>
                  <a:pt x="188893" y="547629"/>
                </a:cubicBezTo>
                <a:lnTo>
                  <a:pt x="135290" y="547629"/>
                </a:lnTo>
                <a:cubicBezTo>
                  <a:pt x="134377" y="547629"/>
                  <a:pt x="133690" y="547314"/>
                  <a:pt x="133216" y="546667"/>
                </a:cubicBezTo>
                <a:cubicBezTo>
                  <a:pt x="132742" y="546031"/>
                  <a:pt x="132160" y="545498"/>
                  <a:pt x="131459" y="545076"/>
                </a:cubicBezTo>
                <a:lnTo>
                  <a:pt x="131459" y="527757"/>
                </a:lnTo>
                <a:cubicBezTo>
                  <a:pt x="131459" y="526643"/>
                  <a:pt x="131695" y="525419"/>
                  <a:pt x="132177" y="524090"/>
                </a:cubicBezTo>
                <a:cubicBezTo>
                  <a:pt x="132668" y="522736"/>
                  <a:pt x="133290" y="521463"/>
                  <a:pt x="134056" y="520238"/>
                </a:cubicBezTo>
                <a:cubicBezTo>
                  <a:pt x="134825" y="519014"/>
                  <a:pt x="135674" y="517909"/>
                  <a:pt x="136616" y="516919"/>
                </a:cubicBezTo>
                <a:cubicBezTo>
                  <a:pt x="137547" y="515948"/>
                  <a:pt x="138478" y="515291"/>
                  <a:pt x="139394" y="514993"/>
                </a:cubicBezTo>
                <a:cubicBezTo>
                  <a:pt x="139860" y="514824"/>
                  <a:pt x="140717" y="514619"/>
                  <a:pt x="141968" y="514395"/>
                </a:cubicBezTo>
                <a:cubicBezTo>
                  <a:pt x="143217" y="514168"/>
                  <a:pt x="144559" y="513953"/>
                  <a:pt x="145981" y="513739"/>
                </a:cubicBezTo>
                <a:cubicBezTo>
                  <a:pt x="147403" y="513534"/>
                  <a:pt x="148760" y="513336"/>
                  <a:pt x="150065" y="513170"/>
                </a:cubicBezTo>
                <a:cubicBezTo>
                  <a:pt x="151365" y="512982"/>
                  <a:pt x="152370" y="512842"/>
                  <a:pt x="153074" y="512709"/>
                </a:cubicBezTo>
                <a:cubicBezTo>
                  <a:pt x="150678" y="510952"/>
                  <a:pt x="148808" y="508662"/>
                  <a:pt x="147426" y="505846"/>
                </a:cubicBezTo>
                <a:cubicBezTo>
                  <a:pt x="146052" y="503024"/>
                  <a:pt x="145374" y="499954"/>
                  <a:pt x="145374" y="496635"/>
                </a:cubicBezTo>
                <a:cubicBezTo>
                  <a:pt x="145374" y="494017"/>
                  <a:pt x="145817" y="491539"/>
                  <a:pt x="146699" y="489229"/>
                </a:cubicBezTo>
                <a:cubicBezTo>
                  <a:pt x="147582" y="486920"/>
                  <a:pt x="148782" y="484890"/>
                  <a:pt x="150278" y="483139"/>
                </a:cubicBezTo>
                <a:cubicBezTo>
                  <a:pt x="151782" y="481402"/>
                  <a:pt x="153531" y="480018"/>
                  <a:pt x="155560" y="479008"/>
                </a:cubicBezTo>
                <a:cubicBezTo>
                  <a:pt x="157578" y="477988"/>
                  <a:pt x="159735" y="477475"/>
                  <a:pt x="162031" y="477475"/>
                </a:cubicBezTo>
                <a:close/>
                <a:moveTo>
                  <a:pt x="1015569" y="465214"/>
                </a:moveTo>
                <a:lnTo>
                  <a:pt x="1083683" y="533327"/>
                </a:lnTo>
                <a:lnTo>
                  <a:pt x="1015569" y="601441"/>
                </a:lnTo>
                <a:lnTo>
                  <a:pt x="947456" y="533327"/>
                </a:lnTo>
                <a:lnTo>
                  <a:pt x="1015569" y="465214"/>
                </a:lnTo>
                <a:close/>
                <a:moveTo>
                  <a:pt x="1120464" y="434563"/>
                </a:moveTo>
                <a:lnTo>
                  <a:pt x="1162009" y="476453"/>
                </a:lnTo>
                <a:lnTo>
                  <a:pt x="1120464" y="518339"/>
                </a:lnTo>
                <a:lnTo>
                  <a:pt x="1078915" y="476453"/>
                </a:lnTo>
                <a:lnTo>
                  <a:pt x="1120464" y="434563"/>
                </a:lnTo>
                <a:close/>
                <a:moveTo>
                  <a:pt x="483825" y="429114"/>
                </a:moveTo>
                <a:cubicBezTo>
                  <a:pt x="487269" y="429114"/>
                  <a:pt x="490530" y="429851"/>
                  <a:pt x="493570" y="431317"/>
                </a:cubicBezTo>
                <a:cubicBezTo>
                  <a:pt x="496622" y="432768"/>
                  <a:pt x="499296" y="434756"/>
                  <a:pt x="501577" y="437253"/>
                </a:cubicBezTo>
                <a:cubicBezTo>
                  <a:pt x="503868" y="439769"/>
                  <a:pt x="505660" y="442686"/>
                  <a:pt x="506971" y="446004"/>
                </a:cubicBezTo>
                <a:cubicBezTo>
                  <a:pt x="508269" y="449322"/>
                  <a:pt x="508934" y="452883"/>
                  <a:pt x="508934" y="456645"/>
                </a:cubicBezTo>
                <a:cubicBezTo>
                  <a:pt x="508934" y="461335"/>
                  <a:pt x="507916" y="465717"/>
                  <a:pt x="505881" y="469815"/>
                </a:cubicBezTo>
                <a:cubicBezTo>
                  <a:pt x="503906" y="473913"/>
                  <a:pt x="501088" y="477231"/>
                  <a:pt x="497482" y="479756"/>
                </a:cubicBezTo>
                <a:cubicBezTo>
                  <a:pt x="498551" y="479943"/>
                  <a:pt x="500045" y="480148"/>
                  <a:pt x="502007" y="480414"/>
                </a:cubicBezTo>
                <a:cubicBezTo>
                  <a:pt x="503953" y="480657"/>
                  <a:pt x="505988" y="480941"/>
                  <a:pt x="508112" y="481235"/>
                </a:cubicBezTo>
                <a:cubicBezTo>
                  <a:pt x="510219" y="481543"/>
                  <a:pt x="512195" y="481851"/>
                  <a:pt x="514034" y="482173"/>
                </a:cubicBezTo>
                <a:cubicBezTo>
                  <a:pt x="515860" y="482500"/>
                  <a:pt x="517192" y="482794"/>
                  <a:pt x="518014" y="483037"/>
                </a:cubicBezTo>
                <a:cubicBezTo>
                  <a:pt x="519376" y="483466"/>
                  <a:pt x="520773" y="484381"/>
                  <a:pt x="522160" y="485739"/>
                </a:cubicBezTo>
                <a:cubicBezTo>
                  <a:pt x="523544" y="487120"/>
                  <a:pt x="524830" y="488707"/>
                  <a:pt x="525996" y="490495"/>
                </a:cubicBezTo>
                <a:cubicBezTo>
                  <a:pt x="527171" y="492296"/>
                  <a:pt x="528116" y="494149"/>
                  <a:pt x="528827" y="496095"/>
                </a:cubicBezTo>
                <a:cubicBezTo>
                  <a:pt x="529563" y="498004"/>
                  <a:pt x="529921" y="499763"/>
                  <a:pt x="529921" y="501364"/>
                </a:cubicBezTo>
                <a:lnTo>
                  <a:pt x="529921" y="526249"/>
                </a:lnTo>
                <a:cubicBezTo>
                  <a:pt x="529525" y="526440"/>
                  <a:pt x="529099" y="526720"/>
                  <a:pt x="528606" y="527150"/>
                </a:cubicBezTo>
                <a:cubicBezTo>
                  <a:pt x="528116" y="527593"/>
                  <a:pt x="527588" y="527999"/>
                  <a:pt x="527026" y="528414"/>
                </a:cubicBezTo>
                <a:cubicBezTo>
                  <a:pt x="526451" y="528816"/>
                  <a:pt x="525911" y="529180"/>
                  <a:pt x="525408" y="529474"/>
                </a:cubicBezTo>
                <a:cubicBezTo>
                  <a:pt x="524893" y="529787"/>
                  <a:pt x="524463" y="529922"/>
                  <a:pt x="524119" y="529922"/>
                </a:cubicBezTo>
                <a:lnTo>
                  <a:pt x="443715" y="529922"/>
                </a:lnTo>
                <a:cubicBezTo>
                  <a:pt x="442344" y="529922"/>
                  <a:pt x="441314" y="529465"/>
                  <a:pt x="440603" y="528536"/>
                </a:cubicBezTo>
                <a:cubicBezTo>
                  <a:pt x="439892" y="527621"/>
                  <a:pt x="439019" y="526856"/>
                  <a:pt x="437968" y="526249"/>
                </a:cubicBezTo>
                <a:lnTo>
                  <a:pt x="437968" y="501364"/>
                </a:lnTo>
                <a:cubicBezTo>
                  <a:pt x="437968" y="499763"/>
                  <a:pt x="438321" y="498004"/>
                  <a:pt x="439045" y="496095"/>
                </a:cubicBezTo>
                <a:cubicBezTo>
                  <a:pt x="439782" y="494149"/>
                  <a:pt x="440714" y="492320"/>
                  <a:pt x="441863" y="490560"/>
                </a:cubicBezTo>
                <a:cubicBezTo>
                  <a:pt x="443017" y="488801"/>
                  <a:pt x="444290" y="487214"/>
                  <a:pt x="445703" y="485790"/>
                </a:cubicBezTo>
                <a:cubicBezTo>
                  <a:pt x="447099" y="484395"/>
                  <a:pt x="448496" y="483452"/>
                  <a:pt x="449871" y="483023"/>
                </a:cubicBezTo>
                <a:cubicBezTo>
                  <a:pt x="450569" y="482780"/>
                  <a:pt x="451855" y="482486"/>
                  <a:pt x="453732" y="482164"/>
                </a:cubicBezTo>
                <a:cubicBezTo>
                  <a:pt x="455605" y="481837"/>
                  <a:pt x="457619" y="481529"/>
                  <a:pt x="459751" y="481221"/>
                </a:cubicBezTo>
                <a:cubicBezTo>
                  <a:pt x="461884" y="480927"/>
                  <a:pt x="463919" y="480643"/>
                  <a:pt x="465877" y="480405"/>
                </a:cubicBezTo>
                <a:cubicBezTo>
                  <a:pt x="467827" y="480134"/>
                  <a:pt x="469334" y="479933"/>
                  <a:pt x="470390" y="479742"/>
                </a:cubicBezTo>
                <a:cubicBezTo>
                  <a:pt x="466797" y="477217"/>
                  <a:pt x="463992" y="473927"/>
                  <a:pt x="461918" y="469880"/>
                </a:cubicBezTo>
                <a:cubicBezTo>
                  <a:pt x="459858" y="465825"/>
                  <a:pt x="458840" y="461414"/>
                  <a:pt x="458840" y="456645"/>
                </a:cubicBezTo>
                <a:cubicBezTo>
                  <a:pt x="458840" y="452883"/>
                  <a:pt x="459505" y="449322"/>
                  <a:pt x="460829" y="446004"/>
                </a:cubicBezTo>
                <a:cubicBezTo>
                  <a:pt x="462152" y="442686"/>
                  <a:pt x="463953" y="439769"/>
                  <a:pt x="466197" y="437253"/>
                </a:cubicBezTo>
                <a:cubicBezTo>
                  <a:pt x="468453" y="434756"/>
                  <a:pt x="471075" y="432768"/>
                  <a:pt x="474119" y="431317"/>
                </a:cubicBezTo>
                <a:cubicBezTo>
                  <a:pt x="477146" y="429851"/>
                  <a:pt x="480381" y="429114"/>
                  <a:pt x="483825" y="429114"/>
                </a:cubicBezTo>
                <a:close/>
                <a:moveTo>
                  <a:pt x="1348644" y="426389"/>
                </a:moveTo>
                <a:lnTo>
                  <a:pt x="1390189" y="467938"/>
                </a:lnTo>
                <a:lnTo>
                  <a:pt x="1348644" y="509483"/>
                </a:lnTo>
                <a:lnTo>
                  <a:pt x="1307095" y="467938"/>
                </a:lnTo>
                <a:lnTo>
                  <a:pt x="1348644" y="426389"/>
                </a:lnTo>
                <a:close/>
                <a:moveTo>
                  <a:pt x="897053" y="417535"/>
                </a:moveTo>
                <a:lnTo>
                  <a:pt x="938598" y="459084"/>
                </a:lnTo>
                <a:lnTo>
                  <a:pt x="897053" y="500629"/>
                </a:lnTo>
                <a:lnTo>
                  <a:pt x="855504" y="459084"/>
                </a:lnTo>
                <a:lnTo>
                  <a:pt x="897053" y="417535"/>
                </a:lnTo>
                <a:close/>
                <a:moveTo>
                  <a:pt x="1233072" y="403231"/>
                </a:moveTo>
                <a:cubicBezTo>
                  <a:pt x="1236516" y="403231"/>
                  <a:pt x="1239777" y="403963"/>
                  <a:pt x="1242817" y="405419"/>
                </a:cubicBezTo>
                <a:cubicBezTo>
                  <a:pt x="1245869" y="406860"/>
                  <a:pt x="1248543" y="408835"/>
                  <a:pt x="1250824" y="411315"/>
                </a:cubicBezTo>
                <a:cubicBezTo>
                  <a:pt x="1253115" y="413814"/>
                  <a:pt x="1254907" y="416711"/>
                  <a:pt x="1256218" y="420007"/>
                </a:cubicBezTo>
                <a:cubicBezTo>
                  <a:pt x="1257516" y="423303"/>
                  <a:pt x="1258181" y="426840"/>
                  <a:pt x="1258181" y="430576"/>
                </a:cubicBezTo>
                <a:cubicBezTo>
                  <a:pt x="1258181" y="435234"/>
                  <a:pt x="1257163" y="439587"/>
                  <a:pt x="1255128" y="443657"/>
                </a:cubicBezTo>
                <a:cubicBezTo>
                  <a:pt x="1253153" y="447727"/>
                  <a:pt x="1250335" y="451023"/>
                  <a:pt x="1246729" y="453531"/>
                </a:cubicBezTo>
                <a:cubicBezTo>
                  <a:pt x="1247798" y="453716"/>
                  <a:pt x="1249292" y="453920"/>
                  <a:pt x="1251254" y="454184"/>
                </a:cubicBezTo>
                <a:cubicBezTo>
                  <a:pt x="1253200" y="454425"/>
                  <a:pt x="1255235" y="454708"/>
                  <a:pt x="1257359" y="455000"/>
                </a:cubicBezTo>
                <a:cubicBezTo>
                  <a:pt x="1259466" y="455306"/>
                  <a:pt x="1261442" y="455612"/>
                  <a:pt x="1263281" y="455932"/>
                </a:cubicBezTo>
                <a:cubicBezTo>
                  <a:pt x="1265107" y="456256"/>
                  <a:pt x="1266439" y="456549"/>
                  <a:pt x="1267261" y="456790"/>
                </a:cubicBezTo>
                <a:cubicBezTo>
                  <a:pt x="1268623" y="457216"/>
                  <a:pt x="1270020" y="458125"/>
                  <a:pt x="1271407" y="459474"/>
                </a:cubicBezTo>
                <a:cubicBezTo>
                  <a:pt x="1272791" y="460846"/>
                  <a:pt x="1274077" y="462422"/>
                  <a:pt x="1275243" y="464197"/>
                </a:cubicBezTo>
                <a:cubicBezTo>
                  <a:pt x="1276418" y="465986"/>
                  <a:pt x="1277363" y="467827"/>
                  <a:pt x="1278074" y="469760"/>
                </a:cubicBezTo>
                <a:cubicBezTo>
                  <a:pt x="1278810" y="471656"/>
                  <a:pt x="1279168" y="473403"/>
                  <a:pt x="1279168" y="474993"/>
                </a:cubicBezTo>
                <a:lnTo>
                  <a:pt x="1279168" y="499710"/>
                </a:lnTo>
                <a:cubicBezTo>
                  <a:pt x="1278772" y="499900"/>
                  <a:pt x="1278346" y="500178"/>
                  <a:pt x="1277853" y="500604"/>
                </a:cubicBezTo>
                <a:cubicBezTo>
                  <a:pt x="1277363" y="501045"/>
                  <a:pt x="1276835" y="501448"/>
                  <a:pt x="1276273" y="501861"/>
                </a:cubicBezTo>
                <a:cubicBezTo>
                  <a:pt x="1275698" y="502259"/>
                  <a:pt x="1275158" y="502621"/>
                  <a:pt x="1274655" y="502913"/>
                </a:cubicBezTo>
                <a:cubicBezTo>
                  <a:pt x="1274140" y="503223"/>
                  <a:pt x="1273710" y="503358"/>
                  <a:pt x="1273366" y="503358"/>
                </a:cubicBezTo>
                <a:lnTo>
                  <a:pt x="1192962" y="503358"/>
                </a:lnTo>
                <a:cubicBezTo>
                  <a:pt x="1191591" y="503358"/>
                  <a:pt x="1190561" y="502904"/>
                  <a:pt x="1189850" y="501981"/>
                </a:cubicBezTo>
                <a:cubicBezTo>
                  <a:pt x="1189139" y="501073"/>
                  <a:pt x="1188266" y="500312"/>
                  <a:pt x="1187215" y="499710"/>
                </a:cubicBezTo>
                <a:lnTo>
                  <a:pt x="1187215" y="474993"/>
                </a:lnTo>
                <a:cubicBezTo>
                  <a:pt x="1187215" y="473403"/>
                  <a:pt x="1187568" y="471656"/>
                  <a:pt x="1188292" y="469760"/>
                </a:cubicBezTo>
                <a:cubicBezTo>
                  <a:pt x="1189029" y="467827"/>
                  <a:pt x="1189961" y="466010"/>
                  <a:pt x="1191110" y="464262"/>
                </a:cubicBezTo>
                <a:cubicBezTo>
                  <a:pt x="1192264" y="462514"/>
                  <a:pt x="1193537" y="460938"/>
                  <a:pt x="1194950" y="459524"/>
                </a:cubicBezTo>
                <a:cubicBezTo>
                  <a:pt x="1196346" y="458138"/>
                  <a:pt x="1197743" y="457202"/>
                  <a:pt x="1199118" y="456776"/>
                </a:cubicBezTo>
                <a:cubicBezTo>
                  <a:pt x="1199816" y="456535"/>
                  <a:pt x="1201102" y="456243"/>
                  <a:pt x="1202979" y="455923"/>
                </a:cubicBezTo>
                <a:cubicBezTo>
                  <a:pt x="1204852" y="455598"/>
                  <a:pt x="1206866" y="455292"/>
                  <a:pt x="1208998" y="454986"/>
                </a:cubicBezTo>
                <a:cubicBezTo>
                  <a:pt x="1211131" y="454694"/>
                  <a:pt x="1213166" y="454412"/>
                  <a:pt x="1215124" y="454175"/>
                </a:cubicBezTo>
                <a:cubicBezTo>
                  <a:pt x="1217074" y="453906"/>
                  <a:pt x="1218581" y="453707"/>
                  <a:pt x="1219637" y="453517"/>
                </a:cubicBezTo>
                <a:cubicBezTo>
                  <a:pt x="1216044" y="451009"/>
                  <a:pt x="1213239" y="447741"/>
                  <a:pt x="1211165" y="443722"/>
                </a:cubicBezTo>
                <a:cubicBezTo>
                  <a:pt x="1209105" y="439694"/>
                  <a:pt x="1208087" y="435313"/>
                  <a:pt x="1208087" y="430576"/>
                </a:cubicBezTo>
                <a:cubicBezTo>
                  <a:pt x="1208087" y="426840"/>
                  <a:pt x="1208752" y="423303"/>
                  <a:pt x="1210076" y="420007"/>
                </a:cubicBezTo>
                <a:cubicBezTo>
                  <a:pt x="1211399" y="416711"/>
                  <a:pt x="1213200" y="413814"/>
                  <a:pt x="1215444" y="411315"/>
                </a:cubicBezTo>
                <a:cubicBezTo>
                  <a:pt x="1217700" y="408835"/>
                  <a:pt x="1220322" y="406860"/>
                  <a:pt x="1223366" y="405419"/>
                </a:cubicBezTo>
                <a:cubicBezTo>
                  <a:pt x="1226393" y="403963"/>
                  <a:pt x="1229628" y="403231"/>
                  <a:pt x="1233072" y="403231"/>
                </a:cubicBezTo>
                <a:close/>
                <a:moveTo>
                  <a:pt x="376588" y="394376"/>
                </a:moveTo>
                <a:cubicBezTo>
                  <a:pt x="378884" y="394376"/>
                  <a:pt x="381057" y="394889"/>
                  <a:pt x="383084" y="395909"/>
                </a:cubicBezTo>
                <a:cubicBezTo>
                  <a:pt x="385119" y="396919"/>
                  <a:pt x="386901" y="398303"/>
                  <a:pt x="388422" y="400040"/>
                </a:cubicBezTo>
                <a:cubicBezTo>
                  <a:pt x="389949" y="401791"/>
                  <a:pt x="391144" y="403821"/>
                  <a:pt x="392018" y="406130"/>
                </a:cubicBezTo>
                <a:cubicBezTo>
                  <a:pt x="392884" y="408440"/>
                  <a:pt x="393326" y="410918"/>
                  <a:pt x="393326" y="413536"/>
                </a:cubicBezTo>
                <a:cubicBezTo>
                  <a:pt x="393326" y="416800"/>
                  <a:pt x="392648" y="419850"/>
                  <a:pt x="391291" y="422702"/>
                </a:cubicBezTo>
                <a:cubicBezTo>
                  <a:pt x="389975" y="425554"/>
                  <a:pt x="388096" y="427863"/>
                  <a:pt x="385692" y="429620"/>
                </a:cubicBezTo>
                <a:cubicBezTo>
                  <a:pt x="386404" y="429750"/>
                  <a:pt x="387401" y="429893"/>
                  <a:pt x="388709" y="430078"/>
                </a:cubicBezTo>
                <a:cubicBezTo>
                  <a:pt x="390006" y="430247"/>
                  <a:pt x="391362" y="430445"/>
                  <a:pt x="392779" y="430650"/>
                </a:cubicBezTo>
                <a:cubicBezTo>
                  <a:pt x="394183" y="430864"/>
                  <a:pt x="395500" y="431078"/>
                  <a:pt x="396726" y="431302"/>
                </a:cubicBezTo>
                <a:cubicBezTo>
                  <a:pt x="397944" y="431530"/>
                  <a:pt x="398832" y="431734"/>
                  <a:pt x="399380" y="431903"/>
                </a:cubicBezTo>
                <a:cubicBezTo>
                  <a:pt x="400288" y="432202"/>
                  <a:pt x="401219" y="432839"/>
                  <a:pt x="402144" y="433784"/>
                </a:cubicBezTo>
                <a:cubicBezTo>
                  <a:pt x="403067" y="434745"/>
                  <a:pt x="403924" y="435850"/>
                  <a:pt x="404701" y="437094"/>
                </a:cubicBezTo>
                <a:cubicBezTo>
                  <a:pt x="405485" y="438347"/>
                  <a:pt x="406115" y="439637"/>
                  <a:pt x="406589" y="440991"/>
                </a:cubicBezTo>
                <a:cubicBezTo>
                  <a:pt x="407080" y="442320"/>
                  <a:pt x="407318" y="443544"/>
                  <a:pt x="407318" y="444658"/>
                </a:cubicBezTo>
                <a:lnTo>
                  <a:pt x="407318" y="461977"/>
                </a:lnTo>
                <a:cubicBezTo>
                  <a:pt x="407054" y="462110"/>
                  <a:pt x="406770" y="462305"/>
                  <a:pt x="406441" y="462604"/>
                </a:cubicBezTo>
                <a:cubicBezTo>
                  <a:pt x="406115" y="462912"/>
                  <a:pt x="405763" y="463195"/>
                  <a:pt x="405388" y="463484"/>
                </a:cubicBezTo>
                <a:cubicBezTo>
                  <a:pt x="405005" y="463763"/>
                  <a:pt x="404645" y="464016"/>
                  <a:pt x="404310" y="464221"/>
                </a:cubicBezTo>
                <a:cubicBezTo>
                  <a:pt x="403966" y="464439"/>
                  <a:pt x="403680" y="464530"/>
                  <a:pt x="403450" y="464530"/>
                </a:cubicBezTo>
                <a:lnTo>
                  <a:pt x="349847" y="464530"/>
                </a:lnTo>
                <a:cubicBezTo>
                  <a:pt x="348934" y="464530"/>
                  <a:pt x="348247" y="464215"/>
                  <a:pt x="347773" y="463568"/>
                </a:cubicBezTo>
                <a:cubicBezTo>
                  <a:pt x="347299" y="462932"/>
                  <a:pt x="346717" y="462399"/>
                  <a:pt x="346016" y="461977"/>
                </a:cubicBezTo>
                <a:lnTo>
                  <a:pt x="346016" y="444658"/>
                </a:lnTo>
                <a:cubicBezTo>
                  <a:pt x="346016" y="443544"/>
                  <a:pt x="346252" y="442320"/>
                  <a:pt x="346734" y="440991"/>
                </a:cubicBezTo>
                <a:cubicBezTo>
                  <a:pt x="347225" y="439637"/>
                  <a:pt x="347847" y="438364"/>
                  <a:pt x="348613" y="437139"/>
                </a:cubicBezTo>
                <a:cubicBezTo>
                  <a:pt x="349382" y="435915"/>
                  <a:pt x="350231" y="434810"/>
                  <a:pt x="351173" y="433820"/>
                </a:cubicBezTo>
                <a:cubicBezTo>
                  <a:pt x="352104" y="432849"/>
                  <a:pt x="353035" y="432192"/>
                  <a:pt x="353951" y="431894"/>
                </a:cubicBezTo>
                <a:cubicBezTo>
                  <a:pt x="354417" y="431725"/>
                  <a:pt x="355274" y="431520"/>
                  <a:pt x="356525" y="431296"/>
                </a:cubicBezTo>
                <a:cubicBezTo>
                  <a:pt x="357774" y="431069"/>
                  <a:pt x="359116" y="430854"/>
                  <a:pt x="360538" y="430640"/>
                </a:cubicBezTo>
                <a:cubicBezTo>
                  <a:pt x="361960" y="430435"/>
                  <a:pt x="363317" y="430237"/>
                  <a:pt x="364622" y="430071"/>
                </a:cubicBezTo>
                <a:cubicBezTo>
                  <a:pt x="365922" y="429883"/>
                  <a:pt x="366927" y="429743"/>
                  <a:pt x="367631" y="429610"/>
                </a:cubicBezTo>
                <a:cubicBezTo>
                  <a:pt x="365235" y="427853"/>
                  <a:pt x="363365" y="425563"/>
                  <a:pt x="361983" y="422747"/>
                </a:cubicBezTo>
                <a:cubicBezTo>
                  <a:pt x="360609" y="419925"/>
                  <a:pt x="359931" y="416855"/>
                  <a:pt x="359931" y="413536"/>
                </a:cubicBezTo>
                <a:cubicBezTo>
                  <a:pt x="359931" y="410918"/>
                  <a:pt x="360374" y="408440"/>
                  <a:pt x="361256" y="406130"/>
                </a:cubicBezTo>
                <a:cubicBezTo>
                  <a:pt x="362139" y="403821"/>
                  <a:pt x="363339" y="401791"/>
                  <a:pt x="364835" y="400040"/>
                </a:cubicBezTo>
                <a:cubicBezTo>
                  <a:pt x="366339" y="398303"/>
                  <a:pt x="368088" y="396919"/>
                  <a:pt x="370117" y="395909"/>
                </a:cubicBezTo>
                <a:cubicBezTo>
                  <a:pt x="372135" y="394889"/>
                  <a:pt x="374292" y="394376"/>
                  <a:pt x="376588" y="394376"/>
                </a:cubicBezTo>
                <a:close/>
                <a:moveTo>
                  <a:pt x="577601" y="386884"/>
                </a:moveTo>
                <a:lnTo>
                  <a:pt x="619146" y="428433"/>
                </a:lnTo>
                <a:lnTo>
                  <a:pt x="577601" y="469978"/>
                </a:lnTo>
                <a:lnTo>
                  <a:pt x="536052" y="428433"/>
                </a:lnTo>
                <a:lnTo>
                  <a:pt x="577601" y="386884"/>
                </a:lnTo>
                <a:close/>
                <a:moveTo>
                  <a:pt x="1449112" y="351465"/>
                </a:moveTo>
                <a:lnTo>
                  <a:pt x="1516885" y="419578"/>
                </a:lnTo>
                <a:lnTo>
                  <a:pt x="1449112" y="487692"/>
                </a:lnTo>
                <a:lnTo>
                  <a:pt x="1381339" y="419578"/>
                </a:lnTo>
                <a:lnTo>
                  <a:pt x="1449112" y="351465"/>
                </a:lnTo>
                <a:close/>
                <a:moveTo>
                  <a:pt x="720463" y="346016"/>
                </a:moveTo>
                <a:cubicBezTo>
                  <a:pt x="725565" y="346016"/>
                  <a:pt x="730396" y="347107"/>
                  <a:pt x="734899" y="349275"/>
                </a:cubicBezTo>
                <a:cubicBezTo>
                  <a:pt x="739421" y="351423"/>
                  <a:pt x="743382" y="354365"/>
                  <a:pt x="746762" y="358060"/>
                </a:cubicBezTo>
                <a:cubicBezTo>
                  <a:pt x="750155" y="361782"/>
                  <a:pt x="752811" y="366098"/>
                  <a:pt x="754753" y="371008"/>
                </a:cubicBezTo>
                <a:cubicBezTo>
                  <a:pt x="756677" y="375919"/>
                  <a:pt x="757660" y="381188"/>
                  <a:pt x="757660" y="386754"/>
                </a:cubicBezTo>
                <a:cubicBezTo>
                  <a:pt x="757660" y="393694"/>
                  <a:pt x="756153" y="400172"/>
                  <a:pt x="753138" y="406242"/>
                </a:cubicBezTo>
                <a:cubicBezTo>
                  <a:pt x="750212" y="412306"/>
                  <a:pt x="746037" y="417216"/>
                  <a:pt x="740695" y="420952"/>
                </a:cubicBezTo>
                <a:cubicBezTo>
                  <a:pt x="742278" y="421228"/>
                  <a:pt x="744492" y="421532"/>
                  <a:pt x="747399" y="421926"/>
                </a:cubicBezTo>
                <a:cubicBezTo>
                  <a:pt x="750281" y="422285"/>
                  <a:pt x="753296" y="422706"/>
                  <a:pt x="756443" y="423141"/>
                </a:cubicBezTo>
                <a:cubicBezTo>
                  <a:pt x="759565" y="423597"/>
                  <a:pt x="762491" y="424053"/>
                  <a:pt x="765216" y="424529"/>
                </a:cubicBezTo>
                <a:cubicBezTo>
                  <a:pt x="767922" y="425013"/>
                  <a:pt x="769896" y="425448"/>
                  <a:pt x="771113" y="425807"/>
                </a:cubicBezTo>
                <a:cubicBezTo>
                  <a:pt x="773131" y="426442"/>
                  <a:pt x="775200" y="427796"/>
                  <a:pt x="777256" y="429805"/>
                </a:cubicBezTo>
                <a:cubicBezTo>
                  <a:pt x="779305" y="431850"/>
                  <a:pt x="781210" y="434198"/>
                  <a:pt x="782938" y="436843"/>
                </a:cubicBezTo>
                <a:cubicBezTo>
                  <a:pt x="784679" y="439508"/>
                  <a:pt x="786079" y="442250"/>
                  <a:pt x="787132" y="445130"/>
                </a:cubicBezTo>
                <a:cubicBezTo>
                  <a:pt x="788223" y="447954"/>
                  <a:pt x="788753" y="450558"/>
                  <a:pt x="788753" y="452927"/>
                </a:cubicBezTo>
                <a:lnTo>
                  <a:pt x="788753" y="489749"/>
                </a:lnTo>
                <a:cubicBezTo>
                  <a:pt x="788166" y="490032"/>
                  <a:pt x="787536" y="490446"/>
                  <a:pt x="786804" y="491082"/>
                </a:cubicBezTo>
                <a:cubicBezTo>
                  <a:pt x="786079" y="491738"/>
                  <a:pt x="785297" y="492339"/>
                  <a:pt x="784464" y="492953"/>
                </a:cubicBezTo>
                <a:cubicBezTo>
                  <a:pt x="783613" y="493547"/>
                  <a:pt x="782812" y="494086"/>
                  <a:pt x="782068" y="494521"/>
                </a:cubicBezTo>
                <a:cubicBezTo>
                  <a:pt x="781305" y="494984"/>
                  <a:pt x="780668" y="495177"/>
                  <a:pt x="780157" y="495177"/>
                </a:cubicBezTo>
                <a:lnTo>
                  <a:pt x="661040" y="495177"/>
                </a:lnTo>
                <a:cubicBezTo>
                  <a:pt x="659009" y="495177"/>
                  <a:pt x="657483" y="494507"/>
                  <a:pt x="656430" y="493133"/>
                </a:cubicBezTo>
                <a:cubicBezTo>
                  <a:pt x="655377" y="491779"/>
                  <a:pt x="654084" y="490647"/>
                  <a:pt x="652526" y="489749"/>
                </a:cubicBezTo>
                <a:lnTo>
                  <a:pt x="652526" y="452927"/>
                </a:lnTo>
                <a:cubicBezTo>
                  <a:pt x="652526" y="450558"/>
                  <a:pt x="653049" y="447954"/>
                  <a:pt x="654122" y="445130"/>
                </a:cubicBezTo>
                <a:cubicBezTo>
                  <a:pt x="655213" y="442250"/>
                  <a:pt x="656594" y="439543"/>
                  <a:pt x="658297" y="436939"/>
                </a:cubicBezTo>
                <a:cubicBezTo>
                  <a:pt x="660006" y="434336"/>
                  <a:pt x="661892" y="431988"/>
                  <a:pt x="663985" y="429881"/>
                </a:cubicBezTo>
                <a:cubicBezTo>
                  <a:pt x="666054" y="427817"/>
                  <a:pt x="668123" y="426422"/>
                  <a:pt x="670160" y="425786"/>
                </a:cubicBezTo>
                <a:cubicBezTo>
                  <a:pt x="671194" y="425427"/>
                  <a:pt x="673099" y="424992"/>
                  <a:pt x="675880" y="424516"/>
                </a:cubicBezTo>
                <a:cubicBezTo>
                  <a:pt x="678655" y="424032"/>
                  <a:pt x="681638" y="423576"/>
                  <a:pt x="684798" y="423121"/>
                </a:cubicBezTo>
                <a:cubicBezTo>
                  <a:pt x="687958" y="422685"/>
                  <a:pt x="690972" y="422264"/>
                  <a:pt x="693873" y="421912"/>
                </a:cubicBezTo>
                <a:cubicBezTo>
                  <a:pt x="696762" y="421511"/>
                  <a:pt x="698995" y="421214"/>
                  <a:pt x="700559" y="420931"/>
                </a:cubicBezTo>
                <a:cubicBezTo>
                  <a:pt x="695236" y="417195"/>
                  <a:pt x="691080" y="412327"/>
                  <a:pt x="688008" y="406339"/>
                </a:cubicBezTo>
                <a:cubicBezTo>
                  <a:pt x="684956" y="400338"/>
                  <a:pt x="683448" y="393812"/>
                  <a:pt x="683448" y="386754"/>
                </a:cubicBezTo>
                <a:cubicBezTo>
                  <a:pt x="683448" y="381188"/>
                  <a:pt x="684432" y="375919"/>
                  <a:pt x="686394" y="371008"/>
                </a:cubicBezTo>
                <a:cubicBezTo>
                  <a:pt x="688355" y="366098"/>
                  <a:pt x="691023" y="361782"/>
                  <a:pt x="694346" y="358060"/>
                </a:cubicBezTo>
                <a:cubicBezTo>
                  <a:pt x="697689" y="354365"/>
                  <a:pt x="701574" y="351423"/>
                  <a:pt x="706077" y="349275"/>
                </a:cubicBezTo>
                <a:cubicBezTo>
                  <a:pt x="710568" y="347107"/>
                  <a:pt x="715361" y="346016"/>
                  <a:pt x="720463" y="346016"/>
                </a:cubicBezTo>
                <a:close/>
                <a:moveTo>
                  <a:pt x="1326848" y="320814"/>
                </a:moveTo>
                <a:lnTo>
                  <a:pt x="1368393" y="362363"/>
                </a:lnTo>
                <a:lnTo>
                  <a:pt x="1326848" y="403908"/>
                </a:lnTo>
                <a:lnTo>
                  <a:pt x="1285299" y="362363"/>
                </a:lnTo>
                <a:lnTo>
                  <a:pt x="1326848" y="320814"/>
                </a:lnTo>
                <a:close/>
                <a:moveTo>
                  <a:pt x="1164738" y="320814"/>
                </a:moveTo>
                <a:lnTo>
                  <a:pt x="1206283" y="362363"/>
                </a:lnTo>
                <a:lnTo>
                  <a:pt x="1164738" y="403908"/>
                </a:lnTo>
                <a:lnTo>
                  <a:pt x="1123189" y="362363"/>
                </a:lnTo>
                <a:lnTo>
                  <a:pt x="1164738" y="320814"/>
                </a:lnTo>
                <a:close/>
                <a:moveTo>
                  <a:pt x="1045079" y="302423"/>
                </a:moveTo>
                <a:cubicBezTo>
                  <a:pt x="1048523" y="302423"/>
                  <a:pt x="1051784" y="303160"/>
                  <a:pt x="1054824" y="304626"/>
                </a:cubicBezTo>
                <a:cubicBezTo>
                  <a:pt x="1057876" y="306077"/>
                  <a:pt x="1060550" y="308065"/>
                  <a:pt x="1062831" y="310562"/>
                </a:cubicBezTo>
                <a:cubicBezTo>
                  <a:pt x="1065122" y="313078"/>
                  <a:pt x="1066914" y="315995"/>
                  <a:pt x="1068225" y="319313"/>
                </a:cubicBezTo>
                <a:cubicBezTo>
                  <a:pt x="1069523" y="322631"/>
                  <a:pt x="1070188" y="326192"/>
                  <a:pt x="1070188" y="329954"/>
                </a:cubicBezTo>
                <a:cubicBezTo>
                  <a:pt x="1070188" y="334644"/>
                  <a:pt x="1069170" y="339026"/>
                  <a:pt x="1067135" y="343124"/>
                </a:cubicBezTo>
                <a:cubicBezTo>
                  <a:pt x="1065160" y="347222"/>
                  <a:pt x="1062342" y="350540"/>
                  <a:pt x="1058736" y="353065"/>
                </a:cubicBezTo>
                <a:cubicBezTo>
                  <a:pt x="1059805" y="353252"/>
                  <a:pt x="1061299" y="353457"/>
                  <a:pt x="1063261" y="353723"/>
                </a:cubicBezTo>
                <a:cubicBezTo>
                  <a:pt x="1065207" y="353966"/>
                  <a:pt x="1067242" y="354250"/>
                  <a:pt x="1069366" y="354544"/>
                </a:cubicBezTo>
                <a:cubicBezTo>
                  <a:pt x="1071473" y="354852"/>
                  <a:pt x="1073449" y="355160"/>
                  <a:pt x="1075288" y="355482"/>
                </a:cubicBezTo>
                <a:cubicBezTo>
                  <a:pt x="1077114" y="355809"/>
                  <a:pt x="1078446" y="356103"/>
                  <a:pt x="1079268" y="356346"/>
                </a:cubicBezTo>
                <a:cubicBezTo>
                  <a:pt x="1080630" y="356775"/>
                  <a:pt x="1082027" y="357690"/>
                  <a:pt x="1083414" y="359048"/>
                </a:cubicBezTo>
                <a:cubicBezTo>
                  <a:pt x="1084798" y="360429"/>
                  <a:pt x="1086084" y="362016"/>
                  <a:pt x="1087250" y="363804"/>
                </a:cubicBezTo>
                <a:cubicBezTo>
                  <a:pt x="1088425" y="365605"/>
                  <a:pt x="1089370" y="367458"/>
                  <a:pt x="1090081" y="369404"/>
                </a:cubicBezTo>
                <a:cubicBezTo>
                  <a:pt x="1090817" y="371313"/>
                  <a:pt x="1091175" y="373072"/>
                  <a:pt x="1091175" y="374673"/>
                </a:cubicBezTo>
                <a:lnTo>
                  <a:pt x="1091175" y="399558"/>
                </a:lnTo>
                <a:cubicBezTo>
                  <a:pt x="1090779" y="399749"/>
                  <a:pt x="1090353" y="400029"/>
                  <a:pt x="1089860" y="400459"/>
                </a:cubicBezTo>
                <a:cubicBezTo>
                  <a:pt x="1089370" y="400902"/>
                  <a:pt x="1088842" y="401308"/>
                  <a:pt x="1088280" y="401723"/>
                </a:cubicBezTo>
                <a:cubicBezTo>
                  <a:pt x="1087705" y="402125"/>
                  <a:pt x="1087165" y="402489"/>
                  <a:pt x="1086662" y="402783"/>
                </a:cubicBezTo>
                <a:cubicBezTo>
                  <a:pt x="1086147" y="403096"/>
                  <a:pt x="1085717" y="403231"/>
                  <a:pt x="1085373" y="403231"/>
                </a:cubicBezTo>
                <a:lnTo>
                  <a:pt x="1004969" y="403231"/>
                </a:lnTo>
                <a:cubicBezTo>
                  <a:pt x="1003598" y="403231"/>
                  <a:pt x="1002568" y="402774"/>
                  <a:pt x="1001857" y="401845"/>
                </a:cubicBezTo>
                <a:cubicBezTo>
                  <a:pt x="1001146" y="400930"/>
                  <a:pt x="1000273" y="400165"/>
                  <a:pt x="999222" y="399558"/>
                </a:cubicBezTo>
                <a:lnTo>
                  <a:pt x="999222" y="374673"/>
                </a:lnTo>
                <a:cubicBezTo>
                  <a:pt x="999222" y="373072"/>
                  <a:pt x="999575" y="371313"/>
                  <a:pt x="1000299" y="369404"/>
                </a:cubicBezTo>
                <a:cubicBezTo>
                  <a:pt x="1001036" y="367458"/>
                  <a:pt x="1001968" y="365629"/>
                  <a:pt x="1003117" y="363869"/>
                </a:cubicBezTo>
                <a:cubicBezTo>
                  <a:pt x="1004271" y="362110"/>
                  <a:pt x="1005544" y="360523"/>
                  <a:pt x="1006957" y="359099"/>
                </a:cubicBezTo>
                <a:cubicBezTo>
                  <a:pt x="1008353" y="357704"/>
                  <a:pt x="1009750" y="356761"/>
                  <a:pt x="1011125" y="356332"/>
                </a:cubicBezTo>
                <a:cubicBezTo>
                  <a:pt x="1011823" y="356089"/>
                  <a:pt x="1013109" y="355795"/>
                  <a:pt x="1014986" y="355473"/>
                </a:cubicBezTo>
                <a:cubicBezTo>
                  <a:pt x="1016859" y="355146"/>
                  <a:pt x="1018873" y="354838"/>
                  <a:pt x="1021005" y="354530"/>
                </a:cubicBezTo>
                <a:cubicBezTo>
                  <a:pt x="1023138" y="354236"/>
                  <a:pt x="1025173" y="353952"/>
                  <a:pt x="1027131" y="353714"/>
                </a:cubicBezTo>
                <a:cubicBezTo>
                  <a:pt x="1029081" y="353443"/>
                  <a:pt x="1030588" y="353242"/>
                  <a:pt x="1031644" y="353051"/>
                </a:cubicBezTo>
                <a:cubicBezTo>
                  <a:pt x="1028051" y="350526"/>
                  <a:pt x="1025246" y="347236"/>
                  <a:pt x="1023172" y="343189"/>
                </a:cubicBezTo>
                <a:cubicBezTo>
                  <a:pt x="1021112" y="339134"/>
                  <a:pt x="1020094" y="334723"/>
                  <a:pt x="1020094" y="329954"/>
                </a:cubicBezTo>
                <a:cubicBezTo>
                  <a:pt x="1020094" y="326192"/>
                  <a:pt x="1020759" y="322631"/>
                  <a:pt x="1022083" y="319313"/>
                </a:cubicBezTo>
                <a:cubicBezTo>
                  <a:pt x="1023406" y="315995"/>
                  <a:pt x="1025207" y="313078"/>
                  <a:pt x="1027451" y="310562"/>
                </a:cubicBezTo>
                <a:cubicBezTo>
                  <a:pt x="1029707" y="308065"/>
                  <a:pt x="1032329" y="306077"/>
                  <a:pt x="1035373" y="304626"/>
                </a:cubicBezTo>
                <a:cubicBezTo>
                  <a:pt x="1038400" y="303160"/>
                  <a:pt x="1041635" y="302423"/>
                  <a:pt x="1045079" y="302423"/>
                </a:cubicBezTo>
                <a:close/>
                <a:moveTo>
                  <a:pt x="354792" y="284714"/>
                </a:moveTo>
                <a:cubicBezTo>
                  <a:pt x="357088" y="284714"/>
                  <a:pt x="359261" y="285227"/>
                  <a:pt x="361288" y="286247"/>
                </a:cubicBezTo>
                <a:cubicBezTo>
                  <a:pt x="363323" y="287257"/>
                  <a:pt x="365105" y="288641"/>
                  <a:pt x="366626" y="290378"/>
                </a:cubicBezTo>
                <a:cubicBezTo>
                  <a:pt x="368153" y="292129"/>
                  <a:pt x="369348" y="294159"/>
                  <a:pt x="370222" y="296468"/>
                </a:cubicBezTo>
                <a:cubicBezTo>
                  <a:pt x="371088" y="298778"/>
                  <a:pt x="371530" y="301256"/>
                  <a:pt x="371530" y="303874"/>
                </a:cubicBezTo>
                <a:cubicBezTo>
                  <a:pt x="371530" y="307138"/>
                  <a:pt x="370852" y="310188"/>
                  <a:pt x="369495" y="313040"/>
                </a:cubicBezTo>
                <a:cubicBezTo>
                  <a:pt x="368179" y="315892"/>
                  <a:pt x="366300" y="318201"/>
                  <a:pt x="363896" y="319958"/>
                </a:cubicBezTo>
                <a:cubicBezTo>
                  <a:pt x="364608" y="320088"/>
                  <a:pt x="365605" y="320231"/>
                  <a:pt x="366913" y="320416"/>
                </a:cubicBezTo>
                <a:cubicBezTo>
                  <a:pt x="368210" y="320585"/>
                  <a:pt x="369566" y="320783"/>
                  <a:pt x="370983" y="320988"/>
                </a:cubicBezTo>
                <a:cubicBezTo>
                  <a:pt x="372387" y="321202"/>
                  <a:pt x="373704" y="321416"/>
                  <a:pt x="374930" y="321640"/>
                </a:cubicBezTo>
                <a:cubicBezTo>
                  <a:pt x="376148" y="321868"/>
                  <a:pt x="377036" y="322072"/>
                  <a:pt x="377584" y="322241"/>
                </a:cubicBezTo>
                <a:cubicBezTo>
                  <a:pt x="378492" y="322540"/>
                  <a:pt x="379423" y="323177"/>
                  <a:pt x="380348" y="324122"/>
                </a:cubicBezTo>
                <a:cubicBezTo>
                  <a:pt x="381271" y="325083"/>
                  <a:pt x="382128" y="326188"/>
                  <a:pt x="382905" y="327432"/>
                </a:cubicBezTo>
                <a:cubicBezTo>
                  <a:pt x="383689" y="328685"/>
                  <a:pt x="384319" y="329975"/>
                  <a:pt x="384793" y="331329"/>
                </a:cubicBezTo>
                <a:cubicBezTo>
                  <a:pt x="385284" y="332658"/>
                  <a:pt x="385522" y="333882"/>
                  <a:pt x="385522" y="334996"/>
                </a:cubicBezTo>
                <a:lnTo>
                  <a:pt x="385522" y="352315"/>
                </a:lnTo>
                <a:cubicBezTo>
                  <a:pt x="385258" y="352448"/>
                  <a:pt x="384974" y="352643"/>
                  <a:pt x="384645" y="352942"/>
                </a:cubicBezTo>
                <a:cubicBezTo>
                  <a:pt x="384319" y="353250"/>
                  <a:pt x="383967" y="353533"/>
                  <a:pt x="383592" y="353822"/>
                </a:cubicBezTo>
                <a:cubicBezTo>
                  <a:pt x="383209" y="354101"/>
                  <a:pt x="382849" y="354354"/>
                  <a:pt x="382514" y="354559"/>
                </a:cubicBezTo>
                <a:cubicBezTo>
                  <a:pt x="382170" y="354777"/>
                  <a:pt x="381884" y="354868"/>
                  <a:pt x="381654" y="354868"/>
                </a:cubicBezTo>
                <a:lnTo>
                  <a:pt x="328051" y="354868"/>
                </a:lnTo>
                <a:cubicBezTo>
                  <a:pt x="327138" y="354868"/>
                  <a:pt x="326451" y="354553"/>
                  <a:pt x="325977" y="353906"/>
                </a:cubicBezTo>
                <a:cubicBezTo>
                  <a:pt x="325503" y="353270"/>
                  <a:pt x="324921" y="352737"/>
                  <a:pt x="324220" y="352315"/>
                </a:cubicBezTo>
                <a:lnTo>
                  <a:pt x="324220" y="334996"/>
                </a:lnTo>
                <a:cubicBezTo>
                  <a:pt x="324220" y="333882"/>
                  <a:pt x="324456" y="332658"/>
                  <a:pt x="324938" y="331329"/>
                </a:cubicBezTo>
                <a:cubicBezTo>
                  <a:pt x="325429" y="329975"/>
                  <a:pt x="326051" y="328702"/>
                  <a:pt x="326817" y="327477"/>
                </a:cubicBezTo>
                <a:cubicBezTo>
                  <a:pt x="327586" y="326253"/>
                  <a:pt x="328435" y="325148"/>
                  <a:pt x="329377" y="324158"/>
                </a:cubicBezTo>
                <a:cubicBezTo>
                  <a:pt x="330308" y="323187"/>
                  <a:pt x="331239" y="322530"/>
                  <a:pt x="332155" y="322232"/>
                </a:cubicBezTo>
                <a:cubicBezTo>
                  <a:pt x="332621" y="322063"/>
                  <a:pt x="333478" y="321858"/>
                  <a:pt x="334729" y="321634"/>
                </a:cubicBezTo>
                <a:cubicBezTo>
                  <a:pt x="335978" y="321407"/>
                  <a:pt x="337320" y="321192"/>
                  <a:pt x="338742" y="320978"/>
                </a:cubicBezTo>
                <a:cubicBezTo>
                  <a:pt x="340164" y="320773"/>
                  <a:pt x="341521" y="320575"/>
                  <a:pt x="342826" y="320409"/>
                </a:cubicBezTo>
                <a:cubicBezTo>
                  <a:pt x="344126" y="320221"/>
                  <a:pt x="345131" y="320081"/>
                  <a:pt x="345835" y="319948"/>
                </a:cubicBezTo>
                <a:cubicBezTo>
                  <a:pt x="343439" y="318191"/>
                  <a:pt x="341569" y="315901"/>
                  <a:pt x="340187" y="313085"/>
                </a:cubicBezTo>
                <a:cubicBezTo>
                  <a:pt x="338813" y="310263"/>
                  <a:pt x="338135" y="307193"/>
                  <a:pt x="338135" y="303874"/>
                </a:cubicBezTo>
                <a:cubicBezTo>
                  <a:pt x="338135" y="301256"/>
                  <a:pt x="338578" y="298778"/>
                  <a:pt x="339460" y="296468"/>
                </a:cubicBezTo>
                <a:cubicBezTo>
                  <a:pt x="340343" y="294159"/>
                  <a:pt x="341543" y="292129"/>
                  <a:pt x="343039" y="290378"/>
                </a:cubicBezTo>
                <a:cubicBezTo>
                  <a:pt x="344543" y="288641"/>
                  <a:pt x="346292" y="287257"/>
                  <a:pt x="348321" y="286247"/>
                </a:cubicBezTo>
                <a:cubicBezTo>
                  <a:pt x="350339" y="285227"/>
                  <a:pt x="352496" y="284714"/>
                  <a:pt x="354792" y="284714"/>
                </a:cubicBezTo>
                <a:close/>
                <a:moveTo>
                  <a:pt x="1406462" y="262918"/>
                </a:moveTo>
                <a:cubicBezTo>
                  <a:pt x="1408758" y="262918"/>
                  <a:pt x="1410931" y="263431"/>
                  <a:pt x="1412958" y="264451"/>
                </a:cubicBezTo>
                <a:cubicBezTo>
                  <a:pt x="1414993" y="265461"/>
                  <a:pt x="1416775" y="266845"/>
                  <a:pt x="1418296" y="268582"/>
                </a:cubicBezTo>
                <a:cubicBezTo>
                  <a:pt x="1419823" y="270333"/>
                  <a:pt x="1421018" y="272363"/>
                  <a:pt x="1421892" y="274672"/>
                </a:cubicBezTo>
                <a:cubicBezTo>
                  <a:pt x="1422758" y="276982"/>
                  <a:pt x="1423200" y="279460"/>
                  <a:pt x="1423200" y="282078"/>
                </a:cubicBezTo>
                <a:cubicBezTo>
                  <a:pt x="1423200" y="285342"/>
                  <a:pt x="1422522" y="288392"/>
                  <a:pt x="1421165" y="291244"/>
                </a:cubicBezTo>
                <a:cubicBezTo>
                  <a:pt x="1419849" y="294096"/>
                  <a:pt x="1417970" y="296405"/>
                  <a:pt x="1415566" y="298162"/>
                </a:cubicBezTo>
                <a:cubicBezTo>
                  <a:pt x="1416278" y="298292"/>
                  <a:pt x="1417275" y="298435"/>
                  <a:pt x="1418583" y="298620"/>
                </a:cubicBezTo>
                <a:cubicBezTo>
                  <a:pt x="1419880" y="298789"/>
                  <a:pt x="1421236" y="298987"/>
                  <a:pt x="1422653" y="299192"/>
                </a:cubicBezTo>
                <a:cubicBezTo>
                  <a:pt x="1424057" y="299406"/>
                  <a:pt x="1425374" y="299620"/>
                  <a:pt x="1426600" y="299844"/>
                </a:cubicBezTo>
                <a:cubicBezTo>
                  <a:pt x="1427818" y="300072"/>
                  <a:pt x="1428706" y="300276"/>
                  <a:pt x="1429254" y="300445"/>
                </a:cubicBezTo>
                <a:cubicBezTo>
                  <a:pt x="1430162" y="300744"/>
                  <a:pt x="1431093" y="301381"/>
                  <a:pt x="1432018" y="302326"/>
                </a:cubicBezTo>
                <a:cubicBezTo>
                  <a:pt x="1432941" y="303287"/>
                  <a:pt x="1433798" y="304392"/>
                  <a:pt x="1434575" y="305636"/>
                </a:cubicBezTo>
                <a:cubicBezTo>
                  <a:pt x="1435359" y="306889"/>
                  <a:pt x="1435989" y="308179"/>
                  <a:pt x="1436463" y="309533"/>
                </a:cubicBezTo>
                <a:cubicBezTo>
                  <a:pt x="1436954" y="310862"/>
                  <a:pt x="1437192" y="312086"/>
                  <a:pt x="1437192" y="313200"/>
                </a:cubicBezTo>
                <a:lnTo>
                  <a:pt x="1437192" y="330519"/>
                </a:lnTo>
                <a:cubicBezTo>
                  <a:pt x="1436928" y="330652"/>
                  <a:pt x="1436644" y="330847"/>
                  <a:pt x="1436315" y="331146"/>
                </a:cubicBezTo>
                <a:cubicBezTo>
                  <a:pt x="1435989" y="331454"/>
                  <a:pt x="1435637" y="331737"/>
                  <a:pt x="1435262" y="332026"/>
                </a:cubicBezTo>
                <a:cubicBezTo>
                  <a:pt x="1434879" y="332305"/>
                  <a:pt x="1434519" y="332558"/>
                  <a:pt x="1434184" y="332763"/>
                </a:cubicBezTo>
                <a:cubicBezTo>
                  <a:pt x="1433840" y="332981"/>
                  <a:pt x="1433554" y="333072"/>
                  <a:pt x="1433324" y="333072"/>
                </a:cubicBezTo>
                <a:lnTo>
                  <a:pt x="1379721" y="333072"/>
                </a:lnTo>
                <a:cubicBezTo>
                  <a:pt x="1378808" y="333072"/>
                  <a:pt x="1378121" y="332757"/>
                  <a:pt x="1377647" y="332110"/>
                </a:cubicBezTo>
                <a:cubicBezTo>
                  <a:pt x="1377173" y="331474"/>
                  <a:pt x="1376591" y="330941"/>
                  <a:pt x="1375890" y="330519"/>
                </a:cubicBezTo>
                <a:lnTo>
                  <a:pt x="1375890" y="313200"/>
                </a:lnTo>
                <a:cubicBezTo>
                  <a:pt x="1375890" y="312086"/>
                  <a:pt x="1376126" y="310862"/>
                  <a:pt x="1376608" y="309533"/>
                </a:cubicBezTo>
                <a:cubicBezTo>
                  <a:pt x="1377099" y="308179"/>
                  <a:pt x="1377721" y="306906"/>
                  <a:pt x="1378487" y="305681"/>
                </a:cubicBezTo>
                <a:cubicBezTo>
                  <a:pt x="1379256" y="304457"/>
                  <a:pt x="1380105" y="303352"/>
                  <a:pt x="1381047" y="302362"/>
                </a:cubicBezTo>
                <a:cubicBezTo>
                  <a:pt x="1381978" y="301391"/>
                  <a:pt x="1382909" y="300734"/>
                  <a:pt x="1383825" y="300436"/>
                </a:cubicBezTo>
                <a:cubicBezTo>
                  <a:pt x="1384291" y="300267"/>
                  <a:pt x="1385148" y="300062"/>
                  <a:pt x="1386399" y="299838"/>
                </a:cubicBezTo>
                <a:cubicBezTo>
                  <a:pt x="1387648" y="299611"/>
                  <a:pt x="1388990" y="299396"/>
                  <a:pt x="1390412" y="299182"/>
                </a:cubicBezTo>
                <a:cubicBezTo>
                  <a:pt x="1391834" y="298977"/>
                  <a:pt x="1393191" y="298779"/>
                  <a:pt x="1394496" y="298613"/>
                </a:cubicBezTo>
                <a:cubicBezTo>
                  <a:pt x="1395796" y="298425"/>
                  <a:pt x="1396801" y="298285"/>
                  <a:pt x="1397505" y="298152"/>
                </a:cubicBezTo>
                <a:cubicBezTo>
                  <a:pt x="1395109" y="296395"/>
                  <a:pt x="1393239" y="294105"/>
                  <a:pt x="1391857" y="291289"/>
                </a:cubicBezTo>
                <a:cubicBezTo>
                  <a:pt x="1390483" y="288467"/>
                  <a:pt x="1389805" y="285397"/>
                  <a:pt x="1389805" y="282078"/>
                </a:cubicBezTo>
                <a:cubicBezTo>
                  <a:pt x="1389805" y="279460"/>
                  <a:pt x="1390248" y="276982"/>
                  <a:pt x="1391130" y="274672"/>
                </a:cubicBezTo>
                <a:cubicBezTo>
                  <a:pt x="1392013" y="272363"/>
                  <a:pt x="1393213" y="270333"/>
                  <a:pt x="1394709" y="268582"/>
                </a:cubicBezTo>
                <a:cubicBezTo>
                  <a:pt x="1396213" y="266845"/>
                  <a:pt x="1397962" y="265461"/>
                  <a:pt x="1399991" y="264451"/>
                </a:cubicBezTo>
                <a:cubicBezTo>
                  <a:pt x="1402009" y="263431"/>
                  <a:pt x="1404166" y="262918"/>
                  <a:pt x="1406462" y="262918"/>
                </a:cubicBezTo>
                <a:close/>
                <a:moveTo>
                  <a:pt x="637081" y="262918"/>
                </a:moveTo>
                <a:cubicBezTo>
                  <a:pt x="640525" y="262918"/>
                  <a:pt x="643786" y="263655"/>
                  <a:pt x="646826" y="265121"/>
                </a:cubicBezTo>
                <a:cubicBezTo>
                  <a:pt x="649878" y="266572"/>
                  <a:pt x="652552" y="268560"/>
                  <a:pt x="654833" y="271057"/>
                </a:cubicBezTo>
                <a:cubicBezTo>
                  <a:pt x="657124" y="273573"/>
                  <a:pt x="658916" y="276490"/>
                  <a:pt x="660227" y="279808"/>
                </a:cubicBezTo>
                <a:cubicBezTo>
                  <a:pt x="661525" y="283126"/>
                  <a:pt x="662190" y="286687"/>
                  <a:pt x="662190" y="290449"/>
                </a:cubicBezTo>
                <a:cubicBezTo>
                  <a:pt x="662190" y="295139"/>
                  <a:pt x="661172" y="299521"/>
                  <a:pt x="659137" y="303619"/>
                </a:cubicBezTo>
                <a:cubicBezTo>
                  <a:pt x="657162" y="307717"/>
                  <a:pt x="654344" y="311035"/>
                  <a:pt x="650738" y="313560"/>
                </a:cubicBezTo>
                <a:cubicBezTo>
                  <a:pt x="651807" y="313747"/>
                  <a:pt x="653301" y="313952"/>
                  <a:pt x="655263" y="314218"/>
                </a:cubicBezTo>
                <a:cubicBezTo>
                  <a:pt x="657209" y="314461"/>
                  <a:pt x="659244" y="314745"/>
                  <a:pt x="661368" y="315039"/>
                </a:cubicBezTo>
                <a:cubicBezTo>
                  <a:pt x="663475" y="315347"/>
                  <a:pt x="665451" y="315655"/>
                  <a:pt x="667290" y="315977"/>
                </a:cubicBezTo>
                <a:cubicBezTo>
                  <a:pt x="669116" y="316304"/>
                  <a:pt x="670448" y="316598"/>
                  <a:pt x="671270" y="316841"/>
                </a:cubicBezTo>
                <a:cubicBezTo>
                  <a:pt x="672632" y="317270"/>
                  <a:pt x="674029" y="318185"/>
                  <a:pt x="675416" y="319543"/>
                </a:cubicBezTo>
                <a:cubicBezTo>
                  <a:pt x="676800" y="320924"/>
                  <a:pt x="678086" y="322511"/>
                  <a:pt x="679252" y="324299"/>
                </a:cubicBezTo>
                <a:cubicBezTo>
                  <a:pt x="680427" y="326100"/>
                  <a:pt x="681372" y="327953"/>
                  <a:pt x="682083" y="329899"/>
                </a:cubicBezTo>
                <a:cubicBezTo>
                  <a:pt x="682819" y="331808"/>
                  <a:pt x="683177" y="333567"/>
                  <a:pt x="683177" y="335168"/>
                </a:cubicBezTo>
                <a:lnTo>
                  <a:pt x="683177" y="360053"/>
                </a:lnTo>
                <a:cubicBezTo>
                  <a:pt x="682781" y="360244"/>
                  <a:pt x="682355" y="360524"/>
                  <a:pt x="681862" y="360954"/>
                </a:cubicBezTo>
                <a:cubicBezTo>
                  <a:pt x="681372" y="361397"/>
                  <a:pt x="680844" y="361803"/>
                  <a:pt x="680282" y="362218"/>
                </a:cubicBezTo>
                <a:cubicBezTo>
                  <a:pt x="679707" y="362620"/>
                  <a:pt x="679167" y="362984"/>
                  <a:pt x="678664" y="363278"/>
                </a:cubicBezTo>
                <a:cubicBezTo>
                  <a:pt x="678149" y="363591"/>
                  <a:pt x="677719" y="363726"/>
                  <a:pt x="677375" y="363726"/>
                </a:cubicBezTo>
                <a:lnTo>
                  <a:pt x="596971" y="363726"/>
                </a:lnTo>
                <a:cubicBezTo>
                  <a:pt x="595600" y="363726"/>
                  <a:pt x="594570" y="363269"/>
                  <a:pt x="593859" y="362340"/>
                </a:cubicBezTo>
                <a:cubicBezTo>
                  <a:pt x="593148" y="361425"/>
                  <a:pt x="592275" y="360660"/>
                  <a:pt x="591224" y="360053"/>
                </a:cubicBezTo>
                <a:lnTo>
                  <a:pt x="591224" y="335168"/>
                </a:lnTo>
                <a:cubicBezTo>
                  <a:pt x="591224" y="333567"/>
                  <a:pt x="591577" y="331808"/>
                  <a:pt x="592301" y="329899"/>
                </a:cubicBezTo>
                <a:cubicBezTo>
                  <a:pt x="593038" y="327953"/>
                  <a:pt x="593970" y="326124"/>
                  <a:pt x="595119" y="324364"/>
                </a:cubicBezTo>
                <a:cubicBezTo>
                  <a:pt x="596273" y="322605"/>
                  <a:pt x="597546" y="321018"/>
                  <a:pt x="598959" y="319594"/>
                </a:cubicBezTo>
                <a:cubicBezTo>
                  <a:pt x="600355" y="318199"/>
                  <a:pt x="601752" y="317256"/>
                  <a:pt x="603127" y="316827"/>
                </a:cubicBezTo>
                <a:cubicBezTo>
                  <a:pt x="603825" y="316584"/>
                  <a:pt x="605111" y="316290"/>
                  <a:pt x="606988" y="315968"/>
                </a:cubicBezTo>
                <a:cubicBezTo>
                  <a:pt x="608861" y="315641"/>
                  <a:pt x="610875" y="315333"/>
                  <a:pt x="613007" y="315025"/>
                </a:cubicBezTo>
                <a:cubicBezTo>
                  <a:pt x="615140" y="314731"/>
                  <a:pt x="617175" y="314447"/>
                  <a:pt x="619133" y="314209"/>
                </a:cubicBezTo>
                <a:cubicBezTo>
                  <a:pt x="621083" y="313938"/>
                  <a:pt x="622590" y="313737"/>
                  <a:pt x="623646" y="313546"/>
                </a:cubicBezTo>
                <a:cubicBezTo>
                  <a:pt x="620053" y="311021"/>
                  <a:pt x="617248" y="307731"/>
                  <a:pt x="615174" y="303684"/>
                </a:cubicBezTo>
                <a:cubicBezTo>
                  <a:pt x="613114" y="299629"/>
                  <a:pt x="612096" y="295218"/>
                  <a:pt x="612096" y="290449"/>
                </a:cubicBezTo>
                <a:cubicBezTo>
                  <a:pt x="612096" y="286687"/>
                  <a:pt x="612761" y="283126"/>
                  <a:pt x="614085" y="279808"/>
                </a:cubicBezTo>
                <a:cubicBezTo>
                  <a:pt x="615408" y="276490"/>
                  <a:pt x="617209" y="273573"/>
                  <a:pt x="619453" y="271057"/>
                </a:cubicBezTo>
                <a:cubicBezTo>
                  <a:pt x="621709" y="268560"/>
                  <a:pt x="624331" y="266572"/>
                  <a:pt x="627375" y="265121"/>
                </a:cubicBezTo>
                <a:cubicBezTo>
                  <a:pt x="630402" y="263655"/>
                  <a:pt x="633637" y="262918"/>
                  <a:pt x="637081" y="262918"/>
                </a:cubicBezTo>
                <a:close/>
                <a:moveTo>
                  <a:pt x="897394" y="246570"/>
                </a:moveTo>
                <a:lnTo>
                  <a:pt x="965167" y="314343"/>
                </a:lnTo>
                <a:lnTo>
                  <a:pt x="897394" y="382116"/>
                </a:lnTo>
                <a:lnTo>
                  <a:pt x="829621" y="314343"/>
                </a:lnTo>
                <a:lnTo>
                  <a:pt x="897394" y="246570"/>
                </a:lnTo>
                <a:close/>
                <a:moveTo>
                  <a:pt x="466456" y="245208"/>
                </a:moveTo>
                <a:cubicBezTo>
                  <a:pt x="469925" y="245208"/>
                  <a:pt x="473210" y="245945"/>
                  <a:pt x="476273" y="247411"/>
                </a:cubicBezTo>
                <a:cubicBezTo>
                  <a:pt x="479347" y="248862"/>
                  <a:pt x="482041" y="250850"/>
                  <a:pt x="484339" y="253347"/>
                </a:cubicBezTo>
                <a:cubicBezTo>
                  <a:pt x="486647" y="255863"/>
                  <a:pt x="488452" y="258780"/>
                  <a:pt x="489773" y="262098"/>
                </a:cubicBezTo>
                <a:cubicBezTo>
                  <a:pt x="491081" y="265416"/>
                  <a:pt x="491750" y="268977"/>
                  <a:pt x="491750" y="272739"/>
                </a:cubicBezTo>
                <a:cubicBezTo>
                  <a:pt x="491750" y="277429"/>
                  <a:pt x="490725" y="281811"/>
                  <a:pt x="488675" y="285909"/>
                </a:cubicBezTo>
                <a:cubicBezTo>
                  <a:pt x="486685" y="290007"/>
                  <a:pt x="483846" y="293325"/>
                  <a:pt x="480214" y="295850"/>
                </a:cubicBezTo>
                <a:cubicBezTo>
                  <a:pt x="481290" y="296037"/>
                  <a:pt x="482796" y="296242"/>
                  <a:pt x="484773" y="296508"/>
                </a:cubicBezTo>
                <a:cubicBezTo>
                  <a:pt x="486732" y="296751"/>
                  <a:pt x="488782" y="297035"/>
                  <a:pt x="490922" y="297329"/>
                </a:cubicBezTo>
                <a:cubicBezTo>
                  <a:pt x="493045" y="297637"/>
                  <a:pt x="495035" y="297945"/>
                  <a:pt x="496888" y="298267"/>
                </a:cubicBezTo>
                <a:cubicBezTo>
                  <a:pt x="498728" y="298594"/>
                  <a:pt x="500070" y="298888"/>
                  <a:pt x="500898" y="299131"/>
                </a:cubicBezTo>
                <a:cubicBezTo>
                  <a:pt x="502270" y="299560"/>
                  <a:pt x="503677" y="300475"/>
                  <a:pt x="505075" y="301833"/>
                </a:cubicBezTo>
                <a:cubicBezTo>
                  <a:pt x="506469" y="303214"/>
                  <a:pt x="507764" y="304801"/>
                  <a:pt x="508939" y="306589"/>
                </a:cubicBezTo>
                <a:cubicBezTo>
                  <a:pt x="510123" y="308390"/>
                  <a:pt x="511075" y="310243"/>
                  <a:pt x="511791" y="312189"/>
                </a:cubicBezTo>
                <a:cubicBezTo>
                  <a:pt x="512533" y="314098"/>
                  <a:pt x="512893" y="315857"/>
                  <a:pt x="512893" y="317458"/>
                </a:cubicBezTo>
                <a:lnTo>
                  <a:pt x="512893" y="342343"/>
                </a:lnTo>
                <a:cubicBezTo>
                  <a:pt x="512494" y="342534"/>
                  <a:pt x="512065" y="342814"/>
                  <a:pt x="511568" y="343244"/>
                </a:cubicBezTo>
                <a:cubicBezTo>
                  <a:pt x="511075" y="343687"/>
                  <a:pt x="510543" y="344093"/>
                  <a:pt x="509977" y="344508"/>
                </a:cubicBezTo>
                <a:cubicBezTo>
                  <a:pt x="509398" y="344910"/>
                  <a:pt x="508853" y="345274"/>
                  <a:pt x="508347" y="345568"/>
                </a:cubicBezTo>
                <a:cubicBezTo>
                  <a:pt x="507828" y="345881"/>
                  <a:pt x="507395" y="346016"/>
                  <a:pt x="507048" y="346016"/>
                </a:cubicBezTo>
                <a:lnTo>
                  <a:pt x="426049" y="346016"/>
                </a:lnTo>
                <a:cubicBezTo>
                  <a:pt x="424668" y="346016"/>
                  <a:pt x="423630" y="345559"/>
                  <a:pt x="422914" y="344630"/>
                </a:cubicBezTo>
                <a:cubicBezTo>
                  <a:pt x="422197" y="343715"/>
                  <a:pt x="421318" y="342950"/>
                  <a:pt x="420259" y="342343"/>
                </a:cubicBezTo>
                <a:lnTo>
                  <a:pt x="420259" y="317458"/>
                </a:lnTo>
                <a:cubicBezTo>
                  <a:pt x="420259" y="315857"/>
                  <a:pt x="420615" y="314098"/>
                  <a:pt x="421344" y="312189"/>
                </a:cubicBezTo>
                <a:cubicBezTo>
                  <a:pt x="422086" y="310243"/>
                  <a:pt x="423025" y="308414"/>
                  <a:pt x="424183" y="306654"/>
                </a:cubicBezTo>
                <a:cubicBezTo>
                  <a:pt x="425345" y="304895"/>
                  <a:pt x="426628" y="303308"/>
                  <a:pt x="428051" y="301884"/>
                </a:cubicBezTo>
                <a:cubicBezTo>
                  <a:pt x="429458" y="300489"/>
                  <a:pt x="430865" y="299546"/>
                  <a:pt x="432250" y="299117"/>
                </a:cubicBezTo>
                <a:cubicBezTo>
                  <a:pt x="432953" y="298874"/>
                  <a:pt x="434248" y="298580"/>
                  <a:pt x="436140" y="298258"/>
                </a:cubicBezTo>
                <a:cubicBezTo>
                  <a:pt x="438027" y="297931"/>
                  <a:pt x="440055" y="297623"/>
                  <a:pt x="442204" y="297315"/>
                </a:cubicBezTo>
                <a:cubicBezTo>
                  <a:pt x="444352" y="297021"/>
                  <a:pt x="446402" y="296737"/>
                  <a:pt x="448375" y="296499"/>
                </a:cubicBezTo>
                <a:cubicBezTo>
                  <a:pt x="450339" y="296228"/>
                  <a:pt x="451857" y="296027"/>
                  <a:pt x="452921" y="295836"/>
                </a:cubicBezTo>
                <a:cubicBezTo>
                  <a:pt x="449301" y="293311"/>
                  <a:pt x="446475" y="290021"/>
                  <a:pt x="444387" y="285974"/>
                </a:cubicBezTo>
                <a:cubicBezTo>
                  <a:pt x="442311" y="281919"/>
                  <a:pt x="441286" y="277508"/>
                  <a:pt x="441286" y="272739"/>
                </a:cubicBezTo>
                <a:cubicBezTo>
                  <a:pt x="441286" y="268977"/>
                  <a:pt x="441955" y="265416"/>
                  <a:pt x="443289" y="262098"/>
                </a:cubicBezTo>
                <a:cubicBezTo>
                  <a:pt x="444623" y="258780"/>
                  <a:pt x="446437" y="255863"/>
                  <a:pt x="448697" y="253347"/>
                </a:cubicBezTo>
                <a:cubicBezTo>
                  <a:pt x="450970" y="250850"/>
                  <a:pt x="453612" y="248862"/>
                  <a:pt x="456678" y="247411"/>
                </a:cubicBezTo>
                <a:cubicBezTo>
                  <a:pt x="459727" y="245945"/>
                  <a:pt x="462986" y="245208"/>
                  <a:pt x="466456" y="245208"/>
                </a:cubicBezTo>
                <a:close/>
                <a:moveTo>
                  <a:pt x="45857" y="245208"/>
                </a:moveTo>
                <a:cubicBezTo>
                  <a:pt x="49301" y="245208"/>
                  <a:pt x="52562" y="245945"/>
                  <a:pt x="55602" y="247411"/>
                </a:cubicBezTo>
                <a:cubicBezTo>
                  <a:pt x="58654" y="248862"/>
                  <a:pt x="61328" y="250850"/>
                  <a:pt x="63609" y="253347"/>
                </a:cubicBezTo>
                <a:cubicBezTo>
                  <a:pt x="65900" y="255863"/>
                  <a:pt x="67692" y="258780"/>
                  <a:pt x="69003" y="262098"/>
                </a:cubicBezTo>
                <a:cubicBezTo>
                  <a:pt x="70301" y="265416"/>
                  <a:pt x="70966" y="268977"/>
                  <a:pt x="70966" y="272739"/>
                </a:cubicBezTo>
                <a:cubicBezTo>
                  <a:pt x="70966" y="277429"/>
                  <a:pt x="69948" y="281811"/>
                  <a:pt x="67913" y="285909"/>
                </a:cubicBezTo>
                <a:cubicBezTo>
                  <a:pt x="65938" y="290007"/>
                  <a:pt x="63120" y="293325"/>
                  <a:pt x="59514" y="295850"/>
                </a:cubicBezTo>
                <a:cubicBezTo>
                  <a:pt x="60583" y="296037"/>
                  <a:pt x="62077" y="296242"/>
                  <a:pt x="64039" y="296508"/>
                </a:cubicBezTo>
                <a:cubicBezTo>
                  <a:pt x="65985" y="296751"/>
                  <a:pt x="68020" y="297035"/>
                  <a:pt x="70144" y="297329"/>
                </a:cubicBezTo>
                <a:cubicBezTo>
                  <a:pt x="72251" y="297637"/>
                  <a:pt x="74227" y="297945"/>
                  <a:pt x="76066" y="298267"/>
                </a:cubicBezTo>
                <a:cubicBezTo>
                  <a:pt x="77892" y="298594"/>
                  <a:pt x="79224" y="298888"/>
                  <a:pt x="80046" y="299131"/>
                </a:cubicBezTo>
                <a:cubicBezTo>
                  <a:pt x="81408" y="299560"/>
                  <a:pt x="82805" y="300475"/>
                  <a:pt x="84192" y="301833"/>
                </a:cubicBezTo>
                <a:cubicBezTo>
                  <a:pt x="85576" y="303214"/>
                  <a:pt x="86862" y="304801"/>
                  <a:pt x="88028" y="306589"/>
                </a:cubicBezTo>
                <a:cubicBezTo>
                  <a:pt x="89203" y="308390"/>
                  <a:pt x="90148" y="310243"/>
                  <a:pt x="90859" y="312189"/>
                </a:cubicBezTo>
                <a:cubicBezTo>
                  <a:pt x="91595" y="314098"/>
                  <a:pt x="91953" y="315857"/>
                  <a:pt x="91953" y="317458"/>
                </a:cubicBezTo>
                <a:lnTo>
                  <a:pt x="91953" y="342343"/>
                </a:lnTo>
                <a:cubicBezTo>
                  <a:pt x="91557" y="342534"/>
                  <a:pt x="91131" y="342814"/>
                  <a:pt x="90638" y="343244"/>
                </a:cubicBezTo>
                <a:cubicBezTo>
                  <a:pt x="90148" y="343687"/>
                  <a:pt x="89620" y="344093"/>
                  <a:pt x="89058" y="344508"/>
                </a:cubicBezTo>
                <a:cubicBezTo>
                  <a:pt x="88483" y="344910"/>
                  <a:pt x="87943" y="345274"/>
                  <a:pt x="87440" y="345568"/>
                </a:cubicBezTo>
                <a:cubicBezTo>
                  <a:pt x="86925" y="345881"/>
                  <a:pt x="86495" y="346016"/>
                  <a:pt x="86151" y="346016"/>
                </a:cubicBezTo>
                <a:lnTo>
                  <a:pt x="5747" y="346016"/>
                </a:lnTo>
                <a:cubicBezTo>
                  <a:pt x="4376" y="346016"/>
                  <a:pt x="3346" y="345559"/>
                  <a:pt x="2635" y="344630"/>
                </a:cubicBezTo>
                <a:cubicBezTo>
                  <a:pt x="1924" y="343715"/>
                  <a:pt x="1051" y="342950"/>
                  <a:pt x="0" y="342343"/>
                </a:cubicBezTo>
                <a:lnTo>
                  <a:pt x="0" y="317458"/>
                </a:lnTo>
                <a:cubicBezTo>
                  <a:pt x="0" y="315857"/>
                  <a:pt x="353" y="314098"/>
                  <a:pt x="1077" y="312189"/>
                </a:cubicBezTo>
                <a:cubicBezTo>
                  <a:pt x="1813" y="310243"/>
                  <a:pt x="2746" y="308414"/>
                  <a:pt x="3895" y="306654"/>
                </a:cubicBezTo>
                <a:cubicBezTo>
                  <a:pt x="5049" y="304895"/>
                  <a:pt x="6322" y="303308"/>
                  <a:pt x="7735" y="301884"/>
                </a:cubicBezTo>
                <a:cubicBezTo>
                  <a:pt x="9131" y="300489"/>
                  <a:pt x="10528" y="299546"/>
                  <a:pt x="11903" y="299117"/>
                </a:cubicBezTo>
                <a:cubicBezTo>
                  <a:pt x="12601" y="298874"/>
                  <a:pt x="13887" y="298580"/>
                  <a:pt x="15764" y="298258"/>
                </a:cubicBezTo>
                <a:cubicBezTo>
                  <a:pt x="17637" y="297931"/>
                  <a:pt x="19651" y="297623"/>
                  <a:pt x="21783" y="297315"/>
                </a:cubicBezTo>
                <a:cubicBezTo>
                  <a:pt x="23916" y="297021"/>
                  <a:pt x="25951" y="296737"/>
                  <a:pt x="27909" y="296499"/>
                </a:cubicBezTo>
                <a:cubicBezTo>
                  <a:pt x="29859" y="296228"/>
                  <a:pt x="31366" y="296027"/>
                  <a:pt x="32422" y="295836"/>
                </a:cubicBezTo>
                <a:cubicBezTo>
                  <a:pt x="28829" y="293311"/>
                  <a:pt x="26024" y="290021"/>
                  <a:pt x="23950" y="285974"/>
                </a:cubicBezTo>
                <a:cubicBezTo>
                  <a:pt x="21890" y="281919"/>
                  <a:pt x="20872" y="277508"/>
                  <a:pt x="20872" y="272739"/>
                </a:cubicBezTo>
                <a:cubicBezTo>
                  <a:pt x="20872" y="268977"/>
                  <a:pt x="21537" y="265416"/>
                  <a:pt x="22861" y="262098"/>
                </a:cubicBezTo>
                <a:cubicBezTo>
                  <a:pt x="24184" y="258780"/>
                  <a:pt x="25985" y="255863"/>
                  <a:pt x="28229" y="253347"/>
                </a:cubicBezTo>
                <a:cubicBezTo>
                  <a:pt x="30485" y="250850"/>
                  <a:pt x="33107" y="248862"/>
                  <a:pt x="36151" y="247411"/>
                </a:cubicBezTo>
                <a:cubicBezTo>
                  <a:pt x="39178" y="245945"/>
                  <a:pt x="42413" y="245208"/>
                  <a:pt x="45857" y="245208"/>
                </a:cubicBezTo>
                <a:close/>
                <a:moveTo>
                  <a:pt x="761507" y="242484"/>
                </a:moveTo>
                <a:lnTo>
                  <a:pt x="803052" y="284033"/>
                </a:lnTo>
                <a:lnTo>
                  <a:pt x="761507" y="325578"/>
                </a:lnTo>
                <a:lnTo>
                  <a:pt x="719958" y="284033"/>
                </a:lnTo>
                <a:lnTo>
                  <a:pt x="761507" y="242484"/>
                </a:lnTo>
                <a:close/>
                <a:moveTo>
                  <a:pt x="201297" y="192761"/>
                </a:moveTo>
                <a:cubicBezTo>
                  <a:pt x="210481" y="192761"/>
                  <a:pt x="219177" y="194749"/>
                  <a:pt x="227282" y="198700"/>
                </a:cubicBezTo>
                <a:cubicBezTo>
                  <a:pt x="235422" y="202613"/>
                  <a:pt x="242551" y="207973"/>
                  <a:pt x="248636" y="214704"/>
                </a:cubicBezTo>
                <a:cubicBezTo>
                  <a:pt x="254743" y="221486"/>
                  <a:pt x="259523" y="229349"/>
                  <a:pt x="263019" y="238295"/>
                </a:cubicBezTo>
                <a:cubicBezTo>
                  <a:pt x="266482" y="247241"/>
                  <a:pt x="268253" y="256841"/>
                  <a:pt x="268253" y="266982"/>
                </a:cubicBezTo>
                <a:cubicBezTo>
                  <a:pt x="268253" y="279627"/>
                  <a:pt x="265539" y="291442"/>
                  <a:pt x="260113" y="302489"/>
                </a:cubicBezTo>
                <a:cubicBezTo>
                  <a:pt x="254846" y="313536"/>
                  <a:pt x="247330" y="322482"/>
                  <a:pt x="237715" y="329289"/>
                </a:cubicBezTo>
                <a:cubicBezTo>
                  <a:pt x="240564" y="329792"/>
                  <a:pt x="244549" y="330345"/>
                  <a:pt x="249782" y="331063"/>
                </a:cubicBezTo>
                <a:cubicBezTo>
                  <a:pt x="254970" y="331717"/>
                  <a:pt x="260397" y="332484"/>
                  <a:pt x="266062" y="333277"/>
                </a:cubicBezTo>
                <a:cubicBezTo>
                  <a:pt x="271681" y="334107"/>
                  <a:pt x="276948" y="334938"/>
                  <a:pt x="281853" y="335806"/>
                </a:cubicBezTo>
                <a:cubicBezTo>
                  <a:pt x="286723" y="336687"/>
                  <a:pt x="290276" y="337479"/>
                  <a:pt x="292467" y="338134"/>
                </a:cubicBezTo>
                <a:cubicBezTo>
                  <a:pt x="296100" y="339291"/>
                  <a:pt x="299823" y="341757"/>
                  <a:pt x="303524" y="345419"/>
                </a:cubicBezTo>
                <a:cubicBezTo>
                  <a:pt x="307213" y="349143"/>
                  <a:pt x="310642" y="353421"/>
                  <a:pt x="313752" y="358240"/>
                </a:cubicBezTo>
                <a:cubicBezTo>
                  <a:pt x="316885" y="363096"/>
                  <a:pt x="319406" y="368092"/>
                  <a:pt x="321301" y="373338"/>
                </a:cubicBezTo>
                <a:cubicBezTo>
                  <a:pt x="323265" y="378484"/>
                  <a:pt x="324219" y="383228"/>
                  <a:pt x="324219" y="387543"/>
                </a:cubicBezTo>
                <a:lnTo>
                  <a:pt x="324219" y="454631"/>
                </a:lnTo>
                <a:cubicBezTo>
                  <a:pt x="323163" y="455147"/>
                  <a:pt x="322028" y="455902"/>
                  <a:pt x="320711" y="457059"/>
                </a:cubicBezTo>
                <a:cubicBezTo>
                  <a:pt x="319406" y="458254"/>
                  <a:pt x="317998" y="459349"/>
                  <a:pt x="316499" y="460469"/>
                </a:cubicBezTo>
                <a:cubicBezTo>
                  <a:pt x="314967" y="461551"/>
                  <a:pt x="313525" y="462532"/>
                  <a:pt x="312186" y="463325"/>
                </a:cubicBezTo>
                <a:cubicBezTo>
                  <a:pt x="310812" y="464168"/>
                  <a:pt x="309665" y="464533"/>
                  <a:pt x="308746" y="464533"/>
                </a:cubicBezTo>
                <a:lnTo>
                  <a:pt x="94337" y="464533"/>
                </a:lnTo>
                <a:cubicBezTo>
                  <a:pt x="90681" y="464533"/>
                  <a:pt x="87934" y="463300"/>
                  <a:pt x="86038" y="460796"/>
                </a:cubicBezTo>
                <a:cubicBezTo>
                  <a:pt x="84142" y="458330"/>
                  <a:pt x="81815" y="456266"/>
                  <a:pt x="79011" y="454631"/>
                </a:cubicBezTo>
                <a:lnTo>
                  <a:pt x="79011" y="387543"/>
                </a:lnTo>
                <a:cubicBezTo>
                  <a:pt x="79011" y="383228"/>
                  <a:pt x="79953" y="378484"/>
                  <a:pt x="81883" y="373338"/>
                </a:cubicBezTo>
                <a:cubicBezTo>
                  <a:pt x="83847" y="368092"/>
                  <a:pt x="86333" y="363159"/>
                  <a:pt x="89398" y="358416"/>
                </a:cubicBezTo>
                <a:cubicBezTo>
                  <a:pt x="92475" y="353673"/>
                  <a:pt x="95869" y="349395"/>
                  <a:pt x="99638" y="345557"/>
                </a:cubicBezTo>
                <a:cubicBezTo>
                  <a:pt x="103362" y="341795"/>
                  <a:pt x="107085" y="339254"/>
                  <a:pt x="110752" y="338096"/>
                </a:cubicBezTo>
                <a:cubicBezTo>
                  <a:pt x="112614" y="337442"/>
                  <a:pt x="116042" y="336649"/>
                  <a:pt x="121048" y="335781"/>
                </a:cubicBezTo>
                <a:cubicBezTo>
                  <a:pt x="126043" y="334900"/>
                  <a:pt x="131413" y="334070"/>
                  <a:pt x="137100" y="333239"/>
                </a:cubicBezTo>
                <a:cubicBezTo>
                  <a:pt x="142788" y="332447"/>
                  <a:pt x="148214" y="331679"/>
                  <a:pt x="153436" y="331037"/>
                </a:cubicBezTo>
                <a:cubicBezTo>
                  <a:pt x="158635" y="330308"/>
                  <a:pt x="162654" y="329767"/>
                  <a:pt x="165470" y="329251"/>
                </a:cubicBezTo>
                <a:cubicBezTo>
                  <a:pt x="155888" y="322444"/>
                  <a:pt x="148407" y="313574"/>
                  <a:pt x="142879" y="302665"/>
                </a:cubicBezTo>
                <a:cubicBezTo>
                  <a:pt x="137384" y="291731"/>
                  <a:pt x="134671" y="279841"/>
                  <a:pt x="134671" y="266982"/>
                </a:cubicBezTo>
                <a:cubicBezTo>
                  <a:pt x="134671" y="256841"/>
                  <a:pt x="136442" y="247241"/>
                  <a:pt x="139972" y="238295"/>
                </a:cubicBezTo>
                <a:cubicBezTo>
                  <a:pt x="143503" y="229349"/>
                  <a:pt x="148305" y="221486"/>
                  <a:pt x="154288" y="214704"/>
                </a:cubicBezTo>
                <a:cubicBezTo>
                  <a:pt x="160304" y="207973"/>
                  <a:pt x="167297" y="202613"/>
                  <a:pt x="175414" y="198700"/>
                </a:cubicBezTo>
                <a:cubicBezTo>
                  <a:pt x="183485" y="194749"/>
                  <a:pt x="192113" y="192761"/>
                  <a:pt x="201297" y="192761"/>
                </a:cubicBezTo>
                <a:close/>
                <a:moveTo>
                  <a:pt x="1088672" y="187993"/>
                </a:moveTo>
                <a:cubicBezTo>
                  <a:pt x="1092116" y="187993"/>
                  <a:pt x="1095377" y="188730"/>
                  <a:pt x="1098417" y="190196"/>
                </a:cubicBezTo>
                <a:cubicBezTo>
                  <a:pt x="1101469" y="191647"/>
                  <a:pt x="1104143" y="193635"/>
                  <a:pt x="1106424" y="196132"/>
                </a:cubicBezTo>
                <a:cubicBezTo>
                  <a:pt x="1108715" y="198648"/>
                  <a:pt x="1110507" y="201565"/>
                  <a:pt x="1111818" y="204883"/>
                </a:cubicBezTo>
                <a:cubicBezTo>
                  <a:pt x="1113116" y="208201"/>
                  <a:pt x="1113781" y="211762"/>
                  <a:pt x="1113781" y="215524"/>
                </a:cubicBezTo>
                <a:cubicBezTo>
                  <a:pt x="1113781" y="220214"/>
                  <a:pt x="1112763" y="224596"/>
                  <a:pt x="1110728" y="228694"/>
                </a:cubicBezTo>
                <a:cubicBezTo>
                  <a:pt x="1108753" y="232792"/>
                  <a:pt x="1105935" y="236110"/>
                  <a:pt x="1102329" y="238635"/>
                </a:cubicBezTo>
                <a:cubicBezTo>
                  <a:pt x="1103398" y="238822"/>
                  <a:pt x="1104892" y="239027"/>
                  <a:pt x="1106854" y="239293"/>
                </a:cubicBezTo>
                <a:cubicBezTo>
                  <a:pt x="1108800" y="239536"/>
                  <a:pt x="1110835" y="239820"/>
                  <a:pt x="1112959" y="240114"/>
                </a:cubicBezTo>
                <a:cubicBezTo>
                  <a:pt x="1115066" y="240422"/>
                  <a:pt x="1117042" y="240730"/>
                  <a:pt x="1118881" y="241052"/>
                </a:cubicBezTo>
                <a:cubicBezTo>
                  <a:pt x="1120707" y="241379"/>
                  <a:pt x="1122039" y="241673"/>
                  <a:pt x="1122861" y="241916"/>
                </a:cubicBezTo>
                <a:cubicBezTo>
                  <a:pt x="1124223" y="242345"/>
                  <a:pt x="1125620" y="243260"/>
                  <a:pt x="1127007" y="244618"/>
                </a:cubicBezTo>
                <a:cubicBezTo>
                  <a:pt x="1128391" y="245999"/>
                  <a:pt x="1129677" y="247586"/>
                  <a:pt x="1130843" y="249374"/>
                </a:cubicBezTo>
                <a:cubicBezTo>
                  <a:pt x="1132018" y="251175"/>
                  <a:pt x="1132963" y="253028"/>
                  <a:pt x="1133674" y="254974"/>
                </a:cubicBezTo>
                <a:cubicBezTo>
                  <a:pt x="1134410" y="256883"/>
                  <a:pt x="1134768" y="258642"/>
                  <a:pt x="1134768" y="260243"/>
                </a:cubicBezTo>
                <a:lnTo>
                  <a:pt x="1134768" y="285128"/>
                </a:lnTo>
                <a:cubicBezTo>
                  <a:pt x="1134372" y="285319"/>
                  <a:pt x="1133946" y="285599"/>
                  <a:pt x="1133453" y="286029"/>
                </a:cubicBezTo>
                <a:cubicBezTo>
                  <a:pt x="1132963" y="286472"/>
                  <a:pt x="1132435" y="286878"/>
                  <a:pt x="1131873" y="287293"/>
                </a:cubicBezTo>
                <a:cubicBezTo>
                  <a:pt x="1131298" y="287695"/>
                  <a:pt x="1130758" y="288059"/>
                  <a:pt x="1130255" y="288353"/>
                </a:cubicBezTo>
                <a:cubicBezTo>
                  <a:pt x="1129740" y="288666"/>
                  <a:pt x="1129310" y="288801"/>
                  <a:pt x="1128966" y="288801"/>
                </a:cubicBezTo>
                <a:lnTo>
                  <a:pt x="1048562" y="288801"/>
                </a:lnTo>
                <a:cubicBezTo>
                  <a:pt x="1047191" y="288801"/>
                  <a:pt x="1046161" y="288344"/>
                  <a:pt x="1045450" y="287415"/>
                </a:cubicBezTo>
                <a:cubicBezTo>
                  <a:pt x="1044739" y="286500"/>
                  <a:pt x="1043866" y="285735"/>
                  <a:pt x="1042815" y="285128"/>
                </a:cubicBezTo>
                <a:lnTo>
                  <a:pt x="1042815" y="260243"/>
                </a:lnTo>
                <a:cubicBezTo>
                  <a:pt x="1042815" y="258642"/>
                  <a:pt x="1043168" y="256883"/>
                  <a:pt x="1043892" y="254974"/>
                </a:cubicBezTo>
                <a:cubicBezTo>
                  <a:pt x="1044629" y="253028"/>
                  <a:pt x="1045561" y="251199"/>
                  <a:pt x="1046710" y="249439"/>
                </a:cubicBezTo>
                <a:cubicBezTo>
                  <a:pt x="1047864" y="247680"/>
                  <a:pt x="1049137" y="246093"/>
                  <a:pt x="1050550" y="244669"/>
                </a:cubicBezTo>
                <a:cubicBezTo>
                  <a:pt x="1051946" y="243274"/>
                  <a:pt x="1053343" y="242331"/>
                  <a:pt x="1054718" y="241902"/>
                </a:cubicBezTo>
                <a:cubicBezTo>
                  <a:pt x="1055416" y="241659"/>
                  <a:pt x="1056702" y="241365"/>
                  <a:pt x="1058579" y="241043"/>
                </a:cubicBezTo>
                <a:cubicBezTo>
                  <a:pt x="1060452" y="240716"/>
                  <a:pt x="1062466" y="240408"/>
                  <a:pt x="1064598" y="240100"/>
                </a:cubicBezTo>
                <a:cubicBezTo>
                  <a:pt x="1066731" y="239806"/>
                  <a:pt x="1068766" y="239522"/>
                  <a:pt x="1070724" y="239284"/>
                </a:cubicBezTo>
                <a:cubicBezTo>
                  <a:pt x="1072674" y="239013"/>
                  <a:pt x="1074181" y="238812"/>
                  <a:pt x="1075237" y="238621"/>
                </a:cubicBezTo>
                <a:cubicBezTo>
                  <a:pt x="1071644" y="236096"/>
                  <a:pt x="1068839" y="232806"/>
                  <a:pt x="1066765" y="228759"/>
                </a:cubicBezTo>
                <a:cubicBezTo>
                  <a:pt x="1064705" y="224704"/>
                  <a:pt x="1063687" y="220293"/>
                  <a:pt x="1063687" y="215524"/>
                </a:cubicBezTo>
                <a:cubicBezTo>
                  <a:pt x="1063687" y="211762"/>
                  <a:pt x="1064352" y="208201"/>
                  <a:pt x="1065676" y="204883"/>
                </a:cubicBezTo>
                <a:cubicBezTo>
                  <a:pt x="1066999" y="201565"/>
                  <a:pt x="1068800" y="198648"/>
                  <a:pt x="1071044" y="196132"/>
                </a:cubicBezTo>
                <a:cubicBezTo>
                  <a:pt x="1073300" y="193635"/>
                  <a:pt x="1075922" y="191647"/>
                  <a:pt x="1078966" y="190196"/>
                </a:cubicBezTo>
                <a:cubicBezTo>
                  <a:pt x="1081993" y="188730"/>
                  <a:pt x="1085228" y="187993"/>
                  <a:pt x="1088672" y="187993"/>
                </a:cubicBezTo>
                <a:close/>
                <a:moveTo>
                  <a:pt x="559891" y="181181"/>
                </a:moveTo>
                <a:lnTo>
                  <a:pt x="601436" y="222730"/>
                </a:lnTo>
                <a:lnTo>
                  <a:pt x="559891" y="264275"/>
                </a:lnTo>
                <a:lnTo>
                  <a:pt x="518342" y="222730"/>
                </a:lnTo>
                <a:lnTo>
                  <a:pt x="559891" y="181181"/>
                </a:lnTo>
                <a:close/>
                <a:moveTo>
                  <a:pt x="1255152" y="140314"/>
                </a:moveTo>
                <a:cubicBezTo>
                  <a:pt x="1260254" y="140314"/>
                  <a:pt x="1265085" y="141400"/>
                  <a:pt x="1269588" y="143559"/>
                </a:cubicBezTo>
                <a:cubicBezTo>
                  <a:pt x="1274110" y="145697"/>
                  <a:pt x="1278071" y="148625"/>
                  <a:pt x="1281451" y="152303"/>
                </a:cubicBezTo>
                <a:cubicBezTo>
                  <a:pt x="1284844" y="156008"/>
                  <a:pt x="1287500" y="160305"/>
                  <a:pt x="1289442" y="165192"/>
                </a:cubicBezTo>
                <a:cubicBezTo>
                  <a:pt x="1291366" y="170080"/>
                  <a:pt x="1292349" y="175325"/>
                  <a:pt x="1292349" y="180866"/>
                </a:cubicBezTo>
                <a:cubicBezTo>
                  <a:pt x="1292349" y="187775"/>
                  <a:pt x="1290842" y="194223"/>
                  <a:pt x="1287827" y="200265"/>
                </a:cubicBezTo>
                <a:cubicBezTo>
                  <a:pt x="1284901" y="206301"/>
                  <a:pt x="1280726" y="211189"/>
                  <a:pt x="1275384" y="214908"/>
                </a:cubicBezTo>
                <a:cubicBezTo>
                  <a:pt x="1276967" y="215183"/>
                  <a:pt x="1279181" y="215485"/>
                  <a:pt x="1282088" y="215877"/>
                </a:cubicBezTo>
                <a:cubicBezTo>
                  <a:pt x="1284970" y="216235"/>
                  <a:pt x="1287985" y="216654"/>
                  <a:pt x="1291132" y="217087"/>
                </a:cubicBezTo>
                <a:cubicBezTo>
                  <a:pt x="1294254" y="217541"/>
                  <a:pt x="1297180" y="217995"/>
                  <a:pt x="1299905" y="218469"/>
                </a:cubicBezTo>
                <a:cubicBezTo>
                  <a:pt x="1302611" y="218950"/>
                  <a:pt x="1304585" y="219383"/>
                  <a:pt x="1305802" y="219741"/>
                </a:cubicBezTo>
                <a:cubicBezTo>
                  <a:pt x="1307820" y="220373"/>
                  <a:pt x="1309889" y="221720"/>
                  <a:pt x="1311945" y="223721"/>
                </a:cubicBezTo>
                <a:cubicBezTo>
                  <a:pt x="1313994" y="225756"/>
                  <a:pt x="1315899" y="228093"/>
                  <a:pt x="1317627" y="230726"/>
                </a:cubicBezTo>
                <a:cubicBezTo>
                  <a:pt x="1319368" y="233379"/>
                  <a:pt x="1320768" y="236109"/>
                  <a:pt x="1321821" y="238975"/>
                </a:cubicBezTo>
                <a:cubicBezTo>
                  <a:pt x="1322912" y="241787"/>
                  <a:pt x="1323442" y="244379"/>
                  <a:pt x="1323442" y="246736"/>
                </a:cubicBezTo>
                <a:lnTo>
                  <a:pt x="1323442" y="283391"/>
                </a:lnTo>
                <a:cubicBezTo>
                  <a:pt x="1322855" y="283673"/>
                  <a:pt x="1322225" y="284085"/>
                  <a:pt x="1321493" y="284717"/>
                </a:cubicBezTo>
                <a:cubicBezTo>
                  <a:pt x="1320768" y="285371"/>
                  <a:pt x="1319986" y="285969"/>
                  <a:pt x="1319153" y="286580"/>
                </a:cubicBezTo>
                <a:cubicBezTo>
                  <a:pt x="1318302" y="287172"/>
                  <a:pt x="1317501" y="287708"/>
                  <a:pt x="1316757" y="288141"/>
                </a:cubicBezTo>
                <a:cubicBezTo>
                  <a:pt x="1315994" y="288602"/>
                  <a:pt x="1315357" y="288794"/>
                  <a:pt x="1314846" y="288794"/>
                </a:cubicBezTo>
                <a:lnTo>
                  <a:pt x="1195729" y="288794"/>
                </a:lnTo>
                <a:cubicBezTo>
                  <a:pt x="1193698" y="288794"/>
                  <a:pt x="1192172" y="288127"/>
                  <a:pt x="1191119" y="286759"/>
                </a:cubicBezTo>
                <a:cubicBezTo>
                  <a:pt x="1190066" y="285412"/>
                  <a:pt x="1188773" y="284284"/>
                  <a:pt x="1187215" y="283391"/>
                </a:cubicBezTo>
                <a:lnTo>
                  <a:pt x="1187215" y="246736"/>
                </a:lnTo>
                <a:cubicBezTo>
                  <a:pt x="1187215" y="244379"/>
                  <a:pt x="1187738" y="241787"/>
                  <a:pt x="1188811" y="238975"/>
                </a:cubicBezTo>
                <a:cubicBezTo>
                  <a:pt x="1189902" y="236109"/>
                  <a:pt x="1191283" y="233414"/>
                  <a:pt x="1192986" y="230822"/>
                </a:cubicBezTo>
                <a:cubicBezTo>
                  <a:pt x="1194695" y="228231"/>
                  <a:pt x="1196581" y="225893"/>
                  <a:pt x="1198674" y="223797"/>
                </a:cubicBezTo>
                <a:cubicBezTo>
                  <a:pt x="1200743" y="221741"/>
                  <a:pt x="1202812" y="220352"/>
                  <a:pt x="1204849" y="219720"/>
                </a:cubicBezTo>
                <a:cubicBezTo>
                  <a:pt x="1205883" y="219363"/>
                  <a:pt x="1207788" y="218929"/>
                  <a:pt x="1210569" y="218455"/>
                </a:cubicBezTo>
                <a:cubicBezTo>
                  <a:pt x="1213344" y="217974"/>
                  <a:pt x="1216327" y="217520"/>
                  <a:pt x="1219487" y="217067"/>
                </a:cubicBezTo>
                <a:cubicBezTo>
                  <a:pt x="1222647" y="216633"/>
                  <a:pt x="1225661" y="216214"/>
                  <a:pt x="1228562" y="215864"/>
                </a:cubicBezTo>
                <a:cubicBezTo>
                  <a:pt x="1231451" y="215465"/>
                  <a:pt x="1233684" y="215169"/>
                  <a:pt x="1235248" y="214887"/>
                </a:cubicBezTo>
                <a:cubicBezTo>
                  <a:pt x="1229925" y="211168"/>
                  <a:pt x="1225769" y="206322"/>
                  <a:pt x="1222697" y="200362"/>
                </a:cubicBezTo>
                <a:cubicBezTo>
                  <a:pt x="1219645" y="194388"/>
                  <a:pt x="1218137" y="187892"/>
                  <a:pt x="1218137" y="180866"/>
                </a:cubicBezTo>
                <a:cubicBezTo>
                  <a:pt x="1218137" y="175325"/>
                  <a:pt x="1219121" y="170080"/>
                  <a:pt x="1221083" y="165192"/>
                </a:cubicBezTo>
                <a:cubicBezTo>
                  <a:pt x="1223044" y="160305"/>
                  <a:pt x="1225712" y="156008"/>
                  <a:pt x="1229035" y="152303"/>
                </a:cubicBezTo>
                <a:cubicBezTo>
                  <a:pt x="1232378" y="148625"/>
                  <a:pt x="1236263" y="145697"/>
                  <a:pt x="1240766" y="143559"/>
                </a:cubicBezTo>
                <a:cubicBezTo>
                  <a:pt x="1245257" y="141400"/>
                  <a:pt x="1250050" y="140314"/>
                  <a:pt x="1255152" y="140314"/>
                </a:cubicBezTo>
                <a:close/>
                <a:moveTo>
                  <a:pt x="879683" y="128053"/>
                </a:moveTo>
                <a:lnTo>
                  <a:pt x="921569" y="169943"/>
                </a:lnTo>
                <a:lnTo>
                  <a:pt x="879683" y="211829"/>
                </a:lnTo>
                <a:lnTo>
                  <a:pt x="837794" y="169943"/>
                </a:lnTo>
                <a:lnTo>
                  <a:pt x="879683" y="128053"/>
                </a:lnTo>
                <a:close/>
                <a:moveTo>
                  <a:pt x="362704" y="115112"/>
                </a:moveTo>
                <a:lnTo>
                  <a:pt x="430477" y="182884"/>
                </a:lnTo>
                <a:lnTo>
                  <a:pt x="362704" y="250657"/>
                </a:lnTo>
                <a:lnTo>
                  <a:pt x="294931" y="182884"/>
                </a:lnTo>
                <a:lnTo>
                  <a:pt x="362704" y="115112"/>
                </a:lnTo>
                <a:close/>
                <a:moveTo>
                  <a:pt x="703094" y="61302"/>
                </a:moveTo>
                <a:cubicBezTo>
                  <a:pt x="708171" y="61302"/>
                  <a:pt x="712978" y="62393"/>
                  <a:pt x="717458" y="64562"/>
                </a:cubicBezTo>
                <a:cubicBezTo>
                  <a:pt x="721958" y="66709"/>
                  <a:pt x="725899" y="69651"/>
                  <a:pt x="729262" y="73346"/>
                </a:cubicBezTo>
                <a:cubicBezTo>
                  <a:pt x="732638" y="77068"/>
                  <a:pt x="735280" y="81384"/>
                  <a:pt x="737213" y="86294"/>
                </a:cubicBezTo>
                <a:cubicBezTo>
                  <a:pt x="739127" y="91205"/>
                  <a:pt x="740106" y="96474"/>
                  <a:pt x="740106" y="102040"/>
                </a:cubicBezTo>
                <a:cubicBezTo>
                  <a:pt x="740106" y="108980"/>
                  <a:pt x="738606" y="115458"/>
                  <a:pt x="735607" y="121528"/>
                </a:cubicBezTo>
                <a:cubicBezTo>
                  <a:pt x="732695" y="127592"/>
                  <a:pt x="728541" y="132502"/>
                  <a:pt x="723225" y="136238"/>
                </a:cubicBezTo>
                <a:cubicBezTo>
                  <a:pt x="724800" y="136514"/>
                  <a:pt x="727003" y="136818"/>
                  <a:pt x="729896" y="137212"/>
                </a:cubicBezTo>
                <a:cubicBezTo>
                  <a:pt x="732764" y="137571"/>
                  <a:pt x="735763" y="137992"/>
                  <a:pt x="738895" y="138427"/>
                </a:cubicBezTo>
                <a:cubicBezTo>
                  <a:pt x="742001" y="138883"/>
                  <a:pt x="744913" y="139339"/>
                  <a:pt x="747624" y="139815"/>
                </a:cubicBezTo>
                <a:cubicBezTo>
                  <a:pt x="750316" y="140299"/>
                  <a:pt x="752280" y="140734"/>
                  <a:pt x="753491" y="141093"/>
                </a:cubicBezTo>
                <a:cubicBezTo>
                  <a:pt x="755499" y="141728"/>
                  <a:pt x="757557" y="143082"/>
                  <a:pt x="759603" y="145091"/>
                </a:cubicBezTo>
                <a:cubicBezTo>
                  <a:pt x="761643" y="147136"/>
                  <a:pt x="763538" y="149484"/>
                  <a:pt x="765257" y="152129"/>
                </a:cubicBezTo>
                <a:cubicBezTo>
                  <a:pt x="766989" y="154794"/>
                  <a:pt x="768382" y="157536"/>
                  <a:pt x="769430" y="160416"/>
                </a:cubicBezTo>
                <a:cubicBezTo>
                  <a:pt x="770516" y="163240"/>
                  <a:pt x="771043" y="165844"/>
                  <a:pt x="771043" y="168213"/>
                </a:cubicBezTo>
                <a:lnTo>
                  <a:pt x="771043" y="205035"/>
                </a:lnTo>
                <a:cubicBezTo>
                  <a:pt x="770459" y="205318"/>
                  <a:pt x="769832" y="205732"/>
                  <a:pt x="769104" y="206368"/>
                </a:cubicBezTo>
                <a:cubicBezTo>
                  <a:pt x="768382" y="207024"/>
                  <a:pt x="767604" y="207625"/>
                  <a:pt x="766776" y="208239"/>
                </a:cubicBezTo>
                <a:cubicBezTo>
                  <a:pt x="765929" y="208833"/>
                  <a:pt x="765132" y="209372"/>
                  <a:pt x="764391" y="209807"/>
                </a:cubicBezTo>
                <a:cubicBezTo>
                  <a:pt x="763632" y="210270"/>
                  <a:pt x="762998" y="210463"/>
                  <a:pt x="762490" y="210463"/>
                </a:cubicBezTo>
                <a:lnTo>
                  <a:pt x="643969" y="210463"/>
                </a:lnTo>
                <a:cubicBezTo>
                  <a:pt x="641948" y="210463"/>
                  <a:pt x="640429" y="209793"/>
                  <a:pt x="639381" y="208419"/>
                </a:cubicBezTo>
                <a:cubicBezTo>
                  <a:pt x="638333" y="207065"/>
                  <a:pt x="637047" y="205933"/>
                  <a:pt x="635497" y="205035"/>
                </a:cubicBezTo>
                <a:lnTo>
                  <a:pt x="635497" y="168213"/>
                </a:lnTo>
                <a:cubicBezTo>
                  <a:pt x="635497" y="165844"/>
                  <a:pt x="636018" y="163240"/>
                  <a:pt x="637085" y="160416"/>
                </a:cubicBezTo>
                <a:cubicBezTo>
                  <a:pt x="638170" y="157536"/>
                  <a:pt x="639545" y="154829"/>
                  <a:pt x="641239" y="152225"/>
                </a:cubicBezTo>
                <a:cubicBezTo>
                  <a:pt x="642939" y="149622"/>
                  <a:pt x="644816" y="147274"/>
                  <a:pt x="646899" y="145167"/>
                </a:cubicBezTo>
                <a:cubicBezTo>
                  <a:pt x="648957" y="143103"/>
                  <a:pt x="651016" y="141708"/>
                  <a:pt x="653043" y="141072"/>
                </a:cubicBezTo>
                <a:cubicBezTo>
                  <a:pt x="654072" y="140713"/>
                  <a:pt x="655967" y="140278"/>
                  <a:pt x="658734" y="139802"/>
                </a:cubicBezTo>
                <a:cubicBezTo>
                  <a:pt x="661495" y="139318"/>
                  <a:pt x="664464" y="138862"/>
                  <a:pt x="667608" y="138407"/>
                </a:cubicBezTo>
                <a:cubicBezTo>
                  <a:pt x="670752" y="137971"/>
                  <a:pt x="673751" y="137550"/>
                  <a:pt x="676638" y="137198"/>
                </a:cubicBezTo>
                <a:cubicBezTo>
                  <a:pt x="679512" y="136797"/>
                  <a:pt x="681733" y="136500"/>
                  <a:pt x="683290" y="136217"/>
                </a:cubicBezTo>
                <a:cubicBezTo>
                  <a:pt x="677993" y="132481"/>
                  <a:pt x="673858" y="127613"/>
                  <a:pt x="670802" y="121625"/>
                </a:cubicBezTo>
                <a:cubicBezTo>
                  <a:pt x="667764" y="115624"/>
                  <a:pt x="666265" y="109098"/>
                  <a:pt x="666265" y="102040"/>
                </a:cubicBezTo>
                <a:cubicBezTo>
                  <a:pt x="666265" y="96474"/>
                  <a:pt x="667244" y="91205"/>
                  <a:pt x="669195" y="86294"/>
                </a:cubicBezTo>
                <a:cubicBezTo>
                  <a:pt x="671147" y="81384"/>
                  <a:pt x="673801" y="77068"/>
                  <a:pt x="677108" y="73346"/>
                </a:cubicBezTo>
                <a:cubicBezTo>
                  <a:pt x="680434" y="69651"/>
                  <a:pt x="684300" y="66709"/>
                  <a:pt x="688780" y="64562"/>
                </a:cubicBezTo>
                <a:cubicBezTo>
                  <a:pt x="693248" y="62393"/>
                  <a:pt x="698018" y="61302"/>
                  <a:pt x="703094" y="61302"/>
                </a:cubicBezTo>
                <a:close/>
                <a:moveTo>
                  <a:pt x="505622" y="43593"/>
                </a:moveTo>
                <a:cubicBezTo>
                  <a:pt x="509066" y="43593"/>
                  <a:pt x="512327" y="44330"/>
                  <a:pt x="515367" y="45796"/>
                </a:cubicBezTo>
                <a:cubicBezTo>
                  <a:pt x="518419" y="47247"/>
                  <a:pt x="521093" y="49235"/>
                  <a:pt x="523374" y="51732"/>
                </a:cubicBezTo>
                <a:cubicBezTo>
                  <a:pt x="525665" y="54248"/>
                  <a:pt x="527457" y="57165"/>
                  <a:pt x="528768" y="60483"/>
                </a:cubicBezTo>
                <a:cubicBezTo>
                  <a:pt x="530066" y="63801"/>
                  <a:pt x="530731" y="67362"/>
                  <a:pt x="530731" y="71124"/>
                </a:cubicBezTo>
                <a:cubicBezTo>
                  <a:pt x="530731" y="75814"/>
                  <a:pt x="529713" y="80196"/>
                  <a:pt x="527678" y="84294"/>
                </a:cubicBezTo>
                <a:cubicBezTo>
                  <a:pt x="525703" y="88392"/>
                  <a:pt x="522885" y="91710"/>
                  <a:pt x="519279" y="94235"/>
                </a:cubicBezTo>
                <a:cubicBezTo>
                  <a:pt x="520348" y="94422"/>
                  <a:pt x="521842" y="94627"/>
                  <a:pt x="523804" y="94893"/>
                </a:cubicBezTo>
                <a:cubicBezTo>
                  <a:pt x="525750" y="95136"/>
                  <a:pt x="527785" y="95420"/>
                  <a:pt x="529909" y="95714"/>
                </a:cubicBezTo>
                <a:cubicBezTo>
                  <a:pt x="532016" y="96022"/>
                  <a:pt x="533992" y="96330"/>
                  <a:pt x="535831" y="96652"/>
                </a:cubicBezTo>
                <a:cubicBezTo>
                  <a:pt x="537657" y="96979"/>
                  <a:pt x="538989" y="97273"/>
                  <a:pt x="539811" y="97516"/>
                </a:cubicBezTo>
                <a:cubicBezTo>
                  <a:pt x="541173" y="97945"/>
                  <a:pt x="542570" y="98860"/>
                  <a:pt x="543957" y="100218"/>
                </a:cubicBezTo>
                <a:cubicBezTo>
                  <a:pt x="545341" y="101599"/>
                  <a:pt x="546627" y="103186"/>
                  <a:pt x="547793" y="104974"/>
                </a:cubicBezTo>
                <a:cubicBezTo>
                  <a:pt x="548968" y="106775"/>
                  <a:pt x="549913" y="108628"/>
                  <a:pt x="550624" y="110574"/>
                </a:cubicBezTo>
                <a:cubicBezTo>
                  <a:pt x="551360" y="112483"/>
                  <a:pt x="551718" y="114242"/>
                  <a:pt x="551718" y="115843"/>
                </a:cubicBezTo>
                <a:lnTo>
                  <a:pt x="551718" y="140728"/>
                </a:lnTo>
                <a:cubicBezTo>
                  <a:pt x="551322" y="140919"/>
                  <a:pt x="550896" y="141199"/>
                  <a:pt x="550403" y="141629"/>
                </a:cubicBezTo>
                <a:cubicBezTo>
                  <a:pt x="549913" y="142072"/>
                  <a:pt x="549385" y="142478"/>
                  <a:pt x="548823" y="142893"/>
                </a:cubicBezTo>
                <a:cubicBezTo>
                  <a:pt x="548248" y="143295"/>
                  <a:pt x="547708" y="143659"/>
                  <a:pt x="547205" y="143953"/>
                </a:cubicBezTo>
                <a:cubicBezTo>
                  <a:pt x="546690" y="144266"/>
                  <a:pt x="546260" y="144401"/>
                  <a:pt x="545916" y="144401"/>
                </a:cubicBezTo>
                <a:lnTo>
                  <a:pt x="465512" y="144401"/>
                </a:lnTo>
                <a:cubicBezTo>
                  <a:pt x="464141" y="144401"/>
                  <a:pt x="463111" y="143944"/>
                  <a:pt x="462400" y="143015"/>
                </a:cubicBezTo>
                <a:cubicBezTo>
                  <a:pt x="461689" y="142100"/>
                  <a:pt x="460816" y="141335"/>
                  <a:pt x="459765" y="140728"/>
                </a:cubicBezTo>
                <a:lnTo>
                  <a:pt x="459765" y="115843"/>
                </a:lnTo>
                <a:cubicBezTo>
                  <a:pt x="459765" y="114242"/>
                  <a:pt x="460118" y="112483"/>
                  <a:pt x="460842" y="110574"/>
                </a:cubicBezTo>
                <a:cubicBezTo>
                  <a:pt x="461579" y="108628"/>
                  <a:pt x="462511" y="106799"/>
                  <a:pt x="463660" y="105039"/>
                </a:cubicBezTo>
                <a:cubicBezTo>
                  <a:pt x="464814" y="103280"/>
                  <a:pt x="466087" y="101693"/>
                  <a:pt x="467500" y="100269"/>
                </a:cubicBezTo>
                <a:cubicBezTo>
                  <a:pt x="468896" y="98874"/>
                  <a:pt x="470293" y="97931"/>
                  <a:pt x="471668" y="97502"/>
                </a:cubicBezTo>
                <a:cubicBezTo>
                  <a:pt x="472366" y="97259"/>
                  <a:pt x="473652" y="96965"/>
                  <a:pt x="475529" y="96643"/>
                </a:cubicBezTo>
                <a:cubicBezTo>
                  <a:pt x="477402" y="96316"/>
                  <a:pt x="479416" y="96008"/>
                  <a:pt x="481548" y="95700"/>
                </a:cubicBezTo>
                <a:cubicBezTo>
                  <a:pt x="483681" y="95406"/>
                  <a:pt x="485716" y="95122"/>
                  <a:pt x="487674" y="94884"/>
                </a:cubicBezTo>
                <a:cubicBezTo>
                  <a:pt x="489624" y="94613"/>
                  <a:pt x="491131" y="94412"/>
                  <a:pt x="492187" y="94221"/>
                </a:cubicBezTo>
                <a:cubicBezTo>
                  <a:pt x="488594" y="91696"/>
                  <a:pt x="485789" y="88406"/>
                  <a:pt x="483715" y="84359"/>
                </a:cubicBezTo>
                <a:cubicBezTo>
                  <a:pt x="481655" y="80304"/>
                  <a:pt x="480637" y="75893"/>
                  <a:pt x="480637" y="71124"/>
                </a:cubicBezTo>
                <a:cubicBezTo>
                  <a:pt x="480637" y="67362"/>
                  <a:pt x="481302" y="63801"/>
                  <a:pt x="482626" y="60483"/>
                </a:cubicBezTo>
                <a:cubicBezTo>
                  <a:pt x="483949" y="57165"/>
                  <a:pt x="485750" y="54248"/>
                  <a:pt x="487994" y="51732"/>
                </a:cubicBezTo>
                <a:cubicBezTo>
                  <a:pt x="490250" y="49235"/>
                  <a:pt x="492872" y="47247"/>
                  <a:pt x="495916" y="45796"/>
                </a:cubicBezTo>
                <a:cubicBezTo>
                  <a:pt x="498943" y="44330"/>
                  <a:pt x="502178" y="43593"/>
                  <a:pt x="505622" y="43593"/>
                </a:cubicBezTo>
                <a:close/>
                <a:moveTo>
                  <a:pt x="1014429" y="39506"/>
                </a:moveTo>
                <a:cubicBezTo>
                  <a:pt x="1017873" y="39506"/>
                  <a:pt x="1021134" y="40243"/>
                  <a:pt x="1024174" y="41709"/>
                </a:cubicBezTo>
                <a:cubicBezTo>
                  <a:pt x="1027226" y="43160"/>
                  <a:pt x="1029900" y="45148"/>
                  <a:pt x="1032181" y="47645"/>
                </a:cubicBezTo>
                <a:cubicBezTo>
                  <a:pt x="1034472" y="50161"/>
                  <a:pt x="1036264" y="53078"/>
                  <a:pt x="1037575" y="56396"/>
                </a:cubicBezTo>
                <a:cubicBezTo>
                  <a:pt x="1038873" y="59714"/>
                  <a:pt x="1039538" y="63275"/>
                  <a:pt x="1039538" y="67037"/>
                </a:cubicBezTo>
                <a:cubicBezTo>
                  <a:pt x="1039538" y="71727"/>
                  <a:pt x="1038520" y="76109"/>
                  <a:pt x="1036485" y="80207"/>
                </a:cubicBezTo>
                <a:cubicBezTo>
                  <a:pt x="1034510" y="84305"/>
                  <a:pt x="1031692" y="87623"/>
                  <a:pt x="1028086" y="90148"/>
                </a:cubicBezTo>
                <a:cubicBezTo>
                  <a:pt x="1029155" y="90335"/>
                  <a:pt x="1030649" y="90540"/>
                  <a:pt x="1032611" y="90806"/>
                </a:cubicBezTo>
                <a:cubicBezTo>
                  <a:pt x="1034557" y="91049"/>
                  <a:pt x="1036592" y="91333"/>
                  <a:pt x="1038716" y="91627"/>
                </a:cubicBezTo>
                <a:cubicBezTo>
                  <a:pt x="1040823" y="91935"/>
                  <a:pt x="1042799" y="92243"/>
                  <a:pt x="1044638" y="92565"/>
                </a:cubicBezTo>
                <a:cubicBezTo>
                  <a:pt x="1046464" y="92892"/>
                  <a:pt x="1047796" y="93186"/>
                  <a:pt x="1048618" y="93429"/>
                </a:cubicBezTo>
                <a:cubicBezTo>
                  <a:pt x="1049980" y="93858"/>
                  <a:pt x="1051377" y="94773"/>
                  <a:pt x="1052764" y="96131"/>
                </a:cubicBezTo>
                <a:cubicBezTo>
                  <a:pt x="1054148" y="97512"/>
                  <a:pt x="1055434" y="99099"/>
                  <a:pt x="1056600" y="100887"/>
                </a:cubicBezTo>
                <a:cubicBezTo>
                  <a:pt x="1057775" y="102688"/>
                  <a:pt x="1058720" y="104541"/>
                  <a:pt x="1059431" y="106487"/>
                </a:cubicBezTo>
                <a:cubicBezTo>
                  <a:pt x="1060167" y="108396"/>
                  <a:pt x="1060525" y="110155"/>
                  <a:pt x="1060525" y="111756"/>
                </a:cubicBezTo>
                <a:lnTo>
                  <a:pt x="1060525" y="136641"/>
                </a:lnTo>
                <a:cubicBezTo>
                  <a:pt x="1060129" y="136832"/>
                  <a:pt x="1059703" y="137112"/>
                  <a:pt x="1059210" y="137542"/>
                </a:cubicBezTo>
                <a:cubicBezTo>
                  <a:pt x="1058720" y="137985"/>
                  <a:pt x="1058192" y="138391"/>
                  <a:pt x="1057630" y="138806"/>
                </a:cubicBezTo>
                <a:cubicBezTo>
                  <a:pt x="1057055" y="139208"/>
                  <a:pt x="1056515" y="139572"/>
                  <a:pt x="1056012" y="139866"/>
                </a:cubicBezTo>
                <a:cubicBezTo>
                  <a:pt x="1055497" y="140179"/>
                  <a:pt x="1055067" y="140314"/>
                  <a:pt x="1054723" y="140314"/>
                </a:cubicBezTo>
                <a:lnTo>
                  <a:pt x="974319" y="140314"/>
                </a:lnTo>
                <a:cubicBezTo>
                  <a:pt x="972948" y="140314"/>
                  <a:pt x="971918" y="139857"/>
                  <a:pt x="971207" y="138928"/>
                </a:cubicBezTo>
                <a:cubicBezTo>
                  <a:pt x="970496" y="138013"/>
                  <a:pt x="969623" y="137248"/>
                  <a:pt x="968572" y="136641"/>
                </a:cubicBezTo>
                <a:lnTo>
                  <a:pt x="968572" y="111756"/>
                </a:lnTo>
                <a:cubicBezTo>
                  <a:pt x="968572" y="110155"/>
                  <a:pt x="968925" y="108396"/>
                  <a:pt x="969649" y="106487"/>
                </a:cubicBezTo>
                <a:cubicBezTo>
                  <a:pt x="970386" y="104541"/>
                  <a:pt x="971318" y="102712"/>
                  <a:pt x="972467" y="100952"/>
                </a:cubicBezTo>
                <a:cubicBezTo>
                  <a:pt x="973621" y="99193"/>
                  <a:pt x="974894" y="97606"/>
                  <a:pt x="976307" y="96182"/>
                </a:cubicBezTo>
                <a:cubicBezTo>
                  <a:pt x="977703" y="94787"/>
                  <a:pt x="979100" y="93844"/>
                  <a:pt x="980475" y="93415"/>
                </a:cubicBezTo>
                <a:cubicBezTo>
                  <a:pt x="981173" y="93172"/>
                  <a:pt x="982459" y="92878"/>
                  <a:pt x="984336" y="92556"/>
                </a:cubicBezTo>
                <a:cubicBezTo>
                  <a:pt x="986209" y="92229"/>
                  <a:pt x="988223" y="91921"/>
                  <a:pt x="990355" y="91613"/>
                </a:cubicBezTo>
                <a:cubicBezTo>
                  <a:pt x="992488" y="91319"/>
                  <a:pt x="994523" y="91035"/>
                  <a:pt x="996481" y="90797"/>
                </a:cubicBezTo>
                <a:cubicBezTo>
                  <a:pt x="998431" y="90526"/>
                  <a:pt x="999938" y="90325"/>
                  <a:pt x="1000994" y="90134"/>
                </a:cubicBezTo>
                <a:cubicBezTo>
                  <a:pt x="997401" y="87609"/>
                  <a:pt x="994596" y="84319"/>
                  <a:pt x="992522" y="80272"/>
                </a:cubicBezTo>
                <a:cubicBezTo>
                  <a:pt x="990462" y="76217"/>
                  <a:pt x="989444" y="71806"/>
                  <a:pt x="989444" y="67037"/>
                </a:cubicBezTo>
                <a:cubicBezTo>
                  <a:pt x="989444" y="63275"/>
                  <a:pt x="990109" y="59714"/>
                  <a:pt x="991433" y="56396"/>
                </a:cubicBezTo>
                <a:cubicBezTo>
                  <a:pt x="992756" y="53078"/>
                  <a:pt x="994557" y="50161"/>
                  <a:pt x="996801" y="47645"/>
                </a:cubicBezTo>
                <a:cubicBezTo>
                  <a:pt x="999057" y="45148"/>
                  <a:pt x="1001679" y="43160"/>
                  <a:pt x="1004723" y="41709"/>
                </a:cubicBezTo>
                <a:cubicBezTo>
                  <a:pt x="1007750" y="40243"/>
                  <a:pt x="1010985" y="39506"/>
                  <a:pt x="1014429" y="39506"/>
                </a:cubicBezTo>
                <a:close/>
                <a:moveTo>
                  <a:pt x="626564" y="17709"/>
                </a:moveTo>
                <a:cubicBezTo>
                  <a:pt x="628860" y="17709"/>
                  <a:pt x="631033" y="18222"/>
                  <a:pt x="633060" y="19242"/>
                </a:cubicBezTo>
                <a:cubicBezTo>
                  <a:pt x="635095" y="20252"/>
                  <a:pt x="636877" y="21636"/>
                  <a:pt x="638398" y="23373"/>
                </a:cubicBezTo>
                <a:cubicBezTo>
                  <a:pt x="639925" y="25124"/>
                  <a:pt x="641120" y="27154"/>
                  <a:pt x="641994" y="29463"/>
                </a:cubicBezTo>
                <a:cubicBezTo>
                  <a:pt x="642860" y="31773"/>
                  <a:pt x="643302" y="34251"/>
                  <a:pt x="643302" y="36869"/>
                </a:cubicBezTo>
                <a:cubicBezTo>
                  <a:pt x="643302" y="40133"/>
                  <a:pt x="642624" y="43183"/>
                  <a:pt x="641267" y="46035"/>
                </a:cubicBezTo>
                <a:cubicBezTo>
                  <a:pt x="639951" y="48887"/>
                  <a:pt x="638072" y="51196"/>
                  <a:pt x="635668" y="52953"/>
                </a:cubicBezTo>
                <a:cubicBezTo>
                  <a:pt x="636380" y="53083"/>
                  <a:pt x="637377" y="53226"/>
                  <a:pt x="638685" y="53411"/>
                </a:cubicBezTo>
                <a:cubicBezTo>
                  <a:pt x="639982" y="53580"/>
                  <a:pt x="641338" y="53778"/>
                  <a:pt x="642755" y="53983"/>
                </a:cubicBezTo>
                <a:cubicBezTo>
                  <a:pt x="644159" y="54197"/>
                  <a:pt x="645476" y="54411"/>
                  <a:pt x="646702" y="54636"/>
                </a:cubicBezTo>
                <a:cubicBezTo>
                  <a:pt x="647920" y="54863"/>
                  <a:pt x="648808" y="55068"/>
                  <a:pt x="649356" y="55236"/>
                </a:cubicBezTo>
                <a:cubicBezTo>
                  <a:pt x="650264" y="55535"/>
                  <a:pt x="651195" y="56172"/>
                  <a:pt x="652120" y="57117"/>
                </a:cubicBezTo>
                <a:cubicBezTo>
                  <a:pt x="653043" y="58078"/>
                  <a:pt x="653900" y="59183"/>
                  <a:pt x="654677" y="60427"/>
                </a:cubicBezTo>
                <a:cubicBezTo>
                  <a:pt x="655461" y="61680"/>
                  <a:pt x="656091" y="62970"/>
                  <a:pt x="656565" y="64324"/>
                </a:cubicBezTo>
                <a:cubicBezTo>
                  <a:pt x="657056" y="65653"/>
                  <a:pt x="657294" y="66877"/>
                  <a:pt x="657294" y="67991"/>
                </a:cubicBezTo>
                <a:lnTo>
                  <a:pt x="657294" y="85310"/>
                </a:lnTo>
                <a:cubicBezTo>
                  <a:pt x="657030" y="85443"/>
                  <a:pt x="656746" y="85638"/>
                  <a:pt x="656417" y="85937"/>
                </a:cubicBezTo>
                <a:cubicBezTo>
                  <a:pt x="656091" y="86245"/>
                  <a:pt x="655739" y="86528"/>
                  <a:pt x="655364" y="86817"/>
                </a:cubicBezTo>
                <a:cubicBezTo>
                  <a:pt x="654981" y="87096"/>
                  <a:pt x="654621" y="87349"/>
                  <a:pt x="654286" y="87554"/>
                </a:cubicBezTo>
                <a:cubicBezTo>
                  <a:pt x="653942" y="87772"/>
                  <a:pt x="653656" y="87863"/>
                  <a:pt x="653426" y="87863"/>
                </a:cubicBezTo>
                <a:lnTo>
                  <a:pt x="599823" y="87863"/>
                </a:lnTo>
                <a:cubicBezTo>
                  <a:pt x="598910" y="87863"/>
                  <a:pt x="598223" y="87548"/>
                  <a:pt x="597749" y="86901"/>
                </a:cubicBezTo>
                <a:cubicBezTo>
                  <a:pt x="597275" y="86265"/>
                  <a:pt x="596693" y="85732"/>
                  <a:pt x="595992" y="85310"/>
                </a:cubicBezTo>
                <a:lnTo>
                  <a:pt x="595992" y="67991"/>
                </a:lnTo>
                <a:cubicBezTo>
                  <a:pt x="595992" y="66877"/>
                  <a:pt x="596228" y="65653"/>
                  <a:pt x="596710" y="64324"/>
                </a:cubicBezTo>
                <a:cubicBezTo>
                  <a:pt x="597201" y="62970"/>
                  <a:pt x="597823" y="61697"/>
                  <a:pt x="598589" y="60472"/>
                </a:cubicBezTo>
                <a:cubicBezTo>
                  <a:pt x="599358" y="59248"/>
                  <a:pt x="600207" y="58143"/>
                  <a:pt x="601149" y="57153"/>
                </a:cubicBezTo>
                <a:cubicBezTo>
                  <a:pt x="602080" y="56182"/>
                  <a:pt x="603011" y="55526"/>
                  <a:pt x="603927" y="55227"/>
                </a:cubicBezTo>
                <a:cubicBezTo>
                  <a:pt x="604393" y="55058"/>
                  <a:pt x="605250" y="54853"/>
                  <a:pt x="606501" y="54629"/>
                </a:cubicBezTo>
                <a:cubicBezTo>
                  <a:pt x="607750" y="54402"/>
                  <a:pt x="609092" y="54187"/>
                  <a:pt x="610514" y="53973"/>
                </a:cubicBezTo>
                <a:cubicBezTo>
                  <a:pt x="611936" y="53768"/>
                  <a:pt x="613293" y="53570"/>
                  <a:pt x="614598" y="53405"/>
                </a:cubicBezTo>
                <a:cubicBezTo>
                  <a:pt x="615898" y="53216"/>
                  <a:pt x="616903" y="53077"/>
                  <a:pt x="617607" y="52943"/>
                </a:cubicBezTo>
                <a:cubicBezTo>
                  <a:pt x="615211" y="51186"/>
                  <a:pt x="613341" y="48896"/>
                  <a:pt x="611959" y="46080"/>
                </a:cubicBezTo>
                <a:cubicBezTo>
                  <a:pt x="610585" y="43258"/>
                  <a:pt x="609907" y="40188"/>
                  <a:pt x="609907" y="36869"/>
                </a:cubicBezTo>
                <a:cubicBezTo>
                  <a:pt x="609907" y="34251"/>
                  <a:pt x="610350" y="31773"/>
                  <a:pt x="611232" y="29463"/>
                </a:cubicBezTo>
                <a:cubicBezTo>
                  <a:pt x="612115" y="27154"/>
                  <a:pt x="613315" y="25124"/>
                  <a:pt x="614811" y="23373"/>
                </a:cubicBezTo>
                <a:cubicBezTo>
                  <a:pt x="616315" y="21636"/>
                  <a:pt x="618064" y="20252"/>
                  <a:pt x="620093" y="19242"/>
                </a:cubicBezTo>
                <a:cubicBezTo>
                  <a:pt x="622111" y="18222"/>
                  <a:pt x="624268" y="17709"/>
                  <a:pt x="626564" y="17709"/>
                </a:cubicBezTo>
                <a:close/>
                <a:moveTo>
                  <a:pt x="838696" y="0"/>
                </a:moveTo>
                <a:cubicBezTo>
                  <a:pt x="842140" y="0"/>
                  <a:pt x="845401" y="737"/>
                  <a:pt x="848441" y="2203"/>
                </a:cubicBezTo>
                <a:cubicBezTo>
                  <a:pt x="851493" y="3654"/>
                  <a:pt x="854167" y="5642"/>
                  <a:pt x="856448" y="8139"/>
                </a:cubicBezTo>
                <a:cubicBezTo>
                  <a:pt x="858739" y="10655"/>
                  <a:pt x="860531" y="13572"/>
                  <a:pt x="861842" y="16890"/>
                </a:cubicBezTo>
                <a:cubicBezTo>
                  <a:pt x="863140" y="20208"/>
                  <a:pt x="863805" y="23769"/>
                  <a:pt x="863805" y="27531"/>
                </a:cubicBezTo>
                <a:cubicBezTo>
                  <a:pt x="863805" y="32221"/>
                  <a:pt x="862787" y="36604"/>
                  <a:pt x="860752" y="40701"/>
                </a:cubicBezTo>
                <a:cubicBezTo>
                  <a:pt x="858777" y="44799"/>
                  <a:pt x="855959" y="48117"/>
                  <a:pt x="852353" y="50642"/>
                </a:cubicBezTo>
                <a:cubicBezTo>
                  <a:pt x="853422" y="50829"/>
                  <a:pt x="854916" y="51034"/>
                  <a:pt x="856878" y="51300"/>
                </a:cubicBezTo>
                <a:cubicBezTo>
                  <a:pt x="858824" y="51543"/>
                  <a:pt x="860859" y="51827"/>
                  <a:pt x="862983" y="52121"/>
                </a:cubicBezTo>
                <a:cubicBezTo>
                  <a:pt x="865090" y="52429"/>
                  <a:pt x="867066" y="52737"/>
                  <a:pt x="868905" y="53059"/>
                </a:cubicBezTo>
                <a:cubicBezTo>
                  <a:pt x="870731" y="53386"/>
                  <a:pt x="872063" y="53680"/>
                  <a:pt x="872885" y="53923"/>
                </a:cubicBezTo>
                <a:cubicBezTo>
                  <a:pt x="874247" y="54352"/>
                  <a:pt x="875644" y="55267"/>
                  <a:pt x="877031" y="56625"/>
                </a:cubicBezTo>
                <a:cubicBezTo>
                  <a:pt x="878415" y="58007"/>
                  <a:pt x="879701" y="59593"/>
                  <a:pt x="880867" y="61381"/>
                </a:cubicBezTo>
                <a:cubicBezTo>
                  <a:pt x="882042" y="63182"/>
                  <a:pt x="882987" y="65035"/>
                  <a:pt x="883698" y="66981"/>
                </a:cubicBezTo>
                <a:cubicBezTo>
                  <a:pt x="884434" y="68890"/>
                  <a:pt x="884792" y="70649"/>
                  <a:pt x="884792" y="72250"/>
                </a:cubicBezTo>
                <a:lnTo>
                  <a:pt x="884792" y="97135"/>
                </a:lnTo>
                <a:cubicBezTo>
                  <a:pt x="884396" y="97326"/>
                  <a:pt x="883970" y="97606"/>
                  <a:pt x="883477" y="98036"/>
                </a:cubicBezTo>
                <a:cubicBezTo>
                  <a:pt x="882987" y="98479"/>
                  <a:pt x="882459" y="98885"/>
                  <a:pt x="881897" y="99300"/>
                </a:cubicBezTo>
                <a:cubicBezTo>
                  <a:pt x="881322" y="99702"/>
                  <a:pt x="880782" y="100066"/>
                  <a:pt x="880279" y="100360"/>
                </a:cubicBezTo>
                <a:cubicBezTo>
                  <a:pt x="879764" y="100673"/>
                  <a:pt x="879334" y="100808"/>
                  <a:pt x="878990" y="100808"/>
                </a:cubicBezTo>
                <a:lnTo>
                  <a:pt x="798586" y="100808"/>
                </a:lnTo>
                <a:cubicBezTo>
                  <a:pt x="797215" y="100808"/>
                  <a:pt x="796185" y="100351"/>
                  <a:pt x="795474" y="99422"/>
                </a:cubicBezTo>
                <a:cubicBezTo>
                  <a:pt x="794763" y="98507"/>
                  <a:pt x="793890" y="97742"/>
                  <a:pt x="792839" y="97135"/>
                </a:cubicBezTo>
                <a:lnTo>
                  <a:pt x="792839" y="72250"/>
                </a:lnTo>
                <a:cubicBezTo>
                  <a:pt x="792839" y="70649"/>
                  <a:pt x="793192" y="68890"/>
                  <a:pt x="793916" y="66981"/>
                </a:cubicBezTo>
                <a:cubicBezTo>
                  <a:pt x="794653" y="65035"/>
                  <a:pt x="795585" y="63206"/>
                  <a:pt x="796734" y="61446"/>
                </a:cubicBezTo>
                <a:cubicBezTo>
                  <a:pt x="797888" y="59687"/>
                  <a:pt x="799161" y="58100"/>
                  <a:pt x="800574" y="56676"/>
                </a:cubicBezTo>
                <a:cubicBezTo>
                  <a:pt x="801970" y="55281"/>
                  <a:pt x="803367" y="54338"/>
                  <a:pt x="804742" y="53909"/>
                </a:cubicBezTo>
                <a:cubicBezTo>
                  <a:pt x="805440" y="53666"/>
                  <a:pt x="806726" y="53372"/>
                  <a:pt x="808603" y="53050"/>
                </a:cubicBezTo>
                <a:cubicBezTo>
                  <a:pt x="810476" y="52723"/>
                  <a:pt x="812490" y="52415"/>
                  <a:pt x="814622" y="52107"/>
                </a:cubicBezTo>
                <a:cubicBezTo>
                  <a:pt x="816755" y="51813"/>
                  <a:pt x="818790" y="51529"/>
                  <a:pt x="820748" y="51291"/>
                </a:cubicBezTo>
                <a:cubicBezTo>
                  <a:pt x="822698" y="51020"/>
                  <a:pt x="824205" y="50819"/>
                  <a:pt x="825261" y="50628"/>
                </a:cubicBezTo>
                <a:cubicBezTo>
                  <a:pt x="821668" y="48103"/>
                  <a:pt x="818863" y="44813"/>
                  <a:pt x="816789" y="40767"/>
                </a:cubicBezTo>
                <a:cubicBezTo>
                  <a:pt x="814729" y="36711"/>
                  <a:pt x="813711" y="32300"/>
                  <a:pt x="813711" y="27531"/>
                </a:cubicBezTo>
                <a:cubicBezTo>
                  <a:pt x="813711" y="23769"/>
                  <a:pt x="814376" y="20208"/>
                  <a:pt x="815700" y="16890"/>
                </a:cubicBezTo>
                <a:cubicBezTo>
                  <a:pt x="817023" y="13572"/>
                  <a:pt x="818824" y="10655"/>
                  <a:pt x="821068" y="8139"/>
                </a:cubicBezTo>
                <a:cubicBezTo>
                  <a:pt x="823324" y="5642"/>
                  <a:pt x="825946" y="3654"/>
                  <a:pt x="828990" y="2203"/>
                </a:cubicBezTo>
                <a:cubicBezTo>
                  <a:pt x="832017" y="737"/>
                  <a:pt x="835252" y="0"/>
                  <a:pt x="838696" y="0"/>
                </a:cubicBezTo>
                <a:close/>
              </a:path>
            </a:pathLst>
          </a:custGeom>
          <a:solidFill>
            <a:srgbClr val="1d087d"/>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22" name="文本框 265"/>
          <p:cNvSpPr/>
          <p:nvPr/>
        </p:nvSpPr>
        <p:spPr>
          <a:xfrm>
            <a:off x="3097800" y="504180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623" name="TextBox 13"/>
          <p:cNvSpPr/>
          <p:nvPr/>
        </p:nvSpPr>
        <p:spPr>
          <a:xfrm>
            <a:off x="2470320" y="5410080"/>
            <a:ext cx="1900080" cy="213480"/>
          </a:xfrm>
          <a:prstGeom prst="rect">
            <a:avLst/>
          </a:prstGeom>
          <a:noFill/>
          <a:ln w="0">
            <a:noFill/>
          </a:ln>
        </p:spPr>
        <p:style>
          <a:lnRef idx="0"/>
          <a:fillRef idx="0"/>
          <a:effectRef idx="0"/>
          <a:fontRef idx="minor"/>
        </p:style>
        <p:txBody>
          <a:bodyPr lIns="0" rIns="0" tIns="0" bIns="0" anchor="t">
            <a:spAutoFit/>
          </a:bodyPr>
          <a:p>
            <a:pPr algn="ct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624" name="文本框 267"/>
          <p:cNvSpPr/>
          <p:nvPr/>
        </p:nvSpPr>
        <p:spPr>
          <a:xfrm>
            <a:off x="5936760" y="516240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625" name="TextBox 13"/>
          <p:cNvSpPr/>
          <p:nvPr/>
        </p:nvSpPr>
        <p:spPr>
          <a:xfrm>
            <a:off x="5308560" y="5530680"/>
            <a:ext cx="1900440" cy="213480"/>
          </a:xfrm>
          <a:prstGeom prst="rect">
            <a:avLst/>
          </a:prstGeom>
          <a:noFill/>
          <a:ln w="0">
            <a:noFill/>
          </a:ln>
        </p:spPr>
        <p:style>
          <a:lnRef idx="0"/>
          <a:fillRef idx="0"/>
          <a:effectRef idx="0"/>
          <a:fontRef idx="minor"/>
        </p:style>
        <p:txBody>
          <a:bodyPr lIns="0" rIns="0" tIns="0" bIns="0" anchor="t">
            <a:spAutoFit/>
          </a:bodyPr>
          <a:p>
            <a:pPr algn="ct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626" name="椭圆 269"/>
          <p:cNvSpPr/>
          <p:nvPr/>
        </p:nvSpPr>
        <p:spPr>
          <a:xfrm>
            <a:off x="3156120" y="4138560"/>
            <a:ext cx="649080" cy="64944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微软雅黑"/>
              </a:rPr>
              <a:t>1</a:t>
            </a:r>
            <a:endParaRPr b="0" lang="en-US" sz="3200" spc="-1" strike="noStrike">
              <a:solidFill>
                <a:srgbClr val="000000"/>
              </a:solidFill>
              <a:latin typeface="Arial"/>
            </a:endParaRPr>
          </a:p>
        </p:txBody>
      </p:sp>
      <p:sp>
        <p:nvSpPr>
          <p:cNvPr id="627" name="椭圆 271"/>
          <p:cNvSpPr/>
          <p:nvPr/>
        </p:nvSpPr>
        <p:spPr>
          <a:xfrm>
            <a:off x="5925960" y="4325760"/>
            <a:ext cx="649440" cy="64944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微软雅黑"/>
              </a:rPr>
              <a:t>2</a:t>
            </a:r>
            <a:endParaRPr b="0" lang="en-US" sz="3200" spc="-1" strike="noStrike">
              <a:solidFill>
                <a:srgbClr val="000000"/>
              </a:solidFill>
              <a:latin typeface="Arial"/>
            </a:endParaRPr>
          </a:p>
        </p:txBody>
      </p:sp>
      <p:sp>
        <p:nvSpPr>
          <p:cNvPr id="628" name="椭圆 272"/>
          <p:cNvSpPr/>
          <p:nvPr/>
        </p:nvSpPr>
        <p:spPr>
          <a:xfrm>
            <a:off x="8759880" y="4138560"/>
            <a:ext cx="647640" cy="64944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微软雅黑"/>
              </a:rPr>
              <a:t>3</a:t>
            </a:r>
            <a:endParaRPr b="0" lang="en-US" sz="3200" spc="-1" strike="noStrike">
              <a:solidFill>
                <a:srgbClr val="000000"/>
              </a:solidFill>
              <a:latin typeface="Arial"/>
            </a:endParaRPr>
          </a:p>
        </p:txBody>
      </p:sp>
      <p:sp>
        <p:nvSpPr>
          <p:cNvPr id="629" name="文本框 274"/>
          <p:cNvSpPr/>
          <p:nvPr/>
        </p:nvSpPr>
        <p:spPr>
          <a:xfrm>
            <a:off x="8787960" y="504180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630" name="TextBox 13"/>
          <p:cNvSpPr/>
          <p:nvPr/>
        </p:nvSpPr>
        <p:spPr>
          <a:xfrm>
            <a:off x="8159760" y="5410080"/>
            <a:ext cx="1900080" cy="213480"/>
          </a:xfrm>
          <a:prstGeom prst="rect">
            <a:avLst/>
          </a:prstGeom>
          <a:noFill/>
          <a:ln w="0">
            <a:noFill/>
          </a:ln>
        </p:spPr>
        <p:style>
          <a:lnRef idx="0"/>
          <a:fillRef idx="0"/>
          <a:effectRef idx="0"/>
          <a:fontRef idx="minor"/>
        </p:style>
        <p:txBody>
          <a:bodyPr lIns="0" rIns="0" tIns="0" bIns="0" anchor="t">
            <a:spAutoFit/>
          </a:bodyPr>
          <a:p>
            <a:pPr algn="ct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631" name="文本框 15"/>
          <p:cNvSpPr/>
          <p:nvPr/>
        </p:nvSpPr>
        <p:spPr>
          <a:xfrm>
            <a:off x="711360" y="295200"/>
            <a:ext cx="300960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可能遭遇的问题</a:t>
            </a:r>
            <a:endParaRPr b="0" lang="en-US" sz="2500" spc="-1" strike="noStrike">
              <a:solidFill>
                <a:srgbClr val="000000"/>
              </a:solidFill>
              <a:latin typeface="Arial"/>
            </a:endParaRPr>
          </a:p>
        </p:txBody>
      </p:sp>
      <p:sp>
        <p:nvSpPr>
          <p:cNvPr id="632" name="椭圆 16"/>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9" name="组合 11"/>
          <p:cNvGrpSpPr/>
          <p:nvPr/>
        </p:nvGrpSpPr>
        <p:grpSpPr>
          <a:xfrm>
            <a:off x="-19080" y="0"/>
            <a:ext cx="4686480" cy="6858000"/>
            <a:chOff x="-19080" y="0"/>
            <a:chExt cx="4686480" cy="6858000"/>
          </a:xfrm>
        </p:grpSpPr>
        <p:sp>
          <p:nvSpPr>
            <p:cNvPr id="180" name="任意多边形 80"/>
            <p:cNvSpPr/>
            <p:nvPr/>
          </p:nvSpPr>
          <p:spPr>
            <a:xfrm>
              <a:off x="-19080" y="0"/>
              <a:ext cx="4294800" cy="6858000"/>
            </a:xfrm>
            <a:custGeom>
              <a:avLst/>
              <a:gdLst/>
              <a:ahLst/>
              <a:rect l="l" t="t" r="r" b="b"/>
              <a:pathLst>
                <a:path w="4293537" h="6858001">
                  <a:moveTo>
                    <a:pt x="0" y="0"/>
                  </a:moveTo>
                  <a:lnTo>
                    <a:pt x="146480" y="0"/>
                  </a:lnTo>
                  <a:lnTo>
                    <a:pt x="2075543" y="0"/>
                  </a:lnTo>
                  <a:lnTo>
                    <a:pt x="2075543" y="1"/>
                  </a:lnTo>
                  <a:lnTo>
                    <a:pt x="4293537" y="1"/>
                  </a:lnTo>
                  <a:lnTo>
                    <a:pt x="4247923" y="152255"/>
                  </a:lnTo>
                  <a:cubicBezTo>
                    <a:pt x="4143680" y="457313"/>
                    <a:pt x="4004439" y="768527"/>
                    <a:pt x="3872399" y="1107317"/>
                  </a:cubicBezTo>
                  <a:cubicBezTo>
                    <a:pt x="3526695" y="2017762"/>
                    <a:pt x="3020943" y="2571032"/>
                    <a:pt x="2547200" y="4055757"/>
                  </a:cubicBezTo>
                  <a:cubicBezTo>
                    <a:pt x="2127075" y="5354890"/>
                    <a:pt x="2662735" y="6573595"/>
                    <a:pt x="2803215" y="6857972"/>
                  </a:cubicBezTo>
                  <a:lnTo>
                    <a:pt x="2803230" y="6858001"/>
                  </a:lnTo>
                  <a:lnTo>
                    <a:pt x="2075543" y="6858001"/>
                  </a:lnTo>
                  <a:lnTo>
                    <a:pt x="146480" y="6858001"/>
                  </a:lnTo>
                  <a:lnTo>
                    <a:pt x="0" y="6858001"/>
                  </a:lnTo>
                  <a:lnTo>
                    <a:pt x="0" y="0"/>
                  </a:lnTo>
                  <a:close/>
                </a:path>
              </a:pathLst>
            </a:custGeom>
            <a:solidFill>
              <a:srgbClr val="1d087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任意多边形 44"/>
            <p:cNvSpPr/>
            <p:nvPr/>
          </p:nvSpPr>
          <p:spPr>
            <a:xfrm rot="16200000">
              <a:off x="2207880" y="4490280"/>
              <a:ext cx="2718360" cy="2016360"/>
            </a:xfrm>
            <a:custGeom>
              <a:avLst/>
              <a:gdLst/>
              <a:ahLst/>
              <a:rect l="l" t="t" r="r" b="b"/>
              <a:pathLst>
                <a:path w="2134696" h="1738097">
                  <a:moveTo>
                    <a:pt x="1404997" y="1"/>
                  </a:moveTo>
                  <a:cubicBezTo>
                    <a:pt x="1593045" y="-42"/>
                    <a:pt x="1791012" y="20370"/>
                    <a:pt x="1993461" y="70682"/>
                  </a:cubicBezTo>
                  <a:lnTo>
                    <a:pt x="2129860" y="111734"/>
                  </a:lnTo>
                  <a:lnTo>
                    <a:pt x="2134696" y="462816"/>
                  </a:lnTo>
                  <a:lnTo>
                    <a:pt x="2111841" y="478304"/>
                  </a:lnTo>
                  <a:lnTo>
                    <a:pt x="2047462" y="468928"/>
                  </a:lnTo>
                  <a:cubicBezTo>
                    <a:pt x="1976018" y="460772"/>
                    <a:pt x="1904584" y="454911"/>
                    <a:pt x="1833064" y="451463"/>
                  </a:cubicBezTo>
                  <a:cubicBezTo>
                    <a:pt x="1745039" y="517658"/>
                    <a:pt x="1651513" y="583854"/>
                    <a:pt x="1557987" y="650049"/>
                  </a:cubicBezTo>
                  <a:cubicBezTo>
                    <a:pt x="1209328" y="901039"/>
                    <a:pt x="363103" y="1487057"/>
                    <a:pt x="58026" y="1697989"/>
                  </a:cubicBezTo>
                  <a:lnTo>
                    <a:pt x="0" y="1738097"/>
                  </a:lnTo>
                  <a:lnTo>
                    <a:pt x="0" y="362543"/>
                  </a:lnTo>
                  <a:lnTo>
                    <a:pt x="4519" y="360003"/>
                  </a:lnTo>
                  <a:cubicBezTo>
                    <a:pt x="159326" y="275337"/>
                    <a:pt x="715486" y="160"/>
                    <a:pt x="1404997" y="1"/>
                  </a:cubicBezTo>
                  <a:close/>
                </a:path>
              </a:pathLst>
            </a:custGeom>
            <a:solidFill>
              <a:srgbClr val="5b9bd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任意多边形 46"/>
            <p:cNvSpPr/>
            <p:nvPr/>
          </p:nvSpPr>
          <p:spPr>
            <a:xfrm rot="16200000">
              <a:off x="843840" y="3034440"/>
              <a:ext cx="5842080" cy="1805040"/>
            </a:xfrm>
            <a:custGeom>
              <a:avLst/>
              <a:gdLst/>
              <a:ahLst/>
              <a:rect l="l" t="t" r="r" b="b"/>
              <a:pathLst>
                <a:path w="4587618" h="1555835">
                  <a:moveTo>
                    <a:pt x="1825852" y="0"/>
                  </a:moveTo>
                  <a:cubicBezTo>
                    <a:pt x="2398011" y="27582"/>
                    <a:pt x="2964668" y="209619"/>
                    <a:pt x="3575337" y="485432"/>
                  </a:cubicBezTo>
                  <a:cubicBezTo>
                    <a:pt x="4064973" y="700566"/>
                    <a:pt x="4362056" y="821924"/>
                    <a:pt x="4587618" y="910184"/>
                  </a:cubicBezTo>
                  <a:cubicBezTo>
                    <a:pt x="4169502" y="755729"/>
                    <a:pt x="3377282" y="490948"/>
                    <a:pt x="2898649" y="474399"/>
                  </a:cubicBezTo>
                  <a:cubicBezTo>
                    <a:pt x="2233309" y="453713"/>
                    <a:pt x="1142459" y="675441"/>
                    <a:pt x="138343" y="1444116"/>
                  </a:cubicBezTo>
                  <a:lnTo>
                    <a:pt x="0" y="1555835"/>
                  </a:lnTo>
                  <a:lnTo>
                    <a:pt x="0" y="1281649"/>
                  </a:lnTo>
                  <a:lnTo>
                    <a:pt x="50814" y="1246526"/>
                  </a:lnTo>
                  <a:cubicBezTo>
                    <a:pt x="355891" y="1035594"/>
                    <a:pt x="1202116" y="449576"/>
                    <a:pt x="1550775" y="198586"/>
                  </a:cubicBezTo>
                  <a:cubicBezTo>
                    <a:pt x="1644301" y="132391"/>
                    <a:pt x="1737827" y="66195"/>
                    <a:pt x="1825852" y="0"/>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10"/>
            <p:cNvSpPr/>
            <p:nvPr/>
          </p:nvSpPr>
          <p:spPr>
            <a:xfrm rot="16200000">
              <a:off x="1336680" y="1808640"/>
              <a:ext cx="3928320" cy="1518120"/>
            </a:xfrm>
            <a:custGeom>
              <a:avLst/>
              <a:gdLst/>
              <a:ahLst/>
              <a:rect l="l" t="t" r="r" b="b"/>
              <a:pathLst>
                <a:path w="561" h="237">
                  <a:moveTo>
                    <a:pt x="551" y="233"/>
                  </a:moveTo>
                  <a:cubicBezTo>
                    <a:pt x="551" y="233"/>
                    <a:pt x="551" y="233"/>
                    <a:pt x="550" y="232"/>
                  </a:cubicBezTo>
                  <a:cubicBezTo>
                    <a:pt x="530" y="223"/>
                    <a:pt x="510" y="214"/>
                    <a:pt x="489" y="205"/>
                  </a:cubicBezTo>
                  <a:cubicBezTo>
                    <a:pt x="360" y="151"/>
                    <a:pt x="281" y="74"/>
                    <a:pt x="73" y="0"/>
                  </a:cubicBezTo>
                  <a:cubicBezTo>
                    <a:pt x="49" y="13"/>
                    <a:pt x="25" y="31"/>
                    <a:pt x="0" y="50"/>
                  </a:cubicBezTo>
                  <a:cubicBezTo>
                    <a:pt x="104" y="55"/>
                    <a:pt x="207" y="88"/>
                    <a:pt x="318" y="138"/>
                  </a:cubicBezTo>
                  <a:cubicBezTo>
                    <a:pt x="407" y="177"/>
                    <a:pt x="461" y="199"/>
                    <a:pt x="502" y="215"/>
                  </a:cubicBezTo>
                  <a:cubicBezTo>
                    <a:pt x="540" y="229"/>
                    <a:pt x="561" y="237"/>
                    <a:pt x="551" y="233"/>
                  </a:cubicBez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28"/>
            <p:cNvSpPr/>
            <p:nvPr/>
          </p:nvSpPr>
          <p:spPr>
            <a:xfrm rot="16200000">
              <a:off x="1533960" y="1527480"/>
              <a:ext cx="3340440" cy="1644840"/>
            </a:xfrm>
            <a:custGeom>
              <a:avLst/>
              <a:gdLst/>
              <a:ahLst/>
              <a:rect l="l" t="t" r="r" b="b"/>
              <a:pathLst>
                <a:path w="477" h="257">
                  <a:moveTo>
                    <a:pt x="477" y="257"/>
                  </a:moveTo>
                  <a:cubicBezTo>
                    <a:pt x="448" y="244"/>
                    <a:pt x="383" y="197"/>
                    <a:pt x="299" y="125"/>
                  </a:cubicBezTo>
                  <a:cubicBezTo>
                    <a:pt x="214" y="51"/>
                    <a:pt x="167" y="7"/>
                    <a:pt x="91" y="2"/>
                  </a:cubicBezTo>
                  <a:cubicBezTo>
                    <a:pt x="59" y="0"/>
                    <a:pt x="29" y="9"/>
                    <a:pt x="0" y="25"/>
                  </a:cubicBezTo>
                  <a:cubicBezTo>
                    <a:pt x="208" y="99"/>
                    <a:pt x="287" y="176"/>
                    <a:pt x="416" y="230"/>
                  </a:cubicBezTo>
                  <a:cubicBezTo>
                    <a:pt x="437" y="239"/>
                    <a:pt x="457" y="248"/>
                    <a:pt x="477" y="257"/>
                  </a:cubicBez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任意多边形 48"/>
            <p:cNvSpPr/>
            <p:nvPr/>
          </p:nvSpPr>
          <p:spPr>
            <a:xfrm rot="16200000">
              <a:off x="1441800" y="4949640"/>
              <a:ext cx="2837520" cy="979200"/>
            </a:xfrm>
            <a:custGeom>
              <a:avLst/>
              <a:gdLst/>
              <a:ahLst/>
              <a:rect l="l" t="t" r="r" b="b"/>
              <a:pathLst>
                <a:path w="2228194" h="844195">
                  <a:moveTo>
                    <a:pt x="1334038" y="279"/>
                  </a:moveTo>
                  <a:cubicBezTo>
                    <a:pt x="1606678" y="-3600"/>
                    <a:pt x="1900672" y="32603"/>
                    <a:pt x="2199959" y="136037"/>
                  </a:cubicBezTo>
                  <a:cubicBezTo>
                    <a:pt x="2205606" y="136037"/>
                    <a:pt x="2216900" y="141554"/>
                    <a:pt x="2228194" y="147070"/>
                  </a:cubicBezTo>
                  <a:cubicBezTo>
                    <a:pt x="2092668" y="218785"/>
                    <a:pt x="1957141" y="318083"/>
                    <a:pt x="1815968" y="422897"/>
                  </a:cubicBezTo>
                  <a:cubicBezTo>
                    <a:pt x="1623972" y="411864"/>
                    <a:pt x="1437623" y="417380"/>
                    <a:pt x="1245628" y="444963"/>
                  </a:cubicBezTo>
                  <a:cubicBezTo>
                    <a:pt x="698228" y="513230"/>
                    <a:pt x="257591" y="709261"/>
                    <a:pt x="35650" y="825113"/>
                  </a:cubicBezTo>
                  <a:lnTo>
                    <a:pt x="0" y="844195"/>
                  </a:lnTo>
                  <a:lnTo>
                    <a:pt x="0" y="326384"/>
                  </a:lnTo>
                  <a:lnTo>
                    <a:pt x="917" y="325917"/>
                  </a:lnTo>
                  <a:cubicBezTo>
                    <a:pt x="215250" y="220644"/>
                    <a:pt x="720595" y="9006"/>
                    <a:pt x="1334038" y="279"/>
                  </a:cubicBezTo>
                  <a:close/>
                </a:path>
              </a:pathLst>
            </a:custGeom>
            <a:solidFill>
              <a:srgbClr val="133c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6" name="文本框 68"/>
          <p:cNvSpPr/>
          <p:nvPr/>
        </p:nvSpPr>
        <p:spPr>
          <a:xfrm>
            <a:off x="111240" y="382680"/>
            <a:ext cx="31147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Arial"/>
                <a:ea typeface="微软雅黑"/>
              </a:rPr>
              <a:t>C</a:t>
            </a:r>
            <a:r>
              <a:rPr b="0" lang="en-US" sz="2800" spc="-1" strike="noStrike">
                <a:solidFill>
                  <a:srgbClr val="ffffff"/>
                </a:solidFill>
                <a:latin typeface="Arial"/>
                <a:ea typeface="微软雅黑"/>
              </a:rPr>
              <a:t>ONTENT</a:t>
            </a:r>
            <a:endParaRPr b="0" lang="en-US" sz="2800" spc="-1" strike="noStrike">
              <a:solidFill>
                <a:srgbClr val="000000"/>
              </a:solidFill>
              <a:latin typeface="Arial"/>
            </a:endParaRPr>
          </a:p>
        </p:txBody>
      </p:sp>
      <p:sp>
        <p:nvSpPr>
          <p:cNvPr id="187" name="文本框 61"/>
          <p:cNvSpPr/>
          <p:nvPr/>
        </p:nvSpPr>
        <p:spPr>
          <a:xfrm>
            <a:off x="1359000" y="573120"/>
            <a:ext cx="14698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微软雅黑"/>
              </a:rPr>
              <a:t>目录</a:t>
            </a:r>
            <a:endParaRPr b="0" lang="en-US" sz="4400" spc="-1" strike="noStrike">
              <a:solidFill>
                <a:srgbClr val="000000"/>
              </a:solidFill>
              <a:latin typeface="Arial"/>
            </a:endParaRPr>
          </a:p>
        </p:txBody>
      </p:sp>
      <p:grpSp>
        <p:nvGrpSpPr>
          <p:cNvPr id="188" name="组合 7"/>
          <p:cNvGrpSpPr/>
          <p:nvPr/>
        </p:nvGrpSpPr>
        <p:grpSpPr>
          <a:xfrm>
            <a:off x="4923000" y="1220760"/>
            <a:ext cx="5417640" cy="833040"/>
            <a:chOff x="4923000" y="1220760"/>
            <a:chExt cx="5417640" cy="833040"/>
          </a:xfrm>
        </p:grpSpPr>
        <p:sp>
          <p:nvSpPr>
            <p:cNvPr id="189" name="文本框 10"/>
            <p:cNvSpPr/>
            <p:nvPr/>
          </p:nvSpPr>
          <p:spPr>
            <a:xfrm>
              <a:off x="5321520" y="1220760"/>
              <a:ext cx="325476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公司团队介绍</a:t>
              </a:r>
              <a:endParaRPr b="0" lang="en-US" sz="2500" spc="-1" strike="noStrike">
                <a:solidFill>
                  <a:srgbClr val="000000"/>
                </a:solidFill>
                <a:latin typeface="Arial"/>
              </a:endParaRPr>
            </a:p>
          </p:txBody>
        </p:sp>
        <p:sp>
          <p:nvSpPr>
            <p:cNvPr id="190" name="文本框 28"/>
            <p:cNvSpPr/>
            <p:nvPr/>
          </p:nvSpPr>
          <p:spPr>
            <a:xfrm>
              <a:off x="5156280" y="174672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公司简介</a:t>
              </a:r>
              <a:endParaRPr b="0" lang="en-US" sz="1400" spc="-1" strike="noStrike">
                <a:solidFill>
                  <a:srgbClr val="000000"/>
                </a:solidFill>
                <a:latin typeface="Arial"/>
              </a:endParaRPr>
            </a:p>
          </p:txBody>
        </p:sp>
        <p:sp>
          <p:nvSpPr>
            <p:cNvPr id="191" name="文本框 29"/>
            <p:cNvSpPr/>
            <p:nvPr/>
          </p:nvSpPr>
          <p:spPr>
            <a:xfrm>
              <a:off x="6567480" y="174672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核心团队</a:t>
              </a:r>
              <a:endParaRPr b="0" lang="en-US" sz="1400" spc="-1" strike="noStrike">
                <a:solidFill>
                  <a:srgbClr val="000000"/>
                </a:solidFill>
                <a:latin typeface="Arial"/>
              </a:endParaRPr>
            </a:p>
          </p:txBody>
        </p:sp>
        <p:sp>
          <p:nvSpPr>
            <p:cNvPr id="192" name="文本框 31"/>
            <p:cNvSpPr/>
            <p:nvPr/>
          </p:nvSpPr>
          <p:spPr>
            <a:xfrm>
              <a:off x="7979040" y="174672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组织机构</a:t>
              </a:r>
              <a:endParaRPr b="0" lang="en-US" sz="1400" spc="-1" strike="noStrike">
                <a:solidFill>
                  <a:srgbClr val="000000"/>
                </a:solidFill>
                <a:latin typeface="Arial"/>
              </a:endParaRPr>
            </a:p>
          </p:txBody>
        </p:sp>
        <p:sp>
          <p:nvSpPr>
            <p:cNvPr id="193" name="文本框 32"/>
            <p:cNvSpPr/>
            <p:nvPr/>
          </p:nvSpPr>
          <p:spPr>
            <a:xfrm>
              <a:off x="9390240" y="174672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企业荣誉</a:t>
              </a:r>
              <a:endParaRPr b="0" lang="en-US" sz="1400" spc="-1" strike="noStrike">
                <a:solidFill>
                  <a:srgbClr val="000000"/>
                </a:solidFill>
                <a:latin typeface="Arial"/>
              </a:endParaRPr>
            </a:p>
          </p:txBody>
        </p:sp>
        <p:sp>
          <p:nvSpPr>
            <p:cNvPr id="194" name="椭圆 4"/>
            <p:cNvSpPr/>
            <p:nvPr/>
          </p:nvSpPr>
          <p:spPr>
            <a:xfrm>
              <a:off x="4923000" y="1235160"/>
              <a:ext cx="408240" cy="40824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微软雅黑"/>
                </a:rPr>
                <a:t>1</a:t>
              </a:r>
              <a:endParaRPr b="0" lang="en-US" sz="2400" spc="-1" strike="noStrike">
                <a:solidFill>
                  <a:srgbClr val="000000"/>
                </a:solidFill>
                <a:latin typeface="Arial"/>
              </a:endParaRPr>
            </a:p>
          </p:txBody>
        </p:sp>
      </p:grpSp>
      <p:grpSp>
        <p:nvGrpSpPr>
          <p:cNvPr id="195" name="组合 6"/>
          <p:cNvGrpSpPr/>
          <p:nvPr/>
        </p:nvGrpSpPr>
        <p:grpSpPr>
          <a:xfrm>
            <a:off x="4923000" y="2430360"/>
            <a:ext cx="5560920" cy="802800"/>
            <a:chOff x="4923000" y="2430360"/>
            <a:chExt cx="5560920" cy="802800"/>
          </a:xfrm>
        </p:grpSpPr>
        <p:sp>
          <p:nvSpPr>
            <p:cNvPr id="196" name="文本框 30"/>
            <p:cNvSpPr/>
            <p:nvPr/>
          </p:nvSpPr>
          <p:spPr>
            <a:xfrm>
              <a:off x="5321520" y="2430360"/>
              <a:ext cx="325476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项目简介</a:t>
              </a:r>
              <a:endParaRPr b="0" lang="en-US" sz="2500" spc="-1" strike="noStrike">
                <a:solidFill>
                  <a:srgbClr val="000000"/>
                </a:solidFill>
                <a:latin typeface="Arial"/>
              </a:endParaRPr>
            </a:p>
          </p:txBody>
        </p:sp>
        <p:sp>
          <p:nvSpPr>
            <p:cNvPr id="197" name="文本框 33"/>
            <p:cNvSpPr/>
            <p:nvPr/>
          </p:nvSpPr>
          <p:spPr>
            <a:xfrm>
              <a:off x="5156280" y="292608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行业前景</a:t>
              </a:r>
              <a:endParaRPr b="0" lang="en-US" sz="1400" spc="-1" strike="noStrike">
                <a:solidFill>
                  <a:srgbClr val="000000"/>
                </a:solidFill>
                <a:latin typeface="Arial"/>
              </a:endParaRPr>
            </a:p>
          </p:txBody>
        </p:sp>
        <p:sp>
          <p:nvSpPr>
            <p:cNvPr id="198" name="文本框 34"/>
            <p:cNvSpPr/>
            <p:nvPr/>
          </p:nvSpPr>
          <p:spPr>
            <a:xfrm>
              <a:off x="6567480" y="292608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需求分析</a:t>
              </a:r>
              <a:endParaRPr b="0" lang="en-US" sz="1400" spc="-1" strike="noStrike">
                <a:solidFill>
                  <a:srgbClr val="000000"/>
                </a:solidFill>
                <a:latin typeface="Arial"/>
              </a:endParaRPr>
            </a:p>
          </p:txBody>
        </p:sp>
        <p:sp>
          <p:nvSpPr>
            <p:cNvPr id="199" name="文本框 35"/>
            <p:cNvSpPr/>
            <p:nvPr/>
          </p:nvSpPr>
          <p:spPr>
            <a:xfrm>
              <a:off x="7979040" y="292608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竞争对手</a:t>
              </a:r>
              <a:endParaRPr b="0" lang="en-US" sz="1400" spc="-1" strike="noStrike">
                <a:solidFill>
                  <a:srgbClr val="000000"/>
                </a:solidFill>
                <a:latin typeface="Arial"/>
              </a:endParaRPr>
            </a:p>
          </p:txBody>
        </p:sp>
        <p:sp>
          <p:nvSpPr>
            <p:cNvPr id="200" name="文本框 37"/>
            <p:cNvSpPr/>
            <p:nvPr/>
          </p:nvSpPr>
          <p:spPr>
            <a:xfrm>
              <a:off x="9426600" y="2926080"/>
              <a:ext cx="10573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我们的优势</a:t>
              </a:r>
              <a:endParaRPr b="0" lang="en-US" sz="1400" spc="-1" strike="noStrike">
                <a:solidFill>
                  <a:srgbClr val="000000"/>
                </a:solidFill>
                <a:latin typeface="Arial"/>
              </a:endParaRPr>
            </a:p>
          </p:txBody>
        </p:sp>
        <p:sp>
          <p:nvSpPr>
            <p:cNvPr id="201" name="椭圆 69"/>
            <p:cNvSpPr/>
            <p:nvPr/>
          </p:nvSpPr>
          <p:spPr>
            <a:xfrm>
              <a:off x="4923000" y="2433600"/>
              <a:ext cx="408240" cy="40860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微软雅黑"/>
                </a:rPr>
                <a:t>2</a:t>
              </a:r>
              <a:endParaRPr b="0" lang="en-US" sz="2400" spc="-1" strike="noStrike">
                <a:solidFill>
                  <a:srgbClr val="000000"/>
                </a:solidFill>
                <a:latin typeface="Arial"/>
              </a:endParaRPr>
            </a:p>
          </p:txBody>
        </p:sp>
      </p:grpSp>
      <p:grpSp>
        <p:nvGrpSpPr>
          <p:cNvPr id="202" name="组合 5"/>
          <p:cNvGrpSpPr/>
          <p:nvPr/>
        </p:nvGrpSpPr>
        <p:grpSpPr>
          <a:xfrm>
            <a:off x="4923000" y="3610080"/>
            <a:ext cx="6405480" cy="832320"/>
            <a:chOff x="4923000" y="3610080"/>
            <a:chExt cx="6405480" cy="832320"/>
          </a:xfrm>
        </p:grpSpPr>
        <p:sp>
          <p:nvSpPr>
            <p:cNvPr id="203" name="文本框 36"/>
            <p:cNvSpPr/>
            <p:nvPr/>
          </p:nvSpPr>
          <p:spPr>
            <a:xfrm>
              <a:off x="5321520" y="3610080"/>
              <a:ext cx="325476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产品和运营</a:t>
              </a:r>
              <a:endParaRPr b="0" lang="en-US" sz="2500" spc="-1" strike="noStrike">
                <a:solidFill>
                  <a:srgbClr val="000000"/>
                </a:solidFill>
                <a:latin typeface="Arial"/>
              </a:endParaRPr>
            </a:p>
          </p:txBody>
        </p:sp>
        <p:sp>
          <p:nvSpPr>
            <p:cNvPr id="204" name="文本框 38"/>
            <p:cNvSpPr/>
            <p:nvPr/>
          </p:nvSpPr>
          <p:spPr>
            <a:xfrm>
              <a:off x="5143680" y="413532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产品介绍</a:t>
              </a:r>
              <a:endParaRPr b="0" lang="en-US" sz="1400" spc="-1" strike="noStrike">
                <a:solidFill>
                  <a:srgbClr val="000000"/>
                </a:solidFill>
                <a:latin typeface="Arial"/>
              </a:endParaRPr>
            </a:p>
          </p:txBody>
        </p:sp>
        <p:sp>
          <p:nvSpPr>
            <p:cNvPr id="205" name="文本框 39"/>
            <p:cNvSpPr/>
            <p:nvPr/>
          </p:nvSpPr>
          <p:spPr>
            <a:xfrm>
              <a:off x="6745680" y="4135320"/>
              <a:ext cx="12704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产品核心竞争力</a:t>
              </a:r>
              <a:endParaRPr b="0" lang="en-US" sz="1400" spc="-1" strike="noStrike">
                <a:solidFill>
                  <a:srgbClr val="000000"/>
                </a:solidFill>
                <a:latin typeface="Arial"/>
              </a:endParaRPr>
            </a:p>
          </p:txBody>
        </p:sp>
        <p:sp>
          <p:nvSpPr>
            <p:cNvPr id="206" name="文本框 40"/>
            <p:cNvSpPr/>
            <p:nvPr/>
          </p:nvSpPr>
          <p:spPr>
            <a:xfrm>
              <a:off x="8496360" y="4135320"/>
              <a:ext cx="11638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销售渠道铺设</a:t>
              </a:r>
              <a:endParaRPr b="0" lang="en-US" sz="1400" spc="-1" strike="noStrike">
                <a:solidFill>
                  <a:srgbClr val="000000"/>
                </a:solidFill>
                <a:latin typeface="Arial"/>
              </a:endParaRPr>
            </a:p>
          </p:txBody>
        </p:sp>
        <p:sp>
          <p:nvSpPr>
            <p:cNvPr id="207" name="文本框 41"/>
            <p:cNvSpPr/>
            <p:nvPr/>
          </p:nvSpPr>
          <p:spPr>
            <a:xfrm>
              <a:off x="10164600" y="4135320"/>
              <a:ext cx="11638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营销推广计划</a:t>
              </a:r>
              <a:endParaRPr b="0" lang="en-US" sz="1400" spc="-1" strike="noStrike">
                <a:solidFill>
                  <a:srgbClr val="000000"/>
                </a:solidFill>
                <a:latin typeface="Arial"/>
              </a:endParaRPr>
            </a:p>
          </p:txBody>
        </p:sp>
        <p:sp>
          <p:nvSpPr>
            <p:cNvPr id="208" name="椭圆 70"/>
            <p:cNvSpPr/>
            <p:nvPr/>
          </p:nvSpPr>
          <p:spPr>
            <a:xfrm>
              <a:off x="4923000" y="3638880"/>
              <a:ext cx="408240" cy="40896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微软雅黑"/>
                </a:rPr>
                <a:t>3</a:t>
              </a:r>
              <a:endParaRPr b="0" lang="en-US" sz="2400" spc="-1" strike="noStrike">
                <a:solidFill>
                  <a:srgbClr val="000000"/>
                </a:solidFill>
                <a:latin typeface="Arial"/>
              </a:endParaRPr>
            </a:p>
          </p:txBody>
        </p:sp>
      </p:grpSp>
      <p:grpSp>
        <p:nvGrpSpPr>
          <p:cNvPr id="209" name="组合 8"/>
          <p:cNvGrpSpPr/>
          <p:nvPr/>
        </p:nvGrpSpPr>
        <p:grpSpPr>
          <a:xfrm>
            <a:off x="4923000" y="4819680"/>
            <a:ext cx="6566040" cy="807120"/>
            <a:chOff x="4923000" y="4819680"/>
            <a:chExt cx="6566040" cy="807120"/>
          </a:xfrm>
        </p:grpSpPr>
        <p:sp>
          <p:nvSpPr>
            <p:cNvPr id="210" name="文本框 42"/>
            <p:cNvSpPr/>
            <p:nvPr/>
          </p:nvSpPr>
          <p:spPr>
            <a:xfrm>
              <a:off x="5321520" y="4819680"/>
              <a:ext cx="325512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风险与管理</a:t>
              </a:r>
              <a:endParaRPr b="0" lang="en-US" sz="2500" spc="-1" strike="noStrike">
                <a:solidFill>
                  <a:srgbClr val="000000"/>
                </a:solidFill>
                <a:latin typeface="Arial"/>
              </a:endParaRPr>
            </a:p>
          </p:txBody>
        </p:sp>
        <p:sp>
          <p:nvSpPr>
            <p:cNvPr id="211" name="文本框 47"/>
            <p:cNvSpPr/>
            <p:nvPr/>
          </p:nvSpPr>
          <p:spPr>
            <a:xfrm>
              <a:off x="5276160" y="5319720"/>
              <a:ext cx="12704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可能遭遇的问题</a:t>
              </a:r>
              <a:endParaRPr b="0" lang="en-US" sz="1400" spc="-1" strike="noStrike">
                <a:solidFill>
                  <a:srgbClr val="000000"/>
                </a:solidFill>
                <a:latin typeface="Arial"/>
              </a:endParaRPr>
            </a:p>
          </p:txBody>
        </p:sp>
        <p:sp>
          <p:nvSpPr>
            <p:cNvPr id="212" name="文本框 49"/>
            <p:cNvSpPr/>
            <p:nvPr/>
          </p:nvSpPr>
          <p:spPr>
            <a:xfrm>
              <a:off x="7064640" y="531972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解决方法</a:t>
              </a:r>
              <a:endParaRPr b="0" lang="en-US" sz="1400" spc="-1" strike="noStrike">
                <a:solidFill>
                  <a:srgbClr val="000000"/>
                </a:solidFill>
                <a:latin typeface="Arial"/>
              </a:endParaRPr>
            </a:p>
          </p:txBody>
        </p:sp>
        <p:sp>
          <p:nvSpPr>
            <p:cNvPr id="213" name="文本框 50"/>
            <p:cNvSpPr/>
            <p:nvPr/>
          </p:nvSpPr>
          <p:spPr>
            <a:xfrm>
              <a:off x="8424000" y="531972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财务计划</a:t>
              </a:r>
              <a:endParaRPr b="0" lang="en-US" sz="1400" spc="-1" strike="noStrike">
                <a:solidFill>
                  <a:srgbClr val="000000"/>
                </a:solidFill>
                <a:latin typeface="Arial"/>
              </a:endParaRPr>
            </a:p>
          </p:txBody>
        </p:sp>
        <p:sp>
          <p:nvSpPr>
            <p:cNvPr id="214" name="文本框 51"/>
            <p:cNvSpPr/>
            <p:nvPr/>
          </p:nvSpPr>
          <p:spPr>
            <a:xfrm>
              <a:off x="10005120" y="5319720"/>
              <a:ext cx="14839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资金使用计划与进度</a:t>
              </a:r>
              <a:endParaRPr b="0" lang="en-US" sz="1400" spc="-1" strike="noStrike">
                <a:solidFill>
                  <a:srgbClr val="000000"/>
                </a:solidFill>
                <a:latin typeface="Arial"/>
              </a:endParaRPr>
            </a:p>
          </p:txBody>
        </p:sp>
        <p:sp>
          <p:nvSpPr>
            <p:cNvPr id="215" name="椭圆 71"/>
            <p:cNvSpPr/>
            <p:nvPr/>
          </p:nvSpPr>
          <p:spPr>
            <a:xfrm>
              <a:off x="4923000" y="4853880"/>
              <a:ext cx="408240" cy="40860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微软雅黑"/>
                </a:rPr>
                <a:t>4</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AutoShape 5"/>
          <p:cNvSpPr/>
          <p:nvPr/>
        </p:nvSpPr>
        <p:spPr>
          <a:xfrm>
            <a:off x="4457880" y="1839960"/>
            <a:ext cx="5702040" cy="1550880"/>
          </a:xfrm>
          <a:custGeom>
            <a:avLst/>
            <a:gdLst/>
            <a:ahLst/>
            <a:rect l="l" t="t" r="r" b="b"/>
            <a:pathLst>
              <a:path w="21600" h="12431">
                <a:moveTo>
                  <a:pt x="0" y="3942"/>
                </a:moveTo>
                <a:cubicBezTo>
                  <a:pt x="0" y="3942"/>
                  <a:pt x="10490" y="-9169"/>
                  <a:pt x="21599" y="12430"/>
                </a:cubicBezTo>
              </a:path>
            </a:pathLst>
          </a:custGeom>
          <a:noFill/>
          <a:ln w="38160">
            <a:solidFill>
              <a:srgbClr val="f44168"/>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4" name="AutoShape 6"/>
          <p:cNvSpPr/>
          <p:nvPr/>
        </p:nvSpPr>
        <p:spPr>
          <a:xfrm>
            <a:off x="4464000" y="2536920"/>
            <a:ext cx="4938840" cy="1022400"/>
          </a:xfrm>
          <a:custGeom>
            <a:avLst/>
            <a:gdLst/>
            <a:ahLst/>
            <a:rect l="l" t="t" r="r" b="b"/>
            <a:pathLst>
              <a:path w="21600" h="10857">
                <a:moveTo>
                  <a:pt x="0" y="6557"/>
                </a:moveTo>
                <a:cubicBezTo>
                  <a:pt x="0" y="6557"/>
                  <a:pt x="9674" y="-10743"/>
                  <a:pt x="21599" y="10857"/>
                </a:cubicBezTo>
              </a:path>
            </a:pathLst>
          </a:custGeom>
          <a:noFill/>
          <a:ln w="38160">
            <a:solidFill>
              <a:srgbClr val="1d087d"/>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5" name="AutoShape 7"/>
          <p:cNvSpPr/>
          <p:nvPr/>
        </p:nvSpPr>
        <p:spPr>
          <a:xfrm>
            <a:off x="4470480" y="3336840"/>
            <a:ext cx="4462560" cy="746280"/>
          </a:xfrm>
          <a:custGeom>
            <a:avLst/>
            <a:gdLst/>
            <a:ahLst/>
            <a:rect l="l" t="t" r="r" b="b"/>
            <a:pathLst>
              <a:path w="21600" h="9757">
                <a:moveTo>
                  <a:pt x="0" y="9160"/>
                </a:moveTo>
                <a:cubicBezTo>
                  <a:pt x="0" y="9160"/>
                  <a:pt x="9109" y="-11843"/>
                  <a:pt x="21599" y="9756"/>
                </a:cubicBezTo>
              </a:path>
            </a:pathLst>
          </a:custGeom>
          <a:noFill/>
          <a:ln w="38160">
            <a:solidFill>
              <a:srgbClr val="f44168"/>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6" name="AutoShape 8"/>
          <p:cNvSpPr/>
          <p:nvPr/>
        </p:nvSpPr>
        <p:spPr>
          <a:xfrm>
            <a:off x="4438800" y="4124160"/>
            <a:ext cx="4217760" cy="729000"/>
          </a:xfrm>
          <a:custGeom>
            <a:avLst/>
            <a:gdLst/>
            <a:ahLst/>
            <a:rect l="l" t="t" r="r" b="b"/>
            <a:pathLst>
              <a:path w="21600" h="9986">
                <a:moveTo>
                  <a:pt x="0" y="9986"/>
                </a:moveTo>
                <a:cubicBezTo>
                  <a:pt x="0" y="9986"/>
                  <a:pt x="8856" y="-11614"/>
                  <a:pt x="21599" y="8721"/>
                </a:cubicBezTo>
              </a:path>
            </a:pathLst>
          </a:custGeom>
          <a:noFill/>
          <a:ln w="38160">
            <a:solidFill>
              <a:srgbClr val="1d087d"/>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7" name="AutoShape 9"/>
          <p:cNvSpPr/>
          <p:nvPr/>
        </p:nvSpPr>
        <p:spPr>
          <a:xfrm>
            <a:off x="4422600" y="4867200"/>
            <a:ext cx="4238640" cy="698400"/>
          </a:xfrm>
          <a:custGeom>
            <a:avLst/>
            <a:gdLst/>
            <a:ahLst/>
            <a:rect l="l" t="t" r="r" b="b"/>
            <a:pathLst>
              <a:path w="21600" h="9706">
                <a:moveTo>
                  <a:pt x="0" y="9705"/>
                </a:moveTo>
                <a:cubicBezTo>
                  <a:pt x="0" y="9705"/>
                  <a:pt x="8981" y="-11894"/>
                  <a:pt x="21600" y="9351"/>
                </a:cubicBezTo>
              </a:path>
            </a:pathLst>
          </a:custGeom>
          <a:noFill/>
          <a:ln w="38160">
            <a:solidFill>
              <a:srgbClr val="f44168"/>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8" name="AutoShape 10"/>
          <p:cNvSpPr/>
          <p:nvPr/>
        </p:nvSpPr>
        <p:spPr>
          <a:xfrm>
            <a:off x="4440240" y="2246400"/>
            <a:ext cx="135000" cy="136440"/>
          </a:xfrm>
          <a:custGeom>
            <a:avLst/>
            <a:gdLst/>
            <a:ahLst/>
            <a:rect l="l" t="t" r="r" b="b"/>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44168"/>
          </a:solidFill>
          <a:ln w="12600">
            <a:solidFill>
              <a:srgbClr val="f44168"/>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9" name="AutoShape 11"/>
          <p:cNvSpPr/>
          <p:nvPr/>
        </p:nvSpPr>
        <p:spPr>
          <a:xfrm>
            <a:off x="10074240" y="3324240"/>
            <a:ext cx="135000" cy="135000"/>
          </a:xfrm>
          <a:custGeom>
            <a:avLst/>
            <a:gdLst/>
            <a:ahLst/>
            <a:rect l="l" t="t" r="r" b="b"/>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44168"/>
          </a:solidFill>
          <a:ln w="12600">
            <a:solidFill>
              <a:srgbClr val="f44168"/>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0" name="AutoShape 12"/>
          <p:cNvSpPr/>
          <p:nvPr/>
        </p:nvSpPr>
        <p:spPr>
          <a:xfrm>
            <a:off x="9342360" y="3506760"/>
            <a:ext cx="135000" cy="135000"/>
          </a:xfrm>
          <a:custGeom>
            <a:avLst/>
            <a:gdLst/>
            <a:ahLst/>
            <a:rect l="l" t="t" r="r" b="b"/>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1d087d"/>
          </a:solidFill>
          <a:ln w="12600">
            <a:solidFill>
              <a:srgbClr val="1d087d"/>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1" name="AutoShape 13"/>
          <p:cNvSpPr/>
          <p:nvPr/>
        </p:nvSpPr>
        <p:spPr>
          <a:xfrm>
            <a:off x="4419720" y="3079800"/>
            <a:ext cx="134640" cy="135000"/>
          </a:xfrm>
          <a:custGeom>
            <a:avLst/>
            <a:gdLst/>
            <a:ahLst/>
            <a:rect l="l" t="t" r="r" b="b"/>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1d087d"/>
          </a:solidFill>
          <a:ln w="12600">
            <a:solidFill>
              <a:srgbClr val="1d087d"/>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2" name="AutoShape 14"/>
          <p:cNvSpPr/>
          <p:nvPr/>
        </p:nvSpPr>
        <p:spPr>
          <a:xfrm>
            <a:off x="4405320" y="3967200"/>
            <a:ext cx="136440" cy="135000"/>
          </a:xfrm>
          <a:custGeom>
            <a:avLst/>
            <a:gdLst/>
            <a:ahLst/>
            <a:rect l="l" t="t" r="r" b="b"/>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44168"/>
          </a:solidFill>
          <a:ln w="12600">
            <a:solidFill>
              <a:srgbClr val="f44168"/>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3" name="AutoShape 15"/>
          <p:cNvSpPr/>
          <p:nvPr/>
        </p:nvSpPr>
        <p:spPr>
          <a:xfrm>
            <a:off x="8861400" y="4021200"/>
            <a:ext cx="136440" cy="135000"/>
          </a:xfrm>
          <a:custGeom>
            <a:avLst/>
            <a:gdLst/>
            <a:ahLst/>
            <a:rect l="l" t="t" r="r" b="b"/>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44168"/>
          </a:solidFill>
          <a:ln w="12600">
            <a:solidFill>
              <a:srgbClr val="f44168"/>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4" name="AutoShape 16"/>
          <p:cNvSpPr/>
          <p:nvPr/>
        </p:nvSpPr>
        <p:spPr>
          <a:xfrm>
            <a:off x="8583480" y="4699080"/>
            <a:ext cx="136800" cy="135000"/>
          </a:xfrm>
          <a:custGeom>
            <a:avLst/>
            <a:gdLst/>
            <a:ahLst/>
            <a:rect l="l" t="t" r="r" b="b"/>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1d087d"/>
          </a:solidFill>
          <a:ln w="12600">
            <a:solidFill>
              <a:srgbClr val="1d087d"/>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5" name="AutoShape 17"/>
          <p:cNvSpPr/>
          <p:nvPr/>
        </p:nvSpPr>
        <p:spPr>
          <a:xfrm>
            <a:off x="4386240" y="4780080"/>
            <a:ext cx="135000" cy="135000"/>
          </a:xfrm>
          <a:custGeom>
            <a:avLst/>
            <a:gdLst/>
            <a:ahLst/>
            <a:rect l="l" t="t" r="r" b="b"/>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1d087d"/>
          </a:solidFill>
          <a:ln w="12600">
            <a:solidFill>
              <a:srgbClr val="1d087d"/>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6" name="AutoShape 18"/>
          <p:cNvSpPr/>
          <p:nvPr/>
        </p:nvSpPr>
        <p:spPr>
          <a:xfrm>
            <a:off x="4371840" y="5497560"/>
            <a:ext cx="135000" cy="135000"/>
          </a:xfrm>
          <a:custGeom>
            <a:avLst/>
            <a:gdLst/>
            <a:ahLst/>
            <a:rect l="l" t="t" r="r" b="b"/>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44168"/>
          </a:solidFill>
          <a:ln w="12600">
            <a:solidFill>
              <a:srgbClr val="f44168"/>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7" name="AutoShape 19"/>
          <p:cNvSpPr/>
          <p:nvPr/>
        </p:nvSpPr>
        <p:spPr>
          <a:xfrm>
            <a:off x="8583480" y="5470560"/>
            <a:ext cx="136800" cy="135000"/>
          </a:xfrm>
          <a:custGeom>
            <a:avLst/>
            <a:gdLst/>
            <a:ahLst/>
            <a:rect l="l" t="t" r="r" b="b"/>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44168"/>
          </a:solidFill>
          <a:ln w="12600">
            <a:solidFill>
              <a:srgbClr val="f44168"/>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8" name="AutoShape 20"/>
          <p:cNvSpPr/>
          <p:nvPr/>
        </p:nvSpPr>
        <p:spPr>
          <a:xfrm>
            <a:off x="3708360" y="2076480"/>
            <a:ext cx="452520" cy="452520"/>
          </a:xfrm>
          <a:custGeom>
            <a:avLst/>
            <a:gdLst/>
            <a:ahLst/>
            <a:rect l="l" t="t" r="r" b="b"/>
            <a:pathLst>
              <a:path w="21599" h="21599">
                <a:moveTo>
                  <a:pt x="19987" y="2580"/>
                </a:moveTo>
                <a:cubicBezTo>
                  <a:pt x="20419" y="2580"/>
                  <a:pt x="20793" y="2735"/>
                  <a:pt x="21116" y="3052"/>
                </a:cubicBezTo>
                <a:cubicBezTo>
                  <a:pt x="21438" y="3372"/>
                  <a:pt x="21599" y="3743"/>
                  <a:pt x="21599" y="4175"/>
                </a:cubicBezTo>
                <a:lnTo>
                  <a:pt x="21599" y="19987"/>
                </a:lnTo>
                <a:cubicBezTo>
                  <a:pt x="21599" y="20419"/>
                  <a:pt x="21438" y="20796"/>
                  <a:pt x="21116" y="21116"/>
                </a:cubicBezTo>
                <a:cubicBezTo>
                  <a:pt x="20793" y="21438"/>
                  <a:pt x="20419" y="21599"/>
                  <a:pt x="19987" y="21599"/>
                </a:cubicBezTo>
                <a:lnTo>
                  <a:pt x="1612" y="21599"/>
                </a:lnTo>
                <a:cubicBezTo>
                  <a:pt x="1180" y="21599"/>
                  <a:pt x="806" y="21438"/>
                  <a:pt x="483" y="21116"/>
                </a:cubicBezTo>
                <a:cubicBezTo>
                  <a:pt x="161" y="20796"/>
                  <a:pt x="0" y="20419"/>
                  <a:pt x="0" y="19987"/>
                </a:cubicBezTo>
                <a:lnTo>
                  <a:pt x="0" y="4175"/>
                </a:lnTo>
                <a:cubicBezTo>
                  <a:pt x="0" y="3743"/>
                  <a:pt x="161" y="3372"/>
                  <a:pt x="483" y="3052"/>
                </a:cubicBezTo>
                <a:cubicBezTo>
                  <a:pt x="806" y="2735"/>
                  <a:pt x="1180" y="2580"/>
                  <a:pt x="1612" y="2580"/>
                </a:cubicBezTo>
                <a:lnTo>
                  <a:pt x="2150" y="2580"/>
                </a:lnTo>
                <a:lnTo>
                  <a:pt x="2150" y="2401"/>
                </a:lnTo>
                <a:cubicBezTo>
                  <a:pt x="2150" y="2116"/>
                  <a:pt x="2196" y="1828"/>
                  <a:pt x="2288" y="1540"/>
                </a:cubicBezTo>
                <a:cubicBezTo>
                  <a:pt x="2381" y="1249"/>
                  <a:pt x="2530" y="990"/>
                  <a:pt x="2738" y="766"/>
                </a:cubicBezTo>
                <a:cubicBezTo>
                  <a:pt x="2942" y="541"/>
                  <a:pt x="3216" y="360"/>
                  <a:pt x="3555" y="213"/>
                </a:cubicBezTo>
                <a:cubicBezTo>
                  <a:pt x="3895" y="75"/>
                  <a:pt x="4310" y="0"/>
                  <a:pt x="4796" y="0"/>
                </a:cubicBezTo>
                <a:cubicBezTo>
                  <a:pt x="5283" y="0"/>
                  <a:pt x="5698" y="75"/>
                  <a:pt x="6037" y="213"/>
                </a:cubicBezTo>
                <a:cubicBezTo>
                  <a:pt x="6377" y="360"/>
                  <a:pt x="6651" y="541"/>
                  <a:pt x="6858" y="766"/>
                </a:cubicBezTo>
                <a:cubicBezTo>
                  <a:pt x="7062" y="990"/>
                  <a:pt x="7215" y="1255"/>
                  <a:pt x="7313" y="1546"/>
                </a:cubicBezTo>
                <a:cubicBezTo>
                  <a:pt x="7411" y="1840"/>
                  <a:pt x="7457" y="2125"/>
                  <a:pt x="7457" y="2401"/>
                </a:cubicBezTo>
                <a:lnTo>
                  <a:pt x="7457" y="2580"/>
                </a:lnTo>
                <a:lnTo>
                  <a:pt x="8133" y="2580"/>
                </a:lnTo>
                <a:lnTo>
                  <a:pt x="8133" y="2401"/>
                </a:lnTo>
                <a:cubicBezTo>
                  <a:pt x="8133" y="2116"/>
                  <a:pt x="8179" y="1828"/>
                  <a:pt x="8269" y="1540"/>
                </a:cubicBezTo>
                <a:cubicBezTo>
                  <a:pt x="8364" y="1249"/>
                  <a:pt x="8511" y="990"/>
                  <a:pt x="8718" y="766"/>
                </a:cubicBezTo>
                <a:cubicBezTo>
                  <a:pt x="8925" y="541"/>
                  <a:pt x="9199" y="360"/>
                  <a:pt x="9538" y="213"/>
                </a:cubicBezTo>
                <a:cubicBezTo>
                  <a:pt x="9878" y="74"/>
                  <a:pt x="10293" y="0"/>
                  <a:pt x="10779" y="0"/>
                </a:cubicBezTo>
                <a:cubicBezTo>
                  <a:pt x="11266" y="0"/>
                  <a:pt x="11678" y="74"/>
                  <a:pt x="12020" y="213"/>
                </a:cubicBezTo>
                <a:cubicBezTo>
                  <a:pt x="12360" y="360"/>
                  <a:pt x="12636" y="541"/>
                  <a:pt x="12852" y="766"/>
                </a:cubicBezTo>
                <a:cubicBezTo>
                  <a:pt x="13068" y="990"/>
                  <a:pt x="13227" y="1255"/>
                  <a:pt x="13322" y="1546"/>
                </a:cubicBezTo>
                <a:cubicBezTo>
                  <a:pt x="13417" y="1840"/>
                  <a:pt x="13469" y="2125"/>
                  <a:pt x="13469" y="2401"/>
                </a:cubicBezTo>
                <a:lnTo>
                  <a:pt x="13469" y="2580"/>
                </a:lnTo>
                <a:lnTo>
                  <a:pt x="14142" y="2580"/>
                </a:lnTo>
                <a:lnTo>
                  <a:pt x="14142" y="2401"/>
                </a:lnTo>
                <a:cubicBezTo>
                  <a:pt x="14142" y="2116"/>
                  <a:pt x="14191" y="1828"/>
                  <a:pt x="14286" y="1540"/>
                </a:cubicBezTo>
                <a:cubicBezTo>
                  <a:pt x="14384" y="1249"/>
                  <a:pt x="14534" y="990"/>
                  <a:pt x="14741" y="765"/>
                </a:cubicBezTo>
                <a:cubicBezTo>
                  <a:pt x="14948" y="541"/>
                  <a:pt x="15219" y="359"/>
                  <a:pt x="15556" y="213"/>
                </a:cubicBezTo>
                <a:cubicBezTo>
                  <a:pt x="15890" y="74"/>
                  <a:pt x="16305" y="0"/>
                  <a:pt x="16803" y="0"/>
                </a:cubicBezTo>
                <a:cubicBezTo>
                  <a:pt x="17289" y="0"/>
                  <a:pt x="17704" y="74"/>
                  <a:pt x="18044" y="213"/>
                </a:cubicBezTo>
                <a:cubicBezTo>
                  <a:pt x="18383" y="359"/>
                  <a:pt x="18657" y="541"/>
                  <a:pt x="18864" y="765"/>
                </a:cubicBezTo>
                <a:cubicBezTo>
                  <a:pt x="19069" y="990"/>
                  <a:pt x="19218" y="1255"/>
                  <a:pt x="19311" y="1546"/>
                </a:cubicBezTo>
                <a:cubicBezTo>
                  <a:pt x="19403" y="1839"/>
                  <a:pt x="19449" y="2125"/>
                  <a:pt x="19449" y="2401"/>
                </a:cubicBezTo>
                <a:lnTo>
                  <a:pt x="19449" y="2580"/>
                </a:lnTo>
                <a:lnTo>
                  <a:pt x="19987" y="2580"/>
                </a:lnTo>
                <a:close/>
                <a:moveTo>
                  <a:pt x="6066" y="7968"/>
                </a:moveTo>
                <a:lnTo>
                  <a:pt x="2179" y="7968"/>
                </a:lnTo>
                <a:lnTo>
                  <a:pt x="2179" y="11443"/>
                </a:lnTo>
                <a:lnTo>
                  <a:pt x="6066" y="11443"/>
                </a:lnTo>
                <a:lnTo>
                  <a:pt x="6066" y="7968"/>
                </a:lnTo>
                <a:close/>
                <a:moveTo>
                  <a:pt x="6066" y="11976"/>
                </a:moveTo>
                <a:lnTo>
                  <a:pt x="2179" y="11976"/>
                </a:lnTo>
                <a:lnTo>
                  <a:pt x="2179" y="15452"/>
                </a:lnTo>
                <a:lnTo>
                  <a:pt x="6066" y="15452"/>
                </a:lnTo>
                <a:lnTo>
                  <a:pt x="6066" y="11976"/>
                </a:lnTo>
                <a:close/>
                <a:moveTo>
                  <a:pt x="6066" y="15976"/>
                </a:moveTo>
                <a:lnTo>
                  <a:pt x="2179" y="15976"/>
                </a:lnTo>
                <a:lnTo>
                  <a:pt x="2179" y="19422"/>
                </a:lnTo>
                <a:lnTo>
                  <a:pt x="6066" y="19422"/>
                </a:lnTo>
                <a:lnTo>
                  <a:pt x="6066" y="15976"/>
                </a:lnTo>
                <a:close/>
                <a:moveTo>
                  <a:pt x="3754" y="5543"/>
                </a:moveTo>
                <a:cubicBezTo>
                  <a:pt x="3754" y="6067"/>
                  <a:pt x="4102" y="6323"/>
                  <a:pt x="4799" y="6323"/>
                </a:cubicBezTo>
                <a:cubicBezTo>
                  <a:pt x="5499" y="6323"/>
                  <a:pt x="5847" y="6067"/>
                  <a:pt x="5847" y="5543"/>
                </a:cubicBezTo>
                <a:lnTo>
                  <a:pt x="5847" y="2398"/>
                </a:lnTo>
                <a:cubicBezTo>
                  <a:pt x="5847" y="1877"/>
                  <a:pt x="5499" y="1612"/>
                  <a:pt x="4799" y="1612"/>
                </a:cubicBezTo>
                <a:cubicBezTo>
                  <a:pt x="4102" y="1612"/>
                  <a:pt x="3754" y="1877"/>
                  <a:pt x="3754" y="2398"/>
                </a:cubicBezTo>
                <a:lnTo>
                  <a:pt x="3754" y="5543"/>
                </a:lnTo>
                <a:close/>
                <a:moveTo>
                  <a:pt x="10535" y="7968"/>
                </a:moveTo>
                <a:lnTo>
                  <a:pt x="6607" y="7968"/>
                </a:lnTo>
                <a:lnTo>
                  <a:pt x="6607" y="11443"/>
                </a:lnTo>
                <a:lnTo>
                  <a:pt x="10535" y="11443"/>
                </a:lnTo>
                <a:lnTo>
                  <a:pt x="10535" y="7968"/>
                </a:lnTo>
                <a:close/>
                <a:moveTo>
                  <a:pt x="10535" y="11976"/>
                </a:moveTo>
                <a:lnTo>
                  <a:pt x="6607" y="11976"/>
                </a:lnTo>
                <a:lnTo>
                  <a:pt x="6607" y="15452"/>
                </a:lnTo>
                <a:lnTo>
                  <a:pt x="10535" y="15452"/>
                </a:lnTo>
                <a:lnTo>
                  <a:pt x="10535" y="11976"/>
                </a:lnTo>
                <a:close/>
                <a:moveTo>
                  <a:pt x="10535" y="15976"/>
                </a:moveTo>
                <a:lnTo>
                  <a:pt x="6607" y="15976"/>
                </a:lnTo>
                <a:lnTo>
                  <a:pt x="6607" y="19422"/>
                </a:lnTo>
                <a:lnTo>
                  <a:pt x="10535" y="19422"/>
                </a:lnTo>
                <a:lnTo>
                  <a:pt x="10535" y="15976"/>
                </a:lnTo>
                <a:close/>
                <a:moveTo>
                  <a:pt x="9774" y="5543"/>
                </a:moveTo>
                <a:cubicBezTo>
                  <a:pt x="9774" y="5825"/>
                  <a:pt x="9849" y="6027"/>
                  <a:pt x="9996" y="6145"/>
                </a:cubicBezTo>
                <a:cubicBezTo>
                  <a:pt x="10143" y="6269"/>
                  <a:pt x="10405" y="6323"/>
                  <a:pt x="10782" y="6323"/>
                </a:cubicBezTo>
                <a:cubicBezTo>
                  <a:pt x="11159" y="6323"/>
                  <a:pt x="11427" y="6263"/>
                  <a:pt x="11588" y="6139"/>
                </a:cubicBezTo>
                <a:cubicBezTo>
                  <a:pt x="11750" y="6015"/>
                  <a:pt x="11830" y="5819"/>
                  <a:pt x="11830" y="5543"/>
                </a:cubicBezTo>
                <a:lnTo>
                  <a:pt x="11830" y="2398"/>
                </a:lnTo>
                <a:cubicBezTo>
                  <a:pt x="11830" y="2128"/>
                  <a:pt x="11750" y="1932"/>
                  <a:pt x="11588" y="1802"/>
                </a:cubicBezTo>
                <a:cubicBezTo>
                  <a:pt x="11427" y="1673"/>
                  <a:pt x="11159" y="1612"/>
                  <a:pt x="10782" y="1612"/>
                </a:cubicBezTo>
                <a:cubicBezTo>
                  <a:pt x="10405" y="1612"/>
                  <a:pt x="10143" y="1679"/>
                  <a:pt x="9996" y="1814"/>
                </a:cubicBezTo>
                <a:cubicBezTo>
                  <a:pt x="9849" y="1944"/>
                  <a:pt x="9774" y="2139"/>
                  <a:pt x="9774" y="2398"/>
                </a:cubicBezTo>
                <a:lnTo>
                  <a:pt x="9774" y="5543"/>
                </a:lnTo>
                <a:close/>
                <a:moveTo>
                  <a:pt x="14986" y="7968"/>
                </a:moveTo>
                <a:lnTo>
                  <a:pt x="11073" y="7968"/>
                </a:lnTo>
                <a:lnTo>
                  <a:pt x="11073" y="11443"/>
                </a:lnTo>
                <a:lnTo>
                  <a:pt x="14986" y="11443"/>
                </a:lnTo>
                <a:lnTo>
                  <a:pt x="14986" y="7968"/>
                </a:lnTo>
                <a:close/>
                <a:moveTo>
                  <a:pt x="14986" y="11976"/>
                </a:moveTo>
                <a:lnTo>
                  <a:pt x="11073" y="11976"/>
                </a:lnTo>
                <a:lnTo>
                  <a:pt x="11073" y="15452"/>
                </a:lnTo>
                <a:lnTo>
                  <a:pt x="14986" y="15452"/>
                </a:lnTo>
                <a:lnTo>
                  <a:pt x="14986" y="11976"/>
                </a:lnTo>
                <a:close/>
                <a:moveTo>
                  <a:pt x="14986" y="15976"/>
                </a:moveTo>
                <a:lnTo>
                  <a:pt x="11073" y="15976"/>
                </a:lnTo>
                <a:lnTo>
                  <a:pt x="11073" y="19422"/>
                </a:lnTo>
                <a:lnTo>
                  <a:pt x="14986" y="19422"/>
                </a:lnTo>
                <a:lnTo>
                  <a:pt x="14986" y="15976"/>
                </a:lnTo>
                <a:close/>
                <a:moveTo>
                  <a:pt x="19423" y="7968"/>
                </a:moveTo>
                <a:lnTo>
                  <a:pt x="15521" y="7968"/>
                </a:lnTo>
                <a:lnTo>
                  <a:pt x="15521" y="11443"/>
                </a:lnTo>
                <a:lnTo>
                  <a:pt x="19423" y="11443"/>
                </a:lnTo>
                <a:lnTo>
                  <a:pt x="19423" y="7968"/>
                </a:lnTo>
                <a:close/>
                <a:moveTo>
                  <a:pt x="19423" y="11976"/>
                </a:moveTo>
                <a:lnTo>
                  <a:pt x="15521" y="11976"/>
                </a:lnTo>
                <a:lnTo>
                  <a:pt x="15521" y="15452"/>
                </a:lnTo>
                <a:lnTo>
                  <a:pt x="19423" y="15452"/>
                </a:lnTo>
                <a:lnTo>
                  <a:pt x="19423" y="11976"/>
                </a:lnTo>
                <a:close/>
                <a:moveTo>
                  <a:pt x="19423" y="15976"/>
                </a:moveTo>
                <a:lnTo>
                  <a:pt x="15521" y="15976"/>
                </a:lnTo>
                <a:lnTo>
                  <a:pt x="15521" y="19422"/>
                </a:lnTo>
                <a:lnTo>
                  <a:pt x="19423" y="19422"/>
                </a:lnTo>
                <a:lnTo>
                  <a:pt x="19423" y="15976"/>
                </a:lnTo>
                <a:close/>
                <a:moveTo>
                  <a:pt x="15758" y="5543"/>
                </a:moveTo>
                <a:cubicBezTo>
                  <a:pt x="15758" y="6067"/>
                  <a:pt x="16106" y="6323"/>
                  <a:pt x="16806" y="6323"/>
                </a:cubicBezTo>
                <a:cubicBezTo>
                  <a:pt x="17502" y="6323"/>
                  <a:pt x="17848" y="6067"/>
                  <a:pt x="17839" y="5543"/>
                </a:cubicBezTo>
                <a:lnTo>
                  <a:pt x="17839" y="2398"/>
                </a:lnTo>
                <a:cubicBezTo>
                  <a:pt x="17839" y="1877"/>
                  <a:pt x="17494" y="1612"/>
                  <a:pt x="16806" y="1612"/>
                </a:cubicBezTo>
                <a:cubicBezTo>
                  <a:pt x="16106" y="1612"/>
                  <a:pt x="15758" y="1877"/>
                  <a:pt x="15758" y="2398"/>
                </a:cubicBezTo>
                <a:lnTo>
                  <a:pt x="15758" y="5543"/>
                </a:lnTo>
                <a:close/>
              </a:path>
            </a:pathLst>
          </a:custGeom>
          <a:solidFill>
            <a:srgbClr val="f44168"/>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49" name="AutoShape 21"/>
          <p:cNvSpPr/>
          <p:nvPr/>
        </p:nvSpPr>
        <p:spPr>
          <a:xfrm>
            <a:off x="3657600" y="2940120"/>
            <a:ext cx="555480" cy="377640"/>
          </a:xfrm>
          <a:custGeom>
            <a:avLst/>
            <a:gdLst/>
            <a:ahLst/>
            <a:rect l="l" t="t" r="r" b="b"/>
            <a:pathLst>
              <a:path w="21599" h="21600">
                <a:moveTo>
                  <a:pt x="18573" y="9487"/>
                </a:moveTo>
                <a:cubicBezTo>
                  <a:pt x="18710" y="8882"/>
                  <a:pt x="18848" y="8074"/>
                  <a:pt x="18848" y="7469"/>
                </a:cubicBezTo>
                <a:cubicBezTo>
                  <a:pt x="18848" y="3431"/>
                  <a:pt x="16509" y="0"/>
                  <a:pt x="13757" y="0"/>
                </a:cubicBezTo>
                <a:cubicBezTo>
                  <a:pt x="10456" y="0"/>
                  <a:pt x="10043" y="3633"/>
                  <a:pt x="10043" y="3633"/>
                </a:cubicBezTo>
                <a:cubicBezTo>
                  <a:pt x="10043" y="3633"/>
                  <a:pt x="8667" y="1211"/>
                  <a:pt x="6328" y="1614"/>
                </a:cubicBezTo>
                <a:cubicBezTo>
                  <a:pt x="4127" y="2220"/>
                  <a:pt x="2751" y="5046"/>
                  <a:pt x="2751" y="8074"/>
                </a:cubicBezTo>
                <a:cubicBezTo>
                  <a:pt x="2751" y="8478"/>
                  <a:pt x="2751" y="9084"/>
                  <a:pt x="2889" y="9487"/>
                </a:cubicBezTo>
                <a:cubicBezTo>
                  <a:pt x="1238" y="10295"/>
                  <a:pt x="0" y="12717"/>
                  <a:pt x="0" y="15342"/>
                </a:cubicBezTo>
                <a:cubicBezTo>
                  <a:pt x="0" y="18773"/>
                  <a:pt x="1926" y="21600"/>
                  <a:pt x="4264" y="21600"/>
                </a:cubicBezTo>
                <a:cubicBezTo>
                  <a:pt x="17335" y="21600"/>
                  <a:pt x="17335" y="21600"/>
                  <a:pt x="17335" y="21600"/>
                </a:cubicBezTo>
                <a:cubicBezTo>
                  <a:pt x="19673" y="21600"/>
                  <a:pt x="21599" y="18773"/>
                  <a:pt x="21599" y="15342"/>
                </a:cubicBezTo>
                <a:cubicBezTo>
                  <a:pt x="21599" y="12515"/>
                  <a:pt x="20361" y="10295"/>
                  <a:pt x="18573" y="9487"/>
                </a:cubicBezTo>
                <a:close/>
                <a:moveTo>
                  <a:pt x="16509" y="20388"/>
                </a:moveTo>
                <a:cubicBezTo>
                  <a:pt x="10868" y="20388"/>
                  <a:pt x="10868" y="20388"/>
                  <a:pt x="10868" y="20388"/>
                </a:cubicBezTo>
                <a:cubicBezTo>
                  <a:pt x="11281" y="19581"/>
                  <a:pt x="14308" y="15342"/>
                  <a:pt x="14308" y="15342"/>
                </a:cubicBezTo>
                <a:cubicBezTo>
                  <a:pt x="14308" y="15342"/>
                  <a:pt x="14721" y="14736"/>
                  <a:pt x="14170" y="14736"/>
                </a:cubicBezTo>
                <a:cubicBezTo>
                  <a:pt x="13620" y="14736"/>
                  <a:pt x="12657" y="14736"/>
                  <a:pt x="12657" y="14736"/>
                </a:cubicBezTo>
                <a:cubicBezTo>
                  <a:pt x="12657" y="14736"/>
                  <a:pt x="12657" y="14332"/>
                  <a:pt x="12657" y="13727"/>
                </a:cubicBezTo>
                <a:cubicBezTo>
                  <a:pt x="12657" y="12112"/>
                  <a:pt x="12657" y="8882"/>
                  <a:pt x="12657" y="7469"/>
                </a:cubicBezTo>
                <a:cubicBezTo>
                  <a:pt x="12657" y="7469"/>
                  <a:pt x="12657" y="7267"/>
                  <a:pt x="12382" y="7267"/>
                </a:cubicBezTo>
                <a:cubicBezTo>
                  <a:pt x="12107" y="7267"/>
                  <a:pt x="9217" y="7267"/>
                  <a:pt x="8805" y="7267"/>
                </a:cubicBezTo>
                <a:cubicBezTo>
                  <a:pt x="8529" y="7267"/>
                  <a:pt x="8529" y="7671"/>
                  <a:pt x="8529" y="7671"/>
                </a:cubicBezTo>
                <a:cubicBezTo>
                  <a:pt x="8529" y="8882"/>
                  <a:pt x="8529" y="12112"/>
                  <a:pt x="8529" y="13727"/>
                </a:cubicBezTo>
                <a:cubicBezTo>
                  <a:pt x="8529" y="14332"/>
                  <a:pt x="8529" y="14736"/>
                  <a:pt x="8529" y="14736"/>
                </a:cubicBezTo>
                <a:cubicBezTo>
                  <a:pt x="8529" y="14736"/>
                  <a:pt x="7429" y="14736"/>
                  <a:pt x="7016" y="14736"/>
                </a:cubicBezTo>
                <a:cubicBezTo>
                  <a:pt x="6603" y="14736"/>
                  <a:pt x="7016" y="15342"/>
                  <a:pt x="7016" y="15342"/>
                </a:cubicBezTo>
                <a:cubicBezTo>
                  <a:pt x="10456" y="20388"/>
                  <a:pt x="10456" y="20388"/>
                  <a:pt x="10456" y="20388"/>
                </a:cubicBezTo>
                <a:cubicBezTo>
                  <a:pt x="5228" y="20388"/>
                  <a:pt x="5228" y="20388"/>
                  <a:pt x="5228" y="20388"/>
                </a:cubicBezTo>
                <a:cubicBezTo>
                  <a:pt x="3164" y="20388"/>
                  <a:pt x="1513" y="17966"/>
                  <a:pt x="1513" y="15140"/>
                </a:cubicBezTo>
                <a:cubicBezTo>
                  <a:pt x="1513" y="12717"/>
                  <a:pt x="2614" y="10900"/>
                  <a:pt x="3989" y="10093"/>
                </a:cubicBezTo>
                <a:cubicBezTo>
                  <a:pt x="3852" y="9689"/>
                  <a:pt x="3852" y="9285"/>
                  <a:pt x="3852" y="8882"/>
                </a:cubicBezTo>
                <a:cubicBezTo>
                  <a:pt x="3852" y="6459"/>
                  <a:pt x="5090" y="4037"/>
                  <a:pt x="7016" y="3431"/>
                </a:cubicBezTo>
                <a:cubicBezTo>
                  <a:pt x="9080" y="3229"/>
                  <a:pt x="10318" y="6056"/>
                  <a:pt x="10318" y="6056"/>
                </a:cubicBezTo>
                <a:cubicBezTo>
                  <a:pt x="10318" y="6056"/>
                  <a:pt x="10593" y="2220"/>
                  <a:pt x="13482" y="2220"/>
                </a:cubicBezTo>
                <a:cubicBezTo>
                  <a:pt x="15821" y="2220"/>
                  <a:pt x="17610" y="5046"/>
                  <a:pt x="17610" y="8478"/>
                </a:cubicBezTo>
                <a:cubicBezTo>
                  <a:pt x="17610" y="9084"/>
                  <a:pt x="17610" y="9689"/>
                  <a:pt x="17472" y="10093"/>
                </a:cubicBezTo>
                <a:cubicBezTo>
                  <a:pt x="18985" y="10699"/>
                  <a:pt x="20224" y="12717"/>
                  <a:pt x="20224" y="15140"/>
                </a:cubicBezTo>
                <a:cubicBezTo>
                  <a:pt x="20224" y="17966"/>
                  <a:pt x="18573" y="20388"/>
                  <a:pt x="16509" y="20388"/>
                </a:cubicBezTo>
                <a:close/>
              </a:path>
            </a:pathLst>
          </a:custGeom>
          <a:solidFill>
            <a:srgbClr val="1d087d"/>
          </a:solidFill>
          <a:ln w="0">
            <a:noFill/>
          </a:ln>
        </p:spPr>
        <p:style>
          <a:lnRef idx="0"/>
          <a:fillRef idx="0"/>
          <a:effectRef idx="0"/>
          <a:fontRef idx="minor"/>
        </p:style>
        <p:txBody>
          <a:bodyPr lIns="45360" rIns="45360" tIns="45360" bIns="45360" anchor="t">
            <a:noAutofit/>
          </a:bodyPr>
          <a:p>
            <a:endParaRPr b="0" lang="en-US" sz="1800" spc="-1" strike="noStrike">
              <a:solidFill>
                <a:srgbClr val="000000"/>
              </a:solidFill>
              <a:latin typeface="Arial"/>
            </a:endParaRPr>
          </a:p>
        </p:txBody>
      </p:sp>
      <p:sp>
        <p:nvSpPr>
          <p:cNvPr id="650" name="AutoShape 22"/>
          <p:cNvSpPr/>
          <p:nvPr/>
        </p:nvSpPr>
        <p:spPr>
          <a:xfrm>
            <a:off x="3684600" y="3757680"/>
            <a:ext cx="480960" cy="477720"/>
          </a:xfrm>
          <a:custGeom>
            <a:avLst/>
            <a:gdLst/>
            <a:ahLst/>
            <a:rect l="l" t="t" r="r" b="b"/>
            <a:pathLst>
              <a:path w="21599" h="21600">
                <a:moveTo>
                  <a:pt x="10800" y="0"/>
                </a:moveTo>
                <a:cubicBezTo>
                  <a:pt x="4859" y="0"/>
                  <a:pt x="0" y="4859"/>
                  <a:pt x="0" y="10800"/>
                </a:cubicBezTo>
                <a:cubicBezTo>
                  <a:pt x="0" y="16739"/>
                  <a:pt x="4859" y="21600"/>
                  <a:pt x="10800" y="21600"/>
                </a:cubicBezTo>
                <a:cubicBezTo>
                  <a:pt x="16739" y="21600"/>
                  <a:pt x="21599" y="16739"/>
                  <a:pt x="21599" y="10800"/>
                </a:cubicBezTo>
                <a:cubicBezTo>
                  <a:pt x="21599" y="4859"/>
                  <a:pt x="16739" y="0"/>
                  <a:pt x="10800" y="0"/>
                </a:cubicBezTo>
                <a:close/>
                <a:moveTo>
                  <a:pt x="14940" y="4319"/>
                </a:moveTo>
                <a:cubicBezTo>
                  <a:pt x="15659" y="3779"/>
                  <a:pt x="15659" y="3779"/>
                  <a:pt x="15659" y="3779"/>
                </a:cubicBezTo>
                <a:cubicBezTo>
                  <a:pt x="15659" y="3779"/>
                  <a:pt x="15299" y="3059"/>
                  <a:pt x="15479" y="2519"/>
                </a:cubicBezTo>
                <a:cubicBezTo>
                  <a:pt x="15659" y="2519"/>
                  <a:pt x="16379" y="2879"/>
                  <a:pt x="16920" y="3599"/>
                </a:cubicBezTo>
                <a:cubicBezTo>
                  <a:pt x="16559" y="5219"/>
                  <a:pt x="15479" y="5039"/>
                  <a:pt x="15479" y="5039"/>
                </a:cubicBezTo>
                <a:cubicBezTo>
                  <a:pt x="15479" y="5039"/>
                  <a:pt x="14759" y="5039"/>
                  <a:pt x="14940" y="4319"/>
                </a:cubicBezTo>
                <a:close/>
                <a:moveTo>
                  <a:pt x="8460" y="13859"/>
                </a:moveTo>
                <a:cubicBezTo>
                  <a:pt x="8279" y="14040"/>
                  <a:pt x="8099" y="14579"/>
                  <a:pt x="7919" y="15119"/>
                </a:cubicBezTo>
                <a:cubicBezTo>
                  <a:pt x="7739" y="15479"/>
                  <a:pt x="7559" y="15660"/>
                  <a:pt x="7379" y="15839"/>
                </a:cubicBezTo>
                <a:cubicBezTo>
                  <a:pt x="7019" y="16019"/>
                  <a:pt x="7019" y="16379"/>
                  <a:pt x="7019" y="16379"/>
                </a:cubicBezTo>
                <a:cubicBezTo>
                  <a:pt x="6839" y="17099"/>
                  <a:pt x="6839" y="17099"/>
                  <a:pt x="6839" y="17099"/>
                </a:cubicBezTo>
                <a:cubicBezTo>
                  <a:pt x="6839" y="17099"/>
                  <a:pt x="7019" y="17819"/>
                  <a:pt x="7200" y="17999"/>
                </a:cubicBezTo>
                <a:cubicBezTo>
                  <a:pt x="7200" y="18360"/>
                  <a:pt x="6659" y="19799"/>
                  <a:pt x="6659" y="19799"/>
                </a:cubicBezTo>
                <a:cubicBezTo>
                  <a:pt x="6120" y="19620"/>
                  <a:pt x="5939" y="19079"/>
                  <a:pt x="5759" y="18719"/>
                </a:cubicBezTo>
                <a:cubicBezTo>
                  <a:pt x="5759" y="18360"/>
                  <a:pt x="5400" y="18179"/>
                  <a:pt x="5579" y="17819"/>
                </a:cubicBezTo>
                <a:cubicBezTo>
                  <a:pt x="5579" y="17279"/>
                  <a:pt x="5219" y="17099"/>
                  <a:pt x="5039" y="16919"/>
                </a:cubicBezTo>
                <a:cubicBezTo>
                  <a:pt x="4859" y="16559"/>
                  <a:pt x="4679" y="16199"/>
                  <a:pt x="4679" y="16019"/>
                </a:cubicBezTo>
                <a:cubicBezTo>
                  <a:pt x="4679" y="15839"/>
                  <a:pt x="4139" y="15479"/>
                  <a:pt x="4139" y="15479"/>
                </a:cubicBezTo>
                <a:cubicBezTo>
                  <a:pt x="4139" y="15479"/>
                  <a:pt x="3240" y="14940"/>
                  <a:pt x="3060" y="14759"/>
                </a:cubicBezTo>
                <a:cubicBezTo>
                  <a:pt x="2879" y="14579"/>
                  <a:pt x="2700" y="13859"/>
                  <a:pt x="2700" y="13499"/>
                </a:cubicBezTo>
                <a:cubicBezTo>
                  <a:pt x="2700" y="13139"/>
                  <a:pt x="2879" y="12239"/>
                  <a:pt x="2879" y="12239"/>
                </a:cubicBezTo>
                <a:cubicBezTo>
                  <a:pt x="2879" y="12239"/>
                  <a:pt x="3240" y="11879"/>
                  <a:pt x="3060" y="11699"/>
                </a:cubicBezTo>
                <a:cubicBezTo>
                  <a:pt x="2700" y="11519"/>
                  <a:pt x="2700" y="10800"/>
                  <a:pt x="2700" y="10800"/>
                </a:cubicBezTo>
                <a:cubicBezTo>
                  <a:pt x="2339" y="10439"/>
                  <a:pt x="2339" y="10439"/>
                  <a:pt x="2339" y="10439"/>
                </a:cubicBezTo>
                <a:cubicBezTo>
                  <a:pt x="2339" y="10439"/>
                  <a:pt x="1979" y="9899"/>
                  <a:pt x="1800" y="9719"/>
                </a:cubicBezTo>
                <a:cubicBezTo>
                  <a:pt x="1800" y="9359"/>
                  <a:pt x="1800" y="9180"/>
                  <a:pt x="1979" y="8999"/>
                </a:cubicBezTo>
                <a:cubicBezTo>
                  <a:pt x="1979" y="8820"/>
                  <a:pt x="1800" y="8279"/>
                  <a:pt x="1800" y="8099"/>
                </a:cubicBezTo>
                <a:cubicBezTo>
                  <a:pt x="3600" y="3599"/>
                  <a:pt x="6659" y="2699"/>
                  <a:pt x="6659" y="2699"/>
                </a:cubicBezTo>
                <a:cubicBezTo>
                  <a:pt x="6839" y="3599"/>
                  <a:pt x="6839" y="3599"/>
                  <a:pt x="6839" y="3599"/>
                </a:cubicBezTo>
                <a:cubicBezTo>
                  <a:pt x="6839" y="3599"/>
                  <a:pt x="6299" y="3779"/>
                  <a:pt x="6120" y="3779"/>
                </a:cubicBezTo>
                <a:cubicBezTo>
                  <a:pt x="5759" y="3599"/>
                  <a:pt x="5579" y="3599"/>
                  <a:pt x="5579" y="3599"/>
                </a:cubicBezTo>
                <a:cubicBezTo>
                  <a:pt x="5219" y="4139"/>
                  <a:pt x="5219" y="4139"/>
                  <a:pt x="5219" y="4139"/>
                </a:cubicBezTo>
                <a:cubicBezTo>
                  <a:pt x="5219" y="4139"/>
                  <a:pt x="5039" y="4499"/>
                  <a:pt x="5039" y="4679"/>
                </a:cubicBezTo>
                <a:cubicBezTo>
                  <a:pt x="5039" y="4859"/>
                  <a:pt x="5219" y="5219"/>
                  <a:pt x="5219" y="5219"/>
                </a:cubicBezTo>
                <a:cubicBezTo>
                  <a:pt x="5219" y="5219"/>
                  <a:pt x="5759" y="5219"/>
                  <a:pt x="5759" y="5039"/>
                </a:cubicBezTo>
                <a:cubicBezTo>
                  <a:pt x="5759" y="4859"/>
                  <a:pt x="5759" y="4679"/>
                  <a:pt x="5759" y="4679"/>
                </a:cubicBezTo>
                <a:cubicBezTo>
                  <a:pt x="5579" y="4319"/>
                  <a:pt x="5579" y="4319"/>
                  <a:pt x="5579" y="4319"/>
                </a:cubicBezTo>
                <a:cubicBezTo>
                  <a:pt x="5579" y="4319"/>
                  <a:pt x="6120" y="4139"/>
                  <a:pt x="7200" y="4319"/>
                </a:cubicBezTo>
                <a:cubicBezTo>
                  <a:pt x="8460" y="4319"/>
                  <a:pt x="7919" y="5219"/>
                  <a:pt x="8460" y="5399"/>
                </a:cubicBezTo>
                <a:cubicBezTo>
                  <a:pt x="8999" y="5579"/>
                  <a:pt x="8099" y="6299"/>
                  <a:pt x="7919" y="6659"/>
                </a:cubicBezTo>
                <a:cubicBezTo>
                  <a:pt x="7739" y="7019"/>
                  <a:pt x="7379" y="6119"/>
                  <a:pt x="7379" y="6119"/>
                </a:cubicBezTo>
                <a:cubicBezTo>
                  <a:pt x="7379" y="6119"/>
                  <a:pt x="7739" y="5759"/>
                  <a:pt x="7200" y="5759"/>
                </a:cubicBezTo>
                <a:cubicBezTo>
                  <a:pt x="6659" y="5579"/>
                  <a:pt x="6299" y="6479"/>
                  <a:pt x="6659" y="6479"/>
                </a:cubicBezTo>
                <a:cubicBezTo>
                  <a:pt x="6839" y="6479"/>
                  <a:pt x="7200" y="6839"/>
                  <a:pt x="7019" y="7019"/>
                </a:cubicBezTo>
                <a:cubicBezTo>
                  <a:pt x="7019" y="7199"/>
                  <a:pt x="7019" y="7199"/>
                  <a:pt x="6839" y="7739"/>
                </a:cubicBezTo>
                <a:cubicBezTo>
                  <a:pt x="6480" y="8279"/>
                  <a:pt x="6120" y="8639"/>
                  <a:pt x="6120" y="8639"/>
                </a:cubicBezTo>
                <a:cubicBezTo>
                  <a:pt x="6120" y="8639"/>
                  <a:pt x="5759" y="8459"/>
                  <a:pt x="5939" y="8820"/>
                </a:cubicBezTo>
                <a:cubicBezTo>
                  <a:pt x="6120" y="9180"/>
                  <a:pt x="5939" y="9719"/>
                  <a:pt x="5939" y="9899"/>
                </a:cubicBezTo>
                <a:cubicBezTo>
                  <a:pt x="5939" y="10259"/>
                  <a:pt x="5219" y="9719"/>
                  <a:pt x="5219" y="9180"/>
                </a:cubicBezTo>
                <a:cubicBezTo>
                  <a:pt x="5039" y="8639"/>
                  <a:pt x="4499" y="9180"/>
                  <a:pt x="4319" y="9180"/>
                </a:cubicBezTo>
                <a:cubicBezTo>
                  <a:pt x="4139" y="9180"/>
                  <a:pt x="3779" y="8999"/>
                  <a:pt x="3779" y="8820"/>
                </a:cubicBezTo>
                <a:cubicBezTo>
                  <a:pt x="3600" y="8639"/>
                  <a:pt x="2700" y="9359"/>
                  <a:pt x="2519" y="9359"/>
                </a:cubicBezTo>
                <a:cubicBezTo>
                  <a:pt x="2339" y="9539"/>
                  <a:pt x="2339" y="9899"/>
                  <a:pt x="2700" y="9719"/>
                </a:cubicBezTo>
                <a:cubicBezTo>
                  <a:pt x="3060" y="9539"/>
                  <a:pt x="3419" y="9719"/>
                  <a:pt x="3419" y="10079"/>
                </a:cubicBezTo>
                <a:cubicBezTo>
                  <a:pt x="3240" y="10439"/>
                  <a:pt x="2879" y="10259"/>
                  <a:pt x="2879" y="10439"/>
                </a:cubicBezTo>
                <a:cubicBezTo>
                  <a:pt x="3060" y="10800"/>
                  <a:pt x="3419" y="10979"/>
                  <a:pt x="3419" y="11339"/>
                </a:cubicBezTo>
                <a:cubicBezTo>
                  <a:pt x="3600" y="11699"/>
                  <a:pt x="4499" y="11339"/>
                  <a:pt x="4859" y="11159"/>
                </a:cubicBezTo>
                <a:cubicBezTo>
                  <a:pt x="5039" y="11159"/>
                  <a:pt x="5939" y="10979"/>
                  <a:pt x="5939" y="11339"/>
                </a:cubicBezTo>
                <a:cubicBezTo>
                  <a:pt x="6120" y="11699"/>
                  <a:pt x="7019" y="11879"/>
                  <a:pt x="7379" y="11879"/>
                </a:cubicBezTo>
                <a:cubicBezTo>
                  <a:pt x="7739" y="12059"/>
                  <a:pt x="8279" y="12059"/>
                  <a:pt x="8820" y="12419"/>
                </a:cubicBezTo>
                <a:cubicBezTo>
                  <a:pt x="9179" y="12960"/>
                  <a:pt x="8460" y="13679"/>
                  <a:pt x="8460" y="13859"/>
                </a:cubicBezTo>
                <a:close/>
                <a:moveTo>
                  <a:pt x="10619" y="2519"/>
                </a:moveTo>
                <a:cubicBezTo>
                  <a:pt x="10439" y="3059"/>
                  <a:pt x="9719" y="3599"/>
                  <a:pt x="9900" y="3779"/>
                </a:cubicBezTo>
                <a:cubicBezTo>
                  <a:pt x="9900" y="3959"/>
                  <a:pt x="9900" y="4859"/>
                  <a:pt x="9179" y="4139"/>
                </a:cubicBezTo>
                <a:cubicBezTo>
                  <a:pt x="8460" y="3419"/>
                  <a:pt x="7739" y="3239"/>
                  <a:pt x="7919" y="2699"/>
                </a:cubicBezTo>
                <a:cubicBezTo>
                  <a:pt x="7919" y="2519"/>
                  <a:pt x="8639" y="2519"/>
                  <a:pt x="8639" y="2339"/>
                </a:cubicBezTo>
                <a:cubicBezTo>
                  <a:pt x="9540" y="1259"/>
                  <a:pt x="11159" y="1439"/>
                  <a:pt x="11339" y="1799"/>
                </a:cubicBezTo>
                <a:cubicBezTo>
                  <a:pt x="10979" y="2159"/>
                  <a:pt x="10619" y="1979"/>
                  <a:pt x="10619" y="2519"/>
                </a:cubicBezTo>
                <a:close/>
                <a:moveTo>
                  <a:pt x="19259" y="11159"/>
                </a:moveTo>
                <a:cubicBezTo>
                  <a:pt x="19259" y="11159"/>
                  <a:pt x="19619" y="11699"/>
                  <a:pt x="20159" y="11699"/>
                </a:cubicBezTo>
                <a:cubicBezTo>
                  <a:pt x="19800" y="15660"/>
                  <a:pt x="16559" y="18360"/>
                  <a:pt x="16559" y="18360"/>
                </a:cubicBezTo>
                <a:cubicBezTo>
                  <a:pt x="16019" y="17819"/>
                  <a:pt x="16199" y="17279"/>
                  <a:pt x="16199" y="17279"/>
                </a:cubicBezTo>
                <a:cubicBezTo>
                  <a:pt x="16379" y="16559"/>
                  <a:pt x="16379" y="16559"/>
                  <a:pt x="16379" y="16559"/>
                </a:cubicBezTo>
                <a:cubicBezTo>
                  <a:pt x="16379" y="15299"/>
                  <a:pt x="16379" y="15299"/>
                  <a:pt x="16379" y="15299"/>
                </a:cubicBezTo>
                <a:cubicBezTo>
                  <a:pt x="16379" y="15299"/>
                  <a:pt x="16379" y="13859"/>
                  <a:pt x="15119" y="14579"/>
                </a:cubicBezTo>
                <a:cubicBezTo>
                  <a:pt x="13859" y="14940"/>
                  <a:pt x="14400" y="14940"/>
                  <a:pt x="12960" y="14940"/>
                </a:cubicBezTo>
                <a:cubicBezTo>
                  <a:pt x="11519" y="15119"/>
                  <a:pt x="11879" y="12059"/>
                  <a:pt x="11879" y="12059"/>
                </a:cubicBezTo>
                <a:cubicBezTo>
                  <a:pt x="11879" y="7739"/>
                  <a:pt x="15119" y="10979"/>
                  <a:pt x="15119" y="10979"/>
                </a:cubicBezTo>
                <a:cubicBezTo>
                  <a:pt x="17099" y="12419"/>
                  <a:pt x="17459" y="10079"/>
                  <a:pt x="17459" y="10079"/>
                </a:cubicBezTo>
                <a:cubicBezTo>
                  <a:pt x="18719" y="9539"/>
                  <a:pt x="18719" y="9539"/>
                  <a:pt x="18719" y="9539"/>
                </a:cubicBezTo>
                <a:cubicBezTo>
                  <a:pt x="18899" y="8820"/>
                  <a:pt x="18899" y="8820"/>
                  <a:pt x="18899" y="8820"/>
                </a:cubicBezTo>
                <a:cubicBezTo>
                  <a:pt x="18719" y="7919"/>
                  <a:pt x="18719" y="7919"/>
                  <a:pt x="18719" y="7919"/>
                </a:cubicBezTo>
                <a:cubicBezTo>
                  <a:pt x="16739" y="7019"/>
                  <a:pt x="16739" y="7019"/>
                  <a:pt x="16739" y="7019"/>
                </a:cubicBezTo>
                <a:cubicBezTo>
                  <a:pt x="16739" y="7019"/>
                  <a:pt x="16379" y="7739"/>
                  <a:pt x="16920" y="8639"/>
                </a:cubicBezTo>
                <a:cubicBezTo>
                  <a:pt x="16920" y="8639"/>
                  <a:pt x="16739" y="9539"/>
                  <a:pt x="16379" y="9359"/>
                </a:cubicBezTo>
                <a:cubicBezTo>
                  <a:pt x="15119" y="8639"/>
                  <a:pt x="15119" y="8639"/>
                  <a:pt x="15119" y="8639"/>
                </a:cubicBezTo>
                <a:cubicBezTo>
                  <a:pt x="15119" y="8639"/>
                  <a:pt x="14759" y="8459"/>
                  <a:pt x="14220" y="8820"/>
                </a:cubicBezTo>
                <a:cubicBezTo>
                  <a:pt x="13500" y="9359"/>
                  <a:pt x="12419" y="8820"/>
                  <a:pt x="12419" y="8820"/>
                </a:cubicBezTo>
                <a:cubicBezTo>
                  <a:pt x="12419" y="8820"/>
                  <a:pt x="12419" y="8279"/>
                  <a:pt x="13140" y="7919"/>
                </a:cubicBezTo>
                <a:cubicBezTo>
                  <a:pt x="13679" y="7559"/>
                  <a:pt x="13679" y="7559"/>
                  <a:pt x="13679" y="7559"/>
                </a:cubicBezTo>
                <a:cubicBezTo>
                  <a:pt x="13679" y="7559"/>
                  <a:pt x="13500" y="6839"/>
                  <a:pt x="13679" y="6299"/>
                </a:cubicBezTo>
                <a:cubicBezTo>
                  <a:pt x="13859" y="5759"/>
                  <a:pt x="14039" y="6299"/>
                  <a:pt x="14579" y="5939"/>
                </a:cubicBezTo>
                <a:cubicBezTo>
                  <a:pt x="15119" y="5579"/>
                  <a:pt x="15479" y="6659"/>
                  <a:pt x="16199" y="6479"/>
                </a:cubicBezTo>
                <a:cubicBezTo>
                  <a:pt x="16920" y="6479"/>
                  <a:pt x="16559" y="6299"/>
                  <a:pt x="17099" y="5939"/>
                </a:cubicBezTo>
                <a:cubicBezTo>
                  <a:pt x="17640" y="5759"/>
                  <a:pt x="17999" y="6479"/>
                  <a:pt x="17999" y="6479"/>
                </a:cubicBezTo>
                <a:cubicBezTo>
                  <a:pt x="19079" y="6659"/>
                  <a:pt x="19079" y="6659"/>
                  <a:pt x="19079" y="6659"/>
                </a:cubicBezTo>
                <a:cubicBezTo>
                  <a:pt x="19079" y="6659"/>
                  <a:pt x="18899" y="5399"/>
                  <a:pt x="18899" y="5759"/>
                </a:cubicBezTo>
                <a:cubicBezTo>
                  <a:pt x="19619" y="6839"/>
                  <a:pt x="20520" y="9899"/>
                  <a:pt x="20159" y="10439"/>
                </a:cubicBezTo>
                <a:cubicBezTo>
                  <a:pt x="19979" y="10259"/>
                  <a:pt x="19800" y="10259"/>
                  <a:pt x="19800" y="10259"/>
                </a:cubicBezTo>
                <a:cubicBezTo>
                  <a:pt x="18539" y="10259"/>
                  <a:pt x="18539" y="10259"/>
                  <a:pt x="18539" y="10259"/>
                </a:cubicBezTo>
                <a:lnTo>
                  <a:pt x="19259" y="11159"/>
                </a:lnTo>
                <a:close/>
              </a:path>
            </a:pathLst>
          </a:custGeom>
          <a:solidFill>
            <a:srgbClr val="f44168"/>
          </a:solidFill>
          <a:ln w="0">
            <a:noFill/>
          </a:ln>
        </p:spPr>
        <p:style>
          <a:lnRef idx="0"/>
          <a:fillRef idx="0"/>
          <a:effectRef idx="0"/>
          <a:fontRef idx="minor"/>
        </p:style>
        <p:txBody>
          <a:bodyPr lIns="45360" rIns="45360" tIns="45360" bIns="45360" anchor="t">
            <a:noAutofit/>
          </a:bodyPr>
          <a:p>
            <a:endParaRPr b="0" lang="en-US" sz="1800" spc="-1" strike="noStrike">
              <a:solidFill>
                <a:srgbClr val="000000"/>
              </a:solidFill>
              <a:latin typeface="Arial"/>
            </a:endParaRPr>
          </a:p>
        </p:txBody>
      </p:sp>
      <p:sp>
        <p:nvSpPr>
          <p:cNvPr id="651" name="AutoShape 23"/>
          <p:cNvSpPr/>
          <p:nvPr/>
        </p:nvSpPr>
        <p:spPr>
          <a:xfrm>
            <a:off x="3679920" y="4579920"/>
            <a:ext cx="452520" cy="376200"/>
          </a:xfrm>
          <a:custGeom>
            <a:avLst/>
            <a:gdLst/>
            <a:ahLst/>
            <a:rect l="l" t="t" r="r" b="b"/>
            <a:pathLst>
              <a:path w="21599" h="21600">
                <a:moveTo>
                  <a:pt x="20708" y="14019"/>
                </a:moveTo>
                <a:cubicBezTo>
                  <a:pt x="20951" y="14019"/>
                  <a:pt x="21161" y="14125"/>
                  <a:pt x="21335" y="14334"/>
                </a:cubicBezTo>
                <a:cubicBezTo>
                  <a:pt x="21511" y="14548"/>
                  <a:pt x="21599" y="14810"/>
                  <a:pt x="21599" y="15115"/>
                </a:cubicBezTo>
                <a:lnTo>
                  <a:pt x="21599" y="20504"/>
                </a:lnTo>
                <a:cubicBezTo>
                  <a:pt x="21599" y="20815"/>
                  <a:pt x="21511" y="21071"/>
                  <a:pt x="21335" y="21285"/>
                </a:cubicBezTo>
                <a:cubicBezTo>
                  <a:pt x="21161" y="21494"/>
                  <a:pt x="20951" y="21600"/>
                  <a:pt x="20708" y="21600"/>
                </a:cubicBezTo>
                <a:lnTo>
                  <a:pt x="16197" y="21600"/>
                </a:lnTo>
                <a:cubicBezTo>
                  <a:pt x="15940" y="21600"/>
                  <a:pt x="15729" y="21494"/>
                  <a:pt x="15563" y="21285"/>
                </a:cubicBezTo>
                <a:cubicBezTo>
                  <a:pt x="15399" y="21071"/>
                  <a:pt x="15316" y="20815"/>
                  <a:pt x="15316" y="20504"/>
                </a:cubicBezTo>
                <a:lnTo>
                  <a:pt x="15316" y="15115"/>
                </a:lnTo>
                <a:cubicBezTo>
                  <a:pt x="15316" y="14810"/>
                  <a:pt x="15399" y="14548"/>
                  <a:pt x="15570" y="14334"/>
                </a:cubicBezTo>
                <a:cubicBezTo>
                  <a:pt x="15737" y="14125"/>
                  <a:pt x="15945" y="14019"/>
                  <a:pt x="16197" y="14019"/>
                </a:cubicBezTo>
                <a:lnTo>
                  <a:pt x="17788" y="14019"/>
                </a:lnTo>
                <a:lnTo>
                  <a:pt x="17788" y="11869"/>
                </a:lnTo>
                <a:cubicBezTo>
                  <a:pt x="17788" y="11699"/>
                  <a:pt x="17707" y="11610"/>
                  <a:pt x="17543" y="11602"/>
                </a:cubicBezTo>
                <a:lnTo>
                  <a:pt x="11473" y="11602"/>
                </a:lnTo>
                <a:lnTo>
                  <a:pt x="11473" y="14019"/>
                </a:lnTo>
                <a:lnTo>
                  <a:pt x="13054" y="14019"/>
                </a:lnTo>
                <a:cubicBezTo>
                  <a:pt x="13296" y="14019"/>
                  <a:pt x="13507" y="14125"/>
                  <a:pt x="13681" y="14334"/>
                </a:cubicBezTo>
                <a:cubicBezTo>
                  <a:pt x="13857" y="14548"/>
                  <a:pt x="13945" y="14810"/>
                  <a:pt x="13945" y="15115"/>
                </a:cubicBezTo>
                <a:lnTo>
                  <a:pt x="13945" y="20504"/>
                </a:lnTo>
                <a:cubicBezTo>
                  <a:pt x="13945" y="20815"/>
                  <a:pt x="13857" y="21071"/>
                  <a:pt x="13681" y="21285"/>
                </a:cubicBezTo>
                <a:cubicBezTo>
                  <a:pt x="13507" y="21494"/>
                  <a:pt x="13296" y="21599"/>
                  <a:pt x="13054" y="21599"/>
                </a:cubicBezTo>
                <a:lnTo>
                  <a:pt x="8543" y="21599"/>
                </a:lnTo>
                <a:cubicBezTo>
                  <a:pt x="8298" y="21599"/>
                  <a:pt x="8090" y="21494"/>
                  <a:pt x="7913" y="21285"/>
                </a:cubicBezTo>
                <a:cubicBezTo>
                  <a:pt x="7740" y="21071"/>
                  <a:pt x="7652" y="20815"/>
                  <a:pt x="7652" y="20504"/>
                </a:cubicBezTo>
                <a:lnTo>
                  <a:pt x="7652" y="15115"/>
                </a:lnTo>
                <a:cubicBezTo>
                  <a:pt x="7652" y="14810"/>
                  <a:pt x="7740" y="14548"/>
                  <a:pt x="7913" y="14334"/>
                </a:cubicBezTo>
                <a:cubicBezTo>
                  <a:pt x="8090" y="14125"/>
                  <a:pt x="8298" y="14019"/>
                  <a:pt x="8543" y="14019"/>
                </a:cubicBezTo>
                <a:lnTo>
                  <a:pt x="10124" y="14019"/>
                </a:lnTo>
                <a:lnTo>
                  <a:pt x="10124" y="11602"/>
                </a:lnTo>
                <a:lnTo>
                  <a:pt x="4056" y="11602"/>
                </a:lnTo>
                <a:cubicBezTo>
                  <a:pt x="3901" y="11602"/>
                  <a:pt x="3821" y="11690"/>
                  <a:pt x="3821" y="11869"/>
                </a:cubicBezTo>
                <a:lnTo>
                  <a:pt x="3821" y="14019"/>
                </a:lnTo>
                <a:lnTo>
                  <a:pt x="5402" y="14019"/>
                </a:lnTo>
                <a:cubicBezTo>
                  <a:pt x="5661" y="14019"/>
                  <a:pt x="5874" y="14125"/>
                  <a:pt x="6053" y="14334"/>
                </a:cubicBezTo>
                <a:cubicBezTo>
                  <a:pt x="6229" y="14548"/>
                  <a:pt x="6315" y="14810"/>
                  <a:pt x="6315" y="15115"/>
                </a:cubicBezTo>
                <a:lnTo>
                  <a:pt x="6315" y="20504"/>
                </a:lnTo>
                <a:cubicBezTo>
                  <a:pt x="6315" y="20815"/>
                  <a:pt x="6229" y="21071"/>
                  <a:pt x="6053" y="21285"/>
                </a:cubicBezTo>
                <a:cubicBezTo>
                  <a:pt x="5877" y="21494"/>
                  <a:pt x="5664" y="21600"/>
                  <a:pt x="5402" y="21600"/>
                </a:cubicBezTo>
                <a:lnTo>
                  <a:pt x="913" y="21600"/>
                </a:lnTo>
                <a:cubicBezTo>
                  <a:pt x="658" y="21600"/>
                  <a:pt x="440" y="21494"/>
                  <a:pt x="261" y="21285"/>
                </a:cubicBezTo>
                <a:cubicBezTo>
                  <a:pt x="88" y="21071"/>
                  <a:pt x="0" y="20815"/>
                  <a:pt x="0" y="20504"/>
                </a:cubicBezTo>
                <a:lnTo>
                  <a:pt x="0" y="15115"/>
                </a:lnTo>
                <a:cubicBezTo>
                  <a:pt x="0" y="14810"/>
                  <a:pt x="88" y="14548"/>
                  <a:pt x="261" y="14334"/>
                </a:cubicBezTo>
                <a:cubicBezTo>
                  <a:pt x="438" y="14125"/>
                  <a:pt x="656" y="14019"/>
                  <a:pt x="913" y="14019"/>
                </a:cubicBezTo>
                <a:lnTo>
                  <a:pt x="2472" y="14019"/>
                </a:lnTo>
                <a:lnTo>
                  <a:pt x="2472" y="11869"/>
                </a:lnTo>
                <a:cubicBezTo>
                  <a:pt x="2472" y="11352"/>
                  <a:pt x="2629" y="10911"/>
                  <a:pt x="2942" y="10544"/>
                </a:cubicBezTo>
                <a:cubicBezTo>
                  <a:pt x="3253" y="10180"/>
                  <a:pt x="3622" y="9997"/>
                  <a:pt x="4053" y="9997"/>
                </a:cubicBezTo>
                <a:lnTo>
                  <a:pt x="10121" y="9997"/>
                </a:lnTo>
                <a:lnTo>
                  <a:pt x="10121" y="7550"/>
                </a:lnTo>
                <a:lnTo>
                  <a:pt x="8540" y="7550"/>
                </a:lnTo>
                <a:cubicBezTo>
                  <a:pt x="8295" y="7550"/>
                  <a:pt x="8087" y="7450"/>
                  <a:pt x="7911" y="7247"/>
                </a:cubicBezTo>
                <a:cubicBezTo>
                  <a:pt x="7737" y="7045"/>
                  <a:pt x="7649" y="6789"/>
                  <a:pt x="7649" y="6484"/>
                </a:cubicBezTo>
                <a:lnTo>
                  <a:pt x="7649" y="1066"/>
                </a:lnTo>
                <a:cubicBezTo>
                  <a:pt x="7649" y="775"/>
                  <a:pt x="7737" y="522"/>
                  <a:pt x="7911" y="314"/>
                </a:cubicBezTo>
                <a:cubicBezTo>
                  <a:pt x="8087" y="102"/>
                  <a:pt x="8295" y="0"/>
                  <a:pt x="8540" y="0"/>
                </a:cubicBezTo>
                <a:lnTo>
                  <a:pt x="13052" y="0"/>
                </a:lnTo>
                <a:cubicBezTo>
                  <a:pt x="13294" y="0"/>
                  <a:pt x="13504" y="102"/>
                  <a:pt x="13678" y="314"/>
                </a:cubicBezTo>
                <a:cubicBezTo>
                  <a:pt x="13854" y="522"/>
                  <a:pt x="13943" y="775"/>
                  <a:pt x="13943" y="1066"/>
                </a:cubicBezTo>
                <a:lnTo>
                  <a:pt x="13943" y="6484"/>
                </a:lnTo>
                <a:cubicBezTo>
                  <a:pt x="13943" y="6789"/>
                  <a:pt x="13854" y="7045"/>
                  <a:pt x="13678" y="7247"/>
                </a:cubicBezTo>
                <a:cubicBezTo>
                  <a:pt x="13504" y="7450"/>
                  <a:pt x="13294" y="7550"/>
                  <a:pt x="13052" y="7550"/>
                </a:cubicBezTo>
                <a:lnTo>
                  <a:pt x="11470" y="7550"/>
                </a:lnTo>
                <a:lnTo>
                  <a:pt x="11470" y="9997"/>
                </a:lnTo>
                <a:lnTo>
                  <a:pt x="17541" y="9997"/>
                </a:lnTo>
                <a:cubicBezTo>
                  <a:pt x="17969" y="9997"/>
                  <a:pt x="18339" y="10177"/>
                  <a:pt x="18652" y="10538"/>
                </a:cubicBezTo>
                <a:cubicBezTo>
                  <a:pt x="18966" y="10899"/>
                  <a:pt x="19122" y="11343"/>
                  <a:pt x="19122" y="11869"/>
                </a:cubicBezTo>
                <a:lnTo>
                  <a:pt x="19122" y="14020"/>
                </a:lnTo>
                <a:lnTo>
                  <a:pt x="20708" y="14020"/>
                </a:lnTo>
                <a:lnTo>
                  <a:pt x="20708" y="14019"/>
                </a:lnTo>
                <a:close/>
              </a:path>
            </a:pathLst>
          </a:custGeom>
          <a:solidFill>
            <a:srgbClr val="1d087d"/>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52" name="AutoShape 24"/>
          <p:cNvSpPr/>
          <p:nvPr/>
        </p:nvSpPr>
        <p:spPr>
          <a:xfrm>
            <a:off x="3701880" y="5388120"/>
            <a:ext cx="428760" cy="377640"/>
          </a:xfrm>
          <a:custGeom>
            <a:avLst/>
            <a:gdLst/>
            <a:ahLst/>
            <a:rect l="l" t="t" r="r" b="b"/>
            <a:pathLst>
              <a:path w="21599" h="21600">
                <a:moveTo>
                  <a:pt x="21599" y="8639"/>
                </a:moveTo>
                <a:cubicBezTo>
                  <a:pt x="21599" y="3959"/>
                  <a:pt x="16676" y="0"/>
                  <a:pt x="10800" y="0"/>
                </a:cubicBezTo>
                <a:cubicBezTo>
                  <a:pt x="4764" y="0"/>
                  <a:pt x="0" y="3959"/>
                  <a:pt x="0" y="8639"/>
                </a:cubicBezTo>
                <a:cubicBezTo>
                  <a:pt x="0" y="12059"/>
                  <a:pt x="2382" y="14939"/>
                  <a:pt x="5876" y="16379"/>
                </a:cubicBezTo>
                <a:cubicBezTo>
                  <a:pt x="6035" y="17279"/>
                  <a:pt x="5717" y="19079"/>
                  <a:pt x="3335" y="21600"/>
                </a:cubicBezTo>
                <a:cubicBezTo>
                  <a:pt x="3335" y="21600"/>
                  <a:pt x="8576" y="19979"/>
                  <a:pt x="11435" y="17279"/>
                </a:cubicBezTo>
                <a:cubicBezTo>
                  <a:pt x="17152" y="16919"/>
                  <a:pt x="21599" y="13139"/>
                  <a:pt x="21599" y="8639"/>
                </a:cubicBezTo>
                <a:close/>
              </a:path>
            </a:pathLst>
          </a:custGeom>
          <a:solidFill>
            <a:srgbClr val="f44168"/>
          </a:solidFill>
          <a:ln w="0">
            <a:noFill/>
          </a:ln>
        </p:spPr>
        <p:style>
          <a:lnRef idx="0"/>
          <a:fillRef idx="0"/>
          <a:effectRef idx="0"/>
          <a:fontRef idx="minor"/>
        </p:style>
        <p:txBody>
          <a:bodyPr lIns="45360" rIns="45360" tIns="45360" bIns="45360" anchor="t">
            <a:noAutofit/>
          </a:bodyPr>
          <a:p>
            <a:endParaRPr b="0" lang="en-US" sz="1800" spc="-1" strike="noStrike">
              <a:solidFill>
                <a:srgbClr val="000000"/>
              </a:solidFill>
              <a:latin typeface="Arial"/>
            </a:endParaRPr>
          </a:p>
        </p:txBody>
      </p:sp>
      <p:sp>
        <p:nvSpPr>
          <p:cNvPr id="653" name="AutoShape 25"/>
          <p:cNvSpPr/>
          <p:nvPr/>
        </p:nvSpPr>
        <p:spPr>
          <a:xfrm rot="18558000">
            <a:off x="8937360" y="3622320"/>
            <a:ext cx="2878200" cy="2985840"/>
          </a:xfrm>
          <a:custGeom>
            <a:avLst/>
            <a:gdLst/>
            <a:ahLst/>
            <a:rect l="l" t="t" r="r" b="b"/>
            <a:pathLst>
              <a:path w="21599" h="21599">
                <a:moveTo>
                  <a:pt x="15608" y="8670"/>
                </a:moveTo>
                <a:cubicBezTo>
                  <a:pt x="21599" y="8670"/>
                  <a:pt x="21599" y="8670"/>
                  <a:pt x="21599" y="8670"/>
                </a:cubicBezTo>
                <a:cubicBezTo>
                  <a:pt x="20496" y="4411"/>
                  <a:pt x="16554" y="1064"/>
                  <a:pt x="11982" y="608"/>
                </a:cubicBezTo>
                <a:cubicBezTo>
                  <a:pt x="11667" y="304"/>
                  <a:pt x="11351" y="0"/>
                  <a:pt x="10878" y="0"/>
                </a:cubicBezTo>
                <a:cubicBezTo>
                  <a:pt x="10405" y="0"/>
                  <a:pt x="10090" y="304"/>
                  <a:pt x="9775" y="608"/>
                </a:cubicBezTo>
                <a:cubicBezTo>
                  <a:pt x="5045" y="1064"/>
                  <a:pt x="1103" y="4259"/>
                  <a:pt x="0" y="8670"/>
                </a:cubicBezTo>
                <a:cubicBezTo>
                  <a:pt x="6148" y="8670"/>
                  <a:pt x="6148" y="8670"/>
                  <a:pt x="6148" y="8670"/>
                </a:cubicBezTo>
                <a:cubicBezTo>
                  <a:pt x="6148" y="3650"/>
                  <a:pt x="9144" y="1216"/>
                  <a:pt x="9775" y="760"/>
                </a:cubicBezTo>
                <a:cubicBezTo>
                  <a:pt x="9775" y="760"/>
                  <a:pt x="9775" y="760"/>
                  <a:pt x="9775" y="912"/>
                </a:cubicBezTo>
                <a:cubicBezTo>
                  <a:pt x="6464" y="4867"/>
                  <a:pt x="6937" y="8670"/>
                  <a:pt x="6937" y="8670"/>
                </a:cubicBezTo>
                <a:cubicBezTo>
                  <a:pt x="10090" y="8670"/>
                  <a:pt x="10090" y="8670"/>
                  <a:pt x="10090" y="8670"/>
                </a:cubicBezTo>
                <a:cubicBezTo>
                  <a:pt x="10090" y="18709"/>
                  <a:pt x="10090" y="18709"/>
                  <a:pt x="10090" y="18709"/>
                </a:cubicBezTo>
                <a:cubicBezTo>
                  <a:pt x="10090" y="19014"/>
                  <a:pt x="10090" y="19014"/>
                  <a:pt x="10090" y="19014"/>
                </a:cubicBezTo>
                <a:cubicBezTo>
                  <a:pt x="10090" y="19774"/>
                  <a:pt x="10090" y="19774"/>
                  <a:pt x="10090" y="19774"/>
                </a:cubicBezTo>
                <a:cubicBezTo>
                  <a:pt x="10090" y="20839"/>
                  <a:pt x="10878" y="21599"/>
                  <a:pt x="11982" y="21599"/>
                </a:cubicBezTo>
                <a:cubicBezTo>
                  <a:pt x="12928" y="21599"/>
                  <a:pt x="13874" y="20839"/>
                  <a:pt x="13874" y="19774"/>
                </a:cubicBezTo>
                <a:cubicBezTo>
                  <a:pt x="13874" y="19014"/>
                  <a:pt x="13874" y="19014"/>
                  <a:pt x="13874" y="19014"/>
                </a:cubicBezTo>
                <a:cubicBezTo>
                  <a:pt x="12455" y="19014"/>
                  <a:pt x="12455" y="19014"/>
                  <a:pt x="12455" y="19014"/>
                </a:cubicBezTo>
                <a:cubicBezTo>
                  <a:pt x="12455" y="19318"/>
                  <a:pt x="12455" y="19318"/>
                  <a:pt x="12455" y="19318"/>
                </a:cubicBezTo>
                <a:cubicBezTo>
                  <a:pt x="12455" y="19774"/>
                  <a:pt x="12455" y="19774"/>
                  <a:pt x="12455" y="19774"/>
                </a:cubicBezTo>
                <a:cubicBezTo>
                  <a:pt x="12455" y="20078"/>
                  <a:pt x="12297" y="20383"/>
                  <a:pt x="11982" y="20383"/>
                </a:cubicBezTo>
                <a:cubicBezTo>
                  <a:pt x="11667" y="20383"/>
                  <a:pt x="11351" y="20078"/>
                  <a:pt x="11351" y="19774"/>
                </a:cubicBezTo>
                <a:cubicBezTo>
                  <a:pt x="11351" y="19318"/>
                  <a:pt x="11351" y="19318"/>
                  <a:pt x="11351" y="19318"/>
                </a:cubicBezTo>
                <a:cubicBezTo>
                  <a:pt x="11351" y="19014"/>
                  <a:pt x="11351" y="19014"/>
                  <a:pt x="11351" y="19014"/>
                </a:cubicBezTo>
                <a:cubicBezTo>
                  <a:pt x="11351" y="17036"/>
                  <a:pt x="11351" y="17036"/>
                  <a:pt x="11351" y="17036"/>
                </a:cubicBezTo>
                <a:cubicBezTo>
                  <a:pt x="11351" y="8670"/>
                  <a:pt x="11351" y="8670"/>
                  <a:pt x="11351" y="8670"/>
                </a:cubicBezTo>
                <a:cubicBezTo>
                  <a:pt x="14820" y="8670"/>
                  <a:pt x="14820" y="8670"/>
                  <a:pt x="14820" y="8670"/>
                </a:cubicBezTo>
                <a:cubicBezTo>
                  <a:pt x="14820" y="8670"/>
                  <a:pt x="15293" y="4867"/>
                  <a:pt x="11982" y="912"/>
                </a:cubicBezTo>
                <a:cubicBezTo>
                  <a:pt x="11982" y="760"/>
                  <a:pt x="11982" y="760"/>
                  <a:pt x="11982" y="760"/>
                </a:cubicBezTo>
                <a:cubicBezTo>
                  <a:pt x="12613" y="1216"/>
                  <a:pt x="15608" y="3650"/>
                  <a:pt x="15608" y="8670"/>
                </a:cubicBezTo>
                <a:close/>
              </a:path>
            </a:pathLst>
          </a:custGeom>
          <a:solidFill>
            <a:srgbClr val="1d087d"/>
          </a:solidFill>
          <a:ln w="0">
            <a:noFill/>
          </a:ln>
        </p:spPr>
        <p:style>
          <a:lnRef idx="0"/>
          <a:fillRef idx="0"/>
          <a:effectRef idx="0"/>
          <a:fontRef idx="minor"/>
        </p:style>
        <p:txBody>
          <a:bodyPr lIns="45360" rIns="45360" tIns="45360" bIns="45360" anchor="t">
            <a:noAutofit/>
          </a:bodyPr>
          <a:p>
            <a:endParaRPr b="0" lang="en-US" sz="1800" spc="-1" strike="noStrike">
              <a:solidFill>
                <a:srgbClr val="000000"/>
              </a:solidFill>
              <a:latin typeface="Arial"/>
            </a:endParaRPr>
          </a:p>
        </p:txBody>
      </p:sp>
      <p:sp>
        <p:nvSpPr>
          <p:cNvPr id="654" name="文本框 101"/>
          <p:cNvSpPr/>
          <p:nvPr/>
        </p:nvSpPr>
        <p:spPr>
          <a:xfrm>
            <a:off x="2486880" y="2001960"/>
            <a:ext cx="25524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解决方法一</a:t>
            </a:r>
            <a:endParaRPr b="0" lang="en-US" sz="2000" spc="-1" strike="noStrike">
              <a:solidFill>
                <a:srgbClr val="000000"/>
              </a:solidFill>
              <a:latin typeface="Arial"/>
            </a:endParaRPr>
          </a:p>
        </p:txBody>
      </p:sp>
      <p:sp>
        <p:nvSpPr>
          <p:cNvPr id="655" name="TextBox 13"/>
          <p:cNvSpPr/>
          <p:nvPr/>
        </p:nvSpPr>
        <p:spPr>
          <a:xfrm>
            <a:off x="1353960" y="2344680"/>
            <a:ext cx="19018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656" name="文本框 106"/>
          <p:cNvSpPr/>
          <p:nvPr/>
        </p:nvSpPr>
        <p:spPr>
          <a:xfrm>
            <a:off x="2486880" y="2844720"/>
            <a:ext cx="25524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解决方法一</a:t>
            </a:r>
            <a:endParaRPr b="0" lang="en-US" sz="2000" spc="-1" strike="noStrike">
              <a:solidFill>
                <a:srgbClr val="000000"/>
              </a:solidFill>
              <a:latin typeface="Arial"/>
            </a:endParaRPr>
          </a:p>
        </p:txBody>
      </p:sp>
      <p:sp>
        <p:nvSpPr>
          <p:cNvPr id="657" name="TextBox 13"/>
          <p:cNvSpPr/>
          <p:nvPr/>
        </p:nvSpPr>
        <p:spPr>
          <a:xfrm>
            <a:off x="1353960" y="3187800"/>
            <a:ext cx="19018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658" name="文本框 108"/>
          <p:cNvSpPr/>
          <p:nvPr/>
        </p:nvSpPr>
        <p:spPr>
          <a:xfrm>
            <a:off x="2486880" y="3700440"/>
            <a:ext cx="25524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解决方法一</a:t>
            </a:r>
            <a:endParaRPr b="0" lang="en-US" sz="2000" spc="-1" strike="noStrike">
              <a:solidFill>
                <a:srgbClr val="000000"/>
              </a:solidFill>
              <a:latin typeface="Arial"/>
            </a:endParaRPr>
          </a:p>
        </p:txBody>
      </p:sp>
      <p:sp>
        <p:nvSpPr>
          <p:cNvPr id="659" name="TextBox 13"/>
          <p:cNvSpPr/>
          <p:nvPr/>
        </p:nvSpPr>
        <p:spPr>
          <a:xfrm>
            <a:off x="1353960" y="4041720"/>
            <a:ext cx="19018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660" name="文本框 110"/>
          <p:cNvSpPr/>
          <p:nvPr/>
        </p:nvSpPr>
        <p:spPr>
          <a:xfrm>
            <a:off x="2486880" y="4478400"/>
            <a:ext cx="25524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解决方法一</a:t>
            </a:r>
            <a:endParaRPr b="0" lang="en-US" sz="2000" spc="-1" strike="noStrike">
              <a:solidFill>
                <a:srgbClr val="000000"/>
              </a:solidFill>
              <a:latin typeface="Arial"/>
            </a:endParaRPr>
          </a:p>
        </p:txBody>
      </p:sp>
      <p:sp>
        <p:nvSpPr>
          <p:cNvPr id="661" name="TextBox 13"/>
          <p:cNvSpPr/>
          <p:nvPr/>
        </p:nvSpPr>
        <p:spPr>
          <a:xfrm>
            <a:off x="1353960" y="4819680"/>
            <a:ext cx="19018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662" name="文本框 112"/>
          <p:cNvSpPr/>
          <p:nvPr/>
        </p:nvSpPr>
        <p:spPr>
          <a:xfrm>
            <a:off x="2486880" y="5324400"/>
            <a:ext cx="25524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解决方法一</a:t>
            </a:r>
            <a:endParaRPr b="0" lang="en-US" sz="2000" spc="-1" strike="noStrike">
              <a:solidFill>
                <a:srgbClr val="000000"/>
              </a:solidFill>
              <a:latin typeface="Arial"/>
            </a:endParaRPr>
          </a:p>
        </p:txBody>
      </p:sp>
      <p:sp>
        <p:nvSpPr>
          <p:cNvPr id="663" name="TextBox 13"/>
          <p:cNvSpPr/>
          <p:nvPr/>
        </p:nvSpPr>
        <p:spPr>
          <a:xfrm>
            <a:off x="1353960" y="5667480"/>
            <a:ext cx="19018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664" name="文本框 35"/>
          <p:cNvSpPr/>
          <p:nvPr/>
        </p:nvSpPr>
        <p:spPr>
          <a:xfrm>
            <a:off x="711360" y="295200"/>
            <a:ext cx="300960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解决方法</a:t>
            </a:r>
            <a:endParaRPr b="0" lang="en-US" sz="2500" spc="-1" strike="noStrike">
              <a:solidFill>
                <a:srgbClr val="000000"/>
              </a:solidFill>
              <a:latin typeface="Arial"/>
            </a:endParaRPr>
          </a:p>
        </p:txBody>
      </p:sp>
      <p:sp>
        <p:nvSpPr>
          <p:cNvPr id="665" name="椭圆 36"/>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Shape 10"/>
          <p:cNvSpPr/>
          <p:nvPr/>
        </p:nvSpPr>
        <p:spPr>
          <a:xfrm>
            <a:off x="2306520" y="1523880"/>
            <a:ext cx="6610320" cy="4130640"/>
          </a:xfrm>
          <a:custGeom>
            <a:avLst/>
            <a:gdLst/>
            <a:ahLst/>
            <a:rect l="l" t="t" r="r" b="b"/>
            <a:pathLst>
              <a:path w="6609052" h="4130657">
                <a:moveTo>
                  <a:pt x="0" y="4130657"/>
                </a:moveTo>
                <a:cubicBezTo>
                  <a:pt x="734339" y="2294810"/>
                  <a:pt x="2593135" y="1090035"/>
                  <a:pt x="5576388" y="516332"/>
                </a:cubicBezTo>
                <a:lnTo>
                  <a:pt x="5518211" y="0"/>
                </a:lnTo>
                <a:lnTo>
                  <a:pt x="6609052" y="826131"/>
                </a:lnTo>
                <a:lnTo>
                  <a:pt x="5750918" y="2065329"/>
                </a:lnTo>
                <a:lnTo>
                  <a:pt x="5692741" y="1548996"/>
                </a:lnTo>
                <a:cubicBezTo>
                  <a:pt x="2999089" y="1778477"/>
                  <a:pt x="1101509" y="2639031"/>
                  <a:pt x="0" y="4130657"/>
                </a:cubicBez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Oval 13"/>
          <p:cNvSpPr/>
          <p:nvPr/>
        </p:nvSpPr>
        <p:spPr>
          <a:xfrm>
            <a:off x="3459240" y="3983040"/>
            <a:ext cx="309600" cy="311040"/>
          </a:xfrm>
          <a:prstGeom prst="ellipse">
            <a:avLst/>
          </a:prstGeom>
          <a:solidFill>
            <a:srgbClr val="1d087d"/>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Oval 15"/>
          <p:cNvSpPr/>
          <p:nvPr/>
        </p:nvSpPr>
        <p:spPr>
          <a:xfrm>
            <a:off x="4900680" y="3076560"/>
            <a:ext cx="430200" cy="430200"/>
          </a:xfrm>
          <a:prstGeom prst="ellipse">
            <a:avLst/>
          </a:prstGeom>
          <a:solidFill>
            <a:srgbClr val="1d087d"/>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Oval 17"/>
          <p:cNvSpPr/>
          <p:nvPr/>
        </p:nvSpPr>
        <p:spPr>
          <a:xfrm>
            <a:off x="6480000" y="2438280"/>
            <a:ext cx="644760" cy="644760"/>
          </a:xfrm>
          <a:prstGeom prst="ellipse">
            <a:avLst/>
          </a:prstGeom>
          <a:solidFill>
            <a:srgbClr val="1d087d"/>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Oval 46"/>
          <p:cNvSpPr/>
          <p:nvPr/>
        </p:nvSpPr>
        <p:spPr>
          <a:xfrm>
            <a:off x="8450280" y="1841400"/>
            <a:ext cx="1050840" cy="1051200"/>
          </a:xfrm>
          <a:prstGeom prst="ellipse">
            <a:avLst/>
          </a:prstGeom>
          <a:solidFill>
            <a:srgbClr val="1d087d"/>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Freeform 372"/>
          <p:cNvSpPr/>
          <p:nvPr/>
        </p:nvSpPr>
        <p:spPr>
          <a:xfrm>
            <a:off x="8758080" y="2149560"/>
            <a:ext cx="433440" cy="433440"/>
          </a:xfrm>
          <a:custGeom>
            <a:avLst/>
            <a:gdLst/>
            <a:ahLst/>
            <a:rect l="l" t="t" r="r" b="b"/>
            <a:pathLst>
              <a:path w="288" h="288">
                <a:moveTo>
                  <a:pt x="282" y="54"/>
                </a:moveTo>
                <a:cubicBezTo>
                  <a:pt x="255" y="81"/>
                  <a:pt x="259" y="79"/>
                  <a:pt x="243" y="79"/>
                </a:cubicBezTo>
                <a:cubicBezTo>
                  <a:pt x="230" y="79"/>
                  <a:pt x="209" y="58"/>
                  <a:pt x="209" y="45"/>
                </a:cubicBezTo>
                <a:cubicBezTo>
                  <a:pt x="209" y="28"/>
                  <a:pt x="206" y="33"/>
                  <a:pt x="233" y="6"/>
                </a:cubicBezTo>
                <a:cubicBezTo>
                  <a:pt x="231" y="4"/>
                  <a:pt x="227" y="0"/>
                  <a:pt x="227" y="0"/>
                </a:cubicBezTo>
                <a:cubicBezTo>
                  <a:pt x="194" y="1"/>
                  <a:pt x="162" y="32"/>
                  <a:pt x="162" y="65"/>
                </a:cubicBezTo>
                <a:cubicBezTo>
                  <a:pt x="162" y="71"/>
                  <a:pt x="164" y="78"/>
                  <a:pt x="167" y="85"/>
                </a:cubicBezTo>
                <a:cubicBezTo>
                  <a:pt x="84" y="168"/>
                  <a:pt x="84" y="168"/>
                  <a:pt x="84" y="168"/>
                </a:cubicBezTo>
                <a:cubicBezTo>
                  <a:pt x="78" y="164"/>
                  <a:pt x="71" y="162"/>
                  <a:pt x="65" y="162"/>
                </a:cubicBezTo>
                <a:cubicBezTo>
                  <a:pt x="32" y="162"/>
                  <a:pt x="0" y="194"/>
                  <a:pt x="0" y="228"/>
                </a:cubicBezTo>
                <a:cubicBezTo>
                  <a:pt x="0" y="228"/>
                  <a:pt x="4" y="231"/>
                  <a:pt x="6" y="234"/>
                </a:cubicBezTo>
                <a:cubicBezTo>
                  <a:pt x="33" y="207"/>
                  <a:pt x="28" y="209"/>
                  <a:pt x="45" y="209"/>
                </a:cubicBezTo>
                <a:cubicBezTo>
                  <a:pt x="58" y="209"/>
                  <a:pt x="79" y="230"/>
                  <a:pt x="79" y="243"/>
                </a:cubicBezTo>
                <a:cubicBezTo>
                  <a:pt x="79" y="260"/>
                  <a:pt x="82" y="255"/>
                  <a:pt x="54" y="282"/>
                </a:cubicBezTo>
                <a:cubicBezTo>
                  <a:pt x="56" y="284"/>
                  <a:pt x="60" y="288"/>
                  <a:pt x="60" y="288"/>
                </a:cubicBezTo>
                <a:cubicBezTo>
                  <a:pt x="94" y="287"/>
                  <a:pt x="125" y="256"/>
                  <a:pt x="125" y="223"/>
                </a:cubicBezTo>
                <a:cubicBezTo>
                  <a:pt x="125" y="217"/>
                  <a:pt x="123" y="210"/>
                  <a:pt x="120" y="204"/>
                </a:cubicBezTo>
                <a:cubicBezTo>
                  <a:pt x="204" y="120"/>
                  <a:pt x="204" y="120"/>
                  <a:pt x="204" y="120"/>
                </a:cubicBezTo>
                <a:cubicBezTo>
                  <a:pt x="210" y="124"/>
                  <a:pt x="216" y="126"/>
                  <a:pt x="222" y="126"/>
                </a:cubicBezTo>
                <a:cubicBezTo>
                  <a:pt x="256" y="126"/>
                  <a:pt x="288" y="94"/>
                  <a:pt x="287" y="60"/>
                </a:cubicBezTo>
                <a:cubicBezTo>
                  <a:pt x="287" y="60"/>
                  <a:pt x="284" y="56"/>
                  <a:pt x="282" y="5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TextBox 13"/>
          <p:cNvSpPr/>
          <p:nvPr/>
        </p:nvSpPr>
        <p:spPr>
          <a:xfrm>
            <a:off x="4130640" y="2193840"/>
            <a:ext cx="18604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445469"/>
                </a:solidFill>
                <a:latin typeface="Arial"/>
                <a:ea typeface="微软雅黑"/>
              </a:rPr>
              <a:t>单击此处可编辑内容</a:t>
            </a:r>
            <a:endParaRPr b="0" lang="en-US" sz="1400" spc="-1" strike="noStrike">
              <a:solidFill>
                <a:srgbClr val="000000"/>
              </a:solidFill>
              <a:latin typeface="Arial"/>
            </a:endParaRPr>
          </a:p>
        </p:txBody>
      </p:sp>
      <p:sp>
        <p:nvSpPr>
          <p:cNvPr id="673" name="文本框 14"/>
          <p:cNvSpPr/>
          <p:nvPr/>
        </p:nvSpPr>
        <p:spPr>
          <a:xfrm>
            <a:off x="4339080" y="186696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计划进度</a:t>
            </a:r>
            <a:endParaRPr b="0" lang="en-US" sz="2000" spc="-1" strike="noStrike">
              <a:solidFill>
                <a:srgbClr val="000000"/>
              </a:solidFill>
              <a:latin typeface="Arial"/>
            </a:endParaRPr>
          </a:p>
        </p:txBody>
      </p:sp>
      <p:sp>
        <p:nvSpPr>
          <p:cNvPr id="674" name="Oval 15"/>
          <p:cNvSpPr/>
          <p:nvPr/>
        </p:nvSpPr>
        <p:spPr>
          <a:xfrm>
            <a:off x="2514600" y="5021280"/>
            <a:ext cx="262080" cy="262080"/>
          </a:xfrm>
          <a:prstGeom prst="ellipse">
            <a:avLst/>
          </a:prstGeom>
          <a:solidFill>
            <a:srgbClr val="1d087d"/>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TextBox 13"/>
          <p:cNvSpPr/>
          <p:nvPr/>
        </p:nvSpPr>
        <p:spPr>
          <a:xfrm>
            <a:off x="6138720" y="3755880"/>
            <a:ext cx="186084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445469"/>
                </a:solidFill>
                <a:latin typeface="Arial"/>
                <a:ea typeface="微软雅黑"/>
              </a:rPr>
              <a:t>单击此处可编辑内容</a:t>
            </a:r>
            <a:endParaRPr b="0" lang="en-US" sz="1400" spc="-1" strike="noStrike">
              <a:solidFill>
                <a:srgbClr val="000000"/>
              </a:solidFill>
              <a:latin typeface="Arial"/>
            </a:endParaRPr>
          </a:p>
        </p:txBody>
      </p:sp>
      <p:sp>
        <p:nvSpPr>
          <p:cNvPr id="676" name="文本框 17"/>
          <p:cNvSpPr/>
          <p:nvPr/>
        </p:nvSpPr>
        <p:spPr>
          <a:xfrm>
            <a:off x="6346440" y="342900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计划进度</a:t>
            </a:r>
            <a:endParaRPr b="0" lang="en-US" sz="2000" spc="-1" strike="noStrike">
              <a:solidFill>
                <a:srgbClr val="000000"/>
              </a:solidFill>
              <a:latin typeface="Arial"/>
            </a:endParaRPr>
          </a:p>
        </p:txBody>
      </p:sp>
      <p:sp>
        <p:nvSpPr>
          <p:cNvPr id="677" name="TextBox 13"/>
          <p:cNvSpPr/>
          <p:nvPr/>
        </p:nvSpPr>
        <p:spPr>
          <a:xfrm>
            <a:off x="2027160" y="3602160"/>
            <a:ext cx="18604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445469"/>
                </a:solidFill>
                <a:latin typeface="Arial"/>
                <a:ea typeface="微软雅黑"/>
              </a:rPr>
              <a:t>单击此处可编辑内容</a:t>
            </a:r>
            <a:endParaRPr b="0" lang="en-US" sz="1400" spc="-1" strike="noStrike">
              <a:solidFill>
                <a:srgbClr val="000000"/>
              </a:solidFill>
              <a:latin typeface="Arial"/>
            </a:endParaRPr>
          </a:p>
        </p:txBody>
      </p:sp>
      <p:sp>
        <p:nvSpPr>
          <p:cNvPr id="678" name="文本框 19"/>
          <p:cNvSpPr/>
          <p:nvPr/>
        </p:nvSpPr>
        <p:spPr>
          <a:xfrm>
            <a:off x="2234880" y="327492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计划进度</a:t>
            </a:r>
            <a:endParaRPr b="0" lang="en-US" sz="2000" spc="-1" strike="noStrike">
              <a:solidFill>
                <a:srgbClr val="000000"/>
              </a:solidFill>
              <a:latin typeface="Arial"/>
            </a:endParaRPr>
          </a:p>
        </p:txBody>
      </p:sp>
      <p:sp>
        <p:nvSpPr>
          <p:cNvPr id="679" name="TextBox 13"/>
          <p:cNvSpPr/>
          <p:nvPr/>
        </p:nvSpPr>
        <p:spPr>
          <a:xfrm>
            <a:off x="3000240" y="5456160"/>
            <a:ext cx="185904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445469"/>
                </a:solidFill>
                <a:latin typeface="Arial"/>
                <a:ea typeface="微软雅黑"/>
              </a:rPr>
              <a:t>单击此处可编辑内容</a:t>
            </a:r>
            <a:endParaRPr b="0" lang="en-US" sz="1400" spc="-1" strike="noStrike">
              <a:solidFill>
                <a:srgbClr val="000000"/>
              </a:solidFill>
              <a:latin typeface="Arial"/>
            </a:endParaRPr>
          </a:p>
        </p:txBody>
      </p:sp>
      <p:sp>
        <p:nvSpPr>
          <p:cNvPr id="680" name="文本框 21"/>
          <p:cNvSpPr/>
          <p:nvPr/>
        </p:nvSpPr>
        <p:spPr>
          <a:xfrm>
            <a:off x="3207960" y="512928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计划进度</a:t>
            </a:r>
            <a:endParaRPr b="0" lang="en-US" sz="2000" spc="-1" strike="noStrike">
              <a:solidFill>
                <a:srgbClr val="000000"/>
              </a:solidFill>
              <a:latin typeface="Arial"/>
            </a:endParaRPr>
          </a:p>
        </p:txBody>
      </p:sp>
      <p:sp>
        <p:nvSpPr>
          <p:cNvPr id="681" name="TextBox 13"/>
          <p:cNvSpPr/>
          <p:nvPr/>
        </p:nvSpPr>
        <p:spPr>
          <a:xfrm>
            <a:off x="9759960" y="2427120"/>
            <a:ext cx="18604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445469"/>
                </a:solidFill>
                <a:latin typeface="Arial"/>
                <a:ea typeface="微软雅黑"/>
              </a:rPr>
              <a:t>单击此处可编辑内容</a:t>
            </a:r>
            <a:endParaRPr b="0" lang="en-US" sz="1400" spc="-1" strike="noStrike">
              <a:solidFill>
                <a:srgbClr val="000000"/>
              </a:solidFill>
              <a:latin typeface="Arial"/>
            </a:endParaRPr>
          </a:p>
        </p:txBody>
      </p:sp>
      <p:sp>
        <p:nvSpPr>
          <p:cNvPr id="682" name="文本框 23"/>
          <p:cNvSpPr/>
          <p:nvPr/>
        </p:nvSpPr>
        <p:spPr>
          <a:xfrm>
            <a:off x="9967680" y="210168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计划进度</a:t>
            </a:r>
            <a:endParaRPr b="0" lang="en-US" sz="2000" spc="-1" strike="noStrike">
              <a:solidFill>
                <a:srgbClr val="000000"/>
              </a:solidFill>
              <a:latin typeface="Arial"/>
            </a:endParaRPr>
          </a:p>
        </p:txBody>
      </p:sp>
      <p:sp>
        <p:nvSpPr>
          <p:cNvPr id="683" name="文本框 26"/>
          <p:cNvSpPr/>
          <p:nvPr/>
        </p:nvSpPr>
        <p:spPr>
          <a:xfrm>
            <a:off x="711360" y="295200"/>
            <a:ext cx="300960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财务计划</a:t>
            </a:r>
            <a:endParaRPr b="0" lang="en-US" sz="2500" spc="-1" strike="noStrike">
              <a:solidFill>
                <a:srgbClr val="000000"/>
              </a:solidFill>
              <a:latin typeface="Arial"/>
            </a:endParaRPr>
          </a:p>
        </p:txBody>
      </p:sp>
      <p:sp>
        <p:nvSpPr>
          <p:cNvPr id="684" name="椭圆 27"/>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Oval 11"/>
          <p:cNvSpPr/>
          <p:nvPr/>
        </p:nvSpPr>
        <p:spPr>
          <a:xfrm>
            <a:off x="5699160" y="4451400"/>
            <a:ext cx="774720" cy="39060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Oval 13"/>
          <p:cNvSpPr/>
          <p:nvPr/>
        </p:nvSpPr>
        <p:spPr>
          <a:xfrm>
            <a:off x="4468680" y="3832200"/>
            <a:ext cx="3246480" cy="1631880"/>
          </a:xfrm>
          <a:prstGeom prst="ellipse">
            <a:avLst/>
          </a:prstGeom>
          <a:noFill/>
          <a:ln w="12600">
            <a:solidFill>
              <a:srgbClr val="f44168"/>
            </a:solidFill>
            <a:prstDash val="lg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Oval 14"/>
          <p:cNvSpPr/>
          <p:nvPr/>
        </p:nvSpPr>
        <p:spPr>
          <a:xfrm>
            <a:off x="4406760" y="4611600"/>
            <a:ext cx="136800" cy="77760"/>
          </a:xfrm>
          <a:prstGeom prst="ellipse">
            <a:avLst/>
          </a:prstGeom>
          <a:solidFill>
            <a:srgbClr val="f44168"/>
          </a:solidFill>
          <a:ln w="12600">
            <a:solidFill>
              <a:srgbClr val="f44168"/>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Oval 15"/>
          <p:cNvSpPr/>
          <p:nvPr/>
        </p:nvSpPr>
        <p:spPr>
          <a:xfrm>
            <a:off x="7655040" y="4611600"/>
            <a:ext cx="135000" cy="77760"/>
          </a:xfrm>
          <a:prstGeom prst="ellipse">
            <a:avLst/>
          </a:prstGeom>
          <a:solidFill>
            <a:srgbClr val="f44168"/>
          </a:solidFill>
          <a:ln w="12600">
            <a:solidFill>
              <a:srgbClr val="f44168"/>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Oval 16"/>
          <p:cNvSpPr/>
          <p:nvPr/>
        </p:nvSpPr>
        <p:spPr>
          <a:xfrm>
            <a:off x="6837480" y="3903840"/>
            <a:ext cx="135000" cy="77760"/>
          </a:xfrm>
          <a:prstGeom prst="ellipse">
            <a:avLst/>
          </a:prstGeom>
          <a:solidFill>
            <a:srgbClr val="f44168"/>
          </a:solidFill>
          <a:ln w="12600">
            <a:solidFill>
              <a:srgbClr val="f44168"/>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Oval 17"/>
          <p:cNvSpPr/>
          <p:nvPr/>
        </p:nvSpPr>
        <p:spPr>
          <a:xfrm>
            <a:off x="5226120" y="3903840"/>
            <a:ext cx="136440" cy="77760"/>
          </a:xfrm>
          <a:prstGeom prst="ellipse">
            <a:avLst/>
          </a:prstGeom>
          <a:solidFill>
            <a:srgbClr val="f44168"/>
          </a:solidFill>
          <a:ln w="12600">
            <a:solidFill>
              <a:srgbClr val="f44168"/>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Oval 18"/>
          <p:cNvSpPr/>
          <p:nvPr/>
        </p:nvSpPr>
        <p:spPr>
          <a:xfrm>
            <a:off x="6837480" y="5321160"/>
            <a:ext cx="135000" cy="77760"/>
          </a:xfrm>
          <a:prstGeom prst="ellipse">
            <a:avLst/>
          </a:prstGeom>
          <a:solidFill>
            <a:srgbClr val="f44168"/>
          </a:solidFill>
          <a:ln w="12600">
            <a:solidFill>
              <a:srgbClr val="f44168"/>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Oval 19"/>
          <p:cNvSpPr/>
          <p:nvPr/>
        </p:nvSpPr>
        <p:spPr>
          <a:xfrm>
            <a:off x="5226120" y="5321160"/>
            <a:ext cx="136440" cy="77760"/>
          </a:xfrm>
          <a:prstGeom prst="ellipse">
            <a:avLst/>
          </a:prstGeom>
          <a:solidFill>
            <a:srgbClr val="f44168"/>
          </a:solidFill>
          <a:ln w="12600">
            <a:solidFill>
              <a:srgbClr val="f44168"/>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Oval 55"/>
          <p:cNvSpPr/>
          <p:nvPr/>
        </p:nvSpPr>
        <p:spPr>
          <a:xfrm flipH="1">
            <a:off x="4046400" y="1927080"/>
            <a:ext cx="549360" cy="54792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61"/>
          <p:cNvSpPr/>
          <p:nvPr/>
        </p:nvSpPr>
        <p:spPr>
          <a:xfrm>
            <a:off x="4137120" y="2052720"/>
            <a:ext cx="377640" cy="296640"/>
          </a:xfrm>
          <a:custGeom>
            <a:avLst/>
            <a:gdLst/>
            <a:ahLst/>
            <a:rect l="l" t="t" r="r" b="b"/>
            <a:pathLst>
              <a:path w="106" h="83">
                <a:moveTo>
                  <a:pt x="19" y="26"/>
                </a:moveTo>
                <a:cubicBezTo>
                  <a:pt x="50" y="11"/>
                  <a:pt x="50" y="11"/>
                  <a:pt x="50" y="11"/>
                </a:cubicBezTo>
                <a:cubicBezTo>
                  <a:pt x="50" y="11"/>
                  <a:pt x="51" y="11"/>
                  <a:pt x="51" y="11"/>
                </a:cubicBezTo>
                <a:cubicBezTo>
                  <a:pt x="51" y="11"/>
                  <a:pt x="51" y="11"/>
                  <a:pt x="51" y="11"/>
                </a:cubicBezTo>
                <a:cubicBezTo>
                  <a:pt x="51" y="42"/>
                  <a:pt x="51" y="42"/>
                  <a:pt x="51" y="42"/>
                </a:cubicBezTo>
                <a:cubicBezTo>
                  <a:pt x="51" y="42"/>
                  <a:pt x="51" y="43"/>
                  <a:pt x="51" y="43"/>
                </a:cubicBezTo>
                <a:cubicBezTo>
                  <a:pt x="51" y="43"/>
                  <a:pt x="50" y="43"/>
                  <a:pt x="50" y="43"/>
                </a:cubicBezTo>
                <a:cubicBezTo>
                  <a:pt x="19" y="27"/>
                  <a:pt x="19" y="27"/>
                  <a:pt x="19" y="27"/>
                </a:cubicBezTo>
                <a:cubicBezTo>
                  <a:pt x="19" y="27"/>
                  <a:pt x="19" y="27"/>
                  <a:pt x="19" y="27"/>
                </a:cubicBezTo>
                <a:cubicBezTo>
                  <a:pt x="19" y="26"/>
                  <a:pt x="19" y="26"/>
                  <a:pt x="19" y="26"/>
                </a:cubicBezTo>
                <a:close/>
                <a:moveTo>
                  <a:pt x="55" y="11"/>
                </a:moveTo>
                <a:cubicBezTo>
                  <a:pt x="55" y="42"/>
                  <a:pt x="55" y="42"/>
                  <a:pt x="55" y="42"/>
                </a:cubicBezTo>
                <a:cubicBezTo>
                  <a:pt x="55" y="42"/>
                  <a:pt x="55" y="43"/>
                  <a:pt x="55" y="43"/>
                </a:cubicBezTo>
                <a:cubicBezTo>
                  <a:pt x="55" y="43"/>
                  <a:pt x="56" y="43"/>
                  <a:pt x="56" y="43"/>
                </a:cubicBezTo>
                <a:cubicBezTo>
                  <a:pt x="87" y="27"/>
                  <a:pt x="87" y="27"/>
                  <a:pt x="87" y="27"/>
                </a:cubicBezTo>
                <a:cubicBezTo>
                  <a:pt x="87" y="27"/>
                  <a:pt x="87" y="27"/>
                  <a:pt x="87" y="27"/>
                </a:cubicBezTo>
                <a:cubicBezTo>
                  <a:pt x="87" y="26"/>
                  <a:pt x="87" y="26"/>
                  <a:pt x="87" y="26"/>
                </a:cubicBezTo>
                <a:cubicBezTo>
                  <a:pt x="56" y="11"/>
                  <a:pt x="56" y="11"/>
                  <a:pt x="56" y="11"/>
                </a:cubicBezTo>
                <a:cubicBezTo>
                  <a:pt x="56" y="11"/>
                  <a:pt x="55" y="11"/>
                  <a:pt x="55" y="11"/>
                </a:cubicBezTo>
                <a:cubicBezTo>
                  <a:pt x="55" y="11"/>
                  <a:pt x="55" y="11"/>
                  <a:pt x="55" y="11"/>
                </a:cubicBezTo>
                <a:close/>
                <a:moveTo>
                  <a:pt x="48" y="45"/>
                </a:moveTo>
                <a:cubicBezTo>
                  <a:pt x="15" y="29"/>
                  <a:pt x="15" y="29"/>
                  <a:pt x="15" y="29"/>
                </a:cubicBezTo>
                <a:cubicBezTo>
                  <a:pt x="15" y="29"/>
                  <a:pt x="15" y="29"/>
                  <a:pt x="14" y="29"/>
                </a:cubicBezTo>
                <a:cubicBezTo>
                  <a:pt x="1" y="35"/>
                  <a:pt x="1" y="35"/>
                  <a:pt x="1" y="35"/>
                </a:cubicBezTo>
                <a:cubicBezTo>
                  <a:pt x="1" y="36"/>
                  <a:pt x="0" y="36"/>
                  <a:pt x="0" y="36"/>
                </a:cubicBezTo>
                <a:cubicBezTo>
                  <a:pt x="0" y="37"/>
                  <a:pt x="1" y="37"/>
                  <a:pt x="1" y="37"/>
                </a:cubicBezTo>
                <a:cubicBezTo>
                  <a:pt x="33" y="53"/>
                  <a:pt x="33" y="53"/>
                  <a:pt x="33" y="53"/>
                </a:cubicBezTo>
                <a:cubicBezTo>
                  <a:pt x="34" y="54"/>
                  <a:pt x="34" y="54"/>
                  <a:pt x="34" y="53"/>
                </a:cubicBezTo>
                <a:cubicBezTo>
                  <a:pt x="48" y="47"/>
                  <a:pt x="48" y="47"/>
                  <a:pt x="48" y="47"/>
                </a:cubicBezTo>
                <a:cubicBezTo>
                  <a:pt x="48" y="47"/>
                  <a:pt x="48" y="46"/>
                  <a:pt x="48" y="46"/>
                </a:cubicBezTo>
                <a:cubicBezTo>
                  <a:pt x="48" y="45"/>
                  <a:pt x="48" y="45"/>
                  <a:pt x="48" y="45"/>
                </a:cubicBezTo>
                <a:close/>
                <a:moveTo>
                  <a:pt x="105" y="16"/>
                </a:moveTo>
                <a:cubicBezTo>
                  <a:pt x="105" y="17"/>
                  <a:pt x="106" y="17"/>
                  <a:pt x="106" y="17"/>
                </a:cubicBezTo>
                <a:cubicBezTo>
                  <a:pt x="106" y="18"/>
                  <a:pt x="105" y="18"/>
                  <a:pt x="105" y="18"/>
                </a:cubicBezTo>
                <a:cubicBezTo>
                  <a:pt x="92" y="25"/>
                  <a:pt x="92" y="25"/>
                  <a:pt x="92" y="25"/>
                </a:cubicBezTo>
                <a:cubicBezTo>
                  <a:pt x="91" y="25"/>
                  <a:pt x="91" y="25"/>
                  <a:pt x="91" y="25"/>
                </a:cubicBezTo>
                <a:cubicBezTo>
                  <a:pt x="58" y="9"/>
                  <a:pt x="58" y="9"/>
                  <a:pt x="58" y="9"/>
                </a:cubicBezTo>
                <a:cubicBezTo>
                  <a:pt x="58" y="8"/>
                  <a:pt x="58" y="8"/>
                  <a:pt x="58" y="8"/>
                </a:cubicBezTo>
                <a:cubicBezTo>
                  <a:pt x="58" y="7"/>
                  <a:pt x="58" y="7"/>
                  <a:pt x="58" y="7"/>
                </a:cubicBezTo>
                <a:cubicBezTo>
                  <a:pt x="72" y="0"/>
                  <a:pt x="72" y="0"/>
                  <a:pt x="72" y="0"/>
                </a:cubicBezTo>
                <a:cubicBezTo>
                  <a:pt x="72" y="0"/>
                  <a:pt x="72" y="0"/>
                  <a:pt x="72" y="0"/>
                </a:cubicBezTo>
                <a:cubicBezTo>
                  <a:pt x="105" y="16"/>
                  <a:pt x="105" y="16"/>
                  <a:pt x="105" y="16"/>
                </a:cubicBezTo>
                <a:close/>
                <a:moveTo>
                  <a:pt x="105" y="35"/>
                </a:moveTo>
                <a:cubicBezTo>
                  <a:pt x="105" y="36"/>
                  <a:pt x="106" y="36"/>
                  <a:pt x="106" y="36"/>
                </a:cubicBezTo>
                <a:cubicBezTo>
                  <a:pt x="106" y="37"/>
                  <a:pt x="105" y="37"/>
                  <a:pt x="105" y="37"/>
                </a:cubicBezTo>
                <a:cubicBezTo>
                  <a:pt x="72" y="53"/>
                  <a:pt x="72" y="53"/>
                  <a:pt x="72" y="53"/>
                </a:cubicBezTo>
                <a:cubicBezTo>
                  <a:pt x="72" y="54"/>
                  <a:pt x="72" y="54"/>
                  <a:pt x="72" y="53"/>
                </a:cubicBezTo>
                <a:cubicBezTo>
                  <a:pt x="58" y="47"/>
                  <a:pt x="58" y="47"/>
                  <a:pt x="58" y="47"/>
                </a:cubicBezTo>
                <a:cubicBezTo>
                  <a:pt x="58" y="47"/>
                  <a:pt x="58" y="46"/>
                  <a:pt x="58" y="46"/>
                </a:cubicBezTo>
                <a:cubicBezTo>
                  <a:pt x="58" y="45"/>
                  <a:pt x="58" y="45"/>
                  <a:pt x="58" y="45"/>
                </a:cubicBezTo>
                <a:cubicBezTo>
                  <a:pt x="91" y="29"/>
                  <a:pt x="91" y="29"/>
                  <a:pt x="91" y="29"/>
                </a:cubicBezTo>
                <a:cubicBezTo>
                  <a:pt x="91" y="29"/>
                  <a:pt x="91" y="29"/>
                  <a:pt x="92" y="29"/>
                </a:cubicBezTo>
                <a:cubicBezTo>
                  <a:pt x="105" y="35"/>
                  <a:pt x="105" y="35"/>
                  <a:pt x="105" y="35"/>
                </a:cubicBezTo>
                <a:close/>
                <a:moveTo>
                  <a:pt x="48" y="7"/>
                </a:moveTo>
                <a:cubicBezTo>
                  <a:pt x="34" y="0"/>
                  <a:pt x="34" y="0"/>
                  <a:pt x="34" y="0"/>
                </a:cubicBezTo>
                <a:cubicBezTo>
                  <a:pt x="34" y="0"/>
                  <a:pt x="34" y="0"/>
                  <a:pt x="33" y="0"/>
                </a:cubicBezTo>
                <a:cubicBezTo>
                  <a:pt x="1" y="16"/>
                  <a:pt x="1" y="16"/>
                  <a:pt x="1" y="16"/>
                </a:cubicBezTo>
                <a:cubicBezTo>
                  <a:pt x="1" y="17"/>
                  <a:pt x="0" y="17"/>
                  <a:pt x="0" y="17"/>
                </a:cubicBezTo>
                <a:cubicBezTo>
                  <a:pt x="0" y="18"/>
                  <a:pt x="1" y="18"/>
                  <a:pt x="1" y="18"/>
                </a:cubicBezTo>
                <a:cubicBezTo>
                  <a:pt x="14" y="25"/>
                  <a:pt x="14" y="25"/>
                  <a:pt x="14" y="25"/>
                </a:cubicBezTo>
                <a:cubicBezTo>
                  <a:pt x="15" y="25"/>
                  <a:pt x="15" y="25"/>
                  <a:pt x="15" y="25"/>
                </a:cubicBezTo>
                <a:cubicBezTo>
                  <a:pt x="48" y="9"/>
                  <a:pt x="48" y="9"/>
                  <a:pt x="48" y="9"/>
                </a:cubicBezTo>
                <a:cubicBezTo>
                  <a:pt x="48" y="8"/>
                  <a:pt x="48" y="8"/>
                  <a:pt x="48" y="8"/>
                </a:cubicBezTo>
                <a:cubicBezTo>
                  <a:pt x="48" y="7"/>
                  <a:pt x="48" y="7"/>
                  <a:pt x="48" y="7"/>
                </a:cubicBezTo>
                <a:close/>
                <a:moveTo>
                  <a:pt x="55" y="50"/>
                </a:moveTo>
                <a:cubicBezTo>
                  <a:pt x="55" y="82"/>
                  <a:pt x="55" y="82"/>
                  <a:pt x="55" y="82"/>
                </a:cubicBezTo>
                <a:cubicBezTo>
                  <a:pt x="55" y="82"/>
                  <a:pt x="55" y="83"/>
                  <a:pt x="55" y="83"/>
                </a:cubicBezTo>
                <a:cubicBezTo>
                  <a:pt x="55" y="83"/>
                  <a:pt x="56" y="83"/>
                  <a:pt x="56" y="83"/>
                </a:cubicBezTo>
                <a:cubicBezTo>
                  <a:pt x="89" y="66"/>
                  <a:pt x="89" y="66"/>
                  <a:pt x="89" y="66"/>
                </a:cubicBezTo>
                <a:cubicBezTo>
                  <a:pt x="89" y="66"/>
                  <a:pt x="90" y="66"/>
                  <a:pt x="90" y="65"/>
                </a:cubicBezTo>
                <a:cubicBezTo>
                  <a:pt x="90" y="50"/>
                  <a:pt x="90" y="50"/>
                  <a:pt x="90" y="50"/>
                </a:cubicBezTo>
                <a:cubicBezTo>
                  <a:pt x="90" y="50"/>
                  <a:pt x="89" y="49"/>
                  <a:pt x="89" y="49"/>
                </a:cubicBezTo>
                <a:cubicBezTo>
                  <a:pt x="89" y="49"/>
                  <a:pt x="89" y="49"/>
                  <a:pt x="88" y="49"/>
                </a:cubicBezTo>
                <a:cubicBezTo>
                  <a:pt x="73" y="57"/>
                  <a:pt x="73" y="57"/>
                  <a:pt x="73" y="57"/>
                </a:cubicBezTo>
                <a:cubicBezTo>
                  <a:pt x="72" y="57"/>
                  <a:pt x="72" y="57"/>
                  <a:pt x="72" y="57"/>
                </a:cubicBezTo>
                <a:cubicBezTo>
                  <a:pt x="72" y="57"/>
                  <a:pt x="72" y="57"/>
                  <a:pt x="72" y="57"/>
                </a:cubicBezTo>
                <a:cubicBezTo>
                  <a:pt x="71" y="57"/>
                  <a:pt x="71" y="57"/>
                  <a:pt x="71" y="57"/>
                </a:cubicBezTo>
                <a:cubicBezTo>
                  <a:pt x="56" y="49"/>
                  <a:pt x="56" y="49"/>
                  <a:pt x="56" y="49"/>
                </a:cubicBezTo>
                <a:cubicBezTo>
                  <a:pt x="56" y="49"/>
                  <a:pt x="55" y="49"/>
                  <a:pt x="55" y="49"/>
                </a:cubicBezTo>
                <a:cubicBezTo>
                  <a:pt x="55" y="49"/>
                  <a:pt x="55" y="50"/>
                  <a:pt x="55" y="50"/>
                </a:cubicBezTo>
                <a:close/>
                <a:moveTo>
                  <a:pt x="16" y="50"/>
                </a:moveTo>
                <a:cubicBezTo>
                  <a:pt x="16" y="50"/>
                  <a:pt x="17" y="49"/>
                  <a:pt x="17" y="49"/>
                </a:cubicBezTo>
                <a:cubicBezTo>
                  <a:pt x="17" y="49"/>
                  <a:pt x="17" y="49"/>
                  <a:pt x="18" y="49"/>
                </a:cubicBezTo>
                <a:cubicBezTo>
                  <a:pt x="33" y="57"/>
                  <a:pt x="33" y="57"/>
                  <a:pt x="33" y="57"/>
                </a:cubicBezTo>
                <a:cubicBezTo>
                  <a:pt x="34" y="57"/>
                  <a:pt x="34" y="57"/>
                  <a:pt x="34" y="57"/>
                </a:cubicBezTo>
                <a:cubicBezTo>
                  <a:pt x="50" y="49"/>
                  <a:pt x="50" y="49"/>
                  <a:pt x="50" y="49"/>
                </a:cubicBezTo>
                <a:cubicBezTo>
                  <a:pt x="50" y="49"/>
                  <a:pt x="51" y="49"/>
                  <a:pt x="51" y="49"/>
                </a:cubicBezTo>
                <a:cubicBezTo>
                  <a:pt x="51" y="49"/>
                  <a:pt x="51" y="50"/>
                  <a:pt x="51" y="50"/>
                </a:cubicBezTo>
                <a:cubicBezTo>
                  <a:pt x="51" y="82"/>
                  <a:pt x="51" y="82"/>
                  <a:pt x="51" y="82"/>
                </a:cubicBezTo>
                <a:cubicBezTo>
                  <a:pt x="51" y="82"/>
                  <a:pt x="51" y="83"/>
                  <a:pt x="51" y="83"/>
                </a:cubicBezTo>
                <a:cubicBezTo>
                  <a:pt x="51" y="83"/>
                  <a:pt x="50" y="83"/>
                  <a:pt x="50" y="83"/>
                </a:cubicBezTo>
                <a:cubicBezTo>
                  <a:pt x="17" y="66"/>
                  <a:pt x="17" y="66"/>
                  <a:pt x="17" y="66"/>
                </a:cubicBezTo>
                <a:cubicBezTo>
                  <a:pt x="17" y="66"/>
                  <a:pt x="16" y="66"/>
                  <a:pt x="16" y="65"/>
                </a:cubicBezTo>
                <a:lnTo>
                  <a:pt x="16"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Oval 61"/>
          <p:cNvSpPr/>
          <p:nvPr/>
        </p:nvSpPr>
        <p:spPr>
          <a:xfrm flipH="1">
            <a:off x="3200400" y="3471840"/>
            <a:ext cx="549360" cy="54756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51"/>
          <p:cNvSpPr/>
          <p:nvPr/>
        </p:nvSpPr>
        <p:spPr>
          <a:xfrm>
            <a:off x="3260880" y="3584520"/>
            <a:ext cx="412560" cy="341280"/>
          </a:xfrm>
          <a:custGeom>
            <a:avLst/>
            <a:gdLst/>
            <a:ahLst/>
            <a:rect l="l" t="t" r="r" b="b"/>
            <a:pathLst>
              <a:path w="107" h="88">
                <a:moveTo>
                  <a:pt x="83" y="63"/>
                </a:moveTo>
                <a:cubicBezTo>
                  <a:pt x="97" y="47"/>
                  <a:pt x="97" y="23"/>
                  <a:pt x="83" y="7"/>
                </a:cubicBezTo>
                <a:cubicBezTo>
                  <a:pt x="82" y="6"/>
                  <a:pt x="82" y="4"/>
                  <a:pt x="83" y="3"/>
                </a:cubicBezTo>
                <a:cubicBezTo>
                  <a:pt x="85" y="0"/>
                  <a:pt x="85" y="0"/>
                  <a:pt x="85" y="0"/>
                </a:cubicBezTo>
                <a:cubicBezTo>
                  <a:pt x="86" y="0"/>
                  <a:pt x="86" y="0"/>
                  <a:pt x="87" y="0"/>
                </a:cubicBezTo>
                <a:cubicBezTo>
                  <a:pt x="88" y="0"/>
                  <a:pt x="89" y="0"/>
                  <a:pt x="89" y="0"/>
                </a:cubicBezTo>
                <a:cubicBezTo>
                  <a:pt x="107" y="20"/>
                  <a:pt x="107" y="50"/>
                  <a:pt x="89" y="69"/>
                </a:cubicBezTo>
                <a:cubicBezTo>
                  <a:pt x="89" y="70"/>
                  <a:pt x="88" y="70"/>
                  <a:pt x="87" y="70"/>
                </a:cubicBezTo>
                <a:cubicBezTo>
                  <a:pt x="86" y="70"/>
                  <a:pt x="86" y="70"/>
                  <a:pt x="85" y="69"/>
                </a:cubicBezTo>
                <a:cubicBezTo>
                  <a:pt x="83" y="67"/>
                  <a:pt x="83" y="67"/>
                  <a:pt x="83" y="67"/>
                </a:cubicBezTo>
                <a:cubicBezTo>
                  <a:pt x="82" y="65"/>
                  <a:pt x="82" y="64"/>
                  <a:pt x="83" y="63"/>
                </a:cubicBezTo>
                <a:close/>
                <a:moveTo>
                  <a:pt x="24" y="63"/>
                </a:moveTo>
                <a:cubicBezTo>
                  <a:pt x="10" y="47"/>
                  <a:pt x="10" y="23"/>
                  <a:pt x="24" y="7"/>
                </a:cubicBezTo>
                <a:cubicBezTo>
                  <a:pt x="25" y="6"/>
                  <a:pt x="25" y="4"/>
                  <a:pt x="24" y="3"/>
                </a:cubicBezTo>
                <a:cubicBezTo>
                  <a:pt x="22" y="0"/>
                  <a:pt x="22" y="0"/>
                  <a:pt x="22" y="0"/>
                </a:cubicBezTo>
                <a:cubicBezTo>
                  <a:pt x="21" y="0"/>
                  <a:pt x="21" y="0"/>
                  <a:pt x="20" y="0"/>
                </a:cubicBezTo>
                <a:cubicBezTo>
                  <a:pt x="19" y="0"/>
                  <a:pt x="18" y="0"/>
                  <a:pt x="18" y="0"/>
                </a:cubicBezTo>
                <a:cubicBezTo>
                  <a:pt x="0" y="20"/>
                  <a:pt x="0" y="50"/>
                  <a:pt x="18" y="69"/>
                </a:cubicBezTo>
                <a:cubicBezTo>
                  <a:pt x="18" y="70"/>
                  <a:pt x="19" y="70"/>
                  <a:pt x="20" y="70"/>
                </a:cubicBezTo>
                <a:cubicBezTo>
                  <a:pt x="21" y="70"/>
                  <a:pt x="21" y="70"/>
                  <a:pt x="22" y="69"/>
                </a:cubicBezTo>
                <a:cubicBezTo>
                  <a:pt x="24" y="67"/>
                  <a:pt x="24" y="67"/>
                  <a:pt x="24" y="67"/>
                </a:cubicBezTo>
                <a:cubicBezTo>
                  <a:pt x="25" y="65"/>
                  <a:pt x="25" y="64"/>
                  <a:pt x="24" y="63"/>
                </a:cubicBezTo>
                <a:close/>
                <a:moveTo>
                  <a:pt x="36" y="51"/>
                </a:moveTo>
                <a:cubicBezTo>
                  <a:pt x="37" y="53"/>
                  <a:pt x="37" y="54"/>
                  <a:pt x="36" y="55"/>
                </a:cubicBezTo>
                <a:cubicBezTo>
                  <a:pt x="33" y="58"/>
                  <a:pt x="33" y="58"/>
                  <a:pt x="33" y="58"/>
                </a:cubicBezTo>
                <a:cubicBezTo>
                  <a:pt x="33" y="58"/>
                  <a:pt x="32" y="59"/>
                  <a:pt x="31" y="59"/>
                </a:cubicBezTo>
                <a:cubicBezTo>
                  <a:pt x="30" y="58"/>
                  <a:pt x="30" y="58"/>
                  <a:pt x="29" y="58"/>
                </a:cubicBezTo>
                <a:cubicBezTo>
                  <a:pt x="18" y="44"/>
                  <a:pt x="18" y="25"/>
                  <a:pt x="29" y="12"/>
                </a:cubicBezTo>
                <a:cubicBezTo>
                  <a:pt x="30" y="11"/>
                  <a:pt x="30" y="11"/>
                  <a:pt x="31" y="11"/>
                </a:cubicBezTo>
                <a:cubicBezTo>
                  <a:pt x="32" y="11"/>
                  <a:pt x="33" y="11"/>
                  <a:pt x="33" y="12"/>
                </a:cubicBezTo>
                <a:cubicBezTo>
                  <a:pt x="36" y="14"/>
                  <a:pt x="36" y="14"/>
                  <a:pt x="36" y="14"/>
                </a:cubicBezTo>
                <a:cubicBezTo>
                  <a:pt x="37" y="15"/>
                  <a:pt x="37" y="17"/>
                  <a:pt x="36" y="18"/>
                </a:cubicBezTo>
                <a:cubicBezTo>
                  <a:pt x="28" y="28"/>
                  <a:pt x="28" y="42"/>
                  <a:pt x="36" y="51"/>
                </a:cubicBezTo>
                <a:close/>
                <a:moveTo>
                  <a:pt x="61" y="80"/>
                </a:moveTo>
                <a:cubicBezTo>
                  <a:pt x="61" y="84"/>
                  <a:pt x="58" y="88"/>
                  <a:pt x="54" y="88"/>
                </a:cubicBezTo>
                <a:cubicBezTo>
                  <a:pt x="49" y="88"/>
                  <a:pt x="46" y="84"/>
                  <a:pt x="46" y="80"/>
                </a:cubicBezTo>
                <a:cubicBezTo>
                  <a:pt x="46" y="60"/>
                  <a:pt x="46" y="44"/>
                  <a:pt x="46" y="24"/>
                </a:cubicBezTo>
                <a:cubicBezTo>
                  <a:pt x="46" y="19"/>
                  <a:pt x="49" y="16"/>
                  <a:pt x="54" y="16"/>
                </a:cubicBezTo>
                <a:cubicBezTo>
                  <a:pt x="58" y="16"/>
                  <a:pt x="61" y="19"/>
                  <a:pt x="61" y="24"/>
                </a:cubicBezTo>
                <a:cubicBezTo>
                  <a:pt x="61" y="44"/>
                  <a:pt x="61" y="60"/>
                  <a:pt x="61" y="80"/>
                </a:cubicBezTo>
                <a:close/>
                <a:moveTo>
                  <a:pt x="71" y="51"/>
                </a:moveTo>
                <a:cubicBezTo>
                  <a:pt x="70" y="53"/>
                  <a:pt x="70" y="54"/>
                  <a:pt x="71" y="55"/>
                </a:cubicBezTo>
                <a:cubicBezTo>
                  <a:pt x="74" y="58"/>
                  <a:pt x="74" y="58"/>
                  <a:pt x="74" y="58"/>
                </a:cubicBezTo>
                <a:cubicBezTo>
                  <a:pt x="74" y="58"/>
                  <a:pt x="75" y="59"/>
                  <a:pt x="76" y="59"/>
                </a:cubicBezTo>
                <a:cubicBezTo>
                  <a:pt x="77" y="58"/>
                  <a:pt x="77" y="58"/>
                  <a:pt x="78" y="58"/>
                </a:cubicBezTo>
                <a:cubicBezTo>
                  <a:pt x="89" y="44"/>
                  <a:pt x="89" y="25"/>
                  <a:pt x="78" y="12"/>
                </a:cubicBezTo>
                <a:cubicBezTo>
                  <a:pt x="77" y="11"/>
                  <a:pt x="77" y="11"/>
                  <a:pt x="76" y="11"/>
                </a:cubicBezTo>
                <a:cubicBezTo>
                  <a:pt x="75" y="11"/>
                  <a:pt x="74" y="11"/>
                  <a:pt x="74" y="12"/>
                </a:cubicBezTo>
                <a:cubicBezTo>
                  <a:pt x="71" y="14"/>
                  <a:pt x="71" y="14"/>
                  <a:pt x="71" y="14"/>
                </a:cubicBezTo>
                <a:cubicBezTo>
                  <a:pt x="70" y="15"/>
                  <a:pt x="70" y="17"/>
                  <a:pt x="71" y="18"/>
                </a:cubicBezTo>
                <a:cubicBezTo>
                  <a:pt x="79" y="28"/>
                  <a:pt x="79" y="42"/>
                  <a:pt x="71"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Oval 64"/>
          <p:cNvSpPr/>
          <p:nvPr/>
        </p:nvSpPr>
        <p:spPr>
          <a:xfrm>
            <a:off x="8480520" y="3471840"/>
            <a:ext cx="549360" cy="54756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8" name="Group 65" descr=""/>
          <p:cNvPicPr/>
          <p:nvPr/>
        </p:nvPicPr>
        <p:blipFill>
          <a:blip r:embed="rId1"/>
          <a:stretch/>
        </p:blipFill>
        <p:spPr>
          <a:xfrm>
            <a:off x="8558280" y="3560760"/>
            <a:ext cx="384120" cy="322200"/>
          </a:xfrm>
          <a:prstGeom prst="rect">
            <a:avLst/>
          </a:prstGeom>
          <a:ln w="0">
            <a:noFill/>
          </a:ln>
        </p:spPr>
      </p:pic>
      <p:sp>
        <p:nvSpPr>
          <p:cNvPr id="699" name="Oval 69"/>
          <p:cNvSpPr/>
          <p:nvPr/>
        </p:nvSpPr>
        <p:spPr>
          <a:xfrm>
            <a:off x="7986600" y="5237280"/>
            <a:ext cx="549360" cy="54756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101"/>
          <p:cNvSpPr/>
          <p:nvPr/>
        </p:nvSpPr>
        <p:spPr>
          <a:xfrm>
            <a:off x="8051760" y="5346720"/>
            <a:ext cx="379440" cy="349200"/>
          </a:xfrm>
          <a:custGeom>
            <a:avLst/>
            <a:gdLst/>
            <a:ahLst/>
            <a:rect l="l" t="t" r="r" b="b"/>
            <a:pathLst>
              <a:path w="68" h="63">
                <a:moveTo>
                  <a:pt x="45" y="35"/>
                </a:moveTo>
                <a:cubicBezTo>
                  <a:pt x="45" y="35"/>
                  <a:pt x="45" y="36"/>
                  <a:pt x="45" y="36"/>
                </a:cubicBezTo>
                <a:cubicBezTo>
                  <a:pt x="39" y="36"/>
                  <a:pt x="39" y="36"/>
                  <a:pt x="39" y="36"/>
                </a:cubicBezTo>
                <a:cubicBezTo>
                  <a:pt x="39" y="37"/>
                  <a:pt x="38" y="38"/>
                  <a:pt x="38" y="39"/>
                </a:cubicBezTo>
                <a:cubicBezTo>
                  <a:pt x="39" y="41"/>
                  <a:pt x="40" y="42"/>
                  <a:pt x="41" y="43"/>
                </a:cubicBezTo>
                <a:cubicBezTo>
                  <a:pt x="41" y="43"/>
                  <a:pt x="41" y="44"/>
                  <a:pt x="41" y="44"/>
                </a:cubicBezTo>
                <a:cubicBezTo>
                  <a:pt x="41" y="44"/>
                  <a:pt x="41" y="44"/>
                  <a:pt x="41" y="45"/>
                </a:cubicBezTo>
                <a:cubicBezTo>
                  <a:pt x="40" y="46"/>
                  <a:pt x="36" y="50"/>
                  <a:pt x="35" y="50"/>
                </a:cubicBezTo>
                <a:cubicBezTo>
                  <a:pt x="35" y="50"/>
                  <a:pt x="35" y="50"/>
                  <a:pt x="35" y="50"/>
                </a:cubicBezTo>
                <a:cubicBezTo>
                  <a:pt x="31" y="47"/>
                  <a:pt x="31" y="47"/>
                  <a:pt x="31" y="47"/>
                </a:cubicBezTo>
                <a:cubicBezTo>
                  <a:pt x="30" y="47"/>
                  <a:pt x="29" y="47"/>
                  <a:pt x="28" y="48"/>
                </a:cubicBezTo>
                <a:cubicBezTo>
                  <a:pt x="28" y="49"/>
                  <a:pt x="27" y="51"/>
                  <a:pt x="27" y="53"/>
                </a:cubicBezTo>
                <a:cubicBezTo>
                  <a:pt x="27" y="54"/>
                  <a:pt x="26" y="54"/>
                  <a:pt x="26" y="54"/>
                </a:cubicBezTo>
                <a:cubicBezTo>
                  <a:pt x="19" y="54"/>
                  <a:pt x="19" y="54"/>
                  <a:pt x="19" y="54"/>
                </a:cubicBezTo>
                <a:cubicBezTo>
                  <a:pt x="19" y="54"/>
                  <a:pt x="18" y="54"/>
                  <a:pt x="18" y="53"/>
                </a:cubicBezTo>
                <a:cubicBezTo>
                  <a:pt x="17" y="48"/>
                  <a:pt x="17" y="48"/>
                  <a:pt x="17" y="48"/>
                </a:cubicBezTo>
                <a:cubicBezTo>
                  <a:pt x="16" y="47"/>
                  <a:pt x="16" y="47"/>
                  <a:pt x="15" y="47"/>
                </a:cubicBezTo>
                <a:cubicBezTo>
                  <a:pt x="11" y="50"/>
                  <a:pt x="11" y="50"/>
                  <a:pt x="11" y="50"/>
                </a:cubicBezTo>
                <a:cubicBezTo>
                  <a:pt x="10" y="50"/>
                  <a:pt x="10" y="50"/>
                  <a:pt x="10" y="50"/>
                </a:cubicBezTo>
                <a:cubicBezTo>
                  <a:pt x="10" y="50"/>
                  <a:pt x="9" y="50"/>
                  <a:pt x="9" y="50"/>
                </a:cubicBezTo>
                <a:cubicBezTo>
                  <a:pt x="8" y="49"/>
                  <a:pt x="4" y="45"/>
                  <a:pt x="4" y="44"/>
                </a:cubicBezTo>
                <a:cubicBezTo>
                  <a:pt x="4" y="44"/>
                  <a:pt x="4" y="44"/>
                  <a:pt x="4" y="43"/>
                </a:cubicBezTo>
                <a:cubicBezTo>
                  <a:pt x="5" y="42"/>
                  <a:pt x="6" y="41"/>
                  <a:pt x="7" y="39"/>
                </a:cubicBezTo>
                <a:cubicBezTo>
                  <a:pt x="7" y="38"/>
                  <a:pt x="6" y="37"/>
                  <a:pt x="6" y="36"/>
                </a:cubicBezTo>
                <a:cubicBezTo>
                  <a:pt x="1" y="35"/>
                  <a:pt x="1" y="35"/>
                  <a:pt x="1" y="35"/>
                </a:cubicBezTo>
                <a:cubicBezTo>
                  <a:pt x="0" y="35"/>
                  <a:pt x="0" y="35"/>
                  <a:pt x="0" y="34"/>
                </a:cubicBezTo>
                <a:cubicBezTo>
                  <a:pt x="0" y="28"/>
                  <a:pt x="0" y="28"/>
                  <a:pt x="0" y="28"/>
                </a:cubicBezTo>
                <a:cubicBezTo>
                  <a:pt x="0" y="27"/>
                  <a:pt x="0" y="27"/>
                  <a:pt x="1" y="27"/>
                </a:cubicBezTo>
                <a:cubicBezTo>
                  <a:pt x="6" y="26"/>
                  <a:pt x="6" y="26"/>
                  <a:pt x="6" y="26"/>
                </a:cubicBezTo>
                <a:cubicBezTo>
                  <a:pt x="6" y="25"/>
                  <a:pt x="7" y="24"/>
                  <a:pt x="7" y="23"/>
                </a:cubicBezTo>
                <a:cubicBezTo>
                  <a:pt x="6" y="22"/>
                  <a:pt x="5" y="20"/>
                  <a:pt x="4" y="19"/>
                </a:cubicBezTo>
                <a:cubicBezTo>
                  <a:pt x="4" y="19"/>
                  <a:pt x="4" y="19"/>
                  <a:pt x="4" y="18"/>
                </a:cubicBezTo>
                <a:cubicBezTo>
                  <a:pt x="4" y="18"/>
                  <a:pt x="4" y="18"/>
                  <a:pt x="4" y="18"/>
                </a:cubicBezTo>
                <a:cubicBezTo>
                  <a:pt x="5" y="17"/>
                  <a:pt x="9" y="12"/>
                  <a:pt x="10" y="12"/>
                </a:cubicBezTo>
                <a:cubicBezTo>
                  <a:pt x="10" y="12"/>
                  <a:pt x="10" y="12"/>
                  <a:pt x="11" y="13"/>
                </a:cubicBezTo>
                <a:cubicBezTo>
                  <a:pt x="15" y="16"/>
                  <a:pt x="15" y="16"/>
                  <a:pt x="15" y="16"/>
                </a:cubicBezTo>
                <a:cubicBezTo>
                  <a:pt x="16" y="15"/>
                  <a:pt x="16" y="15"/>
                  <a:pt x="17" y="15"/>
                </a:cubicBezTo>
                <a:cubicBezTo>
                  <a:pt x="18" y="13"/>
                  <a:pt x="18" y="11"/>
                  <a:pt x="18" y="9"/>
                </a:cubicBezTo>
                <a:cubicBezTo>
                  <a:pt x="18" y="9"/>
                  <a:pt x="19" y="8"/>
                  <a:pt x="19" y="8"/>
                </a:cubicBezTo>
                <a:cubicBezTo>
                  <a:pt x="26" y="8"/>
                  <a:pt x="26" y="8"/>
                  <a:pt x="26" y="8"/>
                </a:cubicBezTo>
                <a:cubicBezTo>
                  <a:pt x="26" y="8"/>
                  <a:pt x="27" y="9"/>
                  <a:pt x="27" y="9"/>
                </a:cubicBezTo>
                <a:cubicBezTo>
                  <a:pt x="28" y="15"/>
                  <a:pt x="28" y="15"/>
                  <a:pt x="28" y="15"/>
                </a:cubicBezTo>
                <a:cubicBezTo>
                  <a:pt x="29" y="15"/>
                  <a:pt x="30" y="15"/>
                  <a:pt x="31" y="16"/>
                </a:cubicBezTo>
                <a:cubicBezTo>
                  <a:pt x="35" y="13"/>
                  <a:pt x="35" y="13"/>
                  <a:pt x="35" y="13"/>
                </a:cubicBezTo>
                <a:cubicBezTo>
                  <a:pt x="35" y="12"/>
                  <a:pt x="35" y="12"/>
                  <a:pt x="35" y="12"/>
                </a:cubicBezTo>
                <a:cubicBezTo>
                  <a:pt x="36" y="12"/>
                  <a:pt x="36" y="12"/>
                  <a:pt x="36" y="13"/>
                </a:cubicBezTo>
                <a:cubicBezTo>
                  <a:pt x="37" y="13"/>
                  <a:pt x="41" y="17"/>
                  <a:pt x="41" y="18"/>
                </a:cubicBezTo>
                <a:cubicBezTo>
                  <a:pt x="41" y="19"/>
                  <a:pt x="41" y="19"/>
                  <a:pt x="41" y="19"/>
                </a:cubicBezTo>
                <a:cubicBezTo>
                  <a:pt x="40" y="20"/>
                  <a:pt x="39" y="22"/>
                  <a:pt x="38" y="23"/>
                </a:cubicBezTo>
                <a:cubicBezTo>
                  <a:pt x="38" y="24"/>
                  <a:pt x="39" y="25"/>
                  <a:pt x="39" y="26"/>
                </a:cubicBezTo>
                <a:cubicBezTo>
                  <a:pt x="45" y="27"/>
                  <a:pt x="45" y="27"/>
                  <a:pt x="45" y="27"/>
                </a:cubicBezTo>
                <a:cubicBezTo>
                  <a:pt x="45" y="27"/>
                  <a:pt x="45" y="27"/>
                  <a:pt x="45" y="28"/>
                </a:cubicBezTo>
                <a:lnTo>
                  <a:pt x="45" y="35"/>
                </a:lnTo>
                <a:close/>
                <a:moveTo>
                  <a:pt x="23" y="22"/>
                </a:moveTo>
                <a:cubicBezTo>
                  <a:pt x="18" y="22"/>
                  <a:pt x="13" y="26"/>
                  <a:pt x="13" y="31"/>
                </a:cubicBezTo>
                <a:cubicBezTo>
                  <a:pt x="13" y="36"/>
                  <a:pt x="18" y="40"/>
                  <a:pt x="23" y="40"/>
                </a:cubicBezTo>
                <a:cubicBezTo>
                  <a:pt x="28" y="40"/>
                  <a:pt x="32" y="36"/>
                  <a:pt x="32" y="31"/>
                </a:cubicBezTo>
                <a:cubicBezTo>
                  <a:pt x="32" y="26"/>
                  <a:pt x="28" y="22"/>
                  <a:pt x="23" y="22"/>
                </a:cubicBezTo>
                <a:close/>
                <a:moveTo>
                  <a:pt x="68" y="15"/>
                </a:moveTo>
                <a:cubicBezTo>
                  <a:pt x="68" y="16"/>
                  <a:pt x="64" y="16"/>
                  <a:pt x="63" y="16"/>
                </a:cubicBezTo>
                <a:cubicBezTo>
                  <a:pt x="63" y="17"/>
                  <a:pt x="62" y="18"/>
                  <a:pt x="62" y="18"/>
                </a:cubicBezTo>
                <a:cubicBezTo>
                  <a:pt x="62" y="19"/>
                  <a:pt x="64" y="23"/>
                  <a:pt x="64" y="23"/>
                </a:cubicBezTo>
                <a:cubicBezTo>
                  <a:pt x="64" y="23"/>
                  <a:pt x="64" y="23"/>
                  <a:pt x="64" y="24"/>
                </a:cubicBezTo>
                <a:cubicBezTo>
                  <a:pt x="63" y="24"/>
                  <a:pt x="59" y="26"/>
                  <a:pt x="59" y="26"/>
                </a:cubicBezTo>
                <a:cubicBezTo>
                  <a:pt x="59" y="26"/>
                  <a:pt x="56" y="22"/>
                  <a:pt x="56" y="22"/>
                </a:cubicBezTo>
                <a:cubicBezTo>
                  <a:pt x="55" y="22"/>
                  <a:pt x="55" y="22"/>
                  <a:pt x="55" y="22"/>
                </a:cubicBezTo>
                <a:cubicBezTo>
                  <a:pt x="54" y="22"/>
                  <a:pt x="54" y="22"/>
                  <a:pt x="54" y="22"/>
                </a:cubicBezTo>
                <a:cubicBezTo>
                  <a:pt x="53" y="22"/>
                  <a:pt x="50" y="26"/>
                  <a:pt x="50" y="26"/>
                </a:cubicBezTo>
                <a:cubicBezTo>
                  <a:pt x="50" y="26"/>
                  <a:pt x="46" y="24"/>
                  <a:pt x="46" y="24"/>
                </a:cubicBezTo>
                <a:cubicBezTo>
                  <a:pt x="45" y="23"/>
                  <a:pt x="45" y="23"/>
                  <a:pt x="45" y="23"/>
                </a:cubicBezTo>
                <a:cubicBezTo>
                  <a:pt x="45" y="23"/>
                  <a:pt x="47" y="19"/>
                  <a:pt x="47" y="18"/>
                </a:cubicBezTo>
                <a:cubicBezTo>
                  <a:pt x="47" y="18"/>
                  <a:pt x="46" y="17"/>
                  <a:pt x="46" y="16"/>
                </a:cubicBezTo>
                <a:cubicBezTo>
                  <a:pt x="45" y="16"/>
                  <a:pt x="41" y="16"/>
                  <a:pt x="41" y="15"/>
                </a:cubicBezTo>
                <a:cubicBezTo>
                  <a:pt x="41" y="10"/>
                  <a:pt x="41" y="10"/>
                  <a:pt x="41" y="10"/>
                </a:cubicBezTo>
                <a:cubicBezTo>
                  <a:pt x="41" y="10"/>
                  <a:pt x="45" y="9"/>
                  <a:pt x="46" y="9"/>
                </a:cubicBezTo>
                <a:cubicBezTo>
                  <a:pt x="46" y="9"/>
                  <a:pt x="47" y="8"/>
                  <a:pt x="47" y="7"/>
                </a:cubicBezTo>
                <a:cubicBezTo>
                  <a:pt x="47" y="7"/>
                  <a:pt x="45" y="3"/>
                  <a:pt x="45" y="2"/>
                </a:cubicBezTo>
                <a:cubicBezTo>
                  <a:pt x="45" y="2"/>
                  <a:pt x="45" y="2"/>
                  <a:pt x="46" y="2"/>
                </a:cubicBezTo>
                <a:cubicBezTo>
                  <a:pt x="46" y="2"/>
                  <a:pt x="50" y="0"/>
                  <a:pt x="50" y="0"/>
                </a:cubicBezTo>
                <a:cubicBezTo>
                  <a:pt x="50" y="0"/>
                  <a:pt x="53" y="3"/>
                  <a:pt x="54" y="4"/>
                </a:cubicBezTo>
                <a:cubicBezTo>
                  <a:pt x="54" y="4"/>
                  <a:pt x="54" y="4"/>
                  <a:pt x="55" y="4"/>
                </a:cubicBezTo>
                <a:cubicBezTo>
                  <a:pt x="55" y="4"/>
                  <a:pt x="55" y="4"/>
                  <a:pt x="56" y="4"/>
                </a:cubicBezTo>
                <a:cubicBezTo>
                  <a:pt x="57" y="2"/>
                  <a:pt x="58" y="1"/>
                  <a:pt x="59" y="0"/>
                </a:cubicBezTo>
                <a:cubicBezTo>
                  <a:pt x="59" y="0"/>
                  <a:pt x="59" y="0"/>
                  <a:pt x="59" y="0"/>
                </a:cubicBezTo>
                <a:cubicBezTo>
                  <a:pt x="59" y="0"/>
                  <a:pt x="63" y="2"/>
                  <a:pt x="64" y="2"/>
                </a:cubicBezTo>
                <a:cubicBezTo>
                  <a:pt x="64" y="2"/>
                  <a:pt x="64" y="2"/>
                  <a:pt x="64" y="2"/>
                </a:cubicBezTo>
                <a:cubicBezTo>
                  <a:pt x="64" y="3"/>
                  <a:pt x="62" y="7"/>
                  <a:pt x="62" y="7"/>
                </a:cubicBezTo>
                <a:cubicBezTo>
                  <a:pt x="62" y="8"/>
                  <a:pt x="63" y="9"/>
                  <a:pt x="63" y="9"/>
                </a:cubicBezTo>
                <a:cubicBezTo>
                  <a:pt x="64" y="9"/>
                  <a:pt x="68" y="10"/>
                  <a:pt x="68" y="10"/>
                </a:cubicBezTo>
                <a:lnTo>
                  <a:pt x="68" y="15"/>
                </a:lnTo>
                <a:close/>
                <a:moveTo>
                  <a:pt x="68" y="52"/>
                </a:moveTo>
                <a:cubicBezTo>
                  <a:pt x="68" y="52"/>
                  <a:pt x="64" y="53"/>
                  <a:pt x="63" y="53"/>
                </a:cubicBezTo>
                <a:cubicBezTo>
                  <a:pt x="63" y="54"/>
                  <a:pt x="62" y="54"/>
                  <a:pt x="62" y="55"/>
                </a:cubicBezTo>
                <a:cubicBezTo>
                  <a:pt x="62" y="56"/>
                  <a:pt x="64" y="59"/>
                  <a:pt x="64" y="60"/>
                </a:cubicBezTo>
                <a:cubicBezTo>
                  <a:pt x="64" y="60"/>
                  <a:pt x="64" y="60"/>
                  <a:pt x="64" y="60"/>
                </a:cubicBezTo>
                <a:cubicBezTo>
                  <a:pt x="63" y="60"/>
                  <a:pt x="59" y="63"/>
                  <a:pt x="59" y="63"/>
                </a:cubicBezTo>
                <a:cubicBezTo>
                  <a:pt x="59" y="63"/>
                  <a:pt x="56" y="59"/>
                  <a:pt x="56" y="59"/>
                </a:cubicBezTo>
                <a:cubicBezTo>
                  <a:pt x="55" y="59"/>
                  <a:pt x="55" y="59"/>
                  <a:pt x="55" y="59"/>
                </a:cubicBezTo>
                <a:cubicBezTo>
                  <a:pt x="54" y="59"/>
                  <a:pt x="54" y="59"/>
                  <a:pt x="54" y="59"/>
                </a:cubicBezTo>
                <a:cubicBezTo>
                  <a:pt x="53" y="59"/>
                  <a:pt x="50" y="63"/>
                  <a:pt x="50" y="63"/>
                </a:cubicBezTo>
                <a:cubicBezTo>
                  <a:pt x="50" y="63"/>
                  <a:pt x="46" y="60"/>
                  <a:pt x="46" y="60"/>
                </a:cubicBezTo>
                <a:cubicBezTo>
                  <a:pt x="45" y="60"/>
                  <a:pt x="45" y="60"/>
                  <a:pt x="45" y="60"/>
                </a:cubicBezTo>
                <a:cubicBezTo>
                  <a:pt x="45" y="59"/>
                  <a:pt x="47" y="56"/>
                  <a:pt x="47" y="55"/>
                </a:cubicBezTo>
                <a:cubicBezTo>
                  <a:pt x="47" y="54"/>
                  <a:pt x="46" y="54"/>
                  <a:pt x="46" y="53"/>
                </a:cubicBezTo>
                <a:cubicBezTo>
                  <a:pt x="45" y="53"/>
                  <a:pt x="41" y="52"/>
                  <a:pt x="41" y="52"/>
                </a:cubicBezTo>
                <a:cubicBezTo>
                  <a:pt x="41" y="47"/>
                  <a:pt x="41" y="47"/>
                  <a:pt x="41" y="47"/>
                </a:cubicBezTo>
                <a:cubicBezTo>
                  <a:pt x="41" y="46"/>
                  <a:pt x="45" y="46"/>
                  <a:pt x="46" y="46"/>
                </a:cubicBezTo>
                <a:cubicBezTo>
                  <a:pt x="46" y="45"/>
                  <a:pt x="47" y="45"/>
                  <a:pt x="47" y="44"/>
                </a:cubicBezTo>
                <a:cubicBezTo>
                  <a:pt x="47" y="43"/>
                  <a:pt x="45" y="40"/>
                  <a:pt x="45" y="39"/>
                </a:cubicBezTo>
                <a:cubicBezTo>
                  <a:pt x="45" y="39"/>
                  <a:pt x="45" y="39"/>
                  <a:pt x="46" y="39"/>
                </a:cubicBezTo>
                <a:cubicBezTo>
                  <a:pt x="46" y="39"/>
                  <a:pt x="50" y="36"/>
                  <a:pt x="50" y="36"/>
                </a:cubicBezTo>
                <a:cubicBezTo>
                  <a:pt x="50" y="36"/>
                  <a:pt x="53" y="40"/>
                  <a:pt x="54" y="40"/>
                </a:cubicBezTo>
                <a:cubicBezTo>
                  <a:pt x="54" y="40"/>
                  <a:pt x="54" y="40"/>
                  <a:pt x="55" y="40"/>
                </a:cubicBezTo>
                <a:cubicBezTo>
                  <a:pt x="55" y="40"/>
                  <a:pt x="55" y="40"/>
                  <a:pt x="56" y="40"/>
                </a:cubicBezTo>
                <a:cubicBezTo>
                  <a:pt x="57" y="39"/>
                  <a:pt x="58" y="38"/>
                  <a:pt x="59" y="36"/>
                </a:cubicBezTo>
                <a:cubicBezTo>
                  <a:pt x="59" y="36"/>
                  <a:pt x="59" y="36"/>
                  <a:pt x="59" y="36"/>
                </a:cubicBezTo>
                <a:cubicBezTo>
                  <a:pt x="59" y="36"/>
                  <a:pt x="63" y="39"/>
                  <a:pt x="64" y="39"/>
                </a:cubicBezTo>
                <a:cubicBezTo>
                  <a:pt x="64" y="39"/>
                  <a:pt x="64" y="39"/>
                  <a:pt x="64" y="39"/>
                </a:cubicBezTo>
                <a:cubicBezTo>
                  <a:pt x="64" y="40"/>
                  <a:pt x="62" y="43"/>
                  <a:pt x="62" y="44"/>
                </a:cubicBezTo>
                <a:cubicBezTo>
                  <a:pt x="62" y="45"/>
                  <a:pt x="63" y="45"/>
                  <a:pt x="63" y="46"/>
                </a:cubicBezTo>
                <a:cubicBezTo>
                  <a:pt x="64" y="46"/>
                  <a:pt x="68" y="46"/>
                  <a:pt x="68" y="47"/>
                </a:cubicBezTo>
                <a:lnTo>
                  <a:pt x="68" y="52"/>
                </a:lnTo>
                <a:close/>
                <a:moveTo>
                  <a:pt x="55" y="8"/>
                </a:moveTo>
                <a:cubicBezTo>
                  <a:pt x="52" y="8"/>
                  <a:pt x="50" y="10"/>
                  <a:pt x="50" y="13"/>
                </a:cubicBezTo>
                <a:cubicBezTo>
                  <a:pt x="50" y="15"/>
                  <a:pt x="52" y="17"/>
                  <a:pt x="55" y="17"/>
                </a:cubicBezTo>
                <a:cubicBezTo>
                  <a:pt x="57" y="17"/>
                  <a:pt x="59" y="15"/>
                  <a:pt x="59" y="13"/>
                </a:cubicBezTo>
                <a:cubicBezTo>
                  <a:pt x="59" y="10"/>
                  <a:pt x="57" y="8"/>
                  <a:pt x="55" y="8"/>
                </a:cubicBezTo>
                <a:close/>
                <a:moveTo>
                  <a:pt x="55" y="45"/>
                </a:moveTo>
                <a:cubicBezTo>
                  <a:pt x="52" y="45"/>
                  <a:pt x="50" y="47"/>
                  <a:pt x="50" y="49"/>
                </a:cubicBezTo>
                <a:cubicBezTo>
                  <a:pt x="50" y="52"/>
                  <a:pt x="52" y="54"/>
                  <a:pt x="55" y="54"/>
                </a:cubicBezTo>
                <a:cubicBezTo>
                  <a:pt x="57" y="54"/>
                  <a:pt x="59" y="52"/>
                  <a:pt x="59" y="49"/>
                </a:cubicBezTo>
                <a:cubicBezTo>
                  <a:pt x="59" y="47"/>
                  <a:pt x="57" y="45"/>
                  <a:pt x="55"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01" name="Group 78" descr=""/>
          <p:cNvPicPr/>
          <p:nvPr/>
        </p:nvPicPr>
        <p:blipFill>
          <a:blip r:embed="rId2"/>
          <a:stretch/>
        </p:blipFill>
        <p:spPr>
          <a:xfrm>
            <a:off x="5979960" y="2114640"/>
            <a:ext cx="781200" cy="2738520"/>
          </a:xfrm>
          <a:prstGeom prst="rect">
            <a:avLst/>
          </a:prstGeom>
          <a:ln w="0">
            <a:noFill/>
          </a:ln>
        </p:spPr>
      </p:pic>
      <p:pic>
        <p:nvPicPr>
          <p:cNvPr id="702" name="Group 79" descr=""/>
          <p:cNvPicPr/>
          <p:nvPr/>
        </p:nvPicPr>
        <p:blipFill>
          <a:blip r:embed="rId3"/>
          <a:stretch/>
        </p:blipFill>
        <p:spPr>
          <a:xfrm>
            <a:off x="5479920" y="2230560"/>
            <a:ext cx="744840" cy="2543040"/>
          </a:xfrm>
          <a:prstGeom prst="rect">
            <a:avLst/>
          </a:prstGeom>
          <a:ln w="0">
            <a:noFill/>
          </a:ln>
        </p:spPr>
      </p:pic>
      <p:sp>
        <p:nvSpPr>
          <p:cNvPr id="703" name="Oval 58"/>
          <p:cNvSpPr/>
          <p:nvPr/>
        </p:nvSpPr>
        <p:spPr>
          <a:xfrm>
            <a:off x="7634160" y="1927080"/>
            <a:ext cx="549360" cy="54792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11"/>
          <p:cNvSpPr/>
          <p:nvPr/>
        </p:nvSpPr>
        <p:spPr>
          <a:xfrm>
            <a:off x="7729560" y="2036880"/>
            <a:ext cx="379440" cy="314280"/>
          </a:xfrm>
          <a:custGeom>
            <a:avLst/>
            <a:gdLst/>
            <a:ahLst/>
            <a:rect l="l" t="t" r="r" b="b"/>
            <a:pathLst>
              <a:path w="287" h="237">
                <a:moveTo>
                  <a:pt x="260" y="78"/>
                </a:moveTo>
                <a:cubicBezTo>
                  <a:pt x="251" y="78"/>
                  <a:pt x="244" y="85"/>
                  <a:pt x="244" y="94"/>
                </a:cubicBezTo>
                <a:cubicBezTo>
                  <a:pt x="244" y="103"/>
                  <a:pt x="251" y="111"/>
                  <a:pt x="260" y="111"/>
                </a:cubicBezTo>
                <a:cubicBezTo>
                  <a:pt x="269" y="111"/>
                  <a:pt x="277" y="103"/>
                  <a:pt x="277" y="94"/>
                </a:cubicBezTo>
                <a:cubicBezTo>
                  <a:pt x="277" y="85"/>
                  <a:pt x="269" y="78"/>
                  <a:pt x="260" y="78"/>
                </a:cubicBezTo>
                <a:close/>
                <a:moveTo>
                  <a:pt x="27" y="78"/>
                </a:moveTo>
                <a:cubicBezTo>
                  <a:pt x="18" y="78"/>
                  <a:pt x="11" y="85"/>
                  <a:pt x="11" y="94"/>
                </a:cubicBezTo>
                <a:cubicBezTo>
                  <a:pt x="11" y="103"/>
                  <a:pt x="18" y="111"/>
                  <a:pt x="27" y="111"/>
                </a:cubicBezTo>
                <a:cubicBezTo>
                  <a:pt x="36" y="111"/>
                  <a:pt x="43" y="103"/>
                  <a:pt x="43" y="94"/>
                </a:cubicBezTo>
                <a:cubicBezTo>
                  <a:pt x="43" y="85"/>
                  <a:pt x="36" y="78"/>
                  <a:pt x="27" y="78"/>
                </a:cubicBezTo>
                <a:close/>
                <a:moveTo>
                  <a:pt x="212" y="49"/>
                </a:moveTo>
                <a:cubicBezTo>
                  <a:pt x="199" y="49"/>
                  <a:pt x="188" y="59"/>
                  <a:pt x="188" y="73"/>
                </a:cubicBezTo>
                <a:cubicBezTo>
                  <a:pt x="188" y="86"/>
                  <a:pt x="199" y="97"/>
                  <a:pt x="212" y="97"/>
                </a:cubicBezTo>
                <a:cubicBezTo>
                  <a:pt x="225" y="97"/>
                  <a:pt x="236" y="86"/>
                  <a:pt x="236" y="73"/>
                </a:cubicBezTo>
                <a:cubicBezTo>
                  <a:pt x="236" y="59"/>
                  <a:pt x="225" y="49"/>
                  <a:pt x="212" y="49"/>
                </a:cubicBezTo>
                <a:close/>
                <a:moveTo>
                  <a:pt x="287" y="196"/>
                </a:moveTo>
                <a:cubicBezTo>
                  <a:pt x="259" y="196"/>
                  <a:pt x="259" y="196"/>
                  <a:pt x="259" y="196"/>
                </a:cubicBezTo>
                <a:cubicBezTo>
                  <a:pt x="259" y="145"/>
                  <a:pt x="259" y="145"/>
                  <a:pt x="259" y="145"/>
                </a:cubicBezTo>
                <a:cubicBezTo>
                  <a:pt x="259" y="136"/>
                  <a:pt x="257" y="128"/>
                  <a:pt x="253" y="121"/>
                </a:cubicBezTo>
                <a:cubicBezTo>
                  <a:pt x="255" y="120"/>
                  <a:pt x="258" y="120"/>
                  <a:pt x="260" y="120"/>
                </a:cubicBezTo>
                <a:cubicBezTo>
                  <a:pt x="275" y="120"/>
                  <a:pt x="287" y="132"/>
                  <a:pt x="287" y="147"/>
                </a:cubicBezTo>
                <a:lnTo>
                  <a:pt x="287" y="196"/>
                </a:lnTo>
                <a:close/>
                <a:moveTo>
                  <a:pt x="75" y="49"/>
                </a:moveTo>
                <a:cubicBezTo>
                  <a:pt x="62" y="49"/>
                  <a:pt x="51" y="59"/>
                  <a:pt x="51" y="73"/>
                </a:cubicBezTo>
                <a:cubicBezTo>
                  <a:pt x="51" y="86"/>
                  <a:pt x="62" y="97"/>
                  <a:pt x="75" y="97"/>
                </a:cubicBezTo>
                <a:cubicBezTo>
                  <a:pt x="88" y="97"/>
                  <a:pt x="99" y="86"/>
                  <a:pt x="99" y="73"/>
                </a:cubicBezTo>
                <a:cubicBezTo>
                  <a:pt x="99" y="59"/>
                  <a:pt x="88" y="49"/>
                  <a:pt x="75" y="49"/>
                </a:cubicBezTo>
                <a:close/>
                <a:moveTo>
                  <a:pt x="27" y="120"/>
                </a:moveTo>
                <a:cubicBezTo>
                  <a:pt x="29" y="120"/>
                  <a:pt x="32" y="120"/>
                  <a:pt x="34" y="121"/>
                </a:cubicBezTo>
                <a:cubicBezTo>
                  <a:pt x="30" y="128"/>
                  <a:pt x="28" y="136"/>
                  <a:pt x="28" y="145"/>
                </a:cubicBezTo>
                <a:cubicBezTo>
                  <a:pt x="28" y="196"/>
                  <a:pt x="28" y="196"/>
                  <a:pt x="28" y="196"/>
                </a:cubicBezTo>
                <a:cubicBezTo>
                  <a:pt x="0" y="196"/>
                  <a:pt x="0" y="196"/>
                  <a:pt x="0" y="196"/>
                </a:cubicBezTo>
                <a:cubicBezTo>
                  <a:pt x="0" y="147"/>
                  <a:pt x="0" y="147"/>
                  <a:pt x="0" y="147"/>
                </a:cubicBezTo>
                <a:cubicBezTo>
                  <a:pt x="0" y="132"/>
                  <a:pt x="12" y="120"/>
                  <a:pt x="27" y="120"/>
                </a:cubicBezTo>
                <a:close/>
                <a:moveTo>
                  <a:pt x="144" y="0"/>
                </a:moveTo>
                <a:cubicBezTo>
                  <a:pt x="124" y="0"/>
                  <a:pt x="108" y="16"/>
                  <a:pt x="108" y="36"/>
                </a:cubicBezTo>
                <a:cubicBezTo>
                  <a:pt x="108" y="56"/>
                  <a:pt x="124" y="72"/>
                  <a:pt x="144" y="72"/>
                </a:cubicBezTo>
                <a:cubicBezTo>
                  <a:pt x="163" y="72"/>
                  <a:pt x="179" y="56"/>
                  <a:pt x="179" y="36"/>
                </a:cubicBezTo>
                <a:cubicBezTo>
                  <a:pt x="179" y="16"/>
                  <a:pt x="163" y="0"/>
                  <a:pt x="144" y="0"/>
                </a:cubicBezTo>
                <a:close/>
                <a:moveTo>
                  <a:pt x="251" y="214"/>
                </a:moveTo>
                <a:cubicBezTo>
                  <a:pt x="208" y="214"/>
                  <a:pt x="208" y="214"/>
                  <a:pt x="208" y="214"/>
                </a:cubicBezTo>
                <a:cubicBezTo>
                  <a:pt x="208" y="137"/>
                  <a:pt x="208" y="137"/>
                  <a:pt x="208" y="137"/>
                </a:cubicBezTo>
                <a:cubicBezTo>
                  <a:pt x="208" y="127"/>
                  <a:pt x="206" y="117"/>
                  <a:pt x="201" y="108"/>
                </a:cubicBezTo>
                <a:cubicBezTo>
                  <a:pt x="205" y="107"/>
                  <a:pt x="208" y="106"/>
                  <a:pt x="212" y="106"/>
                </a:cubicBezTo>
                <a:cubicBezTo>
                  <a:pt x="233" y="106"/>
                  <a:pt x="251" y="124"/>
                  <a:pt x="251" y="145"/>
                </a:cubicBezTo>
                <a:lnTo>
                  <a:pt x="251" y="214"/>
                </a:lnTo>
                <a:close/>
                <a:moveTo>
                  <a:pt x="79" y="137"/>
                </a:moveTo>
                <a:cubicBezTo>
                  <a:pt x="79" y="214"/>
                  <a:pt x="79" y="214"/>
                  <a:pt x="79" y="214"/>
                </a:cubicBezTo>
                <a:cubicBezTo>
                  <a:pt x="37" y="214"/>
                  <a:pt x="37" y="214"/>
                  <a:pt x="37" y="214"/>
                </a:cubicBezTo>
                <a:cubicBezTo>
                  <a:pt x="37" y="145"/>
                  <a:pt x="37" y="145"/>
                  <a:pt x="37" y="145"/>
                </a:cubicBezTo>
                <a:cubicBezTo>
                  <a:pt x="37" y="124"/>
                  <a:pt x="54" y="106"/>
                  <a:pt x="75" y="106"/>
                </a:cubicBezTo>
                <a:cubicBezTo>
                  <a:pt x="79" y="106"/>
                  <a:pt x="83" y="107"/>
                  <a:pt x="86" y="108"/>
                </a:cubicBezTo>
                <a:cubicBezTo>
                  <a:pt x="81" y="117"/>
                  <a:pt x="79" y="127"/>
                  <a:pt x="79" y="137"/>
                </a:cubicBezTo>
                <a:close/>
                <a:moveTo>
                  <a:pt x="88" y="237"/>
                </a:moveTo>
                <a:cubicBezTo>
                  <a:pt x="200" y="237"/>
                  <a:pt x="200" y="237"/>
                  <a:pt x="200" y="237"/>
                </a:cubicBezTo>
                <a:cubicBezTo>
                  <a:pt x="200" y="137"/>
                  <a:pt x="200" y="137"/>
                  <a:pt x="200" y="137"/>
                </a:cubicBezTo>
                <a:cubicBezTo>
                  <a:pt x="200" y="106"/>
                  <a:pt x="174" y="81"/>
                  <a:pt x="144" y="81"/>
                </a:cubicBezTo>
                <a:cubicBezTo>
                  <a:pt x="113" y="81"/>
                  <a:pt x="88" y="106"/>
                  <a:pt x="88" y="137"/>
                </a:cubicBezTo>
                <a:lnTo>
                  <a:pt x="88" y="2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Oval 72"/>
          <p:cNvSpPr/>
          <p:nvPr/>
        </p:nvSpPr>
        <p:spPr>
          <a:xfrm flipH="1">
            <a:off x="3674520" y="5237280"/>
            <a:ext cx="549000" cy="54756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18"/>
          <p:cNvSpPr/>
          <p:nvPr/>
        </p:nvSpPr>
        <p:spPr>
          <a:xfrm>
            <a:off x="3772080" y="5337000"/>
            <a:ext cx="358560" cy="358920"/>
          </a:xfrm>
          <a:custGeom>
            <a:avLst/>
            <a:gdLst/>
            <a:ahLst/>
            <a:rect l="l" t="t" r="r" b="b"/>
            <a:pathLst>
              <a:path w="360" h="360">
                <a:moveTo>
                  <a:pt x="266" y="360"/>
                </a:moveTo>
                <a:cubicBezTo>
                  <a:pt x="294" y="331"/>
                  <a:pt x="294" y="331"/>
                  <a:pt x="294" y="331"/>
                </a:cubicBezTo>
                <a:cubicBezTo>
                  <a:pt x="245" y="155"/>
                  <a:pt x="245" y="155"/>
                  <a:pt x="245" y="155"/>
                </a:cubicBezTo>
                <a:cubicBezTo>
                  <a:pt x="318" y="82"/>
                  <a:pt x="318" y="82"/>
                  <a:pt x="318" y="82"/>
                </a:cubicBezTo>
                <a:cubicBezTo>
                  <a:pt x="318" y="82"/>
                  <a:pt x="360" y="39"/>
                  <a:pt x="340" y="19"/>
                </a:cubicBezTo>
                <a:cubicBezTo>
                  <a:pt x="320" y="0"/>
                  <a:pt x="278" y="42"/>
                  <a:pt x="278" y="42"/>
                </a:cubicBezTo>
                <a:cubicBezTo>
                  <a:pt x="205" y="115"/>
                  <a:pt x="205" y="115"/>
                  <a:pt x="205" y="115"/>
                </a:cubicBezTo>
                <a:cubicBezTo>
                  <a:pt x="28" y="65"/>
                  <a:pt x="28" y="65"/>
                  <a:pt x="28" y="65"/>
                </a:cubicBezTo>
                <a:cubicBezTo>
                  <a:pt x="0" y="94"/>
                  <a:pt x="0" y="94"/>
                  <a:pt x="0" y="94"/>
                </a:cubicBezTo>
                <a:cubicBezTo>
                  <a:pt x="148" y="172"/>
                  <a:pt x="148" y="172"/>
                  <a:pt x="148" y="172"/>
                </a:cubicBezTo>
                <a:cubicBezTo>
                  <a:pt x="98" y="222"/>
                  <a:pt x="98" y="222"/>
                  <a:pt x="98" y="222"/>
                </a:cubicBezTo>
                <a:cubicBezTo>
                  <a:pt x="38" y="226"/>
                  <a:pt x="38" y="226"/>
                  <a:pt x="38" y="226"/>
                </a:cubicBezTo>
                <a:cubicBezTo>
                  <a:pt x="9" y="254"/>
                  <a:pt x="9" y="254"/>
                  <a:pt x="9" y="254"/>
                </a:cubicBezTo>
                <a:cubicBezTo>
                  <a:pt x="80" y="280"/>
                  <a:pt x="80" y="280"/>
                  <a:pt x="80" y="280"/>
                </a:cubicBezTo>
                <a:cubicBezTo>
                  <a:pt x="105" y="350"/>
                  <a:pt x="105" y="350"/>
                  <a:pt x="105" y="350"/>
                </a:cubicBezTo>
                <a:cubicBezTo>
                  <a:pt x="134" y="322"/>
                  <a:pt x="134" y="322"/>
                  <a:pt x="134" y="322"/>
                </a:cubicBezTo>
                <a:cubicBezTo>
                  <a:pt x="137" y="262"/>
                  <a:pt x="137" y="262"/>
                  <a:pt x="137" y="262"/>
                </a:cubicBezTo>
                <a:cubicBezTo>
                  <a:pt x="188" y="211"/>
                  <a:pt x="188" y="211"/>
                  <a:pt x="188" y="211"/>
                </a:cubicBezTo>
                <a:lnTo>
                  <a:pt x="266" y="3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文本框 40"/>
          <p:cNvSpPr/>
          <p:nvPr/>
        </p:nvSpPr>
        <p:spPr>
          <a:xfrm>
            <a:off x="2679840" y="2036880"/>
            <a:ext cx="1041120" cy="3052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形式一</a:t>
            </a:r>
            <a:endParaRPr b="0" lang="en-US" sz="2000" spc="-1" strike="noStrike">
              <a:solidFill>
                <a:srgbClr val="000000"/>
              </a:solidFill>
              <a:latin typeface="Arial"/>
            </a:endParaRPr>
          </a:p>
        </p:txBody>
      </p:sp>
      <p:sp>
        <p:nvSpPr>
          <p:cNvPr id="708" name="矩形 41"/>
          <p:cNvSpPr/>
          <p:nvPr/>
        </p:nvSpPr>
        <p:spPr>
          <a:xfrm>
            <a:off x="1668600" y="2433600"/>
            <a:ext cx="2199960" cy="4266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a:t>
            </a:r>
            <a:endParaRPr b="0" lang="en-US" sz="1400" spc="-1" strike="noStrike">
              <a:solidFill>
                <a:srgbClr val="000000"/>
              </a:solidFill>
              <a:latin typeface="Arial"/>
            </a:endParaRPr>
          </a:p>
        </p:txBody>
      </p:sp>
      <p:sp>
        <p:nvSpPr>
          <p:cNvPr id="709" name="文本框 42"/>
          <p:cNvSpPr/>
          <p:nvPr/>
        </p:nvSpPr>
        <p:spPr>
          <a:xfrm>
            <a:off x="2559240" y="3618000"/>
            <a:ext cx="25524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形式一</a:t>
            </a:r>
            <a:endParaRPr b="0" lang="en-US" sz="2000" spc="-1" strike="noStrike">
              <a:solidFill>
                <a:srgbClr val="000000"/>
              </a:solidFill>
              <a:latin typeface="Arial"/>
            </a:endParaRPr>
          </a:p>
        </p:txBody>
      </p:sp>
      <p:sp>
        <p:nvSpPr>
          <p:cNvPr id="710" name="矩形 43"/>
          <p:cNvSpPr/>
          <p:nvPr/>
        </p:nvSpPr>
        <p:spPr>
          <a:xfrm>
            <a:off x="782640" y="4016520"/>
            <a:ext cx="2289240" cy="4266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a:t>
            </a:r>
            <a:endParaRPr b="0" lang="en-US" sz="1400" spc="-1" strike="noStrike">
              <a:solidFill>
                <a:srgbClr val="000000"/>
              </a:solidFill>
              <a:latin typeface="Arial"/>
            </a:endParaRPr>
          </a:p>
        </p:txBody>
      </p:sp>
      <p:sp>
        <p:nvSpPr>
          <p:cNvPr id="711" name="文本框 44"/>
          <p:cNvSpPr/>
          <p:nvPr/>
        </p:nvSpPr>
        <p:spPr>
          <a:xfrm>
            <a:off x="3084480" y="5388120"/>
            <a:ext cx="25524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形式一</a:t>
            </a:r>
            <a:endParaRPr b="0" lang="en-US" sz="2000" spc="-1" strike="noStrike">
              <a:solidFill>
                <a:srgbClr val="000000"/>
              </a:solidFill>
              <a:latin typeface="Arial"/>
            </a:endParaRPr>
          </a:p>
        </p:txBody>
      </p:sp>
      <p:sp>
        <p:nvSpPr>
          <p:cNvPr id="712" name="矩形 45"/>
          <p:cNvSpPr/>
          <p:nvPr/>
        </p:nvSpPr>
        <p:spPr>
          <a:xfrm>
            <a:off x="1306440" y="5786280"/>
            <a:ext cx="2290680" cy="4266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a:t>
            </a:r>
            <a:endParaRPr b="0" lang="en-US" sz="1400" spc="-1" strike="noStrike">
              <a:solidFill>
                <a:srgbClr val="000000"/>
              </a:solidFill>
              <a:latin typeface="Arial"/>
            </a:endParaRPr>
          </a:p>
        </p:txBody>
      </p:sp>
      <p:sp>
        <p:nvSpPr>
          <p:cNvPr id="713" name="文本框 46"/>
          <p:cNvSpPr/>
          <p:nvPr/>
        </p:nvSpPr>
        <p:spPr>
          <a:xfrm>
            <a:off x="8431200" y="2036880"/>
            <a:ext cx="104148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形式一</a:t>
            </a:r>
            <a:endParaRPr b="0" lang="en-US" sz="2000" spc="-1" strike="noStrike">
              <a:solidFill>
                <a:srgbClr val="000000"/>
              </a:solidFill>
              <a:latin typeface="Arial"/>
            </a:endParaRPr>
          </a:p>
        </p:txBody>
      </p:sp>
      <p:sp>
        <p:nvSpPr>
          <p:cNvPr id="714" name="矩形 47"/>
          <p:cNvSpPr/>
          <p:nvPr/>
        </p:nvSpPr>
        <p:spPr>
          <a:xfrm>
            <a:off x="8431200" y="2433600"/>
            <a:ext cx="219888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a:t>
            </a:r>
            <a:endParaRPr b="0" lang="en-US" sz="1400" spc="-1" strike="noStrike">
              <a:solidFill>
                <a:srgbClr val="000000"/>
              </a:solidFill>
              <a:latin typeface="Arial"/>
            </a:endParaRPr>
          </a:p>
        </p:txBody>
      </p:sp>
      <p:sp>
        <p:nvSpPr>
          <p:cNvPr id="715" name="文本框 48"/>
          <p:cNvSpPr/>
          <p:nvPr/>
        </p:nvSpPr>
        <p:spPr>
          <a:xfrm>
            <a:off x="9171000" y="3576600"/>
            <a:ext cx="104148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形式一</a:t>
            </a:r>
            <a:endParaRPr b="0" lang="en-US" sz="2000" spc="-1" strike="noStrike">
              <a:solidFill>
                <a:srgbClr val="000000"/>
              </a:solidFill>
              <a:latin typeface="Arial"/>
            </a:endParaRPr>
          </a:p>
        </p:txBody>
      </p:sp>
      <p:sp>
        <p:nvSpPr>
          <p:cNvPr id="716" name="矩形 49"/>
          <p:cNvSpPr/>
          <p:nvPr/>
        </p:nvSpPr>
        <p:spPr>
          <a:xfrm>
            <a:off x="9171000" y="3975120"/>
            <a:ext cx="22003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a:t>
            </a:r>
            <a:endParaRPr b="0" lang="en-US" sz="1400" spc="-1" strike="noStrike">
              <a:solidFill>
                <a:srgbClr val="000000"/>
              </a:solidFill>
              <a:latin typeface="Arial"/>
            </a:endParaRPr>
          </a:p>
        </p:txBody>
      </p:sp>
      <p:sp>
        <p:nvSpPr>
          <p:cNvPr id="717" name="文本框 50"/>
          <p:cNvSpPr/>
          <p:nvPr/>
        </p:nvSpPr>
        <p:spPr>
          <a:xfrm>
            <a:off x="8669160" y="5337000"/>
            <a:ext cx="104148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形式一</a:t>
            </a:r>
            <a:endParaRPr b="0" lang="en-US" sz="2000" spc="-1" strike="noStrike">
              <a:solidFill>
                <a:srgbClr val="000000"/>
              </a:solidFill>
              <a:latin typeface="Arial"/>
            </a:endParaRPr>
          </a:p>
        </p:txBody>
      </p:sp>
      <p:sp>
        <p:nvSpPr>
          <p:cNvPr id="718" name="矩形 51"/>
          <p:cNvSpPr/>
          <p:nvPr/>
        </p:nvSpPr>
        <p:spPr>
          <a:xfrm>
            <a:off x="8669160" y="5735520"/>
            <a:ext cx="219888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a:t>
            </a:r>
            <a:endParaRPr b="0" lang="en-US" sz="1400" spc="-1" strike="noStrike">
              <a:solidFill>
                <a:srgbClr val="000000"/>
              </a:solidFill>
              <a:latin typeface="Arial"/>
            </a:endParaRPr>
          </a:p>
        </p:txBody>
      </p:sp>
      <p:sp>
        <p:nvSpPr>
          <p:cNvPr id="719" name="文本框 54"/>
          <p:cNvSpPr/>
          <p:nvPr/>
        </p:nvSpPr>
        <p:spPr>
          <a:xfrm>
            <a:off x="711360" y="295200"/>
            <a:ext cx="380340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资金使用计划与进度</a:t>
            </a:r>
            <a:endParaRPr b="0" lang="en-US" sz="2500" spc="-1" strike="noStrike">
              <a:solidFill>
                <a:srgbClr val="000000"/>
              </a:solidFill>
              <a:latin typeface="Arial"/>
            </a:endParaRPr>
          </a:p>
        </p:txBody>
      </p:sp>
      <p:sp>
        <p:nvSpPr>
          <p:cNvPr id="720" name="椭圆 55"/>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1" name="组合 81"/>
          <p:cNvGrpSpPr/>
          <p:nvPr/>
        </p:nvGrpSpPr>
        <p:grpSpPr>
          <a:xfrm>
            <a:off x="0" y="1440"/>
            <a:ext cx="12192120" cy="3598920"/>
            <a:chOff x="0" y="1440"/>
            <a:chExt cx="12192120" cy="3598920"/>
          </a:xfrm>
        </p:grpSpPr>
        <p:sp>
          <p:nvSpPr>
            <p:cNvPr id="722" name="任意多边形 68"/>
            <p:cNvSpPr/>
            <p:nvPr/>
          </p:nvSpPr>
          <p:spPr>
            <a:xfrm>
              <a:off x="0" y="1754280"/>
              <a:ext cx="2154960" cy="1598400"/>
            </a:xfrm>
            <a:custGeom>
              <a:avLst/>
              <a:gdLst/>
              <a:ahLst/>
              <a:rect l="l" t="t" r="r" b="b"/>
              <a:pathLst>
                <a:path w="2134696" h="1738097">
                  <a:moveTo>
                    <a:pt x="1404997" y="1"/>
                  </a:moveTo>
                  <a:cubicBezTo>
                    <a:pt x="1593045" y="-42"/>
                    <a:pt x="1791012" y="20370"/>
                    <a:pt x="1993461" y="70682"/>
                  </a:cubicBezTo>
                  <a:lnTo>
                    <a:pt x="2129860" y="111734"/>
                  </a:lnTo>
                  <a:lnTo>
                    <a:pt x="2134696" y="462816"/>
                  </a:lnTo>
                  <a:lnTo>
                    <a:pt x="2111841" y="478304"/>
                  </a:lnTo>
                  <a:lnTo>
                    <a:pt x="2047462" y="468928"/>
                  </a:lnTo>
                  <a:cubicBezTo>
                    <a:pt x="1976018" y="460772"/>
                    <a:pt x="1904584" y="454911"/>
                    <a:pt x="1833064" y="451463"/>
                  </a:cubicBezTo>
                  <a:cubicBezTo>
                    <a:pt x="1745039" y="517658"/>
                    <a:pt x="1651513" y="583854"/>
                    <a:pt x="1557987" y="650049"/>
                  </a:cubicBezTo>
                  <a:cubicBezTo>
                    <a:pt x="1209328" y="901039"/>
                    <a:pt x="363103" y="1487057"/>
                    <a:pt x="58026" y="1697989"/>
                  </a:cubicBezTo>
                  <a:lnTo>
                    <a:pt x="0" y="1738097"/>
                  </a:lnTo>
                  <a:lnTo>
                    <a:pt x="0" y="362543"/>
                  </a:lnTo>
                  <a:lnTo>
                    <a:pt x="4519" y="360003"/>
                  </a:lnTo>
                  <a:cubicBezTo>
                    <a:pt x="159326" y="275337"/>
                    <a:pt x="715486" y="160"/>
                    <a:pt x="1404997" y="1"/>
                  </a:cubicBezTo>
                  <a:close/>
                </a:path>
              </a:pathLst>
            </a:custGeom>
            <a:solidFill>
              <a:srgbClr val="5b9bd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3" name="任意多边形 77"/>
            <p:cNvSpPr/>
            <p:nvPr/>
          </p:nvSpPr>
          <p:spPr>
            <a:xfrm>
              <a:off x="0" y="1440"/>
              <a:ext cx="12192120" cy="3384000"/>
            </a:xfrm>
            <a:custGeom>
              <a:avLst/>
              <a:gdLst/>
              <a:ahLst/>
              <a:rect l="l" t="t" r="r" b="b"/>
              <a:pathLst>
                <a:path w="12077282" h="3679404">
                  <a:moveTo>
                    <a:pt x="0" y="0"/>
                  </a:moveTo>
                  <a:lnTo>
                    <a:pt x="53624" y="0"/>
                  </a:lnTo>
                  <a:cubicBezTo>
                    <a:pt x="360918" y="0"/>
                    <a:pt x="1590096" y="0"/>
                    <a:pt x="6506808" y="0"/>
                  </a:cubicBezTo>
                  <a:cubicBezTo>
                    <a:pt x="6253824" y="380849"/>
                    <a:pt x="5599361" y="1501319"/>
                    <a:pt x="5819348" y="2627309"/>
                  </a:cubicBezTo>
                  <a:cubicBezTo>
                    <a:pt x="5819348" y="2627309"/>
                    <a:pt x="8222707" y="2743219"/>
                    <a:pt x="9322642" y="0"/>
                  </a:cubicBezTo>
                  <a:lnTo>
                    <a:pt x="12077282" y="0"/>
                  </a:lnTo>
                  <a:lnTo>
                    <a:pt x="12077282" y="2433366"/>
                  </a:lnTo>
                  <a:lnTo>
                    <a:pt x="11967026" y="2383207"/>
                  </a:lnTo>
                  <a:cubicBezTo>
                    <a:pt x="11166968" y="2046030"/>
                    <a:pt x="10401954" y="2118475"/>
                    <a:pt x="9762617" y="2268538"/>
                  </a:cubicBezTo>
                  <a:cubicBezTo>
                    <a:pt x="9080657" y="2434124"/>
                    <a:pt x="7216266" y="3273097"/>
                    <a:pt x="6501308" y="3565633"/>
                  </a:cubicBezTo>
                  <a:cubicBezTo>
                    <a:pt x="5780850" y="3863689"/>
                    <a:pt x="5225383" y="3515957"/>
                    <a:pt x="4515926" y="3212382"/>
                  </a:cubicBezTo>
                  <a:cubicBezTo>
                    <a:pt x="3800967" y="2914326"/>
                    <a:pt x="3366492" y="2478281"/>
                    <a:pt x="2200560" y="2069833"/>
                  </a:cubicBezTo>
                  <a:cubicBezTo>
                    <a:pt x="1180370" y="1707613"/>
                    <a:pt x="223340" y="2169444"/>
                    <a:pt x="23" y="2290562"/>
                  </a:cubicBezTo>
                  <a:lnTo>
                    <a:pt x="0" y="2290575"/>
                  </a:lnTo>
                  <a:lnTo>
                    <a:pt x="0" y="0"/>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任意多边形 69"/>
            <p:cNvSpPr/>
            <p:nvPr/>
          </p:nvSpPr>
          <p:spPr>
            <a:xfrm>
              <a:off x="0" y="2169360"/>
              <a:ext cx="4631040" cy="1431000"/>
            </a:xfrm>
            <a:custGeom>
              <a:avLst/>
              <a:gdLst/>
              <a:ahLst/>
              <a:rect l="l" t="t" r="r" b="b"/>
              <a:pathLst>
                <a:path w="4587618" h="1555835">
                  <a:moveTo>
                    <a:pt x="1825852" y="0"/>
                  </a:moveTo>
                  <a:cubicBezTo>
                    <a:pt x="2398011" y="27582"/>
                    <a:pt x="2964668" y="209619"/>
                    <a:pt x="3575337" y="485432"/>
                  </a:cubicBezTo>
                  <a:cubicBezTo>
                    <a:pt x="4064973" y="700566"/>
                    <a:pt x="4362056" y="821924"/>
                    <a:pt x="4587618" y="910184"/>
                  </a:cubicBezTo>
                  <a:cubicBezTo>
                    <a:pt x="4169502" y="755729"/>
                    <a:pt x="3377282" y="490948"/>
                    <a:pt x="2898649" y="474399"/>
                  </a:cubicBezTo>
                  <a:cubicBezTo>
                    <a:pt x="2233309" y="453713"/>
                    <a:pt x="1142459" y="675441"/>
                    <a:pt x="138343" y="1444116"/>
                  </a:cubicBezTo>
                  <a:lnTo>
                    <a:pt x="0" y="1555835"/>
                  </a:lnTo>
                  <a:lnTo>
                    <a:pt x="0" y="1281649"/>
                  </a:lnTo>
                  <a:lnTo>
                    <a:pt x="50814" y="1246526"/>
                  </a:lnTo>
                  <a:cubicBezTo>
                    <a:pt x="355891" y="1035594"/>
                    <a:pt x="1202116" y="449576"/>
                    <a:pt x="1550775" y="198586"/>
                  </a:cubicBezTo>
                  <a:cubicBezTo>
                    <a:pt x="1644301" y="132391"/>
                    <a:pt x="1737827" y="66195"/>
                    <a:pt x="1825852" y="0"/>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任意多边形 66"/>
            <p:cNvSpPr/>
            <p:nvPr/>
          </p:nvSpPr>
          <p:spPr>
            <a:xfrm>
              <a:off x="0" y="1780200"/>
              <a:ext cx="2249280" cy="776160"/>
            </a:xfrm>
            <a:custGeom>
              <a:avLst/>
              <a:gdLst/>
              <a:ahLst/>
              <a:rect l="l" t="t" r="r" b="b"/>
              <a:pathLst>
                <a:path w="2228194" h="844195">
                  <a:moveTo>
                    <a:pt x="1334038" y="279"/>
                  </a:moveTo>
                  <a:cubicBezTo>
                    <a:pt x="1606678" y="-3600"/>
                    <a:pt x="1900672" y="32603"/>
                    <a:pt x="2199959" y="136037"/>
                  </a:cubicBezTo>
                  <a:cubicBezTo>
                    <a:pt x="2205606" y="136037"/>
                    <a:pt x="2216900" y="141554"/>
                    <a:pt x="2228194" y="147070"/>
                  </a:cubicBezTo>
                  <a:cubicBezTo>
                    <a:pt x="2092668" y="218785"/>
                    <a:pt x="1957141" y="318083"/>
                    <a:pt x="1815968" y="422897"/>
                  </a:cubicBezTo>
                  <a:cubicBezTo>
                    <a:pt x="1623972" y="411864"/>
                    <a:pt x="1437623" y="417380"/>
                    <a:pt x="1245628" y="444963"/>
                  </a:cubicBezTo>
                  <a:cubicBezTo>
                    <a:pt x="698228" y="513230"/>
                    <a:pt x="257591" y="709261"/>
                    <a:pt x="35650" y="825113"/>
                  </a:cubicBezTo>
                  <a:lnTo>
                    <a:pt x="0" y="844195"/>
                  </a:lnTo>
                  <a:lnTo>
                    <a:pt x="0" y="326384"/>
                  </a:lnTo>
                  <a:lnTo>
                    <a:pt x="917" y="325917"/>
                  </a:lnTo>
                  <a:cubicBezTo>
                    <a:pt x="215250" y="220644"/>
                    <a:pt x="720595" y="9006"/>
                    <a:pt x="1334038" y="279"/>
                  </a:cubicBezTo>
                  <a:close/>
                </a:path>
              </a:pathLst>
            </a:custGeom>
            <a:solidFill>
              <a:srgbClr val="133c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Freeform 10"/>
            <p:cNvSpPr/>
            <p:nvPr/>
          </p:nvSpPr>
          <p:spPr>
            <a:xfrm>
              <a:off x="1843560" y="1915560"/>
              <a:ext cx="3114000" cy="1203480"/>
            </a:xfrm>
            <a:custGeom>
              <a:avLst/>
              <a:gdLst/>
              <a:ahLst/>
              <a:rect l="l" t="t" r="r" b="b"/>
              <a:pathLst>
                <a:path w="561" h="237">
                  <a:moveTo>
                    <a:pt x="551" y="233"/>
                  </a:moveTo>
                  <a:cubicBezTo>
                    <a:pt x="551" y="233"/>
                    <a:pt x="551" y="233"/>
                    <a:pt x="550" y="232"/>
                  </a:cubicBezTo>
                  <a:cubicBezTo>
                    <a:pt x="530" y="223"/>
                    <a:pt x="510" y="214"/>
                    <a:pt x="489" y="205"/>
                  </a:cubicBezTo>
                  <a:cubicBezTo>
                    <a:pt x="360" y="151"/>
                    <a:pt x="281" y="74"/>
                    <a:pt x="73" y="0"/>
                  </a:cubicBezTo>
                  <a:cubicBezTo>
                    <a:pt x="49" y="13"/>
                    <a:pt x="25" y="31"/>
                    <a:pt x="0" y="50"/>
                  </a:cubicBezTo>
                  <a:cubicBezTo>
                    <a:pt x="104" y="55"/>
                    <a:pt x="207" y="88"/>
                    <a:pt x="318" y="138"/>
                  </a:cubicBezTo>
                  <a:cubicBezTo>
                    <a:pt x="407" y="177"/>
                    <a:pt x="461" y="199"/>
                    <a:pt x="502" y="215"/>
                  </a:cubicBezTo>
                  <a:cubicBezTo>
                    <a:pt x="540" y="229"/>
                    <a:pt x="561" y="237"/>
                    <a:pt x="551" y="233"/>
                  </a:cubicBez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任意多边形 80"/>
            <p:cNvSpPr/>
            <p:nvPr/>
          </p:nvSpPr>
          <p:spPr>
            <a:xfrm>
              <a:off x="7462440" y="2457000"/>
              <a:ext cx="4729680" cy="927000"/>
            </a:xfrm>
            <a:custGeom>
              <a:avLst/>
              <a:gdLst/>
              <a:ahLst/>
              <a:rect l="l" t="t" r="r" b="b"/>
              <a:pathLst>
                <a:path w="4685142" h="1008081">
                  <a:moveTo>
                    <a:pt x="2241505" y="1606"/>
                  </a:moveTo>
                  <a:cubicBezTo>
                    <a:pt x="3533549" y="-30161"/>
                    <a:pt x="4423596" y="418483"/>
                    <a:pt x="4666875" y="557279"/>
                  </a:cubicBezTo>
                  <a:lnTo>
                    <a:pt x="4685142" y="567892"/>
                  </a:lnTo>
                  <a:lnTo>
                    <a:pt x="4685142" y="1008081"/>
                  </a:lnTo>
                  <a:lnTo>
                    <a:pt x="4653527" y="985133"/>
                  </a:lnTo>
                  <a:cubicBezTo>
                    <a:pt x="4256475" y="702629"/>
                    <a:pt x="2511308" y="-370990"/>
                    <a:pt x="0" y="531333"/>
                  </a:cubicBezTo>
                  <a:cubicBezTo>
                    <a:pt x="285907" y="421041"/>
                    <a:pt x="676280" y="277662"/>
                    <a:pt x="1099642" y="150827"/>
                  </a:cubicBezTo>
                  <a:cubicBezTo>
                    <a:pt x="1506854" y="54666"/>
                    <a:pt x="1889130" y="10270"/>
                    <a:pt x="2241505" y="1606"/>
                  </a:cubicBezTo>
                  <a:close/>
                </a:path>
              </a:pathLst>
            </a:custGeom>
            <a:solidFill>
              <a:srgbClr val="f0f6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任意多边形 79"/>
            <p:cNvSpPr/>
            <p:nvPr/>
          </p:nvSpPr>
          <p:spPr>
            <a:xfrm>
              <a:off x="8573400" y="2279880"/>
              <a:ext cx="3618720" cy="699840"/>
            </a:xfrm>
            <a:custGeom>
              <a:avLst/>
              <a:gdLst/>
              <a:ahLst/>
              <a:rect l="l" t="t" r="r" b="b"/>
              <a:pathLst>
                <a:path w="3584764" h="760973">
                  <a:moveTo>
                    <a:pt x="1700236" y="2562"/>
                  </a:moveTo>
                  <a:cubicBezTo>
                    <a:pt x="2414279" y="-20914"/>
                    <a:pt x="3052323" y="120595"/>
                    <a:pt x="3512551" y="278243"/>
                  </a:cubicBezTo>
                  <a:lnTo>
                    <a:pt x="3584764" y="304068"/>
                  </a:lnTo>
                  <a:lnTo>
                    <a:pt x="3584764" y="760973"/>
                  </a:lnTo>
                  <a:lnTo>
                    <a:pt x="3566511" y="750358"/>
                  </a:lnTo>
                  <a:cubicBezTo>
                    <a:pt x="3256945" y="573576"/>
                    <a:pt x="1899935" y="-105484"/>
                    <a:pt x="0" y="343601"/>
                  </a:cubicBezTo>
                  <a:cubicBezTo>
                    <a:pt x="291346" y="249783"/>
                    <a:pt x="604681" y="161484"/>
                    <a:pt x="896027" y="100778"/>
                  </a:cubicBezTo>
                  <a:cubicBezTo>
                    <a:pt x="1170882" y="41452"/>
                    <a:pt x="1440584" y="11099"/>
                    <a:pt x="1700236" y="2562"/>
                  </a:cubicBezTo>
                  <a:close/>
                </a:path>
              </a:pathLst>
            </a:custGeom>
            <a:solidFill>
              <a:srgbClr val="f37a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任意多边形 78"/>
            <p:cNvSpPr/>
            <p:nvPr/>
          </p:nvSpPr>
          <p:spPr>
            <a:xfrm>
              <a:off x="7666200" y="1971360"/>
              <a:ext cx="4525920" cy="882360"/>
            </a:xfrm>
            <a:custGeom>
              <a:avLst/>
              <a:gdLst/>
              <a:ahLst/>
              <a:rect l="l" t="t" r="r" b="b"/>
              <a:pathLst>
                <a:path w="4483200" h="959461">
                  <a:moveTo>
                    <a:pt x="3093176" y="874"/>
                  </a:moveTo>
                  <a:cubicBezTo>
                    <a:pt x="3290528" y="-3523"/>
                    <a:pt x="3494263" y="8374"/>
                    <a:pt x="3702639" y="43548"/>
                  </a:cubicBezTo>
                  <a:cubicBezTo>
                    <a:pt x="3904826" y="76654"/>
                    <a:pt x="4113202" y="134588"/>
                    <a:pt x="4323126" y="219679"/>
                  </a:cubicBezTo>
                  <a:lnTo>
                    <a:pt x="4483200" y="291414"/>
                  </a:lnTo>
                  <a:lnTo>
                    <a:pt x="4483200" y="638065"/>
                  </a:lnTo>
                  <a:lnTo>
                    <a:pt x="4412261" y="612722"/>
                  </a:lnTo>
                  <a:cubicBezTo>
                    <a:pt x="3784154" y="397792"/>
                    <a:pt x="2825119" y="212868"/>
                    <a:pt x="1793551" y="435294"/>
                  </a:cubicBezTo>
                  <a:cubicBezTo>
                    <a:pt x="1501962" y="495987"/>
                    <a:pt x="1188365" y="584268"/>
                    <a:pt x="896776" y="678066"/>
                  </a:cubicBezTo>
                  <a:cubicBezTo>
                    <a:pt x="605186" y="744277"/>
                    <a:pt x="308095" y="838075"/>
                    <a:pt x="0" y="959461"/>
                  </a:cubicBezTo>
                  <a:cubicBezTo>
                    <a:pt x="720722" y="650479"/>
                    <a:pt x="1551477" y="302873"/>
                    <a:pt x="2030124" y="164934"/>
                  </a:cubicBezTo>
                  <a:cubicBezTo>
                    <a:pt x="2079639" y="148382"/>
                    <a:pt x="2123653" y="137347"/>
                    <a:pt x="2167667" y="126312"/>
                  </a:cubicBezTo>
                  <a:cubicBezTo>
                    <a:pt x="2453067" y="60791"/>
                    <a:pt x="2764257" y="8202"/>
                    <a:pt x="3093176" y="874"/>
                  </a:cubicBez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Freeform 28"/>
            <p:cNvSpPr/>
            <p:nvPr/>
          </p:nvSpPr>
          <p:spPr>
            <a:xfrm>
              <a:off x="2249280" y="1788480"/>
              <a:ext cx="2648160" cy="1303920"/>
            </a:xfrm>
            <a:custGeom>
              <a:avLst/>
              <a:gdLst/>
              <a:ahLst/>
              <a:rect l="l" t="t" r="r" b="b"/>
              <a:pathLst>
                <a:path w="477" h="257">
                  <a:moveTo>
                    <a:pt x="477" y="257"/>
                  </a:moveTo>
                  <a:cubicBezTo>
                    <a:pt x="448" y="244"/>
                    <a:pt x="383" y="197"/>
                    <a:pt x="299" y="125"/>
                  </a:cubicBezTo>
                  <a:cubicBezTo>
                    <a:pt x="214" y="51"/>
                    <a:pt x="167" y="7"/>
                    <a:pt x="91" y="2"/>
                  </a:cubicBezTo>
                  <a:cubicBezTo>
                    <a:pt x="59" y="0"/>
                    <a:pt x="29" y="9"/>
                    <a:pt x="0" y="25"/>
                  </a:cubicBezTo>
                  <a:cubicBezTo>
                    <a:pt x="208" y="99"/>
                    <a:pt x="287" y="176"/>
                    <a:pt x="416" y="230"/>
                  </a:cubicBezTo>
                  <a:cubicBezTo>
                    <a:pt x="437" y="239"/>
                    <a:pt x="457" y="248"/>
                    <a:pt x="477" y="257"/>
                  </a:cubicBez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1" name="文本框 84"/>
          <p:cNvSpPr/>
          <p:nvPr/>
        </p:nvSpPr>
        <p:spPr>
          <a:xfrm>
            <a:off x="1581120" y="4248000"/>
            <a:ext cx="944892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1d087d"/>
                </a:solidFill>
                <a:latin typeface="Arial"/>
                <a:ea typeface="微软雅黑"/>
              </a:rPr>
              <a:t>THANKS</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d087d"/>
        </a:solidFill>
      </p:bgPr>
    </p:bg>
    <p:spTree>
      <p:nvGrpSpPr>
        <p:cNvPr id="1" name=""/>
        <p:cNvGrpSpPr/>
        <p:nvPr/>
      </p:nvGrpSpPr>
      <p:grpSpPr>
        <a:xfrm>
          <a:off x="0" y="0"/>
          <a:ext cx="0" cy="0"/>
          <a:chOff x="0" y="0"/>
          <a:chExt cx="0" cy="0"/>
        </a:xfrm>
      </p:grpSpPr>
      <p:sp>
        <p:nvSpPr>
          <p:cNvPr id="732" name="稻壳儿小白白(http://dwz.cn/Wu2UP)"/>
          <p:cNvSpPr/>
          <p:nvPr/>
        </p:nvSpPr>
        <p:spPr>
          <a:xfrm>
            <a:off x="10801440" y="5151600"/>
            <a:ext cx="355680" cy="510840"/>
          </a:xfrm>
          <a:custGeom>
            <a:avLst/>
            <a:gdLst/>
            <a:ahLst/>
            <a:rect l="l" t="t" r="r" b="b"/>
            <a:pathLst>
              <a:path w="443" h="634">
                <a:moveTo>
                  <a:pt x="412" y="589"/>
                </a:moveTo>
                <a:lnTo>
                  <a:pt x="412" y="589"/>
                </a:lnTo>
                <a:cubicBezTo>
                  <a:pt x="383" y="589"/>
                  <a:pt x="383" y="589"/>
                  <a:pt x="383" y="589"/>
                </a:cubicBezTo>
                <a:cubicBezTo>
                  <a:pt x="383" y="456"/>
                  <a:pt x="383" y="456"/>
                  <a:pt x="383" y="456"/>
                </a:cubicBezTo>
                <a:cubicBezTo>
                  <a:pt x="383" y="383"/>
                  <a:pt x="310" y="324"/>
                  <a:pt x="236" y="324"/>
                </a:cubicBezTo>
                <a:cubicBezTo>
                  <a:pt x="310" y="324"/>
                  <a:pt x="383" y="250"/>
                  <a:pt x="383" y="176"/>
                </a:cubicBezTo>
                <a:cubicBezTo>
                  <a:pt x="383" y="44"/>
                  <a:pt x="383" y="44"/>
                  <a:pt x="383" y="44"/>
                </a:cubicBezTo>
                <a:cubicBezTo>
                  <a:pt x="412" y="44"/>
                  <a:pt x="412" y="44"/>
                  <a:pt x="412" y="44"/>
                </a:cubicBezTo>
                <a:cubicBezTo>
                  <a:pt x="427" y="44"/>
                  <a:pt x="442" y="29"/>
                  <a:pt x="442" y="29"/>
                </a:cubicBezTo>
                <a:cubicBezTo>
                  <a:pt x="442" y="15"/>
                  <a:pt x="427" y="0"/>
                  <a:pt x="412" y="0"/>
                </a:cubicBezTo>
                <a:cubicBezTo>
                  <a:pt x="30" y="0"/>
                  <a:pt x="30" y="0"/>
                  <a:pt x="30" y="0"/>
                </a:cubicBezTo>
                <a:cubicBezTo>
                  <a:pt x="15" y="0"/>
                  <a:pt x="0" y="15"/>
                  <a:pt x="0" y="29"/>
                </a:cubicBezTo>
                <a:cubicBezTo>
                  <a:pt x="0" y="29"/>
                  <a:pt x="15" y="44"/>
                  <a:pt x="30" y="44"/>
                </a:cubicBezTo>
                <a:cubicBezTo>
                  <a:pt x="59" y="44"/>
                  <a:pt x="59" y="44"/>
                  <a:pt x="59" y="44"/>
                </a:cubicBezTo>
                <a:cubicBezTo>
                  <a:pt x="59" y="176"/>
                  <a:pt x="59" y="176"/>
                  <a:pt x="59" y="176"/>
                </a:cubicBezTo>
                <a:cubicBezTo>
                  <a:pt x="59" y="250"/>
                  <a:pt x="133" y="324"/>
                  <a:pt x="206" y="324"/>
                </a:cubicBezTo>
                <a:cubicBezTo>
                  <a:pt x="133" y="324"/>
                  <a:pt x="59" y="383"/>
                  <a:pt x="59" y="456"/>
                </a:cubicBezTo>
                <a:cubicBezTo>
                  <a:pt x="59" y="589"/>
                  <a:pt x="59" y="589"/>
                  <a:pt x="59" y="589"/>
                </a:cubicBezTo>
                <a:cubicBezTo>
                  <a:pt x="30" y="589"/>
                  <a:pt x="30" y="589"/>
                  <a:pt x="30" y="589"/>
                </a:cubicBezTo>
                <a:cubicBezTo>
                  <a:pt x="15" y="589"/>
                  <a:pt x="0" y="604"/>
                  <a:pt x="0" y="618"/>
                </a:cubicBezTo>
                <a:cubicBezTo>
                  <a:pt x="0" y="618"/>
                  <a:pt x="15" y="633"/>
                  <a:pt x="30" y="633"/>
                </a:cubicBezTo>
                <a:cubicBezTo>
                  <a:pt x="412" y="633"/>
                  <a:pt x="412" y="633"/>
                  <a:pt x="412" y="633"/>
                </a:cubicBezTo>
                <a:cubicBezTo>
                  <a:pt x="427" y="633"/>
                  <a:pt x="442" y="618"/>
                  <a:pt x="442" y="618"/>
                </a:cubicBezTo>
                <a:cubicBezTo>
                  <a:pt x="442" y="604"/>
                  <a:pt x="427" y="589"/>
                  <a:pt x="412" y="589"/>
                </a:cubicBezTo>
                <a:close/>
                <a:moveTo>
                  <a:pt x="103" y="176"/>
                </a:moveTo>
                <a:lnTo>
                  <a:pt x="103" y="176"/>
                </a:lnTo>
                <a:cubicBezTo>
                  <a:pt x="103" y="147"/>
                  <a:pt x="103" y="44"/>
                  <a:pt x="103" y="44"/>
                </a:cubicBezTo>
                <a:cubicBezTo>
                  <a:pt x="339" y="44"/>
                  <a:pt x="339" y="44"/>
                  <a:pt x="339" y="44"/>
                </a:cubicBezTo>
                <a:cubicBezTo>
                  <a:pt x="339" y="44"/>
                  <a:pt x="339" y="147"/>
                  <a:pt x="339" y="176"/>
                </a:cubicBezTo>
                <a:cubicBezTo>
                  <a:pt x="339" y="235"/>
                  <a:pt x="295" y="280"/>
                  <a:pt x="236" y="280"/>
                </a:cubicBezTo>
                <a:cubicBezTo>
                  <a:pt x="206" y="280"/>
                  <a:pt x="206" y="280"/>
                  <a:pt x="206" y="280"/>
                </a:cubicBezTo>
                <a:cubicBezTo>
                  <a:pt x="148" y="280"/>
                  <a:pt x="103" y="235"/>
                  <a:pt x="103" y="176"/>
                </a:cubicBezTo>
                <a:close/>
                <a:moveTo>
                  <a:pt x="339" y="589"/>
                </a:moveTo>
                <a:lnTo>
                  <a:pt x="339" y="589"/>
                </a:lnTo>
                <a:cubicBezTo>
                  <a:pt x="103" y="589"/>
                  <a:pt x="103" y="589"/>
                  <a:pt x="103" y="589"/>
                </a:cubicBezTo>
                <a:cubicBezTo>
                  <a:pt x="103" y="589"/>
                  <a:pt x="103" y="486"/>
                  <a:pt x="103" y="456"/>
                </a:cubicBezTo>
                <a:cubicBezTo>
                  <a:pt x="103" y="397"/>
                  <a:pt x="148" y="353"/>
                  <a:pt x="206" y="353"/>
                </a:cubicBezTo>
                <a:cubicBezTo>
                  <a:pt x="236" y="353"/>
                  <a:pt x="236" y="353"/>
                  <a:pt x="236" y="353"/>
                </a:cubicBezTo>
                <a:cubicBezTo>
                  <a:pt x="295" y="353"/>
                  <a:pt x="339" y="397"/>
                  <a:pt x="339" y="456"/>
                </a:cubicBezTo>
                <a:cubicBezTo>
                  <a:pt x="339" y="486"/>
                  <a:pt x="339" y="589"/>
                  <a:pt x="339" y="589"/>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33" name="稻壳儿小白白(http://dwz.cn/Wu2UP)"/>
          <p:cNvSpPr/>
          <p:nvPr/>
        </p:nvSpPr>
        <p:spPr>
          <a:xfrm>
            <a:off x="9952200" y="5176800"/>
            <a:ext cx="415800" cy="474840"/>
          </a:xfrm>
          <a:custGeom>
            <a:avLst/>
            <a:gdLst/>
            <a:ahLst/>
            <a:rect l="l" t="t" r="r" b="b"/>
            <a:pathLst>
              <a:path w="517" h="590">
                <a:moveTo>
                  <a:pt x="280" y="74"/>
                </a:moveTo>
                <a:lnTo>
                  <a:pt x="280" y="74"/>
                </a:lnTo>
                <a:cubicBezTo>
                  <a:pt x="280" y="30"/>
                  <a:pt x="280" y="30"/>
                  <a:pt x="280" y="30"/>
                </a:cubicBezTo>
                <a:cubicBezTo>
                  <a:pt x="353" y="30"/>
                  <a:pt x="353" y="30"/>
                  <a:pt x="353" y="30"/>
                </a:cubicBezTo>
                <a:cubicBezTo>
                  <a:pt x="369" y="30"/>
                  <a:pt x="383" y="30"/>
                  <a:pt x="383" y="15"/>
                </a:cubicBezTo>
                <a:cubicBezTo>
                  <a:pt x="383" y="0"/>
                  <a:pt x="369" y="0"/>
                  <a:pt x="353" y="0"/>
                </a:cubicBezTo>
                <a:cubicBezTo>
                  <a:pt x="162" y="0"/>
                  <a:pt x="162" y="0"/>
                  <a:pt x="162" y="0"/>
                </a:cubicBezTo>
                <a:cubicBezTo>
                  <a:pt x="148" y="0"/>
                  <a:pt x="148" y="0"/>
                  <a:pt x="148" y="15"/>
                </a:cubicBezTo>
                <a:cubicBezTo>
                  <a:pt x="148" y="30"/>
                  <a:pt x="148" y="30"/>
                  <a:pt x="162" y="30"/>
                </a:cubicBezTo>
                <a:cubicBezTo>
                  <a:pt x="236" y="30"/>
                  <a:pt x="236" y="30"/>
                  <a:pt x="236" y="30"/>
                </a:cubicBezTo>
                <a:cubicBezTo>
                  <a:pt x="236" y="74"/>
                  <a:pt x="236" y="74"/>
                  <a:pt x="236" y="74"/>
                </a:cubicBezTo>
                <a:cubicBezTo>
                  <a:pt x="103" y="89"/>
                  <a:pt x="0" y="192"/>
                  <a:pt x="0" y="324"/>
                </a:cubicBezTo>
                <a:cubicBezTo>
                  <a:pt x="0" y="472"/>
                  <a:pt x="118" y="589"/>
                  <a:pt x="265" y="589"/>
                </a:cubicBezTo>
                <a:cubicBezTo>
                  <a:pt x="398" y="589"/>
                  <a:pt x="516" y="472"/>
                  <a:pt x="516" y="324"/>
                </a:cubicBezTo>
                <a:cubicBezTo>
                  <a:pt x="516" y="192"/>
                  <a:pt x="412" y="89"/>
                  <a:pt x="280" y="74"/>
                </a:cubicBezTo>
                <a:close/>
                <a:moveTo>
                  <a:pt x="265" y="545"/>
                </a:moveTo>
                <a:lnTo>
                  <a:pt x="265" y="545"/>
                </a:lnTo>
                <a:cubicBezTo>
                  <a:pt x="148" y="545"/>
                  <a:pt x="44" y="442"/>
                  <a:pt x="44" y="324"/>
                </a:cubicBezTo>
                <a:cubicBezTo>
                  <a:pt x="44" y="206"/>
                  <a:pt x="148" y="118"/>
                  <a:pt x="265" y="118"/>
                </a:cubicBezTo>
                <a:cubicBezTo>
                  <a:pt x="383" y="118"/>
                  <a:pt x="471" y="206"/>
                  <a:pt x="471" y="324"/>
                </a:cubicBezTo>
                <a:cubicBezTo>
                  <a:pt x="471" y="442"/>
                  <a:pt x="383" y="545"/>
                  <a:pt x="265" y="545"/>
                </a:cubicBezTo>
                <a:close/>
                <a:moveTo>
                  <a:pt x="280" y="280"/>
                </a:moveTo>
                <a:lnTo>
                  <a:pt x="280" y="280"/>
                </a:lnTo>
                <a:cubicBezTo>
                  <a:pt x="280" y="177"/>
                  <a:pt x="280" y="177"/>
                  <a:pt x="280" y="177"/>
                </a:cubicBezTo>
                <a:cubicBezTo>
                  <a:pt x="280" y="163"/>
                  <a:pt x="265" y="147"/>
                  <a:pt x="265" y="147"/>
                </a:cubicBezTo>
                <a:cubicBezTo>
                  <a:pt x="251" y="147"/>
                  <a:pt x="236" y="163"/>
                  <a:pt x="236" y="177"/>
                </a:cubicBezTo>
                <a:cubicBezTo>
                  <a:pt x="236" y="280"/>
                  <a:pt x="236" y="280"/>
                  <a:pt x="236" y="280"/>
                </a:cubicBezTo>
                <a:cubicBezTo>
                  <a:pt x="221" y="280"/>
                  <a:pt x="207" y="309"/>
                  <a:pt x="207" y="324"/>
                </a:cubicBezTo>
                <a:cubicBezTo>
                  <a:pt x="207" y="368"/>
                  <a:pt x="221" y="383"/>
                  <a:pt x="265" y="383"/>
                </a:cubicBezTo>
                <a:cubicBezTo>
                  <a:pt x="295" y="383"/>
                  <a:pt x="324" y="368"/>
                  <a:pt x="324" y="324"/>
                </a:cubicBezTo>
                <a:cubicBezTo>
                  <a:pt x="324" y="309"/>
                  <a:pt x="310" y="280"/>
                  <a:pt x="280" y="280"/>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34" name="稻壳儿小白白(http://dwz.cn/Wu2UP)"/>
          <p:cNvSpPr/>
          <p:nvPr/>
        </p:nvSpPr>
        <p:spPr>
          <a:xfrm>
            <a:off x="9101160" y="5176800"/>
            <a:ext cx="474480" cy="474840"/>
          </a:xfrm>
          <a:custGeom>
            <a:avLst/>
            <a:gdLst/>
            <a:ahLst/>
            <a:rect l="l" t="t" r="r" b="b"/>
            <a:pathLst>
              <a:path w="590" h="590">
                <a:moveTo>
                  <a:pt x="236" y="398"/>
                </a:moveTo>
                <a:lnTo>
                  <a:pt x="236" y="398"/>
                </a:lnTo>
                <a:cubicBezTo>
                  <a:pt x="251" y="309"/>
                  <a:pt x="251" y="309"/>
                  <a:pt x="251" y="309"/>
                </a:cubicBezTo>
                <a:cubicBezTo>
                  <a:pt x="221" y="295"/>
                  <a:pt x="221" y="295"/>
                  <a:pt x="221" y="295"/>
                </a:cubicBezTo>
                <a:cubicBezTo>
                  <a:pt x="192" y="472"/>
                  <a:pt x="192" y="472"/>
                  <a:pt x="192" y="472"/>
                </a:cubicBezTo>
                <a:cubicBezTo>
                  <a:pt x="339" y="354"/>
                  <a:pt x="339" y="354"/>
                  <a:pt x="339" y="354"/>
                </a:cubicBezTo>
                <a:cubicBezTo>
                  <a:pt x="295" y="339"/>
                  <a:pt x="295" y="339"/>
                  <a:pt x="295" y="339"/>
                </a:cubicBezTo>
                <a:lnTo>
                  <a:pt x="236" y="398"/>
                </a:lnTo>
                <a:close/>
                <a:moveTo>
                  <a:pt x="324" y="295"/>
                </a:moveTo>
                <a:lnTo>
                  <a:pt x="324" y="295"/>
                </a:lnTo>
                <a:cubicBezTo>
                  <a:pt x="324" y="280"/>
                  <a:pt x="310" y="265"/>
                  <a:pt x="295" y="265"/>
                </a:cubicBezTo>
                <a:cubicBezTo>
                  <a:pt x="280" y="265"/>
                  <a:pt x="265" y="280"/>
                  <a:pt x="265" y="295"/>
                </a:cubicBezTo>
                <a:cubicBezTo>
                  <a:pt x="265" y="309"/>
                  <a:pt x="280" y="324"/>
                  <a:pt x="295" y="324"/>
                </a:cubicBezTo>
                <a:cubicBezTo>
                  <a:pt x="310" y="324"/>
                  <a:pt x="324" y="309"/>
                  <a:pt x="324" y="295"/>
                </a:cubicBezTo>
                <a:close/>
                <a:moveTo>
                  <a:pt x="295" y="0"/>
                </a:moveTo>
                <a:lnTo>
                  <a:pt x="295" y="0"/>
                </a:lnTo>
                <a:cubicBezTo>
                  <a:pt x="133" y="0"/>
                  <a:pt x="0" y="133"/>
                  <a:pt x="0" y="295"/>
                </a:cubicBezTo>
                <a:cubicBezTo>
                  <a:pt x="0" y="457"/>
                  <a:pt x="133" y="589"/>
                  <a:pt x="295" y="589"/>
                </a:cubicBezTo>
                <a:cubicBezTo>
                  <a:pt x="457" y="589"/>
                  <a:pt x="589" y="457"/>
                  <a:pt x="589" y="295"/>
                </a:cubicBezTo>
                <a:cubicBezTo>
                  <a:pt x="589" y="133"/>
                  <a:pt x="457" y="0"/>
                  <a:pt x="295" y="0"/>
                </a:cubicBezTo>
                <a:close/>
                <a:moveTo>
                  <a:pt x="295" y="545"/>
                </a:moveTo>
                <a:lnTo>
                  <a:pt x="295" y="545"/>
                </a:lnTo>
                <a:cubicBezTo>
                  <a:pt x="162" y="545"/>
                  <a:pt x="45" y="427"/>
                  <a:pt x="45" y="295"/>
                </a:cubicBezTo>
                <a:cubicBezTo>
                  <a:pt x="45" y="147"/>
                  <a:pt x="162" y="30"/>
                  <a:pt x="295" y="30"/>
                </a:cubicBezTo>
                <a:cubicBezTo>
                  <a:pt x="442" y="30"/>
                  <a:pt x="560" y="147"/>
                  <a:pt x="560" y="295"/>
                </a:cubicBezTo>
                <a:cubicBezTo>
                  <a:pt x="560" y="427"/>
                  <a:pt x="442" y="545"/>
                  <a:pt x="295" y="545"/>
                </a:cubicBezTo>
                <a:close/>
                <a:moveTo>
                  <a:pt x="280" y="265"/>
                </a:moveTo>
                <a:lnTo>
                  <a:pt x="280" y="265"/>
                </a:lnTo>
                <a:cubicBezTo>
                  <a:pt x="354" y="192"/>
                  <a:pt x="354" y="192"/>
                  <a:pt x="354" y="192"/>
                </a:cubicBezTo>
                <a:cubicBezTo>
                  <a:pt x="324" y="295"/>
                  <a:pt x="324" y="295"/>
                  <a:pt x="324" y="295"/>
                </a:cubicBezTo>
                <a:cubicBezTo>
                  <a:pt x="369" y="309"/>
                  <a:pt x="369" y="309"/>
                  <a:pt x="369" y="309"/>
                </a:cubicBezTo>
                <a:cubicBezTo>
                  <a:pt x="383" y="133"/>
                  <a:pt x="383" y="133"/>
                  <a:pt x="383" y="133"/>
                </a:cubicBezTo>
                <a:cubicBezTo>
                  <a:pt x="251" y="236"/>
                  <a:pt x="251" y="236"/>
                  <a:pt x="251" y="236"/>
                </a:cubicBezTo>
                <a:lnTo>
                  <a:pt x="280" y="265"/>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35" name="稻壳儿小白白(http://dwz.cn/Wu2UP)"/>
          <p:cNvSpPr/>
          <p:nvPr/>
        </p:nvSpPr>
        <p:spPr>
          <a:xfrm>
            <a:off x="8273880" y="5151600"/>
            <a:ext cx="495360" cy="510840"/>
          </a:xfrm>
          <a:custGeom>
            <a:avLst/>
            <a:gdLst/>
            <a:ahLst/>
            <a:rect l="l" t="t" r="r" b="b"/>
            <a:pathLst>
              <a:path w="619" h="634">
                <a:moveTo>
                  <a:pt x="294" y="559"/>
                </a:moveTo>
                <a:lnTo>
                  <a:pt x="294" y="559"/>
                </a:lnTo>
                <a:cubicBezTo>
                  <a:pt x="324" y="559"/>
                  <a:pt x="324" y="559"/>
                  <a:pt x="324" y="559"/>
                </a:cubicBezTo>
                <a:cubicBezTo>
                  <a:pt x="324" y="515"/>
                  <a:pt x="324" y="515"/>
                  <a:pt x="324" y="515"/>
                </a:cubicBezTo>
                <a:cubicBezTo>
                  <a:pt x="294" y="515"/>
                  <a:pt x="294" y="515"/>
                  <a:pt x="294" y="515"/>
                </a:cubicBezTo>
                <a:lnTo>
                  <a:pt x="294" y="559"/>
                </a:lnTo>
                <a:close/>
                <a:moveTo>
                  <a:pt x="132" y="456"/>
                </a:moveTo>
                <a:lnTo>
                  <a:pt x="132" y="456"/>
                </a:lnTo>
                <a:cubicBezTo>
                  <a:pt x="147" y="486"/>
                  <a:pt x="147" y="486"/>
                  <a:pt x="147" y="486"/>
                </a:cubicBezTo>
                <a:cubicBezTo>
                  <a:pt x="177" y="456"/>
                  <a:pt x="177" y="456"/>
                  <a:pt x="177" y="456"/>
                </a:cubicBezTo>
                <a:cubicBezTo>
                  <a:pt x="147" y="427"/>
                  <a:pt x="147" y="427"/>
                  <a:pt x="147" y="427"/>
                </a:cubicBezTo>
                <a:lnTo>
                  <a:pt x="132" y="456"/>
                </a:lnTo>
                <a:close/>
                <a:moveTo>
                  <a:pt x="191" y="162"/>
                </a:moveTo>
                <a:lnTo>
                  <a:pt x="191" y="162"/>
                </a:lnTo>
                <a:cubicBezTo>
                  <a:pt x="162" y="147"/>
                  <a:pt x="162" y="147"/>
                  <a:pt x="162" y="147"/>
                </a:cubicBezTo>
                <a:cubicBezTo>
                  <a:pt x="132" y="162"/>
                  <a:pt x="132" y="162"/>
                  <a:pt x="132" y="162"/>
                </a:cubicBezTo>
                <a:cubicBezTo>
                  <a:pt x="162" y="192"/>
                  <a:pt x="162" y="192"/>
                  <a:pt x="162" y="192"/>
                </a:cubicBezTo>
                <a:lnTo>
                  <a:pt x="191" y="162"/>
                </a:lnTo>
                <a:close/>
                <a:moveTo>
                  <a:pt x="309" y="88"/>
                </a:moveTo>
                <a:lnTo>
                  <a:pt x="309" y="88"/>
                </a:lnTo>
                <a:cubicBezTo>
                  <a:pt x="294" y="88"/>
                  <a:pt x="294" y="88"/>
                  <a:pt x="294" y="103"/>
                </a:cubicBezTo>
                <a:cubicBezTo>
                  <a:pt x="294" y="294"/>
                  <a:pt x="294" y="294"/>
                  <a:pt x="294" y="294"/>
                </a:cubicBezTo>
                <a:cubicBezTo>
                  <a:pt x="132" y="294"/>
                  <a:pt x="132" y="294"/>
                  <a:pt x="132" y="294"/>
                </a:cubicBezTo>
                <a:cubicBezTo>
                  <a:pt x="118" y="294"/>
                  <a:pt x="118" y="309"/>
                  <a:pt x="118" y="324"/>
                </a:cubicBezTo>
                <a:cubicBezTo>
                  <a:pt x="118" y="324"/>
                  <a:pt x="118" y="338"/>
                  <a:pt x="132" y="338"/>
                </a:cubicBezTo>
                <a:cubicBezTo>
                  <a:pt x="309" y="338"/>
                  <a:pt x="309" y="338"/>
                  <a:pt x="309" y="338"/>
                </a:cubicBezTo>
                <a:cubicBezTo>
                  <a:pt x="324" y="338"/>
                  <a:pt x="324" y="324"/>
                  <a:pt x="324" y="324"/>
                </a:cubicBezTo>
                <a:cubicBezTo>
                  <a:pt x="324" y="103"/>
                  <a:pt x="324" y="103"/>
                  <a:pt x="324" y="103"/>
                </a:cubicBezTo>
                <a:cubicBezTo>
                  <a:pt x="324" y="88"/>
                  <a:pt x="324" y="88"/>
                  <a:pt x="309" y="88"/>
                </a:cubicBezTo>
                <a:close/>
                <a:moveTo>
                  <a:pt x="427" y="456"/>
                </a:moveTo>
                <a:lnTo>
                  <a:pt x="427" y="456"/>
                </a:lnTo>
                <a:cubicBezTo>
                  <a:pt x="456" y="486"/>
                  <a:pt x="456" y="486"/>
                  <a:pt x="456" y="486"/>
                </a:cubicBezTo>
                <a:cubicBezTo>
                  <a:pt x="471" y="456"/>
                  <a:pt x="471" y="456"/>
                  <a:pt x="471" y="456"/>
                </a:cubicBezTo>
                <a:cubicBezTo>
                  <a:pt x="456" y="427"/>
                  <a:pt x="456" y="427"/>
                  <a:pt x="456" y="427"/>
                </a:cubicBezTo>
                <a:lnTo>
                  <a:pt x="427" y="456"/>
                </a:lnTo>
                <a:close/>
                <a:moveTo>
                  <a:pt x="427" y="162"/>
                </a:moveTo>
                <a:lnTo>
                  <a:pt x="427" y="162"/>
                </a:lnTo>
                <a:cubicBezTo>
                  <a:pt x="456" y="192"/>
                  <a:pt x="456" y="192"/>
                  <a:pt x="456" y="192"/>
                </a:cubicBezTo>
                <a:cubicBezTo>
                  <a:pt x="486" y="162"/>
                  <a:pt x="486" y="162"/>
                  <a:pt x="486" y="162"/>
                </a:cubicBezTo>
                <a:cubicBezTo>
                  <a:pt x="456" y="147"/>
                  <a:pt x="456" y="147"/>
                  <a:pt x="456" y="147"/>
                </a:cubicBezTo>
                <a:lnTo>
                  <a:pt x="427" y="162"/>
                </a:lnTo>
                <a:close/>
                <a:moveTo>
                  <a:pt x="309" y="0"/>
                </a:moveTo>
                <a:lnTo>
                  <a:pt x="309" y="0"/>
                </a:lnTo>
                <a:cubicBezTo>
                  <a:pt x="132" y="0"/>
                  <a:pt x="0" y="147"/>
                  <a:pt x="0" y="324"/>
                </a:cubicBezTo>
                <a:cubicBezTo>
                  <a:pt x="0" y="486"/>
                  <a:pt x="132" y="633"/>
                  <a:pt x="309" y="633"/>
                </a:cubicBezTo>
                <a:cubicBezTo>
                  <a:pt x="486" y="633"/>
                  <a:pt x="618" y="486"/>
                  <a:pt x="618" y="324"/>
                </a:cubicBezTo>
                <a:cubicBezTo>
                  <a:pt x="618" y="147"/>
                  <a:pt x="486" y="0"/>
                  <a:pt x="309" y="0"/>
                </a:cubicBezTo>
                <a:close/>
                <a:moveTo>
                  <a:pt x="309" y="589"/>
                </a:moveTo>
                <a:lnTo>
                  <a:pt x="309" y="589"/>
                </a:lnTo>
                <a:cubicBezTo>
                  <a:pt x="162" y="589"/>
                  <a:pt x="29" y="471"/>
                  <a:pt x="29" y="324"/>
                </a:cubicBezTo>
                <a:cubicBezTo>
                  <a:pt x="29" y="162"/>
                  <a:pt x="162" y="44"/>
                  <a:pt x="309" y="44"/>
                </a:cubicBezTo>
                <a:cubicBezTo>
                  <a:pt x="456" y="44"/>
                  <a:pt x="589" y="162"/>
                  <a:pt x="589" y="324"/>
                </a:cubicBezTo>
                <a:cubicBezTo>
                  <a:pt x="589" y="471"/>
                  <a:pt x="456" y="589"/>
                  <a:pt x="309" y="589"/>
                </a:cubicBezTo>
                <a:close/>
                <a:moveTo>
                  <a:pt x="500" y="294"/>
                </a:moveTo>
                <a:lnTo>
                  <a:pt x="500" y="294"/>
                </a:lnTo>
                <a:cubicBezTo>
                  <a:pt x="500" y="338"/>
                  <a:pt x="500" y="338"/>
                  <a:pt x="500" y="338"/>
                </a:cubicBezTo>
                <a:cubicBezTo>
                  <a:pt x="545" y="338"/>
                  <a:pt x="545" y="338"/>
                  <a:pt x="545" y="338"/>
                </a:cubicBezTo>
                <a:cubicBezTo>
                  <a:pt x="545" y="294"/>
                  <a:pt x="545" y="294"/>
                  <a:pt x="545" y="294"/>
                </a:cubicBezTo>
                <a:lnTo>
                  <a:pt x="500" y="294"/>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36" name="稻壳儿小白白(http://dwz.cn/Wu2UP)"/>
          <p:cNvSpPr/>
          <p:nvPr/>
        </p:nvSpPr>
        <p:spPr>
          <a:xfrm>
            <a:off x="7443720" y="5151600"/>
            <a:ext cx="511200" cy="510840"/>
          </a:xfrm>
          <a:custGeom>
            <a:avLst/>
            <a:gdLst/>
            <a:ahLst/>
            <a:rect l="l" t="t" r="r" b="b"/>
            <a:pathLst>
              <a:path w="634" h="634">
                <a:moveTo>
                  <a:pt x="45" y="103"/>
                </a:moveTo>
                <a:lnTo>
                  <a:pt x="45" y="103"/>
                </a:lnTo>
                <a:cubicBezTo>
                  <a:pt x="45" y="74"/>
                  <a:pt x="74" y="44"/>
                  <a:pt x="103" y="44"/>
                </a:cubicBezTo>
                <a:cubicBezTo>
                  <a:pt x="148" y="44"/>
                  <a:pt x="148" y="44"/>
                  <a:pt x="148" y="44"/>
                </a:cubicBezTo>
                <a:cubicBezTo>
                  <a:pt x="148" y="0"/>
                  <a:pt x="148" y="0"/>
                  <a:pt x="148" y="0"/>
                </a:cubicBezTo>
                <a:cubicBezTo>
                  <a:pt x="103" y="0"/>
                  <a:pt x="103" y="0"/>
                  <a:pt x="103" y="0"/>
                </a:cubicBezTo>
                <a:cubicBezTo>
                  <a:pt x="45" y="0"/>
                  <a:pt x="0" y="44"/>
                  <a:pt x="0" y="103"/>
                </a:cubicBezTo>
                <a:cubicBezTo>
                  <a:pt x="0" y="147"/>
                  <a:pt x="0" y="147"/>
                  <a:pt x="0" y="147"/>
                </a:cubicBezTo>
                <a:cubicBezTo>
                  <a:pt x="30" y="147"/>
                  <a:pt x="45" y="147"/>
                  <a:pt x="45" y="147"/>
                </a:cubicBezTo>
                <a:lnTo>
                  <a:pt x="45" y="103"/>
                </a:lnTo>
                <a:close/>
                <a:moveTo>
                  <a:pt x="457" y="294"/>
                </a:moveTo>
                <a:lnTo>
                  <a:pt x="457" y="294"/>
                </a:lnTo>
                <a:cubicBezTo>
                  <a:pt x="339" y="294"/>
                  <a:pt x="339" y="294"/>
                  <a:pt x="339" y="294"/>
                </a:cubicBezTo>
                <a:cubicBezTo>
                  <a:pt x="339" y="162"/>
                  <a:pt x="339" y="162"/>
                  <a:pt x="339" y="162"/>
                </a:cubicBezTo>
                <a:cubicBezTo>
                  <a:pt x="339" y="147"/>
                  <a:pt x="324" y="147"/>
                  <a:pt x="324" y="147"/>
                </a:cubicBezTo>
                <a:cubicBezTo>
                  <a:pt x="310" y="147"/>
                  <a:pt x="295" y="147"/>
                  <a:pt x="295" y="162"/>
                </a:cubicBezTo>
                <a:cubicBezTo>
                  <a:pt x="295" y="324"/>
                  <a:pt x="295" y="324"/>
                  <a:pt x="295" y="324"/>
                </a:cubicBezTo>
                <a:cubicBezTo>
                  <a:pt x="295" y="324"/>
                  <a:pt x="310" y="338"/>
                  <a:pt x="324" y="338"/>
                </a:cubicBezTo>
                <a:cubicBezTo>
                  <a:pt x="457" y="338"/>
                  <a:pt x="457" y="338"/>
                  <a:pt x="457" y="338"/>
                </a:cubicBezTo>
                <a:cubicBezTo>
                  <a:pt x="471" y="338"/>
                  <a:pt x="471" y="324"/>
                  <a:pt x="471" y="324"/>
                </a:cubicBezTo>
                <a:cubicBezTo>
                  <a:pt x="471" y="309"/>
                  <a:pt x="471" y="294"/>
                  <a:pt x="457" y="294"/>
                </a:cubicBezTo>
                <a:close/>
                <a:moveTo>
                  <a:pt x="589" y="324"/>
                </a:moveTo>
                <a:lnTo>
                  <a:pt x="589" y="324"/>
                </a:lnTo>
                <a:cubicBezTo>
                  <a:pt x="589" y="162"/>
                  <a:pt x="471" y="44"/>
                  <a:pt x="324" y="44"/>
                </a:cubicBezTo>
                <a:cubicBezTo>
                  <a:pt x="162" y="44"/>
                  <a:pt x="45" y="162"/>
                  <a:pt x="45" y="324"/>
                </a:cubicBezTo>
                <a:cubicBezTo>
                  <a:pt x="45" y="427"/>
                  <a:pt x="103" y="515"/>
                  <a:pt x="192" y="559"/>
                </a:cubicBezTo>
                <a:cubicBezTo>
                  <a:pt x="118" y="633"/>
                  <a:pt x="118" y="633"/>
                  <a:pt x="118" y="633"/>
                </a:cubicBezTo>
                <a:cubicBezTo>
                  <a:pt x="177" y="633"/>
                  <a:pt x="177" y="633"/>
                  <a:pt x="177" y="633"/>
                </a:cubicBezTo>
                <a:cubicBezTo>
                  <a:pt x="236" y="574"/>
                  <a:pt x="236" y="574"/>
                  <a:pt x="236" y="574"/>
                </a:cubicBezTo>
                <a:cubicBezTo>
                  <a:pt x="265" y="589"/>
                  <a:pt x="295" y="589"/>
                  <a:pt x="324" y="589"/>
                </a:cubicBezTo>
                <a:cubicBezTo>
                  <a:pt x="354" y="589"/>
                  <a:pt x="383" y="589"/>
                  <a:pt x="398" y="574"/>
                </a:cubicBezTo>
                <a:cubicBezTo>
                  <a:pt x="457" y="633"/>
                  <a:pt x="457" y="633"/>
                  <a:pt x="457" y="633"/>
                </a:cubicBezTo>
                <a:cubicBezTo>
                  <a:pt x="516" y="633"/>
                  <a:pt x="516" y="633"/>
                  <a:pt x="516" y="633"/>
                </a:cubicBezTo>
                <a:cubicBezTo>
                  <a:pt x="457" y="559"/>
                  <a:pt x="457" y="559"/>
                  <a:pt x="457" y="559"/>
                </a:cubicBezTo>
                <a:cubicBezTo>
                  <a:pt x="530" y="515"/>
                  <a:pt x="589" y="427"/>
                  <a:pt x="589" y="324"/>
                </a:cubicBezTo>
                <a:close/>
                <a:moveTo>
                  <a:pt x="324" y="559"/>
                </a:moveTo>
                <a:lnTo>
                  <a:pt x="324" y="559"/>
                </a:lnTo>
                <a:cubicBezTo>
                  <a:pt x="192" y="559"/>
                  <a:pt x="89" y="456"/>
                  <a:pt x="89" y="324"/>
                </a:cubicBezTo>
                <a:cubicBezTo>
                  <a:pt x="89" y="192"/>
                  <a:pt x="192" y="88"/>
                  <a:pt x="324" y="88"/>
                </a:cubicBezTo>
                <a:cubicBezTo>
                  <a:pt x="457" y="88"/>
                  <a:pt x="560" y="192"/>
                  <a:pt x="560" y="324"/>
                </a:cubicBezTo>
                <a:cubicBezTo>
                  <a:pt x="560" y="456"/>
                  <a:pt x="457" y="559"/>
                  <a:pt x="324" y="559"/>
                </a:cubicBezTo>
                <a:close/>
                <a:moveTo>
                  <a:pt x="530" y="0"/>
                </a:moveTo>
                <a:lnTo>
                  <a:pt x="530" y="0"/>
                </a:lnTo>
                <a:cubicBezTo>
                  <a:pt x="501" y="0"/>
                  <a:pt x="501" y="0"/>
                  <a:pt x="501" y="0"/>
                </a:cubicBezTo>
                <a:cubicBezTo>
                  <a:pt x="501" y="44"/>
                  <a:pt x="501" y="44"/>
                  <a:pt x="501" y="44"/>
                </a:cubicBezTo>
                <a:cubicBezTo>
                  <a:pt x="530" y="44"/>
                  <a:pt x="530" y="44"/>
                  <a:pt x="530" y="44"/>
                </a:cubicBezTo>
                <a:cubicBezTo>
                  <a:pt x="575" y="44"/>
                  <a:pt x="589" y="74"/>
                  <a:pt x="589" y="103"/>
                </a:cubicBezTo>
                <a:cubicBezTo>
                  <a:pt x="589" y="147"/>
                  <a:pt x="589" y="147"/>
                  <a:pt x="589" y="147"/>
                </a:cubicBezTo>
                <a:cubicBezTo>
                  <a:pt x="604" y="147"/>
                  <a:pt x="604" y="147"/>
                  <a:pt x="633" y="147"/>
                </a:cubicBezTo>
                <a:cubicBezTo>
                  <a:pt x="633" y="103"/>
                  <a:pt x="633" y="103"/>
                  <a:pt x="633" y="103"/>
                </a:cubicBezTo>
                <a:cubicBezTo>
                  <a:pt x="633" y="44"/>
                  <a:pt x="589" y="0"/>
                  <a:pt x="530" y="0"/>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37" name="稻壳儿小白白(http://dwz.cn/Wu2UP)"/>
          <p:cNvSpPr/>
          <p:nvPr/>
        </p:nvSpPr>
        <p:spPr>
          <a:xfrm>
            <a:off x="6640560" y="5151600"/>
            <a:ext cx="473040" cy="510840"/>
          </a:xfrm>
          <a:custGeom>
            <a:avLst/>
            <a:gdLst/>
            <a:ahLst/>
            <a:rect l="l" t="t" r="r" b="b"/>
            <a:pathLst>
              <a:path w="590" h="634">
                <a:moveTo>
                  <a:pt x="442" y="559"/>
                </a:moveTo>
                <a:lnTo>
                  <a:pt x="442" y="559"/>
                </a:lnTo>
                <a:cubicBezTo>
                  <a:pt x="471" y="559"/>
                  <a:pt x="471" y="559"/>
                  <a:pt x="471" y="559"/>
                </a:cubicBezTo>
                <a:cubicBezTo>
                  <a:pt x="501" y="559"/>
                  <a:pt x="516" y="530"/>
                  <a:pt x="516" y="515"/>
                </a:cubicBezTo>
                <a:cubicBezTo>
                  <a:pt x="516" y="471"/>
                  <a:pt x="516" y="471"/>
                  <a:pt x="516" y="471"/>
                </a:cubicBezTo>
                <a:cubicBezTo>
                  <a:pt x="516" y="456"/>
                  <a:pt x="501" y="442"/>
                  <a:pt x="471" y="442"/>
                </a:cubicBezTo>
                <a:cubicBezTo>
                  <a:pt x="442" y="442"/>
                  <a:pt x="442" y="442"/>
                  <a:pt x="442" y="442"/>
                </a:cubicBezTo>
                <a:cubicBezTo>
                  <a:pt x="412" y="442"/>
                  <a:pt x="398" y="456"/>
                  <a:pt x="398" y="471"/>
                </a:cubicBezTo>
                <a:cubicBezTo>
                  <a:pt x="398" y="515"/>
                  <a:pt x="398" y="515"/>
                  <a:pt x="398" y="515"/>
                </a:cubicBezTo>
                <a:cubicBezTo>
                  <a:pt x="398" y="530"/>
                  <a:pt x="412" y="559"/>
                  <a:pt x="442" y="559"/>
                </a:cubicBezTo>
                <a:close/>
                <a:moveTo>
                  <a:pt x="442" y="471"/>
                </a:moveTo>
                <a:lnTo>
                  <a:pt x="442" y="471"/>
                </a:lnTo>
                <a:cubicBezTo>
                  <a:pt x="471" y="471"/>
                  <a:pt x="471" y="471"/>
                  <a:pt x="471" y="471"/>
                </a:cubicBezTo>
                <a:cubicBezTo>
                  <a:pt x="471" y="515"/>
                  <a:pt x="471" y="515"/>
                  <a:pt x="471" y="515"/>
                </a:cubicBezTo>
                <a:cubicBezTo>
                  <a:pt x="442" y="515"/>
                  <a:pt x="442" y="515"/>
                  <a:pt x="442" y="515"/>
                </a:cubicBezTo>
                <a:lnTo>
                  <a:pt x="442" y="471"/>
                </a:lnTo>
                <a:close/>
                <a:moveTo>
                  <a:pt x="442" y="397"/>
                </a:moveTo>
                <a:lnTo>
                  <a:pt x="442" y="397"/>
                </a:lnTo>
                <a:cubicBezTo>
                  <a:pt x="471" y="397"/>
                  <a:pt x="471" y="397"/>
                  <a:pt x="471" y="397"/>
                </a:cubicBezTo>
                <a:cubicBezTo>
                  <a:pt x="501" y="397"/>
                  <a:pt x="516" y="383"/>
                  <a:pt x="516" y="353"/>
                </a:cubicBezTo>
                <a:cubicBezTo>
                  <a:pt x="516" y="324"/>
                  <a:pt x="516" y="324"/>
                  <a:pt x="516" y="324"/>
                </a:cubicBezTo>
                <a:cubicBezTo>
                  <a:pt x="516" y="294"/>
                  <a:pt x="501" y="280"/>
                  <a:pt x="471" y="280"/>
                </a:cubicBezTo>
                <a:cubicBezTo>
                  <a:pt x="442" y="280"/>
                  <a:pt x="442" y="280"/>
                  <a:pt x="442" y="280"/>
                </a:cubicBezTo>
                <a:cubicBezTo>
                  <a:pt x="412" y="280"/>
                  <a:pt x="398" y="294"/>
                  <a:pt x="398" y="324"/>
                </a:cubicBezTo>
                <a:cubicBezTo>
                  <a:pt x="398" y="353"/>
                  <a:pt x="398" y="353"/>
                  <a:pt x="398" y="353"/>
                </a:cubicBezTo>
                <a:cubicBezTo>
                  <a:pt x="398" y="383"/>
                  <a:pt x="412" y="397"/>
                  <a:pt x="442" y="397"/>
                </a:cubicBezTo>
                <a:close/>
                <a:moveTo>
                  <a:pt x="442" y="324"/>
                </a:moveTo>
                <a:lnTo>
                  <a:pt x="442" y="324"/>
                </a:lnTo>
                <a:cubicBezTo>
                  <a:pt x="471" y="324"/>
                  <a:pt x="471" y="324"/>
                  <a:pt x="471" y="324"/>
                </a:cubicBezTo>
                <a:cubicBezTo>
                  <a:pt x="471" y="353"/>
                  <a:pt x="471" y="353"/>
                  <a:pt x="471" y="353"/>
                </a:cubicBezTo>
                <a:cubicBezTo>
                  <a:pt x="442" y="353"/>
                  <a:pt x="442" y="353"/>
                  <a:pt x="442" y="353"/>
                </a:cubicBezTo>
                <a:lnTo>
                  <a:pt x="442" y="324"/>
                </a:lnTo>
                <a:close/>
                <a:moveTo>
                  <a:pt x="516" y="44"/>
                </a:moveTo>
                <a:lnTo>
                  <a:pt x="516" y="44"/>
                </a:lnTo>
                <a:cubicBezTo>
                  <a:pt x="442" y="44"/>
                  <a:pt x="442" y="44"/>
                  <a:pt x="442" y="44"/>
                </a:cubicBezTo>
                <a:cubicBezTo>
                  <a:pt x="442" y="29"/>
                  <a:pt x="442" y="29"/>
                  <a:pt x="442" y="29"/>
                </a:cubicBezTo>
                <a:cubicBezTo>
                  <a:pt x="442" y="15"/>
                  <a:pt x="427" y="0"/>
                  <a:pt x="412" y="0"/>
                </a:cubicBezTo>
                <a:cubicBezTo>
                  <a:pt x="412" y="0"/>
                  <a:pt x="398" y="15"/>
                  <a:pt x="398" y="29"/>
                </a:cubicBezTo>
                <a:cubicBezTo>
                  <a:pt x="398" y="44"/>
                  <a:pt x="398" y="44"/>
                  <a:pt x="398" y="44"/>
                </a:cubicBezTo>
                <a:cubicBezTo>
                  <a:pt x="207" y="44"/>
                  <a:pt x="207" y="44"/>
                  <a:pt x="207" y="44"/>
                </a:cubicBezTo>
                <a:cubicBezTo>
                  <a:pt x="207" y="29"/>
                  <a:pt x="207" y="29"/>
                  <a:pt x="207" y="29"/>
                </a:cubicBezTo>
                <a:cubicBezTo>
                  <a:pt x="207" y="15"/>
                  <a:pt x="192" y="0"/>
                  <a:pt x="177" y="0"/>
                </a:cubicBezTo>
                <a:cubicBezTo>
                  <a:pt x="177" y="0"/>
                  <a:pt x="162" y="15"/>
                  <a:pt x="162" y="29"/>
                </a:cubicBezTo>
                <a:cubicBezTo>
                  <a:pt x="162" y="44"/>
                  <a:pt x="162" y="44"/>
                  <a:pt x="162" y="44"/>
                </a:cubicBezTo>
                <a:cubicBezTo>
                  <a:pt x="89" y="44"/>
                  <a:pt x="89" y="44"/>
                  <a:pt x="89" y="44"/>
                </a:cubicBezTo>
                <a:cubicBezTo>
                  <a:pt x="44" y="44"/>
                  <a:pt x="0" y="74"/>
                  <a:pt x="0" y="118"/>
                </a:cubicBezTo>
                <a:cubicBezTo>
                  <a:pt x="0" y="559"/>
                  <a:pt x="0" y="559"/>
                  <a:pt x="0" y="559"/>
                </a:cubicBezTo>
                <a:cubicBezTo>
                  <a:pt x="0" y="604"/>
                  <a:pt x="44" y="633"/>
                  <a:pt x="89" y="633"/>
                </a:cubicBezTo>
                <a:cubicBezTo>
                  <a:pt x="516" y="633"/>
                  <a:pt x="516" y="633"/>
                  <a:pt x="516" y="633"/>
                </a:cubicBezTo>
                <a:cubicBezTo>
                  <a:pt x="560" y="633"/>
                  <a:pt x="589" y="604"/>
                  <a:pt x="589" y="559"/>
                </a:cubicBezTo>
                <a:cubicBezTo>
                  <a:pt x="589" y="118"/>
                  <a:pt x="589" y="118"/>
                  <a:pt x="589" y="118"/>
                </a:cubicBezTo>
                <a:cubicBezTo>
                  <a:pt x="589" y="74"/>
                  <a:pt x="560" y="44"/>
                  <a:pt x="516" y="44"/>
                </a:cubicBezTo>
                <a:close/>
                <a:moveTo>
                  <a:pt x="560" y="559"/>
                </a:moveTo>
                <a:lnTo>
                  <a:pt x="560" y="559"/>
                </a:lnTo>
                <a:cubicBezTo>
                  <a:pt x="560" y="574"/>
                  <a:pt x="530" y="589"/>
                  <a:pt x="516" y="589"/>
                </a:cubicBezTo>
                <a:cubicBezTo>
                  <a:pt x="89" y="589"/>
                  <a:pt x="89" y="589"/>
                  <a:pt x="89" y="589"/>
                </a:cubicBezTo>
                <a:cubicBezTo>
                  <a:pt x="59" y="589"/>
                  <a:pt x="44" y="574"/>
                  <a:pt x="44" y="559"/>
                </a:cubicBezTo>
                <a:cubicBezTo>
                  <a:pt x="44" y="206"/>
                  <a:pt x="44" y="206"/>
                  <a:pt x="44" y="206"/>
                </a:cubicBezTo>
                <a:cubicBezTo>
                  <a:pt x="560" y="206"/>
                  <a:pt x="560" y="206"/>
                  <a:pt x="560" y="206"/>
                </a:cubicBezTo>
                <a:lnTo>
                  <a:pt x="560" y="559"/>
                </a:lnTo>
                <a:close/>
                <a:moveTo>
                  <a:pt x="560" y="162"/>
                </a:moveTo>
                <a:lnTo>
                  <a:pt x="560" y="162"/>
                </a:lnTo>
                <a:cubicBezTo>
                  <a:pt x="44" y="162"/>
                  <a:pt x="44" y="162"/>
                  <a:pt x="44" y="162"/>
                </a:cubicBezTo>
                <a:cubicBezTo>
                  <a:pt x="44" y="118"/>
                  <a:pt x="44" y="118"/>
                  <a:pt x="44" y="118"/>
                </a:cubicBezTo>
                <a:cubicBezTo>
                  <a:pt x="44" y="103"/>
                  <a:pt x="59" y="88"/>
                  <a:pt x="89" y="88"/>
                </a:cubicBezTo>
                <a:cubicBezTo>
                  <a:pt x="162" y="88"/>
                  <a:pt x="162" y="88"/>
                  <a:pt x="162" y="88"/>
                </a:cubicBezTo>
                <a:cubicBezTo>
                  <a:pt x="162" y="103"/>
                  <a:pt x="162" y="103"/>
                  <a:pt x="162" y="103"/>
                </a:cubicBezTo>
                <a:cubicBezTo>
                  <a:pt x="162" y="118"/>
                  <a:pt x="177" y="118"/>
                  <a:pt x="177" y="118"/>
                </a:cubicBezTo>
                <a:cubicBezTo>
                  <a:pt x="192" y="118"/>
                  <a:pt x="207" y="118"/>
                  <a:pt x="207" y="103"/>
                </a:cubicBezTo>
                <a:cubicBezTo>
                  <a:pt x="207" y="88"/>
                  <a:pt x="207" y="88"/>
                  <a:pt x="207" y="88"/>
                </a:cubicBezTo>
                <a:cubicBezTo>
                  <a:pt x="398" y="88"/>
                  <a:pt x="398" y="88"/>
                  <a:pt x="398" y="88"/>
                </a:cubicBezTo>
                <a:cubicBezTo>
                  <a:pt x="398" y="103"/>
                  <a:pt x="398" y="103"/>
                  <a:pt x="398" y="103"/>
                </a:cubicBezTo>
                <a:cubicBezTo>
                  <a:pt x="398" y="118"/>
                  <a:pt x="412" y="118"/>
                  <a:pt x="412" y="118"/>
                </a:cubicBezTo>
                <a:cubicBezTo>
                  <a:pt x="427" y="118"/>
                  <a:pt x="442" y="118"/>
                  <a:pt x="442" y="103"/>
                </a:cubicBezTo>
                <a:cubicBezTo>
                  <a:pt x="442" y="88"/>
                  <a:pt x="442" y="88"/>
                  <a:pt x="442" y="88"/>
                </a:cubicBezTo>
                <a:cubicBezTo>
                  <a:pt x="516" y="88"/>
                  <a:pt x="516" y="88"/>
                  <a:pt x="516" y="88"/>
                </a:cubicBezTo>
                <a:cubicBezTo>
                  <a:pt x="530" y="88"/>
                  <a:pt x="560" y="103"/>
                  <a:pt x="560" y="118"/>
                </a:cubicBezTo>
                <a:lnTo>
                  <a:pt x="560" y="162"/>
                </a:lnTo>
                <a:close/>
                <a:moveTo>
                  <a:pt x="118" y="397"/>
                </a:moveTo>
                <a:lnTo>
                  <a:pt x="118" y="397"/>
                </a:lnTo>
                <a:cubicBezTo>
                  <a:pt x="162" y="397"/>
                  <a:pt x="162" y="397"/>
                  <a:pt x="162" y="397"/>
                </a:cubicBezTo>
                <a:cubicBezTo>
                  <a:pt x="177" y="397"/>
                  <a:pt x="207" y="383"/>
                  <a:pt x="207" y="353"/>
                </a:cubicBezTo>
                <a:cubicBezTo>
                  <a:pt x="207" y="324"/>
                  <a:pt x="207" y="324"/>
                  <a:pt x="207" y="324"/>
                </a:cubicBezTo>
                <a:cubicBezTo>
                  <a:pt x="207" y="294"/>
                  <a:pt x="177" y="280"/>
                  <a:pt x="162" y="280"/>
                </a:cubicBezTo>
                <a:cubicBezTo>
                  <a:pt x="118" y="280"/>
                  <a:pt x="118" y="280"/>
                  <a:pt x="118" y="280"/>
                </a:cubicBezTo>
                <a:cubicBezTo>
                  <a:pt x="103" y="280"/>
                  <a:pt x="89" y="294"/>
                  <a:pt x="89" y="324"/>
                </a:cubicBezTo>
                <a:cubicBezTo>
                  <a:pt x="89" y="353"/>
                  <a:pt x="89" y="353"/>
                  <a:pt x="89" y="353"/>
                </a:cubicBezTo>
                <a:cubicBezTo>
                  <a:pt x="89" y="383"/>
                  <a:pt x="103" y="397"/>
                  <a:pt x="118" y="397"/>
                </a:cubicBezTo>
                <a:close/>
                <a:moveTo>
                  <a:pt x="118" y="324"/>
                </a:moveTo>
                <a:lnTo>
                  <a:pt x="118" y="324"/>
                </a:lnTo>
                <a:cubicBezTo>
                  <a:pt x="162" y="324"/>
                  <a:pt x="162" y="324"/>
                  <a:pt x="162" y="324"/>
                </a:cubicBezTo>
                <a:cubicBezTo>
                  <a:pt x="162" y="353"/>
                  <a:pt x="162" y="353"/>
                  <a:pt x="162" y="353"/>
                </a:cubicBezTo>
                <a:cubicBezTo>
                  <a:pt x="118" y="353"/>
                  <a:pt x="118" y="353"/>
                  <a:pt x="118" y="353"/>
                </a:cubicBezTo>
                <a:lnTo>
                  <a:pt x="118" y="324"/>
                </a:lnTo>
                <a:close/>
                <a:moveTo>
                  <a:pt x="280" y="397"/>
                </a:moveTo>
                <a:lnTo>
                  <a:pt x="280" y="397"/>
                </a:lnTo>
                <a:cubicBezTo>
                  <a:pt x="324" y="397"/>
                  <a:pt x="324" y="397"/>
                  <a:pt x="324" y="397"/>
                </a:cubicBezTo>
                <a:cubicBezTo>
                  <a:pt x="339" y="397"/>
                  <a:pt x="354" y="383"/>
                  <a:pt x="354" y="353"/>
                </a:cubicBezTo>
                <a:cubicBezTo>
                  <a:pt x="354" y="324"/>
                  <a:pt x="354" y="324"/>
                  <a:pt x="354" y="324"/>
                </a:cubicBezTo>
                <a:cubicBezTo>
                  <a:pt x="354" y="294"/>
                  <a:pt x="339" y="280"/>
                  <a:pt x="324" y="280"/>
                </a:cubicBezTo>
                <a:cubicBezTo>
                  <a:pt x="280" y="280"/>
                  <a:pt x="280" y="280"/>
                  <a:pt x="280" y="280"/>
                </a:cubicBezTo>
                <a:cubicBezTo>
                  <a:pt x="265" y="280"/>
                  <a:pt x="236" y="294"/>
                  <a:pt x="236" y="324"/>
                </a:cubicBezTo>
                <a:cubicBezTo>
                  <a:pt x="236" y="353"/>
                  <a:pt x="236" y="353"/>
                  <a:pt x="236" y="353"/>
                </a:cubicBezTo>
                <a:cubicBezTo>
                  <a:pt x="236" y="383"/>
                  <a:pt x="265" y="397"/>
                  <a:pt x="280" y="397"/>
                </a:cubicBezTo>
                <a:close/>
                <a:moveTo>
                  <a:pt x="280" y="324"/>
                </a:moveTo>
                <a:lnTo>
                  <a:pt x="280" y="324"/>
                </a:lnTo>
                <a:cubicBezTo>
                  <a:pt x="324" y="324"/>
                  <a:pt x="324" y="324"/>
                  <a:pt x="324" y="324"/>
                </a:cubicBezTo>
                <a:cubicBezTo>
                  <a:pt x="324" y="353"/>
                  <a:pt x="324" y="353"/>
                  <a:pt x="324" y="353"/>
                </a:cubicBezTo>
                <a:cubicBezTo>
                  <a:pt x="280" y="353"/>
                  <a:pt x="280" y="353"/>
                  <a:pt x="280" y="353"/>
                </a:cubicBezTo>
                <a:lnTo>
                  <a:pt x="280" y="324"/>
                </a:lnTo>
                <a:close/>
                <a:moveTo>
                  <a:pt x="118" y="559"/>
                </a:moveTo>
                <a:lnTo>
                  <a:pt x="118" y="559"/>
                </a:lnTo>
                <a:cubicBezTo>
                  <a:pt x="162" y="559"/>
                  <a:pt x="162" y="559"/>
                  <a:pt x="162" y="559"/>
                </a:cubicBezTo>
                <a:cubicBezTo>
                  <a:pt x="177" y="559"/>
                  <a:pt x="207" y="530"/>
                  <a:pt x="207" y="515"/>
                </a:cubicBezTo>
                <a:cubicBezTo>
                  <a:pt x="207" y="471"/>
                  <a:pt x="207" y="471"/>
                  <a:pt x="207" y="471"/>
                </a:cubicBezTo>
                <a:cubicBezTo>
                  <a:pt x="207" y="456"/>
                  <a:pt x="177" y="442"/>
                  <a:pt x="162" y="442"/>
                </a:cubicBezTo>
                <a:cubicBezTo>
                  <a:pt x="118" y="442"/>
                  <a:pt x="118" y="442"/>
                  <a:pt x="118" y="442"/>
                </a:cubicBezTo>
                <a:cubicBezTo>
                  <a:pt x="103" y="442"/>
                  <a:pt x="89" y="456"/>
                  <a:pt x="89" y="471"/>
                </a:cubicBezTo>
                <a:cubicBezTo>
                  <a:pt x="89" y="515"/>
                  <a:pt x="89" y="515"/>
                  <a:pt x="89" y="515"/>
                </a:cubicBezTo>
                <a:cubicBezTo>
                  <a:pt x="89" y="530"/>
                  <a:pt x="103" y="559"/>
                  <a:pt x="118" y="559"/>
                </a:cubicBezTo>
                <a:close/>
                <a:moveTo>
                  <a:pt x="118" y="471"/>
                </a:moveTo>
                <a:lnTo>
                  <a:pt x="118" y="471"/>
                </a:lnTo>
                <a:cubicBezTo>
                  <a:pt x="162" y="471"/>
                  <a:pt x="162" y="471"/>
                  <a:pt x="162" y="471"/>
                </a:cubicBezTo>
                <a:cubicBezTo>
                  <a:pt x="162" y="515"/>
                  <a:pt x="162" y="515"/>
                  <a:pt x="162" y="515"/>
                </a:cubicBezTo>
                <a:cubicBezTo>
                  <a:pt x="118" y="515"/>
                  <a:pt x="118" y="515"/>
                  <a:pt x="118" y="515"/>
                </a:cubicBezTo>
                <a:lnTo>
                  <a:pt x="118" y="471"/>
                </a:lnTo>
                <a:close/>
                <a:moveTo>
                  <a:pt x="280" y="559"/>
                </a:moveTo>
                <a:lnTo>
                  <a:pt x="280" y="559"/>
                </a:lnTo>
                <a:cubicBezTo>
                  <a:pt x="324" y="559"/>
                  <a:pt x="324" y="559"/>
                  <a:pt x="324" y="559"/>
                </a:cubicBezTo>
                <a:cubicBezTo>
                  <a:pt x="339" y="559"/>
                  <a:pt x="354" y="530"/>
                  <a:pt x="354" y="515"/>
                </a:cubicBezTo>
                <a:cubicBezTo>
                  <a:pt x="354" y="471"/>
                  <a:pt x="354" y="471"/>
                  <a:pt x="354" y="471"/>
                </a:cubicBezTo>
                <a:cubicBezTo>
                  <a:pt x="354" y="456"/>
                  <a:pt x="339" y="442"/>
                  <a:pt x="324" y="442"/>
                </a:cubicBezTo>
                <a:cubicBezTo>
                  <a:pt x="280" y="442"/>
                  <a:pt x="280" y="442"/>
                  <a:pt x="280" y="442"/>
                </a:cubicBezTo>
                <a:cubicBezTo>
                  <a:pt x="265" y="442"/>
                  <a:pt x="236" y="456"/>
                  <a:pt x="236" y="471"/>
                </a:cubicBezTo>
                <a:cubicBezTo>
                  <a:pt x="236" y="515"/>
                  <a:pt x="236" y="515"/>
                  <a:pt x="236" y="515"/>
                </a:cubicBezTo>
                <a:cubicBezTo>
                  <a:pt x="236" y="530"/>
                  <a:pt x="265" y="559"/>
                  <a:pt x="280" y="559"/>
                </a:cubicBezTo>
                <a:close/>
                <a:moveTo>
                  <a:pt x="280" y="471"/>
                </a:moveTo>
                <a:lnTo>
                  <a:pt x="280" y="471"/>
                </a:lnTo>
                <a:cubicBezTo>
                  <a:pt x="324" y="471"/>
                  <a:pt x="324" y="471"/>
                  <a:pt x="324" y="471"/>
                </a:cubicBezTo>
                <a:cubicBezTo>
                  <a:pt x="324" y="515"/>
                  <a:pt x="324" y="515"/>
                  <a:pt x="324" y="515"/>
                </a:cubicBezTo>
                <a:cubicBezTo>
                  <a:pt x="280" y="515"/>
                  <a:pt x="280" y="515"/>
                  <a:pt x="280" y="515"/>
                </a:cubicBezTo>
                <a:lnTo>
                  <a:pt x="280" y="471"/>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38" name="稻壳儿小白白(http://dwz.cn/Wu2UP)"/>
          <p:cNvSpPr/>
          <p:nvPr/>
        </p:nvSpPr>
        <p:spPr>
          <a:xfrm>
            <a:off x="5815080" y="5246640"/>
            <a:ext cx="495360" cy="320760"/>
          </a:xfrm>
          <a:custGeom>
            <a:avLst/>
            <a:gdLst/>
            <a:ahLst/>
            <a:rect l="l" t="t" r="r" b="b"/>
            <a:pathLst>
              <a:path w="619" h="398">
                <a:moveTo>
                  <a:pt x="427" y="88"/>
                </a:moveTo>
                <a:lnTo>
                  <a:pt x="427" y="88"/>
                </a:lnTo>
                <a:cubicBezTo>
                  <a:pt x="368" y="88"/>
                  <a:pt x="309" y="132"/>
                  <a:pt x="309" y="206"/>
                </a:cubicBezTo>
                <a:cubicBezTo>
                  <a:pt x="309" y="265"/>
                  <a:pt x="368" y="324"/>
                  <a:pt x="427" y="324"/>
                </a:cubicBezTo>
                <a:cubicBezTo>
                  <a:pt x="486" y="324"/>
                  <a:pt x="545" y="265"/>
                  <a:pt x="545" y="206"/>
                </a:cubicBezTo>
                <a:cubicBezTo>
                  <a:pt x="545" y="132"/>
                  <a:pt x="486" y="88"/>
                  <a:pt x="427" y="88"/>
                </a:cubicBezTo>
                <a:close/>
                <a:moveTo>
                  <a:pt x="427" y="279"/>
                </a:moveTo>
                <a:lnTo>
                  <a:pt x="427" y="279"/>
                </a:lnTo>
                <a:cubicBezTo>
                  <a:pt x="382" y="279"/>
                  <a:pt x="353" y="250"/>
                  <a:pt x="353" y="206"/>
                </a:cubicBezTo>
                <a:cubicBezTo>
                  <a:pt x="353" y="162"/>
                  <a:pt x="382" y="117"/>
                  <a:pt x="427" y="117"/>
                </a:cubicBezTo>
                <a:cubicBezTo>
                  <a:pt x="471" y="117"/>
                  <a:pt x="500" y="162"/>
                  <a:pt x="500" y="206"/>
                </a:cubicBezTo>
                <a:cubicBezTo>
                  <a:pt x="500" y="250"/>
                  <a:pt x="471" y="279"/>
                  <a:pt x="427" y="279"/>
                </a:cubicBezTo>
                <a:close/>
                <a:moveTo>
                  <a:pt x="427" y="0"/>
                </a:moveTo>
                <a:lnTo>
                  <a:pt x="427" y="0"/>
                </a:lnTo>
                <a:cubicBezTo>
                  <a:pt x="191" y="0"/>
                  <a:pt x="191" y="0"/>
                  <a:pt x="191" y="0"/>
                </a:cubicBezTo>
                <a:cubicBezTo>
                  <a:pt x="88" y="0"/>
                  <a:pt x="0" y="88"/>
                  <a:pt x="0" y="206"/>
                </a:cubicBezTo>
                <a:cubicBezTo>
                  <a:pt x="0" y="309"/>
                  <a:pt x="88" y="397"/>
                  <a:pt x="191" y="397"/>
                </a:cubicBezTo>
                <a:cubicBezTo>
                  <a:pt x="427" y="397"/>
                  <a:pt x="427" y="397"/>
                  <a:pt x="427" y="397"/>
                </a:cubicBezTo>
                <a:cubicBezTo>
                  <a:pt x="530" y="397"/>
                  <a:pt x="618" y="309"/>
                  <a:pt x="618" y="206"/>
                </a:cubicBezTo>
                <a:cubicBezTo>
                  <a:pt x="618" y="88"/>
                  <a:pt x="530" y="0"/>
                  <a:pt x="427" y="0"/>
                </a:cubicBezTo>
                <a:close/>
                <a:moveTo>
                  <a:pt x="427" y="353"/>
                </a:moveTo>
                <a:lnTo>
                  <a:pt x="427" y="353"/>
                </a:lnTo>
                <a:cubicBezTo>
                  <a:pt x="191" y="353"/>
                  <a:pt x="191" y="353"/>
                  <a:pt x="191" y="353"/>
                </a:cubicBezTo>
                <a:cubicBezTo>
                  <a:pt x="103" y="353"/>
                  <a:pt x="29" y="294"/>
                  <a:pt x="29" y="206"/>
                </a:cubicBezTo>
                <a:cubicBezTo>
                  <a:pt x="29" y="117"/>
                  <a:pt x="103" y="44"/>
                  <a:pt x="191" y="44"/>
                </a:cubicBezTo>
                <a:cubicBezTo>
                  <a:pt x="427" y="44"/>
                  <a:pt x="427" y="44"/>
                  <a:pt x="427" y="44"/>
                </a:cubicBezTo>
                <a:cubicBezTo>
                  <a:pt x="515" y="44"/>
                  <a:pt x="589" y="117"/>
                  <a:pt x="589" y="206"/>
                </a:cubicBezTo>
                <a:cubicBezTo>
                  <a:pt x="589" y="294"/>
                  <a:pt x="515" y="353"/>
                  <a:pt x="427" y="353"/>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39" name="稻壳儿小白白(http://dwz.cn/Wu2UP)"/>
          <p:cNvSpPr/>
          <p:nvPr/>
        </p:nvSpPr>
        <p:spPr>
          <a:xfrm>
            <a:off x="4986360" y="5246640"/>
            <a:ext cx="511200" cy="320760"/>
          </a:xfrm>
          <a:custGeom>
            <a:avLst/>
            <a:gdLst/>
            <a:ahLst/>
            <a:rect l="l" t="t" r="r" b="b"/>
            <a:pathLst>
              <a:path w="634" h="398">
                <a:moveTo>
                  <a:pt x="442" y="0"/>
                </a:moveTo>
                <a:lnTo>
                  <a:pt x="442" y="0"/>
                </a:lnTo>
                <a:cubicBezTo>
                  <a:pt x="207" y="0"/>
                  <a:pt x="207" y="0"/>
                  <a:pt x="207" y="0"/>
                </a:cubicBezTo>
                <a:cubicBezTo>
                  <a:pt x="89" y="0"/>
                  <a:pt x="0" y="88"/>
                  <a:pt x="0" y="206"/>
                </a:cubicBezTo>
                <a:cubicBezTo>
                  <a:pt x="0" y="309"/>
                  <a:pt x="89" y="397"/>
                  <a:pt x="207" y="397"/>
                </a:cubicBezTo>
                <a:cubicBezTo>
                  <a:pt x="442" y="397"/>
                  <a:pt x="442" y="397"/>
                  <a:pt x="442" y="397"/>
                </a:cubicBezTo>
                <a:cubicBezTo>
                  <a:pt x="545" y="397"/>
                  <a:pt x="633" y="309"/>
                  <a:pt x="633" y="206"/>
                </a:cubicBezTo>
                <a:cubicBezTo>
                  <a:pt x="633" y="88"/>
                  <a:pt x="545" y="0"/>
                  <a:pt x="442" y="0"/>
                </a:cubicBezTo>
                <a:close/>
                <a:moveTo>
                  <a:pt x="442" y="353"/>
                </a:moveTo>
                <a:lnTo>
                  <a:pt x="442" y="353"/>
                </a:lnTo>
                <a:cubicBezTo>
                  <a:pt x="207" y="353"/>
                  <a:pt x="207" y="353"/>
                  <a:pt x="207" y="353"/>
                </a:cubicBezTo>
                <a:cubicBezTo>
                  <a:pt x="118" y="353"/>
                  <a:pt x="44" y="294"/>
                  <a:pt x="44" y="206"/>
                </a:cubicBezTo>
                <a:cubicBezTo>
                  <a:pt x="44" y="117"/>
                  <a:pt x="118" y="44"/>
                  <a:pt x="207" y="44"/>
                </a:cubicBezTo>
                <a:cubicBezTo>
                  <a:pt x="442" y="44"/>
                  <a:pt x="442" y="44"/>
                  <a:pt x="442" y="44"/>
                </a:cubicBezTo>
                <a:cubicBezTo>
                  <a:pt x="530" y="44"/>
                  <a:pt x="589" y="117"/>
                  <a:pt x="589" y="206"/>
                </a:cubicBezTo>
                <a:cubicBezTo>
                  <a:pt x="589" y="294"/>
                  <a:pt x="530" y="353"/>
                  <a:pt x="442" y="353"/>
                </a:cubicBezTo>
                <a:close/>
                <a:moveTo>
                  <a:pt x="207" y="88"/>
                </a:moveTo>
                <a:lnTo>
                  <a:pt x="207" y="88"/>
                </a:lnTo>
                <a:cubicBezTo>
                  <a:pt x="133" y="88"/>
                  <a:pt x="89" y="132"/>
                  <a:pt x="89" y="206"/>
                </a:cubicBezTo>
                <a:cubicBezTo>
                  <a:pt x="89" y="265"/>
                  <a:pt x="133" y="324"/>
                  <a:pt x="207" y="324"/>
                </a:cubicBezTo>
                <a:cubicBezTo>
                  <a:pt x="265" y="324"/>
                  <a:pt x="324" y="265"/>
                  <a:pt x="324" y="206"/>
                </a:cubicBezTo>
                <a:cubicBezTo>
                  <a:pt x="324" y="132"/>
                  <a:pt x="265" y="88"/>
                  <a:pt x="207" y="88"/>
                </a:cubicBezTo>
                <a:close/>
                <a:moveTo>
                  <a:pt x="207" y="279"/>
                </a:moveTo>
                <a:lnTo>
                  <a:pt x="207" y="279"/>
                </a:lnTo>
                <a:cubicBezTo>
                  <a:pt x="162" y="279"/>
                  <a:pt x="118" y="250"/>
                  <a:pt x="118" y="206"/>
                </a:cubicBezTo>
                <a:cubicBezTo>
                  <a:pt x="118" y="162"/>
                  <a:pt x="162" y="117"/>
                  <a:pt x="207" y="117"/>
                </a:cubicBezTo>
                <a:cubicBezTo>
                  <a:pt x="251" y="117"/>
                  <a:pt x="280" y="162"/>
                  <a:pt x="280" y="206"/>
                </a:cubicBezTo>
                <a:cubicBezTo>
                  <a:pt x="280" y="250"/>
                  <a:pt x="251" y="279"/>
                  <a:pt x="207" y="279"/>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40" name="稻壳儿小白白(http://dwz.cn/Wu2UP)"/>
          <p:cNvSpPr/>
          <p:nvPr/>
        </p:nvSpPr>
        <p:spPr>
          <a:xfrm>
            <a:off x="4172040" y="5151600"/>
            <a:ext cx="509400" cy="510840"/>
          </a:xfrm>
          <a:custGeom>
            <a:avLst/>
            <a:gdLst/>
            <a:ahLst/>
            <a:rect l="l" t="t" r="r" b="b"/>
            <a:pathLst>
              <a:path w="634" h="634">
                <a:moveTo>
                  <a:pt x="515" y="471"/>
                </a:moveTo>
                <a:lnTo>
                  <a:pt x="515" y="471"/>
                </a:lnTo>
                <a:cubicBezTo>
                  <a:pt x="294" y="471"/>
                  <a:pt x="294" y="471"/>
                  <a:pt x="294" y="471"/>
                </a:cubicBezTo>
                <a:cubicBezTo>
                  <a:pt x="279" y="442"/>
                  <a:pt x="250" y="412"/>
                  <a:pt x="220" y="412"/>
                </a:cubicBezTo>
                <a:cubicBezTo>
                  <a:pt x="176" y="412"/>
                  <a:pt x="147" y="442"/>
                  <a:pt x="147" y="471"/>
                </a:cubicBezTo>
                <a:cubicBezTo>
                  <a:pt x="117" y="471"/>
                  <a:pt x="117" y="471"/>
                  <a:pt x="117" y="471"/>
                </a:cubicBezTo>
                <a:cubicBezTo>
                  <a:pt x="103" y="471"/>
                  <a:pt x="103" y="486"/>
                  <a:pt x="103" y="501"/>
                </a:cubicBezTo>
                <a:cubicBezTo>
                  <a:pt x="103" y="501"/>
                  <a:pt x="103" y="515"/>
                  <a:pt x="117" y="515"/>
                </a:cubicBezTo>
                <a:cubicBezTo>
                  <a:pt x="147" y="515"/>
                  <a:pt x="147" y="515"/>
                  <a:pt x="147" y="515"/>
                </a:cubicBezTo>
                <a:cubicBezTo>
                  <a:pt x="147" y="545"/>
                  <a:pt x="176" y="574"/>
                  <a:pt x="220" y="574"/>
                </a:cubicBezTo>
                <a:cubicBezTo>
                  <a:pt x="250" y="574"/>
                  <a:pt x="279" y="545"/>
                  <a:pt x="294" y="515"/>
                </a:cubicBezTo>
                <a:cubicBezTo>
                  <a:pt x="515" y="515"/>
                  <a:pt x="515" y="515"/>
                  <a:pt x="515" y="515"/>
                </a:cubicBezTo>
                <a:lnTo>
                  <a:pt x="530" y="501"/>
                </a:lnTo>
                <a:cubicBezTo>
                  <a:pt x="530" y="486"/>
                  <a:pt x="515" y="471"/>
                  <a:pt x="515" y="471"/>
                </a:cubicBezTo>
                <a:close/>
                <a:moveTo>
                  <a:pt x="220" y="545"/>
                </a:moveTo>
                <a:lnTo>
                  <a:pt x="220" y="545"/>
                </a:lnTo>
                <a:cubicBezTo>
                  <a:pt x="191" y="545"/>
                  <a:pt x="162" y="515"/>
                  <a:pt x="162" y="501"/>
                </a:cubicBezTo>
                <a:cubicBezTo>
                  <a:pt x="162" y="471"/>
                  <a:pt x="191" y="442"/>
                  <a:pt x="220" y="442"/>
                </a:cubicBezTo>
                <a:cubicBezTo>
                  <a:pt x="235" y="442"/>
                  <a:pt x="265" y="471"/>
                  <a:pt x="265" y="501"/>
                </a:cubicBezTo>
                <a:cubicBezTo>
                  <a:pt x="265" y="515"/>
                  <a:pt x="235" y="545"/>
                  <a:pt x="220" y="545"/>
                </a:cubicBezTo>
                <a:close/>
                <a:moveTo>
                  <a:pt x="515" y="162"/>
                </a:moveTo>
                <a:lnTo>
                  <a:pt x="515" y="162"/>
                </a:lnTo>
                <a:cubicBezTo>
                  <a:pt x="294" y="162"/>
                  <a:pt x="294" y="162"/>
                  <a:pt x="294" y="162"/>
                </a:cubicBezTo>
                <a:cubicBezTo>
                  <a:pt x="279" y="133"/>
                  <a:pt x="250" y="103"/>
                  <a:pt x="220" y="103"/>
                </a:cubicBezTo>
                <a:cubicBezTo>
                  <a:pt x="176" y="103"/>
                  <a:pt x="147" y="133"/>
                  <a:pt x="147" y="162"/>
                </a:cubicBezTo>
                <a:cubicBezTo>
                  <a:pt x="117" y="162"/>
                  <a:pt x="117" y="162"/>
                  <a:pt x="117" y="162"/>
                </a:cubicBezTo>
                <a:cubicBezTo>
                  <a:pt x="103" y="162"/>
                  <a:pt x="103" y="176"/>
                  <a:pt x="103" y="176"/>
                </a:cubicBezTo>
                <a:cubicBezTo>
                  <a:pt x="103" y="192"/>
                  <a:pt x="103" y="206"/>
                  <a:pt x="117" y="206"/>
                </a:cubicBezTo>
                <a:cubicBezTo>
                  <a:pt x="147" y="206"/>
                  <a:pt x="147" y="206"/>
                  <a:pt x="147" y="206"/>
                </a:cubicBezTo>
                <a:cubicBezTo>
                  <a:pt x="147" y="235"/>
                  <a:pt x="176" y="265"/>
                  <a:pt x="220" y="265"/>
                </a:cubicBezTo>
                <a:cubicBezTo>
                  <a:pt x="250" y="265"/>
                  <a:pt x="279" y="235"/>
                  <a:pt x="294" y="206"/>
                </a:cubicBezTo>
                <a:cubicBezTo>
                  <a:pt x="515" y="206"/>
                  <a:pt x="515" y="206"/>
                  <a:pt x="515" y="206"/>
                </a:cubicBezTo>
                <a:cubicBezTo>
                  <a:pt x="515" y="206"/>
                  <a:pt x="530" y="192"/>
                  <a:pt x="530" y="176"/>
                </a:cubicBezTo>
                <a:lnTo>
                  <a:pt x="515" y="162"/>
                </a:lnTo>
                <a:close/>
                <a:moveTo>
                  <a:pt x="220" y="235"/>
                </a:moveTo>
                <a:lnTo>
                  <a:pt x="220" y="235"/>
                </a:lnTo>
                <a:cubicBezTo>
                  <a:pt x="191" y="235"/>
                  <a:pt x="162" y="206"/>
                  <a:pt x="162" y="176"/>
                </a:cubicBezTo>
                <a:cubicBezTo>
                  <a:pt x="162" y="162"/>
                  <a:pt x="191" y="133"/>
                  <a:pt x="220" y="133"/>
                </a:cubicBezTo>
                <a:cubicBezTo>
                  <a:pt x="235" y="133"/>
                  <a:pt x="265" y="162"/>
                  <a:pt x="265" y="176"/>
                </a:cubicBezTo>
                <a:cubicBezTo>
                  <a:pt x="265" y="206"/>
                  <a:pt x="235" y="235"/>
                  <a:pt x="220" y="235"/>
                </a:cubicBezTo>
                <a:close/>
                <a:moveTo>
                  <a:pt x="515" y="324"/>
                </a:moveTo>
                <a:lnTo>
                  <a:pt x="515" y="324"/>
                </a:lnTo>
                <a:cubicBezTo>
                  <a:pt x="471" y="324"/>
                  <a:pt x="471" y="324"/>
                  <a:pt x="471" y="324"/>
                </a:cubicBezTo>
                <a:cubicBezTo>
                  <a:pt x="456" y="280"/>
                  <a:pt x="426" y="265"/>
                  <a:pt x="397" y="265"/>
                </a:cubicBezTo>
                <a:cubicBezTo>
                  <a:pt x="353" y="265"/>
                  <a:pt x="324" y="280"/>
                  <a:pt x="324" y="324"/>
                </a:cubicBezTo>
                <a:cubicBezTo>
                  <a:pt x="117" y="324"/>
                  <a:pt x="117" y="324"/>
                  <a:pt x="117" y="324"/>
                </a:cubicBezTo>
                <a:cubicBezTo>
                  <a:pt x="103" y="324"/>
                  <a:pt x="103" y="324"/>
                  <a:pt x="103" y="338"/>
                </a:cubicBezTo>
                <a:cubicBezTo>
                  <a:pt x="103" y="353"/>
                  <a:pt x="103" y="353"/>
                  <a:pt x="117" y="353"/>
                </a:cubicBezTo>
                <a:cubicBezTo>
                  <a:pt x="324" y="353"/>
                  <a:pt x="324" y="353"/>
                  <a:pt x="324" y="353"/>
                </a:cubicBezTo>
                <a:cubicBezTo>
                  <a:pt x="324" y="397"/>
                  <a:pt x="353" y="412"/>
                  <a:pt x="397" y="412"/>
                </a:cubicBezTo>
                <a:cubicBezTo>
                  <a:pt x="426" y="412"/>
                  <a:pt x="456" y="397"/>
                  <a:pt x="471" y="353"/>
                </a:cubicBezTo>
                <a:cubicBezTo>
                  <a:pt x="515" y="353"/>
                  <a:pt x="515" y="353"/>
                  <a:pt x="515" y="353"/>
                </a:cubicBezTo>
                <a:cubicBezTo>
                  <a:pt x="515" y="353"/>
                  <a:pt x="530" y="353"/>
                  <a:pt x="530" y="338"/>
                </a:cubicBezTo>
                <a:cubicBezTo>
                  <a:pt x="530" y="324"/>
                  <a:pt x="515" y="324"/>
                  <a:pt x="515" y="324"/>
                </a:cubicBezTo>
                <a:close/>
                <a:moveTo>
                  <a:pt x="397" y="383"/>
                </a:moveTo>
                <a:lnTo>
                  <a:pt x="397" y="383"/>
                </a:lnTo>
                <a:cubicBezTo>
                  <a:pt x="367" y="383"/>
                  <a:pt x="338" y="368"/>
                  <a:pt x="338" y="338"/>
                </a:cubicBezTo>
                <a:cubicBezTo>
                  <a:pt x="338" y="309"/>
                  <a:pt x="367" y="294"/>
                  <a:pt x="397" y="294"/>
                </a:cubicBezTo>
                <a:cubicBezTo>
                  <a:pt x="412" y="294"/>
                  <a:pt x="441" y="309"/>
                  <a:pt x="441" y="338"/>
                </a:cubicBezTo>
                <a:cubicBezTo>
                  <a:pt x="441" y="368"/>
                  <a:pt x="412" y="383"/>
                  <a:pt x="397" y="383"/>
                </a:cubicBezTo>
                <a:close/>
                <a:moveTo>
                  <a:pt x="544" y="0"/>
                </a:moveTo>
                <a:lnTo>
                  <a:pt x="544" y="0"/>
                </a:lnTo>
                <a:cubicBezTo>
                  <a:pt x="73" y="0"/>
                  <a:pt x="73" y="0"/>
                  <a:pt x="73" y="0"/>
                </a:cubicBezTo>
                <a:cubicBezTo>
                  <a:pt x="29" y="0"/>
                  <a:pt x="0" y="44"/>
                  <a:pt x="0" y="88"/>
                </a:cubicBezTo>
                <a:cubicBezTo>
                  <a:pt x="0" y="559"/>
                  <a:pt x="0" y="559"/>
                  <a:pt x="0" y="559"/>
                </a:cubicBezTo>
                <a:cubicBezTo>
                  <a:pt x="0" y="604"/>
                  <a:pt x="29" y="633"/>
                  <a:pt x="73" y="633"/>
                </a:cubicBezTo>
                <a:cubicBezTo>
                  <a:pt x="544" y="633"/>
                  <a:pt x="544" y="633"/>
                  <a:pt x="544" y="633"/>
                </a:cubicBezTo>
                <a:cubicBezTo>
                  <a:pt x="588" y="633"/>
                  <a:pt x="633" y="604"/>
                  <a:pt x="633" y="559"/>
                </a:cubicBezTo>
                <a:cubicBezTo>
                  <a:pt x="633" y="88"/>
                  <a:pt x="633" y="88"/>
                  <a:pt x="633" y="88"/>
                </a:cubicBezTo>
                <a:cubicBezTo>
                  <a:pt x="633" y="44"/>
                  <a:pt x="588" y="0"/>
                  <a:pt x="544" y="0"/>
                </a:cubicBezTo>
                <a:close/>
                <a:moveTo>
                  <a:pt x="588" y="559"/>
                </a:moveTo>
                <a:lnTo>
                  <a:pt x="588" y="559"/>
                </a:lnTo>
                <a:cubicBezTo>
                  <a:pt x="588" y="574"/>
                  <a:pt x="574" y="589"/>
                  <a:pt x="544" y="589"/>
                </a:cubicBezTo>
                <a:cubicBezTo>
                  <a:pt x="73" y="589"/>
                  <a:pt x="73" y="589"/>
                  <a:pt x="73" y="589"/>
                </a:cubicBezTo>
                <a:cubicBezTo>
                  <a:pt x="58" y="589"/>
                  <a:pt x="44" y="574"/>
                  <a:pt x="44" y="559"/>
                </a:cubicBezTo>
                <a:cubicBezTo>
                  <a:pt x="44" y="88"/>
                  <a:pt x="44" y="88"/>
                  <a:pt x="44" y="88"/>
                </a:cubicBezTo>
                <a:cubicBezTo>
                  <a:pt x="44" y="59"/>
                  <a:pt x="58" y="44"/>
                  <a:pt x="73" y="44"/>
                </a:cubicBezTo>
                <a:cubicBezTo>
                  <a:pt x="544" y="44"/>
                  <a:pt x="544" y="44"/>
                  <a:pt x="544" y="44"/>
                </a:cubicBezTo>
                <a:cubicBezTo>
                  <a:pt x="574" y="44"/>
                  <a:pt x="588" y="59"/>
                  <a:pt x="588" y="88"/>
                </a:cubicBezTo>
                <a:lnTo>
                  <a:pt x="588" y="559"/>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41" name="稻壳儿小白白(http://dwz.cn/Wu2UP)"/>
          <p:cNvSpPr/>
          <p:nvPr/>
        </p:nvSpPr>
        <p:spPr>
          <a:xfrm>
            <a:off x="3367080" y="5176800"/>
            <a:ext cx="474840" cy="474840"/>
          </a:xfrm>
          <a:custGeom>
            <a:avLst/>
            <a:gdLst/>
            <a:ahLst/>
            <a:rect l="l" t="t" r="r" b="b"/>
            <a:pathLst>
              <a:path w="589" h="590">
                <a:moveTo>
                  <a:pt x="294" y="192"/>
                </a:moveTo>
                <a:lnTo>
                  <a:pt x="294" y="192"/>
                </a:lnTo>
                <a:cubicBezTo>
                  <a:pt x="235" y="192"/>
                  <a:pt x="191" y="236"/>
                  <a:pt x="191" y="295"/>
                </a:cubicBezTo>
                <a:cubicBezTo>
                  <a:pt x="191" y="339"/>
                  <a:pt x="235" y="383"/>
                  <a:pt x="294" y="383"/>
                </a:cubicBezTo>
                <a:cubicBezTo>
                  <a:pt x="353" y="383"/>
                  <a:pt x="397" y="339"/>
                  <a:pt x="397" y="295"/>
                </a:cubicBezTo>
                <a:cubicBezTo>
                  <a:pt x="397" y="236"/>
                  <a:pt x="353" y="192"/>
                  <a:pt x="294" y="192"/>
                </a:cubicBezTo>
                <a:close/>
                <a:moveTo>
                  <a:pt x="294" y="354"/>
                </a:moveTo>
                <a:lnTo>
                  <a:pt x="294" y="354"/>
                </a:lnTo>
                <a:cubicBezTo>
                  <a:pt x="265" y="354"/>
                  <a:pt x="235" y="324"/>
                  <a:pt x="235" y="295"/>
                </a:cubicBezTo>
                <a:cubicBezTo>
                  <a:pt x="235" y="251"/>
                  <a:pt x="265" y="236"/>
                  <a:pt x="294" y="236"/>
                </a:cubicBezTo>
                <a:cubicBezTo>
                  <a:pt x="324" y="236"/>
                  <a:pt x="353" y="251"/>
                  <a:pt x="353" y="295"/>
                </a:cubicBezTo>
                <a:cubicBezTo>
                  <a:pt x="353" y="324"/>
                  <a:pt x="324" y="354"/>
                  <a:pt x="294" y="354"/>
                </a:cubicBezTo>
                <a:close/>
                <a:moveTo>
                  <a:pt x="574" y="354"/>
                </a:moveTo>
                <a:lnTo>
                  <a:pt x="574" y="354"/>
                </a:lnTo>
                <a:cubicBezTo>
                  <a:pt x="529" y="339"/>
                  <a:pt x="529" y="339"/>
                  <a:pt x="529" y="339"/>
                </a:cubicBezTo>
                <a:cubicBezTo>
                  <a:pt x="529" y="324"/>
                  <a:pt x="529" y="309"/>
                  <a:pt x="529" y="295"/>
                </a:cubicBezTo>
                <a:cubicBezTo>
                  <a:pt x="529" y="280"/>
                  <a:pt x="529" y="265"/>
                  <a:pt x="529" y="251"/>
                </a:cubicBezTo>
                <a:cubicBezTo>
                  <a:pt x="574" y="221"/>
                  <a:pt x="574" y="221"/>
                  <a:pt x="574" y="221"/>
                </a:cubicBezTo>
                <a:cubicBezTo>
                  <a:pt x="588" y="206"/>
                  <a:pt x="588" y="192"/>
                  <a:pt x="588" y="163"/>
                </a:cubicBezTo>
                <a:cubicBezTo>
                  <a:pt x="544" y="104"/>
                  <a:pt x="544" y="104"/>
                  <a:pt x="544" y="104"/>
                </a:cubicBezTo>
                <a:cubicBezTo>
                  <a:pt x="529" y="74"/>
                  <a:pt x="515" y="74"/>
                  <a:pt x="485" y="89"/>
                </a:cubicBezTo>
                <a:cubicBezTo>
                  <a:pt x="441" y="118"/>
                  <a:pt x="441" y="118"/>
                  <a:pt x="441" y="118"/>
                </a:cubicBezTo>
                <a:cubicBezTo>
                  <a:pt x="426" y="89"/>
                  <a:pt x="397" y="74"/>
                  <a:pt x="367" y="74"/>
                </a:cubicBezTo>
                <a:cubicBezTo>
                  <a:pt x="367" y="30"/>
                  <a:pt x="367" y="30"/>
                  <a:pt x="367" y="30"/>
                </a:cubicBezTo>
                <a:cubicBezTo>
                  <a:pt x="367" y="15"/>
                  <a:pt x="353" y="0"/>
                  <a:pt x="338" y="0"/>
                </a:cubicBezTo>
                <a:cubicBezTo>
                  <a:pt x="250" y="0"/>
                  <a:pt x="250" y="0"/>
                  <a:pt x="250" y="0"/>
                </a:cubicBezTo>
                <a:cubicBezTo>
                  <a:pt x="235" y="0"/>
                  <a:pt x="220" y="15"/>
                  <a:pt x="220" y="30"/>
                </a:cubicBezTo>
                <a:cubicBezTo>
                  <a:pt x="220" y="74"/>
                  <a:pt x="220" y="74"/>
                  <a:pt x="220" y="74"/>
                </a:cubicBezTo>
                <a:cubicBezTo>
                  <a:pt x="191" y="74"/>
                  <a:pt x="162" y="89"/>
                  <a:pt x="147" y="118"/>
                </a:cubicBezTo>
                <a:cubicBezTo>
                  <a:pt x="103" y="89"/>
                  <a:pt x="103" y="89"/>
                  <a:pt x="103" y="89"/>
                </a:cubicBezTo>
                <a:cubicBezTo>
                  <a:pt x="73" y="74"/>
                  <a:pt x="58" y="74"/>
                  <a:pt x="44" y="104"/>
                </a:cubicBezTo>
                <a:cubicBezTo>
                  <a:pt x="0" y="163"/>
                  <a:pt x="0" y="163"/>
                  <a:pt x="0" y="163"/>
                </a:cubicBezTo>
                <a:cubicBezTo>
                  <a:pt x="0" y="192"/>
                  <a:pt x="0" y="206"/>
                  <a:pt x="14" y="221"/>
                </a:cubicBezTo>
                <a:cubicBezTo>
                  <a:pt x="58" y="251"/>
                  <a:pt x="58" y="251"/>
                  <a:pt x="58" y="251"/>
                </a:cubicBezTo>
                <a:cubicBezTo>
                  <a:pt x="58" y="265"/>
                  <a:pt x="58" y="280"/>
                  <a:pt x="58" y="295"/>
                </a:cubicBezTo>
                <a:cubicBezTo>
                  <a:pt x="58" y="309"/>
                  <a:pt x="58" y="324"/>
                  <a:pt x="58" y="339"/>
                </a:cubicBezTo>
                <a:cubicBezTo>
                  <a:pt x="14" y="354"/>
                  <a:pt x="14" y="354"/>
                  <a:pt x="14" y="354"/>
                </a:cubicBezTo>
                <a:cubicBezTo>
                  <a:pt x="0" y="368"/>
                  <a:pt x="0" y="398"/>
                  <a:pt x="0" y="413"/>
                </a:cubicBezTo>
                <a:cubicBezTo>
                  <a:pt x="44" y="486"/>
                  <a:pt x="44" y="486"/>
                  <a:pt x="44" y="486"/>
                </a:cubicBezTo>
                <a:cubicBezTo>
                  <a:pt x="58" y="501"/>
                  <a:pt x="73" y="501"/>
                  <a:pt x="103" y="501"/>
                </a:cubicBezTo>
                <a:cubicBezTo>
                  <a:pt x="147" y="472"/>
                  <a:pt x="147" y="472"/>
                  <a:pt x="147" y="472"/>
                </a:cubicBezTo>
                <a:cubicBezTo>
                  <a:pt x="162" y="486"/>
                  <a:pt x="191" y="501"/>
                  <a:pt x="220" y="516"/>
                </a:cubicBezTo>
                <a:cubicBezTo>
                  <a:pt x="220" y="545"/>
                  <a:pt x="220" y="545"/>
                  <a:pt x="220" y="545"/>
                </a:cubicBezTo>
                <a:cubicBezTo>
                  <a:pt x="220" y="560"/>
                  <a:pt x="235" y="589"/>
                  <a:pt x="250" y="589"/>
                </a:cubicBezTo>
                <a:cubicBezTo>
                  <a:pt x="338" y="589"/>
                  <a:pt x="338" y="589"/>
                  <a:pt x="338" y="589"/>
                </a:cubicBezTo>
                <a:cubicBezTo>
                  <a:pt x="353" y="589"/>
                  <a:pt x="367" y="560"/>
                  <a:pt x="367" y="545"/>
                </a:cubicBezTo>
                <a:cubicBezTo>
                  <a:pt x="367" y="516"/>
                  <a:pt x="367" y="516"/>
                  <a:pt x="367" y="516"/>
                </a:cubicBezTo>
                <a:cubicBezTo>
                  <a:pt x="397" y="501"/>
                  <a:pt x="426" y="486"/>
                  <a:pt x="441" y="472"/>
                </a:cubicBezTo>
                <a:cubicBezTo>
                  <a:pt x="485" y="501"/>
                  <a:pt x="485" y="501"/>
                  <a:pt x="485" y="501"/>
                </a:cubicBezTo>
                <a:cubicBezTo>
                  <a:pt x="515" y="501"/>
                  <a:pt x="529" y="501"/>
                  <a:pt x="544" y="486"/>
                </a:cubicBezTo>
                <a:cubicBezTo>
                  <a:pt x="588" y="413"/>
                  <a:pt x="588" y="413"/>
                  <a:pt x="588" y="413"/>
                </a:cubicBezTo>
                <a:cubicBezTo>
                  <a:pt x="588" y="398"/>
                  <a:pt x="588" y="368"/>
                  <a:pt x="574" y="354"/>
                </a:cubicBezTo>
                <a:close/>
                <a:moveTo>
                  <a:pt x="544" y="413"/>
                </a:moveTo>
                <a:lnTo>
                  <a:pt x="544" y="413"/>
                </a:lnTo>
                <a:cubicBezTo>
                  <a:pt x="515" y="442"/>
                  <a:pt x="515" y="442"/>
                  <a:pt x="515" y="442"/>
                </a:cubicBezTo>
                <a:cubicBezTo>
                  <a:pt x="515" y="457"/>
                  <a:pt x="500" y="457"/>
                  <a:pt x="500" y="457"/>
                </a:cubicBezTo>
                <a:cubicBezTo>
                  <a:pt x="441" y="427"/>
                  <a:pt x="441" y="427"/>
                  <a:pt x="441" y="427"/>
                </a:cubicBezTo>
                <a:cubicBezTo>
                  <a:pt x="412" y="457"/>
                  <a:pt x="382" y="472"/>
                  <a:pt x="338" y="486"/>
                </a:cubicBezTo>
                <a:cubicBezTo>
                  <a:pt x="338" y="530"/>
                  <a:pt x="338" y="530"/>
                  <a:pt x="338" y="530"/>
                </a:cubicBezTo>
                <a:cubicBezTo>
                  <a:pt x="338" y="530"/>
                  <a:pt x="324" y="545"/>
                  <a:pt x="309" y="545"/>
                </a:cubicBezTo>
                <a:cubicBezTo>
                  <a:pt x="279" y="545"/>
                  <a:pt x="279" y="545"/>
                  <a:pt x="279" y="545"/>
                </a:cubicBezTo>
                <a:cubicBezTo>
                  <a:pt x="265" y="545"/>
                  <a:pt x="250" y="530"/>
                  <a:pt x="250" y="530"/>
                </a:cubicBezTo>
                <a:cubicBezTo>
                  <a:pt x="250" y="486"/>
                  <a:pt x="250" y="486"/>
                  <a:pt x="250" y="486"/>
                </a:cubicBezTo>
                <a:cubicBezTo>
                  <a:pt x="206" y="472"/>
                  <a:pt x="176" y="457"/>
                  <a:pt x="147" y="427"/>
                </a:cubicBezTo>
                <a:cubicBezTo>
                  <a:pt x="88" y="457"/>
                  <a:pt x="88" y="457"/>
                  <a:pt x="88" y="457"/>
                </a:cubicBezTo>
                <a:cubicBezTo>
                  <a:pt x="88" y="457"/>
                  <a:pt x="73" y="457"/>
                  <a:pt x="73" y="442"/>
                </a:cubicBezTo>
                <a:cubicBezTo>
                  <a:pt x="44" y="413"/>
                  <a:pt x="44" y="413"/>
                  <a:pt x="44" y="413"/>
                </a:cubicBezTo>
                <a:cubicBezTo>
                  <a:pt x="44" y="398"/>
                  <a:pt x="44" y="383"/>
                  <a:pt x="58" y="383"/>
                </a:cubicBezTo>
                <a:cubicBezTo>
                  <a:pt x="103" y="354"/>
                  <a:pt x="103" y="354"/>
                  <a:pt x="103" y="354"/>
                </a:cubicBezTo>
                <a:cubicBezTo>
                  <a:pt x="103" y="339"/>
                  <a:pt x="103" y="309"/>
                  <a:pt x="103" y="295"/>
                </a:cubicBezTo>
                <a:cubicBezTo>
                  <a:pt x="103" y="265"/>
                  <a:pt x="103" y="251"/>
                  <a:pt x="103" y="221"/>
                </a:cubicBezTo>
                <a:cubicBezTo>
                  <a:pt x="58" y="192"/>
                  <a:pt x="58" y="192"/>
                  <a:pt x="58" y="192"/>
                </a:cubicBezTo>
                <a:cubicBezTo>
                  <a:pt x="44" y="192"/>
                  <a:pt x="44" y="177"/>
                  <a:pt x="44" y="163"/>
                </a:cubicBezTo>
                <a:cubicBezTo>
                  <a:pt x="73" y="133"/>
                  <a:pt x="73" y="133"/>
                  <a:pt x="73" y="133"/>
                </a:cubicBezTo>
                <a:cubicBezTo>
                  <a:pt x="73" y="133"/>
                  <a:pt x="88" y="118"/>
                  <a:pt x="88" y="133"/>
                </a:cubicBezTo>
                <a:cubicBezTo>
                  <a:pt x="147" y="163"/>
                  <a:pt x="147" y="163"/>
                  <a:pt x="147" y="163"/>
                </a:cubicBezTo>
                <a:cubicBezTo>
                  <a:pt x="176" y="133"/>
                  <a:pt x="206" y="104"/>
                  <a:pt x="250" y="104"/>
                </a:cubicBezTo>
                <a:cubicBezTo>
                  <a:pt x="250" y="59"/>
                  <a:pt x="250" y="59"/>
                  <a:pt x="250" y="59"/>
                </a:cubicBezTo>
                <a:cubicBezTo>
                  <a:pt x="250" y="45"/>
                  <a:pt x="265" y="30"/>
                  <a:pt x="279" y="30"/>
                </a:cubicBezTo>
                <a:cubicBezTo>
                  <a:pt x="309" y="30"/>
                  <a:pt x="309" y="30"/>
                  <a:pt x="309" y="30"/>
                </a:cubicBezTo>
                <a:cubicBezTo>
                  <a:pt x="324" y="30"/>
                  <a:pt x="338" y="45"/>
                  <a:pt x="338" y="59"/>
                </a:cubicBezTo>
                <a:cubicBezTo>
                  <a:pt x="338" y="104"/>
                  <a:pt x="338" y="104"/>
                  <a:pt x="338" y="104"/>
                </a:cubicBezTo>
                <a:cubicBezTo>
                  <a:pt x="382" y="104"/>
                  <a:pt x="412" y="133"/>
                  <a:pt x="441" y="163"/>
                </a:cubicBezTo>
                <a:cubicBezTo>
                  <a:pt x="500" y="133"/>
                  <a:pt x="500" y="133"/>
                  <a:pt x="500" y="133"/>
                </a:cubicBezTo>
                <a:cubicBezTo>
                  <a:pt x="500" y="118"/>
                  <a:pt x="515" y="133"/>
                  <a:pt x="515" y="133"/>
                </a:cubicBezTo>
                <a:cubicBezTo>
                  <a:pt x="544" y="163"/>
                  <a:pt x="544" y="163"/>
                  <a:pt x="544" y="163"/>
                </a:cubicBezTo>
                <a:cubicBezTo>
                  <a:pt x="544" y="177"/>
                  <a:pt x="544" y="192"/>
                  <a:pt x="529" y="192"/>
                </a:cubicBezTo>
                <a:cubicBezTo>
                  <a:pt x="485" y="221"/>
                  <a:pt x="485" y="221"/>
                  <a:pt x="485" y="221"/>
                </a:cubicBezTo>
                <a:cubicBezTo>
                  <a:pt x="485" y="251"/>
                  <a:pt x="485" y="265"/>
                  <a:pt x="485" y="295"/>
                </a:cubicBezTo>
                <a:cubicBezTo>
                  <a:pt x="485" y="309"/>
                  <a:pt x="485" y="339"/>
                  <a:pt x="485" y="354"/>
                </a:cubicBezTo>
                <a:cubicBezTo>
                  <a:pt x="529" y="383"/>
                  <a:pt x="529" y="383"/>
                  <a:pt x="529" y="383"/>
                </a:cubicBezTo>
                <a:cubicBezTo>
                  <a:pt x="544" y="383"/>
                  <a:pt x="544" y="398"/>
                  <a:pt x="544" y="413"/>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42" name="稻壳儿小白白(http://dwz.cn/Wu2UP)"/>
          <p:cNvSpPr/>
          <p:nvPr/>
        </p:nvSpPr>
        <p:spPr>
          <a:xfrm>
            <a:off x="10731600" y="4336920"/>
            <a:ext cx="495360" cy="500040"/>
          </a:xfrm>
          <a:custGeom>
            <a:avLst/>
            <a:gdLst/>
            <a:ahLst/>
            <a:rect l="l" t="t" r="r" b="b"/>
            <a:pathLst>
              <a:path w="619" h="620">
                <a:moveTo>
                  <a:pt x="589" y="118"/>
                </a:moveTo>
                <a:lnTo>
                  <a:pt x="589" y="118"/>
                </a:lnTo>
                <a:cubicBezTo>
                  <a:pt x="574" y="132"/>
                  <a:pt x="559" y="148"/>
                  <a:pt x="530" y="177"/>
                </a:cubicBezTo>
                <a:cubicBezTo>
                  <a:pt x="515" y="191"/>
                  <a:pt x="471" y="191"/>
                  <a:pt x="457" y="177"/>
                </a:cubicBezTo>
                <a:cubicBezTo>
                  <a:pt x="427" y="148"/>
                  <a:pt x="427" y="118"/>
                  <a:pt x="457" y="89"/>
                </a:cubicBezTo>
                <a:cubicBezTo>
                  <a:pt x="471" y="59"/>
                  <a:pt x="500" y="30"/>
                  <a:pt x="500" y="30"/>
                </a:cubicBezTo>
                <a:cubicBezTo>
                  <a:pt x="427" y="0"/>
                  <a:pt x="353" y="15"/>
                  <a:pt x="294" y="74"/>
                </a:cubicBezTo>
                <a:cubicBezTo>
                  <a:pt x="250" y="118"/>
                  <a:pt x="236" y="191"/>
                  <a:pt x="250" y="265"/>
                </a:cubicBezTo>
                <a:cubicBezTo>
                  <a:pt x="44" y="471"/>
                  <a:pt x="44" y="471"/>
                  <a:pt x="44" y="471"/>
                </a:cubicBezTo>
                <a:cubicBezTo>
                  <a:pt x="0" y="501"/>
                  <a:pt x="0" y="560"/>
                  <a:pt x="44" y="589"/>
                </a:cubicBezTo>
                <a:cubicBezTo>
                  <a:pt x="74" y="619"/>
                  <a:pt x="118" y="619"/>
                  <a:pt x="147" y="589"/>
                </a:cubicBezTo>
                <a:cubicBezTo>
                  <a:pt x="368" y="368"/>
                  <a:pt x="368" y="368"/>
                  <a:pt x="368" y="368"/>
                </a:cubicBezTo>
                <a:cubicBezTo>
                  <a:pt x="427" y="398"/>
                  <a:pt x="500" y="383"/>
                  <a:pt x="545" y="324"/>
                </a:cubicBezTo>
                <a:cubicBezTo>
                  <a:pt x="603" y="280"/>
                  <a:pt x="618" y="191"/>
                  <a:pt x="589" y="118"/>
                </a:cubicBezTo>
                <a:close/>
                <a:moveTo>
                  <a:pt x="530" y="295"/>
                </a:moveTo>
                <a:lnTo>
                  <a:pt x="530" y="295"/>
                </a:lnTo>
                <a:cubicBezTo>
                  <a:pt x="471" y="339"/>
                  <a:pt x="412" y="353"/>
                  <a:pt x="353" y="324"/>
                </a:cubicBezTo>
                <a:cubicBezTo>
                  <a:pt x="118" y="560"/>
                  <a:pt x="118" y="560"/>
                  <a:pt x="118" y="560"/>
                </a:cubicBezTo>
                <a:cubicBezTo>
                  <a:pt x="103" y="574"/>
                  <a:pt x="88" y="574"/>
                  <a:pt x="74" y="560"/>
                </a:cubicBezTo>
                <a:cubicBezTo>
                  <a:pt x="44" y="545"/>
                  <a:pt x="44" y="515"/>
                  <a:pt x="74" y="501"/>
                </a:cubicBezTo>
                <a:cubicBezTo>
                  <a:pt x="294" y="265"/>
                  <a:pt x="294" y="265"/>
                  <a:pt x="294" y="265"/>
                </a:cubicBezTo>
                <a:cubicBezTo>
                  <a:pt x="265" y="221"/>
                  <a:pt x="280" y="148"/>
                  <a:pt x="324" y="103"/>
                </a:cubicBezTo>
                <a:cubicBezTo>
                  <a:pt x="353" y="74"/>
                  <a:pt x="383" y="59"/>
                  <a:pt x="427" y="59"/>
                </a:cubicBezTo>
                <a:cubicBezTo>
                  <a:pt x="383" y="103"/>
                  <a:pt x="383" y="162"/>
                  <a:pt x="427" y="206"/>
                </a:cubicBezTo>
                <a:cubicBezTo>
                  <a:pt x="457" y="236"/>
                  <a:pt x="530" y="236"/>
                  <a:pt x="559" y="206"/>
                </a:cubicBezTo>
                <a:cubicBezTo>
                  <a:pt x="559" y="236"/>
                  <a:pt x="545" y="280"/>
                  <a:pt x="530" y="295"/>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43" name="稻壳儿小白白(http://dwz.cn/Wu2UP)"/>
          <p:cNvSpPr/>
          <p:nvPr/>
        </p:nvSpPr>
        <p:spPr>
          <a:xfrm>
            <a:off x="9999720" y="4336920"/>
            <a:ext cx="317520" cy="509760"/>
          </a:xfrm>
          <a:custGeom>
            <a:avLst/>
            <a:gdLst/>
            <a:ahLst/>
            <a:rect l="l" t="t" r="r" b="b"/>
            <a:pathLst>
              <a:path w="399" h="634">
                <a:moveTo>
                  <a:pt x="206" y="398"/>
                </a:moveTo>
                <a:lnTo>
                  <a:pt x="206" y="398"/>
                </a:lnTo>
                <a:cubicBezTo>
                  <a:pt x="192" y="398"/>
                  <a:pt x="177" y="398"/>
                  <a:pt x="177" y="412"/>
                </a:cubicBezTo>
                <a:cubicBezTo>
                  <a:pt x="177" y="486"/>
                  <a:pt x="177" y="486"/>
                  <a:pt x="177" y="486"/>
                </a:cubicBezTo>
                <a:cubicBezTo>
                  <a:pt x="177" y="501"/>
                  <a:pt x="192" y="515"/>
                  <a:pt x="206" y="515"/>
                </a:cubicBezTo>
                <a:cubicBezTo>
                  <a:pt x="206" y="515"/>
                  <a:pt x="221" y="501"/>
                  <a:pt x="221" y="486"/>
                </a:cubicBezTo>
                <a:cubicBezTo>
                  <a:pt x="221" y="412"/>
                  <a:pt x="221" y="412"/>
                  <a:pt x="221" y="412"/>
                </a:cubicBezTo>
                <a:cubicBezTo>
                  <a:pt x="221" y="398"/>
                  <a:pt x="206" y="398"/>
                  <a:pt x="206" y="398"/>
                </a:cubicBezTo>
                <a:close/>
                <a:moveTo>
                  <a:pt x="353" y="309"/>
                </a:moveTo>
                <a:lnTo>
                  <a:pt x="353" y="309"/>
                </a:lnTo>
                <a:cubicBezTo>
                  <a:pt x="353" y="162"/>
                  <a:pt x="353" y="162"/>
                  <a:pt x="353" y="162"/>
                </a:cubicBezTo>
                <a:cubicBezTo>
                  <a:pt x="353" y="74"/>
                  <a:pt x="294" y="0"/>
                  <a:pt x="206" y="0"/>
                </a:cubicBezTo>
                <a:cubicBezTo>
                  <a:pt x="118" y="0"/>
                  <a:pt x="44" y="74"/>
                  <a:pt x="44" y="162"/>
                </a:cubicBezTo>
                <a:cubicBezTo>
                  <a:pt x="44" y="309"/>
                  <a:pt x="44" y="309"/>
                  <a:pt x="44" y="309"/>
                </a:cubicBezTo>
                <a:cubicBezTo>
                  <a:pt x="15" y="353"/>
                  <a:pt x="0" y="383"/>
                  <a:pt x="0" y="427"/>
                </a:cubicBezTo>
                <a:cubicBezTo>
                  <a:pt x="0" y="545"/>
                  <a:pt x="89" y="633"/>
                  <a:pt x="206" y="633"/>
                </a:cubicBezTo>
                <a:cubicBezTo>
                  <a:pt x="310" y="633"/>
                  <a:pt x="398" y="545"/>
                  <a:pt x="398" y="427"/>
                </a:cubicBezTo>
                <a:cubicBezTo>
                  <a:pt x="398" y="383"/>
                  <a:pt x="383" y="353"/>
                  <a:pt x="353" y="309"/>
                </a:cubicBezTo>
                <a:close/>
                <a:moveTo>
                  <a:pt x="89" y="162"/>
                </a:moveTo>
                <a:lnTo>
                  <a:pt x="89" y="162"/>
                </a:lnTo>
                <a:cubicBezTo>
                  <a:pt x="89" y="89"/>
                  <a:pt x="133" y="44"/>
                  <a:pt x="206" y="44"/>
                </a:cubicBezTo>
                <a:cubicBezTo>
                  <a:pt x="265" y="44"/>
                  <a:pt x="324" y="89"/>
                  <a:pt x="324" y="162"/>
                </a:cubicBezTo>
                <a:cubicBezTo>
                  <a:pt x="324" y="280"/>
                  <a:pt x="324" y="280"/>
                  <a:pt x="324" y="280"/>
                </a:cubicBezTo>
                <a:cubicBezTo>
                  <a:pt x="280" y="250"/>
                  <a:pt x="251" y="236"/>
                  <a:pt x="206" y="236"/>
                </a:cubicBezTo>
                <a:cubicBezTo>
                  <a:pt x="162" y="236"/>
                  <a:pt x="118" y="250"/>
                  <a:pt x="89" y="280"/>
                </a:cubicBezTo>
                <a:lnTo>
                  <a:pt x="89" y="162"/>
                </a:lnTo>
                <a:close/>
                <a:moveTo>
                  <a:pt x="206" y="589"/>
                </a:moveTo>
                <a:lnTo>
                  <a:pt x="206" y="589"/>
                </a:lnTo>
                <a:cubicBezTo>
                  <a:pt x="118" y="589"/>
                  <a:pt x="44" y="515"/>
                  <a:pt x="44" y="427"/>
                </a:cubicBezTo>
                <a:cubicBezTo>
                  <a:pt x="44" y="339"/>
                  <a:pt x="118" y="280"/>
                  <a:pt x="206" y="280"/>
                </a:cubicBezTo>
                <a:cubicBezTo>
                  <a:pt x="280" y="280"/>
                  <a:pt x="353" y="353"/>
                  <a:pt x="353" y="427"/>
                </a:cubicBezTo>
                <a:cubicBezTo>
                  <a:pt x="353" y="515"/>
                  <a:pt x="294" y="589"/>
                  <a:pt x="206" y="589"/>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44" name="稻壳儿小白白(http://dwz.cn/Wu2UP)"/>
          <p:cNvSpPr/>
          <p:nvPr/>
        </p:nvSpPr>
        <p:spPr>
          <a:xfrm>
            <a:off x="9183600" y="4336920"/>
            <a:ext cx="317520" cy="509760"/>
          </a:xfrm>
          <a:custGeom>
            <a:avLst/>
            <a:gdLst/>
            <a:ahLst/>
            <a:rect l="l" t="t" r="r" b="b"/>
            <a:pathLst>
              <a:path w="399" h="634">
                <a:moveTo>
                  <a:pt x="192" y="398"/>
                </a:moveTo>
                <a:lnTo>
                  <a:pt x="192" y="398"/>
                </a:lnTo>
                <a:cubicBezTo>
                  <a:pt x="192" y="398"/>
                  <a:pt x="177" y="398"/>
                  <a:pt x="177" y="412"/>
                </a:cubicBezTo>
                <a:cubicBezTo>
                  <a:pt x="177" y="486"/>
                  <a:pt x="177" y="486"/>
                  <a:pt x="177" y="486"/>
                </a:cubicBezTo>
                <a:cubicBezTo>
                  <a:pt x="177" y="501"/>
                  <a:pt x="192" y="515"/>
                  <a:pt x="192" y="515"/>
                </a:cubicBezTo>
                <a:cubicBezTo>
                  <a:pt x="207" y="515"/>
                  <a:pt x="221" y="501"/>
                  <a:pt x="221" y="486"/>
                </a:cubicBezTo>
                <a:cubicBezTo>
                  <a:pt x="221" y="412"/>
                  <a:pt x="221" y="412"/>
                  <a:pt x="221" y="412"/>
                </a:cubicBezTo>
                <a:cubicBezTo>
                  <a:pt x="221" y="398"/>
                  <a:pt x="207" y="398"/>
                  <a:pt x="192" y="398"/>
                </a:cubicBezTo>
                <a:close/>
                <a:moveTo>
                  <a:pt x="192" y="236"/>
                </a:moveTo>
                <a:lnTo>
                  <a:pt x="192" y="236"/>
                </a:lnTo>
                <a:cubicBezTo>
                  <a:pt x="148" y="236"/>
                  <a:pt x="118" y="250"/>
                  <a:pt x="74" y="280"/>
                </a:cubicBezTo>
                <a:cubicBezTo>
                  <a:pt x="74" y="162"/>
                  <a:pt x="74" y="162"/>
                  <a:pt x="74" y="162"/>
                </a:cubicBezTo>
                <a:cubicBezTo>
                  <a:pt x="74" y="89"/>
                  <a:pt x="133" y="44"/>
                  <a:pt x="192" y="44"/>
                </a:cubicBezTo>
                <a:cubicBezTo>
                  <a:pt x="266" y="44"/>
                  <a:pt x="309" y="89"/>
                  <a:pt x="309" y="162"/>
                </a:cubicBezTo>
                <a:cubicBezTo>
                  <a:pt x="354" y="162"/>
                  <a:pt x="354" y="162"/>
                  <a:pt x="354" y="162"/>
                </a:cubicBezTo>
                <a:cubicBezTo>
                  <a:pt x="354" y="74"/>
                  <a:pt x="280" y="0"/>
                  <a:pt x="192" y="0"/>
                </a:cubicBezTo>
                <a:cubicBezTo>
                  <a:pt x="104" y="0"/>
                  <a:pt x="45" y="74"/>
                  <a:pt x="45" y="162"/>
                </a:cubicBezTo>
                <a:cubicBezTo>
                  <a:pt x="45" y="309"/>
                  <a:pt x="45" y="309"/>
                  <a:pt x="45" y="309"/>
                </a:cubicBezTo>
                <a:cubicBezTo>
                  <a:pt x="15" y="353"/>
                  <a:pt x="0" y="383"/>
                  <a:pt x="0" y="427"/>
                </a:cubicBezTo>
                <a:cubicBezTo>
                  <a:pt x="0" y="545"/>
                  <a:pt x="89" y="633"/>
                  <a:pt x="192" y="633"/>
                </a:cubicBezTo>
                <a:cubicBezTo>
                  <a:pt x="309" y="633"/>
                  <a:pt x="398" y="545"/>
                  <a:pt x="398" y="427"/>
                </a:cubicBezTo>
                <a:cubicBezTo>
                  <a:pt x="398" y="324"/>
                  <a:pt x="309" y="236"/>
                  <a:pt x="192" y="236"/>
                </a:cubicBezTo>
                <a:close/>
                <a:moveTo>
                  <a:pt x="192" y="589"/>
                </a:moveTo>
                <a:lnTo>
                  <a:pt x="192" y="589"/>
                </a:lnTo>
                <a:cubicBezTo>
                  <a:pt x="104" y="589"/>
                  <a:pt x="45" y="515"/>
                  <a:pt x="45" y="427"/>
                </a:cubicBezTo>
                <a:cubicBezTo>
                  <a:pt x="45" y="339"/>
                  <a:pt x="104" y="280"/>
                  <a:pt x="192" y="280"/>
                </a:cubicBezTo>
                <a:cubicBezTo>
                  <a:pt x="280" y="280"/>
                  <a:pt x="354" y="339"/>
                  <a:pt x="354" y="427"/>
                </a:cubicBezTo>
                <a:cubicBezTo>
                  <a:pt x="354" y="515"/>
                  <a:pt x="280" y="589"/>
                  <a:pt x="192" y="589"/>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45" name="稻壳儿小白白(http://dwz.cn/Wu2UP)"/>
          <p:cNvSpPr/>
          <p:nvPr/>
        </p:nvSpPr>
        <p:spPr>
          <a:xfrm>
            <a:off x="8273880" y="4336920"/>
            <a:ext cx="495360" cy="509760"/>
          </a:xfrm>
          <a:custGeom>
            <a:avLst/>
            <a:gdLst/>
            <a:ahLst/>
            <a:rect l="l" t="t" r="r" b="b"/>
            <a:pathLst>
              <a:path w="619" h="634">
                <a:moveTo>
                  <a:pt x="353" y="324"/>
                </a:moveTo>
                <a:lnTo>
                  <a:pt x="353" y="324"/>
                </a:lnTo>
                <a:cubicBezTo>
                  <a:pt x="368" y="280"/>
                  <a:pt x="383" y="250"/>
                  <a:pt x="383" y="191"/>
                </a:cubicBezTo>
                <a:cubicBezTo>
                  <a:pt x="383" y="89"/>
                  <a:pt x="309" y="0"/>
                  <a:pt x="206" y="0"/>
                </a:cubicBezTo>
                <a:cubicBezTo>
                  <a:pt x="118" y="0"/>
                  <a:pt x="29" y="89"/>
                  <a:pt x="29" y="191"/>
                </a:cubicBezTo>
                <a:cubicBezTo>
                  <a:pt x="29" y="250"/>
                  <a:pt x="44" y="280"/>
                  <a:pt x="73" y="324"/>
                </a:cubicBezTo>
                <a:cubicBezTo>
                  <a:pt x="29" y="339"/>
                  <a:pt x="0" y="383"/>
                  <a:pt x="0" y="427"/>
                </a:cubicBezTo>
                <a:cubicBezTo>
                  <a:pt x="0" y="515"/>
                  <a:pt x="0" y="515"/>
                  <a:pt x="0" y="515"/>
                </a:cubicBezTo>
                <a:cubicBezTo>
                  <a:pt x="0" y="574"/>
                  <a:pt x="44" y="633"/>
                  <a:pt x="118" y="633"/>
                </a:cubicBezTo>
                <a:cubicBezTo>
                  <a:pt x="309" y="633"/>
                  <a:pt x="309" y="633"/>
                  <a:pt x="309" y="633"/>
                </a:cubicBezTo>
                <a:cubicBezTo>
                  <a:pt x="368" y="633"/>
                  <a:pt x="427" y="574"/>
                  <a:pt x="427" y="515"/>
                </a:cubicBezTo>
                <a:cubicBezTo>
                  <a:pt x="427" y="427"/>
                  <a:pt x="427" y="427"/>
                  <a:pt x="427" y="427"/>
                </a:cubicBezTo>
                <a:cubicBezTo>
                  <a:pt x="427" y="383"/>
                  <a:pt x="398" y="339"/>
                  <a:pt x="353" y="324"/>
                </a:cubicBezTo>
                <a:close/>
                <a:moveTo>
                  <a:pt x="73" y="191"/>
                </a:moveTo>
                <a:lnTo>
                  <a:pt x="73" y="191"/>
                </a:lnTo>
                <a:cubicBezTo>
                  <a:pt x="73" y="103"/>
                  <a:pt x="132" y="44"/>
                  <a:pt x="206" y="44"/>
                </a:cubicBezTo>
                <a:cubicBezTo>
                  <a:pt x="280" y="44"/>
                  <a:pt x="353" y="103"/>
                  <a:pt x="353" y="191"/>
                </a:cubicBezTo>
                <a:cubicBezTo>
                  <a:pt x="353" y="280"/>
                  <a:pt x="280" y="353"/>
                  <a:pt x="206" y="353"/>
                </a:cubicBezTo>
                <a:cubicBezTo>
                  <a:pt x="132" y="353"/>
                  <a:pt x="73" y="280"/>
                  <a:pt x="73" y="191"/>
                </a:cubicBezTo>
                <a:close/>
                <a:moveTo>
                  <a:pt x="383" y="501"/>
                </a:moveTo>
                <a:lnTo>
                  <a:pt x="383" y="501"/>
                </a:lnTo>
                <a:cubicBezTo>
                  <a:pt x="383" y="545"/>
                  <a:pt x="339" y="589"/>
                  <a:pt x="294" y="589"/>
                </a:cubicBezTo>
                <a:cubicBezTo>
                  <a:pt x="132" y="589"/>
                  <a:pt x="132" y="589"/>
                  <a:pt x="132" y="589"/>
                </a:cubicBezTo>
                <a:cubicBezTo>
                  <a:pt x="73" y="589"/>
                  <a:pt x="29" y="545"/>
                  <a:pt x="29" y="501"/>
                </a:cubicBezTo>
                <a:cubicBezTo>
                  <a:pt x="29" y="442"/>
                  <a:pt x="29" y="442"/>
                  <a:pt x="29" y="442"/>
                </a:cubicBezTo>
                <a:cubicBezTo>
                  <a:pt x="29" y="398"/>
                  <a:pt x="59" y="368"/>
                  <a:pt x="103" y="353"/>
                </a:cubicBezTo>
                <a:cubicBezTo>
                  <a:pt x="132" y="383"/>
                  <a:pt x="177" y="398"/>
                  <a:pt x="206" y="398"/>
                </a:cubicBezTo>
                <a:cubicBezTo>
                  <a:pt x="250" y="398"/>
                  <a:pt x="280" y="383"/>
                  <a:pt x="309" y="353"/>
                </a:cubicBezTo>
                <a:cubicBezTo>
                  <a:pt x="353" y="368"/>
                  <a:pt x="383" y="398"/>
                  <a:pt x="383" y="442"/>
                </a:cubicBezTo>
                <a:lnTo>
                  <a:pt x="383" y="501"/>
                </a:lnTo>
                <a:close/>
                <a:moveTo>
                  <a:pt x="441" y="162"/>
                </a:moveTo>
                <a:lnTo>
                  <a:pt x="441" y="162"/>
                </a:lnTo>
                <a:cubicBezTo>
                  <a:pt x="603" y="162"/>
                  <a:pt x="603" y="162"/>
                  <a:pt x="603" y="162"/>
                </a:cubicBezTo>
                <a:cubicBezTo>
                  <a:pt x="618" y="162"/>
                  <a:pt x="618" y="148"/>
                  <a:pt x="618" y="132"/>
                </a:cubicBezTo>
                <a:cubicBezTo>
                  <a:pt x="618" y="132"/>
                  <a:pt x="618" y="118"/>
                  <a:pt x="603" y="118"/>
                </a:cubicBezTo>
                <a:cubicBezTo>
                  <a:pt x="441" y="118"/>
                  <a:pt x="441" y="118"/>
                  <a:pt x="441" y="118"/>
                </a:cubicBezTo>
                <a:lnTo>
                  <a:pt x="427" y="132"/>
                </a:lnTo>
                <a:cubicBezTo>
                  <a:pt x="427" y="148"/>
                  <a:pt x="441" y="162"/>
                  <a:pt x="441" y="162"/>
                </a:cubicBezTo>
                <a:close/>
                <a:moveTo>
                  <a:pt x="603" y="471"/>
                </a:moveTo>
                <a:lnTo>
                  <a:pt x="603" y="471"/>
                </a:lnTo>
                <a:cubicBezTo>
                  <a:pt x="486" y="471"/>
                  <a:pt x="486" y="471"/>
                  <a:pt x="486" y="471"/>
                </a:cubicBezTo>
                <a:cubicBezTo>
                  <a:pt x="471" y="471"/>
                  <a:pt x="471" y="486"/>
                  <a:pt x="471" y="486"/>
                </a:cubicBezTo>
                <a:cubicBezTo>
                  <a:pt x="471" y="501"/>
                  <a:pt x="471" y="515"/>
                  <a:pt x="486" y="515"/>
                </a:cubicBezTo>
                <a:cubicBezTo>
                  <a:pt x="603" y="515"/>
                  <a:pt x="603" y="515"/>
                  <a:pt x="603" y="515"/>
                </a:cubicBezTo>
                <a:cubicBezTo>
                  <a:pt x="618" y="515"/>
                  <a:pt x="618" y="501"/>
                  <a:pt x="618" y="486"/>
                </a:cubicBezTo>
                <a:cubicBezTo>
                  <a:pt x="618" y="486"/>
                  <a:pt x="618" y="471"/>
                  <a:pt x="603" y="471"/>
                </a:cubicBezTo>
                <a:close/>
                <a:moveTo>
                  <a:pt x="603" y="236"/>
                </a:moveTo>
                <a:lnTo>
                  <a:pt x="603" y="236"/>
                </a:lnTo>
                <a:cubicBezTo>
                  <a:pt x="441" y="236"/>
                  <a:pt x="441" y="236"/>
                  <a:pt x="441" y="236"/>
                </a:cubicBezTo>
                <a:lnTo>
                  <a:pt x="427" y="250"/>
                </a:lnTo>
                <a:cubicBezTo>
                  <a:pt x="427" y="265"/>
                  <a:pt x="441" y="280"/>
                  <a:pt x="441" y="280"/>
                </a:cubicBezTo>
                <a:cubicBezTo>
                  <a:pt x="603" y="280"/>
                  <a:pt x="603" y="280"/>
                  <a:pt x="603" y="280"/>
                </a:cubicBezTo>
                <a:cubicBezTo>
                  <a:pt x="618" y="280"/>
                  <a:pt x="618" y="265"/>
                  <a:pt x="618" y="250"/>
                </a:cubicBezTo>
                <a:cubicBezTo>
                  <a:pt x="618" y="250"/>
                  <a:pt x="618" y="236"/>
                  <a:pt x="603" y="236"/>
                </a:cubicBezTo>
                <a:close/>
                <a:moveTo>
                  <a:pt x="603" y="353"/>
                </a:moveTo>
                <a:lnTo>
                  <a:pt x="603" y="353"/>
                </a:lnTo>
                <a:cubicBezTo>
                  <a:pt x="486" y="353"/>
                  <a:pt x="486" y="353"/>
                  <a:pt x="486" y="353"/>
                </a:cubicBezTo>
                <a:cubicBezTo>
                  <a:pt x="471" y="353"/>
                  <a:pt x="471" y="368"/>
                  <a:pt x="471" y="368"/>
                </a:cubicBezTo>
                <a:cubicBezTo>
                  <a:pt x="471" y="383"/>
                  <a:pt x="471" y="398"/>
                  <a:pt x="486" y="398"/>
                </a:cubicBezTo>
                <a:cubicBezTo>
                  <a:pt x="603" y="398"/>
                  <a:pt x="603" y="398"/>
                  <a:pt x="603" y="398"/>
                </a:cubicBezTo>
                <a:cubicBezTo>
                  <a:pt x="618" y="398"/>
                  <a:pt x="618" y="383"/>
                  <a:pt x="618" y="368"/>
                </a:cubicBezTo>
                <a:cubicBezTo>
                  <a:pt x="618" y="368"/>
                  <a:pt x="618" y="353"/>
                  <a:pt x="603" y="353"/>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46" name="稻壳儿小白白(http://dwz.cn/Wu2UP)"/>
          <p:cNvSpPr/>
          <p:nvPr/>
        </p:nvSpPr>
        <p:spPr>
          <a:xfrm>
            <a:off x="7524720" y="4336920"/>
            <a:ext cx="344520" cy="50976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47" name="稻壳儿小白白(http://dwz.cn/Wu2UP)"/>
          <p:cNvSpPr/>
          <p:nvPr/>
        </p:nvSpPr>
        <p:spPr>
          <a:xfrm>
            <a:off x="6618240" y="4322880"/>
            <a:ext cx="520920" cy="520560"/>
          </a:xfrm>
          <a:custGeom>
            <a:avLst/>
            <a:gdLst/>
            <a:ahLst/>
            <a:rect l="l" t="t" r="r" b="b"/>
            <a:pathLst>
              <a:path w="649" h="649">
                <a:moveTo>
                  <a:pt x="633" y="30"/>
                </a:moveTo>
                <a:lnTo>
                  <a:pt x="633" y="30"/>
                </a:lnTo>
                <a:cubicBezTo>
                  <a:pt x="603" y="0"/>
                  <a:pt x="559" y="15"/>
                  <a:pt x="530" y="30"/>
                </a:cubicBezTo>
                <a:cubicBezTo>
                  <a:pt x="412" y="163"/>
                  <a:pt x="412" y="163"/>
                  <a:pt x="412" y="163"/>
                </a:cubicBezTo>
                <a:cubicBezTo>
                  <a:pt x="177" y="74"/>
                  <a:pt x="177" y="74"/>
                  <a:pt x="177" y="74"/>
                </a:cubicBezTo>
                <a:cubicBezTo>
                  <a:pt x="162" y="74"/>
                  <a:pt x="132" y="59"/>
                  <a:pt x="103" y="89"/>
                </a:cubicBezTo>
                <a:cubicBezTo>
                  <a:pt x="88" y="104"/>
                  <a:pt x="59" y="133"/>
                  <a:pt x="103" y="177"/>
                </a:cubicBezTo>
                <a:cubicBezTo>
                  <a:pt x="265" y="310"/>
                  <a:pt x="265" y="310"/>
                  <a:pt x="265" y="310"/>
                </a:cubicBezTo>
                <a:cubicBezTo>
                  <a:pt x="162" y="413"/>
                  <a:pt x="162" y="413"/>
                  <a:pt x="162" y="413"/>
                </a:cubicBezTo>
                <a:cubicBezTo>
                  <a:pt x="59" y="383"/>
                  <a:pt x="59" y="383"/>
                  <a:pt x="59" y="383"/>
                </a:cubicBezTo>
                <a:cubicBezTo>
                  <a:pt x="44" y="383"/>
                  <a:pt x="44" y="383"/>
                  <a:pt x="29" y="398"/>
                </a:cubicBezTo>
                <a:cubicBezTo>
                  <a:pt x="29" y="398"/>
                  <a:pt x="0" y="413"/>
                  <a:pt x="15" y="442"/>
                </a:cubicBezTo>
                <a:cubicBezTo>
                  <a:pt x="132" y="530"/>
                  <a:pt x="132" y="530"/>
                  <a:pt x="132" y="530"/>
                </a:cubicBezTo>
                <a:cubicBezTo>
                  <a:pt x="221" y="634"/>
                  <a:pt x="221" y="634"/>
                  <a:pt x="221" y="634"/>
                </a:cubicBezTo>
                <a:cubicBezTo>
                  <a:pt x="236" y="648"/>
                  <a:pt x="250" y="648"/>
                  <a:pt x="265" y="619"/>
                </a:cubicBezTo>
                <a:cubicBezTo>
                  <a:pt x="280" y="619"/>
                  <a:pt x="280" y="604"/>
                  <a:pt x="265" y="589"/>
                </a:cubicBezTo>
                <a:cubicBezTo>
                  <a:pt x="250" y="501"/>
                  <a:pt x="250" y="501"/>
                  <a:pt x="250" y="501"/>
                </a:cubicBezTo>
                <a:cubicBezTo>
                  <a:pt x="353" y="398"/>
                  <a:pt x="353" y="398"/>
                  <a:pt x="353" y="398"/>
                </a:cubicBezTo>
                <a:cubicBezTo>
                  <a:pt x="486" y="560"/>
                  <a:pt x="486" y="560"/>
                  <a:pt x="486" y="560"/>
                </a:cubicBezTo>
                <a:cubicBezTo>
                  <a:pt x="530" y="589"/>
                  <a:pt x="559" y="560"/>
                  <a:pt x="574" y="560"/>
                </a:cubicBezTo>
                <a:cubicBezTo>
                  <a:pt x="589" y="530"/>
                  <a:pt x="589" y="501"/>
                  <a:pt x="589" y="486"/>
                </a:cubicBezTo>
                <a:cubicBezTo>
                  <a:pt x="500" y="251"/>
                  <a:pt x="500" y="251"/>
                  <a:pt x="500" y="251"/>
                </a:cubicBezTo>
                <a:cubicBezTo>
                  <a:pt x="618" y="118"/>
                  <a:pt x="618" y="118"/>
                  <a:pt x="618" y="118"/>
                </a:cubicBezTo>
                <a:cubicBezTo>
                  <a:pt x="648" y="104"/>
                  <a:pt x="648" y="59"/>
                  <a:pt x="633" y="30"/>
                </a:cubicBezTo>
                <a:close/>
                <a:moveTo>
                  <a:pt x="603" y="104"/>
                </a:moveTo>
                <a:lnTo>
                  <a:pt x="603" y="104"/>
                </a:lnTo>
                <a:cubicBezTo>
                  <a:pt x="456" y="251"/>
                  <a:pt x="456" y="251"/>
                  <a:pt x="456" y="251"/>
                </a:cubicBezTo>
                <a:cubicBezTo>
                  <a:pt x="545" y="486"/>
                  <a:pt x="545" y="486"/>
                  <a:pt x="545" y="486"/>
                </a:cubicBezTo>
                <a:cubicBezTo>
                  <a:pt x="545" y="501"/>
                  <a:pt x="545" y="516"/>
                  <a:pt x="545" y="530"/>
                </a:cubicBezTo>
                <a:cubicBezTo>
                  <a:pt x="530" y="545"/>
                  <a:pt x="515" y="530"/>
                  <a:pt x="500" y="530"/>
                </a:cubicBezTo>
                <a:cubicBezTo>
                  <a:pt x="368" y="339"/>
                  <a:pt x="368" y="339"/>
                  <a:pt x="368" y="339"/>
                </a:cubicBezTo>
                <a:cubicBezTo>
                  <a:pt x="206" y="486"/>
                  <a:pt x="206" y="486"/>
                  <a:pt x="206" y="486"/>
                </a:cubicBezTo>
                <a:cubicBezTo>
                  <a:pt x="236" y="589"/>
                  <a:pt x="236" y="589"/>
                  <a:pt x="236" y="589"/>
                </a:cubicBezTo>
                <a:cubicBezTo>
                  <a:pt x="221" y="589"/>
                  <a:pt x="162" y="501"/>
                  <a:pt x="162" y="501"/>
                </a:cubicBezTo>
                <a:cubicBezTo>
                  <a:pt x="162" y="501"/>
                  <a:pt x="73" y="427"/>
                  <a:pt x="59" y="427"/>
                </a:cubicBezTo>
                <a:cubicBezTo>
                  <a:pt x="162" y="457"/>
                  <a:pt x="162" y="457"/>
                  <a:pt x="162" y="457"/>
                </a:cubicBezTo>
                <a:cubicBezTo>
                  <a:pt x="324" y="295"/>
                  <a:pt x="324" y="295"/>
                  <a:pt x="324" y="295"/>
                </a:cubicBezTo>
                <a:cubicBezTo>
                  <a:pt x="132" y="147"/>
                  <a:pt x="132" y="147"/>
                  <a:pt x="132" y="147"/>
                </a:cubicBezTo>
                <a:cubicBezTo>
                  <a:pt x="132" y="147"/>
                  <a:pt x="118" y="133"/>
                  <a:pt x="132" y="118"/>
                </a:cubicBezTo>
                <a:cubicBezTo>
                  <a:pt x="147" y="118"/>
                  <a:pt x="162" y="118"/>
                  <a:pt x="177" y="118"/>
                </a:cubicBezTo>
                <a:cubicBezTo>
                  <a:pt x="412" y="206"/>
                  <a:pt x="412" y="206"/>
                  <a:pt x="412" y="206"/>
                </a:cubicBezTo>
                <a:cubicBezTo>
                  <a:pt x="559" y="59"/>
                  <a:pt x="559" y="59"/>
                  <a:pt x="559" y="59"/>
                </a:cubicBezTo>
                <a:cubicBezTo>
                  <a:pt x="574" y="45"/>
                  <a:pt x="589" y="45"/>
                  <a:pt x="603" y="59"/>
                </a:cubicBezTo>
                <a:cubicBezTo>
                  <a:pt x="603" y="74"/>
                  <a:pt x="618" y="89"/>
                  <a:pt x="603" y="104"/>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48" name="稻壳儿小白白(http://dwz.cn/Wu2UP)"/>
          <p:cNvSpPr/>
          <p:nvPr/>
        </p:nvSpPr>
        <p:spPr>
          <a:xfrm>
            <a:off x="5815080" y="4348080"/>
            <a:ext cx="509400" cy="495360"/>
          </a:xfrm>
          <a:custGeom>
            <a:avLst/>
            <a:gdLst/>
            <a:ahLst/>
            <a:rect l="l" t="t" r="r" b="b"/>
            <a:pathLst>
              <a:path w="634" h="619">
                <a:moveTo>
                  <a:pt x="603" y="74"/>
                </a:moveTo>
                <a:lnTo>
                  <a:pt x="603" y="74"/>
                </a:lnTo>
                <a:cubicBezTo>
                  <a:pt x="545" y="15"/>
                  <a:pt x="545" y="15"/>
                  <a:pt x="545" y="15"/>
                </a:cubicBezTo>
                <a:cubicBezTo>
                  <a:pt x="530" y="0"/>
                  <a:pt x="500" y="0"/>
                  <a:pt x="486" y="15"/>
                </a:cubicBezTo>
                <a:cubicBezTo>
                  <a:pt x="412" y="133"/>
                  <a:pt x="412" y="133"/>
                  <a:pt x="412" y="133"/>
                </a:cubicBezTo>
                <a:cubicBezTo>
                  <a:pt x="398" y="147"/>
                  <a:pt x="398" y="176"/>
                  <a:pt x="412" y="191"/>
                </a:cubicBezTo>
                <a:cubicBezTo>
                  <a:pt x="441" y="221"/>
                  <a:pt x="441" y="221"/>
                  <a:pt x="441" y="221"/>
                </a:cubicBezTo>
                <a:cubicBezTo>
                  <a:pt x="412" y="250"/>
                  <a:pt x="382" y="294"/>
                  <a:pt x="353" y="324"/>
                </a:cubicBezTo>
                <a:cubicBezTo>
                  <a:pt x="309" y="368"/>
                  <a:pt x="265" y="397"/>
                  <a:pt x="235" y="427"/>
                </a:cubicBezTo>
                <a:cubicBezTo>
                  <a:pt x="191" y="397"/>
                  <a:pt x="191" y="397"/>
                  <a:pt x="191" y="397"/>
                </a:cubicBezTo>
                <a:cubicBezTo>
                  <a:pt x="177" y="383"/>
                  <a:pt x="162" y="383"/>
                  <a:pt x="132" y="397"/>
                </a:cubicBezTo>
                <a:cubicBezTo>
                  <a:pt x="29" y="486"/>
                  <a:pt x="29" y="486"/>
                  <a:pt x="29" y="486"/>
                </a:cubicBezTo>
                <a:cubicBezTo>
                  <a:pt x="0" y="500"/>
                  <a:pt x="15" y="515"/>
                  <a:pt x="29" y="530"/>
                </a:cubicBezTo>
                <a:cubicBezTo>
                  <a:pt x="88" y="589"/>
                  <a:pt x="88" y="589"/>
                  <a:pt x="88" y="589"/>
                </a:cubicBezTo>
                <a:cubicBezTo>
                  <a:pt x="118" y="618"/>
                  <a:pt x="147" y="618"/>
                  <a:pt x="191" y="589"/>
                </a:cubicBezTo>
                <a:cubicBezTo>
                  <a:pt x="191" y="589"/>
                  <a:pt x="324" y="530"/>
                  <a:pt x="427" y="412"/>
                </a:cubicBezTo>
                <a:cubicBezTo>
                  <a:pt x="530" y="324"/>
                  <a:pt x="603" y="191"/>
                  <a:pt x="603" y="191"/>
                </a:cubicBezTo>
                <a:cubicBezTo>
                  <a:pt x="618" y="147"/>
                  <a:pt x="633" y="103"/>
                  <a:pt x="603" y="74"/>
                </a:cubicBezTo>
                <a:close/>
                <a:moveTo>
                  <a:pt x="574" y="162"/>
                </a:moveTo>
                <a:lnTo>
                  <a:pt x="574" y="162"/>
                </a:lnTo>
                <a:cubicBezTo>
                  <a:pt x="545" y="221"/>
                  <a:pt x="471" y="324"/>
                  <a:pt x="412" y="383"/>
                </a:cubicBezTo>
                <a:cubicBezTo>
                  <a:pt x="339" y="456"/>
                  <a:pt x="162" y="559"/>
                  <a:pt x="162" y="559"/>
                </a:cubicBezTo>
                <a:cubicBezTo>
                  <a:pt x="147" y="574"/>
                  <a:pt x="118" y="574"/>
                  <a:pt x="103" y="559"/>
                </a:cubicBezTo>
                <a:cubicBezTo>
                  <a:pt x="73" y="530"/>
                  <a:pt x="73" y="530"/>
                  <a:pt x="73" y="530"/>
                </a:cubicBezTo>
                <a:cubicBezTo>
                  <a:pt x="59" y="515"/>
                  <a:pt x="59" y="500"/>
                  <a:pt x="73" y="486"/>
                </a:cubicBezTo>
                <a:cubicBezTo>
                  <a:pt x="147" y="442"/>
                  <a:pt x="147" y="442"/>
                  <a:pt x="147" y="442"/>
                </a:cubicBezTo>
                <a:cubicBezTo>
                  <a:pt x="162" y="427"/>
                  <a:pt x="177" y="427"/>
                  <a:pt x="177" y="442"/>
                </a:cubicBezTo>
                <a:cubicBezTo>
                  <a:pt x="221" y="486"/>
                  <a:pt x="221" y="486"/>
                  <a:pt x="221" y="486"/>
                </a:cubicBezTo>
                <a:cubicBezTo>
                  <a:pt x="235" y="471"/>
                  <a:pt x="398" y="368"/>
                  <a:pt x="500" y="221"/>
                </a:cubicBezTo>
                <a:cubicBezTo>
                  <a:pt x="441" y="176"/>
                  <a:pt x="441" y="176"/>
                  <a:pt x="441" y="176"/>
                </a:cubicBezTo>
                <a:cubicBezTo>
                  <a:pt x="441" y="162"/>
                  <a:pt x="441" y="147"/>
                  <a:pt x="441" y="133"/>
                </a:cubicBezTo>
                <a:cubicBezTo>
                  <a:pt x="500" y="59"/>
                  <a:pt x="500" y="59"/>
                  <a:pt x="500" y="59"/>
                </a:cubicBezTo>
                <a:cubicBezTo>
                  <a:pt x="515" y="44"/>
                  <a:pt x="530" y="59"/>
                  <a:pt x="545" y="59"/>
                </a:cubicBezTo>
                <a:cubicBezTo>
                  <a:pt x="574" y="103"/>
                  <a:pt x="574" y="103"/>
                  <a:pt x="574" y="103"/>
                </a:cubicBezTo>
                <a:cubicBezTo>
                  <a:pt x="589" y="117"/>
                  <a:pt x="589" y="147"/>
                  <a:pt x="574" y="162"/>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49" name="稻壳儿小白白(http://dwz.cn/Wu2UP)"/>
          <p:cNvSpPr/>
          <p:nvPr/>
        </p:nvSpPr>
        <p:spPr>
          <a:xfrm>
            <a:off x="4986360" y="4348080"/>
            <a:ext cx="511200" cy="473040"/>
          </a:xfrm>
          <a:custGeom>
            <a:avLst/>
            <a:gdLst/>
            <a:ahLst/>
            <a:rect l="l" t="t" r="r" b="b"/>
            <a:pathLst>
              <a:path w="634" h="590">
                <a:moveTo>
                  <a:pt x="589" y="0"/>
                </a:moveTo>
                <a:lnTo>
                  <a:pt x="589" y="0"/>
                </a:lnTo>
                <a:cubicBezTo>
                  <a:pt x="412" y="117"/>
                  <a:pt x="412" y="117"/>
                  <a:pt x="412" y="117"/>
                </a:cubicBezTo>
                <a:cubicBezTo>
                  <a:pt x="162" y="117"/>
                  <a:pt x="162" y="117"/>
                  <a:pt x="162" y="117"/>
                </a:cubicBezTo>
                <a:cubicBezTo>
                  <a:pt x="74" y="117"/>
                  <a:pt x="0" y="176"/>
                  <a:pt x="0" y="265"/>
                </a:cubicBezTo>
                <a:cubicBezTo>
                  <a:pt x="0" y="338"/>
                  <a:pt x="59" y="383"/>
                  <a:pt x="118" y="397"/>
                </a:cubicBezTo>
                <a:lnTo>
                  <a:pt x="118" y="559"/>
                </a:lnTo>
                <a:cubicBezTo>
                  <a:pt x="118" y="574"/>
                  <a:pt x="148" y="589"/>
                  <a:pt x="162" y="589"/>
                </a:cubicBezTo>
                <a:cubicBezTo>
                  <a:pt x="221" y="589"/>
                  <a:pt x="221" y="589"/>
                  <a:pt x="221" y="589"/>
                </a:cubicBezTo>
                <a:cubicBezTo>
                  <a:pt x="236" y="589"/>
                  <a:pt x="265" y="574"/>
                  <a:pt x="265" y="559"/>
                </a:cubicBezTo>
                <a:cubicBezTo>
                  <a:pt x="265" y="397"/>
                  <a:pt x="265" y="397"/>
                  <a:pt x="265" y="397"/>
                </a:cubicBezTo>
                <a:cubicBezTo>
                  <a:pt x="412" y="397"/>
                  <a:pt x="412" y="397"/>
                  <a:pt x="412" y="397"/>
                </a:cubicBezTo>
                <a:cubicBezTo>
                  <a:pt x="589" y="515"/>
                  <a:pt x="589" y="515"/>
                  <a:pt x="589" y="515"/>
                </a:cubicBezTo>
                <a:cubicBezTo>
                  <a:pt x="619" y="515"/>
                  <a:pt x="633" y="500"/>
                  <a:pt x="633" y="471"/>
                </a:cubicBezTo>
                <a:cubicBezTo>
                  <a:pt x="633" y="44"/>
                  <a:pt x="633" y="44"/>
                  <a:pt x="633" y="44"/>
                </a:cubicBezTo>
                <a:cubicBezTo>
                  <a:pt x="633" y="29"/>
                  <a:pt x="619" y="0"/>
                  <a:pt x="589" y="0"/>
                </a:cubicBezTo>
                <a:close/>
                <a:moveTo>
                  <a:pt x="221" y="530"/>
                </a:moveTo>
                <a:lnTo>
                  <a:pt x="221" y="530"/>
                </a:lnTo>
                <a:cubicBezTo>
                  <a:pt x="221" y="545"/>
                  <a:pt x="207" y="559"/>
                  <a:pt x="207" y="559"/>
                </a:cubicBezTo>
                <a:cubicBezTo>
                  <a:pt x="177" y="559"/>
                  <a:pt x="177" y="559"/>
                  <a:pt x="177" y="559"/>
                </a:cubicBezTo>
                <a:cubicBezTo>
                  <a:pt x="177" y="559"/>
                  <a:pt x="162" y="545"/>
                  <a:pt x="162" y="530"/>
                </a:cubicBezTo>
                <a:cubicBezTo>
                  <a:pt x="162" y="397"/>
                  <a:pt x="162" y="397"/>
                  <a:pt x="162" y="397"/>
                </a:cubicBezTo>
                <a:cubicBezTo>
                  <a:pt x="162" y="397"/>
                  <a:pt x="207" y="397"/>
                  <a:pt x="221" y="397"/>
                </a:cubicBezTo>
                <a:lnTo>
                  <a:pt x="221" y="530"/>
                </a:lnTo>
                <a:close/>
                <a:moveTo>
                  <a:pt x="324" y="353"/>
                </a:moveTo>
                <a:lnTo>
                  <a:pt x="324" y="353"/>
                </a:lnTo>
                <a:cubicBezTo>
                  <a:pt x="162" y="353"/>
                  <a:pt x="162" y="353"/>
                  <a:pt x="162" y="353"/>
                </a:cubicBezTo>
                <a:cubicBezTo>
                  <a:pt x="118" y="353"/>
                  <a:pt x="44" y="353"/>
                  <a:pt x="44" y="265"/>
                </a:cubicBezTo>
                <a:cubicBezTo>
                  <a:pt x="44" y="176"/>
                  <a:pt x="118" y="162"/>
                  <a:pt x="162" y="162"/>
                </a:cubicBezTo>
                <a:cubicBezTo>
                  <a:pt x="324" y="162"/>
                  <a:pt x="324" y="162"/>
                  <a:pt x="324" y="162"/>
                </a:cubicBezTo>
                <a:lnTo>
                  <a:pt x="324" y="353"/>
                </a:lnTo>
                <a:close/>
                <a:moveTo>
                  <a:pt x="412" y="353"/>
                </a:moveTo>
                <a:lnTo>
                  <a:pt x="412" y="353"/>
                </a:lnTo>
                <a:cubicBezTo>
                  <a:pt x="354" y="353"/>
                  <a:pt x="354" y="353"/>
                  <a:pt x="354" y="353"/>
                </a:cubicBezTo>
                <a:cubicBezTo>
                  <a:pt x="354" y="162"/>
                  <a:pt x="354" y="162"/>
                  <a:pt x="354" y="162"/>
                </a:cubicBezTo>
                <a:cubicBezTo>
                  <a:pt x="412" y="162"/>
                  <a:pt x="412" y="162"/>
                  <a:pt x="412" y="162"/>
                </a:cubicBezTo>
                <a:cubicBezTo>
                  <a:pt x="412" y="162"/>
                  <a:pt x="412" y="338"/>
                  <a:pt x="412" y="353"/>
                </a:cubicBezTo>
                <a:close/>
                <a:moveTo>
                  <a:pt x="589" y="471"/>
                </a:moveTo>
                <a:lnTo>
                  <a:pt x="589" y="471"/>
                </a:lnTo>
                <a:cubicBezTo>
                  <a:pt x="457" y="383"/>
                  <a:pt x="457" y="383"/>
                  <a:pt x="457" y="383"/>
                </a:cubicBezTo>
                <a:cubicBezTo>
                  <a:pt x="457" y="353"/>
                  <a:pt x="457" y="162"/>
                  <a:pt x="457" y="147"/>
                </a:cubicBezTo>
                <a:cubicBezTo>
                  <a:pt x="589" y="44"/>
                  <a:pt x="589" y="44"/>
                  <a:pt x="589" y="44"/>
                </a:cubicBezTo>
                <a:cubicBezTo>
                  <a:pt x="589" y="74"/>
                  <a:pt x="589" y="456"/>
                  <a:pt x="589" y="471"/>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50" name="稻壳儿小白白(http://dwz.cn/Wu2UP)"/>
          <p:cNvSpPr/>
          <p:nvPr/>
        </p:nvSpPr>
        <p:spPr>
          <a:xfrm>
            <a:off x="4205160" y="4336920"/>
            <a:ext cx="390600" cy="509760"/>
          </a:xfrm>
          <a:custGeom>
            <a:avLst/>
            <a:gdLst/>
            <a:ahLst/>
            <a:rect l="l" t="t" r="r" b="b"/>
            <a:pathLst>
              <a:path w="487" h="634">
                <a:moveTo>
                  <a:pt x="73" y="383"/>
                </a:moveTo>
                <a:lnTo>
                  <a:pt x="73" y="383"/>
                </a:lnTo>
                <a:cubicBezTo>
                  <a:pt x="73" y="368"/>
                  <a:pt x="73" y="368"/>
                  <a:pt x="73" y="368"/>
                </a:cubicBezTo>
                <a:cubicBezTo>
                  <a:pt x="29" y="368"/>
                  <a:pt x="29" y="368"/>
                  <a:pt x="29" y="368"/>
                </a:cubicBezTo>
                <a:cubicBezTo>
                  <a:pt x="29" y="383"/>
                  <a:pt x="44" y="398"/>
                  <a:pt x="44" y="412"/>
                </a:cubicBezTo>
                <a:lnTo>
                  <a:pt x="73" y="383"/>
                </a:lnTo>
                <a:close/>
                <a:moveTo>
                  <a:pt x="456" y="59"/>
                </a:moveTo>
                <a:lnTo>
                  <a:pt x="456" y="59"/>
                </a:lnTo>
                <a:cubicBezTo>
                  <a:pt x="0" y="501"/>
                  <a:pt x="0" y="501"/>
                  <a:pt x="0" y="501"/>
                </a:cubicBezTo>
                <a:cubicBezTo>
                  <a:pt x="29" y="530"/>
                  <a:pt x="29" y="530"/>
                  <a:pt x="29" y="530"/>
                </a:cubicBezTo>
                <a:cubicBezTo>
                  <a:pt x="486" y="89"/>
                  <a:pt x="486" y="89"/>
                  <a:pt x="486" y="89"/>
                </a:cubicBezTo>
                <a:lnTo>
                  <a:pt x="456" y="59"/>
                </a:lnTo>
                <a:close/>
                <a:moveTo>
                  <a:pt x="147" y="132"/>
                </a:moveTo>
                <a:lnTo>
                  <a:pt x="147" y="132"/>
                </a:lnTo>
                <a:cubicBezTo>
                  <a:pt x="147" y="89"/>
                  <a:pt x="191" y="44"/>
                  <a:pt x="250" y="44"/>
                </a:cubicBezTo>
                <a:cubicBezTo>
                  <a:pt x="294" y="44"/>
                  <a:pt x="323" y="74"/>
                  <a:pt x="339" y="103"/>
                </a:cubicBezTo>
                <a:cubicBezTo>
                  <a:pt x="368" y="74"/>
                  <a:pt x="368" y="74"/>
                  <a:pt x="368" y="74"/>
                </a:cubicBezTo>
                <a:cubicBezTo>
                  <a:pt x="353" y="30"/>
                  <a:pt x="309" y="0"/>
                  <a:pt x="250" y="0"/>
                </a:cubicBezTo>
                <a:cubicBezTo>
                  <a:pt x="176" y="0"/>
                  <a:pt x="118" y="59"/>
                  <a:pt x="118" y="132"/>
                </a:cubicBezTo>
                <a:cubicBezTo>
                  <a:pt x="118" y="339"/>
                  <a:pt x="118" y="339"/>
                  <a:pt x="118" y="339"/>
                </a:cubicBezTo>
                <a:lnTo>
                  <a:pt x="147" y="295"/>
                </a:lnTo>
                <a:lnTo>
                  <a:pt x="147" y="132"/>
                </a:lnTo>
                <a:close/>
                <a:moveTo>
                  <a:pt x="250" y="427"/>
                </a:moveTo>
                <a:lnTo>
                  <a:pt x="250" y="427"/>
                </a:lnTo>
                <a:cubicBezTo>
                  <a:pt x="235" y="427"/>
                  <a:pt x="221" y="427"/>
                  <a:pt x="206" y="412"/>
                </a:cubicBezTo>
                <a:cubicBezTo>
                  <a:pt x="176" y="442"/>
                  <a:pt x="176" y="442"/>
                  <a:pt x="176" y="442"/>
                </a:cubicBezTo>
                <a:cubicBezTo>
                  <a:pt x="191" y="457"/>
                  <a:pt x="221" y="471"/>
                  <a:pt x="250" y="471"/>
                </a:cubicBezTo>
                <a:cubicBezTo>
                  <a:pt x="323" y="471"/>
                  <a:pt x="382" y="412"/>
                  <a:pt x="382" y="339"/>
                </a:cubicBezTo>
                <a:cubicBezTo>
                  <a:pt x="382" y="236"/>
                  <a:pt x="382" y="236"/>
                  <a:pt x="382" y="236"/>
                </a:cubicBezTo>
                <a:cubicBezTo>
                  <a:pt x="353" y="280"/>
                  <a:pt x="353" y="280"/>
                  <a:pt x="353" y="280"/>
                </a:cubicBezTo>
                <a:cubicBezTo>
                  <a:pt x="353" y="339"/>
                  <a:pt x="353" y="339"/>
                  <a:pt x="353" y="339"/>
                </a:cubicBezTo>
                <a:cubicBezTo>
                  <a:pt x="353" y="383"/>
                  <a:pt x="309" y="427"/>
                  <a:pt x="250" y="427"/>
                </a:cubicBezTo>
                <a:close/>
                <a:moveTo>
                  <a:pt x="250" y="515"/>
                </a:moveTo>
                <a:lnTo>
                  <a:pt x="250" y="515"/>
                </a:lnTo>
                <a:cubicBezTo>
                  <a:pt x="206" y="515"/>
                  <a:pt x="176" y="501"/>
                  <a:pt x="147" y="471"/>
                </a:cubicBezTo>
                <a:cubicBezTo>
                  <a:pt x="118" y="501"/>
                  <a:pt x="118" y="501"/>
                  <a:pt x="118" y="501"/>
                </a:cubicBezTo>
                <a:cubicBezTo>
                  <a:pt x="147" y="530"/>
                  <a:pt x="191" y="545"/>
                  <a:pt x="235" y="545"/>
                </a:cubicBezTo>
                <a:cubicBezTo>
                  <a:pt x="235" y="589"/>
                  <a:pt x="235" y="589"/>
                  <a:pt x="235" y="589"/>
                </a:cubicBezTo>
                <a:cubicBezTo>
                  <a:pt x="206" y="589"/>
                  <a:pt x="206" y="589"/>
                  <a:pt x="206" y="589"/>
                </a:cubicBezTo>
                <a:lnTo>
                  <a:pt x="191" y="604"/>
                </a:lnTo>
                <a:cubicBezTo>
                  <a:pt x="191" y="619"/>
                  <a:pt x="206" y="633"/>
                  <a:pt x="206" y="633"/>
                </a:cubicBezTo>
                <a:cubicBezTo>
                  <a:pt x="294" y="633"/>
                  <a:pt x="294" y="633"/>
                  <a:pt x="294" y="633"/>
                </a:cubicBezTo>
                <a:cubicBezTo>
                  <a:pt x="294" y="633"/>
                  <a:pt x="309" y="619"/>
                  <a:pt x="309" y="604"/>
                </a:cubicBezTo>
                <a:lnTo>
                  <a:pt x="294" y="589"/>
                </a:lnTo>
                <a:cubicBezTo>
                  <a:pt x="265" y="589"/>
                  <a:pt x="265" y="589"/>
                  <a:pt x="265" y="589"/>
                </a:cubicBezTo>
                <a:cubicBezTo>
                  <a:pt x="265" y="545"/>
                  <a:pt x="265" y="545"/>
                  <a:pt x="265" y="545"/>
                </a:cubicBezTo>
                <a:cubicBezTo>
                  <a:pt x="368" y="545"/>
                  <a:pt x="441" y="471"/>
                  <a:pt x="471" y="368"/>
                </a:cubicBezTo>
                <a:cubicBezTo>
                  <a:pt x="427" y="368"/>
                  <a:pt x="427" y="368"/>
                  <a:pt x="427" y="368"/>
                </a:cubicBezTo>
                <a:cubicBezTo>
                  <a:pt x="412" y="457"/>
                  <a:pt x="339" y="515"/>
                  <a:pt x="250" y="515"/>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51" name="稻壳儿小白白(http://dwz.cn/Wu2UP)"/>
          <p:cNvSpPr/>
          <p:nvPr/>
        </p:nvSpPr>
        <p:spPr>
          <a:xfrm>
            <a:off x="3424320" y="4336920"/>
            <a:ext cx="353880" cy="509760"/>
          </a:xfrm>
          <a:custGeom>
            <a:avLst/>
            <a:gdLst/>
            <a:ahLst/>
            <a:rect l="l" t="t" r="r" b="b"/>
            <a:pathLst>
              <a:path w="443" h="634">
                <a:moveTo>
                  <a:pt x="442" y="368"/>
                </a:moveTo>
                <a:lnTo>
                  <a:pt x="442" y="368"/>
                </a:lnTo>
                <a:cubicBezTo>
                  <a:pt x="398" y="368"/>
                  <a:pt x="398" y="368"/>
                  <a:pt x="398" y="368"/>
                </a:cubicBezTo>
                <a:cubicBezTo>
                  <a:pt x="383" y="457"/>
                  <a:pt x="309" y="515"/>
                  <a:pt x="221" y="515"/>
                </a:cubicBezTo>
                <a:cubicBezTo>
                  <a:pt x="133" y="515"/>
                  <a:pt x="59" y="457"/>
                  <a:pt x="44" y="368"/>
                </a:cubicBezTo>
                <a:cubicBezTo>
                  <a:pt x="0" y="368"/>
                  <a:pt x="0" y="368"/>
                  <a:pt x="0" y="368"/>
                </a:cubicBezTo>
                <a:cubicBezTo>
                  <a:pt x="30" y="471"/>
                  <a:pt x="103" y="545"/>
                  <a:pt x="206" y="545"/>
                </a:cubicBezTo>
                <a:cubicBezTo>
                  <a:pt x="206" y="589"/>
                  <a:pt x="206" y="589"/>
                  <a:pt x="206" y="589"/>
                </a:cubicBezTo>
                <a:cubicBezTo>
                  <a:pt x="177" y="589"/>
                  <a:pt x="177" y="589"/>
                  <a:pt x="177" y="589"/>
                </a:cubicBezTo>
                <a:lnTo>
                  <a:pt x="162" y="604"/>
                </a:lnTo>
                <a:cubicBezTo>
                  <a:pt x="162" y="619"/>
                  <a:pt x="177" y="633"/>
                  <a:pt x="177" y="633"/>
                </a:cubicBezTo>
                <a:cubicBezTo>
                  <a:pt x="265" y="633"/>
                  <a:pt x="265" y="633"/>
                  <a:pt x="265" y="633"/>
                </a:cubicBezTo>
                <a:cubicBezTo>
                  <a:pt x="265" y="633"/>
                  <a:pt x="280" y="619"/>
                  <a:pt x="280" y="604"/>
                </a:cubicBezTo>
                <a:lnTo>
                  <a:pt x="265" y="589"/>
                </a:lnTo>
                <a:cubicBezTo>
                  <a:pt x="236" y="589"/>
                  <a:pt x="236" y="589"/>
                  <a:pt x="236" y="589"/>
                </a:cubicBezTo>
                <a:cubicBezTo>
                  <a:pt x="236" y="545"/>
                  <a:pt x="236" y="545"/>
                  <a:pt x="236" y="545"/>
                </a:cubicBezTo>
                <a:cubicBezTo>
                  <a:pt x="339" y="545"/>
                  <a:pt x="412" y="471"/>
                  <a:pt x="442" y="368"/>
                </a:cubicBezTo>
                <a:close/>
                <a:moveTo>
                  <a:pt x="221" y="471"/>
                </a:moveTo>
                <a:lnTo>
                  <a:pt x="221" y="471"/>
                </a:lnTo>
                <a:cubicBezTo>
                  <a:pt x="294" y="471"/>
                  <a:pt x="353" y="412"/>
                  <a:pt x="353" y="339"/>
                </a:cubicBezTo>
                <a:cubicBezTo>
                  <a:pt x="353" y="132"/>
                  <a:pt x="353" y="132"/>
                  <a:pt x="353" y="132"/>
                </a:cubicBezTo>
                <a:cubicBezTo>
                  <a:pt x="353" y="59"/>
                  <a:pt x="294" y="0"/>
                  <a:pt x="221" y="0"/>
                </a:cubicBezTo>
                <a:cubicBezTo>
                  <a:pt x="147" y="0"/>
                  <a:pt x="89" y="59"/>
                  <a:pt x="89" y="132"/>
                </a:cubicBezTo>
                <a:cubicBezTo>
                  <a:pt x="89" y="339"/>
                  <a:pt x="89" y="339"/>
                  <a:pt x="89" y="339"/>
                </a:cubicBezTo>
                <a:cubicBezTo>
                  <a:pt x="89" y="412"/>
                  <a:pt x="147" y="471"/>
                  <a:pt x="221" y="471"/>
                </a:cubicBezTo>
                <a:close/>
                <a:moveTo>
                  <a:pt x="118" y="132"/>
                </a:moveTo>
                <a:lnTo>
                  <a:pt x="118" y="132"/>
                </a:lnTo>
                <a:cubicBezTo>
                  <a:pt x="118" y="89"/>
                  <a:pt x="162" y="44"/>
                  <a:pt x="221" y="44"/>
                </a:cubicBezTo>
                <a:cubicBezTo>
                  <a:pt x="280" y="44"/>
                  <a:pt x="324" y="89"/>
                  <a:pt x="324" y="132"/>
                </a:cubicBezTo>
                <a:cubicBezTo>
                  <a:pt x="324" y="339"/>
                  <a:pt x="324" y="339"/>
                  <a:pt x="324" y="339"/>
                </a:cubicBezTo>
                <a:cubicBezTo>
                  <a:pt x="324" y="383"/>
                  <a:pt x="280" y="427"/>
                  <a:pt x="221" y="427"/>
                </a:cubicBezTo>
                <a:cubicBezTo>
                  <a:pt x="162" y="427"/>
                  <a:pt x="118" y="383"/>
                  <a:pt x="118" y="339"/>
                </a:cubicBezTo>
                <a:lnTo>
                  <a:pt x="118" y="132"/>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52" name="稻壳儿小白白(http://dwz.cn/Wu2UP)"/>
          <p:cNvSpPr/>
          <p:nvPr/>
        </p:nvSpPr>
        <p:spPr>
          <a:xfrm>
            <a:off x="10731600" y="3506760"/>
            <a:ext cx="509400" cy="511200"/>
          </a:xfrm>
          <a:custGeom>
            <a:avLst/>
            <a:gdLst/>
            <a:ahLst/>
            <a:rect l="l" t="t" r="r" b="b"/>
            <a:pathLst>
              <a:path w="634" h="633">
                <a:moveTo>
                  <a:pt x="603" y="14"/>
                </a:moveTo>
                <a:lnTo>
                  <a:pt x="603" y="14"/>
                </a:lnTo>
                <a:cubicBezTo>
                  <a:pt x="574" y="14"/>
                  <a:pt x="0" y="309"/>
                  <a:pt x="0" y="309"/>
                </a:cubicBezTo>
                <a:lnTo>
                  <a:pt x="191" y="427"/>
                </a:lnTo>
                <a:lnTo>
                  <a:pt x="309" y="632"/>
                </a:lnTo>
                <a:cubicBezTo>
                  <a:pt x="309" y="632"/>
                  <a:pt x="618" y="44"/>
                  <a:pt x="618" y="29"/>
                </a:cubicBezTo>
                <a:cubicBezTo>
                  <a:pt x="633" y="14"/>
                  <a:pt x="618" y="0"/>
                  <a:pt x="603" y="14"/>
                </a:cubicBezTo>
                <a:close/>
                <a:moveTo>
                  <a:pt x="74" y="309"/>
                </a:moveTo>
                <a:lnTo>
                  <a:pt x="74" y="309"/>
                </a:lnTo>
                <a:cubicBezTo>
                  <a:pt x="530" y="88"/>
                  <a:pt x="530" y="88"/>
                  <a:pt x="530" y="88"/>
                </a:cubicBezTo>
                <a:cubicBezTo>
                  <a:pt x="206" y="382"/>
                  <a:pt x="206" y="382"/>
                  <a:pt x="206" y="382"/>
                </a:cubicBezTo>
                <a:lnTo>
                  <a:pt x="74" y="309"/>
                </a:lnTo>
                <a:close/>
                <a:moveTo>
                  <a:pt x="309" y="559"/>
                </a:moveTo>
                <a:lnTo>
                  <a:pt x="309" y="559"/>
                </a:lnTo>
                <a:cubicBezTo>
                  <a:pt x="309" y="559"/>
                  <a:pt x="250" y="441"/>
                  <a:pt x="236" y="397"/>
                </a:cubicBezTo>
                <a:cubicBezTo>
                  <a:pt x="545" y="102"/>
                  <a:pt x="545" y="102"/>
                  <a:pt x="545" y="102"/>
                </a:cubicBezTo>
                <a:lnTo>
                  <a:pt x="309" y="559"/>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53" name="稻壳儿小白白(http://dwz.cn/Wu2UP)"/>
          <p:cNvSpPr/>
          <p:nvPr/>
        </p:nvSpPr>
        <p:spPr>
          <a:xfrm>
            <a:off x="9906120" y="3517920"/>
            <a:ext cx="509400" cy="496800"/>
          </a:xfrm>
          <a:custGeom>
            <a:avLst/>
            <a:gdLst/>
            <a:ahLst/>
            <a:rect l="l" t="t" r="r" b="b"/>
            <a:pathLst>
              <a:path w="634" h="619">
                <a:moveTo>
                  <a:pt x="324" y="0"/>
                </a:moveTo>
                <a:lnTo>
                  <a:pt x="324" y="0"/>
                </a:lnTo>
                <a:cubicBezTo>
                  <a:pt x="0" y="177"/>
                  <a:pt x="0" y="177"/>
                  <a:pt x="0" y="177"/>
                </a:cubicBezTo>
                <a:cubicBezTo>
                  <a:pt x="0" y="221"/>
                  <a:pt x="0" y="545"/>
                  <a:pt x="0" y="545"/>
                </a:cubicBezTo>
                <a:cubicBezTo>
                  <a:pt x="0" y="589"/>
                  <a:pt x="45" y="618"/>
                  <a:pt x="89" y="618"/>
                </a:cubicBezTo>
                <a:cubicBezTo>
                  <a:pt x="560" y="618"/>
                  <a:pt x="560" y="618"/>
                  <a:pt x="560" y="618"/>
                </a:cubicBezTo>
                <a:cubicBezTo>
                  <a:pt x="604" y="618"/>
                  <a:pt x="633" y="589"/>
                  <a:pt x="633" y="545"/>
                </a:cubicBezTo>
                <a:cubicBezTo>
                  <a:pt x="633" y="545"/>
                  <a:pt x="633" y="221"/>
                  <a:pt x="633" y="177"/>
                </a:cubicBezTo>
                <a:lnTo>
                  <a:pt x="324" y="0"/>
                </a:lnTo>
                <a:close/>
                <a:moveTo>
                  <a:pt x="45" y="545"/>
                </a:moveTo>
                <a:lnTo>
                  <a:pt x="45" y="545"/>
                </a:lnTo>
                <a:cubicBezTo>
                  <a:pt x="45" y="236"/>
                  <a:pt x="45" y="236"/>
                  <a:pt x="45" y="236"/>
                </a:cubicBezTo>
                <a:cubicBezTo>
                  <a:pt x="221" y="383"/>
                  <a:pt x="221" y="383"/>
                  <a:pt x="221" y="383"/>
                </a:cubicBezTo>
                <a:cubicBezTo>
                  <a:pt x="45" y="560"/>
                  <a:pt x="45" y="560"/>
                  <a:pt x="45" y="560"/>
                </a:cubicBezTo>
                <a:lnTo>
                  <a:pt x="45" y="545"/>
                </a:lnTo>
                <a:close/>
                <a:moveTo>
                  <a:pt x="74" y="589"/>
                </a:moveTo>
                <a:lnTo>
                  <a:pt x="74" y="589"/>
                </a:lnTo>
                <a:cubicBezTo>
                  <a:pt x="251" y="398"/>
                  <a:pt x="251" y="398"/>
                  <a:pt x="251" y="398"/>
                </a:cubicBezTo>
                <a:cubicBezTo>
                  <a:pt x="324" y="442"/>
                  <a:pt x="324" y="442"/>
                  <a:pt x="324" y="442"/>
                </a:cubicBezTo>
                <a:cubicBezTo>
                  <a:pt x="383" y="398"/>
                  <a:pt x="383" y="398"/>
                  <a:pt x="383" y="398"/>
                </a:cubicBezTo>
                <a:cubicBezTo>
                  <a:pt x="560" y="589"/>
                  <a:pt x="560" y="589"/>
                  <a:pt x="560" y="589"/>
                </a:cubicBezTo>
                <a:lnTo>
                  <a:pt x="74" y="589"/>
                </a:lnTo>
                <a:close/>
                <a:moveTo>
                  <a:pt x="589" y="545"/>
                </a:moveTo>
                <a:lnTo>
                  <a:pt x="589" y="545"/>
                </a:lnTo>
                <a:lnTo>
                  <a:pt x="589" y="560"/>
                </a:lnTo>
                <a:cubicBezTo>
                  <a:pt x="412" y="383"/>
                  <a:pt x="412" y="383"/>
                  <a:pt x="412" y="383"/>
                </a:cubicBezTo>
                <a:cubicBezTo>
                  <a:pt x="589" y="236"/>
                  <a:pt x="589" y="236"/>
                  <a:pt x="589" y="236"/>
                </a:cubicBezTo>
                <a:lnTo>
                  <a:pt x="589" y="545"/>
                </a:lnTo>
                <a:close/>
                <a:moveTo>
                  <a:pt x="324" y="398"/>
                </a:moveTo>
                <a:lnTo>
                  <a:pt x="324" y="398"/>
                </a:lnTo>
                <a:cubicBezTo>
                  <a:pt x="45" y="192"/>
                  <a:pt x="45" y="192"/>
                  <a:pt x="45" y="192"/>
                </a:cubicBezTo>
                <a:cubicBezTo>
                  <a:pt x="324" y="45"/>
                  <a:pt x="324" y="45"/>
                  <a:pt x="324" y="45"/>
                </a:cubicBezTo>
                <a:cubicBezTo>
                  <a:pt x="589" y="192"/>
                  <a:pt x="589" y="192"/>
                  <a:pt x="589" y="192"/>
                </a:cubicBezTo>
                <a:lnTo>
                  <a:pt x="324" y="398"/>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54" name="稻壳儿小白白(http://dwz.cn/Wu2UP)"/>
          <p:cNvSpPr/>
          <p:nvPr/>
        </p:nvSpPr>
        <p:spPr>
          <a:xfrm>
            <a:off x="9086760" y="3579840"/>
            <a:ext cx="509760" cy="377640"/>
          </a:xfrm>
          <a:custGeom>
            <a:avLst/>
            <a:gdLst/>
            <a:ahLst/>
            <a:rect l="l" t="t" r="r" b="b"/>
            <a:pathLst>
              <a:path w="634" h="472">
                <a:moveTo>
                  <a:pt x="338" y="280"/>
                </a:moveTo>
                <a:lnTo>
                  <a:pt x="338" y="280"/>
                </a:lnTo>
                <a:cubicBezTo>
                  <a:pt x="103" y="280"/>
                  <a:pt x="103" y="280"/>
                  <a:pt x="103" y="280"/>
                </a:cubicBezTo>
                <a:cubicBezTo>
                  <a:pt x="88" y="280"/>
                  <a:pt x="73" y="280"/>
                  <a:pt x="73" y="294"/>
                </a:cubicBezTo>
                <a:cubicBezTo>
                  <a:pt x="73" y="309"/>
                  <a:pt x="88" y="309"/>
                  <a:pt x="103" y="309"/>
                </a:cubicBezTo>
                <a:cubicBezTo>
                  <a:pt x="338" y="309"/>
                  <a:pt x="338" y="309"/>
                  <a:pt x="338" y="309"/>
                </a:cubicBezTo>
                <a:cubicBezTo>
                  <a:pt x="338" y="309"/>
                  <a:pt x="353" y="309"/>
                  <a:pt x="353" y="294"/>
                </a:cubicBezTo>
                <a:cubicBezTo>
                  <a:pt x="353" y="280"/>
                  <a:pt x="338" y="280"/>
                  <a:pt x="338" y="280"/>
                </a:cubicBezTo>
                <a:close/>
                <a:moveTo>
                  <a:pt x="338" y="353"/>
                </a:moveTo>
                <a:lnTo>
                  <a:pt x="338" y="353"/>
                </a:lnTo>
                <a:cubicBezTo>
                  <a:pt x="103" y="353"/>
                  <a:pt x="103" y="353"/>
                  <a:pt x="103" y="353"/>
                </a:cubicBezTo>
                <a:cubicBezTo>
                  <a:pt x="88" y="353"/>
                  <a:pt x="73" y="368"/>
                  <a:pt x="73" y="368"/>
                </a:cubicBezTo>
                <a:cubicBezTo>
                  <a:pt x="73" y="383"/>
                  <a:pt x="88" y="397"/>
                  <a:pt x="103" y="397"/>
                </a:cubicBezTo>
                <a:cubicBezTo>
                  <a:pt x="338" y="397"/>
                  <a:pt x="338" y="397"/>
                  <a:pt x="338" y="397"/>
                </a:cubicBezTo>
                <a:cubicBezTo>
                  <a:pt x="338" y="397"/>
                  <a:pt x="353" y="383"/>
                  <a:pt x="353" y="368"/>
                </a:cubicBezTo>
                <a:lnTo>
                  <a:pt x="338" y="353"/>
                </a:lnTo>
                <a:close/>
                <a:moveTo>
                  <a:pt x="544" y="0"/>
                </a:moveTo>
                <a:lnTo>
                  <a:pt x="544" y="0"/>
                </a:lnTo>
                <a:cubicBezTo>
                  <a:pt x="73" y="0"/>
                  <a:pt x="73" y="0"/>
                  <a:pt x="73" y="0"/>
                </a:cubicBezTo>
                <a:cubicBezTo>
                  <a:pt x="29" y="0"/>
                  <a:pt x="0" y="30"/>
                  <a:pt x="0" y="73"/>
                </a:cubicBezTo>
                <a:cubicBezTo>
                  <a:pt x="0" y="397"/>
                  <a:pt x="0" y="397"/>
                  <a:pt x="0" y="397"/>
                </a:cubicBezTo>
                <a:cubicBezTo>
                  <a:pt x="0" y="442"/>
                  <a:pt x="29" y="471"/>
                  <a:pt x="73" y="471"/>
                </a:cubicBezTo>
                <a:cubicBezTo>
                  <a:pt x="544" y="471"/>
                  <a:pt x="544" y="471"/>
                  <a:pt x="544" y="471"/>
                </a:cubicBezTo>
                <a:cubicBezTo>
                  <a:pt x="588" y="471"/>
                  <a:pt x="633" y="442"/>
                  <a:pt x="633" y="397"/>
                </a:cubicBezTo>
                <a:cubicBezTo>
                  <a:pt x="633" y="73"/>
                  <a:pt x="633" y="73"/>
                  <a:pt x="633" y="73"/>
                </a:cubicBezTo>
                <a:cubicBezTo>
                  <a:pt x="633" y="30"/>
                  <a:pt x="588" y="0"/>
                  <a:pt x="544" y="0"/>
                </a:cubicBezTo>
                <a:close/>
                <a:moveTo>
                  <a:pt x="588" y="397"/>
                </a:moveTo>
                <a:lnTo>
                  <a:pt x="588" y="397"/>
                </a:lnTo>
                <a:cubicBezTo>
                  <a:pt x="588" y="412"/>
                  <a:pt x="574" y="427"/>
                  <a:pt x="544" y="427"/>
                </a:cubicBezTo>
                <a:cubicBezTo>
                  <a:pt x="73" y="427"/>
                  <a:pt x="73" y="427"/>
                  <a:pt x="73" y="427"/>
                </a:cubicBezTo>
                <a:cubicBezTo>
                  <a:pt x="59" y="427"/>
                  <a:pt x="44" y="412"/>
                  <a:pt x="44" y="397"/>
                </a:cubicBezTo>
                <a:cubicBezTo>
                  <a:pt x="44" y="73"/>
                  <a:pt x="44" y="73"/>
                  <a:pt x="44" y="73"/>
                </a:cubicBezTo>
                <a:cubicBezTo>
                  <a:pt x="44" y="59"/>
                  <a:pt x="59" y="44"/>
                  <a:pt x="73" y="44"/>
                </a:cubicBezTo>
                <a:cubicBezTo>
                  <a:pt x="544" y="44"/>
                  <a:pt x="544" y="44"/>
                  <a:pt x="544" y="44"/>
                </a:cubicBezTo>
                <a:cubicBezTo>
                  <a:pt x="574" y="44"/>
                  <a:pt x="588" y="59"/>
                  <a:pt x="588" y="73"/>
                </a:cubicBezTo>
                <a:lnTo>
                  <a:pt x="588" y="397"/>
                </a:lnTo>
                <a:close/>
                <a:moveTo>
                  <a:pt x="515" y="73"/>
                </a:moveTo>
                <a:lnTo>
                  <a:pt x="515" y="73"/>
                </a:lnTo>
                <a:cubicBezTo>
                  <a:pt x="426" y="73"/>
                  <a:pt x="426" y="73"/>
                  <a:pt x="426" y="73"/>
                </a:cubicBezTo>
                <a:cubicBezTo>
                  <a:pt x="412" y="73"/>
                  <a:pt x="397" y="103"/>
                  <a:pt x="397" y="118"/>
                </a:cubicBezTo>
                <a:cubicBezTo>
                  <a:pt x="397" y="191"/>
                  <a:pt x="397" y="191"/>
                  <a:pt x="397" y="191"/>
                </a:cubicBezTo>
                <a:cubicBezTo>
                  <a:pt x="397" y="221"/>
                  <a:pt x="412" y="235"/>
                  <a:pt x="426" y="235"/>
                </a:cubicBezTo>
                <a:cubicBezTo>
                  <a:pt x="515" y="235"/>
                  <a:pt x="515" y="235"/>
                  <a:pt x="515" y="235"/>
                </a:cubicBezTo>
                <a:cubicBezTo>
                  <a:pt x="530" y="235"/>
                  <a:pt x="544" y="221"/>
                  <a:pt x="544" y="191"/>
                </a:cubicBezTo>
                <a:cubicBezTo>
                  <a:pt x="544" y="118"/>
                  <a:pt x="544" y="118"/>
                  <a:pt x="544" y="118"/>
                </a:cubicBezTo>
                <a:cubicBezTo>
                  <a:pt x="544" y="103"/>
                  <a:pt x="530" y="73"/>
                  <a:pt x="515" y="73"/>
                </a:cubicBezTo>
                <a:close/>
                <a:moveTo>
                  <a:pt x="515" y="177"/>
                </a:moveTo>
                <a:lnTo>
                  <a:pt x="515" y="177"/>
                </a:lnTo>
                <a:cubicBezTo>
                  <a:pt x="515" y="191"/>
                  <a:pt x="500" y="191"/>
                  <a:pt x="485" y="191"/>
                </a:cubicBezTo>
                <a:cubicBezTo>
                  <a:pt x="456" y="191"/>
                  <a:pt x="456" y="191"/>
                  <a:pt x="456" y="191"/>
                </a:cubicBezTo>
                <a:cubicBezTo>
                  <a:pt x="442" y="191"/>
                  <a:pt x="426" y="191"/>
                  <a:pt x="426" y="177"/>
                </a:cubicBezTo>
                <a:cubicBezTo>
                  <a:pt x="426" y="132"/>
                  <a:pt x="426" y="132"/>
                  <a:pt x="426" y="132"/>
                </a:cubicBezTo>
                <a:cubicBezTo>
                  <a:pt x="426" y="132"/>
                  <a:pt x="442" y="118"/>
                  <a:pt x="456" y="118"/>
                </a:cubicBezTo>
                <a:cubicBezTo>
                  <a:pt x="485" y="118"/>
                  <a:pt x="485" y="118"/>
                  <a:pt x="485" y="118"/>
                </a:cubicBezTo>
                <a:cubicBezTo>
                  <a:pt x="500" y="118"/>
                  <a:pt x="515" y="132"/>
                  <a:pt x="515" y="132"/>
                </a:cubicBezTo>
                <a:lnTo>
                  <a:pt x="515" y="177"/>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55" name="稻壳儿小白白(http://dwz.cn/Wu2UP)"/>
          <p:cNvSpPr/>
          <p:nvPr/>
        </p:nvSpPr>
        <p:spPr>
          <a:xfrm>
            <a:off x="8273880" y="3579840"/>
            <a:ext cx="495360" cy="377640"/>
          </a:xfrm>
          <a:custGeom>
            <a:avLst/>
            <a:gdLst/>
            <a:ahLst/>
            <a:rect l="l" t="t" r="r" b="b"/>
            <a:pathLst>
              <a:path w="619" h="472">
                <a:moveTo>
                  <a:pt x="545" y="0"/>
                </a:moveTo>
                <a:lnTo>
                  <a:pt x="545" y="0"/>
                </a:lnTo>
                <a:cubicBezTo>
                  <a:pt x="73" y="0"/>
                  <a:pt x="73" y="0"/>
                  <a:pt x="73" y="0"/>
                </a:cubicBezTo>
                <a:cubicBezTo>
                  <a:pt x="29" y="0"/>
                  <a:pt x="0" y="30"/>
                  <a:pt x="0" y="73"/>
                </a:cubicBezTo>
                <a:cubicBezTo>
                  <a:pt x="0" y="397"/>
                  <a:pt x="0" y="397"/>
                  <a:pt x="0" y="397"/>
                </a:cubicBezTo>
                <a:cubicBezTo>
                  <a:pt x="0" y="442"/>
                  <a:pt x="29" y="471"/>
                  <a:pt x="73" y="471"/>
                </a:cubicBezTo>
                <a:cubicBezTo>
                  <a:pt x="545" y="471"/>
                  <a:pt x="545" y="471"/>
                  <a:pt x="545" y="471"/>
                </a:cubicBezTo>
                <a:cubicBezTo>
                  <a:pt x="589" y="471"/>
                  <a:pt x="618" y="442"/>
                  <a:pt x="618" y="397"/>
                </a:cubicBezTo>
                <a:cubicBezTo>
                  <a:pt x="618" y="73"/>
                  <a:pt x="618" y="73"/>
                  <a:pt x="618" y="73"/>
                </a:cubicBezTo>
                <a:cubicBezTo>
                  <a:pt x="618" y="30"/>
                  <a:pt x="589" y="0"/>
                  <a:pt x="545" y="0"/>
                </a:cubicBezTo>
                <a:close/>
                <a:moveTo>
                  <a:pt x="559" y="44"/>
                </a:moveTo>
                <a:lnTo>
                  <a:pt x="559" y="44"/>
                </a:lnTo>
                <a:cubicBezTo>
                  <a:pt x="309" y="235"/>
                  <a:pt x="309" y="235"/>
                  <a:pt x="309" y="235"/>
                </a:cubicBezTo>
                <a:cubicBezTo>
                  <a:pt x="59" y="44"/>
                  <a:pt x="59" y="44"/>
                  <a:pt x="59" y="44"/>
                </a:cubicBezTo>
                <a:lnTo>
                  <a:pt x="559" y="44"/>
                </a:lnTo>
                <a:close/>
                <a:moveTo>
                  <a:pt x="29" y="397"/>
                </a:moveTo>
                <a:lnTo>
                  <a:pt x="29" y="397"/>
                </a:lnTo>
                <a:cubicBezTo>
                  <a:pt x="29" y="73"/>
                  <a:pt x="29" y="73"/>
                  <a:pt x="29" y="73"/>
                </a:cubicBezTo>
                <a:cubicBezTo>
                  <a:pt x="206" y="221"/>
                  <a:pt x="206" y="221"/>
                  <a:pt x="206" y="221"/>
                </a:cubicBezTo>
                <a:cubicBezTo>
                  <a:pt x="29" y="397"/>
                  <a:pt x="29" y="397"/>
                  <a:pt x="29" y="397"/>
                </a:cubicBezTo>
                <a:close/>
                <a:moveTo>
                  <a:pt x="59" y="427"/>
                </a:moveTo>
                <a:lnTo>
                  <a:pt x="59" y="427"/>
                </a:lnTo>
                <a:cubicBezTo>
                  <a:pt x="236" y="235"/>
                  <a:pt x="236" y="235"/>
                  <a:pt x="236" y="235"/>
                </a:cubicBezTo>
                <a:cubicBezTo>
                  <a:pt x="309" y="294"/>
                  <a:pt x="309" y="294"/>
                  <a:pt x="309" y="294"/>
                </a:cubicBezTo>
                <a:cubicBezTo>
                  <a:pt x="368" y="235"/>
                  <a:pt x="368" y="235"/>
                  <a:pt x="368" y="235"/>
                </a:cubicBezTo>
                <a:cubicBezTo>
                  <a:pt x="559" y="427"/>
                  <a:pt x="559" y="427"/>
                  <a:pt x="559" y="427"/>
                </a:cubicBezTo>
                <a:cubicBezTo>
                  <a:pt x="545" y="427"/>
                  <a:pt x="73" y="427"/>
                  <a:pt x="59" y="427"/>
                </a:cubicBezTo>
                <a:close/>
                <a:moveTo>
                  <a:pt x="589" y="397"/>
                </a:moveTo>
                <a:lnTo>
                  <a:pt x="589" y="397"/>
                </a:lnTo>
                <a:cubicBezTo>
                  <a:pt x="412" y="221"/>
                  <a:pt x="412" y="221"/>
                  <a:pt x="412" y="221"/>
                </a:cubicBezTo>
                <a:cubicBezTo>
                  <a:pt x="589" y="73"/>
                  <a:pt x="589" y="73"/>
                  <a:pt x="589" y="73"/>
                </a:cubicBezTo>
                <a:lnTo>
                  <a:pt x="589" y="397"/>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56" name="稻壳儿小白白(http://dwz.cn/Wu2UP)"/>
          <p:cNvSpPr/>
          <p:nvPr/>
        </p:nvSpPr>
        <p:spPr>
          <a:xfrm>
            <a:off x="7443720" y="3517920"/>
            <a:ext cx="511200" cy="496800"/>
          </a:xfrm>
          <a:custGeom>
            <a:avLst/>
            <a:gdLst/>
            <a:ahLst/>
            <a:rect l="l" t="t" r="r" b="b"/>
            <a:pathLst>
              <a:path w="634" h="619">
                <a:moveTo>
                  <a:pt x="530" y="0"/>
                </a:moveTo>
                <a:lnTo>
                  <a:pt x="530" y="0"/>
                </a:lnTo>
                <a:cubicBezTo>
                  <a:pt x="103" y="0"/>
                  <a:pt x="103" y="0"/>
                  <a:pt x="103" y="0"/>
                </a:cubicBezTo>
                <a:cubicBezTo>
                  <a:pt x="59" y="0"/>
                  <a:pt x="0" y="45"/>
                  <a:pt x="0" y="104"/>
                </a:cubicBezTo>
                <a:cubicBezTo>
                  <a:pt x="0" y="427"/>
                  <a:pt x="0" y="427"/>
                  <a:pt x="0" y="427"/>
                </a:cubicBezTo>
                <a:cubicBezTo>
                  <a:pt x="0" y="486"/>
                  <a:pt x="45" y="530"/>
                  <a:pt x="103" y="530"/>
                </a:cubicBezTo>
                <a:cubicBezTo>
                  <a:pt x="236" y="530"/>
                  <a:pt x="236" y="530"/>
                  <a:pt x="236" y="530"/>
                </a:cubicBezTo>
                <a:cubicBezTo>
                  <a:pt x="324" y="618"/>
                  <a:pt x="324" y="618"/>
                  <a:pt x="324" y="618"/>
                </a:cubicBezTo>
                <a:cubicBezTo>
                  <a:pt x="398" y="530"/>
                  <a:pt x="398" y="530"/>
                  <a:pt x="398" y="530"/>
                </a:cubicBezTo>
                <a:cubicBezTo>
                  <a:pt x="530" y="530"/>
                  <a:pt x="530" y="530"/>
                  <a:pt x="530" y="530"/>
                </a:cubicBezTo>
                <a:cubicBezTo>
                  <a:pt x="589" y="530"/>
                  <a:pt x="633" y="486"/>
                  <a:pt x="633" y="427"/>
                </a:cubicBezTo>
                <a:cubicBezTo>
                  <a:pt x="633" y="104"/>
                  <a:pt x="633" y="104"/>
                  <a:pt x="633" y="104"/>
                </a:cubicBezTo>
                <a:cubicBezTo>
                  <a:pt x="633" y="45"/>
                  <a:pt x="589" y="0"/>
                  <a:pt x="530" y="0"/>
                </a:cubicBezTo>
                <a:close/>
                <a:moveTo>
                  <a:pt x="589" y="427"/>
                </a:moveTo>
                <a:lnTo>
                  <a:pt x="589" y="427"/>
                </a:lnTo>
                <a:cubicBezTo>
                  <a:pt x="589" y="457"/>
                  <a:pt x="560" y="486"/>
                  <a:pt x="530" y="486"/>
                </a:cubicBezTo>
                <a:cubicBezTo>
                  <a:pt x="383" y="486"/>
                  <a:pt x="383" y="486"/>
                  <a:pt x="383" y="486"/>
                </a:cubicBezTo>
                <a:cubicBezTo>
                  <a:pt x="324" y="560"/>
                  <a:pt x="324" y="560"/>
                  <a:pt x="324" y="560"/>
                </a:cubicBezTo>
                <a:cubicBezTo>
                  <a:pt x="265" y="486"/>
                  <a:pt x="265" y="486"/>
                  <a:pt x="265" y="486"/>
                </a:cubicBezTo>
                <a:cubicBezTo>
                  <a:pt x="103" y="486"/>
                  <a:pt x="103" y="486"/>
                  <a:pt x="103" y="486"/>
                </a:cubicBezTo>
                <a:cubicBezTo>
                  <a:pt x="74" y="486"/>
                  <a:pt x="45" y="457"/>
                  <a:pt x="45" y="427"/>
                </a:cubicBezTo>
                <a:cubicBezTo>
                  <a:pt x="45" y="88"/>
                  <a:pt x="45" y="88"/>
                  <a:pt x="45" y="88"/>
                </a:cubicBezTo>
                <a:cubicBezTo>
                  <a:pt x="45" y="59"/>
                  <a:pt x="74" y="30"/>
                  <a:pt x="103" y="30"/>
                </a:cubicBezTo>
                <a:cubicBezTo>
                  <a:pt x="530" y="30"/>
                  <a:pt x="530" y="30"/>
                  <a:pt x="530" y="30"/>
                </a:cubicBezTo>
                <a:cubicBezTo>
                  <a:pt x="560" y="30"/>
                  <a:pt x="589" y="59"/>
                  <a:pt x="589" y="88"/>
                </a:cubicBezTo>
                <a:lnTo>
                  <a:pt x="589" y="427"/>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57" name="稻壳儿小白白(http://dwz.cn/Wu2UP)"/>
          <p:cNvSpPr/>
          <p:nvPr/>
        </p:nvSpPr>
        <p:spPr>
          <a:xfrm>
            <a:off x="6629400" y="3517920"/>
            <a:ext cx="509760" cy="49680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58" name="稻壳儿小白白(http://dwz.cn/Wu2UP)"/>
          <p:cNvSpPr/>
          <p:nvPr/>
        </p:nvSpPr>
        <p:spPr>
          <a:xfrm>
            <a:off x="5824440" y="3517920"/>
            <a:ext cx="486000" cy="496800"/>
          </a:xfrm>
          <a:custGeom>
            <a:avLst/>
            <a:gdLst/>
            <a:ahLst/>
            <a:rect l="l" t="t" r="r" b="b"/>
            <a:pathLst>
              <a:path w="604" h="619">
                <a:moveTo>
                  <a:pt x="250" y="251"/>
                </a:moveTo>
                <a:lnTo>
                  <a:pt x="250" y="251"/>
                </a:lnTo>
                <a:cubicBezTo>
                  <a:pt x="265" y="251"/>
                  <a:pt x="279" y="236"/>
                  <a:pt x="279" y="221"/>
                </a:cubicBezTo>
                <a:cubicBezTo>
                  <a:pt x="279" y="206"/>
                  <a:pt x="265" y="192"/>
                  <a:pt x="250" y="192"/>
                </a:cubicBezTo>
                <a:cubicBezTo>
                  <a:pt x="235" y="192"/>
                  <a:pt x="220" y="206"/>
                  <a:pt x="220" y="221"/>
                </a:cubicBezTo>
                <a:cubicBezTo>
                  <a:pt x="220" y="236"/>
                  <a:pt x="235" y="251"/>
                  <a:pt x="250" y="251"/>
                </a:cubicBezTo>
                <a:close/>
                <a:moveTo>
                  <a:pt x="132" y="251"/>
                </a:moveTo>
                <a:lnTo>
                  <a:pt x="132" y="251"/>
                </a:lnTo>
                <a:cubicBezTo>
                  <a:pt x="147" y="251"/>
                  <a:pt x="162" y="236"/>
                  <a:pt x="162" y="221"/>
                </a:cubicBezTo>
                <a:cubicBezTo>
                  <a:pt x="162" y="206"/>
                  <a:pt x="147" y="192"/>
                  <a:pt x="132" y="192"/>
                </a:cubicBezTo>
                <a:cubicBezTo>
                  <a:pt x="117" y="192"/>
                  <a:pt x="103" y="206"/>
                  <a:pt x="103" y="221"/>
                </a:cubicBezTo>
                <a:cubicBezTo>
                  <a:pt x="103" y="236"/>
                  <a:pt x="117" y="251"/>
                  <a:pt x="132" y="251"/>
                </a:cubicBezTo>
                <a:close/>
                <a:moveTo>
                  <a:pt x="367" y="251"/>
                </a:moveTo>
                <a:lnTo>
                  <a:pt x="367" y="251"/>
                </a:lnTo>
                <a:cubicBezTo>
                  <a:pt x="383" y="251"/>
                  <a:pt x="397" y="236"/>
                  <a:pt x="397" y="221"/>
                </a:cubicBezTo>
                <a:cubicBezTo>
                  <a:pt x="397" y="206"/>
                  <a:pt x="383" y="192"/>
                  <a:pt x="367" y="192"/>
                </a:cubicBezTo>
                <a:cubicBezTo>
                  <a:pt x="353" y="192"/>
                  <a:pt x="338" y="206"/>
                  <a:pt x="338" y="221"/>
                </a:cubicBezTo>
                <a:cubicBezTo>
                  <a:pt x="338" y="236"/>
                  <a:pt x="353" y="251"/>
                  <a:pt x="367" y="251"/>
                </a:cubicBezTo>
                <a:close/>
                <a:moveTo>
                  <a:pt x="530" y="177"/>
                </a:moveTo>
                <a:lnTo>
                  <a:pt x="530" y="177"/>
                </a:lnTo>
                <a:lnTo>
                  <a:pt x="530" y="192"/>
                </a:lnTo>
                <a:cubicBezTo>
                  <a:pt x="530" y="206"/>
                  <a:pt x="530" y="221"/>
                  <a:pt x="530" y="221"/>
                </a:cubicBezTo>
                <a:cubicBezTo>
                  <a:pt x="559" y="265"/>
                  <a:pt x="574" y="295"/>
                  <a:pt x="574" y="339"/>
                </a:cubicBezTo>
                <a:cubicBezTo>
                  <a:pt x="574" y="398"/>
                  <a:pt x="530" y="457"/>
                  <a:pt x="471" y="501"/>
                </a:cubicBezTo>
                <a:cubicBezTo>
                  <a:pt x="471" y="560"/>
                  <a:pt x="471" y="560"/>
                  <a:pt x="471" y="560"/>
                </a:cubicBezTo>
                <a:cubicBezTo>
                  <a:pt x="397" y="516"/>
                  <a:pt x="397" y="516"/>
                  <a:pt x="397" y="516"/>
                </a:cubicBezTo>
                <a:cubicBezTo>
                  <a:pt x="383" y="530"/>
                  <a:pt x="367" y="530"/>
                  <a:pt x="353" y="530"/>
                </a:cubicBezTo>
                <a:cubicBezTo>
                  <a:pt x="309" y="530"/>
                  <a:pt x="279" y="516"/>
                  <a:pt x="235" y="486"/>
                </a:cubicBezTo>
                <a:cubicBezTo>
                  <a:pt x="220" y="486"/>
                  <a:pt x="220" y="486"/>
                  <a:pt x="206" y="486"/>
                </a:cubicBezTo>
                <a:cubicBezTo>
                  <a:pt x="191" y="486"/>
                  <a:pt x="191" y="486"/>
                  <a:pt x="176" y="486"/>
                </a:cubicBezTo>
                <a:cubicBezTo>
                  <a:pt x="235" y="530"/>
                  <a:pt x="279" y="560"/>
                  <a:pt x="353" y="560"/>
                </a:cubicBezTo>
                <a:cubicBezTo>
                  <a:pt x="367" y="560"/>
                  <a:pt x="383" y="560"/>
                  <a:pt x="397" y="560"/>
                </a:cubicBezTo>
                <a:cubicBezTo>
                  <a:pt x="515" y="618"/>
                  <a:pt x="515" y="618"/>
                  <a:pt x="515" y="618"/>
                </a:cubicBezTo>
                <a:cubicBezTo>
                  <a:pt x="515" y="516"/>
                  <a:pt x="515" y="516"/>
                  <a:pt x="515" y="516"/>
                </a:cubicBezTo>
                <a:cubicBezTo>
                  <a:pt x="574" y="471"/>
                  <a:pt x="603" y="413"/>
                  <a:pt x="603" y="339"/>
                </a:cubicBezTo>
                <a:cubicBezTo>
                  <a:pt x="603" y="280"/>
                  <a:pt x="574" y="221"/>
                  <a:pt x="530" y="177"/>
                </a:cubicBezTo>
                <a:close/>
                <a:moveTo>
                  <a:pt x="191" y="442"/>
                </a:moveTo>
                <a:lnTo>
                  <a:pt x="191" y="442"/>
                </a:lnTo>
                <a:cubicBezTo>
                  <a:pt x="206" y="442"/>
                  <a:pt x="235" y="442"/>
                  <a:pt x="250" y="442"/>
                </a:cubicBezTo>
                <a:cubicBezTo>
                  <a:pt x="397" y="442"/>
                  <a:pt x="485" y="339"/>
                  <a:pt x="485" y="221"/>
                </a:cubicBezTo>
                <a:cubicBezTo>
                  <a:pt x="485" y="88"/>
                  <a:pt x="367" y="0"/>
                  <a:pt x="250" y="0"/>
                </a:cubicBezTo>
                <a:cubicBezTo>
                  <a:pt x="117" y="0"/>
                  <a:pt x="0" y="88"/>
                  <a:pt x="0" y="221"/>
                </a:cubicBezTo>
                <a:cubicBezTo>
                  <a:pt x="0" y="295"/>
                  <a:pt x="29" y="354"/>
                  <a:pt x="73" y="398"/>
                </a:cubicBezTo>
                <a:cubicBezTo>
                  <a:pt x="73" y="501"/>
                  <a:pt x="73" y="501"/>
                  <a:pt x="73" y="501"/>
                </a:cubicBezTo>
                <a:lnTo>
                  <a:pt x="191" y="442"/>
                </a:lnTo>
                <a:close/>
                <a:moveTo>
                  <a:pt x="44" y="221"/>
                </a:moveTo>
                <a:lnTo>
                  <a:pt x="44" y="221"/>
                </a:lnTo>
                <a:cubicBezTo>
                  <a:pt x="44" y="118"/>
                  <a:pt x="132" y="30"/>
                  <a:pt x="250" y="30"/>
                </a:cubicBezTo>
                <a:cubicBezTo>
                  <a:pt x="353" y="30"/>
                  <a:pt x="456" y="118"/>
                  <a:pt x="456" y="221"/>
                </a:cubicBezTo>
                <a:cubicBezTo>
                  <a:pt x="456" y="324"/>
                  <a:pt x="367" y="413"/>
                  <a:pt x="250" y="413"/>
                </a:cubicBezTo>
                <a:cubicBezTo>
                  <a:pt x="235" y="413"/>
                  <a:pt x="206" y="413"/>
                  <a:pt x="191" y="398"/>
                </a:cubicBezTo>
                <a:cubicBezTo>
                  <a:pt x="117" y="442"/>
                  <a:pt x="117" y="442"/>
                  <a:pt x="117" y="442"/>
                </a:cubicBezTo>
                <a:cubicBezTo>
                  <a:pt x="117" y="383"/>
                  <a:pt x="117" y="383"/>
                  <a:pt x="117" y="383"/>
                </a:cubicBezTo>
                <a:cubicBezTo>
                  <a:pt x="73" y="339"/>
                  <a:pt x="44" y="280"/>
                  <a:pt x="44" y="221"/>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59" name="稻壳儿小白白(http://dwz.cn/Wu2UP)"/>
          <p:cNvSpPr/>
          <p:nvPr/>
        </p:nvSpPr>
        <p:spPr>
          <a:xfrm>
            <a:off x="4986360" y="3517920"/>
            <a:ext cx="511200" cy="496800"/>
          </a:xfrm>
          <a:custGeom>
            <a:avLst/>
            <a:gdLst/>
            <a:ahLst/>
            <a:rect l="l" t="t" r="r" b="b"/>
            <a:pathLst>
              <a:path w="634" h="619">
                <a:moveTo>
                  <a:pt x="324" y="236"/>
                </a:moveTo>
                <a:lnTo>
                  <a:pt x="324" y="236"/>
                </a:lnTo>
                <a:cubicBezTo>
                  <a:pt x="295" y="236"/>
                  <a:pt x="280" y="251"/>
                  <a:pt x="280" y="265"/>
                </a:cubicBezTo>
                <a:cubicBezTo>
                  <a:pt x="280" y="295"/>
                  <a:pt x="295" y="309"/>
                  <a:pt x="324" y="309"/>
                </a:cubicBezTo>
                <a:cubicBezTo>
                  <a:pt x="339" y="309"/>
                  <a:pt x="354" y="295"/>
                  <a:pt x="354" y="265"/>
                </a:cubicBezTo>
                <a:cubicBezTo>
                  <a:pt x="354" y="251"/>
                  <a:pt x="339" y="236"/>
                  <a:pt x="324" y="236"/>
                </a:cubicBezTo>
                <a:close/>
                <a:moveTo>
                  <a:pt x="162" y="236"/>
                </a:moveTo>
                <a:lnTo>
                  <a:pt x="162" y="236"/>
                </a:lnTo>
                <a:cubicBezTo>
                  <a:pt x="148" y="236"/>
                  <a:pt x="118" y="251"/>
                  <a:pt x="118" y="265"/>
                </a:cubicBezTo>
                <a:cubicBezTo>
                  <a:pt x="118" y="295"/>
                  <a:pt x="148" y="309"/>
                  <a:pt x="162" y="309"/>
                </a:cubicBezTo>
                <a:cubicBezTo>
                  <a:pt x="177" y="309"/>
                  <a:pt x="207" y="295"/>
                  <a:pt x="207" y="265"/>
                </a:cubicBezTo>
                <a:cubicBezTo>
                  <a:pt x="207" y="251"/>
                  <a:pt x="177" y="236"/>
                  <a:pt x="162" y="236"/>
                </a:cubicBezTo>
                <a:close/>
                <a:moveTo>
                  <a:pt x="324" y="0"/>
                </a:moveTo>
                <a:lnTo>
                  <a:pt x="324" y="0"/>
                </a:lnTo>
                <a:cubicBezTo>
                  <a:pt x="148" y="0"/>
                  <a:pt x="0" y="118"/>
                  <a:pt x="0" y="265"/>
                </a:cubicBezTo>
                <a:cubicBezTo>
                  <a:pt x="0" y="354"/>
                  <a:pt x="44" y="427"/>
                  <a:pt x="118" y="486"/>
                </a:cubicBezTo>
                <a:cubicBezTo>
                  <a:pt x="118" y="618"/>
                  <a:pt x="118" y="618"/>
                  <a:pt x="118" y="618"/>
                </a:cubicBezTo>
                <a:cubicBezTo>
                  <a:pt x="265" y="545"/>
                  <a:pt x="265" y="545"/>
                  <a:pt x="265" y="545"/>
                </a:cubicBezTo>
                <a:cubicBezTo>
                  <a:pt x="280" y="545"/>
                  <a:pt x="295" y="545"/>
                  <a:pt x="324" y="545"/>
                </a:cubicBezTo>
                <a:cubicBezTo>
                  <a:pt x="486" y="545"/>
                  <a:pt x="633" y="427"/>
                  <a:pt x="633" y="265"/>
                </a:cubicBezTo>
                <a:cubicBezTo>
                  <a:pt x="633" y="118"/>
                  <a:pt x="486" y="0"/>
                  <a:pt x="324" y="0"/>
                </a:cubicBezTo>
                <a:close/>
                <a:moveTo>
                  <a:pt x="324" y="501"/>
                </a:moveTo>
                <a:lnTo>
                  <a:pt x="324" y="501"/>
                </a:lnTo>
                <a:cubicBezTo>
                  <a:pt x="295" y="501"/>
                  <a:pt x="280" y="501"/>
                  <a:pt x="251" y="501"/>
                </a:cubicBezTo>
                <a:cubicBezTo>
                  <a:pt x="162" y="560"/>
                  <a:pt x="162" y="560"/>
                  <a:pt x="162" y="560"/>
                </a:cubicBezTo>
                <a:cubicBezTo>
                  <a:pt x="162" y="457"/>
                  <a:pt x="162" y="457"/>
                  <a:pt x="162" y="457"/>
                </a:cubicBezTo>
                <a:cubicBezTo>
                  <a:pt x="89" y="427"/>
                  <a:pt x="44" y="354"/>
                  <a:pt x="44" y="265"/>
                </a:cubicBezTo>
                <a:cubicBezTo>
                  <a:pt x="44" y="133"/>
                  <a:pt x="162" y="30"/>
                  <a:pt x="324" y="30"/>
                </a:cubicBezTo>
                <a:cubicBezTo>
                  <a:pt x="471" y="30"/>
                  <a:pt x="589" y="133"/>
                  <a:pt x="589" y="265"/>
                </a:cubicBezTo>
                <a:cubicBezTo>
                  <a:pt x="589" y="398"/>
                  <a:pt x="471" y="501"/>
                  <a:pt x="324" y="501"/>
                </a:cubicBezTo>
                <a:close/>
                <a:moveTo>
                  <a:pt x="471" y="236"/>
                </a:moveTo>
                <a:lnTo>
                  <a:pt x="471" y="236"/>
                </a:lnTo>
                <a:cubicBezTo>
                  <a:pt x="457" y="236"/>
                  <a:pt x="442" y="251"/>
                  <a:pt x="442" y="265"/>
                </a:cubicBezTo>
                <a:cubicBezTo>
                  <a:pt x="442" y="295"/>
                  <a:pt x="457" y="309"/>
                  <a:pt x="471" y="309"/>
                </a:cubicBezTo>
                <a:cubicBezTo>
                  <a:pt x="501" y="309"/>
                  <a:pt x="516" y="295"/>
                  <a:pt x="516" y="265"/>
                </a:cubicBezTo>
                <a:cubicBezTo>
                  <a:pt x="516" y="251"/>
                  <a:pt x="501" y="236"/>
                  <a:pt x="471" y="236"/>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60" name="稻壳儿小白白(http://dwz.cn/Wu2UP)"/>
          <p:cNvSpPr/>
          <p:nvPr/>
        </p:nvSpPr>
        <p:spPr>
          <a:xfrm>
            <a:off x="4172040" y="3517920"/>
            <a:ext cx="509400" cy="496800"/>
          </a:xfrm>
          <a:custGeom>
            <a:avLst/>
            <a:gdLst/>
            <a:ahLst/>
            <a:rect l="l" t="t" r="r" b="b"/>
            <a:pathLst>
              <a:path w="634" h="619">
                <a:moveTo>
                  <a:pt x="412" y="324"/>
                </a:moveTo>
                <a:lnTo>
                  <a:pt x="412" y="324"/>
                </a:lnTo>
                <a:cubicBezTo>
                  <a:pt x="220" y="324"/>
                  <a:pt x="220" y="324"/>
                  <a:pt x="220" y="324"/>
                </a:cubicBezTo>
                <a:cubicBezTo>
                  <a:pt x="206" y="324"/>
                  <a:pt x="191" y="339"/>
                  <a:pt x="191" y="354"/>
                </a:cubicBezTo>
                <a:cubicBezTo>
                  <a:pt x="191" y="354"/>
                  <a:pt x="206" y="368"/>
                  <a:pt x="220" y="368"/>
                </a:cubicBezTo>
                <a:cubicBezTo>
                  <a:pt x="412" y="368"/>
                  <a:pt x="412" y="368"/>
                  <a:pt x="412" y="368"/>
                </a:cubicBezTo>
                <a:cubicBezTo>
                  <a:pt x="426" y="368"/>
                  <a:pt x="426" y="354"/>
                  <a:pt x="426" y="354"/>
                </a:cubicBezTo>
                <a:cubicBezTo>
                  <a:pt x="426" y="339"/>
                  <a:pt x="426" y="324"/>
                  <a:pt x="412" y="324"/>
                </a:cubicBezTo>
                <a:close/>
                <a:moveTo>
                  <a:pt x="456" y="206"/>
                </a:moveTo>
                <a:lnTo>
                  <a:pt x="456" y="206"/>
                </a:lnTo>
                <a:cubicBezTo>
                  <a:pt x="176" y="206"/>
                  <a:pt x="176" y="206"/>
                  <a:pt x="176" y="206"/>
                </a:cubicBezTo>
                <a:cubicBezTo>
                  <a:pt x="162" y="206"/>
                  <a:pt x="162" y="221"/>
                  <a:pt x="162" y="236"/>
                </a:cubicBezTo>
                <a:cubicBezTo>
                  <a:pt x="162" y="236"/>
                  <a:pt x="162" y="251"/>
                  <a:pt x="176" y="251"/>
                </a:cubicBezTo>
                <a:cubicBezTo>
                  <a:pt x="456" y="251"/>
                  <a:pt x="456" y="251"/>
                  <a:pt x="456" y="251"/>
                </a:cubicBezTo>
                <a:lnTo>
                  <a:pt x="471" y="236"/>
                </a:lnTo>
                <a:cubicBezTo>
                  <a:pt x="471" y="221"/>
                  <a:pt x="456" y="206"/>
                  <a:pt x="456" y="206"/>
                </a:cubicBezTo>
                <a:close/>
                <a:moveTo>
                  <a:pt x="309" y="0"/>
                </a:moveTo>
                <a:lnTo>
                  <a:pt x="309" y="0"/>
                </a:lnTo>
                <a:cubicBezTo>
                  <a:pt x="147" y="0"/>
                  <a:pt x="0" y="118"/>
                  <a:pt x="0" y="265"/>
                </a:cubicBezTo>
                <a:cubicBezTo>
                  <a:pt x="0" y="354"/>
                  <a:pt x="44" y="427"/>
                  <a:pt x="117" y="486"/>
                </a:cubicBezTo>
                <a:cubicBezTo>
                  <a:pt x="117" y="618"/>
                  <a:pt x="117" y="618"/>
                  <a:pt x="117" y="618"/>
                </a:cubicBezTo>
                <a:cubicBezTo>
                  <a:pt x="250" y="545"/>
                  <a:pt x="250" y="545"/>
                  <a:pt x="250" y="545"/>
                </a:cubicBezTo>
                <a:cubicBezTo>
                  <a:pt x="279" y="545"/>
                  <a:pt x="294" y="545"/>
                  <a:pt x="309" y="545"/>
                </a:cubicBezTo>
                <a:cubicBezTo>
                  <a:pt x="485" y="545"/>
                  <a:pt x="633" y="427"/>
                  <a:pt x="633" y="265"/>
                </a:cubicBezTo>
                <a:cubicBezTo>
                  <a:pt x="633" y="118"/>
                  <a:pt x="485" y="0"/>
                  <a:pt x="309" y="0"/>
                </a:cubicBezTo>
                <a:close/>
                <a:moveTo>
                  <a:pt x="309" y="501"/>
                </a:moveTo>
                <a:lnTo>
                  <a:pt x="309" y="501"/>
                </a:lnTo>
                <a:cubicBezTo>
                  <a:pt x="294" y="501"/>
                  <a:pt x="265" y="501"/>
                  <a:pt x="250" y="501"/>
                </a:cubicBezTo>
                <a:cubicBezTo>
                  <a:pt x="162" y="560"/>
                  <a:pt x="162" y="560"/>
                  <a:pt x="162" y="560"/>
                </a:cubicBezTo>
                <a:cubicBezTo>
                  <a:pt x="162" y="457"/>
                  <a:pt x="162" y="457"/>
                  <a:pt x="162" y="457"/>
                </a:cubicBezTo>
                <a:cubicBezTo>
                  <a:pt x="88" y="427"/>
                  <a:pt x="44" y="354"/>
                  <a:pt x="44" y="265"/>
                </a:cubicBezTo>
                <a:cubicBezTo>
                  <a:pt x="44" y="133"/>
                  <a:pt x="162" y="30"/>
                  <a:pt x="309" y="30"/>
                </a:cubicBezTo>
                <a:cubicBezTo>
                  <a:pt x="471" y="30"/>
                  <a:pt x="588" y="133"/>
                  <a:pt x="588" y="265"/>
                </a:cubicBezTo>
                <a:cubicBezTo>
                  <a:pt x="588" y="398"/>
                  <a:pt x="471" y="501"/>
                  <a:pt x="309" y="501"/>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61" name="稻壳儿小白白(http://dwz.cn/Wu2UP)"/>
          <p:cNvSpPr/>
          <p:nvPr/>
        </p:nvSpPr>
        <p:spPr>
          <a:xfrm>
            <a:off x="3352680" y="3517920"/>
            <a:ext cx="495360" cy="496800"/>
          </a:xfrm>
          <a:custGeom>
            <a:avLst/>
            <a:gdLst/>
            <a:ahLst/>
            <a:rect l="l" t="t" r="r" b="b"/>
            <a:pathLst>
              <a:path w="619" h="619">
                <a:moveTo>
                  <a:pt x="309" y="0"/>
                </a:moveTo>
                <a:lnTo>
                  <a:pt x="309" y="0"/>
                </a:lnTo>
                <a:cubicBezTo>
                  <a:pt x="132" y="0"/>
                  <a:pt x="0" y="118"/>
                  <a:pt x="0" y="265"/>
                </a:cubicBezTo>
                <a:cubicBezTo>
                  <a:pt x="0" y="354"/>
                  <a:pt x="44" y="427"/>
                  <a:pt x="118" y="486"/>
                </a:cubicBezTo>
                <a:cubicBezTo>
                  <a:pt x="118" y="618"/>
                  <a:pt x="118" y="618"/>
                  <a:pt x="118" y="618"/>
                </a:cubicBezTo>
                <a:cubicBezTo>
                  <a:pt x="250" y="545"/>
                  <a:pt x="250" y="545"/>
                  <a:pt x="250" y="545"/>
                </a:cubicBezTo>
                <a:cubicBezTo>
                  <a:pt x="265" y="545"/>
                  <a:pt x="294" y="545"/>
                  <a:pt x="309" y="545"/>
                </a:cubicBezTo>
                <a:cubicBezTo>
                  <a:pt x="486" y="545"/>
                  <a:pt x="618" y="427"/>
                  <a:pt x="618" y="265"/>
                </a:cubicBezTo>
                <a:cubicBezTo>
                  <a:pt x="618" y="118"/>
                  <a:pt x="486" y="0"/>
                  <a:pt x="309" y="0"/>
                </a:cubicBezTo>
                <a:close/>
                <a:moveTo>
                  <a:pt x="309" y="501"/>
                </a:moveTo>
                <a:lnTo>
                  <a:pt x="309" y="501"/>
                </a:lnTo>
                <a:cubicBezTo>
                  <a:pt x="280" y="501"/>
                  <a:pt x="265" y="501"/>
                  <a:pt x="235" y="501"/>
                </a:cubicBezTo>
                <a:cubicBezTo>
                  <a:pt x="147" y="560"/>
                  <a:pt x="147" y="560"/>
                  <a:pt x="147" y="560"/>
                </a:cubicBezTo>
                <a:cubicBezTo>
                  <a:pt x="147" y="457"/>
                  <a:pt x="147" y="457"/>
                  <a:pt x="147" y="457"/>
                </a:cubicBezTo>
                <a:cubicBezTo>
                  <a:pt x="73" y="427"/>
                  <a:pt x="29" y="354"/>
                  <a:pt x="29" y="265"/>
                </a:cubicBezTo>
                <a:cubicBezTo>
                  <a:pt x="29" y="133"/>
                  <a:pt x="162" y="30"/>
                  <a:pt x="309" y="30"/>
                </a:cubicBezTo>
                <a:cubicBezTo>
                  <a:pt x="456" y="30"/>
                  <a:pt x="589" y="133"/>
                  <a:pt x="589" y="265"/>
                </a:cubicBezTo>
                <a:cubicBezTo>
                  <a:pt x="589" y="398"/>
                  <a:pt x="456" y="501"/>
                  <a:pt x="309" y="501"/>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62" name="稻壳儿小白白(http://dwz.cn/Wu2UP)"/>
          <p:cNvSpPr/>
          <p:nvPr/>
        </p:nvSpPr>
        <p:spPr>
          <a:xfrm>
            <a:off x="10756800" y="2786040"/>
            <a:ext cx="449280" cy="318960"/>
          </a:xfrm>
          <a:custGeom>
            <a:avLst/>
            <a:gdLst/>
            <a:ahLst/>
            <a:rect l="l" t="t" r="r" b="b"/>
            <a:pathLst>
              <a:path w="561" h="399">
                <a:moveTo>
                  <a:pt x="45" y="325"/>
                </a:moveTo>
                <a:lnTo>
                  <a:pt x="45" y="325"/>
                </a:lnTo>
                <a:cubicBezTo>
                  <a:pt x="30" y="325"/>
                  <a:pt x="0" y="339"/>
                  <a:pt x="0" y="354"/>
                </a:cubicBezTo>
                <a:cubicBezTo>
                  <a:pt x="0" y="383"/>
                  <a:pt x="30" y="398"/>
                  <a:pt x="45" y="398"/>
                </a:cubicBezTo>
                <a:cubicBezTo>
                  <a:pt x="59" y="398"/>
                  <a:pt x="89" y="383"/>
                  <a:pt x="89" y="354"/>
                </a:cubicBezTo>
                <a:cubicBezTo>
                  <a:pt x="89" y="339"/>
                  <a:pt x="59" y="325"/>
                  <a:pt x="45" y="325"/>
                </a:cubicBezTo>
                <a:close/>
                <a:moveTo>
                  <a:pt x="45" y="162"/>
                </a:moveTo>
                <a:lnTo>
                  <a:pt x="45" y="162"/>
                </a:lnTo>
                <a:cubicBezTo>
                  <a:pt x="30" y="162"/>
                  <a:pt x="0" y="177"/>
                  <a:pt x="0" y="207"/>
                </a:cubicBezTo>
                <a:cubicBezTo>
                  <a:pt x="0" y="221"/>
                  <a:pt x="30" y="236"/>
                  <a:pt x="45" y="236"/>
                </a:cubicBezTo>
                <a:cubicBezTo>
                  <a:pt x="59" y="236"/>
                  <a:pt x="89" y="221"/>
                  <a:pt x="89" y="207"/>
                </a:cubicBezTo>
                <a:cubicBezTo>
                  <a:pt x="89" y="177"/>
                  <a:pt x="59" y="162"/>
                  <a:pt x="45" y="162"/>
                </a:cubicBezTo>
                <a:close/>
                <a:moveTo>
                  <a:pt x="530" y="177"/>
                </a:moveTo>
                <a:lnTo>
                  <a:pt x="530" y="177"/>
                </a:lnTo>
                <a:cubicBezTo>
                  <a:pt x="177" y="177"/>
                  <a:pt x="177" y="177"/>
                  <a:pt x="177" y="177"/>
                </a:cubicBezTo>
                <a:cubicBezTo>
                  <a:pt x="177" y="177"/>
                  <a:pt x="162" y="192"/>
                  <a:pt x="162" y="207"/>
                </a:cubicBezTo>
                <a:lnTo>
                  <a:pt x="177" y="221"/>
                </a:lnTo>
                <a:cubicBezTo>
                  <a:pt x="530" y="221"/>
                  <a:pt x="530" y="221"/>
                  <a:pt x="530" y="221"/>
                </a:cubicBezTo>
                <a:cubicBezTo>
                  <a:pt x="545" y="221"/>
                  <a:pt x="560" y="207"/>
                  <a:pt x="560" y="207"/>
                </a:cubicBezTo>
                <a:cubicBezTo>
                  <a:pt x="560" y="192"/>
                  <a:pt x="545" y="177"/>
                  <a:pt x="530" y="177"/>
                </a:cubicBezTo>
                <a:close/>
                <a:moveTo>
                  <a:pt x="177" y="59"/>
                </a:moveTo>
                <a:lnTo>
                  <a:pt x="177" y="59"/>
                </a:lnTo>
                <a:cubicBezTo>
                  <a:pt x="530" y="59"/>
                  <a:pt x="530" y="59"/>
                  <a:pt x="530" y="59"/>
                </a:cubicBezTo>
                <a:cubicBezTo>
                  <a:pt x="545" y="59"/>
                  <a:pt x="560" y="59"/>
                  <a:pt x="560" y="45"/>
                </a:cubicBezTo>
                <a:cubicBezTo>
                  <a:pt x="560" y="30"/>
                  <a:pt x="545" y="30"/>
                  <a:pt x="530" y="30"/>
                </a:cubicBezTo>
                <a:cubicBezTo>
                  <a:pt x="177" y="30"/>
                  <a:pt x="177" y="30"/>
                  <a:pt x="177" y="30"/>
                </a:cubicBezTo>
                <a:cubicBezTo>
                  <a:pt x="177" y="30"/>
                  <a:pt x="162" y="30"/>
                  <a:pt x="162" y="45"/>
                </a:cubicBezTo>
                <a:cubicBezTo>
                  <a:pt x="162" y="59"/>
                  <a:pt x="177" y="59"/>
                  <a:pt x="177" y="59"/>
                </a:cubicBezTo>
                <a:close/>
                <a:moveTo>
                  <a:pt x="45" y="0"/>
                </a:moveTo>
                <a:lnTo>
                  <a:pt x="45" y="0"/>
                </a:lnTo>
                <a:cubicBezTo>
                  <a:pt x="30" y="0"/>
                  <a:pt x="0" y="30"/>
                  <a:pt x="0" y="45"/>
                </a:cubicBezTo>
                <a:cubicBezTo>
                  <a:pt x="0" y="59"/>
                  <a:pt x="30" y="89"/>
                  <a:pt x="45" y="89"/>
                </a:cubicBezTo>
                <a:cubicBezTo>
                  <a:pt x="59" y="89"/>
                  <a:pt x="89" y="59"/>
                  <a:pt x="89" y="45"/>
                </a:cubicBezTo>
                <a:cubicBezTo>
                  <a:pt x="89" y="30"/>
                  <a:pt x="59" y="0"/>
                  <a:pt x="45" y="0"/>
                </a:cubicBezTo>
                <a:close/>
                <a:moveTo>
                  <a:pt x="530" y="339"/>
                </a:moveTo>
                <a:lnTo>
                  <a:pt x="530" y="339"/>
                </a:lnTo>
                <a:cubicBezTo>
                  <a:pt x="177" y="339"/>
                  <a:pt x="177" y="339"/>
                  <a:pt x="177" y="339"/>
                </a:cubicBezTo>
                <a:lnTo>
                  <a:pt x="162" y="354"/>
                </a:lnTo>
                <a:cubicBezTo>
                  <a:pt x="162" y="369"/>
                  <a:pt x="177" y="383"/>
                  <a:pt x="177" y="383"/>
                </a:cubicBezTo>
                <a:cubicBezTo>
                  <a:pt x="530" y="383"/>
                  <a:pt x="530" y="383"/>
                  <a:pt x="530" y="383"/>
                </a:cubicBezTo>
                <a:cubicBezTo>
                  <a:pt x="545" y="383"/>
                  <a:pt x="560" y="369"/>
                  <a:pt x="560" y="354"/>
                </a:cubicBezTo>
                <a:cubicBezTo>
                  <a:pt x="560" y="354"/>
                  <a:pt x="545" y="339"/>
                  <a:pt x="530" y="339"/>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63" name="稻壳儿小白白(http://dwz.cn/Wu2UP)"/>
          <p:cNvSpPr/>
          <p:nvPr/>
        </p:nvSpPr>
        <p:spPr>
          <a:xfrm>
            <a:off x="9942480" y="2728800"/>
            <a:ext cx="459000" cy="439920"/>
          </a:xfrm>
          <a:custGeom>
            <a:avLst/>
            <a:gdLst/>
            <a:ahLst/>
            <a:rect l="l" t="t" r="r" b="b"/>
            <a:pathLst>
              <a:path w="575" h="546">
                <a:moveTo>
                  <a:pt x="544" y="515"/>
                </a:moveTo>
                <a:lnTo>
                  <a:pt x="544" y="515"/>
                </a:lnTo>
                <a:cubicBezTo>
                  <a:pt x="279" y="515"/>
                  <a:pt x="279" y="515"/>
                  <a:pt x="279" y="515"/>
                </a:cubicBezTo>
                <a:cubicBezTo>
                  <a:pt x="265" y="515"/>
                  <a:pt x="250" y="515"/>
                  <a:pt x="250" y="530"/>
                </a:cubicBezTo>
                <a:cubicBezTo>
                  <a:pt x="250" y="545"/>
                  <a:pt x="265" y="545"/>
                  <a:pt x="279" y="545"/>
                </a:cubicBezTo>
                <a:cubicBezTo>
                  <a:pt x="544" y="545"/>
                  <a:pt x="544" y="545"/>
                  <a:pt x="544" y="545"/>
                </a:cubicBezTo>
                <a:cubicBezTo>
                  <a:pt x="559" y="545"/>
                  <a:pt x="574" y="545"/>
                  <a:pt x="574" y="530"/>
                </a:cubicBezTo>
                <a:cubicBezTo>
                  <a:pt x="574" y="515"/>
                  <a:pt x="559" y="515"/>
                  <a:pt x="544" y="515"/>
                </a:cubicBezTo>
                <a:close/>
                <a:moveTo>
                  <a:pt x="309" y="191"/>
                </a:moveTo>
                <a:lnTo>
                  <a:pt x="309" y="191"/>
                </a:lnTo>
                <a:cubicBezTo>
                  <a:pt x="309" y="177"/>
                  <a:pt x="309" y="177"/>
                  <a:pt x="309" y="162"/>
                </a:cubicBezTo>
                <a:cubicBezTo>
                  <a:pt x="176" y="0"/>
                  <a:pt x="176" y="0"/>
                  <a:pt x="176" y="0"/>
                </a:cubicBezTo>
                <a:cubicBezTo>
                  <a:pt x="162" y="0"/>
                  <a:pt x="162" y="0"/>
                  <a:pt x="162" y="0"/>
                </a:cubicBezTo>
                <a:cubicBezTo>
                  <a:pt x="147" y="0"/>
                  <a:pt x="147" y="0"/>
                  <a:pt x="147" y="0"/>
                </a:cubicBezTo>
                <a:cubicBezTo>
                  <a:pt x="0" y="162"/>
                  <a:pt x="0" y="162"/>
                  <a:pt x="0" y="162"/>
                </a:cubicBezTo>
                <a:cubicBezTo>
                  <a:pt x="0" y="177"/>
                  <a:pt x="0" y="177"/>
                  <a:pt x="0" y="191"/>
                </a:cubicBezTo>
                <a:cubicBezTo>
                  <a:pt x="14" y="191"/>
                  <a:pt x="29" y="191"/>
                  <a:pt x="29" y="191"/>
                </a:cubicBezTo>
                <a:cubicBezTo>
                  <a:pt x="132" y="73"/>
                  <a:pt x="132" y="73"/>
                  <a:pt x="132" y="73"/>
                </a:cubicBezTo>
                <a:cubicBezTo>
                  <a:pt x="132" y="545"/>
                  <a:pt x="132" y="545"/>
                  <a:pt x="132" y="545"/>
                </a:cubicBezTo>
                <a:cubicBezTo>
                  <a:pt x="176" y="545"/>
                  <a:pt x="176" y="545"/>
                  <a:pt x="176" y="545"/>
                </a:cubicBezTo>
                <a:cubicBezTo>
                  <a:pt x="176" y="73"/>
                  <a:pt x="176" y="73"/>
                  <a:pt x="176" y="73"/>
                </a:cubicBezTo>
                <a:cubicBezTo>
                  <a:pt x="279" y="191"/>
                  <a:pt x="279" y="191"/>
                  <a:pt x="279" y="191"/>
                </a:cubicBezTo>
                <a:cubicBezTo>
                  <a:pt x="294" y="191"/>
                  <a:pt x="294" y="191"/>
                  <a:pt x="309" y="191"/>
                </a:cubicBezTo>
                <a:close/>
                <a:moveTo>
                  <a:pt x="309" y="73"/>
                </a:moveTo>
                <a:lnTo>
                  <a:pt x="309" y="73"/>
                </a:lnTo>
                <a:cubicBezTo>
                  <a:pt x="544" y="73"/>
                  <a:pt x="544" y="73"/>
                  <a:pt x="544" y="73"/>
                </a:cubicBezTo>
                <a:cubicBezTo>
                  <a:pt x="559" y="73"/>
                  <a:pt x="574" y="73"/>
                  <a:pt x="574" y="59"/>
                </a:cubicBezTo>
                <a:cubicBezTo>
                  <a:pt x="574" y="44"/>
                  <a:pt x="559" y="44"/>
                  <a:pt x="544" y="44"/>
                </a:cubicBezTo>
                <a:cubicBezTo>
                  <a:pt x="309" y="44"/>
                  <a:pt x="309" y="44"/>
                  <a:pt x="309" y="44"/>
                </a:cubicBezTo>
                <a:cubicBezTo>
                  <a:pt x="309" y="44"/>
                  <a:pt x="294" y="44"/>
                  <a:pt x="294" y="59"/>
                </a:cubicBezTo>
                <a:cubicBezTo>
                  <a:pt x="294" y="73"/>
                  <a:pt x="309" y="73"/>
                  <a:pt x="309" y="73"/>
                </a:cubicBezTo>
                <a:close/>
                <a:moveTo>
                  <a:pt x="544" y="398"/>
                </a:moveTo>
                <a:lnTo>
                  <a:pt x="544" y="398"/>
                </a:lnTo>
                <a:cubicBezTo>
                  <a:pt x="279" y="398"/>
                  <a:pt x="279" y="398"/>
                  <a:pt x="279" y="398"/>
                </a:cubicBezTo>
                <a:cubicBezTo>
                  <a:pt x="265" y="398"/>
                  <a:pt x="250" y="398"/>
                  <a:pt x="250" y="412"/>
                </a:cubicBezTo>
                <a:cubicBezTo>
                  <a:pt x="250" y="427"/>
                  <a:pt x="265" y="427"/>
                  <a:pt x="279" y="427"/>
                </a:cubicBezTo>
                <a:cubicBezTo>
                  <a:pt x="544" y="427"/>
                  <a:pt x="544" y="427"/>
                  <a:pt x="544" y="427"/>
                </a:cubicBezTo>
                <a:cubicBezTo>
                  <a:pt x="559" y="427"/>
                  <a:pt x="574" y="427"/>
                  <a:pt x="574" y="412"/>
                </a:cubicBezTo>
                <a:cubicBezTo>
                  <a:pt x="574" y="398"/>
                  <a:pt x="559" y="398"/>
                  <a:pt x="544" y="398"/>
                </a:cubicBezTo>
                <a:close/>
                <a:moveTo>
                  <a:pt x="544" y="162"/>
                </a:moveTo>
                <a:lnTo>
                  <a:pt x="544" y="162"/>
                </a:lnTo>
                <a:cubicBezTo>
                  <a:pt x="397" y="162"/>
                  <a:pt x="397" y="162"/>
                  <a:pt x="397" y="162"/>
                </a:cubicBezTo>
                <a:cubicBezTo>
                  <a:pt x="383" y="162"/>
                  <a:pt x="367" y="162"/>
                  <a:pt x="367" y="177"/>
                </a:cubicBezTo>
                <a:cubicBezTo>
                  <a:pt x="367" y="191"/>
                  <a:pt x="383" y="191"/>
                  <a:pt x="397" y="191"/>
                </a:cubicBezTo>
                <a:cubicBezTo>
                  <a:pt x="544" y="191"/>
                  <a:pt x="544" y="191"/>
                  <a:pt x="544" y="191"/>
                </a:cubicBezTo>
                <a:cubicBezTo>
                  <a:pt x="559" y="191"/>
                  <a:pt x="574" y="191"/>
                  <a:pt x="574" y="177"/>
                </a:cubicBezTo>
                <a:cubicBezTo>
                  <a:pt x="574" y="162"/>
                  <a:pt x="559" y="162"/>
                  <a:pt x="544" y="162"/>
                </a:cubicBezTo>
                <a:close/>
                <a:moveTo>
                  <a:pt x="544" y="280"/>
                </a:moveTo>
                <a:lnTo>
                  <a:pt x="544" y="280"/>
                </a:lnTo>
                <a:cubicBezTo>
                  <a:pt x="279" y="280"/>
                  <a:pt x="279" y="280"/>
                  <a:pt x="279" y="280"/>
                </a:cubicBezTo>
                <a:cubicBezTo>
                  <a:pt x="265" y="280"/>
                  <a:pt x="250" y="280"/>
                  <a:pt x="250" y="294"/>
                </a:cubicBezTo>
                <a:cubicBezTo>
                  <a:pt x="250" y="309"/>
                  <a:pt x="265" y="309"/>
                  <a:pt x="279" y="309"/>
                </a:cubicBezTo>
                <a:cubicBezTo>
                  <a:pt x="544" y="309"/>
                  <a:pt x="544" y="309"/>
                  <a:pt x="544" y="309"/>
                </a:cubicBezTo>
                <a:cubicBezTo>
                  <a:pt x="559" y="309"/>
                  <a:pt x="574" y="309"/>
                  <a:pt x="574" y="294"/>
                </a:cubicBezTo>
                <a:cubicBezTo>
                  <a:pt x="574" y="280"/>
                  <a:pt x="559" y="280"/>
                  <a:pt x="544" y="280"/>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64" name="稻壳儿小白白(http://dwz.cn/Wu2UP)"/>
          <p:cNvSpPr/>
          <p:nvPr/>
        </p:nvSpPr>
        <p:spPr>
          <a:xfrm>
            <a:off x="9123480" y="2728800"/>
            <a:ext cx="450720" cy="439920"/>
          </a:xfrm>
          <a:custGeom>
            <a:avLst/>
            <a:gdLst/>
            <a:ahLst/>
            <a:rect l="l" t="t" r="r" b="b"/>
            <a:pathLst>
              <a:path w="560" h="546">
                <a:moveTo>
                  <a:pt x="309" y="353"/>
                </a:moveTo>
                <a:lnTo>
                  <a:pt x="309" y="353"/>
                </a:lnTo>
                <a:cubicBezTo>
                  <a:pt x="294" y="353"/>
                  <a:pt x="280" y="353"/>
                  <a:pt x="280" y="353"/>
                </a:cubicBezTo>
                <a:cubicBezTo>
                  <a:pt x="177" y="471"/>
                  <a:pt x="177" y="471"/>
                  <a:pt x="177" y="471"/>
                </a:cubicBezTo>
                <a:cubicBezTo>
                  <a:pt x="177" y="0"/>
                  <a:pt x="177" y="0"/>
                  <a:pt x="177" y="0"/>
                </a:cubicBezTo>
                <a:cubicBezTo>
                  <a:pt x="132" y="0"/>
                  <a:pt x="132" y="0"/>
                  <a:pt x="132" y="0"/>
                </a:cubicBezTo>
                <a:cubicBezTo>
                  <a:pt x="132" y="486"/>
                  <a:pt x="132" y="486"/>
                  <a:pt x="132" y="486"/>
                </a:cubicBezTo>
                <a:cubicBezTo>
                  <a:pt x="29" y="353"/>
                  <a:pt x="29" y="353"/>
                  <a:pt x="29" y="353"/>
                </a:cubicBezTo>
                <a:cubicBezTo>
                  <a:pt x="15" y="353"/>
                  <a:pt x="15" y="353"/>
                  <a:pt x="0" y="353"/>
                </a:cubicBezTo>
                <a:cubicBezTo>
                  <a:pt x="0" y="368"/>
                  <a:pt x="0" y="383"/>
                  <a:pt x="0" y="383"/>
                </a:cubicBezTo>
                <a:cubicBezTo>
                  <a:pt x="132" y="545"/>
                  <a:pt x="132" y="545"/>
                  <a:pt x="132" y="545"/>
                </a:cubicBezTo>
                <a:cubicBezTo>
                  <a:pt x="147" y="545"/>
                  <a:pt x="147" y="545"/>
                  <a:pt x="147" y="545"/>
                </a:cubicBezTo>
                <a:cubicBezTo>
                  <a:pt x="162" y="545"/>
                  <a:pt x="162" y="545"/>
                  <a:pt x="162" y="545"/>
                </a:cubicBezTo>
                <a:cubicBezTo>
                  <a:pt x="309" y="383"/>
                  <a:pt x="309" y="383"/>
                  <a:pt x="309" y="383"/>
                </a:cubicBezTo>
                <a:cubicBezTo>
                  <a:pt x="309" y="383"/>
                  <a:pt x="309" y="368"/>
                  <a:pt x="309" y="353"/>
                </a:cubicBezTo>
                <a:close/>
                <a:moveTo>
                  <a:pt x="265" y="44"/>
                </a:moveTo>
                <a:lnTo>
                  <a:pt x="265" y="44"/>
                </a:lnTo>
                <a:cubicBezTo>
                  <a:pt x="544" y="44"/>
                  <a:pt x="544" y="44"/>
                  <a:pt x="544" y="44"/>
                </a:cubicBezTo>
                <a:cubicBezTo>
                  <a:pt x="559" y="44"/>
                  <a:pt x="559" y="30"/>
                  <a:pt x="559" y="15"/>
                </a:cubicBezTo>
                <a:cubicBezTo>
                  <a:pt x="559" y="15"/>
                  <a:pt x="559" y="0"/>
                  <a:pt x="544" y="0"/>
                </a:cubicBezTo>
                <a:cubicBezTo>
                  <a:pt x="265" y="0"/>
                  <a:pt x="265" y="0"/>
                  <a:pt x="265" y="0"/>
                </a:cubicBezTo>
                <a:lnTo>
                  <a:pt x="250" y="15"/>
                </a:lnTo>
                <a:cubicBezTo>
                  <a:pt x="250" y="30"/>
                  <a:pt x="265" y="44"/>
                  <a:pt x="265" y="44"/>
                </a:cubicBezTo>
                <a:close/>
                <a:moveTo>
                  <a:pt x="544" y="471"/>
                </a:moveTo>
                <a:lnTo>
                  <a:pt x="544" y="471"/>
                </a:lnTo>
                <a:cubicBezTo>
                  <a:pt x="309" y="471"/>
                  <a:pt x="309" y="471"/>
                  <a:pt x="309" y="471"/>
                </a:cubicBezTo>
                <a:cubicBezTo>
                  <a:pt x="294" y="471"/>
                  <a:pt x="294" y="486"/>
                  <a:pt x="294" y="486"/>
                </a:cubicBezTo>
                <a:cubicBezTo>
                  <a:pt x="294" y="501"/>
                  <a:pt x="294" y="515"/>
                  <a:pt x="309" y="515"/>
                </a:cubicBezTo>
                <a:cubicBezTo>
                  <a:pt x="544" y="515"/>
                  <a:pt x="544" y="515"/>
                  <a:pt x="544" y="515"/>
                </a:cubicBezTo>
                <a:cubicBezTo>
                  <a:pt x="559" y="515"/>
                  <a:pt x="559" y="501"/>
                  <a:pt x="559" y="486"/>
                </a:cubicBezTo>
                <a:cubicBezTo>
                  <a:pt x="559" y="486"/>
                  <a:pt x="559" y="471"/>
                  <a:pt x="544" y="471"/>
                </a:cubicBezTo>
                <a:close/>
                <a:moveTo>
                  <a:pt x="544" y="353"/>
                </a:moveTo>
                <a:lnTo>
                  <a:pt x="544" y="353"/>
                </a:lnTo>
                <a:cubicBezTo>
                  <a:pt x="382" y="353"/>
                  <a:pt x="382" y="353"/>
                  <a:pt x="382" y="353"/>
                </a:cubicBezTo>
                <a:lnTo>
                  <a:pt x="368" y="368"/>
                </a:lnTo>
                <a:cubicBezTo>
                  <a:pt x="368" y="383"/>
                  <a:pt x="382" y="398"/>
                  <a:pt x="382" y="398"/>
                </a:cubicBezTo>
                <a:cubicBezTo>
                  <a:pt x="544" y="398"/>
                  <a:pt x="544" y="398"/>
                  <a:pt x="544" y="398"/>
                </a:cubicBezTo>
                <a:cubicBezTo>
                  <a:pt x="559" y="398"/>
                  <a:pt x="559" y="383"/>
                  <a:pt x="559" y="368"/>
                </a:cubicBezTo>
                <a:cubicBezTo>
                  <a:pt x="559" y="368"/>
                  <a:pt x="559" y="353"/>
                  <a:pt x="544" y="353"/>
                </a:cubicBezTo>
                <a:close/>
                <a:moveTo>
                  <a:pt x="544" y="118"/>
                </a:moveTo>
                <a:lnTo>
                  <a:pt x="544" y="118"/>
                </a:lnTo>
                <a:cubicBezTo>
                  <a:pt x="265" y="118"/>
                  <a:pt x="265" y="118"/>
                  <a:pt x="265" y="118"/>
                </a:cubicBezTo>
                <a:lnTo>
                  <a:pt x="250" y="132"/>
                </a:lnTo>
                <a:cubicBezTo>
                  <a:pt x="250" y="147"/>
                  <a:pt x="265" y="162"/>
                  <a:pt x="265" y="162"/>
                </a:cubicBezTo>
                <a:cubicBezTo>
                  <a:pt x="544" y="162"/>
                  <a:pt x="544" y="162"/>
                  <a:pt x="544" y="162"/>
                </a:cubicBezTo>
                <a:cubicBezTo>
                  <a:pt x="559" y="162"/>
                  <a:pt x="559" y="147"/>
                  <a:pt x="559" y="132"/>
                </a:cubicBezTo>
                <a:cubicBezTo>
                  <a:pt x="559" y="132"/>
                  <a:pt x="559" y="118"/>
                  <a:pt x="544" y="118"/>
                </a:cubicBezTo>
                <a:close/>
                <a:moveTo>
                  <a:pt x="544" y="235"/>
                </a:moveTo>
                <a:lnTo>
                  <a:pt x="544" y="235"/>
                </a:lnTo>
                <a:cubicBezTo>
                  <a:pt x="265" y="235"/>
                  <a:pt x="265" y="235"/>
                  <a:pt x="265" y="235"/>
                </a:cubicBezTo>
                <a:lnTo>
                  <a:pt x="250" y="250"/>
                </a:lnTo>
                <a:cubicBezTo>
                  <a:pt x="250" y="265"/>
                  <a:pt x="265" y="280"/>
                  <a:pt x="265" y="280"/>
                </a:cubicBezTo>
                <a:cubicBezTo>
                  <a:pt x="544" y="280"/>
                  <a:pt x="544" y="280"/>
                  <a:pt x="544" y="280"/>
                </a:cubicBezTo>
                <a:cubicBezTo>
                  <a:pt x="559" y="280"/>
                  <a:pt x="559" y="265"/>
                  <a:pt x="559" y="250"/>
                </a:cubicBezTo>
                <a:cubicBezTo>
                  <a:pt x="559" y="250"/>
                  <a:pt x="559" y="235"/>
                  <a:pt x="544" y="235"/>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65" name="稻壳儿小白白(http://dwz.cn/Wu2UP)"/>
          <p:cNvSpPr/>
          <p:nvPr/>
        </p:nvSpPr>
        <p:spPr>
          <a:xfrm>
            <a:off x="8273880" y="2738520"/>
            <a:ext cx="438480" cy="415800"/>
          </a:xfrm>
          <a:custGeom>
            <a:avLst/>
            <a:gdLst/>
            <a:ahLst/>
            <a:rect l="l" t="t" r="r" b="b"/>
            <a:pathLst>
              <a:path w="546" h="516">
                <a:moveTo>
                  <a:pt x="309" y="471"/>
                </a:moveTo>
                <a:lnTo>
                  <a:pt x="309" y="471"/>
                </a:lnTo>
                <a:cubicBezTo>
                  <a:pt x="15" y="471"/>
                  <a:pt x="15" y="471"/>
                  <a:pt x="15" y="471"/>
                </a:cubicBezTo>
                <a:cubicBezTo>
                  <a:pt x="0" y="471"/>
                  <a:pt x="0" y="486"/>
                  <a:pt x="0" y="500"/>
                </a:cubicBezTo>
                <a:cubicBezTo>
                  <a:pt x="0" y="500"/>
                  <a:pt x="0" y="515"/>
                  <a:pt x="15" y="515"/>
                </a:cubicBezTo>
                <a:cubicBezTo>
                  <a:pt x="309" y="515"/>
                  <a:pt x="309" y="515"/>
                  <a:pt x="309" y="515"/>
                </a:cubicBezTo>
                <a:cubicBezTo>
                  <a:pt x="324" y="515"/>
                  <a:pt x="324" y="500"/>
                  <a:pt x="324" y="500"/>
                </a:cubicBezTo>
                <a:cubicBezTo>
                  <a:pt x="324" y="486"/>
                  <a:pt x="324" y="471"/>
                  <a:pt x="309" y="471"/>
                </a:cubicBezTo>
                <a:close/>
                <a:moveTo>
                  <a:pt x="15" y="44"/>
                </a:moveTo>
                <a:lnTo>
                  <a:pt x="15" y="44"/>
                </a:lnTo>
                <a:cubicBezTo>
                  <a:pt x="530" y="44"/>
                  <a:pt x="530" y="44"/>
                  <a:pt x="530" y="44"/>
                </a:cubicBezTo>
                <a:lnTo>
                  <a:pt x="545" y="29"/>
                </a:lnTo>
                <a:cubicBezTo>
                  <a:pt x="545" y="15"/>
                  <a:pt x="530" y="0"/>
                  <a:pt x="530" y="0"/>
                </a:cubicBezTo>
                <a:cubicBezTo>
                  <a:pt x="15" y="0"/>
                  <a:pt x="15" y="0"/>
                  <a:pt x="15" y="0"/>
                </a:cubicBezTo>
                <a:cubicBezTo>
                  <a:pt x="0" y="0"/>
                  <a:pt x="0" y="15"/>
                  <a:pt x="0" y="29"/>
                </a:cubicBezTo>
                <a:cubicBezTo>
                  <a:pt x="0" y="29"/>
                  <a:pt x="0" y="44"/>
                  <a:pt x="15" y="44"/>
                </a:cubicBezTo>
                <a:close/>
                <a:moveTo>
                  <a:pt x="530" y="324"/>
                </a:moveTo>
                <a:lnTo>
                  <a:pt x="530" y="324"/>
                </a:lnTo>
                <a:cubicBezTo>
                  <a:pt x="15" y="324"/>
                  <a:pt x="15" y="324"/>
                  <a:pt x="15" y="324"/>
                </a:cubicBezTo>
                <a:cubicBezTo>
                  <a:pt x="0" y="324"/>
                  <a:pt x="0" y="324"/>
                  <a:pt x="0" y="338"/>
                </a:cubicBezTo>
                <a:cubicBezTo>
                  <a:pt x="0" y="353"/>
                  <a:pt x="0" y="353"/>
                  <a:pt x="15" y="353"/>
                </a:cubicBezTo>
                <a:cubicBezTo>
                  <a:pt x="530" y="353"/>
                  <a:pt x="530" y="353"/>
                  <a:pt x="530" y="353"/>
                </a:cubicBezTo>
                <a:cubicBezTo>
                  <a:pt x="530" y="353"/>
                  <a:pt x="545" y="353"/>
                  <a:pt x="545" y="338"/>
                </a:cubicBezTo>
                <a:cubicBezTo>
                  <a:pt x="545" y="324"/>
                  <a:pt x="530" y="324"/>
                  <a:pt x="530" y="324"/>
                </a:cubicBezTo>
                <a:close/>
                <a:moveTo>
                  <a:pt x="530" y="162"/>
                </a:moveTo>
                <a:lnTo>
                  <a:pt x="530" y="162"/>
                </a:lnTo>
                <a:cubicBezTo>
                  <a:pt x="15" y="162"/>
                  <a:pt x="15" y="162"/>
                  <a:pt x="15" y="162"/>
                </a:cubicBezTo>
                <a:cubicBezTo>
                  <a:pt x="0" y="162"/>
                  <a:pt x="0" y="176"/>
                  <a:pt x="0" y="176"/>
                </a:cubicBezTo>
                <a:cubicBezTo>
                  <a:pt x="0" y="191"/>
                  <a:pt x="0" y="206"/>
                  <a:pt x="15" y="206"/>
                </a:cubicBezTo>
                <a:cubicBezTo>
                  <a:pt x="530" y="206"/>
                  <a:pt x="530" y="206"/>
                  <a:pt x="530" y="206"/>
                </a:cubicBezTo>
                <a:cubicBezTo>
                  <a:pt x="530" y="206"/>
                  <a:pt x="545" y="191"/>
                  <a:pt x="545" y="176"/>
                </a:cubicBezTo>
                <a:lnTo>
                  <a:pt x="530" y="162"/>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66" name="稻壳儿小白白(http://dwz.cn/Wu2UP)"/>
          <p:cNvSpPr/>
          <p:nvPr/>
        </p:nvSpPr>
        <p:spPr>
          <a:xfrm>
            <a:off x="7480440" y="2738520"/>
            <a:ext cx="438120" cy="415800"/>
          </a:xfrm>
          <a:custGeom>
            <a:avLst/>
            <a:gdLst/>
            <a:ahLst/>
            <a:rect l="l" t="t" r="r" b="b"/>
            <a:pathLst>
              <a:path w="545" h="516">
                <a:moveTo>
                  <a:pt x="14" y="44"/>
                </a:moveTo>
                <a:lnTo>
                  <a:pt x="14" y="44"/>
                </a:lnTo>
                <a:cubicBezTo>
                  <a:pt x="530" y="44"/>
                  <a:pt x="530" y="44"/>
                  <a:pt x="530" y="44"/>
                </a:cubicBezTo>
                <a:cubicBezTo>
                  <a:pt x="544" y="44"/>
                  <a:pt x="544" y="29"/>
                  <a:pt x="544" y="29"/>
                </a:cubicBezTo>
                <a:cubicBezTo>
                  <a:pt x="544" y="15"/>
                  <a:pt x="544" y="0"/>
                  <a:pt x="530" y="0"/>
                </a:cubicBezTo>
                <a:cubicBezTo>
                  <a:pt x="14" y="0"/>
                  <a:pt x="14" y="0"/>
                  <a:pt x="14" y="0"/>
                </a:cubicBezTo>
                <a:cubicBezTo>
                  <a:pt x="14" y="0"/>
                  <a:pt x="0" y="15"/>
                  <a:pt x="0" y="29"/>
                </a:cubicBezTo>
                <a:lnTo>
                  <a:pt x="14" y="44"/>
                </a:lnTo>
                <a:close/>
                <a:moveTo>
                  <a:pt x="103" y="162"/>
                </a:moveTo>
                <a:lnTo>
                  <a:pt x="103" y="162"/>
                </a:lnTo>
                <a:cubicBezTo>
                  <a:pt x="88" y="162"/>
                  <a:pt x="73" y="176"/>
                  <a:pt x="73" y="176"/>
                </a:cubicBezTo>
                <a:cubicBezTo>
                  <a:pt x="73" y="191"/>
                  <a:pt x="88" y="206"/>
                  <a:pt x="103" y="206"/>
                </a:cubicBezTo>
                <a:cubicBezTo>
                  <a:pt x="456" y="206"/>
                  <a:pt x="456" y="206"/>
                  <a:pt x="456" y="206"/>
                </a:cubicBezTo>
                <a:cubicBezTo>
                  <a:pt x="456" y="206"/>
                  <a:pt x="471" y="191"/>
                  <a:pt x="471" y="176"/>
                </a:cubicBezTo>
                <a:lnTo>
                  <a:pt x="456" y="162"/>
                </a:lnTo>
                <a:lnTo>
                  <a:pt x="103" y="162"/>
                </a:lnTo>
                <a:close/>
                <a:moveTo>
                  <a:pt x="530" y="324"/>
                </a:moveTo>
                <a:lnTo>
                  <a:pt x="530" y="324"/>
                </a:lnTo>
                <a:cubicBezTo>
                  <a:pt x="14" y="324"/>
                  <a:pt x="14" y="324"/>
                  <a:pt x="14" y="324"/>
                </a:cubicBezTo>
                <a:cubicBezTo>
                  <a:pt x="14" y="324"/>
                  <a:pt x="0" y="324"/>
                  <a:pt x="0" y="338"/>
                </a:cubicBezTo>
                <a:cubicBezTo>
                  <a:pt x="0" y="353"/>
                  <a:pt x="14" y="353"/>
                  <a:pt x="14" y="353"/>
                </a:cubicBezTo>
                <a:cubicBezTo>
                  <a:pt x="530" y="353"/>
                  <a:pt x="530" y="353"/>
                  <a:pt x="530" y="353"/>
                </a:cubicBezTo>
                <a:cubicBezTo>
                  <a:pt x="544" y="353"/>
                  <a:pt x="544" y="353"/>
                  <a:pt x="544" y="338"/>
                </a:cubicBezTo>
                <a:cubicBezTo>
                  <a:pt x="544" y="324"/>
                  <a:pt x="544" y="324"/>
                  <a:pt x="530" y="324"/>
                </a:cubicBezTo>
                <a:close/>
                <a:moveTo>
                  <a:pt x="412" y="471"/>
                </a:moveTo>
                <a:lnTo>
                  <a:pt x="412" y="471"/>
                </a:lnTo>
                <a:cubicBezTo>
                  <a:pt x="132" y="471"/>
                  <a:pt x="132" y="471"/>
                  <a:pt x="132" y="471"/>
                </a:cubicBezTo>
                <a:cubicBezTo>
                  <a:pt x="132" y="471"/>
                  <a:pt x="117" y="486"/>
                  <a:pt x="117" y="500"/>
                </a:cubicBezTo>
                <a:lnTo>
                  <a:pt x="132" y="515"/>
                </a:lnTo>
                <a:cubicBezTo>
                  <a:pt x="412" y="515"/>
                  <a:pt x="412" y="515"/>
                  <a:pt x="412" y="515"/>
                </a:cubicBezTo>
                <a:cubicBezTo>
                  <a:pt x="426" y="515"/>
                  <a:pt x="426" y="500"/>
                  <a:pt x="426" y="500"/>
                </a:cubicBezTo>
                <a:cubicBezTo>
                  <a:pt x="426" y="486"/>
                  <a:pt x="426" y="471"/>
                  <a:pt x="412" y="471"/>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67" name="稻壳儿小白白(http://dwz.cn/Wu2UP)"/>
          <p:cNvSpPr/>
          <p:nvPr/>
        </p:nvSpPr>
        <p:spPr>
          <a:xfrm>
            <a:off x="6629400" y="2738520"/>
            <a:ext cx="439560" cy="415800"/>
          </a:xfrm>
          <a:custGeom>
            <a:avLst/>
            <a:gdLst/>
            <a:ahLst/>
            <a:rect l="l" t="t" r="r" b="b"/>
            <a:pathLst>
              <a:path w="545" h="516">
                <a:moveTo>
                  <a:pt x="14" y="206"/>
                </a:moveTo>
                <a:lnTo>
                  <a:pt x="14" y="206"/>
                </a:lnTo>
                <a:cubicBezTo>
                  <a:pt x="368" y="206"/>
                  <a:pt x="368" y="206"/>
                  <a:pt x="368" y="206"/>
                </a:cubicBezTo>
                <a:cubicBezTo>
                  <a:pt x="383" y="206"/>
                  <a:pt x="397" y="191"/>
                  <a:pt x="397" y="176"/>
                </a:cubicBezTo>
                <a:cubicBezTo>
                  <a:pt x="397" y="176"/>
                  <a:pt x="383" y="162"/>
                  <a:pt x="368" y="162"/>
                </a:cubicBezTo>
                <a:cubicBezTo>
                  <a:pt x="14" y="162"/>
                  <a:pt x="14" y="162"/>
                  <a:pt x="14" y="162"/>
                </a:cubicBezTo>
                <a:lnTo>
                  <a:pt x="0" y="176"/>
                </a:lnTo>
                <a:cubicBezTo>
                  <a:pt x="0" y="191"/>
                  <a:pt x="14" y="206"/>
                  <a:pt x="14" y="206"/>
                </a:cubicBezTo>
                <a:close/>
                <a:moveTo>
                  <a:pt x="14" y="44"/>
                </a:moveTo>
                <a:lnTo>
                  <a:pt x="14" y="44"/>
                </a:lnTo>
                <a:cubicBezTo>
                  <a:pt x="530" y="44"/>
                  <a:pt x="530" y="44"/>
                  <a:pt x="530" y="44"/>
                </a:cubicBezTo>
                <a:cubicBezTo>
                  <a:pt x="544" y="44"/>
                  <a:pt x="544" y="29"/>
                  <a:pt x="544" y="29"/>
                </a:cubicBezTo>
                <a:cubicBezTo>
                  <a:pt x="544" y="15"/>
                  <a:pt x="544" y="0"/>
                  <a:pt x="530" y="0"/>
                </a:cubicBezTo>
                <a:cubicBezTo>
                  <a:pt x="14" y="0"/>
                  <a:pt x="14" y="0"/>
                  <a:pt x="14" y="0"/>
                </a:cubicBezTo>
                <a:cubicBezTo>
                  <a:pt x="14" y="0"/>
                  <a:pt x="0" y="15"/>
                  <a:pt x="0" y="29"/>
                </a:cubicBezTo>
                <a:lnTo>
                  <a:pt x="14" y="44"/>
                </a:lnTo>
                <a:close/>
                <a:moveTo>
                  <a:pt x="309" y="471"/>
                </a:moveTo>
                <a:lnTo>
                  <a:pt x="309" y="471"/>
                </a:lnTo>
                <a:cubicBezTo>
                  <a:pt x="14" y="471"/>
                  <a:pt x="14" y="471"/>
                  <a:pt x="14" y="471"/>
                </a:cubicBezTo>
                <a:cubicBezTo>
                  <a:pt x="14" y="471"/>
                  <a:pt x="0" y="486"/>
                  <a:pt x="0" y="500"/>
                </a:cubicBezTo>
                <a:lnTo>
                  <a:pt x="14" y="515"/>
                </a:lnTo>
                <a:cubicBezTo>
                  <a:pt x="309" y="515"/>
                  <a:pt x="309" y="515"/>
                  <a:pt x="309" y="515"/>
                </a:cubicBezTo>
                <a:cubicBezTo>
                  <a:pt x="324" y="515"/>
                  <a:pt x="338" y="500"/>
                  <a:pt x="338" y="500"/>
                </a:cubicBezTo>
                <a:cubicBezTo>
                  <a:pt x="338" y="486"/>
                  <a:pt x="324" y="471"/>
                  <a:pt x="309" y="471"/>
                </a:cubicBezTo>
                <a:close/>
                <a:moveTo>
                  <a:pt x="530" y="324"/>
                </a:moveTo>
                <a:lnTo>
                  <a:pt x="530" y="324"/>
                </a:lnTo>
                <a:cubicBezTo>
                  <a:pt x="14" y="324"/>
                  <a:pt x="14" y="324"/>
                  <a:pt x="14" y="324"/>
                </a:cubicBezTo>
                <a:cubicBezTo>
                  <a:pt x="14" y="324"/>
                  <a:pt x="0" y="324"/>
                  <a:pt x="0" y="338"/>
                </a:cubicBezTo>
                <a:cubicBezTo>
                  <a:pt x="0" y="353"/>
                  <a:pt x="14" y="353"/>
                  <a:pt x="14" y="353"/>
                </a:cubicBezTo>
                <a:cubicBezTo>
                  <a:pt x="530" y="353"/>
                  <a:pt x="530" y="353"/>
                  <a:pt x="530" y="353"/>
                </a:cubicBezTo>
                <a:cubicBezTo>
                  <a:pt x="544" y="353"/>
                  <a:pt x="544" y="353"/>
                  <a:pt x="544" y="338"/>
                </a:cubicBezTo>
                <a:cubicBezTo>
                  <a:pt x="544" y="324"/>
                  <a:pt x="544" y="324"/>
                  <a:pt x="530" y="324"/>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68" name="稻壳儿小白白(http://dwz.cn/Wu2UP)"/>
          <p:cNvSpPr/>
          <p:nvPr/>
        </p:nvSpPr>
        <p:spPr>
          <a:xfrm>
            <a:off x="5861160" y="2693880"/>
            <a:ext cx="404640" cy="511200"/>
          </a:xfrm>
          <a:custGeom>
            <a:avLst/>
            <a:gdLst/>
            <a:ahLst/>
            <a:rect l="l" t="t" r="r" b="b"/>
            <a:pathLst>
              <a:path w="501" h="634">
                <a:moveTo>
                  <a:pt x="353" y="559"/>
                </a:moveTo>
                <a:lnTo>
                  <a:pt x="353" y="559"/>
                </a:lnTo>
                <a:cubicBezTo>
                  <a:pt x="353" y="559"/>
                  <a:pt x="368" y="545"/>
                  <a:pt x="368" y="530"/>
                </a:cubicBezTo>
                <a:cubicBezTo>
                  <a:pt x="368" y="294"/>
                  <a:pt x="368" y="294"/>
                  <a:pt x="368" y="294"/>
                </a:cubicBezTo>
                <a:lnTo>
                  <a:pt x="353" y="279"/>
                </a:lnTo>
                <a:cubicBezTo>
                  <a:pt x="339" y="279"/>
                  <a:pt x="323" y="294"/>
                  <a:pt x="323" y="294"/>
                </a:cubicBezTo>
                <a:cubicBezTo>
                  <a:pt x="323" y="530"/>
                  <a:pt x="323" y="530"/>
                  <a:pt x="323" y="530"/>
                </a:cubicBezTo>
                <a:cubicBezTo>
                  <a:pt x="323" y="545"/>
                  <a:pt x="339" y="559"/>
                  <a:pt x="353" y="559"/>
                </a:cubicBezTo>
                <a:close/>
                <a:moveTo>
                  <a:pt x="147" y="559"/>
                </a:moveTo>
                <a:lnTo>
                  <a:pt x="147" y="559"/>
                </a:lnTo>
                <a:cubicBezTo>
                  <a:pt x="162" y="559"/>
                  <a:pt x="176" y="545"/>
                  <a:pt x="176" y="530"/>
                </a:cubicBezTo>
                <a:cubicBezTo>
                  <a:pt x="176" y="294"/>
                  <a:pt x="176" y="294"/>
                  <a:pt x="176" y="294"/>
                </a:cubicBezTo>
                <a:cubicBezTo>
                  <a:pt x="176" y="294"/>
                  <a:pt x="162" y="279"/>
                  <a:pt x="147" y="279"/>
                </a:cubicBezTo>
                <a:lnTo>
                  <a:pt x="132" y="294"/>
                </a:lnTo>
                <a:cubicBezTo>
                  <a:pt x="132" y="530"/>
                  <a:pt x="132" y="530"/>
                  <a:pt x="132" y="530"/>
                </a:cubicBezTo>
                <a:cubicBezTo>
                  <a:pt x="132" y="545"/>
                  <a:pt x="147" y="559"/>
                  <a:pt x="147" y="559"/>
                </a:cubicBezTo>
                <a:close/>
                <a:moveTo>
                  <a:pt x="250" y="559"/>
                </a:moveTo>
                <a:lnTo>
                  <a:pt x="250" y="559"/>
                </a:lnTo>
                <a:cubicBezTo>
                  <a:pt x="265" y="559"/>
                  <a:pt x="265" y="545"/>
                  <a:pt x="265" y="530"/>
                </a:cubicBezTo>
                <a:cubicBezTo>
                  <a:pt x="265" y="294"/>
                  <a:pt x="265" y="294"/>
                  <a:pt x="265" y="294"/>
                </a:cubicBezTo>
                <a:cubicBezTo>
                  <a:pt x="265" y="294"/>
                  <a:pt x="265" y="279"/>
                  <a:pt x="250" y="279"/>
                </a:cubicBezTo>
                <a:cubicBezTo>
                  <a:pt x="235" y="279"/>
                  <a:pt x="235" y="294"/>
                  <a:pt x="235" y="294"/>
                </a:cubicBezTo>
                <a:cubicBezTo>
                  <a:pt x="235" y="530"/>
                  <a:pt x="235" y="530"/>
                  <a:pt x="235" y="530"/>
                </a:cubicBezTo>
                <a:cubicBezTo>
                  <a:pt x="235" y="545"/>
                  <a:pt x="235" y="559"/>
                  <a:pt x="250" y="559"/>
                </a:cubicBezTo>
                <a:close/>
                <a:moveTo>
                  <a:pt x="471" y="88"/>
                </a:moveTo>
                <a:lnTo>
                  <a:pt x="471" y="88"/>
                </a:lnTo>
                <a:cubicBezTo>
                  <a:pt x="353" y="88"/>
                  <a:pt x="353" y="88"/>
                  <a:pt x="353" y="88"/>
                </a:cubicBezTo>
                <a:cubicBezTo>
                  <a:pt x="353" y="44"/>
                  <a:pt x="353" y="44"/>
                  <a:pt x="353" y="44"/>
                </a:cubicBezTo>
                <a:cubicBezTo>
                  <a:pt x="353" y="29"/>
                  <a:pt x="323" y="0"/>
                  <a:pt x="309" y="0"/>
                </a:cubicBezTo>
                <a:cubicBezTo>
                  <a:pt x="191" y="0"/>
                  <a:pt x="191" y="0"/>
                  <a:pt x="191" y="0"/>
                </a:cubicBezTo>
                <a:cubicBezTo>
                  <a:pt x="176" y="0"/>
                  <a:pt x="147" y="29"/>
                  <a:pt x="147" y="44"/>
                </a:cubicBezTo>
                <a:cubicBezTo>
                  <a:pt x="147" y="88"/>
                  <a:pt x="147" y="88"/>
                  <a:pt x="147" y="88"/>
                </a:cubicBezTo>
                <a:cubicBezTo>
                  <a:pt x="29" y="88"/>
                  <a:pt x="29" y="88"/>
                  <a:pt x="29" y="88"/>
                </a:cubicBezTo>
                <a:cubicBezTo>
                  <a:pt x="14" y="88"/>
                  <a:pt x="0" y="103"/>
                  <a:pt x="0" y="117"/>
                </a:cubicBezTo>
                <a:cubicBezTo>
                  <a:pt x="0" y="162"/>
                  <a:pt x="0" y="162"/>
                  <a:pt x="0" y="162"/>
                </a:cubicBezTo>
                <a:cubicBezTo>
                  <a:pt x="0" y="176"/>
                  <a:pt x="14" y="206"/>
                  <a:pt x="29" y="206"/>
                </a:cubicBezTo>
                <a:cubicBezTo>
                  <a:pt x="29" y="559"/>
                  <a:pt x="29" y="559"/>
                  <a:pt x="29" y="559"/>
                </a:cubicBezTo>
                <a:cubicBezTo>
                  <a:pt x="29" y="604"/>
                  <a:pt x="73" y="633"/>
                  <a:pt x="118" y="633"/>
                </a:cubicBezTo>
                <a:cubicBezTo>
                  <a:pt x="382" y="633"/>
                  <a:pt x="382" y="633"/>
                  <a:pt x="382" y="633"/>
                </a:cubicBezTo>
                <a:cubicBezTo>
                  <a:pt x="427" y="633"/>
                  <a:pt x="471" y="604"/>
                  <a:pt x="471" y="559"/>
                </a:cubicBezTo>
                <a:cubicBezTo>
                  <a:pt x="471" y="206"/>
                  <a:pt x="471" y="206"/>
                  <a:pt x="471" y="206"/>
                </a:cubicBezTo>
                <a:cubicBezTo>
                  <a:pt x="486" y="206"/>
                  <a:pt x="500" y="176"/>
                  <a:pt x="500" y="162"/>
                </a:cubicBezTo>
                <a:cubicBezTo>
                  <a:pt x="500" y="117"/>
                  <a:pt x="500" y="117"/>
                  <a:pt x="500" y="117"/>
                </a:cubicBezTo>
                <a:cubicBezTo>
                  <a:pt x="500" y="103"/>
                  <a:pt x="486" y="88"/>
                  <a:pt x="471" y="88"/>
                </a:cubicBezTo>
                <a:close/>
                <a:moveTo>
                  <a:pt x="191" y="59"/>
                </a:moveTo>
                <a:lnTo>
                  <a:pt x="191" y="59"/>
                </a:lnTo>
                <a:lnTo>
                  <a:pt x="206" y="44"/>
                </a:lnTo>
                <a:cubicBezTo>
                  <a:pt x="294" y="44"/>
                  <a:pt x="294" y="44"/>
                  <a:pt x="294" y="44"/>
                </a:cubicBezTo>
                <a:lnTo>
                  <a:pt x="309" y="59"/>
                </a:lnTo>
                <a:cubicBezTo>
                  <a:pt x="309" y="88"/>
                  <a:pt x="309" y="88"/>
                  <a:pt x="309" y="88"/>
                </a:cubicBezTo>
                <a:cubicBezTo>
                  <a:pt x="294" y="88"/>
                  <a:pt x="191" y="88"/>
                  <a:pt x="191" y="88"/>
                </a:cubicBezTo>
                <a:lnTo>
                  <a:pt x="191" y="59"/>
                </a:lnTo>
                <a:close/>
                <a:moveTo>
                  <a:pt x="427" y="559"/>
                </a:moveTo>
                <a:lnTo>
                  <a:pt x="427" y="559"/>
                </a:lnTo>
                <a:cubicBezTo>
                  <a:pt x="427" y="574"/>
                  <a:pt x="412" y="589"/>
                  <a:pt x="382" y="589"/>
                </a:cubicBezTo>
                <a:cubicBezTo>
                  <a:pt x="118" y="589"/>
                  <a:pt x="118" y="589"/>
                  <a:pt x="118" y="589"/>
                </a:cubicBezTo>
                <a:cubicBezTo>
                  <a:pt x="88" y="589"/>
                  <a:pt x="73" y="574"/>
                  <a:pt x="73" y="559"/>
                </a:cubicBezTo>
                <a:cubicBezTo>
                  <a:pt x="73" y="206"/>
                  <a:pt x="73" y="206"/>
                  <a:pt x="73" y="206"/>
                </a:cubicBezTo>
                <a:cubicBezTo>
                  <a:pt x="103" y="206"/>
                  <a:pt x="412" y="206"/>
                  <a:pt x="427" y="206"/>
                </a:cubicBezTo>
                <a:lnTo>
                  <a:pt x="427" y="559"/>
                </a:lnTo>
                <a:close/>
                <a:moveTo>
                  <a:pt x="441" y="162"/>
                </a:moveTo>
                <a:lnTo>
                  <a:pt x="441" y="162"/>
                </a:lnTo>
                <a:cubicBezTo>
                  <a:pt x="59" y="162"/>
                  <a:pt x="59" y="162"/>
                  <a:pt x="59" y="162"/>
                </a:cubicBezTo>
                <a:cubicBezTo>
                  <a:pt x="44" y="162"/>
                  <a:pt x="29" y="147"/>
                  <a:pt x="29" y="147"/>
                </a:cubicBezTo>
                <a:cubicBezTo>
                  <a:pt x="29" y="132"/>
                  <a:pt x="44" y="117"/>
                  <a:pt x="59" y="117"/>
                </a:cubicBezTo>
                <a:cubicBezTo>
                  <a:pt x="441" y="117"/>
                  <a:pt x="441" y="117"/>
                  <a:pt x="441" y="117"/>
                </a:cubicBezTo>
                <a:cubicBezTo>
                  <a:pt x="456" y="117"/>
                  <a:pt x="471" y="132"/>
                  <a:pt x="471" y="147"/>
                </a:cubicBezTo>
                <a:cubicBezTo>
                  <a:pt x="471" y="147"/>
                  <a:pt x="456" y="162"/>
                  <a:pt x="441" y="162"/>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69" name="稻壳儿小白白(http://dwz.cn/Wu2UP)"/>
          <p:cNvSpPr/>
          <p:nvPr/>
        </p:nvSpPr>
        <p:spPr>
          <a:xfrm>
            <a:off x="4986360" y="2716200"/>
            <a:ext cx="511200" cy="47304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70" name="稻壳儿小白白(http://dwz.cn/Wu2UP)"/>
          <p:cNvSpPr/>
          <p:nvPr/>
        </p:nvSpPr>
        <p:spPr>
          <a:xfrm>
            <a:off x="4172040" y="2705040"/>
            <a:ext cx="509400" cy="484200"/>
          </a:xfrm>
          <a:custGeom>
            <a:avLst/>
            <a:gdLst/>
            <a:ahLst/>
            <a:rect l="l" t="t" r="r" b="b"/>
            <a:pathLst>
              <a:path w="634" h="604">
                <a:moveTo>
                  <a:pt x="309" y="44"/>
                </a:moveTo>
                <a:lnTo>
                  <a:pt x="309" y="44"/>
                </a:lnTo>
                <a:close/>
                <a:moveTo>
                  <a:pt x="14" y="220"/>
                </a:moveTo>
                <a:lnTo>
                  <a:pt x="14" y="220"/>
                </a:lnTo>
                <a:cubicBezTo>
                  <a:pt x="279" y="338"/>
                  <a:pt x="279" y="338"/>
                  <a:pt x="279" y="338"/>
                </a:cubicBezTo>
                <a:cubicBezTo>
                  <a:pt x="309" y="353"/>
                  <a:pt x="324" y="353"/>
                  <a:pt x="338" y="338"/>
                </a:cubicBezTo>
                <a:cubicBezTo>
                  <a:pt x="603" y="220"/>
                  <a:pt x="603" y="220"/>
                  <a:pt x="603" y="220"/>
                </a:cubicBezTo>
                <a:cubicBezTo>
                  <a:pt x="633" y="206"/>
                  <a:pt x="633" y="176"/>
                  <a:pt x="603" y="161"/>
                </a:cubicBezTo>
                <a:cubicBezTo>
                  <a:pt x="338" y="14"/>
                  <a:pt x="338" y="14"/>
                  <a:pt x="338" y="14"/>
                </a:cubicBezTo>
                <a:cubicBezTo>
                  <a:pt x="324" y="0"/>
                  <a:pt x="309" y="14"/>
                  <a:pt x="279" y="14"/>
                </a:cubicBezTo>
                <a:cubicBezTo>
                  <a:pt x="14" y="161"/>
                  <a:pt x="14" y="161"/>
                  <a:pt x="14" y="161"/>
                </a:cubicBezTo>
                <a:cubicBezTo>
                  <a:pt x="0" y="176"/>
                  <a:pt x="0" y="206"/>
                  <a:pt x="14" y="220"/>
                </a:cubicBezTo>
                <a:close/>
                <a:moveTo>
                  <a:pt x="309" y="44"/>
                </a:moveTo>
                <a:lnTo>
                  <a:pt x="309" y="44"/>
                </a:lnTo>
                <a:cubicBezTo>
                  <a:pt x="588" y="191"/>
                  <a:pt x="588" y="191"/>
                  <a:pt x="588" y="191"/>
                </a:cubicBezTo>
                <a:cubicBezTo>
                  <a:pt x="309" y="309"/>
                  <a:pt x="309" y="309"/>
                  <a:pt x="309" y="309"/>
                </a:cubicBezTo>
                <a:cubicBezTo>
                  <a:pt x="44" y="191"/>
                  <a:pt x="44" y="191"/>
                  <a:pt x="44" y="191"/>
                </a:cubicBezTo>
                <a:lnTo>
                  <a:pt x="309" y="44"/>
                </a:lnTo>
                <a:close/>
                <a:moveTo>
                  <a:pt x="309" y="559"/>
                </a:moveTo>
                <a:lnTo>
                  <a:pt x="309" y="559"/>
                </a:lnTo>
                <a:cubicBezTo>
                  <a:pt x="44" y="441"/>
                  <a:pt x="44" y="441"/>
                  <a:pt x="44" y="441"/>
                </a:cubicBezTo>
                <a:cubicBezTo>
                  <a:pt x="44" y="441"/>
                  <a:pt x="14" y="427"/>
                  <a:pt x="0" y="427"/>
                </a:cubicBezTo>
                <a:cubicBezTo>
                  <a:pt x="0" y="441"/>
                  <a:pt x="0" y="456"/>
                  <a:pt x="14" y="471"/>
                </a:cubicBezTo>
                <a:cubicBezTo>
                  <a:pt x="279" y="589"/>
                  <a:pt x="279" y="589"/>
                  <a:pt x="279" y="589"/>
                </a:cubicBezTo>
                <a:cubicBezTo>
                  <a:pt x="309" y="603"/>
                  <a:pt x="324" y="603"/>
                  <a:pt x="338" y="589"/>
                </a:cubicBezTo>
                <a:cubicBezTo>
                  <a:pt x="603" y="471"/>
                  <a:pt x="603" y="471"/>
                  <a:pt x="603" y="471"/>
                </a:cubicBezTo>
                <a:cubicBezTo>
                  <a:pt x="618" y="471"/>
                  <a:pt x="633" y="441"/>
                  <a:pt x="633" y="427"/>
                </a:cubicBezTo>
                <a:cubicBezTo>
                  <a:pt x="618" y="427"/>
                  <a:pt x="588" y="441"/>
                  <a:pt x="588" y="441"/>
                </a:cubicBezTo>
                <a:lnTo>
                  <a:pt x="309" y="559"/>
                </a:lnTo>
                <a:close/>
                <a:moveTo>
                  <a:pt x="14" y="338"/>
                </a:moveTo>
                <a:lnTo>
                  <a:pt x="14" y="338"/>
                </a:lnTo>
                <a:cubicBezTo>
                  <a:pt x="279" y="471"/>
                  <a:pt x="279" y="471"/>
                  <a:pt x="279" y="471"/>
                </a:cubicBezTo>
                <a:cubicBezTo>
                  <a:pt x="309" y="471"/>
                  <a:pt x="324" y="471"/>
                  <a:pt x="338" y="471"/>
                </a:cubicBezTo>
                <a:cubicBezTo>
                  <a:pt x="603" y="338"/>
                  <a:pt x="603" y="338"/>
                  <a:pt x="603" y="338"/>
                </a:cubicBezTo>
                <a:cubicBezTo>
                  <a:pt x="618" y="338"/>
                  <a:pt x="633" y="309"/>
                  <a:pt x="633" y="294"/>
                </a:cubicBezTo>
                <a:cubicBezTo>
                  <a:pt x="618" y="309"/>
                  <a:pt x="588" y="309"/>
                  <a:pt x="588" y="309"/>
                </a:cubicBezTo>
                <a:cubicBezTo>
                  <a:pt x="309" y="441"/>
                  <a:pt x="309" y="441"/>
                  <a:pt x="309" y="441"/>
                </a:cubicBezTo>
                <a:cubicBezTo>
                  <a:pt x="44" y="309"/>
                  <a:pt x="44" y="309"/>
                  <a:pt x="44" y="309"/>
                </a:cubicBezTo>
                <a:cubicBezTo>
                  <a:pt x="44" y="309"/>
                  <a:pt x="14" y="309"/>
                  <a:pt x="0" y="294"/>
                </a:cubicBezTo>
                <a:cubicBezTo>
                  <a:pt x="0" y="309"/>
                  <a:pt x="0" y="338"/>
                  <a:pt x="14" y="338"/>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71" name="稻壳儿小白白(http://dwz.cn/Wu2UP)"/>
          <p:cNvSpPr/>
          <p:nvPr/>
        </p:nvSpPr>
        <p:spPr>
          <a:xfrm>
            <a:off x="3352680" y="2728800"/>
            <a:ext cx="495360" cy="439920"/>
          </a:xfrm>
          <a:custGeom>
            <a:avLst/>
            <a:gdLst/>
            <a:ahLst/>
            <a:rect l="l" t="t" r="r" b="b"/>
            <a:pathLst>
              <a:path w="619" h="546">
                <a:moveTo>
                  <a:pt x="544" y="294"/>
                </a:moveTo>
                <a:lnTo>
                  <a:pt x="544" y="294"/>
                </a:lnTo>
                <a:cubicBezTo>
                  <a:pt x="500" y="294"/>
                  <a:pt x="500" y="294"/>
                  <a:pt x="500" y="294"/>
                </a:cubicBezTo>
                <a:cubicBezTo>
                  <a:pt x="500" y="73"/>
                  <a:pt x="500" y="73"/>
                  <a:pt x="500" y="73"/>
                </a:cubicBezTo>
                <a:cubicBezTo>
                  <a:pt x="500" y="30"/>
                  <a:pt x="471" y="0"/>
                  <a:pt x="427" y="0"/>
                </a:cubicBezTo>
                <a:cubicBezTo>
                  <a:pt x="191" y="0"/>
                  <a:pt x="191" y="0"/>
                  <a:pt x="191" y="0"/>
                </a:cubicBezTo>
                <a:cubicBezTo>
                  <a:pt x="147" y="0"/>
                  <a:pt x="118" y="30"/>
                  <a:pt x="118" y="73"/>
                </a:cubicBezTo>
                <a:cubicBezTo>
                  <a:pt x="118" y="73"/>
                  <a:pt x="118" y="280"/>
                  <a:pt x="118" y="294"/>
                </a:cubicBezTo>
                <a:cubicBezTo>
                  <a:pt x="73" y="294"/>
                  <a:pt x="73" y="294"/>
                  <a:pt x="73" y="294"/>
                </a:cubicBezTo>
                <a:cubicBezTo>
                  <a:pt x="29" y="294"/>
                  <a:pt x="0" y="324"/>
                  <a:pt x="0" y="368"/>
                </a:cubicBezTo>
                <a:cubicBezTo>
                  <a:pt x="0" y="412"/>
                  <a:pt x="0" y="412"/>
                  <a:pt x="0" y="412"/>
                </a:cubicBezTo>
                <a:cubicBezTo>
                  <a:pt x="0" y="456"/>
                  <a:pt x="29" y="486"/>
                  <a:pt x="73" y="486"/>
                </a:cubicBezTo>
                <a:cubicBezTo>
                  <a:pt x="118" y="486"/>
                  <a:pt x="118" y="486"/>
                  <a:pt x="118" y="486"/>
                </a:cubicBezTo>
                <a:cubicBezTo>
                  <a:pt x="118" y="530"/>
                  <a:pt x="162" y="545"/>
                  <a:pt x="191" y="545"/>
                </a:cubicBezTo>
                <a:cubicBezTo>
                  <a:pt x="427" y="545"/>
                  <a:pt x="427" y="545"/>
                  <a:pt x="427" y="545"/>
                </a:cubicBezTo>
                <a:cubicBezTo>
                  <a:pt x="456" y="545"/>
                  <a:pt x="500" y="530"/>
                  <a:pt x="500" y="486"/>
                </a:cubicBezTo>
                <a:cubicBezTo>
                  <a:pt x="544" y="486"/>
                  <a:pt x="544" y="486"/>
                  <a:pt x="544" y="486"/>
                </a:cubicBezTo>
                <a:cubicBezTo>
                  <a:pt x="589" y="486"/>
                  <a:pt x="618" y="456"/>
                  <a:pt x="618" y="412"/>
                </a:cubicBezTo>
                <a:cubicBezTo>
                  <a:pt x="618" y="368"/>
                  <a:pt x="618" y="368"/>
                  <a:pt x="618" y="368"/>
                </a:cubicBezTo>
                <a:cubicBezTo>
                  <a:pt x="618" y="324"/>
                  <a:pt x="589" y="294"/>
                  <a:pt x="544" y="294"/>
                </a:cubicBezTo>
                <a:close/>
                <a:moveTo>
                  <a:pt x="147" y="73"/>
                </a:moveTo>
                <a:lnTo>
                  <a:pt x="147" y="73"/>
                </a:lnTo>
                <a:cubicBezTo>
                  <a:pt x="147" y="59"/>
                  <a:pt x="177" y="44"/>
                  <a:pt x="191" y="44"/>
                </a:cubicBezTo>
                <a:cubicBezTo>
                  <a:pt x="427" y="44"/>
                  <a:pt x="427" y="44"/>
                  <a:pt x="427" y="44"/>
                </a:cubicBezTo>
                <a:cubicBezTo>
                  <a:pt x="441" y="44"/>
                  <a:pt x="471" y="59"/>
                  <a:pt x="471" y="73"/>
                </a:cubicBezTo>
                <a:cubicBezTo>
                  <a:pt x="471" y="294"/>
                  <a:pt x="471" y="294"/>
                  <a:pt x="471" y="294"/>
                </a:cubicBezTo>
                <a:cubicBezTo>
                  <a:pt x="147" y="294"/>
                  <a:pt x="147" y="294"/>
                  <a:pt x="147" y="294"/>
                </a:cubicBezTo>
                <a:lnTo>
                  <a:pt x="147" y="73"/>
                </a:lnTo>
                <a:close/>
                <a:moveTo>
                  <a:pt x="427" y="515"/>
                </a:moveTo>
                <a:lnTo>
                  <a:pt x="427" y="515"/>
                </a:lnTo>
                <a:cubicBezTo>
                  <a:pt x="191" y="515"/>
                  <a:pt x="191" y="515"/>
                  <a:pt x="191" y="515"/>
                </a:cubicBezTo>
                <a:cubicBezTo>
                  <a:pt x="177" y="515"/>
                  <a:pt x="147" y="486"/>
                  <a:pt x="147" y="471"/>
                </a:cubicBezTo>
                <a:cubicBezTo>
                  <a:pt x="147" y="456"/>
                  <a:pt x="177" y="427"/>
                  <a:pt x="191" y="427"/>
                </a:cubicBezTo>
                <a:cubicBezTo>
                  <a:pt x="427" y="427"/>
                  <a:pt x="427" y="427"/>
                  <a:pt x="427" y="427"/>
                </a:cubicBezTo>
                <a:cubicBezTo>
                  <a:pt x="441" y="427"/>
                  <a:pt x="471" y="456"/>
                  <a:pt x="471" y="471"/>
                </a:cubicBezTo>
                <a:cubicBezTo>
                  <a:pt x="471" y="486"/>
                  <a:pt x="441" y="515"/>
                  <a:pt x="427" y="515"/>
                </a:cubicBezTo>
                <a:close/>
                <a:moveTo>
                  <a:pt x="589" y="412"/>
                </a:moveTo>
                <a:lnTo>
                  <a:pt x="589" y="412"/>
                </a:lnTo>
                <a:cubicBezTo>
                  <a:pt x="589" y="427"/>
                  <a:pt x="559" y="456"/>
                  <a:pt x="544" y="456"/>
                </a:cubicBezTo>
                <a:cubicBezTo>
                  <a:pt x="500" y="456"/>
                  <a:pt x="500" y="456"/>
                  <a:pt x="500" y="456"/>
                </a:cubicBezTo>
                <a:cubicBezTo>
                  <a:pt x="500" y="412"/>
                  <a:pt x="456" y="398"/>
                  <a:pt x="427" y="398"/>
                </a:cubicBezTo>
                <a:cubicBezTo>
                  <a:pt x="191" y="398"/>
                  <a:pt x="191" y="398"/>
                  <a:pt x="191" y="398"/>
                </a:cubicBezTo>
                <a:cubicBezTo>
                  <a:pt x="162" y="398"/>
                  <a:pt x="118" y="412"/>
                  <a:pt x="118" y="456"/>
                </a:cubicBezTo>
                <a:cubicBezTo>
                  <a:pt x="73" y="456"/>
                  <a:pt x="73" y="456"/>
                  <a:pt x="73" y="456"/>
                </a:cubicBezTo>
                <a:cubicBezTo>
                  <a:pt x="59" y="456"/>
                  <a:pt x="29" y="427"/>
                  <a:pt x="29" y="412"/>
                </a:cubicBezTo>
                <a:cubicBezTo>
                  <a:pt x="29" y="368"/>
                  <a:pt x="29" y="368"/>
                  <a:pt x="29" y="368"/>
                </a:cubicBezTo>
                <a:cubicBezTo>
                  <a:pt x="29" y="353"/>
                  <a:pt x="59" y="339"/>
                  <a:pt x="73" y="339"/>
                </a:cubicBezTo>
                <a:cubicBezTo>
                  <a:pt x="544" y="339"/>
                  <a:pt x="544" y="339"/>
                  <a:pt x="544" y="339"/>
                </a:cubicBezTo>
                <a:cubicBezTo>
                  <a:pt x="559" y="339"/>
                  <a:pt x="589" y="353"/>
                  <a:pt x="589" y="368"/>
                </a:cubicBezTo>
                <a:lnTo>
                  <a:pt x="589" y="412"/>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72" name="稻壳儿小白白(http://dwz.cn/Wu2UP)"/>
          <p:cNvSpPr/>
          <p:nvPr/>
        </p:nvSpPr>
        <p:spPr>
          <a:xfrm>
            <a:off x="10745640" y="1874880"/>
            <a:ext cx="474840" cy="511200"/>
          </a:xfrm>
          <a:custGeom>
            <a:avLst/>
            <a:gdLst/>
            <a:ahLst/>
            <a:rect l="l" t="t" r="r" b="b"/>
            <a:pathLst>
              <a:path w="589" h="634">
                <a:moveTo>
                  <a:pt x="456" y="353"/>
                </a:moveTo>
                <a:lnTo>
                  <a:pt x="456" y="353"/>
                </a:lnTo>
                <a:cubicBezTo>
                  <a:pt x="485" y="353"/>
                  <a:pt x="515" y="324"/>
                  <a:pt x="515" y="294"/>
                </a:cubicBezTo>
                <a:cubicBezTo>
                  <a:pt x="515" y="265"/>
                  <a:pt x="485" y="236"/>
                  <a:pt x="456" y="236"/>
                </a:cubicBezTo>
                <a:cubicBezTo>
                  <a:pt x="412" y="236"/>
                  <a:pt x="397" y="265"/>
                  <a:pt x="397" y="294"/>
                </a:cubicBezTo>
                <a:cubicBezTo>
                  <a:pt x="397" y="324"/>
                  <a:pt x="412" y="353"/>
                  <a:pt x="456" y="353"/>
                </a:cubicBezTo>
                <a:close/>
                <a:moveTo>
                  <a:pt x="426" y="280"/>
                </a:moveTo>
                <a:lnTo>
                  <a:pt x="426" y="280"/>
                </a:lnTo>
                <a:cubicBezTo>
                  <a:pt x="471" y="280"/>
                  <a:pt x="471" y="280"/>
                  <a:pt x="471" y="280"/>
                </a:cubicBezTo>
                <a:cubicBezTo>
                  <a:pt x="471" y="309"/>
                  <a:pt x="471" y="309"/>
                  <a:pt x="471" y="309"/>
                </a:cubicBezTo>
                <a:cubicBezTo>
                  <a:pt x="426" y="309"/>
                  <a:pt x="426" y="309"/>
                  <a:pt x="426" y="309"/>
                </a:cubicBezTo>
                <a:lnTo>
                  <a:pt x="426" y="280"/>
                </a:lnTo>
                <a:close/>
                <a:moveTo>
                  <a:pt x="456" y="515"/>
                </a:moveTo>
                <a:lnTo>
                  <a:pt x="456" y="515"/>
                </a:lnTo>
                <a:cubicBezTo>
                  <a:pt x="485" y="515"/>
                  <a:pt x="515" y="486"/>
                  <a:pt x="515" y="456"/>
                </a:cubicBezTo>
                <a:cubicBezTo>
                  <a:pt x="515" y="412"/>
                  <a:pt x="485" y="398"/>
                  <a:pt x="456" y="398"/>
                </a:cubicBezTo>
                <a:cubicBezTo>
                  <a:pt x="412" y="398"/>
                  <a:pt x="397" y="412"/>
                  <a:pt x="397" y="456"/>
                </a:cubicBezTo>
                <a:cubicBezTo>
                  <a:pt x="397" y="486"/>
                  <a:pt x="412" y="515"/>
                  <a:pt x="456" y="515"/>
                </a:cubicBezTo>
                <a:close/>
                <a:moveTo>
                  <a:pt x="426" y="427"/>
                </a:moveTo>
                <a:lnTo>
                  <a:pt x="426" y="427"/>
                </a:lnTo>
                <a:cubicBezTo>
                  <a:pt x="471" y="427"/>
                  <a:pt x="471" y="427"/>
                  <a:pt x="471" y="427"/>
                </a:cubicBezTo>
                <a:cubicBezTo>
                  <a:pt x="471" y="471"/>
                  <a:pt x="471" y="471"/>
                  <a:pt x="471" y="471"/>
                </a:cubicBezTo>
                <a:cubicBezTo>
                  <a:pt x="426" y="471"/>
                  <a:pt x="426" y="471"/>
                  <a:pt x="426" y="471"/>
                </a:cubicBezTo>
                <a:lnTo>
                  <a:pt x="426" y="427"/>
                </a:lnTo>
                <a:close/>
                <a:moveTo>
                  <a:pt x="294" y="515"/>
                </a:moveTo>
                <a:lnTo>
                  <a:pt x="294" y="515"/>
                </a:lnTo>
                <a:cubicBezTo>
                  <a:pt x="324" y="515"/>
                  <a:pt x="353" y="486"/>
                  <a:pt x="353" y="456"/>
                </a:cubicBezTo>
                <a:cubicBezTo>
                  <a:pt x="353" y="412"/>
                  <a:pt x="324" y="398"/>
                  <a:pt x="294" y="398"/>
                </a:cubicBezTo>
                <a:cubicBezTo>
                  <a:pt x="265" y="398"/>
                  <a:pt x="235" y="412"/>
                  <a:pt x="235" y="456"/>
                </a:cubicBezTo>
                <a:cubicBezTo>
                  <a:pt x="235" y="486"/>
                  <a:pt x="265" y="515"/>
                  <a:pt x="294" y="515"/>
                </a:cubicBezTo>
                <a:close/>
                <a:moveTo>
                  <a:pt x="279" y="427"/>
                </a:moveTo>
                <a:lnTo>
                  <a:pt x="279" y="427"/>
                </a:lnTo>
                <a:cubicBezTo>
                  <a:pt x="309" y="427"/>
                  <a:pt x="309" y="427"/>
                  <a:pt x="309" y="427"/>
                </a:cubicBezTo>
                <a:cubicBezTo>
                  <a:pt x="309" y="471"/>
                  <a:pt x="309" y="471"/>
                  <a:pt x="309" y="471"/>
                </a:cubicBezTo>
                <a:cubicBezTo>
                  <a:pt x="279" y="471"/>
                  <a:pt x="279" y="471"/>
                  <a:pt x="279" y="471"/>
                </a:cubicBezTo>
                <a:lnTo>
                  <a:pt x="279" y="427"/>
                </a:lnTo>
                <a:close/>
                <a:moveTo>
                  <a:pt x="515" y="0"/>
                </a:moveTo>
                <a:lnTo>
                  <a:pt x="515" y="0"/>
                </a:lnTo>
                <a:cubicBezTo>
                  <a:pt x="73" y="0"/>
                  <a:pt x="73" y="0"/>
                  <a:pt x="73" y="0"/>
                </a:cubicBezTo>
                <a:cubicBezTo>
                  <a:pt x="29" y="0"/>
                  <a:pt x="0" y="30"/>
                  <a:pt x="0" y="73"/>
                </a:cubicBezTo>
                <a:cubicBezTo>
                  <a:pt x="0" y="545"/>
                  <a:pt x="0" y="545"/>
                  <a:pt x="0" y="545"/>
                </a:cubicBezTo>
                <a:cubicBezTo>
                  <a:pt x="0" y="589"/>
                  <a:pt x="29" y="633"/>
                  <a:pt x="73" y="633"/>
                </a:cubicBezTo>
                <a:cubicBezTo>
                  <a:pt x="515" y="633"/>
                  <a:pt x="515" y="633"/>
                  <a:pt x="515" y="633"/>
                </a:cubicBezTo>
                <a:cubicBezTo>
                  <a:pt x="559" y="633"/>
                  <a:pt x="588" y="589"/>
                  <a:pt x="588" y="545"/>
                </a:cubicBezTo>
                <a:cubicBezTo>
                  <a:pt x="588" y="73"/>
                  <a:pt x="588" y="73"/>
                  <a:pt x="588" y="73"/>
                </a:cubicBezTo>
                <a:cubicBezTo>
                  <a:pt x="588" y="30"/>
                  <a:pt x="559" y="0"/>
                  <a:pt x="515" y="0"/>
                </a:cubicBezTo>
                <a:close/>
                <a:moveTo>
                  <a:pt x="544" y="545"/>
                </a:moveTo>
                <a:lnTo>
                  <a:pt x="544" y="545"/>
                </a:lnTo>
                <a:cubicBezTo>
                  <a:pt x="544" y="574"/>
                  <a:pt x="530" y="589"/>
                  <a:pt x="515" y="589"/>
                </a:cubicBezTo>
                <a:cubicBezTo>
                  <a:pt x="73" y="589"/>
                  <a:pt x="73" y="589"/>
                  <a:pt x="73" y="589"/>
                </a:cubicBezTo>
                <a:cubicBezTo>
                  <a:pt x="59" y="589"/>
                  <a:pt x="44" y="574"/>
                  <a:pt x="44" y="545"/>
                </a:cubicBezTo>
                <a:cubicBezTo>
                  <a:pt x="44" y="162"/>
                  <a:pt x="44" y="162"/>
                  <a:pt x="44" y="162"/>
                </a:cubicBezTo>
                <a:cubicBezTo>
                  <a:pt x="544" y="162"/>
                  <a:pt x="544" y="162"/>
                  <a:pt x="544" y="162"/>
                </a:cubicBezTo>
                <a:lnTo>
                  <a:pt x="544" y="545"/>
                </a:lnTo>
                <a:close/>
                <a:moveTo>
                  <a:pt x="544" y="118"/>
                </a:moveTo>
                <a:lnTo>
                  <a:pt x="544" y="118"/>
                </a:lnTo>
                <a:cubicBezTo>
                  <a:pt x="44" y="118"/>
                  <a:pt x="44" y="118"/>
                  <a:pt x="44" y="118"/>
                </a:cubicBezTo>
                <a:cubicBezTo>
                  <a:pt x="44" y="73"/>
                  <a:pt x="44" y="73"/>
                  <a:pt x="44" y="73"/>
                </a:cubicBezTo>
                <a:cubicBezTo>
                  <a:pt x="44" y="59"/>
                  <a:pt x="59" y="44"/>
                  <a:pt x="73" y="44"/>
                </a:cubicBezTo>
                <a:cubicBezTo>
                  <a:pt x="515" y="44"/>
                  <a:pt x="515" y="44"/>
                  <a:pt x="515" y="44"/>
                </a:cubicBezTo>
                <a:cubicBezTo>
                  <a:pt x="530" y="44"/>
                  <a:pt x="544" y="59"/>
                  <a:pt x="544" y="73"/>
                </a:cubicBezTo>
                <a:lnTo>
                  <a:pt x="544" y="118"/>
                </a:lnTo>
                <a:close/>
                <a:moveTo>
                  <a:pt x="294" y="353"/>
                </a:moveTo>
                <a:lnTo>
                  <a:pt x="294" y="353"/>
                </a:lnTo>
                <a:cubicBezTo>
                  <a:pt x="324" y="353"/>
                  <a:pt x="353" y="324"/>
                  <a:pt x="353" y="294"/>
                </a:cubicBezTo>
                <a:cubicBezTo>
                  <a:pt x="353" y="265"/>
                  <a:pt x="324" y="236"/>
                  <a:pt x="294" y="236"/>
                </a:cubicBezTo>
                <a:cubicBezTo>
                  <a:pt x="265" y="236"/>
                  <a:pt x="235" y="265"/>
                  <a:pt x="235" y="294"/>
                </a:cubicBezTo>
                <a:cubicBezTo>
                  <a:pt x="235" y="324"/>
                  <a:pt x="265" y="353"/>
                  <a:pt x="294" y="353"/>
                </a:cubicBezTo>
                <a:close/>
                <a:moveTo>
                  <a:pt x="279" y="280"/>
                </a:moveTo>
                <a:lnTo>
                  <a:pt x="279" y="280"/>
                </a:lnTo>
                <a:cubicBezTo>
                  <a:pt x="309" y="280"/>
                  <a:pt x="309" y="280"/>
                  <a:pt x="309" y="280"/>
                </a:cubicBezTo>
                <a:cubicBezTo>
                  <a:pt x="309" y="309"/>
                  <a:pt x="309" y="309"/>
                  <a:pt x="309" y="309"/>
                </a:cubicBezTo>
                <a:cubicBezTo>
                  <a:pt x="279" y="309"/>
                  <a:pt x="279" y="309"/>
                  <a:pt x="279" y="309"/>
                </a:cubicBezTo>
                <a:lnTo>
                  <a:pt x="279" y="280"/>
                </a:lnTo>
                <a:close/>
                <a:moveTo>
                  <a:pt x="132" y="515"/>
                </a:moveTo>
                <a:lnTo>
                  <a:pt x="132" y="515"/>
                </a:lnTo>
                <a:cubicBezTo>
                  <a:pt x="176" y="515"/>
                  <a:pt x="191" y="486"/>
                  <a:pt x="191" y="456"/>
                </a:cubicBezTo>
                <a:cubicBezTo>
                  <a:pt x="191" y="412"/>
                  <a:pt x="176" y="398"/>
                  <a:pt x="132" y="398"/>
                </a:cubicBezTo>
                <a:cubicBezTo>
                  <a:pt x="103" y="398"/>
                  <a:pt x="73" y="412"/>
                  <a:pt x="73" y="456"/>
                </a:cubicBezTo>
                <a:cubicBezTo>
                  <a:pt x="73" y="486"/>
                  <a:pt x="103" y="515"/>
                  <a:pt x="132" y="515"/>
                </a:cubicBezTo>
                <a:close/>
                <a:moveTo>
                  <a:pt x="117" y="427"/>
                </a:moveTo>
                <a:lnTo>
                  <a:pt x="117" y="427"/>
                </a:lnTo>
                <a:cubicBezTo>
                  <a:pt x="162" y="427"/>
                  <a:pt x="162" y="427"/>
                  <a:pt x="162" y="427"/>
                </a:cubicBezTo>
                <a:cubicBezTo>
                  <a:pt x="162" y="471"/>
                  <a:pt x="162" y="471"/>
                  <a:pt x="162" y="471"/>
                </a:cubicBezTo>
                <a:cubicBezTo>
                  <a:pt x="117" y="471"/>
                  <a:pt x="117" y="471"/>
                  <a:pt x="117" y="471"/>
                </a:cubicBezTo>
                <a:lnTo>
                  <a:pt x="117" y="427"/>
                </a:lnTo>
                <a:close/>
                <a:moveTo>
                  <a:pt x="132" y="353"/>
                </a:moveTo>
                <a:lnTo>
                  <a:pt x="132" y="353"/>
                </a:lnTo>
                <a:cubicBezTo>
                  <a:pt x="176" y="353"/>
                  <a:pt x="191" y="324"/>
                  <a:pt x="191" y="294"/>
                </a:cubicBezTo>
                <a:cubicBezTo>
                  <a:pt x="191" y="265"/>
                  <a:pt x="176" y="236"/>
                  <a:pt x="132" y="236"/>
                </a:cubicBezTo>
                <a:cubicBezTo>
                  <a:pt x="103" y="236"/>
                  <a:pt x="73" y="265"/>
                  <a:pt x="73" y="294"/>
                </a:cubicBezTo>
                <a:cubicBezTo>
                  <a:pt x="73" y="324"/>
                  <a:pt x="103" y="353"/>
                  <a:pt x="132" y="353"/>
                </a:cubicBezTo>
                <a:close/>
                <a:moveTo>
                  <a:pt x="117" y="280"/>
                </a:moveTo>
                <a:lnTo>
                  <a:pt x="117" y="280"/>
                </a:lnTo>
                <a:cubicBezTo>
                  <a:pt x="162" y="280"/>
                  <a:pt x="162" y="280"/>
                  <a:pt x="162" y="280"/>
                </a:cubicBezTo>
                <a:cubicBezTo>
                  <a:pt x="162" y="309"/>
                  <a:pt x="162" y="309"/>
                  <a:pt x="162" y="309"/>
                </a:cubicBezTo>
                <a:cubicBezTo>
                  <a:pt x="117" y="309"/>
                  <a:pt x="117" y="309"/>
                  <a:pt x="117" y="309"/>
                </a:cubicBezTo>
                <a:lnTo>
                  <a:pt x="117" y="280"/>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73" name="稻壳儿小白白(http://dwz.cn/Wu2UP)"/>
          <p:cNvSpPr/>
          <p:nvPr/>
        </p:nvSpPr>
        <p:spPr>
          <a:xfrm>
            <a:off x="9906120" y="1874880"/>
            <a:ext cx="509400" cy="51120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74" name="稻壳儿小白白(http://dwz.cn/Wu2UP)"/>
          <p:cNvSpPr/>
          <p:nvPr/>
        </p:nvSpPr>
        <p:spPr>
          <a:xfrm>
            <a:off x="9086760" y="1874880"/>
            <a:ext cx="509760" cy="511200"/>
          </a:xfrm>
          <a:custGeom>
            <a:avLst/>
            <a:gdLst/>
            <a:ahLst/>
            <a:rect l="l" t="t" r="r" b="b"/>
            <a:pathLst>
              <a:path w="634" h="634">
                <a:moveTo>
                  <a:pt x="309" y="398"/>
                </a:moveTo>
                <a:lnTo>
                  <a:pt x="309" y="398"/>
                </a:lnTo>
                <a:cubicBezTo>
                  <a:pt x="324" y="398"/>
                  <a:pt x="338" y="383"/>
                  <a:pt x="338" y="368"/>
                </a:cubicBezTo>
                <a:cubicBezTo>
                  <a:pt x="338" y="132"/>
                  <a:pt x="338" y="132"/>
                  <a:pt x="338" y="132"/>
                </a:cubicBezTo>
                <a:cubicBezTo>
                  <a:pt x="338" y="132"/>
                  <a:pt x="324" y="118"/>
                  <a:pt x="309" y="118"/>
                </a:cubicBezTo>
                <a:lnTo>
                  <a:pt x="294" y="132"/>
                </a:lnTo>
                <a:cubicBezTo>
                  <a:pt x="294" y="368"/>
                  <a:pt x="294" y="368"/>
                  <a:pt x="294" y="368"/>
                </a:cubicBezTo>
                <a:cubicBezTo>
                  <a:pt x="294" y="383"/>
                  <a:pt x="309" y="398"/>
                  <a:pt x="309" y="398"/>
                </a:cubicBezTo>
                <a:close/>
                <a:moveTo>
                  <a:pt x="426" y="398"/>
                </a:moveTo>
                <a:lnTo>
                  <a:pt x="426" y="398"/>
                </a:lnTo>
                <a:cubicBezTo>
                  <a:pt x="442" y="398"/>
                  <a:pt x="456" y="383"/>
                  <a:pt x="456" y="368"/>
                </a:cubicBezTo>
                <a:cubicBezTo>
                  <a:pt x="456" y="191"/>
                  <a:pt x="456" y="191"/>
                  <a:pt x="456" y="191"/>
                </a:cubicBezTo>
                <a:cubicBezTo>
                  <a:pt x="456" y="191"/>
                  <a:pt x="442" y="177"/>
                  <a:pt x="426" y="177"/>
                </a:cubicBezTo>
                <a:lnTo>
                  <a:pt x="412" y="191"/>
                </a:lnTo>
                <a:cubicBezTo>
                  <a:pt x="412" y="368"/>
                  <a:pt x="412" y="368"/>
                  <a:pt x="412" y="368"/>
                </a:cubicBezTo>
                <a:cubicBezTo>
                  <a:pt x="412" y="383"/>
                  <a:pt x="426" y="398"/>
                  <a:pt x="426" y="398"/>
                </a:cubicBezTo>
                <a:close/>
                <a:moveTo>
                  <a:pt x="191" y="398"/>
                </a:moveTo>
                <a:lnTo>
                  <a:pt x="191" y="398"/>
                </a:lnTo>
                <a:cubicBezTo>
                  <a:pt x="206" y="398"/>
                  <a:pt x="221" y="383"/>
                  <a:pt x="221" y="368"/>
                </a:cubicBezTo>
                <a:cubicBezTo>
                  <a:pt x="221" y="294"/>
                  <a:pt x="221" y="294"/>
                  <a:pt x="221" y="294"/>
                </a:cubicBezTo>
                <a:cubicBezTo>
                  <a:pt x="221" y="280"/>
                  <a:pt x="206" y="280"/>
                  <a:pt x="191" y="280"/>
                </a:cubicBezTo>
                <a:cubicBezTo>
                  <a:pt x="191" y="280"/>
                  <a:pt x="176" y="280"/>
                  <a:pt x="176" y="294"/>
                </a:cubicBezTo>
                <a:cubicBezTo>
                  <a:pt x="176" y="368"/>
                  <a:pt x="176" y="368"/>
                  <a:pt x="176" y="368"/>
                </a:cubicBezTo>
                <a:cubicBezTo>
                  <a:pt x="176" y="383"/>
                  <a:pt x="191" y="398"/>
                  <a:pt x="191" y="398"/>
                </a:cubicBezTo>
                <a:close/>
                <a:moveTo>
                  <a:pt x="0" y="0"/>
                </a:moveTo>
                <a:lnTo>
                  <a:pt x="0" y="0"/>
                </a:lnTo>
                <a:cubicBezTo>
                  <a:pt x="0" y="44"/>
                  <a:pt x="0" y="44"/>
                  <a:pt x="0" y="44"/>
                </a:cubicBezTo>
                <a:cubicBezTo>
                  <a:pt x="44" y="44"/>
                  <a:pt x="44" y="44"/>
                  <a:pt x="44" y="44"/>
                </a:cubicBezTo>
                <a:cubicBezTo>
                  <a:pt x="44" y="73"/>
                  <a:pt x="44" y="412"/>
                  <a:pt x="44" y="412"/>
                </a:cubicBezTo>
                <a:cubicBezTo>
                  <a:pt x="44" y="456"/>
                  <a:pt x="73" y="486"/>
                  <a:pt x="117" y="486"/>
                </a:cubicBezTo>
                <a:cubicBezTo>
                  <a:pt x="235" y="486"/>
                  <a:pt x="235" y="486"/>
                  <a:pt x="235" y="486"/>
                </a:cubicBezTo>
                <a:cubicBezTo>
                  <a:pt x="162" y="633"/>
                  <a:pt x="162" y="633"/>
                  <a:pt x="162" y="633"/>
                </a:cubicBezTo>
                <a:cubicBezTo>
                  <a:pt x="221" y="633"/>
                  <a:pt x="221" y="633"/>
                  <a:pt x="221" y="633"/>
                </a:cubicBezTo>
                <a:cubicBezTo>
                  <a:pt x="294" y="486"/>
                  <a:pt x="294" y="486"/>
                  <a:pt x="294" y="486"/>
                </a:cubicBezTo>
                <a:cubicBezTo>
                  <a:pt x="338" y="486"/>
                  <a:pt x="338" y="486"/>
                  <a:pt x="338" y="486"/>
                </a:cubicBezTo>
                <a:cubicBezTo>
                  <a:pt x="412" y="633"/>
                  <a:pt x="412" y="633"/>
                  <a:pt x="412" y="633"/>
                </a:cubicBezTo>
                <a:cubicBezTo>
                  <a:pt x="471" y="633"/>
                  <a:pt x="471" y="633"/>
                  <a:pt x="471" y="633"/>
                </a:cubicBezTo>
                <a:cubicBezTo>
                  <a:pt x="397" y="486"/>
                  <a:pt x="397" y="486"/>
                  <a:pt x="397" y="486"/>
                </a:cubicBezTo>
                <a:cubicBezTo>
                  <a:pt x="515" y="486"/>
                  <a:pt x="515" y="486"/>
                  <a:pt x="515" y="486"/>
                </a:cubicBezTo>
                <a:cubicBezTo>
                  <a:pt x="559" y="486"/>
                  <a:pt x="588" y="456"/>
                  <a:pt x="588" y="412"/>
                </a:cubicBezTo>
                <a:cubicBezTo>
                  <a:pt x="588" y="412"/>
                  <a:pt x="588" y="73"/>
                  <a:pt x="588" y="44"/>
                </a:cubicBezTo>
                <a:cubicBezTo>
                  <a:pt x="633" y="44"/>
                  <a:pt x="633" y="44"/>
                  <a:pt x="633" y="44"/>
                </a:cubicBezTo>
                <a:cubicBezTo>
                  <a:pt x="633" y="0"/>
                  <a:pt x="633" y="0"/>
                  <a:pt x="633" y="0"/>
                </a:cubicBezTo>
                <a:lnTo>
                  <a:pt x="0" y="0"/>
                </a:lnTo>
                <a:close/>
                <a:moveTo>
                  <a:pt x="544" y="412"/>
                </a:moveTo>
                <a:lnTo>
                  <a:pt x="544" y="412"/>
                </a:lnTo>
                <a:cubicBezTo>
                  <a:pt x="544" y="442"/>
                  <a:pt x="530" y="456"/>
                  <a:pt x="515" y="456"/>
                </a:cubicBezTo>
                <a:cubicBezTo>
                  <a:pt x="117" y="456"/>
                  <a:pt x="117" y="456"/>
                  <a:pt x="117" y="456"/>
                </a:cubicBezTo>
                <a:cubicBezTo>
                  <a:pt x="88" y="456"/>
                  <a:pt x="73" y="442"/>
                  <a:pt x="73" y="412"/>
                </a:cubicBezTo>
                <a:cubicBezTo>
                  <a:pt x="73" y="412"/>
                  <a:pt x="73" y="59"/>
                  <a:pt x="73" y="44"/>
                </a:cubicBezTo>
                <a:cubicBezTo>
                  <a:pt x="544" y="44"/>
                  <a:pt x="544" y="44"/>
                  <a:pt x="544" y="44"/>
                </a:cubicBezTo>
                <a:cubicBezTo>
                  <a:pt x="544" y="73"/>
                  <a:pt x="544" y="412"/>
                  <a:pt x="544" y="412"/>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75" name="稻壳儿小白白(http://dwz.cn/Wu2UP)"/>
          <p:cNvSpPr/>
          <p:nvPr/>
        </p:nvSpPr>
        <p:spPr>
          <a:xfrm>
            <a:off x="8344080" y="1874880"/>
            <a:ext cx="353880" cy="474480"/>
          </a:xfrm>
          <a:custGeom>
            <a:avLst/>
            <a:gdLst/>
            <a:ahLst/>
            <a:rect l="l" t="t" r="r" b="b"/>
            <a:pathLst>
              <a:path w="443" h="590">
                <a:moveTo>
                  <a:pt x="353" y="0"/>
                </a:moveTo>
                <a:lnTo>
                  <a:pt x="353" y="0"/>
                </a:lnTo>
                <a:cubicBezTo>
                  <a:pt x="89" y="0"/>
                  <a:pt x="89" y="0"/>
                  <a:pt x="89" y="0"/>
                </a:cubicBezTo>
                <a:cubicBezTo>
                  <a:pt x="44" y="0"/>
                  <a:pt x="0" y="30"/>
                  <a:pt x="0" y="73"/>
                </a:cubicBezTo>
                <a:cubicBezTo>
                  <a:pt x="0" y="515"/>
                  <a:pt x="0" y="515"/>
                  <a:pt x="0" y="515"/>
                </a:cubicBezTo>
                <a:cubicBezTo>
                  <a:pt x="0" y="560"/>
                  <a:pt x="44" y="589"/>
                  <a:pt x="89" y="589"/>
                </a:cubicBezTo>
                <a:cubicBezTo>
                  <a:pt x="221" y="456"/>
                  <a:pt x="221" y="456"/>
                  <a:pt x="221" y="456"/>
                </a:cubicBezTo>
                <a:cubicBezTo>
                  <a:pt x="353" y="589"/>
                  <a:pt x="353" y="589"/>
                  <a:pt x="353" y="589"/>
                </a:cubicBezTo>
                <a:cubicBezTo>
                  <a:pt x="398" y="589"/>
                  <a:pt x="442" y="560"/>
                  <a:pt x="442" y="515"/>
                </a:cubicBezTo>
                <a:cubicBezTo>
                  <a:pt x="442" y="73"/>
                  <a:pt x="442" y="73"/>
                  <a:pt x="442" y="73"/>
                </a:cubicBezTo>
                <a:cubicBezTo>
                  <a:pt x="442" y="30"/>
                  <a:pt x="398" y="0"/>
                  <a:pt x="353" y="0"/>
                </a:cubicBezTo>
                <a:close/>
                <a:moveTo>
                  <a:pt x="398" y="515"/>
                </a:moveTo>
                <a:lnTo>
                  <a:pt x="398" y="515"/>
                </a:lnTo>
                <a:cubicBezTo>
                  <a:pt x="398" y="530"/>
                  <a:pt x="383" y="545"/>
                  <a:pt x="353" y="545"/>
                </a:cubicBezTo>
                <a:cubicBezTo>
                  <a:pt x="221" y="412"/>
                  <a:pt x="221" y="412"/>
                  <a:pt x="221" y="412"/>
                </a:cubicBezTo>
                <a:cubicBezTo>
                  <a:pt x="89" y="545"/>
                  <a:pt x="89" y="545"/>
                  <a:pt x="89" y="545"/>
                </a:cubicBezTo>
                <a:cubicBezTo>
                  <a:pt x="59" y="545"/>
                  <a:pt x="44" y="530"/>
                  <a:pt x="44" y="515"/>
                </a:cubicBezTo>
                <a:cubicBezTo>
                  <a:pt x="44" y="73"/>
                  <a:pt x="44" y="73"/>
                  <a:pt x="44" y="73"/>
                </a:cubicBezTo>
                <a:cubicBezTo>
                  <a:pt x="44" y="59"/>
                  <a:pt x="59" y="44"/>
                  <a:pt x="89" y="44"/>
                </a:cubicBezTo>
                <a:cubicBezTo>
                  <a:pt x="353" y="44"/>
                  <a:pt x="353" y="44"/>
                  <a:pt x="353" y="44"/>
                </a:cubicBezTo>
                <a:cubicBezTo>
                  <a:pt x="383" y="44"/>
                  <a:pt x="398" y="59"/>
                  <a:pt x="398" y="73"/>
                </a:cubicBezTo>
                <a:lnTo>
                  <a:pt x="398" y="515"/>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76" name="稻壳儿小白白(http://dwz.cn/Wu2UP)"/>
          <p:cNvSpPr/>
          <p:nvPr/>
        </p:nvSpPr>
        <p:spPr>
          <a:xfrm>
            <a:off x="7443720" y="1874880"/>
            <a:ext cx="511200" cy="511200"/>
          </a:xfrm>
          <a:custGeom>
            <a:avLst/>
            <a:gdLst/>
            <a:ahLst/>
            <a:rect l="l" t="t" r="r" b="b"/>
            <a:pathLst>
              <a:path w="634" h="634">
                <a:moveTo>
                  <a:pt x="560" y="73"/>
                </a:moveTo>
                <a:lnTo>
                  <a:pt x="560" y="73"/>
                </a:lnTo>
                <a:cubicBezTo>
                  <a:pt x="280" y="73"/>
                  <a:pt x="280" y="73"/>
                  <a:pt x="280" y="73"/>
                </a:cubicBezTo>
                <a:cubicBezTo>
                  <a:pt x="280" y="30"/>
                  <a:pt x="251" y="0"/>
                  <a:pt x="207" y="0"/>
                </a:cubicBezTo>
                <a:cubicBezTo>
                  <a:pt x="89" y="0"/>
                  <a:pt x="89" y="0"/>
                  <a:pt x="89" y="0"/>
                </a:cubicBezTo>
                <a:cubicBezTo>
                  <a:pt x="45" y="0"/>
                  <a:pt x="0" y="30"/>
                  <a:pt x="0" y="73"/>
                </a:cubicBezTo>
                <a:cubicBezTo>
                  <a:pt x="0" y="545"/>
                  <a:pt x="0" y="545"/>
                  <a:pt x="0" y="545"/>
                </a:cubicBezTo>
                <a:cubicBezTo>
                  <a:pt x="0" y="589"/>
                  <a:pt x="45" y="633"/>
                  <a:pt x="89" y="633"/>
                </a:cubicBezTo>
                <a:cubicBezTo>
                  <a:pt x="560" y="633"/>
                  <a:pt x="560" y="633"/>
                  <a:pt x="560" y="633"/>
                </a:cubicBezTo>
                <a:cubicBezTo>
                  <a:pt x="604" y="633"/>
                  <a:pt x="633" y="589"/>
                  <a:pt x="633" y="545"/>
                </a:cubicBezTo>
                <a:cubicBezTo>
                  <a:pt x="633" y="162"/>
                  <a:pt x="633" y="162"/>
                  <a:pt x="633" y="162"/>
                </a:cubicBezTo>
                <a:cubicBezTo>
                  <a:pt x="633" y="118"/>
                  <a:pt x="604" y="73"/>
                  <a:pt x="560" y="73"/>
                </a:cubicBezTo>
                <a:close/>
                <a:moveTo>
                  <a:pt x="589" y="545"/>
                </a:moveTo>
                <a:lnTo>
                  <a:pt x="589" y="545"/>
                </a:lnTo>
                <a:cubicBezTo>
                  <a:pt x="589" y="574"/>
                  <a:pt x="575" y="589"/>
                  <a:pt x="560" y="589"/>
                </a:cubicBezTo>
                <a:cubicBezTo>
                  <a:pt x="89" y="589"/>
                  <a:pt x="89" y="589"/>
                  <a:pt x="89" y="589"/>
                </a:cubicBezTo>
                <a:cubicBezTo>
                  <a:pt x="59" y="589"/>
                  <a:pt x="45" y="574"/>
                  <a:pt x="45" y="545"/>
                </a:cubicBezTo>
                <a:cubicBezTo>
                  <a:pt x="45" y="236"/>
                  <a:pt x="45" y="236"/>
                  <a:pt x="45" y="236"/>
                </a:cubicBezTo>
                <a:cubicBezTo>
                  <a:pt x="589" y="236"/>
                  <a:pt x="589" y="236"/>
                  <a:pt x="589" y="236"/>
                </a:cubicBezTo>
                <a:lnTo>
                  <a:pt x="589" y="545"/>
                </a:lnTo>
                <a:close/>
                <a:moveTo>
                  <a:pt x="589" y="191"/>
                </a:moveTo>
                <a:lnTo>
                  <a:pt x="589" y="191"/>
                </a:lnTo>
                <a:cubicBezTo>
                  <a:pt x="45" y="191"/>
                  <a:pt x="45" y="191"/>
                  <a:pt x="45" y="191"/>
                </a:cubicBezTo>
                <a:cubicBezTo>
                  <a:pt x="45" y="73"/>
                  <a:pt x="45" y="73"/>
                  <a:pt x="45" y="73"/>
                </a:cubicBezTo>
                <a:cubicBezTo>
                  <a:pt x="45" y="59"/>
                  <a:pt x="59" y="44"/>
                  <a:pt x="89" y="44"/>
                </a:cubicBezTo>
                <a:cubicBezTo>
                  <a:pt x="207" y="44"/>
                  <a:pt x="207" y="44"/>
                  <a:pt x="207" y="44"/>
                </a:cubicBezTo>
                <a:cubicBezTo>
                  <a:pt x="221" y="44"/>
                  <a:pt x="236" y="59"/>
                  <a:pt x="236" y="73"/>
                </a:cubicBezTo>
                <a:cubicBezTo>
                  <a:pt x="236" y="118"/>
                  <a:pt x="236" y="118"/>
                  <a:pt x="236" y="118"/>
                </a:cubicBezTo>
                <a:cubicBezTo>
                  <a:pt x="560" y="118"/>
                  <a:pt x="560" y="118"/>
                  <a:pt x="560" y="118"/>
                </a:cubicBezTo>
                <a:cubicBezTo>
                  <a:pt x="575" y="118"/>
                  <a:pt x="589" y="132"/>
                  <a:pt x="589" y="162"/>
                </a:cubicBezTo>
                <a:lnTo>
                  <a:pt x="589" y="191"/>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77" name="稻壳儿小白白(http://dwz.cn/Wu2UP)"/>
          <p:cNvSpPr/>
          <p:nvPr/>
        </p:nvSpPr>
        <p:spPr>
          <a:xfrm>
            <a:off x="6640560" y="1874880"/>
            <a:ext cx="473040" cy="511200"/>
          </a:xfrm>
          <a:custGeom>
            <a:avLst/>
            <a:gdLst/>
            <a:ahLst/>
            <a:rect l="l" t="t" r="r" b="b"/>
            <a:pathLst>
              <a:path w="590" h="634">
                <a:moveTo>
                  <a:pt x="516" y="0"/>
                </a:moveTo>
                <a:lnTo>
                  <a:pt x="516" y="0"/>
                </a:lnTo>
                <a:cubicBezTo>
                  <a:pt x="89" y="0"/>
                  <a:pt x="89" y="0"/>
                  <a:pt x="89" y="0"/>
                </a:cubicBezTo>
                <a:cubicBezTo>
                  <a:pt x="44" y="0"/>
                  <a:pt x="0" y="30"/>
                  <a:pt x="0" y="73"/>
                </a:cubicBezTo>
                <a:cubicBezTo>
                  <a:pt x="0" y="545"/>
                  <a:pt x="0" y="545"/>
                  <a:pt x="0" y="545"/>
                </a:cubicBezTo>
                <a:cubicBezTo>
                  <a:pt x="0" y="589"/>
                  <a:pt x="44" y="633"/>
                  <a:pt x="89" y="633"/>
                </a:cubicBezTo>
                <a:cubicBezTo>
                  <a:pt x="516" y="633"/>
                  <a:pt x="516" y="633"/>
                  <a:pt x="516" y="633"/>
                </a:cubicBezTo>
                <a:cubicBezTo>
                  <a:pt x="560" y="633"/>
                  <a:pt x="589" y="589"/>
                  <a:pt x="589" y="545"/>
                </a:cubicBezTo>
                <a:cubicBezTo>
                  <a:pt x="589" y="73"/>
                  <a:pt x="589" y="73"/>
                  <a:pt x="589" y="73"/>
                </a:cubicBezTo>
                <a:cubicBezTo>
                  <a:pt x="589" y="30"/>
                  <a:pt x="560" y="0"/>
                  <a:pt x="516" y="0"/>
                </a:cubicBezTo>
                <a:close/>
                <a:moveTo>
                  <a:pt x="89" y="44"/>
                </a:moveTo>
                <a:lnTo>
                  <a:pt x="89" y="44"/>
                </a:lnTo>
                <a:cubicBezTo>
                  <a:pt x="516" y="44"/>
                  <a:pt x="516" y="44"/>
                  <a:pt x="516" y="44"/>
                </a:cubicBezTo>
                <a:cubicBezTo>
                  <a:pt x="530" y="44"/>
                  <a:pt x="530" y="44"/>
                  <a:pt x="530" y="44"/>
                </a:cubicBezTo>
                <a:cubicBezTo>
                  <a:pt x="457" y="118"/>
                  <a:pt x="457" y="118"/>
                  <a:pt x="457" y="118"/>
                </a:cubicBezTo>
                <a:cubicBezTo>
                  <a:pt x="148" y="118"/>
                  <a:pt x="148" y="118"/>
                  <a:pt x="148" y="118"/>
                </a:cubicBezTo>
                <a:cubicBezTo>
                  <a:pt x="59" y="44"/>
                  <a:pt x="59" y="44"/>
                  <a:pt x="59" y="44"/>
                </a:cubicBezTo>
                <a:cubicBezTo>
                  <a:pt x="74" y="44"/>
                  <a:pt x="74" y="44"/>
                  <a:pt x="89" y="44"/>
                </a:cubicBezTo>
                <a:close/>
                <a:moveTo>
                  <a:pt x="560" y="545"/>
                </a:moveTo>
                <a:lnTo>
                  <a:pt x="560" y="545"/>
                </a:lnTo>
                <a:cubicBezTo>
                  <a:pt x="560" y="574"/>
                  <a:pt x="530" y="589"/>
                  <a:pt x="516" y="589"/>
                </a:cubicBezTo>
                <a:cubicBezTo>
                  <a:pt x="89" y="589"/>
                  <a:pt x="89" y="589"/>
                  <a:pt x="89" y="589"/>
                </a:cubicBezTo>
                <a:cubicBezTo>
                  <a:pt x="59" y="589"/>
                  <a:pt x="44" y="574"/>
                  <a:pt x="44" y="545"/>
                </a:cubicBezTo>
                <a:cubicBezTo>
                  <a:pt x="44" y="89"/>
                  <a:pt x="44" y="89"/>
                  <a:pt x="44" y="89"/>
                </a:cubicBezTo>
                <a:cubicBezTo>
                  <a:pt x="118" y="162"/>
                  <a:pt x="118" y="162"/>
                  <a:pt x="118" y="162"/>
                </a:cubicBezTo>
                <a:cubicBezTo>
                  <a:pt x="471" y="162"/>
                  <a:pt x="471" y="162"/>
                  <a:pt x="471" y="162"/>
                </a:cubicBezTo>
                <a:cubicBezTo>
                  <a:pt x="560" y="89"/>
                  <a:pt x="560" y="89"/>
                  <a:pt x="560" y="89"/>
                </a:cubicBezTo>
                <a:lnTo>
                  <a:pt x="560" y="545"/>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78" name="稻壳儿小白白(http://dwz.cn/Wu2UP)"/>
          <p:cNvSpPr/>
          <p:nvPr/>
        </p:nvSpPr>
        <p:spPr>
          <a:xfrm>
            <a:off x="5824440" y="1911240"/>
            <a:ext cx="462240" cy="463680"/>
          </a:xfrm>
          <a:custGeom>
            <a:avLst/>
            <a:gdLst/>
            <a:ahLst/>
            <a:rect l="l" t="t" r="r" b="b"/>
            <a:pathLst>
              <a:path w="575" h="576">
                <a:moveTo>
                  <a:pt x="544" y="221"/>
                </a:moveTo>
                <a:lnTo>
                  <a:pt x="544" y="221"/>
                </a:lnTo>
                <a:cubicBezTo>
                  <a:pt x="265" y="486"/>
                  <a:pt x="265" y="486"/>
                  <a:pt x="265" y="486"/>
                </a:cubicBezTo>
                <a:cubicBezTo>
                  <a:pt x="220" y="530"/>
                  <a:pt x="147" y="530"/>
                  <a:pt x="88" y="486"/>
                </a:cubicBezTo>
                <a:cubicBezTo>
                  <a:pt x="44" y="442"/>
                  <a:pt x="44" y="368"/>
                  <a:pt x="88" y="324"/>
                </a:cubicBezTo>
                <a:cubicBezTo>
                  <a:pt x="338" y="74"/>
                  <a:pt x="338" y="74"/>
                  <a:pt x="338" y="74"/>
                </a:cubicBezTo>
                <a:cubicBezTo>
                  <a:pt x="383" y="45"/>
                  <a:pt x="426" y="45"/>
                  <a:pt x="456" y="74"/>
                </a:cubicBezTo>
                <a:cubicBezTo>
                  <a:pt x="485" y="103"/>
                  <a:pt x="485" y="162"/>
                  <a:pt x="456" y="192"/>
                </a:cubicBezTo>
                <a:cubicBezTo>
                  <a:pt x="206" y="442"/>
                  <a:pt x="206" y="442"/>
                  <a:pt x="206" y="442"/>
                </a:cubicBezTo>
                <a:cubicBezTo>
                  <a:pt x="191" y="457"/>
                  <a:pt x="162" y="457"/>
                  <a:pt x="147" y="442"/>
                </a:cubicBezTo>
                <a:cubicBezTo>
                  <a:pt x="132" y="427"/>
                  <a:pt x="132" y="398"/>
                  <a:pt x="147" y="383"/>
                </a:cubicBezTo>
                <a:cubicBezTo>
                  <a:pt x="367" y="162"/>
                  <a:pt x="367" y="162"/>
                  <a:pt x="367" y="162"/>
                </a:cubicBezTo>
                <a:cubicBezTo>
                  <a:pt x="338" y="133"/>
                  <a:pt x="338" y="133"/>
                  <a:pt x="338" y="133"/>
                </a:cubicBezTo>
                <a:cubicBezTo>
                  <a:pt x="117" y="354"/>
                  <a:pt x="117" y="354"/>
                  <a:pt x="117" y="354"/>
                </a:cubicBezTo>
                <a:cubicBezTo>
                  <a:pt x="88" y="383"/>
                  <a:pt x="88" y="427"/>
                  <a:pt x="117" y="457"/>
                </a:cubicBezTo>
                <a:cubicBezTo>
                  <a:pt x="147" y="501"/>
                  <a:pt x="206" y="501"/>
                  <a:pt x="235" y="457"/>
                </a:cubicBezTo>
                <a:cubicBezTo>
                  <a:pt x="485" y="221"/>
                  <a:pt x="485" y="221"/>
                  <a:pt x="485" y="221"/>
                </a:cubicBezTo>
                <a:cubicBezTo>
                  <a:pt x="530" y="162"/>
                  <a:pt x="530" y="88"/>
                  <a:pt x="485" y="45"/>
                </a:cubicBezTo>
                <a:cubicBezTo>
                  <a:pt x="441" y="0"/>
                  <a:pt x="367" y="0"/>
                  <a:pt x="324" y="45"/>
                </a:cubicBezTo>
                <a:cubicBezTo>
                  <a:pt x="58" y="309"/>
                  <a:pt x="58" y="309"/>
                  <a:pt x="58" y="309"/>
                </a:cubicBezTo>
                <a:cubicBezTo>
                  <a:pt x="0" y="368"/>
                  <a:pt x="14" y="457"/>
                  <a:pt x="58" y="516"/>
                </a:cubicBezTo>
                <a:cubicBezTo>
                  <a:pt x="117" y="575"/>
                  <a:pt x="206" y="575"/>
                  <a:pt x="279" y="530"/>
                </a:cubicBezTo>
                <a:cubicBezTo>
                  <a:pt x="574" y="236"/>
                  <a:pt x="574" y="236"/>
                  <a:pt x="574" y="236"/>
                </a:cubicBezTo>
                <a:lnTo>
                  <a:pt x="544" y="221"/>
                </a:lnTo>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79" name="稻壳儿小白白(http://dwz.cn/Wu2UP)"/>
          <p:cNvSpPr/>
          <p:nvPr/>
        </p:nvSpPr>
        <p:spPr>
          <a:xfrm>
            <a:off x="5116680" y="1874880"/>
            <a:ext cx="249120" cy="511200"/>
          </a:xfrm>
          <a:custGeom>
            <a:avLst/>
            <a:gdLst/>
            <a:ahLst/>
            <a:rect l="l" t="t" r="r" b="b"/>
            <a:pathLst>
              <a:path w="310" h="634">
                <a:moveTo>
                  <a:pt x="280" y="73"/>
                </a:moveTo>
                <a:lnTo>
                  <a:pt x="280" y="73"/>
                </a:lnTo>
                <a:cubicBezTo>
                  <a:pt x="280" y="471"/>
                  <a:pt x="280" y="471"/>
                  <a:pt x="280" y="471"/>
                </a:cubicBezTo>
                <a:cubicBezTo>
                  <a:pt x="280" y="530"/>
                  <a:pt x="221" y="589"/>
                  <a:pt x="162" y="589"/>
                </a:cubicBezTo>
                <a:cubicBezTo>
                  <a:pt x="89" y="589"/>
                  <a:pt x="45" y="530"/>
                  <a:pt x="45" y="471"/>
                </a:cubicBezTo>
                <a:cubicBezTo>
                  <a:pt x="45" y="118"/>
                  <a:pt x="45" y="118"/>
                  <a:pt x="45" y="118"/>
                </a:cubicBezTo>
                <a:cubicBezTo>
                  <a:pt x="45" y="73"/>
                  <a:pt x="74" y="44"/>
                  <a:pt x="118" y="44"/>
                </a:cubicBezTo>
                <a:cubicBezTo>
                  <a:pt x="162" y="44"/>
                  <a:pt x="192" y="73"/>
                  <a:pt x="192" y="118"/>
                </a:cubicBezTo>
                <a:cubicBezTo>
                  <a:pt x="192" y="471"/>
                  <a:pt x="192" y="471"/>
                  <a:pt x="192" y="471"/>
                </a:cubicBezTo>
                <a:cubicBezTo>
                  <a:pt x="192" y="486"/>
                  <a:pt x="177" y="515"/>
                  <a:pt x="162" y="515"/>
                </a:cubicBezTo>
                <a:cubicBezTo>
                  <a:pt x="133" y="515"/>
                  <a:pt x="118" y="486"/>
                  <a:pt x="118" y="471"/>
                </a:cubicBezTo>
                <a:cubicBezTo>
                  <a:pt x="118" y="162"/>
                  <a:pt x="118" y="162"/>
                  <a:pt x="118" y="162"/>
                </a:cubicBezTo>
                <a:cubicBezTo>
                  <a:pt x="74" y="162"/>
                  <a:pt x="74" y="162"/>
                  <a:pt x="74" y="162"/>
                </a:cubicBezTo>
                <a:cubicBezTo>
                  <a:pt x="74" y="471"/>
                  <a:pt x="74" y="471"/>
                  <a:pt x="74" y="471"/>
                </a:cubicBezTo>
                <a:cubicBezTo>
                  <a:pt x="74" y="515"/>
                  <a:pt x="118" y="545"/>
                  <a:pt x="162" y="545"/>
                </a:cubicBezTo>
                <a:cubicBezTo>
                  <a:pt x="207" y="545"/>
                  <a:pt x="236" y="515"/>
                  <a:pt x="236" y="471"/>
                </a:cubicBezTo>
                <a:cubicBezTo>
                  <a:pt x="236" y="118"/>
                  <a:pt x="236" y="118"/>
                  <a:pt x="236" y="118"/>
                </a:cubicBezTo>
                <a:cubicBezTo>
                  <a:pt x="236" y="59"/>
                  <a:pt x="177" y="0"/>
                  <a:pt x="118" y="0"/>
                </a:cubicBezTo>
                <a:cubicBezTo>
                  <a:pt x="59" y="0"/>
                  <a:pt x="0" y="59"/>
                  <a:pt x="0" y="118"/>
                </a:cubicBezTo>
                <a:cubicBezTo>
                  <a:pt x="0" y="486"/>
                  <a:pt x="0" y="486"/>
                  <a:pt x="0" y="486"/>
                </a:cubicBezTo>
                <a:cubicBezTo>
                  <a:pt x="15" y="574"/>
                  <a:pt x="74" y="633"/>
                  <a:pt x="162" y="633"/>
                </a:cubicBezTo>
                <a:cubicBezTo>
                  <a:pt x="236" y="633"/>
                  <a:pt x="309" y="574"/>
                  <a:pt x="309" y="486"/>
                </a:cubicBezTo>
                <a:cubicBezTo>
                  <a:pt x="309" y="73"/>
                  <a:pt x="309" y="73"/>
                  <a:pt x="309" y="73"/>
                </a:cubicBezTo>
                <a:lnTo>
                  <a:pt x="280" y="73"/>
                </a:lnTo>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80" name="稻壳儿小白白(http://dwz.cn/Wu2UP)"/>
          <p:cNvSpPr/>
          <p:nvPr/>
        </p:nvSpPr>
        <p:spPr>
          <a:xfrm>
            <a:off x="4183200" y="1890720"/>
            <a:ext cx="473040" cy="473040"/>
          </a:xfrm>
          <a:custGeom>
            <a:avLst/>
            <a:gdLst/>
            <a:ahLst/>
            <a:rect l="l" t="t" r="r" b="b"/>
            <a:pathLst>
              <a:path w="590" h="589">
                <a:moveTo>
                  <a:pt x="457" y="412"/>
                </a:moveTo>
                <a:lnTo>
                  <a:pt x="560" y="324"/>
                </a:lnTo>
                <a:lnTo>
                  <a:pt x="501" y="324"/>
                </a:lnTo>
                <a:lnTo>
                  <a:pt x="280" y="103"/>
                </a:lnTo>
                <a:lnTo>
                  <a:pt x="280" y="0"/>
                </a:lnTo>
                <a:lnTo>
                  <a:pt x="0" y="279"/>
                </a:lnTo>
                <a:lnTo>
                  <a:pt x="103" y="279"/>
                </a:lnTo>
                <a:lnTo>
                  <a:pt x="324" y="500"/>
                </a:lnTo>
                <a:lnTo>
                  <a:pt x="324" y="559"/>
                </a:lnTo>
                <a:lnTo>
                  <a:pt x="412" y="456"/>
                </a:lnTo>
                <a:lnTo>
                  <a:pt x="574" y="588"/>
                </a:lnTo>
                <a:lnTo>
                  <a:pt x="589" y="574"/>
                </a:lnTo>
                <a:lnTo>
                  <a:pt x="457" y="412"/>
                </a:lnTo>
                <a:close/>
                <a:moveTo>
                  <a:pt x="353" y="471"/>
                </a:moveTo>
                <a:lnTo>
                  <a:pt x="133" y="250"/>
                </a:lnTo>
                <a:lnTo>
                  <a:pt x="251" y="132"/>
                </a:lnTo>
                <a:lnTo>
                  <a:pt x="471" y="353"/>
                </a:lnTo>
                <a:lnTo>
                  <a:pt x="353" y="471"/>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81" name="稻壳儿小白白(http://dwz.cn/Wu2UP)"/>
          <p:cNvSpPr/>
          <p:nvPr/>
        </p:nvSpPr>
        <p:spPr>
          <a:xfrm>
            <a:off x="3332160" y="1924200"/>
            <a:ext cx="509760" cy="487080"/>
          </a:xfrm>
          <a:custGeom>
            <a:avLst/>
            <a:gdLst/>
            <a:ahLst/>
            <a:rect l="l" t="t" r="r" b="b"/>
            <a:pathLst>
              <a:path w="634" h="604">
                <a:moveTo>
                  <a:pt x="619" y="14"/>
                </a:moveTo>
                <a:lnTo>
                  <a:pt x="619" y="14"/>
                </a:lnTo>
                <a:cubicBezTo>
                  <a:pt x="589" y="0"/>
                  <a:pt x="560" y="0"/>
                  <a:pt x="530" y="14"/>
                </a:cubicBezTo>
                <a:cubicBezTo>
                  <a:pt x="192" y="353"/>
                  <a:pt x="192" y="353"/>
                  <a:pt x="192" y="353"/>
                </a:cubicBezTo>
                <a:cubicBezTo>
                  <a:pt x="162" y="353"/>
                  <a:pt x="103" y="368"/>
                  <a:pt x="74" y="442"/>
                </a:cubicBezTo>
                <a:cubicBezTo>
                  <a:pt x="59" y="486"/>
                  <a:pt x="0" y="486"/>
                  <a:pt x="0" y="486"/>
                </a:cubicBezTo>
                <a:cubicBezTo>
                  <a:pt x="103" y="603"/>
                  <a:pt x="236" y="530"/>
                  <a:pt x="251" y="501"/>
                </a:cubicBezTo>
                <a:cubicBezTo>
                  <a:pt x="280" y="486"/>
                  <a:pt x="280" y="456"/>
                  <a:pt x="280" y="427"/>
                </a:cubicBezTo>
                <a:cubicBezTo>
                  <a:pt x="619" y="103"/>
                  <a:pt x="619" y="103"/>
                  <a:pt x="619" y="103"/>
                </a:cubicBezTo>
                <a:cubicBezTo>
                  <a:pt x="633" y="73"/>
                  <a:pt x="633" y="44"/>
                  <a:pt x="619" y="14"/>
                </a:cubicBezTo>
                <a:close/>
                <a:moveTo>
                  <a:pt x="236" y="486"/>
                </a:moveTo>
                <a:lnTo>
                  <a:pt x="236" y="486"/>
                </a:lnTo>
                <a:cubicBezTo>
                  <a:pt x="207" y="501"/>
                  <a:pt x="118" y="530"/>
                  <a:pt x="74" y="501"/>
                </a:cubicBezTo>
                <a:cubicBezTo>
                  <a:pt x="74" y="501"/>
                  <a:pt x="89" y="486"/>
                  <a:pt x="103" y="456"/>
                </a:cubicBezTo>
                <a:cubicBezTo>
                  <a:pt x="133" y="368"/>
                  <a:pt x="221" y="383"/>
                  <a:pt x="221" y="383"/>
                </a:cubicBezTo>
                <a:cubicBezTo>
                  <a:pt x="251" y="412"/>
                  <a:pt x="251" y="412"/>
                  <a:pt x="251" y="412"/>
                </a:cubicBezTo>
                <a:cubicBezTo>
                  <a:pt x="251" y="412"/>
                  <a:pt x="265" y="442"/>
                  <a:pt x="236" y="486"/>
                </a:cubicBezTo>
                <a:close/>
                <a:moveTo>
                  <a:pt x="265" y="383"/>
                </a:moveTo>
                <a:lnTo>
                  <a:pt x="265" y="383"/>
                </a:lnTo>
                <a:lnTo>
                  <a:pt x="251" y="353"/>
                </a:lnTo>
                <a:cubicBezTo>
                  <a:pt x="280" y="309"/>
                  <a:pt x="280" y="309"/>
                  <a:pt x="280" y="309"/>
                </a:cubicBezTo>
                <a:cubicBezTo>
                  <a:pt x="310" y="339"/>
                  <a:pt x="310" y="339"/>
                  <a:pt x="310" y="339"/>
                </a:cubicBezTo>
                <a:lnTo>
                  <a:pt x="265" y="383"/>
                </a:lnTo>
                <a:close/>
                <a:moveTo>
                  <a:pt x="589" y="73"/>
                </a:moveTo>
                <a:lnTo>
                  <a:pt x="589" y="73"/>
                </a:lnTo>
                <a:cubicBezTo>
                  <a:pt x="339" y="309"/>
                  <a:pt x="339" y="309"/>
                  <a:pt x="339" y="309"/>
                </a:cubicBezTo>
                <a:cubicBezTo>
                  <a:pt x="310" y="294"/>
                  <a:pt x="310" y="294"/>
                  <a:pt x="310" y="294"/>
                </a:cubicBezTo>
                <a:cubicBezTo>
                  <a:pt x="560" y="44"/>
                  <a:pt x="560" y="44"/>
                  <a:pt x="560" y="44"/>
                </a:cubicBezTo>
                <a:cubicBezTo>
                  <a:pt x="574" y="30"/>
                  <a:pt x="574" y="30"/>
                  <a:pt x="589" y="44"/>
                </a:cubicBezTo>
                <a:cubicBezTo>
                  <a:pt x="589" y="44"/>
                  <a:pt x="589" y="59"/>
                  <a:pt x="589" y="73"/>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82" name="稻壳儿小白白(http://dwz.cn/Wu2UP)"/>
          <p:cNvSpPr/>
          <p:nvPr/>
        </p:nvSpPr>
        <p:spPr>
          <a:xfrm>
            <a:off x="10898280" y="1060560"/>
            <a:ext cx="164880" cy="509400"/>
          </a:xfrm>
          <a:custGeom>
            <a:avLst/>
            <a:gdLst/>
            <a:ahLst/>
            <a:rect l="l" t="t" r="r" b="b"/>
            <a:pathLst>
              <a:path w="207" h="634">
                <a:moveTo>
                  <a:pt x="162" y="0"/>
                </a:moveTo>
                <a:lnTo>
                  <a:pt x="162" y="0"/>
                </a:lnTo>
                <a:cubicBezTo>
                  <a:pt x="44" y="0"/>
                  <a:pt x="44" y="0"/>
                  <a:pt x="44" y="0"/>
                </a:cubicBezTo>
                <a:cubicBezTo>
                  <a:pt x="15" y="0"/>
                  <a:pt x="0" y="15"/>
                  <a:pt x="0" y="29"/>
                </a:cubicBezTo>
                <a:cubicBezTo>
                  <a:pt x="0" y="471"/>
                  <a:pt x="0" y="471"/>
                  <a:pt x="0" y="471"/>
                </a:cubicBezTo>
                <a:cubicBezTo>
                  <a:pt x="88" y="604"/>
                  <a:pt x="88" y="604"/>
                  <a:pt x="88" y="604"/>
                </a:cubicBezTo>
                <a:cubicBezTo>
                  <a:pt x="88" y="633"/>
                  <a:pt x="118" y="633"/>
                  <a:pt x="118" y="604"/>
                </a:cubicBezTo>
                <a:cubicBezTo>
                  <a:pt x="206" y="471"/>
                  <a:pt x="206" y="471"/>
                  <a:pt x="206" y="471"/>
                </a:cubicBezTo>
                <a:cubicBezTo>
                  <a:pt x="206" y="29"/>
                  <a:pt x="206" y="29"/>
                  <a:pt x="206" y="29"/>
                </a:cubicBezTo>
                <a:cubicBezTo>
                  <a:pt x="206" y="15"/>
                  <a:pt x="192" y="0"/>
                  <a:pt x="162" y="0"/>
                </a:cubicBezTo>
                <a:close/>
                <a:moveTo>
                  <a:pt x="103" y="575"/>
                </a:moveTo>
                <a:lnTo>
                  <a:pt x="103" y="575"/>
                </a:lnTo>
                <a:cubicBezTo>
                  <a:pt x="44" y="471"/>
                  <a:pt x="44" y="471"/>
                  <a:pt x="44" y="471"/>
                </a:cubicBezTo>
                <a:cubicBezTo>
                  <a:pt x="162" y="471"/>
                  <a:pt x="162" y="471"/>
                  <a:pt x="162" y="471"/>
                </a:cubicBezTo>
                <a:lnTo>
                  <a:pt x="103" y="575"/>
                </a:lnTo>
                <a:close/>
                <a:moveTo>
                  <a:pt x="162" y="427"/>
                </a:moveTo>
                <a:lnTo>
                  <a:pt x="162" y="427"/>
                </a:lnTo>
                <a:cubicBezTo>
                  <a:pt x="118" y="427"/>
                  <a:pt x="59" y="427"/>
                  <a:pt x="44" y="427"/>
                </a:cubicBezTo>
                <a:cubicBezTo>
                  <a:pt x="44" y="177"/>
                  <a:pt x="44" y="177"/>
                  <a:pt x="44" y="177"/>
                </a:cubicBezTo>
                <a:cubicBezTo>
                  <a:pt x="162" y="177"/>
                  <a:pt x="162" y="177"/>
                  <a:pt x="162" y="177"/>
                </a:cubicBezTo>
                <a:lnTo>
                  <a:pt x="162" y="427"/>
                </a:lnTo>
                <a:close/>
                <a:moveTo>
                  <a:pt x="162" y="133"/>
                </a:moveTo>
                <a:lnTo>
                  <a:pt x="162" y="133"/>
                </a:lnTo>
                <a:cubicBezTo>
                  <a:pt x="44" y="133"/>
                  <a:pt x="44" y="133"/>
                  <a:pt x="44" y="133"/>
                </a:cubicBezTo>
                <a:cubicBezTo>
                  <a:pt x="44" y="59"/>
                  <a:pt x="44" y="59"/>
                  <a:pt x="44" y="59"/>
                </a:cubicBezTo>
                <a:cubicBezTo>
                  <a:pt x="44" y="29"/>
                  <a:pt x="44" y="29"/>
                  <a:pt x="59" y="29"/>
                </a:cubicBezTo>
                <a:cubicBezTo>
                  <a:pt x="147" y="29"/>
                  <a:pt x="147" y="29"/>
                  <a:pt x="147" y="29"/>
                </a:cubicBezTo>
                <a:cubicBezTo>
                  <a:pt x="162" y="29"/>
                  <a:pt x="162" y="29"/>
                  <a:pt x="162" y="59"/>
                </a:cubicBezTo>
                <a:lnTo>
                  <a:pt x="162" y="133"/>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83" name="稻壳儿小白白(http://dwz.cn/Wu2UP)"/>
          <p:cNvSpPr/>
          <p:nvPr/>
        </p:nvSpPr>
        <p:spPr>
          <a:xfrm>
            <a:off x="9906120" y="1060560"/>
            <a:ext cx="509400" cy="495360"/>
          </a:xfrm>
          <a:custGeom>
            <a:avLst/>
            <a:gdLst/>
            <a:ahLst/>
            <a:rect l="l" t="t" r="r" b="b"/>
            <a:pathLst>
              <a:path w="634" h="619">
                <a:moveTo>
                  <a:pt x="589" y="236"/>
                </a:moveTo>
                <a:lnTo>
                  <a:pt x="589" y="236"/>
                </a:lnTo>
                <a:cubicBezTo>
                  <a:pt x="589" y="545"/>
                  <a:pt x="589" y="545"/>
                  <a:pt x="589" y="545"/>
                </a:cubicBezTo>
                <a:cubicBezTo>
                  <a:pt x="589" y="559"/>
                  <a:pt x="575" y="589"/>
                  <a:pt x="545" y="589"/>
                </a:cubicBezTo>
                <a:cubicBezTo>
                  <a:pt x="89" y="589"/>
                  <a:pt x="89" y="589"/>
                  <a:pt x="89" y="589"/>
                </a:cubicBezTo>
                <a:cubicBezTo>
                  <a:pt x="59" y="589"/>
                  <a:pt x="45" y="559"/>
                  <a:pt x="45" y="545"/>
                </a:cubicBezTo>
                <a:cubicBezTo>
                  <a:pt x="45" y="74"/>
                  <a:pt x="45" y="74"/>
                  <a:pt x="45" y="74"/>
                </a:cubicBezTo>
                <a:cubicBezTo>
                  <a:pt x="45" y="59"/>
                  <a:pt x="59" y="29"/>
                  <a:pt x="89" y="29"/>
                </a:cubicBezTo>
                <a:cubicBezTo>
                  <a:pt x="398" y="29"/>
                  <a:pt x="398" y="29"/>
                  <a:pt x="398" y="29"/>
                </a:cubicBezTo>
                <a:cubicBezTo>
                  <a:pt x="398" y="0"/>
                  <a:pt x="398" y="0"/>
                  <a:pt x="398" y="0"/>
                </a:cubicBezTo>
                <a:cubicBezTo>
                  <a:pt x="89" y="0"/>
                  <a:pt x="89" y="0"/>
                  <a:pt x="89" y="0"/>
                </a:cubicBezTo>
                <a:cubicBezTo>
                  <a:pt x="45" y="0"/>
                  <a:pt x="0" y="29"/>
                  <a:pt x="0" y="74"/>
                </a:cubicBezTo>
                <a:cubicBezTo>
                  <a:pt x="0" y="545"/>
                  <a:pt x="0" y="545"/>
                  <a:pt x="0" y="545"/>
                </a:cubicBezTo>
                <a:cubicBezTo>
                  <a:pt x="0" y="589"/>
                  <a:pt x="45" y="618"/>
                  <a:pt x="89" y="618"/>
                </a:cubicBezTo>
                <a:cubicBezTo>
                  <a:pt x="545" y="618"/>
                  <a:pt x="545" y="618"/>
                  <a:pt x="545" y="618"/>
                </a:cubicBezTo>
                <a:cubicBezTo>
                  <a:pt x="589" y="618"/>
                  <a:pt x="633" y="589"/>
                  <a:pt x="633" y="545"/>
                </a:cubicBezTo>
                <a:cubicBezTo>
                  <a:pt x="633" y="236"/>
                  <a:pt x="633" y="236"/>
                  <a:pt x="633" y="236"/>
                </a:cubicBezTo>
                <a:lnTo>
                  <a:pt x="589" y="236"/>
                </a:lnTo>
                <a:close/>
                <a:moveTo>
                  <a:pt x="162" y="354"/>
                </a:moveTo>
                <a:lnTo>
                  <a:pt x="162" y="354"/>
                </a:lnTo>
                <a:cubicBezTo>
                  <a:pt x="74" y="516"/>
                  <a:pt x="74" y="516"/>
                  <a:pt x="74" y="516"/>
                </a:cubicBezTo>
                <a:cubicBezTo>
                  <a:pt x="74" y="545"/>
                  <a:pt x="89" y="559"/>
                  <a:pt x="103" y="545"/>
                </a:cubicBezTo>
                <a:cubicBezTo>
                  <a:pt x="280" y="457"/>
                  <a:pt x="280" y="457"/>
                  <a:pt x="280" y="457"/>
                </a:cubicBezTo>
                <a:lnTo>
                  <a:pt x="295" y="457"/>
                </a:lnTo>
                <a:cubicBezTo>
                  <a:pt x="604" y="147"/>
                  <a:pt x="604" y="147"/>
                  <a:pt x="604" y="147"/>
                </a:cubicBezTo>
                <a:cubicBezTo>
                  <a:pt x="619" y="133"/>
                  <a:pt x="619" y="103"/>
                  <a:pt x="604" y="88"/>
                </a:cubicBezTo>
                <a:cubicBezTo>
                  <a:pt x="530" y="29"/>
                  <a:pt x="530" y="29"/>
                  <a:pt x="530" y="29"/>
                </a:cubicBezTo>
                <a:cubicBezTo>
                  <a:pt x="516" y="15"/>
                  <a:pt x="486" y="15"/>
                  <a:pt x="471" y="29"/>
                </a:cubicBezTo>
                <a:cubicBezTo>
                  <a:pt x="177" y="324"/>
                  <a:pt x="177" y="324"/>
                  <a:pt x="177" y="324"/>
                </a:cubicBezTo>
                <a:cubicBezTo>
                  <a:pt x="162" y="339"/>
                  <a:pt x="162" y="339"/>
                  <a:pt x="162" y="354"/>
                </a:cubicBezTo>
                <a:close/>
                <a:moveTo>
                  <a:pt x="486" y="74"/>
                </a:moveTo>
                <a:lnTo>
                  <a:pt x="486" y="74"/>
                </a:lnTo>
                <a:cubicBezTo>
                  <a:pt x="501" y="59"/>
                  <a:pt x="516" y="59"/>
                  <a:pt x="516" y="74"/>
                </a:cubicBezTo>
                <a:cubicBezTo>
                  <a:pt x="560" y="103"/>
                  <a:pt x="560" y="103"/>
                  <a:pt x="560" y="103"/>
                </a:cubicBezTo>
                <a:cubicBezTo>
                  <a:pt x="575" y="118"/>
                  <a:pt x="575" y="133"/>
                  <a:pt x="560" y="133"/>
                </a:cubicBezTo>
                <a:cubicBezTo>
                  <a:pt x="516" y="177"/>
                  <a:pt x="516" y="177"/>
                  <a:pt x="516" y="177"/>
                </a:cubicBezTo>
                <a:cubicBezTo>
                  <a:pt x="457" y="103"/>
                  <a:pt x="457" y="103"/>
                  <a:pt x="457" y="103"/>
                </a:cubicBezTo>
                <a:lnTo>
                  <a:pt x="486" y="74"/>
                </a:lnTo>
                <a:close/>
                <a:moveTo>
                  <a:pt x="428" y="133"/>
                </a:moveTo>
                <a:lnTo>
                  <a:pt x="428" y="133"/>
                </a:lnTo>
                <a:cubicBezTo>
                  <a:pt x="486" y="206"/>
                  <a:pt x="486" y="206"/>
                  <a:pt x="486" y="206"/>
                </a:cubicBezTo>
                <a:cubicBezTo>
                  <a:pt x="266" y="427"/>
                  <a:pt x="266" y="427"/>
                  <a:pt x="266" y="427"/>
                </a:cubicBezTo>
                <a:cubicBezTo>
                  <a:pt x="251" y="398"/>
                  <a:pt x="207" y="368"/>
                  <a:pt x="207" y="354"/>
                </a:cubicBezTo>
                <a:lnTo>
                  <a:pt x="428" y="133"/>
                </a:lnTo>
                <a:close/>
                <a:moveTo>
                  <a:pt x="236" y="442"/>
                </a:moveTo>
                <a:lnTo>
                  <a:pt x="236" y="442"/>
                </a:lnTo>
                <a:cubicBezTo>
                  <a:pt x="133" y="516"/>
                  <a:pt x="133" y="516"/>
                  <a:pt x="133" y="516"/>
                </a:cubicBezTo>
                <a:cubicBezTo>
                  <a:pt x="118" y="516"/>
                  <a:pt x="118" y="501"/>
                  <a:pt x="118" y="501"/>
                </a:cubicBezTo>
                <a:cubicBezTo>
                  <a:pt x="177" y="398"/>
                  <a:pt x="177" y="398"/>
                  <a:pt x="177" y="398"/>
                </a:cubicBezTo>
                <a:lnTo>
                  <a:pt x="236" y="442"/>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84" name="稻壳儿小白白(http://dwz.cn/Wu2UP)"/>
          <p:cNvSpPr/>
          <p:nvPr/>
        </p:nvSpPr>
        <p:spPr>
          <a:xfrm>
            <a:off x="9123480" y="1060560"/>
            <a:ext cx="439560" cy="495360"/>
          </a:xfrm>
          <a:custGeom>
            <a:avLst/>
            <a:gdLst/>
            <a:ahLst/>
            <a:rect l="l" t="t" r="r" b="b"/>
            <a:pathLst>
              <a:path w="545" h="619">
                <a:moveTo>
                  <a:pt x="412" y="368"/>
                </a:moveTo>
                <a:lnTo>
                  <a:pt x="412" y="368"/>
                </a:lnTo>
                <a:cubicBezTo>
                  <a:pt x="132" y="368"/>
                  <a:pt x="132" y="368"/>
                  <a:pt x="132" y="368"/>
                </a:cubicBezTo>
                <a:cubicBezTo>
                  <a:pt x="118" y="368"/>
                  <a:pt x="118" y="383"/>
                  <a:pt x="118" y="383"/>
                </a:cubicBezTo>
                <a:cubicBezTo>
                  <a:pt x="118" y="398"/>
                  <a:pt x="118" y="412"/>
                  <a:pt x="132" y="412"/>
                </a:cubicBezTo>
                <a:cubicBezTo>
                  <a:pt x="412" y="412"/>
                  <a:pt x="412" y="412"/>
                  <a:pt x="412" y="412"/>
                </a:cubicBezTo>
                <a:cubicBezTo>
                  <a:pt x="412" y="412"/>
                  <a:pt x="427" y="398"/>
                  <a:pt x="427" y="383"/>
                </a:cubicBezTo>
                <a:lnTo>
                  <a:pt x="412" y="368"/>
                </a:lnTo>
                <a:close/>
                <a:moveTo>
                  <a:pt x="412" y="471"/>
                </a:moveTo>
                <a:lnTo>
                  <a:pt x="412" y="471"/>
                </a:lnTo>
                <a:cubicBezTo>
                  <a:pt x="132" y="471"/>
                  <a:pt x="132" y="471"/>
                  <a:pt x="132" y="471"/>
                </a:cubicBezTo>
                <a:cubicBezTo>
                  <a:pt x="118" y="471"/>
                  <a:pt x="118" y="471"/>
                  <a:pt x="118" y="486"/>
                </a:cubicBezTo>
                <a:cubicBezTo>
                  <a:pt x="118" y="501"/>
                  <a:pt x="118" y="501"/>
                  <a:pt x="132" y="501"/>
                </a:cubicBezTo>
                <a:cubicBezTo>
                  <a:pt x="412" y="501"/>
                  <a:pt x="412" y="501"/>
                  <a:pt x="412" y="501"/>
                </a:cubicBezTo>
                <a:cubicBezTo>
                  <a:pt x="412" y="501"/>
                  <a:pt x="427" y="501"/>
                  <a:pt x="427" y="486"/>
                </a:cubicBezTo>
                <a:cubicBezTo>
                  <a:pt x="427" y="471"/>
                  <a:pt x="412" y="471"/>
                  <a:pt x="412" y="471"/>
                </a:cubicBezTo>
                <a:close/>
                <a:moveTo>
                  <a:pt x="471" y="74"/>
                </a:moveTo>
                <a:lnTo>
                  <a:pt x="471" y="74"/>
                </a:lnTo>
                <a:cubicBezTo>
                  <a:pt x="412" y="74"/>
                  <a:pt x="412" y="74"/>
                  <a:pt x="412" y="74"/>
                </a:cubicBezTo>
                <a:cubicBezTo>
                  <a:pt x="412" y="29"/>
                  <a:pt x="412" y="29"/>
                  <a:pt x="412" y="29"/>
                </a:cubicBezTo>
                <a:cubicBezTo>
                  <a:pt x="353" y="29"/>
                  <a:pt x="353" y="29"/>
                  <a:pt x="353" y="29"/>
                </a:cubicBezTo>
                <a:cubicBezTo>
                  <a:pt x="339" y="15"/>
                  <a:pt x="309" y="0"/>
                  <a:pt x="265" y="0"/>
                </a:cubicBezTo>
                <a:cubicBezTo>
                  <a:pt x="235" y="0"/>
                  <a:pt x="206" y="15"/>
                  <a:pt x="191" y="29"/>
                </a:cubicBezTo>
                <a:cubicBezTo>
                  <a:pt x="132" y="29"/>
                  <a:pt x="132" y="29"/>
                  <a:pt x="132" y="29"/>
                </a:cubicBezTo>
                <a:cubicBezTo>
                  <a:pt x="132" y="74"/>
                  <a:pt x="132" y="74"/>
                  <a:pt x="132" y="74"/>
                </a:cubicBezTo>
                <a:cubicBezTo>
                  <a:pt x="73" y="74"/>
                  <a:pt x="73" y="74"/>
                  <a:pt x="73" y="74"/>
                </a:cubicBezTo>
                <a:cubicBezTo>
                  <a:pt x="29" y="74"/>
                  <a:pt x="0" y="103"/>
                  <a:pt x="0" y="147"/>
                </a:cubicBezTo>
                <a:cubicBezTo>
                  <a:pt x="0" y="545"/>
                  <a:pt x="0" y="545"/>
                  <a:pt x="0" y="545"/>
                </a:cubicBezTo>
                <a:cubicBezTo>
                  <a:pt x="0" y="589"/>
                  <a:pt x="29" y="618"/>
                  <a:pt x="73" y="618"/>
                </a:cubicBezTo>
                <a:cubicBezTo>
                  <a:pt x="471" y="618"/>
                  <a:pt x="471" y="618"/>
                  <a:pt x="471" y="618"/>
                </a:cubicBezTo>
                <a:cubicBezTo>
                  <a:pt x="515" y="618"/>
                  <a:pt x="544" y="589"/>
                  <a:pt x="544" y="545"/>
                </a:cubicBezTo>
                <a:cubicBezTo>
                  <a:pt x="544" y="147"/>
                  <a:pt x="544" y="147"/>
                  <a:pt x="544" y="147"/>
                </a:cubicBezTo>
                <a:cubicBezTo>
                  <a:pt x="544" y="103"/>
                  <a:pt x="515" y="74"/>
                  <a:pt x="471" y="74"/>
                </a:cubicBezTo>
                <a:close/>
                <a:moveTo>
                  <a:pt x="177" y="74"/>
                </a:moveTo>
                <a:lnTo>
                  <a:pt x="177" y="74"/>
                </a:lnTo>
                <a:cubicBezTo>
                  <a:pt x="221" y="74"/>
                  <a:pt x="221" y="74"/>
                  <a:pt x="221" y="74"/>
                </a:cubicBezTo>
                <a:cubicBezTo>
                  <a:pt x="221" y="59"/>
                  <a:pt x="235" y="29"/>
                  <a:pt x="265" y="29"/>
                </a:cubicBezTo>
                <a:cubicBezTo>
                  <a:pt x="294" y="29"/>
                  <a:pt x="324" y="59"/>
                  <a:pt x="324" y="74"/>
                </a:cubicBezTo>
                <a:cubicBezTo>
                  <a:pt x="368" y="74"/>
                  <a:pt x="368" y="74"/>
                  <a:pt x="368" y="74"/>
                </a:cubicBezTo>
                <a:cubicBezTo>
                  <a:pt x="368" y="147"/>
                  <a:pt x="368" y="147"/>
                  <a:pt x="368" y="147"/>
                </a:cubicBezTo>
                <a:cubicBezTo>
                  <a:pt x="177" y="147"/>
                  <a:pt x="177" y="147"/>
                  <a:pt x="177" y="147"/>
                </a:cubicBezTo>
                <a:lnTo>
                  <a:pt x="177" y="74"/>
                </a:lnTo>
                <a:close/>
                <a:moveTo>
                  <a:pt x="500" y="545"/>
                </a:moveTo>
                <a:lnTo>
                  <a:pt x="500" y="545"/>
                </a:lnTo>
                <a:cubicBezTo>
                  <a:pt x="500" y="559"/>
                  <a:pt x="486" y="589"/>
                  <a:pt x="471" y="589"/>
                </a:cubicBezTo>
                <a:cubicBezTo>
                  <a:pt x="73" y="589"/>
                  <a:pt x="73" y="589"/>
                  <a:pt x="73" y="589"/>
                </a:cubicBezTo>
                <a:cubicBezTo>
                  <a:pt x="59" y="589"/>
                  <a:pt x="29" y="559"/>
                  <a:pt x="29" y="545"/>
                </a:cubicBezTo>
                <a:cubicBezTo>
                  <a:pt x="29" y="147"/>
                  <a:pt x="29" y="147"/>
                  <a:pt x="29" y="147"/>
                </a:cubicBezTo>
                <a:cubicBezTo>
                  <a:pt x="29" y="133"/>
                  <a:pt x="59" y="118"/>
                  <a:pt x="73" y="118"/>
                </a:cubicBezTo>
                <a:cubicBezTo>
                  <a:pt x="132" y="118"/>
                  <a:pt x="132" y="118"/>
                  <a:pt x="132" y="118"/>
                </a:cubicBezTo>
                <a:cubicBezTo>
                  <a:pt x="132" y="192"/>
                  <a:pt x="132" y="192"/>
                  <a:pt x="132" y="192"/>
                </a:cubicBezTo>
                <a:cubicBezTo>
                  <a:pt x="412" y="192"/>
                  <a:pt x="412" y="192"/>
                  <a:pt x="412" y="192"/>
                </a:cubicBezTo>
                <a:cubicBezTo>
                  <a:pt x="412" y="118"/>
                  <a:pt x="412" y="118"/>
                  <a:pt x="412" y="118"/>
                </a:cubicBezTo>
                <a:cubicBezTo>
                  <a:pt x="471" y="118"/>
                  <a:pt x="471" y="118"/>
                  <a:pt x="471" y="118"/>
                </a:cubicBezTo>
                <a:cubicBezTo>
                  <a:pt x="486" y="118"/>
                  <a:pt x="500" y="133"/>
                  <a:pt x="500" y="147"/>
                </a:cubicBezTo>
                <a:lnTo>
                  <a:pt x="500" y="545"/>
                </a:lnTo>
                <a:close/>
                <a:moveTo>
                  <a:pt x="412" y="265"/>
                </a:moveTo>
                <a:lnTo>
                  <a:pt x="412" y="265"/>
                </a:lnTo>
                <a:cubicBezTo>
                  <a:pt x="132" y="265"/>
                  <a:pt x="132" y="265"/>
                  <a:pt x="132" y="265"/>
                </a:cubicBezTo>
                <a:cubicBezTo>
                  <a:pt x="118" y="265"/>
                  <a:pt x="118" y="280"/>
                  <a:pt x="118" y="295"/>
                </a:cubicBezTo>
                <a:cubicBezTo>
                  <a:pt x="118" y="295"/>
                  <a:pt x="118" y="309"/>
                  <a:pt x="132" y="309"/>
                </a:cubicBezTo>
                <a:cubicBezTo>
                  <a:pt x="412" y="309"/>
                  <a:pt x="412" y="309"/>
                  <a:pt x="412" y="309"/>
                </a:cubicBezTo>
                <a:lnTo>
                  <a:pt x="427" y="295"/>
                </a:lnTo>
                <a:cubicBezTo>
                  <a:pt x="427" y="280"/>
                  <a:pt x="412" y="265"/>
                  <a:pt x="412" y="265"/>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85" name="稻壳儿小白白(http://dwz.cn/Wu2UP)"/>
          <p:cNvSpPr/>
          <p:nvPr/>
        </p:nvSpPr>
        <p:spPr>
          <a:xfrm>
            <a:off x="8273880" y="1060560"/>
            <a:ext cx="495360" cy="495360"/>
          </a:xfrm>
          <a:custGeom>
            <a:avLst/>
            <a:gdLst/>
            <a:ahLst/>
            <a:rect l="l" t="t" r="r" b="b"/>
            <a:pathLst>
              <a:path w="619" h="619">
                <a:moveTo>
                  <a:pt x="545" y="0"/>
                </a:moveTo>
                <a:lnTo>
                  <a:pt x="545" y="0"/>
                </a:lnTo>
                <a:cubicBezTo>
                  <a:pt x="545" y="0"/>
                  <a:pt x="427" y="29"/>
                  <a:pt x="324" y="59"/>
                </a:cubicBezTo>
                <a:cubicBezTo>
                  <a:pt x="309" y="59"/>
                  <a:pt x="309" y="59"/>
                  <a:pt x="294" y="59"/>
                </a:cubicBezTo>
                <a:cubicBezTo>
                  <a:pt x="191" y="29"/>
                  <a:pt x="73" y="0"/>
                  <a:pt x="73" y="0"/>
                </a:cubicBezTo>
                <a:cubicBezTo>
                  <a:pt x="29" y="0"/>
                  <a:pt x="0" y="29"/>
                  <a:pt x="0" y="74"/>
                </a:cubicBezTo>
                <a:cubicBezTo>
                  <a:pt x="0" y="486"/>
                  <a:pt x="0" y="486"/>
                  <a:pt x="0" y="486"/>
                </a:cubicBezTo>
                <a:cubicBezTo>
                  <a:pt x="0" y="530"/>
                  <a:pt x="29" y="545"/>
                  <a:pt x="73" y="559"/>
                </a:cubicBezTo>
                <a:cubicBezTo>
                  <a:pt x="73" y="559"/>
                  <a:pt x="177" y="589"/>
                  <a:pt x="294" y="618"/>
                </a:cubicBezTo>
                <a:cubicBezTo>
                  <a:pt x="309" y="618"/>
                  <a:pt x="309" y="618"/>
                  <a:pt x="324" y="618"/>
                </a:cubicBezTo>
                <a:cubicBezTo>
                  <a:pt x="441" y="589"/>
                  <a:pt x="545" y="559"/>
                  <a:pt x="545" y="559"/>
                </a:cubicBezTo>
                <a:cubicBezTo>
                  <a:pt x="589" y="559"/>
                  <a:pt x="618" y="530"/>
                  <a:pt x="618" y="486"/>
                </a:cubicBezTo>
                <a:cubicBezTo>
                  <a:pt x="618" y="74"/>
                  <a:pt x="618" y="74"/>
                  <a:pt x="618" y="74"/>
                </a:cubicBezTo>
                <a:cubicBezTo>
                  <a:pt x="618" y="29"/>
                  <a:pt x="589" y="0"/>
                  <a:pt x="545" y="0"/>
                </a:cubicBezTo>
                <a:close/>
                <a:moveTo>
                  <a:pt x="294" y="589"/>
                </a:moveTo>
                <a:lnTo>
                  <a:pt x="294" y="589"/>
                </a:lnTo>
                <a:cubicBezTo>
                  <a:pt x="177" y="559"/>
                  <a:pt x="73" y="530"/>
                  <a:pt x="73" y="530"/>
                </a:cubicBezTo>
                <a:cubicBezTo>
                  <a:pt x="44" y="516"/>
                  <a:pt x="29" y="501"/>
                  <a:pt x="29" y="486"/>
                </a:cubicBezTo>
                <a:cubicBezTo>
                  <a:pt x="29" y="74"/>
                  <a:pt x="29" y="74"/>
                  <a:pt x="29" y="74"/>
                </a:cubicBezTo>
                <a:cubicBezTo>
                  <a:pt x="29" y="59"/>
                  <a:pt x="59" y="29"/>
                  <a:pt x="73" y="29"/>
                </a:cubicBezTo>
                <a:cubicBezTo>
                  <a:pt x="294" y="88"/>
                  <a:pt x="294" y="88"/>
                  <a:pt x="294" y="88"/>
                </a:cubicBezTo>
                <a:lnTo>
                  <a:pt x="294" y="589"/>
                </a:lnTo>
                <a:close/>
                <a:moveTo>
                  <a:pt x="589" y="486"/>
                </a:moveTo>
                <a:lnTo>
                  <a:pt x="589" y="486"/>
                </a:lnTo>
                <a:cubicBezTo>
                  <a:pt x="589" y="501"/>
                  <a:pt x="559" y="516"/>
                  <a:pt x="545" y="530"/>
                </a:cubicBezTo>
                <a:cubicBezTo>
                  <a:pt x="545" y="530"/>
                  <a:pt x="441" y="559"/>
                  <a:pt x="324" y="589"/>
                </a:cubicBezTo>
                <a:cubicBezTo>
                  <a:pt x="324" y="88"/>
                  <a:pt x="324" y="88"/>
                  <a:pt x="324" y="88"/>
                </a:cubicBezTo>
                <a:cubicBezTo>
                  <a:pt x="545" y="29"/>
                  <a:pt x="545" y="29"/>
                  <a:pt x="545" y="29"/>
                </a:cubicBezTo>
                <a:cubicBezTo>
                  <a:pt x="559" y="29"/>
                  <a:pt x="589" y="59"/>
                  <a:pt x="589" y="74"/>
                </a:cubicBezTo>
                <a:lnTo>
                  <a:pt x="589" y="486"/>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86" name="稻壳儿小白白(http://dwz.cn/Wu2UP)"/>
          <p:cNvSpPr/>
          <p:nvPr/>
        </p:nvSpPr>
        <p:spPr>
          <a:xfrm>
            <a:off x="7443720" y="1060560"/>
            <a:ext cx="511200" cy="495360"/>
          </a:xfrm>
          <a:custGeom>
            <a:avLst/>
            <a:gdLst/>
            <a:ahLst/>
            <a:rect l="l" t="t" r="r" b="b"/>
            <a:pathLst>
              <a:path w="634" h="619">
                <a:moveTo>
                  <a:pt x="560" y="0"/>
                </a:moveTo>
                <a:lnTo>
                  <a:pt x="560" y="0"/>
                </a:lnTo>
                <a:cubicBezTo>
                  <a:pt x="89" y="0"/>
                  <a:pt x="89" y="0"/>
                  <a:pt x="89" y="0"/>
                </a:cubicBezTo>
                <a:cubicBezTo>
                  <a:pt x="45" y="0"/>
                  <a:pt x="0" y="29"/>
                  <a:pt x="0" y="74"/>
                </a:cubicBezTo>
                <a:cubicBezTo>
                  <a:pt x="0" y="545"/>
                  <a:pt x="0" y="545"/>
                  <a:pt x="0" y="545"/>
                </a:cubicBezTo>
                <a:cubicBezTo>
                  <a:pt x="0" y="589"/>
                  <a:pt x="45" y="618"/>
                  <a:pt x="89" y="618"/>
                </a:cubicBezTo>
                <a:cubicBezTo>
                  <a:pt x="560" y="618"/>
                  <a:pt x="560" y="618"/>
                  <a:pt x="560" y="618"/>
                </a:cubicBezTo>
                <a:cubicBezTo>
                  <a:pt x="604" y="618"/>
                  <a:pt x="633" y="589"/>
                  <a:pt x="633" y="545"/>
                </a:cubicBezTo>
                <a:cubicBezTo>
                  <a:pt x="633" y="74"/>
                  <a:pt x="633" y="74"/>
                  <a:pt x="633" y="74"/>
                </a:cubicBezTo>
                <a:cubicBezTo>
                  <a:pt x="633" y="29"/>
                  <a:pt x="604" y="0"/>
                  <a:pt x="560" y="0"/>
                </a:cubicBezTo>
                <a:close/>
                <a:moveTo>
                  <a:pt x="89" y="589"/>
                </a:moveTo>
                <a:lnTo>
                  <a:pt x="89" y="589"/>
                </a:lnTo>
                <a:cubicBezTo>
                  <a:pt x="59" y="589"/>
                  <a:pt x="45" y="559"/>
                  <a:pt x="45" y="545"/>
                </a:cubicBezTo>
                <a:cubicBezTo>
                  <a:pt x="45" y="530"/>
                  <a:pt x="45" y="530"/>
                  <a:pt x="45" y="530"/>
                </a:cubicBezTo>
                <a:cubicBezTo>
                  <a:pt x="207" y="383"/>
                  <a:pt x="207" y="383"/>
                  <a:pt x="207" y="383"/>
                </a:cubicBezTo>
                <a:cubicBezTo>
                  <a:pt x="398" y="589"/>
                  <a:pt x="398" y="589"/>
                  <a:pt x="398" y="589"/>
                </a:cubicBezTo>
                <a:lnTo>
                  <a:pt x="89" y="589"/>
                </a:lnTo>
                <a:close/>
                <a:moveTo>
                  <a:pt x="589" y="545"/>
                </a:moveTo>
                <a:lnTo>
                  <a:pt x="589" y="545"/>
                </a:lnTo>
                <a:cubicBezTo>
                  <a:pt x="589" y="559"/>
                  <a:pt x="575" y="589"/>
                  <a:pt x="560" y="589"/>
                </a:cubicBezTo>
                <a:cubicBezTo>
                  <a:pt x="457" y="589"/>
                  <a:pt x="457" y="589"/>
                  <a:pt x="457" y="589"/>
                </a:cubicBezTo>
                <a:cubicBezTo>
                  <a:pt x="310" y="442"/>
                  <a:pt x="310" y="442"/>
                  <a:pt x="310" y="442"/>
                </a:cubicBezTo>
                <a:cubicBezTo>
                  <a:pt x="471" y="265"/>
                  <a:pt x="471" y="265"/>
                  <a:pt x="471" y="265"/>
                </a:cubicBezTo>
                <a:cubicBezTo>
                  <a:pt x="589" y="383"/>
                  <a:pt x="589" y="383"/>
                  <a:pt x="589" y="383"/>
                </a:cubicBezTo>
                <a:lnTo>
                  <a:pt x="589" y="545"/>
                </a:lnTo>
                <a:close/>
                <a:moveTo>
                  <a:pt x="589" y="339"/>
                </a:moveTo>
                <a:lnTo>
                  <a:pt x="589" y="339"/>
                </a:lnTo>
                <a:cubicBezTo>
                  <a:pt x="471" y="206"/>
                  <a:pt x="471" y="206"/>
                  <a:pt x="471" y="206"/>
                </a:cubicBezTo>
                <a:cubicBezTo>
                  <a:pt x="280" y="412"/>
                  <a:pt x="280" y="412"/>
                  <a:pt x="280" y="412"/>
                </a:cubicBezTo>
                <a:cubicBezTo>
                  <a:pt x="207" y="324"/>
                  <a:pt x="207" y="324"/>
                  <a:pt x="207" y="324"/>
                </a:cubicBezTo>
                <a:cubicBezTo>
                  <a:pt x="45" y="471"/>
                  <a:pt x="45" y="471"/>
                  <a:pt x="45" y="471"/>
                </a:cubicBezTo>
                <a:cubicBezTo>
                  <a:pt x="45" y="74"/>
                  <a:pt x="45" y="74"/>
                  <a:pt x="45" y="74"/>
                </a:cubicBezTo>
                <a:cubicBezTo>
                  <a:pt x="45" y="59"/>
                  <a:pt x="59" y="29"/>
                  <a:pt x="89" y="29"/>
                </a:cubicBezTo>
                <a:cubicBezTo>
                  <a:pt x="560" y="29"/>
                  <a:pt x="560" y="29"/>
                  <a:pt x="560" y="29"/>
                </a:cubicBezTo>
                <a:cubicBezTo>
                  <a:pt x="575" y="29"/>
                  <a:pt x="589" y="59"/>
                  <a:pt x="589" y="74"/>
                </a:cubicBezTo>
                <a:lnTo>
                  <a:pt x="589" y="339"/>
                </a:lnTo>
                <a:close/>
                <a:moveTo>
                  <a:pt x="162" y="74"/>
                </a:moveTo>
                <a:lnTo>
                  <a:pt x="162" y="74"/>
                </a:lnTo>
                <a:cubicBezTo>
                  <a:pt x="118" y="74"/>
                  <a:pt x="89" y="103"/>
                  <a:pt x="89" y="147"/>
                </a:cubicBezTo>
                <a:cubicBezTo>
                  <a:pt x="89" y="192"/>
                  <a:pt x="118" y="236"/>
                  <a:pt x="162" y="236"/>
                </a:cubicBezTo>
                <a:cubicBezTo>
                  <a:pt x="207" y="236"/>
                  <a:pt x="236" y="192"/>
                  <a:pt x="236" y="147"/>
                </a:cubicBezTo>
                <a:cubicBezTo>
                  <a:pt x="236" y="103"/>
                  <a:pt x="207" y="74"/>
                  <a:pt x="162" y="74"/>
                </a:cubicBezTo>
                <a:close/>
                <a:moveTo>
                  <a:pt x="162" y="192"/>
                </a:moveTo>
                <a:lnTo>
                  <a:pt x="162" y="192"/>
                </a:lnTo>
                <a:cubicBezTo>
                  <a:pt x="148" y="192"/>
                  <a:pt x="118" y="177"/>
                  <a:pt x="118" y="147"/>
                </a:cubicBezTo>
                <a:cubicBezTo>
                  <a:pt x="118" y="133"/>
                  <a:pt x="148" y="118"/>
                  <a:pt x="162" y="118"/>
                </a:cubicBezTo>
                <a:cubicBezTo>
                  <a:pt x="177" y="118"/>
                  <a:pt x="207" y="133"/>
                  <a:pt x="207" y="147"/>
                </a:cubicBezTo>
                <a:cubicBezTo>
                  <a:pt x="207" y="177"/>
                  <a:pt x="177" y="192"/>
                  <a:pt x="162" y="192"/>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87" name="稻壳儿小白白(http://dwz.cn/Wu2UP)"/>
          <p:cNvSpPr/>
          <p:nvPr/>
        </p:nvSpPr>
        <p:spPr>
          <a:xfrm>
            <a:off x="6629400" y="1060560"/>
            <a:ext cx="509760" cy="495360"/>
          </a:xfrm>
          <a:custGeom>
            <a:avLst/>
            <a:gdLst/>
            <a:ahLst/>
            <a:rect l="l" t="t" r="r" b="b"/>
            <a:pathLst>
              <a:path w="634" h="619">
                <a:moveTo>
                  <a:pt x="471" y="265"/>
                </a:moveTo>
                <a:lnTo>
                  <a:pt x="471" y="265"/>
                </a:lnTo>
                <a:cubicBezTo>
                  <a:pt x="162" y="265"/>
                  <a:pt x="162" y="265"/>
                  <a:pt x="162" y="265"/>
                </a:cubicBezTo>
                <a:cubicBezTo>
                  <a:pt x="147" y="265"/>
                  <a:pt x="132" y="280"/>
                  <a:pt x="132" y="295"/>
                </a:cubicBezTo>
                <a:cubicBezTo>
                  <a:pt x="132" y="295"/>
                  <a:pt x="147" y="309"/>
                  <a:pt x="162" y="309"/>
                </a:cubicBezTo>
                <a:cubicBezTo>
                  <a:pt x="471" y="309"/>
                  <a:pt x="471" y="309"/>
                  <a:pt x="471" y="309"/>
                </a:cubicBezTo>
                <a:cubicBezTo>
                  <a:pt x="485" y="309"/>
                  <a:pt x="485" y="295"/>
                  <a:pt x="485" y="295"/>
                </a:cubicBezTo>
                <a:cubicBezTo>
                  <a:pt x="485" y="280"/>
                  <a:pt x="485" y="265"/>
                  <a:pt x="471" y="265"/>
                </a:cubicBezTo>
                <a:close/>
                <a:moveTo>
                  <a:pt x="471" y="383"/>
                </a:moveTo>
                <a:lnTo>
                  <a:pt x="471" y="383"/>
                </a:lnTo>
                <a:cubicBezTo>
                  <a:pt x="162" y="383"/>
                  <a:pt x="162" y="383"/>
                  <a:pt x="162" y="383"/>
                </a:cubicBezTo>
                <a:cubicBezTo>
                  <a:pt x="147" y="383"/>
                  <a:pt x="132" y="398"/>
                  <a:pt x="132" y="412"/>
                </a:cubicBezTo>
                <a:cubicBezTo>
                  <a:pt x="132" y="412"/>
                  <a:pt x="147" y="427"/>
                  <a:pt x="162" y="427"/>
                </a:cubicBezTo>
                <a:cubicBezTo>
                  <a:pt x="471" y="427"/>
                  <a:pt x="471" y="427"/>
                  <a:pt x="471" y="427"/>
                </a:cubicBezTo>
                <a:cubicBezTo>
                  <a:pt x="485" y="427"/>
                  <a:pt x="485" y="412"/>
                  <a:pt x="485" y="412"/>
                </a:cubicBezTo>
                <a:cubicBezTo>
                  <a:pt x="485" y="398"/>
                  <a:pt x="485" y="383"/>
                  <a:pt x="471" y="383"/>
                </a:cubicBezTo>
                <a:close/>
                <a:moveTo>
                  <a:pt x="544" y="0"/>
                </a:moveTo>
                <a:lnTo>
                  <a:pt x="544" y="0"/>
                </a:lnTo>
                <a:cubicBezTo>
                  <a:pt x="73" y="0"/>
                  <a:pt x="73" y="0"/>
                  <a:pt x="73" y="0"/>
                </a:cubicBezTo>
                <a:cubicBezTo>
                  <a:pt x="29" y="0"/>
                  <a:pt x="0" y="29"/>
                  <a:pt x="0" y="74"/>
                </a:cubicBezTo>
                <a:cubicBezTo>
                  <a:pt x="0" y="545"/>
                  <a:pt x="0" y="545"/>
                  <a:pt x="0" y="545"/>
                </a:cubicBezTo>
                <a:cubicBezTo>
                  <a:pt x="0" y="589"/>
                  <a:pt x="29" y="618"/>
                  <a:pt x="73" y="618"/>
                </a:cubicBezTo>
                <a:cubicBezTo>
                  <a:pt x="544" y="618"/>
                  <a:pt x="544" y="618"/>
                  <a:pt x="544" y="618"/>
                </a:cubicBezTo>
                <a:cubicBezTo>
                  <a:pt x="588" y="618"/>
                  <a:pt x="633" y="589"/>
                  <a:pt x="633" y="545"/>
                </a:cubicBezTo>
                <a:cubicBezTo>
                  <a:pt x="633" y="74"/>
                  <a:pt x="633" y="74"/>
                  <a:pt x="633" y="74"/>
                </a:cubicBezTo>
                <a:cubicBezTo>
                  <a:pt x="633" y="29"/>
                  <a:pt x="588" y="0"/>
                  <a:pt x="544" y="0"/>
                </a:cubicBezTo>
                <a:close/>
                <a:moveTo>
                  <a:pt x="588" y="545"/>
                </a:moveTo>
                <a:lnTo>
                  <a:pt x="588" y="545"/>
                </a:lnTo>
                <a:cubicBezTo>
                  <a:pt x="588" y="559"/>
                  <a:pt x="574" y="589"/>
                  <a:pt x="544" y="589"/>
                </a:cubicBezTo>
                <a:cubicBezTo>
                  <a:pt x="73" y="589"/>
                  <a:pt x="73" y="589"/>
                  <a:pt x="73" y="589"/>
                </a:cubicBezTo>
                <a:cubicBezTo>
                  <a:pt x="58" y="589"/>
                  <a:pt x="44" y="559"/>
                  <a:pt x="44" y="545"/>
                </a:cubicBezTo>
                <a:cubicBezTo>
                  <a:pt x="44" y="74"/>
                  <a:pt x="44" y="74"/>
                  <a:pt x="44" y="74"/>
                </a:cubicBezTo>
                <a:cubicBezTo>
                  <a:pt x="44" y="59"/>
                  <a:pt x="58" y="29"/>
                  <a:pt x="73" y="29"/>
                </a:cubicBezTo>
                <a:cubicBezTo>
                  <a:pt x="544" y="29"/>
                  <a:pt x="544" y="29"/>
                  <a:pt x="544" y="29"/>
                </a:cubicBezTo>
                <a:cubicBezTo>
                  <a:pt x="574" y="29"/>
                  <a:pt x="588" y="59"/>
                  <a:pt x="588" y="74"/>
                </a:cubicBezTo>
                <a:lnTo>
                  <a:pt x="588" y="545"/>
                </a:lnTo>
                <a:close/>
                <a:moveTo>
                  <a:pt x="471" y="147"/>
                </a:moveTo>
                <a:lnTo>
                  <a:pt x="471" y="147"/>
                </a:lnTo>
                <a:cubicBezTo>
                  <a:pt x="162" y="147"/>
                  <a:pt x="162" y="147"/>
                  <a:pt x="162" y="147"/>
                </a:cubicBezTo>
                <a:cubicBezTo>
                  <a:pt x="147" y="147"/>
                  <a:pt x="132" y="162"/>
                  <a:pt x="132" y="177"/>
                </a:cubicBezTo>
                <a:cubicBezTo>
                  <a:pt x="132" y="177"/>
                  <a:pt x="147" y="192"/>
                  <a:pt x="162" y="192"/>
                </a:cubicBezTo>
                <a:cubicBezTo>
                  <a:pt x="471" y="192"/>
                  <a:pt x="471" y="192"/>
                  <a:pt x="471" y="192"/>
                </a:cubicBezTo>
                <a:cubicBezTo>
                  <a:pt x="485" y="192"/>
                  <a:pt x="485" y="177"/>
                  <a:pt x="485" y="177"/>
                </a:cubicBezTo>
                <a:cubicBezTo>
                  <a:pt x="485" y="162"/>
                  <a:pt x="485" y="147"/>
                  <a:pt x="471" y="147"/>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88" name="稻壳儿小白白(http://dwz.cn/Wu2UP)"/>
          <p:cNvSpPr/>
          <p:nvPr/>
        </p:nvSpPr>
        <p:spPr>
          <a:xfrm>
            <a:off x="5886360" y="1060560"/>
            <a:ext cx="354240" cy="495360"/>
          </a:xfrm>
          <a:custGeom>
            <a:avLst/>
            <a:gdLst/>
            <a:ahLst/>
            <a:rect l="l" t="t" r="r" b="b"/>
            <a:pathLst>
              <a:path w="443" h="619">
                <a:moveTo>
                  <a:pt x="339" y="309"/>
                </a:moveTo>
                <a:lnTo>
                  <a:pt x="339" y="309"/>
                </a:lnTo>
                <a:cubicBezTo>
                  <a:pt x="103" y="309"/>
                  <a:pt x="103" y="309"/>
                  <a:pt x="103" y="309"/>
                </a:cubicBezTo>
                <a:cubicBezTo>
                  <a:pt x="89" y="309"/>
                  <a:pt x="89" y="324"/>
                  <a:pt x="89" y="324"/>
                </a:cubicBezTo>
                <a:cubicBezTo>
                  <a:pt x="89" y="339"/>
                  <a:pt x="89" y="354"/>
                  <a:pt x="103" y="354"/>
                </a:cubicBezTo>
                <a:cubicBezTo>
                  <a:pt x="339" y="354"/>
                  <a:pt x="339" y="354"/>
                  <a:pt x="339" y="354"/>
                </a:cubicBezTo>
                <a:cubicBezTo>
                  <a:pt x="353" y="354"/>
                  <a:pt x="353" y="339"/>
                  <a:pt x="353" y="324"/>
                </a:cubicBezTo>
                <a:cubicBezTo>
                  <a:pt x="353" y="324"/>
                  <a:pt x="353" y="309"/>
                  <a:pt x="339" y="309"/>
                </a:cubicBezTo>
                <a:close/>
                <a:moveTo>
                  <a:pt x="339" y="427"/>
                </a:moveTo>
                <a:lnTo>
                  <a:pt x="339" y="427"/>
                </a:lnTo>
                <a:cubicBezTo>
                  <a:pt x="103" y="427"/>
                  <a:pt x="103" y="427"/>
                  <a:pt x="103" y="427"/>
                </a:cubicBezTo>
                <a:cubicBezTo>
                  <a:pt x="89" y="427"/>
                  <a:pt x="89" y="442"/>
                  <a:pt x="89" y="442"/>
                </a:cubicBezTo>
                <a:cubicBezTo>
                  <a:pt x="89" y="457"/>
                  <a:pt x="89" y="471"/>
                  <a:pt x="103" y="471"/>
                </a:cubicBezTo>
                <a:cubicBezTo>
                  <a:pt x="339" y="471"/>
                  <a:pt x="339" y="471"/>
                  <a:pt x="339" y="471"/>
                </a:cubicBezTo>
                <a:cubicBezTo>
                  <a:pt x="353" y="471"/>
                  <a:pt x="353" y="457"/>
                  <a:pt x="353" y="442"/>
                </a:cubicBezTo>
                <a:cubicBezTo>
                  <a:pt x="353" y="442"/>
                  <a:pt x="353" y="427"/>
                  <a:pt x="339" y="427"/>
                </a:cubicBezTo>
                <a:close/>
                <a:moveTo>
                  <a:pt x="339" y="192"/>
                </a:moveTo>
                <a:lnTo>
                  <a:pt x="339" y="192"/>
                </a:lnTo>
                <a:cubicBezTo>
                  <a:pt x="103" y="192"/>
                  <a:pt x="103" y="192"/>
                  <a:pt x="103" y="192"/>
                </a:cubicBezTo>
                <a:cubicBezTo>
                  <a:pt x="89" y="192"/>
                  <a:pt x="89" y="206"/>
                  <a:pt x="89" y="206"/>
                </a:cubicBezTo>
                <a:cubicBezTo>
                  <a:pt x="89" y="221"/>
                  <a:pt x="89" y="236"/>
                  <a:pt x="103" y="236"/>
                </a:cubicBezTo>
                <a:cubicBezTo>
                  <a:pt x="339" y="236"/>
                  <a:pt x="339" y="236"/>
                  <a:pt x="339" y="236"/>
                </a:cubicBezTo>
                <a:cubicBezTo>
                  <a:pt x="353" y="236"/>
                  <a:pt x="353" y="221"/>
                  <a:pt x="353" y="206"/>
                </a:cubicBezTo>
                <a:cubicBezTo>
                  <a:pt x="353" y="206"/>
                  <a:pt x="353" y="192"/>
                  <a:pt x="339" y="192"/>
                </a:cubicBezTo>
                <a:close/>
                <a:moveTo>
                  <a:pt x="353" y="29"/>
                </a:moveTo>
                <a:lnTo>
                  <a:pt x="353" y="29"/>
                </a:lnTo>
                <a:cubicBezTo>
                  <a:pt x="353" y="0"/>
                  <a:pt x="353" y="0"/>
                  <a:pt x="353" y="0"/>
                </a:cubicBezTo>
                <a:cubicBezTo>
                  <a:pt x="324" y="0"/>
                  <a:pt x="324" y="0"/>
                  <a:pt x="324" y="0"/>
                </a:cubicBezTo>
                <a:cubicBezTo>
                  <a:pt x="324" y="29"/>
                  <a:pt x="324" y="29"/>
                  <a:pt x="324" y="29"/>
                </a:cubicBezTo>
                <a:cubicBezTo>
                  <a:pt x="236" y="29"/>
                  <a:pt x="236" y="29"/>
                  <a:pt x="236" y="29"/>
                </a:cubicBezTo>
                <a:cubicBezTo>
                  <a:pt x="236" y="0"/>
                  <a:pt x="236" y="0"/>
                  <a:pt x="236" y="0"/>
                </a:cubicBezTo>
                <a:cubicBezTo>
                  <a:pt x="206" y="0"/>
                  <a:pt x="206" y="0"/>
                  <a:pt x="206" y="0"/>
                </a:cubicBezTo>
                <a:cubicBezTo>
                  <a:pt x="206" y="29"/>
                  <a:pt x="206" y="29"/>
                  <a:pt x="206" y="29"/>
                </a:cubicBezTo>
                <a:cubicBezTo>
                  <a:pt x="118" y="29"/>
                  <a:pt x="118" y="29"/>
                  <a:pt x="118" y="29"/>
                </a:cubicBezTo>
                <a:cubicBezTo>
                  <a:pt x="118" y="0"/>
                  <a:pt x="118" y="0"/>
                  <a:pt x="118" y="0"/>
                </a:cubicBezTo>
                <a:cubicBezTo>
                  <a:pt x="89" y="0"/>
                  <a:pt x="89" y="0"/>
                  <a:pt x="89" y="0"/>
                </a:cubicBezTo>
                <a:cubicBezTo>
                  <a:pt x="89" y="29"/>
                  <a:pt x="89" y="29"/>
                  <a:pt x="89" y="29"/>
                </a:cubicBezTo>
                <a:cubicBezTo>
                  <a:pt x="44" y="29"/>
                  <a:pt x="0" y="74"/>
                  <a:pt x="0" y="118"/>
                </a:cubicBezTo>
                <a:cubicBezTo>
                  <a:pt x="0" y="545"/>
                  <a:pt x="0" y="545"/>
                  <a:pt x="0" y="545"/>
                </a:cubicBezTo>
                <a:cubicBezTo>
                  <a:pt x="0" y="589"/>
                  <a:pt x="44" y="618"/>
                  <a:pt x="89" y="618"/>
                </a:cubicBezTo>
                <a:cubicBezTo>
                  <a:pt x="353" y="618"/>
                  <a:pt x="353" y="618"/>
                  <a:pt x="353" y="618"/>
                </a:cubicBezTo>
                <a:cubicBezTo>
                  <a:pt x="398" y="618"/>
                  <a:pt x="442" y="589"/>
                  <a:pt x="442" y="545"/>
                </a:cubicBezTo>
                <a:cubicBezTo>
                  <a:pt x="442" y="118"/>
                  <a:pt x="442" y="118"/>
                  <a:pt x="442" y="118"/>
                </a:cubicBezTo>
                <a:cubicBezTo>
                  <a:pt x="442" y="74"/>
                  <a:pt x="398" y="29"/>
                  <a:pt x="353" y="29"/>
                </a:cubicBezTo>
                <a:close/>
                <a:moveTo>
                  <a:pt x="398" y="545"/>
                </a:moveTo>
                <a:lnTo>
                  <a:pt x="398" y="545"/>
                </a:lnTo>
                <a:cubicBezTo>
                  <a:pt x="398" y="559"/>
                  <a:pt x="383" y="589"/>
                  <a:pt x="353" y="589"/>
                </a:cubicBezTo>
                <a:cubicBezTo>
                  <a:pt x="89" y="589"/>
                  <a:pt x="89" y="589"/>
                  <a:pt x="89" y="589"/>
                </a:cubicBezTo>
                <a:cubicBezTo>
                  <a:pt x="59" y="589"/>
                  <a:pt x="44" y="559"/>
                  <a:pt x="44" y="545"/>
                </a:cubicBezTo>
                <a:cubicBezTo>
                  <a:pt x="44" y="118"/>
                  <a:pt x="44" y="118"/>
                  <a:pt x="44" y="118"/>
                </a:cubicBezTo>
                <a:cubicBezTo>
                  <a:pt x="44" y="88"/>
                  <a:pt x="59" y="74"/>
                  <a:pt x="89" y="74"/>
                </a:cubicBezTo>
                <a:cubicBezTo>
                  <a:pt x="353" y="74"/>
                  <a:pt x="353" y="74"/>
                  <a:pt x="353" y="74"/>
                </a:cubicBezTo>
                <a:cubicBezTo>
                  <a:pt x="383" y="74"/>
                  <a:pt x="398" y="88"/>
                  <a:pt x="398" y="118"/>
                </a:cubicBezTo>
                <a:lnTo>
                  <a:pt x="398" y="545"/>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89" name="稻壳儿小白白(http://dwz.cn/Wu2UP)"/>
          <p:cNvSpPr/>
          <p:nvPr/>
        </p:nvSpPr>
        <p:spPr>
          <a:xfrm>
            <a:off x="5021280" y="1060560"/>
            <a:ext cx="439560" cy="495360"/>
          </a:xfrm>
          <a:custGeom>
            <a:avLst/>
            <a:gdLst/>
            <a:ahLst/>
            <a:rect l="l" t="t" r="r" b="b"/>
            <a:pathLst>
              <a:path w="546" h="619">
                <a:moveTo>
                  <a:pt x="413" y="368"/>
                </a:moveTo>
                <a:lnTo>
                  <a:pt x="413" y="368"/>
                </a:lnTo>
                <a:cubicBezTo>
                  <a:pt x="236" y="368"/>
                  <a:pt x="236" y="368"/>
                  <a:pt x="236" y="368"/>
                </a:cubicBezTo>
                <a:cubicBezTo>
                  <a:pt x="221" y="368"/>
                  <a:pt x="221" y="383"/>
                  <a:pt x="221" y="383"/>
                </a:cubicBezTo>
                <a:cubicBezTo>
                  <a:pt x="221" y="398"/>
                  <a:pt x="221" y="412"/>
                  <a:pt x="236" y="412"/>
                </a:cubicBezTo>
                <a:cubicBezTo>
                  <a:pt x="413" y="412"/>
                  <a:pt x="413" y="412"/>
                  <a:pt x="413" y="412"/>
                </a:cubicBezTo>
                <a:cubicBezTo>
                  <a:pt x="427" y="412"/>
                  <a:pt x="427" y="398"/>
                  <a:pt x="427" y="383"/>
                </a:cubicBezTo>
                <a:cubicBezTo>
                  <a:pt x="427" y="383"/>
                  <a:pt x="427" y="368"/>
                  <a:pt x="413" y="368"/>
                </a:cubicBezTo>
                <a:close/>
                <a:moveTo>
                  <a:pt x="413" y="265"/>
                </a:moveTo>
                <a:lnTo>
                  <a:pt x="413" y="265"/>
                </a:lnTo>
                <a:cubicBezTo>
                  <a:pt x="236" y="265"/>
                  <a:pt x="236" y="265"/>
                  <a:pt x="236" y="265"/>
                </a:cubicBezTo>
                <a:cubicBezTo>
                  <a:pt x="221" y="265"/>
                  <a:pt x="221" y="280"/>
                  <a:pt x="221" y="295"/>
                </a:cubicBezTo>
                <a:cubicBezTo>
                  <a:pt x="221" y="295"/>
                  <a:pt x="221" y="309"/>
                  <a:pt x="236" y="309"/>
                </a:cubicBezTo>
                <a:cubicBezTo>
                  <a:pt x="413" y="309"/>
                  <a:pt x="413" y="309"/>
                  <a:pt x="413" y="309"/>
                </a:cubicBezTo>
                <a:cubicBezTo>
                  <a:pt x="427" y="309"/>
                  <a:pt x="427" y="295"/>
                  <a:pt x="427" y="295"/>
                </a:cubicBezTo>
                <a:cubicBezTo>
                  <a:pt x="427" y="280"/>
                  <a:pt x="427" y="265"/>
                  <a:pt x="413" y="265"/>
                </a:cubicBezTo>
                <a:close/>
                <a:moveTo>
                  <a:pt x="413" y="0"/>
                </a:moveTo>
                <a:lnTo>
                  <a:pt x="413" y="0"/>
                </a:lnTo>
                <a:lnTo>
                  <a:pt x="177" y="0"/>
                </a:lnTo>
                <a:cubicBezTo>
                  <a:pt x="133" y="0"/>
                  <a:pt x="104" y="29"/>
                  <a:pt x="104" y="74"/>
                </a:cubicBezTo>
                <a:cubicBezTo>
                  <a:pt x="74" y="74"/>
                  <a:pt x="74" y="74"/>
                  <a:pt x="74" y="74"/>
                </a:cubicBezTo>
                <a:cubicBezTo>
                  <a:pt x="30" y="74"/>
                  <a:pt x="0" y="118"/>
                  <a:pt x="0" y="147"/>
                </a:cubicBezTo>
                <a:cubicBezTo>
                  <a:pt x="0" y="545"/>
                  <a:pt x="0" y="545"/>
                  <a:pt x="0" y="545"/>
                </a:cubicBezTo>
                <a:cubicBezTo>
                  <a:pt x="0" y="589"/>
                  <a:pt x="45" y="618"/>
                  <a:pt x="74" y="618"/>
                </a:cubicBezTo>
                <a:cubicBezTo>
                  <a:pt x="368" y="618"/>
                  <a:pt x="368" y="618"/>
                  <a:pt x="368" y="618"/>
                </a:cubicBezTo>
                <a:cubicBezTo>
                  <a:pt x="413" y="618"/>
                  <a:pt x="457" y="589"/>
                  <a:pt x="457" y="545"/>
                </a:cubicBezTo>
                <a:cubicBezTo>
                  <a:pt x="472" y="545"/>
                  <a:pt x="472" y="545"/>
                  <a:pt x="472" y="545"/>
                </a:cubicBezTo>
                <a:cubicBezTo>
                  <a:pt x="516" y="545"/>
                  <a:pt x="545" y="501"/>
                  <a:pt x="545" y="471"/>
                </a:cubicBezTo>
                <a:cubicBezTo>
                  <a:pt x="545" y="192"/>
                  <a:pt x="545" y="192"/>
                  <a:pt x="545" y="192"/>
                </a:cubicBezTo>
                <a:cubicBezTo>
                  <a:pt x="545" y="147"/>
                  <a:pt x="545" y="147"/>
                  <a:pt x="545" y="147"/>
                </a:cubicBezTo>
                <a:lnTo>
                  <a:pt x="413" y="0"/>
                </a:lnTo>
                <a:close/>
                <a:moveTo>
                  <a:pt x="368" y="589"/>
                </a:moveTo>
                <a:lnTo>
                  <a:pt x="368" y="589"/>
                </a:lnTo>
                <a:cubicBezTo>
                  <a:pt x="74" y="589"/>
                  <a:pt x="74" y="589"/>
                  <a:pt x="74" y="589"/>
                </a:cubicBezTo>
                <a:cubicBezTo>
                  <a:pt x="59" y="589"/>
                  <a:pt x="45" y="559"/>
                  <a:pt x="45" y="545"/>
                </a:cubicBezTo>
                <a:cubicBezTo>
                  <a:pt x="45" y="147"/>
                  <a:pt x="45" y="147"/>
                  <a:pt x="45" y="147"/>
                </a:cubicBezTo>
                <a:cubicBezTo>
                  <a:pt x="45" y="133"/>
                  <a:pt x="59" y="118"/>
                  <a:pt x="74" y="118"/>
                </a:cubicBezTo>
                <a:cubicBezTo>
                  <a:pt x="104" y="118"/>
                  <a:pt x="104" y="118"/>
                  <a:pt x="104" y="118"/>
                </a:cubicBezTo>
                <a:cubicBezTo>
                  <a:pt x="104" y="471"/>
                  <a:pt x="104" y="471"/>
                  <a:pt x="104" y="471"/>
                </a:cubicBezTo>
                <a:cubicBezTo>
                  <a:pt x="104" y="501"/>
                  <a:pt x="133" y="545"/>
                  <a:pt x="177" y="545"/>
                </a:cubicBezTo>
                <a:cubicBezTo>
                  <a:pt x="413" y="545"/>
                  <a:pt x="413" y="545"/>
                  <a:pt x="413" y="545"/>
                </a:cubicBezTo>
                <a:cubicBezTo>
                  <a:pt x="413" y="559"/>
                  <a:pt x="398" y="589"/>
                  <a:pt x="368" y="589"/>
                </a:cubicBezTo>
                <a:close/>
                <a:moveTo>
                  <a:pt x="516" y="471"/>
                </a:moveTo>
                <a:lnTo>
                  <a:pt x="516" y="471"/>
                </a:lnTo>
                <a:cubicBezTo>
                  <a:pt x="516" y="486"/>
                  <a:pt x="486" y="501"/>
                  <a:pt x="472" y="501"/>
                </a:cubicBezTo>
                <a:cubicBezTo>
                  <a:pt x="177" y="501"/>
                  <a:pt x="177" y="501"/>
                  <a:pt x="177" y="501"/>
                </a:cubicBezTo>
                <a:cubicBezTo>
                  <a:pt x="163" y="501"/>
                  <a:pt x="133" y="486"/>
                  <a:pt x="133" y="471"/>
                </a:cubicBezTo>
                <a:cubicBezTo>
                  <a:pt x="133" y="74"/>
                  <a:pt x="133" y="74"/>
                  <a:pt x="133" y="74"/>
                </a:cubicBezTo>
                <a:cubicBezTo>
                  <a:pt x="133" y="59"/>
                  <a:pt x="163" y="29"/>
                  <a:pt x="177" y="29"/>
                </a:cubicBezTo>
                <a:cubicBezTo>
                  <a:pt x="368" y="29"/>
                  <a:pt x="368" y="29"/>
                  <a:pt x="368" y="29"/>
                </a:cubicBezTo>
                <a:cubicBezTo>
                  <a:pt x="368" y="74"/>
                  <a:pt x="368" y="118"/>
                  <a:pt x="368" y="118"/>
                </a:cubicBezTo>
                <a:cubicBezTo>
                  <a:pt x="368" y="147"/>
                  <a:pt x="413" y="192"/>
                  <a:pt x="457" y="192"/>
                </a:cubicBezTo>
                <a:cubicBezTo>
                  <a:pt x="457" y="192"/>
                  <a:pt x="472" y="192"/>
                  <a:pt x="516" y="192"/>
                </a:cubicBezTo>
                <a:lnTo>
                  <a:pt x="516" y="471"/>
                </a:lnTo>
                <a:close/>
                <a:moveTo>
                  <a:pt x="457" y="147"/>
                </a:moveTo>
                <a:lnTo>
                  <a:pt x="457" y="147"/>
                </a:lnTo>
                <a:cubicBezTo>
                  <a:pt x="427" y="147"/>
                  <a:pt x="413" y="118"/>
                  <a:pt x="413" y="88"/>
                </a:cubicBezTo>
                <a:cubicBezTo>
                  <a:pt x="413" y="88"/>
                  <a:pt x="413" y="74"/>
                  <a:pt x="413" y="29"/>
                </a:cubicBezTo>
                <a:cubicBezTo>
                  <a:pt x="516" y="147"/>
                  <a:pt x="516" y="147"/>
                  <a:pt x="516" y="147"/>
                </a:cubicBezTo>
                <a:lnTo>
                  <a:pt x="457" y="147"/>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90" name="稻壳儿小白白(http://dwz.cn/Wu2UP)"/>
          <p:cNvSpPr/>
          <p:nvPr/>
        </p:nvSpPr>
        <p:spPr>
          <a:xfrm>
            <a:off x="4205160" y="1060560"/>
            <a:ext cx="405000" cy="495360"/>
          </a:xfrm>
          <a:custGeom>
            <a:avLst/>
            <a:gdLst/>
            <a:ahLst/>
            <a:rect l="l" t="t" r="r" b="b"/>
            <a:pathLst>
              <a:path w="501" h="619">
                <a:moveTo>
                  <a:pt x="353" y="0"/>
                </a:moveTo>
                <a:lnTo>
                  <a:pt x="353" y="0"/>
                </a:lnTo>
                <a:cubicBezTo>
                  <a:pt x="339" y="0"/>
                  <a:pt x="339" y="0"/>
                  <a:pt x="309" y="0"/>
                </a:cubicBezTo>
                <a:cubicBezTo>
                  <a:pt x="73" y="0"/>
                  <a:pt x="73" y="0"/>
                  <a:pt x="73" y="0"/>
                </a:cubicBezTo>
                <a:cubicBezTo>
                  <a:pt x="29" y="0"/>
                  <a:pt x="0" y="29"/>
                  <a:pt x="0" y="74"/>
                </a:cubicBezTo>
                <a:cubicBezTo>
                  <a:pt x="0" y="545"/>
                  <a:pt x="0" y="545"/>
                  <a:pt x="0" y="545"/>
                </a:cubicBezTo>
                <a:cubicBezTo>
                  <a:pt x="0" y="589"/>
                  <a:pt x="29" y="618"/>
                  <a:pt x="73" y="618"/>
                </a:cubicBezTo>
                <a:cubicBezTo>
                  <a:pt x="427" y="618"/>
                  <a:pt x="427" y="618"/>
                  <a:pt x="427" y="618"/>
                </a:cubicBezTo>
                <a:cubicBezTo>
                  <a:pt x="471" y="618"/>
                  <a:pt x="500" y="589"/>
                  <a:pt x="500" y="545"/>
                </a:cubicBezTo>
                <a:cubicBezTo>
                  <a:pt x="500" y="192"/>
                  <a:pt x="500" y="192"/>
                  <a:pt x="500" y="192"/>
                </a:cubicBezTo>
                <a:cubicBezTo>
                  <a:pt x="500" y="192"/>
                  <a:pt x="500" y="177"/>
                  <a:pt x="500" y="147"/>
                </a:cubicBezTo>
                <a:lnTo>
                  <a:pt x="353" y="0"/>
                </a:lnTo>
                <a:close/>
                <a:moveTo>
                  <a:pt x="471" y="545"/>
                </a:moveTo>
                <a:lnTo>
                  <a:pt x="471" y="545"/>
                </a:lnTo>
                <a:cubicBezTo>
                  <a:pt x="471" y="559"/>
                  <a:pt x="441" y="589"/>
                  <a:pt x="427" y="589"/>
                </a:cubicBezTo>
                <a:cubicBezTo>
                  <a:pt x="73" y="589"/>
                  <a:pt x="73" y="589"/>
                  <a:pt x="73" y="589"/>
                </a:cubicBezTo>
                <a:cubicBezTo>
                  <a:pt x="59" y="589"/>
                  <a:pt x="29" y="559"/>
                  <a:pt x="29" y="545"/>
                </a:cubicBezTo>
                <a:cubicBezTo>
                  <a:pt x="29" y="74"/>
                  <a:pt x="29" y="74"/>
                  <a:pt x="29" y="74"/>
                </a:cubicBezTo>
                <a:cubicBezTo>
                  <a:pt x="29" y="59"/>
                  <a:pt x="59" y="29"/>
                  <a:pt x="73" y="29"/>
                </a:cubicBezTo>
                <a:cubicBezTo>
                  <a:pt x="309" y="29"/>
                  <a:pt x="309" y="29"/>
                  <a:pt x="309" y="29"/>
                </a:cubicBezTo>
                <a:cubicBezTo>
                  <a:pt x="309" y="88"/>
                  <a:pt x="309" y="118"/>
                  <a:pt x="309" y="118"/>
                </a:cubicBezTo>
                <a:cubicBezTo>
                  <a:pt x="309" y="162"/>
                  <a:pt x="339" y="192"/>
                  <a:pt x="382" y="192"/>
                </a:cubicBezTo>
                <a:cubicBezTo>
                  <a:pt x="382" y="192"/>
                  <a:pt x="427" y="192"/>
                  <a:pt x="471" y="192"/>
                </a:cubicBezTo>
                <a:lnTo>
                  <a:pt x="471" y="545"/>
                </a:lnTo>
                <a:close/>
                <a:moveTo>
                  <a:pt x="382" y="147"/>
                </a:moveTo>
                <a:lnTo>
                  <a:pt x="382" y="147"/>
                </a:lnTo>
                <a:cubicBezTo>
                  <a:pt x="368" y="147"/>
                  <a:pt x="353" y="133"/>
                  <a:pt x="353" y="118"/>
                </a:cubicBezTo>
                <a:cubicBezTo>
                  <a:pt x="353" y="118"/>
                  <a:pt x="353" y="88"/>
                  <a:pt x="353" y="29"/>
                </a:cubicBezTo>
                <a:cubicBezTo>
                  <a:pt x="471" y="147"/>
                  <a:pt x="471" y="147"/>
                  <a:pt x="471" y="147"/>
                </a:cubicBezTo>
                <a:lnTo>
                  <a:pt x="382" y="147"/>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91" name="稻壳儿小白白(http://dwz.cn/Wu2UP)"/>
          <p:cNvSpPr/>
          <p:nvPr/>
        </p:nvSpPr>
        <p:spPr>
          <a:xfrm>
            <a:off x="3402000" y="1060560"/>
            <a:ext cx="403200" cy="495360"/>
          </a:xfrm>
          <a:custGeom>
            <a:avLst/>
            <a:gdLst/>
            <a:ahLst/>
            <a:rect l="l" t="t" r="r" b="b"/>
            <a:pathLst>
              <a:path w="501" h="619">
                <a:moveTo>
                  <a:pt x="353" y="0"/>
                </a:moveTo>
                <a:lnTo>
                  <a:pt x="353" y="0"/>
                </a:lnTo>
                <a:cubicBezTo>
                  <a:pt x="338" y="0"/>
                  <a:pt x="338" y="0"/>
                  <a:pt x="309" y="0"/>
                </a:cubicBezTo>
                <a:cubicBezTo>
                  <a:pt x="73" y="0"/>
                  <a:pt x="73" y="0"/>
                  <a:pt x="73" y="0"/>
                </a:cubicBezTo>
                <a:cubicBezTo>
                  <a:pt x="29" y="0"/>
                  <a:pt x="0" y="29"/>
                  <a:pt x="0" y="74"/>
                </a:cubicBezTo>
                <a:cubicBezTo>
                  <a:pt x="0" y="545"/>
                  <a:pt x="0" y="545"/>
                  <a:pt x="0" y="545"/>
                </a:cubicBezTo>
                <a:cubicBezTo>
                  <a:pt x="0" y="589"/>
                  <a:pt x="29" y="618"/>
                  <a:pt x="73" y="618"/>
                </a:cubicBezTo>
                <a:cubicBezTo>
                  <a:pt x="427" y="618"/>
                  <a:pt x="427" y="618"/>
                  <a:pt x="427" y="618"/>
                </a:cubicBezTo>
                <a:cubicBezTo>
                  <a:pt x="471" y="618"/>
                  <a:pt x="500" y="589"/>
                  <a:pt x="500" y="545"/>
                </a:cubicBezTo>
                <a:cubicBezTo>
                  <a:pt x="500" y="147"/>
                  <a:pt x="500" y="147"/>
                  <a:pt x="500" y="147"/>
                </a:cubicBezTo>
                <a:lnTo>
                  <a:pt x="353" y="0"/>
                </a:lnTo>
                <a:close/>
                <a:moveTo>
                  <a:pt x="471" y="545"/>
                </a:moveTo>
                <a:lnTo>
                  <a:pt x="471" y="545"/>
                </a:lnTo>
                <a:cubicBezTo>
                  <a:pt x="471" y="559"/>
                  <a:pt x="441" y="589"/>
                  <a:pt x="427" y="589"/>
                </a:cubicBezTo>
                <a:cubicBezTo>
                  <a:pt x="73" y="589"/>
                  <a:pt x="73" y="589"/>
                  <a:pt x="73" y="589"/>
                </a:cubicBezTo>
                <a:cubicBezTo>
                  <a:pt x="59" y="589"/>
                  <a:pt x="29" y="559"/>
                  <a:pt x="29" y="545"/>
                </a:cubicBezTo>
                <a:cubicBezTo>
                  <a:pt x="29" y="74"/>
                  <a:pt x="29" y="74"/>
                  <a:pt x="29" y="74"/>
                </a:cubicBezTo>
                <a:cubicBezTo>
                  <a:pt x="29" y="59"/>
                  <a:pt x="59" y="29"/>
                  <a:pt x="73" y="29"/>
                </a:cubicBezTo>
                <a:cubicBezTo>
                  <a:pt x="309" y="29"/>
                  <a:pt x="309" y="29"/>
                  <a:pt x="309" y="29"/>
                </a:cubicBezTo>
                <a:cubicBezTo>
                  <a:pt x="309" y="88"/>
                  <a:pt x="309" y="118"/>
                  <a:pt x="309" y="118"/>
                </a:cubicBezTo>
                <a:cubicBezTo>
                  <a:pt x="309" y="162"/>
                  <a:pt x="338" y="192"/>
                  <a:pt x="382" y="192"/>
                </a:cubicBezTo>
                <a:cubicBezTo>
                  <a:pt x="382" y="192"/>
                  <a:pt x="427" y="192"/>
                  <a:pt x="471" y="192"/>
                </a:cubicBezTo>
                <a:lnTo>
                  <a:pt x="471" y="545"/>
                </a:lnTo>
                <a:close/>
                <a:moveTo>
                  <a:pt x="382" y="147"/>
                </a:moveTo>
                <a:lnTo>
                  <a:pt x="382" y="147"/>
                </a:lnTo>
                <a:cubicBezTo>
                  <a:pt x="368" y="147"/>
                  <a:pt x="353" y="133"/>
                  <a:pt x="353" y="118"/>
                </a:cubicBezTo>
                <a:cubicBezTo>
                  <a:pt x="353" y="118"/>
                  <a:pt x="353" y="88"/>
                  <a:pt x="353" y="29"/>
                </a:cubicBezTo>
                <a:cubicBezTo>
                  <a:pt x="471" y="147"/>
                  <a:pt x="471" y="147"/>
                  <a:pt x="471" y="147"/>
                </a:cubicBezTo>
                <a:lnTo>
                  <a:pt x="382" y="147"/>
                </a:lnTo>
                <a:close/>
                <a:moveTo>
                  <a:pt x="368" y="427"/>
                </a:moveTo>
                <a:lnTo>
                  <a:pt x="368" y="427"/>
                </a:lnTo>
                <a:cubicBezTo>
                  <a:pt x="132" y="427"/>
                  <a:pt x="132" y="427"/>
                  <a:pt x="132" y="427"/>
                </a:cubicBezTo>
                <a:cubicBezTo>
                  <a:pt x="118" y="427"/>
                  <a:pt x="118" y="442"/>
                  <a:pt x="118" y="442"/>
                </a:cubicBezTo>
                <a:cubicBezTo>
                  <a:pt x="118" y="457"/>
                  <a:pt x="118" y="471"/>
                  <a:pt x="132" y="471"/>
                </a:cubicBezTo>
                <a:cubicBezTo>
                  <a:pt x="368" y="471"/>
                  <a:pt x="368" y="471"/>
                  <a:pt x="368" y="471"/>
                </a:cubicBezTo>
                <a:cubicBezTo>
                  <a:pt x="382" y="471"/>
                  <a:pt x="382" y="457"/>
                  <a:pt x="382" y="442"/>
                </a:cubicBezTo>
                <a:cubicBezTo>
                  <a:pt x="382" y="442"/>
                  <a:pt x="382" y="427"/>
                  <a:pt x="368" y="427"/>
                </a:cubicBezTo>
                <a:close/>
                <a:moveTo>
                  <a:pt x="368" y="309"/>
                </a:moveTo>
                <a:lnTo>
                  <a:pt x="368" y="309"/>
                </a:lnTo>
                <a:cubicBezTo>
                  <a:pt x="132" y="309"/>
                  <a:pt x="132" y="309"/>
                  <a:pt x="132" y="309"/>
                </a:cubicBezTo>
                <a:cubicBezTo>
                  <a:pt x="118" y="309"/>
                  <a:pt x="118" y="324"/>
                  <a:pt x="118" y="324"/>
                </a:cubicBezTo>
                <a:cubicBezTo>
                  <a:pt x="118" y="339"/>
                  <a:pt x="118" y="354"/>
                  <a:pt x="132" y="354"/>
                </a:cubicBezTo>
                <a:cubicBezTo>
                  <a:pt x="368" y="354"/>
                  <a:pt x="368" y="354"/>
                  <a:pt x="368" y="354"/>
                </a:cubicBezTo>
                <a:cubicBezTo>
                  <a:pt x="382" y="354"/>
                  <a:pt x="382" y="339"/>
                  <a:pt x="382" y="324"/>
                </a:cubicBezTo>
                <a:cubicBezTo>
                  <a:pt x="382" y="324"/>
                  <a:pt x="382" y="309"/>
                  <a:pt x="368" y="309"/>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92" name="稻壳儿小白白(http://dwz.cn/Wu2UP)"/>
          <p:cNvSpPr/>
          <p:nvPr/>
        </p:nvSpPr>
        <p:spPr>
          <a:xfrm>
            <a:off x="341280" y="304920"/>
            <a:ext cx="15400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ffff"/>
                </a:solidFill>
                <a:latin typeface="Arial"/>
                <a:ea typeface="微软雅黑"/>
              </a:rPr>
              <a:t>赠送图标</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d087d"/>
        </a:solidFill>
      </p:bgPr>
    </p:bg>
    <p:spTree>
      <p:nvGrpSpPr>
        <p:cNvPr id="1" name=""/>
        <p:cNvGrpSpPr/>
        <p:nvPr/>
      </p:nvGrpSpPr>
      <p:grpSpPr>
        <a:xfrm>
          <a:off x="0" y="0"/>
          <a:ext cx="0" cy="0"/>
          <a:chOff x="0" y="0"/>
          <a:chExt cx="0" cy="0"/>
        </a:xfrm>
      </p:grpSpPr>
      <p:pic>
        <p:nvPicPr>
          <p:cNvPr id="793" name="稻壳儿小白白(http://dwz.cn/Wu2UP)" descr=""/>
          <p:cNvPicPr/>
          <p:nvPr/>
        </p:nvPicPr>
        <p:blipFill>
          <a:blip r:embed="rId1"/>
          <a:stretch/>
        </p:blipFill>
        <p:spPr>
          <a:xfrm>
            <a:off x="2230560" y="1633680"/>
            <a:ext cx="463320" cy="457200"/>
          </a:xfrm>
          <a:prstGeom prst="rect">
            <a:avLst/>
          </a:prstGeom>
          <a:ln w="0">
            <a:noFill/>
          </a:ln>
        </p:spPr>
      </p:pic>
      <p:pic>
        <p:nvPicPr>
          <p:cNvPr id="794" name="稻壳儿小白白(http://dwz.cn/Wu2UP)" descr=""/>
          <p:cNvPicPr/>
          <p:nvPr/>
        </p:nvPicPr>
        <p:blipFill>
          <a:blip r:embed="rId2"/>
          <a:stretch/>
        </p:blipFill>
        <p:spPr>
          <a:xfrm>
            <a:off x="3121200" y="1639800"/>
            <a:ext cx="341280" cy="457200"/>
          </a:xfrm>
          <a:prstGeom prst="rect">
            <a:avLst/>
          </a:prstGeom>
          <a:ln w="0">
            <a:noFill/>
          </a:ln>
        </p:spPr>
      </p:pic>
      <p:sp>
        <p:nvSpPr>
          <p:cNvPr id="795" name="稻壳儿小白白(http://dwz.cn/Wu2UP)"/>
          <p:cNvSpPr/>
          <p:nvPr/>
        </p:nvSpPr>
        <p:spPr>
          <a:xfrm>
            <a:off x="5683320" y="3595680"/>
            <a:ext cx="401400" cy="460440"/>
          </a:xfrm>
          <a:custGeom>
            <a:avLst/>
            <a:gdLst/>
            <a:ahLst/>
            <a:rect l="l" t="t" r="r" b="b"/>
            <a:pathLst>
              <a:path w="108" h="123">
                <a:moveTo>
                  <a:pt x="101" y="19"/>
                </a:moveTo>
                <a:cubicBezTo>
                  <a:pt x="96" y="5"/>
                  <a:pt x="96" y="5"/>
                  <a:pt x="96" y="5"/>
                </a:cubicBezTo>
                <a:cubicBezTo>
                  <a:pt x="95" y="2"/>
                  <a:pt x="92" y="0"/>
                  <a:pt x="89" y="0"/>
                </a:cubicBezTo>
                <a:cubicBezTo>
                  <a:pt x="20" y="0"/>
                  <a:pt x="20" y="0"/>
                  <a:pt x="20" y="0"/>
                </a:cubicBezTo>
                <a:cubicBezTo>
                  <a:pt x="16" y="0"/>
                  <a:pt x="13" y="2"/>
                  <a:pt x="12" y="5"/>
                </a:cubicBezTo>
                <a:cubicBezTo>
                  <a:pt x="8" y="19"/>
                  <a:pt x="8" y="19"/>
                  <a:pt x="8" y="19"/>
                </a:cubicBezTo>
                <a:cubicBezTo>
                  <a:pt x="4" y="20"/>
                  <a:pt x="0" y="23"/>
                  <a:pt x="0" y="27"/>
                </a:cubicBezTo>
                <a:cubicBezTo>
                  <a:pt x="0" y="39"/>
                  <a:pt x="0" y="39"/>
                  <a:pt x="0" y="39"/>
                </a:cubicBezTo>
                <a:cubicBezTo>
                  <a:pt x="0" y="43"/>
                  <a:pt x="4" y="46"/>
                  <a:pt x="8" y="46"/>
                </a:cubicBezTo>
                <a:cubicBezTo>
                  <a:pt x="12" y="46"/>
                  <a:pt x="12" y="46"/>
                  <a:pt x="12" y="46"/>
                </a:cubicBezTo>
                <a:cubicBezTo>
                  <a:pt x="12" y="47"/>
                  <a:pt x="12" y="47"/>
                  <a:pt x="12" y="47"/>
                </a:cubicBezTo>
                <a:cubicBezTo>
                  <a:pt x="20" y="116"/>
                  <a:pt x="20" y="116"/>
                  <a:pt x="20" y="116"/>
                </a:cubicBezTo>
                <a:cubicBezTo>
                  <a:pt x="20" y="120"/>
                  <a:pt x="23" y="123"/>
                  <a:pt x="27" y="123"/>
                </a:cubicBezTo>
                <a:cubicBezTo>
                  <a:pt x="81" y="123"/>
                  <a:pt x="81" y="123"/>
                  <a:pt x="81" y="123"/>
                </a:cubicBezTo>
                <a:cubicBezTo>
                  <a:pt x="85" y="123"/>
                  <a:pt x="88" y="120"/>
                  <a:pt x="89" y="116"/>
                </a:cubicBezTo>
                <a:cubicBezTo>
                  <a:pt x="96" y="47"/>
                  <a:pt x="96" y="47"/>
                  <a:pt x="96" y="47"/>
                </a:cubicBezTo>
                <a:cubicBezTo>
                  <a:pt x="96" y="46"/>
                  <a:pt x="96" y="46"/>
                  <a:pt x="96" y="46"/>
                </a:cubicBezTo>
                <a:cubicBezTo>
                  <a:pt x="100" y="46"/>
                  <a:pt x="100" y="46"/>
                  <a:pt x="100" y="46"/>
                </a:cubicBezTo>
                <a:cubicBezTo>
                  <a:pt x="104" y="46"/>
                  <a:pt x="108" y="43"/>
                  <a:pt x="108" y="39"/>
                </a:cubicBezTo>
                <a:cubicBezTo>
                  <a:pt x="108" y="27"/>
                  <a:pt x="108" y="27"/>
                  <a:pt x="108" y="27"/>
                </a:cubicBezTo>
                <a:cubicBezTo>
                  <a:pt x="108" y="23"/>
                  <a:pt x="105" y="20"/>
                  <a:pt x="101" y="19"/>
                </a:cubicBezTo>
                <a:close/>
                <a:moveTo>
                  <a:pt x="20" y="8"/>
                </a:moveTo>
                <a:cubicBezTo>
                  <a:pt x="89" y="8"/>
                  <a:pt x="89" y="8"/>
                  <a:pt x="89" y="8"/>
                </a:cubicBezTo>
                <a:cubicBezTo>
                  <a:pt x="92" y="19"/>
                  <a:pt x="92" y="19"/>
                  <a:pt x="92" y="19"/>
                </a:cubicBezTo>
                <a:cubicBezTo>
                  <a:pt x="16" y="19"/>
                  <a:pt x="16" y="19"/>
                  <a:pt x="16" y="19"/>
                </a:cubicBezTo>
                <a:lnTo>
                  <a:pt x="20" y="8"/>
                </a:lnTo>
                <a:close/>
                <a:moveTo>
                  <a:pt x="81" y="115"/>
                </a:moveTo>
                <a:cubicBezTo>
                  <a:pt x="27" y="115"/>
                  <a:pt x="27" y="115"/>
                  <a:pt x="27" y="115"/>
                </a:cubicBezTo>
                <a:cubicBezTo>
                  <a:pt x="26" y="104"/>
                  <a:pt x="26" y="104"/>
                  <a:pt x="26" y="104"/>
                </a:cubicBezTo>
                <a:cubicBezTo>
                  <a:pt x="82" y="104"/>
                  <a:pt x="82" y="104"/>
                  <a:pt x="82" y="104"/>
                </a:cubicBezTo>
                <a:lnTo>
                  <a:pt x="81" y="115"/>
                </a:lnTo>
                <a:close/>
                <a:moveTo>
                  <a:pt x="83" y="100"/>
                </a:moveTo>
                <a:cubicBezTo>
                  <a:pt x="26" y="100"/>
                  <a:pt x="26" y="100"/>
                  <a:pt x="26" y="100"/>
                </a:cubicBezTo>
                <a:cubicBezTo>
                  <a:pt x="21" y="62"/>
                  <a:pt x="21" y="62"/>
                  <a:pt x="21" y="62"/>
                </a:cubicBezTo>
                <a:cubicBezTo>
                  <a:pt x="87" y="62"/>
                  <a:pt x="87" y="62"/>
                  <a:pt x="87" y="62"/>
                </a:cubicBezTo>
                <a:lnTo>
                  <a:pt x="83" y="100"/>
                </a:lnTo>
                <a:close/>
                <a:moveTo>
                  <a:pt x="87" y="58"/>
                </a:moveTo>
                <a:cubicBezTo>
                  <a:pt x="21" y="58"/>
                  <a:pt x="21" y="58"/>
                  <a:pt x="21" y="58"/>
                </a:cubicBezTo>
                <a:cubicBezTo>
                  <a:pt x="20" y="46"/>
                  <a:pt x="20" y="46"/>
                  <a:pt x="20" y="46"/>
                </a:cubicBezTo>
                <a:cubicBezTo>
                  <a:pt x="89" y="46"/>
                  <a:pt x="89" y="46"/>
                  <a:pt x="89" y="46"/>
                </a:cubicBezTo>
                <a:lnTo>
                  <a:pt x="87" y="58"/>
                </a:lnTo>
                <a:close/>
                <a:moveTo>
                  <a:pt x="100" y="39"/>
                </a:moveTo>
                <a:cubicBezTo>
                  <a:pt x="8" y="39"/>
                  <a:pt x="8" y="39"/>
                  <a:pt x="8" y="39"/>
                </a:cubicBezTo>
                <a:cubicBezTo>
                  <a:pt x="8" y="27"/>
                  <a:pt x="8" y="27"/>
                  <a:pt x="8" y="27"/>
                </a:cubicBezTo>
                <a:cubicBezTo>
                  <a:pt x="100" y="27"/>
                  <a:pt x="100" y="27"/>
                  <a:pt x="100" y="27"/>
                </a:cubicBezTo>
                <a:lnTo>
                  <a:pt x="100" y="39"/>
                </a:lnTo>
                <a:close/>
                <a:moveTo>
                  <a:pt x="100" y="39"/>
                </a:moveTo>
                <a:cubicBezTo>
                  <a:pt x="100" y="39"/>
                  <a:pt x="100" y="39"/>
                  <a:pt x="100" y="39"/>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96" name="稻壳儿小白白(http://dwz.cn/Wu2UP)" descr=""/>
          <p:cNvPicPr/>
          <p:nvPr/>
        </p:nvPicPr>
        <p:blipFill>
          <a:blip r:embed="rId3"/>
          <a:stretch/>
        </p:blipFill>
        <p:spPr>
          <a:xfrm>
            <a:off x="3889440" y="1633680"/>
            <a:ext cx="317520" cy="457200"/>
          </a:xfrm>
          <a:prstGeom prst="rect">
            <a:avLst/>
          </a:prstGeom>
          <a:ln w="0">
            <a:noFill/>
          </a:ln>
        </p:spPr>
      </p:pic>
      <p:pic>
        <p:nvPicPr>
          <p:cNvPr id="797" name="稻壳儿小白白(http://dwz.cn/Wu2UP)" descr=""/>
          <p:cNvPicPr/>
          <p:nvPr/>
        </p:nvPicPr>
        <p:blipFill>
          <a:blip r:embed="rId4"/>
          <a:stretch/>
        </p:blipFill>
        <p:spPr>
          <a:xfrm>
            <a:off x="4638600" y="1652760"/>
            <a:ext cx="457200" cy="431640"/>
          </a:xfrm>
          <a:prstGeom prst="rect">
            <a:avLst/>
          </a:prstGeom>
          <a:ln w="0">
            <a:noFill/>
          </a:ln>
        </p:spPr>
      </p:pic>
      <p:pic>
        <p:nvPicPr>
          <p:cNvPr id="798" name="稻壳儿小白白(http://dwz.cn/Wu2UP)" descr=""/>
          <p:cNvPicPr/>
          <p:nvPr/>
        </p:nvPicPr>
        <p:blipFill>
          <a:blip r:embed="rId5"/>
          <a:stretch/>
        </p:blipFill>
        <p:spPr>
          <a:xfrm>
            <a:off x="5522760" y="1639800"/>
            <a:ext cx="451080" cy="457200"/>
          </a:xfrm>
          <a:prstGeom prst="rect">
            <a:avLst/>
          </a:prstGeom>
          <a:ln w="0">
            <a:noFill/>
          </a:ln>
        </p:spPr>
      </p:pic>
      <p:sp>
        <p:nvSpPr>
          <p:cNvPr id="799" name="稻壳儿小白白(http://dwz.cn/Wu2UP)"/>
          <p:cNvSpPr/>
          <p:nvPr/>
        </p:nvSpPr>
        <p:spPr>
          <a:xfrm>
            <a:off x="5451480" y="4764240"/>
            <a:ext cx="482760" cy="442800"/>
          </a:xfrm>
          <a:custGeom>
            <a:avLst/>
            <a:gdLst/>
            <a:ahLst/>
            <a:rect l="l" t="t" r="r" b="b"/>
            <a:pathLst>
              <a:path w="129" h="118">
                <a:moveTo>
                  <a:pt x="116" y="14"/>
                </a:moveTo>
                <a:cubicBezTo>
                  <a:pt x="102" y="0"/>
                  <a:pt x="80" y="0"/>
                  <a:pt x="67" y="14"/>
                </a:cubicBezTo>
                <a:cubicBezTo>
                  <a:pt x="11" y="69"/>
                  <a:pt x="11" y="69"/>
                  <a:pt x="11" y="69"/>
                </a:cubicBezTo>
                <a:cubicBezTo>
                  <a:pt x="0" y="80"/>
                  <a:pt x="0" y="97"/>
                  <a:pt x="11" y="107"/>
                </a:cubicBezTo>
                <a:cubicBezTo>
                  <a:pt x="21" y="118"/>
                  <a:pt x="38" y="118"/>
                  <a:pt x="49" y="107"/>
                </a:cubicBezTo>
                <a:cubicBezTo>
                  <a:pt x="105" y="52"/>
                  <a:pt x="105" y="52"/>
                  <a:pt x="105" y="52"/>
                </a:cubicBezTo>
                <a:cubicBezTo>
                  <a:pt x="112" y="44"/>
                  <a:pt x="112" y="32"/>
                  <a:pt x="105" y="25"/>
                </a:cubicBezTo>
                <a:cubicBezTo>
                  <a:pt x="97" y="17"/>
                  <a:pt x="85" y="17"/>
                  <a:pt x="78" y="25"/>
                </a:cubicBezTo>
                <a:cubicBezTo>
                  <a:pt x="36" y="67"/>
                  <a:pt x="36" y="67"/>
                  <a:pt x="36" y="67"/>
                </a:cubicBezTo>
                <a:cubicBezTo>
                  <a:pt x="34" y="68"/>
                  <a:pt x="34" y="71"/>
                  <a:pt x="36" y="72"/>
                </a:cubicBezTo>
                <a:cubicBezTo>
                  <a:pt x="37" y="74"/>
                  <a:pt x="39" y="74"/>
                  <a:pt x="41" y="72"/>
                </a:cubicBezTo>
                <a:cubicBezTo>
                  <a:pt x="83" y="30"/>
                  <a:pt x="83" y="30"/>
                  <a:pt x="83" y="30"/>
                </a:cubicBezTo>
                <a:cubicBezTo>
                  <a:pt x="88" y="26"/>
                  <a:pt x="95" y="26"/>
                  <a:pt x="99" y="30"/>
                </a:cubicBezTo>
                <a:cubicBezTo>
                  <a:pt x="104" y="35"/>
                  <a:pt x="104" y="42"/>
                  <a:pt x="99" y="46"/>
                </a:cubicBezTo>
                <a:cubicBezTo>
                  <a:pt x="43" y="102"/>
                  <a:pt x="43" y="102"/>
                  <a:pt x="43" y="102"/>
                </a:cubicBezTo>
                <a:cubicBezTo>
                  <a:pt x="36" y="109"/>
                  <a:pt x="24" y="109"/>
                  <a:pt x="16" y="102"/>
                </a:cubicBezTo>
                <a:cubicBezTo>
                  <a:pt x="9" y="94"/>
                  <a:pt x="9" y="82"/>
                  <a:pt x="16" y="75"/>
                </a:cubicBezTo>
                <a:cubicBezTo>
                  <a:pt x="72" y="20"/>
                  <a:pt x="72" y="20"/>
                  <a:pt x="72" y="20"/>
                </a:cubicBezTo>
                <a:cubicBezTo>
                  <a:pt x="82" y="9"/>
                  <a:pt x="99" y="9"/>
                  <a:pt x="110" y="20"/>
                </a:cubicBezTo>
                <a:cubicBezTo>
                  <a:pt x="120" y="30"/>
                  <a:pt x="120" y="47"/>
                  <a:pt x="110" y="58"/>
                </a:cubicBezTo>
                <a:cubicBezTo>
                  <a:pt x="68" y="99"/>
                  <a:pt x="68" y="99"/>
                  <a:pt x="68" y="99"/>
                </a:cubicBezTo>
                <a:cubicBezTo>
                  <a:pt x="67" y="101"/>
                  <a:pt x="67" y="103"/>
                  <a:pt x="68" y="105"/>
                </a:cubicBezTo>
                <a:cubicBezTo>
                  <a:pt x="70" y="106"/>
                  <a:pt x="72" y="106"/>
                  <a:pt x="73" y="105"/>
                </a:cubicBezTo>
                <a:cubicBezTo>
                  <a:pt x="116" y="63"/>
                  <a:pt x="116" y="63"/>
                  <a:pt x="116" y="63"/>
                </a:cubicBezTo>
                <a:cubicBezTo>
                  <a:pt x="129" y="49"/>
                  <a:pt x="129" y="27"/>
                  <a:pt x="116" y="14"/>
                </a:cubicBezTo>
                <a:close/>
                <a:moveTo>
                  <a:pt x="116" y="14"/>
                </a:moveTo>
                <a:cubicBezTo>
                  <a:pt x="116" y="14"/>
                  <a:pt x="116" y="14"/>
                  <a:pt x="116" y="14"/>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稻壳儿小白白(http://dwz.cn/Wu2UP)"/>
          <p:cNvSpPr/>
          <p:nvPr/>
        </p:nvSpPr>
        <p:spPr>
          <a:xfrm>
            <a:off x="6400800" y="1636560"/>
            <a:ext cx="314280" cy="460440"/>
          </a:xfrm>
          <a:custGeom>
            <a:avLst/>
            <a:gdLst/>
            <a:ahLst/>
            <a:rect l="l" t="t" r="r" b="b"/>
            <a:pathLst>
              <a:path w="85" h="123">
                <a:moveTo>
                  <a:pt x="38" y="109"/>
                </a:moveTo>
                <a:cubicBezTo>
                  <a:pt x="38" y="108"/>
                  <a:pt x="39" y="107"/>
                  <a:pt x="40" y="107"/>
                </a:cubicBezTo>
                <a:cubicBezTo>
                  <a:pt x="44" y="107"/>
                  <a:pt x="44" y="107"/>
                  <a:pt x="44" y="107"/>
                </a:cubicBezTo>
                <a:cubicBezTo>
                  <a:pt x="45" y="107"/>
                  <a:pt x="46" y="108"/>
                  <a:pt x="46" y="109"/>
                </a:cubicBezTo>
                <a:cubicBezTo>
                  <a:pt x="46" y="110"/>
                  <a:pt x="45" y="111"/>
                  <a:pt x="44" y="111"/>
                </a:cubicBezTo>
                <a:cubicBezTo>
                  <a:pt x="40" y="111"/>
                  <a:pt x="40" y="111"/>
                  <a:pt x="40" y="111"/>
                </a:cubicBezTo>
                <a:cubicBezTo>
                  <a:pt x="39" y="111"/>
                  <a:pt x="38" y="110"/>
                  <a:pt x="38" y="109"/>
                </a:cubicBezTo>
                <a:close/>
                <a:moveTo>
                  <a:pt x="48" y="12"/>
                </a:moveTo>
                <a:cubicBezTo>
                  <a:pt x="37" y="12"/>
                  <a:pt x="37" y="12"/>
                  <a:pt x="37" y="12"/>
                </a:cubicBezTo>
                <a:cubicBezTo>
                  <a:pt x="36" y="12"/>
                  <a:pt x="35" y="12"/>
                  <a:pt x="35" y="14"/>
                </a:cubicBezTo>
                <a:cubicBezTo>
                  <a:pt x="35" y="15"/>
                  <a:pt x="36" y="15"/>
                  <a:pt x="37" y="15"/>
                </a:cubicBezTo>
                <a:cubicBezTo>
                  <a:pt x="48" y="15"/>
                  <a:pt x="48" y="15"/>
                  <a:pt x="48" y="15"/>
                </a:cubicBezTo>
                <a:cubicBezTo>
                  <a:pt x="49" y="15"/>
                  <a:pt x="50" y="15"/>
                  <a:pt x="50" y="14"/>
                </a:cubicBezTo>
                <a:cubicBezTo>
                  <a:pt x="50" y="12"/>
                  <a:pt x="49" y="12"/>
                  <a:pt x="48" y="12"/>
                </a:cubicBezTo>
                <a:close/>
                <a:moveTo>
                  <a:pt x="85" y="12"/>
                </a:moveTo>
                <a:cubicBezTo>
                  <a:pt x="85" y="111"/>
                  <a:pt x="85" y="111"/>
                  <a:pt x="85" y="111"/>
                </a:cubicBezTo>
                <a:cubicBezTo>
                  <a:pt x="85" y="118"/>
                  <a:pt x="79" y="123"/>
                  <a:pt x="73" y="123"/>
                </a:cubicBezTo>
                <a:cubicBezTo>
                  <a:pt x="12" y="123"/>
                  <a:pt x="12" y="123"/>
                  <a:pt x="12" y="123"/>
                </a:cubicBezTo>
                <a:cubicBezTo>
                  <a:pt x="5" y="123"/>
                  <a:pt x="0" y="118"/>
                  <a:pt x="0" y="111"/>
                </a:cubicBezTo>
                <a:cubicBezTo>
                  <a:pt x="0" y="12"/>
                  <a:pt x="0" y="12"/>
                  <a:pt x="0" y="12"/>
                </a:cubicBezTo>
                <a:cubicBezTo>
                  <a:pt x="0" y="5"/>
                  <a:pt x="5" y="0"/>
                  <a:pt x="12" y="0"/>
                </a:cubicBezTo>
                <a:cubicBezTo>
                  <a:pt x="73" y="0"/>
                  <a:pt x="73" y="0"/>
                  <a:pt x="73" y="0"/>
                </a:cubicBezTo>
                <a:cubicBezTo>
                  <a:pt x="79" y="0"/>
                  <a:pt x="85" y="5"/>
                  <a:pt x="85" y="12"/>
                </a:cubicBezTo>
                <a:close/>
                <a:moveTo>
                  <a:pt x="77" y="104"/>
                </a:moveTo>
                <a:cubicBezTo>
                  <a:pt x="8" y="104"/>
                  <a:pt x="8" y="104"/>
                  <a:pt x="8" y="104"/>
                </a:cubicBezTo>
                <a:cubicBezTo>
                  <a:pt x="8" y="111"/>
                  <a:pt x="8" y="111"/>
                  <a:pt x="8" y="111"/>
                </a:cubicBezTo>
                <a:cubicBezTo>
                  <a:pt x="8" y="113"/>
                  <a:pt x="10" y="115"/>
                  <a:pt x="12" y="115"/>
                </a:cubicBezTo>
                <a:cubicBezTo>
                  <a:pt x="73" y="115"/>
                  <a:pt x="73" y="115"/>
                  <a:pt x="73" y="115"/>
                </a:cubicBezTo>
                <a:cubicBezTo>
                  <a:pt x="75" y="115"/>
                  <a:pt x="77" y="113"/>
                  <a:pt x="77" y="111"/>
                </a:cubicBezTo>
                <a:lnTo>
                  <a:pt x="77" y="104"/>
                </a:lnTo>
                <a:close/>
                <a:moveTo>
                  <a:pt x="77" y="23"/>
                </a:moveTo>
                <a:cubicBezTo>
                  <a:pt x="8" y="23"/>
                  <a:pt x="8" y="23"/>
                  <a:pt x="8" y="23"/>
                </a:cubicBezTo>
                <a:cubicBezTo>
                  <a:pt x="8" y="100"/>
                  <a:pt x="8" y="100"/>
                  <a:pt x="8" y="100"/>
                </a:cubicBezTo>
                <a:cubicBezTo>
                  <a:pt x="77" y="100"/>
                  <a:pt x="77" y="100"/>
                  <a:pt x="77" y="100"/>
                </a:cubicBezTo>
                <a:lnTo>
                  <a:pt x="77" y="23"/>
                </a:lnTo>
                <a:close/>
                <a:moveTo>
                  <a:pt x="77" y="12"/>
                </a:moveTo>
                <a:cubicBezTo>
                  <a:pt x="77" y="9"/>
                  <a:pt x="75" y="8"/>
                  <a:pt x="73" y="8"/>
                </a:cubicBezTo>
                <a:cubicBezTo>
                  <a:pt x="12" y="8"/>
                  <a:pt x="12" y="8"/>
                  <a:pt x="12" y="8"/>
                </a:cubicBezTo>
                <a:cubicBezTo>
                  <a:pt x="10" y="8"/>
                  <a:pt x="8" y="9"/>
                  <a:pt x="8" y="12"/>
                </a:cubicBezTo>
                <a:cubicBezTo>
                  <a:pt x="8" y="19"/>
                  <a:pt x="8" y="19"/>
                  <a:pt x="8" y="19"/>
                </a:cubicBezTo>
                <a:cubicBezTo>
                  <a:pt x="77" y="19"/>
                  <a:pt x="77" y="19"/>
                  <a:pt x="77" y="19"/>
                </a:cubicBezTo>
                <a:lnTo>
                  <a:pt x="77" y="12"/>
                </a:lnTo>
                <a:close/>
                <a:moveTo>
                  <a:pt x="77" y="12"/>
                </a:moveTo>
                <a:cubicBezTo>
                  <a:pt x="77" y="12"/>
                  <a:pt x="77" y="12"/>
                  <a:pt x="77" y="1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01" name="稻壳儿小白白(http://dwz.cn/Wu2UP)" descr=""/>
          <p:cNvPicPr/>
          <p:nvPr/>
        </p:nvPicPr>
        <p:blipFill>
          <a:blip r:embed="rId6"/>
          <a:stretch/>
        </p:blipFill>
        <p:spPr>
          <a:xfrm>
            <a:off x="7139160" y="1639800"/>
            <a:ext cx="309240" cy="457200"/>
          </a:xfrm>
          <a:prstGeom prst="rect">
            <a:avLst/>
          </a:prstGeom>
          <a:ln w="0">
            <a:noFill/>
          </a:ln>
        </p:spPr>
      </p:pic>
      <p:sp>
        <p:nvSpPr>
          <p:cNvPr id="802" name="稻壳儿小白白(http://dwz.cn/Wu2UP)"/>
          <p:cNvSpPr/>
          <p:nvPr/>
        </p:nvSpPr>
        <p:spPr>
          <a:xfrm>
            <a:off x="7875720" y="1700280"/>
            <a:ext cx="460080" cy="334800"/>
          </a:xfrm>
          <a:custGeom>
            <a:avLst/>
            <a:gdLst/>
            <a:ahLst/>
            <a:rect l="l" t="t" r="r" b="b"/>
            <a:pathLst>
              <a:path w="123" h="89">
                <a:moveTo>
                  <a:pt x="100" y="32"/>
                </a:moveTo>
                <a:cubicBezTo>
                  <a:pt x="98" y="14"/>
                  <a:pt x="83" y="0"/>
                  <a:pt x="65" y="0"/>
                </a:cubicBezTo>
                <a:cubicBezTo>
                  <a:pt x="51" y="0"/>
                  <a:pt x="40" y="9"/>
                  <a:pt x="34" y="20"/>
                </a:cubicBezTo>
                <a:cubicBezTo>
                  <a:pt x="32" y="20"/>
                  <a:pt x="31" y="20"/>
                  <a:pt x="29" y="20"/>
                </a:cubicBezTo>
                <a:cubicBezTo>
                  <a:pt x="19" y="20"/>
                  <a:pt x="12" y="27"/>
                  <a:pt x="12" y="37"/>
                </a:cubicBezTo>
                <a:cubicBezTo>
                  <a:pt x="12" y="39"/>
                  <a:pt x="12" y="40"/>
                  <a:pt x="13" y="42"/>
                </a:cubicBezTo>
                <a:cubicBezTo>
                  <a:pt x="5" y="47"/>
                  <a:pt x="0" y="54"/>
                  <a:pt x="0" y="64"/>
                </a:cubicBezTo>
                <a:cubicBezTo>
                  <a:pt x="0" y="77"/>
                  <a:pt x="11" y="89"/>
                  <a:pt x="25" y="89"/>
                </a:cubicBezTo>
                <a:cubicBezTo>
                  <a:pt x="94" y="89"/>
                  <a:pt x="94" y="89"/>
                  <a:pt x="94" y="89"/>
                </a:cubicBezTo>
                <a:cubicBezTo>
                  <a:pt x="110" y="89"/>
                  <a:pt x="123" y="76"/>
                  <a:pt x="123" y="60"/>
                </a:cubicBezTo>
                <a:cubicBezTo>
                  <a:pt x="123" y="46"/>
                  <a:pt x="113" y="34"/>
                  <a:pt x="100" y="32"/>
                </a:cubicBezTo>
                <a:close/>
                <a:moveTo>
                  <a:pt x="94" y="81"/>
                </a:moveTo>
                <a:cubicBezTo>
                  <a:pt x="94" y="81"/>
                  <a:pt x="94" y="81"/>
                  <a:pt x="94" y="81"/>
                </a:cubicBezTo>
                <a:cubicBezTo>
                  <a:pt x="25" y="81"/>
                  <a:pt x="25" y="81"/>
                  <a:pt x="25" y="81"/>
                </a:cubicBezTo>
                <a:cubicBezTo>
                  <a:pt x="16" y="81"/>
                  <a:pt x="8" y="73"/>
                  <a:pt x="8" y="64"/>
                </a:cubicBezTo>
                <a:cubicBezTo>
                  <a:pt x="8" y="58"/>
                  <a:pt x="11" y="52"/>
                  <a:pt x="16" y="49"/>
                </a:cubicBezTo>
                <a:cubicBezTo>
                  <a:pt x="22" y="46"/>
                  <a:pt x="22" y="45"/>
                  <a:pt x="20" y="40"/>
                </a:cubicBezTo>
                <a:cubicBezTo>
                  <a:pt x="20" y="39"/>
                  <a:pt x="19" y="38"/>
                  <a:pt x="19" y="37"/>
                </a:cubicBezTo>
                <a:cubicBezTo>
                  <a:pt x="19" y="32"/>
                  <a:pt x="24" y="27"/>
                  <a:pt x="29" y="27"/>
                </a:cubicBezTo>
                <a:cubicBezTo>
                  <a:pt x="29" y="27"/>
                  <a:pt x="31" y="27"/>
                  <a:pt x="34" y="28"/>
                </a:cubicBezTo>
                <a:cubicBezTo>
                  <a:pt x="39" y="30"/>
                  <a:pt x="39" y="28"/>
                  <a:pt x="41" y="24"/>
                </a:cubicBezTo>
                <a:cubicBezTo>
                  <a:pt x="46" y="14"/>
                  <a:pt x="55" y="8"/>
                  <a:pt x="65" y="8"/>
                </a:cubicBezTo>
                <a:cubicBezTo>
                  <a:pt x="79" y="8"/>
                  <a:pt x="91" y="18"/>
                  <a:pt x="92" y="32"/>
                </a:cubicBezTo>
                <a:cubicBezTo>
                  <a:pt x="92" y="38"/>
                  <a:pt x="92" y="38"/>
                  <a:pt x="98" y="39"/>
                </a:cubicBezTo>
                <a:cubicBezTo>
                  <a:pt x="108" y="41"/>
                  <a:pt x="115" y="50"/>
                  <a:pt x="115" y="60"/>
                </a:cubicBezTo>
                <a:cubicBezTo>
                  <a:pt x="115" y="71"/>
                  <a:pt x="106" y="81"/>
                  <a:pt x="94" y="81"/>
                </a:cubicBezTo>
                <a:close/>
                <a:moveTo>
                  <a:pt x="94" y="81"/>
                </a:moveTo>
                <a:cubicBezTo>
                  <a:pt x="94" y="81"/>
                  <a:pt x="94" y="81"/>
                  <a:pt x="94" y="81"/>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稻壳儿小白白(http://dwz.cn/Wu2UP)"/>
          <p:cNvSpPr/>
          <p:nvPr/>
        </p:nvSpPr>
        <p:spPr>
          <a:xfrm>
            <a:off x="8758080" y="1666800"/>
            <a:ext cx="460440" cy="399960"/>
          </a:xfrm>
          <a:custGeom>
            <a:avLst/>
            <a:gdLst/>
            <a:ahLst/>
            <a:rect l="l" t="t" r="r" b="b"/>
            <a:pathLst>
              <a:path w="123" h="107">
                <a:moveTo>
                  <a:pt x="123" y="100"/>
                </a:moveTo>
                <a:cubicBezTo>
                  <a:pt x="123" y="104"/>
                  <a:pt x="119" y="107"/>
                  <a:pt x="115" y="107"/>
                </a:cubicBezTo>
                <a:cubicBezTo>
                  <a:pt x="111" y="107"/>
                  <a:pt x="107" y="104"/>
                  <a:pt x="107" y="100"/>
                </a:cubicBezTo>
                <a:cubicBezTo>
                  <a:pt x="107" y="95"/>
                  <a:pt x="111" y="84"/>
                  <a:pt x="115" y="84"/>
                </a:cubicBezTo>
                <a:cubicBezTo>
                  <a:pt x="119" y="84"/>
                  <a:pt x="123" y="95"/>
                  <a:pt x="123" y="100"/>
                </a:cubicBezTo>
                <a:close/>
                <a:moveTo>
                  <a:pt x="111" y="42"/>
                </a:moveTo>
                <a:cubicBezTo>
                  <a:pt x="111" y="77"/>
                  <a:pt x="111" y="77"/>
                  <a:pt x="111" y="77"/>
                </a:cubicBezTo>
                <a:cubicBezTo>
                  <a:pt x="111" y="79"/>
                  <a:pt x="113" y="80"/>
                  <a:pt x="115" y="80"/>
                </a:cubicBezTo>
                <a:cubicBezTo>
                  <a:pt x="117" y="80"/>
                  <a:pt x="119" y="79"/>
                  <a:pt x="119" y="77"/>
                </a:cubicBezTo>
                <a:cubicBezTo>
                  <a:pt x="119" y="42"/>
                  <a:pt x="119" y="42"/>
                  <a:pt x="119" y="42"/>
                </a:cubicBezTo>
                <a:cubicBezTo>
                  <a:pt x="119" y="40"/>
                  <a:pt x="117" y="38"/>
                  <a:pt x="115" y="38"/>
                </a:cubicBezTo>
                <a:cubicBezTo>
                  <a:pt x="113" y="38"/>
                  <a:pt x="111" y="40"/>
                  <a:pt x="111" y="42"/>
                </a:cubicBezTo>
                <a:close/>
                <a:moveTo>
                  <a:pt x="114" y="34"/>
                </a:moveTo>
                <a:cubicBezTo>
                  <a:pt x="104" y="36"/>
                  <a:pt x="104" y="36"/>
                  <a:pt x="104" y="36"/>
                </a:cubicBezTo>
                <a:cubicBezTo>
                  <a:pt x="104" y="69"/>
                  <a:pt x="104" y="69"/>
                  <a:pt x="104" y="69"/>
                </a:cubicBezTo>
                <a:cubicBezTo>
                  <a:pt x="104" y="79"/>
                  <a:pt x="92" y="88"/>
                  <a:pt x="61" y="88"/>
                </a:cubicBezTo>
                <a:cubicBezTo>
                  <a:pt x="31" y="88"/>
                  <a:pt x="19" y="79"/>
                  <a:pt x="19" y="69"/>
                </a:cubicBezTo>
                <a:cubicBezTo>
                  <a:pt x="19" y="36"/>
                  <a:pt x="19" y="36"/>
                  <a:pt x="19" y="36"/>
                </a:cubicBezTo>
                <a:cubicBezTo>
                  <a:pt x="9" y="34"/>
                  <a:pt x="9" y="34"/>
                  <a:pt x="9" y="34"/>
                </a:cubicBezTo>
                <a:cubicBezTo>
                  <a:pt x="4" y="33"/>
                  <a:pt x="0" y="28"/>
                  <a:pt x="0" y="23"/>
                </a:cubicBezTo>
                <a:cubicBezTo>
                  <a:pt x="0" y="17"/>
                  <a:pt x="4" y="13"/>
                  <a:pt x="9" y="12"/>
                </a:cubicBezTo>
                <a:cubicBezTo>
                  <a:pt x="59" y="0"/>
                  <a:pt x="59" y="0"/>
                  <a:pt x="59" y="0"/>
                </a:cubicBezTo>
                <a:cubicBezTo>
                  <a:pt x="60" y="0"/>
                  <a:pt x="61" y="0"/>
                  <a:pt x="61" y="0"/>
                </a:cubicBezTo>
                <a:cubicBezTo>
                  <a:pt x="62" y="0"/>
                  <a:pt x="63" y="0"/>
                  <a:pt x="64" y="0"/>
                </a:cubicBezTo>
                <a:cubicBezTo>
                  <a:pt x="114" y="12"/>
                  <a:pt x="114" y="12"/>
                  <a:pt x="114" y="12"/>
                </a:cubicBezTo>
                <a:cubicBezTo>
                  <a:pt x="119" y="13"/>
                  <a:pt x="123" y="17"/>
                  <a:pt x="123" y="23"/>
                </a:cubicBezTo>
                <a:cubicBezTo>
                  <a:pt x="123" y="28"/>
                  <a:pt x="119" y="33"/>
                  <a:pt x="114" y="34"/>
                </a:cubicBezTo>
                <a:close/>
                <a:moveTo>
                  <a:pt x="96" y="38"/>
                </a:moveTo>
                <a:cubicBezTo>
                  <a:pt x="64" y="46"/>
                  <a:pt x="64" y="46"/>
                  <a:pt x="64" y="46"/>
                </a:cubicBezTo>
                <a:cubicBezTo>
                  <a:pt x="63" y="46"/>
                  <a:pt x="62" y="46"/>
                  <a:pt x="61" y="46"/>
                </a:cubicBezTo>
                <a:cubicBezTo>
                  <a:pt x="61" y="46"/>
                  <a:pt x="60" y="46"/>
                  <a:pt x="59" y="46"/>
                </a:cubicBezTo>
                <a:cubicBezTo>
                  <a:pt x="27" y="38"/>
                  <a:pt x="27" y="38"/>
                  <a:pt x="27" y="38"/>
                </a:cubicBezTo>
                <a:cubicBezTo>
                  <a:pt x="27" y="69"/>
                  <a:pt x="27" y="69"/>
                  <a:pt x="27" y="69"/>
                </a:cubicBezTo>
                <a:cubicBezTo>
                  <a:pt x="27" y="73"/>
                  <a:pt x="38" y="80"/>
                  <a:pt x="61" y="80"/>
                </a:cubicBezTo>
                <a:cubicBezTo>
                  <a:pt x="84" y="80"/>
                  <a:pt x="96" y="73"/>
                  <a:pt x="96" y="69"/>
                </a:cubicBezTo>
                <a:lnTo>
                  <a:pt x="96" y="38"/>
                </a:lnTo>
                <a:close/>
                <a:moveTo>
                  <a:pt x="112" y="27"/>
                </a:moveTo>
                <a:cubicBezTo>
                  <a:pt x="114" y="26"/>
                  <a:pt x="115" y="25"/>
                  <a:pt x="115" y="23"/>
                </a:cubicBezTo>
                <a:cubicBezTo>
                  <a:pt x="115" y="21"/>
                  <a:pt x="114" y="19"/>
                  <a:pt x="112" y="19"/>
                </a:cubicBezTo>
                <a:cubicBezTo>
                  <a:pt x="62" y="8"/>
                  <a:pt x="62" y="8"/>
                  <a:pt x="62" y="8"/>
                </a:cubicBezTo>
                <a:cubicBezTo>
                  <a:pt x="61" y="7"/>
                  <a:pt x="61" y="7"/>
                  <a:pt x="61" y="7"/>
                </a:cubicBezTo>
                <a:cubicBezTo>
                  <a:pt x="61" y="8"/>
                  <a:pt x="61" y="8"/>
                  <a:pt x="61" y="8"/>
                </a:cubicBezTo>
                <a:cubicBezTo>
                  <a:pt x="11" y="19"/>
                  <a:pt x="11" y="19"/>
                  <a:pt x="11" y="19"/>
                </a:cubicBezTo>
                <a:cubicBezTo>
                  <a:pt x="9" y="19"/>
                  <a:pt x="8" y="21"/>
                  <a:pt x="8" y="23"/>
                </a:cubicBezTo>
                <a:cubicBezTo>
                  <a:pt x="8" y="25"/>
                  <a:pt x="9" y="26"/>
                  <a:pt x="11" y="27"/>
                </a:cubicBezTo>
                <a:cubicBezTo>
                  <a:pt x="61" y="38"/>
                  <a:pt x="61" y="38"/>
                  <a:pt x="61" y="38"/>
                </a:cubicBezTo>
                <a:cubicBezTo>
                  <a:pt x="61" y="38"/>
                  <a:pt x="61" y="38"/>
                  <a:pt x="61" y="38"/>
                </a:cubicBezTo>
                <a:cubicBezTo>
                  <a:pt x="62" y="38"/>
                  <a:pt x="62" y="38"/>
                  <a:pt x="62" y="38"/>
                </a:cubicBezTo>
                <a:lnTo>
                  <a:pt x="112" y="27"/>
                </a:lnTo>
                <a:close/>
                <a:moveTo>
                  <a:pt x="112" y="27"/>
                </a:moveTo>
                <a:cubicBezTo>
                  <a:pt x="112" y="27"/>
                  <a:pt x="112" y="27"/>
                  <a:pt x="112" y="2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稻壳儿小白白(http://dwz.cn/Wu2UP)"/>
          <p:cNvSpPr/>
          <p:nvPr/>
        </p:nvSpPr>
        <p:spPr>
          <a:xfrm>
            <a:off x="9640800" y="1650960"/>
            <a:ext cx="430200" cy="428760"/>
          </a:xfrm>
          <a:custGeom>
            <a:avLst/>
            <a:gdLst/>
            <a:ahLst/>
            <a:rect l="l" t="t" r="r" b="b"/>
            <a:pathLst>
              <a:path w="115" h="114">
                <a:moveTo>
                  <a:pt x="111" y="101"/>
                </a:moveTo>
                <a:cubicBezTo>
                  <a:pt x="110" y="101"/>
                  <a:pt x="97" y="92"/>
                  <a:pt x="78" y="88"/>
                </a:cubicBezTo>
                <a:cubicBezTo>
                  <a:pt x="85" y="79"/>
                  <a:pt x="90" y="67"/>
                  <a:pt x="92" y="59"/>
                </a:cubicBezTo>
                <a:cubicBezTo>
                  <a:pt x="94" y="48"/>
                  <a:pt x="93" y="26"/>
                  <a:pt x="83" y="12"/>
                </a:cubicBezTo>
                <a:cubicBezTo>
                  <a:pt x="76" y="4"/>
                  <a:pt x="68" y="0"/>
                  <a:pt x="57" y="0"/>
                </a:cubicBezTo>
                <a:cubicBezTo>
                  <a:pt x="47" y="0"/>
                  <a:pt x="38" y="4"/>
                  <a:pt x="32" y="12"/>
                </a:cubicBezTo>
                <a:cubicBezTo>
                  <a:pt x="21" y="26"/>
                  <a:pt x="20" y="48"/>
                  <a:pt x="23" y="59"/>
                </a:cubicBezTo>
                <a:cubicBezTo>
                  <a:pt x="25" y="67"/>
                  <a:pt x="29" y="79"/>
                  <a:pt x="36" y="88"/>
                </a:cubicBezTo>
                <a:cubicBezTo>
                  <a:pt x="17" y="92"/>
                  <a:pt x="4" y="101"/>
                  <a:pt x="3" y="101"/>
                </a:cubicBezTo>
                <a:cubicBezTo>
                  <a:pt x="1" y="103"/>
                  <a:pt x="0" y="106"/>
                  <a:pt x="1" y="109"/>
                </a:cubicBezTo>
                <a:cubicBezTo>
                  <a:pt x="1" y="112"/>
                  <a:pt x="4" y="114"/>
                  <a:pt x="7" y="114"/>
                </a:cubicBezTo>
                <a:cubicBezTo>
                  <a:pt x="107" y="114"/>
                  <a:pt x="107" y="114"/>
                  <a:pt x="107" y="114"/>
                </a:cubicBezTo>
                <a:cubicBezTo>
                  <a:pt x="110" y="114"/>
                  <a:pt x="113" y="112"/>
                  <a:pt x="114" y="109"/>
                </a:cubicBezTo>
                <a:cubicBezTo>
                  <a:pt x="115" y="106"/>
                  <a:pt x="114" y="103"/>
                  <a:pt x="111" y="101"/>
                </a:cubicBezTo>
                <a:close/>
                <a:moveTo>
                  <a:pt x="29" y="38"/>
                </a:moveTo>
                <a:cubicBezTo>
                  <a:pt x="31" y="23"/>
                  <a:pt x="40" y="7"/>
                  <a:pt x="57" y="7"/>
                </a:cubicBezTo>
                <a:cubicBezTo>
                  <a:pt x="75" y="7"/>
                  <a:pt x="83" y="23"/>
                  <a:pt x="85" y="38"/>
                </a:cubicBezTo>
                <a:cubicBezTo>
                  <a:pt x="87" y="54"/>
                  <a:pt x="82" y="71"/>
                  <a:pt x="72" y="83"/>
                </a:cubicBezTo>
                <a:cubicBezTo>
                  <a:pt x="71" y="85"/>
                  <a:pt x="71" y="85"/>
                  <a:pt x="71" y="85"/>
                </a:cubicBezTo>
                <a:cubicBezTo>
                  <a:pt x="63" y="95"/>
                  <a:pt x="52" y="95"/>
                  <a:pt x="43" y="85"/>
                </a:cubicBezTo>
                <a:cubicBezTo>
                  <a:pt x="42" y="83"/>
                  <a:pt x="42" y="83"/>
                  <a:pt x="42" y="83"/>
                </a:cubicBezTo>
                <a:cubicBezTo>
                  <a:pt x="32" y="71"/>
                  <a:pt x="27" y="54"/>
                  <a:pt x="29" y="38"/>
                </a:cubicBezTo>
                <a:close/>
                <a:moveTo>
                  <a:pt x="7" y="107"/>
                </a:moveTo>
                <a:cubicBezTo>
                  <a:pt x="8" y="107"/>
                  <a:pt x="20" y="99"/>
                  <a:pt x="38" y="95"/>
                </a:cubicBezTo>
                <a:cubicBezTo>
                  <a:pt x="47" y="93"/>
                  <a:pt x="47" y="93"/>
                  <a:pt x="47" y="93"/>
                </a:cubicBezTo>
                <a:cubicBezTo>
                  <a:pt x="50" y="95"/>
                  <a:pt x="53" y="96"/>
                  <a:pt x="57" y="96"/>
                </a:cubicBezTo>
                <a:cubicBezTo>
                  <a:pt x="61" y="96"/>
                  <a:pt x="65" y="95"/>
                  <a:pt x="68" y="93"/>
                </a:cubicBezTo>
                <a:cubicBezTo>
                  <a:pt x="77" y="95"/>
                  <a:pt x="77" y="95"/>
                  <a:pt x="77" y="95"/>
                </a:cubicBezTo>
                <a:cubicBezTo>
                  <a:pt x="94" y="99"/>
                  <a:pt x="107" y="106"/>
                  <a:pt x="107" y="107"/>
                </a:cubicBezTo>
                <a:lnTo>
                  <a:pt x="7" y="107"/>
                </a:lnTo>
                <a:close/>
                <a:moveTo>
                  <a:pt x="7" y="107"/>
                </a:moveTo>
                <a:cubicBezTo>
                  <a:pt x="7" y="107"/>
                  <a:pt x="7" y="107"/>
                  <a:pt x="7" y="10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稻壳儿小白白(http://dwz.cn/Wu2UP)"/>
          <p:cNvSpPr/>
          <p:nvPr/>
        </p:nvSpPr>
        <p:spPr>
          <a:xfrm>
            <a:off x="10495080" y="1646280"/>
            <a:ext cx="461880" cy="441360"/>
          </a:xfrm>
          <a:custGeom>
            <a:avLst/>
            <a:gdLst/>
            <a:ahLst/>
            <a:rect l="l" t="t" r="r" b="b"/>
            <a:pathLst>
              <a:path w="124" h="118">
                <a:moveTo>
                  <a:pt x="122" y="44"/>
                </a:moveTo>
                <a:cubicBezTo>
                  <a:pt x="121" y="41"/>
                  <a:pt x="119" y="39"/>
                  <a:pt x="115" y="38"/>
                </a:cubicBezTo>
                <a:cubicBezTo>
                  <a:pt x="83" y="33"/>
                  <a:pt x="83" y="33"/>
                  <a:pt x="83" y="33"/>
                </a:cubicBezTo>
                <a:cubicBezTo>
                  <a:pt x="70" y="5"/>
                  <a:pt x="70" y="5"/>
                  <a:pt x="70" y="5"/>
                </a:cubicBezTo>
                <a:cubicBezTo>
                  <a:pt x="68" y="1"/>
                  <a:pt x="65" y="0"/>
                  <a:pt x="62" y="0"/>
                </a:cubicBezTo>
                <a:cubicBezTo>
                  <a:pt x="58" y="0"/>
                  <a:pt x="55" y="1"/>
                  <a:pt x="54" y="5"/>
                </a:cubicBezTo>
                <a:cubicBezTo>
                  <a:pt x="40" y="33"/>
                  <a:pt x="40" y="33"/>
                  <a:pt x="40" y="33"/>
                </a:cubicBezTo>
                <a:cubicBezTo>
                  <a:pt x="8" y="38"/>
                  <a:pt x="8" y="38"/>
                  <a:pt x="8" y="38"/>
                </a:cubicBezTo>
                <a:cubicBezTo>
                  <a:pt x="4" y="39"/>
                  <a:pt x="2" y="41"/>
                  <a:pt x="1" y="44"/>
                </a:cubicBezTo>
                <a:cubicBezTo>
                  <a:pt x="0" y="47"/>
                  <a:pt x="0" y="50"/>
                  <a:pt x="3" y="53"/>
                </a:cubicBezTo>
                <a:cubicBezTo>
                  <a:pt x="26" y="76"/>
                  <a:pt x="26" y="76"/>
                  <a:pt x="26" y="76"/>
                </a:cubicBezTo>
                <a:cubicBezTo>
                  <a:pt x="21" y="108"/>
                  <a:pt x="21" y="108"/>
                  <a:pt x="21" y="108"/>
                </a:cubicBezTo>
                <a:cubicBezTo>
                  <a:pt x="20" y="112"/>
                  <a:pt x="22" y="115"/>
                  <a:pt x="24" y="117"/>
                </a:cubicBezTo>
                <a:cubicBezTo>
                  <a:pt x="26" y="118"/>
                  <a:pt x="28" y="118"/>
                  <a:pt x="29" y="118"/>
                </a:cubicBezTo>
                <a:cubicBezTo>
                  <a:pt x="31" y="118"/>
                  <a:pt x="32" y="118"/>
                  <a:pt x="34" y="117"/>
                </a:cubicBezTo>
                <a:cubicBezTo>
                  <a:pt x="62" y="102"/>
                  <a:pt x="62" y="102"/>
                  <a:pt x="62" y="102"/>
                </a:cubicBezTo>
                <a:cubicBezTo>
                  <a:pt x="89" y="117"/>
                  <a:pt x="89" y="117"/>
                  <a:pt x="89" y="117"/>
                </a:cubicBezTo>
                <a:cubicBezTo>
                  <a:pt x="91" y="118"/>
                  <a:pt x="92" y="118"/>
                  <a:pt x="94" y="118"/>
                </a:cubicBezTo>
                <a:cubicBezTo>
                  <a:pt x="96" y="118"/>
                  <a:pt x="97" y="118"/>
                  <a:pt x="99" y="117"/>
                </a:cubicBezTo>
                <a:cubicBezTo>
                  <a:pt x="102" y="115"/>
                  <a:pt x="103" y="112"/>
                  <a:pt x="102" y="108"/>
                </a:cubicBezTo>
                <a:cubicBezTo>
                  <a:pt x="97" y="76"/>
                  <a:pt x="97" y="76"/>
                  <a:pt x="97" y="76"/>
                </a:cubicBezTo>
                <a:cubicBezTo>
                  <a:pt x="120" y="53"/>
                  <a:pt x="120" y="53"/>
                  <a:pt x="120" y="53"/>
                </a:cubicBezTo>
                <a:cubicBezTo>
                  <a:pt x="123" y="50"/>
                  <a:pt x="124" y="47"/>
                  <a:pt x="122" y="44"/>
                </a:cubicBezTo>
                <a:close/>
                <a:moveTo>
                  <a:pt x="91" y="70"/>
                </a:moveTo>
                <a:cubicBezTo>
                  <a:pt x="89" y="72"/>
                  <a:pt x="88" y="75"/>
                  <a:pt x="88" y="77"/>
                </a:cubicBezTo>
                <a:cubicBezTo>
                  <a:pt x="94" y="110"/>
                  <a:pt x="94" y="110"/>
                  <a:pt x="94" y="110"/>
                </a:cubicBezTo>
                <a:cubicBezTo>
                  <a:pt x="66" y="95"/>
                  <a:pt x="66" y="95"/>
                  <a:pt x="66" y="95"/>
                </a:cubicBezTo>
                <a:cubicBezTo>
                  <a:pt x="65" y="94"/>
                  <a:pt x="63" y="94"/>
                  <a:pt x="62" y="94"/>
                </a:cubicBezTo>
                <a:cubicBezTo>
                  <a:pt x="60" y="94"/>
                  <a:pt x="59" y="94"/>
                  <a:pt x="57" y="95"/>
                </a:cubicBezTo>
                <a:cubicBezTo>
                  <a:pt x="29" y="110"/>
                  <a:pt x="29" y="110"/>
                  <a:pt x="29" y="110"/>
                </a:cubicBezTo>
                <a:cubicBezTo>
                  <a:pt x="35" y="77"/>
                  <a:pt x="35" y="77"/>
                  <a:pt x="35" y="77"/>
                </a:cubicBezTo>
                <a:cubicBezTo>
                  <a:pt x="35" y="75"/>
                  <a:pt x="34" y="72"/>
                  <a:pt x="32" y="70"/>
                </a:cubicBezTo>
                <a:cubicBezTo>
                  <a:pt x="9" y="47"/>
                  <a:pt x="9" y="47"/>
                  <a:pt x="9" y="47"/>
                </a:cubicBezTo>
                <a:cubicBezTo>
                  <a:pt x="41" y="42"/>
                  <a:pt x="41" y="42"/>
                  <a:pt x="41" y="42"/>
                </a:cubicBezTo>
                <a:cubicBezTo>
                  <a:pt x="44" y="41"/>
                  <a:pt x="46" y="40"/>
                  <a:pt x="48" y="37"/>
                </a:cubicBezTo>
                <a:cubicBezTo>
                  <a:pt x="62" y="8"/>
                  <a:pt x="62" y="8"/>
                  <a:pt x="62" y="8"/>
                </a:cubicBezTo>
                <a:cubicBezTo>
                  <a:pt x="75" y="37"/>
                  <a:pt x="75" y="37"/>
                  <a:pt x="75" y="37"/>
                </a:cubicBezTo>
                <a:cubicBezTo>
                  <a:pt x="77" y="40"/>
                  <a:pt x="79" y="41"/>
                  <a:pt x="82" y="42"/>
                </a:cubicBezTo>
                <a:cubicBezTo>
                  <a:pt x="114" y="47"/>
                  <a:pt x="114" y="47"/>
                  <a:pt x="114" y="47"/>
                </a:cubicBezTo>
                <a:lnTo>
                  <a:pt x="91" y="70"/>
                </a:lnTo>
                <a:close/>
                <a:moveTo>
                  <a:pt x="91" y="70"/>
                </a:moveTo>
                <a:cubicBezTo>
                  <a:pt x="91" y="70"/>
                  <a:pt x="91" y="70"/>
                  <a:pt x="91" y="7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06" name="稻壳儿小白白(http://dwz.cn/Wu2UP)" descr=""/>
          <p:cNvPicPr/>
          <p:nvPr/>
        </p:nvPicPr>
        <p:blipFill>
          <a:blip r:embed="rId7"/>
          <a:stretch/>
        </p:blipFill>
        <p:spPr>
          <a:xfrm>
            <a:off x="11380680" y="1670040"/>
            <a:ext cx="457200" cy="396720"/>
          </a:xfrm>
          <a:prstGeom prst="rect">
            <a:avLst/>
          </a:prstGeom>
          <a:ln w="0">
            <a:noFill/>
          </a:ln>
        </p:spPr>
      </p:pic>
      <p:sp>
        <p:nvSpPr>
          <p:cNvPr id="807" name="稻壳儿小白白(http://dwz.cn/Wu2UP)"/>
          <p:cNvSpPr/>
          <p:nvPr/>
        </p:nvSpPr>
        <p:spPr>
          <a:xfrm>
            <a:off x="10642680" y="4764240"/>
            <a:ext cx="399960" cy="460080"/>
          </a:xfrm>
          <a:custGeom>
            <a:avLst/>
            <a:gdLst/>
            <a:ahLst/>
            <a:rect l="l" t="t" r="r" b="b"/>
            <a:pathLst>
              <a:path w="107" h="123">
                <a:moveTo>
                  <a:pt x="53" y="0"/>
                </a:moveTo>
                <a:cubicBezTo>
                  <a:pt x="27" y="0"/>
                  <a:pt x="0" y="8"/>
                  <a:pt x="0" y="25"/>
                </a:cubicBezTo>
                <a:cubicBezTo>
                  <a:pt x="0" y="98"/>
                  <a:pt x="0" y="98"/>
                  <a:pt x="0" y="98"/>
                </a:cubicBezTo>
                <a:cubicBezTo>
                  <a:pt x="0" y="115"/>
                  <a:pt x="27" y="123"/>
                  <a:pt x="53" y="123"/>
                </a:cubicBezTo>
                <a:cubicBezTo>
                  <a:pt x="79" y="123"/>
                  <a:pt x="107" y="115"/>
                  <a:pt x="107" y="98"/>
                </a:cubicBezTo>
                <a:cubicBezTo>
                  <a:pt x="107" y="25"/>
                  <a:pt x="107" y="25"/>
                  <a:pt x="107" y="25"/>
                </a:cubicBezTo>
                <a:cubicBezTo>
                  <a:pt x="107" y="8"/>
                  <a:pt x="79" y="0"/>
                  <a:pt x="53" y="0"/>
                </a:cubicBezTo>
                <a:close/>
                <a:moveTo>
                  <a:pt x="99" y="98"/>
                </a:moveTo>
                <a:cubicBezTo>
                  <a:pt x="99" y="107"/>
                  <a:pt x="79" y="115"/>
                  <a:pt x="53" y="115"/>
                </a:cubicBezTo>
                <a:cubicBezTo>
                  <a:pt x="28" y="115"/>
                  <a:pt x="7" y="107"/>
                  <a:pt x="7" y="98"/>
                </a:cubicBezTo>
                <a:cubicBezTo>
                  <a:pt x="7" y="83"/>
                  <a:pt x="7" y="83"/>
                  <a:pt x="7" y="83"/>
                </a:cubicBezTo>
                <a:cubicBezTo>
                  <a:pt x="15" y="92"/>
                  <a:pt x="34" y="96"/>
                  <a:pt x="53" y="96"/>
                </a:cubicBezTo>
                <a:cubicBezTo>
                  <a:pt x="72" y="96"/>
                  <a:pt x="91" y="92"/>
                  <a:pt x="99" y="83"/>
                </a:cubicBezTo>
                <a:lnTo>
                  <a:pt x="99" y="98"/>
                </a:lnTo>
                <a:close/>
                <a:moveTo>
                  <a:pt x="99" y="75"/>
                </a:moveTo>
                <a:cubicBezTo>
                  <a:pt x="99" y="75"/>
                  <a:pt x="99" y="75"/>
                  <a:pt x="99" y="75"/>
                </a:cubicBezTo>
                <a:cubicBezTo>
                  <a:pt x="99" y="75"/>
                  <a:pt x="99" y="75"/>
                  <a:pt x="99" y="75"/>
                </a:cubicBezTo>
                <a:cubicBezTo>
                  <a:pt x="99" y="84"/>
                  <a:pt x="79" y="92"/>
                  <a:pt x="53" y="92"/>
                </a:cubicBezTo>
                <a:cubicBezTo>
                  <a:pt x="28" y="92"/>
                  <a:pt x="7" y="84"/>
                  <a:pt x="7" y="75"/>
                </a:cubicBezTo>
                <a:cubicBezTo>
                  <a:pt x="7" y="75"/>
                  <a:pt x="7" y="75"/>
                  <a:pt x="7" y="75"/>
                </a:cubicBezTo>
                <a:cubicBezTo>
                  <a:pt x="7" y="60"/>
                  <a:pt x="7" y="60"/>
                  <a:pt x="7" y="60"/>
                </a:cubicBezTo>
                <a:cubicBezTo>
                  <a:pt x="15" y="69"/>
                  <a:pt x="34" y="73"/>
                  <a:pt x="53" y="73"/>
                </a:cubicBezTo>
                <a:cubicBezTo>
                  <a:pt x="72" y="73"/>
                  <a:pt x="91" y="69"/>
                  <a:pt x="99" y="60"/>
                </a:cubicBezTo>
                <a:lnTo>
                  <a:pt x="99" y="75"/>
                </a:lnTo>
                <a:close/>
                <a:moveTo>
                  <a:pt x="99" y="52"/>
                </a:moveTo>
                <a:cubicBezTo>
                  <a:pt x="99" y="52"/>
                  <a:pt x="99" y="52"/>
                  <a:pt x="99" y="52"/>
                </a:cubicBezTo>
                <a:cubicBezTo>
                  <a:pt x="99" y="52"/>
                  <a:pt x="99" y="52"/>
                  <a:pt x="99" y="52"/>
                </a:cubicBezTo>
                <a:cubicBezTo>
                  <a:pt x="99" y="61"/>
                  <a:pt x="79" y="69"/>
                  <a:pt x="53" y="69"/>
                </a:cubicBezTo>
                <a:cubicBezTo>
                  <a:pt x="28" y="69"/>
                  <a:pt x="7" y="61"/>
                  <a:pt x="7" y="52"/>
                </a:cubicBezTo>
                <a:cubicBezTo>
                  <a:pt x="7" y="52"/>
                  <a:pt x="7" y="52"/>
                  <a:pt x="7" y="52"/>
                </a:cubicBezTo>
                <a:cubicBezTo>
                  <a:pt x="7" y="39"/>
                  <a:pt x="7" y="39"/>
                  <a:pt x="7" y="39"/>
                </a:cubicBezTo>
                <a:cubicBezTo>
                  <a:pt x="17" y="46"/>
                  <a:pt x="36" y="50"/>
                  <a:pt x="53" y="50"/>
                </a:cubicBezTo>
                <a:cubicBezTo>
                  <a:pt x="71" y="50"/>
                  <a:pt x="89" y="46"/>
                  <a:pt x="99" y="39"/>
                </a:cubicBezTo>
                <a:lnTo>
                  <a:pt x="99" y="52"/>
                </a:lnTo>
                <a:close/>
                <a:moveTo>
                  <a:pt x="53" y="42"/>
                </a:moveTo>
                <a:cubicBezTo>
                  <a:pt x="28" y="42"/>
                  <a:pt x="7" y="34"/>
                  <a:pt x="7" y="25"/>
                </a:cubicBezTo>
                <a:cubicBezTo>
                  <a:pt x="7" y="15"/>
                  <a:pt x="28" y="8"/>
                  <a:pt x="53" y="8"/>
                </a:cubicBezTo>
                <a:cubicBezTo>
                  <a:pt x="79" y="8"/>
                  <a:pt x="99" y="15"/>
                  <a:pt x="99" y="25"/>
                </a:cubicBezTo>
                <a:cubicBezTo>
                  <a:pt x="99" y="34"/>
                  <a:pt x="79" y="42"/>
                  <a:pt x="53" y="42"/>
                </a:cubicBezTo>
                <a:close/>
                <a:moveTo>
                  <a:pt x="53" y="42"/>
                </a:moveTo>
                <a:cubicBezTo>
                  <a:pt x="53" y="42"/>
                  <a:pt x="53" y="42"/>
                  <a:pt x="53" y="4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08" name="稻壳儿小白白(http://dwz.cn/Wu2UP)" descr=""/>
          <p:cNvPicPr/>
          <p:nvPr/>
        </p:nvPicPr>
        <p:blipFill>
          <a:blip r:embed="rId8"/>
          <a:stretch/>
        </p:blipFill>
        <p:spPr>
          <a:xfrm>
            <a:off x="10277640" y="4956120"/>
            <a:ext cx="29880" cy="195480"/>
          </a:xfrm>
          <a:prstGeom prst="rect">
            <a:avLst/>
          </a:prstGeom>
          <a:ln w="0">
            <a:noFill/>
          </a:ln>
        </p:spPr>
      </p:pic>
      <p:pic>
        <p:nvPicPr>
          <p:cNvPr id="809" name="稻壳儿小白白(http://dwz.cn/Wu2UP)" descr=""/>
          <p:cNvPicPr/>
          <p:nvPr/>
        </p:nvPicPr>
        <p:blipFill>
          <a:blip r:embed="rId9"/>
          <a:stretch/>
        </p:blipFill>
        <p:spPr>
          <a:xfrm>
            <a:off x="8674200" y="4791240"/>
            <a:ext cx="457200" cy="403200"/>
          </a:xfrm>
          <a:prstGeom prst="rect">
            <a:avLst/>
          </a:prstGeom>
          <a:ln w="0">
            <a:noFill/>
          </a:ln>
        </p:spPr>
      </p:pic>
      <p:pic>
        <p:nvPicPr>
          <p:cNvPr id="810" name="稻壳儿小白白(http://dwz.cn/Wu2UP)" descr=""/>
          <p:cNvPicPr/>
          <p:nvPr/>
        </p:nvPicPr>
        <p:blipFill>
          <a:blip r:embed="rId10"/>
          <a:stretch/>
        </p:blipFill>
        <p:spPr>
          <a:xfrm>
            <a:off x="2273400" y="2541600"/>
            <a:ext cx="457200" cy="433440"/>
          </a:xfrm>
          <a:prstGeom prst="rect">
            <a:avLst/>
          </a:prstGeom>
          <a:ln w="0">
            <a:noFill/>
          </a:ln>
        </p:spPr>
      </p:pic>
      <p:pic>
        <p:nvPicPr>
          <p:cNvPr id="811" name="稻壳儿小白白(http://dwz.cn/Wu2UP)" descr=""/>
          <p:cNvPicPr/>
          <p:nvPr/>
        </p:nvPicPr>
        <p:blipFill>
          <a:blip r:embed="rId11"/>
          <a:stretch/>
        </p:blipFill>
        <p:spPr>
          <a:xfrm>
            <a:off x="3108240" y="2530440"/>
            <a:ext cx="463680" cy="457200"/>
          </a:xfrm>
          <a:prstGeom prst="rect">
            <a:avLst/>
          </a:prstGeom>
          <a:ln w="0">
            <a:noFill/>
          </a:ln>
        </p:spPr>
      </p:pic>
      <p:sp>
        <p:nvSpPr>
          <p:cNvPr id="812" name="稻壳儿小白白(http://dwz.cn/Wu2UP)"/>
          <p:cNvSpPr/>
          <p:nvPr/>
        </p:nvSpPr>
        <p:spPr>
          <a:xfrm>
            <a:off x="3948120" y="2525760"/>
            <a:ext cx="460440" cy="460440"/>
          </a:xfrm>
          <a:custGeom>
            <a:avLst/>
            <a:gdLst/>
            <a:ahLst/>
            <a:rect l="l" t="t" r="r" b="b"/>
            <a:pathLst>
              <a:path w="123" h="123">
                <a:moveTo>
                  <a:pt x="121" y="1"/>
                </a:moveTo>
                <a:cubicBezTo>
                  <a:pt x="120" y="0"/>
                  <a:pt x="119" y="0"/>
                  <a:pt x="119" y="0"/>
                </a:cubicBezTo>
                <a:cubicBezTo>
                  <a:pt x="118" y="0"/>
                  <a:pt x="117" y="0"/>
                  <a:pt x="117" y="1"/>
                </a:cubicBezTo>
                <a:cubicBezTo>
                  <a:pt x="2" y="77"/>
                  <a:pt x="2" y="77"/>
                  <a:pt x="2" y="77"/>
                </a:cubicBezTo>
                <a:cubicBezTo>
                  <a:pt x="0" y="78"/>
                  <a:pt x="0" y="79"/>
                  <a:pt x="0" y="81"/>
                </a:cubicBezTo>
                <a:cubicBezTo>
                  <a:pt x="0" y="82"/>
                  <a:pt x="1" y="83"/>
                  <a:pt x="2" y="84"/>
                </a:cubicBezTo>
                <a:cubicBezTo>
                  <a:pt x="32" y="96"/>
                  <a:pt x="32" y="96"/>
                  <a:pt x="32" y="96"/>
                </a:cubicBezTo>
                <a:cubicBezTo>
                  <a:pt x="46" y="121"/>
                  <a:pt x="46" y="121"/>
                  <a:pt x="46" y="121"/>
                </a:cubicBezTo>
                <a:cubicBezTo>
                  <a:pt x="47" y="122"/>
                  <a:pt x="48" y="123"/>
                  <a:pt x="50" y="123"/>
                </a:cubicBezTo>
                <a:cubicBezTo>
                  <a:pt x="50" y="123"/>
                  <a:pt x="50" y="123"/>
                  <a:pt x="50" y="123"/>
                </a:cubicBezTo>
                <a:cubicBezTo>
                  <a:pt x="51" y="123"/>
                  <a:pt x="52" y="122"/>
                  <a:pt x="53" y="121"/>
                </a:cubicBezTo>
                <a:cubicBezTo>
                  <a:pt x="61" y="107"/>
                  <a:pt x="61" y="107"/>
                  <a:pt x="61" y="107"/>
                </a:cubicBezTo>
                <a:cubicBezTo>
                  <a:pt x="98" y="122"/>
                  <a:pt x="98" y="122"/>
                  <a:pt x="98" y="122"/>
                </a:cubicBezTo>
                <a:cubicBezTo>
                  <a:pt x="99" y="123"/>
                  <a:pt x="99" y="123"/>
                  <a:pt x="100" y="123"/>
                </a:cubicBezTo>
                <a:cubicBezTo>
                  <a:pt x="100" y="123"/>
                  <a:pt x="101" y="122"/>
                  <a:pt x="101" y="122"/>
                </a:cubicBezTo>
                <a:cubicBezTo>
                  <a:pt x="102" y="122"/>
                  <a:pt x="103" y="121"/>
                  <a:pt x="103" y="119"/>
                </a:cubicBezTo>
                <a:cubicBezTo>
                  <a:pt x="123" y="4"/>
                  <a:pt x="123" y="4"/>
                  <a:pt x="123" y="4"/>
                </a:cubicBezTo>
                <a:cubicBezTo>
                  <a:pt x="123" y="3"/>
                  <a:pt x="122" y="1"/>
                  <a:pt x="121" y="1"/>
                </a:cubicBezTo>
                <a:close/>
                <a:moveTo>
                  <a:pt x="12" y="80"/>
                </a:moveTo>
                <a:cubicBezTo>
                  <a:pt x="101" y="20"/>
                  <a:pt x="101" y="20"/>
                  <a:pt x="101" y="20"/>
                </a:cubicBezTo>
                <a:cubicBezTo>
                  <a:pt x="36" y="89"/>
                  <a:pt x="36" y="89"/>
                  <a:pt x="36" y="89"/>
                </a:cubicBezTo>
                <a:cubicBezTo>
                  <a:pt x="36" y="89"/>
                  <a:pt x="35" y="89"/>
                  <a:pt x="35" y="89"/>
                </a:cubicBezTo>
                <a:lnTo>
                  <a:pt x="12" y="80"/>
                </a:lnTo>
                <a:close/>
                <a:moveTo>
                  <a:pt x="39" y="92"/>
                </a:moveTo>
                <a:cubicBezTo>
                  <a:pt x="39" y="92"/>
                  <a:pt x="39" y="92"/>
                  <a:pt x="39" y="92"/>
                </a:cubicBezTo>
                <a:cubicBezTo>
                  <a:pt x="112" y="14"/>
                  <a:pt x="112" y="14"/>
                  <a:pt x="112" y="14"/>
                </a:cubicBezTo>
                <a:cubicBezTo>
                  <a:pt x="50" y="111"/>
                  <a:pt x="50" y="111"/>
                  <a:pt x="50" y="111"/>
                </a:cubicBezTo>
                <a:lnTo>
                  <a:pt x="39" y="92"/>
                </a:lnTo>
                <a:close/>
                <a:moveTo>
                  <a:pt x="97" y="113"/>
                </a:moveTo>
                <a:cubicBezTo>
                  <a:pt x="64" y="100"/>
                  <a:pt x="64" y="100"/>
                  <a:pt x="64" y="100"/>
                </a:cubicBezTo>
                <a:cubicBezTo>
                  <a:pt x="63" y="100"/>
                  <a:pt x="62" y="100"/>
                  <a:pt x="61" y="100"/>
                </a:cubicBezTo>
                <a:cubicBezTo>
                  <a:pt x="112" y="22"/>
                  <a:pt x="112" y="22"/>
                  <a:pt x="112" y="22"/>
                </a:cubicBezTo>
                <a:lnTo>
                  <a:pt x="97" y="113"/>
                </a:lnTo>
                <a:close/>
                <a:moveTo>
                  <a:pt x="97" y="113"/>
                </a:moveTo>
                <a:cubicBezTo>
                  <a:pt x="97" y="113"/>
                  <a:pt x="97" y="113"/>
                  <a:pt x="97" y="11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13" name="稻壳儿小白白(http://dwz.cn/Wu2UP)" descr=""/>
          <p:cNvPicPr/>
          <p:nvPr/>
        </p:nvPicPr>
        <p:blipFill>
          <a:blip r:embed="rId12"/>
          <a:stretch/>
        </p:blipFill>
        <p:spPr>
          <a:xfrm>
            <a:off x="4784760" y="2530440"/>
            <a:ext cx="433440" cy="457200"/>
          </a:xfrm>
          <a:prstGeom prst="rect">
            <a:avLst/>
          </a:prstGeom>
          <a:ln w="0">
            <a:noFill/>
          </a:ln>
        </p:spPr>
      </p:pic>
      <p:pic>
        <p:nvPicPr>
          <p:cNvPr id="814" name="稻壳儿小白白(http://dwz.cn/Wu2UP)" descr=""/>
          <p:cNvPicPr/>
          <p:nvPr/>
        </p:nvPicPr>
        <p:blipFill>
          <a:blip r:embed="rId13"/>
          <a:stretch/>
        </p:blipFill>
        <p:spPr>
          <a:xfrm>
            <a:off x="5595840" y="2530440"/>
            <a:ext cx="451080" cy="457200"/>
          </a:xfrm>
          <a:prstGeom prst="rect">
            <a:avLst/>
          </a:prstGeom>
          <a:ln w="0">
            <a:noFill/>
          </a:ln>
        </p:spPr>
      </p:pic>
      <p:pic>
        <p:nvPicPr>
          <p:cNvPr id="815" name="稻壳儿小白白(http://dwz.cn/Wu2UP)" descr=""/>
          <p:cNvPicPr/>
          <p:nvPr/>
        </p:nvPicPr>
        <p:blipFill>
          <a:blip r:embed="rId14"/>
          <a:stretch/>
        </p:blipFill>
        <p:spPr>
          <a:xfrm>
            <a:off x="6424560" y="2530440"/>
            <a:ext cx="317520" cy="457200"/>
          </a:xfrm>
          <a:prstGeom prst="rect">
            <a:avLst/>
          </a:prstGeom>
          <a:ln w="0">
            <a:noFill/>
          </a:ln>
        </p:spPr>
      </p:pic>
      <p:sp>
        <p:nvSpPr>
          <p:cNvPr id="816" name="稻壳儿小白白(http://dwz.cn/Wu2UP)"/>
          <p:cNvSpPr/>
          <p:nvPr/>
        </p:nvSpPr>
        <p:spPr>
          <a:xfrm>
            <a:off x="7122960" y="2552760"/>
            <a:ext cx="462240" cy="398520"/>
          </a:xfrm>
          <a:custGeom>
            <a:avLst/>
            <a:gdLst/>
            <a:ahLst/>
            <a:rect l="l" t="t" r="r" b="b"/>
            <a:pathLst>
              <a:path w="124" h="107">
                <a:moveTo>
                  <a:pt x="120" y="17"/>
                </a:moveTo>
                <a:cubicBezTo>
                  <a:pt x="101" y="2"/>
                  <a:pt x="101" y="2"/>
                  <a:pt x="101" y="2"/>
                </a:cubicBezTo>
                <a:cubicBezTo>
                  <a:pt x="100" y="1"/>
                  <a:pt x="98" y="0"/>
                  <a:pt x="97" y="0"/>
                </a:cubicBezTo>
                <a:cubicBezTo>
                  <a:pt x="27" y="0"/>
                  <a:pt x="27" y="0"/>
                  <a:pt x="27" y="0"/>
                </a:cubicBezTo>
                <a:cubicBezTo>
                  <a:pt x="26" y="0"/>
                  <a:pt x="24" y="1"/>
                  <a:pt x="23" y="2"/>
                </a:cubicBezTo>
                <a:cubicBezTo>
                  <a:pt x="4" y="17"/>
                  <a:pt x="4" y="17"/>
                  <a:pt x="4" y="17"/>
                </a:cubicBezTo>
                <a:cubicBezTo>
                  <a:pt x="1" y="19"/>
                  <a:pt x="0" y="22"/>
                  <a:pt x="1" y="26"/>
                </a:cubicBezTo>
                <a:cubicBezTo>
                  <a:pt x="9" y="49"/>
                  <a:pt x="9" y="49"/>
                  <a:pt x="9" y="49"/>
                </a:cubicBezTo>
                <a:cubicBezTo>
                  <a:pt x="9" y="51"/>
                  <a:pt x="11" y="53"/>
                  <a:pt x="13" y="53"/>
                </a:cubicBezTo>
                <a:cubicBezTo>
                  <a:pt x="14" y="54"/>
                  <a:pt x="15" y="54"/>
                  <a:pt x="16" y="54"/>
                </a:cubicBezTo>
                <a:cubicBezTo>
                  <a:pt x="17" y="54"/>
                  <a:pt x="19" y="53"/>
                  <a:pt x="20" y="53"/>
                </a:cubicBezTo>
                <a:cubicBezTo>
                  <a:pt x="20" y="100"/>
                  <a:pt x="20" y="100"/>
                  <a:pt x="20" y="100"/>
                </a:cubicBezTo>
                <a:cubicBezTo>
                  <a:pt x="20" y="104"/>
                  <a:pt x="23" y="107"/>
                  <a:pt x="27" y="107"/>
                </a:cubicBezTo>
                <a:cubicBezTo>
                  <a:pt x="97" y="107"/>
                  <a:pt x="97" y="107"/>
                  <a:pt x="97" y="107"/>
                </a:cubicBezTo>
                <a:cubicBezTo>
                  <a:pt x="101" y="107"/>
                  <a:pt x="104" y="104"/>
                  <a:pt x="104" y="100"/>
                </a:cubicBezTo>
                <a:cubicBezTo>
                  <a:pt x="104" y="53"/>
                  <a:pt x="104" y="53"/>
                  <a:pt x="104" y="53"/>
                </a:cubicBezTo>
                <a:cubicBezTo>
                  <a:pt x="105" y="53"/>
                  <a:pt x="107" y="54"/>
                  <a:pt x="108" y="54"/>
                </a:cubicBezTo>
                <a:cubicBezTo>
                  <a:pt x="109" y="54"/>
                  <a:pt x="110" y="54"/>
                  <a:pt x="111" y="53"/>
                </a:cubicBezTo>
                <a:cubicBezTo>
                  <a:pt x="113" y="53"/>
                  <a:pt x="115" y="51"/>
                  <a:pt x="115" y="49"/>
                </a:cubicBezTo>
                <a:cubicBezTo>
                  <a:pt x="123" y="26"/>
                  <a:pt x="123" y="26"/>
                  <a:pt x="123" y="26"/>
                </a:cubicBezTo>
                <a:cubicBezTo>
                  <a:pt x="124" y="22"/>
                  <a:pt x="123" y="19"/>
                  <a:pt x="120" y="17"/>
                </a:cubicBezTo>
                <a:close/>
                <a:moveTo>
                  <a:pt x="76" y="8"/>
                </a:moveTo>
                <a:cubicBezTo>
                  <a:pt x="74" y="12"/>
                  <a:pt x="69" y="15"/>
                  <a:pt x="62" y="15"/>
                </a:cubicBezTo>
                <a:cubicBezTo>
                  <a:pt x="55" y="15"/>
                  <a:pt x="50" y="12"/>
                  <a:pt x="48" y="8"/>
                </a:cubicBezTo>
                <a:lnTo>
                  <a:pt x="76" y="8"/>
                </a:lnTo>
                <a:close/>
                <a:moveTo>
                  <a:pt x="108" y="46"/>
                </a:moveTo>
                <a:cubicBezTo>
                  <a:pt x="97" y="38"/>
                  <a:pt x="97" y="38"/>
                  <a:pt x="97" y="38"/>
                </a:cubicBezTo>
                <a:cubicBezTo>
                  <a:pt x="97" y="100"/>
                  <a:pt x="97" y="100"/>
                  <a:pt x="97" y="100"/>
                </a:cubicBezTo>
                <a:cubicBezTo>
                  <a:pt x="27" y="100"/>
                  <a:pt x="27" y="100"/>
                  <a:pt x="27" y="100"/>
                </a:cubicBezTo>
                <a:cubicBezTo>
                  <a:pt x="27" y="38"/>
                  <a:pt x="27" y="38"/>
                  <a:pt x="27" y="38"/>
                </a:cubicBezTo>
                <a:cubicBezTo>
                  <a:pt x="16" y="46"/>
                  <a:pt x="16" y="46"/>
                  <a:pt x="16" y="46"/>
                </a:cubicBezTo>
                <a:cubicBezTo>
                  <a:pt x="8" y="23"/>
                  <a:pt x="8" y="23"/>
                  <a:pt x="8" y="23"/>
                </a:cubicBezTo>
                <a:cubicBezTo>
                  <a:pt x="27" y="8"/>
                  <a:pt x="27" y="8"/>
                  <a:pt x="27" y="8"/>
                </a:cubicBezTo>
                <a:cubicBezTo>
                  <a:pt x="44" y="8"/>
                  <a:pt x="44" y="8"/>
                  <a:pt x="44" y="8"/>
                </a:cubicBezTo>
                <a:cubicBezTo>
                  <a:pt x="46" y="14"/>
                  <a:pt x="53" y="19"/>
                  <a:pt x="62" y="19"/>
                </a:cubicBezTo>
                <a:cubicBezTo>
                  <a:pt x="71" y="19"/>
                  <a:pt x="78" y="14"/>
                  <a:pt x="80" y="8"/>
                </a:cubicBezTo>
                <a:cubicBezTo>
                  <a:pt x="97" y="8"/>
                  <a:pt x="97" y="8"/>
                  <a:pt x="97" y="8"/>
                </a:cubicBezTo>
                <a:cubicBezTo>
                  <a:pt x="116" y="23"/>
                  <a:pt x="116" y="23"/>
                  <a:pt x="116" y="23"/>
                </a:cubicBezTo>
                <a:lnTo>
                  <a:pt x="108" y="46"/>
                </a:lnTo>
                <a:close/>
                <a:moveTo>
                  <a:pt x="108" y="46"/>
                </a:moveTo>
                <a:cubicBezTo>
                  <a:pt x="108" y="46"/>
                  <a:pt x="108" y="46"/>
                  <a:pt x="108" y="46"/>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17" name="稻壳儿小白白(http://dwz.cn/Wu2UP)" descr=""/>
          <p:cNvPicPr/>
          <p:nvPr/>
        </p:nvPicPr>
        <p:blipFill>
          <a:blip r:embed="rId15"/>
          <a:stretch/>
        </p:blipFill>
        <p:spPr>
          <a:xfrm>
            <a:off x="7991640" y="2517840"/>
            <a:ext cx="469800" cy="469800"/>
          </a:xfrm>
          <a:prstGeom prst="rect">
            <a:avLst/>
          </a:prstGeom>
          <a:ln w="0">
            <a:noFill/>
          </a:ln>
        </p:spPr>
      </p:pic>
      <p:sp>
        <p:nvSpPr>
          <p:cNvPr id="818" name="稻壳儿小白白(http://dwz.cn/Wu2UP)"/>
          <p:cNvSpPr/>
          <p:nvPr/>
        </p:nvSpPr>
        <p:spPr>
          <a:xfrm>
            <a:off x="8861400" y="2529000"/>
            <a:ext cx="460440" cy="460440"/>
          </a:xfrm>
          <a:custGeom>
            <a:avLst/>
            <a:gdLst/>
            <a:ahLst/>
            <a:rect l="l" t="t" r="r" b="b"/>
            <a:pathLst>
              <a:path w="123" h="123">
                <a:moveTo>
                  <a:pt x="96" y="0"/>
                </a:moveTo>
                <a:cubicBezTo>
                  <a:pt x="88" y="0"/>
                  <a:pt x="82" y="5"/>
                  <a:pt x="77" y="14"/>
                </a:cubicBezTo>
                <a:cubicBezTo>
                  <a:pt x="77" y="14"/>
                  <a:pt x="77" y="14"/>
                  <a:pt x="77" y="14"/>
                </a:cubicBezTo>
                <a:cubicBezTo>
                  <a:pt x="71" y="26"/>
                  <a:pt x="61" y="34"/>
                  <a:pt x="51" y="34"/>
                </a:cubicBezTo>
                <a:cubicBezTo>
                  <a:pt x="15" y="34"/>
                  <a:pt x="15" y="34"/>
                  <a:pt x="15" y="34"/>
                </a:cubicBezTo>
                <a:cubicBezTo>
                  <a:pt x="7" y="34"/>
                  <a:pt x="0" y="43"/>
                  <a:pt x="0" y="54"/>
                </a:cubicBezTo>
                <a:cubicBezTo>
                  <a:pt x="0" y="64"/>
                  <a:pt x="7" y="73"/>
                  <a:pt x="15" y="73"/>
                </a:cubicBezTo>
                <a:cubicBezTo>
                  <a:pt x="20" y="73"/>
                  <a:pt x="23" y="76"/>
                  <a:pt x="23" y="80"/>
                </a:cubicBezTo>
                <a:cubicBezTo>
                  <a:pt x="23" y="115"/>
                  <a:pt x="23" y="115"/>
                  <a:pt x="23" y="115"/>
                </a:cubicBezTo>
                <a:cubicBezTo>
                  <a:pt x="23" y="119"/>
                  <a:pt x="26" y="123"/>
                  <a:pt x="31" y="123"/>
                </a:cubicBezTo>
                <a:cubicBezTo>
                  <a:pt x="46" y="123"/>
                  <a:pt x="46" y="123"/>
                  <a:pt x="46" y="123"/>
                </a:cubicBezTo>
                <a:cubicBezTo>
                  <a:pt x="50" y="123"/>
                  <a:pt x="54" y="119"/>
                  <a:pt x="54" y="115"/>
                </a:cubicBezTo>
                <a:cubicBezTo>
                  <a:pt x="54" y="111"/>
                  <a:pt x="54" y="111"/>
                  <a:pt x="54" y="111"/>
                </a:cubicBezTo>
                <a:cubicBezTo>
                  <a:pt x="54" y="107"/>
                  <a:pt x="50" y="106"/>
                  <a:pt x="50" y="103"/>
                </a:cubicBezTo>
                <a:cubicBezTo>
                  <a:pt x="50" y="77"/>
                  <a:pt x="50" y="77"/>
                  <a:pt x="50" y="77"/>
                </a:cubicBezTo>
                <a:cubicBezTo>
                  <a:pt x="50" y="76"/>
                  <a:pt x="50" y="76"/>
                  <a:pt x="50" y="76"/>
                </a:cubicBezTo>
                <a:cubicBezTo>
                  <a:pt x="50" y="76"/>
                  <a:pt x="50" y="75"/>
                  <a:pt x="50" y="75"/>
                </a:cubicBezTo>
                <a:cubicBezTo>
                  <a:pt x="50" y="75"/>
                  <a:pt x="51" y="75"/>
                  <a:pt x="51" y="74"/>
                </a:cubicBezTo>
                <a:cubicBezTo>
                  <a:pt x="51" y="74"/>
                  <a:pt x="51" y="74"/>
                  <a:pt x="52" y="73"/>
                </a:cubicBezTo>
                <a:cubicBezTo>
                  <a:pt x="52" y="73"/>
                  <a:pt x="52" y="73"/>
                  <a:pt x="52" y="73"/>
                </a:cubicBezTo>
                <a:cubicBezTo>
                  <a:pt x="52" y="73"/>
                  <a:pt x="52" y="73"/>
                  <a:pt x="52" y="73"/>
                </a:cubicBezTo>
                <a:cubicBezTo>
                  <a:pt x="52" y="73"/>
                  <a:pt x="53" y="73"/>
                  <a:pt x="53" y="73"/>
                </a:cubicBezTo>
                <a:cubicBezTo>
                  <a:pt x="63" y="74"/>
                  <a:pt x="71" y="82"/>
                  <a:pt x="77" y="94"/>
                </a:cubicBezTo>
                <a:cubicBezTo>
                  <a:pt x="77" y="94"/>
                  <a:pt x="77" y="94"/>
                  <a:pt x="77" y="94"/>
                </a:cubicBezTo>
                <a:cubicBezTo>
                  <a:pt x="82" y="102"/>
                  <a:pt x="88" y="107"/>
                  <a:pt x="96" y="107"/>
                </a:cubicBezTo>
                <a:cubicBezTo>
                  <a:pt x="114" y="107"/>
                  <a:pt x="123" y="80"/>
                  <a:pt x="123" y="54"/>
                </a:cubicBezTo>
                <a:cubicBezTo>
                  <a:pt x="123" y="27"/>
                  <a:pt x="114" y="0"/>
                  <a:pt x="96" y="0"/>
                </a:cubicBezTo>
                <a:close/>
                <a:moveTo>
                  <a:pt x="77" y="54"/>
                </a:moveTo>
                <a:cubicBezTo>
                  <a:pt x="77" y="50"/>
                  <a:pt x="77" y="46"/>
                  <a:pt x="77" y="42"/>
                </a:cubicBezTo>
                <a:cubicBezTo>
                  <a:pt x="88" y="42"/>
                  <a:pt x="88" y="42"/>
                  <a:pt x="88" y="42"/>
                </a:cubicBezTo>
                <a:cubicBezTo>
                  <a:pt x="92" y="42"/>
                  <a:pt x="96" y="47"/>
                  <a:pt x="96" y="54"/>
                </a:cubicBezTo>
                <a:cubicBezTo>
                  <a:pt x="96" y="60"/>
                  <a:pt x="92" y="65"/>
                  <a:pt x="88" y="65"/>
                </a:cubicBezTo>
                <a:cubicBezTo>
                  <a:pt x="77" y="65"/>
                  <a:pt x="77" y="65"/>
                  <a:pt x="77" y="65"/>
                </a:cubicBezTo>
                <a:cubicBezTo>
                  <a:pt x="77" y="61"/>
                  <a:pt x="77" y="58"/>
                  <a:pt x="77" y="54"/>
                </a:cubicBezTo>
                <a:close/>
                <a:moveTo>
                  <a:pt x="8" y="54"/>
                </a:moveTo>
                <a:cubicBezTo>
                  <a:pt x="8" y="47"/>
                  <a:pt x="11" y="42"/>
                  <a:pt x="15" y="42"/>
                </a:cubicBezTo>
                <a:cubicBezTo>
                  <a:pt x="42" y="42"/>
                  <a:pt x="42" y="42"/>
                  <a:pt x="42" y="42"/>
                </a:cubicBezTo>
                <a:cubicBezTo>
                  <a:pt x="40" y="45"/>
                  <a:pt x="38" y="49"/>
                  <a:pt x="38" y="54"/>
                </a:cubicBezTo>
                <a:cubicBezTo>
                  <a:pt x="38" y="58"/>
                  <a:pt x="40" y="62"/>
                  <a:pt x="42" y="65"/>
                </a:cubicBezTo>
                <a:cubicBezTo>
                  <a:pt x="15" y="65"/>
                  <a:pt x="15" y="65"/>
                  <a:pt x="15" y="65"/>
                </a:cubicBezTo>
                <a:cubicBezTo>
                  <a:pt x="11" y="65"/>
                  <a:pt x="8" y="60"/>
                  <a:pt x="8" y="54"/>
                </a:cubicBezTo>
                <a:close/>
                <a:moveTo>
                  <a:pt x="46" y="115"/>
                </a:moveTo>
                <a:cubicBezTo>
                  <a:pt x="31" y="115"/>
                  <a:pt x="31" y="115"/>
                  <a:pt x="31" y="115"/>
                </a:cubicBezTo>
                <a:cubicBezTo>
                  <a:pt x="31" y="80"/>
                  <a:pt x="31" y="80"/>
                  <a:pt x="31" y="80"/>
                </a:cubicBezTo>
                <a:cubicBezTo>
                  <a:pt x="31" y="78"/>
                  <a:pt x="30" y="75"/>
                  <a:pt x="29" y="73"/>
                </a:cubicBezTo>
                <a:cubicBezTo>
                  <a:pt x="31" y="73"/>
                  <a:pt x="31" y="73"/>
                  <a:pt x="31" y="73"/>
                </a:cubicBezTo>
                <a:cubicBezTo>
                  <a:pt x="31" y="73"/>
                  <a:pt x="31" y="73"/>
                  <a:pt x="31" y="73"/>
                </a:cubicBezTo>
                <a:cubicBezTo>
                  <a:pt x="43" y="73"/>
                  <a:pt x="43" y="73"/>
                  <a:pt x="43" y="73"/>
                </a:cubicBezTo>
                <a:cubicBezTo>
                  <a:pt x="42" y="74"/>
                  <a:pt x="42" y="75"/>
                  <a:pt x="42" y="77"/>
                </a:cubicBezTo>
                <a:cubicBezTo>
                  <a:pt x="42" y="103"/>
                  <a:pt x="42" y="103"/>
                  <a:pt x="42" y="103"/>
                </a:cubicBezTo>
                <a:cubicBezTo>
                  <a:pt x="42" y="107"/>
                  <a:pt x="44" y="110"/>
                  <a:pt x="46" y="111"/>
                </a:cubicBezTo>
                <a:cubicBezTo>
                  <a:pt x="46" y="111"/>
                  <a:pt x="46" y="111"/>
                  <a:pt x="46" y="112"/>
                </a:cubicBezTo>
                <a:lnTo>
                  <a:pt x="46" y="115"/>
                </a:lnTo>
                <a:close/>
                <a:moveTo>
                  <a:pt x="51" y="65"/>
                </a:moveTo>
                <a:cubicBezTo>
                  <a:pt x="50" y="65"/>
                  <a:pt x="50" y="65"/>
                  <a:pt x="50" y="65"/>
                </a:cubicBezTo>
                <a:cubicBezTo>
                  <a:pt x="50" y="65"/>
                  <a:pt x="50" y="65"/>
                  <a:pt x="50" y="65"/>
                </a:cubicBezTo>
                <a:cubicBezTo>
                  <a:pt x="46" y="65"/>
                  <a:pt x="42" y="60"/>
                  <a:pt x="42" y="54"/>
                </a:cubicBezTo>
                <a:cubicBezTo>
                  <a:pt x="42" y="47"/>
                  <a:pt x="46" y="42"/>
                  <a:pt x="50" y="42"/>
                </a:cubicBezTo>
                <a:cubicBezTo>
                  <a:pt x="51" y="42"/>
                  <a:pt x="51" y="42"/>
                  <a:pt x="51" y="42"/>
                </a:cubicBezTo>
                <a:cubicBezTo>
                  <a:pt x="58" y="42"/>
                  <a:pt x="65" y="39"/>
                  <a:pt x="71" y="34"/>
                </a:cubicBezTo>
                <a:cubicBezTo>
                  <a:pt x="70" y="40"/>
                  <a:pt x="69" y="47"/>
                  <a:pt x="69" y="54"/>
                </a:cubicBezTo>
                <a:cubicBezTo>
                  <a:pt x="69" y="60"/>
                  <a:pt x="70" y="67"/>
                  <a:pt x="71" y="73"/>
                </a:cubicBezTo>
                <a:cubicBezTo>
                  <a:pt x="65" y="68"/>
                  <a:pt x="58" y="65"/>
                  <a:pt x="51" y="65"/>
                </a:cubicBezTo>
                <a:close/>
                <a:moveTo>
                  <a:pt x="96" y="100"/>
                </a:moveTo>
                <a:cubicBezTo>
                  <a:pt x="88" y="100"/>
                  <a:pt x="82" y="89"/>
                  <a:pt x="79" y="73"/>
                </a:cubicBezTo>
                <a:cubicBezTo>
                  <a:pt x="88" y="73"/>
                  <a:pt x="88" y="73"/>
                  <a:pt x="88" y="73"/>
                </a:cubicBezTo>
                <a:cubicBezTo>
                  <a:pt x="97" y="73"/>
                  <a:pt x="104" y="64"/>
                  <a:pt x="104" y="54"/>
                </a:cubicBezTo>
                <a:cubicBezTo>
                  <a:pt x="104" y="43"/>
                  <a:pt x="97" y="34"/>
                  <a:pt x="88" y="34"/>
                </a:cubicBezTo>
                <a:cubicBezTo>
                  <a:pt x="79" y="34"/>
                  <a:pt x="79" y="34"/>
                  <a:pt x="79" y="34"/>
                </a:cubicBezTo>
                <a:cubicBezTo>
                  <a:pt x="82" y="19"/>
                  <a:pt x="88" y="8"/>
                  <a:pt x="96" y="8"/>
                </a:cubicBezTo>
                <a:cubicBezTo>
                  <a:pt x="107" y="8"/>
                  <a:pt x="115" y="28"/>
                  <a:pt x="115" y="54"/>
                </a:cubicBezTo>
                <a:cubicBezTo>
                  <a:pt x="115" y="79"/>
                  <a:pt x="107" y="100"/>
                  <a:pt x="96" y="100"/>
                </a:cubicBezTo>
                <a:close/>
                <a:moveTo>
                  <a:pt x="96" y="100"/>
                </a:moveTo>
                <a:cubicBezTo>
                  <a:pt x="96" y="100"/>
                  <a:pt x="96" y="100"/>
                  <a:pt x="96" y="10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稻壳儿小白白(http://dwz.cn/Wu2UP)"/>
          <p:cNvSpPr/>
          <p:nvPr/>
        </p:nvSpPr>
        <p:spPr>
          <a:xfrm>
            <a:off x="9699480" y="2600280"/>
            <a:ext cx="460440" cy="314280"/>
          </a:xfrm>
          <a:custGeom>
            <a:avLst/>
            <a:gdLst/>
            <a:ahLst/>
            <a:rect l="l" t="t" r="r" b="b"/>
            <a:pathLst>
              <a:path w="123" h="84">
                <a:moveTo>
                  <a:pt x="115" y="4"/>
                </a:moveTo>
                <a:cubicBezTo>
                  <a:pt x="112" y="4"/>
                  <a:pt x="112" y="4"/>
                  <a:pt x="112" y="4"/>
                </a:cubicBezTo>
                <a:cubicBezTo>
                  <a:pt x="110" y="4"/>
                  <a:pt x="108" y="5"/>
                  <a:pt x="107" y="6"/>
                </a:cubicBezTo>
                <a:cubicBezTo>
                  <a:pt x="96" y="16"/>
                  <a:pt x="96" y="16"/>
                  <a:pt x="96" y="16"/>
                </a:cubicBezTo>
                <a:cubicBezTo>
                  <a:pt x="96" y="12"/>
                  <a:pt x="96" y="12"/>
                  <a:pt x="96" y="12"/>
                </a:cubicBezTo>
                <a:cubicBezTo>
                  <a:pt x="96" y="5"/>
                  <a:pt x="91" y="0"/>
                  <a:pt x="85" y="0"/>
                </a:cubicBezTo>
                <a:cubicBezTo>
                  <a:pt x="12" y="0"/>
                  <a:pt x="12" y="0"/>
                  <a:pt x="12" y="0"/>
                </a:cubicBezTo>
                <a:cubicBezTo>
                  <a:pt x="6" y="0"/>
                  <a:pt x="0" y="5"/>
                  <a:pt x="0" y="12"/>
                </a:cubicBezTo>
                <a:cubicBezTo>
                  <a:pt x="0" y="73"/>
                  <a:pt x="0" y="73"/>
                  <a:pt x="0" y="73"/>
                </a:cubicBezTo>
                <a:cubicBezTo>
                  <a:pt x="0" y="79"/>
                  <a:pt x="6" y="84"/>
                  <a:pt x="12" y="84"/>
                </a:cubicBezTo>
                <a:cubicBezTo>
                  <a:pt x="85" y="84"/>
                  <a:pt x="85" y="84"/>
                  <a:pt x="85" y="84"/>
                </a:cubicBezTo>
                <a:cubicBezTo>
                  <a:pt x="91" y="84"/>
                  <a:pt x="96" y="79"/>
                  <a:pt x="96" y="73"/>
                </a:cubicBezTo>
                <a:cubicBezTo>
                  <a:pt x="96" y="68"/>
                  <a:pt x="96" y="68"/>
                  <a:pt x="96" y="68"/>
                </a:cubicBezTo>
                <a:cubicBezTo>
                  <a:pt x="107" y="78"/>
                  <a:pt x="107" y="78"/>
                  <a:pt x="107" y="78"/>
                </a:cubicBezTo>
                <a:cubicBezTo>
                  <a:pt x="108" y="80"/>
                  <a:pt x="110" y="81"/>
                  <a:pt x="112" y="81"/>
                </a:cubicBezTo>
                <a:cubicBezTo>
                  <a:pt x="115" y="81"/>
                  <a:pt x="115" y="81"/>
                  <a:pt x="115" y="81"/>
                </a:cubicBezTo>
                <a:cubicBezTo>
                  <a:pt x="120" y="81"/>
                  <a:pt x="123" y="77"/>
                  <a:pt x="123" y="73"/>
                </a:cubicBezTo>
                <a:cubicBezTo>
                  <a:pt x="123" y="12"/>
                  <a:pt x="123" y="12"/>
                  <a:pt x="123" y="12"/>
                </a:cubicBezTo>
                <a:cubicBezTo>
                  <a:pt x="123" y="7"/>
                  <a:pt x="120" y="4"/>
                  <a:pt x="115" y="4"/>
                </a:cubicBezTo>
                <a:close/>
                <a:moveTo>
                  <a:pt x="12" y="77"/>
                </a:moveTo>
                <a:cubicBezTo>
                  <a:pt x="10" y="77"/>
                  <a:pt x="8" y="75"/>
                  <a:pt x="8" y="73"/>
                </a:cubicBezTo>
                <a:cubicBezTo>
                  <a:pt x="8" y="12"/>
                  <a:pt x="8" y="12"/>
                  <a:pt x="8" y="12"/>
                </a:cubicBezTo>
                <a:cubicBezTo>
                  <a:pt x="8" y="9"/>
                  <a:pt x="10" y="8"/>
                  <a:pt x="12" y="8"/>
                </a:cubicBezTo>
                <a:cubicBezTo>
                  <a:pt x="85" y="8"/>
                  <a:pt x="85" y="8"/>
                  <a:pt x="85" y="8"/>
                </a:cubicBezTo>
                <a:cubicBezTo>
                  <a:pt x="87" y="8"/>
                  <a:pt x="89" y="9"/>
                  <a:pt x="89" y="12"/>
                </a:cubicBezTo>
                <a:cubicBezTo>
                  <a:pt x="89" y="73"/>
                  <a:pt x="89" y="73"/>
                  <a:pt x="89" y="73"/>
                </a:cubicBezTo>
                <a:cubicBezTo>
                  <a:pt x="89" y="75"/>
                  <a:pt x="87" y="77"/>
                  <a:pt x="85" y="77"/>
                </a:cubicBezTo>
                <a:lnTo>
                  <a:pt x="12" y="77"/>
                </a:lnTo>
                <a:close/>
                <a:moveTo>
                  <a:pt x="115" y="73"/>
                </a:moveTo>
                <a:cubicBezTo>
                  <a:pt x="112" y="73"/>
                  <a:pt x="112" y="73"/>
                  <a:pt x="112" y="73"/>
                </a:cubicBezTo>
                <a:cubicBezTo>
                  <a:pt x="96" y="58"/>
                  <a:pt x="96" y="58"/>
                  <a:pt x="96" y="58"/>
                </a:cubicBezTo>
                <a:cubicBezTo>
                  <a:pt x="96" y="58"/>
                  <a:pt x="96" y="58"/>
                  <a:pt x="96" y="58"/>
                </a:cubicBezTo>
                <a:cubicBezTo>
                  <a:pt x="92" y="54"/>
                  <a:pt x="92" y="54"/>
                  <a:pt x="92" y="54"/>
                </a:cubicBezTo>
                <a:cubicBezTo>
                  <a:pt x="92" y="31"/>
                  <a:pt x="92" y="31"/>
                  <a:pt x="92" y="31"/>
                </a:cubicBezTo>
                <a:cubicBezTo>
                  <a:pt x="112" y="12"/>
                  <a:pt x="112" y="12"/>
                  <a:pt x="112" y="12"/>
                </a:cubicBezTo>
                <a:cubicBezTo>
                  <a:pt x="115" y="12"/>
                  <a:pt x="115" y="12"/>
                  <a:pt x="115" y="12"/>
                </a:cubicBezTo>
                <a:lnTo>
                  <a:pt x="115" y="73"/>
                </a:lnTo>
                <a:close/>
                <a:moveTo>
                  <a:pt x="115" y="73"/>
                </a:moveTo>
                <a:cubicBezTo>
                  <a:pt x="115" y="73"/>
                  <a:pt x="115" y="73"/>
                  <a:pt x="115" y="7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稻壳儿小白白(http://dwz.cn/Wu2UP)"/>
          <p:cNvSpPr/>
          <p:nvPr/>
        </p:nvSpPr>
        <p:spPr>
          <a:xfrm>
            <a:off x="10537920" y="2583000"/>
            <a:ext cx="458640" cy="345960"/>
          </a:xfrm>
          <a:custGeom>
            <a:avLst/>
            <a:gdLst/>
            <a:ahLst/>
            <a:rect l="l" t="t" r="r" b="b"/>
            <a:pathLst>
              <a:path w="123" h="92">
                <a:moveTo>
                  <a:pt x="120" y="22"/>
                </a:moveTo>
                <a:cubicBezTo>
                  <a:pt x="101" y="2"/>
                  <a:pt x="101" y="2"/>
                  <a:pt x="101" y="2"/>
                </a:cubicBezTo>
                <a:cubicBezTo>
                  <a:pt x="100" y="1"/>
                  <a:pt x="98" y="0"/>
                  <a:pt x="96" y="0"/>
                </a:cubicBezTo>
                <a:cubicBezTo>
                  <a:pt x="27" y="0"/>
                  <a:pt x="27" y="0"/>
                  <a:pt x="27" y="0"/>
                </a:cubicBezTo>
                <a:cubicBezTo>
                  <a:pt x="25" y="0"/>
                  <a:pt x="23" y="1"/>
                  <a:pt x="22" y="2"/>
                </a:cubicBezTo>
                <a:cubicBezTo>
                  <a:pt x="2" y="22"/>
                  <a:pt x="2" y="22"/>
                  <a:pt x="2" y="22"/>
                </a:cubicBezTo>
                <a:cubicBezTo>
                  <a:pt x="1" y="23"/>
                  <a:pt x="0" y="25"/>
                  <a:pt x="0" y="27"/>
                </a:cubicBezTo>
                <a:cubicBezTo>
                  <a:pt x="0" y="29"/>
                  <a:pt x="1" y="31"/>
                  <a:pt x="2" y="32"/>
                </a:cubicBezTo>
                <a:cubicBezTo>
                  <a:pt x="56" y="90"/>
                  <a:pt x="56" y="90"/>
                  <a:pt x="56" y="90"/>
                </a:cubicBezTo>
                <a:cubicBezTo>
                  <a:pt x="57" y="91"/>
                  <a:pt x="59" y="92"/>
                  <a:pt x="61" y="92"/>
                </a:cubicBezTo>
                <a:cubicBezTo>
                  <a:pt x="64" y="92"/>
                  <a:pt x="66" y="91"/>
                  <a:pt x="67" y="90"/>
                </a:cubicBezTo>
                <a:cubicBezTo>
                  <a:pt x="121" y="32"/>
                  <a:pt x="121" y="32"/>
                  <a:pt x="121" y="32"/>
                </a:cubicBezTo>
                <a:cubicBezTo>
                  <a:pt x="122" y="31"/>
                  <a:pt x="123" y="29"/>
                  <a:pt x="123" y="27"/>
                </a:cubicBezTo>
                <a:cubicBezTo>
                  <a:pt x="123" y="25"/>
                  <a:pt x="122" y="23"/>
                  <a:pt x="120" y="22"/>
                </a:cubicBezTo>
                <a:close/>
                <a:moveTo>
                  <a:pt x="93" y="8"/>
                </a:moveTo>
                <a:cubicBezTo>
                  <a:pt x="86" y="14"/>
                  <a:pt x="86" y="14"/>
                  <a:pt x="86" y="14"/>
                </a:cubicBezTo>
                <a:cubicBezTo>
                  <a:pt x="79" y="8"/>
                  <a:pt x="79" y="8"/>
                  <a:pt x="79" y="8"/>
                </a:cubicBezTo>
                <a:lnTo>
                  <a:pt x="93" y="8"/>
                </a:lnTo>
                <a:close/>
                <a:moveTo>
                  <a:pt x="93" y="27"/>
                </a:moveTo>
                <a:cubicBezTo>
                  <a:pt x="76" y="27"/>
                  <a:pt x="76" y="27"/>
                  <a:pt x="76" y="27"/>
                </a:cubicBezTo>
                <a:cubicBezTo>
                  <a:pt x="85" y="19"/>
                  <a:pt x="85" y="19"/>
                  <a:pt x="85" y="19"/>
                </a:cubicBezTo>
                <a:lnTo>
                  <a:pt x="93" y="27"/>
                </a:lnTo>
                <a:close/>
                <a:moveTo>
                  <a:pt x="83" y="16"/>
                </a:moveTo>
                <a:cubicBezTo>
                  <a:pt x="73" y="25"/>
                  <a:pt x="73" y="25"/>
                  <a:pt x="73" y="25"/>
                </a:cubicBezTo>
                <a:cubicBezTo>
                  <a:pt x="64" y="17"/>
                  <a:pt x="64" y="17"/>
                  <a:pt x="64" y="17"/>
                </a:cubicBezTo>
                <a:cubicBezTo>
                  <a:pt x="75" y="9"/>
                  <a:pt x="75" y="9"/>
                  <a:pt x="75" y="9"/>
                </a:cubicBezTo>
                <a:lnTo>
                  <a:pt x="83" y="16"/>
                </a:lnTo>
                <a:close/>
                <a:moveTo>
                  <a:pt x="70" y="27"/>
                </a:moveTo>
                <a:cubicBezTo>
                  <a:pt x="53" y="27"/>
                  <a:pt x="53" y="27"/>
                  <a:pt x="53" y="27"/>
                </a:cubicBezTo>
                <a:cubicBezTo>
                  <a:pt x="61" y="20"/>
                  <a:pt x="61" y="20"/>
                  <a:pt x="61" y="20"/>
                </a:cubicBezTo>
                <a:lnTo>
                  <a:pt x="70" y="27"/>
                </a:lnTo>
                <a:close/>
                <a:moveTo>
                  <a:pt x="70" y="8"/>
                </a:moveTo>
                <a:cubicBezTo>
                  <a:pt x="61" y="15"/>
                  <a:pt x="61" y="15"/>
                  <a:pt x="61" y="15"/>
                </a:cubicBezTo>
                <a:cubicBezTo>
                  <a:pt x="53" y="8"/>
                  <a:pt x="53" y="8"/>
                  <a:pt x="53" y="8"/>
                </a:cubicBezTo>
                <a:lnTo>
                  <a:pt x="70" y="8"/>
                </a:lnTo>
                <a:close/>
                <a:moveTo>
                  <a:pt x="58" y="17"/>
                </a:moveTo>
                <a:cubicBezTo>
                  <a:pt x="50" y="25"/>
                  <a:pt x="50" y="25"/>
                  <a:pt x="50" y="25"/>
                </a:cubicBezTo>
                <a:cubicBezTo>
                  <a:pt x="40" y="16"/>
                  <a:pt x="40" y="16"/>
                  <a:pt x="40" y="16"/>
                </a:cubicBezTo>
                <a:cubicBezTo>
                  <a:pt x="48" y="9"/>
                  <a:pt x="48" y="9"/>
                  <a:pt x="48" y="9"/>
                </a:cubicBezTo>
                <a:lnTo>
                  <a:pt x="58" y="17"/>
                </a:lnTo>
                <a:close/>
                <a:moveTo>
                  <a:pt x="47" y="27"/>
                </a:moveTo>
                <a:cubicBezTo>
                  <a:pt x="30" y="27"/>
                  <a:pt x="30" y="27"/>
                  <a:pt x="30" y="27"/>
                </a:cubicBezTo>
                <a:cubicBezTo>
                  <a:pt x="37" y="19"/>
                  <a:pt x="37" y="19"/>
                  <a:pt x="37" y="19"/>
                </a:cubicBezTo>
                <a:lnTo>
                  <a:pt x="47" y="27"/>
                </a:lnTo>
                <a:close/>
                <a:moveTo>
                  <a:pt x="43" y="8"/>
                </a:moveTo>
                <a:cubicBezTo>
                  <a:pt x="37" y="14"/>
                  <a:pt x="37" y="14"/>
                  <a:pt x="37" y="14"/>
                </a:cubicBezTo>
                <a:cubicBezTo>
                  <a:pt x="30" y="8"/>
                  <a:pt x="30" y="8"/>
                  <a:pt x="30" y="8"/>
                </a:cubicBezTo>
                <a:lnTo>
                  <a:pt x="43" y="8"/>
                </a:lnTo>
                <a:close/>
                <a:moveTo>
                  <a:pt x="26" y="9"/>
                </a:moveTo>
                <a:cubicBezTo>
                  <a:pt x="34" y="17"/>
                  <a:pt x="34" y="17"/>
                  <a:pt x="34" y="17"/>
                </a:cubicBezTo>
                <a:cubicBezTo>
                  <a:pt x="24" y="27"/>
                  <a:pt x="24" y="27"/>
                  <a:pt x="24" y="27"/>
                </a:cubicBezTo>
                <a:cubicBezTo>
                  <a:pt x="8" y="27"/>
                  <a:pt x="8" y="27"/>
                  <a:pt x="8" y="27"/>
                </a:cubicBezTo>
                <a:lnTo>
                  <a:pt x="26" y="9"/>
                </a:lnTo>
                <a:close/>
                <a:moveTo>
                  <a:pt x="11" y="31"/>
                </a:moveTo>
                <a:cubicBezTo>
                  <a:pt x="25" y="31"/>
                  <a:pt x="25" y="31"/>
                  <a:pt x="25" y="31"/>
                </a:cubicBezTo>
                <a:cubicBezTo>
                  <a:pt x="49" y="71"/>
                  <a:pt x="49" y="71"/>
                  <a:pt x="49" y="71"/>
                </a:cubicBezTo>
                <a:lnTo>
                  <a:pt x="11" y="31"/>
                </a:lnTo>
                <a:close/>
                <a:moveTo>
                  <a:pt x="29" y="31"/>
                </a:moveTo>
                <a:cubicBezTo>
                  <a:pt x="48" y="31"/>
                  <a:pt x="48" y="31"/>
                  <a:pt x="48" y="31"/>
                </a:cubicBezTo>
                <a:cubicBezTo>
                  <a:pt x="57" y="78"/>
                  <a:pt x="57" y="78"/>
                  <a:pt x="57" y="78"/>
                </a:cubicBezTo>
                <a:lnTo>
                  <a:pt x="29" y="31"/>
                </a:lnTo>
                <a:close/>
                <a:moveTo>
                  <a:pt x="52" y="31"/>
                </a:moveTo>
                <a:cubicBezTo>
                  <a:pt x="71" y="31"/>
                  <a:pt x="71" y="31"/>
                  <a:pt x="71" y="31"/>
                </a:cubicBezTo>
                <a:cubicBezTo>
                  <a:pt x="61" y="79"/>
                  <a:pt x="61" y="79"/>
                  <a:pt x="61" y="79"/>
                </a:cubicBezTo>
                <a:lnTo>
                  <a:pt x="52" y="31"/>
                </a:lnTo>
                <a:close/>
                <a:moveTo>
                  <a:pt x="65" y="78"/>
                </a:moveTo>
                <a:cubicBezTo>
                  <a:pt x="75" y="31"/>
                  <a:pt x="75" y="31"/>
                  <a:pt x="75" y="31"/>
                </a:cubicBezTo>
                <a:cubicBezTo>
                  <a:pt x="94" y="31"/>
                  <a:pt x="94" y="31"/>
                  <a:pt x="94" y="31"/>
                </a:cubicBezTo>
                <a:lnTo>
                  <a:pt x="65" y="78"/>
                </a:lnTo>
                <a:close/>
                <a:moveTo>
                  <a:pt x="74" y="71"/>
                </a:moveTo>
                <a:cubicBezTo>
                  <a:pt x="98" y="31"/>
                  <a:pt x="98" y="31"/>
                  <a:pt x="98" y="31"/>
                </a:cubicBezTo>
                <a:cubicBezTo>
                  <a:pt x="112" y="31"/>
                  <a:pt x="112" y="31"/>
                  <a:pt x="112" y="31"/>
                </a:cubicBezTo>
                <a:lnTo>
                  <a:pt x="74" y="71"/>
                </a:lnTo>
                <a:close/>
                <a:moveTo>
                  <a:pt x="99" y="27"/>
                </a:moveTo>
                <a:cubicBezTo>
                  <a:pt x="88" y="17"/>
                  <a:pt x="88" y="17"/>
                  <a:pt x="88" y="17"/>
                </a:cubicBezTo>
                <a:cubicBezTo>
                  <a:pt x="97" y="9"/>
                  <a:pt x="97" y="9"/>
                  <a:pt x="97" y="9"/>
                </a:cubicBezTo>
                <a:cubicBezTo>
                  <a:pt x="115" y="27"/>
                  <a:pt x="115" y="27"/>
                  <a:pt x="115" y="27"/>
                </a:cubicBezTo>
                <a:lnTo>
                  <a:pt x="99" y="27"/>
                </a:lnTo>
                <a:close/>
                <a:moveTo>
                  <a:pt x="99" y="27"/>
                </a:moveTo>
                <a:cubicBezTo>
                  <a:pt x="99" y="27"/>
                  <a:pt x="99" y="27"/>
                  <a:pt x="99" y="2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21" name="稻壳儿小白白(http://dwz.cn/Wu2UP)" descr=""/>
          <p:cNvPicPr/>
          <p:nvPr/>
        </p:nvPicPr>
        <p:blipFill>
          <a:blip r:embed="rId16"/>
          <a:stretch/>
        </p:blipFill>
        <p:spPr>
          <a:xfrm>
            <a:off x="11374560" y="2523960"/>
            <a:ext cx="463320" cy="463680"/>
          </a:xfrm>
          <a:prstGeom prst="rect">
            <a:avLst/>
          </a:prstGeom>
          <a:ln w="0">
            <a:noFill/>
          </a:ln>
        </p:spPr>
      </p:pic>
      <p:pic>
        <p:nvPicPr>
          <p:cNvPr id="822" name="稻壳儿小白白(http://dwz.cn/Wu2UP)" descr=""/>
          <p:cNvPicPr/>
          <p:nvPr/>
        </p:nvPicPr>
        <p:blipFill>
          <a:blip r:embed="rId17"/>
          <a:stretch/>
        </p:blipFill>
        <p:spPr>
          <a:xfrm>
            <a:off x="11380680" y="4767120"/>
            <a:ext cx="457200" cy="457200"/>
          </a:xfrm>
          <a:prstGeom prst="rect">
            <a:avLst/>
          </a:prstGeom>
          <a:ln w="0">
            <a:noFill/>
          </a:ln>
        </p:spPr>
      </p:pic>
      <p:sp>
        <p:nvSpPr>
          <p:cNvPr id="823" name="稻壳儿小白白(http://dwz.cn/Wu2UP)"/>
          <p:cNvSpPr/>
          <p:nvPr/>
        </p:nvSpPr>
        <p:spPr>
          <a:xfrm>
            <a:off x="7861320" y="4761000"/>
            <a:ext cx="461880" cy="461880"/>
          </a:xfrm>
          <a:custGeom>
            <a:avLst/>
            <a:gdLst/>
            <a:ahLst/>
            <a:rect l="l" t="t" r="r" b="b"/>
            <a:pathLst>
              <a:path w="123" h="123">
                <a:moveTo>
                  <a:pt x="120" y="2"/>
                </a:moveTo>
                <a:cubicBezTo>
                  <a:pt x="119" y="1"/>
                  <a:pt x="117" y="0"/>
                  <a:pt x="115" y="0"/>
                </a:cubicBezTo>
                <a:cubicBezTo>
                  <a:pt x="114" y="0"/>
                  <a:pt x="114" y="0"/>
                  <a:pt x="114" y="0"/>
                </a:cubicBezTo>
                <a:cubicBezTo>
                  <a:pt x="49" y="12"/>
                  <a:pt x="49" y="12"/>
                  <a:pt x="49" y="12"/>
                </a:cubicBezTo>
                <a:cubicBezTo>
                  <a:pt x="45" y="12"/>
                  <a:pt x="43" y="15"/>
                  <a:pt x="43" y="19"/>
                </a:cubicBezTo>
                <a:cubicBezTo>
                  <a:pt x="43" y="85"/>
                  <a:pt x="43" y="85"/>
                  <a:pt x="43" y="85"/>
                </a:cubicBezTo>
                <a:cubicBezTo>
                  <a:pt x="39" y="82"/>
                  <a:pt x="34" y="81"/>
                  <a:pt x="28" y="81"/>
                </a:cubicBezTo>
                <a:cubicBezTo>
                  <a:pt x="25" y="81"/>
                  <a:pt x="22" y="81"/>
                  <a:pt x="18" y="82"/>
                </a:cubicBezTo>
                <a:cubicBezTo>
                  <a:pt x="11" y="85"/>
                  <a:pt x="5" y="89"/>
                  <a:pt x="2" y="96"/>
                </a:cubicBezTo>
                <a:cubicBezTo>
                  <a:pt x="0" y="100"/>
                  <a:pt x="0" y="105"/>
                  <a:pt x="2" y="110"/>
                </a:cubicBezTo>
                <a:cubicBezTo>
                  <a:pt x="4" y="118"/>
                  <a:pt x="13" y="123"/>
                  <a:pt x="23" y="123"/>
                </a:cubicBezTo>
                <a:cubicBezTo>
                  <a:pt x="26" y="123"/>
                  <a:pt x="29" y="122"/>
                  <a:pt x="32" y="121"/>
                </a:cubicBezTo>
                <a:cubicBezTo>
                  <a:pt x="40" y="119"/>
                  <a:pt x="45" y="114"/>
                  <a:pt x="48" y="108"/>
                </a:cubicBezTo>
                <a:cubicBezTo>
                  <a:pt x="50" y="105"/>
                  <a:pt x="50" y="102"/>
                  <a:pt x="50" y="100"/>
                </a:cubicBezTo>
                <a:cubicBezTo>
                  <a:pt x="50" y="100"/>
                  <a:pt x="50" y="100"/>
                  <a:pt x="50" y="100"/>
                </a:cubicBezTo>
                <a:cubicBezTo>
                  <a:pt x="50" y="38"/>
                  <a:pt x="50" y="38"/>
                  <a:pt x="50" y="38"/>
                </a:cubicBezTo>
                <a:cubicBezTo>
                  <a:pt x="52" y="38"/>
                  <a:pt x="52" y="38"/>
                  <a:pt x="52" y="38"/>
                </a:cubicBezTo>
                <a:cubicBezTo>
                  <a:pt x="115" y="27"/>
                  <a:pt x="115" y="27"/>
                  <a:pt x="115" y="27"/>
                </a:cubicBezTo>
                <a:cubicBezTo>
                  <a:pt x="115" y="74"/>
                  <a:pt x="115" y="74"/>
                  <a:pt x="115" y="74"/>
                </a:cubicBezTo>
                <a:cubicBezTo>
                  <a:pt x="112" y="71"/>
                  <a:pt x="107" y="69"/>
                  <a:pt x="101" y="69"/>
                </a:cubicBezTo>
                <a:cubicBezTo>
                  <a:pt x="98" y="69"/>
                  <a:pt x="94" y="70"/>
                  <a:pt x="91" y="71"/>
                </a:cubicBezTo>
                <a:cubicBezTo>
                  <a:pt x="84" y="73"/>
                  <a:pt x="78" y="78"/>
                  <a:pt x="75" y="84"/>
                </a:cubicBezTo>
                <a:cubicBezTo>
                  <a:pt x="73" y="89"/>
                  <a:pt x="73" y="94"/>
                  <a:pt x="74" y="98"/>
                </a:cubicBezTo>
                <a:cubicBezTo>
                  <a:pt x="77" y="106"/>
                  <a:pt x="86" y="111"/>
                  <a:pt x="96" y="111"/>
                </a:cubicBezTo>
                <a:cubicBezTo>
                  <a:pt x="99" y="111"/>
                  <a:pt x="102" y="111"/>
                  <a:pt x="105" y="110"/>
                </a:cubicBezTo>
                <a:cubicBezTo>
                  <a:pt x="112" y="107"/>
                  <a:pt x="118" y="102"/>
                  <a:pt x="121" y="96"/>
                </a:cubicBezTo>
                <a:cubicBezTo>
                  <a:pt x="122" y="94"/>
                  <a:pt x="123" y="91"/>
                  <a:pt x="123" y="88"/>
                </a:cubicBezTo>
                <a:cubicBezTo>
                  <a:pt x="123" y="88"/>
                  <a:pt x="123" y="88"/>
                  <a:pt x="123" y="88"/>
                </a:cubicBezTo>
                <a:cubicBezTo>
                  <a:pt x="123" y="8"/>
                  <a:pt x="123" y="8"/>
                  <a:pt x="123" y="8"/>
                </a:cubicBezTo>
                <a:cubicBezTo>
                  <a:pt x="123" y="5"/>
                  <a:pt x="122" y="3"/>
                  <a:pt x="120" y="2"/>
                </a:cubicBezTo>
                <a:close/>
                <a:moveTo>
                  <a:pt x="30" y="114"/>
                </a:moveTo>
                <a:cubicBezTo>
                  <a:pt x="21" y="117"/>
                  <a:pt x="11" y="114"/>
                  <a:pt x="9" y="107"/>
                </a:cubicBezTo>
                <a:cubicBezTo>
                  <a:pt x="6" y="100"/>
                  <a:pt x="12" y="93"/>
                  <a:pt x="21" y="89"/>
                </a:cubicBezTo>
                <a:cubicBezTo>
                  <a:pt x="30" y="86"/>
                  <a:pt x="39" y="89"/>
                  <a:pt x="42" y="96"/>
                </a:cubicBezTo>
                <a:cubicBezTo>
                  <a:pt x="44" y="103"/>
                  <a:pt x="39" y="111"/>
                  <a:pt x="30" y="114"/>
                </a:cubicBezTo>
                <a:close/>
                <a:moveTo>
                  <a:pt x="115" y="19"/>
                </a:moveTo>
                <a:cubicBezTo>
                  <a:pt x="50" y="31"/>
                  <a:pt x="50" y="31"/>
                  <a:pt x="50" y="31"/>
                </a:cubicBezTo>
                <a:cubicBezTo>
                  <a:pt x="50" y="19"/>
                  <a:pt x="50" y="19"/>
                  <a:pt x="50" y="19"/>
                </a:cubicBezTo>
                <a:cubicBezTo>
                  <a:pt x="115" y="8"/>
                  <a:pt x="115" y="8"/>
                  <a:pt x="115" y="8"/>
                </a:cubicBezTo>
                <a:lnTo>
                  <a:pt x="115" y="19"/>
                </a:lnTo>
                <a:close/>
                <a:moveTo>
                  <a:pt x="103" y="102"/>
                </a:moveTo>
                <a:cubicBezTo>
                  <a:pt x="93" y="105"/>
                  <a:pt x="84" y="102"/>
                  <a:pt x="81" y="96"/>
                </a:cubicBezTo>
                <a:cubicBezTo>
                  <a:pt x="79" y="89"/>
                  <a:pt x="84" y="81"/>
                  <a:pt x="93" y="78"/>
                </a:cubicBezTo>
                <a:cubicBezTo>
                  <a:pt x="103" y="75"/>
                  <a:pt x="112" y="78"/>
                  <a:pt x="115" y="85"/>
                </a:cubicBezTo>
                <a:cubicBezTo>
                  <a:pt x="117" y="91"/>
                  <a:pt x="112" y="99"/>
                  <a:pt x="103" y="102"/>
                </a:cubicBezTo>
                <a:close/>
                <a:moveTo>
                  <a:pt x="103" y="102"/>
                </a:moveTo>
                <a:cubicBezTo>
                  <a:pt x="103" y="102"/>
                  <a:pt x="103" y="102"/>
                  <a:pt x="103" y="10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24" name="稻壳儿小白白(http://dwz.cn/Wu2UP)" descr=""/>
          <p:cNvPicPr/>
          <p:nvPr/>
        </p:nvPicPr>
        <p:blipFill>
          <a:blip r:embed="rId18"/>
          <a:stretch/>
        </p:blipFill>
        <p:spPr>
          <a:xfrm>
            <a:off x="4657680" y="4767120"/>
            <a:ext cx="457200" cy="457200"/>
          </a:xfrm>
          <a:prstGeom prst="rect">
            <a:avLst/>
          </a:prstGeom>
          <a:ln w="0">
            <a:noFill/>
          </a:ln>
        </p:spPr>
      </p:pic>
      <p:pic>
        <p:nvPicPr>
          <p:cNvPr id="825" name="稻壳儿小白白(http://dwz.cn/Wu2UP)" descr=""/>
          <p:cNvPicPr/>
          <p:nvPr/>
        </p:nvPicPr>
        <p:blipFill>
          <a:blip r:embed="rId19"/>
          <a:stretch/>
        </p:blipFill>
        <p:spPr>
          <a:xfrm>
            <a:off x="6272280" y="4767120"/>
            <a:ext cx="457200" cy="457200"/>
          </a:xfrm>
          <a:prstGeom prst="rect">
            <a:avLst/>
          </a:prstGeom>
          <a:ln w="0">
            <a:noFill/>
          </a:ln>
        </p:spPr>
      </p:pic>
      <p:pic>
        <p:nvPicPr>
          <p:cNvPr id="826" name="稻壳儿小白白(http://dwz.cn/Wu2UP)" descr=""/>
          <p:cNvPicPr/>
          <p:nvPr/>
        </p:nvPicPr>
        <p:blipFill>
          <a:blip r:embed="rId20"/>
          <a:stretch/>
        </p:blipFill>
        <p:spPr>
          <a:xfrm>
            <a:off x="2273400" y="3597120"/>
            <a:ext cx="457200" cy="457200"/>
          </a:xfrm>
          <a:prstGeom prst="rect">
            <a:avLst/>
          </a:prstGeom>
          <a:ln w="0">
            <a:noFill/>
          </a:ln>
        </p:spPr>
      </p:pic>
      <p:pic>
        <p:nvPicPr>
          <p:cNvPr id="827" name="稻壳儿小白白(http://dwz.cn/Wu2UP)" descr=""/>
          <p:cNvPicPr/>
          <p:nvPr/>
        </p:nvPicPr>
        <p:blipFill>
          <a:blip r:embed="rId21"/>
          <a:stretch/>
        </p:blipFill>
        <p:spPr>
          <a:xfrm>
            <a:off x="3121200" y="3591000"/>
            <a:ext cx="463320" cy="463320"/>
          </a:xfrm>
          <a:prstGeom prst="rect">
            <a:avLst/>
          </a:prstGeom>
          <a:ln w="0">
            <a:noFill/>
          </a:ln>
        </p:spPr>
      </p:pic>
      <p:pic>
        <p:nvPicPr>
          <p:cNvPr id="828" name="稻壳儿小白白(http://dwz.cn/Wu2UP)" descr=""/>
          <p:cNvPicPr/>
          <p:nvPr/>
        </p:nvPicPr>
        <p:blipFill>
          <a:blip r:embed="rId22"/>
          <a:stretch/>
        </p:blipFill>
        <p:spPr>
          <a:xfrm>
            <a:off x="3975120" y="3657600"/>
            <a:ext cx="457200" cy="341280"/>
          </a:xfrm>
          <a:prstGeom prst="rect">
            <a:avLst/>
          </a:prstGeom>
          <a:ln w="0">
            <a:noFill/>
          </a:ln>
        </p:spPr>
      </p:pic>
      <p:pic>
        <p:nvPicPr>
          <p:cNvPr id="829" name="稻壳儿小白白(http://dwz.cn/Wu2UP)" descr=""/>
          <p:cNvPicPr/>
          <p:nvPr/>
        </p:nvPicPr>
        <p:blipFill>
          <a:blip r:embed="rId23"/>
          <a:stretch/>
        </p:blipFill>
        <p:spPr>
          <a:xfrm>
            <a:off x="4821120" y="3602160"/>
            <a:ext cx="463680" cy="446040"/>
          </a:xfrm>
          <a:prstGeom prst="rect">
            <a:avLst/>
          </a:prstGeom>
          <a:ln w="0">
            <a:noFill/>
          </a:ln>
        </p:spPr>
      </p:pic>
      <p:pic>
        <p:nvPicPr>
          <p:cNvPr id="830" name="稻壳儿小白白(http://dwz.cn/Wu2UP)" descr=""/>
          <p:cNvPicPr/>
          <p:nvPr/>
        </p:nvPicPr>
        <p:blipFill>
          <a:blip r:embed="rId24"/>
          <a:stretch/>
        </p:blipFill>
        <p:spPr>
          <a:xfrm>
            <a:off x="6473880" y="3597120"/>
            <a:ext cx="403200" cy="457200"/>
          </a:xfrm>
          <a:prstGeom prst="rect">
            <a:avLst/>
          </a:prstGeom>
          <a:ln w="0">
            <a:noFill/>
          </a:ln>
        </p:spPr>
      </p:pic>
      <p:pic>
        <p:nvPicPr>
          <p:cNvPr id="831" name="稻壳儿小白白(http://dwz.cn/Wu2UP)" descr=""/>
          <p:cNvPicPr/>
          <p:nvPr/>
        </p:nvPicPr>
        <p:blipFill>
          <a:blip r:embed="rId25"/>
          <a:stretch/>
        </p:blipFill>
        <p:spPr>
          <a:xfrm>
            <a:off x="7259760" y="3633840"/>
            <a:ext cx="457200" cy="384120"/>
          </a:xfrm>
          <a:prstGeom prst="rect">
            <a:avLst/>
          </a:prstGeom>
          <a:ln w="0">
            <a:noFill/>
          </a:ln>
        </p:spPr>
      </p:pic>
      <p:sp>
        <p:nvSpPr>
          <p:cNvPr id="832" name="稻壳儿小白白(http://dwz.cn/Wu2UP)"/>
          <p:cNvSpPr/>
          <p:nvPr/>
        </p:nvSpPr>
        <p:spPr>
          <a:xfrm>
            <a:off x="8107200" y="3610080"/>
            <a:ext cx="460440" cy="433440"/>
          </a:xfrm>
          <a:custGeom>
            <a:avLst/>
            <a:gdLst/>
            <a:ahLst/>
            <a:rect l="l" t="t" r="r" b="b"/>
            <a:pathLst>
              <a:path w="123" h="115">
                <a:moveTo>
                  <a:pt x="111" y="0"/>
                </a:moveTo>
                <a:cubicBezTo>
                  <a:pt x="12" y="0"/>
                  <a:pt x="12" y="0"/>
                  <a:pt x="12" y="0"/>
                </a:cubicBezTo>
                <a:cubicBezTo>
                  <a:pt x="5" y="0"/>
                  <a:pt x="0" y="5"/>
                  <a:pt x="0" y="12"/>
                </a:cubicBezTo>
                <a:cubicBezTo>
                  <a:pt x="0" y="88"/>
                  <a:pt x="0" y="88"/>
                  <a:pt x="0" y="88"/>
                </a:cubicBezTo>
                <a:cubicBezTo>
                  <a:pt x="0" y="95"/>
                  <a:pt x="5" y="100"/>
                  <a:pt x="12" y="100"/>
                </a:cubicBezTo>
                <a:cubicBezTo>
                  <a:pt x="50" y="100"/>
                  <a:pt x="50" y="100"/>
                  <a:pt x="50" y="100"/>
                </a:cubicBezTo>
                <a:cubicBezTo>
                  <a:pt x="50" y="104"/>
                  <a:pt x="50" y="104"/>
                  <a:pt x="50" y="104"/>
                </a:cubicBezTo>
                <a:cubicBezTo>
                  <a:pt x="26" y="108"/>
                  <a:pt x="26" y="108"/>
                  <a:pt x="26" y="108"/>
                </a:cubicBezTo>
                <a:cubicBezTo>
                  <a:pt x="24" y="108"/>
                  <a:pt x="23" y="109"/>
                  <a:pt x="23" y="111"/>
                </a:cubicBezTo>
                <a:cubicBezTo>
                  <a:pt x="23" y="113"/>
                  <a:pt x="25" y="115"/>
                  <a:pt x="27" y="115"/>
                </a:cubicBezTo>
                <a:cubicBezTo>
                  <a:pt x="96" y="115"/>
                  <a:pt x="96" y="115"/>
                  <a:pt x="96" y="115"/>
                </a:cubicBezTo>
                <a:cubicBezTo>
                  <a:pt x="98" y="115"/>
                  <a:pt x="100" y="113"/>
                  <a:pt x="100" y="111"/>
                </a:cubicBezTo>
                <a:cubicBezTo>
                  <a:pt x="100" y="109"/>
                  <a:pt x="99" y="108"/>
                  <a:pt x="97" y="108"/>
                </a:cubicBezTo>
                <a:cubicBezTo>
                  <a:pt x="73" y="104"/>
                  <a:pt x="73" y="104"/>
                  <a:pt x="73" y="104"/>
                </a:cubicBezTo>
                <a:cubicBezTo>
                  <a:pt x="73" y="100"/>
                  <a:pt x="73" y="100"/>
                  <a:pt x="73" y="100"/>
                </a:cubicBezTo>
                <a:cubicBezTo>
                  <a:pt x="111" y="100"/>
                  <a:pt x="111" y="100"/>
                  <a:pt x="111" y="100"/>
                </a:cubicBezTo>
                <a:cubicBezTo>
                  <a:pt x="118" y="100"/>
                  <a:pt x="123" y="95"/>
                  <a:pt x="123" y="88"/>
                </a:cubicBezTo>
                <a:cubicBezTo>
                  <a:pt x="123" y="12"/>
                  <a:pt x="123" y="12"/>
                  <a:pt x="123" y="12"/>
                </a:cubicBezTo>
                <a:cubicBezTo>
                  <a:pt x="123" y="5"/>
                  <a:pt x="118" y="0"/>
                  <a:pt x="111" y="0"/>
                </a:cubicBezTo>
                <a:close/>
                <a:moveTo>
                  <a:pt x="115" y="88"/>
                </a:moveTo>
                <a:cubicBezTo>
                  <a:pt x="115" y="90"/>
                  <a:pt x="114" y="92"/>
                  <a:pt x="111" y="92"/>
                </a:cubicBezTo>
                <a:cubicBezTo>
                  <a:pt x="12" y="92"/>
                  <a:pt x="12" y="92"/>
                  <a:pt x="12" y="92"/>
                </a:cubicBezTo>
                <a:cubicBezTo>
                  <a:pt x="10" y="92"/>
                  <a:pt x="8" y="90"/>
                  <a:pt x="8" y="88"/>
                </a:cubicBezTo>
                <a:cubicBezTo>
                  <a:pt x="8" y="12"/>
                  <a:pt x="8" y="12"/>
                  <a:pt x="8" y="12"/>
                </a:cubicBezTo>
                <a:cubicBezTo>
                  <a:pt x="8" y="9"/>
                  <a:pt x="10" y="8"/>
                  <a:pt x="12" y="8"/>
                </a:cubicBezTo>
                <a:cubicBezTo>
                  <a:pt x="111" y="8"/>
                  <a:pt x="111" y="8"/>
                  <a:pt x="111" y="8"/>
                </a:cubicBezTo>
                <a:cubicBezTo>
                  <a:pt x="114" y="8"/>
                  <a:pt x="115" y="9"/>
                  <a:pt x="115" y="12"/>
                </a:cubicBezTo>
                <a:lnTo>
                  <a:pt x="115" y="88"/>
                </a:lnTo>
                <a:close/>
                <a:moveTo>
                  <a:pt x="104" y="15"/>
                </a:moveTo>
                <a:cubicBezTo>
                  <a:pt x="19" y="15"/>
                  <a:pt x="19" y="15"/>
                  <a:pt x="19" y="15"/>
                </a:cubicBezTo>
                <a:cubicBezTo>
                  <a:pt x="17" y="15"/>
                  <a:pt x="16" y="17"/>
                  <a:pt x="16" y="19"/>
                </a:cubicBezTo>
                <a:cubicBezTo>
                  <a:pt x="16" y="73"/>
                  <a:pt x="16" y="73"/>
                  <a:pt x="16" y="73"/>
                </a:cubicBezTo>
                <a:cubicBezTo>
                  <a:pt x="16" y="75"/>
                  <a:pt x="17" y="77"/>
                  <a:pt x="19" y="77"/>
                </a:cubicBezTo>
                <a:cubicBezTo>
                  <a:pt x="104" y="77"/>
                  <a:pt x="104" y="77"/>
                  <a:pt x="104" y="77"/>
                </a:cubicBezTo>
                <a:cubicBezTo>
                  <a:pt x="106" y="77"/>
                  <a:pt x="108" y="75"/>
                  <a:pt x="108" y="73"/>
                </a:cubicBezTo>
                <a:cubicBezTo>
                  <a:pt x="108" y="19"/>
                  <a:pt x="108" y="19"/>
                  <a:pt x="108" y="19"/>
                </a:cubicBezTo>
                <a:cubicBezTo>
                  <a:pt x="108" y="17"/>
                  <a:pt x="106" y="15"/>
                  <a:pt x="104" y="15"/>
                </a:cubicBezTo>
                <a:close/>
                <a:moveTo>
                  <a:pt x="104" y="73"/>
                </a:moveTo>
                <a:cubicBezTo>
                  <a:pt x="19" y="73"/>
                  <a:pt x="19" y="73"/>
                  <a:pt x="19" y="73"/>
                </a:cubicBezTo>
                <a:cubicBezTo>
                  <a:pt x="19" y="19"/>
                  <a:pt x="19" y="19"/>
                  <a:pt x="19" y="19"/>
                </a:cubicBezTo>
                <a:cubicBezTo>
                  <a:pt x="104" y="19"/>
                  <a:pt x="104" y="19"/>
                  <a:pt x="104" y="19"/>
                </a:cubicBezTo>
                <a:lnTo>
                  <a:pt x="104" y="73"/>
                </a:lnTo>
                <a:close/>
                <a:moveTo>
                  <a:pt x="104" y="73"/>
                </a:moveTo>
                <a:cubicBezTo>
                  <a:pt x="104" y="73"/>
                  <a:pt x="104" y="73"/>
                  <a:pt x="104" y="7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33" name="稻壳儿小白白(http://dwz.cn/Wu2UP)" descr=""/>
          <p:cNvPicPr/>
          <p:nvPr/>
        </p:nvPicPr>
        <p:blipFill>
          <a:blip r:embed="rId26"/>
          <a:stretch/>
        </p:blipFill>
        <p:spPr>
          <a:xfrm>
            <a:off x="8955000" y="3608280"/>
            <a:ext cx="463680" cy="433440"/>
          </a:xfrm>
          <a:prstGeom prst="rect">
            <a:avLst/>
          </a:prstGeom>
          <a:ln w="0">
            <a:noFill/>
          </a:ln>
        </p:spPr>
      </p:pic>
      <p:pic>
        <p:nvPicPr>
          <p:cNvPr id="834" name="稻壳儿小白白(http://dwz.cn/Wu2UP)" descr=""/>
          <p:cNvPicPr/>
          <p:nvPr/>
        </p:nvPicPr>
        <p:blipFill>
          <a:blip r:embed="rId27"/>
          <a:stretch/>
        </p:blipFill>
        <p:spPr>
          <a:xfrm>
            <a:off x="9802800" y="3597120"/>
            <a:ext cx="341280" cy="457200"/>
          </a:xfrm>
          <a:prstGeom prst="rect">
            <a:avLst/>
          </a:prstGeom>
          <a:ln w="0">
            <a:noFill/>
          </a:ln>
        </p:spPr>
      </p:pic>
      <p:sp>
        <p:nvSpPr>
          <p:cNvPr id="835" name="稻壳儿小白白(http://dwz.cn/Wu2UP)"/>
          <p:cNvSpPr/>
          <p:nvPr/>
        </p:nvSpPr>
        <p:spPr>
          <a:xfrm>
            <a:off x="10533240" y="3675240"/>
            <a:ext cx="458640" cy="303120"/>
          </a:xfrm>
          <a:custGeom>
            <a:avLst/>
            <a:gdLst/>
            <a:ahLst/>
            <a:rect l="l" t="t" r="r" b="b"/>
            <a:pathLst>
              <a:path w="123" h="81">
                <a:moveTo>
                  <a:pt x="107" y="0"/>
                </a:moveTo>
                <a:cubicBezTo>
                  <a:pt x="15" y="0"/>
                  <a:pt x="15" y="0"/>
                  <a:pt x="15" y="0"/>
                </a:cubicBezTo>
                <a:cubicBezTo>
                  <a:pt x="7" y="0"/>
                  <a:pt x="0" y="7"/>
                  <a:pt x="0" y="16"/>
                </a:cubicBezTo>
                <a:cubicBezTo>
                  <a:pt x="0" y="65"/>
                  <a:pt x="0" y="65"/>
                  <a:pt x="0" y="65"/>
                </a:cubicBezTo>
                <a:cubicBezTo>
                  <a:pt x="0" y="74"/>
                  <a:pt x="7" y="81"/>
                  <a:pt x="15" y="81"/>
                </a:cubicBezTo>
                <a:cubicBezTo>
                  <a:pt x="107" y="81"/>
                  <a:pt x="107" y="81"/>
                  <a:pt x="107" y="81"/>
                </a:cubicBezTo>
                <a:cubicBezTo>
                  <a:pt x="116" y="81"/>
                  <a:pt x="123" y="74"/>
                  <a:pt x="123" y="65"/>
                </a:cubicBezTo>
                <a:cubicBezTo>
                  <a:pt x="123" y="16"/>
                  <a:pt x="123" y="16"/>
                  <a:pt x="123" y="16"/>
                </a:cubicBezTo>
                <a:cubicBezTo>
                  <a:pt x="123" y="7"/>
                  <a:pt x="116" y="0"/>
                  <a:pt x="107" y="0"/>
                </a:cubicBezTo>
                <a:close/>
                <a:moveTo>
                  <a:pt x="8" y="20"/>
                </a:moveTo>
                <a:cubicBezTo>
                  <a:pt x="34" y="41"/>
                  <a:pt x="34" y="41"/>
                  <a:pt x="34" y="41"/>
                </a:cubicBezTo>
                <a:cubicBezTo>
                  <a:pt x="8" y="61"/>
                  <a:pt x="8" y="61"/>
                  <a:pt x="8" y="61"/>
                </a:cubicBezTo>
                <a:lnTo>
                  <a:pt x="8" y="20"/>
                </a:lnTo>
                <a:close/>
                <a:moveTo>
                  <a:pt x="115" y="65"/>
                </a:moveTo>
                <a:cubicBezTo>
                  <a:pt x="115" y="70"/>
                  <a:pt x="112" y="73"/>
                  <a:pt x="107" y="73"/>
                </a:cubicBezTo>
                <a:cubicBezTo>
                  <a:pt x="15" y="73"/>
                  <a:pt x="15" y="73"/>
                  <a:pt x="15" y="73"/>
                </a:cubicBezTo>
                <a:cubicBezTo>
                  <a:pt x="11" y="73"/>
                  <a:pt x="8" y="70"/>
                  <a:pt x="8" y="65"/>
                </a:cubicBezTo>
                <a:cubicBezTo>
                  <a:pt x="38" y="43"/>
                  <a:pt x="38" y="43"/>
                  <a:pt x="38" y="43"/>
                </a:cubicBezTo>
                <a:cubicBezTo>
                  <a:pt x="54" y="56"/>
                  <a:pt x="54" y="56"/>
                  <a:pt x="54" y="56"/>
                </a:cubicBezTo>
                <a:cubicBezTo>
                  <a:pt x="56" y="57"/>
                  <a:pt x="59" y="58"/>
                  <a:pt x="61" y="58"/>
                </a:cubicBezTo>
                <a:cubicBezTo>
                  <a:pt x="64" y="58"/>
                  <a:pt x="66" y="57"/>
                  <a:pt x="68" y="56"/>
                </a:cubicBezTo>
                <a:cubicBezTo>
                  <a:pt x="85" y="43"/>
                  <a:pt x="85" y="43"/>
                  <a:pt x="85" y="43"/>
                </a:cubicBezTo>
                <a:lnTo>
                  <a:pt x="115" y="65"/>
                </a:lnTo>
                <a:close/>
                <a:moveTo>
                  <a:pt x="115" y="61"/>
                </a:moveTo>
                <a:cubicBezTo>
                  <a:pt x="88" y="41"/>
                  <a:pt x="88" y="41"/>
                  <a:pt x="88" y="41"/>
                </a:cubicBezTo>
                <a:cubicBezTo>
                  <a:pt x="115" y="20"/>
                  <a:pt x="115" y="20"/>
                  <a:pt x="115" y="20"/>
                </a:cubicBezTo>
                <a:lnTo>
                  <a:pt x="115" y="61"/>
                </a:lnTo>
                <a:close/>
                <a:moveTo>
                  <a:pt x="66" y="52"/>
                </a:moveTo>
                <a:cubicBezTo>
                  <a:pt x="65" y="53"/>
                  <a:pt x="63" y="54"/>
                  <a:pt x="61" y="54"/>
                </a:cubicBezTo>
                <a:cubicBezTo>
                  <a:pt x="60" y="54"/>
                  <a:pt x="58" y="53"/>
                  <a:pt x="57" y="52"/>
                </a:cubicBezTo>
                <a:cubicBezTo>
                  <a:pt x="41" y="41"/>
                  <a:pt x="41" y="41"/>
                  <a:pt x="41" y="41"/>
                </a:cubicBezTo>
                <a:cubicBezTo>
                  <a:pt x="38" y="38"/>
                  <a:pt x="38" y="38"/>
                  <a:pt x="38" y="38"/>
                </a:cubicBezTo>
                <a:cubicBezTo>
                  <a:pt x="8" y="16"/>
                  <a:pt x="8" y="16"/>
                  <a:pt x="8" y="16"/>
                </a:cubicBezTo>
                <a:cubicBezTo>
                  <a:pt x="8" y="11"/>
                  <a:pt x="11" y="8"/>
                  <a:pt x="15" y="8"/>
                </a:cubicBezTo>
                <a:cubicBezTo>
                  <a:pt x="107" y="8"/>
                  <a:pt x="107" y="8"/>
                  <a:pt x="107" y="8"/>
                </a:cubicBezTo>
                <a:cubicBezTo>
                  <a:pt x="112" y="8"/>
                  <a:pt x="115" y="11"/>
                  <a:pt x="115" y="16"/>
                </a:cubicBezTo>
                <a:lnTo>
                  <a:pt x="66" y="52"/>
                </a:lnTo>
                <a:close/>
                <a:moveTo>
                  <a:pt x="66" y="52"/>
                </a:moveTo>
                <a:cubicBezTo>
                  <a:pt x="66" y="52"/>
                  <a:pt x="66" y="52"/>
                  <a:pt x="66" y="5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稻壳儿小白白(http://dwz.cn/Wu2UP)"/>
          <p:cNvSpPr/>
          <p:nvPr/>
        </p:nvSpPr>
        <p:spPr>
          <a:xfrm>
            <a:off x="11379240" y="3592440"/>
            <a:ext cx="469800" cy="460440"/>
          </a:xfrm>
          <a:custGeom>
            <a:avLst/>
            <a:gdLst/>
            <a:ahLst/>
            <a:rect l="l" t="t" r="r" b="b"/>
            <a:pathLst>
              <a:path w="126" h="123">
                <a:moveTo>
                  <a:pt x="112" y="10"/>
                </a:moveTo>
                <a:cubicBezTo>
                  <a:pt x="106" y="4"/>
                  <a:pt x="98" y="0"/>
                  <a:pt x="90" y="0"/>
                </a:cubicBezTo>
                <a:cubicBezTo>
                  <a:pt x="83" y="0"/>
                  <a:pt x="76" y="3"/>
                  <a:pt x="72" y="7"/>
                </a:cubicBezTo>
                <a:cubicBezTo>
                  <a:pt x="53" y="26"/>
                  <a:pt x="53" y="26"/>
                  <a:pt x="53" y="26"/>
                </a:cubicBezTo>
                <a:cubicBezTo>
                  <a:pt x="53" y="26"/>
                  <a:pt x="53" y="26"/>
                  <a:pt x="53" y="26"/>
                </a:cubicBezTo>
                <a:cubicBezTo>
                  <a:pt x="53" y="26"/>
                  <a:pt x="53" y="26"/>
                  <a:pt x="53" y="26"/>
                </a:cubicBezTo>
                <a:cubicBezTo>
                  <a:pt x="53" y="26"/>
                  <a:pt x="53" y="26"/>
                  <a:pt x="53" y="26"/>
                </a:cubicBezTo>
                <a:cubicBezTo>
                  <a:pt x="13" y="66"/>
                  <a:pt x="13" y="66"/>
                  <a:pt x="13" y="66"/>
                </a:cubicBezTo>
                <a:cubicBezTo>
                  <a:pt x="11" y="68"/>
                  <a:pt x="10" y="70"/>
                  <a:pt x="9" y="73"/>
                </a:cubicBezTo>
                <a:cubicBezTo>
                  <a:pt x="0" y="106"/>
                  <a:pt x="0" y="106"/>
                  <a:pt x="0" y="106"/>
                </a:cubicBezTo>
                <a:cubicBezTo>
                  <a:pt x="0" y="106"/>
                  <a:pt x="0" y="108"/>
                  <a:pt x="0" y="110"/>
                </a:cubicBezTo>
                <a:cubicBezTo>
                  <a:pt x="0" y="117"/>
                  <a:pt x="6" y="123"/>
                  <a:pt x="13" y="123"/>
                </a:cubicBezTo>
                <a:cubicBezTo>
                  <a:pt x="15" y="123"/>
                  <a:pt x="17" y="122"/>
                  <a:pt x="18" y="122"/>
                </a:cubicBezTo>
                <a:cubicBezTo>
                  <a:pt x="50" y="114"/>
                  <a:pt x="50" y="114"/>
                  <a:pt x="50" y="114"/>
                </a:cubicBezTo>
                <a:cubicBezTo>
                  <a:pt x="52" y="113"/>
                  <a:pt x="55" y="112"/>
                  <a:pt x="57" y="110"/>
                </a:cubicBezTo>
                <a:cubicBezTo>
                  <a:pt x="115" y="51"/>
                  <a:pt x="115" y="51"/>
                  <a:pt x="115" y="51"/>
                </a:cubicBezTo>
                <a:cubicBezTo>
                  <a:pt x="126" y="40"/>
                  <a:pt x="125" y="22"/>
                  <a:pt x="112" y="10"/>
                </a:cubicBezTo>
                <a:close/>
                <a:moveTo>
                  <a:pt x="61" y="91"/>
                </a:moveTo>
                <a:cubicBezTo>
                  <a:pt x="61" y="88"/>
                  <a:pt x="60" y="85"/>
                  <a:pt x="58" y="81"/>
                </a:cubicBezTo>
                <a:cubicBezTo>
                  <a:pt x="95" y="45"/>
                  <a:pt x="95" y="45"/>
                  <a:pt x="95" y="45"/>
                </a:cubicBezTo>
                <a:cubicBezTo>
                  <a:pt x="97" y="52"/>
                  <a:pt x="96" y="59"/>
                  <a:pt x="91" y="64"/>
                </a:cubicBezTo>
                <a:cubicBezTo>
                  <a:pt x="91" y="64"/>
                  <a:pt x="91" y="64"/>
                  <a:pt x="91" y="64"/>
                </a:cubicBezTo>
                <a:cubicBezTo>
                  <a:pt x="91" y="64"/>
                  <a:pt x="91" y="64"/>
                  <a:pt x="91" y="64"/>
                </a:cubicBezTo>
                <a:cubicBezTo>
                  <a:pt x="61" y="94"/>
                  <a:pt x="61" y="94"/>
                  <a:pt x="61" y="94"/>
                </a:cubicBezTo>
                <a:cubicBezTo>
                  <a:pt x="61" y="93"/>
                  <a:pt x="61" y="92"/>
                  <a:pt x="61" y="91"/>
                </a:cubicBezTo>
                <a:close/>
                <a:moveTo>
                  <a:pt x="56" y="78"/>
                </a:moveTo>
                <a:cubicBezTo>
                  <a:pt x="55" y="76"/>
                  <a:pt x="53" y="73"/>
                  <a:pt x="51" y="71"/>
                </a:cubicBezTo>
                <a:cubicBezTo>
                  <a:pt x="49" y="69"/>
                  <a:pt x="46" y="67"/>
                  <a:pt x="43" y="66"/>
                </a:cubicBezTo>
                <a:cubicBezTo>
                  <a:pt x="80" y="29"/>
                  <a:pt x="80" y="29"/>
                  <a:pt x="80" y="29"/>
                </a:cubicBezTo>
                <a:cubicBezTo>
                  <a:pt x="83" y="30"/>
                  <a:pt x="86" y="32"/>
                  <a:pt x="88" y="34"/>
                </a:cubicBezTo>
                <a:cubicBezTo>
                  <a:pt x="90" y="37"/>
                  <a:pt x="92" y="39"/>
                  <a:pt x="93" y="41"/>
                </a:cubicBezTo>
                <a:lnTo>
                  <a:pt x="56" y="78"/>
                </a:lnTo>
                <a:close/>
                <a:moveTo>
                  <a:pt x="40" y="64"/>
                </a:moveTo>
                <a:cubicBezTo>
                  <a:pt x="36" y="62"/>
                  <a:pt x="33" y="61"/>
                  <a:pt x="29" y="61"/>
                </a:cubicBezTo>
                <a:cubicBezTo>
                  <a:pt x="58" y="32"/>
                  <a:pt x="58" y="32"/>
                  <a:pt x="58" y="32"/>
                </a:cubicBezTo>
                <a:cubicBezTo>
                  <a:pt x="63" y="27"/>
                  <a:pt x="69" y="26"/>
                  <a:pt x="76" y="28"/>
                </a:cubicBezTo>
                <a:lnTo>
                  <a:pt x="40" y="64"/>
                </a:lnTo>
                <a:close/>
                <a:moveTo>
                  <a:pt x="16" y="115"/>
                </a:moveTo>
                <a:cubicBezTo>
                  <a:pt x="15" y="115"/>
                  <a:pt x="14" y="115"/>
                  <a:pt x="13" y="115"/>
                </a:cubicBezTo>
                <a:cubicBezTo>
                  <a:pt x="10" y="115"/>
                  <a:pt x="7" y="113"/>
                  <a:pt x="7" y="110"/>
                </a:cubicBezTo>
                <a:cubicBezTo>
                  <a:pt x="7" y="109"/>
                  <a:pt x="8" y="108"/>
                  <a:pt x="8" y="107"/>
                </a:cubicBezTo>
                <a:cubicBezTo>
                  <a:pt x="12" y="93"/>
                  <a:pt x="12" y="93"/>
                  <a:pt x="12" y="93"/>
                </a:cubicBezTo>
                <a:cubicBezTo>
                  <a:pt x="16" y="93"/>
                  <a:pt x="21" y="94"/>
                  <a:pt x="25" y="98"/>
                </a:cubicBezTo>
                <a:cubicBezTo>
                  <a:pt x="28" y="102"/>
                  <a:pt x="30" y="107"/>
                  <a:pt x="30" y="111"/>
                </a:cubicBezTo>
                <a:lnTo>
                  <a:pt x="16" y="115"/>
                </a:lnTo>
                <a:close/>
                <a:moveTo>
                  <a:pt x="34" y="110"/>
                </a:moveTo>
                <a:cubicBezTo>
                  <a:pt x="34" y="105"/>
                  <a:pt x="31" y="100"/>
                  <a:pt x="27" y="95"/>
                </a:cubicBezTo>
                <a:cubicBezTo>
                  <a:pt x="23" y="91"/>
                  <a:pt x="18" y="89"/>
                  <a:pt x="13" y="89"/>
                </a:cubicBezTo>
                <a:cubicBezTo>
                  <a:pt x="17" y="75"/>
                  <a:pt x="17" y="75"/>
                  <a:pt x="17" y="75"/>
                </a:cubicBezTo>
                <a:cubicBezTo>
                  <a:pt x="17" y="74"/>
                  <a:pt x="17" y="73"/>
                  <a:pt x="18" y="72"/>
                </a:cubicBezTo>
                <a:cubicBezTo>
                  <a:pt x="26" y="67"/>
                  <a:pt x="38" y="68"/>
                  <a:pt x="46" y="77"/>
                </a:cubicBezTo>
                <a:cubicBezTo>
                  <a:pt x="55" y="85"/>
                  <a:pt x="56" y="98"/>
                  <a:pt x="49" y="106"/>
                </a:cubicBezTo>
                <a:cubicBezTo>
                  <a:pt x="49" y="106"/>
                  <a:pt x="48" y="106"/>
                  <a:pt x="48" y="106"/>
                </a:cubicBezTo>
                <a:lnTo>
                  <a:pt x="34" y="110"/>
                </a:lnTo>
                <a:close/>
                <a:moveTo>
                  <a:pt x="110" y="45"/>
                </a:moveTo>
                <a:cubicBezTo>
                  <a:pt x="103" y="52"/>
                  <a:pt x="103" y="52"/>
                  <a:pt x="103" y="52"/>
                </a:cubicBezTo>
                <a:cubicBezTo>
                  <a:pt x="103" y="51"/>
                  <a:pt x="103" y="50"/>
                  <a:pt x="103" y="49"/>
                </a:cubicBezTo>
                <a:cubicBezTo>
                  <a:pt x="103" y="42"/>
                  <a:pt x="99" y="35"/>
                  <a:pt x="93" y="29"/>
                </a:cubicBezTo>
                <a:cubicBezTo>
                  <a:pt x="87" y="23"/>
                  <a:pt x="79" y="19"/>
                  <a:pt x="71" y="19"/>
                </a:cubicBezTo>
                <a:cubicBezTo>
                  <a:pt x="77" y="13"/>
                  <a:pt x="77" y="13"/>
                  <a:pt x="77" y="13"/>
                </a:cubicBezTo>
                <a:cubicBezTo>
                  <a:pt x="80" y="10"/>
                  <a:pt x="85" y="8"/>
                  <a:pt x="90" y="8"/>
                </a:cubicBezTo>
                <a:cubicBezTo>
                  <a:pt x="96" y="8"/>
                  <a:pt x="102" y="11"/>
                  <a:pt x="107" y="16"/>
                </a:cubicBezTo>
                <a:cubicBezTo>
                  <a:pt x="112" y="20"/>
                  <a:pt x="114" y="26"/>
                  <a:pt x="115" y="32"/>
                </a:cubicBezTo>
                <a:cubicBezTo>
                  <a:pt x="115" y="37"/>
                  <a:pt x="113" y="42"/>
                  <a:pt x="110" y="45"/>
                </a:cubicBezTo>
                <a:close/>
                <a:moveTo>
                  <a:pt x="110" y="45"/>
                </a:moveTo>
                <a:cubicBezTo>
                  <a:pt x="110" y="45"/>
                  <a:pt x="110" y="45"/>
                  <a:pt x="110" y="45"/>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37" name="稻壳儿小白白(http://dwz.cn/Wu2UP)" descr=""/>
          <p:cNvPicPr/>
          <p:nvPr/>
        </p:nvPicPr>
        <p:blipFill>
          <a:blip r:embed="rId28"/>
          <a:stretch/>
        </p:blipFill>
        <p:spPr>
          <a:xfrm>
            <a:off x="9478800" y="4853160"/>
            <a:ext cx="457200" cy="279360"/>
          </a:xfrm>
          <a:prstGeom prst="rect">
            <a:avLst/>
          </a:prstGeom>
          <a:ln w="0">
            <a:noFill/>
          </a:ln>
        </p:spPr>
      </p:pic>
      <p:pic>
        <p:nvPicPr>
          <p:cNvPr id="838" name="稻壳儿小白白(http://dwz.cn/Wu2UP)" descr=""/>
          <p:cNvPicPr/>
          <p:nvPr/>
        </p:nvPicPr>
        <p:blipFill>
          <a:blip r:embed="rId29"/>
          <a:stretch/>
        </p:blipFill>
        <p:spPr>
          <a:xfrm>
            <a:off x="7066080" y="4803840"/>
            <a:ext cx="461880" cy="377640"/>
          </a:xfrm>
          <a:prstGeom prst="rect">
            <a:avLst/>
          </a:prstGeom>
          <a:ln w="0">
            <a:noFill/>
          </a:ln>
        </p:spPr>
      </p:pic>
      <p:pic>
        <p:nvPicPr>
          <p:cNvPr id="839" name="稻壳儿小白白(http://dwz.cn/Wu2UP)" descr=""/>
          <p:cNvPicPr/>
          <p:nvPr/>
        </p:nvPicPr>
        <p:blipFill>
          <a:blip r:embed="rId30"/>
          <a:stretch/>
        </p:blipFill>
        <p:spPr>
          <a:xfrm>
            <a:off x="2273400" y="4797360"/>
            <a:ext cx="457200" cy="397080"/>
          </a:xfrm>
          <a:prstGeom prst="rect">
            <a:avLst/>
          </a:prstGeom>
          <a:ln w="0">
            <a:noFill/>
          </a:ln>
        </p:spPr>
      </p:pic>
      <p:sp>
        <p:nvSpPr>
          <p:cNvPr id="840" name="稻壳儿小白白(http://dwz.cn/Wu2UP)"/>
          <p:cNvSpPr/>
          <p:nvPr/>
        </p:nvSpPr>
        <p:spPr>
          <a:xfrm>
            <a:off x="3070080" y="4813200"/>
            <a:ext cx="470160" cy="360360"/>
          </a:xfrm>
          <a:custGeom>
            <a:avLst/>
            <a:gdLst/>
            <a:ahLst/>
            <a:rect l="l" t="t" r="r" b="b"/>
            <a:pathLst>
              <a:path w="126" h="96">
                <a:moveTo>
                  <a:pt x="120" y="9"/>
                </a:moveTo>
                <a:cubicBezTo>
                  <a:pt x="119" y="6"/>
                  <a:pt x="116" y="4"/>
                  <a:pt x="113" y="3"/>
                </a:cubicBezTo>
                <a:cubicBezTo>
                  <a:pt x="97" y="1"/>
                  <a:pt x="80" y="0"/>
                  <a:pt x="63" y="0"/>
                </a:cubicBezTo>
                <a:cubicBezTo>
                  <a:pt x="46" y="0"/>
                  <a:pt x="29" y="1"/>
                  <a:pt x="12" y="3"/>
                </a:cubicBezTo>
                <a:cubicBezTo>
                  <a:pt x="9" y="4"/>
                  <a:pt x="7" y="6"/>
                  <a:pt x="6" y="9"/>
                </a:cubicBezTo>
                <a:cubicBezTo>
                  <a:pt x="0" y="34"/>
                  <a:pt x="0" y="59"/>
                  <a:pt x="6" y="84"/>
                </a:cubicBezTo>
                <a:cubicBezTo>
                  <a:pt x="7" y="87"/>
                  <a:pt x="9" y="89"/>
                  <a:pt x="12" y="89"/>
                </a:cubicBezTo>
                <a:cubicBezTo>
                  <a:pt x="21" y="90"/>
                  <a:pt x="29" y="91"/>
                  <a:pt x="37" y="92"/>
                </a:cubicBezTo>
                <a:cubicBezTo>
                  <a:pt x="36" y="92"/>
                  <a:pt x="36" y="92"/>
                  <a:pt x="36" y="92"/>
                </a:cubicBezTo>
                <a:cubicBezTo>
                  <a:pt x="36" y="95"/>
                  <a:pt x="48" y="96"/>
                  <a:pt x="63" y="96"/>
                </a:cubicBezTo>
                <a:cubicBezTo>
                  <a:pt x="78" y="96"/>
                  <a:pt x="90" y="95"/>
                  <a:pt x="90" y="92"/>
                </a:cubicBezTo>
                <a:cubicBezTo>
                  <a:pt x="90" y="92"/>
                  <a:pt x="89" y="92"/>
                  <a:pt x="89" y="92"/>
                </a:cubicBezTo>
                <a:cubicBezTo>
                  <a:pt x="97" y="91"/>
                  <a:pt x="105" y="90"/>
                  <a:pt x="113" y="89"/>
                </a:cubicBezTo>
                <a:cubicBezTo>
                  <a:pt x="116" y="89"/>
                  <a:pt x="119" y="87"/>
                  <a:pt x="120" y="84"/>
                </a:cubicBezTo>
                <a:cubicBezTo>
                  <a:pt x="126" y="59"/>
                  <a:pt x="126" y="34"/>
                  <a:pt x="120" y="9"/>
                </a:cubicBezTo>
                <a:close/>
                <a:moveTo>
                  <a:pt x="112" y="82"/>
                </a:moveTo>
                <a:cubicBezTo>
                  <a:pt x="79" y="86"/>
                  <a:pt x="46" y="86"/>
                  <a:pt x="13" y="82"/>
                </a:cubicBezTo>
                <a:cubicBezTo>
                  <a:pt x="8" y="58"/>
                  <a:pt x="8" y="35"/>
                  <a:pt x="13" y="11"/>
                </a:cubicBezTo>
                <a:cubicBezTo>
                  <a:pt x="46" y="7"/>
                  <a:pt x="79" y="7"/>
                  <a:pt x="112" y="11"/>
                </a:cubicBezTo>
                <a:cubicBezTo>
                  <a:pt x="118" y="35"/>
                  <a:pt x="118" y="58"/>
                  <a:pt x="112" y="82"/>
                </a:cubicBezTo>
                <a:close/>
                <a:moveTo>
                  <a:pt x="55" y="32"/>
                </a:moveTo>
                <a:cubicBezTo>
                  <a:pt x="55" y="33"/>
                  <a:pt x="54" y="34"/>
                  <a:pt x="53" y="34"/>
                </a:cubicBezTo>
                <a:cubicBezTo>
                  <a:pt x="39" y="35"/>
                  <a:pt x="39" y="35"/>
                  <a:pt x="39" y="35"/>
                </a:cubicBezTo>
                <a:cubicBezTo>
                  <a:pt x="38" y="35"/>
                  <a:pt x="37" y="36"/>
                  <a:pt x="37" y="37"/>
                </a:cubicBezTo>
                <a:cubicBezTo>
                  <a:pt x="36" y="45"/>
                  <a:pt x="36" y="45"/>
                  <a:pt x="36" y="45"/>
                </a:cubicBezTo>
                <a:cubicBezTo>
                  <a:pt x="36" y="46"/>
                  <a:pt x="35" y="46"/>
                  <a:pt x="34" y="46"/>
                </a:cubicBezTo>
                <a:cubicBezTo>
                  <a:pt x="33" y="46"/>
                  <a:pt x="32" y="46"/>
                  <a:pt x="32" y="45"/>
                </a:cubicBezTo>
                <a:cubicBezTo>
                  <a:pt x="34" y="34"/>
                  <a:pt x="34" y="34"/>
                  <a:pt x="34" y="34"/>
                </a:cubicBezTo>
                <a:cubicBezTo>
                  <a:pt x="34" y="33"/>
                  <a:pt x="35" y="32"/>
                  <a:pt x="36" y="32"/>
                </a:cubicBezTo>
                <a:cubicBezTo>
                  <a:pt x="53" y="30"/>
                  <a:pt x="53" y="30"/>
                  <a:pt x="53" y="30"/>
                </a:cubicBezTo>
                <a:cubicBezTo>
                  <a:pt x="54" y="30"/>
                  <a:pt x="55" y="31"/>
                  <a:pt x="55" y="32"/>
                </a:cubicBezTo>
                <a:close/>
                <a:moveTo>
                  <a:pt x="103" y="31"/>
                </a:moveTo>
                <a:cubicBezTo>
                  <a:pt x="106" y="31"/>
                  <a:pt x="109" y="29"/>
                  <a:pt x="109" y="25"/>
                </a:cubicBezTo>
                <a:cubicBezTo>
                  <a:pt x="109" y="22"/>
                  <a:pt x="106" y="20"/>
                  <a:pt x="103" y="20"/>
                </a:cubicBezTo>
                <a:cubicBezTo>
                  <a:pt x="100" y="20"/>
                  <a:pt x="97" y="22"/>
                  <a:pt x="97" y="25"/>
                </a:cubicBezTo>
                <a:cubicBezTo>
                  <a:pt x="97" y="29"/>
                  <a:pt x="100" y="31"/>
                  <a:pt x="103" y="31"/>
                </a:cubicBezTo>
                <a:close/>
                <a:moveTo>
                  <a:pt x="103" y="23"/>
                </a:moveTo>
                <a:cubicBezTo>
                  <a:pt x="104" y="23"/>
                  <a:pt x="105" y="24"/>
                  <a:pt x="105" y="25"/>
                </a:cubicBezTo>
                <a:cubicBezTo>
                  <a:pt x="105" y="26"/>
                  <a:pt x="104" y="27"/>
                  <a:pt x="103" y="27"/>
                </a:cubicBezTo>
                <a:cubicBezTo>
                  <a:pt x="102" y="27"/>
                  <a:pt x="101" y="26"/>
                  <a:pt x="101" y="25"/>
                </a:cubicBezTo>
                <a:cubicBezTo>
                  <a:pt x="101" y="24"/>
                  <a:pt x="102" y="23"/>
                  <a:pt x="103" y="23"/>
                </a:cubicBezTo>
                <a:close/>
                <a:moveTo>
                  <a:pt x="113" y="60"/>
                </a:moveTo>
                <a:cubicBezTo>
                  <a:pt x="113" y="61"/>
                  <a:pt x="112" y="62"/>
                  <a:pt x="111" y="62"/>
                </a:cubicBezTo>
                <a:cubicBezTo>
                  <a:pt x="99" y="62"/>
                  <a:pt x="99" y="62"/>
                  <a:pt x="99" y="62"/>
                </a:cubicBezTo>
                <a:cubicBezTo>
                  <a:pt x="98" y="62"/>
                  <a:pt x="97" y="61"/>
                  <a:pt x="97" y="60"/>
                </a:cubicBezTo>
                <a:cubicBezTo>
                  <a:pt x="97" y="59"/>
                  <a:pt x="98" y="58"/>
                  <a:pt x="99" y="58"/>
                </a:cubicBezTo>
                <a:cubicBezTo>
                  <a:pt x="111" y="58"/>
                  <a:pt x="111" y="58"/>
                  <a:pt x="111" y="58"/>
                </a:cubicBezTo>
                <a:cubicBezTo>
                  <a:pt x="112" y="58"/>
                  <a:pt x="113" y="59"/>
                  <a:pt x="113" y="60"/>
                </a:cubicBezTo>
                <a:close/>
                <a:moveTo>
                  <a:pt x="113" y="48"/>
                </a:moveTo>
                <a:cubicBezTo>
                  <a:pt x="113" y="49"/>
                  <a:pt x="112" y="50"/>
                  <a:pt x="111" y="50"/>
                </a:cubicBezTo>
                <a:cubicBezTo>
                  <a:pt x="99" y="50"/>
                  <a:pt x="99" y="50"/>
                  <a:pt x="99" y="50"/>
                </a:cubicBezTo>
                <a:cubicBezTo>
                  <a:pt x="98" y="50"/>
                  <a:pt x="97" y="49"/>
                  <a:pt x="97" y="48"/>
                </a:cubicBezTo>
                <a:cubicBezTo>
                  <a:pt x="97" y="47"/>
                  <a:pt x="98" y="46"/>
                  <a:pt x="99" y="46"/>
                </a:cubicBezTo>
                <a:cubicBezTo>
                  <a:pt x="111" y="46"/>
                  <a:pt x="111" y="46"/>
                  <a:pt x="111" y="46"/>
                </a:cubicBezTo>
                <a:cubicBezTo>
                  <a:pt x="112" y="46"/>
                  <a:pt x="113" y="47"/>
                  <a:pt x="113" y="48"/>
                </a:cubicBezTo>
                <a:close/>
                <a:moveTo>
                  <a:pt x="109" y="71"/>
                </a:moveTo>
                <a:cubicBezTo>
                  <a:pt x="109" y="72"/>
                  <a:pt x="108" y="73"/>
                  <a:pt x="107" y="73"/>
                </a:cubicBezTo>
                <a:cubicBezTo>
                  <a:pt x="96" y="73"/>
                  <a:pt x="96" y="73"/>
                  <a:pt x="96" y="73"/>
                </a:cubicBezTo>
                <a:cubicBezTo>
                  <a:pt x="94" y="73"/>
                  <a:pt x="94" y="72"/>
                  <a:pt x="94" y="71"/>
                </a:cubicBezTo>
                <a:cubicBezTo>
                  <a:pt x="94" y="70"/>
                  <a:pt x="94" y="69"/>
                  <a:pt x="96" y="69"/>
                </a:cubicBezTo>
                <a:cubicBezTo>
                  <a:pt x="107" y="69"/>
                  <a:pt x="107" y="69"/>
                  <a:pt x="107" y="69"/>
                </a:cubicBezTo>
                <a:cubicBezTo>
                  <a:pt x="108" y="69"/>
                  <a:pt x="109" y="70"/>
                  <a:pt x="109" y="71"/>
                </a:cubicBezTo>
                <a:close/>
                <a:moveTo>
                  <a:pt x="87" y="18"/>
                </a:moveTo>
                <a:cubicBezTo>
                  <a:pt x="76" y="16"/>
                  <a:pt x="66" y="15"/>
                  <a:pt x="55" y="15"/>
                </a:cubicBezTo>
                <a:cubicBezTo>
                  <a:pt x="45" y="15"/>
                  <a:pt x="34" y="16"/>
                  <a:pt x="24" y="18"/>
                </a:cubicBezTo>
                <a:cubicBezTo>
                  <a:pt x="23" y="18"/>
                  <a:pt x="21" y="19"/>
                  <a:pt x="21" y="21"/>
                </a:cubicBezTo>
                <a:cubicBezTo>
                  <a:pt x="16" y="37"/>
                  <a:pt x="16" y="55"/>
                  <a:pt x="21" y="71"/>
                </a:cubicBezTo>
                <a:cubicBezTo>
                  <a:pt x="21" y="73"/>
                  <a:pt x="23" y="74"/>
                  <a:pt x="24" y="74"/>
                </a:cubicBezTo>
                <a:cubicBezTo>
                  <a:pt x="34" y="76"/>
                  <a:pt x="45" y="77"/>
                  <a:pt x="55" y="77"/>
                </a:cubicBezTo>
                <a:cubicBezTo>
                  <a:pt x="66" y="77"/>
                  <a:pt x="76" y="76"/>
                  <a:pt x="87" y="74"/>
                </a:cubicBezTo>
                <a:cubicBezTo>
                  <a:pt x="88" y="74"/>
                  <a:pt x="89" y="73"/>
                  <a:pt x="89" y="71"/>
                </a:cubicBezTo>
                <a:cubicBezTo>
                  <a:pt x="95" y="55"/>
                  <a:pt x="95" y="37"/>
                  <a:pt x="89" y="21"/>
                </a:cubicBezTo>
                <a:cubicBezTo>
                  <a:pt x="89" y="19"/>
                  <a:pt x="88" y="18"/>
                  <a:pt x="87" y="18"/>
                </a:cubicBezTo>
                <a:close/>
                <a:moveTo>
                  <a:pt x="86" y="70"/>
                </a:moveTo>
                <a:cubicBezTo>
                  <a:pt x="65" y="74"/>
                  <a:pt x="45" y="74"/>
                  <a:pt x="25" y="70"/>
                </a:cubicBezTo>
                <a:cubicBezTo>
                  <a:pt x="19" y="54"/>
                  <a:pt x="19" y="38"/>
                  <a:pt x="25" y="22"/>
                </a:cubicBezTo>
                <a:cubicBezTo>
                  <a:pt x="45" y="18"/>
                  <a:pt x="65" y="18"/>
                  <a:pt x="86" y="22"/>
                </a:cubicBezTo>
                <a:cubicBezTo>
                  <a:pt x="91" y="38"/>
                  <a:pt x="91" y="54"/>
                  <a:pt x="86" y="70"/>
                </a:cubicBezTo>
                <a:close/>
                <a:moveTo>
                  <a:pt x="86" y="70"/>
                </a:moveTo>
                <a:cubicBezTo>
                  <a:pt x="86" y="70"/>
                  <a:pt x="86" y="70"/>
                  <a:pt x="86" y="7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稻壳儿小白白(http://dwz.cn/Wu2UP)"/>
          <p:cNvSpPr/>
          <p:nvPr/>
        </p:nvSpPr>
        <p:spPr>
          <a:xfrm>
            <a:off x="3876840" y="4773600"/>
            <a:ext cx="441000" cy="446040"/>
          </a:xfrm>
          <a:custGeom>
            <a:avLst/>
            <a:gdLst/>
            <a:ahLst/>
            <a:rect l="l" t="t" r="r" b="b"/>
            <a:pathLst>
              <a:path w="118" h="119">
                <a:moveTo>
                  <a:pt x="59" y="0"/>
                </a:moveTo>
                <a:cubicBezTo>
                  <a:pt x="26" y="0"/>
                  <a:pt x="0" y="27"/>
                  <a:pt x="0" y="59"/>
                </a:cubicBezTo>
                <a:cubicBezTo>
                  <a:pt x="0" y="92"/>
                  <a:pt x="26" y="119"/>
                  <a:pt x="59" y="119"/>
                </a:cubicBezTo>
                <a:cubicBezTo>
                  <a:pt x="92" y="119"/>
                  <a:pt x="118" y="92"/>
                  <a:pt x="118" y="59"/>
                </a:cubicBezTo>
                <a:cubicBezTo>
                  <a:pt x="118" y="27"/>
                  <a:pt x="92" y="0"/>
                  <a:pt x="59" y="0"/>
                </a:cubicBezTo>
                <a:close/>
                <a:moveTo>
                  <a:pt x="111" y="57"/>
                </a:moveTo>
                <a:cubicBezTo>
                  <a:pt x="88" y="57"/>
                  <a:pt x="88" y="57"/>
                  <a:pt x="88" y="57"/>
                </a:cubicBezTo>
                <a:cubicBezTo>
                  <a:pt x="87" y="49"/>
                  <a:pt x="86" y="41"/>
                  <a:pt x="83" y="33"/>
                </a:cubicBezTo>
                <a:cubicBezTo>
                  <a:pt x="88" y="31"/>
                  <a:pt x="93" y="28"/>
                  <a:pt x="98" y="25"/>
                </a:cubicBezTo>
                <a:cubicBezTo>
                  <a:pt x="105" y="34"/>
                  <a:pt x="110" y="45"/>
                  <a:pt x="111" y="57"/>
                </a:cubicBezTo>
                <a:close/>
                <a:moveTo>
                  <a:pt x="57" y="111"/>
                </a:moveTo>
                <a:cubicBezTo>
                  <a:pt x="50" y="106"/>
                  <a:pt x="45" y="99"/>
                  <a:pt x="41" y="91"/>
                </a:cubicBezTo>
                <a:cubicBezTo>
                  <a:pt x="46" y="89"/>
                  <a:pt x="52" y="88"/>
                  <a:pt x="57" y="88"/>
                </a:cubicBezTo>
                <a:cubicBezTo>
                  <a:pt x="57" y="111"/>
                  <a:pt x="57" y="111"/>
                  <a:pt x="57" y="111"/>
                </a:cubicBezTo>
                <a:cubicBezTo>
                  <a:pt x="57" y="111"/>
                  <a:pt x="57" y="111"/>
                  <a:pt x="57" y="111"/>
                </a:cubicBezTo>
                <a:close/>
                <a:moveTo>
                  <a:pt x="61" y="8"/>
                </a:moveTo>
                <a:cubicBezTo>
                  <a:pt x="68" y="14"/>
                  <a:pt x="74" y="22"/>
                  <a:pt x="78" y="31"/>
                </a:cubicBezTo>
                <a:cubicBezTo>
                  <a:pt x="73" y="33"/>
                  <a:pt x="67" y="34"/>
                  <a:pt x="61" y="34"/>
                </a:cubicBezTo>
                <a:cubicBezTo>
                  <a:pt x="61" y="8"/>
                  <a:pt x="61" y="8"/>
                  <a:pt x="61" y="8"/>
                </a:cubicBezTo>
                <a:cubicBezTo>
                  <a:pt x="61" y="8"/>
                  <a:pt x="61" y="8"/>
                  <a:pt x="61" y="8"/>
                </a:cubicBezTo>
                <a:close/>
                <a:moveTo>
                  <a:pt x="67" y="8"/>
                </a:moveTo>
                <a:cubicBezTo>
                  <a:pt x="78" y="10"/>
                  <a:pt x="88" y="15"/>
                  <a:pt x="95" y="22"/>
                </a:cubicBezTo>
                <a:cubicBezTo>
                  <a:pt x="91" y="25"/>
                  <a:pt x="87" y="28"/>
                  <a:pt x="82" y="30"/>
                </a:cubicBezTo>
                <a:cubicBezTo>
                  <a:pt x="78" y="22"/>
                  <a:pt x="73" y="14"/>
                  <a:pt x="67" y="8"/>
                </a:cubicBezTo>
                <a:close/>
                <a:moveTo>
                  <a:pt x="57" y="8"/>
                </a:moveTo>
                <a:cubicBezTo>
                  <a:pt x="57" y="34"/>
                  <a:pt x="57" y="34"/>
                  <a:pt x="57" y="34"/>
                </a:cubicBezTo>
                <a:cubicBezTo>
                  <a:pt x="51" y="34"/>
                  <a:pt x="45" y="33"/>
                  <a:pt x="40" y="31"/>
                </a:cubicBezTo>
                <a:cubicBezTo>
                  <a:pt x="44" y="22"/>
                  <a:pt x="50" y="14"/>
                  <a:pt x="57" y="8"/>
                </a:cubicBezTo>
                <a:cubicBezTo>
                  <a:pt x="57" y="8"/>
                  <a:pt x="57" y="8"/>
                  <a:pt x="57" y="8"/>
                </a:cubicBezTo>
                <a:close/>
                <a:moveTo>
                  <a:pt x="36" y="30"/>
                </a:moveTo>
                <a:cubicBezTo>
                  <a:pt x="31" y="28"/>
                  <a:pt x="27" y="25"/>
                  <a:pt x="23" y="22"/>
                </a:cubicBezTo>
                <a:cubicBezTo>
                  <a:pt x="30" y="15"/>
                  <a:pt x="40" y="10"/>
                  <a:pt x="50" y="8"/>
                </a:cubicBezTo>
                <a:cubicBezTo>
                  <a:pt x="45" y="14"/>
                  <a:pt x="40" y="22"/>
                  <a:pt x="36" y="30"/>
                </a:cubicBezTo>
                <a:close/>
                <a:moveTo>
                  <a:pt x="38" y="35"/>
                </a:moveTo>
                <a:cubicBezTo>
                  <a:pt x="44" y="37"/>
                  <a:pt x="50" y="38"/>
                  <a:pt x="57" y="38"/>
                </a:cubicBezTo>
                <a:cubicBezTo>
                  <a:pt x="57" y="57"/>
                  <a:pt x="57" y="57"/>
                  <a:pt x="57" y="57"/>
                </a:cubicBezTo>
                <a:cubicBezTo>
                  <a:pt x="34" y="57"/>
                  <a:pt x="34" y="57"/>
                  <a:pt x="34" y="57"/>
                </a:cubicBezTo>
                <a:cubicBezTo>
                  <a:pt x="34" y="49"/>
                  <a:pt x="36" y="42"/>
                  <a:pt x="38" y="35"/>
                </a:cubicBezTo>
                <a:close/>
                <a:moveTo>
                  <a:pt x="57" y="61"/>
                </a:moveTo>
                <a:cubicBezTo>
                  <a:pt x="57" y="84"/>
                  <a:pt x="57" y="84"/>
                  <a:pt x="57" y="84"/>
                </a:cubicBezTo>
                <a:cubicBezTo>
                  <a:pt x="51" y="85"/>
                  <a:pt x="45" y="86"/>
                  <a:pt x="40" y="87"/>
                </a:cubicBezTo>
                <a:cubicBezTo>
                  <a:pt x="36" y="79"/>
                  <a:pt x="34" y="71"/>
                  <a:pt x="34" y="61"/>
                </a:cubicBezTo>
                <a:lnTo>
                  <a:pt x="57" y="61"/>
                </a:lnTo>
                <a:close/>
                <a:moveTo>
                  <a:pt x="50" y="110"/>
                </a:moveTo>
                <a:cubicBezTo>
                  <a:pt x="41" y="109"/>
                  <a:pt x="32" y="105"/>
                  <a:pt x="25" y="99"/>
                </a:cubicBezTo>
                <a:cubicBezTo>
                  <a:pt x="29" y="96"/>
                  <a:pt x="33" y="94"/>
                  <a:pt x="38" y="92"/>
                </a:cubicBezTo>
                <a:cubicBezTo>
                  <a:pt x="41" y="99"/>
                  <a:pt x="45" y="105"/>
                  <a:pt x="50" y="110"/>
                </a:cubicBezTo>
                <a:close/>
                <a:moveTo>
                  <a:pt x="61" y="111"/>
                </a:moveTo>
                <a:cubicBezTo>
                  <a:pt x="61" y="88"/>
                  <a:pt x="61" y="88"/>
                  <a:pt x="61" y="88"/>
                </a:cubicBezTo>
                <a:cubicBezTo>
                  <a:pt x="66" y="88"/>
                  <a:pt x="72" y="89"/>
                  <a:pt x="77" y="91"/>
                </a:cubicBezTo>
                <a:cubicBezTo>
                  <a:pt x="73" y="99"/>
                  <a:pt x="67" y="106"/>
                  <a:pt x="61" y="111"/>
                </a:cubicBezTo>
                <a:cubicBezTo>
                  <a:pt x="61" y="111"/>
                  <a:pt x="61" y="111"/>
                  <a:pt x="61" y="111"/>
                </a:cubicBezTo>
                <a:close/>
                <a:moveTo>
                  <a:pt x="80" y="92"/>
                </a:moveTo>
                <a:cubicBezTo>
                  <a:pt x="85" y="94"/>
                  <a:pt x="89" y="96"/>
                  <a:pt x="93" y="99"/>
                </a:cubicBezTo>
                <a:cubicBezTo>
                  <a:pt x="86" y="105"/>
                  <a:pt x="77" y="109"/>
                  <a:pt x="67" y="110"/>
                </a:cubicBezTo>
                <a:cubicBezTo>
                  <a:pt x="73" y="105"/>
                  <a:pt x="77" y="99"/>
                  <a:pt x="80" y="92"/>
                </a:cubicBezTo>
                <a:close/>
                <a:moveTo>
                  <a:pt x="78" y="87"/>
                </a:moveTo>
                <a:cubicBezTo>
                  <a:pt x="73" y="86"/>
                  <a:pt x="67" y="85"/>
                  <a:pt x="61" y="84"/>
                </a:cubicBezTo>
                <a:cubicBezTo>
                  <a:pt x="61" y="61"/>
                  <a:pt x="61" y="61"/>
                  <a:pt x="61" y="61"/>
                </a:cubicBezTo>
                <a:cubicBezTo>
                  <a:pt x="84" y="61"/>
                  <a:pt x="84" y="61"/>
                  <a:pt x="84" y="61"/>
                </a:cubicBezTo>
                <a:cubicBezTo>
                  <a:pt x="84" y="71"/>
                  <a:pt x="82" y="79"/>
                  <a:pt x="78" y="87"/>
                </a:cubicBezTo>
                <a:close/>
                <a:moveTo>
                  <a:pt x="61" y="57"/>
                </a:moveTo>
                <a:cubicBezTo>
                  <a:pt x="61" y="38"/>
                  <a:pt x="61" y="38"/>
                  <a:pt x="61" y="38"/>
                </a:cubicBezTo>
                <a:cubicBezTo>
                  <a:pt x="67" y="38"/>
                  <a:pt x="74" y="37"/>
                  <a:pt x="80" y="35"/>
                </a:cubicBezTo>
                <a:cubicBezTo>
                  <a:pt x="82" y="42"/>
                  <a:pt x="84" y="49"/>
                  <a:pt x="84" y="57"/>
                </a:cubicBezTo>
                <a:lnTo>
                  <a:pt x="61" y="57"/>
                </a:lnTo>
                <a:close/>
                <a:moveTo>
                  <a:pt x="20" y="25"/>
                </a:moveTo>
                <a:cubicBezTo>
                  <a:pt x="25" y="28"/>
                  <a:pt x="30" y="31"/>
                  <a:pt x="35" y="33"/>
                </a:cubicBezTo>
                <a:cubicBezTo>
                  <a:pt x="32" y="41"/>
                  <a:pt x="30" y="49"/>
                  <a:pt x="30" y="57"/>
                </a:cubicBezTo>
                <a:cubicBezTo>
                  <a:pt x="7" y="57"/>
                  <a:pt x="7" y="57"/>
                  <a:pt x="7" y="57"/>
                </a:cubicBezTo>
                <a:cubicBezTo>
                  <a:pt x="8" y="45"/>
                  <a:pt x="13" y="34"/>
                  <a:pt x="20" y="25"/>
                </a:cubicBezTo>
                <a:close/>
                <a:moveTo>
                  <a:pt x="7" y="61"/>
                </a:moveTo>
                <a:cubicBezTo>
                  <a:pt x="30" y="61"/>
                  <a:pt x="30" y="61"/>
                  <a:pt x="30" y="61"/>
                </a:cubicBezTo>
                <a:cubicBezTo>
                  <a:pt x="31" y="71"/>
                  <a:pt x="33" y="80"/>
                  <a:pt x="36" y="89"/>
                </a:cubicBezTo>
                <a:cubicBezTo>
                  <a:pt x="31" y="91"/>
                  <a:pt x="27" y="93"/>
                  <a:pt x="22" y="96"/>
                </a:cubicBezTo>
                <a:cubicBezTo>
                  <a:pt x="13" y="87"/>
                  <a:pt x="8" y="75"/>
                  <a:pt x="7" y="61"/>
                </a:cubicBezTo>
                <a:close/>
                <a:moveTo>
                  <a:pt x="95" y="96"/>
                </a:moveTo>
                <a:cubicBezTo>
                  <a:pt x="91" y="93"/>
                  <a:pt x="87" y="91"/>
                  <a:pt x="82" y="89"/>
                </a:cubicBezTo>
                <a:cubicBezTo>
                  <a:pt x="85" y="80"/>
                  <a:pt x="87" y="71"/>
                  <a:pt x="88" y="61"/>
                </a:cubicBezTo>
                <a:cubicBezTo>
                  <a:pt x="111" y="61"/>
                  <a:pt x="111" y="61"/>
                  <a:pt x="111" y="61"/>
                </a:cubicBezTo>
                <a:cubicBezTo>
                  <a:pt x="110" y="75"/>
                  <a:pt x="104" y="87"/>
                  <a:pt x="95" y="96"/>
                </a:cubicBezTo>
                <a:close/>
                <a:moveTo>
                  <a:pt x="95" y="96"/>
                </a:moveTo>
                <a:cubicBezTo>
                  <a:pt x="95" y="96"/>
                  <a:pt x="95" y="96"/>
                  <a:pt x="95" y="96"/>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稻壳儿小白白(http://dwz.cn/Wu2UP)"/>
          <p:cNvSpPr/>
          <p:nvPr/>
        </p:nvSpPr>
        <p:spPr>
          <a:xfrm>
            <a:off x="341280" y="304920"/>
            <a:ext cx="21970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ffff"/>
                </a:solidFill>
                <a:latin typeface="Arial"/>
                <a:ea typeface="微软雅黑"/>
              </a:rPr>
              <a:t>赠送图标</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d087d"/>
        </a:solidFill>
      </p:bgPr>
    </p:bg>
    <p:spTree>
      <p:nvGrpSpPr>
        <p:cNvPr id="1" name=""/>
        <p:cNvGrpSpPr/>
        <p:nvPr/>
      </p:nvGrpSpPr>
      <p:grpSpPr>
        <a:xfrm>
          <a:off x="0" y="0"/>
          <a:ext cx="0" cy="0"/>
          <a:chOff x="0" y="0"/>
          <a:chExt cx="0" cy="0"/>
        </a:xfrm>
      </p:grpSpPr>
      <p:sp>
        <p:nvSpPr>
          <p:cNvPr id="843" name="稻壳儿小白白(http://dwz.cn/Wu2UP)"/>
          <p:cNvSpPr/>
          <p:nvPr/>
        </p:nvSpPr>
        <p:spPr>
          <a:xfrm>
            <a:off x="2836800" y="884160"/>
            <a:ext cx="192240" cy="262080"/>
          </a:xfrm>
          <a:custGeom>
            <a:avLst/>
            <a:gdLst/>
            <a:ahLst/>
            <a:rect l="l" t="t" r="r" b="b"/>
            <a:pathLst>
              <a:path w="28" h="38">
                <a:moveTo>
                  <a:pt x="20" y="0"/>
                </a:moveTo>
                <a:cubicBezTo>
                  <a:pt x="20" y="0"/>
                  <a:pt x="21" y="1"/>
                  <a:pt x="21" y="1"/>
                </a:cubicBezTo>
                <a:cubicBezTo>
                  <a:pt x="21" y="24"/>
                  <a:pt x="21" y="24"/>
                  <a:pt x="21" y="24"/>
                </a:cubicBezTo>
                <a:cubicBezTo>
                  <a:pt x="26" y="24"/>
                  <a:pt x="26" y="24"/>
                  <a:pt x="26" y="24"/>
                </a:cubicBezTo>
                <a:cubicBezTo>
                  <a:pt x="27" y="24"/>
                  <a:pt x="27" y="25"/>
                  <a:pt x="28" y="25"/>
                </a:cubicBezTo>
                <a:cubicBezTo>
                  <a:pt x="28" y="26"/>
                  <a:pt x="28" y="26"/>
                  <a:pt x="27" y="27"/>
                </a:cubicBezTo>
                <a:cubicBezTo>
                  <a:pt x="19" y="37"/>
                  <a:pt x="19" y="37"/>
                  <a:pt x="19" y="37"/>
                </a:cubicBezTo>
                <a:cubicBezTo>
                  <a:pt x="18" y="38"/>
                  <a:pt x="17" y="38"/>
                  <a:pt x="16" y="37"/>
                </a:cubicBezTo>
                <a:cubicBezTo>
                  <a:pt x="7" y="27"/>
                  <a:pt x="7" y="27"/>
                  <a:pt x="7" y="27"/>
                </a:cubicBezTo>
                <a:cubicBezTo>
                  <a:pt x="7" y="26"/>
                  <a:pt x="7" y="26"/>
                  <a:pt x="7" y="25"/>
                </a:cubicBezTo>
                <a:cubicBezTo>
                  <a:pt x="8" y="25"/>
                  <a:pt x="8" y="24"/>
                  <a:pt x="9" y="24"/>
                </a:cubicBezTo>
                <a:cubicBezTo>
                  <a:pt x="14" y="24"/>
                  <a:pt x="14" y="24"/>
                  <a:pt x="14" y="24"/>
                </a:cubicBezTo>
                <a:cubicBezTo>
                  <a:pt x="14" y="7"/>
                  <a:pt x="14" y="7"/>
                  <a:pt x="14" y="7"/>
                </a:cubicBezTo>
                <a:cubicBezTo>
                  <a:pt x="5" y="7"/>
                  <a:pt x="5" y="7"/>
                  <a:pt x="5" y="7"/>
                </a:cubicBezTo>
                <a:cubicBezTo>
                  <a:pt x="5" y="7"/>
                  <a:pt x="5" y="7"/>
                  <a:pt x="5" y="7"/>
                </a:cubicBezTo>
                <a:cubicBezTo>
                  <a:pt x="0" y="2"/>
                  <a:pt x="0" y="2"/>
                  <a:pt x="0" y="2"/>
                </a:cubicBezTo>
                <a:cubicBezTo>
                  <a:pt x="0" y="1"/>
                  <a:pt x="0" y="1"/>
                  <a:pt x="0" y="1"/>
                </a:cubicBezTo>
                <a:cubicBezTo>
                  <a:pt x="0" y="0"/>
                  <a:pt x="1" y="0"/>
                  <a:pt x="1" y="0"/>
                </a:cubicBezTo>
                <a:lnTo>
                  <a:pt x="20" y="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44" name="稻壳儿小白白(http://dwz.cn/Wu2UP)"/>
          <p:cNvSpPr/>
          <p:nvPr/>
        </p:nvSpPr>
        <p:spPr>
          <a:xfrm>
            <a:off x="2836800" y="1368360"/>
            <a:ext cx="192240" cy="263520"/>
          </a:xfrm>
          <a:custGeom>
            <a:avLst/>
            <a:gdLst/>
            <a:ahLst/>
            <a:rect l="l" t="t" r="r" b="b"/>
            <a:pathLst>
              <a:path w="28" h="38">
                <a:moveTo>
                  <a:pt x="26" y="14"/>
                </a:moveTo>
                <a:cubicBezTo>
                  <a:pt x="21" y="14"/>
                  <a:pt x="21" y="14"/>
                  <a:pt x="21" y="14"/>
                </a:cubicBezTo>
                <a:cubicBezTo>
                  <a:pt x="21" y="37"/>
                  <a:pt x="21" y="37"/>
                  <a:pt x="21" y="37"/>
                </a:cubicBezTo>
                <a:cubicBezTo>
                  <a:pt x="21" y="38"/>
                  <a:pt x="20" y="38"/>
                  <a:pt x="20" y="38"/>
                </a:cubicBezTo>
                <a:cubicBezTo>
                  <a:pt x="1" y="38"/>
                  <a:pt x="1" y="38"/>
                  <a:pt x="1" y="38"/>
                </a:cubicBezTo>
                <a:cubicBezTo>
                  <a:pt x="1" y="38"/>
                  <a:pt x="0" y="38"/>
                  <a:pt x="0" y="38"/>
                </a:cubicBezTo>
                <a:cubicBezTo>
                  <a:pt x="0" y="37"/>
                  <a:pt x="0" y="37"/>
                  <a:pt x="0" y="37"/>
                </a:cubicBezTo>
                <a:cubicBezTo>
                  <a:pt x="5" y="31"/>
                  <a:pt x="5" y="31"/>
                  <a:pt x="5" y="31"/>
                </a:cubicBezTo>
                <a:cubicBezTo>
                  <a:pt x="5" y="31"/>
                  <a:pt x="5" y="31"/>
                  <a:pt x="5" y="31"/>
                </a:cubicBezTo>
                <a:cubicBezTo>
                  <a:pt x="14" y="31"/>
                  <a:pt x="14" y="31"/>
                  <a:pt x="14" y="31"/>
                </a:cubicBezTo>
                <a:cubicBezTo>
                  <a:pt x="14" y="14"/>
                  <a:pt x="14" y="14"/>
                  <a:pt x="14" y="14"/>
                </a:cubicBezTo>
                <a:cubicBezTo>
                  <a:pt x="9" y="14"/>
                  <a:pt x="9" y="14"/>
                  <a:pt x="9" y="14"/>
                </a:cubicBezTo>
                <a:cubicBezTo>
                  <a:pt x="8" y="14"/>
                  <a:pt x="8" y="14"/>
                  <a:pt x="7" y="13"/>
                </a:cubicBezTo>
                <a:cubicBezTo>
                  <a:pt x="7" y="12"/>
                  <a:pt x="7" y="12"/>
                  <a:pt x="7" y="11"/>
                </a:cubicBezTo>
                <a:cubicBezTo>
                  <a:pt x="16" y="1"/>
                  <a:pt x="16" y="1"/>
                  <a:pt x="16" y="1"/>
                </a:cubicBezTo>
                <a:cubicBezTo>
                  <a:pt x="17" y="0"/>
                  <a:pt x="18" y="0"/>
                  <a:pt x="19" y="1"/>
                </a:cubicBezTo>
                <a:cubicBezTo>
                  <a:pt x="27" y="11"/>
                  <a:pt x="27" y="11"/>
                  <a:pt x="27" y="11"/>
                </a:cubicBezTo>
                <a:cubicBezTo>
                  <a:pt x="28" y="12"/>
                  <a:pt x="28" y="12"/>
                  <a:pt x="28" y="13"/>
                </a:cubicBezTo>
                <a:cubicBezTo>
                  <a:pt x="27" y="14"/>
                  <a:pt x="27" y="14"/>
                  <a:pt x="26" y="1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45" name="稻壳儿小白白(http://dwz.cn/Wu2UP)"/>
          <p:cNvSpPr/>
          <p:nvPr/>
        </p:nvSpPr>
        <p:spPr>
          <a:xfrm>
            <a:off x="2766960" y="1852560"/>
            <a:ext cx="333360" cy="333360"/>
          </a:xfrm>
          <a:custGeom>
            <a:avLst/>
            <a:gdLst/>
            <a:ahLst/>
            <a:rect l="l" t="t" r="r" b="b"/>
            <a:pathLst>
              <a:path w="48" h="48">
                <a:moveTo>
                  <a:pt x="48" y="24"/>
                </a:moveTo>
                <a:cubicBezTo>
                  <a:pt x="48" y="38"/>
                  <a:pt x="37" y="48"/>
                  <a:pt x="24" y="48"/>
                </a:cubicBezTo>
                <a:cubicBezTo>
                  <a:pt x="11" y="48"/>
                  <a:pt x="0" y="38"/>
                  <a:pt x="0" y="24"/>
                </a:cubicBezTo>
                <a:cubicBezTo>
                  <a:pt x="0" y="11"/>
                  <a:pt x="11" y="0"/>
                  <a:pt x="24" y="0"/>
                </a:cubicBezTo>
                <a:cubicBezTo>
                  <a:pt x="37" y="0"/>
                  <a:pt x="48" y="11"/>
                  <a:pt x="48" y="24"/>
                </a:cubicBezTo>
                <a:close/>
                <a:moveTo>
                  <a:pt x="11" y="29"/>
                </a:moveTo>
                <a:cubicBezTo>
                  <a:pt x="11" y="28"/>
                  <a:pt x="10" y="26"/>
                  <a:pt x="10" y="24"/>
                </a:cubicBezTo>
                <a:cubicBezTo>
                  <a:pt x="10" y="23"/>
                  <a:pt x="11" y="21"/>
                  <a:pt x="11" y="20"/>
                </a:cubicBezTo>
                <a:cubicBezTo>
                  <a:pt x="6" y="15"/>
                  <a:pt x="6" y="15"/>
                  <a:pt x="6" y="15"/>
                </a:cubicBezTo>
                <a:cubicBezTo>
                  <a:pt x="4" y="18"/>
                  <a:pt x="3" y="21"/>
                  <a:pt x="3" y="24"/>
                </a:cubicBezTo>
                <a:cubicBezTo>
                  <a:pt x="3" y="28"/>
                  <a:pt x="4" y="31"/>
                  <a:pt x="6" y="34"/>
                </a:cubicBezTo>
                <a:lnTo>
                  <a:pt x="11" y="29"/>
                </a:lnTo>
                <a:close/>
                <a:moveTo>
                  <a:pt x="34" y="24"/>
                </a:moveTo>
                <a:cubicBezTo>
                  <a:pt x="34" y="19"/>
                  <a:pt x="30" y="14"/>
                  <a:pt x="24" y="14"/>
                </a:cubicBezTo>
                <a:cubicBezTo>
                  <a:pt x="18" y="14"/>
                  <a:pt x="14" y="19"/>
                  <a:pt x="14" y="24"/>
                </a:cubicBezTo>
                <a:cubicBezTo>
                  <a:pt x="14" y="30"/>
                  <a:pt x="18" y="35"/>
                  <a:pt x="24" y="35"/>
                </a:cubicBezTo>
                <a:cubicBezTo>
                  <a:pt x="30" y="35"/>
                  <a:pt x="34" y="30"/>
                  <a:pt x="34" y="24"/>
                </a:cubicBezTo>
                <a:close/>
                <a:moveTo>
                  <a:pt x="14" y="6"/>
                </a:moveTo>
                <a:cubicBezTo>
                  <a:pt x="19" y="11"/>
                  <a:pt x="19" y="11"/>
                  <a:pt x="19" y="11"/>
                </a:cubicBezTo>
                <a:cubicBezTo>
                  <a:pt x="21" y="11"/>
                  <a:pt x="22" y="11"/>
                  <a:pt x="24" y="11"/>
                </a:cubicBezTo>
                <a:cubicBezTo>
                  <a:pt x="26" y="11"/>
                  <a:pt x="27" y="11"/>
                  <a:pt x="28" y="11"/>
                </a:cubicBezTo>
                <a:cubicBezTo>
                  <a:pt x="34" y="6"/>
                  <a:pt x="34" y="6"/>
                  <a:pt x="34" y="6"/>
                </a:cubicBezTo>
                <a:cubicBezTo>
                  <a:pt x="31" y="5"/>
                  <a:pt x="27" y="4"/>
                  <a:pt x="24" y="4"/>
                </a:cubicBezTo>
                <a:cubicBezTo>
                  <a:pt x="20" y="4"/>
                  <a:pt x="17" y="5"/>
                  <a:pt x="14" y="6"/>
                </a:cubicBezTo>
                <a:close/>
                <a:moveTo>
                  <a:pt x="34" y="43"/>
                </a:moveTo>
                <a:cubicBezTo>
                  <a:pt x="28" y="37"/>
                  <a:pt x="28" y="37"/>
                  <a:pt x="28" y="37"/>
                </a:cubicBezTo>
                <a:cubicBezTo>
                  <a:pt x="27" y="38"/>
                  <a:pt x="26" y="38"/>
                  <a:pt x="24" y="38"/>
                </a:cubicBezTo>
                <a:cubicBezTo>
                  <a:pt x="22" y="38"/>
                  <a:pt x="21" y="38"/>
                  <a:pt x="19" y="37"/>
                </a:cubicBezTo>
                <a:cubicBezTo>
                  <a:pt x="14" y="43"/>
                  <a:pt x="14" y="43"/>
                  <a:pt x="14" y="43"/>
                </a:cubicBezTo>
                <a:cubicBezTo>
                  <a:pt x="17" y="44"/>
                  <a:pt x="20" y="45"/>
                  <a:pt x="24" y="45"/>
                </a:cubicBezTo>
                <a:cubicBezTo>
                  <a:pt x="27" y="45"/>
                  <a:pt x="31" y="44"/>
                  <a:pt x="34" y="43"/>
                </a:cubicBezTo>
                <a:close/>
                <a:moveTo>
                  <a:pt x="42" y="34"/>
                </a:moveTo>
                <a:cubicBezTo>
                  <a:pt x="44" y="31"/>
                  <a:pt x="45" y="28"/>
                  <a:pt x="45" y="24"/>
                </a:cubicBezTo>
                <a:cubicBezTo>
                  <a:pt x="45" y="21"/>
                  <a:pt x="44" y="18"/>
                  <a:pt x="42" y="15"/>
                </a:cubicBezTo>
                <a:cubicBezTo>
                  <a:pt x="37" y="20"/>
                  <a:pt x="37" y="20"/>
                  <a:pt x="37" y="20"/>
                </a:cubicBezTo>
                <a:cubicBezTo>
                  <a:pt x="37" y="21"/>
                  <a:pt x="38" y="23"/>
                  <a:pt x="38" y="24"/>
                </a:cubicBezTo>
                <a:cubicBezTo>
                  <a:pt x="38" y="26"/>
                  <a:pt x="37" y="28"/>
                  <a:pt x="37" y="29"/>
                </a:cubicBezTo>
                <a:lnTo>
                  <a:pt x="42" y="3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46" name="稻壳儿小白白(http://dwz.cn/Wu2UP)"/>
          <p:cNvSpPr/>
          <p:nvPr/>
        </p:nvSpPr>
        <p:spPr>
          <a:xfrm>
            <a:off x="2836800" y="2386080"/>
            <a:ext cx="192240" cy="290520"/>
          </a:xfrm>
          <a:custGeom>
            <a:avLst/>
            <a:gdLst/>
            <a:ahLst/>
            <a:rect l="l" t="t" r="r" b="b"/>
            <a:pathLst>
              <a:path w="28" h="42">
                <a:moveTo>
                  <a:pt x="25" y="20"/>
                </a:moveTo>
                <a:cubicBezTo>
                  <a:pt x="23" y="22"/>
                  <a:pt x="21" y="25"/>
                  <a:pt x="20" y="27"/>
                </a:cubicBezTo>
                <a:cubicBezTo>
                  <a:pt x="21" y="28"/>
                  <a:pt x="22" y="29"/>
                  <a:pt x="22" y="30"/>
                </a:cubicBezTo>
                <a:cubicBezTo>
                  <a:pt x="22" y="30"/>
                  <a:pt x="21" y="31"/>
                  <a:pt x="21" y="31"/>
                </a:cubicBezTo>
                <a:cubicBezTo>
                  <a:pt x="21" y="32"/>
                  <a:pt x="22" y="32"/>
                  <a:pt x="22" y="33"/>
                </a:cubicBezTo>
                <a:cubicBezTo>
                  <a:pt x="22" y="34"/>
                  <a:pt x="21" y="35"/>
                  <a:pt x="20" y="35"/>
                </a:cubicBezTo>
                <a:cubicBezTo>
                  <a:pt x="21" y="36"/>
                  <a:pt x="21" y="36"/>
                  <a:pt x="21" y="36"/>
                </a:cubicBezTo>
                <a:cubicBezTo>
                  <a:pt x="21" y="38"/>
                  <a:pt x="19" y="39"/>
                  <a:pt x="18" y="39"/>
                </a:cubicBezTo>
                <a:cubicBezTo>
                  <a:pt x="17" y="41"/>
                  <a:pt x="16" y="42"/>
                  <a:pt x="14" y="42"/>
                </a:cubicBezTo>
                <a:cubicBezTo>
                  <a:pt x="12" y="42"/>
                  <a:pt x="11" y="41"/>
                  <a:pt x="10" y="39"/>
                </a:cubicBezTo>
                <a:cubicBezTo>
                  <a:pt x="8" y="39"/>
                  <a:pt x="7" y="38"/>
                  <a:pt x="7" y="36"/>
                </a:cubicBezTo>
                <a:cubicBezTo>
                  <a:pt x="7" y="36"/>
                  <a:pt x="7" y="36"/>
                  <a:pt x="7" y="35"/>
                </a:cubicBezTo>
                <a:cubicBezTo>
                  <a:pt x="7" y="35"/>
                  <a:pt x="6" y="34"/>
                  <a:pt x="6" y="33"/>
                </a:cubicBezTo>
                <a:cubicBezTo>
                  <a:pt x="6" y="32"/>
                  <a:pt x="6" y="32"/>
                  <a:pt x="7" y="31"/>
                </a:cubicBezTo>
                <a:cubicBezTo>
                  <a:pt x="6" y="31"/>
                  <a:pt x="6" y="30"/>
                  <a:pt x="6" y="30"/>
                </a:cubicBezTo>
                <a:cubicBezTo>
                  <a:pt x="6" y="29"/>
                  <a:pt x="7" y="28"/>
                  <a:pt x="7" y="27"/>
                </a:cubicBezTo>
                <a:cubicBezTo>
                  <a:pt x="7" y="25"/>
                  <a:pt x="5" y="22"/>
                  <a:pt x="3" y="20"/>
                </a:cubicBezTo>
                <a:cubicBezTo>
                  <a:pt x="1" y="18"/>
                  <a:pt x="0" y="15"/>
                  <a:pt x="0" y="12"/>
                </a:cubicBezTo>
                <a:cubicBezTo>
                  <a:pt x="0" y="5"/>
                  <a:pt x="7" y="0"/>
                  <a:pt x="14" y="0"/>
                </a:cubicBezTo>
                <a:cubicBezTo>
                  <a:pt x="21" y="0"/>
                  <a:pt x="28" y="5"/>
                  <a:pt x="28" y="12"/>
                </a:cubicBezTo>
                <a:cubicBezTo>
                  <a:pt x="28" y="15"/>
                  <a:pt x="27" y="18"/>
                  <a:pt x="25" y="20"/>
                </a:cubicBezTo>
                <a:close/>
                <a:moveTo>
                  <a:pt x="14" y="4"/>
                </a:moveTo>
                <a:cubicBezTo>
                  <a:pt x="9" y="4"/>
                  <a:pt x="4" y="7"/>
                  <a:pt x="4" y="12"/>
                </a:cubicBezTo>
                <a:cubicBezTo>
                  <a:pt x="4" y="14"/>
                  <a:pt x="4" y="16"/>
                  <a:pt x="5" y="17"/>
                </a:cubicBezTo>
                <a:cubicBezTo>
                  <a:pt x="6" y="18"/>
                  <a:pt x="7" y="18"/>
                  <a:pt x="7" y="19"/>
                </a:cubicBezTo>
                <a:cubicBezTo>
                  <a:pt x="9" y="21"/>
                  <a:pt x="11" y="24"/>
                  <a:pt x="11" y="27"/>
                </a:cubicBezTo>
                <a:cubicBezTo>
                  <a:pt x="17" y="27"/>
                  <a:pt x="17" y="27"/>
                  <a:pt x="17" y="27"/>
                </a:cubicBezTo>
                <a:cubicBezTo>
                  <a:pt x="17" y="24"/>
                  <a:pt x="19" y="21"/>
                  <a:pt x="21" y="19"/>
                </a:cubicBezTo>
                <a:cubicBezTo>
                  <a:pt x="21" y="18"/>
                  <a:pt x="22" y="18"/>
                  <a:pt x="22" y="17"/>
                </a:cubicBezTo>
                <a:cubicBezTo>
                  <a:pt x="24" y="16"/>
                  <a:pt x="24" y="14"/>
                  <a:pt x="24" y="12"/>
                </a:cubicBezTo>
                <a:cubicBezTo>
                  <a:pt x="24" y="7"/>
                  <a:pt x="19" y="4"/>
                  <a:pt x="14" y="4"/>
                </a:cubicBezTo>
                <a:close/>
                <a:moveTo>
                  <a:pt x="19" y="13"/>
                </a:moveTo>
                <a:cubicBezTo>
                  <a:pt x="19" y="13"/>
                  <a:pt x="18" y="13"/>
                  <a:pt x="18" y="12"/>
                </a:cubicBezTo>
                <a:cubicBezTo>
                  <a:pt x="18" y="11"/>
                  <a:pt x="15" y="10"/>
                  <a:pt x="14" y="10"/>
                </a:cubicBezTo>
                <a:cubicBezTo>
                  <a:pt x="13" y="10"/>
                  <a:pt x="13" y="10"/>
                  <a:pt x="13" y="9"/>
                </a:cubicBezTo>
                <a:cubicBezTo>
                  <a:pt x="13" y="9"/>
                  <a:pt x="13" y="8"/>
                  <a:pt x="14" y="8"/>
                </a:cubicBezTo>
                <a:cubicBezTo>
                  <a:pt x="16" y="8"/>
                  <a:pt x="20" y="10"/>
                  <a:pt x="20" y="12"/>
                </a:cubicBezTo>
                <a:cubicBezTo>
                  <a:pt x="20" y="13"/>
                  <a:pt x="20" y="13"/>
                  <a:pt x="19" y="1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47" name="稻壳儿小白白(http://dwz.cn/Wu2UP)"/>
          <p:cNvSpPr/>
          <p:nvPr/>
        </p:nvSpPr>
        <p:spPr>
          <a:xfrm>
            <a:off x="2781360" y="2876400"/>
            <a:ext cx="303120" cy="304920"/>
          </a:xfrm>
          <a:custGeom>
            <a:avLst/>
            <a:gdLst/>
            <a:ahLst/>
            <a:rect l="l" t="t" r="r" b="b"/>
            <a:pathLst>
              <a:path w="44" h="44">
                <a:moveTo>
                  <a:pt x="42" y="38"/>
                </a:moveTo>
                <a:cubicBezTo>
                  <a:pt x="38" y="42"/>
                  <a:pt x="38" y="42"/>
                  <a:pt x="38" y="42"/>
                </a:cubicBezTo>
                <a:cubicBezTo>
                  <a:pt x="36" y="43"/>
                  <a:pt x="34" y="44"/>
                  <a:pt x="32" y="44"/>
                </a:cubicBezTo>
                <a:cubicBezTo>
                  <a:pt x="30" y="44"/>
                  <a:pt x="28" y="43"/>
                  <a:pt x="27" y="42"/>
                </a:cubicBezTo>
                <a:cubicBezTo>
                  <a:pt x="21" y="36"/>
                  <a:pt x="21" y="36"/>
                  <a:pt x="21" y="36"/>
                </a:cubicBezTo>
                <a:cubicBezTo>
                  <a:pt x="20" y="35"/>
                  <a:pt x="19" y="33"/>
                  <a:pt x="19" y="31"/>
                </a:cubicBezTo>
                <a:cubicBezTo>
                  <a:pt x="19" y="28"/>
                  <a:pt x="20" y="26"/>
                  <a:pt x="21" y="25"/>
                </a:cubicBezTo>
                <a:cubicBezTo>
                  <a:pt x="19" y="23"/>
                  <a:pt x="19" y="23"/>
                  <a:pt x="19" y="23"/>
                </a:cubicBezTo>
                <a:cubicBezTo>
                  <a:pt x="17" y="24"/>
                  <a:pt x="15" y="25"/>
                  <a:pt x="13" y="25"/>
                </a:cubicBezTo>
                <a:cubicBezTo>
                  <a:pt x="11" y="25"/>
                  <a:pt x="9" y="24"/>
                  <a:pt x="8" y="23"/>
                </a:cubicBezTo>
                <a:cubicBezTo>
                  <a:pt x="2" y="17"/>
                  <a:pt x="2" y="17"/>
                  <a:pt x="2" y="17"/>
                </a:cubicBezTo>
                <a:cubicBezTo>
                  <a:pt x="1" y="16"/>
                  <a:pt x="0" y="14"/>
                  <a:pt x="0" y="12"/>
                </a:cubicBezTo>
                <a:cubicBezTo>
                  <a:pt x="0" y="10"/>
                  <a:pt x="1" y="8"/>
                  <a:pt x="2" y="6"/>
                </a:cubicBezTo>
                <a:cubicBezTo>
                  <a:pt x="6" y="2"/>
                  <a:pt x="6" y="2"/>
                  <a:pt x="6" y="2"/>
                </a:cubicBezTo>
                <a:cubicBezTo>
                  <a:pt x="8" y="1"/>
                  <a:pt x="10" y="0"/>
                  <a:pt x="12" y="0"/>
                </a:cubicBezTo>
                <a:cubicBezTo>
                  <a:pt x="14" y="0"/>
                  <a:pt x="16" y="1"/>
                  <a:pt x="17" y="2"/>
                </a:cubicBezTo>
                <a:cubicBezTo>
                  <a:pt x="23" y="8"/>
                  <a:pt x="23" y="8"/>
                  <a:pt x="23" y="8"/>
                </a:cubicBezTo>
                <a:cubicBezTo>
                  <a:pt x="24" y="9"/>
                  <a:pt x="25" y="11"/>
                  <a:pt x="25" y="13"/>
                </a:cubicBezTo>
                <a:cubicBezTo>
                  <a:pt x="25" y="15"/>
                  <a:pt x="24" y="17"/>
                  <a:pt x="23" y="19"/>
                </a:cubicBezTo>
                <a:cubicBezTo>
                  <a:pt x="25" y="21"/>
                  <a:pt x="25" y="21"/>
                  <a:pt x="25" y="21"/>
                </a:cubicBezTo>
                <a:cubicBezTo>
                  <a:pt x="26" y="20"/>
                  <a:pt x="28" y="19"/>
                  <a:pt x="31" y="19"/>
                </a:cubicBezTo>
                <a:cubicBezTo>
                  <a:pt x="33" y="19"/>
                  <a:pt x="35" y="20"/>
                  <a:pt x="36" y="21"/>
                </a:cubicBezTo>
                <a:cubicBezTo>
                  <a:pt x="42" y="27"/>
                  <a:pt x="42" y="27"/>
                  <a:pt x="42" y="27"/>
                </a:cubicBezTo>
                <a:cubicBezTo>
                  <a:pt x="43" y="28"/>
                  <a:pt x="44" y="30"/>
                  <a:pt x="44" y="32"/>
                </a:cubicBezTo>
                <a:cubicBezTo>
                  <a:pt x="44" y="34"/>
                  <a:pt x="43" y="36"/>
                  <a:pt x="42" y="38"/>
                </a:cubicBezTo>
                <a:close/>
                <a:moveTo>
                  <a:pt x="19" y="12"/>
                </a:moveTo>
                <a:cubicBezTo>
                  <a:pt x="14" y="6"/>
                  <a:pt x="14" y="6"/>
                  <a:pt x="14" y="6"/>
                </a:cubicBezTo>
                <a:cubicBezTo>
                  <a:pt x="13" y="5"/>
                  <a:pt x="12" y="5"/>
                  <a:pt x="12" y="5"/>
                </a:cubicBezTo>
                <a:cubicBezTo>
                  <a:pt x="11" y="5"/>
                  <a:pt x="10" y="5"/>
                  <a:pt x="10" y="6"/>
                </a:cubicBezTo>
                <a:cubicBezTo>
                  <a:pt x="6" y="10"/>
                  <a:pt x="6" y="10"/>
                  <a:pt x="6" y="10"/>
                </a:cubicBezTo>
                <a:cubicBezTo>
                  <a:pt x="5" y="10"/>
                  <a:pt x="5" y="11"/>
                  <a:pt x="5" y="12"/>
                </a:cubicBezTo>
                <a:cubicBezTo>
                  <a:pt x="5" y="12"/>
                  <a:pt x="5" y="13"/>
                  <a:pt x="6" y="13"/>
                </a:cubicBezTo>
                <a:cubicBezTo>
                  <a:pt x="12" y="19"/>
                  <a:pt x="12" y="19"/>
                  <a:pt x="12" y="19"/>
                </a:cubicBezTo>
                <a:cubicBezTo>
                  <a:pt x="12" y="20"/>
                  <a:pt x="13" y="20"/>
                  <a:pt x="13" y="20"/>
                </a:cubicBezTo>
                <a:cubicBezTo>
                  <a:pt x="14" y="20"/>
                  <a:pt x="15" y="20"/>
                  <a:pt x="15" y="19"/>
                </a:cubicBezTo>
                <a:cubicBezTo>
                  <a:pt x="14" y="18"/>
                  <a:pt x="13" y="17"/>
                  <a:pt x="13" y="16"/>
                </a:cubicBezTo>
                <a:cubicBezTo>
                  <a:pt x="13" y="15"/>
                  <a:pt x="15" y="13"/>
                  <a:pt x="16" y="13"/>
                </a:cubicBezTo>
                <a:cubicBezTo>
                  <a:pt x="17" y="13"/>
                  <a:pt x="18" y="14"/>
                  <a:pt x="19" y="15"/>
                </a:cubicBezTo>
                <a:cubicBezTo>
                  <a:pt x="20" y="15"/>
                  <a:pt x="20" y="14"/>
                  <a:pt x="20" y="13"/>
                </a:cubicBezTo>
                <a:cubicBezTo>
                  <a:pt x="20" y="13"/>
                  <a:pt x="20" y="12"/>
                  <a:pt x="19" y="12"/>
                </a:cubicBezTo>
                <a:close/>
                <a:moveTo>
                  <a:pt x="38" y="30"/>
                </a:moveTo>
                <a:cubicBezTo>
                  <a:pt x="32" y="25"/>
                  <a:pt x="32" y="25"/>
                  <a:pt x="32" y="25"/>
                </a:cubicBezTo>
                <a:cubicBezTo>
                  <a:pt x="32" y="24"/>
                  <a:pt x="31" y="24"/>
                  <a:pt x="31" y="24"/>
                </a:cubicBezTo>
                <a:cubicBezTo>
                  <a:pt x="30" y="24"/>
                  <a:pt x="29" y="24"/>
                  <a:pt x="29" y="25"/>
                </a:cubicBezTo>
                <a:cubicBezTo>
                  <a:pt x="29" y="26"/>
                  <a:pt x="31" y="27"/>
                  <a:pt x="31" y="28"/>
                </a:cubicBezTo>
                <a:cubicBezTo>
                  <a:pt x="31" y="29"/>
                  <a:pt x="29" y="31"/>
                  <a:pt x="28" y="31"/>
                </a:cubicBezTo>
                <a:cubicBezTo>
                  <a:pt x="27" y="31"/>
                  <a:pt x="26" y="29"/>
                  <a:pt x="25" y="29"/>
                </a:cubicBezTo>
                <a:cubicBezTo>
                  <a:pt x="24" y="29"/>
                  <a:pt x="24" y="30"/>
                  <a:pt x="24" y="31"/>
                </a:cubicBezTo>
                <a:cubicBezTo>
                  <a:pt x="24" y="31"/>
                  <a:pt x="24" y="32"/>
                  <a:pt x="25" y="32"/>
                </a:cubicBezTo>
                <a:cubicBezTo>
                  <a:pt x="30" y="38"/>
                  <a:pt x="30" y="38"/>
                  <a:pt x="30" y="38"/>
                </a:cubicBezTo>
                <a:cubicBezTo>
                  <a:pt x="31" y="38"/>
                  <a:pt x="31" y="39"/>
                  <a:pt x="32" y="39"/>
                </a:cubicBezTo>
                <a:cubicBezTo>
                  <a:pt x="33" y="39"/>
                  <a:pt x="33" y="38"/>
                  <a:pt x="34" y="38"/>
                </a:cubicBezTo>
                <a:cubicBezTo>
                  <a:pt x="38" y="34"/>
                  <a:pt x="38" y="34"/>
                  <a:pt x="38" y="34"/>
                </a:cubicBezTo>
                <a:cubicBezTo>
                  <a:pt x="38" y="34"/>
                  <a:pt x="39" y="33"/>
                  <a:pt x="39" y="32"/>
                </a:cubicBezTo>
                <a:cubicBezTo>
                  <a:pt x="39" y="32"/>
                  <a:pt x="38" y="31"/>
                  <a:pt x="38" y="3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48" name="稻壳儿小白白(http://dwz.cn/Wu2UP)"/>
          <p:cNvSpPr/>
          <p:nvPr/>
        </p:nvSpPr>
        <p:spPr>
          <a:xfrm>
            <a:off x="2789280" y="3408480"/>
            <a:ext cx="290520" cy="277560"/>
          </a:xfrm>
          <a:custGeom>
            <a:avLst/>
            <a:gdLst/>
            <a:ahLst/>
            <a:rect l="l" t="t" r="r" b="b"/>
            <a:pathLst>
              <a:path w="42" h="40">
                <a:moveTo>
                  <a:pt x="5" y="9"/>
                </a:moveTo>
                <a:cubicBezTo>
                  <a:pt x="5" y="9"/>
                  <a:pt x="5" y="9"/>
                  <a:pt x="5" y="9"/>
                </a:cubicBezTo>
                <a:cubicBezTo>
                  <a:pt x="2" y="9"/>
                  <a:pt x="0" y="7"/>
                  <a:pt x="0" y="5"/>
                </a:cubicBezTo>
                <a:cubicBezTo>
                  <a:pt x="0" y="2"/>
                  <a:pt x="2" y="0"/>
                  <a:pt x="5" y="0"/>
                </a:cubicBezTo>
                <a:cubicBezTo>
                  <a:pt x="8" y="0"/>
                  <a:pt x="10" y="2"/>
                  <a:pt x="10" y="5"/>
                </a:cubicBezTo>
                <a:cubicBezTo>
                  <a:pt x="10" y="7"/>
                  <a:pt x="8" y="9"/>
                  <a:pt x="5" y="9"/>
                </a:cubicBezTo>
                <a:close/>
                <a:moveTo>
                  <a:pt x="10" y="40"/>
                </a:moveTo>
                <a:cubicBezTo>
                  <a:pt x="1" y="40"/>
                  <a:pt x="1" y="40"/>
                  <a:pt x="1" y="40"/>
                </a:cubicBezTo>
                <a:cubicBezTo>
                  <a:pt x="1" y="13"/>
                  <a:pt x="1" y="13"/>
                  <a:pt x="1" y="13"/>
                </a:cubicBezTo>
                <a:cubicBezTo>
                  <a:pt x="10" y="13"/>
                  <a:pt x="10" y="13"/>
                  <a:pt x="10" y="13"/>
                </a:cubicBezTo>
                <a:lnTo>
                  <a:pt x="10" y="40"/>
                </a:lnTo>
                <a:close/>
                <a:moveTo>
                  <a:pt x="42" y="40"/>
                </a:moveTo>
                <a:cubicBezTo>
                  <a:pt x="33" y="40"/>
                  <a:pt x="33" y="40"/>
                  <a:pt x="33" y="40"/>
                </a:cubicBezTo>
                <a:cubicBezTo>
                  <a:pt x="33" y="25"/>
                  <a:pt x="33" y="25"/>
                  <a:pt x="33" y="25"/>
                </a:cubicBezTo>
                <a:cubicBezTo>
                  <a:pt x="33" y="22"/>
                  <a:pt x="31" y="19"/>
                  <a:pt x="28" y="19"/>
                </a:cubicBezTo>
                <a:cubicBezTo>
                  <a:pt x="26" y="19"/>
                  <a:pt x="24" y="21"/>
                  <a:pt x="24" y="23"/>
                </a:cubicBezTo>
                <a:cubicBezTo>
                  <a:pt x="23" y="23"/>
                  <a:pt x="23" y="24"/>
                  <a:pt x="23" y="25"/>
                </a:cubicBezTo>
                <a:cubicBezTo>
                  <a:pt x="23" y="40"/>
                  <a:pt x="23" y="40"/>
                  <a:pt x="23" y="40"/>
                </a:cubicBezTo>
                <a:cubicBezTo>
                  <a:pt x="15" y="40"/>
                  <a:pt x="15" y="40"/>
                  <a:pt x="15" y="40"/>
                </a:cubicBezTo>
                <a:cubicBezTo>
                  <a:pt x="15" y="15"/>
                  <a:pt x="15" y="13"/>
                  <a:pt x="15" y="13"/>
                </a:cubicBezTo>
                <a:cubicBezTo>
                  <a:pt x="23" y="13"/>
                  <a:pt x="23" y="13"/>
                  <a:pt x="23" y="13"/>
                </a:cubicBezTo>
                <a:cubicBezTo>
                  <a:pt x="23" y="17"/>
                  <a:pt x="23" y="17"/>
                  <a:pt x="23" y="17"/>
                </a:cubicBezTo>
                <a:cubicBezTo>
                  <a:pt x="23" y="17"/>
                  <a:pt x="23" y="17"/>
                  <a:pt x="23" y="17"/>
                </a:cubicBezTo>
                <a:cubicBezTo>
                  <a:pt x="25" y="15"/>
                  <a:pt x="27" y="12"/>
                  <a:pt x="31" y="12"/>
                </a:cubicBezTo>
                <a:cubicBezTo>
                  <a:pt x="37" y="12"/>
                  <a:pt x="42" y="16"/>
                  <a:pt x="42" y="24"/>
                </a:cubicBezTo>
                <a:lnTo>
                  <a:pt x="42" y="4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49" name="稻壳儿小白白(http://dwz.cn/Wu2UP)"/>
          <p:cNvSpPr/>
          <p:nvPr/>
        </p:nvSpPr>
        <p:spPr>
          <a:xfrm>
            <a:off x="2789280" y="3913200"/>
            <a:ext cx="290520" cy="282600"/>
          </a:xfrm>
          <a:custGeom>
            <a:avLst/>
            <a:gdLst/>
            <a:ahLst/>
            <a:rect l="l" t="t" r="r" b="b"/>
            <a:pathLst>
              <a:path w="42" h="41">
                <a:moveTo>
                  <a:pt x="42" y="34"/>
                </a:moveTo>
                <a:cubicBezTo>
                  <a:pt x="42" y="38"/>
                  <a:pt x="38" y="41"/>
                  <a:pt x="34" y="41"/>
                </a:cubicBezTo>
                <a:cubicBezTo>
                  <a:pt x="8" y="41"/>
                  <a:pt x="8" y="41"/>
                  <a:pt x="8" y="41"/>
                </a:cubicBezTo>
                <a:cubicBezTo>
                  <a:pt x="4" y="41"/>
                  <a:pt x="0" y="38"/>
                  <a:pt x="0" y="34"/>
                </a:cubicBezTo>
                <a:cubicBezTo>
                  <a:pt x="0" y="8"/>
                  <a:pt x="0" y="8"/>
                  <a:pt x="0" y="8"/>
                </a:cubicBezTo>
                <a:cubicBezTo>
                  <a:pt x="0" y="4"/>
                  <a:pt x="4" y="0"/>
                  <a:pt x="8" y="0"/>
                </a:cubicBezTo>
                <a:cubicBezTo>
                  <a:pt x="34" y="0"/>
                  <a:pt x="34" y="0"/>
                  <a:pt x="34" y="0"/>
                </a:cubicBezTo>
                <a:cubicBezTo>
                  <a:pt x="38" y="0"/>
                  <a:pt x="42" y="4"/>
                  <a:pt x="42" y="8"/>
                </a:cubicBezTo>
                <a:lnTo>
                  <a:pt x="42" y="34"/>
                </a:lnTo>
                <a:close/>
                <a:moveTo>
                  <a:pt x="10" y="7"/>
                </a:moveTo>
                <a:cubicBezTo>
                  <a:pt x="8" y="7"/>
                  <a:pt x="6" y="9"/>
                  <a:pt x="6" y="10"/>
                </a:cubicBezTo>
                <a:cubicBezTo>
                  <a:pt x="6" y="12"/>
                  <a:pt x="8" y="14"/>
                  <a:pt x="10" y="14"/>
                </a:cubicBezTo>
                <a:cubicBezTo>
                  <a:pt x="10" y="14"/>
                  <a:pt x="10" y="14"/>
                  <a:pt x="10" y="14"/>
                </a:cubicBezTo>
                <a:cubicBezTo>
                  <a:pt x="12" y="14"/>
                  <a:pt x="13" y="12"/>
                  <a:pt x="13" y="10"/>
                </a:cubicBezTo>
                <a:cubicBezTo>
                  <a:pt x="13" y="9"/>
                  <a:pt x="12" y="7"/>
                  <a:pt x="10" y="7"/>
                </a:cubicBezTo>
                <a:close/>
                <a:moveTo>
                  <a:pt x="13" y="35"/>
                </a:moveTo>
                <a:cubicBezTo>
                  <a:pt x="13" y="16"/>
                  <a:pt x="13" y="16"/>
                  <a:pt x="13" y="16"/>
                </a:cubicBezTo>
                <a:cubicBezTo>
                  <a:pt x="7" y="16"/>
                  <a:pt x="7" y="16"/>
                  <a:pt x="7" y="16"/>
                </a:cubicBezTo>
                <a:cubicBezTo>
                  <a:pt x="7" y="35"/>
                  <a:pt x="7" y="35"/>
                  <a:pt x="7" y="35"/>
                </a:cubicBezTo>
                <a:lnTo>
                  <a:pt x="13" y="35"/>
                </a:lnTo>
                <a:close/>
                <a:moveTo>
                  <a:pt x="35" y="35"/>
                </a:moveTo>
                <a:cubicBezTo>
                  <a:pt x="35" y="24"/>
                  <a:pt x="35" y="24"/>
                  <a:pt x="35" y="24"/>
                </a:cubicBezTo>
                <a:cubicBezTo>
                  <a:pt x="35" y="18"/>
                  <a:pt x="32" y="16"/>
                  <a:pt x="28" y="16"/>
                </a:cubicBezTo>
                <a:cubicBezTo>
                  <a:pt x="25" y="16"/>
                  <a:pt x="23" y="18"/>
                  <a:pt x="22" y="19"/>
                </a:cubicBezTo>
                <a:cubicBezTo>
                  <a:pt x="23" y="19"/>
                  <a:pt x="23" y="19"/>
                  <a:pt x="23" y="19"/>
                </a:cubicBezTo>
                <a:cubicBezTo>
                  <a:pt x="23" y="16"/>
                  <a:pt x="23" y="16"/>
                  <a:pt x="23" y="16"/>
                </a:cubicBezTo>
                <a:cubicBezTo>
                  <a:pt x="16" y="16"/>
                  <a:pt x="16" y="16"/>
                  <a:pt x="16" y="16"/>
                </a:cubicBezTo>
                <a:cubicBezTo>
                  <a:pt x="16" y="16"/>
                  <a:pt x="16" y="18"/>
                  <a:pt x="16" y="35"/>
                </a:cubicBezTo>
                <a:cubicBezTo>
                  <a:pt x="23" y="35"/>
                  <a:pt x="23" y="35"/>
                  <a:pt x="23" y="35"/>
                </a:cubicBezTo>
                <a:cubicBezTo>
                  <a:pt x="23" y="24"/>
                  <a:pt x="23" y="24"/>
                  <a:pt x="23" y="24"/>
                </a:cubicBezTo>
                <a:cubicBezTo>
                  <a:pt x="23" y="24"/>
                  <a:pt x="23" y="23"/>
                  <a:pt x="23" y="23"/>
                </a:cubicBezTo>
                <a:cubicBezTo>
                  <a:pt x="23" y="22"/>
                  <a:pt x="24" y="21"/>
                  <a:pt x="26" y="21"/>
                </a:cubicBezTo>
                <a:cubicBezTo>
                  <a:pt x="28" y="21"/>
                  <a:pt x="29" y="22"/>
                  <a:pt x="29" y="25"/>
                </a:cubicBezTo>
                <a:cubicBezTo>
                  <a:pt x="29" y="35"/>
                  <a:pt x="29" y="35"/>
                  <a:pt x="29" y="35"/>
                </a:cubicBezTo>
                <a:lnTo>
                  <a:pt x="35" y="35"/>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50" name="稻壳儿小白白(http://dwz.cn/Wu2UP)"/>
          <p:cNvSpPr/>
          <p:nvPr/>
        </p:nvSpPr>
        <p:spPr>
          <a:xfrm>
            <a:off x="2789280" y="4397400"/>
            <a:ext cx="295200" cy="338040"/>
          </a:xfrm>
          <a:custGeom>
            <a:avLst/>
            <a:gdLst/>
            <a:ahLst/>
            <a:rect l="l" t="t" r="r" b="b"/>
            <a:pathLst>
              <a:path w="43" h="49">
                <a:moveTo>
                  <a:pt x="37" y="45"/>
                </a:moveTo>
                <a:cubicBezTo>
                  <a:pt x="35" y="45"/>
                  <a:pt x="33" y="47"/>
                  <a:pt x="33" y="48"/>
                </a:cubicBezTo>
                <a:cubicBezTo>
                  <a:pt x="32" y="48"/>
                  <a:pt x="30" y="49"/>
                  <a:pt x="28" y="48"/>
                </a:cubicBezTo>
                <a:cubicBezTo>
                  <a:pt x="27" y="47"/>
                  <a:pt x="28" y="46"/>
                  <a:pt x="25" y="46"/>
                </a:cubicBezTo>
                <a:cubicBezTo>
                  <a:pt x="24" y="46"/>
                  <a:pt x="23" y="46"/>
                  <a:pt x="22" y="46"/>
                </a:cubicBezTo>
                <a:cubicBezTo>
                  <a:pt x="21" y="46"/>
                  <a:pt x="20" y="46"/>
                  <a:pt x="19" y="46"/>
                </a:cubicBezTo>
                <a:cubicBezTo>
                  <a:pt x="15" y="46"/>
                  <a:pt x="15" y="48"/>
                  <a:pt x="13" y="48"/>
                </a:cubicBezTo>
                <a:cubicBezTo>
                  <a:pt x="11" y="48"/>
                  <a:pt x="9" y="47"/>
                  <a:pt x="6" y="46"/>
                </a:cubicBezTo>
                <a:cubicBezTo>
                  <a:pt x="3" y="46"/>
                  <a:pt x="1" y="46"/>
                  <a:pt x="1" y="45"/>
                </a:cubicBezTo>
                <a:cubicBezTo>
                  <a:pt x="0" y="44"/>
                  <a:pt x="1" y="42"/>
                  <a:pt x="1" y="41"/>
                </a:cubicBezTo>
                <a:cubicBezTo>
                  <a:pt x="1" y="40"/>
                  <a:pt x="0" y="38"/>
                  <a:pt x="1" y="38"/>
                </a:cubicBezTo>
                <a:cubicBezTo>
                  <a:pt x="2" y="37"/>
                  <a:pt x="3" y="37"/>
                  <a:pt x="4" y="37"/>
                </a:cubicBezTo>
                <a:cubicBezTo>
                  <a:pt x="5" y="36"/>
                  <a:pt x="6" y="36"/>
                  <a:pt x="6" y="35"/>
                </a:cubicBezTo>
                <a:cubicBezTo>
                  <a:pt x="6" y="36"/>
                  <a:pt x="6" y="37"/>
                  <a:pt x="5" y="37"/>
                </a:cubicBezTo>
                <a:cubicBezTo>
                  <a:pt x="4" y="38"/>
                  <a:pt x="3" y="38"/>
                  <a:pt x="3" y="38"/>
                </a:cubicBezTo>
                <a:cubicBezTo>
                  <a:pt x="2" y="38"/>
                  <a:pt x="2" y="38"/>
                  <a:pt x="1" y="38"/>
                </a:cubicBezTo>
                <a:cubicBezTo>
                  <a:pt x="1" y="38"/>
                  <a:pt x="1" y="39"/>
                  <a:pt x="2" y="40"/>
                </a:cubicBezTo>
                <a:cubicBezTo>
                  <a:pt x="2" y="40"/>
                  <a:pt x="2" y="41"/>
                  <a:pt x="2" y="42"/>
                </a:cubicBezTo>
                <a:cubicBezTo>
                  <a:pt x="2" y="42"/>
                  <a:pt x="1" y="43"/>
                  <a:pt x="1" y="44"/>
                </a:cubicBezTo>
                <a:cubicBezTo>
                  <a:pt x="1" y="44"/>
                  <a:pt x="2" y="45"/>
                  <a:pt x="2" y="45"/>
                </a:cubicBezTo>
                <a:cubicBezTo>
                  <a:pt x="3" y="45"/>
                  <a:pt x="5" y="45"/>
                  <a:pt x="7" y="46"/>
                </a:cubicBezTo>
                <a:cubicBezTo>
                  <a:pt x="9" y="46"/>
                  <a:pt x="12" y="47"/>
                  <a:pt x="13" y="47"/>
                </a:cubicBezTo>
                <a:cubicBezTo>
                  <a:pt x="17" y="47"/>
                  <a:pt x="15" y="42"/>
                  <a:pt x="14" y="41"/>
                </a:cubicBezTo>
                <a:cubicBezTo>
                  <a:pt x="11" y="36"/>
                  <a:pt x="8" y="32"/>
                  <a:pt x="7" y="34"/>
                </a:cubicBezTo>
                <a:cubicBezTo>
                  <a:pt x="6" y="34"/>
                  <a:pt x="6" y="33"/>
                  <a:pt x="6" y="32"/>
                </a:cubicBezTo>
                <a:cubicBezTo>
                  <a:pt x="6" y="31"/>
                  <a:pt x="7" y="30"/>
                  <a:pt x="8" y="29"/>
                </a:cubicBezTo>
                <a:cubicBezTo>
                  <a:pt x="9" y="26"/>
                  <a:pt x="9" y="23"/>
                  <a:pt x="11" y="21"/>
                </a:cubicBezTo>
                <a:cubicBezTo>
                  <a:pt x="12" y="20"/>
                  <a:pt x="14" y="17"/>
                  <a:pt x="14" y="16"/>
                </a:cubicBezTo>
                <a:cubicBezTo>
                  <a:pt x="14" y="13"/>
                  <a:pt x="14" y="10"/>
                  <a:pt x="14" y="8"/>
                </a:cubicBezTo>
                <a:cubicBezTo>
                  <a:pt x="14" y="5"/>
                  <a:pt x="14" y="3"/>
                  <a:pt x="17" y="1"/>
                </a:cubicBezTo>
                <a:cubicBezTo>
                  <a:pt x="18" y="1"/>
                  <a:pt x="19" y="0"/>
                  <a:pt x="20" y="0"/>
                </a:cubicBezTo>
                <a:cubicBezTo>
                  <a:pt x="22" y="0"/>
                  <a:pt x="24" y="1"/>
                  <a:pt x="25" y="2"/>
                </a:cubicBezTo>
                <a:cubicBezTo>
                  <a:pt x="27" y="3"/>
                  <a:pt x="29" y="7"/>
                  <a:pt x="29" y="9"/>
                </a:cubicBezTo>
                <a:cubicBezTo>
                  <a:pt x="28" y="11"/>
                  <a:pt x="29" y="13"/>
                  <a:pt x="29" y="15"/>
                </a:cubicBezTo>
                <a:cubicBezTo>
                  <a:pt x="30" y="17"/>
                  <a:pt x="31" y="19"/>
                  <a:pt x="33" y="21"/>
                </a:cubicBezTo>
                <a:cubicBezTo>
                  <a:pt x="35" y="23"/>
                  <a:pt x="37" y="27"/>
                  <a:pt x="37" y="30"/>
                </a:cubicBezTo>
                <a:cubicBezTo>
                  <a:pt x="38" y="33"/>
                  <a:pt x="37" y="34"/>
                  <a:pt x="36" y="35"/>
                </a:cubicBezTo>
                <a:cubicBezTo>
                  <a:pt x="36" y="35"/>
                  <a:pt x="35" y="37"/>
                  <a:pt x="32" y="37"/>
                </a:cubicBezTo>
                <a:cubicBezTo>
                  <a:pt x="31" y="37"/>
                  <a:pt x="30" y="36"/>
                  <a:pt x="30" y="35"/>
                </a:cubicBezTo>
                <a:cubicBezTo>
                  <a:pt x="29" y="34"/>
                  <a:pt x="28" y="34"/>
                  <a:pt x="28" y="36"/>
                </a:cubicBezTo>
                <a:cubicBezTo>
                  <a:pt x="28" y="37"/>
                  <a:pt x="28" y="38"/>
                  <a:pt x="28" y="38"/>
                </a:cubicBezTo>
                <a:cubicBezTo>
                  <a:pt x="29" y="40"/>
                  <a:pt x="29" y="42"/>
                  <a:pt x="28" y="44"/>
                </a:cubicBezTo>
                <a:cubicBezTo>
                  <a:pt x="28" y="47"/>
                  <a:pt x="31" y="48"/>
                  <a:pt x="33" y="46"/>
                </a:cubicBezTo>
                <a:cubicBezTo>
                  <a:pt x="35" y="44"/>
                  <a:pt x="36" y="44"/>
                  <a:pt x="38" y="43"/>
                </a:cubicBezTo>
                <a:cubicBezTo>
                  <a:pt x="42" y="42"/>
                  <a:pt x="41" y="41"/>
                  <a:pt x="39" y="40"/>
                </a:cubicBezTo>
                <a:cubicBezTo>
                  <a:pt x="37" y="39"/>
                  <a:pt x="37" y="36"/>
                  <a:pt x="37" y="36"/>
                </a:cubicBezTo>
                <a:cubicBezTo>
                  <a:pt x="38" y="39"/>
                  <a:pt x="39" y="40"/>
                  <a:pt x="40" y="40"/>
                </a:cubicBezTo>
                <a:cubicBezTo>
                  <a:pt x="43" y="42"/>
                  <a:pt x="39" y="44"/>
                  <a:pt x="37" y="45"/>
                </a:cubicBezTo>
                <a:close/>
                <a:moveTo>
                  <a:pt x="32" y="32"/>
                </a:moveTo>
                <a:cubicBezTo>
                  <a:pt x="33" y="29"/>
                  <a:pt x="33" y="28"/>
                  <a:pt x="32" y="26"/>
                </a:cubicBezTo>
                <a:cubicBezTo>
                  <a:pt x="32" y="24"/>
                  <a:pt x="30" y="22"/>
                  <a:pt x="29" y="21"/>
                </a:cubicBezTo>
                <a:cubicBezTo>
                  <a:pt x="30" y="22"/>
                  <a:pt x="30" y="22"/>
                  <a:pt x="31" y="24"/>
                </a:cubicBezTo>
                <a:cubicBezTo>
                  <a:pt x="32" y="26"/>
                  <a:pt x="33" y="29"/>
                  <a:pt x="32" y="31"/>
                </a:cubicBezTo>
                <a:cubicBezTo>
                  <a:pt x="32" y="32"/>
                  <a:pt x="31" y="32"/>
                  <a:pt x="31" y="32"/>
                </a:cubicBezTo>
                <a:cubicBezTo>
                  <a:pt x="29" y="32"/>
                  <a:pt x="30" y="30"/>
                  <a:pt x="29" y="27"/>
                </a:cubicBezTo>
                <a:cubicBezTo>
                  <a:pt x="28" y="23"/>
                  <a:pt x="28" y="23"/>
                  <a:pt x="27" y="22"/>
                </a:cubicBezTo>
                <a:cubicBezTo>
                  <a:pt x="26" y="17"/>
                  <a:pt x="25" y="18"/>
                  <a:pt x="25" y="16"/>
                </a:cubicBezTo>
                <a:cubicBezTo>
                  <a:pt x="24" y="14"/>
                  <a:pt x="26" y="13"/>
                  <a:pt x="24" y="13"/>
                </a:cubicBezTo>
                <a:cubicBezTo>
                  <a:pt x="23" y="12"/>
                  <a:pt x="22" y="12"/>
                  <a:pt x="22" y="12"/>
                </a:cubicBezTo>
                <a:cubicBezTo>
                  <a:pt x="21" y="12"/>
                  <a:pt x="21" y="9"/>
                  <a:pt x="22" y="9"/>
                </a:cubicBezTo>
                <a:cubicBezTo>
                  <a:pt x="24" y="9"/>
                  <a:pt x="24" y="11"/>
                  <a:pt x="24" y="11"/>
                </a:cubicBezTo>
                <a:cubicBezTo>
                  <a:pt x="24" y="12"/>
                  <a:pt x="24" y="12"/>
                  <a:pt x="25" y="12"/>
                </a:cubicBezTo>
                <a:cubicBezTo>
                  <a:pt x="25" y="12"/>
                  <a:pt x="25" y="10"/>
                  <a:pt x="25" y="10"/>
                </a:cubicBezTo>
                <a:cubicBezTo>
                  <a:pt x="25" y="8"/>
                  <a:pt x="24" y="7"/>
                  <a:pt x="23" y="7"/>
                </a:cubicBezTo>
                <a:cubicBezTo>
                  <a:pt x="19" y="8"/>
                  <a:pt x="21" y="12"/>
                  <a:pt x="20" y="11"/>
                </a:cubicBezTo>
                <a:cubicBezTo>
                  <a:pt x="20" y="11"/>
                  <a:pt x="18" y="11"/>
                  <a:pt x="18" y="11"/>
                </a:cubicBezTo>
                <a:cubicBezTo>
                  <a:pt x="18" y="9"/>
                  <a:pt x="18" y="8"/>
                  <a:pt x="17" y="8"/>
                </a:cubicBezTo>
                <a:cubicBezTo>
                  <a:pt x="16" y="7"/>
                  <a:pt x="15" y="9"/>
                  <a:pt x="15" y="10"/>
                </a:cubicBezTo>
                <a:cubicBezTo>
                  <a:pt x="15" y="11"/>
                  <a:pt x="16" y="12"/>
                  <a:pt x="16" y="12"/>
                </a:cubicBezTo>
                <a:cubicBezTo>
                  <a:pt x="16" y="12"/>
                  <a:pt x="17" y="12"/>
                  <a:pt x="16" y="12"/>
                </a:cubicBezTo>
                <a:cubicBezTo>
                  <a:pt x="16" y="12"/>
                  <a:pt x="16" y="11"/>
                  <a:pt x="16" y="10"/>
                </a:cubicBezTo>
                <a:cubicBezTo>
                  <a:pt x="15" y="10"/>
                  <a:pt x="16" y="9"/>
                  <a:pt x="17" y="9"/>
                </a:cubicBezTo>
                <a:cubicBezTo>
                  <a:pt x="18" y="9"/>
                  <a:pt x="18" y="11"/>
                  <a:pt x="18" y="11"/>
                </a:cubicBezTo>
                <a:cubicBezTo>
                  <a:pt x="17" y="11"/>
                  <a:pt x="17" y="12"/>
                  <a:pt x="17" y="12"/>
                </a:cubicBezTo>
                <a:cubicBezTo>
                  <a:pt x="16" y="13"/>
                  <a:pt x="16" y="13"/>
                  <a:pt x="15" y="13"/>
                </a:cubicBezTo>
                <a:cubicBezTo>
                  <a:pt x="15" y="13"/>
                  <a:pt x="15" y="14"/>
                  <a:pt x="15" y="14"/>
                </a:cubicBezTo>
                <a:cubicBezTo>
                  <a:pt x="17" y="15"/>
                  <a:pt x="16" y="16"/>
                  <a:pt x="18" y="16"/>
                </a:cubicBezTo>
                <a:cubicBezTo>
                  <a:pt x="19" y="16"/>
                  <a:pt x="20" y="16"/>
                  <a:pt x="21" y="15"/>
                </a:cubicBezTo>
                <a:cubicBezTo>
                  <a:pt x="21" y="15"/>
                  <a:pt x="23" y="15"/>
                  <a:pt x="23" y="14"/>
                </a:cubicBezTo>
                <a:cubicBezTo>
                  <a:pt x="24" y="14"/>
                  <a:pt x="24" y="14"/>
                  <a:pt x="24" y="14"/>
                </a:cubicBezTo>
                <a:cubicBezTo>
                  <a:pt x="24" y="14"/>
                  <a:pt x="24" y="14"/>
                  <a:pt x="24" y="15"/>
                </a:cubicBezTo>
                <a:cubicBezTo>
                  <a:pt x="23" y="15"/>
                  <a:pt x="22" y="15"/>
                  <a:pt x="21" y="16"/>
                </a:cubicBezTo>
                <a:cubicBezTo>
                  <a:pt x="20" y="16"/>
                  <a:pt x="20" y="16"/>
                  <a:pt x="19" y="16"/>
                </a:cubicBezTo>
                <a:cubicBezTo>
                  <a:pt x="17" y="17"/>
                  <a:pt x="16" y="16"/>
                  <a:pt x="17" y="17"/>
                </a:cubicBezTo>
                <a:cubicBezTo>
                  <a:pt x="18" y="17"/>
                  <a:pt x="18" y="17"/>
                  <a:pt x="19" y="17"/>
                </a:cubicBezTo>
                <a:cubicBezTo>
                  <a:pt x="21" y="17"/>
                  <a:pt x="24" y="15"/>
                  <a:pt x="24" y="16"/>
                </a:cubicBezTo>
                <a:cubicBezTo>
                  <a:pt x="24" y="16"/>
                  <a:pt x="23" y="16"/>
                  <a:pt x="23" y="17"/>
                </a:cubicBezTo>
                <a:cubicBezTo>
                  <a:pt x="21" y="18"/>
                  <a:pt x="19" y="20"/>
                  <a:pt x="18" y="19"/>
                </a:cubicBezTo>
                <a:cubicBezTo>
                  <a:pt x="17" y="18"/>
                  <a:pt x="15" y="15"/>
                  <a:pt x="15" y="17"/>
                </a:cubicBezTo>
                <a:cubicBezTo>
                  <a:pt x="15" y="19"/>
                  <a:pt x="13" y="21"/>
                  <a:pt x="14" y="23"/>
                </a:cubicBezTo>
                <a:cubicBezTo>
                  <a:pt x="13" y="23"/>
                  <a:pt x="11" y="27"/>
                  <a:pt x="11" y="29"/>
                </a:cubicBezTo>
                <a:cubicBezTo>
                  <a:pt x="11" y="30"/>
                  <a:pt x="11" y="32"/>
                  <a:pt x="11" y="33"/>
                </a:cubicBezTo>
                <a:cubicBezTo>
                  <a:pt x="10" y="34"/>
                  <a:pt x="9" y="32"/>
                  <a:pt x="9" y="29"/>
                </a:cubicBezTo>
                <a:cubicBezTo>
                  <a:pt x="9" y="28"/>
                  <a:pt x="9" y="28"/>
                  <a:pt x="9" y="28"/>
                </a:cubicBezTo>
                <a:cubicBezTo>
                  <a:pt x="8" y="30"/>
                  <a:pt x="9" y="32"/>
                  <a:pt x="9" y="33"/>
                </a:cubicBezTo>
                <a:cubicBezTo>
                  <a:pt x="9" y="33"/>
                  <a:pt x="10" y="34"/>
                  <a:pt x="11" y="34"/>
                </a:cubicBezTo>
                <a:cubicBezTo>
                  <a:pt x="11" y="35"/>
                  <a:pt x="15" y="38"/>
                  <a:pt x="16" y="39"/>
                </a:cubicBezTo>
                <a:cubicBezTo>
                  <a:pt x="17" y="39"/>
                  <a:pt x="16" y="41"/>
                  <a:pt x="15" y="41"/>
                </a:cubicBezTo>
                <a:cubicBezTo>
                  <a:pt x="16" y="43"/>
                  <a:pt x="16" y="43"/>
                  <a:pt x="16" y="46"/>
                </a:cubicBezTo>
                <a:cubicBezTo>
                  <a:pt x="17" y="45"/>
                  <a:pt x="17" y="44"/>
                  <a:pt x="17" y="43"/>
                </a:cubicBezTo>
                <a:cubicBezTo>
                  <a:pt x="16" y="43"/>
                  <a:pt x="16" y="43"/>
                  <a:pt x="16" y="42"/>
                </a:cubicBezTo>
                <a:cubicBezTo>
                  <a:pt x="16" y="42"/>
                  <a:pt x="17" y="42"/>
                  <a:pt x="17" y="42"/>
                </a:cubicBezTo>
                <a:cubicBezTo>
                  <a:pt x="18" y="43"/>
                  <a:pt x="20" y="44"/>
                  <a:pt x="21" y="43"/>
                </a:cubicBezTo>
                <a:cubicBezTo>
                  <a:pt x="23" y="43"/>
                  <a:pt x="25" y="42"/>
                  <a:pt x="26" y="41"/>
                </a:cubicBezTo>
                <a:cubicBezTo>
                  <a:pt x="27" y="40"/>
                  <a:pt x="27" y="40"/>
                  <a:pt x="27" y="40"/>
                </a:cubicBezTo>
                <a:cubicBezTo>
                  <a:pt x="27" y="40"/>
                  <a:pt x="27" y="41"/>
                  <a:pt x="27" y="42"/>
                </a:cubicBezTo>
                <a:cubicBezTo>
                  <a:pt x="27" y="42"/>
                  <a:pt x="27" y="43"/>
                  <a:pt x="27" y="44"/>
                </a:cubicBezTo>
                <a:cubicBezTo>
                  <a:pt x="26" y="45"/>
                  <a:pt x="26" y="45"/>
                  <a:pt x="27" y="45"/>
                </a:cubicBezTo>
                <a:cubicBezTo>
                  <a:pt x="27" y="44"/>
                  <a:pt x="28" y="42"/>
                  <a:pt x="28" y="41"/>
                </a:cubicBezTo>
                <a:cubicBezTo>
                  <a:pt x="28" y="39"/>
                  <a:pt x="27" y="36"/>
                  <a:pt x="28" y="34"/>
                </a:cubicBezTo>
                <a:cubicBezTo>
                  <a:pt x="28" y="34"/>
                  <a:pt x="29" y="34"/>
                  <a:pt x="29" y="34"/>
                </a:cubicBezTo>
                <a:cubicBezTo>
                  <a:pt x="30" y="32"/>
                  <a:pt x="33" y="32"/>
                  <a:pt x="34" y="33"/>
                </a:cubicBezTo>
                <a:cubicBezTo>
                  <a:pt x="34" y="32"/>
                  <a:pt x="33" y="32"/>
                  <a:pt x="32" y="32"/>
                </a:cubicBezTo>
                <a:close/>
                <a:moveTo>
                  <a:pt x="11" y="24"/>
                </a:moveTo>
                <a:cubicBezTo>
                  <a:pt x="10" y="24"/>
                  <a:pt x="10" y="25"/>
                  <a:pt x="10" y="25"/>
                </a:cubicBezTo>
                <a:cubicBezTo>
                  <a:pt x="10" y="25"/>
                  <a:pt x="11" y="24"/>
                  <a:pt x="11" y="24"/>
                </a:cubicBezTo>
                <a:cubicBezTo>
                  <a:pt x="11" y="24"/>
                  <a:pt x="11" y="23"/>
                  <a:pt x="11" y="23"/>
                </a:cubicBezTo>
                <a:cubicBezTo>
                  <a:pt x="11" y="23"/>
                  <a:pt x="11" y="24"/>
                  <a:pt x="11" y="24"/>
                </a:cubicBezTo>
                <a:close/>
                <a:moveTo>
                  <a:pt x="17" y="10"/>
                </a:moveTo>
                <a:cubicBezTo>
                  <a:pt x="16" y="9"/>
                  <a:pt x="17" y="10"/>
                  <a:pt x="17" y="10"/>
                </a:cubicBezTo>
                <a:cubicBezTo>
                  <a:pt x="17" y="10"/>
                  <a:pt x="17" y="10"/>
                  <a:pt x="17" y="10"/>
                </a:cubicBezTo>
                <a:cubicBezTo>
                  <a:pt x="17" y="11"/>
                  <a:pt x="17" y="11"/>
                  <a:pt x="17" y="11"/>
                </a:cubicBezTo>
                <a:cubicBezTo>
                  <a:pt x="17" y="11"/>
                  <a:pt x="17" y="11"/>
                  <a:pt x="17" y="11"/>
                </a:cubicBezTo>
                <a:cubicBezTo>
                  <a:pt x="17" y="10"/>
                  <a:pt x="17" y="10"/>
                  <a:pt x="17" y="10"/>
                </a:cubicBezTo>
                <a:close/>
                <a:moveTo>
                  <a:pt x="17" y="12"/>
                </a:moveTo>
                <a:cubicBezTo>
                  <a:pt x="17" y="12"/>
                  <a:pt x="17" y="11"/>
                  <a:pt x="18" y="11"/>
                </a:cubicBezTo>
                <a:cubicBezTo>
                  <a:pt x="18" y="12"/>
                  <a:pt x="18" y="12"/>
                  <a:pt x="17" y="12"/>
                </a:cubicBezTo>
                <a:close/>
                <a:moveTo>
                  <a:pt x="20" y="12"/>
                </a:moveTo>
                <a:cubicBezTo>
                  <a:pt x="20" y="11"/>
                  <a:pt x="21" y="12"/>
                  <a:pt x="20" y="12"/>
                </a:cubicBezTo>
                <a:cubicBezTo>
                  <a:pt x="20" y="12"/>
                  <a:pt x="20" y="11"/>
                  <a:pt x="20" y="12"/>
                </a:cubicBezTo>
                <a:close/>
                <a:moveTo>
                  <a:pt x="23" y="9"/>
                </a:moveTo>
                <a:cubicBezTo>
                  <a:pt x="23" y="9"/>
                  <a:pt x="23" y="10"/>
                  <a:pt x="23" y="10"/>
                </a:cubicBezTo>
                <a:cubicBezTo>
                  <a:pt x="23" y="10"/>
                  <a:pt x="23" y="10"/>
                  <a:pt x="23" y="10"/>
                </a:cubicBezTo>
                <a:cubicBezTo>
                  <a:pt x="23" y="10"/>
                  <a:pt x="24" y="10"/>
                  <a:pt x="24" y="10"/>
                </a:cubicBezTo>
                <a:cubicBezTo>
                  <a:pt x="24" y="10"/>
                  <a:pt x="23" y="9"/>
                  <a:pt x="23" y="9"/>
                </a:cubicBezTo>
                <a:close/>
                <a:moveTo>
                  <a:pt x="24" y="4"/>
                </a:moveTo>
                <a:cubicBezTo>
                  <a:pt x="24" y="3"/>
                  <a:pt x="24" y="3"/>
                  <a:pt x="24" y="3"/>
                </a:cubicBezTo>
                <a:cubicBezTo>
                  <a:pt x="23" y="3"/>
                  <a:pt x="24" y="4"/>
                  <a:pt x="23" y="4"/>
                </a:cubicBezTo>
                <a:cubicBezTo>
                  <a:pt x="23" y="4"/>
                  <a:pt x="23" y="5"/>
                  <a:pt x="23" y="5"/>
                </a:cubicBezTo>
                <a:cubicBezTo>
                  <a:pt x="23" y="5"/>
                  <a:pt x="24" y="5"/>
                  <a:pt x="24" y="4"/>
                </a:cubicBezTo>
                <a:cubicBezTo>
                  <a:pt x="24" y="4"/>
                  <a:pt x="25" y="4"/>
                  <a:pt x="25" y="4"/>
                </a:cubicBezTo>
                <a:cubicBezTo>
                  <a:pt x="25" y="4"/>
                  <a:pt x="25" y="4"/>
                  <a:pt x="24" y="4"/>
                </a:cubicBezTo>
                <a:close/>
                <a:moveTo>
                  <a:pt x="27" y="15"/>
                </a:moveTo>
                <a:cubicBezTo>
                  <a:pt x="27" y="15"/>
                  <a:pt x="27" y="15"/>
                  <a:pt x="27" y="15"/>
                </a:cubicBezTo>
                <a:cubicBezTo>
                  <a:pt x="26" y="15"/>
                  <a:pt x="27" y="17"/>
                  <a:pt x="28" y="17"/>
                </a:cubicBezTo>
                <a:cubicBezTo>
                  <a:pt x="28" y="17"/>
                  <a:pt x="28" y="16"/>
                  <a:pt x="28" y="16"/>
                </a:cubicBezTo>
                <a:cubicBezTo>
                  <a:pt x="28" y="16"/>
                  <a:pt x="28" y="16"/>
                  <a:pt x="27" y="1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51" name="稻壳儿小白白(http://dwz.cn/Wu2UP)"/>
          <p:cNvSpPr/>
          <p:nvPr/>
        </p:nvSpPr>
        <p:spPr>
          <a:xfrm>
            <a:off x="2766960" y="4930920"/>
            <a:ext cx="333360" cy="263520"/>
          </a:xfrm>
          <a:custGeom>
            <a:avLst/>
            <a:gdLst/>
            <a:ahLst/>
            <a:rect l="l" t="t" r="r" b="b"/>
            <a:pathLst>
              <a:path w="48" h="38">
                <a:moveTo>
                  <a:pt x="7" y="6"/>
                </a:moveTo>
                <a:cubicBezTo>
                  <a:pt x="7" y="7"/>
                  <a:pt x="6" y="7"/>
                  <a:pt x="6" y="7"/>
                </a:cubicBezTo>
                <a:cubicBezTo>
                  <a:pt x="1" y="7"/>
                  <a:pt x="1" y="7"/>
                  <a:pt x="1" y="7"/>
                </a:cubicBezTo>
                <a:cubicBezTo>
                  <a:pt x="0" y="7"/>
                  <a:pt x="0" y="7"/>
                  <a:pt x="0" y="6"/>
                </a:cubicBezTo>
                <a:cubicBezTo>
                  <a:pt x="0" y="1"/>
                  <a:pt x="0" y="1"/>
                  <a:pt x="0" y="1"/>
                </a:cubicBezTo>
                <a:cubicBezTo>
                  <a:pt x="0" y="1"/>
                  <a:pt x="0" y="0"/>
                  <a:pt x="1" y="0"/>
                </a:cubicBezTo>
                <a:cubicBezTo>
                  <a:pt x="6" y="0"/>
                  <a:pt x="6" y="0"/>
                  <a:pt x="6" y="0"/>
                </a:cubicBezTo>
                <a:cubicBezTo>
                  <a:pt x="6" y="0"/>
                  <a:pt x="7" y="1"/>
                  <a:pt x="7" y="1"/>
                </a:cubicBezTo>
                <a:lnTo>
                  <a:pt x="7" y="6"/>
                </a:lnTo>
                <a:close/>
                <a:moveTo>
                  <a:pt x="7" y="17"/>
                </a:moveTo>
                <a:cubicBezTo>
                  <a:pt x="7" y="17"/>
                  <a:pt x="6" y="18"/>
                  <a:pt x="6" y="18"/>
                </a:cubicBezTo>
                <a:cubicBezTo>
                  <a:pt x="1" y="18"/>
                  <a:pt x="1" y="18"/>
                  <a:pt x="1" y="18"/>
                </a:cubicBezTo>
                <a:cubicBezTo>
                  <a:pt x="0" y="18"/>
                  <a:pt x="0" y="17"/>
                  <a:pt x="0" y="17"/>
                </a:cubicBezTo>
                <a:cubicBezTo>
                  <a:pt x="0" y="12"/>
                  <a:pt x="0" y="12"/>
                  <a:pt x="0" y="12"/>
                </a:cubicBezTo>
                <a:cubicBezTo>
                  <a:pt x="0" y="11"/>
                  <a:pt x="0" y="11"/>
                  <a:pt x="1" y="11"/>
                </a:cubicBezTo>
                <a:cubicBezTo>
                  <a:pt x="6" y="11"/>
                  <a:pt x="6" y="11"/>
                  <a:pt x="6" y="11"/>
                </a:cubicBezTo>
                <a:cubicBezTo>
                  <a:pt x="6" y="11"/>
                  <a:pt x="7" y="11"/>
                  <a:pt x="7" y="12"/>
                </a:cubicBezTo>
                <a:lnTo>
                  <a:pt x="7" y="17"/>
                </a:lnTo>
                <a:close/>
                <a:moveTo>
                  <a:pt x="7" y="27"/>
                </a:moveTo>
                <a:cubicBezTo>
                  <a:pt x="7" y="28"/>
                  <a:pt x="6" y="28"/>
                  <a:pt x="6" y="28"/>
                </a:cubicBezTo>
                <a:cubicBezTo>
                  <a:pt x="1" y="28"/>
                  <a:pt x="1" y="28"/>
                  <a:pt x="1" y="28"/>
                </a:cubicBezTo>
                <a:cubicBezTo>
                  <a:pt x="0" y="28"/>
                  <a:pt x="0" y="28"/>
                  <a:pt x="0" y="27"/>
                </a:cubicBezTo>
                <a:cubicBezTo>
                  <a:pt x="0" y="22"/>
                  <a:pt x="0" y="22"/>
                  <a:pt x="0" y="22"/>
                </a:cubicBezTo>
                <a:cubicBezTo>
                  <a:pt x="0" y="21"/>
                  <a:pt x="0" y="21"/>
                  <a:pt x="1" y="21"/>
                </a:cubicBezTo>
                <a:cubicBezTo>
                  <a:pt x="6" y="21"/>
                  <a:pt x="6" y="21"/>
                  <a:pt x="6" y="21"/>
                </a:cubicBezTo>
                <a:cubicBezTo>
                  <a:pt x="6" y="21"/>
                  <a:pt x="7" y="21"/>
                  <a:pt x="7" y="22"/>
                </a:cubicBezTo>
                <a:lnTo>
                  <a:pt x="7" y="27"/>
                </a:lnTo>
                <a:close/>
                <a:moveTo>
                  <a:pt x="7" y="37"/>
                </a:moveTo>
                <a:cubicBezTo>
                  <a:pt x="7" y="38"/>
                  <a:pt x="6" y="38"/>
                  <a:pt x="6" y="38"/>
                </a:cubicBezTo>
                <a:cubicBezTo>
                  <a:pt x="1" y="38"/>
                  <a:pt x="1" y="38"/>
                  <a:pt x="1" y="38"/>
                </a:cubicBezTo>
                <a:cubicBezTo>
                  <a:pt x="0" y="38"/>
                  <a:pt x="0" y="38"/>
                  <a:pt x="0" y="37"/>
                </a:cubicBezTo>
                <a:cubicBezTo>
                  <a:pt x="0" y="32"/>
                  <a:pt x="0" y="32"/>
                  <a:pt x="0" y="32"/>
                </a:cubicBezTo>
                <a:cubicBezTo>
                  <a:pt x="0" y="32"/>
                  <a:pt x="0" y="31"/>
                  <a:pt x="1" y="31"/>
                </a:cubicBezTo>
                <a:cubicBezTo>
                  <a:pt x="6" y="31"/>
                  <a:pt x="6" y="31"/>
                  <a:pt x="6" y="31"/>
                </a:cubicBezTo>
                <a:cubicBezTo>
                  <a:pt x="6" y="31"/>
                  <a:pt x="7" y="32"/>
                  <a:pt x="7" y="32"/>
                </a:cubicBezTo>
                <a:lnTo>
                  <a:pt x="7" y="37"/>
                </a:lnTo>
                <a:close/>
                <a:moveTo>
                  <a:pt x="48" y="6"/>
                </a:moveTo>
                <a:cubicBezTo>
                  <a:pt x="48" y="7"/>
                  <a:pt x="48" y="7"/>
                  <a:pt x="47" y="7"/>
                </a:cubicBezTo>
                <a:cubicBezTo>
                  <a:pt x="11" y="7"/>
                  <a:pt x="11" y="7"/>
                  <a:pt x="11" y="7"/>
                </a:cubicBezTo>
                <a:cubicBezTo>
                  <a:pt x="11" y="7"/>
                  <a:pt x="10" y="7"/>
                  <a:pt x="10" y="6"/>
                </a:cubicBezTo>
                <a:cubicBezTo>
                  <a:pt x="10" y="1"/>
                  <a:pt x="10" y="1"/>
                  <a:pt x="10" y="1"/>
                </a:cubicBezTo>
                <a:cubicBezTo>
                  <a:pt x="10" y="1"/>
                  <a:pt x="11" y="0"/>
                  <a:pt x="11" y="0"/>
                </a:cubicBezTo>
                <a:cubicBezTo>
                  <a:pt x="47" y="0"/>
                  <a:pt x="47" y="0"/>
                  <a:pt x="47" y="0"/>
                </a:cubicBezTo>
                <a:cubicBezTo>
                  <a:pt x="48" y="0"/>
                  <a:pt x="48" y="1"/>
                  <a:pt x="48" y="1"/>
                </a:cubicBezTo>
                <a:lnTo>
                  <a:pt x="48" y="6"/>
                </a:lnTo>
                <a:close/>
                <a:moveTo>
                  <a:pt x="48" y="17"/>
                </a:moveTo>
                <a:cubicBezTo>
                  <a:pt x="48" y="17"/>
                  <a:pt x="48" y="18"/>
                  <a:pt x="47" y="18"/>
                </a:cubicBezTo>
                <a:cubicBezTo>
                  <a:pt x="11" y="18"/>
                  <a:pt x="11" y="18"/>
                  <a:pt x="11" y="18"/>
                </a:cubicBezTo>
                <a:cubicBezTo>
                  <a:pt x="11" y="18"/>
                  <a:pt x="10" y="17"/>
                  <a:pt x="10" y="17"/>
                </a:cubicBezTo>
                <a:cubicBezTo>
                  <a:pt x="10" y="12"/>
                  <a:pt x="10" y="12"/>
                  <a:pt x="10" y="12"/>
                </a:cubicBezTo>
                <a:cubicBezTo>
                  <a:pt x="10" y="11"/>
                  <a:pt x="11" y="11"/>
                  <a:pt x="11" y="11"/>
                </a:cubicBezTo>
                <a:cubicBezTo>
                  <a:pt x="47" y="11"/>
                  <a:pt x="47" y="11"/>
                  <a:pt x="47" y="11"/>
                </a:cubicBezTo>
                <a:cubicBezTo>
                  <a:pt x="48" y="11"/>
                  <a:pt x="48" y="11"/>
                  <a:pt x="48" y="12"/>
                </a:cubicBezTo>
                <a:lnTo>
                  <a:pt x="48" y="17"/>
                </a:lnTo>
                <a:close/>
                <a:moveTo>
                  <a:pt x="48" y="27"/>
                </a:moveTo>
                <a:cubicBezTo>
                  <a:pt x="48" y="28"/>
                  <a:pt x="48" y="28"/>
                  <a:pt x="47" y="28"/>
                </a:cubicBezTo>
                <a:cubicBezTo>
                  <a:pt x="11" y="28"/>
                  <a:pt x="11" y="28"/>
                  <a:pt x="11" y="28"/>
                </a:cubicBezTo>
                <a:cubicBezTo>
                  <a:pt x="11" y="28"/>
                  <a:pt x="10" y="28"/>
                  <a:pt x="10" y="27"/>
                </a:cubicBezTo>
                <a:cubicBezTo>
                  <a:pt x="10" y="22"/>
                  <a:pt x="10" y="22"/>
                  <a:pt x="10" y="22"/>
                </a:cubicBezTo>
                <a:cubicBezTo>
                  <a:pt x="10" y="21"/>
                  <a:pt x="11" y="21"/>
                  <a:pt x="11" y="21"/>
                </a:cubicBezTo>
                <a:cubicBezTo>
                  <a:pt x="47" y="21"/>
                  <a:pt x="47" y="21"/>
                  <a:pt x="47" y="21"/>
                </a:cubicBezTo>
                <a:cubicBezTo>
                  <a:pt x="48" y="21"/>
                  <a:pt x="48" y="21"/>
                  <a:pt x="48" y="22"/>
                </a:cubicBezTo>
                <a:lnTo>
                  <a:pt x="48" y="27"/>
                </a:lnTo>
                <a:close/>
                <a:moveTo>
                  <a:pt x="48" y="37"/>
                </a:moveTo>
                <a:cubicBezTo>
                  <a:pt x="48" y="38"/>
                  <a:pt x="48" y="38"/>
                  <a:pt x="47" y="38"/>
                </a:cubicBezTo>
                <a:cubicBezTo>
                  <a:pt x="11" y="38"/>
                  <a:pt x="11" y="38"/>
                  <a:pt x="11" y="38"/>
                </a:cubicBezTo>
                <a:cubicBezTo>
                  <a:pt x="11" y="38"/>
                  <a:pt x="10" y="38"/>
                  <a:pt x="10" y="37"/>
                </a:cubicBezTo>
                <a:cubicBezTo>
                  <a:pt x="10" y="32"/>
                  <a:pt x="10" y="32"/>
                  <a:pt x="10" y="32"/>
                </a:cubicBezTo>
                <a:cubicBezTo>
                  <a:pt x="10" y="32"/>
                  <a:pt x="11" y="31"/>
                  <a:pt x="11" y="31"/>
                </a:cubicBezTo>
                <a:cubicBezTo>
                  <a:pt x="47" y="31"/>
                  <a:pt x="47" y="31"/>
                  <a:pt x="47" y="31"/>
                </a:cubicBezTo>
                <a:cubicBezTo>
                  <a:pt x="48" y="31"/>
                  <a:pt x="48" y="32"/>
                  <a:pt x="48" y="32"/>
                </a:cubicBezTo>
                <a:lnTo>
                  <a:pt x="48" y="3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52" name="稻壳儿小白白(http://dwz.cn/Wu2UP)"/>
          <p:cNvSpPr/>
          <p:nvPr/>
        </p:nvSpPr>
        <p:spPr>
          <a:xfrm>
            <a:off x="2766960" y="5442120"/>
            <a:ext cx="333360" cy="263520"/>
          </a:xfrm>
          <a:custGeom>
            <a:avLst/>
            <a:gdLst/>
            <a:ahLst/>
            <a:rect l="l" t="t" r="r" b="b"/>
            <a:pathLst>
              <a:path w="48" h="38">
                <a:moveTo>
                  <a:pt x="48" y="34"/>
                </a:moveTo>
                <a:cubicBezTo>
                  <a:pt x="48" y="36"/>
                  <a:pt x="46" y="38"/>
                  <a:pt x="44" y="38"/>
                </a:cubicBezTo>
                <a:cubicBezTo>
                  <a:pt x="4" y="38"/>
                  <a:pt x="4" y="38"/>
                  <a:pt x="4" y="38"/>
                </a:cubicBezTo>
                <a:cubicBezTo>
                  <a:pt x="2" y="38"/>
                  <a:pt x="0" y="36"/>
                  <a:pt x="0" y="34"/>
                </a:cubicBezTo>
                <a:cubicBezTo>
                  <a:pt x="0" y="4"/>
                  <a:pt x="0" y="4"/>
                  <a:pt x="0" y="4"/>
                </a:cubicBezTo>
                <a:cubicBezTo>
                  <a:pt x="0" y="2"/>
                  <a:pt x="2" y="0"/>
                  <a:pt x="4" y="0"/>
                </a:cubicBezTo>
                <a:cubicBezTo>
                  <a:pt x="44" y="0"/>
                  <a:pt x="44" y="0"/>
                  <a:pt x="44" y="0"/>
                </a:cubicBezTo>
                <a:cubicBezTo>
                  <a:pt x="46" y="0"/>
                  <a:pt x="48" y="2"/>
                  <a:pt x="48" y="4"/>
                </a:cubicBezTo>
                <a:lnTo>
                  <a:pt x="48" y="34"/>
                </a:lnTo>
                <a:close/>
                <a:moveTo>
                  <a:pt x="45" y="11"/>
                </a:moveTo>
                <a:cubicBezTo>
                  <a:pt x="45" y="11"/>
                  <a:pt x="44" y="10"/>
                  <a:pt x="44" y="10"/>
                </a:cubicBezTo>
                <a:cubicBezTo>
                  <a:pt x="4" y="10"/>
                  <a:pt x="4" y="10"/>
                  <a:pt x="4" y="10"/>
                </a:cubicBezTo>
                <a:cubicBezTo>
                  <a:pt x="4" y="10"/>
                  <a:pt x="3" y="11"/>
                  <a:pt x="3" y="11"/>
                </a:cubicBezTo>
                <a:cubicBezTo>
                  <a:pt x="3" y="34"/>
                  <a:pt x="3" y="34"/>
                  <a:pt x="3" y="34"/>
                </a:cubicBezTo>
                <a:cubicBezTo>
                  <a:pt x="3" y="34"/>
                  <a:pt x="4" y="34"/>
                  <a:pt x="4" y="34"/>
                </a:cubicBezTo>
                <a:cubicBezTo>
                  <a:pt x="44" y="34"/>
                  <a:pt x="44" y="34"/>
                  <a:pt x="44" y="34"/>
                </a:cubicBezTo>
                <a:cubicBezTo>
                  <a:pt x="44" y="34"/>
                  <a:pt x="45" y="34"/>
                  <a:pt x="45" y="34"/>
                </a:cubicBezTo>
                <a:lnTo>
                  <a:pt x="45" y="11"/>
                </a:lnTo>
                <a:close/>
                <a:moveTo>
                  <a:pt x="10" y="16"/>
                </a:moveTo>
                <a:cubicBezTo>
                  <a:pt x="10" y="17"/>
                  <a:pt x="10" y="17"/>
                  <a:pt x="9" y="17"/>
                </a:cubicBezTo>
                <a:cubicBezTo>
                  <a:pt x="8" y="17"/>
                  <a:pt x="8" y="17"/>
                  <a:pt x="8" y="17"/>
                </a:cubicBezTo>
                <a:cubicBezTo>
                  <a:pt x="7" y="17"/>
                  <a:pt x="7" y="17"/>
                  <a:pt x="7" y="16"/>
                </a:cubicBezTo>
                <a:cubicBezTo>
                  <a:pt x="7" y="15"/>
                  <a:pt x="7" y="15"/>
                  <a:pt x="7" y="15"/>
                </a:cubicBezTo>
                <a:cubicBezTo>
                  <a:pt x="7" y="14"/>
                  <a:pt x="7" y="14"/>
                  <a:pt x="8" y="14"/>
                </a:cubicBezTo>
                <a:cubicBezTo>
                  <a:pt x="9" y="14"/>
                  <a:pt x="9" y="14"/>
                  <a:pt x="9" y="14"/>
                </a:cubicBezTo>
                <a:cubicBezTo>
                  <a:pt x="10" y="14"/>
                  <a:pt x="10" y="14"/>
                  <a:pt x="10" y="15"/>
                </a:cubicBezTo>
                <a:lnTo>
                  <a:pt x="10" y="16"/>
                </a:lnTo>
                <a:close/>
                <a:moveTo>
                  <a:pt x="10" y="23"/>
                </a:moveTo>
                <a:cubicBezTo>
                  <a:pt x="10" y="24"/>
                  <a:pt x="10" y="24"/>
                  <a:pt x="9" y="24"/>
                </a:cubicBezTo>
                <a:cubicBezTo>
                  <a:pt x="8" y="24"/>
                  <a:pt x="8" y="24"/>
                  <a:pt x="8" y="24"/>
                </a:cubicBezTo>
                <a:cubicBezTo>
                  <a:pt x="7" y="24"/>
                  <a:pt x="7" y="24"/>
                  <a:pt x="7" y="23"/>
                </a:cubicBezTo>
                <a:cubicBezTo>
                  <a:pt x="7" y="22"/>
                  <a:pt x="7" y="22"/>
                  <a:pt x="7" y="22"/>
                </a:cubicBezTo>
                <a:cubicBezTo>
                  <a:pt x="7" y="21"/>
                  <a:pt x="7" y="21"/>
                  <a:pt x="8" y="21"/>
                </a:cubicBezTo>
                <a:cubicBezTo>
                  <a:pt x="9" y="21"/>
                  <a:pt x="9" y="21"/>
                  <a:pt x="9" y="21"/>
                </a:cubicBezTo>
                <a:cubicBezTo>
                  <a:pt x="10" y="21"/>
                  <a:pt x="10" y="21"/>
                  <a:pt x="10" y="22"/>
                </a:cubicBezTo>
                <a:lnTo>
                  <a:pt x="10" y="23"/>
                </a:lnTo>
                <a:close/>
                <a:moveTo>
                  <a:pt x="10" y="30"/>
                </a:moveTo>
                <a:cubicBezTo>
                  <a:pt x="10" y="31"/>
                  <a:pt x="10" y="31"/>
                  <a:pt x="9" y="31"/>
                </a:cubicBezTo>
                <a:cubicBezTo>
                  <a:pt x="8" y="31"/>
                  <a:pt x="8" y="31"/>
                  <a:pt x="8" y="31"/>
                </a:cubicBezTo>
                <a:cubicBezTo>
                  <a:pt x="7" y="31"/>
                  <a:pt x="7" y="31"/>
                  <a:pt x="7" y="30"/>
                </a:cubicBezTo>
                <a:cubicBezTo>
                  <a:pt x="7" y="28"/>
                  <a:pt x="7" y="28"/>
                  <a:pt x="7" y="28"/>
                </a:cubicBezTo>
                <a:cubicBezTo>
                  <a:pt x="7" y="28"/>
                  <a:pt x="7" y="28"/>
                  <a:pt x="8" y="28"/>
                </a:cubicBezTo>
                <a:cubicBezTo>
                  <a:pt x="9" y="28"/>
                  <a:pt x="9" y="28"/>
                  <a:pt x="9" y="28"/>
                </a:cubicBezTo>
                <a:cubicBezTo>
                  <a:pt x="10" y="28"/>
                  <a:pt x="10" y="28"/>
                  <a:pt x="10" y="28"/>
                </a:cubicBezTo>
                <a:lnTo>
                  <a:pt x="10" y="30"/>
                </a:lnTo>
                <a:close/>
                <a:moveTo>
                  <a:pt x="41" y="16"/>
                </a:moveTo>
                <a:cubicBezTo>
                  <a:pt x="41" y="17"/>
                  <a:pt x="41" y="17"/>
                  <a:pt x="40" y="17"/>
                </a:cubicBezTo>
                <a:cubicBezTo>
                  <a:pt x="15" y="17"/>
                  <a:pt x="15" y="17"/>
                  <a:pt x="15" y="17"/>
                </a:cubicBezTo>
                <a:cubicBezTo>
                  <a:pt x="14" y="17"/>
                  <a:pt x="14" y="17"/>
                  <a:pt x="14" y="16"/>
                </a:cubicBezTo>
                <a:cubicBezTo>
                  <a:pt x="14" y="15"/>
                  <a:pt x="14" y="15"/>
                  <a:pt x="14" y="15"/>
                </a:cubicBezTo>
                <a:cubicBezTo>
                  <a:pt x="14" y="14"/>
                  <a:pt x="14" y="14"/>
                  <a:pt x="15" y="14"/>
                </a:cubicBezTo>
                <a:cubicBezTo>
                  <a:pt x="40" y="14"/>
                  <a:pt x="40" y="14"/>
                  <a:pt x="40" y="14"/>
                </a:cubicBezTo>
                <a:cubicBezTo>
                  <a:pt x="41" y="14"/>
                  <a:pt x="41" y="14"/>
                  <a:pt x="41" y="15"/>
                </a:cubicBezTo>
                <a:lnTo>
                  <a:pt x="41" y="16"/>
                </a:lnTo>
                <a:close/>
                <a:moveTo>
                  <a:pt x="41" y="23"/>
                </a:moveTo>
                <a:cubicBezTo>
                  <a:pt x="41" y="24"/>
                  <a:pt x="41" y="24"/>
                  <a:pt x="40" y="24"/>
                </a:cubicBezTo>
                <a:cubicBezTo>
                  <a:pt x="15" y="24"/>
                  <a:pt x="15" y="24"/>
                  <a:pt x="15" y="24"/>
                </a:cubicBezTo>
                <a:cubicBezTo>
                  <a:pt x="14" y="24"/>
                  <a:pt x="14" y="24"/>
                  <a:pt x="14" y="23"/>
                </a:cubicBezTo>
                <a:cubicBezTo>
                  <a:pt x="14" y="22"/>
                  <a:pt x="14" y="22"/>
                  <a:pt x="14" y="22"/>
                </a:cubicBezTo>
                <a:cubicBezTo>
                  <a:pt x="14" y="21"/>
                  <a:pt x="14" y="21"/>
                  <a:pt x="15" y="21"/>
                </a:cubicBezTo>
                <a:cubicBezTo>
                  <a:pt x="40" y="21"/>
                  <a:pt x="40" y="21"/>
                  <a:pt x="40" y="21"/>
                </a:cubicBezTo>
                <a:cubicBezTo>
                  <a:pt x="41" y="21"/>
                  <a:pt x="41" y="21"/>
                  <a:pt x="41" y="22"/>
                </a:cubicBezTo>
                <a:lnTo>
                  <a:pt x="41" y="23"/>
                </a:lnTo>
                <a:close/>
                <a:moveTo>
                  <a:pt x="41" y="30"/>
                </a:moveTo>
                <a:cubicBezTo>
                  <a:pt x="41" y="31"/>
                  <a:pt x="41" y="31"/>
                  <a:pt x="40" y="31"/>
                </a:cubicBezTo>
                <a:cubicBezTo>
                  <a:pt x="15" y="31"/>
                  <a:pt x="15" y="31"/>
                  <a:pt x="15" y="31"/>
                </a:cubicBezTo>
                <a:cubicBezTo>
                  <a:pt x="14" y="31"/>
                  <a:pt x="14" y="31"/>
                  <a:pt x="14" y="30"/>
                </a:cubicBezTo>
                <a:cubicBezTo>
                  <a:pt x="14" y="28"/>
                  <a:pt x="14" y="28"/>
                  <a:pt x="14" y="28"/>
                </a:cubicBezTo>
                <a:cubicBezTo>
                  <a:pt x="14" y="28"/>
                  <a:pt x="14" y="28"/>
                  <a:pt x="15" y="28"/>
                </a:cubicBezTo>
                <a:cubicBezTo>
                  <a:pt x="40" y="28"/>
                  <a:pt x="40" y="28"/>
                  <a:pt x="40" y="28"/>
                </a:cubicBezTo>
                <a:cubicBezTo>
                  <a:pt x="41" y="28"/>
                  <a:pt x="41" y="28"/>
                  <a:pt x="41" y="28"/>
                </a:cubicBezTo>
                <a:lnTo>
                  <a:pt x="41" y="3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53" name="稻壳儿小白白(http://dwz.cn/Wu2UP)"/>
          <p:cNvSpPr/>
          <p:nvPr/>
        </p:nvSpPr>
        <p:spPr>
          <a:xfrm>
            <a:off x="3652920" y="863640"/>
            <a:ext cx="282600" cy="282600"/>
          </a:xfrm>
          <a:custGeom>
            <a:avLst/>
            <a:gdLst/>
            <a:ahLst/>
            <a:rect l="l" t="t" r="r" b="b"/>
            <a:pathLst>
              <a:path w="41" h="41">
                <a:moveTo>
                  <a:pt x="14" y="12"/>
                </a:moveTo>
                <a:cubicBezTo>
                  <a:pt x="14" y="13"/>
                  <a:pt x="13" y="13"/>
                  <a:pt x="12" y="13"/>
                </a:cubicBezTo>
                <a:cubicBezTo>
                  <a:pt x="2" y="13"/>
                  <a:pt x="2" y="13"/>
                  <a:pt x="2" y="13"/>
                </a:cubicBezTo>
                <a:cubicBezTo>
                  <a:pt x="1" y="13"/>
                  <a:pt x="0" y="13"/>
                  <a:pt x="0" y="12"/>
                </a:cubicBezTo>
                <a:cubicBezTo>
                  <a:pt x="0" y="1"/>
                  <a:pt x="0" y="1"/>
                  <a:pt x="0" y="1"/>
                </a:cubicBezTo>
                <a:cubicBezTo>
                  <a:pt x="0" y="0"/>
                  <a:pt x="1" y="0"/>
                  <a:pt x="2" y="0"/>
                </a:cubicBezTo>
                <a:cubicBezTo>
                  <a:pt x="12" y="0"/>
                  <a:pt x="12" y="0"/>
                  <a:pt x="12" y="0"/>
                </a:cubicBezTo>
                <a:cubicBezTo>
                  <a:pt x="13" y="0"/>
                  <a:pt x="14" y="0"/>
                  <a:pt x="14" y="1"/>
                </a:cubicBezTo>
                <a:lnTo>
                  <a:pt x="14" y="12"/>
                </a:lnTo>
                <a:close/>
                <a:moveTo>
                  <a:pt x="41" y="22"/>
                </a:moveTo>
                <a:cubicBezTo>
                  <a:pt x="41" y="33"/>
                  <a:pt x="32" y="41"/>
                  <a:pt x="21" y="41"/>
                </a:cubicBezTo>
                <a:cubicBezTo>
                  <a:pt x="9" y="41"/>
                  <a:pt x="0" y="33"/>
                  <a:pt x="0" y="22"/>
                </a:cubicBezTo>
                <a:cubicBezTo>
                  <a:pt x="0" y="19"/>
                  <a:pt x="0" y="19"/>
                  <a:pt x="0" y="19"/>
                </a:cubicBezTo>
                <a:cubicBezTo>
                  <a:pt x="0" y="18"/>
                  <a:pt x="1" y="17"/>
                  <a:pt x="2" y="17"/>
                </a:cubicBezTo>
                <a:cubicBezTo>
                  <a:pt x="12" y="17"/>
                  <a:pt x="12" y="17"/>
                  <a:pt x="12" y="17"/>
                </a:cubicBezTo>
                <a:cubicBezTo>
                  <a:pt x="13" y="17"/>
                  <a:pt x="14" y="18"/>
                  <a:pt x="14" y="19"/>
                </a:cubicBezTo>
                <a:cubicBezTo>
                  <a:pt x="14" y="22"/>
                  <a:pt x="14" y="22"/>
                  <a:pt x="14" y="22"/>
                </a:cubicBezTo>
                <a:cubicBezTo>
                  <a:pt x="14" y="27"/>
                  <a:pt x="19" y="27"/>
                  <a:pt x="21" y="27"/>
                </a:cubicBezTo>
                <a:cubicBezTo>
                  <a:pt x="22" y="27"/>
                  <a:pt x="27" y="27"/>
                  <a:pt x="27" y="22"/>
                </a:cubicBezTo>
                <a:cubicBezTo>
                  <a:pt x="27" y="19"/>
                  <a:pt x="27" y="19"/>
                  <a:pt x="27" y="19"/>
                </a:cubicBezTo>
                <a:cubicBezTo>
                  <a:pt x="27" y="18"/>
                  <a:pt x="28" y="17"/>
                  <a:pt x="29" y="17"/>
                </a:cubicBezTo>
                <a:cubicBezTo>
                  <a:pt x="39" y="17"/>
                  <a:pt x="39" y="17"/>
                  <a:pt x="39" y="17"/>
                </a:cubicBezTo>
                <a:cubicBezTo>
                  <a:pt x="40" y="17"/>
                  <a:pt x="41" y="18"/>
                  <a:pt x="41" y="19"/>
                </a:cubicBezTo>
                <a:lnTo>
                  <a:pt x="41" y="22"/>
                </a:lnTo>
                <a:close/>
                <a:moveTo>
                  <a:pt x="41" y="12"/>
                </a:moveTo>
                <a:cubicBezTo>
                  <a:pt x="41" y="13"/>
                  <a:pt x="40" y="13"/>
                  <a:pt x="39" y="13"/>
                </a:cubicBezTo>
                <a:cubicBezTo>
                  <a:pt x="29" y="13"/>
                  <a:pt x="29" y="13"/>
                  <a:pt x="29" y="13"/>
                </a:cubicBezTo>
                <a:cubicBezTo>
                  <a:pt x="28" y="13"/>
                  <a:pt x="27" y="13"/>
                  <a:pt x="27" y="12"/>
                </a:cubicBezTo>
                <a:cubicBezTo>
                  <a:pt x="27" y="1"/>
                  <a:pt x="27" y="1"/>
                  <a:pt x="27" y="1"/>
                </a:cubicBezTo>
                <a:cubicBezTo>
                  <a:pt x="27" y="0"/>
                  <a:pt x="28" y="0"/>
                  <a:pt x="29" y="0"/>
                </a:cubicBezTo>
                <a:cubicBezTo>
                  <a:pt x="39" y="0"/>
                  <a:pt x="39" y="0"/>
                  <a:pt x="39" y="0"/>
                </a:cubicBezTo>
                <a:cubicBezTo>
                  <a:pt x="40" y="0"/>
                  <a:pt x="41" y="0"/>
                  <a:pt x="41" y="1"/>
                </a:cubicBezTo>
                <a:lnTo>
                  <a:pt x="41" y="1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54" name="稻壳儿小白白(http://dwz.cn/Wu2UP)"/>
          <p:cNvSpPr/>
          <p:nvPr/>
        </p:nvSpPr>
        <p:spPr>
          <a:xfrm>
            <a:off x="3632040" y="1362240"/>
            <a:ext cx="333360" cy="288720"/>
          </a:xfrm>
          <a:custGeom>
            <a:avLst/>
            <a:gdLst/>
            <a:ahLst/>
            <a:rect l="l" t="t" r="r" b="b"/>
            <a:pathLst>
              <a:path w="48" h="42">
                <a:moveTo>
                  <a:pt x="47" y="16"/>
                </a:moveTo>
                <a:cubicBezTo>
                  <a:pt x="33" y="30"/>
                  <a:pt x="33" y="30"/>
                  <a:pt x="33" y="30"/>
                </a:cubicBezTo>
                <a:cubicBezTo>
                  <a:pt x="33" y="30"/>
                  <a:pt x="33" y="30"/>
                  <a:pt x="32" y="30"/>
                </a:cubicBezTo>
                <a:cubicBezTo>
                  <a:pt x="31" y="30"/>
                  <a:pt x="30" y="30"/>
                  <a:pt x="30" y="29"/>
                </a:cubicBezTo>
                <a:cubicBezTo>
                  <a:pt x="30" y="22"/>
                  <a:pt x="30" y="22"/>
                  <a:pt x="30" y="22"/>
                </a:cubicBezTo>
                <a:cubicBezTo>
                  <a:pt x="24" y="22"/>
                  <a:pt x="24" y="22"/>
                  <a:pt x="24" y="22"/>
                </a:cubicBezTo>
                <a:cubicBezTo>
                  <a:pt x="13" y="22"/>
                  <a:pt x="5" y="24"/>
                  <a:pt x="5" y="37"/>
                </a:cubicBezTo>
                <a:cubicBezTo>
                  <a:pt x="5" y="38"/>
                  <a:pt x="5" y="39"/>
                  <a:pt x="5" y="40"/>
                </a:cubicBezTo>
                <a:cubicBezTo>
                  <a:pt x="5" y="41"/>
                  <a:pt x="6" y="41"/>
                  <a:pt x="6" y="41"/>
                </a:cubicBezTo>
                <a:cubicBezTo>
                  <a:pt x="6" y="42"/>
                  <a:pt x="5" y="42"/>
                  <a:pt x="5" y="42"/>
                </a:cubicBezTo>
                <a:cubicBezTo>
                  <a:pt x="4" y="42"/>
                  <a:pt x="4" y="42"/>
                  <a:pt x="4" y="42"/>
                </a:cubicBezTo>
                <a:cubicBezTo>
                  <a:pt x="3" y="41"/>
                  <a:pt x="3" y="41"/>
                  <a:pt x="3" y="40"/>
                </a:cubicBezTo>
                <a:cubicBezTo>
                  <a:pt x="1" y="37"/>
                  <a:pt x="0" y="32"/>
                  <a:pt x="0" y="28"/>
                </a:cubicBezTo>
                <a:cubicBezTo>
                  <a:pt x="0" y="25"/>
                  <a:pt x="0" y="22"/>
                  <a:pt x="1" y="19"/>
                </a:cubicBezTo>
                <a:cubicBezTo>
                  <a:pt x="5" y="10"/>
                  <a:pt x="16" y="8"/>
                  <a:pt x="24" y="8"/>
                </a:cubicBezTo>
                <a:cubicBezTo>
                  <a:pt x="30" y="8"/>
                  <a:pt x="30" y="8"/>
                  <a:pt x="30" y="8"/>
                </a:cubicBezTo>
                <a:cubicBezTo>
                  <a:pt x="30" y="1"/>
                  <a:pt x="30" y="1"/>
                  <a:pt x="30" y="1"/>
                </a:cubicBezTo>
                <a:cubicBezTo>
                  <a:pt x="30" y="0"/>
                  <a:pt x="31" y="0"/>
                  <a:pt x="32" y="0"/>
                </a:cubicBezTo>
                <a:cubicBezTo>
                  <a:pt x="33" y="0"/>
                  <a:pt x="33" y="0"/>
                  <a:pt x="33" y="0"/>
                </a:cubicBezTo>
                <a:cubicBezTo>
                  <a:pt x="47" y="14"/>
                  <a:pt x="47" y="14"/>
                  <a:pt x="47" y="14"/>
                </a:cubicBezTo>
                <a:cubicBezTo>
                  <a:pt x="47" y="14"/>
                  <a:pt x="48" y="15"/>
                  <a:pt x="48" y="15"/>
                </a:cubicBezTo>
                <a:cubicBezTo>
                  <a:pt x="48" y="15"/>
                  <a:pt x="47" y="16"/>
                  <a:pt x="47" y="1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55" name="稻壳儿小白白(http://dwz.cn/Wu2UP)"/>
          <p:cNvSpPr/>
          <p:nvPr/>
        </p:nvSpPr>
        <p:spPr>
          <a:xfrm>
            <a:off x="3632040" y="1866960"/>
            <a:ext cx="333360" cy="298440"/>
          </a:xfrm>
          <a:custGeom>
            <a:avLst/>
            <a:gdLst/>
            <a:ahLst/>
            <a:rect l="l" t="t" r="r" b="b"/>
            <a:pathLst>
              <a:path w="48" h="43">
                <a:moveTo>
                  <a:pt x="44" y="41"/>
                </a:moveTo>
                <a:cubicBezTo>
                  <a:pt x="44" y="41"/>
                  <a:pt x="44" y="42"/>
                  <a:pt x="43" y="43"/>
                </a:cubicBezTo>
                <a:cubicBezTo>
                  <a:pt x="43" y="43"/>
                  <a:pt x="43" y="43"/>
                  <a:pt x="42" y="43"/>
                </a:cubicBezTo>
                <a:cubicBezTo>
                  <a:pt x="42" y="43"/>
                  <a:pt x="42" y="43"/>
                  <a:pt x="42" y="42"/>
                </a:cubicBezTo>
                <a:cubicBezTo>
                  <a:pt x="42" y="42"/>
                  <a:pt x="42" y="41"/>
                  <a:pt x="42" y="41"/>
                </a:cubicBezTo>
                <a:cubicBezTo>
                  <a:pt x="42" y="40"/>
                  <a:pt x="42" y="39"/>
                  <a:pt x="42" y="37"/>
                </a:cubicBezTo>
                <a:cubicBezTo>
                  <a:pt x="42" y="25"/>
                  <a:pt x="34" y="22"/>
                  <a:pt x="23" y="22"/>
                </a:cubicBezTo>
                <a:cubicBezTo>
                  <a:pt x="17" y="22"/>
                  <a:pt x="17" y="22"/>
                  <a:pt x="17" y="22"/>
                </a:cubicBezTo>
                <a:cubicBezTo>
                  <a:pt x="17" y="29"/>
                  <a:pt x="17" y="29"/>
                  <a:pt x="17" y="29"/>
                </a:cubicBezTo>
                <a:cubicBezTo>
                  <a:pt x="17" y="30"/>
                  <a:pt x="16" y="31"/>
                  <a:pt x="15" y="31"/>
                </a:cubicBezTo>
                <a:cubicBezTo>
                  <a:pt x="14" y="31"/>
                  <a:pt x="14" y="31"/>
                  <a:pt x="14" y="31"/>
                </a:cubicBezTo>
                <a:cubicBezTo>
                  <a:pt x="0" y="17"/>
                  <a:pt x="0" y="17"/>
                  <a:pt x="0" y="17"/>
                </a:cubicBezTo>
                <a:cubicBezTo>
                  <a:pt x="0" y="16"/>
                  <a:pt x="0" y="16"/>
                  <a:pt x="0" y="16"/>
                </a:cubicBezTo>
                <a:cubicBezTo>
                  <a:pt x="0" y="15"/>
                  <a:pt x="0" y="15"/>
                  <a:pt x="0" y="14"/>
                </a:cubicBezTo>
                <a:cubicBezTo>
                  <a:pt x="14" y="1"/>
                  <a:pt x="14" y="1"/>
                  <a:pt x="14" y="1"/>
                </a:cubicBezTo>
                <a:cubicBezTo>
                  <a:pt x="14" y="0"/>
                  <a:pt x="14" y="0"/>
                  <a:pt x="15" y="0"/>
                </a:cubicBezTo>
                <a:cubicBezTo>
                  <a:pt x="16" y="0"/>
                  <a:pt x="17" y="1"/>
                  <a:pt x="17" y="2"/>
                </a:cubicBezTo>
                <a:cubicBezTo>
                  <a:pt x="17" y="9"/>
                  <a:pt x="17" y="9"/>
                  <a:pt x="17" y="9"/>
                </a:cubicBezTo>
                <a:cubicBezTo>
                  <a:pt x="23" y="9"/>
                  <a:pt x="23" y="9"/>
                  <a:pt x="23" y="9"/>
                </a:cubicBezTo>
                <a:cubicBezTo>
                  <a:pt x="31" y="9"/>
                  <a:pt x="42" y="10"/>
                  <a:pt x="46" y="20"/>
                </a:cubicBezTo>
                <a:cubicBezTo>
                  <a:pt x="47" y="22"/>
                  <a:pt x="48" y="25"/>
                  <a:pt x="48" y="28"/>
                </a:cubicBezTo>
                <a:cubicBezTo>
                  <a:pt x="48" y="32"/>
                  <a:pt x="46" y="37"/>
                  <a:pt x="44" y="4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56" name="稻壳儿小白白(http://dwz.cn/Wu2UP)"/>
          <p:cNvSpPr/>
          <p:nvPr/>
        </p:nvSpPr>
        <p:spPr>
          <a:xfrm>
            <a:off x="3625920" y="2378160"/>
            <a:ext cx="339480" cy="298440"/>
          </a:xfrm>
          <a:custGeom>
            <a:avLst/>
            <a:gdLst/>
            <a:ahLst/>
            <a:rect l="l" t="t" r="r" b="b"/>
            <a:pathLst>
              <a:path w="49" h="43">
                <a:moveTo>
                  <a:pt x="18" y="29"/>
                </a:moveTo>
                <a:cubicBezTo>
                  <a:pt x="18" y="30"/>
                  <a:pt x="17" y="30"/>
                  <a:pt x="17" y="30"/>
                </a:cubicBezTo>
                <a:cubicBezTo>
                  <a:pt x="16" y="31"/>
                  <a:pt x="16" y="31"/>
                  <a:pt x="16" y="31"/>
                </a:cubicBezTo>
                <a:cubicBezTo>
                  <a:pt x="15" y="31"/>
                  <a:pt x="15" y="30"/>
                  <a:pt x="15" y="30"/>
                </a:cubicBezTo>
                <a:cubicBezTo>
                  <a:pt x="1" y="16"/>
                  <a:pt x="1" y="16"/>
                  <a:pt x="1" y="16"/>
                </a:cubicBezTo>
                <a:cubicBezTo>
                  <a:pt x="0" y="16"/>
                  <a:pt x="0" y="15"/>
                  <a:pt x="1" y="14"/>
                </a:cubicBezTo>
                <a:cubicBezTo>
                  <a:pt x="15" y="0"/>
                  <a:pt x="15" y="0"/>
                  <a:pt x="15" y="0"/>
                </a:cubicBezTo>
                <a:cubicBezTo>
                  <a:pt x="15" y="0"/>
                  <a:pt x="16" y="0"/>
                  <a:pt x="17" y="0"/>
                </a:cubicBezTo>
                <a:cubicBezTo>
                  <a:pt x="17" y="0"/>
                  <a:pt x="18" y="1"/>
                  <a:pt x="18" y="1"/>
                </a:cubicBezTo>
                <a:cubicBezTo>
                  <a:pt x="18" y="3"/>
                  <a:pt x="18" y="3"/>
                  <a:pt x="18" y="3"/>
                </a:cubicBezTo>
                <a:cubicBezTo>
                  <a:pt x="7" y="14"/>
                  <a:pt x="7" y="14"/>
                  <a:pt x="7" y="14"/>
                </a:cubicBezTo>
                <a:cubicBezTo>
                  <a:pt x="6" y="15"/>
                  <a:pt x="6" y="16"/>
                  <a:pt x="7" y="16"/>
                </a:cubicBezTo>
                <a:cubicBezTo>
                  <a:pt x="18" y="27"/>
                  <a:pt x="18" y="27"/>
                  <a:pt x="18" y="27"/>
                </a:cubicBezTo>
                <a:lnTo>
                  <a:pt x="18" y="29"/>
                </a:lnTo>
                <a:close/>
                <a:moveTo>
                  <a:pt x="44" y="42"/>
                </a:moveTo>
                <a:cubicBezTo>
                  <a:pt x="44" y="42"/>
                  <a:pt x="44" y="43"/>
                  <a:pt x="43" y="43"/>
                </a:cubicBezTo>
                <a:cubicBezTo>
                  <a:pt x="43" y="43"/>
                  <a:pt x="43" y="43"/>
                  <a:pt x="43" y="43"/>
                </a:cubicBezTo>
                <a:cubicBezTo>
                  <a:pt x="43" y="42"/>
                  <a:pt x="42" y="42"/>
                  <a:pt x="43" y="42"/>
                </a:cubicBezTo>
                <a:cubicBezTo>
                  <a:pt x="43" y="34"/>
                  <a:pt x="42" y="30"/>
                  <a:pt x="40" y="27"/>
                </a:cubicBezTo>
                <a:cubicBezTo>
                  <a:pt x="37" y="24"/>
                  <a:pt x="34" y="23"/>
                  <a:pt x="28" y="22"/>
                </a:cubicBezTo>
                <a:cubicBezTo>
                  <a:pt x="28" y="29"/>
                  <a:pt x="28" y="29"/>
                  <a:pt x="28" y="29"/>
                </a:cubicBezTo>
                <a:cubicBezTo>
                  <a:pt x="28" y="30"/>
                  <a:pt x="28" y="30"/>
                  <a:pt x="27" y="30"/>
                </a:cubicBezTo>
                <a:cubicBezTo>
                  <a:pt x="27" y="31"/>
                  <a:pt x="26" y="31"/>
                  <a:pt x="26" y="31"/>
                </a:cubicBezTo>
                <a:cubicBezTo>
                  <a:pt x="26" y="31"/>
                  <a:pt x="25" y="30"/>
                  <a:pt x="25" y="30"/>
                </a:cubicBezTo>
                <a:cubicBezTo>
                  <a:pt x="11" y="16"/>
                  <a:pt x="11" y="16"/>
                  <a:pt x="11" y="16"/>
                </a:cubicBezTo>
                <a:cubicBezTo>
                  <a:pt x="11" y="16"/>
                  <a:pt x="11" y="15"/>
                  <a:pt x="11" y="14"/>
                </a:cubicBezTo>
                <a:cubicBezTo>
                  <a:pt x="25" y="0"/>
                  <a:pt x="25" y="0"/>
                  <a:pt x="25" y="0"/>
                </a:cubicBezTo>
                <a:cubicBezTo>
                  <a:pt x="26" y="0"/>
                  <a:pt x="26" y="0"/>
                  <a:pt x="27" y="0"/>
                </a:cubicBezTo>
                <a:cubicBezTo>
                  <a:pt x="28" y="0"/>
                  <a:pt x="28" y="1"/>
                  <a:pt x="28" y="1"/>
                </a:cubicBezTo>
                <a:cubicBezTo>
                  <a:pt x="28" y="8"/>
                  <a:pt x="28" y="8"/>
                  <a:pt x="28" y="8"/>
                </a:cubicBezTo>
                <a:cubicBezTo>
                  <a:pt x="35" y="9"/>
                  <a:pt x="41" y="11"/>
                  <a:pt x="44" y="14"/>
                </a:cubicBezTo>
                <a:cubicBezTo>
                  <a:pt x="48" y="19"/>
                  <a:pt x="49" y="24"/>
                  <a:pt x="49" y="28"/>
                </a:cubicBezTo>
                <a:cubicBezTo>
                  <a:pt x="49" y="34"/>
                  <a:pt x="44" y="42"/>
                  <a:pt x="44" y="4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57" name="稻壳儿小白白(http://dwz.cn/Wu2UP)"/>
          <p:cNvSpPr/>
          <p:nvPr/>
        </p:nvSpPr>
        <p:spPr>
          <a:xfrm>
            <a:off x="3701880" y="2882880"/>
            <a:ext cx="184320" cy="326880"/>
          </a:xfrm>
          <a:custGeom>
            <a:avLst/>
            <a:gdLst/>
            <a:ahLst/>
            <a:rect l="l" t="t" r="r" b="b"/>
            <a:pathLst>
              <a:path w="27" h="47">
                <a:moveTo>
                  <a:pt x="27" y="29"/>
                </a:moveTo>
                <a:cubicBezTo>
                  <a:pt x="27" y="30"/>
                  <a:pt x="26" y="31"/>
                  <a:pt x="25" y="31"/>
                </a:cubicBezTo>
                <a:cubicBezTo>
                  <a:pt x="23" y="31"/>
                  <a:pt x="22" y="30"/>
                  <a:pt x="22" y="29"/>
                </a:cubicBezTo>
                <a:cubicBezTo>
                  <a:pt x="22" y="19"/>
                  <a:pt x="22" y="19"/>
                  <a:pt x="22" y="19"/>
                </a:cubicBezTo>
                <a:cubicBezTo>
                  <a:pt x="20" y="19"/>
                  <a:pt x="20" y="19"/>
                  <a:pt x="20" y="19"/>
                </a:cubicBezTo>
                <a:cubicBezTo>
                  <a:pt x="20" y="44"/>
                  <a:pt x="20" y="44"/>
                  <a:pt x="20" y="44"/>
                </a:cubicBezTo>
                <a:cubicBezTo>
                  <a:pt x="20" y="45"/>
                  <a:pt x="19" y="47"/>
                  <a:pt x="17" y="47"/>
                </a:cubicBezTo>
                <a:cubicBezTo>
                  <a:pt x="16" y="47"/>
                  <a:pt x="14" y="45"/>
                  <a:pt x="14" y="44"/>
                </a:cubicBezTo>
                <a:cubicBezTo>
                  <a:pt x="14" y="31"/>
                  <a:pt x="14" y="31"/>
                  <a:pt x="14" y="31"/>
                </a:cubicBezTo>
                <a:cubicBezTo>
                  <a:pt x="13" y="31"/>
                  <a:pt x="13" y="31"/>
                  <a:pt x="13" y="31"/>
                </a:cubicBezTo>
                <a:cubicBezTo>
                  <a:pt x="13" y="44"/>
                  <a:pt x="13" y="44"/>
                  <a:pt x="13" y="44"/>
                </a:cubicBezTo>
                <a:cubicBezTo>
                  <a:pt x="13" y="45"/>
                  <a:pt x="11" y="47"/>
                  <a:pt x="10" y="47"/>
                </a:cubicBezTo>
                <a:cubicBezTo>
                  <a:pt x="8" y="47"/>
                  <a:pt x="7" y="45"/>
                  <a:pt x="7" y="44"/>
                </a:cubicBezTo>
                <a:cubicBezTo>
                  <a:pt x="7" y="19"/>
                  <a:pt x="7" y="19"/>
                  <a:pt x="7" y="19"/>
                </a:cubicBezTo>
                <a:cubicBezTo>
                  <a:pt x="5" y="19"/>
                  <a:pt x="5" y="19"/>
                  <a:pt x="5" y="19"/>
                </a:cubicBezTo>
                <a:cubicBezTo>
                  <a:pt x="5" y="29"/>
                  <a:pt x="5" y="29"/>
                  <a:pt x="5" y="29"/>
                </a:cubicBezTo>
                <a:cubicBezTo>
                  <a:pt x="5" y="30"/>
                  <a:pt x="4" y="31"/>
                  <a:pt x="2" y="31"/>
                </a:cubicBezTo>
                <a:cubicBezTo>
                  <a:pt x="1" y="31"/>
                  <a:pt x="0" y="30"/>
                  <a:pt x="0" y="29"/>
                </a:cubicBezTo>
                <a:cubicBezTo>
                  <a:pt x="0" y="18"/>
                  <a:pt x="0" y="18"/>
                  <a:pt x="0" y="18"/>
                </a:cubicBezTo>
                <a:cubicBezTo>
                  <a:pt x="0" y="15"/>
                  <a:pt x="2" y="12"/>
                  <a:pt x="5" y="12"/>
                </a:cubicBezTo>
                <a:cubicBezTo>
                  <a:pt x="22" y="12"/>
                  <a:pt x="22" y="12"/>
                  <a:pt x="22" y="12"/>
                </a:cubicBezTo>
                <a:cubicBezTo>
                  <a:pt x="25" y="12"/>
                  <a:pt x="27" y="15"/>
                  <a:pt x="27" y="18"/>
                </a:cubicBezTo>
                <a:lnTo>
                  <a:pt x="27" y="29"/>
                </a:lnTo>
                <a:close/>
                <a:moveTo>
                  <a:pt x="14" y="12"/>
                </a:moveTo>
                <a:cubicBezTo>
                  <a:pt x="10" y="12"/>
                  <a:pt x="8" y="9"/>
                  <a:pt x="8" y="6"/>
                </a:cubicBezTo>
                <a:cubicBezTo>
                  <a:pt x="8" y="2"/>
                  <a:pt x="10" y="0"/>
                  <a:pt x="14" y="0"/>
                </a:cubicBezTo>
                <a:cubicBezTo>
                  <a:pt x="17" y="0"/>
                  <a:pt x="20" y="2"/>
                  <a:pt x="20" y="6"/>
                </a:cubicBezTo>
                <a:cubicBezTo>
                  <a:pt x="20" y="9"/>
                  <a:pt x="17" y="12"/>
                  <a:pt x="14" y="1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58" name="稻壳儿小白白(http://dwz.cn/Wu2UP)"/>
          <p:cNvSpPr/>
          <p:nvPr/>
        </p:nvSpPr>
        <p:spPr>
          <a:xfrm>
            <a:off x="3701880" y="3408480"/>
            <a:ext cx="184320" cy="282600"/>
          </a:xfrm>
          <a:custGeom>
            <a:avLst/>
            <a:gdLst/>
            <a:ahLst/>
            <a:rect l="l" t="t" r="r" b="b"/>
            <a:pathLst>
              <a:path w="27" h="41">
                <a:moveTo>
                  <a:pt x="26" y="18"/>
                </a:moveTo>
                <a:cubicBezTo>
                  <a:pt x="17" y="39"/>
                  <a:pt x="17" y="39"/>
                  <a:pt x="17" y="39"/>
                </a:cubicBezTo>
                <a:cubicBezTo>
                  <a:pt x="16" y="40"/>
                  <a:pt x="15" y="41"/>
                  <a:pt x="14" y="41"/>
                </a:cubicBezTo>
                <a:cubicBezTo>
                  <a:pt x="12" y="41"/>
                  <a:pt x="11" y="40"/>
                  <a:pt x="10" y="39"/>
                </a:cubicBezTo>
                <a:cubicBezTo>
                  <a:pt x="1" y="18"/>
                  <a:pt x="1" y="18"/>
                  <a:pt x="1" y="18"/>
                </a:cubicBezTo>
                <a:cubicBezTo>
                  <a:pt x="0" y="17"/>
                  <a:pt x="0" y="15"/>
                  <a:pt x="0" y="13"/>
                </a:cubicBezTo>
                <a:cubicBezTo>
                  <a:pt x="0" y="6"/>
                  <a:pt x="6" y="0"/>
                  <a:pt x="14" y="0"/>
                </a:cubicBezTo>
                <a:cubicBezTo>
                  <a:pt x="21" y="0"/>
                  <a:pt x="27" y="6"/>
                  <a:pt x="27" y="13"/>
                </a:cubicBezTo>
                <a:cubicBezTo>
                  <a:pt x="27" y="15"/>
                  <a:pt x="27" y="17"/>
                  <a:pt x="26" y="18"/>
                </a:cubicBezTo>
                <a:close/>
                <a:moveTo>
                  <a:pt x="14" y="7"/>
                </a:moveTo>
                <a:cubicBezTo>
                  <a:pt x="10" y="7"/>
                  <a:pt x="7" y="10"/>
                  <a:pt x="7" y="13"/>
                </a:cubicBezTo>
                <a:cubicBezTo>
                  <a:pt x="7" y="17"/>
                  <a:pt x="10" y="20"/>
                  <a:pt x="14" y="20"/>
                </a:cubicBezTo>
                <a:cubicBezTo>
                  <a:pt x="17" y="20"/>
                  <a:pt x="20" y="17"/>
                  <a:pt x="20" y="13"/>
                </a:cubicBezTo>
                <a:cubicBezTo>
                  <a:pt x="20" y="10"/>
                  <a:pt x="17" y="7"/>
                  <a:pt x="14" y="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59" name="稻壳儿小白白(http://dwz.cn/Wu2UP)"/>
          <p:cNvSpPr/>
          <p:nvPr/>
        </p:nvSpPr>
        <p:spPr>
          <a:xfrm>
            <a:off x="3632040" y="3941640"/>
            <a:ext cx="324000" cy="233640"/>
          </a:xfrm>
          <a:custGeom>
            <a:avLst/>
            <a:gdLst/>
            <a:ahLst/>
            <a:rect l="l" t="t" r="r" b="b"/>
            <a:pathLst>
              <a:path w="47" h="34">
                <a:moveTo>
                  <a:pt x="42" y="34"/>
                </a:moveTo>
                <a:cubicBezTo>
                  <a:pt x="33" y="34"/>
                  <a:pt x="33" y="34"/>
                  <a:pt x="33" y="34"/>
                </a:cubicBezTo>
                <a:cubicBezTo>
                  <a:pt x="38" y="12"/>
                  <a:pt x="38" y="12"/>
                  <a:pt x="38" y="12"/>
                </a:cubicBezTo>
                <a:cubicBezTo>
                  <a:pt x="38" y="11"/>
                  <a:pt x="38" y="10"/>
                  <a:pt x="37" y="9"/>
                </a:cubicBezTo>
                <a:cubicBezTo>
                  <a:pt x="37" y="9"/>
                  <a:pt x="36" y="8"/>
                  <a:pt x="35" y="8"/>
                </a:cubicBezTo>
                <a:cubicBezTo>
                  <a:pt x="31" y="8"/>
                  <a:pt x="31" y="8"/>
                  <a:pt x="31" y="8"/>
                </a:cubicBezTo>
                <a:cubicBezTo>
                  <a:pt x="25" y="34"/>
                  <a:pt x="25" y="34"/>
                  <a:pt x="25" y="34"/>
                </a:cubicBezTo>
                <a:cubicBezTo>
                  <a:pt x="16" y="34"/>
                  <a:pt x="16" y="34"/>
                  <a:pt x="16" y="34"/>
                </a:cubicBezTo>
                <a:cubicBezTo>
                  <a:pt x="22" y="8"/>
                  <a:pt x="22" y="8"/>
                  <a:pt x="22" y="8"/>
                </a:cubicBezTo>
                <a:cubicBezTo>
                  <a:pt x="14" y="8"/>
                  <a:pt x="14" y="8"/>
                  <a:pt x="14" y="8"/>
                </a:cubicBezTo>
                <a:cubicBezTo>
                  <a:pt x="8" y="34"/>
                  <a:pt x="8" y="34"/>
                  <a:pt x="8" y="34"/>
                </a:cubicBezTo>
                <a:cubicBezTo>
                  <a:pt x="0" y="34"/>
                  <a:pt x="0" y="34"/>
                  <a:pt x="0" y="34"/>
                </a:cubicBezTo>
                <a:cubicBezTo>
                  <a:pt x="5" y="8"/>
                  <a:pt x="5" y="8"/>
                  <a:pt x="5" y="8"/>
                </a:cubicBezTo>
                <a:cubicBezTo>
                  <a:pt x="1" y="0"/>
                  <a:pt x="1" y="0"/>
                  <a:pt x="1" y="0"/>
                </a:cubicBezTo>
                <a:cubicBezTo>
                  <a:pt x="35" y="0"/>
                  <a:pt x="35" y="0"/>
                  <a:pt x="35" y="0"/>
                </a:cubicBezTo>
                <a:cubicBezTo>
                  <a:pt x="39" y="0"/>
                  <a:pt x="42" y="1"/>
                  <a:pt x="44" y="4"/>
                </a:cubicBezTo>
                <a:cubicBezTo>
                  <a:pt x="46" y="6"/>
                  <a:pt x="47" y="10"/>
                  <a:pt x="46" y="14"/>
                </a:cubicBezTo>
                <a:lnTo>
                  <a:pt x="42" y="3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60" name="稻壳儿小白白(http://dwz.cn/Wu2UP)"/>
          <p:cNvSpPr/>
          <p:nvPr/>
        </p:nvSpPr>
        <p:spPr>
          <a:xfrm>
            <a:off x="3632040" y="4425840"/>
            <a:ext cx="333360" cy="284400"/>
          </a:xfrm>
          <a:custGeom>
            <a:avLst/>
            <a:gdLst/>
            <a:ahLst/>
            <a:rect l="l" t="t" r="r" b="b"/>
            <a:pathLst>
              <a:path w="48" h="41">
                <a:moveTo>
                  <a:pt x="6" y="41"/>
                </a:moveTo>
                <a:cubicBezTo>
                  <a:pt x="6" y="41"/>
                  <a:pt x="6" y="41"/>
                  <a:pt x="6" y="41"/>
                </a:cubicBezTo>
                <a:cubicBezTo>
                  <a:pt x="2" y="41"/>
                  <a:pt x="0" y="38"/>
                  <a:pt x="0" y="35"/>
                </a:cubicBezTo>
                <a:cubicBezTo>
                  <a:pt x="0" y="13"/>
                  <a:pt x="0" y="13"/>
                  <a:pt x="0" y="13"/>
                </a:cubicBezTo>
                <a:cubicBezTo>
                  <a:pt x="0" y="9"/>
                  <a:pt x="2" y="7"/>
                  <a:pt x="6" y="7"/>
                </a:cubicBezTo>
                <a:cubicBezTo>
                  <a:pt x="6" y="7"/>
                  <a:pt x="6" y="7"/>
                  <a:pt x="6" y="7"/>
                </a:cubicBezTo>
                <a:lnTo>
                  <a:pt x="6" y="41"/>
                </a:lnTo>
                <a:close/>
                <a:moveTo>
                  <a:pt x="38" y="41"/>
                </a:moveTo>
                <a:cubicBezTo>
                  <a:pt x="9" y="41"/>
                  <a:pt x="9" y="41"/>
                  <a:pt x="9" y="41"/>
                </a:cubicBezTo>
                <a:cubicBezTo>
                  <a:pt x="9" y="7"/>
                  <a:pt x="9" y="7"/>
                  <a:pt x="9" y="7"/>
                </a:cubicBezTo>
                <a:cubicBezTo>
                  <a:pt x="13" y="7"/>
                  <a:pt x="13" y="7"/>
                  <a:pt x="13" y="7"/>
                </a:cubicBezTo>
                <a:cubicBezTo>
                  <a:pt x="13" y="2"/>
                  <a:pt x="13" y="2"/>
                  <a:pt x="13" y="2"/>
                </a:cubicBezTo>
                <a:cubicBezTo>
                  <a:pt x="13" y="1"/>
                  <a:pt x="14" y="0"/>
                  <a:pt x="16" y="0"/>
                </a:cubicBezTo>
                <a:cubicBezTo>
                  <a:pt x="31" y="0"/>
                  <a:pt x="31" y="0"/>
                  <a:pt x="31" y="0"/>
                </a:cubicBezTo>
                <a:cubicBezTo>
                  <a:pt x="33" y="0"/>
                  <a:pt x="34" y="1"/>
                  <a:pt x="34" y="2"/>
                </a:cubicBezTo>
                <a:cubicBezTo>
                  <a:pt x="34" y="7"/>
                  <a:pt x="34" y="7"/>
                  <a:pt x="34" y="7"/>
                </a:cubicBezTo>
                <a:cubicBezTo>
                  <a:pt x="38" y="7"/>
                  <a:pt x="38" y="7"/>
                  <a:pt x="38" y="7"/>
                </a:cubicBezTo>
                <a:lnTo>
                  <a:pt x="38" y="41"/>
                </a:lnTo>
                <a:close/>
                <a:moveTo>
                  <a:pt x="34" y="21"/>
                </a:moveTo>
                <a:cubicBezTo>
                  <a:pt x="34" y="21"/>
                  <a:pt x="33" y="20"/>
                  <a:pt x="33" y="20"/>
                </a:cubicBezTo>
                <a:cubicBezTo>
                  <a:pt x="27" y="20"/>
                  <a:pt x="27" y="20"/>
                  <a:pt x="27" y="20"/>
                </a:cubicBezTo>
                <a:cubicBezTo>
                  <a:pt x="27" y="14"/>
                  <a:pt x="27" y="14"/>
                  <a:pt x="27" y="14"/>
                </a:cubicBezTo>
                <a:cubicBezTo>
                  <a:pt x="27" y="14"/>
                  <a:pt x="27" y="14"/>
                  <a:pt x="26" y="14"/>
                </a:cubicBezTo>
                <a:cubicBezTo>
                  <a:pt x="21" y="14"/>
                  <a:pt x="21" y="14"/>
                  <a:pt x="21" y="14"/>
                </a:cubicBezTo>
                <a:cubicBezTo>
                  <a:pt x="20" y="14"/>
                  <a:pt x="20" y="14"/>
                  <a:pt x="20" y="14"/>
                </a:cubicBezTo>
                <a:cubicBezTo>
                  <a:pt x="20" y="20"/>
                  <a:pt x="20" y="20"/>
                  <a:pt x="20" y="20"/>
                </a:cubicBezTo>
                <a:cubicBezTo>
                  <a:pt x="14" y="20"/>
                  <a:pt x="14" y="20"/>
                  <a:pt x="14" y="20"/>
                </a:cubicBezTo>
                <a:cubicBezTo>
                  <a:pt x="14" y="20"/>
                  <a:pt x="13" y="21"/>
                  <a:pt x="13" y="21"/>
                </a:cubicBezTo>
                <a:cubicBezTo>
                  <a:pt x="13" y="26"/>
                  <a:pt x="13" y="26"/>
                  <a:pt x="13" y="26"/>
                </a:cubicBezTo>
                <a:cubicBezTo>
                  <a:pt x="13" y="27"/>
                  <a:pt x="14" y="27"/>
                  <a:pt x="14" y="27"/>
                </a:cubicBezTo>
                <a:cubicBezTo>
                  <a:pt x="20" y="27"/>
                  <a:pt x="20" y="27"/>
                  <a:pt x="20" y="27"/>
                </a:cubicBezTo>
                <a:cubicBezTo>
                  <a:pt x="20" y="33"/>
                  <a:pt x="20" y="33"/>
                  <a:pt x="20" y="33"/>
                </a:cubicBezTo>
                <a:cubicBezTo>
                  <a:pt x="20" y="34"/>
                  <a:pt x="20" y="34"/>
                  <a:pt x="21" y="34"/>
                </a:cubicBezTo>
                <a:cubicBezTo>
                  <a:pt x="26" y="34"/>
                  <a:pt x="26" y="34"/>
                  <a:pt x="26" y="34"/>
                </a:cubicBezTo>
                <a:cubicBezTo>
                  <a:pt x="27" y="34"/>
                  <a:pt x="27" y="34"/>
                  <a:pt x="27" y="33"/>
                </a:cubicBezTo>
                <a:cubicBezTo>
                  <a:pt x="27" y="27"/>
                  <a:pt x="27" y="27"/>
                  <a:pt x="27" y="27"/>
                </a:cubicBezTo>
                <a:cubicBezTo>
                  <a:pt x="33" y="27"/>
                  <a:pt x="33" y="27"/>
                  <a:pt x="33" y="27"/>
                </a:cubicBezTo>
                <a:cubicBezTo>
                  <a:pt x="33" y="27"/>
                  <a:pt x="34" y="27"/>
                  <a:pt x="34" y="26"/>
                </a:cubicBezTo>
                <a:lnTo>
                  <a:pt x="34" y="21"/>
                </a:lnTo>
                <a:close/>
                <a:moveTo>
                  <a:pt x="30" y="7"/>
                </a:moveTo>
                <a:cubicBezTo>
                  <a:pt x="30" y="3"/>
                  <a:pt x="30" y="3"/>
                  <a:pt x="30" y="3"/>
                </a:cubicBezTo>
                <a:cubicBezTo>
                  <a:pt x="17" y="3"/>
                  <a:pt x="17" y="3"/>
                  <a:pt x="17" y="3"/>
                </a:cubicBezTo>
                <a:cubicBezTo>
                  <a:pt x="17" y="7"/>
                  <a:pt x="17" y="7"/>
                  <a:pt x="17" y="7"/>
                </a:cubicBezTo>
                <a:lnTo>
                  <a:pt x="30" y="7"/>
                </a:lnTo>
                <a:close/>
                <a:moveTo>
                  <a:pt x="48" y="35"/>
                </a:moveTo>
                <a:cubicBezTo>
                  <a:pt x="48" y="38"/>
                  <a:pt x="45" y="41"/>
                  <a:pt x="42" y="41"/>
                </a:cubicBezTo>
                <a:cubicBezTo>
                  <a:pt x="41" y="41"/>
                  <a:pt x="41" y="41"/>
                  <a:pt x="41" y="41"/>
                </a:cubicBezTo>
                <a:cubicBezTo>
                  <a:pt x="41" y="7"/>
                  <a:pt x="41" y="7"/>
                  <a:pt x="41" y="7"/>
                </a:cubicBezTo>
                <a:cubicBezTo>
                  <a:pt x="42" y="7"/>
                  <a:pt x="42" y="7"/>
                  <a:pt x="42" y="7"/>
                </a:cubicBezTo>
                <a:cubicBezTo>
                  <a:pt x="45" y="7"/>
                  <a:pt x="48" y="9"/>
                  <a:pt x="48" y="13"/>
                </a:cubicBezTo>
                <a:lnTo>
                  <a:pt x="48" y="35"/>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61" name="稻壳儿小白白(http://dwz.cn/Wu2UP)"/>
          <p:cNvSpPr/>
          <p:nvPr/>
        </p:nvSpPr>
        <p:spPr>
          <a:xfrm>
            <a:off x="3652920" y="4930920"/>
            <a:ext cx="282600" cy="288720"/>
          </a:xfrm>
          <a:custGeom>
            <a:avLst/>
            <a:gdLst/>
            <a:ahLst/>
            <a:rect l="l" t="t" r="r" b="b"/>
            <a:pathLst>
              <a:path w="41" h="42">
                <a:moveTo>
                  <a:pt x="21" y="42"/>
                </a:moveTo>
                <a:cubicBezTo>
                  <a:pt x="9" y="42"/>
                  <a:pt x="0" y="32"/>
                  <a:pt x="0" y="21"/>
                </a:cubicBezTo>
                <a:cubicBezTo>
                  <a:pt x="0" y="10"/>
                  <a:pt x="9" y="0"/>
                  <a:pt x="21" y="0"/>
                </a:cubicBezTo>
                <a:cubicBezTo>
                  <a:pt x="32" y="0"/>
                  <a:pt x="41" y="10"/>
                  <a:pt x="41" y="21"/>
                </a:cubicBezTo>
                <a:cubicBezTo>
                  <a:pt x="41" y="32"/>
                  <a:pt x="32" y="42"/>
                  <a:pt x="21" y="42"/>
                </a:cubicBezTo>
                <a:close/>
                <a:moveTo>
                  <a:pt x="21" y="4"/>
                </a:moveTo>
                <a:cubicBezTo>
                  <a:pt x="11" y="4"/>
                  <a:pt x="3" y="12"/>
                  <a:pt x="3" y="21"/>
                </a:cubicBezTo>
                <a:cubicBezTo>
                  <a:pt x="3" y="31"/>
                  <a:pt x="11" y="38"/>
                  <a:pt x="21" y="38"/>
                </a:cubicBezTo>
                <a:cubicBezTo>
                  <a:pt x="30" y="38"/>
                  <a:pt x="38" y="31"/>
                  <a:pt x="38" y="21"/>
                </a:cubicBezTo>
                <a:cubicBezTo>
                  <a:pt x="38" y="12"/>
                  <a:pt x="30" y="4"/>
                  <a:pt x="21" y="4"/>
                </a:cubicBezTo>
                <a:close/>
                <a:moveTo>
                  <a:pt x="14" y="18"/>
                </a:moveTo>
                <a:cubicBezTo>
                  <a:pt x="12" y="18"/>
                  <a:pt x="10" y="16"/>
                  <a:pt x="10" y="14"/>
                </a:cubicBezTo>
                <a:cubicBezTo>
                  <a:pt x="10" y="12"/>
                  <a:pt x="12" y="11"/>
                  <a:pt x="14" y="11"/>
                </a:cubicBezTo>
                <a:cubicBezTo>
                  <a:pt x="16" y="11"/>
                  <a:pt x="17" y="12"/>
                  <a:pt x="17" y="14"/>
                </a:cubicBezTo>
                <a:cubicBezTo>
                  <a:pt x="17" y="16"/>
                  <a:pt x="16" y="18"/>
                  <a:pt x="14" y="18"/>
                </a:cubicBezTo>
                <a:close/>
                <a:moveTo>
                  <a:pt x="29" y="28"/>
                </a:moveTo>
                <a:cubicBezTo>
                  <a:pt x="12" y="28"/>
                  <a:pt x="12" y="28"/>
                  <a:pt x="12" y="28"/>
                </a:cubicBezTo>
                <a:cubicBezTo>
                  <a:pt x="11" y="28"/>
                  <a:pt x="10" y="27"/>
                  <a:pt x="10" y="26"/>
                </a:cubicBezTo>
                <a:cubicBezTo>
                  <a:pt x="10" y="25"/>
                  <a:pt x="11" y="24"/>
                  <a:pt x="12" y="24"/>
                </a:cubicBezTo>
                <a:cubicBezTo>
                  <a:pt x="29" y="24"/>
                  <a:pt x="29" y="24"/>
                  <a:pt x="29" y="24"/>
                </a:cubicBezTo>
                <a:cubicBezTo>
                  <a:pt x="30" y="24"/>
                  <a:pt x="31" y="25"/>
                  <a:pt x="31" y="26"/>
                </a:cubicBezTo>
                <a:cubicBezTo>
                  <a:pt x="31" y="27"/>
                  <a:pt x="30" y="28"/>
                  <a:pt x="29" y="28"/>
                </a:cubicBezTo>
                <a:close/>
                <a:moveTo>
                  <a:pt x="27" y="18"/>
                </a:moveTo>
                <a:cubicBezTo>
                  <a:pt x="25" y="18"/>
                  <a:pt x="24" y="16"/>
                  <a:pt x="24" y="14"/>
                </a:cubicBezTo>
                <a:cubicBezTo>
                  <a:pt x="24" y="12"/>
                  <a:pt x="25" y="11"/>
                  <a:pt x="27" y="11"/>
                </a:cubicBezTo>
                <a:cubicBezTo>
                  <a:pt x="29" y="11"/>
                  <a:pt x="31" y="12"/>
                  <a:pt x="31" y="14"/>
                </a:cubicBezTo>
                <a:cubicBezTo>
                  <a:pt x="31" y="16"/>
                  <a:pt x="29" y="18"/>
                  <a:pt x="27" y="1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62" name="稻壳儿小白白(http://dwz.cn/Wu2UP)"/>
          <p:cNvSpPr/>
          <p:nvPr/>
        </p:nvSpPr>
        <p:spPr>
          <a:xfrm>
            <a:off x="3687840" y="5421240"/>
            <a:ext cx="212760" cy="303120"/>
          </a:xfrm>
          <a:custGeom>
            <a:avLst/>
            <a:gdLst/>
            <a:ahLst/>
            <a:rect l="l" t="t" r="r" b="b"/>
            <a:pathLst>
              <a:path w="31" h="44">
                <a:moveTo>
                  <a:pt x="31" y="22"/>
                </a:moveTo>
                <a:cubicBezTo>
                  <a:pt x="31" y="30"/>
                  <a:pt x="25" y="36"/>
                  <a:pt x="17" y="37"/>
                </a:cubicBezTo>
                <a:cubicBezTo>
                  <a:pt x="17" y="41"/>
                  <a:pt x="17" y="41"/>
                  <a:pt x="17" y="41"/>
                </a:cubicBezTo>
                <a:cubicBezTo>
                  <a:pt x="24" y="41"/>
                  <a:pt x="24" y="41"/>
                  <a:pt x="24" y="41"/>
                </a:cubicBezTo>
                <a:cubicBezTo>
                  <a:pt x="25" y="41"/>
                  <a:pt x="26" y="42"/>
                  <a:pt x="26" y="43"/>
                </a:cubicBezTo>
                <a:cubicBezTo>
                  <a:pt x="26" y="43"/>
                  <a:pt x="25" y="44"/>
                  <a:pt x="24" y="44"/>
                </a:cubicBezTo>
                <a:cubicBezTo>
                  <a:pt x="7" y="44"/>
                  <a:pt x="7" y="44"/>
                  <a:pt x="7" y="44"/>
                </a:cubicBezTo>
                <a:cubicBezTo>
                  <a:pt x="6" y="44"/>
                  <a:pt x="5" y="43"/>
                  <a:pt x="5" y="43"/>
                </a:cubicBezTo>
                <a:cubicBezTo>
                  <a:pt x="5" y="42"/>
                  <a:pt x="6" y="41"/>
                  <a:pt x="7" y="41"/>
                </a:cubicBezTo>
                <a:cubicBezTo>
                  <a:pt x="14" y="41"/>
                  <a:pt x="14" y="41"/>
                  <a:pt x="14" y="41"/>
                </a:cubicBezTo>
                <a:cubicBezTo>
                  <a:pt x="14" y="37"/>
                  <a:pt x="14" y="37"/>
                  <a:pt x="14" y="37"/>
                </a:cubicBezTo>
                <a:cubicBezTo>
                  <a:pt x="6" y="36"/>
                  <a:pt x="0" y="30"/>
                  <a:pt x="0" y="22"/>
                </a:cubicBezTo>
                <a:cubicBezTo>
                  <a:pt x="0" y="19"/>
                  <a:pt x="0" y="19"/>
                  <a:pt x="0" y="19"/>
                </a:cubicBezTo>
                <a:cubicBezTo>
                  <a:pt x="0" y="18"/>
                  <a:pt x="1" y="17"/>
                  <a:pt x="2" y="17"/>
                </a:cubicBezTo>
                <a:cubicBezTo>
                  <a:pt x="3" y="17"/>
                  <a:pt x="4" y="18"/>
                  <a:pt x="4" y="19"/>
                </a:cubicBezTo>
                <a:cubicBezTo>
                  <a:pt x="4" y="22"/>
                  <a:pt x="4" y="22"/>
                  <a:pt x="4" y="22"/>
                </a:cubicBezTo>
                <a:cubicBezTo>
                  <a:pt x="4" y="29"/>
                  <a:pt x="9" y="34"/>
                  <a:pt x="16" y="34"/>
                </a:cubicBezTo>
                <a:cubicBezTo>
                  <a:pt x="22" y="34"/>
                  <a:pt x="28" y="29"/>
                  <a:pt x="28" y="22"/>
                </a:cubicBezTo>
                <a:cubicBezTo>
                  <a:pt x="28" y="19"/>
                  <a:pt x="28" y="19"/>
                  <a:pt x="28" y="19"/>
                </a:cubicBezTo>
                <a:cubicBezTo>
                  <a:pt x="28" y="18"/>
                  <a:pt x="28" y="17"/>
                  <a:pt x="29" y="17"/>
                </a:cubicBezTo>
                <a:cubicBezTo>
                  <a:pt x="30" y="17"/>
                  <a:pt x="31" y="18"/>
                  <a:pt x="31" y="19"/>
                </a:cubicBezTo>
                <a:lnTo>
                  <a:pt x="31" y="22"/>
                </a:lnTo>
                <a:close/>
                <a:moveTo>
                  <a:pt x="24" y="22"/>
                </a:moveTo>
                <a:cubicBezTo>
                  <a:pt x="24" y="27"/>
                  <a:pt x="20" y="31"/>
                  <a:pt x="16" y="31"/>
                </a:cubicBezTo>
                <a:cubicBezTo>
                  <a:pt x="11" y="31"/>
                  <a:pt x="7" y="27"/>
                  <a:pt x="7" y="22"/>
                </a:cubicBezTo>
                <a:cubicBezTo>
                  <a:pt x="7" y="8"/>
                  <a:pt x="7" y="8"/>
                  <a:pt x="7" y="8"/>
                </a:cubicBezTo>
                <a:cubicBezTo>
                  <a:pt x="7" y="4"/>
                  <a:pt x="11" y="0"/>
                  <a:pt x="16" y="0"/>
                </a:cubicBezTo>
                <a:cubicBezTo>
                  <a:pt x="20" y="0"/>
                  <a:pt x="24" y="4"/>
                  <a:pt x="24" y="8"/>
                </a:cubicBezTo>
                <a:lnTo>
                  <a:pt x="24" y="2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63" name="稻壳儿小白白(http://dwz.cn/Wu2UP)"/>
          <p:cNvSpPr/>
          <p:nvPr/>
        </p:nvSpPr>
        <p:spPr>
          <a:xfrm>
            <a:off x="4508640" y="863640"/>
            <a:ext cx="293400" cy="303120"/>
          </a:xfrm>
          <a:custGeom>
            <a:avLst/>
            <a:gdLst/>
            <a:ahLst/>
            <a:rect l="l" t="t" r="r" b="b"/>
            <a:pathLst>
              <a:path w="42" h="44">
                <a:moveTo>
                  <a:pt x="42" y="32"/>
                </a:moveTo>
                <a:cubicBezTo>
                  <a:pt x="42" y="36"/>
                  <a:pt x="36" y="37"/>
                  <a:pt x="33" y="37"/>
                </a:cubicBezTo>
                <a:cubicBezTo>
                  <a:pt x="30" y="37"/>
                  <a:pt x="24" y="36"/>
                  <a:pt x="24" y="32"/>
                </a:cubicBezTo>
                <a:cubicBezTo>
                  <a:pt x="24" y="28"/>
                  <a:pt x="30" y="27"/>
                  <a:pt x="33" y="27"/>
                </a:cubicBezTo>
                <a:cubicBezTo>
                  <a:pt x="35" y="27"/>
                  <a:pt x="37" y="27"/>
                  <a:pt x="38" y="28"/>
                </a:cubicBezTo>
                <a:cubicBezTo>
                  <a:pt x="38" y="14"/>
                  <a:pt x="38" y="14"/>
                  <a:pt x="38" y="14"/>
                </a:cubicBezTo>
                <a:cubicBezTo>
                  <a:pt x="18" y="20"/>
                  <a:pt x="18" y="20"/>
                  <a:pt x="18" y="20"/>
                </a:cubicBezTo>
                <a:cubicBezTo>
                  <a:pt x="18" y="39"/>
                  <a:pt x="18" y="39"/>
                  <a:pt x="18" y="39"/>
                </a:cubicBezTo>
                <a:cubicBezTo>
                  <a:pt x="18" y="43"/>
                  <a:pt x="12" y="44"/>
                  <a:pt x="9" y="44"/>
                </a:cubicBezTo>
                <a:cubicBezTo>
                  <a:pt x="6" y="44"/>
                  <a:pt x="0" y="43"/>
                  <a:pt x="0" y="39"/>
                </a:cubicBezTo>
                <a:cubicBezTo>
                  <a:pt x="0" y="35"/>
                  <a:pt x="6" y="34"/>
                  <a:pt x="9" y="34"/>
                </a:cubicBezTo>
                <a:cubicBezTo>
                  <a:pt x="11" y="34"/>
                  <a:pt x="13" y="34"/>
                  <a:pt x="14" y="35"/>
                </a:cubicBezTo>
                <a:cubicBezTo>
                  <a:pt x="14" y="9"/>
                  <a:pt x="14" y="9"/>
                  <a:pt x="14" y="9"/>
                </a:cubicBezTo>
                <a:cubicBezTo>
                  <a:pt x="14" y="8"/>
                  <a:pt x="15" y="7"/>
                  <a:pt x="16" y="7"/>
                </a:cubicBezTo>
                <a:cubicBezTo>
                  <a:pt x="38" y="0"/>
                  <a:pt x="38" y="0"/>
                  <a:pt x="38" y="0"/>
                </a:cubicBezTo>
                <a:cubicBezTo>
                  <a:pt x="39" y="0"/>
                  <a:pt x="39" y="0"/>
                  <a:pt x="39" y="0"/>
                </a:cubicBezTo>
                <a:cubicBezTo>
                  <a:pt x="40" y="0"/>
                  <a:pt x="42" y="1"/>
                  <a:pt x="42" y="2"/>
                </a:cubicBezTo>
                <a:lnTo>
                  <a:pt x="42" y="3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64" name="稻壳儿小白白(http://dwz.cn/Wu2UP)"/>
          <p:cNvSpPr/>
          <p:nvPr/>
        </p:nvSpPr>
        <p:spPr>
          <a:xfrm>
            <a:off x="4508640" y="1397160"/>
            <a:ext cx="293400" cy="234720"/>
          </a:xfrm>
          <a:custGeom>
            <a:avLst/>
            <a:gdLst/>
            <a:ahLst/>
            <a:rect l="l" t="t" r="r" b="b"/>
            <a:pathLst>
              <a:path w="42" h="34">
                <a:moveTo>
                  <a:pt x="42" y="5"/>
                </a:moveTo>
                <a:cubicBezTo>
                  <a:pt x="42" y="6"/>
                  <a:pt x="41" y="7"/>
                  <a:pt x="40" y="7"/>
                </a:cubicBezTo>
                <a:cubicBezTo>
                  <a:pt x="2" y="7"/>
                  <a:pt x="2" y="7"/>
                  <a:pt x="2" y="7"/>
                </a:cubicBezTo>
                <a:cubicBezTo>
                  <a:pt x="1" y="7"/>
                  <a:pt x="0" y="6"/>
                  <a:pt x="0" y="5"/>
                </a:cubicBezTo>
                <a:cubicBezTo>
                  <a:pt x="0" y="1"/>
                  <a:pt x="0" y="1"/>
                  <a:pt x="0" y="1"/>
                </a:cubicBezTo>
                <a:cubicBezTo>
                  <a:pt x="0" y="0"/>
                  <a:pt x="1" y="0"/>
                  <a:pt x="2" y="0"/>
                </a:cubicBezTo>
                <a:cubicBezTo>
                  <a:pt x="40" y="0"/>
                  <a:pt x="40" y="0"/>
                  <a:pt x="40" y="0"/>
                </a:cubicBezTo>
                <a:cubicBezTo>
                  <a:pt x="41" y="0"/>
                  <a:pt x="42" y="0"/>
                  <a:pt x="42" y="1"/>
                </a:cubicBezTo>
                <a:lnTo>
                  <a:pt x="42" y="5"/>
                </a:lnTo>
                <a:close/>
                <a:moveTo>
                  <a:pt x="42" y="19"/>
                </a:moveTo>
                <a:cubicBezTo>
                  <a:pt x="42" y="20"/>
                  <a:pt x="41" y="20"/>
                  <a:pt x="40" y="20"/>
                </a:cubicBezTo>
                <a:cubicBezTo>
                  <a:pt x="2" y="20"/>
                  <a:pt x="2" y="20"/>
                  <a:pt x="2" y="20"/>
                </a:cubicBezTo>
                <a:cubicBezTo>
                  <a:pt x="1" y="20"/>
                  <a:pt x="0" y="20"/>
                  <a:pt x="0" y="19"/>
                </a:cubicBezTo>
                <a:cubicBezTo>
                  <a:pt x="0" y="15"/>
                  <a:pt x="0" y="15"/>
                  <a:pt x="0" y="15"/>
                </a:cubicBezTo>
                <a:cubicBezTo>
                  <a:pt x="0" y="14"/>
                  <a:pt x="1" y="13"/>
                  <a:pt x="2" y="13"/>
                </a:cubicBezTo>
                <a:cubicBezTo>
                  <a:pt x="40" y="13"/>
                  <a:pt x="40" y="13"/>
                  <a:pt x="40" y="13"/>
                </a:cubicBezTo>
                <a:cubicBezTo>
                  <a:pt x="41" y="13"/>
                  <a:pt x="42" y="14"/>
                  <a:pt x="42" y="15"/>
                </a:cubicBezTo>
                <a:lnTo>
                  <a:pt x="42" y="19"/>
                </a:lnTo>
                <a:close/>
                <a:moveTo>
                  <a:pt x="42" y="32"/>
                </a:moveTo>
                <a:cubicBezTo>
                  <a:pt x="42" y="33"/>
                  <a:pt x="41" y="34"/>
                  <a:pt x="40" y="34"/>
                </a:cubicBezTo>
                <a:cubicBezTo>
                  <a:pt x="2" y="34"/>
                  <a:pt x="2" y="34"/>
                  <a:pt x="2" y="34"/>
                </a:cubicBezTo>
                <a:cubicBezTo>
                  <a:pt x="1" y="34"/>
                  <a:pt x="0" y="33"/>
                  <a:pt x="0" y="32"/>
                </a:cubicBezTo>
                <a:cubicBezTo>
                  <a:pt x="0" y="29"/>
                  <a:pt x="0" y="29"/>
                  <a:pt x="0" y="29"/>
                </a:cubicBezTo>
                <a:cubicBezTo>
                  <a:pt x="0" y="28"/>
                  <a:pt x="1" y="27"/>
                  <a:pt x="2" y="27"/>
                </a:cubicBezTo>
                <a:cubicBezTo>
                  <a:pt x="40" y="27"/>
                  <a:pt x="40" y="27"/>
                  <a:pt x="40" y="27"/>
                </a:cubicBezTo>
                <a:cubicBezTo>
                  <a:pt x="41" y="27"/>
                  <a:pt x="42" y="28"/>
                  <a:pt x="42" y="29"/>
                </a:cubicBezTo>
                <a:lnTo>
                  <a:pt x="42" y="3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65" name="稻壳儿小白白(http://dwz.cn/Wu2UP)"/>
          <p:cNvSpPr/>
          <p:nvPr/>
        </p:nvSpPr>
        <p:spPr>
          <a:xfrm>
            <a:off x="4489560" y="1852560"/>
            <a:ext cx="333360" cy="312840"/>
          </a:xfrm>
          <a:custGeom>
            <a:avLst/>
            <a:gdLst/>
            <a:ahLst/>
            <a:rect l="l" t="t" r="r" b="b"/>
            <a:pathLst>
              <a:path w="48" h="45">
                <a:moveTo>
                  <a:pt x="29" y="42"/>
                </a:moveTo>
                <a:cubicBezTo>
                  <a:pt x="22" y="45"/>
                  <a:pt x="22" y="45"/>
                  <a:pt x="22" y="45"/>
                </a:cubicBezTo>
                <a:cubicBezTo>
                  <a:pt x="10" y="44"/>
                  <a:pt x="0" y="37"/>
                  <a:pt x="0" y="29"/>
                </a:cubicBezTo>
                <a:cubicBezTo>
                  <a:pt x="0" y="22"/>
                  <a:pt x="9" y="15"/>
                  <a:pt x="21" y="14"/>
                </a:cubicBezTo>
                <a:cubicBezTo>
                  <a:pt x="21" y="19"/>
                  <a:pt x="21" y="19"/>
                  <a:pt x="21" y="19"/>
                </a:cubicBezTo>
                <a:cubicBezTo>
                  <a:pt x="13" y="20"/>
                  <a:pt x="7" y="24"/>
                  <a:pt x="7" y="29"/>
                </a:cubicBezTo>
                <a:cubicBezTo>
                  <a:pt x="7" y="35"/>
                  <a:pt x="14" y="39"/>
                  <a:pt x="22" y="40"/>
                </a:cubicBezTo>
                <a:cubicBezTo>
                  <a:pt x="22" y="4"/>
                  <a:pt x="22" y="4"/>
                  <a:pt x="22" y="4"/>
                </a:cubicBezTo>
                <a:cubicBezTo>
                  <a:pt x="29" y="0"/>
                  <a:pt x="29" y="0"/>
                  <a:pt x="29" y="0"/>
                </a:cubicBezTo>
                <a:lnTo>
                  <a:pt x="29" y="42"/>
                </a:lnTo>
                <a:close/>
                <a:moveTo>
                  <a:pt x="48" y="26"/>
                </a:moveTo>
                <a:cubicBezTo>
                  <a:pt x="34" y="23"/>
                  <a:pt x="34" y="23"/>
                  <a:pt x="34" y="23"/>
                </a:cubicBezTo>
                <a:cubicBezTo>
                  <a:pt x="38" y="21"/>
                  <a:pt x="38" y="21"/>
                  <a:pt x="38" y="21"/>
                </a:cubicBezTo>
                <a:cubicBezTo>
                  <a:pt x="36" y="20"/>
                  <a:pt x="33" y="19"/>
                  <a:pt x="30" y="19"/>
                </a:cubicBezTo>
                <a:cubicBezTo>
                  <a:pt x="30" y="14"/>
                  <a:pt x="30" y="14"/>
                  <a:pt x="30" y="14"/>
                </a:cubicBezTo>
                <a:cubicBezTo>
                  <a:pt x="35" y="15"/>
                  <a:pt x="40" y="16"/>
                  <a:pt x="43" y="18"/>
                </a:cubicBezTo>
                <a:cubicBezTo>
                  <a:pt x="47" y="16"/>
                  <a:pt x="47" y="16"/>
                  <a:pt x="47" y="16"/>
                </a:cubicBezTo>
                <a:lnTo>
                  <a:pt x="48" y="2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66" name="稻壳儿小白白(http://dwz.cn/Wu2UP)"/>
          <p:cNvSpPr/>
          <p:nvPr/>
        </p:nvSpPr>
        <p:spPr>
          <a:xfrm>
            <a:off x="4489560" y="2386080"/>
            <a:ext cx="333360" cy="263520"/>
          </a:xfrm>
          <a:custGeom>
            <a:avLst/>
            <a:gdLst/>
            <a:ahLst/>
            <a:rect l="l" t="t" r="r" b="b"/>
            <a:pathLst>
              <a:path w="48" h="38">
                <a:moveTo>
                  <a:pt x="48" y="6"/>
                </a:moveTo>
                <a:cubicBezTo>
                  <a:pt x="48" y="7"/>
                  <a:pt x="48" y="7"/>
                  <a:pt x="47" y="7"/>
                </a:cubicBezTo>
                <a:cubicBezTo>
                  <a:pt x="1" y="7"/>
                  <a:pt x="1" y="7"/>
                  <a:pt x="1" y="7"/>
                </a:cubicBezTo>
                <a:cubicBezTo>
                  <a:pt x="0" y="7"/>
                  <a:pt x="0" y="7"/>
                  <a:pt x="0" y="6"/>
                </a:cubicBezTo>
                <a:cubicBezTo>
                  <a:pt x="0" y="1"/>
                  <a:pt x="0" y="1"/>
                  <a:pt x="0" y="1"/>
                </a:cubicBezTo>
                <a:cubicBezTo>
                  <a:pt x="0" y="1"/>
                  <a:pt x="0" y="0"/>
                  <a:pt x="1" y="0"/>
                </a:cubicBezTo>
                <a:cubicBezTo>
                  <a:pt x="47" y="0"/>
                  <a:pt x="47" y="0"/>
                  <a:pt x="47" y="0"/>
                </a:cubicBezTo>
                <a:cubicBezTo>
                  <a:pt x="48" y="0"/>
                  <a:pt x="48" y="1"/>
                  <a:pt x="48" y="1"/>
                </a:cubicBezTo>
                <a:lnTo>
                  <a:pt x="48" y="6"/>
                </a:lnTo>
                <a:close/>
                <a:moveTo>
                  <a:pt x="48" y="37"/>
                </a:moveTo>
                <a:cubicBezTo>
                  <a:pt x="48" y="38"/>
                  <a:pt x="48" y="38"/>
                  <a:pt x="47" y="38"/>
                </a:cubicBezTo>
                <a:cubicBezTo>
                  <a:pt x="1" y="38"/>
                  <a:pt x="1" y="38"/>
                  <a:pt x="1" y="38"/>
                </a:cubicBezTo>
                <a:cubicBezTo>
                  <a:pt x="0" y="38"/>
                  <a:pt x="0" y="38"/>
                  <a:pt x="0" y="37"/>
                </a:cubicBezTo>
                <a:cubicBezTo>
                  <a:pt x="0" y="32"/>
                  <a:pt x="0" y="32"/>
                  <a:pt x="0" y="32"/>
                </a:cubicBezTo>
                <a:cubicBezTo>
                  <a:pt x="0" y="32"/>
                  <a:pt x="0" y="31"/>
                  <a:pt x="1" y="31"/>
                </a:cubicBezTo>
                <a:cubicBezTo>
                  <a:pt x="47" y="31"/>
                  <a:pt x="47" y="31"/>
                  <a:pt x="47" y="31"/>
                </a:cubicBezTo>
                <a:cubicBezTo>
                  <a:pt x="48" y="31"/>
                  <a:pt x="48" y="32"/>
                  <a:pt x="48" y="32"/>
                </a:cubicBezTo>
                <a:lnTo>
                  <a:pt x="48" y="37"/>
                </a:lnTo>
                <a:close/>
                <a:moveTo>
                  <a:pt x="10" y="27"/>
                </a:moveTo>
                <a:cubicBezTo>
                  <a:pt x="10" y="28"/>
                  <a:pt x="10" y="28"/>
                  <a:pt x="9" y="28"/>
                </a:cubicBezTo>
                <a:cubicBezTo>
                  <a:pt x="9" y="28"/>
                  <a:pt x="9" y="28"/>
                  <a:pt x="9" y="28"/>
                </a:cubicBezTo>
                <a:cubicBezTo>
                  <a:pt x="1" y="20"/>
                  <a:pt x="1" y="20"/>
                  <a:pt x="1" y="20"/>
                </a:cubicBezTo>
                <a:cubicBezTo>
                  <a:pt x="1" y="20"/>
                  <a:pt x="1" y="20"/>
                  <a:pt x="1" y="19"/>
                </a:cubicBezTo>
                <a:cubicBezTo>
                  <a:pt x="1" y="19"/>
                  <a:pt x="1" y="19"/>
                  <a:pt x="1" y="19"/>
                </a:cubicBezTo>
                <a:cubicBezTo>
                  <a:pt x="9" y="11"/>
                  <a:pt x="9" y="11"/>
                  <a:pt x="9" y="11"/>
                </a:cubicBezTo>
                <a:cubicBezTo>
                  <a:pt x="9" y="11"/>
                  <a:pt x="9" y="11"/>
                  <a:pt x="9" y="11"/>
                </a:cubicBezTo>
                <a:cubicBezTo>
                  <a:pt x="10" y="11"/>
                  <a:pt x="10" y="11"/>
                  <a:pt x="10" y="12"/>
                </a:cubicBezTo>
                <a:lnTo>
                  <a:pt x="10" y="27"/>
                </a:lnTo>
                <a:close/>
                <a:moveTo>
                  <a:pt x="48" y="17"/>
                </a:moveTo>
                <a:cubicBezTo>
                  <a:pt x="48" y="17"/>
                  <a:pt x="48" y="18"/>
                  <a:pt x="47" y="18"/>
                </a:cubicBezTo>
                <a:cubicBezTo>
                  <a:pt x="18" y="18"/>
                  <a:pt x="18" y="18"/>
                  <a:pt x="18" y="18"/>
                </a:cubicBezTo>
                <a:cubicBezTo>
                  <a:pt x="18" y="18"/>
                  <a:pt x="17" y="17"/>
                  <a:pt x="17" y="17"/>
                </a:cubicBezTo>
                <a:cubicBezTo>
                  <a:pt x="17" y="12"/>
                  <a:pt x="17" y="12"/>
                  <a:pt x="17" y="12"/>
                </a:cubicBezTo>
                <a:cubicBezTo>
                  <a:pt x="17" y="11"/>
                  <a:pt x="18" y="11"/>
                  <a:pt x="18" y="11"/>
                </a:cubicBezTo>
                <a:cubicBezTo>
                  <a:pt x="47" y="11"/>
                  <a:pt x="47" y="11"/>
                  <a:pt x="47" y="11"/>
                </a:cubicBezTo>
                <a:cubicBezTo>
                  <a:pt x="48" y="11"/>
                  <a:pt x="48" y="11"/>
                  <a:pt x="48" y="12"/>
                </a:cubicBezTo>
                <a:lnTo>
                  <a:pt x="48" y="17"/>
                </a:lnTo>
                <a:close/>
                <a:moveTo>
                  <a:pt x="48" y="27"/>
                </a:moveTo>
                <a:cubicBezTo>
                  <a:pt x="48" y="28"/>
                  <a:pt x="48" y="28"/>
                  <a:pt x="47" y="28"/>
                </a:cubicBezTo>
                <a:cubicBezTo>
                  <a:pt x="18" y="28"/>
                  <a:pt x="18" y="28"/>
                  <a:pt x="18" y="28"/>
                </a:cubicBezTo>
                <a:cubicBezTo>
                  <a:pt x="18" y="28"/>
                  <a:pt x="17" y="28"/>
                  <a:pt x="17" y="27"/>
                </a:cubicBezTo>
                <a:cubicBezTo>
                  <a:pt x="17" y="22"/>
                  <a:pt x="17" y="22"/>
                  <a:pt x="17" y="22"/>
                </a:cubicBezTo>
                <a:cubicBezTo>
                  <a:pt x="17" y="21"/>
                  <a:pt x="18" y="21"/>
                  <a:pt x="18" y="21"/>
                </a:cubicBezTo>
                <a:cubicBezTo>
                  <a:pt x="47" y="21"/>
                  <a:pt x="47" y="21"/>
                  <a:pt x="47" y="21"/>
                </a:cubicBezTo>
                <a:cubicBezTo>
                  <a:pt x="48" y="21"/>
                  <a:pt x="48" y="21"/>
                  <a:pt x="48" y="22"/>
                </a:cubicBezTo>
                <a:lnTo>
                  <a:pt x="48" y="2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67" name="稻壳儿小白白(http://dwz.cn/Wu2UP)"/>
          <p:cNvSpPr/>
          <p:nvPr/>
        </p:nvSpPr>
        <p:spPr>
          <a:xfrm>
            <a:off x="4524480" y="2876400"/>
            <a:ext cx="261720" cy="333360"/>
          </a:xfrm>
          <a:custGeom>
            <a:avLst/>
            <a:gdLst/>
            <a:ahLst/>
            <a:rect l="l" t="t" r="r" b="b"/>
            <a:pathLst>
              <a:path w="38" h="48">
                <a:moveTo>
                  <a:pt x="19" y="34"/>
                </a:moveTo>
                <a:cubicBezTo>
                  <a:pt x="16" y="42"/>
                  <a:pt x="9" y="48"/>
                  <a:pt x="1" y="48"/>
                </a:cubicBezTo>
                <a:cubicBezTo>
                  <a:pt x="1" y="48"/>
                  <a:pt x="0" y="47"/>
                  <a:pt x="0" y="46"/>
                </a:cubicBezTo>
                <a:cubicBezTo>
                  <a:pt x="0" y="46"/>
                  <a:pt x="1" y="45"/>
                  <a:pt x="1" y="45"/>
                </a:cubicBezTo>
                <a:cubicBezTo>
                  <a:pt x="8" y="45"/>
                  <a:pt x="13" y="41"/>
                  <a:pt x="17" y="35"/>
                </a:cubicBezTo>
                <a:cubicBezTo>
                  <a:pt x="13" y="36"/>
                  <a:pt x="5" y="37"/>
                  <a:pt x="1" y="26"/>
                </a:cubicBezTo>
                <a:cubicBezTo>
                  <a:pt x="12" y="22"/>
                  <a:pt x="17" y="28"/>
                  <a:pt x="18" y="31"/>
                </a:cubicBezTo>
                <a:cubicBezTo>
                  <a:pt x="19" y="29"/>
                  <a:pt x="20" y="26"/>
                  <a:pt x="21" y="23"/>
                </a:cubicBezTo>
                <a:cubicBezTo>
                  <a:pt x="21" y="23"/>
                  <a:pt x="7" y="25"/>
                  <a:pt x="6" y="14"/>
                </a:cubicBezTo>
                <a:cubicBezTo>
                  <a:pt x="18" y="9"/>
                  <a:pt x="21" y="21"/>
                  <a:pt x="21" y="21"/>
                </a:cubicBezTo>
                <a:cubicBezTo>
                  <a:pt x="21" y="19"/>
                  <a:pt x="21" y="16"/>
                  <a:pt x="21" y="16"/>
                </a:cubicBezTo>
                <a:cubicBezTo>
                  <a:pt x="21" y="16"/>
                  <a:pt x="11" y="9"/>
                  <a:pt x="17" y="0"/>
                </a:cubicBezTo>
                <a:cubicBezTo>
                  <a:pt x="30" y="4"/>
                  <a:pt x="23" y="16"/>
                  <a:pt x="23" y="16"/>
                </a:cubicBezTo>
                <a:cubicBezTo>
                  <a:pt x="23" y="16"/>
                  <a:pt x="23" y="18"/>
                  <a:pt x="23" y="19"/>
                </a:cubicBezTo>
                <a:cubicBezTo>
                  <a:pt x="23" y="19"/>
                  <a:pt x="28" y="10"/>
                  <a:pt x="37" y="13"/>
                </a:cubicBezTo>
                <a:cubicBezTo>
                  <a:pt x="36" y="26"/>
                  <a:pt x="23" y="24"/>
                  <a:pt x="23" y="24"/>
                </a:cubicBezTo>
                <a:cubicBezTo>
                  <a:pt x="22" y="26"/>
                  <a:pt x="22" y="29"/>
                  <a:pt x="21" y="31"/>
                </a:cubicBezTo>
                <a:cubicBezTo>
                  <a:pt x="21" y="31"/>
                  <a:pt x="29" y="22"/>
                  <a:pt x="38" y="29"/>
                </a:cubicBezTo>
                <a:cubicBezTo>
                  <a:pt x="32" y="43"/>
                  <a:pt x="19" y="34"/>
                  <a:pt x="19" y="3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68" name="稻壳儿小白白(http://dwz.cn/Wu2UP)"/>
          <p:cNvSpPr/>
          <p:nvPr/>
        </p:nvSpPr>
        <p:spPr>
          <a:xfrm>
            <a:off x="4489560" y="3381480"/>
            <a:ext cx="333360" cy="333360"/>
          </a:xfrm>
          <a:custGeom>
            <a:avLst/>
            <a:gdLst/>
            <a:ahLst/>
            <a:rect l="l" t="t" r="r" b="b"/>
            <a:pathLst>
              <a:path w="48" h="48">
                <a:moveTo>
                  <a:pt x="48" y="2"/>
                </a:moveTo>
                <a:cubicBezTo>
                  <a:pt x="41" y="43"/>
                  <a:pt x="41" y="43"/>
                  <a:pt x="41" y="43"/>
                </a:cubicBezTo>
                <a:cubicBezTo>
                  <a:pt x="41" y="44"/>
                  <a:pt x="41" y="44"/>
                  <a:pt x="40" y="45"/>
                </a:cubicBezTo>
                <a:cubicBezTo>
                  <a:pt x="40" y="45"/>
                  <a:pt x="40" y="45"/>
                  <a:pt x="40" y="45"/>
                </a:cubicBezTo>
                <a:cubicBezTo>
                  <a:pt x="39" y="45"/>
                  <a:pt x="39" y="45"/>
                  <a:pt x="39" y="45"/>
                </a:cubicBezTo>
                <a:cubicBezTo>
                  <a:pt x="27" y="40"/>
                  <a:pt x="27" y="40"/>
                  <a:pt x="27" y="40"/>
                </a:cubicBezTo>
                <a:cubicBezTo>
                  <a:pt x="20" y="48"/>
                  <a:pt x="20" y="48"/>
                  <a:pt x="20" y="48"/>
                </a:cubicBezTo>
                <a:cubicBezTo>
                  <a:pt x="20" y="48"/>
                  <a:pt x="19" y="48"/>
                  <a:pt x="19" y="48"/>
                </a:cubicBezTo>
                <a:cubicBezTo>
                  <a:pt x="19" y="48"/>
                  <a:pt x="19" y="48"/>
                  <a:pt x="18" y="48"/>
                </a:cubicBezTo>
                <a:cubicBezTo>
                  <a:pt x="18" y="48"/>
                  <a:pt x="17" y="47"/>
                  <a:pt x="17" y="47"/>
                </a:cubicBezTo>
                <a:cubicBezTo>
                  <a:pt x="17" y="37"/>
                  <a:pt x="17" y="37"/>
                  <a:pt x="17" y="37"/>
                </a:cubicBezTo>
                <a:cubicBezTo>
                  <a:pt x="40" y="9"/>
                  <a:pt x="40" y="9"/>
                  <a:pt x="40" y="9"/>
                </a:cubicBezTo>
                <a:cubicBezTo>
                  <a:pt x="12" y="34"/>
                  <a:pt x="12" y="34"/>
                  <a:pt x="12" y="34"/>
                </a:cubicBezTo>
                <a:cubicBezTo>
                  <a:pt x="1" y="29"/>
                  <a:pt x="1" y="29"/>
                  <a:pt x="1" y="29"/>
                </a:cubicBezTo>
                <a:cubicBezTo>
                  <a:pt x="1" y="29"/>
                  <a:pt x="0" y="28"/>
                  <a:pt x="0" y="28"/>
                </a:cubicBezTo>
                <a:cubicBezTo>
                  <a:pt x="0" y="27"/>
                  <a:pt x="0" y="27"/>
                  <a:pt x="1" y="26"/>
                </a:cubicBezTo>
                <a:cubicBezTo>
                  <a:pt x="46" y="0"/>
                  <a:pt x="46" y="0"/>
                  <a:pt x="46" y="0"/>
                </a:cubicBezTo>
                <a:cubicBezTo>
                  <a:pt x="46" y="0"/>
                  <a:pt x="46" y="0"/>
                  <a:pt x="46" y="0"/>
                </a:cubicBezTo>
                <a:cubicBezTo>
                  <a:pt x="47" y="0"/>
                  <a:pt x="47" y="0"/>
                  <a:pt x="47" y="1"/>
                </a:cubicBezTo>
                <a:cubicBezTo>
                  <a:pt x="48" y="1"/>
                  <a:pt x="48" y="2"/>
                  <a:pt x="48" y="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69" name="稻壳儿小白白(http://dwz.cn/Wu2UP)"/>
          <p:cNvSpPr/>
          <p:nvPr/>
        </p:nvSpPr>
        <p:spPr>
          <a:xfrm>
            <a:off x="4489560" y="3892680"/>
            <a:ext cx="333360" cy="333360"/>
          </a:xfrm>
          <a:custGeom>
            <a:avLst/>
            <a:gdLst/>
            <a:ahLst/>
            <a:rect l="l" t="t" r="r" b="b"/>
            <a:pathLst>
              <a:path w="48" h="48">
                <a:moveTo>
                  <a:pt x="48" y="2"/>
                </a:moveTo>
                <a:cubicBezTo>
                  <a:pt x="41" y="43"/>
                  <a:pt x="41" y="43"/>
                  <a:pt x="41" y="43"/>
                </a:cubicBezTo>
                <a:cubicBezTo>
                  <a:pt x="41" y="44"/>
                  <a:pt x="41" y="44"/>
                  <a:pt x="40" y="44"/>
                </a:cubicBezTo>
                <a:cubicBezTo>
                  <a:pt x="40" y="44"/>
                  <a:pt x="40" y="44"/>
                  <a:pt x="40" y="44"/>
                </a:cubicBezTo>
                <a:cubicBezTo>
                  <a:pt x="39" y="44"/>
                  <a:pt x="39" y="44"/>
                  <a:pt x="39" y="44"/>
                </a:cubicBezTo>
                <a:cubicBezTo>
                  <a:pt x="25" y="39"/>
                  <a:pt x="25" y="39"/>
                  <a:pt x="25" y="39"/>
                </a:cubicBezTo>
                <a:cubicBezTo>
                  <a:pt x="17" y="47"/>
                  <a:pt x="17" y="47"/>
                  <a:pt x="17" y="47"/>
                </a:cubicBezTo>
                <a:cubicBezTo>
                  <a:pt x="16" y="48"/>
                  <a:pt x="16" y="48"/>
                  <a:pt x="15" y="48"/>
                </a:cubicBezTo>
                <a:cubicBezTo>
                  <a:pt x="15" y="48"/>
                  <a:pt x="15" y="48"/>
                  <a:pt x="15" y="48"/>
                </a:cubicBezTo>
                <a:cubicBezTo>
                  <a:pt x="14" y="47"/>
                  <a:pt x="14" y="47"/>
                  <a:pt x="14" y="46"/>
                </a:cubicBezTo>
                <a:cubicBezTo>
                  <a:pt x="14" y="34"/>
                  <a:pt x="14" y="34"/>
                  <a:pt x="14" y="34"/>
                </a:cubicBezTo>
                <a:cubicBezTo>
                  <a:pt x="1" y="29"/>
                  <a:pt x="1" y="29"/>
                  <a:pt x="1" y="29"/>
                </a:cubicBezTo>
                <a:cubicBezTo>
                  <a:pt x="1" y="29"/>
                  <a:pt x="0" y="28"/>
                  <a:pt x="0" y="27"/>
                </a:cubicBezTo>
                <a:cubicBezTo>
                  <a:pt x="0" y="27"/>
                  <a:pt x="0" y="26"/>
                  <a:pt x="1" y="26"/>
                </a:cubicBezTo>
                <a:cubicBezTo>
                  <a:pt x="46" y="0"/>
                  <a:pt x="46" y="0"/>
                  <a:pt x="46" y="0"/>
                </a:cubicBezTo>
                <a:cubicBezTo>
                  <a:pt x="46" y="0"/>
                  <a:pt x="47" y="0"/>
                  <a:pt x="47" y="0"/>
                </a:cubicBezTo>
                <a:cubicBezTo>
                  <a:pt x="48" y="1"/>
                  <a:pt x="48" y="1"/>
                  <a:pt x="48" y="2"/>
                </a:cubicBezTo>
                <a:close/>
                <a:moveTo>
                  <a:pt x="44" y="5"/>
                </a:moveTo>
                <a:cubicBezTo>
                  <a:pt x="6" y="27"/>
                  <a:pt x="6" y="27"/>
                  <a:pt x="6" y="27"/>
                </a:cubicBezTo>
                <a:cubicBezTo>
                  <a:pt x="15" y="31"/>
                  <a:pt x="15" y="31"/>
                  <a:pt x="15" y="31"/>
                </a:cubicBezTo>
                <a:cubicBezTo>
                  <a:pt x="38" y="14"/>
                  <a:pt x="38" y="14"/>
                  <a:pt x="38" y="14"/>
                </a:cubicBezTo>
                <a:cubicBezTo>
                  <a:pt x="25" y="35"/>
                  <a:pt x="25" y="35"/>
                  <a:pt x="25" y="35"/>
                </a:cubicBezTo>
                <a:cubicBezTo>
                  <a:pt x="38" y="40"/>
                  <a:pt x="38" y="40"/>
                  <a:pt x="38" y="40"/>
                </a:cubicBezTo>
                <a:lnTo>
                  <a:pt x="44" y="5"/>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70" name="稻壳儿小白白(http://dwz.cn/Wu2UP)"/>
          <p:cNvSpPr/>
          <p:nvPr/>
        </p:nvSpPr>
        <p:spPr>
          <a:xfrm>
            <a:off x="4524480" y="4425840"/>
            <a:ext cx="261720" cy="284400"/>
          </a:xfrm>
          <a:custGeom>
            <a:avLst/>
            <a:gdLst/>
            <a:ahLst/>
            <a:rect l="l" t="t" r="r" b="b"/>
            <a:pathLst>
              <a:path w="38" h="41">
                <a:moveTo>
                  <a:pt x="30" y="41"/>
                </a:moveTo>
                <a:cubicBezTo>
                  <a:pt x="28" y="41"/>
                  <a:pt x="26" y="40"/>
                  <a:pt x="24" y="38"/>
                </a:cubicBezTo>
                <a:cubicBezTo>
                  <a:pt x="3" y="17"/>
                  <a:pt x="3" y="17"/>
                  <a:pt x="3" y="17"/>
                </a:cubicBezTo>
                <a:cubicBezTo>
                  <a:pt x="1" y="16"/>
                  <a:pt x="0" y="13"/>
                  <a:pt x="0" y="10"/>
                </a:cubicBezTo>
                <a:cubicBezTo>
                  <a:pt x="0" y="5"/>
                  <a:pt x="5" y="0"/>
                  <a:pt x="10" y="0"/>
                </a:cubicBezTo>
                <a:cubicBezTo>
                  <a:pt x="13" y="0"/>
                  <a:pt x="16" y="1"/>
                  <a:pt x="18" y="3"/>
                </a:cubicBezTo>
                <a:cubicBezTo>
                  <a:pt x="34" y="19"/>
                  <a:pt x="34" y="19"/>
                  <a:pt x="34" y="19"/>
                </a:cubicBezTo>
                <a:cubicBezTo>
                  <a:pt x="34" y="19"/>
                  <a:pt x="34" y="20"/>
                  <a:pt x="34" y="20"/>
                </a:cubicBezTo>
                <a:cubicBezTo>
                  <a:pt x="34" y="20"/>
                  <a:pt x="33" y="22"/>
                  <a:pt x="32" y="22"/>
                </a:cubicBezTo>
                <a:cubicBezTo>
                  <a:pt x="32" y="22"/>
                  <a:pt x="32" y="22"/>
                  <a:pt x="32" y="22"/>
                </a:cubicBezTo>
                <a:cubicBezTo>
                  <a:pt x="15" y="5"/>
                  <a:pt x="15" y="5"/>
                  <a:pt x="15" y="5"/>
                </a:cubicBezTo>
                <a:cubicBezTo>
                  <a:pt x="14" y="4"/>
                  <a:pt x="12" y="3"/>
                  <a:pt x="10" y="3"/>
                </a:cubicBezTo>
                <a:cubicBezTo>
                  <a:pt x="7" y="3"/>
                  <a:pt x="4" y="6"/>
                  <a:pt x="4" y="10"/>
                </a:cubicBezTo>
                <a:cubicBezTo>
                  <a:pt x="4" y="12"/>
                  <a:pt x="4" y="14"/>
                  <a:pt x="6" y="15"/>
                </a:cubicBezTo>
                <a:cubicBezTo>
                  <a:pt x="27" y="36"/>
                  <a:pt x="27" y="36"/>
                  <a:pt x="27" y="36"/>
                </a:cubicBezTo>
                <a:cubicBezTo>
                  <a:pt x="28" y="37"/>
                  <a:pt x="29" y="38"/>
                  <a:pt x="30" y="38"/>
                </a:cubicBezTo>
                <a:cubicBezTo>
                  <a:pt x="33" y="38"/>
                  <a:pt x="34" y="36"/>
                  <a:pt x="34" y="34"/>
                </a:cubicBezTo>
                <a:cubicBezTo>
                  <a:pt x="34" y="32"/>
                  <a:pt x="34" y="31"/>
                  <a:pt x="33" y="30"/>
                </a:cubicBezTo>
                <a:cubicBezTo>
                  <a:pt x="17" y="14"/>
                  <a:pt x="17" y="14"/>
                  <a:pt x="17" y="14"/>
                </a:cubicBezTo>
                <a:cubicBezTo>
                  <a:pt x="17" y="14"/>
                  <a:pt x="16" y="13"/>
                  <a:pt x="16" y="13"/>
                </a:cubicBezTo>
                <a:cubicBezTo>
                  <a:pt x="15" y="13"/>
                  <a:pt x="14" y="14"/>
                  <a:pt x="14" y="15"/>
                </a:cubicBezTo>
                <a:cubicBezTo>
                  <a:pt x="14" y="16"/>
                  <a:pt x="14" y="16"/>
                  <a:pt x="14" y="17"/>
                </a:cubicBezTo>
                <a:cubicBezTo>
                  <a:pt x="25" y="28"/>
                  <a:pt x="25" y="28"/>
                  <a:pt x="25" y="28"/>
                </a:cubicBezTo>
                <a:cubicBezTo>
                  <a:pt x="26" y="28"/>
                  <a:pt x="26" y="28"/>
                  <a:pt x="26" y="28"/>
                </a:cubicBezTo>
                <a:cubicBezTo>
                  <a:pt x="26" y="29"/>
                  <a:pt x="24" y="31"/>
                  <a:pt x="24" y="31"/>
                </a:cubicBezTo>
                <a:cubicBezTo>
                  <a:pt x="23" y="31"/>
                  <a:pt x="23" y="30"/>
                  <a:pt x="23" y="30"/>
                </a:cubicBezTo>
                <a:cubicBezTo>
                  <a:pt x="12" y="19"/>
                  <a:pt x="12" y="19"/>
                  <a:pt x="12" y="19"/>
                </a:cubicBezTo>
                <a:cubicBezTo>
                  <a:pt x="11" y="18"/>
                  <a:pt x="10" y="17"/>
                  <a:pt x="10" y="15"/>
                </a:cubicBezTo>
                <a:cubicBezTo>
                  <a:pt x="10" y="12"/>
                  <a:pt x="13" y="10"/>
                  <a:pt x="16" y="10"/>
                </a:cubicBezTo>
                <a:cubicBezTo>
                  <a:pt x="17" y="10"/>
                  <a:pt x="19" y="11"/>
                  <a:pt x="20" y="12"/>
                </a:cubicBezTo>
                <a:cubicBezTo>
                  <a:pt x="35" y="27"/>
                  <a:pt x="35" y="27"/>
                  <a:pt x="35" y="27"/>
                </a:cubicBezTo>
                <a:cubicBezTo>
                  <a:pt x="37" y="29"/>
                  <a:pt x="38" y="31"/>
                  <a:pt x="38" y="34"/>
                </a:cubicBezTo>
                <a:cubicBezTo>
                  <a:pt x="38" y="38"/>
                  <a:pt x="35" y="41"/>
                  <a:pt x="30" y="4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71" name="稻壳儿小白白(http://dwz.cn/Wu2UP)"/>
          <p:cNvSpPr/>
          <p:nvPr/>
        </p:nvSpPr>
        <p:spPr>
          <a:xfrm>
            <a:off x="4545000" y="4930920"/>
            <a:ext cx="227160" cy="288720"/>
          </a:xfrm>
          <a:custGeom>
            <a:avLst/>
            <a:gdLst/>
            <a:ahLst/>
            <a:rect l="l" t="t" r="r" b="b"/>
            <a:pathLst>
              <a:path w="33" h="42">
                <a:moveTo>
                  <a:pt x="33" y="4"/>
                </a:moveTo>
                <a:cubicBezTo>
                  <a:pt x="33" y="5"/>
                  <a:pt x="32" y="7"/>
                  <a:pt x="32" y="7"/>
                </a:cubicBezTo>
                <a:cubicBezTo>
                  <a:pt x="31" y="7"/>
                  <a:pt x="31" y="6"/>
                  <a:pt x="30" y="7"/>
                </a:cubicBezTo>
                <a:cubicBezTo>
                  <a:pt x="30" y="7"/>
                  <a:pt x="29" y="7"/>
                  <a:pt x="29" y="7"/>
                </a:cubicBezTo>
                <a:cubicBezTo>
                  <a:pt x="29" y="8"/>
                  <a:pt x="29" y="9"/>
                  <a:pt x="29" y="9"/>
                </a:cubicBezTo>
                <a:cubicBezTo>
                  <a:pt x="29" y="40"/>
                  <a:pt x="29" y="40"/>
                  <a:pt x="29" y="40"/>
                </a:cubicBezTo>
                <a:cubicBezTo>
                  <a:pt x="29" y="41"/>
                  <a:pt x="28" y="42"/>
                  <a:pt x="28" y="42"/>
                </a:cubicBezTo>
                <a:cubicBezTo>
                  <a:pt x="25" y="42"/>
                  <a:pt x="25" y="42"/>
                  <a:pt x="25" y="42"/>
                </a:cubicBezTo>
                <a:cubicBezTo>
                  <a:pt x="24" y="42"/>
                  <a:pt x="23" y="41"/>
                  <a:pt x="23" y="40"/>
                </a:cubicBezTo>
                <a:cubicBezTo>
                  <a:pt x="23" y="7"/>
                  <a:pt x="23" y="7"/>
                  <a:pt x="23" y="7"/>
                </a:cubicBezTo>
                <a:cubicBezTo>
                  <a:pt x="19" y="7"/>
                  <a:pt x="19" y="7"/>
                  <a:pt x="19" y="7"/>
                </a:cubicBezTo>
                <a:cubicBezTo>
                  <a:pt x="19" y="40"/>
                  <a:pt x="19" y="40"/>
                  <a:pt x="19" y="40"/>
                </a:cubicBezTo>
                <a:cubicBezTo>
                  <a:pt x="19" y="41"/>
                  <a:pt x="18" y="42"/>
                  <a:pt x="18" y="42"/>
                </a:cubicBezTo>
                <a:cubicBezTo>
                  <a:pt x="15" y="42"/>
                  <a:pt x="15" y="42"/>
                  <a:pt x="15" y="42"/>
                </a:cubicBezTo>
                <a:cubicBezTo>
                  <a:pt x="14" y="42"/>
                  <a:pt x="13" y="41"/>
                  <a:pt x="13" y="40"/>
                </a:cubicBezTo>
                <a:cubicBezTo>
                  <a:pt x="13" y="27"/>
                  <a:pt x="13" y="27"/>
                  <a:pt x="13" y="27"/>
                </a:cubicBezTo>
                <a:cubicBezTo>
                  <a:pt x="10" y="26"/>
                  <a:pt x="8" y="26"/>
                  <a:pt x="6" y="25"/>
                </a:cubicBezTo>
                <a:cubicBezTo>
                  <a:pt x="4" y="24"/>
                  <a:pt x="2" y="22"/>
                  <a:pt x="1" y="20"/>
                </a:cubicBezTo>
                <a:cubicBezTo>
                  <a:pt x="0" y="18"/>
                  <a:pt x="0" y="16"/>
                  <a:pt x="0" y="13"/>
                </a:cubicBezTo>
                <a:cubicBezTo>
                  <a:pt x="0" y="10"/>
                  <a:pt x="0" y="8"/>
                  <a:pt x="2" y="6"/>
                </a:cubicBezTo>
                <a:cubicBezTo>
                  <a:pt x="4" y="4"/>
                  <a:pt x="5" y="2"/>
                  <a:pt x="8" y="1"/>
                </a:cubicBezTo>
                <a:cubicBezTo>
                  <a:pt x="10" y="1"/>
                  <a:pt x="14" y="0"/>
                  <a:pt x="19" y="0"/>
                </a:cubicBezTo>
                <a:cubicBezTo>
                  <a:pt x="32" y="0"/>
                  <a:pt x="32" y="0"/>
                  <a:pt x="32" y="0"/>
                </a:cubicBezTo>
                <a:cubicBezTo>
                  <a:pt x="32" y="0"/>
                  <a:pt x="33" y="1"/>
                  <a:pt x="33" y="2"/>
                </a:cubicBezTo>
                <a:lnTo>
                  <a:pt x="33" y="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72" name="稻壳儿小白白(http://dwz.cn/Wu2UP)"/>
          <p:cNvSpPr/>
          <p:nvPr/>
        </p:nvSpPr>
        <p:spPr>
          <a:xfrm>
            <a:off x="4489560" y="5421240"/>
            <a:ext cx="333360" cy="333360"/>
          </a:xfrm>
          <a:custGeom>
            <a:avLst/>
            <a:gdLst/>
            <a:ahLst/>
            <a:rect l="l" t="t" r="r" b="b"/>
            <a:pathLst>
              <a:path w="48" h="48">
                <a:moveTo>
                  <a:pt x="48" y="45"/>
                </a:moveTo>
                <a:cubicBezTo>
                  <a:pt x="48" y="47"/>
                  <a:pt x="47" y="48"/>
                  <a:pt x="46" y="48"/>
                </a:cubicBezTo>
                <a:cubicBezTo>
                  <a:pt x="20" y="48"/>
                  <a:pt x="20" y="48"/>
                  <a:pt x="20" y="48"/>
                </a:cubicBezTo>
                <a:cubicBezTo>
                  <a:pt x="18" y="48"/>
                  <a:pt x="17" y="47"/>
                  <a:pt x="17" y="45"/>
                </a:cubicBezTo>
                <a:cubicBezTo>
                  <a:pt x="17" y="41"/>
                  <a:pt x="17" y="41"/>
                  <a:pt x="17" y="41"/>
                </a:cubicBezTo>
                <a:cubicBezTo>
                  <a:pt x="3" y="41"/>
                  <a:pt x="3" y="41"/>
                  <a:pt x="3" y="41"/>
                </a:cubicBezTo>
                <a:cubicBezTo>
                  <a:pt x="1" y="41"/>
                  <a:pt x="0" y="40"/>
                  <a:pt x="0" y="38"/>
                </a:cubicBezTo>
                <a:cubicBezTo>
                  <a:pt x="0" y="2"/>
                  <a:pt x="0" y="2"/>
                  <a:pt x="0" y="2"/>
                </a:cubicBezTo>
                <a:cubicBezTo>
                  <a:pt x="0" y="1"/>
                  <a:pt x="1" y="0"/>
                  <a:pt x="3" y="0"/>
                </a:cubicBezTo>
                <a:cubicBezTo>
                  <a:pt x="32" y="0"/>
                  <a:pt x="32" y="0"/>
                  <a:pt x="32" y="0"/>
                </a:cubicBezTo>
                <a:cubicBezTo>
                  <a:pt x="33" y="0"/>
                  <a:pt x="34" y="1"/>
                  <a:pt x="34" y="2"/>
                </a:cubicBezTo>
                <a:cubicBezTo>
                  <a:pt x="34" y="11"/>
                  <a:pt x="34" y="11"/>
                  <a:pt x="34" y="11"/>
                </a:cubicBezTo>
                <a:cubicBezTo>
                  <a:pt x="35" y="11"/>
                  <a:pt x="35" y="11"/>
                  <a:pt x="35" y="12"/>
                </a:cubicBezTo>
                <a:cubicBezTo>
                  <a:pt x="46" y="23"/>
                  <a:pt x="46" y="23"/>
                  <a:pt x="46" y="23"/>
                </a:cubicBezTo>
                <a:cubicBezTo>
                  <a:pt x="47" y="24"/>
                  <a:pt x="48" y="26"/>
                  <a:pt x="48" y="27"/>
                </a:cubicBezTo>
                <a:lnTo>
                  <a:pt x="48" y="45"/>
                </a:lnTo>
                <a:close/>
                <a:moveTo>
                  <a:pt x="27" y="4"/>
                </a:moveTo>
                <a:cubicBezTo>
                  <a:pt x="27" y="3"/>
                  <a:pt x="27" y="3"/>
                  <a:pt x="27" y="3"/>
                </a:cubicBezTo>
                <a:cubicBezTo>
                  <a:pt x="8" y="3"/>
                  <a:pt x="8" y="3"/>
                  <a:pt x="8" y="3"/>
                </a:cubicBezTo>
                <a:cubicBezTo>
                  <a:pt x="7" y="3"/>
                  <a:pt x="7" y="3"/>
                  <a:pt x="7" y="4"/>
                </a:cubicBezTo>
                <a:cubicBezTo>
                  <a:pt x="7" y="6"/>
                  <a:pt x="7" y="6"/>
                  <a:pt x="7" y="6"/>
                </a:cubicBezTo>
                <a:cubicBezTo>
                  <a:pt x="7" y="6"/>
                  <a:pt x="7" y="7"/>
                  <a:pt x="8" y="7"/>
                </a:cubicBezTo>
                <a:cubicBezTo>
                  <a:pt x="27" y="7"/>
                  <a:pt x="27" y="7"/>
                  <a:pt x="27" y="7"/>
                </a:cubicBezTo>
                <a:cubicBezTo>
                  <a:pt x="27" y="7"/>
                  <a:pt x="27" y="6"/>
                  <a:pt x="27" y="6"/>
                </a:cubicBezTo>
                <a:lnTo>
                  <a:pt x="27" y="4"/>
                </a:lnTo>
                <a:close/>
                <a:moveTo>
                  <a:pt x="45" y="44"/>
                </a:moveTo>
                <a:cubicBezTo>
                  <a:pt x="45" y="27"/>
                  <a:pt x="45" y="27"/>
                  <a:pt x="45" y="27"/>
                </a:cubicBezTo>
                <a:cubicBezTo>
                  <a:pt x="33" y="27"/>
                  <a:pt x="33" y="27"/>
                  <a:pt x="33" y="27"/>
                </a:cubicBezTo>
                <a:cubicBezTo>
                  <a:pt x="32" y="27"/>
                  <a:pt x="31" y="26"/>
                  <a:pt x="31" y="25"/>
                </a:cubicBezTo>
                <a:cubicBezTo>
                  <a:pt x="31" y="13"/>
                  <a:pt x="31" y="13"/>
                  <a:pt x="31" y="13"/>
                </a:cubicBezTo>
                <a:cubicBezTo>
                  <a:pt x="21" y="13"/>
                  <a:pt x="21" y="13"/>
                  <a:pt x="21" y="13"/>
                </a:cubicBezTo>
                <a:cubicBezTo>
                  <a:pt x="21" y="44"/>
                  <a:pt x="21" y="44"/>
                  <a:pt x="21" y="44"/>
                </a:cubicBezTo>
                <a:lnTo>
                  <a:pt x="45" y="44"/>
                </a:lnTo>
                <a:close/>
                <a:moveTo>
                  <a:pt x="42" y="24"/>
                </a:moveTo>
                <a:cubicBezTo>
                  <a:pt x="34" y="16"/>
                  <a:pt x="34" y="16"/>
                  <a:pt x="34" y="16"/>
                </a:cubicBezTo>
                <a:cubicBezTo>
                  <a:pt x="34" y="24"/>
                  <a:pt x="34" y="24"/>
                  <a:pt x="34" y="24"/>
                </a:cubicBezTo>
                <a:lnTo>
                  <a:pt x="42" y="2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73" name="稻壳儿小白白(http://dwz.cn/Wu2UP)"/>
          <p:cNvSpPr/>
          <p:nvPr/>
        </p:nvSpPr>
        <p:spPr>
          <a:xfrm>
            <a:off x="5375160" y="863640"/>
            <a:ext cx="282600" cy="282600"/>
          </a:xfrm>
          <a:custGeom>
            <a:avLst/>
            <a:gdLst/>
            <a:ahLst/>
            <a:rect l="l" t="t" r="r" b="b"/>
            <a:pathLst>
              <a:path w="41" h="41">
                <a:moveTo>
                  <a:pt x="41" y="33"/>
                </a:moveTo>
                <a:cubicBezTo>
                  <a:pt x="41" y="37"/>
                  <a:pt x="38" y="41"/>
                  <a:pt x="33" y="41"/>
                </a:cubicBezTo>
                <a:cubicBezTo>
                  <a:pt x="8" y="41"/>
                  <a:pt x="8" y="41"/>
                  <a:pt x="8" y="41"/>
                </a:cubicBezTo>
                <a:cubicBezTo>
                  <a:pt x="4" y="41"/>
                  <a:pt x="0" y="37"/>
                  <a:pt x="0" y="33"/>
                </a:cubicBezTo>
                <a:cubicBezTo>
                  <a:pt x="0" y="7"/>
                  <a:pt x="0" y="7"/>
                  <a:pt x="0" y="7"/>
                </a:cubicBezTo>
                <a:cubicBezTo>
                  <a:pt x="0" y="3"/>
                  <a:pt x="4" y="0"/>
                  <a:pt x="8" y="0"/>
                </a:cubicBezTo>
                <a:cubicBezTo>
                  <a:pt x="33" y="0"/>
                  <a:pt x="33" y="0"/>
                  <a:pt x="33" y="0"/>
                </a:cubicBezTo>
                <a:cubicBezTo>
                  <a:pt x="38" y="0"/>
                  <a:pt x="41" y="3"/>
                  <a:pt x="41" y="7"/>
                </a:cubicBezTo>
                <a:lnTo>
                  <a:pt x="41" y="33"/>
                </a:lnTo>
                <a:close/>
                <a:moveTo>
                  <a:pt x="17" y="4"/>
                </a:moveTo>
                <a:cubicBezTo>
                  <a:pt x="15" y="4"/>
                  <a:pt x="14" y="4"/>
                  <a:pt x="13" y="4"/>
                </a:cubicBezTo>
                <a:cubicBezTo>
                  <a:pt x="8" y="4"/>
                  <a:pt x="8" y="4"/>
                  <a:pt x="8" y="4"/>
                </a:cubicBezTo>
                <a:cubicBezTo>
                  <a:pt x="8" y="27"/>
                  <a:pt x="8" y="27"/>
                  <a:pt x="8" y="27"/>
                </a:cubicBezTo>
                <a:cubicBezTo>
                  <a:pt x="14" y="26"/>
                  <a:pt x="14" y="26"/>
                  <a:pt x="14" y="26"/>
                </a:cubicBezTo>
                <a:cubicBezTo>
                  <a:pt x="14" y="20"/>
                  <a:pt x="14" y="20"/>
                  <a:pt x="14" y="20"/>
                </a:cubicBezTo>
                <a:cubicBezTo>
                  <a:pt x="14" y="21"/>
                  <a:pt x="16" y="21"/>
                  <a:pt x="17" y="21"/>
                </a:cubicBezTo>
                <a:cubicBezTo>
                  <a:pt x="21" y="21"/>
                  <a:pt x="25" y="17"/>
                  <a:pt x="25" y="12"/>
                </a:cubicBezTo>
                <a:cubicBezTo>
                  <a:pt x="25" y="7"/>
                  <a:pt x="21" y="4"/>
                  <a:pt x="17" y="4"/>
                </a:cubicBezTo>
                <a:close/>
                <a:moveTo>
                  <a:pt x="15" y="16"/>
                </a:moveTo>
                <a:cubicBezTo>
                  <a:pt x="15" y="16"/>
                  <a:pt x="14" y="16"/>
                  <a:pt x="14" y="16"/>
                </a:cubicBezTo>
                <a:cubicBezTo>
                  <a:pt x="14" y="8"/>
                  <a:pt x="14" y="8"/>
                  <a:pt x="14" y="8"/>
                </a:cubicBezTo>
                <a:cubicBezTo>
                  <a:pt x="14" y="8"/>
                  <a:pt x="15" y="8"/>
                  <a:pt x="15" y="8"/>
                </a:cubicBezTo>
                <a:cubicBezTo>
                  <a:pt x="17" y="8"/>
                  <a:pt x="19" y="10"/>
                  <a:pt x="19" y="12"/>
                </a:cubicBezTo>
                <a:cubicBezTo>
                  <a:pt x="19" y="14"/>
                  <a:pt x="17" y="16"/>
                  <a:pt x="15" y="16"/>
                </a:cubicBezTo>
                <a:close/>
                <a:moveTo>
                  <a:pt x="26" y="15"/>
                </a:moveTo>
                <a:cubicBezTo>
                  <a:pt x="26" y="15"/>
                  <a:pt x="25" y="15"/>
                  <a:pt x="25" y="15"/>
                </a:cubicBezTo>
                <a:cubicBezTo>
                  <a:pt x="24" y="16"/>
                  <a:pt x="24" y="18"/>
                  <a:pt x="23" y="19"/>
                </a:cubicBezTo>
                <a:cubicBezTo>
                  <a:pt x="21" y="20"/>
                  <a:pt x="19" y="21"/>
                  <a:pt x="17" y="21"/>
                </a:cubicBezTo>
                <a:cubicBezTo>
                  <a:pt x="17" y="38"/>
                  <a:pt x="17" y="38"/>
                  <a:pt x="17" y="38"/>
                </a:cubicBezTo>
                <a:cubicBezTo>
                  <a:pt x="23" y="37"/>
                  <a:pt x="23" y="37"/>
                  <a:pt x="23" y="37"/>
                </a:cubicBezTo>
                <a:cubicBezTo>
                  <a:pt x="23" y="32"/>
                  <a:pt x="23" y="32"/>
                  <a:pt x="23" y="32"/>
                </a:cubicBezTo>
                <a:cubicBezTo>
                  <a:pt x="24" y="32"/>
                  <a:pt x="25" y="32"/>
                  <a:pt x="26" y="32"/>
                </a:cubicBezTo>
                <a:cubicBezTo>
                  <a:pt x="30" y="32"/>
                  <a:pt x="34" y="28"/>
                  <a:pt x="34" y="24"/>
                </a:cubicBezTo>
                <a:cubicBezTo>
                  <a:pt x="34" y="19"/>
                  <a:pt x="30" y="15"/>
                  <a:pt x="26" y="15"/>
                </a:cubicBezTo>
                <a:close/>
                <a:moveTo>
                  <a:pt x="25" y="28"/>
                </a:moveTo>
                <a:cubicBezTo>
                  <a:pt x="24" y="28"/>
                  <a:pt x="23" y="28"/>
                  <a:pt x="23" y="27"/>
                </a:cubicBezTo>
                <a:cubicBezTo>
                  <a:pt x="23" y="20"/>
                  <a:pt x="23" y="20"/>
                  <a:pt x="23" y="20"/>
                </a:cubicBezTo>
                <a:cubicBezTo>
                  <a:pt x="23" y="20"/>
                  <a:pt x="24" y="19"/>
                  <a:pt x="25" y="19"/>
                </a:cubicBezTo>
                <a:cubicBezTo>
                  <a:pt x="27" y="19"/>
                  <a:pt x="28" y="21"/>
                  <a:pt x="28" y="24"/>
                </a:cubicBezTo>
                <a:cubicBezTo>
                  <a:pt x="28" y="26"/>
                  <a:pt x="27" y="28"/>
                  <a:pt x="25" y="2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74" name="稻壳儿小白白(http://dwz.cn/Wu2UP)"/>
          <p:cNvSpPr/>
          <p:nvPr/>
        </p:nvSpPr>
        <p:spPr>
          <a:xfrm>
            <a:off x="5375160" y="1368360"/>
            <a:ext cx="282600" cy="282600"/>
          </a:xfrm>
          <a:custGeom>
            <a:avLst/>
            <a:gdLst/>
            <a:ahLst/>
            <a:rect l="l" t="t" r="r" b="b"/>
            <a:pathLst>
              <a:path w="41" h="41">
                <a:moveTo>
                  <a:pt x="21" y="41"/>
                </a:moveTo>
                <a:cubicBezTo>
                  <a:pt x="19" y="41"/>
                  <a:pt x="17" y="41"/>
                  <a:pt x="15" y="41"/>
                </a:cubicBezTo>
                <a:cubicBezTo>
                  <a:pt x="16" y="39"/>
                  <a:pt x="16" y="38"/>
                  <a:pt x="17" y="36"/>
                </a:cubicBezTo>
                <a:cubicBezTo>
                  <a:pt x="17" y="36"/>
                  <a:pt x="17" y="35"/>
                  <a:pt x="18" y="31"/>
                </a:cubicBezTo>
                <a:cubicBezTo>
                  <a:pt x="19" y="32"/>
                  <a:pt x="21" y="33"/>
                  <a:pt x="23" y="33"/>
                </a:cubicBezTo>
                <a:cubicBezTo>
                  <a:pt x="30" y="33"/>
                  <a:pt x="34" y="27"/>
                  <a:pt x="34" y="19"/>
                </a:cubicBezTo>
                <a:cubicBezTo>
                  <a:pt x="34" y="13"/>
                  <a:pt x="29" y="7"/>
                  <a:pt x="21" y="7"/>
                </a:cubicBezTo>
                <a:cubicBezTo>
                  <a:pt x="12" y="7"/>
                  <a:pt x="7" y="14"/>
                  <a:pt x="7" y="20"/>
                </a:cubicBezTo>
                <a:cubicBezTo>
                  <a:pt x="7" y="24"/>
                  <a:pt x="8" y="27"/>
                  <a:pt x="11" y="28"/>
                </a:cubicBezTo>
                <a:cubicBezTo>
                  <a:pt x="11" y="28"/>
                  <a:pt x="12" y="28"/>
                  <a:pt x="12" y="27"/>
                </a:cubicBezTo>
                <a:cubicBezTo>
                  <a:pt x="12" y="27"/>
                  <a:pt x="12" y="26"/>
                  <a:pt x="12" y="26"/>
                </a:cubicBezTo>
                <a:cubicBezTo>
                  <a:pt x="13" y="25"/>
                  <a:pt x="12" y="25"/>
                  <a:pt x="12" y="25"/>
                </a:cubicBezTo>
                <a:cubicBezTo>
                  <a:pt x="11" y="24"/>
                  <a:pt x="11" y="22"/>
                  <a:pt x="11" y="21"/>
                </a:cubicBezTo>
                <a:cubicBezTo>
                  <a:pt x="11" y="15"/>
                  <a:pt x="15" y="11"/>
                  <a:pt x="21" y="11"/>
                </a:cubicBezTo>
                <a:cubicBezTo>
                  <a:pt x="26" y="11"/>
                  <a:pt x="29" y="14"/>
                  <a:pt x="29" y="19"/>
                </a:cubicBezTo>
                <a:cubicBezTo>
                  <a:pt x="29" y="25"/>
                  <a:pt x="27" y="30"/>
                  <a:pt x="23" y="30"/>
                </a:cubicBezTo>
                <a:cubicBezTo>
                  <a:pt x="21" y="30"/>
                  <a:pt x="19" y="28"/>
                  <a:pt x="20" y="26"/>
                </a:cubicBezTo>
                <a:cubicBezTo>
                  <a:pt x="20" y="23"/>
                  <a:pt x="21" y="20"/>
                  <a:pt x="21" y="18"/>
                </a:cubicBezTo>
                <a:cubicBezTo>
                  <a:pt x="21" y="17"/>
                  <a:pt x="21" y="15"/>
                  <a:pt x="19" y="15"/>
                </a:cubicBezTo>
                <a:cubicBezTo>
                  <a:pt x="16" y="15"/>
                  <a:pt x="15" y="17"/>
                  <a:pt x="15" y="21"/>
                </a:cubicBezTo>
                <a:cubicBezTo>
                  <a:pt x="15" y="21"/>
                  <a:pt x="15" y="22"/>
                  <a:pt x="15" y="24"/>
                </a:cubicBezTo>
                <a:cubicBezTo>
                  <a:pt x="13" y="33"/>
                  <a:pt x="13" y="35"/>
                  <a:pt x="13" y="35"/>
                </a:cubicBezTo>
                <a:cubicBezTo>
                  <a:pt x="12" y="37"/>
                  <a:pt x="12" y="38"/>
                  <a:pt x="12" y="40"/>
                </a:cubicBezTo>
                <a:cubicBezTo>
                  <a:pt x="5" y="37"/>
                  <a:pt x="0" y="29"/>
                  <a:pt x="0" y="21"/>
                </a:cubicBezTo>
                <a:cubicBezTo>
                  <a:pt x="0" y="9"/>
                  <a:pt x="9" y="0"/>
                  <a:pt x="21" y="0"/>
                </a:cubicBezTo>
                <a:cubicBezTo>
                  <a:pt x="32" y="0"/>
                  <a:pt x="41" y="9"/>
                  <a:pt x="41" y="21"/>
                </a:cubicBezTo>
                <a:cubicBezTo>
                  <a:pt x="41" y="32"/>
                  <a:pt x="32" y="41"/>
                  <a:pt x="21" y="4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75" name="稻壳儿小白白(http://dwz.cn/Wu2UP)"/>
          <p:cNvSpPr/>
          <p:nvPr/>
        </p:nvSpPr>
        <p:spPr>
          <a:xfrm>
            <a:off x="5375160" y="1881360"/>
            <a:ext cx="282600" cy="284040"/>
          </a:xfrm>
          <a:custGeom>
            <a:avLst/>
            <a:gdLst/>
            <a:ahLst/>
            <a:rect l="l" t="t" r="r" b="b"/>
            <a:pathLst>
              <a:path w="41" h="41">
                <a:moveTo>
                  <a:pt x="41" y="8"/>
                </a:moveTo>
                <a:cubicBezTo>
                  <a:pt x="41" y="33"/>
                  <a:pt x="41" y="33"/>
                  <a:pt x="41" y="33"/>
                </a:cubicBezTo>
                <a:cubicBezTo>
                  <a:pt x="41" y="38"/>
                  <a:pt x="38" y="41"/>
                  <a:pt x="33" y="41"/>
                </a:cubicBezTo>
                <a:cubicBezTo>
                  <a:pt x="14" y="41"/>
                  <a:pt x="14" y="41"/>
                  <a:pt x="14" y="41"/>
                </a:cubicBezTo>
                <a:cubicBezTo>
                  <a:pt x="15" y="40"/>
                  <a:pt x="16" y="38"/>
                  <a:pt x="17" y="35"/>
                </a:cubicBezTo>
                <a:cubicBezTo>
                  <a:pt x="17" y="35"/>
                  <a:pt x="17" y="34"/>
                  <a:pt x="18" y="30"/>
                </a:cubicBezTo>
                <a:cubicBezTo>
                  <a:pt x="19" y="31"/>
                  <a:pt x="21" y="32"/>
                  <a:pt x="23" y="32"/>
                </a:cubicBezTo>
                <a:cubicBezTo>
                  <a:pt x="30" y="32"/>
                  <a:pt x="34" y="26"/>
                  <a:pt x="34" y="18"/>
                </a:cubicBezTo>
                <a:cubicBezTo>
                  <a:pt x="34" y="12"/>
                  <a:pt x="29" y="7"/>
                  <a:pt x="21" y="7"/>
                </a:cubicBezTo>
                <a:cubicBezTo>
                  <a:pt x="12" y="7"/>
                  <a:pt x="7" y="14"/>
                  <a:pt x="7" y="19"/>
                </a:cubicBezTo>
                <a:cubicBezTo>
                  <a:pt x="7" y="23"/>
                  <a:pt x="8" y="26"/>
                  <a:pt x="11" y="27"/>
                </a:cubicBezTo>
                <a:cubicBezTo>
                  <a:pt x="12" y="27"/>
                  <a:pt x="12" y="27"/>
                  <a:pt x="12" y="27"/>
                </a:cubicBezTo>
                <a:cubicBezTo>
                  <a:pt x="12" y="26"/>
                  <a:pt x="12" y="25"/>
                  <a:pt x="13" y="25"/>
                </a:cubicBezTo>
                <a:cubicBezTo>
                  <a:pt x="13" y="25"/>
                  <a:pt x="13" y="24"/>
                  <a:pt x="12" y="24"/>
                </a:cubicBezTo>
                <a:cubicBezTo>
                  <a:pt x="11" y="23"/>
                  <a:pt x="11" y="22"/>
                  <a:pt x="11" y="20"/>
                </a:cubicBezTo>
                <a:cubicBezTo>
                  <a:pt x="11" y="15"/>
                  <a:pt x="15" y="10"/>
                  <a:pt x="21" y="10"/>
                </a:cubicBezTo>
                <a:cubicBezTo>
                  <a:pt x="26" y="10"/>
                  <a:pt x="29" y="14"/>
                  <a:pt x="29" y="18"/>
                </a:cubicBezTo>
                <a:cubicBezTo>
                  <a:pt x="29" y="24"/>
                  <a:pt x="27" y="29"/>
                  <a:pt x="23" y="29"/>
                </a:cubicBezTo>
                <a:cubicBezTo>
                  <a:pt x="21" y="29"/>
                  <a:pt x="19" y="27"/>
                  <a:pt x="20" y="25"/>
                </a:cubicBezTo>
                <a:cubicBezTo>
                  <a:pt x="20" y="22"/>
                  <a:pt x="21" y="20"/>
                  <a:pt x="21" y="18"/>
                </a:cubicBezTo>
                <a:cubicBezTo>
                  <a:pt x="21" y="16"/>
                  <a:pt x="21" y="15"/>
                  <a:pt x="19" y="15"/>
                </a:cubicBezTo>
                <a:cubicBezTo>
                  <a:pt x="17" y="15"/>
                  <a:pt x="15" y="17"/>
                  <a:pt x="15" y="20"/>
                </a:cubicBezTo>
                <a:cubicBezTo>
                  <a:pt x="15" y="20"/>
                  <a:pt x="15" y="22"/>
                  <a:pt x="15" y="23"/>
                </a:cubicBezTo>
                <a:cubicBezTo>
                  <a:pt x="13" y="33"/>
                  <a:pt x="13" y="34"/>
                  <a:pt x="13" y="34"/>
                </a:cubicBezTo>
                <a:cubicBezTo>
                  <a:pt x="12" y="37"/>
                  <a:pt x="13" y="40"/>
                  <a:pt x="13" y="41"/>
                </a:cubicBezTo>
                <a:cubicBezTo>
                  <a:pt x="8" y="41"/>
                  <a:pt x="8" y="41"/>
                  <a:pt x="8" y="41"/>
                </a:cubicBezTo>
                <a:cubicBezTo>
                  <a:pt x="4" y="41"/>
                  <a:pt x="0" y="38"/>
                  <a:pt x="0" y="33"/>
                </a:cubicBezTo>
                <a:cubicBezTo>
                  <a:pt x="0" y="8"/>
                  <a:pt x="0" y="8"/>
                  <a:pt x="0" y="8"/>
                </a:cubicBezTo>
                <a:cubicBezTo>
                  <a:pt x="0" y="3"/>
                  <a:pt x="4" y="0"/>
                  <a:pt x="8" y="0"/>
                </a:cubicBezTo>
                <a:cubicBezTo>
                  <a:pt x="33" y="0"/>
                  <a:pt x="33" y="0"/>
                  <a:pt x="33" y="0"/>
                </a:cubicBezTo>
                <a:cubicBezTo>
                  <a:pt x="38" y="0"/>
                  <a:pt x="41" y="3"/>
                  <a:pt x="41" y="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76" name="稻壳儿小白白(http://dwz.cn/Wu2UP)"/>
          <p:cNvSpPr/>
          <p:nvPr/>
        </p:nvSpPr>
        <p:spPr>
          <a:xfrm>
            <a:off x="5389560" y="2386080"/>
            <a:ext cx="260280" cy="263520"/>
          </a:xfrm>
          <a:custGeom>
            <a:avLst/>
            <a:gdLst/>
            <a:ahLst/>
            <a:rect l="l" t="t" r="r" b="b"/>
            <a:pathLst>
              <a:path w="38" h="38">
                <a:moveTo>
                  <a:pt x="34" y="10"/>
                </a:moveTo>
                <a:cubicBezTo>
                  <a:pt x="30" y="14"/>
                  <a:pt x="30" y="14"/>
                  <a:pt x="30" y="14"/>
                </a:cubicBezTo>
                <a:cubicBezTo>
                  <a:pt x="34" y="33"/>
                  <a:pt x="34" y="33"/>
                  <a:pt x="34" y="33"/>
                </a:cubicBezTo>
                <a:cubicBezTo>
                  <a:pt x="34" y="33"/>
                  <a:pt x="34" y="34"/>
                  <a:pt x="34" y="34"/>
                </a:cubicBezTo>
                <a:cubicBezTo>
                  <a:pt x="30" y="36"/>
                  <a:pt x="30" y="36"/>
                  <a:pt x="30" y="36"/>
                </a:cubicBezTo>
                <a:cubicBezTo>
                  <a:pt x="30" y="36"/>
                  <a:pt x="30" y="36"/>
                  <a:pt x="30" y="36"/>
                </a:cubicBezTo>
                <a:cubicBezTo>
                  <a:pt x="30" y="36"/>
                  <a:pt x="30" y="36"/>
                  <a:pt x="30" y="36"/>
                </a:cubicBezTo>
                <a:cubicBezTo>
                  <a:pt x="29" y="36"/>
                  <a:pt x="29" y="36"/>
                  <a:pt x="29" y="36"/>
                </a:cubicBezTo>
                <a:cubicBezTo>
                  <a:pt x="22" y="22"/>
                  <a:pt x="22" y="22"/>
                  <a:pt x="22" y="22"/>
                </a:cubicBezTo>
                <a:cubicBezTo>
                  <a:pt x="15" y="29"/>
                  <a:pt x="15" y="29"/>
                  <a:pt x="15" y="29"/>
                </a:cubicBezTo>
                <a:cubicBezTo>
                  <a:pt x="16" y="35"/>
                  <a:pt x="16" y="35"/>
                  <a:pt x="16" y="35"/>
                </a:cubicBezTo>
                <a:cubicBezTo>
                  <a:pt x="16" y="35"/>
                  <a:pt x="16" y="35"/>
                  <a:pt x="16" y="35"/>
                </a:cubicBezTo>
                <a:cubicBezTo>
                  <a:pt x="13" y="38"/>
                  <a:pt x="13" y="38"/>
                  <a:pt x="13" y="38"/>
                </a:cubicBezTo>
                <a:cubicBezTo>
                  <a:pt x="13" y="38"/>
                  <a:pt x="13" y="38"/>
                  <a:pt x="13" y="38"/>
                </a:cubicBezTo>
                <a:cubicBezTo>
                  <a:pt x="13" y="38"/>
                  <a:pt x="13" y="38"/>
                  <a:pt x="13" y="38"/>
                </a:cubicBezTo>
                <a:cubicBezTo>
                  <a:pt x="12" y="38"/>
                  <a:pt x="12" y="38"/>
                  <a:pt x="12" y="38"/>
                </a:cubicBezTo>
                <a:cubicBezTo>
                  <a:pt x="7" y="31"/>
                  <a:pt x="7" y="31"/>
                  <a:pt x="7" y="31"/>
                </a:cubicBezTo>
                <a:cubicBezTo>
                  <a:pt x="0" y="26"/>
                  <a:pt x="0" y="26"/>
                  <a:pt x="0" y="26"/>
                </a:cubicBezTo>
                <a:cubicBezTo>
                  <a:pt x="0" y="26"/>
                  <a:pt x="0" y="26"/>
                  <a:pt x="0" y="25"/>
                </a:cubicBezTo>
                <a:cubicBezTo>
                  <a:pt x="0" y="25"/>
                  <a:pt x="0" y="25"/>
                  <a:pt x="0" y="25"/>
                </a:cubicBezTo>
                <a:cubicBezTo>
                  <a:pt x="3" y="22"/>
                  <a:pt x="3" y="22"/>
                  <a:pt x="3" y="22"/>
                </a:cubicBezTo>
                <a:cubicBezTo>
                  <a:pt x="3" y="22"/>
                  <a:pt x="3" y="22"/>
                  <a:pt x="3" y="22"/>
                </a:cubicBezTo>
                <a:cubicBezTo>
                  <a:pt x="3" y="22"/>
                  <a:pt x="3" y="22"/>
                  <a:pt x="3" y="22"/>
                </a:cubicBezTo>
                <a:cubicBezTo>
                  <a:pt x="9" y="23"/>
                  <a:pt x="9" y="23"/>
                  <a:pt x="9" y="23"/>
                </a:cubicBezTo>
                <a:cubicBezTo>
                  <a:pt x="16" y="16"/>
                  <a:pt x="16" y="16"/>
                  <a:pt x="16" y="16"/>
                </a:cubicBezTo>
                <a:cubicBezTo>
                  <a:pt x="2" y="9"/>
                  <a:pt x="2" y="9"/>
                  <a:pt x="2" y="9"/>
                </a:cubicBezTo>
                <a:cubicBezTo>
                  <a:pt x="2" y="9"/>
                  <a:pt x="2" y="9"/>
                  <a:pt x="1" y="8"/>
                </a:cubicBezTo>
                <a:cubicBezTo>
                  <a:pt x="1" y="8"/>
                  <a:pt x="2" y="8"/>
                  <a:pt x="2" y="8"/>
                </a:cubicBezTo>
                <a:cubicBezTo>
                  <a:pt x="5" y="4"/>
                  <a:pt x="5" y="4"/>
                  <a:pt x="5" y="4"/>
                </a:cubicBezTo>
                <a:cubicBezTo>
                  <a:pt x="5" y="4"/>
                  <a:pt x="6" y="4"/>
                  <a:pt x="6" y="4"/>
                </a:cubicBezTo>
                <a:cubicBezTo>
                  <a:pt x="24" y="8"/>
                  <a:pt x="24" y="8"/>
                  <a:pt x="24" y="8"/>
                </a:cubicBezTo>
                <a:cubicBezTo>
                  <a:pt x="28" y="4"/>
                  <a:pt x="28" y="4"/>
                  <a:pt x="28" y="4"/>
                </a:cubicBezTo>
                <a:cubicBezTo>
                  <a:pt x="31" y="1"/>
                  <a:pt x="35" y="0"/>
                  <a:pt x="37" y="1"/>
                </a:cubicBezTo>
                <a:cubicBezTo>
                  <a:pt x="38" y="3"/>
                  <a:pt x="37" y="7"/>
                  <a:pt x="34" y="1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77" name="稻壳儿小白白(http://dwz.cn/Wu2UP)"/>
          <p:cNvSpPr/>
          <p:nvPr/>
        </p:nvSpPr>
        <p:spPr>
          <a:xfrm>
            <a:off x="5389560" y="2897280"/>
            <a:ext cx="260280" cy="288720"/>
          </a:xfrm>
          <a:custGeom>
            <a:avLst/>
            <a:gdLst/>
            <a:ahLst/>
            <a:rect l="l" t="t" r="r" b="b"/>
            <a:pathLst>
              <a:path w="38" h="42">
                <a:moveTo>
                  <a:pt x="1" y="41"/>
                </a:moveTo>
                <a:cubicBezTo>
                  <a:pt x="0" y="42"/>
                  <a:pt x="0" y="41"/>
                  <a:pt x="0" y="40"/>
                </a:cubicBezTo>
                <a:cubicBezTo>
                  <a:pt x="0" y="1"/>
                  <a:pt x="0" y="1"/>
                  <a:pt x="0" y="1"/>
                </a:cubicBezTo>
                <a:cubicBezTo>
                  <a:pt x="0" y="0"/>
                  <a:pt x="0" y="0"/>
                  <a:pt x="1" y="0"/>
                </a:cubicBezTo>
                <a:cubicBezTo>
                  <a:pt x="37" y="20"/>
                  <a:pt x="37" y="20"/>
                  <a:pt x="37" y="20"/>
                </a:cubicBezTo>
                <a:cubicBezTo>
                  <a:pt x="38" y="20"/>
                  <a:pt x="38" y="21"/>
                  <a:pt x="37" y="21"/>
                </a:cubicBezTo>
                <a:lnTo>
                  <a:pt x="1" y="4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78" name="稻壳儿小白白(http://dwz.cn/Wu2UP)"/>
          <p:cNvSpPr/>
          <p:nvPr/>
        </p:nvSpPr>
        <p:spPr>
          <a:xfrm>
            <a:off x="5375160" y="3408480"/>
            <a:ext cx="282600" cy="282600"/>
          </a:xfrm>
          <a:custGeom>
            <a:avLst/>
            <a:gdLst/>
            <a:ahLst/>
            <a:rect l="l" t="t" r="r" b="b"/>
            <a:pathLst>
              <a:path w="41" h="41">
                <a:moveTo>
                  <a:pt x="41" y="20"/>
                </a:moveTo>
                <a:cubicBezTo>
                  <a:pt x="41" y="32"/>
                  <a:pt x="32" y="41"/>
                  <a:pt x="21" y="41"/>
                </a:cubicBezTo>
                <a:cubicBezTo>
                  <a:pt x="9" y="41"/>
                  <a:pt x="0" y="32"/>
                  <a:pt x="0" y="20"/>
                </a:cubicBezTo>
                <a:cubicBezTo>
                  <a:pt x="0" y="9"/>
                  <a:pt x="9" y="0"/>
                  <a:pt x="21" y="0"/>
                </a:cubicBezTo>
                <a:cubicBezTo>
                  <a:pt x="32" y="0"/>
                  <a:pt x="41" y="9"/>
                  <a:pt x="41" y="20"/>
                </a:cubicBezTo>
                <a:close/>
                <a:moveTo>
                  <a:pt x="32" y="20"/>
                </a:moveTo>
                <a:cubicBezTo>
                  <a:pt x="32" y="20"/>
                  <a:pt x="31" y="19"/>
                  <a:pt x="31" y="19"/>
                </a:cubicBezTo>
                <a:cubicBezTo>
                  <a:pt x="16" y="10"/>
                  <a:pt x="16" y="10"/>
                  <a:pt x="16" y="10"/>
                </a:cubicBezTo>
                <a:cubicBezTo>
                  <a:pt x="16" y="10"/>
                  <a:pt x="15" y="10"/>
                  <a:pt x="15" y="10"/>
                </a:cubicBezTo>
                <a:cubicBezTo>
                  <a:pt x="14" y="10"/>
                  <a:pt x="14" y="11"/>
                  <a:pt x="14" y="12"/>
                </a:cubicBezTo>
                <a:cubicBezTo>
                  <a:pt x="14" y="29"/>
                  <a:pt x="14" y="29"/>
                  <a:pt x="14" y="29"/>
                </a:cubicBezTo>
                <a:cubicBezTo>
                  <a:pt x="14" y="29"/>
                  <a:pt x="14" y="30"/>
                  <a:pt x="15" y="30"/>
                </a:cubicBezTo>
                <a:cubicBezTo>
                  <a:pt x="15" y="30"/>
                  <a:pt x="15" y="31"/>
                  <a:pt x="15" y="31"/>
                </a:cubicBezTo>
                <a:cubicBezTo>
                  <a:pt x="16" y="31"/>
                  <a:pt x="16" y="30"/>
                  <a:pt x="16" y="30"/>
                </a:cubicBezTo>
                <a:cubicBezTo>
                  <a:pt x="31" y="22"/>
                  <a:pt x="31" y="22"/>
                  <a:pt x="31" y="22"/>
                </a:cubicBezTo>
                <a:cubicBezTo>
                  <a:pt x="31" y="21"/>
                  <a:pt x="32" y="21"/>
                  <a:pt x="32" y="2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79" name="稻壳儿小白白(http://dwz.cn/Wu2UP)"/>
          <p:cNvSpPr/>
          <p:nvPr/>
        </p:nvSpPr>
        <p:spPr>
          <a:xfrm>
            <a:off x="5375160" y="3913200"/>
            <a:ext cx="282600" cy="282600"/>
          </a:xfrm>
          <a:custGeom>
            <a:avLst/>
            <a:gdLst/>
            <a:ahLst/>
            <a:rect l="l" t="t" r="r" b="b"/>
            <a:pathLst>
              <a:path w="41" h="41">
                <a:moveTo>
                  <a:pt x="21" y="41"/>
                </a:moveTo>
                <a:cubicBezTo>
                  <a:pt x="9" y="41"/>
                  <a:pt x="0" y="32"/>
                  <a:pt x="0" y="21"/>
                </a:cubicBezTo>
                <a:cubicBezTo>
                  <a:pt x="0" y="9"/>
                  <a:pt x="9" y="0"/>
                  <a:pt x="21" y="0"/>
                </a:cubicBezTo>
                <a:cubicBezTo>
                  <a:pt x="32" y="0"/>
                  <a:pt x="41" y="9"/>
                  <a:pt x="41" y="21"/>
                </a:cubicBezTo>
                <a:cubicBezTo>
                  <a:pt x="41" y="32"/>
                  <a:pt x="32" y="41"/>
                  <a:pt x="21" y="41"/>
                </a:cubicBezTo>
                <a:close/>
                <a:moveTo>
                  <a:pt x="21" y="6"/>
                </a:moveTo>
                <a:cubicBezTo>
                  <a:pt x="13" y="6"/>
                  <a:pt x="6" y="13"/>
                  <a:pt x="6" y="21"/>
                </a:cubicBezTo>
                <a:cubicBezTo>
                  <a:pt x="6" y="29"/>
                  <a:pt x="13" y="35"/>
                  <a:pt x="21" y="35"/>
                </a:cubicBezTo>
                <a:cubicBezTo>
                  <a:pt x="29" y="35"/>
                  <a:pt x="35" y="29"/>
                  <a:pt x="35" y="21"/>
                </a:cubicBezTo>
                <a:cubicBezTo>
                  <a:pt x="35" y="13"/>
                  <a:pt x="29" y="6"/>
                  <a:pt x="21" y="6"/>
                </a:cubicBezTo>
                <a:close/>
                <a:moveTo>
                  <a:pt x="31" y="22"/>
                </a:moveTo>
                <a:cubicBezTo>
                  <a:pt x="16" y="31"/>
                  <a:pt x="16" y="31"/>
                  <a:pt x="16" y="31"/>
                </a:cubicBezTo>
                <a:cubicBezTo>
                  <a:pt x="16" y="31"/>
                  <a:pt x="16" y="31"/>
                  <a:pt x="15" y="31"/>
                </a:cubicBezTo>
                <a:cubicBezTo>
                  <a:pt x="15" y="31"/>
                  <a:pt x="15" y="31"/>
                  <a:pt x="15" y="31"/>
                </a:cubicBezTo>
                <a:cubicBezTo>
                  <a:pt x="14" y="31"/>
                  <a:pt x="14" y="30"/>
                  <a:pt x="14" y="29"/>
                </a:cubicBezTo>
                <a:cubicBezTo>
                  <a:pt x="14" y="12"/>
                  <a:pt x="14" y="12"/>
                  <a:pt x="14" y="12"/>
                </a:cubicBezTo>
                <a:cubicBezTo>
                  <a:pt x="14" y="12"/>
                  <a:pt x="14" y="11"/>
                  <a:pt x="15" y="11"/>
                </a:cubicBezTo>
                <a:cubicBezTo>
                  <a:pt x="15" y="10"/>
                  <a:pt x="16" y="10"/>
                  <a:pt x="16" y="11"/>
                </a:cubicBezTo>
                <a:cubicBezTo>
                  <a:pt x="31" y="19"/>
                  <a:pt x="31" y="19"/>
                  <a:pt x="31" y="19"/>
                </a:cubicBezTo>
                <a:cubicBezTo>
                  <a:pt x="31" y="20"/>
                  <a:pt x="32" y="20"/>
                  <a:pt x="32" y="21"/>
                </a:cubicBezTo>
                <a:cubicBezTo>
                  <a:pt x="32" y="21"/>
                  <a:pt x="31" y="22"/>
                  <a:pt x="31" y="2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80" name="稻壳儿小白白(http://dwz.cn/Wu2UP)"/>
          <p:cNvSpPr/>
          <p:nvPr/>
        </p:nvSpPr>
        <p:spPr>
          <a:xfrm>
            <a:off x="5389560" y="4425840"/>
            <a:ext cx="254160" cy="263520"/>
          </a:xfrm>
          <a:custGeom>
            <a:avLst/>
            <a:gdLst/>
            <a:ahLst/>
            <a:rect l="l" t="t" r="r" b="b"/>
            <a:pathLst>
              <a:path w="37" h="38">
                <a:moveTo>
                  <a:pt x="37" y="21"/>
                </a:moveTo>
                <a:cubicBezTo>
                  <a:pt x="37" y="23"/>
                  <a:pt x="36" y="24"/>
                  <a:pt x="35" y="24"/>
                </a:cubicBezTo>
                <a:cubicBezTo>
                  <a:pt x="24" y="24"/>
                  <a:pt x="24" y="24"/>
                  <a:pt x="24" y="24"/>
                </a:cubicBezTo>
                <a:cubicBezTo>
                  <a:pt x="24" y="35"/>
                  <a:pt x="24" y="35"/>
                  <a:pt x="24" y="35"/>
                </a:cubicBezTo>
                <a:cubicBezTo>
                  <a:pt x="24" y="36"/>
                  <a:pt x="23" y="38"/>
                  <a:pt x="21" y="38"/>
                </a:cubicBezTo>
                <a:cubicBezTo>
                  <a:pt x="16" y="38"/>
                  <a:pt x="16" y="38"/>
                  <a:pt x="16" y="38"/>
                </a:cubicBezTo>
                <a:cubicBezTo>
                  <a:pt x="15" y="38"/>
                  <a:pt x="13" y="36"/>
                  <a:pt x="13" y="35"/>
                </a:cubicBezTo>
                <a:cubicBezTo>
                  <a:pt x="13" y="24"/>
                  <a:pt x="13" y="24"/>
                  <a:pt x="13" y="24"/>
                </a:cubicBezTo>
                <a:cubicBezTo>
                  <a:pt x="2" y="24"/>
                  <a:pt x="2" y="24"/>
                  <a:pt x="2" y="24"/>
                </a:cubicBezTo>
                <a:cubicBezTo>
                  <a:pt x="1" y="24"/>
                  <a:pt x="0" y="23"/>
                  <a:pt x="0" y="21"/>
                </a:cubicBezTo>
                <a:cubicBezTo>
                  <a:pt x="0" y="16"/>
                  <a:pt x="0" y="16"/>
                  <a:pt x="0" y="16"/>
                </a:cubicBezTo>
                <a:cubicBezTo>
                  <a:pt x="0" y="15"/>
                  <a:pt x="1" y="14"/>
                  <a:pt x="2" y="14"/>
                </a:cubicBezTo>
                <a:cubicBezTo>
                  <a:pt x="13" y="14"/>
                  <a:pt x="13" y="14"/>
                  <a:pt x="13" y="14"/>
                </a:cubicBezTo>
                <a:cubicBezTo>
                  <a:pt x="13" y="2"/>
                  <a:pt x="13" y="2"/>
                  <a:pt x="13" y="2"/>
                </a:cubicBezTo>
                <a:cubicBezTo>
                  <a:pt x="13" y="1"/>
                  <a:pt x="15" y="0"/>
                  <a:pt x="16" y="0"/>
                </a:cubicBezTo>
                <a:cubicBezTo>
                  <a:pt x="21" y="0"/>
                  <a:pt x="21" y="0"/>
                  <a:pt x="21" y="0"/>
                </a:cubicBezTo>
                <a:cubicBezTo>
                  <a:pt x="23" y="0"/>
                  <a:pt x="24" y="1"/>
                  <a:pt x="24" y="2"/>
                </a:cubicBezTo>
                <a:cubicBezTo>
                  <a:pt x="24" y="14"/>
                  <a:pt x="24" y="14"/>
                  <a:pt x="24" y="14"/>
                </a:cubicBezTo>
                <a:cubicBezTo>
                  <a:pt x="35" y="14"/>
                  <a:pt x="35" y="14"/>
                  <a:pt x="35" y="14"/>
                </a:cubicBezTo>
                <a:cubicBezTo>
                  <a:pt x="36" y="14"/>
                  <a:pt x="37" y="15"/>
                  <a:pt x="37" y="16"/>
                </a:cubicBezTo>
                <a:lnTo>
                  <a:pt x="37" y="2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81" name="稻壳儿小白白(http://dwz.cn/Wu2UP)"/>
          <p:cNvSpPr/>
          <p:nvPr/>
        </p:nvSpPr>
        <p:spPr>
          <a:xfrm>
            <a:off x="5375160" y="4930920"/>
            <a:ext cx="282600" cy="288720"/>
          </a:xfrm>
          <a:custGeom>
            <a:avLst/>
            <a:gdLst/>
            <a:ahLst/>
            <a:rect l="l" t="t" r="r" b="b"/>
            <a:pathLst>
              <a:path w="41" h="42">
                <a:moveTo>
                  <a:pt x="21" y="42"/>
                </a:moveTo>
                <a:cubicBezTo>
                  <a:pt x="9" y="42"/>
                  <a:pt x="0" y="32"/>
                  <a:pt x="0" y="21"/>
                </a:cubicBezTo>
                <a:cubicBezTo>
                  <a:pt x="0" y="10"/>
                  <a:pt x="9" y="0"/>
                  <a:pt x="21" y="0"/>
                </a:cubicBezTo>
                <a:cubicBezTo>
                  <a:pt x="32" y="0"/>
                  <a:pt x="41" y="10"/>
                  <a:pt x="41" y="21"/>
                </a:cubicBezTo>
                <a:cubicBezTo>
                  <a:pt x="41" y="32"/>
                  <a:pt x="32" y="42"/>
                  <a:pt x="21" y="42"/>
                </a:cubicBezTo>
                <a:close/>
                <a:moveTo>
                  <a:pt x="33" y="19"/>
                </a:moveTo>
                <a:cubicBezTo>
                  <a:pt x="33" y="18"/>
                  <a:pt x="32" y="18"/>
                  <a:pt x="31" y="18"/>
                </a:cubicBezTo>
                <a:cubicBezTo>
                  <a:pt x="24" y="18"/>
                  <a:pt x="24" y="18"/>
                  <a:pt x="24" y="18"/>
                </a:cubicBezTo>
                <a:cubicBezTo>
                  <a:pt x="24" y="11"/>
                  <a:pt x="24" y="11"/>
                  <a:pt x="24" y="11"/>
                </a:cubicBezTo>
                <a:cubicBezTo>
                  <a:pt x="24" y="10"/>
                  <a:pt x="23" y="9"/>
                  <a:pt x="22" y="9"/>
                </a:cubicBezTo>
                <a:cubicBezTo>
                  <a:pt x="19" y="9"/>
                  <a:pt x="19" y="9"/>
                  <a:pt x="19" y="9"/>
                </a:cubicBezTo>
                <a:cubicBezTo>
                  <a:pt x="18" y="9"/>
                  <a:pt x="17" y="10"/>
                  <a:pt x="17" y="11"/>
                </a:cubicBezTo>
                <a:cubicBezTo>
                  <a:pt x="17" y="18"/>
                  <a:pt x="17" y="18"/>
                  <a:pt x="17" y="18"/>
                </a:cubicBezTo>
                <a:cubicBezTo>
                  <a:pt x="10" y="18"/>
                  <a:pt x="10" y="18"/>
                  <a:pt x="10" y="18"/>
                </a:cubicBezTo>
                <a:cubicBezTo>
                  <a:pt x="9" y="18"/>
                  <a:pt x="9" y="18"/>
                  <a:pt x="9" y="19"/>
                </a:cubicBezTo>
                <a:cubicBezTo>
                  <a:pt x="9" y="23"/>
                  <a:pt x="9" y="23"/>
                  <a:pt x="9" y="23"/>
                </a:cubicBezTo>
                <a:cubicBezTo>
                  <a:pt x="9" y="24"/>
                  <a:pt x="9" y="24"/>
                  <a:pt x="10" y="24"/>
                </a:cubicBezTo>
                <a:cubicBezTo>
                  <a:pt x="17" y="24"/>
                  <a:pt x="17" y="24"/>
                  <a:pt x="17" y="24"/>
                </a:cubicBezTo>
                <a:cubicBezTo>
                  <a:pt x="17" y="31"/>
                  <a:pt x="17" y="31"/>
                  <a:pt x="17" y="31"/>
                </a:cubicBezTo>
                <a:cubicBezTo>
                  <a:pt x="17" y="32"/>
                  <a:pt x="18" y="33"/>
                  <a:pt x="19" y="33"/>
                </a:cubicBezTo>
                <a:cubicBezTo>
                  <a:pt x="22" y="33"/>
                  <a:pt x="22" y="33"/>
                  <a:pt x="22" y="33"/>
                </a:cubicBezTo>
                <a:cubicBezTo>
                  <a:pt x="23" y="33"/>
                  <a:pt x="24" y="32"/>
                  <a:pt x="24" y="31"/>
                </a:cubicBezTo>
                <a:cubicBezTo>
                  <a:pt x="24" y="24"/>
                  <a:pt x="24" y="24"/>
                  <a:pt x="24" y="24"/>
                </a:cubicBezTo>
                <a:cubicBezTo>
                  <a:pt x="31" y="24"/>
                  <a:pt x="31" y="24"/>
                  <a:pt x="31" y="24"/>
                </a:cubicBezTo>
                <a:cubicBezTo>
                  <a:pt x="32" y="24"/>
                  <a:pt x="33" y="24"/>
                  <a:pt x="33" y="23"/>
                </a:cubicBezTo>
                <a:lnTo>
                  <a:pt x="33" y="1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82" name="稻壳儿小白白(http://dwz.cn/Wu2UP)"/>
          <p:cNvSpPr/>
          <p:nvPr/>
        </p:nvSpPr>
        <p:spPr>
          <a:xfrm>
            <a:off x="5375160" y="5442120"/>
            <a:ext cx="282600" cy="282240"/>
          </a:xfrm>
          <a:custGeom>
            <a:avLst/>
            <a:gdLst/>
            <a:ahLst/>
            <a:rect l="l" t="t" r="r" b="b"/>
            <a:pathLst>
              <a:path w="41" h="41">
                <a:moveTo>
                  <a:pt x="41" y="34"/>
                </a:moveTo>
                <a:cubicBezTo>
                  <a:pt x="41" y="38"/>
                  <a:pt x="38" y="41"/>
                  <a:pt x="33" y="41"/>
                </a:cubicBezTo>
                <a:cubicBezTo>
                  <a:pt x="8" y="41"/>
                  <a:pt x="8" y="41"/>
                  <a:pt x="8" y="41"/>
                </a:cubicBezTo>
                <a:cubicBezTo>
                  <a:pt x="4" y="41"/>
                  <a:pt x="0" y="38"/>
                  <a:pt x="0" y="34"/>
                </a:cubicBezTo>
                <a:cubicBezTo>
                  <a:pt x="0" y="8"/>
                  <a:pt x="0" y="8"/>
                  <a:pt x="0" y="8"/>
                </a:cubicBezTo>
                <a:cubicBezTo>
                  <a:pt x="0" y="4"/>
                  <a:pt x="4" y="0"/>
                  <a:pt x="8" y="0"/>
                </a:cubicBezTo>
                <a:cubicBezTo>
                  <a:pt x="33" y="0"/>
                  <a:pt x="33" y="0"/>
                  <a:pt x="33" y="0"/>
                </a:cubicBezTo>
                <a:cubicBezTo>
                  <a:pt x="38" y="0"/>
                  <a:pt x="41" y="4"/>
                  <a:pt x="41" y="8"/>
                </a:cubicBezTo>
                <a:lnTo>
                  <a:pt x="41" y="34"/>
                </a:lnTo>
                <a:close/>
                <a:moveTo>
                  <a:pt x="34" y="19"/>
                </a:moveTo>
                <a:cubicBezTo>
                  <a:pt x="34" y="18"/>
                  <a:pt x="34" y="17"/>
                  <a:pt x="33" y="17"/>
                </a:cubicBezTo>
                <a:cubicBezTo>
                  <a:pt x="24" y="17"/>
                  <a:pt x="24" y="17"/>
                  <a:pt x="24" y="17"/>
                </a:cubicBezTo>
                <a:cubicBezTo>
                  <a:pt x="24" y="9"/>
                  <a:pt x="24" y="9"/>
                  <a:pt x="24" y="9"/>
                </a:cubicBezTo>
                <a:cubicBezTo>
                  <a:pt x="24" y="8"/>
                  <a:pt x="23" y="7"/>
                  <a:pt x="22" y="7"/>
                </a:cubicBezTo>
                <a:cubicBezTo>
                  <a:pt x="19" y="7"/>
                  <a:pt x="19" y="7"/>
                  <a:pt x="19" y="7"/>
                </a:cubicBezTo>
                <a:cubicBezTo>
                  <a:pt x="18" y="7"/>
                  <a:pt x="17" y="8"/>
                  <a:pt x="17" y="9"/>
                </a:cubicBezTo>
                <a:cubicBezTo>
                  <a:pt x="17" y="17"/>
                  <a:pt x="17" y="17"/>
                  <a:pt x="17" y="17"/>
                </a:cubicBezTo>
                <a:cubicBezTo>
                  <a:pt x="9" y="17"/>
                  <a:pt x="9" y="17"/>
                  <a:pt x="9" y="17"/>
                </a:cubicBezTo>
                <a:cubicBezTo>
                  <a:pt x="8" y="17"/>
                  <a:pt x="7" y="18"/>
                  <a:pt x="7" y="19"/>
                </a:cubicBezTo>
                <a:cubicBezTo>
                  <a:pt x="7" y="22"/>
                  <a:pt x="7" y="22"/>
                  <a:pt x="7" y="22"/>
                </a:cubicBezTo>
                <a:cubicBezTo>
                  <a:pt x="7" y="23"/>
                  <a:pt x="8" y="24"/>
                  <a:pt x="9" y="24"/>
                </a:cubicBezTo>
                <a:cubicBezTo>
                  <a:pt x="17" y="24"/>
                  <a:pt x="17" y="24"/>
                  <a:pt x="17" y="24"/>
                </a:cubicBezTo>
                <a:cubicBezTo>
                  <a:pt x="17" y="33"/>
                  <a:pt x="17" y="33"/>
                  <a:pt x="17" y="33"/>
                </a:cubicBezTo>
                <a:cubicBezTo>
                  <a:pt x="17" y="34"/>
                  <a:pt x="18" y="34"/>
                  <a:pt x="19" y="34"/>
                </a:cubicBezTo>
                <a:cubicBezTo>
                  <a:pt x="22" y="34"/>
                  <a:pt x="22" y="34"/>
                  <a:pt x="22" y="34"/>
                </a:cubicBezTo>
                <a:cubicBezTo>
                  <a:pt x="23" y="34"/>
                  <a:pt x="24" y="34"/>
                  <a:pt x="24" y="33"/>
                </a:cubicBezTo>
                <a:cubicBezTo>
                  <a:pt x="24" y="24"/>
                  <a:pt x="24" y="24"/>
                  <a:pt x="24" y="24"/>
                </a:cubicBezTo>
                <a:cubicBezTo>
                  <a:pt x="33" y="24"/>
                  <a:pt x="33" y="24"/>
                  <a:pt x="33" y="24"/>
                </a:cubicBezTo>
                <a:cubicBezTo>
                  <a:pt x="34" y="24"/>
                  <a:pt x="34" y="23"/>
                  <a:pt x="34" y="22"/>
                </a:cubicBezTo>
                <a:lnTo>
                  <a:pt x="34" y="1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83" name="稻壳儿小白白(http://dwz.cn/Wu2UP)"/>
          <p:cNvSpPr/>
          <p:nvPr/>
        </p:nvSpPr>
        <p:spPr>
          <a:xfrm>
            <a:off x="6226200" y="863640"/>
            <a:ext cx="303120" cy="257040"/>
          </a:xfrm>
          <a:custGeom>
            <a:avLst/>
            <a:gdLst/>
            <a:ahLst/>
            <a:rect l="l" t="t" r="r" b="b"/>
            <a:pathLst>
              <a:path w="44" h="37">
                <a:moveTo>
                  <a:pt x="20" y="24"/>
                </a:moveTo>
                <a:cubicBezTo>
                  <a:pt x="20" y="31"/>
                  <a:pt x="14" y="37"/>
                  <a:pt x="7" y="37"/>
                </a:cubicBezTo>
                <a:cubicBezTo>
                  <a:pt x="5" y="37"/>
                  <a:pt x="5" y="37"/>
                  <a:pt x="5" y="37"/>
                </a:cubicBezTo>
                <a:cubicBezTo>
                  <a:pt x="4" y="37"/>
                  <a:pt x="3" y="37"/>
                  <a:pt x="3" y="36"/>
                </a:cubicBezTo>
                <a:cubicBezTo>
                  <a:pt x="3" y="32"/>
                  <a:pt x="3" y="32"/>
                  <a:pt x="3" y="32"/>
                </a:cubicBezTo>
                <a:cubicBezTo>
                  <a:pt x="3" y="31"/>
                  <a:pt x="4" y="31"/>
                  <a:pt x="5" y="31"/>
                </a:cubicBezTo>
                <a:cubicBezTo>
                  <a:pt x="7" y="31"/>
                  <a:pt x="7" y="31"/>
                  <a:pt x="7" y="31"/>
                </a:cubicBezTo>
                <a:cubicBezTo>
                  <a:pt x="11" y="31"/>
                  <a:pt x="14" y="27"/>
                  <a:pt x="14" y="24"/>
                </a:cubicBezTo>
                <a:cubicBezTo>
                  <a:pt x="14" y="23"/>
                  <a:pt x="14" y="23"/>
                  <a:pt x="14" y="23"/>
                </a:cubicBezTo>
                <a:cubicBezTo>
                  <a:pt x="14" y="21"/>
                  <a:pt x="12" y="20"/>
                  <a:pt x="11" y="20"/>
                </a:cubicBezTo>
                <a:cubicBezTo>
                  <a:pt x="5" y="20"/>
                  <a:pt x="5" y="20"/>
                  <a:pt x="5" y="20"/>
                </a:cubicBezTo>
                <a:cubicBezTo>
                  <a:pt x="2" y="20"/>
                  <a:pt x="0" y="18"/>
                  <a:pt x="0" y="15"/>
                </a:cubicBezTo>
                <a:cubicBezTo>
                  <a:pt x="0" y="5"/>
                  <a:pt x="0" y="5"/>
                  <a:pt x="0" y="5"/>
                </a:cubicBezTo>
                <a:cubicBezTo>
                  <a:pt x="0" y="2"/>
                  <a:pt x="2" y="0"/>
                  <a:pt x="5" y="0"/>
                </a:cubicBezTo>
                <a:cubicBezTo>
                  <a:pt x="15" y="0"/>
                  <a:pt x="15" y="0"/>
                  <a:pt x="15" y="0"/>
                </a:cubicBezTo>
                <a:cubicBezTo>
                  <a:pt x="18" y="0"/>
                  <a:pt x="20" y="2"/>
                  <a:pt x="20" y="5"/>
                </a:cubicBezTo>
                <a:lnTo>
                  <a:pt x="20" y="24"/>
                </a:lnTo>
                <a:close/>
                <a:moveTo>
                  <a:pt x="44" y="24"/>
                </a:moveTo>
                <a:cubicBezTo>
                  <a:pt x="44" y="31"/>
                  <a:pt x="38" y="37"/>
                  <a:pt x="31" y="37"/>
                </a:cubicBezTo>
                <a:cubicBezTo>
                  <a:pt x="29" y="37"/>
                  <a:pt x="29" y="37"/>
                  <a:pt x="29" y="37"/>
                </a:cubicBezTo>
                <a:cubicBezTo>
                  <a:pt x="28" y="37"/>
                  <a:pt x="27" y="37"/>
                  <a:pt x="27" y="36"/>
                </a:cubicBezTo>
                <a:cubicBezTo>
                  <a:pt x="27" y="32"/>
                  <a:pt x="27" y="32"/>
                  <a:pt x="27" y="32"/>
                </a:cubicBezTo>
                <a:cubicBezTo>
                  <a:pt x="27" y="31"/>
                  <a:pt x="28" y="31"/>
                  <a:pt x="29" y="31"/>
                </a:cubicBezTo>
                <a:cubicBezTo>
                  <a:pt x="31" y="31"/>
                  <a:pt x="31" y="31"/>
                  <a:pt x="31" y="31"/>
                </a:cubicBezTo>
                <a:cubicBezTo>
                  <a:pt x="35" y="31"/>
                  <a:pt x="38" y="27"/>
                  <a:pt x="38" y="24"/>
                </a:cubicBezTo>
                <a:cubicBezTo>
                  <a:pt x="38" y="23"/>
                  <a:pt x="38" y="23"/>
                  <a:pt x="38" y="23"/>
                </a:cubicBezTo>
                <a:cubicBezTo>
                  <a:pt x="38" y="21"/>
                  <a:pt x="36" y="20"/>
                  <a:pt x="35" y="20"/>
                </a:cubicBezTo>
                <a:cubicBezTo>
                  <a:pt x="29" y="20"/>
                  <a:pt x="29" y="20"/>
                  <a:pt x="29" y="20"/>
                </a:cubicBezTo>
                <a:cubicBezTo>
                  <a:pt x="26" y="20"/>
                  <a:pt x="24" y="18"/>
                  <a:pt x="24" y="15"/>
                </a:cubicBezTo>
                <a:cubicBezTo>
                  <a:pt x="24" y="5"/>
                  <a:pt x="24" y="5"/>
                  <a:pt x="24" y="5"/>
                </a:cubicBezTo>
                <a:cubicBezTo>
                  <a:pt x="24" y="2"/>
                  <a:pt x="26" y="0"/>
                  <a:pt x="29" y="0"/>
                </a:cubicBezTo>
                <a:cubicBezTo>
                  <a:pt x="39" y="0"/>
                  <a:pt x="39" y="0"/>
                  <a:pt x="39" y="0"/>
                </a:cubicBezTo>
                <a:cubicBezTo>
                  <a:pt x="42" y="0"/>
                  <a:pt x="44" y="2"/>
                  <a:pt x="44" y="5"/>
                </a:cubicBezTo>
                <a:lnTo>
                  <a:pt x="44" y="2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84" name="稻壳儿小白白(http://dwz.cn/Wu2UP)"/>
          <p:cNvSpPr/>
          <p:nvPr/>
        </p:nvSpPr>
        <p:spPr>
          <a:xfrm>
            <a:off x="6210360" y="1347840"/>
            <a:ext cx="333360" cy="333360"/>
          </a:xfrm>
          <a:custGeom>
            <a:avLst/>
            <a:gdLst/>
            <a:ahLst/>
            <a:rect l="l" t="t" r="r" b="b"/>
            <a:pathLst>
              <a:path w="48" h="48">
                <a:moveTo>
                  <a:pt x="12" y="4"/>
                </a:moveTo>
                <a:cubicBezTo>
                  <a:pt x="12" y="4"/>
                  <a:pt x="12" y="4"/>
                  <a:pt x="12" y="4"/>
                </a:cubicBezTo>
                <a:cubicBezTo>
                  <a:pt x="12" y="4"/>
                  <a:pt x="1" y="17"/>
                  <a:pt x="11" y="26"/>
                </a:cubicBezTo>
                <a:cubicBezTo>
                  <a:pt x="16" y="31"/>
                  <a:pt x="19" y="26"/>
                  <a:pt x="19" y="26"/>
                </a:cubicBezTo>
                <a:cubicBezTo>
                  <a:pt x="23" y="21"/>
                  <a:pt x="19" y="14"/>
                  <a:pt x="19" y="14"/>
                </a:cubicBezTo>
                <a:cubicBezTo>
                  <a:pt x="18" y="12"/>
                  <a:pt x="15" y="10"/>
                  <a:pt x="15" y="10"/>
                </a:cubicBezTo>
                <a:cubicBezTo>
                  <a:pt x="18" y="7"/>
                  <a:pt x="18" y="7"/>
                  <a:pt x="18" y="7"/>
                </a:cubicBezTo>
                <a:cubicBezTo>
                  <a:pt x="20" y="8"/>
                  <a:pt x="22" y="11"/>
                  <a:pt x="22" y="11"/>
                </a:cubicBezTo>
                <a:cubicBezTo>
                  <a:pt x="22" y="8"/>
                  <a:pt x="20" y="5"/>
                  <a:pt x="20" y="5"/>
                </a:cubicBezTo>
                <a:cubicBezTo>
                  <a:pt x="24" y="0"/>
                  <a:pt x="24" y="0"/>
                  <a:pt x="24" y="0"/>
                </a:cubicBezTo>
                <a:cubicBezTo>
                  <a:pt x="28" y="5"/>
                  <a:pt x="28" y="5"/>
                  <a:pt x="28" y="5"/>
                </a:cubicBezTo>
                <a:cubicBezTo>
                  <a:pt x="26" y="7"/>
                  <a:pt x="26" y="11"/>
                  <a:pt x="26" y="11"/>
                </a:cubicBezTo>
                <a:cubicBezTo>
                  <a:pt x="28" y="9"/>
                  <a:pt x="30" y="7"/>
                  <a:pt x="30" y="7"/>
                </a:cubicBezTo>
                <a:cubicBezTo>
                  <a:pt x="33" y="10"/>
                  <a:pt x="33" y="10"/>
                  <a:pt x="33" y="10"/>
                </a:cubicBezTo>
                <a:cubicBezTo>
                  <a:pt x="31" y="11"/>
                  <a:pt x="29" y="14"/>
                  <a:pt x="29" y="14"/>
                </a:cubicBezTo>
                <a:cubicBezTo>
                  <a:pt x="27" y="17"/>
                  <a:pt x="26" y="23"/>
                  <a:pt x="29" y="26"/>
                </a:cubicBezTo>
                <a:cubicBezTo>
                  <a:pt x="32" y="31"/>
                  <a:pt x="37" y="26"/>
                  <a:pt x="37" y="26"/>
                </a:cubicBezTo>
                <a:cubicBezTo>
                  <a:pt x="47" y="17"/>
                  <a:pt x="36" y="4"/>
                  <a:pt x="36" y="4"/>
                </a:cubicBezTo>
                <a:cubicBezTo>
                  <a:pt x="36" y="4"/>
                  <a:pt x="36" y="4"/>
                  <a:pt x="36" y="4"/>
                </a:cubicBezTo>
                <a:cubicBezTo>
                  <a:pt x="41" y="7"/>
                  <a:pt x="48" y="12"/>
                  <a:pt x="48" y="24"/>
                </a:cubicBezTo>
                <a:cubicBezTo>
                  <a:pt x="48" y="38"/>
                  <a:pt x="38" y="48"/>
                  <a:pt x="24" y="48"/>
                </a:cubicBezTo>
                <a:cubicBezTo>
                  <a:pt x="11" y="48"/>
                  <a:pt x="0" y="37"/>
                  <a:pt x="1" y="23"/>
                </a:cubicBezTo>
                <a:cubicBezTo>
                  <a:pt x="1" y="16"/>
                  <a:pt x="5" y="9"/>
                  <a:pt x="12" y="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85" name="稻壳儿小白白(http://dwz.cn/Wu2UP)"/>
          <p:cNvSpPr/>
          <p:nvPr/>
        </p:nvSpPr>
        <p:spPr>
          <a:xfrm>
            <a:off x="6210360" y="1860480"/>
            <a:ext cx="333360" cy="295200"/>
          </a:xfrm>
          <a:custGeom>
            <a:avLst/>
            <a:gdLst/>
            <a:ahLst/>
            <a:rect l="l" t="t" r="r" b="b"/>
            <a:pathLst>
              <a:path w="48" h="43">
                <a:moveTo>
                  <a:pt x="48" y="10"/>
                </a:moveTo>
                <a:cubicBezTo>
                  <a:pt x="39" y="19"/>
                  <a:pt x="39" y="19"/>
                  <a:pt x="39" y="19"/>
                </a:cubicBezTo>
                <a:cubicBezTo>
                  <a:pt x="39" y="19"/>
                  <a:pt x="39" y="19"/>
                  <a:pt x="39" y="19"/>
                </a:cubicBezTo>
                <a:cubicBezTo>
                  <a:pt x="38" y="19"/>
                  <a:pt x="38" y="19"/>
                  <a:pt x="38" y="18"/>
                </a:cubicBezTo>
                <a:cubicBezTo>
                  <a:pt x="38" y="13"/>
                  <a:pt x="38" y="13"/>
                  <a:pt x="38" y="13"/>
                </a:cubicBezTo>
                <a:cubicBezTo>
                  <a:pt x="31" y="13"/>
                  <a:pt x="31" y="13"/>
                  <a:pt x="31" y="13"/>
                </a:cubicBezTo>
                <a:cubicBezTo>
                  <a:pt x="27" y="13"/>
                  <a:pt x="26" y="16"/>
                  <a:pt x="24" y="18"/>
                </a:cubicBezTo>
                <a:cubicBezTo>
                  <a:pt x="24" y="20"/>
                  <a:pt x="23" y="22"/>
                  <a:pt x="22" y="23"/>
                </a:cubicBezTo>
                <a:cubicBezTo>
                  <a:pt x="19" y="30"/>
                  <a:pt x="16" y="37"/>
                  <a:pt x="7" y="37"/>
                </a:cubicBezTo>
                <a:cubicBezTo>
                  <a:pt x="1" y="37"/>
                  <a:pt x="1" y="37"/>
                  <a:pt x="1" y="37"/>
                </a:cubicBezTo>
                <a:cubicBezTo>
                  <a:pt x="1" y="37"/>
                  <a:pt x="0" y="37"/>
                  <a:pt x="0" y="36"/>
                </a:cubicBezTo>
                <a:cubicBezTo>
                  <a:pt x="0" y="31"/>
                  <a:pt x="0" y="31"/>
                  <a:pt x="0" y="31"/>
                </a:cubicBezTo>
                <a:cubicBezTo>
                  <a:pt x="0" y="31"/>
                  <a:pt x="1" y="30"/>
                  <a:pt x="1" y="30"/>
                </a:cubicBezTo>
                <a:cubicBezTo>
                  <a:pt x="7" y="30"/>
                  <a:pt x="7" y="30"/>
                  <a:pt x="7" y="30"/>
                </a:cubicBezTo>
                <a:cubicBezTo>
                  <a:pt x="11" y="30"/>
                  <a:pt x="12" y="28"/>
                  <a:pt x="14" y="25"/>
                </a:cubicBezTo>
                <a:cubicBezTo>
                  <a:pt x="15" y="23"/>
                  <a:pt x="15" y="22"/>
                  <a:pt x="16" y="20"/>
                </a:cubicBezTo>
                <a:cubicBezTo>
                  <a:pt x="19" y="13"/>
                  <a:pt x="22" y="6"/>
                  <a:pt x="31" y="6"/>
                </a:cubicBezTo>
                <a:cubicBezTo>
                  <a:pt x="38" y="6"/>
                  <a:pt x="38" y="6"/>
                  <a:pt x="38" y="6"/>
                </a:cubicBezTo>
                <a:cubicBezTo>
                  <a:pt x="38" y="1"/>
                  <a:pt x="38" y="1"/>
                  <a:pt x="38" y="1"/>
                </a:cubicBezTo>
                <a:cubicBezTo>
                  <a:pt x="38" y="1"/>
                  <a:pt x="38" y="0"/>
                  <a:pt x="39" y="0"/>
                </a:cubicBezTo>
                <a:cubicBezTo>
                  <a:pt x="39" y="0"/>
                  <a:pt x="39" y="0"/>
                  <a:pt x="39" y="1"/>
                </a:cubicBezTo>
                <a:cubicBezTo>
                  <a:pt x="48" y="9"/>
                  <a:pt x="48" y="9"/>
                  <a:pt x="48" y="9"/>
                </a:cubicBezTo>
                <a:cubicBezTo>
                  <a:pt x="48" y="9"/>
                  <a:pt x="48" y="10"/>
                  <a:pt x="48" y="10"/>
                </a:cubicBezTo>
                <a:cubicBezTo>
                  <a:pt x="48" y="10"/>
                  <a:pt x="48" y="10"/>
                  <a:pt x="48" y="10"/>
                </a:cubicBezTo>
                <a:close/>
                <a:moveTo>
                  <a:pt x="14" y="20"/>
                </a:moveTo>
                <a:cubicBezTo>
                  <a:pt x="13" y="16"/>
                  <a:pt x="11" y="13"/>
                  <a:pt x="7" y="13"/>
                </a:cubicBezTo>
                <a:cubicBezTo>
                  <a:pt x="1" y="13"/>
                  <a:pt x="1" y="13"/>
                  <a:pt x="1" y="13"/>
                </a:cubicBezTo>
                <a:cubicBezTo>
                  <a:pt x="1" y="13"/>
                  <a:pt x="0" y="13"/>
                  <a:pt x="0" y="12"/>
                </a:cubicBezTo>
                <a:cubicBezTo>
                  <a:pt x="0" y="7"/>
                  <a:pt x="0" y="7"/>
                  <a:pt x="0" y="7"/>
                </a:cubicBezTo>
                <a:cubicBezTo>
                  <a:pt x="0" y="7"/>
                  <a:pt x="1" y="6"/>
                  <a:pt x="1" y="6"/>
                </a:cubicBezTo>
                <a:cubicBezTo>
                  <a:pt x="7" y="6"/>
                  <a:pt x="7" y="6"/>
                  <a:pt x="7" y="6"/>
                </a:cubicBezTo>
                <a:cubicBezTo>
                  <a:pt x="12" y="6"/>
                  <a:pt x="15" y="9"/>
                  <a:pt x="18" y="12"/>
                </a:cubicBezTo>
                <a:cubicBezTo>
                  <a:pt x="17" y="15"/>
                  <a:pt x="15" y="17"/>
                  <a:pt x="14" y="20"/>
                </a:cubicBezTo>
                <a:close/>
                <a:moveTo>
                  <a:pt x="48" y="34"/>
                </a:moveTo>
                <a:cubicBezTo>
                  <a:pt x="39" y="43"/>
                  <a:pt x="39" y="43"/>
                  <a:pt x="39" y="43"/>
                </a:cubicBezTo>
                <a:cubicBezTo>
                  <a:pt x="39" y="43"/>
                  <a:pt x="39" y="43"/>
                  <a:pt x="39" y="43"/>
                </a:cubicBezTo>
                <a:cubicBezTo>
                  <a:pt x="38" y="43"/>
                  <a:pt x="38" y="43"/>
                  <a:pt x="38" y="42"/>
                </a:cubicBezTo>
                <a:cubicBezTo>
                  <a:pt x="38" y="37"/>
                  <a:pt x="38" y="37"/>
                  <a:pt x="38" y="37"/>
                </a:cubicBezTo>
                <a:cubicBezTo>
                  <a:pt x="30" y="37"/>
                  <a:pt x="25" y="38"/>
                  <a:pt x="20" y="31"/>
                </a:cubicBezTo>
                <a:cubicBezTo>
                  <a:pt x="22" y="29"/>
                  <a:pt x="23" y="26"/>
                  <a:pt x="24" y="24"/>
                </a:cubicBezTo>
                <a:cubicBezTo>
                  <a:pt x="25" y="27"/>
                  <a:pt x="27" y="30"/>
                  <a:pt x="31" y="30"/>
                </a:cubicBezTo>
                <a:cubicBezTo>
                  <a:pt x="38" y="30"/>
                  <a:pt x="38" y="30"/>
                  <a:pt x="38" y="30"/>
                </a:cubicBezTo>
                <a:cubicBezTo>
                  <a:pt x="38" y="25"/>
                  <a:pt x="38" y="25"/>
                  <a:pt x="38" y="25"/>
                </a:cubicBezTo>
                <a:cubicBezTo>
                  <a:pt x="38" y="25"/>
                  <a:pt x="38" y="24"/>
                  <a:pt x="39" y="24"/>
                </a:cubicBezTo>
                <a:cubicBezTo>
                  <a:pt x="39" y="24"/>
                  <a:pt x="39" y="24"/>
                  <a:pt x="39" y="25"/>
                </a:cubicBezTo>
                <a:cubicBezTo>
                  <a:pt x="48" y="33"/>
                  <a:pt x="48" y="33"/>
                  <a:pt x="48" y="33"/>
                </a:cubicBezTo>
                <a:cubicBezTo>
                  <a:pt x="48" y="33"/>
                  <a:pt x="48" y="34"/>
                  <a:pt x="48" y="34"/>
                </a:cubicBezTo>
                <a:cubicBezTo>
                  <a:pt x="48" y="34"/>
                  <a:pt x="48" y="34"/>
                  <a:pt x="48" y="3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86" name="稻壳儿小白白(http://dwz.cn/Wu2UP)"/>
          <p:cNvSpPr/>
          <p:nvPr/>
        </p:nvSpPr>
        <p:spPr>
          <a:xfrm>
            <a:off x="6210360" y="2363760"/>
            <a:ext cx="333360" cy="317520"/>
          </a:xfrm>
          <a:custGeom>
            <a:avLst/>
            <a:gdLst/>
            <a:ahLst/>
            <a:rect l="l" t="t" r="r" b="b"/>
            <a:pathLst>
              <a:path w="48" h="46">
                <a:moveTo>
                  <a:pt x="17" y="26"/>
                </a:moveTo>
                <a:cubicBezTo>
                  <a:pt x="13" y="23"/>
                  <a:pt x="13" y="23"/>
                  <a:pt x="13" y="23"/>
                </a:cubicBezTo>
                <a:cubicBezTo>
                  <a:pt x="7" y="30"/>
                  <a:pt x="7" y="35"/>
                  <a:pt x="7" y="35"/>
                </a:cubicBezTo>
                <a:cubicBezTo>
                  <a:pt x="1" y="26"/>
                  <a:pt x="1" y="26"/>
                  <a:pt x="1" y="26"/>
                </a:cubicBezTo>
                <a:cubicBezTo>
                  <a:pt x="0" y="24"/>
                  <a:pt x="1" y="23"/>
                  <a:pt x="1" y="23"/>
                </a:cubicBezTo>
                <a:cubicBezTo>
                  <a:pt x="1" y="23"/>
                  <a:pt x="2" y="21"/>
                  <a:pt x="4" y="18"/>
                </a:cubicBezTo>
                <a:cubicBezTo>
                  <a:pt x="1" y="15"/>
                  <a:pt x="1" y="15"/>
                  <a:pt x="1" y="15"/>
                </a:cubicBezTo>
                <a:cubicBezTo>
                  <a:pt x="12" y="16"/>
                  <a:pt x="12" y="16"/>
                  <a:pt x="12" y="16"/>
                </a:cubicBezTo>
                <a:lnTo>
                  <a:pt x="17" y="26"/>
                </a:lnTo>
                <a:close/>
                <a:moveTo>
                  <a:pt x="22" y="41"/>
                </a:moveTo>
                <a:cubicBezTo>
                  <a:pt x="22" y="42"/>
                  <a:pt x="22" y="42"/>
                  <a:pt x="22" y="42"/>
                </a:cubicBezTo>
                <a:cubicBezTo>
                  <a:pt x="11" y="41"/>
                  <a:pt x="11" y="41"/>
                  <a:pt x="11" y="41"/>
                </a:cubicBezTo>
                <a:cubicBezTo>
                  <a:pt x="9" y="41"/>
                  <a:pt x="8" y="40"/>
                  <a:pt x="8" y="38"/>
                </a:cubicBezTo>
                <a:cubicBezTo>
                  <a:pt x="7" y="36"/>
                  <a:pt x="8" y="33"/>
                  <a:pt x="9" y="31"/>
                </a:cubicBezTo>
                <a:cubicBezTo>
                  <a:pt x="9" y="31"/>
                  <a:pt x="11" y="31"/>
                  <a:pt x="23" y="31"/>
                </a:cubicBezTo>
                <a:lnTo>
                  <a:pt x="22" y="41"/>
                </a:lnTo>
                <a:close/>
                <a:moveTo>
                  <a:pt x="17" y="16"/>
                </a:moveTo>
                <a:cubicBezTo>
                  <a:pt x="9" y="11"/>
                  <a:pt x="9" y="11"/>
                  <a:pt x="9" y="11"/>
                </a:cubicBezTo>
                <a:cubicBezTo>
                  <a:pt x="8" y="11"/>
                  <a:pt x="8" y="11"/>
                  <a:pt x="8" y="11"/>
                </a:cubicBezTo>
                <a:cubicBezTo>
                  <a:pt x="14" y="2"/>
                  <a:pt x="14" y="2"/>
                  <a:pt x="14" y="2"/>
                </a:cubicBezTo>
                <a:cubicBezTo>
                  <a:pt x="15" y="0"/>
                  <a:pt x="17" y="0"/>
                  <a:pt x="18" y="0"/>
                </a:cubicBezTo>
                <a:cubicBezTo>
                  <a:pt x="21" y="0"/>
                  <a:pt x="22" y="3"/>
                  <a:pt x="24" y="5"/>
                </a:cubicBezTo>
                <a:cubicBezTo>
                  <a:pt x="24" y="5"/>
                  <a:pt x="23" y="6"/>
                  <a:pt x="17" y="16"/>
                </a:cubicBezTo>
                <a:close/>
                <a:moveTo>
                  <a:pt x="42" y="5"/>
                </a:moveTo>
                <a:cubicBezTo>
                  <a:pt x="36" y="15"/>
                  <a:pt x="36" y="15"/>
                  <a:pt x="36" y="15"/>
                </a:cubicBezTo>
                <a:cubicBezTo>
                  <a:pt x="25" y="14"/>
                  <a:pt x="25" y="14"/>
                  <a:pt x="25" y="14"/>
                </a:cubicBezTo>
                <a:cubicBezTo>
                  <a:pt x="29" y="12"/>
                  <a:pt x="29" y="12"/>
                  <a:pt x="29" y="12"/>
                </a:cubicBezTo>
                <a:cubicBezTo>
                  <a:pt x="25" y="3"/>
                  <a:pt x="21" y="0"/>
                  <a:pt x="21" y="0"/>
                </a:cubicBezTo>
                <a:cubicBezTo>
                  <a:pt x="32" y="0"/>
                  <a:pt x="32" y="0"/>
                  <a:pt x="32" y="0"/>
                </a:cubicBezTo>
                <a:cubicBezTo>
                  <a:pt x="34" y="0"/>
                  <a:pt x="35" y="2"/>
                  <a:pt x="35" y="2"/>
                </a:cubicBezTo>
                <a:cubicBezTo>
                  <a:pt x="35" y="2"/>
                  <a:pt x="36" y="3"/>
                  <a:pt x="38" y="7"/>
                </a:cubicBezTo>
                <a:lnTo>
                  <a:pt x="42" y="5"/>
                </a:lnTo>
                <a:close/>
                <a:moveTo>
                  <a:pt x="40" y="39"/>
                </a:moveTo>
                <a:cubicBezTo>
                  <a:pt x="39" y="41"/>
                  <a:pt x="38" y="41"/>
                  <a:pt x="38" y="41"/>
                </a:cubicBezTo>
                <a:cubicBezTo>
                  <a:pt x="38" y="41"/>
                  <a:pt x="36" y="41"/>
                  <a:pt x="32" y="41"/>
                </a:cubicBezTo>
                <a:cubicBezTo>
                  <a:pt x="32" y="46"/>
                  <a:pt x="32" y="46"/>
                  <a:pt x="32" y="46"/>
                </a:cubicBezTo>
                <a:cubicBezTo>
                  <a:pt x="26" y="36"/>
                  <a:pt x="26" y="36"/>
                  <a:pt x="26" y="36"/>
                </a:cubicBezTo>
                <a:cubicBezTo>
                  <a:pt x="31" y="26"/>
                  <a:pt x="31" y="26"/>
                  <a:pt x="31" y="26"/>
                </a:cubicBezTo>
                <a:cubicBezTo>
                  <a:pt x="32" y="31"/>
                  <a:pt x="32" y="31"/>
                  <a:pt x="32" y="31"/>
                </a:cubicBezTo>
                <a:cubicBezTo>
                  <a:pt x="41" y="32"/>
                  <a:pt x="45" y="30"/>
                  <a:pt x="45" y="30"/>
                </a:cubicBezTo>
                <a:lnTo>
                  <a:pt x="40" y="39"/>
                </a:lnTo>
                <a:close/>
                <a:moveTo>
                  <a:pt x="47" y="23"/>
                </a:moveTo>
                <a:cubicBezTo>
                  <a:pt x="48" y="24"/>
                  <a:pt x="48" y="26"/>
                  <a:pt x="47" y="27"/>
                </a:cubicBezTo>
                <a:cubicBezTo>
                  <a:pt x="46" y="29"/>
                  <a:pt x="42" y="30"/>
                  <a:pt x="40" y="30"/>
                </a:cubicBezTo>
                <a:cubicBezTo>
                  <a:pt x="40" y="30"/>
                  <a:pt x="39" y="28"/>
                  <a:pt x="33" y="19"/>
                </a:cubicBezTo>
                <a:cubicBezTo>
                  <a:pt x="41" y="13"/>
                  <a:pt x="41" y="13"/>
                  <a:pt x="41" y="13"/>
                </a:cubicBezTo>
                <a:cubicBezTo>
                  <a:pt x="42" y="13"/>
                  <a:pt x="42" y="13"/>
                  <a:pt x="42" y="13"/>
                </a:cubicBezTo>
                <a:lnTo>
                  <a:pt x="47" y="23"/>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87" name="稻壳儿小白白(http://dwz.cn/Wu2UP)"/>
          <p:cNvSpPr/>
          <p:nvPr/>
        </p:nvSpPr>
        <p:spPr>
          <a:xfrm>
            <a:off x="6195960" y="2876400"/>
            <a:ext cx="368280" cy="304920"/>
          </a:xfrm>
          <a:custGeom>
            <a:avLst/>
            <a:gdLst/>
            <a:ahLst/>
            <a:rect l="l" t="t" r="r" b="b"/>
            <a:pathLst>
              <a:path w="53" h="44">
                <a:moveTo>
                  <a:pt x="50" y="27"/>
                </a:moveTo>
                <a:cubicBezTo>
                  <a:pt x="50" y="27"/>
                  <a:pt x="50" y="28"/>
                  <a:pt x="50" y="28"/>
                </a:cubicBezTo>
                <a:cubicBezTo>
                  <a:pt x="50" y="33"/>
                  <a:pt x="47" y="37"/>
                  <a:pt x="43" y="40"/>
                </a:cubicBezTo>
                <a:cubicBezTo>
                  <a:pt x="38" y="43"/>
                  <a:pt x="32" y="44"/>
                  <a:pt x="26" y="44"/>
                </a:cubicBezTo>
                <a:cubicBezTo>
                  <a:pt x="20" y="44"/>
                  <a:pt x="14" y="43"/>
                  <a:pt x="9" y="40"/>
                </a:cubicBezTo>
                <a:cubicBezTo>
                  <a:pt x="5" y="37"/>
                  <a:pt x="2" y="33"/>
                  <a:pt x="2" y="28"/>
                </a:cubicBezTo>
                <a:cubicBezTo>
                  <a:pt x="2" y="28"/>
                  <a:pt x="2" y="27"/>
                  <a:pt x="2" y="27"/>
                </a:cubicBezTo>
                <a:cubicBezTo>
                  <a:pt x="1" y="26"/>
                  <a:pt x="0" y="24"/>
                  <a:pt x="0" y="21"/>
                </a:cubicBezTo>
                <a:cubicBezTo>
                  <a:pt x="0" y="18"/>
                  <a:pt x="2" y="15"/>
                  <a:pt x="6" y="15"/>
                </a:cubicBezTo>
                <a:cubicBezTo>
                  <a:pt x="7" y="15"/>
                  <a:pt x="9" y="16"/>
                  <a:pt x="10" y="17"/>
                </a:cubicBezTo>
                <a:cubicBezTo>
                  <a:pt x="14" y="14"/>
                  <a:pt x="20" y="13"/>
                  <a:pt x="25" y="12"/>
                </a:cubicBezTo>
                <a:cubicBezTo>
                  <a:pt x="29" y="1"/>
                  <a:pt x="29" y="1"/>
                  <a:pt x="29" y="1"/>
                </a:cubicBezTo>
                <a:cubicBezTo>
                  <a:pt x="29" y="1"/>
                  <a:pt x="30" y="0"/>
                  <a:pt x="30" y="0"/>
                </a:cubicBezTo>
                <a:cubicBezTo>
                  <a:pt x="40" y="3"/>
                  <a:pt x="40" y="3"/>
                  <a:pt x="40" y="3"/>
                </a:cubicBezTo>
                <a:cubicBezTo>
                  <a:pt x="40" y="1"/>
                  <a:pt x="42" y="0"/>
                  <a:pt x="44" y="0"/>
                </a:cubicBezTo>
                <a:cubicBezTo>
                  <a:pt x="47" y="0"/>
                  <a:pt x="49" y="2"/>
                  <a:pt x="49" y="5"/>
                </a:cubicBezTo>
                <a:cubicBezTo>
                  <a:pt x="49" y="7"/>
                  <a:pt x="47" y="10"/>
                  <a:pt x="44" y="10"/>
                </a:cubicBezTo>
                <a:cubicBezTo>
                  <a:pt x="41" y="10"/>
                  <a:pt x="39" y="7"/>
                  <a:pt x="39" y="5"/>
                </a:cubicBezTo>
                <a:cubicBezTo>
                  <a:pt x="31" y="3"/>
                  <a:pt x="31" y="3"/>
                  <a:pt x="31" y="3"/>
                </a:cubicBezTo>
                <a:cubicBezTo>
                  <a:pt x="28" y="13"/>
                  <a:pt x="28" y="13"/>
                  <a:pt x="28" y="13"/>
                </a:cubicBezTo>
                <a:cubicBezTo>
                  <a:pt x="33" y="13"/>
                  <a:pt x="39" y="14"/>
                  <a:pt x="43" y="17"/>
                </a:cubicBezTo>
                <a:cubicBezTo>
                  <a:pt x="44" y="16"/>
                  <a:pt x="45" y="15"/>
                  <a:pt x="47" y="15"/>
                </a:cubicBezTo>
                <a:cubicBezTo>
                  <a:pt x="50" y="15"/>
                  <a:pt x="53" y="18"/>
                  <a:pt x="53" y="21"/>
                </a:cubicBezTo>
                <a:cubicBezTo>
                  <a:pt x="53" y="24"/>
                  <a:pt x="52" y="26"/>
                  <a:pt x="50" y="27"/>
                </a:cubicBezTo>
                <a:close/>
                <a:moveTo>
                  <a:pt x="3" y="24"/>
                </a:moveTo>
                <a:cubicBezTo>
                  <a:pt x="4" y="22"/>
                  <a:pt x="6" y="20"/>
                  <a:pt x="8" y="18"/>
                </a:cubicBezTo>
                <a:cubicBezTo>
                  <a:pt x="7" y="18"/>
                  <a:pt x="6" y="17"/>
                  <a:pt x="6" y="17"/>
                </a:cubicBezTo>
                <a:cubicBezTo>
                  <a:pt x="3" y="17"/>
                  <a:pt x="2" y="19"/>
                  <a:pt x="2" y="21"/>
                </a:cubicBezTo>
                <a:cubicBezTo>
                  <a:pt x="2" y="23"/>
                  <a:pt x="2" y="24"/>
                  <a:pt x="3" y="24"/>
                </a:cubicBezTo>
                <a:close/>
                <a:moveTo>
                  <a:pt x="48" y="28"/>
                </a:moveTo>
                <a:cubicBezTo>
                  <a:pt x="48" y="25"/>
                  <a:pt x="46" y="21"/>
                  <a:pt x="42" y="19"/>
                </a:cubicBezTo>
                <a:cubicBezTo>
                  <a:pt x="37" y="16"/>
                  <a:pt x="32" y="15"/>
                  <a:pt x="26" y="15"/>
                </a:cubicBezTo>
                <a:cubicBezTo>
                  <a:pt x="20" y="15"/>
                  <a:pt x="15" y="16"/>
                  <a:pt x="11" y="19"/>
                </a:cubicBezTo>
                <a:cubicBezTo>
                  <a:pt x="7" y="21"/>
                  <a:pt x="4" y="25"/>
                  <a:pt x="4" y="28"/>
                </a:cubicBezTo>
                <a:cubicBezTo>
                  <a:pt x="4" y="32"/>
                  <a:pt x="7" y="35"/>
                  <a:pt x="11" y="38"/>
                </a:cubicBezTo>
                <a:cubicBezTo>
                  <a:pt x="15" y="41"/>
                  <a:pt x="20" y="42"/>
                  <a:pt x="26" y="42"/>
                </a:cubicBezTo>
                <a:cubicBezTo>
                  <a:pt x="32" y="42"/>
                  <a:pt x="37" y="41"/>
                  <a:pt x="42" y="38"/>
                </a:cubicBezTo>
                <a:cubicBezTo>
                  <a:pt x="46" y="35"/>
                  <a:pt x="48" y="32"/>
                  <a:pt x="48" y="28"/>
                </a:cubicBezTo>
                <a:close/>
                <a:moveTo>
                  <a:pt x="18" y="29"/>
                </a:moveTo>
                <a:cubicBezTo>
                  <a:pt x="16" y="29"/>
                  <a:pt x="14" y="27"/>
                  <a:pt x="14" y="25"/>
                </a:cubicBezTo>
                <a:cubicBezTo>
                  <a:pt x="14" y="23"/>
                  <a:pt x="16" y="22"/>
                  <a:pt x="18" y="22"/>
                </a:cubicBezTo>
                <a:cubicBezTo>
                  <a:pt x="20" y="22"/>
                  <a:pt x="22" y="23"/>
                  <a:pt x="22" y="25"/>
                </a:cubicBezTo>
                <a:cubicBezTo>
                  <a:pt x="22" y="27"/>
                  <a:pt x="20" y="29"/>
                  <a:pt x="18" y="29"/>
                </a:cubicBezTo>
                <a:close/>
                <a:moveTo>
                  <a:pt x="35" y="34"/>
                </a:moveTo>
                <a:cubicBezTo>
                  <a:pt x="35" y="35"/>
                  <a:pt x="35" y="36"/>
                  <a:pt x="35" y="36"/>
                </a:cubicBezTo>
                <a:cubicBezTo>
                  <a:pt x="33" y="38"/>
                  <a:pt x="30" y="39"/>
                  <a:pt x="26" y="39"/>
                </a:cubicBezTo>
                <a:cubicBezTo>
                  <a:pt x="26" y="39"/>
                  <a:pt x="26" y="39"/>
                  <a:pt x="26" y="39"/>
                </a:cubicBezTo>
                <a:cubicBezTo>
                  <a:pt x="22" y="39"/>
                  <a:pt x="19" y="38"/>
                  <a:pt x="18" y="36"/>
                </a:cubicBezTo>
                <a:cubicBezTo>
                  <a:pt x="17" y="36"/>
                  <a:pt x="17" y="35"/>
                  <a:pt x="18" y="34"/>
                </a:cubicBezTo>
                <a:cubicBezTo>
                  <a:pt x="18" y="34"/>
                  <a:pt x="19" y="34"/>
                  <a:pt x="19" y="34"/>
                </a:cubicBezTo>
                <a:cubicBezTo>
                  <a:pt x="20" y="36"/>
                  <a:pt x="23" y="37"/>
                  <a:pt x="26" y="37"/>
                </a:cubicBezTo>
                <a:cubicBezTo>
                  <a:pt x="26" y="37"/>
                  <a:pt x="26" y="37"/>
                  <a:pt x="26" y="37"/>
                </a:cubicBezTo>
                <a:cubicBezTo>
                  <a:pt x="30" y="37"/>
                  <a:pt x="32" y="36"/>
                  <a:pt x="33" y="34"/>
                </a:cubicBezTo>
                <a:cubicBezTo>
                  <a:pt x="34" y="34"/>
                  <a:pt x="34" y="34"/>
                  <a:pt x="35" y="34"/>
                </a:cubicBezTo>
                <a:close/>
                <a:moveTo>
                  <a:pt x="38" y="25"/>
                </a:moveTo>
                <a:cubicBezTo>
                  <a:pt x="38" y="27"/>
                  <a:pt x="36" y="29"/>
                  <a:pt x="34" y="29"/>
                </a:cubicBezTo>
                <a:cubicBezTo>
                  <a:pt x="32" y="29"/>
                  <a:pt x="31" y="27"/>
                  <a:pt x="31" y="25"/>
                </a:cubicBezTo>
                <a:cubicBezTo>
                  <a:pt x="31" y="23"/>
                  <a:pt x="32" y="22"/>
                  <a:pt x="34" y="22"/>
                </a:cubicBezTo>
                <a:cubicBezTo>
                  <a:pt x="36" y="22"/>
                  <a:pt x="38" y="23"/>
                  <a:pt x="38" y="25"/>
                </a:cubicBezTo>
                <a:close/>
                <a:moveTo>
                  <a:pt x="41" y="5"/>
                </a:moveTo>
                <a:cubicBezTo>
                  <a:pt x="41" y="6"/>
                  <a:pt x="43" y="8"/>
                  <a:pt x="44" y="8"/>
                </a:cubicBezTo>
                <a:cubicBezTo>
                  <a:pt x="46" y="8"/>
                  <a:pt x="47" y="6"/>
                  <a:pt x="47" y="5"/>
                </a:cubicBezTo>
                <a:cubicBezTo>
                  <a:pt x="47" y="3"/>
                  <a:pt x="46" y="2"/>
                  <a:pt x="44" y="2"/>
                </a:cubicBezTo>
                <a:cubicBezTo>
                  <a:pt x="43" y="2"/>
                  <a:pt x="41" y="3"/>
                  <a:pt x="41" y="5"/>
                </a:cubicBezTo>
                <a:close/>
                <a:moveTo>
                  <a:pt x="51" y="21"/>
                </a:moveTo>
                <a:cubicBezTo>
                  <a:pt x="51" y="19"/>
                  <a:pt x="49" y="17"/>
                  <a:pt x="47" y="17"/>
                </a:cubicBezTo>
                <a:cubicBezTo>
                  <a:pt x="46" y="17"/>
                  <a:pt x="45" y="18"/>
                  <a:pt x="44" y="18"/>
                </a:cubicBezTo>
                <a:cubicBezTo>
                  <a:pt x="47" y="20"/>
                  <a:pt x="48" y="22"/>
                  <a:pt x="49" y="25"/>
                </a:cubicBezTo>
                <a:cubicBezTo>
                  <a:pt x="50" y="24"/>
                  <a:pt x="51" y="23"/>
                  <a:pt x="51" y="2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88" name="稻壳儿小白白(http://dwz.cn/Wu2UP)"/>
          <p:cNvSpPr/>
          <p:nvPr/>
        </p:nvSpPr>
        <p:spPr>
          <a:xfrm>
            <a:off x="6237360" y="3408480"/>
            <a:ext cx="284040" cy="282600"/>
          </a:xfrm>
          <a:custGeom>
            <a:avLst/>
            <a:gdLst/>
            <a:ahLst/>
            <a:rect l="l" t="t" r="r" b="b"/>
            <a:pathLst>
              <a:path w="41" h="41">
                <a:moveTo>
                  <a:pt x="41" y="8"/>
                </a:moveTo>
                <a:cubicBezTo>
                  <a:pt x="41" y="32"/>
                  <a:pt x="41" y="32"/>
                  <a:pt x="41" y="32"/>
                </a:cubicBezTo>
                <a:cubicBezTo>
                  <a:pt x="41" y="37"/>
                  <a:pt x="37" y="41"/>
                  <a:pt x="32" y="41"/>
                </a:cubicBezTo>
                <a:cubicBezTo>
                  <a:pt x="8" y="41"/>
                  <a:pt x="8" y="41"/>
                  <a:pt x="8" y="41"/>
                </a:cubicBezTo>
                <a:cubicBezTo>
                  <a:pt x="3" y="41"/>
                  <a:pt x="0" y="37"/>
                  <a:pt x="0" y="32"/>
                </a:cubicBezTo>
                <a:cubicBezTo>
                  <a:pt x="0" y="8"/>
                  <a:pt x="0" y="8"/>
                  <a:pt x="0" y="8"/>
                </a:cubicBezTo>
                <a:cubicBezTo>
                  <a:pt x="0" y="4"/>
                  <a:pt x="3" y="0"/>
                  <a:pt x="8" y="0"/>
                </a:cubicBezTo>
                <a:cubicBezTo>
                  <a:pt x="32" y="0"/>
                  <a:pt x="32" y="0"/>
                  <a:pt x="32" y="0"/>
                </a:cubicBezTo>
                <a:cubicBezTo>
                  <a:pt x="37" y="0"/>
                  <a:pt x="41" y="4"/>
                  <a:pt x="41" y="8"/>
                </a:cubicBezTo>
                <a:close/>
                <a:moveTo>
                  <a:pt x="37" y="18"/>
                </a:moveTo>
                <a:cubicBezTo>
                  <a:pt x="37" y="17"/>
                  <a:pt x="36" y="15"/>
                  <a:pt x="34" y="15"/>
                </a:cubicBezTo>
                <a:cubicBezTo>
                  <a:pt x="33" y="15"/>
                  <a:pt x="32" y="16"/>
                  <a:pt x="31" y="16"/>
                </a:cubicBezTo>
                <a:cubicBezTo>
                  <a:pt x="29" y="14"/>
                  <a:pt x="25" y="13"/>
                  <a:pt x="21" y="13"/>
                </a:cubicBezTo>
                <a:cubicBezTo>
                  <a:pt x="23" y="6"/>
                  <a:pt x="23" y="6"/>
                  <a:pt x="23" y="6"/>
                </a:cubicBezTo>
                <a:cubicBezTo>
                  <a:pt x="29" y="7"/>
                  <a:pt x="29" y="7"/>
                  <a:pt x="29" y="7"/>
                </a:cubicBezTo>
                <a:cubicBezTo>
                  <a:pt x="29" y="9"/>
                  <a:pt x="30" y="11"/>
                  <a:pt x="32" y="11"/>
                </a:cubicBezTo>
                <a:cubicBezTo>
                  <a:pt x="34" y="11"/>
                  <a:pt x="35" y="9"/>
                  <a:pt x="35" y="7"/>
                </a:cubicBezTo>
                <a:cubicBezTo>
                  <a:pt x="35" y="6"/>
                  <a:pt x="34" y="4"/>
                  <a:pt x="32" y="4"/>
                </a:cubicBezTo>
                <a:cubicBezTo>
                  <a:pt x="31" y="4"/>
                  <a:pt x="30" y="5"/>
                  <a:pt x="29" y="6"/>
                </a:cubicBezTo>
                <a:cubicBezTo>
                  <a:pt x="23" y="5"/>
                  <a:pt x="23" y="5"/>
                  <a:pt x="23" y="5"/>
                </a:cubicBezTo>
                <a:cubicBezTo>
                  <a:pt x="23" y="5"/>
                  <a:pt x="22" y="5"/>
                  <a:pt x="22" y="5"/>
                </a:cubicBezTo>
                <a:cubicBezTo>
                  <a:pt x="20" y="13"/>
                  <a:pt x="20" y="13"/>
                  <a:pt x="20" y="13"/>
                </a:cubicBezTo>
                <a:cubicBezTo>
                  <a:pt x="16" y="13"/>
                  <a:pt x="12" y="14"/>
                  <a:pt x="10" y="16"/>
                </a:cubicBezTo>
                <a:cubicBezTo>
                  <a:pt x="9" y="16"/>
                  <a:pt x="8" y="15"/>
                  <a:pt x="7" y="15"/>
                </a:cubicBezTo>
                <a:cubicBezTo>
                  <a:pt x="5" y="15"/>
                  <a:pt x="4" y="17"/>
                  <a:pt x="4" y="18"/>
                </a:cubicBezTo>
                <a:cubicBezTo>
                  <a:pt x="4" y="20"/>
                  <a:pt x="5" y="21"/>
                  <a:pt x="6" y="21"/>
                </a:cubicBezTo>
                <a:cubicBezTo>
                  <a:pt x="6" y="22"/>
                  <a:pt x="6" y="22"/>
                  <a:pt x="6" y="23"/>
                </a:cubicBezTo>
                <a:cubicBezTo>
                  <a:pt x="6" y="28"/>
                  <a:pt x="12" y="33"/>
                  <a:pt x="20" y="33"/>
                </a:cubicBezTo>
                <a:cubicBezTo>
                  <a:pt x="29" y="33"/>
                  <a:pt x="35" y="28"/>
                  <a:pt x="35" y="23"/>
                </a:cubicBezTo>
                <a:cubicBezTo>
                  <a:pt x="35" y="22"/>
                  <a:pt x="35" y="22"/>
                  <a:pt x="35" y="21"/>
                </a:cubicBezTo>
                <a:cubicBezTo>
                  <a:pt x="36" y="21"/>
                  <a:pt x="37" y="20"/>
                  <a:pt x="37" y="18"/>
                </a:cubicBezTo>
                <a:close/>
                <a:moveTo>
                  <a:pt x="15" y="23"/>
                </a:moveTo>
                <a:cubicBezTo>
                  <a:pt x="14" y="23"/>
                  <a:pt x="13" y="22"/>
                  <a:pt x="13" y="21"/>
                </a:cubicBezTo>
                <a:cubicBezTo>
                  <a:pt x="13" y="20"/>
                  <a:pt x="14" y="19"/>
                  <a:pt x="15" y="19"/>
                </a:cubicBezTo>
                <a:cubicBezTo>
                  <a:pt x="17" y="19"/>
                  <a:pt x="18" y="20"/>
                  <a:pt x="18" y="21"/>
                </a:cubicBezTo>
                <a:cubicBezTo>
                  <a:pt x="18" y="22"/>
                  <a:pt x="17" y="23"/>
                  <a:pt x="15" y="23"/>
                </a:cubicBezTo>
                <a:close/>
                <a:moveTo>
                  <a:pt x="26" y="27"/>
                </a:moveTo>
                <a:cubicBezTo>
                  <a:pt x="26" y="27"/>
                  <a:pt x="26" y="28"/>
                  <a:pt x="26" y="28"/>
                </a:cubicBezTo>
                <a:cubicBezTo>
                  <a:pt x="25" y="29"/>
                  <a:pt x="23" y="30"/>
                  <a:pt x="20" y="30"/>
                </a:cubicBezTo>
                <a:cubicBezTo>
                  <a:pt x="20" y="30"/>
                  <a:pt x="20" y="30"/>
                  <a:pt x="20" y="30"/>
                </a:cubicBezTo>
                <a:cubicBezTo>
                  <a:pt x="20" y="30"/>
                  <a:pt x="20" y="30"/>
                  <a:pt x="20" y="30"/>
                </a:cubicBezTo>
                <a:cubicBezTo>
                  <a:pt x="18" y="30"/>
                  <a:pt x="16" y="29"/>
                  <a:pt x="15" y="28"/>
                </a:cubicBezTo>
                <a:cubicBezTo>
                  <a:pt x="15" y="28"/>
                  <a:pt x="15" y="27"/>
                  <a:pt x="15" y="27"/>
                </a:cubicBezTo>
                <a:cubicBezTo>
                  <a:pt x="15" y="27"/>
                  <a:pt x="15" y="27"/>
                  <a:pt x="16" y="27"/>
                </a:cubicBezTo>
                <a:cubicBezTo>
                  <a:pt x="17" y="28"/>
                  <a:pt x="18" y="28"/>
                  <a:pt x="20" y="28"/>
                </a:cubicBezTo>
                <a:cubicBezTo>
                  <a:pt x="20" y="28"/>
                  <a:pt x="20" y="28"/>
                  <a:pt x="20" y="28"/>
                </a:cubicBezTo>
                <a:cubicBezTo>
                  <a:pt x="20" y="28"/>
                  <a:pt x="20" y="28"/>
                  <a:pt x="20" y="28"/>
                </a:cubicBezTo>
                <a:cubicBezTo>
                  <a:pt x="23" y="28"/>
                  <a:pt x="24" y="28"/>
                  <a:pt x="25" y="27"/>
                </a:cubicBezTo>
                <a:cubicBezTo>
                  <a:pt x="25" y="27"/>
                  <a:pt x="26" y="27"/>
                  <a:pt x="26" y="27"/>
                </a:cubicBezTo>
                <a:close/>
                <a:moveTo>
                  <a:pt x="28" y="21"/>
                </a:moveTo>
                <a:cubicBezTo>
                  <a:pt x="28" y="22"/>
                  <a:pt x="27" y="23"/>
                  <a:pt x="26" y="23"/>
                </a:cubicBezTo>
                <a:cubicBezTo>
                  <a:pt x="24" y="23"/>
                  <a:pt x="23" y="22"/>
                  <a:pt x="23" y="21"/>
                </a:cubicBezTo>
                <a:cubicBezTo>
                  <a:pt x="23" y="20"/>
                  <a:pt x="24" y="19"/>
                  <a:pt x="26" y="19"/>
                </a:cubicBezTo>
                <a:cubicBezTo>
                  <a:pt x="27" y="19"/>
                  <a:pt x="28" y="20"/>
                  <a:pt x="28" y="21"/>
                </a:cubicBezTo>
                <a:close/>
                <a:moveTo>
                  <a:pt x="30" y="7"/>
                </a:moveTo>
                <a:cubicBezTo>
                  <a:pt x="30" y="6"/>
                  <a:pt x="31" y="5"/>
                  <a:pt x="32" y="5"/>
                </a:cubicBezTo>
                <a:cubicBezTo>
                  <a:pt x="33" y="5"/>
                  <a:pt x="34" y="6"/>
                  <a:pt x="34" y="7"/>
                </a:cubicBezTo>
                <a:cubicBezTo>
                  <a:pt x="34" y="8"/>
                  <a:pt x="33" y="9"/>
                  <a:pt x="32" y="9"/>
                </a:cubicBezTo>
                <a:cubicBezTo>
                  <a:pt x="31" y="9"/>
                  <a:pt x="30" y="8"/>
                  <a:pt x="30" y="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89" name="稻壳儿小白白(http://dwz.cn/Wu2UP)"/>
          <p:cNvSpPr/>
          <p:nvPr/>
        </p:nvSpPr>
        <p:spPr>
          <a:xfrm>
            <a:off x="6237360" y="3913200"/>
            <a:ext cx="284040" cy="282600"/>
          </a:xfrm>
          <a:custGeom>
            <a:avLst/>
            <a:gdLst/>
            <a:ahLst/>
            <a:rect l="l" t="t" r="r" b="b"/>
            <a:pathLst>
              <a:path w="41" h="41">
                <a:moveTo>
                  <a:pt x="40" y="25"/>
                </a:moveTo>
                <a:cubicBezTo>
                  <a:pt x="38" y="35"/>
                  <a:pt x="30" y="41"/>
                  <a:pt x="20" y="41"/>
                </a:cubicBezTo>
                <a:cubicBezTo>
                  <a:pt x="15" y="41"/>
                  <a:pt x="10" y="39"/>
                  <a:pt x="6" y="36"/>
                </a:cubicBezTo>
                <a:cubicBezTo>
                  <a:pt x="3" y="39"/>
                  <a:pt x="3" y="39"/>
                  <a:pt x="3" y="39"/>
                </a:cubicBezTo>
                <a:cubicBezTo>
                  <a:pt x="2" y="40"/>
                  <a:pt x="2" y="40"/>
                  <a:pt x="1" y="40"/>
                </a:cubicBezTo>
                <a:cubicBezTo>
                  <a:pt x="0" y="40"/>
                  <a:pt x="0" y="39"/>
                  <a:pt x="0" y="38"/>
                </a:cubicBezTo>
                <a:cubicBezTo>
                  <a:pt x="0" y="26"/>
                  <a:pt x="0" y="26"/>
                  <a:pt x="0" y="26"/>
                </a:cubicBezTo>
                <a:cubicBezTo>
                  <a:pt x="0" y="25"/>
                  <a:pt x="0" y="24"/>
                  <a:pt x="1" y="24"/>
                </a:cubicBezTo>
                <a:cubicBezTo>
                  <a:pt x="13" y="24"/>
                  <a:pt x="13" y="24"/>
                  <a:pt x="13" y="24"/>
                </a:cubicBezTo>
                <a:cubicBezTo>
                  <a:pt x="14" y="24"/>
                  <a:pt x="15" y="25"/>
                  <a:pt x="15" y="26"/>
                </a:cubicBezTo>
                <a:cubicBezTo>
                  <a:pt x="15" y="26"/>
                  <a:pt x="15" y="27"/>
                  <a:pt x="15" y="27"/>
                </a:cubicBezTo>
                <a:cubicBezTo>
                  <a:pt x="11" y="31"/>
                  <a:pt x="11" y="31"/>
                  <a:pt x="11" y="31"/>
                </a:cubicBezTo>
                <a:cubicBezTo>
                  <a:pt x="13" y="33"/>
                  <a:pt x="17" y="35"/>
                  <a:pt x="20" y="35"/>
                </a:cubicBezTo>
                <a:cubicBezTo>
                  <a:pt x="25" y="35"/>
                  <a:pt x="29" y="32"/>
                  <a:pt x="32" y="28"/>
                </a:cubicBezTo>
                <a:cubicBezTo>
                  <a:pt x="33" y="27"/>
                  <a:pt x="33" y="26"/>
                  <a:pt x="33" y="25"/>
                </a:cubicBezTo>
                <a:cubicBezTo>
                  <a:pt x="33" y="25"/>
                  <a:pt x="34" y="24"/>
                  <a:pt x="34" y="24"/>
                </a:cubicBezTo>
                <a:cubicBezTo>
                  <a:pt x="39" y="24"/>
                  <a:pt x="39" y="24"/>
                  <a:pt x="39" y="24"/>
                </a:cubicBezTo>
                <a:cubicBezTo>
                  <a:pt x="40" y="24"/>
                  <a:pt x="40" y="25"/>
                  <a:pt x="40" y="25"/>
                </a:cubicBezTo>
                <a:cubicBezTo>
                  <a:pt x="40" y="25"/>
                  <a:pt x="40" y="25"/>
                  <a:pt x="40" y="25"/>
                </a:cubicBezTo>
                <a:close/>
                <a:moveTo>
                  <a:pt x="41" y="16"/>
                </a:moveTo>
                <a:cubicBezTo>
                  <a:pt x="41" y="17"/>
                  <a:pt x="40" y="17"/>
                  <a:pt x="39" y="17"/>
                </a:cubicBezTo>
                <a:cubicBezTo>
                  <a:pt x="27" y="17"/>
                  <a:pt x="27" y="17"/>
                  <a:pt x="27" y="17"/>
                </a:cubicBezTo>
                <a:cubicBezTo>
                  <a:pt x="26" y="17"/>
                  <a:pt x="25" y="17"/>
                  <a:pt x="25" y="16"/>
                </a:cubicBezTo>
                <a:cubicBezTo>
                  <a:pt x="25" y="15"/>
                  <a:pt x="26" y="15"/>
                  <a:pt x="26" y="15"/>
                </a:cubicBezTo>
                <a:cubicBezTo>
                  <a:pt x="30" y="11"/>
                  <a:pt x="30" y="11"/>
                  <a:pt x="30" y="11"/>
                </a:cubicBezTo>
                <a:cubicBezTo>
                  <a:pt x="27" y="8"/>
                  <a:pt x="24" y="7"/>
                  <a:pt x="20" y="7"/>
                </a:cubicBezTo>
                <a:cubicBezTo>
                  <a:pt x="15" y="7"/>
                  <a:pt x="11" y="10"/>
                  <a:pt x="9" y="14"/>
                </a:cubicBezTo>
                <a:cubicBezTo>
                  <a:pt x="8" y="15"/>
                  <a:pt x="8" y="16"/>
                  <a:pt x="7" y="17"/>
                </a:cubicBezTo>
                <a:cubicBezTo>
                  <a:pt x="7" y="17"/>
                  <a:pt x="7" y="17"/>
                  <a:pt x="6" y="17"/>
                </a:cubicBezTo>
                <a:cubicBezTo>
                  <a:pt x="1" y="17"/>
                  <a:pt x="1" y="17"/>
                  <a:pt x="1" y="17"/>
                </a:cubicBezTo>
                <a:cubicBezTo>
                  <a:pt x="0" y="17"/>
                  <a:pt x="0" y="17"/>
                  <a:pt x="0" y="17"/>
                </a:cubicBezTo>
                <a:cubicBezTo>
                  <a:pt x="0" y="17"/>
                  <a:pt x="0" y="16"/>
                  <a:pt x="0" y="16"/>
                </a:cubicBezTo>
                <a:cubicBezTo>
                  <a:pt x="2" y="7"/>
                  <a:pt x="10" y="0"/>
                  <a:pt x="20" y="0"/>
                </a:cubicBezTo>
                <a:cubicBezTo>
                  <a:pt x="25" y="0"/>
                  <a:pt x="31" y="2"/>
                  <a:pt x="34" y="6"/>
                </a:cubicBezTo>
                <a:cubicBezTo>
                  <a:pt x="38" y="2"/>
                  <a:pt x="38" y="2"/>
                  <a:pt x="38" y="2"/>
                </a:cubicBezTo>
                <a:cubicBezTo>
                  <a:pt x="38" y="2"/>
                  <a:pt x="39" y="2"/>
                  <a:pt x="39" y="2"/>
                </a:cubicBezTo>
                <a:cubicBezTo>
                  <a:pt x="40" y="2"/>
                  <a:pt x="41" y="3"/>
                  <a:pt x="41" y="4"/>
                </a:cubicBezTo>
                <a:lnTo>
                  <a:pt x="41" y="1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90" name="稻壳儿小白白(http://dwz.cn/Wu2UP)"/>
          <p:cNvSpPr/>
          <p:nvPr/>
        </p:nvSpPr>
        <p:spPr>
          <a:xfrm>
            <a:off x="6237360" y="4425840"/>
            <a:ext cx="284040" cy="284400"/>
          </a:xfrm>
          <a:custGeom>
            <a:avLst/>
            <a:gdLst/>
            <a:ahLst/>
            <a:rect l="l" t="t" r="r" b="b"/>
            <a:pathLst>
              <a:path w="41" h="41">
                <a:moveTo>
                  <a:pt x="17" y="13"/>
                </a:moveTo>
                <a:cubicBezTo>
                  <a:pt x="17" y="22"/>
                  <a:pt x="12" y="30"/>
                  <a:pt x="4" y="34"/>
                </a:cubicBezTo>
                <a:cubicBezTo>
                  <a:pt x="1" y="30"/>
                  <a:pt x="0" y="26"/>
                  <a:pt x="0" y="21"/>
                </a:cubicBezTo>
                <a:cubicBezTo>
                  <a:pt x="0" y="10"/>
                  <a:pt x="7" y="2"/>
                  <a:pt x="17" y="0"/>
                </a:cubicBezTo>
                <a:lnTo>
                  <a:pt x="17" y="13"/>
                </a:lnTo>
                <a:close/>
                <a:moveTo>
                  <a:pt x="20" y="41"/>
                </a:moveTo>
                <a:cubicBezTo>
                  <a:pt x="17" y="41"/>
                  <a:pt x="13" y="40"/>
                  <a:pt x="10" y="39"/>
                </a:cubicBezTo>
                <a:cubicBezTo>
                  <a:pt x="15" y="36"/>
                  <a:pt x="19" y="31"/>
                  <a:pt x="20" y="26"/>
                </a:cubicBezTo>
                <a:cubicBezTo>
                  <a:pt x="21" y="31"/>
                  <a:pt x="25" y="36"/>
                  <a:pt x="30" y="39"/>
                </a:cubicBezTo>
                <a:cubicBezTo>
                  <a:pt x="27" y="40"/>
                  <a:pt x="24" y="41"/>
                  <a:pt x="20" y="41"/>
                </a:cubicBezTo>
                <a:close/>
                <a:moveTo>
                  <a:pt x="36" y="34"/>
                </a:moveTo>
                <a:cubicBezTo>
                  <a:pt x="29" y="30"/>
                  <a:pt x="24" y="22"/>
                  <a:pt x="24" y="13"/>
                </a:cubicBezTo>
                <a:cubicBezTo>
                  <a:pt x="24" y="0"/>
                  <a:pt x="24" y="0"/>
                  <a:pt x="24" y="0"/>
                </a:cubicBezTo>
                <a:cubicBezTo>
                  <a:pt x="33" y="2"/>
                  <a:pt x="41" y="10"/>
                  <a:pt x="41" y="21"/>
                </a:cubicBezTo>
                <a:cubicBezTo>
                  <a:pt x="41" y="26"/>
                  <a:pt x="39" y="30"/>
                  <a:pt x="36" y="3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91" name="稻壳儿小白白(http://dwz.cn/Wu2UP)"/>
          <p:cNvSpPr/>
          <p:nvPr/>
        </p:nvSpPr>
        <p:spPr>
          <a:xfrm>
            <a:off x="6237360" y="4957920"/>
            <a:ext cx="284040" cy="236520"/>
          </a:xfrm>
          <a:custGeom>
            <a:avLst/>
            <a:gdLst/>
            <a:ahLst/>
            <a:rect l="l" t="t" r="r" b="b"/>
            <a:pathLst>
              <a:path w="41" h="34">
                <a:moveTo>
                  <a:pt x="41" y="5"/>
                </a:moveTo>
                <a:cubicBezTo>
                  <a:pt x="41" y="6"/>
                  <a:pt x="40" y="7"/>
                  <a:pt x="39" y="7"/>
                </a:cubicBezTo>
                <a:cubicBezTo>
                  <a:pt x="1" y="7"/>
                  <a:pt x="1" y="7"/>
                  <a:pt x="1" y="7"/>
                </a:cubicBezTo>
                <a:cubicBezTo>
                  <a:pt x="0" y="7"/>
                  <a:pt x="0" y="6"/>
                  <a:pt x="0" y="5"/>
                </a:cubicBezTo>
                <a:cubicBezTo>
                  <a:pt x="0" y="2"/>
                  <a:pt x="0" y="2"/>
                  <a:pt x="0" y="2"/>
                </a:cubicBezTo>
                <a:cubicBezTo>
                  <a:pt x="0" y="1"/>
                  <a:pt x="0" y="0"/>
                  <a:pt x="1" y="0"/>
                </a:cubicBezTo>
                <a:cubicBezTo>
                  <a:pt x="39" y="0"/>
                  <a:pt x="39" y="0"/>
                  <a:pt x="39" y="0"/>
                </a:cubicBezTo>
                <a:cubicBezTo>
                  <a:pt x="40" y="0"/>
                  <a:pt x="41" y="1"/>
                  <a:pt x="41" y="2"/>
                </a:cubicBezTo>
                <a:lnTo>
                  <a:pt x="41" y="5"/>
                </a:lnTo>
                <a:close/>
                <a:moveTo>
                  <a:pt x="41" y="19"/>
                </a:moveTo>
                <a:cubicBezTo>
                  <a:pt x="41" y="20"/>
                  <a:pt x="40" y="20"/>
                  <a:pt x="39" y="20"/>
                </a:cubicBezTo>
                <a:cubicBezTo>
                  <a:pt x="1" y="20"/>
                  <a:pt x="1" y="20"/>
                  <a:pt x="1" y="20"/>
                </a:cubicBezTo>
                <a:cubicBezTo>
                  <a:pt x="0" y="20"/>
                  <a:pt x="0" y="20"/>
                  <a:pt x="0" y="19"/>
                </a:cubicBezTo>
                <a:cubicBezTo>
                  <a:pt x="0" y="15"/>
                  <a:pt x="0" y="15"/>
                  <a:pt x="0" y="15"/>
                </a:cubicBezTo>
                <a:cubicBezTo>
                  <a:pt x="0" y="14"/>
                  <a:pt x="0" y="14"/>
                  <a:pt x="1" y="14"/>
                </a:cubicBezTo>
                <a:cubicBezTo>
                  <a:pt x="39" y="14"/>
                  <a:pt x="39" y="14"/>
                  <a:pt x="39" y="14"/>
                </a:cubicBezTo>
                <a:cubicBezTo>
                  <a:pt x="40" y="14"/>
                  <a:pt x="41" y="14"/>
                  <a:pt x="41" y="15"/>
                </a:cubicBezTo>
                <a:lnTo>
                  <a:pt x="41" y="19"/>
                </a:lnTo>
                <a:close/>
                <a:moveTo>
                  <a:pt x="41" y="32"/>
                </a:moveTo>
                <a:cubicBezTo>
                  <a:pt x="41" y="33"/>
                  <a:pt x="40" y="34"/>
                  <a:pt x="39" y="34"/>
                </a:cubicBezTo>
                <a:cubicBezTo>
                  <a:pt x="1" y="34"/>
                  <a:pt x="1" y="34"/>
                  <a:pt x="1" y="34"/>
                </a:cubicBezTo>
                <a:cubicBezTo>
                  <a:pt x="0" y="34"/>
                  <a:pt x="0" y="33"/>
                  <a:pt x="0" y="32"/>
                </a:cubicBezTo>
                <a:cubicBezTo>
                  <a:pt x="0" y="29"/>
                  <a:pt x="0" y="29"/>
                  <a:pt x="0" y="29"/>
                </a:cubicBezTo>
                <a:cubicBezTo>
                  <a:pt x="0" y="28"/>
                  <a:pt x="0" y="27"/>
                  <a:pt x="1" y="27"/>
                </a:cubicBezTo>
                <a:cubicBezTo>
                  <a:pt x="39" y="27"/>
                  <a:pt x="39" y="27"/>
                  <a:pt x="39" y="27"/>
                </a:cubicBezTo>
                <a:cubicBezTo>
                  <a:pt x="40" y="27"/>
                  <a:pt x="41" y="28"/>
                  <a:pt x="41" y="29"/>
                </a:cubicBezTo>
                <a:lnTo>
                  <a:pt x="41" y="3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92" name="稻壳儿小白白(http://dwz.cn/Wu2UP)"/>
          <p:cNvSpPr/>
          <p:nvPr/>
        </p:nvSpPr>
        <p:spPr>
          <a:xfrm>
            <a:off x="6237360" y="5442120"/>
            <a:ext cx="284040" cy="282240"/>
          </a:xfrm>
          <a:custGeom>
            <a:avLst/>
            <a:gdLst/>
            <a:ahLst/>
            <a:rect l="l" t="t" r="r" b="b"/>
            <a:pathLst>
              <a:path w="41" h="41">
                <a:moveTo>
                  <a:pt x="41" y="16"/>
                </a:moveTo>
                <a:cubicBezTo>
                  <a:pt x="41" y="16"/>
                  <a:pt x="40" y="17"/>
                  <a:pt x="39" y="17"/>
                </a:cubicBezTo>
                <a:cubicBezTo>
                  <a:pt x="27" y="17"/>
                  <a:pt x="27" y="17"/>
                  <a:pt x="27" y="17"/>
                </a:cubicBezTo>
                <a:cubicBezTo>
                  <a:pt x="26" y="17"/>
                  <a:pt x="26" y="17"/>
                  <a:pt x="25" y="16"/>
                </a:cubicBezTo>
                <a:cubicBezTo>
                  <a:pt x="25" y="16"/>
                  <a:pt x="25" y="15"/>
                  <a:pt x="26" y="14"/>
                </a:cubicBezTo>
                <a:cubicBezTo>
                  <a:pt x="30" y="11"/>
                  <a:pt x="30" y="11"/>
                  <a:pt x="30" y="11"/>
                </a:cubicBezTo>
                <a:cubicBezTo>
                  <a:pt x="27" y="8"/>
                  <a:pt x="24" y="7"/>
                  <a:pt x="20" y="7"/>
                </a:cubicBezTo>
                <a:cubicBezTo>
                  <a:pt x="13" y="7"/>
                  <a:pt x="6" y="13"/>
                  <a:pt x="6" y="21"/>
                </a:cubicBezTo>
                <a:cubicBezTo>
                  <a:pt x="6" y="28"/>
                  <a:pt x="13" y="34"/>
                  <a:pt x="20" y="34"/>
                </a:cubicBezTo>
                <a:cubicBezTo>
                  <a:pt x="24" y="34"/>
                  <a:pt x="28" y="32"/>
                  <a:pt x="31" y="29"/>
                </a:cubicBezTo>
                <a:cubicBezTo>
                  <a:pt x="31" y="29"/>
                  <a:pt x="31" y="29"/>
                  <a:pt x="32" y="29"/>
                </a:cubicBezTo>
                <a:cubicBezTo>
                  <a:pt x="32" y="29"/>
                  <a:pt x="32" y="29"/>
                  <a:pt x="32" y="29"/>
                </a:cubicBezTo>
                <a:cubicBezTo>
                  <a:pt x="36" y="33"/>
                  <a:pt x="36" y="33"/>
                  <a:pt x="36" y="33"/>
                </a:cubicBezTo>
                <a:cubicBezTo>
                  <a:pt x="36" y="33"/>
                  <a:pt x="36" y="33"/>
                  <a:pt x="36" y="34"/>
                </a:cubicBezTo>
                <a:cubicBezTo>
                  <a:pt x="32" y="39"/>
                  <a:pt x="26" y="41"/>
                  <a:pt x="20" y="41"/>
                </a:cubicBezTo>
                <a:cubicBezTo>
                  <a:pt x="9" y="41"/>
                  <a:pt x="0" y="32"/>
                  <a:pt x="0" y="21"/>
                </a:cubicBezTo>
                <a:cubicBezTo>
                  <a:pt x="0" y="9"/>
                  <a:pt x="9" y="0"/>
                  <a:pt x="20" y="0"/>
                </a:cubicBezTo>
                <a:cubicBezTo>
                  <a:pt x="25" y="0"/>
                  <a:pt x="31" y="2"/>
                  <a:pt x="34" y="6"/>
                </a:cubicBezTo>
                <a:cubicBezTo>
                  <a:pt x="38" y="2"/>
                  <a:pt x="38" y="2"/>
                  <a:pt x="38" y="2"/>
                </a:cubicBezTo>
                <a:cubicBezTo>
                  <a:pt x="38" y="2"/>
                  <a:pt x="39" y="2"/>
                  <a:pt x="40" y="2"/>
                </a:cubicBezTo>
                <a:cubicBezTo>
                  <a:pt x="40" y="2"/>
                  <a:pt x="41" y="3"/>
                  <a:pt x="41" y="4"/>
                </a:cubicBezTo>
                <a:lnTo>
                  <a:pt x="41" y="1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93" name="稻壳儿小白白(http://dwz.cn/Wu2UP)"/>
          <p:cNvSpPr/>
          <p:nvPr/>
        </p:nvSpPr>
        <p:spPr>
          <a:xfrm>
            <a:off x="7108920" y="863640"/>
            <a:ext cx="263520" cy="257040"/>
          </a:xfrm>
          <a:custGeom>
            <a:avLst/>
            <a:gdLst/>
            <a:ahLst/>
            <a:rect l="l" t="t" r="r" b="b"/>
            <a:pathLst>
              <a:path w="38" h="37">
                <a:moveTo>
                  <a:pt x="37" y="37"/>
                </a:moveTo>
                <a:cubicBezTo>
                  <a:pt x="37" y="37"/>
                  <a:pt x="36" y="37"/>
                  <a:pt x="36" y="37"/>
                </a:cubicBezTo>
                <a:cubicBezTo>
                  <a:pt x="32" y="37"/>
                  <a:pt x="32" y="37"/>
                  <a:pt x="32" y="37"/>
                </a:cubicBezTo>
                <a:cubicBezTo>
                  <a:pt x="31" y="37"/>
                  <a:pt x="30" y="37"/>
                  <a:pt x="30" y="36"/>
                </a:cubicBezTo>
                <a:cubicBezTo>
                  <a:pt x="29" y="20"/>
                  <a:pt x="17" y="8"/>
                  <a:pt x="1" y="7"/>
                </a:cubicBezTo>
                <a:cubicBezTo>
                  <a:pt x="1" y="7"/>
                  <a:pt x="0" y="6"/>
                  <a:pt x="0" y="5"/>
                </a:cubicBezTo>
                <a:cubicBezTo>
                  <a:pt x="0" y="1"/>
                  <a:pt x="0" y="1"/>
                  <a:pt x="0" y="1"/>
                </a:cubicBezTo>
                <a:cubicBezTo>
                  <a:pt x="0" y="1"/>
                  <a:pt x="0" y="0"/>
                  <a:pt x="0" y="0"/>
                </a:cubicBezTo>
                <a:cubicBezTo>
                  <a:pt x="1" y="0"/>
                  <a:pt x="1" y="0"/>
                  <a:pt x="2" y="0"/>
                </a:cubicBezTo>
                <a:cubicBezTo>
                  <a:pt x="2" y="0"/>
                  <a:pt x="2" y="0"/>
                  <a:pt x="2" y="0"/>
                </a:cubicBezTo>
                <a:cubicBezTo>
                  <a:pt x="11" y="0"/>
                  <a:pt x="20" y="4"/>
                  <a:pt x="27" y="11"/>
                </a:cubicBezTo>
                <a:cubicBezTo>
                  <a:pt x="33" y="17"/>
                  <a:pt x="37" y="26"/>
                  <a:pt x="38" y="36"/>
                </a:cubicBezTo>
                <a:cubicBezTo>
                  <a:pt x="38" y="36"/>
                  <a:pt x="37" y="37"/>
                  <a:pt x="37" y="37"/>
                </a:cubicBezTo>
                <a:close/>
                <a:moveTo>
                  <a:pt x="23" y="37"/>
                </a:moveTo>
                <a:cubicBezTo>
                  <a:pt x="23" y="37"/>
                  <a:pt x="23" y="37"/>
                  <a:pt x="22" y="37"/>
                </a:cubicBezTo>
                <a:cubicBezTo>
                  <a:pt x="19" y="37"/>
                  <a:pt x="19" y="37"/>
                  <a:pt x="19" y="37"/>
                </a:cubicBezTo>
                <a:cubicBezTo>
                  <a:pt x="18" y="37"/>
                  <a:pt x="17" y="37"/>
                  <a:pt x="17" y="36"/>
                </a:cubicBezTo>
                <a:cubicBezTo>
                  <a:pt x="16" y="28"/>
                  <a:pt x="10" y="21"/>
                  <a:pt x="1" y="20"/>
                </a:cubicBezTo>
                <a:cubicBezTo>
                  <a:pt x="1" y="20"/>
                  <a:pt x="0" y="20"/>
                  <a:pt x="0" y="19"/>
                </a:cubicBezTo>
                <a:cubicBezTo>
                  <a:pt x="0" y="15"/>
                  <a:pt x="0" y="15"/>
                  <a:pt x="0" y="15"/>
                </a:cubicBezTo>
                <a:cubicBezTo>
                  <a:pt x="0" y="15"/>
                  <a:pt x="0" y="14"/>
                  <a:pt x="0" y="14"/>
                </a:cubicBezTo>
                <a:cubicBezTo>
                  <a:pt x="1" y="14"/>
                  <a:pt x="1" y="13"/>
                  <a:pt x="2" y="13"/>
                </a:cubicBezTo>
                <a:cubicBezTo>
                  <a:pt x="2" y="13"/>
                  <a:pt x="2" y="13"/>
                  <a:pt x="2" y="13"/>
                </a:cubicBezTo>
                <a:cubicBezTo>
                  <a:pt x="7" y="14"/>
                  <a:pt x="13" y="16"/>
                  <a:pt x="17" y="20"/>
                </a:cubicBezTo>
                <a:cubicBezTo>
                  <a:pt x="21" y="24"/>
                  <a:pt x="23" y="30"/>
                  <a:pt x="24" y="36"/>
                </a:cubicBezTo>
                <a:cubicBezTo>
                  <a:pt x="24" y="36"/>
                  <a:pt x="24" y="36"/>
                  <a:pt x="23" y="37"/>
                </a:cubicBezTo>
                <a:close/>
                <a:moveTo>
                  <a:pt x="5" y="37"/>
                </a:moveTo>
                <a:cubicBezTo>
                  <a:pt x="2" y="37"/>
                  <a:pt x="0" y="35"/>
                  <a:pt x="0" y="32"/>
                </a:cubicBezTo>
                <a:cubicBezTo>
                  <a:pt x="0" y="29"/>
                  <a:pt x="2" y="27"/>
                  <a:pt x="5" y="27"/>
                </a:cubicBezTo>
                <a:cubicBezTo>
                  <a:pt x="8" y="27"/>
                  <a:pt x="10" y="29"/>
                  <a:pt x="10" y="32"/>
                </a:cubicBezTo>
                <a:cubicBezTo>
                  <a:pt x="10" y="35"/>
                  <a:pt x="8" y="37"/>
                  <a:pt x="5" y="3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94" name="稻壳儿小白白(http://dwz.cn/Wu2UP)"/>
          <p:cNvSpPr/>
          <p:nvPr/>
        </p:nvSpPr>
        <p:spPr>
          <a:xfrm>
            <a:off x="7095960" y="1368360"/>
            <a:ext cx="284400" cy="282600"/>
          </a:xfrm>
          <a:custGeom>
            <a:avLst/>
            <a:gdLst/>
            <a:ahLst/>
            <a:rect l="l" t="t" r="r" b="b"/>
            <a:pathLst>
              <a:path w="41" h="41">
                <a:moveTo>
                  <a:pt x="41" y="34"/>
                </a:moveTo>
                <a:cubicBezTo>
                  <a:pt x="41" y="38"/>
                  <a:pt x="38" y="41"/>
                  <a:pt x="34" y="41"/>
                </a:cubicBezTo>
                <a:cubicBezTo>
                  <a:pt x="8" y="41"/>
                  <a:pt x="8" y="41"/>
                  <a:pt x="8" y="41"/>
                </a:cubicBezTo>
                <a:cubicBezTo>
                  <a:pt x="4" y="41"/>
                  <a:pt x="0" y="38"/>
                  <a:pt x="0" y="34"/>
                </a:cubicBezTo>
                <a:cubicBezTo>
                  <a:pt x="0" y="8"/>
                  <a:pt x="0" y="8"/>
                  <a:pt x="0" y="8"/>
                </a:cubicBezTo>
                <a:cubicBezTo>
                  <a:pt x="0" y="4"/>
                  <a:pt x="4" y="0"/>
                  <a:pt x="8" y="0"/>
                </a:cubicBezTo>
                <a:cubicBezTo>
                  <a:pt x="34" y="0"/>
                  <a:pt x="34" y="0"/>
                  <a:pt x="34" y="0"/>
                </a:cubicBezTo>
                <a:cubicBezTo>
                  <a:pt x="38" y="0"/>
                  <a:pt x="41" y="4"/>
                  <a:pt x="41" y="8"/>
                </a:cubicBezTo>
                <a:lnTo>
                  <a:pt x="41" y="34"/>
                </a:lnTo>
                <a:close/>
                <a:moveTo>
                  <a:pt x="8" y="8"/>
                </a:moveTo>
                <a:cubicBezTo>
                  <a:pt x="8" y="8"/>
                  <a:pt x="7" y="8"/>
                  <a:pt x="7" y="8"/>
                </a:cubicBezTo>
                <a:cubicBezTo>
                  <a:pt x="7" y="8"/>
                  <a:pt x="7" y="9"/>
                  <a:pt x="7" y="9"/>
                </a:cubicBezTo>
                <a:cubicBezTo>
                  <a:pt x="7" y="12"/>
                  <a:pt x="7" y="12"/>
                  <a:pt x="7" y="12"/>
                </a:cubicBezTo>
                <a:cubicBezTo>
                  <a:pt x="7" y="13"/>
                  <a:pt x="7" y="13"/>
                  <a:pt x="8" y="13"/>
                </a:cubicBezTo>
                <a:cubicBezTo>
                  <a:pt x="19" y="14"/>
                  <a:pt x="28" y="23"/>
                  <a:pt x="28" y="34"/>
                </a:cubicBezTo>
                <a:cubicBezTo>
                  <a:pt x="28" y="34"/>
                  <a:pt x="29" y="35"/>
                  <a:pt x="29" y="35"/>
                </a:cubicBezTo>
                <a:cubicBezTo>
                  <a:pt x="33" y="35"/>
                  <a:pt x="33" y="35"/>
                  <a:pt x="33" y="35"/>
                </a:cubicBezTo>
                <a:cubicBezTo>
                  <a:pt x="33" y="35"/>
                  <a:pt x="33" y="34"/>
                  <a:pt x="33" y="34"/>
                </a:cubicBezTo>
                <a:cubicBezTo>
                  <a:pt x="34" y="34"/>
                  <a:pt x="34" y="34"/>
                  <a:pt x="34" y="34"/>
                </a:cubicBezTo>
                <a:cubicBezTo>
                  <a:pt x="33" y="20"/>
                  <a:pt x="22" y="8"/>
                  <a:pt x="8" y="8"/>
                </a:cubicBezTo>
                <a:close/>
                <a:moveTo>
                  <a:pt x="8" y="18"/>
                </a:moveTo>
                <a:cubicBezTo>
                  <a:pt x="8" y="18"/>
                  <a:pt x="7" y="18"/>
                  <a:pt x="7" y="19"/>
                </a:cubicBezTo>
                <a:cubicBezTo>
                  <a:pt x="7" y="19"/>
                  <a:pt x="7" y="19"/>
                  <a:pt x="7" y="19"/>
                </a:cubicBezTo>
                <a:cubicBezTo>
                  <a:pt x="7" y="23"/>
                  <a:pt x="7" y="23"/>
                  <a:pt x="7" y="23"/>
                </a:cubicBezTo>
                <a:cubicBezTo>
                  <a:pt x="7" y="23"/>
                  <a:pt x="7" y="23"/>
                  <a:pt x="8" y="23"/>
                </a:cubicBezTo>
                <a:cubicBezTo>
                  <a:pt x="13" y="24"/>
                  <a:pt x="18" y="28"/>
                  <a:pt x="18" y="34"/>
                </a:cubicBezTo>
                <a:cubicBezTo>
                  <a:pt x="18" y="34"/>
                  <a:pt x="19" y="35"/>
                  <a:pt x="19" y="35"/>
                </a:cubicBezTo>
                <a:cubicBezTo>
                  <a:pt x="22" y="35"/>
                  <a:pt x="22" y="35"/>
                  <a:pt x="22" y="35"/>
                </a:cubicBezTo>
                <a:cubicBezTo>
                  <a:pt x="23" y="35"/>
                  <a:pt x="23" y="34"/>
                  <a:pt x="23" y="34"/>
                </a:cubicBezTo>
                <a:cubicBezTo>
                  <a:pt x="23" y="34"/>
                  <a:pt x="23" y="34"/>
                  <a:pt x="23" y="34"/>
                </a:cubicBezTo>
                <a:cubicBezTo>
                  <a:pt x="23" y="25"/>
                  <a:pt x="16" y="19"/>
                  <a:pt x="8" y="18"/>
                </a:cubicBezTo>
                <a:close/>
                <a:moveTo>
                  <a:pt x="10" y="28"/>
                </a:moveTo>
                <a:cubicBezTo>
                  <a:pt x="9" y="28"/>
                  <a:pt x="7" y="29"/>
                  <a:pt x="7" y="31"/>
                </a:cubicBezTo>
                <a:cubicBezTo>
                  <a:pt x="7" y="33"/>
                  <a:pt x="9" y="35"/>
                  <a:pt x="10" y="35"/>
                </a:cubicBezTo>
                <a:cubicBezTo>
                  <a:pt x="12" y="35"/>
                  <a:pt x="14" y="33"/>
                  <a:pt x="14" y="31"/>
                </a:cubicBezTo>
                <a:cubicBezTo>
                  <a:pt x="14" y="29"/>
                  <a:pt x="12" y="28"/>
                  <a:pt x="10" y="2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95" name="稻壳儿小白白(http://dwz.cn/Wu2UP)"/>
          <p:cNvSpPr/>
          <p:nvPr/>
        </p:nvSpPr>
        <p:spPr>
          <a:xfrm>
            <a:off x="7122960" y="1881360"/>
            <a:ext cx="236520" cy="263520"/>
          </a:xfrm>
          <a:custGeom>
            <a:avLst/>
            <a:gdLst/>
            <a:ahLst/>
            <a:rect l="l" t="t" r="r" b="b"/>
            <a:pathLst>
              <a:path w="34" h="38">
                <a:moveTo>
                  <a:pt x="22" y="23"/>
                </a:moveTo>
                <a:cubicBezTo>
                  <a:pt x="13" y="23"/>
                  <a:pt x="13" y="23"/>
                  <a:pt x="13" y="23"/>
                </a:cubicBezTo>
                <a:cubicBezTo>
                  <a:pt x="13" y="26"/>
                  <a:pt x="13" y="26"/>
                  <a:pt x="13" y="26"/>
                </a:cubicBezTo>
                <a:cubicBezTo>
                  <a:pt x="26" y="26"/>
                  <a:pt x="26" y="26"/>
                  <a:pt x="26" y="26"/>
                </a:cubicBezTo>
                <a:cubicBezTo>
                  <a:pt x="27" y="26"/>
                  <a:pt x="27" y="27"/>
                  <a:pt x="27" y="27"/>
                </a:cubicBezTo>
                <a:cubicBezTo>
                  <a:pt x="27" y="31"/>
                  <a:pt x="27" y="31"/>
                  <a:pt x="27" y="31"/>
                </a:cubicBezTo>
                <a:cubicBezTo>
                  <a:pt x="27" y="31"/>
                  <a:pt x="27" y="32"/>
                  <a:pt x="26" y="32"/>
                </a:cubicBezTo>
                <a:cubicBezTo>
                  <a:pt x="13" y="32"/>
                  <a:pt x="13" y="32"/>
                  <a:pt x="13" y="32"/>
                </a:cubicBezTo>
                <a:cubicBezTo>
                  <a:pt x="13" y="37"/>
                  <a:pt x="13" y="37"/>
                  <a:pt x="13" y="37"/>
                </a:cubicBezTo>
                <a:cubicBezTo>
                  <a:pt x="13" y="37"/>
                  <a:pt x="12" y="38"/>
                  <a:pt x="12" y="38"/>
                </a:cubicBezTo>
                <a:cubicBezTo>
                  <a:pt x="7" y="38"/>
                  <a:pt x="7" y="38"/>
                  <a:pt x="7" y="38"/>
                </a:cubicBezTo>
                <a:cubicBezTo>
                  <a:pt x="7" y="38"/>
                  <a:pt x="6" y="37"/>
                  <a:pt x="6" y="37"/>
                </a:cubicBezTo>
                <a:cubicBezTo>
                  <a:pt x="6" y="32"/>
                  <a:pt x="6" y="32"/>
                  <a:pt x="6" y="32"/>
                </a:cubicBezTo>
                <a:cubicBezTo>
                  <a:pt x="0" y="32"/>
                  <a:pt x="0" y="32"/>
                  <a:pt x="0" y="32"/>
                </a:cubicBezTo>
                <a:cubicBezTo>
                  <a:pt x="0" y="32"/>
                  <a:pt x="0" y="31"/>
                  <a:pt x="0" y="31"/>
                </a:cubicBezTo>
                <a:cubicBezTo>
                  <a:pt x="0" y="27"/>
                  <a:pt x="0" y="27"/>
                  <a:pt x="0" y="27"/>
                </a:cubicBezTo>
                <a:cubicBezTo>
                  <a:pt x="0" y="27"/>
                  <a:pt x="0" y="26"/>
                  <a:pt x="0" y="26"/>
                </a:cubicBezTo>
                <a:cubicBezTo>
                  <a:pt x="6" y="26"/>
                  <a:pt x="6" y="26"/>
                  <a:pt x="6" y="26"/>
                </a:cubicBezTo>
                <a:cubicBezTo>
                  <a:pt x="6" y="23"/>
                  <a:pt x="6" y="23"/>
                  <a:pt x="6" y="23"/>
                </a:cubicBezTo>
                <a:cubicBezTo>
                  <a:pt x="0" y="23"/>
                  <a:pt x="0" y="23"/>
                  <a:pt x="0" y="23"/>
                </a:cubicBezTo>
                <a:cubicBezTo>
                  <a:pt x="0" y="23"/>
                  <a:pt x="0" y="23"/>
                  <a:pt x="0" y="22"/>
                </a:cubicBezTo>
                <a:cubicBezTo>
                  <a:pt x="0" y="18"/>
                  <a:pt x="0" y="18"/>
                  <a:pt x="0" y="18"/>
                </a:cubicBezTo>
                <a:cubicBezTo>
                  <a:pt x="0" y="18"/>
                  <a:pt x="0" y="18"/>
                  <a:pt x="0" y="18"/>
                </a:cubicBezTo>
                <a:cubicBezTo>
                  <a:pt x="6" y="18"/>
                  <a:pt x="6" y="18"/>
                  <a:pt x="6" y="18"/>
                </a:cubicBezTo>
                <a:cubicBezTo>
                  <a:pt x="6" y="1"/>
                  <a:pt x="6" y="1"/>
                  <a:pt x="6" y="1"/>
                </a:cubicBezTo>
                <a:cubicBezTo>
                  <a:pt x="6" y="0"/>
                  <a:pt x="7" y="0"/>
                  <a:pt x="7" y="0"/>
                </a:cubicBezTo>
                <a:cubicBezTo>
                  <a:pt x="22" y="0"/>
                  <a:pt x="22" y="0"/>
                  <a:pt x="22" y="0"/>
                </a:cubicBezTo>
                <a:cubicBezTo>
                  <a:pt x="29" y="0"/>
                  <a:pt x="34" y="5"/>
                  <a:pt x="34" y="12"/>
                </a:cubicBezTo>
                <a:cubicBezTo>
                  <a:pt x="34" y="18"/>
                  <a:pt x="29" y="23"/>
                  <a:pt x="22" y="23"/>
                </a:cubicBezTo>
                <a:close/>
                <a:moveTo>
                  <a:pt x="21" y="6"/>
                </a:moveTo>
                <a:cubicBezTo>
                  <a:pt x="13" y="6"/>
                  <a:pt x="13" y="6"/>
                  <a:pt x="13" y="6"/>
                </a:cubicBezTo>
                <a:cubicBezTo>
                  <a:pt x="13" y="18"/>
                  <a:pt x="13" y="18"/>
                  <a:pt x="13" y="18"/>
                </a:cubicBezTo>
                <a:cubicBezTo>
                  <a:pt x="21" y="18"/>
                  <a:pt x="21" y="18"/>
                  <a:pt x="21" y="18"/>
                </a:cubicBezTo>
                <a:cubicBezTo>
                  <a:pt x="25" y="18"/>
                  <a:pt x="28" y="15"/>
                  <a:pt x="28" y="12"/>
                </a:cubicBezTo>
                <a:cubicBezTo>
                  <a:pt x="28" y="8"/>
                  <a:pt x="25" y="6"/>
                  <a:pt x="21" y="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96" name="稻壳儿小白白(http://dwz.cn/Wu2UP)"/>
          <p:cNvSpPr/>
          <p:nvPr/>
        </p:nvSpPr>
        <p:spPr>
          <a:xfrm>
            <a:off x="7157880" y="2386080"/>
            <a:ext cx="166680" cy="263520"/>
          </a:xfrm>
          <a:custGeom>
            <a:avLst/>
            <a:gdLst/>
            <a:ahLst/>
            <a:rect l="l" t="t" r="r" b="b"/>
            <a:pathLst>
              <a:path w="24" h="38">
                <a:moveTo>
                  <a:pt x="24" y="12"/>
                </a:moveTo>
                <a:cubicBezTo>
                  <a:pt x="24" y="13"/>
                  <a:pt x="23" y="13"/>
                  <a:pt x="23" y="13"/>
                </a:cubicBezTo>
                <a:cubicBezTo>
                  <a:pt x="18" y="13"/>
                  <a:pt x="18" y="13"/>
                  <a:pt x="18" y="13"/>
                </a:cubicBezTo>
                <a:cubicBezTo>
                  <a:pt x="18" y="18"/>
                  <a:pt x="14" y="22"/>
                  <a:pt x="8" y="22"/>
                </a:cubicBezTo>
                <a:cubicBezTo>
                  <a:pt x="12" y="27"/>
                  <a:pt x="16" y="32"/>
                  <a:pt x="20" y="37"/>
                </a:cubicBezTo>
                <a:cubicBezTo>
                  <a:pt x="20" y="37"/>
                  <a:pt x="20" y="37"/>
                  <a:pt x="20" y="38"/>
                </a:cubicBezTo>
                <a:cubicBezTo>
                  <a:pt x="20" y="38"/>
                  <a:pt x="20" y="38"/>
                  <a:pt x="19" y="38"/>
                </a:cubicBezTo>
                <a:cubicBezTo>
                  <a:pt x="14" y="38"/>
                  <a:pt x="14" y="38"/>
                  <a:pt x="14" y="38"/>
                </a:cubicBezTo>
                <a:cubicBezTo>
                  <a:pt x="14" y="38"/>
                  <a:pt x="13" y="38"/>
                  <a:pt x="13" y="38"/>
                </a:cubicBezTo>
                <a:cubicBezTo>
                  <a:pt x="9" y="33"/>
                  <a:pt x="5" y="28"/>
                  <a:pt x="0" y="23"/>
                </a:cubicBezTo>
                <a:cubicBezTo>
                  <a:pt x="0" y="22"/>
                  <a:pt x="0" y="22"/>
                  <a:pt x="0" y="22"/>
                </a:cubicBezTo>
                <a:cubicBezTo>
                  <a:pt x="0" y="19"/>
                  <a:pt x="0" y="19"/>
                  <a:pt x="0" y="19"/>
                </a:cubicBezTo>
                <a:cubicBezTo>
                  <a:pt x="0" y="18"/>
                  <a:pt x="0" y="18"/>
                  <a:pt x="1" y="18"/>
                </a:cubicBezTo>
                <a:cubicBezTo>
                  <a:pt x="4" y="18"/>
                  <a:pt x="4" y="18"/>
                  <a:pt x="4" y="18"/>
                </a:cubicBezTo>
                <a:cubicBezTo>
                  <a:pt x="8" y="18"/>
                  <a:pt x="11" y="16"/>
                  <a:pt x="12" y="13"/>
                </a:cubicBezTo>
                <a:cubicBezTo>
                  <a:pt x="1" y="13"/>
                  <a:pt x="1" y="13"/>
                  <a:pt x="1" y="13"/>
                </a:cubicBezTo>
                <a:cubicBezTo>
                  <a:pt x="0" y="13"/>
                  <a:pt x="0" y="13"/>
                  <a:pt x="0" y="12"/>
                </a:cubicBezTo>
                <a:cubicBezTo>
                  <a:pt x="0" y="10"/>
                  <a:pt x="0" y="10"/>
                  <a:pt x="0" y="10"/>
                </a:cubicBezTo>
                <a:cubicBezTo>
                  <a:pt x="0" y="9"/>
                  <a:pt x="0" y="9"/>
                  <a:pt x="1" y="9"/>
                </a:cubicBezTo>
                <a:cubicBezTo>
                  <a:pt x="12" y="9"/>
                  <a:pt x="12" y="9"/>
                  <a:pt x="12" y="9"/>
                </a:cubicBezTo>
                <a:cubicBezTo>
                  <a:pt x="11" y="7"/>
                  <a:pt x="8" y="6"/>
                  <a:pt x="4" y="6"/>
                </a:cubicBezTo>
                <a:cubicBezTo>
                  <a:pt x="1" y="6"/>
                  <a:pt x="1" y="6"/>
                  <a:pt x="1" y="6"/>
                </a:cubicBezTo>
                <a:cubicBezTo>
                  <a:pt x="0" y="6"/>
                  <a:pt x="0" y="5"/>
                  <a:pt x="0" y="5"/>
                </a:cubicBezTo>
                <a:cubicBezTo>
                  <a:pt x="0" y="1"/>
                  <a:pt x="0" y="1"/>
                  <a:pt x="0" y="1"/>
                </a:cubicBezTo>
                <a:cubicBezTo>
                  <a:pt x="0" y="1"/>
                  <a:pt x="0" y="0"/>
                  <a:pt x="1" y="0"/>
                </a:cubicBezTo>
                <a:cubicBezTo>
                  <a:pt x="23" y="0"/>
                  <a:pt x="23" y="0"/>
                  <a:pt x="23" y="0"/>
                </a:cubicBezTo>
                <a:cubicBezTo>
                  <a:pt x="23" y="0"/>
                  <a:pt x="24" y="1"/>
                  <a:pt x="24" y="1"/>
                </a:cubicBezTo>
                <a:cubicBezTo>
                  <a:pt x="24" y="4"/>
                  <a:pt x="24" y="4"/>
                  <a:pt x="24" y="4"/>
                </a:cubicBezTo>
                <a:cubicBezTo>
                  <a:pt x="24" y="5"/>
                  <a:pt x="23" y="5"/>
                  <a:pt x="23" y="5"/>
                </a:cubicBezTo>
                <a:cubicBezTo>
                  <a:pt x="17" y="5"/>
                  <a:pt x="17" y="5"/>
                  <a:pt x="17" y="5"/>
                </a:cubicBezTo>
                <a:cubicBezTo>
                  <a:pt x="17" y="6"/>
                  <a:pt x="18" y="7"/>
                  <a:pt x="18" y="9"/>
                </a:cubicBezTo>
                <a:cubicBezTo>
                  <a:pt x="23" y="9"/>
                  <a:pt x="23" y="9"/>
                  <a:pt x="23" y="9"/>
                </a:cubicBezTo>
                <a:cubicBezTo>
                  <a:pt x="23" y="9"/>
                  <a:pt x="24" y="9"/>
                  <a:pt x="24" y="10"/>
                </a:cubicBezTo>
                <a:lnTo>
                  <a:pt x="24" y="1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97" name="稻壳儿小白白(http://dwz.cn/Wu2UP)"/>
          <p:cNvSpPr/>
          <p:nvPr/>
        </p:nvSpPr>
        <p:spPr>
          <a:xfrm>
            <a:off x="7095960" y="2897280"/>
            <a:ext cx="284400" cy="284040"/>
          </a:xfrm>
          <a:custGeom>
            <a:avLst/>
            <a:gdLst/>
            <a:ahLst/>
            <a:rect l="l" t="t" r="r" b="b"/>
            <a:pathLst>
              <a:path w="41" h="41">
                <a:moveTo>
                  <a:pt x="41" y="39"/>
                </a:moveTo>
                <a:cubicBezTo>
                  <a:pt x="41" y="40"/>
                  <a:pt x="40" y="41"/>
                  <a:pt x="39" y="41"/>
                </a:cubicBezTo>
                <a:cubicBezTo>
                  <a:pt x="3" y="41"/>
                  <a:pt x="3" y="41"/>
                  <a:pt x="3" y="41"/>
                </a:cubicBezTo>
                <a:cubicBezTo>
                  <a:pt x="1" y="41"/>
                  <a:pt x="0" y="40"/>
                  <a:pt x="0" y="39"/>
                </a:cubicBezTo>
                <a:cubicBezTo>
                  <a:pt x="0" y="3"/>
                  <a:pt x="0" y="3"/>
                  <a:pt x="0" y="3"/>
                </a:cubicBezTo>
                <a:cubicBezTo>
                  <a:pt x="0" y="1"/>
                  <a:pt x="1" y="0"/>
                  <a:pt x="3" y="0"/>
                </a:cubicBezTo>
                <a:cubicBezTo>
                  <a:pt x="28" y="0"/>
                  <a:pt x="28" y="0"/>
                  <a:pt x="28" y="0"/>
                </a:cubicBezTo>
                <a:cubicBezTo>
                  <a:pt x="29" y="0"/>
                  <a:pt x="31" y="1"/>
                  <a:pt x="32" y="2"/>
                </a:cubicBezTo>
                <a:cubicBezTo>
                  <a:pt x="40" y="9"/>
                  <a:pt x="40" y="9"/>
                  <a:pt x="40" y="9"/>
                </a:cubicBezTo>
                <a:cubicBezTo>
                  <a:pt x="41" y="10"/>
                  <a:pt x="41" y="12"/>
                  <a:pt x="41" y="14"/>
                </a:cubicBezTo>
                <a:lnTo>
                  <a:pt x="41" y="39"/>
                </a:lnTo>
                <a:close/>
                <a:moveTo>
                  <a:pt x="38" y="38"/>
                </a:moveTo>
                <a:cubicBezTo>
                  <a:pt x="38" y="14"/>
                  <a:pt x="38" y="14"/>
                  <a:pt x="38" y="14"/>
                </a:cubicBezTo>
                <a:cubicBezTo>
                  <a:pt x="38" y="13"/>
                  <a:pt x="37" y="12"/>
                  <a:pt x="37" y="12"/>
                </a:cubicBezTo>
                <a:cubicBezTo>
                  <a:pt x="30" y="4"/>
                  <a:pt x="30" y="4"/>
                  <a:pt x="30" y="4"/>
                </a:cubicBezTo>
                <a:cubicBezTo>
                  <a:pt x="29" y="4"/>
                  <a:pt x="28" y="4"/>
                  <a:pt x="28" y="4"/>
                </a:cubicBezTo>
                <a:cubicBezTo>
                  <a:pt x="28" y="15"/>
                  <a:pt x="28" y="15"/>
                  <a:pt x="28" y="15"/>
                </a:cubicBezTo>
                <a:cubicBezTo>
                  <a:pt x="28" y="16"/>
                  <a:pt x="26" y="17"/>
                  <a:pt x="25" y="17"/>
                </a:cubicBezTo>
                <a:cubicBezTo>
                  <a:pt x="10" y="17"/>
                  <a:pt x="10" y="17"/>
                  <a:pt x="10" y="17"/>
                </a:cubicBezTo>
                <a:cubicBezTo>
                  <a:pt x="8" y="17"/>
                  <a:pt x="7" y="16"/>
                  <a:pt x="7" y="15"/>
                </a:cubicBezTo>
                <a:cubicBezTo>
                  <a:pt x="7" y="4"/>
                  <a:pt x="7" y="4"/>
                  <a:pt x="7" y="4"/>
                </a:cubicBezTo>
                <a:cubicBezTo>
                  <a:pt x="4" y="4"/>
                  <a:pt x="4" y="4"/>
                  <a:pt x="4" y="4"/>
                </a:cubicBezTo>
                <a:cubicBezTo>
                  <a:pt x="4" y="38"/>
                  <a:pt x="4" y="38"/>
                  <a:pt x="4" y="38"/>
                </a:cubicBezTo>
                <a:cubicBezTo>
                  <a:pt x="7" y="38"/>
                  <a:pt x="7" y="38"/>
                  <a:pt x="7" y="38"/>
                </a:cubicBezTo>
                <a:cubicBezTo>
                  <a:pt x="7" y="27"/>
                  <a:pt x="7" y="27"/>
                  <a:pt x="7" y="27"/>
                </a:cubicBezTo>
                <a:cubicBezTo>
                  <a:pt x="7" y="25"/>
                  <a:pt x="8" y="24"/>
                  <a:pt x="10" y="24"/>
                </a:cubicBezTo>
                <a:cubicBezTo>
                  <a:pt x="32" y="24"/>
                  <a:pt x="32" y="24"/>
                  <a:pt x="32" y="24"/>
                </a:cubicBezTo>
                <a:cubicBezTo>
                  <a:pt x="33" y="24"/>
                  <a:pt x="34" y="25"/>
                  <a:pt x="34" y="27"/>
                </a:cubicBezTo>
                <a:cubicBezTo>
                  <a:pt x="34" y="38"/>
                  <a:pt x="34" y="38"/>
                  <a:pt x="34" y="38"/>
                </a:cubicBezTo>
                <a:lnTo>
                  <a:pt x="38" y="38"/>
                </a:lnTo>
                <a:close/>
                <a:moveTo>
                  <a:pt x="31" y="38"/>
                </a:moveTo>
                <a:cubicBezTo>
                  <a:pt x="31" y="28"/>
                  <a:pt x="31" y="28"/>
                  <a:pt x="31" y="28"/>
                </a:cubicBezTo>
                <a:cubicBezTo>
                  <a:pt x="10" y="28"/>
                  <a:pt x="10" y="28"/>
                  <a:pt x="10" y="28"/>
                </a:cubicBezTo>
                <a:cubicBezTo>
                  <a:pt x="10" y="38"/>
                  <a:pt x="10" y="38"/>
                  <a:pt x="10" y="38"/>
                </a:cubicBezTo>
                <a:lnTo>
                  <a:pt x="31" y="38"/>
                </a:lnTo>
                <a:close/>
                <a:moveTo>
                  <a:pt x="24" y="4"/>
                </a:moveTo>
                <a:cubicBezTo>
                  <a:pt x="24" y="4"/>
                  <a:pt x="24" y="4"/>
                  <a:pt x="23" y="4"/>
                </a:cubicBezTo>
                <a:cubicBezTo>
                  <a:pt x="18" y="4"/>
                  <a:pt x="18" y="4"/>
                  <a:pt x="18" y="4"/>
                </a:cubicBezTo>
                <a:cubicBezTo>
                  <a:pt x="18" y="4"/>
                  <a:pt x="17" y="4"/>
                  <a:pt x="17" y="4"/>
                </a:cubicBezTo>
                <a:cubicBezTo>
                  <a:pt x="17" y="13"/>
                  <a:pt x="17" y="13"/>
                  <a:pt x="17" y="13"/>
                </a:cubicBezTo>
                <a:cubicBezTo>
                  <a:pt x="17" y="13"/>
                  <a:pt x="18" y="14"/>
                  <a:pt x="18" y="14"/>
                </a:cubicBezTo>
                <a:cubicBezTo>
                  <a:pt x="23" y="14"/>
                  <a:pt x="23" y="14"/>
                  <a:pt x="23" y="14"/>
                </a:cubicBezTo>
                <a:cubicBezTo>
                  <a:pt x="24" y="14"/>
                  <a:pt x="24" y="13"/>
                  <a:pt x="24" y="13"/>
                </a:cubicBezTo>
                <a:lnTo>
                  <a:pt x="24" y="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98" name="稻壳儿小白白(http://dwz.cn/Wu2UP)"/>
          <p:cNvSpPr/>
          <p:nvPr/>
        </p:nvSpPr>
        <p:spPr>
          <a:xfrm>
            <a:off x="7077240" y="3429000"/>
            <a:ext cx="330120" cy="262080"/>
          </a:xfrm>
          <a:custGeom>
            <a:avLst/>
            <a:gdLst/>
            <a:ahLst/>
            <a:rect l="l" t="t" r="r" b="b"/>
            <a:pathLst>
              <a:path w="48" h="38">
                <a:moveTo>
                  <a:pt x="47" y="30"/>
                </a:moveTo>
                <a:cubicBezTo>
                  <a:pt x="48" y="30"/>
                  <a:pt x="48" y="31"/>
                  <a:pt x="48" y="31"/>
                </a:cubicBezTo>
                <a:cubicBezTo>
                  <a:pt x="48" y="32"/>
                  <a:pt x="47" y="32"/>
                  <a:pt x="47" y="32"/>
                </a:cubicBezTo>
                <a:cubicBezTo>
                  <a:pt x="43" y="34"/>
                  <a:pt x="43" y="34"/>
                  <a:pt x="43" y="34"/>
                </a:cubicBezTo>
                <a:cubicBezTo>
                  <a:pt x="43" y="34"/>
                  <a:pt x="43" y="34"/>
                  <a:pt x="43" y="34"/>
                </a:cubicBezTo>
                <a:cubicBezTo>
                  <a:pt x="42" y="34"/>
                  <a:pt x="42" y="34"/>
                  <a:pt x="42" y="34"/>
                </a:cubicBezTo>
                <a:cubicBezTo>
                  <a:pt x="23" y="24"/>
                  <a:pt x="23" y="24"/>
                  <a:pt x="23" y="24"/>
                </a:cubicBezTo>
                <a:cubicBezTo>
                  <a:pt x="20" y="26"/>
                  <a:pt x="20" y="26"/>
                  <a:pt x="20" y="26"/>
                </a:cubicBezTo>
                <a:cubicBezTo>
                  <a:pt x="20" y="26"/>
                  <a:pt x="20" y="26"/>
                  <a:pt x="20" y="26"/>
                </a:cubicBezTo>
                <a:cubicBezTo>
                  <a:pt x="20" y="27"/>
                  <a:pt x="20" y="27"/>
                  <a:pt x="20" y="28"/>
                </a:cubicBezTo>
                <a:cubicBezTo>
                  <a:pt x="20" y="31"/>
                  <a:pt x="18" y="34"/>
                  <a:pt x="15" y="36"/>
                </a:cubicBezTo>
                <a:cubicBezTo>
                  <a:pt x="13" y="37"/>
                  <a:pt x="10" y="38"/>
                  <a:pt x="8" y="38"/>
                </a:cubicBezTo>
                <a:cubicBezTo>
                  <a:pt x="5" y="38"/>
                  <a:pt x="3" y="37"/>
                  <a:pt x="2" y="36"/>
                </a:cubicBezTo>
                <a:cubicBezTo>
                  <a:pt x="0" y="34"/>
                  <a:pt x="0" y="32"/>
                  <a:pt x="0" y="30"/>
                </a:cubicBezTo>
                <a:cubicBezTo>
                  <a:pt x="0" y="27"/>
                  <a:pt x="2" y="25"/>
                  <a:pt x="5" y="23"/>
                </a:cubicBezTo>
                <a:cubicBezTo>
                  <a:pt x="7" y="21"/>
                  <a:pt x="10" y="21"/>
                  <a:pt x="12" y="21"/>
                </a:cubicBezTo>
                <a:cubicBezTo>
                  <a:pt x="14" y="21"/>
                  <a:pt x="15" y="21"/>
                  <a:pt x="16" y="22"/>
                </a:cubicBezTo>
                <a:cubicBezTo>
                  <a:pt x="16" y="21"/>
                  <a:pt x="17" y="21"/>
                  <a:pt x="17" y="21"/>
                </a:cubicBezTo>
                <a:cubicBezTo>
                  <a:pt x="20" y="19"/>
                  <a:pt x="20" y="19"/>
                  <a:pt x="20" y="19"/>
                </a:cubicBezTo>
                <a:cubicBezTo>
                  <a:pt x="17" y="17"/>
                  <a:pt x="17" y="17"/>
                  <a:pt x="17" y="17"/>
                </a:cubicBezTo>
                <a:cubicBezTo>
                  <a:pt x="17" y="17"/>
                  <a:pt x="16" y="17"/>
                  <a:pt x="16" y="16"/>
                </a:cubicBezTo>
                <a:cubicBezTo>
                  <a:pt x="15" y="17"/>
                  <a:pt x="14" y="17"/>
                  <a:pt x="12" y="17"/>
                </a:cubicBezTo>
                <a:cubicBezTo>
                  <a:pt x="10" y="17"/>
                  <a:pt x="7" y="16"/>
                  <a:pt x="5" y="15"/>
                </a:cubicBezTo>
                <a:cubicBezTo>
                  <a:pt x="2" y="13"/>
                  <a:pt x="0" y="10"/>
                  <a:pt x="0" y="8"/>
                </a:cubicBezTo>
                <a:cubicBezTo>
                  <a:pt x="0" y="6"/>
                  <a:pt x="0" y="4"/>
                  <a:pt x="2" y="2"/>
                </a:cubicBezTo>
                <a:cubicBezTo>
                  <a:pt x="3" y="1"/>
                  <a:pt x="5" y="0"/>
                  <a:pt x="8" y="0"/>
                </a:cubicBezTo>
                <a:cubicBezTo>
                  <a:pt x="10" y="0"/>
                  <a:pt x="13" y="1"/>
                  <a:pt x="15" y="2"/>
                </a:cubicBezTo>
                <a:cubicBezTo>
                  <a:pt x="18" y="4"/>
                  <a:pt x="20" y="7"/>
                  <a:pt x="20" y="10"/>
                </a:cubicBezTo>
                <a:cubicBezTo>
                  <a:pt x="20" y="11"/>
                  <a:pt x="20" y="11"/>
                  <a:pt x="20" y="12"/>
                </a:cubicBezTo>
                <a:cubicBezTo>
                  <a:pt x="20" y="12"/>
                  <a:pt x="20" y="12"/>
                  <a:pt x="20" y="12"/>
                </a:cubicBezTo>
                <a:cubicBezTo>
                  <a:pt x="23" y="14"/>
                  <a:pt x="23" y="14"/>
                  <a:pt x="23" y="14"/>
                </a:cubicBezTo>
                <a:cubicBezTo>
                  <a:pt x="42" y="4"/>
                  <a:pt x="42" y="4"/>
                  <a:pt x="42" y="4"/>
                </a:cubicBezTo>
                <a:cubicBezTo>
                  <a:pt x="42" y="4"/>
                  <a:pt x="42" y="4"/>
                  <a:pt x="43" y="4"/>
                </a:cubicBezTo>
                <a:cubicBezTo>
                  <a:pt x="43" y="4"/>
                  <a:pt x="43" y="4"/>
                  <a:pt x="43" y="4"/>
                </a:cubicBezTo>
                <a:cubicBezTo>
                  <a:pt x="47" y="5"/>
                  <a:pt x="47" y="5"/>
                  <a:pt x="47" y="5"/>
                </a:cubicBezTo>
                <a:cubicBezTo>
                  <a:pt x="47" y="6"/>
                  <a:pt x="48" y="6"/>
                  <a:pt x="48" y="7"/>
                </a:cubicBezTo>
                <a:cubicBezTo>
                  <a:pt x="48" y="7"/>
                  <a:pt x="48" y="8"/>
                  <a:pt x="47" y="8"/>
                </a:cubicBezTo>
                <a:cubicBezTo>
                  <a:pt x="34" y="19"/>
                  <a:pt x="34" y="19"/>
                  <a:pt x="34" y="19"/>
                </a:cubicBezTo>
                <a:lnTo>
                  <a:pt x="47" y="30"/>
                </a:lnTo>
                <a:close/>
                <a:moveTo>
                  <a:pt x="13" y="6"/>
                </a:moveTo>
                <a:cubicBezTo>
                  <a:pt x="11" y="5"/>
                  <a:pt x="9" y="4"/>
                  <a:pt x="8" y="4"/>
                </a:cubicBezTo>
                <a:cubicBezTo>
                  <a:pt x="7" y="4"/>
                  <a:pt x="6" y="5"/>
                  <a:pt x="5" y="5"/>
                </a:cubicBezTo>
                <a:cubicBezTo>
                  <a:pt x="3" y="7"/>
                  <a:pt x="4" y="10"/>
                  <a:pt x="7" y="11"/>
                </a:cubicBezTo>
                <a:cubicBezTo>
                  <a:pt x="9" y="12"/>
                  <a:pt x="11" y="13"/>
                  <a:pt x="12" y="13"/>
                </a:cubicBezTo>
                <a:cubicBezTo>
                  <a:pt x="13" y="13"/>
                  <a:pt x="15" y="13"/>
                  <a:pt x="15" y="12"/>
                </a:cubicBezTo>
                <a:cubicBezTo>
                  <a:pt x="17" y="11"/>
                  <a:pt x="16" y="8"/>
                  <a:pt x="13" y="6"/>
                </a:cubicBezTo>
                <a:close/>
                <a:moveTo>
                  <a:pt x="15" y="26"/>
                </a:moveTo>
                <a:cubicBezTo>
                  <a:pt x="15" y="25"/>
                  <a:pt x="13" y="25"/>
                  <a:pt x="12" y="25"/>
                </a:cubicBezTo>
                <a:cubicBezTo>
                  <a:pt x="11" y="25"/>
                  <a:pt x="9" y="26"/>
                  <a:pt x="7" y="27"/>
                </a:cubicBezTo>
                <a:cubicBezTo>
                  <a:pt x="4" y="28"/>
                  <a:pt x="3" y="31"/>
                  <a:pt x="5" y="33"/>
                </a:cubicBezTo>
                <a:cubicBezTo>
                  <a:pt x="6" y="33"/>
                  <a:pt x="7" y="34"/>
                  <a:pt x="8" y="34"/>
                </a:cubicBezTo>
                <a:cubicBezTo>
                  <a:pt x="9" y="34"/>
                  <a:pt x="11" y="33"/>
                  <a:pt x="13" y="32"/>
                </a:cubicBezTo>
                <a:cubicBezTo>
                  <a:pt x="16" y="30"/>
                  <a:pt x="17" y="27"/>
                  <a:pt x="15" y="26"/>
                </a:cubicBezTo>
                <a:close/>
                <a:moveTo>
                  <a:pt x="26" y="22"/>
                </a:moveTo>
                <a:cubicBezTo>
                  <a:pt x="46" y="7"/>
                  <a:pt x="46" y="7"/>
                  <a:pt x="46" y="7"/>
                </a:cubicBezTo>
                <a:cubicBezTo>
                  <a:pt x="43" y="5"/>
                  <a:pt x="43" y="5"/>
                  <a:pt x="43" y="5"/>
                </a:cubicBezTo>
                <a:cubicBezTo>
                  <a:pt x="22" y="17"/>
                  <a:pt x="22" y="17"/>
                  <a:pt x="22" y="17"/>
                </a:cubicBezTo>
                <a:cubicBezTo>
                  <a:pt x="22" y="20"/>
                  <a:pt x="22" y="20"/>
                  <a:pt x="22" y="20"/>
                </a:cubicBezTo>
                <a:cubicBezTo>
                  <a:pt x="18" y="22"/>
                  <a:pt x="18" y="22"/>
                  <a:pt x="18" y="22"/>
                </a:cubicBezTo>
                <a:cubicBezTo>
                  <a:pt x="18" y="23"/>
                  <a:pt x="18" y="23"/>
                  <a:pt x="18" y="23"/>
                </a:cubicBezTo>
                <a:cubicBezTo>
                  <a:pt x="18" y="23"/>
                  <a:pt x="18" y="23"/>
                  <a:pt x="18" y="23"/>
                </a:cubicBezTo>
                <a:cubicBezTo>
                  <a:pt x="18" y="23"/>
                  <a:pt x="19" y="23"/>
                  <a:pt x="19" y="23"/>
                </a:cubicBezTo>
                <a:cubicBezTo>
                  <a:pt x="19" y="24"/>
                  <a:pt x="19" y="24"/>
                  <a:pt x="19" y="24"/>
                </a:cubicBezTo>
                <a:cubicBezTo>
                  <a:pt x="24" y="22"/>
                  <a:pt x="24" y="22"/>
                  <a:pt x="24" y="22"/>
                </a:cubicBezTo>
                <a:lnTo>
                  <a:pt x="26" y="22"/>
                </a:lnTo>
                <a:close/>
                <a:moveTo>
                  <a:pt x="20" y="17"/>
                </a:moveTo>
                <a:cubicBezTo>
                  <a:pt x="20" y="17"/>
                  <a:pt x="20" y="17"/>
                  <a:pt x="20" y="17"/>
                </a:cubicBezTo>
                <a:cubicBezTo>
                  <a:pt x="20" y="16"/>
                  <a:pt x="21" y="16"/>
                  <a:pt x="21" y="15"/>
                </a:cubicBezTo>
                <a:cubicBezTo>
                  <a:pt x="22" y="15"/>
                  <a:pt x="22" y="15"/>
                  <a:pt x="22" y="15"/>
                </a:cubicBezTo>
                <a:cubicBezTo>
                  <a:pt x="19" y="14"/>
                  <a:pt x="19" y="14"/>
                  <a:pt x="19" y="14"/>
                </a:cubicBezTo>
                <a:cubicBezTo>
                  <a:pt x="19" y="15"/>
                  <a:pt x="19" y="15"/>
                  <a:pt x="19" y="15"/>
                </a:cubicBezTo>
                <a:cubicBezTo>
                  <a:pt x="19" y="15"/>
                  <a:pt x="18" y="15"/>
                  <a:pt x="18" y="15"/>
                </a:cubicBezTo>
                <a:cubicBezTo>
                  <a:pt x="18" y="15"/>
                  <a:pt x="18" y="15"/>
                  <a:pt x="18" y="15"/>
                </a:cubicBezTo>
                <a:cubicBezTo>
                  <a:pt x="18" y="16"/>
                  <a:pt x="18" y="16"/>
                  <a:pt x="18" y="16"/>
                </a:cubicBezTo>
                <a:lnTo>
                  <a:pt x="20" y="17"/>
                </a:lnTo>
                <a:close/>
                <a:moveTo>
                  <a:pt x="27" y="19"/>
                </a:moveTo>
                <a:cubicBezTo>
                  <a:pt x="27" y="20"/>
                  <a:pt x="26" y="21"/>
                  <a:pt x="25" y="21"/>
                </a:cubicBezTo>
                <a:cubicBezTo>
                  <a:pt x="25" y="21"/>
                  <a:pt x="24" y="20"/>
                  <a:pt x="24" y="19"/>
                </a:cubicBezTo>
                <a:cubicBezTo>
                  <a:pt x="24" y="18"/>
                  <a:pt x="25" y="17"/>
                  <a:pt x="25" y="17"/>
                </a:cubicBezTo>
                <a:cubicBezTo>
                  <a:pt x="26" y="17"/>
                  <a:pt x="27" y="18"/>
                  <a:pt x="27" y="19"/>
                </a:cubicBezTo>
                <a:close/>
                <a:moveTo>
                  <a:pt x="46" y="31"/>
                </a:moveTo>
                <a:cubicBezTo>
                  <a:pt x="32" y="20"/>
                  <a:pt x="32" y="20"/>
                  <a:pt x="32" y="20"/>
                </a:cubicBezTo>
                <a:cubicBezTo>
                  <a:pt x="27" y="24"/>
                  <a:pt x="27" y="24"/>
                  <a:pt x="27" y="24"/>
                </a:cubicBezTo>
                <a:cubicBezTo>
                  <a:pt x="27" y="24"/>
                  <a:pt x="27" y="24"/>
                  <a:pt x="27" y="24"/>
                </a:cubicBezTo>
                <a:cubicBezTo>
                  <a:pt x="43" y="33"/>
                  <a:pt x="43" y="33"/>
                  <a:pt x="43" y="33"/>
                </a:cubicBezTo>
                <a:lnTo>
                  <a:pt x="46" y="3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99" name="稻壳儿小白白(http://dwz.cn/Wu2UP)"/>
          <p:cNvSpPr/>
          <p:nvPr/>
        </p:nvSpPr>
        <p:spPr>
          <a:xfrm>
            <a:off x="7081920" y="3913200"/>
            <a:ext cx="311040" cy="312840"/>
          </a:xfrm>
          <a:custGeom>
            <a:avLst/>
            <a:gdLst/>
            <a:ahLst/>
            <a:rect l="l" t="t" r="r" b="b"/>
            <a:pathLst>
              <a:path w="45" h="45">
                <a:moveTo>
                  <a:pt x="42" y="45"/>
                </a:moveTo>
                <a:cubicBezTo>
                  <a:pt x="41" y="45"/>
                  <a:pt x="40" y="44"/>
                  <a:pt x="39" y="44"/>
                </a:cubicBezTo>
                <a:cubicBezTo>
                  <a:pt x="30" y="35"/>
                  <a:pt x="30" y="35"/>
                  <a:pt x="30" y="35"/>
                </a:cubicBezTo>
                <a:cubicBezTo>
                  <a:pt x="27" y="37"/>
                  <a:pt x="23" y="38"/>
                  <a:pt x="19" y="38"/>
                </a:cubicBezTo>
                <a:cubicBezTo>
                  <a:pt x="9" y="38"/>
                  <a:pt x="0" y="30"/>
                  <a:pt x="0" y="19"/>
                </a:cubicBezTo>
                <a:cubicBezTo>
                  <a:pt x="0" y="9"/>
                  <a:pt x="9" y="0"/>
                  <a:pt x="19" y="0"/>
                </a:cubicBezTo>
                <a:cubicBezTo>
                  <a:pt x="30" y="0"/>
                  <a:pt x="38" y="9"/>
                  <a:pt x="38" y="19"/>
                </a:cubicBezTo>
                <a:cubicBezTo>
                  <a:pt x="38" y="23"/>
                  <a:pt x="37" y="27"/>
                  <a:pt x="35" y="30"/>
                </a:cubicBezTo>
                <a:cubicBezTo>
                  <a:pt x="44" y="39"/>
                  <a:pt x="44" y="39"/>
                  <a:pt x="44" y="39"/>
                </a:cubicBezTo>
                <a:cubicBezTo>
                  <a:pt x="45" y="40"/>
                  <a:pt x="45" y="41"/>
                  <a:pt x="45" y="41"/>
                </a:cubicBezTo>
                <a:cubicBezTo>
                  <a:pt x="45" y="43"/>
                  <a:pt x="43" y="45"/>
                  <a:pt x="42" y="45"/>
                </a:cubicBezTo>
                <a:close/>
                <a:moveTo>
                  <a:pt x="19" y="7"/>
                </a:moveTo>
                <a:cubicBezTo>
                  <a:pt x="13" y="7"/>
                  <a:pt x="7" y="13"/>
                  <a:pt x="7" y="19"/>
                </a:cubicBezTo>
                <a:cubicBezTo>
                  <a:pt x="7" y="26"/>
                  <a:pt x="13" y="31"/>
                  <a:pt x="19" y="31"/>
                </a:cubicBezTo>
                <a:cubicBezTo>
                  <a:pt x="26" y="31"/>
                  <a:pt x="31" y="26"/>
                  <a:pt x="31" y="19"/>
                </a:cubicBezTo>
                <a:cubicBezTo>
                  <a:pt x="31" y="13"/>
                  <a:pt x="26" y="7"/>
                  <a:pt x="19" y="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00" name="稻壳儿小白白(http://dwz.cn/Wu2UP)"/>
          <p:cNvSpPr/>
          <p:nvPr/>
        </p:nvSpPr>
        <p:spPr>
          <a:xfrm>
            <a:off x="7081920" y="4425840"/>
            <a:ext cx="311040" cy="304920"/>
          </a:xfrm>
          <a:custGeom>
            <a:avLst/>
            <a:gdLst/>
            <a:ahLst/>
            <a:rect l="l" t="t" r="r" b="b"/>
            <a:pathLst>
              <a:path w="45" h="44">
                <a:moveTo>
                  <a:pt x="42" y="44"/>
                </a:moveTo>
                <a:cubicBezTo>
                  <a:pt x="41" y="44"/>
                  <a:pt x="40" y="44"/>
                  <a:pt x="39" y="43"/>
                </a:cubicBezTo>
                <a:cubicBezTo>
                  <a:pt x="30" y="34"/>
                  <a:pt x="30" y="34"/>
                  <a:pt x="30" y="34"/>
                </a:cubicBezTo>
                <a:cubicBezTo>
                  <a:pt x="27" y="36"/>
                  <a:pt x="23" y="38"/>
                  <a:pt x="19" y="38"/>
                </a:cubicBezTo>
                <a:cubicBezTo>
                  <a:pt x="9" y="38"/>
                  <a:pt x="0" y="29"/>
                  <a:pt x="0" y="19"/>
                </a:cubicBezTo>
                <a:cubicBezTo>
                  <a:pt x="0" y="8"/>
                  <a:pt x="9" y="0"/>
                  <a:pt x="19" y="0"/>
                </a:cubicBezTo>
                <a:cubicBezTo>
                  <a:pt x="30" y="0"/>
                  <a:pt x="38" y="8"/>
                  <a:pt x="38" y="19"/>
                </a:cubicBezTo>
                <a:cubicBezTo>
                  <a:pt x="38" y="23"/>
                  <a:pt x="37" y="26"/>
                  <a:pt x="35" y="29"/>
                </a:cubicBezTo>
                <a:cubicBezTo>
                  <a:pt x="44" y="39"/>
                  <a:pt x="44" y="39"/>
                  <a:pt x="44" y="39"/>
                </a:cubicBezTo>
                <a:cubicBezTo>
                  <a:pt x="45" y="39"/>
                  <a:pt x="45" y="40"/>
                  <a:pt x="45" y="41"/>
                </a:cubicBezTo>
                <a:cubicBezTo>
                  <a:pt x="45" y="43"/>
                  <a:pt x="44" y="44"/>
                  <a:pt x="42" y="44"/>
                </a:cubicBezTo>
                <a:close/>
                <a:moveTo>
                  <a:pt x="19" y="7"/>
                </a:moveTo>
                <a:cubicBezTo>
                  <a:pt x="13" y="7"/>
                  <a:pt x="7" y="12"/>
                  <a:pt x="7" y="19"/>
                </a:cubicBezTo>
                <a:cubicBezTo>
                  <a:pt x="7" y="25"/>
                  <a:pt x="13" y="31"/>
                  <a:pt x="19" y="31"/>
                </a:cubicBezTo>
                <a:cubicBezTo>
                  <a:pt x="26" y="31"/>
                  <a:pt x="31" y="25"/>
                  <a:pt x="31" y="19"/>
                </a:cubicBezTo>
                <a:cubicBezTo>
                  <a:pt x="31" y="12"/>
                  <a:pt x="26" y="7"/>
                  <a:pt x="19" y="7"/>
                </a:cubicBezTo>
                <a:close/>
                <a:moveTo>
                  <a:pt x="28" y="20"/>
                </a:moveTo>
                <a:cubicBezTo>
                  <a:pt x="28" y="20"/>
                  <a:pt x="27" y="20"/>
                  <a:pt x="27" y="20"/>
                </a:cubicBezTo>
                <a:cubicBezTo>
                  <a:pt x="12" y="20"/>
                  <a:pt x="12" y="20"/>
                  <a:pt x="12" y="20"/>
                </a:cubicBezTo>
                <a:cubicBezTo>
                  <a:pt x="11" y="20"/>
                  <a:pt x="11" y="20"/>
                  <a:pt x="11" y="20"/>
                </a:cubicBezTo>
                <a:cubicBezTo>
                  <a:pt x="11" y="18"/>
                  <a:pt x="11" y="18"/>
                  <a:pt x="11" y="18"/>
                </a:cubicBezTo>
                <a:cubicBezTo>
                  <a:pt x="11" y="17"/>
                  <a:pt x="11" y="17"/>
                  <a:pt x="12" y="17"/>
                </a:cubicBezTo>
                <a:cubicBezTo>
                  <a:pt x="27" y="17"/>
                  <a:pt x="27" y="17"/>
                  <a:pt x="27" y="17"/>
                </a:cubicBezTo>
                <a:cubicBezTo>
                  <a:pt x="27" y="17"/>
                  <a:pt x="28" y="17"/>
                  <a:pt x="28" y="18"/>
                </a:cubicBezTo>
                <a:lnTo>
                  <a:pt x="28" y="2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01" name="稻壳儿小白白(http://dwz.cn/Wu2UP)"/>
          <p:cNvSpPr/>
          <p:nvPr/>
        </p:nvSpPr>
        <p:spPr>
          <a:xfrm>
            <a:off x="7081920" y="4930920"/>
            <a:ext cx="311040" cy="309240"/>
          </a:xfrm>
          <a:custGeom>
            <a:avLst/>
            <a:gdLst/>
            <a:ahLst/>
            <a:rect l="l" t="t" r="r" b="b"/>
            <a:pathLst>
              <a:path w="45" h="45">
                <a:moveTo>
                  <a:pt x="42" y="45"/>
                </a:moveTo>
                <a:cubicBezTo>
                  <a:pt x="41" y="45"/>
                  <a:pt x="40" y="45"/>
                  <a:pt x="39" y="44"/>
                </a:cubicBezTo>
                <a:cubicBezTo>
                  <a:pt x="30" y="35"/>
                  <a:pt x="30" y="35"/>
                  <a:pt x="30" y="35"/>
                </a:cubicBezTo>
                <a:cubicBezTo>
                  <a:pt x="27" y="37"/>
                  <a:pt x="23" y="38"/>
                  <a:pt x="19" y="38"/>
                </a:cubicBezTo>
                <a:cubicBezTo>
                  <a:pt x="9" y="38"/>
                  <a:pt x="0" y="30"/>
                  <a:pt x="0" y="19"/>
                </a:cubicBezTo>
                <a:cubicBezTo>
                  <a:pt x="0" y="9"/>
                  <a:pt x="9" y="0"/>
                  <a:pt x="19" y="0"/>
                </a:cubicBezTo>
                <a:cubicBezTo>
                  <a:pt x="30" y="0"/>
                  <a:pt x="38" y="9"/>
                  <a:pt x="38" y="19"/>
                </a:cubicBezTo>
                <a:cubicBezTo>
                  <a:pt x="38" y="23"/>
                  <a:pt x="37" y="27"/>
                  <a:pt x="35" y="30"/>
                </a:cubicBezTo>
                <a:cubicBezTo>
                  <a:pt x="44" y="39"/>
                  <a:pt x="44" y="39"/>
                  <a:pt x="44" y="39"/>
                </a:cubicBezTo>
                <a:cubicBezTo>
                  <a:pt x="45" y="40"/>
                  <a:pt x="45" y="41"/>
                  <a:pt x="45" y="42"/>
                </a:cubicBezTo>
                <a:cubicBezTo>
                  <a:pt x="45" y="44"/>
                  <a:pt x="44" y="45"/>
                  <a:pt x="42" y="45"/>
                </a:cubicBezTo>
                <a:close/>
                <a:moveTo>
                  <a:pt x="19" y="7"/>
                </a:moveTo>
                <a:cubicBezTo>
                  <a:pt x="13" y="7"/>
                  <a:pt x="7" y="13"/>
                  <a:pt x="7" y="19"/>
                </a:cubicBezTo>
                <a:cubicBezTo>
                  <a:pt x="7" y="26"/>
                  <a:pt x="13" y="31"/>
                  <a:pt x="19" y="31"/>
                </a:cubicBezTo>
                <a:cubicBezTo>
                  <a:pt x="26" y="31"/>
                  <a:pt x="31" y="26"/>
                  <a:pt x="31" y="19"/>
                </a:cubicBezTo>
                <a:cubicBezTo>
                  <a:pt x="31" y="13"/>
                  <a:pt x="26" y="7"/>
                  <a:pt x="19" y="7"/>
                </a:cubicBezTo>
                <a:close/>
                <a:moveTo>
                  <a:pt x="28" y="20"/>
                </a:moveTo>
                <a:cubicBezTo>
                  <a:pt x="28" y="21"/>
                  <a:pt x="27" y="21"/>
                  <a:pt x="27" y="21"/>
                </a:cubicBezTo>
                <a:cubicBezTo>
                  <a:pt x="21" y="21"/>
                  <a:pt x="21" y="21"/>
                  <a:pt x="21" y="21"/>
                </a:cubicBezTo>
                <a:cubicBezTo>
                  <a:pt x="21" y="27"/>
                  <a:pt x="21" y="27"/>
                  <a:pt x="21" y="27"/>
                </a:cubicBezTo>
                <a:cubicBezTo>
                  <a:pt x="21" y="28"/>
                  <a:pt x="21" y="28"/>
                  <a:pt x="20" y="28"/>
                </a:cubicBezTo>
                <a:cubicBezTo>
                  <a:pt x="18" y="28"/>
                  <a:pt x="18" y="28"/>
                  <a:pt x="18" y="28"/>
                </a:cubicBezTo>
                <a:cubicBezTo>
                  <a:pt x="18" y="28"/>
                  <a:pt x="18" y="28"/>
                  <a:pt x="18" y="27"/>
                </a:cubicBezTo>
                <a:cubicBezTo>
                  <a:pt x="18" y="21"/>
                  <a:pt x="18" y="21"/>
                  <a:pt x="18" y="21"/>
                </a:cubicBezTo>
                <a:cubicBezTo>
                  <a:pt x="12" y="21"/>
                  <a:pt x="12" y="21"/>
                  <a:pt x="12" y="21"/>
                </a:cubicBezTo>
                <a:cubicBezTo>
                  <a:pt x="11" y="21"/>
                  <a:pt x="11" y="21"/>
                  <a:pt x="11" y="20"/>
                </a:cubicBezTo>
                <a:cubicBezTo>
                  <a:pt x="11" y="18"/>
                  <a:pt x="11" y="18"/>
                  <a:pt x="11" y="18"/>
                </a:cubicBezTo>
                <a:cubicBezTo>
                  <a:pt x="11" y="18"/>
                  <a:pt x="11" y="18"/>
                  <a:pt x="12" y="18"/>
                </a:cubicBezTo>
                <a:cubicBezTo>
                  <a:pt x="18" y="18"/>
                  <a:pt x="18" y="18"/>
                  <a:pt x="18" y="18"/>
                </a:cubicBezTo>
                <a:cubicBezTo>
                  <a:pt x="18" y="12"/>
                  <a:pt x="18" y="12"/>
                  <a:pt x="18" y="12"/>
                </a:cubicBezTo>
                <a:cubicBezTo>
                  <a:pt x="18" y="11"/>
                  <a:pt x="18" y="11"/>
                  <a:pt x="18" y="11"/>
                </a:cubicBezTo>
                <a:cubicBezTo>
                  <a:pt x="20" y="11"/>
                  <a:pt x="20" y="11"/>
                  <a:pt x="20" y="11"/>
                </a:cubicBezTo>
                <a:cubicBezTo>
                  <a:pt x="21" y="11"/>
                  <a:pt x="21" y="11"/>
                  <a:pt x="21" y="12"/>
                </a:cubicBezTo>
                <a:cubicBezTo>
                  <a:pt x="21" y="18"/>
                  <a:pt x="21" y="18"/>
                  <a:pt x="21" y="18"/>
                </a:cubicBezTo>
                <a:cubicBezTo>
                  <a:pt x="27" y="18"/>
                  <a:pt x="27" y="18"/>
                  <a:pt x="27" y="18"/>
                </a:cubicBezTo>
                <a:cubicBezTo>
                  <a:pt x="27" y="18"/>
                  <a:pt x="28" y="18"/>
                  <a:pt x="28" y="18"/>
                </a:cubicBezTo>
                <a:lnTo>
                  <a:pt x="28" y="2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02" name="稻壳儿小白白(http://dwz.cn/Wu2UP)"/>
          <p:cNvSpPr/>
          <p:nvPr/>
        </p:nvSpPr>
        <p:spPr>
          <a:xfrm>
            <a:off x="7077240" y="5421240"/>
            <a:ext cx="330120" cy="333360"/>
          </a:xfrm>
          <a:custGeom>
            <a:avLst/>
            <a:gdLst/>
            <a:ahLst/>
            <a:rect l="l" t="t" r="r" b="b"/>
            <a:pathLst>
              <a:path w="48" h="48">
                <a:moveTo>
                  <a:pt x="48" y="2"/>
                </a:moveTo>
                <a:cubicBezTo>
                  <a:pt x="41" y="43"/>
                  <a:pt x="41" y="43"/>
                  <a:pt x="41" y="43"/>
                </a:cubicBezTo>
                <a:cubicBezTo>
                  <a:pt x="41" y="43"/>
                  <a:pt x="40" y="44"/>
                  <a:pt x="40" y="44"/>
                </a:cubicBezTo>
                <a:cubicBezTo>
                  <a:pt x="40" y="44"/>
                  <a:pt x="39" y="44"/>
                  <a:pt x="39" y="44"/>
                </a:cubicBezTo>
                <a:cubicBezTo>
                  <a:pt x="39" y="44"/>
                  <a:pt x="39" y="44"/>
                  <a:pt x="39" y="44"/>
                </a:cubicBezTo>
                <a:cubicBezTo>
                  <a:pt x="26" y="39"/>
                  <a:pt x="26" y="39"/>
                  <a:pt x="26" y="39"/>
                </a:cubicBezTo>
                <a:cubicBezTo>
                  <a:pt x="20" y="47"/>
                  <a:pt x="20" y="47"/>
                  <a:pt x="20" y="47"/>
                </a:cubicBezTo>
                <a:cubicBezTo>
                  <a:pt x="20" y="47"/>
                  <a:pt x="19" y="48"/>
                  <a:pt x="19" y="48"/>
                </a:cubicBezTo>
                <a:cubicBezTo>
                  <a:pt x="18" y="48"/>
                  <a:pt x="18" y="48"/>
                  <a:pt x="18" y="48"/>
                </a:cubicBezTo>
                <a:cubicBezTo>
                  <a:pt x="17" y="47"/>
                  <a:pt x="17" y="47"/>
                  <a:pt x="17" y="46"/>
                </a:cubicBezTo>
                <a:cubicBezTo>
                  <a:pt x="17" y="37"/>
                  <a:pt x="17" y="37"/>
                  <a:pt x="17" y="37"/>
                </a:cubicBezTo>
                <a:cubicBezTo>
                  <a:pt x="40" y="8"/>
                  <a:pt x="40" y="8"/>
                  <a:pt x="40" y="8"/>
                </a:cubicBezTo>
                <a:cubicBezTo>
                  <a:pt x="11" y="33"/>
                  <a:pt x="11" y="33"/>
                  <a:pt x="11" y="33"/>
                </a:cubicBezTo>
                <a:cubicBezTo>
                  <a:pt x="1" y="29"/>
                  <a:pt x="1" y="29"/>
                  <a:pt x="1" y="29"/>
                </a:cubicBezTo>
                <a:cubicBezTo>
                  <a:pt x="0" y="28"/>
                  <a:pt x="0" y="28"/>
                  <a:pt x="0" y="27"/>
                </a:cubicBezTo>
                <a:cubicBezTo>
                  <a:pt x="0" y="27"/>
                  <a:pt x="0" y="26"/>
                  <a:pt x="1" y="26"/>
                </a:cubicBezTo>
                <a:cubicBezTo>
                  <a:pt x="45" y="0"/>
                  <a:pt x="45" y="0"/>
                  <a:pt x="45" y="0"/>
                </a:cubicBezTo>
                <a:cubicBezTo>
                  <a:pt x="45" y="0"/>
                  <a:pt x="46" y="0"/>
                  <a:pt x="46" y="0"/>
                </a:cubicBezTo>
                <a:cubicBezTo>
                  <a:pt x="46" y="0"/>
                  <a:pt x="47" y="0"/>
                  <a:pt x="47" y="0"/>
                </a:cubicBezTo>
                <a:cubicBezTo>
                  <a:pt x="48" y="0"/>
                  <a:pt x="48" y="1"/>
                  <a:pt x="48" y="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03" name="稻壳儿小白白(http://dwz.cn/Wu2UP)"/>
          <p:cNvSpPr/>
          <p:nvPr/>
        </p:nvSpPr>
        <p:spPr>
          <a:xfrm>
            <a:off x="7947000" y="884160"/>
            <a:ext cx="290520" cy="236520"/>
          </a:xfrm>
          <a:custGeom>
            <a:avLst/>
            <a:gdLst/>
            <a:ahLst/>
            <a:rect l="l" t="t" r="r" b="b"/>
            <a:pathLst>
              <a:path w="42" h="34">
                <a:moveTo>
                  <a:pt x="16" y="34"/>
                </a:moveTo>
                <a:cubicBezTo>
                  <a:pt x="8" y="34"/>
                  <a:pt x="8" y="34"/>
                  <a:pt x="8" y="34"/>
                </a:cubicBezTo>
                <a:cubicBezTo>
                  <a:pt x="3" y="34"/>
                  <a:pt x="0" y="31"/>
                  <a:pt x="0" y="27"/>
                </a:cubicBezTo>
                <a:cubicBezTo>
                  <a:pt x="0" y="8"/>
                  <a:pt x="0" y="8"/>
                  <a:pt x="0" y="8"/>
                </a:cubicBezTo>
                <a:cubicBezTo>
                  <a:pt x="0" y="4"/>
                  <a:pt x="3" y="0"/>
                  <a:pt x="8" y="0"/>
                </a:cubicBezTo>
                <a:cubicBezTo>
                  <a:pt x="16" y="0"/>
                  <a:pt x="16" y="0"/>
                  <a:pt x="16" y="0"/>
                </a:cubicBezTo>
                <a:cubicBezTo>
                  <a:pt x="17" y="0"/>
                  <a:pt x="17" y="1"/>
                  <a:pt x="17" y="1"/>
                </a:cubicBezTo>
                <a:cubicBezTo>
                  <a:pt x="17" y="2"/>
                  <a:pt x="18" y="4"/>
                  <a:pt x="16" y="4"/>
                </a:cubicBezTo>
                <a:cubicBezTo>
                  <a:pt x="8" y="4"/>
                  <a:pt x="8" y="4"/>
                  <a:pt x="8" y="4"/>
                </a:cubicBezTo>
                <a:cubicBezTo>
                  <a:pt x="5" y="4"/>
                  <a:pt x="3" y="5"/>
                  <a:pt x="3" y="8"/>
                </a:cubicBezTo>
                <a:cubicBezTo>
                  <a:pt x="3" y="27"/>
                  <a:pt x="3" y="27"/>
                  <a:pt x="3" y="27"/>
                </a:cubicBezTo>
                <a:cubicBezTo>
                  <a:pt x="3" y="29"/>
                  <a:pt x="5" y="31"/>
                  <a:pt x="8" y="31"/>
                </a:cubicBezTo>
                <a:cubicBezTo>
                  <a:pt x="15" y="31"/>
                  <a:pt x="15" y="31"/>
                  <a:pt x="15" y="31"/>
                </a:cubicBezTo>
                <a:cubicBezTo>
                  <a:pt x="16" y="31"/>
                  <a:pt x="17" y="31"/>
                  <a:pt x="17" y="32"/>
                </a:cubicBezTo>
                <a:cubicBezTo>
                  <a:pt x="17" y="33"/>
                  <a:pt x="18" y="34"/>
                  <a:pt x="16" y="34"/>
                </a:cubicBezTo>
                <a:close/>
                <a:moveTo>
                  <a:pt x="42" y="18"/>
                </a:moveTo>
                <a:cubicBezTo>
                  <a:pt x="27" y="33"/>
                  <a:pt x="27" y="33"/>
                  <a:pt x="27" y="33"/>
                </a:cubicBezTo>
                <a:cubicBezTo>
                  <a:pt x="27" y="33"/>
                  <a:pt x="26" y="34"/>
                  <a:pt x="26" y="34"/>
                </a:cubicBezTo>
                <a:cubicBezTo>
                  <a:pt x="25" y="34"/>
                  <a:pt x="24" y="33"/>
                  <a:pt x="24" y="32"/>
                </a:cubicBezTo>
                <a:cubicBezTo>
                  <a:pt x="24" y="24"/>
                  <a:pt x="24" y="24"/>
                  <a:pt x="24" y="24"/>
                </a:cubicBezTo>
                <a:cubicBezTo>
                  <a:pt x="12" y="24"/>
                  <a:pt x="12" y="24"/>
                  <a:pt x="12" y="24"/>
                </a:cubicBezTo>
                <a:cubicBezTo>
                  <a:pt x="11" y="24"/>
                  <a:pt x="10" y="23"/>
                  <a:pt x="10" y="22"/>
                </a:cubicBezTo>
                <a:cubicBezTo>
                  <a:pt x="10" y="12"/>
                  <a:pt x="10" y="12"/>
                  <a:pt x="10" y="12"/>
                </a:cubicBezTo>
                <a:cubicBezTo>
                  <a:pt x="10" y="11"/>
                  <a:pt x="11" y="10"/>
                  <a:pt x="12" y="10"/>
                </a:cubicBezTo>
                <a:cubicBezTo>
                  <a:pt x="24" y="10"/>
                  <a:pt x="24" y="10"/>
                  <a:pt x="24" y="10"/>
                </a:cubicBezTo>
                <a:cubicBezTo>
                  <a:pt x="24" y="3"/>
                  <a:pt x="24" y="3"/>
                  <a:pt x="24" y="3"/>
                </a:cubicBezTo>
                <a:cubicBezTo>
                  <a:pt x="24" y="2"/>
                  <a:pt x="25" y="1"/>
                  <a:pt x="26" y="1"/>
                </a:cubicBezTo>
                <a:cubicBezTo>
                  <a:pt x="26" y="1"/>
                  <a:pt x="27" y="1"/>
                  <a:pt x="27" y="1"/>
                </a:cubicBezTo>
                <a:cubicBezTo>
                  <a:pt x="42" y="16"/>
                  <a:pt x="42" y="16"/>
                  <a:pt x="42" y="16"/>
                </a:cubicBezTo>
                <a:cubicBezTo>
                  <a:pt x="42" y="16"/>
                  <a:pt x="42" y="17"/>
                  <a:pt x="42" y="17"/>
                </a:cubicBezTo>
                <a:cubicBezTo>
                  <a:pt x="42" y="18"/>
                  <a:pt x="42" y="18"/>
                  <a:pt x="42" y="1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04" name="稻壳儿小白白(http://dwz.cn/Wu2UP)"/>
          <p:cNvSpPr/>
          <p:nvPr/>
        </p:nvSpPr>
        <p:spPr>
          <a:xfrm>
            <a:off x="7932600" y="1368360"/>
            <a:ext cx="330480" cy="282600"/>
          </a:xfrm>
          <a:custGeom>
            <a:avLst/>
            <a:gdLst/>
            <a:ahLst/>
            <a:rect l="l" t="t" r="r" b="b"/>
            <a:pathLst>
              <a:path w="48" h="41">
                <a:moveTo>
                  <a:pt x="7" y="41"/>
                </a:moveTo>
                <a:cubicBezTo>
                  <a:pt x="7" y="41"/>
                  <a:pt x="7" y="41"/>
                  <a:pt x="6" y="41"/>
                </a:cubicBezTo>
                <a:cubicBezTo>
                  <a:pt x="1" y="41"/>
                  <a:pt x="1" y="41"/>
                  <a:pt x="1" y="41"/>
                </a:cubicBezTo>
                <a:cubicBezTo>
                  <a:pt x="1" y="41"/>
                  <a:pt x="0" y="41"/>
                  <a:pt x="0" y="41"/>
                </a:cubicBezTo>
                <a:cubicBezTo>
                  <a:pt x="0" y="35"/>
                  <a:pt x="0" y="35"/>
                  <a:pt x="0" y="35"/>
                </a:cubicBezTo>
                <a:cubicBezTo>
                  <a:pt x="0" y="35"/>
                  <a:pt x="1" y="35"/>
                  <a:pt x="1" y="35"/>
                </a:cubicBezTo>
                <a:cubicBezTo>
                  <a:pt x="6" y="35"/>
                  <a:pt x="6" y="35"/>
                  <a:pt x="6" y="35"/>
                </a:cubicBezTo>
                <a:cubicBezTo>
                  <a:pt x="7" y="35"/>
                  <a:pt x="7" y="35"/>
                  <a:pt x="7" y="35"/>
                </a:cubicBezTo>
                <a:lnTo>
                  <a:pt x="7" y="41"/>
                </a:lnTo>
                <a:close/>
                <a:moveTo>
                  <a:pt x="17" y="41"/>
                </a:moveTo>
                <a:cubicBezTo>
                  <a:pt x="17" y="41"/>
                  <a:pt x="17" y="41"/>
                  <a:pt x="17" y="41"/>
                </a:cubicBezTo>
                <a:cubicBezTo>
                  <a:pt x="11" y="41"/>
                  <a:pt x="11" y="41"/>
                  <a:pt x="11" y="41"/>
                </a:cubicBezTo>
                <a:cubicBezTo>
                  <a:pt x="11" y="41"/>
                  <a:pt x="11" y="41"/>
                  <a:pt x="11" y="41"/>
                </a:cubicBezTo>
                <a:cubicBezTo>
                  <a:pt x="11" y="32"/>
                  <a:pt x="11" y="32"/>
                  <a:pt x="11" y="32"/>
                </a:cubicBezTo>
                <a:cubicBezTo>
                  <a:pt x="11" y="32"/>
                  <a:pt x="11" y="31"/>
                  <a:pt x="11" y="31"/>
                </a:cubicBezTo>
                <a:cubicBezTo>
                  <a:pt x="17" y="31"/>
                  <a:pt x="17" y="31"/>
                  <a:pt x="17" y="31"/>
                </a:cubicBezTo>
                <a:cubicBezTo>
                  <a:pt x="17" y="31"/>
                  <a:pt x="17" y="32"/>
                  <a:pt x="17" y="32"/>
                </a:cubicBezTo>
                <a:lnTo>
                  <a:pt x="17" y="41"/>
                </a:lnTo>
                <a:close/>
                <a:moveTo>
                  <a:pt x="28" y="41"/>
                </a:moveTo>
                <a:cubicBezTo>
                  <a:pt x="28" y="41"/>
                  <a:pt x="27" y="41"/>
                  <a:pt x="27" y="41"/>
                </a:cubicBezTo>
                <a:cubicBezTo>
                  <a:pt x="22" y="41"/>
                  <a:pt x="22" y="41"/>
                  <a:pt x="22" y="41"/>
                </a:cubicBezTo>
                <a:cubicBezTo>
                  <a:pt x="21" y="41"/>
                  <a:pt x="21" y="41"/>
                  <a:pt x="21" y="41"/>
                </a:cubicBezTo>
                <a:cubicBezTo>
                  <a:pt x="21" y="25"/>
                  <a:pt x="21" y="25"/>
                  <a:pt x="21" y="25"/>
                </a:cubicBezTo>
                <a:cubicBezTo>
                  <a:pt x="21" y="25"/>
                  <a:pt x="21" y="24"/>
                  <a:pt x="22" y="24"/>
                </a:cubicBezTo>
                <a:cubicBezTo>
                  <a:pt x="27" y="24"/>
                  <a:pt x="27" y="24"/>
                  <a:pt x="27" y="24"/>
                </a:cubicBezTo>
                <a:cubicBezTo>
                  <a:pt x="27" y="24"/>
                  <a:pt x="28" y="25"/>
                  <a:pt x="28" y="25"/>
                </a:cubicBezTo>
                <a:lnTo>
                  <a:pt x="28" y="41"/>
                </a:lnTo>
                <a:close/>
                <a:moveTo>
                  <a:pt x="38" y="41"/>
                </a:moveTo>
                <a:cubicBezTo>
                  <a:pt x="38" y="41"/>
                  <a:pt x="38" y="41"/>
                  <a:pt x="37" y="41"/>
                </a:cubicBezTo>
                <a:cubicBezTo>
                  <a:pt x="32" y="41"/>
                  <a:pt x="32" y="41"/>
                  <a:pt x="32" y="41"/>
                </a:cubicBezTo>
                <a:cubicBezTo>
                  <a:pt x="32" y="41"/>
                  <a:pt x="31" y="41"/>
                  <a:pt x="31" y="41"/>
                </a:cubicBezTo>
                <a:cubicBezTo>
                  <a:pt x="31" y="15"/>
                  <a:pt x="31" y="15"/>
                  <a:pt x="31" y="15"/>
                </a:cubicBezTo>
                <a:cubicBezTo>
                  <a:pt x="31" y="14"/>
                  <a:pt x="32" y="14"/>
                  <a:pt x="32" y="14"/>
                </a:cubicBezTo>
                <a:cubicBezTo>
                  <a:pt x="37" y="14"/>
                  <a:pt x="37" y="14"/>
                  <a:pt x="37" y="14"/>
                </a:cubicBezTo>
                <a:cubicBezTo>
                  <a:pt x="38" y="14"/>
                  <a:pt x="38" y="14"/>
                  <a:pt x="38" y="15"/>
                </a:cubicBezTo>
                <a:lnTo>
                  <a:pt x="38" y="41"/>
                </a:lnTo>
                <a:close/>
                <a:moveTo>
                  <a:pt x="48" y="41"/>
                </a:moveTo>
                <a:cubicBezTo>
                  <a:pt x="48" y="41"/>
                  <a:pt x="48" y="41"/>
                  <a:pt x="47" y="41"/>
                </a:cubicBezTo>
                <a:cubicBezTo>
                  <a:pt x="42" y="41"/>
                  <a:pt x="42" y="41"/>
                  <a:pt x="42" y="41"/>
                </a:cubicBezTo>
                <a:cubicBezTo>
                  <a:pt x="42" y="41"/>
                  <a:pt x="41" y="41"/>
                  <a:pt x="41" y="41"/>
                </a:cubicBezTo>
                <a:cubicBezTo>
                  <a:pt x="41" y="1"/>
                  <a:pt x="41" y="1"/>
                  <a:pt x="41" y="1"/>
                </a:cubicBezTo>
                <a:cubicBezTo>
                  <a:pt x="41" y="1"/>
                  <a:pt x="42" y="0"/>
                  <a:pt x="42" y="0"/>
                </a:cubicBezTo>
                <a:cubicBezTo>
                  <a:pt x="47" y="0"/>
                  <a:pt x="47" y="0"/>
                  <a:pt x="47" y="0"/>
                </a:cubicBezTo>
                <a:cubicBezTo>
                  <a:pt x="48" y="0"/>
                  <a:pt x="48" y="1"/>
                  <a:pt x="48" y="1"/>
                </a:cubicBezTo>
                <a:lnTo>
                  <a:pt x="48" y="4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05" name="稻壳儿小白白(http://dwz.cn/Wu2UP)"/>
          <p:cNvSpPr/>
          <p:nvPr/>
        </p:nvSpPr>
        <p:spPr>
          <a:xfrm>
            <a:off x="7932600" y="1881360"/>
            <a:ext cx="330480" cy="284040"/>
          </a:xfrm>
          <a:custGeom>
            <a:avLst/>
            <a:gdLst/>
            <a:ahLst/>
            <a:rect l="l" t="t" r="r" b="b"/>
            <a:pathLst>
              <a:path w="48" h="41">
                <a:moveTo>
                  <a:pt x="48" y="38"/>
                </a:moveTo>
                <a:cubicBezTo>
                  <a:pt x="48" y="40"/>
                  <a:pt x="47" y="41"/>
                  <a:pt x="46" y="41"/>
                </a:cubicBezTo>
                <a:cubicBezTo>
                  <a:pt x="37" y="41"/>
                  <a:pt x="37" y="41"/>
                  <a:pt x="37" y="41"/>
                </a:cubicBezTo>
                <a:cubicBezTo>
                  <a:pt x="36" y="41"/>
                  <a:pt x="35" y="40"/>
                  <a:pt x="35" y="38"/>
                </a:cubicBezTo>
                <a:cubicBezTo>
                  <a:pt x="35" y="30"/>
                  <a:pt x="35" y="30"/>
                  <a:pt x="35" y="30"/>
                </a:cubicBezTo>
                <a:cubicBezTo>
                  <a:pt x="35" y="28"/>
                  <a:pt x="36" y="27"/>
                  <a:pt x="37" y="27"/>
                </a:cubicBezTo>
                <a:cubicBezTo>
                  <a:pt x="40" y="27"/>
                  <a:pt x="40" y="27"/>
                  <a:pt x="40" y="27"/>
                </a:cubicBezTo>
                <a:cubicBezTo>
                  <a:pt x="40" y="22"/>
                  <a:pt x="40" y="22"/>
                  <a:pt x="40" y="22"/>
                </a:cubicBezTo>
                <a:cubicBezTo>
                  <a:pt x="26" y="22"/>
                  <a:pt x="26" y="22"/>
                  <a:pt x="26" y="22"/>
                </a:cubicBezTo>
                <a:cubicBezTo>
                  <a:pt x="26" y="27"/>
                  <a:pt x="26" y="27"/>
                  <a:pt x="26" y="27"/>
                </a:cubicBezTo>
                <a:cubicBezTo>
                  <a:pt x="29" y="27"/>
                  <a:pt x="29" y="27"/>
                  <a:pt x="29" y="27"/>
                </a:cubicBezTo>
                <a:cubicBezTo>
                  <a:pt x="30" y="27"/>
                  <a:pt x="31" y="28"/>
                  <a:pt x="31" y="30"/>
                </a:cubicBezTo>
                <a:cubicBezTo>
                  <a:pt x="31" y="38"/>
                  <a:pt x="31" y="38"/>
                  <a:pt x="31" y="38"/>
                </a:cubicBezTo>
                <a:cubicBezTo>
                  <a:pt x="31" y="40"/>
                  <a:pt x="30" y="41"/>
                  <a:pt x="29" y="41"/>
                </a:cubicBezTo>
                <a:cubicBezTo>
                  <a:pt x="20" y="41"/>
                  <a:pt x="20" y="41"/>
                  <a:pt x="20" y="41"/>
                </a:cubicBezTo>
                <a:cubicBezTo>
                  <a:pt x="19" y="41"/>
                  <a:pt x="17" y="40"/>
                  <a:pt x="17" y="38"/>
                </a:cubicBezTo>
                <a:cubicBezTo>
                  <a:pt x="17" y="30"/>
                  <a:pt x="17" y="30"/>
                  <a:pt x="17" y="30"/>
                </a:cubicBezTo>
                <a:cubicBezTo>
                  <a:pt x="17" y="28"/>
                  <a:pt x="19" y="27"/>
                  <a:pt x="20" y="27"/>
                </a:cubicBezTo>
                <a:cubicBezTo>
                  <a:pt x="23" y="27"/>
                  <a:pt x="23" y="27"/>
                  <a:pt x="23" y="27"/>
                </a:cubicBezTo>
                <a:cubicBezTo>
                  <a:pt x="23" y="22"/>
                  <a:pt x="23" y="22"/>
                  <a:pt x="23" y="22"/>
                </a:cubicBezTo>
                <a:cubicBezTo>
                  <a:pt x="9" y="22"/>
                  <a:pt x="9" y="22"/>
                  <a:pt x="9" y="22"/>
                </a:cubicBezTo>
                <a:cubicBezTo>
                  <a:pt x="9" y="27"/>
                  <a:pt x="9" y="27"/>
                  <a:pt x="9" y="27"/>
                </a:cubicBezTo>
                <a:cubicBezTo>
                  <a:pt x="11" y="27"/>
                  <a:pt x="11" y="27"/>
                  <a:pt x="11" y="27"/>
                </a:cubicBezTo>
                <a:cubicBezTo>
                  <a:pt x="13" y="27"/>
                  <a:pt x="14" y="28"/>
                  <a:pt x="14" y="30"/>
                </a:cubicBezTo>
                <a:cubicBezTo>
                  <a:pt x="14" y="38"/>
                  <a:pt x="14" y="38"/>
                  <a:pt x="14" y="38"/>
                </a:cubicBezTo>
                <a:cubicBezTo>
                  <a:pt x="14" y="40"/>
                  <a:pt x="13" y="41"/>
                  <a:pt x="11" y="41"/>
                </a:cubicBezTo>
                <a:cubicBezTo>
                  <a:pt x="3" y="41"/>
                  <a:pt x="3" y="41"/>
                  <a:pt x="3" y="41"/>
                </a:cubicBezTo>
                <a:cubicBezTo>
                  <a:pt x="1" y="41"/>
                  <a:pt x="0" y="40"/>
                  <a:pt x="0" y="38"/>
                </a:cubicBezTo>
                <a:cubicBezTo>
                  <a:pt x="0" y="30"/>
                  <a:pt x="0" y="30"/>
                  <a:pt x="0" y="30"/>
                </a:cubicBezTo>
                <a:cubicBezTo>
                  <a:pt x="0" y="28"/>
                  <a:pt x="1" y="27"/>
                  <a:pt x="3" y="27"/>
                </a:cubicBezTo>
                <a:cubicBezTo>
                  <a:pt x="5" y="27"/>
                  <a:pt x="5" y="27"/>
                  <a:pt x="5" y="27"/>
                </a:cubicBezTo>
                <a:cubicBezTo>
                  <a:pt x="5" y="22"/>
                  <a:pt x="5" y="22"/>
                  <a:pt x="5" y="22"/>
                </a:cubicBezTo>
                <a:cubicBezTo>
                  <a:pt x="5" y="20"/>
                  <a:pt x="7" y="19"/>
                  <a:pt x="9" y="19"/>
                </a:cubicBezTo>
                <a:cubicBezTo>
                  <a:pt x="23" y="19"/>
                  <a:pt x="23" y="19"/>
                  <a:pt x="23" y="19"/>
                </a:cubicBezTo>
                <a:cubicBezTo>
                  <a:pt x="23" y="14"/>
                  <a:pt x="23" y="14"/>
                  <a:pt x="23" y="14"/>
                </a:cubicBezTo>
                <a:cubicBezTo>
                  <a:pt x="20" y="14"/>
                  <a:pt x="20" y="14"/>
                  <a:pt x="20" y="14"/>
                </a:cubicBezTo>
                <a:cubicBezTo>
                  <a:pt x="19" y="14"/>
                  <a:pt x="17" y="12"/>
                  <a:pt x="17" y="11"/>
                </a:cubicBezTo>
                <a:cubicBezTo>
                  <a:pt x="17" y="2"/>
                  <a:pt x="17" y="2"/>
                  <a:pt x="17" y="2"/>
                </a:cubicBezTo>
                <a:cubicBezTo>
                  <a:pt x="17" y="1"/>
                  <a:pt x="19" y="0"/>
                  <a:pt x="20" y="0"/>
                </a:cubicBezTo>
                <a:cubicBezTo>
                  <a:pt x="29" y="0"/>
                  <a:pt x="29" y="0"/>
                  <a:pt x="29" y="0"/>
                </a:cubicBezTo>
                <a:cubicBezTo>
                  <a:pt x="30" y="0"/>
                  <a:pt x="31" y="1"/>
                  <a:pt x="31" y="2"/>
                </a:cubicBezTo>
                <a:cubicBezTo>
                  <a:pt x="31" y="11"/>
                  <a:pt x="31" y="11"/>
                  <a:pt x="31" y="11"/>
                </a:cubicBezTo>
                <a:cubicBezTo>
                  <a:pt x="31" y="12"/>
                  <a:pt x="30" y="14"/>
                  <a:pt x="29" y="14"/>
                </a:cubicBezTo>
                <a:cubicBezTo>
                  <a:pt x="26" y="14"/>
                  <a:pt x="26" y="14"/>
                  <a:pt x="26" y="14"/>
                </a:cubicBezTo>
                <a:cubicBezTo>
                  <a:pt x="26" y="19"/>
                  <a:pt x="26" y="19"/>
                  <a:pt x="26" y="19"/>
                </a:cubicBezTo>
                <a:cubicBezTo>
                  <a:pt x="40" y="19"/>
                  <a:pt x="40" y="19"/>
                  <a:pt x="40" y="19"/>
                </a:cubicBezTo>
                <a:cubicBezTo>
                  <a:pt x="42" y="19"/>
                  <a:pt x="43" y="20"/>
                  <a:pt x="43" y="22"/>
                </a:cubicBezTo>
                <a:cubicBezTo>
                  <a:pt x="43" y="27"/>
                  <a:pt x="43" y="27"/>
                  <a:pt x="43" y="27"/>
                </a:cubicBezTo>
                <a:cubicBezTo>
                  <a:pt x="46" y="27"/>
                  <a:pt x="46" y="27"/>
                  <a:pt x="46" y="27"/>
                </a:cubicBezTo>
                <a:cubicBezTo>
                  <a:pt x="47" y="27"/>
                  <a:pt x="48" y="28"/>
                  <a:pt x="48" y="30"/>
                </a:cubicBezTo>
                <a:lnTo>
                  <a:pt x="48" y="3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06" name="稻壳儿小白白(http://dwz.cn/Wu2UP)"/>
          <p:cNvSpPr/>
          <p:nvPr/>
        </p:nvSpPr>
        <p:spPr>
          <a:xfrm>
            <a:off x="7959600" y="2386080"/>
            <a:ext cx="282600" cy="290520"/>
          </a:xfrm>
          <a:custGeom>
            <a:avLst/>
            <a:gdLst/>
            <a:ahLst/>
            <a:rect l="l" t="t" r="r" b="b"/>
            <a:pathLst>
              <a:path w="41" h="42">
                <a:moveTo>
                  <a:pt x="31" y="42"/>
                </a:moveTo>
                <a:cubicBezTo>
                  <a:pt x="28" y="42"/>
                  <a:pt x="26" y="41"/>
                  <a:pt x="24" y="39"/>
                </a:cubicBezTo>
                <a:cubicBezTo>
                  <a:pt x="23" y="40"/>
                  <a:pt x="22" y="40"/>
                  <a:pt x="20" y="40"/>
                </a:cubicBezTo>
                <a:cubicBezTo>
                  <a:pt x="10" y="40"/>
                  <a:pt x="1" y="31"/>
                  <a:pt x="1" y="21"/>
                </a:cubicBezTo>
                <a:cubicBezTo>
                  <a:pt x="1" y="20"/>
                  <a:pt x="2" y="18"/>
                  <a:pt x="2" y="17"/>
                </a:cubicBezTo>
                <a:cubicBezTo>
                  <a:pt x="1" y="15"/>
                  <a:pt x="0" y="13"/>
                  <a:pt x="0" y="11"/>
                </a:cubicBezTo>
                <a:cubicBezTo>
                  <a:pt x="0" y="5"/>
                  <a:pt x="4" y="0"/>
                  <a:pt x="10" y="0"/>
                </a:cubicBezTo>
                <a:cubicBezTo>
                  <a:pt x="12" y="0"/>
                  <a:pt x="15" y="1"/>
                  <a:pt x="16" y="3"/>
                </a:cubicBezTo>
                <a:cubicBezTo>
                  <a:pt x="18" y="2"/>
                  <a:pt x="19" y="2"/>
                  <a:pt x="20" y="2"/>
                </a:cubicBezTo>
                <a:cubicBezTo>
                  <a:pt x="31" y="2"/>
                  <a:pt x="39" y="11"/>
                  <a:pt x="39" y="21"/>
                </a:cubicBezTo>
                <a:cubicBezTo>
                  <a:pt x="39" y="22"/>
                  <a:pt x="39" y="24"/>
                  <a:pt x="39" y="25"/>
                </a:cubicBezTo>
                <a:cubicBezTo>
                  <a:pt x="40" y="27"/>
                  <a:pt x="41" y="29"/>
                  <a:pt x="41" y="31"/>
                </a:cubicBezTo>
                <a:cubicBezTo>
                  <a:pt x="41" y="37"/>
                  <a:pt x="36" y="42"/>
                  <a:pt x="31" y="42"/>
                </a:cubicBezTo>
                <a:close/>
                <a:moveTo>
                  <a:pt x="23" y="18"/>
                </a:moveTo>
                <a:cubicBezTo>
                  <a:pt x="20" y="18"/>
                  <a:pt x="20" y="18"/>
                  <a:pt x="20" y="18"/>
                </a:cubicBezTo>
                <a:cubicBezTo>
                  <a:pt x="18" y="17"/>
                  <a:pt x="16" y="17"/>
                  <a:pt x="16" y="15"/>
                </a:cubicBezTo>
                <a:cubicBezTo>
                  <a:pt x="16" y="14"/>
                  <a:pt x="18" y="13"/>
                  <a:pt x="20" y="13"/>
                </a:cubicBezTo>
                <a:cubicBezTo>
                  <a:pt x="25" y="13"/>
                  <a:pt x="25" y="16"/>
                  <a:pt x="27" y="16"/>
                </a:cubicBezTo>
                <a:cubicBezTo>
                  <a:pt x="29" y="16"/>
                  <a:pt x="30" y="15"/>
                  <a:pt x="30" y="13"/>
                </a:cubicBezTo>
                <a:cubicBezTo>
                  <a:pt x="30" y="10"/>
                  <a:pt x="25" y="8"/>
                  <a:pt x="20" y="8"/>
                </a:cubicBezTo>
                <a:cubicBezTo>
                  <a:pt x="15" y="8"/>
                  <a:pt x="10" y="10"/>
                  <a:pt x="10" y="16"/>
                </a:cubicBezTo>
                <a:cubicBezTo>
                  <a:pt x="10" y="20"/>
                  <a:pt x="13" y="22"/>
                  <a:pt x="17" y="23"/>
                </a:cubicBezTo>
                <a:cubicBezTo>
                  <a:pt x="21" y="24"/>
                  <a:pt x="21" y="24"/>
                  <a:pt x="21" y="24"/>
                </a:cubicBezTo>
                <a:cubicBezTo>
                  <a:pt x="23" y="24"/>
                  <a:pt x="24" y="25"/>
                  <a:pt x="24" y="26"/>
                </a:cubicBezTo>
                <a:cubicBezTo>
                  <a:pt x="24" y="28"/>
                  <a:pt x="23" y="29"/>
                  <a:pt x="21" y="29"/>
                </a:cubicBezTo>
                <a:cubicBezTo>
                  <a:pt x="16" y="29"/>
                  <a:pt x="15" y="25"/>
                  <a:pt x="13" y="25"/>
                </a:cubicBezTo>
                <a:cubicBezTo>
                  <a:pt x="11" y="25"/>
                  <a:pt x="10" y="26"/>
                  <a:pt x="10" y="28"/>
                </a:cubicBezTo>
                <a:cubicBezTo>
                  <a:pt x="10" y="31"/>
                  <a:pt x="15" y="33"/>
                  <a:pt x="21" y="33"/>
                </a:cubicBezTo>
                <a:cubicBezTo>
                  <a:pt x="26" y="33"/>
                  <a:pt x="31" y="31"/>
                  <a:pt x="31" y="26"/>
                </a:cubicBezTo>
                <a:cubicBezTo>
                  <a:pt x="31" y="21"/>
                  <a:pt x="27" y="19"/>
                  <a:pt x="23" y="1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07" name="稻壳儿小白白(http://dwz.cn/Wu2UP)"/>
          <p:cNvSpPr/>
          <p:nvPr/>
        </p:nvSpPr>
        <p:spPr>
          <a:xfrm>
            <a:off x="7947000" y="2876400"/>
            <a:ext cx="311040" cy="304920"/>
          </a:xfrm>
          <a:custGeom>
            <a:avLst/>
            <a:gdLst/>
            <a:ahLst/>
            <a:rect l="l" t="t" r="r" b="b"/>
            <a:pathLst>
              <a:path w="45" h="44">
                <a:moveTo>
                  <a:pt x="45" y="24"/>
                </a:moveTo>
                <a:cubicBezTo>
                  <a:pt x="45" y="26"/>
                  <a:pt x="44" y="27"/>
                  <a:pt x="42" y="28"/>
                </a:cubicBezTo>
                <a:cubicBezTo>
                  <a:pt x="37" y="29"/>
                  <a:pt x="37" y="29"/>
                  <a:pt x="37" y="29"/>
                </a:cubicBezTo>
                <a:cubicBezTo>
                  <a:pt x="39" y="34"/>
                  <a:pt x="39" y="34"/>
                  <a:pt x="39" y="34"/>
                </a:cubicBezTo>
                <a:cubicBezTo>
                  <a:pt x="39" y="34"/>
                  <a:pt x="39" y="35"/>
                  <a:pt x="39" y="35"/>
                </a:cubicBezTo>
                <a:cubicBezTo>
                  <a:pt x="39" y="37"/>
                  <a:pt x="37" y="39"/>
                  <a:pt x="35" y="39"/>
                </a:cubicBezTo>
                <a:cubicBezTo>
                  <a:pt x="34" y="39"/>
                  <a:pt x="32" y="38"/>
                  <a:pt x="32" y="36"/>
                </a:cubicBezTo>
                <a:cubicBezTo>
                  <a:pt x="30" y="32"/>
                  <a:pt x="30" y="32"/>
                  <a:pt x="30" y="32"/>
                </a:cubicBezTo>
                <a:cubicBezTo>
                  <a:pt x="22" y="35"/>
                  <a:pt x="22" y="35"/>
                  <a:pt x="22" y="35"/>
                </a:cubicBezTo>
                <a:cubicBezTo>
                  <a:pt x="23" y="39"/>
                  <a:pt x="23" y="39"/>
                  <a:pt x="23" y="39"/>
                </a:cubicBezTo>
                <a:cubicBezTo>
                  <a:pt x="23" y="39"/>
                  <a:pt x="24" y="40"/>
                  <a:pt x="24" y="40"/>
                </a:cubicBezTo>
                <a:cubicBezTo>
                  <a:pt x="24" y="42"/>
                  <a:pt x="22" y="44"/>
                  <a:pt x="20" y="44"/>
                </a:cubicBezTo>
                <a:cubicBezTo>
                  <a:pt x="18" y="44"/>
                  <a:pt x="17" y="43"/>
                  <a:pt x="16" y="42"/>
                </a:cubicBezTo>
                <a:cubicBezTo>
                  <a:pt x="15" y="37"/>
                  <a:pt x="15" y="37"/>
                  <a:pt x="15" y="37"/>
                </a:cubicBezTo>
                <a:cubicBezTo>
                  <a:pt x="10" y="39"/>
                  <a:pt x="10" y="39"/>
                  <a:pt x="10" y="39"/>
                </a:cubicBezTo>
                <a:cubicBezTo>
                  <a:pt x="10" y="39"/>
                  <a:pt x="10" y="39"/>
                  <a:pt x="9" y="39"/>
                </a:cubicBezTo>
                <a:cubicBezTo>
                  <a:pt x="7" y="39"/>
                  <a:pt x="5" y="37"/>
                  <a:pt x="5" y="35"/>
                </a:cubicBezTo>
                <a:cubicBezTo>
                  <a:pt x="5" y="33"/>
                  <a:pt x="6" y="32"/>
                  <a:pt x="8" y="31"/>
                </a:cubicBezTo>
                <a:cubicBezTo>
                  <a:pt x="12" y="30"/>
                  <a:pt x="12" y="30"/>
                  <a:pt x="12" y="30"/>
                </a:cubicBezTo>
                <a:cubicBezTo>
                  <a:pt x="9" y="22"/>
                  <a:pt x="9" y="22"/>
                  <a:pt x="9" y="22"/>
                </a:cubicBezTo>
                <a:cubicBezTo>
                  <a:pt x="5" y="23"/>
                  <a:pt x="5" y="23"/>
                  <a:pt x="5" y="23"/>
                </a:cubicBezTo>
                <a:cubicBezTo>
                  <a:pt x="5" y="23"/>
                  <a:pt x="4" y="23"/>
                  <a:pt x="4" y="23"/>
                </a:cubicBezTo>
                <a:cubicBezTo>
                  <a:pt x="2" y="23"/>
                  <a:pt x="0" y="22"/>
                  <a:pt x="0" y="19"/>
                </a:cubicBezTo>
                <a:cubicBezTo>
                  <a:pt x="0" y="18"/>
                  <a:pt x="1" y="16"/>
                  <a:pt x="3" y="16"/>
                </a:cubicBezTo>
                <a:cubicBezTo>
                  <a:pt x="7" y="14"/>
                  <a:pt x="7" y="14"/>
                  <a:pt x="7" y="14"/>
                </a:cubicBezTo>
                <a:cubicBezTo>
                  <a:pt x="5" y="10"/>
                  <a:pt x="5" y="10"/>
                  <a:pt x="5" y="10"/>
                </a:cubicBezTo>
                <a:cubicBezTo>
                  <a:pt x="5" y="10"/>
                  <a:pt x="5" y="9"/>
                  <a:pt x="5" y="9"/>
                </a:cubicBezTo>
                <a:cubicBezTo>
                  <a:pt x="5" y="7"/>
                  <a:pt x="7" y="5"/>
                  <a:pt x="9" y="5"/>
                </a:cubicBezTo>
                <a:cubicBezTo>
                  <a:pt x="11" y="5"/>
                  <a:pt x="12" y="6"/>
                  <a:pt x="13" y="8"/>
                </a:cubicBezTo>
                <a:cubicBezTo>
                  <a:pt x="14" y="12"/>
                  <a:pt x="14" y="12"/>
                  <a:pt x="14" y="12"/>
                </a:cubicBezTo>
                <a:cubicBezTo>
                  <a:pt x="23" y="9"/>
                  <a:pt x="23" y="9"/>
                  <a:pt x="23" y="9"/>
                </a:cubicBezTo>
                <a:cubicBezTo>
                  <a:pt x="21" y="5"/>
                  <a:pt x="21" y="5"/>
                  <a:pt x="21" y="5"/>
                </a:cubicBezTo>
                <a:cubicBezTo>
                  <a:pt x="21" y="4"/>
                  <a:pt x="21" y="4"/>
                  <a:pt x="21" y="4"/>
                </a:cubicBezTo>
                <a:cubicBezTo>
                  <a:pt x="21" y="1"/>
                  <a:pt x="23" y="0"/>
                  <a:pt x="25" y="0"/>
                </a:cubicBezTo>
                <a:cubicBezTo>
                  <a:pt x="26" y="0"/>
                  <a:pt x="28" y="1"/>
                  <a:pt x="28" y="2"/>
                </a:cubicBezTo>
                <a:cubicBezTo>
                  <a:pt x="30" y="7"/>
                  <a:pt x="30" y="7"/>
                  <a:pt x="30" y="7"/>
                </a:cubicBezTo>
                <a:cubicBezTo>
                  <a:pt x="34" y="5"/>
                  <a:pt x="34" y="5"/>
                  <a:pt x="34" y="5"/>
                </a:cubicBezTo>
                <a:cubicBezTo>
                  <a:pt x="35" y="5"/>
                  <a:pt x="35" y="5"/>
                  <a:pt x="35" y="5"/>
                </a:cubicBezTo>
                <a:cubicBezTo>
                  <a:pt x="37" y="5"/>
                  <a:pt x="39" y="7"/>
                  <a:pt x="39" y="9"/>
                </a:cubicBezTo>
                <a:cubicBezTo>
                  <a:pt x="39" y="10"/>
                  <a:pt x="38" y="12"/>
                  <a:pt x="36" y="12"/>
                </a:cubicBezTo>
                <a:cubicBezTo>
                  <a:pt x="32" y="14"/>
                  <a:pt x="32" y="14"/>
                  <a:pt x="32" y="14"/>
                </a:cubicBezTo>
                <a:cubicBezTo>
                  <a:pt x="35" y="22"/>
                  <a:pt x="35" y="22"/>
                  <a:pt x="35" y="22"/>
                </a:cubicBezTo>
                <a:cubicBezTo>
                  <a:pt x="39" y="21"/>
                  <a:pt x="39" y="21"/>
                  <a:pt x="39" y="21"/>
                </a:cubicBezTo>
                <a:cubicBezTo>
                  <a:pt x="40" y="21"/>
                  <a:pt x="40" y="20"/>
                  <a:pt x="41" y="20"/>
                </a:cubicBezTo>
                <a:cubicBezTo>
                  <a:pt x="43" y="20"/>
                  <a:pt x="45" y="22"/>
                  <a:pt x="45" y="24"/>
                </a:cubicBezTo>
                <a:close/>
                <a:moveTo>
                  <a:pt x="28" y="25"/>
                </a:moveTo>
                <a:cubicBezTo>
                  <a:pt x="25" y="16"/>
                  <a:pt x="25" y="16"/>
                  <a:pt x="25" y="16"/>
                </a:cubicBezTo>
                <a:cubicBezTo>
                  <a:pt x="17" y="19"/>
                  <a:pt x="17" y="19"/>
                  <a:pt x="17" y="19"/>
                </a:cubicBezTo>
                <a:cubicBezTo>
                  <a:pt x="19" y="27"/>
                  <a:pt x="19" y="27"/>
                  <a:pt x="19" y="27"/>
                </a:cubicBezTo>
                <a:lnTo>
                  <a:pt x="28" y="25"/>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08" name="稻壳儿小白白(http://dwz.cn/Wu2UP)"/>
          <p:cNvSpPr/>
          <p:nvPr/>
        </p:nvSpPr>
        <p:spPr>
          <a:xfrm>
            <a:off x="7959600" y="3408480"/>
            <a:ext cx="282600" cy="282600"/>
          </a:xfrm>
          <a:custGeom>
            <a:avLst/>
            <a:gdLst/>
            <a:ahLst/>
            <a:rect l="l" t="t" r="r" b="b"/>
            <a:pathLst>
              <a:path w="41" h="41">
                <a:moveTo>
                  <a:pt x="13" y="18"/>
                </a:moveTo>
                <a:cubicBezTo>
                  <a:pt x="13" y="19"/>
                  <a:pt x="12" y="20"/>
                  <a:pt x="11" y="20"/>
                </a:cubicBezTo>
                <a:cubicBezTo>
                  <a:pt x="2" y="20"/>
                  <a:pt x="2" y="20"/>
                  <a:pt x="2" y="20"/>
                </a:cubicBezTo>
                <a:cubicBezTo>
                  <a:pt x="1" y="20"/>
                  <a:pt x="0" y="19"/>
                  <a:pt x="0" y="18"/>
                </a:cubicBezTo>
                <a:cubicBezTo>
                  <a:pt x="0" y="16"/>
                  <a:pt x="0" y="16"/>
                  <a:pt x="0" y="16"/>
                </a:cubicBezTo>
                <a:cubicBezTo>
                  <a:pt x="0" y="15"/>
                  <a:pt x="1" y="13"/>
                  <a:pt x="2" y="13"/>
                </a:cubicBezTo>
                <a:cubicBezTo>
                  <a:pt x="11" y="13"/>
                  <a:pt x="11" y="13"/>
                  <a:pt x="11" y="13"/>
                </a:cubicBezTo>
                <a:cubicBezTo>
                  <a:pt x="12" y="13"/>
                  <a:pt x="13" y="15"/>
                  <a:pt x="13" y="16"/>
                </a:cubicBezTo>
                <a:lnTo>
                  <a:pt x="13" y="18"/>
                </a:lnTo>
                <a:close/>
                <a:moveTo>
                  <a:pt x="10" y="12"/>
                </a:moveTo>
                <a:cubicBezTo>
                  <a:pt x="3" y="12"/>
                  <a:pt x="3" y="12"/>
                  <a:pt x="3" y="12"/>
                </a:cubicBezTo>
                <a:cubicBezTo>
                  <a:pt x="3" y="1"/>
                  <a:pt x="3" y="1"/>
                  <a:pt x="3" y="1"/>
                </a:cubicBezTo>
                <a:cubicBezTo>
                  <a:pt x="3" y="0"/>
                  <a:pt x="4" y="0"/>
                  <a:pt x="4" y="0"/>
                </a:cubicBezTo>
                <a:cubicBezTo>
                  <a:pt x="9" y="0"/>
                  <a:pt x="9" y="0"/>
                  <a:pt x="9" y="0"/>
                </a:cubicBezTo>
                <a:cubicBezTo>
                  <a:pt x="10" y="0"/>
                  <a:pt x="10" y="0"/>
                  <a:pt x="10" y="1"/>
                </a:cubicBezTo>
                <a:lnTo>
                  <a:pt x="10" y="12"/>
                </a:lnTo>
                <a:close/>
                <a:moveTo>
                  <a:pt x="10" y="40"/>
                </a:moveTo>
                <a:cubicBezTo>
                  <a:pt x="10" y="40"/>
                  <a:pt x="10" y="41"/>
                  <a:pt x="9" y="41"/>
                </a:cubicBezTo>
                <a:cubicBezTo>
                  <a:pt x="4" y="41"/>
                  <a:pt x="4" y="41"/>
                  <a:pt x="4" y="41"/>
                </a:cubicBezTo>
                <a:cubicBezTo>
                  <a:pt x="4" y="41"/>
                  <a:pt x="3" y="40"/>
                  <a:pt x="3" y="40"/>
                </a:cubicBezTo>
                <a:cubicBezTo>
                  <a:pt x="3" y="22"/>
                  <a:pt x="3" y="22"/>
                  <a:pt x="3" y="22"/>
                </a:cubicBezTo>
                <a:cubicBezTo>
                  <a:pt x="10" y="22"/>
                  <a:pt x="10" y="22"/>
                  <a:pt x="10" y="22"/>
                </a:cubicBezTo>
                <a:lnTo>
                  <a:pt x="10" y="40"/>
                </a:lnTo>
                <a:close/>
                <a:moveTo>
                  <a:pt x="27" y="31"/>
                </a:moveTo>
                <a:cubicBezTo>
                  <a:pt x="27" y="33"/>
                  <a:pt x="26" y="34"/>
                  <a:pt x="25" y="34"/>
                </a:cubicBezTo>
                <a:cubicBezTo>
                  <a:pt x="16" y="34"/>
                  <a:pt x="16" y="34"/>
                  <a:pt x="16" y="34"/>
                </a:cubicBezTo>
                <a:cubicBezTo>
                  <a:pt x="15" y="34"/>
                  <a:pt x="13" y="33"/>
                  <a:pt x="13" y="31"/>
                </a:cubicBezTo>
                <a:cubicBezTo>
                  <a:pt x="13" y="30"/>
                  <a:pt x="13" y="30"/>
                  <a:pt x="13" y="30"/>
                </a:cubicBezTo>
                <a:cubicBezTo>
                  <a:pt x="13" y="28"/>
                  <a:pt x="15" y="27"/>
                  <a:pt x="16" y="27"/>
                </a:cubicBezTo>
                <a:cubicBezTo>
                  <a:pt x="25" y="27"/>
                  <a:pt x="25" y="27"/>
                  <a:pt x="25" y="27"/>
                </a:cubicBezTo>
                <a:cubicBezTo>
                  <a:pt x="26" y="27"/>
                  <a:pt x="27" y="28"/>
                  <a:pt x="27" y="30"/>
                </a:cubicBezTo>
                <a:lnTo>
                  <a:pt x="27" y="31"/>
                </a:lnTo>
                <a:close/>
                <a:moveTo>
                  <a:pt x="24" y="25"/>
                </a:moveTo>
                <a:cubicBezTo>
                  <a:pt x="17" y="25"/>
                  <a:pt x="17" y="25"/>
                  <a:pt x="17" y="25"/>
                </a:cubicBezTo>
                <a:cubicBezTo>
                  <a:pt x="17" y="1"/>
                  <a:pt x="17" y="1"/>
                  <a:pt x="17" y="1"/>
                </a:cubicBezTo>
                <a:cubicBezTo>
                  <a:pt x="17" y="0"/>
                  <a:pt x="17" y="0"/>
                  <a:pt x="18" y="0"/>
                </a:cubicBezTo>
                <a:cubicBezTo>
                  <a:pt x="23" y="0"/>
                  <a:pt x="23" y="0"/>
                  <a:pt x="23" y="0"/>
                </a:cubicBezTo>
                <a:cubicBezTo>
                  <a:pt x="23" y="0"/>
                  <a:pt x="24" y="0"/>
                  <a:pt x="24" y="1"/>
                </a:cubicBezTo>
                <a:lnTo>
                  <a:pt x="24" y="25"/>
                </a:lnTo>
                <a:close/>
                <a:moveTo>
                  <a:pt x="24" y="40"/>
                </a:moveTo>
                <a:cubicBezTo>
                  <a:pt x="24" y="40"/>
                  <a:pt x="23" y="41"/>
                  <a:pt x="23" y="41"/>
                </a:cubicBezTo>
                <a:cubicBezTo>
                  <a:pt x="18" y="41"/>
                  <a:pt x="18" y="41"/>
                  <a:pt x="18" y="41"/>
                </a:cubicBezTo>
                <a:cubicBezTo>
                  <a:pt x="17" y="41"/>
                  <a:pt x="17" y="40"/>
                  <a:pt x="17" y="40"/>
                </a:cubicBezTo>
                <a:cubicBezTo>
                  <a:pt x="17" y="36"/>
                  <a:pt x="17" y="36"/>
                  <a:pt x="17" y="36"/>
                </a:cubicBezTo>
                <a:cubicBezTo>
                  <a:pt x="24" y="36"/>
                  <a:pt x="24" y="36"/>
                  <a:pt x="24" y="36"/>
                </a:cubicBezTo>
                <a:lnTo>
                  <a:pt x="24" y="40"/>
                </a:lnTo>
                <a:close/>
                <a:moveTo>
                  <a:pt x="41" y="11"/>
                </a:moveTo>
                <a:cubicBezTo>
                  <a:pt x="41" y="12"/>
                  <a:pt x="40" y="13"/>
                  <a:pt x="38" y="13"/>
                </a:cubicBezTo>
                <a:cubicBezTo>
                  <a:pt x="30" y="13"/>
                  <a:pt x="30" y="13"/>
                  <a:pt x="30" y="13"/>
                </a:cubicBezTo>
                <a:cubicBezTo>
                  <a:pt x="28" y="13"/>
                  <a:pt x="27" y="12"/>
                  <a:pt x="27" y="11"/>
                </a:cubicBezTo>
                <a:cubicBezTo>
                  <a:pt x="27" y="9"/>
                  <a:pt x="27" y="9"/>
                  <a:pt x="27" y="9"/>
                </a:cubicBezTo>
                <a:cubicBezTo>
                  <a:pt x="27" y="8"/>
                  <a:pt x="28" y="7"/>
                  <a:pt x="30" y="7"/>
                </a:cubicBezTo>
                <a:cubicBezTo>
                  <a:pt x="38" y="7"/>
                  <a:pt x="38" y="7"/>
                  <a:pt x="38" y="7"/>
                </a:cubicBezTo>
                <a:cubicBezTo>
                  <a:pt x="40" y="7"/>
                  <a:pt x="41" y="8"/>
                  <a:pt x="41" y="9"/>
                </a:cubicBezTo>
                <a:lnTo>
                  <a:pt x="41" y="11"/>
                </a:lnTo>
                <a:close/>
                <a:moveTo>
                  <a:pt x="37" y="5"/>
                </a:moveTo>
                <a:cubicBezTo>
                  <a:pt x="31" y="5"/>
                  <a:pt x="31" y="5"/>
                  <a:pt x="31" y="5"/>
                </a:cubicBezTo>
                <a:cubicBezTo>
                  <a:pt x="31" y="1"/>
                  <a:pt x="31" y="1"/>
                  <a:pt x="31" y="1"/>
                </a:cubicBezTo>
                <a:cubicBezTo>
                  <a:pt x="31" y="0"/>
                  <a:pt x="31" y="0"/>
                  <a:pt x="31" y="0"/>
                </a:cubicBezTo>
                <a:cubicBezTo>
                  <a:pt x="37" y="0"/>
                  <a:pt x="37" y="0"/>
                  <a:pt x="37" y="0"/>
                </a:cubicBezTo>
                <a:cubicBezTo>
                  <a:pt x="37" y="0"/>
                  <a:pt x="37" y="0"/>
                  <a:pt x="37" y="1"/>
                </a:cubicBezTo>
                <a:lnTo>
                  <a:pt x="37" y="5"/>
                </a:lnTo>
                <a:close/>
                <a:moveTo>
                  <a:pt x="37" y="40"/>
                </a:moveTo>
                <a:cubicBezTo>
                  <a:pt x="37" y="40"/>
                  <a:pt x="37" y="41"/>
                  <a:pt x="37" y="41"/>
                </a:cubicBezTo>
                <a:cubicBezTo>
                  <a:pt x="31" y="41"/>
                  <a:pt x="31" y="41"/>
                  <a:pt x="31" y="41"/>
                </a:cubicBezTo>
                <a:cubicBezTo>
                  <a:pt x="31" y="41"/>
                  <a:pt x="31" y="40"/>
                  <a:pt x="31" y="40"/>
                </a:cubicBezTo>
                <a:cubicBezTo>
                  <a:pt x="31" y="15"/>
                  <a:pt x="31" y="15"/>
                  <a:pt x="31" y="15"/>
                </a:cubicBezTo>
                <a:cubicBezTo>
                  <a:pt x="37" y="15"/>
                  <a:pt x="37" y="15"/>
                  <a:pt x="37" y="15"/>
                </a:cubicBezTo>
                <a:lnTo>
                  <a:pt x="37" y="4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09" name="稻壳儿小白白(http://dwz.cn/Wu2UP)"/>
          <p:cNvSpPr/>
          <p:nvPr/>
        </p:nvSpPr>
        <p:spPr>
          <a:xfrm>
            <a:off x="7959600" y="3913200"/>
            <a:ext cx="282600" cy="282600"/>
          </a:xfrm>
          <a:custGeom>
            <a:avLst/>
            <a:gdLst/>
            <a:ahLst/>
            <a:rect l="l" t="t" r="r" b="b"/>
            <a:pathLst>
              <a:path w="41" h="41">
                <a:moveTo>
                  <a:pt x="20" y="41"/>
                </a:moveTo>
                <a:cubicBezTo>
                  <a:pt x="9" y="41"/>
                  <a:pt x="0" y="32"/>
                  <a:pt x="0" y="21"/>
                </a:cubicBezTo>
                <a:cubicBezTo>
                  <a:pt x="0" y="9"/>
                  <a:pt x="9" y="0"/>
                  <a:pt x="20" y="0"/>
                </a:cubicBezTo>
                <a:cubicBezTo>
                  <a:pt x="32" y="0"/>
                  <a:pt x="41" y="9"/>
                  <a:pt x="41" y="21"/>
                </a:cubicBezTo>
                <a:cubicBezTo>
                  <a:pt x="41" y="32"/>
                  <a:pt x="32" y="41"/>
                  <a:pt x="20" y="41"/>
                </a:cubicBezTo>
                <a:close/>
                <a:moveTo>
                  <a:pt x="20" y="4"/>
                </a:moveTo>
                <a:cubicBezTo>
                  <a:pt x="11" y="4"/>
                  <a:pt x="3" y="11"/>
                  <a:pt x="3" y="21"/>
                </a:cubicBezTo>
                <a:cubicBezTo>
                  <a:pt x="3" y="30"/>
                  <a:pt x="11" y="38"/>
                  <a:pt x="20" y="38"/>
                </a:cubicBezTo>
                <a:cubicBezTo>
                  <a:pt x="30" y="38"/>
                  <a:pt x="37" y="30"/>
                  <a:pt x="37" y="21"/>
                </a:cubicBezTo>
                <a:cubicBezTo>
                  <a:pt x="37" y="11"/>
                  <a:pt x="30" y="4"/>
                  <a:pt x="20" y="4"/>
                </a:cubicBezTo>
                <a:close/>
                <a:moveTo>
                  <a:pt x="13" y="17"/>
                </a:moveTo>
                <a:cubicBezTo>
                  <a:pt x="12" y="17"/>
                  <a:pt x="10" y="16"/>
                  <a:pt x="10" y="14"/>
                </a:cubicBezTo>
                <a:cubicBezTo>
                  <a:pt x="10" y="12"/>
                  <a:pt x="12" y="11"/>
                  <a:pt x="13" y="11"/>
                </a:cubicBezTo>
                <a:cubicBezTo>
                  <a:pt x="15" y="11"/>
                  <a:pt x="17" y="12"/>
                  <a:pt x="17" y="14"/>
                </a:cubicBezTo>
                <a:cubicBezTo>
                  <a:pt x="17" y="16"/>
                  <a:pt x="15" y="17"/>
                  <a:pt x="13" y="17"/>
                </a:cubicBezTo>
                <a:close/>
                <a:moveTo>
                  <a:pt x="20" y="33"/>
                </a:moveTo>
                <a:cubicBezTo>
                  <a:pt x="16" y="33"/>
                  <a:pt x="12" y="30"/>
                  <a:pt x="10" y="26"/>
                </a:cubicBezTo>
                <a:cubicBezTo>
                  <a:pt x="10" y="25"/>
                  <a:pt x="11" y="24"/>
                  <a:pt x="12" y="24"/>
                </a:cubicBezTo>
                <a:cubicBezTo>
                  <a:pt x="13" y="23"/>
                  <a:pt x="13" y="24"/>
                  <a:pt x="14" y="25"/>
                </a:cubicBezTo>
                <a:cubicBezTo>
                  <a:pt x="15" y="27"/>
                  <a:pt x="17" y="29"/>
                  <a:pt x="20" y="29"/>
                </a:cubicBezTo>
                <a:cubicBezTo>
                  <a:pt x="23" y="29"/>
                  <a:pt x="26" y="27"/>
                  <a:pt x="27" y="25"/>
                </a:cubicBezTo>
                <a:cubicBezTo>
                  <a:pt x="27" y="24"/>
                  <a:pt x="28" y="23"/>
                  <a:pt x="29" y="24"/>
                </a:cubicBezTo>
                <a:cubicBezTo>
                  <a:pt x="30" y="24"/>
                  <a:pt x="30" y="25"/>
                  <a:pt x="30" y="26"/>
                </a:cubicBezTo>
                <a:cubicBezTo>
                  <a:pt x="29" y="30"/>
                  <a:pt x="25" y="33"/>
                  <a:pt x="20" y="33"/>
                </a:cubicBezTo>
                <a:close/>
                <a:moveTo>
                  <a:pt x="27" y="17"/>
                </a:moveTo>
                <a:cubicBezTo>
                  <a:pt x="25" y="17"/>
                  <a:pt x="24" y="16"/>
                  <a:pt x="24" y="14"/>
                </a:cubicBezTo>
                <a:cubicBezTo>
                  <a:pt x="24" y="12"/>
                  <a:pt x="25" y="11"/>
                  <a:pt x="27" y="11"/>
                </a:cubicBezTo>
                <a:cubicBezTo>
                  <a:pt x="29" y="11"/>
                  <a:pt x="31" y="12"/>
                  <a:pt x="31" y="14"/>
                </a:cubicBezTo>
                <a:cubicBezTo>
                  <a:pt x="31" y="16"/>
                  <a:pt x="29" y="17"/>
                  <a:pt x="27" y="1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10" name="稻壳儿小白白(http://dwz.cn/Wu2UP)"/>
          <p:cNvSpPr/>
          <p:nvPr/>
        </p:nvSpPr>
        <p:spPr>
          <a:xfrm>
            <a:off x="8008920" y="4438800"/>
            <a:ext cx="187200" cy="257040"/>
          </a:xfrm>
          <a:custGeom>
            <a:avLst/>
            <a:gdLst/>
            <a:ahLst/>
            <a:rect l="l" t="t" r="r" b="b"/>
            <a:pathLst>
              <a:path w="27" h="37">
                <a:moveTo>
                  <a:pt x="25" y="15"/>
                </a:moveTo>
                <a:cubicBezTo>
                  <a:pt x="1" y="15"/>
                  <a:pt x="1" y="15"/>
                  <a:pt x="1" y="15"/>
                </a:cubicBezTo>
                <a:cubicBezTo>
                  <a:pt x="0" y="15"/>
                  <a:pt x="0" y="14"/>
                  <a:pt x="0" y="13"/>
                </a:cubicBezTo>
                <a:cubicBezTo>
                  <a:pt x="0" y="13"/>
                  <a:pt x="0" y="12"/>
                  <a:pt x="0" y="12"/>
                </a:cubicBezTo>
                <a:cubicBezTo>
                  <a:pt x="12" y="0"/>
                  <a:pt x="12" y="0"/>
                  <a:pt x="12" y="0"/>
                </a:cubicBezTo>
                <a:cubicBezTo>
                  <a:pt x="12" y="0"/>
                  <a:pt x="13" y="0"/>
                  <a:pt x="13" y="0"/>
                </a:cubicBezTo>
                <a:cubicBezTo>
                  <a:pt x="14" y="0"/>
                  <a:pt x="14" y="0"/>
                  <a:pt x="15" y="0"/>
                </a:cubicBezTo>
                <a:cubicBezTo>
                  <a:pt x="27" y="12"/>
                  <a:pt x="27" y="12"/>
                  <a:pt x="27" y="12"/>
                </a:cubicBezTo>
                <a:cubicBezTo>
                  <a:pt x="27" y="12"/>
                  <a:pt x="27" y="13"/>
                  <a:pt x="27" y="13"/>
                </a:cubicBezTo>
                <a:cubicBezTo>
                  <a:pt x="27" y="14"/>
                  <a:pt x="26" y="15"/>
                  <a:pt x="25" y="15"/>
                </a:cubicBezTo>
                <a:close/>
                <a:moveTo>
                  <a:pt x="27" y="25"/>
                </a:moveTo>
                <a:cubicBezTo>
                  <a:pt x="15" y="37"/>
                  <a:pt x="15" y="37"/>
                  <a:pt x="15" y="37"/>
                </a:cubicBezTo>
                <a:cubicBezTo>
                  <a:pt x="14" y="37"/>
                  <a:pt x="14" y="37"/>
                  <a:pt x="13" y="37"/>
                </a:cubicBezTo>
                <a:cubicBezTo>
                  <a:pt x="13" y="37"/>
                  <a:pt x="12" y="37"/>
                  <a:pt x="12" y="37"/>
                </a:cubicBezTo>
                <a:cubicBezTo>
                  <a:pt x="0" y="25"/>
                  <a:pt x="0" y="25"/>
                  <a:pt x="0" y="25"/>
                </a:cubicBezTo>
                <a:cubicBezTo>
                  <a:pt x="0" y="24"/>
                  <a:pt x="0" y="24"/>
                  <a:pt x="0" y="24"/>
                </a:cubicBezTo>
                <a:cubicBezTo>
                  <a:pt x="0" y="23"/>
                  <a:pt x="0" y="22"/>
                  <a:pt x="1" y="22"/>
                </a:cubicBezTo>
                <a:cubicBezTo>
                  <a:pt x="25" y="22"/>
                  <a:pt x="25" y="22"/>
                  <a:pt x="25" y="22"/>
                </a:cubicBezTo>
                <a:cubicBezTo>
                  <a:pt x="26" y="22"/>
                  <a:pt x="27" y="23"/>
                  <a:pt x="27" y="24"/>
                </a:cubicBezTo>
                <a:cubicBezTo>
                  <a:pt x="27" y="24"/>
                  <a:pt x="27" y="24"/>
                  <a:pt x="27" y="2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11" name="稻壳儿小白白(http://dwz.cn/Wu2UP)"/>
          <p:cNvSpPr/>
          <p:nvPr/>
        </p:nvSpPr>
        <p:spPr>
          <a:xfrm>
            <a:off x="7953480" y="4910040"/>
            <a:ext cx="304560" cy="330120"/>
          </a:xfrm>
          <a:custGeom>
            <a:avLst/>
            <a:gdLst/>
            <a:ahLst/>
            <a:rect l="l" t="t" r="r" b="b"/>
            <a:pathLst>
              <a:path w="44" h="48">
                <a:moveTo>
                  <a:pt x="18" y="39"/>
                </a:moveTo>
                <a:cubicBezTo>
                  <a:pt x="10" y="48"/>
                  <a:pt x="10" y="48"/>
                  <a:pt x="10" y="48"/>
                </a:cubicBezTo>
                <a:cubicBezTo>
                  <a:pt x="10" y="48"/>
                  <a:pt x="10" y="48"/>
                  <a:pt x="9" y="48"/>
                </a:cubicBezTo>
                <a:cubicBezTo>
                  <a:pt x="9" y="48"/>
                  <a:pt x="9" y="48"/>
                  <a:pt x="9" y="48"/>
                </a:cubicBezTo>
                <a:cubicBezTo>
                  <a:pt x="0" y="39"/>
                  <a:pt x="0" y="39"/>
                  <a:pt x="0" y="39"/>
                </a:cubicBezTo>
                <a:cubicBezTo>
                  <a:pt x="0" y="39"/>
                  <a:pt x="0" y="39"/>
                  <a:pt x="0" y="38"/>
                </a:cubicBezTo>
                <a:cubicBezTo>
                  <a:pt x="0" y="38"/>
                  <a:pt x="0" y="38"/>
                  <a:pt x="1" y="38"/>
                </a:cubicBezTo>
                <a:cubicBezTo>
                  <a:pt x="6" y="38"/>
                  <a:pt x="6" y="38"/>
                  <a:pt x="6" y="38"/>
                </a:cubicBezTo>
                <a:cubicBezTo>
                  <a:pt x="6" y="1"/>
                  <a:pt x="6" y="1"/>
                  <a:pt x="6" y="1"/>
                </a:cubicBezTo>
                <a:cubicBezTo>
                  <a:pt x="6" y="0"/>
                  <a:pt x="6" y="0"/>
                  <a:pt x="7" y="0"/>
                </a:cubicBezTo>
                <a:cubicBezTo>
                  <a:pt x="12" y="0"/>
                  <a:pt x="12" y="0"/>
                  <a:pt x="12" y="0"/>
                </a:cubicBezTo>
                <a:cubicBezTo>
                  <a:pt x="12" y="0"/>
                  <a:pt x="13" y="0"/>
                  <a:pt x="13" y="1"/>
                </a:cubicBezTo>
                <a:cubicBezTo>
                  <a:pt x="13" y="38"/>
                  <a:pt x="13" y="38"/>
                  <a:pt x="13" y="38"/>
                </a:cubicBezTo>
                <a:cubicBezTo>
                  <a:pt x="18" y="38"/>
                  <a:pt x="18" y="38"/>
                  <a:pt x="18" y="38"/>
                </a:cubicBezTo>
                <a:cubicBezTo>
                  <a:pt x="18" y="38"/>
                  <a:pt x="19" y="38"/>
                  <a:pt x="19" y="39"/>
                </a:cubicBezTo>
                <a:cubicBezTo>
                  <a:pt x="19" y="39"/>
                  <a:pt x="19" y="39"/>
                  <a:pt x="18" y="39"/>
                </a:cubicBezTo>
                <a:close/>
                <a:moveTo>
                  <a:pt x="44" y="21"/>
                </a:moveTo>
                <a:cubicBezTo>
                  <a:pt x="36" y="21"/>
                  <a:pt x="36" y="21"/>
                  <a:pt x="36" y="21"/>
                </a:cubicBezTo>
                <a:cubicBezTo>
                  <a:pt x="36" y="18"/>
                  <a:pt x="36" y="18"/>
                  <a:pt x="36" y="18"/>
                </a:cubicBezTo>
                <a:cubicBezTo>
                  <a:pt x="38" y="18"/>
                  <a:pt x="38" y="18"/>
                  <a:pt x="38" y="18"/>
                </a:cubicBezTo>
                <a:cubicBezTo>
                  <a:pt x="37" y="14"/>
                  <a:pt x="37" y="14"/>
                  <a:pt x="37" y="14"/>
                </a:cubicBezTo>
                <a:cubicBezTo>
                  <a:pt x="30" y="14"/>
                  <a:pt x="30" y="14"/>
                  <a:pt x="30" y="14"/>
                </a:cubicBezTo>
                <a:cubicBezTo>
                  <a:pt x="29" y="18"/>
                  <a:pt x="29" y="18"/>
                  <a:pt x="29" y="18"/>
                </a:cubicBezTo>
                <a:cubicBezTo>
                  <a:pt x="31" y="18"/>
                  <a:pt x="31" y="18"/>
                  <a:pt x="31" y="18"/>
                </a:cubicBezTo>
                <a:cubicBezTo>
                  <a:pt x="31" y="21"/>
                  <a:pt x="31" y="21"/>
                  <a:pt x="31" y="21"/>
                </a:cubicBezTo>
                <a:cubicBezTo>
                  <a:pt x="23" y="21"/>
                  <a:pt x="23" y="21"/>
                  <a:pt x="23" y="21"/>
                </a:cubicBezTo>
                <a:cubicBezTo>
                  <a:pt x="23" y="18"/>
                  <a:pt x="23" y="18"/>
                  <a:pt x="23" y="18"/>
                </a:cubicBezTo>
                <a:cubicBezTo>
                  <a:pt x="25" y="18"/>
                  <a:pt x="25" y="18"/>
                  <a:pt x="25" y="18"/>
                </a:cubicBezTo>
                <a:cubicBezTo>
                  <a:pt x="31" y="0"/>
                  <a:pt x="31" y="0"/>
                  <a:pt x="31" y="0"/>
                </a:cubicBezTo>
                <a:cubicBezTo>
                  <a:pt x="35" y="0"/>
                  <a:pt x="35" y="0"/>
                  <a:pt x="35" y="0"/>
                </a:cubicBezTo>
                <a:cubicBezTo>
                  <a:pt x="42" y="18"/>
                  <a:pt x="42" y="18"/>
                  <a:pt x="42" y="18"/>
                </a:cubicBezTo>
                <a:cubicBezTo>
                  <a:pt x="44" y="18"/>
                  <a:pt x="44" y="18"/>
                  <a:pt x="44" y="18"/>
                </a:cubicBezTo>
                <a:lnTo>
                  <a:pt x="44" y="21"/>
                </a:lnTo>
                <a:close/>
                <a:moveTo>
                  <a:pt x="41" y="48"/>
                </a:moveTo>
                <a:cubicBezTo>
                  <a:pt x="25" y="48"/>
                  <a:pt x="25" y="48"/>
                  <a:pt x="25" y="48"/>
                </a:cubicBezTo>
                <a:cubicBezTo>
                  <a:pt x="25" y="46"/>
                  <a:pt x="25" y="46"/>
                  <a:pt x="25" y="46"/>
                </a:cubicBezTo>
                <a:cubicBezTo>
                  <a:pt x="35" y="31"/>
                  <a:pt x="35" y="31"/>
                  <a:pt x="35" y="31"/>
                </a:cubicBezTo>
                <a:cubicBezTo>
                  <a:pt x="36" y="31"/>
                  <a:pt x="36" y="31"/>
                  <a:pt x="36" y="31"/>
                </a:cubicBezTo>
                <a:cubicBezTo>
                  <a:pt x="36" y="31"/>
                  <a:pt x="36" y="31"/>
                  <a:pt x="36" y="31"/>
                </a:cubicBezTo>
                <a:cubicBezTo>
                  <a:pt x="36" y="30"/>
                  <a:pt x="36" y="30"/>
                  <a:pt x="36" y="30"/>
                </a:cubicBezTo>
                <a:cubicBezTo>
                  <a:pt x="36" y="30"/>
                  <a:pt x="36" y="30"/>
                  <a:pt x="36" y="30"/>
                </a:cubicBezTo>
                <a:cubicBezTo>
                  <a:pt x="36" y="31"/>
                  <a:pt x="35" y="31"/>
                  <a:pt x="35" y="31"/>
                </a:cubicBezTo>
                <a:cubicBezTo>
                  <a:pt x="29" y="31"/>
                  <a:pt x="29" y="31"/>
                  <a:pt x="29" y="31"/>
                </a:cubicBezTo>
                <a:cubicBezTo>
                  <a:pt x="29" y="34"/>
                  <a:pt x="29" y="34"/>
                  <a:pt x="29" y="34"/>
                </a:cubicBezTo>
                <a:cubicBezTo>
                  <a:pt x="26" y="34"/>
                  <a:pt x="26" y="34"/>
                  <a:pt x="26" y="34"/>
                </a:cubicBezTo>
                <a:cubicBezTo>
                  <a:pt x="26" y="27"/>
                  <a:pt x="26" y="27"/>
                  <a:pt x="26" y="27"/>
                </a:cubicBezTo>
                <a:cubicBezTo>
                  <a:pt x="41" y="27"/>
                  <a:pt x="41" y="27"/>
                  <a:pt x="41" y="27"/>
                </a:cubicBezTo>
                <a:cubicBezTo>
                  <a:pt x="41" y="30"/>
                  <a:pt x="41" y="30"/>
                  <a:pt x="41" y="30"/>
                </a:cubicBezTo>
                <a:cubicBezTo>
                  <a:pt x="31" y="44"/>
                  <a:pt x="31" y="44"/>
                  <a:pt x="31" y="44"/>
                </a:cubicBezTo>
                <a:cubicBezTo>
                  <a:pt x="31" y="44"/>
                  <a:pt x="31" y="45"/>
                  <a:pt x="30" y="45"/>
                </a:cubicBezTo>
                <a:cubicBezTo>
                  <a:pt x="30" y="45"/>
                  <a:pt x="30" y="45"/>
                  <a:pt x="30" y="45"/>
                </a:cubicBezTo>
                <a:cubicBezTo>
                  <a:pt x="30" y="45"/>
                  <a:pt x="30" y="45"/>
                  <a:pt x="30" y="45"/>
                </a:cubicBezTo>
                <a:cubicBezTo>
                  <a:pt x="30" y="45"/>
                  <a:pt x="30" y="45"/>
                  <a:pt x="30" y="45"/>
                </a:cubicBezTo>
                <a:cubicBezTo>
                  <a:pt x="31" y="45"/>
                  <a:pt x="31" y="45"/>
                  <a:pt x="31" y="45"/>
                </a:cubicBezTo>
                <a:cubicBezTo>
                  <a:pt x="38" y="45"/>
                  <a:pt x="38" y="45"/>
                  <a:pt x="38" y="45"/>
                </a:cubicBezTo>
                <a:cubicBezTo>
                  <a:pt x="38" y="42"/>
                  <a:pt x="38" y="42"/>
                  <a:pt x="38" y="42"/>
                </a:cubicBezTo>
                <a:cubicBezTo>
                  <a:pt x="41" y="42"/>
                  <a:pt x="41" y="42"/>
                  <a:pt x="41" y="42"/>
                </a:cubicBezTo>
                <a:lnTo>
                  <a:pt x="41" y="48"/>
                </a:lnTo>
                <a:close/>
                <a:moveTo>
                  <a:pt x="36" y="11"/>
                </a:moveTo>
                <a:cubicBezTo>
                  <a:pt x="34" y="5"/>
                  <a:pt x="34" y="5"/>
                  <a:pt x="34" y="5"/>
                </a:cubicBezTo>
                <a:cubicBezTo>
                  <a:pt x="33" y="4"/>
                  <a:pt x="33" y="4"/>
                  <a:pt x="33" y="4"/>
                </a:cubicBezTo>
                <a:cubicBezTo>
                  <a:pt x="33" y="4"/>
                  <a:pt x="33" y="4"/>
                  <a:pt x="33" y="3"/>
                </a:cubicBezTo>
                <a:cubicBezTo>
                  <a:pt x="33" y="3"/>
                  <a:pt x="33" y="3"/>
                  <a:pt x="33" y="3"/>
                </a:cubicBezTo>
                <a:cubicBezTo>
                  <a:pt x="33" y="4"/>
                  <a:pt x="33" y="4"/>
                  <a:pt x="33" y="4"/>
                </a:cubicBezTo>
                <a:cubicBezTo>
                  <a:pt x="33" y="4"/>
                  <a:pt x="33" y="5"/>
                  <a:pt x="33" y="5"/>
                </a:cubicBezTo>
                <a:cubicBezTo>
                  <a:pt x="31" y="11"/>
                  <a:pt x="31" y="11"/>
                  <a:pt x="31" y="11"/>
                </a:cubicBezTo>
                <a:lnTo>
                  <a:pt x="36" y="1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12" name="稻壳儿小白白(http://dwz.cn/Wu2UP)"/>
          <p:cNvSpPr/>
          <p:nvPr/>
        </p:nvSpPr>
        <p:spPr>
          <a:xfrm>
            <a:off x="7953480" y="5421240"/>
            <a:ext cx="304560" cy="333360"/>
          </a:xfrm>
          <a:custGeom>
            <a:avLst/>
            <a:gdLst/>
            <a:ahLst/>
            <a:rect l="l" t="t" r="r" b="b"/>
            <a:pathLst>
              <a:path w="44" h="48">
                <a:moveTo>
                  <a:pt x="18" y="39"/>
                </a:moveTo>
                <a:cubicBezTo>
                  <a:pt x="10" y="47"/>
                  <a:pt x="10" y="47"/>
                  <a:pt x="10" y="47"/>
                </a:cubicBezTo>
                <a:cubicBezTo>
                  <a:pt x="10" y="48"/>
                  <a:pt x="10" y="48"/>
                  <a:pt x="9" y="48"/>
                </a:cubicBezTo>
                <a:cubicBezTo>
                  <a:pt x="9" y="48"/>
                  <a:pt x="9" y="48"/>
                  <a:pt x="9" y="47"/>
                </a:cubicBezTo>
                <a:cubicBezTo>
                  <a:pt x="0" y="39"/>
                  <a:pt x="0" y="39"/>
                  <a:pt x="0" y="39"/>
                </a:cubicBezTo>
                <a:cubicBezTo>
                  <a:pt x="0" y="39"/>
                  <a:pt x="0" y="38"/>
                  <a:pt x="0" y="38"/>
                </a:cubicBezTo>
                <a:cubicBezTo>
                  <a:pt x="0" y="38"/>
                  <a:pt x="0" y="37"/>
                  <a:pt x="1" y="37"/>
                </a:cubicBezTo>
                <a:cubicBezTo>
                  <a:pt x="6" y="37"/>
                  <a:pt x="6" y="37"/>
                  <a:pt x="6" y="37"/>
                </a:cubicBezTo>
                <a:cubicBezTo>
                  <a:pt x="6" y="1"/>
                  <a:pt x="6" y="1"/>
                  <a:pt x="6" y="1"/>
                </a:cubicBezTo>
                <a:cubicBezTo>
                  <a:pt x="6" y="0"/>
                  <a:pt x="6" y="0"/>
                  <a:pt x="7" y="0"/>
                </a:cubicBezTo>
                <a:cubicBezTo>
                  <a:pt x="12" y="0"/>
                  <a:pt x="12" y="0"/>
                  <a:pt x="12" y="0"/>
                </a:cubicBezTo>
                <a:cubicBezTo>
                  <a:pt x="12" y="0"/>
                  <a:pt x="13" y="0"/>
                  <a:pt x="13" y="1"/>
                </a:cubicBezTo>
                <a:cubicBezTo>
                  <a:pt x="13" y="37"/>
                  <a:pt x="13" y="37"/>
                  <a:pt x="13" y="37"/>
                </a:cubicBezTo>
                <a:cubicBezTo>
                  <a:pt x="18" y="37"/>
                  <a:pt x="18" y="37"/>
                  <a:pt x="18" y="37"/>
                </a:cubicBezTo>
                <a:cubicBezTo>
                  <a:pt x="18" y="37"/>
                  <a:pt x="19" y="38"/>
                  <a:pt x="19" y="38"/>
                </a:cubicBezTo>
                <a:cubicBezTo>
                  <a:pt x="19" y="38"/>
                  <a:pt x="19" y="39"/>
                  <a:pt x="18" y="39"/>
                </a:cubicBezTo>
                <a:close/>
                <a:moveTo>
                  <a:pt x="44" y="48"/>
                </a:moveTo>
                <a:cubicBezTo>
                  <a:pt x="36" y="48"/>
                  <a:pt x="36" y="48"/>
                  <a:pt x="36" y="48"/>
                </a:cubicBezTo>
                <a:cubicBezTo>
                  <a:pt x="36" y="45"/>
                  <a:pt x="36" y="45"/>
                  <a:pt x="36" y="45"/>
                </a:cubicBezTo>
                <a:cubicBezTo>
                  <a:pt x="38" y="45"/>
                  <a:pt x="38" y="45"/>
                  <a:pt x="38" y="45"/>
                </a:cubicBezTo>
                <a:cubicBezTo>
                  <a:pt x="37" y="41"/>
                  <a:pt x="37" y="41"/>
                  <a:pt x="37" y="41"/>
                </a:cubicBezTo>
                <a:cubicBezTo>
                  <a:pt x="30" y="41"/>
                  <a:pt x="30" y="41"/>
                  <a:pt x="30" y="41"/>
                </a:cubicBezTo>
                <a:cubicBezTo>
                  <a:pt x="29" y="45"/>
                  <a:pt x="29" y="45"/>
                  <a:pt x="29" y="45"/>
                </a:cubicBezTo>
                <a:cubicBezTo>
                  <a:pt x="31" y="45"/>
                  <a:pt x="31" y="45"/>
                  <a:pt x="31" y="45"/>
                </a:cubicBezTo>
                <a:cubicBezTo>
                  <a:pt x="31" y="48"/>
                  <a:pt x="31" y="48"/>
                  <a:pt x="31" y="48"/>
                </a:cubicBezTo>
                <a:cubicBezTo>
                  <a:pt x="23" y="48"/>
                  <a:pt x="23" y="48"/>
                  <a:pt x="23" y="48"/>
                </a:cubicBezTo>
                <a:cubicBezTo>
                  <a:pt x="23" y="45"/>
                  <a:pt x="23" y="45"/>
                  <a:pt x="23" y="45"/>
                </a:cubicBezTo>
                <a:cubicBezTo>
                  <a:pt x="25" y="45"/>
                  <a:pt x="25" y="45"/>
                  <a:pt x="25" y="45"/>
                </a:cubicBezTo>
                <a:cubicBezTo>
                  <a:pt x="31" y="27"/>
                  <a:pt x="31" y="27"/>
                  <a:pt x="31" y="27"/>
                </a:cubicBezTo>
                <a:cubicBezTo>
                  <a:pt x="35" y="27"/>
                  <a:pt x="35" y="27"/>
                  <a:pt x="35" y="27"/>
                </a:cubicBezTo>
                <a:cubicBezTo>
                  <a:pt x="42" y="45"/>
                  <a:pt x="42" y="45"/>
                  <a:pt x="42" y="45"/>
                </a:cubicBezTo>
                <a:cubicBezTo>
                  <a:pt x="44" y="45"/>
                  <a:pt x="44" y="45"/>
                  <a:pt x="44" y="45"/>
                </a:cubicBezTo>
                <a:lnTo>
                  <a:pt x="44" y="48"/>
                </a:lnTo>
                <a:close/>
                <a:moveTo>
                  <a:pt x="41" y="20"/>
                </a:moveTo>
                <a:cubicBezTo>
                  <a:pt x="25" y="20"/>
                  <a:pt x="25" y="20"/>
                  <a:pt x="25" y="20"/>
                </a:cubicBezTo>
                <a:cubicBezTo>
                  <a:pt x="25" y="18"/>
                  <a:pt x="25" y="18"/>
                  <a:pt x="25" y="18"/>
                </a:cubicBezTo>
                <a:cubicBezTo>
                  <a:pt x="35" y="4"/>
                  <a:pt x="35" y="4"/>
                  <a:pt x="35" y="4"/>
                </a:cubicBezTo>
                <a:cubicBezTo>
                  <a:pt x="36" y="3"/>
                  <a:pt x="36" y="3"/>
                  <a:pt x="36" y="3"/>
                </a:cubicBezTo>
                <a:cubicBezTo>
                  <a:pt x="36" y="3"/>
                  <a:pt x="36" y="3"/>
                  <a:pt x="36" y="3"/>
                </a:cubicBezTo>
                <a:cubicBezTo>
                  <a:pt x="36" y="3"/>
                  <a:pt x="36" y="3"/>
                  <a:pt x="36" y="3"/>
                </a:cubicBezTo>
                <a:cubicBezTo>
                  <a:pt x="36" y="3"/>
                  <a:pt x="36" y="3"/>
                  <a:pt x="36" y="3"/>
                </a:cubicBezTo>
                <a:cubicBezTo>
                  <a:pt x="36" y="3"/>
                  <a:pt x="35" y="3"/>
                  <a:pt x="35" y="3"/>
                </a:cubicBezTo>
                <a:cubicBezTo>
                  <a:pt x="29" y="3"/>
                  <a:pt x="29" y="3"/>
                  <a:pt x="29" y="3"/>
                </a:cubicBezTo>
                <a:cubicBezTo>
                  <a:pt x="29" y="6"/>
                  <a:pt x="29" y="6"/>
                  <a:pt x="29" y="6"/>
                </a:cubicBezTo>
                <a:cubicBezTo>
                  <a:pt x="26" y="6"/>
                  <a:pt x="26" y="6"/>
                  <a:pt x="26" y="6"/>
                </a:cubicBezTo>
                <a:cubicBezTo>
                  <a:pt x="26" y="0"/>
                  <a:pt x="26" y="0"/>
                  <a:pt x="26" y="0"/>
                </a:cubicBezTo>
                <a:cubicBezTo>
                  <a:pt x="41" y="0"/>
                  <a:pt x="41" y="0"/>
                  <a:pt x="41" y="0"/>
                </a:cubicBezTo>
                <a:cubicBezTo>
                  <a:pt x="41" y="2"/>
                  <a:pt x="41" y="2"/>
                  <a:pt x="41" y="2"/>
                </a:cubicBezTo>
                <a:cubicBezTo>
                  <a:pt x="31" y="16"/>
                  <a:pt x="31" y="16"/>
                  <a:pt x="31" y="16"/>
                </a:cubicBezTo>
                <a:cubicBezTo>
                  <a:pt x="31" y="16"/>
                  <a:pt x="31" y="17"/>
                  <a:pt x="30" y="17"/>
                </a:cubicBezTo>
                <a:cubicBezTo>
                  <a:pt x="30" y="17"/>
                  <a:pt x="30" y="17"/>
                  <a:pt x="30" y="17"/>
                </a:cubicBezTo>
                <a:cubicBezTo>
                  <a:pt x="30" y="17"/>
                  <a:pt x="30" y="17"/>
                  <a:pt x="30" y="17"/>
                </a:cubicBezTo>
                <a:cubicBezTo>
                  <a:pt x="30" y="17"/>
                  <a:pt x="30" y="17"/>
                  <a:pt x="30" y="17"/>
                </a:cubicBezTo>
                <a:cubicBezTo>
                  <a:pt x="31" y="17"/>
                  <a:pt x="31" y="17"/>
                  <a:pt x="31" y="17"/>
                </a:cubicBezTo>
                <a:cubicBezTo>
                  <a:pt x="38" y="17"/>
                  <a:pt x="38" y="17"/>
                  <a:pt x="38" y="17"/>
                </a:cubicBezTo>
                <a:cubicBezTo>
                  <a:pt x="38" y="14"/>
                  <a:pt x="38" y="14"/>
                  <a:pt x="38" y="14"/>
                </a:cubicBezTo>
                <a:cubicBezTo>
                  <a:pt x="41" y="14"/>
                  <a:pt x="41" y="14"/>
                  <a:pt x="41" y="14"/>
                </a:cubicBezTo>
                <a:lnTo>
                  <a:pt x="41" y="20"/>
                </a:lnTo>
                <a:close/>
                <a:moveTo>
                  <a:pt x="36" y="38"/>
                </a:moveTo>
                <a:cubicBezTo>
                  <a:pt x="34" y="32"/>
                  <a:pt x="34" y="32"/>
                  <a:pt x="34" y="32"/>
                </a:cubicBezTo>
                <a:cubicBezTo>
                  <a:pt x="33" y="31"/>
                  <a:pt x="33" y="31"/>
                  <a:pt x="33" y="31"/>
                </a:cubicBezTo>
                <a:cubicBezTo>
                  <a:pt x="33" y="31"/>
                  <a:pt x="33" y="31"/>
                  <a:pt x="33" y="30"/>
                </a:cubicBezTo>
                <a:cubicBezTo>
                  <a:pt x="33" y="30"/>
                  <a:pt x="33" y="30"/>
                  <a:pt x="33" y="30"/>
                </a:cubicBezTo>
                <a:cubicBezTo>
                  <a:pt x="33" y="31"/>
                  <a:pt x="33" y="31"/>
                  <a:pt x="33" y="31"/>
                </a:cubicBezTo>
                <a:cubicBezTo>
                  <a:pt x="33" y="31"/>
                  <a:pt x="33" y="32"/>
                  <a:pt x="33" y="32"/>
                </a:cubicBezTo>
                <a:cubicBezTo>
                  <a:pt x="31" y="38"/>
                  <a:pt x="31" y="38"/>
                  <a:pt x="31" y="38"/>
                </a:cubicBezTo>
                <a:lnTo>
                  <a:pt x="36" y="3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13" name="稻壳儿小白白(http://dwz.cn/Wu2UP)"/>
          <p:cNvSpPr/>
          <p:nvPr/>
        </p:nvSpPr>
        <p:spPr>
          <a:xfrm>
            <a:off x="8763120" y="884160"/>
            <a:ext cx="401400" cy="262080"/>
          </a:xfrm>
          <a:custGeom>
            <a:avLst/>
            <a:gdLst/>
            <a:ahLst/>
            <a:rect l="l" t="t" r="r" b="b"/>
            <a:pathLst>
              <a:path w="58" h="38">
                <a:moveTo>
                  <a:pt x="9" y="25"/>
                </a:moveTo>
                <a:cubicBezTo>
                  <a:pt x="6" y="25"/>
                  <a:pt x="6" y="25"/>
                  <a:pt x="6" y="25"/>
                </a:cubicBezTo>
                <a:cubicBezTo>
                  <a:pt x="6" y="23"/>
                  <a:pt x="6" y="23"/>
                  <a:pt x="6" y="23"/>
                </a:cubicBezTo>
                <a:cubicBezTo>
                  <a:pt x="4" y="23"/>
                  <a:pt x="4" y="23"/>
                  <a:pt x="4" y="23"/>
                </a:cubicBezTo>
                <a:cubicBezTo>
                  <a:pt x="4" y="23"/>
                  <a:pt x="3" y="22"/>
                  <a:pt x="3" y="21"/>
                </a:cubicBezTo>
                <a:cubicBezTo>
                  <a:pt x="3" y="21"/>
                  <a:pt x="3" y="20"/>
                  <a:pt x="3" y="20"/>
                </a:cubicBezTo>
                <a:cubicBezTo>
                  <a:pt x="1" y="20"/>
                  <a:pt x="0" y="19"/>
                  <a:pt x="0" y="19"/>
                </a:cubicBezTo>
                <a:cubicBezTo>
                  <a:pt x="0" y="19"/>
                  <a:pt x="1" y="18"/>
                  <a:pt x="3" y="18"/>
                </a:cubicBezTo>
                <a:cubicBezTo>
                  <a:pt x="3" y="18"/>
                  <a:pt x="3" y="17"/>
                  <a:pt x="3" y="17"/>
                </a:cubicBezTo>
                <a:cubicBezTo>
                  <a:pt x="3" y="16"/>
                  <a:pt x="4" y="15"/>
                  <a:pt x="4" y="15"/>
                </a:cubicBezTo>
                <a:cubicBezTo>
                  <a:pt x="6" y="15"/>
                  <a:pt x="6" y="15"/>
                  <a:pt x="6" y="15"/>
                </a:cubicBezTo>
                <a:cubicBezTo>
                  <a:pt x="6" y="13"/>
                  <a:pt x="6" y="13"/>
                  <a:pt x="6" y="13"/>
                </a:cubicBezTo>
                <a:cubicBezTo>
                  <a:pt x="9" y="13"/>
                  <a:pt x="9" y="13"/>
                  <a:pt x="9" y="13"/>
                </a:cubicBezTo>
                <a:cubicBezTo>
                  <a:pt x="12" y="13"/>
                  <a:pt x="14" y="14"/>
                  <a:pt x="16" y="15"/>
                </a:cubicBezTo>
                <a:cubicBezTo>
                  <a:pt x="46" y="15"/>
                  <a:pt x="46" y="15"/>
                  <a:pt x="46" y="15"/>
                </a:cubicBezTo>
                <a:cubicBezTo>
                  <a:pt x="48" y="15"/>
                  <a:pt x="50" y="15"/>
                  <a:pt x="51" y="16"/>
                </a:cubicBezTo>
                <a:cubicBezTo>
                  <a:pt x="56" y="16"/>
                  <a:pt x="58" y="18"/>
                  <a:pt x="58" y="19"/>
                </a:cubicBezTo>
                <a:cubicBezTo>
                  <a:pt x="58" y="20"/>
                  <a:pt x="56" y="22"/>
                  <a:pt x="51" y="22"/>
                </a:cubicBezTo>
                <a:cubicBezTo>
                  <a:pt x="50" y="23"/>
                  <a:pt x="48" y="23"/>
                  <a:pt x="46" y="23"/>
                </a:cubicBezTo>
                <a:cubicBezTo>
                  <a:pt x="16" y="23"/>
                  <a:pt x="16" y="23"/>
                  <a:pt x="16" y="23"/>
                </a:cubicBezTo>
                <a:cubicBezTo>
                  <a:pt x="14" y="24"/>
                  <a:pt x="12" y="25"/>
                  <a:pt x="9" y="25"/>
                </a:cubicBezTo>
                <a:close/>
                <a:moveTo>
                  <a:pt x="8" y="13"/>
                </a:moveTo>
                <a:cubicBezTo>
                  <a:pt x="11" y="0"/>
                  <a:pt x="11" y="0"/>
                  <a:pt x="11" y="0"/>
                </a:cubicBezTo>
                <a:cubicBezTo>
                  <a:pt x="12" y="0"/>
                  <a:pt x="13" y="0"/>
                  <a:pt x="13" y="0"/>
                </a:cubicBezTo>
                <a:cubicBezTo>
                  <a:pt x="15" y="0"/>
                  <a:pt x="17" y="1"/>
                  <a:pt x="18" y="2"/>
                </a:cubicBezTo>
                <a:cubicBezTo>
                  <a:pt x="19" y="3"/>
                  <a:pt x="23" y="7"/>
                  <a:pt x="25" y="10"/>
                </a:cubicBezTo>
                <a:cubicBezTo>
                  <a:pt x="25" y="10"/>
                  <a:pt x="28" y="12"/>
                  <a:pt x="31" y="12"/>
                </a:cubicBezTo>
                <a:cubicBezTo>
                  <a:pt x="38" y="13"/>
                  <a:pt x="44" y="14"/>
                  <a:pt x="44" y="14"/>
                </a:cubicBezTo>
                <a:cubicBezTo>
                  <a:pt x="16" y="14"/>
                  <a:pt x="16" y="14"/>
                  <a:pt x="16" y="14"/>
                </a:cubicBezTo>
                <a:cubicBezTo>
                  <a:pt x="14" y="13"/>
                  <a:pt x="12" y="13"/>
                  <a:pt x="9" y="13"/>
                </a:cubicBezTo>
                <a:lnTo>
                  <a:pt x="8" y="13"/>
                </a:lnTo>
                <a:close/>
                <a:moveTo>
                  <a:pt x="44" y="24"/>
                </a:moveTo>
                <a:cubicBezTo>
                  <a:pt x="44" y="24"/>
                  <a:pt x="38" y="25"/>
                  <a:pt x="31" y="26"/>
                </a:cubicBezTo>
                <a:cubicBezTo>
                  <a:pt x="28" y="26"/>
                  <a:pt x="25" y="28"/>
                  <a:pt x="25" y="28"/>
                </a:cubicBezTo>
                <a:cubicBezTo>
                  <a:pt x="23" y="31"/>
                  <a:pt x="19" y="35"/>
                  <a:pt x="18" y="36"/>
                </a:cubicBezTo>
                <a:cubicBezTo>
                  <a:pt x="17" y="37"/>
                  <a:pt x="15" y="38"/>
                  <a:pt x="13" y="38"/>
                </a:cubicBezTo>
                <a:cubicBezTo>
                  <a:pt x="13" y="38"/>
                  <a:pt x="12" y="38"/>
                  <a:pt x="11" y="38"/>
                </a:cubicBezTo>
                <a:cubicBezTo>
                  <a:pt x="8" y="25"/>
                  <a:pt x="8" y="25"/>
                  <a:pt x="8" y="25"/>
                </a:cubicBezTo>
                <a:cubicBezTo>
                  <a:pt x="9" y="25"/>
                  <a:pt x="9" y="25"/>
                  <a:pt x="9" y="25"/>
                </a:cubicBezTo>
                <a:cubicBezTo>
                  <a:pt x="12" y="25"/>
                  <a:pt x="14" y="25"/>
                  <a:pt x="16" y="24"/>
                </a:cubicBezTo>
                <a:lnTo>
                  <a:pt x="44" y="24"/>
                </a:lnTo>
                <a:close/>
                <a:moveTo>
                  <a:pt x="48" y="19"/>
                </a:moveTo>
                <a:cubicBezTo>
                  <a:pt x="48" y="20"/>
                  <a:pt x="47" y="21"/>
                  <a:pt x="46" y="21"/>
                </a:cubicBezTo>
                <a:cubicBezTo>
                  <a:pt x="48" y="22"/>
                  <a:pt x="48" y="22"/>
                  <a:pt x="48" y="22"/>
                </a:cubicBezTo>
                <a:cubicBezTo>
                  <a:pt x="50" y="21"/>
                  <a:pt x="50" y="20"/>
                  <a:pt x="50" y="19"/>
                </a:cubicBezTo>
                <a:cubicBezTo>
                  <a:pt x="50" y="18"/>
                  <a:pt x="50" y="16"/>
                  <a:pt x="48" y="16"/>
                </a:cubicBezTo>
                <a:cubicBezTo>
                  <a:pt x="46" y="17"/>
                  <a:pt x="46" y="17"/>
                  <a:pt x="46" y="17"/>
                </a:cubicBezTo>
                <a:cubicBezTo>
                  <a:pt x="47" y="17"/>
                  <a:pt x="48" y="18"/>
                  <a:pt x="48" y="1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14" name="稻壳儿小白白(http://dwz.cn/Wu2UP)"/>
          <p:cNvSpPr/>
          <p:nvPr/>
        </p:nvSpPr>
        <p:spPr>
          <a:xfrm>
            <a:off x="8815320" y="1362240"/>
            <a:ext cx="284400" cy="288720"/>
          </a:xfrm>
          <a:custGeom>
            <a:avLst/>
            <a:gdLst/>
            <a:ahLst/>
            <a:rect l="l" t="t" r="r" b="b"/>
            <a:pathLst>
              <a:path w="41" h="42">
                <a:moveTo>
                  <a:pt x="4" y="26"/>
                </a:moveTo>
                <a:cubicBezTo>
                  <a:pt x="2" y="26"/>
                  <a:pt x="0" y="24"/>
                  <a:pt x="0" y="22"/>
                </a:cubicBezTo>
                <a:cubicBezTo>
                  <a:pt x="0" y="19"/>
                  <a:pt x="2" y="18"/>
                  <a:pt x="4" y="18"/>
                </a:cubicBezTo>
                <a:cubicBezTo>
                  <a:pt x="7" y="18"/>
                  <a:pt x="8" y="19"/>
                  <a:pt x="8" y="22"/>
                </a:cubicBezTo>
                <a:cubicBezTo>
                  <a:pt x="8" y="24"/>
                  <a:pt x="7" y="26"/>
                  <a:pt x="4" y="26"/>
                </a:cubicBezTo>
                <a:close/>
                <a:moveTo>
                  <a:pt x="9" y="15"/>
                </a:moveTo>
                <a:cubicBezTo>
                  <a:pt x="7" y="15"/>
                  <a:pt x="5" y="12"/>
                  <a:pt x="5" y="10"/>
                </a:cubicBezTo>
                <a:cubicBezTo>
                  <a:pt x="5" y="7"/>
                  <a:pt x="7" y="5"/>
                  <a:pt x="9" y="5"/>
                </a:cubicBezTo>
                <a:cubicBezTo>
                  <a:pt x="12" y="5"/>
                  <a:pt x="14" y="7"/>
                  <a:pt x="14" y="10"/>
                </a:cubicBezTo>
                <a:cubicBezTo>
                  <a:pt x="14" y="12"/>
                  <a:pt x="12" y="15"/>
                  <a:pt x="9" y="15"/>
                </a:cubicBezTo>
                <a:close/>
                <a:moveTo>
                  <a:pt x="9" y="38"/>
                </a:moveTo>
                <a:cubicBezTo>
                  <a:pt x="7" y="38"/>
                  <a:pt x="5" y="36"/>
                  <a:pt x="5" y="34"/>
                </a:cubicBezTo>
                <a:cubicBezTo>
                  <a:pt x="5" y="32"/>
                  <a:pt x="7" y="30"/>
                  <a:pt x="9" y="30"/>
                </a:cubicBezTo>
                <a:cubicBezTo>
                  <a:pt x="11" y="30"/>
                  <a:pt x="13" y="32"/>
                  <a:pt x="13" y="34"/>
                </a:cubicBezTo>
                <a:cubicBezTo>
                  <a:pt x="13" y="36"/>
                  <a:pt x="11" y="38"/>
                  <a:pt x="9" y="38"/>
                </a:cubicBezTo>
                <a:close/>
                <a:moveTo>
                  <a:pt x="21" y="10"/>
                </a:moveTo>
                <a:cubicBezTo>
                  <a:pt x="18" y="10"/>
                  <a:pt x="16" y="8"/>
                  <a:pt x="16" y="5"/>
                </a:cubicBezTo>
                <a:cubicBezTo>
                  <a:pt x="16" y="2"/>
                  <a:pt x="18" y="0"/>
                  <a:pt x="21" y="0"/>
                </a:cubicBezTo>
                <a:cubicBezTo>
                  <a:pt x="24" y="0"/>
                  <a:pt x="26" y="2"/>
                  <a:pt x="26" y="5"/>
                </a:cubicBezTo>
                <a:cubicBezTo>
                  <a:pt x="26" y="8"/>
                  <a:pt x="24" y="10"/>
                  <a:pt x="21" y="10"/>
                </a:cubicBezTo>
                <a:close/>
                <a:moveTo>
                  <a:pt x="21" y="42"/>
                </a:moveTo>
                <a:cubicBezTo>
                  <a:pt x="19" y="42"/>
                  <a:pt x="18" y="41"/>
                  <a:pt x="18" y="39"/>
                </a:cubicBezTo>
                <a:cubicBezTo>
                  <a:pt x="18" y="37"/>
                  <a:pt x="19" y="36"/>
                  <a:pt x="21" y="36"/>
                </a:cubicBezTo>
                <a:cubicBezTo>
                  <a:pt x="23" y="36"/>
                  <a:pt x="25" y="37"/>
                  <a:pt x="25" y="39"/>
                </a:cubicBezTo>
                <a:cubicBezTo>
                  <a:pt x="25" y="41"/>
                  <a:pt x="23" y="42"/>
                  <a:pt x="21" y="42"/>
                </a:cubicBezTo>
                <a:close/>
                <a:moveTo>
                  <a:pt x="33" y="37"/>
                </a:moveTo>
                <a:cubicBezTo>
                  <a:pt x="32" y="37"/>
                  <a:pt x="30" y="36"/>
                  <a:pt x="30" y="34"/>
                </a:cubicBezTo>
                <a:cubicBezTo>
                  <a:pt x="30" y="32"/>
                  <a:pt x="32" y="31"/>
                  <a:pt x="33" y="31"/>
                </a:cubicBezTo>
                <a:cubicBezTo>
                  <a:pt x="35" y="31"/>
                  <a:pt x="36" y="32"/>
                  <a:pt x="36" y="34"/>
                </a:cubicBezTo>
                <a:cubicBezTo>
                  <a:pt x="36" y="36"/>
                  <a:pt x="35" y="37"/>
                  <a:pt x="33" y="37"/>
                </a:cubicBezTo>
                <a:close/>
                <a:moveTo>
                  <a:pt x="33" y="12"/>
                </a:moveTo>
                <a:cubicBezTo>
                  <a:pt x="32" y="12"/>
                  <a:pt x="31" y="11"/>
                  <a:pt x="31" y="10"/>
                </a:cubicBezTo>
                <a:cubicBezTo>
                  <a:pt x="31" y="9"/>
                  <a:pt x="32" y="8"/>
                  <a:pt x="33" y="8"/>
                </a:cubicBezTo>
                <a:cubicBezTo>
                  <a:pt x="34" y="8"/>
                  <a:pt x="35" y="9"/>
                  <a:pt x="35" y="10"/>
                </a:cubicBezTo>
                <a:cubicBezTo>
                  <a:pt x="35" y="11"/>
                  <a:pt x="34" y="12"/>
                  <a:pt x="33" y="12"/>
                </a:cubicBezTo>
                <a:close/>
                <a:moveTo>
                  <a:pt x="38" y="24"/>
                </a:moveTo>
                <a:cubicBezTo>
                  <a:pt x="37" y="24"/>
                  <a:pt x="36" y="23"/>
                  <a:pt x="36" y="22"/>
                </a:cubicBezTo>
                <a:cubicBezTo>
                  <a:pt x="36" y="20"/>
                  <a:pt x="37" y="19"/>
                  <a:pt x="38" y="19"/>
                </a:cubicBezTo>
                <a:cubicBezTo>
                  <a:pt x="40" y="19"/>
                  <a:pt x="41" y="20"/>
                  <a:pt x="41" y="22"/>
                </a:cubicBezTo>
                <a:cubicBezTo>
                  <a:pt x="41" y="23"/>
                  <a:pt x="40" y="24"/>
                  <a:pt x="38" y="2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15" name="稻壳儿小白白(http://dwz.cn/Wu2UP)"/>
          <p:cNvSpPr/>
          <p:nvPr/>
        </p:nvSpPr>
        <p:spPr>
          <a:xfrm>
            <a:off x="8901000" y="1852560"/>
            <a:ext cx="117720" cy="333360"/>
          </a:xfrm>
          <a:custGeom>
            <a:avLst/>
            <a:gdLst/>
            <a:ahLst/>
            <a:rect l="l" t="t" r="r" b="b"/>
            <a:pathLst>
              <a:path w="17" h="48">
                <a:moveTo>
                  <a:pt x="12" y="25"/>
                </a:moveTo>
                <a:cubicBezTo>
                  <a:pt x="13" y="47"/>
                  <a:pt x="13" y="47"/>
                  <a:pt x="13" y="47"/>
                </a:cubicBezTo>
                <a:cubicBezTo>
                  <a:pt x="13" y="48"/>
                  <a:pt x="12" y="48"/>
                  <a:pt x="11" y="48"/>
                </a:cubicBezTo>
                <a:cubicBezTo>
                  <a:pt x="6" y="48"/>
                  <a:pt x="6" y="48"/>
                  <a:pt x="6" y="48"/>
                </a:cubicBezTo>
                <a:cubicBezTo>
                  <a:pt x="5" y="48"/>
                  <a:pt x="5" y="48"/>
                  <a:pt x="5" y="47"/>
                </a:cubicBezTo>
                <a:cubicBezTo>
                  <a:pt x="6" y="25"/>
                  <a:pt x="6" y="25"/>
                  <a:pt x="6" y="25"/>
                </a:cubicBezTo>
                <a:cubicBezTo>
                  <a:pt x="3" y="23"/>
                  <a:pt x="0" y="20"/>
                  <a:pt x="0" y="15"/>
                </a:cubicBezTo>
                <a:cubicBezTo>
                  <a:pt x="0" y="8"/>
                  <a:pt x="4" y="0"/>
                  <a:pt x="9" y="0"/>
                </a:cubicBezTo>
                <a:cubicBezTo>
                  <a:pt x="14" y="0"/>
                  <a:pt x="17" y="8"/>
                  <a:pt x="17" y="15"/>
                </a:cubicBezTo>
                <a:cubicBezTo>
                  <a:pt x="17" y="20"/>
                  <a:pt x="15" y="23"/>
                  <a:pt x="12" y="2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16" name="稻壳儿小白白(http://dwz.cn/Wu2UP)"/>
          <p:cNvSpPr/>
          <p:nvPr/>
        </p:nvSpPr>
        <p:spPr>
          <a:xfrm>
            <a:off x="8815320" y="2386080"/>
            <a:ext cx="284400" cy="290520"/>
          </a:xfrm>
          <a:custGeom>
            <a:avLst/>
            <a:gdLst/>
            <a:ahLst/>
            <a:rect l="l" t="t" r="r" b="b"/>
            <a:pathLst>
              <a:path w="41" h="42">
                <a:moveTo>
                  <a:pt x="21" y="42"/>
                </a:moveTo>
                <a:cubicBezTo>
                  <a:pt x="10" y="42"/>
                  <a:pt x="0" y="32"/>
                  <a:pt x="0" y="21"/>
                </a:cubicBezTo>
                <a:cubicBezTo>
                  <a:pt x="0" y="10"/>
                  <a:pt x="10" y="0"/>
                  <a:pt x="21" y="0"/>
                </a:cubicBezTo>
                <a:cubicBezTo>
                  <a:pt x="32" y="0"/>
                  <a:pt x="41" y="10"/>
                  <a:pt x="41" y="21"/>
                </a:cubicBezTo>
                <a:cubicBezTo>
                  <a:pt x="41" y="32"/>
                  <a:pt x="32" y="42"/>
                  <a:pt x="21" y="42"/>
                </a:cubicBezTo>
                <a:close/>
                <a:moveTo>
                  <a:pt x="35" y="15"/>
                </a:moveTo>
                <a:cubicBezTo>
                  <a:pt x="30" y="12"/>
                  <a:pt x="24" y="11"/>
                  <a:pt x="18" y="11"/>
                </a:cubicBezTo>
                <a:cubicBezTo>
                  <a:pt x="14" y="11"/>
                  <a:pt x="11" y="12"/>
                  <a:pt x="8" y="12"/>
                </a:cubicBezTo>
                <a:cubicBezTo>
                  <a:pt x="7" y="13"/>
                  <a:pt x="7" y="13"/>
                  <a:pt x="7" y="14"/>
                </a:cubicBezTo>
                <a:cubicBezTo>
                  <a:pt x="7" y="16"/>
                  <a:pt x="7" y="16"/>
                  <a:pt x="9" y="16"/>
                </a:cubicBezTo>
                <a:cubicBezTo>
                  <a:pt x="9" y="16"/>
                  <a:pt x="9" y="16"/>
                  <a:pt x="10" y="16"/>
                </a:cubicBezTo>
                <a:cubicBezTo>
                  <a:pt x="12" y="15"/>
                  <a:pt x="15" y="15"/>
                  <a:pt x="18" y="15"/>
                </a:cubicBezTo>
                <a:cubicBezTo>
                  <a:pt x="23" y="15"/>
                  <a:pt x="29" y="16"/>
                  <a:pt x="33" y="19"/>
                </a:cubicBezTo>
                <a:cubicBezTo>
                  <a:pt x="33" y="19"/>
                  <a:pt x="34" y="19"/>
                  <a:pt x="34" y="19"/>
                </a:cubicBezTo>
                <a:cubicBezTo>
                  <a:pt x="35" y="19"/>
                  <a:pt x="36" y="18"/>
                  <a:pt x="36" y="17"/>
                </a:cubicBezTo>
                <a:cubicBezTo>
                  <a:pt x="36" y="16"/>
                  <a:pt x="36" y="16"/>
                  <a:pt x="35" y="15"/>
                </a:cubicBezTo>
                <a:close/>
                <a:moveTo>
                  <a:pt x="32" y="22"/>
                </a:moveTo>
                <a:cubicBezTo>
                  <a:pt x="28" y="20"/>
                  <a:pt x="23" y="18"/>
                  <a:pt x="17" y="18"/>
                </a:cubicBezTo>
                <a:cubicBezTo>
                  <a:pt x="14" y="18"/>
                  <a:pt x="12" y="19"/>
                  <a:pt x="9" y="19"/>
                </a:cubicBezTo>
                <a:cubicBezTo>
                  <a:pt x="8" y="20"/>
                  <a:pt x="8" y="20"/>
                  <a:pt x="8" y="21"/>
                </a:cubicBezTo>
                <a:cubicBezTo>
                  <a:pt x="8" y="22"/>
                  <a:pt x="9" y="23"/>
                  <a:pt x="10" y="23"/>
                </a:cubicBezTo>
                <a:cubicBezTo>
                  <a:pt x="10" y="23"/>
                  <a:pt x="10" y="23"/>
                  <a:pt x="11" y="23"/>
                </a:cubicBezTo>
                <a:cubicBezTo>
                  <a:pt x="13" y="22"/>
                  <a:pt x="15" y="22"/>
                  <a:pt x="17" y="22"/>
                </a:cubicBezTo>
                <a:cubicBezTo>
                  <a:pt x="22" y="22"/>
                  <a:pt x="27" y="23"/>
                  <a:pt x="30" y="25"/>
                </a:cubicBezTo>
                <a:cubicBezTo>
                  <a:pt x="31" y="25"/>
                  <a:pt x="31" y="25"/>
                  <a:pt x="31" y="25"/>
                </a:cubicBezTo>
                <a:cubicBezTo>
                  <a:pt x="32" y="25"/>
                  <a:pt x="33" y="25"/>
                  <a:pt x="33" y="24"/>
                </a:cubicBezTo>
                <a:cubicBezTo>
                  <a:pt x="33" y="23"/>
                  <a:pt x="33" y="22"/>
                  <a:pt x="32" y="22"/>
                </a:cubicBezTo>
                <a:close/>
                <a:moveTo>
                  <a:pt x="30" y="28"/>
                </a:moveTo>
                <a:cubicBezTo>
                  <a:pt x="26" y="26"/>
                  <a:pt x="22" y="25"/>
                  <a:pt x="18" y="25"/>
                </a:cubicBezTo>
                <a:cubicBezTo>
                  <a:pt x="15" y="25"/>
                  <a:pt x="13" y="25"/>
                  <a:pt x="10" y="26"/>
                </a:cubicBezTo>
                <a:cubicBezTo>
                  <a:pt x="9" y="26"/>
                  <a:pt x="9" y="26"/>
                  <a:pt x="9" y="27"/>
                </a:cubicBezTo>
                <a:cubicBezTo>
                  <a:pt x="9" y="28"/>
                  <a:pt x="9" y="29"/>
                  <a:pt x="10" y="29"/>
                </a:cubicBezTo>
                <a:cubicBezTo>
                  <a:pt x="10" y="29"/>
                  <a:pt x="11" y="29"/>
                  <a:pt x="11" y="28"/>
                </a:cubicBezTo>
                <a:cubicBezTo>
                  <a:pt x="13" y="28"/>
                  <a:pt x="15" y="28"/>
                  <a:pt x="18" y="28"/>
                </a:cubicBezTo>
                <a:cubicBezTo>
                  <a:pt x="22" y="28"/>
                  <a:pt x="25" y="29"/>
                  <a:pt x="28" y="30"/>
                </a:cubicBezTo>
                <a:cubicBezTo>
                  <a:pt x="29" y="31"/>
                  <a:pt x="29" y="31"/>
                  <a:pt x="29" y="31"/>
                </a:cubicBezTo>
                <a:cubicBezTo>
                  <a:pt x="30" y="31"/>
                  <a:pt x="30" y="30"/>
                  <a:pt x="30" y="29"/>
                </a:cubicBezTo>
                <a:cubicBezTo>
                  <a:pt x="30" y="29"/>
                  <a:pt x="30" y="28"/>
                  <a:pt x="30" y="2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17" name="稻壳儿小白白(http://dwz.cn/Wu2UP)"/>
          <p:cNvSpPr/>
          <p:nvPr/>
        </p:nvSpPr>
        <p:spPr>
          <a:xfrm>
            <a:off x="8815320" y="2897280"/>
            <a:ext cx="284400" cy="284040"/>
          </a:xfrm>
          <a:custGeom>
            <a:avLst/>
            <a:gdLst/>
            <a:ahLst/>
            <a:rect l="l" t="t" r="r" b="b"/>
            <a:pathLst>
              <a:path w="41" h="41">
                <a:moveTo>
                  <a:pt x="41" y="34"/>
                </a:moveTo>
                <a:cubicBezTo>
                  <a:pt x="41" y="38"/>
                  <a:pt x="38" y="41"/>
                  <a:pt x="34" y="41"/>
                </a:cubicBezTo>
                <a:cubicBezTo>
                  <a:pt x="8" y="41"/>
                  <a:pt x="8" y="41"/>
                  <a:pt x="8" y="41"/>
                </a:cubicBezTo>
                <a:cubicBezTo>
                  <a:pt x="4" y="41"/>
                  <a:pt x="0" y="38"/>
                  <a:pt x="0" y="34"/>
                </a:cubicBezTo>
                <a:cubicBezTo>
                  <a:pt x="0" y="8"/>
                  <a:pt x="0" y="8"/>
                  <a:pt x="0" y="8"/>
                </a:cubicBezTo>
                <a:cubicBezTo>
                  <a:pt x="0" y="4"/>
                  <a:pt x="4" y="0"/>
                  <a:pt x="8" y="0"/>
                </a:cubicBezTo>
                <a:cubicBezTo>
                  <a:pt x="34" y="0"/>
                  <a:pt x="34" y="0"/>
                  <a:pt x="34" y="0"/>
                </a:cubicBezTo>
                <a:cubicBezTo>
                  <a:pt x="38" y="0"/>
                  <a:pt x="41" y="4"/>
                  <a:pt x="41" y="8"/>
                </a:cubicBezTo>
                <a:lnTo>
                  <a:pt x="41" y="3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18" name="稻壳儿小白白(http://dwz.cn/Wu2UP)"/>
          <p:cNvSpPr/>
          <p:nvPr/>
        </p:nvSpPr>
        <p:spPr>
          <a:xfrm>
            <a:off x="8831160" y="3408480"/>
            <a:ext cx="262080" cy="257040"/>
          </a:xfrm>
          <a:custGeom>
            <a:avLst/>
            <a:gdLst/>
            <a:ahLst/>
            <a:rect l="l" t="t" r="r" b="b"/>
            <a:pathLst>
              <a:path w="38" h="37">
                <a:moveTo>
                  <a:pt x="38" y="30"/>
                </a:moveTo>
                <a:cubicBezTo>
                  <a:pt x="38" y="34"/>
                  <a:pt x="34" y="37"/>
                  <a:pt x="30" y="37"/>
                </a:cubicBezTo>
                <a:cubicBezTo>
                  <a:pt x="8" y="37"/>
                  <a:pt x="8" y="37"/>
                  <a:pt x="8" y="37"/>
                </a:cubicBezTo>
                <a:cubicBezTo>
                  <a:pt x="3" y="37"/>
                  <a:pt x="0" y="34"/>
                  <a:pt x="0" y="30"/>
                </a:cubicBezTo>
                <a:cubicBezTo>
                  <a:pt x="0" y="7"/>
                  <a:pt x="0" y="7"/>
                  <a:pt x="0" y="7"/>
                </a:cubicBezTo>
                <a:cubicBezTo>
                  <a:pt x="0" y="3"/>
                  <a:pt x="3" y="0"/>
                  <a:pt x="8" y="0"/>
                </a:cubicBezTo>
                <a:cubicBezTo>
                  <a:pt x="30" y="0"/>
                  <a:pt x="30" y="0"/>
                  <a:pt x="30" y="0"/>
                </a:cubicBezTo>
                <a:cubicBezTo>
                  <a:pt x="34" y="0"/>
                  <a:pt x="38" y="3"/>
                  <a:pt x="38" y="7"/>
                </a:cubicBezTo>
                <a:lnTo>
                  <a:pt x="38" y="30"/>
                </a:lnTo>
                <a:close/>
                <a:moveTo>
                  <a:pt x="8" y="3"/>
                </a:moveTo>
                <a:cubicBezTo>
                  <a:pt x="5" y="3"/>
                  <a:pt x="3" y="5"/>
                  <a:pt x="3" y="7"/>
                </a:cubicBezTo>
                <a:cubicBezTo>
                  <a:pt x="3" y="30"/>
                  <a:pt x="3" y="30"/>
                  <a:pt x="3" y="30"/>
                </a:cubicBezTo>
                <a:cubicBezTo>
                  <a:pt x="3" y="32"/>
                  <a:pt x="5" y="34"/>
                  <a:pt x="8" y="34"/>
                </a:cubicBezTo>
                <a:cubicBezTo>
                  <a:pt x="30" y="34"/>
                  <a:pt x="30" y="34"/>
                  <a:pt x="30" y="34"/>
                </a:cubicBezTo>
                <a:cubicBezTo>
                  <a:pt x="32" y="34"/>
                  <a:pt x="34" y="32"/>
                  <a:pt x="34" y="30"/>
                </a:cubicBezTo>
                <a:cubicBezTo>
                  <a:pt x="34" y="7"/>
                  <a:pt x="34" y="7"/>
                  <a:pt x="34" y="7"/>
                </a:cubicBezTo>
                <a:cubicBezTo>
                  <a:pt x="34" y="5"/>
                  <a:pt x="32" y="3"/>
                  <a:pt x="30" y="3"/>
                </a:cubicBezTo>
                <a:lnTo>
                  <a:pt x="8" y="3"/>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19" name="稻壳儿小白白(http://dwz.cn/Wu2UP)"/>
          <p:cNvSpPr/>
          <p:nvPr/>
        </p:nvSpPr>
        <p:spPr>
          <a:xfrm>
            <a:off x="8845560" y="3941640"/>
            <a:ext cx="228600" cy="284400"/>
          </a:xfrm>
          <a:custGeom>
            <a:avLst/>
            <a:gdLst/>
            <a:ahLst/>
            <a:rect l="l" t="t" r="r" b="b"/>
            <a:pathLst>
              <a:path w="33" h="41">
                <a:moveTo>
                  <a:pt x="33" y="7"/>
                </a:moveTo>
                <a:cubicBezTo>
                  <a:pt x="0" y="7"/>
                  <a:pt x="0" y="7"/>
                  <a:pt x="0" y="7"/>
                </a:cubicBezTo>
                <a:cubicBezTo>
                  <a:pt x="0" y="5"/>
                  <a:pt x="0" y="5"/>
                  <a:pt x="0" y="5"/>
                </a:cubicBezTo>
                <a:cubicBezTo>
                  <a:pt x="0" y="2"/>
                  <a:pt x="3" y="0"/>
                  <a:pt x="6" y="0"/>
                </a:cubicBezTo>
                <a:cubicBezTo>
                  <a:pt x="28" y="0"/>
                  <a:pt x="28" y="0"/>
                  <a:pt x="28" y="0"/>
                </a:cubicBezTo>
                <a:cubicBezTo>
                  <a:pt x="31" y="0"/>
                  <a:pt x="33" y="2"/>
                  <a:pt x="33" y="5"/>
                </a:cubicBezTo>
                <a:lnTo>
                  <a:pt x="33" y="7"/>
                </a:lnTo>
                <a:close/>
                <a:moveTo>
                  <a:pt x="33" y="16"/>
                </a:moveTo>
                <a:cubicBezTo>
                  <a:pt x="0" y="16"/>
                  <a:pt x="0" y="16"/>
                  <a:pt x="0" y="16"/>
                </a:cubicBezTo>
                <a:cubicBezTo>
                  <a:pt x="0" y="9"/>
                  <a:pt x="0" y="9"/>
                  <a:pt x="0" y="9"/>
                </a:cubicBezTo>
                <a:cubicBezTo>
                  <a:pt x="33" y="9"/>
                  <a:pt x="33" y="9"/>
                  <a:pt x="33" y="9"/>
                </a:cubicBezTo>
                <a:lnTo>
                  <a:pt x="33" y="16"/>
                </a:lnTo>
                <a:close/>
                <a:moveTo>
                  <a:pt x="33" y="25"/>
                </a:moveTo>
                <a:cubicBezTo>
                  <a:pt x="0" y="25"/>
                  <a:pt x="0" y="25"/>
                  <a:pt x="0" y="25"/>
                </a:cubicBezTo>
                <a:cubicBezTo>
                  <a:pt x="0" y="18"/>
                  <a:pt x="0" y="18"/>
                  <a:pt x="0" y="18"/>
                </a:cubicBezTo>
                <a:cubicBezTo>
                  <a:pt x="33" y="18"/>
                  <a:pt x="33" y="18"/>
                  <a:pt x="33" y="18"/>
                </a:cubicBezTo>
                <a:lnTo>
                  <a:pt x="33" y="25"/>
                </a:lnTo>
                <a:close/>
                <a:moveTo>
                  <a:pt x="33" y="28"/>
                </a:moveTo>
                <a:cubicBezTo>
                  <a:pt x="33" y="31"/>
                  <a:pt x="31" y="34"/>
                  <a:pt x="28" y="34"/>
                </a:cubicBezTo>
                <a:cubicBezTo>
                  <a:pt x="27" y="34"/>
                  <a:pt x="27" y="34"/>
                  <a:pt x="27" y="34"/>
                </a:cubicBezTo>
                <a:cubicBezTo>
                  <a:pt x="20" y="41"/>
                  <a:pt x="20" y="41"/>
                  <a:pt x="20" y="41"/>
                </a:cubicBezTo>
                <a:cubicBezTo>
                  <a:pt x="20" y="34"/>
                  <a:pt x="20" y="34"/>
                  <a:pt x="20" y="34"/>
                </a:cubicBezTo>
                <a:cubicBezTo>
                  <a:pt x="6" y="34"/>
                  <a:pt x="6" y="34"/>
                  <a:pt x="6" y="34"/>
                </a:cubicBezTo>
                <a:cubicBezTo>
                  <a:pt x="3" y="34"/>
                  <a:pt x="0" y="31"/>
                  <a:pt x="0" y="28"/>
                </a:cubicBezTo>
                <a:cubicBezTo>
                  <a:pt x="0" y="26"/>
                  <a:pt x="0" y="26"/>
                  <a:pt x="0" y="26"/>
                </a:cubicBezTo>
                <a:cubicBezTo>
                  <a:pt x="33" y="26"/>
                  <a:pt x="33" y="26"/>
                  <a:pt x="33" y="26"/>
                </a:cubicBezTo>
                <a:lnTo>
                  <a:pt x="33" y="2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20" name="稻壳儿小白白(http://dwz.cn/Wu2UP)"/>
          <p:cNvSpPr/>
          <p:nvPr/>
        </p:nvSpPr>
        <p:spPr>
          <a:xfrm>
            <a:off x="8831160" y="4397400"/>
            <a:ext cx="262080" cy="333360"/>
          </a:xfrm>
          <a:custGeom>
            <a:avLst/>
            <a:gdLst/>
            <a:ahLst/>
            <a:rect l="l" t="t" r="r" b="b"/>
            <a:pathLst>
              <a:path w="38" h="48">
                <a:moveTo>
                  <a:pt x="31" y="47"/>
                </a:moveTo>
                <a:cubicBezTo>
                  <a:pt x="31" y="48"/>
                  <a:pt x="31" y="48"/>
                  <a:pt x="31" y="48"/>
                </a:cubicBezTo>
                <a:cubicBezTo>
                  <a:pt x="31" y="48"/>
                  <a:pt x="31" y="48"/>
                  <a:pt x="31" y="48"/>
                </a:cubicBezTo>
                <a:cubicBezTo>
                  <a:pt x="1" y="48"/>
                  <a:pt x="1" y="48"/>
                  <a:pt x="1" y="48"/>
                </a:cubicBezTo>
                <a:cubicBezTo>
                  <a:pt x="0" y="48"/>
                  <a:pt x="0" y="48"/>
                  <a:pt x="0" y="48"/>
                </a:cubicBezTo>
                <a:cubicBezTo>
                  <a:pt x="0" y="48"/>
                  <a:pt x="0" y="48"/>
                  <a:pt x="0" y="48"/>
                </a:cubicBezTo>
                <a:cubicBezTo>
                  <a:pt x="0" y="29"/>
                  <a:pt x="0" y="29"/>
                  <a:pt x="0" y="29"/>
                </a:cubicBezTo>
                <a:cubicBezTo>
                  <a:pt x="3" y="29"/>
                  <a:pt x="3" y="29"/>
                  <a:pt x="3" y="29"/>
                </a:cubicBezTo>
                <a:cubicBezTo>
                  <a:pt x="3" y="45"/>
                  <a:pt x="3" y="45"/>
                  <a:pt x="3" y="45"/>
                </a:cubicBezTo>
                <a:cubicBezTo>
                  <a:pt x="28" y="45"/>
                  <a:pt x="28" y="45"/>
                  <a:pt x="28" y="45"/>
                </a:cubicBezTo>
                <a:cubicBezTo>
                  <a:pt x="28" y="29"/>
                  <a:pt x="28" y="29"/>
                  <a:pt x="28" y="29"/>
                </a:cubicBezTo>
                <a:cubicBezTo>
                  <a:pt x="31" y="29"/>
                  <a:pt x="31" y="29"/>
                  <a:pt x="31" y="29"/>
                </a:cubicBezTo>
                <a:lnTo>
                  <a:pt x="31" y="47"/>
                </a:lnTo>
                <a:close/>
                <a:moveTo>
                  <a:pt x="25" y="42"/>
                </a:moveTo>
                <a:cubicBezTo>
                  <a:pt x="6" y="42"/>
                  <a:pt x="6" y="42"/>
                  <a:pt x="6" y="42"/>
                </a:cubicBezTo>
                <a:cubicBezTo>
                  <a:pt x="6" y="38"/>
                  <a:pt x="6" y="38"/>
                  <a:pt x="6" y="38"/>
                </a:cubicBezTo>
                <a:cubicBezTo>
                  <a:pt x="25" y="38"/>
                  <a:pt x="25" y="38"/>
                  <a:pt x="25" y="38"/>
                </a:cubicBezTo>
                <a:lnTo>
                  <a:pt x="25" y="42"/>
                </a:lnTo>
                <a:close/>
                <a:moveTo>
                  <a:pt x="25" y="33"/>
                </a:moveTo>
                <a:cubicBezTo>
                  <a:pt x="25" y="37"/>
                  <a:pt x="25" y="37"/>
                  <a:pt x="25" y="37"/>
                </a:cubicBezTo>
                <a:cubicBezTo>
                  <a:pt x="6" y="35"/>
                  <a:pt x="6" y="35"/>
                  <a:pt x="6" y="35"/>
                </a:cubicBezTo>
                <a:cubicBezTo>
                  <a:pt x="6" y="31"/>
                  <a:pt x="6" y="31"/>
                  <a:pt x="6" y="31"/>
                </a:cubicBezTo>
                <a:lnTo>
                  <a:pt x="25" y="33"/>
                </a:lnTo>
                <a:close/>
                <a:moveTo>
                  <a:pt x="27" y="28"/>
                </a:moveTo>
                <a:cubicBezTo>
                  <a:pt x="26" y="31"/>
                  <a:pt x="26" y="31"/>
                  <a:pt x="26" y="31"/>
                </a:cubicBezTo>
                <a:cubicBezTo>
                  <a:pt x="7" y="27"/>
                  <a:pt x="7" y="27"/>
                  <a:pt x="7" y="27"/>
                </a:cubicBezTo>
                <a:cubicBezTo>
                  <a:pt x="8" y="23"/>
                  <a:pt x="8" y="23"/>
                  <a:pt x="8" y="23"/>
                </a:cubicBezTo>
                <a:lnTo>
                  <a:pt x="27" y="28"/>
                </a:lnTo>
                <a:close/>
                <a:moveTo>
                  <a:pt x="29" y="23"/>
                </a:moveTo>
                <a:cubicBezTo>
                  <a:pt x="27" y="26"/>
                  <a:pt x="27" y="26"/>
                  <a:pt x="27" y="26"/>
                </a:cubicBezTo>
                <a:cubicBezTo>
                  <a:pt x="11" y="17"/>
                  <a:pt x="11" y="17"/>
                  <a:pt x="11" y="17"/>
                </a:cubicBezTo>
                <a:cubicBezTo>
                  <a:pt x="13" y="13"/>
                  <a:pt x="13" y="13"/>
                  <a:pt x="13" y="13"/>
                </a:cubicBezTo>
                <a:lnTo>
                  <a:pt x="29" y="23"/>
                </a:lnTo>
                <a:close/>
                <a:moveTo>
                  <a:pt x="33" y="20"/>
                </a:moveTo>
                <a:cubicBezTo>
                  <a:pt x="30" y="22"/>
                  <a:pt x="30" y="22"/>
                  <a:pt x="30" y="22"/>
                </a:cubicBezTo>
                <a:cubicBezTo>
                  <a:pt x="19" y="7"/>
                  <a:pt x="19" y="7"/>
                  <a:pt x="19" y="7"/>
                </a:cubicBezTo>
                <a:cubicBezTo>
                  <a:pt x="22" y="4"/>
                  <a:pt x="22" y="4"/>
                  <a:pt x="22" y="4"/>
                </a:cubicBezTo>
                <a:lnTo>
                  <a:pt x="33" y="20"/>
                </a:lnTo>
                <a:close/>
                <a:moveTo>
                  <a:pt x="38" y="19"/>
                </a:moveTo>
                <a:cubicBezTo>
                  <a:pt x="34" y="20"/>
                  <a:pt x="34" y="20"/>
                  <a:pt x="34" y="20"/>
                </a:cubicBezTo>
                <a:cubicBezTo>
                  <a:pt x="30" y="1"/>
                  <a:pt x="30" y="1"/>
                  <a:pt x="30" y="1"/>
                </a:cubicBezTo>
                <a:cubicBezTo>
                  <a:pt x="34" y="0"/>
                  <a:pt x="34" y="0"/>
                  <a:pt x="34" y="0"/>
                </a:cubicBezTo>
                <a:lnTo>
                  <a:pt x="38" y="1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21" name="稻壳儿小白白(http://dwz.cn/Wu2UP)"/>
          <p:cNvSpPr/>
          <p:nvPr/>
        </p:nvSpPr>
        <p:spPr>
          <a:xfrm>
            <a:off x="8810640" y="4916520"/>
            <a:ext cx="303120" cy="288720"/>
          </a:xfrm>
          <a:custGeom>
            <a:avLst/>
            <a:gdLst/>
            <a:ahLst/>
            <a:rect l="l" t="t" r="r" b="b"/>
            <a:pathLst>
              <a:path w="44" h="42">
                <a:moveTo>
                  <a:pt x="43" y="18"/>
                </a:moveTo>
                <a:cubicBezTo>
                  <a:pt x="34" y="27"/>
                  <a:pt x="34" y="27"/>
                  <a:pt x="34" y="27"/>
                </a:cubicBezTo>
                <a:cubicBezTo>
                  <a:pt x="36" y="41"/>
                  <a:pt x="36" y="41"/>
                  <a:pt x="36" y="41"/>
                </a:cubicBezTo>
                <a:cubicBezTo>
                  <a:pt x="36" y="41"/>
                  <a:pt x="36" y="41"/>
                  <a:pt x="36" y="41"/>
                </a:cubicBezTo>
                <a:cubicBezTo>
                  <a:pt x="36" y="42"/>
                  <a:pt x="36" y="42"/>
                  <a:pt x="35" y="42"/>
                </a:cubicBezTo>
                <a:cubicBezTo>
                  <a:pt x="35" y="42"/>
                  <a:pt x="34" y="42"/>
                  <a:pt x="34" y="42"/>
                </a:cubicBezTo>
                <a:cubicBezTo>
                  <a:pt x="22" y="36"/>
                  <a:pt x="22" y="36"/>
                  <a:pt x="22" y="36"/>
                </a:cubicBezTo>
                <a:cubicBezTo>
                  <a:pt x="10" y="42"/>
                  <a:pt x="10" y="42"/>
                  <a:pt x="10" y="42"/>
                </a:cubicBezTo>
                <a:cubicBezTo>
                  <a:pt x="9" y="42"/>
                  <a:pt x="9" y="42"/>
                  <a:pt x="9" y="42"/>
                </a:cubicBezTo>
                <a:cubicBezTo>
                  <a:pt x="8" y="42"/>
                  <a:pt x="8" y="42"/>
                  <a:pt x="8" y="41"/>
                </a:cubicBezTo>
                <a:cubicBezTo>
                  <a:pt x="8" y="41"/>
                  <a:pt x="8" y="41"/>
                  <a:pt x="8" y="41"/>
                </a:cubicBezTo>
                <a:cubicBezTo>
                  <a:pt x="10" y="27"/>
                  <a:pt x="10" y="27"/>
                  <a:pt x="10" y="27"/>
                </a:cubicBezTo>
                <a:cubicBezTo>
                  <a:pt x="0" y="18"/>
                  <a:pt x="0" y="18"/>
                  <a:pt x="0" y="18"/>
                </a:cubicBezTo>
                <a:cubicBezTo>
                  <a:pt x="0" y="17"/>
                  <a:pt x="0" y="17"/>
                  <a:pt x="0" y="16"/>
                </a:cubicBezTo>
                <a:cubicBezTo>
                  <a:pt x="0" y="16"/>
                  <a:pt x="0" y="15"/>
                  <a:pt x="1" y="15"/>
                </a:cubicBezTo>
                <a:cubicBezTo>
                  <a:pt x="15" y="13"/>
                  <a:pt x="15" y="13"/>
                  <a:pt x="15" y="13"/>
                </a:cubicBezTo>
                <a:cubicBezTo>
                  <a:pt x="21" y="1"/>
                  <a:pt x="21" y="1"/>
                  <a:pt x="21" y="1"/>
                </a:cubicBezTo>
                <a:cubicBezTo>
                  <a:pt x="21" y="0"/>
                  <a:pt x="21" y="0"/>
                  <a:pt x="22" y="0"/>
                </a:cubicBezTo>
                <a:cubicBezTo>
                  <a:pt x="22" y="0"/>
                  <a:pt x="23" y="0"/>
                  <a:pt x="23" y="1"/>
                </a:cubicBezTo>
                <a:cubicBezTo>
                  <a:pt x="29" y="13"/>
                  <a:pt x="29" y="13"/>
                  <a:pt x="29" y="13"/>
                </a:cubicBezTo>
                <a:cubicBezTo>
                  <a:pt x="43" y="15"/>
                  <a:pt x="43" y="15"/>
                  <a:pt x="43" y="15"/>
                </a:cubicBezTo>
                <a:cubicBezTo>
                  <a:pt x="43" y="15"/>
                  <a:pt x="44" y="16"/>
                  <a:pt x="44" y="16"/>
                </a:cubicBezTo>
                <a:cubicBezTo>
                  <a:pt x="44" y="17"/>
                  <a:pt x="44" y="17"/>
                  <a:pt x="43" y="1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22" name="稻壳儿小白白(http://dwz.cn/Wu2UP)"/>
          <p:cNvSpPr/>
          <p:nvPr/>
        </p:nvSpPr>
        <p:spPr>
          <a:xfrm>
            <a:off x="8880480" y="5427720"/>
            <a:ext cx="152280" cy="291960"/>
          </a:xfrm>
          <a:custGeom>
            <a:avLst/>
            <a:gdLst/>
            <a:ahLst/>
            <a:rect l="l" t="t" r="r" b="b"/>
            <a:pathLst>
              <a:path w="22" h="42">
                <a:moveTo>
                  <a:pt x="22" y="35"/>
                </a:moveTo>
                <a:cubicBezTo>
                  <a:pt x="10" y="42"/>
                  <a:pt x="10" y="42"/>
                  <a:pt x="10" y="42"/>
                </a:cubicBezTo>
                <a:cubicBezTo>
                  <a:pt x="10" y="42"/>
                  <a:pt x="9" y="42"/>
                  <a:pt x="9" y="42"/>
                </a:cubicBezTo>
                <a:cubicBezTo>
                  <a:pt x="8" y="42"/>
                  <a:pt x="8" y="41"/>
                  <a:pt x="8" y="41"/>
                </a:cubicBezTo>
                <a:cubicBezTo>
                  <a:pt x="8" y="40"/>
                  <a:pt x="8" y="40"/>
                  <a:pt x="8" y="40"/>
                </a:cubicBezTo>
                <a:cubicBezTo>
                  <a:pt x="10" y="27"/>
                  <a:pt x="10" y="27"/>
                  <a:pt x="10" y="27"/>
                </a:cubicBezTo>
                <a:cubicBezTo>
                  <a:pt x="1" y="17"/>
                  <a:pt x="1" y="17"/>
                  <a:pt x="1" y="17"/>
                </a:cubicBezTo>
                <a:cubicBezTo>
                  <a:pt x="0" y="17"/>
                  <a:pt x="0" y="16"/>
                  <a:pt x="0" y="16"/>
                </a:cubicBezTo>
                <a:cubicBezTo>
                  <a:pt x="0" y="15"/>
                  <a:pt x="1" y="15"/>
                  <a:pt x="1" y="15"/>
                </a:cubicBezTo>
                <a:cubicBezTo>
                  <a:pt x="15" y="13"/>
                  <a:pt x="15" y="13"/>
                  <a:pt x="15" y="13"/>
                </a:cubicBezTo>
                <a:cubicBezTo>
                  <a:pt x="21" y="1"/>
                  <a:pt x="21" y="1"/>
                  <a:pt x="21" y="1"/>
                </a:cubicBezTo>
                <a:cubicBezTo>
                  <a:pt x="21" y="0"/>
                  <a:pt x="22" y="0"/>
                  <a:pt x="22" y="0"/>
                </a:cubicBezTo>
                <a:lnTo>
                  <a:pt x="22" y="35"/>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23" name="稻壳儿小白白(http://dwz.cn/Wu2UP)"/>
          <p:cNvSpPr/>
          <p:nvPr/>
        </p:nvSpPr>
        <p:spPr>
          <a:xfrm>
            <a:off x="9647280" y="871560"/>
            <a:ext cx="352440" cy="270000"/>
          </a:xfrm>
          <a:custGeom>
            <a:avLst/>
            <a:gdLst/>
            <a:ahLst/>
            <a:rect l="l" t="t" r="r" b="b"/>
            <a:pathLst>
              <a:path w="51" h="39">
                <a:moveTo>
                  <a:pt x="28" y="11"/>
                </a:moveTo>
                <a:cubicBezTo>
                  <a:pt x="28" y="10"/>
                  <a:pt x="27" y="8"/>
                  <a:pt x="25" y="8"/>
                </a:cubicBezTo>
                <a:cubicBezTo>
                  <a:pt x="24" y="8"/>
                  <a:pt x="23" y="10"/>
                  <a:pt x="23" y="11"/>
                </a:cubicBezTo>
                <a:cubicBezTo>
                  <a:pt x="23" y="28"/>
                  <a:pt x="23" y="28"/>
                  <a:pt x="23" y="28"/>
                </a:cubicBezTo>
                <a:cubicBezTo>
                  <a:pt x="23" y="34"/>
                  <a:pt x="17" y="39"/>
                  <a:pt x="11" y="39"/>
                </a:cubicBezTo>
                <a:cubicBezTo>
                  <a:pt x="5" y="39"/>
                  <a:pt x="0" y="34"/>
                  <a:pt x="0" y="27"/>
                </a:cubicBezTo>
                <a:cubicBezTo>
                  <a:pt x="0" y="27"/>
                  <a:pt x="0" y="27"/>
                  <a:pt x="0" y="20"/>
                </a:cubicBezTo>
                <a:cubicBezTo>
                  <a:pt x="8" y="20"/>
                  <a:pt x="8" y="20"/>
                  <a:pt x="8" y="20"/>
                </a:cubicBezTo>
                <a:cubicBezTo>
                  <a:pt x="8" y="27"/>
                  <a:pt x="8" y="27"/>
                  <a:pt x="8" y="27"/>
                </a:cubicBezTo>
                <a:cubicBezTo>
                  <a:pt x="8" y="29"/>
                  <a:pt x="10" y="30"/>
                  <a:pt x="11" y="30"/>
                </a:cubicBezTo>
                <a:cubicBezTo>
                  <a:pt x="13" y="30"/>
                  <a:pt x="14" y="29"/>
                  <a:pt x="14" y="27"/>
                </a:cubicBezTo>
                <a:cubicBezTo>
                  <a:pt x="14" y="11"/>
                  <a:pt x="14" y="11"/>
                  <a:pt x="14" y="11"/>
                </a:cubicBezTo>
                <a:cubicBezTo>
                  <a:pt x="14" y="5"/>
                  <a:pt x="19" y="0"/>
                  <a:pt x="25" y="0"/>
                </a:cubicBezTo>
                <a:cubicBezTo>
                  <a:pt x="32" y="0"/>
                  <a:pt x="37" y="5"/>
                  <a:pt x="37" y="11"/>
                </a:cubicBezTo>
                <a:cubicBezTo>
                  <a:pt x="37" y="14"/>
                  <a:pt x="37" y="14"/>
                  <a:pt x="37" y="14"/>
                </a:cubicBezTo>
                <a:cubicBezTo>
                  <a:pt x="32" y="16"/>
                  <a:pt x="32" y="16"/>
                  <a:pt x="32" y="16"/>
                </a:cubicBezTo>
                <a:cubicBezTo>
                  <a:pt x="28" y="14"/>
                  <a:pt x="28" y="14"/>
                  <a:pt x="28" y="14"/>
                </a:cubicBezTo>
                <a:lnTo>
                  <a:pt x="28" y="11"/>
                </a:lnTo>
                <a:close/>
                <a:moveTo>
                  <a:pt x="51" y="20"/>
                </a:moveTo>
                <a:cubicBezTo>
                  <a:pt x="51" y="27"/>
                  <a:pt x="51" y="27"/>
                  <a:pt x="51" y="27"/>
                </a:cubicBezTo>
                <a:cubicBezTo>
                  <a:pt x="51" y="34"/>
                  <a:pt x="46" y="39"/>
                  <a:pt x="40" y="39"/>
                </a:cubicBezTo>
                <a:cubicBezTo>
                  <a:pt x="33" y="39"/>
                  <a:pt x="28" y="34"/>
                  <a:pt x="28" y="28"/>
                </a:cubicBezTo>
                <a:cubicBezTo>
                  <a:pt x="28" y="20"/>
                  <a:pt x="28" y="20"/>
                  <a:pt x="28" y="20"/>
                </a:cubicBezTo>
                <a:cubicBezTo>
                  <a:pt x="32" y="22"/>
                  <a:pt x="32" y="22"/>
                  <a:pt x="32" y="22"/>
                </a:cubicBezTo>
                <a:cubicBezTo>
                  <a:pt x="37" y="20"/>
                  <a:pt x="37" y="20"/>
                  <a:pt x="37" y="20"/>
                </a:cubicBezTo>
                <a:cubicBezTo>
                  <a:pt x="37" y="28"/>
                  <a:pt x="37" y="28"/>
                  <a:pt x="37" y="28"/>
                </a:cubicBezTo>
                <a:cubicBezTo>
                  <a:pt x="37" y="29"/>
                  <a:pt x="38" y="30"/>
                  <a:pt x="40" y="30"/>
                </a:cubicBezTo>
                <a:cubicBezTo>
                  <a:pt x="41" y="30"/>
                  <a:pt x="42" y="29"/>
                  <a:pt x="42" y="28"/>
                </a:cubicBezTo>
                <a:cubicBezTo>
                  <a:pt x="42" y="20"/>
                  <a:pt x="42" y="20"/>
                  <a:pt x="42" y="20"/>
                </a:cubicBezTo>
                <a:lnTo>
                  <a:pt x="51" y="2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24" name="稻壳儿小白白(http://dwz.cn/Wu2UP)"/>
          <p:cNvSpPr/>
          <p:nvPr/>
        </p:nvSpPr>
        <p:spPr>
          <a:xfrm>
            <a:off x="9682200" y="1368360"/>
            <a:ext cx="282600" cy="282600"/>
          </a:xfrm>
          <a:custGeom>
            <a:avLst/>
            <a:gdLst/>
            <a:ahLst/>
            <a:rect l="l" t="t" r="r" b="b"/>
            <a:pathLst>
              <a:path w="41" h="41">
                <a:moveTo>
                  <a:pt x="20" y="41"/>
                </a:moveTo>
                <a:cubicBezTo>
                  <a:pt x="9" y="41"/>
                  <a:pt x="0" y="32"/>
                  <a:pt x="0" y="21"/>
                </a:cubicBezTo>
                <a:cubicBezTo>
                  <a:pt x="0" y="9"/>
                  <a:pt x="9" y="0"/>
                  <a:pt x="20" y="0"/>
                </a:cubicBezTo>
                <a:cubicBezTo>
                  <a:pt x="32" y="0"/>
                  <a:pt x="41" y="9"/>
                  <a:pt x="41" y="21"/>
                </a:cubicBezTo>
                <a:cubicBezTo>
                  <a:pt x="41" y="32"/>
                  <a:pt x="32" y="41"/>
                  <a:pt x="20" y="41"/>
                </a:cubicBezTo>
                <a:close/>
                <a:moveTo>
                  <a:pt x="25" y="19"/>
                </a:moveTo>
                <a:cubicBezTo>
                  <a:pt x="25" y="17"/>
                  <a:pt x="25" y="17"/>
                  <a:pt x="25" y="17"/>
                </a:cubicBezTo>
                <a:cubicBezTo>
                  <a:pt x="25" y="14"/>
                  <a:pt x="23" y="12"/>
                  <a:pt x="20" y="12"/>
                </a:cubicBezTo>
                <a:cubicBezTo>
                  <a:pt x="17" y="12"/>
                  <a:pt x="15" y="14"/>
                  <a:pt x="15" y="17"/>
                </a:cubicBezTo>
                <a:cubicBezTo>
                  <a:pt x="15" y="24"/>
                  <a:pt x="15" y="24"/>
                  <a:pt x="15" y="24"/>
                </a:cubicBezTo>
                <a:cubicBezTo>
                  <a:pt x="15" y="25"/>
                  <a:pt x="14" y="26"/>
                  <a:pt x="14" y="26"/>
                </a:cubicBezTo>
                <a:cubicBezTo>
                  <a:pt x="13" y="26"/>
                  <a:pt x="12" y="25"/>
                  <a:pt x="12" y="24"/>
                </a:cubicBezTo>
                <a:cubicBezTo>
                  <a:pt x="12" y="21"/>
                  <a:pt x="12" y="21"/>
                  <a:pt x="12" y="21"/>
                </a:cubicBezTo>
                <a:cubicBezTo>
                  <a:pt x="8" y="21"/>
                  <a:pt x="8" y="21"/>
                  <a:pt x="8" y="21"/>
                </a:cubicBezTo>
                <a:cubicBezTo>
                  <a:pt x="8" y="25"/>
                  <a:pt x="8" y="25"/>
                  <a:pt x="8" y="25"/>
                </a:cubicBezTo>
                <a:cubicBezTo>
                  <a:pt x="8" y="27"/>
                  <a:pt x="11" y="30"/>
                  <a:pt x="14" y="30"/>
                </a:cubicBezTo>
                <a:cubicBezTo>
                  <a:pt x="17" y="30"/>
                  <a:pt x="19" y="27"/>
                  <a:pt x="19" y="25"/>
                </a:cubicBezTo>
                <a:cubicBezTo>
                  <a:pt x="19" y="17"/>
                  <a:pt x="19" y="17"/>
                  <a:pt x="19" y="17"/>
                </a:cubicBezTo>
                <a:cubicBezTo>
                  <a:pt x="19" y="16"/>
                  <a:pt x="20" y="16"/>
                  <a:pt x="20" y="16"/>
                </a:cubicBezTo>
                <a:cubicBezTo>
                  <a:pt x="21" y="16"/>
                  <a:pt x="21" y="16"/>
                  <a:pt x="21" y="17"/>
                </a:cubicBezTo>
                <a:cubicBezTo>
                  <a:pt x="21" y="19"/>
                  <a:pt x="21" y="19"/>
                  <a:pt x="21" y="19"/>
                </a:cubicBezTo>
                <a:cubicBezTo>
                  <a:pt x="23" y="19"/>
                  <a:pt x="23" y="19"/>
                  <a:pt x="23" y="19"/>
                </a:cubicBezTo>
                <a:lnTo>
                  <a:pt x="25" y="19"/>
                </a:lnTo>
                <a:close/>
                <a:moveTo>
                  <a:pt x="32" y="21"/>
                </a:moveTo>
                <a:cubicBezTo>
                  <a:pt x="28" y="21"/>
                  <a:pt x="28" y="21"/>
                  <a:pt x="28" y="21"/>
                </a:cubicBezTo>
                <a:cubicBezTo>
                  <a:pt x="28" y="25"/>
                  <a:pt x="28" y="25"/>
                  <a:pt x="28" y="25"/>
                </a:cubicBezTo>
                <a:cubicBezTo>
                  <a:pt x="28" y="25"/>
                  <a:pt x="27" y="26"/>
                  <a:pt x="27" y="26"/>
                </a:cubicBezTo>
                <a:cubicBezTo>
                  <a:pt x="26" y="26"/>
                  <a:pt x="25" y="25"/>
                  <a:pt x="25" y="25"/>
                </a:cubicBezTo>
                <a:cubicBezTo>
                  <a:pt x="25" y="21"/>
                  <a:pt x="25" y="21"/>
                  <a:pt x="25" y="21"/>
                </a:cubicBezTo>
                <a:cubicBezTo>
                  <a:pt x="23" y="22"/>
                  <a:pt x="23" y="22"/>
                  <a:pt x="23" y="22"/>
                </a:cubicBezTo>
                <a:cubicBezTo>
                  <a:pt x="21" y="21"/>
                  <a:pt x="21" y="21"/>
                  <a:pt x="21" y="21"/>
                </a:cubicBezTo>
                <a:cubicBezTo>
                  <a:pt x="21" y="25"/>
                  <a:pt x="21" y="25"/>
                  <a:pt x="21" y="25"/>
                </a:cubicBezTo>
                <a:cubicBezTo>
                  <a:pt x="21" y="27"/>
                  <a:pt x="24" y="30"/>
                  <a:pt x="27" y="30"/>
                </a:cubicBezTo>
                <a:cubicBezTo>
                  <a:pt x="30" y="30"/>
                  <a:pt x="32" y="27"/>
                  <a:pt x="32" y="25"/>
                </a:cubicBezTo>
                <a:cubicBezTo>
                  <a:pt x="32" y="25"/>
                  <a:pt x="32" y="25"/>
                  <a:pt x="32" y="2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25" name="稻壳儿小白白(http://dwz.cn/Wu2UP)"/>
          <p:cNvSpPr/>
          <p:nvPr/>
        </p:nvSpPr>
        <p:spPr>
          <a:xfrm>
            <a:off x="9682200" y="2087640"/>
            <a:ext cx="282600" cy="207720"/>
          </a:xfrm>
          <a:custGeom>
            <a:avLst/>
            <a:gdLst/>
            <a:ahLst/>
            <a:rect l="l" t="t" r="r" b="b"/>
            <a:pathLst>
              <a:path w="41" h="30">
                <a:moveTo>
                  <a:pt x="24" y="24"/>
                </a:moveTo>
                <a:cubicBezTo>
                  <a:pt x="17" y="24"/>
                  <a:pt x="17" y="24"/>
                  <a:pt x="17" y="24"/>
                </a:cubicBezTo>
                <a:cubicBezTo>
                  <a:pt x="13" y="17"/>
                  <a:pt x="13" y="17"/>
                  <a:pt x="13" y="17"/>
                </a:cubicBezTo>
                <a:cubicBezTo>
                  <a:pt x="12" y="16"/>
                  <a:pt x="12" y="16"/>
                  <a:pt x="12" y="16"/>
                </a:cubicBezTo>
                <a:cubicBezTo>
                  <a:pt x="12" y="16"/>
                  <a:pt x="12" y="15"/>
                  <a:pt x="12" y="15"/>
                </a:cubicBezTo>
                <a:cubicBezTo>
                  <a:pt x="12" y="15"/>
                  <a:pt x="12" y="15"/>
                  <a:pt x="12" y="15"/>
                </a:cubicBezTo>
                <a:cubicBezTo>
                  <a:pt x="12" y="15"/>
                  <a:pt x="12" y="16"/>
                  <a:pt x="12" y="16"/>
                </a:cubicBezTo>
                <a:cubicBezTo>
                  <a:pt x="12" y="16"/>
                  <a:pt x="11" y="16"/>
                  <a:pt x="11" y="17"/>
                </a:cubicBezTo>
                <a:cubicBezTo>
                  <a:pt x="7" y="24"/>
                  <a:pt x="7" y="24"/>
                  <a:pt x="7" y="24"/>
                </a:cubicBezTo>
                <a:cubicBezTo>
                  <a:pt x="0" y="24"/>
                  <a:pt x="0" y="24"/>
                  <a:pt x="0" y="24"/>
                </a:cubicBezTo>
                <a:cubicBezTo>
                  <a:pt x="0" y="19"/>
                  <a:pt x="0" y="19"/>
                  <a:pt x="0" y="19"/>
                </a:cubicBezTo>
                <a:cubicBezTo>
                  <a:pt x="3" y="19"/>
                  <a:pt x="3" y="19"/>
                  <a:pt x="3" y="19"/>
                </a:cubicBezTo>
                <a:cubicBezTo>
                  <a:pt x="9" y="11"/>
                  <a:pt x="9" y="11"/>
                  <a:pt x="9" y="11"/>
                </a:cubicBezTo>
                <a:cubicBezTo>
                  <a:pt x="4" y="4"/>
                  <a:pt x="4" y="4"/>
                  <a:pt x="4" y="4"/>
                </a:cubicBezTo>
                <a:cubicBezTo>
                  <a:pt x="0" y="4"/>
                  <a:pt x="0" y="4"/>
                  <a:pt x="0" y="4"/>
                </a:cubicBezTo>
                <a:cubicBezTo>
                  <a:pt x="0" y="0"/>
                  <a:pt x="0" y="0"/>
                  <a:pt x="0" y="0"/>
                </a:cubicBezTo>
                <a:cubicBezTo>
                  <a:pt x="7" y="0"/>
                  <a:pt x="7" y="0"/>
                  <a:pt x="7" y="0"/>
                </a:cubicBezTo>
                <a:cubicBezTo>
                  <a:pt x="11" y="6"/>
                  <a:pt x="11" y="6"/>
                  <a:pt x="11" y="6"/>
                </a:cubicBezTo>
                <a:cubicBezTo>
                  <a:pt x="11" y="6"/>
                  <a:pt x="12" y="6"/>
                  <a:pt x="12" y="7"/>
                </a:cubicBezTo>
                <a:cubicBezTo>
                  <a:pt x="12" y="7"/>
                  <a:pt x="12" y="7"/>
                  <a:pt x="12" y="7"/>
                </a:cubicBezTo>
                <a:cubicBezTo>
                  <a:pt x="12" y="7"/>
                  <a:pt x="12" y="7"/>
                  <a:pt x="12" y="7"/>
                </a:cubicBezTo>
                <a:cubicBezTo>
                  <a:pt x="12" y="7"/>
                  <a:pt x="12" y="7"/>
                  <a:pt x="12" y="7"/>
                </a:cubicBezTo>
                <a:cubicBezTo>
                  <a:pt x="13" y="6"/>
                  <a:pt x="13" y="6"/>
                  <a:pt x="13" y="6"/>
                </a:cubicBezTo>
                <a:cubicBezTo>
                  <a:pt x="17" y="0"/>
                  <a:pt x="17" y="0"/>
                  <a:pt x="17" y="0"/>
                </a:cubicBezTo>
                <a:cubicBezTo>
                  <a:pt x="24" y="0"/>
                  <a:pt x="24" y="0"/>
                  <a:pt x="24" y="0"/>
                </a:cubicBezTo>
                <a:cubicBezTo>
                  <a:pt x="24" y="4"/>
                  <a:pt x="24" y="4"/>
                  <a:pt x="24" y="4"/>
                </a:cubicBezTo>
                <a:cubicBezTo>
                  <a:pt x="20" y="4"/>
                  <a:pt x="20" y="4"/>
                  <a:pt x="20" y="4"/>
                </a:cubicBezTo>
                <a:cubicBezTo>
                  <a:pt x="15" y="11"/>
                  <a:pt x="15" y="11"/>
                  <a:pt x="15" y="11"/>
                </a:cubicBezTo>
                <a:cubicBezTo>
                  <a:pt x="21" y="19"/>
                  <a:pt x="21" y="19"/>
                  <a:pt x="21" y="19"/>
                </a:cubicBezTo>
                <a:cubicBezTo>
                  <a:pt x="24" y="19"/>
                  <a:pt x="24" y="19"/>
                  <a:pt x="24" y="19"/>
                </a:cubicBezTo>
                <a:lnTo>
                  <a:pt x="24" y="24"/>
                </a:lnTo>
                <a:close/>
                <a:moveTo>
                  <a:pt x="41" y="30"/>
                </a:moveTo>
                <a:cubicBezTo>
                  <a:pt x="27" y="30"/>
                  <a:pt x="27" y="30"/>
                  <a:pt x="27" y="30"/>
                </a:cubicBezTo>
                <a:cubicBezTo>
                  <a:pt x="27" y="30"/>
                  <a:pt x="27" y="30"/>
                  <a:pt x="27" y="30"/>
                </a:cubicBezTo>
                <a:cubicBezTo>
                  <a:pt x="27" y="29"/>
                  <a:pt x="27" y="29"/>
                  <a:pt x="27" y="29"/>
                </a:cubicBezTo>
                <a:cubicBezTo>
                  <a:pt x="27" y="21"/>
                  <a:pt x="36" y="21"/>
                  <a:pt x="36" y="17"/>
                </a:cubicBezTo>
                <a:cubicBezTo>
                  <a:pt x="36" y="15"/>
                  <a:pt x="35" y="14"/>
                  <a:pt x="34" y="14"/>
                </a:cubicBezTo>
                <a:cubicBezTo>
                  <a:pt x="33" y="14"/>
                  <a:pt x="32" y="15"/>
                  <a:pt x="31" y="15"/>
                </a:cubicBezTo>
                <a:cubicBezTo>
                  <a:pt x="31" y="16"/>
                  <a:pt x="30" y="16"/>
                  <a:pt x="30" y="16"/>
                </a:cubicBezTo>
                <a:cubicBezTo>
                  <a:pt x="27" y="14"/>
                  <a:pt x="27" y="14"/>
                  <a:pt x="27" y="14"/>
                </a:cubicBezTo>
                <a:cubicBezTo>
                  <a:pt x="28" y="13"/>
                  <a:pt x="28" y="13"/>
                  <a:pt x="29" y="12"/>
                </a:cubicBezTo>
                <a:cubicBezTo>
                  <a:pt x="30" y="11"/>
                  <a:pt x="32" y="10"/>
                  <a:pt x="34" y="10"/>
                </a:cubicBezTo>
                <a:cubicBezTo>
                  <a:pt x="38" y="10"/>
                  <a:pt x="41" y="13"/>
                  <a:pt x="41" y="16"/>
                </a:cubicBezTo>
                <a:cubicBezTo>
                  <a:pt x="41" y="23"/>
                  <a:pt x="32" y="23"/>
                  <a:pt x="31" y="27"/>
                </a:cubicBezTo>
                <a:cubicBezTo>
                  <a:pt x="38" y="27"/>
                  <a:pt x="38" y="27"/>
                  <a:pt x="38" y="27"/>
                </a:cubicBezTo>
                <a:cubicBezTo>
                  <a:pt x="38" y="25"/>
                  <a:pt x="38" y="25"/>
                  <a:pt x="38" y="25"/>
                </a:cubicBezTo>
                <a:cubicBezTo>
                  <a:pt x="41" y="25"/>
                  <a:pt x="41" y="25"/>
                  <a:pt x="41" y="25"/>
                </a:cubicBezTo>
                <a:lnTo>
                  <a:pt x="41" y="3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26" name="稻壳儿小白白(http://dwz.cn/Wu2UP)"/>
          <p:cNvSpPr/>
          <p:nvPr/>
        </p:nvSpPr>
        <p:spPr>
          <a:xfrm>
            <a:off x="9655200" y="2386080"/>
            <a:ext cx="330120" cy="290520"/>
          </a:xfrm>
          <a:custGeom>
            <a:avLst/>
            <a:gdLst/>
            <a:ahLst/>
            <a:rect l="l" t="t" r="r" b="b"/>
            <a:pathLst>
              <a:path w="48" h="42">
                <a:moveTo>
                  <a:pt x="8" y="42"/>
                </a:moveTo>
                <a:cubicBezTo>
                  <a:pt x="6" y="42"/>
                  <a:pt x="6" y="42"/>
                  <a:pt x="6" y="42"/>
                </a:cubicBezTo>
                <a:cubicBezTo>
                  <a:pt x="3" y="42"/>
                  <a:pt x="0" y="39"/>
                  <a:pt x="0" y="36"/>
                </a:cubicBezTo>
                <a:cubicBezTo>
                  <a:pt x="0" y="13"/>
                  <a:pt x="0" y="13"/>
                  <a:pt x="0" y="13"/>
                </a:cubicBezTo>
                <a:cubicBezTo>
                  <a:pt x="0" y="10"/>
                  <a:pt x="3" y="7"/>
                  <a:pt x="6" y="7"/>
                </a:cubicBezTo>
                <a:cubicBezTo>
                  <a:pt x="8" y="7"/>
                  <a:pt x="8" y="7"/>
                  <a:pt x="8" y="7"/>
                </a:cubicBezTo>
                <a:lnTo>
                  <a:pt x="8" y="42"/>
                </a:lnTo>
                <a:close/>
                <a:moveTo>
                  <a:pt x="38" y="42"/>
                </a:moveTo>
                <a:cubicBezTo>
                  <a:pt x="11" y="42"/>
                  <a:pt x="11" y="42"/>
                  <a:pt x="11" y="42"/>
                </a:cubicBezTo>
                <a:cubicBezTo>
                  <a:pt x="11" y="7"/>
                  <a:pt x="11" y="7"/>
                  <a:pt x="11" y="7"/>
                </a:cubicBezTo>
                <a:cubicBezTo>
                  <a:pt x="14" y="7"/>
                  <a:pt x="14" y="7"/>
                  <a:pt x="14" y="7"/>
                </a:cubicBezTo>
                <a:cubicBezTo>
                  <a:pt x="14" y="3"/>
                  <a:pt x="14" y="3"/>
                  <a:pt x="14" y="3"/>
                </a:cubicBezTo>
                <a:cubicBezTo>
                  <a:pt x="14" y="2"/>
                  <a:pt x="15" y="0"/>
                  <a:pt x="17" y="0"/>
                </a:cubicBezTo>
                <a:cubicBezTo>
                  <a:pt x="32" y="0"/>
                  <a:pt x="32" y="0"/>
                  <a:pt x="32" y="0"/>
                </a:cubicBezTo>
                <a:cubicBezTo>
                  <a:pt x="34" y="0"/>
                  <a:pt x="35" y="2"/>
                  <a:pt x="35" y="3"/>
                </a:cubicBezTo>
                <a:cubicBezTo>
                  <a:pt x="35" y="7"/>
                  <a:pt x="35" y="7"/>
                  <a:pt x="35" y="7"/>
                </a:cubicBezTo>
                <a:cubicBezTo>
                  <a:pt x="38" y="7"/>
                  <a:pt x="38" y="7"/>
                  <a:pt x="38" y="7"/>
                </a:cubicBezTo>
                <a:lnTo>
                  <a:pt x="38" y="42"/>
                </a:lnTo>
                <a:close/>
                <a:moveTo>
                  <a:pt x="31" y="7"/>
                </a:moveTo>
                <a:cubicBezTo>
                  <a:pt x="31" y="4"/>
                  <a:pt x="31" y="4"/>
                  <a:pt x="31" y="4"/>
                </a:cubicBezTo>
                <a:cubicBezTo>
                  <a:pt x="18" y="4"/>
                  <a:pt x="18" y="4"/>
                  <a:pt x="18" y="4"/>
                </a:cubicBezTo>
                <a:cubicBezTo>
                  <a:pt x="18" y="7"/>
                  <a:pt x="18" y="7"/>
                  <a:pt x="18" y="7"/>
                </a:cubicBezTo>
                <a:lnTo>
                  <a:pt x="31" y="7"/>
                </a:lnTo>
                <a:close/>
                <a:moveTo>
                  <a:pt x="48" y="36"/>
                </a:moveTo>
                <a:cubicBezTo>
                  <a:pt x="48" y="39"/>
                  <a:pt x="46" y="42"/>
                  <a:pt x="42" y="42"/>
                </a:cubicBezTo>
                <a:cubicBezTo>
                  <a:pt x="41" y="42"/>
                  <a:pt x="41" y="42"/>
                  <a:pt x="41" y="42"/>
                </a:cubicBezTo>
                <a:cubicBezTo>
                  <a:pt x="41" y="7"/>
                  <a:pt x="41" y="7"/>
                  <a:pt x="41" y="7"/>
                </a:cubicBezTo>
                <a:cubicBezTo>
                  <a:pt x="42" y="7"/>
                  <a:pt x="42" y="7"/>
                  <a:pt x="42" y="7"/>
                </a:cubicBezTo>
                <a:cubicBezTo>
                  <a:pt x="46" y="7"/>
                  <a:pt x="48" y="10"/>
                  <a:pt x="48" y="13"/>
                </a:cubicBezTo>
                <a:lnTo>
                  <a:pt x="48" y="3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27" name="稻壳儿小白白(http://dwz.cn/Wu2UP)"/>
          <p:cNvSpPr/>
          <p:nvPr/>
        </p:nvSpPr>
        <p:spPr>
          <a:xfrm>
            <a:off x="9666360" y="2876400"/>
            <a:ext cx="314280" cy="333360"/>
          </a:xfrm>
          <a:custGeom>
            <a:avLst/>
            <a:gdLst/>
            <a:ahLst/>
            <a:rect l="l" t="t" r="r" b="b"/>
            <a:pathLst>
              <a:path w="45" h="48">
                <a:moveTo>
                  <a:pt x="45" y="32"/>
                </a:moveTo>
                <a:cubicBezTo>
                  <a:pt x="37" y="34"/>
                  <a:pt x="37" y="34"/>
                  <a:pt x="37" y="34"/>
                </a:cubicBezTo>
                <a:cubicBezTo>
                  <a:pt x="37" y="42"/>
                  <a:pt x="37" y="42"/>
                  <a:pt x="37" y="42"/>
                </a:cubicBezTo>
                <a:cubicBezTo>
                  <a:pt x="37" y="43"/>
                  <a:pt x="37" y="43"/>
                  <a:pt x="37" y="43"/>
                </a:cubicBezTo>
                <a:cubicBezTo>
                  <a:pt x="36" y="43"/>
                  <a:pt x="36" y="43"/>
                  <a:pt x="36" y="43"/>
                </a:cubicBezTo>
                <a:cubicBezTo>
                  <a:pt x="28" y="41"/>
                  <a:pt x="28" y="41"/>
                  <a:pt x="28" y="41"/>
                </a:cubicBezTo>
                <a:cubicBezTo>
                  <a:pt x="23" y="47"/>
                  <a:pt x="23" y="47"/>
                  <a:pt x="23" y="47"/>
                </a:cubicBezTo>
                <a:cubicBezTo>
                  <a:pt x="23" y="48"/>
                  <a:pt x="23" y="48"/>
                  <a:pt x="22" y="48"/>
                </a:cubicBezTo>
                <a:cubicBezTo>
                  <a:pt x="22" y="48"/>
                  <a:pt x="22" y="48"/>
                  <a:pt x="22" y="47"/>
                </a:cubicBezTo>
                <a:cubicBezTo>
                  <a:pt x="17" y="41"/>
                  <a:pt x="17" y="41"/>
                  <a:pt x="17" y="41"/>
                </a:cubicBezTo>
                <a:cubicBezTo>
                  <a:pt x="9" y="43"/>
                  <a:pt x="9" y="43"/>
                  <a:pt x="9" y="43"/>
                </a:cubicBezTo>
                <a:cubicBezTo>
                  <a:pt x="9" y="43"/>
                  <a:pt x="9" y="43"/>
                  <a:pt x="8" y="43"/>
                </a:cubicBezTo>
                <a:cubicBezTo>
                  <a:pt x="8" y="43"/>
                  <a:pt x="8" y="43"/>
                  <a:pt x="8" y="42"/>
                </a:cubicBezTo>
                <a:cubicBezTo>
                  <a:pt x="8" y="34"/>
                  <a:pt x="8" y="34"/>
                  <a:pt x="8" y="34"/>
                </a:cubicBezTo>
                <a:cubicBezTo>
                  <a:pt x="0" y="32"/>
                  <a:pt x="0" y="32"/>
                  <a:pt x="0" y="32"/>
                </a:cubicBezTo>
                <a:cubicBezTo>
                  <a:pt x="0" y="32"/>
                  <a:pt x="0" y="31"/>
                  <a:pt x="0" y="31"/>
                </a:cubicBezTo>
                <a:cubicBezTo>
                  <a:pt x="0" y="31"/>
                  <a:pt x="0" y="31"/>
                  <a:pt x="0" y="30"/>
                </a:cubicBezTo>
                <a:cubicBezTo>
                  <a:pt x="5" y="24"/>
                  <a:pt x="5" y="24"/>
                  <a:pt x="5" y="24"/>
                </a:cubicBezTo>
                <a:cubicBezTo>
                  <a:pt x="0" y="17"/>
                  <a:pt x="0" y="17"/>
                  <a:pt x="0" y="17"/>
                </a:cubicBezTo>
                <a:cubicBezTo>
                  <a:pt x="0" y="17"/>
                  <a:pt x="0" y="17"/>
                  <a:pt x="0" y="16"/>
                </a:cubicBezTo>
                <a:cubicBezTo>
                  <a:pt x="0" y="16"/>
                  <a:pt x="0" y="16"/>
                  <a:pt x="0" y="16"/>
                </a:cubicBezTo>
                <a:cubicBezTo>
                  <a:pt x="8" y="13"/>
                  <a:pt x="8" y="13"/>
                  <a:pt x="8" y="13"/>
                </a:cubicBezTo>
                <a:cubicBezTo>
                  <a:pt x="8" y="5"/>
                  <a:pt x="8" y="5"/>
                  <a:pt x="8" y="5"/>
                </a:cubicBezTo>
                <a:cubicBezTo>
                  <a:pt x="8" y="5"/>
                  <a:pt x="8" y="4"/>
                  <a:pt x="8" y="4"/>
                </a:cubicBezTo>
                <a:cubicBezTo>
                  <a:pt x="9" y="4"/>
                  <a:pt x="9" y="4"/>
                  <a:pt x="9" y="4"/>
                </a:cubicBezTo>
                <a:cubicBezTo>
                  <a:pt x="17" y="7"/>
                  <a:pt x="17" y="7"/>
                  <a:pt x="17" y="7"/>
                </a:cubicBezTo>
                <a:cubicBezTo>
                  <a:pt x="22" y="0"/>
                  <a:pt x="22" y="0"/>
                  <a:pt x="22" y="0"/>
                </a:cubicBezTo>
                <a:cubicBezTo>
                  <a:pt x="22" y="0"/>
                  <a:pt x="23" y="0"/>
                  <a:pt x="23" y="0"/>
                </a:cubicBezTo>
                <a:cubicBezTo>
                  <a:pt x="28" y="7"/>
                  <a:pt x="28" y="7"/>
                  <a:pt x="28" y="7"/>
                </a:cubicBezTo>
                <a:cubicBezTo>
                  <a:pt x="36" y="4"/>
                  <a:pt x="36" y="4"/>
                  <a:pt x="36" y="4"/>
                </a:cubicBezTo>
                <a:cubicBezTo>
                  <a:pt x="36" y="4"/>
                  <a:pt x="36" y="4"/>
                  <a:pt x="37" y="4"/>
                </a:cubicBezTo>
                <a:cubicBezTo>
                  <a:pt x="37" y="4"/>
                  <a:pt x="37" y="5"/>
                  <a:pt x="37" y="5"/>
                </a:cubicBezTo>
                <a:cubicBezTo>
                  <a:pt x="37" y="13"/>
                  <a:pt x="37" y="13"/>
                  <a:pt x="37" y="13"/>
                </a:cubicBezTo>
                <a:cubicBezTo>
                  <a:pt x="45" y="16"/>
                  <a:pt x="45" y="16"/>
                  <a:pt x="45" y="16"/>
                </a:cubicBezTo>
                <a:cubicBezTo>
                  <a:pt x="45" y="16"/>
                  <a:pt x="45" y="16"/>
                  <a:pt x="45" y="16"/>
                </a:cubicBezTo>
                <a:cubicBezTo>
                  <a:pt x="45" y="17"/>
                  <a:pt x="45" y="17"/>
                  <a:pt x="45" y="17"/>
                </a:cubicBezTo>
                <a:cubicBezTo>
                  <a:pt x="40" y="24"/>
                  <a:pt x="40" y="24"/>
                  <a:pt x="40" y="24"/>
                </a:cubicBezTo>
                <a:cubicBezTo>
                  <a:pt x="45" y="30"/>
                  <a:pt x="45" y="30"/>
                  <a:pt x="45" y="30"/>
                </a:cubicBezTo>
                <a:cubicBezTo>
                  <a:pt x="45" y="31"/>
                  <a:pt x="45" y="31"/>
                  <a:pt x="45" y="31"/>
                </a:cubicBezTo>
                <a:cubicBezTo>
                  <a:pt x="45" y="31"/>
                  <a:pt x="45" y="32"/>
                  <a:pt x="45" y="32"/>
                </a:cubicBezTo>
                <a:close/>
                <a:moveTo>
                  <a:pt x="22" y="8"/>
                </a:moveTo>
                <a:cubicBezTo>
                  <a:pt x="14" y="8"/>
                  <a:pt x="7" y="15"/>
                  <a:pt x="7" y="24"/>
                </a:cubicBezTo>
                <a:cubicBezTo>
                  <a:pt x="7" y="32"/>
                  <a:pt x="14" y="39"/>
                  <a:pt x="22" y="39"/>
                </a:cubicBezTo>
                <a:cubicBezTo>
                  <a:pt x="31" y="39"/>
                  <a:pt x="38" y="32"/>
                  <a:pt x="38" y="24"/>
                </a:cubicBezTo>
                <a:cubicBezTo>
                  <a:pt x="38" y="15"/>
                  <a:pt x="31" y="8"/>
                  <a:pt x="22" y="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28" name="稻壳儿小白白(http://dwz.cn/Wu2UP)"/>
          <p:cNvSpPr/>
          <p:nvPr/>
        </p:nvSpPr>
        <p:spPr>
          <a:xfrm>
            <a:off x="9666360" y="3408480"/>
            <a:ext cx="314280" cy="257040"/>
          </a:xfrm>
          <a:custGeom>
            <a:avLst/>
            <a:gdLst/>
            <a:ahLst/>
            <a:rect l="l" t="t" r="r" b="b"/>
            <a:pathLst>
              <a:path w="45" h="37">
                <a:moveTo>
                  <a:pt x="45" y="33"/>
                </a:moveTo>
                <a:cubicBezTo>
                  <a:pt x="45" y="35"/>
                  <a:pt x="43" y="37"/>
                  <a:pt x="40" y="37"/>
                </a:cubicBezTo>
                <a:cubicBezTo>
                  <a:pt x="4" y="37"/>
                  <a:pt x="4" y="37"/>
                  <a:pt x="4" y="37"/>
                </a:cubicBezTo>
                <a:cubicBezTo>
                  <a:pt x="2" y="37"/>
                  <a:pt x="0" y="35"/>
                  <a:pt x="0" y="33"/>
                </a:cubicBezTo>
                <a:cubicBezTo>
                  <a:pt x="0" y="4"/>
                  <a:pt x="0" y="4"/>
                  <a:pt x="0" y="4"/>
                </a:cubicBezTo>
                <a:cubicBezTo>
                  <a:pt x="0" y="2"/>
                  <a:pt x="2" y="0"/>
                  <a:pt x="4" y="0"/>
                </a:cubicBezTo>
                <a:cubicBezTo>
                  <a:pt x="40" y="0"/>
                  <a:pt x="40" y="0"/>
                  <a:pt x="40" y="0"/>
                </a:cubicBezTo>
                <a:cubicBezTo>
                  <a:pt x="43" y="0"/>
                  <a:pt x="45" y="2"/>
                  <a:pt x="45" y="4"/>
                </a:cubicBezTo>
                <a:lnTo>
                  <a:pt x="45" y="33"/>
                </a:lnTo>
                <a:close/>
                <a:moveTo>
                  <a:pt x="14" y="7"/>
                </a:moveTo>
                <a:cubicBezTo>
                  <a:pt x="14" y="7"/>
                  <a:pt x="13" y="7"/>
                  <a:pt x="13" y="7"/>
                </a:cubicBezTo>
                <a:cubicBezTo>
                  <a:pt x="4" y="7"/>
                  <a:pt x="4" y="7"/>
                  <a:pt x="4" y="7"/>
                </a:cubicBezTo>
                <a:cubicBezTo>
                  <a:pt x="4" y="7"/>
                  <a:pt x="4" y="7"/>
                  <a:pt x="4" y="7"/>
                </a:cubicBezTo>
                <a:cubicBezTo>
                  <a:pt x="4" y="13"/>
                  <a:pt x="4" y="13"/>
                  <a:pt x="4" y="13"/>
                </a:cubicBezTo>
                <a:cubicBezTo>
                  <a:pt x="4" y="13"/>
                  <a:pt x="4" y="13"/>
                  <a:pt x="4" y="13"/>
                </a:cubicBezTo>
                <a:cubicBezTo>
                  <a:pt x="13" y="13"/>
                  <a:pt x="13" y="13"/>
                  <a:pt x="13" y="13"/>
                </a:cubicBezTo>
                <a:cubicBezTo>
                  <a:pt x="13" y="13"/>
                  <a:pt x="14" y="13"/>
                  <a:pt x="14" y="13"/>
                </a:cubicBezTo>
                <a:lnTo>
                  <a:pt x="14" y="7"/>
                </a:lnTo>
                <a:close/>
                <a:moveTo>
                  <a:pt x="14" y="18"/>
                </a:moveTo>
                <a:cubicBezTo>
                  <a:pt x="14" y="17"/>
                  <a:pt x="13" y="17"/>
                  <a:pt x="13" y="17"/>
                </a:cubicBezTo>
                <a:cubicBezTo>
                  <a:pt x="4" y="17"/>
                  <a:pt x="4" y="17"/>
                  <a:pt x="4" y="17"/>
                </a:cubicBezTo>
                <a:cubicBezTo>
                  <a:pt x="4" y="17"/>
                  <a:pt x="4" y="17"/>
                  <a:pt x="4" y="18"/>
                </a:cubicBezTo>
                <a:cubicBezTo>
                  <a:pt x="4" y="23"/>
                  <a:pt x="4" y="23"/>
                  <a:pt x="4" y="23"/>
                </a:cubicBezTo>
                <a:cubicBezTo>
                  <a:pt x="4" y="23"/>
                  <a:pt x="4" y="24"/>
                  <a:pt x="4" y="24"/>
                </a:cubicBezTo>
                <a:cubicBezTo>
                  <a:pt x="13" y="24"/>
                  <a:pt x="13" y="24"/>
                  <a:pt x="13" y="24"/>
                </a:cubicBezTo>
                <a:cubicBezTo>
                  <a:pt x="13" y="24"/>
                  <a:pt x="14" y="23"/>
                  <a:pt x="14" y="23"/>
                </a:cubicBezTo>
                <a:lnTo>
                  <a:pt x="14" y="18"/>
                </a:lnTo>
                <a:close/>
                <a:moveTo>
                  <a:pt x="14" y="28"/>
                </a:moveTo>
                <a:cubicBezTo>
                  <a:pt x="14" y="27"/>
                  <a:pt x="13" y="27"/>
                  <a:pt x="13" y="27"/>
                </a:cubicBezTo>
                <a:cubicBezTo>
                  <a:pt x="4" y="27"/>
                  <a:pt x="4" y="27"/>
                  <a:pt x="4" y="27"/>
                </a:cubicBezTo>
                <a:cubicBezTo>
                  <a:pt x="4" y="27"/>
                  <a:pt x="4" y="27"/>
                  <a:pt x="4" y="28"/>
                </a:cubicBezTo>
                <a:cubicBezTo>
                  <a:pt x="4" y="33"/>
                  <a:pt x="4" y="33"/>
                  <a:pt x="4" y="33"/>
                </a:cubicBezTo>
                <a:cubicBezTo>
                  <a:pt x="4" y="34"/>
                  <a:pt x="4" y="34"/>
                  <a:pt x="4" y="34"/>
                </a:cubicBezTo>
                <a:cubicBezTo>
                  <a:pt x="13" y="34"/>
                  <a:pt x="13" y="34"/>
                  <a:pt x="13" y="34"/>
                </a:cubicBezTo>
                <a:cubicBezTo>
                  <a:pt x="13" y="34"/>
                  <a:pt x="14" y="34"/>
                  <a:pt x="14" y="33"/>
                </a:cubicBezTo>
                <a:lnTo>
                  <a:pt x="14" y="28"/>
                </a:lnTo>
                <a:close/>
                <a:moveTo>
                  <a:pt x="28" y="7"/>
                </a:moveTo>
                <a:cubicBezTo>
                  <a:pt x="28" y="7"/>
                  <a:pt x="27" y="7"/>
                  <a:pt x="27" y="7"/>
                </a:cubicBezTo>
                <a:cubicBezTo>
                  <a:pt x="18" y="7"/>
                  <a:pt x="18" y="7"/>
                  <a:pt x="18" y="7"/>
                </a:cubicBezTo>
                <a:cubicBezTo>
                  <a:pt x="18" y="7"/>
                  <a:pt x="17" y="7"/>
                  <a:pt x="17" y="7"/>
                </a:cubicBezTo>
                <a:cubicBezTo>
                  <a:pt x="17" y="13"/>
                  <a:pt x="17" y="13"/>
                  <a:pt x="17" y="13"/>
                </a:cubicBezTo>
                <a:cubicBezTo>
                  <a:pt x="17" y="13"/>
                  <a:pt x="18" y="13"/>
                  <a:pt x="18" y="13"/>
                </a:cubicBezTo>
                <a:cubicBezTo>
                  <a:pt x="27" y="13"/>
                  <a:pt x="27" y="13"/>
                  <a:pt x="27" y="13"/>
                </a:cubicBezTo>
                <a:cubicBezTo>
                  <a:pt x="27" y="13"/>
                  <a:pt x="28" y="13"/>
                  <a:pt x="28" y="13"/>
                </a:cubicBezTo>
                <a:lnTo>
                  <a:pt x="28" y="7"/>
                </a:lnTo>
                <a:close/>
                <a:moveTo>
                  <a:pt x="28" y="18"/>
                </a:moveTo>
                <a:cubicBezTo>
                  <a:pt x="28" y="17"/>
                  <a:pt x="27" y="17"/>
                  <a:pt x="27" y="17"/>
                </a:cubicBezTo>
                <a:cubicBezTo>
                  <a:pt x="18" y="17"/>
                  <a:pt x="18" y="17"/>
                  <a:pt x="18" y="17"/>
                </a:cubicBezTo>
                <a:cubicBezTo>
                  <a:pt x="18" y="17"/>
                  <a:pt x="17" y="17"/>
                  <a:pt x="17" y="18"/>
                </a:cubicBezTo>
                <a:cubicBezTo>
                  <a:pt x="17" y="23"/>
                  <a:pt x="17" y="23"/>
                  <a:pt x="17" y="23"/>
                </a:cubicBezTo>
                <a:cubicBezTo>
                  <a:pt x="17" y="23"/>
                  <a:pt x="18" y="24"/>
                  <a:pt x="18" y="24"/>
                </a:cubicBezTo>
                <a:cubicBezTo>
                  <a:pt x="27" y="24"/>
                  <a:pt x="27" y="24"/>
                  <a:pt x="27" y="24"/>
                </a:cubicBezTo>
                <a:cubicBezTo>
                  <a:pt x="27" y="24"/>
                  <a:pt x="28" y="23"/>
                  <a:pt x="28" y="23"/>
                </a:cubicBezTo>
                <a:lnTo>
                  <a:pt x="28" y="18"/>
                </a:lnTo>
                <a:close/>
                <a:moveTo>
                  <a:pt x="28" y="28"/>
                </a:moveTo>
                <a:cubicBezTo>
                  <a:pt x="28" y="27"/>
                  <a:pt x="27" y="27"/>
                  <a:pt x="27" y="27"/>
                </a:cubicBezTo>
                <a:cubicBezTo>
                  <a:pt x="18" y="27"/>
                  <a:pt x="18" y="27"/>
                  <a:pt x="18" y="27"/>
                </a:cubicBezTo>
                <a:cubicBezTo>
                  <a:pt x="18" y="27"/>
                  <a:pt x="17" y="27"/>
                  <a:pt x="17" y="28"/>
                </a:cubicBezTo>
                <a:cubicBezTo>
                  <a:pt x="17" y="33"/>
                  <a:pt x="17" y="33"/>
                  <a:pt x="17" y="33"/>
                </a:cubicBezTo>
                <a:cubicBezTo>
                  <a:pt x="17" y="34"/>
                  <a:pt x="18" y="34"/>
                  <a:pt x="18" y="34"/>
                </a:cubicBezTo>
                <a:cubicBezTo>
                  <a:pt x="27" y="34"/>
                  <a:pt x="27" y="34"/>
                  <a:pt x="27" y="34"/>
                </a:cubicBezTo>
                <a:cubicBezTo>
                  <a:pt x="27" y="34"/>
                  <a:pt x="28" y="34"/>
                  <a:pt x="28" y="33"/>
                </a:cubicBezTo>
                <a:lnTo>
                  <a:pt x="28" y="28"/>
                </a:lnTo>
                <a:close/>
                <a:moveTo>
                  <a:pt x="41" y="7"/>
                </a:moveTo>
                <a:cubicBezTo>
                  <a:pt x="41" y="7"/>
                  <a:pt x="41" y="7"/>
                  <a:pt x="40" y="7"/>
                </a:cubicBezTo>
                <a:cubicBezTo>
                  <a:pt x="32" y="7"/>
                  <a:pt x="32" y="7"/>
                  <a:pt x="32" y="7"/>
                </a:cubicBezTo>
                <a:cubicBezTo>
                  <a:pt x="31" y="7"/>
                  <a:pt x="31" y="7"/>
                  <a:pt x="31" y="7"/>
                </a:cubicBezTo>
                <a:cubicBezTo>
                  <a:pt x="31" y="13"/>
                  <a:pt x="31" y="13"/>
                  <a:pt x="31" y="13"/>
                </a:cubicBezTo>
                <a:cubicBezTo>
                  <a:pt x="31" y="13"/>
                  <a:pt x="31" y="13"/>
                  <a:pt x="32" y="13"/>
                </a:cubicBezTo>
                <a:cubicBezTo>
                  <a:pt x="40" y="13"/>
                  <a:pt x="40" y="13"/>
                  <a:pt x="40" y="13"/>
                </a:cubicBezTo>
                <a:cubicBezTo>
                  <a:pt x="41" y="13"/>
                  <a:pt x="41" y="13"/>
                  <a:pt x="41" y="13"/>
                </a:cubicBezTo>
                <a:lnTo>
                  <a:pt x="41" y="7"/>
                </a:lnTo>
                <a:close/>
                <a:moveTo>
                  <a:pt x="41" y="18"/>
                </a:moveTo>
                <a:cubicBezTo>
                  <a:pt x="41" y="17"/>
                  <a:pt x="41" y="17"/>
                  <a:pt x="40" y="17"/>
                </a:cubicBezTo>
                <a:cubicBezTo>
                  <a:pt x="32" y="17"/>
                  <a:pt x="32" y="17"/>
                  <a:pt x="32" y="17"/>
                </a:cubicBezTo>
                <a:cubicBezTo>
                  <a:pt x="31" y="17"/>
                  <a:pt x="31" y="17"/>
                  <a:pt x="31" y="18"/>
                </a:cubicBezTo>
                <a:cubicBezTo>
                  <a:pt x="31" y="23"/>
                  <a:pt x="31" y="23"/>
                  <a:pt x="31" y="23"/>
                </a:cubicBezTo>
                <a:cubicBezTo>
                  <a:pt x="31" y="23"/>
                  <a:pt x="31" y="24"/>
                  <a:pt x="32" y="24"/>
                </a:cubicBezTo>
                <a:cubicBezTo>
                  <a:pt x="40" y="24"/>
                  <a:pt x="40" y="24"/>
                  <a:pt x="40" y="24"/>
                </a:cubicBezTo>
                <a:cubicBezTo>
                  <a:pt x="41" y="24"/>
                  <a:pt x="41" y="23"/>
                  <a:pt x="41" y="23"/>
                </a:cubicBezTo>
                <a:lnTo>
                  <a:pt x="41" y="18"/>
                </a:lnTo>
                <a:close/>
                <a:moveTo>
                  <a:pt x="41" y="28"/>
                </a:moveTo>
                <a:cubicBezTo>
                  <a:pt x="41" y="27"/>
                  <a:pt x="41" y="27"/>
                  <a:pt x="40" y="27"/>
                </a:cubicBezTo>
                <a:cubicBezTo>
                  <a:pt x="32" y="27"/>
                  <a:pt x="32" y="27"/>
                  <a:pt x="32" y="27"/>
                </a:cubicBezTo>
                <a:cubicBezTo>
                  <a:pt x="31" y="27"/>
                  <a:pt x="31" y="27"/>
                  <a:pt x="31" y="28"/>
                </a:cubicBezTo>
                <a:cubicBezTo>
                  <a:pt x="31" y="33"/>
                  <a:pt x="31" y="33"/>
                  <a:pt x="31" y="33"/>
                </a:cubicBezTo>
                <a:cubicBezTo>
                  <a:pt x="31" y="34"/>
                  <a:pt x="31" y="34"/>
                  <a:pt x="32" y="34"/>
                </a:cubicBezTo>
                <a:cubicBezTo>
                  <a:pt x="40" y="34"/>
                  <a:pt x="40" y="34"/>
                  <a:pt x="40" y="34"/>
                </a:cubicBezTo>
                <a:cubicBezTo>
                  <a:pt x="41" y="34"/>
                  <a:pt x="41" y="34"/>
                  <a:pt x="41" y="33"/>
                </a:cubicBezTo>
                <a:lnTo>
                  <a:pt x="41" y="2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29" name="稻壳儿小白白(http://dwz.cn/Wu2UP)"/>
          <p:cNvSpPr/>
          <p:nvPr/>
        </p:nvSpPr>
        <p:spPr>
          <a:xfrm>
            <a:off x="9717120" y="3913200"/>
            <a:ext cx="212760" cy="262080"/>
          </a:xfrm>
          <a:custGeom>
            <a:avLst/>
            <a:gdLst/>
            <a:ahLst/>
            <a:rect l="l" t="t" r="r" b="b"/>
            <a:pathLst>
              <a:path w="31" h="38">
                <a:moveTo>
                  <a:pt x="31" y="34"/>
                </a:moveTo>
                <a:cubicBezTo>
                  <a:pt x="31" y="36"/>
                  <a:pt x="29" y="38"/>
                  <a:pt x="27" y="38"/>
                </a:cubicBezTo>
                <a:cubicBezTo>
                  <a:pt x="4" y="38"/>
                  <a:pt x="4" y="38"/>
                  <a:pt x="4" y="38"/>
                </a:cubicBezTo>
                <a:cubicBezTo>
                  <a:pt x="2" y="38"/>
                  <a:pt x="0" y="36"/>
                  <a:pt x="0" y="34"/>
                </a:cubicBezTo>
                <a:cubicBezTo>
                  <a:pt x="0" y="5"/>
                  <a:pt x="0" y="5"/>
                  <a:pt x="0" y="5"/>
                </a:cubicBezTo>
                <a:cubicBezTo>
                  <a:pt x="0" y="2"/>
                  <a:pt x="2" y="0"/>
                  <a:pt x="4" y="0"/>
                </a:cubicBezTo>
                <a:cubicBezTo>
                  <a:pt x="27" y="0"/>
                  <a:pt x="27" y="0"/>
                  <a:pt x="27" y="0"/>
                </a:cubicBezTo>
                <a:cubicBezTo>
                  <a:pt x="29" y="0"/>
                  <a:pt x="31" y="2"/>
                  <a:pt x="31" y="5"/>
                </a:cubicBezTo>
                <a:lnTo>
                  <a:pt x="31" y="34"/>
                </a:lnTo>
                <a:close/>
                <a:moveTo>
                  <a:pt x="27" y="5"/>
                </a:moveTo>
                <a:cubicBezTo>
                  <a:pt x="27" y="4"/>
                  <a:pt x="27" y="4"/>
                  <a:pt x="27" y="4"/>
                </a:cubicBezTo>
                <a:cubicBezTo>
                  <a:pt x="4" y="4"/>
                  <a:pt x="4" y="4"/>
                  <a:pt x="4" y="4"/>
                </a:cubicBezTo>
                <a:cubicBezTo>
                  <a:pt x="4" y="4"/>
                  <a:pt x="3" y="4"/>
                  <a:pt x="3" y="5"/>
                </a:cubicBezTo>
                <a:cubicBezTo>
                  <a:pt x="3" y="30"/>
                  <a:pt x="3" y="30"/>
                  <a:pt x="3" y="30"/>
                </a:cubicBezTo>
                <a:cubicBezTo>
                  <a:pt x="3" y="31"/>
                  <a:pt x="4" y="31"/>
                  <a:pt x="4" y="31"/>
                </a:cubicBezTo>
                <a:cubicBezTo>
                  <a:pt x="27" y="31"/>
                  <a:pt x="27" y="31"/>
                  <a:pt x="27" y="31"/>
                </a:cubicBezTo>
                <a:cubicBezTo>
                  <a:pt x="27" y="31"/>
                  <a:pt x="27" y="31"/>
                  <a:pt x="27" y="30"/>
                </a:cubicBezTo>
                <a:lnTo>
                  <a:pt x="27" y="5"/>
                </a:lnTo>
                <a:close/>
                <a:moveTo>
                  <a:pt x="15" y="33"/>
                </a:moveTo>
                <a:cubicBezTo>
                  <a:pt x="14" y="33"/>
                  <a:pt x="14" y="34"/>
                  <a:pt x="14" y="35"/>
                </a:cubicBezTo>
                <a:cubicBezTo>
                  <a:pt x="14" y="36"/>
                  <a:pt x="14" y="36"/>
                  <a:pt x="15" y="36"/>
                </a:cubicBezTo>
                <a:cubicBezTo>
                  <a:pt x="16" y="36"/>
                  <a:pt x="17" y="36"/>
                  <a:pt x="17" y="35"/>
                </a:cubicBezTo>
                <a:cubicBezTo>
                  <a:pt x="17" y="34"/>
                  <a:pt x="16" y="33"/>
                  <a:pt x="15" y="3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30" name="稻壳儿小白白(http://dwz.cn/Wu2UP)"/>
          <p:cNvSpPr/>
          <p:nvPr/>
        </p:nvSpPr>
        <p:spPr>
          <a:xfrm>
            <a:off x="9655200" y="4446720"/>
            <a:ext cx="330120" cy="263520"/>
          </a:xfrm>
          <a:custGeom>
            <a:avLst/>
            <a:gdLst/>
            <a:ahLst/>
            <a:rect l="l" t="t" r="r" b="b"/>
            <a:pathLst>
              <a:path w="48" h="38">
                <a:moveTo>
                  <a:pt x="45" y="37"/>
                </a:moveTo>
                <a:cubicBezTo>
                  <a:pt x="44" y="38"/>
                  <a:pt x="44" y="38"/>
                  <a:pt x="43" y="38"/>
                </a:cubicBezTo>
                <a:cubicBezTo>
                  <a:pt x="6" y="38"/>
                  <a:pt x="6" y="38"/>
                  <a:pt x="6" y="38"/>
                </a:cubicBezTo>
                <a:cubicBezTo>
                  <a:pt x="5" y="38"/>
                  <a:pt x="5" y="38"/>
                  <a:pt x="4" y="37"/>
                </a:cubicBezTo>
                <a:cubicBezTo>
                  <a:pt x="2" y="33"/>
                  <a:pt x="0" y="29"/>
                  <a:pt x="0" y="24"/>
                </a:cubicBezTo>
                <a:cubicBezTo>
                  <a:pt x="0" y="11"/>
                  <a:pt x="11" y="0"/>
                  <a:pt x="24" y="0"/>
                </a:cubicBezTo>
                <a:cubicBezTo>
                  <a:pt x="38" y="0"/>
                  <a:pt x="48" y="11"/>
                  <a:pt x="48" y="24"/>
                </a:cubicBezTo>
                <a:cubicBezTo>
                  <a:pt x="48" y="29"/>
                  <a:pt x="47" y="33"/>
                  <a:pt x="45" y="37"/>
                </a:cubicBezTo>
                <a:close/>
                <a:moveTo>
                  <a:pt x="7" y="21"/>
                </a:moveTo>
                <a:cubicBezTo>
                  <a:pt x="5" y="21"/>
                  <a:pt x="4" y="22"/>
                  <a:pt x="4" y="24"/>
                </a:cubicBezTo>
                <a:cubicBezTo>
                  <a:pt x="4" y="26"/>
                  <a:pt x="5" y="28"/>
                  <a:pt x="7" y="28"/>
                </a:cubicBezTo>
                <a:cubicBezTo>
                  <a:pt x="9" y="28"/>
                  <a:pt x="11" y="26"/>
                  <a:pt x="11" y="24"/>
                </a:cubicBezTo>
                <a:cubicBezTo>
                  <a:pt x="11" y="22"/>
                  <a:pt x="9" y="21"/>
                  <a:pt x="7" y="21"/>
                </a:cubicBezTo>
                <a:close/>
                <a:moveTo>
                  <a:pt x="12" y="9"/>
                </a:moveTo>
                <a:cubicBezTo>
                  <a:pt x="11" y="9"/>
                  <a:pt x="9" y="10"/>
                  <a:pt x="9" y="12"/>
                </a:cubicBezTo>
                <a:cubicBezTo>
                  <a:pt x="9" y="14"/>
                  <a:pt x="11" y="16"/>
                  <a:pt x="12" y="16"/>
                </a:cubicBezTo>
                <a:cubicBezTo>
                  <a:pt x="14" y="16"/>
                  <a:pt x="16" y="14"/>
                  <a:pt x="16" y="12"/>
                </a:cubicBezTo>
                <a:cubicBezTo>
                  <a:pt x="16" y="10"/>
                  <a:pt x="14" y="9"/>
                  <a:pt x="12" y="9"/>
                </a:cubicBezTo>
                <a:close/>
                <a:moveTo>
                  <a:pt x="30" y="15"/>
                </a:moveTo>
                <a:cubicBezTo>
                  <a:pt x="30" y="14"/>
                  <a:pt x="30" y="13"/>
                  <a:pt x="29" y="13"/>
                </a:cubicBezTo>
                <a:cubicBezTo>
                  <a:pt x="28" y="13"/>
                  <a:pt x="27" y="13"/>
                  <a:pt x="27" y="14"/>
                </a:cubicBezTo>
                <a:cubicBezTo>
                  <a:pt x="24" y="24"/>
                  <a:pt x="24" y="24"/>
                  <a:pt x="24" y="24"/>
                </a:cubicBezTo>
                <a:cubicBezTo>
                  <a:pt x="22" y="25"/>
                  <a:pt x="20" y="26"/>
                  <a:pt x="19" y="28"/>
                </a:cubicBezTo>
                <a:cubicBezTo>
                  <a:pt x="19" y="31"/>
                  <a:pt x="20" y="34"/>
                  <a:pt x="23" y="34"/>
                </a:cubicBezTo>
                <a:cubicBezTo>
                  <a:pt x="26" y="35"/>
                  <a:pt x="29" y="34"/>
                  <a:pt x="29" y="31"/>
                </a:cubicBezTo>
                <a:cubicBezTo>
                  <a:pt x="30" y="29"/>
                  <a:pt x="29" y="26"/>
                  <a:pt x="27" y="25"/>
                </a:cubicBezTo>
                <a:lnTo>
                  <a:pt x="30" y="15"/>
                </a:lnTo>
                <a:close/>
                <a:moveTo>
                  <a:pt x="24" y="4"/>
                </a:moveTo>
                <a:cubicBezTo>
                  <a:pt x="23" y="4"/>
                  <a:pt x="21" y="5"/>
                  <a:pt x="21" y="7"/>
                </a:cubicBezTo>
                <a:cubicBezTo>
                  <a:pt x="21" y="9"/>
                  <a:pt x="23" y="11"/>
                  <a:pt x="24" y="11"/>
                </a:cubicBezTo>
                <a:cubicBezTo>
                  <a:pt x="26" y="11"/>
                  <a:pt x="28" y="9"/>
                  <a:pt x="28" y="7"/>
                </a:cubicBezTo>
                <a:cubicBezTo>
                  <a:pt x="28" y="5"/>
                  <a:pt x="26" y="4"/>
                  <a:pt x="24" y="4"/>
                </a:cubicBezTo>
                <a:close/>
                <a:moveTo>
                  <a:pt x="36" y="9"/>
                </a:moveTo>
                <a:cubicBezTo>
                  <a:pt x="35" y="9"/>
                  <a:pt x="33" y="10"/>
                  <a:pt x="33" y="12"/>
                </a:cubicBezTo>
                <a:cubicBezTo>
                  <a:pt x="33" y="14"/>
                  <a:pt x="35" y="16"/>
                  <a:pt x="36" y="16"/>
                </a:cubicBezTo>
                <a:cubicBezTo>
                  <a:pt x="38" y="16"/>
                  <a:pt x="40" y="14"/>
                  <a:pt x="40" y="12"/>
                </a:cubicBezTo>
                <a:cubicBezTo>
                  <a:pt x="40" y="10"/>
                  <a:pt x="38" y="9"/>
                  <a:pt x="36" y="9"/>
                </a:cubicBezTo>
                <a:close/>
                <a:moveTo>
                  <a:pt x="42" y="21"/>
                </a:moveTo>
                <a:cubicBezTo>
                  <a:pt x="40" y="21"/>
                  <a:pt x="38" y="22"/>
                  <a:pt x="38" y="24"/>
                </a:cubicBezTo>
                <a:cubicBezTo>
                  <a:pt x="38" y="26"/>
                  <a:pt x="40" y="28"/>
                  <a:pt x="42" y="28"/>
                </a:cubicBezTo>
                <a:cubicBezTo>
                  <a:pt x="43" y="28"/>
                  <a:pt x="45" y="26"/>
                  <a:pt x="45" y="24"/>
                </a:cubicBezTo>
                <a:cubicBezTo>
                  <a:pt x="45" y="22"/>
                  <a:pt x="43" y="21"/>
                  <a:pt x="42" y="2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31" name="稻壳儿小白白(http://dwz.cn/Wu2UP)"/>
          <p:cNvSpPr/>
          <p:nvPr/>
        </p:nvSpPr>
        <p:spPr>
          <a:xfrm>
            <a:off x="9682200" y="4930920"/>
            <a:ext cx="277920" cy="284040"/>
          </a:xfrm>
          <a:custGeom>
            <a:avLst/>
            <a:gdLst/>
            <a:ahLst/>
            <a:rect l="l" t="t" r="r" b="b"/>
            <a:pathLst>
              <a:path w="40" h="41">
                <a:moveTo>
                  <a:pt x="39" y="27"/>
                </a:moveTo>
                <a:cubicBezTo>
                  <a:pt x="26" y="40"/>
                  <a:pt x="26" y="40"/>
                  <a:pt x="26" y="40"/>
                </a:cubicBezTo>
                <a:cubicBezTo>
                  <a:pt x="26" y="41"/>
                  <a:pt x="25" y="41"/>
                  <a:pt x="24" y="41"/>
                </a:cubicBezTo>
                <a:cubicBezTo>
                  <a:pt x="23" y="41"/>
                  <a:pt x="22" y="41"/>
                  <a:pt x="21" y="40"/>
                </a:cubicBezTo>
                <a:cubicBezTo>
                  <a:pt x="2" y="21"/>
                  <a:pt x="2" y="21"/>
                  <a:pt x="2" y="21"/>
                </a:cubicBezTo>
                <a:cubicBezTo>
                  <a:pt x="1" y="20"/>
                  <a:pt x="0" y="17"/>
                  <a:pt x="0" y="15"/>
                </a:cubicBezTo>
                <a:cubicBezTo>
                  <a:pt x="0" y="4"/>
                  <a:pt x="0" y="4"/>
                  <a:pt x="0" y="4"/>
                </a:cubicBezTo>
                <a:cubicBezTo>
                  <a:pt x="0" y="2"/>
                  <a:pt x="1" y="0"/>
                  <a:pt x="3" y="0"/>
                </a:cubicBezTo>
                <a:cubicBezTo>
                  <a:pt x="14" y="0"/>
                  <a:pt x="14" y="0"/>
                  <a:pt x="14" y="0"/>
                </a:cubicBezTo>
                <a:cubicBezTo>
                  <a:pt x="16" y="0"/>
                  <a:pt x="19" y="2"/>
                  <a:pt x="20" y="3"/>
                </a:cubicBezTo>
                <a:cubicBezTo>
                  <a:pt x="39" y="22"/>
                  <a:pt x="39" y="22"/>
                  <a:pt x="39" y="22"/>
                </a:cubicBezTo>
                <a:cubicBezTo>
                  <a:pt x="40" y="23"/>
                  <a:pt x="40" y="24"/>
                  <a:pt x="40" y="24"/>
                </a:cubicBezTo>
                <a:cubicBezTo>
                  <a:pt x="40" y="25"/>
                  <a:pt x="40" y="26"/>
                  <a:pt x="39" y="27"/>
                </a:cubicBezTo>
                <a:close/>
                <a:moveTo>
                  <a:pt x="8" y="6"/>
                </a:moveTo>
                <a:cubicBezTo>
                  <a:pt x="7" y="6"/>
                  <a:pt x="5" y="7"/>
                  <a:pt x="5" y="9"/>
                </a:cubicBezTo>
                <a:cubicBezTo>
                  <a:pt x="5" y="11"/>
                  <a:pt x="7" y="12"/>
                  <a:pt x="8" y="12"/>
                </a:cubicBezTo>
                <a:cubicBezTo>
                  <a:pt x="10" y="12"/>
                  <a:pt x="12" y="11"/>
                  <a:pt x="12" y="9"/>
                </a:cubicBezTo>
                <a:cubicBezTo>
                  <a:pt x="12" y="7"/>
                  <a:pt x="10" y="6"/>
                  <a:pt x="8" y="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32" name="稻壳儿小白白(http://dwz.cn/Wu2UP)"/>
          <p:cNvSpPr/>
          <p:nvPr/>
        </p:nvSpPr>
        <p:spPr>
          <a:xfrm>
            <a:off x="9647280" y="5442120"/>
            <a:ext cx="352440" cy="282240"/>
          </a:xfrm>
          <a:custGeom>
            <a:avLst/>
            <a:gdLst/>
            <a:ahLst/>
            <a:rect l="l" t="t" r="r" b="b"/>
            <a:pathLst>
              <a:path w="51" h="41">
                <a:moveTo>
                  <a:pt x="39" y="26"/>
                </a:moveTo>
                <a:cubicBezTo>
                  <a:pt x="26" y="40"/>
                  <a:pt x="26" y="40"/>
                  <a:pt x="26" y="40"/>
                </a:cubicBezTo>
                <a:cubicBezTo>
                  <a:pt x="26" y="40"/>
                  <a:pt x="25" y="41"/>
                  <a:pt x="24" y="41"/>
                </a:cubicBezTo>
                <a:cubicBezTo>
                  <a:pt x="23" y="41"/>
                  <a:pt x="22" y="40"/>
                  <a:pt x="21" y="40"/>
                </a:cubicBezTo>
                <a:cubicBezTo>
                  <a:pt x="2" y="20"/>
                  <a:pt x="2" y="20"/>
                  <a:pt x="2" y="20"/>
                </a:cubicBezTo>
                <a:cubicBezTo>
                  <a:pt x="1" y="19"/>
                  <a:pt x="0" y="17"/>
                  <a:pt x="0" y="15"/>
                </a:cubicBezTo>
                <a:cubicBezTo>
                  <a:pt x="0" y="4"/>
                  <a:pt x="0" y="4"/>
                  <a:pt x="0" y="4"/>
                </a:cubicBezTo>
                <a:cubicBezTo>
                  <a:pt x="0" y="2"/>
                  <a:pt x="1" y="0"/>
                  <a:pt x="3" y="0"/>
                </a:cubicBezTo>
                <a:cubicBezTo>
                  <a:pt x="14" y="0"/>
                  <a:pt x="14" y="0"/>
                  <a:pt x="14" y="0"/>
                </a:cubicBezTo>
                <a:cubicBezTo>
                  <a:pt x="16" y="0"/>
                  <a:pt x="19" y="1"/>
                  <a:pt x="20" y="3"/>
                </a:cubicBezTo>
                <a:cubicBezTo>
                  <a:pt x="39" y="22"/>
                  <a:pt x="39" y="22"/>
                  <a:pt x="39" y="22"/>
                </a:cubicBezTo>
                <a:cubicBezTo>
                  <a:pt x="40" y="22"/>
                  <a:pt x="40" y="23"/>
                  <a:pt x="40" y="24"/>
                </a:cubicBezTo>
                <a:cubicBezTo>
                  <a:pt x="40" y="25"/>
                  <a:pt x="40" y="26"/>
                  <a:pt x="39" y="26"/>
                </a:cubicBezTo>
                <a:close/>
                <a:moveTo>
                  <a:pt x="8" y="5"/>
                </a:moveTo>
                <a:cubicBezTo>
                  <a:pt x="6" y="5"/>
                  <a:pt x="5" y="7"/>
                  <a:pt x="5" y="9"/>
                </a:cubicBezTo>
                <a:cubicBezTo>
                  <a:pt x="5" y="11"/>
                  <a:pt x="6" y="12"/>
                  <a:pt x="8" y="12"/>
                </a:cubicBezTo>
                <a:cubicBezTo>
                  <a:pt x="10" y="12"/>
                  <a:pt x="12" y="11"/>
                  <a:pt x="12" y="9"/>
                </a:cubicBezTo>
                <a:cubicBezTo>
                  <a:pt x="12" y="7"/>
                  <a:pt x="10" y="5"/>
                  <a:pt x="8" y="5"/>
                </a:cubicBezTo>
                <a:close/>
                <a:moveTo>
                  <a:pt x="50" y="26"/>
                </a:moveTo>
                <a:cubicBezTo>
                  <a:pt x="36" y="40"/>
                  <a:pt x="36" y="40"/>
                  <a:pt x="36" y="40"/>
                </a:cubicBezTo>
                <a:cubicBezTo>
                  <a:pt x="36" y="40"/>
                  <a:pt x="35" y="41"/>
                  <a:pt x="34" y="41"/>
                </a:cubicBezTo>
                <a:cubicBezTo>
                  <a:pt x="33" y="41"/>
                  <a:pt x="32" y="40"/>
                  <a:pt x="31" y="39"/>
                </a:cubicBezTo>
                <a:cubicBezTo>
                  <a:pt x="44" y="26"/>
                  <a:pt x="44" y="26"/>
                  <a:pt x="44" y="26"/>
                </a:cubicBezTo>
                <a:cubicBezTo>
                  <a:pt x="44" y="26"/>
                  <a:pt x="45" y="25"/>
                  <a:pt x="45" y="24"/>
                </a:cubicBezTo>
                <a:cubicBezTo>
                  <a:pt x="45" y="23"/>
                  <a:pt x="44" y="22"/>
                  <a:pt x="44" y="22"/>
                </a:cubicBezTo>
                <a:cubicBezTo>
                  <a:pt x="24" y="3"/>
                  <a:pt x="24" y="3"/>
                  <a:pt x="24" y="3"/>
                </a:cubicBezTo>
                <a:cubicBezTo>
                  <a:pt x="23" y="1"/>
                  <a:pt x="20" y="0"/>
                  <a:pt x="19" y="0"/>
                </a:cubicBezTo>
                <a:cubicBezTo>
                  <a:pt x="25" y="0"/>
                  <a:pt x="25" y="0"/>
                  <a:pt x="25" y="0"/>
                </a:cubicBezTo>
                <a:cubicBezTo>
                  <a:pt x="26" y="0"/>
                  <a:pt x="29" y="1"/>
                  <a:pt x="30" y="3"/>
                </a:cubicBezTo>
                <a:cubicBezTo>
                  <a:pt x="50" y="22"/>
                  <a:pt x="50" y="22"/>
                  <a:pt x="50" y="22"/>
                </a:cubicBezTo>
                <a:cubicBezTo>
                  <a:pt x="50" y="22"/>
                  <a:pt x="51" y="23"/>
                  <a:pt x="51" y="24"/>
                </a:cubicBezTo>
                <a:cubicBezTo>
                  <a:pt x="51" y="25"/>
                  <a:pt x="50" y="26"/>
                  <a:pt x="50" y="2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33" name="稻壳儿小白白(http://dwz.cn/Wu2UP)"/>
          <p:cNvSpPr/>
          <p:nvPr/>
        </p:nvSpPr>
        <p:spPr>
          <a:xfrm>
            <a:off x="10578960" y="863640"/>
            <a:ext cx="208080" cy="303120"/>
          </a:xfrm>
          <a:custGeom>
            <a:avLst/>
            <a:gdLst/>
            <a:ahLst/>
            <a:rect l="l" t="t" r="r" b="b"/>
            <a:pathLst>
              <a:path w="30" h="44">
                <a:moveTo>
                  <a:pt x="29" y="31"/>
                </a:moveTo>
                <a:cubicBezTo>
                  <a:pt x="17" y="31"/>
                  <a:pt x="17" y="31"/>
                  <a:pt x="17" y="31"/>
                </a:cubicBezTo>
                <a:cubicBezTo>
                  <a:pt x="16" y="43"/>
                  <a:pt x="16" y="43"/>
                  <a:pt x="16" y="43"/>
                </a:cubicBezTo>
                <a:cubicBezTo>
                  <a:pt x="16" y="44"/>
                  <a:pt x="15" y="44"/>
                  <a:pt x="15" y="44"/>
                </a:cubicBezTo>
                <a:cubicBezTo>
                  <a:pt x="15" y="44"/>
                  <a:pt x="15" y="44"/>
                  <a:pt x="15" y="44"/>
                </a:cubicBezTo>
                <a:cubicBezTo>
                  <a:pt x="15" y="44"/>
                  <a:pt x="14" y="44"/>
                  <a:pt x="14" y="44"/>
                </a:cubicBezTo>
                <a:cubicBezTo>
                  <a:pt x="12" y="31"/>
                  <a:pt x="12" y="31"/>
                  <a:pt x="12" y="31"/>
                </a:cubicBezTo>
                <a:cubicBezTo>
                  <a:pt x="1" y="31"/>
                  <a:pt x="1" y="31"/>
                  <a:pt x="1" y="31"/>
                </a:cubicBezTo>
                <a:cubicBezTo>
                  <a:pt x="0" y="31"/>
                  <a:pt x="0" y="30"/>
                  <a:pt x="0" y="29"/>
                </a:cubicBezTo>
                <a:cubicBezTo>
                  <a:pt x="0" y="24"/>
                  <a:pt x="3" y="20"/>
                  <a:pt x="6" y="20"/>
                </a:cubicBezTo>
                <a:cubicBezTo>
                  <a:pt x="6" y="7"/>
                  <a:pt x="6" y="7"/>
                  <a:pt x="6" y="7"/>
                </a:cubicBezTo>
                <a:cubicBezTo>
                  <a:pt x="5" y="7"/>
                  <a:pt x="3" y="5"/>
                  <a:pt x="3" y="3"/>
                </a:cubicBezTo>
                <a:cubicBezTo>
                  <a:pt x="3" y="1"/>
                  <a:pt x="5" y="0"/>
                  <a:pt x="6" y="0"/>
                </a:cubicBezTo>
                <a:cubicBezTo>
                  <a:pt x="24" y="0"/>
                  <a:pt x="24" y="0"/>
                  <a:pt x="24" y="0"/>
                </a:cubicBezTo>
                <a:cubicBezTo>
                  <a:pt x="25" y="0"/>
                  <a:pt x="27" y="1"/>
                  <a:pt x="27" y="3"/>
                </a:cubicBezTo>
                <a:cubicBezTo>
                  <a:pt x="27" y="5"/>
                  <a:pt x="25" y="7"/>
                  <a:pt x="24" y="7"/>
                </a:cubicBezTo>
                <a:cubicBezTo>
                  <a:pt x="24" y="20"/>
                  <a:pt x="24" y="20"/>
                  <a:pt x="24" y="20"/>
                </a:cubicBezTo>
                <a:cubicBezTo>
                  <a:pt x="27" y="20"/>
                  <a:pt x="30" y="24"/>
                  <a:pt x="30" y="29"/>
                </a:cubicBezTo>
                <a:cubicBezTo>
                  <a:pt x="30" y="30"/>
                  <a:pt x="30" y="31"/>
                  <a:pt x="29" y="31"/>
                </a:cubicBezTo>
                <a:close/>
                <a:moveTo>
                  <a:pt x="12" y="7"/>
                </a:moveTo>
                <a:cubicBezTo>
                  <a:pt x="12" y="7"/>
                  <a:pt x="12" y="7"/>
                  <a:pt x="12" y="7"/>
                </a:cubicBezTo>
                <a:cubicBezTo>
                  <a:pt x="11" y="7"/>
                  <a:pt x="11" y="7"/>
                  <a:pt x="11" y="7"/>
                </a:cubicBezTo>
                <a:cubicBezTo>
                  <a:pt x="11" y="19"/>
                  <a:pt x="11" y="19"/>
                  <a:pt x="11" y="19"/>
                </a:cubicBezTo>
                <a:cubicBezTo>
                  <a:pt x="11" y="20"/>
                  <a:pt x="11" y="20"/>
                  <a:pt x="12" y="20"/>
                </a:cubicBezTo>
                <a:cubicBezTo>
                  <a:pt x="12" y="20"/>
                  <a:pt x="12" y="20"/>
                  <a:pt x="12" y="19"/>
                </a:cubicBezTo>
                <a:lnTo>
                  <a:pt x="12" y="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34" name="稻壳儿小白白(http://dwz.cn/Wu2UP)"/>
          <p:cNvSpPr/>
          <p:nvPr/>
        </p:nvSpPr>
        <p:spPr>
          <a:xfrm>
            <a:off x="10533240" y="1397160"/>
            <a:ext cx="298440" cy="284040"/>
          </a:xfrm>
          <a:custGeom>
            <a:avLst/>
            <a:gdLst/>
            <a:ahLst/>
            <a:rect l="l" t="t" r="r" b="b"/>
            <a:pathLst>
              <a:path w="43" h="41">
                <a:moveTo>
                  <a:pt x="11" y="22"/>
                </a:moveTo>
                <a:cubicBezTo>
                  <a:pt x="11" y="23"/>
                  <a:pt x="10" y="24"/>
                  <a:pt x="9" y="24"/>
                </a:cubicBezTo>
                <a:cubicBezTo>
                  <a:pt x="1" y="24"/>
                  <a:pt x="1" y="24"/>
                  <a:pt x="1" y="24"/>
                </a:cubicBezTo>
                <a:cubicBezTo>
                  <a:pt x="0" y="24"/>
                  <a:pt x="0" y="23"/>
                  <a:pt x="0" y="22"/>
                </a:cubicBezTo>
                <a:cubicBezTo>
                  <a:pt x="0" y="5"/>
                  <a:pt x="0" y="5"/>
                  <a:pt x="0" y="5"/>
                </a:cubicBezTo>
                <a:cubicBezTo>
                  <a:pt x="0" y="4"/>
                  <a:pt x="0" y="3"/>
                  <a:pt x="1" y="3"/>
                </a:cubicBezTo>
                <a:cubicBezTo>
                  <a:pt x="9" y="3"/>
                  <a:pt x="9" y="3"/>
                  <a:pt x="9" y="3"/>
                </a:cubicBezTo>
                <a:cubicBezTo>
                  <a:pt x="10" y="3"/>
                  <a:pt x="11" y="4"/>
                  <a:pt x="11" y="5"/>
                </a:cubicBezTo>
                <a:lnTo>
                  <a:pt x="11" y="22"/>
                </a:lnTo>
                <a:close/>
                <a:moveTo>
                  <a:pt x="7" y="8"/>
                </a:moveTo>
                <a:cubicBezTo>
                  <a:pt x="7" y="7"/>
                  <a:pt x="6" y="7"/>
                  <a:pt x="5" y="7"/>
                </a:cubicBezTo>
                <a:cubicBezTo>
                  <a:pt x="4" y="7"/>
                  <a:pt x="3" y="7"/>
                  <a:pt x="3" y="8"/>
                </a:cubicBezTo>
                <a:cubicBezTo>
                  <a:pt x="3" y="9"/>
                  <a:pt x="4" y="10"/>
                  <a:pt x="5" y="10"/>
                </a:cubicBezTo>
                <a:cubicBezTo>
                  <a:pt x="6" y="10"/>
                  <a:pt x="7" y="9"/>
                  <a:pt x="7" y="8"/>
                </a:cubicBezTo>
                <a:close/>
                <a:moveTo>
                  <a:pt x="41" y="18"/>
                </a:moveTo>
                <a:cubicBezTo>
                  <a:pt x="41" y="17"/>
                  <a:pt x="41" y="16"/>
                  <a:pt x="41" y="16"/>
                </a:cubicBezTo>
                <a:cubicBezTo>
                  <a:pt x="42" y="15"/>
                  <a:pt x="41" y="13"/>
                  <a:pt x="40" y="12"/>
                </a:cubicBezTo>
                <a:cubicBezTo>
                  <a:pt x="41" y="11"/>
                  <a:pt x="41" y="10"/>
                  <a:pt x="40" y="9"/>
                </a:cubicBezTo>
                <a:cubicBezTo>
                  <a:pt x="40" y="8"/>
                  <a:pt x="40" y="7"/>
                  <a:pt x="39" y="7"/>
                </a:cubicBezTo>
                <a:cubicBezTo>
                  <a:pt x="39" y="5"/>
                  <a:pt x="39" y="3"/>
                  <a:pt x="38" y="2"/>
                </a:cubicBezTo>
                <a:cubicBezTo>
                  <a:pt x="36" y="0"/>
                  <a:pt x="35" y="0"/>
                  <a:pt x="32" y="0"/>
                </a:cubicBezTo>
                <a:cubicBezTo>
                  <a:pt x="32" y="0"/>
                  <a:pt x="32" y="0"/>
                  <a:pt x="31" y="0"/>
                </a:cubicBezTo>
                <a:cubicBezTo>
                  <a:pt x="29" y="0"/>
                  <a:pt x="29" y="0"/>
                  <a:pt x="29" y="0"/>
                </a:cubicBezTo>
                <a:cubicBezTo>
                  <a:pt x="29" y="0"/>
                  <a:pt x="29" y="0"/>
                  <a:pt x="29" y="0"/>
                </a:cubicBezTo>
                <a:cubicBezTo>
                  <a:pt x="25" y="0"/>
                  <a:pt x="21" y="1"/>
                  <a:pt x="18" y="2"/>
                </a:cubicBezTo>
                <a:cubicBezTo>
                  <a:pt x="17" y="3"/>
                  <a:pt x="15" y="3"/>
                  <a:pt x="14" y="3"/>
                </a:cubicBezTo>
                <a:cubicBezTo>
                  <a:pt x="13" y="3"/>
                  <a:pt x="13" y="4"/>
                  <a:pt x="13" y="5"/>
                </a:cubicBezTo>
                <a:cubicBezTo>
                  <a:pt x="13" y="22"/>
                  <a:pt x="13" y="22"/>
                  <a:pt x="13" y="22"/>
                </a:cubicBezTo>
                <a:cubicBezTo>
                  <a:pt x="13" y="23"/>
                  <a:pt x="13" y="24"/>
                  <a:pt x="14" y="24"/>
                </a:cubicBezTo>
                <a:cubicBezTo>
                  <a:pt x="15" y="24"/>
                  <a:pt x="18" y="27"/>
                  <a:pt x="19" y="29"/>
                </a:cubicBezTo>
                <a:cubicBezTo>
                  <a:pt x="20" y="30"/>
                  <a:pt x="21" y="31"/>
                  <a:pt x="22" y="32"/>
                </a:cubicBezTo>
                <a:cubicBezTo>
                  <a:pt x="23" y="33"/>
                  <a:pt x="23" y="34"/>
                  <a:pt x="23" y="36"/>
                </a:cubicBezTo>
                <a:cubicBezTo>
                  <a:pt x="24" y="38"/>
                  <a:pt x="24" y="39"/>
                  <a:pt x="25" y="40"/>
                </a:cubicBezTo>
                <a:cubicBezTo>
                  <a:pt x="25" y="41"/>
                  <a:pt x="26" y="41"/>
                  <a:pt x="26" y="41"/>
                </a:cubicBezTo>
                <a:cubicBezTo>
                  <a:pt x="32" y="41"/>
                  <a:pt x="32" y="36"/>
                  <a:pt x="32" y="34"/>
                </a:cubicBezTo>
                <a:cubicBezTo>
                  <a:pt x="32" y="32"/>
                  <a:pt x="31" y="30"/>
                  <a:pt x="31" y="29"/>
                </a:cubicBezTo>
                <a:cubicBezTo>
                  <a:pt x="30" y="28"/>
                  <a:pt x="30" y="28"/>
                  <a:pt x="30" y="27"/>
                </a:cubicBezTo>
                <a:cubicBezTo>
                  <a:pt x="37" y="27"/>
                  <a:pt x="37" y="27"/>
                  <a:pt x="37" y="27"/>
                </a:cubicBezTo>
                <a:cubicBezTo>
                  <a:pt x="40" y="27"/>
                  <a:pt x="43" y="25"/>
                  <a:pt x="43" y="22"/>
                </a:cubicBezTo>
                <a:cubicBezTo>
                  <a:pt x="43" y="21"/>
                  <a:pt x="42" y="19"/>
                  <a:pt x="41" y="1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35" name="稻壳儿小白白(http://dwz.cn/Wu2UP)"/>
          <p:cNvSpPr/>
          <p:nvPr/>
        </p:nvSpPr>
        <p:spPr>
          <a:xfrm>
            <a:off x="10537920" y="1881360"/>
            <a:ext cx="293760" cy="304560"/>
          </a:xfrm>
          <a:custGeom>
            <a:avLst/>
            <a:gdLst/>
            <a:ahLst/>
            <a:rect l="l" t="t" r="r" b="b"/>
            <a:pathLst>
              <a:path w="42" h="44">
                <a:moveTo>
                  <a:pt x="35" y="31"/>
                </a:moveTo>
                <a:cubicBezTo>
                  <a:pt x="30" y="31"/>
                  <a:pt x="30" y="31"/>
                  <a:pt x="30" y="31"/>
                </a:cubicBezTo>
                <a:cubicBezTo>
                  <a:pt x="31" y="32"/>
                  <a:pt x="31" y="34"/>
                  <a:pt x="31" y="36"/>
                </a:cubicBezTo>
                <a:cubicBezTo>
                  <a:pt x="31" y="38"/>
                  <a:pt x="31" y="39"/>
                  <a:pt x="30" y="41"/>
                </a:cubicBezTo>
                <a:cubicBezTo>
                  <a:pt x="29" y="43"/>
                  <a:pt x="26" y="44"/>
                  <a:pt x="24" y="44"/>
                </a:cubicBezTo>
                <a:cubicBezTo>
                  <a:pt x="23" y="44"/>
                  <a:pt x="22" y="44"/>
                  <a:pt x="21" y="43"/>
                </a:cubicBezTo>
                <a:cubicBezTo>
                  <a:pt x="18" y="41"/>
                  <a:pt x="19" y="37"/>
                  <a:pt x="18" y="35"/>
                </a:cubicBezTo>
                <a:cubicBezTo>
                  <a:pt x="17" y="34"/>
                  <a:pt x="16" y="33"/>
                  <a:pt x="15" y="31"/>
                </a:cubicBezTo>
                <a:cubicBezTo>
                  <a:pt x="14" y="30"/>
                  <a:pt x="12" y="28"/>
                  <a:pt x="11" y="27"/>
                </a:cubicBezTo>
                <a:cubicBezTo>
                  <a:pt x="4" y="27"/>
                  <a:pt x="4" y="27"/>
                  <a:pt x="4" y="27"/>
                </a:cubicBezTo>
                <a:cubicBezTo>
                  <a:pt x="2" y="27"/>
                  <a:pt x="0" y="26"/>
                  <a:pt x="0" y="24"/>
                </a:cubicBezTo>
                <a:cubicBezTo>
                  <a:pt x="0" y="7"/>
                  <a:pt x="0" y="7"/>
                  <a:pt x="0" y="7"/>
                </a:cubicBezTo>
                <a:cubicBezTo>
                  <a:pt x="0" y="5"/>
                  <a:pt x="2" y="3"/>
                  <a:pt x="4" y="3"/>
                </a:cubicBezTo>
                <a:cubicBezTo>
                  <a:pt x="12" y="3"/>
                  <a:pt x="12" y="3"/>
                  <a:pt x="12" y="3"/>
                </a:cubicBezTo>
                <a:cubicBezTo>
                  <a:pt x="12" y="3"/>
                  <a:pt x="14" y="3"/>
                  <a:pt x="15" y="2"/>
                </a:cubicBezTo>
                <a:cubicBezTo>
                  <a:pt x="19" y="1"/>
                  <a:pt x="22" y="0"/>
                  <a:pt x="27" y="0"/>
                </a:cubicBezTo>
                <a:cubicBezTo>
                  <a:pt x="30" y="0"/>
                  <a:pt x="30" y="0"/>
                  <a:pt x="30" y="0"/>
                </a:cubicBezTo>
                <a:cubicBezTo>
                  <a:pt x="34" y="0"/>
                  <a:pt x="38" y="3"/>
                  <a:pt x="38" y="8"/>
                </a:cubicBezTo>
                <a:cubicBezTo>
                  <a:pt x="38" y="8"/>
                  <a:pt x="38" y="8"/>
                  <a:pt x="38" y="8"/>
                </a:cubicBezTo>
                <a:cubicBezTo>
                  <a:pt x="39" y="9"/>
                  <a:pt x="40" y="11"/>
                  <a:pt x="40" y="13"/>
                </a:cubicBezTo>
                <a:cubicBezTo>
                  <a:pt x="40" y="13"/>
                  <a:pt x="40" y="13"/>
                  <a:pt x="39" y="14"/>
                </a:cubicBezTo>
                <a:cubicBezTo>
                  <a:pt x="40" y="15"/>
                  <a:pt x="40" y="16"/>
                  <a:pt x="40" y="18"/>
                </a:cubicBezTo>
                <a:cubicBezTo>
                  <a:pt x="40" y="18"/>
                  <a:pt x="40" y="19"/>
                  <a:pt x="40" y="20"/>
                </a:cubicBezTo>
                <a:cubicBezTo>
                  <a:pt x="41" y="21"/>
                  <a:pt x="42" y="22"/>
                  <a:pt x="42" y="24"/>
                </a:cubicBezTo>
                <a:cubicBezTo>
                  <a:pt x="42" y="28"/>
                  <a:pt x="38" y="31"/>
                  <a:pt x="35" y="31"/>
                </a:cubicBezTo>
                <a:close/>
                <a:moveTo>
                  <a:pt x="6" y="7"/>
                </a:moveTo>
                <a:cubicBezTo>
                  <a:pt x="5" y="7"/>
                  <a:pt x="4" y="8"/>
                  <a:pt x="4" y="8"/>
                </a:cubicBezTo>
                <a:cubicBezTo>
                  <a:pt x="4" y="9"/>
                  <a:pt x="5" y="10"/>
                  <a:pt x="6" y="10"/>
                </a:cubicBezTo>
                <a:cubicBezTo>
                  <a:pt x="6" y="10"/>
                  <a:pt x="7" y="9"/>
                  <a:pt x="7" y="8"/>
                </a:cubicBezTo>
                <a:cubicBezTo>
                  <a:pt x="7" y="8"/>
                  <a:pt x="6" y="7"/>
                  <a:pt x="6" y="7"/>
                </a:cubicBezTo>
                <a:close/>
                <a:moveTo>
                  <a:pt x="36" y="20"/>
                </a:moveTo>
                <a:cubicBezTo>
                  <a:pt x="37" y="20"/>
                  <a:pt x="37" y="19"/>
                  <a:pt x="37" y="18"/>
                </a:cubicBezTo>
                <a:cubicBezTo>
                  <a:pt x="37" y="16"/>
                  <a:pt x="37" y="15"/>
                  <a:pt x="36" y="15"/>
                </a:cubicBezTo>
                <a:cubicBezTo>
                  <a:pt x="36" y="14"/>
                  <a:pt x="36" y="13"/>
                  <a:pt x="36" y="13"/>
                </a:cubicBezTo>
                <a:cubicBezTo>
                  <a:pt x="36" y="11"/>
                  <a:pt x="36" y="10"/>
                  <a:pt x="34" y="9"/>
                </a:cubicBezTo>
                <a:cubicBezTo>
                  <a:pt x="34" y="9"/>
                  <a:pt x="35" y="8"/>
                  <a:pt x="35" y="8"/>
                </a:cubicBezTo>
                <a:cubicBezTo>
                  <a:pt x="35" y="5"/>
                  <a:pt x="33" y="3"/>
                  <a:pt x="30" y="3"/>
                </a:cubicBezTo>
                <a:cubicBezTo>
                  <a:pt x="26" y="3"/>
                  <a:pt x="26" y="3"/>
                  <a:pt x="26" y="3"/>
                </a:cubicBezTo>
                <a:cubicBezTo>
                  <a:pt x="23" y="3"/>
                  <a:pt x="20" y="4"/>
                  <a:pt x="17" y="5"/>
                </a:cubicBezTo>
                <a:cubicBezTo>
                  <a:pt x="16" y="6"/>
                  <a:pt x="13" y="7"/>
                  <a:pt x="12" y="7"/>
                </a:cubicBezTo>
                <a:cubicBezTo>
                  <a:pt x="11" y="7"/>
                  <a:pt x="11" y="7"/>
                  <a:pt x="11" y="7"/>
                </a:cubicBezTo>
                <a:cubicBezTo>
                  <a:pt x="11" y="24"/>
                  <a:pt x="11" y="24"/>
                  <a:pt x="11" y="24"/>
                </a:cubicBezTo>
                <a:cubicBezTo>
                  <a:pt x="12" y="24"/>
                  <a:pt x="12" y="24"/>
                  <a:pt x="12" y="24"/>
                </a:cubicBezTo>
                <a:cubicBezTo>
                  <a:pt x="14" y="24"/>
                  <a:pt x="17" y="28"/>
                  <a:pt x="18" y="30"/>
                </a:cubicBezTo>
                <a:cubicBezTo>
                  <a:pt x="19" y="31"/>
                  <a:pt x="19" y="32"/>
                  <a:pt x="20" y="32"/>
                </a:cubicBezTo>
                <a:cubicBezTo>
                  <a:pt x="23" y="35"/>
                  <a:pt x="22" y="39"/>
                  <a:pt x="24" y="41"/>
                </a:cubicBezTo>
                <a:cubicBezTo>
                  <a:pt x="27" y="41"/>
                  <a:pt x="28" y="39"/>
                  <a:pt x="28" y="36"/>
                </a:cubicBezTo>
                <a:cubicBezTo>
                  <a:pt x="28" y="33"/>
                  <a:pt x="25" y="30"/>
                  <a:pt x="25" y="27"/>
                </a:cubicBezTo>
                <a:cubicBezTo>
                  <a:pt x="35" y="27"/>
                  <a:pt x="35" y="27"/>
                  <a:pt x="35" y="27"/>
                </a:cubicBezTo>
                <a:cubicBezTo>
                  <a:pt x="36" y="27"/>
                  <a:pt x="38" y="26"/>
                  <a:pt x="38" y="24"/>
                </a:cubicBezTo>
                <a:cubicBezTo>
                  <a:pt x="38" y="23"/>
                  <a:pt x="37" y="20"/>
                  <a:pt x="36" y="2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36" name="稻壳儿小白白(http://dwz.cn/Wu2UP)"/>
          <p:cNvSpPr/>
          <p:nvPr/>
        </p:nvSpPr>
        <p:spPr>
          <a:xfrm>
            <a:off x="10537920" y="2363760"/>
            <a:ext cx="293760" cy="312840"/>
          </a:xfrm>
          <a:custGeom>
            <a:avLst/>
            <a:gdLst/>
            <a:ahLst/>
            <a:rect l="l" t="t" r="r" b="b"/>
            <a:pathLst>
              <a:path w="42" h="45">
                <a:moveTo>
                  <a:pt x="40" y="25"/>
                </a:moveTo>
                <a:cubicBezTo>
                  <a:pt x="40" y="26"/>
                  <a:pt x="40" y="26"/>
                  <a:pt x="40" y="27"/>
                </a:cubicBezTo>
                <a:cubicBezTo>
                  <a:pt x="40" y="28"/>
                  <a:pt x="40" y="29"/>
                  <a:pt x="39" y="31"/>
                </a:cubicBezTo>
                <a:cubicBezTo>
                  <a:pt x="40" y="31"/>
                  <a:pt x="40" y="31"/>
                  <a:pt x="40" y="32"/>
                </a:cubicBezTo>
                <a:cubicBezTo>
                  <a:pt x="40" y="34"/>
                  <a:pt x="39" y="35"/>
                  <a:pt x="38" y="37"/>
                </a:cubicBezTo>
                <a:cubicBezTo>
                  <a:pt x="38" y="42"/>
                  <a:pt x="35" y="45"/>
                  <a:pt x="30" y="45"/>
                </a:cubicBezTo>
                <a:cubicBezTo>
                  <a:pt x="29" y="45"/>
                  <a:pt x="29" y="45"/>
                  <a:pt x="29" y="45"/>
                </a:cubicBezTo>
                <a:cubicBezTo>
                  <a:pt x="26" y="45"/>
                  <a:pt x="26" y="45"/>
                  <a:pt x="26" y="45"/>
                </a:cubicBezTo>
                <a:cubicBezTo>
                  <a:pt x="22" y="45"/>
                  <a:pt x="19" y="44"/>
                  <a:pt x="15" y="42"/>
                </a:cubicBezTo>
                <a:cubicBezTo>
                  <a:pt x="14" y="42"/>
                  <a:pt x="12" y="41"/>
                  <a:pt x="12" y="41"/>
                </a:cubicBezTo>
                <a:cubicBezTo>
                  <a:pt x="4" y="41"/>
                  <a:pt x="4" y="41"/>
                  <a:pt x="4" y="41"/>
                </a:cubicBezTo>
                <a:cubicBezTo>
                  <a:pt x="2" y="41"/>
                  <a:pt x="0" y="40"/>
                  <a:pt x="0" y="38"/>
                </a:cubicBezTo>
                <a:cubicBezTo>
                  <a:pt x="0" y="21"/>
                  <a:pt x="0" y="21"/>
                  <a:pt x="0" y="21"/>
                </a:cubicBezTo>
                <a:cubicBezTo>
                  <a:pt x="0" y="19"/>
                  <a:pt x="2" y="17"/>
                  <a:pt x="4" y="17"/>
                </a:cubicBezTo>
                <a:cubicBezTo>
                  <a:pt x="11" y="17"/>
                  <a:pt x="11" y="17"/>
                  <a:pt x="11" y="17"/>
                </a:cubicBezTo>
                <a:cubicBezTo>
                  <a:pt x="12" y="16"/>
                  <a:pt x="14" y="14"/>
                  <a:pt x="15" y="13"/>
                </a:cubicBezTo>
                <a:cubicBezTo>
                  <a:pt x="16" y="12"/>
                  <a:pt x="17" y="11"/>
                  <a:pt x="18" y="10"/>
                </a:cubicBezTo>
                <a:cubicBezTo>
                  <a:pt x="19" y="8"/>
                  <a:pt x="18" y="4"/>
                  <a:pt x="21" y="1"/>
                </a:cubicBezTo>
                <a:cubicBezTo>
                  <a:pt x="22" y="0"/>
                  <a:pt x="23" y="0"/>
                  <a:pt x="24" y="0"/>
                </a:cubicBezTo>
                <a:cubicBezTo>
                  <a:pt x="26" y="0"/>
                  <a:pt x="29" y="1"/>
                  <a:pt x="30" y="4"/>
                </a:cubicBezTo>
                <a:cubicBezTo>
                  <a:pt x="31" y="5"/>
                  <a:pt x="31" y="7"/>
                  <a:pt x="31" y="9"/>
                </a:cubicBezTo>
                <a:cubicBezTo>
                  <a:pt x="31" y="10"/>
                  <a:pt x="31" y="12"/>
                  <a:pt x="30" y="14"/>
                </a:cubicBezTo>
                <a:cubicBezTo>
                  <a:pt x="35" y="14"/>
                  <a:pt x="35" y="14"/>
                  <a:pt x="35" y="14"/>
                </a:cubicBezTo>
                <a:cubicBezTo>
                  <a:pt x="38" y="14"/>
                  <a:pt x="42" y="17"/>
                  <a:pt x="42" y="21"/>
                </a:cubicBezTo>
                <a:cubicBezTo>
                  <a:pt x="42" y="22"/>
                  <a:pt x="41" y="24"/>
                  <a:pt x="40" y="25"/>
                </a:cubicBezTo>
                <a:close/>
                <a:moveTo>
                  <a:pt x="6" y="34"/>
                </a:moveTo>
                <a:cubicBezTo>
                  <a:pt x="5" y="34"/>
                  <a:pt x="4" y="35"/>
                  <a:pt x="4" y="36"/>
                </a:cubicBezTo>
                <a:cubicBezTo>
                  <a:pt x="4" y="37"/>
                  <a:pt x="5" y="38"/>
                  <a:pt x="6" y="38"/>
                </a:cubicBezTo>
                <a:cubicBezTo>
                  <a:pt x="6" y="38"/>
                  <a:pt x="7" y="37"/>
                  <a:pt x="7" y="36"/>
                </a:cubicBezTo>
                <a:cubicBezTo>
                  <a:pt x="7" y="35"/>
                  <a:pt x="6" y="34"/>
                  <a:pt x="6" y="34"/>
                </a:cubicBezTo>
                <a:close/>
                <a:moveTo>
                  <a:pt x="35" y="17"/>
                </a:moveTo>
                <a:cubicBezTo>
                  <a:pt x="25" y="17"/>
                  <a:pt x="25" y="17"/>
                  <a:pt x="25" y="17"/>
                </a:cubicBezTo>
                <a:cubicBezTo>
                  <a:pt x="25" y="14"/>
                  <a:pt x="28" y="12"/>
                  <a:pt x="28" y="9"/>
                </a:cubicBezTo>
                <a:cubicBezTo>
                  <a:pt x="28" y="5"/>
                  <a:pt x="27" y="3"/>
                  <a:pt x="24" y="3"/>
                </a:cubicBezTo>
                <a:cubicBezTo>
                  <a:pt x="22" y="5"/>
                  <a:pt x="23" y="9"/>
                  <a:pt x="20" y="12"/>
                </a:cubicBezTo>
                <a:cubicBezTo>
                  <a:pt x="19" y="13"/>
                  <a:pt x="19" y="14"/>
                  <a:pt x="18" y="14"/>
                </a:cubicBezTo>
                <a:cubicBezTo>
                  <a:pt x="17" y="16"/>
                  <a:pt x="14" y="21"/>
                  <a:pt x="12" y="21"/>
                </a:cubicBezTo>
                <a:cubicBezTo>
                  <a:pt x="11" y="21"/>
                  <a:pt x="11" y="21"/>
                  <a:pt x="11" y="21"/>
                </a:cubicBezTo>
                <a:cubicBezTo>
                  <a:pt x="11" y="38"/>
                  <a:pt x="11" y="38"/>
                  <a:pt x="11" y="38"/>
                </a:cubicBezTo>
                <a:cubicBezTo>
                  <a:pt x="12" y="38"/>
                  <a:pt x="12" y="38"/>
                  <a:pt x="12" y="38"/>
                </a:cubicBezTo>
                <a:cubicBezTo>
                  <a:pt x="13" y="38"/>
                  <a:pt x="16" y="39"/>
                  <a:pt x="17" y="39"/>
                </a:cubicBezTo>
                <a:cubicBezTo>
                  <a:pt x="20" y="40"/>
                  <a:pt x="23" y="41"/>
                  <a:pt x="26" y="41"/>
                </a:cubicBezTo>
                <a:cubicBezTo>
                  <a:pt x="29" y="41"/>
                  <a:pt x="29" y="41"/>
                  <a:pt x="29" y="41"/>
                </a:cubicBezTo>
                <a:cubicBezTo>
                  <a:pt x="32" y="41"/>
                  <a:pt x="35" y="40"/>
                  <a:pt x="35" y="37"/>
                </a:cubicBezTo>
                <a:cubicBezTo>
                  <a:pt x="35" y="36"/>
                  <a:pt x="34" y="36"/>
                  <a:pt x="34" y="35"/>
                </a:cubicBezTo>
                <a:cubicBezTo>
                  <a:pt x="36" y="35"/>
                  <a:pt x="36" y="33"/>
                  <a:pt x="36" y="32"/>
                </a:cubicBezTo>
                <a:cubicBezTo>
                  <a:pt x="36" y="31"/>
                  <a:pt x="36" y="31"/>
                  <a:pt x="36" y="30"/>
                </a:cubicBezTo>
                <a:cubicBezTo>
                  <a:pt x="37" y="29"/>
                  <a:pt x="37" y="28"/>
                  <a:pt x="37" y="27"/>
                </a:cubicBezTo>
                <a:cubicBezTo>
                  <a:pt x="37" y="26"/>
                  <a:pt x="37" y="25"/>
                  <a:pt x="36" y="24"/>
                </a:cubicBezTo>
                <a:cubicBezTo>
                  <a:pt x="37" y="24"/>
                  <a:pt x="38" y="22"/>
                  <a:pt x="38" y="21"/>
                </a:cubicBezTo>
                <a:cubicBezTo>
                  <a:pt x="38" y="19"/>
                  <a:pt x="36" y="17"/>
                  <a:pt x="35" y="1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37" name="稻壳儿小白白(http://dwz.cn/Wu2UP)"/>
          <p:cNvSpPr/>
          <p:nvPr/>
        </p:nvSpPr>
        <p:spPr>
          <a:xfrm>
            <a:off x="10533240" y="2897280"/>
            <a:ext cx="298440" cy="284040"/>
          </a:xfrm>
          <a:custGeom>
            <a:avLst/>
            <a:gdLst/>
            <a:ahLst/>
            <a:rect l="l" t="t" r="r" b="b"/>
            <a:pathLst>
              <a:path w="43" h="41">
                <a:moveTo>
                  <a:pt x="11" y="36"/>
                </a:moveTo>
                <a:cubicBezTo>
                  <a:pt x="11" y="37"/>
                  <a:pt x="10" y="38"/>
                  <a:pt x="9" y="38"/>
                </a:cubicBezTo>
                <a:cubicBezTo>
                  <a:pt x="1" y="38"/>
                  <a:pt x="1" y="38"/>
                  <a:pt x="1" y="38"/>
                </a:cubicBezTo>
                <a:cubicBezTo>
                  <a:pt x="0" y="38"/>
                  <a:pt x="0" y="37"/>
                  <a:pt x="0" y="36"/>
                </a:cubicBezTo>
                <a:cubicBezTo>
                  <a:pt x="0" y="19"/>
                  <a:pt x="0" y="19"/>
                  <a:pt x="0" y="19"/>
                </a:cubicBezTo>
                <a:cubicBezTo>
                  <a:pt x="0" y="18"/>
                  <a:pt x="0" y="17"/>
                  <a:pt x="1" y="17"/>
                </a:cubicBezTo>
                <a:cubicBezTo>
                  <a:pt x="9" y="17"/>
                  <a:pt x="9" y="17"/>
                  <a:pt x="9" y="17"/>
                </a:cubicBezTo>
                <a:cubicBezTo>
                  <a:pt x="10" y="17"/>
                  <a:pt x="11" y="18"/>
                  <a:pt x="11" y="19"/>
                </a:cubicBezTo>
                <a:lnTo>
                  <a:pt x="11" y="36"/>
                </a:lnTo>
                <a:close/>
                <a:moveTo>
                  <a:pt x="5" y="31"/>
                </a:moveTo>
                <a:cubicBezTo>
                  <a:pt x="4" y="31"/>
                  <a:pt x="3" y="32"/>
                  <a:pt x="3" y="33"/>
                </a:cubicBezTo>
                <a:cubicBezTo>
                  <a:pt x="3" y="34"/>
                  <a:pt x="4" y="34"/>
                  <a:pt x="5" y="34"/>
                </a:cubicBezTo>
                <a:cubicBezTo>
                  <a:pt x="6" y="34"/>
                  <a:pt x="7" y="34"/>
                  <a:pt x="7" y="33"/>
                </a:cubicBezTo>
                <a:cubicBezTo>
                  <a:pt x="7" y="32"/>
                  <a:pt x="6" y="31"/>
                  <a:pt x="5" y="31"/>
                </a:cubicBezTo>
                <a:close/>
                <a:moveTo>
                  <a:pt x="41" y="23"/>
                </a:moveTo>
                <a:cubicBezTo>
                  <a:pt x="41" y="24"/>
                  <a:pt x="41" y="25"/>
                  <a:pt x="41" y="25"/>
                </a:cubicBezTo>
                <a:cubicBezTo>
                  <a:pt x="42" y="26"/>
                  <a:pt x="41" y="28"/>
                  <a:pt x="40" y="29"/>
                </a:cubicBezTo>
                <a:cubicBezTo>
                  <a:pt x="41" y="30"/>
                  <a:pt x="41" y="31"/>
                  <a:pt x="40" y="32"/>
                </a:cubicBezTo>
                <a:cubicBezTo>
                  <a:pt x="40" y="33"/>
                  <a:pt x="40" y="34"/>
                  <a:pt x="39" y="34"/>
                </a:cubicBezTo>
                <a:cubicBezTo>
                  <a:pt x="39" y="36"/>
                  <a:pt x="39" y="38"/>
                  <a:pt x="38" y="39"/>
                </a:cubicBezTo>
                <a:cubicBezTo>
                  <a:pt x="36" y="41"/>
                  <a:pt x="35" y="41"/>
                  <a:pt x="32" y="41"/>
                </a:cubicBezTo>
                <a:cubicBezTo>
                  <a:pt x="32" y="41"/>
                  <a:pt x="32" y="41"/>
                  <a:pt x="31" y="41"/>
                </a:cubicBezTo>
                <a:cubicBezTo>
                  <a:pt x="29" y="41"/>
                  <a:pt x="29" y="41"/>
                  <a:pt x="29" y="41"/>
                </a:cubicBezTo>
                <a:cubicBezTo>
                  <a:pt x="29" y="41"/>
                  <a:pt x="29" y="41"/>
                  <a:pt x="29" y="41"/>
                </a:cubicBezTo>
                <a:cubicBezTo>
                  <a:pt x="25" y="41"/>
                  <a:pt x="21" y="40"/>
                  <a:pt x="18" y="39"/>
                </a:cubicBezTo>
                <a:cubicBezTo>
                  <a:pt x="17" y="38"/>
                  <a:pt x="15" y="38"/>
                  <a:pt x="14" y="38"/>
                </a:cubicBezTo>
                <a:cubicBezTo>
                  <a:pt x="13" y="38"/>
                  <a:pt x="13" y="37"/>
                  <a:pt x="13" y="36"/>
                </a:cubicBezTo>
                <a:cubicBezTo>
                  <a:pt x="13" y="19"/>
                  <a:pt x="13" y="19"/>
                  <a:pt x="13" y="19"/>
                </a:cubicBezTo>
                <a:cubicBezTo>
                  <a:pt x="13" y="18"/>
                  <a:pt x="13" y="17"/>
                  <a:pt x="14" y="17"/>
                </a:cubicBezTo>
                <a:cubicBezTo>
                  <a:pt x="15" y="17"/>
                  <a:pt x="18" y="14"/>
                  <a:pt x="19" y="12"/>
                </a:cubicBezTo>
                <a:cubicBezTo>
                  <a:pt x="20" y="11"/>
                  <a:pt x="21" y="10"/>
                  <a:pt x="22" y="9"/>
                </a:cubicBezTo>
                <a:cubicBezTo>
                  <a:pt x="23" y="8"/>
                  <a:pt x="23" y="7"/>
                  <a:pt x="23" y="5"/>
                </a:cubicBezTo>
                <a:cubicBezTo>
                  <a:pt x="24" y="3"/>
                  <a:pt x="24" y="2"/>
                  <a:pt x="25" y="1"/>
                </a:cubicBezTo>
                <a:cubicBezTo>
                  <a:pt x="25" y="0"/>
                  <a:pt x="26" y="0"/>
                  <a:pt x="26" y="0"/>
                </a:cubicBezTo>
                <a:cubicBezTo>
                  <a:pt x="32" y="0"/>
                  <a:pt x="32" y="5"/>
                  <a:pt x="32" y="7"/>
                </a:cubicBezTo>
                <a:cubicBezTo>
                  <a:pt x="32" y="9"/>
                  <a:pt x="31" y="11"/>
                  <a:pt x="31" y="12"/>
                </a:cubicBezTo>
                <a:cubicBezTo>
                  <a:pt x="30" y="13"/>
                  <a:pt x="30" y="13"/>
                  <a:pt x="30" y="14"/>
                </a:cubicBezTo>
                <a:cubicBezTo>
                  <a:pt x="37" y="14"/>
                  <a:pt x="37" y="14"/>
                  <a:pt x="37" y="14"/>
                </a:cubicBezTo>
                <a:cubicBezTo>
                  <a:pt x="40" y="14"/>
                  <a:pt x="43" y="16"/>
                  <a:pt x="43" y="19"/>
                </a:cubicBezTo>
                <a:cubicBezTo>
                  <a:pt x="43" y="20"/>
                  <a:pt x="42" y="22"/>
                  <a:pt x="41" y="2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38" name="稻壳儿小白白(http://dwz.cn/Wu2UP)"/>
          <p:cNvSpPr/>
          <p:nvPr/>
        </p:nvSpPr>
        <p:spPr>
          <a:xfrm>
            <a:off x="10526760" y="3387600"/>
            <a:ext cx="315720" cy="319320"/>
          </a:xfrm>
          <a:custGeom>
            <a:avLst/>
            <a:gdLst/>
            <a:ahLst/>
            <a:rect l="l" t="t" r="r" b="b"/>
            <a:pathLst>
              <a:path w="46" h="46">
                <a:moveTo>
                  <a:pt x="20" y="45"/>
                </a:moveTo>
                <a:cubicBezTo>
                  <a:pt x="19" y="46"/>
                  <a:pt x="17" y="46"/>
                  <a:pt x="15" y="45"/>
                </a:cubicBezTo>
                <a:cubicBezTo>
                  <a:pt x="12" y="41"/>
                  <a:pt x="12" y="41"/>
                  <a:pt x="12" y="41"/>
                </a:cubicBezTo>
                <a:cubicBezTo>
                  <a:pt x="14" y="39"/>
                  <a:pt x="14" y="36"/>
                  <a:pt x="12" y="34"/>
                </a:cubicBezTo>
                <a:cubicBezTo>
                  <a:pt x="10" y="32"/>
                  <a:pt x="7" y="32"/>
                  <a:pt x="5" y="34"/>
                </a:cubicBezTo>
                <a:cubicBezTo>
                  <a:pt x="1" y="31"/>
                  <a:pt x="1" y="31"/>
                  <a:pt x="1" y="31"/>
                </a:cubicBezTo>
                <a:cubicBezTo>
                  <a:pt x="0" y="29"/>
                  <a:pt x="0" y="27"/>
                  <a:pt x="1" y="26"/>
                </a:cubicBezTo>
                <a:cubicBezTo>
                  <a:pt x="26" y="2"/>
                  <a:pt x="26" y="2"/>
                  <a:pt x="26" y="2"/>
                </a:cubicBezTo>
                <a:cubicBezTo>
                  <a:pt x="27" y="0"/>
                  <a:pt x="29" y="0"/>
                  <a:pt x="31" y="2"/>
                </a:cubicBezTo>
                <a:cubicBezTo>
                  <a:pt x="34" y="5"/>
                  <a:pt x="34" y="5"/>
                  <a:pt x="34" y="5"/>
                </a:cubicBezTo>
                <a:cubicBezTo>
                  <a:pt x="32" y="7"/>
                  <a:pt x="32" y="10"/>
                  <a:pt x="34" y="12"/>
                </a:cubicBezTo>
                <a:cubicBezTo>
                  <a:pt x="36" y="14"/>
                  <a:pt x="39" y="14"/>
                  <a:pt x="41" y="12"/>
                </a:cubicBezTo>
                <a:cubicBezTo>
                  <a:pt x="45" y="16"/>
                  <a:pt x="45" y="16"/>
                  <a:pt x="45" y="16"/>
                </a:cubicBezTo>
                <a:cubicBezTo>
                  <a:pt x="46" y="17"/>
                  <a:pt x="46" y="19"/>
                  <a:pt x="45" y="21"/>
                </a:cubicBezTo>
                <a:lnTo>
                  <a:pt x="20" y="45"/>
                </a:lnTo>
                <a:close/>
                <a:moveTo>
                  <a:pt x="37" y="21"/>
                </a:moveTo>
                <a:cubicBezTo>
                  <a:pt x="38" y="20"/>
                  <a:pt x="38" y="19"/>
                  <a:pt x="37" y="19"/>
                </a:cubicBezTo>
                <a:cubicBezTo>
                  <a:pt x="28" y="9"/>
                  <a:pt x="28" y="9"/>
                  <a:pt x="28" y="9"/>
                </a:cubicBezTo>
                <a:cubicBezTo>
                  <a:pt x="27" y="8"/>
                  <a:pt x="26" y="8"/>
                  <a:pt x="25" y="9"/>
                </a:cubicBezTo>
                <a:cubicBezTo>
                  <a:pt x="9" y="25"/>
                  <a:pt x="9" y="25"/>
                  <a:pt x="9" y="25"/>
                </a:cubicBezTo>
                <a:cubicBezTo>
                  <a:pt x="8" y="26"/>
                  <a:pt x="8" y="27"/>
                  <a:pt x="9" y="28"/>
                </a:cubicBezTo>
                <a:cubicBezTo>
                  <a:pt x="18" y="38"/>
                  <a:pt x="18" y="38"/>
                  <a:pt x="18" y="38"/>
                </a:cubicBezTo>
                <a:cubicBezTo>
                  <a:pt x="19" y="38"/>
                  <a:pt x="19" y="38"/>
                  <a:pt x="20" y="38"/>
                </a:cubicBezTo>
                <a:cubicBezTo>
                  <a:pt x="20" y="38"/>
                  <a:pt x="20" y="38"/>
                  <a:pt x="21" y="38"/>
                </a:cubicBezTo>
                <a:lnTo>
                  <a:pt x="37" y="21"/>
                </a:lnTo>
                <a:close/>
                <a:moveTo>
                  <a:pt x="35" y="20"/>
                </a:moveTo>
                <a:cubicBezTo>
                  <a:pt x="20" y="35"/>
                  <a:pt x="20" y="35"/>
                  <a:pt x="20" y="35"/>
                </a:cubicBezTo>
                <a:cubicBezTo>
                  <a:pt x="11" y="27"/>
                  <a:pt x="11" y="27"/>
                  <a:pt x="11" y="27"/>
                </a:cubicBezTo>
                <a:cubicBezTo>
                  <a:pt x="26" y="11"/>
                  <a:pt x="26" y="11"/>
                  <a:pt x="26" y="11"/>
                </a:cubicBezTo>
                <a:lnTo>
                  <a:pt x="35" y="2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39" name="稻壳儿小白白(http://dwz.cn/Wu2UP)"/>
          <p:cNvSpPr/>
          <p:nvPr/>
        </p:nvSpPr>
        <p:spPr>
          <a:xfrm>
            <a:off x="10572840" y="3962520"/>
            <a:ext cx="222120" cy="212760"/>
          </a:xfrm>
          <a:custGeom>
            <a:avLst/>
            <a:gdLst/>
            <a:ahLst/>
            <a:rect l="l" t="t" r="r" b="b"/>
            <a:pathLst>
              <a:path w="32" h="31">
                <a:moveTo>
                  <a:pt x="31" y="27"/>
                </a:moveTo>
                <a:cubicBezTo>
                  <a:pt x="28" y="31"/>
                  <a:pt x="28" y="31"/>
                  <a:pt x="28" y="31"/>
                </a:cubicBezTo>
                <a:cubicBezTo>
                  <a:pt x="27" y="31"/>
                  <a:pt x="26" y="31"/>
                  <a:pt x="26" y="31"/>
                </a:cubicBezTo>
                <a:cubicBezTo>
                  <a:pt x="25" y="31"/>
                  <a:pt x="24" y="31"/>
                  <a:pt x="24" y="31"/>
                </a:cubicBezTo>
                <a:cubicBezTo>
                  <a:pt x="16" y="23"/>
                  <a:pt x="16" y="23"/>
                  <a:pt x="16" y="23"/>
                </a:cubicBezTo>
                <a:cubicBezTo>
                  <a:pt x="8" y="31"/>
                  <a:pt x="8" y="31"/>
                  <a:pt x="8" y="31"/>
                </a:cubicBezTo>
                <a:cubicBezTo>
                  <a:pt x="8" y="31"/>
                  <a:pt x="7" y="31"/>
                  <a:pt x="6" y="31"/>
                </a:cubicBezTo>
                <a:cubicBezTo>
                  <a:pt x="6" y="31"/>
                  <a:pt x="5" y="31"/>
                  <a:pt x="4" y="31"/>
                </a:cubicBezTo>
                <a:cubicBezTo>
                  <a:pt x="1" y="27"/>
                  <a:pt x="1" y="27"/>
                  <a:pt x="1" y="27"/>
                </a:cubicBezTo>
                <a:cubicBezTo>
                  <a:pt x="0" y="27"/>
                  <a:pt x="0" y="26"/>
                  <a:pt x="0" y="25"/>
                </a:cubicBezTo>
                <a:cubicBezTo>
                  <a:pt x="0" y="25"/>
                  <a:pt x="0" y="24"/>
                  <a:pt x="1" y="23"/>
                </a:cubicBezTo>
                <a:cubicBezTo>
                  <a:pt x="9" y="16"/>
                  <a:pt x="9" y="16"/>
                  <a:pt x="9" y="16"/>
                </a:cubicBezTo>
                <a:cubicBezTo>
                  <a:pt x="1" y="8"/>
                  <a:pt x="1" y="8"/>
                  <a:pt x="1" y="8"/>
                </a:cubicBezTo>
                <a:cubicBezTo>
                  <a:pt x="0" y="7"/>
                  <a:pt x="0" y="7"/>
                  <a:pt x="0" y="6"/>
                </a:cubicBezTo>
                <a:cubicBezTo>
                  <a:pt x="0" y="5"/>
                  <a:pt x="0" y="5"/>
                  <a:pt x="1" y="4"/>
                </a:cubicBezTo>
                <a:cubicBezTo>
                  <a:pt x="4" y="0"/>
                  <a:pt x="4" y="0"/>
                  <a:pt x="4" y="0"/>
                </a:cubicBezTo>
                <a:cubicBezTo>
                  <a:pt x="5" y="0"/>
                  <a:pt x="6" y="0"/>
                  <a:pt x="6" y="0"/>
                </a:cubicBezTo>
                <a:cubicBezTo>
                  <a:pt x="7" y="0"/>
                  <a:pt x="8" y="0"/>
                  <a:pt x="8" y="0"/>
                </a:cubicBezTo>
                <a:cubicBezTo>
                  <a:pt x="16" y="8"/>
                  <a:pt x="16" y="8"/>
                  <a:pt x="16" y="8"/>
                </a:cubicBezTo>
                <a:cubicBezTo>
                  <a:pt x="24" y="0"/>
                  <a:pt x="24" y="0"/>
                  <a:pt x="24" y="0"/>
                </a:cubicBezTo>
                <a:cubicBezTo>
                  <a:pt x="24" y="0"/>
                  <a:pt x="25" y="0"/>
                  <a:pt x="26" y="0"/>
                </a:cubicBezTo>
                <a:cubicBezTo>
                  <a:pt x="26" y="0"/>
                  <a:pt x="27" y="0"/>
                  <a:pt x="28" y="0"/>
                </a:cubicBezTo>
                <a:cubicBezTo>
                  <a:pt x="31" y="4"/>
                  <a:pt x="31" y="4"/>
                  <a:pt x="31" y="4"/>
                </a:cubicBezTo>
                <a:cubicBezTo>
                  <a:pt x="32" y="5"/>
                  <a:pt x="32" y="5"/>
                  <a:pt x="32" y="6"/>
                </a:cubicBezTo>
                <a:cubicBezTo>
                  <a:pt x="32" y="7"/>
                  <a:pt x="32" y="7"/>
                  <a:pt x="31" y="8"/>
                </a:cubicBezTo>
                <a:cubicBezTo>
                  <a:pt x="23" y="16"/>
                  <a:pt x="23" y="16"/>
                  <a:pt x="23" y="16"/>
                </a:cubicBezTo>
                <a:cubicBezTo>
                  <a:pt x="31" y="23"/>
                  <a:pt x="31" y="23"/>
                  <a:pt x="31" y="23"/>
                </a:cubicBezTo>
                <a:cubicBezTo>
                  <a:pt x="32" y="24"/>
                  <a:pt x="32" y="25"/>
                  <a:pt x="32" y="25"/>
                </a:cubicBezTo>
                <a:cubicBezTo>
                  <a:pt x="32" y="26"/>
                  <a:pt x="32" y="27"/>
                  <a:pt x="31" y="2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40" name="稻壳儿小白白(http://dwz.cn/Wu2UP)"/>
          <p:cNvSpPr/>
          <p:nvPr/>
        </p:nvSpPr>
        <p:spPr>
          <a:xfrm>
            <a:off x="10537920" y="4425840"/>
            <a:ext cx="293760" cy="284400"/>
          </a:xfrm>
          <a:custGeom>
            <a:avLst/>
            <a:gdLst/>
            <a:ahLst/>
            <a:rect l="l" t="t" r="r" b="b"/>
            <a:pathLst>
              <a:path w="42" h="41">
                <a:moveTo>
                  <a:pt x="21" y="41"/>
                </a:moveTo>
                <a:cubicBezTo>
                  <a:pt x="10" y="41"/>
                  <a:pt x="0" y="32"/>
                  <a:pt x="0" y="20"/>
                </a:cubicBezTo>
                <a:cubicBezTo>
                  <a:pt x="0" y="9"/>
                  <a:pt x="10" y="0"/>
                  <a:pt x="21" y="0"/>
                </a:cubicBezTo>
                <a:cubicBezTo>
                  <a:pt x="32" y="0"/>
                  <a:pt x="42" y="9"/>
                  <a:pt x="42" y="20"/>
                </a:cubicBezTo>
                <a:cubicBezTo>
                  <a:pt x="42" y="32"/>
                  <a:pt x="32" y="41"/>
                  <a:pt x="21" y="41"/>
                </a:cubicBezTo>
                <a:close/>
                <a:moveTo>
                  <a:pt x="31" y="25"/>
                </a:moveTo>
                <a:cubicBezTo>
                  <a:pt x="26" y="20"/>
                  <a:pt x="26" y="20"/>
                  <a:pt x="26" y="20"/>
                </a:cubicBezTo>
                <a:cubicBezTo>
                  <a:pt x="31" y="16"/>
                  <a:pt x="31" y="16"/>
                  <a:pt x="31" y="16"/>
                </a:cubicBezTo>
                <a:cubicBezTo>
                  <a:pt x="31" y="15"/>
                  <a:pt x="31" y="15"/>
                  <a:pt x="31" y="14"/>
                </a:cubicBezTo>
                <a:cubicBezTo>
                  <a:pt x="31" y="14"/>
                  <a:pt x="31" y="13"/>
                  <a:pt x="31" y="13"/>
                </a:cubicBezTo>
                <a:cubicBezTo>
                  <a:pt x="28" y="11"/>
                  <a:pt x="28" y="11"/>
                  <a:pt x="28" y="11"/>
                </a:cubicBezTo>
                <a:cubicBezTo>
                  <a:pt x="28" y="10"/>
                  <a:pt x="27" y="10"/>
                  <a:pt x="27" y="10"/>
                </a:cubicBezTo>
                <a:cubicBezTo>
                  <a:pt x="27" y="10"/>
                  <a:pt x="26" y="10"/>
                  <a:pt x="26" y="11"/>
                </a:cubicBezTo>
                <a:cubicBezTo>
                  <a:pt x="21" y="16"/>
                  <a:pt x="21" y="16"/>
                  <a:pt x="21" y="16"/>
                </a:cubicBezTo>
                <a:cubicBezTo>
                  <a:pt x="16" y="11"/>
                  <a:pt x="16" y="11"/>
                  <a:pt x="16" y="11"/>
                </a:cubicBezTo>
                <a:cubicBezTo>
                  <a:pt x="16" y="10"/>
                  <a:pt x="15" y="10"/>
                  <a:pt x="15" y="10"/>
                </a:cubicBezTo>
                <a:cubicBezTo>
                  <a:pt x="14" y="10"/>
                  <a:pt x="14" y="10"/>
                  <a:pt x="14" y="11"/>
                </a:cubicBezTo>
                <a:cubicBezTo>
                  <a:pt x="11" y="13"/>
                  <a:pt x="11" y="13"/>
                  <a:pt x="11" y="13"/>
                </a:cubicBezTo>
                <a:cubicBezTo>
                  <a:pt x="11" y="13"/>
                  <a:pt x="11" y="14"/>
                  <a:pt x="11" y="14"/>
                </a:cubicBezTo>
                <a:cubicBezTo>
                  <a:pt x="11" y="15"/>
                  <a:pt x="11" y="15"/>
                  <a:pt x="11" y="16"/>
                </a:cubicBezTo>
                <a:cubicBezTo>
                  <a:pt x="16" y="20"/>
                  <a:pt x="16" y="20"/>
                  <a:pt x="16" y="20"/>
                </a:cubicBezTo>
                <a:cubicBezTo>
                  <a:pt x="11" y="25"/>
                  <a:pt x="11" y="25"/>
                  <a:pt x="11" y="25"/>
                </a:cubicBezTo>
                <a:cubicBezTo>
                  <a:pt x="11" y="26"/>
                  <a:pt x="11" y="26"/>
                  <a:pt x="11" y="27"/>
                </a:cubicBezTo>
                <a:cubicBezTo>
                  <a:pt x="11" y="27"/>
                  <a:pt x="11" y="27"/>
                  <a:pt x="11" y="28"/>
                </a:cubicBezTo>
                <a:cubicBezTo>
                  <a:pt x="14" y="30"/>
                  <a:pt x="14" y="30"/>
                  <a:pt x="14" y="30"/>
                </a:cubicBezTo>
                <a:cubicBezTo>
                  <a:pt x="14" y="30"/>
                  <a:pt x="14" y="31"/>
                  <a:pt x="15" y="31"/>
                </a:cubicBezTo>
                <a:cubicBezTo>
                  <a:pt x="15" y="31"/>
                  <a:pt x="16" y="30"/>
                  <a:pt x="16" y="30"/>
                </a:cubicBezTo>
                <a:cubicBezTo>
                  <a:pt x="21" y="25"/>
                  <a:pt x="21" y="25"/>
                  <a:pt x="21" y="25"/>
                </a:cubicBezTo>
                <a:cubicBezTo>
                  <a:pt x="26" y="30"/>
                  <a:pt x="26" y="30"/>
                  <a:pt x="26" y="30"/>
                </a:cubicBezTo>
                <a:cubicBezTo>
                  <a:pt x="26" y="30"/>
                  <a:pt x="27" y="31"/>
                  <a:pt x="27" y="31"/>
                </a:cubicBezTo>
                <a:cubicBezTo>
                  <a:pt x="27" y="31"/>
                  <a:pt x="28" y="30"/>
                  <a:pt x="28" y="30"/>
                </a:cubicBezTo>
                <a:cubicBezTo>
                  <a:pt x="31" y="28"/>
                  <a:pt x="31" y="28"/>
                  <a:pt x="31" y="28"/>
                </a:cubicBezTo>
                <a:cubicBezTo>
                  <a:pt x="31" y="27"/>
                  <a:pt x="31" y="27"/>
                  <a:pt x="31" y="27"/>
                </a:cubicBezTo>
                <a:cubicBezTo>
                  <a:pt x="31" y="26"/>
                  <a:pt x="31" y="26"/>
                  <a:pt x="31" y="2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41" name="稻壳儿小白白(http://dwz.cn/Wu2UP)"/>
          <p:cNvSpPr/>
          <p:nvPr/>
        </p:nvSpPr>
        <p:spPr>
          <a:xfrm>
            <a:off x="10537920" y="4930920"/>
            <a:ext cx="293760" cy="288720"/>
          </a:xfrm>
          <a:custGeom>
            <a:avLst/>
            <a:gdLst/>
            <a:ahLst/>
            <a:rect l="l" t="t" r="r" b="b"/>
            <a:pathLst>
              <a:path w="42" h="42">
                <a:moveTo>
                  <a:pt x="21" y="42"/>
                </a:moveTo>
                <a:cubicBezTo>
                  <a:pt x="10" y="42"/>
                  <a:pt x="0" y="32"/>
                  <a:pt x="0" y="21"/>
                </a:cubicBezTo>
                <a:cubicBezTo>
                  <a:pt x="0" y="10"/>
                  <a:pt x="10" y="0"/>
                  <a:pt x="21" y="0"/>
                </a:cubicBezTo>
                <a:cubicBezTo>
                  <a:pt x="32" y="0"/>
                  <a:pt x="42" y="10"/>
                  <a:pt x="42" y="21"/>
                </a:cubicBezTo>
                <a:cubicBezTo>
                  <a:pt x="42" y="32"/>
                  <a:pt x="32" y="42"/>
                  <a:pt x="21" y="42"/>
                </a:cubicBezTo>
                <a:close/>
                <a:moveTo>
                  <a:pt x="21" y="6"/>
                </a:moveTo>
                <a:cubicBezTo>
                  <a:pt x="13" y="6"/>
                  <a:pt x="6" y="13"/>
                  <a:pt x="6" y="21"/>
                </a:cubicBezTo>
                <a:cubicBezTo>
                  <a:pt x="6" y="29"/>
                  <a:pt x="13" y="36"/>
                  <a:pt x="21" y="36"/>
                </a:cubicBezTo>
                <a:cubicBezTo>
                  <a:pt x="29" y="36"/>
                  <a:pt x="36" y="29"/>
                  <a:pt x="36" y="21"/>
                </a:cubicBezTo>
                <a:cubicBezTo>
                  <a:pt x="36" y="13"/>
                  <a:pt x="29" y="6"/>
                  <a:pt x="21" y="6"/>
                </a:cubicBezTo>
                <a:close/>
                <a:moveTo>
                  <a:pt x="26" y="30"/>
                </a:moveTo>
                <a:cubicBezTo>
                  <a:pt x="26" y="30"/>
                  <a:pt x="25" y="30"/>
                  <a:pt x="25" y="30"/>
                </a:cubicBezTo>
                <a:cubicBezTo>
                  <a:pt x="21" y="26"/>
                  <a:pt x="21" y="26"/>
                  <a:pt x="21" y="26"/>
                </a:cubicBezTo>
                <a:cubicBezTo>
                  <a:pt x="17" y="30"/>
                  <a:pt x="17" y="30"/>
                  <a:pt x="17" y="30"/>
                </a:cubicBezTo>
                <a:cubicBezTo>
                  <a:pt x="17" y="30"/>
                  <a:pt x="16" y="30"/>
                  <a:pt x="16" y="30"/>
                </a:cubicBezTo>
                <a:cubicBezTo>
                  <a:pt x="12" y="26"/>
                  <a:pt x="12" y="26"/>
                  <a:pt x="12" y="26"/>
                </a:cubicBezTo>
                <a:cubicBezTo>
                  <a:pt x="12" y="26"/>
                  <a:pt x="12" y="25"/>
                  <a:pt x="12" y="25"/>
                </a:cubicBezTo>
                <a:cubicBezTo>
                  <a:pt x="16" y="21"/>
                  <a:pt x="16" y="21"/>
                  <a:pt x="16" y="21"/>
                </a:cubicBezTo>
                <a:cubicBezTo>
                  <a:pt x="12" y="17"/>
                  <a:pt x="12" y="17"/>
                  <a:pt x="12" y="17"/>
                </a:cubicBezTo>
                <a:cubicBezTo>
                  <a:pt x="12" y="17"/>
                  <a:pt x="12" y="16"/>
                  <a:pt x="12" y="16"/>
                </a:cubicBezTo>
                <a:cubicBezTo>
                  <a:pt x="16" y="12"/>
                  <a:pt x="16" y="12"/>
                  <a:pt x="16" y="12"/>
                </a:cubicBezTo>
                <a:cubicBezTo>
                  <a:pt x="16" y="12"/>
                  <a:pt x="17" y="12"/>
                  <a:pt x="17" y="12"/>
                </a:cubicBezTo>
                <a:cubicBezTo>
                  <a:pt x="21" y="16"/>
                  <a:pt x="21" y="16"/>
                  <a:pt x="21" y="16"/>
                </a:cubicBezTo>
                <a:cubicBezTo>
                  <a:pt x="25" y="12"/>
                  <a:pt x="25" y="12"/>
                  <a:pt x="25" y="12"/>
                </a:cubicBezTo>
                <a:cubicBezTo>
                  <a:pt x="25" y="12"/>
                  <a:pt x="26" y="12"/>
                  <a:pt x="26" y="12"/>
                </a:cubicBezTo>
                <a:cubicBezTo>
                  <a:pt x="30" y="16"/>
                  <a:pt x="30" y="16"/>
                  <a:pt x="30" y="16"/>
                </a:cubicBezTo>
                <a:cubicBezTo>
                  <a:pt x="30" y="16"/>
                  <a:pt x="30" y="17"/>
                  <a:pt x="30" y="17"/>
                </a:cubicBezTo>
                <a:cubicBezTo>
                  <a:pt x="26" y="21"/>
                  <a:pt x="26" y="21"/>
                  <a:pt x="26" y="21"/>
                </a:cubicBezTo>
                <a:cubicBezTo>
                  <a:pt x="30" y="25"/>
                  <a:pt x="30" y="25"/>
                  <a:pt x="30" y="25"/>
                </a:cubicBezTo>
                <a:cubicBezTo>
                  <a:pt x="30" y="25"/>
                  <a:pt x="30" y="26"/>
                  <a:pt x="30" y="26"/>
                </a:cubicBezTo>
                <a:lnTo>
                  <a:pt x="26" y="3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42" name="稻壳儿小白白(http://dwz.cn/Wu2UP)"/>
          <p:cNvSpPr/>
          <p:nvPr/>
        </p:nvSpPr>
        <p:spPr>
          <a:xfrm>
            <a:off x="10588680" y="5427720"/>
            <a:ext cx="191880" cy="277920"/>
          </a:xfrm>
          <a:custGeom>
            <a:avLst/>
            <a:gdLst/>
            <a:ahLst/>
            <a:rect l="l" t="t" r="r" b="b"/>
            <a:pathLst>
              <a:path w="28" h="40">
                <a:moveTo>
                  <a:pt x="14" y="40"/>
                </a:moveTo>
                <a:cubicBezTo>
                  <a:pt x="6" y="40"/>
                  <a:pt x="0" y="34"/>
                  <a:pt x="0" y="26"/>
                </a:cubicBezTo>
                <a:cubicBezTo>
                  <a:pt x="0" y="23"/>
                  <a:pt x="1" y="21"/>
                  <a:pt x="2" y="19"/>
                </a:cubicBezTo>
                <a:cubicBezTo>
                  <a:pt x="4" y="17"/>
                  <a:pt x="10" y="9"/>
                  <a:pt x="12" y="2"/>
                </a:cubicBezTo>
                <a:cubicBezTo>
                  <a:pt x="12" y="1"/>
                  <a:pt x="13" y="0"/>
                  <a:pt x="14" y="0"/>
                </a:cubicBezTo>
                <a:cubicBezTo>
                  <a:pt x="15" y="0"/>
                  <a:pt x="16" y="1"/>
                  <a:pt x="16" y="2"/>
                </a:cubicBezTo>
                <a:cubicBezTo>
                  <a:pt x="18" y="9"/>
                  <a:pt x="24" y="17"/>
                  <a:pt x="26" y="19"/>
                </a:cubicBezTo>
                <a:cubicBezTo>
                  <a:pt x="27" y="21"/>
                  <a:pt x="28" y="23"/>
                  <a:pt x="28" y="26"/>
                </a:cubicBezTo>
                <a:cubicBezTo>
                  <a:pt x="28" y="34"/>
                  <a:pt x="22" y="40"/>
                  <a:pt x="14" y="40"/>
                </a:cubicBezTo>
                <a:close/>
                <a:moveTo>
                  <a:pt x="13" y="28"/>
                </a:moveTo>
                <a:cubicBezTo>
                  <a:pt x="13" y="27"/>
                  <a:pt x="12" y="25"/>
                  <a:pt x="11" y="24"/>
                </a:cubicBezTo>
                <a:cubicBezTo>
                  <a:pt x="11" y="23"/>
                  <a:pt x="11" y="23"/>
                  <a:pt x="11" y="23"/>
                </a:cubicBezTo>
                <a:cubicBezTo>
                  <a:pt x="10" y="23"/>
                  <a:pt x="10" y="23"/>
                  <a:pt x="10" y="24"/>
                </a:cubicBezTo>
                <a:cubicBezTo>
                  <a:pt x="9" y="25"/>
                  <a:pt x="8" y="27"/>
                  <a:pt x="8" y="28"/>
                </a:cubicBezTo>
                <a:cubicBezTo>
                  <a:pt x="7" y="28"/>
                  <a:pt x="7" y="29"/>
                  <a:pt x="7" y="30"/>
                </a:cubicBezTo>
                <a:cubicBezTo>
                  <a:pt x="7" y="31"/>
                  <a:pt x="9" y="33"/>
                  <a:pt x="11" y="33"/>
                </a:cubicBezTo>
                <a:cubicBezTo>
                  <a:pt x="12" y="33"/>
                  <a:pt x="14" y="31"/>
                  <a:pt x="14" y="30"/>
                </a:cubicBezTo>
                <a:cubicBezTo>
                  <a:pt x="14" y="29"/>
                  <a:pt x="14" y="28"/>
                  <a:pt x="13" y="2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43" name="稻壳儿小白白(http://dwz.cn/Wu2UP)"/>
          <p:cNvSpPr/>
          <p:nvPr/>
        </p:nvSpPr>
        <p:spPr>
          <a:xfrm>
            <a:off x="11439360" y="863640"/>
            <a:ext cx="212760" cy="257040"/>
          </a:xfrm>
          <a:custGeom>
            <a:avLst/>
            <a:gdLst/>
            <a:ahLst/>
            <a:rect l="l" t="t" r="r" b="b"/>
            <a:pathLst>
              <a:path w="31" h="37">
                <a:moveTo>
                  <a:pt x="12" y="37"/>
                </a:moveTo>
                <a:cubicBezTo>
                  <a:pt x="8" y="37"/>
                  <a:pt x="8" y="37"/>
                  <a:pt x="8" y="37"/>
                </a:cubicBezTo>
                <a:cubicBezTo>
                  <a:pt x="7" y="37"/>
                  <a:pt x="7" y="37"/>
                  <a:pt x="7" y="37"/>
                </a:cubicBezTo>
                <a:cubicBezTo>
                  <a:pt x="7" y="20"/>
                  <a:pt x="7" y="20"/>
                  <a:pt x="7" y="20"/>
                </a:cubicBezTo>
                <a:cubicBezTo>
                  <a:pt x="1" y="22"/>
                  <a:pt x="1" y="22"/>
                  <a:pt x="1" y="22"/>
                </a:cubicBezTo>
                <a:cubicBezTo>
                  <a:pt x="1" y="22"/>
                  <a:pt x="1" y="22"/>
                  <a:pt x="1" y="22"/>
                </a:cubicBezTo>
                <a:cubicBezTo>
                  <a:pt x="1" y="22"/>
                  <a:pt x="1" y="22"/>
                  <a:pt x="0" y="22"/>
                </a:cubicBezTo>
                <a:cubicBezTo>
                  <a:pt x="0" y="22"/>
                  <a:pt x="0" y="21"/>
                  <a:pt x="0" y="21"/>
                </a:cubicBezTo>
                <a:cubicBezTo>
                  <a:pt x="0" y="18"/>
                  <a:pt x="0" y="18"/>
                  <a:pt x="0" y="18"/>
                </a:cubicBezTo>
                <a:cubicBezTo>
                  <a:pt x="0" y="17"/>
                  <a:pt x="0" y="17"/>
                  <a:pt x="1" y="17"/>
                </a:cubicBezTo>
                <a:cubicBezTo>
                  <a:pt x="7" y="15"/>
                  <a:pt x="7" y="15"/>
                  <a:pt x="7" y="15"/>
                </a:cubicBezTo>
                <a:cubicBezTo>
                  <a:pt x="7" y="12"/>
                  <a:pt x="7" y="12"/>
                  <a:pt x="7" y="12"/>
                </a:cubicBezTo>
                <a:cubicBezTo>
                  <a:pt x="1" y="14"/>
                  <a:pt x="1" y="14"/>
                  <a:pt x="1" y="14"/>
                </a:cubicBezTo>
                <a:cubicBezTo>
                  <a:pt x="1" y="14"/>
                  <a:pt x="1" y="14"/>
                  <a:pt x="1" y="14"/>
                </a:cubicBezTo>
                <a:cubicBezTo>
                  <a:pt x="1" y="14"/>
                  <a:pt x="1" y="14"/>
                  <a:pt x="0" y="14"/>
                </a:cubicBezTo>
                <a:cubicBezTo>
                  <a:pt x="0" y="14"/>
                  <a:pt x="0" y="14"/>
                  <a:pt x="0" y="13"/>
                </a:cubicBezTo>
                <a:cubicBezTo>
                  <a:pt x="0" y="10"/>
                  <a:pt x="0" y="10"/>
                  <a:pt x="0" y="10"/>
                </a:cubicBezTo>
                <a:cubicBezTo>
                  <a:pt x="0" y="10"/>
                  <a:pt x="0" y="9"/>
                  <a:pt x="1" y="9"/>
                </a:cubicBezTo>
                <a:cubicBezTo>
                  <a:pt x="7" y="7"/>
                  <a:pt x="7" y="7"/>
                  <a:pt x="7" y="7"/>
                </a:cubicBezTo>
                <a:cubicBezTo>
                  <a:pt x="7" y="1"/>
                  <a:pt x="7" y="1"/>
                  <a:pt x="7" y="1"/>
                </a:cubicBezTo>
                <a:cubicBezTo>
                  <a:pt x="7" y="0"/>
                  <a:pt x="7" y="0"/>
                  <a:pt x="8" y="0"/>
                </a:cubicBezTo>
                <a:cubicBezTo>
                  <a:pt x="12" y="0"/>
                  <a:pt x="12" y="0"/>
                  <a:pt x="12" y="0"/>
                </a:cubicBezTo>
                <a:cubicBezTo>
                  <a:pt x="13" y="0"/>
                  <a:pt x="13" y="0"/>
                  <a:pt x="13" y="1"/>
                </a:cubicBezTo>
                <a:cubicBezTo>
                  <a:pt x="13" y="5"/>
                  <a:pt x="13" y="5"/>
                  <a:pt x="13" y="5"/>
                </a:cubicBezTo>
                <a:cubicBezTo>
                  <a:pt x="23" y="2"/>
                  <a:pt x="23" y="2"/>
                  <a:pt x="23" y="2"/>
                </a:cubicBezTo>
                <a:cubicBezTo>
                  <a:pt x="23" y="2"/>
                  <a:pt x="24" y="2"/>
                  <a:pt x="24" y="2"/>
                </a:cubicBezTo>
                <a:cubicBezTo>
                  <a:pt x="24" y="3"/>
                  <a:pt x="24" y="3"/>
                  <a:pt x="24" y="3"/>
                </a:cubicBezTo>
                <a:cubicBezTo>
                  <a:pt x="24" y="7"/>
                  <a:pt x="24" y="7"/>
                  <a:pt x="24" y="7"/>
                </a:cubicBezTo>
                <a:cubicBezTo>
                  <a:pt x="24" y="7"/>
                  <a:pt x="24" y="7"/>
                  <a:pt x="24" y="7"/>
                </a:cubicBezTo>
                <a:cubicBezTo>
                  <a:pt x="13" y="11"/>
                  <a:pt x="13" y="11"/>
                  <a:pt x="13" y="11"/>
                </a:cubicBezTo>
                <a:cubicBezTo>
                  <a:pt x="13" y="13"/>
                  <a:pt x="13" y="13"/>
                  <a:pt x="13" y="13"/>
                </a:cubicBezTo>
                <a:cubicBezTo>
                  <a:pt x="23" y="10"/>
                  <a:pt x="23" y="10"/>
                  <a:pt x="23" y="10"/>
                </a:cubicBezTo>
                <a:cubicBezTo>
                  <a:pt x="23" y="10"/>
                  <a:pt x="24" y="10"/>
                  <a:pt x="24" y="10"/>
                </a:cubicBezTo>
                <a:cubicBezTo>
                  <a:pt x="24" y="10"/>
                  <a:pt x="24" y="11"/>
                  <a:pt x="24" y="11"/>
                </a:cubicBezTo>
                <a:cubicBezTo>
                  <a:pt x="24" y="14"/>
                  <a:pt x="24" y="14"/>
                  <a:pt x="24" y="14"/>
                </a:cubicBezTo>
                <a:cubicBezTo>
                  <a:pt x="24" y="15"/>
                  <a:pt x="24" y="15"/>
                  <a:pt x="24" y="15"/>
                </a:cubicBezTo>
                <a:cubicBezTo>
                  <a:pt x="13" y="18"/>
                  <a:pt x="13" y="18"/>
                  <a:pt x="13" y="18"/>
                </a:cubicBezTo>
                <a:cubicBezTo>
                  <a:pt x="13" y="31"/>
                  <a:pt x="13" y="31"/>
                  <a:pt x="13" y="31"/>
                </a:cubicBezTo>
                <a:cubicBezTo>
                  <a:pt x="20" y="31"/>
                  <a:pt x="25" y="25"/>
                  <a:pt x="25" y="19"/>
                </a:cubicBezTo>
                <a:cubicBezTo>
                  <a:pt x="25" y="18"/>
                  <a:pt x="25" y="18"/>
                  <a:pt x="26" y="18"/>
                </a:cubicBezTo>
                <a:cubicBezTo>
                  <a:pt x="30" y="18"/>
                  <a:pt x="30" y="18"/>
                  <a:pt x="30" y="18"/>
                </a:cubicBezTo>
                <a:cubicBezTo>
                  <a:pt x="31" y="18"/>
                  <a:pt x="31" y="18"/>
                  <a:pt x="31" y="19"/>
                </a:cubicBezTo>
                <a:cubicBezTo>
                  <a:pt x="31" y="29"/>
                  <a:pt x="23" y="37"/>
                  <a:pt x="12" y="3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44" name="稻壳儿小白白(http://dwz.cn/Wu2UP)"/>
          <p:cNvSpPr/>
          <p:nvPr/>
        </p:nvSpPr>
        <p:spPr>
          <a:xfrm>
            <a:off x="11464920" y="1368360"/>
            <a:ext cx="173160" cy="282600"/>
          </a:xfrm>
          <a:custGeom>
            <a:avLst/>
            <a:gdLst/>
            <a:ahLst/>
            <a:rect l="l" t="t" r="r" b="b"/>
            <a:pathLst>
              <a:path w="25" h="41">
                <a:moveTo>
                  <a:pt x="14" y="0"/>
                </a:moveTo>
                <a:cubicBezTo>
                  <a:pt x="14" y="11"/>
                  <a:pt x="14" y="11"/>
                  <a:pt x="14" y="11"/>
                </a:cubicBezTo>
                <a:cubicBezTo>
                  <a:pt x="24" y="11"/>
                  <a:pt x="24" y="11"/>
                  <a:pt x="24" y="11"/>
                </a:cubicBezTo>
                <a:cubicBezTo>
                  <a:pt x="24" y="17"/>
                  <a:pt x="24" y="17"/>
                  <a:pt x="24" y="17"/>
                </a:cubicBezTo>
                <a:cubicBezTo>
                  <a:pt x="14" y="17"/>
                  <a:pt x="14" y="17"/>
                  <a:pt x="14" y="17"/>
                </a:cubicBezTo>
                <a:cubicBezTo>
                  <a:pt x="14" y="28"/>
                  <a:pt x="14" y="28"/>
                  <a:pt x="14" y="28"/>
                </a:cubicBezTo>
                <a:cubicBezTo>
                  <a:pt x="14" y="30"/>
                  <a:pt x="14" y="32"/>
                  <a:pt x="15" y="32"/>
                </a:cubicBezTo>
                <a:cubicBezTo>
                  <a:pt x="15" y="33"/>
                  <a:pt x="15" y="34"/>
                  <a:pt x="16" y="34"/>
                </a:cubicBezTo>
                <a:cubicBezTo>
                  <a:pt x="17" y="34"/>
                  <a:pt x="18" y="35"/>
                  <a:pt x="19" y="35"/>
                </a:cubicBezTo>
                <a:cubicBezTo>
                  <a:pt x="21" y="35"/>
                  <a:pt x="23" y="34"/>
                  <a:pt x="25" y="33"/>
                </a:cubicBezTo>
                <a:cubicBezTo>
                  <a:pt x="25" y="39"/>
                  <a:pt x="25" y="39"/>
                  <a:pt x="25" y="39"/>
                </a:cubicBezTo>
                <a:cubicBezTo>
                  <a:pt x="23" y="40"/>
                  <a:pt x="22" y="41"/>
                  <a:pt x="20" y="41"/>
                </a:cubicBezTo>
                <a:cubicBezTo>
                  <a:pt x="19" y="41"/>
                  <a:pt x="18" y="41"/>
                  <a:pt x="16" y="41"/>
                </a:cubicBezTo>
                <a:cubicBezTo>
                  <a:pt x="14" y="41"/>
                  <a:pt x="12" y="41"/>
                  <a:pt x="11" y="41"/>
                </a:cubicBezTo>
                <a:cubicBezTo>
                  <a:pt x="9" y="40"/>
                  <a:pt x="8" y="40"/>
                  <a:pt x="7" y="39"/>
                </a:cubicBezTo>
                <a:cubicBezTo>
                  <a:pt x="6" y="38"/>
                  <a:pt x="5" y="37"/>
                  <a:pt x="5" y="36"/>
                </a:cubicBezTo>
                <a:cubicBezTo>
                  <a:pt x="5" y="35"/>
                  <a:pt x="4" y="33"/>
                  <a:pt x="4" y="32"/>
                </a:cubicBezTo>
                <a:cubicBezTo>
                  <a:pt x="4" y="17"/>
                  <a:pt x="4" y="17"/>
                  <a:pt x="4" y="17"/>
                </a:cubicBezTo>
                <a:cubicBezTo>
                  <a:pt x="0" y="17"/>
                  <a:pt x="0" y="17"/>
                  <a:pt x="0" y="17"/>
                </a:cubicBezTo>
                <a:cubicBezTo>
                  <a:pt x="0" y="11"/>
                  <a:pt x="0" y="11"/>
                  <a:pt x="0" y="11"/>
                </a:cubicBezTo>
                <a:cubicBezTo>
                  <a:pt x="2" y="11"/>
                  <a:pt x="3" y="10"/>
                  <a:pt x="4" y="9"/>
                </a:cubicBezTo>
                <a:cubicBezTo>
                  <a:pt x="5" y="8"/>
                  <a:pt x="6" y="7"/>
                  <a:pt x="7" y="6"/>
                </a:cubicBezTo>
                <a:cubicBezTo>
                  <a:pt x="8" y="4"/>
                  <a:pt x="8" y="2"/>
                  <a:pt x="8" y="0"/>
                </a:cubicBezTo>
                <a:lnTo>
                  <a:pt x="14" y="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45" name="稻壳儿小白白(http://dwz.cn/Wu2UP)"/>
          <p:cNvSpPr/>
          <p:nvPr/>
        </p:nvSpPr>
        <p:spPr>
          <a:xfrm>
            <a:off x="11404440" y="1881360"/>
            <a:ext cx="282600" cy="284040"/>
          </a:xfrm>
          <a:custGeom>
            <a:avLst/>
            <a:gdLst/>
            <a:ahLst/>
            <a:rect l="l" t="t" r="r" b="b"/>
            <a:pathLst>
              <a:path w="41" h="41">
                <a:moveTo>
                  <a:pt x="41" y="33"/>
                </a:moveTo>
                <a:cubicBezTo>
                  <a:pt x="41" y="38"/>
                  <a:pt x="38" y="41"/>
                  <a:pt x="33" y="41"/>
                </a:cubicBezTo>
                <a:cubicBezTo>
                  <a:pt x="8" y="41"/>
                  <a:pt x="8" y="41"/>
                  <a:pt x="8" y="41"/>
                </a:cubicBezTo>
                <a:cubicBezTo>
                  <a:pt x="3" y="41"/>
                  <a:pt x="0" y="38"/>
                  <a:pt x="0" y="33"/>
                </a:cubicBezTo>
                <a:cubicBezTo>
                  <a:pt x="0" y="8"/>
                  <a:pt x="0" y="8"/>
                  <a:pt x="0" y="8"/>
                </a:cubicBezTo>
                <a:cubicBezTo>
                  <a:pt x="0" y="3"/>
                  <a:pt x="3" y="0"/>
                  <a:pt x="8" y="0"/>
                </a:cubicBezTo>
                <a:cubicBezTo>
                  <a:pt x="33" y="0"/>
                  <a:pt x="33" y="0"/>
                  <a:pt x="33" y="0"/>
                </a:cubicBezTo>
                <a:cubicBezTo>
                  <a:pt x="38" y="0"/>
                  <a:pt x="41" y="3"/>
                  <a:pt x="41" y="8"/>
                </a:cubicBezTo>
                <a:lnTo>
                  <a:pt x="41" y="33"/>
                </a:lnTo>
                <a:close/>
                <a:moveTo>
                  <a:pt x="30" y="29"/>
                </a:moveTo>
                <a:cubicBezTo>
                  <a:pt x="29" y="30"/>
                  <a:pt x="27" y="31"/>
                  <a:pt x="25" y="31"/>
                </a:cubicBezTo>
                <a:cubicBezTo>
                  <a:pt x="25" y="31"/>
                  <a:pt x="24" y="31"/>
                  <a:pt x="23" y="30"/>
                </a:cubicBezTo>
                <a:cubicBezTo>
                  <a:pt x="23" y="30"/>
                  <a:pt x="22" y="30"/>
                  <a:pt x="22" y="29"/>
                </a:cubicBezTo>
                <a:cubicBezTo>
                  <a:pt x="22" y="29"/>
                  <a:pt x="22" y="27"/>
                  <a:pt x="22" y="26"/>
                </a:cubicBezTo>
                <a:cubicBezTo>
                  <a:pt x="22" y="18"/>
                  <a:pt x="22" y="18"/>
                  <a:pt x="22" y="18"/>
                </a:cubicBezTo>
                <a:cubicBezTo>
                  <a:pt x="29" y="18"/>
                  <a:pt x="29" y="18"/>
                  <a:pt x="29" y="18"/>
                </a:cubicBezTo>
                <a:cubicBezTo>
                  <a:pt x="29" y="13"/>
                  <a:pt x="29" y="13"/>
                  <a:pt x="29" y="13"/>
                </a:cubicBezTo>
                <a:cubicBezTo>
                  <a:pt x="22" y="13"/>
                  <a:pt x="22" y="13"/>
                  <a:pt x="22" y="13"/>
                </a:cubicBezTo>
                <a:cubicBezTo>
                  <a:pt x="22" y="5"/>
                  <a:pt x="22" y="5"/>
                  <a:pt x="22" y="5"/>
                </a:cubicBezTo>
                <a:cubicBezTo>
                  <a:pt x="17" y="5"/>
                  <a:pt x="17" y="5"/>
                  <a:pt x="17" y="5"/>
                </a:cubicBezTo>
                <a:cubicBezTo>
                  <a:pt x="17" y="7"/>
                  <a:pt x="17" y="8"/>
                  <a:pt x="16" y="9"/>
                </a:cubicBezTo>
                <a:cubicBezTo>
                  <a:pt x="16" y="10"/>
                  <a:pt x="15" y="11"/>
                  <a:pt x="14" y="12"/>
                </a:cubicBezTo>
                <a:cubicBezTo>
                  <a:pt x="13" y="12"/>
                  <a:pt x="12" y="13"/>
                  <a:pt x="11" y="13"/>
                </a:cubicBezTo>
                <a:cubicBezTo>
                  <a:pt x="11" y="18"/>
                  <a:pt x="11" y="18"/>
                  <a:pt x="11" y="18"/>
                </a:cubicBezTo>
                <a:cubicBezTo>
                  <a:pt x="14" y="18"/>
                  <a:pt x="14" y="18"/>
                  <a:pt x="14" y="18"/>
                </a:cubicBezTo>
                <a:cubicBezTo>
                  <a:pt x="14" y="28"/>
                  <a:pt x="14" y="28"/>
                  <a:pt x="14" y="28"/>
                </a:cubicBezTo>
                <a:cubicBezTo>
                  <a:pt x="14" y="30"/>
                  <a:pt x="15" y="31"/>
                  <a:pt x="15" y="32"/>
                </a:cubicBezTo>
                <a:cubicBezTo>
                  <a:pt x="15" y="32"/>
                  <a:pt x="16" y="33"/>
                  <a:pt x="16" y="34"/>
                </a:cubicBezTo>
                <a:cubicBezTo>
                  <a:pt x="17" y="34"/>
                  <a:pt x="18" y="35"/>
                  <a:pt x="19" y="35"/>
                </a:cubicBezTo>
                <a:cubicBezTo>
                  <a:pt x="20" y="36"/>
                  <a:pt x="22" y="36"/>
                  <a:pt x="23" y="36"/>
                </a:cubicBezTo>
                <a:cubicBezTo>
                  <a:pt x="24" y="36"/>
                  <a:pt x="25" y="36"/>
                  <a:pt x="26" y="36"/>
                </a:cubicBezTo>
                <a:cubicBezTo>
                  <a:pt x="28" y="35"/>
                  <a:pt x="29" y="35"/>
                  <a:pt x="30" y="34"/>
                </a:cubicBezTo>
                <a:lnTo>
                  <a:pt x="30" y="2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46" name="稻壳儿小白白(http://dwz.cn/Wu2UP)"/>
          <p:cNvSpPr/>
          <p:nvPr/>
        </p:nvSpPr>
        <p:spPr>
          <a:xfrm>
            <a:off x="11395080" y="2413080"/>
            <a:ext cx="298440" cy="236520"/>
          </a:xfrm>
          <a:custGeom>
            <a:avLst/>
            <a:gdLst/>
            <a:ahLst/>
            <a:rect l="l" t="t" r="r" b="b"/>
            <a:pathLst>
              <a:path w="43" h="34">
                <a:moveTo>
                  <a:pt x="38" y="8"/>
                </a:moveTo>
                <a:cubicBezTo>
                  <a:pt x="38" y="9"/>
                  <a:pt x="38" y="9"/>
                  <a:pt x="38" y="10"/>
                </a:cubicBezTo>
                <a:cubicBezTo>
                  <a:pt x="38" y="21"/>
                  <a:pt x="30" y="34"/>
                  <a:pt x="14" y="34"/>
                </a:cubicBezTo>
                <a:cubicBezTo>
                  <a:pt x="9" y="34"/>
                  <a:pt x="4" y="33"/>
                  <a:pt x="0" y="30"/>
                </a:cubicBezTo>
                <a:cubicBezTo>
                  <a:pt x="1" y="30"/>
                  <a:pt x="2" y="30"/>
                  <a:pt x="3" y="30"/>
                </a:cubicBezTo>
                <a:cubicBezTo>
                  <a:pt x="7" y="30"/>
                  <a:pt x="10" y="29"/>
                  <a:pt x="13" y="27"/>
                </a:cubicBezTo>
                <a:cubicBezTo>
                  <a:pt x="9" y="27"/>
                  <a:pt x="6" y="24"/>
                  <a:pt x="5" y="21"/>
                </a:cubicBezTo>
                <a:cubicBezTo>
                  <a:pt x="6" y="21"/>
                  <a:pt x="6" y="21"/>
                  <a:pt x="7" y="21"/>
                </a:cubicBezTo>
                <a:cubicBezTo>
                  <a:pt x="8" y="21"/>
                  <a:pt x="8" y="21"/>
                  <a:pt x="9" y="21"/>
                </a:cubicBezTo>
                <a:cubicBezTo>
                  <a:pt x="5" y="20"/>
                  <a:pt x="2" y="16"/>
                  <a:pt x="2" y="12"/>
                </a:cubicBezTo>
                <a:cubicBezTo>
                  <a:pt x="2" y="12"/>
                  <a:pt x="2" y="12"/>
                  <a:pt x="2" y="12"/>
                </a:cubicBezTo>
                <a:cubicBezTo>
                  <a:pt x="3" y="13"/>
                  <a:pt x="5" y="13"/>
                  <a:pt x="6" y="13"/>
                </a:cubicBezTo>
                <a:cubicBezTo>
                  <a:pt x="4" y="12"/>
                  <a:pt x="2" y="9"/>
                  <a:pt x="2" y="6"/>
                </a:cubicBezTo>
                <a:cubicBezTo>
                  <a:pt x="2" y="4"/>
                  <a:pt x="3" y="3"/>
                  <a:pt x="3" y="1"/>
                </a:cubicBezTo>
                <a:cubicBezTo>
                  <a:pt x="8" y="7"/>
                  <a:pt x="14" y="10"/>
                  <a:pt x="21" y="11"/>
                </a:cubicBezTo>
                <a:cubicBezTo>
                  <a:pt x="21" y="10"/>
                  <a:pt x="21" y="9"/>
                  <a:pt x="21" y="9"/>
                </a:cubicBezTo>
                <a:cubicBezTo>
                  <a:pt x="21" y="4"/>
                  <a:pt x="25" y="0"/>
                  <a:pt x="30" y="0"/>
                </a:cubicBezTo>
                <a:cubicBezTo>
                  <a:pt x="32" y="0"/>
                  <a:pt x="34" y="1"/>
                  <a:pt x="36" y="3"/>
                </a:cubicBezTo>
                <a:cubicBezTo>
                  <a:pt x="38" y="2"/>
                  <a:pt x="40" y="2"/>
                  <a:pt x="41" y="1"/>
                </a:cubicBezTo>
                <a:cubicBezTo>
                  <a:pt x="41" y="3"/>
                  <a:pt x="39" y="4"/>
                  <a:pt x="38" y="5"/>
                </a:cubicBezTo>
                <a:cubicBezTo>
                  <a:pt x="39" y="5"/>
                  <a:pt x="41" y="5"/>
                  <a:pt x="43" y="4"/>
                </a:cubicBezTo>
                <a:cubicBezTo>
                  <a:pt x="41" y="6"/>
                  <a:pt x="40" y="7"/>
                  <a:pt x="38" y="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47" name="稻壳儿小白白(http://dwz.cn/Wu2UP)"/>
          <p:cNvSpPr/>
          <p:nvPr/>
        </p:nvSpPr>
        <p:spPr>
          <a:xfrm>
            <a:off x="11383920" y="2903400"/>
            <a:ext cx="330120" cy="271440"/>
          </a:xfrm>
          <a:custGeom>
            <a:avLst/>
            <a:gdLst/>
            <a:ahLst/>
            <a:rect l="l" t="t" r="r" b="b"/>
            <a:pathLst>
              <a:path w="48" h="39">
                <a:moveTo>
                  <a:pt x="20" y="39"/>
                </a:moveTo>
                <a:cubicBezTo>
                  <a:pt x="10" y="39"/>
                  <a:pt x="0" y="34"/>
                  <a:pt x="0" y="26"/>
                </a:cubicBezTo>
                <a:cubicBezTo>
                  <a:pt x="0" y="22"/>
                  <a:pt x="2" y="17"/>
                  <a:pt x="7" y="13"/>
                </a:cubicBezTo>
                <a:cubicBezTo>
                  <a:pt x="13" y="7"/>
                  <a:pt x="20" y="4"/>
                  <a:pt x="22" y="7"/>
                </a:cubicBezTo>
                <a:cubicBezTo>
                  <a:pt x="24" y="8"/>
                  <a:pt x="24" y="10"/>
                  <a:pt x="23" y="12"/>
                </a:cubicBezTo>
                <a:cubicBezTo>
                  <a:pt x="23" y="14"/>
                  <a:pt x="24" y="13"/>
                  <a:pt x="24" y="13"/>
                </a:cubicBezTo>
                <a:cubicBezTo>
                  <a:pt x="29" y="11"/>
                  <a:pt x="33" y="11"/>
                  <a:pt x="35" y="13"/>
                </a:cubicBezTo>
                <a:cubicBezTo>
                  <a:pt x="36" y="14"/>
                  <a:pt x="36" y="16"/>
                  <a:pt x="35" y="18"/>
                </a:cubicBezTo>
                <a:cubicBezTo>
                  <a:pt x="34" y="19"/>
                  <a:pt x="35" y="19"/>
                  <a:pt x="36" y="19"/>
                </a:cubicBezTo>
                <a:cubicBezTo>
                  <a:pt x="38" y="20"/>
                  <a:pt x="41" y="22"/>
                  <a:pt x="41" y="25"/>
                </a:cubicBezTo>
                <a:cubicBezTo>
                  <a:pt x="41" y="32"/>
                  <a:pt x="33" y="39"/>
                  <a:pt x="20" y="39"/>
                </a:cubicBezTo>
                <a:close/>
                <a:moveTo>
                  <a:pt x="18" y="17"/>
                </a:moveTo>
                <a:cubicBezTo>
                  <a:pt x="10" y="18"/>
                  <a:pt x="4" y="23"/>
                  <a:pt x="4" y="28"/>
                </a:cubicBezTo>
                <a:cubicBezTo>
                  <a:pt x="5" y="33"/>
                  <a:pt x="12" y="37"/>
                  <a:pt x="20" y="36"/>
                </a:cubicBezTo>
                <a:cubicBezTo>
                  <a:pt x="28" y="35"/>
                  <a:pt x="34" y="31"/>
                  <a:pt x="33" y="25"/>
                </a:cubicBezTo>
                <a:cubicBezTo>
                  <a:pt x="33" y="20"/>
                  <a:pt x="26" y="17"/>
                  <a:pt x="18" y="17"/>
                </a:cubicBezTo>
                <a:close/>
                <a:moveTo>
                  <a:pt x="15" y="34"/>
                </a:moveTo>
                <a:cubicBezTo>
                  <a:pt x="11" y="33"/>
                  <a:pt x="9" y="29"/>
                  <a:pt x="11" y="26"/>
                </a:cubicBezTo>
                <a:cubicBezTo>
                  <a:pt x="12" y="22"/>
                  <a:pt x="17" y="20"/>
                  <a:pt x="20" y="21"/>
                </a:cubicBezTo>
                <a:cubicBezTo>
                  <a:pt x="24" y="22"/>
                  <a:pt x="26" y="26"/>
                  <a:pt x="25" y="30"/>
                </a:cubicBezTo>
                <a:cubicBezTo>
                  <a:pt x="23" y="33"/>
                  <a:pt x="19" y="35"/>
                  <a:pt x="15" y="34"/>
                </a:cubicBezTo>
                <a:close/>
                <a:moveTo>
                  <a:pt x="17" y="27"/>
                </a:moveTo>
                <a:cubicBezTo>
                  <a:pt x="16" y="26"/>
                  <a:pt x="14" y="27"/>
                  <a:pt x="13" y="28"/>
                </a:cubicBezTo>
                <a:cubicBezTo>
                  <a:pt x="12" y="29"/>
                  <a:pt x="13" y="31"/>
                  <a:pt x="14" y="31"/>
                </a:cubicBezTo>
                <a:cubicBezTo>
                  <a:pt x="15" y="32"/>
                  <a:pt x="17" y="31"/>
                  <a:pt x="18" y="30"/>
                </a:cubicBezTo>
                <a:cubicBezTo>
                  <a:pt x="18" y="29"/>
                  <a:pt x="18" y="27"/>
                  <a:pt x="17" y="27"/>
                </a:cubicBezTo>
                <a:close/>
                <a:moveTo>
                  <a:pt x="20" y="26"/>
                </a:moveTo>
                <a:cubicBezTo>
                  <a:pt x="19" y="25"/>
                  <a:pt x="19" y="26"/>
                  <a:pt x="18" y="26"/>
                </a:cubicBezTo>
                <a:cubicBezTo>
                  <a:pt x="18" y="27"/>
                  <a:pt x="18" y="27"/>
                  <a:pt x="19" y="27"/>
                </a:cubicBezTo>
                <a:cubicBezTo>
                  <a:pt x="19" y="28"/>
                  <a:pt x="20" y="27"/>
                  <a:pt x="20" y="27"/>
                </a:cubicBezTo>
                <a:cubicBezTo>
                  <a:pt x="20" y="26"/>
                  <a:pt x="20" y="26"/>
                  <a:pt x="20" y="26"/>
                </a:cubicBezTo>
                <a:close/>
                <a:moveTo>
                  <a:pt x="47" y="17"/>
                </a:moveTo>
                <a:cubicBezTo>
                  <a:pt x="47" y="18"/>
                  <a:pt x="46" y="18"/>
                  <a:pt x="45" y="18"/>
                </a:cubicBezTo>
                <a:cubicBezTo>
                  <a:pt x="44" y="18"/>
                  <a:pt x="43" y="17"/>
                  <a:pt x="43" y="16"/>
                </a:cubicBezTo>
                <a:cubicBezTo>
                  <a:pt x="44" y="13"/>
                  <a:pt x="44" y="9"/>
                  <a:pt x="42" y="7"/>
                </a:cubicBezTo>
                <a:cubicBezTo>
                  <a:pt x="39" y="4"/>
                  <a:pt x="36" y="3"/>
                  <a:pt x="33" y="4"/>
                </a:cubicBezTo>
                <a:cubicBezTo>
                  <a:pt x="32" y="4"/>
                  <a:pt x="31" y="4"/>
                  <a:pt x="31" y="3"/>
                </a:cubicBezTo>
                <a:cubicBezTo>
                  <a:pt x="31" y="2"/>
                  <a:pt x="31" y="1"/>
                  <a:pt x="32" y="0"/>
                </a:cubicBezTo>
                <a:cubicBezTo>
                  <a:pt x="36" y="0"/>
                  <a:pt x="41" y="1"/>
                  <a:pt x="44" y="4"/>
                </a:cubicBezTo>
                <a:cubicBezTo>
                  <a:pt x="47" y="8"/>
                  <a:pt x="48" y="13"/>
                  <a:pt x="47" y="17"/>
                </a:cubicBezTo>
                <a:close/>
                <a:moveTo>
                  <a:pt x="41" y="15"/>
                </a:moveTo>
                <a:cubicBezTo>
                  <a:pt x="40" y="16"/>
                  <a:pt x="40" y="16"/>
                  <a:pt x="39" y="16"/>
                </a:cubicBezTo>
                <a:cubicBezTo>
                  <a:pt x="38" y="16"/>
                  <a:pt x="37" y="15"/>
                  <a:pt x="38" y="14"/>
                </a:cubicBezTo>
                <a:cubicBezTo>
                  <a:pt x="38" y="13"/>
                  <a:pt x="38" y="12"/>
                  <a:pt x="37" y="11"/>
                </a:cubicBezTo>
                <a:cubicBezTo>
                  <a:pt x="36" y="10"/>
                  <a:pt x="35" y="10"/>
                  <a:pt x="34" y="10"/>
                </a:cubicBezTo>
                <a:cubicBezTo>
                  <a:pt x="33" y="10"/>
                  <a:pt x="32" y="10"/>
                  <a:pt x="32" y="9"/>
                </a:cubicBezTo>
                <a:cubicBezTo>
                  <a:pt x="32" y="8"/>
                  <a:pt x="33" y="7"/>
                  <a:pt x="34" y="7"/>
                </a:cubicBezTo>
                <a:cubicBezTo>
                  <a:pt x="36" y="6"/>
                  <a:pt x="38" y="7"/>
                  <a:pt x="39" y="9"/>
                </a:cubicBezTo>
                <a:cubicBezTo>
                  <a:pt x="41" y="10"/>
                  <a:pt x="41" y="13"/>
                  <a:pt x="41" y="1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48" name="稻壳儿小白白(http://dwz.cn/Wu2UP)"/>
          <p:cNvSpPr/>
          <p:nvPr/>
        </p:nvSpPr>
        <p:spPr>
          <a:xfrm>
            <a:off x="11353680" y="3395520"/>
            <a:ext cx="381240" cy="311400"/>
          </a:xfrm>
          <a:custGeom>
            <a:avLst/>
            <a:gdLst/>
            <a:ahLst/>
            <a:rect l="l" t="t" r="r" b="b"/>
            <a:pathLst>
              <a:path w="55" h="45">
                <a:moveTo>
                  <a:pt x="37" y="13"/>
                </a:moveTo>
                <a:cubicBezTo>
                  <a:pt x="28" y="13"/>
                  <a:pt x="21" y="20"/>
                  <a:pt x="21" y="29"/>
                </a:cubicBezTo>
                <a:cubicBezTo>
                  <a:pt x="21" y="30"/>
                  <a:pt x="21" y="32"/>
                  <a:pt x="21" y="33"/>
                </a:cubicBezTo>
                <a:cubicBezTo>
                  <a:pt x="21" y="33"/>
                  <a:pt x="20" y="33"/>
                  <a:pt x="20" y="33"/>
                </a:cubicBezTo>
                <a:cubicBezTo>
                  <a:pt x="17" y="33"/>
                  <a:pt x="15" y="32"/>
                  <a:pt x="13" y="32"/>
                </a:cubicBezTo>
                <a:cubicBezTo>
                  <a:pt x="6" y="35"/>
                  <a:pt x="6" y="35"/>
                  <a:pt x="6" y="35"/>
                </a:cubicBezTo>
                <a:cubicBezTo>
                  <a:pt x="8" y="30"/>
                  <a:pt x="8" y="30"/>
                  <a:pt x="8" y="30"/>
                </a:cubicBezTo>
                <a:cubicBezTo>
                  <a:pt x="3" y="26"/>
                  <a:pt x="0" y="22"/>
                  <a:pt x="0" y="16"/>
                </a:cubicBezTo>
                <a:cubicBezTo>
                  <a:pt x="0" y="7"/>
                  <a:pt x="9" y="0"/>
                  <a:pt x="20" y="0"/>
                </a:cubicBezTo>
                <a:cubicBezTo>
                  <a:pt x="29" y="0"/>
                  <a:pt x="37" y="6"/>
                  <a:pt x="39" y="14"/>
                </a:cubicBezTo>
                <a:cubicBezTo>
                  <a:pt x="39" y="13"/>
                  <a:pt x="38" y="13"/>
                  <a:pt x="37" y="13"/>
                </a:cubicBezTo>
                <a:close/>
                <a:moveTo>
                  <a:pt x="13" y="8"/>
                </a:moveTo>
                <a:cubicBezTo>
                  <a:pt x="12" y="8"/>
                  <a:pt x="10" y="9"/>
                  <a:pt x="10" y="11"/>
                </a:cubicBezTo>
                <a:cubicBezTo>
                  <a:pt x="10" y="12"/>
                  <a:pt x="12" y="13"/>
                  <a:pt x="13" y="13"/>
                </a:cubicBezTo>
                <a:cubicBezTo>
                  <a:pt x="15" y="13"/>
                  <a:pt x="16" y="12"/>
                  <a:pt x="16" y="11"/>
                </a:cubicBezTo>
                <a:cubicBezTo>
                  <a:pt x="16" y="9"/>
                  <a:pt x="15" y="8"/>
                  <a:pt x="13" y="8"/>
                </a:cubicBezTo>
                <a:close/>
                <a:moveTo>
                  <a:pt x="48" y="40"/>
                </a:moveTo>
                <a:cubicBezTo>
                  <a:pt x="50" y="45"/>
                  <a:pt x="50" y="45"/>
                  <a:pt x="50" y="45"/>
                </a:cubicBezTo>
                <a:cubicBezTo>
                  <a:pt x="44" y="42"/>
                  <a:pt x="44" y="42"/>
                  <a:pt x="44" y="42"/>
                </a:cubicBezTo>
                <a:cubicBezTo>
                  <a:pt x="42" y="42"/>
                  <a:pt x="40" y="43"/>
                  <a:pt x="38" y="43"/>
                </a:cubicBezTo>
                <a:cubicBezTo>
                  <a:pt x="29" y="43"/>
                  <a:pt x="22" y="36"/>
                  <a:pt x="22" y="29"/>
                </a:cubicBezTo>
                <a:cubicBezTo>
                  <a:pt x="22" y="21"/>
                  <a:pt x="29" y="14"/>
                  <a:pt x="38" y="14"/>
                </a:cubicBezTo>
                <a:cubicBezTo>
                  <a:pt x="47" y="14"/>
                  <a:pt x="55" y="21"/>
                  <a:pt x="55" y="29"/>
                </a:cubicBezTo>
                <a:cubicBezTo>
                  <a:pt x="55" y="33"/>
                  <a:pt x="52" y="37"/>
                  <a:pt x="48" y="40"/>
                </a:cubicBezTo>
                <a:close/>
                <a:moveTo>
                  <a:pt x="27" y="8"/>
                </a:moveTo>
                <a:cubicBezTo>
                  <a:pt x="25" y="8"/>
                  <a:pt x="24" y="9"/>
                  <a:pt x="24" y="11"/>
                </a:cubicBezTo>
                <a:cubicBezTo>
                  <a:pt x="24" y="12"/>
                  <a:pt x="25" y="13"/>
                  <a:pt x="27" y="13"/>
                </a:cubicBezTo>
                <a:cubicBezTo>
                  <a:pt x="28" y="13"/>
                  <a:pt x="29" y="12"/>
                  <a:pt x="29" y="11"/>
                </a:cubicBezTo>
                <a:cubicBezTo>
                  <a:pt x="29" y="9"/>
                  <a:pt x="28" y="8"/>
                  <a:pt x="27" y="8"/>
                </a:cubicBezTo>
                <a:close/>
                <a:moveTo>
                  <a:pt x="33" y="22"/>
                </a:moveTo>
                <a:cubicBezTo>
                  <a:pt x="32" y="22"/>
                  <a:pt x="31" y="23"/>
                  <a:pt x="31" y="24"/>
                </a:cubicBezTo>
                <a:cubicBezTo>
                  <a:pt x="31" y="25"/>
                  <a:pt x="32" y="26"/>
                  <a:pt x="33" y="26"/>
                </a:cubicBezTo>
                <a:cubicBezTo>
                  <a:pt x="35" y="26"/>
                  <a:pt x="36" y="25"/>
                  <a:pt x="36" y="24"/>
                </a:cubicBezTo>
                <a:cubicBezTo>
                  <a:pt x="36" y="23"/>
                  <a:pt x="35" y="22"/>
                  <a:pt x="33" y="22"/>
                </a:cubicBezTo>
                <a:close/>
                <a:moveTo>
                  <a:pt x="44" y="22"/>
                </a:moveTo>
                <a:cubicBezTo>
                  <a:pt x="43" y="22"/>
                  <a:pt x="42" y="23"/>
                  <a:pt x="42" y="24"/>
                </a:cubicBezTo>
                <a:cubicBezTo>
                  <a:pt x="42" y="25"/>
                  <a:pt x="43" y="26"/>
                  <a:pt x="44" y="26"/>
                </a:cubicBezTo>
                <a:cubicBezTo>
                  <a:pt x="45" y="26"/>
                  <a:pt x="46" y="25"/>
                  <a:pt x="46" y="24"/>
                </a:cubicBezTo>
                <a:cubicBezTo>
                  <a:pt x="46" y="23"/>
                  <a:pt x="45" y="22"/>
                  <a:pt x="44" y="2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49" name="稻壳儿小白白(http://dwz.cn/Wu2UP)"/>
          <p:cNvSpPr/>
          <p:nvPr/>
        </p:nvSpPr>
        <p:spPr>
          <a:xfrm>
            <a:off x="11388600" y="3900600"/>
            <a:ext cx="304920" cy="325440"/>
          </a:xfrm>
          <a:custGeom>
            <a:avLst/>
            <a:gdLst/>
            <a:ahLst/>
            <a:rect l="l" t="t" r="r" b="b"/>
            <a:pathLst>
              <a:path w="44" h="47">
                <a:moveTo>
                  <a:pt x="30" y="36"/>
                </a:moveTo>
                <a:cubicBezTo>
                  <a:pt x="28" y="42"/>
                  <a:pt x="22" y="47"/>
                  <a:pt x="16" y="47"/>
                </a:cubicBezTo>
                <a:cubicBezTo>
                  <a:pt x="7" y="47"/>
                  <a:pt x="0" y="40"/>
                  <a:pt x="0" y="31"/>
                </a:cubicBezTo>
                <a:cubicBezTo>
                  <a:pt x="0" y="25"/>
                  <a:pt x="4" y="19"/>
                  <a:pt x="10" y="17"/>
                </a:cubicBezTo>
                <a:cubicBezTo>
                  <a:pt x="11" y="20"/>
                  <a:pt x="11" y="20"/>
                  <a:pt x="11" y="20"/>
                </a:cubicBezTo>
                <a:cubicBezTo>
                  <a:pt x="6" y="22"/>
                  <a:pt x="4" y="27"/>
                  <a:pt x="4" y="31"/>
                </a:cubicBezTo>
                <a:cubicBezTo>
                  <a:pt x="4" y="38"/>
                  <a:pt x="9" y="43"/>
                  <a:pt x="16" y="43"/>
                </a:cubicBezTo>
                <a:cubicBezTo>
                  <a:pt x="23" y="43"/>
                  <a:pt x="28" y="38"/>
                  <a:pt x="28" y="31"/>
                </a:cubicBezTo>
                <a:lnTo>
                  <a:pt x="30" y="36"/>
                </a:lnTo>
                <a:close/>
                <a:moveTo>
                  <a:pt x="44" y="36"/>
                </a:moveTo>
                <a:cubicBezTo>
                  <a:pt x="37" y="40"/>
                  <a:pt x="37" y="40"/>
                  <a:pt x="37" y="40"/>
                </a:cubicBezTo>
                <a:cubicBezTo>
                  <a:pt x="37" y="40"/>
                  <a:pt x="37" y="40"/>
                  <a:pt x="36" y="40"/>
                </a:cubicBezTo>
                <a:cubicBezTo>
                  <a:pt x="36" y="40"/>
                  <a:pt x="35" y="40"/>
                  <a:pt x="35" y="39"/>
                </a:cubicBezTo>
                <a:cubicBezTo>
                  <a:pt x="28" y="26"/>
                  <a:pt x="28" y="26"/>
                  <a:pt x="28" y="26"/>
                </a:cubicBezTo>
                <a:cubicBezTo>
                  <a:pt x="16" y="26"/>
                  <a:pt x="16" y="26"/>
                  <a:pt x="16" y="26"/>
                </a:cubicBezTo>
                <a:cubicBezTo>
                  <a:pt x="15" y="26"/>
                  <a:pt x="14" y="26"/>
                  <a:pt x="14" y="25"/>
                </a:cubicBezTo>
                <a:cubicBezTo>
                  <a:pt x="11" y="4"/>
                  <a:pt x="11" y="4"/>
                  <a:pt x="11" y="4"/>
                </a:cubicBezTo>
                <a:cubicBezTo>
                  <a:pt x="11" y="4"/>
                  <a:pt x="11" y="3"/>
                  <a:pt x="12" y="3"/>
                </a:cubicBezTo>
                <a:cubicBezTo>
                  <a:pt x="12" y="1"/>
                  <a:pt x="14" y="0"/>
                  <a:pt x="16" y="0"/>
                </a:cubicBezTo>
                <a:cubicBezTo>
                  <a:pt x="18" y="0"/>
                  <a:pt x="20" y="2"/>
                  <a:pt x="20" y="4"/>
                </a:cubicBezTo>
                <a:cubicBezTo>
                  <a:pt x="20" y="6"/>
                  <a:pt x="18" y="9"/>
                  <a:pt x="15" y="8"/>
                </a:cubicBezTo>
                <a:cubicBezTo>
                  <a:pt x="16" y="16"/>
                  <a:pt x="16" y="16"/>
                  <a:pt x="16" y="16"/>
                </a:cubicBezTo>
                <a:cubicBezTo>
                  <a:pt x="28" y="16"/>
                  <a:pt x="28" y="16"/>
                  <a:pt x="28" y="16"/>
                </a:cubicBezTo>
                <a:cubicBezTo>
                  <a:pt x="28" y="19"/>
                  <a:pt x="28" y="19"/>
                  <a:pt x="28" y="19"/>
                </a:cubicBezTo>
                <a:cubicBezTo>
                  <a:pt x="17" y="19"/>
                  <a:pt x="17" y="19"/>
                  <a:pt x="17" y="19"/>
                </a:cubicBezTo>
                <a:cubicBezTo>
                  <a:pt x="17" y="23"/>
                  <a:pt x="17" y="23"/>
                  <a:pt x="17" y="23"/>
                </a:cubicBezTo>
                <a:cubicBezTo>
                  <a:pt x="29" y="23"/>
                  <a:pt x="29" y="23"/>
                  <a:pt x="29" y="23"/>
                </a:cubicBezTo>
                <a:cubicBezTo>
                  <a:pt x="30" y="23"/>
                  <a:pt x="31" y="23"/>
                  <a:pt x="31" y="24"/>
                </a:cubicBezTo>
                <a:cubicBezTo>
                  <a:pt x="37" y="36"/>
                  <a:pt x="37" y="36"/>
                  <a:pt x="37" y="36"/>
                </a:cubicBezTo>
                <a:cubicBezTo>
                  <a:pt x="42" y="33"/>
                  <a:pt x="42" y="33"/>
                  <a:pt x="42" y="33"/>
                </a:cubicBezTo>
                <a:lnTo>
                  <a:pt x="44" y="3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50" name="稻壳儿小白白(http://dwz.cn/Wu2UP)"/>
          <p:cNvSpPr/>
          <p:nvPr/>
        </p:nvSpPr>
        <p:spPr>
          <a:xfrm>
            <a:off x="11388600" y="4425840"/>
            <a:ext cx="312840" cy="304920"/>
          </a:xfrm>
          <a:custGeom>
            <a:avLst/>
            <a:gdLst/>
            <a:ahLst/>
            <a:rect l="l" t="t" r="r" b="b"/>
            <a:pathLst>
              <a:path w="107" h="104">
                <a:moveTo>
                  <a:pt x="45" y="49"/>
                </a:moveTo>
                <a:lnTo>
                  <a:pt x="0" y="49"/>
                </a:lnTo>
                <a:lnTo>
                  <a:pt x="0" y="14"/>
                </a:lnTo>
                <a:lnTo>
                  <a:pt x="45" y="7"/>
                </a:lnTo>
                <a:lnTo>
                  <a:pt x="45" y="49"/>
                </a:lnTo>
                <a:close/>
                <a:moveTo>
                  <a:pt x="45" y="97"/>
                </a:moveTo>
                <a:lnTo>
                  <a:pt x="0" y="90"/>
                </a:lnTo>
                <a:lnTo>
                  <a:pt x="0" y="54"/>
                </a:lnTo>
                <a:lnTo>
                  <a:pt x="45" y="54"/>
                </a:lnTo>
                <a:lnTo>
                  <a:pt x="45" y="97"/>
                </a:lnTo>
                <a:close/>
                <a:moveTo>
                  <a:pt x="107" y="49"/>
                </a:moveTo>
                <a:lnTo>
                  <a:pt x="50" y="49"/>
                </a:lnTo>
                <a:lnTo>
                  <a:pt x="50" y="7"/>
                </a:lnTo>
                <a:lnTo>
                  <a:pt x="107" y="0"/>
                </a:lnTo>
                <a:lnTo>
                  <a:pt x="107" y="49"/>
                </a:lnTo>
                <a:close/>
                <a:moveTo>
                  <a:pt x="107" y="104"/>
                </a:moveTo>
                <a:lnTo>
                  <a:pt x="50" y="97"/>
                </a:lnTo>
                <a:lnTo>
                  <a:pt x="50" y="54"/>
                </a:lnTo>
                <a:lnTo>
                  <a:pt x="107" y="54"/>
                </a:lnTo>
                <a:lnTo>
                  <a:pt x="107" y="10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51" name="稻壳儿小白白(http://dwz.cn/Wu2UP)"/>
          <p:cNvSpPr/>
          <p:nvPr/>
        </p:nvSpPr>
        <p:spPr>
          <a:xfrm>
            <a:off x="11383920" y="4930920"/>
            <a:ext cx="330120" cy="263520"/>
          </a:xfrm>
          <a:custGeom>
            <a:avLst/>
            <a:gdLst/>
            <a:ahLst/>
            <a:rect l="l" t="t" r="r" b="b"/>
            <a:pathLst>
              <a:path w="48" h="38">
                <a:moveTo>
                  <a:pt x="48" y="20"/>
                </a:moveTo>
                <a:cubicBezTo>
                  <a:pt x="48" y="21"/>
                  <a:pt x="47" y="21"/>
                  <a:pt x="47" y="21"/>
                </a:cubicBezTo>
                <a:cubicBezTo>
                  <a:pt x="41" y="21"/>
                  <a:pt x="41" y="21"/>
                  <a:pt x="41" y="21"/>
                </a:cubicBezTo>
                <a:cubicBezTo>
                  <a:pt x="37" y="38"/>
                  <a:pt x="37" y="38"/>
                  <a:pt x="37" y="38"/>
                </a:cubicBezTo>
                <a:cubicBezTo>
                  <a:pt x="36" y="38"/>
                  <a:pt x="36" y="38"/>
                  <a:pt x="36" y="38"/>
                </a:cubicBezTo>
                <a:cubicBezTo>
                  <a:pt x="32" y="38"/>
                  <a:pt x="32" y="38"/>
                  <a:pt x="32" y="38"/>
                </a:cubicBezTo>
                <a:cubicBezTo>
                  <a:pt x="31" y="38"/>
                  <a:pt x="31" y="38"/>
                  <a:pt x="31" y="38"/>
                </a:cubicBezTo>
                <a:cubicBezTo>
                  <a:pt x="26" y="21"/>
                  <a:pt x="26" y="21"/>
                  <a:pt x="26" y="21"/>
                </a:cubicBezTo>
                <a:cubicBezTo>
                  <a:pt x="21" y="21"/>
                  <a:pt x="21" y="21"/>
                  <a:pt x="21" y="21"/>
                </a:cubicBezTo>
                <a:cubicBezTo>
                  <a:pt x="16" y="38"/>
                  <a:pt x="16" y="38"/>
                  <a:pt x="16" y="38"/>
                </a:cubicBezTo>
                <a:cubicBezTo>
                  <a:pt x="16" y="38"/>
                  <a:pt x="16" y="38"/>
                  <a:pt x="15" y="38"/>
                </a:cubicBezTo>
                <a:cubicBezTo>
                  <a:pt x="11" y="38"/>
                  <a:pt x="11" y="38"/>
                  <a:pt x="11" y="38"/>
                </a:cubicBezTo>
                <a:cubicBezTo>
                  <a:pt x="11" y="38"/>
                  <a:pt x="10" y="38"/>
                  <a:pt x="10" y="38"/>
                </a:cubicBezTo>
                <a:cubicBezTo>
                  <a:pt x="6" y="21"/>
                  <a:pt x="6" y="21"/>
                  <a:pt x="6" y="21"/>
                </a:cubicBezTo>
                <a:cubicBezTo>
                  <a:pt x="0" y="21"/>
                  <a:pt x="0" y="21"/>
                  <a:pt x="0" y="21"/>
                </a:cubicBezTo>
                <a:cubicBezTo>
                  <a:pt x="0" y="21"/>
                  <a:pt x="0" y="21"/>
                  <a:pt x="0" y="20"/>
                </a:cubicBezTo>
                <a:cubicBezTo>
                  <a:pt x="0" y="18"/>
                  <a:pt x="0" y="18"/>
                  <a:pt x="0" y="18"/>
                </a:cubicBezTo>
                <a:cubicBezTo>
                  <a:pt x="0" y="18"/>
                  <a:pt x="0" y="18"/>
                  <a:pt x="0" y="18"/>
                </a:cubicBezTo>
                <a:cubicBezTo>
                  <a:pt x="5" y="18"/>
                  <a:pt x="5" y="18"/>
                  <a:pt x="5" y="18"/>
                </a:cubicBezTo>
                <a:cubicBezTo>
                  <a:pt x="4" y="14"/>
                  <a:pt x="4" y="14"/>
                  <a:pt x="4" y="14"/>
                </a:cubicBezTo>
                <a:cubicBezTo>
                  <a:pt x="0" y="14"/>
                  <a:pt x="0" y="14"/>
                  <a:pt x="0" y="14"/>
                </a:cubicBezTo>
                <a:cubicBezTo>
                  <a:pt x="0" y="14"/>
                  <a:pt x="0" y="14"/>
                  <a:pt x="0" y="13"/>
                </a:cubicBezTo>
                <a:cubicBezTo>
                  <a:pt x="0" y="12"/>
                  <a:pt x="0" y="12"/>
                  <a:pt x="0" y="12"/>
                </a:cubicBezTo>
                <a:cubicBezTo>
                  <a:pt x="0" y="11"/>
                  <a:pt x="0" y="11"/>
                  <a:pt x="0" y="11"/>
                </a:cubicBezTo>
                <a:cubicBezTo>
                  <a:pt x="3" y="11"/>
                  <a:pt x="3" y="11"/>
                  <a:pt x="3" y="11"/>
                </a:cubicBezTo>
                <a:cubicBezTo>
                  <a:pt x="1" y="2"/>
                  <a:pt x="1" y="2"/>
                  <a:pt x="1" y="2"/>
                </a:cubicBezTo>
                <a:cubicBezTo>
                  <a:pt x="1" y="1"/>
                  <a:pt x="1" y="1"/>
                  <a:pt x="1" y="1"/>
                </a:cubicBezTo>
                <a:cubicBezTo>
                  <a:pt x="1" y="1"/>
                  <a:pt x="1" y="0"/>
                  <a:pt x="2" y="0"/>
                </a:cubicBezTo>
                <a:cubicBezTo>
                  <a:pt x="5" y="0"/>
                  <a:pt x="5" y="0"/>
                  <a:pt x="5" y="0"/>
                </a:cubicBezTo>
                <a:cubicBezTo>
                  <a:pt x="6" y="0"/>
                  <a:pt x="6" y="1"/>
                  <a:pt x="6" y="1"/>
                </a:cubicBezTo>
                <a:cubicBezTo>
                  <a:pt x="9" y="11"/>
                  <a:pt x="9" y="11"/>
                  <a:pt x="9" y="11"/>
                </a:cubicBezTo>
                <a:cubicBezTo>
                  <a:pt x="18" y="11"/>
                  <a:pt x="18" y="11"/>
                  <a:pt x="18" y="11"/>
                </a:cubicBezTo>
                <a:cubicBezTo>
                  <a:pt x="21" y="1"/>
                  <a:pt x="21" y="1"/>
                  <a:pt x="21" y="1"/>
                </a:cubicBezTo>
                <a:cubicBezTo>
                  <a:pt x="21" y="1"/>
                  <a:pt x="21" y="0"/>
                  <a:pt x="22" y="0"/>
                </a:cubicBezTo>
                <a:cubicBezTo>
                  <a:pt x="25" y="0"/>
                  <a:pt x="25" y="0"/>
                  <a:pt x="25" y="0"/>
                </a:cubicBezTo>
                <a:cubicBezTo>
                  <a:pt x="26" y="0"/>
                  <a:pt x="26" y="1"/>
                  <a:pt x="26" y="1"/>
                </a:cubicBezTo>
                <a:cubicBezTo>
                  <a:pt x="29" y="11"/>
                  <a:pt x="29" y="11"/>
                  <a:pt x="29" y="11"/>
                </a:cubicBezTo>
                <a:cubicBezTo>
                  <a:pt x="38" y="11"/>
                  <a:pt x="38" y="11"/>
                  <a:pt x="38" y="11"/>
                </a:cubicBezTo>
                <a:cubicBezTo>
                  <a:pt x="41" y="1"/>
                  <a:pt x="41" y="1"/>
                  <a:pt x="41" y="1"/>
                </a:cubicBezTo>
                <a:cubicBezTo>
                  <a:pt x="41" y="1"/>
                  <a:pt x="41" y="0"/>
                  <a:pt x="42" y="0"/>
                </a:cubicBezTo>
                <a:cubicBezTo>
                  <a:pt x="45" y="0"/>
                  <a:pt x="45" y="0"/>
                  <a:pt x="45" y="0"/>
                </a:cubicBezTo>
                <a:cubicBezTo>
                  <a:pt x="46" y="0"/>
                  <a:pt x="46" y="1"/>
                  <a:pt x="46" y="1"/>
                </a:cubicBezTo>
                <a:cubicBezTo>
                  <a:pt x="46" y="1"/>
                  <a:pt x="46" y="1"/>
                  <a:pt x="46" y="2"/>
                </a:cubicBezTo>
                <a:cubicBezTo>
                  <a:pt x="44" y="11"/>
                  <a:pt x="44" y="11"/>
                  <a:pt x="44" y="11"/>
                </a:cubicBezTo>
                <a:cubicBezTo>
                  <a:pt x="47" y="11"/>
                  <a:pt x="47" y="11"/>
                  <a:pt x="47" y="11"/>
                </a:cubicBezTo>
                <a:cubicBezTo>
                  <a:pt x="47" y="11"/>
                  <a:pt x="48" y="11"/>
                  <a:pt x="48" y="12"/>
                </a:cubicBezTo>
                <a:cubicBezTo>
                  <a:pt x="48" y="13"/>
                  <a:pt x="48" y="13"/>
                  <a:pt x="48" y="13"/>
                </a:cubicBezTo>
                <a:cubicBezTo>
                  <a:pt x="48" y="14"/>
                  <a:pt x="47" y="14"/>
                  <a:pt x="47" y="14"/>
                </a:cubicBezTo>
                <a:cubicBezTo>
                  <a:pt x="43" y="14"/>
                  <a:pt x="43" y="14"/>
                  <a:pt x="43" y="14"/>
                </a:cubicBezTo>
                <a:cubicBezTo>
                  <a:pt x="42" y="18"/>
                  <a:pt x="42" y="18"/>
                  <a:pt x="42" y="18"/>
                </a:cubicBezTo>
                <a:cubicBezTo>
                  <a:pt x="47" y="18"/>
                  <a:pt x="47" y="18"/>
                  <a:pt x="47" y="18"/>
                </a:cubicBezTo>
                <a:cubicBezTo>
                  <a:pt x="47" y="18"/>
                  <a:pt x="48" y="18"/>
                  <a:pt x="48" y="18"/>
                </a:cubicBezTo>
                <a:lnTo>
                  <a:pt x="48" y="20"/>
                </a:lnTo>
                <a:close/>
                <a:moveTo>
                  <a:pt x="17" y="14"/>
                </a:moveTo>
                <a:cubicBezTo>
                  <a:pt x="10" y="14"/>
                  <a:pt x="10" y="14"/>
                  <a:pt x="10" y="14"/>
                </a:cubicBezTo>
                <a:cubicBezTo>
                  <a:pt x="10" y="18"/>
                  <a:pt x="10" y="18"/>
                  <a:pt x="10" y="18"/>
                </a:cubicBezTo>
                <a:cubicBezTo>
                  <a:pt x="16" y="18"/>
                  <a:pt x="16" y="18"/>
                  <a:pt x="16" y="18"/>
                </a:cubicBezTo>
                <a:lnTo>
                  <a:pt x="17" y="14"/>
                </a:lnTo>
                <a:close/>
                <a:moveTo>
                  <a:pt x="15" y="21"/>
                </a:moveTo>
                <a:cubicBezTo>
                  <a:pt x="11" y="21"/>
                  <a:pt x="11" y="21"/>
                  <a:pt x="11" y="21"/>
                </a:cubicBezTo>
                <a:cubicBezTo>
                  <a:pt x="13" y="29"/>
                  <a:pt x="13" y="29"/>
                  <a:pt x="13" y="29"/>
                </a:cubicBezTo>
                <a:cubicBezTo>
                  <a:pt x="13" y="29"/>
                  <a:pt x="13" y="29"/>
                  <a:pt x="13" y="29"/>
                </a:cubicBezTo>
                <a:cubicBezTo>
                  <a:pt x="13" y="29"/>
                  <a:pt x="13" y="29"/>
                  <a:pt x="13" y="29"/>
                </a:cubicBezTo>
                <a:lnTo>
                  <a:pt x="15" y="21"/>
                </a:lnTo>
                <a:close/>
                <a:moveTo>
                  <a:pt x="25" y="18"/>
                </a:moveTo>
                <a:cubicBezTo>
                  <a:pt x="24" y="14"/>
                  <a:pt x="24" y="14"/>
                  <a:pt x="24" y="14"/>
                </a:cubicBezTo>
                <a:cubicBezTo>
                  <a:pt x="22" y="14"/>
                  <a:pt x="22" y="14"/>
                  <a:pt x="22" y="14"/>
                </a:cubicBezTo>
                <a:cubicBezTo>
                  <a:pt x="22" y="18"/>
                  <a:pt x="22" y="18"/>
                  <a:pt x="22" y="18"/>
                </a:cubicBezTo>
                <a:lnTo>
                  <a:pt x="25" y="18"/>
                </a:lnTo>
                <a:close/>
                <a:moveTo>
                  <a:pt x="37" y="14"/>
                </a:moveTo>
                <a:cubicBezTo>
                  <a:pt x="29" y="14"/>
                  <a:pt x="29" y="14"/>
                  <a:pt x="29" y="14"/>
                </a:cubicBezTo>
                <a:cubicBezTo>
                  <a:pt x="30" y="18"/>
                  <a:pt x="30" y="18"/>
                  <a:pt x="30" y="18"/>
                </a:cubicBezTo>
                <a:cubicBezTo>
                  <a:pt x="37" y="18"/>
                  <a:pt x="37" y="18"/>
                  <a:pt x="37" y="18"/>
                </a:cubicBezTo>
                <a:lnTo>
                  <a:pt x="37" y="14"/>
                </a:lnTo>
                <a:close/>
                <a:moveTo>
                  <a:pt x="36" y="21"/>
                </a:moveTo>
                <a:cubicBezTo>
                  <a:pt x="31" y="21"/>
                  <a:pt x="31" y="21"/>
                  <a:pt x="31" y="21"/>
                </a:cubicBezTo>
                <a:cubicBezTo>
                  <a:pt x="34" y="29"/>
                  <a:pt x="34" y="29"/>
                  <a:pt x="34" y="29"/>
                </a:cubicBezTo>
                <a:cubicBezTo>
                  <a:pt x="34" y="29"/>
                  <a:pt x="34" y="29"/>
                  <a:pt x="34" y="29"/>
                </a:cubicBezTo>
                <a:cubicBezTo>
                  <a:pt x="34" y="29"/>
                  <a:pt x="34" y="29"/>
                  <a:pt x="34" y="29"/>
                </a:cubicBezTo>
                <a:lnTo>
                  <a:pt x="36" y="2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52" name="稻壳儿小白白(http://dwz.cn/Wu2UP)"/>
          <p:cNvSpPr/>
          <p:nvPr/>
        </p:nvSpPr>
        <p:spPr>
          <a:xfrm>
            <a:off x="11383920" y="5421240"/>
            <a:ext cx="330120" cy="333360"/>
          </a:xfrm>
          <a:custGeom>
            <a:avLst/>
            <a:gdLst/>
            <a:ahLst/>
            <a:rect l="l" t="t" r="r" b="b"/>
            <a:pathLst>
              <a:path w="48" h="48">
                <a:moveTo>
                  <a:pt x="48" y="24"/>
                </a:moveTo>
                <a:cubicBezTo>
                  <a:pt x="48" y="37"/>
                  <a:pt x="37" y="48"/>
                  <a:pt x="24" y="48"/>
                </a:cubicBezTo>
                <a:cubicBezTo>
                  <a:pt x="10" y="48"/>
                  <a:pt x="0" y="37"/>
                  <a:pt x="0" y="24"/>
                </a:cubicBezTo>
                <a:cubicBezTo>
                  <a:pt x="0" y="10"/>
                  <a:pt x="10" y="0"/>
                  <a:pt x="24" y="0"/>
                </a:cubicBezTo>
                <a:cubicBezTo>
                  <a:pt x="37" y="0"/>
                  <a:pt x="48" y="10"/>
                  <a:pt x="48" y="24"/>
                </a:cubicBezTo>
                <a:close/>
                <a:moveTo>
                  <a:pt x="46" y="24"/>
                </a:moveTo>
                <a:cubicBezTo>
                  <a:pt x="46" y="11"/>
                  <a:pt x="36" y="1"/>
                  <a:pt x="24" y="1"/>
                </a:cubicBezTo>
                <a:cubicBezTo>
                  <a:pt x="11" y="1"/>
                  <a:pt x="1" y="11"/>
                  <a:pt x="1" y="24"/>
                </a:cubicBezTo>
                <a:cubicBezTo>
                  <a:pt x="1" y="36"/>
                  <a:pt x="11" y="47"/>
                  <a:pt x="24" y="47"/>
                </a:cubicBezTo>
                <a:cubicBezTo>
                  <a:pt x="36" y="47"/>
                  <a:pt x="46" y="36"/>
                  <a:pt x="46" y="24"/>
                </a:cubicBezTo>
                <a:close/>
                <a:moveTo>
                  <a:pt x="5" y="15"/>
                </a:moveTo>
                <a:cubicBezTo>
                  <a:pt x="15" y="42"/>
                  <a:pt x="15" y="42"/>
                  <a:pt x="15" y="42"/>
                </a:cubicBezTo>
                <a:cubicBezTo>
                  <a:pt x="8" y="39"/>
                  <a:pt x="3" y="32"/>
                  <a:pt x="3" y="24"/>
                </a:cubicBezTo>
                <a:cubicBezTo>
                  <a:pt x="3" y="21"/>
                  <a:pt x="4" y="18"/>
                  <a:pt x="5" y="15"/>
                </a:cubicBezTo>
                <a:close/>
                <a:moveTo>
                  <a:pt x="36" y="29"/>
                </a:moveTo>
                <a:cubicBezTo>
                  <a:pt x="34" y="36"/>
                  <a:pt x="34" y="36"/>
                  <a:pt x="34" y="36"/>
                </a:cubicBezTo>
                <a:cubicBezTo>
                  <a:pt x="26" y="14"/>
                  <a:pt x="26" y="14"/>
                  <a:pt x="26" y="14"/>
                </a:cubicBezTo>
                <a:cubicBezTo>
                  <a:pt x="26" y="14"/>
                  <a:pt x="28" y="14"/>
                  <a:pt x="29" y="14"/>
                </a:cubicBezTo>
                <a:cubicBezTo>
                  <a:pt x="30" y="14"/>
                  <a:pt x="30" y="12"/>
                  <a:pt x="29" y="12"/>
                </a:cubicBezTo>
                <a:cubicBezTo>
                  <a:pt x="25" y="12"/>
                  <a:pt x="23" y="12"/>
                  <a:pt x="23" y="12"/>
                </a:cubicBezTo>
                <a:cubicBezTo>
                  <a:pt x="23" y="12"/>
                  <a:pt x="21" y="12"/>
                  <a:pt x="18" y="12"/>
                </a:cubicBezTo>
                <a:cubicBezTo>
                  <a:pt x="17" y="12"/>
                  <a:pt x="16" y="14"/>
                  <a:pt x="18" y="14"/>
                </a:cubicBezTo>
                <a:cubicBezTo>
                  <a:pt x="19" y="14"/>
                  <a:pt x="20" y="14"/>
                  <a:pt x="20" y="14"/>
                </a:cubicBezTo>
                <a:cubicBezTo>
                  <a:pt x="23" y="23"/>
                  <a:pt x="23" y="23"/>
                  <a:pt x="23" y="23"/>
                </a:cubicBezTo>
                <a:cubicBezTo>
                  <a:pt x="18" y="36"/>
                  <a:pt x="18" y="36"/>
                  <a:pt x="18" y="36"/>
                </a:cubicBezTo>
                <a:cubicBezTo>
                  <a:pt x="11" y="14"/>
                  <a:pt x="11" y="14"/>
                  <a:pt x="11" y="14"/>
                </a:cubicBezTo>
                <a:cubicBezTo>
                  <a:pt x="11" y="14"/>
                  <a:pt x="12" y="14"/>
                  <a:pt x="13" y="14"/>
                </a:cubicBezTo>
                <a:cubicBezTo>
                  <a:pt x="14" y="14"/>
                  <a:pt x="14" y="12"/>
                  <a:pt x="13" y="12"/>
                </a:cubicBezTo>
                <a:cubicBezTo>
                  <a:pt x="10" y="12"/>
                  <a:pt x="8" y="12"/>
                  <a:pt x="8" y="12"/>
                </a:cubicBezTo>
                <a:cubicBezTo>
                  <a:pt x="7" y="12"/>
                  <a:pt x="7" y="12"/>
                  <a:pt x="6" y="12"/>
                </a:cubicBezTo>
                <a:cubicBezTo>
                  <a:pt x="10" y="7"/>
                  <a:pt x="16" y="3"/>
                  <a:pt x="24" y="3"/>
                </a:cubicBezTo>
                <a:cubicBezTo>
                  <a:pt x="29" y="3"/>
                  <a:pt x="34" y="5"/>
                  <a:pt x="37" y="8"/>
                </a:cubicBezTo>
                <a:cubicBezTo>
                  <a:pt x="37" y="8"/>
                  <a:pt x="37" y="8"/>
                  <a:pt x="37" y="8"/>
                </a:cubicBezTo>
                <a:cubicBezTo>
                  <a:pt x="35" y="8"/>
                  <a:pt x="34" y="10"/>
                  <a:pt x="34" y="12"/>
                </a:cubicBezTo>
                <a:cubicBezTo>
                  <a:pt x="34" y="14"/>
                  <a:pt x="35" y="15"/>
                  <a:pt x="36" y="17"/>
                </a:cubicBezTo>
                <a:cubicBezTo>
                  <a:pt x="37" y="18"/>
                  <a:pt x="37" y="20"/>
                  <a:pt x="37" y="23"/>
                </a:cubicBezTo>
                <a:cubicBezTo>
                  <a:pt x="37" y="24"/>
                  <a:pt x="37" y="26"/>
                  <a:pt x="36" y="29"/>
                </a:cubicBezTo>
                <a:close/>
                <a:moveTo>
                  <a:pt x="30" y="43"/>
                </a:moveTo>
                <a:cubicBezTo>
                  <a:pt x="30" y="43"/>
                  <a:pt x="30" y="43"/>
                  <a:pt x="30" y="43"/>
                </a:cubicBezTo>
                <a:cubicBezTo>
                  <a:pt x="28" y="44"/>
                  <a:pt x="26" y="44"/>
                  <a:pt x="24" y="44"/>
                </a:cubicBezTo>
                <a:cubicBezTo>
                  <a:pt x="22" y="44"/>
                  <a:pt x="20" y="44"/>
                  <a:pt x="18" y="43"/>
                </a:cubicBezTo>
                <a:cubicBezTo>
                  <a:pt x="24" y="25"/>
                  <a:pt x="24" y="25"/>
                  <a:pt x="24" y="25"/>
                </a:cubicBezTo>
                <a:lnTo>
                  <a:pt x="30" y="43"/>
                </a:lnTo>
                <a:close/>
                <a:moveTo>
                  <a:pt x="44" y="24"/>
                </a:moveTo>
                <a:cubicBezTo>
                  <a:pt x="44" y="31"/>
                  <a:pt x="40" y="38"/>
                  <a:pt x="34" y="41"/>
                </a:cubicBezTo>
                <a:cubicBezTo>
                  <a:pt x="40" y="23"/>
                  <a:pt x="40" y="23"/>
                  <a:pt x="40" y="23"/>
                </a:cubicBezTo>
                <a:cubicBezTo>
                  <a:pt x="41" y="20"/>
                  <a:pt x="42" y="18"/>
                  <a:pt x="42" y="16"/>
                </a:cubicBezTo>
                <a:cubicBezTo>
                  <a:pt x="42" y="15"/>
                  <a:pt x="42" y="14"/>
                  <a:pt x="42" y="14"/>
                </a:cubicBezTo>
                <a:cubicBezTo>
                  <a:pt x="43" y="17"/>
                  <a:pt x="44" y="20"/>
                  <a:pt x="44" y="2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53" name="稻壳儿小白白(http://dwz.cn/Wu2UP)"/>
          <p:cNvSpPr/>
          <p:nvPr/>
        </p:nvSpPr>
        <p:spPr>
          <a:xfrm>
            <a:off x="341280" y="304920"/>
            <a:ext cx="15400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ffff"/>
                </a:solidFill>
                <a:latin typeface="Arial"/>
                <a:ea typeface="微软雅黑"/>
              </a:rPr>
              <a:t>赠送图标</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d087d"/>
        </a:solidFill>
      </p:bgPr>
    </p:bg>
    <p:spTree>
      <p:nvGrpSpPr>
        <p:cNvPr id="1" name=""/>
        <p:cNvGrpSpPr/>
        <p:nvPr/>
      </p:nvGrpSpPr>
      <p:grpSpPr>
        <a:xfrm>
          <a:off x="0" y="0"/>
          <a:ext cx="0" cy="0"/>
          <a:chOff x="0" y="0"/>
          <a:chExt cx="0" cy="0"/>
        </a:xfrm>
      </p:grpSpPr>
      <p:sp>
        <p:nvSpPr>
          <p:cNvPr id="954" name="稻壳儿小白白(http://dwz.cn/Wu2UP)"/>
          <p:cNvSpPr/>
          <p:nvPr/>
        </p:nvSpPr>
        <p:spPr>
          <a:xfrm>
            <a:off x="9286920" y="1370160"/>
            <a:ext cx="208080" cy="158760"/>
          </a:xfrm>
          <a:custGeom>
            <a:avLst/>
            <a:gdLst/>
            <a:ahLst/>
            <a:rect l="l" t="t" r="r" b="b"/>
            <a:pathLst>
              <a:path w="43" h="33">
                <a:moveTo>
                  <a:pt x="39" y="3"/>
                </a:moveTo>
                <a:cubicBezTo>
                  <a:pt x="35" y="0"/>
                  <a:pt x="28" y="0"/>
                  <a:pt x="24" y="3"/>
                </a:cubicBezTo>
                <a:cubicBezTo>
                  <a:pt x="22" y="6"/>
                  <a:pt x="22" y="6"/>
                  <a:pt x="22" y="6"/>
                </a:cubicBezTo>
                <a:cubicBezTo>
                  <a:pt x="19" y="3"/>
                  <a:pt x="19" y="3"/>
                  <a:pt x="19" y="3"/>
                </a:cubicBezTo>
                <a:cubicBezTo>
                  <a:pt x="15" y="0"/>
                  <a:pt x="9" y="0"/>
                  <a:pt x="5" y="3"/>
                </a:cubicBezTo>
                <a:cubicBezTo>
                  <a:pt x="0" y="7"/>
                  <a:pt x="0" y="14"/>
                  <a:pt x="5" y="18"/>
                </a:cubicBezTo>
                <a:cubicBezTo>
                  <a:pt x="22" y="33"/>
                  <a:pt x="22" y="33"/>
                  <a:pt x="22" y="33"/>
                </a:cubicBezTo>
                <a:cubicBezTo>
                  <a:pt x="39" y="18"/>
                  <a:pt x="39" y="18"/>
                  <a:pt x="39" y="18"/>
                </a:cubicBezTo>
                <a:cubicBezTo>
                  <a:pt x="43" y="14"/>
                  <a:pt x="43" y="7"/>
                  <a:pt x="39" y="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55" name="稻壳儿小白白(http://dwz.cn/Wu2UP)"/>
          <p:cNvSpPr/>
          <p:nvPr/>
        </p:nvSpPr>
        <p:spPr>
          <a:xfrm>
            <a:off x="5727600" y="1360440"/>
            <a:ext cx="115920" cy="182520"/>
          </a:xfrm>
          <a:custGeom>
            <a:avLst/>
            <a:gdLst/>
            <a:ahLst/>
            <a:rect l="l" t="t" r="r" b="b"/>
            <a:pathLst>
              <a:path w="24" h="38">
                <a:moveTo>
                  <a:pt x="12" y="0"/>
                </a:moveTo>
                <a:cubicBezTo>
                  <a:pt x="5" y="0"/>
                  <a:pt x="0" y="6"/>
                  <a:pt x="0" y="12"/>
                </a:cubicBezTo>
                <a:cubicBezTo>
                  <a:pt x="0" y="23"/>
                  <a:pt x="12" y="38"/>
                  <a:pt x="12" y="38"/>
                </a:cubicBezTo>
                <a:cubicBezTo>
                  <a:pt x="12" y="38"/>
                  <a:pt x="24" y="23"/>
                  <a:pt x="24" y="12"/>
                </a:cubicBezTo>
                <a:cubicBezTo>
                  <a:pt x="24" y="6"/>
                  <a:pt x="18" y="0"/>
                  <a:pt x="12" y="0"/>
                </a:cubicBezTo>
                <a:close/>
                <a:moveTo>
                  <a:pt x="12" y="18"/>
                </a:moveTo>
                <a:cubicBezTo>
                  <a:pt x="8" y="18"/>
                  <a:pt x="5" y="16"/>
                  <a:pt x="5" y="12"/>
                </a:cubicBezTo>
                <a:cubicBezTo>
                  <a:pt x="5" y="9"/>
                  <a:pt x="8" y="6"/>
                  <a:pt x="12" y="6"/>
                </a:cubicBezTo>
                <a:cubicBezTo>
                  <a:pt x="15" y="6"/>
                  <a:pt x="18" y="9"/>
                  <a:pt x="18" y="12"/>
                </a:cubicBezTo>
                <a:cubicBezTo>
                  <a:pt x="18" y="16"/>
                  <a:pt x="15" y="18"/>
                  <a:pt x="12" y="1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56" name="稻壳儿小白白(http://dwz.cn/Wu2UP)"/>
          <p:cNvSpPr/>
          <p:nvPr/>
        </p:nvSpPr>
        <p:spPr>
          <a:xfrm>
            <a:off x="6121440" y="1360440"/>
            <a:ext cx="226800" cy="182520"/>
          </a:xfrm>
          <a:custGeom>
            <a:avLst/>
            <a:gdLst/>
            <a:ahLst/>
            <a:rect l="l" t="t" r="r" b="b"/>
            <a:pathLst>
              <a:path w="47" h="38">
                <a:moveTo>
                  <a:pt x="46" y="7"/>
                </a:moveTo>
                <a:cubicBezTo>
                  <a:pt x="35" y="0"/>
                  <a:pt x="35" y="0"/>
                  <a:pt x="35" y="0"/>
                </a:cubicBezTo>
                <a:cubicBezTo>
                  <a:pt x="35" y="0"/>
                  <a:pt x="34" y="0"/>
                  <a:pt x="34" y="0"/>
                </a:cubicBezTo>
                <a:cubicBezTo>
                  <a:pt x="24" y="7"/>
                  <a:pt x="24" y="7"/>
                  <a:pt x="24" y="7"/>
                </a:cubicBezTo>
                <a:cubicBezTo>
                  <a:pt x="14" y="0"/>
                  <a:pt x="14" y="0"/>
                  <a:pt x="14" y="0"/>
                </a:cubicBezTo>
                <a:cubicBezTo>
                  <a:pt x="13" y="0"/>
                  <a:pt x="12" y="0"/>
                  <a:pt x="12" y="0"/>
                </a:cubicBezTo>
                <a:cubicBezTo>
                  <a:pt x="1" y="7"/>
                  <a:pt x="1" y="7"/>
                  <a:pt x="1" y="7"/>
                </a:cubicBezTo>
                <a:cubicBezTo>
                  <a:pt x="0" y="8"/>
                  <a:pt x="0" y="8"/>
                  <a:pt x="0" y="9"/>
                </a:cubicBezTo>
                <a:cubicBezTo>
                  <a:pt x="0" y="36"/>
                  <a:pt x="0" y="36"/>
                  <a:pt x="0" y="36"/>
                </a:cubicBezTo>
                <a:cubicBezTo>
                  <a:pt x="0" y="37"/>
                  <a:pt x="1" y="37"/>
                  <a:pt x="1" y="38"/>
                </a:cubicBezTo>
                <a:cubicBezTo>
                  <a:pt x="1" y="38"/>
                  <a:pt x="2" y="38"/>
                  <a:pt x="3" y="38"/>
                </a:cubicBezTo>
                <a:cubicBezTo>
                  <a:pt x="13" y="31"/>
                  <a:pt x="13" y="31"/>
                  <a:pt x="13" y="31"/>
                </a:cubicBezTo>
                <a:cubicBezTo>
                  <a:pt x="23" y="38"/>
                  <a:pt x="23" y="38"/>
                  <a:pt x="23" y="38"/>
                </a:cubicBezTo>
                <a:cubicBezTo>
                  <a:pt x="23" y="38"/>
                  <a:pt x="24" y="38"/>
                  <a:pt x="24" y="38"/>
                </a:cubicBezTo>
                <a:cubicBezTo>
                  <a:pt x="35" y="31"/>
                  <a:pt x="35" y="31"/>
                  <a:pt x="35" y="31"/>
                </a:cubicBezTo>
                <a:cubicBezTo>
                  <a:pt x="45" y="38"/>
                  <a:pt x="45" y="38"/>
                  <a:pt x="45" y="38"/>
                </a:cubicBezTo>
                <a:cubicBezTo>
                  <a:pt x="45" y="38"/>
                  <a:pt x="45" y="38"/>
                  <a:pt x="46" y="38"/>
                </a:cubicBezTo>
                <a:cubicBezTo>
                  <a:pt x="46" y="38"/>
                  <a:pt x="46" y="38"/>
                  <a:pt x="46" y="38"/>
                </a:cubicBezTo>
                <a:cubicBezTo>
                  <a:pt x="47" y="37"/>
                  <a:pt x="47" y="37"/>
                  <a:pt x="47" y="36"/>
                </a:cubicBezTo>
                <a:cubicBezTo>
                  <a:pt x="47" y="9"/>
                  <a:pt x="47" y="9"/>
                  <a:pt x="47" y="9"/>
                </a:cubicBezTo>
                <a:cubicBezTo>
                  <a:pt x="47" y="8"/>
                  <a:pt x="47" y="8"/>
                  <a:pt x="46" y="7"/>
                </a:cubicBezTo>
                <a:close/>
                <a:moveTo>
                  <a:pt x="11" y="28"/>
                </a:moveTo>
                <a:cubicBezTo>
                  <a:pt x="3" y="33"/>
                  <a:pt x="3" y="33"/>
                  <a:pt x="3" y="33"/>
                </a:cubicBezTo>
                <a:cubicBezTo>
                  <a:pt x="3" y="10"/>
                  <a:pt x="3" y="10"/>
                  <a:pt x="3" y="10"/>
                </a:cubicBezTo>
                <a:cubicBezTo>
                  <a:pt x="11" y="5"/>
                  <a:pt x="11" y="5"/>
                  <a:pt x="11" y="5"/>
                </a:cubicBezTo>
                <a:lnTo>
                  <a:pt x="11" y="28"/>
                </a:lnTo>
                <a:close/>
                <a:moveTo>
                  <a:pt x="22" y="33"/>
                </a:moveTo>
                <a:cubicBezTo>
                  <a:pt x="14" y="28"/>
                  <a:pt x="14" y="28"/>
                  <a:pt x="14" y="28"/>
                </a:cubicBezTo>
                <a:cubicBezTo>
                  <a:pt x="14" y="5"/>
                  <a:pt x="14" y="5"/>
                  <a:pt x="14" y="5"/>
                </a:cubicBezTo>
                <a:cubicBezTo>
                  <a:pt x="22" y="10"/>
                  <a:pt x="22" y="10"/>
                  <a:pt x="22" y="10"/>
                </a:cubicBezTo>
                <a:lnTo>
                  <a:pt x="22" y="33"/>
                </a:lnTo>
                <a:close/>
                <a:moveTo>
                  <a:pt x="33" y="28"/>
                </a:moveTo>
                <a:cubicBezTo>
                  <a:pt x="25" y="33"/>
                  <a:pt x="25" y="33"/>
                  <a:pt x="25" y="33"/>
                </a:cubicBezTo>
                <a:cubicBezTo>
                  <a:pt x="25" y="10"/>
                  <a:pt x="25" y="10"/>
                  <a:pt x="25" y="10"/>
                </a:cubicBezTo>
                <a:cubicBezTo>
                  <a:pt x="33" y="5"/>
                  <a:pt x="33" y="5"/>
                  <a:pt x="33" y="5"/>
                </a:cubicBezTo>
                <a:lnTo>
                  <a:pt x="33" y="28"/>
                </a:lnTo>
                <a:close/>
                <a:moveTo>
                  <a:pt x="44" y="33"/>
                </a:moveTo>
                <a:cubicBezTo>
                  <a:pt x="36" y="28"/>
                  <a:pt x="36" y="28"/>
                  <a:pt x="36" y="28"/>
                </a:cubicBezTo>
                <a:cubicBezTo>
                  <a:pt x="36" y="5"/>
                  <a:pt x="36" y="5"/>
                  <a:pt x="36" y="5"/>
                </a:cubicBezTo>
                <a:cubicBezTo>
                  <a:pt x="44" y="10"/>
                  <a:pt x="44" y="10"/>
                  <a:pt x="44" y="10"/>
                </a:cubicBezTo>
                <a:lnTo>
                  <a:pt x="44" y="33"/>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57" name="稻壳儿小白白(http://dwz.cn/Wu2UP)"/>
          <p:cNvSpPr/>
          <p:nvPr/>
        </p:nvSpPr>
        <p:spPr>
          <a:xfrm>
            <a:off x="4772160" y="1363680"/>
            <a:ext cx="225360" cy="176040"/>
          </a:xfrm>
          <a:custGeom>
            <a:avLst/>
            <a:gdLst/>
            <a:ahLst/>
            <a:rect l="l" t="t" r="r" b="b"/>
            <a:pathLst>
              <a:path w="47" h="36">
                <a:moveTo>
                  <a:pt x="35" y="32"/>
                </a:moveTo>
                <a:cubicBezTo>
                  <a:pt x="4" y="32"/>
                  <a:pt x="4" y="32"/>
                  <a:pt x="4" y="32"/>
                </a:cubicBezTo>
                <a:cubicBezTo>
                  <a:pt x="4" y="11"/>
                  <a:pt x="4" y="11"/>
                  <a:pt x="4" y="11"/>
                </a:cubicBezTo>
                <a:cubicBezTo>
                  <a:pt x="10" y="11"/>
                  <a:pt x="10" y="11"/>
                  <a:pt x="10" y="11"/>
                </a:cubicBezTo>
                <a:cubicBezTo>
                  <a:pt x="10" y="11"/>
                  <a:pt x="12" y="8"/>
                  <a:pt x="16" y="6"/>
                </a:cubicBezTo>
                <a:cubicBezTo>
                  <a:pt x="2" y="6"/>
                  <a:pt x="2" y="6"/>
                  <a:pt x="2" y="6"/>
                </a:cubicBezTo>
                <a:cubicBezTo>
                  <a:pt x="1" y="6"/>
                  <a:pt x="0" y="7"/>
                  <a:pt x="0" y="8"/>
                </a:cubicBezTo>
                <a:cubicBezTo>
                  <a:pt x="0" y="34"/>
                  <a:pt x="0" y="34"/>
                  <a:pt x="0" y="34"/>
                </a:cubicBezTo>
                <a:cubicBezTo>
                  <a:pt x="0" y="35"/>
                  <a:pt x="1" y="36"/>
                  <a:pt x="2" y="36"/>
                </a:cubicBezTo>
                <a:cubicBezTo>
                  <a:pt x="37" y="36"/>
                  <a:pt x="37" y="36"/>
                  <a:pt x="37" y="36"/>
                </a:cubicBezTo>
                <a:cubicBezTo>
                  <a:pt x="38" y="36"/>
                  <a:pt x="40" y="35"/>
                  <a:pt x="40" y="34"/>
                </a:cubicBezTo>
                <a:cubicBezTo>
                  <a:pt x="40" y="25"/>
                  <a:pt x="40" y="25"/>
                  <a:pt x="40" y="25"/>
                </a:cubicBezTo>
                <a:cubicBezTo>
                  <a:pt x="35" y="29"/>
                  <a:pt x="35" y="29"/>
                  <a:pt x="35" y="29"/>
                </a:cubicBezTo>
                <a:lnTo>
                  <a:pt x="35" y="32"/>
                </a:lnTo>
                <a:close/>
                <a:moveTo>
                  <a:pt x="31" y="15"/>
                </a:moveTo>
                <a:cubicBezTo>
                  <a:pt x="31" y="24"/>
                  <a:pt x="31" y="24"/>
                  <a:pt x="31" y="24"/>
                </a:cubicBezTo>
                <a:cubicBezTo>
                  <a:pt x="47" y="11"/>
                  <a:pt x="47" y="11"/>
                  <a:pt x="47" y="11"/>
                </a:cubicBezTo>
                <a:cubicBezTo>
                  <a:pt x="31" y="0"/>
                  <a:pt x="31" y="0"/>
                  <a:pt x="31" y="0"/>
                </a:cubicBezTo>
                <a:cubicBezTo>
                  <a:pt x="31" y="7"/>
                  <a:pt x="31" y="7"/>
                  <a:pt x="31" y="7"/>
                </a:cubicBezTo>
                <a:cubicBezTo>
                  <a:pt x="12" y="7"/>
                  <a:pt x="12" y="26"/>
                  <a:pt x="12" y="26"/>
                </a:cubicBezTo>
                <a:cubicBezTo>
                  <a:pt x="17" y="17"/>
                  <a:pt x="21" y="15"/>
                  <a:pt x="31" y="1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58" name="稻壳儿小白白(http://dwz.cn/Wu2UP)"/>
          <p:cNvSpPr/>
          <p:nvPr/>
        </p:nvSpPr>
        <p:spPr>
          <a:xfrm>
            <a:off x="6576840" y="1339920"/>
            <a:ext cx="217800" cy="222120"/>
          </a:xfrm>
          <a:custGeom>
            <a:avLst/>
            <a:gdLst/>
            <a:ahLst/>
            <a:rect l="l" t="t" r="r" b="b"/>
            <a:pathLst>
              <a:path w="45" h="46">
                <a:moveTo>
                  <a:pt x="22" y="1"/>
                </a:moveTo>
                <a:cubicBezTo>
                  <a:pt x="10" y="1"/>
                  <a:pt x="0" y="11"/>
                  <a:pt x="0" y="23"/>
                </a:cubicBezTo>
                <a:cubicBezTo>
                  <a:pt x="0" y="36"/>
                  <a:pt x="10" y="46"/>
                  <a:pt x="23" y="46"/>
                </a:cubicBezTo>
                <a:cubicBezTo>
                  <a:pt x="35" y="45"/>
                  <a:pt x="45" y="35"/>
                  <a:pt x="45" y="23"/>
                </a:cubicBezTo>
                <a:cubicBezTo>
                  <a:pt x="45" y="10"/>
                  <a:pt x="35" y="0"/>
                  <a:pt x="22" y="1"/>
                </a:cubicBezTo>
                <a:close/>
                <a:moveTo>
                  <a:pt x="23" y="41"/>
                </a:moveTo>
                <a:cubicBezTo>
                  <a:pt x="13" y="41"/>
                  <a:pt x="5" y="33"/>
                  <a:pt x="5" y="23"/>
                </a:cubicBezTo>
                <a:cubicBezTo>
                  <a:pt x="5" y="13"/>
                  <a:pt x="12" y="5"/>
                  <a:pt x="22" y="5"/>
                </a:cubicBezTo>
                <a:cubicBezTo>
                  <a:pt x="32" y="5"/>
                  <a:pt x="40" y="13"/>
                  <a:pt x="40" y="23"/>
                </a:cubicBezTo>
                <a:cubicBezTo>
                  <a:pt x="40" y="33"/>
                  <a:pt x="33" y="41"/>
                  <a:pt x="23" y="41"/>
                </a:cubicBezTo>
                <a:close/>
                <a:moveTo>
                  <a:pt x="12" y="34"/>
                </a:moveTo>
                <a:cubicBezTo>
                  <a:pt x="12" y="34"/>
                  <a:pt x="23" y="32"/>
                  <a:pt x="27" y="28"/>
                </a:cubicBezTo>
                <a:cubicBezTo>
                  <a:pt x="32" y="23"/>
                  <a:pt x="33" y="12"/>
                  <a:pt x="33" y="12"/>
                </a:cubicBezTo>
                <a:cubicBezTo>
                  <a:pt x="33" y="12"/>
                  <a:pt x="22" y="14"/>
                  <a:pt x="18" y="18"/>
                </a:cubicBezTo>
                <a:cubicBezTo>
                  <a:pt x="13" y="23"/>
                  <a:pt x="12" y="34"/>
                  <a:pt x="12" y="34"/>
                </a:cubicBezTo>
                <a:close/>
                <a:moveTo>
                  <a:pt x="20" y="21"/>
                </a:moveTo>
                <a:cubicBezTo>
                  <a:pt x="22" y="19"/>
                  <a:pt x="26" y="17"/>
                  <a:pt x="29" y="16"/>
                </a:cubicBezTo>
                <a:cubicBezTo>
                  <a:pt x="28" y="20"/>
                  <a:pt x="27" y="23"/>
                  <a:pt x="25" y="25"/>
                </a:cubicBezTo>
                <a:cubicBezTo>
                  <a:pt x="24" y="27"/>
                  <a:pt x="21" y="27"/>
                  <a:pt x="20" y="25"/>
                </a:cubicBezTo>
                <a:cubicBezTo>
                  <a:pt x="19" y="24"/>
                  <a:pt x="19" y="22"/>
                  <a:pt x="20" y="2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59" name="稻壳儿小白白(http://dwz.cn/Wu2UP)"/>
          <p:cNvSpPr/>
          <p:nvPr/>
        </p:nvSpPr>
        <p:spPr>
          <a:xfrm>
            <a:off x="7043760" y="1351080"/>
            <a:ext cx="198360" cy="196560"/>
          </a:xfrm>
          <a:custGeom>
            <a:avLst/>
            <a:gdLst/>
            <a:ahLst/>
            <a:rect l="l" t="t" r="r" b="b"/>
            <a:pathLst>
              <a:path w="41" h="41">
                <a:moveTo>
                  <a:pt x="39" y="1"/>
                </a:moveTo>
                <a:cubicBezTo>
                  <a:pt x="38" y="0"/>
                  <a:pt x="37" y="1"/>
                  <a:pt x="32" y="3"/>
                </a:cubicBezTo>
                <a:cubicBezTo>
                  <a:pt x="20" y="9"/>
                  <a:pt x="0" y="21"/>
                  <a:pt x="0" y="21"/>
                </a:cubicBezTo>
                <a:cubicBezTo>
                  <a:pt x="17" y="23"/>
                  <a:pt x="17" y="23"/>
                  <a:pt x="17" y="23"/>
                </a:cubicBezTo>
                <a:cubicBezTo>
                  <a:pt x="20" y="41"/>
                  <a:pt x="20" y="41"/>
                  <a:pt x="20" y="41"/>
                </a:cubicBezTo>
                <a:cubicBezTo>
                  <a:pt x="20" y="41"/>
                  <a:pt x="32" y="20"/>
                  <a:pt x="37" y="9"/>
                </a:cubicBezTo>
                <a:cubicBezTo>
                  <a:pt x="39" y="4"/>
                  <a:pt x="41" y="3"/>
                  <a:pt x="39" y="1"/>
                </a:cubicBezTo>
                <a:close/>
                <a:moveTo>
                  <a:pt x="35" y="6"/>
                </a:moveTo>
                <a:cubicBezTo>
                  <a:pt x="22" y="30"/>
                  <a:pt x="22" y="30"/>
                  <a:pt x="22" y="30"/>
                </a:cubicBezTo>
                <a:cubicBezTo>
                  <a:pt x="21" y="19"/>
                  <a:pt x="21" y="19"/>
                  <a:pt x="21" y="19"/>
                </a:cubicBezTo>
                <a:lnTo>
                  <a:pt x="35" y="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60" name="稻壳儿小白白(http://dwz.cn/Wu2UP)"/>
          <p:cNvSpPr/>
          <p:nvPr/>
        </p:nvSpPr>
        <p:spPr>
          <a:xfrm>
            <a:off x="8399520" y="1351080"/>
            <a:ext cx="182520" cy="201600"/>
          </a:xfrm>
          <a:custGeom>
            <a:avLst/>
            <a:gdLst/>
            <a:ahLst/>
            <a:rect l="l" t="t" r="r" b="b"/>
            <a:pathLst>
              <a:path w="38" h="42">
                <a:moveTo>
                  <a:pt x="31" y="28"/>
                </a:moveTo>
                <a:cubicBezTo>
                  <a:pt x="29" y="28"/>
                  <a:pt x="28" y="29"/>
                  <a:pt x="26" y="30"/>
                </a:cubicBezTo>
                <a:cubicBezTo>
                  <a:pt x="14" y="22"/>
                  <a:pt x="14" y="22"/>
                  <a:pt x="14" y="22"/>
                </a:cubicBezTo>
                <a:cubicBezTo>
                  <a:pt x="14" y="22"/>
                  <a:pt x="14" y="21"/>
                  <a:pt x="14" y="21"/>
                </a:cubicBezTo>
                <a:cubicBezTo>
                  <a:pt x="14" y="21"/>
                  <a:pt x="14" y="20"/>
                  <a:pt x="14" y="20"/>
                </a:cubicBezTo>
                <a:cubicBezTo>
                  <a:pt x="26" y="13"/>
                  <a:pt x="26" y="13"/>
                  <a:pt x="26" y="13"/>
                </a:cubicBezTo>
                <a:cubicBezTo>
                  <a:pt x="28" y="13"/>
                  <a:pt x="29" y="14"/>
                  <a:pt x="31" y="14"/>
                </a:cubicBezTo>
                <a:cubicBezTo>
                  <a:pt x="35" y="14"/>
                  <a:pt x="38" y="11"/>
                  <a:pt x="38" y="7"/>
                </a:cubicBezTo>
                <a:cubicBezTo>
                  <a:pt x="38" y="3"/>
                  <a:pt x="35" y="0"/>
                  <a:pt x="31" y="0"/>
                </a:cubicBezTo>
                <a:cubicBezTo>
                  <a:pt x="27" y="0"/>
                  <a:pt x="24" y="3"/>
                  <a:pt x="24" y="7"/>
                </a:cubicBezTo>
                <a:cubicBezTo>
                  <a:pt x="24" y="7"/>
                  <a:pt x="24" y="8"/>
                  <a:pt x="24" y="8"/>
                </a:cubicBezTo>
                <a:cubicBezTo>
                  <a:pt x="11" y="15"/>
                  <a:pt x="11" y="15"/>
                  <a:pt x="11" y="15"/>
                </a:cubicBezTo>
                <a:cubicBezTo>
                  <a:pt x="10" y="15"/>
                  <a:pt x="9" y="14"/>
                  <a:pt x="7" y="14"/>
                </a:cubicBezTo>
                <a:cubicBezTo>
                  <a:pt x="3" y="14"/>
                  <a:pt x="0" y="17"/>
                  <a:pt x="0" y="21"/>
                </a:cubicBezTo>
                <a:cubicBezTo>
                  <a:pt x="0" y="25"/>
                  <a:pt x="3" y="28"/>
                  <a:pt x="7" y="28"/>
                </a:cubicBezTo>
                <a:cubicBezTo>
                  <a:pt x="9" y="28"/>
                  <a:pt x="10" y="28"/>
                  <a:pt x="11" y="27"/>
                </a:cubicBezTo>
                <a:cubicBezTo>
                  <a:pt x="24" y="34"/>
                  <a:pt x="24" y="34"/>
                  <a:pt x="24" y="34"/>
                </a:cubicBezTo>
                <a:cubicBezTo>
                  <a:pt x="24" y="34"/>
                  <a:pt x="24" y="35"/>
                  <a:pt x="24" y="35"/>
                </a:cubicBezTo>
                <a:cubicBezTo>
                  <a:pt x="24" y="39"/>
                  <a:pt x="27" y="42"/>
                  <a:pt x="31" y="42"/>
                </a:cubicBezTo>
                <a:cubicBezTo>
                  <a:pt x="35" y="42"/>
                  <a:pt x="38" y="39"/>
                  <a:pt x="38" y="35"/>
                </a:cubicBezTo>
                <a:cubicBezTo>
                  <a:pt x="38" y="31"/>
                  <a:pt x="35" y="28"/>
                  <a:pt x="31" y="2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61" name="稻壳儿小白白(http://dwz.cn/Wu2UP)"/>
          <p:cNvSpPr/>
          <p:nvPr/>
        </p:nvSpPr>
        <p:spPr>
          <a:xfrm>
            <a:off x="3868560" y="1351080"/>
            <a:ext cx="225720" cy="201600"/>
          </a:xfrm>
          <a:custGeom>
            <a:avLst/>
            <a:gdLst/>
            <a:ahLst/>
            <a:rect l="l" t="t" r="r" b="b"/>
            <a:pathLst>
              <a:path w="47" h="42">
                <a:moveTo>
                  <a:pt x="29" y="31"/>
                </a:moveTo>
                <a:cubicBezTo>
                  <a:pt x="23" y="29"/>
                  <a:pt x="21" y="28"/>
                  <a:pt x="21" y="24"/>
                </a:cubicBezTo>
                <a:cubicBezTo>
                  <a:pt x="21" y="21"/>
                  <a:pt x="23" y="22"/>
                  <a:pt x="24" y="18"/>
                </a:cubicBezTo>
                <a:cubicBezTo>
                  <a:pt x="24" y="16"/>
                  <a:pt x="26" y="18"/>
                  <a:pt x="26" y="14"/>
                </a:cubicBezTo>
                <a:cubicBezTo>
                  <a:pt x="26" y="12"/>
                  <a:pt x="25" y="12"/>
                  <a:pt x="25" y="12"/>
                </a:cubicBezTo>
                <a:cubicBezTo>
                  <a:pt x="25" y="12"/>
                  <a:pt x="26" y="10"/>
                  <a:pt x="26" y="8"/>
                </a:cubicBezTo>
                <a:cubicBezTo>
                  <a:pt x="26" y="6"/>
                  <a:pt x="24" y="0"/>
                  <a:pt x="16" y="0"/>
                </a:cubicBezTo>
                <a:cubicBezTo>
                  <a:pt x="8" y="0"/>
                  <a:pt x="7" y="6"/>
                  <a:pt x="7" y="8"/>
                </a:cubicBezTo>
                <a:cubicBezTo>
                  <a:pt x="7" y="10"/>
                  <a:pt x="8" y="12"/>
                  <a:pt x="8" y="12"/>
                </a:cubicBezTo>
                <a:cubicBezTo>
                  <a:pt x="8" y="12"/>
                  <a:pt x="7" y="12"/>
                  <a:pt x="7" y="14"/>
                </a:cubicBezTo>
                <a:cubicBezTo>
                  <a:pt x="7" y="18"/>
                  <a:pt x="9" y="16"/>
                  <a:pt x="9" y="18"/>
                </a:cubicBezTo>
                <a:cubicBezTo>
                  <a:pt x="10" y="22"/>
                  <a:pt x="11" y="21"/>
                  <a:pt x="11" y="24"/>
                </a:cubicBezTo>
                <a:cubicBezTo>
                  <a:pt x="11" y="28"/>
                  <a:pt x="10" y="29"/>
                  <a:pt x="4" y="31"/>
                </a:cubicBezTo>
                <a:cubicBezTo>
                  <a:pt x="3" y="32"/>
                  <a:pt x="1" y="32"/>
                  <a:pt x="0" y="33"/>
                </a:cubicBezTo>
                <a:cubicBezTo>
                  <a:pt x="0" y="42"/>
                  <a:pt x="0" y="42"/>
                  <a:pt x="0" y="42"/>
                </a:cubicBezTo>
                <a:cubicBezTo>
                  <a:pt x="37" y="42"/>
                  <a:pt x="37" y="42"/>
                  <a:pt x="37" y="42"/>
                </a:cubicBezTo>
                <a:cubicBezTo>
                  <a:pt x="37" y="42"/>
                  <a:pt x="37" y="39"/>
                  <a:pt x="37" y="37"/>
                </a:cubicBezTo>
                <a:cubicBezTo>
                  <a:pt x="37" y="36"/>
                  <a:pt x="35" y="34"/>
                  <a:pt x="29" y="31"/>
                </a:cubicBezTo>
                <a:close/>
                <a:moveTo>
                  <a:pt x="40" y="19"/>
                </a:moveTo>
                <a:cubicBezTo>
                  <a:pt x="40" y="12"/>
                  <a:pt x="40" y="12"/>
                  <a:pt x="40" y="12"/>
                </a:cubicBezTo>
                <a:cubicBezTo>
                  <a:pt x="35" y="12"/>
                  <a:pt x="35" y="12"/>
                  <a:pt x="35" y="12"/>
                </a:cubicBezTo>
                <a:cubicBezTo>
                  <a:pt x="35" y="19"/>
                  <a:pt x="35" y="19"/>
                  <a:pt x="35" y="19"/>
                </a:cubicBezTo>
                <a:cubicBezTo>
                  <a:pt x="28" y="19"/>
                  <a:pt x="28" y="19"/>
                  <a:pt x="28" y="19"/>
                </a:cubicBezTo>
                <a:cubicBezTo>
                  <a:pt x="28" y="23"/>
                  <a:pt x="28" y="23"/>
                  <a:pt x="28" y="23"/>
                </a:cubicBezTo>
                <a:cubicBezTo>
                  <a:pt x="35" y="23"/>
                  <a:pt x="35" y="23"/>
                  <a:pt x="35" y="23"/>
                </a:cubicBezTo>
                <a:cubicBezTo>
                  <a:pt x="35" y="30"/>
                  <a:pt x="35" y="30"/>
                  <a:pt x="35" y="30"/>
                </a:cubicBezTo>
                <a:cubicBezTo>
                  <a:pt x="40" y="30"/>
                  <a:pt x="40" y="30"/>
                  <a:pt x="40" y="30"/>
                </a:cubicBezTo>
                <a:cubicBezTo>
                  <a:pt x="40" y="23"/>
                  <a:pt x="40" y="23"/>
                  <a:pt x="40" y="23"/>
                </a:cubicBezTo>
                <a:cubicBezTo>
                  <a:pt x="47" y="23"/>
                  <a:pt x="47" y="23"/>
                  <a:pt x="47" y="23"/>
                </a:cubicBezTo>
                <a:cubicBezTo>
                  <a:pt x="47" y="19"/>
                  <a:pt x="47" y="19"/>
                  <a:pt x="47" y="19"/>
                </a:cubicBezTo>
                <a:lnTo>
                  <a:pt x="40" y="1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62" name="稻壳儿小白白(http://dwz.cn/Wu2UP)"/>
          <p:cNvSpPr/>
          <p:nvPr/>
        </p:nvSpPr>
        <p:spPr>
          <a:xfrm>
            <a:off x="7491240" y="1355760"/>
            <a:ext cx="190800" cy="191880"/>
          </a:xfrm>
          <a:custGeom>
            <a:avLst/>
            <a:gdLst/>
            <a:ahLst/>
            <a:rect l="l" t="t" r="r" b="b"/>
            <a:pathLst>
              <a:path w="40" h="40">
                <a:moveTo>
                  <a:pt x="20" y="0"/>
                </a:moveTo>
                <a:cubicBezTo>
                  <a:pt x="9" y="0"/>
                  <a:pt x="0" y="9"/>
                  <a:pt x="0" y="20"/>
                </a:cubicBezTo>
                <a:cubicBezTo>
                  <a:pt x="0" y="31"/>
                  <a:pt x="9" y="40"/>
                  <a:pt x="20" y="40"/>
                </a:cubicBezTo>
                <a:cubicBezTo>
                  <a:pt x="31" y="40"/>
                  <a:pt x="40" y="31"/>
                  <a:pt x="40" y="20"/>
                </a:cubicBezTo>
                <a:cubicBezTo>
                  <a:pt x="40" y="9"/>
                  <a:pt x="31" y="0"/>
                  <a:pt x="20" y="0"/>
                </a:cubicBezTo>
                <a:close/>
                <a:moveTo>
                  <a:pt x="22" y="36"/>
                </a:moveTo>
                <a:cubicBezTo>
                  <a:pt x="22" y="27"/>
                  <a:pt x="22" y="27"/>
                  <a:pt x="22" y="27"/>
                </a:cubicBezTo>
                <a:cubicBezTo>
                  <a:pt x="19" y="27"/>
                  <a:pt x="19" y="27"/>
                  <a:pt x="19" y="27"/>
                </a:cubicBezTo>
                <a:cubicBezTo>
                  <a:pt x="19" y="36"/>
                  <a:pt x="19" y="36"/>
                  <a:pt x="19" y="36"/>
                </a:cubicBezTo>
                <a:cubicBezTo>
                  <a:pt x="11" y="36"/>
                  <a:pt x="5" y="29"/>
                  <a:pt x="4" y="22"/>
                </a:cubicBezTo>
                <a:cubicBezTo>
                  <a:pt x="13" y="22"/>
                  <a:pt x="13" y="22"/>
                  <a:pt x="13" y="22"/>
                </a:cubicBezTo>
                <a:cubicBezTo>
                  <a:pt x="13" y="18"/>
                  <a:pt x="13" y="18"/>
                  <a:pt x="13" y="18"/>
                </a:cubicBezTo>
                <a:cubicBezTo>
                  <a:pt x="4" y="18"/>
                  <a:pt x="4" y="18"/>
                  <a:pt x="4" y="18"/>
                </a:cubicBezTo>
                <a:cubicBezTo>
                  <a:pt x="5" y="11"/>
                  <a:pt x="11" y="4"/>
                  <a:pt x="19" y="4"/>
                </a:cubicBezTo>
                <a:cubicBezTo>
                  <a:pt x="19" y="13"/>
                  <a:pt x="19" y="13"/>
                  <a:pt x="19" y="13"/>
                </a:cubicBezTo>
                <a:cubicBezTo>
                  <a:pt x="22" y="13"/>
                  <a:pt x="22" y="13"/>
                  <a:pt x="22" y="13"/>
                </a:cubicBezTo>
                <a:cubicBezTo>
                  <a:pt x="22" y="4"/>
                  <a:pt x="22" y="4"/>
                  <a:pt x="22" y="4"/>
                </a:cubicBezTo>
                <a:cubicBezTo>
                  <a:pt x="30" y="4"/>
                  <a:pt x="36" y="11"/>
                  <a:pt x="37" y="18"/>
                </a:cubicBezTo>
                <a:cubicBezTo>
                  <a:pt x="28" y="18"/>
                  <a:pt x="28" y="18"/>
                  <a:pt x="28" y="18"/>
                </a:cubicBezTo>
                <a:cubicBezTo>
                  <a:pt x="28" y="22"/>
                  <a:pt x="28" y="22"/>
                  <a:pt x="28" y="22"/>
                </a:cubicBezTo>
                <a:cubicBezTo>
                  <a:pt x="37" y="22"/>
                  <a:pt x="37" y="22"/>
                  <a:pt x="37" y="22"/>
                </a:cubicBezTo>
                <a:cubicBezTo>
                  <a:pt x="36" y="29"/>
                  <a:pt x="30" y="36"/>
                  <a:pt x="22" y="3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63" name="稻壳儿小白白(http://dwz.cn/Wu2UP)"/>
          <p:cNvSpPr/>
          <p:nvPr/>
        </p:nvSpPr>
        <p:spPr>
          <a:xfrm>
            <a:off x="6126120" y="4951440"/>
            <a:ext cx="217440" cy="217440"/>
          </a:xfrm>
          <a:custGeom>
            <a:avLst/>
            <a:gdLst/>
            <a:ahLst/>
            <a:rect l="l" t="t" r="r" b="b"/>
            <a:pathLst>
              <a:path w="45" h="45">
                <a:moveTo>
                  <a:pt x="23" y="0"/>
                </a:moveTo>
                <a:cubicBezTo>
                  <a:pt x="10" y="0"/>
                  <a:pt x="0" y="10"/>
                  <a:pt x="0" y="23"/>
                </a:cubicBezTo>
                <a:cubicBezTo>
                  <a:pt x="0" y="35"/>
                  <a:pt x="10" y="45"/>
                  <a:pt x="23" y="45"/>
                </a:cubicBezTo>
                <a:cubicBezTo>
                  <a:pt x="35" y="45"/>
                  <a:pt x="45" y="35"/>
                  <a:pt x="45" y="23"/>
                </a:cubicBezTo>
                <a:cubicBezTo>
                  <a:pt x="45" y="10"/>
                  <a:pt x="35" y="0"/>
                  <a:pt x="23" y="0"/>
                </a:cubicBezTo>
                <a:close/>
                <a:moveTo>
                  <a:pt x="35" y="11"/>
                </a:moveTo>
                <a:cubicBezTo>
                  <a:pt x="35" y="11"/>
                  <a:pt x="35" y="11"/>
                  <a:pt x="35" y="11"/>
                </a:cubicBezTo>
                <a:cubicBezTo>
                  <a:pt x="35" y="11"/>
                  <a:pt x="35" y="11"/>
                  <a:pt x="35" y="11"/>
                </a:cubicBezTo>
                <a:close/>
                <a:moveTo>
                  <a:pt x="6" y="23"/>
                </a:moveTo>
                <a:cubicBezTo>
                  <a:pt x="6" y="13"/>
                  <a:pt x="13" y="6"/>
                  <a:pt x="23" y="6"/>
                </a:cubicBezTo>
                <a:cubicBezTo>
                  <a:pt x="27" y="6"/>
                  <a:pt x="31" y="7"/>
                  <a:pt x="34" y="10"/>
                </a:cubicBezTo>
                <a:cubicBezTo>
                  <a:pt x="9" y="34"/>
                  <a:pt x="9" y="34"/>
                  <a:pt x="9" y="34"/>
                </a:cubicBezTo>
                <a:cubicBezTo>
                  <a:pt x="7" y="31"/>
                  <a:pt x="6" y="27"/>
                  <a:pt x="6" y="23"/>
                </a:cubicBezTo>
                <a:close/>
                <a:moveTo>
                  <a:pt x="11" y="35"/>
                </a:moveTo>
                <a:cubicBezTo>
                  <a:pt x="11" y="35"/>
                  <a:pt x="11" y="35"/>
                  <a:pt x="11" y="35"/>
                </a:cubicBezTo>
                <a:cubicBezTo>
                  <a:pt x="11" y="35"/>
                  <a:pt x="11" y="35"/>
                  <a:pt x="11" y="35"/>
                </a:cubicBezTo>
                <a:close/>
                <a:moveTo>
                  <a:pt x="23" y="40"/>
                </a:moveTo>
                <a:cubicBezTo>
                  <a:pt x="19" y="40"/>
                  <a:pt x="15" y="39"/>
                  <a:pt x="12" y="36"/>
                </a:cubicBezTo>
                <a:cubicBezTo>
                  <a:pt x="36" y="12"/>
                  <a:pt x="36" y="12"/>
                  <a:pt x="36" y="12"/>
                </a:cubicBezTo>
                <a:cubicBezTo>
                  <a:pt x="38" y="15"/>
                  <a:pt x="40" y="19"/>
                  <a:pt x="40" y="23"/>
                </a:cubicBezTo>
                <a:cubicBezTo>
                  <a:pt x="40" y="32"/>
                  <a:pt x="32" y="40"/>
                  <a:pt x="23" y="4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64" name="稻壳儿小白白(http://dwz.cn/Wu2UP)"/>
          <p:cNvSpPr/>
          <p:nvPr/>
        </p:nvSpPr>
        <p:spPr>
          <a:xfrm>
            <a:off x="9747360" y="4514760"/>
            <a:ext cx="187200" cy="193680"/>
          </a:xfrm>
          <a:custGeom>
            <a:avLst/>
            <a:gdLst/>
            <a:ahLst/>
            <a:rect l="l" t="t" r="r" b="b"/>
            <a:pathLst>
              <a:path w="39" h="40">
                <a:moveTo>
                  <a:pt x="19" y="0"/>
                </a:moveTo>
                <a:cubicBezTo>
                  <a:pt x="9" y="0"/>
                  <a:pt x="0" y="9"/>
                  <a:pt x="0" y="20"/>
                </a:cubicBezTo>
                <a:cubicBezTo>
                  <a:pt x="0" y="31"/>
                  <a:pt x="9" y="40"/>
                  <a:pt x="19" y="40"/>
                </a:cubicBezTo>
                <a:cubicBezTo>
                  <a:pt x="30" y="40"/>
                  <a:pt x="39" y="31"/>
                  <a:pt x="39" y="20"/>
                </a:cubicBezTo>
                <a:cubicBezTo>
                  <a:pt x="39" y="9"/>
                  <a:pt x="30" y="0"/>
                  <a:pt x="19" y="0"/>
                </a:cubicBezTo>
                <a:close/>
                <a:moveTo>
                  <a:pt x="31" y="18"/>
                </a:moveTo>
                <a:cubicBezTo>
                  <a:pt x="31" y="22"/>
                  <a:pt x="31" y="22"/>
                  <a:pt x="31" y="22"/>
                </a:cubicBezTo>
                <a:cubicBezTo>
                  <a:pt x="8" y="22"/>
                  <a:pt x="8" y="22"/>
                  <a:pt x="8" y="22"/>
                </a:cubicBezTo>
                <a:cubicBezTo>
                  <a:pt x="8" y="18"/>
                  <a:pt x="8" y="18"/>
                  <a:pt x="8" y="18"/>
                </a:cubicBezTo>
                <a:lnTo>
                  <a:pt x="31" y="1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65" name="稻壳儿小白白(http://dwz.cn/Wu2UP)"/>
          <p:cNvSpPr/>
          <p:nvPr/>
        </p:nvSpPr>
        <p:spPr>
          <a:xfrm>
            <a:off x="7034040" y="4957920"/>
            <a:ext cx="208080" cy="210960"/>
          </a:xfrm>
          <a:custGeom>
            <a:avLst/>
            <a:gdLst/>
            <a:ahLst/>
            <a:rect l="l" t="t" r="r" b="b"/>
            <a:pathLst>
              <a:path w="43" h="44">
                <a:moveTo>
                  <a:pt x="21" y="0"/>
                </a:moveTo>
                <a:cubicBezTo>
                  <a:pt x="9" y="0"/>
                  <a:pt x="0" y="10"/>
                  <a:pt x="0" y="22"/>
                </a:cubicBezTo>
                <a:cubicBezTo>
                  <a:pt x="0" y="34"/>
                  <a:pt x="10" y="44"/>
                  <a:pt x="22" y="43"/>
                </a:cubicBezTo>
                <a:cubicBezTo>
                  <a:pt x="34" y="43"/>
                  <a:pt x="43" y="33"/>
                  <a:pt x="43" y="22"/>
                </a:cubicBezTo>
                <a:cubicBezTo>
                  <a:pt x="43" y="10"/>
                  <a:pt x="33" y="0"/>
                  <a:pt x="21" y="0"/>
                </a:cubicBezTo>
                <a:close/>
                <a:moveTo>
                  <a:pt x="23" y="7"/>
                </a:moveTo>
                <a:cubicBezTo>
                  <a:pt x="26" y="7"/>
                  <a:pt x="26" y="9"/>
                  <a:pt x="26" y="10"/>
                </a:cubicBezTo>
                <a:cubicBezTo>
                  <a:pt x="26" y="12"/>
                  <a:pt x="25" y="14"/>
                  <a:pt x="22" y="14"/>
                </a:cubicBezTo>
                <a:cubicBezTo>
                  <a:pt x="20" y="14"/>
                  <a:pt x="19" y="13"/>
                  <a:pt x="19" y="11"/>
                </a:cubicBezTo>
                <a:cubicBezTo>
                  <a:pt x="19" y="9"/>
                  <a:pt x="21" y="7"/>
                  <a:pt x="23" y="7"/>
                </a:cubicBezTo>
                <a:close/>
                <a:moveTo>
                  <a:pt x="18" y="35"/>
                </a:moveTo>
                <a:cubicBezTo>
                  <a:pt x="16" y="35"/>
                  <a:pt x="15" y="34"/>
                  <a:pt x="16" y="30"/>
                </a:cubicBezTo>
                <a:cubicBezTo>
                  <a:pt x="18" y="23"/>
                  <a:pt x="18" y="23"/>
                  <a:pt x="18" y="23"/>
                </a:cubicBezTo>
                <a:cubicBezTo>
                  <a:pt x="18" y="22"/>
                  <a:pt x="18" y="22"/>
                  <a:pt x="18" y="22"/>
                </a:cubicBezTo>
                <a:cubicBezTo>
                  <a:pt x="18" y="22"/>
                  <a:pt x="16" y="23"/>
                  <a:pt x="14" y="23"/>
                </a:cubicBezTo>
                <a:cubicBezTo>
                  <a:pt x="14" y="22"/>
                  <a:pt x="14" y="22"/>
                  <a:pt x="14" y="22"/>
                </a:cubicBezTo>
                <a:cubicBezTo>
                  <a:pt x="17" y="19"/>
                  <a:pt x="22" y="17"/>
                  <a:pt x="23" y="17"/>
                </a:cubicBezTo>
                <a:cubicBezTo>
                  <a:pt x="25" y="17"/>
                  <a:pt x="25" y="19"/>
                  <a:pt x="24" y="22"/>
                </a:cubicBezTo>
                <a:cubicBezTo>
                  <a:pt x="22" y="29"/>
                  <a:pt x="22" y="29"/>
                  <a:pt x="22" y="29"/>
                </a:cubicBezTo>
                <a:cubicBezTo>
                  <a:pt x="22" y="31"/>
                  <a:pt x="22" y="31"/>
                  <a:pt x="23" y="31"/>
                </a:cubicBezTo>
                <a:cubicBezTo>
                  <a:pt x="23" y="31"/>
                  <a:pt x="24" y="30"/>
                  <a:pt x="26" y="29"/>
                </a:cubicBezTo>
                <a:cubicBezTo>
                  <a:pt x="27" y="30"/>
                  <a:pt x="27" y="30"/>
                  <a:pt x="27" y="30"/>
                </a:cubicBezTo>
                <a:cubicBezTo>
                  <a:pt x="23" y="34"/>
                  <a:pt x="19" y="35"/>
                  <a:pt x="18" y="3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66" name="稻壳儿小白白(http://dwz.cn/Wu2UP)"/>
          <p:cNvSpPr/>
          <p:nvPr/>
        </p:nvSpPr>
        <p:spPr>
          <a:xfrm>
            <a:off x="6635880" y="4948200"/>
            <a:ext cx="101520" cy="225360"/>
          </a:xfrm>
          <a:custGeom>
            <a:avLst/>
            <a:gdLst/>
            <a:ahLst/>
            <a:rect l="l" t="t" r="r" b="b"/>
            <a:pathLst>
              <a:path w="21" h="47">
                <a:moveTo>
                  <a:pt x="16" y="0"/>
                </a:moveTo>
                <a:cubicBezTo>
                  <a:pt x="19" y="0"/>
                  <a:pt x="21" y="3"/>
                  <a:pt x="21" y="5"/>
                </a:cubicBezTo>
                <a:cubicBezTo>
                  <a:pt x="21" y="8"/>
                  <a:pt x="18" y="11"/>
                  <a:pt x="15" y="11"/>
                </a:cubicBezTo>
                <a:cubicBezTo>
                  <a:pt x="12" y="11"/>
                  <a:pt x="10" y="9"/>
                  <a:pt x="10" y="6"/>
                </a:cubicBezTo>
                <a:cubicBezTo>
                  <a:pt x="10" y="4"/>
                  <a:pt x="12" y="0"/>
                  <a:pt x="16" y="0"/>
                </a:cubicBezTo>
                <a:close/>
                <a:moveTo>
                  <a:pt x="7" y="47"/>
                </a:moveTo>
                <a:cubicBezTo>
                  <a:pt x="4" y="47"/>
                  <a:pt x="2" y="46"/>
                  <a:pt x="4" y="39"/>
                </a:cubicBezTo>
                <a:cubicBezTo>
                  <a:pt x="7" y="27"/>
                  <a:pt x="7" y="27"/>
                  <a:pt x="7" y="27"/>
                </a:cubicBezTo>
                <a:cubicBezTo>
                  <a:pt x="7" y="25"/>
                  <a:pt x="7" y="24"/>
                  <a:pt x="7" y="24"/>
                </a:cubicBezTo>
                <a:cubicBezTo>
                  <a:pt x="6" y="24"/>
                  <a:pt x="3" y="26"/>
                  <a:pt x="1" y="27"/>
                </a:cubicBezTo>
                <a:cubicBezTo>
                  <a:pt x="0" y="25"/>
                  <a:pt x="0" y="25"/>
                  <a:pt x="0" y="25"/>
                </a:cubicBezTo>
                <a:cubicBezTo>
                  <a:pt x="6" y="20"/>
                  <a:pt x="13" y="17"/>
                  <a:pt x="16" y="17"/>
                </a:cubicBezTo>
                <a:cubicBezTo>
                  <a:pt x="18" y="17"/>
                  <a:pt x="19" y="20"/>
                  <a:pt x="17" y="24"/>
                </a:cubicBezTo>
                <a:cubicBezTo>
                  <a:pt x="14" y="37"/>
                  <a:pt x="14" y="37"/>
                  <a:pt x="14" y="37"/>
                </a:cubicBezTo>
                <a:cubicBezTo>
                  <a:pt x="14" y="39"/>
                  <a:pt x="14" y="40"/>
                  <a:pt x="14" y="40"/>
                </a:cubicBezTo>
                <a:cubicBezTo>
                  <a:pt x="15" y="40"/>
                  <a:pt x="18" y="39"/>
                  <a:pt x="20" y="37"/>
                </a:cubicBezTo>
                <a:cubicBezTo>
                  <a:pt x="21" y="39"/>
                  <a:pt x="21" y="39"/>
                  <a:pt x="21" y="39"/>
                </a:cubicBezTo>
                <a:cubicBezTo>
                  <a:pt x="15" y="45"/>
                  <a:pt x="9" y="47"/>
                  <a:pt x="7" y="4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67" name="稻壳儿小白白(http://dwz.cn/Wu2UP)"/>
          <p:cNvSpPr/>
          <p:nvPr/>
        </p:nvSpPr>
        <p:spPr>
          <a:xfrm>
            <a:off x="10199520" y="4514760"/>
            <a:ext cx="189000" cy="193680"/>
          </a:xfrm>
          <a:custGeom>
            <a:avLst/>
            <a:gdLst/>
            <a:ahLst/>
            <a:rect l="l" t="t" r="r" b="b"/>
            <a:pathLst>
              <a:path w="39" h="40">
                <a:moveTo>
                  <a:pt x="19" y="0"/>
                </a:moveTo>
                <a:cubicBezTo>
                  <a:pt x="8" y="0"/>
                  <a:pt x="0" y="9"/>
                  <a:pt x="0" y="20"/>
                </a:cubicBezTo>
                <a:cubicBezTo>
                  <a:pt x="0" y="31"/>
                  <a:pt x="8" y="40"/>
                  <a:pt x="19" y="40"/>
                </a:cubicBezTo>
                <a:cubicBezTo>
                  <a:pt x="30" y="40"/>
                  <a:pt x="39" y="31"/>
                  <a:pt x="39" y="20"/>
                </a:cubicBezTo>
                <a:cubicBezTo>
                  <a:pt x="39" y="9"/>
                  <a:pt x="30" y="0"/>
                  <a:pt x="19" y="0"/>
                </a:cubicBezTo>
                <a:close/>
                <a:moveTo>
                  <a:pt x="22" y="22"/>
                </a:moveTo>
                <a:cubicBezTo>
                  <a:pt x="22" y="32"/>
                  <a:pt x="22" y="32"/>
                  <a:pt x="22" y="32"/>
                </a:cubicBezTo>
                <a:cubicBezTo>
                  <a:pt x="17" y="32"/>
                  <a:pt x="17" y="32"/>
                  <a:pt x="17" y="32"/>
                </a:cubicBezTo>
                <a:cubicBezTo>
                  <a:pt x="17" y="22"/>
                  <a:pt x="17" y="22"/>
                  <a:pt x="17" y="22"/>
                </a:cubicBezTo>
                <a:cubicBezTo>
                  <a:pt x="8" y="22"/>
                  <a:pt x="8" y="22"/>
                  <a:pt x="8" y="22"/>
                </a:cubicBezTo>
                <a:cubicBezTo>
                  <a:pt x="8" y="18"/>
                  <a:pt x="8" y="18"/>
                  <a:pt x="8" y="18"/>
                </a:cubicBezTo>
                <a:cubicBezTo>
                  <a:pt x="17" y="18"/>
                  <a:pt x="17" y="18"/>
                  <a:pt x="17" y="18"/>
                </a:cubicBezTo>
                <a:cubicBezTo>
                  <a:pt x="17" y="8"/>
                  <a:pt x="17" y="8"/>
                  <a:pt x="17" y="8"/>
                </a:cubicBezTo>
                <a:cubicBezTo>
                  <a:pt x="22" y="8"/>
                  <a:pt x="22" y="8"/>
                  <a:pt x="22" y="8"/>
                </a:cubicBezTo>
                <a:cubicBezTo>
                  <a:pt x="22" y="18"/>
                  <a:pt x="22" y="18"/>
                  <a:pt x="22" y="18"/>
                </a:cubicBezTo>
                <a:cubicBezTo>
                  <a:pt x="31" y="18"/>
                  <a:pt x="31" y="18"/>
                  <a:pt x="31" y="18"/>
                </a:cubicBezTo>
                <a:cubicBezTo>
                  <a:pt x="31" y="22"/>
                  <a:pt x="31" y="22"/>
                  <a:pt x="31" y="22"/>
                </a:cubicBezTo>
                <a:lnTo>
                  <a:pt x="22" y="2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68" name="稻壳儿小白白(http://dwz.cn/Wu2UP)"/>
          <p:cNvSpPr/>
          <p:nvPr/>
        </p:nvSpPr>
        <p:spPr>
          <a:xfrm>
            <a:off x="3887640" y="4965840"/>
            <a:ext cx="187560" cy="193680"/>
          </a:xfrm>
          <a:custGeom>
            <a:avLst/>
            <a:gdLst/>
            <a:ahLst/>
            <a:rect l="l" t="t" r="r" b="b"/>
            <a:pathLst>
              <a:path w="39" h="40">
                <a:moveTo>
                  <a:pt x="19" y="0"/>
                </a:moveTo>
                <a:cubicBezTo>
                  <a:pt x="9" y="0"/>
                  <a:pt x="0" y="9"/>
                  <a:pt x="0" y="20"/>
                </a:cubicBezTo>
                <a:cubicBezTo>
                  <a:pt x="0" y="31"/>
                  <a:pt x="9" y="40"/>
                  <a:pt x="19" y="40"/>
                </a:cubicBezTo>
                <a:cubicBezTo>
                  <a:pt x="30" y="40"/>
                  <a:pt x="39" y="31"/>
                  <a:pt x="39" y="20"/>
                </a:cubicBezTo>
                <a:cubicBezTo>
                  <a:pt x="39" y="9"/>
                  <a:pt x="30" y="0"/>
                  <a:pt x="19" y="0"/>
                </a:cubicBezTo>
                <a:close/>
                <a:moveTo>
                  <a:pt x="23" y="20"/>
                </a:moveTo>
                <a:cubicBezTo>
                  <a:pt x="31" y="27"/>
                  <a:pt x="31" y="27"/>
                  <a:pt x="31" y="27"/>
                </a:cubicBezTo>
                <a:cubicBezTo>
                  <a:pt x="27" y="31"/>
                  <a:pt x="27" y="31"/>
                  <a:pt x="27" y="31"/>
                </a:cubicBezTo>
                <a:cubicBezTo>
                  <a:pt x="19" y="24"/>
                  <a:pt x="19" y="24"/>
                  <a:pt x="19" y="24"/>
                </a:cubicBezTo>
                <a:cubicBezTo>
                  <a:pt x="12" y="31"/>
                  <a:pt x="12" y="31"/>
                  <a:pt x="12" y="31"/>
                </a:cubicBezTo>
                <a:cubicBezTo>
                  <a:pt x="8" y="27"/>
                  <a:pt x="8" y="27"/>
                  <a:pt x="8" y="27"/>
                </a:cubicBezTo>
                <a:cubicBezTo>
                  <a:pt x="15" y="20"/>
                  <a:pt x="15" y="20"/>
                  <a:pt x="15" y="20"/>
                </a:cubicBezTo>
                <a:cubicBezTo>
                  <a:pt x="8" y="13"/>
                  <a:pt x="8" y="13"/>
                  <a:pt x="8" y="13"/>
                </a:cubicBezTo>
                <a:cubicBezTo>
                  <a:pt x="12" y="9"/>
                  <a:pt x="12" y="9"/>
                  <a:pt x="12" y="9"/>
                </a:cubicBezTo>
                <a:cubicBezTo>
                  <a:pt x="19" y="16"/>
                  <a:pt x="19" y="16"/>
                  <a:pt x="19" y="16"/>
                </a:cubicBezTo>
                <a:cubicBezTo>
                  <a:pt x="27" y="9"/>
                  <a:pt x="27" y="9"/>
                  <a:pt x="27" y="9"/>
                </a:cubicBezTo>
                <a:cubicBezTo>
                  <a:pt x="31" y="13"/>
                  <a:pt x="31" y="13"/>
                  <a:pt x="31" y="13"/>
                </a:cubicBezTo>
                <a:lnTo>
                  <a:pt x="23" y="2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69" name="稻壳儿小白白(http://dwz.cn/Wu2UP)"/>
          <p:cNvSpPr/>
          <p:nvPr/>
        </p:nvSpPr>
        <p:spPr>
          <a:xfrm>
            <a:off x="7523280" y="4962600"/>
            <a:ext cx="129960" cy="199800"/>
          </a:xfrm>
          <a:custGeom>
            <a:avLst/>
            <a:gdLst/>
            <a:ahLst/>
            <a:rect l="l" t="t" r="r" b="b"/>
            <a:pathLst>
              <a:path w="27" h="42">
                <a:moveTo>
                  <a:pt x="23" y="3"/>
                </a:moveTo>
                <a:cubicBezTo>
                  <a:pt x="20" y="1"/>
                  <a:pt x="17" y="0"/>
                  <a:pt x="13" y="0"/>
                </a:cubicBezTo>
                <a:cubicBezTo>
                  <a:pt x="10" y="0"/>
                  <a:pt x="7" y="0"/>
                  <a:pt x="5" y="2"/>
                </a:cubicBezTo>
                <a:cubicBezTo>
                  <a:pt x="2" y="4"/>
                  <a:pt x="0" y="8"/>
                  <a:pt x="0" y="13"/>
                </a:cubicBezTo>
                <a:cubicBezTo>
                  <a:pt x="7" y="13"/>
                  <a:pt x="7" y="13"/>
                  <a:pt x="7" y="13"/>
                </a:cubicBezTo>
                <a:cubicBezTo>
                  <a:pt x="7" y="11"/>
                  <a:pt x="8" y="10"/>
                  <a:pt x="9" y="8"/>
                </a:cubicBezTo>
                <a:cubicBezTo>
                  <a:pt x="10" y="7"/>
                  <a:pt x="11" y="6"/>
                  <a:pt x="13" y="6"/>
                </a:cubicBezTo>
                <a:cubicBezTo>
                  <a:pt x="15" y="6"/>
                  <a:pt x="17" y="7"/>
                  <a:pt x="17" y="8"/>
                </a:cubicBezTo>
                <a:cubicBezTo>
                  <a:pt x="18" y="9"/>
                  <a:pt x="19" y="10"/>
                  <a:pt x="19" y="12"/>
                </a:cubicBezTo>
                <a:cubicBezTo>
                  <a:pt x="19" y="13"/>
                  <a:pt x="18" y="14"/>
                  <a:pt x="17" y="15"/>
                </a:cubicBezTo>
                <a:cubicBezTo>
                  <a:pt x="17" y="15"/>
                  <a:pt x="16" y="16"/>
                  <a:pt x="16" y="16"/>
                </a:cubicBezTo>
                <a:cubicBezTo>
                  <a:pt x="16" y="16"/>
                  <a:pt x="12" y="19"/>
                  <a:pt x="10" y="21"/>
                </a:cubicBezTo>
                <a:cubicBezTo>
                  <a:pt x="9" y="23"/>
                  <a:pt x="9" y="24"/>
                  <a:pt x="8" y="27"/>
                </a:cubicBezTo>
                <a:cubicBezTo>
                  <a:pt x="8" y="27"/>
                  <a:pt x="9" y="28"/>
                  <a:pt x="9" y="28"/>
                </a:cubicBezTo>
                <a:cubicBezTo>
                  <a:pt x="10" y="28"/>
                  <a:pt x="15" y="28"/>
                  <a:pt x="15" y="28"/>
                </a:cubicBezTo>
                <a:cubicBezTo>
                  <a:pt x="16" y="28"/>
                  <a:pt x="16" y="27"/>
                  <a:pt x="16" y="27"/>
                </a:cubicBezTo>
                <a:cubicBezTo>
                  <a:pt x="16" y="26"/>
                  <a:pt x="16" y="26"/>
                  <a:pt x="16" y="25"/>
                </a:cubicBezTo>
                <a:cubicBezTo>
                  <a:pt x="17" y="24"/>
                  <a:pt x="18" y="23"/>
                  <a:pt x="19" y="22"/>
                </a:cubicBezTo>
                <a:cubicBezTo>
                  <a:pt x="21" y="21"/>
                  <a:pt x="21" y="21"/>
                  <a:pt x="21" y="21"/>
                </a:cubicBezTo>
                <a:cubicBezTo>
                  <a:pt x="23" y="19"/>
                  <a:pt x="24" y="18"/>
                  <a:pt x="25" y="17"/>
                </a:cubicBezTo>
                <a:cubicBezTo>
                  <a:pt x="26" y="15"/>
                  <a:pt x="27" y="14"/>
                  <a:pt x="27" y="11"/>
                </a:cubicBezTo>
                <a:cubicBezTo>
                  <a:pt x="27" y="7"/>
                  <a:pt x="26" y="5"/>
                  <a:pt x="23" y="3"/>
                </a:cubicBezTo>
                <a:close/>
                <a:moveTo>
                  <a:pt x="13" y="32"/>
                </a:moveTo>
                <a:cubicBezTo>
                  <a:pt x="10" y="32"/>
                  <a:pt x="8" y="34"/>
                  <a:pt x="8" y="37"/>
                </a:cubicBezTo>
                <a:cubicBezTo>
                  <a:pt x="8" y="40"/>
                  <a:pt x="10" y="42"/>
                  <a:pt x="12" y="42"/>
                </a:cubicBezTo>
                <a:cubicBezTo>
                  <a:pt x="15" y="42"/>
                  <a:pt x="17" y="40"/>
                  <a:pt x="17" y="37"/>
                </a:cubicBezTo>
                <a:cubicBezTo>
                  <a:pt x="17" y="34"/>
                  <a:pt x="15" y="32"/>
                  <a:pt x="13" y="3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70" name="稻壳儿小白白(http://dwz.cn/Wu2UP)"/>
          <p:cNvSpPr/>
          <p:nvPr/>
        </p:nvSpPr>
        <p:spPr>
          <a:xfrm>
            <a:off x="7932600" y="4957920"/>
            <a:ext cx="211320" cy="210960"/>
          </a:xfrm>
          <a:custGeom>
            <a:avLst/>
            <a:gdLst/>
            <a:ahLst/>
            <a:rect l="l" t="t" r="r" b="b"/>
            <a:pathLst>
              <a:path w="44" h="44">
                <a:moveTo>
                  <a:pt x="22" y="0"/>
                </a:moveTo>
                <a:cubicBezTo>
                  <a:pt x="10" y="0"/>
                  <a:pt x="0" y="10"/>
                  <a:pt x="1" y="22"/>
                </a:cubicBezTo>
                <a:cubicBezTo>
                  <a:pt x="1" y="34"/>
                  <a:pt x="10" y="44"/>
                  <a:pt x="22" y="43"/>
                </a:cubicBezTo>
                <a:cubicBezTo>
                  <a:pt x="34" y="43"/>
                  <a:pt x="44" y="33"/>
                  <a:pt x="44" y="22"/>
                </a:cubicBezTo>
                <a:cubicBezTo>
                  <a:pt x="44" y="10"/>
                  <a:pt x="34" y="0"/>
                  <a:pt x="22" y="0"/>
                </a:cubicBezTo>
                <a:close/>
                <a:moveTo>
                  <a:pt x="22" y="35"/>
                </a:moveTo>
                <a:cubicBezTo>
                  <a:pt x="22" y="35"/>
                  <a:pt x="22" y="35"/>
                  <a:pt x="22" y="35"/>
                </a:cubicBezTo>
                <a:cubicBezTo>
                  <a:pt x="20" y="35"/>
                  <a:pt x="18" y="34"/>
                  <a:pt x="19" y="32"/>
                </a:cubicBezTo>
                <a:cubicBezTo>
                  <a:pt x="19" y="30"/>
                  <a:pt x="20" y="29"/>
                  <a:pt x="22" y="29"/>
                </a:cubicBezTo>
                <a:cubicBezTo>
                  <a:pt x="22" y="29"/>
                  <a:pt x="22" y="29"/>
                  <a:pt x="22" y="29"/>
                </a:cubicBezTo>
                <a:cubicBezTo>
                  <a:pt x="24" y="29"/>
                  <a:pt x="25" y="30"/>
                  <a:pt x="25" y="32"/>
                </a:cubicBezTo>
                <a:cubicBezTo>
                  <a:pt x="25" y="34"/>
                  <a:pt x="24" y="35"/>
                  <a:pt x="22" y="35"/>
                </a:cubicBezTo>
                <a:close/>
                <a:moveTo>
                  <a:pt x="29" y="20"/>
                </a:moveTo>
                <a:cubicBezTo>
                  <a:pt x="29" y="20"/>
                  <a:pt x="28" y="21"/>
                  <a:pt x="27" y="22"/>
                </a:cubicBezTo>
                <a:cubicBezTo>
                  <a:pt x="26" y="23"/>
                  <a:pt x="26" y="23"/>
                  <a:pt x="26" y="23"/>
                </a:cubicBezTo>
                <a:cubicBezTo>
                  <a:pt x="25" y="23"/>
                  <a:pt x="24" y="24"/>
                  <a:pt x="24" y="24"/>
                </a:cubicBezTo>
                <a:cubicBezTo>
                  <a:pt x="24" y="25"/>
                  <a:pt x="24" y="25"/>
                  <a:pt x="24" y="26"/>
                </a:cubicBezTo>
                <a:cubicBezTo>
                  <a:pt x="24" y="26"/>
                  <a:pt x="24" y="26"/>
                  <a:pt x="24" y="26"/>
                </a:cubicBezTo>
                <a:cubicBezTo>
                  <a:pt x="19" y="26"/>
                  <a:pt x="19" y="26"/>
                  <a:pt x="19" y="26"/>
                </a:cubicBezTo>
                <a:cubicBezTo>
                  <a:pt x="19" y="26"/>
                  <a:pt x="19" y="26"/>
                  <a:pt x="19" y="26"/>
                </a:cubicBezTo>
                <a:cubicBezTo>
                  <a:pt x="19" y="24"/>
                  <a:pt x="19" y="23"/>
                  <a:pt x="20" y="22"/>
                </a:cubicBezTo>
                <a:cubicBezTo>
                  <a:pt x="21" y="21"/>
                  <a:pt x="23" y="19"/>
                  <a:pt x="24" y="19"/>
                </a:cubicBezTo>
                <a:cubicBezTo>
                  <a:pt x="24" y="19"/>
                  <a:pt x="24" y="18"/>
                  <a:pt x="24" y="18"/>
                </a:cubicBezTo>
                <a:cubicBezTo>
                  <a:pt x="25" y="17"/>
                  <a:pt x="25" y="17"/>
                  <a:pt x="25" y="16"/>
                </a:cubicBezTo>
                <a:cubicBezTo>
                  <a:pt x="25" y="15"/>
                  <a:pt x="25" y="15"/>
                  <a:pt x="25" y="14"/>
                </a:cubicBezTo>
                <a:cubicBezTo>
                  <a:pt x="24" y="13"/>
                  <a:pt x="23" y="13"/>
                  <a:pt x="22" y="13"/>
                </a:cubicBezTo>
                <a:cubicBezTo>
                  <a:pt x="21" y="13"/>
                  <a:pt x="20" y="14"/>
                  <a:pt x="20" y="14"/>
                </a:cubicBezTo>
                <a:cubicBezTo>
                  <a:pt x="19" y="15"/>
                  <a:pt x="19" y="16"/>
                  <a:pt x="19" y="17"/>
                </a:cubicBezTo>
                <a:cubicBezTo>
                  <a:pt x="19" y="17"/>
                  <a:pt x="19" y="17"/>
                  <a:pt x="19" y="17"/>
                </a:cubicBezTo>
                <a:cubicBezTo>
                  <a:pt x="14" y="17"/>
                  <a:pt x="14" y="17"/>
                  <a:pt x="14" y="17"/>
                </a:cubicBezTo>
                <a:cubicBezTo>
                  <a:pt x="14" y="17"/>
                  <a:pt x="14" y="17"/>
                  <a:pt x="14" y="17"/>
                </a:cubicBezTo>
                <a:cubicBezTo>
                  <a:pt x="14" y="14"/>
                  <a:pt x="15" y="11"/>
                  <a:pt x="17" y="10"/>
                </a:cubicBezTo>
                <a:cubicBezTo>
                  <a:pt x="18" y="9"/>
                  <a:pt x="20" y="9"/>
                  <a:pt x="22" y="9"/>
                </a:cubicBezTo>
                <a:cubicBezTo>
                  <a:pt x="24" y="9"/>
                  <a:pt x="26" y="9"/>
                  <a:pt x="28" y="11"/>
                </a:cubicBezTo>
                <a:cubicBezTo>
                  <a:pt x="30" y="12"/>
                  <a:pt x="31" y="14"/>
                  <a:pt x="31" y="16"/>
                </a:cubicBezTo>
                <a:cubicBezTo>
                  <a:pt x="31" y="17"/>
                  <a:pt x="30" y="19"/>
                  <a:pt x="29" y="2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71" name="稻壳儿小白白(http://dwz.cn/Wu2UP)"/>
          <p:cNvSpPr/>
          <p:nvPr/>
        </p:nvSpPr>
        <p:spPr>
          <a:xfrm>
            <a:off x="4819680" y="4995720"/>
            <a:ext cx="130320" cy="130320"/>
          </a:xfrm>
          <a:custGeom>
            <a:avLst/>
            <a:gdLst/>
            <a:ahLst/>
            <a:rect l="l" t="t" r="r" b="b"/>
            <a:pathLst>
              <a:path w="27" h="27">
                <a:moveTo>
                  <a:pt x="25" y="12"/>
                </a:moveTo>
                <a:cubicBezTo>
                  <a:pt x="15" y="12"/>
                  <a:pt x="15" y="12"/>
                  <a:pt x="15" y="12"/>
                </a:cubicBezTo>
                <a:cubicBezTo>
                  <a:pt x="15" y="2"/>
                  <a:pt x="15" y="2"/>
                  <a:pt x="15" y="2"/>
                </a:cubicBezTo>
                <a:cubicBezTo>
                  <a:pt x="15" y="0"/>
                  <a:pt x="14" y="0"/>
                  <a:pt x="13" y="0"/>
                </a:cubicBezTo>
                <a:cubicBezTo>
                  <a:pt x="12" y="0"/>
                  <a:pt x="11" y="0"/>
                  <a:pt x="11" y="2"/>
                </a:cubicBezTo>
                <a:cubicBezTo>
                  <a:pt x="11" y="12"/>
                  <a:pt x="11" y="12"/>
                  <a:pt x="11" y="12"/>
                </a:cubicBezTo>
                <a:cubicBezTo>
                  <a:pt x="1" y="12"/>
                  <a:pt x="1" y="12"/>
                  <a:pt x="1" y="12"/>
                </a:cubicBezTo>
                <a:cubicBezTo>
                  <a:pt x="0" y="12"/>
                  <a:pt x="0" y="13"/>
                  <a:pt x="0" y="14"/>
                </a:cubicBezTo>
                <a:cubicBezTo>
                  <a:pt x="0" y="15"/>
                  <a:pt x="0" y="16"/>
                  <a:pt x="1" y="16"/>
                </a:cubicBezTo>
                <a:cubicBezTo>
                  <a:pt x="11" y="16"/>
                  <a:pt x="11" y="16"/>
                  <a:pt x="11" y="16"/>
                </a:cubicBezTo>
                <a:cubicBezTo>
                  <a:pt x="11" y="26"/>
                  <a:pt x="11" y="26"/>
                  <a:pt x="11" y="26"/>
                </a:cubicBezTo>
                <a:cubicBezTo>
                  <a:pt x="11" y="27"/>
                  <a:pt x="12" y="27"/>
                  <a:pt x="13" y="27"/>
                </a:cubicBezTo>
                <a:cubicBezTo>
                  <a:pt x="14" y="27"/>
                  <a:pt x="15" y="27"/>
                  <a:pt x="15" y="26"/>
                </a:cubicBezTo>
                <a:cubicBezTo>
                  <a:pt x="15" y="16"/>
                  <a:pt x="15" y="16"/>
                  <a:pt x="15" y="16"/>
                </a:cubicBezTo>
                <a:cubicBezTo>
                  <a:pt x="25" y="16"/>
                  <a:pt x="25" y="16"/>
                  <a:pt x="25" y="16"/>
                </a:cubicBezTo>
                <a:cubicBezTo>
                  <a:pt x="27" y="16"/>
                  <a:pt x="27" y="15"/>
                  <a:pt x="27" y="14"/>
                </a:cubicBezTo>
                <a:cubicBezTo>
                  <a:pt x="27" y="13"/>
                  <a:pt x="27" y="12"/>
                  <a:pt x="25" y="1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72" name="稻壳儿小白白(http://dwz.cn/Wu2UP)"/>
          <p:cNvSpPr/>
          <p:nvPr/>
        </p:nvSpPr>
        <p:spPr>
          <a:xfrm>
            <a:off x="4368960" y="5052960"/>
            <a:ext cx="129960" cy="19080"/>
          </a:xfrm>
          <a:custGeom>
            <a:avLst/>
            <a:gdLst/>
            <a:ahLst/>
            <a:rect l="l" t="t" r="r" b="b"/>
            <a:pathLst>
              <a:path w="27" h="4">
                <a:moveTo>
                  <a:pt x="25" y="0"/>
                </a:moveTo>
                <a:cubicBezTo>
                  <a:pt x="1" y="0"/>
                  <a:pt x="1" y="0"/>
                  <a:pt x="1" y="0"/>
                </a:cubicBezTo>
                <a:cubicBezTo>
                  <a:pt x="0" y="0"/>
                  <a:pt x="0" y="1"/>
                  <a:pt x="0" y="2"/>
                </a:cubicBezTo>
                <a:cubicBezTo>
                  <a:pt x="0" y="3"/>
                  <a:pt x="0" y="4"/>
                  <a:pt x="1" y="4"/>
                </a:cubicBezTo>
                <a:cubicBezTo>
                  <a:pt x="25" y="4"/>
                  <a:pt x="25" y="4"/>
                  <a:pt x="25" y="4"/>
                </a:cubicBezTo>
                <a:cubicBezTo>
                  <a:pt x="27" y="4"/>
                  <a:pt x="27" y="3"/>
                  <a:pt x="27" y="2"/>
                </a:cubicBezTo>
                <a:cubicBezTo>
                  <a:pt x="27" y="1"/>
                  <a:pt x="27" y="0"/>
                  <a:pt x="25" y="0"/>
                </a:cubicBezTo>
                <a:close/>
              </a:path>
            </a:pathLst>
          </a:custGeom>
          <a:solidFill>
            <a:srgbClr val="ffffff"/>
          </a:solidFill>
          <a:ln w="0">
            <a:noFill/>
          </a:ln>
        </p:spPr>
        <p:style>
          <a:lnRef idx="0"/>
          <a:fillRef idx="0"/>
          <a:effectRef idx="0"/>
          <a:fontRef idx="minor"/>
        </p:style>
        <p:txBody>
          <a:bodyPr lIns="121680" rIns="121680" tIns="-41760" bIns="-41760" anchor="t">
            <a:noAutofit/>
          </a:bodyPr>
          <a:p>
            <a:endParaRPr b="0" lang="en-US" sz="1800" spc="-1" strike="noStrike">
              <a:solidFill>
                <a:srgbClr val="000000"/>
              </a:solidFill>
              <a:latin typeface="Arial"/>
            </a:endParaRPr>
          </a:p>
        </p:txBody>
      </p:sp>
      <p:sp>
        <p:nvSpPr>
          <p:cNvPr id="973" name="稻壳儿小白白(http://dwz.cn/Wu2UP)"/>
          <p:cNvSpPr/>
          <p:nvPr/>
        </p:nvSpPr>
        <p:spPr>
          <a:xfrm>
            <a:off x="5675400" y="2239920"/>
            <a:ext cx="225360" cy="225360"/>
          </a:xfrm>
          <a:custGeom>
            <a:avLst/>
            <a:gdLst/>
            <a:ahLst/>
            <a:rect l="l" t="t" r="r" b="b"/>
            <a:pathLst>
              <a:path w="47" h="47">
                <a:moveTo>
                  <a:pt x="45" y="1"/>
                </a:moveTo>
                <a:cubicBezTo>
                  <a:pt x="44" y="0"/>
                  <a:pt x="44" y="0"/>
                  <a:pt x="43" y="0"/>
                </a:cubicBezTo>
                <a:cubicBezTo>
                  <a:pt x="42" y="1"/>
                  <a:pt x="42" y="1"/>
                  <a:pt x="42" y="2"/>
                </a:cubicBezTo>
                <a:cubicBezTo>
                  <a:pt x="44" y="8"/>
                  <a:pt x="40" y="13"/>
                  <a:pt x="37" y="16"/>
                </a:cubicBezTo>
                <a:cubicBezTo>
                  <a:pt x="35" y="14"/>
                  <a:pt x="35" y="14"/>
                  <a:pt x="35" y="14"/>
                </a:cubicBezTo>
                <a:cubicBezTo>
                  <a:pt x="35" y="13"/>
                  <a:pt x="34" y="13"/>
                  <a:pt x="33" y="13"/>
                </a:cubicBezTo>
                <a:cubicBezTo>
                  <a:pt x="26" y="13"/>
                  <a:pt x="26" y="13"/>
                  <a:pt x="26" y="13"/>
                </a:cubicBezTo>
                <a:cubicBezTo>
                  <a:pt x="25" y="13"/>
                  <a:pt x="24" y="13"/>
                  <a:pt x="23" y="13"/>
                </a:cubicBezTo>
                <a:cubicBezTo>
                  <a:pt x="1" y="29"/>
                  <a:pt x="1" y="29"/>
                  <a:pt x="1" y="29"/>
                </a:cubicBezTo>
                <a:cubicBezTo>
                  <a:pt x="0" y="30"/>
                  <a:pt x="0" y="31"/>
                  <a:pt x="1" y="32"/>
                </a:cubicBezTo>
                <a:cubicBezTo>
                  <a:pt x="11" y="46"/>
                  <a:pt x="11" y="46"/>
                  <a:pt x="11" y="46"/>
                </a:cubicBezTo>
                <a:cubicBezTo>
                  <a:pt x="11" y="47"/>
                  <a:pt x="13" y="47"/>
                  <a:pt x="14" y="47"/>
                </a:cubicBezTo>
                <a:cubicBezTo>
                  <a:pt x="35" y="31"/>
                  <a:pt x="35" y="31"/>
                  <a:pt x="35" y="31"/>
                </a:cubicBezTo>
                <a:cubicBezTo>
                  <a:pt x="36" y="31"/>
                  <a:pt x="37" y="30"/>
                  <a:pt x="37" y="29"/>
                </a:cubicBezTo>
                <a:cubicBezTo>
                  <a:pt x="39" y="22"/>
                  <a:pt x="39" y="22"/>
                  <a:pt x="39" y="22"/>
                </a:cubicBezTo>
                <a:cubicBezTo>
                  <a:pt x="40" y="21"/>
                  <a:pt x="39" y="20"/>
                  <a:pt x="39" y="19"/>
                </a:cubicBezTo>
                <a:cubicBezTo>
                  <a:pt x="38" y="18"/>
                  <a:pt x="38" y="18"/>
                  <a:pt x="38" y="18"/>
                </a:cubicBezTo>
                <a:cubicBezTo>
                  <a:pt x="43" y="15"/>
                  <a:pt x="47" y="9"/>
                  <a:pt x="45" y="1"/>
                </a:cubicBezTo>
                <a:close/>
                <a:moveTo>
                  <a:pt x="34" y="23"/>
                </a:moveTo>
                <a:cubicBezTo>
                  <a:pt x="33" y="24"/>
                  <a:pt x="30" y="24"/>
                  <a:pt x="29" y="22"/>
                </a:cubicBezTo>
                <a:cubicBezTo>
                  <a:pt x="28" y="21"/>
                  <a:pt x="28" y="18"/>
                  <a:pt x="30" y="17"/>
                </a:cubicBezTo>
                <a:cubicBezTo>
                  <a:pt x="32" y="16"/>
                  <a:pt x="33" y="16"/>
                  <a:pt x="35" y="17"/>
                </a:cubicBezTo>
                <a:cubicBezTo>
                  <a:pt x="34" y="17"/>
                  <a:pt x="33" y="18"/>
                  <a:pt x="33" y="18"/>
                </a:cubicBezTo>
                <a:cubicBezTo>
                  <a:pt x="33" y="18"/>
                  <a:pt x="32" y="19"/>
                  <a:pt x="33" y="20"/>
                </a:cubicBezTo>
                <a:cubicBezTo>
                  <a:pt x="33" y="20"/>
                  <a:pt x="33" y="20"/>
                  <a:pt x="34" y="20"/>
                </a:cubicBezTo>
                <a:cubicBezTo>
                  <a:pt x="34" y="20"/>
                  <a:pt x="34" y="20"/>
                  <a:pt x="35" y="20"/>
                </a:cubicBezTo>
                <a:cubicBezTo>
                  <a:pt x="35" y="20"/>
                  <a:pt x="36" y="20"/>
                  <a:pt x="36" y="19"/>
                </a:cubicBezTo>
                <a:cubicBezTo>
                  <a:pt x="36" y="21"/>
                  <a:pt x="36" y="22"/>
                  <a:pt x="34" y="2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74" name="稻壳儿小白白(http://dwz.cn/Wu2UP)"/>
          <p:cNvSpPr/>
          <p:nvPr/>
        </p:nvSpPr>
        <p:spPr>
          <a:xfrm>
            <a:off x="5670720" y="2739960"/>
            <a:ext cx="225360" cy="130320"/>
          </a:xfrm>
          <a:custGeom>
            <a:avLst/>
            <a:gdLst/>
            <a:ahLst/>
            <a:rect l="l" t="t" r="r" b="b"/>
            <a:pathLst>
              <a:path w="47" h="27">
                <a:moveTo>
                  <a:pt x="24" y="0"/>
                </a:moveTo>
                <a:cubicBezTo>
                  <a:pt x="8" y="0"/>
                  <a:pt x="0" y="12"/>
                  <a:pt x="0" y="14"/>
                </a:cubicBezTo>
                <a:cubicBezTo>
                  <a:pt x="0" y="15"/>
                  <a:pt x="8" y="27"/>
                  <a:pt x="24" y="27"/>
                </a:cubicBezTo>
                <a:cubicBezTo>
                  <a:pt x="39" y="27"/>
                  <a:pt x="47" y="15"/>
                  <a:pt x="47" y="14"/>
                </a:cubicBezTo>
                <a:cubicBezTo>
                  <a:pt x="47" y="12"/>
                  <a:pt x="39" y="0"/>
                  <a:pt x="24" y="0"/>
                </a:cubicBezTo>
                <a:close/>
                <a:moveTo>
                  <a:pt x="24" y="24"/>
                </a:moveTo>
                <a:cubicBezTo>
                  <a:pt x="18" y="24"/>
                  <a:pt x="13" y="19"/>
                  <a:pt x="13" y="14"/>
                </a:cubicBezTo>
                <a:cubicBezTo>
                  <a:pt x="13" y="8"/>
                  <a:pt x="18" y="3"/>
                  <a:pt x="24" y="3"/>
                </a:cubicBezTo>
                <a:cubicBezTo>
                  <a:pt x="30" y="3"/>
                  <a:pt x="34" y="8"/>
                  <a:pt x="34" y="14"/>
                </a:cubicBezTo>
                <a:cubicBezTo>
                  <a:pt x="34" y="19"/>
                  <a:pt x="30" y="24"/>
                  <a:pt x="24" y="24"/>
                </a:cubicBezTo>
                <a:close/>
                <a:moveTo>
                  <a:pt x="24" y="14"/>
                </a:moveTo>
                <a:cubicBezTo>
                  <a:pt x="23" y="13"/>
                  <a:pt x="25" y="9"/>
                  <a:pt x="24" y="9"/>
                </a:cubicBezTo>
                <a:cubicBezTo>
                  <a:pt x="21" y="9"/>
                  <a:pt x="19" y="11"/>
                  <a:pt x="19" y="14"/>
                </a:cubicBezTo>
                <a:cubicBezTo>
                  <a:pt x="19" y="16"/>
                  <a:pt x="21" y="19"/>
                  <a:pt x="24" y="19"/>
                </a:cubicBezTo>
                <a:cubicBezTo>
                  <a:pt x="27" y="19"/>
                  <a:pt x="29" y="16"/>
                  <a:pt x="29" y="14"/>
                </a:cubicBezTo>
                <a:cubicBezTo>
                  <a:pt x="29" y="12"/>
                  <a:pt x="25" y="14"/>
                  <a:pt x="24" y="1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75" name="稻壳儿小白白(http://dwz.cn/Wu2UP)"/>
          <p:cNvSpPr/>
          <p:nvPr/>
        </p:nvSpPr>
        <p:spPr>
          <a:xfrm>
            <a:off x="5227560" y="2700360"/>
            <a:ext cx="212760" cy="208080"/>
          </a:xfrm>
          <a:custGeom>
            <a:avLst/>
            <a:gdLst/>
            <a:ahLst/>
            <a:rect l="l" t="t" r="r" b="b"/>
            <a:pathLst>
              <a:path w="44" h="43">
                <a:moveTo>
                  <a:pt x="22" y="0"/>
                </a:moveTo>
                <a:cubicBezTo>
                  <a:pt x="10" y="0"/>
                  <a:pt x="0" y="10"/>
                  <a:pt x="0" y="22"/>
                </a:cubicBezTo>
                <a:cubicBezTo>
                  <a:pt x="1" y="34"/>
                  <a:pt x="10" y="43"/>
                  <a:pt x="22" y="43"/>
                </a:cubicBezTo>
                <a:cubicBezTo>
                  <a:pt x="34" y="43"/>
                  <a:pt x="44" y="33"/>
                  <a:pt x="44" y="21"/>
                </a:cubicBezTo>
                <a:cubicBezTo>
                  <a:pt x="43" y="9"/>
                  <a:pt x="34" y="0"/>
                  <a:pt x="22" y="0"/>
                </a:cubicBezTo>
                <a:close/>
                <a:moveTo>
                  <a:pt x="22" y="3"/>
                </a:moveTo>
                <a:cubicBezTo>
                  <a:pt x="25" y="3"/>
                  <a:pt x="28" y="4"/>
                  <a:pt x="31" y="5"/>
                </a:cubicBezTo>
                <a:cubicBezTo>
                  <a:pt x="28" y="10"/>
                  <a:pt x="28" y="10"/>
                  <a:pt x="28" y="10"/>
                </a:cubicBezTo>
                <a:cubicBezTo>
                  <a:pt x="26" y="9"/>
                  <a:pt x="24" y="8"/>
                  <a:pt x="22" y="8"/>
                </a:cubicBezTo>
                <a:cubicBezTo>
                  <a:pt x="20" y="8"/>
                  <a:pt x="18" y="9"/>
                  <a:pt x="16" y="10"/>
                </a:cubicBezTo>
                <a:cubicBezTo>
                  <a:pt x="13" y="5"/>
                  <a:pt x="13" y="5"/>
                  <a:pt x="13" y="5"/>
                </a:cubicBezTo>
                <a:cubicBezTo>
                  <a:pt x="16" y="4"/>
                  <a:pt x="19" y="3"/>
                  <a:pt x="22" y="3"/>
                </a:cubicBezTo>
                <a:close/>
                <a:moveTo>
                  <a:pt x="10" y="27"/>
                </a:moveTo>
                <a:cubicBezTo>
                  <a:pt x="5" y="30"/>
                  <a:pt x="5" y="30"/>
                  <a:pt x="5" y="30"/>
                </a:cubicBezTo>
                <a:cubicBezTo>
                  <a:pt x="4" y="28"/>
                  <a:pt x="3" y="25"/>
                  <a:pt x="3" y="22"/>
                </a:cubicBezTo>
                <a:cubicBezTo>
                  <a:pt x="3" y="19"/>
                  <a:pt x="4" y="16"/>
                  <a:pt x="5" y="13"/>
                </a:cubicBezTo>
                <a:cubicBezTo>
                  <a:pt x="10" y="16"/>
                  <a:pt x="10" y="16"/>
                  <a:pt x="10" y="16"/>
                </a:cubicBezTo>
                <a:cubicBezTo>
                  <a:pt x="9" y="18"/>
                  <a:pt x="9" y="20"/>
                  <a:pt x="9" y="22"/>
                </a:cubicBezTo>
                <a:cubicBezTo>
                  <a:pt x="9" y="24"/>
                  <a:pt x="9" y="26"/>
                  <a:pt x="10" y="27"/>
                </a:cubicBezTo>
                <a:close/>
                <a:moveTo>
                  <a:pt x="22" y="40"/>
                </a:moveTo>
                <a:cubicBezTo>
                  <a:pt x="19" y="40"/>
                  <a:pt x="16" y="40"/>
                  <a:pt x="13" y="38"/>
                </a:cubicBezTo>
                <a:cubicBezTo>
                  <a:pt x="16" y="33"/>
                  <a:pt x="16" y="33"/>
                  <a:pt x="16" y="33"/>
                </a:cubicBezTo>
                <a:cubicBezTo>
                  <a:pt x="18" y="34"/>
                  <a:pt x="20" y="35"/>
                  <a:pt x="22" y="35"/>
                </a:cubicBezTo>
                <a:cubicBezTo>
                  <a:pt x="24" y="35"/>
                  <a:pt x="26" y="34"/>
                  <a:pt x="28" y="33"/>
                </a:cubicBezTo>
                <a:cubicBezTo>
                  <a:pt x="31" y="38"/>
                  <a:pt x="31" y="38"/>
                  <a:pt x="31" y="38"/>
                </a:cubicBezTo>
                <a:cubicBezTo>
                  <a:pt x="28" y="40"/>
                  <a:pt x="25" y="40"/>
                  <a:pt x="22" y="40"/>
                </a:cubicBezTo>
                <a:close/>
                <a:moveTo>
                  <a:pt x="22" y="32"/>
                </a:moveTo>
                <a:cubicBezTo>
                  <a:pt x="16" y="32"/>
                  <a:pt x="12" y="27"/>
                  <a:pt x="12" y="22"/>
                </a:cubicBezTo>
                <a:cubicBezTo>
                  <a:pt x="12" y="16"/>
                  <a:pt x="16" y="11"/>
                  <a:pt x="22" y="11"/>
                </a:cubicBezTo>
                <a:cubicBezTo>
                  <a:pt x="28" y="11"/>
                  <a:pt x="32" y="16"/>
                  <a:pt x="32" y="22"/>
                </a:cubicBezTo>
                <a:cubicBezTo>
                  <a:pt x="32" y="27"/>
                  <a:pt x="28" y="32"/>
                  <a:pt x="22" y="32"/>
                </a:cubicBezTo>
                <a:close/>
                <a:moveTo>
                  <a:pt x="34" y="27"/>
                </a:moveTo>
                <a:cubicBezTo>
                  <a:pt x="35" y="26"/>
                  <a:pt x="35" y="24"/>
                  <a:pt x="35" y="22"/>
                </a:cubicBezTo>
                <a:cubicBezTo>
                  <a:pt x="35" y="20"/>
                  <a:pt x="35" y="18"/>
                  <a:pt x="34" y="16"/>
                </a:cubicBezTo>
                <a:cubicBezTo>
                  <a:pt x="39" y="13"/>
                  <a:pt x="39" y="13"/>
                  <a:pt x="39" y="13"/>
                </a:cubicBezTo>
                <a:cubicBezTo>
                  <a:pt x="40" y="15"/>
                  <a:pt x="41" y="18"/>
                  <a:pt x="41" y="21"/>
                </a:cubicBezTo>
                <a:cubicBezTo>
                  <a:pt x="41" y="25"/>
                  <a:pt x="40" y="28"/>
                  <a:pt x="39" y="30"/>
                </a:cubicBezTo>
                <a:lnTo>
                  <a:pt x="34" y="2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76" name="稻壳儿小白白(http://dwz.cn/Wu2UP)"/>
          <p:cNvSpPr/>
          <p:nvPr/>
        </p:nvSpPr>
        <p:spPr>
          <a:xfrm>
            <a:off x="4334040" y="2711520"/>
            <a:ext cx="198360" cy="187200"/>
          </a:xfrm>
          <a:custGeom>
            <a:avLst/>
            <a:gdLst/>
            <a:ahLst/>
            <a:rect l="l" t="t" r="r" b="b"/>
            <a:pathLst>
              <a:path w="41" h="39">
                <a:moveTo>
                  <a:pt x="39" y="5"/>
                </a:moveTo>
                <a:cubicBezTo>
                  <a:pt x="39" y="4"/>
                  <a:pt x="35" y="1"/>
                  <a:pt x="34" y="1"/>
                </a:cubicBezTo>
                <a:cubicBezTo>
                  <a:pt x="33" y="0"/>
                  <a:pt x="32" y="0"/>
                  <a:pt x="32" y="0"/>
                </a:cubicBezTo>
                <a:cubicBezTo>
                  <a:pt x="9" y="0"/>
                  <a:pt x="9" y="0"/>
                  <a:pt x="9" y="0"/>
                </a:cubicBezTo>
                <a:cubicBezTo>
                  <a:pt x="8" y="0"/>
                  <a:pt x="7" y="0"/>
                  <a:pt x="6" y="1"/>
                </a:cubicBezTo>
                <a:cubicBezTo>
                  <a:pt x="6" y="1"/>
                  <a:pt x="2" y="4"/>
                  <a:pt x="1" y="5"/>
                </a:cubicBezTo>
                <a:cubicBezTo>
                  <a:pt x="1" y="5"/>
                  <a:pt x="0" y="6"/>
                  <a:pt x="0" y="8"/>
                </a:cubicBezTo>
                <a:cubicBezTo>
                  <a:pt x="0" y="9"/>
                  <a:pt x="5" y="38"/>
                  <a:pt x="5" y="38"/>
                </a:cubicBezTo>
                <a:cubicBezTo>
                  <a:pt x="5" y="39"/>
                  <a:pt x="6" y="39"/>
                  <a:pt x="7" y="39"/>
                </a:cubicBezTo>
                <a:cubicBezTo>
                  <a:pt x="34" y="39"/>
                  <a:pt x="34" y="39"/>
                  <a:pt x="34" y="39"/>
                </a:cubicBezTo>
                <a:cubicBezTo>
                  <a:pt x="35" y="39"/>
                  <a:pt x="36" y="39"/>
                  <a:pt x="36" y="38"/>
                </a:cubicBezTo>
                <a:cubicBezTo>
                  <a:pt x="36" y="38"/>
                  <a:pt x="40" y="9"/>
                  <a:pt x="40" y="8"/>
                </a:cubicBezTo>
                <a:cubicBezTo>
                  <a:pt x="41" y="6"/>
                  <a:pt x="40" y="5"/>
                  <a:pt x="39" y="5"/>
                </a:cubicBezTo>
                <a:close/>
                <a:moveTo>
                  <a:pt x="20" y="25"/>
                </a:moveTo>
                <a:cubicBezTo>
                  <a:pt x="13" y="25"/>
                  <a:pt x="11" y="14"/>
                  <a:pt x="11" y="12"/>
                </a:cubicBezTo>
                <a:cubicBezTo>
                  <a:pt x="15" y="12"/>
                  <a:pt x="15" y="12"/>
                  <a:pt x="15" y="12"/>
                </a:cubicBezTo>
                <a:cubicBezTo>
                  <a:pt x="16" y="15"/>
                  <a:pt x="17" y="21"/>
                  <a:pt x="20" y="21"/>
                </a:cubicBezTo>
                <a:cubicBezTo>
                  <a:pt x="23" y="21"/>
                  <a:pt x="25" y="15"/>
                  <a:pt x="26" y="12"/>
                </a:cubicBezTo>
                <a:cubicBezTo>
                  <a:pt x="30" y="12"/>
                  <a:pt x="30" y="12"/>
                  <a:pt x="30" y="12"/>
                </a:cubicBezTo>
                <a:cubicBezTo>
                  <a:pt x="30" y="14"/>
                  <a:pt x="28" y="25"/>
                  <a:pt x="20" y="25"/>
                </a:cubicBezTo>
                <a:close/>
                <a:moveTo>
                  <a:pt x="4" y="8"/>
                </a:moveTo>
                <a:cubicBezTo>
                  <a:pt x="9" y="2"/>
                  <a:pt x="9" y="2"/>
                  <a:pt x="9" y="2"/>
                </a:cubicBezTo>
                <a:cubicBezTo>
                  <a:pt x="32" y="2"/>
                  <a:pt x="32" y="2"/>
                  <a:pt x="32" y="2"/>
                </a:cubicBezTo>
                <a:cubicBezTo>
                  <a:pt x="37" y="8"/>
                  <a:pt x="37" y="8"/>
                  <a:pt x="37" y="8"/>
                </a:cubicBezTo>
                <a:lnTo>
                  <a:pt x="4" y="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77" name="稻壳儿小白白(http://dwz.cn/Wu2UP)"/>
          <p:cNvSpPr/>
          <p:nvPr/>
        </p:nvSpPr>
        <p:spPr>
          <a:xfrm>
            <a:off x="6121440" y="2263680"/>
            <a:ext cx="226800" cy="182520"/>
          </a:xfrm>
          <a:custGeom>
            <a:avLst/>
            <a:gdLst/>
            <a:ahLst/>
            <a:rect l="l" t="t" r="r" b="b"/>
            <a:pathLst>
              <a:path w="47" h="38">
                <a:moveTo>
                  <a:pt x="24" y="14"/>
                </a:moveTo>
                <a:cubicBezTo>
                  <a:pt x="20" y="14"/>
                  <a:pt x="17" y="17"/>
                  <a:pt x="17" y="21"/>
                </a:cubicBezTo>
                <a:cubicBezTo>
                  <a:pt x="17" y="25"/>
                  <a:pt x="20" y="28"/>
                  <a:pt x="24" y="28"/>
                </a:cubicBezTo>
                <a:cubicBezTo>
                  <a:pt x="28" y="28"/>
                  <a:pt x="31" y="25"/>
                  <a:pt x="31" y="21"/>
                </a:cubicBezTo>
                <a:cubicBezTo>
                  <a:pt x="31" y="17"/>
                  <a:pt x="28" y="14"/>
                  <a:pt x="24" y="14"/>
                </a:cubicBezTo>
                <a:close/>
                <a:moveTo>
                  <a:pt x="42" y="7"/>
                </a:moveTo>
                <a:cubicBezTo>
                  <a:pt x="37" y="7"/>
                  <a:pt x="37" y="7"/>
                  <a:pt x="37" y="7"/>
                </a:cubicBezTo>
                <a:cubicBezTo>
                  <a:pt x="36" y="7"/>
                  <a:pt x="35" y="6"/>
                  <a:pt x="35" y="6"/>
                </a:cubicBezTo>
                <a:cubicBezTo>
                  <a:pt x="34" y="1"/>
                  <a:pt x="34" y="1"/>
                  <a:pt x="34" y="1"/>
                </a:cubicBezTo>
                <a:cubicBezTo>
                  <a:pt x="33" y="1"/>
                  <a:pt x="32" y="0"/>
                  <a:pt x="32" y="0"/>
                </a:cubicBezTo>
                <a:cubicBezTo>
                  <a:pt x="16" y="0"/>
                  <a:pt x="16" y="0"/>
                  <a:pt x="16" y="0"/>
                </a:cubicBezTo>
                <a:cubicBezTo>
                  <a:pt x="15" y="0"/>
                  <a:pt x="14" y="1"/>
                  <a:pt x="14" y="1"/>
                </a:cubicBezTo>
                <a:cubicBezTo>
                  <a:pt x="12" y="6"/>
                  <a:pt x="12" y="6"/>
                  <a:pt x="12" y="6"/>
                </a:cubicBezTo>
                <a:cubicBezTo>
                  <a:pt x="12" y="6"/>
                  <a:pt x="11" y="7"/>
                  <a:pt x="11" y="7"/>
                </a:cubicBezTo>
                <a:cubicBezTo>
                  <a:pt x="5" y="7"/>
                  <a:pt x="5" y="7"/>
                  <a:pt x="5" y="7"/>
                </a:cubicBezTo>
                <a:cubicBezTo>
                  <a:pt x="2" y="7"/>
                  <a:pt x="0" y="9"/>
                  <a:pt x="0" y="12"/>
                </a:cubicBezTo>
                <a:cubicBezTo>
                  <a:pt x="0" y="33"/>
                  <a:pt x="0" y="33"/>
                  <a:pt x="0" y="33"/>
                </a:cubicBezTo>
                <a:cubicBezTo>
                  <a:pt x="0" y="35"/>
                  <a:pt x="2" y="38"/>
                  <a:pt x="5" y="38"/>
                </a:cubicBezTo>
                <a:cubicBezTo>
                  <a:pt x="42" y="38"/>
                  <a:pt x="42" y="38"/>
                  <a:pt x="42" y="38"/>
                </a:cubicBezTo>
                <a:cubicBezTo>
                  <a:pt x="45" y="38"/>
                  <a:pt x="47" y="35"/>
                  <a:pt x="47" y="33"/>
                </a:cubicBezTo>
                <a:cubicBezTo>
                  <a:pt x="47" y="12"/>
                  <a:pt x="47" y="12"/>
                  <a:pt x="47" y="12"/>
                </a:cubicBezTo>
                <a:cubicBezTo>
                  <a:pt x="47" y="9"/>
                  <a:pt x="45" y="7"/>
                  <a:pt x="42" y="7"/>
                </a:cubicBezTo>
                <a:close/>
                <a:moveTo>
                  <a:pt x="24" y="33"/>
                </a:moveTo>
                <a:cubicBezTo>
                  <a:pt x="17" y="33"/>
                  <a:pt x="12" y="28"/>
                  <a:pt x="12" y="21"/>
                </a:cubicBezTo>
                <a:cubicBezTo>
                  <a:pt x="12" y="15"/>
                  <a:pt x="17" y="9"/>
                  <a:pt x="24" y="9"/>
                </a:cubicBezTo>
                <a:cubicBezTo>
                  <a:pt x="30" y="9"/>
                  <a:pt x="35" y="15"/>
                  <a:pt x="35" y="21"/>
                </a:cubicBezTo>
                <a:cubicBezTo>
                  <a:pt x="35" y="28"/>
                  <a:pt x="30" y="33"/>
                  <a:pt x="24" y="33"/>
                </a:cubicBezTo>
                <a:close/>
                <a:moveTo>
                  <a:pt x="41" y="15"/>
                </a:moveTo>
                <a:cubicBezTo>
                  <a:pt x="40" y="15"/>
                  <a:pt x="39" y="14"/>
                  <a:pt x="39" y="13"/>
                </a:cubicBezTo>
                <a:cubicBezTo>
                  <a:pt x="39" y="12"/>
                  <a:pt x="40" y="12"/>
                  <a:pt x="41" y="12"/>
                </a:cubicBezTo>
                <a:cubicBezTo>
                  <a:pt x="42" y="12"/>
                  <a:pt x="42" y="12"/>
                  <a:pt x="42" y="13"/>
                </a:cubicBezTo>
                <a:cubicBezTo>
                  <a:pt x="42" y="14"/>
                  <a:pt x="42" y="15"/>
                  <a:pt x="41" y="1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78" name="稻壳儿小白白(http://dwz.cn/Wu2UP)"/>
          <p:cNvSpPr/>
          <p:nvPr/>
        </p:nvSpPr>
        <p:spPr>
          <a:xfrm>
            <a:off x="8416800" y="2249640"/>
            <a:ext cx="165240" cy="215640"/>
          </a:xfrm>
          <a:custGeom>
            <a:avLst/>
            <a:gdLst/>
            <a:ahLst/>
            <a:rect l="l" t="t" r="r" b="b"/>
            <a:pathLst>
              <a:path w="34" h="45">
                <a:moveTo>
                  <a:pt x="19" y="0"/>
                </a:moveTo>
                <a:cubicBezTo>
                  <a:pt x="15" y="0"/>
                  <a:pt x="15" y="0"/>
                  <a:pt x="15" y="0"/>
                </a:cubicBezTo>
                <a:cubicBezTo>
                  <a:pt x="15" y="30"/>
                  <a:pt x="15" y="30"/>
                  <a:pt x="15" y="30"/>
                </a:cubicBezTo>
                <a:cubicBezTo>
                  <a:pt x="13" y="30"/>
                  <a:pt x="11" y="30"/>
                  <a:pt x="8" y="31"/>
                </a:cubicBezTo>
                <a:cubicBezTo>
                  <a:pt x="3" y="32"/>
                  <a:pt x="0" y="36"/>
                  <a:pt x="2" y="40"/>
                </a:cubicBezTo>
                <a:cubicBezTo>
                  <a:pt x="3" y="43"/>
                  <a:pt x="8" y="45"/>
                  <a:pt x="13" y="43"/>
                </a:cubicBezTo>
                <a:cubicBezTo>
                  <a:pt x="17" y="42"/>
                  <a:pt x="19" y="38"/>
                  <a:pt x="19" y="35"/>
                </a:cubicBezTo>
                <a:cubicBezTo>
                  <a:pt x="19" y="10"/>
                  <a:pt x="19" y="10"/>
                  <a:pt x="19" y="10"/>
                </a:cubicBezTo>
                <a:cubicBezTo>
                  <a:pt x="26" y="11"/>
                  <a:pt x="26" y="19"/>
                  <a:pt x="25" y="22"/>
                </a:cubicBezTo>
                <a:cubicBezTo>
                  <a:pt x="25" y="23"/>
                  <a:pt x="26" y="23"/>
                  <a:pt x="27" y="22"/>
                </a:cubicBezTo>
                <a:cubicBezTo>
                  <a:pt x="34" y="11"/>
                  <a:pt x="19" y="6"/>
                  <a:pt x="19" y="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79" name="稻壳儿小白白(http://dwz.cn/Wu2UP)"/>
          <p:cNvSpPr/>
          <p:nvPr/>
        </p:nvSpPr>
        <p:spPr>
          <a:xfrm>
            <a:off x="7043760" y="2260440"/>
            <a:ext cx="198360" cy="196920"/>
          </a:xfrm>
          <a:custGeom>
            <a:avLst/>
            <a:gdLst/>
            <a:ahLst/>
            <a:rect l="l" t="t" r="r" b="b"/>
            <a:pathLst>
              <a:path w="41" h="41">
                <a:moveTo>
                  <a:pt x="25" y="25"/>
                </a:moveTo>
                <a:cubicBezTo>
                  <a:pt x="18" y="32"/>
                  <a:pt x="8" y="33"/>
                  <a:pt x="0" y="28"/>
                </a:cubicBezTo>
                <a:cubicBezTo>
                  <a:pt x="1" y="30"/>
                  <a:pt x="2" y="32"/>
                  <a:pt x="4" y="33"/>
                </a:cubicBezTo>
                <a:cubicBezTo>
                  <a:pt x="12" y="41"/>
                  <a:pt x="25" y="41"/>
                  <a:pt x="33" y="33"/>
                </a:cubicBezTo>
                <a:cubicBezTo>
                  <a:pt x="41" y="25"/>
                  <a:pt x="41" y="12"/>
                  <a:pt x="33" y="4"/>
                </a:cubicBezTo>
                <a:cubicBezTo>
                  <a:pt x="31" y="3"/>
                  <a:pt x="30" y="1"/>
                  <a:pt x="28" y="0"/>
                </a:cubicBezTo>
                <a:cubicBezTo>
                  <a:pt x="32" y="8"/>
                  <a:pt x="31" y="18"/>
                  <a:pt x="25" y="2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80" name="稻壳儿小白白(http://dwz.cn/Wu2UP)"/>
          <p:cNvSpPr/>
          <p:nvPr/>
        </p:nvSpPr>
        <p:spPr>
          <a:xfrm>
            <a:off x="7477200" y="2260440"/>
            <a:ext cx="230040" cy="182880"/>
          </a:xfrm>
          <a:custGeom>
            <a:avLst/>
            <a:gdLst/>
            <a:ahLst/>
            <a:rect l="l" t="t" r="r" b="b"/>
            <a:pathLst>
              <a:path w="48" h="38">
                <a:moveTo>
                  <a:pt x="40" y="7"/>
                </a:moveTo>
                <a:cubicBezTo>
                  <a:pt x="33" y="2"/>
                  <a:pt x="25" y="0"/>
                  <a:pt x="15" y="3"/>
                </a:cubicBezTo>
                <a:cubicBezTo>
                  <a:pt x="8" y="5"/>
                  <a:pt x="1" y="14"/>
                  <a:pt x="0" y="21"/>
                </a:cubicBezTo>
                <a:cubicBezTo>
                  <a:pt x="0" y="30"/>
                  <a:pt x="6" y="38"/>
                  <a:pt x="18" y="38"/>
                </a:cubicBezTo>
                <a:cubicBezTo>
                  <a:pt x="31" y="38"/>
                  <a:pt x="36" y="31"/>
                  <a:pt x="36" y="29"/>
                </a:cubicBezTo>
                <a:cubicBezTo>
                  <a:pt x="36" y="28"/>
                  <a:pt x="31" y="24"/>
                  <a:pt x="34" y="21"/>
                </a:cubicBezTo>
                <a:cubicBezTo>
                  <a:pt x="39" y="16"/>
                  <a:pt x="42" y="20"/>
                  <a:pt x="45" y="19"/>
                </a:cubicBezTo>
                <a:cubicBezTo>
                  <a:pt x="47" y="19"/>
                  <a:pt x="48" y="12"/>
                  <a:pt x="40" y="7"/>
                </a:cubicBezTo>
                <a:close/>
                <a:moveTo>
                  <a:pt x="26" y="29"/>
                </a:moveTo>
                <a:cubicBezTo>
                  <a:pt x="24" y="29"/>
                  <a:pt x="22" y="27"/>
                  <a:pt x="22" y="25"/>
                </a:cubicBezTo>
                <a:cubicBezTo>
                  <a:pt x="22" y="23"/>
                  <a:pt x="24" y="22"/>
                  <a:pt x="26" y="22"/>
                </a:cubicBezTo>
                <a:cubicBezTo>
                  <a:pt x="27" y="22"/>
                  <a:pt x="29" y="23"/>
                  <a:pt x="29" y="25"/>
                </a:cubicBezTo>
                <a:cubicBezTo>
                  <a:pt x="29" y="27"/>
                  <a:pt x="27" y="29"/>
                  <a:pt x="26" y="2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81" name="稻壳儿小白白(http://dwz.cn/Wu2UP)"/>
          <p:cNvSpPr/>
          <p:nvPr/>
        </p:nvSpPr>
        <p:spPr>
          <a:xfrm>
            <a:off x="7932600" y="2254320"/>
            <a:ext cx="220680" cy="189000"/>
          </a:xfrm>
          <a:custGeom>
            <a:avLst/>
            <a:gdLst/>
            <a:ahLst/>
            <a:rect l="l" t="t" r="r" b="b"/>
            <a:pathLst>
              <a:path w="46" h="39">
                <a:moveTo>
                  <a:pt x="11" y="7"/>
                </a:moveTo>
                <a:cubicBezTo>
                  <a:pt x="2" y="12"/>
                  <a:pt x="3" y="21"/>
                  <a:pt x="3" y="24"/>
                </a:cubicBezTo>
                <a:cubicBezTo>
                  <a:pt x="15" y="10"/>
                  <a:pt x="32" y="11"/>
                  <a:pt x="32" y="11"/>
                </a:cubicBezTo>
                <a:cubicBezTo>
                  <a:pt x="32" y="11"/>
                  <a:pt x="7" y="19"/>
                  <a:pt x="0" y="36"/>
                </a:cubicBezTo>
                <a:cubicBezTo>
                  <a:pt x="0" y="37"/>
                  <a:pt x="3" y="39"/>
                  <a:pt x="4" y="37"/>
                </a:cubicBezTo>
                <a:cubicBezTo>
                  <a:pt x="6" y="33"/>
                  <a:pt x="9" y="29"/>
                  <a:pt x="9" y="29"/>
                </a:cubicBezTo>
                <a:cubicBezTo>
                  <a:pt x="13" y="31"/>
                  <a:pt x="21" y="33"/>
                  <a:pt x="27" y="29"/>
                </a:cubicBezTo>
                <a:cubicBezTo>
                  <a:pt x="34" y="24"/>
                  <a:pt x="33" y="12"/>
                  <a:pt x="44" y="7"/>
                </a:cubicBezTo>
                <a:cubicBezTo>
                  <a:pt x="46" y="5"/>
                  <a:pt x="23" y="0"/>
                  <a:pt x="11" y="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82" name="稻壳儿小白白(http://dwz.cn/Wu2UP)"/>
          <p:cNvSpPr/>
          <p:nvPr/>
        </p:nvSpPr>
        <p:spPr>
          <a:xfrm>
            <a:off x="5232240" y="2249640"/>
            <a:ext cx="203400" cy="207720"/>
          </a:xfrm>
          <a:custGeom>
            <a:avLst/>
            <a:gdLst/>
            <a:ahLst/>
            <a:rect l="l" t="t" r="r" b="b"/>
            <a:pathLst>
              <a:path w="42" h="43">
                <a:moveTo>
                  <a:pt x="24" y="32"/>
                </a:moveTo>
                <a:cubicBezTo>
                  <a:pt x="24" y="29"/>
                  <a:pt x="26" y="27"/>
                  <a:pt x="31" y="24"/>
                </a:cubicBezTo>
                <a:cubicBezTo>
                  <a:pt x="36" y="20"/>
                  <a:pt x="42" y="16"/>
                  <a:pt x="42" y="6"/>
                </a:cubicBezTo>
                <a:cubicBezTo>
                  <a:pt x="42" y="5"/>
                  <a:pt x="41" y="4"/>
                  <a:pt x="40" y="4"/>
                </a:cubicBezTo>
                <a:cubicBezTo>
                  <a:pt x="32" y="4"/>
                  <a:pt x="32" y="4"/>
                  <a:pt x="32" y="4"/>
                </a:cubicBezTo>
                <a:cubicBezTo>
                  <a:pt x="31" y="2"/>
                  <a:pt x="28" y="0"/>
                  <a:pt x="21" y="0"/>
                </a:cubicBezTo>
                <a:cubicBezTo>
                  <a:pt x="14" y="0"/>
                  <a:pt x="11" y="2"/>
                  <a:pt x="10" y="4"/>
                </a:cubicBezTo>
                <a:cubicBezTo>
                  <a:pt x="2" y="4"/>
                  <a:pt x="2" y="4"/>
                  <a:pt x="2" y="4"/>
                </a:cubicBezTo>
                <a:cubicBezTo>
                  <a:pt x="1" y="4"/>
                  <a:pt x="0" y="5"/>
                  <a:pt x="0" y="6"/>
                </a:cubicBezTo>
                <a:cubicBezTo>
                  <a:pt x="0" y="16"/>
                  <a:pt x="6" y="20"/>
                  <a:pt x="11" y="24"/>
                </a:cubicBezTo>
                <a:cubicBezTo>
                  <a:pt x="16" y="27"/>
                  <a:pt x="18" y="29"/>
                  <a:pt x="18" y="32"/>
                </a:cubicBezTo>
                <a:cubicBezTo>
                  <a:pt x="18" y="35"/>
                  <a:pt x="18" y="35"/>
                  <a:pt x="18" y="35"/>
                </a:cubicBezTo>
                <a:cubicBezTo>
                  <a:pt x="14" y="36"/>
                  <a:pt x="11" y="37"/>
                  <a:pt x="11" y="39"/>
                </a:cubicBezTo>
                <a:cubicBezTo>
                  <a:pt x="11" y="41"/>
                  <a:pt x="15" y="43"/>
                  <a:pt x="21" y="43"/>
                </a:cubicBezTo>
                <a:cubicBezTo>
                  <a:pt x="27" y="43"/>
                  <a:pt x="31" y="41"/>
                  <a:pt x="31" y="39"/>
                </a:cubicBezTo>
                <a:cubicBezTo>
                  <a:pt x="31" y="37"/>
                  <a:pt x="28" y="36"/>
                  <a:pt x="24" y="35"/>
                </a:cubicBezTo>
                <a:lnTo>
                  <a:pt x="24" y="32"/>
                </a:lnTo>
                <a:close/>
                <a:moveTo>
                  <a:pt x="30" y="20"/>
                </a:moveTo>
                <a:cubicBezTo>
                  <a:pt x="32" y="17"/>
                  <a:pt x="33" y="13"/>
                  <a:pt x="33" y="8"/>
                </a:cubicBezTo>
                <a:cubicBezTo>
                  <a:pt x="39" y="8"/>
                  <a:pt x="39" y="8"/>
                  <a:pt x="39" y="8"/>
                </a:cubicBezTo>
                <a:cubicBezTo>
                  <a:pt x="38" y="14"/>
                  <a:pt x="34" y="17"/>
                  <a:pt x="30" y="20"/>
                </a:cubicBezTo>
                <a:close/>
                <a:moveTo>
                  <a:pt x="21" y="3"/>
                </a:moveTo>
                <a:cubicBezTo>
                  <a:pt x="27" y="3"/>
                  <a:pt x="30" y="6"/>
                  <a:pt x="30" y="7"/>
                </a:cubicBezTo>
                <a:cubicBezTo>
                  <a:pt x="30" y="8"/>
                  <a:pt x="27" y="10"/>
                  <a:pt x="21" y="10"/>
                </a:cubicBezTo>
                <a:cubicBezTo>
                  <a:pt x="15" y="10"/>
                  <a:pt x="12" y="8"/>
                  <a:pt x="12" y="7"/>
                </a:cubicBezTo>
                <a:cubicBezTo>
                  <a:pt x="12" y="6"/>
                  <a:pt x="15" y="3"/>
                  <a:pt x="21" y="3"/>
                </a:cubicBezTo>
                <a:close/>
                <a:moveTo>
                  <a:pt x="3" y="8"/>
                </a:moveTo>
                <a:cubicBezTo>
                  <a:pt x="9" y="8"/>
                  <a:pt x="9" y="8"/>
                  <a:pt x="9" y="8"/>
                </a:cubicBezTo>
                <a:cubicBezTo>
                  <a:pt x="9" y="13"/>
                  <a:pt x="10" y="17"/>
                  <a:pt x="12" y="20"/>
                </a:cubicBezTo>
                <a:cubicBezTo>
                  <a:pt x="8" y="17"/>
                  <a:pt x="4" y="14"/>
                  <a:pt x="3" y="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83" name="稻壳儿小白白(http://dwz.cn/Wu2UP)"/>
          <p:cNvSpPr/>
          <p:nvPr/>
        </p:nvSpPr>
        <p:spPr>
          <a:xfrm>
            <a:off x="4772160" y="2700360"/>
            <a:ext cx="225360" cy="214200"/>
          </a:xfrm>
          <a:custGeom>
            <a:avLst/>
            <a:gdLst/>
            <a:ahLst/>
            <a:rect l="l" t="t" r="r" b="b"/>
            <a:pathLst>
              <a:path w="47" h="44">
                <a:moveTo>
                  <a:pt x="12" y="44"/>
                </a:moveTo>
                <a:cubicBezTo>
                  <a:pt x="17" y="44"/>
                  <a:pt x="17" y="44"/>
                  <a:pt x="17" y="44"/>
                </a:cubicBezTo>
                <a:cubicBezTo>
                  <a:pt x="27" y="25"/>
                  <a:pt x="27" y="25"/>
                  <a:pt x="27" y="25"/>
                </a:cubicBezTo>
                <a:cubicBezTo>
                  <a:pt x="40" y="25"/>
                  <a:pt x="40" y="25"/>
                  <a:pt x="40" y="25"/>
                </a:cubicBezTo>
                <a:cubicBezTo>
                  <a:pt x="40" y="25"/>
                  <a:pt x="47" y="25"/>
                  <a:pt x="47" y="22"/>
                </a:cubicBezTo>
                <a:cubicBezTo>
                  <a:pt x="47" y="18"/>
                  <a:pt x="40" y="18"/>
                  <a:pt x="40" y="18"/>
                </a:cubicBezTo>
                <a:cubicBezTo>
                  <a:pt x="27" y="18"/>
                  <a:pt x="27" y="18"/>
                  <a:pt x="27" y="18"/>
                </a:cubicBezTo>
                <a:cubicBezTo>
                  <a:pt x="17" y="0"/>
                  <a:pt x="17" y="0"/>
                  <a:pt x="17" y="0"/>
                </a:cubicBezTo>
                <a:cubicBezTo>
                  <a:pt x="12" y="0"/>
                  <a:pt x="12" y="0"/>
                  <a:pt x="12" y="0"/>
                </a:cubicBezTo>
                <a:cubicBezTo>
                  <a:pt x="18" y="18"/>
                  <a:pt x="18" y="18"/>
                  <a:pt x="18" y="18"/>
                </a:cubicBezTo>
                <a:cubicBezTo>
                  <a:pt x="10" y="18"/>
                  <a:pt x="10" y="18"/>
                  <a:pt x="10" y="18"/>
                </a:cubicBezTo>
                <a:cubicBezTo>
                  <a:pt x="4" y="14"/>
                  <a:pt x="4" y="14"/>
                  <a:pt x="4" y="14"/>
                </a:cubicBezTo>
                <a:cubicBezTo>
                  <a:pt x="0" y="14"/>
                  <a:pt x="0" y="14"/>
                  <a:pt x="0" y="14"/>
                </a:cubicBezTo>
                <a:cubicBezTo>
                  <a:pt x="3" y="22"/>
                  <a:pt x="3" y="22"/>
                  <a:pt x="3" y="22"/>
                </a:cubicBezTo>
                <a:cubicBezTo>
                  <a:pt x="0" y="30"/>
                  <a:pt x="0" y="30"/>
                  <a:pt x="0" y="30"/>
                </a:cubicBezTo>
                <a:cubicBezTo>
                  <a:pt x="4" y="30"/>
                  <a:pt x="4" y="30"/>
                  <a:pt x="4" y="30"/>
                </a:cubicBezTo>
                <a:cubicBezTo>
                  <a:pt x="10" y="25"/>
                  <a:pt x="10" y="25"/>
                  <a:pt x="10" y="25"/>
                </a:cubicBezTo>
                <a:cubicBezTo>
                  <a:pt x="18" y="25"/>
                  <a:pt x="18" y="25"/>
                  <a:pt x="18" y="25"/>
                </a:cubicBezTo>
                <a:lnTo>
                  <a:pt x="12" y="4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84" name="稻壳儿小白白(http://dwz.cn/Wu2UP)"/>
          <p:cNvSpPr/>
          <p:nvPr/>
        </p:nvSpPr>
        <p:spPr>
          <a:xfrm>
            <a:off x="6132600" y="2700360"/>
            <a:ext cx="204840" cy="208080"/>
          </a:xfrm>
          <a:custGeom>
            <a:avLst/>
            <a:gdLst/>
            <a:ahLst/>
            <a:rect l="l" t="t" r="r" b="b"/>
            <a:pathLst>
              <a:path w="43" h="43">
                <a:moveTo>
                  <a:pt x="22" y="0"/>
                </a:moveTo>
                <a:cubicBezTo>
                  <a:pt x="10" y="0"/>
                  <a:pt x="0" y="10"/>
                  <a:pt x="0" y="22"/>
                </a:cubicBezTo>
                <a:cubicBezTo>
                  <a:pt x="0" y="34"/>
                  <a:pt x="10" y="43"/>
                  <a:pt x="22" y="43"/>
                </a:cubicBezTo>
                <a:cubicBezTo>
                  <a:pt x="34" y="43"/>
                  <a:pt x="43" y="34"/>
                  <a:pt x="43" y="22"/>
                </a:cubicBezTo>
                <a:cubicBezTo>
                  <a:pt x="43" y="10"/>
                  <a:pt x="34" y="0"/>
                  <a:pt x="22" y="0"/>
                </a:cubicBezTo>
                <a:close/>
                <a:moveTo>
                  <a:pt x="22" y="38"/>
                </a:moveTo>
                <a:cubicBezTo>
                  <a:pt x="12" y="38"/>
                  <a:pt x="5" y="31"/>
                  <a:pt x="5" y="22"/>
                </a:cubicBezTo>
                <a:cubicBezTo>
                  <a:pt x="5" y="12"/>
                  <a:pt x="12" y="5"/>
                  <a:pt x="22" y="5"/>
                </a:cubicBezTo>
                <a:cubicBezTo>
                  <a:pt x="31" y="5"/>
                  <a:pt x="39" y="12"/>
                  <a:pt x="39" y="22"/>
                </a:cubicBezTo>
                <a:cubicBezTo>
                  <a:pt x="39" y="31"/>
                  <a:pt x="31" y="38"/>
                  <a:pt x="22" y="3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85" name="稻壳儿小白白(http://dwz.cn/Wu2UP)"/>
          <p:cNvSpPr/>
          <p:nvPr/>
        </p:nvSpPr>
        <p:spPr>
          <a:xfrm>
            <a:off x="6227640" y="2746440"/>
            <a:ext cx="49320" cy="98280"/>
          </a:xfrm>
          <a:custGeom>
            <a:avLst/>
            <a:gdLst/>
            <a:ahLst/>
            <a:rect l="l" t="t" r="r" b="b"/>
            <a:pathLst>
              <a:path w="24" h="49">
                <a:moveTo>
                  <a:pt x="7" y="0"/>
                </a:moveTo>
                <a:lnTo>
                  <a:pt x="0" y="0"/>
                </a:lnTo>
                <a:lnTo>
                  <a:pt x="0" y="30"/>
                </a:lnTo>
                <a:lnTo>
                  <a:pt x="19" y="49"/>
                </a:lnTo>
                <a:lnTo>
                  <a:pt x="24" y="45"/>
                </a:lnTo>
                <a:lnTo>
                  <a:pt x="7" y="28"/>
                </a:lnTo>
                <a:lnTo>
                  <a:pt x="7" y="0"/>
                </a:lnTo>
                <a:close/>
              </a:path>
            </a:pathLst>
          </a:custGeom>
          <a:solidFill>
            <a:srgbClr val="ffffff"/>
          </a:solidFill>
          <a:ln w="0">
            <a:noFill/>
          </a:ln>
        </p:spPr>
        <p:style>
          <a:lnRef idx="0"/>
          <a:fillRef idx="0"/>
          <a:effectRef idx="0"/>
          <a:fontRef idx="minor"/>
        </p:style>
        <p:txBody>
          <a:bodyPr lIns="121680" rIns="121680" tIns="37440" bIns="37440" anchor="t">
            <a:noAutofit/>
          </a:bodyPr>
          <a:p>
            <a:endParaRPr b="0" lang="en-US" sz="1800" spc="-1" strike="noStrike">
              <a:solidFill>
                <a:srgbClr val="000000"/>
              </a:solidFill>
              <a:latin typeface="Arial"/>
            </a:endParaRPr>
          </a:p>
        </p:txBody>
      </p:sp>
      <p:sp>
        <p:nvSpPr>
          <p:cNvPr id="986" name="稻壳儿小白白(http://dwz.cn/Wu2UP)"/>
          <p:cNvSpPr/>
          <p:nvPr/>
        </p:nvSpPr>
        <p:spPr>
          <a:xfrm>
            <a:off x="7058160" y="4529160"/>
            <a:ext cx="155520" cy="158760"/>
          </a:xfrm>
          <a:custGeom>
            <a:avLst/>
            <a:gdLst/>
            <a:ahLst/>
            <a:rect l="l" t="t" r="r" b="b"/>
            <a:pathLst>
              <a:path w="32" h="33">
                <a:moveTo>
                  <a:pt x="12" y="33"/>
                </a:moveTo>
                <a:cubicBezTo>
                  <a:pt x="11" y="33"/>
                  <a:pt x="10" y="33"/>
                  <a:pt x="10" y="32"/>
                </a:cubicBezTo>
                <a:cubicBezTo>
                  <a:pt x="1" y="21"/>
                  <a:pt x="1" y="21"/>
                  <a:pt x="1" y="21"/>
                </a:cubicBezTo>
                <a:cubicBezTo>
                  <a:pt x="0" y="20"/>
                  <a:pt x="1" y="18"/>
                  <a:pt x="2" y="16"/>
                </a:cubicBezTo>
                <a:cubicBezTo>
                  <a:pt x="3" y="15"/>
                  <a:pt x="6" y="16"/>
                  <a:pt x="7" y="17"/>
                </a:cubicBezTo>
                <a:cubicBezTo>
                  <a:pt x="12" y="24"/>
                  <a:pt x="12" y="24"/>
                  <a:pt x="12" y="24"/>
                </a:cubicBezTo>
                <a:cubicBezTo>
                  <a:pt x="26" y="2"/>
                  <a:pt x="26" y="2"/>
                  <a:pt x="26" y="2"/>
                </a:cubicBezTo>
                <a:cubicBezTo>
                  <a:pt x="27" y="1"/>
                  <a:pt x="29" y="0"/>
                  <a:pt x="30" y="1"/>
                </a:cubicBezTo>
                <a:cubicBezTo>
                  <a:pt x="32" y="2"/>
                  <a:pt x="32" y="4"/>
                  <a:pt x="32" y="6"/>
                </a:cubicBezTo>
                <a:cubicBezTo>
                  <a:pt x="15" y="32"/>
                  <a:pt x="15" y="32"/>
                  <a:pt x="15" y="32"/>
                </a:cubicBezTo>
                <a:cubicBezTo>
                  <a:pt x="15" y="33"/>
                  <a:pt x="14" y="33"/>
                  <a:pt x="13" y="33"/>
                </a:cubicBezTo>
                <a:cubicBezTo>
                  <a:pt x="12" y="33"/>
                  <a:pt x="12" y="33"/>
                  <a:pt x="12" y="3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87" name="稻壳儿小白白(http://dwz.cn/Wu2UP)"/>
          <p:cNvSpPr/>
          <p:nvPr/>
        </p:nvSpPr>
        <p:spPr>
          <a:xfrm>
            <a:off x="10229760" y="2692440"/>
            <a:ext cx="123840" cy="225360"/>
          </a:xfrm>
          <a:custGeom>
            <a:avLst/>
            <a:gdLst/>
            <a:ahLst/>
            <a:rect l="l" t="t" r="r" b="b"/>
            <a:pathLst>
              <a:path w="26" h="47">
                <a:moveTo>
                  <a:pt x="26" y="11"/>
                </a:moveTo>
                <a:cubicBezTo>
                  <a:pt x="26" y="6"/>
                  <a:pt x="26" y="5"/>
                  <a:pt x="26" y="5"/>
                </a:cubicBezTo>
                <a:cubicBezTo>
                  <a:pt x="26" y="4"/>
                  <a:pt x="21" y="0"/>
                  <a:pt x="13" y="0"/>
                </a:cubicBezTo>
                <a:cubicBezTo>
                  <a:pt x="6" y="0"/>
                  <a:pt x="0" y="4"/>
                  <a:pt x="0" y="5"/>
                </a:cubicBezTo>
                <a:cubicBezTo>
                  <a:pt x="0" y="5"/>
                  <a:pt x="0" y="6"/>
                  <a:pt x="0" y="11"/>
                </a:cubicBezTo>
                <a:cubicBezTo>
                  <a:pt x="0" y="16"/>
                  <a:pt x="9" y="20"/>
                  <a:pt x="9" y="24"/>
                </a:cubicBezTo>
                <a:cubicBezTo>
                  <a:pt x="9" y="27"/>
                  <a:pt x="0" y="31"/>
                  <a:pt x="0" y="36"/>
                </a:cubicBezTo>
                <a:cubicBezTo>
                  <a:pt x="0" y="41"/>
                  <a:pt x="0" y="42"/>
                  <a:pt x="0" y="42"/>
                </a:cubicBezTo>
                <a:cubicBezTo>
                  <a:pt x="0" y="44"/>
                  <a:pt x="6" y="47"/>
                  <a:pt x="13" y="47"/>
                </a:cubicBezTo>
                <a:cubicBezTo>
                  <a:pt x="21" y="47"/>
                  <a:pt x="26" y="44"/>
                  <a:pt x="26" y="42"/>
                </a:cubicBezTo>
                <a:cubicBezTo>
                  <a:pt x="26" y="42"/>
                  <a:pt x="26" y="41"/>
                  <a:pt x="26" y="36"/>
                </a:cubicBezTo>
                <a:cubicBezTo>
                  <a:pt x="26" y="31"/>
                  <a:pt x="17" y="27"/>
                  <a:pt x="17" y="24"/>
                </a:cubicBezTo>
                <a:cubicBezTo>
                  <a:pt x="17" y="20"/>
                  <a:pt x="26" y="16"/>
                  <a:pt x="26" y="11"/>
                </a:cubicBezTo>
                <a:close/>
                <a:moveTo>
                  <a:pt x="4" y="6"/>
                </a:moveTo>
                <a:cubicBezTo>
                  <a:pt x="5" y="5"/>
                  <a:pt x="9" y="3"/>
                  <a:pt x="13" y="3"/>
                </a:cubicBezTo>
                <a:cubicBezTo>
                  <a:pt x="18" y="3"/>
                  <a:pt x="23" y="6"/>
                  <a:pt x="23" y="6"/>
                </a:cubicBezTo>
                <a:cubicBezTo>
                  <a:pt x="23" y="6"/>
                  <a:pt x="25" y="6"/>
                  <a:pt x="24" y="7"/>
                </a:cubicBezTo>
                <a:cubicBezTo>
                  <a:pt x="22" y="8"/>
                  <a:pt x="18" y="9"/>
                  <a:pt x="13" y="9"/>
                </a:cubicBezTo>
                <a:cubicBezTo>
                  <a:pt x="9" y="9"/>
                  <a:pt x="5" y="8"/>
                  <a:pt x="3" y="7"/>
                </a:cubicBezTo>
                <a:cubicBezTo>
                  <a:pt x="2" y="6"/>
                  <a:pt x="4" y="6"/>
                  <a:pt x="4" y="6"/>
                </a:cubicBezTo>
                <a:close/>
                <a:moveTo>
                  <a:pt x="15" y="24"/>
                </a:moveTo>
                <a:cubicBezTo>
                  <a:pt x="15" y="26"/>
                  <a:pt x="17" y="28"/>
                  <a:pt x="19" y="31"/>
                </a:cubicBezTo>
                <a:cubicBezTo>
                  <a:pt x="21" y="32"/>
                  <a:pt x="24" y="35"/>
                  <a:pt x="24" y="36"/>
                </a:cubicBezTo>
                <a:cubicBezTo>
                  <a:pt x="24" y="39"/>
                  <a:pt x="24" y="39"/>
                  <a:pt x="24" y="39"/>
                </a:cubicBezTo>
                <a:cubicBezTo>
                  <a:pt x="21" y="38"/>
                  <a:pt x="15" y="37"/>
                  <a:pt x="15" y="34"/>
                </a:cubicBezTo>
                <a:cubicBezTo>
                  <a:pt x="15" y="32"/>
                  <a:pt x="12" y="32"/>
                  <a:pt x="12" y="34"/>
                </a:cubicBezTo>
                <a:cubicBezTo>
                  <a:pt x="12" y="37"/>
                  <a:pt x="5" y="38"/>
                  <a:pt x="3" y="39"/>
                </a:cubicBezTo>
                <a:cubicBezTo>
                  <a:pt x="3" y="36"/>
                  <a:pt x="3" y="36"/>
                  <a:pt x="3" y="36"/>
                </a:cubicBezTo>
                <a:cubicBezTo>
                  <a:pt x="3" y="35"/>
                  <a:pt x="6" y="32"/>
                  <a:pt x="7" y="31"/>
                </a:cubicBezTo>
                <a:cubicBezTo>
                  <a:pt x="10" y="28"/>
                  <a:pt x="12" y="26"/>
                  <a:pt x="12" y="24"/>
                </a:cubicBezTo>
                <a:cubicBezTo>
                  <a:pt x="12" y="21"/>
                  <a:pt x="10" y="19"/>
                  <a:pt x="7" y="17"/>
                </a:cubicBezTo>
                <a:cubicBezTo>
                  <a:pt x="6" y="15"/>
                  <a:pt x="3" y="12"/>
                  <a:pt x="3" y="11"/>
                </a:cubicBezTo>
                <a:cubicBezTo>
                  <a:pt x="3" y="9"/>
                  <a:pt x="3" y="9"/>
                  <a:pt x="3" y="9"/>
                </a:cubicBezTo>
                <a:cubicBezTo>
                  <a:pt x="5" y="10"/>
                  <a:pt x="9" y="11"/>
                  <a:pt x="13" y="11"/>
                </a:cubicBezTo>
                <a:cubicBezTo>
                  <a:pt x="18" y="11"/>
                  <a:pt x="21" y="10"/>
                  <a:pt x="24" y="9"/>
                </a:cubicBezTo>
                <a:cubicBezTo>
                  <a:pt x="24" y="11"/>
                  <a:pt x="24" y="11"/>
                  <a:pt x="24" y="11"/>
                </a:cubicBezTo>
                <a:cubicBezTo>
                  <a:pt x="24" y="12"/>
                  <a:pt x="21" y="15"/>
                  <a:pt x="19" y="17"/>
                </a:cubicBezTo>
                <a:cubicBezTo>
                  <a:pt x="17" y="19"/>
                  <a:pt x="15" y="21"/>
                  <a:pt x="15" y="2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88" name="稻壳儿小白白(http://dwz.cn/Wu2UP)"/>
          <p:cNvSpPr/>
          <p:nvPr/>
        </p:nvSpPr>
        <p:spPr>
          <a:xfrm>
            <a:off x="4805280" y="4514760"/>
            <a:ext cx="158760" cy="193680"/>
          </a:xfrm>
          <a:custGeom>
            <a:avLst/>
            <a:gdLst/>
            <a:ahLst/>
            <a:rect l="l" t="t" r="r" b="b"/>
            <a:pathLst>
              <a:path w="33" h="40">
                <a:moveTo>
                  <a:pt x="30" y="14"/>
                </a:moveTo>
                <a:cubicBezTo>
                  <a:pt x="26" y="14"/>
                  <a:pt x="26" y="14"/>
                  <a:pt x="26" y="14"/>
                </a:cubicBezTo>
                <a:cubicBezTo>
                  <a:pt x="26" y="11"/>
                  <a:pt x="26" y="11"/>
                  <a:pt x="26" y="11"/>
                </a:cubicBezTo>
                <a:cubicBezTo>
                  <a:pt x="26" y="4"/>
                  <a:pt x="22" y="0"/>
                  <a:pt x="16" y="0"/>
                </a:cubicBezTo>
                <a:cubicBezTo>
                  <a:pt x="10" y="0"/>
                  <a:pt x="7" y="4"/>
                  <a:pt x="7" y="11"/>
                </a:cubicBezTo>
                <a:cubicBezTo>
                  <a:pt x="7" y="14"/>
                  <a:pt x="7" y="14"/>
                  <a:pt x="7" y="14"/>
                </a:cubicBezTo>
                <a:cubicBezTo>
                  <a:pt x="2" y="14"/>
                  <a:pt x="2" y="14"/>
                  <a:pt x="2" y="14"/>
                </a:cubicBezTo>
                <a:cubicBezTo>
                  <a:pt x="1" y="14"/>
                  <a:pt x="0" y="16"/>
                  <a:pt x="0" y="17"/>
                </a:cubicBezTo>
                <a:cubicBezTo>
                  <a:pt x="0" y="35"/>
                  <a:pt x="0" y="35"/>
                  <a:pt x="0" y="35"/>
                </a:cubicBezTo>
                <a:cubicBezTo>
                  <a:pt x="0" y="37"/>
                  <a:pt x="1" y="38"/>
                  <a:pt x="2" y="38"/>
                </a:cubicBezTo>
                <a:cubicBezTo>
                  <a:pt x="5" y="39"/>
                  <a:pt x="5" y="39"/>
                  <a:pt x="5" y="39"/>
                </a:cubicBezTo>
                <a:cubicBezTo>
                  <a:pt x="6" y="40"/>
                  <a:pt x="8" y="40"/>
                  <a:pt x="9" y="40"/>
                </a:cubicBezTo>
                <a:cubicBezTo>
                  <a:pt x="23" y="40"/>
                  <a:pt x="23" y="40"/>
                  <a:pt x="23" y="40"/>
                </a:cubicBezTo>
                <a:cubicBezTo>
                  <a:pt x="24" y="40"/>
                  <a:pt x="26" y="40"/>
                  <a:pt x="28" y="39"/>
                </a:cubicBezTo>
                <a:cubicBezTo>
                  <a:pt x="30" y="38"/>
                  <a:pt x="30" y="38"/>
                  <a:pt x="30" y="38"/>
                </a:cubicBezTo>
                <a:cubicBezTo>
                  <a:pt x="32" y="38"/>
                  <a:pt x="33" y="37"/>
                  <a:pt x="33" y="35"/>
                </a:cubicBezTo>
                <a:cubicBezTo>
                  <a:pt x="33" y="17"/>
                  <a:pt x="33" y="17"/>
                  <a:pt x="33" y="17"/>
                </a:cubicBezTo>
                <a:cubicBezTo>
                  <a:pt x="33" y="16"/>
                  <a:pt x="31" y="14"/>
                  <a:pt x="30" y="14"/>
                </a:cubicBezTo>
                <a:close/>
                <a:moveTo>
                  <a:pt x="11" y="10"/>
                </a:moveTo>
                <a:cubicBezTo>
                  <a:pt x="11" y="7"/>
                  <a:pt x="13" y="5"/>
                  <a:pt x="16" y="5"/>
                </a:cubicBezTo>
                <a:cubicBezTo>
                  <a:pt x="19" y="5"/>
                  <a:pt x="21" y="7"/>
                  <a:pt x="21" y="10"/>
                </a:cubicBezTo>
                <a:cubicBezTo>
                  <a:pt x="21" y="14"/>
                  <a:pt x="21" y="14"/>
                  <a:pt x="21" y="14"/>
                </a:cubicBezTo>
                <a:cubicBezTo>
                  <a:pt x="11" y="14"/>
                  <a:pt x="11" y="14"/>
                  <a:pt x="11" y="14"/>
                </a:cubicBezTo>
                <a:lnTo>
                  <a:pt x="11" y="1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89" name="稻壳儿小白白(http://dwz.cn/Wu2UP)"/>
          <p:cNvSpPr/>
          <p:nvPr/>
        </p:nvSpPr>
        <p:spPr>
          <a:xfrm>
            <a:off x="6576840" y="4054320"/>
            <a:ext cx="222480" cy="196920"/>
          </a:xfrm>
          <a:custGeom>
            <a:avLst/>
            <a:gdLst/>
            <a:ahLst/>
            <a:rect l="l" t="t" r="r" b="b"/>
            <a:pathLst>
              <a:path w="46" h="41">
                <a:moveTo>
                  <a:pt x="23" y="32"/>
                </a:moveTo>
                <a:cubicBezTo>
                  <a:pt x="20" y="32"/>
                  <a:pt x="18" y="34"/>
                  <a:pt x="18" y="36"/>
                </a:cubicBezTo>
                <a:cubicBezTo>
                  <a:pt x="18" y="39"/>
                  <a:pt x="20" y="41"/>
                  <a:pt x="23" y="41"/>
                </a:cubicBezTo>
                <a:cubicBezTo>
                  <a:pt x="25" y="41"/>
                  <a:pt x="27" y="39"/>
                  <a:pt x="27" y="36"/>
                </a:cubicBezTo>
                <a:cubicBezTo>
                  <a:pt x="27" y="34"/>
                  <a:pt x="25" y="32"/>
                  <a:pt x="23" y="32"/>
                </a:cubicBezTo>
                <a:close/>
                <a:moveTo>
                  <a:pt x="13" y="26"/>
                </a:moveTo>
                <a:cubicBezTo>
                  <a:pt x="16" y="30"/>
                  <a:pt x="16" y="30"/>
                  <a:pt x="16" y="30"/>
                </a:cubicBezTo>
                <a:cubicBezTo>
                  <a:pt x="20" y="26"/>
                  <a:pt x="25" y="26"/>
                  <a:pt x="29" y="30"/>
                </a:cubicBezTo>
                <a:cubicBezTo>
                  <a:pt x="32" y="26"/>
                  <a:pt x="32" y="26"/>
                  <a:pt x="32" y="26"/>
                </a:cubicBezTo>
                <a:cubicBezTo>
                  <a:pt x="27" y="21"/>
                  <a:pt x="18" y="21"/>
                  <a:pt x="13" y="26"/>
                </a:cubicBezTo>
                <a:close/>
                <a:moveTo>
                  <a:pt x="6" y="20"/>
                </a:moveTo>
                <a:cubicBezTo>
                  <a:pt x="9" y="23"/>
                  <a:pt x="9" y="23"/>
                  <a:pt x="9" y="23"/>
                </a:cubicBezTo>
                <a:cubicBezTo>
                  <a:pt x="17" y="16"/>
                  <a:pt x="28" y="16"/>
                  <a:pt x="36" y="23"/>
                </a:cubicBezTo>
                <a:cubicBezTo>
                  <a:pt x="39" y="20"/>
                  <a:pt x="39" y="20"/>
                  <a:pt x="39" y="20"/>
                </a:cubicBezTo>
                <a:cubicBezTo>
                  <a:pt x="30" y="10"/>
                  <a:pt x="15" y="10"/>
                  <a:pt x="6" y="20"/>
                </a:cubicBezTo>
                <a:close/>
                <a:moveTo>
                  <a:pt x="0" y="13"/>
                </a:moveTo>
                <a:cubicBezTo>
                  <a:pt x="3" y="16"/>
                  <a:pt x="3" y="16"/>
                  <a:pt x="3" y="16"/>
                </a:cubicBezTo>
                <a:cubicBezTo>
                  <a:pt x="14" y="5"/>
                  <a:pt x="31" y="5"/>
                  <a:pt x="42" y="16"/>
                </a:cubicBezTo>
                <a:cubicBezTo>
                  <a:pt x="46" y="13"/>
                  <a:pt x="46" y="13"/>
                  <a:pt x="46" y="13"/>
                </a:cubicBezTo>
                <a:cubicBezTo>
                  <a:pt x="33" y="0"/>
                  <a:pt x="12" y="0"/>
                  <a:pt x="0" y="1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90" name="稻壳儿小白白(http://dwz.cn/Wu2UP)"/>
          <p:cNvSpPr/>
          <p:nvPr/>
        </p:nvSpPr>
        <p:spPr>
          <a:xfrm>
            <a:off x="7534440" y="4552920"/>
            <a:ext cx="109440" cy="115920"/>
          </a:xfrm>
          <a:custGeom>
            <a:avLst/>
            <a:gdLst/>
            <a:ahLst/>
            <a:rect l="l" t="t" r="r" b="b"/>
            <a:pathLst>
              <a:path w="23" h="24">
                <a:moveTo>
                  <a:pt x="21" y="19"/>
                </a:moveTo>
                <a:cubicBezTo>
                  <a:pt x="15" y="12"/>
                  <a:pt x="15" y="12"/>
                  <a:pt x="15" y="12"/>
                </a:cubicBezTo>
                <a:cubicBezTo>
                  <a:pt x="21" y="5"/>
                  <a:pt x="21" y="5"/>
                  <a:pt x="21" y="5"/>
                </a:cubicBezTo>
                <a:cubicBezTo>
                  <a:pt x="23" y="4"/>
                  <a:pt x="23" y="2"/>
                  <a:pt x="21" y="1"/>
                </a:cubicBezTo>
                <a:cubicBezTo>
                  <a:pt x="20" y="0"/>
                  <a:pt x="19" y="0"/>
                  <a:pt x="17" y="1"/>
                </a:cubicBezTo>
                <a:cubicBezTo>
                  <a:pt x="11" y="8"/>
                  <a:pt x="11" y="8"/>
                  <a:pt x="11" y="8"/>
                </a:cubicBezTo>
                <a:cubicBezTo>
                  <a:pt x="5" y="1"/>
                  <a:pt x="5" y="1"/>
                  <a:pt x="5" y="1"/>
                </a:cubicBezTo>
                <a:cubicBezTo>
                  <a:pt x="4" y="0"/>
                  <a:pt x="2" y="0"/>
                  <a:pt x="1" y="1"/>
                </a:cubicBezTo>
                <a:cubicBezTo>
                  <a:pt x="0" y="2"/>
                  <a:pt x="0" y="4"/>
                  <a:pt x="1" y="5"/>
                </a:cubicBezTo>
                <a:cubicBezTo>
                  <a:pt x="7" y="12"/>
                  <a:pt x="7" y="12"/>
                  <a:pt x="7" y="12"/>
                </a:cubicBezTo>
                <a:cubicBezTo>
                  <a:pt x="1" y="19"/>
                  <a:pt x="1" y="19"/>
                  <a:pt x="1" y="19"/>
                </a:cubicBezTo>
                <a:cubicBezTo>
                  <a:pt x="0" y="20"/>
                  <a:pt x="0" y="22"/>
                  <a:pt x="1" y="23"/>
                </a:cubicBezTo>
                <a:cubicBezTo>
                  <a:pt x="2" y="24"/>
                  <a:pt x="4" y="24"/>
                  <a:pt x="5" y="23"/>
                </a:cubicBezTo>
                <a:cubicBezTo>
                  <a:pt x="11" y="16"/>
                  <a:pt x="11" y="16"/>
                  <a:pt x="11" y="16"/>
                </a:cubicBezTo>
                <a:cubicBezTo>
                  <a:pt x="17" y="23"/>
                  <a:pt x="17" y="23"/>
                  <a:pt x="17" y="23"/>
                </a:cubicBezTo>
                <a:cubicBezTo>
                  <a:pt x="19" y="24"/>
                  <a:pt x="20" y="24"/>
                  <a:pt x="21" y="23"/>
                </a:cubicBezTo>
                <a:cubicBezTo>
                  <a:pt x="23" y="22"/>
                  <a:pt x="23" y="20"/>
                  <a:pt x="21" y="19"/>
                </a:cubicBezTo>
                <a:close/>
              </a:path>
            </a:pathLst>
          </a:custGeom>
          <a:solidFill>
            <a:srgbClr val="ffffff"/>
          </a:solidFill>
          <a:ln w="0">
            <a:noFill/>
          </a:ln>
        </p:spPr>
        <p:style>
          <a:lnRef idx="0"/>
          <a:fillRef idx="0"/>
          <a:effectRef idx="0"/>
          <a:fontRef idx="minor"/>
        </p:style>
        <p:txBody>
          <a:bodyPr lIns="121680" rIns="121680" tIns="55080" bIns="55080" anchor="t">
            <a:noAutofit/>
          </a:bodyPr>
          <a:p>
            <a:endParaRPr b="0" lang="en-US" sz="1800" spc="-1" strike="noStrike">
              <a:solidFill>
                <a:srgbClr val="000000"/>
              </a:solidFill>
              <a:latin typeface="Arial"/>
            </a:endParaRPr>
          </a:p>
        </p:txBody>
      </p:sp>
      <p:sp>
        <p:nvSpPr>
          <p:cNvPr id="991" name="稻壳儿小白白(http://dwz.cn/Wu2UP)"/>
          <p:cNvSpPr/>
          <p:nvPr/>
        </p:nvSpPr>
        <p:spPr>
          <a:xfrm>
            <a:off x="7537320" y="2700360"/>
            <a:ext cx="98640" cy="208080"/>
          </a:xfrm>
          <a:custGeom>
            <a:avLst/>
            <a:gdLst/>
            <a:ahLst/>
            <a:rect l="l" t="t" r="r" b="b"/>
            <a:pathLst>
              <a:path w="20" h="43">
                <a:moveTo>
                  <a:pt x="3" y="43"/>
                </a:moveTo>
                <a:cubicBezTo>
                  <a:pt x="2" y="42"/>
                  <a:pt x="10" y="26"/>
                  <a:pt x="10" y="25"/>
                </a:cubicBezTo>
                <a:cubicBezTo>
                  <a:pt x="10" y="24"/>
                  <a:pt x="1" y="22"/>
                  <a:pt x="1" y="21"/>
                </a:cubicBezTo>
                <a:cubicBezTo>
                  <a:pt x="0" y="19"/>
                  <a:pt x="17" y="0"/>
                  <a:pt x="18" y="0"/>
                </a:cubicBezTo>
                <a:cubicBezTo>
                  <a:pt x="18" y="1"/>
                  <a:pt x="10" y="17"/>
                  <a:pt x="11" y="18"/>
                </a:cubicBezTo>
                <a:cubicBezTo>
                  <a:pt x="11" y="19"/>
                  <a:pt x="19" y="21"/>
                  <a:pt x="20" y="23"/>
                </a:cubicBezTo>
                <a:cubicBezTo>
                  <a:pt x="20" y="24"/>
                  <a:pt x="3" y="43"/>
                  <a:pt x="3" y="4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92" name="稻壳儿小白白(http://dwz.cn/Wu2UP)"/>
          <p:cNvSpPr/>
          <p:nvPr/>
        </p:nvSpPr>
        <p:spPr>
          <a:xfrm>
            <a:off x="7034040" y="2700360"/>
            <a:ext cx="201960" cy="208080"/>
          </a:xfrm>
          <a:custGeom>
            <a:avLst/>
            <a:gdLst/>
            <a:ahLst/>
            <a:rect l="l" t="t" r="r" b="b"/>
            <a:pathLst>
              <a:path w="42" h="43">
                <a:moveTo>
                  <a:pt x="38" y="5"/>
                </a:moveTo>
                <a:cubicBezTo>
                  <a:pt x="36" y="5"/>
                  <a:pt x="36" y="5"/>
                  <a:pt x="36" y="5"/>
                </a:cubicBezTo>
                <a:cubicBezTo>
                  <a:pt x="36" y="10"/>
                  <a:pt x="36" y="10"/>
                  <a:pt x="36" y="10"/>
                </a:cubicBezTo>
                <a:cubicBezTo>
                  <a:pt x="28" y="10"/>
                  <a:pt x="28" y="10"/>
                  <a:pt x="28" y="10"/>
                </a:cubicBezTo>
                <a:cubicBezTo>
                  <a:pt x="28" y="5"/>
                  <a:pt x="28" y="5"/>
                  <a:pt x="28" y="5"/>
                </a:cubicBezTo>
                <a:cubicBezTo>
                  <a:pt x="15" y="5"/>
                  <a:pt x="15" y="5"/>
                  <a:pt x="15" y="5"/>
                </a:cubicBezTo>
                <a:cubicBezTo>
                  <a:pt x="15" y="10"/>
                  <a:pt x="15" y="10"/>
                  <a:pt x="15" y="10"/>
                </a:cubicBezTo>
                <a:cubicBezTo>
                  <a:pt x="7" y="10"/>
                  <a:pt x="7" y="10"/>
                  <a:pt x="7" y="10"/>
                </a:cubicBezTo>
                <a:cubicBezTo>
                  <a:pt x="7" y="5"/>
                  <a:pt x="7" y="5"/>
                  <a:pt x="7" y="5"/>
                </a:cubicBezTo>
                <a:cubicBezTo>
                  <a:pt x="5" y="5"/>
                  <a:pt x="5" y="5"/>
                  <a:pt x="5" y="5"/>
                </a:cubicBezTo>
                <a:cubicBezTo>
                  <a:pt x="2" y="5"/>
                  <a:pt x="0" y="7"/>
                  <a:pt x="0" y="10"/>
                </a:cubicBezTo>
                <a:cubicBezTo>
                  <a:pt x="0" y="38"/>
                  <a:pt x="0" y="38"/>
                  <a:pt x="0" y="38"/>
                </a:cubicBezTo>
                <a:cubicBezTo>
                  <a:pt x="0" y="41"/>
                  <a:pt x="2" y="43"/>
                  <a:pt x="5" y="43"/>
                </a:cubicBezTo>
                <a:cubicBezTo>
                  <a:pt x="38" y="43"/>
                  <a:pt x="38" y="43"/>
                  <a:pt x="38" y="43"/>
                </a:cubicBezTo>
                <a:cubicBezTo>
                  <a:pt x="40" y="43"/>
                  <a:pt x="42" y="41"/>
                  <a:pt x="42" y="38"/>
                </a:cubicBezTo>
                <a:cubicBezTo>
                  <a:pt x="42" y="10"/>
                  <a:pt x="42" y="10"/>
                  <a:pt x="42" y="10"/>
                </a:cubicBezTo>
                <a:cubicBezTo>
                  <a:pt x="42" y="7"/>
                  <a:pt x="40" y="5"/>
                  <a:pt x="38" y="5"/>
                </a:cubicBezTo>
                <a:close/>
                <a:moveTo>
                  <a:pt x="38" y="38"/>
                </a:moveTo>
                <a:cubicBezTo>
                  <a:pt x="5" y="38"/>
                  <a:pt x="5" y="38"/>
                  <a:pt x="5" y="38"/>
                </a:cubicBezTo>
                <a:cubicBezTo>
                  <a:pt x="5" y="19"/>
                  <a:pt x="5" y="19"/>
                  <a:pt x="5" y="19"/>
                </a:cubicBezTo>
                <a:cubicBezTo>
                  <a:pt x="38" y="19"/>
                  <a:pt x="38" y="19"/>
                  <a:pt x="38" y="19"/>
                </a:cubicBezTo>
                <a:lnTo>
                  <a:pt x="38" y="38"/>
                </a:lnTo>
                <a:close/>
                <a:moveTo>
                  <a:pt x="12" y="0"/>
                </a:moveTo>
                <a:cubicBezTo>
                  <a:pt x="9" y="0"/>
                  <a:pt x="9" y="0"/>
                  <a:pt x="9" y="0"/>
                </a:cubicBezTo>
                <a:cubicBezTo>
                  <a:pt x="9" y="8"/>
                  <a:pt x="9" y="8"/>
                  <a:pt x="9" y="8"/>
                </a:cubicBezTo>
                <a:cubicBezTo>
                  <a:pt x="12" y="8"/>
                  <a:pt x="12" y="8"/>
                  <a:pt x="12" y="8"/>
                </a:cubicBezTo>
                <a:lnTo>
                  <a:pt x="12" y="0"/>
                </a:lnTo>
                <a:close/>
                <a:moveTo>
                  <a:pt x="34" y="0"/>
                </a:moveTo>
                <a:cubicBezTo>
                  <a:pt x="30" y="0"/>
                  <a:pt x="30" y="0"/>
                  <a:pt x="30" y="0"/>
                </a:cubicBezTo>
                <a:cubicBezTo>
                  <a:pt x="30" y="8"/>
                  <a:pt x="30" y="8"/>
                  <a:pt x="30" y="8"/>
                </a:cubicBezTo>
                <a:cubicBezTo>
                  <a:pt x="34" y="8"/>
                  <a:pt x="34" y="8"/>
                  <a:pt x="34" y="8"/>
                </a:cubicBezTo>
                <a:lnTo>
                  <a:pt x="34" y="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93" name="稻壳儿小白白(http://dwz.cn/Wu2UP)"/>
          <p:cNvSpPr/>
          <p:nvPr/>
        </p:nvSpPr>
        <p:spPr>
          <a:xfrm>
            <a:off x="6615000" y="2773440"/>
            <a:ext cx="144720" cy="144360"/>
          </a:xfrm>
          <a:custGeom>
            <a:avLst/>
            <a:gdLst/>
            <a:ahLst/>
            <a:rect l="l" t="t" r="r" b="b"/>
            <a:pathLst>
              <a:path w="30" h="30">
                <a:moveTo>
                  <a:pt x="29" y="0"/>
                </a:moveTo>
                <a:cubicBezTo>
                  <a:pt x="27" y="0"/>
                  <a:pt x="27" y="0"/>
                  <a:pt x="27" y="0"/>
                </a:cubicBezTo>
                <a:cubicBezTo>
                  <a:pt x="27" y="0"/>
                  <a:pt x="26" y="1"/>
                  <a:pt x="26" y="1"/>
                </a:cubicBezTo>
                <a:cubicBezTo>
                  <a:pt x="26" y="8"/>
                  <a:pt x="26" y="8"/>
                  <a:pt x="26" y="8"/>
                </a:cubicBezTo>
                <a:cubicBezTo>
                  <a:pt x="26" y="11"/>
                  <a:pt x="24" y="16"/>
                  <a:pt x="15" y="16"/>
                </a:cubicBezTo>
                <a:cubicBezTo>
                  <a:pt x="5" y="16"/>
                  <a:pt x="3" y="11"/>
                  <a:pt x="3" y="8"/>
                </a:cubicBezTo>
                <a:cubicBezTo>
                  <a:pt x="3" y="1"/>
                  <a:pt x="3" y="1"/>
                  <a:pt x="3" y="1"/>
                </a:cubicBezTo>
                <a:cubicBezTo>
                  <a:pt x="3" y="1"/>
                  <a:pt x="2" y="0"/>
                  <a:pt x="2" y="0"/>
                </a:cubicBezTo>
                <a:cubicBezTo>
                  <a:pt x="0" y="0"/>
                  <a:pt x="0" y="0"/>
                  <a:pt x="0" y="0"/>
                </a:cubicBezTo>
                <a:cubicBezTo>
                  <a:pt x="0" y="0"/>
                  <a:pt x="0" y="1"/>
                  <a:pt x="0" y="1"/>
                </a:cubicBezTo>
                <a:cubicBezTo>
                  <a:pt x="0" y="8"/>
                  <a:pt x="0" y="8"/>
                  <a:pt x="0" y="8"/>
                </a:cubicBezTo>
                <a:cubicBezTo>
                  <a:pt x="0" y="13"/>
                  <a:pt x="3" y="18"/>
                  <a:pt x="12" y="19"/>
                </a:cubicBezTo>
                <a:cubicBezTo>
                  <a:pt x="12" y="25"/>
                  <a:pt x="12" y="25"/>
                  <a:pt x="12" y="25"/>
                </a:cubicBezTo>
                <a:cubicBezTo>
                  <a:pt x="6" y="25"/>
                  <a:pt x="6" y="25"/>
                  <a:pt x="6" y="25"/>
                </a:cubicBezTo>
                <a:cubicBezTo>
                  <a:pt x="6" y="25"/>
                  <a:pt x="5" y="26"/>
                  <a:pt x="5" y="26"/>
                </a:cubicBezTo>
                <a:cubicBezTo>
                  <a:pt x="5" y="29"/>
                  <a:pt x="5" y="29"/>
                  <a:pt x="5" y="29"/>
                </a:cubicBezTo>
                <a:cubicBezTo>
                  <a:pt x="5" y="30"/>
                  <a:pt x="6" y="30"/>
                  <a:pt x="6" y="30"/>
                </a:cubicBezTo>
                <a:cubicBezTo>
                  <a:pt x="23" y="30"/>
                  <a:pt x="23" y="30"/>
                  <a:pt x="23" y="30"/>
                </a:cubicBezTo>
                <a:cubicBezTo>
                  <a:pt x="23" y="30"/>
                  <a:pt x="24" y="30"/>
                  <a:pt x="24" y="29"/>
                </a:cubicBezTo>
                <a:cubicBezTo>
                  <a:pt x="24" y="26"/>
                  <a:pt x="24" y="26"/>
                  <a:pt x="24" y="26"/>
                </a:cubicBezTo>
                <a:cubicBezTo>
                  <a:pt x="24" y="26"/>
                  <a:pt x="23" y="25"/>
                  <a:pt x="23" y="25"/>
                </a:cubicBezTo>
                <a:cubicBezTo>
                  <a:pt x="17" y="25"/>
                  <a:pt x="17" y="25"/>
                  <a:pt x="17" y="25"/>
                </a:cubicBezTo>
                <a:cubicBezTo>
                  <a:pt x="17" y="19"/>
                  <a:pt x="17" y="19"/>
                  <a:pt x="17" y="19"/>
                </a:cubicBezTo>
                <a:cubicBezTo>
                  <a:pt x="26" y="18"/>
                  <a:pt x="30" y="13"/>
                  <a:pt x="30" y="8"/>
                </a:cubicBezTo>
                <a:cubicBezTo>
                  <a:pt x="30" y="1"/>
                  <a:pt x="30" y="1"/>
                  <a:pt x="30" y="1"/>
                </a:cubicBezTo>
                <a:cubicBezTo>
                  <a:pt x="30" y="1"/>
                  <a:pt x="29" y="0"/>
                  <a:pt x="29" y="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94" name="稻壳儿小白白(http://dwz.cn/Wu2UP)"/>
          <p:cNvSpPr/>
          <p:nvPr/>
        </p:nvSpPr>
        <p:spPr>
          <a:xfrm>
            <a:off x="6649920" y="2773440"/>
            <a:ext cx="71640" cy="54000"/>
          </a:xfrm>
          <a:custGeom>
            <a:avLst/>
            <a:gdLst/>
            <a:ahLst/>
            <a:rect l="l" t="t" r="r" b="b"/>
            <a:pathLst>
              <a:path w="15" h="11">
                <a:moveTo>
                  <a:pt x="8" y="11"/>
                </a:moveTo>
                <a:cubicBezTo>
                  <a:pt x="13" y="11"/>
                  <a:pt x="15" y="9"/>
                  <a:pt x="15" y="8"/>
                </a:cubicBezTo>
                <a:cubicBezTo>
                  <a:pt x="15" y="0"/>
                  <a:pt x="15" y="0"/>
                  <a:pt x="15" y="0"/>
                </a:cubicBezTo>
                <a:cubicBezTo>
                  <a:pt x="0" y="0"/>
                  <a:pt x="0" y="0"/>
                  <a:pt x="0" y="0"/>
                </a:cubicBezTo>
                <a:cubicBezTo>
                  <a:pt x="0" y="8"/>
                  <a:pt x="0" y="8"/>
                  <a:pt x="0" y="8"/>
                </a:cubicBezTo>
                <a:cubicBezTo>
                  <a:pt x="0" y="9"/>
                  <a:pt x="2" y="11"/>
                  <a:pt x="8" y="11"/>
                </a:cubicBezTo>
                <a:close/>
              </a:path>
            </a:pathLst>
          </a:custGeom>
          <a:solidFill>
            <a:srgbClr val="ffffff"/>
          </a:solidFill>
          <a:ln w="0">
            <a:noFill/>
          </a:ln>
        </p:spPr>
        <p:style>
          <a:lnRef idx="0"/>
          <a:fillRef idx="0"/>
          <a:effectRef idx="0"/>
          <a:fontRef idx="minor"/>
        </p:style>
        <p:txBody>
          <a:bodyPr lIns="121680" rIns="121680" tIns="-6840" bIns="-6840" anchor="t">
            <a:noAutofit/>
          </a:bodyPr>
          <a:p>
            <a:endParaRPr b="0" lang="en-US" sz="1800" spc="-1" strike="noStrike">
              <a:solidFill>
                <a:srgbClr val="000000"/>
              </a:solidFill>
              <a:latin typeface="Arial"/>
            </a:endParaRPr>
          </a:p>
        </p:txBody>
      </p:sp>
      <p:sp>
        <p:nvSpPr>
          <p:cNvPr id="995" name="稻壳儿小白白(http://dwz.cn/Wu2UP)"/>
          <p:cNvSpPr/>
          <p:nvPr/>
        </p:nvSpPr>
        <p:spPr>
          <a:xfrm>
            <a:off x="6649920" y="2692440"/>
            <a:ext cx="71640" cy="68400"/>
          </a:xfrm>
          <a:custGeom>
            <a:avLst/>
            <a:gdLst/>
            <a:ahLst/>
            <a:rect l="l" t="t" r="r" b="b"/>
            <a:pathLst>
              <a:path w="15" h="14">
                <a:moveTo>
                  <a:pt x="15" y="4"/>
                </a:moveTo>
                <a:cubicBezTo>
                  <a:pt x="15" y="2"/>
                  <a:pt x="13" y="0"/>
                  <a:pt x="8" y="0"/>
                </a:cubicBezTo>
                <a:cubicBezTo>
                  <a:pt x="2" y="0"/>
                  <a:pt x="0" y="2"/>
                  <a:pt x="0" y="4"/>
                </a:cubicBezTo>
                <a:cubicBezTo>
                  <a:pt x="0" y="14"/>
                  <a:pt x="0" y="14"/>
                  <a:pt x="0" y="14"/>
                </a:cubicBezTo>
                <a:cubicBezTo>
                  <a:pt x="15" y="14"/>
                  <a:pt x="15" y="14"/>
                  <a:pt x="15" y="14"/>
                </a:cubicBezTo>
                <a:lnTo>
                  <a:pt x="15" y="4"/>
                </a:lnTo>
                <a:close/>
              </a:path>
            </a:pathLst>
          </a:custGeom>
          <a:solidFill>
            <a:srgbClr val="ffffff"/>
          </a:solidFill>
          <a:ln w="0">
            <a:noFill/>
          </a:ln>
        </p:spPr>
        <p:style>
          <a:lnRef idx="0"/>
          <a:fillRef idx="0"/>
          <a:effectRef idx="0"/>
          <a:fontRef idx="minor"/>
        </p:style>
        <p:txBody>
          <a:bodyPr lIns="121680" rIns="121680" tIns="7560" bIns="7560" anchor="t">
            <a:noAutofit/>
          </a:bodyPr>
          <a:p>
            <a:endParaRPr b="0" lang="en-US" sz="1800" spc="-1" strike="noStrike">
              <a:solidFill>
                <a:srgbClr val="000000"/>
              </a:solidFill>
              <a:latin typeface="Arial"/>
            </a:endParaRPr>
          </a:p>
        </p:txBody>
      </p:sp>
      <p:sp>
        <p:nvSpPr>
          <p:cNvPr id="996" name="稻壳儿小白白(http://dwz.cn/Wu2UP)"/>
          <p:cNvSpPr/>
          <p:nvPr/>
        </p:nvSpPr>
        <p:spPr>
          <a:xfrm>
            <a:off x="6149880" y="4071960"/>
            <a:ext cx="173160" cy="173160"/>
          </a:xfrm>
          <a:custGeom>
            <a:avLst/>
            <a:gdLst/>
            <a:ahLst/>
            <a:rect l="l" t="t" r="r" b="b"/>
            <a:pathLst>
              <a:path w="36" h="36">
                <a:moveTo>
                  <a:pt x="0" y="0"/>
                </a:moveTo>
                <a:cubicBezTo>
                  <a:pt x="0" y="6"/>
                  <a:pt x="0" y="6"/>
                  <a:pt x="0" y="6"/>
                </a:cubicBezTo>
                <a:cubicBezTo>
                  <a:pt x="16" y="6"/>
                  <a:pt x="30" y="19"/>
                  <a:pt x="30" y="36"/>
                </a:cubicBezTo>
                <a:cubicBezTo>
                  <a:pt x="36" y="36"/>
                  <a:pt x="36" y="36"/>
                  <a:pt x="36" y="36"/>
                </a:cubicBezTo>
                <a:cubicBezTo>
                  <a:pt x="36" y="16"/>
                  <a:pt x="20" y="0"/>
                  <a:pt x="0" y="0"/>
                </a:cubicBezTo>
                <a:close/>
                <a:moveTo>
                  <a:pt x="0" y="11"/>
                </a:moveTo>
                <a:cubicBezTo>
                  <a:pt x="0" y="17"/>
                  <a:pt x="0" y="17"/>
                  <a:pt x="0" y="17"/>
                </a:cubicBezTo>
                <a:cubicBezTo>
                  <a:pt x="10" y="17"/>
                  <a:pt x="19" y="25"/>
                  <a:pt x="19" y="36"/>
                </a:cubicBezTo>
                <a:cubicBezTo>
                  <a:pt x="24" y="36"/>
                  <a:pt x="24" y="36"/>
                  <a:pt x="24" y="36"/>
                </a:cubicBezTo>
                <a:cubicBezTo>
                  <a:pt x="24" y="22"/>
                  <a:pt x="13" y="11"/>
                  <a:pt x="0" y="11"/>
                </a:cubicBezTo>
                <a:close/>
                <a:moveTo>
                  <a:pt x="5" y="25"/>
                </a:moveTo>
                <a:cubicBezTo>
                  <a:pt x="2" y="25"/>
                  <a:pt x="0" y="28"/>
                  <a:pt x="0" y="31"/>
                </a:cubicBezTo>
                <a:cubicBezTo>
                  <a:pt x="0" y="34"/>
                  <a:pt x="2" y="36"/>
                  <a:pt x="5" y="36"/>
                </a:cubicBezTo>
                <a:cubicBezTo>
                  <a:pt x="8" y="36"/>
                  <a:pt x="10" y="34"/>
                  <a:pt x="10" y="31"/>
                </a:cubicBezTo>
                <a:cubicBezTo>
                  <a:pt x="10" y="28"/>
                  <a:pt x="8" y="25"/>
                  <a:pt x="5" y="2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97" name="稻壳儿小白白(http://dwz.cn/Wu2UP)"/>
          <p:cNvSpPr/>
          <p:nvPr/>
        </p:nvSpPr>
        <p:spPr>
          <a:xfrm>
            <a:off x="5256360" y="4508640"/>
            <a:ext cx="155520" cy="203040"/>
          </a:xfrm>
          <a:custGeom>
            <a:avLst/>
            <a:gdLst/>
            <a:ahLst/>
            <a:rect l="l" t="t" r="r" b="b"/>
            <a:pathLst>
              <a:path w="32" h="42">
                <a:moveTo>
                  <a:pt x="30" y="16"/>
                </a:moveTo>
                <a:cubicBezTo>
                  <a:pt x="25" y="16"/>
                  <a:pt x="25" y="16"/>
                  <a:pt x="25" y="16"/>
                </a:cubicBezTo>
                <a:cubicBezTo>
                  <a:pt x="25" y="11"/>
                  <a:pt x="25" y="11"/>
                  <a:pt x="25" y="11"/>
                </a:cubicBezTo>
                <a:cubicBezTo>
                  <a:pt x="25" y="4"/>
                  <a:pt x="22" y="0"/>
                  <a:pt x="16" y="0"/>
                </a:cubicBezTo>
                <a:cubicBezTo>
                  <a:pt x="10" y="0"/>
                  <a:pt x="7" y="4"/>
                  <a:pt x="7" y="11"/>
                </a:cubicBezTo>
                <a:cubicBezTo>
                  <a:pt x="7" y="12"/>
                  <a:pt x="7" y="12"/>
                  <a:pt x="7" y="12"/>
                </a:cubicBezTo>
                <a:cubicBezTo>
                  <a:pt x="11" y="12"/>
                  <a:pt x="11" y="12"/>
                  <a:pt x="11" y="12"/>
                </a:cubicBezTo>
                <a:cubicBezTo>
                  <a:pt x="11" y="10"/>
                  <a:pt x="11" y="10"/>
                  <a:pt x="11" y="10"/>
                </a:cubicBezTo>
                <a:cubicBezTo>
                  <a:pt x="11" y="6"/>
                  <a:pt x="13" y="5"/>
                  <a:pt x="16" y="5"/>
                </a:cubicBezTo>
                <a:cubicBezTo>
                  <a:pt x="19" y="5"/>
                  <a:pt x="21" y="6"/>
                  <a:pt x="21" y="10"/>
                </a:cubicBezTo>
                <a:cubicBezTo>
                  <a:pt x="21" y="16"/>
                  <a:pt x="21" y="16"/>
                  <a:pt x="21" y="16"/>
                </a:cubicBezTo>
                <a:cubicBezTo>
                  <a:pt x="2" y="16"/>
                  <a:pt x="2" y="16"/>
                  <a:pt x="2" y="16"/>
                </a:cubicBezTo>
                <a:cubicBezTo>
                  <a:pt x="1" y="16"/>
                  <a:pt x="0" y="18"/>
                  <a:pt x="0" y="19"/>
                </a:cubicBezTo>
                <a:cubicBezTo>
                  <a:pt x="0" y="37"/>
                  <a:pt x="0" y="37"/>
                  <a:pt x="0" y="37"/>
                </a:cubicBezTo>
                <a:cubicBezTo>
                  <a:pt x="0" y="39"/>
                  <a:pt x="1" y="40"/>
                  <a:pt x="2" y="40"/>
                </a:cubicBezTo>
                <a:cubicBezTo>
                  <a:pt x="5" y="41"/>
                  <a:pt x="5" y="41"/>
                  <a:pt x="5" y="41"/>
                </a:cubicBezTo>
                <a:cubicBezTo>
                  <a:pt x="6" y="42"/>
                  <a:pt x="8" y="42"/>
                  <a:pt x="9" y="42"/>
                </a:cubicBezTo>
                <a:cubicBezTo>
                  <a:pt x="23" y="42"/>
                  <a:pt x="23" y="42"/>
                  <a:pt x="23" y="42"/>
                </a:cubicBezTo>
                <a:cubicBezTo>
                  <a:pt x="24" y="42"/>
                  <a:pt x="26" y="42"/>
                  <a:pt x="27" y="41"/>
                </a:cubicBezTo>
                <a:cubicBezTo>
                  <a:pt x="30" y="40"/>
                  <a:pt x="30" y="40"/>
                  <a:pt x="30" y="40"/>
                </a:cubicBezTo>
                <a:cubicBezTo>
                  <a:pt x="31" y="40"/>
                  <a:pt x="32" y="39"/>
                  <a:pt x="32" y="37"/>
                </a:cubicBezTo>
                <a:cubicBezTo>
                  <a:pt x="32" y="19"/>
                  <a:pt x="32" y="19"/>
                  <a:pt x="32" y="19"/>
                </a:cubicBezTo>
                <a:cubicBezTo>
                  <a:pt x="32" y="18"/>
                  <a:pt x="31" y="16"/>
                  <a:pt x="30" y="1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98" name="稻壳儿小白白(http://dwz.cn/Wu2UP)"/>
          <p:cNvSpPr/>
          <p:nvPr/>
        </p:nvSpPr>
        <p:spPr>
          <a:xfrm>
            <a:off x="6597720" y="907920"/>
            <a:ext cx="176040" cy="177840"/>
          </a:xfrm>
          <a:custGeom>
            <a:avLst/>
            <a:gdLst/>
            <a:ahLst/>
            <a:rect l="l" t="t" r="r" b="b"/>
            <a:pathLst>
              <a:path w="37" h="37">
                <a:moveTo>
                  <a:pt x="34" y="4"/>
                </a:moveTo>
                <a:cubicBezTo>
                  <a:pt x="31" y="0"/>
                  <a:pt x="28" y="1"/>
                  <a:pt x="28" y="1"/>
                </a:cubicBezTo>
                <a:cubicBezTo>
                  <a:pt x="16" y="13"/>
                  <a:pt x="16" y="13"/>
                  <a:pt x="16" y="13"/>
                </a:cubicBezTo>
                <a:cubicBezTo>
                  <a:pt x="3" y="26"/>
                  <a:pt x="3" y="26"/>
                  <a:pt x="3" y="26"/>
                </a:cubicBezTo>
                <a:cubicBezTo>
                  <a:pt x="0" y="37"/>
                  <a:pt x="0" y="37"/>
                  <a:pt x="0" y="37"/>
                </a:cubicBezTo>
                <a:cubicBezTo>
                  <a:pt x="11" y="35"/>
                  <a:pt x="11" y="35"/>
                  <a:pt x="11" y="35"/>
                </a:cubicBezTo>
                <a:cubicBezTo>
                  <a:pt x="25" y="22"/>
                  <a:pt x="25" y="22"/>
                  <a:pt x="25" y="22"/>
                </a:cubicBezTo>
                <a:cubicBezTo>
                  <a:pt x="37" y="10"/>
                  <a:pt x="37" y="10"/>
                  <a:pt x="37" y="10"/>
                </a:cubicBezTo>
                <a:cubicBezTo>
                  <a:pt x="37" y="10"/>
                  <a:pt x="37" y="7"/>
                  <a:pt x="34" y="4"/>
                </a:cubicBezTo>
                <a:close/>
                <a:moveTo>
                  <a:pt x="11" y="34"/>
                </a:moveTo>
                <a:cubicBezTo>
                  <a:pt x="7" y="35"/>
                  <a:pt x="7" y="35"/>
                  <a:pt x="7" y="35"/>
                </a:cubicBezTo>
                <a:cubicBezTo>
                  <a:pt x="7" y="34"/>
                  <a:pt x="6" y="33"/>
                  <a:pt x="5" y="32"/>
                </a:cubicBezTo>
                <a:cubicBezTo>
                  <a:pt x="4" y="32"/>
                  <a:pt x="4" y="31"/>
                  <a:pt x="3" y="31"/>
                </a:cubicBezTo>
                <a:cubicBezTo>
                  <a:pt x="4" y="27"/>
                  <a:pt x="4" y="27"/>
                  <a:pt x="4" y="27"/>
                </a:cubicBezTo>
                <a:cubicBezTo>
                  <a:pt x="5" y="26"/>
                  <a:pt x="5" y="26"/>
                  <a:pt x="5" y="26"/>
                </a:cubicBezTo>
                <a:cubicBezTo>
                  <a:pt x="5" y="26"/>
                  <a:pt x="7" y="26"/>
                  <a:pt x="9" y="28"/>
                </a:cubicBezTo>
                <a:cubicBezTo>
                  <a:pt x="12" y="31"/>
                  <a:pt x="12" y="33"/>
                  <a:pt x="12" y="33"/>
                </a:cubicBezTo>
                <a:lnTo>
                  <a:pt x="11" y="3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99" name="稻壳儿小白白(http://dwz.cn/Wu2UP)"/>
          <p:cNvSpPr/>
          <p:nvPr/>
        </p:nvSpPr>
        <p:spPr>
          <a:xfrm>
            <a:off x="9734400" y="898560"/>
            <a:ext cx="216000" cy="201600"/>
          </a:xfrm>
          <a:custGeom>
            <a:avLst/>
            <a:gdLst/>
            <a:ahLst/>
            <a:rect l="l" t="t" r="r" b="b"/>
            <a:pathLst>
              <a:path w="45" h="42">
                <a:moveTo>
                  <a:pt x="35" y="32"/>
                </a:moveTo>
                <a:cubicBezTo>
                  <a:pt x="29" y="30"/>
                  <a:pt x="27" y="28"/>
                  <a:pt x="27" y="24"/>
                </a:cubicBezTo>
                <a:cubicBezTo>
                  <a:pt x="27" y="22"/>
                  <a:pt x="29" y="22"/>
                  <a:pt x="30" y="18"/>
                </a:cubicBezTo>
                <a:cubicBezTo>
                  <a:pt x="30" y="16"/>
                  <a:pt x="32" y="18"/>
                  <a:pt x="32" y="14"/>
                </a:cubicBezTo>
                <a:cubicBezTo>
                  <a:pt x="32" y="13"/>
                  <a:pt x="31" y="12"/>
                  <a:pt x="31" y="12"/>
                </a:cubicBezTo>
                <a:cubicBezTo>
                  <a:pt x="31" y="12"/>
                  <a:pt x="32" y="10"/>
                  <a:pt x="32" y="8"/>
                </a:cubicBezTo>
                <a:cubicBezTo>
                  <a:pt x="32" y="6"/>
                  <a:pt x="31" y="0"/>
                  <a:pt x="22" y="0"/>
                </a:cubicBezTo>
                <a:cubicBezTo>
                  <a:pt x="14" y="0"/>
                  <a:pt x="13" y="6"/>
                  <a:pt x="13" y="8"/>
                </a:cubicBezTo>
                <a:cubicBezTo>
                  <a:pt x="13" y="10"/>
                  <a:pt x="14" y="12"/>
                  <a:pt x="14" y="12"/>
                </a:cubicBezTo>
                <a:cubicBezTo>
                  <a:pt x="14" y="12"/>
                  <a:pt x="13" y="13"/>
                  <a:pt x="13" y="14"/>
                </a:cubicBezTo>
                <a:cubicBezTo>
                  <a:pt x="13" y="18"/>
                  <a:pt x="15" y="16"/>
                  <a:pt x="15" y="18"/>
                </a:cubicBezTo>
                <a:cubicBezTo>
                  <a:pt x="16" y="22"/>
                  <a:pt x="18" y="22"/>
                  <a:pt x="18" y="24"/>
                </a:cubicBezTo>
                <a:cubicBezTo>
                  <a:pt x="18" y="28"/>
                  <a:pt x="16" y="30"/>
                  <a:pt x="10" y="32"/>
                </a:cubicBezTo>
                <a:cubicBezTo>
                  <a:pt x="4" y="34"/>
                  <a:pt x="0" y="36"/>
                  <a:pt x="0" y="37"/>
                </a:cubicBezTo>
                <a:cubicBezTo>
                  <a:pt x="0" y="39"/>
                  <a:pt x="0" y="42"/>
                  <a:pt x="0" y="42"/>
                </a:cubicBezTo>
                <a:cubicBezTo>
                  <a:pt x="22" y="42"/>
                  <a:pt x="22" y="42"/>
                  <a:pt x="22" y="42"/>
                </a:cubicBezTo>
                <a:cubicBezTo>
                  <a:pt x="45" y="42"/>
                  <a:pt x="45" y="42"/>
                  <a:pt x="45" y="42"/>
                </a:cubicBezTo>
                <a:cubicBezTo>
                  <a:pt x="45" y="42"/>
                  <a:pt x="45" y="39"/>
                  <a:pt x="45" y="37"/>
                </a:cubicBezTo>
                <a:cubicBezTo>
                  <a:pt x="45" y="36"/>
                  <a:pt x="41" y="34"/>
                  <a:pt x="35" y="3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00" name="稻壳儿小白白(http://dwz.cn/Wu2UP)"/>
          <p:cNvSpPr/>
          <p:nvPr/>
        </p:nvSpPr>
        <p:spPr>
          <a:xfrm>
            <a:off x="10180800" y="903240"/>
            <a:ext cx="225360" cy="196920"/>
          </a:xfrm>
          <a:custGeom>
            <a:avLst/>
            <a:gdLst/>
            <a:ahLst/>
            <a:rect l="l" t="t" r="r" b="b"/>
            <a:pathLst>
              <a:path w="47" h="41">
                <a:moveTo>
                  <a:pt x="47" y="41"/>
                </a:moveTo>
                <a:cubicBezTo>
                  <a:pt x="47" y="41"/>
                  <a:pt x="47" y="32"/>
                  <a:pt x="46" y="31"/>
                </a:cubicBezTo>
                <a:cubicBezTo>
                  <a:pt x="45" y="30"/>
                  <a:pt x="43" y="29"/>
                  <a:pt x="40" y="27"/>
                </a:cubicBezTo>
                <a:cubicBezTo>
                  <a:pt x="37" y="26"/>
                  <a:pt x="35" y="25"/>
                  <a:pt x="35" y="22"/>
                </a:cubicBezTo>
                <a:cubicBezTo>
                  <a:pt x="35" y="20"/>
                  <a:pt x="36" y="21"/>
                  <a:pt x="37" y="18"/>
                </a:cubicBezTo>
                <a:cubicBezTo>
                  <a:pt x="37" y="17"/>
                  <a:pt x="38" y="18"/>
                  <a:pt x="38" y="15"/>
                </a:cubicBezTo>
                <a:cubicBezTo>
                  <a:pt x="38" y="14"/>
                  <a:pt x="38" y="14"/>
                  <a:pt x="38" y="14"/>
                </a:cubicBezTo>
                <a:cubicBezTo>
                  <a:pt x="38" y="14"/>
                  <a:pt x="38" y="12"/>
                  <a:pt x="38" y="11"/>
                </a:cubicBezTo>
                <a:cubicBezTo>
                  <a:pt x="38" y="9"/>
                  <a:pt x="37" y="5"/>
                  <a:pt x="32" y="5"/>
                </a:cubicBezTo>
                <a:cubicBezTo>
                  <a:pt x="28" y="5"/>
                  <a:pt x="27" y="9"/>
                  <a:pt x="27" y="11"/>
                </a:cubicBezTo>
                <a:cubicBezTo>
                  <a:pt x="27" y="12"/>
                  <a:pt x="27" y="14"/>
                  <a:pt x="27" y="14"/>
                </a:cubicBezTo>
                <a:cubicBezTo>
                  <a:pt x="27" y="14"/>
                  <a:pt x="27" y="14"/>
                  <a:pt x="27" y="15"/>
                </a:cubicBezTo>
                <a:cubicBezTo>
                  <a:pt x="27" y="18"/>
                  <a:pt x="28" y="17"/>
                  <a:pt x="28" y="18"/>
                </a:cubicBezTo>
                <a:cubicBezTo>
                  <a:pt x="29" y="21"/>
                  <a:pt x="30" y="20"/>
                  <a:pt x="30" y="22"/>
                </a:cubicBezTo>
                <a:cubicBezTo>
                  <a:pt x="30" y="24"/>
                  <a:pt x="29" y="25"/>
                  <a:pt x="28" y="26"/>
                </a:cubicBezTo>
                <a:cubicBezTo>
                  <a:pt x="35" y="30"/>
                  <a:pt x="36" y="30"/>
                  <a:pt x="36" y="34"/>
                </a:cubicBezTo>
                <a:cubicBezTo>
                  <a:pt x="36" y="41"/>
                  <a:pt x="36" y="41"/>
                  <a:pt x="36" y="41"/>
                </a:cubicBezTo>
                <a:lnTo>
                  <a:pt x="47" y="41"/>
                </a:lnTo>
                <a:close/>
                <a:moveTo>
                  <a:pt x="24" y="29"/>
                </a:moveTo>
                <a:cubicBezTo>
                  <a:pt x="19" y="27"/>
                  <a:pt x="18" y="25"/>
                  <a:pt x="18" y="21"/>
                </a:cubicBezTo>
                <a:cubicBezTo>
                  <a:pt x="18" y="19"/>
                  <a:pt x="19" y="20"/>
                  <a:pt x="20" y="16"/>
                </a:cubicBezTo>
                <a:cubicBezTo>
                  <a:pt x="20" y="15"/>
                  <a:pt x="21" y="16"/>
                  <a:pt x="22" y="13"/>
                </a:cubicBezTo>
                <a:cubicBezTo>
                  <a:pt x="22" y="11"/>
                  <a:pt x="21" y="11"/>
                  <a:pt x="21" y="11"/>
                </a:cubicBezTo>
                <a:cubicBezTo>
                  <a:pt x="21" y="11"/>
                  <a:pt x="21" y="9"/>
                  <a:pt x="21" y="7"/>
                </a:cubicBezTo>
                <a:cubicBezTo>
                  <a:pt x="22" y="5"/>
                  <a:pt x="20" y="0"/>
                  <a:pt x="14" y="0"/>
                </a:cubicBezTo>
                <a:cubicBezTo>
                  <a:pt x="7" y="0"/>
                  <a:pt x="6" y="5"/>
                  <a:pt x="6" y="7"/>
                </a:cubicBezTo>
                <a:cubicBezTo>
                  <a:pt x="7" y="9"/>
                  <a:pt x="7" y="11"/>
                  <a:pt x="7" y="11"/>
                </a:cubicBezTo>
                <a:cubicBezTo>
                  <a:pt x="7" y="11"/>
                  <a:pt x="6" y="11"/>
                  <a:pt x="6" y="13"/>
                </a:cubicBezTo>
                <a:cubicBezTo>
                  <a:pt x="6" y="16"/>
                  <a:pt x="8" y="15"/>
                  <a:pt x="8" y="16"/>
                </a:cubicBezTo>
                <a:cubicBezTo>
                  <a:pt x="9" y="20"/>
                  <a:pt x="10" y="19"/>
                  <a:pt x="10" y="21"/>
                </a:cubicBezTo>
                <a:cubicBezTo>
                  <a:pt x="10" y="25"/>
                  <a:pt x="8" y="27"/>
                  <a:pt x="4" y="29"/>
                </a:cubicBezTo>
                <a:cubicBezTo>
                  <a:pt x="2" y="29"/>
                  <a:pt x="0" y="30"/>
                  <a:pt x="0" y="32"/>
                </a:cubicBezTo>
                <a:cubicBezTo>
                  <a:pt x="0" y="41"/>
                  <a:pt x="0" y="41"/>
                  <a:pt x="0" y="41"/>
                </a:cubicBezTo>
                <a:cubicBezTo>
                  <a:pt x="32" y="41"/>
                  <a:pt x="32" y="41"/>
                  <a:pt x="32" y="41"/>
                </a:cubicBezTo>
                <a:cubicBezTo>
                  <a:pt x="32" y="41"/>
                  <a:pt x="32" y="36"/>
                  <a:pt x="32" y="34"/>
                </a:cubicBezTo>
                <a:cubicBezTo>
                  <a:pt x="32" y="32"/>
                  <a:pt x="29" y="31"/>
                  <a:pt x="24" y="2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01" name="稻壳儿小白白(http://dwz.cn/Wu2UP)"/>
          <p:cNvSpPr/>
          <p:nvPr/>
        </p:nvSpPr>
        <p:spPr>
          <a:xfrm>
            <a:off x="8388360" y="923760"/>
            <a:ext cx="201600" cy="152640"/>
          </a:xfrm>
          <a:custGeom>
            <a:avLst/>
            <a:gdLst/>
            <a:ahLst/>
            <a:rect l="l" t="t" r="r" b="b"/>
            <a:pathLst>
              <a:path w="42" h="32">
                <a:moveTo>
                  <a:pt x="42" y="32"/>
                </a:moveTo>
                <a:cubicBezTo>
                  <a:pt x="42" y="32"/>
                  <a:pt x="37" y="9"/>
                  <a:pt x="17" y="9"/>
                </a:cubicBezTo>
                <a:cubicBezTo>
                  <a:pt x="17" y="0"/>
                  <a:pt x="17" y="0"/>
                  <a:pt x="17" y="0"/>
                </a:cubicBezTo>
                <a:cubicBezTo>
                  <a:pt x="0" y="15"/>
                  <a:pt x="0" y="15"/>
                  <a:pt x="0" y="15"/>
                </a:cubicBezTo>
                <a:cubicBezTo>
                  <a:pt x="17" y="31"/>
                  <a:pt x="17" y="31"/>
                  <a:pt x="17" y="31"/>
                </a:cubicBezTo>
                <a:cubicBezTo>
                  <a:pt x="17" y="21"/>
                  <a:pt x="17" y="21"/>
                  <a:pt x="17" y="21"/>
                </a:cubicBezTo>
                <a:cubicBezTo>
                  <a:pt x="28" y="21"/>
                  <a:pt x="36" y="22"/>
                  <a:pt x="42" y="3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02" name="稻壳儿小白白(http://dwz.cn/Wu2UP)"/>
          <p:cNvSpPr/>
          <p:nvPr/>
        </p:nvSpPr>
        <p:spPr>
          <a:xfrm>
            <a:off x="9293400" y="923760"/>
            <a:ext cx="201600" cy="152640"/>
          </a:xfrm>
          <a:custGeom>
            <a:avLst/>
            <a:gdLst/>
            <a:ahLst/>
            <a:rect l="l" t="t" r="r" b="b"/>
            <a:pathLst>
              <a:path w="42" h="32">
                <a:moveTo>
                  <a:pt x="25" y="21"/>
                </a:moveTo>
                <a:cubicBezTo>
                  <a:pt x="25" y="31"/>
                  <a:pt x="25" y="31"/>
                  <a:pt x="25" y="31"/>
                </a:cubicBezTo>
                <a:cubicBezTo>
                  <a:pt x="42" y="15"/>
                  <a:pt x="42" y="15"/>
                  <a:pt x="42" y="15"/>
                </a:cubicBezTo>
                <a:cubicBezTo>
                  <a:pt x="25" y="0"/>
                  <a:pt x="25" y="0"/>
                  <a:pt x="25" y="0"/>
                </a:cubicBezTo>
                <a:cubicBezTo>
                  <a:pt x="25" y="9"/>
                  <a:pt x="25" y="9"/>
                  <a:pt x="25" y="9"/>
                </a:cubicBezTo>
                <a:cubicBezTo>
                  <a:pt x="4" y="9"/>
                  <a:pt x="0" y="32"/>
                  <a:pt x="0" y="32"/>
                </a:cubicBezTo>
                <a:cubicBezTo>
                  <a:pt x="5" y="22"/>
                  <a:pt x="14" y="21"/>
                  <a:pt x="25" y="2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03" name="稻壳儿小白白(http://dwz.cn/Wu2UP)"/>
          <p:cNvSpPr/>
          <p:nvPr/>
        </p:nvSpPr>
        <p:spPr>
          <a:xfrm>
            <a:off x="3879720" y="898560"/>
            <a:ext cx="201600" cy="201600"/>
          </a:xfrm>
          <a:custGeom>
            <a:avLst/>
            <a:gdLst/>
            <a:ahLst/>
            <a:rect l="l" t="t" r="r" b="b"/>
            <a:pathLst>
              <a:path w="42" h="42">
                <a:moveTo>
                  <a:pt x="24" y="24"/>
                </a:moveTo>
                <a:cubicBezTo>
                  <a:pt x="21" y="28"/>
                  <a:pt x="16" y="31"/>
                  <a:pt x="15" y="30"/>
                </a:cubicBezTo>
                <a:cubicBezTo>
                  <a:pt x="12" y="27"/>
                  <a:pt x="11" y="25"/>
                  <a:pt x="5" y="29"/>
                </a:cubicBezTo>
                <a:cubicBezTo>
                  <a:pt x="0" y="34"/>
                  <a:pt x="4" y="37"/>
                  <a:pt x="6" y="39"/>
                </a:cubicBezTo>
                <a:cubicBezTo>
                  <a:pt x="9" y="42"/>
                  <a:pt x="19" y="39"/>
                  <a:pt x="29" y="29"/>
                </a:cubicBezTo>
                <a:cubicBezTo>
                  <a:pt x="39" y="19"/>
                  <a:pt x="42" y="9"/>
                  <a:pt x="39" y="6"/>
                </a:cubicBezTo>
                <a:cubicBezTo>
                  <a:pt x="37" y="4"/>
                  <a:pt x="34" y="0"/>
                  <a:pt x="30" y="5"/>
                </a:cubicBezTo>
                <a:cubicBezTo>
                  <a:pt x="25" y="10"/>
                  <a:pt x="27" y="12"/>
                  <a:pt x="30" y="14"/>
                </a:cubicBezTo>
                <a:cubicBezTo>
                  <a:pt x="32" y="16"/>
                  <a:pt x="28" y="20"/>
                  <a:pt x="24" y="2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04" name="稻壳儿小白白(http://dwz.cn/Wu2UP)"/>
          <p:cNvSpPr/>
          <p:nvPr/>
        </p:nvSpPr>
        <p:spPr>
          <a:xfrm>
            <a:off x="5680080" y="938160"/>
            <a:ext cx="210960" cy="130320"/>
          </a:xfrm>
          <a:custGeom>
            <a:avLst/>
            <a:gdLst/>
            <a:ahLst/>
            <a:rect l="l" t="t" r="r" b="b"/>
            <a:pathLst>
              <a:path w="44" h="27">
                <a:moveTo>
                  <a:pt x="2" y="2"/>
                </a:moveTo>
                <a:cubicBezTo>
                  <a:pt x="3" y="3"/>
                  <a:pt x="19" y="11"/>
                  <a:pt x="20" y="12"/>
                </a:cubicBezTo>
                <a:cubicBezTo>
                  <a:pt x="20" y="12"/>
                  <a:pt x="21" y="12"/>
                  <a:pt x="22" y="12"/>
                </a:cubicBezTo>
                <a:cubicBezTo>
                  <a:pt x="23" y="12"/>
                  <a:pt x="23" y="12"/>
                  <a:pt x="24" y="12"/>
                </a:cubicBezTo>
                <a:cubicBezTo>
                  <a:pt x="25" y="11"/>
                  <a:pt x="40" y="3"/>
                  <a:pt x="42" y="2"/>
                </a:cubicBezTo>
                <a:cubicBezTo>
                  <a:pt x="43" y="1"/>
                  <a:pt x="44" y="0"/>
                  <a:pt x="42" y="0"/>
                </a:cubicBezTo>
                <a:cubicBezTo>
                  <a:pt x="2" y="0"/>
                  <a:pt x="2" y="0"/>
                  <a:pt x="2" y="0"/>
                </a:cubicBezTo>
                <a:cubicBezTo>
                  <a:pt x="0" y="0"/>
                  <a:pt x="1" y="1"/>
                  <a:pt x="2" y="2"/>
                </a:cubicBezTo>
                <a:close/>
                <a:moveTo>
                  <a:pt x="42" y="7"/>
                </a:moveTo>
                <a:cubicBezTo>
                  <a:pt x="41" y="7"/>
                  <a:pt x="25" y="16"/>
                  <a:pt x="24" y="16"/>
                </a:cubicBezTo>
                <a:cubicBezTo>
                  <a:pt x="23" y="17"/>
                  <a:pt x="23" y="17"/>
                  <a:pt x="22" y="17"/>
                </a:cubicBezTo>
                <a:cubicBezTo>
                  <a:pt x="21" y="17"/>
                  <a:pt x="20" y="17"/>
                  <a:pt x="20" y="16"/>
                </a:cubicBezTo>
                <a:cubicBezTo>
                  <a:pt x="19" y="16"/>
                  <a:pt x="3" y="7"/>
                  <a:pt x="2" y="7"/>
                </a:cubicBezTo>
                <a:cubicBezTo>
                  <a:pt x="1" y="6"/>
                  <a:pt x="1" y="7"/>
                  <a:pt x="1" y="7"/>
                </a:cubicBezTo>
                <a:cubicBezTo>
                  <a:pt x="1" y="8"/>
                  <a:pt x="1" y="25"/>
                  <a:pt x="1" y="25"/>
                </a:cubicBezTo>
                <a:cubicBezTo>
                  <a:pt x="1" y="26"/>
                  <a:pt x="2" y="27"/>
                  <a:pt x="3" y="27"/>
                </a:cubicBezTo>
                <a:cubicBezTo>
                  <a:pt x="41" y="27"/>
                  <a:pt x="41" y="27"/>
                  <a:pt x="41" y="27"/>
                </a:cubicBezTo>
                <a:cubicBezTo>
                  <a:pt x="42" y="27"/>
                  <a:pt x="43" y="26"/>
                  <a:pt x="43" y="25"/>
                </a:cubicBezTo>
                <a:cubicBezTo>
                  <a:pt x="43" y="25"/>
                  <a:pt x="43" y="8"/>
                  <a:pt x="43" y="7"/>
                </a:cubicBezTo>
                <a:cubicBezTo>
                  <a:pt x="43" y="7"/>
                  <a:pt x="43" y="6"/>
                  <a:pt x="42" y="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05" name="稻壳儿小白白(http://dwz.cn/Wu2UP)"/>
          <p:cNvSpPr/>
          <p:nvPr/>
        </p:nvSpPr>
        <p:spPr>
          <a:xfrm>
            <a:off x="7477200" y="888840"/>
            <a:ext cx="216000" cy="222480"/>
          </a:xfrm>
          <a:custGeom>
            <a:avLst/>
            <a:gdLst/>
            <a:ahLst/>
            <a:rect l="l" t="t" r="r" b="b"/>
            <a:pathLst>
              <a:path w="45" h="46">
                <a:moveTo>
                  <a:pt x="13" y="46"/>
                </a:moveTo>
                <a:cubicBezTo>
                  <a:pt x="10" y="46"/>
                  <a:pt x="7" y="45"/>
                  <a:pt x="5" y="43"/>
                </a:cubicBezTo>
                <a:cubicBezTo>
                  <a:pt x="1" y="39"/>
                  <a:pt x="0" y="32"/>
                  <a:pt x="5" y="26"/>
                </a:cubicBezTo>
                <a:cubicBezTo>
                  <a:pt x="9" y="23"/>
                  <a:pt x="22" y="9"/>
                  <a:pt x="28" y="3"/>
                </a:cubicBezTo>
                <a:cubicBezTo>
                  <a:pt x="31" y="1"/>
                  <a:pt x="34" y="0"/>
                  <a:pt x="37" y="0"/>
                </a:cubicBezTo>
                <a:cubicBezTo>
                  <a:pt x="39" y="1"/>
                  <a:pt x="42" y="3"/>
                  <a:pt x="43" y="6"/>
                </a:cubicBezTo>
                <a:cubicBezTo>
                  <a:pt x="43" y="9"/>
                  <a:pt x="42" y="12"/>
                  <a:pt x="40" y="14"/>
                </a:cubicBezTo>
                <a:cubicBezTo>
                  <a:pt x="18" y="37"/>
                  <a:pt x="18" y="37"/>
                  <a:pt x="18" y="37"/>
                </a:cubicBezTo>
                <a:cubicBezTo>
                  <a:pt x="17" y="38"/>
                  <a:pt x="15" y="39"/>
                  <a:pt x="14" y="39"/>
                </a:cubicBezTo>
                <a:cubicBezTo>
                  <a:pt x="12" y="39"/>
                  <a:pt x="11" y="39"/>
                  <a:pt x="10" y="38"/>
                </a:cubicBezTo>
                <a:cubicBezTo>
                  <a:pt x="8" y="36"/>
                  <a:pt x="8" y="33"/>
                  <a:pt x="11" y="30"/>
                </a:cubicBezTo>
                <a:cubicBezTo>
                  <a:pt x="26" y="14"/>
                  <a:pt x="26" y="14"/>
                  <a:pt x="26" y="14"/>
                </a:cubicBezTo>
                <a:cubicBezTo>
                  <a:pt x="27" y="13"/>
                  <a:pt x="28" y="13"/>
                  <a:pt x="29" y="14"/>
                </a:cubicBezTo>
                <a:cubicBezTo>
                  <a:pt x="29" y="15"/>
                  <a:pt x="29" y="16"/>
                  <a:pt x="29" y="16"/>
                </a:cubicBezTo>
                <a:cubicBezTo>
                  <a:pt x="13" y="32"/>
                  <a:pt x="13" y="32"/>
                  <a:pt x="13" y="32"/>
                </a:cubicBezTo>
                <a:cubicBezTo>
                  <a:pt x="12" y="33"/>
                  <a:pt x="12" y="35"/>
                  <a:pt x="12" y="35"/>
                </a:cubicBezTo>
                <a:cubicBezTo>
                  <a:pt x="13" y="36"/>
                  <a:pt x="13" y="36"/>
                  <a:pt x="13" y="36"/>
                </a:cubicBezTo>
                <a:cubicBezTo>
                  <a:pt x="14" y="36"/>
                  <a:pt x="15" y="35"/>
                  <a:pt x="15" y="34"/>
                </a:cubicBezTo>
                <a:cubicBezTo>
                  <a:pt x="38" y="12"/>
                  <a:pt x="38" y="12"/>
                  <a:pt x="38" y="12"/>
                </a:cubicBezTo>
                <a:cubicBezTo>
                  <a:pt x="39" y="11"/>
                  <a:pt x="40" y="9"/>
                  <a:pt x="39" y="7"/>
                </a:cubicBezTo>
                <a:cubicBezTo>
                  <a:pt x="39" y="5"/>
                  <a:pt x="38" y="4"/>
                  <a:pt x="36" y="4"/>
                </a:cubicBezTo>
                <a:cubicBezTo>
                  <a:pt x="34" y="3"/>
                  <a:pt x="32" y="4"/>
                  <a:pt x="31" y="5"/>
                </a:cubicBezTo>
                <a:cubicBezTo>
                  <a:pt x="24" y="12"/>
                  <a:pt x="11" y="25"/>
                  <a:pt x="8" y="28"/>
                </a:cubicBezTo>
                <a:cubicBezTo>
                  <a:pt x="3" y="33"/>
                  <a:pt x="4" y="38"/>
                  <a:pt x="7" y="41"/>
                </a:cubicBezTo>
                <a:cubicBezTo>
                  <a:pt x="10" y="43"/>
                  <a:pt x="15" y="44"/>
                  <a:pt x="19" y="40"/>
                </a:cubicBezTo>
                <a:cubicBezTo>
                  <a:pt x="42" y="17"/>
                  <a:pt x="42" y="17"/>
                  <a:pt x="42" y="17"/>
                </a:cubicBezTo>
                <a:cubicBezTo>
                  <a:pt x="43" y="16"/>
                  <a:pt x="44" y="16"/>
                  <a:pt x="45" y="17"/>
                </a:cubicBezTo>
                <a:cubicBezTo>
                  <a:pt x="45" y="17"/>
                  <a:pt x="45" y="18"/>
                  <a:pt x="45" y="19"/>
                </a:cubicBezTo>
                <a:cubicBezTo>
                  <a:pt x="21" y="42"/>
                  <a:pt x="21" y="42"/>
                  <a:pt x="21" y="42"/>
                </a:cubicBezTo>
                <a:cubicBezTo>
                  <a:pt x="19" y="45"/>
                  <a:pt x="16" y="46"/>
                  <a:pt x="13" y="4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06" name="稻壳儿小白白(http://dwz.cn/Wu2UP)"/>
          <p:cNvSpPr/>
          <p:nvPr/>
        </p:nvSpPr>
        <p:spPr>
          <a:xfrm>
            <a:off x="8826480" y="923760"/>
            <a:ext cx="225360" cy="152640"/>
          </a:xfrm>
          <a:custGeom>
            <a:avLst/>
            <a:gdLst/>
            <a:ahLst/>
            <a:rect l="l" t="t" r="r" b="b"/>
            <a:pathLst>
              <a:path w="47" h="32">
                <a:moveTo>
                  <a:pt x="17" y="7"/>
                </a:moveTo>
                <a:cubicBezTo>
                  <a:pt x="17" y="0"/>
                  <a:pt x="17" y="0"/>
                  <a:pt x="17" y="0"/>
                </a:cubicBezTo>
                <a:cubicBezTo>
                  <a:pt x="0" y="15"/>
                  <a:pt x="0" y="15"/>
                  <a:pt x="0" y="15"/>
                </a:cubicBezTo>
                <a:cubicBezTo>
                  <a:pt x="17" y="31"/>
                  <a:pt x="17" y="31"/>
                  <a:pt x="17" y="31"/>
                </a:cubicBezTo>
                <a:cubicBezTo>
                  <a:pt x="17" y="25"/>
                  <a:pt x="17" y="25"/>
                  <a:pt x="17" y="25"/>
                </a:cubicBezTo>
                <a:cubicBezTo>
                  <a:pt x="7" y="15"/>
                  <a:pt x="7" y="15"/>
                  <a:pt x="7" y="15"/>
                </a:cubicBezTo>
                <a:lnTo>
                  <a:pt x="17" y="7"/>
                </a:lnTo>
                <a:close/>
                <a:moveTo>
                  <a:pt x="29" y="9"/>
                </a:moveTo>
                <a:cubicBezTo>
                  <a:pt x="29" y="0"/>
                  <a:pt x="29" y="0"/>
                  <a:pt x="29" y="0"/>
                </a:cubicBezTo>
                <a:cubicBezTo>
                  <a:pt x="12" y="15"/>
                  <a:pt x="12" y="15"/>
                  <a:pt x="12" y="15"/>
                </a:cubicBezTo>
                <a:cubicBezTo>
                  <a:pt x="29" y="31"/>
                  <a:pt x="29" y="31"/>
                  <a:pt x="29" y="31"/>
                </a:cubicBezTo>
                <a:cubicBezTo>
                  <a:pt x="29" y="21"/>
                  <a:pt x="29" y="21"/>
                  <a:pt x="29" y="21"/>
                </a:cubicBezTo>
                <a:cubicBezTo>
                  <a:pt x="37" y="21"/>
                  <a:pt x="41" y="22"/>
                  <a:pt x="47" y="32"/>
                </a:cubicBezTo>
                <a:cubicBezTo>
                  <a:pt x="47" y="32"/>
                  <a:pt x="46" y="9"/>
                  <a:pt x="29" y="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07" name="稻壳儿小白白(http://dwz.cn/Wu2UP)"/>
          <p:cNvSpPr/>
          <p:nvPr/>
        </p:nvSpPr>
        <p:spPr>
          <a:xfrm>
            <a:off x="5224320" y="898560"/>
            <a:ext cx="219240" cy="201600"/>
          </a:xfrm>
          <a:custGeom>
            <a:avLst/>
            <a:gdLst/>
            <a:ahLst/>
            <a:rect l="l" t="t" r="r" b="b"/>
            <a:pathLst>
              <a:path w="46" h="42">
                <a:moveTo>
                  <a:pt x="19" y="0"/>
                </a:moveTo>
                <a:cubicBezTo>
                  <a:pt x="17" y="0"/>
                  <a:pt x="17" y="0"/>
                  <a:pt x="17" y="0"/>
                </a:cubicBezTo>
                <a:cubicBezTo>
                  <a:pt x="17" y="0"/>
                  <a:pt x="16" y="0"/>
                  <a:pt x="16" y="1"/>
                </a:cubicBezTo>
                <a:cubicBezTo>
                  <a:pt x="16" y="10"/>
                  <a:pt x="16" y="10"/>
                  <a:pt x="16" y="10"/>
                </a:cubicBezTo>
                <a:cubicBezTo>
                  <a:pt x="8" y="10"/>
                  <a:pt x="8" y="10"/>
                  <a:pt x="8" y="10"/>
                </a:cubicBezTo>
                <a:cubicBezTo>
                  <a:pt x="8" y="10"/>
                  <a:pt x="7" y="10"/>
                  <a:pt x="7" y="10"/>
                </a:cubicBezTo>
                <a:cubicBezTo>
                  <a:pt x="6" y="10"/>
                  <a:pt x="6" y="10"/>
                  <a:pt x="6" y="11"/>
                </a:cubicBezTo>
                <a:cubicBezTo>
                  <a:pt x="0" y="15"/>
                  <a:pt x="0" y="15"/>
                  <a:pt x="0" y="15"/>
                </a:cubicBezTo>
                <a:cubicBezTo>
                  <a:pt x="0" y="15"/>
                  <a:pt x="0" y="15"/>
                  <a:pt x="0" y="15"/>
                </a:cubicBezTo>
                <a:cubicBezTo>
                  <a:pt x="0" y="16"/>
                  <a:pt x="0" y="16"/>
                  <a:pt x="0" y="16"/>
                </a:cubicBezTo>
                <a:cubicBezTo>
                  <a:pt x="6" y="20"/>
                  <a:pt x="6" y="20"/>
                  <a:pt x="6" y="20"/>
                </a:cubicBezTo>
                <a:cubicBezTo>
                  <a:pt x="6" y="20"/>
                  <a:pt x="6" y="20"/>
                  <a:pt x="7" y="20"/>
                </a:cubicBezTo>
                <a:cubicBezTo>
                  <a:pt x="7" y="21"/>
                  <a:pt x="8" y="21"/>
                  <a:pt x="8" y="21"/>
                </a:cubicBezTo>
                <a:cubicBezTo>
                  <a:pt x="16" y="21"/>
                  <a:pt x="16" y="21"/>
                  <a:pt x="16" y="21"/>
                </a:cubicBezTo>
                <a:cubicBezTo>
                  <a:pt x="16" y="41"/>
                  <a:pt x="16" y="41"/>
                  <a:pt x="16" y="41"/>
                </a:cubicBezTo>
                <a:cubicBezTo>
                  <a:pt x="16" y="42"/>
                  <a:pt x="17" y="42"/>
                  <a:pt x="17" y="42"/>
                </a:cubicBezTo>
                <a:cubicBezTo>
                  <a:pt x="19" y="42"/>
                  <a:pt x="19" y="42"/>
                  <a:pt x="19" y="42"/>
                </a:cubicBezTo>
                <a:cubicBezTo>
                  <a:pt x="20" y="42"/>
                  <a:pt x="20" y="42"/>
                  <a:pt x="20" y="41"/>
                </a:cubicBezTo>
                <a:cubicBezTo>
                  <a:pt x="20" y="1"/>
                  <a:pt x="20" y="1"/>
                  <a:pt x="20" y="1"/>
                </a:cubicBezTo>
                <a:cubicBezTo>
                  <a:pt x="20" y="0"/>
                  <a:pt x="20" y="0"/>
                  <a:pt x="19" y="0"/>
                </a:cubicBezTo>
                <a:close/>
                <a:moveTo>
                  <a:pt x="46" y="10"/>
                </a:moveTo>
                <a:cubicBezTo>
                  <a:pt x="40" y="6"/>
                  <a:pt x="40" y="6"/>
                  <a:pt x="40" y="6"/>
                </a:cubicBezTo>
                <a:cubicBezTo>
                  <a:pt x="40" y="6"/>
                  <a:pt x="40" y="6"/>
                  <a:pt x="39" y="5"/>
                </a:cubicBezTo>
                <a:cubicBezTo>
                  <a:pt x="39" y="5"/>
                  <a:pt x="38" y="5"/>
                  <a:pt x="38" y="5"/>
                </a:cubicBezTo>
                <a:cubicBezTo>
                  <a:pt x="22" y="5"/>
                  <a:pt x="22" y="5"/>
                  <a:pt x="22" y="5"/>
                </a:cubicBezTo>
                <a:cubicBezTo>
                  <a:pt x="24" y="16"/>
                  <a:pt x="24" y="16"/>
                  <a:pt x="24" y="16"/>
                </a:cubicBezTo>
                <a:cubicBezTo>
                  <a:pt x="38" y="16"/>
                  <a:pt x="38" y="16"/>
                  <a:pt x="38" y="16"/>
                </a:cubicBezTo>
                <a:cubicBezTo>
                  <a:pt x="38" y="16"/>
                  <a:pt x="39" y="16"/>
                  <a:pt x="39" y="16"/>
                </a:cubicBezTo>
                <a:cubicBezTo>
                  <a:pt x="40" y="16"/>
                  <a:pt x="40" y="15"/>
                  <a:pt x="40" y="15"/>
                </a:cubicBezTo>
                <a:cubicBezTo>
                  <a:pt x="46" y="11"/>
                  <a:pt x="46" y="11"/>
                  <a:pt x="46" y="11"/>
                </a:cubicBezTo>
                <a:cubicBezTo>
                  <a:pt x="46" y="11"/>
                  <a:pt x="46" y="11"/>
                  <a:pt x="46" y="11"/>
                </a:cubicBezTo>
                <a:cubicBezTo>
                  <a:pt x="46" y="10"/>
                  <a:pt x="46" y="10"/>
                  <a:pt x="46" y="1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08" name="稻壳儿小白白(http://dwz.cn/Wu2UP)"/>
          <p:cNvSpPr/>
          <p:nvPr/>
        </p:nvSpPr>
        <p:spPr>
          <a:xfrm>
            <a:off x="4816440" y="884160"/>
            <a:ext cx="138240" cy="236520"/>
          </a:xfrm>
          <a:custGeom>
            <a:avLst/>
            <a:gdLst/>
            <a:ahLst/>
            <a:rect l="l" t="t" r="r" b="b"/>
            <a:pathLst>
              <a:path w="29" h="49">
                <a:moveTo>
                  <a:pt x="27" y="35"/>
                </a:moveTo>
                <a:cubicBezTo>
                  <a:pt x="21" y="17"/>
                  <a:pt x="21" y="17"/>
                  <a:pt x="21" y="17"/>
                </a:cubicBezTo>
                <a:cubicBezTo>
                  <a:pt x="19" y="12"/>
                  <a:pt x="14" y="9"/>
                  <a:pt x="9" y="11"/>
                </a:cubicBezTo>
                <a:cubicBezTo>
                  <a:pt x="4" y="2"/>
                  <a:pt x="4" y="2"/>
                  <a:pt x="4" y="2"/>
                </a:cubicBezTo>
                <a:cubicBezTo>
                  <a:pt x="4" y="1"/>
                  <a:pt x="3" y="0"/>
                  <a:pt x="2" y="1"/>
                </a:cubicBezTo>
                <a:cubicBezTo>
                  <a:pt x="1" y="1"/>
                  <a:pt x="1" y="2"/>
                  <a:pt x="1" y="3"/>
                </a:cubicBezTo>
                <a:cubicBezTo>
                  <a:pt x="6" y="12"/>
                  <a:pt x="6" y="12"/>
                  <a:pt x="6" y="12"/>
                </a:cubicBezTo>
                <a:cubicBezTo>
                  <a:pt x="2" y="14"/>
                  <a:pt x="0" y="19"/>
                  <a:pt x="1" y="23"/>
                </a:cubicBezTo>
                <a:cubicBezTo>
                  <a:pt x="6" y="41"/>
                  <a:pt x="6" y="41"/>
                  <a:pt x="6" y="41"/>
                </a:cubicBezTo>
                <a:cubicBezTo>
                  <a:pt x="8" y="46"/>
                  <a:pt x="14" y="49"/>
                  <a:pt x="19" y="47"/>
                </a:cubicBezTo>
                <a:cubicBezTo>
                  <a:pt x="25" y="45"/>
                  <a:pt x="29" y="39"/>
                  <a:pt x="27" y="35"/>
                </a:cubicBezTo>
                <a:close/>
                <a:moveTo>
                  <a:pt x="12" y="22"/>
                </a:moveTo>
                <a:cubicBezTo>
                  <a:pt x="10" y="22"/>
                  <a:pt x="8" y="21"/>
                  <a:pt x="7" y="19"/>
                </a:cubicBezTo>
                <a:cubicBezTo>
                  <a:pt x="7" y="18"/>
                  <a:pt x="8" y="16"/>
                  <a:pt x="10" y="15"/>
                </a:cubicBezTo>
                <a:cubicBezTo>
                  <a:pt x="11" y="15"/>
                  <a:pt x="13" y="16"/>
                  <a:pt x="14" y="17"/>
                </a:cubicBezTo>
                <a:cubicBezTo>
                  <a:pt x="14" y="19"/>
                  <a:pt x="13" y="21"/>
                  <a:pt x="12" y="2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09" name="稻壳儿小白白(http://dwz.cn/Wu2UP)"/>
          <p:cNvSpPr/>
          <p:nvPr/>
        </p:nvSpPr>
        <p:spPr>
          <a:xfrm>
            <a:off x="10185480" y="4976640"/>
            <a:ext cx="210960" cy="182880"/>
          </a:xfrm>
          <a:custGeom>
            <a:avLst/>
            <a:gdLst/>
            <a:ahLst/>
            <a:rect l="l" t="t" r="r" b="b"/>
            <a:pathLst>
              <a:path w="44" h="38">
                <a:moveTo>
                  <a:pt x="25" y="0"/>
                </a:moveTo>
                <a:cubicBezTo>
                  <a:pt x="15" y="0"/>
                  <a:pt x="6" y="8"/>
                  <a:pt x="6" y="19"/>
                </a:cubicBezTo>
                <a:cubicBezTo>
                  <a:pt x="0" y="19"/>
                  <a:pt x="0" y="19"/>
                  <a:pt x="0" y="19"/>
                </a:cubicBezTo>
                <a:cubicBezTo>
                  <a:pt x="9" y="28"/>
                  <a:pt x="9" y="28"/>
                  <a:pt x="9" y="28"/>
                </a:cubicBezTo>
                <a:cubicBezTo>
                  <a:pt x="18" y="19"/>
                  <a:pt x="18" y="19"/>
                  <a:pt x="18" y="19"/>
                </a:cubicBezTo>
                <a:cubicBezTo>
                  <a:pt x="11" y="19"/>
                  <a:pt x="11" y="19"/>
                  <a:pt x="11" y="19"/>
                </a:cubicBezTo>
                <a:cubicBezTo>
                  <a:pt x="11" y="11"/>
                  <a:pt x="17" y="5"/>
                  <a:pt x="25" y="5"/>
                </a:cubicBezTo>
                <a:cubicBezTo>
                  <a:pt x="33" y="5"/>
                  <a:pt x="40" y="11"/>
                  <a:pt x="40" y="19"/>
                </a:cubicBezTo>
                <a:cubicBezTo>
                  <a:pt x="40" y="27"/>
                  <a:pt x="33" y="33"/>
                  <a:pt x="25" y="33"/>
                </a:cubicBezTo>
                <a:cubicBezTo>
                  <a:pt x="22" y="33"/>
                  <a:pt x="19" y="32"/>
                  <a:pt x="17" y="31"/>
                </a:cubicBezTo>
                <a:cubicBezTo>
                  <a:pt x="13" y="34"/>
                  <a:pt x="13" y="34"/>
                  <a:pt x="13" y="34"/>
                </a:cubicBezTo>
                <a:cubicBezTo>
                  <a:pt x="17" y="37"/>
                  <a:pt x="21" y="38"/>
                  <a:pt x="25" y="38"/>
                </a:cubicBezTo>
                <a:cubicBezTo>
                  <a:pt x="36" y="38"/>
                  <a:pt x="44" y="30"/>
                  <a:pt x="44" y="19"/>
                </a:cubicBezTo>
                <a:cubicBezTo>
                  <a:pt x="44" y="8"/>
                  <a:pt x="36" y="0"/>
                  <a:pt x="25" y="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10" name="稻壳儿小白白(http://dwz.cn/Wu2UP)"/>
          <p:cNvSpPr/>
          <p:nvPr/>
        </p:nvSpPr>
        <p:spPr>
          <a:xfrm>
            <a:off x="9734400" y="4971960"/>
            <a:ext cx="216000" cy="182520"/>
          </a:xfrm>
          <a:custGeom>
            <a:avLst/>
            <a:gdLst/>
            <a:ahLst/>
            <a:rect l="l" t="t" r="r" b="b"/>
            <a:pathLst>
              <a:path w="45" h="38">
                <a:moveTo>
                  <a:pt x="20" y="0"/>
                </a:moveTo>
                <a:cubicBezTo>
                  <a:pt x="30" y="0"/>
                  <a:pt x="39" y="8"/>
                  <a:pt x="39" y="18"/>
                </a:cubicBezTo>
                <a:cubicBezTo>
                  <a:pt x="45" y="18"/>
                  <a:pt x="45" y="18"/>
                  <a:pt x="45" y="18"/>
                </a:cubicBezTo>
                <a:cubicBezTo>
                  <a:pt x="36" y="28"/>
                  <a:pt x="36" y="28"/>
                  <a:pt x="36" y="28"/>
                </a:cubicBezTo>
                <a:cubicBezTo>
                  <a:pt x="27" y="18"/>
                  <a:pt x="27" y="18"/>
                  <a:pt x="27" y="18"/>
                </a:cubicBezTo>
                <a:cubicBezTo>
                  <a:pt x="34" y="18"/>
                  <a:pt x="34" y="18"/>
                  <a:pt x="34" y="18"/>
                </a:cubicBezTo>
                <a:cubicBezTo>
                  <a:pt x="34" y="11"/>
                  <a:pt x="27" y="4"/>
                  <a:pt x="20" y="4"/>
                </a:cubicBezTo>
                <a:cubicBezTo>
                  <a:pt x="12" y="4"/>
                  <a:pt x="5" y="11"/>
                  <a:pt x="5" y="19"/>
                </a:cubicBezTo>
                <a:cubicBezTo>
                  <a:pt x="5" y="27"/>
                  <a:pt x="12" y="33"/>
                  <a:pt x="20" y="33"/>
                </a:cubicBezTo>
                <a:cubicBezTo>
                  <a:pt x="23" y="33"/>
                  <a:pt x="26" y="32"/>
                  <a:pt x="28" y="30"/>
                </a:cubicBezTo>
                <a:cubicBezTo>
                  <a:pt x="31" y="34"/>
                  <a:pt x="31" y="34"/>
                  <a:pt x="31" y="34"/>
                </a:cubicBezTo>
                <a:cubicBezTo>
                  <a:pt x="28" y="37"/>
                  <a:pt x="24" y="38"/>
                  <a:pt x="20" y="38"/>
                </a:cubicBezTo>
                <a:cubicBezTo>
                  <a:pt x="9" y="38"/>
                  <a:pt x="0" y="29"/>
                  <a:pt x="0" y="19"/>
                </a:cubicBezTo>
                <a:cubicBezTo>
                  <a:pt x="0" y="8"/>
                  <a:pt x="9" y="0"/>
                  <a:pt x="20" y="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11" name="稻壳儿小白白(http://dwz.cn/Wu2UP)"/>
          <p:cNvSpPr/>
          <p:nvPr/>
        </p:nvSpPr>
        <p:spPr>
          <a:xfrm>
            <a:off x="9310680" y="5457960"/>
            <a:ext cx="158760" cy="109440"/>
          </a:xfrm>
          <a:custGeom>
            <a:avLst/>
            <a:gdLst/>
            <a:ahLst/>
            <a:rect l="l" t="t" r="r" b="b"/>
            <a:pathLst>
              <a:path w="33" h="23">
                <a:moveTo>
                  <a:pt x="31" y="9"/>
                </a:moveTo>
                <a:cubicBezTo>
                  <a:pt x="3" y="9"/>
                  <a:pt x="3" y="9"/>
                  <a:pt x="3" y="9"/>
                </a:cubicBezTo>
                <a:cubicBezTo>
                  <a:pt x="1" y="9"/>
                  <a:pt x="0" y="10"/>
                  <a:pt x="0" y="12"/>
                </a:cubicBezTo>
                <a:cubicBezTo>
                  <a:pt x="0" y="13"/>
                  <a:pt x="1" y="14"/>
                  <a:pt x="3" y="14"/>
                </a:cubicBezTo>
                <a:cubicBezTo>
                  <a:pt x="31" y="14"/>
                  <a:pt x="31" y="14"/>
                  <a:pt x="31" y="14"/>
                </a:cubicBezTo>
                <a:cubicBezTo>
                  <a:pt x="32" y="14"/>
                  <a:pt x="33" y="13"/>
                  <a:pt x="33" y="12"/>
                </a:cubicBezTo>
                <a:cubicBezTo>
                  <a:pt x="33" y="10"/>
                  <a:pt x="32" y="9"/>
                  <a:pt x="31" y="9"/>
                </a:cubicBezTo>
                <a:close/>
                <a:moveTo>
                  <a:pt x="3" y="5"/>
                </a:moveTo>
                <a:cubicBezTo>
                  <a:pt x="31" y="5"/>
                  <a:pt x="31" y="5"/>
                  <a:pt x="31" y="5"/>
                </a:cubicBezTo>
                <a:cubicBezTo>
                  <a:pt x="32" y="5"/>
                  <a:pt x="33" y="4"/>
                  <a:pt x="33" y="2"/>
                </a:cubicBezTo>
                <a:cubicBezTo>
                  <a:pt x="33" y="1"/>
                  <a:pt x="32" y="0"/>
                  <a:pt x="31" y="0"/>
                </a:cubicBezTo>
                <a:cubicBezTo>
                  <a:pt x="3" y="0"/>
                  <a:pt x="3" y="0"/>
                  <a:pt x="3" y="0"/>
                </a:cubicBezTo>
                <a:cubicBezTo>
                  <a:pt x="1" y="0"/>
                  <a:pt x="0" y="1"/>
                  <a:pt x="0" y="2"/>
                </a:cubicBezTo>
                <a:cubicBezTo>
                  <a:pt x="0" y="4"/>
                  <a:pt x="1" y="5"/>
                  <a:pt x="3" y="5"/>
                </a:cubicBezTo>
                <a:close/>
                <a:moveTo>
                  <a:pt x="31" y="19"/>
                </a:moveTo>
                <a:cubicBezTo>
                  <a:pt x="3" y="19"/>
                  <a:pt x="3" y="19"/>
                  <a:pt x="3" y="19"/>
                </a:cubicBezTo>
                <a:cubicBezTo>
                  <a:pt x="1" y="19"/>
                  <a:pt x="0" y="20"/>
                  <a:pt x="0" y="21"/>
                </a:cubicBezTo>
                <a:cubicBezTo>
                  <a:pt x="0" y="22"/>
                  <a:pt x="1" y="23"/>
                  <a:pt x="3" y="23"/>
                </a:cubicBezTo>
                <a:cubicBezTo>
                  <a:pt x="31" y="23"/>
                  <a:pt x="31" y="23"/>
                  <a:pt x="31" y="23"/>
                </a:cubicBezTo>
                <a:cubicBezTo>
                  <a:pt x="32" y="23"/>
                  <a:pt x="33" y="22"/>
                  <a:pt x="33" y="21"/>
                </a:cubicBezTo>
                <a:cubicBezTo>
                  <a:pt x="33" y="20"/>
                  <a:pt x="32" y="19"/>
                  <a:pt x="31" y="19"/>
                </a:cubicBezTo>
                <a:close/>
              </a:path>
            </a:pathLst>
          </a:custGeom>
          <a:solidFill>
            <a:srgbClr val="ffffff"/>
          </a:solidFill>
          <a:ln w="0">
            <a:noFill/>
          </a:ln>
        </p:spPr>
        <p:style>
          <a:lnRef idx="0"/>
          <a:fillRef idx="0"/>
          <a:effectRef idx="0"/>
          <a:fontRef idx="minor"/>
        </p:style>
        <p:txBody>
          <a:bodyPr lIns="121680" rIns="121680" tIns="48600" bIns="48600" anchor="t">
            <a:noAutofit/>
          </a:bodyPr>
          <a:p>
            <a:endParaRPr b="0" lang="en-US" sz="1800" spc="-1" strike="noStrike">
              <a:solidFill>
                <a:srgbClr val="000000"/>
              </a:solidFill>
              <a:latin typeface="Arial"/>
            </a:endParaRPr>
          </a:p>
        </p:txBody>
      </p:sp>
      <p:sp>
        <p:nvSpPr>
          <p:cNvPr id="1012" name="稻壳儿小白白(http://dwz.cn/Wu2UP)"/>
          <p:cNvSpPr/>
          <p:nvPr/>
        </p:nvSpPr>
        <p:spPr>
          <a:xfrm>
            <a:off x="8373960" y="5457960"/>
            <a:ext cx="227160" cy="109440"/>
          </a:xfrm>
          <a:custGeom>
            <a:avLst/>
            <a:gdLst/>
            <a:ahLst/>
            <a:rect l="l" t="t" r="r" b="b"/>
            <a:pathLst>
              <a:path w="47" h="23">
                <a:moveTo>
                  <a:pt x="17" y="9"/>
                </a:moveTo>
                <a:cubicBezTo>
                  <a:pt x="3" y="9"/>
                  <a:pt x="3" y="9"/>
                  <a:pt x="3" y="9"/>
                </a:cubicBezTo>
                <a:cubicBezTo>
                  <a:pt x="2" y="9"/>
                  <a:pt x="0" y="10"/>
                  <a:pt x="0" y="12"/>
                </a:cubicBezTo>
                <a:cubicBezTo>
                  <a:pt x="0" y="13"/>
                  <a:pt x="2" y="14"/>
                  <a:pt x="3" y="14"/>
                </a:cubicBezTo>
                <a:cubicBezTo>
                  <a:pt x="17" y="14"/>
                  <a:pt x="17" y="14"/>
                  <a:pt x="17" y="14"/>
                </a:cubicBezTo>
                <a:cubicBezTo>
                  <a:pt x="18" y="14"/>
                  <a:pt x="19" y="13"/>
                  <a:pt x="19" y="12"/>
                </a:cubicBezTo>
                <a:cubicBezTo>
                  <a:pt x="19" y="10"/>
                  <a:pt x="18" y="9"/>
                  <a:pt x="17" y="9"/>
                </a:cubicBezTo>
                <a:close/>
                <a:moveTo>
                  <a:pt x="17" y="19"/>
                </a:moveTo>
                <a:cubicBezTo>
                  <a:pt x="3" y="19"/>
                  <a:pt x="3" y="19"/>
                  <a:pt x="3" y="19"/>
                </a:cubicBezTo>
                <a:cubicBezTo>
                  <a:pt x="2" y="19"/>
                  <a:pt x="0" y="20"/>
                  <a:pt x="0" y="21"/>
                </a:cubicBezTo>
                <a:cubicBezTo>
                  <a:pt x="0" y="22"/>
                  <a:pt x="2" y="23"/>
                  <a:pt x="3" y="23"/>
                </a:cubicBezTo>
                <a:cubicBezTo>
                  <a:pt x="17" y="23"/>
                  <a:pt x="17" y="23"/>
                  <a:pt x="17" y="23"/>
                </a:cubicBezTo>
                <a:cubicBezTo>
                  <a:pt x="18" y="23"/>
                  <a:pt x="19" y="22"/>
                  <a:pt x="19" y="21"/>
                </a:cubicBezTo>
                <a:cubicBezTo>
                  <a:pt x="19" y="20"/>
                  <a:pt x="18" y="19"/>
                  <a:pt x="17" y="19"/>
                </a:cubicBezTo>
                <a:close/>
                <a:moveTo>
                  <a:pt x="46" y="9"/>
                </a:moveTo>
                <a:cubicBezTo>
                  <a:pt x="38" y="9"/>
                  <a:pt x="38" y="9"/>
                  <a:pt x="38" y="9"/>
                </a:cubicBezTo>
                <a:cubicBezTo>
                  <a:pt x="38" y="1"/>
                  <a:pt x="38" y="1"/>
                  <a:pt x="38" y="1"/>
                </a:cubicBezTo>
                <a:cubicBezTo>
                  <a:pt x="38" y="0"/>
                  <a:pt x="37" y="0"/>
                  <a:pt x="36" y="0"/>
                </a:cubicBezTo>
                <a:cubicBezTo>
                  <a:pt x="34" y="0"/>
                  <a:pt x="33" y="0"/>
                  <a:pt x="33" y="1"/>
                </a:cubicBezTo>
                <a:cubicBezTo>
                  <a:pt x="33" y="9"/>
                  <a:pt x="33" y="9"/>
                  <a:pt x="33" y="9"/>
                </a:cubicBezTo>
                <a:cubicBezTo>
                  <a:pt x="26" y="9"/>
                  <a:pt x="26" y="9"/>
                  <a:pt x="26" y="9"/>
                </a:cubicBezTo>
                <a:cubicBezTo>
                  <a:pt x="24" y="9"/>
                  <a:pt x="24" y="10"/>
                  <a:pt x="24" y="12"/>
                </a:cubicBezTo>
                <a:cubicBezTo>
                  <a:pt x="24" y="13"/>
                  <a:pt x="24" y="14"/>
                  <a:pt x="26" y="14"/>
                </a:cubicBezTo>
                <a:cubicBezTo>
                  <a:pt x="33" y="14"/>
                  <a:pt x="33" y="14"/>
                  <a:pt x="33" y="14"/>
                </a:cubicBezTo>
                <a:cubicBezTo>
                  <a:pt x="33" y="22"/>
                  <a:pt x="33" y="22"/>
                  <a:pt x="33" y="22"/>
                </a:cubicBezTo>
                <a:cubicBezTo>
                  <a:pt x="33" y="23"/>
                  <a:pt x="34" y="23"/>
                  <a:pt x="36" y="23"/>
                </a:cubicBezTo>
                <a:cubicBezTo>
                  <a:pt x="37" y="23"/>
                  <a:pt x="38" y="23"/>
                  <a:pt x="38" y="22"/>
                </a:cubicBezTo>
                <a:cubicBezTo>
                  <a:pt x="38" y="14"/>
                  <a:pt x="38" y="14"/>
                  <a:pt x="38" y="14"/>
                </a:cubicBezTo>
                <a:cubicBezTo>
                  <a:pt x="46" y="14"/>
                  <a:pt x="46" y="14"/>
                  <a:pt x="46" y="14"/>
                </a:cubicBezTo>
                <a:cubicBezTo>
                  <a:pt x="47" y="14"/>
                  <a:pt x="47" y="13"/>
                  <a:pt x="47" y="12"/>
                </a:cubicBezTo>
                <a:cubicBezTo>
                  <a:pt x="47" y="10"/>
                  <a:pt x="47" y="9"/>
                  <a:pt x="46" y="9"/>
                </a:cubicBezTo>
                <a:close/>
                <a:moveTo>
                  <a:pt x="17" y="0"/>
                </a:moveTo>
                <a:cubicBezTo>
                  <a:pt x="3" y="0"/>
                  <a:pt x="3" y="0"/>
                  <a:pt x="3" y="0"/>
                </a:cubicBezTo>
                <a:cubicBezTo>
                  <a:pt x="2" y="0"/>
                  <a:pt x="0" y="1"/>
                  <a:pt x="0" y="2"/>
                </a:cubicBezTo>
                <a:cubicBezTo>
                  <a:pt x="0" y="4"/>
                  <a:pt x="2" y="5"/>
                  <a:pt x="3" y="5"/>
                </a:cubicBezTo>
                <a:cubicBezTo>
                  <a:pt x="17" y="5"/>
                  <a:pt x="17" y="5"/>
                  <a:pt x="17" y="5"/>
                </a:cubicBezTo>
                <a:cubicBezTo>
                  <a:pt x="18" y="5"/>
                  <a:pt x="19" y="4"/>
                  <a:pt x="19" y="2"/>
                </a:cubicBezTo>
                <a:cubicBezTo>
                  <a:pt x="19" y="1"/>
                  <a:pt x="18" y="0"/>
                  <a:pt x="17" y="0"/>
                </a:cubicBezTo>
                <a:close/>
              </a:path>
            </a:pathLst>
          </a:custGeom>
          <a:solidFill>
            <a:srgbClr val="ffffff"/>
          </a:solidFill>
          <a:ln w="0">
            <a:noFill/>
          </a:ln>
        </p:spPr>
        <p:style>
          <a:lnRef idx="0"/>
          <a:fillRef idx="0"/>
          <a:effectRef idx="0"/>
          <a:fontRef idx="minor"/>
        </p:style>
        <p:txBody>
          <a:bodyPr lIns="121680" rIns="121680" tIns="48600" bIns="48600" anchor="t">
            <a:noAutofit/>
          </a:bodyPr>
          <a:p>
            <a:endParaRPr b="0" lang="en-US" sz="1800" spc="-1" strike="noStrike">
              <a:solidFill>
                <a:srgbClr val="000000"/>
              </a:solidFill>
              <a:latin typeface="Arial"/>
            </a:endParaRPr>
          </a:p>
        </p:txBody>
      </p:sp>
      <p:sp>
        <p:nvSpPr>
          <p:cNvPr id="1013" name="稻壳儿小白白(http://dwz.cn/Wu2UP)"/>
          <p:cNvSpPr/>
          <p:nvPr/>
        </p:nvSpPr>
        <p:spPr>
          <a:xfrm>
            <a:off x="8874000" y="5446800"/>
            <a:ext cx="135000" cy="135000"/>
          </a:xfrm>
          <a:custGeom>
            <a:avLst/>
            <a:gdLst/>
            <a:ahLst/>
            <a:rect l="l" t="t" r="r" b="b"/>
            <a:pathLst>
              <a:path w="28" h="28">
                <a:moveTo>
                  <a:pt x="8" y="0"/>
                </a:moveTo>
                <a:cubicBezTo>
                  <a:pt x="3" y="0"/>
                  <a:pt x="3" y="0"/>
                  <a:pt x="3" y="0"/>
                </a:cubicBezTo>
                <a:cubicBezTo>
                  <a:pt x="1" y="0"/>
                  <a:pt x="0" y="1"/>
                  <a:pt x="0" y="3"/>
                </a:cubicBezTo>
                <a:cubicBezTo>
                  <a:pt x="0" y="8"/>
                  <a:pt x="0" y="8"/>
                  <a:pt x="0" y="8"/>
                </a:cubicBezTo>
                <a:cubicBezTo>
                  <a:pt x="0" y="10"/>
                  <a:pt x="1" y="11"/>
                  <a:pt x="3" y="11"/>
                </a:cubicBezTo>
                <a:cubicBezTo>
                  <a:pt x="8" y="11"/>
                  <a:pt x="8" y="11"/>
                  <a:pt x="8" y="11"/>
                </a:cubicBezTo>
                <a:cubicBezTo>
                  <a:pt x="10" y="11"/>
                  <a:pt x="11" y="10"/>
                  <a:pt x="11" y="8"/>
                </a:cubicBezTo>
                <a:cubicBezTo>
                  <a:pt x="11" y="3"/>
                  <a:pt x="11" y="3"/>
                  <a:pt x="11" y="3"/>
                </a:cubicBezTo>
                <a:cubicBezTo>
                  <a:pt x="11" y="1"/>
                  <a:pt x="10" y="0"/>
                  <a:pt x="8" y="0"/>
                </a:cubicBezTo>
                <a:close/>
                <a:moveTo>
                  <a:pt x="24" y="0"/>
                </a:moveTo>
                <a:cubicBezTo>
                  <a:pt x="20" y="0"/>
                  <a:pt x="20" y="0"/>
                  <a:pt x="20" y="0"/>
                </a:cubicBezTo>
                <a:cubicBezTo>
                  <a:pt x="17" y="0"/>
                  <a:pt x="16" y="1"/>
                  <a:pt x="16" y="3"/>
                </a:cubicBezTo>
                <a:cubicBezTo>
                  <a:pt x="16" y="8"/>
                  <a:pt x="16" y="8"/>
                  <a:pt x="16" y="8"/>
                </a:cubicBezTo>
                <a:cubicBezTo>
                  <a:pt x="16" y="10"/>
                  <a:pt x="17" y="11"/>
                  <a:pt x="20" y="11"/>
                </a:cubicBezTo>
                <a:cubicBezTo>
                  <a:pt x="24" y="11"/>
                  <a:pt x="24" y="11"/>
                  <a:pt x="24" y="11"/>
                </a:cubicBezTo>
                <a:cubicBezTo>
                  <a:pt x="27" y="11"/>
                  <a:pt x="28" y="10"/>
                  <a:pt x="28" y="8"/>
                </a:cubicBezTo>
                <a:cubicBezTo>
                  <a:pt x="28" y="3"/>
                  <a:pt x="28" y="3"/>
                  <a:pt x="28" y="3"/>
                </a:cubicBezTo>
                <a:cubicBezTo>
                  <a:pt x="28" y="1"/>
                  <a:pt x="27" y="0"/>
                  <a:pt x="24" y="0"/>
                </a:cubicBezTo>
                <a:close/>
                <a:moveTo>
                  <a:pt x="8" y="16"/>
                </a:moveTo>
                <a:cubicBezTo>
                  <a:pt x="3" y="16"/>
                  <a:pt x="3" y="16"/>
                  <a:pt x="3" y="16"/>
                </a:cubicBezTo>
                <a:cubicBezTo>
                  <a:pt x="1" y="16"/>
                  <a:pt x="0" y="17"/>
                  <a:pt x="0" y="20"/>
                </a:cubicBezTo>
                <a:cubicBezTo>
                  <a:pt x="0" y="24"/>
                  <a:pt x="0" y="24"/>
                  <a:pt x="0" y="24"/>
                </a:cubicBezTo>
                <a:cubicBezTo>
                  <a:pt x="0" y="27"/>
                  <a:pt x="1" y="28"/>
                  <a:pt x="3" y="28"/>
                </a:cubicBezTo>
                <a:cubicBezTo>
                  <a:pt x="8" y="28"/>
                  <a:pt x="8" y="28"/>
                  <a:pt x="8" y="28"/>
                </a:cubicBezTo>
                <a:cubicBezTo>
                  <a:pt x="10" y="28"/>
                  <a:pt x="11" y="27"/>
                  <a:pt x="11" y="24"/>
                </a:cubicBezTo>
                <a:cubicBezTo>
                  <a:pt x="11" y="20"/>
                  <a:pt x="11" y="20"/>
                  <a:pt x="11" y="20"/>
                </a:cubicBezTo>
                <a:cubicBezTo>
                  <a:pt x="11" y="17"/>
                  <a:pt x="10" y="16"/>
                  <a:pt x="8" y="16"/>
                </a:cubicBezTo>
                <a:close/>
                <a:moveTo>
                  <a:pt x="24" y="16"/>
                </a:moveTo>
                <a:cubicBezTo>
                  <a:pt x="20" y="16"/>
                  <a:pt x="20" y="16"/>
                  <a:pt x="20" y="16"/>
                </a:cubicBezTo>
                <a:cubicBezTo>
                  <a:pt x="17" y="16"/>
                  <a:pt x="16" y="17"/>
                  <a:pt x="16" y="20"/>
                </a:cubicBezTo>
                <a:cubicBezTo>
                  <a:pt x="16" y="24"/>
                  <a:pt x="16" y="24"/>
                  <a:pt x="16" y="24"/>
                </a:cubicBezTo>
                <a:cubicBezTo>
                  <a:pt x="16" y="27"/>
                  <a:pt x="17" y="28"/>
                  <a:pt x="20" y="28"/>
                </a:cubicBezTo>
                <a:cubicBezTo>
                  <a:pt x="24" y="28"/>
                  <a:pt x="24" y="28"/>
                  <a:pt x="24" y="28"/>
                </a:cubicBezTo>
                <a:cubicBezTo>
                  <a:pt x="27" y="28"/>
                  <a:pt x="28" y="27"/>
                  <a:pt x="28" y="24"/>
                </a:cubicBezTo>
                <a:cubicBezTo>
                  <a:pt x="28" y="20"/>
                  <a:pt x="28" y="20"/>
                  <a:pt x="28" y="20"/>
                </a:cubicBezTo>
                <a:cubicBezTo>
                  <a:pt x="28" y="17"/>
                  <a:pt x="27" y="16"/>
                  <a:pt x="24" y="1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14" name="稻壳儿小白白(http://dwz.cn/Wu2UP)"/>
          <p:cNvSpPr/>
          <p:nvPr/>
        </p:nvSpPr>
        <p:spPr>
          <a:xfrm>
            <a:off x="4802040" y="5446800"/>
            <a:ext cx="166680" cy="135000"/>
          </a:xfrm>
          <a:custGeom>
            <a:avLst/>
            <a:gdLst/>
            <a:ahLst/>
            <a:rect l="l" t="t" r="r" b="b"/>
            <a:pathLst>
              <a:path w="35" h="28">
                <a:moveTo>
                  <a:pt x="4" y="21"/>
                </a:moveTo>
                <a:cubicBezTo>
                  <a:pt x="23" y="21"/>
                  <a:pt x="23" y="21"/>
                  <a:pt x="23" y="21"/>
                </a:cubicBezTo>
                <a:cubicBezTo>
                  <a:pt x="23" y="28"/>
                  <a:pt x="23" y="28"/>
                  <a:pt x="23" y="28"/>
                </a:cubicBezTo>
                <a:cubicBezTo>
                  <a:pt x="35" y="17"/>
                  <a:pt x="35" y="17"/>
                  <a:pt x="35" y="17"/>
                </a:cubicBezTo>
                <a:cubicBezTo>
                  <a:pt x="23" y="7"/>
                  <a:pt x="23" y="7"/>
                  <a:pt x="23" y="7"/>
                </a:cubicBezTo>
                <a:cubicBezTo>
                  <a:pt x="23" y="14"/>
                  <a:pt x="23" y="14"/>
                  <a:pt x="23" y="14"/>
                </a:cubicBezTo>
                <a:cubicBezTo>
                  <a:pt x="6" y="14"/>
                  <a:pt x="6" y="14"/>
                  <a:pt x="6" y="14"/>
                </a:cubicBezTo>
                <a:cubicBezTo>
                  <a:pt x="6" y="0"/>
                  <a:pt x="6" y="0"/>
                  <a:pt x="6" y="0"/>
                </a:cubicBezTo>
                <a:cubicBezTo>
                  <a:pt x="0" y="0"/>
                  <a:pt x="0" y="0"/>
                  <a:pt x="0" y="0"/>
                </a:cubicBezTo>
                <a:cubicBezTo>
                  <a:pt x="0" y="16"/>
                  <a:pt x="0" y="16"/>
                  <a:pt x="0" y="16"/>
                </a:cubicBezTo>
                <a:cubicBezTo>
                  <a:pt x="0" y="19"/>
                  <a:pt x="2" y="21"/>
                  <a:pt x="4" y="2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15" name="稻壳儿小白白(http://dwz.cn/Wu2UP)"/>
          <p:cNvSpPr/>
          <p:nvPr/>
        </p:nvSpPr>
        <p:spPr>
          <a:xfrm>
            <a:off x="10204560" y="1806480"/>
            <a:ext cx="177840" cy="187560"/>
          </a:xfrm>
          <a:custGeom>
            <a:avLst/>
            <a:gdLst/>
            <a:ahLst/>
            <a:rect l="l" t="t" r="r" b="b"/>
            <a:pathLst>
              <a:path w="37" h="39">
                <a:moveTo>
                  <a:pt x="13" y="31"/>
                </a:moveTo>
                <a:cubicBezTo>
                  <a:pt x="11" y="33"/>
                  <a:pt x="11" y="33"/>
                  <a:pt x="11" y="33"/>
                </a:cubicBezTo>
                <a:cubicBezTo>
                  <a:pt x="10" y="34"/>
                  <a:pt x="7" y="34"/>
                  <a:pt x="5" y="33"/>
                </a:cubicBezTo>
                <a:cubicBezTo>
                  <a:pt x="5" y="32"/>
                  <a:pt x="4" y="31"/>
                  <a:pt x="4" y="30"/>
                </a:cubicBezTo>
                <a:cubicBezTo>
                  <a:pt x="4" y="29"/>
                  <a:pt x="5" y="28"/>
                  <a:pt x="5" y="27"/>
                </a:cubicBezTo>
                <a:cubicBezTo>
                  <a:pt x="12" y="20"/>
                  <a:pt x="12" y="20"/>
                  <a:pt x="12" y="20"/>
                </a:cubicBezTo>
                <a:cubicBezTo>
                  <a:pt x="14" y="19"/>
                  <a:pt x="17" y="16"/>
                  <a:pt x="19" y="18"/>
                </a:cubicBezTo>
                <a:cubicBezTo>
                  <a:pt x="20" y="19"/>
                  <a:pt x="21" y="19"/>
                  <a:pt x="22" y="18"/>
                </a:cubicBezTo>
                <a:cubicBezTo>
                  <a:pt x="23" y="17"/>
                  <a:pt x="23" y="16"/>
                  <a:pt x="22" y="15"/>
                </a:cubicBezTo>
                <a:cubicBezTo>
                  <a:pt x="19" y="12"/>
                  <a:pt x="14" y="12"/>
                  <a:pt x="9" y="17"/>
                </a:cubicBezTo>
                <a:cubicBezTo>
                  <a:pt x="2" y="24"/>
                  <a:pt x="2" y="24"/>
                  <a:pt x="2" y="24"/>
                </a:cubicBezTo>
                <a:cubicBezTo>
                  <a:pt x="1" y="25"/>
                  <a:pt x="0" y="27"/>
                  <a:pt x="0" y="30"/>
                </a:cubicBezTo>
                <a:cubicBezTo>
                  <a:pt x="0" y="32"/>
                  <a:pt x="1" y="34"/>
                  <a:pt x="2" y="36"/>
                </a:cubicBezTo>
                <a:cubicBezTo>
                  <a:pt x="4" y="38"/>
                  <a:pt x="6" y="39"/>
                  <a:pt x="8" y="39"/>
                </a:cubicBezTo>
                <a:cubicBezTo>
                  <a:pt x="11" y="39"/>
                  <a:pt x="13" y="38"/>
                  <a:pt x="15" y="36"/>
                </a:cubicBezTo>
                <a:cubicBezTo>
                  <a:pt x="17" y="34"/>
                  <a:pt x="17" y="34"/>
                  <a:pt x="17" y="34"/>
                </a:cubicBezTo>
                <a:cubicBezTo>
                  <a:pt x="18" y="33"/>
                  <a:pt x="18" y="32"/>
                  <a:pt x="17" y="31"/>
                </a:cubicBezTo>
                <a:cubicBezTo>
                  <a:pt x="16" y="30"/>
                  <a:pt x="14" y="30"/>
                  <a:pt x="13" y="31"/>
                </a:cubicBezTo>
                <a:close/>
                <a:moveTo>
                  <a:pt x="35" y="4"/>
                </a:moveTo>
                <a:cubicBezTo>
                  <a:pt x="31" y="0"/>
                  <a:pt x="26" y="0"/>
                  <a:pt x="22" y="3"/>
                </a:cubicBezTo>
                <a:cubicBezTo>
                  <a:pt x="20" y="6"/>
                  <a:pt x="20" y="6"/>
                  <a:pt x="20" y="6"/>
                </a:cubicBezTo>
                <a:cubicBezTo>
                  <a:pt x="19" y="7"/>
                  <a:pt x="19" y="8"/>
                  <a:pt x="20" y="9"/>
                </a:cubicBezTo>
                <a:cubicBezTo>
                  <a:pt x="21" y="10"/>
                  <a:pt x="22" y="10"/>
                  <a:pt x="23" y="9"/>
                </a:cubicBezTo>
                <a:cubicBezTo>
                  <a:pt x="26" y="7"/>
                  <a:pt x="26" y="7"/>
                  <a:pt x="26" y="7"/>
                </a:cubicBezTo>
                <a:cubicBezTo>
                  <a:pt x="27" y="5"/>
                  <a:pt x="30" y="6"/>
                  <a:pt x="31" y="7"/>
                </a:cubicBezTo>
                <a:cubicBezTo>
                  <a:pt x="32" y="8"/>
                  <a:pt x="32" y="9"/>
                  <a:pt x="32" y="10"/>
                </a:cubicBezTo>
                <a:cubicBezTo>
                  <a:pt x="32" y="11"/>
                  <a:pt x="32" y="12"/>
                  <a:pt x="31" y="13"/>
                </a:cubicBezTo>
                <a:cubicBezTo>
                  <a:pt x="24" y="21"/>
                  <a:pt x="24" y="21"/>
                  <a:pt x="24" y="21"/>
                </a:cubicBezTo>
                <a:cubicBezTo>
                  <a:pt x="20" y="24"/>
                  <a:pt x="19" y="22"/>
                  <a:pt x="18" y="22"/>
                </a:cubicBezTo>
                <a:cubicBezTo>
                  <a:pt x="17" y="21"/>
                  <a:pt x="16" y="21"/>
                  <a:pt x="15" y="22"/>
                </a:cubicBezTo>
                <a:cubicBezTo>
                  <a:pt x="14" y="23"/>
                  <a:pt x="14" y="24"/>
                  <a:pt x="15" y="25"/>
                </a:cubicBezTo>
                <a:cubicBezTo>
                  <a:pt x="16" y="26"/>
                  <a:pt x="18" y="27"/>
                  <a:pt x="20" y="27"/>
                </a:cubicBezTo>
                <a:cubicBezTo>
                  <a:pt x="22" y="27"/>
                  <a:pt x="25" y="26"/>
                  <a:pt x="27" y="24"/>
                </a:cubicBezTo>
                <a:cubicBezTo>
                  <a:pt x="35" y="16"/>
                  <a:pt x="35" y="16"/>
                  <a:pt x="35" y="16"/>
                </a:cubicBezTo>
                <a:cubicBezTo>
                  <a:pt x="36" y="15"/>
                  <a:pt x="37" y="13"/>
                  <a:pt x="37" y="10"/>
                </a:cubicBezTo>
                <a:cubicBezTo>
                  <a:pt x="37" y="8"/>
                  <a:pt x="36" y="6"/>
                  <a:pt x="35" y="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16" name="稻壳儿小白白(http://dwz.cn/Wu2UP)"/>
          <p:cNvSpPr/>
          <p:nvPr/>
        </p:nvSpPr>
        <p:spPr>
          <a:xfrm>
            <a:off x="6146640" y="1820880"/>
            <a:ext cx="176400" cy="158760"/>
          </a:xfrm>
          <a:custGeom>
            <a:avLst/>
            <a:gdLst/>
            <a:ahLst/>
            <a:rect l="l" t="t" r="r" b="b"/>
            <a:pathLst>
              <a:path w="37" h="33">
                <a:moveTo>
                  <a:pt x="33" y="0"/>
                </a:moveTo>
                <a:cubicBezTo>
                  <a:pt x="5" y="0"/>
                  <a:pt x="5" y="0"/>
                  <a:pt x="5" y="0"/>
                </a:cubicBezTo>
                <a:cubicBezTo>
                  <a:pt x="2" y="0"/>
                  <a:pt x="0" y="3"/>
                  <a:pt x="0" y="5"/>
                </a:cubicBezTo>
                <a:cubicBezTo>
                  <a:pt x="0" y="22"/>
                  <a:pt x="0" y="22"/>
                  <a:pt x="0" y="22"/>
                </a:cubicBezTo>
                <a:cubicBezTo>
                  <a:pt x="0" y="24"/>
                  <a:pt x="2" y="26"/>
                  <a:pt x="5" y="26"/>
                </a:cubicBezTo>
                <a:cubicBezTo>
                  <a:pt x="14" y="26"/>
                  <a:pt x="14" y="26"/>
                  <a:pt x="14" y="26"/>
                </a:cubicBezTo>
                <a:cubicBezTo>
                  <a:pt x="23" y="33"/>
                  <a:pt x="23" y="33"/>
                  <a:pt x="23" y="33"/>
                </a:cubicBezTo>
                <a:cubicBezTo>
                  <a:pt x="23" y="26"/>
                  <a:pt x="23" y="26"/>
                  <a:pt x="23" y="26"/>
                </a:cubicBezTo>
                <a:cubicBezTo>
                  <a:pt x="33" y="26"/>
                  <a:pt x="33" y="26"/>
                  <a:pt x="33" y="26"/>
                </a:cubicBezTo>
                <a:cubicBezTo>
                  <a:pt x="35" y="26"/>
                  <a:pt x="37" y="24"/>
                  <a:pt x="37" y="22"/>
                </a:cubicBezTo>
                <a:cubicBezTo>
                  <a:pt x="37" y="5"/>
                  <a:pt x="37" y="5"/>
                  <a:pt x="37" y="5"/>
                </a:cubicBezTo>
                <a:cubicBezTo>
                  <a:pt x="37" y="3"/>
                  <a:pt x="35" y="0"/>
                  <a:pt x="33" y="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17" name="稻壳儿小白白(http://dwz.cn/Wu2UP)"/>
          <p:cNvSpPr/>
          <p:nvPr/>
        </p:nvSpPr>
        <p:spPr>
          <a:xfrm>
            <a:off x="10194840" y="1351080"/>
            <a:ext cx="196920" cy="201600"/>
          </a:xfrm>
          <a:custGeom>
            <a:avLst/>
            <a:gdLst/>
            <a:ahLst/>
            <a:rect l="l" t="t" r="r" b="b"/>
            <a:pathLst>
              <a:path w="97" h="100">
                <a:moveTo>
                  <a:pt x="47" y="0"/>
                </a:moveTo>
                <a:lnTo>
                  <a:pt x="62" y="38"/>
                </a:lnTo>
                <a:lnTo>
                  <a:pt x="97" y="38"/>
                </a:lnTo>
                <a:lnTo>
                  <a:pt x="69" y="59"/>
                </a:lnTo>
                <a:lnTo>
                  <a:pt x="78" y="100"/>
                </a:lnTo>
                <a:lnTo>
                  <a:pt x="47" y="76"/>
                </a:lnTo>
                <a:lnTo>
                  <a:pt x="19" y="100"/>
                </a:lnTo>
                <a:lnTo>
                  <a:pt x="29" y="59"/>
                </a:lnTo>
                <a:lnTo>
                  <a:pt x="0" y="38"/>
                </a:lnTo>
                <a:lnTo>
                  <a:pt x="36" y="38"/>
                </a:lnTo>
                <a:lnTo>
                  <a:pt x="47" y="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18" name="稻壳儿小白白(http://dwz.cn/Wu2UP)"/>
          <p:cNvSpPr/>
          <p:nvPr/>
        </p:nvSpPr>
        <p:spPr>
          <a:xfrm>
            <a:off x="4340160" y="2260440"/>
            <a:ext cx="187560" cy="185760"/>
          </a:xfrm>
          <a:custGeom>
            <a:avLst/>
            <a:gdLst/>
            <a:ahLst/>
            <a:rect l="l" t="t" r="r" b="b"/>
            <a:pathLst>
              <a:path w="39" h="39">
                <a:moveTo>
                  <a:pt x="35" y="20"/>
                </a:moveTo>
                <a:cubicBezTo>
                  <a:pt x="35" y="17"/>
                  <a:pt x="37" y="15"/>
                  <a:pt x="39" y="14"/>
                </a:cubicBezTo>
                <a:cubicBezTo>
                  <a:pt x="39" y="13"/>
                  <a:pt x="38" y="11"/>
                  <a:pt x="37" y="10"/>
                </a:cubicBezTo>
                <a:cubicBezTo>
                  <a:pt x="35" y="11"/>
                  <a:pt x="33" y="10"/>
                  <a:pt x="31" y="8"/>
                </a:cubicBezTo>
                <a:cubicBezTo>
                  <a:pt x="29" y="6"/>
                  <a:pt x="29" y="4"/>
                  <a:pt x="29" y="2"/>
                </a:cubicBezTo>
                <a:cubicBezTo>
                  <a:pt x="28" y="1"/>
                  <a:pt x="27" y="0"/>
                  <a:pt x="25" y="0"/>
                </a:cubicBezTo>
                <a:cubicBezTo>
                  <a:pt x="24" y="2"/>
                  <a:pt x="22" y="4"/>
                  <a:pt x="19" y="4"/>
                </a:cubicBezTo>
                <a:cubicBezTo>
                  <a:pt x="17" y="4"/>
                  <a:pt x="14" y="2"/>
                  <a:pt x="13" y="0"/>
                </a:cubicBezTo>
                <a:cubicBezTo>
                  <a:pt x="12" y="0"/>
                  <a:pt x="10" y="1"/>
                  <a:pt x="9" y="2"/>
                </a:cubicBezTo>
                <a:cubicBezTo>
                  <a:pt x="10" y="4"/>
                  <a:pt x="9" y="6"/>
                  <a:pt x="8" y="8"/>
                </a:cubicBezTo>
                <a:cubicBezTo>
                  <a:pt x="6" y="10"/>
                  <a:pt x="4" y="11"/>
                  <a:pt x="1" y="10"/>
                </a:cubicBezTo>
                <a:cubicBezTo>
                  <a:pt x="1" y="11"/>
                  <a:pt x="0" y="13"/>
                  <a:pt x="0" y="14"/>
                </a:cubicBezTo>
                <a:cubicBezTo>
                  <a:pt x="2" y="15"/>
                  <a:pt x="3" y="17"/>
                  <a:pt x="3" y="20"/>
                </a:cubicBezTo>
                <a:cubicBezTo>
                  <a:pt x="3" y="22"/>
                  <a:pt x="2" y="25"/>
                  <a:pt x="0" y="26"/>
                </a:cubicBezTo>
                <a:cubicBezTo>
                  <a:pt x="0" y="27"/>
                  <a:pt x="1" y="29"/>
                  <a:pt x="1" y="30"/>
                </a:cubicBezTo>
                <a:cubicBezTo>
                  <a:pt x="4" y="29"/>
                  <a:pt x="6" y="30"/>
                  <a:pt x="8" y="31"/>
                </a:cubicBezTo>
                <a:cubicBezTo>
                  <a:pt x="9" y="33"/>
                  <a:pt x="10" y="35"/>
                  <a:pt x="9" y="38"/>
                </a:cubicBezTo>
                <a:cubicBezTo>
                  <a:pt x="10" y="38"/>
                  <a:pt x="12" y="39"/>
                  <a:pt x="13" y="39"/>
                </a:cubicBezTo>
                <a:cubicBezTo>
                  <a:pt x="14" y="37"/>
                  <a:pt x="17" y="36"/>
                  <a:pt x="19" y="36"/>
                </a:cubicBezTo>
                <a:cubicBezTo>
                  <a:pt x="22" y="36"/>
                  <a:pt x="24" y="37"/>
                  <a:pt x="25" y="39"/>
                </a:cubicBezTo>
                <a:cubicBezTo>
                  <a:pt x="27" y="39"/>
                  <a:pt x="28" y="38"/>
                  <a:pt x="29" y="38"/>
                </a:cubicBezTo>
                <a:cubicBezTo>
                  <a:pt x="29" y="35"/>
                  <a:pt x="29" y="33"/>
                  <a:pt x="31" y="31"/>
                </a:cubicBezTo>
                <a:cubicBezTo>
                  <a:pt x="33" y="30"/>
                  <a:pt x="35" y="29"/>
                  <a:pt x="37" y="29"/>
                </a:cubicBezTo>
                <a:cubicBezTo>
                  <a:pt x="38" y="28"/>
                  <a:pt x="39" y="27"/>
                  <a:pt x="39" y="25"/>
                </a:cubicBezTo>
                <a:cubicBezTo>
                  <a:pt x="37" y="24"/>
                  <a:pt x="35" y="22"/>
                  <a:pt x="35" y="20"/>
                </a:cubicBezTo>
                <a:close/>
                <a:moveTo>
                  <a:pt x="19" y="28"/>
                </a:moveTo>
                <a:cubicBezTo>
                  <a:pt x="15" y="28"/>
                  <a:pt x="11" y="24"/>
                  <a:pt x="11" y="20"/>
                </a:cubicBezTo>
                <a:cubicBezTo>
                  <a:pt x="11" y="15"/>
                  <a:pt x="15" y="11"/>
                  <a:pt x="19" y="11"/>
                </a:cubicBezTo>
                <a:cubicBezTo>
                  <a:pt x="24" y="11"/>
                  <a:pt x="28" y="15"/>
                  <a:pt x="28" y="20"/>
                </a:cubicBezTo>
                <a:cubicBezTo>
                  <a:pt x="28" y="24"/>
                  <a:pt x="24" y="28"/>
                  <a:pt x="19" y="2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19" name="稻壳儿小白白(http://dwz.cn/Wu2UP)"/>
          <p:cNvSpPr/>
          <p:nvPr/>
        </p:nvSpPr>
        <p:spPr>
          <a:xfrm>
            <a:off x="8836200" y="1797120"/>
            <a:ext cx="210960" cy="212760"/>
          </a:xfrm>
          <a:custGeom>
            <a:avLst/>
            <a:gdLst/>
            <a:ahLst/>
            <a:rect l="l" t="t" r="r" b="b"/>
            <a:pathLst>
              <a:path w="44" h="44">
                <a:moveTo>
                  <a:pt x="38" y="5"/>
                </a:moveTo>
                <a:cubicBezTo>
                  <a:pt x="35" y="1"/>
                  <a:pt x="30" y="0"/>
                  <a:pt x="28" y="1"/>
                </a:cubicBezTo>
                <a:cubicBezTo>
                  <a:pt x="22" y="8"/>
                  <a:pt x="22" y="8"/>
                  <a:pt x="22" y="8"/>
                </a:cubicBezTo>
                <a:cubicBezTo>
                  <a:pt x="21" y="9"/>
                  <a:pt x="20" y="12"/>
                  <a:pt x="20" y="15"/>
                </a:cubicBezTo>
                <a:cubicBezTo>
                  <a:pt x="1" y="34"/>
                  <a:pt x="1" y="34"/>
                  <a:pt x="1" y="34"/>
                </a:cubicBezTo>
                <a:cubicBezTo>
                  <a:pt x="0" y="35"/>
                  <a:pt x="1" y="38"/>
                  <a:pt x="3" y="40"/>
                </a:cubicBezTo>
                <a:cubicBezTo>
                  <a:pt x="5" y="43"/>
                  <a:pt x="8" y="44"/>
                  <a:pt x="9" y="43"/>
                </a:cubicBezTo>
                <a:cubicBezTo>
                  <a:pt x="29" y="23"/>
                  <a:pt x="29" y="23"/>
                  <a:pt x="29" y="23"/>
                </a:cubicBezTo>
                <a:cubicBezTo>
                  <a:pt x="32" y="24"/>
                  <a:pt x="35" y="23"/>
                  <a:pt x="36" y="22"/>
                </a:cubicBezTo>
                <a:cubicBezTo>
                  <a:pt x="42" y="16"/>
                  <a:pt x="42" y="16"/>
                  <a:pt x="42" y="16"/>
                </a:cubicBezTo>
                <a:cubicBezTo>
                  <a:pt x="44" y="14"/>
                  <a:pt x="42" y="9"/>
                  <a:pt x="38" y="5"/>
                </a:cubicBezTo>
                <a:close/>
                <a:moveTo>
                  <a:pt x="17" y="24"/>
                </a:moveTo>
                <a:cubicBezTo>
                  <a:pt x="17" y="23"/>
                  <a:pt x="17" y="22"/>
                  <a:pt x="18" y="21"/>
                </a:cubicBezTo>
                <a:cubicBezTo>
                  <a:pt x="19" y="19"/>
                  <a:pt x="21" y="19"/>
                  <a:pt x="22" y="20"/>
                </a:cubicBezTo>
                <a:cubicBezTo>
                  <a:pt x="23" y="21"/>
                  <a:pt x="22" y="22"/>
                  <a:pt x="21" y="24"/>
                </a:cubicBezTo>
                <a:cubicBezTo>
                  <a:pt x="20" y="25"/>
                  <a:pt x="18" y="25"/>
                  <a:pt x="17" y="24"/>
                </a:cubicBezTo>
                <a:close/>
                <a:moveTo>
                  <a:pt x="33" y="10"/>
                </a:moveTo>
                <a:cubicBezTo>
                  <a:pt x="30" y="7"/>
                  <a:pt x="29" y="3"/>
                  <a:pt x="30" y="3"/>
                </a:cubicBezTo>
                <a:cubicBezTo>
                  <a:pt x="30" y="3"/>
                  <a:pt x="34" y="4"/>
                  <a:pt x="37" y="7"/>
                </a:cubicBezTo>
                <a:cubicBezTo>
                  <a:pt x="40" y="10"/>
                  <a:pt x="41" y="14"/>
                  <a:pt x="41" y="14"/>
                </a:cubicBezTo>
                <a:cubicBezTo>
                  <a:pt x="40" y="14"/>
                  <a:pt x="36" y="13"/>
                  <a:pt x="33" y="1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20" name="稻壳儿小白白(http://dwz.cn/Wu2UP)"/>
          <p:cNvSpPr/>
          <p:nvPr/>
        </p:nvSpPr>
        <p:spPr>
          <a:xfrm>
            <a:off x="3879720" y="2206800"/>
            <a:ext cx="204840" cy="244440"/>
          </a:xfrm>
          <a:custGeom>
            <a:avLst/>
            <a:gdLst/>
            <a:ahLst/>
            <a:rect l="l" t="t" r="r" b="b"/>
            <a:pathLst>
              <a:path w="43" h="51">
                <a:moveTo>
                  <a:pt x="41" y="18"/>
                </a:moveTo>
                <a:cubicBezTo>
                  <a:pt x="15" y="29"/>
                  <a:pt x="25" y="0"/>
                  <a:pt x="5" y="15"/>
                </a:cubicBezTo>
                <a:cubicBezTo>
                  <a:pt x="0" y="17"/>
                  <a:pt x="0" y="17"/>
                  <a:pt x="0" y="17"/>
                </a:cubicBezTo>
                <a:cubicBezTo>
                  <a:pt x="9" y="51"/>
                  <a:pt x="9" y="51"/>
                  <a:pt x="9" y="51"/>
                </a:cubicBezTo>
                <a:cubicBezTo>
                  <a:pt x="14" y="51"/>
                  <a:pt x="14" y="51"/>
                  <a:pt x="14" y="51"/>
                </a:cubicBezTo>
                <a:cubicBezTo>
                  <a:pt x="9" y="34"/>
                  <a:pt x="9" y="34"/>
                  <a:pt x="9" y="34"/>
                </a:cubicBezTo>
                <a:cubicBezTo>
                  <a:pt x="28" y="19"/>
                  <a:pt x="20" y="51"/>
                  <a:pt x="42" y="19"/>
                </a:cubicBezTo>
                <a:cubicBezTo>
                  <a:pt x="43" y="18"/>
                  <a:pt x="42" y="18"/>
                  <a:pt x="41" y="1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21" name="稻壳儿小白白(http://dwz.cn/Wu2UP)"/>
          <p:cNvSpPr/>
          <p:nvPr/>
        </p:nvSpPr>
        <p:spPr>
          <a:xfrm>
            <a:off x="9744120" y="1797120"/>
            <a:ext cx="190440" cy="212760"/>
          </a:xfrm>
          <a:custGeom>
            <a:avLst/>
            <a:gdLst/>
            <a:ahLst/>
            <a:rect l="l" t="t" r="r" b="b"/>
            <a:pathLst>
              <a:path w="40" h="44">
                <a:moveTo>
                  <a:pt x="31" y="18"/>
                </a:moveTo>
                <a:cubicBezTo>
                  <a:pt x="26" y="7"/>
                  <a:pt x="23" y="3"/>
                  <a:pt x="15" y="3"/>
                </a:cubicBezTo>
                <a:cubicBezTo>
                  <a:pt x="11" y="3"/>
                  <a:pt x="12" y="0"/>
                  <a:pt x="10" y="1"/>
                </a:cubicBezTo>
                <a:cubicBezTo>
                  <a:pt x="7" y="2"/>
                  <a:pt x="9" y="3"/>
                  <a:pt x="7" y="5"/>
                </a:cubicBezTo>
                <a:cubicBezTo>
                  <a:pt x="0" y="11"/>
                  <a:pt x="1" y="16"/>
                  <a:pt x="4" y="29"/>
                </a:cubicBezTo>
                <a:cubicBezTo>
                  <a:pt x="5" y="34"/>
                  <a:pt x="1" y="34"/>
                  <a:pt x="3" y="39"/>
                </a:cubicBezTo>
                <a:cubicBezTo>
                  <a:pt x="4" y="43"/>
                  <a:pt x="14" y="44"/>
                  <a:pt x="24" y="40"/>
                </a:cubicBezTo>
                <a:cubicBezTo>
                  <a:pt x="34" y="37"/>
                  <a:pt x="40" y="29"/>
                  <a:pt x="39" y="25"/>
                </a:cubicBezTo>
                <a:cubicBezTo>
                  <a:pt x="37" y="20"/>
                  <a:pt x="34" y="23"/>
                  <a:pt x="31" y="18"/>
                </a:cubicBezTo>
                <a:close/>
                <a:moveTo>
                  <a:pt x="23" y="37"/>
                </a:moveTo>
                <a:cubicBezTo>
                  <a:pt x="14" y="41"/>
                  <a:pt x="6" y="39"/>
                  <a:pt x="6" y="38"/>
                </a:cubicBezTo>
                <a:cubicBezTo>
                  <a:pt x="5" y="36"/>
                  <a:pt x="9" y="31"/>
                  <a:pt x="19" y="27"/>
                </a:cubicBezTo>
                <a:cubicBezTo>
                  <a:pt x="30" y="24"/>
                  <a:pt x="35" y="25"/>
                  <a:pt x="36" y="27"/>
                </a:cubicBezTo>
                <a:cubicBezTo>
                  <a:pt x="36" y="28"/>
                  <a:pt x="32" y="34"/>
                  <a:pt x="23" y="37"/>
                </a:cubicBezTo>
                <a:close/>
                <a:moveTo>
                  <a:pt x="20" y="29"/>
                </a:moveTo>
                <a:cubicBezTo>
                  <a:pt x="15" y="31"/>
                  <a:pt x="12" y="33"/>
                  <a:pt x="10" y="35"/>
                </a:cubicBezTo>
                <a:cubicBezTo>
                  <a:pt x="11" y="36"/>
                  <a:pt x="14" y="36"/>
                  <a:pt x="17" y="35"/>
                </a:cubicBezTo>
                <a:cubicBezTo>
                  <a:pt x="20" y="34"/>
                  <a:pt x="22" y="31"/>
                  <a:pt x="22" y="29"/>
                </a:cubicBezTo>
                <a:cubicBezTo>
                  <a:pt x="22" y="29"/>
                  <a:pt x="22" y="29"/>
                  <a:pt x="22" y="29"/>
                </a:cubicBezTo>
                <a:cubicBezTo>
                  <a:pt x="21" y="29"/>
                  <a:pt x="20" y="29"/>
                  <a:pt x="20" y="2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22" name="稻壳儿小白白(http://dwz.cn/Wu2UP)"/>
          <p:cNvSpPr/>
          <p:nvPr/>
        </p:nvSpPr>
        <p:spPr>
          <a:xfrm>
            <a:off x="9282240" y="1806480"/>
            <a:ext cx="222120" cy="193680"/>
          </a:xfrm>
          <a:custGeom>
            <a:avLst/>
            <a:gdLst/>
            <a:ahLst/>
            <a:rect l="l" t="t" r="r" b="b"/>
            <a:pathLst>
              <a:path w="46" h="40">
                <a:moveTo>
                  <a:pt x="3" y="12"/>
                </a:moveTo>
                <a:cubicBezTo>
                  <a:pt x="43" y="12"/>
                  <a:pt x="43" y="12"/>
                  <a:pt x="43" y="12"/>
                </a:cubicBezTo>
                <a:cubicBezTo>
                  <a:pt x="44" y="12"/>
                  <a:pt x="44" y="10"/>
                  <a:pt x="43" y="10"/>
                </a:cubicBezTo>
                <a:cubicBezTo>
                  <a:pt x="42" y="10"/>
                  <a:pt x="35" y="7"/>
                  <a:pt x="34" y="7"/>
                </a:cubicBezTo>
                <a:cubicBezTo>
                  <a:pt x="32" y="7"/>
                  <a:pt x="32" y="7"/>
                  <a:pt x="32" y="7"/>
                </a:cubicBezTo>
                <a:cubicBezTo>
                  <a:pt x="32" y="0"/>
                  <a:pt x="32" y="0"/>
                  <a:pt x="32" y="0"/>
                </a:cubicBezTo>
                <a:cubicBezTo>
                  <a:pt x="14" y="0"/>
                  <a:pt x="14" y="0"/>
                  <a:pt x="14" y="0"/>
                </a:cubicBezTo>
                <a:cubicBezTo>
                  <a:pt x="14" y="7"/>
                  <a:pt x="14" y="7"/>
                  <a:pt x="14" y="7"/>
                </a:cubicBezTo>
                <a:cubicBezTo>
                  <a:pt x="12" y="7"/>
                  <a:pt x="12" y="7"/>
                  <a:pt x="12" y="7"/>
                </a:cubicBezTo>
                <a:cubicBezTo>
                  <a:pt x="10" y="7"/>
                  <a:pt x="3" y="10"/>
                  <a:pt x="2" y="10"/>
                </a:cubicBezTo>
                <a:cubicBezTo>
                  <a:pt x="2" y="10"/>
                  <a:pt x="1" y="12"/>
                  <a:pt x="3" y="12"/>
                </a:cubicBezTo>
                <a:close/>
                <a:moveTo>
                  <a:pt x="43" y="14"/>
                </a:moveTo>
                <a:cubicBezTo>
                  <a:pt x="2" y="14"/>
                  <a:pt x="2" y="14"/>
                  <a:pt x="2" y="14"/>
                </a:cubicBezTo>
                <a:cubicBezTo>
                  <a:pt x="1" y="14"/>
                  <a:pt x="0" y="16"/>
                  <a:pt x="0" y="17"/>
                </a:cubicBezTo>
                <a:cubicBezTo>
                  <a:pt x="0" y="25"/>
                  <a:pt x="0" y="25"/>
                  <a:pt x="0" y="25"/>
                </a:cubicBezTo>
                <a:cubicBezTo>
                  <a:pt x="0" y="27"/>
                  <a:pt x="1" y="28"/>
                  <a:pt x="2" y="28"/>
                </a:cubicBezTo>
                <a:cubicBezTo>
                  <a:pt x="7" y="28"/>
                  <a:pt x="7" y="28"/>
                  <a:pt x="7" y="28"/>
                </a:cubicBezTo>
                <a:cubicBezTo>
                  <a:pt x="5" y="40"/>
                  <a:pt x="5" y="40"/>
                  <a:pt x="5" y="40"/>
                </a:cubicBezTo>
                <a:cubicBezTo>
                  <a:pt x="40" y="40"/>
                  <a:pt x="40" y="40"/>
                  <a:pt x="40" y="40"/>
                </a:cubicBezTo>
                <a:cubicBezTo>
                  <a:pt x="38" y="28"/>
                  <a:pt x="38" y="28"/>
                  <a:pt x="38" y="28"/>
                </a:cubicBezTo>
                <a:cubicBezTo>
                  <a:pt x="43" y="28"/>
                  <a:pt x="43" y="28"/>
                  <a:pt x="43" y="28"/>
                </a:cubicBezTo>
                <a:cubicBezTo>
                  <a:pt x="44" y="28"/>
                  <a:pt x="46" y="27"/>
                  <a:pt x="46" y="25"/>
                </a:cubicBezTo>
                <a:cubicBezTo>
                  <a:pt x="46" y="17"/>
                  <a:pt x="46" y="17"/>
                  <a:pt x="46" y="17"/>
                </a:cubicBezTo>
                <a:cubicBezTo>
                  <a:pt x="46" y="16"/>
                  <a:pt x="44" y="14"/>
                  <a:pt x="43" y="14"/>
                </a:cubicBezTo>
                <a:close/>
                <a:moveTo>
                  <a:pt x="10" y="35"/>
                </a:moveTo>
                <a:cubicBezTo>
                  <a:pt x="13" y="20"/>
                  <a:pt x="13" y="20"/>
                  <a:pt x="13" y="20"/>
                </a:cubicBezTo>
                <a:cubicBezTo>
                  <a:pt x="32" y="20"/>
                  <a:pt x="32" y="20"/>
                  <a:pt x="32" y="20"/>
                </a:cubicBezTo>
                <a:cubicBezTo>
                  <a:pt x="36" y="35"/>
                  <a:pt x="36" y="35"/>
                  <a:pt x="36" y="35"/>
                </a:cubicBezTo>
                <a:lnTo>
                  <a:pt x="10" y="35"/>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23" name="稻壳儿小白白(http://dwz.cn/Wu2UP)"/>
          <p:cNvSpPr/>
          <p:nvPr/>
        </p:nvSpPr>
        <p:spPr>
          <a:xfrm>
            <a:off x="5670720" y="1803240"/>
            <a:ext cx="225360" cy="201600"/>
          </a:xfrm>
          <a:custGeom>
            <a:avLst/>
            <a:gdLst/>
            <a:ahLst/>
            <a:rect l="l" t="t" r="r" b="b"/>
            <a:pathLst>
              <a:path w="47" h="42">
                <a:moveTo>
                  <a:pt x="14" y="26"/>
                </a:moveTo>
                <a:cubicBezTo>
                  <a:pt x="14" y="11"/>
                  <a:pt x="14" y="11"/>
                  <a:pt x="14" y="11"/>
                </a:cubicBezTo>
                <a:cubicBezTo>
                  <a:pt x="5" y="11"/>
                  <a:pt x="5" y="11"/>
                  <a:pt x="5" y="11"/>
                </a:cubicBezTo>
                <a:cubicBezTo>
                  <a:pt x="2" y="11"/>
                  <a:pt x="0" y="14"/>
                  <a:pt x="0" y="16"/>
                </a:cubicBezTo>
                <a:cubicBezTo>
                  <a:pt x="0" y="30"/>
                  <a:pt x="0" y="30"/>
                  <a:pt x="0" y="30"/>
                </a:cubicBezTo>
                <a:cubicBezTo>
                  <a:pt x="0" y="33"/>
                  <a:pt x="2" y="35"/>
                  <a:pt x="5" y="35"/>
                </a:cubicBezTo>
                <a:cubicBezTo>
                  <a:pt x="7" y="35"/>
                  <a:pt x="7" y="35"/>
                  <a:pt x="7" y="35"/>
                </a:cubicBezTo>
                <a:cubicBezTo>
                  <a:pt x="7" y="42"/>
                  <a:pt x="7" y="42"/>
                  <a:pt x="7" y="42"/>
                </a:cubicBezTo>
                <a:cubicBezTo>
                  <a:pt x="14" y="35"/>
                  <a:pt x="14" y="35"/>
                  <a:pt x="14" y="35"/>
                </a:cubicBezTo>
                <a:cubicBezTo>
                  <a:pt x="26" y="35"/>
                  <a:pt x="26" y="35"/>
                  <a:pt x="26" y="35"/>
                </a:cubicBezTo>
                <a:cubicBezTo>
                  <a:pt x="29" y="35"/>
                  <a:pt x="31" y="33"/>
                  <a:pt x="31" y="30"/>
                </a:cubicBezTo>
                <a:cubicBezTo>
                  <a:pt x="31" y="26"/>
                  <a:pt x="31" y="26"/>
                  <a:pt x="31" y="26"/>
                </a:cubicBezTo>
                <a:cubicBezTo>
                  <a:pt x="31" y="26"/>
                  <a:pt x="31" y="26"/>
                  <a:pt x="30" y="26"/>
                </a:cubicBezTo>
                <a:lnTo>
                  <a:pt x="14" y="26"/>
                </a:lnTo>
                <a:close/>
                <a:moveTo>
                  <a:pt x="43" y="0"/>
                </a:moveTo>
                <a:cubicBezTo>
                  <a:pt x="21" y="0"/>
                  <a:pt x="21" y="0"/>
                  <a:pt x="21" y="0"/>
                </a:cubicBezTo>
                <a:cubicBezTo>
                  <a:pt x="19" y="0"/>
                  <a:pt x="17" y="2"/>
                  <a:pt x="17" y="4"/>
                </a:cubicBezTo>
                <a:cubicBezTo>
                  <a:pt x="17" y="23"/>
                  <a:pt x="17" y="23"/>
                  <a:pt x="17" y="23"/>
                </a:cubicBezTo>
                <a:cubicBezTo>
                  <a:pt x="33" y="23"/>
                  <a:pt x="33" y="23"/>
                  <a:pt x="33" y="23"/>
                </a:cubicBezTo>
                <a:cubicBezTo>
                  <a:pt x="40" y="30"/>
                  <a:pt x="40" y="30"/>
                  <a:pt x="40" y="30"/>
                </a:cubicBezTo>
                <a:cubicBezTo>
                  <a:pt x="40" y="23"/>
                  <a:pt x="40" y="23"/>
                  <a:pt x="40" y="23"/>
                </a:cubicBezTo>
                <a:cubicBezTo>
                  <a:pt x="43" y="23"/>
                  <a:pt x="43" y="23"/>
                  <a:pt x="43" y="23"/>
                </a:cubicBezTo>
                <a:cubicBezTo>
                  <a:pt x="45" y="23"/>
                  <a:pt x="47" y="21"/>
                  <a:pt x="47" y="19"/>
                </a:cubicBezTo>
                <a:cubicBezTo>
                  <a:pt x="47" y="4"/>
                  <a:pt x="47" y="4"/>
                  <a:pt x="47" y="4"/>
                </a:cubicBezTo>
                <a:cubicBezTo>
                  <a:pt x="47" y="2"/>
                  <a:pt x="45" y="0"/>
                  <a:pt x="43" y="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24" name="稻壳儿小白白(http://dwz.cn/Wu2UP)"/>
          <p:cNvSpPr/>
          <p:nvPr/>
        </p:nvSpPr>
        <p:spPr>
          <a:xfrm>
            <a:off x="6600960" y="1827360"/>
            <a:ext cx="203040" cy="149040"/>
          </a:xfrm>
          <a:custGeom>
            <a:avLst/>
            <a:gdLst/>
            <a:ahLst/>
            <a:rect l="l" t="t" r="r" b="b"/>
            <a:pathLst>
              <a:path w="42" h="31">
                <a:moveTo>
                  <a:pt x="7" y="0"/>
                </a:moveTo>
                <a:cubicBezTo>
                  <a:pt x="3" y="0"/>
                  <a:pt x="0" y="4"/>
                  <a:pt x="0" y="7"/>
                </a:cubicBezTo>
                <a:cubicBezTo>
                  <a:pt x="0" y="11"/>
                  <a:pt x="3" y="14"/>
                  <a:pt x="7" y="14"/>
                </a:cubicBezTo>
                <a:cubicBezTo>
                  <a:pt x="13" y="14"/>
                  <a:pt x="9" y="28"/>
                  <a:pt x="0" y="28"/>
                </a:cubicBezTo>
                <a:cubicBezTo>
                  <a:pt x="0" y="31"/>
                  <a:pt x="0" y="31"/>
                  <a:pt x="0" y="31"/>
                </a:cubicBezTo>
                <a:cubicBezTo>
                  <a:pt x="16" y="31"/>
                  <a:pt x="22" y="0"/>
                  <a:pt x="7" y="0"/>
                </a:cubicBezTo>
                <a:close/>
                <a:moveTo>
                  <a:pt x="26" y="0"/>
                </a:moveTo>
                <a:cubicBezTo>
                  <a:pt x="22" y="0"/>
                  <a:pt x="19" y="4"/>
                  <a:pt x="19" y="7"/>
                </a:cubicBezTo>
                <a:cubicBezTo>
                  <a:pt x="19" y="11"/>
                  <a:pt x="22" y="14"/>
                  <a:pt x="26" y="14"/>
                </a:cubicBezTo>
                <a:cubicBezTo>
                  <a:pt x="33" y="14"/>
                  <a:pt x="29" y="28"/>
                  <a:pt x="19" y="28"/>
                </a:cubicBezTo>
                <a:cubicBezTo>
                  <a:pt x="19" y="31"/>
                  <a:pt x="19" y="31"/>
                  <a:pt x="19" y="31"/>
                </a:cubicBezTo>
                <a:cubicBezTo>
                  <a:pt x="36" y="31"/>
                  <a:pt x="42" y="0"/>
                  <a:pt x="26" y="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25" name="稻壳儿小白白(http://dwz.cn/Wu2UP)"/>
          <p:cNvSpPr/>
          <p:nvPr/>
        </p:nvSpPr>
        <p:spPr>
          <a:xfrm>
            <a:off x="7947000" y="1811160"/>
            <a:ext cx="182520" cy="182880"/>
          </a:xfrm>
          <a:custGeom>
            <a:avLst/>
            <a:gdLst/>
            <a:ahLst/>
            <a:rect l="l" t="t" r="r" b="b"/>
            <a:pathLst>
              <a:path w="38" h="38">
                <a:moveTo>
                  <a:pt x="33" y="0"/>
                </a:moveTo>
                <a:cubicBezTo>
                  <a:pt x="14" y="0"/>
                  <a:pt x="14" y="0"/>
                  <a:pt x="14" y="0"/>
                </a:cubicBezTo>
                <a:cubicBezTo>
                  <a:pt x="12" y="0"/>
                  <a:pt x="10" y="2"/>
                  <a:pt x="10" y="5"/>
                </a:cubicBezTo>
                <a:cubicBezTo>
                  <a:pt x="10" y="24"/>
                  <a:pt x="10" y="24"/>
                  <a:pt x="10" y="24"/>
                </a:cubicBezTo>
                <a:cubicBezTo>
                  <a:pt x="10" y="26"/>
                  <a:pt x="12" y="28"/>
                  <a:pt x="14" y="28"/>
                </a:cubicBezTo>
                <a:cubicBezTo>
                  <a:pt x="33" y="28"/>
                  <a:pt x="33" y="28"/>
                  <a:pt x="33" y="28"/>
                </a:cubicBezTo>
                <a:cubicBezTo>
                  <a:pt x="36" y="28"/>
                  <a:pt x="38" y="26"/>
                  <a:pt x="38" y="24"/>
                </a:cubicBezTo>
                <a:cubicBezTo>
                  <a:pt x="38" y="5"/>
                  <a:pt x="38" y="5"/>
                  <a:pt x="38" y="5"/>
                </a:cubicBezTo>
                <a:cubicBezTo>
                  <a:pt x="38" y="2"/>
                  <a:pt x="36" y="0"/>
                  <a:pt x="33" y="0"/>
                </a:cubicBezTo>
                <a:close/>
                <a:moveTo>
                  <a:pt x="33" y="24"/>
                </a:moveTo>
                <a:cubicBezTo>
                  <a:pt x="14" y="24"/>
                  <a:pt x="14" y="24"/>
                  <a:pt x="14" y="24"/>
                </a:cubicBezTo>
                <a:cubicBezTo>
                  <a:pt x="14" y="5"/>
                  <a:pt x="14" y="5"/>
                  <a:pt x="14" y="5"/>
                </a:cubicBezTo>
                <a:cubicBezTo>
                  <a:pt x="33" y="5"/>
                  <a:pt x="33" y="5"/>
                  <a:pt x="33" y="5"/>
                </a:cubicBezTo>
                <a:lnTo>
                  <a:pt x="33" y="24"/>
                </a:lnTo>
                <a:close/>
                <a:moveTo>
                  <a:pt x="5" y="19"/>
                </a:moveTo>
                <a:cubicBezTo>
                  <a:pt x="0" y="19"/>
                  <a:pt x="0" y="19"/>
                  <a:pt x="0" y="19"/>
                </a:cubicBezTo>
                <a:cubicBezTo>
                  <a:pt x="0" y="33"/>
                  <a:pt x="0" y="33"/>
                  <a:pt x="0" y="33"/>
                </a:cubicBezTo>
                <a:cubicBezTo>
                  <a:pt x="0" y="36"/>
                  <a:pt x="2" y="38"/>
                  <a:pt x="5" y="38"/>
                </a:cubicBezTo>
                <a:cubicBezTo>
                  <a:pt x="19" y="38"/>
                  <a:pt x="19" y="38"/>
                  <a:pt x="19" y="38"/>
                </a:cubicBezTo>
                <a:cubicBezTo>
                  <a:pt x="19" y="33"/>
                  <a:pt x="19" y="33"/>
                  <a:pt x="19" y="33"/>
                </a:cubicBezTo>
                <a:cubicBezTo>
                  <a:pt x="5" y="33"/>
                  <a:pt x="5" y="33"/>
                  <a:pt x="5" y="33"/>
                </a:cubicBezTo>
                <a:lnTo>
                  <a:pt x="5" y="1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26" name="稻壳儿小白白(http://dwz.cn/Wu2UP)"/>
          <p:cNvSpPr/>
          <p:nvPr/>
        </p:nvSpPr>
        <p:spPr>
          <a:xfrm>
            <a:off x="4334040" y="5446800"/>
            <a:ext cx="193680" cy="135000"/>
          </a:xfrm>
          <a:custGeom>
            <a:avLst/>
            <a:gdLst/>
            <a:ahLst/>
            <a:rect l="l" t="t" r="r" b="b"/>
            <a:pathLst>
              <a:path w="40" h="28">
                <a:moveTo>
                  <a:pt x="36" y="5"/>
                </a:moveTo>
                <a:cubicBezTo>
                  <a:pt x="10" y="5"/>
                  <a:pt x="10" y="5"/>
                  <a:pt x="10" y="5"/>
                </a:cubicBezTo>
                <a:cubicBezTo>
                  <a:pt x="10" y="0"/>
                  <a:pt x="10" y="0"/>
                  <a:pt x="10" y="0"/>
                </a:cubicBezTo>
                <a:cubicBezTo>
                  <a:pt x="0" y="8"/>
                  <a:pt x="0" y="8"/>
                  <a:pt x="0" y="8"/>
                </a:cubicBezTo>
                <a:cubicBezTo>
                  <a:pt x="10" y="17"/>
                  <a:pt x="10" y="17"/>
                  <a:pt x="10" y="17"/>
                </a:cubicBezTo>
                <a:cubicBezTo>
                  <a:pt x="10" y="11"/>
                  <a:pt x="10" y="11"/>
                  <a:pt x="10" y="11"/>
                </a:cubicBezTo>
                <a:cubicBezTo>
                  <a:pt x="34" y="11"/>
                  <a:pt x="34" y="11"/>
                  <a:pt x="34" y="11"/>
                </a:cubicBezTo>
                <a:cubicBezTo>
                  <a:pt x="34" y="21"/>
                  <a:pt x="34" y="21"/>
                  <a:pt x="34" y="21"/>
                </a:cubicBezTo>
                <a:cubicBezTo>
                  <a:pt x="3" y="21"/>
                  <a:pt x="3" y="21"/>
                  <a:pt x="3" y="21"/>
                </a:cubicBezTo>
                <a:cubicBezTo>
                  <a:pt x="3" y="28"/>
                  <a:pt x="3" y="28"/>
                  <a:pt x="3" y="28"/>
                </a:cubicBezTo>
                <a:cubicBezTo>
                  <a:pt x="36" y="28"/>
                  <a:pt x="36" y="28"/>
                  <a:pt x="36" y="28"/>
                </a:cubicBezTo>
                <a:cubicBezTo>
                  <a:pt x="38" y="28"/>
                  <a:pt x="40" y="26"/>
                  <a:pt x="40" y="23"/>
                </a:cubicBezTo>
                <a:cubicBezTo>
                  <a:pt x="40" y="9"/>
                  <a:pt x="40" y="9"/>
                  <a:pt x="40" y="9"/>
                </a:cubicBezTo>
                <a:cubicBezTo>
                  <a:pt x="40" y="7"/>
                  <a:pt x="38" y="5"/>
                  <a:pt x="36" y="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27" name="稻壳儿小白白(http://dwz.cn/Wu2UP)"/>
          <p:cNvSpPr/>
          <p:nvPr/>
        </p:nvSpPr>
        <p:spPr>
          <a:xfrm>
            <a:off x="7485120" y="1811160"/>
            <a:ext cx="208080" cy="182880"/>
          </a:xfrm>
          <a:custGeom>
            <a:avLst/>
            <a:gdLst/>
            <a:ahLst/>
            <a:rect l="l" t="t" r="r" b="b"/>
            <a:pathLst>
              <a:path w="43" h="38">
                <a:moveTo>
                  <a:pt x="42" y="20"/>
                </a:moveTo>
                <a:cubicBezTo>
                  <a:pt x="23" y="1"/>
                  <a:pt x="23" y="1"/>
                  <a:pt x="23" y="1"/>
                </a:cubicBezTo>
                <a:cubicBezTo>
                  <a:pt x="22" y="0"/>
                  <a:pt x="20" y="0"/>
                  <a:pt x="19" y="1"/>
                </a:cubicBezTo>
                <a:cubicBezTo>
                  <a:pt x="1" y="20"/>
                  <a:pt x="1" y="20"/>
                  <a:pt x="1" y="20"/>
                </a:cubicBezTo>
                <a:cubicBezTo>
                  <a:pt x="0" y="21"/>
                  <a:pt x="0" y="21"/>
                  <a:pt x="1" y="21"/>
                </a:cubicBezTo>
                <a:cubicBezTo>
                  <a:pt x="5" y="21"/>
                  <a:pt x="5" y="21"/>
                  <a:pt x="5" y="21"/>
                </a:cubicBezTo>
                <a:cubicBezTo>
                  <a:pt x="5" y="36"/>
                  <a:pt x="5" y="36"/>
                  <a:pt x="5" y="36"/>
                </a:cubicBezTo>
                <a:cubicBezTo>
                  <a:pt x="5" y="37"/>
                  <a:pt x="5" y="38"/>
                  <a:pt x="7" y="38"/>
                </a:cubicBezTo>
                <a:cubicBezTo>
                  <a:pt x="16" y="38"/>
                  <a:pt x="16" y="38"/>
                  <a:pt x="16" y="38"/>
                </a:cubicBezTo>
                <a:cubicBezTo>
                  <a:pt x="16" y="23"/>
                  <a:pt x="16" y="23"/>
                  <a:pt x="16" y="23"/>
                </a:cubicBezTo>
                <a:cubicBezTo>
                  <a:pt x="26" y="23"/>
                  <a:pt x="26" y="23"/>
                  <a:pt x="26" y="23"/>
                </a:cubicBezTo>
                <a:cubicBezTo>
                  <a:pt x="26" y="38"/>
                  <a:pt x="26" y="38"/>
                  <a:pt x="26" y="38"/>
                </a:cubicBezTo>
                <a:cubicBezTo>
                  <a:pt x="36" y="38"/>
                  <a:pt x="36" y="38"/>
                  <a:pt x="36" y="38"/>
                </a:cubicBezTo>
                <a:cubicBezTo>
                  <a:pt x="37" y="38"/>
                  <a:pt x="37" y="37"/>
                  <a:pt x="37" y="36"/>
                </a:cubicBezTo>
                <a:cubicBezTo>
                  <a:pt x="37" y="21"/>
                  <a:pt x="37" y="21"/>
                  <a:pt x="37" y="21"/>
                </a:cubicBezTo>
                <a:cubicBezTo>
                  <a:pt x="41" y="21"/>
                  <a:pt x="41" y="21"/>
                  <a:pt x="41" y="21"/>
                </a:cubicBezTo>
                <a:cubicBezTo>
                  <a:pt x="42" y="21"/>
                  <a:pt x="43" y="21"/>
                  <a:pt x="42" y="2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28" name="稻壳儿小白白(http://dwz.cn/Wu2UP)"/>
          <p:cNvSpPr/>
          <p:nvPr/>
        </p:nvSpPr>
        <p:spPr>
          <a:xfrm>
            <a:off x="4321080" y="1360440"/>
            <a:ext cx="225360" cy="182520"/>
          </a:xfrm>
          <a:custGeom>
            <a:avLst/>
            <a:gdLst/>
            <a:ahLst/>
            <a:rect l="l" t="t" r="r" b="b"/>
            <a:pathLst>
              <a:path w="47" h="38">
                <a:moveTo>
                  <a:pt x="42" y="0"/>
                </a:moveTo>
                <a:cubicBezTo>
                  <a:pt x="4" y="0"/>
                  <a:pt x="4" y="0"/>
                  <a:pt x="4" y="0"/>
                </a:cubicBezTo>
                <a:cubicBezTo>
                  <a:pt x="2" y="0"/>
                  <a:pt x="0" y="2"/>
                  <a:pt x="0" y="5"/>
                </a:cubicBezTo>
                <a:cubicBezTo>
                  <a:pt x="0" y="33"/>
                  <a:pt x="0" y="33"/>
                  <a:pt x="0" y="33"/>
                </a:cubicBezTo>
                <a:cubicBezTo>
                  <a:pt x="0" y="36"/>
                  <a:pt x="2" y="38"/>
                  <a:pt x="4" y="38"/>
                </a:cubicBezTo>
                <a:cubicBezTo>
                  <a:pt x="42" y="38"/>
                  <a:pt x="42" y="38"/>
                  <a:pt x="42" y="38"/>
                </a:cubicBezTo>
                <a:cubicBezTo>
                  <a:pt x="45" y="38"/>
                  <a:pt x="47" y="36"/>
                  <a:pt x="47" y="33"/>
                </a:cubicBezTo>
                <a:cubicBezTo>
                  <a:pt x="47" y="5"/>
                  <a:pt x="47" y="5"/>
                  <a:pt x="47" y="5"/>
                </a:cubicBezTo>
                <a:cubicBezTo>
                  <a:pt x="47" y="2"/>
                  <a:pt x="45" y="0"/>
                  <a:pt x="42" y="0"/>
                </a:cubicBezTo>
                <a:close/>
                <a:moveTo>
                  <a:pt x="42" y="33"/>
                </a:moveTo>
                <a:cubicBezTo>
                  <a:pt x="4" y="33"/>
                  <a:pt x="4" y="33"/>
                  <a:pt x="4" y="33"/>
                </a:cubicBezTo>
                <a:cubicBezTo>
                  <a:pt x="4" y="5"/>
                  <a:pt x="4" y="5"/>
                  <a:pt x="4" y="5"/>
                </a:cubicBezTo>
                <a:cubicBezTo>
                  <a:pt x="42" y="5"/>
                  <a:pt x="42" y="5"/>
                  <a:pt x="42" y="5"/>
                </a:cubicBezTo>
                <a:lnTo>
                  <a:pt x="42" y="33"/>
                </a:lnTo>
                <a:close/>
                <a:moveTo>
                  <a:pt x="21" y="24"/>
                </a:moveTo>
                <a:cubicBezTo>
                  <a:pt x="9" y="24"/>
                  <a:pt x="9" y="24"/>
                  <a:pt x="9" y="24"/>
                </a:cubicBezTo>
                <a:cubicBezTo>
                  <a:pt x="9" y="28"/>
                  <a:pt x="9" y="28"/>
                  <a:pt x="9" y="28"/>
                </a:cubicBezTo>
                <a:cubicBezTo>
                  <a:pt x="21" y="28"/>
                  <a:pt x="21" y="28"/>
                  <a:pt x="21" y="28"/>
                </a:cubicBezTo>
                <a:lnTo>
                  <a:pt x="21" y="24"/>
                </a:lnTo>
                <a:close/>
                <a:moveTo>
                  <a:pt x="21" y="17"/>
                </a:moveTo>
                <a:cubicBezTo>
                  <a:pt x="9" y="17"/>
                  <a:pt x="9" y="17"/>
                  <a:pt x="9" y="17"/>
                </a:cubicBezTo>
                <a:cubicBezTo>
                  <a:pt x="9" y="21"/>
                  <a:pt x="9" y="21"/>
                  <a:pt x="9" y="21"/>
                </a:cubicBezTo>
                <a:cubicBezTo>
                  <a:pt x="21" y="21"/>
                  <a:pt x="21" y="21"/>
                  <a:pt x="21" y="21"/>
                </a:cubicBezTo>
                <a:lnTo>
                  <a:pt x="21" y="17"/>
                </a:lnTo>
                <a:close/>
                <a:moveTo>
                  <a:pt x="21" y="10"/>
                </a:moveTo>
                <a:cubicBezTo>
                  <a:pt x="9" y="10"/>
                  <a:pt x="9" y="10"/>
                  <a:pt x="9" y="10"/>
                </a:cubicBezTo>
                <a:cubicBezTo>
                  <a:pt x="9" y="14"/>
                  <a:pt x="9" y="14"/>
                  <a:pt x="9" y="14"/>
                </a:cubicBezTo>
                <a:cubicBezTo>
                  <a:pt x="21" y="14"/>
                  <a:pt x="21" y="14"/>
                  <a:pt x="21" y="14"/>
                </a:cubicBezTo>
                <a:lnTo>
                  <a:pt x="21" y="10"/>
                </a:lnTo>
                <a:close/>
                <a:moveTo>
                  <a:pt x="37" y="25"/>
                </a:moveTo>
                <a:cubicBezTo>
                  <a:pt x="37" y="25"/>
                  <a:pt x="33" y="24"/>
                  <a:pt x="33" y="22"/>
                </a:cubicBezTo>
                <a:cubicBezTo>
                  <a:pt x="33" y="20"/>
                  <a:pt x="36" y="19"/>
                  <a:pt x="36" y="15"/>
                </a:cubicBezTo>
                <a:cubicBezTo>
                  <a:pt x="36" y="12"/>
                  <a:pt x="35" y="10"/>
                  <a:pt x="31" y="10"/>
                </a:cubicBezTo>
                <a:cubicBezTo>
                  <a:pt x="28" y="10"/>
                  <a:pt x="27" y="12"/>
                  <a:pt x="27" y="15"/>
                </a:cubicBezTo>
                <a:cubicBezTo>
                  <a:pt x="27" y="19"/>
                  <a:pt x="30" y="20"/>
                  <a:pt x="30" y="22"/>
                </a:cubicBezTo>
                <a:cubicBezTo>
                  <a:pt x="30" y="24"/>
                  <a:pt x="26" y="25"/>
                  <a:pt x="26" y="25"/>
                </a:cubicBezTo>
                <a:cubicBezTo>
                  <a:pt x="26" y="25"/>
                  <a:pt x="26" y="28"/>
                  <a:pt x="26" y="28"/>
                </a:cubicBezTo>
                <a:cubicBezTo>
                  <a:pt x="37" y="28"/>
                  <a:pt x="37" y="28"/>
                  <a:pt x="37" y="28"/>
                </a:cubicBezTo>
                <a:cubicBezTo>
                  <a:pt x="37" y="28"/>
                  <a:pt x="37" y="25"/>
                  <a:pt x="37" y="2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29" name="稻壳儿小白白(http://dwz.cn/Wu2UP)"/>
          <p:cNvSpPr/>
          <p:nvPr/>
        </p:nvSpPr>
        <p:spPr>
          <a:xfrm>
            <a:off x="4368960" y="888840"/>
            <a:ext cx="129960" cy="222480"/>
          </a:xfrm>
          <a:custGeom>
            <a:avLst/>
            <a:gdLst/>
            <a:ahLst/>
            <a:rect l="l" t="t" r="r" b="b"/>
            <a:pathLst>
              <a:path w="27" h="46">
                <a:moveTo>
                  <a:pt x="22" y="0"/>
                </a:moveTo>
                <a:cubicBezTo>
                  <a:pt x="4" y="0"/>
                  <a:pt x="4" y="0"/>
                  <a:pt x="4" y="0"/>
                </a:cubicBezTo>
                <a:cubicBezTo>
                  <a:pt x="2" y="0"/>
                  <a:pt x="0" y="2"/>
                  <a:pt x="0" y="5"/>
                </a:cubicBezTo>
                <a:cubicBezTo>
                  <a:pt x="0" y="41"/>
                  <a:pt x="0" y="41"/>
                  <a:pt x="0" y="41"/>
                </a:cubicBezTo>
                <a:cubicBezTo>
                  <a:pt x="0" y="44"/>
                  <a:pt x="2" y="46"/>
                  <a:pt x="4" y="46"/>
                </a:cubicBezTo>
                <a:cubicBezTo>
                  <a:pt x="22" y="46"/>
                  <a:pt x="22" y="46"/>
                  <a:pt x="22" y="46"/>
                </a:cubicBezTo>
                <a:cubicBezTo>
                  <a:pt x="25" y="46"/>
                  <a:pt x="27" y="44"/>
                  <a:pt x="27" y="41"/>
                </a:cubicBezTo>
                <a:cubicBezTo>
                  <a:pt x="27" y="5"/>
                  <a:pt x="27" y="5"/>
                  <a:pt x="27" y="5"/>
                </a:cubicBezTo>
                <a:cubicBezTo>
                  <a:pt x="27" y="2"/>
                  <a:pt x="25" y="0"/>
                  <a:pt x="22" y="0"/>
                </a:cubicBezTo>
                <a:close/>
                <a:moveTo>
                  <a:pt x="13" y="44"/>
                </a:moveTo>
                <a:cubicBezTo>
                  <a:pt x="11" y="44"/>
                  <a:pt x="10" y="43"/>
                  <a:pt x="10" y="42"/>
                </a:cubicBezTo>
                <a:cubicBezTo>
                  <a:pt x="10" y="41"/>
                  <a:pt x="11" y="40"/>
                  <a:pt x="13" y="40"/>
                </a:cubicBezTo>
                <a:cubicBezTo>
                  <a:pt x="15" y="40"/>
                  <a:pt x="17" y="41"/>
                  <a:pt x="17" y="42"/>
                </a:cubicBezTo>
                <a:cubicBezTo>
                  <a:pt x="17" y="43"/>
                  <a:pt x="15" y="44"/>
                  <a:pt x="13" y="44"/>
                </a:cubicBezTo>
                <a:close/>
                <a:moveTo>
                  <a:pt x="23" y="37"/>
                </a:moveTo>
                <a:cubicBezTo>
                  <a:pt x="3" y="37"/>
                  <a:pt x="3" y="37"/>
                  <a:pt x="3" y="37"/>
                </a:cubicBezTo>
                <a:cubicBezTo>
                  <a:pt x="3" y="6"/>
                  <a:pt x="3" y="6"/>
                  <a:pt x="3" y="6"/>
                </a:cubicBezTo>
                <a:cubicBezTo>
                  <a:pt x="23" y="6"/>
                  <a:pt x="23" y="6"/>
                  <a:pt x="23" y="6"/>
                </a:cubicBezTo>
                <a:lnTo>
                  <a:pt x="23" y="3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30" name="稻壳儿小白白(http://dwz.cn/Wu2UP)"/>
          <p:cNvSpPr/>
          <p:nvPr/>
        </p:nvSpPr>
        <p:spPr>
          <a:xfrm>
            <a:off x="3868560" y="5418000"/>
            <a:ext cx="225720" cy="193680"/>
          </a:xfrm>
          <a:custGeom>
            <a:avLst/>
            <a:gdLst/>
            <a:ahLst/>
            <a:rect l="l" t="t" r="r" b="b"/>
            <a:pathLst>
              <a:path w="47" h="40">
                <a:moveTo>
                  <a:pt x="35" y="12"/>
                </a:moveTo>
                <a:cubicBezTo>
                  <a:pt x="37" y="12"/>
                  <a:pt x="37" y="12"/>
                  <a:pt x="37" y="12"/>
                </a:cubicBezTo>
                <a:cubicBezTo>
                  <a:pt x="37" y="17"/>
                  <a:pt x="37" y="17"/>
                  <a:pt x="37" y="17"/>
                </a:cubicBezTo>
                <a:cubicBezTo>
                  <a:pt x="47" y="8"/>
                  <a:pt x="47" y="8"/>
                  <a:pt x="47" y="8"/>
                </a:cubicBezTo>
                <a:cubicBezTo>
                  <a:pt x="37" y="0"/>
                  <a:pt x="37" y="0"/>
                  <a:pt x="37" y="0"/>
                </a:cubicBezTo>
                <a:cubicBezTo>
                  <a:pt x="37" y="5"/>
                  <a:pt x="37" y="5"/>
                  <a:pt x="37" y="5"/>
                </a:cubicBezTo>
                <a:cubicBezTo>
                  <a:pt x="35" y="5"/>
                  <a:pt x="35" y="5"/>
                  <a:pt x="35" y="5"/>
                </a:cubicBezTo>
                <a:cubicBezTo>
                  <a:pt x="27" y="5"/>
                  <a:pt x="22" y="12"/>
                  <a:pt x="17" y="17"/>
                </a:cubicBezTo>
                <a:cubicBezTo>
                  <a:pt x="14" y="23"/>
                  <a:pt x="10" y="27"/>
                  <a:pt x="5" y="27"/>
                </a:cubicBezTo>
                <a:cubicBezTo>
                  <a:pt x="0" y="27"/>
                  <a:pt x="0" y="27"/>
                  <a:pt x="0" y="27"/>
                </a:cubicBezTo>
                <a:cubicBezTo>
                  <a:pt x="0" y="34"/>
                  <a:pt x="0" y="34"/>
                  <a:pt x="0" y="34"/>
                </a:cubicBezTo>
                <a:cubicBezTo>
                  <a:pt x="5" y="34"/>
                  <a:pt x="5" y="34"/>
                  <a:pt x="5" y="34"/>
                </a:cubicBezTo>
                <a:cubicBezTo>
                  <a:pt x="14" y="34"/>
                  <a:pt x="18" y="27"/>
                  <a:pt x="23" y="21"/>
                </a:cubicBezTo>
                <a:cubicBezTo>
                  <a:pt x="27" y="16"/>
                  <a:pt x="30" y="12"/>
                  <a:pt x="35" y="12"/>
                </a:cubicBezTo>
                <a:close/>
                <a:moveTo>
                  <a:pt x="13" y="16"/>
                </a:moveTo>
                <a:cubicBezTo>
                  <a:pt x="13" y="16"/>
                  <a:pt x="13" y="15"/>
                  <a:pt x="14" y="15"/>
                </a:cubicBezTo>
                <a:cubicBezTo>
                  <a:pt x="15" y="13"/>
                  <a:pt x="16" y="12"/>
                  <a:pt x="17" y="11"/>
                </a:cubicBezTo>
                <a:cubicBezTo>
                  <a:pt x="14" y="8"/>
                  <a:pt x="10" y="6"/>
                  <a:pt x="5" y="6"/>
                </a:cubicBezTo>
                <a:cubicBezTo>
                  <a:pt x="0" y="6"/>
                  <a:pt x="0" y="6"/>
                  <a:pt x="0" y="6"/>
                </a:cubicBezTo>
                <a:cubicBezTo>
                  <a:pt x="0" y="12"/>
                  <a:pt x="0" y="12"/>
                  <a:pt x="0" y="12"/>
                </a:cubicBezTo>
                <a:cubicBezTo>
                  <a:pt x="5" y="12"/>
                  <a:pt x="5" y="12"/>
                  <a:pt x="5" y="12"/>
                </a:cubicBezTo>
                <a:cubicBezTo>
                  <a:pt x="8" y="12"/>
                  <a:pt x="10" y="14"/>
                  <a:pt x="13" y="16"/>
                </a:cubicBezTo>
                <a:close/>
                <a:moveTo>
                  <a:pt x="37" y="27"/>
                </a:moveTo>
                <a:cubicBezTo>
                  <a:pt x="35" y="27"/>
                  <a:pt x="35" y="27"/>
                  <a:pt x="35" y="27"/>
                </a:cubicBezTo>
                <a:cubicBezTo>
                  <a:pt x="32" y="27"/>
                  <a:pt x="30" y="26"/>
                  <a:pt x="27" y="23"/>
                </a:cubicBezTo>
                <a:cubicBezTo>
                  <a:pt x="27" y="24"/>
                  <a:pt x="27" y="24"/>
                  <a:pt x="26" y="24"/>
                </a:cubicBezTo>
                <a:cubicBezTo>
                  <a:pt x="25" y="26"/>
                  <a:pt x="24" y="27"/>
                  <a:pt x="23" y="29"/>
                </a:cubicBezTo>
                <a:cubicBezTo>
                  <a:pt x="26" y="32"/>
                  <a:pt x="30" y="34"/>
                  <a:pt x="35" y="34"/>
                </a:cubicBezTo>
                <a:cubicBezTo>
                  <a:pt x="37" y="34"/>
                  <a:pt x="37" y="34"/>
                  <a:pt x="37" y="34"/>
                </a:cubicBezTo>
                <a:cubicBezTo>
                  <a:pt x="37" y="40"/>
                  <a:pt x="37" y="40"/>
                  <a:pt x="37" y="40"/>
                </a:cubicBezTo>
                <a:cubicBezTo>
                  <a:pt x="47" y="31"/>
                  <a:pt x="47" y="31"/>
                  <a:pt x="47" y="31"/>
                </a:cubicBezTo>
                <a:cubicBezTo>
                  <a:pt x="37" y="23"/>
                  <a:pt x="37" y="23"/>
                  <a:pt x="37" y="23"/>
                </a:cubicBezTo>
                <a:lnTo>
                  <a:pt x="37" y="2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31" name="稻壳儿小白白(http://dwz.cn/Wu2UP)"/>
          <p:cNvSpPr/>
          <p:nvPr/>
        </p:nvSpPr>
        <p:spPr>
          <a:xfrm>
            <a:off x="8399520" y="1811160"/>
            <a:ext cx="182520" cy="182880"/>
          </a:xfrm>
          <a:custGeom>
            <a:avLst/>
            <a:gdLst/>
            <a:ahLst/>
            <a:rect l="l" t="t" r="r" b="b"/>
            <a:pathLst>
              <a:path w="38" h="38">
                <a:moveTo>
                  <a:pt x="37" y="32"/>
                </a:moveTo>
                <a:cubicBezTo>
                  <a:pt x="28" y="23"/>
                  <a:pt x="28" y="23"/>
                  <a:pt x="28" y="23"/>
                </a:cubicBezTo>
                <a:cubicBezTo>
                  <a:pt x="29" y="21"/>
                  <a:pt x="30" y="18"/>
                  <a:pt x="30" y="15"/>
                </a:cubicBezTo>
                <a:cubicBezTo>
                  <a:pt x="30" y="7"/>
                  <a:pt x="23" y="0"/>
                  <a:pt x="15" y="0"/>
                </a:cubicBezTo>
                <a:cubicBezTo>
                  <a:pt x="7" y="0"/>
                  <a:pt x="0" y="7"/>
                  <a:pt x="0" y="15"/>
                </a:cubicBezTo>
                <a:cubicBezTo>
                  <a:pt x="0" y="23"/>
                  <a:pt x="7" y="30"/>
                  <a:pt x="15" y="30"/>
                </a:cubicBezTo>
                <a:cubicBezTo>
                  <a:pt x="18" y="30"/>
                  <a:pt x="21" y="29"/>
                  <a:pt x="23" y="28"/>
                </a:cubicBezTo>
                <a:cubicBezTo>
                  <a:pt x="32" y="37"/>
                  <a:pt x="32" y="37"/>
                  <a:pt x="32" y="37"/>
                </a:cubicBezTo>
                <a:cubicBezTo>
                  <a:pt x="32" y="38"/>
                  <a:pt x="34" y="38"/>
                  <a:pt x="35" y="37"/>
                </a:cubicBezTo>
                <a:cubicBezTo>
                  <a:pt x="37" y="35"/>
                  <a:pt x="37" y="35"/>
                  <a:pt x="37" y="35"/>
                </a:cubicBezTo>
                <a:cubicBezTo>
                  <a:pt x="38" y="34"/>
                  <a:pt x="38" y="33"/>
                  <a:pt x="37" y="32"/>
                </a:cubicBezTo>
                <a:close/>
                <a:moveTo>
                  <a:pt x="5" y="15"/>
                </a:moveTo>
                <a:cubicBezTo>
                  <a:pt x="5" y="9"/>
                  <a:pt x="9" y="5"/>
                  <a:pt x="15" y="5"/>
                </a:cubicBezTo>
                <a:cubicBezTo>
                  <a:pt x="20" y="5"/>
                  <a:pt x="25" y="10"/>
                  <a:pt x="25" y="15"/>
                </a:cubicBezTo>
                <a:cubicBezTo>
                  <a:pt x="25" y="21"/>
                  <a:pt x="21" y="25"/>
                  <a:pt x="15" y="25"/>
                </a:cubicBezTo>
                <a:cubicBezTo>
                  <a:pt x="10" y="25"/>
                  <a:pt x="5" y="20"/>
                  <a:pt x="5" y="1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32" name="稻壳儿小白白(http://dwz.cn/Wu2UP)"/>
          <p:cNvSpPr/>
          <p:nvPr/>
        </p:nvSpPr>
        <p:spPr>
          <a:xfrm>
            <a:off x="9734400" y="3149640"/>
            <a:ext cx="216000" cy="216000"/>
          </a:xfrm>
          <a:custGeom>
            <a:avLst/>
            <a:gdLst/>
            <a:ahLst/>
            <a:rect l="l" t="t" r="r" b="b"/>
            <a:pathLst>
              <a:path w="45" h="45">
                <a:moveTo>
                  <a:pt x="22" y="0"/>
                </a:moveTo>
                <a:cubicBezTo>
                  <a:pt x="10" y="0"/>
                  <a:pt x="0" y="10"/>
                  <a:pt x="0" y="22"/>
                </a:cubicBezTo>
                <a:cubicBezTo>
                  <a:pt x="0" y="35"/>
                  <a:pt x="10" y="45"/>
                  <a:pt x="22" y="45"/>
                </a:cubicBezTo>
                <a:cubicBezTo>
                  <a:pt x="35" y="45"/>
                  <a:pt x="45" y="35"/>
                  <a:pt x="45" y="22"/>
                </a:cubicBezTo>
                <a:cubicBezTo>
                  <a:pt x="45" y="10"/>
                  <a:pt x="35" y="0"/>
                  <a:pt x="22" y="0"/>
                </a:cubicBezTo>
                <a:close/>
                <a:moveTo>
                  <a:pt x="42" y="22"/>
                </a:moveTo>
                <a:cubicBezTo>
                  <a:pt x="42" y="27"/>
                  <a:pt x="40" y="31"/>
                  <a:pt x="38" y="34"/>
                </a:cubicBezTo>
                <a:cubicBezTo>
                  <a:pt x="37" y="34"/>
                  <a:pt x="36" y="32"/>
                  <a:pt x="37" y="31"/>
                </a:cubicBezTo>
                <a:cubicBezTo>
                  <a:pt x="38" y="29"/>
                  <a:pt x="38" y="25"/>
                  <a:pt x="38" y="24"/>
                </a:cubicBezTo>
                <a:cubicBezTo>
                  <a:pt x="38" y="23"/>
                  <a:pt x="37" y="19"/>
                  <a:pt x="35" y="19"/>
                </a:cubicBezTo>
                <a:cubicBezTo>
                  <a:pt x="33" y="19"/>
                  <a:pt x="32" y="19"/>
                  <a:pt x="30" y="16"/>
                </a:cubicBezTo>
                <a:cubicBezTo>
                  <a:pt x="28" y="11"/>
                  <a:pt x="35" y="10"/>
                  <a:pt x="33" y="8"/>
                </a:cubicBezTo>
                <a:cubicBezTo>
                  <a:pt x="32" y="7"/>
                  <a:pt x="28" y="11"/>
                  <a:pt x="28" y="6"/>
                </a:cubicBezTo>
                <a:cubicBezTo>
                  <a:pt x="28" y="5"/>
                  <a:pt x="28" y="5"/>
                  <a:pt x="29" y="4"/>
                </a:cubicBezTo>
                <a:cubicBezTo>
                  <a:pt x="36" y="7"/>
                  <a:pt x="42" y="14"/>
                  <a:pt x="42" y="22"/>
                </a:cubicBezTo>
                <a:close/>
                <a:moveTo>
                  <a:pt x="20" y="3"/>
                </a:moveTo>
                <a:cubicBezTo>
                  <a:pt x="19" y="4"/>
                  <a:pt x="18" y="5"/>
                  <a:pt x="17" y="5"/>
                </a:cubicBezTo>
                <a:cubicBezTo>
                  <a:pt x="16" y="7"/>
                  <a:pt x="15" y="7"/>
                  <a:pt x="14" y="8"/>
                </a:cubicBezTo>
                <a:cubicBezTo>
                  <a:pt x="13" y="9"/>
                  <a:pt x="11" y="11"/>
                  <a:pt x="11" y="12"/>
                </a:cubicBezTo>
                <a:cubicBezTo>
                  <a:pt x="11" y="13"/>
                  <a:pt x="12" y="15"/>
                  <a:pt x="13" y="14"/>
                </a:cubicBezTo>
                <a:cubicBezTo>
                  <a:pt x="13" y="14"/>
                  <a:pt x="15" y="14"/>
                  <a:pt x="16" y="15"/>
                </a:cubicBezTo>
                <a:cubicBezTo>
                  <a:pt x="18" y="15"/>
                  <a:pt x="26" y="15"/>
                  <a:pt x="23" y="22"/>
                </a:cubicBezTo>
                <a:cubicBezTo>
                  <a:pt x="22" y="24"/>
                  <a:pt x="19" y="24"/>
                  <a:pt x="18" y="28"/>
                </a:cubicBezTo>
                <a:cubicBezTo>
                  <a:pt x="18" y="28"/>
                  <a:pt x="17" y="30"/>
                  <a:pt x="17" y="31"/>
                </a:cubicBezTo>
                <a:cubicBezTo>
                  <a:pt x="17" y="32"/>
                  <a:pt x="18" y="37"/>
                  <a:pt x="17" y="37"/>
                </a:cubicBezTo>
                <a:cubicBezTo>
                  <a:pt x="16" y="37"/>
                  <a:pt x="13" y="33"/>
                  <a:pt x="13" y="32"/>
                </a:cubicBezTo>
                <a:cubicBezTo>
                  <a:pt x="13" y="31"/>
                  <a:pt x="12" y="29"/>
                  <a:pt x="12" y="27"/>
                </a:cubicBezTo>
                <a:cubicBezTo>
                  <a:pt x="12" y="25"/>
                  <a:pt x="8" y="25"/>
                  <a:pt x="8" y="22"/>
                </a:cubicBezTo>
                <a:cubicBezTo>
                  <a:pt x="8" y="19"/>
                  <a:pt x="10" y="18"/>
                  <a:pt x="10" y="17"/>
                </a:cubicBezTo>
                <a:cubicBezTo>
                  <a:pt x="9" y="16"/>
                  <a:pt x="6" y="16"/>
                  <a:pt x="5" y="16"/>
                </a:cubicBezTo>
                <a:cubicBezTo>
                  <a:pt x="7" y="9"/>
                  <a:pt x="13" y="4"/>
                  <a:pt x="20" y="3"/>
                </a:cubicBezTo>
                <a:close/>
                <a:moveTo>
                  <a:pt x="16" y="41"/>
                </a:moveTo>
                <a:cubicBezTo>
                  <a:pt x="18" y="40"/>
                  <a:pt x="18" y="39"/>
                  <a:pt x="19" y="39"/>
                </a:cubicBezTo>
                <a:cubicBezTo>
                  <a:pt x="20" y="39"/>
                  <a:pt x="21" y="39"/>
                  <a:pt x="22" y="38"/>
                </a:cubicBezTo>
                <a:cubicBezTo>
                  <a:pt x="23" y="38"/>
                  <a:pt x="26" y="37"/>
                  <a:pt x="28" y="37"/>
                </a:cubicBezTo>
                <a:cubicBezTo>
                  <a:pt x="29" y="37"/>
                  <a:pt x="32" y="37"/>
                  <a:pt x="33" y="38"/>
                </a:cubicBezTo>
                <a:cubicBezTo>
                  <a:pt x="30" y="40"/>
                  <a:pt x="26" y="42"/>
                  <a:pt x="22" y="42"/>
                </a:cubicBezTo>
                <a:cubicBezTo>
                  <a:pt x="20" y="42"/>
                  <a:pt x="18" y="41"/>
                  <a:pt x="16" y="4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33" name="稻壳儿小白白(http://dwz.cn/Wu2UP)"/>
          <p:cNvSpPr/>
          <p:nvPr/>
        </p:nvSpPr>
        <p:spPr>
          <a:xfrm>
            <a:off x="10180800" y="3186000"/>
            <a:ext cx="225360" cy="141480"/>
          </a:xfrm>
          <a:custGeom>
            <a:avLst/>
            <a:gdLst/>
            <a:ahLst/>
            <a:rect l="l" t="t" r="r" b="b"/>
            <a:pathLst>
              <a:path w="47" h="29">
                <a:moveTo>
                  <a:pt x="44" y="0"/>
                </a:moveTo>
                <a:cubicBezTo>
                  <a:pt x="3" y="0"/>
                  <a:pt x="3" y="0"/>
                  <a:pt x="3" y="0"/>
                </a:cubicBezTo>
                <a:cubicBezTo>
                  <a:pt x="1" y="0"/>
                  <a:pt x="0" y="2"/>
                  <a:pt x="0" y="4"/>
                </a:cubicBezTo>
                <a:cubicBezTo>
                  <a:pt x="0" y="25"/>
                  <a:pt x="0" y="25"/>
                  <a:pt x="0" y="25"/>
                </a:cubicBezTo>
                <a:cubicBezTo>
                  <a:pt x="0" y="27"/>
                  <a:pt x="1" y="29"/>
                  <a:pt x="3" y="29"/>
                </a:cubicBezTo>
                <a:cubicBezTo>
                  <a:pt x="44" y="29"/>
                  <a:pt x="44" y="29"/>
                  <a:pt x="44" y="29"/>
                </a:cubicBezTo>
                <a:cubicBezTo>
                  <a:pt x="45" y="29"/>
                  <a:pt x="47" y="27"/>
                  <a:pt x="47" y="25"/>
                </a:cubicBezTo>
                <a:cubicBezTo>
                  <a:pt x="47" y="4"/>
                  <a:pt x="47" y="4"/>
                  <a:pt x="47" y="4"/>
                </a:cubicBezTo>
                <a:cubicBezTo>
                  <a:pt x="47" y="2"/>
                  <a:pt x="45" y="0"/>
                  <a:pt x="44" y="0"/>
                </a:cubicBezTo>
                <a:close/>
                <a:moveTo>
                  <a:pt x="26" y="5"/>
                </a:moveTo>
                <a:cubicBezTo>
                  <a:pt x="30" y="5"/>
                  <a:pt x="30" y="5"/>
                  <a:pt x="30" y="5"/>
                </a:cubicBezTo>
                <a:cubicBezTo>
                  <a:pt x="30" y="10"/>
                  <a:pt x="30" y="10"/>
                  <a:pt x="30" y="10"/>
                </a:cubicBezTo>
                <a:cubicBezTo>
                  <a:pt x="26" y="10"/>
                  <a:pt x="26" y="10"/>
                  <a:pt x="26" y="10"/>
                </a:cubicBezTo>
                <a:lnTo>
                  <a:pt x="26" y="5"/>
                </a:lnTo>
                <a:close/>
                <a:moveTo>
                  <a:pt x="33" y="12"/>
                </a:moveTo>
                <a:cubicBezTo>
                  <a:pt x="33" y="17"/>
                  <a:pt x="33" y="17"/>
                  <a:pt x="33" y="17"/>
                </a:cubicBezTo>
                <a:cubicBezTo>
                  <a:pt x="28" y="17"/>
                  <a:pt x="28" y="17"/>
                  <a:pt x="28" y="17"/>
                </a:cubicBezTo>
                <a:cubicBezTo>
                  <a:pt x="28" y="12"/>
                  <a:pt x="28" y="12"/>
                  <a:pt x="28" y="12"/>
                </a:cubicBezTo>
                <a:lnTo>
                  <a:pt x="33" y="12"/>
                </a:lnTo>
                <a:close/>
                <a:moveTo>
                  <a:pt x="19" y="5"/>
                </a:moveTo>
                <a:cubicBezTo>
                  <a:pt x="23" y="5"/>
                  <a:pt x="23" y="5"/>
                  <a:pt x="23" y="5"/>
                </a:cubicBezTo>
                <a:cubicBezTo>
                  <a:pt x="23" y="10"/>
                  <a:pt x="23" y="10"/>
                  <a:pt x="23" y="10"/>
                </a:cubicBezTo>
                <a:cubicBezTo>
                  <a:pt x="19" y="10"/>
                  <a:pt x="19" y="10"/>
                  <a:pt x="19" y="10"/>
                </a:cubicBezTo>
                <a:lnTo>
                  <a:pt x="19" y="5"/>
                </a:lnTo>
                <a:close/>
                <a:moveTo>
                  <a:pt x="26" y="12"/>
                </a:moveTo>
                <a:cubicBezTo>
                  <a:pt x="26" y="17"/>
                  <a:pt x="26" y="17"/>
                  <a:pt x="26" y="17"/>
                </a:cubicBezTo>
                <a:cubicBezTo>
                  <a:pt x="21" y="17"/>
                  <a:pt x="21" y="17"/>
                  <a:pt x="21" y="17"/>
                </a:cubicBezTo>
                <a:cubicBezTo>
                  <a:pt x="21" y="12"/>
                  <a:pt x="21" y="12"/>
                  <a:pt x="21" y="12"/>
                </a:cubicBezTo>
                <a:lnTo>
                  <a:pt x="26" y="12"/>
                </a:lnTo>
                <a:close/>
                <a:moveTo>
                  <a:pt x="12" y="5"/>
                </a:moveTo>
                <a:cubicBezTo>
                  <a:pt x="16" y="5"/>
                  <a:pt x="16" y="5"/>
                  <a:pt x="16" y="5"/>
                </a:cubicBezTo>
                <a:cubicBezTo>
                  <a:pt x="16" y="10"/>
                  <a:pt x="16" y="10"/>
                  <a:pt x="16" y="10"/>
                </a:cubicBezTo>
                <a:cubicBezTo>
                  <a:pt x="12" y="10"/>
                  <a:pt x="12" y="10"/>
                  <a:pt x="12" y="10"/>
                </a:cubicBezTo>
                <a:lnTo>
                  <a:pt x="12" y="5"/>
                </a:lnTo>
                <a:close/>
                <a:moveTo>
                  <a:pt x="19" y="12"/>
                </a:moveTo>
                <a:cubicBezTo>
                  <a:pt x="19" y="17"/>
                  <a:pt x="19" y="17"/>
                  <a:pt x="19" y="17"/>
                </a:cubicBezTo>
                <a:cubicBezTo>
                  <a:pt x="14" y="17"/>
                  <a:pt x="14" y="17"/>
                  <a:pt x="14" y="17"/>
                </a:cubicBezTo>
                <a:cubicBezTo>
                  <a:pt x="14" y="12"/>
                  <a:pt x="14" y="12"/>
                  <a:pt x="14" y="12"/>
                </a:cubicBezTo>
                <a:lnTo>
                  <a:pt x="19" y="12"/>
                </a:lnTo>
                <a:close/>
                <a:moveTo>
                  <a:pt x="5" y="5"/>
                </a:moveTo>
                <a:cubicBezTo>
                  <a:pt x="9" y="5"/>
                  <a:pt x="9" y="5"/>
                  <a:pt x="9" y="5"/>
                </a:cubicBezTo>
                <a:cubicBezTo>
                  <a:pt x="9" y="10"/>
                  <a:pt x="9" y="10"/>
                  <a:pt x="9" y="10"/>
                </a:cubicBezTo>
                <a:cubicBezTo>
                  <a:pt x="5" y="10"/>
                  <a:pt x="5" y="10"/>
                  <a:pt x="5" y="10"/>
                </a:cubicBezTo>
                <a:lnTo>
                  <a:pt x="5" y="5"/>
                </a:lnTo>
                <a:close/>
                <a:moveTo>
                  <a:pt x="12" y="12"/>
                </a:moveTo>
                <a:cubicBezTo>
                  <a:pt x="12" y="17"/>
                  <a:pt x="12" y="17"/>
                  <a:pt x="12" y="17"/>
                </a:cubicBezTo>
                <a:cubicBezTo>
                  <a:pt x="7" y="17"/>
                  <a:pt x="7" y="17"/>
                  <a:pt x="7" y="17"/>
                </a:cubicBezTo>
                <a:cubicBezTo>
                  <a:pt x="7" y="12"/>
                  <a:pt x="7" y="12"/>
                  <a:pt x="7" y="12"/>
                </a:cubicBezTo>
                <a:lnTo>
                  <a:pt x="12" y="12"/>
                </a:lnTo>
                <a:close/>
                <a:moveTo>
                  <a:pt x="9" y="24"/>
                </a:moveTo>
                <a:cubicBezTo>
                  <a:pt x="5" y="24"/>
                  <a:pt x="5" y="24"/>
                  <a:pt x="5" y="24"/>
                </a:cubicBezTo>
                <a:cubicBezTo>
                  <a:pt x="5" y="19"/>
                  <a:pt x="5" y="19"/>
                  <a:pt x="5" y="19"/>
                </a:cubicBezTo>
                <a:cubicBezTo>
                  <a:pt x="9" y="19"/>
                  <a:pt x="9" y="19"/>
                  <a:pt x="9" y="19"/>
                </a:cubicBezTo>
                <a:lnTo>
                  <a:pt x="9" y="24"/>
                </a:lnTo>
                <a:close/>
                <a:moveTo>
                  <a:pt x="35" y="24"/>
                </a:moveTo>
                <a:cubicBezTo>
                  <a:pt x="12" y="24"/>
                  <a:pt x="12" y="24"/>
                  <a:pt x="12" y="24"/>
                </a:cubicBezTo>
                <a:cubicBezTo>
                  <a:pt x="12" y="19"/>
                  <a:pt x="12" y="19"/>
                  <a:pt x="12" y="19"/>
                </a:cubicBezTo>
                <a:cubicBezTo>
                  <a:pt x="35" y="19"/>
                  <a:pt x="35" y="19"/>
                  <a:pt x="35" y="19"/>
                </a:cubicBezTo>
                <a:lnTo>
                  <a:pt x="35" y="24"/>
                </a:lnTo>
                <a:close/>
                <a:moveTo>
                  <a:pt x="42" y="24"/>
                </a:moveTo>
                <a:cubicBezTo>
                  <a:pt x="37" y="24"/>
                  <a:pt x="37" y="24"/>
                  <a:pt x="37" y="24"/>
                </a:cubicBezTo>
                <a:cubicBezTo>
                  <a:pt x="37" y="19"/>
                  <a:pt x="37" y="19"/>
                  <a:pt x="37" y="19"/>
                </a:cubicBezTo>
                <a:cubicBezTo>
                  <a:pt x="42" y="19"/>
                  <a:pt x="42" y="19"/>
                  <a:pt x="42" y="19"/>
                </a:cubicBezTo>
                <a:lnTo>
                  <a:pt x="42" y="24"/>
                </a:lnTo>
                <a:close/>
                <a:moveTo>
                  <a:pt x="35" y="17"/>
                </a:moveTo>
                <a:cubicBezTo>
                  <a:pt x="35" y="12"/>
                  <a:pt x="35" y="12"/>
                  <a:pt x="35" y="12"/>
                </a:cubicBezTo>
                <a:cubicBezTo>
                  <a:pt x="40" y="12"/>
                  <a:pt x="40" y="12"/>
                  <a:pt x="40" y="12"/>
                </a:cubicBezTo>
                <a:cubicBezTo>
                  <a:pt x="40" y="17"/>
                  <a:pt x="40" y="17"/>
                  <a:pt x="40" y="17"/>
                </a:cubicBezTo>
                <a:lnTo>
                  <a:pt x="35" y="17"/>
                </a:lnTo>
                <a:close/>
                <a:moveTo>
                  <a:pt x="42" y="10"/>
                </a:moveTo>
                <a:cubicBezTo>
                  <a:pt x="33" y="10"/>
                  <a:pt x="33" y="10"/>
                  <a:pt x="33" y="10"/>
                </a:cubicBezTo>
                <a:cubicBezTo>
                  <a:pt x="33" y="5"/>
                  <a:pt x="33" y="5"/>
                  <a:pt x="33" y="5"/>
                </a:cubicBezTo>
                <a:cubicBezTo>
                  <a:pt x="42" y="5"/>
                  <a:pt x="42" y="5"/>
                  <a:pt x="42" y="5"/>
                </a:cubicBezTo>
                <a:lnTo>
                  <a:pt x="42" y="1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34" name="稻壳儿小白白(http://dwz.cn/Wu2UP)"/>
          <p:cNvSpPr/>
          <p:nvPr/>
        </p:nvSpPr>
        <p:spPr>
          <a:xfrm>
            <a:off x="3868560" y="3621240"/>
            <a:ext cx="225720" cy="176040"/>
          </a:xfrm>
          <a:custGeom>
            <a:avLst/>
            <a:gdLst/>
            <a:ahLst/>
            <a:rect l="l" t="t" r="r" b="b"/>
            <a:pathLst>
              <a:path w="47" h="37">
                <a:moveTo>
                  <a:pt x="42" y="0"/>
                </a:moveTo>
                <a:cubicBezTo>
                  <a:pt x="5" y="0"/>
                  <a:pt x="5" y="0"/>
                  <a:pt x="5" y="0"/>
                </a:cubicBezTo>
                <a:cubicBezTo>
                  <a:pt x="2" y="0"/>
                  <a:pt x="0" y="2"/>
                  <a:pt x="0" y="4"/>
                </a:cubicBezTo>
                <a:cubicBezTo>
                  <a:pt x="0" y="32"/>
                  <a:pt x="0" y="32"/>
                  <a:pt x="0" y="32"/>
                </a:cubicBezTo>
                <a:cubicBezTo>
                  <a:pt x="0" y="35"/>
                  <a:pt x="2" y="37"/>
                  <a:pt x="5" y="37"/>
                </a:cubicBezTo>
                <a:cubicBezTo>
                  <a:pt x="42" y="37"/>
                  <a:pt x="42" y="37"/>
                  <a:pt x="42" y="37"/>
                </a:cubicBezTo>
                <a:cubicBezTo>
                  <a:pt x="45" y="37"/>
                  <a:pt x="47" y="35"/>
                  <a:pt x="47" y="32"/>
                </a:cubicBezTo>
                <a:cubicBezTo>
                  <a:pt x="47" y="4"/>
                  <a:pt x="47" y="4"/>
                  <a:pt x="47" y="4"/>
                </a:cubicBezTo>
                <a:cubicBezTo>
                  <a:pt x="47" y="2"/>
                  <a:pt x="45" y="0"/>
                  <a:pt x="42" y="0"/>
                </a:cubicBezTo>
                <a:close/>
                <a:moveTo>
                  <a:pt x="11" y="4"/>
                </a:moveTo>
                <a:cubicBezTo>
                  <a:pt x="12" y="4"/>
                  <a:pt x="12" y="5"/>
                  <a:pt x="12" y="6"/>
                </a:cubicBezTo>
                <a:cubicBezTo>
                  <a:pt x="12" y="7"/>
                  <a:pt x="12" y="7"/>
                  <a:pt x="11" y="7"/>
                </a:cubicBezTo>
                <a:cubicBezTo>
                  <a:pt x="10" y="7"/>
                  <a:pt x="9" y="7"/>
                  <a:pt x="9" y="6"/>
                </a:cubicBezTo>
                <a:cubicBezTo>
                  <a:pt x="9" y="5"/>
                  <a:pt x="10" y="4"/>
                  <a:pt x="11" y="4"/>
                </a:cubicBezTo>
                <a:close/>
                <a:moveTo>
                  <a:pt x="4" y="6"/>
                </a:moveTo>
                <a:cubicBezTo>
                  <a:pt x="4" y="5"/>
                  <a:pt x="5" y="4"/>
                  <a:pt x="6" y="4"/>
                </a:cubicBezTo>
                <a:cubicBezTo>
                  <a:pt x="7" y="4"/>
                  <a:pt x="8" y="5"/>
                  <a:pt x="8" y="6"/>
                </a:cubicBezTo>
                <a:cubicBezTo>
                  <a:pt x="8" y="7"/>
                  <a:pt x="7" y="7"/>
                  <a:pt x="6" y="7"/>
                </a:cubicBezTo>
                <a:cubicBezTo>
                  <a:pt x="5" y="7"/>
                  <a:pt x="4" y="7"/>
                  <a:pt x="4" y="6"/>
                </a:cubicBezTo>
                <a:close/>
                <a:moveTo>
                  <a:pt x="42" y="32"/>
                </a:moveTo>
                <a:cubicBezTo>
                  <a:pt x="5" y="32"/>
                  <a:pt x="5" y="32"/>
                  <a:pt x="5" y="32"/>
                </a:cubicBezTo>
                <a:cubicBezTo>
                  <a:pt x="5" y="11"/>
                  <a:pt x="5" y="11"/>
                  <a:pt x="5" y="11"/>
                </a:cubicBezTo>
                <a:cubicBezTo>
                  <a:pt x="42" y="11"/>
                  <a:pt x="42" y="11"/>
                  <a:pt x="42" y="11"/>
                </a:cubicBezTo>
                <a:lnTo>
                  <a:pt x="42" y="32"/>
                </a:lnTo>
                <a:close/>
                <a:moveTo>
                  <a:pt x="42" y="7"/>
                </a:moveTo>
                <a:cubicBezTo>
                  <a:pt x="14" y="7"/>
                  <a:pt x="14" y="7"/>
                  <a:pt x="14" y="7"/>
                </a:cubicBezTo>
                <a:cubicBezTo>
                  <a:pt x="14" y="4"/>
                  <a:pt x="14" y="4"/>
                  <a:pt x="14" y="4"/>
                </a:cubicBezTo>
                <a:cubicBezTo>
                  <a:pt x="42" y="4"/>
                  <a:pt x="42" y="4"/>
                  <a:pt x="42" y="4"/>
                </a:cubicBezTo>
                <a:lnTo>
                  <a:pt x="42" y="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35" name="稻壳儿小白白(http://dwz.cn/Wu2UP)"/>
          <p:cNvSpPr/>
          <p:nvPr/>
        </p:nvSpPr>
        <p:spPr>
          <a:xfrm>
            <a:off x="4321080" y="3605040"/>
            <a:ext cx="225360" cy="203400"/>
          </a:xfrm>
          <a:custGeom>
            <a:avLst/>
            <a:gdLst/>
            <a:ahLst/>
            <a:rect l="l" t="t" r="r" b="b"/>
            <a:pathLst>
              <a:path w="47" h="42">
                <a:moveTo>
                  <a:pt x="42" y="0"/>
                </a:moveTo>
                <a:cubicBezTo>
                  <a:pt x="4" y="0"/>
                  <a:pt x="4" y="0"/>
                  <a:pt x="4" y="0"/>
                </a:cubicBezTo>
                <a:cubicBezTo>
                  <a:pt x="2" y="0"/>
                  <a:pt x="0" y="2"/>
                  <a:pt x="0" y="5"/>
                </a:cubicBezTo>
                <a:cubicBezTo>
                  <a:pt x="0" y="33"/>
                  <a:pt x="0" y="33"/>
                  <a:pt x="0" y="33"/>
                </a:cubicBezTo>
                <a:cubicBezTo>
                  <a:pt x="0" y="36"/>
                  <a:pt x="2" y="38"/>
                  <a:pt x="4" y="38"/>
                </a:cubicBezTo>
                <a:cubicBezTo>
                  <a:pt x="14" y="38"/>
                  <a:pt x="14" y="38"/>
                  <a:pt x="14" y="38"/>
                </a:cubicBezTo>
                <a:cubicBezTo>
                  <a:pt x="14" y="33"/>
                  <a:pt x="14" y="33"/>
                  <a:pt x="14" y="33"/>
                </a:cubicBezTo>
                <a:cubicBezTo>
                  <a:pt x="4" y="33"/>
                  <a:pt x="4" y="33"/>
                  <a:pt x="4" y="33"/>
                </a:cubicBezTo>
                <a:cubicBezTo>
                  <a:pt x="4" y="11"/>
                  <a:pt x="4" y="11"/>
                  <a:pt x="4" y="11"/>
                </a:cubicBezTo>
                <a:cubicBezTo>
                  <a:pt x="42" y="11"/>
                  <a:pt x="42" y="11"/>
                  <a:pt x="42" y="11"/>
                </a:cubicBezTo>
                <a:cubicBezTo>
                  <a:pt x="42" y="33"/>
                  <a:pt x="42" y="33"/>
                  <a:pt x="42" y="33"/>
                </a:cubicBezTo>
                <a:cubicBezTo>
                  <a:pt x="33" y="33"/>
                  <a:pt x="33" y="33"/>
                  <a:pt x="33" y="33"/>
                </a:cubicBezTo>
                <a:cubicBezTo>
                  <a:pt x="33" y="38"/>
                  <a:pt x="33" y="38"/>
                  <a:pt x="33" y="38"/>
                </a:cubicBezTo>
                <a:cubicBezTo>
                  <a:pt x="42" y="38"/>
                  <a:pt x="42" y="38"/>
                  <a:pt x="42" y="38"/>
                </a:cubicBezTo>
                <a:cubicBezTo>
                  <a:pt x="45" y="38"/>
                  <a:pt x="47" y="36"/>
                  <a:pt x="47" y="33"/>
                </a:cubicBezTo>
                <a:cubicBezTo>
                  <a:pt x="47" y="5"/>
                  <a:pt x="47" y="5"/>
                  <a:pt x="47" y="5"/>
                </a:cubicBezTo>
                <a:cubicBezTo>
                  <a:pt x="47" y="2"/>
                  <a:pt x="45" y="0"/>
                  <a:pt x="42" y="0"/>
                </a:cubicBezTo>
                <a:close/>
                <a:moveTo>
                  <a:pt x="6" y="8"/>
                </a:moveTo>
                <a:cubicBezTo>
                  <a:pt x="5" y="8"/>
                  <a:pt x="4" y="7"/>
                  <a:pt x="4" y="6"/>
                </a:cubicBezTo>
                <a:cubicBezTo>
                  <a:pt x="4" y="5"/>
                  <a:pt x="5" y="5"/>
                  <a:pt x="6" y="5"/>
                </a:cubicBezTo>
                <a:cubicBezTo>
                  <a:pt x="7" y="5"/>
                  <a:pt x="8" y="5"/>
                  <a:pt x="8" y="6"/>
                </a:cubicBezTo>
                <a:cubicBezTo>
                  <a:pt x="8" y="7"/>
                  <a:pt x="7" y="8"/>
                  <a:pt x="6" y="8"/>
                </a:cubicBezTo>
                <a:close/>
                <a:moveTo>
                  <a:pt x="11" y="8"/>
                </a:moveTo>
                <a:cubicBezTo>
                  <a:pt x="10" y="8"/>
                  <a:pt x="9" y="7"/>
                  <a:pt x="9" y="6"/>
                </a:cubicBezTo>
                <a:cubicBezTo>
                  <a:pt x="9" y="5"/>
                  <a:pt x="10" y="5"/>
                  <a:pt x="11" y="5"/>
                </a:cubicBezTo>
                <a:cubicBezTo>
                  <a:pt x="12" y="5"/>
                  <a:pt x="12" y="5"/>
                  <a:pt x="12" y="6"/>
                </a:cubicBezTo>
                <a:cubicBezTo>
                  <a:pt x="12" y="7"/>
                  <a:pt x="12" y="8"/>
                  <a:pt x="11" y="8"/>
                </a:cubicBezTo>
                <a:close/>
                <a:moveTo>
                  <a:pt x="42" y="8"/>
                </a:moveTo>
                <a:cubicBezTo>
                  <a:pt x="14" y="8"/>
                  <a:pt x="14" y="8"/>
                  <a:pt x="14" y="8"/>
                </a:cubicBezTo>
                <a:cubicBezTo>
                  <a:pt x="14" y="5"/>
                  <a:pt x="14" y="5"/>
                  <a:pt x="14" y="5"/>
                </a:cubicBezTo>
                <a:cubicBezTo>
                  <a:pt x="42" y="5"/>
                  <a:pt x="42" y="5"/>
                  <a:pt x="42" y="5"/>
                </a:cubicBezTo>
                <a:lnTo>
                  <a:pt x="42" y="8"/>
                </a:lnTo>
                <a:close/>
                <a:moveTo>
                  <a:pt x="23" y="17"/>
                </a:moveTo>
                <a:cubicBezTo>
                  <a:pt x="12" y="28"/>
                  <a:pt x="12" y="28"/>
                  <a:pt x="12" y="28"/>
                </a:cubicBezTo>
                <a:cubicBezTo>
                  <a:pt x="19" y="28"/>
                  <a:pt x="19" y="28"/>
                  <a:pt x="19" y="28"/>
                </a:cubicBezTo>
                <a:cubicBezTo>
                  <a:pt x="19" y="42"/>
                  <a:pt x="19" y="42"/>
                  <a:pt x="19" y="42"/>
                </a:cubicBezTo>
                <a:cubicBezTo>
                  <a:pt x="27" y="42"/>
                  <a:pt x="27" y="42"/>
                  <a:pt x="27" y="42"/>
                </a:cubicBezTo>
                <a:cubicBezTo>
                  <a:pt x="27" y="28"/>
                  <a:pt x="27" y="28"/>
                  <a:pt x="27" y="28"/>
                </a:cubicBezTo>
                <a:cubicBezTo>
                  <a:pt x="35" y="28"/>
                  <a:pt x="35" y="28"/>
                  <a:pt x="35" y="28"/>
                </a:cubicBezTo>
                <a:lnTo>
                  <a:pt x="23" y="1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36" name="稻壳儿小白白(http://dwz.cn/Wu2UP)"/>
          <p:cNvSpPr/>
          <p:nvPr/>
        </p:nvSpPr>
        <p:spPr>
          <a:xfrm>
            <a:off x="6607080" y="3629160"/>
            <a:ext cx="158760" cy="158760"/>
          </a:xfrm>
          <a:custGeom>
            <a:avLst/>
            <a:gdLst/>
            <a:ahLst/>
            <a:rect l="l" t="t" r="r" b="b"/>
            <a:pathLst>
              <a:path w="33" h="33">
                <a:moveTo>
                  <a:pt x="17" y="9"/>
                </a:moveTo>
                <a:cubicBezTo>
                  <a:pt x="12" y="9"/>
                  <a:pt x="9" y="12"/>
                  <a:pt x="9" y="16"/>
                </a:cubicBezTo>
                <a:cubicBezTo>
                  <a:pt x="9" y="20"/>
                  <a:pt x="12" y="24"/>
                  <a:pt x="17" y="24"/>
                </a:cubicBezTo>
                <a:cubicBezTo>
                  <a:pt x="21" y="24"/>
                  <a:pt x="24" y="20"/>
                  <a:pt x="24" y="16"/>
                </a:cubicBezTo>
                <a:cubicBezTo>
                  <a:pt x="24" y="12"/>
                  <a:pt x="21" y="9"/>
                  <a:pt x="17" y="9"/>
                </a:cubicBezTo>
                <a:close/>
                <a:moveTo>
                  <a:pt x="17" y="21"/>
                </a:moveTo>
                <a:cubicBezTo>
                  <a:pt x="14" y="21"/>
                  <a:pt x="12" y="19"/>
                  <a:pt x="12" y="16"/>
                </a:cubicBezTo>
                <a:cubicBezTo>
                  <a:pt x="12" y="14"/>
                  <a:pt x="14" y="11"/>
                  <a:pt x="17" y="11"/>
                </a:cubicBezTo>
                <a:cubicBezTo>
                  <a:pt x="19" y="11"/>
                  <a:pt x="21" y="14"/>
                  <a:pt x="21" y="16"/>
                </a:cubicBezTo>
                <a:cubicBezTo>
                  <a:pt x="21" y="19"/>
                  <a:pt x="19" y="21"/>
                  <a:pt x="17" y="21"/>
                </a:cubicBezTo>
                <a:close/>
                <a:moveTo>
                  <a:pt x="2" y="14"/>
                </a:moveTo>
                <a:cubicBezTo>
                  <a:pt x="1" y="14"/>
                  <a:pt x="0" y="15"/>
                  <a:pt x="0" y="16"/>
                </a:cubicBezTo>
                <a:cubicBezTo>
                  <a:pt x="0" y="17"/>
                  <a:pt x="1" y="18"/>
                  <a:pt x="2" y="18"/>
                </a:cubicBezTo>
                <a:cubicBezTo>
                  <a:pt x="4" y="18"/>
                  <a:pt x="5" y="17"/>
                  <a:pt x="5" y="16"/>
                </a:cubicBezTo>
                <a:cubicBezTo>
                  <a:pt x="5" y="15"/>
                  <a:pt x="4" y="14"/>
                  <a:pt x="2" y="14"/>
                </a:cubicBezTo>
                <a:close/>
                <a:moveTo>
                  <a:pt x="28" y="5"/>
                </a:moveTo>
                <a:cubicBezTo>
                  <a:pt x="27" y="4"/>
                  <a:pt x="26" y="4"/>
                  <a:pt x="25" y="5"/>
                </a:cubicBezTo>
                <a:cubicBezTo>
                  <a:pt x="24" y="6"/>
                  <a:pt x="24" y="7"/>
                  <a:pt x="25" y="8"/>
                </a:cubicBezTo>
                <a:cubicBezTo>
                  <a:pt x="25" y="9"/>
                  <a:pt x="27" y="9"/>
                  <a:pt x="28" y="8"/>
                </a:cubicBezTo>
                <a:cubicBezTo>
                  <a:pt x="29" y="7"/>
                  <a:pt x="29" y="6"/>
                  <a:pt x="28" y="5"/>
                </a:cubicBezTo>
                <a:close/>
                <a:moveTo>
                  <a:pt x="31" y="14"/>
                </a:moveTo>
                <a:cubicBezTo>
                  <a:pt x="29" y="14"/>
                  <a:pt x="28" y="15"/>
                  <a:pt x="28" y="16"/>
                </a:cubicBezTo>
                <a:cubicBezTo>
                  <a:pt x="28" y="17"/>
                  <a:pt x="29" y="18"/>
                  <a:pt x="31" y="18"/>
                </a:cubicBezTo>
                <a:cubicBezTo>
                  <a:pt x="32" y="18"/>
                  <a:pt x="33" y="17"/>
                  <a:pt x="33" y="16"/>
                </a:cubicBezTo>
                <a:cubicBezTo>
                  <a:pt x="33" y="15"/>
                  <a:pt x="32" y="14"/>
                  <a:pt x="31" y="14"/>
                </a:cubicBezTo>
                <a:close/>
                <a:moveTo>
                  <a:pt x="17" y="28"/>
                </a:moveTo>
                <a:cubicBezTo>
                  <a:pt x="15" y="28"/>
                  <a:pt x="15" y="29"/>
                  <a:pt x="15" y="30"/>
                </a:cubicBezTo>
                <a:cubicBezTo>
                  <a:pt x="15" y="32"/>
                  <a:pt x="15" y="33"/>
                  <a:pt x="17" y="33"/>
                </a:cubicBezTo>
                <a:cubicBezTo>
                  <a:pt x="18" y="33"/>
                  <a:pt x="18" y="32"/>
                  <a:pt x="18" y="30"/>
                </a:cubicBezTo>
                <a:cubicBezTo>
                  <a:pt x="18" y="29"/>
                  <a:pt x="18" y="28"/>
                  <a:pt x="17" y="28"/>
                </a:cubicBezTo>
                <a:close/>
                <a:moveTo>
                  <a:pt x="5" y="25"/>
                </a:moveTo>
                <a:cubicBezTo>
                  <a:pt x="4" y="26"/>
                  <a:pt x="4" y="27"/>
                  <a:pt x="5" y="28"/>
                </a:cubicBezTo>
                <a:cubicBezTo>
                  <a:pt x="6" y="29"/>
                  <a:pt x="7" y="29"/>
                  <a:pt x="8" y="28"/>
                </a:cubicBezTo>
                <a:cubicBezTo>
                  <a:pt x="9" y="27"/>
                  <a:pt x="9" y="25"/>
                  <a:pt x="8" y="25"/>
                </a:cubicBezTo>
                <a:cubicBezTo>
                  <a:pt x="8" y="24"/>
                  <a:pt x="6" y="24"/>
                  <a:pt x="5" y="25"/>
                </a:cubicBezTo>
                <a:close/>
                <a:moveTo>
                  <a:pt x="5" y="5"/>
                </a:moveTo>
                <a:cubicBezTo>
                  <a:pt x="4" y="6"/>
                  <a:pt x="4" y="7"/>
                  <a:pt x="5" y="8"/>
                </a:cubicBezTo>
                <a:cubicBezTo>
                  <a:pt x="6" y="9"/>
                  <a:pt x="7" y="9"/>
                  <a:pt x="8" y="8"/>
                </a:cubicBezTo>
                <a:cubicBezTo>
                  <a:pt x="9" y="7"/>
                  <a:pt x="9" y="6"/>
                  <a:pt x="8" y="5"/>
                </a:cubicBezTo>
                <a:cubicBezTo>
                  <a:pt x="7" y="4"/>
                  <a:pt x="6" y="4"/>
                  <a:pt x="5" y="5"/>
                </a:cubicBezTo>
                <a:close/>
                <a:moveTo>
                  <a:pt x="25" y="28"/>
                </a:moveTo>
                <a:cubicBezTo>
                  <a:pt x="26" y="29"/>
                  <a:pt x="27" y="29"/>
                  <a:pt x="28" y="28"/>
                </a:cubicBezTo>
                <a:cubicBezTo>
                  <a:pt x="29" y="27"/>
                  <a:pt x="29" y="26"/>
                  <a:pt x="28" y="25"/>
                </a:cubicBezTo>
                <a:cubicBezTo>
                  <a:pt x="27" y="24"/>
                  <a:pt x="26" y="24"/>
                  <a:pt x="25" y="25"/>
                </a:cubicBezTo>
                <a:cubicBezTo>
                  <a:pt x="24" y="25"/>
                  <a:pt x="24" y="27"/>
                  <a:pt x="25" y="28"/>
                </a:cubicBezTo>
                <a:close/>
                <a:moveTo>
                  <a:pt x="17" y="5"/>
                </a:moveTo>
                <a:cubicBezTo>
                  <a:pt x="18" y="5"/>
                  <a:pt x="18" y="4"/>
                  <a:pt x="18" y="2"/>
                </a:cubicBezTo>
                <a:cubicBezTo>
                  <a:pt x="18" y="1"/>
                  <a:pt x="18" y="0"/>
                  <a:pt x="17" y="0"/>
                </a:cubicBezTo>
                <a:cubicBezTo>
                  <a:pt x="15" y="0"/>
                  <a:pt x="15" y="1"/>
                  <a:pt x="15" y="2"/>
                </a:cubicBezTo>
                <a:cubicBezTo>
                  <a:pt x="15" y="4"/>
                  <a:pt x="15" y="5"/>
                  <a:pt x="17" y="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37" name="稻壳儿小白白(http://dwz.cn/Wu2UP)"/>
          <p:cNvSpPr/>
          <p:nvPr/>
        </p:nvSpPr>
        <p:spPr>
          <a:xfrm>
            <a:off x="7024680" y="3597120"/>
            <a:ext cx="227160" cy="225720"/>
          </a:xfrm>
          <a:custGeom>
            <a:avLst/>
            <a:gdLst/>
            <a:ahLst/>
            <a:rect l="l" t="t" r="r" b="b"/>
            <a:pathLst>
              <a:path w="47" h="47">
                <a:moveTo>
                  <a:pt x="44" y="21"/>
                </a:moveTo>
                <a:cubicBezTo>
                  <a:pt x="44" y="21"/>
                  <a:pt x="43" y="21"/>
                  <a:pt x="42" y="21"/>
                </a:cubicBezTo>
                <a:cubicBezTo>
                  <a:pt x="41" y="21"/>
                  <a:pt x="40" y="22"/>
                  <a:pt x="40" y="23"/>
                </a:cubicBezTo>
                <a:cubicBezTo>
                  <a:pt x="40" y="24"/>
                  <a:pt x="41" y="25"/>
                  <a:pt x="42" y="25"/>
                </a:cubicBezTo>
                <a:cubicBezTo>
                  <a:pt x="43" y="25"/>
                  <a:pt x="44" y="25"/>
                  <a:pt x="44" y="25"/>
                </a:cubicBezTo>
                <a:cubicBezTo>
                  <a:pt x="46" y="25"/>
                  <a:pt x="47" y="24"/>
                  <a:pt x="47" y="23"/>
                </a:cubicBezTo>
                <a:cubicBezTo>
                  <a:pt x="47" y="22"/>
                  <a:pt x="46" y="21"/>
                  <a:pt x="44" y="21"/>
                </a:cubicBezTo>
                <a:close/>
                <a:moveTo>
                  <a:pt x="23" y="10"/>
                </a:moveTo>
                <a:cubicBezTo>
                  <a:pt x="16" y="10"/>
                  <a:pt x="10" y="16"/>
                  <a:pt x="10" y="23"/>
                </a:cubicBezTo>
                <a:cubicBezTo>
                  <a:pt x="10" y="30"/>
                  <a:pt x="16" y="36"/>
                  <a:pt x="23" y="36"/>
                </a:cubicBezTo>
                <a:cubicBezTo>
                  <a:pt x="31" y="36"/>
                  <a:pt x="36" y="30"/>
                  <a:pt x="36" y="23"/>
                </a:cubicBezTo>
                <a:cubicBezTo>
                  <a:pt x="36" y="16"/>
                  <a:pt x="31" y="10"/>
                  <a:pt x="23" y="10"/>
                </a:cubicBezTo>
                <a:close/>
                <a:moveTo>
                  <a:pt x="23" y="33"/>
                </a:moveTo>
                <a:cubicBezTo>
                  <a:pt x="18" y="33"/>
                  <a:pt x="14" y="28"/>
                  <a:pt x="14" y="23"/>
                </a:cubicBezTo>
                <a:cubicBezTo>
                  <a:pt x="14" y="18"/>
                  <a:pt x="18" y="14"/>
                  <a:pt x="23" y="14"/>
                </a:cubicBezTo>
                <a:cubicBezTo>
                  <a:pt x="29" y="14"/>
                  <a:pt x="33" y="18"/>
                  <a:pt x="33" y="23"/>
                </a:cubicBezTo>
                <a:cubicBezTo>
                  <a:pt x="33" y="28"/>
                  <a:pt x="29" y="33"/>
                  <a:pt x="23" y="33"/>
                </a:cubicBezTo>
                <a:close/>
                <a:moveTo>
                  <a:pt x="7" y="23"/>
                </a:moveTo>
                <a:cubicBezTo>
                  <a:pt x="7" y="22"/>
                  <a:pt x="6" y="21"/>
                  <a:pt x="5" y="21"/>
                </a:cubicBezTo>
                <a:cubicBezTo>
                  <a:pt x="4" y="21"/>
                  <a:pt x="3" y="21"/>
                  <a:pt x="2" y="21"/>
                </a:cubicBezTo>
                <a:cubicBezTo>
                  <a:pt x="1" y="21"/>
                  <a:pt x="0" y="22"/>
                  <a:pt x="0" y="23"/>
                </a:cubicBezTo>
                <a:cubicBezTo>
                  <a:pt x="0" y="24"/>
                  <a:pt x="1" y="25"/>
                  <a:pt x="2" y="25"/>
                </a:cubicBezTo>
                <a:cubicBezTo>
                  <a:pt x="3" y="25"/>
                  <a:pt x="4" y="25"/>
                  <a:pt x="5" y="25"/>
                </a:cubicBezTo>
                <a:cubicBezTo>
                  <a:pt x="6" y="25"/>
                  <a:pt x="7" y="24"/>
                  <a:pt x="7" y="23"/>
                </a:cubicBezTo>
                <a:close/>
                <a:moveTo>
                  <a:pt x="23" y="7"/>
                </a:moveTo>
                <a:cubicBezTo>
                  <a:pt x="24" y="7"/>
                  <a:pt x="25" y="6"/>
                  <a:pt x="25" y="5"/>
                </a:cubicBezTo>
                <a:cubicBezTo>
                  <a:pt x="25" y="4"/>
                  <a:pt x="25" y="3"/>
                  <a:pt x="25" y="2"/>
                </a:cubicBezTo>
                <a:cubicBezTo>
                  <a:pt x="25" y="1"/>
                  <a:pt x="24" y="0"/>
                  <a:pt x="23" y="0"/>
                </a:cubicBezTo>
                <a:cubicBezTo>
                  <a:pt x="22" y="0"/>
                  <a:pt x="22" y="1"/>
                  <a:pt x="22" y="2"/>
                </a:cubicBezTo>
                <a:cubicBezTo>
                  <a:pt x="22" y="3"/>
                  <a:pt x="22" y="4"/>
                  <a:pt x="22" y="5"/>
                </a:cubicBezTo>
                <a:cubicBezTo>
                  <a:pt x="22" y="6"/>
                  <a:pt x="22" y="7"/>
                  <a:pt x="23" y="7"/>
                </a:cubicBezTo>
                <a:close/>
                <a:moveTo>
                  <a:pt x="23" y="40"/>
                </a:moveTo>
                <a:cubicBezTo>
                  <a:pt x="22" y="40"/>
                  <a:pt x="22" y="41"/>
                  <a:pt x="22" y="42"/>
                </a:cubicBezTo>
                <a:cubicBezTo>
                  <a:pt x="22" y="42"/>
                  <a:pt x="22" y="44"/>
                  <a:pt x="22" y="44"/>
                </a:cubicBezTo>
                <a:cubicBezTo>
                  <a:pt x="22" y="46"/>
                  <a:pt x="22" y="47"/>
                  <a:pt x="23" y="47"/>
                </a:cubicBezTo>
                <a:cubicBezTo>
                  <a:pt x="24" y="47"/>
                  <a:pt x="25" y="46"/>
                  <a:pt x="25" y="44"/>
                </a:cubicBezTo>
                <a:cubicBezTo>
                  <a:pt x="25" y="44"/>
                  <a:pt x="25" y="42"/>
                  <a:pt x="25" y="42"/>
                </a:cubicBezTo>
                <a:cubicBezTo>
                  <a:pt x="25" y="41"/>
                  <a:pt x="24" y="40"/>
                  <a:pt x="23" y="40"/>
                </a:cubicBezTo>
                <a:close/>
                <a:moveTo>
                  <a:pt x="41" y="9"/>
                </a:moveTo>
                <a:cubicBezTo>
                  <a:pt x="42" y="8"/>
                  <a:pt x="42" y="6"/>
                  <a:pt x="41" y="6"/>
                </a:cubicBezTo>
                <a:cubicBezTo>
                  <a:pt x="40" y="5"/>
                  <a:pt x="39" y="5"/>
                  <a:pt x="38" y="6"/>
                </a:cubicBezTo>
                <a:cubicBezTo>
                  <a:pt x="38" y="6"/>
                  <a:pt x="37" y="7"/>
                  <a:pt x="36" y="8"/>
                </a:cubicBezTo>
                <a:cubicBezTo>
                  <a:pt x="35" y="9"/>
                  <a:pt x="35" y="10"/>
                  <a:pt x="36" y="11"/>
                </a:cubicBezTo>
                <a:cubicBezTo>
                  <a:pt x="37" y="11"/>
                  <a:pt x="38" y="11"/>
                  <a:pt x="39" y="10"/>
                </a:cubicBezTo>
                <a:cubicBezTo>
                  <a:pt x="39" y="10"/>
                  <a:pt x="40" y="9"/>
                  <a:pt x="41" y="9"/>
                </a:cubicBezTo>
                <a:close/>
                <a:moveTo>
                  <a:pt x="8" y="36"/>
                </a:moveTo>
                <a:cubicBezTo>
                  <a:pt x="7" y="37"/>
                  <a:pt x="6" y="38"/>
                  <a:pt x="6" y="38"/>
                </a:cubicBezTo>
                <a:cubicBezTo>
                  <a:pt x="5" y="39"/>
                  <a:pt x="5" y="40"/>
                  <a:pt x="6" y="41"/>
                </a:cubicBezTo>
                <a:cubicBezTo>
                  <a:pt x="6" y="42"/>
                  <a:pt x="8" y="41"/>
                  <a:pt x="9" y="41"/>
                </a:cubicBezTo>
                <a:cubicBezTo>
                  <a:pt x="9" y="40"/>
                  <a:pt x="10" y="39"/>
                  <a:pt x="10" y="39"/>
                </a:cubicBezTo>
                <a:cubicBezTo>
                  <a:pt x="11" y="38"/>
                  <a:pt x="11" y="37"/>
                  <a:pt x="11" y="36"/>
                </a:cubicBezTo>
                <a:cubicBezTo>
                  <a:pt x="10" y="35"/>
                  <a:pt x="9" y="35"/>
                  <a:pt x="8" y="36"/>
                </a:cubicBezTo>
                <a:close/>
                <a:moveTo>
                  <a:pt x="9" y="6"/>
                </a:moveTo>
                <a:cubicBezTo>
                  <a:pt x="8" y="5"/>
                  <a:pt x="6" y="5"/>
                  <a:pt x="6" y="6"/>
                </a:cubicBezTo>
                <a:cubicBezTo>
                  <a:pt x="5" y="6"/>
                  <a:pt x="5" y="8"/>
                  <a:pt x="6" y="9"/>
                </a:cubicBezTo>
                <a:cubicBezTo>
                  <a:pt x="6" y="9"/>
                  <a:pt x="7" y="10"/>
                  <a:pt x="8" y="10"/>
                </a:cubicBezTo>
                <a:cubicBezTo>
                  <a:pt x="9" y="11"/>
                  <a:pt x="10" y="11"/>
                  <a:pt x="11" y="11"/>
                </a:cubicBezTo>
                <a:cubicBezTo>
                  <a:pt x="11" y="10"/>
                  <a:pt x="11" y="9"/>
                  <a:pt x="10" y="8"/>
                </a:cubicBezTo>
                <a:cubicBezTo>
                  <a:pt x="10" y="7"/>
                  <a:pt x="9" y="6"/>
                  <a:pt x="9" y="6"/>
                </a:cubicBezTo>
                <a:close/>
                <a:moveTo>
                  <a:pt x="36" y="39"/>
                </a:moveTo>
                <a:cubicBezTo>
                  <a:pt x="37" y="39"/>
                  <a:pt x="38" y="40"/>
                  <a:pt x="38" y="41"/>
                </a:cubicBezTo>
                <a:cubicBezTo>
                  <a:pt x="39" y="41"/>
                  <a:pt x="40" y="42"/>
                  <a:pt x="41" y="41"/>
                </a:cubicBezTo>
                <a:cubicBezTo>
                  <a:pt x="42" y="40"/>
                  <a:pt x="42" y="39"/>
                  <a:pt x="41" y="38"/>
                </a:cubicBezTo>
                <a:cubicBezTo>
                  <a:pt x="40" y="38"/>
                  <a:pt x="39" y="37"/>
                  <a:pt x="39" y="36"/>
                </a:cubicBezTo>
                <a:cubicBezTo>
                  <a:pt x="38" y="35"/>
                  <a:pt x="37" y="35"/>
                  <a:pt x="36" y="36"/>
                </a:cubicBezTo>
                <a:cubicBezTo>
                  <a:pt x="35" y="37"/>
                  <a:pt x="35" y="38"/>
                  <a:pt x="36" y="3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38" name="稻壳儿小白白(http://dwz.cn/Wu2UP)"/>
          <p:cNvSpPr/>
          <p:nvPr/>
        </p:nvSpPr>
        <p:spPr>
          <a:xfrm>
            <a:off x="3882960" y="1803240"/>
            <a:ext cx="198360" cy="201600"/>
          </a:xfrm>
          <a:custGeom>
            <a:avLst/>
            <a:gdLst/>
            <a:ahLst/>
            <a:rect l="l" t="t" r="r" b="b"/>
            <a:pathLst>
              <a:path w="97" h="99">
                <a:moveTo>
                  <a:pt x="97" y="38"/>
                </a:moveTo>
                <a:lnTo>
                  <a:pt x="61" y="38"/>
                </a:lnTo>
                <a:lnTo>
                  <a:pt x="47" y="0"/>
                </a:lnTo>
                <a:lnTo>
                  <a:pt x="35" y="38"/>
                </a:lnTo>
                <a:lnTo>
                  <a:pt x="0" y="38"/>
                </a:lnTo>
                <a:lnTo>
                  <a:pt x="28" y="59"/>
                </a:lnTo>
                <a:lnTo>
                  <a:pt x="19" y="99"/>
                </a:lnTo>
                <a:lnTo>
                  <a:pt x="47" y="75"/>
                </a:lnTo>
                <a:lnTo>
                  <a:pt x="78" y="99"/>
                </a:lnTo>
                <a:lnTo>
                  <a:pt x="68" y="59"/>
                </a:lnTo>
                <a:lnTo>
                  <a:pt x="97" y="38"/>
                </a:lnTo>
                <a:close/>
                <a:moveTo>
                  <a:pt x="47" y="64"/>
                </a:moveTo>
                <a:lnTo>
                  <a:pt x="31" y="78"/>
                </a:lnTo>
                <a:lnTo>
                  <a:pt x="38" y="59"/>
                </a:lnTo>
                <a:lnTo>
                  <a:pt x="24" y="45"/>
                </a:lnTo>
                <a:lnTo>
                  <a:pt x="42" y="47"/>
                </a:lnTo>
                <a:lnTo>
                  <a:pt x="47" y="23"/>
                </a:lnTo>
                <a:lnTo>
                  <a:pt x="54" y="47"/>
                </a:lnTo>
                <a:lnTo>
                  <a:pt x="73" y="45"/>
                </a:lnTo>
                <a:lnTo>
                  <a:pt x="59" y="59"/>
                </a:lnTo>
                <a:lnTo>
                  <a:pt x="64" y="78"/>
                </a:lnTo>
                <a:lnTo>
                  <a:pt x="47" y="6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39" name="稻壳儿小白白(http://dwz.cn/Wu2UP)"/>
          <p:cNvSpPr/>
          <p:nvPr/>
        </p:nvSpPr>
        <p:spPr>
          <a:xfrm>
            <a:off x="9737640" y="1370160"/>
            <a:ext cx="208080" cy="158760"/>
          </a:xfrm>
          <a:custGeom>
            <a:avLst/>
            <a:gdLst/>
            <a:ahLst/>
            <a:rect l="l" t="t" r="r" b="b"/>
            <a:pathLst>
              <a:path w="43" h="33">
                <a:moveTo>
                  <a:pt x="38" y="3"/>
                </a:moveTo>
                <a:cubicBezTo>
                  <a:pt x="34" y="0"/>
                  <a:pt x="28" y="0"/>
                  <a:pt x="24" y="3"/>
                </a:cubicBezTo>
                <a:cubicBezTo>
                  <a:pt x="21" y="6"/>
                  <a:pt x="21" y="6"/>
                  <a:pt x="21" y="6"/>
                </a:cubicBezTo>
                <a:cubicBezTo>
                  <a:pt x="19" y="3"/>
                  <a:pt x="19" y="3"/>
                  <a:pt x="19" y="3"/>
                </a:cubicBezTo>
                <a:cubicBezTo>
                  <a:pt x="15" y="0"/>
                  <a:pt x="9" y="0"/>
                  <a:pt x="5" y="3"/>
                </a:cubicBezTo>
                <a:cubicBezTo>
                  <a:pt x="0" y="7"/>
                  <a:pt x="0" y="14"/>
                  <a:pt x="5" y="18"/>
                </a:cubicBezTo>
                <a:cubicBezTo>
                  <a:pt x="21" y="33"/>
                  <a:pt x="21" y="33"/>
                  <a:pt x="21" y="33"/>
                </a:cubicBezTo>
                <a:cubicBezTo>
                  <a:pt x="38" y="18"/>
                  <a:pt x="38" y="18"/>
                  <a:pt x="38" y="18"/>
                </a:cubicBezTo>
                <a:cubicBezTo>
                  <a:pt x="43" y="14"/>
                  <a:pt x="43" y="7"/>
                  <a:pt x="38" y="3"/>
                </a:cubicBezTo>
                <a:close/>
                <a:moveTo>
                  <a:pt x="36" y="16"/>
                </a:moveTo>
                <a:cubicBezTo>
                  <a:pt x="21" y="29"/>
                  <a:pt x="21" y="29"/>
                  <a:pt x="21" y="29"/>
                </a:cubicBezTo>
                <a:cubicBezTo>
                  <a:pt x="7" y="16"/>
                  <a:pt x="7" y="16"/>
                  <a:pt x="7" y="16"/>
                </a:cubicBezTo>
                <a:cubicBezTo>
                  <a:pt x="6" y="14"/>
                  <a:pt x="5" y="12"/>
                  <a:pt x="5" y="11"/>
                </a:cubicBezTo>
                <a:cubicBezTo>
                  <a:pt x="5" y="9"/>
                  <a:pt x="5" y="7"/>
                  <a:pt x="7" y="6"/>
                </a:cubicBezTo>
                <a:cubicBezTo>
                  <a:pt x="8" y="5"/>
                  <a:pt x="10" y="4"/>
                  <a:pt x="12" y="4"/>
                </a:cubicBezTo>
                <a:cubicBezTo>
                  <a:pt x="14" y="4"/>
                  <a:pt x="15" y="5"/>
                  <a:pt x="17" y="6"/>
                </a:cubicBezTo>
                <a:cubicBezTo>
                  <a:pt x="21" y="11"/>
                  <a:pt x="21" y="11"/>
                  <a:pt x="21" y="11"/>
                </a:cubicBezTo>
                <a:cubicBezTo>
                  <a:pt x="26" y="6"/>
                  <a:pt x="26" y="6"/>
                  <a:pt x="26" y="6"/>
                </a:cubicBezTo>
                <a:cubicBezTo>
                  <a:pt x="28" y="5"/>
                  <a:pt x="29" y="4"/>
                  <a:pt x="31" y="4"/>
                </a:cubicBezTo>
                <a:cubicBezTo>
                  <a:pt x="33" y="4"/>
                  <a:pt x="35" y="5"/>
                  <a:pt x="36" y="6"/>
                </a:cubicBezTo>
                <a:cubicBezTo>
                  <a:pt x="38" y="7"/>
                  <a:pt x="38" y="9"/>
                  <a:pt x="38" y="11"/>
                </a:cubicBezTo>
                <a:cubicBezTo>
                  <a:pt x="38" y="12"/>
                  <a:pt x="37" y="14"/>
                  <a:pt x="36" y="1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40" name="稻壳儿小白白(http://dwz.cn/Wu2UP)"/>
          <p:cNvSpPr/>
          <p:nvPr/>
        </p:nvSpPr>
        <p:spPr>
          <a:xfrm>
            <a:off x="4781520" y="3154320"/>
            <a:ext cx="206280" cy="206280"/>
          </a:xfrm>
          <a:custGeom>
            <a:avLst/>
            <a:gdLst/>
            <a:ahLst/>
            <a:rect l="l" t="t" r="r" b="b"/>
            <a:pathLst>
              <a:path w="43" h="43">
                <a:moveTo>
                  <a:pt x="10" y="14"/>
                </a:moveTo>
                <a:cubicBezTo>
                  <a:pt x="10" y="14"/>
                  <a:pt x="11" y="14"/>
                  <a:pt x="11" y="14"/>
                </a:cubicBezTo>
                <a:cubicBezTo>
                  <a:pt x="13" y="13"/>
                  <a:pt x="15" y="11"/>
                  <a:pt x="17" y="9"/>
                </a:cubicBezTo>
                <a:cubicBezTo>
                  <a:pt x="17" y="9"/>
                  <a:pt x="17" y="9"/>
                  <a:pt x="17" y="8"/>
                </a:cubicBezTo>
                <a:cubicBezTo>
                  <a:pt x="17" y="8"/>
                  <a:pt x="17" y="7"/>
                  <a:pt x="17" y="7"/>
                </a:cubicBezTo>
                <a:cubicBezTo>
                  <a:pt x="15" y="5"/>
                  <a:pt x="12" y="4"/>
                  <a:pt x="10" y="3"/>
                </a:cubicBezTo>
                <a:cubicBezTo>
                  <a:pt x="7" y="5"/>
                  <a:pt x="5" y="6"/>
                  <a:pt x="4" y="9"/>
                </a:cubicBezTo>
                <a:cubicBezTo>
                  <a:pt x="5" y="11"/>
                  <a:pt x="6" y="13"/>
                  <a:pt x="8" y="15"/>
                </a:cubicBezTo>
                <a:cubicBezTo>
                  <a:pt x="9" y="14"/>
                  <a:pt x="9" y="14"/>
                  <a:pt x="10" y="14"/>
                </a:cubicBezTo>
                <a:close/>
                <a:moveTo>
                  <a:pt x="5" y="19"/>
                </a:moveTo>
                <a:cubicBezTo>
                  <a:pt x="5" y="18"/>
                  <a:pt x="6" y="18"/>
                  <a:pt x="6" y="17"/>
                </a:cubicBezTo>
                <a:cubicBezTo>
                  <a:pt x="4" y="15"/>
                  <a:pt x="3" y="14"/>
                  <a:pt x="2" y="12"/>
                </a:cubicBezTo>
                <a:cubicBezTo>
                  <a:pt x="0" y="15"/>
                  <a:pt x="0" y="18"/>
                  <a:pt x="0" y="21"/>
                </a:cubicBezTo>
                <a:cubicBezTo>
                  <a:pt x="0" y="25"/>
                  <a:pt x="1" y="29"/>
                  <a:pt x="3" y="32"/>
                </a:cubicBezTo>
                <a:cubicBezTo>
                  <a:pt x="3" y="29"/>
                  <a:pt x="5" y="25"/>
                  <a:pt x="6" y="22"/>
                </a:cubicBezTo>
                <a:cubicBezTo>
                  <a:pt x="6" y="21"/>
                  <a:pt x="5" y="20"/>
                  <a:pt x="5" y="19"/>
                </a:cubicBezTo>
                <a:close/>
                <a:moveTo>
                  <a:pt x="21" y="4"/>
                </a:moveTo>
                <a:cubicBezTo>
                  <a:pt x="22" y="4"/>
                  <a:pt x="24" y="4"/>
                  <a:pt x="24" y="5"/>
                </a:cubicBezTo>
                <a:cubicBezTo>
                  <a:pt x="27" y="4"/>
                  <a:pt x="29" y="3"/>
                  <a:pt x="32" y="3"/>
                </a:cubicBezTo>
                <a:cubicBezTo>
                  <a:pt x="29" y="1"/>
                  <a:pt x="25" y="0"/>
                  <a:pt x="21" y="0"/>
                </a:cubicBezTo>
                <a:cubicBezTo>
                  <a:pt x="18" y="0"/>
                  <a:pt x="16" y="0"/>
                  <a:pt x="14" y="1"/>
                </a:cubicBezTo>
                <a:cubicBezTo>
                  <a:pt x="15" y="2"/>
                  <a:pt x="17" y="3"/>
                  <a:pt x="19" y="4"/>
                </a:cubicBezTo>
                <a:cubicBezTo>
                  <a:pt x="20" y="4"/>
                  <a:pt x="20" y="4"/>
                  <a:pt x="21" y="4"/>
                </a:cubicBezTo>
                <a:close/>
                <a:moveTo>
                  <a:pt x="28" y="25"/>
                </a:moveTo>
                <a:cubicBezTo>
                  <a:pt x="28" y="25"/>
                  <a:pt x="29" y="24"/>
                  <a:pt x="29" y="24"/>
                </a:cubicBezTo>
                <a:cubicBezTo>
                  <a:pt x="28" y="20"/>
                  <a:pt x="26" y="16"/>
                  <a:pt x="23" y="13"/>
                </a:cubicBezTo>
                <a:cubicBezTo>
                  <a:pt x="22" y="13"/>
                  <a:pt x="22" y="13"/>
                  <a:pt x="21" y="13"/>
                </a:cubicBezTo>
                <a:cubicBezTo>
                  <a:pt x="20" y="13"/>
                  <a:pt x="19" y="13"/>
                  <a:pt x="19" y="12"/>
                </a:cubicBezTo>
                <a:cubicBezTo>
                  <a:pt x="17" y="13"/>
                  <a:pt x="15" y="15"/>
                  <a:pt x="14" y="16"/>
                </a:cubicBezTo>
                <a:cubicBezTo>
                  <a:pt x="14" y="17"/>
                  <a:pt x="15" y="18"/>
                  <a:pt x="15" y="19"/>
                </a:cubicBezTo>
                <a:cubicBezTo>
                  <a:pt x="15" y="19"/>
                  <a:pt x="15" y="20"/>
                  <a:pt x="14" y="20"/>
                </a:cubicBezTo>
                <a:cubicBezTo>
                  <a:pt x="18" y="23"/>
                  <a:pt x="23" y="25"/>
                  <a:pt x="28" y="25"/>
                </a:cubicBezTo>
                <a:close/>
                <a:moveTo>
                  <a:pt x="34" y="32"/>
                </a:moveTo>
                <a:cubicBezTo>
                  <a:pt x="34" y="33"/>
                  <a:pt x="34" y="33"/>
                  <a:pt x="34" y="34"/>
                </a:cubicBezTo>
                <a:cubicBezTo>
                  <a:pt x="34" y="36"/>
                  <a:pt x="34" y="37"/>
                  <a:pt x="34" y="39"/>
                </a:cubicBezTo>
                <a:cubicBezTo>
                  <a:pt x="37" y="36"/>
                  <a:pt x="40" y="32"/>
                  <a:pt x="42" y="28"/>
                </a:cubicBezTo>
                <a:cubicBezTo>
                  <a:pt x="40" y="28"/>
                  <a:pt x="38" y="29"/>
                  <a:pt x="37" y="29"/>
                </a:cubicBezTo>
                <a:cubicBezTo>
                  <a:pt x="36" y="30"/>
                  <a:pt x="35" y="31"/>
                  <a:pt x="34" y="32"/>
                </a:cubicBezTo>
                <a:close/>
                <a:moveTo>
                  <a:pt x="27" y="29"/>
                </a:moveTo>
                <a:cubicBezTo>
                  <a:pt x="22" y="28"/>
                  <a:pt x="17" y="26"/>
                  <a:pt x="12" y="23"/>
                </a:cubicBezTo>
                <a:cubicBezTo>
                  <a:pt x="12" y="23"/>
                  <a:pt x="11" y="23"/>
                  <a:pt x="10" y="23"/>
                </a:cubicBezTo>
                <a:cubicBezTo>
                  <a:pt x="10" y="23"/>
                  <a:pt x="9" y="23"/>
                  <a:pt x="9" y="23"/>
                </a:cubicBezTo>
                <a:cubicBezTo>
                  <a:pt x="7" y="27"/>
                  <a:pt x="6" y="32"/>
                  <a:pt x="5" y="36"/>
                </a:cubicBezTo>
                <a:cubicBezTo>
                  <a:pt x="7" y="38"/>
                  <a:pt x="10" y="40"/>
                  <a:pt x="13" y="41"/>
                </a:cubicBezTo>
                <a:cubicBezTo>
                  <a:pt x="16" y="36"/>
                  <a:pt x="21" y="32"/>
                  <a:pt x="27" y="29"/>
                </a:cubicBezTo>
                <a:close/>
                <a:moveTo>
                  <a:pt x="36" y="5"/>
                </a:moveTo>
                <a:cubicBezTo>
                  <a:pt x="32" y="6"/>
                  <a:pt x="29" y="7"/>
                  <a:pt x="26" y="8"/>
                </a:cubicBezTo>
                <a:cubicBezTo>
                  <a:pt x="26" y="8"/>
                  <a:pt x="26" y="8"/>
                  <a:pt x="26" y="8"/>
                </a:cubicBezTo>
                <a:cubicBezTo>
                  <a:pt x="26" y="9"/>
                  <a:pt x="26" y="10"/>
                  <a:pt x="25" y="10"/>
                </a:cubicBezTo>
                <a:cubicBezTo>
                  <a:pt x="28" y="14"/>
                  <a:pt x="31" y="18"/>
                  <a:pt x="32" y="23"/>
                </a:cubicBezTo>
                <a:cubicBezTo>
                  <a:pt x="34" y="23"/>
                  <a:pt x="36" y="24"/>
                  <a:pt x="36" y="26"/>
                </a:cubicBezTo>
                <a:cubicBezTo>
                  <a:pt x="39" y="25"/>
                  <a:pt x="41" y="25"/>
                  <a:pt x="42" y="24"/>
                </a:cubicBezTo>
                <a:cubicBezTo>
                  <a:pt x="43" y="23"/>
                  <a:pt x="43" y="22"/>
                  <a:pt x="43" y="21"/>
                </a:cubicBezTo>
                <a:cubicBezTo>
                  <a:pt x="43" y="15"/>
                  <a:pt x="40" y="9"/>
                  <a:pt x="36" y="5"/>
                </a:cubicBezTo>
                <a:close/>
                <a:moveTo>
                  <a:pt x="29" y="31"/>
                </a:moveTo>
                <a:cubicBezTo>
                  <a:pt x="24" y="34"/>
                  <a:pt x="19" y="38"/>
                  <a:pt x="16" y="42"/>
                </a:cubicBezTo>
                <a:cubicBezTo>
                  <a:pt x="18" y="43"/>
                  <a:pt x="19" y="43"/>
                  <a:pt x="21" y="43"/>
                </a:cubicBezTo>
                <a:cubicBezTo>
                  <a:pt x="24" y="43"/>
                  <a:pt x="27" y="42"/>
                  <a:pt x="30" y="41"/>
                </a:cubicBezTo>
                <a:cubicBezTo>
                  <a:pt x="31" y="39"/>
                  <a:pt x="31" y="37"/>
                  <a:pt x="31" y="34"/>
                </a:cubicBezTo>
                <a:cubicBezTo>
                  <a:pt x="31" y="33"/>
                  <a:pt x="31" y="33"/>
                  <a:pt x="31" y="32"/>
                </a:cubicBezTo>
                <a:cubicBezTo>
                  <a:pt x="30" y="32"/>
                  <a:pt x="30" y="31"/>
                  <a:pt x="29" y="3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41" name="稻壳儿小白白(http://dwz.cn/Wu2UP)"/>
          <p:cNvSpPr/>
          <p:nvPr/>
        </p:nvSpPr>
        <p:spPr>
          <a:xfrm>
            <a:off x="7927920" y="3639960"/>
            <a:ext cx="225360" cy="140040"/>
          </a:xfrm>
          <a:custGeom>
            <a:avLst/>
            <a:gdLst/>
            <a:ahLst/>
            <a:rect l="l" t="t" r="r" b="b"/>
            <a:pathLst>
              <a:path w="47" h="29">
                <a:moveTo>
                  <a:pt x="17" y="1"/>
                </a:moveTo>
                <a:cubicBezTo>
                  <a:pt x="17" y="0"/>
                  <a:pt x="15" y="0"/>
                  <a:pt x="15" y="1"/>
                </a:cubicBezTo>
                <a:cubicBezTo>
                  <a:pt x="0" y="14"/>
                  <a:pt x="0" y="14"/>
                  <a:pt x="0" y="14"/>
                </a:cubicBezTo>
                <a:cubicBezTo>
                  <a:pt x="15" y="28"/>
                  <a:pt x="15" y="28"/>
                  <a:pt x="15" y="28"/>
                </a:cubicBezTo>
                <a:cubicBezTo>
                  <a:pt x="15" y="29"/>
                  <a:pt x="17" y="29"/>
                  <a:pt x="17" y="28"/>
                </a:cubicBezTo>
                <a:cubicBezTo>
                  <a:pt x="18" y="27"/>
                  <a:pt x="18" y="26"/>
                  <a:pt x="17" y="25"/>
                </a:cubicBezTo>
                <a:cubicBezTo>
                  <a:pt x="6" y="14"/>
                  <a:pt x="6" y="14"/>
                  <a:pt x="6" y="14"/>
                </a:cubicBezTo>
                <a:cubicBezTo>
                  <a:pt x="17" y="4"/>
                  <a:pt x="17" y="4"/>
                  <a:pt x="17" y="4"/>
                </a:cubicBezTo>
                <a:cubicBezTo>
                  <a:pt x="18" y="3"/>
                  <a:pt x="18" y="2"/>
                  <a:pt x="17" y="1"/>
                </a:cubicBezTo>
                <a:close/>
                <a:moveTo>
                  <a:pt x="32" y="1"/>
                </a:moveTo>
                <a:cubicBezTo>
                  <a:pt x="31" y="0"/>
                  <a:pt x="30" y="0"/>
                  <a:pt x="29" y="1"/>
                </a:cubicBezTo>
                <a:cubicBezTo>
                  <a:pt x="28" y="2"/>
                  <a:pt x="28" y="3"/>
                  <a:pt x="29" y="4"/>
                </a:cubicBezTo>
                <a:cubicBezTo>
                  <a:pt x="40" y="14"/>
                  <a:pt x="40" y="14"/>
                  <a:pt x="40" y="14"/>
                </a:cubicBezTo>
                <a:cubicBezTo>
                  <a:pt x="29" y="25"/>
                  <a:pt x="29" y="25"/>
                  <a:pt x="29" y="25"/>
                </a:cubicBezTo>
                <a:cubicBezTo>
                  <a:pt x="28" y="26"/>
                  <a:pt x="28" y="27"/>
                  <a:pt x="29" y="28"/>
                </a:cubicBezTo>
                <a:cubicBezTo>
                  <a:pt x="30" y="29"/>
                  <a:pt x="31" y="29"/>
                  <a:pt x="32" y="28"/>
                </a:cubicBezTo>
                <a:cubicBezTo>
                  <a:pt x="47" y="14"/>
                  <a:pt x="47" y="14"/>
                  <a:pt x="47" y="14"/>
                </a:cubicBezTo>
                <a:lnTo>
                  <a:pt x="32" y="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42" name="稻壳儿小白白(http://dwz.cn/Wu2UP)"/>
          <p:cNvSpPr/>
          <p:nvPr/>
        </p:nvSpPr>
        <p:spPr>
          <a:xfrm>
            <a:off x="8836200" y="2700360"/>
            <a:ext cx="206280" cy="208080"/>
          </a:xfrm>
          <a:custGeom>
            <a:avLst/>
            <a:gdLst/>
            <a:ahLst/>
            <a:rect l="l" t="t" r="r" b="b"/>
            <a:pathLst>
              <a:path w="43" h="43">
                <a:moveTo>
                  <a:pt x="22" y="0"/>
                </a:moveTo>
                <a:cubicBezTo>
                  <a:pt x="10" y="0"/>
                  <a:pt x="0" y="10"/>
                  <a:pt x="0" y="22"/>
                </a:cubicBezTo>
                <a:cubicBezTo>
                  <a:pt x="0" y="34"/>
                  <a:pt x="10" y="43"/>
                  <a:pt x="22" y="43"/>
                </a:cubicBezTo>
                <a:cubicBezTo>
                  <a:pt x="34" y="43"/>
                  <a:pt x="43" y="34"/>
                  <a:pt x="43" y="22"/>
                </a:cubicBezTo>
                <a:cubicBezTo>
                  <a:pt x="43" y="10"/>
                  <a:pt x="34" y="0"/>
                  <a:pt x="22" y="0"/>
                </a:cubicBezTo>
                <a:close/>
                <a:moveTo>
                  <a:pt x="22" y="29"/>
                </a:moveTo>
                <a:cubicBezTo>
                  <a:pt x="18" y="29"/>
                  <a:pt x="15" y="25"/>
                  <a:pt x="15" y="22"/>
                </a:cubicBezTo>
                <a:cubicBezTo>
                  <a:pt x="15" y="18"/>
                  <a:pt x="18" y="15"/>
                  <a:pt x="22" y="15"/>
                </a:cubicBezTo>
                <a:cubicBezTo>
                  <a:pt x="26" y="15"/>
                  <a:pt x="29" y="18"/>
                  <a:pt x="29" y="22"/>
                </a:cubicBezTo>
                <a:cubicBezTo>
                  <a:pt x="29" y="25"/>
                  <a:pt x="26" y="29"/>
                  <a:pt x="22" y="2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43" name="稻壳儿小白白(http://dwz.cn/Wu2UP)"/>
          <p:cNvSpPr/>
          <p:nvPr/>
        </p:nvSpPr>
        <p:spPr>
          <a:xfrm>
            <a:off x="4772160" y="3654360"/>
            <a:ext cx="225360" cy="111240"/>
          </a:xfrm>
          <a:custGeom>
            <a:avLst/>
            <a:gdLst/>
            <a:ahLst/>
            <a:rect l="l" t="t" r="r" b="b"/>
            <a:pathLst>
              <a:path w="47" h="23">
                <a:moveTo>
                  <a:pt x="42" y="0"/>
                </a:moveTo>
                <a:cubicBezTo>
                  <a:pt x="4" y="0"/>
                  <a:pt x="4" y="0"/>
                  <a:pt x="4" y="0"/>
                </a:cubicBezTo>
                <a:cubicBezTo>
                  <a:pt x="2" y="0"/>
                  <a:pt x="0" y="2"/>
                  <a:pt x="0" y="4"/>
                </a:cubicBezTo>
                <a:cubicBezTo>
                  <a:pt x="0" y="18"/>
                  <a:pt x="0" y="18"/>
                  <a:pt x="0" y="18"/>
                </a:cubicBezTo>
                <a:cubicBezTo>
                  <a:pt x="0" y="21"/>
                  <a:pt x="2" y="23"/>
                  <a:pt x="4" y="23"/>
                </a:cubicBezTo>
                <a:cubicBezTo>
                  <a:pt x="42" y="23"/>
                  <a:pt x="42" y="23"/>
                  <a:pt x="42" y="23"/>
                </a:cubicBezTo>
                <a:cubicBezTo>
                  <a:pt x="44" y="23"/>
                  <a:pt x="47" y="21"/>
                  <a:pt x="47" y="18"/>
                </a:cubicBezTo>
                <a:cubicBezTo>
                  <a:pt x="47" y="4"/>
                  <a:pt x="47" y="4"/>
                  <a:pt x="47" y="4"/>
                </a:cubicBezTo>
                <a:cubicBezTo>
                  <a:pt x="47" y="2"/>
                  <a:pt x="44" y="0"/>
                  <a:pt x="42" y="0"/>
                </a:cubicBezTo>
                <a:close/>
                <a:moveTo>
                  <a:pt x="42" y="18"/>
                </a:moveTo>
                <a:cubicBezTo>
                  <a:pt x="4" y="18"/>
                  <a:pt x="4" y="18"/>
                  <a:pt x="4" y="18"/>
                </a:cubicBezTo>
                <a:cubicBezTo>
                  <a:pt x="4" y="4"/>
                  <a:pt x="4" y="4"/>
                  <a:pt x="4" y="4"/>
                </a:cubicBezTo>
                <a:cubicBezTo>
                  <a:pt x="42" y="4"/>
                  <a:pt x="42" y="4"/>
                  <a:pt x="42" y="4"/>
                </a:cubicBezTo>
                <a:lnTo>
                  <a:pt x="42" y="18"/>
                </a:lnTo>
                <a:close/>
                <a:moveTo>
                  <a:pt x="40" y="7"/>
                </a:moveTo>
                <a:cubicBezTo>
                  <a:pt x="30" y="7"/>
                  <a:pt x="30" y="7"/>
                  <a:pt x="30" y="7"/>
                </a:cubicBezTo>
                <a:cubicBezTo>
                  <a:pt x="30" y="16"/>
                  <a:pt x="30" y="16"/>
                  <a:pt x="30" y="16"/>
                </a:cubicBezTo>
                <a:cubicBezTo>
                  <a:pt x="40" y="16"/>
                  <a:pt x="40" y="16"/>
                  <a:pt x="40" y="16"/>
                </a:cubicBezTo>
                <a:lnTo>
                  <a:pt x="40" y="7"/>
                </a:lnTo>
                <a:close/>
                <a:moveTo>
                  <a:pt x="16" y="7"/>
                </a:moveTo>
                <a:cubicBezTo>
                  <a:pt x="7" y="7"/>
                  <a:pt x="7" y="7"/>
                  <a:pt x="7" y="7"/>
                </a:cubicBezTo>
                <a:cubicBezTo>
                  <a:pt x="7" y="16"/>
                  <a:pt x="7" y="16"/>
                  <a:pt x="7" y="16"/>
                </a:cubicBezTo>
                <a:cubicBezTo>
                  <a:pt x="16" y="16"/>
                  <a:pt x="16" y="16"/>
                  <a:pt x="16" y="16"/>
                </a:cubicBezTo>
                <a:lnTo>
                  <a:pt x="16" y="7"/>
                </a:lnTo>
                <a:close/>
                <a:moveTo>
                  <a:pt x="28" y="7"/>
                </a:moveTo>
                <a:cubicBezTo>
                  <a:pt x="18" y="7"/>
                  <a:pt x="18" y="7"/>
                  <a:pt x="18" y="7"/>
                </a:cubicBezTo>
                <a:cubicBezTo>
                  <a:pt x="18" y="16"/>
                  <a:pt x="18" y="16"/>
                  <a:pt x="18" y="16"/>
                </a:cubicBezTo>
                <a:cubicBezTo>
                  <a:pt x="28" y="16"/>
                  <a:pt x="28" y="16"/>
                  <a:pt x="28" y="16"/>
                </a:cubicBezTo>
                <a:lnTo>
                  <a:pt x="28" y="7"/>
                </a:lnTo>
                <a:close/>
              </a:path>
            </a:pathLst>
          </a:custGeom>
          <a:solidFill>
            <a:srgbClr val="ffffff"/>
          </a:solidFill>
          <a:ln w="0">
            <a:noFill/>
          </a:ln>
        </p:spPr>
        <p:style>
          <a:lnRef idx="0"/>
          <a:fillRef idx="0"/>
          <a:effectRef idx="0"/>
          <a:fontRef idx="minor"/>
        </p:style>
        <p:txBody>
          <a:bodyPr lIns="121680" rIns="121680" tIns="50400" bIns="50400" anchor="t">
            <a:noAutofit/>
          </a:bodyPr>
          <a:p>
            <a:endParaRPr b="0" lang="en-US" sz="1800" spc="-1" strike="noStrike">
              <a:solidFill>
                <a:srgbClr val="000000"/>
              </a:solidFill>
              <a:latin typeface="Arial"/>
            </a:endParaRPr>
          </a:p>
        </p:txBody>
      </p:sp>
      <p:sp>
        <p:nvSpPr>
          <p:cNvPr id="1044" name="稻壳儿小白白(http://dwz.cn/Wu2UP)"/>
          <p:cNvSpPr/>
          <p:nvPr/>
        </p:nvSpPr>
        <p:spPr>
          <a:xfrm>
            <a:off x="5224320" y="3654360"/>
            <a:ext cx="219240" cy="111240"/>
          </a:xfrm>
          <a:custGeom>
            <a:avLst/>
            <a:gdLst/>
            <a:ahLst/>
            <a:rect l="l" t="t" r="r" b="b"/>
            <a:pathLst>
              <a:path w="46" h="23">
                <a:moveTo>
                  <a:pt x="42" y="0"/>
                </a:moveTo>
                <a:cubicBezTo>
                  <a:pt x="4" y="0"/>
                  <a:pt x="4" y="0"/>
                  <a:pt x="4" y="0"/>
                </a:cubicBezTo>
                <a:cubicBezTo>
                  <a:pt x="2" y="0"/>
                  <a:pt x="0" y="2"/>
                  <a:pt x="0" y="4"/>
                </a:cubicBezTo>
                <a:cubicBezTo>
                  <a:pt x="0" y="18"/>
                  <a:pt x="0" y="18"/>
                  <a:pt x="0" y="18"/>
                </a:cubicBezTo>
                <a:cubicBezTo>
                  <a:pt x="0" y="21"/>
                  <a:pt x="2" y="23"/>
                  <a:pt x="4" y="23"/>
                </a:cubicBezTo>
                <a:cubicBezTo>
                  <a:pt x="42" y="23"/>
                  <a:pt x="42" y="23"/>
                  <a:pt x="42" y="23"/>
                </a:cubicBezTo>
                <a:cubicBezTo>
                  <a:pt x="44" y="23"/>
                  <a:pt x="46" y="21"/>
                  <a:pt x="46" y="18"/>
                </a:cubicBezTo>
                <a:cubicBezTo>
                  <a:pt x="46" y="4"/>
                  <a:pt x="46" y="4"/>
                  <a:pt x="46" y="4"/>
                </a:cubicBezTo>
                <a:cubicBezTo>
                  <a:pt x="46" y="2"/>
                  <a:pt x="44" y="0"/>
                  <a:pt x="42" y="0"/>
                </a:cubicBezTo>
                <a:close/>
                <a:moveTo>
                  <a:pt x="42" y="18"/>
                </a:moveTo>
                <a:cubicBezTo>
                  <a:pt x="4" y="18"/>
                  <a:pt x="4" y="18"/>
                  <a:pt x="4" y="18"/>
                </a:cubicBezTo>
                <a:cubicBezTo>
                  <a:pt x="4" y="4"/>
                  <a:pt x="4" y="4"/>
                  <a:pt x="4" y="4"/>
                </a:cubicBezTo>
                <a:cubicBezTo>
                  <a:pt x="42" y="4"/>
                  <a:pt x="42" y="4"/>
                  <a:pt x="42" y="4"/>
                </a:cubicBezTo>
                <a:lnTo>
                  <a:pt x="42" y="18"/>
                </a:lnTo>
                <a:close/>
                <a:moveTo>
                  <a:pt x="16" y="7"/>
                </a:moveTo>
                <a:cubicBezTo>
                  <a:pt x="7" y="7"/>
                  <a:pt x="7" y="7"/>
                  <a:pt x="7" y="7"/>
                </a:cubicBezTo>
                <a:cubicBezTo>
                  <a:pt x="7" y="16"/>
                  <a:pt x="7" y="16"/>
                  <a:pt x="7" y="16"/>
                </a:cubicBezTo>
                <a:cubicBezTo>
                  <a:pt x="16" y="16"/>
                  <a:pt x="16" y="16"/>
                  <a:pt x="16" y="16"/>
                </a:cubicBezTo>
                <a:lnTo>
                  <a:pt x="16" y="7"/>
                </a:lnTo>
                <a:close/>
                <a:moveTo>
                  <a:pt x="28" y="7"/>
                </a:moveTo>
                <a:cubicBezTo>
                  <a:pt x="18" y="7"/>
                  <a:pt x="18" y="7"/>
                  <a:pt x="18" y="7"/>
                </a:cubicBezTo>
                <a:cubicBezTo>
                  <a:pt x="18" y="16"/>
                  <a:pt x="18" y="16"/>
                  <a:pt x="18" y="16"/>
                </a:cubicBezTo>
                <a:cubicBezTo>
                  <a:pt x="28" y="16"/>
                  <a:pt x="28" y="16"/>
                  <a:pt x="28" y="16"/>
                </a:cubicBezTo>
                <a:lnTo>
                  <a:pt x="28" y="7"/>
                </a:lnTo>
                <a:close/>
              </a:path>
            </a:pathLst>
          </a:custGeom>
          <a:solidFill>
            <a:srgbClr val="ffffff"/>
          </a:solidFill>
          <a:ln w="0">
            <a:noFill/>
          </a:ln>
        </p:spPr>
        <p:style>
          <a:lnRef idx="0"/>
          <a:fillRef idx="0"/>
          <a:effectRef idx="0"/>
          <a:fontRef idx="minor"/>
        </p:style>
        <p:txBody>
          <a:bodyPr lIns="121680" rIns="121680" tIns="50400" bIns="50400" anchor="t">
            <a:noAutofit/>
          </a:bodyPr>
          <a:p>
            <a:endParaRPr b="0" lang="en-US" sz="1800" spc="-1" strike="noStrike">
              <a:solidFill>
                <a:srgbClr val="000000"/>
              </a:solidFill>
              <a:latin typeface="Arial"/>
            </a:endParaRPr>
          </a:p>
        </p:txBody>
      </p:sp>
      <p:sp>
        <p:nvSpPr>
          <p:cNvPr id="1045" name="稻壳儿小白白(http://dwz.cn/Wu2UP)"/>
          <p:cNvSpPr/>
          <p:nvPr/>
        </p:nvSpPr>
        <p:spPr>
          <a:xfrm>
            <a:off x="5670720" y="3654360"/>
            <a:ext cx="225360" cy="111240"/>
          </a:xfrm>
          <a:custGeom>
            <a:avLst/>
            <a:gdLst/>
            <a:ahLst/>
            <a:rect l="l" t="t" r="r" b="b"/>
            <a:pathLst>
              <a:path w="47" h="23">
                <a:moveTo>
                  <a:pt x="43" y="0"/>
                </a:moveTo>
                <a:cubicBezTo>
                  <a:pt x="5" y="0"/>
                  <a:pt x="5" y="0"/>
                  <a:pt x="5" y="0"/>
                </a:cubicBezTo>
                <a:cubicBezTo>
                  <a:pt x="2" y="0"/>
                  <a:pt x="0" y="2"/>
                  <a:pt x="0" y="4"/>
                </a:cubicBezTo>
                <a:cubicBezTo>
                  <a:pt x="0" y="18"/>
                  <a:pt x="0" y="18"/>
                  <a:pt x="0" y="18"/>
                </a:cubicBezTo>
                <a:cubicBezTo>
                  <a:pt x="0" y="21"/>
                  <a:pt x="2" y="23"/>
                  <a:pt x="5" y="23"/>
                </a:cubicBezTo>
                <a:cubicBezTo>
                  <a:pt x="43" y="23"/>
                  <a:pt x="43" y="23"/>
                  <a:pt x="43" y="23"/>
                </a:cubicBezTo>
                <a:cubicBezTo>
                  <a:pt x="45" y="23"/>
                  <a:pt x="47" y="21"/>
                  <a:pt x="47" y="18"/>
                </a:cubicBezTo>
                <a:cubicBezTo>
                  <a:pt x="47" y="4"/>
                  <a:pt x="47" y="4"/>
                  <a:pt x="47" y="4"/>
                </a:cubicBezTo>
                <a:cubicBezTo>
                  <a:pt x="47" y="2"/>
                  <a:pt x="45" y="0"/>
                  <a:pt x="43" y="0"/>
                </a:cubicBezTo>
                <a:close/>
                <a:moveTo>
                  <a:pt x="43" y="18"/>
                </a:moveTo>
                <a:cubicBezTo>
                  <a:pt x="5" y="18"/>
                  <a:pt x="5" y="18"/>
                  <a:pt x="5" y="18"/>
                </a:cubicBezTo>
                <a:cubicBezTo>
                  <a:pt x="5" y="4"/>
                  <a:pt x="5" y="4"/>
                  <a:pt x="5" y="4"/>
                </a:cubicBezTo>
                <a:cubicBezTo>
                  <a:pt x="43" y="4"/>
                  <a:pt x="43" y="4"/>
                  <a:pt x="43" y="4"/>
                </a:cubicBezTo>
                <a:lnTo>
                  <a:pt x="43" y="18"/>
                </a:lnTo>
                <a:close/>
                <a:moveTo>
                  <a:pt x="17" y="7"/>
                </a:moveTo>
                <a:cubicBezTo>
                  <a:pt x="7" y="7"/>
                  <a:pt x="7" y="7"/>
                  <a:pt x="7" y="7"/>
                </a:cubicBezTo>
                <a:cubicBezTo>
                  <a:pt x="7" y="16"/>
                  <a:pt x="7" y="16"/>
                  <a:pt x="7" y="16"/>
                </a:cubicBezTo>
                <a:cubicBezTo>
                  <a:pt x="17" y="16"/>
                  <a:pt x="17" y="16"/>
                  <a:pt x="17" y="16"/>
                </a:cubicBezTo>
                <a:lnTo>
                  <a:pt x="17" y="7"/>
                </a:lnTo>
                <a:close/>
              </a:path>
            </a:pathLst>
          </a:custGeom>
          <a:solidFill>
            <a:srgbClr val="ffffff"/>
          </a:solidFill>
          <a:ln w="0">
            <a:noFill/>
          </a:ln>
        </p:spPr>
        <p:style>
          <a:lnRef idx="0"/>
          <a:fillRef idx="0"/>
          <a:effectRef idx="0"/>
          <a:fontRef idx="minor"/>
        </p:style>
        <p:txBody>
          <a:bodyPr lIns="121680" rIns="121680" tIns="50400" bIns="50400" anchor="t">
            <a:noAutofit/>
          </a:bodyPr>
          <a:p>
            <a:endParaRPr b="0" lang="en-US" sz="1800" spc="-1" strike="noStrike">
              <a:solidFill>
                <a:srgbClr val="000000"/>
              </a:solidFill>
              <a:latin typeface="Arial"/>
            </a:endParaRPr>
          </a:p>
        </p:txBody>
      </p:sp>
      <p:sp>
        <p:nvSpPr>
          <p:cNvPr id="1046" name="稻壳儿小白白(http://dwz.cn/Wu2UP)"/>
          <p:cNvSpPr/>
          <p:nvPr/>
        </p:nvSpPr>
        <p:spPr>
          <a:xfrm>
            <a:off x="6121440" y="3654360"/>
            <a:ext cx="226800" cy="111240"/>
          </a:xfrm>
          <a:custGeom>
            <a:avLst/>
            <a:gdLst/>
            <a:ahLst/>
            <a:rect l="l" t="t" r="r" b="b"/>
            <a:pathLst>
              <a:path w="47" h="23">
                <a:moveTo>
                  <a:pt x="42" y="0"/>
                </a:moveTo>
                <a:cubicBezTo>
                  <a:pt x="5" y="0"/>
                  <a:pt x="5" y="0"/>
                  <a:pt x="5" y="0"/>
                </a:cubicBezTo>
                <a:cubicBezTo>
                  <a:pt x="2" y="0"/>
                  <a:pt x="0" y="2"/>
                  <a:pt x="0" y="4"/>
                </a:cubicBezTo>
                <a:cubicBezTo>
                  <a:pt x="0" y="18"/>
                  <a:pt x="0" y="18"/>
                  <a:pt x="0" y="18"/>
                </a:cubicBezTo>
                <a:cubicBezTo>
                  <a:pt x="0" y="21"/>
                  <a:pt x="2" y="23"/>
                  <a:pt x="5" y="23"/>
                </a:cubicBezTo>
                <a:cubicBezTo>
                  <a:pt x="42" y="23"/>
                  <a:pt x="42" y="23"/>
                  <a:pt x="42" y="23"/>
                </a:cubicBezTo>
                <a:cubicBezTo>
                  <a:pt x="45" y="23"/>
                  <a:pt x="47" y="21"/>
                  <a:pt x="47" y="18"/>
                </a:cubicBezTo>
                <a:cubicBezTo>
                  <a:pt x="47" y="4"/>
                  <a:pt x="47" y="4"/>
                  <a:pt x="47" y="4"/>
                </a:cubicBezTo>
                <a:cubicBezTo>
                  <a:pt x="47" y="2"/>
                  <a:pt x="45" y="0"/>
                  <a:pt x="42" y="0"/>
                </a:cubicBezTo>
                <a:close/>
                <a:moveTo>
                  <a:pt x="42" y="18"/>
                </a:moveTo>
                <a:cubicBezTo>
                  <a:pt x="5" y="18"/>
                  <a:pt x="5" y="18"/>
                  <a:pt x="5" y="18"/>
                </a:cubicBezTo>
                <a:cubicBezTo>
                  <a:pt x="5" y="4"/>
                  <a:pt x="5" y="4"/>
                  <a:pt x="5" y="4"/>
                </a:cubicBezTo>
                <a:cubicBezTo>
                  <a:pt x="42" y="4"/>
                  <a:pt x="42" y="4"/>
                  <a:pt x="42" y="4"/>
                </a:cubicBezTo>
                <a:lnTo>
                  <a:pt x="42" y="18"/>
                </a:lnTo>
                <a:close/>
              </a:path>
            </a:pathLst>
          </a:custGeom>
          <a:solidFill>
            <a:srgbClr val="ffffff"/>
          </a:solidFill>
          <a:ln w="0">
            <a:noFill/>
          </a:ln>
        </p:spPr>
        <p:style>
          <a:lnRef idx="0"/>
          <a:fillRef idx="0"/>
          <a:effectRef idx="0"/>
          <a:fontRef idx="minor"/>
        </p:style>
        <p:txBody>
          <a:bodyPr lIns="121680" rIns="121680" tIns="50400" bIns="50400" anchor="t">
            <a:noAutofit/>
          </a:bodyPr>
          <a:p>
            <a:endParaRPr b="0" lang="en-US" sz="1800" spc="-1" strike="noStrike">
              <a:solidFill>
                <a:srgbClr val="000000"/>
              </a:solidFill>
              <a:latin typeface="Arial"/>
            </a:endParaRPr>
          </a:p>
        </p:txBody>
      </p:sp>
      <p:sp>
        <p:nvSpPr>
          <p:cNvPr id="1047" name="稻壳儿小白白(http://dwz.cn/Wu2UP)"/>
          <p:cNvSpPr/>
          <p:nvPr/>
        </p:nvSpPr>
        <p:spPr>
          <a:xfrm>
            <a:off x="7923240" y="952560"/>
            <a:ext cx="230040" cy="98280"/>
          </a:xfrm>
          <a:custGeom>
            <a:avLst/>
            <a:gdLst/>
            <a:ahLst/>
            <a:rect l="l" t="t" r="r" b="b"/>
            <a:pathLst>
              <a:path w="48" h="21">
                <a:moveTo>
                  <a:pt x="46" y="8"/>
                </a:moveTo>
                <a:cubicBezTo>
                  <a:pt x="45" y="7"/>
                  <a:pt x="41" y="3"/>
                  <a:pt x="39" y="1"/>
                </a:cubicBezTo>
                <a:cubicBezTo>
                  <a:pt x="38" y="0"/>
                  <a:pt x="37" y="0"/>
                  <a:pt x="36" y="0"/>
                </a:cubicBezTo>
                <a:cubicBezTo>
                  <a:pt x="35" y="0"/>
                  <a:pt x="24" y="0"/>
                  <a:pt x="24" y="0"/>
                </a:cubicBezTo>
                <a:cubicBezTo>
                  <a:pt x="24" y="0"/>
                  <a:pt x="13" y="0"/>
                  <a:pt x="12" y="0"/>
                </a:cubicBezTo>
                <a:cubicBezTo>
                  <a:pt x="11" y="0"/>
                  <a:pt x="10" y="0"/>
                  <a:pt x="10" y="1"/>
                </a:cubicBezTo>
                <a:cubicBezTo>
                  <a:pt x="8" y="3"/>
                  <a:pt x="3" y="7"/>
                  <a:pt x="2" y="8"/>
                </a:cubicBezTo>
                <a:cubicBezTo>
                  <a:pt x="1" y="9"/>
                  <a:pt x="0" y="10"/>
                  <a:pt x="1" y="11"/>
                </a:cubicBezTo>
                <a:cubicBezTo>
                  <a:pt x="2" y="19"/>
                  <a:pt x="2" y="19"/>
                  <a:pt x="2" y="19"/>
                </a:cubicBezTo>
                <a:cubicBezTo>
                  <a:pt x="2" y="20"/>
                  <a:pt x="4" y="21"/>
                  <a:pt x="5" y="21"/>
                </a:cubicBezTo>
                <a:cubicBezTo>
                  <a:pt x="43" y="21"/>
                  <a:pt x="43" y="21"/>
                  <a:pt x="43" y="21"/>
                </a:cubicBezTo>
                <a:cubicBezTo>
                  <a:pt x="45" y="21"/>
                  <a:pt x="46" y="20"/>
                  <a:pt x="46" y="19"/>
                </a:cubicBezTo>
                <a:cubicBezTo>
                  <a:pt x="47" y="11"/>
                  <a:pt x="47" y="11"/>
                  <a:pt x="47" y="11"/>
                </a:cubicBezTo>
                <a:cubicBezTo>
                  <a:pt x="48" y="10"/>
                  <a:pt x="47" y="9"/>
                  <a:pt x="46" y="8"/>
                </a:cubicBezTo>
                <a:close/>
                <a:moveTo>
                  <a:pt x="34" y="9"/>
                </a:moveTo>
                <a:cubicBezTo>
                  <a:pt x="33" y="9"/>
                  <a:pt x="33" y="10"/>
                  <a:pt x="33" y="10"/>
                </a:cubicBezTo>
                <a:cubicBezTo>
                  <a:pt x="31" y="15"/>
                  <a:pt x="31" y="15"/>
                  <a:pt x="31" y="15"/>
                </a:cubicBezTo>
                <a:cubicBezTo>
                  <a:pt x="17" y="15"/>
                  <a:pt x="17" y="15"/>
                  <a:pt x="17" y="15"/>
                </a:cubicBezTo>
                <a:cubicBezTo>
                  <a:pt x="15" y="10"/>
                  <a:pt x="15" y="10"/>
                  <a:pt x="15" y="10"/>
                </a:cubicBezTo>
                <a:cubicBezTo>
                  <a:pt x="15" y="10"/>
                  <a:pt x="15" y="9"/>
                  <a:pt x="15" y="9"/>
                </a:cubicBezTo>
                <a:cubicBezTo>
                  <a:pt x="6" y="9"/>
                  <a:pt x="6" y="9"/>
                  <a:pt x="6" y="9"/>
                </a:cubicBezTo>
                <a:cubicBezTo>
                  <a:pt x="11" y="4"/>
                  <a:pt x="11" y="4"/>
                  <a:pt x="11" y="4"/>
                </a:cubicBezTo>
                <a:cubicBezTo>
                  <a:pt x="37" y="4"/>
                  <a:pt x="37" y="4"/>
                  <a:pt x="37" y="4"/>
                </a:cubicBezTo>
                <a:cubicBezTo>
                  <a:pt x="42" y="9"/>
                  <a:pt x="42" y="9"/>
                  <a:pt x="42" y="9"/>
                </a:cubicBezTo>
                <a:lnTo>
                  <a:pt x="34" y="9"/>
                </a:lnTo>
                <a:close/>
              </a:path>
            </a:pathLst>
          </a:custGeom>
          <a:solidFill>
            <a:srgbClr val="ffffff"/>
          </a:solidFill>
          <a:ln w="0">
            <a:noFill/>
          </a:ln>
        </p:spPr>
        <p:style>
          <a:lnRef idx="0"/>
          <a:fillRef idx="0"/>
          <a:effectRef idx="0"/>
          <a:fontRef idx="minor"/>
        </p:style>
        <p:txBody>
          <a:bodyPr lIns="121680" rIns="121680" tIns="37440" bIns="37440" anchor="t">
            <a:noAutofit/>
          </a:bodyPr>
          <a:p>
            <a:endParaRPr b="0" lang="en-US" sz="1800" spc="-1" strike="noStrike">
              <a:solidFill>
                <a:srgbClr val="000000"/>
              </a:solidFill>
              <a:latin typeface="Arial"/>
            </a:endParaRPr>
          </a:p>
        </p:txBody>
      </p:sp>
      <p:sp>
        <p:nvSpPr>
          <p:cNvPr id="1048" name="稻壳儿小白白(http://dwz.cn/Wu2UP)"/>
          <p:cNvSpPr/>
          <p:nvPr/>
        </p:nvSpPr>
        <p:spPr>
          <a:xfrm>
            <a:off x="6132600" y="5418000"/>
            <a:ext cx="210960" cy="187560"/>
          </a:xfrm>
          <a:custGeom>
            <a:avLst/>
            <a:gdLst/>
            <a:ahLst/>
            <a:rect l="l" t="t" r="r" b="b"/>
            <a:pathLst>
              <a:path w="44" h="39">
                <a:moveTo>
                  <a:pt x="25" y="0"/>
                </a:moveTo>
                <a:cubicBezTo>
                  <a:pt x="14" y="0"/>
                  <a:pt x="6" y="9"/>
                  <a:pt x="5" y="19"/>
                </a:cubicBezTo>
                <a:cubicBezTo>
                  <a:pt x="0" y="19"/>
                  <a:pt x="0" y="19"/>
                  <a:pt x="0" y="19"/>
                </a:cubicBezTo>
                <a:cubicBezTo>
                  <a:pt x="8" y="29"/>
                  <a:pt x="8" y="29"/>
                  <a:pt x="8" y="29"/>
                </a:cubicBezTo>
                <a:cubicBezTo>
                  <a:pt x="17" y="19"/>
                  <a:pt x="17" y="19"/>
                  <a:pt x="17" y="19"/>
                </a:cubicBezTo>
                <a:cubicBezTo>
                  <a:pt x="10" y="19"/>
                  <a:pt x="10" y="19"/>
                  <a:pt x="10" y="19"/>
                </a:cubicBezTo>
                <a:cubicBezTo>
                  <a:pt x="10" y="11"/>
                  <a:pt x="17" y="5"/>
                  <a:pt x="25" y="5"/>
                </a:cubicBezTo>
                <a:cubicBezTo>
                  <a:pt x="32" y="5"/>
                  <a:pt x="39" y="12"/>
                  <a:pt x="39" y="20"/>
                </a:cubicBezTo>
                <a:cubicBezTo>
                  <a:pt x="39" y="28"/>
                  <a:pt x="32" y="34"/>
                  <a:pt x="25" y="34"/>
                </a:cubicBezTo>
                <a:cubicBezTo>
                  <a:pt x="21" y="34"/>
                  <a:pt x="18" y="33"/>
                  <a:pt x="16" y="31"/>
                </a:cubicBezTo>
                <a:cubicBezTo>
                  <a:pt x="13" y="35"/>
                  <a:pt x="13" y="35"/>
                  <a:pt x="13" y="35"/>
                </a:cubicBezTo>
                <a:cubicBezTo>
                  <a:pt x="16" y="37"/>
                  <a:pt x="20" y="39"/>
                  <a:pt x="25" y="39"/>
                </a:cubicBezTo>
                <a:cubicBezTo>
                  <a:pt x="35" y="39"/>
                  <a:pt x="44" y="30"/>
                  <a:pt x="44" y="20"/>
                </a:cubicBezTo>
                <a:cubicBezTo>
                  <a:pt x="44" y="9"/>
                  <a:pt x="35" y="0"/>
                  <a:pt x="25" y="0"/>
                </a:cubicBezTo>
                <a:close/>
                <a:moveTo>
                  <a:pt x="23" y="9"/>
                </a:moveTo>
                <a:cubicBezTo>
                  <a:pt x="23" y="20"/>
                  <a:pt x="23" y="20"/>
                  <a:pt x="23" y="20"/>
                </a:cubicBezTo>
                <a:cubicBezTo>
                  <a:pt x="30" y="27"/>
                  <a:pt x="30" y="27"/>
                  <a:pt x="30" y="27"/>
                </a:cubicBezTo>
                <a:cubicBezTo>
                  <a:pt x="32" y="25"/>
                  <a:pt x="32" y="25"/>
                  <a:pt x="32" y="25"/>
                </a:cubicBezTo>
                <a:cubicBezTo>
                  <a:pt x="26" y="19"/>
                  <a:pt x="26" y="19"/>
                  <a:pt x="26" y="19"/>
                </a:cubicBezTo>
                <a:cubicBezTo>
                  <a:pt x="26" y="9"/>
                  <a:pt x="26" y="9"/>
                  <a:pt x="26" y="9"/>
                </a:cubicBezTo>
                <a:lnTo>
                  <a:pt x="23" y="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49" name="稻壳儿小白白(http://dwz.cn/Wu2UP)"/>
          <p:cNvSpPr/>
          <p:nvPr/>
        </p:nvSpPr>
        <p:spPr>
          <a:xfrm>
            <a:off x="8373960" y="3611520"/>
            <a:ext cx="227160" cy="196920"/>
          </a:xfrm>
          <a:custGeom>
            <a:avLst/>
            <a:gdLst/>
            <a:ahLst/>
            <a:rect l="l" t="t" r="r" b="b"/>
            <a:pathLst>
              <a:path w="47" h="41">
                <a:moveTo>
                  <a:pt x="43" y="0"/>
                </a:moveTo>
                <a:cubicBezTo>
                  <a:pt x="5" y="0"/>
                  <a:pt x="5" y="0"/>
                  <a:pt x="5" y="0"/>
                </a:cubicBezTo>
                <a:cubicBezTo>
                  <a:pt x="3" y="0"/>
                  <a:pt x="0" y="2"/>
                  <a:pt x="0" y="4"/>
                </a:cubicBezTo>
                <a:cubicBezTo>
                  <a:pt x="0" y="30"/>
                  <a:pt x="0" y="30"/>
                  <a:pt x="0" y="30"/>
                </a:cubicBezTo>
                <a:cubicBezTo>
                  <a:pt x="0" y="33"/>
                  <a:pt x="3" y="35"/>
                  <a:pt x="5" y="36"/>
                </a:cubicBezTo>
                <a:cubicBezTo>
                  <a:pt x="15" y="38"/>
                  <a:pt x="15" y="38"/>
                  <a:pt x="15" y="38"/>
                </a:cubicBezTo>
                <a:cubicBezTo>
                  <a:pt x="15" y="38"/>
                  <a:pt x="7" y="41"/>
                  <a:pt x="12" y="41"/>
                </a:cubicBezTo>
                <a:cubicBezTo>
                  <a:pt x="36" y="41"/>
                  <a:pt x="36" y="41"/>
                  <a:pt x="36" y="41"/>
                </a:cubicBezTo>
                <a:cubicBezTo>
                  <a:pt x="41" y="41"/>
                  <a:pt x="33" y="38"/>
                  <a:pt x="33" y="38"/>
                </a:cubicBezTo>
                <a:cubicBezTo>
                  <a:pt x="43" y="36"/>
                  <a:pt x="43" y="36"/>
                  <a:pt x="43" y="36"/>
                </a:cubicBezTo>
                <a:cubicBezTo>
                  <a:pt x="45" y="35"/>
                  <a:pt x="47" y="33"/>
                  <a:pt x="47" y="30"/>
                </a:cubicBezTo>
                <a:cubicBezTo>
                  <a:pt x="47" y="4"/>
                  <a:pt x="47" y="4"/>
                  <a:pt x="47" y="4"/>
                </a:cubicBezTo>
                <a:cubicBezTo>
                  <a:pt x="47" y="2"/>
                  <a:pt x="45" y="0"/>
                  <a:pt x="43" y="0"/>
                </a:cubicBezTo>
                <a:close/>
                <a:moveTo>
                  <a:pt x="43" y="30"/>
                </a:moveTo>
                <a:cubicBezTo>
                  <a:pt x="5" y="30"/>
                  <a:pt x="5" y="30"/>
                  <a:pt x="5" y="30"/>
                </a:cubicBezTo>
                <a:cubicBezTo>
                  <a:pt x="5" y="4"/>
                  <a:pt x="5" y="4"/>
                  <a:pt x="5" y="4"/>
                </a:cubicBezTo>
                <a:cubicBezTo>
                  <a:pt x="43" y="4"/>
                  <a:pt x="43" y="4"/>
                  <a:pt x="43" y="4"/>
                </a:cubicBezTo>
                <a:lnTo>
                  <a:pt x="43" y="3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50" name="稻壳儿小白白(http://dwz.cn/Wu2UP)"/>
          <p:cNvSpPr/>
          <p:nvPr/>
        </p:nvSpPr>
        <p:spPr>
          <a:xfrm>
            <a:off x="9277200" y="2711520"/>
            <a:ext cx="227160" cy="191880"/>
          </a:xfrm>
          <a:custGeom>
            <a:avLst/>
            <a:gdLst/>
            <a:ahLst/>
            <a:rect l="l" t="t" r="r" b="b"/>
            <a:pathLst>
              <a:path w="47" h="40">
                <a:moveTo>
                  <a:pt x="22" y="21"/>
                </a:moveTo>
                <a:cubicBezTo>
                  <a:pt x="26" y="21"/>
                  <a:pt x="26" y="21"/>
                  <a:pt x="26" y="21"/>
                </a:cubicBezTo>
                <a:cubicBezTo>
                  <a:pt x="26" y="25"/>
                  <a:pt x="26" y="25"/>
                  <a:pt x="26" y="25"/>
                </a:cubicBezTo>
                <a:cubicBezTo>
                  <a:pt x="47" y="25"/>
                  <a:pt x="47" y="25"/>
                  <a:pt x="47" y="25"/>
                </a:cubicBezTo>
                <a:cubicBezTo>
                  <a:pt x="47" y="25"/>
                  <a:pt x="47" y="15"/>
                  <a:pt x="47" y="12"/>
                </a:cubicBezTo>
                <a:cubicBezTo>
                  <a:pt x="47" y="9"/>
                  <a:pt x="45" y="7"/>
                  <a:pt x="42" y="7"/>
                </a:cubicBezTo>
                <a:cubicBezTo>
                  <a:pt x="34" y="7"/>
                  <a:pt x="34" y="7"/>
                  <a:pt x="34" y="7"/>
                </a:cubicBezTo>
                <a:cubicBezTo>
                  <a:pt x="33" y="4"/>
                  <a:pt x="32" y="2"/>
                  <a:pt x="32" y="1"/>
                </a:cubicBezTo>
                <a:cubicBezTo>
                  <a:pt x="31" y="0"/>
                  <a:pt x="31" y="0"/>
                  <a:pt x="29" y="0"/>
                </a:cubicBezTo>
                <a:cubicBezTo>
                  <a:pt x="18" y="0"/>
                  <a:pt x="18" y="0"/>
                  <a:pt x="18" y="0"/>
                </a:cubicBezTo>
                <a:cubicBezTo>
                  <a:pt x="17" y="0"/>
                  <a:pt x="16" y="0"/>
                  <a:pt x="16" y="1"/>
                </a:cubicBezTo>
                <a:cubicBezTo>
                  <a:pt x="15" y="2"/>
                  <a:pt x="14" y="4"/>
                  <a:pt x="13" y="7"/>
                </a:cubicBezTo>
                <a:cubicBezTo>
                  <a:pt x="5" y="7"/>
                  <a:pt x="5" y="7"/>
                  <a:pt x="5" y="7"/>
                </a:cubicBezTo>
                <a:cubicBezTo>
                  <a:pt x="2" y="7"/>
                  <a:pt x="1" y="9"/>
                  <a:pt x="1" y="12"/>
                </a:cubicBezTo>
                <a:cubicBezTo>
                  <a:pt x="1" y="15"/>
                  <a:pt x="0" y="25"/>
                  <a:pt x="0" y="25"/>
                </a:cubicBezTo>
                <a:cubicBezTo>
                  <a:pt x="22" y="25"/>
                  <a:pt x="22" y="25"/>
                  <a:pt x="22" y="25"/>
                </a:cubicBezTo>
                <a:lnTo>
                  <a:pt x="22" y="21"/>
                </a:lnTo>
                <a:close/>
                <a:moveTo>
                  <a:pt x="18" y="4"/>
                </a:moveTo>
                <a:cubicBezTo>
                  <a:pt x="19" y="3"/>
                  <a:pt x="19" y="3"/>
                  <a:pt x="20" y="3"/>
                </a:cubicBezTo>
                <a:cubicBezTo>
                  <a:pt x="27" y="3"/>
                  <a:pt x="27" y="3"/>
                  <a:pt x="27" y="3"/>
                </a:cubicBezTo>
                <a:cubicBezTo>
                  <a:pt x="28" y="3"/>
                  <a:pt x="29" y="3"/>
                  <a:pt x="29" y="4"/>
                </a:cubicBezTo>
                <a:cubicBezTo>
                  <a:pt x="29" y="5"/>
                  <a:pt x="30" y="6"/>
                  <a:pt x="31" y="7"/>
                </a:cubicBezTo>
                <a:cubicBezTo>
                  <a:pt x="17" y="7"/>
                  <a:pt x="17" y="7"/>
                  <a:pt x="17" y="7"/>
                </a:cubicBezTo>
                <a:cubicBezTo>
                  <a:pt x="17" y="6"/>
                  <a:pt x="18" y="5"/>
                  <a:pt x="18" y="4"/>
                </a:cubicBezTo>
                <a:close/>
                <a:moveTo>
                  <a:pt x="26" y="32"/>
                </a:moveTo>
                <a:cubicBezTo>
                  <a:pt x="22" y="32"/>
                  <a:pt x="22" y="32"/>
                  <a:pt x="22" y="32"/>
                </a:cubicBezTo>
                <a:cubicBezTo>
                  <a:pt x="22" y="28"/>
                  <a:pt x="22" y="28"/>
                  <a:pt x="22" y="28"/>
                </a:cubicBezTo>
                <a:cubicBezTo>
                  <a:pt x="1" y="28"/>
                  <a:pt x="1" y="28"/>
                  <a:pt x="1" y="28"/>
                </a:cubicBezTo>
                <a:cubicBezTo>
                  <a:pt x="1" y="28"/>
                  <a:pt x="2" y="32"/>
                  <a:pt x="2" y="36"/>
                </a:cubicBezTo>
                <a:cubicBezTo>
                  <a:pt x="2" y="37"/>
                  <a:pt x="2" y="40"/>
                  <a:pt x="6" y="40"/>
                </a:cubicBezTo>
                <a:cubicBezTo>
                  <a:pt x="41" y="40"/>
                  <a:pt x="41" y="40"/>
                  <a:pt x="41" y="40"/>
                </a:cubicBezTo>
                <a:cubicBezTo>
                  <a:pt x="45" y="40"/>
                  <a:pt x="45" y="37"/>
                  <a:pt x="45" y="36"/>
                </a:cubicBezTo>
                <a:cubicBezTo>
                  <a:pt x="46" y="32"/>
                  <a:pt x="46" y="28"/>
                  <a:pt x="46" y="28"/>
                </a:cubicBezTo>
                <a:cubicBezTo>
                  <a:pt x="26" y="28"/>
                  <a:pt x="26" y="28"/>
                  <a:pt x="26" y="28"/>
                </a:cubicBezTo>
                <a:lnTo>
                  <a:pt x="26" y="3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51" name="稻壳儿小白白(http://dwz.cn/Wu2UP)"/>
          <p:cNvSpPr/>
          <p:nvPr/>
        </p:nvSpPr>
        <p:spPr>
          <a:xfrm>
            <a:off x="6593040" y="5457960"/>
            <a:ext cx="187200" cy="109440"/>
          </a:xfrm>
          <a:custGeom>
            <a:avLst/>
            <a:gdLst/>
            <a:ahLst/>
            <a:rect l="l" t="t" r="r" b="b"/>
            <a:pathLst>
              <a:path w="39" h="23">
                <a:moveTo>
                  <a:pt x="9" y="12"/>
                </a:moveTo>
                <a:cubicBezTo>
                  <a:pt x="33" y="12"/>
                  <a:pt x="33" y="12"/>
                  <a:pt x="33" y="12"/>
                </a:cubicBezTo>
                <a:cubicBezTo>
                  <a:pt x="33" y="23"/>
                  <a:pt x="33" y="23"/>
                  <a:pt x="33" y="23"/>
                </a:cubicBezTo>
                <a:cubicBezTo>
                  <a:pt x="39" y="23"/>
                  <a:pt x="39" y="23"/>
                  <a:pt x="39" y="23"/>
                </a:cubicBezTo>
                <a:cubicBezTo>
                  <a:pt x="39" y="10"/>
                  <a:pt x="39" y="10"/>
                  <a:pt x="39" y="10"/>
                </a:cubicBezTo>
                <a:cubicBezTo>
                  <a:pt x="39" y="7"/>
                  <a:pt x="37" y="5"/>
                  <a:pt x="35" y="5"/>
                </a:cubicBezTo>
                <a:cubicBezTo>
                  <a:pt x="9" y="5"/>
                  <a:pt x="9" y="5"/>
                  <a:pt x="9" y="5"/>
                </a:cubicBezTo>
                <a:cubicBezTo>
                  <a:pt x="9" y="0"/>
                  <a:pt x="9" y="0"/>
                  <a:pt x="9" y="0"/>
                </a:cubicBezTo>
                <a:cubicBezTo>
                  <a:pt x="0" y="8"/>
                  <a:pt x="0" y="8"/>
                  <a:pt x="0" y="8"/>
                </a:cubicBezTo>
                <a:cubicBezTo>
                  <a:pt x="9" y="16"/>
                  <a:pt x="9" y="16"/>
                  <a:pt x="9" y="16"/>
                </a:cubicBezTo>
                <a:lnTo>
                  <a:pt x="9" y="12"/>
                </a:lnTo>
                <a:close/>
              </a:path>
            </a:pathLst>
          </a:custGeom>
          <a:solidFill>
            <a:srgbClr val="ffffff"/>
          </a:solidFill>
          <a:ln w="0">
            <a:noFill/>
          </a:ln>
        </p:spPr>
        <p:style>
          <a:lnRef idx="0"/>
          <a:fillRef idx="0"/>
          <a:effectRef idx="0"/>
          <a:fontRef idx="minor"/>
        </p:style>
        <p:txBody>
          <a:bodyPr lIns="121680" rIns="121680" tIns="48600" bIns="48600" anchor="t">
            <a:noAutofit/>
          </a:bodyPr>
          <a:p>
            <a:endParaRPr b="0" lang="en-US" sz="1800" spc="-1" strike="noStrike">
              <a:solidFill>
                <a:srgbClr val="000000"/>
              </a:solidFill>
              <a:latin typeface="Arial"/>
            </a:endParaRPr>
          </a:p>
        </p:txBody>
      </p:sp>
      <p:sp>
        <p:nvSpPr>
          <p:cNvPr id="1052" name="稻壳儿小白白(http://dwz.cn/Wu2UP)"/>
          <p:cNvSpPr/>
          <p:nvPr/>
        </p:nvSpPr>
        <p:spPr>
          <a:xfrm>
            <a:off x="5670720" y="3186000"/>
            <a:ext cx="225360" cy="141480"/>
          </a:xfrm>
          <a:custGeom>
            <a:avLst/>
            <a:gdLst/>
            <a:ahLst/>
            <a:rect l="l" t="t" r="r" b="b"/>
            <a:pathLst>
              <a:path w="47" h="29">
                <a:moveTo>
                  <a:pt x="37" y="14"/>
                </a:moveTo>
                <a:cubicBezTo>
                  <a:pt x="37" y="8"/>
                  <a:pt x="40" y="4"/>
                  <a:pt x="42" y="4"/>
                </a:cubicBezTo>
                <a:cubicBezTo>
                  <a:pt x="43" y="4"/>
                  <a:pt x="45" y="4"/>
                  <a:pt x="45" y="4"/>
                </a:cubicBezTo>
                <a:cubicBezTo>
                  <a:pt x="43" y="2"/>
                  <a:pt x="42" y="0"/>
                  <a:pt x="36" y="0"/>
                </a:cubicBezTo>
                <a:cubicBezTo>
                  <a:pt x="13" y="0"/>
                  <a:pt x="13" y="0"/>
                  <a:pt x="13" y="0"/>
                </a:cubicBezTo>
                <a:cubicBezTo>
                  <a:pt x="4" y="0"/>
                  <a:pt x="0" y="8"/>
                  <a:pt x="0" y="14"/>
                </a:cubicBezTo>
                <a:cubicBezTo>
                  <a:pt x="0" y="20"/>
                  <a:pt x="4" y="29"/>
                  <a:pt x="13" y="29"/>
                </a:cubicBezTo>
                <a:cubicBezTo>
                  <a:pt x="36" y="29"/>
                  <a:pt x="36" y="29"/>
                  <a:pt x="36" y="29"/>
                </a:cubicBezTo>
                <a:cubicBezTo>
                  <a:pt x="42" y="29"/>
                  <a:pt x="43" y="27"/>
                  <a:pt x="45" y="25"/>
                </a:cubicBezTo>
                <a:cubicBezTo>
                  <a:pt x="45" y="25"/>
                  <a:pt x="44" y="25"/>
                  <a:pt x="42" y="25"/>
                </a:cubicBezTo>
                <a:cubicBezTo>
                  <a:pt x="40" y="25"/>
                  <a:pt x="37" y="21"/>
                  <a:pt x="37" y="14"/>
                </a:cubicBezTo>
                <a:close/>
                <a:moveTo>
                  <a:pt x="30" y="19"/>
                </a:moveTo>
                <a:cubicBezTo>
                  <a:pt x="30" y="19"/>
                  <a:pt x="29" y="19"/>
                  <a:pt x="29" y="19"/>
                </a:cubicBezTo>
                <a:cubicBezTo>
                  <a:pt x="22" y="16"/>
                  <a:pt x="22" y="16"/>
                  <a:pt x="22" y="16"/>
                </a:cubicBezTo>
                <a:cubicBezTo>
                  <a:pt x="22" y="16"/>
                  <a:pt x="21" y="17"/>
                  <a:pt x="21" y="18"/>
                </a:cubicBezTo>
                <a:cubicBezTo>
                  <a:pt x="20" y="19"/>
                  <a:pt x="20" y="21"/>
                  <a:pt x="18" y="19"/>
                </a:cubicBezTo>
                <a:cubicBezTo>
                  <a:pt x="16" y="18"/>
                  <a:pt x="9" y="12"/>
                  <a:pt x="9" y="12"/>
                </a:cubicBezTo>
                <a:cubicBezTo>
                  <a:pt x="9" y="12"/>
                  <a:pt x="8" y="11"/>
                  <a:pt x="9" y="10"/>
                </a:cubicBezTo>
                <a:cubicBezTo>
                  <a:pt x="9" y="10"/>
                  <a:pt x="10" y="10"/>
                  <a:pt x="10" y="10"/>
                </a:cubicBezTo>
                <a:cubicBezTo>
                  <a:pt x="17" y="13"/>
                  <a:pt x="17" y="13"/>
                  <a:pt x="17" y="13"/>
                </a:cubicBezTo>
                <a:cubicBezTo>
                  <a:pt x="17" y="13"/>
                  <a:pt x="18" y="12"/>
                  <a:pt x="18" y="11"/>
                </a:cubicBezTo>
                <a:cubicBezTo>
                  <a:pt x="19" y="10"/>
                  <a:pt x="19" y="8"/>
                  <a:pt x="21" y="10"/>
                </a:cubicBezTo>
                <a:cubicBezTo>
                  <a:pt x="23" y="11"/>
                  <a:pt x="30" y="17"/>
                  <a:pt x="30" y="17"/>
                </a:cubicBezTo>
                <a:cubicBezTo>
                  <a:pt x="30" y="17"/>
                  <a:pt x="31" y="18"/>
                  <a:pt x="30" y="19"/>
                </a:cubicBezTo>
                <a:close/>
                <a:moveTo>
                  <a:pt x="45" y="10"/>
                </a:moveTo>
                <a:cubicBezTo>
                  <a:pt x="43" y="10"/>
                  <a:pt x="43" y="10"/>
                  <a:pt x="43" y="10"/>
                </a:cubicBezTo>
                <a:cubicBezTo>
                  <a:pt x="42" y="10"/>
                  <a:pt x="40" y="11"/>
                  <a:pt x="40" y="14"/>
                </a:cubicBezTo>
                <a:cubicBezTo>
                  <a:pt x="40" y="17"/>
                  <a:pt x="42" y="19"/>
                  <a:pt x="43" y="19"/>
                </a:cubicBezTo>
                <a:cubicBezTo>
                  <a:pt x="45" y="19"/>
                  <a:pt x="45" y="19"/>
                  <a:pt x="45" y="19"/>
                </a:cubicBezTo>
                <a:cubicBezTo>
                  <a:pt x="46" y="19"/>
                  <a:pt x="47" y="17"/>
                  <a:pt x="47" y="14"/>
                </a:cubicBezTo>
                <a:cubicBezTo>
                  <a:pt x="47" y="11"/>
                  <a:pt x="46" y="10"/>
                  <a:pt x="45" y="1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53" name="稻壳儿小白白(http://dwz.cn/Wu2UP)"/>
          <p:cNvSpPr/>
          <p:nvPr/>
        </p:nvSpPr>
        <p:spPr>
          <a:xfrm>
            <a:off x="7927920" y="2732040"/>
            <a:ext cx="225360" cy="147600"/>
          </a:xfrm>
          <a:custGeom>
            <a:avLst/>
            <a:gdLst/>
            <a:ahLst/>
            <a:rect l="l" t="t" r="r" b="b"/>
            <a:pathLst>
              <a:path w="47" h="31">
                <a:moveTo>
                  <a:pt x="35" y="9"/>
                </a:moveTo>
                <a:cubicBezTo>
                  <a:pt x="35" y="9"/>
                  <a:pt x="34" y="9"/>
                  <a:pt x="33" y="9"/>
                </a:cubicBezTo>
                <a:cubicBezTo>
                  <a:pt x="32" y="4"/>
                  <a:pt x="27" y="0"/>
                  <a:pt x="21" y="0"/>
                </a:cubicBezTo>
                <a:cubicBezTo>
                  <a:pt x="15" y="0"/>
                  <a:pt x="9" y="6"/>
                  <a:pt x="9" y="13"/>
                </a:cubicBezTo>
                <a:cubicBezTo>
                  <a:pt x="9" y="13"/>
                  <a:pt x="9" y="14"/>
                  <a:pt x="9" y="14"/>
                </a:cubicBezTo>
                <a:cubicBezTo>
                  <a:pt x="9" y="14"/>
                  <a:pt x="8" y="14"/>
                  <a:pt x="8" y="14"/>
                </a:cubicBezTo>
                <a:cubicBezTo>
                  <a:pt x="3" y="14"/>
                  <a:pt x="0" y="18"/>
                  <a:pt x="0" y="23"/>
                </a:cubicBezTo>
                <a:cubicBezTo>
                  <a:pt x="0" y="27"/>
                  <a:pt x="3" y="31"/>
                  <a:pt x="8" y="31"/>
                </a:cubicBezTo>
                <a:cubicBezTo>
                  <a:pt x="35" y="31"/>
                  <a:pt x="35" y="31"/>
                  <a:pt x="35" y="31"/>
                </a:cubicBezTo>
                <a:cubicBezTo>
                  <a:pt x="42" y="31"/>
                  <a:pt x="47" y="26"/>
                  <a:pt x="47" y="20"/>
                </a:cubicBezTo>
                <a:cubicBezTo>
                  <a:pt x="47" y="14"/>
                  <a:pt x="42" y="9"/>
                  <a:pt x="35" y="9"/>
                </a:cubicBezTo>
                <a:close/>
                <a:moveTo>
                  <a:pt x="26" y="19"/>
                </a:moveTo>
                <a:cubicBezTo>
                  <a:pt x="25" y="21"/>
                  <a:pt x="20" y="26"/>
                  <a:pt x="20" y="26"/>
                </a:cubicBezTo>
                <a:cubicBezTo>
                  <a:pt x="20" y="26"/>
                  <a:pt x="19" y="27"/>
                  <a:pt x="18" y="26"/>
                </a:cubicBezTo>
                <a:cubicBezTo>
                  <a:pt x="18" y="26"/>
                  <a:pt x="18" y="26"/>
                  <a:pt x="18" y="26"/>
                </a:cubicBezTo>
                <a:cubicBezTo>
                  <a:pt x="18" y="25"/>
                  <a:pt x="18" y="25"/>
                  <a:pt x="18" y="25"/>
                </a:cubicBezTo>
                <a:cubicBezTo>
                  <a:pt x="21" y="19"/>
                  <a:pt x="21" y="19"/>
                  <a:pt x="21" y="19"/>
                </a:cubicBezTo>
                <a:cubicBezTo>
                  <a:pt x="20" y="19"/>
                  <a:pt x="19" y="19"/>
                  <a:pt x="19" y="18"/>
                </a:cubicBezTo>
                <a:cubicBezTo>
                  <a:pt x="19" y="18"/>
                  <a:pt x="19" y="18"/>
                  <a:pt x="19" y="18"/>
                </a:cubicBezTo>
                <a:cubicBezTo>
                  <a:pt x="18" y="18"/>
                  <a:pt x="17" y="18"/>
                  <a:pt x="17" y="17"/>
                </a:cubicBezTo>
                <a:cubicBezTo>
                  <a:pt x="17" y="17"/>
                  <a:pt x="17" y="16"/>
                  <a:pt x="18" y="16"/>
                </a:cubicBezTo>
                <a:cubicBezTo>
                  <a:pt x="19" y="14"/>
                  <a:pt x="24" y="9"/>
                  <a:pt x="24" y="9"/>
                </a:cubicBezTo>
                <a:cubicBezTo>
                  <a:pt x="24" y="8"/>
                  <a:pt x="25" y="8"/>
                  <a:pt x="26" y="8"/>
                </a:cubicBezTo>
                <a:cubicBezTo>
                  <a:pt x="26" y="8"/>
                  <a:pt x="26" y="9"/>
                  <a:pt x="26" y="9"/>
                </a:cubicBezTo>
                <a:cubicBezTo>
                  <a:pt x="26" y="9"/>
                  <a:pt x="26" y="10"/>
                  <a:pt x="26" y="10"/>
                </a:cubicBezTo>
                <a:cubicBezTo>
                  <a:pt x="24" y="15"/>
                  <a:pt x="24" y="15"/>
                  <a:pt x="24" y="15"/>
                </a:cubicBezTo>
                <a:cubicBezTo>
                  <a:pt x="24" y="15"/>
                  <a:pt x="25" y="16"/>
                  <a:pt x="25" y="16"/>
                </a:cubicBezTo>
                <a:cubicBezTo>
                  <a:pt x="26" y="16"/>
                  <a:pt x="26" y="16"/>
                  <a:pt x="26" y="16"/>
                </a:cubicBezTo>
                <a:cubicBezTo>
                  <a:pt x="26" y="16"/>
                  <a:pt x="27" y="17"/>
                  <a:pt x="27" y="18"/>
                </a:cubicBezTo>
                <a:cubicBezTo>
                  <a:pt x="27" y="18"/>
                  <a:pt x="27" y="18"/>
                  <a:pt x="26" y="1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54" name="稻壳儿小白白(http://dwz.cn/Wu2UP)"/>
          <p:cNvSpPr/>
          <p:nvPr/>
        </p:nvSpPr>
        <p:spPr>
          <a:xfrm>
            <a:off x="9729720" y="2268360"/>
            <a:ext cx="225360" cy="174960"/>
          </a:xfrm>
          <a:custGeom>
            <a:avLst/>
            <a:gdLst/>
            <a:ahLst/>
            <a:rect l="l" t="t" r="r" b="b"/>
            <a:pathLst>
              <a:path w="47" h="36">
                <a:moveTo>
                  <a:pt x="8" y="23"/>
                </a:moveTo>
                <a:cubicBezTo>
                  <a:pt x="9" y="27"/>
                  <a:pt x="10" y="29"/>
                  <a:pt x="15" y="31"/>
                </a:cubicBezTo>
                <a:cubicBezTo>
                  <a:pt x="19" y="33"/>
                  <a:pt x="22" y="36"/>
                  <a:pt x="23" y="36"/>
                </a:cubicBezTo>
                <a:cubicBezTo>
                  <a:pt x="25" y="36"/>
                  <a:pt x="27" y="34"/>
                  <a:pt x="32" y="32"/>
                </a:cubicBezTo>
                <a:cubicBezTo>
                  <a:pt x="37" y="30"/>
                  <a:pt x="35" y="29"/>
                  <a:pt x="36" y="25"/>
                </a:cubicBezTo>
                <a:cubicBezTo>
                  <a:pt x="23" y="31"/>
                  <a:pt x="23" y="31"/>
                  <a:pt x="23" y="31"/>
                </a:cubicBezTo>
                <a:lnTo>
                  <a:pt x="8" y="23"/>
                </a:lnTo>
                <a:close/>
                <a:moveTo>
                  <a:pt x="46" y="11"/>
                </a:moveTo>
                <a:cubicBezTo>
                  <a:pt x="26" y="1"/>
                  <a:pt x="26" y="1"/>
                  <a:pt x="26" y="1"/>
                </a:cubicBezTo>
                <a:cubicBezTo>
                  <a:pt x="25" y="0"/>
                  <a:pt x="22" y="0"/>
                  <a:pt x="21" y="1"/>
                </a:cubicBezTo>
                <a:cubicBezTo>
                  <a:pt x="1" y="11"/>
                  <a:pt x="1" y="11"/>
                  <a:pt x="1" y="11"/>
                </a:cubicBezTo>
                <a:cubicBezTo>
                  <a:pt x="0" y="12"/>
                  <a:pt x="0" y="14"/>
                  <a:pt x="1" y="15"/>
                </a:cubicBezTo>
                <a:cubicBezTo>
                  <a:pt x="21" y="26"/>
                  <a:pt x="21" y="26"/>
                  <a:pt x="21" y="26"/>
                </a:cubicBezTo>
                <a:cubicBezTo>
                  <a:pt x="22" y="26"/>
                  <a:pt x="25" y="26"/>
                  <a:pt x="26" y="26"/>
                </a:cubicBezTo>
                <a:cubicBezTo>
                  <a:pt x="39" y="18"/>
                  <a:pt x="39" y="18"/>
                  <a:pt x="39" y="18"/>
                </a:cubicBezTo>
                <a:cubicBezTo>
                  <a:pt x="25" y="15"/>
                  <a:pt x="25" y="15"/>
                  <a:pt x="25" y="15"/>
                </a:cubicBezTo>
                <a:cubicBezTo>
                  <a:pt x="25" y="15"/>
                  <a:pt x="24" y="15"/>
                  <a:pt x="23" y="15"/>
                </a:cubicBezTo>
                <a:cubicBezTo>
                  <a:pt x="21" y="15"/>
                  <a:pt x="19" y="14"/>
                  <a:pt x="19" y="13"/>
                </a:cubicBezTo>
                <a:cubicBezTo>
                  <a:pt x="19" y="11"/>
                  <a:pt x="21" y="10"/>
                  <a:pt x="23" y="10"/>
                </a:cubicBezTo>
                <a:cubicBezTo>
                  <a:pt x="25" y="10"/>
                  <a:pt x="27" y="11"/>
                  <a:pt x="28" y="12"/>
                </a:cubicBezTo>
                <a:cubicBezTo>
                  <a:pt x="42" y="17"/>
                  <a:pt x="42" y="17"/>
                  <a:pt x="42" y="17"/>
                </a:cubicBezTo>
                <a:cubicBezTo>
                  <a:pt x="46" y="15"/>
                  <a:pt x="46" y="15"/>
                  <a:pt x="46" y="15"/>
                </a:cubicBezTo>
                <a:cubicBezTo>
                  <a:pt x="47" y="14"/>
                  <a:pt x="47" y="12"/>
                  <a:pt x="46" y="11"/>
                </a:cubicBezTo>
                <a:close/>
                <a:moveTo>
                  <a:pt x="40" y="32"/>
                </a:moveTo>
                <a:cubicBezTo>
                  <a:pt x="40" y="33"/>
                  <a:pt x="43" y="35"/>
                  <a:pt x="43" y="32"/>
                </a:cubicBezTo>
                <a:cubicBezTo>
                  <a:pt x="45" y="20"/>
                  <a:pt x="42" y="17"/>
                  <a:pt x="42" y="17"/>
                </a:cubicBezTo>
                <a:cubicBezTo>
                  <a:pt x="39" y="18"/>
                  <a:pt x="39" y="18"/>
                  <a:pt x="39" y="18"/>
                </a:cubicBezTo>
                <a:cubicBezTo>
                  <a:pt x="39" y="18"/>
                  <a:pt x="42" y="21"/>
                  <a:pt x="40" y="3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55" name="稻壳儿小白白(http://dwz.cn/Wu2UP)"/>
          <p:cNvSpPr/>
          <p:nvPr/>
        </p:nvSpPr>
        <p:spPr>
          <a:xfrm>
            <a:off x="4772160" y="2254320"/>
            <a:ext cx="225360" cy="203040"/>
          </a:xfrm>
          <a:custGeom>
            <a:avLst/>
            <a:gdLst/>
            <a:ahLst/>
            <a:rect l="l" t="t" r="r" b="b"/>
            <a:pathLst>
              <a:path w="47" h="42">
                <a:moveTo>
                  <a:pt x="7" y="13"/>
                </a:moveTo>
                <a:cubicBezTo>
                  <a:pt x="9" y="12"/>
                  <a:pt x="11" y="13"/>
                  <a:pt x="13" y="16"/>
                </a:cubicBezTo>
                <a:cubicBezTo>
                  <a:pt x="14" y="16"/>
                  <a:pt x="14" y="16"/>
                  <a:pt x="14" y="15"/>
                </a:cubicBezTo>
                <a:cubicBezTo>
                  <a:pt x="14" y="15"/>
                  <a:pt x="18" y="12"/>
                  <a:pt x="18" y="12"/>
                </a:cubicBezTo>
                <a:cubicBezTo>
                  <a:pt x="18" y="12"/>
                  <a:pt x="18" y="12"/>
                  <a:pt x="18" y="12"/>
                </a:cubicBezTo>
                <a:cubicBezTo>
                  <a:pt x="18" y="11"/>
                  <a:pt x="17" y="10"/>
                  <a:pt x="16" y="9"/>
                </a:cubicBezTo>
                <a:cubicBezTo>
                  <a:pt x="12" y="4"/>
                  <a:pt x="28" y="0"/>
                  <a:pt x="25" y="0"/>
                </a:cubicBezTo>
                <a:cubicBezTo>
                  <a:pt x="24" y="0"/>
                  <a:pt x="19" y="0"/>
                  <a:pt x="18" y="0"/>
                </a:cubicBezTo>
                <a:cubicBezTo>
                  <a:pt x="15" y="0"/>
                  <a:pt x="12" y="3"/>
                  <a:pt x="10" y="4"/>
                </a:cubicBezTo>
                <a:cubicBezTo>
                  <a:pt x="7" y="6"/>
                  <a:pt x="6" y="7"/>
                  <a:pt x="6" y="7"/>
                </a:cubicBezTo>
                <a:cubicBezTo>
                  <a:pt x="5" y="8"/>
                  <a:pt x="6" y="9"/>
                  <a:pt x="5" y="10"/>
                </a:cubicBezTo>
                <a:cubicBezTo>
                  <a:pt x="3" y="12"/>
                  <a:pt x="3" y="11"/>
                  <a:pt x="2" y="11"/>
                </a:cubicBezTo>
                <a:cubicBezTo>
                  <a:pt x="1" y="12"/>
                  <a:pt x="0" y="13"/>
                  <a:pt x="0" y="13"/>
                </a:cubicBezTo>
                <a:cubicBezTo>
                  <a:pt x="0" y="13"/>
                  <a:pt x="0" y="14"/>
                  <a:pt x="0" y="14"/>
                </a:cubicBezTo>
                <a:cubicBezTo>
                  <a:pt x="0" y="14"/>
                  <a:pt x="3" y="17"/>
                  <a:pt x="3" y="17"/>
                </a:cubicBezTo>
                <a:cubicBezTo>
                  <a:pt x="3" y="18"/>
                  <a:pt x="4" y="18"/>
                  <a:pt x="5" y="18"/>
                </a:cubicBezTo>
                <a:cubicBezTo>
                  <a:pt x="5" y="17"/>
                  <a:pt x="6" y="16"/>
                  <a:pt x="6" y="16"/>
                </a:cubicBezTo>
                <a:cubicBezTo>
                  <a:pt x="6" y="16"/>
                  <a:pt x="6" y="14"/>
                  <a:pt x="7" y="13"/>
                </a:cubicBezTo>
                <a:close/>
                <a:moveTo>
                  <a:pt x="20" y="15"/>
                </a:moveTo>
                <a:cubicBezTo>
                  <a:pt x="20" y="14"/>
                  <a:pt x="20" y="14"/>
                  <a:pt x="19" y="15"/>
                </a:cubicBezTo>
                <a:cubicBezTo>
                  <a:pt x="16" y="18"/>
                  <a:pt x="16" y="18"/>
                  <a:pt x="16" y="18"/>
                </a:cubicBezTo>
                <a:cubicBezTo>
                  <a:pt x="16" y="18"/>
                  <a:pt x="16" y="18"/>
                  <a:pt x="16" y="18"/>
                </a:cubicBezTo>
                <a:cubicBezTo>
                  <a:pt x="36" y="41"/>
                  <a:pt x="36" y="41"/>
                  <a:pt x="36" y="41"/>
                </a:cubicBezTo>
                <a:cubicBezTo>
                  <a:pt x="36" y="41"/>
                  <a:pt x="37" y="41"/>
                  <a:pt x="37" y="41"/>
                </a:cubicBezTo>
                <a:cubicBezTo>
                  <a:pt x="40" y="39"/>
                  <a:pt x="40" y="39"/>
                  <a:pt x="40" y="39"/>
                </a:cubicBezTo>
                <a:cubicBezTo>
                  <a:pt x="40" y="38"/>
                  <a:pt x="40" y="38"/>
                  <a:pt x="40" y="37"/>
                </a:cubicBezTo>
                <a:lnTo>
                  <a:pt x="20" y="15"/>
                </a:lnTo>
                <a:close/>
                <a:moveTo>
                  <a:pt x="46" y="5"/>
                </a:moveTo>
                <a:cubicBezTo>
                  <a:pt x="46" y="4"/>
                  <a:pt x="46" y="4"/>
                  <a:pt x="45" y="5"/>
                </a:cubicBezTo>
                <a:cubicBezTo>
                  <a:pt x="45" y="5"/>
                  <a:pt x="44" y="7"/>
                  <a:pt x="43" y="8"/>
                </a:cubicBezTo>
                <a:cubicBezTo>
                  <a:pt x="42" y="9"/>
                  <a:pt x="41" y="11"/>
                  <a:pt x="38" y="9"/>
                </a:cubicBezTo>
                <a:cubicBezTo>
                  <a:pt x="36" y="7"/>
                  <a:pt x="37" y="6"/>
                  <a:pt x="37" y="5"/>
                </a:cubicBezTo>
                <a:cubicBezTo>
                  <a:pt x="38" y="4"/>
                  <a:pt x="39" y="2"/>
                  <a:pt x="39" y="1"/>
                </a:cubicBezTo>
                <a:cubicBezTo>
                  <a:pt x="40" y="1"/>
                  <a:pt x="39" y="0"/>
                  <a:pt x="38" y="1"/>
                </a:cubicBezTo>
                <a:cubicBezTo>
                  <a:pt x="38" y="1"/>
                  <a:pt x="33" y="3"/>
                  <a:pt x="32" y="6"/>
                </a:cubicBezTo>
                <a:cubicBezTo>
                  <a:pt x="31" y="9"/>
                  <a:pt x="32" y="11"/>
                  <a:pt x="30" y="14"/>
                </a:cubicBezTo>
                <a:cubicBezTo>
                  <a:pt x="27" y="17"/>
                  <a:pt x="27" y="17"/>
                  <a:pt x="27" y="17"/>
                </a:cubicBezTo>
                <a:cubicBezTo>
                  <a:pt x="30" y="21"/>
                  <a:pt x="30" y="21"/>
                  <a:pt x="30" y="21"/>
                </a:cubicBezTo>
                <a:cubicBezTo>
                  <a:pt x="34" y="17"/>
                  <a:pt x="34" y="17"/>
                  <a:pt x="34" y="17"/>
                </a:cubicBezTo>
                <a:cubicBezTo>
                  <a:pt x="35" y="16"/>
                  <a:pt x="37" y="16"/>
                  <a:pt x="38" y="16"/>
                </a:cubicBezTo>
                <a:cubicBezTo>
                  <a:pt x="42" y="17"/>
                  <a:pt x="44" y="15"/>
                  <a:pt x="46" y="13"/>
                </a:cubicBezTo>
                <a:cubicBezTo>
                  <a:pt x="47" y="11"/>
                  <a:pt x="47" y="6"/>
                  <a:pt x="46" y="5"/>
                </a:cubicBezTo>
                <a:close/>
                <a:moveTo>
                  <a:pt x="6" y="37"/>
                </a:moveTo>
                <a:cubicBezTo>
                  <a:pt x="6" y="38"/>
                  <a:pt x="6" y="39"/>
                  <a:pt x="6" y="39"/>
                </a:cubicBezTo>
                <a:cubicBezTo>
                  <a:pt x="8" y="41"/>
                  <a:pt x="8" y="41"/>
                  <a:pt x="8" y="41"/>
                </a:cubicBezTo>
                <a:cubicBezTo>
                  <a:pt x="9" y="42"/>
                  <a:pt x="10" y="42"/>
                  <a:pt x="10" y="41"/>
                </a:cubicBezTo>
                <a:cubicBezTo>
                  <a:pt x="22" y="30"/>
                  <a:pt x="22" y="30"/>
                  <a:pt x="22" y="30"/>
                </a:cubicBezTo>
                <a:cubicBezTo>
                  <a:pt x="18" y="26"/>
                  <a:pt x="18" y="26"/>
                  <a:pt x="18" y="26"/>
                </a:cubicBezTo>
                <a:lnTo>
                  <a:pt x="6" y="3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56" name="稻壳儿小白白(http://dwz.cn/Wu2UP)"/>
          <p:cNvSpPr/>
          <p:nvPr/>
        </p:nvSpPr>
        <p:spPr>
          <a:xfrm>
            <a:off x="8853480" y="2246400"/>
            <a:ext cx="169920" cy="218880"/>
          </a:xfrm>
          <a:custGeom>
            <a:avLst/>
            <a:gdLst/>
            <a:ahLst/>
            <a:rect l="l" t="t" r="r" b="b"/>
            <a:pathLst>
              <a:path w="35" h="46">
                <a:moveTo>
                  <a:pt x="10" y="6"/>
                </a:moveTo>
                <a:cubicBezTo>
                  <a:pt x="10" y="34"/>
                  <a:pt x="10" y="34"/>
                  <a:pt x="10" y="34"/>
                </a:cubicBezTo>
                <a:cubicBezTo>
                  <a:pt x="9" y="33"/>
                  <a:pt x="7" y="33"/>
                  <a:pt x="5" y="34"/>
                </a:cubicBezTo>
                <a:cubicBezTo>
                  <a:pt x="1" y="35"/>
                  <a:pt x="0" y="39"/>
                  <a:pt x="1" y="42"/>
                </a:cubicBezTo>
                <a:cubicBezTo>
                  <a:pt x="2" y="45"/>
                  <a:pt x="5" y="46"/>
                  <a:pt x="9" y="45"/>
                </a:cubicBezTo>
                <a:cubicBezTo>
                  <a:pt x="12" y="43"/>
                  <a:pt x="14" y="41"/>
                  <a:pt x="14" y="38"/>
                </a:cubicBezTo>
                <a:cubicBezTo>
                  <a:pt x="14" y="38"/>
                  <a:pt x="14" y="23"/>
                  <a:pt x="14" y="15"/>
                </a:cubicBezTo>
                <a:cubicBezTo>
                  <a:pt x="31" y="11"/>
                  <a:pt x="31" y="11"/>
                  <a:pt x="31" y="11"/>
                </a:cubicBezTo>
                <a:cubicBezTo>
                  <a:pt x="31" y="29"/>
                  <a:pt x="31" y="29"/>
                  <a:pt x="31" y="29"/>
                </a:cubicBezTo>
                <a:cubicBezTo>
                  <a:pt x="29" y="29"/>
                  <a:pt x="28" y="29"/>
                  <a:pt x="26" y="29"/>
                </a:cubicBezTo>
                <a:cubicBezTo>
                  <a:pt x="22" y="31"/>
                  <a:pt x="21" y="34"/>
                  <a:pt x="22" y="37"/>
                </a:cubicBezTo>
                <a:cubicBezTo>
                  <a:pt x="23" y="40"/>
                  <a:pt x="26" y="41"/>
                  <a:pt x="30" y="40"/>
                </a:cubicBezTo>
                <a:cubicBezTo>
                  <a:pt x="33" y="39"/>
                  <a:pt x="35" y="36"/>
                  <a:pt x="35" y="33"/>
                </a:cubicBezTo>
                <a:cubicBezTo>
                  <a:pt x="35" y="0"/>
                  <a:pt x="35" y="0"/>
                  <a:pt x="35" y="0"/>
                </a:cubicBezTo>
                <a:lnTo>
                  <a:pt x="10" y="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57" name="稻壳儿小白白(http://dwz.cn/Wu2UP)"/>
          <p:cNvSpPr/>
          <p:nvPr/>
        </p:nvSpPr>
        <p:spPr>
          <a:xfrm>
            <a:off x="3868560" y="3178080"/>
            <a:ext cx="225720" cy="154080"/>
          </a:xfrm>
          <a:custGeom>
            <a:avLst/>
            <a:gdLst/>
            <a:ahLst/>
            <a:rect l="l" t="t" r="r" b="b"/>
            <a:pathLst>
              <a:path w="47" h="32">
                <a:moveTo>
                  <a:pt x="19" y="25"/>
                </a:moveTo>
                <a:cubicBezTo>
                  <a:pt x="17" y="27"/>
                  <a:pt x="18" y="30"/>
                  <a:pt x="21" y="31"/>
                </a:cubicBezTo>
                <a:cubicBezTo>
                  <a:pt x="23" y="32"/>
                  <a:pt x="26" y="32"/>
                  <a:pt x="27" y="29"/>
                </a:cubicBezTo>
                <a:cubicBezTo>
                  <a:pt x="29" y="26"/>
                  <a:pt x="39" y="1"/>
                  <a:pt x="38" y="1"/>
                </a:cubicBezTo>
                <a:cubicBezTo>
                  <a:pt x="37" y="0"/>
                  <a:pt x="21" y="22"/>
                  <a:pt x="19" y="25"/>
                </a:cubicBezTo>
                <a:close/>
                <a:moveTo>
                  <a:pt x="23" y="7"/>
                </a:moveTo>
                <a:cubicBezTo>
                  <a:pt x="24" y="7"/>
                  <a:pt x="25" y="7"/>
                  <a:pt x="26" y="7"/>
                </a:cubicBezTo>
                <a:cubicBezTo>
                  <a:pt x="27" y="6"/>
                  <a:pt x="29" y="4"/>
                  <a:pt x="30" y="3"/>
                </a:cubicBezTo>
                <a:cubicBezTo>
                  <a:pt x="28" y="2"/>
                  <a:pt x="26" y="2"/>
                  <a:pt x="23" y="2"/>
                </a:cubicBezTo>
                <a:cubicBezTo>
                  <a:pt x="10" y="2"/>
                  <a:pt x="0" y="13"/>
                  <a:pt x="0" y="27"/>
                </a:cubicBezTo>
                <a:cubicBezTo>
                  <a:pt x="0" y="28"/>
                  <a:pt x="0" y="29"/>
                  <a:pt x="0" y="30"/>
                </a:cubicBezTo>
                <a:cubicBezTo>
                  <a:pt x="0" y="31"/>
                  <a:pt x="1" y="32"/>
                  <a:pt x="3" y="32"/>
                </a:cubicBezTo>
                <a:cubicBezTo>
                  <a:pt x="4" y="32"/>
                  <a:pt x="5" y="31"/>
                  <a:pt x="5" y="29"/>
                </a:cubicBezTo>
                <a:cubicBezTo>
                  <a:pt x="5" y="29"/>
                  <a:pt x="5" y="28"/>
                  <a:pt x="5" y="27"/>
                </a:cubicBezTo>
                <a:cubicBezTo>
                  <a:pt x="5" y="16"/>
                  <a:pt x="13" y="7"/>
                  <a:pt x="23" y="7"/>
                </a:cubicBezTo>
                <a:close/>
                <a:moveTo>
                  <a:pt x="40" y="10"/>
                </a:moveTo>
                <a:cubicBezTo>
                  <a:pt x="40" y="11"/>
                  <a:pt x="39" y="13"/>
                  <a:pt x="38" y="15"/>
                </a:cubicBezTo>
                <a:cubicBezTo>
                  <a:pt x="41" y="18"/>
                  <a:pt x="42" y="22"/>
                  <a:pt x="42" y="27"/>
                </a:cubicBezTo>
                <a:cubicBezTo>
                  <a:pt x="42" y="28"/>
                  <a:pt x="42" y="29"/>
                  <a:pt x="42" y="29"/>
                </a:cubicBezTo>
                <a:cubicBezTo>
                  <a:pt x="42" y="31"/>
                  <a:pt x="43" y="32"/>
                  <a:pt x="44" y="32"/>
                </a:cubicBezTo>
                <a:cubicBezTo>
                  <a:pt x="44" y="32"/>
                  <a:pt x="44" y="32"/>
                  <a:pt x="44" y="32"/>
                </a:cubicBezTo>
                <a:cubicBezTo>
                  <a:pt x="46" y="32"/>
                  <a:pt x="47" y="31"/>
                  <a:pt x="47" y="30"/>
                </a:cubicBezTo>
                <a:cubicBezTo>
                  <a:pt x="47" y="29"/>
                  <a:pt x="47" y="28"/>
                  <a:pt x="47" y="27"/>
                </a:cubicBezTo>
                <a:cubicBezTo>
                  <a:pt x="47" y="20"/>
                  <a:pt x="44" y="14"/>
                  <a:pt x="40" y="1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58" name="稻壳儿小白白(http://dwz.cn/Wu2UP)"/>
          <p:cNvSpPr/>
          <p:nvPr/>
        </p:nvSpPr>
        <p:spPr>
          <a:xfrm>
            <a:off x="4321080" y="3171960"/>
            <a:ext cx="230400" cy="168120"/>
          </a:xfrm>
          <a:custGeom>
            <a:avLst/>
            <a:gdLst/>
            <a:ahLst/>
            <a:rect l="l" t="t" r="r" b="b"/>
            <a:pathLst>
              <a:path w="48" h="35">
                <a:moveTo>
                  <a:pt x="46" y="20"/>
                </a:moveTo>
                <a:cubicBezTo>
                  <a:pt x="45" y="16"/>
                  <a:pt x="41" y="13"/>
                  <a:pt x="35" y="13"/>
                </a:cubicBezTo>
                <a:cubicBezTo>
                  <a:pt x="35" y="13"/>
                  <a:pt x="35" y="13"/>
                  <a:pt x="35" y="13"/>
                </a:cubicBezTo>
                <a:cubicBezTo>
                  <a:pt x="35" y="8"/>
                  <a:pt x="35" y="8"/>
                  <a:pt x="35" y="8"/>
                </a:cubicBezTo>
                <a:cubicBezTo>
                  <a:pt x="35" y="8"/>
                  <a:pt x="43" y="7"/>
                  <a:pt x="43" y="7"/>
                </a:cubicBezTo>
                <a:cubicBezTo>
                  <a:pt x="43" y="7"/>
                  <a:pt x="43" y="7"/>
                  <a:pt x="43" y="6"/>
                </a:cubicBezTo>
                <a:cubicBezTo>
                  <a:pt x="43" y="6"/>
                  <a:pt x="43" y="4"/>
                  <a:pt x="43" y="4"/>
                </a:cubicBezTo>
                <a:cubicBezTo>
                  <a:pt x="43" y="4"/>
                  <a:pt x="42" y="4"/>
                  <a:pt x="42" y="4"/>
                </a:cubicBezTo>
                <a:cubicBezTo>
                  <a:pt x="42" y="4"/>
                  <a:pt x="35" y="5"/>
                  <a:pt x="35" y="5"/>
                </a:cubicBezTo>
                <a:cubicBezTo>
                  <a:pt x="35" y="5"/>
                  <a:pt x="35" y="0"/>
                  <a:pt x="35" y="0"/>
                </a:cubicBezTo>
                <a:cubicBezTo>
                  <a:pt x="35" y="0"/>
                  <a:pt x="34" y="0"/>
                  <a:pt x="34" y="0"/>
                </a:cubicBezTo>
                <a:cubicBezTo>
                  <a:pt x="34" y="0"/>
                  <a:pt x="32" y="0"/>
                  <a:pt x="32" y="0"/>
                </a:cubicBezTo>
                <a:cubicBezTo>
                  <a:pt x="31" y="0"/>
                  <a:pt x="31" y="0"/>
                  <a:pt x="31" y="0"/>
                </a:cubicBezTo>
                <a:cubicBezTo>
                  <a:pt x="31" y="0"/>
                  <a:pt x="31" y="5"/>
                  <a:pt x="31" y="5"/>
                </a:cubicBezTo>
                <a:cubicBezTo>
                  <a:pt x="31" y="5"/>
                  <a:pt x="24" y="7"/>
                  <a:pt x="24" y="7"/>
                </a:cubicBezTo>
                <a:cubicBezTo>
                  <a:pt x="24" y="7"/>
                  <a:pt x="24" y="7"/>
                  <a:pt x="24" y="7"/>
                </a:cubicBezTo>
                <a:cubicBezTo>
                  <a:pt x="24" y="7"/>
                  <a:pt x="24" y="10"/>
                  <a:pt x="24" y="10"/>
                </a:cubicBezTo>
                <a:cubicBezTo>
                  <a:pt x="24" y="10"/>
                  <a:pt x="24" y="10"/>
                  <a:pt x="25" y="10"/>
                </a:cubicBezTo>
                <a:cubicBezTo>
                  <a:pt x="25" y="10"/>
                  <a:pt x="31" y="9"/>
                  <a:pt x="31" y="9"/>
                </a:cubicBezTo>
                <a:cubicBezTo>
                  <a:pt x="31" y="14"/>
                  <a:pt x="31" y="14"/>
                  <a:pt x="31" y="14"/>
                </a:cubicBezTo>
                <a:cubicBezTo>
                  <a:pt x="29" y="14"/>
                  <a:pt x="27" y="16"/>
                  <a:pt x="26" y="17"/>
                </a:cubicBezTo>
                <a:cubicBezTo>
                  <a:pt x="24" y="19"/>
                  <a:pt x="23" y="21"/>
                  <a:pt x="23" y="24"/>
                </a:cubicBezTo>
                <a:cubicBezTo>
                  <a:pt x="23" y="27"/>
                  <a:pt x="26" y="30"/>
                  <a:pt x="29" y="30"/>
                </a:cubicBezTo>
                <a:cubicBezTo>
                  <a:pt x="36" y="31"/>
                  <a:pt x="41" y="23"/>
                  <a:pt x="42" y="19"/>
                </a:cubicBezTo>
                <a:cubicBezTo>
                  <a:pt x="45" y="22"/>
                  <a:pt x="43" y="29"/>
                  <a:pt x="37" y="33"/>
                </a:cubicBezTo>
                <a:cubicBezTo>
                  <a:pt x="37" y="33"/>
                  <a:pt x="37" y="33"/>
                  <a:pt x="37" y="33"/>
                </a:cubicBezTo>
                <a:cubicBezTo>
                  <a:pt x="38" y="34"/>
                  <a:pt x="39" y="35"/>
                  <a:pt x="39" y="35"/>
                </a:cubicBezTo>
                <a:cubicBezTo>
                  <a:pt x="39" y="35"/>
                  <a:pt x="39" y="35"/>
                  <a:pt x="39" y="35"/>
                </a:cubicBezTo>
                <a:cubicBezTo>
                  <a:pt x="45" y="31"/>
                  <a:pt x="48" y="25"/>
                  <a:pt x="46" y="20"/>
                </a:cubicBezTo>
                <a:close/>
                <a:moveTo>
                  <a:pt x="29" y="27"/>
                </a:moveTo>
                <a:cubicBezTo>
                  <a:pt x="27" y="27"/>
                  <a:pt x="27" y="25"/>
                  <a:pt x="27" y="24"/>
                </a:cubicBezTo>
                <a:cubicBezTo>
                  <a:pt x="27" y="22"/>
                  <a:pt x="27" y="20"/>
                  <a:pt x="29" y="19"/>
                </a:cubicBezTo>
                <a:cubicBezTo>
                  <a:pt x="29" y="18"/>
                  <a:pt x="30" y="17"/>
                  <a:pt x="32" y="17"/>
                </a:cubicBezTo>
                <a:cubicBezTo>
                  <a:pt x="32" y="27"/>
                  <a:pt x="32" y="27"/>
                  <a:pt x="32" y="27"/>
                </a:cubicBezTo>
                <a:cubicBezTo>
                  <a:pt x="31" y="27"/>
                  <a:pt x="30" y="27"/>
                  <a:pt x="29" y="27"/>
                </a:cubicBezTo>
                <a:close/>
                <a:moveTo>
                  <a:pt x="35" y="26"/>
                </a:moveTo>
                <a:cubicBezTo>
                  <a:pt x="35" y="16"/>
                  <a:pt x="35" y="16"/>
                  <a:pt x="35" y="16"/>
                </a:cubicBezTo>
                <a:cubicBezTo>
                  <a:pt x="35" y="16"/>
                  <a:pt x="35" y="16"/>
                  <a:pt x="35" y="16"/>
                </a:cubicBezTo>
                <a:cubicBezTo>
                  <a:pt x="37" y="16"/>
                  <a:pt x="39" y="16"/>
                  <a:pt x="40" y="17"/>
                </a:cubicBezTo>
                <a:cubicBezTo>
                  <a:pt x="41" y="17"/>
                  <a:pt x="37" y="23"/>
                  <a:pt x="35" y="26"/>
                </a:cubicBezTo>
                <a:close/>
                <a:moveTo>
                  <a:pt x="14" y="8"/>
                </a:moveTo>
                <a:cubicBezTo>
                  <a:pt x="13" y="7"/>
                  <a:pt x="13" y="7"/>
                  <a:pt x="13" y="7"/>
                </a:cubicBezTo>
                <a:cubicBezTo>
                  <a:pt x="8" y="7"/>
                  <a:pt x="8" y="7"/>
                  <a:pt x="8" y="7"/>
                </a:cubicBezTo>
                <a:cubicBezTo>
                  <a:pt x="8" y="7"/>
                  <a:pt x="8" y="7"/>
                  <a:pt x="8" y="8"/>
                </a:cubicBezTo>
                <a:cubicBezTo>
                  <a:pt x="7" y="11"/>
                  <a:pt x="0" y="33"/>
                  <a:pt x="0" y="34"/>
                </a:cubicBezTo>
                <a:cubicBezTo>
                  <a:pt x="0" y="34"/>
                  <a:pt x="0" y="34"/>
                  <a:pt x="0" y="34"/>
                </a:cubicBezTo>
                <a:cubicBezTo>
                  <a:pt x="4" y="34"/>
                  <a:pt x="4" y="34"/>
                  <a:pt x="4" y="34"/>
                </a:cubicBezTo>
                <a:cubicBezTo>
                  <a:pt x="4" y="34"/>
                  <a:pt x="4" y="34"/>
                  <a:pt x="4" y="34"/>
                </a:cubicBezTo>
                <a:cubicBezTo>
                  <a:pt x="4" y="33"/>
                  <a:pt x="7" y="26"/>
                  <a:pt x="7" y="26"/>
                </a:cubicBezTo>
                <a:cubicBezTo>
                  <a:pt x="15" y="26"/>
                  <a:pt x="15" y="26"/>
                  <a:pt x="15" y="26"/>
                </a:cubicBezTo>
                <a:cubicBezTo>
                  <a:pt x="15" y="26"/>
                  <a:pt x="17" y="33"/>
                  <a:pt x="17" y="34"/>
                </a:cubicBezTo>
                <a:cubicBezTo>
                  <a:pt x="17" y="34"/>
                  <a:pt x="17" y="34"/>
                  <a:pt x="18" y="34"/>
                </a:cubicBezTo>
                <a:cubicBezTo>
                  <a:pt x="22" y="34"/>
                  <a:pt x="22" y="34"/>
                  <a:pt x="22" y="34"/>
                </a:cubicBezTo>
                <a:cubicBezTo>
                  <a:pt x="22" y="34"/>
                  <a:pt x="22" y="34"/>
                  <a:pt x="22" y="34"/>
                </a:cubicBezTo>
                <a:cubicBezTo>
                  <a:pt x="22" y="33"/>
                  <a:pt x="14" y="11"/>
                  <a:pt x="14" y="8"/>
                </a:cubicBezTo>
                <a:close/>
                <a:moveTo>
                  <a:pt x="7" y="23"/>
                </a:moveTo>
                <a:cubicBezTo>
                  <a:pt x="11" y="10"/>
                  <a:pt x="11" y="10"/>
                  <a:pt x="11" y="10"/>
                </a:cubicBezTo>
                <a:cubicBezTo>
                  <a:pt x="14" y="23"/>
                  <a:pt x="14" y="23"/>
                  <a:pt x="14" y="23"/>
                </a:cubicBezTo>
                <a:lnTo>
                  <a:pt x="7" y="23"/>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59" name="稻壳儿小白白(http://dwz.cn/Wu2UP)"/>
          <p:cNvSpPr/>
          <p:nvPr/>
        </p:nvSpPr>
        <p:spPr>
          <a:xfrm>
            <a:off x="7054920" y="884160"/>
            <a:ext cx="162000" cy="230400"/>
          </a:xfrm>
          <a:custGeom>
            <a:avLst/>
            <a:gdLst/>
            <a:ahLst/>
            <a:rect l="l" t="t" r="r" b="b"/>
            <a:pathLst>
              <a:path w="34" h="48">
                <a:moveTo>
                  <a:pt x="4" y="47"/>
                </a:moveTo>
                <a:cubicBezTo>
                  <a:pt x="5" y="45"/>
                  <a:pt x="6" y="41"/>
                  <a:pt x="7" y="37"/>
                </a:cubicBezTo>
                <a:cubicBezTo>
                  <a:pt x="14" y="36"/>
                  <a:pt x="16" y="37"/>
                  <a:pt x="20" y="30"/>
                </a:cubicBezTo>
                <a:cubicBezTo>
                  <a:pt x="17" y="31"/>
                  <a:pt x="13" y="28"/>
                  <a:pt x="13" y="27"/>
                </a:cubicBezTo>
                <a:cubicBezTo>
                  <a:pt x="13" y="26"/>
                  <a:pt x="22" y="28"/>
                  <a:pt x="28" y="19"/>
                </a:cubicBezTo>
                <a:cubicBezTo>
                  <a:pt x="21" y="21"/>
                  <a:pt x="18" y="17"/>
                  <a:pt x="19" y="17"/>
                </a:cubicBezTo>
                <a:cubicBezTo>
                  <a:pt x="22" y="16"/>
                  <a:pt x="28" y="16"/>
                  <a:pt x="32" y="13"/>
                </a:cubicBezTo>
                <a:cubicBezTo>
                  <a:pt x="33" y="11"/>
                  <a:pt x="34" y="7"/>
                  <a:pt x="34" y="5"/>
                </a:cubicBezTo>
                <a:cubicBezTo>
                  <a:pt x="33" y="3"/>
                  <a:pt x="27" y="0"/>
                  <a:pt x="24" y="1"/>
                </a:cubicBezTo>
                <a:cubicBezTo>
                  <a:pt x="21" y="1"/>
                  <a:pt x="17" y="12"/>
                  <a:pt x="15" y="12"/>
                </a:cubicBezTo>
                <a:cubicBezTo>
                  <a:pt x="14" y="12"/>
                  <a:pt x="14" y="7"/>
                  <a:pt x="16" y="3"/>
                </a:cubicBezTo>
                <a:cubicBezTo>
                  <a:pt x="14" y="4"/>
                  <a:pt x="9" y="7"/>
                  <a:pt x="8" y="10"/>
                </a:cubicBezTo>
                <a:cubicBezTo>
                  <a:pt x="5" y="16"/>
                  <a:pt x="8" y="29"/>
                  <a:pt x="7" y="29"/>
                </a:cubicBezTo>
                <a:cubicBezTo>
                  <a:pt x="6" y="30"/>
                  <a:pt x="3" y="23"/>
                  <a:pt x="2" y="20"/>
                </a:cubicBezTo>
                <a:cubicBezTo>
                  <a:pt x="0" y="25"/>
                  <a:pt x="0" y="29"/>
                  <a:pt x="4" y="35"/>
                </a:cubicBezTo>
                <a:cubicBezTo>
                  <a:pt x="3" y="39"/>
                  <a:pt x="2" y="44"/>
                  <a:pt x="2" y="46"/>
                </a:cubicBezTo>
                <a:cubicBezTo>
                  <a:pt x="2" y="48"/>
                  <a:pt x="4" y="48"/>
                  <a:pt x="4" y="4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60" name="稻壳儿小白白(http://dwz.cn/Wu2UP)"/>
          <p:cNvSpPr/>
          <p:nvPr/>
        </p:nvSpPr>
        <p:spPr>
          <a:xfrm>
            <a:off x="8826480" y="3657600"/>
            <a:ext cx="225360" cy="101520"/>
          </a:xfrm>
          <a:custGeom>
            <a:avLst/>
            <a:gdLst/>
            <a:ahLst/>
            <a:rect l="l" t="t" r="r" b="b"/>
            <a:pathLst>
              <a:path w="47" h="21">
                <a:moveTo>
                  <a:pt x="38" y="0"/>
                </a:moveTo>
                <a:cubicBezTo>
                  <a:pt x="33" y="0"/>
                  <a:pt x="27" y="3"/>
                  <a:pt x="24" y="7"/>
                </a:cubicBezTo>
                <a:cubicBezTo>
                  <a:pt x="20" y="3"/>
                  <a:pt x="15" y="0"/>
                  <a:pt x="10" y="0"/>
                </a:cubicBezTo>
                <a:cubicBezTo>
                  <a:pt x="5" y="0"/>
                  <a:pt x="0" y="3"/>
                  <a:pt x="0" y="10"/>
                </a:cubicBezTo>
                <a:cubicBezTo>
                  <a:pt x="0" y="18"/>
                  <a:pt x="5" y="21"/>
                  <a:pt x="10" y="21"/>
                </a:cubicBezTo>
                <a:cubicBezTo>
                  <a:pt x="10" y="21"/>
                  <a:pt x="10" y="21"/>
                  <a:pt x="10" y="21"/>
                </a:cubicBezTo>
                <a:cubicBezTo>
                  <a:pt x="15" y="21"/>
                  <a:pt x="20" y="18"/>
                  <a:pt x="24" y="14"/>
                </a:cubicBezTo>
                <a:cubicBezTo>
                  <a:pt x="27" y="18"/>
                  <a:pt x="33" y="21"/>
                  <a:pt x="38" y="21"/>
                </a:cubicBezTo>
                <a:cubicBezTo>
                  <a:pt x="42" y="21"/>
                  <a:pt x="47" y="18"/>
                  <a:pt x="47" y="10"/>
                </a:cubicBezTo>
                <a:cubicBezTo>
                  <a:pt x="47" y="3"/>
                  <a:pt x="42" y="0"/>
                  <a:pt x="38" y="0"/>
                </a:cubicBezTo>
                <a:close/>
                <a:moveTo>
                  <a:pt x="10" y="16"/>
                </a:moveTo>
                <a:cubicBezTo>
                  <a:pt x="6" y="16"/>
                  <a:pt x="5" y="14"/>
                  <a:pt x="5" y="10"/>
                </a:cubicBezTo>
                <a:cubicBezTo>
                  <a:pt x="5" y="6"/>
                  <a:pt x="6" y="4"/>
                  <a:pt x="10" y="4"/>
                </a:cubicBezTo>
                <a:cubicBezTo>
                  <a:pt x="14" y="4"/>
                  <a:pt x="18" y="7"/>
                  <a:pt x="21" y="10"/>
                </a:cubicBezTo>
                <a:cubicBezTo>
                  <a:pt x="18" y="14"/>
                  <a:pt x="14" y="16"/>
                  <a:pt x="10" y="16"/>
                </a:cubicBezTo>
                <a:close/>
                <a:moveTo>
                  <a:pt x="38" y="16"/>
                </a:moveTo>
                <a:cubicBezTo>
                  <a:pt x="34" y="16"/>
                  <a:pt x="29" y="14"/>
                  <a:pt x="26" y="10"/>
                </a:cubicBezTo>
                <a:cubicBezTo>
                  <a:pt x="29" y="7"/>
                  <a:pt x="34" y="4"/>
                  <a:pt x="38" y="4"/>
                </a:cubicBezTo>
                <a:cubicBezTo>
                  <a:pt x="41" y="4"/>
                  <a:pt x="43" y="6"/>
                  <a:pt x="43" y="10"/>
                </a:cubicBezTo>
                <a:cubicBezTo>
                  <a:pt x="43" y="14"/>
                  <a:pt x="41" y="16"/>
                  <a:pt x="38" y="16"/>
                </a:cubicBezTo>
                <a:close/>
              </a:path>
            </a:pathLst>
          </a:custGeom>
          <a:solidFill>
            <a:srgbClr val="ffffff"/>
          </a:solidFill>
          <a:ln w="0">
            <a:noFill/>
          </a:ln>
        </p:spPr>
        <p:style>
          <a:lnRef idx="0"/>
          <a:fillRef idx="0"/>
          <a:effectRef idx="0"/>
          <a:fontRef idx="minor"/>
        </p:style>
        <p:txBody>
          <a:bodyPr lIns="121680" rIns="121680" tIns="40680" bIns="40680" anchor="t">
            <a:noAutofit/>
          </a:bodyPr>
          <a:p>
            <a:endParaRPr b="0" lang="en-US" sz="1800" spc="-1" strike="noStrike">
              <a:solidFill>
                <a:srgbClr val="000000"/>
              </a:solidFill>
              <a:latin typeface="Arial"/>
            </a:endParaRPr>
          </a:p>
        </p:txBody>
      </p:sp>
      <p:sp>
        <p:nvSpPr>
          <p:cNvPr id="1061" name="稻壳儿小白白(http://dwz.cn/Wu2UP)"/>
          <p:cNvSpPr/>
          <p:nvPr/>
        </p:nvSpPr>
        <p:spPr>
          <a:xfrm>
            <a:off x="7477200" y="3597120"/>
            <a:ext cx="225360" cy="225720"/>
          </a:xfrm>
          <a:custGeom>
            <a:avLst/>
            <a:gdLst/>
            <a:ahLst/>
            <a:rect l="l" t="t" r="r" b="b"/>
            <a:pathLst>
              <a:path w="47" h="47">
                <a:moveTo>
                  <a:pt x="44" y="21"/>
                </a:moveTo>
                <a:cubicBezTo>
                  <a:pt x="44" y="21"/>
                  <a:pt x="42" y="21"/>
                  <a:pt x="42" y="21"/>
                </a:cubicBezTo>
                <a:cubicBezTo>
                  <a:pt x="41" y="21"/>
                  <a:pt x="40" y="22"/>
                  <a:pt x="40" y="23"/>
                </a:cubicBezTo>
                <a:cubicBezTo>
                  <a:pt x="40" y="24"/>
                  <a:pt x="41" y="25"/>
                  <a:pt x="42" y="25"/>
                </a:cubicBezTo>
                <a:cubicBezTo>
                  <a:pt x="42" y="25"/>
                  <a:pt x="44" y="25"/>
                  <a:pt x="44" y="25"/>
                </a:cubicBezTo>
                <a:cubicBezTo>
                  <a:pt x="46" y="25"/>
                  <a:pt x="47" y="24"/>
                  <a:pt x="47" y="23"/>
                </a:cubicBezTo>
                <a:cubicBezTo>
                  <a:pt x="47" y="22"/>
                  <a:pt x="46" y="21"/>
                  <a:pt x="44" y="21"/>
                </a:cubicBezTo>
                <a:close/>
                <a:moveTo>
                  <a:pt x="23" y="10"/>
                </a:moveTo>
                <a:cubicBezTo>
                  <a:pt x="16" y="10"/>
                  <a:pt x="10" y="16"/>
                  <a:pt x="10" y="23"/>
                </a:cubicBezTo>
                <a:cubicBezTo>
                  <a:pt x="10" y="30"/>
                  <a:pt x="16" y="36"/>
                  <a:pt x="23" y="36"/>
                </a:cubicBezTo>
                <a:cubicBezTo>
                  <a:pt x="30" y="36"/>
                  <a:pt x="36" y="30"/>
                  <a:pt x="36" y="23"/>
                </a:cubicBezTo>
                <a:cubicBezTo>
                  <a:pt x="36" y="16"/>
                  <a:pt x="30" y="10"/>
                  <a:pt x="23" y="10"/>
                </a:cubicBezTo>
                <a:close/>
                <a:moveTo>
                  <a:pt x="23" y="33"/>
                </a:moveTo>
                <a:cubicBezTo>
                  <a:pt x="18" y="33"/>
                  <a:pt x="14" y="28"/>
                  <a:pt x="14" y="23"/>
                </a:cubicBezTo>
                <a:cubicBezTo>
                  <a:pt x="14" y="18"/>
                  <a:pt x="18" y="14"/>
                  <a:pt x="23" y="14"/>
                </a:cubicBezTo>
                <a:lnTo>
                  <a:pt x="23" y="33"/>
                </a:lnTo>
                <a:close/>
                <a:moveTo>
                  <a:pt x="7" y="23"/>
                </a:moveTo>
                <a:cubicBezTo>
                  <a:pt x="7" y="22"/>
                  <a:pt x="6" y="21"/>
                  <a:pt x="4" y="21"/>
                </a:cubicBezTo>
                <a:cubicBezTo>
                  <a:pt x="4" y="21"/>
                  <a:pt x="3" y="21"/>
                  <a:pt x="2" y="21"/>
                </a:cubicBezTo>
                <a:cubicBezTo>
                  <a:pt x="1" y="21"/>
                  <a:pt x="0" y="22"/>
                  <a:pt x="0" y="23"/>
                </a:cubicBezTo>
                <a:cubicBezTo>
                  <a:pt x="0" y="24"/>
                  <a:pt x="1" y="25"/>
                  <a:pt x="2" y="25"/>
                </a:cubicBezTo>
                <a:cubicBezTo>
                  <a:pt x="3" y="25"/>
                  <a:pt x="4" y="25"/>
                  <a:pt x="4" y="25"/>
                </a:cubicBezTo>
                <a:cubicBezTo>
                  <a:pt x="6" y="25"/>
                  <a:pt x="7" y="24"/>
                  <a:pt x="7" y="23"/>
                </a:cubicBezTo>
                <a:close/>
                <a:moveTo>
                  <a:pt x="23" y="7"/>
                </a:moveTo>
                <a:cubicBezTo>
                  <a:pt x="24" y="7"/>
                  <a:pt x="25" y="6"/>
                  <a:pt x="25" y="5"/>
                </a:cubicBezTo>
                <a:cubicBezTo>
                  <a:pt x="25" y="4"/>
                  <a:pt x="25" y="3"/>
                  <a:pt x="25" y="2"/>
                </a:cubicBezTo>
                <a:cubicBezTo>
                  <a:pt x="25" y="1"/>
                  <a:pt x="24" y="0"/>
                  <a:pt x="23" y="0"/>
                </a:cubicBezTo>
                <a:cubicBezTo>
                  <a:pt x="22" y="0"/>
                  <a:pt x="21" y="1"/>
                  <a:pt x="21" y="2"/>
                </a:cubicBezTo>
                <a:cubicBezTo>
                  <a:pt x="21" y="3"/>
                  <a:pt x="21" y="4"/>
                  <a:pt x="21" y="5"/>
                </a:cubicBezTo>
                <a:cubicBezTo>
                  <a:pt x="21" y="6"/>
                  <a:pt x="22" y="7"/>
                  <a:pt x="23" y="7"/>
                </a:cubicBezTo>
                <a:close/>
                <a:moveTo>
                  <a:pt x="23" y="40"/>
                </a:moveTo>
                <a:cubicBezTo>
                  <a:pt x="22" y="40"/>
                  <a:pt x="21" y="41"/>
                  <a:pt x="21" y="42"/>
                </a:cubicBezTo>
                <a:cubicBezTo>
                  <a:pt x="21" y="42"/>
                  <a:pt x="21" y="44"/>
                  <a:pt x="21" y="44"/>
                </a:cubicBezTo>
                <a:cubicBezTo>
                  <a:pt x="21" y="46"/>
                  <a:pt x="22" y="47"/>
                  <a:pt x="23" y="47"/>
                </a:cubicBezTo>
                <a:cubicBezTo>
                  <a:pt x="24" y="47"/>
                  <a:pt x="25" y="46"/>
                  <a:pt x="25" y="44"/>
                </a:cubicBezTo>
                <a:cubicBezTo>
                  <a:pt x="25" y="44"/>
                  <a:pt x="25" y="42"/>
                  <a:pt x="25" y="42"/>
                </a:cubicBezTo>
                <a:cubicBezTo>
                  <a:pt x="25" y="41"/>
                  <a:pt x="24" y="40"/>
                  <a:pt x="23" y="40"/>
                </a:cubicBezTo>
                <a:close/>
                <a:moveTo>
                  <a:pt x="41" y="9"/>
                </a:moveTo>
                <a:cubicBezTo>
                  <a:pt x="41" y="8"/>
                  <a:pt x="42" y="6"/>
                  <a:pt x="41" y="6"/>
                </a:cubicBezTo>
                <a:cubicBezTo>
                  <a:pt x="40" y="5"/>
                  <a:pt x="39" y="5"/>
                  <a:pt x="38" y="6"/>
                </a:cubicBezTo>
                <a:cubicBezTo>
                  <a:pt x="38" y="6"/>
                  <a:pt x="36" y="7"/>
                  <a:pt x="36" y="8"/>
                </a:cubicBezTo>
                <a:cubicBezTo>
                  <a:pt x="35" y="9"/>
                  <a:pt x="35" y="10"/>
                  <a:pt x="36" y="11"/>
                </a:cubicBezTo>
                <a:cubicBezTo>
                  <a:pt x="37" y="11"/>
                  <a:pt x="38" y="11"/>
                  <a:pt x="39" y="10"/>
                </a:cubicBezTo>
                <a:cubicBezTo>
                  <a:pt x="39" y="10"/>
                  <a:pt x="40" y="9"/>
                  <a:pt x="41" y="9"/>
                </a:cubicBezTo>
                <a:close/>
                <a:moveTo>
                  <a:pt x="8" y="36"/>
                </a:moveTo>
                <a:cubicBezTo>
                  <a:pt x="7" y="37"/>
                  <a:pt x="6" y="38"/>
                  <a:pt x="6" y="38"/>
                </a:cubicBezTo>
                <a:cubicBezTo>
                  <a:pt x="5" y="39"/>
                  <a:pt x="5" y="40"/>
                  <a:pt x="6" y="41"/>
                </a:cubicBezTo>
                <a:cubicBezTo>
                  <a:pt x="6" y="42"/>
                  <a:pt x="8" y="41"/>
                  <a:pt x="9" y="41"/>
                </a:cubicBezTo>
                <a:cubicBezTo>
                  <a:pt x="9" y="40"/>
                  <a:pt x="10" y="39"/>
                  <a:pt x="10" y="39"/>
                </a:cubicBezTo>
                <a:cubicBezTo>
                  <a:pt x="11" y="38"/>
                  <a:pt x="11" y="37"/>
                  <a:pt x="11" y="36"/>
                </a:cubicBezTo>
                <a:cubicBezTo>
                  <a:pt x="10" y="35"/>
                  <a:pt x="9" y="35"/>
                  <a:pt x="8" y="36"/>
                </a:cubicBezTo>
                <a:close/>
                <a:moveTo>
                  <a:pt x="9" y="6"/>
                </a:moveTo>
                <a:cubicBezTo>
                  <a:pt x="8" y="5"/>
                  <a:pt x="6" y="5"/>
                  <a:pt x="6" y="6"/>
                </a:cubicBezTo>
                <a:cubicBezTo>
                  <a:pt x="5" y="6"/>
                  <a:pt x="5" y="8"/>
                  <a:pt x="6" y="9"/>
                </a:cubicBezTo>
                <a:cubicBezTo>
                  <a:pt x="6" y="9"/>
                  <a:pt x="7" y="10"/>
                  <a:pt x="8" y="10"/>
                </a:cubicBezTo>
                <a:cubicBezTo>
                  <a:pt x="9" y="11"/>
                  <a:pt x="10" y="11"/>
                  <a:pt x="11" y="11"/>
                </a:cubicBezTo>
                <a:cubicBezTo>
                  <a:pt x="11" y="10"/>
                  <a:pt x="11" y="9"/>
                  <a:pt x="10" y="8"/>
                </a:cubicBezTo>
                <a:cubicBezTo>
                  <a:pt x="10" y="7"/>
                  <a:pt x="9" y="6"/>
                  <a:pt x="9" y="6"/>
                </a:cubicBezTo>
                <a:close/>
                <a:moveTo>
                  <a:pt x="36" y="39"/>
                </a:moveTo>
                <a:cubicBezTo>
                  <a:pt x="36" y="39"/>
                  <a:pt x="38" y="40"/>
                  <a:pt x="38" y="41"/>
                </a:cubicBezTo>
                <a:cubicBezTo>
                  <a:pt x="39" y="41"/>
                  <a:pt x="40" y="42"/>
                  <a:pt x="41" y="41"/>
                </a:cubicBezTo>
                <a:cubicBezTo>
                  <a:pt x="42" y="40"/>
                  <a:pt x="41" y="39"/>
                  <a:pt x="41" y="38"/>
                </a:cubicBezTo>
                <a:cubicBezTo>
                  <a:pt x="40" y="38"/>
                  <a:pt x="39" y="37"/>
                  <a:pt x="39" y="36"/>
                </a:cubicBezTo>
                <a:cubicBezTo>
                  <a:pt x="38" y="35"/>
                  <a:pt x="37" y="35"/>
                  <a:pt x="36" y="36"/>
                </a:cubicBezTo>
                <a:cubicBezTo>
                  <a:pt x="35" y="37"/>
                  <a:pt x="35" y="38"/>
                  <a:pt x="36" y="3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62" name="稻壳儿小白白(http://dwz.cn/Wu2UP)"/>
          <p:cNvSpPr/>
          <p:nvPr/>
        </p:nvSpPr>
        <p:spPr>
          <a:xfrm>
            <a:off x="9729720" y="3629160"/>
            <a:ext cx="225360" cy="158760"/>
          </a:xfrm>
          <a:custGeom>
            <a:avLst/>
            <a:gdLst/>
            <a:ahLst/>
            <a:rect l="l" t="t" r="r" b="b"/>
            <a:pathLst>
              <a:path w="47" h="33">
                <a:moveTo>
                  <a:pt x="42" y="0"/>
                </a:moveTo>
                <a:cubicBezTo>
                  <a:pt x="5" y="0"/>
                  <a:pt x="5" y="0"/>
                  <a:pt x="5" y="0"/>
                </a:cubicBezTo>
                <a:cubicBezTo>
                  <a:pt x="2" y="0"/>
                  <a:pt x="0" y="2"/>
                  <a:pt x="0" y="5"/>
                </a:cubicBezTo>
                <a:cubicBezTo>
                  <a:pt x="0" y="28"/>
                  <a:pt x="0" y="28"/>
                  <a:pt x="0" y="28"/>
                </a:cubicBezTo>
                <a:cubicBezTo>
                  <a:pt x="0" y="31"/>
                  <a:pt x="2" y="33"/>
                  <a:pt x="5" y="33"/>
                </a:cubicBezTo>
                <a:cubicBezTo>
                  <a:pt x="42" y="33"/>
                  <a:pt x="42" y="33"/>
                  <a:pt x="42" y="33"/>
                </a:cubicBezTo>
                <a:cubicBezTo>
                  <a:pt x="45" y="33"/>
                  <a:pt x="47" y="31"/>
                  <a:pt x="47" y="28"/>
                </a:cubicBezTo>
                <a:cubicBezTo>
                  <a:pt x="47" y="5"/>
                  <a:pt x="47" y="5"/>
                  <a:pt x="47" y="5"/>
                </a:cubicBezTo>
                <a:cubicBezTo>
                  <a:pt x="47" y="2"/>
                  <a:pt x="45" y="0"/>
                  <a:pt x="42" y="0"/>
                </a:cubicBezTo>
                <a:close/>
                <a:moveTo>
                  <a:pt x="42" y="28"/>
                </a:moveTo>
                <a:cubicBezTo>
                  <a:pt x="5" y="28"/>
                  <a:pt x="5" y="28"/>
                  <a:pt x="5" y="28"/>
                </a:cubicBezTo>
                <a:cubicBezTo>
                  <a:pt x="5" y="14"/>
                  <a:pt x="5" y="14"/>
                  <a:pt x="5" y="14"/>
                </a:cubicBezTo>
                <a:cubicBezTo>
                  <a:pt x="42" y="14"/>
                  <a:pt x="42" y="14"/>
                  <a:pt x="42" y="14"/>
                </a:cubicBezTo>
                <a:lnTo>
                  <a:pt x="42" y="28"/>
                </a:lnTo>
                <a:close/>
                <a:moveTo>
                  <a:pt x="42" y="7"/>
                </a:moveTo>
                <a:cubicBezTo>
                  <a:pt x="5" y="7"/>
                  <a:pt x="5" y="7"/>
                  <a:pt x="5" y="7"/>
                </a:cubicBezTo>
                <a:cubicBezTo>
                  <a:pt x="5" y="5"/>
                  <a:pt x="5" y="5"/>
                  <a:pt x="5" y="5"/>
                </a:cubicBezTo>
                <a:cubicBezTo>
                  <a:pt x="42" y="5"/>
                  <a:pt x="42" y="5"/>
                  <a:pt x="42" y="5"/>
                </a:cubicBezTo>
                <a:lnTo>
                  <a:pt x="42" y="7"/>
                </a:lnTo>
                <a:close/>
                <a:moveTo>
                  <a:pt x="9" y="19"/>
                </a:moveTo>
                <a:cubicBezTo>
                  <a:pt x="9" y="20"/>
                  <a:pt x="9" y="20"/>
                  <a:pt x="9" y="20"/>
                </a:cubicBezTo>
                <a:cubicBezTo>
                  <a:pt x="11" y="20"/>
                  <a:pt x="11" y="20"/>
                  <a:pt x="11" y="20"/>
                </a:cubicBezTo>
                <a:cubicBezTo>
                  <a:pt x="11" y="19"/>
                  <a:pt x="11" y="19"/>
                  <a:pt x="11" y="19"/>
                </a:cubicBezTo>
                <a:lnTo>
                  <a:pt x="9" y="19"/>
                </a:lnTo>
                <a:close/>
                <a:moveTo>
                  <a:pt x="18" y="22"/>
                </a:moveTo>
                <a:cubicBezTo>
                  <a:pt x="18" y="23"/>
                  <a:pt x="18" y="23"/>
                  <a:pt x="18" y="23"/>
                </a:cubicBezTo>
                <a:cubicBezTo>
                  <a:pt x="21" y="23"/>
                  <a:pt x="21" y="23"/>
                  <a:pt x="21" y="23"/>
                </a:cubicBezTo>
                <a:cubicBezTo>
                  <a:pt x="21" y="22"/>
                  <a:pt x="21" y="22"/>
                  <a:pt x="21" y="22"/>
                </a:cubicBezTo>
                <a:cubicBezTo>
                  <a:pt x="22" y="22"/>
                  <a:pt x="22" y="22"/>
                  <a:pt x="22" y="22"/>
                </a:cubicBezTo>
                <a:cubicBezTo>
                  <a:pt x="22" y="20"/>
                  <a:pt x="22" y="20"/>
                  <a:pt x="22" y="20"/>
                </a:cubicBezTo>
                <a:cubicBezTo>
                  <a:pt x="23" y="20"/>
                  <a:pt x="23" y="20"/>
                  <a:pt x="23" y="20"/>
                </a:cubicBezTo>
                <a:cubicBezTo>
                  <a:pt x="23" y="19"/>
                  <a:pt x="23" y="19"/>
                  <a:pt x="23" y="19"/>
                </a:cubicBezTo>
                <a:cubicBezTo>
                  <a:pt x="21" y="19"/>
                  <a:pt x="21" y="19"/>
                  <a:pt x="21" y="19"/>
                </a:cubicBezTo>
                <a:cubicBezTo>
                  <a:pt x="21" y="20"/>
                  <a:pt x="21" y="20"/>
                  <a:pt x="21" y="20"/>
                </a:cubicBezTo>
                <a:cubicBezTo>
                  <a:pt x="19" y="20"/>
                  <a:pt x="19" y="20"/>
                  <a:pt x="19" y="20"/>
                </a:cubicBezTo>
                <a:cubicBezTo>
                  <a:pt x="19" y="22"/>
                  <a:pt x="19" y="22"/>
                  <a:pt x="19" y="22"/>
                </a:cubicBezTo>
                <a:lnTo>
                  <a:pt x="18" y="22"/>
                </a:lnTo>
                <a:close/>
                <a:moveTo>
                  <a:pt x="23" y="23"/>
                </a:moveTo>
                <a:cubicBezTo>
                  <a:pt x="23" y="22"/>
                  <a:pt x="23" y="22"/>
                  <a:pt x="23" y="22"/>
                </a:cubicBezTo>
                <a:cubicBezTo>
                  <a:pt x="22" y="22"/>
                  <a:pt x="22" y="22"/>
                  <a:pt x="22" y="22"/>
                </a:cubicBezTo>
                <a:cubicBezTo>
                  <a:pt x="22" y="23"/>
                  <a:pt x="22" y="23"/>
                  <a:pt x="22" y="23"/>
                </a:cubicBezTo>
                <a:lnTo>
                  <a:pt x="23" y="23"/>
                </a:lnTo>
                <a:close/>
                <a:moveTo>
                  <a:pt x="16" y="23"/>
                </a:moveTo>
                <a:cubicBezTo>
                  <a:pt x="16" y="22"/>
                  <a:pt x="16" y="22"/>
                  <a:pt x="16" y="22"/>
                </a:cubicBezTo>
                <a:cubicBezTo>
                  <a:pt x="14" y="22"/>
                  <a:pt x="14" y="22"/>
                  <a:pt x="14" y="22"/>
                </a:cubicBezTo>
                <a:cubicBezTo>
                  <a:pt x="14" y="23"/>
                  <a:pt x="14" y="23"/>
                  <a:pt x="14" y="23"/>
                </a:cubicBezTo>
                <a:lnTo>
                  <a:pt x="16" y="23"/>
                </a:lnTo>
                <a:close/>
                <a:moveTo>
                  <a:pt x="18" y="20"/>
                </a:moveTo>
                <a:cubicBezTo>
                  <a:pt x="19" y="20"/>
                  <a:pt x="19" y="20"/>
                  <a:pt x="19" y="20"/>
                </a:cubicBezTo>
                <a:cubicBezTo>
                  <a:pt x="19" y="19"/>
                  <a:pt x="19" y="19"/>
                  <a:pt x="19" y="19"/>
                </a:cubicBezTo>
                <a:cubicBezTo>
                  <a:pt x="16" y="19"/>
                  <a:pt x="16" y="19"/>
                  <a:pt x="16" y="19"/>
                </a:cubicBezTo>
                <a:cubicBezTo>
                  <a:pt x="16" y="22"/>
                  <a:pt x="16" y="22"/>
                  <a:pt x="16" y="22"/>
                </a:cubicBezTo>
                <a:cubicBezTo>
                  <a:pt x="18" y="22"/>
                  <a:pt x="18" y="22"/>
                  <a:pt x="18" y="22"/>
                </a:cubicBezTo>
                <a:lnTo>
                  <a:pt x="18" y="20"/>
                </a:lnTo>
                <a:close/>
                <a:moveTo>
                  <a:pt x="12" y="22"/>
                </a:moveTo>
                <a:cubicBezTo>
                  <a:pt x="14" y="22"/>
                  <a:pt x="14" y="22"/>
                  <a:pt x="14" y="22"/>
                </a:cubicBezTo>
                <a:cubicBezTo>
                  <a:pt x="14" y="20"/>
                  <a:pt x="14" y="20"/>
                  <a:pt x="14" y="20"/>
                </a:cubicBezTo>
                <a:cubicBezTo>
                  <a:pt x="15" y="20"/>
                  <a:pt x="15" y="20"/>
                  <a:pt x="15" y="20"/>
                </a:cubicBezTo>
                <a:cubicBezTo>
                  <a:pt x="15" y="19"/>
                  <a:pt x="15" y="19"/>
                  <a:pt x="15" y="19"/>
                </a:cubicBezTo>
                <a:cubicBezTo>
                  <a:pt x="12" y="19"/>
                  <a:pt x="12" y="19"/>
                  <a:pt x="12" y="19"/>
                </a:cubicBezTo>
                <a:cubicBezTo>
                  <a:pt x="12" y="20"/>
                  <a:pt x="12" y="20"/>
                  <a:pt x="12" y="20"/>
                </a:cubicBezTo>
                <a:cubicBezTo>
                  <a:pt x="11" y="20"/>
                  <a:pt x="11" y="20"/>
                  <a:pt x="11" y="20"/>
                </a:cubicBezTo>
                <a:cubicBezTo>
                  <a:pt x="11" y="22"/>
                  <a:pt x="11" y="22"/>
                  <a:pt x="11" y="22"/>
                </a:cubicBezTo>
                <a:cubicBezTo>
                  <a:pt x="9" y="22"/>
                  <a:pt x="9" y="22"/>
                  <a:pt x="9" y="22"/>
                </a:cubicBezTo>
                <a:cubicBezTo>
                  <a:pt x="9" y="23"/>
                  <a:pt x="9" y="23"/>
                  <a:pt x="9" y="23"/>
                </a:cubicBezTo>
                <a:cubicBezTo>
                  <a:pt x="12" y="23"/>
                  <a:pt x="12" y="23"/>
                  <a:pt x="12" y="23"/>
                </a:cubicBezTo>
                <a:lnTo>
                  <a:pt x="12" y="2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63" name="稻壳儿小白白(http://dwz.cn/Wu2UP)"/>
          <p:cNvSpPr/>
          <p:nvPr/>
        </p:nvSpPr>
        <p:spPr>
          <a:xfrm>
            <a:off x="6132600" y="917640"/>
            <a:ext cx="204840" cy="168120"/>
          </a:xfrm>
          <a:custGeom>
            <a:avLst/>
            <a:gdLst/>
            <a:ahLst/>
            <a:rect l="l" t="t" r="r" b="b"/>
            <a:pathLst>
              <a:path w="43" h="35">
                <a:moveTo>
                  <a:pt x="42" y="0"/>
                </a:moveTo>
                <a:cubicBezTo>
                  <a:pt x="41" y="0"/>
                  <a:pt x="1" y="14"/>
                  <a:pt x="1" y="14"/>
                </a:cubicBezTo>
                <a:cubicBezTo>
                  <a:pt x="0" y="15"/>
                  <a:pt x="0" y="15"/>
                  <a:pt x="1" y="16"/>
                </a:cubicBezTo>
                <a:cubicBezTo>
                  <a:pt x="2" y="16"/>
                  <a:pt x="10" y="19"/>
                  <a:pt x="10" y="19"/>
                </a:cubicBezTo>
                <a:cubicBezTo>
                  <a:pt x="10" y="19"/>
                  <a:pt x="10" y="19"/>
                  <a:pt x="10" y="19"/>
                </a:cubicBezTo>
                <a:cubicBezTo>
                  <a:pt x="15" y="21"/>
                  <a:pt x="15" y="21"/>
                  <a:pt x="15" y="21"/>
                </a:cubicBezTo>
                <a:cubicBezTo>
                  <a:pt x="15" y="21"/>
                  <a:pt x="40" y="3"/>
                  <a:pt x="41" y="2"/>
                </a:cubicBezTo>
                <a:cubicBezTo>
                  <a:pt x="41" y="2"/>
                  <a:pt x="41" y="3"/>
                  <a:pt x="41" y="3"/>
                </a:cubicBezTo>
                <a:cubicBezTo>
                  <a:pt x="41" y="3"/>
                  <a:pt x="23" y="23"/>
                  <a:pt x="23" y="23"/>
                </a:cubicBezTo>
                <a:cubicBezTo>
                  <a:pt x="23" y="23"/>
                  <a:pt x="23" y="23"/>
                  <a:pt x="23" y="23"/>
                </a:cubicBezTo>
                <a:cubicBezTo>
                  <a:pt x="22" y="24"/>
                  <a:pt x="22" y="24"/>
                  <a:pt x="22" y="24"/>
                </a:cubicBezTo>
                <a:cubicBezTo>
                  <a:pt x="23" y="25"/>
                  <a:pt x="23" y="25"/>
                  <a:pt x="23" y="25"/>
                </a:cubicBezTo>
                <a:cubicBezTo>
                  <a:pt x="23" y="25"/>
                  <a:pt x="23" y="25"/>
                  <a:pt x="23" y="25"/>
                </a:cubicBezTo>
                <a:cubicBezTo>
                  <a:pt x="23" y="25"/>
                  <a:pt x="34" y="31"/>
                  <a:pt x="35" y="31"/>
                </a:cubicBezTo>
                <a:cubicBezTo>
                  <a:pt x="35" y="31"/>
                  <a:pt x="36" y="31"/>
                  <a:pt x="36" y="30"/>
                </a:cubicBezTo>
                <a:cubicBezTo>
                  <a:pt x="37" y="29"/>
                  <a:pt x="43" y="2"/>
                  <a:pt x="43" y="1"/>
                </a:cubicBezTo>
                <a:cubicBezTo>
                  <a:pt x="43" y="0"/>
                  <a:pt x="43" y="0"/>
                  <a:pt x="42" y="0"/>
                </a:cubicBezTo>
                <a:close/>
                <a:moveTo>
                  <a:pt x="15" y="34"/>
                </a:moveTo>
                <a:cubicBezTo>
                  <a:pt x="15" y="35"/>
                  <a:pt x="15" y="35"/>
                  <a:pt x="16" y="34"/>
                </a:cubicBezTo>
                <a:cubicBezTo>
                  <a:pt x="16" y="34"/>
                  <a:pt x="22" y="28"/>
                  <a:pt x="22" y="28"/>
                </a:cubicBezTo>
                <a:cubicBezTo>
                  <a:pt x="15" y="24"/>
                  <a:pt x="15" y="24"/>
                  <a:pt x="15" y="24"/>
                </a:cubicBezTo>
                <a:lnTo>
                  <a:pt x="15" y="3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64" name="稻壳儿小白白(http://dwz.cn/Wu2UP)"/>
          <p:cNvSpPr/>
          <p:nvPr/>
        </p:nvSpPr>
        <p:spPr>
          <a:xfrm>
            <a:off x="10215720" y="3611520"/>
            <a:ext cx="158760" cy="196920"/>
          </a:xfrm>
          <a:custGeom>
            <a:avLst/>
            <a:gdLst/>
            <a:ahLst/>
            <a:rect l="l" t="t" r="r" b="b"/>
            <a:pathLst>
              <a:path w="33" h="41">
                <a:moveTo>
                  <a:pt x="32" y="27"/>
                </a:moveTo>
                <a:cubicBezTo>
                  <a:pt x="30" y="30"/>
                  <a:pt x="24" y="32"/>
                  <a:pt x="16" y="32"/>
                </a:cubicBezTo>
                <a:cubicBezTo>
                  <a:pt x="9" y="32"/>
                  <a:pt x="3" y="30"/>
                  <a:pt x="1" y="27"/>
                </a:cubicBezTo>
                <a:cubicBezTo>
                  <a:pt x="0" y="26"/>
                  <a:pt x="0" y="27"/>
                  <a:pt x="0" y="27"/>
                </a:cubicBezTo>
                <a:cubicBezTo>
                  <a:pt x="0" y="27"/>
                  <a:pt x="0" y="32"/>
                  <a:pt x="0" y="32"/>
                </a:cubicBezTo>
                <a:cubicBezTo>
                  <a:pt x="0" y="36"/>
                  <a:pt x="7" y="41"/>
                  <a:pt x="16" y="41"/>
                </a:cubicBezTo>
                <a:cubicBezTo>
                  <a:pt x="25" y="41"/>
                  <a:pt x="33" y="36"/>
                  <a:pt x="33" y="32"/>
                </a:cubicBezTo>
                <a:cubicBezTo>
                  <a:pt x="33" y="32"/>
                  <a:pt x="33" y="27"/>
                  <a:pt x="33" y="27"/>
                </a:cubicBezTo>
                <a:cubicBezTo>
                  <a:pt x="33" y="27"/>
                  <a:pt x="33" y="26"/>
                  <a:pt x="32" y="27"/>
                </a:cubicBezTo>
                <a:close/>
                <a:moveTo>
                  <a:pt x="32" y="15"/>
                </a:moveTo>
                <a:cubicBezTo>
                  <a:pt x="30" y="18"/>
                  <a:pt x="24" y="20"/>
                  <a:pt x="16" y="20"/>
                </a:cubicBezTo>
                <a:cubicBezTo>
                  <a:pt x="9" y="20"/>
                  <a:pt x="2" y="18"/>
                  <a:pt x="1" y="15"/>
                </a:cubicBezTo>
                <a:cubicBezTo>
                  <a:pt x="0" y="14"/>
                  <a:pt x="0" y="15"/>
                  <a:pt x="0" y="15"/>
                </a:cubicBezTo>
                <a:cubicBezTo>
                  <a:pt x="0" y="15"/>
                  <a:pt x="0" y="20"/>
                  <a:pt x="0" y="20"/>
                </a:cubicBezTo>
                <a:cubicBezTo>
                  <a:pt x="0" y="25"/>
                  <a:pt x="7" y="28"/>
                  <a:pt x="16" y="28"/>
                </a:cubicBezTo>
                <a:cubicBezTo>
                  <a:pt x="25" y="28"/>
                  <a:pt x="33" y="25"/>
                  <a:pt x="33" y="20"/>
                </a:cubicBezTo>
                <a:cubicBezTo>
                  <a:pt x="33" y="20"/>
                  <a:pt x="33" y="15"/>
                  <a:pt x="33" y="15"/>
                </a:cubicBezTo>
                <a:cubicBezTo>
                  <a:pt x="33" y="15"/>
                  <a:pt x="33" y="14"/>
                  <a:pt x="32" y="15"/>
                </a:cubicBezTo>
                <a:close/>
                <a:moveTo>
                  <a:pt x="16" y="0"/>
                </a:moveTo>
                <a:cubicBezTo>
                  <a:pt x="7" y="0"/>
                  <a:pt x="0" y="2"/>
                  <a:pt x="0" y="6"/>
                </a:cubicBezTo>
                <a:cubicBezTo>
                  <a:pt x="0" y="9"/>
                  <a:pt x="0" y="9"/>
                  <a:pt x="0" y="9"/>
                </a:cubicBezTo>
                <a:cubicBezTo>
                  <a:pt x="0" y="12"/>
                  <a:pt x="7" y="15"/>
                  <a:pt x="16" y="15"/>
                </a:cubicBezTo>
                <a:cubicBezTo>
                  <a:pt x="25" y="15"/>
                  <a:pt x="33" y="12"/>
                  <a:pt x="33" y="9"/>
                </a:cubicBezTo>
                <a:cubicBezTo>
                  <a:pt x="33" y="6"/>
                  <a:pt x="33" y="6"/>
                  <a:pt x="33" y="6"/>
                </a:cubicBezTo>
                <a:cubicBezTo>
                  <a:pt x="33" y="2"/>
                  <a:pt x="25" y="0"/>
                  <a:pt x="16" y="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65" name="稻壳儿小白白(http://dwz.cn/Wu2UP)"/>
          <p:cNvSpPr/>
          <p:nvPr/>
        </p:nvSpPr>
        <p:spPr>
          <a:xfrm>
            <a:off x="3894120" y="2700360"/>
            <a:ext cx="176400" cy="208080"/>
          </a:xfrm>
          <a:custGeom>
            <a:avLst/>
            <a:gdLst/>
            <a:ahLst/>
            <a:rect l="l" t="t" r="r" b="b"/>
            <a:pathLst>
              <a:path w="37" h="43">
                <a:moveTo>
                  <a:pt x="32" y="0"/>
                </a:moveTo>
                <a:cubicBezTo>
                  <a:pt x="4" y="0"/>
                  <a:pt x="4" y="0"/>
                  <a:pt x="4" y="0"/>
                </a:cubicBezTo>
                <a:cubicBezTo>
                  <a:pt x="2" y="0"/>
                  <a:pt x="0" y="3"/>
                  <a:pt x="0" y="5"/>
                </a:cubicBezTo>
                <a:cubicBezTo>
                  <a:pt x="0" y="38"/>
                  <a:pt x="0" y="38"/>
                  <a:pt x="0" y="38"/>
                </a:cubicBezTo>
                <a:cubicBezTo>
                  <a:pt x="0" y="41"/>
                  <a:pt x="2" y="43"/>
                  <a:pt x="4" y="43"/>
                </a:cubicBezTo>
                <a:cubicBezTo>
                  <a:pt x="32" y="43"/>
                  <a:pt x="32" y="43"/>
                  <a:pt x="32" y="43"/>
                </a:cubicBezTo>
                <a:cubicBezTo>
                  <a:pt x="35" y="43"/>
                  <a:pt x="37" y="41"/>
                  <a:pt x="37" y="38"/>
                </a:cubicBezTo>
                <a:cubicBezTo>
                  <a:pt x="37" y="5"/>
                  <a:pt x="37" y="5"/>
                  <a:pt x="37" y="5"/>
                </a:cubicBezTo>
                <a:cubicBezTo>
                  <a:pt x="37" y="3"/>
                  <a:pt x="35" y="0"/>
                  <a:pt x="32" y="0"/>
                </a:cubicBezTo>
                <a:close/>
                <a:moveTo>
                  <a:pt x="32" y="38"/>
                </a:moveTo>
                <a:cubicBezTo>
                  <a:pt x="4" y="38"/>
                  <a:pt x="4" y="38"/>
                  <a:pt x="4" y="38"/>
                </a:cubicBezTo>
                <a:cubicBezTo>
                  <a:pt x="4" y="5"/>
                  <a:pt x="4" y="5"/>
                  <a:pt x="4" y="5"/>
                </a:cubicBezTo>
                <a:cubicBezTo>
                  <a:pt x="32" y="5"/>
                  <a:pt x="32" y="5"/>
                  <a:pt x="32" y="5"/>
                </a:cubicBezTo>
                <a:lnTo>
                  <a:pt x="32" y="38"/>
                </a:lnTo>
                <a:close/>
                <a:moveTo>
                  <a:pt x="21" y="26"/>
                </a:moveTo>
                <a:cubicBezTo>
                  <a:pt x="9" y="26"/>
                  <a:pt x="9" y="26"/>
                  <a:pt x="9" y="26"/>
                </a:cubicBezTo>
                <a:cubicBezTo>
                  <a:pt x="9" y="29"/>
                  <a:pt x="9" y="29"/>
                  <a:pt x="9" y="29"/>
                </a:cubicBezTo>
                <a:cubicBezTo>
                  <a:pt x="21" y="29"/>
                  <a:pt x="21" y="29"/>
                  <a:pt x="21" y="29"/>
                </a:cubicBezTo>
                <a:lnTo>
                  <a:pt x="21" y="26"/>
                </a:lnTo>
                <a:close/>
                <a:moveTo>
                  <a:pt x="28" y="17"/>
                </a:moveTo>
                <a:cubicBezTo>
                  <a:pt x="18" y="17"/>
                  <a:pt x="18" y="17"/>
                  <a:pt x="18" y="17"/>
                </a:cubicBezTo>
                <a:cubicBezTo>
                  <a:pt x="18" y="19"/>
                  <a:pt x="18" y="19"/>
                  <a:pt x="18" y="19"/>
                </a:cubicBezTo>
                <a:cubicBezTo>
                  <a:pt x="28" y="19"/>
                  <a:pt x="28" y="19"/>
                  <a:pt x="28" y="19"/>
                </a:cubicBezTo>
                <a:lnTo>
                  <a:pt x="28" y="17"/>
                </a:lnTo>
                <a:close/>
                <a:moveTo>
                  <a:pt x="18" y="15"/>
                </a:moveTo>
                <a:cubicBezTo>
                  <a:pt x="28" y="15"/>
                  <a:pt x="28" y="15"/>
                  <a:pt x="28" y="15"/>
                </a:cubicBezTo>
                <a:cubicBezTo>
                  <a:pt x="28" y="10"/>
                  <a:pt x="28" y="10"/>
                  <a:pt x="28" y="10"/>
                </a:cubicBezTo>
                <a:cubicBezTo>
                  <a:pt x="18" y="10"/>
                  <a:pt x="18" y="10"/>
                  <a:pt x="18" y="10"/>
                </a:cubicBezTo>
                <a:lnTo>
                  <a:pt x="18" y="15"/>
                </a:lnTo>
                <a:close/>
                <a:moveTo>
                  <a:pt x="16" y="10"/>
                </a:moveTo>
                <a:cubicBezTo>
                  <a:pt x="9" y="10"/>
                  <a:pt x="9" y="10"/>
                  <a:pt x="9" y="10"/>
                </a:cubicBezTo>
                <a:cubicBezTo>
                  <a:pt x="9" y="19"/>
                  <a:pt x="9" y="19"/>
                  <a:pt x="9" y="19"/>
                </a:cubicBezTo>
                <a:cubicBezTo>
                  <a:pt x="16" y="19"/>
                  <a:pt x="16" y="19"/>
                  <a:pt x="16" y="19"/>
                </a:cubicBezTo>
                <a:lnTo>
                  <a:pt x="16" y="10"/>
                </a:lnTo>
                <a:close/>
                <a:moveTo>
                  <a:pt x="14" y="22"/>
                </a:moveTo>
                <a:cubicBezTo>
                  <a:pt x="9" y="22"/>
                  <a:pt x="9" y="22"/>
                  <a:pt x="9" y="22"/>
                </a:cubicBezTo>
                <a:cubicBezTo>
                  <a:pt x="9" y="24"/>
                  <a:pt x="9" y="24"/>
                  <a:pt x="9" y="24"/>
                </a:cubicBezTo>
                <a:cubicBezTo>
                  <a:pt x="14" y="24"/>
                  <a:pt x="14" y="24"/>
                  <a:pt x="14" y="24"/>
                </a:cubicBezTo>
                <a:lnTo>
                  <a:pt x="14" y="22"/>
                </a:lnTo>
                <a:close/>
                <a:moveTo>
                  <a:pt x="16" y="24"/>
                </a:moveTo>
                <a:cubicBezTo>
                  <a:pt x="28" y="24"/>
                  <a:pt x="28" y="24"/>
                  <a:pt x="28" y="24"/>
                </a:cubicBezTo>
                <a:cubicBezTo>
                  <a:pt x="28" y="22"/>
                  <a:pt x="28" y="22"/>
                  <a:pt x="28" y="22"/>
                </a:cubicBezTo>
                <a:cubicBezTo>
                  <a:pt x="16" y="22"/>
                  <a:pt x="16" y="22"/>
                  <a:pt x="16" y="22"/>
                </a:cubicBezTo>
                <a:lnTo>
                  <a:pt x="16" y="24"/>
                </a:lnTo>
                <a:close/>
                <a:moveTo>
                  <a:pt x="28" y="31"/>
                </a:moveTo>
                <a:cubicBezTo>
                  <a:pt x="9" y="31"/>
                  <a:pt x="9" y="31"/>
                  <a:pt x="9" y="31"/>
                </a:cubicBezTo>
                <a:cubicBezTo>
                  <a:pt x="9" y="33"/>
                  <a:pt x="9" y="33"/>
                  <a:pt x="9" y="33"/>
                </a:cubicBezTo>
                <a:cubicBezTo>
                  <a:pt x="28" y="33"/>
                  <a:pt x="28" y="33"/>
                  <a:pt x="28" y="33"/>
                </a:cubicBezTo>
                <a:lnTo>
                  <a:pt x="28" y="31"/>
                </a:lnTo>
                <a:close/>
                <a:moveTo>
                  <a:pt x="23" y="29"/>
                </a:moveTo>
                <a:cubicBezTo>
                  <a:pt x="28" y="29"/>
                  <a:pt x="28" y="29"/>
                  <a:pt x="28" y="29"/>
                </a:cubicBezTo>
                <a:cubicBezTo>
                  <a:pt x="28" y="26"/>
                  <a:pt x="28" y="26"/>
                  <a:pt x="28" y="26"/>
                </a:cubicBezTo>
                <a:cubicBezTo>
                  <a:pt x="23" y="26"/>
                  <a:pt x="23" y="26"/>
                  <a:pt x="23" y="26"/>
                </a:cubicBezTo>
                <a:lnTo>
                  <a:pt x="23" y="2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66" name="稻壳儿小白白(http://dwz.cn/Wu2UP)"/>
          <p:cNvSpPr/>
          <p:nvPr/>
        </p:nvSpPr>
        <p:spPr>
          <a:xfrm>
            <a:off x="7962840" y="5457960"/>
            <a:ext cx="158760" cy="109440"/>
          </a:xfrm>
          <a:custGeom>
            <a:avLst/>
            <a:gdLst/>
            <a:ahLst/>
            <a:rect l="l" t="t" r="r" b="b"/>
            <a:pathLst>
              <a:path w="33" h="23">
                <a:moveTo>
                  <a:pt x="4" y="19"/>
                </a:moveTo>
                <a:cubicBezTo>
                  <a:pt x="2" y="19"/>
                  <a:pt x="2" y="19"/>
                  <a:pt x="2" y="19"/>
                </a:cubicBezTo>
                <a:cubicBezTo>
                  <a:pt x="1" y="19"/>
                  <a:pt x="0" y="20"/>
                  <a:pt x="0" y="21"/>
                </a:cubicBezTo>
                <a:cubicBezTo>
                  <a:pt x="0" y="22"/>
                  <a:pt x="1" y="23"/>
                  <a:pt x="2" y="23"/>
                </a:cubicBezTo>
                <a:cubicBezTo>
                  <a:pt x="4" y="23"/>
                  <a:pt x="4" y="23"/>
                  <a:pt x="4" y="23"/>
                </a:cubicBezTo>
                <a:cubicBezTo>
                  <a:pt x="6" y="23"/>
                  <a:pt x="7" y="22"/>
                  <a:pt x="7" y="21"/>
                </a:cubicBezTo>
                <a:cubicBezTo>
                  <a:pt x="7" y="20"/>
                  <a:pt x="6" y="19"/>
                  <a:pt x="4" y="19"/>
                </a:cubicBezTo>
                <a:close/>
                <a:moveTo>
                  <a:pt x="4" y="9"/>
                </a:moveTo>
                <a:cubicBezTo>
                  <a:pt x="2" y="9"/>
                  <a:pt x="2" y="9"/>
                  <a:pt x="2" y="9"/>
                </a:cubicBezTo>
                <a:cubicBezTo>
                  <a:pt x="1" y="9"/>
                  <a:pt x="0" y="10"/>
                  <a:pt x="0" y="12"/>
                </a:cubicBezTo>
                <a:cubicBezTo>
                  <a:pt x="0" y="13"/>
                  <a:pt x="1" y="14"/>
                  <a:pt x="2" y="14"/>
                </a:cubicBezTo>
                <a:cubicBezTo>
                  <a:pt x="4" y="14"/>
                  <a:pt x="4" y="14"/>
                  <a:pt x="4" y="14"/>
                </a:cubicBezTo>
                <a:cubicBezTo>
                  <a:pt x="6" y="14"/>
                  <a:pt x="7" y="13"/>
                  <a:pt x="7" y="12"/>
                </a:cubicBezTo>
                <a:cubicBezTo>
                  <a:pt x="7" y="10"/>
                  <a:pt x="6" y="9"/>
                  <a:pt x="4" y="9"/>
                </a:cubicBezTo>
                <a:close/>
                <a:moveTo>
                  <a:pt x="4" y="0"/>
                </a:moveTo>
                <a:cubicBezTo>
                  <a:pt x="2" y="0"/>
                  <a:pt x="2" y="0"/>
                  <a:pt x="2" y="0"/>
                </a:cubicBezTo>
                <a:cubicBezTo>
                  <a:pt x="1" y="0"/>
                  <a:pt x="0" y="1"/>
                  <a:pt x="0" y="2"/>
                </a:cubicBezTo>
                <a:cubicBezTo>
                  <a:pt x="0" y="4"/>
                  <a:pt x="1" y="5"/>
                  <a:pt x="2" y="5"/>
                </a:cubicBezTo>
                <a:cubicBezTo>
                  <a:pt x="4" y="5"/>
                  <a:pt x="4" y="5"/>
                  <a:pt x="4" y="5"/>
                </a:cubicBezTo>
                <a:cubicBezTo>
                  <a:pt x="6" y="5"/>
                  <a:pt x="7" y="4"/>
                  <a:pt x="7" y="2"/>
                </a:cubicBezTo>
                <a:cubicBezTo>
                  <a:pt x="7" y="1"/>
                  <a:pt x="6" y="0"/>
                  <a:pt x="4" y="0"/>
                </a:cubicBezTo>
                <a:close/>
                <a:moveTo>
                  <a:pt x="14" y="5"/>
                </a:moveTo>
                <a:cubicBezTo>
                  <a:pt x="30" y="5"/>
                  <a:pt x="30" y="5"/>
                  <a:pt x="30" y="5"/>
                </a:cubicBezTo>
                <a:cubicBezTo>
                  <a:pt x="31" y="5"/>
                  <a:pt x="33" y="4"/>
                  <a:pt x="33" y="2"/>
                </a:cubicBezTo>
                <a:cubicBezTo>
                  <a:pt x="33" y="1"/>
                  <a:pt x="31" y="0"/>
                  <a:pt x="30" y="0"/>
                </a:cubicBezTo>
                <a:cubicBezTo>
                  <a:pt x="14" y="0"/>
                  <a:pt x="14" y="0"/>
                  <a:pt x="14" y="0"/>
                </a:cubicBezTo>
                <a:cubicBezTo>
                  <a:pt x="12" y="0"/>
                  <a:pt x="11" y="1"/>
                  <a:pt x="11" y="2"/>
                </a:cubicBezTo>
                <a:cubicBezTo>
                  <a:pt x="11" y="4"/>
                  <a:pt x="12" y="5"/>
                  <a:pt x="14" y="5"/>
                </a:cubicBezTo>
                <a:close/>
                <a:moveTo>
                  <a:pt x="30" y="9"/>
                </a:moveTo>
                <a:cubicBezTo>
                  <a:pt x="14" y="9"/>
                  <a:pt x="14" y="9"/>
                  <a:pt x="14" y="9"/>
                </a:cubicBezTo>
                <a:cubicBezTo>
                  <a:pt x="12" y="9"/>
                  <a:pt x="11" y="10"/>
                  <a:pt x="11" y="12"/>
                </a:cubicBezTo>
                <a:cubicBezTo>
                  <a:pt x="11" y="13"/>
                  <a:pt x="12" y="14"/>
                  <a:pt x="14" y="14"/>
                </a:cubicBezTo>
                <a:cubicBezTo>
                  <a:pt x="30" y="14"/>
                  <a:pt x="30" y="14"/>
                  <a:pt x="30" y="14"/>
                </a:cubicBezTo>
                <a:cubicBezTo>
                  <a:pt x="31" y="14"/>
                  <a:pt x="33" y="13"/>
                  <a:pt x="33" y="12"/>
                </a:cubicBezTo>
                <a:cubicBezTo>
                  <a:pt x="33" y="10"/>
                  <a:pt x="31" y="9"/>
                  <a:pt x="30" y="9"/>
                </a:cubicBezTo>
                <a:close/>
                <a:moveTo>
                  <a:pt x="30" y="19"/>
                </a:moveTo>
                <a:cubicBezTo>
                  <a:pt x="14" y="19"/>
                  <a:pt x="14" y="19"/>
                  <a:pt x="14" y="19"/>
                </a:cubicBezTo>
                <a:cubicBezTo>
                  <a:pt x="12" y="19"/>
                  <a:pt x="11" y="20"/>
                  <a:pt x="11" y="21"/>
                </a:cubicBezTo>
                <a:cubicBezTo>
                  <a:pt x="11" y="22"/>
                  <a:pt x="12" y="23"/>
                  <a:pt x="14" y="23"/>
                </a:cubicBezTo>
                <a:cubicBezTo>
                  <a:pt x="30" y="23"/>
                  <a:pt x="30" y="23"/>
                  <a:pt x="30" y="23"/>
                </a:cubicBezTo>
                <a:cubicBezTo>
                  <a:pt x="31" y="23"/>
                  <a:pt x="33" y="22"/>
                  <a:pt x="33" y="21"/>
                </a:cubicBezTo>
                <a:cubicBezTo>
                  <a:pt x="33" y="20"/>
                  <a:pt x="31" y="19"/>
                  <a:pt x="30" y="19"/>
                </a:cubicBezTo>
                <a:close/>
              </a:path>
            </a:pathLst>
          </a:custGeom>
          <a:solidFill>
            <a:srgbClr val="ffffff"/>
          </a:solidFill>
          <a:ln w="0">
            <a:noFill/>
          </a:ln>
        </p:spPr>
        <p:style>
          <a:lnRef idx="0"/>
          <a:fillRef idx="0"/>
          <a:effectRef idx="0"/>
          <a:fontRef idx="minor"/>
        </p:style>
        <p:txBody>
          <a:bodyPr lIns="121680" rIns="121680" tIns="48600" bIns="48600" anchor="t">
            <a:noAutofit/>
          </a:bodyPr>
          <a:p>
            <a:endParaRPr b="0" lang="en-US" sz="1800" spc="-1" strike="noStrike">
              <a:solidFill>
                <a:srgbClr val="000000"/>
              </a:solidFill>
              <a:latin typeface="Arial"/>
            </a:endParaRPr>
          </a:p>
        </p:txBody>
      </p:sp>
      <p:sp>
        <p:nvSpPr>
          <p:cNvPr id="1067" name="稻壳儿小白白(http://dwz.cn/Wu2UP)"/>
          <p:cNvSpPr/>
          <p:nvPr/>
        </p:nvSpPr>
        <p:spPr>
          <a:xfrm>
            <a:off x="9286920" y="2246400"/>
            <a:ext cx="208080" cy="218880"/>
          </a:xfrm>
          <a:custGeom>
            <a:avLst/>
            <a:gdLst/>
            <a:ahLst/>
            <a:rect l="l" t="t" r="r" b="b"/>
            <a:pathLst>
              <a:path w="43" h="46">
                <a:moveTo>
                  <a:pt x="42" y="28"/>
                </a:moveTo>
                <a:cubicBezTo>
                  <a:pt x="38" y="25"/>
                  <a:pt x="38" y="25"/>
                  <a:pt x="38" y="25"/>
                </a:cubicBezTo>
                <a:cubicBezTo>
                  <a:pt x="37" y="24"/>
                  <a:pt x="37" y="22"/>
                  <a:pt x="38" y="21"/>
                </a:cubicBezTo>
                <a:cubicBezTo>
                  <a:pt x="42" y="17"/>
                  <a:pt x="42" y="17"/>
                  <a:pt x="42" y="17"/>
                </a:cubicBezTo>
                <a:cubicBezTo>
                  <a:pt x="43" y="16"/>
                  <a:pt x="43" y="15"/>
                  <a:pt x="41" y="15"/>
                </a:cubicBezTo>
                <a:cubicBezTo>
                  <a:pt x="36" y="15"/>
                  <a:pt x="36" y="15"/>
                  <a:pt x="36" y="15"/>
                </a:cubicBezTo>
                <a:cubicBezTo>
                  <a:pt x="34" y="14"/>
                  <a:pt x="34" y="13"/>
                  <a:pt x="34" y="12"/>
                </a:cubicBezTo>
                <a:cubicBezTo>
                  <a:pt x="37" y="4"/>
                  <a:pt x="37" y="4"/>
                  <a:pt x="37" y="4"/>
                </a:cubicBezTo>
                <a:cubicBezTo>
                  <a:pt x="37" y="2"/>
                  <a:pt x="37" y="2"/>
                  <a:pt x="36" y="2"/>
                </a:cubicBezTo>
                <a:cubicBezTo>
                  <a:pt x="29" y="6"/>
                  <a:pt x="29" y="6"/>
                  <a:pt x="29" y="6"/>
                </a:cubicBezTo>
                <a:cubicBezTo>
                  <a:pt x="28" y="7"/>
                  <a:pt x="26" y="7"/>
                  <a:pt x="25" y="5"/>
                </a:cubicBezTo>
                <a:cubicBezTo>
                  <a:pt x="23" y="1"/>
                  <a:pt x="23" y="1"/>
                  <a:pt x="23" y="1"/>
                </a:cubicBezTo>
                <a:cubicBezTo>
                  <a:pt x="22" y="0"/>
                  <a:pt x="21" y="0"/>
                  <a:pt x="20" y="1"/>
                </a:cubicBezTo>
                <a:cubicBezTo>
                  <a:pt x="18" y="5"/>
                  <a:pt x="18" y="5"/>
                  <a:pt x="18" y="5"/>
                </a:cubicBezTo>
                <a:cubicBezTo>
                  <a:pt x="17" y="6"/>
                  <a:pt x="15" y="7"/>
                  <a:pt x="14" y="6"/>
                </a:cubicBezTo>
                <a:cubicBezTo>
                  <a:pt x="10" y="5"/>
                  <a:pt x="10" y="5"/>
                  <a:pt x="10" y="5"/>
                </a:cubicBezTo>
                <a:cubicBezTo>
                  <a:pt x="9" y="4"/>
                  <a:pt x="8" y="5"/>
                  <a:pt x="8" y="6"/>
                </a:cubicBezTo>
                <a:cubicBezTo>
                  <a:pt x="8" y="10"/>
                  <a:pt x="8" y="10"/>
                  <a:pt x="8" y="10"/>
                </a:cubicBezTo>
                <a:cubicBezTo>
                  <a:pt x="8" y="12"/>
                  <a:pt x="7" y="13"/>
                  <a:pt x="5" y="14"/>
                </a:cubicBezTo>
                <a:cubicBezTo>
                  <a:pt x="2" y="15"/>
                  <a:pt x="2" y="15"/>
                  <a:pt x="2" y="15"/>
                </a:cubicBezTo>
                <a:cubicBezTo>
                  <a:pt x="0" y="15"/>
                  <a:pt x="0" y="16"/>
                  <a:pt x="1" y="17"/>
                </a:cubicBezTo>
                <a:cubicBezTo>
                  <a:pt x="5" y="21"/>
                  <a:pt x="5" y="21"/>
                  <a:pt x="5" y="21"/>
                </a:cubicBezTo>
                <a:cubicBezTo>
                  <a:pt x="6" y="22"/>
                  <a:pt x="6" y="24"/>
                  <a:pt x="5" y="25"/>
                </a:cubicBezTo>
                <a:cubicBezTo>
                  <a:pt x="1" y="28"/>
                  <a:pt x="1" y="28"/>
                  <a:pt x="1" y="28"/>
                </a:cubicBezTo>
                <a:cubicBezTo>
                  <a:pt x="0" y="29"/>
                  <a:pt x="0" y="30"/>
                  <a:pt x="2" y="30"/>
                </a:cubicBezTo>
                <a:cubicBezTo>
                  <a:pt x="7" y="31"/>
                  <a:pt x="7" y="31"/>
                  <a:pt x="7" y="31"/>
                </a:cubicBezTo>
                <a:cubicBezTo>
                  <a:pt x="8" y="31"/>
                  <a:pt x="9" y="33"/>
                  <a:pt x="9" y="34"/>
                </a:cubicBezTo>
                <a:cubicBezTo>
                  <a:pt x="6" y="42"/>
                  <a:pt x="6" y="42"/>
                  <a:pt x="6" y="42"/>
                </a:cubicBezTo>
                <a:cubicBezTo>
                  <a:pt x="6" y="43"/>
                  <a:pt x="6" y="44"/>
                  <a:pt x="8" y="43"/>
                </a:cubicBezTo>
                <a:cubicBezTo>
                  <a:pt x="14" y="40"/>
                  <a:pt x="14" y="40"/>
                  <a:pt x="14" y="40"/>
                </a:cubicBezTo>
                <a:cubicBezTo>
                  <a:pt x="15" y="39"/>
                  <a:pt x="17" y="39"/>
                  <a:pt x="18" y="41"/>
                </a:cubicBezTo>
                <a:cubicBezTo>
                  <a:pt x="20" y="44"/>
                  <a:pt x="20" y="44"/>
                  <a:pt x="20" y="44"/>
                </a:cubicBezTo>
                <a:cubicBezTo>
                  <a:pt x="21" y="46"/>
                  <a:pt x="22" y="46"/>
                  <a:pt x="23" y="44"/>
                </a:cubicBezTo>
                <a:cubicBezTo>
                  <a:pt x="25" y="40"/>
                  <a:pt x="25" y="40"/>
                  <a:pt x="25" y="40"/>
                </a:cubicBezTo>
                <a:cubicBezTo>
                  <a:pt x="26" y="39"/>
                  <a:pt x="28" y="38"/>
                  <a:pt x="29" y="39"/>
                </a:cubicBezTo>
                <a:cubicBezTo>
                  <a:pt x="33" y="41"/>
                  <a:pt x="33" y="41"/>
                  <a:pt x="33" y="41"/>
                </a:cubicBezTo>
                <a:cubicBezTo>
                  <a:pt x="34" y="42"/>
                  <a:pt x="35" y="41"/>
                  <a:pt x="35" y="39"/>
                </a:cubicBezTo>
                <a:cubicBezTo>
                  <a:pt x="35" y="35"/>
                  <a:pt x="35" y="35"/>
                  <a:pt x="35" y="35"/>
                </a:cubicBezTo>
                <a:cubicBezTo>
                  <a:pt x="35" y="34"/>
                  <a:pt x="36" y="32"/>
                  <a:pt x="38" y="32"/>
                </a:cubicBezTo>
                <a:cubicBezTo>
                  <a:pt x="41" y="31"/>
                  <a:pt x="41" y="31"/>
                  <a:pt x="41" y="31"/>
                </a:cubicBezTo>
                <a:cubicBezTo>
                  <a:pt x="43" y="30"/>
                  <a:pt x="43" y="29"/>
                  <a:pt x="42" y="28"/>
                </a:cubicBezTo>
                <a:close/>
                <a:moveTo>
                  <a:pt x="24" y="33"/>
                </a:moveTo>
                <a:cubicBezTo>
                  <a:pt x="19" y="33"/>
                  <a:pt x="19" y="33"/>
                  <a:pt x="19" y="33"/>
                </a:cubicBezTo>
                <a:cubicBezTo>
                  <a:pt x="19" y="28"/>
                  <a:pt x="19" y="28"/>
                  <a:pt x="19" y="28"/>
                </a:cubicBezTo>
                <a:cubicBezTo>
                  <a:pt x="24" y="28"/>
                  <a:pt x="24" y="28"/>
                  <a:pt x="24" y="28"/>
                </a:cubicBezTo>
                <a:lnTo>
                  <a:pt x="24" y="33"/>
                </a:lnTo>
                <a:close/>
                <a:moveTo>
                  <a:pt x="24" y="25"/>
                </a:moveTo>
                <a:cubicBezTo>
                  <a:pt x="19" y="25"/>
                  <a:pt x="19" y="25"/>
                  <a:pt x="19" y="25"/>
                </a:cubicBezTo>
                <a:cubicBezTo>
                  <a:pt x="19" y="13"/>
                  <a:pt x="19" y="13"/>
                  <a:pt x="19" y="13"/>
                </a:cubicBezTo>
                <a:cubicBezTo>
                  <a:pt x="24" y="13"/>
                  <a:pt x="24" y="13"/>
                  <a:pt x="24" y="13"/>
                </a:cubicBezTo>
                <a:lnTo>
                  <a:pt x="24" y="25"/>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68" name="稻壳儿小白白(http://dwz.cn/Wu2UP)"/>
          <p:cNvSpPr/>
          <p:nvPr/>
        </p:nvSpPr>
        <p:spPr>
          <a:xfrm>
            <a:off x="5246640" y="3139920"/>
            <a:ext cx="179280" cy="228600"/>
          </a:xfrm>
          <a:custGeom>
            <a:avLst/>
            <a:gdLst/>
            <a:ahLst/>
            <a:rect l="l" t="t" r="r" b="b"/>
            <a:pathLst>
              <a:path w="37" h="48">
                <a:moveTo>
                  <a:pt x="36" y="12"/>
                </a:moveTo>
                <a:cubicBezTo>
                  <a:pt x="35" y="5"/>
                  <a:pt x="28" y="0"/>
                  <a:pt x="22" y="2"/>
                </a:cubicBezTo>
                <a:cubicBezTo>
                  <a:pt x="15" y="3"/>
                  <a:pt x="9" y="8"/>
                  <a:pt x="11" y="15"/>
                </a:cubicBezTo>
                <a:cubicBezTo>
                  <a:pt x="11" y="17"/>
                  <a:pt x="12" y="19"/>
                  <a:pt x="12" y="21"/>
                </a:cubicBezTo>
                <a:cubicBezTo>
                  <a:pt x="0" y="39"/>
                  <a:pt x="0" y="39"/>
                  <a:pt x="0" y="39"/>
                </a:cubicBezTo>
                <a:cubicBezTo>
                  <a:pt x="0" y="40"/>
                  <a:pt x="0" y="41"/>
                  <a:pt x="0" y="42"/>
                </a:cubicBezTo>
                <a:cubicBezTo>
                  <a:pt x="0" y="46"/>
                  <a:pt x="0" y="46"/>
                  <a:pt x="0" y="46"/>
                </a:cubicBezTo>
                <a:cubicBezTo>
                  <a:pt x="1" y="47"/>
                  <a:pt x="1" y="48"/>
                  <a:pt x="2" y="47"/>
                </a:cubicBezTo>
                <a:cubicBezTo>
                  <a:pt x="6" y="47"/>
                  <a:pt x="6" y="47"/>
                  <a:pt x="6" y="47"/>
                </a:cubicBezTo>
                <a:cubicBezTo>
                  <a:pt x="6" y="47"/>
                  <a:pt x="7" y="46"/>
                  <a:pt x="8" y="45"/>
                </a:cubicBezTo>
                <a:cubicBezTo>
                  <a:pt x="13" y="37"/>
                  <a:pt x="13" y="37"/>
                  <a:pt x="13" y="37"/>
                </a:cubicBezTo>
                <a:cubicBezTo>
                  <a:pt x="13" y="37"/>
                  <a:pt x="13" y="37"/>
                  <a:pt x="13" y="37"/>
                </a:cubicBezTo>
                <a:cubicBezTo>
                  <a:pt x="16" y="37"/>
                  <a:pt x="16" y="37"/>
                  <a:pt x="16" y="37"/>
                </a:cubicBezTo>
                <a:cubicBezTo>
                  <a:pt x="22" y="28"/>
                  <a:pt x="22" y="28"/>
                  <a:pt x="22" y="28"/>
                </a:cubicBezTo>
                <a:cubicBezTo>
                  <a:pt x="23" y="28"/>
                  <a:pt x="26" y="28"/>
                  <a:pt x="28" y="28"/>
                </a:cubicBezTo>
                <a:cubicBezTo>
                  <a:pt x="34" y="26"/>
                  <a:pt x="37" y="19"/>
                  <a:pt x="36" y="12"/>
                </a:cubicBezTo>
                <a:close/>
                <a:moveTo>
                  <a:pt x="30" y="16"/>
                </a:moveTo>
                <a:cubicBezTo>
                  <a:pt x="28" y="18"/>
                  <a:pt x="26" y="16"/>
                  <a:pt x="24" y="15"/>
                </a:cubicBezTo>
                <a:cubicBezTo>
                  <a:pt x="21" y="13"/>
                  <a:pt x="19" y="11"/>
                  <a:pt x="21" y="9"/>
                </a:cubicBezTo>
                <a:cubicBezTo>
                  <a:pt x="22" y="6"/>
                  <a:pt x="26" y="5"/>
                  <a:pt x="29" y="7"/>
                </a:cubicBezTo>
                <a:cubicBezTo>
                  <a:pt x="31" y="9"/>
                  <a:pt x="32" y="13"/>
                  <a:pt x="30" y="1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69" name="稻壳儿小白白(http://dwz.cn/Wu2UP)"/>
          <p:cNvSpPr/>
          <p:nvPr/>
        </p:nvSpPr>
        <p:spPr>
          <a:xfrm>
            <a:off x="6586560" y="2249640"/>
            <a:ext cx="203040" cy="207720"/>
          </a:xfrm>
          <a:custGeom>
            <a:avLst/>
            <a:gdLst/>
            <a:ahLst/>
            <a:rect l="l" t="t" r="r" b="b"/>
            <a:pathLst>
              <a:path w="42" h="43">
                <a:moveTo>
                  <a:pt x="37" y="15"/>
                </a:moveTo>
                <a:cubicBezTo>
                  <a:pt x="34" y="6"/>
                  <a:pt x="28" y="0"/>
                  <a:pt x="25" y="1"/>
                </a:cubicBezTo>
                <a:cubicBezTo>
                  <a:pt x="20" y="3"/>
                  <a:pt x="28" y="13"/>
                  <a:pt x="3" y="23"/>
                </a:cubicBezTo>
                <a:cubicBezTo>
                  <a:pt x="0" y="24"/>
                  <a:pt x="0" y="28"/>
                  <a:pt x="1" y="30"/>
                </a:cubicBezTo>
                <a:cubicBezTo>
                  <a:pt x="2" y="32"/>
                  <a:pt x="5" y="34"/>
                  <a:pt x="7" y="33"/>
                </a:cubicBezTo>
                <a:cubicBezTo>
                  <a:pt x="7" y="33"/>
                  <a:pt x="9" y="32"/>
                  <a:pt x="9" y="32"/>
                </a:cubicBezTo>
                <a:cubicBezTo>
                  <a:pt x="10" y="35"/>
                  <a:pt x="12" y="33"/>
                  <a:pt x="12" y="35"/>
                </a:cubicBezTo>
                <a:cubicBezTo>
                  <a:pt x="13" y="36"/>
                  <a:pt x="15" y="40"/>
                  <a:pt x="15" y="41"/>
                </a:cubicBezTo>
                <a:cubicBezTo>
                  <a:pt x="16" y="42"/>
                  <a:pt x="17" y="43"/>
                  <a:pt x="18" y="43"/>
                </a:cubicBezTo>
                <a:cubicBezTo>
                  <a:pt x="18" y="42"/>
                  <a:pt x="21" y="41"/>
                  <a:pt x="22" y="41"/>
                </a:cubicBezTo>
                <a:cubicBezTo>
                  <a:pt x="24" y="41"/>
                  <a:pt x="24" y="40"/>
                  <a:pt x="23" y="39"/>
                </a:cubicBezTo>
                <a:cubicBezTo>
                  <a:pt x="23" y="38"/>
                  <a:pt x="22" y="38"/>
                  <a:pt x="21" y="37"/>
                </a:cubicBezTo>
                <a:cubicBezTo>
                  <a:pt x="21" y="36"/>
                  <a:pt x="19" y="33"/>
                  <a:pt x="19" y="32"/>
                </a:cubicBezTo>
                <a:cubicBezTo>
                  <a:pt x="18" y="30"/>
                  <a:pt x="20" y="29"/>
                  <a:pt x="21" y="29"/>
                </a:cubicBezTo>
                <a:cubicBezTo>
                  <a:pt x="33" y="28"/>
                  <a:pt x="35" y="35"/>
                  <a:pt x="39" y="33"/>
                </a:cubicBezTo>
                <a:cubicBezTo>
                  <a:pt x="42" y="32"/>
                  <a:pt x="41" y="23"/>
                  <a:pt x="37" y="15"/>
                </a:cubicBezTo>
                <a:close/>
                <a:moveTo>
                  <a:pt x="36" y="29"/>
                </a:moveTo>
                <a:cubicBezTo>
                  <a:pt x="36" y="29"/>
                  <a:pt x="31" y="25"/>
                  <a:pt x="28" y="19"/>
                </a:cubicBezTo>
                <a:cubicBezTo>
                  <a:pt x="25" y="12"/>
                  <a:pt x="26" y="6"/>
                  <a:pt x="26" y="6"/>
                </a:cubicBezTo>
                <a:cubicBezTo>
                  <a:pt x="27" y="5"/>
                  <a:pt x="31" y="10"/>
                  <a:pt x="34" y="16"/>
                </a:cubicBezTo>
                <a:cubicBezTo>
                  <a:pt x="37" y="23"/>
                  <a:pt x="37" y="29"/>
                  <a:pt x="36" y="2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70" name="稻壳儿小白白(http://dwz.cn/Wu2UP)"/>
          <p:cNvSpPr/>
          <p:nvPr/>
        </p:nvSpPr>
        <p:spPr>
          <a:xfrm>
            <a:off x="6132600" y="3157560"/>
            <a:ext cx="210960" cy="196920"/>
          </a:xfrm>
          <a:custGeom>
            <a:avLst/>
            <a:gdLst/>
            <a:ahLst/>
            <a:rect l="l" t="t" r="r" b="b"/>
            <a:pathLst>
              <a:path w="44" h="41">
                <a:moveTo>
                  <a:pt x="25" y="0"/>
                </a:moveTo>
                <a:cubicBezTo>
                  <a:pt x="25" y="0"/>
                  <a:pt x="25" y="0"/>
                  <a:pt x="25" y="0"/>
                </a:cubicBezTo>
                <a:cubicBezTo>
                  <a:pt x="13" y="0"/>
                  <a:pt x="6" y="4"/>
                  <a:pt x="7" y="7"/>
                </a:cubicBezTo>
                <a:cubicBezTo>
                  <a:pt x="7" y="8"/>
                  <a:pt x="7" y="11"/>
                  <a:pt x="8" y="14"/>
                </a:cubicBezTo>
                <a:cubicBezTo>
                  <a:pt x="2" y="16"/>
                  <a:pt x="0" y="20"/>
                  <a:pt x="0" y="23"/>
                </a:cubicBezTo>
                <a:cubicBezTo>
                  <a:pt x="1" y="26"/>
                  <a:pt x="4" y="30"/>
                  <a:pt x="10" y="30"/>
                </a:cubicBezTo>
                <a:cubicBezTo>
                  <a:pt x="14" y="31"/>
                  <a:pt x="19" y="29"/>
                  <a:pt x="22" y="25"/>
                </a:cubicBezTo>
                <a:cubicBezTo>
                  <a:pt x="22" y="24"/>
                  <a:pt x="22" y="24"/>
                  <a:pt x="22" y="23"/>
                </a:cubicBezTo>
                <a:cubicBezTo>
                  <a:pt x="22" y="21"/>
                  <a:pt x="23" y="20"/>
                  <a:pt x="25" y="20"/>
                </a:cubicBezTo>
                <a:cubicBezTo>
                  <a:pt x="27" y="20"/>
                  <a:pt x="28" y="21"/>
                  <a:pt x="28" y="23"/>
                </a:cubicBezTo>
                <a:cubicBezTo>
                  <a:pt x="28" y="25"/>
                  <a:pt x="27" y="26"/>
                  <a:pt x="25" y="27"/>
                </a:cubicBezTo>
                <a:cubicBezTo>
                  <a:pt x="21" y="31"/>
                  <a:pt x="16" y="34"/>
                  <a:pt x="11" y="34"/>
                </a:cubicBezTo>
                <a:cubicBezTo>
                  <a:pt x="11" y="34"/>
                  <a:pt x="11" y="35"/>
                  <a:pt x="11" y="35"/>
                </a:cubicBezTo>
                <a:cubicBezTo>
                  <a:pt x="11" y="36"/>
                  <a:pt x="16" y="41"/>
                  <a:pt x="25" y="41"/>
                </a:cubicBezTo>
                <a:cubicBezTo>
                  <a:pt x="25" y="41"/>
                  <a:pt x="25" y="41"/>
                  <a:pt x="25" y="41"/>
                </a:cubicBezTo>
                <a:cubicBezTo>
                  <a:pt x="33" y="41"/>
                  <a:pt x="39" y="36"/>
                  <a:pt x="39" y="35"/>
                </a:cubicBezTo>
                <a:cubicBezTo>
                  <a:pt x="39" y="34"/>
                  <a:pt x="43" y="11"/>
                  <a:pt x="43" y="7"/>
                </a:cubicBezTo>
                <a:cubicBezTo>
                  <a:pt x="44" y="4"/>
                  <a:pt x="36" y="0"/>
                  <a:pt x="25" y="0"/>
                </a:cubicBezTo>
                <a:close/>
                <a:moveTo>
                  <a:pt x="4" y="22"/>
                </a:moveTo>
                <a:cubicBezTo>
                  <a:pt x="3" y="21"/>
                  <a:pt x="5" y="19"/>
                  <a:pt x="8" y="17"/>
                </a:cubicBezTo>
                <a:cubicBezTo>
                  <a:pt x="9" y="20"/>
                  <a:pt x="9" y="24"/>
                  <a:pt x="10" y="27"/>
                </a:cubicBezTo>
                <a:cubicBezTo>
                  <a:pt x="6" y="26"/>
                  <a:pt x="4" y="24"/>
                  <a:pt x="4" y="22"/>
                </a:cubicBezTo>
                <a:close/>
                <a:moveTo>
                  <a:pt x="25" y="12"/>
                </a:moveTo>
                <a:cubicBezTo>
                  <a:pt x="16" y="12"/>
                  <a:pt x="10" y="9"/>
                  <a:pt x="10" y="8"/>
                </a:cubicBezTo>
                <a:cubicBezTo>
                  <a:pt x="10" y="7"/>
                  <a:pt x="16" y="4"/>
                  <a:pt x="25" y="4"/>
                </a:cubicBezTo>
                <a:cubicBezTo>
                  <a:pt x="33" y="4"/>
                  <a:pt x="39" y="7"/>
                  <a:pt x="39" y="8"/>
                </a:cubicBezTo>
                <a:cubicBezTo>
                  <a:pt x="39" y="9"/>
                  <a:pt x="33" y="12"/>
                  <a:pt x="25" y="1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71" name="稻壳儿小白白(http://dwz.cn/Wu2UP)"/>
          <p:cNvSpPr/>
          <p:nvPr/>
        </p:nvSpPr>
        <p:spPr>
          <a:xfrm>
            <a:off x="6593040" y="3157560"/>
            <a:ext cx="187200" cy="196920"/>
          </a:xfrm>
          <a:custGeom>
            <a:avLst/>
            <a:gdLst/>
            <a:ahLst/>
            <a:rect l="l" t="t" r="r" b="b"/>
            <a:pathLst>
              <a:path w="39" h="41">
                <a:moveTo>
                  <a:pt x="25" y="39"/>
                </a:moveTo>
                <a:cubicBezTo>
                  <a:pt x="25" y="40"/>
                  <a:pt x="25" y="40"/>
                  <a:pt x="26" y="40"/>
                </a:cubicBezTo>
                <a:cubicBezTo>
                  <a:pt x="35" y="41"/>
                  <a:pt x="35" y="41"/>
                  <a:pt x="35" y="41"/>
                </a:cubicBezTo>
                <a:cubicBezTo>
                  <a:pt x="36" y="41"/>
                  <a:pt x="37" y="41"/>
                  <a:pt x="37" y="40"/>
                </a:cubicBezTo>
                <a:cubicBezTo>
                  <a:pt x="37" y="32"/>
                  <a:pt x="37" y="32"/>
                  <a:pt x="37" y="32"/>
                </a:cubicBezTo>
                <a:cubicBezTo>
                  <a:pt x="25" y="31"/>
                  <a:pt x="25" y="31"/>
                  <a:pt x="25" y="31"/>
                </a:cubicBezTo>
                <a:lnTo>
                  <a:pt x="25" y="39"/>
                </a:lnTo>
                <a:close/>
                <a:moveTo>
                  <a:pt x="2" y="32"/>
                </a:moveTo>
                <a:cubicBezTo>
                  <a:pt x="2" y="40"/>
                  <a:pt x="2" y="40"/>
                  <a:pt x="2" y="40"/>
                </a:cubicBezTo>
                <a:cubicBezTo>
                  <a:pt x="2" y="41"/>
                  <a:pt x="3" y="41"/>
                  <a:pt x="4" y="41"/>
                </a:cubicBezTo>
                <a:cubicBezTo>
                  <a:pt x="13" y="40"/>
                  <a:pt x="13" y="40"/>
                  <a:pt x="13" y="40"/>
                </a:cubicBezTo>
                <a:cubicBezTo>
                  <a:pt x="14" y="40"/>
                  <a:pt x="15" y="40"/>
                  <a:pt x="14" y="39"/>
                </a:cubicBezTo>
                <a:cubicBezTo>
                  <a:pt x="14" y="31"/>
                  <a:pt x="14" y="31"/>
                  <a:pt x="14" y="31"/>
                </a:cubicBezTo>
                <a:lnTo>
                  <a:pt x="2" y="32"/>
                </a:lnTo>
                <a:close/>
                <a:moveTo>
                  <a:pt x="0" y="19"/>
                </a:moveTo>
                <a:cubicBezTo>
                  <a:pt x="1" y="27"/>
                  <a:pt x="1" y="27"/>
                  <a:pt x="1" y="27"/>
                </a:cubicBezTo>
                <a:cubicBezTo>
                  <a:pt x="13" y="26"/>
                  <a:pt x="13" y="26"/>
                  <a:pt x="13" y="26"/>
                </a:cubicBezTo>
                <a:cubicBezTo>
                  <a:pt x="13" y="18"/>
                  <a:pt x="13" y="18"/>
                  <a:pt x="13" y="18"/>
                </a:cubicBezTo>
                <a:cubicBezTo>
                  <a:pt x="12" y="18"/>
                  <a:pt x="12" y="18"/>
                  <a:pt x="12" y="18"/>
                </a:cubicBezTo>
                <a:cubicBezTo>
                  <a:pt x="12" y="14"/>
                  <a:pt x="16" y="11"/>
                  <a:pt x="20" y="11"/>
                </a:cubicBezTo>
                <a:cubicBezTo>
                  <a:pt x="23" y="11"/>
                  <a:pt x="27" y="14"/>
                  <a:pt x="27" y="18"/>
                </a:cubicBezTo>
                <a:cubicBezTo>
                  <a:pt x="27" y="18"/>
                  <a:pt x="27" y="18"/>
                  <a:pt x="27" y="18"/>
                </a:cubicBezTo>
                <a:cubicBezTo>
                  <a:pt x="26" y="26"/>
                  <a:pt x="26" y="26"/>
                  <a:pt x="26" y="26"/>
                </a:cubicBezTo>
                <a:cubicBezTo>
                  <a:pt x="38" y="27"/>
                  <a:pt x="38" y="27"/>
                  <a:pt x="38" y="27"/>
                </a:cubicBezTo>
                <a:cubicBezTo>
                  <a:pt x="39" y="19"/>
                  <a:pt x="39" y="19"/>
                  <a:pt x="39" y="19"/>
                </a:cubicBezTo>
                <a:cubicBezTo>
                  <a:pt x="39" y="19"/>
                  <a:pt x="39" y="18"/>
                  <a:pt x="39" y="18"/>
                </a:cubicBezTo>
                <a:cubicBezTo>
                  <a:pt x="39" y="8"/>
                  <a:pt x="30" y="0"/>
                  <a:pt x="20" y="0"/>
                </a:cubicBezTo>
                <a:cubicBezTo>
                  <a:pt x="9" y="0"/>
                  <a:pt x="0" y="8"/>
                  <a:pt x="0" y="18"/>
                </a:cubicBezTo>
                <a:cubicBezTo>
                  <a:pt x="0" y="18"/>
                  <a:pt x="0" y="19"/>
                  <a:pt x="0" y="1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72" name="稻壳儿小白白(http://dwz.cn/Wu2UP)"/>
          <p:cNvSpPr/>
          <p:nvPr/>
        </p:nvSpPr>
        <p:spPr>
          <a:xfrm>
            <a:off x="8826480" y="3154320"/>
            <a:ext cx="225360" cy="206280"/>
          </a:xfrm>
          <a:custGeom>
            <a:avLst/>
            <a:gdLst/>
            <a:ahLst/>
            <a:rect l="l" t="t" r="r" b="b"/>
            <a:pathLst>
              <a:path w="47" h="43">
                <a:moveTo>
                  <a:pt x="43" y="7"/>
                </a:moveTo>
                <a:cubicBezTo>
                  <a:pt x="40" y="7"/>
                  <a:pt x="40" y="7"/>
                  <a:pt x="40" y="7"/>
                </a:cubicBezTo>
                <a:cubicBezTo>
                  <a:pt x="40" y="43"/>
                  <a:pt x="40" y="43"/>
                  <a:pt x="40" y="43"/>
                </a:cubicBezTo>
                <a:cubicBezTo>
                  <a:pt x="43" y="43"/>
                  <a:pt x="43" y="43"/>
                  <a:pt x="43" y="43"/>
                </a:cubicBezTo>
                <a:cubicBezTo>
                  <a:pt x="45" y="43"/>
                  <a:pt x="47" y="40"/>
                  <a:pt x="47" y="38"/>
                </a:cubicBezTo>
                <a:cubicBezTo>
                  <a:pt x="47" y="12"/>
                  <a:pt x="47" y="12"/>
                  <a:pt x="47" y="12"/>
                </a:cubicBezTo>
                <a:cubicBezTo>
                  <a:pt x="47" y="9"/>
                  <a:pt x="45" y="7"/>
                  <a:pt x="43" y="7"/>
                </a:cubicBezTo>
                <a:close/>
                <a:moveTo>
                  <a:pt x="0" y="12"/>
                </a:moveTo>
                <a:cubicBezTo>
                  <a:pt x="0" y="38"/>
                  <a:pt x="0" y="38"/>
                  <a:pt x="0" y="38"/>
                </a:cubicBezTo>
                <a:cubicBezTo>
                  <a:pt x="0" y="40"/>
                  <a:pt x="2" y="43"/>
                  <a:pt x="5" y="43"/>
                </a:cubicBezTo>
                <a:cubicBezTo>
                  <a:pt x="7" y="43"/>
                  <a:pt x="7" y="43"/>
                  <a:pt x="7" y="43"/>
                </a:cubicBezTo>
                <a:cubicBezTo>
                  <a:pt x="7" y="7"/>
                  <a:pt x="7" y="7"/>
                  <a:pt x="7" y="7"/>
                </a:cubicBezTo>
                <a:cubicBezTo>
                  <a:pt x="5" y="7"/>
                  <a:pt x="5" y="7"/>
                  <a:pt x="5" y="7"/>
                </a:cubicBezTo>
                <a:cubicBezTo>
                  <a:pt x="2" y="7"/>
                  <a:pt x="0" y="9"/>
                  <a:pt x="0" y="12"/>
                </a:cubicBezTo>
                <a:close/>
                <a:moveTo>
                  <a:pt x="32" y="2"/>
                </a:moveTo>
                <a:cubicBezTo>
                  <a:pt x="30" y="2"/>
                  <a:pt x="28" y="0"/>
                  <a:pt x="24" y="0"/>
                </a:cubicBezTo>
                <a:cubicBezTo>
                  <a:pt x="20" y="0"/>
                  <a:pt x="17" y="2"/>
                  <a:pt x="16" y="2"/>
                </a:cubicBezTo>
                <a:cubicBezTo>
                  <a:pt x="16" y="7"/>
                  <a:pt x="16" y="7"/>
                  <a:pt x="16" y="7"/>
                </a:cubicBezTo>
                <a:cubicBezTo>
                  <a:pt x="11" y="7"/>
                  <a:pt x="11" y="7"/>
                  <a:pt x="11" y="7"/>
                </a:cubicBezTo>
                <a:cubicBezTo>
                  <a:pt x="11" y="43"/>
                  <a:pt x="11" y="43"/>
                  <a:pt x="11" y="43"/>
                </a:cubicBezTo>
                <a:cubicBezTo>
                  <a:pt x="37" y="43"/>
                  <a:pt x="37" y="43"/>
                  <a:pt x="37" y="43"/>
                </a:cubicBezTo>
                <a:cubicBezTo>
                  <a:pt x="37" y="7"/>
                  <a:pt x="37" y="7"/>
                  <a:pt x="37" y="7"/>
                </a:cubicBezTo>
                <a:cubicBezTo>
                  <a:pt x="32" y="7"/>
                  <a:pt x="32" y="7"/>
                  <a:pt x="32" y="7"/>
                </a:cubicBezTo>
                <a:lnTo>
                  <a:pt x="32" y="2"/>
                </a:lnTo>
                <a:close/>
                <a:moveTo>
                  <a:pt x="29" y="7"/>
                </a:moveTo>
                <a:cubicBezTo>
                  <a:pt x="19" y="7"/>
                  <a:pt x="19" y="7"/>
                  <a:pt x="19" y="7"/>
                </a:cubicBezTo>
                <a:cubicBezTo>
                  <a:pt x="19" y="4"/>
                  <a:pt x="19" y="4"/>
                  <a:pt x="19" y="4"/>
                </a:cubicBezTo>
                <a:cubicBezTo>
                  <a:pt x="20" y="4"/>
                  <a:pt x="22" y="3"/>
                  <a:pt x="24" y="3"/>
                </a:cubicBezTo>
                <a:cubicBezTo>
                  <a:pt x="26" y="3"/>
                  <a:pt x="28" y="4"/>
                  <a:pt x="29" y="4"/>
                </a:cubicBezTo>
                <a:lnTo>
                  <a:pt x="29" y="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73" name="稻壳儿小白白(http://dwz.cn/Wu2UP)"/>
          <p:cNvSpPr/>
          <p:nvPr/>
        </p:nvSpPr>
        <p:spPr>
          <a:xfrm>
            <a:off x="8427960" y="2697120"/>
            <a:ext cx="123840" cy="217440"/>
          </a:xfrm>
          <a:custGeom>
            <a:avLst/>
            <a:gdLst/>
            <a:ahLst/>
            <a:rect l="l" t="t" r="r" b="b"/>
            <a:pathLst>
              <a:path w="26" h="45">
                <a:moveTo>
                  <a:pt x="13" y="0"/>
                </a:moveTo>
                <a:cubicBezTo>
                  <a:pt x="13" y="0"/>
                  <a:pt x="13" y="0"/>
                  <a:pt x="12" y="0"/>
                </a:cubicBezTo>
                <a:cubicBezTo>
                  <a:pt x="10" y="17"/>
                  <a:pt x="0" y="21"/>
                  <a:pt x="0" y="32"/>
                </a:cubicBezTo>
                <a:cubicBezTo>
                  <a:pt x="0" y="39"/>
                  <a:pt x="6" y="45"/>
                  <a:pt x="13" y="45"/>
                </a:cubicBezTo>
                <a:cubicBezTo>
                  <a:pt x="20" y="45"/>
                  <a:pt x="26" y="39"/>
                  <a:pt x="26" y="32"/>
                </a:cubicBezTo>
                <a:cubicBezTo>
                  <a:pt x="26" y="21"/>
                  <a:pt x="15" y="17"/>
                  <a:pt x="13" y="0"/>
                </a:cubicBezTo>
                <a:close/>
                <a:moveTo>
                  <a:pt x="11" y="19"/>
                </a:moveTo>
                <a:cubicBezTo>
                  <a:pt x="11" y="19"/>
                  <a:pt x="11" y="20"/>
                  <a:pt x="11" y="20"/>
                </a:cubicBezTo>
                <a:cubicBezTo>
                  <a:pt x="10" y="24"/>
                  <a:pt x="9" y="28"/>
                  <a:pt x="9" y="32"/>
                </a:cubicBezTo>
                <a:cubicBezTo>
                  <a:pt x="9" y="34"/>
                  <a:pt x="8" y="35"/>
                  <a:pt x="6" y="35"/>
                </a:cubicBezTo>
                <a:cubicBezTo>
                  <a:pt x="5" y="35"/>
                  <a:pt x="4" y="34"/>
                  <a:pt x="4" y="32"/>
                </a:cubicBezTo>
                <a:cubicBezTo>
                  <a:pt x="4" y="27"/>
                  <a:pt x="6" y="24"/>
                  <a:pt x="8" y="21"/>
                </a:cubicBezTo>
                <a:cubicBezTo>
                  <a:pt x="9" y="20"/>
                  <a:pt x="10" y="19"/>
                  <a:pt x="10" y="18"/>
                </a:cubicBezTo>
                <a:cubicBezTo>
                  <a:pt x="10" y="18"/>
                  <a:pt x="11" y="18"/>
                  <a:pt x="11" y="18"/>
                </a:cubicBezTo>
                <a:cubicBezTo>
                  <a:pt x="11" y="18"/>
                  <a:pt x="11" y="19"/>
                  <a:pt x="11" y="1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74" name="稻壳儿小白白(http://dwz.cn/Wu2UP)"/>
          <p:cNvSpPr/>
          <p:nvPr/>
        </p:nvSpPr>
        <p:spPr>
          <a:xfrm>
            <a:off x="9293400" y="4971960"/>
            <a:ext cx="201600" cy="182520"/>
          </a:xfrm>
          <a:custGeom>
            <a:avLst/>
            <a:gdLst/>
            <a:ahLst/>
            <a:rect l="l" t="t" r="r" b="b"/>
            <a:pathLst>
              <a:path w="42" h="38">
                <a:moveTo>
                  <a:pt x="10" y="29"/>
                </a:moveTo>
                <a:cubicBezTo>
                  <a:pt x="5" y="23"/>
                  <a:pt x="5" y="14"/>
                  <a:pt x="10" y="9"/>
                </a:cubicBezTo>
                <a:cubicBezTo>
                  <a:pt x="13" y="6"/>
                  <a:pt x="16" y="5"/>
                  <a:pt x="18" y="4"/>
                </a:cubicBezTo>
                <a:cubicBezTo>
                  <a:pt x="18" y="0"/>
                  <a:pt x="18" y="0"/>
                  <a:pt x="18" y="0"/>
                </a:cubicBezTo>
                <a:cubicBezTo>
                  <a:pt x="14" y="0"/>
                  <a:pt x="10" y="2"/>
                  <a:pt x="7" y="5"/>
                </a:cubicBezTo>
                <a:cubicBezTo>
                  <a:pt x="0" y="13"/>
                  <a:pt x="0" y="25"/>
                  <a:pt x="7" y="32"/>
                </a:cubicBezTo>
                <a:cubicBezTo>
                  <a:pt x="3" y="36"/>
                  <a:pt x="3" y="36"/>
                  <a:pt x="3" y="36"/>
                </a:cubicBezTo>
                <a:cubicBezTo>
                  <a:pt x="16" y="37"/>
                  <a:pt x="16" y="37"/>
                  <a:pt x="16" y="37"/>
                </a:cubicBezTo>
                <a:cubicBezTo>
                  <a:pt x="16" y="23"/>
                  <a:pt x="16" y="23"/>
                  <a:pt x="16" y="23"/>
                </a:cubicBezTo>
                <a:lnTo>
                  <a:pt x="10" y="29"/>
                </a:lnTo>
                <a:close/>
                <a:moveTo>
                  <a:pt x="26" y="1"/>
                </a:moveTo>
                <a:cubicBezTo>
                  <a:pt x="26" y="14"/>
                  <a:pt x="26" y="14"/>
                  <a:pt x="26" y="14"/>
                </a:cubicBezTo>
                <a:cubicBezTo>
                  <a:pt x="31" y="9"/>
                  <a:pt x="31" y="9"/>
                  <a:pt x="31" y="9"/>
                </a:cubicBezTo>
                <a:cubicBezTo>
                  <a:pt x="36" y="15"/>
                  <a:pt x="36" y="24"/>
                  <a:pt x="31" y="29"/>
                </a:cubicBezTo>
                <a:cubicBezTo>
                  <a:pt x="29" y="31"/>
                  <a:pt x="26" y="33"/>
                  <a:pt x="23" y="33"/>
                </a:cubicBezTo>
                <a:cubicBezTo>
                  <a:pt x="23" y="38"/>
                  <a:pt x="23" y="38"/>
                  <a:pt x="23" y="38"/>
                </a:cubicBezTo>
                <a:cubicBezTo>
                  <a:pt x="27" y="38"/>
                  <a:pt x="31" y="36"/>
                  <a:pt x="34" y="33"/>
                </a:cubicBezTo>
                <a:cubicBezTo>
                  <a:pt x="42" y="25"/>
                  <a:pt x="42" y="13"/>
                  <a:pt x="35" y="6"/>
                </a:cubicBezTo>
                <a:cubicBezTo>
                  <a:pt x="39" y="1"/>
                  <a:pt x="39" y="1"/>
                  <a:pt x="39" y="1"/>
                </a:cubicBezTo>
                <a:lnTo>
                  <a:pt x="26" y="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75" name="稻壳儿小白白(http://dwz.cn/Wu2UP)"/>
          <p:cNvSpPr/>
          <p:nvPr/>
        </p:nvSpPr>
        <p:spPr>
          <a:xfrm>
            <a:off x="7034040" y="3171960"/>
            <a:ext cx="208080" cy="168120"/>
          </a:xfrm>
          <a:custGeom>
            <a:avLst/>
            <a:gdLst/>
            <a:ahLst/>
            <a:rect l="l" t="t" r="r" b="b"/>
            <a:pathLst>
              <a:path w="43" h="35">
                <a:moveTo>
                  <a:pt x="42" y="20"/>
                </a:moveTo>
                <a:cubicBezTo>
                  <a:pt x="34" y="2"/>
                  <a:pt x="34" y="2"/>
                  <a:pt x="34" y="2"/>
                </a:cubicBezTo>
                <a:cubicBezTo>
                  <a:pt x="34" y="1"/>
                  <a:pt x="32" y="0"/>
                  <a:pt x="31" y="0"/>
                </a:cubicBezTo>
                <a:cubicBezTo>
                  <a:pt x="12" y="0"/>
                  <a:pt x="12" y="0"/>
                  <a:pt x="12" y="0"/>
                </a:cubicBezTo>
                <a:cubicBezTo>
                  <a:pt x="11" y="0"/>
                  <a:pt x="9" y="1"/>
                  <a:pt x="8" y="2"/>
                </a:cubicBezTo>
                <a:cubicBezTo>
                  <a:pt x="1" y="20"/>
                  <a:pt x="1" y="20"/>
                  <a:pt x="1" y="20"/>
                </a:cubicBezTo>
                <a:cubicBezTo>
                  <a:pt x="0" y="21"/>
                  <a:pt x="0" y="23"/>
                  <a:pt x="0" y="24"/>
                </a:cubicBezTo>
                <a:cubicBezTo>
                  <a:pt x="2" y="33"/>
                  <a:pt x="2" y="33"/>
                  <a:pt x="2" y="33"/>
                </a:cubicBezTo>
                <a:cubicBezTo>
                  <a:pt x="2" y="34"/>
                  <a:pt x="3" y="35"/>
                  <a:pt x="5" y="35"/>
                </a:cubicBezTo>
                <a:cubicBezTo>
                  <a:pt x="38" y="35"/>
                  <a:pt x="38" y="35"/>
                  <a:pt x="38" y="35"/>
                </a:cubicBezTo>
                <a:cubicBezTo>
                  <a:pt x="39" y="35"/>
                  <a:pt x="41" y="34"/>
                  <a:pt x="41" y="33"/>
                </a:cubicBezTo>
                <a:cubicBezTo>
                  <a:pt x="42" y="24"/>
                  <a:pt x="42" y="24"/>
                  <a:pt x="42" y="24"/>
                </a:cubicBezTo>
                <a:cubicBezTo>
                  <a:pt x="43" y="23"/>
                  <a:pt x="42" y="21"/>
                  <a:pt x="42" y="20"/>
                </a:cubicBezTo>
                <a:close/>
                <a:moveTo>
                  <a:pt x="39" y="26"/>
                </a:moveTo>
                <a:cubicBezTo>
                  <a:pt x="38" y="29"/>
                  <a:pt x="38" y="29"/>
                  <a:pt x="38" y="29"/>
                </a:cubicBezTo>
                <a:cubicBezTo>
                  <a:pt x="38" y="31"/>
                  <a:pt x="37" y="32"/>
                  <a:pt x="35" y="32"/>
                </a:cubicBezTo>
                <a:cubicBezTo>
                  <a:pt x="8" y="32"/>
                  <a:pt x="8" y="32"/>
                  <a:pt x="8" y="32"/>
                </a:cubicBezTo>
                <a:cubicBezTo>
                  <a:pt x="6" y="32"/>
                  <a:pt x="5" y="31"/>
                  <a:pt x="5" y="29"/>
                </a:cubicBezTo>
                <a:cubicBezTo>
                  <a:pt x="4" y="26"/>
                  <a:pt x="4" y="26"/>
                  <a:pt x="4" y="26"/>
                </a:cubicBezTo>
                <a:cubicBezTo>
                  <a:pt x="4" y="24"/>
                  <a:pt x="5" y="23"/>
                  <a:pt x="6" y="23"/>
                </a:cubicBezTo>
                <a:cubicBezTo>
                  <a:pt x="37" y="23"/>
                  <a:pt x="37" y="23"/>
                  <a:pt x="37" y="23"/>
                </a:cubicBezTo>
                <a:cubicBezTo>
                  <a:pt x="38" y="23"/>
                  <a:pt x="39" y="24"/>
                  <a:pt x="39" y="2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76" name="稻壳儿小白白(http://dwz.cn/Wu2UP)"/>
          <p:cNvSpPr/>
          <p:nvPr/>
        </p:nvSpPr>
        <p:spPr>
          <a:xfrm>
            <a:off x="7937640" y="3143160"/>
            <a:ext cx="206280" cy="211320"/>
          </a:xfrm>
          <a:custGeom>
            <a:avLst/>
            <a:gdLst/>
            <a:ahLst/>
            <a:rect l="l" t="t" r="r" b="b"/>
            <a:pathLst>
              <a:path w="43" h="44">
                <a:moveTo>
                  <a:pt x="26" y="29"/>
                </a:moveTo>
                <a:cubicBezTo>
                  <a:pt x="26" y="29"/>
                  <a:pt x="43" y="17"/>
                  <a:pt x="41" y="3"/>
                </a:cubicBezTo>
                <a:cubicBezTo>
                  <a:pt x="41" y="3"/>
                  <a:pt x="41" y="3"/>
                  <a:pt x="41" y="2"/>
                </a:cubicBezTo>
                <a:cubicBezTo>
                  <a:pt x="41" y="2"/>
                  <a:pt x="41" y="2"/>
                  <a:pt x="40" y="2"/>
                </a:cubicBezTo>
                <a:cubicBezTo>
                  <a:pt x="27" y="0"/>
                  <a:pt x="15" y="17"/>
                  <a:pt x="15" y="17"/>
                </a:cubicBezTo>
                <a:cubicBezTo>
                  <a:pt x="5" y="16"/>
                  <a:pt x="6" y="18"/>
                  <a:pt x="1" y="29"/>
                </a:cubicBezTo>
                <a:cubicBezTo>
                  <a:pt x="0" y="31"/>
                  <a:pt x="2" y="32"/>
                  <a:pt x="3" y="31"/>
                </a:cubicBezTo>
                <a:cubicBezTo>
                  <a:pt x="5" y="31"/>
                  <a:pt x="8" y="30"/>
                  <a:pt x="8" y="30"/>
                </a:cubicBezTo>
                <a:cubicBezTo>
                  <a:pt x="14" y="36"/>
                  <a:pt x="14" y="36"/>
                  <a:pt x="14" y="36"/>
                </a:cubicBezTo>
                <a:cubicBezTo>
                  <a:pt x="14" y="36"/>
                  <a:pt x="13" y="39"/>
                  <a:pt x="13" y="41"/>
                </a:cubicBezTo>
                <a:cubicBezTo>
                  <a:pt x="12" y="42"/>
                  <a:pt x="13" y="44"/>
                  <a:pt x="15" y="43"/>
                </a:cubicBezTo>
                <a:cubicBezTo>
                  <a:pt x="26" y="38"/>
                  <a:pt x="28" y="39"/>
                  <a:pt x="26" y="29"/>
                </a:cubicBezTo>
                <a:close/>
                <a:moveTo>
                  <a:pt x="29" y="15"/>
                </a:moveTo>
                <a:cubicBezTo>
                  <a:pt x="27" y="13"/>
                  <a:pt x="27" y="11"/>
                  <a:pt x="29" y="10"/>
                </a:cubicBezTo>
                <a:cubicBezTo>
                  <a:pt x="30" y="8"/>
                  <a:pt x="32" y="8"/>
                  <a:pt x="34" y="10"/>
                </a:cubicBezTo>
                <a:cubicBezTo>
                  <a:pt x="35" y="11"/>
                  <a:pt x="35" y="13"/>
                  <a:pt x="34" y="15"/>
                </a:cubicBezTo>
                <a:cubicBezTo>
                  <a:pt x="32" y="16"/>
                  <a:pt x="30" y="16"/>
                  <a:pt x="29" y="1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77" name="稻壳儿小白白(http://dwz.cn/Wu2UP)"/>
          <p:cNvSpPr/>
          <p:nvPr/>
        </p:nvSpPr>
        <p:spPr>
          <a:xfrm>
            <a:off x="8373960" y="3143160"/>
            <a:ext cx="230400" cy="225360"/>
          </a:xfrm>
          <a:custGeom>
            <a:avLst/>
            <a:gdLst/>
            <a:ahLst/>
            <a:rect l="l" t="t" r="r" b="b"/>
            <a:pathLst>
              <a:path w="48" h="47">
                <a:moveTo>
                  <a:pt x="7" y="32"/>
                </a:moveTo>
                <a:cubicBezTo>
                  <a:pt x="3" y="35"/>
                  <a:pt x="6" y="39"/>
                  <a:pt x="2" y="44"/>
                </a:cubicBezTo>
                <a:cubicBezTo>
                  <a:pt x="0" y="47"/>
                  <a:pt x="10" y="46"/>
                  <a:pt x="16" y="41"/>
                </a:cubicBezTo>
                <a:cubicBezTo>
                  <a:pt x="18" y="38"/>
                  <a:pt x="18" y="35"/>
                  <a:pt x="15" y="33"/>
                </a:cubicBezTo>
                <a:cubicBezTo>
                  <a:pt x="13" y="30"/>
                  <a:pt x="9" y="30"/>
                  <a:pt x="7" y="32"/>
                </a:cubicBezTo>
                <a:close/>
                <a:moveTo>
                  <a:pt x="46" y="2"/>
                </a:moveTo>
                <a:cubicBezTo>
                  <a:pt x="44" y="0"/>
                  <a:pt x="24" y="16"/>
                  <a:pt x="18" y="22"/>
                </a:cubicBezTo>
                <a:cubicBezTo>
                  <a:pt x="15" y="25"/>
                  <a:pt x="14" y="26"/>
                  <a:pt x="13" y="27"/>
                </a:cubicBezTo>
                <a:cubicBezTo>
                  <a:pt x="13" y="28"/>
                  <a:pt x="14" y="28"/>
                  <a:pt x="14" y="28"/>
                </a:cubicBezTo>
                <a:cubicBezTo>
                  <a:pt x="15" y="29"/>
                  <a:pt x="16" y="29"/>
                  <a:pt x="17" y="30"/>
                </a:cubicBezTo>
                <a:cubicBezTo>
                  <a:pt x="18" y="32"/>
                  <a:pt x="18" y="32"/>
                  <a:pt x="19" y="34"/>
                </a:cubicBezTo>
                <a:cubicBezTo>
                  <a:pt x="19" y="34"/>
                  <a:pt x="19" y="34"/>
                  <a:pt x="20" y="34"/>
                </a:cubicBezTo>
                <a:cubicBezTo>
                  <a:pt x="21" y="33"/>
                  <a:pt x="23" y="32"/>
                  <a:pt x="26" y="29"/>
                </a:cubicBezTo>
                <a:cubicBezTo>
                  <a:pt x="32" y="23"/>
                  <a:pt x="48" y="3"/>
                  <a:pt x="46" y="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78" name="稻壳儿小白白(http://dwz.cn/Wu2UP)"/>
          <p:cNvSpPr/>
          <p:nvPr/>
        </p:nvSpPr>
        <p:spPr>
          <a:xfrm>
            <a:off x="6135840" y="4508640"/>
            <a:ext cx="201600" cy="203040"/>
          </a:xfrm>
          <a:custGeom>
            <a:avLst/>
            <a:gdLst/>
            <a:ahLst/>
            <a:rect l="l" t="t" r="r" b="b"/>
            <a:pathLst>
              <a:path w="42" h="42">
                <a:moveTo>
                  <a:pt x="37" y="0"/>
                </a:moveTo>
                <a:cubicBezTo>
                  <a:pt x="16" y="0"/>
                  <a:pt x="16" y="0"/>
                  <a:pt x="16" y="0"/>
                </a:cubicBezTo>
                <a:cubicBezTo>
                  <a:pt x="13" y="0"/>
                  <a:pt x="11" y="2"/>
                  <a:pt x="11" y="5"/>
                </a:cubicBezTo>
                <a:cubicBezTo>
                  <a:pt x="11" y="12"/>
                  <a:pt x="11" y="12"/>
                  <a:pt x="11" y="12"/>
                </a:cubicBezTo>
                <a:cubicBezTo>
                  <a:pt x="16" y="12"/>
                  <a:pt x="16" y="12"/>
                  <a:pt x="16" y="12"/>
                </a:cubicBezTo>
                <a:cubicBezTo>
                  <a:pt x="16" y="5"/>
                  <a:pt x="16" y="5"/>
                  <a:pt x="16" y="5"/>
                </a:cubicBezTo>
                <a:cubicBezTo>
                  <a:pt x="37" y="5"/>
                  <a:pt x="37" y="5"/>
                  <a:pt x="37" y="5"/>
                </a:cubicBezTo>
                <a:cubicBezTo>
                  <a:pt x="37" y="37"/>
                  <a:pt x="37" y="37"/>
                  <a:pt x="37" y="37"/>
                </a:cubicBezTo>
                <a:cubicBezTo>
                  <a:pt x="16" y="37"/>
                  <a:pt x="16" y="37"/>
                  <a:pt x="16" y="37"/>
                </a:cubicBezTo>
                <a:cubicBezTo>
                  <a:pt x="16" y="33"/>
                  <a:pt x="16" y="33"/>
                  <a:pt x="16" y="33"/>
                </a:cubicBezTo>
                <a:cubicBezTo>
                  <a:pt x="11" y="33"/>
                  <a:pt x="11" y="33"/>
                  <a:pt x="11" y="33"/>
                </a:cubicBezTo>
                <a:cubicBezTo>
                  <a:pt x="11" y="37"/>
                  <a:pt x="11" y="37"/>
                  <a:pt x="11" y="37"/>
                </a:cubicBezTo>
                <a:cubicBezTo>
                  <a:pt x="11" y="40"/>
                  <a:pt x="13" y="42"/>
                  <a:pt x="16" y="42"/>
                </a:cubicBezTo>
                <a:cubicBezTo>
                  <a:pt x="37" y="42"/>
                  <a:pt x="37" y="42"/>
                  <a:pt x="37" y="42"/>
                </a:cubicBezTo>
                <a:cubicBezTo>
                  <a:pt x="40" y="42"/>
                  <a:pt x="42" y="40"/>
                  <a:pt x="42" y="37"/>
                </a:cubicBezTo>
                <a:cubicBezTo>
                  <a:pt x="42" y="5"/>
                  <a:pt x="42" y="5"/>
                  <a:pt x="42" y="5"/>
                </a:cubicBezTo>
                <a:cubicBezTo>
                  <a:pt x="42" y="2"/>
                  <a:pt x="40" y="0"/>
                  <a:pt x="37" y="0"/>
                </a:cubicBezTo>
                <a:close/>
                <a:moveTo>
                  <a:pt x="21" y="31"/>
                </a:moveTo>
                <a:cubicBezTo>
                  <a:pt x="30" y="22"/>
                  <a:pt x="30" y="22"/>
                  <a:pt x="30" y="22"/>
                </a:cubicBezTo>
                <a:cubicBezTo>
                  <a:pt x="21" y="13"/>
                  <a:pt x="21" y="13"/>
                  <a:pt x="21" y="13"/>
                </a:cubicBezTo>
                <a:cubicBezTo>
                  <a:pt x="21" y="19"/>
                  <a:pt x="21" y="19"/>
                  <a:pt x="21" y="19"/>
                </a:cubicBezTo>
                <a:cubicBezTo>
                  <a:pt x="0" y="19"/>
                  <a:pt x="0" y="19"/>
                  <a:pt x="0" y="19"/>
                </a:cubicBezTo>
                <a:cubicBezTo>
                  <a:pt x="0" y="26"/>
                  <a:pt x="0" y="26"/>
                  <a:pt x="0" y="26"/>
                </a:cubicBezTo>
                <a:cubicBezTo>
                  <a:pt x="21" y="26"/>
                  <a:pt x="21" y="26"/>
                  <a:pt x="21" y="26"/>
                </a:cubicBezTo>
                <a:lnTo>
                  <a:pt x="21" y="3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79" name="稻壳儿小白白(http://dwz.cn/Wu2UP)"/>
          <p:cNvSpPr/>
          <p:nvPr/>
        </p:nvSpPr>
        <p:spPr>
          <a:xfrm>
            <a:off x="9277200" y="3154320"/>
            <a:ext cx="227160" cy="206280"/>
          </a:xfrm>
          <a:custGeom>
            <a:avLst/>
            <a:gdLst/>
            <a:ahLst/>
            <a:rect l="l" t="t" r="r" b="b"/>
            <a:pathLst>
              <a:path w="47" h="43">
                <a:moveTo>
                  <a:pt x="24" y="26"/>
                </a:moveTo>
                <a:cubicBezTo>
                  <a:pt x="29" y="26"/>
                  <a:pt x="34" y="24"/>
                  <a:pt x="34" y="22"/>
                </a:cubicBezTo>
                <a:cubicBezTo>
                  <a:pt x="33" y="20"/>
                  <a:pt x="32" y="17"/>
                  <a:pt x="32" y="15"/>
                </a:cubicBezTo>
                <a:cubicBezTo>
                  <a:pt x="31" y="16"/>
                  <a:pt x="28" y="18"/>
                  <a:pt x="24" y="18"/>
                </a:cubicBezTo>
                <a:cubicBezTo>
                  <a:pt x="20" y="18"/>
                  <a:pt x="16" y="16"/>
                  <a:pt x="16" y="15"/>
                </a:cubicBezTo>
                <a:cubicBezTo>
                  <a:pt x="15" y="17"/>
                  <a:pt x="14" y="20"/>
                  <a:pt x="13" y="22"/>
                </a:cubicBezTo>
                <a:cubicBezTo>
                  <a:pt x="13" y="24"/>
                  <a:pt x="18" y="26"/>
                  <a:pt x="24" y="26"/>
                </a:cubicBezTo>
                <a:close/>
                <a:moveTo>
                  <a:pt x="24" y="11"/>
                </a:moveTo>
                <a:cubicBezTo>
                  <a:pt x="26" y="11"/>
                  <a:pt x="29" y="10"/>
                  <a:pt x="29" y="9"/>
                </a:cubicBezTo>
                <a:cubicBezTo>
                  <a:pt x="28" y="6"/>
                  <a:pt x="28" y="3"/>
                  <a:pt x="27" y="2"/>
                </a:cubicBezTo>
                <a:cubicBezTo>
                  <a:pt x="27" y="1"/>
                  <a:pt x="25" y="0"/>
                  <a:pt x="24" y="0"/>
                </a:cubicBezTo>
                <a:cubicBezTo>
                  <a:pt x="22" y="0"/>
                  <a:pt x="21" y="1"/>
                  <a:pt x="20" y="2"/>
                </a:cubicBezTo>
                <a:cubicBezTo>
                  <a:pt x="20" y="3"/>
                  <a:pt x="19" y="6"/>
                  <a:pt x="18" y="9"/>
                </a:cubicBezTo>
                <a:cubicBezTo>
                  <a:pt x="19" y="10"/>
                  <a:pt x="21" y="11"/>
                  <a:pt x="24" y="11"/>
                </a:cubicBezTo>
                <a:close/>
                <a:moveTo>
                  <a:pt x="44" y="29"/>
                </a:moveTo>
                <a:cubicBezTo>
                  <a:pt x="35" y="25"/>
                  <a:pt x="35" y="25"/>
                  <a:pt x="35" y="25"/>
                </a:cubicBezTo>
                <a:cubicBezTo>
                  <a:pt x="36" y="28"/>
                  <a:pt x="36" y="28"/>
                  <a:pt x="36" y="28"/>
                </a:cubicBezTo>
                <a:cubicBezTo>
                  <a:pt x="36" y="31"/>
                  <a:pt x="31" y="33"/>
                  <a:pt x="24" y="33"/>
                </a:cubicBezTo>
                <a:cubicBezTo>
                  <a:pt x="17" y="33"/>
                  <a:pt x="11" y="31"/>
                  <a:pt x="11" y="28"/>
                </a:cubicBezTo>
                <a:cubicBezTo>
                  <a:pt x="12" y="25"/>
                  <a:pt x="12" y="25"/>
                  <a:pt x="12" y="25"/>
                </a:cubicBezTo>
                <a:cubicBezTo>
                  <a:pt x="3" y="29"/>
                  <a:pt x="3" y="29"/>
                  <a:pt x="3" y="29"/>
                </a:cubicBezTo>
                <a:cubicBezTo>
                  <a:pt x="1" y="30"/>
                  <a:pt x="0" y="31"/>
                  <a:pt x="3" y="33"/>
                </a:cubicBezTo>
                <a:cubicBezTo>
                  <a:pt x="19" y="42"/>
                  <a:pt x="19" y="42"/>
                  <a:pt x="19" y="42"/>
                </a:cubicBezTo>
                <a:cubicBezTo>
                  <a:pt x="22" y="43"/>
                  <a:pt x="26" y="43"/>
                  <a:pt x="28" y="42"/>
                </a:cubicBezTo>
                <a:cubicBezTo>
                  <a:pt x="44" y="33"/>
                  <a:pt x="44" y="33"/>
                  <a:pt x="44" y="33"/>
                </a:cubicBezTo>
                <a:cubicBezTo>
                  <a:pt x="47" y="31"/>
                  <a:pt x="47" y="30"/>
                  <a:pt x="44" y="2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80" name="稻壳儿小白白(http://dwz.cn/Wu2UP)"/>
          <p:cNvSpPr/>
          <p:nvPr/>
        </p:nvSpPr>
        <p:spPr>
          <a:xfrm>
            <a:off x="8826480" y="1360440"/>
            <a:ext cx="225360" cy="182520"/>
          </a:xfrm>
          <a:custGeom>
            <a:avLst/>
            <a:gdLst/>
            <a:ahLst/>
            <a:rect l="l" t="t" r="r" b="b"/>
            <a:pathLst>
              <a:path w="47" h="38">
                <a:moveTo>
                  <a:pt x="16" y="19"/>
                </a:moveTo>
                <a:cubicBezTo>
                  <a:pt x="16" y="23"/>
                  <a:pt x="20" y="27"/>
                  <a:pt x="24" y="27"/>
                </a:cubicBezTo>
                <a:cubicBezTo>
                  <a:pt x="28" y="27"/>
                  <a:pt x="31" y="23"/>
                  <a:pt x="31" y="19"/>
                </a:cubicBezTo>
                <a:cubicBezTo>
                  <a:pt x="31" y="15"/>
                  <a:pt x="28" y="12"/>
                  <a:pt x="24" y="12"/>
                </a:cubicBezTo>
                <a:cubicBezTo>
                  <a:pt x="20" y="12"/>
                  <a:pt x="16" y="15"/>
                  <a:pt x="16" y="19"/>
                </a:cubicBezTo>
                <a:close/>
                <a:moveTo>
                  <a:pt x="11" y="16"/>
                </a:moveTo>
                <a:cubicBezTo>
                  <a:pt x="12" y="10"/>
                  <a:pt x="18" y="6"/>
                  <a:pt x="24" y="6"/>
                </a:cubicBezTo>
                <a:cubicBezTo>
                  <a:pt x="27" y="6"/>
                  <a:pt x="31" y="7"/>
                  <a:pt x="33" y="10"/>
                </a:cubicBezTo>
                <a:cubicBezTo>
                  <a:pt x="34" y="11"/>
                  <a:pt x="36" y="11"/>
                  <a:pt x="37" y="10"/>
                </a:cubicBezTo>
                <a:cubicBezTo>
                  <a:pt x="38" y="9"/>
                  <a:pt x="38" y="7"/>
                  <a:pt x="37" y="6"/>
                </a:cubicBezTo>
                <a:cubicBezTo>
                  <a:pt x="34" y="2"/>
                  <a:pt x="29" y="0"/>
                  <a:pt x="24" y="0"/>
                </a:cubicBezTo>
                <a:cubicBezTo>
                  <a:pt x="15" y="0"/>
                  <a:pt x="8" y="6"/>
                  <a:pt x="6" y="13"/>
                </a:cubicBezTo>
                <a:cubicBezTo>
                  <a:pt x="0" y="13"/>
                  <a:pt x="0" y="13"/>
                  <a:pt x="0" y="13"/>
                </a:cubicBezTo>
                <a:cubicBezTo>
                  <a:pt x="0" y="19"/>
                  <a:pt x="0" y="19"/>
                  <a:pt x="0" y="19"/>
                </a:cubicBezTo>
                <a:cubicBezTo>
                  <a:pt x="8" y="19"/>
                  <a:pt x="8" y="19"/>
                  <a:pt x="8" y="19"/>
                </a:cubicBezTo>
                <a:cubicBezTo>
                  <a:pt x="10" y="19"/>
                  <a:pt x="11" y="17"/>
                  <a:pt x="11" y="16"/>
                </a:cubicBezTo>
                <a:close/>
                <a:moveTo>
                  <a:pt x="40" y="19"/>
                </a:moveTo>
                <a:cubicBezTo>
                  <a:pt x="37" y="19"/>
                  <a:pt x="37" y="21"/>
                  <a:pt x="37" y="22"/>
                </a:cubicBezTo>
                <a:cubicBezTo>
                  <a:pt x="35" y="28"/>
                  <a:pt x="30" y="32"/>
                  <a:pt x="24" y="32"/>
                </a:cubicBezTo>
                <a:cubicBezTo>
                  <a:pt x="20" y="32"/>
                  <a:pt x="17" y="31"/>
                  <a:pt x="15" y="28"/>
                </a:cubicBezTo>
                <a:cubicBezTo>
                  <a:pt x="13" y="27"/>
                  <a:pt x="12" y="27"/>
                  <a:pt x="11" y="28"/>
                </a:cubicBezTo>
                <a:cubicBezTo>
                  <a:pt x="9" y="29"/>
                  <a:pt x="9" y="31"/>
                  <a:pt x="11" y="32"/>
                </a:cubicBezTo>
                <a:cubicBezTo>
                  <a:pt x="14" y="36"/>
                  <a:pt x="19" y="38"/>
                  <a:pt x="24" y="38"/>
                </a:cubicBezTo>
                <a:cubicBezTo>
                  <a:pt x="32" y="38"/>
                  <a:pt x="39" y="32"/>
                  <a:pt x="42" y="25"/>
                </a:cubicBezTo>
                <a:cubicBezTo>
                  <a:pt x="47" y="25"/>
                  <a:pt x="47" y="25"/>
                  <a:pt x="47" y="25"/>
                </a:cubicBezTo>
                <a:cubicBezTo>
                  <a:pt x="47" y="19"/>
                  <a:pt x="47" y="19"/>
                  <a:pt x="47" y="19"/>
                </a:cubicBezTo>
                <a:lnTo>
                  <a:pt x="40" y="1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81" name="稻壳儿小白白(http://dwz.cn/Wu2UP)"/>
          <p:cNvSpPr/>
          <p:nvPr/>
        </p:nvSpPr>
        <p:spPr>
          <a:xfrm>
            <a:off x="5680080" y="4054320"/>
            <a:ext cx="210960" cy="211320"/>
          </a:xfrm>
          <a:custGeom>
            <a:avLst/>
            <a:gdLst/>
            <a:ahLst/>
            <a:rect l="l" t="t" r="r" b="b"/>
            <a:pathLst>
              <a:path w="44" h="44">
                <a:moveTo>
                  <a:pt x="10" y="26"/>
                </a:moveTo>
                <a:cubicBezTo>
                  <a:pt x="18" y="34"/>
                  <a:pt x="18" y="34"/>
                  <a:pt x="18" y="34"/>
                </a:cubicBezTo>
                <a:cubicBezTo>
                  <a:pt x="33" y="19"/>
                  <a:pt x="33" y="19"/>
                  <a:pt x="33" y="19"/>
                </a:cubicBezTo>
                <a:cubicBezTo>
                  <a:pt x="25" y="10"/>
                  <a:pt x="25" y="10"/>
                  <a:pt x="25" y="10"/>
                </a:cubicBezTo>
                <a:lnTo>
                  <a:pt x="10" y="26"/>
                </a:lnTo>
                <a:close/>
                <a:moveTo>
                  <a:pt x="43" y="14"/>
                </a:moveTo>
                <a:cubicBezTo>
                  <a:pt x="40" y="11"/>
                  <a:pt x="40" y="11"/>
                  <a:pt x="40" y="11"/>
                </a:cubicBezTo>
                <a:cubicBezTo>
                  <a:pt x="39" y="11"/>
                  <a:pt x="38" y="11"/>
                  <a:pt x="37" y="11"/>
                </a:cubicBezTo>
                <a:cubicBezTo>
                  <a:pt x="35" y="11"/>
                  <a:pt x="33" y="9"/>
                  <a:pt x="33" y="7"/>
                </a:cubicBezTo>
                <a:cubicBezTo>
                  <a:pt x="33" y="6"/>
                  <a:pt x="33" y="5"/>
                  <a:pt x="33" y="4"/>
                </a:cubicBezTo>
                <a:cubicBezTo>
                  <a:pt x="30" y="1"/>
                  <a:pt x="30" y="1"/>
                  <a:pt x="30" y="1"/>
                </a:cubicBezTo>
                <a:cubicBezTo>
                  <a:pt x="29" y="0"/>
                  <a:pt x="27" y="0"/>
                  <a:pt x="26" y="1"/>
                </a:cubicBezTo>
                <a:cubicBezTo>
                  <a:pt x="0" y="27"/>
                  <a:pt x="0" y="27"/>
                  <a:pt x="0" y="27"/>
                </a:cubicBezTo>
                <a:cubicBezTo>
                  <a:pt x="0" y="28"/>
                  <a:pt x="0" y="29"/>
                  <a:pt x="0" y="30"/>
                </a:cubicBezTo>
                <a:cubicBezTo>
                  <a:pt x="4" y="34"/>
                  <a:pt x="4" y="34"/>
                  <a:pt x="4" y="34"/>
                </a:cubicBezTo>
                <a:cubicBezTo>
                  <a:pt x="5" y="33"/>
                  <a:pt x="5" y="33"/>
                  <a:pt x="6" y="33"/>
                </a:cubicBezTo>
                <a:cubicBezTo>
                  <a:pt x="9" y="33"/>
                  <a:pt x="11" y="35"/>
                  <a:pt x="11" y="38"/>
                </a:cubicBezTo>
                <a:cubicBezTo>
                  <a:pt x="11" y="39"/>
                  <a:pt x="11" y="39"/>
                  <a:pt x="10" y="40"/>
                </a:cubicBezTo>
                <a:cubicBezTo>
                  <a:pt x="14" y="44"/>
                  <a:pt x="14" y="44"/>
                  <a:pt x="14" y="44"/>
                </a:cubicBezTo>
                <a:cubicBezTo>
                  <a:pt x="15" y="44"/>
                  <a:pt x="16" y="44"/>
                  <a:pt x="17" y="44"/>
                </a:cubicBezTo>
                <a:cubicBezTo>
                  <a:pt x="43" y="18"/>
                  <a:pt x="43" y="18"/>
                  <a:pt x="43" y="18"/>
                </a:cubicBezTo>
                <a:cubicBezTo>
                  <a:pt x="44" y="17"/>
                  <a:pt x="44" y="15"/>
                  <a:pt x="43" y="14"/>
                </a:cubicBezTo>
                <a:close/>
                <a:moveTo>
                  <a:pt x="18" y="38"/>
                </a:moveTo>
                <a:cubicBezTo>
                  <a:pt x="6" y="26"/>
                  <a:pt x="6" y="26"/>
                  <a:pt x="6" y="26"/>
                </a:cubicBezTo>
                <a:cubicBezTo>
                  <a:pt x="25" y="7"/>
                  <a:pt x="25" y="7"/>
                  <a:pt x="25" y="7"/>
                </a:cubicBezTo>
                <a:cubicBezTo>
                  <a:pt x="37" y="19"/>
                  <a:pt x="37" y="19"/>
                  <a:pt x="37" y="19"/>
                </a:cubicBezTo>
                <a:lnTo>
                  <a:pt x="18" y="3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82" name="稻壳儿小白白(http://dwz.cn/Wu2UP)"/>
          <p:cNvSpPr/>
          <p:nvPr/>
        </p:nvSpPr>
        <p:spPr>
          <a:xfrm>
            <a:off x="7508880" y="3164040"/>
            <a:ext cx="158760" cy="187200"/>
          </a:xfrm>
          <a:custGeom>
            <a:avLst/>
            <a:gdLst/>
            <a:ahLst/>
            <a:rect l="l" t="t" r="r" b="b"/>
            <a:pathLst>
              <a:path w="33" h="39">
                <a:moveTo>
                  <a:pt x="16" y="0"/>
                </a:moveTo>
                <a:cubicBezTo>
                  <a:pt x="6" y="0"/>
                  <a:pt x="0" y="4"/>
                  <a:pt x="0" y="6"/>
                </a:cubicBezTo>
                <a:cubicBezTo>
                  <a:pt x="4" y="34"/>
                  <a:pt x="4" y="34"/>
                  <a:pt x="4" y="34"/>
                </a:cubicBezTo>
                <a:cubicBezTo>
                  <a:pt x="4" y="35"/>
                  <a:pt x="9" y="39"/>
                  <a:pt x="16" y="39"/>
                </a:cubicBezTo>
                <a:cubicBezTo>
                  <a:pt x="24" y="39"/>
                  <a:pt x="29" y="35"/>
                  <a:pt x="29" y="34"/>
                </a:cubicBezTo>
                <a:cubicBezTo>
                  <a:pt x="32" y="6"/>
                  <a:pt x="32" y="6"/>
                  <a:pt x="32" y="6"/>
                </a:cubicBezTo>
                <a:cubicBezTo>
                  <a:pt x="33" y="4"/>
                  <a:pt x="26" y="0"/>
                  <a:pt x="16" y="0"/>
                </a:cubicBezTo>
                <a:close/>
                <a:moveTo>
                  <a:pt x="16" y="10"/>
                </a:moveTo>
                <a:cubicBezTo>
                  <a:pt x="9" y="10"/>
                  <a:pt x="4" y="8"/>
                  <a:pt x="4" y="7"/>
                </a:cubicBezTo>
                <a:cubicBezTo>
                  <a:pt x="4" y="6"/>
                  <a:pt x="9" y="3"/>
                  <a:pt x="16" y="3"/>
                </a:cubicBezTo>
                <a:cubicBezTo>
                  <a:pt x="24" y="3"/>
                  <a:pt x="29" y="6"/>
                  <a:pt x="29" y="7"/>
                </a:cubicBezTo>
                <a:cubicBezTo>
                  <a:pt x="29" y="8"/>
                  <a:pt x="24" y="10"/>
                  <a:pt x="16" y="1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83" name="稻壳儿小白白(http://dwz.cn/Wu2UP)"/>
          <p:cNvSpPr/>
          <p:nvPr/>
        </p:nvSpPr>
        <p:spPr>
          <a:xfrm>
            <a:off x="8388360" y="4092480"/>
            <a:ext cx="201600" cy="133560"/>
          </a:xfrm>
          <a:custGeom>
            <a:avLst/>
            <a:gdLst/>
            <a:ahLst/>
            <a:rect l="l" t="t" r="r" b="b"/>
            <a:pathLst>
              <a:path w="42" h="28">
                <a:moveTo>
                  <a:pt x="40" y="0"/>
                </a:moveTo>
                <a:cubicBezTo>
                  <a:pt x="19" y="0"/>
                  <a:pt x="19" y="0"/>
                  <a:pt x="19" y="0"/>
                </a:cubicBezTo>
                <a:cubicBezTo>
                  <a:pt x="19" y="12"/>
                  <a:pt x="19" y="12"/>
                  <a:pt x="19" y="12"/>
                </a:cubicBezTo>
                <a:cubicBezTo>
                  <a:pt x="42" y="12"/>
                  <a:pt x="42" y="12"/>
                  <a:pt x="42" y="12"/>
                </a:cubicBezTo>
                <a:cubicBezTo>
                  <a:pt x="42" y="2"/>
                  <a:pt x="42" y="2"/>
                  <a:pt x="42" y="2"/>
                </a:cubicBezTo>
                <a:cubicBezTo>
                  <a:pt x="42" y="1"/>
                  <a:pt x="41" y="0"/>
                  <a:pt x="40" y="0"/>
                </a:cubicBezTo>
                <a:close/>
                <a:moveTo>
                  <a:pt x="0" y="26"/>
                </a:moveTo>
                <a:cubicBezTo>
                  <a:pt x="0" y="27"/>
                  <a:pt x="0" y="28"/>
                  <a:pt x="2" y="28"/>
                </a:cubicBezTo>
                <a:cubicBezTo>
                  <a:pt x="14" y="28"/>
                  <a:pt x="14" y="28"/>
                  <a:pt x="14" y="28"/>
                </a:cubicBezTo>
                <a:cubicBezTo>
                  <a:pt x="14" y="16"/>
                  <a:pt x="14" y="16"/>
                  <a:pt x="14" y="16"/>
                </a:cubicBezTo>
                <a:cubicBezTo>
                  <a:pt x="0" y="16"/>
                  <a:pt x="0" y="16"/>
                  <a:pt x="0" y="16"/>
                </a:cubicBezTo>
                <a:lnTo>
                  <a:pt x="0" y="26"/>
                </a:lnTo>
                <a:close/>
                <a:moveTo>
                  <a:pt x="19" y="28"/>
                </a:moveTo>
                <a:cubicBezTo>
                  <a:pt x="40" y="28"/>
                  <a:pt x="40" y="28"/>
                  <a:pt x="40" y="28"/>
                </a:cubicBezTo>
                <a:cubicBezTo>
                  <a:pt x="41" y="28"/>
                  <a:pt x="42" y="27"/>
                  <a:pt x="42" y="26"/>
                </a:cubicBezTo>
                <a:cubicBezTo>
                  <a:pt x="42" y="16"/>
                  <a:pt x="42" y="16"/>
                  <a:pt x="42" y="16"/>
                </a:cubicBezTo>
                <a:cubicBezTo>
                  <a:pt x="19" y="16"/>
                  <a:pt x="19" y="16"/>
                  <a:pt x="19" y="16"/>
                </a:cubicBezTo>
                <a:lnTo>
                  <a:pt x="19" y="28"/>
                </a:lnTo>
                <a:close/>
                <a:moveTo>
                  <a:pt x="0" y="2"/>
                </a:moveTo>
                <a:cubicBezTo>
                  <a:pt x="0" y="12"/>
                  <a:pt x="0" y="12"/>
                  <a:pt x="0" y="12"/>
                </a:cubicBezTo>
                <a:cubicBezTo>
                  <a:pt x="14" y="12"/>
                  <a:pt x="14" y="12"/>
                  <a:pt x="14" y="12"/>
                </a:cubicBezTo>
                <a:cubicBezTo>
                  <a:pt x="14" y="0"/>
                  <a:pt x="14" y="0"/>
                  <a:pt x="14" y="0"/>
                </a:cubicBezTo>
                <a:cubicBezTo>
                  <a:pt x="2" y="0"/>
                  <a:pt x="2" y="0"/>
                  <a:pt x="2" y="0"/>
                </a:cubicBezTo>
                <a:cubicBezTo>
                  <a:pt x="0" y="0"/>
                  <a:pt x="0" y="1"/>
                  <a:pt x="0" y="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84" name="稻壳儿小白白(http://dwz.cn/Wu2UP)"/>
          <p:cNvSpPr/>
          <p:nvPr/>
        </p:nvSpPr>
        <p:spPr>
          <a:xfrm>
            <a:off x="9761400" y="5415120"/>
            <a:ext cx="158760" cy="201600"/>
          </a:xfrm>
          <a:custGeom>
            <a:avLst/>
            <a:gdLst/>
            <a:ahLst/>
            <a:rect l="l" t="t" r="r" b="b"/>
            <a:pathLst>
              <a:path w="33" h="42">
                <a:moveTo>
                  <a:pt x="10" y="23"/>
                </a:moveTo>
                <a:cubicBezTo>
                  <a:pt x="23" y="23"/>
                  <a:pt x="23" y="23"/>
                  <a:pt x="23" y="23"/>
                </a:cubicBezTo>
                <a:cubicBezTo>
                  <a:pt x="23" y="19"/>
                  <a:pt x="23" y="19"/>
                  <a:pt x="23" y="19"/>
                </a:cubicBezTo>
                <a:cubicBezTo>
                  <a:pt x="10" y="19"/>
                  <a:pt x="10" y="19"/>
                  <a:pt x="10" y="19"/>
                </a:cubicBezTo>
                <a:lnTo>
                  <a:pt x="10" y="23"/>
                </a:lnTo>
                <a:close/>
                <a:moveTo>
                  <a:pt x="28" y="0"/>
                </a:moveTo>
                <a:cubicBezTo>
                  <a:pt x="5" y="0"/>
                  <a:pt x="5" y="0"/>
                  <a:pt x="5" y="0"/>
                </a:cubicBezTo>
                <a:cubicBezTo>
                  <a:pt x="2" y="0"/>
                  <a:pt x="0" y="2"/>
                  <a:pt x="0" y="4"/>
                </a:cubicBezTo>
                <a:cubicBezTo>
                  <a:pt x="0" y="37"/>
                  <a:pt x="0" y="37"/>
                  <a:pt x="0" y="37"/>
                </a:cubicBezTo>
                <a:cubicBezTo>
                  <a:pt x="0" y="40"/>
                  <a:pt x="2" y="42"/>
                  <a:pt x="5" y="42"/>
                </a:cubicBezTo>
                <a:cubicBezTo>
                  <a:pt x="28" y="42"/>
                  <a:pt x="28" y="42"/>
                  <a:pt x="28" y="42"/>
                </a:cubicBezTo>
                <a:cubicBezTo>
                  <a:pt x="31" y="42"/>
                  <a:pt x="33" y="40"/>
                  <a:pt x="33" y="37"/>
                </a:cubicBezTo>
                <a:cubicBezTo>
                  <a:pt x="33" y="4"/>
                  <a:pt x="33" y="4"/>
                  <a:pt x="33" y="4"/>
                </a:cubicBezTo>
                <a:cubicBezTo>
                  <a:pt x="33" y="2"/>
                  <a:pt x="31" y="0"/>
                  <a:pt x="28" y="0"/>
                </a:cubicBezTo>
                <a:close/>
                <a:moveTo>
                  <a:pt x="28" y="37"/>
                </a:moveTo>
                <a:cubicBezTo>
                  <a:pt x="5" y="37"/>
                  <a:pt x="5" y="37"/>
                  <a:pt x="5" y="37"/>
                </a:cubicBezTo>
                <a:cubicBezTo>
                  <a:pt x="5" y="4"/>
                  <a:pt x="5" y="4"/>
                  <a:pt x="5" y="4"/>
                </a:cubicBezTo>
                <a:cubicBezTo>
                  <a:pt x="28" y="4"/>
                  <a:pt x="28" y="4"/>
                  <a:pt x="28" y="4"/>
                </a:cubicBezTo>
                <a:lnTo>
                  <a:pt x="28" y="37"/>
                </a:lnTo>
                <a:close/>
                <a:moveTo>
                  <a:pt x="23" y="9"/>
                </a:moveTo>
                <a:cubicBezTo>
                  <a:pt x="10" y="9"/>
                  <a:pt x="10" y="9"/>
                  <a:pt x="10" y="9"/>
                </a:cubicBezTo>
                <a:cubicBezTo>
                  <a:pt x="10" y="13"/>
                  <a:pt x="10" y="13"/>
                  <a:pt x="10" y="13"/>
                </a:cubicBezTo>
                <a:cubicBezTo>
                  <a:pt x="23" y="13"/>
                  <a:pt x="23" y="13"/>
                  <a:pt x="23" y="13"/>
                </a:cubicBezTo>
                <a:lnTo>
                  <a:pt x="23" y="9"/>
                </a:lnTo>
                <a:close/>
                <a:moveTo>
                  <a:pt x="23" y="28"/>
                </a:moveTo>
                <a:cubicBezTo>
                  <a:pt x="10" y="28"/>
                  <a:pt x="10" y="28"/>
                  <a:pt x="10" y="28"/>
                </a:cubicBezTo>
                <a:cubicBezTo>
                  <a:pt x="10" y="32"/>
                  <a:pt x="10" y="32"/>
                  <a:pt x="10" y="32"/>
                </a:cubicBezTo>
                <a:cubicBezTo>
                  <a:pt x="23" y="32"/>
                  <a:pt x="23" y="32"/>
                  <a:pt x="23" y="32"/>
                </a:cubicBezTo>
                <a:lnTo>
                  <a:pt x="23" y="2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85" name="稻壳儿小白白(http://dwz.cn/Wu2UP)"/>
          <p:cNvSpPr/>
          <p:nvPr/>
        </p:nvSpPr>
        <p:spPr>
          <a:xfrm>
            <a:off x="5232240" y="4068720"/>
            <a:ext cx="203400" cy="182520"/>
          </a:xfrm>
          <a:custGeom>
            <a:avLst/>
            <a:gdLst/>
            <a:ahLst/>
            <a:rect l="l" t="t" r="r" b="b"/>
            <a:pathLst>
              <a:path w="42" h="38">
                <a:moveTo>
                  <a:pt x="41" y="0"/>
                </a:moveTo>
                <a:cubicBezTo>
                  <a:pt x="1" y="0"/>
                  <a:pt x="1" y="0"/>
                  <a:pt x="1" y="0"/>
                </a:cubicBezTo>
                <a:cubicBezTo>
                  <a:pt x="0" y="0"/>
                  <a:pt x="0" y="1"/>
                  <a:pt x="0" y="2"/>
                </a:cubicBezTo>
                <a:cubicBezTo>
                  <a:pt x="0" y="7"/>
                  <a:pt x="0" y="7"/>
                  <a:pt x="0" y="7"/>
                </a:cubicBezTo>
                <a:cubicBezTo>
                  <a:pt x="42" y="7"/>
                  <a:pt x="42" y="7"/>
                  <a:pt x="42" y="7"/>
                </a:cubicBezTo>
                <a:cubicBezTo>
                  <a:pt x="42" y="2"/>
                  <a:pt x="42" y="2"/>
                  <a:pt x="42" y="2"/>
                </a:cubicBezTo>
                <a:cubicBezTo>
                  <a:pt x="42" y="1"/>
                  <a:pt x="41" y="0"/>
                  <a:pt x="41" y="0"/>
                </a:cubicBezTo>
                <a:close/>
                <a:moveTo>
                  <a:pt x="2" y="35"/>
                </a:moveTo>
                <a:cubicBezTo>
                  <a:pt x="2" y="36"/>
                  <a:pt x="4" y="38"/>
                  <a:pt x="5" y="38"/>
                </a:cubicBezTo>
                <a:cubicBezTo>
                  <a:pt x="36" y="38"/>
                  <a:pt x="36" y="38"/>
                  <a:pt x="36" y="38"/>
                </a:cubicBezTo>
                <a:cubicBezTo>
                  <a:pt x="38" y="38"/>
                  <a:pt x="40" y="36"/>
                  <a:pt x="40" y="35"/>
                </a:cubicBezTo>
                <a:cubicBezTo>
                  <a:pt x="40" y="10"/>
                  <a:pt x="40" y="10"/>
                  <a:pt x="40" y="10"/>
                </a:cubicBezTo>
                <a:cubicBezTo>
                  <a:pt x="2" y="10"/>
                  <a:pt x="2" y="10"/>
                  <a:pt x="2" y="10"/>
                </a:cubicBezTo>
                <a:lnTo>
                  <a:pt x="2" y="35"/>
                </a:lnTo>
                <a:close/>
                <a:moveTo>
                  <a:pt x="14" y="14"/>
                </a:moveTo>
                <a:cubicBezTo>
                  <a:pt x="28" y="14"/>
                  <a:pt x="28" y="14"/>
                  <a:pt x="28" y="14"/>
                </a:cubicBezTo>
                <a:cubicBezTo>
                  <a:pt x="28" y="19"/>
                  <a:pt x="28" y="19"/>
                  <a:pt x="28" y="19"/>
                </a:cubicBezTo>
                <a:cubicBezTo>
                  <a:pt x="14" y="19"/>
                  <a:pt x="14" y="19"/>
                  <a:pt x="14" y="19"/>
                </a:cubicBezTo>
                <a:lnTo>
                  <a:pt x="14" y="1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86" name="稻壳儿小白白(http://dwz.cn/Wu2UP)"/>
          <p:cNvSpPr/>
          <p:nvPr/>
        </p:nvSpPr>
        <p:spPr>
          <a:xfrm>
            <a:off x="4781520" y="4057560"/>
            <a:ext cx="201600" cy="201600"/>
          </a:xfrm>
          <a:custGeom>
            <a:avLst/>
            <a:gdLst/>
            <a:ahLst/>
            <a:rect l="l" t="t" r="r" b="b"/>
            <a:pathLst>
              <a:path w="42" h="42">
                <a:moveTo>
                  <a:pt x="7" y="38"/>
                </a:moveTo>
                <a:cubicBezTo>
                  <a:pt x="7" y="40"/>
                  <a:pt x="9" y="42"/>
                  <a:pt x="12" y="42"/>
                </a:cubicBezTo>
                <a:cubicBezTo>
                  <a:pt x="14" y="42"/>
                  <a:pt x="16" y="40"/>
                  <a:pt x="16" y="38"/>
                </a:cubicBezTo>
                <a:cubicBezTo>
                  <a:pt x="16" y="35"/>
                  <a:pt x="14" y="33"/>
                  <a:pt x="12" y="33"/>
                </a:cubicBezTo>
                <a:cubicBezTo>
                  <a:pt x="9" y="33"/>
                  <a:pt x="7" y="35"/>
                  <a:pt x="7" y="38"/>
                </a:cubicBezTo>
                <a:close/>
                <a:moveTo>
                  <a:pt x="31" y="38"/>
                </a:moveTo>
                <a:cubicBezTo>
                  <a:pt x="31" y="40"/>
                  <a:pt x="33" y="42"/>
                  <a:pt x="35" y="42"/>
                </a:cubicBezTo>
                <a:cubicBezTo>
                  <a:pt x="38" y="42"/>
                  <a:pt x="40" y="40"/>
                  <a:pt x="40" y="38"/>
                </a:cubicBezTo>
                <a:cubicBezTo>
                  <a:pt x="40" y="35"/>
                  <a:pt x="38" y="33"/>
                  <a:pt x="35" y="33"/>
                </a:cubicBezTo>
                <a:cubicBezTo>
                  <a:pt x="33" y="33"/>
                  <a:pt x="31" y="35"/>
                  <a:pt x="31" y="38"/>
                </a:cubicBezTo>
                <a:close/>
                <a:moveTo>
                  <a:pt x="15" y="26"/>
                </a:moveTo>
                <a:cubicBezTo>
                  <a:pt x="41" y="19"/>
                  <a:pt x="41" y="19"/>
                  <a:pt x="41" y="19"/>
                </a:cubicBezTo>
                <a:cubicBezTo>
                  <a:pt x="42" y="19"/>
                  <a:pt x="42" y="18"/>
                  <a:pt x="42" y="18"/>
                </a:cubicBezTo>
                <a:cubicBezTo>
                  <a:pt x="42" y="5"/>
                  <a:pt x="42" y="5"/>
                  <a:pt x="42" y="5"/>
                </a:cubicBezTo>
                <a:cubicBezTo>
                  <a:pt x="9" y="5"/>
                  <a:pt x="9" y="5"/>
                  <a:pt x="9" y="5"/>
                </a:cubicBezTo>
                <a:cubicBezTo>
                  <a:pt x="9" y="1"/>
                  <a:pt x="9" y="1"/>
                  <a:pt x="9" y="1"/>
                </a:cubicBezTo>
                <a:cubicBezTo>
                  <a:pt x="9" y="0"/>
                  <a:pt x="9" y="0"/>
                  <a:pt x="8" y="0"/>
                </a:cubicBezTo>
                <a:cubicBezTo>
                  <a:pt x="1" y="0"/>
                  <a:pt x="1" y="0"/>
                  <a:pt x="1" y="0"/>
                </a:cubicBezTo>
                <a:cubicBezTo>
                  <a:pt x="0" y="0"/>
                  <a:pt x="0" y="0"/>
                  <a:pt x="0" y="1"/>
                </a:cubicBezTo>
                <a:cubicBezTo>
                  <a:pt x="0" y="5"/>
                  <a:pt x="0" y="5"/>
                  <a:pt x="0" y="5"/>
                </a:cubicBezTo>
                <a:cubicBezTo>
                  <a:pt x="5" y="5"/>
                  <a:pt x="5" y="5"/>
                  <a:pt x="5" y="5"/>
                </a:cubicBezTo>
                <a:cubicBezTo>
                  <a:pt x="9" y="26"/>
                  <a:pt x="9" y="26"/>
                  <a:pt x="9" y="26"/>
                </a:cubicBezTo>
                <a:cubicBezTo>
                  <a:pt x="10" y="28"/>
                  <a:pt x="10" y="28"/>
                  <a:pt x="10" y="28"/>
                </a:cubicBezTo>
                <a:cubicBezTo>
                  <a:pt x="10" y="32"/>
                  <a:pt x="10" y="32"/>
                  <a:pt x="10" y="32"/>
                </a:cubicBezTo>
                <a:cubicBezTo>
                  <a:pt x="10" y="32"/>
                  <a:pt x="10" y="33"/>
                  <a:pt x="11" y="33"/>
                </a:cubicBezTo>
                <a:cubicBezTo>
                  <a:pt x="12" y="33"/>
                  <a:pt x="12" y="33"/>
                  <a:pt x="12" y="33"/>
                </a:cubicBezTo>
                <a:cubicBezTo>
                  <a:pt x="35" y="33"/>
                  <a:pt x="35" y="33"/>
                  <a:pt x="35" y="33"/>
                </a:cubicBezTo>
                <a:cubicBezTo>
                  <a:pt x="41" y="33"/>
                  <a:pt x="41" y="33"/>
                  <a:pt x="41" y="33"/>
                </a:cubicBezTo>
                <a:cubicBezTo>
                  <a:pt x="42" y="33"/>
                  <a:pt x="42" y="32"/>
                  <a:pt x="42" y="32"/>
                </a:cubicBezTo>
                <a:cubicBezTo>
                  <a:pt x="42" y="28"/>
                  <a:pt x="42" y="28"/>
                  <a:pt x="42" y="28"/>
                </a:cubicBezTo>
                <a:cubicBezTo>
                  <a:pt x="16" y="28"/>
                  <a:pt x="16" y="28"/>
                  <a:pt x="16" y="28"/>
                </a:cubicBezTo>
                <a:cubicBezTo>
                  <a:pt x="13" y="28"/>
                  <a:pt x="13" y="27"/>
                  <a:pt x="15" y="2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87" name="稻壳儿小白白(http://dwz.cn/Wu2UP)"/>
          <p:cNvSpPr/>
          <p:nvPr/>
        </p:nvSpPr>
        <p:spPr>
          <a:xfrm>
            <a:off x="4354560" y="4048200"/>
            <a:ext cx="158760" cy="225360"/>
          </a:xfrm>
          <a:custGeom>
            <a:avLst/>
            <a:gdLst/>
            <a:ahLst/>
            <a:rect l="l" t="t" r="r" b="b"/>
            <a:pathLst>
              <a:path w="33" h="47">
                <a:moveTo>
                  <a:pt x="29" y="4"/>
                </a:moveTo>
                <a:cubicBezTo>
                  <a:pt x="27" y="11"/>
                  <a:pt x="27" y="11"/>
                  <a:pt x="27" y="11"/>
                </a:cubicBezTo>
                <a:cubicBezTo>
                  <a:pt x="6" y="11"/>
                  <a:pt x="6" y="11"/>
                  <a:pt x="6" y="11"/>
                </a:cubicBezTo>
                <a:cubicBezTo>
                  <a:pt x="3" y="4"/>
                  <a:pt x="3" y="4"/>
                  <a:pt x="3" y="4"/>
                </a:cubicBezTo>
                <a:cubicBezTo>
                  <a:pt x="1" y="4"/>
                  <a:pt x="0" y="6"/>
                  <a:pt x="0" y="8"/>
                </a:cubicBezTo>
                <a:cubicBezTo>
                  <a:pt x="0" y="43"/>
                  <a:pt x="0" y="43"/>
                  <a:pt x="0" y="43"/>
                </a:cubicBezTo>
                <a:cubicBezTo>
                  <a:pt x="0" y="45"/>
                  <a:pt x="1" y="47"/>
                  <a:pt x="3" y="47"/>
                </a:cubicBezTo>
                <a:cubicBezTo>
                  <a:pt x="29" y="47"/>
                  <a:pt x="29" y="47"/>
                  <a:pt x="29" y="47"/>
                </a:cubicBezTo>
                <a:cubicBezTo>
                  <a:pt x="31" y="47"/>
                  <a:pt x="33" y="45"/>
                  <a:pt x="33" y="43"/>
                </a:cubicBezTo>
                <a:cubicBezTo>
                  <a:pt x="33" y="8"/>
                  <a:pt x="33" y="8"/>
                  <a:pt x="33" y="8"/>
                </a:cubicBezTo>
                <a:cubicBezTo>
                  <a:pt x="33" y="6"/>
                  <a:pt x="31" y="4"/>
                  <a:pt x="29" y="4"/>
                </a:cubicBezTo>
                <a:close/>
                <a:moveTo>
                  <a:pt x="25" y="9"/>
                </a:moveTo>
                <a:cubicBezTo>
                  <a:pt x="27" y="4"/>
                  <a:pt x="27" y="4"/>
                  <a:pt x="27" y="4"/>
                </a:cubicBezTo>
                <a:cubicBezTo>
                  <a:pt x="22" y="4"/>
                  <a:pt x="22" y="4"/>
                  <a:pt x="22" y="4"/>
                </a:cubicBezTo>
                <a:cubicBezTo>
                  <a:pt x="20" y="0"/>
                  <a:pt x="20" y="0"/>
                  <a:pt x="20" y="0"/>
                </a:cubicBezTo>
                <a:cubicBezTo>
                  <a:pt x="13" y="0"/>
                  <a:pt x="13" y="0"/>
                  <a:pt x="13" y="0"/>
                </a:cubicBezTo>
                <a:cubicBezTo>
                  <a:pt x="11" y="4"/>
                  <a:pt x="11" y="4"/>
                  <a:pt x="11" y="4"/>
                </a:cubicBezTo>
                <a:cubicBezTo>
                  <a:pt x="6" y="4"/>
                  <a:pt x="6" y="4"/>
                  <a:pt x="6" y="4"/>
                </a:cubicBezTo>
                <a:cubicBezTo>
                  <a:pt x="8" y="9"/>
                  <a:pt x="8" y="9"/>
                  <a:pt x="8" y="9"/>
                </a:cubicBezTo>
                <a:lnTo>
                  <a:pt x="25" y="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88" name="稻壳儿小白白(http://dwz.cn/Wu2UP)"/>
          <p:cNvSpPr/>
          <p:nvPr/>
        </p:nvSpPr>
        <p:spPr>
          <a:xfrm>
            <a:off x="9307440" y="3597120"/>
            <a:ext cx="166680" cy="225720"/>
          </a:xfrm>
          <a:custGeom>
            <a:avLst/>
            <a:gdLst/>
            <a:ahLst/>
            <a:rect l="l" t="t" r="r" b="b"/>
            <a:pathLst>
              <a:path w="35" h="47">
                <a:moveTo>
                  <a:pt x="11" y="45"/>
                </a:moveTo>
                <a:cubicBezTo>
                  <a:pt x="13" y="46"/>
                  <a:pt x="15" y="47"/>
                  <a:pt x="18" y="47"/>
                </a:cubicBezTo>
                <a:cubicBezTo>
                  <a:pt x="20" y="47"/>
                  <a:pt x="22" y="46"/>
                  <a:pt x="24" y="45"/>
                </a:cubicBezTo>
                <a:cubicBezTo>
                  <a:pt x="24" y="40"/>
                  <a:pt x="24" y="40"/>
                  <a:pt x="24" y="40"/>
                </a:cubicBezTo>
                <a:cubicBezTo>
                  <a:pt x="11" y="40"/>
                  <a:pt x="11" y="40"/>
                  <a:pt x="11" y="40"/>
                </a:cubicBezTo>
                <a:lnTo>
                  <a:pt x="11" y="45"/>
                </a:lnTo>
                <a:close/>
                <a:moveTo>
                  <a:pt x="24" y="37"/>
                </a:moveTo>
                <a:cubicBezTo>
                  <a:pt x="24" y="27"/>
                  <a:pt x="35" y="24"/>
                  <a:pt x="34" y="13"/>
                </a:cubicBezTo>
                <a:cubicBezTo>
                  <a:pt x="34" y="7"/>
                  <a:pt x="29" y="0"/>
                  <a:pt x="18" y="0"/>
                </a:cubicBezTo>
                <a:cubicBezTo>
                  <a:pt x="6" y="0"/>
                  <a:pt x="2" y="7"/>
                  <a:pt x="1" y="13"/>
                </a:cubicBezTo>
                <a:cubicBezTo>
                  <a:pt x="0" y="24"/>
                  <a:pt x="11" y="27"/>
                  <a:pt x="11" y="37"/>
                </a:cubicBezTo>
                <a:lnTo>
                  <a:pt x="24" y="37"/>
                </a:lnTo>
                <a:close/>
                <a:moveTo>
                  <a:pt x="6" y="14"/>
                </a:moveTo>
                <a:cubicBezTo>
                  <a:pt x="7" y="8"/>
                  <a:pt x="11" y="5"/>
                  <a:pt x="18" y="5"/>
                </a:cubicBezTo>
                <a:cubicBezTo>
                  <a:pt x="24" y="5"/>
                  <a:pt x="29" y="8"/>
                  <a:pt x="29" y="14"/>
                </a:cubicBezTo>
                <a:cubicBezTo>
                  <a:pt x="29" y="17"/>
                  <a:pt x="27" y="19"/>
                  <a:pt x="25" y="23"/>
                </a:cubicBezTo>
                <a:cubicBezTo>
                  <a:pt x="23" y="26"/>
                  <a:pt x="21" y="29"/>
                  <a:pt x="20" y="33"/>
                </a:cubicBezTo>
                <a:cubicBezTo>
                  <a:pt x="16" y="33"/>
                  <a:pt x="16" y="33"/>
                  <a:pt x="16" y="33"/>
                </a:cubicBezTo>
                <a:cubicBezTo>
                  <a:pt x="15" y="29"/>
                  <a:pt x="12" y="26"/>
                  <a:pt x="10" y="23"/>
                </a:cubicBezTo>
                <a:cubicBezTo>
                  <a:pt x="8" y="19"/>
                  <a:pt x="6" y="17"/>
                  <a:pt x="6" y="1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89" name="稻壳儿小白白(http://dwz.cn/Wu2UP)"/>
          <p:cNvSpPr/>
          <p:nvPr/>
        </p:nvSpPr>
        <p:spPr>
          <a:xfrm>
            <a:off x="5684760" y="4508640"/>
            <a:ext cx="201600" cy="203040"/>
          </a:xfrm>
          <a:custGeom>
            <a:avLst/>
            <a:gdLst/>
            <a:ahLst/>
            <a:rect l="l" t="t" r="r" b="b"/>
            <a:pathLst>
              <a:path w="42" h="42">
                <a:moveTo>
                  <a:pt x="23" y="37"/>
                </a:moveTo>
                <a:cubicBezTo>
                  <a:pt x="4" y="37"/>
                  <a:pt x="4" y="37"/>
                  <a:pt x="4" y="37"/>
                </a:cubicBezTo>
                <a:cubicBezTo>
                  <a:pt x="4" y="5"/>
                  <a:pt x="4" y="5"/>
                  <a:pt x="4" y="5"/>
                </a:cubicBezTo>
                <a:cubicBezTo>
                  <a:pt x="23" y="5"/>
                  <a:pt x="23" y="5"/>
                  <a:pt x="23" y="5"/>
                </a:cubicBezTo>
                <a:cubicBezTo>
                  <a:pt x="23" y="12"/>
                  <a:pt x="23" y="12"/>
                  <a:pt x="23" y="12"/>
                </a:cubicBezTo>
                <a:cubicBezTo>
                  <a:pt x="28" y="12"/>
                  <a:pt x="28" y="12"/>
                  <a:pt x="28" y="12"/>
                </a:cubicBezTo>
                <a:cubicBezTo>
                  <a:pt x="28" y="5"/>
                  <a:pt x="28" y="5"/>
                  <a:pt x="28" y="5"/>
                </a:cubicBezTo>
                <a:cubicBezTo>
                  <a:pt x="28" y="2"/>
                  <a:pt x="26" y="0"/>
                  <a:pt x="23" y="0"/>
                </a:cubicBezTo>
                <a:cubicBezTo>
                  <a:pt x="4" y="0"/>
                  <a:pt x="4" y="0"/>
                  <a:pt x="4" y="0"/>
                </a:cubicBezTo>
                <a:cubicBezTo>
                  <a:pt x="2" y="0"/>
                  <a:pt x="0" y="2"/>
                  <a:pt x="0" y="5"/>
                </a:cubicBezTo>
                <a:cubicBezTo>
                  <a:pt x="0" y="37"/>
                  <a:pt x="0" y="37"/>
                  <a:pt x="0" y="37"/>
                </a:cubicBezTo>
                <a:cubicBezTo>
                  <a:pt x="0" y="40"/>
                  <a:pt x="2" y="42"/>
                  <a:pt x="4" y="42"/>
                </a:cubicBezTo>
                <a:cubicBezTo>
                  <a:pt x="23" y="42"/>
                  <a:pt x="23" y="42"/>
                  <a:pt x="23" y="42"/>
                </a:cubicBezTo>
                <a:cubicBezTo>
                  <a:pt x="26" y="42"/>
                  <a:pt x="28" y="40"/>
                  <a:pt x="28" y="37"/>
                </a:cubicBezTo>
                <a:cubicBezTo>
                  <a:pt x="28" y="33"/>
                  <a:pt x="28" y="33"/>
                  <a:pt x="28" y="33"/>
                </a:cubicBezTo>
                <a:cubicBezTo>
                  <a:pt x="23" y="33"/>
                  <a:pt x="23" y="33"/>
                  <a:pt x="23" y="33"/>
                </a:cubicBezTo>
                <a:lnTo>
                  <a:pt x="23" y="37"/>
                </a:lnTo>
                <a:close/>
                <a:moveTo>
                  <a:pt x="42" y="22"/>
                </a:moveTo>
                <a:cubicBezTo>
                  <a:pt x="33" y="13"/>
                  <a:pt x="33" y="13"/>
                  <a:pt x="33" y="13"/>
                </a:cubicBezTo>
                <a:cubicBezTo>
                  <a:pt x="33" y="19"/>
                  <a:pt x="33" y="19"/>
                  <a:pt x="33" y="19"/>
                </a:cubicBezTo>
                <a:cubicBezTo>
                  <a:pt x="11" y="19"/>
                  <a:pt x="11" y="19"/>
                  <a:pt x="11" y="19"/>
                </a:cubicBezTo>
                <a:cubicBezTo>
                  <a:pt x="11" y="26"/>
                  <a:pt x="11" y="26"/>
                  <a:pt x="11" y="26"/>
                </a:cubicBezTo>
                <a:cubicBezTo>
                  <a:pt x="33" y="26"/>
                  <a:pt x="33" y="26"/>
                  <a:pt x="33" y="26"/>
                </a:cubicBezTo>
                <a:cubicBezTo>
                  <a:pt x="33" y="31"/>
                  <a:pt x="33" y="31"/>
                  <a:pt x="33" y="31"/>
                </a:cubicBezTo>
                <a:lnTo>
                  <a:pt x="42" y="2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90" name="稻壳儿小白白(http://dwz.cn/Wu2UP)"/>
          <p:cNvSpPr/>
          <p:nvPr/>
        </p:nvSpPr>
        <p:spPr>
          <a:xfrm>
            <a:off x="5224320" y="5446800"/>
            <a:ext cx="219240" cy="135000"/>
          </a:xfrm>
          <a:custGeom>
            <a:avLst/>
            <a:gdLst/>
            <a:ahLst/>
            <a:rect l="l" t="t" r="r" b="b"/>
            <a:pathLst>
              <a:path w="46" h="28">
                <a:moveTo>
                  <a:pt x="11" y="21"/>
                </a:moveTo>
                <a:cubicBezTo>
                  <a:pt x="11" y="9"/>
                  <a:pt x="11" y="9"/>
                  <a:pt x="11" y="9"/>
                </a:cubicBezTo>
                <a:cubicBezTo>
                  <a:pt x="16" y="9"/>
                  <a:pt x="16" y="9"/>
                  <a:pt x="16" y="9"/>
                </a:cubicBezTo>
                <a:cubicBezTo>
                  <a:pt x="8" y="0"/>
                  <a:pt x="8" y="0"/>
                  <a:pt x="8" y="0"/>
                </a:cubicBezTo>
                <a:cubicBezTo>
                  <a:pt x="0" y="9"/>
                  <a:pt x="0" y="9"/>
                  <a:pt x="0" y="9"/>
                </a:cubicBezTo>
                <a:cubicBezTo>
                  <a:pt x="4" y="9"/>
                  <a:pt x="4" y="9"/>
                  <a:pt x="4" y="9"/>
                </a:cubicBezTo>
                <a:cubicBezTo>
                  <a:pt x="4" y="23"/>
                  <a:pt x="4" y="23"/>
                  <a:pt x="4" y="23"/>
                </a:cubicBezTo>
                <a:cubicBezTo>
                  <a:pt x="4" y="26"/>
                  <a:pt x="6" y="28"/>
                  <a:pt x="9" y="28"/>
                </a:cubicBezTo>
                <a:cubicBezTo>
                  <a:pt x="30" y="28"/>
                  <a:pt x="30" y="28"/>
                  <a:pt x="30" y="28"/>
                </a:cubicBezTo>
                <a:cubicBezTo>
                  <a:pt x="24" y="21"/>
                  <a:pt x="24" y="21"/>
                  <a:pt x="24" y="21"/>
                </a:cubicBezTo>
                <a:lnTo>
                  <a:pt x="11" y="21"/>
                </a:lnTo>
                <a:close/>
                <a:moveTo>
                  <a:pt x="42" y="18"/>
                </a:moveTo>
                <a:cubicBezTo>
                  <a:pt x="42" y="4"/>
                  <a:pt x="42" y="4"/>
                  <a:pt x="42" y="4"/>
                </a:cubicBezTo>
                <a:cubicBezTo>
                  <a:pt x="42" y="2"/>
                  <a:pt x="40" y="0"/>
                  <a:pt x="37" y="0"/>
                </a:cubicBezTo>
                <a:cubicBezTo>
                  <a:pt x="16" y="0"/>
                  <a:pt x="16" y="0"/>
                  <a:pt x="16" y="0"/>
                </a:cubicBezTo>
                <a:cubicBezTo>
                  <a:pt x="22" y="6"/>
                  <a:pt x="22" y="6"/>
                  <a:pt x="22" y="6"/>
                </a:cubicBezTo>
                <a:cubicBezTo>
                  <a:pt x="35" y="6"/>
                  <a:pt x="35" y="6"/>
                  <a:pt x="35" y="6"/>
                </a:cubicBezTo>
                <a:cubicBezTo>
                  <a:pt x="35" y="18"/>
                  <a:pt x="35" y="18"/>
                  <a:pt x="35" y="18"/>
                </a:cubicBezTo>
                <a:cubicBezTo>
                  <a:pt x="30" y="18"/>
                  <a:pt x="30" y="18"/>
                  <a:pt x="30" y="18"/>
                </a:cubicBezTo>
                <a:cubicBezTo>
                  <a:pt x="38" y="28"/>
                  <a:pt x="38" y="28"/>
                  <a:pt x="38" y="28"/>
                </a:cubicBezTo>
                <a:cubicBezTo>
                  <a:pt x="46" y="18"/>
                  <a:pt x="46" y="18"/>
                  <a:pt x="46" y="18"/>
                </a:cubicBezTo>
                <a:lnTo>
                  <a:pt x="42" y="1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91" name="稻壳儿小白白(http://dwz.cn/Wu2UP)"/>
          <p:cNvSpPr/>
          <p:nvPr/>
        </p:nvSpPr>
        <p:spPr>
          <a:xfrm>
            <a:off x="10215720" y="5415120"/>
            <a:ext cx="158760" cy="201600"/>
          </a:xfrm>
          <a:custGeom>
            <a:avLst/>
            <a:gdLst/>
            <a:ahLst/>
            <a:rect l="l" t="t" r="r" b="b"/>
            <a:pathLst>
              <a:path w="33" h="42">
                <a:moveTo>
                  <a:pt x="28" y="0"/>
                </a:moveTo>
                <a:cubicBezTo>
                  <a:pt x="5" y="0"/>
                  <a:pt x="5" y="0"/>
                  <a:pt x="5" y="0"/>
                </a:cubicBezTo>
                <a:cubicBezTo>
                  <a:pt x="2" y="0"/>
                  <a:pt x="0" y="2"/>
                  <a:pt x="0" y="4"/>
                </a:cubicBezTo>
                <a:cubicBezTo>
                  <a:pt x="0" y="37"/>
                  <a:pt x="0" y="37"/>
                  <a:pt x="0" y="37"/>
                </a:cubicBezTo>
                <a:cubicBezTo>
                  <a:pt x="0" y="40"/>
                  <a:pt x="2" y="42"/>
                  <a:pt x="5" y="42"/>
                </a:cubicBezTo>
                <a:cubicBezTo>
                  <a:pt x="28" y="42"/>
                  <a:pt x="28" y="42"/>
                  <a:pt x="28" y="42"/>
                </a:cubicBezTo>
                <a:cubicBezTo>
                  <a:pt x="31" y="42"/>
                  <a:pt x="33" y="40"/>
                  <a:pt x="33" y="37"/>
                </a:cubicBezTo>
                <a:cubicBezTo>
                  <a:pt x="33" y="4"/>
                  <a:pt x="33" y="4"/>
                  <a:pt x="33" y="4"/>
                </a:cubicBezTo>
                <a:cubicBezTo>
                  <a:pt x="33" y="2"/>
                  <a:pt x="31" y="0"/>
                  <a:pt x="28" y="0"/>
                </a:cubicBezTo>
                <a:close/>
                <a:moveTo>
                  <a:pt x="7" y="9"/>
                </a:moveTo>
                <a:cubicBezTo>
                  <a:pt x="26" y="9"/>
                  <a:pt x="26" y="9"/>
                  <a:pt x="26" y="9"/>
                </a:cubicBezTo>
                <a:cubicBezTo>
                  <a:pt x="26" y="13"/>
                  <a:pt x="26" y="13"/>
                  <a:pt x="26" y="13"/>
                </a:cubicBezTo>
                <a:cubicBezTo>
                  <a:pt x="7" y="13"/>
                  <a:pt x="7" y="13"/>
                  <a:pt x="7" y="13"/>
                </a:cubicBezTo>
                <a:lnTo>
                  <a:pt x="7" y="9"/>
                </a:lnTo>
                <a:close/>
                <a:moveTo>
                  <a:pt x="26" y="32"/>
                </a:moveTo>
                <a:cubicBezTo>
                  <a:pt x="7" y="32"/>
                  <a:pt x="7" y="32"/>
                  <a:pt x="7" y="32"/>
                </a:cubicBezTo>
                <a:cubicBezTo>
                  <a:pt x="7" y="28"/>
                  <a:pt x="7" y="28"/>
                  <a:pt x="7" y="28"/>
                </a:cubicBezTo>
                <a:cubicBezTo>
                  <a:pt x="26" y="28"/>
                  <a:pt x="26" y="28"/>
                  <a:pt x="26" y="28"/>
                </a:cubicBezTo>
                <a:lnTo>
                  <a:pt x="26" y="32"/>
                </a:lnTo>
                <a:close/>
                <a:moveTo>
                  <a:pt x="26" y="23"/>
                </a:moveTo>
                <a:cubicBezTo>
                  <a:pt x="7" y="23"/>
                  <a:pt x="7" y="23"/>
                  <a:pt x="7" y="23"/>
                </a:cubicBezTo>
                <a:cubicBezTo>
                  <a:pt x="7" y="19"/>
                  <a:pt x="7" y="19"/>
                  <a:pt x="7" y="19"/>
                </a:cubicBezTo>
                <a:cubicBezTo>
                  <a:pt x="26" y="19"/>
                  <a:pt x="26" y="19"/>
                  <a:pt x="26" y="19"/>
                </a:cubicBezTo>
                <a:lnTo>
                  <a:pt x="26" y="23"/>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92" name="稻壳儿小白白(http://dwz.cn/Wu2UP)"/>
          <p:cNvSpPr/>
          <p:nvPr/>
        </p:nvSpPr>
        <p:spPr>
          <a:xfrm>
            <a:off x="10215720" y="2239920"/>
            <a:ext cx="158760" cy="220680"/>
          </a:xfrm>
          <a:custGeom>
            <a:avLst/>
            <a:gdLst/>
            <a:ahLst/>
            <a:rect l="l" t="t" r="r" b="b"/>
            <a:pathLst>
              <a:path w="33" h="46">
                <a:moveTo>
                  <a:pt x="32" y="12"/>
                </a:moveTo>
                <a:cubicBezTo>
                  <a:pt x="11" y="1"/>
                  <a:pt x="11" y="1"/>
                  <a:pt x="11" y="1"/>
                </a:cubicBezTo>
                <a:cubicBezTo>
                  <a:pt x="8" y="0"/>
                  <a:pt x="2" y="3"/>
                  <a:pt x="1" y="5"/>
                </a:cubicBezTo>
                <a:cubicBezTo>
                  <a:pt x="0" y="7"/>
                  <a:pt x="0" y="7"/>
                  <a:pt x="0" y="8"/>
                </a:cubicBezTo>
                <a:cubicBezTo>
                  <a:pt x="0" y="33"/>
                  <a:pt x="0" y="33"/>
                  <a:pt x="0" y="33"/>
                </a:cubicBezTo>
                <a:cubicBezTo>
                  <a:pt x="0" y="33"/>
                  <a:pt x="1" y="34"/>
                  <a:pt x="1" y="34"/>
                </a:cubicBezTo>
                <a:cubicBezTo>
                  <a:pt x="3" y="35"/>
                  <a:pt x="20" y="46"/>
                  <a:pt x="21" y="46"/>
                </a:cubicBezTo>
                <a:cubicBezTo>
                  <a:pt x="21" y="46"/>
                  <a:pt x="21" y="46"/>
                  <a:pt x="22" y="46"/>
                </a:cubicBezTo>
                <a:cubicBezTo>
                  <a:pt x="22" y="46"/>
                  <a:pt x="22" y="46"/>
                  <a:pt x="23" y="46"/>
                </a:cubicBezTo>
                <a:cubicBezTo>
                  <a:pt x="23" y="46"/>
                  <a:pt x="23" y="45"/>
                  <a:pt x="23" y="45"/>
                </a:cubicBezTo>
                <a:cubicBezTo>
                  <a:pt x="23" y="19"/>
                  <a:pt x="23" y="19"/>
                  <a:pt x="23" y="19"/>
                </a:cubicBezTo>
                <a:cubicBezTo>
                  <a:pt x="23" y="19"/>
                  <a:pt x="23" y="18"/>
                  <a:pt x="23" y="18"/>
                </a:cubicBezTo>
                <a:cubicBezTo>
                  <a:pt x="3" y="7"/>
                  <a:pt x="3" y="7"/>
                  <a:pt x="3" y="7"/>
                </a:cubicBezTo>
                <a:cubicBezTo>
                  <a:pt x="4" y="7"/>
                  <a:pt x="4" y="6"/>
                  <a:pt x="6" y="5"/>
                </a:cubicBezTo>
                <a:cubicBezTo>
                  <a:pt x="8" y="4"/>
                  <a:pt x="9" y="4"/>
                  <a:pt x="9" y="5"/>
                </a:cubicBezTo>
                <a:cubicBezTo>
                  <a:pt x="9" y="5"/>
                  <a:pt x="28" y="14"/>
                  <a:pt x="28" y="15"/>
                </a:cubicBezTo>
                <a:cubicBezTo>
                  <a:pt x="29" y="15"/>
                  <a:pt x="29" y="15"/>
                  <a:pt x="29" y="16"/>
                </a:cubicBezTo>
                <a:cubicBezTo>
                  <a:pt x="29" y="16"/>
                  <a:pt x="29" y="40"/>
                  <a:pt x="29" y="40"/>
                </a:cubicBezTo>
                <a:cubicBezTo>
                  <a:pt x="29" y="41"/>
                  <a:pt x="30" y="42"/>
                  <a:pt x="31" y="42"/>
                </a:cubicBezTo>
                <a:cubicBezTo>
                  <a:pt x="32" y="42"/>
                  <a:pt x="33" y="41"/>
                  <a:pt x="33" y="40"/>
                </a:cubicBezTo>
                <a:cubicBezTo>
                  <a:pt x="33" y="14"/>
                  <a:pt x="33" y="14"/>
                  <a:pt x="33" y="14"/>
                </a:cubicBezTo>
                <a:cubicBezTo>
                  <a:pt x="33" y="13"/>
                  <a:pt x="32" y="13"/>
                  <a:pt x="32" y="1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93" name="稻壳儿小白白(http://dwz.cn/Wu2UP)"/>
          <p:cNvSpPr/>
          <p:nvPr/>
        </p:nvSpPr>
        <p:spPr>
          <a:xfrm>
            <a:off x="7480440" y="4048200"/>
            <a:ext cx="212760" cy="225360"/>
          </a:xfrm>
          <a:custGeom>
            <a:avLst/>
            <a:gdLst/>
            <a:ahLst/>
            <a:rect l="l" t="t" r="r" b="b"/>
            <a:pathLst>
              <a:path w="44" h="47">
                <a:moveTo>
                  <a:pt x="8" y="0"/>
                </a:moveTo>
                <a:cubicBezTo>
                  <a:pt x="8" y="0"/>
                  <a:pt x="8" y="0"/>
                  <a:pt x="8" y="0"/>
                </a:cubicBezTo>
                <a:cubicBezTo>
                  <a:pt x="6" y="10"/>
                  <a:pt x="0" y="12"/>
                  <a:pt x="0" y="18"/>
                </a:cubicBezTo>
                <a:cubicBezTo>
                  <a:pt x="0" y="22"/>
                  <a:pt x="4" y="26"/>
                  <a:pt x="8" y="26"/>
                </a:cubicBezTo>
                <a:cubicBezTo>
                  <a:pt x="12" y="26"/>
                  <a:pt x="15" y="22"/>
                  <a:pt x="15" y="18"/>
                </a:cubicBezTo>
                <a:cubicBezTo>
                  <a:pt x="15" y="12"/>
                  <a:pt x="9" y="10"/>
                  <a:pt x="8" y="0"/>
                </a:cubicBezTo>
                <a:close/>
                <a:moveTo>
                  <a:pt x="37" y="0"/>
                </a:moveTo>
                <a:cubicBezTo>
                  <a:pt x="37" y="0"/>
                  <a:pt x="36" y="0"/>
                  <a:pt x="36" y="0"/>
                </a:cubicBezTo>
                <a:cubicBezTo>
                  <a:pt x="35" y="10"/>
                  <a:pt x="29" y="12"/>
                  <a:pt x="29" y="18"/>
                </a:cubicBezTo>
                <a:cubicBezTo>
                  <a:pt x="29" y="22"/>
                  <a:pt x="33" y="26"/>
                  <a:pt x="37" y="26"/>
                </a:cubicBezTo>
                <a:cubicBezTo>
                  <a:pt x="41" y="26"/>
                  <a:pt x="44" y="22"/>
                  <a:pt x="44" y="18"/>
                </a:cubicBezTo>
                <a:cubicBezTo>
                  <a:pt x="44" y="12"/>
                  <a:pt x="38" y="10"/>
                  <a:pt x="37" y="0"/>
                </a:cubicBezTo>
                <a:close/>
                <a:moveTo>
                  <a:pt x="22" y="21"/>
                </a:moveTo>
                <a:cubicBezTo>
                  <a:pt x="21" y="30"/>
                  <a:pt x="15" y="32"/>
                  <a:pt x="15" y="39"/>
                </a:cubicBezTo>
                <a:cubicBezTo>
                  <a:pt x="15" y="43"/>
                  <a:pt x="18" y="47"/>
                  <a:pt x="22" y="47"/>
                </a:cubicBezTo>
                <a:cubicBezTo>
                  <a:pt x="26" y="47"/>
                  <a:pt x="30" y="43"/>
                  <a:pt x="30" y="39"/>
                </a:cubicBezTo>
                <a:cubicBezTo>
                  <a:pt x="30" y="32"/>
                  <a:pt x="24" y="30"/>
                  <a:pt x="23" y="21"/>
                </a:cubicBezTo>
                <a:cubicBezTo>
                  <a:pt x="22" y="20"/>
                  <a:pt x="22" y="20"/>
                  <a:pt x="22" y="2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94" name="稻壳儿小白白(http://dwz.cn/Wu2UP)"/>
          <p:cNvSpPr/>
          <p:nvPr/>
        </p:nvSpPr>
        <p:spPr>
          <a:xfrm>
            <a:off x="7077240" y="4048200"/>
            <a:ext cx="122040" cy="225360"/>
          </a:xfrm>
          <a:custGeom>
            <a:avLst/>
            <a:gdLst/>
            <a:ahLst/>
            <a:rect l="l" t="t" r="r" b="b"/>
            <a:pathLst>
              <a:path w="25" h="47">
                <a:moveTo>
                  <a:pt x="18" y="23"/>
                </a:moveTo>
                <a:cubicBezTo>
                  <a:pt x="18" y="2"/>
                  <a:pt x="18" y="2"/>
                  <a:pt x="18" y="2"/>
                </a:cubicBezTo>
                <a:cubicBezTo>
                  <a:pt x="18" y="1"/>
                  <a:pt x="17" y="0"/>
                  <a:pt x="16" y="0"/>
                </a:cubicBezTo>
                <a:cubicBezTo>
                  <a:pt x="8" y="0"/>
                  <a:pt x="8" y="0"/>
                  <a:pt x="8" y="0"/>
                </a:cubicBezTo>
                <a:cubicBezTo>
                  <a:pt x="7" y="0"/>
                  <a:pt x="6" y="1"/>
                  <a:pt x="6" y="2"/>
                </a:cubicBezTo>
                <a:cubicBezTo>
                  <a:pt x="6" y="23"/>
                  <a:pt x="6" y="23"/>
                  <a:pt x="6" y="23"/>
                </a:cubicBezTo>
                <a:cubicBezTo>
                  <a:pt x="2" y="25"/>
                  <a:pt x="0" y="29"/>
                  <a:pt x="0" y="34"/>
                </a:cubicBezTo>
                <a:cubicBezTo>
                  <a:pt x="0" y="41"/>
                  <a:pt x="5" y="47"/>
                  <a:pt x="12" y="47"/>
                </a:cubicBezTo>
                <a:cubicBezTo>
                  <a:pt x="19" y="47"/>
                  <a:pt x="25" y="41"/>
                  <a:pt x="25" y="34"/>
                </a:cubicBezTo>
                <a:cubicBezTo>
                  <a:pt x="25" y="29"/>
                  <a:pt x="22" y="25"/>
                  <a:pt x="18" y="23"/>
                </a:cubicBezTo>
                <a:close/>
                <a:moveTo>
                  <a:pt x="12" y="42"/>
                </a:moveTo>
                <a:cubicBezTo>
                  <a:pt x="8" y="42"/>
                  <a:pt x="4" y="38"/>
                  <a:pt x="4" y="34"/>
                </a:cubicBezTo>
                <a:cubicBezTo>
                  <a:pt x="4" y="30"/>
                  <a:pt x="7" y="27"/>
                  <a:pt x="10" y="26"/>
                </a:cubicBezTo>
                <a:cubicBezTo>
                  <a:pt x="10" y="9"/>
                  <a:pt x="10" y="9"/>
                  <a:pt x="10" y="9"/>
                </a:cubicBezTo>
                <a:cubicBezTo>
                  <a:pt x="15" y="9"/>
                  <a:pt x="15" y="9"/>
                  <a:pt x="15" y="9"/>
                </a:cubicBezTo>
                <a:cubicBezTo>
                  <a:pt x="15" y="26"/>
                  <a:pt x="15" y="26"/>
                  <a:pt x="15" y="26"/>
                </a:cubicBezTo>
                <a:cubicBezTo>
                  <a:pt x="18" y="27"/>
                  <a:pt x="20" y="30"/>
                  <a:pt x="20" y="34"/>
                </a:cubicBezTo>
                <a:cubicBezTo>
                  <a:pt x="20" y="38"/>
                  <a:pt x="17" y="42"/>
                  <a:pt x="12" y="4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95" name="稻壳儿小白白(http://dwz.cn/Wu2UP)"/>
          <p:cNvSpPr/>
          <p:nvPr/>
        </p:nvSpPr>
        <p:spPr>
          <a:xfrm>
            <a:off x="5684760" y="5446800"/>
            <a:ext cx="201600" cy="135000"/>
          </a:xfrm>
          <a:custGeom>
            <a:avLst/>
            <a:gdLst/>
            <a:ahLst/>
            <a:rect l="l" t="t" r="r" b="b"/>
            <a:pathLst>
              <a:path w="42" h="28">
                <a:moveTo>
                  <a:pt x="37" y="5"/>
                </a:moveTo>
                <a:cubicBezTo>
                  <a:pt x="28" y="5"/>
                  <a:pt x="28" y="5"/>
                  <a:pt x="28" y="5"/>
                </a:cubicBezTo>
                <a:cubicBezTo>
                  <a:pt x="28" y="11"/>
                  <a:pt x="28" y="11"/>
                  <a:pt x="28" y="11"/>
                </a:cubicBezTo>
                <a:cubicBezTo>
                  <a:pt x="35" y="11"/>
                  <a:pt x="35" y="11"/>
                  <a:pt x="35" y="11"/>
                </a:cubicBezTo>
                <a:cubicBezTo>
                  <a:pt x="35" y="21"/>
                  <a:pt x="35" y="21"/>
                  <a:pt x="35" y="21"/>
                </a:cubicBezTo>
                <a:cubicBezTo>
                  <a:pt x="6" y="21"/>
                  <a:pt x="6" y="21"/>
                  <a:pt x="6" y="21"/>
                </a:cubicBezTo>
                <a:cubicBezTo>
                  <a:pt x="6" y="11"/>
                  <a:pt x="6" y="11"/>
                  <a:pt x="6" y="11"/>
                </a:cubicBezTo>
                <a:cubicBezTo>
                  <a:pt x="16" y="11"/>
                  <a:pt x="16" y="11"/>
                  <a:pt x="16" y="11"/>
                </a:cubicBezTo>
                <a:cubicBezTo>
                  <a:pt x="16" y="17"/>
                  <a:pt x="16" y="17"/>
                  <a:pt x="16" y="17"/>
                </a:cubicBezTo>
                <a:cubicBezTo>
                  <a:pt x="26" y="8"/>
                  <a:pt x="26" y="8"/>
                  <a:pt x="26" y="8"/>
                </a:cubicBezTo>
                <a:cubicBezTo>
                  <a:pt x="16" y="0"/>
                  <a:pt x="16" y="0"/>
                  <a:pt x="16" y="0"/>
                </a:cubicBezTo>
                <a:cubicBezTo>
                  <a:pt x="16" y="5"/>
                  <a:pt x="16" y="5"/>
                  <a:pt x="16" y="5"/>
                </a:cubicBezTo>
                <a:cubicBezTo>
                  <a:pt x="4" y="5"/>
                  <a:pt x="4" y="5"/>
                  <a:pt x="4" y="5"/>
                </a:cubicBezTo>
                <a:cubicBezTo>
                  <a:pt x="2" y="5"/>
                  <a:pt x="0" y="7"/>
                  <a:pt x="0" y="9"/>
                </a:cubicBezTo>
                <a:cubicBezTo>
                  <a:pt x="0" y="23"/>
                  <a:pt x="0" y="23"/>
                  <a:pt x="0" y="23"/>
                </a:cubicBezTo>
                <a:cubicBezTo>
                  <a:pt x="0" y="26"/>
                  <a:pt x="2" y="28"/>
                  <a:pt x="4" y="28"/>
                </a:cubicBezTo>
                <a:cubicBezTo>
                  <a:pt x="37" y="28"/>
                  <a:pt x="37" y="28"/>
                  <a:pt x="37" y="28"/>
                </a:cubicBezTo>
                <a:cubicBezTo>
                  <a:pt x="40" y="28"/>
                  <a:pt x="42" y="26"/>
                  <a:pt x="42" y="23"/>
                </a:cubicBezTo>
                <a:cubicBezTo>
                  <a:pt x="42" y="9"/>
                  <a:pt x="42" y="9"/>
                  <a:pt x="42" y="9"/>
                </a:cubicBezTo>
                <a:cubicBezTo>
                  <a:pt x="42" y="7"/>
                  <a:pt x="40" y="5"/>
                  <a:pt x="37" y="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96" name="稻壳儿小白白(http://dwz.cn/Wu2UP)"/>
          <p:cNvSpPr/>
          <p:nvPr/>
        </p:nvSpPr>
        <p:spPr>
          <a:xfrm>
            <a:off x="3868560" y="4106880"/>
            <a:ext cx="225720" cy="104760"/>
          </a:xfrm>
          <a:custGeom>
            <a:avLst/>
            <a:gdLst/>
            <a:ahLst/>
            <a:rect l="l" t="t" r="r" b="b"/>
            <a:pathLst>
              <a:path w="47" h="22">
                <a:moveTo>
                  <a:pt x="36" y="0"/>
                </a:moveTo>
                <a:cubicBezTo>
                  <a:pt x="30" y="0"/>
                  <a:pt x="25" y="5"/>
                  <a:pt x="25" y="11"/>
                </a:cubicBezTo>
                <a:cubicBezTo>
                  <a:pt x="25" y="13"/>
                  <a:pt x="26" y="16"/>
                  <a:pt x="27" y="17"/>
                </a:cubicBezTo>
                <a:cubicBezTo>
                  <a:pt x="20" y="17"/>
                  <a:pt x="20" y="17"/>
                  <a:pt x="20" y="17"/>
                </a:cubicBezTo>
                <a:cubicBezTo>
                  <a:pt x="21" y="16"/>
                  <a:pt x="22" y="13"/>
                  <a:pt x="22" y="11"/>
                </a:cubicBezTo>
                <a:cubicBezTo>
                  <a:pt x="22" y="5"/>
                  <a:pt x="17" y="0"/>
                  <a:pt x="11" y="0"/>
                </a:cubicBezTo>
                <a:cubicBezTo>
                  <a:pt x="5" y="0"/>
                  <a:pt x="0" y="5"/>
                  <a:pt x="0" y="11"/>
                </a:cubicBezTo>
                <a:cubicBezTo>
                  <a:pt x="0" y="17"/>
                  <a:pt x="5" y="22"/>
                  <a:pt x="11" y="22"/>
                </a:cubicBezTo>
                <a:cubicBezTo>
                  <a:pt x="36" y="22"/>
                  <a:pt x="36" y="22"/>
                  <a:pt x="36" y="22"/>
                </a:cubicBezTo>
                <a:cubicBezTo>
                  <a:pt x="42" y="22"/>
                  <a:pt x="47" y="17"/>
                  <a:pt x="47" y="11"/>
                </a:cubicBezTo>
                <a:cubicBezTo>
                  <a:pt x="47" y="5"/>
                  <a:pt x="42" y="0"/>
                  <a:pt x="36" y="0"/>
                </a:cubicBezTo>
                <a:close/>
                <a:moveTo>
                  <a:pt x="5" y="11"/>
                </a:moveTo>
                <a:cubicBezTo>
                  <a:pt x="5" y="8"/>
                  <a:pt x="7" y="5"/>
                  <a:pt x="11" y="5"/>
                </a:cubicBezTo>
                <a:cubicBezTo>
                  <a:pt x="14" y="5"/>
                  <a:pt x="17" y="8"/>
                  <a:pt x="17" y="11"/>
                </a:cubicBezTo>
                <a:cubicBezTo>
                  <a:pt x="17" y="15"/>
                  <a:pt x="14" y="17"/>
                  <a:pt x="11" y="17"/>
                </a:cubicBezTo>
                <a:cubicBezTo>
                  <a:pt x="7" y="17"/>
                  <a:pt x="5" y="15"/>
                  <a:pt x="5" y="11"/>
                </a:cubicBezTo>
                <a:close/>
                <a:moveTo>
                  <a:pt x="36" y="17"/>
                </a:moveTo>
                <a:cubicBezTo>
                  <a:pt x="33" y="17"/>
                  <a:pt x="30" y="15"/>
                  <a:pt x="30" y="11"/>
                </a:cubicBezTo>
                <a:cubicBezTo>
                  <a:pt x="30" y="8"/>
                  <a:pt x="33" y="5"/>
                  <a:pt x="36" y="5"/>
                </a:cubicBezTo>
                <a:cubicBezTo>
                  <a:pt x="39" y="5"/>
                  <a:pt x="42" y="8"/>
                  <a:pt x="42" y="11"/>
                </a:cubicBezTo>
                <a:cubicBezTo>
                  <a:pt x="42" y="15"/>
                  <a:pt x="39" y="17"/>
                  <a:pt x="36" y="17"/>
                </a:cubicBezTo>
                <a:close/>
              </a:path>
            </a:pathLst>
          </a:custGeom>
          <a:solidFill>
            <a:srgbClr val="ffffff"/>
          </a:solidFill>
          <a:ln w="0">
            <a:noFill/>
          </a:ln>
        </p:spPr>
        <p:style>
          <a:lnRef idx="0"/>
          <a:fillRef idx="0"/>
          <a:effectRef idx="0"/>
          <a:fontRef idx="minor"/>
        </p:style>
        <p:txBody>
          <a:bodyPr lIns="121680" rIns="121680" tIns="43920" bIns="43920" anchor="t">
            <a:noAutofit/>
          </a:bodyPr>
          <a:p>
            <a:endParaRPr b="0" lang="en-US" sz="1800" spc="-1" strike="noStrike">
              <a:solidFill>
                <a:srgbClr val="000000"/>
              </a:solidFill>
              <a:latin typeface="Arial"/>
            </a:endParaRPr>
          </a:p>
        </p:txBody>
      </p:sp>
      <p:sp>
        <p:nvSpPr>
          <p:cNvPr id="1097" name="稻壳儿小白白(http://dwz.cn/Wu2UP)"/>
          <p:cNvSpPr/>
          <p:nvPr/>
        </p:nvSpPr>
        <p:spPr>
          <a:xfrm>
            <a:off x="5218200" y="4979880"/>
            <a:ext cx="225360" cy="160560"/>
          </a:xfrm>
          <a:custGeom>
            <a:avLst/>
            <a:gdLst/>
            <a:ahLst/>
            <a:rect l="l" t="t" r="r" b="b"/>
            <a:pathLst>
              <a:path w="47" h="33">
                <a:moveTo>
                  <a:pt x="43" y="0"/>
                </a:moveTo>
                <a:cubicBezTo>
                  <a:pt x="20" y="0"/>
                  <a:pt x="20" y="0"/>
                  <a:pt x="20" y="0"/>
                </a:cubicBezTo>
                <a:cubicBezTo>
                  <a:pt x="19" y="0"/>
                  <a:pt x="18" y="1"/>
                  <a:pt x="17" y="2"/>
                </a:cubicBezTo>
                <a:cubicBezTo>
                  <a:pt x="1" y="16"/>
                  <a:pt x="1" y="16"/>
                  <a:pt x="1" y="16"/>
                </a:cubicBezTo>
                <a:cubicBezTo>
                  <a:pt x="0" y="16"/>
                  <a:pt x="0" y="17"/>
                  <a:pt x="1" y="18"/>
                </a:cubicBezTo>
                <a:cubicBezTo>
                  <a:pt x="17" y="32"/>
                  <a:pt x="17" y="32"/>
                  <a:pt x="17" y="32"/>
                </a:cubicBezTo>
                <a:cubicBezTo>
                  <a:pt x="18" y="33"/>
                  <a:pt x="19" y="33"/>
                  <a:pt x="20" y="33"/>
                </a:cubicBezTo>
                <a:cubicBezTo>
                  <a:pt x="43" y="33"/>
                  <a:pt x="43" y="33"/>
                  <a:pt x="43" y="33"/>
                </a:cubicBezTo>
                <a:cubicBezTo>
                  <a:pt x="45" y="33"/>
                  <a:pt x="47" y="31"/>
                  <a:pt x="47" y="29"/>
                </a:cubicBezTo>
                <a:cubicBezTo>
                  <a:pt x="47" y="5"/>
                  <a:pt x="47" y="5"/>
                  <a:pt x="47" y="5"/>
                </a:cubicBezTo>
                <a:cubicBezTo>
                  <a:pt x="47" y="3"/>
                  <a:pt x="45" y="0"/>
                  <a:pt x="43" y="0"/>
                </a:cubicBezTo>
                <a:close/>
                <a:moveTo>
                  <a:pt x="36" y="26"/>
                </a:moveTo>
                <a:cubicBezTo>
                  <a:pt x="30" y="20"/>
                  <a:pt x="30" y="20"/>
                  <a:pt x="30" y="20"/>
                </a:cubicBezTo>
                <a:cubicBezTo>
                  <a:pt x="24" y="26"/>
                  <a:pt x="24" y="26"/>
                  <a:pt x="24" y="26"/>
                </a:cubicBezTo>
                <a:cubicBezTo>
                  <a:pt x="21" y="23"/>
                  <a:pt x="21" y="23"/>
                  <a:pt x="21" y="23"/>
                </a:cubicBezTo>
                <a:cubicBezTo>
                  <a:pt x="27" y="17"/>
                  <a:pt x="27" y="17"/>
                  <a:pt x="27" y="17"/>
                </a:cubicBezTo>
                <a:cubicBezTo>
                  <a:pt x="21" y="11"/>
                  <a:pt x="21" y="11"/>
                  <a:pt x="21" y="11"/>
                </a:cubicBezTo>
                <a:cubicBezTo>
                  <a:pt x="24" y="7"/>
                  <a:pt x="24" y="7"/>
                  <a:pt x="24" y="7"/>
                </a:cubicBezTo>
                <a:cubicBezTo>
                  <a:pt x="30" y="13"/>
                  <a:pt x="30" y="13"/>
                  <a:pt x="30" y="13"/>
                </a:cubicBezTo>
                <a:cubicBezTo>
                  <a:pt x="36" y="7"/>
                  <a:pt x="36" y="7"/>
                  <a:pt x="36" y="7"/>
                </a:cubicBezTo>
                <a:cubicBezTo>
                  <a:pt x="40" y="11"/>
                  <a:pt x="40" y="11"/>
                  <a:pt x="40" y="11"/>
                </a:cubicBezTo>
                <a:cubicBezTo>
                  <a:pt x="34" y="17"/>
                  <a:pt x="34" y="17"/>
                  <a:pt x="34" y="17"/>
                </a:cubicBezTo>
                <a:cubicBezTo>
                  <a:pt x="40" y="23"/>
                  <a:pt x="40" y="23"/>
                  <a:pt x="40" y="23"/>
                </a:cubicBezTo>
                <a:lnTo>
                  <a:pt x="36" y="2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98" name="稻壳儿小白白(http://dwz.cn/Wu2UP)"/>
          <p:cNvSpPr/>
          <p:nvPr/>
        </p:nvSpPr>
        <p:spPr>
          <a:xfrm>
            <a:off x="9737640" y="2706840"/>
            <a:ext cx="208080" cy="182520"/>
          </a:xfrm>
          <a:custGeom>
            <a:avLst/>
            <a:gdLst/>
            <a:ahLst/>
            <a:rect l="l" t="t" r="r" b="b"/>
            <a:pathLst>
              <a:path w="43" h="38">
                <a:moveTo>
                  <a:pt x="4" y="12"/>
                </a:moveTo>
                <a:cubicBezTo>
                  <a:pt x="8" y="9"/>
                  <a:pt x="12" y="6"/>
                  <a:pt x="20" y="11"/>
                </a:cubicBezTo>
                <a:cubicBezTo>
                  <a:pt x="25" y="13"/>
                  <a:pt x="28" y="14"/>
                  <a:pt x="31" y="14"/>
                </a:cubicBezTo>
                <a:cubicBezTo>
                  <a:pt x="36" y="14"/>
                  <a:pt x="39" y="11"/>
                  <a:pt x="42" y="9"/>
                </a:cubicBezTo>
                <a:cubicBezTo>
                  <a:pt x="43" y="8"/>
                  <a:pt x="43" y="6"/>
                  <a:pt x="42" y="5"/>
                </a:cubicBezTo>
                <a:cubicBezTo>
                  <a:pt x="41" y="4"/>
                  <a:pt x="40" y="4"/>
                  <a:pt x="39" y="5"/>
                </a:cubicBezTo>
                <a:cubicBezTo>
                  <a:pt x="35" y="9"/>
                  <a:pt x="31" y="11"/>
                  <a:pt x="23" y="7"/>
                </a:cubicBezTo>
                <a:cubicBezTo>
                  <a:pt x="11" y="0"/>
                  <a:pt x="6" y="5"/>
                  <a:pt x="1" y="8"/>
                </a:cubicBezTo>
                <a:cubicBezTo>
                  <a:pt x="0" y="9"/>
                  <a:pt x="0" y="11"/>
                  <a:pt x="1" y="12"/>
                </a:cubicBezTo>
                <a:cubicBezTo>
                  <a:pt x="2" y="13"/>
                  <a:pt x="3" y="13"/>
                  <a:pt x="4" y="12"/>
                </a:cubicBezTo>
                <a:close/>
                <a:moveTo>
                  <a:pt x="39" y="17"/>
                </a:moveTo>
                <a:cubicBezTo>
                  <a:pt x="35" y="21"/>
                  <a:pt x="31" y="23"/>
                  <a:pt x="23" y="18"/>
                </a:cubicBezTo>
                <a:cubicBezTo>
                  <a:pt x="11" y="12"/>
                  <a:pt x="6" y="17"/>
                  <a:pt x="1" y="20"/>
                </a:cubicBezTo>
                <a:cubicBezTo>
                  <a:pt x="0" y="21"/>
                  <a:pt x="0" y="23"/>
                  <a:pt x="1" y="24"/>
                </a:cubicBezTo>
                <a:cubicBezTo>
                  <a:pt x="2" y="25"/>
                  <a:pt x="3" y="25"/>
                  <a:pt x="4" y="24"/>
                </a:cubicBezTo>
                <a:cubicBezTo>
                  <a:pt x="8" y="21"/>
                  <a:pt x="12" y="18"/>
                  <a:pt x="20" y="23"/>
                </a:cubicBezTo>
                <a:cubicBezTo>
                  <a:pt x="25" y="25"/>
                  <a:pt x="28" y="26"/>
                  <a:pt x="31" y="26"/>
                </a:cubicBezTo>
                <a:cubicBezTo>
                  <a:pt x="36" y="26"/>
                  <a:pt x="39" y="23"/>
                  <a:pt x="42" y="21"/>
                </a:cubicBezTo>
                <a:cubicBezTo>
                  <a:pt x="43" y="20"/>
                  <a:pt x="43" y="18"/>
                  <a:pt x="42" y="17"/>
                </a:cubicBezTo>
                <a:cubicBezTo>
                  <a:pt x="41" y="16"/>
                  <a:pt x="40" y="16"/>
                  <a:pt x="39" y="17"/>
                </a:cubicBezTo>
                <a:close/>
                <a:moveTo>
                  <a:pt x="39" y="29"/>
                </a:moveTo>
                <a:cubicBezTo>
                  <a:pt x="35" y="33"/>
                  <a:pt x="31" y="35"/>
                  <a:pt x="23" y="30"/>
                </a:cubicBezTo>
                <a:cubicBezTo>
                  <a:pt x="11" y="24"/>
                  <a:pt x="6" y="29"/>
                  <a:pt x="1" y="32"/>
                </a:cubicBezTo>
                <a:cubicBezTo>
                  <a:pt x="0" y="33"/>
                  <a:pt x="0" y="35"/>
                  <a:pt x="1" y="36"/>
                </a:cubicBezTo>
                <a:cubicBezTo>
                  <a:pt x="2" y="37"/>
                  <a:pt x="3" y="37"/>
                  <a:pt x="4" y="36"/>
                </a:cubicBezTo>
                <a:cubicBezTo>
                  <a:pt x="8" y="32"/>
                  <a:pt x="12" y="30"/>
                  <a:pt x="20" y="35"/>
                </a:cubicBezTo>
                <a:cubicBezTo>
                  <a:pt x="25" y="37"/>
                  <a:pt x="28" y="38"/>
                  <a:pt x="31" y="38"/>
                </a:cubicBezTo>
                <a:cubicBezTo>
                  <a:pt x="36" y="38"/>
                  <a:pt x="39" y="35"/>
                  <a:pt x="42" y="33"/>
                </a:cubicBezTo>
                <a:cubicBezTo>
                  <a:pt x="43" y="32"/>
                  <a:pt x="43" y="30"/>
                  <a:pt x="42" y="29"/>
                </a:cubicBezTo>
                <a:cubicBezTo>
                  <a:pt x="41" y="28"/>
                  <a:pt x="40" y="28"/>
                  <a:pt x="39" y="2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99" name="稻壳儿小白白(http://dwz.cn/Wu2UP)"/>
          <p:cNvSpPr/>
          <p:nvPr/>
        </p:nvSpPr>
        <p:spPr>
          <a:xfrm>
            <a:off x="8379000" y="4965840"/>
            <a:ext cx="222120" cy="193680"/>
          </a:xfrm>
          <a:custGeom>
            <a:avLst/>
            <a:gdLst/>
            <a:ahLst/>
            <a:rect l="l" t="t" r="r" b="b"/>
            <a:pathLst>
              <a:path w="46" h="40">
                <a:moveTo>
                  <a:pt x="45" y="37"/>
                </a:moveTo>
                <a:cubicBezTo>
                  <a:pt x="24" y="1"/>
                  <a:pt x="24" y="1"/>
                  <a:pt x="24" y="1"/>
                </a:cubicBezTo>
                <a:cubicBezTo>
                  <a:pt x="24" y="0"/>
                  <a:pt x="24" y="0"/>
                  <a:pt x="23" y="0"/>
                </a:cubicBezTo>
                <a:cubicBezTo>
                  <a:pt x="22" y="0"/>
                  <a:pt x="22" y="0"/>
                  <a:pt x="22" y="1"/>
                </a:cubicBezTo>
                <a:cubicBezTo>
                  <a:pt x="1" y="37"/>
                  <a:pt x="1" y="37"/>
                  <a:pt x="1" y="37"/>
                </a:cubicBezTo>
                <a:cubicBezTo>
                  <a:pt x="0" y="38"/>
                  <a:pt x="0" y="39"/>
                  <a:pt x="1" y="39"/>
                </a:cubicBezTo>
                <a:cubicBezTo>
                  <a:pt x="1" y="39"/>
                  <a:pt x="1" y="40"/>
                  <a:pt x="2" y="40"/>
                </a:cubicBezTo>
                <a:cubicBezTo>
                  <a:pt x="44" y="40"/>
                  <a:pt x="44" y="40"/>
                  <a:pt x="44" y="40"/>
                </a:cubicBezTo>
                <a:cubicBezTo>
                  <a:pt x="44" y="40"/>
                  <a:pt x="45" y="39"/>
                  <a:pt x="45" y="39"/>
                </a:cubicBezTo>
                <a:cubicBezTo>
                  <a:pt x="46" y="39"/>
                  <a:pt x="46" y="38"/>
                  <a:pt x="45" y="37"/>
                </a:cubicBezTo>
                <a:close/>
                <a:moveTo>
                  <a:pt x="26" y="35"/>
                </a:moveTo>
                <a:cubicBezTo>
                  <a:pt x="20" y="35"/>
                  <a:pt x="20" y="35"/>
                  <a:pt x="20" y="35"/>
                </a:cubicBezTo>
                <a:cubicBezTo>
                  <a:pt x="20" y="30"/>
                  <a:pt x="20" y="30"/>
                  <a:pt x="20" y="30"/>
                </a:cubicBezTo>
                <a:cubicBezTo>
                  <a:pt x="26" y="30"/>
                  <a:pt x="26" y="30"/>
                  <a:pt x="26" y="30"/>
                </a:cubicBezTo>
                <a:lnTo>
                  <a:pt x="26" y="35"/>
                </a:lnTo>
                <a:close/>
                <a:moveTo>
                  <a:pt x="26" y="27"/>
                </a:moveTo>
                <a:cubicBezTo>
                  <a:pt x="20" y="27"/>
                  <a:pt x="20" y="27"/>
                  <a:pt x="20" y="27"/>
                </a:cubicBezTo>
                <a:cubicBezTo>
                  <a:pt x="20" y="13"/>
                  <a:pt x="20" y="13"/>
                  <a:pt x="20" y="13"/>
                </a:cubicBezTo>
                <a:cubicBezTo>
                  <a:pt x="26" y="13"/>
                  <a:pt x="26" y="13"/>
                  <a:pt x="26" y="13"/>
                </a:cubicBezTo>
                <a:lnTo>
                  <a:pt x="26" y="2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00" name="稻壳儿小白白(http://dwz.cn/Wu2UP)"/>
          <p:cNvSpPr/>
          <p:nvPr/>
        </p:nvSpPr>
        <p:spPr>
          <a:xfrm>
            <a:off x="8850240" y="4519440"/>
            <a:ext cx="182520" cy="182880"/>
          </a:xfrm>
          <a:custGeom>
            <a:avLst/>
            <a:gdLst/>
            <a:ahLst/>
            <a:rect l="l" t="t" r="r" b="b"/>
            <a:pathLst>
              <a:path w="38" h="38">
                <a:moveTo>
                  <a:pt x="33" y="0"/>
                </a:moveTo>
                <a:cubicBezTo>
                  <a:pt x="5" y="0"/>
                  <a:pt x="5" y="0"/>
                  <a:pt x="5" y="0"/>
                </a:cubicBezTo>
                <a:cubicBezTo>
                  <a:pt x="2" y="0"/>
                  <a:pt x="0" y="2"/>
                  <a:pt x="0" y="5"/>
                </a:cubicBezTo>
                <a:cubicBezTo>
                  <a:pt x="0" y="33"/>
                  <a:pt x="0" y="33"/>
                  <a:pt x="0" y="33"/>
                </a:cubicBezTo>
                <a:cubicBezTo>
                  <a:pt x="0" y="36"/>
                  <a:pt x="2" y="38"/>
                  <a:pt x="5" y="38"/>
                </a:cubicBezTo>
                <a:cubicBezTo>
                  <a:pt x="33" y="38"/>
                  <a:pt x="33" y="38"/>
                  <a:pt x="33" y="38"/>
                </a:cubicBezTo>
                <a:cubicBezTo>
                  <a:pt x="35" y="38"/>
                  <a:pt x="38" y="36"/>
                  <a:pt x="38" y="33"/>
                </a:cubicBezTo>
                <a:cubicBezTo>
                  <a:pt x="38" y="5"/>
                  <a:pt x="38" y="5"/>
                  <a:pt x="38" y="5"/>
                </a:cubicBezTo>
                <a:cubicBezTo>
                  <a:pt x="38" y="2"/>
                  <a:pt x="35" y="0"/>
                  <a:pt x="33" y="0"/>
                </a:cubicBezTo>
                <a:close/>
                <a:moveTo>
                  <a:pt x="31" y="21"/>
                </a:moveTo>
                <a:cubicBezTo>
                  <a:pt x="21" y="21"/>
                  <a:pt x="21" y="21"/>
                  <a:pt x="21" y="21"/>
                </a:cubicBezTo>
                <a:cubicBezTo>
                  <a:pt x="21" y="31"/>
                  <a:pt x="21" y="31"/>
                  <a:pt x="21" y="31"/>
                </a:cubicBezTo>
                <a:cubicBezTo>
                  <a:pt x="16" y="31"/>
                  <a:pt x="16" y="31"/>
                  <a:pt x="16" y="31"/>
                </a:cubicBezTo>
                <a:cubicBezTo>
                  <a:pt x="16" y="21"/>
                  <a:pt x="16" y="21"/>
                  <a:pt x="16" y="21"/>
                </a:cubicBezTo>
                <a:cubicBezTo>
                  <a:pt x="7" y="21"/>
                  <a:pt x="7" y="21"/>
                  <a:pt x="7" y="21"/>
                </a:cubicBezTo>
                <a:cubicBezTo>
                  <a:pt x="7" y="17"/>
                  <a:pt x="7" y="17"/>
                  <a:pt x="7" y="17"/>
                </a:cubicBezTo>
                <a:cubicBezTo>
                  <a:pt x="16" y="17"/>
                  <a:pt x="16" y="17"/>
                  <a:pt x="16" y="17"/>
                </a:cubicBezTo>
                <a:cubicBezTo>
                  <a:pt x="16" y="7"/>
                  <a:pt x="16" y="7"/>
                  <a:pt x="16" y="7"/>
                </a:cubicBezTo>
                <a:cubicBezTo>
                  <a:pt x="21" y="7"/>
                  <a:pt x="21" y="7"/>
                  <a:pt x="21" y="7"/>
                </a:cubicBezTo>
                <a:cubicBezTo>
                  <a:pt x="21" y="17"/>
                  <a:pt x="21" y="17"/>
                  <a:pt x="21" y="17"/>
                </a:cubicBezTo>
                <a:cubicBezTo>
                  <a:pt x="31" y="17"/>
                  <a:pt x="31" y="17"/>
                  <a:pt x="31" y="17"/>
                </a:cubicBezTo>
                <a:lnTo>
                  <a:pt x="31" y="2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01" name="稻壳儿小白白(http://dwz.cn/Wu2UP)"/>
          <p:cNvSpPr/>
          <p:nvPr/>
        </p:nvSpPr>
        <p:spPr>
          <a:xfrm>
            <a:off x="8399520" y="4519440"/>
            <a:ext cx="182520" cy="182880"/>
          </a:xfrm>
          <a:custGeom>
            <a:avLst/>
            <a:gdLst/>
            <a:ahLst/>
            <a:rect l="l" t="t" r="r" b="b"/>
            <a:pathLst>
              <a:path w="38" h="38">
                <a:moveTo>
                  <a:pt x="33" y="0"/>
                </a:moveTo>
                <a:cubicBezTo>
                  <a:pt x="5" y="0"/>
                  <a:pt x="5" y="0"/>
                  <a:pt x="5" y="0"/>
                </a:cubicBezTo>
                <a:cubicBezTo>
                  <a:pt x="2" y="0"/>
                  <a:pt x="0" y="2"/>
                  <a:pt x="0" y="5"/>
                </a:cubicBezTo>
                <a:cubicBezTo>
                  <a:pt x="0" y="33"/>
                  <a:pt x="0" y="33"/>
                  <a:pt x="0" y="33"/>
                </a:cubicBezTo>
                <a:cubicBezTo>
                  <a:pt x="0" y="36"/>
                  <a:pt x="2" y="38"/>
                  <a:pt x="5" y="38"/>
                </a:cubicBezTo>
                <a:cubicBezTo>
                  <a:pt x="33" y="38"/>
                  <a:pt x="33" y="38"/>
                  <a:pt x="33" y="38"/>
                </a:cubicBezTo>
                <a:cubicBezTo>
                  <a:pt x="36" y="38"/>
                  <a:pt x="38" y="36"/>
                  <a:pt x="38" y="33"/>
                </a:cubicBezTo>
                <a:cubicBezTo>
                  <a:pt x="38" y="5"/>
                  <a:pt x="38" y="5"/>
                  <a:pt x="38" y="5"/>
                </a:cubicBezTo>
                <a:cubicBezTo>
                  <a:pt x="38" y="2"/>
                  <a:pt x="36" y="0"/>
                  <a:pt x="33" y="0"/>
                </a:cubicBezTo>
                <a:close/>
                <a:moveTo>
                  <a:pt x="31" y="21"/>
                </a:moveTo>
                <a:cubicBezTo>
                  <a:pt x="7" y="21"/>
                  <a:pt x="7" y="21"/>
                  <a:pt x="7" y="21"/>
                </a:cubicBezTo>
                <a:cubicBezTo>
                  <a:pt x="7" y="17"/>
                  <a:pt x="7" y="17"/>
                  <a:pt x="7" y="17"/>
                </a:cubicBezTo>
                <a:cubicBezTo>
                  <a:pt x="31" y="17"/>
                  <a:pt x="31" y="17"/>
                  <a:pt x="31" y="17"/>
                </a:cubicBezTo>
                <a:lnTo>
                  <a:pt x="31" y="2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02" name="稻壳儿小白白(http://dwz.cn/Wu2UP)"/>
          <p:cNvSpPr/>
          <p:nvPr/>
        </p:nvSpPr>
        <p:spPr>
          <a:xfrm>
            <a:off x="9301320" y="4519440"/>
            <a:ext cx="179280" cy="182880"/>
          </a:xfrm>
          <a:custGeom>
            <a:avLst/>
            <a:gdLst/>
            <a:ahLst/>
            <a:rect l="l" t="t" r="r" b="b"/>
            <a:pathLst>
              <a:path w="37" h="38">
                <a:moveTo>
                  <a:pt x="33" y="0"/>
                </a:moveTo>
                <a:cubicBezTo>
                  <a:pt x="5" y="0"/>
                  <a:pt x="5" y="0"/>
                  <a:pt x="5" y="0"/>
                </a:cubicBezTo>
                <a:cubicBezTo>
                  <a:pt x="2" y="0"/>
                  <a:pt x="0" y="2"/>
                  <a:pt x="0" y="5"/>
                </a:cubicBezTo>
                <a:cubicBezTo>
                  <a:pt x="0" y="33"/>
                  <a:pt x="0" y="33"/>
                  <a:pt x="0" y="33"/>
                </a:cubicBezTo>
                <a:cubicBezTo>
                  <a:pt x="0" y="36"/>
                  <a:pt x="2" y="38"/>
                  <a:pt x="5" y="38"/>
                </a:cubicBezTo>
                <a:cubicBezTo>
                  <a:pt x="33" y="38"/>
                  <a:pt x="33" y="38"/>
                  <a:pt x="33" y="38"/>
                </a:cubicBezTo>
                <a:cubicBezTo>
                  <a:pt x="35" y="38"/>
                  <a:pt x="37" y="36"/>
                  <a:pt x="37" y="33"/>
                </a:cubicBezTo>
                <a:cubicBezTo>
                  <a:pt x="37" y="5"/>
                  <a:pt x="37" y="5"/>
                  <a:pt x="37" y="5"/>
                </a:cubicBezTo>
                <a:cubicBezTo>
                  <a:pt x="37" y="2"/>
                  <a:pt x="35" y="0"/>
                  <a:pt x="33" y="0"/>
                </a:cubicBezTo>
                <a:close/>
                <a:moveTo>
                  <a:pt x="26" y="30"/>
                </a:moveTo>
                <a:cubicBezTo>
                  <a:pt x="19" y="23"/>
                  <a:pt x="19" y="23"/>
                  <a:pt x="19" y="23"/>
                </a:cubicBezTo>
                <a:cubicBezTo>
                  <a:pt x="11" y="30"/>
                  <a:pt x="11" y="30"/>
                  <a:pt x="11" y="30"/>
                </a:cubicBezTo>
                <a:cubicBezTo>
                  <a:pt x="7" y="26"/>
                  <a:pt x="7" y="26"/>
                  <a:pt x="7" y="26"/>
                </a:cubicBezTo>
                <a:cubicBezTo>
                  <a:pt x="15" y="19"/>
                  <a:pt x="15" y="19"/>
                  <a:pt x="15" y="19"/>
                </a:cubicBezTo>
                <a:cubicBezTo>
                  <a:pt x="7" y="12"/>
                  <a:pt x="7" y="12"/>
                  <a:pt x="7" y="12"/>
                </a:cubicBezTo>
                <a:cubicBezTo>
                  <a:pt x="11" y="8"/>
                  <a:pt x="11" y="8"/>
                  <a:pt x="11" y="8"/>
                </a:cubicBezTo>
                <a:cubicBezTo>
                  <a:pt x="19" y="15"/>
                  <a:pt x="19" y="15"/>
                  <a:pt x="19" y="15"/>
                </a:cubicBezTo>
                <a:cubicBezTo>
                  <a:pt x="26" y="8"/>
                  <a:pt x="26" y="8"/>
                  <a:pt x="26" y="8"/>
                </a:cubicBezTo>
                <a:cubicBezTo>
                  <a:pt x="30" y="12"/>
                  <a:pt x="30" y="12"/>
                  <a:pt x="30" y="12"/>
                </a:cubicBezTo>
                <a:cubicBezTo>
                  <a:pt x="23" y="19"/>
                  <a:pt x="23" y="19"/>
                  <a:pt x="23" y="19"/>
                </a:cubicBezTo>
                <a:cubicBezTo>
                  <a:pt x="30" y="26"/>
                  <a:pt x="30" y="26"/>
                  <a:pt x="30" y="26"/>
                </a:cubicBezTo>
                <a:lnTo>
                  <a:pt x="26" y="3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03" name="稻壳儿小白白(http://dwz.cn/Wu2UP)"/>
          <p:cNvSpPr/>
          <p:nvPr/>
        </p:nvSpPr>
        <p:spPr>
          <a:xfrm>
            <a:off x="7024680" y="5437080"/>
            <a:ext cx="227160" cy="154080"/>
          </a:xfrm>
          <a:custGeom>
            <a:avLst/>
            <a:gdLst/>
            <a:ahLst/>
            <a:rect l="l" t="t" r="r" b="b"/>
            <a:pathLst>
              <a:path w="112" h="76">
                <a:moveTo>
                  <a:pt x="78" y="10"/>
                </a:moveTo>
                <a:lnTo>
                  <a:pt x="22" y="10"/>
                </a:lnTo>
                <a:lnTo>
                  <a:pt x="22" y="0"/>
                </a:lnTo>
                <a:lnTo>
                  <a:pt x="0" y="19"/>
                </a:lnTo>
                <a:lnTo>
                  <a:pt x="22" y="36"/>
                </a:lnTo>
                <a:lnTo>
                  <a:pt x="22" y="26"/>
                </a:lnTo>
                <a:lnTo>
                  <a:pt x="78" y="26"/>
                </a:lnTo>
                <a:lnTo>
                  <a:pt x="78" y="10"/>
                </a:lnTo>
                <a:close/>
                <a:moveTo>
                  <a:pt x="112" y="57"/>
                </a:moveTo>
                <a:lnTo>
                  <a:pt x="88" y="38"/>
                </a:lnTo>
                <a:lnTo>
                  <a:pt x="88" y="50"/>
                </a:lnTo>
                <a:lnTo>
                  <a:pt x="34" y="50"/>
                </a:lnTo>
                <a:lnTo>
                  <a:pt x="34" y="64"/>
                </a:lnTo>
                <a:lnTo>
                  <a:pt x="88" y="64"/>
                </a:lnTo>
                <a:lnTo>
                  <a:pt x="88" y="76"/>
                </a:lnTo>
                <a:lnTo>
                  <a:pt x="112" y="5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04" name="稻壳儿小白白(http://dwz.cn/Wu2UP)"/>
          <p:cNvSpPr/>
          <p:nvPr/>
        </p:nvSpPr>
        <p:spPr>
          <a:xfrm>
            <a:off x="10204560" y="4057560"/>
            <a:ext cx="177840" cy="201600"/>
          </a:xfrm>
          <a:custGeom>
            <a:avLst/>
            <a:gdLst/>
            <a:ahLst/>
            <a:rect l="l" t="t" r="r" b="b"/>
            <a:pathLst>
              <a:path w="37" h="42">
                <a:moveTo>
                  <a:pt x="35" y="0"/>
                </a:moveTo>
                <a:cubicBezTo>
                  <a:pt x="30" y="0"/>
                  <a:pt x="30" y="0"/>
                  <a:pt x="30" y="0"/>
                </a:cubicBezTo>
                <a:cubicBezTo>
                  <a:pt x="28" y="0"/>
                  <a:pt x="28" y="1"/>
                  <a:pt x="28" y="2"/>
                </a:cubicBezTo>
                <a:cubicBezTo>
                  <a:pt x="28" y="42"/>
                  <a:pt x="28" y="42"/>
                  <a:pt x="28" y="42"/>
                </a:cubicBezTo>
                <a:cubicBezTo>
                  <a:pt x="37" y="42"/>
                  <a:pt x="37" y="42"/>
                  <a:pt x="37" y="42"/>
                </a:cubicBezTo>
                <a:cubicBezTo>
                  <a:pt x="37" y="2"/>
                  <a:pt x="37" y="2"/>
                  <a:pt x="37" y="2"/>
                </a:cubicBezTo>
                <a:cubicBezTo>
                  <a:pt x="37" y="1"/>
                  <a:pt x="36" y="0"/>
                  <a:pt x="35" y="0"/>
                </a:cubicBezTo>
                <a:close/>
                <a:moveTo>
                  <a:pt x="21" y="14"/>
                </a:moveTo>
                <a:cubicBezTo>
                  <a:pt x="16" y="14"/>
                  <a:pt x="16" y="14"/>
                  <a:pt x="16" y="14"/>
                </a:cubicBezTo>
                <a:cubicBezTo>
                  <a:pt x="14" y="14"/>
                  <a:pt x="14" y="15"/>
                  <a:pt x="14" y="16"/>
                </a:cubicBezTo>
                <a:cubicBezTo>
                  <a:pt x="14" y="42"/>
                  <a:pt x="14" y="42"/>
                  <a:pt x="14" y="42"/>
                </a:cubicBezTo>
                <a:cubicBezTo>
                  <a:pt x="23" y="42"/>
                  <a:pt x="23" y="42"/>
                  <a:pt x="23" y="42"/>
                </a:cubicBezTo>
                <a:cubicBezTo>
                  <a:pt x="23" y="16"/>
                  <a:pt x="23" y="16"/>
                  <a:pt x="23" y="16"/>
                </a:cubicBezTo>
                <a:cubicBezTo>
                  <a:pt x="23" y="15"/>
                  <a:pt x="22" y="14"/>
                  <a:pt x="21" y="14"/>
                </a:cubicBezTo>
                <a:close/>
                <a:moveTo>
                  <a:pt x="7" y="28"/>
                </a:moveTo>
                <a:cubicBezTo>
                  <a:pt x="1" y="28"/>
                  <a:pt x="1" y="28"/>
                  <a:pt x="1" y="28"/>
                </a:cubicBezTo>
                <a:cubicBezTo>
                  <a:pt x="0" y="28"/>
                  <a:pt x="0" y="29"/>
                  <a:pt x="0" y="31"/>
                </a:cubicBezTo>
                <a:cubicBezTo>
                  <a:pt x="0" y="42"/>
                  <a:pt x="0" y="42"/>
                  <a:pt x="0" y="42"/>
                </a:cubicBezTo>
                <a:cubicBezTo>
                  <a:pt x="9" y="42"/>
                  <a:pt x="9" y="42"/>
                  <a:pt x="9" y="42"/>
                </a:cubicBezTo>
                <a:cubicBezTo>
                  <a:pt x="9" y="31"/>
                  <a:pt x="9" y="31"/>
                  <a:pt x="9" y="31"/>
                </a:cubicBezTo>
                <a:cubicBezTo>
                  <a:pt x="9" y="29"/>
                  <a:pt x="8" y="28"/>
                  <a:pt x="7" y="2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05" name="稻壳儿小白白(http://dwz.cn/Wu2UP)"/>
          <p:cNvSpPr/>
          <p:nvPr/>
        </p:nvSpPr>
        <p:spPr>
          <a:xfrm>
            <a:off x="9747360" y="4062240"/>
            <a:ext cx="187200" cy="192240"/>
          </a:xfrm>
          <a:custGeom>
            <a:avLst/>
            <a:gdLst/>
            <a:ahLst/>
            <a:rect l="l" t="t" r="r" b="b"/>
            <a:pathLst>
              <a:path w="39" h="40">
                <a:moveTo>
                  <a:pt x="17" y="0"/>
                </a:moveTo>
                <a:cubicBezTo>
                  <a:pt x="8" y="2"/>
                  <a:pt x="1" y="9"/>
                  <a:pt x="0" y="18"/>
                </a:cubicBezTo>
                <a:cubicBezTo>
                  <a:pt x="17" y="18"/>
                  <a:pt x="17" y="18"/>
                  <a:pt x="17" y="18"/>
                </a:cubicBezTo>
                <a:lnTo>
                  <a:pt x="17" y="0"/>
                </a:lnTo>
                <a:close/>
                <a:moveTo>
                  <a:pt x="22" y="0"/>
                </a:moveTo>
                <a:cubicBezTo>
                  <a:pt x="22" y="20"/>
                  <a:pt x="22" y="20"/>
                  <a:pt x="22" y="20"/>
                </a:cubicBezTo>
                <a:cubicBezTo>
                  <a:pt x="22" y="22"/>
                  <a:pt x="21" y="23"/>
                  <a:pt x="20" y="23"/>
                </a:cubicBezTo>
                <a:cubicBezTo>
                  <a:pt x="0" y="23"/>
                  <a:pt x="0" y="23"/>
                  <a:pt x="0" y="23"/>
                </a:cubicBezTo>
                <a:cubicBezTo>
                  <a:pt x="1" y="32"/>
                  <a:pt x="9" y="40"/>
                  <a:pt x="19" y="40"/>
                </a:cubicBezTo>
                <a:cubicBezTo>
                  <a:pt x="30" y="40"/>
                  <a:pt x="39" y="31"/>
                  <a:pt x="39" y="20"/>
                </a:cubicBezTo>
                <a:cubicBezTo>
                  <a:pt x="39" y="10"/>
                  <a:pt x="32" y="2"/>
                  <a:pt x="22" y="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06" name="稻壳儿小白白(http://dwz.cn/Wu2UP)"/>
          <p:cNvSpPr/>
          <p:nvPr/>
        </p:nvSpPr>
        <p:spPr>
          <a:xfrm>
            <a:off x="9277200" y="4062240"/>
            <a:ext cx="227160" cy="192240"/>
          </a:xfrm>
          <a:custGeom>
            <a:avLst/>
            <a:gdLst/>
            <a:ahLst/>
            <a:rect l="l" t="t" r="r" b="b"/>
            <a:pathLst>
              <a:path w="47" h="40">
                <a:moveTo>
                  <a:pt x="2" y="23"/>
                </a:moveTo>
                <a:cubicBezTo>
                  <a:pt x="5" y="24"/>
                  <a:pt x="5" y="24"/>
                  <a:pt x="5" y="24"/>
                </a:cubicBezTo>
                <a:cubicBezTo>
                  <a:pt x="7" y="20"/>
                  <a:pt x="7" y="20"/>
                  <a:pt x="7" y="20"/>
                </a:cubicBezTo>
                <a:cubicBezTo>
                  <a:pt x="3" y="19"/>
                  <a:pt x="3" y="19"/>
                  <a:pt x="3" y="19"/>
                </a:cubicBezTo>
                <a:cubicBezTo>
                  <a:pt x="2" y="19"/>
                  <a:pt x="1" y="20"/>
                  <a:pt x="0" y="21"/>
                </a:cubicBezTo>
                <a:cubicBezTo>
                  <a:pt x="0" y="22"/>
                  <a:pt x="1" y="23"/>
                  <a:pt x="2" y="23"/>
                </a:cubicBezTo>
                <a:close/>
                <a:moveTo>
                  <a:pt x="44" y="24"/>
                </a:moveTo>
                <a:cubicBezTo>
                  <a:pt x="33" y="33"/>
                  <a:pt x="33" y="33"/>
                  <a:pt x="33" y="33"/>
                </a:cubicBezTo>
                <a:cubicBezTo>
                  <a:pt x="21" y="24"/>
                  <a:pt x="21" y="24"/>
                  <a:pt x="21" y="24"/>
                </a:cubicBezTo>
                <a:cubicBezTo>
                  <a:pt x="21" y="24"/>
                  <a:pt x="20" y="23"/>
                  <a:pt x="20" y="23"/>
                </a:cubicBezTo>
                <a:cubicBezTo>
                  <a:pt x="18" y="23"/>
                  <a:pt x="18" y="23"/>
                  <a:pt x="18" y="23"/>
                </a:cubicBezTo>
                <a:cubicBezTo>
                  <a:pt x="16" y="27"/>
                  <a:pt x="16" y="27"/>
                  <a:pt x="16" y="27"/>
                </a:cubicBezTo>
                <a:cubicBezTo>
                  <a:pt x="19" y="27"/>
                  <a:pt x="19" y="27"/>
                  <a:pt x="19" y="27"/>
                </a:cubicBezTo>
                <a:cubicBezTo>
                  <a:pt x="32" y="38"/>
                  <a:pt x="32" y="38"/>
                  <a:pt x="32" y="38"/>
                </a:cubicBezTo>
                <a:cubicBezTo>
                  <a:pt x="32" y="38"/>
                  <a:pt x="33" y="38"/>
                  <a:pt x="33" y="38"/>
                </a:cubicBezTo>
                <a:cubicBezTo>
                  <a:pt x="34" y="38"/>
                  <a:pt x="34" y="38"/>
                  <a:pt x="35" y="38"/>
                </a:cubicBezTo>
                <a:cubicBezTo>
                  <a:pt x="46" y="27"/>
                  <a:pt x="46" y="27"/>
                  <a:pt x="46" y="27"/>
                </a:cubicBezTo>
                <a:cubicBezTo>
                  <a:pt x="47" y="26"/>
                  <a:pt x="47" y="25"/>
                  <a:pt x="47" y="24"/>
                </a:cubicBezTo>
                <a:cubicBezTo>
                  <a:pt x="46" y="23"/>
                  <a:pt x="44" y="23"/>
                  <a:pt x="44" y="24"/>
                </a:cubicBezTo>
                <a:close/>
                <a:moveTo>
                  <a:pt x="21" y="14"/>
                </a:moveTo>
                <a:cubicBezTo>
                  <a:pt x="32" y="21"/>
                  <a:pt x="32" y="21"/>
                  <a:pt x="32" y="21"/>
                </a:cubicBezTo>
                <a:cubicBezTo>
                  <a:pt x="33" y="21"/>
                  <a:pt x="34" y="21"/>
                  <a:pt x="35" y="20"/>
                </a:cubicBezTo>
                <a:cubicBezTo>
                  <a:pt x="47" y="3"/>
                  <a:pt x="47" y="3"/>
                  <a:pt x="47" y="3"/>
                </a:cubicBezTo>
                <a:cubicBezTo>
                  <a:pt x="47" y="2"/>
                  <a:pt x="47" y="1"/>
                  <a:pt x="46" y="0"/>
                </a:cubicBezTo>
                <a:cubicBezTo>
                  <a:pt x="45" y="0"/>
                  <a:pt x="44" y="0"/>
                  <a:pt x="43" y="1"/>
                </a:cubicBezTo>
                <a:cubicBezTo>
                  <a:pt x="33" y="16"/>
                  <a:pt x="33" y="16"/>
                  <a:pt x="33" y="16"/>
                </a:cubicBezTo>
                <a:cubicBezTo>
                  <a:pt x="21" y="9"/>
                  <a:pt x="21" y="9"/>
                  <a:pt x="21" y="9"/>
                </a:cubicBezTo>
                <a:cubicBezTo>
                  <a:pt x="21" y="8"/>
                  <a:pt x="20" y="8"/>
                  <a:pt x="19" y="9"/>
                </a:cubicBezTo>
                <a:cubicBezTo>
                  <a:pt x="19" y="9"/>
                  <a:pt x="18" y="9"/>
                  <a:pt x="18" y="9"/>
                </a:cubicBezTo>
                <a:cubicBezTo>
                  <a:pt x="1" y="37"/>
                  <a:pt x="1" y="37"/>
                  <a:pt x="1" y="37"/>
                </a:cubicBezTo>
                <a:cubicBezTo>
                  <a:pt x="0" y="38"/>
                  <a:pt x="0" y="39"/>
                  <a:pt x="1" y="40"/>
                </a:cubicBezTo>
                <a:cubicBezTo>
                  <a:pt x="2" y="40"/>
                  <a:pt x="2" y="40"/>
                  <a:pt x="2" y="40"/>
                </a:cubicBezTo>
                <a:cubicBezTo>
                  <a:pt x="3" y="40"/>
                  <a:pt x="4" y="40"/>
                  <a:pt x="4" y="39"/>
                </a:cubicBezTo>
                <a:lnTo>
                  <a:pt x="21" y="1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07" name="稻壳儿小白白(http://dwz.cn/Wu2UP)"/>
          <p:cNvSpPr/>
          <p:nvPr/>
        </p:nvSpPr>
        <p:spPr>
          <a:xfrm>
            <a:off x="3868560" y="4519440"/>
            <a:ext cx="222480" cy="177840"/>
          </a:xfrm>
          <a:custGeom>
            <a:avLst/>
            <a:gdLst/>
            <a:ahLst/>
            <a:rect l="l" t="t" r="r" b="b"/>
            <a:pathLst>
              <a:path w="46" h="37">
                <a:moveTo>
                  <a:pt x="46" y="1"/>
                </a:moveTo>
                <a:cubicBezTo>
                  <a:pt x="35" y="19"/>
                  <a:pt x="35" y="19"/>
                  <a:pt x="35" y="19"/>
                </a:cubicBezTo>
                <a:cubicBezTo>
                  <a:pt x="34" y="19"/>
                  <a:pt x="34" y="20"/>
                  <a:pt x="33" y="19"/>
                </a:cubicBezTo>
                <a:cubicBezTo>
                  <a:pt x="28" y="14"/>
                  <a:pt x="28" y="14"/>
                  <a:pt x="28" y="14"/>
                </a:cubicBezTo>
                <a:cubicBezTo>
                  <a:pt x="27" y="14"/>
                  <a:pt x="26" y="14"/>
                  <a:pt x="26" y="14"/>
                </a:cubicBezTo>
                <a:cubicBezTo>
                  <a:pt x="19" y="25"/>
                  <a:pt x="19" y="25"/>
                  <a:pt x="19" y="25"/>
                </a:cubicBezTo>
                <a:cubicBezTo>
                  <a:pt x="18" y="26"/>
                  <a:pt x="17" y="26"/>
                  <a:pt x="17" y="26"/>
                </a:cubicBezTo>
                <a:cubicBezTo>
                  <a:pt x="13" y="23"/>
                  <a:pt x="13" y="23"/>
                  <a:pt x="13" y="23"/>
                </a:cubicBezTo>
                <a:cubicBezTo>
                  <a:pt x="13" y="22"/>
                  <a:pt x="12" y="22"/>
                  <a:pt x="11" y="23"/>
                </a:cubicBezTo>
                <a:cubicBezTo>
                  <a:pt x="1" y="36"/>
                  <a:pt x="1" y="36"/>
                  <a:pt x="1" y="36"/>
                </a:cubicBezTo>
                <a:cubicBezTo>
                  <a:pt x="0" y="37"/>
                  <a:pt x="0" y="37"/>
                  <a:pt x="1" y="37"/>
                </a:cubicBezTo>
                <a:cubicBezTo>
                  <a:pt x="46" y="37"/>
                  <a:pt x="46" y="37"/>
                  <a:pt x="46" y="37"/>
                </a:cubicBezTo>
                <a:cubicBezTo>
                  <a:pt x="46" y="1"/>
                  <a:pt x="46" y="1"/>
                  <a:pt x="46" y="1"/>
                </a:cubicBezTo>
                <a:cubicBezTo>
                  <a:pt x="46" y="1"/>
                  <a:pt x="46" y="0"/>
                  <a:pt x="46" y="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08" name="稻壳儿小白白(http://dwz.cn/Wu2UP)"/>
          <p:cNvSpPr/>
          <p:nvPr/>
        </p:nvSpPr>
        <p:spPr>
          <a:xfrm>
            <a:off x="4340160" y="1792440"/>
            <a:ext cx="181080" cy="212400"/>
          </a:xfrm>
          <a:custGeom>
            <a:avLst/>
            <a:gdLst/>
            <a:ahLst/>
            <a:rect l="l" t="t" r="r" b="b"/>
            <a:pathLst>
              <a:path w="38" h="44">
                <a:moveTo>
                  <a:pt x="28" y="17"/>
                </a:moveTo>
                <a:cubicBezTo>
                  <a:pt x="28" y="16"/>
                  <a:pt x="36" y="8"/>
                  <a:pt x="31" y="2"/>
                </a:cubicBezTo>
                <a:cubicBezTo>
                  <a:pt x="30" y="0"/>
                  <a:pt x="26" y="9"/>
                  <a:pt x="20" y="13"/>
                </a:cubicBezTo>
                <a:cubicBezTo>
                  <a:pt x="17" y="15"/>
                  <a:pt x="10" y="19"/>
                  <a:pt x="10" y="22"/>
                </a:cubicBezTo>
                <a:cubicBezTo>
                  <a:pt x="10" y="38"/>
                  <a:pt x="10" y="38"/>
                  <a:pt x="10" y="38"/>
                </a:cubicBezTo>
                <a:cubicBezTo>
                  <a:pt x="10" y="41"/>
                  <a:pt x="21" y="44"/>
                  <a:pt x="30" y="44"/>
                </a:cubicBezTo>
                <a:cubicBezTo>
                  <a:pt x="33" y="44"/>
                  <a:pt x="38" y="24"/>
                  <a:pt x="38" y="21"/>
                </a:cubicBezTo>
                <a:cubicBezTo>
                  <a:pt x="38" y="17"/>
                  <a:pt x="28" y="18"/>
                  <a:pt x="28" y="17"/>
                </a:cubicBezTo>
                <a:close/>
                <a:moveTo>
                  <a:pt x="8" y="17"/>
                </a:moveTo>
                <a:cubicBezTo>
                  <a:pt x="6" y="17"/>
                  <a:pt x="0" y="18"/>
                  <a:pt x="0" y="24"/>
                </a:cubicBezTo>
                <a:cubicBezTo>
                  <a:pt x="0" y="36"/>
                  <a:pt x="0" y="36"/>
                  <a:pt x="0" y="36"/>
                </a:cubicBezTo>
                <a:cubicBezTo>
                  <a:pt x="0" y="42"/>
                  <a:pt x="6" y="43"/>
                  <a:pt x="8" y="43"/>
                </a:cubicBezTo>
                <a:cubicBezTo>
                  <a:pt x="9" y="43"/>
                  <a:pt x="5" y="41"/>
                  <a:pt x="5" y="37"/>
                </a:cubicBezTo>
                <a:cubicBezTo>
                  <a:pt x="5" y="22"/>
                  <a:pt x="5" y="22"/>
                  <a:pt x="5" y="22"/>
                </a:cubicBezTo>
                <a:cubicBezTo>
                  <a:pt x="5" y="18"/>
                  <a:pt x="9" y="17"/>
                  <a:pt x="8" y="1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09" name="稻壳儿小白白(http://dwz.cn/Wu2UP)"/>
          <p:cNvSpPr/>
          <p:nvPr/>
        </p:nvSpPr>
        <p:spPr>
          <a:xfrm>
            <a:off x="4791240" y="1803240"/>
            <a:ext cx="183960" cy="206640"/>
          </a:xfrm>
          <a:custGeom>
            <a:avLst/>
            <a:gdLst/>
            <a:ahLst/>
            <a:rect l="l" t="t" r="r" b="b"/>
            <a:pathLst>
              <a:path w="38" h="43">
                <a:moveTo>
                  <a:pt x="11" y="27"/>
                </a:moveTo>
                <a:cubicBezTo>
                  <a:pt x="11" y="28"/>
                  <a:pt x="2" y="36"/>
                  <a:pt x="7" y="42"/>
                </a:cubicBezTo>
                <a:cubicBezTo>
                  <a:pt x="8" y="43"/>
                  <a:pt x="12" y="35"/>
                  <a:pt x="18" y="31"/>
                </a:cubicBezTo>
                <a:cubicBezTo>
                  <a:pt x="21" y="29"/>
                  <a:pt x="29" y="24"/>
                  <a:pt x="29" y="22"/>
                </a:cubicBezTo>
                <a:cubicBezTo>
                  <a:pt x="29" y="6"/>
                  <a:pt x="29" y="6"/>
                  <a:pt x="29" y="6"/>
                </a:cubicBezTo>
                <a:cubicBezTo>
                  <a:pt x="29" y="3"/>
                  <a:pt x="17" y="0"/>
                  <a:pt x="8" y="0"/>
                </a:cubicBezTo>
                <a:cubicBezTo>
                  <a:pt x="5" y="0"/>
                  <a:pt x="0" y="20"/>
                  <a:pt x="0" y="23"/>
                </a:cubicBezTo>
                <a:cubicBezTo>
                  <a:pt x="0" y="26"/>
                  <a:pt x="10" y="26"/>
                  <a:pt x="11" y="27"/>
                </a:cubicBezTo>
                <a:close/>
                <a:moveTo>
                  <a:pt x="31" y="27"/>
                </a:moveTo>
                <a:cubicBezTo>
                  <a:pt x="32" y="27"/>
                  <a:pt x="38" y="26"/>
                  <a:pt x="38" y="20"/>
                </a:cubicBezTo>
                <a:cubicBezTo>
                  <a:pt x="38" y="8"/>
                  <a:pt x="38" y="8"/>
                  <a:pt x="38" y="8"/>
                </a:cubicBezTo>
                <a:cubicBezTo>
                  <a:pt x="38" y="2"/>
                  <a:pt x="32" y="1"/>
                  <a:pt x="31" y="1"/>
                </a:cubicBezTo>
                <a:cubicBezTo>
                  <a:pt x="29" y="1"/>
                  <a:pt x="33" y="2"/>
                  <a:pt x="33" y="6"/>
                </a:cubicBezTo>
                <a:cubicBezTo>
                  <a:pt x="33" y="21"/>
                  <a:pt x="33" y="21"/>
                  <a:pt x="33" y="21"/>
                </a:cubicBezTo>
                <a:cubicBezTo>
                  <a:pt x="33" y="25"/>
                  <a:pt x="29" y="27"/>
                  <a:pt x="31" y="2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10" name="稻壳儿小白白(http://dwz.cn/Wu2UP)"/>
          <p:cNvSpPr/>
          <p:nvPr/>
        </p:nvSpPr>
        <p:spPr>
          <a:xfrm>
            <a:off x="10669680" y="2263680"/>
            <a:ext cx="150840" cy="163440"/>
          </a:xfrm>
          <a:custGeom>
            <a:avLst/>
            <a:gdLst/>
            <a:ahLst/>
            <a:rect l="l" t="t" r="r" b="b"/>
            <a:pathLst>
              <a:path w="74" h="80">
                <a:moveTo>
                  <a:pt x="74" y="43"/>
                </a:moveTo>
                <a:lnTo>
                  <a:pt x="52" y="43"/>
                </a:lnTo>
                <a:lnTo>
                  <a:pt x="52" y="80"/>
                </a:lnTo>
                <a:lnTo>
                  <a:pt x="22" y="80"/>
                </a:lnTo>
                <a:lnTo>
                  <a:pt x="22" y="43"/>
                </a:lnTo>
                <a:lnTo>
                  <a:pt x="0" y="43"/>
                </a:lnTo>
                <a:lnTo>
                  <a:pt x="38" y="0"/>
                </a:lnTo>
                <a:lnTo>
                  <a:pt x="74" y="43"/>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11" name="稻壳儿小白白(http://dwz.cn/Wu2UP)"/>
          <p:cNvSpPr/>
          <p:nvPr/>
        </p:nvSpPr>
        <p:spPr>
          <a:xfrm>
            <a:off x="10718640" y="3225960"/>
            <a:ext cx="52560" cy="47520"/>
          </a:xfrm>
          <a:prstGeom prst="ellipse">
            <a:avLst/>
          </a:prstGeom>
          <a:solidFill>
            <a:srgbClr val="ffffff"/>
          </a:solidFill>
          <a:ln w="0">
            <a:noFill/>
          </a:ln>
        </p:spPr>
        <p:style>
          <a:lnRef idx="0"/>
          <a:fillRef idx="0"/>
          <a:effectRef idx="0"/>
          <a:fontRef idx="minor"/>
        </p:style>
        <p:txBody>
          <a:bodyPr lIns="122040" rIns="12204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稻壳儿小白白(http://dwz.cn/Wu2UP)"/>
          <p:cNvSpPr/>
          <p:nvPr/>
        </p:nvSpPr>
        <p:spPr>
          <a:xfrm>
            <a:off x="10694880" y="2770200"/>
            <a:ext cx="101880" cy="57240"/>
          </a:xfrm>
          <a:custGeom>
            <a:avLst/>
            <a:gdLst/>
            <a:ahLst/>
            <a:rect l="l" t="t" r="r" b="b"/>
            <a:pathLst>
              <a:path w="21" h="12">
                <a:moveTo>
                  <a:pt x="19" y="0"/>
                </a:moveTo>
                <a:cubicBezTo>
                  <a:pt x="19" y="0"/>
                  <a:pt x="20" y="0"/>
                  <a:pt x="21" y="0"/>
                </a:cubicBezTo>
                <a:cubicBezTo>
                  <a:pt x="21" y="1"/>
                  <a:pt x="21" y="2"/>
                  <a:pt x="21" y="3"/>
                </a:cubicBezTo>
                <a:cubicBezTo>
                  <a:pt x="12" y="12"/>
                  <a:pt x="12" y="12"/>
                  <a:pt x="12" y="12"/>
                </a:cubicBezTo>
                <a:cubicBezTo>
                  <a:pt x="11" y="12"/>
                  <a:pt x="10" y="12"/>
                  <a:pt x="9" y="12"/>
                </a:cubicBezTo>
                <a:cubicBezTo>
                  <a:pt x="0" y="3"/>
                  <a:pt x="0" y="3"/>
                  <a:pt x="0" y="3"/>
                </a:cubicBezTo>
                <a:cubicBezTo>
                  <a:pt x="0" y="2"/>
                  <a:pt x="0" y="1"/>
                  <a:pt x="0" y="0"/>
                </a:cubicBezTo>
                <a:cubicBezTo>
                  <a:pt x="1" y="0"/>
                  <a:pt x="2" y="0"/>
                  <a:pt x="2" y="0"/>
                </a:cubicBezTo>
                <a:cubicBezTo>
                  <a:pt x="11" y="8"/>
                  <a:pt x="11" y="8"/>
                  <a:pt x="11" y="8"/>
                </a:cubicBezTo>
                <a:lnTo>
                  <a:pt x="19" y="0"/>
                </a:lnTo>
                <a:close/>
              </a:path>
            </a:pathLst>
          </a:custGeom>
          <a:solidFill>
            <a:srgbClr val="ffffff"/>
          </a:solidFill>
          <a:ln w="0">
            <a:noFill/>
          </a:ln>
        </p:spPr>
        <p:style>
          <a:lnRef idx="0"/>
          <a:fillRef idx="0"/>
          <a:effectRef idx="0"/>
          <a:fontRef idx="minor"/>
        </p:style>
        <p:txBody>
          <a:bodyPr lIns="121680" rIns="121680" tIns="-3600" bIns="-3600" anchor="t">
            <a:noAutofit/>
          </a:bodyPr>
          <a:p>
            <a:endParaRPr b="0" lang="en-US" sz="1800" spc="-1" strike="noStrike">
              <a:solidFill>
                <a:srgbClr val="000000"/>
              </a:solidFill>
              <a:latin typeface="Arial"/>
            </a:endParaRPr>
          </a:p>
        </p:txBody>
      </p:sp>
      <p:sp>
        <p:nvSpPr>
          <p:cNvPr id="1113" name="稻壳儿小白白(http://dwz.cn/Wu2UP)"/>
          <p:cNvSpPr/>
          <p:nvPr/>
        </p:nvSpPr>
        <p:spPr>
          <a:xfrm>
            <a:off x="10666440" y="888840"/>
            <a:ext cx="158760" cy="208080"/>
          </a:xfrm>
          <a:custGeom>
            <a:avLst/>
            <a:gdLst/>
            <a:ahLst/>
            <a:rect l="l" t="t" r="r" b="b"/>
            <a:pathLst>
              <a:path w="33" h="43">
                <a:moveTo>
                  <a:pt x="28" y="0"/>
                </a:moveTo>
                <a:cubicBezTo>
                  <a:pt x="5" y="0"/>
                  <a:pt x="5" y="0"/>
                  <a:pt x="5" y="0"/>
                </a:cubicBezTo>
                <a:cubicBezTo>
                  <a:pt x="2" y="0"/>
                  <a:pt x="0" y="3"/>
                  <a:pt x="0" y="5"/>
                </a:cubicBezTo>
                <a:cubicBezTo>
                  <a:pt x="0" y="38"/>
                  <a:pt x="0" y="38"/>
                  <a:pt x="0" y="38"/>
                </a:cubicBezTo>
                <a:cubicBezTo>
                  <a:pt x="0" y="41"/>
                  <a:pt x="2" y="43"/>
                  <a:pt x="5" y="43"/>
                </a:cubicBezTo>
                <a:cubicBezTo>
                  <a:pt x="28" y="43"/>
                  <a:pt x="28" y="43"/>
                  <a:pt x="28" y="43"/>
                </a:cubicBezTo>
                <a:cubicBezTo>
                  <a:pt x="31" y="43"/>
                  <a:pt x="33" y="41"/>
                  <a:pt x="33" y="38"/>
                </a:cubicBezTo>
                <a:cubicBezTo>
                  <a:pt x="33" y="5"/>
                  <a:pt x="33" y="5"/>
                  <a:pt x="33" y="5"/>
                </a:cubicBezTo>
                <a:cubicBezTo>
                  <a:pt x="33" y="3"/>
                  <a:pt x="31" y="0"/>
                  <a:pt x="28" y="0"/>
                </a:cubicBezTo>
                <a:close/>
                <a:moveTo>
                  <a:pt x="28" y="38"/>
                </a:moveTo>
                <a:cubicBezTo>
                  <a:pt x="5" y="38"/>
                  <a:pt x="5" y="38"/>
                  <a:pt x="5" y="38"/>
                </a:cubicBezTo>
                <a:cubicBezTo>
                  <a:pt x="5" y="5"/>
                  <a:pt x="5" y="5"/>
                  <a:pt x="5" y="5"/>
                </a:cubicBezTo>
                <a:cubicBezTo>
                  <a:pt x="28" y="5"/>
                  <a:pt x="28" y="5"/>
                  <a:pt x="28" y="5"/>
                </a:cubicBezTo>
                <a:lnTo>
                  <a:pt x="28" y="3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14" name="稻壳儿小白白(http://dwz.cn/Wu2UP)"/>
          <p:cNvSpPr/>
          <p:nvPr/>
        </p:nvSpPr>
        <p:spPr>
          <a:xfrm>
            <a:off x="10704600" y="1339920"/>
            <a:ext cx="81000" cy="203040"/>
          </a:xfrm>
          <a:custGeom>
            <a:avLst/>
            <a:gdLst/>
            <a:ahLst/>
            <a:rect l="l" t="t" r="r" b="b"/>
            <a:pathLst>
              <a:path w="17" h="42">
                <a:moveTo>
                  <a:pt x="15" y="0"/>
                </a:moveTo>
                <a:cubicBezTo>
                  <a:pt x="2" y="0"/>
                  <a:pt x="2" y="0"/>
                  <a:pt x="2" y="0"/>
                </a:cubicBezTo>
                <a:cubicBezTo>
                  <a:pt x="1" y="0"/>
                  <a:pt x="0" y="1"/>
                  <a:pt x="0" y="3"/>
                </a:cubicBezTo>
                <a:cubicBezTo>
                  <a:pt x="0" y="42"/>
                  <a:pt x="0" y="42"/>
                  <a:pt x="0" y="42"/>
                </a:cubicBezTo>
                <a:cubicBezTo>
                  <a:pt x="9" y="34"/>
                  <a:pt x="9" y="34"/>
                  <a:pt x="9" y="34"/>
                </a:cubicBezTo>
                <a:cubicBezTo>
                  <a:pt x="17" y="42"/>
                  <a:pt x="17" y="42"/>
                  <a:pt x="17" y="42"/>
                </a:cubicBezTo>
                <a:cubicBezTo>
                  <a:pt x="17" y="3"/>
                  <a:pt x="17" y="3"/>
                  <a:pt x="17" y="3"/>
                </a:cubicBezTo>
                <a:cubicBezTo>
                  <a:pt x="17" y="1"/>
                  <a:pt x="16" y="0"/>
                  <a:pt x="15" y="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15" name="稻壳儿小白白(http://dwz.cn/Wu2UP)"/>
          <p:cNvSpPr/>
          <p:nvPr/>
        </p:nvSpPr>
        <p:spPr>
          <a:xfrm>
            <a:off x="10613880" y="1789200"/>
            <a:ext cx="235080" cy="239760"/>
          </a:xfrm>
          <a:custGeom>
            <a:avLst/>
            <a:gdLst/>
            <a:ahLst/>
            <a:rect l="l" t="t" r="r" b="b"/>
            <a:pathLst>
              <a:path w="49" h="50">
                <a:moveTo>
                  <a:pt x="14" y="11"/>
                </a:moveTo>
                <a:cubicBezTo>
                  <a:pt x="12" y="14"/>
                  <a:pt x="0" y="30"/>
                  <a:pt x="10" y="40"/>
                </a:cubicBezTo>
                <a:cubicBezTo>
                  <a:pt x="20" y="50"/>
                  <a:pt x="37" y="39"/>
                  <a:pt x="39" y="36"/>
                </a:cubicBezTo>
                <a:cubicBezTo>
                  <a:pt x="42" y="33"/>
                  <a:pt x="38" y="26"/>
                  <a:pt x="32" y="19"/>
                </a:cubicBezTo>
                <a:cubicBezTo>
                  <a:pt x="25" y="12"/>
                  <a:pt x="17" y="8"/>
                  <a:pt x="14" y="11"/>
                </a:cubicBezTo>
                <a:close/>
                <a:moveTo>
                  <a:pt x="36" y="34"/>
                </a:moveTo>
                <a:cubicBezTo>
                  <a:pt x="35" y="34"/>
                  <a:pt x="29" y="33"/>
                  <a:pt x="24" y="27"/>
                </a:cubicBezTo>
                <a:cubicBezTo>
                  <a:pt x="18" y="21"/>
                  <a:pt x="16" y="15"/>
                  <a:pt x="17" y="14"/>
                </a:cubicBezTo>
                <a:cubicBezTo>
                  <a:pt x="17" y="13"/>
                  <a:pt x="23" y="15"/>
                  <a:pt x="29" y="21"/>
                </a:cubicBezTo>
                <a:cubicBezTo>
                  <a:pt x="35" y="27"/>
                  <a:pt x="37" y="33"/>
                  <a:pt x="36" y="34"/>
                </a:cubicBezTo>
                <a:close/>
                <a:moveTo>
                  <a:pt x="36" y="15"/>
                </a:moveTo>
                <a:cubicBezTo>
                  <a:pt x="37" y="15"/>
                  <a:pt x="38" y="15"/>
                  <a:pt x="38" y="14"/>
                </a:cubicBezTo>
                <a:cubicBezTo>
                  <a:pt x="43" y="10"/>
                  <a:pt x="43" y="10"/>
                  <a:pt x="43" y="10"/>
                </a:cubicBezTo>
                <a:cubicBezTo>
                  <a:pt x="43" y="9"/>
                  <a:pt x="43" y="8"/>
                  <a:pt x="43" y="7"/>
                </a:cubicBezTo>
                <a:cubicBezTo>
                  <a:pt x="42" y="6"/>
                  <a:pt x="40" y="6"/>
                  <a:pt x="39" y="7"/>
                </a:cubicBezTo>
                <a:cubicBezTo>
                  <a:pt x="35" y="11"/>
                  <a:pt x="35" y="11"/>
                  <a:pt x="35" y="11"/>
                </a:cubicBezTo>
                <a:cubicBezTo>
                  <a:pt x="34" y="12"/>
                  <a:pt x="34" y="14"/>
                  <a:pt x="35" y="14"/>
                </a:cubicBezTo>
                <a:cubicBezTo>
                  <a:pt x="35" y="15"/>
                  <a:pt x="36" y="15"/>
                  <a:pt x="36" y="15"/>
                </a:cubicBezTo>
                <a:close/>
                <a:moveTo>
                  <a:pt x="28" y="9"/>
                </a:moveTo>
                <a:cubicBezTo>
                  <a:pt x="28" y="10"/>
                  <a:pt x="29" y="10"/>
                  <a:pt x="29" y="10"/>
                </a:cubicBezTo>
                <a:cubicBezTo>
                  <a:pt x="30" y="10"/>
                  <a:pt x="31" y="9"/>
                  <a:pt x="31" y="8"/>
                </a:cubicBezTo>
                <a:cubicBezTo>
                  <a:pt x="34" y="4"/>
                  <a:pt x="34" y="4"/>
                  <a:pt x="34" y="4"/>
                </a:cubicBezTo>
                <a:cubicBezTo>
                  <a:pt x="34" y="3"/>
                  <a:pt x="34" y="1"/>
                  <a:pt x="33" y="1"/>
                </a:cubicBezTo>
                <a:cubicBezTo>
                  <a:pt x="32" y="0"/>
                  <a:pt x="30" y="0"/>
                  <a:pt x="30" y="2"/>
                </a:cubicBezTo>
                <a:cubicBezTo>
                  <a:pt x="27" y="6"/>
                  <a:pt x="27" y="6"/>
                  <a:pt x="27" y="6"/>
                </a:cubicBezTo>
                <a:cubicBezTo>
                  <a:pt x="26" y="7"/>
                  <a:pt x="27" y="9"/>
                  <a:pt x="28" y="9"/>
                </a:cubicBezTo>
                <a:close/>
                <a:moveTo>
                  <a:pt x="49" y="16"/>
                </a:moveTo>
                <a:cubicBezTo>
                  <a:pt x="48" y="15"/>
                  <a:pt x="46" y="15"/>
                  <a:pt x="45" y="15"/>
                </a:cubicBezTo>
                <a:cubicBezTo>
                  <a:pt x="41" y="18"/>
                  <a:pt x="41" y="18"/>
                  <a:pt x="41" y="18"/>
                </a:cubicBezTo>
                <a:cubicBezTo>
                  <a:pt x="40" y="19"/>
                  <a:pt x="39" y="20"/>
                  <a:pt x="40" y="21"/>
                </a:cubicBezTo>
                <a:cubicBezTo>
                  <a:pt x="40" y="22"/>
                  <a:pt x="41" y="22"/>
                  <a:pt x="42" y="22"/>
                </a:cubicBezTo>
                <a:cubicBezTo>
                  <a:pt x="42" y="22"/>
                  <a:pt x="43" y="22"/>
                  <a:pt x="43" y="22"/>
                </a:cubicBezTo>
                <a:cubicBezTo>
                  <a:pt x="48" y="20"/>
                  <a:pt x="48" y="20"/>
                  <a:pt x="48" y="20"/>
                </a:cubicBezTo>
                <a:cubicBezTo>
                  <a:pt x="49" y="19"/>
                  <a:pt x="49" y="18"/>
                  <a:pt x="49" y="1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16" name="稻壳儿小白白(http://dwz.cn/Wu2UP)"/>
          <p:cNvSpPr/>
          <p:nvPr/>
        </p:nvSpPr>
        <p:spPr>
          <a:xfrm>
            <a:off x="10683720" y="4486320"/>
            <a:ext cx="127080" cy="204840"/>
          </a:xfrm>
          <a:custGeom>
            <a:avLst/>
            <a:gdLst/>
            <a:ahLst/>
            <a:rect l="l" t="t" r="r" b="b"/>
            <a:pathLst>
              <a:path w="26" h="43">
                <a:moveTo>
                  <a:pt x="26" y="41"/>
                </a:moveTo>
                <a:cubicBezTo>
                  <a:pt x="25" y="42"/>
                  <a:pt x="23" y="42"/>
                  <a:pt x="22" y="43"/>
                </a:cubicBezTo>
                <a:cubicBezTo>
                  <a:pt x="20" y="43"/>
                  <a:pt x="18" y="43"/>
                  <a:pt x="17" y="43"/>
                </a:cubicBezTo>
                <a:cubicBezTo>
                  <a:pt x="15" y="43"/>
                  <a:pt x="13" y="43"/>
                  <a:pt x="12" y="42"/>
                </a:cubicBezTo>
                <a:cubicBezTo>
                  <a:pt x="10" y="42"/>
                  <a:pt x="9" y="41"/>
                  <a:pt x="8" y="40"/>
                </a:cubicBezTo>
                <a:cubicBezTo>
                  <a:pt x="7" y="39"/>
                  <a:pt x="6" y="38"/>
                  <a:pt x="5" y="37"/>
                </a:cubicBezTo>
                <a:cubicBezTo>
                  <a:pt x="5" y="36"/>
                  <a:pt x="5" y="35"/>
                  <a:pt x="5" y="33"/>
                </a:cubicBezTo>
                <a:cubicBezTo>
                  <a:pt x="5" y="18"/>
                  <a:pt x="5" y="18"/>
                  <a:pt x="5" y="18"/>
                </a:cubicBezTo>
                <a:cubicBezTo>
                  <a:pt x="0" y="18"/>
                  <a:pt x="0" y="18"/>
                  <a:pt x="0" y="18"/>
                </a:cubicBezTo>
                <a:cubicBezTo>
                  <a:pt x="0" y="12"/>
                  <a:pt x="0" y="12"/>
                  <a:pt x="0" y="12"/>
                </a:cubicBezTo>
                <a:cubicBezTo>
                  <a:pt x="2" y="11"/>
                  <a:pt x="3" y="10"/>
                  <a:pt x="4" y="9"/>
                </a:cubicBezTo>
                <a:cubicBezTo>
                  <a:pt x="6" y="8"/>
                  <a:pt x="7" y="7"/>
                  <a:pt x="7" y="6"/>
                </a:cubicBezTo>
                <a:cubicBezTo>
                  <a:pt x="8" y="4"/>
                  <a:pt x="9" y="2"/>
                  <a:pt x="9" y="0"/>
                </a:cubicBezTo>
                <a:cubicBezTo>
                  <a:pt x="15" y="0"/>
                  <a:pt x="15" y="0"/>
                  <a:pt x="15" y="0"/>
                </a:cubicBezTo>
                <a:cubicBezTo>
                  <a:pt x="15" y="11"/>
                  <a:pt x="15" y="11"/>
                  <a:pt x="15" y="11"/>
                </a:cubicBezTo>
                <a:cubicBezTo>
                  <a:pt x="25" y="11"/>
                  <a:pt x="25" y="11"/>
                  <a:pt x="25" y="11"/>
                </a:cubicBezTo>
                <a:cubicBezTo>
                  <a:pt x="25" y="18"/>
                  <a:pt x="25" y="18"/>
                  <a:pt x="25" y="18"/>
                </a:cubicBezTo>
                <a:cubicBezTo>
                  <a:pt x="15" y="18"/>
                  <a:pt x="15" y="18"/>
                  <a:pt x="15" y="18"/>
                </a:cubicBezTo>
                <a:cubicBezTo>
                  <a:pt x="15" y="29"/>
                  <a:pt x="15" y="29"/>
                  <a:pt x="15" y="29"/>
                </a:cubicBezTo>
                <a:cubicBezTo>
                  <a:pt x="15" y="31"/>
                  <a:pt x="15" y="33"/>
                  <a:pt x="15" y="34"/>
                </a:cubicBezTo>
                <a:cubicBezTo>
                  <a:pt x="16" y="34"/>
                  <a:pt x="16" y="35"/>
                  <a:pt x="17" y="35"/>
                </a:cubicBezTo>
                <a:cubicBezTo>
                  <a:pt x="18" y="36"/>
                  <a:pt x="19" y="36"/>
                  <a:pt x="20" y="36"/>
                </a:cubicBezTo>
                <a:cubicBezTo>
                  <a:pt x="22" y="36"/>
                  <a:pt x="24" y="35"/>
                  <a:pt x="26" y="34"/>
                </a:cubicBezTo>
                <a:lnTo>
                  <a:pt x="26" y="4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17" name="稻壳儿小白白(http://dwz.cn/Wu2UP)"/>
          <p:cNvSpPr/>
          <p:nvPr/>
        </p:nvSpPr>
        <p:spPr>
          <a:xfrm>
            <a:off x="10645920" y="4048200"/>
            <a:ext cx="207720" cy="177840"/>
          </a:xfrm>
          <a:custGeom>
            <a:avLst/>
            <a:gdLst/>
            <a:ahLst/>
            <a:rect l="l" t="t" r="r" b="b"/>
            <a:pathLst>
              <a:path w="43" h="37">
                <a:moveTo>
                  <a:pt x="29" y="22"/>
                </a:moveTo>
                <a:cubicBezTo>
                  <a:pt x="27" y="22"/>
                  <a:pt x="26" y="24"/>
                  <a:pt x="26" y="26"/>
                </a:cubicBezTo>
                <a:cubicBezTo>
                  <a:pt x="26" y="28"/>
                  <a:pt x="27" y="30"/>
                  <a:pt x="29" y="30"/>
                </a:cubicBezTo>
                <a:cubicBezTo>
                  <a:pt x="30" y="30"/>
                  <a:pt x="32" y="28"/>
                  <a:pt x="32" y="26"/>
                </a:cubicBezTo>
                <a:cubicBezTo>
                  <a:pt x="32" y="24"/>
                  <a:pt x="30" y="22"/>
                  <a:pt x="29" y="22"/>
                </a:cubicBezTo>
                <a:close/>
                <a:moveTo>
                  <a:pt x="39" y="11"/>
                </a:moveTo>
                <a:cubicBezTo>
                  <a:pt x="40" y="10"/>
                  <a:pt x="40" y="5"/>
                  <a:pt x="38" y="0"/>
                </a:cubicBezTo>
                <a:cubicBezTo>
                  <a:pt x="38" y="0"/>
                  <a:pt x="34" y="1"/>
                  <a:pt x="27" y="5"/>
                </a:cubicBezTo>
                <a:cubicBezTo>
                  <a:pt x="26" y="5"/>
                  <a:pt x="24" y="5"/>
                  <a:pt x="21" y="5"/>
                </a:cubicBezTo>
                <a:cubicBezTo>
                  <a:pt x="19" y="5"/>
                  <a:pt x="17" y="5"/>
                  <a:pt x="15" y="5"/>
                </a:cubicBezTo>
                <a:cubicBezTo>
                  <a:pt x="9" y="1"/>
                  <a:pt x="5" y="0"/>
                  <a:pt x="5" y="0"/>
                </a:cubicBezTo>
                <a:cubicBezTo>
                  <a:pt x="3" y="5"/>
                  <a:pt x="3" y="10"/>
                  <a:pt x="3" y="11"/>
                </a:cubicBezTo>
                <a:cubicBezTo>
                  <a:pt x="1" y="13"/>
                  <a:pt x="0" y="16"/>
                  <a:pt x="0" y="20"/>
                </a:cubicBezTo>
                <a:cubicBezTo>
                  <a:pt x="0" y="37"/>
                  <a:pt x="14" y="37"/>
                  <a:pt x="17" y="37"/>
                </a:cubicBezTo>
                <a:cubicBezTo>
                  <a:pt x="18" y="37"/>
                  <a:pt x="20" y="37"/>
                  <a:pt x="21" y="37"/>
                </a:cubicBezTo>
                <a:cubicBezTo>
                  <a:pt x="23" y="37"/>
                  <a:pt x="25" y="37"/>
                  <a:pt x="25" y="37"/>
                </a:cubicBezTo>
                <a:cubicBezTo>
                  <a:pt x="29" y="37"/>
                  <a:pt x="43" y="37"/>
                  <a:pt x="43" y="20"/>
                </a:cubicBezTo>
                <a:cubicBezTo>
                  <a:pt x="43" y="16"/>
                  <a:pt x="42" y="13"/>
                  <a:pt x="39" y="11"/>
                </a:cubicBezTo>
                <a:close/>
                <a:moveTo>
                  <a:pt x="21" y="35"/>
                </a:moveTo>
                <a:cubicBezTo>
                  <a:pt x="21" y="35"/>
                  <a:pt x="21" y="35"/>
                  <a:pt x="21" y="35"/>
                </a:cubicBezTo>
                <a:cubicBezTo>
                  <a:pt x="12" y="35"/>
                  <a:pt x="6" y="34"/>
                  <a:pt x="6" y="25"/>
                </a:cubicBezTo>
                <a:cubicBezTo>
                  <a:pt x="6" y="23"/>
                  <a:pt x="6" y="21"/>
                  <a:pt x="8" y="20"/>
                </a:cubicBezTo>
                <a:cubicBezTo>
                  <a:pt x="11" y="17"/>
                  <a:pt x="16" y="19"/>
                  <a:pt x="21" y="19"/>
                </a:cubicBezTo>
                <a:cubicBezTo>
                  <a:pt x="21" y="19"/>
                  <a:pt x="21" y="19"/>
                  <a:pt x="21" y="19"/>
                </a:cubicBezTo>
                <a:cubicBezTo>
                  <a:pt x="21" y="19"/>
                  <a:pt x="21" y="19"/>
                  <a:pt x="21" y="19"/>
                </a:cubicBezTo>
                <a:cubicBezTo>
                  <a:pt x="27" y="19"/>
                  <a:pt x="32" y="17"/>
                  <a:pt x="35" y="20"/>
                </a:cubicBezTo>
                <a:cubicBezTo>
                  <a:pt x="36" y="21"/>
                  <a:pt x="37" y="23"/>
                  <a:pt x="37" y="25"/>
                </a:cubicBezTo>
                <a:cubicBezTo>
                  <a:pt x="37" y="34"/>
                  <a:pt x="30" y="35"/>
                  <a:pt x="21" y="35"/>
                </a:cubicBezTo>
                <a:close/>
                <a:moveTo>
                  <a:pt x="14" y="22"/>
                </a:moveTo>
                <a:cubicBezTo>
                  <a:pt x="12" y="22"/>
                  <a:pt x="11" y="24"/>
                  <a:pt x="11" y="26"/>
                </a:cubicBezTo>
                <a:cubicBezTo>
                  <a:pt x="11" y="28"/>
                  <a:pt x="12" y="30"/>
                  <a:pt x="14" y="30"/>
                </a:cubicBezTo>
                <a:cubicBezTo>
                  <a:pt x="16" y="30"/>
                  <a:pt x="17" y="28"/>
                  <a:pt x="17" y="26"/>
                </a:cubicBezTo>
                <a:cubicBezTo>
                  <a:pt x="17" y="24"/>
                  <a:pt x="16" y="22"/>
                  <a:pt x="14" y="2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18" name="稻壳儿小白白(http://dwz.cn/Wu2UP)"/>
          <p:cNvSpPr/>
          <p:nvPr/>
        </p:nvSpPr>
        <p:spPr>
          <a:xfrm>
            <a:off x="10652040" y="4943520"/>
            <a:ext cx="196920" cy="196920"/>
          </a:xfrm>
          <a:custGeom>
            <a:avLst/>
            <a:gdLst/>
            <a:ahLst/>
            <a:rect l="l" t="t" r="r" b="b"/>
            <a:pathLst>
              <a:path w="41" h="41">
                <a:moveTo>
                  <a:pt x="33" y="20"/>
                </a:moveTo>
                <a:cubicBezTo>
                  <a:pt x="33" y="27"/>
                  <a:pt x="27" y="33"/>
                  <a:pt x="20" y="33"/>
                </a:cubicBezTo>
                <a:cubicBezTo>
                  <a:pt x="14" y="33"/>
                  <a:pt x="8" y="27"/>
                  <a:pt x="8" y="20"/>
                </a:cubicBezTo>
                <a:cubicBezTo>
                  <a:pt x="8" y="20"/>
                  <a:pt x="8" y="19"/>
                  <a:pt x="8" y="18"/>
                </a:cubicBezTo>
                <a:cubicBezTo>
                  <a:pt x="0" y="18"/>
                  <a:pt x="0" y="18"/>
                  <a:pt x="0" y="18"/>
                </a:cubicBezTo>
                <a:cubicBezTo>
                  <a:pt x="0" y="34"/>
                  <a:pt x="0" y="34"/>
                  <a:pt x="0" y="34"/>
                </a:cubicBezTo>
                <a:cubicBezTo>
                  <a:pt x="0" y="38"/>
                  <a:pt x="3" y="41"/>
                  <a:pt x="7" y="41"/>
                </a:cubicBezTo>
                <a:cubicBezTo>
                  <a:pt x="34" y="41"/>
                  <a:pt x="34" y="41"/>
                  <a:pt x="34" y="41"/>
                </a:cubicBezTo>
                <a:cubicBezTo>
                  <a:pt x="38" y="41"/>
                  <a:pt x="41" y="38"/>
                  <a:pt x="41" y="34"/>
                </a:cubicBezTo>
                <a:cubicBezTo>
                  <a:pt x="41" y="18"/>
                  <a:pt x="41" y="18"/>
                  <a:pt x="41" y="18"/>
                </a:cubicBezTo>
                <a:cubicBezTo>
                  <a:pt x="32" y="18"/>
                  <a:pt x="32" y="18"/>
                  <a:pt x="32" y="18"/>
                </a:cubicBezTo>
                <a:cubicBezTo>
                  <a:pt x="32" y="19"/>
                  <a:pt x="33" y="20"/>
                  <a:pt x="33" y="20"/>
                </a:cubicBezTo>
                <a:close/>
                <a:moveTo>
                  <a:pt x="34" y="0"/>
                </a:moveTo>
                <a:cubicBezTo>
                  <a:pt x="7" y="0"/>
                  <a:pt x="7" y="0"/>
                  <a:pt x="7" y="0"/>
                </a:cubicBezTo>
                <a:cubicBezTo>
                  <a:pt x="3" y="0"/>
                  <a:pt x="0" y="3"/>
                  <a:pt x="0" y="7"/>
                </a:cubicBezTo>
                <a:cubicBezTo>
                  <a:pt x="0" y="13"/>
                  <a:pt x="0" y="13"/>
                  <a:pt x="0" y="13"/>
                </a:cubicBezTo>
                <a:cubicBezTo>
                  <a:pt x="10" y="13"/>
                  <a:pt x="10" y="13"/>
                  <a:pt x="10" y="13"/>
                </a:cubicBezTo>
                <a:cubicBezTo>
                  <a:pt x="13" y="10"/>
                  <a:pt x="16" y="8"/>
                  <a:pt x="20" y="8"/>
                </a:cubicBezTo>
                <a:cubicBezTo>
                  <a:pt x="24" y="8"/>
                  <a:pt x="28" y="10"/>
                  <a:pt x="30" y="13"/>
                </a:cubicBezTo>
                <a:cubicBezTo>
                  <a:pt x="41" y="13"/>
                  <a:pt x="41" y="13"/>
                  <a:pt x="41" y="13"/>
                </a:cubicBezTo>
                <a:cubicBezTo>
                  <a:pt x="41" y="7"/>
                  <a:pt x="41" y="7"/>
                  <a:pt x="41" y="7"/>
                </a:cubicBezTo>
                <a:cubicBezTo>
                  <a:pt x="41" y="3"/>
                  <a:pt x="38" y="0"/>
                  <a:pt x="34" y="0"/>
                </a:cubicBezTo>
                <a:close/>
                <a:moveTo>
                  <a:pt x="37" y="8"/>
                </a:moveTo>
                <a:cubicBezTo>
                  <a:pt x="37" y="9"/>
                  <a:pt x="37" y="9"/>
                  <a:pt x="36" y="9"/>
                </a:cubicBezTo>
                <a:cubicBezTo>
                  <a:pt x="33" y="9"/>
                  <a:pt x="33" y="9"/>
                  <a:pt x="33" y="9"/>
                </a:cubicBezTo>
                <a:cubicBezTo>
                  <a:pt x="32" y="9"/>
                  <a:pt x="32" y="9"/>
                  <a:pt x="32" y="8"/>
                </a:cubicBezTo>
                <a:cubicBezTo>
                  <a:pt x="32" y="5"/>
                  <a:pt x="32" y="5"/>
                  <a:pt x="32" y="5"/>
                </a:cubicBezTo>
                <a:cubicBezTo>
                  <a:pt x="32" y="4"/>
                  <a:pt x="32" y="4"/>
                  <a:pt x="33" y="4"/>
                </a:cubicBezTo>
                <a:cubicBezTo>
                  <a:pt x="36" y="4"/>
                  <a:pt x="36" y="4"/>
                  <a:pt x="36" y="4"/>
                </a:cubicBezTo>
                <a:cubicBezTo>
                  <a:pt x="37" y="4"/>
                  <a:pt x="37" y="4"/>
                  <a:pt x="37" y="5"/>
                </a:cubicBezTo>
                <a:lnTo>
                  <a:pt x="37" y="8"/>
                </a:lnTo>
                <a:close/>
                <a:moveTo>
                  <a:pt x="28" y="20"/>
                </a:moveTo>
                <a:cubicBezTo>
                  <a:pt x="28" y="16"/>
                  <a:pt x="25" y="13"/>
                  <a:pt x="20" y="13"/>
                </a:cubicBezTo>
                <a:cubicBezTo>
                  <a:pt x="16" y="13"/>
                  <a:pt x="13" y="16"/>
                  <a:pt x="13" y="20"/>
                </a:cubicBezTo>
                <a:cubicBezTo>
                  <a:pt x="13" y="25"/>
                  <a:pt x="16" y="28"/>
                  <a:pt x="20" y="28"/>
                </a:cubicBezTo>
                <a:cubicBezTo>
                  <a:pt x="25" y="28"/>
                  <a:pt x="28" y="25"/>
                  <a:pt x="28" y="2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19" name="稻壳儿小白白(http://dwz.cn/Wu2UP)"/>
          <p:cNvSpPr/>
          <p:nvPr/>
        </p:nvSpPr>
        <p:spPr>
          <a:xfrm>
            <a:off x="10640880" y="5415120"/>
            <a:ext cx="149400" cy="187200"/>
          </a:xfrm>
          <a:custGeom>
            <a:avLst/>
            <a:gdLst/>
            <a:ahLst/>
            <a:rect l="l" t="t" r="r" b="b"/>
            <a:pathLst>
              <a:path w="31" h="39">
                <a:moveTo>
                  <a:pt x="20" y="20"/>
                </a:moveTo>
                <a:cubicBezTo>
                  <a:pt x="14" y="18"/>
                  <a:pt x="9" y="14"/>
                  <a:pt x="9" y="9"/>
                </a:cubicBezTo>
                <a:cubicBezTo>
                  <a:pt x="9" y="6"/>
                  <a:pt x="9" y="3"/>
                  <a:pt x="12" y="0"/>
                </a:cubicBezTo>
                <a:cubicBezTo>
                  <a:pt x="3" y="2"/>
                  <a:pt x="3" y="2"/>
                  <a:pt x="3" y="2"/>
                </a:cubicBezTo>
                <a:cubicBezTo>
                  <a:pt x="1" y="3"/>
                  <a:pt x="0" y="4"/>
                  <a:pt x="0" y="6"/>
                </a:cubicBezTo>
                <a:cubicBezTo>
                  <a:pt x="8" y="37"/>
                  <a:pt x="8" y="37"/>
                  <a:pt x="8" y="37"/>
                </a:cubicBezTo>
                <a:cubicBezTo>
                  <a:pt x="8" y="38"/>
                  <a:pt x="10" y="39"/>
                  <a:pt x="12" y="39"/>
                </a:cubicBezTo>
                <a:cubicBezTo>
                  <a:pt x="15" y="38"/>
                  <a:pt x="15" y="38"/>
                  <a:pt x="15" y="38"/>
                </a:cubicBezTo>
                <a:cubicBezTo>
                  <a:pt x="14" y="38"/>
                  <a:pt x="11" y="37"/>
                  <a:pt x="9" y="35"/>
                </a:cubicBezTo>
                <a:cubicBezTo>
                  <a:pt x="12" y="28"/>
                  <a:pt x="12" y="28"/>
                  <a:pt x="12" y="28"/>
                </a:cubicBezTo>
                <a:cubicBezTo>
                  <a:pt x="12" y="28"/>
                  <a:pt x="17" y="31"/>
                  <a:pt x="22" y="31"/>
                </a:cubicBezTo>
                <a:cubicBezTo>
                  <a:pt x="28" y="31"/>
                  <a:pt x="31" y="24"/>
                  <a:pt x="20" y="2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20" name="稻壳儿小白白(http://dwz.cn/Wu2UP)"/>
          <p:cNvSpPr/>
          <p:nvPr/>
        </p:nvSpPr>
        <p:spPr>
          <a:xfrm>
            <a:off x="10715760" y="5391000"/>
            <a:ext cx="141120" cy="182880"/>
          </a:xfrm>
          <a:custGeom>
            <a:avLst/>
            <a:gdLst/>
            <a:ahLst/>
            <a:rect l="l" t="t" r="r" b="b"/>
            <a:pathLst>
              <a:path w="30" h="38">
                <a:moveTo>
                  <a:pt x="29" y="33"/>
                </a:moveTo>
                <a:cubicBezTo>
                  <a:pt x="22" y="2"/>
                  <a:pt x="22" y="2"/>
                  <a:pt x="22" y="2"/>
                </a:cubicBezTo>
                <a:cubicBezTo>
                  <a:pt x="22" y="1"/>
                  <a:pt x="20" y="0"/>
                  <a:pt x="18" y="0"/>
                </a:cubicBezTo>
                <a:cubicBezTo>
                  <a:pt x="12" y="2"/>
                  <a:pt x="12" y="2"/>
                  <a:pt x="12" y="2"/>
                </a:cubicBezTo>
                <a:cubicBezTo>
                  <a:pt x="14" y="2"/>
                  <a:pt x="17" y="2"/>
                  <a:pt x="20" y="4"/>
                </a:cubicBezTo>
                <a:cubicBezTo>
                  <a:pt x="17" y="12"/>
                  <a:pt x="17" y="12"/>
                  <a:pt x="17" y="12"/>
                </a:cubicBezTo>
                <a:cubicBezTo>
                  <a:pt x="17" y="12"/>
                  <a:pt x="15" y="9"/>
                  <a:pt x="9" y="9"/>
                </a:cubicBezTo>
                <a:cubicBezTo>
                  <a:pt x="3" y="9"/>
                  <a:pt x="0" y="15"/>
                  <a:pt x="11" y="19"/>
                </a:cubicBezTo>
                <a:cubicBezTo>
                  <a:pt x="20" y="21"/>
                  <a:pt x="23" y="27"/>
                  <a:pt x="23" y="32"/>
                </a:cubicBezTo>
                <a:cubicBezTo>
                  <a:pt x="23" y="35"/>
                  <a:pt x="22" y="37"/>
                  <a:pt x="21" y="38"/>
                </a:cubicBezTo>
                <a:cubicBezTo>
                  <a:pt x="27" y="37"/>
                  <a:pt x="27" y="37"/>
                  <a:pt x="27" y="37"/>
                </a:cubicBezTo>
                <a:cubicBezTo>
                  <a:pt x="29" y="36"/>
                  <a:pt x="30" y="35"/>
                  <a:pt x="29" y="3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21" name="稻壳儿小白白(http://dwz.cn/Wu2UP)"/>
          <p:cNvSpPr/>
          <p:nvPr/>
        </p:nvSpPr>
        <p:spPr>
          <a:xfrm>
            <a:off x="341280" y="304920"/>
            <a:ext cx="15400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ffff"/>
                </a:solidFill>
                <a:latin typeface="Arial"/>
                <a:ea typeface="微软雅黑"/>
              </a:rPr>
              <a:t>赠送图标</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椭圆 1"/>
          <p:cNvSpPr/>
          <p:nvPr/>
        </p:nvSpPr>
        <p:spPr>
          <a:xfrm>
            <a:off x="4759200" y="1665360"/>
            <a:ext cx="2664000" cy="266364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文本框 9"/>
          <p:cNvSpPr/>
          <p:nvPr/>
        </p:nvSpPr>
        <p:spPr>
          <a:xfrm>
            <a:off x="4903920" y="1749600"/>
            <a:ext cx="2439720" cy="2623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600" spc="-1" strike="noStrike">
                <a:solidFill>
                  <a:srgbClr val="ffffff"/>
                </a:solidFill>
                <a:latin typeface="Arial"/>
                <a:ea typeface="微软雅黑"/>
              </a:rPr>
              <a:t>1</a:t>
            </a:r>
            <a:endParaRPr b="0" lang="en-US" sz="16600" spc="-1" strike="noStrike">
              <a:solidFill>
                <a:srgbClr val="000000"/>
              </a:solidFill>
              <a:latin typeface="Arial"/>
            </a:endParaRPr>
          </a:p>
        </p:txBody>
      </p:sp>
      <p:sp>
        <p:nvSpPr>
          <p:cNvPr id="218" name="文本框 10"/>
          <p:cNvSpPr/>
          <p:nvPr/>
        </p:nvSpPr>
        <p:spPr>
          <a:xfrm>
            <a:off x="3195720" y="4667400"/>
            <a:ext cx="596412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1d087d"/>
                </a:solidFill>
                <a:latin typeface="Arial"/>
                <a:ea typeface="微软雅黑"/>
              </a:rPr>
              <a:t>公司团队介绍</a:t>
            </a:r>
            <a:endParaRPr b="0" lang="en-US" sz="5000" spc="-1" strike="noStrike">
              <a:solidFill>
                <a:srgbClr val="000000"/>
              </a:solidFill>
              <a:latin typeface="Arial"/>
            </a:endParaRPr>
          </a:p>
        </p:txBody>
      </p:sp>
      <p:sp>
        <p:nvSpPr>
          <p:cNvPr id="219" name="文本框 11"/>
          <p:cNvSpPr/>
          <p:nvPr/>
        </p:nvSpPr>
        <p:spPr>
          <a:xfrm>
            <a:off x="3582360" y="567216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公司简介</a:t>
            </a:r>
            <a:endParaRPr b="0" lang="en-US" sz="1400" spc="-1" strike="noStrike">
              <a:solidFill>
                <a:srgbClr val="000000"/>
              </a:solidFill>
              <a:latin typeface="Arial"/>
            </a:endParaRPr>
          </a:p>
        </p:txBody>
      </p:sp>
      <p:sp>
        <p:nvSpPr>
          <p:cNvPr id="220" name="文本框 12"/>
          <p:cNvSpPr/>
          <p:nvPr/>
        </p:nvSpPr>
        <p:spPr>
          <a:xfrm>
            <a:off x="5074560" y="567216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核心团队</a:t>
            </a:r>
            <a:endParaRPr b="0" lang="en-US" sz="1400" spc="-1" strike="noStrike">
              <a:solidFill>
                <a:srgbClr val="000000"/>
              </a:solidFill>
              <a:latin typeface="Arial"/>
            </a:endParaRPr>
          </a:p>
        </p:txBody>
      </p:sp>
      <p:sp>
        <p:nvSpPr>
          <p:cNvPr id="221" name="文本框 13"/>
          <p:cNvSpPr/>
          <p:nvPr/>
        </p:nvSpPr>
        <p:spPr>
          <a:xfrm>
            <a:off x="6567120" y="567216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组织机构</a:t>
            </a:r>
            <a:endParaRPr b="0" lang="en-US" sz="1400" spc="-1" strike="noStrike">
              <a:solidFill>
                <a:srgbClr val="000000"/>
              </a:solidFill>
              <a:latin typeface="Arial"/>
            </a:endParaRPr>
          </a:p>
        </p:txBody>
      </p:sp>
      <p:sp>
        <p:nvSpPr>
          <p:cNvPr id="222" name="文本框 14"/>
          <p:cNvSpPr/>
          <p:nvPr/>
        </p:nvSpPr>
        <p:spPr>
          <a:xfrm>
            <a:off x="8060040" y="567216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企业荣誉</a:t>
            </a:r>
            <a:endParaRPr b="0" lang="en-US" sz="1400" spc="-1" strike="noStrike">
              <a:solidFill>
                <a:srgbClr val="000000"/>
              </a:solidFill>
              <a:latin typeface="Arial"/>
            </a:endParaRPr>
          </a:p>
        </p:txBody>
      </p:sp>
      <p:sp>
        <p:nvSpPr>
          <p:cNvPr id="223" name="任意多边形 62"/>
          <p:cNvSpPr/>
          <p:nvPr/>
        </p:nvSpPr>
        <p:spPr>
          <a:xfrm rot="20566200">
            <a:off x="-279000" y="223560"/>
            <a:ext cx="2324160" cy="1528560"/>
          </a:xfrm>
          <a:custGeom>
            <a:avLst/>
            <a:gdLst/>
            <a:ahLst/>
            <a:rect l="l" t="t" r="r" b="b"/>
            <a:pathLst>
              <a:path w="2323118" h="1529480">
                <a:moveTo>
                  <a:pt x="2317575" y="102737"/>
                </a:moveTo>
                <a:lnTo>
                  <a:pt x="2323118" y="425547"/>
                </a:lnTo>
                <a:lnTo>
                  <a:pt x="2296920" y="439788"/>
                </a:lnTo>
                <a:lnTo>
                  <a:pt x="2223125" y="431167"/>
                </a:lnTo>
                <a:cubicBezTo>
                  <a:pt x="2141233" y="423668"/>
                  <a:pt x="2059351" y="418279"/>
                  <a:pt x="1977371" y="415108"/>
                </a:cubicBezTo>
                <a:cubicBezTo>
                  <a:pt x="1876471" y="475973"/>
                  <a:pt x="1769267" y="536838"/>
                  <a:pt x="1662062" y="597703"/>
                </a:cubicBezTo>
                <a:cubicBezTo>
                  <a:pt x="1287388" y="814058"/>
                  <a:pt x="411441" y="1301159"/>
                  <a:pt x="15270" y="1521009"/>
                </a:cubicBezTo>
                <a:lnTo>
                  <a:pt x="0" y="1529480"/>
                </a:lnTo>
                <a:lnTo>
                  <a:pt x="430040" y="143265"/>
                </a:lnTo>
                <a:lnTo>
                  <a:pt x="454203" y="136369"/>
                </a:lnTo>
                <a:cubicBezTo>
                  <a:pt x="734554" y="63365"/>
                  <a:pt x="1091519" y="74"/>
                  <a:pt x="1486696" y="1"/>
                </a:cubicBezTo>
                <a:cubicBezTo>
                  <a:pt x="1702248" y="-39"/>
                  <a:pt x="1929168" y="18730"/>
                  <a:pt x="2161227" y="64990"/>
                </a:cubicBezTo>
                <a:lnTo>
                  <a:pt x="2317575" y="102737"/>
                </a:lnTo>
                <a:close/>
              </a:path>
            </a:pathLst>
          </a:custGeom>
          <a:solidFill>
            <a:srgbClr val="5b9bd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任意多边形 63"/>
          <p:cNvSpPr/>
          <p:nvPr/>
        </p:nvSpPr>
        <p:spPr>
          <a:xfrm rot="20566200">
            <a:off x="-23400" y="-983880"/>
            <a:ext cx="6703920" cy="2071800"/>
          </a:xfrm>
          <a:custGeom>
            <a:avLst/>
            <a:gdLst/>
            <a:ahLst/>
            <a:rect l="l" t="t" r="r" b="b"/>
            <a:pathLst>
              <a:path w="6704685" h="2071005">
                <a:moveTo>
                  <a:pt x="188959" y="0"/>
                </a:moveTo>
                <a:lnTo>
                  <a:pt x="6704685" y="2021348"/>
                </a:lnTo>
                <a:lnTo>
                  <a:pt x="6604717" y="2042571"/>
                </a:lnTo>
                <a:cubicBezTo>
                  <a:pt x="5918488" y="2161151"/>
                  <a:pt x="5342064" y="1885828"/>
                  <a:pt x="4630497" y="1641590"/>
                </a:cubicBezTo>
                <a:cubicBezTo>
                  <a:pt x="3810972" y="1367535"/>
                  <a:pt x="3312951" y="966603"/>
                  <a:pt x="1976496" y="591046"/>
                </a:cubicBezTo>
                <a:cubicBezTo>
                  <a:pt x="1245621" y="382889"/>
                  <a:pt x="543027" y="470705"/>
                  <a:pt x="56366" y="593029"/>
                </a:cubicBezTo>
                <a:lnTo>
                  <a:pt x="0" y="609101"/>
                </a:lnTo>
                <a:lnTo>
                  <a:pt x="188959" y="0"/>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任意多边形 18"/>
          <p:cNvSpPr/>
          <p:nvPr/>
        </p:nvSpPr>
        <p:spPr>
          <a:xfrm rot="20566200">
            <a:off x="-353880" y="223560"/>
            <a:ext cx="5257800" cy="1430280"/>
          </a:xfrm>
          <a:custGeom>
            <a:avLst/>
            <a:gdLst/>
            <a:ahLst/>
            <a:rect l="l" t="t" r="r" b="b"/>
            <a:pathLst>
              <a:path w="4587618" h="1555835">
                <a:moveTo>
                  <a:pt x="1825852" y="0"/>
                </a:moveTo>
                <a:cubicBezTo>
                  <a:pt x="2398011" y="27582"/>
                  <a:pt x="2964668" y="209619"/>
                  <a:pt x="3575337" y="485432"/>
                </a:cubicBezTo>
                <a:cubicBezTo>
                  <a:pt x="4064973" y="700566"/>
                  <a:pt x="4362056" y="821924"/>
                  <a:pt x="4587618" y="910184"/>
                </a:cubicBezTo>
                <a:cubicBezTo>
                  <a:pt x="4169502" y="755729"/>
                  <a:pt x="3377282" y="490948"/>
                  <a:pt x="2898649" y="474399"/>
                </a:cubicBezTo>
                <a:cubicBezTo>
                  <a:pt x="2233309" y="453713"/>
                  <a:pt x="1142459" y="675441"/>
                  <a:pt x="138343" y="1444116"/>
                </a:cubicBezTo>
                <a:lnTo>
                  <a:pt x="0" y="1555835"/>
                </a:lnTo>
                <a:lnTo>
                  <a:pt x="0" y="1281649"/>
                </a:lnTo>
                <a:lnTo>
                  <a:pt x="50814" y="1246526"/>
                </a:lnTo>
                <a:cubicBezTo>
                  <a:pt x="355891" y="1035594"/>
                  <a:pt x="1202116" y="449576"/>
                  <a:pt x="1550775" y="198586"/>
                </a:cubicBezTo>
                <a:cubicBezTo>
                  <a:pt x="1644301" y="132391"/>
                  <a:pt x="1737827" y="66195"/>
                  <a:pt x="1825852" y="0"/>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任意多边形 64"/>
          <p:cNvSpPr/>
          <p:nvPr/>
        </p:nvSpPr>
        <p:spPr>
          <a:xfrm rot="20566200">
            <a:off x="-140760" y="210960"/>
            <a:ext cx="2158920" cy="628920"/>
          </a:xfrm>
          <a:custGeom>
            <a:avLst/>
            <a:gdLst/>
            <a:ahLst/>
            <a:rect l="l" t="t" r="r" b="b"/>
            <a:pathLst>
              <a:path w="2158651" h="628090">
                <a:moveTo>
                  <a:pt x="2140041" y="128253"/>
                </a:moveTo>
                <a:cubicBezTo>
                  <a:pt x="2145705" y="130155"/>
                  <a:pt x="2152178" y="132691"/>
                  <a:pt x="2158651" y="135227"/>
                </a:cubicBezTo>
                <a:cubicBezTo>
                  <a:pt x="2003303" y="201167"/>
                  <a:pt x="1847955" y="292469"/>
                  <a:pt x="1686135" y="388843"/>
                </a:cubicBezTo>
                <a:cubicBezTo>
                  <a:pt x="1466058" y="378698"/>
                  <a:pt x="1252454" y="383770"/>
                  <a:pt x="1032379" y="409132"/>
                </a:cubicBezTo>
                <a:cubicBezTo>
                  <a:pt x="640216" y="448363"/>
                  <a:pt x="295857" y="533483"/>
                  <a:pt x="30627" y="617813"/>
                </a:cubicBezTo>
                <a:lnTo>
                  <a:pt x="0" y="628090"/>
                </a:lnTo>
                <a:lnTo>
                  <a:pt x="155241" y="127677"/>
                </a:lnTo>
                <a:lnTo>
                  <a:pt x="198115" y="116675"/>
                </a:lnTo>
                <a:cubicBezTo>
                  <a:pt x="461534" y="54924"/>
                  <a:pt x="782138" y="4269"/>
                  <a:pt x="1133720" y="257"/>
                </a:cubicBezTo>
                <a:cubicBezTo>
                  <a:pt x="1446235" y="-3310"/>
                  <a:pt x="1783227" y="29978"/>
                  <a:pt x="2126287" y="125082"/>
                </a:cubicBezTo>
                <a:cubicBezTo>
                  <a:pt x="2129523" y="125082"/>
                  <a:pt x="2134378" y="126351"/>
                  <a:pt x="2140041" y="128253"/>
                </a:cubicBezTo>
                <a:close/>
              </a:path>
            </a:pathLst>
          </a:custGeom>
          <a:solidFill>
            <a:srgbClr val="133c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任意多边形 49"/>
          <p:cNvSpPr/>
          <p:nvPr/>
        </p:nvSpPr>
        <p:spPr>
          <a:xfrm rot="20566200">
            <a:off x="1573200" y="-371520"/>
            <a:ext cx="3489480" cy="1187640"/>
          </a:xfrm>
          <a:custGeom>
            <a:avLst/>
            <a:gdLst/>
            <a:ahLst/>
            <a:rect l="l" t="t" r="r" b="b"/>
            <a:pathLst>
              <a:path w="3488546" h="1188055">
                <a:moveTo>
                  <a:pt x="915831" y="141330"/>
                </a:moveTo>
                <a:cubicBezTo>
                  <a:pt x="1900526" y="471561"/>
                  <a:pt x="2370683" y="800820"/>
                  <a:pt x="3082125" y="1040686"/>
                </a:cubicBezTo>
                <a:cubicBezTo>
                  <a:pt x="3214486" y="1086374"/>
                  <a:pt x="3340544" y="1132063"/>
                  <a:pt x="3466603" y="1177752"/>
                </a:cubicBezTo>
                <a:cubicBezTo>
                  <a:pt x="3472905" y="1182828"/>
                  <a:pt x="3472905" y="1182828"/>
                  <a:pt x="3472905" y="1182828"/>
                </a:cubicBezTo>
                <a:cubicBezTo>
                  <a:pt x="3535935" y="1203134"/>
                  <a:pt x="3403573" y="1162522"/>
                  <a:pt x="3164063" y="1091451"/>
                </a:cubicBezTo>
                <a:cubicBezTo>
                  <a:pt x="2905643" y="1010227"/>
                  <a:pt x="2565286" y="898543"/>
                  <a:pt x="2004327" y="700559"/>
                </a:cubicBezTo>
                <a:cubicBezTo>
                  <a:pt x="1304703" y="446733"/>
                  <a:pt x="655504" y="279208"/>
                  <a:pt x="0" y="253826"/>
                </a:cubicBezTo>
                <a:cubicBezTo>
                  <a:pt x="157573" y="157372"/>
                  <a:pt x="308843" y="65995"/>
                  <a:pt x="460113" y="0"/>
                </a:cubicBezTo>
                <a:cubicBezTo>
                  <a:pt x="623989" y="46958"/>
                  <a:pt x="775160" y="94154"/>
                  <a:pt x="915831" y="141330"/>
                </a:cubicBez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任意多边形 52"/>
          <p:cNvSpPr/>
          <p:nvPr/>
        </p:nvSpPr>
        <p:spPr>
          <a:xfrm rot="20566200">
            <a:off x="2018880" y="-457200"/>
            <a:ext cx="3006720" cy="1198440"/>
          </a:xfrm>
          <a:custGeom>
            <a:avLst/>
            <a:gdLst/>
            <a:ahLst/>
            <a:rect l="l" t="t" r="r" b="b"/>
            <a:pathLst>
              <a:path w="3006843" h="1197358">
                <a:moveTo>
                  <a:pt x="52925" y="0"/>
                </a:moveTo>
                <a:lnTo>
                  <a:pt x="1994447" y="602310"/>
                </a:lnTo>
                <a:lnTo>
                  <a:pt x="2077534" y="658745"/>
                </a:lnTo>
                <a:cubicBezTo>
                  <a:pt x="2513187" y="949930"/>
                  <a:pt x="2846887" y="1139662"/>
                  <a:pt x="3006843" y="1197358"/>
                </a:cubicBezTo>
                <a:cubicBezTo>
                  <a:pt x="2880769" y="1151709"/>
                  <a:pt x="2754696" y="1106059"/>
                  <a:pt x="2622320" y="1060409"/>
                </a:cubicBezTo>
                <a:cubicBezTo>
                  <a:pt x="1809148" y="786511"/>
                  <a:pt x="1311160" y="395953"/>
                  <a:pt x="0" y="20611"/>
                </a:cubicBezTo>
                <a:lnTo>
                  <a:pt x="52925" y="0"/>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任意多边形 73"/>
          <p:cNvSpPr/>
          <p:nvPr/>
        </p:nvSpPr>
        <p:spPr>
          <a:xfrm flipH="1" rot="9364200">
            <a:off x="8886600" y="6077880"/>
            <a:ext cx="3549240" cy="1394280"/>
          </a:xfrm>
          <a:custGeom>
            <a:avLst/>
            <a:gdLst/>
            <a:ahLst/>
            <a:rect l="l" t="t" r="r" b="b"/>
            <a:pathLst>
              <a:path w="3550068" h="1393897">
                <a:moveTo>
                  <a:pt x="3550068" y="923786"/>
                </a:moveTo>
                <a:lnTo>
                  <a:pt x="3139982" y="0"/>
                </a:lnTo>
                <a:lnTo>
                  <a:pt x="0" y="1393897"/>
                </a:lnTo>
                <a:lnTo>
                  <a:pt x="196024" y="1330131"/>
                </a:lnTo>
                <a:cubicBezTo>
                  <a:pt x="735473" y="1158044"/>
                  <a:pt x="1224713" y="1013880"/>
                  <a:pt x="1521185" y="956786"/>
                </a:cubicBezTo>
                <a:cubicBezTo>
                  <a:pt x="2077070" y="853302"/>
                  <a:pt x="2714911" y="789961"/>
                  <a:pt x="3390379" y="895551"/>
                </a:cubicBezTo>
                <a:lnTo>
                  <a:pt x="3550068" y="923786"/>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任意多边形 70"/>
          <p:cNvSpPr/>
          <p:nvPr/>
        </p:nvSpPr>
        <p:spPr>
          <a:xfrm flipH="1" rot="9364200">
            <a:off x="7254000" y="5492160"/>
            <a:ext cx="5345280" cy="879480"/>
          </a:xfrm>
          <a:custGeom>
            <a:avLst/>
            <a:gdLst/>
            <a:ahLst/>
            <a:rect l="l" t="t" r="r" b="b"/>
            <a:pathLst>
              <a:path w="5345340" h="878460">
                <a:moveTo>
                  <a:pt x="5345340" y="878460"/>
                </a:moveTo>
                <a:lnTo>
                  <a:pt x="5133072" y="400291"/>
                </a:lnTo>
                <a:lnTo>
                  <a:pt x="5062613" y="374624"/>
                </a:lnTo>
                <a:cubicBezTo>
                  <a:pt x="4583216" y="206134"/>
                  <a:pt x="3721964" y="-20430"/>
                  <a:pt x="2598567" y="1477"/>
                </a:cubicBezTo>
                <a:cubicBezTo>
                  <a:pt x="2190061" y="9443"/>
                  <a:pt x="1746890" y="50264"/>
                  <a:pt x="1274811" y="138681"/>
                </a:cubicBezTo>
                <a:cubicBezTo>
                  <a:pt x="784008" y="255303"/>
                  <a:pt x="331451" y="387136"/>
                  <a:pt x="0" y="488547"/>
                </a:cubicBezTo>
                <a:cubicBezTo>
                  <a:pt x="2729390" y="-289262"/>
                  <a:pt x="4678149" y="529750"/>
                  <a:pt x="5290359" y="849197"/>
                </a:cubicBezTo>
                <a:lnTo>
                  <a:pt x="5345340" y="878460"/>
                </a:lnTo>
                <a:close/>
              </a:path>
            </a:pathLst>
          </a:custGeom>
          <a:solidFill>
            <a:srgbClr val="f0f6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任意多边形 71"/>
          <p:cNvSpPr/>
          <p:nvPr/>
        </p:nvSpPr>
        <p:spPr>
          <a:xfrm flipH="1" rot="9364200">
            <a:off x="8616960" y="5725440"/>
            <a:ext cx="3857760" cy="577800"/>
          </a:xfrm>
          <a:custGeom>
            <a:avLst/>
            <a:gdLst/>
            <a:ahLst/>
            <a:rect l="l" t="t" r="r" b="b"/>
            <a:pathLst>
              <a:path w="3857872" h="578054">
                <a:moveTo>
                  <a:pt x="3857872" y="578054"/>
                </a:moveTo>
                <a:lnTo>
                  <a:pt x="3672428" y="160309"/>
                </a:lnTo>
                <a:lnTo>
                  <a:pt x="3635124" y="152043"/>
                </a:lnTo>
                <a:cubicBezTo>
                  <a:pt x="3163198" y="55309"/>
                  <a:pt x="2591917" y="-13833"/>
                  <a:pt x="1971077" y="2356"/>
                </a:cubicBezTo>
                <a:cubicBezTo>
                  <a:pt x="1670063" y="10205"/>
                  <a:pt x="1357399" y="38114"/>
                  <a:pt x="1038761" y="92663"/>
                </a:cubicBezTo>
                <a:cubicBezTo>
                  <a:pt x="701004" y="148481"/>
                  <a:pt x="337756" y="229669"/>
                  <a:pt x="0" y="315932"/>
                </a:cubicBezTo>
                <a:cubicBezTo>
                  <a:pt x="1789602" y="-19567"/>
                  <a:pt x="3163695" y="329714"/>
                  <a:pt x="3808558" y="559676"/>
                </a:cubicBezTo>
                <a:lnTo>
                  <a:pt x="3857872" y="578054"/>
                </a:lnTo>
                <a:close/>
              </a:path>
            </a:pathLst>
          </a:custGeom>
          <a:solidFill>
            <a:srgbClr val="f37a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任意多边形 72"/>
          <p:cNvSpPr/>
          <p:nvPr/>
        </p:nvSpPr>
        <p:spPr>
          <a:xfrm flipH="1" rot="9364200">
            <a:off x="8353080" y="6003720"/>
            <a:ext cx="4060440" cy="704520"/>
          </a:xfrm>
          <a:custGeom>
            <a:avLst/>
            <a:gdLst/>
            <a:ahLst/>
            <a:rect l="l" t="t" r="r" b="b"/>
            <a:pathLst>
              <a:path w="4061006" h="704548">
                <a:moveTo>
                  <a:pt x="4061006" y="468777"/>
                </a:moveTo>
                <a:lnTo>
                  <a:pt x="3889182" y="81715"/>
                </a:lnTo>
                <a:lnTo>
                  <a:pt x="3816648" y="67185"/>
                </a:lnTo>
                <a:cubicBezTo>
                  <a:pt x="3757237" y="56688"/>
                  <a:pt x="3698190" y="47651"/>
                  <a:pt x="3639591" y="40041"/>
                </a:cubicBezTo>
                <a:cubicBezTo>
                  <a:pt x="3398021" y="7700"/>
                  <a:pt x="3161832" y="-3239"/>
                  <a:pt x="2933043" y="803"/>
                </a:cubicBezTo>
                <a:cubicBezTo>
                  <a:pt x="2551728" y="7541"/>
                  <a:pt x="2190968" y="55895"/>
                  <a:pt x="1860105" y="116140"/>
                </a:cubicBezTo>
                <a:cubicBezTo>
                  <a:pt x="1809078" y="126287"/>
                  <a:pt x="1758053" y="136433"/>
                  <a:pt x="1700652" y="151652"/>
                </a:cubicBezTo>
                <a:cubicBezTo>
                  <a:pt x="1423205" y="215067"/>
                  <a:pt x="1043708" y="326679"/>
                  <a:pt x="629133" y="457949"/>
                </a:cubicBezTo>
                <a:lnTo>
                  <a:pt x="353750" y="547512"/>
                </a:lnTo>
                <a:lnTo>
                  <a:pt x="0" y="704548"/>
                </a:lnTo>
                <a:lnTo>
                  <a:pt x="131941" y="673879"/>
                </a:lnTo>
                <a:cubicBezTo>
                  <a:pt x="217347" y="655489"/>
                  <a:pt x="302255" y="638683"/>
                  <a:pt x="386765" y="623464"/>
                </a:cubicBezTo>
                <a:cubicBezTo>
                  <a:pt x="724803" y="537219"/>
                  <a:pt x="1088355" y="456047"/>
                  <a:pt x="1426393" y="400241"/>
                </a:cubicBezTo>
                <a:cubicBezTo>
                  <a:pt x="2323312" y="246855"/>
                  <a:pt x="3172932" y="304152"/>
                  <a:pt x="3848879" y="425758"/>
                </a:cubicBezTo>
                <a:lnTo>
                  <a:pt x="4061006" y="468777"/>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矩形 7"/>
          <p:cNvSpPr/>
          <p:nvPr/>
        </p:nvSpPr>
        <p:spPr>
          <a:xfrm>
            <a:off x="3914640" y="1982880"/>
            <a:ext cx="7347240" cy="3214440"/>
          </a:xfrm>
          <a:prstGeom prst="rect">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矩形 8"/>
          <p:cNvSpPr/>
          <p:nvPr/>
        </p:nvSpPr>
        <p:spPr>
          <a:xfrm>
            <a:off x="4700520" y="2546280"/>
            <a:ext cx="588024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XXXX</a:t>
            </a:r>
            <a:r>
              <a:rPr b="0" lang="zh-CN" sz="1800" spc="-1" strike="noStrike">
                <a:solidFill>
                  <a:srgbClr val="ffffff"/>
                </a:solidFill>
                <a:latin typeface="Arial"/>
                <a:ea typeface="微软雅黑"/>
              </a:rPr>
              <a:t>是全球领先的综合通信解决方案提供商。公司通过为全球</a:t>
            </a:r>
            <a:r>
              <a:rPr b="0" lang="en-US" sz="1800" spc="-1" strike="noStrike">
                <a:solidFill>
                  <a:srgbClr val="ffffff"/>
                </a:solidFill>
                <a:latin typeface="Arial"/>
                <a:ea typeface="微软雅黑"/>
              </a:rPr>
              <a:t>160</a:t>
            </a:r>
            <a:r>
              <a:rPr b="0" lang="zh-CN" sz="1800" spc="-1" strike="noStrike">
                <a:solidFill>
                  <a:srgbClr val="ffffff"/>
                </a:solidFill>
                <a:latin typeface="Arial"/>
                <a:ea typeface="微软雅黑"/>
              </a:rPr>
              <a:t>多个国家和地区的电信运营商和企业网客户提供创新技术与产品解决方案，让全世界用户享有语音、数据、多媒体、无线宽带等全方位沟通。公司成立于</a:t>
            </a:r>
            <a:r>
              <a:rPr b="0" lang="en-US" sz="1800" spc="-1" strike="noStrike">
                <a:solidFill>
                  <a:srgbClr val="ffffff"/>
                </a:solidFill>
                <a:latin typeface="Arial"/>
                <a:ea typeface="微软雅黑"/>
              </a:rPr>
              <a:t>1985</a:t>
            </a:r>
            <a:r>
              <a:rPr b="0" lang="zh-CN" sz="1800" spc="-1" strike="noStrike">
                <a:solidFill>
                  <a:srgbClr val="ffffff"/>
                </a:solidFill>
                <a:latin typeface="Arial"/>
                <a:ea typeface="微软雅黑"/>
              </a:rPr>
              <a:t>年，在香港和深圳两地上市，是中国最大的通信设备上市公司。</a:t>
            </a:r>
            <a:endParaRPr b="0" lang="en-US" sz="1800" spc="-1" strike="noStrike">
              <a:solidFill>
                <a:srgbClr val="000000"/>
              </a:solidFill>
              <a:latin typeface="Arial"/>
            </a:endParaRPr>
          </a:p>
        </p:txBody>
      </p:sp>
      <p:sp>
        <p:nvSpPr>
          <p:cNvPr id="235" name="矩形 9"/>
          <p:cNvSpPr/>
          <p:nvPr/>
        </p:nvSpPr>
        <p:spPr>
          <a:xfrm>
            <a:off x="1282680" y="1982880"/>
            <a:ext cx="2519280" cy="32144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图片 1" descr=""/>
          <p:cNvPicPr/>
          <p:nvPr/>
        </p:nvPicPr>
        <p:blipFill>
          <a:blip r:embed="rId2"/>
          <a:srcRect l="22357" t="0" r="18578" b="0"/>
          <a:stretch/>
        </p:blipFill>
        <p:spPr>
          <a:xfrm>
            <a:off x="1285920" y="1982880"/>
            <a:ext cx="2516040" cy="3214440"/>
          </a:xfrm>
          <a:prstGeom prst="rect">
            <a:avLst/>
          </a:prstGeom>
          <a:ln w="0">
            <a:noFill/>
          </a:ln>
        </p:spPr>
      </p:pic>
      <p:sp>
        <p:nvSpPr>
          <p:cNvPr id="237" name="文本框 27"/>
          <p:cNvSpPr/>
          <p:nvPr/>
        </p:nvSpPr>
        <p:spPr>
          <a:xfrm>
            <a:off x="685800" y="295200"/>
            <a:ext cx="17794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公司简介</a:t>
            </a:r>
            <a:endParaRPr b="0" lang="en-US" sz="2500" spc="-1" strike="noStrike">
              <a:solidFill>
                <a:srgbClr val="000000"/>
              </a:solidFill>
              <a:latin typeface="Arial"/>
            </a:endParaRPr>
          </a:p>
        </p:txBody>
      </p:sp>
      <p:sp>
        <p:nvSpPr>
          <p:cNvPr id="238" name="椭圆 28"/>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ectangle 8"/>
          <p:cNvSpPr/>
          <p:nvPr/>
        </p:nvSpPr>
        <p:spPr>
          <a:xfrm>
            <a:off x="7920" y="1271520"/>
            <a:ext cx="2438280" cy="239724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11"/>
          <p:cNvSpPr/>
          <p:nvPr/>
        </p:nvSpPr>
        <p:spPr>
          <a:xfrm>
            <a:off x="7920" y="3668760"/>
            <a:ext cx="2438280" cy="2397240"/>
          </a:xfrm>
          <a:prstGeom prst="rect">
            <a:avLst/>
          </a:prstGeom>
          <a:solidFill>
            <a:srgbClr val="39278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5"/>
          <p:cNvSpPr/>
          <p:nvPr/>
        </p:nvSpPr>
        <p:spPr>
          <a:xfrm>
            <a:off x="4870440" y="1271520"/>
            <a:ext cx="2438280" cy="239724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16"/>
          <p:cNvSpPr/>
          <p:nvPr/>
        </p:nvSpPr>
        <p:spPr>
          <a:xfrm>
            <a:off x="4871880" y="3668760"/>
            <a:ext cx="2438640" cy="2397240"/>
          </a:xfrm>
          <a:prstGeom prst="rect">
            <a:avLst/>
          </a:prstGeom>
          <a:solidFill>
            <a:srgbClr val="39278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8"/>
          <p:cNvSpPr/>
          <p:nvPr/>
        </p:nvSpPr>
        <p:spPr>
          <a:xfrm>
            <a:off x="7308720" y="1271520"/>
            <a:ext cx="2438640" cy="2397240"/>
          </a:xfrm>
          <a:prstGeom prst="rect">
            <a:avLst/>
          </a:prstGeom>
          <a:solidFill>
            <a:srgbClr val="39278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9"/>
          <p:cNvSpPr/>
          <p:nvPr/>
        </p:nvSpPr>
        <p:spPr>
          <a:xfrm>
            <a:off x="7308720" y="3668760"/>
            <a:ext cx="2438640" cy="239724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21"/>
          <p:cNvSpPr/>
          <p:nvPr/>
        </p:nvSpPr>
        <p:spPr>
          <a:xfrm>
            <a:off x="9747360" y="1271520"/>
            <a:ext cx="2452680" cy="2397240"/>
          </a:xfrm>
          <a:prstGeom prst="rect">
            <a:avLst/>
          </a:prstGeom>
          <a:blipFill rotWithShape="0">
            <a:blip r:embed="rId4"/>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22"/>
          <p:cNvSpPr/>
          <p:nvPr/>
        </p:nvSpPr>
        <p:spPr>
          <a:xfrm>
            <a:off x="9747360" y="3668760"/>
            <a:ext cx="2452680" cy="2397240"/>
          </a:xfrm>
          <a:prstGeom prst="rect">
            <a:avLst/>
          </a:prstGeom>
          <a:solidFill>
            <a:srgbClr val="39278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24"/>
          <p:cNvSpPr/>
          <p:nvPr/>
        </p:nvSpPr>
        <p:spPr>
          <a:xfrm>
            <a:off x="2441520" y="1271520"/>
            <a:ext cx="2438280" cy="2397240"/>
          </a:xfrm>
          <a:prstGeom prst="rect">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25"/>
          <p:cNvSpPr/>
          <p:nvPr/>
        </p:nvSpPr>
        <p:spPr>
          <a:xfrm>
            <a:off x="2441520" y="3668760"/>
            <a:ext cx="2438280" cy="2397240"/>
          </a:xfrm>
          <a:prstGeom prst="rect">
            <a:avLst/>
          </a:prstGeom>
          <a:blipFill rotWithShape="0">
            <a:blip r:embed="rId5"/>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文本框 17"/>
          <p:cNvSpPr/>
          <p:nvPr/>
        </p:nvSpPr>
        <p:spPr>
          <a:xfrm>
            <a:off x="2781000" y="15192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微软雅黑"/>
              </a:rPr>
              <a:t>雷军</a:t>
            </a:r>
            <a:endParaRPr b="0" lang="en-US" sz="2400" spc="-1" strike="noStrike">
              <a:solidFill>
                <a:srgbClr val="000000"/>
              </a:solidFill>
              <a:latin typeface="Arial"/>
            </a:endParaRPr>
          </a:p>
        </p:txBody>
      </p:sp>
      <p:sp>
        <p:nvSpPr>
          <p:cNvPr id="250" name="文本框 18"/>
          <p:cNvSpPr/>
          <p:nvPr/>
        </p:nvSpPr>
        <p:spPr>
          <a:xfrm>
            <a:off x="7673760" y="16146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微软雅黑"/>
              </a:rPr>
              <a:t>彭佳</a:t>
            </a:r>
            <a:endParaRPr b="0" lang="en-US" sz="2400" spc="-1" strike="noStrike">
              <a:solidFill>
                <a:srgbClr val="000000"/>
              </a:solidFill>
              <a:latin typeface="Arial"/>
            </a:endParaRPr>
          </a:p>
        </p:txBody>
      </p:sp>
      <p:sp>
        <p:nvSpPr>
          <p:cNvPr id="251" name="文本框 19"/>
          <p:cNvSpPr/>
          <p:nvPr/>
        </p:nvSpPr>
        <p:spPr>
          <a:xfrm>
            <a:off x="345960" y="4086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微软雅黑"/>
              </a:rPr>
              <a:t>抓抓</a:t>
            </a:r>
            <a:endParaRPr b="0" lang="en-US" sz="2400" spc="-1" strike="noStrike">
              <a:solidFill>
                <a:srgbClr val="000000"/>
              </a:solidFill>
              <a:latin typeface="Arial"/>
            </a:endParaRPr>
          </a:p>
        </p:txBody>
      </p:sp>
      <p:sp>
        <p:nvSpPr>
          <p:cNvPr id="252" name="文本框 20"/>
          <p:cNvSpPr/>
          <p:nvPr/>
        </p:nvSpPr>
        <p:spPr>
          <a:xfrm>
            <a:off x="5209920" y="4086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微软雅黑"/>
              </a:rPr>
              <a:t>老板</a:t>
            </a:r>
            <a:endParaRPr b="0" lang="en-US" sz="2400" spc="-1" strike="noStrike">
              <a:solidFill>
                <a:srgbClr val="000000"/>
              </a:solidFill>
              <a:latin typeface="Arial"/>
            </a:endParaRPr>
          </a:p>
        </p:txBody>
      </p:sp>
      <p:sp>
        <p:nvSpPr>
          <p:cNvPr id="253" name="文本框 21"/>
          <p:cNvSpPr/>
          <p:nvPr/>
        </p:nvSpPr>
        <p:spPr>
          <a:xfrm>
            <a:off x="10107360" y="4086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微软雅黑"/>
              </a:rPr>
              <a:t>其他</a:t>
            </a:r>
            <a:endParaRPr b="0" lang="en-US" sz="2400" spc="-1" strike="noStrike">
              <a:solidFill>
                <a:srgbClr val="000000"/>
              </a:solidFill>
              <a:latin typeface="Arial"/>
            </a:endParaRPr>
          </a:p>
        </p:txBody>
      </p:sp>
      <p:sp>
        <p:nvSpPr>
          <p:cNvPr id="254" name="文本框 22"/>
          <p:cNvSpPr/>
          <p:nvPr/>
        </p:nvSpPr>
        <p:spPr>
          <a:xfrm>
            <a:off x="2823120" y="19350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设计总监</a:t>
            </a:r>
            <a:endParaRPr b="0" lang="en-US" sz="1600" spc="-1" strike="noStrike">
              <a:solidFill>
                <a:srgbClr val="000000"/>
              </a:solidFill>
              <a:latin typeface="Arial"/>
            </a:endParaRPr>
          </a:p>
        </p:txBody>
      </p:sp>
      <p:sp>
        <p:nvSpPr>
          <p:cNvPr id="255" name="文本框 23"/>
          <p:cNvSpPr/>
          <p:nvPr/>
        </p:nvSpPr>
        <p:spPr>
          <a:xfrm>
            <a:off x="2654280" y="2606760"/>
            <a:ext cx="19782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负责团队</a:t>
            </a:r>
            <a:r>
              <a:rPr b="0" lang="en-US" sz="1600" spc="-1" strike="noStrike">
                <a:solidFill>
                  <a:srgbClr val="ffffff"/>
                </a:solidFill>
                <a:latin typeface="Arial"/>
                <a:ea typeface="微软雅黑"/>
              </a:rPr>
              <a:t>XXXXXX</a:t>
            </a:r>
            <a:r>
              <a:rPr b="0" lang="zh-CN" sz="1600" spc="-1" strike="noStrike">
                <a:solidFill>
                  <a:srgbClr val="ffffff"/>
                </a:solidFill>
                <a:latin typeface="Arial"/>
                <a:ea typeface="微软雅黑"/>
              </a:rPr>
              <a:t>，负责团队</a:t>
            </a:r>
            <a:r>
              <a:rPr b="0" lang="en-US" sz="1600" spc="-1" strike="noStrike">
                <a:solidFill>
                  <a:srgbClr val="ffffff"/>
                </a:solidFill>
                <a:latin typeface="Arial"/>
                <a:ea typeface="微软雅黑"/>
              </a:rPr>
              <a:t>XXXXXX</a:t>
            </a:r>
            <a:r>
              <a:rPr b="0" lang="zh-CN" sz="1600" spc="-1" strike="noStrike">
                <a:solidFill>
                  <a:srgbClr val="ffffff"/>
                </a:solidFill>
                <a:latin typeface="Arial"/>
                <a:ea typeface="微软雅黑"/>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6" name="文本框 24"/>
          <p:cNvSpPr/>
          <p:nvPr/>
        </p:nvSpPr>
        <p:spPr>
          <a:xfrm>
            <a:off x="7715160" y="20318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设计总监</a:t>
            </a:r>
            <a:endParaRPr b="0" lang="en-US" sz="1600" spc="-1" strike="noStrike">
              <a:solidFill>
                <a:srgbClr val="000000"/>
              </a:solidFill>
              <a:latin typeface="Arial"/>
            </a:endParaRPr>
          </a:p>
        </p:txBody>
      </p:sp>
      <p:sp>
        <p:nvSpPr>
          <p:cNvPr id="257" name="文本框 25"/>
          <p:cNvSpPr/>
          <p:nvPr/>
        </p:nvSpPr>
        <p:spPr>
          <a:xfrm>
            <a:off x="7545240" y="2606760"/>
            <a:ext cx="19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负责团队</a:t>
            </a:r>
            <a:r>
              <a:rPr b="0" lang="en-US" sz="1600" spc="-1" strike="noStrike">
                <a:solidFill>
                  <a:srgbClr val="ffffff"/>
                </a:solidFill>
                <a:latin typeface="Arial"/>
                <a:ea typeface="微软雅黑"/>
              </a:rPr>
              <a:t>XXXXXX</a:t>
            </a:r>
            <a:r>
              <a:rPr b="0" lang="zh-CN" sz="1600" spc="-1" strike="noStrike">
                <a:solidFill>
                  <a:srgbClr val="ffffff"/>
                </a:solidFill>
                <a:latin typeface="Arial"/>
                <a:ea typeface="微软雅黑"/>
              </a:rPr>
              <a:t>，负责团队</a:t>
            </a:r>
            <a:r>
              <a:rPr b="0" lang="en-US" sz="1600" spc="-1" strike="noStrike">
                <a:solidFill>
                  <a:srgbClr val="ffffff"/>
                </a:solidFill>
                <a:latin typeface="Arial"/>
                <a:ea typeface="微软雅黑"/>
              </a:rPr>
              <a:t>XXXXXX</a:t>
            </a:r>
            <a:r>
              <a:rPr b="0" lang="zh-CN" sz="1600" spc="-1" strike="noStrike">
                <a:solidFill>
                  <a:srgbClr val="ffffff"/>
                </a:solidFill>
                <a:latin typeface="Arial"/>
                <a:ea typeface="微软雅黑"/>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8" name="文本框 26"/>
          <p:cNvSpPr/>
          <p:nvPr/>
        </p:nvSpPr>
        <p:spPr>
          <a:xfrm>
            <a:off x="376200" y="45450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设计总监</a:t>
            </a:r>
            <a:endParaRPr b="0" lang="en-US" sz="1600" spc="-1" strike="noStrike">
              <a:solidFill>
                <a:srgbClr val="000000"/>
              </a:solidFill>
              <a:latin typeface="Arial"/>
            </a:endParaRPr>
          </a:p>
        </p:txBody>
      </p:sp>
      <p:sp>
        <p:nvSpPr>
          <p:cNvPr id="259" name="文本框 27"/>
          <p:cNvSpPr/>
          <p:nvPr/>
        </p:nvSpPr>
        <p:spPr>
          <a:xfrm>
            <a:off x="206280" y="5006880"/>
            <a:ext cx="19782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负责团队</a:t>
            </a:r>
            <a:r>
              <a:rPr b="0" lang="en-US" sz="1600" spc="-1" strike="noStrike">
                <a:solidFill>
                  <a:srgbClr val="ffffff"/>
                </a:solidFill>
                <a:latin typeface="Arial"/>
                <a:ea typeface="微软雅黑"/>
              </a:rPr>
              <a:t>XXXXXX</a:t>
            </a:r>
            <a:r>
              <a:rPr b="0" lang="zh-CN" sz="1600" spc="-1" strike="noStrike">
                <a:solidFill>
                  <a:srgbClr val="ffffff"/>
                </a:solidFill>
                <a:latin typeface="Arial"/>
                <a:ea typeface="微软雅黑"/>
              </a:rPr>
              <a:t>，负责团队</a:t>
            </a:r>
            <a:r>
              <a:rPr b="0" lang="en-US" sz="1600" spc="-1" strike="noStrike">
                <a:solidFill>
                  <a:srgbClr val="ffffff"/>
                </a:solidFill>
                <a:latin typeface="Arial"/>
                <a:ea typeface="微软雅黑"/>
              </a:rPr>
              <a:t>XXXXXX</a:t>
            </a:r>
            <a:r>
              <a:rPr b="0" lang="zh-CN" sz="1600" spc="-1" strike="noStrike">
                <a:solidFill>
                  <a:srgbClr val="ffffff"/>
                </a:solidFill>
                <a:latin typeface="Arial"/>
                <a:ea typeface="微软雅黑"/>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0" name="文本框 28"/>
          <p:cNvSpPr/>
          <p:nvPr/>
        </p:nvSpPr>
        <p:spPr>
          <a:xfrm>
            <a:off x="5083200" y="5006880"/>
            <a:ext cx="19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负责团队</a:t>
            </a:r>
            <a:r>
              <a:rPr b="0" lang="en-US" sz="1600" spc="-1" strike="noStrike">
                <a:solidFill>
                  <a:srgbClr val="ffffff"/>
                </a:solidFill>
                <a:latin typeface="Arial"/>
                <a:ea typeface="微软雅黑"/>
              </a:rPr>
              <a:t>XXXXXX</a:t>
            </a:r>
            <a:r>
              <a:rPr b="0" lang="zh-CN" sz="1600" spc="-1" strike="noStrike">
                <a:solidFill>
                  <a:srgbClr val="ffffff"/>
                </a:solidFill>
                <a:latin typeface="Arial"/>
                <a:ea typeface="微软雅黑"/>
              </a:rPr>
              <a:t>，负责团队</a:t>
            </a:r>
            <a:r>
              <a:rPr b="0" lang="en-US" sz="1600" spc="-1" strike="noStrike">
                <a:solidFill>
                  <a:srgbClr val="ffffff"/>
                </a:solidFill>
                <a:latin typeface="Arial"/>
                <a:ea typeface="微软雅黑"/>
              </a:rPr>
              <a:t>XXXXXX</a:t>
            </a:r>
            <a:r>
              <a:rPr b="0" lang="zh-CN" sz="1600" spc="-1" strike="noStrike">
                <a:solidFill>
                  <a:srgbClr val="ffffff"/>
                </a:solidFill>
                <a:latin typeface="Arial"/>
                <a:ea typeface="微软雅黑"/>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1" name="文本框 29"/>
          <p:cNvSpPr/>
          <p:nvPr/>
        </p:nvSpPr>
        <p:spPr>
          <a:xfrm>
            <a:off x="5252040" y="45450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设计总监</a:t>
            </a:r>
            <a:endParaRPr b="0" lang="en-US" sz="1600" spc="-1" strike="noStrike">
              <a:solidFill>
                <a:srgbClr val="000000"/>
              </a:solidFill>
              <a:latin typeface="Arial"/>
            </a:endParaRPr>
          </a:p>
        </p:txBody>
      </p:sp>
      <p:sp>
        <p:nvSpPr>
          <p:cNvPr id="262" name="文本框 30"/>
          <p:cNvSpPr/>
          <p:nvPr/>
        </p:nvSpPr>
        <p:spPr>
          <a:xfrm>
            <a:off x="10148760" y="45450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设计总监</a:t>
            </a:r>
            <a:endParaRPr b="0" lang="en-US" sz="1600" spc="-1" strike="noStrike">
              <a:solidFill>
                <a:srgbClr val="000000"/>
              </a:solidFill>
              <a:latin typeface="Arial"/>
            </a:endParaRPr>
          </a:p>
        </p:txBody>
      </p:sp>
      <p:sp>
        <p:nvSpPr>
          <p:cNvPr id="263" name="文本框 31"/>
          <p:cNvSpPr/>
          <p:nvPr/>
        </p:nvSpPr>
        <p:spPr>
          <a:xfrm>
            <a:off x="9996480" y="5006880"/>
            <a:ext cx="19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负责团队</a:t>
            </a:r>
            <a:r>
              <a:rPr b="0" lang="en-US" sz="1600" spc="-1" strike="noStrike">
                <a:solidFill>
                  <a:srgbClr val="ffffff"/>
                </a:solidFill>
                <a:latin typeface="Arial"/>
                <a:ea typeface="微软雅黑"/>
              </a:rPr>
              <a:t>XXXXXX</a:t>
            </a:r>
            <a:r>
              <a:rPr b="0" lang="zh-CN" sz="1600" spc="-1" strike="noStrike">
                <a:solidFill>
                  <a:srgbClr val="ffffff"/>
                </a:solidFill>
                <a:latin typeface="Arial"/>
                <a:ea typeface="微软雅黑"/>
              </a:rPr>
              <a:t>，负责团队</a:t>
            </a:r>
            <a:r>
              <a:rPr b="0" lang="en-US" sz="1600" spc="-1" strike="noStrike">
                <a:solidFill>
                  <a:srgbClr val="ffffff"/>
                </a:solidFill>
                <a:latin typeface="Arial"/>
                <a:ea typeface="微软雅黑"/>
              </a:rPr>
              <a:t>XXXXXX</a:t>
            </a:r>
            <a:r>
              <a:rPr b="0" lang="zh-CN" sz="1600" spc="-1" strike="noStrike">
                <a:solidFill>
                  <a:srgbClr val="ffffff"/>
                </a:solidFill>
                <a:latin typeface="Arial"/>
                <a:ea typeface="微软雅黑"/>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4" name="文本框 34"/>
          <p:cNvSpPr/>
          <p:nvPr/>
        </p:nvSpPr>
        <p:spPr>
          <a:xfrm>
            <a:off x="711360" y="295200"/>
            <a:ext cx="17794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核心团队</a:t>
            </a:r>
            <a:endParaRPr b="0" lang="en-US" sz="2500" spc="-1" strike="noStrike">
              <a:solidFill>
                <a:srgbClr val="000000"/>
              </a:solidFill>
              <a:latin typeface="Arial"/>
            </a:endParaRPr>
          </a:p>
        </p:txBody>
      </p:sp>
      <p:sp>
        <p:nvSpPr>
          <p:cNvPr id="265" name="椭圆 36"/>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266" name="Straight Arrow Connector 19"/>
          <p:cNvCxnSpPr/>
          <p:nvPr/>
        </p:nvCxnSpPr>
        <p:spPr>
          <a:xfrm>
            <a:off x="6095520" y="1901520"/>
            <a:ext cx="1080" cy="600840"/>
          </a:xfrm>
          <a:prstGeom prst="straightConnector1">
            <a:avLst/>
          </a:prstGeom>
          <a:ln w="6480">
            <a:solidFill>
              <a:srgbClr val="1d087d"/>
            </a:solidFill>
            <a:miter/>
            <a:tailEnd len="med" type="triangle" w="med"/>
          </a:ln>
        </p:spPr>
      </p:cxnSp>
      <p:cxnSp>
        <p:nvCxnSpPr>
          <p:cNvPr id="267" name="Straight Arrow Connector 24"/>
          <p:cNvCxnSpPr/>
          <p:nvPr/>
        </p:nvCxnSpPr>
        <p:spPr>
          <a:xfrm>
            <a:off x="10048680" y="3793680"/>
            <a:ext cx="1080" cy="653400"/>
          </a:xfrm>
          <a:prstGeom prst="straightConnector1">
            <a:avLst/>
          </a:prstGeom>
          <a:ln w="6480">
            <a:solidFill>
              <a:srgbClr val="1d087d"/>
            </a:solidFill>
            <a:miter/>
            <a:tailEnd len="med" type="triangle" w="med"/>
          </a:ln>
        </p:spPr>
      </p:cxnSp>
      <p:sp>
        <p:nvSpPr>
          <p:cNvPr id="268" name="Rounded Rectangle 5"/>
          <p:cNvSpPr/>
          <p:nvPr/>
        </p:nvSpPr>
        <p:spPr>
          <a:xfrm rot="18904800">
            <a:off x="5503680" y="555120"/>
            <a:ext cx="1184040" cy="1184400"/>
          </a:xfrm>
          <a:custGeom>
            <a:avLst/>
            <a:gdLst>
              <a:gd name="textAreaLeft" fmla="*/ 57600 w 1184040"/>
              <a:gd name="textAreaRight" fmla="*/ 1126440 w 1184040"/>
              <a:gd name="textAreaTop" fmla="*/ 57600 h 1184400"/>
              <a:gd name="textAreaBottom" fmla="*/ 1126800 h 1184400"/>
            </a:gdLst>
            <a:ahLst/>
            <a:rect l="textAreaLeft" t="textAreaTop" r="textAreaRight" b="textAreaBottom"/>
            <a:pathLst>
              <a:path w="21600" h="21607">
                <a:moveTo>
                  <a:pt x="3600" y="0"/>
                </a:moveTo>
                <a:arcTo wR="3600" hR="3600" stAng="16200000" swAng="-5400000"/>
                <a:lnTo>
                  <a:pt x="0" y="18007"/>
                </a:lnTo>
                <a:arcTo wR="3600" hR="3600" stAng="10800000" swAng="-5400000"/>
                <a:lnTo>
                  <a:pt x="18000" y="21607"/>
                </a:lnTo>
                <a:arcTo wR="3600" hR="3600" stAng="5400000" swAng="-5400000"/>
                <a:lnTo>
                  <a:pt x="21600" y="3600"/>
                </a:lnTo>
                <a:arcTo wR="3600" hR="3600" stAng="0" swAng="-5400000"/>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ounded Rectangle 6"/>
          <p:cNvSpPr/>
          <p:nvPr/>
        </p:nvSpPr>
        <p:spPr>
          <a:xfrm rot="18904800">
            <a:off x="1662120" y="2646000"/>
            <a:ext cx="1006560" cy="1006560"/>
          </a:xfrm>
          <a:prstGeom prst="roundRect">
            <a:avLst>
              <a:gd name="adj" fmla="val 16667"/>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ounded Rectangle 7"/>
          <p:cNvSpPr/>
          <p:nvPr/>
        </p:nvSpPr>
        <p:spPr>
          <a:xfrm rot="18904800">
            <a:off x="5592600" y="2646000"/>
            <a:ext cx="1006560" cy="1006560"/>
          </a:xfrm>
          <a:prstGeom prst="roundRect">
            <a:avLst>
              <a:gd name="adj" fmla="val 16667"/>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ounded Rectangle 8"/>
          <p:cNvSpPr/>
          <p:nvPr/>
        </p:nvSpPr>
        <p:spPr>
          <a:xfrm rot="18904800">
            <a:off x="9545760" y="2657520"/>
            <a:ext cx="1006200" cy="1006560"/>
          </a:xfrm>
          <a:custGeom>
            <a:avLst/>
            <a:gdLst>
              <a:gd name="textAreaLeft" fmla="*/ 48960 w 1006200"/>
              <a:gd name="textAreaRight" fmla="*/ 957240 w 1006200"/>
              <a:gd name="textAreaTop" fmla="*/ 48960 h 1006560"/>
              <a:gd name="textAreaBottom" fmla="*/ 957600 h 1006560"/>
            </a:gdLst>
            <a:ahLst/>
            <a:rect l="textAreaLeft" t="textAreaTop" r="textAreaRight" b="textAreaBottom"/>
            <a:pathLst>
              <a:path w="21600" h="21608">
                <a:moveTo>
                  <a:pt x="3600" y="0"/>
                </a:moveTo>
                <a:arcTo wR="3600" hR="3600" stAng="16200000" swAng="-5400000"/>
                <a:lnTo>
                  <a:pt x="0" y="18008"/>
                </a:lnTo>
                <a:arcTo wR="3600" hR="3600" stAng="10800000" swAng="-5400000"/>
                <a:lnTo>
                  <a:pt x="18000" y="21608"/>
                </a:lnTo>
                <a:arcTo wR="3600" hR="3600" stAng="5400000" swAng="-5400000"/>
                <a:lnTo>
                  <a:pt x="21600" y="3600"/>
                </a:lnTo>
                <a:arcTo wR="3600" hR="3600" stAng="0" swAng="-5400000"/>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ounded Rectangle 9"/>
          <p:cNvSpPr/>
          <p:nvPr/>
        </p:nvSpPr>
        <p:spPr>
          <a:xfrm rot="18904800">
            <a:off x="8375760" y="4565520"/>
            <a:ext cx="796680" cy="795600"/>
          </a:xfrm>
          <a:prstGeom prst="roundRect">
            <a:avLst>
              <a:gd name="adj" fmla="val 16667"/>
            </a:avLst>
          </a:prstGeom>
          <a:blipFill rotWithShape="0">
            <a:blip r:embed="rId5"/>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ounded Rectangle 10"/>
          <p:cNvSpPr/>
          <p:nvPr/>
        </p:nvSpPr>
        <p:spPr>
          <a:xfrm rot="18904800">
            <a:off x="9650520" y="4565520"/>
            <a:ext cx="796680" cy="795600"/>
          </a:xfrm>
          <a:prstGeom prst="roundRect">
            <a:avLst>
              <a:gd name="adj" fmla="val 16667"/>
            </a:avLst>
          </a:prstGeom>
          <a:blipFill rotWithShape="0">
            <a:blip r:embed="rId6"/>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ounded Rectangle 11"/>
          <p:cNvSpPr/>
          <p:nvPr/>
        </p:nvSpPr>
        <p:spPr>
          <a:xfrm rot="18904800">
            <a:off x="10924920" y="4565160"/>
            <a:ext cx="795240" cy="795600"/>
          </a:xfrm>
          <a:custGeom>
            <a:avLst/>
            <a:gdLst>
              <a:gd name="textAreaLeft" fmla="*/ 38520 w 795240"/>
              <a:gd name="textAreaRight" fmla="*/ 756720 w 795240"/>
              <a:gd name="textAreaTop" fmla="*/ 38520 h 795600"/>
              <a:gd name="textAreaBottom" fmla="*/ 757080 h 795600"/>
            </a:gdLst>
            <a:ahLst/>
            <a:rect l="textAreaLeft" t="textAreaTop" r="textAreaRight" b="textAreaBottom"/>
            <a:pathLst>
              <a:path w="21600" h="21610">
                <a:moveTo>
                  <a:pt x="3600" y="0"/>
                </a:moveTo>
                <a:arcTo wR="3600" hR="3600" stAng="16200000" swAng="-5400000"/>
                <a:lnTo>
                  <a:pt x="0" y="18010"/>
                </a:lnTo>
                <a:arcTo wR="3600" hR="3600" stAng="10800000" swAng="-5400000"/>
                <a:lnTo>
                  <a:pt x="18000" y="21610"/>
                </a:lnTo>
                <a:arcTo wR="3600" hR="3600" stAng="5400000" swAng="-5400000"/>
                <a:lnTo>
                  <a:pt x="21600" y="3600"/>
                </a:lnTo>
                <a:arcTo wR="3600" hR="3600" stAng="0" swAng="-5400000"/>
                <a:close/>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ounded Rectangle 12"/>
          <p:cNvSpPr/>
          <p:nvPr/>
        </p:nvSpPr>
        <p:spPr>
          <a:xfrm rot="18904800">
            <a:off x="4424040" y="4565160"/>
            <a:ext cx="795240" cy="795600"/>
          </a:xfrm>
          <a:custGeom>
            <a:avLst/>
            <a:gdLst>
              <a:gd name="textAreaLeft" fmla="*/ 38520 w 795240"/>
              <a:gd name="textAreaRight" fmla="*/ 756720 w 795240"/>
              <a:gd name="textAreaTop" fmla="*/ 38520 h 795600"/>
              <a:gd name="textAreaBottom" fmla="*/ 757080 h 795600"/>
            </a:gdLst>
            <a:ahLst/>
            <a:rect l="textAreaLeft" t="textAreaTop" r="textAreaRight" b="textAreaBottom"/>
            <a:pathLst>
              <a:path w="21600" h="21610">
                <a:moveTo>
                  <a:pt x="3600" y="0"/>
                </a:moveTo>
                <a:arcTo wR="3600" hR="3600" stAng="16200000" swAng="-5400000"/>
                <a:lnTo>
                  <a:pt x="0" y="18010"/>
                </a:lnTo>
                <a:arcTo wR="3600" hR="3600" stAng="10800000" swAng="-5400000"/>
                <a:lnTo>
                  <a:pt x="18000" y="21610"/>
                </a:lnTo>
                <a:arcTo wR="3600" hR="3600" stAng="5400000" swAng="-5400000"/>
                <a:lnTo>
                  <a:pt x="21600" y="3600"/>
                </a:lnTo>
                <a:arcTo wR="3600" hR="3600" stAng="0" swAng="-5400000"/>
                <a:close/>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ounded Rectangle 13"/>
          <p:cNvSpPr/>
          <p:nvPr/>
        </p:nvSpPr>
        <p:spPr>
          <a:xfrm rot="18904800">
            <a:off x="5697360" y="4565160"/>
            <a:ext cx="797040" cy="795600"/>
          </a:xfrm>
          <a:prstGeom prst="roundRect">
            <a:avLst>
              <a:gd name="adj" fmla="val 16667"/>
            </a:avLst>
          </a:prstGeom>
          <a:blipFill rotWithShape="0">
            <a:blip r:embed="rId9"/>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ounded Rectangle 14"/>
          <p:cNvSpPr/>
          <p:nvPr/>
        </p:nvSpPr>
        <p:spPr>
          <a:xfrm rot="18904800">
            <a:off x="6972120" y="4565160"/>
            <a:ext cx="795240" cy="795600"/>
          </a:xfrm>
          <a:custGeom>
            <a:avLst/>
            <a:gdLst>
              <a:gd name="textAreaLeft" fmla="*/ 38520 w 795240"/>
              <a:gd name="textAreaRight" fmla="*/ 756720 w 795240"/>
              <a:gd name="textAreaTop" fmla="*/ 38520 h 795600"/>
              <a:gd name="textAreaBottom" fmla="*/ 757080 h 795600"/>
            </a:gdLst>
            <a:ahLst/>
            <a:rect l="textAreaLeft" t="textAreaTop" r="textAreaRight" b="textAreaBottom"/>
            <a:pathLst>
              <a:path w="21600" h="21610">
                <a:moveTo>
                  <a:pt x="3600" y="0"/>
                </a:moveTo>
                <a:arcTo wR="3600" hR="3600" stAng="16200000" swAng="-5400000"/>
                <a:lnTo>
                  <a:pt x="0" y="18010"/>
                </a:lnTo>
                <a:arcTo wR="3600" hR="3600" stAng="10800000" swAng="-5400000"/>
                <a:lnTo>
                  <a:pt x="18000" y="21610"/>
                </a:lnTo>
                <a:arcTo wR="3600" hR="3600" stAng="5400000" swAng="-5400000"/>
                <a:lnTo>
                  <a:pt x="21600" y="3600"/>
                </a:lnTo>
                <a:arcTo wR="3600" hR="3600" stAng="0" swAng="-5400000"/>
                <a:close/>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ounded Rectangle 15"/>
          <p:cNvSpPr/>
          <p:nvPr/>
        </p:nvSpPr>
        <p:spPr>
          <a:xfrm rot="18904800">
            <a:off x="492120" y="4565160"/>
            <a:ext cx="797040" cy="795600"/>
          </a:xfrm>
          <a:prstGeom prst="roundRect">
            <a:avLst>
              <a:gd name="adj" fmla="val 16667"/>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ounded Rectangle 16"/>
          <p:cNvSpPr/>
          <p:nvPr/>
        </p:nvSpPr>
        <p:spPr>
          <a:xfrm rot="18904800">
            <a:off x="1766520" y="4565160"/>
            <a:ext cx="795240" cy="795600"/>
          </a:xfrm>
          <a:custGeom>
            <a:avLst/>
            <a:gdLst>
              <a:gd name="textAreaLeft" fmla="*/ 38520 w 795240"/>
              <a:gd name="textAreaRight" fmla="*/ 756720 w 795240"/>
              <a:gd name="textAreaTop" fmla="*/ 38520 h 795600"/>
              <a:gd name="textAreaBottom" fmla="*/ 757080 h 795600"/>
            </a:gdLst>
            <a:ahLst/>
            <a:rect l="textAreaLeft" t="textAreaTop" r="textAreaRight" b="textAreaBottom"/>
            <a:pathLst>
              <a:path w="21600" h="21610">
                <a:moveTo>
                  <a:pt x="3600" y="0"/>
                </a:moveTo>
                <a:arcTo wR="3600" hR="3600" stAng="16200000" swAng="-5400000"/>
                <a:lnTo>
                  <a:pt x="0" y="18010"/>
                </a:lnTo>
                <a:arcTo wR="3600" hR="3600" stAng="10800000" swAng="-5400000"/>
                <a:lnTo>
                  <a:pt x="18000" y="21610"/>
                </a:lnTo>
                <a:arcTo wR="3600" hR="3600" stAng="5400000" swAng="-5400000"/>
                <a:lnTo>
                  <a:pt x="21600" y="3600"/>
                </a:lnTo>
                <a:arcTo wR="3600" hR="3600" stAng="0" swAng="-5400000"/>
                <a:close/>
              </a:path>
            </a:pathLst>
          </a:custGeom>
          <a:blipFill rotWithShape="0">
            <a:blip r:embed="rId12"/>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ounded Rectangle 17"/>
          <p:cNvSpPr/>
          <p:nvPr/>
        </p:nvSpPr>
        <p:spPr>
          <a:xfrm rot="18904800">
            <a:off x="3041280" y="4565160"/>
            <a:ext cx="795240" cy="795600"/>
          </a:xfrm>
          <a:custGeom>
            <a:avLst/>
            <a:gdLst>
              <a:gd name="textAreaLeft" fmla="*/ 38520 w 795240"/>
              <a:gd name="textAreaRight" fmla="*/ 756720 w 795240"/>
              <a:gd name="textAreaTop" fmla="*/ 38520 h 795600"/>
              <a:gd name="textAreaBottom" fmla="*/ 757080 h 795600"/>
            </a:gdLst>
            <a:ahLst/>
            <a:rect l="textAreaLeft" t="textAreaTop" r="textAreaRight" b="textAreaBottom"/>
            <a:pathLst>
              <a:path w="21600" h="21610">
                <a:moveTo>
                  <a:pt x="3600" y="0"/>
                </a:moveTo>
                <a:arcTo wR="3600" hR="3600" stAng="16200000" swAng="-5400000"/>
                <a:lnTo>
                  <a:pt x="0" y="18010"/>
                </a:lnTo>
                <a:arcTo wR="3600" hR="3600" stAng="10800000" swAng="-5400000"/>
                <a:lnTo>
                  <a:pt x="18000" y="21610"/>
                </a:lnTo>
                <a:arcTo wR="3600" hR="3600" stAng="5400000" swAng="-5400000"/>
                <a:lnTo>
                  <a:pt x="21600" y="3600"/>
                </a:lnTo>
                <a:arcTo wR="3600" hR="3600" stAng="0" swAng="-5400000"/>
                <a:close/>
              </a:path>
            </a:pathLst>
          </a:custGeom>
          <a:blipFill rotWithShape="0">
            <a:blip r:embed="rId13"/>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1" name="Straight Arrow Connector 22"/>
          <p:cNvCxnSpPr/>
          <p:nvPr/>
        </p:nvCxnSpPr>
        <p:spPr>
          <a:xfrm>
            <a:off x="6095520" y="3793680"/>
            <a:ext cx="1080" cy="653400"/>
          </a:xfrm>
          <a:prstGeom prst="straightConnector1">
            <a:avLst/>
          </a:prstGeom>
          <a:ln w="6480">
            <a:solidFill>
              <a:srgbClr val="1d087d"/>
            </a:solidFill>
            <a:miter/>
            <a:tailEnd len="med" type="triangle" w="med"/>
          </a:ln>
        </p:spPr>
      </p:cxnSp>
      <p:cxnSp>
        <p:nvCxnSpPr>
          <p:cNvPr id="282" name="Straight Arrow Connector 26"/>
          <p:cNvCxnSpPr/>
          <p:nvPr/>
        </p:nvCxnSpPr>
        <p:spPr>
          <a:xfrm>
            <a:off x="2158560" y="3793680"/>
            <a:ext cx="1080" cy="653400"/>
          </a:xfrm>
          <a:prstGeom prst="straightConnector1">
            <a:avLst/>
          </a:prstGeom>
          <a:ln w="6480">
            <a:solidFill>
              <a:srgbClr val="1d087d"/>
            </a:solidFill>
            <a:miter/>
            <a:tailEnd len="med" type="triangle" w="med"/>
          </a:ln>
        </p:spPr>
      </p:cxnSp>
      <p:cxnSp>
        <p:nvCxnSpPr>
          <p:cNvPr id="283" name="Straight Arrow Connector 27"/>
          <p:cNvCxnSpPr/>
          <p:nvPr/>
        </p:nvCxnSpPr>
        <p:spPr>
          <a:xfrm>
            <a:off x="3438000" y="4026960"/>
            <a:ext cx="1080" cy="420120"/>
          </a:xfrm>
          <a:prstGeom prst="straightConnector1">
            <a:avLst/>
          </a:prstGeom>
          <a:ln w="6480">
            <a:solidFill>
              <a:srgbClr val="1d087d"/>
            </a:solidFill>
            <a:miter/>
            <a:tailEnd len="med" type="triangle" w="med"/>
          </a:ln>
        </p:spPr>
      </p:cxnSp>
      <p:cxnSp>
        <p:nvCxnSpPr>
          <p:cNvPr id="284" name="Straight Arrow Connector 29"/>
          <p:cNvCxnSpPr/>
          <p:nvPr/>
        </p:nvCxnSpPr>
        <p:spPr>
          <a:xfrm>
            <a:off x="890280" y="4026960"/>
            <a:ext cx="1080" cy="420120"/>
          </a:xfrm>
          <a:prstGeom prst="straightConnector1">
            <a:avLst/>
          </a:prstGeom>
          <a:ln w="6480">
            <a:solidFill>
              <a:srgbClr val="1d087d"/>
            </a:solidFill>
            <a:miter/>
            <a:tailEnd len="med" type="triangle" w="med"/>
          </a:ln>
        </p:spPr>
      </p:cxnSp>
      <p:cxnSp>
        <p:nvCxnSpPr>
          <p:cNvPr id="285" name="Straight Arrow Connector 30"/>
          <p:cNvCxnSpPr/>
          <p:nvPr/>
        </p:nvCxnSpPr>
        <p:spPr>
          <a:xfrm>
            <a:off x="4820760" y="4026960"/>
            <a:ext cx="1080" cy="420120"/>
          </a:xfrm>
          <a:prstGeom prst="straightConnector1">
            <a:avLst/>
          </a:prstGeom>
          <a:ln w="6480">
            <a:solidFill>
              <a:srgbClr val="1d087d"/>
            </a:solidFill>
            <a:miter/>
            <a:tailEnd len="med" type="triangle" w="med"/>
          </a:ln>
        </p:spPr>
      </p:cxnSp>
      <p:cxnSp>
        <p:nvCxnSpPr>
          <p:cNvPr id="286" name="Straight Arrow Connector 31"/>
          <p:cNvCxnSpPr/>
          <p:nvPr/>
        </p:nvCxnSpPr>
        <p:spPr>
          <a:xfrm>
            <a:off x="7370280" y="4026960"/>
            <a:ext cx="1080" cy="420120"/>
          </a:xfrm>
          <a:prstGeom prst="straightConnector1">
            <a:avLst/>
          </a:prstGeom>
          <a:ln w="6480">
            <a:solidFill>
              <a:srgbClr val="1d087d"/>
            </a:solidFill>
            <a:miter/>
            <a:tailEnd len="med" type="triangle" w="med"/>
          </a:ln>
        </p:spPr>
      </p:cxnSp>
      <p:cxnSp>
        <p:nvCxnSpPr>
          <p:cNvPr id="287" name="Straight Arrow Connector 32"/>
          <p:cNvCxnSpPr/>
          <p:nvPr/>
        </p:nvCxnSpPr>
        <p:spPr>
          <a:xfrm>
            <a:off x="8773920" y="4026960"/>
            <a:ext cx="1080" cy="420120"/>
          </a:xfrm>
          <a:prstGeom prst="straightConnector1">
            <a:avLst/>
          </a:prstGeom>
          <a:ln w="6480">
            <a:solidFill>
              <a:srgbClr val="1d087d"/>
            </a:solidFill>
            <a:miter/>
            <a:tailEnd len="med" type="triangle" w="med"/>
          </a:ln>
        </p:spPr>
      </p:cxnSp>
      <p:cxnSp>
        <p:nvCxnSpPr>
          <p:cNvPr id="288" name="Straight Arrow Connector 33"/>
          <p:cNvCxnSpPr/>
          <p:nvPr/>
        </p:nvCxnSpPr>
        <p:spPr>
          <a:xfrm>
            <a:off x="11321640" y="4026960"/>
            <a:ext cx="1080" cy="420120"/>
          </a:xfrm>
          <a:prstGeom prst="straightConnector1">
            <a:avLst/>
          </a:prstGeom>
          <a:ln w="6480">
            <a:solidFill>
              <a:srgbClr val="1d087d"/>
            </a:solidFill>
            <a:miter/>
            <a:tailEnd len="med" type="triangle" w="med"/>
          </a:ln>
        </p:spPr>
      </p:cxnSp>
      <p:cxnSp>
        <p:nvCxnSpPr>
          <p:cNvPr id="289" name="Straight Arrow Connector 34"/>
          <p:cNvCxnSpPr/>
          <p:nvPr/>
        </p:nvCxnSpPr>
        <p:spPr>
          <a:xfrm>
            <a:off x="10048680" y="2201760"/>
            <a:ext cx="1080" cy="317880"/>
          </a:xfrm>
          <a:prstGeom prst="straightConnector1">
            <a:avLst/>
          </a:prstGeom>
          <a:ln w="6480">
            <a:solidFill>
              <a:srgbClr val="1d087d"/>
            </a:solidFill>
            <a:miter/>
            <a:tailEnd len="med" type="triangle" w="med"/>
          </a:ln>
        </p:spPr>
      </p:cxnSp>
      <p:cxnSp>
        <p:nvCxnSpPr>
          <p:cNvPr id="290" name="Straight Arrow Connector 36"/>
          <p:cNvCxnSpPr/>
          <p:nvPr/>
        </p:nvCxnSpPr>
        <p:spPr>
          <a:xfrm>
            <a:off x="2158560" y="2201760"/>
            <a:ext cx="1080" cy="300600"/>
          </a:xfrm>
          <a:prstGeom prst="straightConnector1">
            <a:avLst/>
          </a:prstGeom>
          <a:ln w="6480">
            <a:solidFill>
              <a:srgbClr val="1d087d"/>
            </a:solidFill>
            <a:miter/>
            <a:tailEnd len="med" type="triangle" w="med"/>
          </a:ln>
        </p:spPr>
      </p:cxnSp>
      <p:sp>
        <p:nvSpPr>
          <p:cNvPr id="291" name="Straight Connector 38"/>
          <p:cNvSpPr/>
          <p:nvPr/>
        </p:nvSpPr>
        <p:spPr>
          <a:xfrm>
            <a:off x="2158920" y="2201760"/>
            <a:ext cx="7890120" cy="0"/>
          </a:xfrm>
          <a:prstGeom prst="line">
            <a:avLst/>
          </a:prstGeom>
          <a:ln w="6480">
            <a:solidFill>
              <a:srgbClr val="1d08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Straight Connector 41"/>
          <p:cNvSpPr/>
          <p:nvPr/>
        </p:nvSpPr>
        <p:spPr>
          <a:xfrm>
            <a:off x="890640" y="4027320"/>
            <a:ext cx="2547720" cy="0"/>
          </a:xfrm>
          <a:prstGeom prst="line">
            <a:avLst/>
          </a:prstGeom>
          <a:ln w="6480">
            <a:solidFill>
              <a:srgbClr val="1d08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Straight Connector 43"/>
          <p:cNvSpPr/>
          <p:nvPr/>
        </p:nvSpPr>
        <p:spPr>
          <a:xfrm>
            <a:off x="4821120" y="4027320"/>
            <a:ext cx="2549520" cy="0"/>
          </a:xfrm>
          <a:prstGeom prst="line">
            <a:avLst/>
          </a:prstGeom>
          <a:ln w="6480">
            <a:solidFill>
              <a:srgbClr val="1d08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Straight Connector 45"/>
          <p:cNvSpPr/>
          <p:nvPr/>
        </p:nvSpPr>
        <p:spPr>
          <a:xfrm>
            <a:off x="8774280" y="4027320"/>
            <a:ext cx="2547720" cy="0"/>
          </a:xfrm>
          <a:prstGeom prst="line">
            <a:avLst/>
          </a:prstGeom>
          <a:ln w="6480">
            <a:solidFill>
              <a:srgbClr val="1d08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文本框 62"/>
          <p:cNvSpPr/>
          <p:nvPr/>
        </p:nvSpPr>
        <p:spPr>
          <a:xfrm>
            <a:off x="6564240" y="15843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296" name="文本框 64"/>
          <p:cNvSpPr/>
          <p:nvPr/>
        </p:nvSpPr>
        <p:spPr>
          <a:xfrm>
            <a:off x="2639880" y="344160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297" name="文本框 65"/>
          <p:cNvSpPr/>
          <p:nvPr/>
        </p:nvSpPr>
        <p:spPr>
          <a:xfrm>
            <a:off x="6592680" y="344160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298" name="文本框 66"/>
          <p:cNvSpPr/>
          <p:nvPr/>
        </p:nvSpPr>
        <p:spPr>
          <a:xfrm>
            <a:off x="10531440" y="344160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299" name="文本框 67"/>
          <p:cNvSpPr/>
          <p:nvPr/>
        </p:nvSpPr>
        <p:spPr>
          <a:xfrm>
            <a:off x="3220560" y="353844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00" name="文本框 68"/>
          <p:cNvSpPr/>
          <p:nvPr/>
        </p:nvSpPr>
        <p:spPr>
          <a:xfrm>
            <a:off x="7194240" y="353844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01" name="文本框 69"/>
          <p:cNvSpPr/>
          <p:nvPr/>
        </p:nvSpPr>
        <p:spPr>
          <a:xfrm>
            <a:off x="7194240" y="169236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02" name="文本框 70"/>
          <p:cNvSpPr/>
          <p:nvPr/>
        </p:nvSpPr>
        <p:spPr>
          <a:xfrm>
            <a:off x="11113560" y="353520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03" name="文本框 71"/>
          <p:cNvSpPr/>
          <p:nvPr/>
        </p:nvSpPr>
        <p:spPr>
          <a:xfrm>
            <a:off x="619200" y="54975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304" name="文本框 72"/>
          <p:cNvSpPr/>
          <p:nvPr/>
        </p:nvSpPr>
        <p:spPr>
          <a:xfrm>
            <a:off x="610560" y="581652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05" name="文本框 73"/>
          <p:cNvSpPr/>
          <p:nvPr/>
        </p:nvSpPr>
        <p:spPr>
          <a:xfrm>
            <a:off x="1962720" y="54975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306" name="文本框 74"/>
          <p:cNvSpPr/>
          <p:nvPr/>
        </p:nvSpPr>
        <p:spPr>
          <a:xfrm>
            <a:off x="1954800" y="581652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07" name="文本框 75"/>
          <p:cNvSpPr/>
          <p:nvPr/>
        </p:nvSpPr>
        <p:spPr>
          <a:xfrm>
            <a:off x="3215520" y="54975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308" name="文本框 76"/>
          <p:cNvSpPr/>
          <p:nvPr/>
        </p:nvSpPr>
        <p:spPr>
          <a:xfrm>
            <a:off x="3207240" y="581652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09" name="文本框 77"/>
          <p:cNvSpPr/>
          <p:nvPr/>
        </p:nvSpPr>
        <p:spPr>
          <a:xfrm>
            <a:off x="4594320" y="54975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310" name="文本框 78"/>
          <p:cNvSpPr/>
          <p:nvPr/>
        </p:nvSpPr>
        <p:spPr>
          <a:xfrm>
            <a:off x="4585680" y="581652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11" name="文本框 79"/>
          <p:cNvSpPr/>
          <p:nvPr/>
        </p:nvSpPr>
        <p:spPr>
          <a:xfrm>
            <a:off x="5823000" y="54975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312" name="文本框 80"/>
          <p:cNvSpPr/>
          <p:nvPr/>
        </p:nvSpPr>
        <p:spPr>
          <a:xfrm>
            <a:off x="5814720" y="581652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13" name="文本框 81"/>
          <p:cNvSpPr/>
          <p:nvPr/>
        </p:nvSpPr>
        <p:spPr>
          <a:xfrm>
            <a:off x="7214400" y="54975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314" name="文本框 82"/>
          <p:cNvSpPr/>
          <p:nvPr/>
        </p:nvSpPr>
        <p:spPr>
          <a:xfrm>
            <a:off x="7206120" y="581652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15" name="文本框 83"/>
          <p:cNvSpPr/>
          <p:nvPr/>
        </p:nvSpPr>
        <p:spPr>
          <a:xfrm>
            <a:off x="8591400" y="54975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316" name="文本框 84"/>
          <p:cNvSpPr/>
          <p:nvPr/>
        </p:nvSpPr>
        <p:spPr>
          <a:xfrm>
            <a:off x="8583120" y="581652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17" name="文本框 85"/>
          <p:cNvSpPr/>
          <p:nvPr/>
        </p:nvSpPr>
        <p:spPr>
          <a:xfrm>
            <a:off x="9833760" y="54975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318" name="文本框 86"/>
          <p:cNvSpPr/>
          <p:nvPr/>
        </p:nvSpPr>
        <p:spPr>
          <a:xfrm>
            <a:off x="9825480" y="581652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19" name="文本框 87"/>
          <p:cNvSpPr/>
          <p:nvPr/>
        </p:nvSpPr>
        <p:spPr>
          <a:xfrm>
            <a:off x="11121840" y="54975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320" name="文本框 88"/>
          <p:cNvSpPr/>
          <p:nvPr/>
        </p:nvSpPr>
        <p:spPr>
          <a:xfrm>
            <a:off x="11113560" y="581652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21" name="文本框 59"/>
          <p:cNvSpPr/>
          <p:nvPr/>
        </p:nvSpPr>
        <p:spPr>
          <a:xfrm>
            <a:off x="711360" y="295200"/>
            <a:ext cx="17794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组织机构</a:t>
            </a:r>
            <a:endParaRPr b="0" lang="en-US" sz="2500" spc="-1" strike="noStrike">
              <a:solidFill>
                <a:srgbClr val="000000"/>
              </a:solidFill>
              <a:latin typeface="Arial"/>
            </a:endParaRPr>
          </a:p>
        </p:txBody>
      </p:sp>
      <p:sp>
        <p:nvSpPr>
          <p:cNvPr id="322" name="椭圆 61"/>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268"/>
                                        </p:tgtEl>
                                        <p:attrNameLst>
                                          <p:attrName>style.visibility</p:attrName>
                                        </p:attrNameLst>
                                      </p:cBhvr>
                                      <p:to>
                                        <p:strVal val="visible"/>
                                      </p:to>
                                    </p:set>
                                    <p:animEffect filter="wipe(up)" transition="in">
                                      <p:cBhvr additive="repl">
                                        <p:cTn id="7" dur="500"/>
                                        <p:tgtEl>
                                          <p:spTgt spid="268"/>
                                        </p:tgtEl>
                                      </p:cBhvr>
                                    </p:animEffect>
                                  </p:childTnLst>
                                </p:cTn>
                              </p:par>
                            </p:childTnLst>
                          </p:cTn>
                        </p:par>
                        <p:par>
                          <p:cTn id="8"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266"/>
                                        </p:tgtEl>
                                        <p:attrNameLst>
                                          <p:attrName>style.visibility</p:attrName>
                                        </p:attrNameLst>
                                      </p:cBhvr>
                                      <p:to>
                                        <p:strVal val="visible"/>
                                      </p:to>
                                    </p:set>
                                    <p:animEffect filter="wipe(up)" transition="in">
                                      <p:cBhvr additive="repl">
                                        <p:cTn id="11" dur="500"/>
                                        <p:tgtEl>
                                          <p:spTgt spid="266"/>
                                        </p:tgtEl>
                                      </p:cBhvr>
                                    </p:animEffect>
                                  </p:childTnLst>
                                </p:cTn>
                              </p:par>
                            </p:childTnLst>
                          </p:cTn>
                        </p:par>
                        <p:par>
                          <p:cTn id="12" fill="hold">
                            <p:stCondLst>
                              <p:cond delay="1000"/>
                            </p:stCondLst>
                            <p:childTnLst>
                              <p:par>
                                <p:cTn id="13" nodeType="afterEffect" fill="hold" presetClass="entr" presetID="22" presetSubtype="1">
                                  <p:stCondLst>
                                    <p:cond delay="0"/>
                                  </p:stCondLst>
                                  <p:childTnLst>
                                    <p:set>
                                      <p:cBhvr>
                                        <p:cTn id="14" dur="1" fill="hold">
                                          <p:stCondLst>
                                            <p:cond delay="0"/>
                                          </p:stCondLst>
                                        </p:cTn>
                                        <p:tgtEl>
                                          <p:spTgt spid="270"/>
                                        </p:tgtEl>
                                        <p:attrNameLst>
                                          <p:attrName>style.visibility</p:attrName>
                                        </p:attrNameLst>
                                      </p:cBhvr>
                                      <p:to>
                                        <p:strVal val="visible"/>
                                      </p:to>
                                    </p:set>
                                    <p:animEffect filter="wipe(up)" transition="in">
                                      <p:cBhvr additive="repl">
                                        <p:cTn id="15" dur="500"/>
                                        <p:tgtEl>
                                          <p:spTgt spid="270"/>
                                        </p:tgtEl>
                                      </p:cBhvr>
                                    </p:animEffect>
                                  </p:childTnLst>
                                </p:cTn>
                              </p:par>
                            </p:childTnLst>
                          </p:cTn>
                        </p:par>
                        <p:par>
                          <p:cTn id="16" fill="hold">
                            <p:stCondLst>
                              <p:cond delay="1500"/>
                            </p:stCondLst>
                            <p:childTnLst>
                              <p:par>
                                <p:cTn id="17" nodeType="afterEffect" fill="hold" presetClass="entr" presetID="16" presetSubtype="37">
                                  <p:stCondLst>
                                    <p:cond delay="0"/>
                                  </p:stCondLst>
                                  <p:childTnLst>
                                    <p:set>
                                      <p:cBhvr>
                                        <p:cTn id="18" dur="1" fill="hold">
                                          <p:stCondLst>
                                            <p:cond delay="0"/>
                                          </p:stCondLst>
                                        </p:cTn>
                                        <p:tgtEl>
                                          <p:spTgt spid="291"/>
                                        </p:tgtEl>
                                        <p:attrNameLst>
                                          <p:attrName>style.visibility</p:attrName>
                                        </p:attrNameLst>
                                      </p:cBhvr>
                                      <p:to>
                                        <p:strVal val="visible"/>
                                      </p:to>
                                    </p:set>
                                    <p:animEffect filter="barn(outVertical)" transition="in">
                                      <p:cBhvr additive="repl">
                                        <p:cTn id="19" dur="500"/>
                                        <p:tgtEl>
                                          <p:spTgt spid="291"/>
                                        </p:tgtEl>
                                      </p:cBhvr>
                                    </p:animEffect>
                                  </p:childTnLst>
                                </p:cTn>
                              </p:par>
                            </p:childTnLst>
                          </p:cTn>
                        </p:par>
                        <p:par>
                          <p:cTn id="20" fill="hold">
                            <p:stCondLst>
                              <p:cond delay="2000"/>
                            </p:stCondLst>
                            <p:childTnLst>
                              <p:par>
                                <p:cTn id="21" nodeType="afterEffect" fill="hold" presetClass="entr" presetID="22" presetSubtype="1">
                                  <p:stCondLst>
                                    <p:cond delay="0"/>
                                  </p:stCondLst>
                                  <p:childTnLst>
                                    <p:set>
                                      <p:cBhvr>
                                        <p:cTn id="22" dur="1" fill="hold">
                                          <p:stCondLst>
                                            <p:cond delay="0"/>
                                          </p:stCondLst>
                                        </p:cTn>
                                        <p:tgtEl>
                                          <p:spTgt spid="290"/>
                                        </p:tgtEl>
                                        <p:attrNameLst>
                                          <p:attrName>style.visibility</p:attrName>
                                        </p:attrNameLst>
                                      </p:cBhvr>
                                      <p:to>
                                        <p:strVal val="visible"/>
                                      </p:to>
                                    </p:set>
                                    <p:animEffect filter="wipe(up)" transition="in">
                                      <p:cBhvr additive="repl">
                                        <p:cTn id="23" dur="500"/>
                                        <p:tgtEl>
                                          <p:spTgt spid="290"/>
                                        </p:tgtEl>
                                      </p:cBhvr>
                                    </p:animEffect>
                                  </p:childTnLst>
                                </p:cTn>
                              </p:par>
                            </p:childTnLst>
                          </p:cTn>
                        </p:par>
                        <p:par>
                          <p:cTn id="24" fill="hold">
                            <p:stCondLst>
                              <p:cond delay="2500"/>
                            </p:stCondLst>
                            <p:childTnLst>
                              <p:par>
                                <p:cTn id="25" nodeType="afterEffect" fill="hold" presetClass="entr" presetID="22" presetSubtype="1">
                                  <p:stCondLst>
                                    <p:cond delay="0"/>
                                  </p:stCondLst>
                                  <p:childTnLst>
                                    <p:set>
                                      <p:cBhvr>
                                        <p:cTn id="26" dur="1" fill="hold">
                                          <p:stCondLst>
                                            <p:cond delay="0"/>
                                          </p:stCondLst>
                                        </p:cTn>
                                        <p:tgtEl>
                                          <p:spTgt spid="269"/>
                                        </p:tgtEl>
                                        <p:attrNameLst>
                                          <p:attrName>style.visibility</p:attrName>
                                        </p:attrNameLst>
                                      </p:cBhvr>
                                      <p:to>
                                        <p:strVal val="visible"/>
                                      </p:to>
                                    </p:set>
                                    <p:animEffect filter="wipe(up)" transition="in">
                                      <p:cBhvr additive="repl">
                                        <p:cTn id="27" dur="500"/>
                                        <p:tgtEl>
                                          <p:spTgt spid="269"/>
                                        </p:tgtEl>
                                      </p:cBhvr>
                                    </p:animEffect>
                                  </p:childTnLst>
                                </p:cTn>
                              </p:par>
                            </p:childTnLst>
                          </p:cTn>
                        </p:par>
                        <p:par>
                          <p:cTn id="28" fill="hold">
                            <p:stCondLst>
                              <p:cond delay="3000"/>
                            </p:stCondLst>
                            <p:childTnLst>
                              <p:par>
                                <p:cTn id="29" nodeType="afterEffect" fill="hold" presetClass="entr" presetID="22" presetSubtype="1">
                                  <p:stCondLst>
                                    <p:cond delay="0"/>
                                  </p:stCondLst>
                                  <p:childTnLst>
                                    <p:set>
                                      <p:cBhvr>
                                        <p:cTn id="30" dur="1" fill="hold">
                                          <p:stCondLst>
                                            <p:cond delay="0"/>
                                          </p:stCondLst>
                                        </p:cTn>
                                        <p:tgtEl>
                                          <p:spTgt spid="289"/>
                                        </p:tgtEl>
                                        <p:attrNameLst>
                                          <p:attrName>style.visibility</p:attrName>
                                        </p:attrNameLst>
                                      </p:cBhvr>
                                      <p:to>
                                        <p:strVal val="visible"/>
                                      </p:to>
                                    </p:set>
                                    <p:animEffect filter="wipe(up)" transition="in">
                                      <p:cBhvr additive="repl">
                                        <p:cTn id="31" dur="500"/>
                                        <p:tgtEl>
                                          <p:spTgt spid="289"/>
                                        </p:tgtEl>
                                      </p:cBhvr>
                                    </p:animEffect>
                                  </p:childTnLst>
                                </p:cTn>
                              </p:par>
                            </p:childTnLst>
                          </p:cTn>
                        </p:par>
                        <p:par>
                          <p:cTn id="32" fill="hold">
                            <p:stCondLst>
                              <p:cond delay="3500"/>
                            </p:stCondLst>
                            <p:childTnLst>
                              <p:par>
                                <p:cTn id="33" nodeType="afterEffect" fill="hold" presetClass="entr" presetID="22" presetSubtype="1">
                                  <p:stCondLst>
                                    <p:cond delay="0"/>
                                  </p:stCondLst>
                                  <p:childTnLst>
                                    <p:set>
                                      <p:cBhvr>
                                        <p:cTn id="34" dur="1" fill="hold">
                                          <p:stCondLst>
                                            <p:cond delay="0"/>
                                          </p:stCondLst>
                                        </p:cTn>
                                        <p:tgtEl>
                                          <p:spTgt spid="271"/>
                                        </p:tgtEl>
                                        <p:attrNameLst>
                                          <p:attrName>style.visibility</p:attrName>
                                        </p:attrNameLst>
                                      </p:cBhvr>
                                      <p:to>
                                        <p:strVal val="visible"/>
                                      </p:to>
                                    </p:set>
                                    <p:animEffect filter="wipe(up)" transition="in">
                                      <p:cBhvr additive="repl">
                                        <p:cTn id="35" dur="500"/>
                                        <p:tgtEl>
                                          <p:spTgt spid="271"/>
                                        </p:tgtEl>
                                      </p:cBhvr>
                                    </p:animEffect>
                                  </p:childTnLst>
                                </p:cTn>
                              </p:par>
                            </p:childTnLst>
                          </p:cTn>
                        </p:par>
                        <p:par>
                          <p:cTn id="36" fill="hold">
                            <p:stCondLst>
                              <p:cond delay="4000"/>
                            </p:stCondLst>
                            <p:childTnLst>
                              <p:par>
                                <p:cTn id="37" nodeType="afterEffect" fill="hold" presetClass="entr" presetID="22" presetSubtype="1">
                                  <p:stCondLst>
                                    <p:cond delay="0"/>
                                  </p:stCondLst>
                                  <p:childTnLst>
                                    <p:set>
                                      <p:cBhvr>
                                        <p:cTn id="38" dur="1" fill="hold">
                                          <p:stCondLst>
                                            <p:cond delay="0"/>
                                          </p:stCondLst>
                                        </p:cTn>
                                        <p:tgtEl>
                                          <p:spTgt spid="282"/>
                                        </p:tgtEl>
                                        <p:attrNameLst>
                                          <p:attrName>style.visibility</p:attrName>
                                        </p:attrNameLst>
                                      </p:cBhvr>
                                      <p:to>
                                        <p:strVal val="visible"/>
                                      </p:to>
                                    </p:set>
                                    <p:animEffect filter="wipe(up)" transition="in">
                                      <p:cBhvr additive="repl">
                                        <p:cTn id="39" dur="500"/>
                                        <p:tgtEl>
                                          <p:spTgt spid="282"/>
                                        </p:tgtEl>
                                      </p:cBhvr>
                                    </p:animEffect>
                                  </p:childTnLst>
                                </p:cTn>
                              </p:par>
                            </p:childTnLst>
                          </p:cTn>
                        </p:par>
                        <p:par>
                          <p:cTn id="40" fill="hold">
                            <p:stCondLst>
                              <p:cond delay="4500"/>
                            </p:stCondLst>
                            <p:childTnLst>
                              <p:par>
                                <p:cTn id="41" nodeType="afterEffect" fill="hold" presetClass="entr" presetID="22" presetSubtype="1">
                                  <p:stCondLst>
                                    <p:cond delay="0"/>
                                  </p:stCondLst>
                                  <p:childTnLst>
                                    <p:set>
                                      <p:cBhvr>
                                        <p:cTn id="42" dur="1" fill="hold">
                                          <p:stCondLst>
                                            <p:cond delay="0"/>
                                          </p:stCondLst>
                                        </p:cTn>
                                        <p:tgtEl>
                                          <p:spTgt spid="279"/>
                                        </p:tgtEl>
                                        <p:attrNameLst>
                                          <p:attrName>style.visibility</p:attrName>
                                        </p:attrNameLst>
                                      </p:cBhvr>
                                      <p:to>
                                        <p:strVal val="visible"/>
                                      </p:to>
                                    </p:set>
                                    <p:animEffect filter="wipe(up)" transition="in">
                                      <p:cBhvr additive="repl">
                                        <p:cTn id="43" dur="500"/>
                                        <p:tgtEl>
                                          <p:spTgt spid="279"/>
                                        </p:tgtEl>
                                      </p:cBhvr>
                                    </p:animEffect>
                                  </p:childTnLst>
                                </p:cTn>
                              </p:par>
                            </p:childTnLst>
                          </p:cTn>
                        </p:par>
                        <p:par>
                          <p:cTn id="44" fill="hold">
                            <p:stCondLst>
                              <p:cond delay="5000"/>
                            </p:stCondLst>
                            <p:childTnLst>
                              <p:par>
                                <p:cTn id="45" nodeType="afterEffect" fill="hold" presetClass="entr" presetID="16" presetSubtype="37">
                                  <p:stCondLst>
                                    <p:cond delay="0"/>
                                  </p:stCondLst>
                                  <p:childTnLst>
                                    <p:set>
                                      <p:cBhvr>
                                        <p:cTn id="46" dur="1" fill="hold">
                                          <p:stCondLst>
                                            <p:cond delay="0"/>
                                          </p:stCondLst>
                                        </p:cTn>
                                        <p:tgtEl>
                                          <p:spTgt spid="292"/>
                                        </p:tgtEl>
                                        <p:attrNameLst>
                                          <p:attrName>style.visibility</p:attrName>
                                        </p:attrNameLst>
                                      </p:cBhvr>
                                      <p:to>
                                        <p:strVal val="visible"/>
                                      </p:to>
                                    </p:set>
                                    <p:animEffect filter="barn(outVertical)" transition="in">
                                      <p:cBhvr additive="repl">
                                        <p:cTn id="47" dur="500"/>
                                        <p:tgtEl>
                                          <p:spTgt spid="292"/>
                                        </p:tgtEl>
                                      </p:cBhvr>
                                    </p:animEffect>
                                  </p:childTnLst>
                                </p:cTn>
                              </p:par>
                            </p:childTnLst>
                          </p:cTn>
                        </p:par>
                        <p:par>
                          <p:cTn id="48" fill="hold">
                            <p:stCondLst>
                              <p:cond delay="5500"/>
                            </p:stCondLst>
                            <p:childTnLst>
                              <p:par>
                                <p:cTn id="49" nodeType="afterEffect" fill="hold" presetClass="entr" presetID="22" presetSubtype="1">
                                  <p:stCondLst>
                                    <p:cond delay="0"/>
                                  </p:stCondLst>
                                  <p:childTnLst>
                                    <p:set>
                                      <p:cBhvr>
                                        <p:cTn id="50" dur="1" fill="hold">
                                          <p:stCondLst>
                                            <p:cond delay="0"/>
                                          </p:stCondLst>
                                        </p:cTn>
                                        <p:tgtEl>
                                          <p:spTgt spid="284"/>
                                        </p:tgtEl>
                                        <p:attrNameLst>
                                          <p:attrName>style.visibility</p:attrName>
                                        </p:attrNameLst>
                                      </p:cBhvr>
                                      <p:to>
                                        <p:strVal val="visible"/>
                                      </p:to>
                                    </p:set>
                                    <p:animEffect filter="wipe(up)" transition="in">
                                      <p:cBhvr additive="repl">
                                        <p:cTn id="51" dur="500"/>
                                        <p:tgtEl>
                                          <p:spTgt spid="284"/>
                                        </p:tgtEl>
                                      </p:cBhvr>
                                    </p:animEffect>
                                  </p:childTnLst>
                                </p:cTn>
                              </p:par>
                            </p:childTnLst>
                          </p:cTn>
                        </p:par>
                        <p:par>
                          <p:cTn id="52" fill="hold">
                            <p:stCondLst>
                              <p:cond delay="6000"/>
                            </p:stCondLst>
                            <p:childTnLst>
                              <p:par>
                                <p:cTn id="53" nodeType="afterEffect" fill="hold" presetClass="entr" presetID="22" presetSubtype="1">
                                  <p:stCondLst>
                                    <p:cond delay="0"/>
                                  </p:stCondLst>
                                  <p:childTnLst>
                                    <p:set>
                                      <p:cBhvr>
                                        <p:cTn id="54" dur="1" fill="hold">
                                          <p:stCondLst>
                                            <p:cond delay="0"/>
                                          </p:stCondLst>
                                        </p:cTn>
                                        <p:tgtEl>
                                          <p:spTgt spid="278"/>
                                        </p:tgtEl>
                                        <p:attrNameLst>
                                          <p:attrName>style.visibility</p:attrName>
                                        </p:attrNameLst>
                                      </p:cBhvr>
                                      <p:to>
                                        <p:strVal val="visible"/>
                                      </p:to>
                                    </p:set>
                                    <p:animEffect filter="wipe(up)" transition="in">
                                      <p:cBhvr additive="repl">
                                        <p:cTn id="55" dur="500"/>
                                        <p:tgtEl>
                                          <p:spTgt spid="278"/>
                                        </p:tgtEl>
                                      </p:cBhvr>
                                    </p:animEffect>
                                  </p:childTnLst>
                                </p:cTn>
                              </p:par>
                            </p:childTnLst>
                          </p:cTn>
                        </p:par>
                        <p:par>
                          <p:cTn id="56" fill="hold">
                            <p:stCondLst>
                              <p:cond delay="6500"/>
                            </p:stCondLst>
                            <p:childTnLst>
                              <p:par>
                                <p:cTn id="57" nodeType="afterEffect" fill="hold" presetClass="entr" presetID="22" presetSubtype="1">
                                  <p:stCondLst>
                                    <p:cond delay="0"/>
                                  </p:stCondLst>
                                  <p:childTnLst>
                                    <p:set>
                                      <p:cBhvr>
                                        <p:cTn id="58" dur="1" fill="hold">
                                          <p:stCondLst>
                                            <p:cond delay="0"/>
                                          </p:stCondLst>
                                        </p:cTn>
                                        <p:tgtEl>
                                          <p:spTgt spid="283"/>
                                        </p:tgtEl>
                                        <p:attrNameLst>
                                          <p:attrName>style.visibility</p:attrName>
                                        </p:attrNameLst>
                                      </p:cBhvr>
                                      <p:to>
                                        <p:strVal val="visible"/>
                                      </p:to>
                                    </p:set>
                                    <p:animEffect filter="wipe(up)" transition="in">
                                      <p:cBhvr additive="repl">
                                        <p:cTn id="59" dur="500"/>
                                        <p:tgtEl>
                                          <p:spTgt spid="283"/>
                                        </p:tgtEl>
                                      </p:cBhvr>
                                    </p:animEffect>
                                  </p:childTnLst>
                                </p:cTn>
                              </p:par>
                            </p:childTnLst>
                          </p:cTn>
                        </p:par>
                        <p:par>
                          <p:cTn id="60" fill="hold">
                            <p:stCondLst>
                              <p:cond delay="7000"/>
                            </p:stCondLst>
                            <p:childTnLst>
                              <p:par>
                                <p:cTn id="61" nodeType="afterEffect" fill="hold" presetClass="entr" presetID="22" presetSubtype="1">
                                  <p:stCondLst>
                                    <p:cond delay="0"/>
                                  </p:stCondLst>
                                  <p:childTnLst>
                                    <p:set>
                                      <p:cBhvr>
                                        <p:cTn id="62" dur="1" fill="hold">
                                          <p:stCondLst>
                                            <p:cond delay="0"/>
                                          </p:stCondLst>
                                        </p:cTn>
                                        <p:tgtEl>
                                          <p:spTgt spid="280"/>
                                        </p:tgtEl>
                                        <p:attrNameLst>
                                          <p:attrName>style.visibility</p:attrName>
                                        </p:attrNameLst>
                                      </p:cBhvr>
                                      <p:to>
                                        <p:strVal val="visible"/>
                                      </p:to>
                                    </p:set>
                                    <p:animEffect filter="wipe(up)" transition="in">
                                      <p:cBhvr additive="repl">
                                        <p:cTn id="63" dur="500"/>
                                        <p:tgtEl>
                                          <p:spTgt spid="280"/>
                                        </p:tgtEl>
                                      </p:cBhvr>
                                    </p:animEffect>
                                  </p:childTnLst>
                                </p:cTn>
                              </p:par>
                            </p:childTnLst>
                          </p:cTn>
                        </p:par>
                        <p:par>
                          <p:cTn id="64" fill="hold">
                            <p:stCondLst>
                              <p:cond delay="7500"/>
                            </p:stCondLst>
                            <p:childTnLst>
                              <p:par>
                                <p:cTn id="65" nodeType="afterEffect" fill="hold" presetClass="entr" presetID="22" presetSubtype="1">
                                  <p:stCondLst>
                                    <p:cond delay="0"/>
                                  </p:stCondLst>
                                  <p:childTnLst>
                                    <p:set>
                                      <p:cBhvr>
                                        <p:cTn id="66" dur="1" fill="hold">
                                          <p:stCondLst>
                                            <p:cond delay="0"/>
                                          </p:stCondLst>
                                        </p:cTn>
                                        <p:tgtEl>
                                          <p:spTgt spid="281"/>
                                        </p:tgtEl>
                                        <p:attrNameLst>
                                          <p:attrName>style.visibility</p:attrName>
                                        </p:attrNameLst>
                                      </p:cBhvr>
                                      <p:to>
                                        <p:strVal val="visible"/>
                                      </p:to>
                                    </p:set>
                                    <p:animEffect filter="wipe(up)" transition="in">
                                      <p:cBhvr additive="repl">
                                        <p:cTn id="67" dur="500"/>
                                        <p:tgtEl>
                                          <p:spTgt spid="281"/>
                                        </p:tgtEl>
                                      </p:cBhvr>
                                    </p:animEffect>
                                  </p:childTnLst>
                                </p:cTn>
                              </p:par>
                            </p:childTnLst>
                          </p:cTn>
                        </p:par>
                        <p:par>
                          <p:cTn id="68" fill="hold">
                            <p:stCondLst>
                              <p:cond delay="8000"/>
                            </p:stCondLst>
                            <p:childTnLst>
                              <p:par>
                                <p:cTn id="69" nodeType="afterEffect" fill="hold" presetClass="entr" presetID="22" presetSubtype="1">
                                  <p:stCondLst>
                                    <p:cond delay="0"/>
                                  </p:stCondLst>
                                  <p:childTnLst>
                                    <p:set>
                                      <p:cBhvr>
                                        <p:cTn id="70" dur="1" fill="hold">
                                          <p:stCondLst>
                                            <p:cond delay="0"/>
                                          </p:stCondLst>
                                        </p:cTn>
                                        <p:tgtEl>
                                          <p:spTgt spid="276"/>
                                        </p:tgtEl>
                                        <p:attrNameLst>
                                          <p:attrName>style.visibility</p:attrName>
                                        </p:attrNameLst>
                                      </p:cBhvr>
                                      <p:to>
                                        <p:strVal val="visible"/>
                                      </p:to>
                                    </p:set>
                                    <p:animEffect filter="wipe(up)" transition="in">
                                      <p:cBhvr additive="repl">
                                        <p:cTn id="71" dur="500"/>
                                        <p:tgtEl>
                                          <p:spTgt spid="276"/>
                                        </p:tgtEl>
                                      </p:cBhvr>
                                    </p:animEffect>
                                  </p:childTnLst>
                                </p:cTn>
                              </p:par>
                            </p:childTnLst>
                          </p:cTn>
                        </p:par>
                        <p:par>
                          <p:cTn id="72" fill="hold">
                            <p:stCondLst>
                              <p:cond delay="8500"/>
                            </p:stCondLst>
                            <p:childTnLst>
                              <p:par>
                                <p:cTn id="73" nodeType="afterEffect" fill="hold" presetClass="entr" presetID="16" presetSubtype="37">
                                  <p:stCondLst>
                                    <p:cond delay="0"/>
                                  </p:stCondLst>
                                  <p:childTnLst>
                                    <p:set>
                                      <p:cBhvr>
                                        <p:cTn id="74" dur="1" fill="hold">
                                          <p:stCondLst>
                                            <p:cond delay="0"/>
                                          </p:stCondLst>
                                        </p:cTn>
                                        <p:tgtEl>
                                          <p:spTgt spid="293"/>
                                        </p:tgtEl>
                                        <p:attrNameLst>
                                          <p:attrName>style.visibility</p:attrName>
                                        </p:attrNameLst>
                                      </p:cBhvr>
                                      <p:to>
                                        <p:strVal val="visible"/>
                                      </p:to>
                                    </p:set>
                                    <p:animEffect filter="barn(outVertical)" transition="in">
                                      <p:cBhvr additive="repl">
                                        <p:cTn id="75" dur="500"/>
                                        <p:tgtEl>
                                          <p:spTgt spid="293"/>
                                        </p:tgtEl>
                                      </p:cBhvr>
                                    </p:animEffect>
                                  </p:childTnLst>
                                </p:cTn>
                              </p:par>
                            </p:childTnLst>
                          </p:cTn>
                        </p:par>
                        <p:par>
                          <p:cTn id="76" fill="hold">
                            <p:stCondLst>
                              <p:cond delay="9000"/>
                            </p:stCondLst>
                            <p:childTnLst>
                              <p:par>
                                <p:cTn id="77" nodeType="afterEffect" fill="hold" presetClass="entr" presetID="22" presetSubtype="1">
                                  <p:stCondLst>
                                    <p:cond delay="0"/>
                                  </p:stCondLst>
                                  <p:childTnLst>
                                    <p:set>
                                      <p:cBhvr>
                                        <p:cTn id="78" dur="1" fill="hold">
                                          <p:stCondLst>
                                            <p:cond delay="0"/>
                                          </p:stCondLst>
                                        </p:cTn>
                                        <p:tgtEl>
                                          <p:spTgt spid="285"/>
                                        </p:tgtEl>
                                        <p:attrNameLst>
                                          <p:attrName>style.visibility</p:attrName>
                                        </p:attrNameLst>
                                      </p:cBhvr>
                                      <p:to>
                                        <p:strVal val="visible"/>
                                      </p:to>
                                    </p:set>
                                    <p:animEffect filter="wipe(up)" transition="in">
                                      <p:cBhvr additive="repl">
                                        <p:cTn id="79" dur="500"/>
                                        <p:tgtEl>
                                          <p:spTgt spid="285"/>
                                        </p:tgtEl>
                                      </p:cBhvr>
                                    </p:animEffect>
                                  </p:childTnLst>
                                </p:cTn>
                              </p:par>
                            </p:childTnLst>
                          </p:cTn>
                        </p:par>
                        <p:par>
                          <p:cTn id="80" fill="hold">
                            <p:stCondLst>
                              <p:cond delay="9500"/>
                            </p:stCondLst>
                            <p:childTnLst>
                              <p:par>
                                <p:cTn id="81" nodeType="afterEffect" fill="hold" presetClass="entr" presetID="22" presetSubtype="1">
                                  <p:stCondLst>
                                    <p:cond delay="0"/>
                                  </p:stCondLst>
                                  <p:childTnLst>
                                    <p:set>
                                      <p:cBhvr>
                                        <p:cTn id="82" dur="1" fill="hold">
                                          <p:stCondLst>
                                            <p:cond delay="0"/>
                                          </p:stCondLst>
                                        </p:cTn>
                                        <p:tgtEl>
                                          <p:spTgt spid="275"/>
                                        </p:tgtEl>
                                        <p:attrNameLst>
                                          <p:attrName>style.visibility</p:attrName>
                                        </p:attrNameLst>
                                      </p:cBhvr>
                                      <p:to>
                                        <p:strVal val="visible"/>
                                      </p:to>
                                    </p:set>
                                    <p:animEffect filter="wipe(up)" transition="in">
                                      <p:cBhvr additive="repl">
                                        <p:cTn id="83" dur="500"/>
                                        <p:tgtEl>
                                          <p:spTgt spid="275"/>
                                        </p:tgtEl>
                                      </p:cBhvr>
                                    </p:animEffect>
                                  </p:childTnLst>
                                </p:cTn>
                              </p:par>
                            </p:childTnLst>
                          </p:cTn>
                        </p:par>
                        <p:par>
                          <p:cTn id="84" fill="hold">
                            <p:stCondLst>
                              <p:cond delay="10000"/>
                            </p:stCondLst>
                            <p:childTnLst>
                              <p:par>
                                <p:cTn id="85" nodeType="afterEffect" fill="hold" presetClass="entr" presetID="22" presetSubtype="1">
                                  <p:stCondLst>
                                    <p:cond delay="0"/>
                                  </p:stCondLst>
                                  <p:childTnLst>
                                    <p:set>
                                      <p:cBhvr>
                                        <p:cTn id="86" dur="1" fill="hold">
                                          <p:stCondLst>
                                            <p:cond delay="0"/>
                                          </p:stCondLst>
                                        </p:cTn>
                                        <p:tgtEl>
                                          <p:spTgt spid="286"/>
                                        </p:tgtEl>
                                        <p:attrNameLst>
                                          <p:attrName>style.visibility</p:attrName>
                                        </p:attrNameLst>
                                      </p:cBhvr>
                                      <p:to>
                                        <p:strVal val="visible"/>
                                      </p:to>
                                    </p:set>
                                    <p:animEffect filter="wipe(up)" transition="in">
                                      <p:cBhvr additive="repl">
                                        <p:cTn id="87" dur="500"/>
                                        <p:tgtEl>
                                          <p:spTgt spid="286"/>
                                        </p:tgtEl>
                                      </p:cBhvr>
                                    </p:animEffect>
                                  </p:childTnLst>
                                </p:cTn>
                              </p:par>
                            </p:childTnLst>
                          </p:cTn>
                        </p:par>
                        <p:par>
                          <p:cTn id="88" fill="hold">
                            <p:stCondLst>
                              <p:cond delay="10500"/>
                            </p:stCondLst>
                            <p:childTnLst>
                              <p:par>
                                <p:cTn id="89" nodeType="afterEffect" fill="hold" presetClass="entr" presetID="22" presetSubtype="1">
                                  <p:stCondLst>
                                    <p:cond delay="0"/>
                                  </p:stCondLst>
                                  <p:childTnLst>
                                    <p:set>
                                      <p:cBhvr>
                                        <p:cTn id="90" dur="1" fill="hold">
                                          <p:stCondLst>
                                            <p:cond delay="0"/>
                                          </p:stCondLst>
                                        </p:cTn>
                                        <p:tgtEl>
                                          <p:spTgt spid="277"/>
                                        </p:tgtEl>
                                        <p:attrNameLst>
                                          <p:attrName>style.visibility</p:attrName>
                                        </p:attrNameLst>
                                      </p:cBhvr>
                                      <p:to>
                                        <p:strVal val="visible"/>
                                      </p:to>
                                    </p:set>
                                    <p:animEffect filter="wipe(up)" transition="in">
                                      <p:cBhvr additive="repl">
                                        <p:cTn id="91" dur="500"/>
                                        <p:tgtEl>
                                          <p:spTgt spid="277"/>
                                        </p:tgtEl>
                                      </p:cBhvr>
                                    </p:animEffect>
                                  </p:childTnLst>
                                </p:cTn>
                              </p:par>
                            </p:childTnLst>
                          </p:cTn>
                        </p:par>
                        <p:par>
                          <p:cTn id="92" fill="hold">
                            <p:stCondLst>
                              <p:cond delay="11000"/>
                            </p:stCondLst>
                            <p:childTnLst>
                              <p:par>
                                <p:cTn id="93" nodeType="afterEffect" fill="hold" presetClass="entr" presetID="22" presetSubtype="1">
                                  <p:stCondLst>
                                    <p:cond delay="0"/>
                                  </p:stCondLst>
                                  <p:childTnLst>
                                    <p:set>
                                      <p:cBhvr>
                                        <p:cTn id="94" dur="1" fill="hold">
                                          <p:stCondLst>
                                            <p:cond delay="0"/>
                                          </p:stCondLst>
                                        </p:cTn>
                                        <p:tgtEl>
                                          <p:spTgt spid="267"/>
                                        </p:tgtEl>
                                        <p:attrNameLst>
                                          <p:attrName>style.visibility</p:attrName>
                                        </p:attrNameLst>
                                      </p:cBhvr>
                                      <p:to>
                                        <p:strVal val="visible"/>
                                      </p:to>
                                    </p:set>
                                    <p:animEffect filter="wipe(up)" transition="in">
                                      <p:cBhvr additive="repl">
                                        <p:cTn id="95" dur="500"/>
                                        <p:tgtEl>
                                          <p:spTgt spid="267"/>
                                        </p:tgtEl>
                                      </p:cBhvr>
                                    </p:animEffect>
                                  </p:childTnLst>
                                </p:cTn>
                              </p:par>
                            </p:childTnLst>
                          </p:cTn>
                        </p:par>
                        <p:par>
                          <p:cTn id="96" fill="hold">
                            <p:stCondLst>
                              <p:cond delay="11500"/>
                            </p:stCondLst>
                            <p:childTnLst>
                              <p:par>
                                <p:cTn id="97" nodeType="afterEffect" fill="hold" presetClass="entr" presetID="22" presetSubtype="1">
                                  <p:stCondLst>
                                    <p:cond delay="0"/>
                                  </p:stCondLst>
                                  <p:childTnLst>
                                    <p:set>
                                      <p:cBhvr>
                                        <p:cTn id="98" dur="1" fill="hold">
                                          <p:stCondLst>
                                            <p:cond delay="0"/>
                                          </p:stCondLst>
                                        </p:cTn>
                                        <p:tgtEl>
                                          <p:spTgt spid="273"/>
                                        </p:tgtEl>
                                        <p:attrNameLst>
                                          <p:attrName>style.visibility</p:attrName>
                                        </p:attrNameLst>
                                      </p:cBhvr>
                                      <p:to>
                                        <p:strVal val="visible"/>
                                      </p:to>
                                    </p:set>
                                    <p:animEffect filter="wipe(up)" transition="in">
                                      <p:cBhvr additive="repl">
                                        <p:cTn id="99" dur="500"/>
                                        <p:tgtEl>
                                          <p:spTgt spid="273"/>
                                        </p:tgtEl>
                                      </p:cBhvr>
                                    </p:animEffect>
                                  </p:childTnLst>
                                </p:cTn>
                              </p:par>
                            </p:childTnLst>
                          </p:cTn>
                        </p:par>
                        <p:par>
                          <p:cTn id="100" fill="hold">
                            <p:stCondLst>
                              <p:cond delay="12000"/>
                            </p:stCondLst>
                            <p:childTnLst>
                              <p:par>
                                <p:cTn id="101" nodeType="afterEffect" fill="hold" presetClass="entr" presetID="16" presetSubtype="37">
                                  <p:stCondLst>
                                    <p:cond delay="0"/>
                                  </p:stCondLst>
                                  <p:childTnLst>
                                    <p:set>
                                      <p:cBhvr>
                                        <p:cTn id="102" dur="1" fill="hold">
                                          <p:stCondLst>
                                            <p:cond delay="0"/>
                                          </p:stCondLst>
                                        </p:cTn>
                                        <p:tgtEl>
                                          <p:spTgt spid="294"/>
                                        </p:tgtEl>
                                        <p:attrNameLst>
                                          <p:attrName>style.visibility</p:attrName>
                                        </p:attrNameLst>
                                      </p:cBhvr>
                                      <p:to>
                                        <p:strVal val="visible"/>
                                      </p:to>
                                    </p:set>
                                    <p:animEffect filter="barn(outVertical)" transition="in">
                                      <p:cBhvr additive="repl">
                                        <p:cTn id="103" dur="500"/>
                                        <p:tgtEl>
                                          <p:spTgt spid="294"/>
                                        </p:tgtEl>
                                      </p:cBhvr>
                                    </p:animEffect>
                                  </p:childTnLst>
                                </p:cTn>
                              </p:par>
                            </p:childTnLst>
                          </p:cTn>
                        </p:par>
                        <p:par>
                          <p:cTn id="104" fill="hold">
                            <p:stCondLst>
                              <p:cond delay="12500"/>
                            </p:stCondLst>
                            <p:childTnLst>
                              <p:par>
                                <p:cTn id="105" nodeType="afterEffect" fill="hold" presetClass="entr" presetID="22" presetSubtype="1">
                                  <p:stCondLst>
                                    <p:cond delay="0"/>
                                  </p:stCondLst>
                                  <p:childTnLst>
                                    <p:set>
                                      <p:cBhvr>
                                        <p:cTn id="106" dur="1" fill="hold">
                                          <p:stCondLst>
                                            <p:cond delay="0"/>
                                          </p:stCondLst>
                                        </p:cTn>
                                        <p:tgtEl>
                                          <p:spTgt spid="287"/>
                                        </p:tgtEl>
                                        <p:attrNameLst>
                                          <p:attrName>style.visibility</p:attrName>
                                        </p:attrNameLst>
                                      </p:cBhvr>
                                      <p:to>
                                        <p:strVal val="visible"/>
                                      </p:to>
                                    </p:set>
                                    <p:animEffect filter="wipe(up)" transition="in">
                                      <p:cBhvr additive="repl">
                                        <p:cTn id="107" dur="500"/>
                                        <p:tgtEl>
                                          <p:spTgt spid="287"/>
                                        </p:tgtEl>
                                      </p:cBhvr>
                                    </p:animEffect>
                                  </p:childTnLst>
                                </p:cTn>
                              </p:par>
                            </p:childTnLst>
                          </p:cTn>
                        </p:par>
                        <p:par>
                          <p:cTn id="108" fill="hold">
                            <p:stCondLst>
                              <p:cond delay="13000"/>
                            </p:stCondLst>
                            <p:childTnLst>
                              <p:par>
                                <p:cTn id="109" nodeType="afterEffect" fill="hold" presetClass="entr" presetID="22" presetSubtype="1">
                                  <p:stCondLst>
                                    <p:cond delay="0"/>
                                  </p:stCondLst>
                                  <p:childTnLst>
                                    <p:set>
                                      <p:cBhvr>
                                        <p:cTn id="110" dur="1" fill="hold">
                                          <p:stCondLst>
                                            <p:cond delay="0"/>
                                          </p:stCondLst>
                                        </p:cTn>
                                        <p:tgtEl>
                                          <p:spTgt spid="272"/>
                                        </p:tgtEl>
                                        <p:attrNameLst>
                                          <p:attrName>style.visibility</p:attrName>
                                        </p:attrNameLst>
                                      </p:cBhvr>
                                      <p:to>
                                        <p:strVal val="visible"/>
                                      </p:to>
                                    </p:set>
                                    <p:animEffect filter="wipe(up)" transition="in">
                                      <p:cBhvr additive="repl">
                                        <p:cTn id="111" dur="500"/>
                                        <p:tgtEl>
                                          <p:spTgt spid="272"/>
                                        </p:tgtEl>
                                      </p:cBhvr>
                                    </p:animEffect>
                                  </p:childTnLst>
                                </p:cTn>
                              </p:par>
                            </p:childTnLst>
                          </p:cTn>
                        </p:par>
                        <p:par>
                          <p:cTn id="112" fill="hold">
                            <p:stCondLst>
                              <p:cond delay="13500"/>
                            </p:stCondLst>
                            <p:childTnLst>
                              <p:par>
                                <p:cTn id="113" nodeType="afterEffect" fill="hold" presetClass="entr" presetID="22" presetSubtype="1">
                                  <p:stCondLst>
                                    <p:cond delay="0"/>
                                  </p:stCondLst>
                                  <p:childTnLst>
                                    <p:set>
                                      <p:cBhvr>
                                        <p:cTn id="114" dur="1" fill="hold">
                                          <p:stCondLst>
                                            <p:cond delay="0"/>
                                          </p:stCondLst>
                                        </p:cTn>
                                        <p:tgtEl>
                                          <p:spTgt spid="288"/>
                                        </p:tgtEl>
                                        <p:attrNameLst>
                                          <p:attrName>style.visibility</p:attrName>
                                        </p:attrNameLst>
                                      </p:cBhvr>
                                      <p:to>
                                        <p:strVal val="visible"/>
                                      </p:to>
                                    </p:set>
                                    <p:animEffect filter="wipe(up)" transition="in">
                                      <p:cBhvr additive="repl">
                                        <p:cTn id="115" dur="500"/>
                                        <p:tgtEl>
                                          <p:spTgt spid="288"/>
                                        </p:tgtEl>
                                      </p:cBhvr>
                                    </p:animEffect>
                                  </p:childTnLst>
                                </p:cTn>
                              </p:par>
                            </p:childTnLst>
                          </p:cTn>
                        </p:par>
                        <p:par>
                          <p:cTn id="116" fill="hold">
                            <p:stCondLst>
                              <p:cond delay="14000"/>
                            </p:stCondLst>
                            <p:childTnLst>
                              <p:par>
                                <p:cTn id="117" nodeType="afterEffect" fill="hold" presetClass="entr" presetID="22" presetSubtype="1">
                                  <p:stCondLst>
                                    <p:cond delay="0"/>
                                  </p:stCondLst>
                                  <p:childTnLst>
                                    <p:set>
                                      <p:cBhvr>
                                        <p:cTn id="118" dur="1" fill="hold">
                                          <p:stCondLst>
                                            <p:cond delay="0"/>
                                          </p:stCondLst>
                                        </p:cTn>
                                        <p:tgtEl>
                                          <p:spTgt spid="274"/>
                                        </p:tgtEl>
                                        <p:attrNameLst>
                                          <p:attrName>style.visibility</p:attrName>
                                        </p:attrNameLst>
                                      </p:cBhvr>
                                      <p:to>
                                        <p:strVal val="visible"/>
                                      </p:to>
                                    </p:set>
                                    <p:animEffect filter="wipe(up)" transition="in">
                                      <p:cBhvr additive="repl">
                                        <p:cTn id="119"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矩形 7"/>
          <p:cNvSpPr/>
          <p:nvPr/>
        </p:nvSpPr>
        <p:spPr>
          <a:xfrm>
            <a:off x="1049400" y="1376280"/>
            <a:ext cx="3219480" cy="2238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矩形 8"/>
          <p:cNvSpPr/>
          <p:nvPr/>
        </p:nvSpPr>
        <p:spPr>
          <a:xfrm>
            <a:off x="4541760" y="1376280"/>
            <a:ext cx="3219480" cy="22384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矩形 9"/>
          <p:cNvSpPr/>
          <p:nvPr/>
        </p:nvSpPr>
        <p:spPr>
          <a:xfrm>
            <a:off x="8034480" y="1376280"/>
            <a:ext cx="3219480" cy="22384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矩形 10"/>
          <p:cNvSpPr/>
          <p:nvPr/>
        </p:nvSpPr>
        <p:spPr>
          <a:xfrm>
            <a:off x="1049400" y="3844800"/>
            <a:ext cx="3219480" cy="22370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矩形 11"/>
          <p:cNvSpPr/>
          <p:nvPr/>
        </p:nvSpPr>
        <p:spPr>
          <a:xfrm>
            <a:off x="4541760" y="3844800"/>
            <a:ext cx="3219480" cy="223704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矩形 12"/>
          <p:cNvSpPr/>
          <p:nvPr/>
        </p:nvSpPr>
        <p:spPr>
          <a:xfrm>
            <a:off x="8034480" y="3844800"/>
            <a:ext cx="3219480" cy="223704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矩形 13"/>
          <p:cNvSpPr/>
          <p:nvPr/>
        </p:nvSpPr>
        <p:spPr>
          <a:xfrm>
            <a:off x="1049400" y="3614760"/>
            <a:ext cx="3219480" cy="61920"/>
          </a:xfrm>
          <a:prstGeom prst="rect">
            <a:avLst/>
          </a:prstGeom>
          <a:solidFill>
            <a:srgbClr val="f44168"/>
          </a:solid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矩形 14"/>
          <p:cNvSpPr/>
          <p:nvPr/>
        </p:nvSpPr>
        <p:spPr>
          <a:xfrm>
            <a:off x="4541760" y="3614760"/>
            <a:ext cx="3219480" cy="61920"/>
          </a:xfrm>
          <a:prstGeom prst="rect">
            <a:avLst/>
          </a:prstGeom>
          <a:solidFill>
            <a:srgbClr val="f44168"/>
          </a:solid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矩形 15"/>
          <p:cNvSpPr/>
          <p:nvPr/>
        </p:nvSpPr>
        <p:spPr>
          <a:xfrm>
            <a:off x="8034480" y="3614760"/>
            <a:ext cx="3219480" cy="61920"/>
          </a:xfrm>
          <a:prstGeom prst="rect">
            <a:avLst/>
          </a:prstGeom>
          <a:solidFill>
            <a:srgbClr val="f44168"/>
          </a:solid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矩形 16"/>
          <p:cNvSpPr/>
          <p:nvPr/>
        </p:nvSpPr>
        <p:spPr>
          <a:xfrm>
            <a:off x="1049400" y="6081840"/>
            <a:ext cx="3219480" cy="63360"/>
          </a:xfrm>
          <a:prstGeom prst="rect">
            <a:avLst/>
          </a:prstGeom>
          <a:solidFill>
            <a:srgbClr val="f44168"/>
          </a:solidFill>
          <a:ln w="0">
            <a:noFill/>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矩形 17"/>
          <p:cNvSpPr/>
          <p:nvPr/>
        </p:nvSpPr>
        <p:spPr>
          <a:xfrm>
            <a:off x="4541760" y="6081840"/>
            <a:ext cx="3219480" cy="63360"/>
          </a:xfrm>
          <a:prstGeom prst="rect">
            <a:avLst/>
          </a:prstGeom>
          <a:solidFill>
            <a:srgbClr val="f44168"/>
          </a:solidFill>
          <a:ln w="0">
            <a:noFill/>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矩形 18"/>
          <p:cNvSpPr/>
          <p:nvPr/>
        </p:nvSpPr>
        <p:spPr>
          <a:xfrm>
            <a:off x="8034480" y="6081840"/>
            <a:ext cx="3219480" cy="63360"/>
          </a:xfrm>
          <a:prstGeom prst="rect">
            <a:avLst/>
          </a:prstGeom>
          <a:solidFill>
            <a:srgbClr val="f44168"/>
          </a:solidFill>
          <a:ln w="0">
            <a:noFill/>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5" name="Picture 2" descr="http://www.jfbmt.com/public/uploads/thumb_20140809085405_557.gif"/>
          <p:cNvPicPr/>
          <p:nvPr/>
        </p:nvPicPr>
        <p:blipFill>
          <a:blip r:embed="rId7"/>
          <a:srcRect l="12006" t="3668" r="13186" b="2846"/>
          <a:stretch/>
        </p:blipFill>
        <p:spPr>
          <a:xfrm>
            <a:off x="1049400" y="1353960"/>
            <a:ext cx="3219480" cy="2259360"/>
          </a:xfrm>
          <a:prstGeom prst="rect">
            <a:avLst/>
          </a:prstGeom>
          <a:ln w="0">
            <a:noFill/>
          </a:ln>
        </p:spPr>
      </p:pic>
      <p:pic>
        <p:nvPicPr>
          <p:cNvPr id="336" name="Picture 2" descr="http://www.jfbmt.com/public/uploads/thumb_20140809085405_557.gif"/>
          <p:cNvPicPr/>
          <p:nvPr/>
        </p:nvPicPr>
        <p:blipFill>
          <a:blip r:embed="rId8"/>
          <a:srcRect l="12006" t="3668" r="13186" b="2846"/>
          <a:stretch/>
        </p:blipFill>
        <p:spPr>
          <a:xfrm>
            <a:off x="4541760" y="1353960"/>
            <a:ext cx="3219480" cy="2259360"/>
          </a:xfrm>
          <a:prstGeom prst="rect">
            <a:avLst/>
          </a:prstGeom>
          <a:ln w="0">
            <a:noFill/>
          </a:ln>
        </p:spPr>
      </p:pic>
      <p:pic>
        <p:nvPicPr>
          <p:cNvPr id="337" name="Picture 2" descr="http://www.jfbmt.com/public/uploads/thumb_20140809085405_557.gif"/>
          <p:cNvPicPr/>
          <p:nvPr/>
        </p:nvPicPr>
        <p:blipFill>
          <a:blip r:embed="rId9"/>
          <a:srcRect l="12006" t="3668" r="13186" b="2846"/>
          <a:stretch/>
        </p:blipFill>
        <p:spPr>
          <a:xfrm>
            <a:off x="1049400" y="3821040"/>
            <a:ext cx="3219480" cy="2260800"/>
          </a:xfrm>
          <a:prstGeom prst="rect">
            <a:avLst/>
          </a:prstGeom>
          <a:ln w="0">
            <a:noFill/>
          </a:ln>
        </p:spPr>
      </p:pic>
      <p:pic>
        <p:nvPicPr>
          <p:cNvPr id="338" name="Picture 2" descr="http://www.jfbmt.com/public/uploads/thumb_20140809085405_557.gif"/>
          <p:cNvPicPr/>
          <p:nvPr/>
        </p:nvPicPr>
        <p:blipFill>
          <a:blip r:embed="rId10"/>
          <a:srcRect l="12006" t="3668" r="13186" b="2846"/>
          <a:stretch/>
        </p:blipFill>
        <p:spPr>
          <a:xfrm>
            <a:off x="4541760" y="3821040"/>
            <a:ext cx="3219480" cy="2260800"/>
          </a:xfrm>
          <a:prstGeom prst="rect">
            <a:avLst/>
          </a:prstGeom>
          <a:ln w="0">
            <a:noFill/>
          </a:ln>
        </p:spPr>
      </p:pic>
      <p:pic>
        <p:nvPicPr>
          <p:cNvPr id="339" name="Picture 2" descr="http://www.jfbmt.com/public/uploads/thumb_20140809085405_557.gif"/>
          <p:cNvPicPr/>
          <p:nvPr/>
        </p:nvPicPr>
        <p:blipFill>
          <a:blip r:embed="rId11"/>
          <a:srcRect l="12006" t="3668" r="13186" b="2846"/>
          <a:stretch/>
        </p:blipFill>
        <p:spPr>
          <a:xfrm>
            <a:off x="8034480" y="1353960"/>
            <a:ext cx="3219480" cy="2259360"/>
          </a:xfrm>
          <a:prstGeom prst="rect">
            <a:avLst/>
          </a:prstGeom>
          <a:ln w="0">
            <a:noFill/>
          </a:ln>
        </p:spPr>
      </p:pic>
      <p:pic>
        <p:nvPicPr>
          <p:cNvPr id="340" name="Picture 2" descr="http://www.jfbmt.com/public/uploads/thumb_20140809085405_557.gif"/>
          <p:cNvPicPr/>
          <p:nvPr/>
        </p:nvPicPr>
        <p:blipFill>
          <a:blip r:embed="rId12"/>
          <a:srcRect l="12006" t="3668" r="13186" b="2846"/>
          <a:stretch/>
        </p:blipFill>
        <p:spPr>
          <a:xfrm>
            <a:off x="8034480" y="3821040"/>
            <a:ext cx="3219480" cy="2260800"/>
          </a:xfrm>
          <a:prstGeom prst="rect">
            <a:avLst/>
          </a:prstGeom>
          <a:ln w="0">
            <a:noFill/>
          </a:ln>
        </p:spPr>
      </p:pic>
      <p:sp>
        <p:nvSpPr>
          <p:cNvPr id="341" name="文本框 26"/>
          <p:cNvSpPr/>
          <p:nvPr/>
        </p:nvSpPr>
        <p:spPr>
          <a:xfrm>
            <a:off x="711360" y="295200"/>
            <a:ext cx="17794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企业荣誉</a:t>
            </a:r>
            <a:endParaRPr b="0" lang="en-US" sz="2500" spc="-1" strike="noStrike">
              <a:solidFill>
                <a:srgbClr val="000000"/>
              </a:solidFill>
              <a:latin typeface="Arial"/>
            </a:endParaRPr>
          </a:p>
        </p:txBody>
      </p:sp>
      <p:sp>
        <p:nvSpPr>
          <p:cNvPr id="342" name="椭圆 27"/>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椭圆 1"/>
          <p:cNvSpPr/>
          <p:nvPr/>
        </p:nvSpPr>
        <p:spPr>
          <a:xfrm>
            <a:off x="4703760" y="1496880"/>
            <a:ext cx="2664000" cy="266400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文本框 9"/>
          <p:cNvSpPr/>
          <p:nvPr/>
        </p:nvSpPr>
        <p:spPr>
          <a:xfrm>
            <a:off x="4846680" y="1581120"/>
            <a:ext cx="2441520" cy="2623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600" spc="-1" strike="noStrike">
                <a:solidFill>
                  <a:srgbClr val="ffffff"/>
                </a:solidFill>
                <a:latin typeface="Arial"/>
                <a:ea typeface="微软雅黑"/>
              </a:rPr>
              <a:t>2</a:t>
            </a:r>
            <a:endParaRPr b="0" lang="en-US" sz="16600" spc="-1" strike="noStrike">
              <a:solidFill>
                <a:srgbClr val="000000"/>
              </a:solidFill>
              <a:latin typeface="Arial"/>
            </a:endParaRPr>
          </a:p>
        </p:txBody>
      </p:sp>
      <p:sp>
        <p:nvSpPr>
          <p:cNvPr id="345" name="文本框 10"/>
          <p:cNvSpPr/>
          <p:nvPr/>
        </p:nvSpPr>
        <p:spPr>
          <a:xfrm>
            <a:off x="3139920" y="4498920"/>
            <a:ext cx="596268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1d087d"/>
                </a:solidFill>
                <a:latin typeface="Arial"/>
                <a:ea typeface="微软雅黑"/>
              </a:rPr>
              <a:t>项目简介</a:t>
            </a:r>
            <a:endParaRPr b="0" lang="en-US" sz="5000" spc="-1" strike="noStrike">
              <a:solidFill>
                <a:srgbClr val="000000"/>
              </a:solidFill>
              <a:latin typeface="Arial"/>
            </a:endParaRPr>
          </a:p>
        </p:txBody>
      </p:sp>
      <p:sp>
        <p:nvSpPr>
          <p:cNvPr id="346" name="文本框 11"/>
          <p:cNvSpPr/>
          <p:nvPr/>
        </p:nvSpPr>
        <p:spPr>
          <a:xfrm>
            <a:off x="3525840" y="550404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行业前景</a:t>
            </a:r>
            <a:endParaRPr b="0" lang="en-US" sz="1400" spc="-1" strike="noStrike">
              <a:solidFill>
                <a:srgbClr val="000000"/>
              </a:solidFill>
              <a:latin typeface="Arial"/>
            </a:endParaRPr>
          </a:p>
        </p:txBody>
      </p:sp>
      <p:sp>
        <p:nvSpPr>
          <p:cNvPr id="347" name="文本框 12"/>
          <p:cNvSpPr/>
          <p:nvPr/>
        </p:nvSpPr>
        <p:spPr>
          <a:xfrm>
            <a:off x="5018400" y="550404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需求分析</a:t>
            </a:r>
            <a:endParaRPr b="0" lang="en-US" sz="1400" spc="-1" strike="noStrike">
              <a:solidFill>
                <a:srgbClr val="000000"/>
              </a:solidFill>
              <a:latin typeface="Arial"/>
            </a:endParaRPr>
          </a:p>
        </p:txBody>
      </p:sp>
      <p:sp>
        <p:nvSpPr>
          <p:cNvPr id="348" name="文本框 13"/>
          <p:cNvSpPr/>
          <p:nvPr/>
        </p:nvSpPr>
        <p:spPr>
          <a:xfrm>
            <a:off x="6510600" y="550404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竞争对手</a:t>
            </a:r>
            <a:endParaRPr b="0" lang="en-US" sz="1400" spc="-1" strike="noStrike">
              <a:solidFill>
                <a:srgbClr val="000000"/>
              </a:solidFill>
              <a:latin typeface="Arial"/>
            </a:endParaRPr>
          </a:p>
        </p:txBody>
      </p:sp>
      <p:sp>
        <p:nvSpPr>
          <p:cNvPr id="349" name="文本框 14"/>
          <p:cNvSpPr/>
          <p:nvPr/>
        </p:nvSpPr>
        <p:spPr>
          <a:xfrm>
            <a:off x="8039160" y="5504040"/>
            <a:ext cx="10573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我们的优势</a:t>
            </a:r>
            <a:endParaRPr b="0" lang="en-US" sz="1400" spc="-1" strike="noStrike">
              <a:solidFill>
                <a:srgbClr val="000000"/>
              </a:solidFill>
              <a:latin typeface="Arial"/>
            </a:endParaRPr>
          </a:p>
        </p:txBody>
      </p:sp>
      <p:sp>
        <p:nvSpPr>
          <p:cNvPr id="350" name="任意多边形 62"/>
          <p:cNvSpPr/>
          <p:nvPr/>
        </p:nvSpPr>
        <p:spPr>
          <a:xfrm rot="20566200">
            <a:off x="-279000" y="223560"/>
            <a:ext cx="2324160" cy="1528560"/>
          </a:xfrm>
          <a:custGeom>
            <a:avLst/>
            <a:gdLst/>
            <a:ahLst/>
            <a:rect l="l" t="t" r="r" b="b"/>
            <a:pathLst>
              <a:path w="2323118" h="1529480">
                <a:moveTo>
                  <a:pt x="2317575" y="102737"/>
                </a:moveTo>
                <a:lnTo>
                  <a:pt x="2323118" y="425547"/>
                </a:lnTo>
                <a:lnTo>
                  <a:pt x="2296920" y="439788"/>
                </a:lnTo>
                <a:lnTo>
                  <a:pt x="2223125" y="431167"/>
                </a:lnTo>
                <a:cubicBezTo>
                  <a:pt x="2141233" y="423668"/>
                  <a:pt x="2059351" y="418279"/>
                  <a:pt x="1977371" y="415108"/>
                </a:cubicBezTo>
                <a:cubicBezTo>
                  <a:pt x="1876471" y="475973"/>
                  <a:pt x="1769267" y="536838"/>
                  <a:pt x="1662062" y="597703"/>
                </a:cubicBezTo>
                <a:cubicBezTo>
                  <a:pt x="1287388" y="814058"/>
                  <a:pt x="411441" y="1301159"/>
                  <a:pt x="15270" y="1521009"/>
                </a:cubicBezTo>
                <a:lnTo>
                  <a:pt x="0" y="1529480"/>
                </a:lnTo>
                <a:lnTo>
                  <a:pt x="430040" y="143265"/>
                </a:lnTo>
                <a:lnTo>
                  <a:pt x="454203" y="136369"/>
                </a:lnTo>
                <a:cubicBezTo>
                  <a:pt x="734554" y="63365"/>
                  <a:pt x="1091519" y="74"/>
                  <a:pt x="1486696" y="1"/>
                </a:cubicBezTo>
                <a:cubicBezTo>
                  <a:pt x="1702248" y="-39"/>
                  <a:pt x="1929168" y="18730"/>
                  <a:pt x="2161227" y="64990"/>
                </a:cubicBezTo>
                <a:lnTo>
                  <a:pt x="2317575" y="102737"/>
                </a:lnTo>
                <a:close/>
              </a:path>
            </a:pathLst>
          </a:custGeom>
          <a:solidFill>
            <a:srgbClr val="5b9bd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任意多边形 63"/>
          <p:cNvSpPr/>
          <p:nvPr/>
        </p:nvSpPr>
        <p:spPr>
          <a:xfrm rot="20566200">
            <a:off x="-23400" y="-983880"/>
            <a:ext cx="6703920" cy="2071800"/>
          </a:xfrm>
          <a:custGeom>
            <a:avLst/>
            <a:gdLst/>
            <a:ahLst/>
            <a:rect l="l" t="t" r="r" b="b"/>
            <a:pathLst>
              <a:path w="6704685" h="2071005">
                <a:moveTo>
                  <a:pt x="188959" y="0"/>
                </a:moveTo>
                <a:lnTo>
                  <a:pt x="6704685" y="2021348"/>
                </a:lnTo>
                <a:lnTo>
                  <a:pt x="6604717" y="2042571"/>
                </a:lnTo>
                <a:cubicBezTo>
                  <a:pt x="5918488" y="2161151"/>
                  <a:pt x="5342064" y="1885828"/>
                  <a:pt x="4630497" y="1641590"/>
                </a:cubicBezTo>
                <a:cubicBezTo>
                  <a:pt x="3810972" y="1367535"/>
                  <a:pt x="3312951" y="966603"/>
                  <a:pt x="1976496" y="591046"/>
                </a:cubicBezTo>
                <a:cubicBezTo>
                  <a:pt x="1245621" y="382889"/>
                  <a:pt x="543027" y="470705"/>
                  <a:pt x="56366" y="593029"/>
                </a:cubicBezTo>
                <a:lnTo>
                  <a:pt x="0" y="609101"/>
                </a:lnTo>
                <a:lnTo>
                  <a:pt x="188959" y="0"/>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任意多边形 18"/>
          <p:cNvSpPr/>
          <p:nvPr/>
        </p:nvSpPr>
        <p:spPr>
          <a:xfrm rot="20566200">
            <a:off x="-353880" y="223560"/>
            <a:ext cx="5257800" cy="1430280"/>
          </a:xfrm>
          <a:custGeom>
            <a:avLst/>
            <a:gdLst/>
            <a:ahLst/>
            <a:rect l="l" t="t" r="r" b="b"/>
            <a:pathLst>
              <a:path w="4587618" h="1555835">
                <a:moveTo>
                  <a:pt x="1825852" y="0"/>
                </a:moveTo>
                <a:cubicBezTo>
                  <a:pt x="2398011" y="27582"/>
                  <a:pt x="2964668" y="209619"/>
                  <a:pt x="3575337" y="485432"/>
                </a:cubicBezTo>
                <a:cubicBezTo>
                  <a:pt x="4064973" y="700566"/>
                  <a:pt x="4362056" y="821924"/>
                  <a:pt x="4587618" y="910184"/>
                </a:cubicBezTo>
                <a:cubicBezTo>
                  <a:pt x="4169502" y="755729"/>
                  <a:pt x="3377282" y="490948"/>
                  <a:pt x="2898649" y="474399"/>
                </a:cubicBezTo>
                <a:cubicBezTo>
                  <a:pt x="2233309" y="453713"/>
                  <a:pt x="1142459" y="675441"/>
                  <a:pt x="138343" y="1444116"/>
                </a:cubicBezTo>
                <a:lnTo>
                  <a:pt x="0" y="1555835"/>
                </a:lnTo>
                <a:lnTo>
                  <a:pt x="0" y="1281649"/>
                </a:lnTo>
                <a:lnTo>
                  <a:pt x="50814" y="1246526"/>
                </a:lnTo>
                <a:cubicBezTo>
                  <a:pt x="355891" y="1035594"/>
                  <a:pt x="1202116" y="449576"/>
                  <a:pt x="1550775" y="198586"/>
                </a:cubicBezTo>
                <a:cubicBezTo>
                  <a:pt x="1644301" y="132391"/>
                  <a:pt x="1737827" y="66195"/>
                  <a:pt x="1825852" y="0"/>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任意多边形 64"/>
          <p:cNvSpPr/>
          <p:nvPr/>
        </p:nvSpPr>
        <p:spPr>
          <a:xfrm rot="20566200">
            <a:off x="-140760" y="210960"/>
            <a:ext cx="2158920" cy="628920"/>
          </a:xfrm>
          <a:custGeom>
            <a:avLst/>
            <a:gdLst/>
            <a:ahLst/>
            <a:rect l="l" t="t" r="r" b="b"/>
            <a:pathLst>
              <a:path w="2158651" h="628090">
                <a:moveTo>
                  <a:pt x="2140041" y="128253"/>
                </a:moveTo>
                <a:cubicBezTo>
                  <a:pt x="2145705" y="130155"/>
                  <a:pt x="2152178" y="132691"/>
                  <a:pt x="2158651" y="135227"/>
                </a:cubicBezTo>
                <a:cubicBezTo>
                  <a:pt x="2003303" y="201167"/>
                  <a:pt x="1847955" y="292469"/>
                  <a:pt x="1686135" y="388843"/>
                </a:cubicBezTo>
                <a:cubicBezTo>
                  <a:pt x="1466058" y="378698"/>
                  <a:pt x="1252454" y="383770"/>
                  <a:pt x="1032379" y="409132"/>
                </a:cubicBezTo>
                <a:cubicBezTo>
                  <a:pt x="640216" y="448363"/>
                  <a:pt x="295857" y="533483"/>
                  <a:pt x="30627" y="617813"/>
                </a:cubicBezTo>
                <a:lnTo>
                  <a:pt x="0" y="628090"/>
                </a:lnTo>
                <a:lnTo>
                  <a:pt x="155241" y="127677"/>
                </a:lnTo>
                <a:lnTo>
                  <a:pt x="198115" y="116675"/>
                </a:lnTo>
                <a:cubicBezTo>
                  <a:pt x="461534" y="54924"/>
                  <a:pt x="782138" y="4269"/>
                  <a:pt x="1133720" y="257"/>
                </a:cubicBezTo>
                <a:cubicBezTo>
                  <a:pt x="1446235" y="-3310"/>
                  <a:pt x="1783227" y="29978"/>
                  <a:pt x="2126287" y="125082"/>
                </a:cubicBezTo>
                <a:cubicBezTo>
                  <a:pt x="2129523" y="125082"/>
                  <a:pt x="2134378" y="126351"/>
                  <a:pt x="2140041" y="128253"/>
                </a:cubicBezTo>
                <a:close/>
              </a:path>
            </a:pathLst>
          </a:custGeom>
          <a:solidFill>
            <a:srgbClr val="133c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任意多边形 49"/>
          <p:cNvSpPr/>
          <p:nvPr/>
        </p:nvSpPr>
        <p:spPr>
          <a:xfrm rot="20566200">
            <a:off x="1573200" y="-371520"/>
            <a:ext cx="3489480" cy="1187640"/>
          </a:xfrm>
          <a:custGeom>
            <a:avLst/>
            <a:gdLst/>
            <a:ahLst/>
            <a:rect l="l" t="t" r="r" b="b"/>
            <a:pathLst>
              <a:path w="3488546" h="1188055">
                <a:moveTo>
                  <a:pt x="915831" y="141330"/>
                </a:moveTo>
                <a:cubicBezTo>
                  <a:pt x="1900526" y="471561"/>
                  <a:pt x="2370683" y="800820"/>
                  <a:pt x="3082125" y="1040686"/>
                </a:cubicBezTo>
                <a:cubicBezTo>
                  <a:pt x="3214486" y="1086374"/>
                  <a:pt x="3340544" y="1132063"/>
                  <a:pt x="3466603" y="1177752"/>
                </a:cubicBezTo>
                <a:cubicBezTo>
                  <a:pt x="3472905" y="1182828"/>
                  <a:pt x="3472905" y="1182828"/>
                  <a:pt x="3472905" y="1182828"/>
                </a:cubicBezTo>
                <a:cubicBezTo>
                  <a:pt x="3535935" y="1203134"/>
                  <a:pt x="3403573" y="1162522"/>
                  <a:pt x="3164063" y="1091451"/>
                </a:cubicBezTo>
                <a:cubicBezTo>
                  <a:pt x="2905643" y="1010227"/>
                  <a:pt x="2565286" y="898543"/>
                  <a:pt x="2004327" y="700559"/>
                </a:cubicBezTo>
                <a:cubicBezTo>
                  <a:pt x="1304703" y="446733"/>
                  <a:pt x="655504" y="279208"/>
                  <a:pt x="0" y="253826"/>
                </a:cubicBezTo>
                <a:cubicBezTo>
                  <a:pt x="157573" y="157372"/>
                  <a:pt x="308843" y="65995"/>
                  <a:pt x="460113" y="0"/>
                </a:cubicBezTo>
                <a:cubicBezTo>
                  <a:pt x="623989" y="46958"/>
                  <a:pt x="775160" y="94154"/>
                  <a:pt x="915831" y="141330"/>
                </a:cubicBez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任意多边形 52"/>
          <p:cNvSpPr/>
          <p:nvPr/>
        </p:nvSpPr>
        <p:spPr>
          <a:xfrm rot="20566200">
            <a:off x="2018880" y="-457200"/>
            <a:ext cx="3006720" cy="1198440"/>
          </a:xfrm>
          <a:custGeom>
            <a:avLst/>
            <a:gdLst/>
            <a:ahLst/>
            <a:rect l="l" t="t" r="r" b="b"/>
            <a:pathLst>
              <a:path w="3006843" h="1197358">
                <a:moveTo>
                  <a:pt x="52925" y="0"/>
                </a:moveTo>
                <a:lnTo>
                  <a:pt x="1994447" y="602310"/>
                </a:lnTo>
                <a:lnTo>
                  <a:pt x="2077534" y="658745"/>
                </a:lnTo>
                <a:cubicBezTo>
                  <a:pt x="2513187" y="949930"/>
                  <a:pt x="2846887" y="1139662"/>
                  <a:pt x="3006843" y="1197358"/>
                </a:cubicBezTo>
                <a:cubicBezTo>
                  <a:pt x="2880769" y="1151709"/>
                  <a:pt x="2754696" y="1106059"/>
                  <a:pt x="2622320" y="1060409"/>
                </a:cubicBezTo>
                <a:cubicBezTo>
                  <a:pt x="1809148" y="786511"/>
                  <a:pt x="1311160" y="395953"/>
                  <a:pt x="0" y="20611"/>
                </a:cubicBezTo>
                <a:lnTo>
                  <a:pt x="52925" y="0"/>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任意多边形 73"/>
          <p:cNvSpPr/>
          <p:nvPr/>
        </p:nvSpPr>
        <p:spPr>
          <a:xfrm flipH="1" rot="9364200">
            <a:off x="8886600" y="6077880"/>
            <a:ext cx="3549240" cy="1394280"/>
          </a:xfrm>
          <a:custGeom>
            <a:avLst/>
            <a:gdLst/>
            <a:ahLst/>
            <a:rect l="l" t="t" r="r" b="b"/>
            <a:pathLst>
              <a:path w="3550068" h="1393897">
                <a:moveTo>
                  <a:pt x="3550068" y="923786"/>
                </a:moveTo>
                <a:lnTo>
                  <a:pt x="3139982" y="0"/>
                </a:lnTo>
                <a:lnTo>
                  <a:pt x="0" y="1393897"/>
                </a:lnTo>
                <a:lnTo>
                  <a:pt x="196024" y="1330131"/>
                </a:lnTo>
                <a:cubicBezTo>
                  <a:pt x="735473" y="1158044"/>
                  <a:pt x="1224713" y="1013880"/>
                  <a:pt x="1521185" y="956786"/>
                </a:cubicBezTo>
                <a:cubicBezTo>
                  <a:pt x="2077070" y="853302"/>
                  <a:pt x="2714911" y="789961"/>
                  <a:pt x="3390379" y="895551"/>
                </a:cubicBezTo>
                <a:lnTo>
                  <a:pt x="3550068" y="923786"/>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任意多边形 70"/>
          <p:cNvSpPr/>
          <p:nvPr/>
        </p:nvSpPr>
        <p:spPr>
          <a:xfrm flipH="1" rot="9364200">
            <a:off x="7254000" y="5492160"/>
            <a:ext cx="5345280" cy="879480"/>
          </a:xfrm>
          <a:custGeom>
            <a:avLst/>
            <a:gdLst/>
            <a:ahLst/>
            <a:rect l="l" t="t" r="r" b="b"/>
            <a:pathLst>
              <a:path w="5345340" h="878460">
                <a:moveTo>
                  <a:pt x="5345340" y="878460"/>
                </a:moveTo>
                <a:lnTo>
                  <a:pt x="5133072" y="400291"/>
                </a:lnTo>
                <a:lnTo>
                  <a:pt x="5062613" y="374624"/>
                </a:lnTo>
                <a:cubicBezTo>
                  <a:pt x="4583216" y="206134"/>
                  <a:pt x="3721964" y="-20430"/>
                  <a:pt x="2598567" y="1477"/>
                </a:cubicBezTo>
                <a:cubicBezTo>
                  <a:pt x="2190061" y="9443"/>
                  <a:pt x="1746890" y="50264"/>
                  <a:pt x="1274811" y="138681"/>
                </a:cubicBezTo>
                <a:cubicBezTo>
                  <a:pt x="784008" y="255303"/>
                  <a:pt x="331451" y="387136"/>
                  <a:pt x="0" y="488547"/>
                </a:cubicBezTo>
                <a:cubicBezTo>
                  <a:pt x="2729390" y="-289262"/>
                  <a:pt x="4678149" y="529750"/>
                  <a:pt x="5290359" y="849197"/>
                </a:cubicBezTo>
                <a:lnTo>
                  <a:pt x="5345340" y="878460"/>
                </a:lnTo>
                <a:close/>
              </a:path>
            </a:pathLst>
          </a:custGeom>
          <a:solidFill>
            <a:srgbClr val="f0f6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任意多边形 71"/>
          <p:cNvSpPr/>
          <p:nvPr/>
        </p:nvSpPr>
        <p:spPr>
          <a:xfrm flipH="1" rot="9364200">
            <a:off x="8616960" y="5725440"/>
            <a:ext cx="3857760" cy="577800"/>
          </a:xfrm>
          <a:custGeom>
            <a:avLst/>
            <a:gdLst/>
            <a:ahLst/>
            <a:rect l="l" t="t" r="r" b="b"/>
            <a:pathLst>
              <a:path w="3857872" h="578054">
                <a:moveTo>
                  <a:pt x="3857872" y="578054"/>
                </a:moveTo>
                <a:lnTo>
                  <a:pt x="3672428" y="160309"/>
                </a:lnTo>
                <a:lnTo>
                  <a:pt x="3635124" y="152043"/>
                </a:lnTo>
                <a:cubicBezTo>
                  <a:pt x="3163198" y="55309"/>
                  <a:pt x="2591917" y="-13833"/>
                  <a:pt x="1971077" y="2356"/>
                </a:cubicBezTo>
                <a:cubicBezTo>
                  <a:pt x="1670063" y="10205"/>
                  <a:pt x="1357399" y="38114"/>
                  <a:pt x="1038761" y="92663"/>
                </a:cubicBezTo>
                <a:cubicBezTo>
                  <a:pt x="701004" y="148481"/>
                  <a:pt x="337756" y="229669"/>
                  <a:pt x="0" y="315932"/>
                </a:cubicBezTo>
                <a:cubicBezTo>
                  <a:pt x="1789602" y="-19567"/>
                  <a:pt x="3163695" y="329714"/>
                  <a:pt x="3808558" y="559676"/>
                </a:cubicBezTo>
                <a:lnTo>
                  <a:pt x="3857872" y="578054"/>
                </a:lnTo>
                <a:close/>
              </a:path>
            </a:pathLst>
          </a:custGeom>
          <a:solidFill>
            <a:srgbClr val="f37a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任意多边形 72"/>
          <p:cNvSpPr/>
          <p:nvPr/>
        </p:nvSpPr>
        <p:spPr>
          <a:xfrm flipH="1" rot="9364200">
            <a:off x="8353080" y="6003720"/>
            <a:ext cx="4060440" cy="704520"/>
          </a:xfrm>
          <a:custGeom>
            <a:avLst/>
            <a:gdLst/>
            <a:ahLst/>
            <a:rect l="l" t="t" r="r" b="b"/>
            <a:pathLst>
              <a:path w="4061006" h="704548">
                <a:moveTo>
                  <a:pt x="4061006" y="468777"/>
                </a:moveTo>
                <a:lnTo>
                  <a:pt x="3889182" y="81715"/>
                </a:lnTo>
                <a:lnTo>
                  <a:pt x="3816648" y="67185"/>
                </a:lnTo>
                <a:cubicBezTo>
                  <a:pt x="3757237" y="56688"/>
                  <a:pt x="3698190" y="47651"/>
                  <a:pt x="3639591" y="40041"/>
                </a:cubicBezTo>
                <a:cubicBezTo>
                  <a:pt x="3398021" y="7700"/>
                  <a:pt x="3161832" y="-3239"/>
                  <a:pt x="2933043" y="803"/>
                </a:cubicBezTo>
                <a:cubicBezTo>
                  <a:pt x="2551728" y="7541"/>
                  <a:pt x="2190968" y="55895"/>
                  <a:pt x="1860105" y="116140"/>
                </a:cubicBezTo>
                <a:cubicBezTo>
                  <a:pt x="1809078" y="126287"/>
                  <a:pt x="1758053" y="136433"/>
                  <a:pt x="1700652" y="151652"/>
                </a:cubicBezTo>
                <a:cubicBezTo>
                  <a:pt x="1423205" y="215067"/>
                  <a:pt x="1043708" y="326679"/>
                  <a:pt x="629133" y="457949"/>
                </a:cubicBezTo>
                <a:lnTo>
                  <a:pt x="353750" y="547512"/>
                </a:lnTo>
                <a:lnTo>
                  <a:pt x="0" y="704548"/>
                </a:lnTo>
                <a:lnTo>
                  <a:pt x="131941" y="673879"/>
                </a:lnTo>
                <a:cubicBezTo>
                  <a:pt x="217347" y="655489"/>
                  <a:pt x="302255" y="638683"/>
                  <a:pt x="386765" y="623464"/>
                </a:cubicBezTo>
                <a:cubicBezTo>
                  <a:pt x="724803" y="537219"/>
                  <a:pt x="1088355" y="456047"/>
                  <a:pt x="1426393" y="400241"/>
                </a:cubicBezTo>
                <a:cubicBezTo>
                  <a:pt x="2323312" y="246855"/>
                  <a:pt x="3172932" y="304152"/>
                  <a:pt x="3848879" y="425758"/>
                </a:cubicBezTo>
                <a:lnTo>
                  <a:pt x="4061006" y="468777"/>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稻壳儿小白白(http://dwz.cn/Wu2UP)"/>
          <p:cNvSpPr/>
          <p:nvPr/>
        </p:nvSpPr>
        <p:spPr>
          <a:xfrm>
            <a:off x="2608200" y="1298520"/>
            <a:ext cx="1949400" cy="3224160"/>
          </a:xfrm>
          <a:prstGeom prst="pi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 </a:t>
            </a:r>
            <a:endParaRPr b="0" lang="en-US" sz="1200" spc="-1" strike="noStrike">
              <a:solidFill>
                <a:srgbClr val="000000"/>
              </a:solidFill>
              <a:latin typeface="Arial"/>
            </a:endParaRPr>
          </a:p>
        </p:txBody>
      </p:sp>
      <p:sp>
        <p:nvSpPr>
          <p:cNvPr id="361" name="稻壳儿小白白(http://dwz.cn/Wu2UP)"/>
          <p:cNvSpPr/>
          <p:nvPr/>
        </p:nvSpPr>
        <p:spPr>
          <a:xfrm rot="5400000">
            <a:off x="1986840" y="4120200"/>
            <a:ext cx="1265040" cy="2105280"/>
          </a:xfrm>
          <a:custGeom>
            <a:avLst/>
            <a:gdLst/>
            <a:ahLst/>
            <a:rect l="l" t="t" r="r" b="b"/>
            <a:pathLst>
              <a:path w="1265436" h="2105657">
                <a:moveTo>
                  <a:pt x="0" y="0"/>
                </a:moveTo>
                <a:lnTo>
                  <a:pt x="203862" y="0"/>
                </a:lnTo>
                <a:lnTo>
                  <a:pt x="203862" y="1901669"/>
                </a:lnTo>
                <a:lnTo>
                  <a:pt x="1265436" y="1901669"/>
                </a:lnTo>
                <a:lnTo>
                  <a:pt x="1265436" y="2105657"/>
                </a:lnTo>
                <a:lnTo>
                  <a:pt x="0" y="2105657"/>
                </a:lnTo>
                <a:lnTo>
                  <a:pt x="0" y="0"/>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稻壳儿小白白(http://dwz.cn/Wu2UP)"/>
          <p:cNvSpPr/>
          <p:nvPr/>
        </p:nvSpPr>
        <p:spPr>
          <a:xfrm>
            <a:off x="3317760" y="3963960"/>
            <a:ext cx="358920" cy="358920"/>
          </a:xfrm>
          <a:prstGeom prst="triangle">
            <a:avLst>
              <a:gd name="adj" fmla="val 100000"/>
            </a:avLst>
          </a:prstGeom>
          <a:solidFill>
            <a:srgbClr val="1d08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稻壳儿小白白(http://dwz.cn/Wu2UP)"/>
          <p:cNvSpPr/>
          <p:nvPr/>
        </p:nvSpPr>
        <p:spPr>
          <a:xfrm rot="5400000">
            <a:off x="4313520" y="3544200"/>
            <a:ext cx="1265400" cy="2104920"/>
          </a:xfrm>
          <a:custGeom>
            <a:avLst/>
            <a:gdLst/>
            <a:ahLst/>
            <a:rect l="l" t="t" r="r" b="b"/>
            <a:pathLst>
              <a:path w="1265436" h="2105657">
                <a:moveTo>
                  <a:pt x="0" y="0"/>
                </a:moveTo>
                <a:lnTo>
                  <a:pt x="203862" y="0"/>
                </a:lnTo>
                <a:lnTo>
                  <a:pt x="203862" y="1901669"/>
                </a:lnTo>
                <a:lnTo>
                  <a:pt x="1265436" y="1901669"/>
                </a:lnTo>
                <a:lnTo>
                  <a:pt x="1265436" y="2105657"/>
                </a:lnTo>
                <a:lnTo>
                  <a:pt x="0" y="2105657"/>
                </a:lnTo>
                <a:lnTo>
                  <a:pt x="0" y="0"/>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稻壳儿小白白(http://dwz.cn/Wu2UP)"/>
          <p:cNvSpPr/>
          <p:nvPr/>
        </p:nvSpPr>
        <p:spPr>
          <a:xfrm>
            <a:off x="5645160" y="3389400"/>
            <a:ext cx="358920" cy="357120"/>
          </a:xfrm>
          <a:prstGeom prst="triangle">
            <a:avLst>
              <a:gd name="adj" fmla="val 100000"/>
            </a:avLst>
          </a:prstGeom>
          <a:solidFill>
            <a:srgbClr val="f4416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稻壳儿小白白(http://dwz.cn/Wu2UP)"/>
          <p:cNvSpPr/>
          <p:nvPr/>
        </p:nvSpPr>
        <p:spPr>
          <a:xfrm rot="5400000">
            <a:off x="6640920" y="2967840"/>
            <a:ext cx="1265400" cy="2104920"/>
          </a:xfrm>
          <a:custGeom>
            <a:avLst/>
            <a:gdLst/>
            <a:ahLst/>
            <a:rect l="l" t="t" r="r" b="b"/>
            <a:pathLst>
              <a:path w="1265436" h="2105657">
                <a:moveTo>
                  <a:pt x="0" y="0"/>
                </a:moveTo>
                <a:lnTo>
                  <a:pt x="203862" y="0"/>
                </a:lnTo>
                <a:lnTo>
                  <a:pt x="203862" y="1901669"/>
                </a:lnTo>
                <a:lnTo>
                  <a:pt x="1265436" y="1901669"/>
                </a:lnTo>
                <a:lnTo>
                  <a:pt x="1265436" y="2105657"/>
                </a:lnTo>
                <a:lnTo>
                  <a:pt x="0" y="2105657"/>
                </a:lnTo>
                <a:lnTo>
                  <a:pt x="0" y="0"/>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稻壳儿小白白(http://dwz.cn/Wu2UP)"/>
          <p:cNvSpPr/>
          <p:nvPr/>
        </p:nvSpPr>
        <p:spPr>
          <a:xfrm>
            <a:off x="7972560" y="2813040"/>
            <a:ext cx="358560" cy="358920"/>
          </a:xfrm>
          <a:prstGeom prst="triangle">
            <a:avLst>
              <a:gd name="adj" fmla="val 100000"/>
            </a:avLst>
          </a:prstGeom>
          <a:solidFill>
            <a:srgbClr val="1d08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稻壳儿小白白(http://dwz.cn/Wu2UP)"/>
          <p:cNvSpPr/>
          <p:nvPr/>
        </p:nvSpPr>
        <p:spPr>
          <a:xfrm rot="5400000">
            <a:off x="8967960" y="2390760"/>
            <a:ext cx="1265040" cy="2106720"/>
          </a:xfrm>
          <a:custGeom>
            <a:avLst/>
            <a:gdLst/>
            <a:ahLst/>
            <a:rect l="l" t="t" r="r" b="b"/>
            <a:pathLst>
              <a:path w="1265436" h="2105657">
                <a:moveTo>
                  <a:pt x="0" y="0"/>
                </a:moveTo>
                <a:lnTo>
                  <a:pt x="203862" y="0"/>
                </a:lnTo>
                <a:lnTo>
                  <a:pt x="203862" y="1901669"/>
                </a:lnTo>
                <a:lnTo>
                  <a:pt x="1265436" y="1901669"/>
                </a:lnTo>
                <a:lnTo>
                  <a:pt x="1265436" y="2105657"/>
                </a:lnTo>
                <a:lnTo>
                  <a:pt x="0" y="2105657"/>
                </a:lnTo>
                <a:lnTo>
                  <a:pt x="0" y="0"/>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稻壳儿小白白(http://dwz.cn/Wu2UP)"/>
          <p:cNvSpPr/>
          <p:nvPr/>
        </p:nvSpPr>
        <p:spPr>
          <a:xfrm>
            <a:off x="1976400" y="4892760"/>
            <a:ext cx="2338560" cy="30528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1216080"/>
                <a:tab algn="l" pos="2432160"/>
                <a:tab algn="l" pos="3648240"/>
                <a:tab algn="l" pos="4863960"/>
                <a:tab algn="l" pos="6080040"/>
                <a:tab algn="l" pos="7296120"/>
                <a:tab algn="l" pos="8512200"/>
                <a:tab algn="l" pos="9728280"/>
                <a:tab algn="l" pos="10944360"/>
              </a:tabLst>
            </a:pPr>
            <a:r>
              <a:rPr b="1" lang="zh-CN" sz="2000" spc="-1" strike="noStrike">
                <a:solidFill>
                  <a:srgbClr val="445469"/>
                </a:solidFill>
                <a:latin typeface="Arial"/>
                <a:ea typeface="微软雅黑"/>
              </a:rPr>
              <a:t>行业前景</a:t>
            </a:r>
            <a:endParaRPr b="0" lang="en-US" sz="2000" spc="-1" strike="noStrike">
              <a:solidFill>
                <a:srgbClr val="000000"/>
              </a:solidFill>
              <a:latin typeface="Arial"/>
            </a:endParaRPr>
          </a:p>
        </p:txBody>
      </p:sp>
      <p:sp>
        <p:nvSpPr>
          <p:cNvPr id="369" name="稻壳儿小白白(http://dwz.cn/Wu2UP)"/>
          <p:cNvSpPr/>
          <p:nvPr/>
        </p:nvSpPr>
        <p:spPr>
          <a:xfrm>
            <a:off x="1976400" y="5241960"/>
            <a:ext cx="1695600" cy="42660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445469"/>
                </a:solidFill>
                <a:latin typeface="Arial"/>
                <a:ea typeface="微软雅黑"/>
              </a:rPr>
              <a:t>单击此处可编辑内容，根据您的需要自由拉伸文本框大小</a:t>
            </a:r>
            <a:endParaRPr b="0" lang="en-US" sz="1400" spc="-1" strike="noStrike">
              <a:solidFill>
                <a:srgbClr val="000000"/>
              </a:solidFill>
              <a:latin typeface="Arial"/>
            </a:endParaRPr>
          </a:p>
        </p:txBody>
      </p:sp>
      <p:sp>
        <p:nvSpPr>
          <p:cNvPr id="370" name="稻壳儿小白白(http://dwz.cn/Wu2UP)"/>
          <p:cNvSpPr/>
          <p:nvPr/>
        </p:nvSpPr>
        <p:spPr>
          <a:xfrm>
            <a:off x="4314960" y="4322880"/>
            <a:ext cx="1812960" cy="30528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1216080"/>
                <a:tab algn="l" pos="2432160"/>
                <a:tab algn="l" pos="3648240"/>
                <a:tab algn="l" pos="4863960"/>
                <a:tab algn="l" pos="6080040"/>
                <a:tab algn="l" pos="7296120"/>
                <a:tab algn="l" pos="8512200"/>
                <a:tab algn="l" pos="9728280"/>
                <a:tab algn="l" pos="10944360"/>
              </a:tabLst>
            </a:pPr>
            <a:r>
              <a:rPr b="1" lang="zh-CN" sz="2000" spc="-1" strike="noStrike">
                <a:solidFill>
                  <a:srgbClr val="445469"/>
                </a:solidFill>
                <a:latin typeface="Arial"/>
                <a:ea typeface="微软雅黑"/>
              </a:rPr>
              <a:t>行业前景</a:t>
            </a:r>
            <a:endParaRPr b="0" lang="en-US" sz="2000" spc="-1" strike="noStrike">
              <a:solidFill>
                <a:srgbClr val="000000"/>
              </a:solidFill>
              <a:latin typeface="Arial"/>
            </a:endParaRPr>
          </a:p>
        </p:txBody>
      </p:sp>
      <p:sp>
        <p:nvSpPr>
          <p:cNvPr id="371" name="稻壳儿小白白(http://dwz.cn/Wu2UP)"/>
          <p:cNvSpPr/>
          <p:nvPr/>
        </p:nvSpPr>
        <p:spPr>
          <a:xfrm>
            <a:off x="4314960" y="4672080"/>
            <a:ext cx="1695240" cy="42660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445469"/>
                </a:solidFill>
                <a:latin typeface="Arial"/>
                <a:ea typeface="微软雅黑"/>
              </a:rPr>
              <a:t>单击此处可编辑内容，根据您的需要自由拉伸文本框大小</a:t>
            </a:r>
            <a:endParaRPr b="0" lang="en-US" sz="1400" spc="-1" strike="noStrike">
              <a:solidFill>
                <a:srgbClr val="000000"/>
              </a:solidFill>
              <a:latin typeface="Arial"/>
            </a:endParaRPr>
          </a:p>
        </p:txBody>
      </p:sp>
      <p:sp>
        <p:nvSpPr>
          <p:cNvPr id="372" name="稻壳儿小白白(http://dwz.cn/Wu2UP)"/>
          <p:cNvSpPr/>
          <p:nvPr/>
        </p:nvSpPr>
        <p:spPr>
          <a:xfrm>
            <a:off x="6595920" y="3746520"/>
            <a:ext cx="1812960" cy="30528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1216080"/>
                <a:tab algn="l" pos="2432160"/>
                <a:tab algn="l" pos="3648240"/>
                <a:tab algn="l" pos="4863960"/>
                <a:tab algn="l" pos="6080040"/>
                <a:tab algn="l" pos="7296120"/>
                <a:tab algn="l" pos="8512200"/>
                <a:tab algn="l" pos="9728280"/>
                <a:tab algn="l" pos="10944360"/>
              </a:tabLst>
            </a:pPr>
            <a:r>
              <a:rPr b="1" lang="zh-CN" sz="2000" spc="-1" strike="noStrike">
                <a:solidFill>
                  <a:srgbClr val="445469"/>
                </a:solidFill>
                <a:latin typeface="Arial"/>
                <a:ea typeface="微软雅黑"/>
              </a:rPr>
              <a:t>行业前景</a:t>
            </a:r>
            <a:endParaRPr b="0" lang="en-US" sz="2000" spc="-1" strike="noStrike">
              <a:solidFill>
                <a:srgbClr val="000000"/>
              </a:solidFill>
              <a:latin typeface="Arial"/>
            </a:endParaRPr>
          </a:p>
        </p:txBody>
      </p:sp>
      <p:sp>
        <p:nvSpPr>
          <p:cNvPr id="373" name="稻壳儿小白白(http://dwz.cn/Wu2UP)"/>
          <p:cNvSpPr/>
          <p:nvPr/>
        </p:nvSpPr>
        <p:spPr>
          <a:xfrm>
            <a:off x="6595920" y="4097160"/>
            <a:ext cx="1697040" cy="42660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445469"/>
                </a:solidFill>
                <a:latin typeface="Arial"/>
                <a:ea typeface="微软雅黑"/>
              </a:rPr>
              <a:t>单击此处可编辑内容，根据您的需要自由拉伸文本框大小</a:t>
            </a:r>
            <a:endParaRPr b="0" lang="en-US" sz="1400" spc="-1" strike="noStrike">
              <a:solidFill>
                <a:srgbClr val="000000"/>
              </a:solidFill>
              <a:latin typeface="Arial"/>
            </a:endParaRPr>
          </a:p>
        </p:txBody>
      </p:sp>
      <p:sp>
        <p:nvSpPr>
          <p:cNvPr id="374" name="稻壳儿小白白(http://dwz.cn/Wu2UP)"/>
          <p:cNvSpPr/>
          <p:nvPr/>
        </p:nvSpPr>
        <p:spPr>
          <a:xfrm>
            <a:off x="8940960" y="3171960"/>
            <a:ext cx="1812600" cy="30528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1216080"/>
                <a:tab algn="l" pos="2432160"/>
                <a:tab algn="l" pos="3648240"/>
                <a:tab algn="l" pos="4863960"/>
                <a:tab algn="l" pos="6080040"/>
                <a:tab algn="l" pos="7296120"/>
                <a:tab algn="l" pos="8512200"/>
                <a:tab algn="l" pos="9728280"/>
                <a:tab algn="l" pos="10944360"/>
              </a:tabLst>
            </a:pPr>
            <a:r>
              <a:rPr b="1" lang="zh-CN" sz="2000" spc="-1" strike="noStrike">
                <a:solidFill>
                  <a:srgbClr val="445469"/>
                </a:solidFill>
                <a:latin typeface="Arial"/>
                <a:ea typeface="微软雅黑"/>
              </a:rPr>
              <a:t>行业前景</a:t>
            </a:r>
            <a:endParaRPr b="0" lang="en-US" sz="2000" spc="-1" strike="noStrike">
              <a:solidFill>
                <a:srgbClr val="000000"/>
              </a:solidFill>
              <a:latin typeface="Arial"/>
            </a:endParaRPr>
          </a:p>
        </p:txBody>
      </p:sp>
      <p:sp>
        <p:nvSpPr>
          <p:cNvPr id="375" name="稻壳儿小白白(http://dwz.cn/Wu2UP)"/>
          <p:cNvSpPr/>
          <p:nvPr/>
        </p:nvSpPr>
        <p:spPr>
          <a:xfrm>
            <a:off x="8940960" y="3521160"/>
            <a:ext cx="1695240" cy="42660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445469"/>
                </a:solidFill>
                <a:latin typeface="Arial"/>
                <a:ea typeface="微软雅黑"/>
              </a:rPr>
              <a:t>单击此处可编辑内容，根据您的需要自由拉伸文本框大小</a:t>
            </a:r>
            <a:endParaRPr b="0" lang="en-US" sz="1400" spc="-1" strike="noStrike">
              <a:solidFill>
                <a:srgbClr val="000000"/>
              </a:solidFill>
              <a:latin typeface="Arial"/>
            </a:endParaRPr>
          </a:p>
        </p:txBody>
      </p:sp>
      <p:sp>
        <p:nvSpPr>
          <p:cNvPr id="376" name="文本框 25"/>
          <p:cNvSpPr/>
          <p:nvPr/>
        </p:nvSpPr>
        <p:spPr>
          <a:xfrm>
            <a:off x="711360" y="295200"/>
            <a:ext cx="17794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行业前景</a:t>
            </a:r>
            <a:endParaRPr b="0" lang="en-US" sz="2500" spc="-1" strike="noStrike">
              <a:solidFill>
                <a:srgbClr val="000000"/>
              </a:solidFill>
              <a:latin typeface="Arial"/>
            </a:endParaRPr>
          </a:p>
        </p:txBody>
      </p:sp>
      <p:sp>
        <p:nvSpPr>
          <p:cNvPr id="377" name="椭圆 26"/>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10T05:07:58Z</dcterms:created>
  <dc:creator>Administrator</dc:creator>
  <dc:description/>
  <dc:language>en-US</dc:language>
  <cp:lastModifiedBy>Administrator</cp:lastModifiedBy>
  <dcterms:modified xsi:type="dcterms:W3CDTF">2015-09-19T11:41:49Z</dcterms:modified>
  <cp:revision>53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