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7570-3286-49A6-96D0-9B4FDCB1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740D-EE09-42EB-B235-16AFD664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47C9E-1FA7-4B75-8A73-10C52803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4E048-F4EC-48FD-B5A8-F7692FA8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50D85-E41F-4E6A-A48E-B292FC73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26094-1964-48BA-85E2-BBF2CED1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0A831-73BA-4FFC-AE2F-52EA0A47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8896A-B815-425B-8A2F-610DCD2F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0B1C0-E044-492F-8FE6-77018350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75BE2-3B6F-4D3D-A731-4E465B0B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3E2B8-310E-464C-A601-74E43C1A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F0015-9907-4A59-AD25-823E2D1C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939-D6C3-4F8B-80C1-3F69BF9C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2CE84-6A6C-4C84-A849-2A0F1A24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E496F-B71A-465E-8A1A-241A8F08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C1FDE-782D-44D5-881B-E723CC7F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FF274-6A0B-47B2-AF95-48313C62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4985D-053B-430B-AADE-0998E136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B36B2-F163-4B5B-A13C-7838B572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56500-93F9-4D8B-861A-EF83CC79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89627-3245-4FB0-98E4-C2CB10C9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CBED0-933C-42CD-BF39-D56B468E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41F4F-77CE-4ACA-B4F0-A385A290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12DC-1879-432D-8C37-4780E0C5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53CF9-D109-4B3B-963B-C9638C95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7BCC5-E56F-462A-968E-985FA4C8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2BBC5-A31C-40A4-86D0-EA84771C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E63ED-798F-4125-880C-0475F9F9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4DA9C-10F4-42F2-AC53-DA327A10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9F162-5598-49B6-B496-92DCBF7C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953E8-CE8F-402D-A72B-54113BF3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9DD0F-81F7-44C2-8A47-C0AC9463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91B64-3CC0-4AD5-BFEE-C943231D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5A17D-8BA9-46D5-B33B-861C91D7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3657-A1A8-412F-BE20-380B0D67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AA878-10BC-42CF-9931-A68191D6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F5EAA-1952-422C-9F46-613F082D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7E18E-0B37-44F8-8DBF-E86FFDA2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4463B-FEE5-420B-8F35-8DBF9583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903E1-1B7D-4770-8A83-60DEA685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83FB4-4383-4391-B919-51231749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29DCD-F58C-4826-996F-2228FECF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67FCE-BB52-4A39-A134-3A3382A8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A493F-2C85-449E-A803-E6E10638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0ADC4-2809-400D-8125-DA80A784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6CC0-9D24-4C93-B4CA-F3B65F9E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68444-1EF0-4B30-8145-55C6B156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E993B-4994-47E9-92CB-F7D09285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0B197-E501-47BE-8130-D6C0D576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A5681-550F-41E3-9BBC-E7485325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4419A-C43B-4109-B2AB-C94142BB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9B9530-CEFA-40E7-A537-3FF3B841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B13F72-BB29-4157-859A-08D00358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DF2D72-3C56-417D-8B46-0A108D2E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CA4D0-C05C-43DF-942D-DF6DA48D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A45D4-92BA-45B1-B113-A493010C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98D1-1C09-4ED6-877B-4A6C5388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DD8F4-D5C8-4E10-A848-DC633709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54700-398B-49F8-AA4B-993491AE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4879ED-9863-44C6-AA53-1A18271F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D9F4C-28C3-4CAD-9D91-98D11172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B50E1-45ED-4488-B983-08F59834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40D34-657D-44AB-9F63-F082159E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3423F8-4AC5-4492-9608-8EC34E6C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817B-7722-41AA-BEF9-9C110723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3FEE-6C4D-44DF-9D3F-91705FC5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EB00-38EE-468A-9053-A8748E86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B2E8-6DD2-4E03-9E3B-CE08BCF2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00C-C602-40B8-B5F6-E627DB3A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B015-2A55-4F77-BEA2-8179FEC1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4279-B4F4-4605-9E33-E4284B4F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A0B9-0099-4381-AAB5-99CFBE3C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37CD-5566-41E2-BD40-69A81266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A559-81D5-437C-9E8A-F604AEF7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CD76C-AF7E-4A59-A272-A7427C03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62B87-5D9C-4293-B705-10D0205D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23ED8-AF58-4814-9420-4FC29FB1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1A172-0C2E-4B3E-920A-F91B601E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4E4C6-BA33-4852-B9E3-4F858444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98E6-1424-4C3E-9641-CDB72006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E7451-B7DE-41D6-812A-7AF4ED76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5980F-6233-445F-A6D6-4C9C9DD0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A7E1D-3A7B-424D-BDE8-F105D14F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9FDEA-5899-43E5-B6BE-BCE31D05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C4958-B09B-4A9E-91A6-0C29BC7B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28584-2518-4DD7-84CA-083E8983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BD620-A7C6-4644-9118-0E4F1724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E1421-4234-48D3-A240-4762C8BA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68A21-F558-424A-9BDB-02549837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4995C-F90E-431A-8DB5-B186307B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4FF8-BA2D-4D0F-B936-DB2DEF10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3AE11-E70E-4F78-BA5D-56AB7062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D9AEB-C25A-4101-94CA-5B4E28A2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941D5-4983-428D-BC31-BD084952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791FF-FD92-46B7-B7F6-CE10A85E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F43B3-2DB1-4E19-9036-D44178E7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E5B49-3D6A-4973-8AF0-1E3BA206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55EC0-4258-4006-992F-9BCE00CC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BAE12-5F73-407E-A7B9-B6138BA1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5F82D-8850-49FD-8E34-84F262A6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067C8-9422-488F-B949-1EEE3E5D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0026-A635-43F2-AFD8-30B6F5BE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D3DE6-0062-4AD6-8B7A-7142B726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87C59-711D-46C0-A84D-C582E687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9A976-A6F7-4375-853F-59638948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C7568-D6DD-445C-972C-49596ECB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4F03A-768A-482E-964D-2CC3ED28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D6AFC-0525-41ED-9B5E-69957439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F77F0-AEC8-4702-B81B-C9E2F08F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3B634-6618-4375-963C-BF013044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5EEB9-3CC8-4F06-BEB5-0BF686A4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5FA95-D20F-4CCC-826B-EAAD181D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FFDF-8081-4181-9551-B188320E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763C6-0549-41EA-8C0F-D1F999C0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CA938-28A5-4EA0-80BE-4CA8CDAD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8F885-7401-4536-A6F4-3BE60AB1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D4616-2BC7-421C-A8BC-23781675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BE257-D075-4793-864E-73DF594E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F735C-E9C5-4634-8AC8-AF9A2371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BEC64-F976-4113-B5D2-4B5A089B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32B6A-5B4A-4313-8958-081960B8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EED42-6830-4135-A223-33CEB6EB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82F90-A07C-4DFF-AF08-9D341916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F87F-39DA-4CED-9AB0-78EE0A05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9E156-778D-4D03-AE6C-85B2260F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C677B-E994-499F-81B5-58E75CC0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3EEAD-6B42-4496-9EFF-EB904348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2DEB1-BBAA-4573-A0A8-390AFE07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D9182-09D9-4BC5-AA92-EC1DE8E7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824B7-4095-4A53-868C-FD557F39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63187-020E-49EE-8354-FD64455D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96451-8EAF-46AE-9EBD-08B7BFC3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B8B68-EE79-460B-A347-32F49197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98B66-78E2-4E12-B9E9-0140B21F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7E78-820E-40E9-8D38-B16AC824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59DF9-AFD7-484A-B928-A4761BD6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0F8EC-E426-42FC-921F-7D103D52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CE58B-25A5-42A9-8ACC-A4206853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71480-6B47-408A-B816-F1FC1CF8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D866E-361A-4057-8B9A-3BB6399A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33B04-7F8E-4E3E-95A0-01523081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32A5B-B247-4003-80FD-943DF02B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6FD70-FEAC-4CE1-B352-4B624E69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44F57-943D-4025-8F67-8F7B99B3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EE4EC-E886-47A9-B392-13E63BC5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5946-A9AE-4DB4-98A7-6DB958AE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50BB5-EC7E-41C0-900B-6BB42274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6491E-6BB8-4974-80C4-1130F2AD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464BC-A2FB-49D4-B0AC-73114A8E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19263-6714-4D44-BE1A-712F7A14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8E231-1933-483D-A318-F11A8A86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BE8D7-E23D-4596-B630-BBD7C5AB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823CA-3915-4CD0-9D17-D4F30FB6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AB3D8-66DB-4F8D-ADB7-09148B3A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7F27A-716A-4ED1-8A17-84BB88CF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B6AF8-EB2A-4065-B377-C506FCB3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055E-9B28-4691-A6B2-6E6A6D1F05F2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68D2-15F6-43A9-A170-73ED4604EF5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FD0C-8297-40B4-9A7A-00AD84C165F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FA55-0F41-4FDF-A94F-ECA775E4F58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F2DB-9EA6-4591-8718-D8EB7EA113A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0481-E6B3-4459-BAC5-21696D6283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3DDF-D1B0-4D81-9599-E9A1F4E87A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A87E-AE74-4CAE-B4B5-8F5652879D1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8DC4-D5EE-4479-839B-5DDA9A52559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2B0B-FB8F-440C-A35E-F3AA0C2A3C2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547F-2F6F-48AD-A3CF-1707A9A50FE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3060-9A1A-4444-99C0-58735572517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34F4-6526-4A5B-A291-6BAB7A8D2B4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未命名１"/>
          <p:cNvPicPr/>
          <p:nvPr/>
        </p:nvPicPr>
        <p:blipFill>
          <a:blip r:embed="rId1"/>
          <a:srcRect l="0" t="3955" r="0" b="0"/>
          <a:stretch/>
        </p:blipFill>
        <p:spPr>
          <a:xfrm>
            <a:off x="1698480" y="23760"/>
            <a:ext cx="5916600" cy="41353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1905120" y="400680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b05"/>
                </a:solidFill>
                <a:latin typeface="Kozuka Gothic Pro B"/>
                <a:ea typeface="Kozuka Gothic Pro B"/>
              </a:rPr>
              <a:t>L</a:t>
            </a:r>
            <a:r>
              <a:rPr b="1" lang="zh-CN" sz="5400" spc="-1" strike="noStrike">
                <a:solidFill>
                  <a:srgbClr val="009999"/>
                </a:solidFill>
                <a:latin typeface="Kozuka Gothic Pro B"/>
                <a:ea typeface="Kozuka Gothic Pro B"/>
              </a:rPr>
              <a:t>i</a:t>
            </a:r>
            <a:r>
              <a:rPr b="1" lang="zh-CN" sz="5400" spc="-1" strike="noStrike">
                <a:solidFill>
                  <a:srgbClr val="ff0066"/>
                </a:solidFill>
                <a:latin typeface="Kozuka Gothic Pro B"/>
                <a:ea typeface="Kozuka Gothic Pro B"/>
              </a:rPr>
              <a:t>f</a:t>
            </a:r>
            <a:r>
              <a:rPr b="1" lang="zh-CN" sz="5400" spc="-1" strike="noStrike">
                <a:solidFill>
                  <a:srgbClr val="99cc00"/>
                </a:solidFill>
                <a:latin typeface="Kozuka Gothic Pro B"/>
                <a:ea typeface="Kozuka Gothic Pro B"/>
              </a:rPr>
              <a:t>e</a:t>
            </a:r>
            <a:r>
              <a:rPr b="1" lang="zh-CN" sz="5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   </a:t>
            </a:r>
            <a:r>
              <a:rPr b="1" lang="zh-CN" sz="5400" spc="-1" strike="noStrike">
                <a:solidFill>
                  <a:srgbClr val="777777"/>
                </a:solidFill>
                <a:latin typeface="Kozuka Gothic Pro B"/>
                <a:ea typeface="Kozuka Gothic Pro B"/>
              </a:rPr>
              <a:t>i</a:t>
            </a:r>
            <a:r>
              <a:rPr b="1" lang="zh-CN" sz="5400" spc="-1" strike="noStrike">
                <a:solidFill>
                  <a:srgbClr val="ff0000"/>
                </a:solidFill>
                <a:latin typeface="Kozuka Gothic Pro B"/>
                <a:ea typeface="Kozuka Gothic Pro B"/>
              </a:rPr>
              <a:t>s   </a:t>
            </a:r>
            <a:r>
              <a:rPr b="1" lang="en-US" sz="5400" spc="-1" strike="noStrike">
                <a:solidFill>
                  <a:srgbClr val="ff0000"/>
                </a:solidFill>
                <a:latin typeface="Kozuka Gothic Pro B"/>
                <a:ea typeface="Kozuka Gothic Pro B"/>
              </a:rPr>
              <a:t>b</a:t>
            </a:r>
            <a:r>
              <a:rPr b="1" lang="zh-CN" sz="5400" spc="-1" strike="noStrike">
                <a:solidFill>
                  <a:srgbClr val="ff99ff"/>
                </a:solidFill>
                <a:latin typeface="Kozuka Gothic Pro B"/>
                <a:ea typeface="Kozuka Gothic Pro B"/>
              </a:rPr>
              <a:t>e</a:t>
            </a:r>
            <a:r>
              <a:rPr b="1" lang="zh-CN" sz="5400" spc="-1" strike="noStrike">
                <a:solidFill>
                  <a:srgbClr val="ffcc00"/>
                </a:solidFill>
                <a:latin typeface="Kozuka Gothic Pro B"/>
                <a:ea typeface="Kozuka Gothic Pro B"/>
              </a:rPr>
              <a:t>a</a:t>
            </a:r>
            <a:r>
              <a:rPr b="1" lang="zh-CN" sz="5400" spc="-1" strike="noStrike">
                <a:solidFill>
                  <a:srgbClr val="99cc00"/>
                </a:solidFill>
                <a:latin typeface="Kozuka Gothic Pro B"/>
                <a:ea typeface="Kozuka Gothic Pro B"/>
              </a:rPr>
              <a:t>u</a:t>
            </a:r>
            <a:r>
              <a:rPr b="1" lang="zh-CN" sz="5400" spc="-1" strike="noStrike">
                <a:solidFill>
                  <a:srgbClr val="009999"/>
                </a:solidFill>
                <a:latin typeface="Kozuka Gothic Pro B"/>
                <a:ea typeface="Kozuka Gothic Pro B"/>
              </a:rPr>
              <a:t>t</a:t>
            </a:r>
            <a:r>
              <a:rPr b="1" lang="zh-CN" sz="5400" spc="-1" strike="noStrike">
                <a:solidFill>
                  <a:srgbClr val="660066"/>
                </a:solidFill>
                <a:latin typeface="Kozuka Gothic Pro B"/>
                <a:ea typeface="Kozuka Gothic Pro B"/>
              </a:rPr>
              <a:t>i</a:t>
            </a:r>
            <a:r>
              <a:rPr b="1" lang="zh-CN" sz="5400" spc="-1" strike="noStrike">
                <a:solidFill>
                  <a:srgbClr val="ff0000"/>
                </a:solidFill>
                <a:latin typeface="Kozuka Gothic Pro B"/>
                <a:ea typeface="Kozuka Gothic Pro B"/>
              </a:rPr>
              <a:t>f</a:t>
            </a:r>
            <a:r>
              <a:rPr b="1" lang="zh-CN" sz="5400" spc="-1" strike="noStrike">
                <a:solidFill>
                  <a:srgbClr val="ffcc00"/>
                </a:solidFill>
                <a:latin typeface="Kozuka Gothic Pro B"/>
                <a:ea typeface="Kozuka Gothic Pro B"/>
              </a:rPr>
              <a:t>u</a:t>
            </a:r>
            <a:r>
              <a:rPr b="1" lang="zh-CN" sz="5400" spc="-1" strike="noStrike">
                <a:solidFill>
                  <a:srgbClr val="ff0066"/>
                </a:solidFill>
                <a:latin typeface="Kozuka Gothic Pro B"/>
                <a:ea typeface="Kozuka Gothic Pro B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7983360" y="4432320"/>
            <a:ext cx="300240" cy="2998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5"/>
          <p:cNvSpPr/>
          <p:nvPr/>
        </p:nvSpPr>
        <p:spPr>
          <a:xfrm>
            <a:off x="7539120" y="41497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6"/>
          <p:cNvSpPr/>
          <p:nvPr/>
        </p:nvSpPr>
        <p:spPr>
          <a:xfrm>
            <a:off x="1698480" y="426240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7"/>
          <p:cNvSpPr/>
          <p:nvPr/>
        </p:nvSpPr>
        <p:spPr>
          <a:xfrm>
            <a:off x="1401840" y="396540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9"/>
          <p:cNvSpPr/>
          <p:nvPr/>
        </p:nvSpPr>
        <p:spPr>
          <a:xfrm>
            <a:off x="1298520" y="4732200"/>
            <a:ext cx="206280" cy="20664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0"/>
          <p:cNvSpPr/>
          <p:nvPr/>
        </p:nvSpPr>
        <p:spPr>
          <a:xfrm>
            <a:off x="7615080" y="37591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1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11160" y="5037120"/>
            <a:ext cx="4619520" cy="18288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40320" y="5037120"/>
            <a:ext cx="460836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未命名"/>
          <p:cNvPicPr/>
          <p:nvPr/>
        </p:nvPicPr>
        <p:blipFill>
          <a:blip r:embed="rId1"/>
          <a:srcRect l="2138" t="9685" r="8304" b="10087"/>
          <a:stretch/>
        </p:blipFill>
        <p:spPr>
          <a:xfrm>
            <a:off x="-31680" y="2133720"/>
            <a:ext cx="2876400" cy="2220840"/>
          </a:xfrm>
          <a:prstGeom prst="rect">
            <a:avLst/>
          </a:prstGeom>
          <a:ln w="0">
            <a:noFill/>
          </a:ln>
        </p:spPr>
      </p:pic>
      <p:grpSp>
        <p:nvGrpSpPr>
          <p:cNvPr id="544" name="Group 3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545" name="Oval 4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5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6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7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8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9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0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1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2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13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14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15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AutoShape 16"/>
          <p:cNvSpPr/>
          <p:nvPr/>
        </p:nvSpPr>
        <p:spPr>
          <a:xfrm>
            <a:off x="468360" y="4354560"/>
            <a:ext cx="1758960" cy="587160"/>
          </a:xfrm>
          <a:prstGeom prst="flowChartTerminator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7"/>
          <p:cNvSpPr/>
          <p:nvPr/>
        </p:nvSpPr>
        <p:spPr>
          <a:xfrm>
            <a:off x="934560" y="4373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迷你简康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8"/>
          <p:cNvSpPr/>
          <p:nvPr/>
        </p:nvSpPr>
        <p:spPr>
          <a:xfrm>
            <a:off x="2523960" y="4651200"/>
            <a:ext cx="206640" cy="20664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9"/>
          <p:cNvSpPr/>
          <p:nvPr/>
        </p:nvSpPr>
        <p:spPr>
          <a:xfrm>
            <a:off x="2227320" y="4354560"/>
            <a:ext cx="296640" cy="296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0"/>
          <p:cNvSpPr/>
          <p:nvPr/>
        </p:nvSpPr>
        <p:spPr>
          <a:xfrm>
            <a:off x="2124000" y="512136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21"/>
          <p:cNvSpPr/>
          <p:nvPr/>
        </p:nvSpPr>
        <p:spPr>
          <a:xfrm>
            <a:off x="365040" y="485784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2"/>
          <p:cNvSpPr/>
          <p:nvPr/>
        </p:nvSpPr>
        <p:spPr>
          <a:xfrm>
            <a:off x="4290840" y="1841400"/>
            <a:ext cx="2881440" cy="5842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23"/>
          <p:cNvSpPr/>
          <p:nvPr/>
        </p:nvSpPr>
        <p:spPr>
          <a:xfrm>
            <a:off x="3571920" y="1841400"/>
            <a:ext cx="582480" cy="584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24"/>
          <p:cNvSpPr/>
          <p:nvPr/>
        </p:nvSpPr>
        <p:spPr>
          <a:xfrm>
            <a:off x="4290840" y="262908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25"/>
          <p:cNvSpPr/>
          <p:nvPr/>
        </p:nvSpPr>
        <p:spPr>
          <a:xfrm>
            <a:off x="3571920" y="2629080"/>
            <a:ext cx="58248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26"/>
          <p:cNvSpPr/>
          <p:nvPr/>
        </p:nvSpPr>
        <p:spPr>
          <a:xfrm>
            <a:off x="4281480" y="347832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27"/>
          <p:cNvSpPr/>
          <p:nvPr/>
        </p:nvSpPr>
        <p:spPr>
          <a:xfrm>
            <a:off x="3562200" y="3478320"/>
            <a:ext cx="58284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28"/>
          <p:cNvSpPr/>
          <p:nvPr/>
        </p:nvSpPr>
        <p:spPr>
          <a:xfrm>
            <a:off x="4290840" y="4273560"/>
            <a:ext cx="2881440" cy="5842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29"/>
          <p:cNvSpPr/>
          <p:nvPr/>
        </p:nvSpPr>
        <p:spPr>
          <a:xfrm>
            <a:off x="3571920" y="4273560"/>
            <a:ext cx="582480" cy="584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30"/>
          <p:cNvSpPr/>
          <p:nvPr/>
        </p:nvSpPr>
        <p:spPr>
          <a:xfrm>
            <a:off x="4281480" y="503568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31"/>
          <p:cNvSpPr/>
          <p:nvPr/>
        </p:nvSpPr>
        <p:spPr>
          <a:xfrm>
            <a:off x="3562200" y="5035680"/>
            <a:ext cx="58284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32"/>
          <p:cNvSpPr/>
          <p:nvPr/>
        </p:nvSpPr>
        <p:spPr>
          <a:xfrm>
            <a:off x="7978680" y="1539720"/>
            <a:ext cx="300240" cy="3016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33"/>
          <p:cNvSpPr/>
          <p:nvPr/>
        </p:nvSpPr>
        <p:spPr>
          <a:xfrm>
            <a:off x="7391520" y="1222200"/>
            <a:ext cx="430200" cy="432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4"/>
          <p:cNvSpPr/>
          <p:nvPr/>
        </p:nvSpPr>
        <p:spPr>
          <a:xfrm>
            <a:off x="7467480" y="83196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5"/>
          <p:cNvSpPr/>
          <p:nvPr/>
        </p:nvSpPr>
        <p:spPr>
          <a:xfrm>
            <a:off x="3719880" y="184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6"/>
          <p:cNvSpPr/>
          <p:nvPr/>
        </p:nvSpPr>
        <p:spPr>
          <a:xfrm>
            <a:off x="3643560" y="2629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7"/>
          <p:cNvSpPr/>
          <p:nvPr/>
        </p:nvSpPr>
        <p:spPr>
          <a:xfrm>
            <a:off x="3643560" y="3486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8"/>
          <p:cNvSpPr/>
          <p:nvPr/>
        </p:nvSpPr>
        <p:spPr>
          <a:xfrm>
            <a:off x="3643560" y="4273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9"/>
          <p:cNvSpPr/>
          <p:nvPr/>
        </p:nvSpPr>
        <p:spPr>
          <a:xfrm>
            <a:off x="3643560" y="5068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40"/>
          <p:cNvSpPr/>
          <p:nvPr/>
        </p:nvSpPr>
        <p:spPr>
          <a:xfrm>
            <a:off x="3719520" y="6122880"/>
            <a:ext cx="299880" cy="30024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41"/>
          <p:cNvSpPr/>
          <p:nvPr/>
        </p:nvSpPr>
        <p:spPr>
          <a:xfrm>
            <a:off x="3132000" y="5805360"/>
            <a:ext cx="430200" cy="432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2"/>
          <p:cNvSpPr/>
          <p:nvPr/>
        </p:nvSpPr>
        <p:spPr>
          <a:xfrm>
            <a:off x="3208320" y="541512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2"/>
          <p:cNvSpPr/>
          <p:nvPr/>
        </p:nvSpPr>
        <p:spPr>
          <a:xfrm>
            <a:off x="-30240" y="1440"/>
            <a:ext cx="1289160" cy="688500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3" descr="未命名"/>
          <p:cNvPicPr/>
          <p:nvPr/>
        </p:nvPicPr>
        <p:blipFill>
          <a:blip r:embed="rId1"/>
          <a:srcRect l="2138" t="9685" r="8304" b="10087"/>
          <a:stretch/>
        </p:blipFill>
        <p:spPr>
          <a:xfrm>
            <a:off x="1343160" y="2205000"/>
            <a:ext cx="2725560" cy="216072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4"/>
          <p:cNvSpPr/>
          <p:nvPr/>
        </p:nvSpPr>
        <p:spPr>
          <a:xfrm>
            <a:off x="4284720" y="3338640"/>
            <a:ext cx="28796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5068800" y="33336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6"/>
          <p:cNvSpPr/>
          <p:nvPr/>
        </p:nvSpPr>
        <p:spPr>
          <a:xfrm>
            <a:off x="7164360" y="3851280"/>
            <a:ext cx="300240" cy="2998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7"/>
          <p:cNvSpPr/>
          <p:nvPr/>
        </p:nvSpPr>
        <p:spPr>
          <a:xfrm>
            <a:off x="6734160" y="4129200"/>
            <a:ext cx="430200" cy="431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8"/>
          <p:cNvSpPr/>
          <p:nvPr/>
        </p:nvSpPr>
        <p:spPr>
          <a:xfrm>
            <a:off x="7164360" y="312732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"/>
          <p:cNvGrpSpPr/>
          <p:nvPr/>
        </p:nvGrpSpPr>
        <p:grpSpPr>
          <a:xfrm>
            <a:off x="1619280" y="692280"/>
            <a:ext cx="6796080" cy="1942920"/>
            <a:chOff x="1619280" y="692280"/>
            <a:chExt cx="6796080" cy="1942920"/>
          </a:xfrm>
        </p:grpSpPr>
        <p:pic>
          <p:nvPicPr>
            <p:cNvPr id="592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619280" y="692280"/>
              <a:ext cx="6796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4"/>
            <p:cNvSpPr/>
            <p:nvPr/>
          </p:nvSpPr>
          <p:spPr>
            <a:xfrm>
              <a:off x="2626920" y="1266480"/>
              <a:ext cx="2016000" cy="50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5"/>
          <p:cNvGrpSpPr/>
          <p:nvPr/>
        </p:nvGrpSpPr>
        <p:grpSpPr>
          <a:xfrm>
            <a:off x="1168200" y="234360"/>
            <a:ext cx="1783440" cy="1648800"/>
            <a:chOff x="1168200" y="234360"/>
            <a:chExt cx="1783440" cy="1648800"/>
          </a:xfrm>
        </p:grpSpPr>
        <p:pic>
          <p:nvPicPr>
            <p:cNvPr id="595" name="Picture 6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4040" y="788400"/>
              <a:ext cx="79596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Oval 7"/>
            <p:cNvSpPr/>
            <p:nvPr/>
          </p:nvSpPr>
          <p:spPr>
            <a:xfrm rot="2340000">
              <a:off x="1392120" y="630000"/>
              <a:ext cx="1506600" cy="70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8"/>
          <p:cNvGrpSpPr/>
          <p:nvPr/>
        </p:nvGrpSpPr>
        <p:grpSpPr>
          <a:xfrm>
            <a:off x="3444840" y="97560"/>
            <a:ext cx="1166760" cy="1046520"/>
            <a:chOff x="3444840" y="97560"/>
            <a:chExt cx="1166760" cy="1046520"/>
          </a:xfrm>
        </p:grpSpPr>
        <p:pic>
          <p:nvPicPr>
            <p:cNvPr id="598" name="Picture 9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4880" y="425880"/>
              <a:ext cx="5713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10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Line 11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12"/>
          <p:cNvGrpSpPr/>
          <p:nvPr/>
        </p:nvGrpSpPr>
        <p:grpSpPr>
          <a:xfrm>
            <a:off x="5956920" y="479160"/>
            <a:ext cx="2777760" cy="1341360"/>
            <a:chOff x="5956920" y="479160"/>
            <a:chExt cx="2777760" cy="1341360"/>
          </a:xfrm>
        </p:grpSpPr>
        <p:pic>
          <p:nvPicPr>
            <p:cNvPr id="602" name="Picture 13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0000" y="966240"/>
              <a:ext cx="1987560" cy="6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Oval 14"/>
            <p:cNvSpPr/>
            <p:nvPr/>
          </p:nvSpPr>
          <p:spPr>
            <a:xfrm rot="600000">
              <a:off x="5992200" y="569160"/>
              <a:ext cx="108072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5"/>
            <p:cNvSpPr/>
            <p:nvPr/>
          </p:nvSpPr>
          <p:spPr>
            <a:xfrm rot="600000">
              <a:off x="7618320" y="856080"/>
              <a:ext cx="108072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6"/>
            <p:cNvSpPr/>
            <p:nvPr/>
          </p:nvSpPr>
          <p:spPr>
            <a:xfrm rot="4260000">
              <a:off x="6292440" y="714960"/>
              <a:ext cx="66672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Line 17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8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19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609" name="Oval 20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1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2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3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4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5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6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7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8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29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0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1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32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33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34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35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36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7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38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9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0"/>
          <p:cNvSpPr/>
          <p:nvPr/>
        </p:nvSpPr>
        <p:spPr>
          <a:xfrm>
            <a:off x="5767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1"/>
          <p:cNvSpPr/>
          <p:nvPr/>
        </p:nvSpPr>
        <p:spPr>
          <a:xfrm>
            <a:off x="98820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42"/>
          <p:cNvSpPr/>
          <p:nvPr/>
        </p:nvSpPr>
        <p:spPr>
          <a:xfrm>
            <a:off x="66600" y="5911920"/>
            <a:ext cx="142740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3"/>
          <p:cNvSpPr/>
          <p:nvPr/>
        </p:nvSpPr>
        <p:spPr>
          <a:xfrm>
            <a:off x="588240" y="594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主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4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45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3320" y="1519200"/>
            <a:ext cx="2298960" cy="175104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46"/>
          <p:cNvSpPr/>
          <p:nvPr/>
        </p:nvSpPr>
        <p:spPr>
          <a:xfrm>
            <a:off x="306540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48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49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50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51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641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Rectangle 4"/>
            <p:cNvSpPr/>
            <p:nvPr/>
          </p:nvSpPr>
          <p:spPr>
            <a:xfrm>
              <a:off x="2484000" y="1268280"/>
              <a:ext cx="201600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Rectangle 5"/>
          <p:cNvSpPr/>
          <p:nvPr/>
        </p:nvSpPr>
        <p:spPr>
          <a:xfrm>
            <a:off x="-103320" y="-20520"/>
            <a:ext cx="6907320" cy="20952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46" name="Picture 8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Oval 9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10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11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2"/>
          <p:cNvGrpSpPr/>
          <p:nvPr/>
        </p:nvGrpSpPr>
        <p:grpSpPr>
          <a:xfrm>
            <a:off x="-606600" y="-623880"/>
            <a:ext cx="8165880" cy="1892160"/>
            <a:chOff x="-606600" y="-623880"/>
            <a:chExt cx="8165880" cy="1892160"/>
          </a:xfrm>
        </p:grpSpPr>
        <p:sp>
          <p:nvSpPr>
            <p:cNvPr id="651" name="Oval 13"/>
            <p:cNvSpPr/>
            <p:nvPr/>
          </p:nvSpPr>
          <p:spPr>
            <a:xfrm>
              <a:off x="-606600" y="-166320"/>
              <a:ext cx="1437840" cy="1434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14"/>
            <p:cNvSpPr/>
            <p:nvPr/>
          </p:nvSpPr>
          <p:spPr>
            <a:xfrm>
              <a:off x="591840" y="-175680"/>
              <a:ext cx="7358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15"/>
            <p:cNvSpPr/>
            <p:nvPr/>
          </p:nvSpPr>
          <p:spPr>
            <a:xfrm>
              <a:off x="1245960" y="-256680"/>
              <a:ext cx="736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6"/>
            <p:cNvSpPr/>
            <p:nvPr/>
          </p:nvSpPr>
          <p:spPr>
            <a:xfrm>
              <a:off x="1815840" y="-113760"/>
              <a:ext cx="95796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17"/>
            <p:cNvSpPr/>
            <p:nvPr/>
          </p:nvSpPr>
          <p:spPr>
            <a:xfrm>
              <a:off x="2702520" y="-255240"/>
              <a:ext cx="791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18"/>
            <p:cNvSpPr/>
            <p:nvPr/>
          </p:nvSpPr>
          <p:spPr>
            <a:xfrm>
              <a:off x="3225240" y="-38952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19"/>
            <p:cNvSpPr/>
            <p:nvPr/>
          </p:nvSpPr>
          <p:spPr>
            <a:xfrm>
              <a:off x="3853800" y="-256680"/>
              <a:ext cx="791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20"/>
            <p:cNvSpPr/>
            <p:nvPr/>
          </p:nvSpPr>
          <p:spPr>
            <a:xfrm>
              <a:off x="4249800" y="-389520"/>
              <a:ext cx="791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21"/>
            <p:cNvSpPr/>
            <p:nvPr/>
          </p:nvSpPr>
          <p:spPr>
            <a:xfrm>
              <a:off x="4861440" y="-128880"/>
              <a:ext cx="791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22"/>
            <p:cNvSpPr/>
            <p:nvPr/>
          </p:nvSpPr>
          <p:spPr>
            <a:xfrm>
              <a:off x="5437080" y="-255960"/>
              <a:ext cx="1007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23"/>
            <p:cNvSpPr/>
            <p:nvPr/>
          </p:nvSpPr>
          <p:spPr>
            <a:xfrm>
              <a:off x="6300000" y="-389520"/>
              <a:ext cx="1007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24"/>
            <p:cNvSpPr/>
            <p:nvPr/>
          </p:nvSpPr>
          <p:spPr>
            <a:xfrm>
              <a:off x="7055640" y="-623880"/>
              <a:ext cx="503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Oval 25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26"/>
          <p:cNvSpPr/>
          <p:nvPr/>
        </p:nvSpPr>
        <p:spPr>
          <a:xfrm>
            <a:off x="288144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27"/>
          <p:cNvSpPr/>
          <p:nvPr/>
        </p:nvSpPr>
        <p:spPr>
          <a:xfrm>
            <a:off x="422676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28"/>
          <p:cNvGrpSpPr/>
          <p:nvPr/>
        </p:nvGrpSpPr>
        <p:grpSpPr>
          <a:xfrm>
            <a:off x="-103320" y="1268280"/>
            <a:ext cx="2298960" cy="4868640"/>
            <a:chOff x="-103320" y="1268280"/>
            <a:chExt cx="2298960" cy="4868640"/>
          </a:xfrm>
        </p:grpSpPr>
        <p:sp>
          <p:nvSpPr>
            <p:cNvPr id="667" name="Line 29"/>
            <p:cNvSpPr/>
            <p:nvPr/>
          </p:nvSpPr>
          <p:spPr>
            <a:xfrm>
              <a:off x="1329480" y="2976120"/>
              <a:ext cx="360" cy="2288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30"/>
            <p:cNvSpPr/>
            <p:nvPr/>
          </p:nvSpPr>
          <p:spPr>
            <a:xfrm>
              <a:off x="590760" y="2970360"/>
              <a:ext cx="360" cy="2508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31"/>
            <p:cNvSpPr/>
            <p:nvPr/>
          </p:nvSpPr>
          <p:spPr>
            <a:xfrm>
              <a:off x="326520" y="32446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32"/>
            <p:cNvSpPr/>
            <p:nvPr/>
          </p:nvSpPr>
          <p:spPr>
            <a:xfrm>
              <a:off x="111600" y="392616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33"/>
            <p:cNvSpPr/>
            <p:nvPr/>
          </p:nvSpPr>
          <p:spPr>
            <a:xfrm>
              <a:off x="326520" y="4572000"/>
              <a:ext cx="142524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34"/>
            <p:cNvSpPr/>
            <p:nvPr/>
          </p:nvSpPr>
          <p:spPr>
            <a:xfrm>
              <a:off x="326520" y="5264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35"/>
            <p:cNvSpPr/>
            <p:nvPr/>
          </p:nvSpPr>
          <p:spPr>
            <a:xfrm>
              <a:off x="69480" y="5660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4" name="Picture 36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3320" y="1268280"/>
              <a:ext cx="22989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Text Box 37"/>
            <p:cNvSpPr/>
            <p:nvPr/>
          </p:nvSpPr>
          <p:spPr>
            <a:xfrm>
              <a:off x="696600" y="328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38"/>
            <p:cNvSpPr/>
            <p:nvPr/>
          </p:nvSpPr>
          <p:spPr>
            <a:xfrm>
              <a:off x="579240" y="399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39"/>
            <p:cNvSpPr/>
            <p:nvPr/>
          </p:nvSpPr>
          <p:spPr>
            <a:xfrm>
              <a:off x="990000" y="4581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40"/>
            <p:cNvSpPr/>
            <p:nvPr/>
          </p:nvSpPr>
          <p:spPr>
            <a:xfrm>
              <a:off x="59076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41"/>
            <p:cNvSpPr/>
            <p:nvPr/>
          </p:nvSpPr>
          <p:spPr>
            <a:xfrm>
              <a:off x="74412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Rectangle 42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43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44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45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685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Rectangle 4"/>
            <p:cNvSpPr/>
            <p:nvPr/>
          </p:nvSpPr>
          <p:spPr>
            <a:xfrm>
              <a:off x="2484000" y="1268280"/>
              <a:ext cx="201600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5"/>
          <p:cNvGrpSpPr/>
          <p:nvPr/>
        </p:nvGrpSpPr>
        <p:grpSpPr>
          <a:xfrm>
            <a:off x="-606600" y="-557280"/>
            <a:ext cx="8166240" cy="1851480"/>
            <a:chOff x="-606600" y="-557280"/>
            <a:chExt cx="8166240" cy="1851480"/>
          </a:xfrm>
        </p:grpSpPr>
        <p:sp>
          <p:nvSpPr>
            <p:cNvPr id="688" name="Oval 6"/>
            <p:cNvSpPr/>
            <p:nvPr/>
          </p:nvSpPr>
          <p:spPr>
            <a:xfrm>
              <a:off x="-606600" y="-304920"/>
              <a:ext cx="1436760" cy="1599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7"/>
            <p:cNvSpPr/>
            <p:nvPr/>
          </p:nvSpPr>
          <p:spPr>
            <a:xfrm>
              <a:off x="591480" y="-315720"/>
              <a:ext cx="7358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8"/>
            <p:cNvSpPr/>
            <p:nvPr/>
          </p:nvSpPr>
          <p:spPr>
            <a:xfrm>
              <a:off x="1245600" y="-406440"/>
              <a:ext cx="73584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9"/>
            <p:cNvSpPr/>
            <p:nvPr/>
          </p:nvSpPr>
          <p:spPr>
            <a:xfrm>
              <a:off x="1815480" y="-246600"/>
              <a:ext cx="95832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10"/>
            <p:cNvSpPr/>
            <p:nvPr/>
          </p:nvSpPr>
          <p:spPr>
            <a:xfrm>
              <a:off x="2702160" y="-404280"/>
              <a:ext cx="79200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11"/>
            <p:cNvSpPr/>
            <p:nvPr/>
          </p:nvSpPr>
          <p:spPr>
            <a:xfrm>
              <a:off x="3225240" y="-554040"/>
              <a:ext cx="791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12"/>
            <p:cNvSpPr/>
            <p:nvPr/>
          </p:nvSpPr>
          <p:spPr>
            <a:xfrm>
              <a:off x="3853440" y="-406440"/>
              <a:ext cx="79164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13"/>
            <p:cNvSpPr/>
            <p:nvPr/>
          </p:nvSpPr>
          <p:spPr>
            <a:xfrm>
              <a:off x="4249440" y="-554040"/>
              <a:ext cx="79200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14"/>
            <p:cNvSpPr/>
            <p:nvPr/>
          </p:nvSpPr>
          <p:spPr>
            <a:xfrm>
              <a:off x="4861080" y="-263880"/>
              <a:ext cx="79200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15"/>
            <p:cNvSpPr/>
            <p:nvPr/>
          </p:nvSpPr>
          <p:spPr>
            <a:xfrm>
              <a:off x="5436720" y="-405000"/>
              <a:ext cx="1007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16"/>
            <p:cNvSpPr/>
            <p:nvPr/>
          </p:nvSpPr>
          <p:spPr>
            <a:xfrm>
              <a:off x="6300000" y="-554040"/>
              <a:ext cx="1007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17"/>
            <p:cNvSpPr/>
            <p:nvPr/>
          </p:nvSpPr>
          <p:spPr>
            <a:xfrm>
              <a:off x="7056000" y="-557280"/>
              <a:ext cx="503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Text Box 18"/>
          <p:cNvSpPr/>
          <p:nvPr/>
        </p:nvSpPr>
        <p:spPr>
          <a:xfrm>
            <a:off x="288144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19"/>
          <p:cNvGrpSpPr/>
          <p:nvPr/>
        </p:nvGrpSpPr>
        <p:grpSpPr>
          <a:xfrm>
            <a:off x="-103320" y="1268280"/>
            <a:ext cx="2298960" cy="4868640"/>
            <a:chOff x="-103320" y="1268280"/>
            <a:chExt cx="2298960" cy="4868640"/>
          </a:xfrm>
        </p:grpSpPr>
        <p:sp>
          <p:nvSpPr>
            <p:cNvPr id="702" name="Line 20"/>
            <p:cNvSpPr/>
            <p:nvPr/>
          </p:nvSpPr>
          <p:spPr>
            <a:xfrm>
              <a:off x="1329480" y="2976120"/>
              <a:ext cx="360" cy="2288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21"/>
            <p:cNvSpPr/>
            <p:nvPr/>
          </p:nvSpPr>
          <p:spPr>
            <a:xfrm>
              <a:off x="590760" y="2970360"/>
              <a:ext cx="360" cy="2508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22"/>
            <p:cNvSpPr/>
            <p:nvPr/>
          </p:nvSpPr>
          <p:spPr>
            <a:xfrm>
              <a:off x="326520" y="32446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23"/>
            <p:cNvSpPr/>
            <p:nvPr/>
          </p:nvSpPr>
          <p:spPr>
            <a:xfrm>
              <a:off x="111600" y="392616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AutoShape 24"/>
            <p:cNvSpPr/>
            <p:nvPr/>
          </p:nvSpPr>
          <p:spPr>
            <a:xfrm>
              <a:off x="326520" y="4572000"/>
              <a:ext cx="142524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utoShape 25"/>
            <p:cNvSpPr/>
            <p:nvPr/>
          </p:nvSpPr>
          <p:spPr>
            <a:xfrm>
              <a:off x="326520" y="5264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AutoShape 26"/>
            <p:cNvSpPr/>
            <p:nvPr/>
          </p:nvSpPr>
          <p:spPr>
            <a:xfrm>
              <a:off x="69480" y="5660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Picture 27" descr="3"/>
            <p:cNvPicPr/>
            <p:nvPr/>
          </p:nvPicPr>
          <p:blipFill>
            <a:blip r:embed="rId2"/>
            <a:srcRect l="0" t="15591" r="77841" b="63414"/>
            <a:stretch/>
          </p:blipFill>
          <p:spPr>
            <a:xfrm>
              <a:off x="-103320" y="1268280"/>
              <a:ext cx="22989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 Box 28"/>
            <p:cNvSpPr/>
            <p:nvPr/>
          </p:nvSpPr>
          <p:spPr>
            <a:xfrm>
              <a:off x="696600" y="328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29"/>
            <p:cNvSpPr/>
            <p:nvPr/>
          </p:nvSpPr>
          <p:spPr>
            <a:xfrm>
              <a:off x="579240" y="399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30"/>
            <p:cNvSpPr/>
            <p:nvPr/>
          </p:nvSpPr>
          <p:spPr>
            <a:xfrm>
              <a:off x="990000" y="4581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31"/>
            <p:cNvSpPr/>
            <p:nvPr/>
          </p:nvSpPr>
          <p:spPr>
            <a:xfrm>
              <a:off x="59076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32"/>
            <p:cNvSpPr/>
            <p:nvPr/>
          </p:nvSpPr>
          <p:spPr>
            <a:xfrm>
              <a:off x="74412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33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3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3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3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9"/>
          <p:cNvSpPr/>
          <p:nvPr/>
        </p:nvSpPr>
        <p:spPr>
          <a:xfrm>
            <a:off x="2755800" y="65977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3"/>
          <p:cNvSpPr/>
          <p:nvPr/>
        </p:nvSpPr>
        <p:spPr>
          <a:xfrm rot="16200000">
            <a:off x="4074480" y="1846800"/>
            <a:ext cx="1004760" cy="921060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23" name="Picture 5" descr="header_bg"/>
            <p:cNvPicPr/>
            <p:nvPr/>
          </p:nvPicPr>
          <p:blipFill>
            <a:blip r:embed="rId7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 rot="2460000">
              <a:off x="985680" y="94932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10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729" name="Oval 11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9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20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21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22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742" name="Picture 24" descr="header_bg"/>
            <p:cNvPicPr/>
            <p:nvPr/>
          </p:nvPicPr>
          <p:blipFill>
            <a:blip r:embed="rId8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9"/>
          <p:cNvSpPr/>
          <p:nvPr/>
        </p:nvSpPr>
        <p:spPr>
          <a:xfrm>
            <a:off x="900000" y="451800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  <a:ea typeface="宋体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  <a:ea typeface="宋体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  <a:ea typeface="宋体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  <a:ea typeface="宋体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  <a:ea typeface="宋体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  <a:ea typeface="宋体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  <a:ea typeface="宋体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  <a:ea typeface="宋体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ngel</cp:lastModifiedBy>
  <dcterms:modified xsi:type="dcterms:W3CDTF">2015-12-11T01:09:44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