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62AF-91B2-437B-B6CC-428ED13D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9AB-F743-4D0B-B8F6-EE109459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D6A-E331-48D6-85F3-4ACF252A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ED3E-4AEA-4F73-ACCD-32108A1E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0726-C882-46F2-BD53-B5175345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7271-8BCE-4C29-AA00-B56FA77F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48B2-6FDD-4C16-81C8-5A6213A6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E7CF-1B24-4F0D-8B32-4E12E2B3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177B-AB83-40B2-89B6-A44C67B3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AE74-7814-494E-B17C-C0C10C51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F552-174A-46FD-90BE-4881181E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73F-C01B-4473-9900-325157B8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83EF-9C55-417D-BAF5-22C020B8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C4D8-30C8-40C7-83DD-DA11FE75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6009-EAA8-4266-A1BC-0D0CC4A5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983B-D726-4B97-BCB4-E51FA8A7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DF88-8573-4A49-9C7D-39364CB3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11F7C-B9EB-495F-ACF4-31E46D28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CA25-CCD2-4F9F-9261-3EB43CA7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51ABE-1E90-4974-9378-6993F534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5D7F-8080-44FE-AA57-6E975352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54EB7-9225-4327-959A-E3A1CA03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474-66D4-458E-A53B-8BF058B2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D2FFC-CE1B-44AA-9CA1-DBA3A4C8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83661-093B-49C7-9899-CB0D4865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6E219-1C39-4918-919E-525A0EEF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9C2B0-1C7E-4172-9B73-0C6B939A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A59F8-D3CC-4732-9776-CC460523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0093B-A7AC-4766-A0B4-A8CEDF4C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2410-85E1-483B-B3E4-34F894E7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ACF-0E3B-4083-ACAA-9EF484FD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849-6E30-4382-96D0-5D11CE79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947-0201-44BD-8AEE-21AD99F2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DA5-C537-44EB-89A6-88B6A0AB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3E0-E87C-4DB6-A7D8-DA896FD2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7B5-FA2F-44ED-AEF1-19A5E46D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B398-117D-4FBF-A2C4-BE94A2E515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AD58-AE1E-449A-81E9-F7A1EEC2B7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Documents and Settings\Administrator\桌面\莲 2(1).png"/>
          <p:cNvPicPr/>
          <p:nvPr/>
        </p:nvPicPr>
        <p:blipFill>
          <a:blip r:embed="rId2"/>
          <a:stretch/>
        </p:blipFill>
        <p:spPr>
          <a:xfrm>
            <a:off x="549360" y="-1440"/>
            <a:ext cx="1182600" cy="120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C:\Documents and Settings\Administrator\桌面\33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718240"/>
          </a:xfrm>
          <a:prstGeom prst="rect">
            <a:avLst/>
          </a:prstGeom>
          <a:ln w="0">
            <a:noFill/>
          </a:ln>
        </p:spPr>
      </p:pic>
      <p:sp>
        <p:nvSpPr>
          <p:cNvPr id="85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A9F9-9B44-47DD-819E-BEBC1FBE1BA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9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3095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50"/>
                            </p:stCondLst>
                            <p:childTnLst>
                              <p:par>
                                <p:cTn id="2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6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7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8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1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2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3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6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7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8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1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2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3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"/>
                            </p:stCondLst>
                            <p:childTnLst>
                              <p:par>
                                <p:cTn id="4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"/>
                            </p:stCondLst>
                            <p:childTnLst>
                              <p:par>
                                <p:cTn id="6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50"/>
                            </p:stCondLst>
                            <p:childTnLst>
                              <p:par>
                                <p:cTn id="7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5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63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2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4319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50"/>
                            </p:stCondLst>
                            <p:childTnLst>
                              <p:par>
                                <p:cTn id="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750"/>
                            </p:stCondLst>
                            <p:childTnLst>
                              <p:par>
                                <p:cTn id="1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50"/>
                            </p:stCondLst>
                            <p:childTnLst>
                              <p:par>
                                <p:cTn id="11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13:35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