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7.wmf" ContentType="image/x-wmf"/>
  <Override PartName="/ppt/media/image8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69F-3D2D-467F-BABD-C307B993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9DB-9570-41F9-AC1A-658E6536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44C-319D-4569-8CE0-129C3644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EA3-0403-4E65-8BCD-8E180D5F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4502-FCB5-41EE-B424-77D57DE8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62A5-7193-4DE9-9992-E1BCC3CD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D10F-221B-4E79-B4F1-5674C40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C7CE-6B43-48B9-86A7-40F4B811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FF0D-9879-4C92-8276-9704D71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BD20-5A96-4D64-B126-700096F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68B8-E621-4C55-9A66-2A6C7617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D02-1C23-4F59-84AC-F6DF585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9042-7474-488C-806D-C04877B2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EE5F-DBC3-4C6F-86BA-0DD9FD7B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5D97-E8A6-44C3-97F1-82B41BC2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C0E-4D4D-4E82-A367-20E66131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2A34-FE6B-4E53-B6F4-19AAA19C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14D4-41BC-49F8-8ADF-952D1529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13D7-3819-4F1C-929C-95325169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EDCB-F8A0-42A0-977F-8F040CE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775A-B083-43D6-B7F6-FB5A78E2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A3E2-98E0-4761-8A24-42AF988A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9DD-1955-4A2F-ABDD-B09FD09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66FD-6BFE-4B9F-8F47-A8CC0D15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1B10-0C69-4BFB-AE3C-04087D0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6CCC-0448-418F-A164-670CBDF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3E0F-0508-4DCA-B71E-C7126BC8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B38C-939C-419C-B1E1-EEA33435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B325-2203-4846-9D87-CB5D81DC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83A1-1951-49E0-B11E-D33D33AB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902-FC19-4299-BD68-0483964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64D-6554-41FF-AFF7-40FAA5C0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E7B-6D2D-4F7A-B2ED-C218AA3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4A6-85DF-4576-8A64-593BD7C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8B7-8FDF-4288-BADC-F7AB2E64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734-EB3E-4DD6-A21B-7AB411F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D4C2-4D4D-4ECF-BAF7-6EAC3C83F2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CE32-D4D4-4EF2-8ED2-E71EA4AFEA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A69F-81BB-457C-BAA0-9ACE4C949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f67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f67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e3789"/>
                </a:gs>
                <a:gs pos="50000">
                  <a:srgbClr val="af67ff"/>
                </a:gs>
                <a:gs pos="100000">
                  <a:srgbClr val="5e37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0"/>
                  </a:srgbClr>
                </a:gs>
                <a:gs pos="100000">
                  <a:srgbClr val="6e4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89"/>
                </a:gs>
                <a:gs pos="50000">
                  <a:srgbClr val="99ccff"/>
                </a:gs>
                <a:gs pos="100000">
                  <a:srgbClr val="52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608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090e2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dbffe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7947b1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e4"/>
                </a:gs>
                <a:gs pos="100000">
                  <a:srgbClr val="3333cc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12187"/>
                </a:gs>
                <a:gs pos="100000">
                  <a:srgbClr val="3333cc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b9dfe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9e9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dedfe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4e9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cedfe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233360" y="3166200"/>
              <a:ext cx="1647720" cy="656640"/>
              <a:chOff x="1233360" y="3166200"/>
              <a:chExt cx="1647720" cy="65664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521000" y="3166200"/>
                <a:ext cx="1360080" cy="616680"/>
                <a:chOff x="1521000" y="3166200"/>
                <a:chExt cx="1360080" cy="616680"/>
              </a:xfrm>
            </p:grpSpPr>
            <p:sp>
              <p:nvSpPr>
                <p:cNvPr id="544" name=""/>
                <p:cNvSpPr/>
                <p:nvPr/>
              </p:nvSpPr>
              <p:spPr>
                <a:xfrm flipH="1" flipV="1" rot="3964800">
                  <a:off x="2262600" y="297936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3" name="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280880" y="5522040"/>
              <a:ext cx="1647720" cy="656640"/>
              <a:chOff x="1280880" y="5522040"/>
              <a:chExt cx="1647720" cy="6566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568520" y="5522040"/>
                <a:ext cx="1360080" cy="616680"/>
                <a:chOff x="1568520" y="5522040"/>
                <a:chExt cx="1360080" cy="61668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3964800">
                  <a:off x="2310120" y="53352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69" name="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a7d1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3" name="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a7d1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77" name="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87" name="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1" name="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5" name="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599" name="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06" name="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0" name="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a6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37" name="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1" name="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4" name="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b7d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3e0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5" name="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56" name="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0" name="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4" name="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68" name="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1" name="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2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081a1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Puzzle2"/>
              <p:cNvSpPr/>
              <p:nvPr/>
            </p:nvSpPr>
            <p:spPr>
              <a:xfrm>
                <a:off x="4043880" y="34466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e6e6fe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Puzzle4"/>
              <p:cNvSpPr/>
              <p:nvPr/>
            </p:nvSpPr>
            <p:spPr>
              <a:xfrm>
                <a:off x="2971080" y="34203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595e3"/>
                  </a:gs>
                  <a:gs pos="100000">
                    <a:srgbClr val="3333cc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502f75"/>
                  </a:gs>
                  <a:gs pos="100000">
                    <a:srgbClr val="af67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67ff">
                  <a:alpha val="50196"/>
                </a:srgbClr>
              </a:gs>
              <a:gs pos="100000">
                <a:srgbClr val="d2abfe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3acfe"/>
              </a:gs>
              <a:gs pos="100000">
                <a:srgbClr val="af67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2abfe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d1a42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d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18" name="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19" name="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4" name="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29" name="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0" name="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5" name="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0" name="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1" name="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46" name="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0" name="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1" name="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66" name="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7b4fe"/>
              </a:gs>
              <a:gs pos="100000">
                <a:srgbClr val="af67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98" name="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4" name="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07" name="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0" name="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a6a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dddfe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3d8fe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868d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8bfe"/>
              </a:gs>
              <a:gs pos="50000">
                <a:srgbClr val="af67ff"/>
              </a:gs>
              <a:gs pos="100000">
                <a:srgbClr val="c18b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7d7fe"/>
              </a:gs>
              <a:gs pos="50000">
                <a:srgbClr val="ccccff"/>
              </a:gs>
              <a:gs pos="100000">
                <a:srgbClr val="d7d7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ec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4" name="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4" name="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2" name="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1" name="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3" name="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9f9fe">
                  <a:alpha val="80392"/>
                </a:srgbClr>
              </a:gs>
              <a:gs pos="100000">
                <a:srgbClr val="cccc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4cdfe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93040" y="28764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178160" y="4083120"/>
            <a:ext cx="14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787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05eea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cbbe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becfe"/>
                </a:gs>
                <a:gs pos="100000">
                  <a:srgbClr val="99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9b9ec"/>
                </a:gs>
                <a:gs pos="100000">
                  <a:srgbClr val="3333cc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495b"/>
                </a:gs>
                <a:gs pos="50000">
                  <a:srgbClr val="ccccff"/>
                </a:gs>
                <a:gs pos="100000">
                  <a:srgbClr val="49495b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cecfe"/>
                </a:gs>
                <a:gs pos="100000">
                  <a:srgbClr val="cc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61398e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cd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d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846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4f2f74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bbb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ddd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343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8b6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4-12T07:34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