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E07-0CC2-42CA-831A-50F6A38A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F8A-B92C-4848-8765-6DF79350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AA0-7D1A-412A-ADD2-2FF1DE7C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E33-8BC3-4880-8B4A-C3C9A3EF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4AA-A7B8-4AD1-8537-154E1A69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4E3-7B07-4B78-8035-951FDE8A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B7C-0F69-4A80-9047-A70FBDF8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B9A-DDB8-4181-9229-F5CA6CB8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EAA-B667-4CD5-BE0E-506EC9E7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AF4-7E05-4874-950B-4AED311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7F4-9BA1-46BA-89E9-B1CCB964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15E-455C-4FEF-A742-47481C8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D443D-A3C8-47C6-94B1-A7B8D7EDF7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72638-168D-4A75-B75E-D697B6C109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8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7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五角星 8"/>
            <p:cNvSpPr/>
            <p:nvPr/>
          </p:nvSpPr>
          <p:spPr>
            <a:xfrm>
              <a:off x="1245960" y="1314360"/>
              <a:ext cx="642960" cy="641160"/>
            </a:xfrm>
            <a:custGeom>
              <a:avLst/>
              <a:gdLst/>
              <a:ahLst/>
              <a:rect l="l" t="t" r="r" b="b"/>
              <a:pathLst>
                <a:path w="642841" h="641452">
                  <a:moveTo>
                    <a:pt x="1" y="245012"/>
                  </a:moveTo>
                  <a:lnTo>
                    <a:pt x="245545" y="245014"/>
                  </a:lnTo>
                  <a:lnTo>
                    <a:pt x="321421" y="0"/>
                  </a:lnTo>
                  <a:lnTo>
                    <a:pt x="397296" y="245014"/>
                  </a:lnTo>
                  <a:lnTo>
                    <a:pt x="642840" y="245012"/>
                  </a:lnTo>
                  <a:lnTo>
                    <a:pt x="444190" y="396437"/>
                  </a:lnTo>
                  <a:lnTo>
                    <a:pt x="520069" y="641450"/>
                  </a:lnTo>
                  <a:lnTo>
                    <a:pt x="321421" y="490022"/>
                  </a:lnTo>
                  <a:lnTo>
                    <a:pt x="122772" y="641450"/>
                  </a:lnTo>
                  <a:lnTo>
                    <a:pt x="198651" y="396437"/>
                  </a:lnTo>
                  <a:lnTo>
                    <a:pt x="1" y="2450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3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7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42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52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53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6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5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Diana</dc:creator>
  <dc:description/>
  <cp:keywords/>
  <dc:language>en-US</dc:language>
  <cp:lastModifiedBy>姜天宝</cp:lastModifiedBy>
  <dcterms:modified xsi:type="dcterms:W3CDTF">2014-11-15T01:50:30Z</dcterms:modified>
  <cp:revision>7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9.1.0.4856</vt:lpwstr>
  </property>
</Properties>
</file>