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276FA-9B6D-48AF-90F9-13BAFA4A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80AA-A95C-4793-AF53-C2A5BDDE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6371B-13A5-4D75-A810-5A4A1561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479E-A57B-4F93-913C-7F31FABA6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3E81-4DEF-490A-AFD0-6F6A1E9EB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7698-7DFF-4DDC-960A-AB6A66A79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83D1A-8322-40CE-BC5A-8AD6C900F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E1CA-09FF-4C41-9244-0C28D67E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A4F1-5DEA-4B69-9C03-419E36915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27EC-3F6D-482E-B9AF-A41514C6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CC86-3EFE-4D68-BC4C-E1BD0ACF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1670-F6D9-4EAE-B19A-90F436601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F454-C914-49D8-BEA1-22AC783A2B00}" type="datetime">
              <a:rPr b="0" lang="zh-CN" sz="1200" spc="-1" strike="noStrike">
                <a:solidFill>
                  <a:srgbClr val="898989"/>
                </a:solidFill>
                <a:latin typeface="Arial"/>
                <a:ea typeface="方正兰亭细黑_GBK"/>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2E85-B659-46BB-A961-9ADA234D0D43}"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