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78ABA-6AA1-459F-90F9-FD8DCD7EB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77285-2C76-4D71-930E-061A510C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A0EED-D425-4DD9-AB24-1CAF90937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FB02B-FBAC-414C-BCFE-409BEE90D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28252-F031-4EC1-B22A-F31C9221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6A67-D70A-45C2-A5CA-3328D223E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591E7-B932-4347-AB16-6A3CB538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28DFD-6DF9-4C57-8CA0-6FEE2E24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1B3C4-1BB7-47D5-B897-F535159E1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9BE9C-4AE0-443D-B4F1-C4474D4A3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CB27-CFEB-4E83-BFA3-3C9C1DA2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27A0-9081-43EC-87B0-F55A96A66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B482-BABF-4508-A3C5-FE00E45376E1}" type="datetime">
              <a:rPr b="0" lang="zh-CN" sz="1200" spc="-1" strike="noStrike">
                <a:solidFill>
                  <a:srgbClr val="898989"/>
                </a:solidFill>
                <a:latin typeface="Arial"/>
                <a:ea typeface="方正兰亭细黑_GBK"/>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2AC1-85C5-4C54-8032-74CCA3171431}"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