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C22E6-08EE-4096-AF56-D6AE3BBDA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93726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980720" y="4329000"/>
            <a:ext cx="93726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358AE-912B-445D-8E9C-4BA4F8A04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783480" y="19872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980720" y="43290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783480" y="43290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60CF1-0554-4164-925B-2B2F2DC66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301788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49800" y="1987200"/>
            <a:ext cx="301788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318880" y="1987200"/>
            <a:ext cx="301788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980720" y="4329000"/>
            <a:ext cx="301788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5149800" y="4329000"/>
            <a:ext cx="301788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318880" y="4329000"/>
            <a:ext cx="301788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BD056-7516-47D3-8F77-C4C341220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980720" y="1987200"/>
            <a:ext cx="9372600" cy="448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93726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45738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6783480" y="1987200"/>
            <a:ext cx="45738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1980720" y="380520"/>
            <a:ext cx="93726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8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783480" y="1987200"/>
            <a:ext cx="45738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980720" y="43290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980720" y="1987200"/>
            <a:ext cx="9372600" cy="448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C53E5-40F5-4A6B-90D6-BACFEEA54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45738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783480" y="19872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783480" y="43290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783480" y="19872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980720" y="4329000"/>
            <a:ext cx="93726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93726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980720" y="4329000"/>
            <a:ext cx="93726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783480" y="19872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980720" y="43290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6783480" y="43290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301788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49800" y="1987200"/>
            <a:ext cx="301788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8318880" y="1987200"/>
            <a:ext cx="301788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980720" y="4329000"/>
            <a:ext cx="301788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5149800" y="4329000"/>
            <a:ext cx="301788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8318880" y="4329000"/>
            <a:ext cx="301788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87200"/>
            <a:ext cx="9372600" cy="448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93726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45738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783480" y="1987200"/>
            <a:ext cx="45738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93726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681A2-26B7-4F89-82F5-A473B9117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1980720" y="380520"/>
            <a:ext cx="93726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8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783480" y="1987200"/>
            <a:ext cx="45738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980720" y="43290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45738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783480" y="19872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783480" y="43290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6783480" y="19872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980720" y="4329000"/>
            <a:ext cx="93726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93726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1980720" y="4329000"/>
            <a:ext cx="93726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783480" y="19872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980720" y="43290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6783480" y="43290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301788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49800" y="1987200"/>
            <a:ext cx="301788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318880" y="1987200"/>
            <a:ext cx="301788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1980720" y="4329000"/>
            <a:ext cx="301788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5149800" y="4329000"/>
            <a:ext cx="301788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8318880" y="4329000"/>
            <a:ext cx="301788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B188A-CB9A-418D-83E7-C70DABDB9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980720" y="1987200"/>
            <a:ext cx="9372600" cy="448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530A9-F647-4D75-A199-1D09584E8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93726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C32B5-E59E-444E-90F8-69B6ECEB6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45738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783480" y="1987200"/>
            <a:ext cx="45738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D8177-4E02-41D3-98B0-C3530B516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45738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783480" y="1987200"/>
            <a:ext cx="45738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EE751-F58E-4924-B19A-AA4BF07FD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1D43F-3294-4C57-8764-FA8949EFB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1980720" y="380520"/>
            <a:ext cx="93726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8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32C2B-9357-44BF-88A9-C838B9371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783480" y="1987200"/>
            <a:ext cx="45738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1980720" y="43290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C10F3-1B2F-4857-9E80-A810906EB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45738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783480" y="19872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783480" y="43290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0E871-8E53-4800-BF54-C8E95FE86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6783480" y="19872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1980720" y="4329000"/>
            <a:ext cx="93726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54292-43AD-4E85-AFBF-380419708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93726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1980720" y="4329000"/>
            <a:ext cx="93726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6D095-29F4-45D6-BC9F-45CD182C0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783480" y="19872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1980720" y="43290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6783480" y="43290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98500-AD37-43BC-990A-171B1366F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301788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5149800" y="1987200"/>
            <a:ext cx="301788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8318880" y="1987200"/>
            <a:ext cx="301788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1980720" y="4329000"/>
            <a:ext cx="301788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5149800" y="4329000"/>
            <a:ext cx="301788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8318880" y="4329000"/>
            <a:ext cx="301788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3D665-9C0C-48C1-84E5-D246E6F6D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3ED75-B3ED-4976-A512-B23ECDEC3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1980720" y="1987200"/>
            <a:ext cx="9372600" cy="448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93726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45738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6783480" y="1987200"/>
            <a:ext cx="45738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1980720" y="380520"/>
            <a:ext cx="93726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8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6783480" y="1987200"/>
            <a:ext cx="45738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1980720" y="43290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45738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6783480" y="19872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783480" y="43290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783480" y="19872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1980720" y="4329000"/>
            <a:ext cx="93726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93726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1980720" y="4329000"/>
            <a:ext cx="93726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6783480" y="19872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1980720" y="43290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6783480" y="43290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80720" y="380520"/>
            <a:ext cx="93726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8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133CD-C238-4E6D-8CA9-561485E08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301788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149800" y="1987200"/>
            <a:ext cx="301788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8318880" y="1987200"/>
            <a:ext cx="301788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1980720" y="4329000"/>
            <a:ext cx="301788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5149800" y="4329000"/>
            <a:ext cx="301788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8318880" y="4329000"/>
            <a:ext cx="301788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783480" y="1987200"/>
            <a:ext cx="45738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980720" y="43290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860B6-0BF3-46D0-A6AD-4AF507B57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45738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783480" y="19872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783480" y="43290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62BA6-A9AB-44DC-B919-EB922FF34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783480" y="19872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980720" y="4329000"/>
            <a:ext cx="93726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121F2-0CFB-4BD1-92EC-607E5AAD7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bdc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980720" y="1987200"/>
            <a:ext cx="93726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685800" indent="-27288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1004760" indent="-22860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3" marL="1233360" indent="-18252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4" marL="1461960" indent="-18252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5" marL="1461960" indent="-18252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6" marL="1461960" indent="-18252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1631240" y="5690880"/>
            <a:ext cx="281160" cy="77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1631240" y="364680"/>
            <a:ext cx="281160" cy="514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12840" y="6269040"/>
            <a:ext cx="722160" cy="20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8c8c8c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5EAD7-DB73-4A7C-AB2A-4BBF036EDAB5}" type="slidenum">
              <a:rPr b="0" lang="en-US" sz="800" spc="-1" strike="noStrike">
                <a:solidFill>
                  <a:srgbClr val="8c8c8c"/>
                </a:solidFill>
                <a:latin typeface="Times New Roman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bdc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980720" y="1987200"/>
            <a:ext cx="93726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685800" indent="-27288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1004760" indent="-22860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3" marL="1233360" indent="-18252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4" marL="1461960" indent="-18252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5" marL="1461960" indent="-18252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6" marL="1461960" indent="-18252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bdc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1980720" y="1987200"/>
            <a:ext cx="93726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685800" indent="-27288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1004760" indent="-22860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3" marL="1233360" indent="-18252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4" marL="1461960" indent="-18252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5" marL="1461960" indent="-18252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6" marL="1461960" indent="-18252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bdc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1980720" y="1987200"/>
            <a:ext cx="93726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685800" indent="-27288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1004760" indent="-22860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3" marL="1233360" indent="-18252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4" marL="1461960" indent="-18252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5" marL="1461960" indent="-18252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6" marL="1461960" indent="-18252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4"/>
          </p:nvPr>
        </p:nvSpPr>
        <p:spPr>
          <a:xfrm>
            <a:off x="11631240" y="5690880"/>
            <a:ext cx="281160" cy="77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5"/>
          </p:nvPr>
        </p:nvSpPr>
        <p:spPr>
          <a:xfrm>
            <a:off x="11631240" y="364680"/>
            <a:ext cx="281160" cy="514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6"/>
          </p:nvPr>
        </p:nvSpPr>
        <p:spPr>
          <a:xfrm>
            <a:off x="312840" y="6269040"/>
            <a:ext cx="722160" cy="20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8c8c8c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A5658-717D-41C2-AAD2-F74735026D20}" type="slidenum">
              <a:rPr b="0" lang="en-US" sz="800" spc="-1" strike="noStrike">
                <a:solidFill>
                  <a:srgbClr val="8c8c8c"/>
                </a:solidFill>
                <a:latin typeface="Calibri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0" y="0"/>
            <a:ext cx="60958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bdc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1980720" y="1987200"/>
            <a:ext cx="93726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685800" indent="-27288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1004760" indent="-22860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3" marL="1233360" indent="-18252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4" marL="1461960" indent="-18252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5" marL="1461960" indent="-18252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6" marL="1461960" indent="-18252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480" y="755640"/>
            <a:ext cx="6858000" cy="3200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alibri"/>
              </a:rPr>
              <a:t>TITLE LAYOUT</a:t>
            </a:r>
            <a:endParaRPr b="0" lang="en-US" sz="80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609480" y="3955680"/>
            <a:ext cx="6858000" cy="109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libri"/>
                <a:ea typeface="宋体"/>
              </a:rPr>
              <a:t>Subtitle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555960" y="384120"/>
            <a:ext cx="4800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-360" y="0"/>
            <a:ext cx="609588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555960" y="2239920"/>
            <a:ext cx="479916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  <a:ea typeface="宋体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bdcff"/>
                </a:solidFill>
                <a:latin typeface="Calibri"/>
              </a:rPr>
              <a:t>TITLE AND CONTENT LAYOUT WITH LIST</a:t>
            </a: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980720" y="1987200"/>
            <a:ext cx="937260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  <a:ea typeface="宋体"/>
              </a:rPr>
              <a:t>Add your first bullet point here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  <a:ea typeface="宋体"/>
              </a:rPr>
              <a:t>Add your second bullet point here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  <a:ea typeface="宋体"/>
              </a:rPr>
              <a:t>Add your third bullet point here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bdcff"/>
                </a:solidFill>
                <a:latin typeface="Calibri"/>
              </a:rPr>
              <a:t>TITLE AND CONTENT LAYOUT WITH CHART</a:t>
            </a: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pic>
        <p:nvPicPr>
          <p:cNvPr id="202" name="Content Placeholder 5" descr="Clustered Column Chart"/>
          <p:cNvPicPr/>
          <p:nvPr/>
        </p:nvPicPr>
        <p:blipFill>
          <a:blip r:embed="rId1"/>
          <a:stretch/>
        </p:blipFill>
        <p:spPr>
          <a:xfrm>
            <a:off x="1930320" y="1936800"/>
            <a:ext cx="9474120" cy="45846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bdcff"/>
                </a:solidFill>
                <a:latin typeface="Calibri"/>
              </a:rPr>
              <a:t>TWO CONTENT LAYOUT WITH TABLE</a:t>
            </a: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1981080" y="1980720"/>
            <a:ext cx="4572000" cy="448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  <a:ea typeface="宋体"/>
              </a:rPr>
              <a:t>First bullet point here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  <a:ea typeface="宋体"/>
              </a:rPr>
              <a:t>Second bullet point here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  <a:ea typeface="宋体"/>
              </a:rPr>
              <a:t>Third bullet point here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6781680" y="1981080"/>
          <a:ext cx="4572000" cy="2089080"/>
        </p:xfrm>
        <a:graphic>
          <a:graphicData uri="http://schemas.openxmlformats.org/drawingml/2006/table">
            <a:tbl>
              <a:tblPr/>
              <a:tblGrid>
                <a:gridCol w="1523880"/>
                <a:gridCol w="1524240"/>
                <a:gridCol w="1523880"/>
              </a:tblGrid>
              <a:tr h="522360"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0404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bdc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Group 1</a:t>
                      </a:r>
                      <a:endParaRPr b="0" lang="en-US" sz="1800" spc="-1" strike="noStrike">
                        <a:solidFill>
                          <a:srgbClr val="40404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bdc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Group 2</a:t>
                      </a:r>
                      <a:endParaRPr b="0" lang="en-US" sz="1800" spc="-1" strike="noStrike">
                        <a:solidFill>
                          <a:srgbClr val="40404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bdcff"/>
                    </a:solidFill>
                  </a:tcPr>
                </a:tc>
              </a:tr>
              <a:tr h="5223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4040"/>
                          </a:solidFill>
                          <a:latin typeface="Calibri"/>
                          <a:ea typeface="宋体"/>
                        </a:rPr>
                        <a:t>Class 1</a:t>
                      </a:r>
                      <a:endParaRPr b="0" lang="en-US" sz="1800" spc="-1" strike="noStrike">
                        <a:solidFill>
                          <a:srgbClr val="40404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2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4040"/>
                          </a:solidFill>
                          <a:latin typeface="Calibri"/>
                          <a:ea typeface="宋体"/>
                        </a:rPr>
                        <a:t>82</a:t>
                      </a:r>
                      <a:endParaRPr b="0" lang="en-US" sz="1800" spc="-1" strike="noStrike">
                        <a:solidFill>
                          <a:srgbClr val="40404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2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4040"/>
                          </a:solidFill>
                          <a:latin typeface="Calibri"/>
                          <a:ea typeface="宋体"/>
                        </a:rPr>
                        <a:t>95</a:t>
                      </a:r>
                      <a:endParaRPr b="0" lang="en-US" sz="1800" spc="-1" strike="noStrike">
                        <a:solidFill>
                          <a:srgbClr val="40404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2ff"/>
                    </a:solidFill>
                  </a:tcPr>
                </a:tc>
              </a:tr>
              <a:tr h="52200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4040"/>
                          </a:solidFill>
                          <a:latin typeface="Calibri"/>
                          <a:ea typeface="宋体"/>
                        </a:rPr>
                        <a:t>Class 2</a:t>
                      </a:r>
                      <a:endParaRPr b="0" lang="en-US" sz="1800" spc="-1" strike="noStrike">
                        <a:solidFill>
                          <a:srgbClr val="40404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9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4040"/>
                          </a:solidFill>
                          <a:latin typeface="Calibri"/>
                          <a:ea typeface="宋体"/>
                        </a:rPr>
                        <a:t>76</a:t>
                      </a:r>
                      <a:endParaRPr b="0" lang="en-US" sz="1800" spc="-1" strike="noStrike">
                        <a:solidFill>
                          <a:srgbClr val="40404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9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4040"/>
                          </a:solidFill>
                          <a:latin typeface="Calibri"/>
                          <a:ea typeface="宋体"/>
                        </a:rPr>
                        <a:t>88</a:t>
                      </a:r>
                      <a:endParaRPr b="0" lang="en-US" sz="1800" spc="-1" strike="noStrike">
                        <a:solidFill>
                          <a:srgbClr val="40404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9ff"/>
                    </a:solidFill>
                  </a:tcPr>
                </a:tc>
              </a:tr>
              <a:tr h="5223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4040"/>
                          </a:solidFill>
                          <a:latin typeface="Calibri"/>
                          <a:ea typeface="宋体"/>
                        </a:rPr>
                        <a:t>Class 3</a:t>
                      </a:r>
                      <a:endParaRPr b="0" lang="en-US" sz="1800" spc="-1" strike="noStrike">
                        <a:solidFill>
                          <a:srgbClr val="40404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2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4040"/>
                          </a:solidFill>
                          <a:latin typeface="Calibri"/>
                          <a:ea typeface="宋体"/>
                        </a:rPr>
                        <a:t>84</a:t>
                      </a:r>
                      <a:endParaRPr b="0" lang="en-US" sz="1800" spc="-1" strike="noStrike">
                        <a:solidFill>
                          <a:srgbClr val="40404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2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4040"/>
                          </a:solidFill>
                          <a:latin typeface="Calibri"/>
                          <a:ea typeface="宋体"/>
                        </a:rPr>
                        <a:t>90</a:t>
                      </a:r>
                      <a:endParaRPr b="0" lang="en-US" sz="1800" spc="-1" strike="noStrike">
                        <a:solidFill>
                          <a:srgbClr val="40404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2ff"/>
                    </a:solidFill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bdcff"/>
                </a:solidFill>
                <a:latin typeface="Calibri"/>
              </a:rPr>
              <a:t>TWO CONTENT LAYOUT WITH SMARTART</a:t>
            </a: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981080" y="1980720"/>
            <a:ext cx="4572000" cy="448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  <a:ea typeface="宋体"/>
              </a:rPr>
              <a:t>First bullet point here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  <a:ea typeface="宋体"/>
              </a:rPr>
              <a:t>Second bullet point here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  <a:ea typeface="宋体"/>
              </a:rPr>
              <a:t>Third bullet point here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208" name="Content Placeholder 4" descr="Interconnected Block Process"/>
          <p:cNvPicPr/>
          <p:nvPr/>
        </p:nvPicPr>
        <p:blipFill>
          <a:blip r:embed="rId1"/>
          <a:stretch/>
        </p:blipFill>
        <p:spPr>
          <a:xfrm>
            <a:off x="6778800" y="1981080"/>
            <a:ext cx="4730400" cy="4480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09480" y="822240"/>
            <a:ext cx="8686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1bdcff"/>
              </a:solidFill>
              <a:latin typeface="Calibri"/>
              <a:ea typeface="宋体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09480" y="2835000"/>
            <a:ext cx="86868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Calibri"/>
              <a:ea typeface="宋体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559200" y="409680"/>
            <a:ext cx="4800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  <a:ea typeface="宋体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06600" y="380520"/>
            <a:ext cx="548928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559200" y="2238480"/>
            <a:ext cx="4800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  <a:ea typeface="宋体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  <a:ea typeface="宋体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981080" y="1679040"/>
            <a:ext cx="457200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  <a:ea typeface="宋体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981080" y="2509920"/>
            <a:ext cx="4572000" cy="396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6781680" y="1679040"/>
            <a:ext cx="457200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  <a:ea typeface="宋体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6781680" y="2509920"/>
            <a:ext cx="4572000" cy="396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  <a:ea typeface="宋体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29T12:50:02Z</dcterms:created>
  <dc:creator/>
  <dc:description/>
  <dc:language>en-US</dc:language>
  <cp:lastModifiedBy>Administrator</cp:lastModifiedBy>
  <dcterms:modified xsi:type="dcterms:W3CDTF">2016-06-17T04:46:07Z</dcterms:modified>
  <cp:revision>3</cp:revision>
  <dc:subject/>
  <dc:title>TITLE LAYOU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  <property fmtid="{D5CDD505-2E9C-101B-9397-08002B2CF9AE}" pid="3" name="_TemplateID">
    <vt:lpwstr>TC030310279991</vt:lpwstr>
  </property>
</Properties>
</file>